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1F6109-4EC5-47F8-A191-2780F1F9568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FF7255-3EAB-4CAB-8D05-4FF25C86CD8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5D1175-ABC9-41F4-B49A-2CCE966C7A3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685000-E26B-45CC-A376-51C0D245936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FE780D-7404-4343-93E5-B6554D45690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0E38FE-E540-4947-AE8F-ABEE0E770B4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CBDEA1-B4CB-4C92-93B1-DE74716321D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3FFB94-31A7-416F-B3B1-859EFAB259A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1AC6E6-BAAB-4735-BF53-BE567E59F31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8EE352-ACB0-4327-94A3-CC397BE3E8A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EAA552-8D04-411D-B2D2-69735FC5F28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EE0986-BE31-4D10-A25F-4BC9C4926DA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8E43E8-4AA2-4D53-BF21-1E8BF3440A3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D2BA2E-176C-4465-8F08-0AAABB32D38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0BF70A-F428-4706-944A-15B0E9076FE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C070E3-4A6B-49F8-8621-4D12147EFEB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0012D0-03B9-48D3-AB32-788C85A3EEE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1106A1-44D8-4D76-95CC-717F82E3438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B37868-5FF5-4518-B303-A2188E62BDF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B17317-108D-4D35-8EDB-8310193EA7A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02AA02-5DEE-4BB4-A657-01AE2E0722C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8FE511-1854-4B43-9F3E-A8C9DEDEE2F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59FE47-5F65-4BA2-B26D-069E4918881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DCD608-4F50-4D69-96B5-7658161BEAB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D4A0B4-7C8B-40FC-8F7D-967E3281CEC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B75DB1-DD2A-474A-9AEE-76CD653BBC2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F03609-7638-4EB3-88A4-27608411BF5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92D3D8-059D-441A-988C-97A622C71A1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7C08A2-33DE-454E-958B-8B24679F021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9B1726-4B52-4121-A604-4BE57929434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94F3AE-5E26-49A4-B5A1-A6943EAF2A0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B628BE-7BE0-41F7-AD76-22EBFE5ADD5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A1D-E276-4140-9156-63FB266B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2183-D65F-4412-85DE-B8CD212A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D1E-39A3-4D61-83E3-7EACEBEC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224-6D3F-4D7D-BFBC-B772F15E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316B-4DE1-42A1-B8F6-FAA1B1A1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C3A2-E205-41F2-A7C1-3F23BC19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BE44-B1CE-4BDF-8B64-681A6F0E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CE98-0E19-41DF-AB74-C34230F4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BBAF-D4BA-40BF-9DB4-6577A7B1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FDF2-8F76-47F0-A5BF-D3C8788C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9E39-2C73-440E-9E30-3797E729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32AD-9E63-41E6-921A-4CC8B84D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BB31-DA53-4BCB-AF6B-4F62D471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637F-E77D-4341-BBE9-E148B51E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7270-B80F-4BE2-BDCD-4652DF81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FFED-AA83-4B4A-8FDB-D3B73ADF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7DE6-1191-47DB-93F6-5AD811AC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B76-2E07-473E-A073-B608D17A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675-154A-4994-A419-E3A25AF1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9A1-0228-40AD-B355-15942745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E514-E3FD-442F-9B56-428EAEFB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DA28-14EB-4E8C-B387-3E2D2A09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76E-C492-43CB-8B04-97355A63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AAF-F445-47A6-8639-C29B8692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SE301_Topic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80B0-B9CF-45D0-A626-A90E8B7F547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SE301_Topic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39D0-9B79-4A56-BB00-D701E88F3CE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0D9B-72DE-44A4-9C00-291E713EC6B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04920" y="685800"/>
            <a:ext cx="845820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9900"/>
                </a:solidFill>
                <a:latin typeface="Garamond"/>
              </a:rPr>
              <a:t>       </a:t>
            </a:r>
            <a:br>
              <a:rPr sz="3500"/>
            </a:br>
            <a:r>
              <a:rPr b="0" lang="en-US" sz="35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100" spc="-1" strike="noStrike">
                <a:solidFill>
                  <a:srgbClr val="999900"/>
                </a:solidFill>
                <a:latin typeface="Garamond"/>
              </a:rPr>
              <a:t>Numerical Integration </a:t>
            </a:r>
            <a:br>
              <a:rPr sz="3300"/>
            </a:b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457200" y="1676520"/>
            <a:ext cx="8229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228600" y="3124080"/>
            <a:ext cx="85345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169B-1363-4F9E-8301-97FD7F70E55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Upper and Lower S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tes based on Upper and Lower Sums are easy to obtain for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monoton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unctions (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lways increasing or always decreas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non-monotonic functions, finding maximum and minimum of the function can be difficult and other methods can be  more attractiv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DE37-2AA0-4AD8-846E-AFC4ABFCA4ED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wton-Cotes Method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Newton-Cote Method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the function is approximated by a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polynomial of order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ing the integral of a polynomial is easy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762120" y="4038480"/>
                <a:ext cx="7696080" cy="17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≈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793F-041F-4B33-9298-0827E85F91BD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wton-Cotes Method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38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rapezoid Method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First Order Polynomials are used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impson 1/3 Rule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econd Order Polynomials are used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1473120" y="2338560"/>
                <a:ext cx="5891400" cy="32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≈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x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  <m:e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≈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07BB-DF72-4196-92EA-432B6808DB6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5100"/>
            </a:b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rapezoid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269880"/>
            <a:ext cx="64008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rivation-One Interv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Application R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imating the E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ursive Trapezoid Meth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E983-B4AF-4526-847B-ED2ECBDD236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4724280" y="5257800"/>
            <a:ext cx="259092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rapezoid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228600" y="1905120"/>
                <a:ext cx="29718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Text Box 5"/>
          <p:cNvSpPr/>
          <p:nvPr/>
        </p:nvSpPr>
        <p:spPr>
          <a:xfrm>
            <a:off x="3049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6"/>
          <p:cNvSpPr/>
          <p:nvPr/>
        </p:nvSpPr>
        <p:spPr>
          <a:xfrm flipV="1">
            <a:off x="533520" y="3123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533520" y="51814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8"/>
              <p:cNvSpPr txBox="1"/>
              <p:nvPr/>
            </p:nvSpPr>
            <p:spPr>
              <a:xfrm>
                <a:off x="1295280" y="5257800"/>
                <a:ext cx="1524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Freeform 9"/>
          <p:cNvSpPr/>
          <p:nvPr/>
        </p:nvSpPr>
        <p:spPr>
          <a:xfrm>
            <a:off x="914400" y="3200400"/>
            <a:ext cx="2666880" cy="1447920"/>
          </a:xfrm>
          <a:custGeom>
            <a:avLst/>
            <a:gdLst>
              <a:gd name="textAreaLeft" fmla="*/ 0 w 2666880"/>
              <a:gd name="textAreaRight" fmla="*/ 2667240 w 26668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064" h="912">
                <a:moveTo>
                  <a:pt x="0" y="488"/>
                </a:moveTo>
                <a:cubicBezTo>
                  <a:pt x="116" y="680"/>
                  <a:pt x="232" y="872"/>
                  <a:pt x="384" y="824"/>
                </a:cubicBezTo>
                <a:cubicBezTo>
                  <a:pt x="536" y="776"/>
                  <a:pt x="744" y="320"/>
                  <a:pt x="912" y="200"/>
                </a:cubicBezTo>
                <a:cubicBezTo>
                  <a:pt x="1080" y="80"/>
                  <a:pt x="1240" y="0"/>
                  <a:pt x="1392" y="104"/>
                </a:cubicBezTo>
                <a:cubicBezTo>
                  <a:pt x="1544" y="208"/>
                  <a:pt x="1712" y="736"/>
                  <a:pt x="1824" y="824"/>
                </a:cubicBezTo>
                <a:cubicBezTo>
                  <a:pt x="1936" y="912"/>
                  <a:pt x="2024" y="664"/>
                  <a:pt x="2064" y="6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1371600" y="449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11"/>
          <p:cNvSpPr/>
          <p:nvPr/>
        </p:nvSpPr>
        <p:spPr>
          <a:xfrm flipV="1">
            <a:off x="274320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12"/>
          <p:cNvSpPr/>
          <p:nvPr/>
        </p:nvSpPr>
        <p:spPr>
          <a:xfrm flipV="1">
            <a:off x="1371600" y="3352320"/>
            <a:ext cx="1371600" cy="114300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71600" y="4495680"/>
            <a:ext cx="1371600" cy="685800"/>
          </a:xfrm>
          <a:prstGeom prst="rect">
            <a:avLst/>
          </a:prstGeom>
          <a:solidFill>
            <a:srgbClr val="00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14"/>
          <p:cNvSpPr/>
          <p:nvPr/>
        </p:nvSpPr>
        <p:spPr>
          <a:xfrm flipH="1">
            <a:off x="1371600" y="3352680"/>
            <a:ext cx="1371600" cy="1143000"/>
          </a:xfrm>
          <a:prstGeom prst="rtTriangle">
            <a:avLst/>
          </a:prstGeom>
          <a:solidFill>
            <a:srgbClr val="00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15"/>
          <p:cNvSpPr/>
          <p:nvPr/>
        </p:nvSpPr>
        <p:spPr>
          <a:xfrm flipH="1" flipV="1">
            <a:off x="1904760" y="2819160"/>
            <a:ext cx="228600" cy="1066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6"/>
              <p:cNvSpPr txBox="1"/>
              <p:nvPr/>
            </p:nvSpPr>
            <p:spPr>
              <a:xfrm>
                <a:off x="4114800" y="1523880"/>
                <a:ext cx="4692600" cy="456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I</m:t>
                        </m:r>
                        <m:r>
                          <m:t xml:space="preserve">≈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Line 17"/>
          <p:cNvSpPr/>
          <p:nvPr/>
        </p:nvSpPr>
        <p:spPr>
          <a:xfrm>
            <a:off x="2133720" y="4648320"/>
            <a:ext cx="2819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2571-77CA-42D5-A24A-C260E5D46058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pezoid Method</a:t>
            </a:r>
            <a:br>
              <a:rPr sz="4400"/>
            </a:b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Derivation-One Interval</a:t>
            </a:r>
            <a:endParaRPr b="0" lang="en-US" sz="33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3"/>
              <p:cNvSpPr txBox="1"/>
              <p:nvPr/>
            </p:nvSpPr>
            <p:spPr>
              <a:xfrm>
                <a:off x="533520" y="1447920"/>
                <a:ext cx="7391160" cy="470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≈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I</m:t>
                        </m:r>
                        <m:r>
                          <m:t xml:space="preserve">≈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37D4-5119-4F15-BA38-7CD6770B02F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rapezoid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3"/>
              <p:cNvSpPr txBox="1"/>
              <p:nvPr/>
            </p:nvSpPr>
            <p:spPr>
              <a:xfrm>
                <a:off x="457200" y="2666880"/>
                <a:ext cx="58896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Text Box 4"/>
          <p:cNvSpPr/>
          <p:nvPr/>
        </p:nvSpPr>
        <p:spPr>
          <a:xfrm>
            <a:off x="9144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Line 5"/>
          <p:cNvSpPr/>
          <p:nvPr/>
        </p:nvSpPr>
        <p:spPr>
          <a:xfrm flipV="1">
            <a:off x="1295280" y="23619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1295280" y="533412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7"/>
              <p:cNvSpPr txBox="1"/>
              <p:nvPr/>
            </p:nvSpPr>
            <p:spPr>
              <a:xfrm>
                <a:off x="1676520" y="5486400"/>
                <a:ext cx="65530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Freeform 8"/>
          <p:cNvSpPr/>
          <p:nvPr/>
        </p:nvSpPr>
        <p:spPr>
          <a:xfrm>
            <a:off x="1523880" y="2438280"/>
            <a:ext cx="7162920" cy="1770120"/>
          </a:xfrm>
          <a:custGeom>
            <a:avLst/>
            <a:gdLst>
              <a:gd name="textAreaLeft" fmla="*/ 0 w 7162920"/>
              <a:gd name="textAreaRight" fmla="*/ 7163280 w 7162920"/>
              <a:gd name="textAreaTop" fmla="*/ 0 h 1770120"/>
              <a:gd name="textAreaBottom" fmla="*/ 1770480 h 1770120"/>
            </a:gdLst>
            <a:ahLst/>
            <a:rect l="textAreaLeft" t="textAreaTop" r="textAreaRight" b="textAreaBottom"/>
            <a:pathLst>
              <a:path w="3504" h="810">
                <a:moveTo>
                  <a:pt x="0" y="471"/>
                </a:moveTo>
                <a:cubicBezTo>
                  <a:pt x="83" y="520"/>
                  <a:pt x="241" y="810"/>
                  <a:pt x="496" y="765"/>
                </a:cubicBezTo>
                <a:cubicBezTo>
                  <a:pt x="751" y="720"/>
                  <a:pt x="1229" y="323"/>
                  <a:pt x="1529" y="198"/>
                </a:cubicBezTo>
                <a:cubicBezTo>
                  <a:pt x="1829" y="73"/>
                  <a:pt x="2065" y="30"/>
                  <a:pt x="2297" y="15"/>
                </a:cubicBezTo>
                <a:cubicBezTo>
                  <a:pt x="2529" y="0"/>
                  <a:pt x="2718" y="6"/>
                  <a:pt x="2919" y="106"/>
                </a:cubicBezTo>
                <a:cubicBezTo>
                  <a:pt x="3120" y="206"/>
                  <a:pt x="3382" y="509"/>
                  <a:pt x="3504" y="61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Line 9"/>
          <p:cNvSpPr/>
          <p:nvPr/>
        </p:nvSpPr>
        <p:spPr>
          <a:xfrm flipV="1">
            <a:off x="190512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10"/>
          <p:cNvSpPr/>
          <p:nvPr/>
        </p:nvSpPr>
        <p:spPr>
          <a:xfrm flipV="1">
            <a:off x="7772400" y="28191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11"/>
          <p:cNvSpPr/>
          <p:nvPr/>
        </p:nvSpPr>
        <p:spPr>
          <a:xfrm flipV="1">
            <a:off x="1981080" y="2819160"/>
            <a:ext cx="57913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1905120" y="3886200"/>
            <a:ext cx="5867280" cy="144792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13"/>
          <p:cNvSpPr/>
          <p:nvPr/>
        </p:nvSpPr>
        <p:spPr>
          <a:xfrm flipH="1">
            <a:off x="2056680" y="2819520"/>
            <a:ext cx="5715000" cy="1066680"/>
          </a:xfrm>
          <a:prstGeom prst="rtTriangle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4"/>
              <p:cNvSpPr txBox="1"/>
              <p:nvPr/>
            </p:nvSpPr>
            <p:spPr>
              <a:xfrm>
                <a:off x="2743200" y="4114800"/>
                <a:ext cx="44956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7" name="Line 15"/>
          <p:cNvSpPr/>
          <p:nvPr/>
        </p:nvSpPr>
        <p:spPr>
          <a:xfrm flipH="1">
            <a:off x="12952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16"/>
          <p:cNvSpPr/>
          <p:nvPr/>
        </p:nvSpPr>
        <p:spPr>
          <a:xfrm flipH="1">
            <a:off x="1295280" y="281952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17"/>
              <p:cNvSpPr txBox="1"/>
              <p:nvPr/>
            </p:nvSpPr>
            <p:spPr>
              <a:xfrm>
                <a:off x="457200" y="3733920"/>
                <a:ext cx="66204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1175-E6A5-49A1-A16E-D863B3D02AB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rapezoid Method</a:t>
            </a:r>
            <a:br>
              <a:rPr sz="4400"/>
            </a:br>
            <a:r>
              <a:rPr b="1" lang="en-US" sz="3000" spc="-1" strike="noStrike">
                <a:solidFill>
                  <a:srgbClr val="999900"/>
                </a:solidFill>
                <a:latin typeface="Garamond"/>
              </a:rPr>
              <a:t>Multiple Application Rule</a:t>
            </a:r>
            <a:endParaRPr b="0" lang="en-US" sz="3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452920" y="59436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7358040" y="5943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4267080" y="220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6"/>
          <p:cNvSpPr/>
          <p:nvPr/>
        </p:nvSpPr>
        <p:spPr>
          <a:xfrm flipV="1">
            <a:off x="4767120" y="23619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4767120" y="53341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5398920" y="5410080"/>
                <a:ext cx="24307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Freeform 9"/>
          <p:cNvSpPr/>
          <p:nvPr/>
        </p:nvSpPr>
        <p:spPr>
          <a:xfrm>
            <a:off x="5148360" y="2882880"/>
            <a:ext cx="3276360" cy="1447920"/>
          </a:xfrm>
          <a:custGeom>
            <a:avLst/>
            <a:gdLst>
              <a:gd name="textAreaLeft" fmla="*/ 0 w 3276360"/>
              <a:gd name="textAreaRight" fmla="*/ 3276720 w 32763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064" h="912">
                <a:moveTo>
                  <a:pt x="0" y="488"/>
                </a:moveTo>
                <a:cubicBezTo>
                  <a:pt x="116" y="680"/>
                  <a:pt x="232" y="872"/>
                  <a:pt x="384" y="824"/>
                </a:cubicBezTo>
                <a:cubicBezTo>
                  <a:pt x="536" y="776"/>
                  <a:pt x="744" y="320"/>
                  <a:pt x="912" y="200"/>
                </a:cubicBezTo>
                <a:cubicBezTo>
                  <a:pt x="1080" y="80"/>
                  <a:pt x="1240" y="0"/>
                  <a:pt x="1392" y="104"/>
                </a:cubicBezTo>
                <a:cubicBezTo>
                  <a:pt x="1544" y="208"/>
                  <a:pt x="1712" y="736"/>
                  <a:pt x="1824" y="824"/>
                </a:cubicBezTo>
                <a:cubicBezTo>
                  <a:pt x="1936" y="912"/>
                  <a:pt x="2024" y="664"/>
                  <a:pt x="2064" y="6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10"/>
          <p:cNvSpPr/>
          <p:nvPr/>
        </p:nvSpPr>
        <p:spPr>
          <a:xfrm flipV="1">
            <a:off x="5605560" y="4190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Line 11"/>
          <p:cNvSpPr/>
          <p:nvPr/>
        </p:nvSpPr>
        <p:spPr>
          <a:xfrm flipV="1">
            <a:off x="6138720" y="3809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12"/>
          <p:cNvSpPr/>
          <p:nvPr/>
        </p:nvSpPr>
        <p:spPr>
          <a:xfrm flipV="1">
            <a:off x="6748560" y="312372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13"/>
          <p:cNvSpPr/>
          <p:nvPr/>
        </p:nvSpPr>
        <p:spPr>
          <a:xfrm flipV="1">
            <a:off x="7434360" y="312372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14"/>
          <p:cNvSpPr/>
          <p:nvPr/>
        </p:nvSpPr>
        <p:spPr>
          <a:xfrm flipV="1">
            <a:off x="5605560" y="38095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15"/>
          <p:cNvSpPr/>
          <p:nvPr/>
        </p:nvSpPr>
        <p:spPr>
          <a:xfrm flipV="1">
            <a:off x="6138720" y="312372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16"/>
          <p:cNvSpPr/>
          <p:nvPr/>
        </p:nvSpPr>
        <p:spPr>
          <a:xfrm>
            <a:off x="674856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17"/>
          <p:cNvSpPr/>
          <p:nvPr/>
        </p:nvSpPr>
        <p:spPr>
          <a:xfrm>
            <a:off x="6748560" y="3124080"/>
            <a:ext cx="685800" cy="2210040"/>
          </a:xfrm>
          <a:prstGeom prst="rect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18"/>
          <p:cNvSpPr/>
          <p:nvPr/>
        </p:nvSpPr>
        <p:spPr>
          <a:xfrm>
            <a:off x="6138720" y="3809880"/>
            <a:ext cx="609840" cy="1524240"/>
          </a:xfrm>
          <a:prstGeom prst="rect">
            <a:avLst/>
          </a:prstGeom>
          <a:solidFill>
            <a:srgbClr val="00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9"/>
          <p:cNvSpPr/>
          <p:nvPr/>
        </p:nvSpPr>
        <p:spPr>
          <a:xfrm flipH="1">
            <a:off x="6138720" y="3124080"/>
            <a:ext cx="609840" cy="685800"/>
          </a:xfrm>
          <a:prstGeom prst="rtTriangle">
            <a:avLst/>
          </a:prstGeom>
          <a:solidFill>
            <a:srgbClr val="00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20"/>
          <p:cNvSpPr/>
          <p:nvPr/>
        </p:nvSpPr>
        <p:spPr>
          <a:xfrm>
            <a:off x="5605560" y="4191120"/>
            <a:ext cx="533160" cy="114300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AutoShape 21"/>
          <p:cNvSpPr/>
          <p:nvPr/>
        </p:nvSpPr>
        <p:spPr>
          <a:xfrm flipH="1">
            <a:off x="5604840" y="3809880"/>
            <a:ext cx="533160" cy="381240"/>
          </a:xfrm>
          <a:prstGeom prst="rtTriangle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2"/>
              <p:cNvSpPr txBox="1"/>
              <p:nvPr/>
            </p:nvSpPr>
            <p:spPr>
              <a:xfrm>
                <a:off x="304920" y="2362320"/>
                <a:ext cx="4019400" cy="27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terval   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titioned into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segments 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um of the areas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 the trapezoi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3"/>
              <p:cNvSpPr txBox="1"/>
              <p:nvPr/>
            </p:nvSpPr>
            <p:spPr>
              <a:xfrm>
                <a:off x="4876920" y="1676520"/>
                <a:ext cx="4038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3" name="Line 24"/>
          <p:cNvSpPr/>
          <p:nvPr/>
        </p:nvSpPr>
        <p:spPr>
          <a:xfrm flipV="1">
            <a:off x="6443640" y="2590560"/>
            <a:ext cx="0" cy="1600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25"/>
          <p:cNvSpPr/>
          <p:nvPr/>
        </p:nvSpPr>
        <p:spPr>
          <a:xfrm>
            <a:off x="845820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996D-5D09-426F-95BE-E5575FFD4A6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rapezoid Method</a:t>
            </a:r>
            <a:br>
              <a:rPr sz="4400"/>
            </a:br>
            <a:r>
              <a:rPr b="1" lang="en-US" sz="3000" spc="-1" strike="noStrike">
                <a:solidFill>
                  <a:srgbClr val="999900"/>
                </a:solidFill>
                <a:latin typeface="Garamond"/>
              </a:rPr>
              <a:t>General Formula and Special Case</a:t>
            </a:r>
            <a:endParaRPr b="0" lang="en-US" sz="30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3"/>
              <p:cNvSpPr txBox="1"/>
              <p:nvPr/>
            </p:nvSpPr>
            <p:spPr>
              <a:xfrm>
                <a:off x="457200" y="1901880"/>
                <a:ext cx="868680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the  interval  is  divided  into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segment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t  necessarily  equal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t xml:space="preserve">≈</m:t>
                            </m:r>
                            <m:r>
                              <m:t xml:space="preserve"> 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nary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8" name="Rectangle 4"/>
          <p:cNvSpPr/>
          <p:nvPr/>
        </p:nvSpPr>
        <p:spPr>
          <a:xfrm>
            <a:off x="380880" y="2819520"/>
            <a:ext cx="7620120" cy="99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380880" y="4648320"/>
            <a:ext cx="7696440" cy="1523880"/>
          </a:xfrm>
          <a:prstGeom prst="rect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6"/>
              <p:cNvSpPr txBox="1"/>
              <p:nvPr/>
            </p:nvSpPr>
            <p:spPr>
              <a:xfrm>
                <a:off x="533520" y="4113360"/>
                <a:ext cx="6629400" cy="21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peci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se 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iy spaced base point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ll   </m:t>
                        </m:r>
                        <m:r>
                          <m:t xml:space="preserve">i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t xml:space="preserve">≈</m:t>
                            </m:r>
                            <m:r>
                              <m:t xml:space="preserve"> </m:t>
                            </m:r>
                          </m:e>
                        </m:nary>
                        <m:r>
                          <m:t xml:space="preserve">h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Line 7"/>
          <p:cNvSpPr/>
          <p:nvPr/>
        </p:nvSpPr>
        <p:spPr>
          <a:xfrm>
            <a:off x="6172200" y="2286000"/>
            <a:ext cx="2743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E875-245D-45E3-94B8-C04847408BE8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533520" y="1905120"/>
            <a:ext cx="3352680" cy="24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tabulated values of the velocity of an objec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an estimate of the distance traveled in the interval [0,3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038480" y="1981080"/>
          <a:ext cx="4762800" cy="1238400"/>
        </p:xfrm>
        <a:graphic>
          <a:graphicData uri="http://schemas.openxmlformats.org/drawingml/2006/table">
            <a:tbl>
              <a:tblPr/>
              <a:tblGrid>
                <a:gridCol w="1681200"/>
                <a:gridCol w="770040"/>
                <a:gridCol w="770040"/>
                <a:gridCol w="771480"/>
                <a:gridCol w="77004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s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y (m/s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24"/>
          <p:cNvSpPr/>
          <p:nvPr/>
        </p:nvSpPr>
        <p:spPr>
          <a:xfrm>
            <a:off x="685800" y="48006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Arial"/>
              </a:rPr>
              <a:t>Distance = integral of the veloc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25"/>
              <p:cNvSpPr txBox="1"/>
              <p:nvPr/>
            </p:nvSpPr>
            <p:spPr>
              <a:xfrm>
                <a:off x="1417680" y="5145120"/>
                <a:ext cx="50133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stance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721D-445E-4966-86D1-43A9C00C0E4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5100"/>
            </a:b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ntroduction to Numerical Integr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040" y="3269880"/>
            <a:ext cx="75438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per and Lower S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pezoid Method (Newton-Cotes Method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1E54-85F4-4464-B558-9BA594EA6F5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xample 1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038480" y="1752480"/>
          <a:ext cx="4343400" cy="1273320"/>
        </p:xfrm>
        <a:graphic>
          <a:graphicData uri="http://schemas.openxmlformats.org/drawingml/2006/table">
            <a:tbl>
              <a:tblPr/>
              <a:tblGrid>
                <a:gridCol w="1435320"/>
                <a:gridCol w="726840"/>
                <a:gridCol w="727200"/>
                <a:gridCol w="727200"/>
                <a:gridCol w="726840"/>
              </a:tblGrid>
              <a:tr h="602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s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y (m/s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91" name="Object 23"/>
              <p:cNvSpPr txBox="1"/>
              <p:nvPr/>
            </p:nvSpPr>
            <p:spPr>
              <a:xfrm>
                <a:off x="1647720" y="3382920"/>
                <a:ext cx="4940280" cy="277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apezoi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thod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stance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24"/>
              <p:cNvSpPr txBox="1"/>
              <p:nvPr/>
            </p:nvSpPr>
            <p:spPr>
              <a:xfrm>
                <a:off x="519120" y="1752480"/>
                <a:ext cx="330516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interval is divid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to 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binterval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points a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,2,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Rectangle 25"/>
          <p:cNvSpPr/>
          <p:nvPr/>
        </p:nvSpPr>
        <p:spPr>
          <a:xfrm>
            <a:off x="990720" y="3352680"/>
            <a:ext cx="6095880" cy="28195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ISE301_Topic7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38B3-ECD2-4F68-8B2D-4642A4ED0CB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rror in estimating the integral</a:t>
            </a:r>
            <a:br>
              <a:rPr sz="4400"/>
            </a:br>
            <a:r>
              <a:rPr b="1" lang="en-US" sz="3300" spc="-1" strike="noStrike">
                <a:solidFill>
                  <a:srgbClr val="999900"/>
                </a:solidFill>
                <a:latin typeface="Garamond"/>
              </a:rPr>
              <a:t>Theorem</a:t>
            </a:r>
            <a:endParaRPr b="0" lang="en-US" sz="33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3"/>
              <p:cNvSpPr txBox="1"/>
              <p:nvPr/>
            </p:nvSpPr>
            <p:spPr>
              <a:xfrm>
                <a:off x="609480" y="1479600"/>
                <a:ext cx="6934320" cy="46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ption:    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 continuous on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 intervals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idth 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orem: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 Trapezoid Method is used to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pproximate 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]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[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8" name="Line 4"/>
          <p:cNvSpPr/>
          <p:nvPr/>
        </p:nvSpPr>
        <p:spPr>
          <a:xfrm>
            <a:off x="685800" y="31240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5B10-C414-4D0E-B27F-5979EE66209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stimating the Error </a:t>
            </a:r>
            <a:br>
              <a:rPr sz="4400"/>
            </a:br>
            <a:r>
              <a:rPr b="1" lang="en-US" sz="3000" spc="-1" strike="noStrike">
                <a:solidFill>
                  <a:srgbClr val="999900"/>
                </a:solidFill>
                <a:latin typeface="Garamond"/>
              </a:rPr>
              <a:t>For Trapezoid Method</a:t>
            </a:r>
            <a:r>
              <a:rPr b="1" lang="en-US" sz="33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33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3"/>
              <p:cNvSpPr txBox="1"/>
              <p:nvPr/>
            </p:nvSpPr>
            <p:spPr>
              <a:xfrm>
                <a:off x="434880" y="2057400"/>
                <a:ext cx="8556840" cy="26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w  many  equally  spaced  intervals  a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eded   to   compute 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 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 decimal  digit  accuracy 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58E1-2ADC-4CFE-9D22-F8203475A0B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3"/>
              <p:cNvSpPr txBox="1"/>
              <p:nvPr/>
            </p:nvSpPr>
            <p:spPr>
              <a:xfrm>
                <a:off x="1852560" y="1440000"/>
                <a:ext cx="6224760" cy="503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nd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t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[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h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437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437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19</m:t>
                        </m:r>
                        <m:r>
                          <m:rPr>
                            <m:lit/>
                            <m:nor/>
                          </m:rPr>
                          <m:t xml:space="preserve"> interval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5" name="Rectangle 4"/>
          <p:cNvSpPr/>
          <p:nvPr/>
        </p:nvSpPr>
        <p:spPr>
          <a:xfrm>
            <a:off x="1676520" y="1523880"/>
            <a:ext cx="64767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934F-BBC3-4E74-90AD-8E1B9AA88E68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3"/>
              <p:cNvSpPr txBox="1"/>
              <p:nvPr/>
            </p:nvSpPr>
            <p:spPr>
              <a:xfrm>
                <a:off x="838080" y="2708280"/>
                <a:ext cx="6400800" cy="340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apezoid  method  to  compute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/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apezoi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peci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se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ll  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09" name=""/>
          <p:cNvGraphicFramePr/>
          <p:nvPr/>
        </p:nvGraphicFramePr>
        <p:xfrm>
          <a:off x="914400" y="1600200"/>
          <a:ext cx="7467480" cy="103500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  <a:gridCol w="1244520"/>
                <a:gridCol w="1244520"/>
                <a:gridCol w="12445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8237-CB4A-46E3-BDC7-83895E4BACF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685800" y="3200400"/>
                <a:ext cx="7543800" cy="28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≈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7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13" name=""/>
          <p:cNvGraphicFramePr/>
          <p:nvPr/>
        </p:nvGraphicFramePr>
        <p:xfrm>
          <a:off x="914400" y="1752480"/>
          <a:ext cx="7467480" cy="91440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  <a:gridCol w="1244520"/>
                <a:gridCol w="1244520"/>
                <a:gridCol w="12445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1D85-9F81-43EC-8B6D-C4861A91747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Recursive Trapezoid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495288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Line 4"/>
          <p:cNvSpPr/>
          <p:nvPr/>
        </p:nvSpPr>
        <p:spPr>
          <a:xfrm flipV="1">
            <a:off x="5410080" y="23619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5410080" y="53341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6019920" y="5562720"/>
                <a:ext cx="24382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Freeform 7"/>
          <p:cNvSpPr/>
          <p:nvPr/>
        </p:nvSpPr>
        <p:spPr>
          <a:xfrm>
            <a:off x="5791320" y="2882880"/>
            <a:ext cx="3276360" cy="1447920"/>
          </a:xfrm>
          <a:custGeom>
            <a:avLst/>
            <a:gdLst>
              <a:gd name="textAreaLeft" fmla="*/ 0 w 3276360"/>
              <a:gd name="textAreaRight" fmla="*/ 3276720 w 32763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064" h="912">
                <a:moveTo>
                  <a:pt x="0" y="488"/>
                </a:moveTo>
                <a:cubicBezTo>
                  <a:pt x="116" y="680"/>
                  <a:pt x="232" y="872"/>
                  <a:pt x="384" y="824"/>
                </a:cubicBezTo>
                <a:cubicBezTo>
                  <a:pt x="536" y="776"/>
                  <a:pt x="744" y="320"/>
                  <a:pt x="912" y="200"/>
                </a:cubicBezTo>
                <a:cubicBezTo>
                  <a:pt x="1080" y="80"/>
                  <a:pt x="1240" y="0"/>
                  <a:pt x="1392" y="104"/>
                </a:cubicBezTo>
                <a:cubicBezTo>
                  <a:pt x="1544" y="208"/>
                  <a:pt x="1712" y="736"/>
                  <a:pt x="1824" y="824"/>
                </a:cubicBezTo>
                <a:cubicBezTo>
                  <a:pt x="1936" y="912"/>
                  <a:pt x="2024" y="664"/>
                  <a:pt x="2064" y="6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Line 8"/>
          <p:cNvSpPr/>
          <p:nvPr/>
        </p:nvSpPr>
        <p:spPr>
          <a:xfrm flipV="1">
            <a:off x="6095880" y="41144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Line 9"/>
          <p:cNvSpPr/>
          <p:nvPr/>
        </p:nvSpPr>
        <p:spPr>
          <a:xfrm flipV="1">
            <a:off x="8001000" y="3048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Line 10"/>
          <p:cNvSpPr/>
          <p:nvPr/>
        </p:nvSpPr>
        <p:spPr>
          <a:xfrm flipV="1">
            <a:off x="6095880" y="3047760"/>
            <a:ext cx="19051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6095880" y="4114800"/>
            <a:ext cx="1905120" cy="121932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AutoShape 12"/>
          <p:cNvSpPr/>
          <p:nvPr/>
        </p:nvSpPr>
        <p:spPr>
          <a:xfrm flipH="1">
            <a:off x="6095880" y="3048120"/>
            <a:ext cx="1905120" cy="1066680"/>
          </a:xfrm>
          <a:prstGeom prst="rtTriangle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3"/>
              <p:cNvSpPr txBox="1"/>
              <p:nvPr/>
            </p:nvSpPr>
            <p:spPr>
              <a:xfrm>
                <a:off x="520560" y="1676520"/>
                <a:ext cx="4391280" cy="22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stimate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ased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n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ne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terval:</m:t>
                        </m:r>
                      </m:e>
                      <m:e/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69C1-1E32-48BB-BEF2-B99F5CEA145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Recursive Trapezoid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495288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Line 4"/>
          <p:cNvSpPr/>
          <p:nvPr/>
        </p:nvSpPr>
        <p:spPr>
          <a:xfrm flipV="1">
            <a:off x="5410080" y="23619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5"/>
          <p:cNvSpPr/>
          <p:nvPr/>
        </p:nvSpPr>
        <p:spPr>
          <a:xfrm>
            <a:off x="5410080" y="53341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6"/>
              <p:cNvSpPr txBox="1"/>
              <p:nvPr/>
            </p:nvSpPr>
            <p:spPr>
              <a:xfrm>
                <a:off x="6019920" y="5511960"/>
                <a:ext cx="26668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Freeform 7"/>
          <p:cNvSpPr/>
          <p:nvPr/>
        </p:nvSpPr>
        <p:spPr>
          <a:xfrm>
            <a:off x="5791320" y="2882880"/>
            <a:ext cx="3276360" cy="1447920"/>
          </a:xfrm>
          <a:custGeom>
            <a:avLst/>
            <a:gdLst>
              <a:gd name="textAreaLeft" fmla="*/ 0 w 3276360"/>
              <a:gd name="textAreaRight" fmla="*/ 3276720 w 32763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064" h="912">
                <a:moveTo>
                  <a:pt x="0" y="488"/>
                </a:moveTo>
                <a:cubicBezTo>
                  <a:pt x="116" y="680"/>
                  <a:pt x="232" y="872"/>
                  <a:pt x="384" y="824"/>
                </a:cubicBezTo>
                <a:cubicBezTo>
                  <a:pt x="536" y="776"/>
                  <a:pt x="744" y="320"/>
                  <a:pt x="912" y="200"/>
                </a:cubicBezTo>
                <a:cubicBezTo>
                  <a:pt x="1080" y="80"/>
                  <a:pt x="1240" y="0"/>
                  <a:pt x="1392" y="104"/>
                </a:cubicBezTo>
                <a:cubicBezTo>
                  <a:pt x="1544" y="208"/>
                  <a:pt x="1712" y="736"/>
                  <a:pt x="1824" y="824"/>
                </a:cubicBezTo>
                <a:cubicBezTo>
                  <a:pt x="1936" y="912"/>
                  <a:pt x="2024" y="664"/>
                  <a:pt x="2064" y="6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Line 8"/>
          <p:cNvSpPr/>
          <p:nvPr/>
        </p:nvSpPr>
        <p:spPr>
          <a:xfrm flipV="1">
            <a:off x="6095880" y="41144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9"/>
          <p:cNvSpPr/>
          <p:nvPr/>
        </p:nvSpPr>
        <p:spPr>
          <a:xfrm flipV="1">
            <a:off x="7086600" y="3809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Line 10"/>
          <p:cNvSpPr/>
          <p:nvPr/>
        </p:nvSpPr>
        <p:spPr>
          <a:xfrm flipV="1">
            <a:off x="6095880" y="335232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7086600" y="3352680"/>
            <a:ext cx="1143000" cy="1981440"/>
          </a:xfrm>
          <a:prstGeom prst="rect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6095880" y="4114800"/>
            <a:ext cx="990720" cy="121932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AutoShape 13"/>
          <p:cNvSpPr/>
          <p:nvPr/>
        </p:nvSpPr>
        <p:spPr>
          <a:xfrm flipH="1">
            <a:off x="6095880" y="3352680"/>
            <a:ext cx="990720" cy="762120"/>
          </a:xfrm>
          <a:prstGeom prst="rtTriangle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565200" y="1763640"/>
                <a:ext cx="4738680" cy="38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stimate  based  on  2  intervals:</m:t>
                        </m:r>
                      </m:e>
                      <m:e/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  <m:e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1" name="Text Box 15"/>
          <p:cNvSpPr/>
          <p:nvPr/>
        </p:nvSpPr>
        <p:spPr>
          <a:xfrm>
            <a:off x="1066680" y="548640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ased on previous estim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US" sz="1800" spc="-1" strike="noStrike">
                <a:solidFill>
                  <a:srgbClr val="cc9900"/>
                </a:solidFill>
                <a:latin typeface="Verdana"/>
              </a:rPr>
              <a:t>Based on new poi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16"/>
          <p:cNvSpPr/>
          <p:nvPr/>
        </p:nvSpPr>
        <p:spPr>
          <a:xfrm flipV="1">
            <a:off x="2209680" y="51055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Line 17"/>
          <p:cNvSpPr/>
          <p:nvPr/>
        </p:nvSpPr>
        <p:spPr>
          <a:xfrm flipH="1" flipV="1">
            <a:off x="3733920" y="5105520"/>
            <a:ext cx="1371600" cy="838080"/>
          </a:xfrm>
          <a:prstGeom prst="line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CE6B-D316-4D77-90AE-9B05B0452EC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Recursive Trapezoid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95288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Line 4"/>
          <p:cNvSpPr/>
          <p:nvPr/>
        </p:nvSpPr>
        <p:spPr>
          <a:xfrm flipV="1">
            <a:off x="5410080" y="22093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Line 5"/>
          <p:cNvSpPr/>
          <p:nvPr/>
        </p:nvSpPr>
        <p:spPr>
          <a:xfrm>
            <a:off x="5410080" y="51814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Freeform 6"/>
          <p:cNvSpPr/>
          <p:nvPr/>
        </p:nvSpPr>
        <p:spPr>
          <a:xfrm>
            <a:off x="5791320" y="2730600"/>
            <a:ext cx="3276360" cy="1447560"/>
          </a:xfrm>
          <a:custGeom>
            <a:avLst/>
            <a:gdLst>
              <a:gd name="textAreaLeft" fmla="*/ 0 w 3276360"/>
              <a:gd name="textAreaRight" fmla="*/ 3276720 w 3276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064" h="912">
                <a:moveTo>
                  <a:pt x="0" y="488"/>
                </a:moveTo>
                <a:cubicBezTo>
                  <a:pt x="116" y="680"/>
                  <a:pt x="232" y="872"/>
                  <a:pt x="384" y="824"/>
                </a:cubicBezTo>
                <a:cubicBezTo>
                  <a:pt x="536" y="776"/>
                  <a:pt x="744" y="320"/>
                  <a:pt x="912" y="200"/>
                </a:cubicBezTo>
                <a:cubicBezTo>
                  <a:pt x="1080" y="80"/>
                  <a:pt x="1240" y="0"/>
                  <a:pt x="1392" y="104"/>
                </a:cubicBezTo>
                <a:cubicBezTo>
                  <a:pt x="1544" y="208"/>
                  <a:pt x="1712" y="736"/>
                  <a:pt x="1824" y="824"/>
                </a:cubicBezTo>
                <a:cubicBezTo>
                  <a:pt x="1936" y="912"/>
                  <a:pt x="2024" y="664"/>
                  <a:pt x="2064" y="6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Line 7"/>
          <p:cNvSpPr/>
          <p:nvPr/>
        </p:nvSpPr>
        <p:spPr>
          <a:xfrm flipV="1">
            <a:off x="6095880" y="3962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Line 8"/>
          <p:cNvSpPr/>
          <p:nvPr/>
        </p:nvSpPr>
        <p:spPr>
          <a:xfrm flipV="1">
            <a:off x="7086600" y="320004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9"/>
          <p:cNvSpPr/>
          <p:nvPr/>
        </p:nvSpPr>
        <p:spPr>
          <a:xfrm flipV="1">
            <a:off x="6553080" y="3200040"/>
            <a:ext cx="53352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7086600" y="3200400"/>
            <a:ext cx="609480" cy="19810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6095880" y="3962520"/>
            <a:ext cx="457200" cy="121896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AutoShape 12"/>
          <p:cNvSpPr/>
          <p:nvPr/>
        </p:nvSpPr>
        <p:spPr>
          <a:xfrm flipH="1">
            <a:off x="6553080" y="3200400"/>
            <a:ext cx="533520" cy="762120"/>
          </a:xfrm>
          <a:prstGeom prst="rtTriangle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3"/>
              <p:cNvSpPr txBox="1"/>
              <p:nvPr/>
            </p:nvSpPr>
            <p:spPr>
              <a:xfrm>
                <a:off x="533520" y="2027160"/>
                <a:ext cx="4684680" cy="33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2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]</m:t>
                        </m:r>
                      </m:e>
                      <m:e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2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7" name="Rectangle 14"/>
          <p:cNvSpPr/>
          <p:nvPr/>
        </p:nvSpPr>
        <p:spPr>
          <a:xfrm>
            <a:off x="6553080" y="3962520"/>
            <a:ext cx="533520" cy="121896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Line 15"/>
          <p:cNvSpPr/>
          <p:nvPr/>
        </p:nvSpPr>
        <p:spPr>
          <a:xfrm>
            <a:off x="6553080" y="3962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Line 16"/>
          <p:cNvSpPr/>
          <p:nvPr/>
        </p:nvSpPr>
        <p:spPr>
          <a:xfrm>
            <a:off x="6095880" y="3962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AutoShape 17"/>
          <p:cNvSpPr/>
          <p:nvPr/>
        </p:nvSpPr>
        <p:spPr>
          <a:xfrm flipH="1">
            <a:off x="7085880" y="2819520"/>
            <a:ext cx="609480" cy="380880"/>
          </a:xfrm>
          <a:prstGeom prst="rtTriangle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Line 18"/>
          <p:cNvSpPr/>
          <p:nvPr/>
        </p:nvSpPr>
        <p:spPr>
          <a:xfrm flipV="1">
            <a:off x="7086600" y="2819520"/>
            <a:ext cx="6094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Rectangle 19"/>
          <p:cNvSpPr/>
          <p:nvPr/>
        </p:nvSpPr>
        <p:spPr>
          <a:xfrm>
            <a:off x="7696080" y="3276720"/>
            <a:ext cx="609840" cy="190476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AutoShape 20"/>
          <p:cNvSpPr/>
          <p:nvPr/>
        </p:nvSpPr>
        <p:spPr>
          <a:xfrm>
            <a:off x="7696080" y="2819520"/>
            <a:ext cx="533520" cy="457200"/>
          </a:xfrm>
          <a:prstGeom prst="rtTriangle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Line 21"/>
          <p:cNvSpPr/>
          <p:nvPr/>
        </p:nvSpPr>
        <p:spPr>
          <a:xfrm>
            <a:off x="7696080" y="281952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Line 22"/>
          <p:cNvSpPr/>
          <p:nvPr/>
        </p:nvSpPr>
        <p:spPr>
          <a:xfrm>
            <a:off x="7696080" y="28195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Line 23"/>
          <p:cNvSpPr/>
          <p:nvPr/>
        </p:nvSpPr>
        <p:spPr>
          <a:xfrm>
            <a:off x="8305920" y="3276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24"/>
              <p:cNvSpPr txBox="1"/>
              <p:nvPr/>
            </p:nvSpPr>
            <p:spPr>
              <a:xfrm>
                <a:off x="5958000" y="5359320"/>
                <a:ext cx="27921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h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Line 25"/>
          <p:cNvSpPr/>
          <p:nvPr/>
        </p:nvSpPr>
        <p:spPr>
          <a:xfrm flipV="1">
            <a:off x="1905120" y="502920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Line 26"/>
          <p:cNvSpPr/>
          <p:nvPr/>
        </p:nvSpPr>
        <p:spPr>
          <a:xfrm flipH="1" flipV="1">
            <a:off x="3581280" y="5029200"/>
            <a:ext cx="1371600" cy="838080"/>
          </a:xfrm>
          <a:prstGeom prst="line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Text Box 27"/>
          <p:cNvSpPr/>
          <p:nvPr/>
        </p:nvSpPr>
        <p:spPr>
          <a:xfrm>
            <a:off x="762120" y="548640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ased on previous estim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US" sz="1800" spc="-1" strike="noStrike">
                <a:solidFill>
                  <a:srgbClr val="cc9900"/>
                </a:solidFill>
                <a:latin typeface="Verdana"/>
              </a:rPr>
              <a:t>Based on new poin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BCA3-E930-43BE-B66C-4BEB35D7D8A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Recursive Trapezoid Method</a:t>
            </a:r>
            <a:br>
              <a:rPr sz="4400"/>
            </a:br>
            <a:r>
              <a:rPr b="1" lang="en-US" sz="3700" spc="-1" strike="noStrike">
                <a:solidFill>
                  <a:srgbClr val="999900"/>
                </a:solidFill>
                <a:latin typeface="Garamond"/>
              </a:rPr>
              <a:t>Formulas</a:t>
            </a:r>
            <a:endParaRPr b="0" lang="en-US" sz="37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838080" y="1828800"/>
                <a:ext cx="7543800" cy="418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p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h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70F1-C453-4CCE-9B02-41B8CEF93E6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Integr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28600" y="1523880"/>
            <a:ext cx="42670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definite Integr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Verdana"/>
              </a:rPr>
              <a:t>Indefinite Integrals of a function are 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Verdana"/>
              </a:rPr>
              <a:t>functions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Verdana"/>
              </a:rPr>
              <a:t>that differ from each other by a consta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1295280" y="2514600"/>
                <a:ext cx="1990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8" name="Rectangle 5"/>
          <p:cNvSpPr/>
          <p:nvPr/>
        </p:nvSpPr>
        <p:spPr>
          <a:xfrm>
            <a:off x="4800600" y="1523880"/>
            <a:ext cx="39625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efinite Integr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Definite Integrals ar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numb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6"/>
              <p:cNvSpPr txBox="1"/>
              <p:nvPr/>
            </p:nvSpPr>
            <p:spPr>
              <a:xfrm>
                <a:off x="5410080" y="2438280"/>
                <a:ext cx="21560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Line 7"/>
          <p:cNvSpPr/>
          <p:nvPr/>
        </p:nvSpPr>
        <p:spPr>
          <a:xfrm>
            <a:off x="4648320" y="18288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1BDA-30CC-4912-898A-2A33E5B9CC6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Recursive Trapezoid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838080" y="1752480"/>
                <a:ext cx="6477120" cy="454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h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2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h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3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2,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h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p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h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xample on Recursive Trapezo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0237-CFC8-4156-A52A-05CF65DB0668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609480" y="1600200"/>
                <a:ext cx="687888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ursive Trapezoid  method  to  estimate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by computing 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,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hen estimate the err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80" name=""/>
          <p:cNvGraphicFramePr/>
          <p:nvPr/>
        </p:nvGraphicFramePr>
        <p:xfrm>
          <a:off x="609480" y="3276720"/>
          <a:ext cx="7925040" cy="2062080"/>
        </p:xfrm>
        <a:graphic>
          <a:graphicData uri="http://schemas.openxmlformats.org/drawingml/2006/table">
            <a:tbl>
              <a:tblPr/>
              <a:tblGrid>
                <a:gridCol w="381240"/>
                <a:gridCol w="1600200"/>
                <a:gridCol w="59436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(n,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b-a)=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4)[sin(0) + sin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2)]=0.78539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b-a)/2=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(0,0)/2 +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4) sin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4) = 0.948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b-a)/4=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(1,0)/2 +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8)[sin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8)+sin(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8)] = 0.987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b-a)/8=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(2,0)/2 +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16)[sin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16)+sin(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16)+sin(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16)+ sin(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16)] = 0.9967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</a:tbl>
          </a:graphicData>
        </a:graphic>
      </p:graphicFrame>
      <p:sp>
        <p:nvSpPr>
          <p:cNvPr id="381" name="TextBox 9"/>
          <p:cNvSpPr/>
          <p:nvPr/>
        </p:nvSpPr>
        <p:spPr>
          <a:xfrm>
            <a:off x="762120" y="55627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imated Error = |R(3,0) – R(2,0)| = 0.00966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8340-A096-4360-9622-82B694DEAE8F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Advantages of Recursive Trapezoi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ursive Trapezoi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s the same answer as the standard Trapezoid method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s use of the available information to reduce the computation tim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ful if the number of iterations is not known in adv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7239-BEE7-481F-9CDA-3F7CF25CB00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Fundamental Theorem of Calculu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469800" y="1447920"/>
                <a:ext cx="6688080" cy="46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is continuous on an interval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is antiderivative of f   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 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'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here is no antiderivative for: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osed form solution for: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Rectangle 4"/>
          <p:cNvSpPr/>
          <p:nvPr/>
        </p:nvSpPr>
        <p:spPr>
          <a:xfrm>
            <a:off x="480960" y="2590920"/>
            <a:ext cx="4014720" cy="990360"/>
          </a:xfrm>
          <a:prstGeom prst="rect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1219320" y="251460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C439-8F43-4A25-9C6E-37C809E2A35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he Area Under the Curv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3"/>
              <p:cNvSpPr txBox="1"/>
              <p:nvPr/>
            </p:nvSpPr>
            <p:spPr>
              <a:xfrm>
                <a:off x="5645160" y="4897440"/>
                <a:ext cx="24271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" name="Text Box 4"/>
          <p:cNvSpPr/>
          <p:nvPr/>
        </p:nvSpPr>
        <p:spPr>
          <a:xfrm>
            <a:off x="533520" y="17524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interpretation of the definite integral i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gral = area under the cu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52480" y="59436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200400" y="5943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73392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8"/>
          <p:cNvSpPr/>
          <p:nvPr/>
        </p:nvSpPr>
        <p:spPr>
          <a:xfrm flipV="1">
            <a:off x="1066680" y="29714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1066680" y="5943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1981080" y="4495680"/>
            <a:ext cx="1295640" cy="1447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Oval 11"/>
          <p:cNvSpPr/>
          <p:nvPr/>
        </p:nvSpPr>
        <p:spPr>
          <a:xfrm>
            <a:off x="1981080" y="4267080"/>
            <a:ext cx="1295640" cy="4572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eform 12"/>
          <p:cNvSpPr/>
          <p:nvPr/>
        </p:nvSpPr>
        <p:spPr>
          <a:xfrm rot="240600">
            <a:off x="1444320" y="4265640"/>
            <a:ext cx="3124080" cy="128268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1968" h="856">
                <a:moveTo>
                  <a:pt x="0" y="856"/>
                </a:moveTo>
                <a:cubicBezTo>
                  <a:pt x="112" y="564"/>
                  <a:pt x="224" y="272"/>
                  <a:pt x="384" y="136"/>
                </a:cubicBezTo>
                <a:cubicBezTo>
                  <a:pt x="544" y="0"/>
                  <a:pt x="800" y="16"/>
                  <a:pt x="960" y="40"/>
                </a:cubicBezTo>
                <a:cubicBezTo>
                  <a:pt x="1120" y="64"/>
                  <a:pt x="1232" y="208"/>
                  <a:pt x="1344" y="280"/>
                </a:cubicBezTo>
                <a:cubicBezTo>
                  <a:pt x="1456" y="352"/>
                  <a:pt x="1528" y="456"/>
                  <a:pt x="1632" y="472"/>
                </a:cubicBezTo>
                <a:cubicBezTo>
                  <a:pt x="1736" y="488"/>
                  <a:pt x="1912" y="392"/>
                  <a:pt x="1968" y="376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971800" y="5334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025C-ED07-4AF2-892A-528AD7B4002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Upper and Lower S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019920" y="59436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7543800" y="5943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562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6"/>
          <p:cNvSpPr/>
          <p:nvPr/>
        </p:nvSpPr>
        <p:spPr>
          <a:xfrm flipV="1">
            <a:off x="5334120" y="25142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5334120" y="54864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6172200" y="4419720"/>
            <a:ext cx="533520" cy="106668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705720" y="4267080"/>
            <a:ext cx="457200" cy="121932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172200" y="4267080"/>
            <a:ext cx="533520" cy="15264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5486400" y="3200400"/>
            <a:ext cx="2819520" cy="121932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1344" h="528">
                <a:moveTo>
                  <a:pt x="0" y="192"/>
                </a:moveTo>
                <a:cubicBezTo>
                  <a:pt x="180" y="360"/>
                  <a:pt x="360" y="528"/>
                  <a:pt x="480" y="528"/>
                </a:cubicBezTo>
                <a:cubicBezTo>
                  <a:pt x="600" y="528"/>
                  <a:pt x="648" y="280"/>
                  <a:pt x="720" y="192"/>
                </a:cubicBezTo>
                <a:cubicBezTo>
                  <a:pt x="792" y="104"/>
                  <a:pt x="832" y="0"/>
                  <a:pt x="912" y="0"/>
                </a:cubicBezTo>
                <a:cubicBezTo>
                  <a:pt x="992" y="0"/>
                  <a:pt x="1128" y="136"/>
                  <a:pt x="1200" y="192"/>
                </a:cubicBezTo>
                <a:cubicBezTo>
                  <a:pt x="1272" y="248"/>
                  <a:pt x="1308" y="292"/>
                  <a:pt x="1344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6705720" y="3429000"/>
            <a:ext cx="457200" cy="83808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7162920" y="3429000"/>
            <a:ext cx="457200" cy="205740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162920" y="3200400"/>
            <a:ext cx="457200" cy="22860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5"/>
              <p:cNvSpPr txBox="1"/>
              <p:nvPr/>
            </p:nvSpPr>
            <p:spPr>
              <a:xfrm>
                <a:off x="6019920" y="5562720"/>
                <a:ext cx="21333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6"/>
              <p:cNvSpPr txBox="1"/>
              <p:nvPr/>
            </p:nvSpPr>
            <p:spPr>
              <a:xfrm>
                <a:off x="380880" y="2133720"/>
                <a:ext cx="4572000" cy="38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tition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efine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Text Box 17"/>
          <p:cNvSpPr/>
          <p:nvPr/>
        </p:nvSpPr>
        <p:spPr>
          <a:xfrm>
            <a:off x="380880" y="167652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val is divided into subinterval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457200" y="5029200"/>
            <a:ext cx="1219320" cy="15228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457200" y="5791320"/>
            <a:ext cx="1219320" cy="15228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457200" y="5943600"/>
            <a:ext cx="1219320" cy="15228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ISE301_Topic7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0CB4-ADAE-480D-B6BE-73DD024237C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Upper and Lower S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019920" y="601992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7543800" y="6019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556272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6"/>
          <p:cNvSpPr/>
          <p:nvPr/>
        </p:nvSpPr>
        <p:spPr>
          <a:xfrm flipV="1">
            <a:off x="5334120" y="2437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5334120" y="54100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6172200" y="4343400"/>
            <a:ext cx="533520" cy="106668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6705720" y="4191120"/>
            <a:ext cx="457200" cy="121896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6172200" y="4191120"/>
            <a:ext cx="533520" cy="15228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Freeform 11"/>
          <p:cNvSpPr/>
          <p:nvPr/>
        </p:nvSpPr>
        <p:spPr>
          <a:xfrm>
            <a:off x="5486400" y="3154320"/>
            <a:ext cx="2819520" cy="118908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189080"/>
              <a:gd name="textAreaBottom" fmla="*/ 1189080 h 1189080"/>
            </a:gdLst>
            <a:ahLst/>
            <a:rect l="textAreaLeft" t="textAreaTop" r="textAreaRight" b="textAreaBottom"/>
            <a:pathLst>
              <a:path w="1776" h="749">
                <a:moveTo>
                  <a:pt x="0" y="260"/>
                </a:moveTo>
                <a:cubicBezTo>
                  <a:pt x="238" y="505"/>
                  <a:pt x="476" y="749"/>
                  <a:pt x="634" y="749"/>
                </a:cubicBezTo>
                <a:cubicBezTo>
                  <a:pt x="793" y="749"/>
                  <a:pt x="849" y="385"/>
                  <a:pt x="951" y="260"/>
                </a:cubicBezTo>
                <a:cubicBezTo>
                  <a:pt x="1053" y="135"/>
                  <a:pt x="1142" y="0"/>
                  <a:pt x="1248" y="0"/>
                </a:cubicBezTo>
                <a:cubicBezTo>
                  <a:pt x="1354" y="0"/>
                  <a:pt x="1498" y="182"/>
                  <a:pt x="1586" y="260"/>
                </a:cubicBezTo>
                <a:cubicBezTo>
                  <a:pt x="1674" y="338"/>
                  <a:pt x="1728" y="406"/>
                  <a:pt x="1776" y="47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705720" y="3352680"/>
            <a:ext cx="457200" cy="83844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162920" y="3352680"/>
            <a:ext cx="457200" cy="205740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7162920" y="3124080"/>
            <a:ext cx="457200" cy="22860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5"/>
              <p:cNvSpPr txBox="1"/>
              <p:nvPr/>
            </p:nvSpPr>
            <p:spPr>
              <a:xfrm>
                <a:off x="6019920" y="5486400"/>
                <a:ext cx="21333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6"/>
              <p:cNvSpPr txBox="1"/>
              <p:nvPr/>
            </p:nvSpPr>
            <p:spPr>
              <a:xfrm>
                <a:off x="457200" y="2057400"/>
                <a:ext cx="4092480" cy="328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stimate of the integral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Rectangle 17"/>
          <p:cNvSpPr/>
          <p:nvPr/>
        </p:nvSpPr>
        <p:spPr>
          <a:xfrm>
            <a:off x="457200" y="2590920"/>
            <a:ext cx="1219320" cy="533160"/>
          </a:xfrm>
          <a:prstGeom prst="rect">
            <a:avLst/>
          </a:prstGeom>
          <a:solidFill>
            <a:srgbClr val="99cc0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457200" y="3352680"/>
            <a:ext cx="1219320" cy="304920"/>
          </a:xfrm>
          <a:prstGeom prst="rect">
            <a:avLst/>
          </a:prstGeom>
          <a:solidFill>
            <a:srgbClr val="993366">
              <a:alpha val="32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457200" y="3657600"/>
            <a:ext cx="1219320" cy="304920"/>
          </a:xfrm>
          <a:prstGeom prst="rect">
            <a:avLst/>
          </a:prstGeom>
          <a:solidFill>
            <a:srgbClr val="99cc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EB7E-04B8-499A-90C4-67167888498C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Line 3"/>
          <p:cNvSpPr/>
          <p:nvPr/>
        </p:nvSpPr>
        <p:spPr>
          <a:xfrm flipV="1">
            <a:off x="5943600" y="22856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4"/>
          <p:cNvSpPr/>
          <p:nvPr/>
        </p:nvSpPr>
        <p:spPr>
          <a:xfrm>
            <a:off x="5943600" y="5257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5943600" y="5334120"/>
                <a:ext cx="24843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Freeform 6"/>
          <p:cNvSpPr/>
          <p:nvPr/>
        </p:nvSpPr>
        <p:spPr>
          <a:xfrm>
            <a:off x="5943600" y="342900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1296" h="1104">
                <a:moveTo>
                  <a:pt x="0" y="1104"/>
                </a:moveTo>
                <a:cubicBezTo>
                  <a:pt x="116" y="1076"/>
                  <a:pt x="232" y="1048"/>
                  <a:pt x="336" y="1008"/>
                </a:cubicBezTo>
                <a:cubicBezTo>
                  <a:pt x="440" y="968"/>
                  <a:pt x="520" y="936"/>
                  <a:pt x="624" y="864"/>
                </a:cubicBezTo>
                <a:cubicBezTo>
                  <a:pt x="728" y="792"/>
                  <a:pt x="848" y="720"/>
                  <a:pt x="960" y="576"/>
                </a:cubicBezTo>
                <a:cubicBezTo>
                  <a:pt x="1072" y="432"/>
                  <a:pt x="1240" y="96"/>
                  <a:pt x="12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7"/>
          <p:cNvSpPr/>
          <p:nvPr/>
        </p:nvSpPr>
        <p:spPr>
          <a:xfrm flipV="1">
            <a:off x="6477120" y="5104800"/>
            <a:ext cx="533160" cy="152280"/>
          </a:xfrm>
          <a:prstGeom prst="rect">
            <a:avLst/>
          </a:pr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7010280" y="4800600"/>
            <a:ext cx="533520" cy="457200"/>
          </a:xfrm>
          <a:prstGeom prst="rect">
            <a:avLst/>
          </a:pr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7543800" y="4343400"/>
            <a:ext cx="533520" cy="914400"/>
          </a:xfrm>
          <a:prstGeom prst="rect">
            <a:avLst/>
          </a:pr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10"/>
          <p:cNvSpPr/>
          <p:nvPr/>
        </p:nvSpPr>
        <p:spPr>
          <a:xfrm flipV="1">
            <a:off x="5943600" y="5104800"/>
            <a:ext cx="533520" cy="15228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6477120" y="4800600"/>
            <a:ext cx="533160" cy="30492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7010280" y="4343400"/>
            <a:ext cx="533520" cy="45720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7543800" y="3429000"/>
            <a:ext cx="533520" cy="91440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4"/>
              <p:cNvSpPr txBox="1"/>
              <p:nvPr/>
            </p:nvSpPr>
            <p:spPr>
              <a:xfrm>
                <a:off x="754200" y="1554120"/>
                <a:ext cx="4808520" cy="446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tition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our  equal  interval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9C86-E979-423D-893D-AE7F2F71135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5" name="Line 3"/>
          <p:cNvSpPr/>
          <p:nvPr/>
        </p:nvSpPr>
        <p:spPr>
          <a:xfrm flipV="1">
            <a:off x="5486400" y="2971440"/>
            <a:ext cx="1440" cy="244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5637240" y="5410080"/>
            <a:ext cx="32781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5545080" y="5540400"/>
                <a:ext cx="22734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6"/>
              <p:cNvSpPr txBox="1"/>
              <p:nvPr/>
            </p:nvSpPr>
            <p:spPr>
              <a:xfrm>
                <a:off x="609480" y="1523880"/>
                <a:ext cx="434340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stimat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tegra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Freeform 7"/>
          <p:cNvSpPr/>
          <p:nvPr/>
        </p:nvSpPr>
        <p:spPr>
          <a:xfrm>
            <a:off x="5486400" y="3905280"/>
            <a:ext cx="1981080" cy="149544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w="1248" h="942">
                <a:moveTo>
                  <a:pt x="0" y="942"/>
                </a:moveTo>
                <a:cubicBezTo>
                  <a:pt x="54" y="930"/>
                  <a:pt x="218" y="902"/>
                  <a:pt x="323" y="861"/>
                </a:cubicBezTo>
                <a:cubicBezTo>
                  <a:pt x="429" y="821"/>
                  <a:pt x="531" y="767"/>
                  <a:pt x="635" y="700"/>
                </a:cubicBezTo>
                <a:cubicBezTo>
                  <a:pt x="738" y="633"/>
                  <a:pt x="847" y="575"/>
                  <a:pt x="949" y="458"/>
                </a:cubicBezTo>
                <a:cubicBezTo>
                  <a:pt x="1051" y="341"/>
                  <a:pt x="1186" y="95"/>
                  <a:pt x="12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8"/>
          <p:cNvSpPr/>
          <p:nvPr/>
        </p:nvSpPr>
        <p:spPr>
          <a:xfrm flipV="1">
            <a:off x="5987880" y="5257080"/>
            <a:ext cx="489240" cy="152280"/>
          </a:xfrm>
          <a:prstGeom prst="rect">
            <a:avLst/>
          </a:pr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6477120" y="5033880"/>
            <a:ext cx="488880" cy="376200"/>
          </a:xfrm>
          <a:prstGeom prst="rect">
            <a:avLst/>
          </a:pr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6978600" y="4657680"/>
            <a:ext cx="488880" cy="752400"/>
          </a:xfrm>
          <a:prstGeom prst="rect">
            <a:avLst/>
          </a:pr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11"/>
          <p:cNvSpPr/>
          <p:nvPr/>
        </p:nvSpPr>
        <p:spPr>
          <a:xfrm flipV="1">
            <a:off x="5486400" y="5284800"/>
            <a:ext cx="488880" cy="12528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5987880" y="5029200"/>
            <a:ext cx="489240" cy="22860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477120" y="4653000"/>
            <a:ext cx="488880" cy="37620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6978600" y="3895560"/>
            <a:ext cx="488880" cy="75276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533520" y="2971800"/>
            <a:ext cx="4190760" cy="1447920"/>
          </a:xfrm>
          <a:prstGeom prst="rect">
            <a:avLst/>
          </a:prstGeom>
          <a:solidFill>
            <a:srgbClr val="ff00ff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533520" y="1523880"/>
            <a:ext cx="4190760" cy="1447920"/>
          </a:xfrm>
          <a:prstGeom prst="rect">
            <a:avLst/>
          </a:pr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22:58:36Z</dcterms:created>
  <dc:creator>mudawar</dc:creator>
  <dc:description/>
  <dc:language>en-US</dc:language>
  <cp:lastModifiedBy>PHILIPS</cp:lastModifiedBy>
  <dcterms:modified xsi:type="dcterms:W3CDTF">2016-04-18T06:27:23Z</dcterms:modified>
  <cp:revision>204</cp:revision>
  <dc:subject/>
  <dc:title>Slide 1</dc:title>
</cp:coreProperties>
</file>