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6E0C06-AD41-4AF3-8D90-44B272868E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1D0D9F-153B-4F68-B2AC-73798F72A6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DF734-A3D7-4764-AD3D-14C31D0F07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F1991-2753-4247-9F9A-F51E6CE24C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1E1A99-47EE-433A-894F-85B53938C4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21830-0312-4622-8733-B288334E66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B1B9A-83A5-4722-ACCB-EA94A5A343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1FF8B-A557-4ED4-830A-0D155A40F0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7C605-1B5C-4F5C-95C5-30A9BBEF05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4A9F6-DE5F-4B67-88FD-737E3D1340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5132D-8C28-451B-B1BB-53C7EFB6F0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1CEDA-7EE9-48AE-AE0F-7A6961D2B2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5503DE-FBD0-46AD-9BC4-7EC476F4CC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00CE4-31EA-47C9-8886-A88A5C223C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6D67F-A9DC-4F03-8489-B0FC2D4C05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D6044-D3E5-408B-ABD3-52914FD916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E06912-7681-4D8E-8E00-80D843F538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D9AC3-B180-4587-9DC4-E211D591D5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EADD3-3A5B-47B8-A31A-4167780391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B9CC1-182A-4596-8988-CEC04F5B91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59AE9-5692-48DD-91EC-66BA288852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7CC44-F6D7-47F0-B1B4-404967FD70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87FF7-4A54-4AC1-806E-C1F5EAE45F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E3515-181B-4927-B5E3-7B4F185B59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31827-3BA2-43B5-83F8-4EEE0DE5A6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621EF-BB44-4F0A-83E9-755097E3B1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43AB8-7316-4CEE-AB02-71535FA87E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A36F6-67CD-4045-A6E8-6B234F1595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11E7B1-F33D-4B72-816C-59406E830D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31273-9CC9-4E48-925D-6AF8B6ACD0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A18F4-E2CC-4084-B777-2B0B617083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3E998-B822-44B6-A9F8-E7AC49BC10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6FB-8960-4E14-8CF0-1426F82B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3ED-AA38-4EAE-A0D4-122F6894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4B5-E7C9-48C9-92EC-A14E8C6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AB7-C553-4943-B3A2-6E2CCF85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E272-2658-4F30-A452-E3E5FCBD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719-4006-4F9C-90CC-35228D6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498C-95F4-4912-A8F0-5C45440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E12-5D07-4958-A723-90255BBD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5756-DECE-42B4-957B-0D92E8E1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882-16A0-4C8D-B380-A61C0F96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EF28-5E21-4CD8-B6CF-8F05C500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1B6-0E27-4841-9944-871564DF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59B-BFC8-49FD-ABDB-74330DF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5BA0-B72A-46AD-AF49-D78B04F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B47-7FC5-4294-9DB1-761685B0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1EB-FC87-4B57-B8C8-7A0D5A5C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C2E-6C13-4E17-94B7-72D8DE32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90C-7B64-4A9C-B4F8-C9172CDF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18A-1374-4097-AFDC-CB36742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ECC-6E0D-4FE6-A9ED-716C7444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BC8-62D6-4AAF-B415-0CFD8338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91F-8648-493D-BC85-FDE641D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CA5-674E-4482-B124-52549C2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347-DB4A-4290-8C93-5FEFEA2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32A-0FAC-4CCA-9751-2ED2EE84A20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5C1-E5C6-4B44-9E1E-A296E53B655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7E2E-915E-4B3D-B483-D56B0F07533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100" spc="-1" strike="noStrike">
                <a:solidFill>
                  <a:srgbClr val="999900"/>
                </a:solidFill>
                <a:latin typeface="Garamond"/>
              </a:rPr>
              <a:t>Numerical Integration </a:t>
            </a:r>
            <a:br>
              <a:rPr sz="3300"/>
            </a:b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5C61-F97B-4210-871D-C39D9F5B429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based on Upper and Lower Sums are easy to obtain f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onoto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unctions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ways increasing or always decrea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n-monotonic functions, finding maximum and minimum of the function can be difficult and other methods can be  more attractiv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65D-0A96-4EC1-B142-34A19B99E62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ewton-Cote Metho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function is approximated by a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olynomial of order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ing the integral of a polynomial is eas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762120" y="4038480"/>
                <a:ext cx="769608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491-E322-4864-B1C1-ADAE5297F44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pezoid Metho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Order Polynomials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mpson 1/3 Rul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cond Order Polynomials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73120" y="2338560"/>
                <a:ext cx="5891400" cy="32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7810-B3B2-4E5B-8F5D-7BC02BDFEBD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rivation-On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Application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ng the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Trapezoid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5F2-5D94-45DA-9F2B-8669CABFF28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724280" y="5257800"/>
            <a:ext cx="25909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28600" y="1905120"/>
                <a:ext cx="2971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3049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6"/>
          <p:cNvSpPr/>
          <p:nvPr/>
        </p:nvSpPr>
        <p:spPr>
          <a:xfrm flipV="1">
            <a:off x="533520" y="312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533520" y="5181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1295280" y="5257800"/>
                <a:ext cx="1524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Freeform 9"/>
          <p:cNvSpPr/>
          <p:nvPr/>
        </p:nvSpPr>
        <p:spPr>
          <a:xfrm>
            <a:off x="914400" y="3200400"/>
            <a:ext cx="2666880" cy="1447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1371600" y="449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27432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1371600" y="3352320"/>
            <a:ext cx="1371600" cy="1143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71600" y="4495680"/>
            <a:ext cx="1371600" cy="6858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14"/>
          <p:cNvSpPr/>
          <p:nvPr/>
        </p:nvSpPr>
        <p:spPr>
          <a:xfrm flipH="1">
            <a:off x="1371600" y="3352680"/>
            <a:ext cx="1371600" cy="11430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15"/>
          <p:cNvSpPr/>
          <p:nvPr/>
        </p:nvSpPr>
        <p:spPr>
          <a:xfrm flipH="1" flipV="1">
            <a:off x="1904760" y="2819160"/>
            <a:ext cx="22860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6"/>
              <p:cNvSpPr txBox="1"/>
              <p:nvPr/>
            </p:nvSpPr>
            <p:spPr>
              <a:xfrm>
                <a:off x="4114800" y="1523880"/>
                <a:ext cx="4692600" cy="456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Line 17"/>
          <p:cNvSpPr/>
          <p:nvPr/>
        </p:nvSpPr>
        <p:spPr>
          <a:xfrm>
            <a:off x="2133720" y="4648320"/>
            <a:ext cx="2819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41C-7BEE-4067-A2B6-2D11153380A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Derivation-One Interval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533520" y="1447920"/>
                <a:ext cx="7391160" cy="47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50C5-0F0F-4870-81D0-C608F76F1D8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457200" y="2666880"/>
                <a:ext cx="5889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4"/>
          <p:cNvSpPr/>
          <p:nvPr/>
        </p:nvSpPr>
        <p:spPr>
          <a:xfrm>
            <a:off x="9144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 flipV="1">
            <a:off x="12952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1295280" y="53341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76520" y="5486400"/>
                <a:ext cx="6553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Freeform 8"/>
          <p:cNvSpPr/>
          <p:nvPr/>
        </p:nvSpPr>
        <p:spPr>
          <a:xfrm>
            <a:off x="1523880" y="2438280"/>
            <a:ext cx="7162920" cy="177012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3504" h="810">
                <a:moveTo>
                  <a:pt x="0" y="471"/>
                </a:moveTo>
                <a:cubicBezTo>
                  <a:pt x="83" y="520"/>
                  <a:pt x="241" y="810"/>
                  <a:pt x="496" y="765"/>
                </a:cubicBezTo>
                <a:cubicBezTo>
                  <a:pt x="751" y="720"/>
                  <a:pt x="1229" y="323"/>
                  <a:pt x="1529" y="198"/>
                </a:cubicBezTo>
                <a:cubicBezTo>
                  <a:pt x="1829" y="73"/>
                  <a:pt x="2065" y="30"/>
                  <a:pt x="2297" y="15"/>
                </a:cubicBezTo>
                <a:cubicBezTo>
                  <a:pt x="2529" y="0"/>
                  <a:pt x="2718" y="6"/>
                  <a:pt x="2919" y="106"/>
                </a:cubicBezTo>
                <a:cubicBezTo>
                  <a:pt x="3120" y="206"/>
                  <a:pt x="3382" y="509"/>
                  <a:pt x="3504" y="61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9"/>
          <p:cNvSpPr/>
          <p:nvPr/>
        </p:nvSpPr>
        <p:spPr>
          <a:xfrm flipV="1">
            <a:off x="190512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7772400" y="28191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1981080" y="2819160"/>
            <a:ext cx="5791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1905120" y="3886200"/>
            <a:ext cx="5867280" cy="14479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13"/>
          <p:cNvSpPr/>
          <p:nvPr/>
        </p:nvSpPr>
        <p:spPr>
          <a:xfrm flipH="1">
            <a:off x="2056680" y="2819520"/>
            <a:ext cx="5715000" cy="10666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4"/>
              <p:cNvSpPr txBox="1"/>
              <p:nvPr/>
            </p:nvSpPr>
            <p:spPr>
              <a:xfrm>
                <a:off x="2743200" y="4114800"/>
                <a:ext cx="44956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Line 15"/>
          <p:cNvSpPr/>
          <p:nvPr/>
        </p:nvSpPr>
        <p:spPr>
          <a:xfrm flipH="1">
            <a:off x="12952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1295280" y="2819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7"/>
              <p:cNvSpPr txBox="1"/>
              <p:nvPr/>
            </p:nvSpPr>
            <p:spPr>
              <a:xfrm>
                <a:off x="457200" y="3733920"/>
                <a:ext cx="662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891F-C5B8-467B-BEA1-57C046841C4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Multiple Application Rul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5292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35804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42670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476712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476712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398920" y="5410080"/>
                <a:ext cx="2430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Freeform 9"/>
          <p:cNvSpPr/>
          <p:nvPr/>
        </p:nvSpPr>
        <p:spPr>
          <a:xfrm>
            <a:off x="514836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0"/>
          <p:cNvSpPr/>
          <p:nvPr/>
        </p:nvSpPr>
        <p:spPr>
          <a:xfrm flipV="1">
            <a:off x="560556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1"/>
          <p:cNvSpPr/>
          <p:nvPr/>
        </p:nvSpPr>
        <p:spPr>
          <a:xfrm flipV="1">
            <a:off x="613872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2"/>
          <p:cNvSpPr/>
          <p:nvPr/>
        </p:nvSpPr>
        <p:spPr>
          <a:xfrm flipV="1">
            <a:off x="6748560" y="31237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7434360" y="31237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5605560" y="38095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6138720" y="3123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74856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748560" y="3124080"/>
            <a:ext cx="685800" cy="221004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6138720" y="3809880"/>
            <a:ext cx="609840" cy="152424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6138720" y="3124080"/>
            <a:ext cx="609840" cy="6858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605560" y="4191120"/>
            <a:ext cx="533160" cy="114300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21"/>
          <p:cNvSpPr/>
          <p:nvPr/>
        </p:nvSpPr>
        <p:spPr>
          <a:xfrm flipH="1">
            <a:off x="5604840" y="3809880"/>
            <a:ext cx="533160" cy="38124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2"/>
              <p:cNvSpPr txBox="1"/>
              <p:nvPr/>
            </p:nvSpPr>
            <p:spPr>
              <a:xfrm>
                <a:off x="304920" y="2362320"/>
                <a:ext cx="4019400" cy="27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rval   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ed into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segments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um of the area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 the trapezoi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4876920" y="1676520"/>
                <a:ext cx="4038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Line 24"/>
          <p:cNvSpPr/>
          <p:nvPr/>
        </p:nvSpPr>
        <p:spPr>
          <a:xfrm flipV="1">
            <a:off x="6443640" y="259056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84582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2FF-4CBF-4B60-B42B-20E56C14F02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General Formula and Special Cas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57200" y="1901880"/>
                <a:ext cx="86868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the  interval  is  divided  into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segment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  necessarily  equ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380880" y="2819520"/>
            <a:ext cx="762012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0880" y="4648320"/>
            <a:ext cx="7696440" cy="152388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533520" y="4113360"/>
                <a:ext cx="6629400" cy="21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 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iy spaced base point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7"/>
          <p:cNvSpPr/>
          <p:nvPr/>
        </p:nvSpPr>
        <p:spPr>
          <a:xfrm>
            <a:off x="6172200" y="2286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CAB-DA00-494C-B4FD-FA9D8D124E3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33520" y="1905120"/>
            <a:ext cx="33526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3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038480" y="1981080"/>
          <a:ext cx="4762800" cy="1238400"/>
        </p:xfrm>
        <a:graphic>
          <a:graphicData uri="http://schemas.openxmlformats.org/drawingml/2006/table">
            <a:tbl>
              <a:tblPr/>
              <a:tblGrid>
                <a:gridCol w="1681200"/>
                <a:gridCol w="770040"/>
                <a:gridCol w="770040"/>
                <a:gridCol w="771480"/>
                <a:gridCol w="7700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24"/>
          <p:cNvSpPr/>
          <p:nvPr/>
        </p:nvSpPr>
        <p:spPr>
          <a:xfrm>
            <a:off x="685800" y="4800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5"/>
              <p:cNvSpPr txBox="1"/>
              <p:nvPr/>
            </p:nvSpPr>
            <p:spPr>
              <a:xfrm>
                <a:off x="1417680" y="5145120"/>
                <a:ext cx="5013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C05-A1C4-42B8-A824-F6FD64B7855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roduction to Numerical Integ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040" y="3269880"/>
            <a:ext cx="75438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per and Lower S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pezoid Method (Newton-Cotes Metho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925-FDD0-40A4-BF19-6776D70489B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038480" y="1752480"/>
          <a:ext cx="4343400" cy="1273320"/>
        </p:xfrm>
        <a:graphic>
          <a:graphicData uri="http://schemas.openxmlformats.org/drawingml/2006/table">
            <a:tbl>
              <a:tblPr/>
              <a:tblGrid>
                <a:gridCol w="1435320"/>
                <a:gridCol w="726840"/>
                <a:gridCol w="727200"/>
                <a:gridCol w="727200"/>
                <a:gridCol w="726840"/>
              </a:tblGrid>
              <a:tr h="60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1647720" y="3382920"/>
                <a:ext cx="4940280" cy="27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4"/>
              <p:cNvSpPr txBox="1"/>
              <p:nvPr/>
            </p:nvSpPr>
            <p:spPr>
              <a:xfrm>
                <a:off x="519120" y="1752480"/>
                <a:ext cx="33051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terval is divid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o 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b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points a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,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Rectangle 25"/>
          <p:cNvSpPr/>
          <p:nvPr/>
        </p:nvSpPr>
        <p:spPr>
          <a:xfrm>
            <a:off x="990720" y="3352680"/>
            <a:ext cx="6095880" cy="2819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B70-29B2-4DF3-810E-90C8BF03367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rror in estimating the integral</a:t>
            </a:r>
            <a:br>
              <a:rPr sz="4400"/>
            </a:b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Theorem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609480" y="1479600"/>
                <a:ext cx="6934320" cy="46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ption:   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continuous 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 interval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dth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orem: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Trapezoid Method is used to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proximate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8" name="Line 4"/>
          <p:cNvSpPr/>
          <p:nvPr/>
        </p:nvSpPr>
        <p:spPr>
          <a:xfrm>
            <a:off x="685800" y="31240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8232-5E09-4C86-B745-6C3C14C12C3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stimating the Error 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For Trapezoid Method</a:t>
            </a: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434880" y="2057400"/>
                <a:ext cx="8556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w  many  equally  spaced  intervals  a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eded   to   compute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decimal  digit  accuracy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CA9-0D63-41EC-A15B-192D2B38219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852560" y="1440000"/>
                <a:ext cx="6224760" cy="50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h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37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3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9</m:t>
                        </m:r>
                        <m:r>
                          <m:rPr>
                            <m:lit/>
                            <m:nor/>
                          </m:rPr>
                          <m:t xml:space="preserve"> interval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5" name="Rectangle 4"/>
          <p:cNvSpPr/>
          <p:nvPr/>
        </p:nvSpPr>
        <p:spPr>
          <a:xfrm>
            <a:off x="1676520" y="1523880"/>
            <a:ext cx="64767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ACC-38CF-4A4C-9041-A5A4ADE2477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838080" y="2708280"/>
                <a:ext cx="6400800" cy="34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pezoid  method  to  comput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9" name=""/>
          <p:cNvGraphicFramePr/>
          <p:nvPr/>
        </p:nvGraphicFramePr>
        <p:xfrm>
          <a:off x="914400" y="1600200"/>
          <a:ext cx="7467480" cy="1035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BB42-D8A8-4EEB-8038-34CDF5A6974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85800" y="3200400"/>
                <a:ext cx="754380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914400" y="1752480"/>
          <a:ext cx="7467480" cy="9144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E785-5F5B-4AF1-B02D-2E73136B3D1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952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54100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41008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6019920" y="5562720"/>
                <a:ext cx="2438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Freeform 7"/>
          <p:cNvSpPr/>
          <p:nvPr/>
        </p:nvSpPr>
        <p:spPr>
          <a:xfrm>
            <a:off x="579132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8"/>
          <p:cNvSpPr/>
          <p:nvPr/>
        </p:nvSpPr>
        <p:spPr>
          <a:xfrm flipV="1">
            <a:off x="609588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9"/>
          <p:cNvSpPr/>
          <p:nvPr/>
        </p:nvSpPr>
        <p:spPr>
          <a:xfrm flipV="1">
            <a:off x="800100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10"/>
          <p:cNvSpPr/>
          <p:nvPr/>
        </p:nvSpPr>
        <p:spPr>
          <a:xfrm flipV="1">
            <a:off x="6095880" y="304776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6095880" y="4114800"/>
            <a:ext cx="1905120" cy="12193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AutoShape 12"/>
          <p:cNvSpPr/>
          <p:nvPr/>
        </p:nvSpPr>
        <p:spPr>
          <a:xfrm flipH="1">
            <a:off x="6095880" y="3048120"/>
            <a:ext cx="1905120" cy="10666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3"/>
              <p:cNvSpPr txBox="1"/>
              <p:nvPr/>
            </p:nvSpPr>
            <p:spPr>
              <a:xfrm>
                <a:off x="520560" y="1676520"/>
                <a:ext cx="4391280" cy="22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sed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rval: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5441-7332-4E56-9E72-C54C7EFD95F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952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4"/>
          <p:cNvSpPr/>
          <p:nvPr/>
        </p:nvSpPr>
        <p:spPr>
          <a:xfrm flipV="1">
            <a:off x="54100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541008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6019920" y="5511960"/>
                <a:ext cx="26668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Freeform 7"/>
          <p:cNvSpPr/>
          <p:nvPr/>
        </p:nvSpPr>
        <p:spPr>
          <a:xfrm>
            <a:off x="579132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8"/>
          <p:cNvSpPr/>
          <p:nvPr/>
        </p:nvSpPr>
        <p:spPr>
          <a:xfrm flipV="1">
            <a:off x="609588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9"/>
          <p:cNvSpPr/>
          <p:nvPr/>
        </p:nvSpPr>
        <p:spPr>
          <a:xfrm flipV="1">
            <a:off x="708660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10"/>
          <p:cNvSpPr/>
          <p:nvPr/>
        </p:nvSpPr>
        <p:spPr>
          <a:xfrm flipV="1">
            <a:off x="6095880" y="3352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7086600" y="3352680"/>
            <a:ext cx="1143000" cy="198144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095880" y="4114800"/>
            <a:ext cx="990720" cy="12193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13"/>
          <p:cNvSpPr/>
          <p:nvPr/>
        </p:nvSpPr>
        <p:spPr>
          <a:xfrm flipH="1">
            <a:off x="6095880" y="3352680"/>
            <a:ext cx="990720" cy="76212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565200" y="1763640"/>
                <a:ext cx="4738680" cy="38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  based  on  2  intervals: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Text Box 15"/>
          <p:cNvSpPr/>
          <p:nvPr/>
        </p:nvSpPr>
        <p:spPr>
          <a:xfrm>
            <a:off x="1066680" y="5486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ased on previous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Based on new poi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6"/>
          <p:cNvSpPr/>
          <p:nvPr/>
        </p:nvSpPr>
        <p:spPr>
          <a:xfrm flipV="1">
            <a:off x="2209680" y="51055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7"/>
          <p:cNvSpPr/>
          <p:nvPr/>
        </p:nvSpPr>
        <p:spPr>
          <a:xfrm flipH="1" flipV="1">
            <a:off x="3733920" y="5105520"/>
            <a:ext cx="1371600" cy="83808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161-A770-407F-BF37-DA7D1E1F2DF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952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4"/>
          <p:cNvSpPr/>
          <p:nvPr/>
        </p:nvSpPr>
        <p:spPr>
          <a:xfrm flipV="1">
            <a:off x="541008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5410080" y="5181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reeform 6"/>
          <p:cNvSpPr/>
          <p:nvPr/>
        </p:nvSpPr>
        <p:spPr>
          <a:xfrm>
            <a:off x="5791320" y="2730600"/>
            <a:ext cx="3276360" cy="144756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7"/>
          <p:cNvSpPr/>
          <p:nvPr/>
        </p:nvSpPr>
        <p:spPr>
          <a:xfrm flipV="1">
            <a:off x="6095880" y="3962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8"/>
          <p:cNvSpPr/>
          <p:nvPr/>
        </p:nvSpPr>
        <p:spPr>
          <a:xfrm flipV="1">
            <a:off x="7086600" y="32000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9"/>
          <p:cNvSpPr/>
          <p:nvPr/>
        </p:nvSpPr>
        <p:spPr>
          <a:xfrm flipV="1">
            <a:off x="6553080" y="3200040"/>
            <a:ext cx="5335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7086600" y="3200400"/>
            <a:ext cx="60948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6095880" y="3962520"/>
            <a:ext cx="457200" cy="12189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12"/>
          <p:cNvSpPr/>
          <p:nvPr/>
        </p:nvSpPr>
        <p:spPr>
          <a:xfrm flipH="1">
            <a:off x="6553080" y="3200400"/>
            <a:ext cx="533520" cy="76212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533520" y="2027160"/>
                <a:ext cx="468468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]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Rectangle 14"/>
          <p:cNvSpPr/>
          <p:nvPr/>
        </p:nvSpPr>
        <p:spPr>
          <a:xfrm>
            <a:off x="6553080" y="3962520"/>
            <a:ext cx="533520" cy="12189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6553080" y="3962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6"/>
          <p:cNvSpPr/>
          <p:nvPr/>
        </p:nvSpPr>
        <p:spPr>
          <a:xfrm>
            <a:off x="6095880" y="3962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17"/>
          <p:cNvSpPr/>
          <p:nvPr/>
        </p:nvSpPr>
        <p:spPr>
          <a:xfrm flipH="1">
            <a:off x="7085880" y="2819520"/>
            <a:ext cx="609480" cy="3808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8"/>
          <p:cNvSpPr/>
          <p:nvPr/>
        </p:nvSpPr>
        <p:spPr>
          <a:xfrm flipV="1">
            <a:off x="7086600" y="281952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7696080" y="3276720"/>
            <a:ext cx="609840" cy="19047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20"/>
          <p:cNvSpPr/>
          <p:nvPr/>
        </p:nvSpPr>
        <p:spPr>
          <a:xfrm>
            <a:off x="7696080" y="2819520"/>
            <a:ext cx="533520" cy="45720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7696080" y="281952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7696080" y="2819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830592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4"/>
              <p:cNvSpPr txBox="1"/>
              <p:nvPr/>
            </p:nvSpPr>
            <p:spPr>
              <a:xfrm>
                <a:off x="5958000" y="5359320"/>
                <a:ext cx="2792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5"/>
          <p:cNvSpPr/>
          <p:nvPr/>
        </p:nvSpPr>
        <p:spPr>
          <a:xfrm flipV="1">
            <a:off x="1905120" y="50292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26"/>
          <p:cNvSpPr/>
          <p:nvPr/>
        </p:nvSpPr>
        <p:spPr>
          <a:xfrm flipH="1" flipV="1">
            <a:off x="3581280" y="5029200"/>
            <a:ext cx="1371600" cy="83808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762120" y="5486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ased on previous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Based on new poi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46E-5E83-4C37-9D32-CC3CC55F56E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br>
              <a:rPr sz="4400"/>
            </a:br>
            <a:r>
              <a:rPr b="1" lang="en-US" sz="3700" spc="-1" strike="noStrike">
                <a:solidFill>
                  <a:srgbClr val="999900"/>
                </a:solidFill>
                <a:latin typeface="Garamond"/>
              </a:rPr>
              <a:t>Formulas</a:t>
            </a:r>
            <a:endParaRPr b="0" lang="en-US" sz="37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838080" y="1828800"/>
                <a:ext cx="754380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B20-75F8-4D02-A338-A5428460A22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g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5238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definite Integ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Verdana"/>
              </a:rPr>
              <a:t>Indefinite Integrals of a function ar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Verdana"/>
              </a:rPr>
              <a:t>functions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Verdana"/>
              </a:rPr>
              <a:t>that differ from each other by a consta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295280" y="2514600"/>
                <a:ext cx="199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Rectangle 5"/>
          <p:cNvSpPr/>
          <p:nvPr/>
        </p:nvSpPr>
        <p:spPr>
          <a:xfrm>
            <a:off x="4800600" y="1523880"/>
            <a:ext cx="396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finite Integ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Definite Integrals 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5410080" y="2438280"/>
                <a:ext cx="21560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Line 7"/>
          <p:cNvSpPr/>
          <p:nvPr/>
        </p:nvSpPr>
        <p:spPr>
          <a:xfrm>
            <a:off x="4648320" y="18288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9436-C0CA-4693-BFD7-0723E393F8F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838080" y="1752480"/>
                <a:ext cx="6477120" cy="454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3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on Recursive Trapezo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202-4289-402C-941A-C6F52A557E3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09480" y="1600200"/>
                <a:ext cx="68788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ursive Trapezoid  method  to  estimat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y computing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,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n estimate the err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80" name=""/>
          <p:cNvGraphicFramePr/>
          <p:nvPr/>
        </p:nvGraphicFramePr>
        <p:xfrm>
          <a:off x="609480" y="3276720"/>
          <a:ext cx="7925040" cy="2062080"/>
        </p:xfrm>
        <a:graphic>
          <a:graphicData uri="http://schemas.openxmlformats.org/drawingml/2006/table">
            <a:tbl>
              <a:tblPr/>
              <a:tblGrid>
                <a:gridCol w="381240"/>
                <a:gridCol w="1600200"/>
                <a:gridCol w="59436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(n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[sin(0) + 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2)]=0.7853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2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0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 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 = 0.948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4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1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[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+sin(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] = 0.987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8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2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[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sin(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sin(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 sin(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] = 0.9967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  <p:sp>
        <p:nvSpPr>
          <p:cNvPr id="381" name="TextBox 9"/>
          <p:cNvSpPr/>
          <p:nvPr/>
        </p:nvSpPr>
        <p:spPr>
          <a:xfrm>
            <a:off x="762120" y="5562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imated Error = |R(3,0) – R(2,0)| = 0.0096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269D-649B-4315-9D80-EBFA0543BA9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dvantages of Recursive Trapezoi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 Trapezo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same answer as the standard Trapezoid metho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use of the available information to reduce the computation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ful if the number of iterations is not known in adv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07EA-7736-4754-8DAC-555133E03D5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Fundamental Theorem of Calculu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469800" y="1447920"/>
                <a:ext cx="6688080" cy="46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is continuous on an interval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is antiderivative of f 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'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re is no antiderivative for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osed form solution for: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Rectangle 4"/>
          <p:cNvSpPr/>
          <p:nvPr/>
        </p:nvSpPr>
        <p:spPr>
          <a:xfrm>
            <a:off x="480960" y="2590920"/>
            <a:ext cx="4014720" cy="99036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219320" y="251460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4933-C10B-46DB-ABE2-6E70BBAB6A8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he Area Under the Cur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5645160" y="4897440"/>
                <a:ext cx="24271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Text Box 4"/>
          <p:cNvSpPr/>
          <p:nvPr/>
        </p:nvSpPr>
        <p:spPr>
          <a:xfrm>
            <a:off x="533520" y="17524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terpretation of the definite integral 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 = area under th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5248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0040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73392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1066680" y="29714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066680" y="5943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981080" y="4495680"/>
            <a:ext cx="1295640" cy="1447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1981080" y="4267080"/>
            <a:ext cx="1295640" cy="4572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2"/>
          <p:cNvSpPr/>
          <p:nvPr/>
        </p:nvSpPr>
        <p:spPr>
          <a:xfrm rot="240600">
            <a:off x="1444320" y="4265640"/>
            <a:ext cx="3124080" cy="128268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968" h="856">
                <a:moveTo>
                  <a:pt x="0" y="856"/>
                </a:moveTo>
                <a:cubicBezTo>
                  <a:pt x="112" y="564"/>
                  <a:pt x="224" y="272"/>
                  <a:pt x="384" y="136"/>
                </a:cubicBezTo>
                <a:cubicBezTo>
                  <a:pt x="544" y="0"/>
                  <a:pt x="800" y="16"/>
                  <a:pt x="960" y="40"/>
                </a:cubicBezTo>
                <a:cubicBezTo>
                  <a:pt x="1120" y="64"/>
                  <a:pt x="1232" y="208"/>
                  <a:pt x="1344" y="280"/>
                </a:cubicBezTo>
                <a:cubicBezTo>
                  <a:pt x="1456" y="352"/>
                  <a:pt x="1528" y="456"/>
                  <a:pt x="1632" y="472"/>
                </a:cubicBezTo>
                <a:cubicBezTo>
                  <a:pt x="1736" y="488"/>
                  <a:pt x="1912" y="392"/>
                  <a:pt x="1968" y="376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97180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995-CFCB-4B24-AA2B-CA5C22A44DC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19920" y="59436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4380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562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5334120" y="25142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5334120" y="5486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172200" y="4419720"/>
            <a:ext cx="533520" cy="10666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705720" y="4267080"/>
            <a:ext cx="457200" cy="121932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172200" y="4267080"/>
            <a:ext cx="533520" cy="1526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486400" y="3200400"/>
            <a:ext cx="2819520" cy="12193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344" h="528">
                <a:moveTo>
                  <a:pt x="0" y="192"/>
                </a:moveTo>
                <a:cubicBezTo>
                  <a:pt x="180" y="360"/>
                  <a:pt x="360" y="528"/>
                  <a:pt x="480" y="528"/>
                </a:cubicBezTo>
                <a:cubicBezTo>
                  <a:pt x="600" y="528"/>
                  <a:pt x="648" y="280"/>
                  <a:pt x="720" y="192"/>
                </a:cubicBezTo>
                <a:cubicBezTo>
                  <a:pt x="792" y="104"/>
                  <a:pt x="832" y="0"/>
                  <a:pt x="912" y="0"/>
                </a:cubicBezTo>
                <a:cubicBezTo>
                  <a:pt x="992" y="0"/>
                  <a:pt x="1128" y="136"/>
                  <a:pt x="1200" y="192"/>
                </a:cubicBezTo>
                <a:cubicBezTo>
                  <a:pt x="1272" y="248"/>
                  <a:pt x="1308" y="292"/>
                  <a:pt x="1344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705720" y="3429000"/>
            <a:ext cx="457200" cy="8380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162920" y="3429000"/>
            <a:ext cx="457200" cy="20574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162920" y="3200400"/>
            <a:ext cx="457200" cy="2286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5"/>
              <p:cNvSpPr txBox="1"/>
              <p:nvPr/>
            </p:nvSpPr>
            <p:spPr>
              <a:xfrm>
                <a:off x="6019920" y="5562720"/>
                <a:ext cx="2133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380880" y="2133720"/>
                <a:ext cx="45720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Text Box 17"/>
          <p:cNvSpPr/>
          <p:nvPr/>
        </p:nvSpPr>
        <p:spPr>
          <a:xfrm>
            <a:off x="380880" y="167652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al is divided into subinterva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457200" y="5029200"/>
            <a:ext cx="1219320" cy="1522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457200" y="5791320"/>
            <a:ext cx="1219320" cy="1522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57200" y="5943600"/>
            <a:ext cx="1219320" cy="1522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760-A25F-499A-912E-214D7EF65D2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019920" y="60199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5438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5627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533412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5334120" y="5410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172200" y="4343400"/>
            <a:ext cx="533520" cy="10666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705720" y="4191120"/>
            <a:ext cx="457200" cy="12189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172200" y="4191120"/>
            <a:ext cx="533520" cy="1522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5486400" y="3154320"/>
            <a:ext cx="2819520" cy="1189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89080"/>
              <a:gd name="textAreaBottom" fmla="*/ 1189080 h 1189080"/>
            </a:gdLst>
            <a:ahLst/>
            <a:rect l="textAreaLeft" t="textAreaTop" r="textAreaRight" b="textAreaBottom"/>
            <a:pathLst>
              <a:path w="1776" h="749">
                <a:moveTo>
                  <a:pt x="0" y="260"/>
                </a:moveTo>
                <a:cubicBezTo>
                  <a:pt x="238" y="505"/>
                  <a:pt x="476" y="749"/>
                  <a:pt x="634" y="749"/>
                </a:cubicBezTo>
                <a:cubicBezTo>
                  <a:pt x="793" y="749"/>
                  <a:pt x="849" y="385"/>
                  <a:pt x="951" y="260"/>
                </a:cubicBezTo>
                <a:cubicBezTo>
                  <a:pt x="1053" y="135"/>
                  <a:pt x="1142" y="0"/>
                  <a:pt x="1248" y="0"/>
                </a:cubicBezTo>
                <a:cubicBezTo>
                  <a:pt x="1354" y="0"/>
                  <a:pt x="1498" y="182"/>
                  <a:pt x="1586" y="260"/>
                </a:cubicBezTo>
                <a:cubicBezTo>
                  <a:pt x="1674" y="338"/>
                  <a:pt x="1728" y="406"/>
                  <a:pt x="1776" y="4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705720" y="3352680"/>
            <a:ext cx="457200" cy="838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162920" y="3352680"/>
            <a:ext cx="457200" cy="20574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162920" y="3124080"/>
            <a:ext cx="457200" cy="2286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6019920" y="5486400"/>
                <a:ext cx="2133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457200" y="2057400"/>
                <a:ext cx="4092480" cy="32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 of the integral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Rectangle 17"/>
          <p:cNvSpPr/>
          <p:nvPr/>
        </p:nvSpPr>
        <p:spPr>
          <a:xfrm>
            <a:off x="457200" y="2590920"/>
            <a:ext cx="1219320" cy="533160"/>
          </a:xfrm>
          <a:prstGeom prst="rect">
            <a:avLst/>
          </a:prstGeom>
          <a:solidFill>
            <a:srgbClr val="99cc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57200" y="3352680"/>
            <a:ext cx="1219320" cy="304920"/>
          </a:xfrm>
          <a:prstGeom prst="rect">
            <a:avLst/>
          </a:prstGeom>
          <a:solidFill>
            <a:srgbClr val="993366">
              <a:alpha val="32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57200" y="3657600"/>
            <a:ext cx="1219320" cy="304920"/>
          </a:xfrm>
          <a:prstGeom prst="rect">
            <a:avLst/>
          </a:prstGeom>
          <a:solidFill>
            <a:srgbClr val="99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D807-878F-45B4-ACAF-470C634E3B7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Line 3"/>
          <p:cNvSpPr/>
          <p:nvPr/>
        </p:nvSpPr>
        <p:spPr>
          <a:xfrm flipV="1">
            <a:off x="594360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5943600" y="5257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5943600" y="5334120"/>
                <a:ext cx="2484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Freeform 6"/>
          <p:cNvSpPr/>
          <p:nvPr/>
        </p:nvSpPr>
        <p:spPr>
          <a:xfrm>
            <a:off x="5943600" y="342900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296" h="1104">
                <a:moveTo>
                  <a:pt x="0" y="1104"/>
                </a:moveTo>
                <a:cubicBezTo>
                  <a:pt x="116" y="1076"/>
                  <a:pt x="232" y="1048"/>
                  <a:pt x="336" y="1008"/>
                </a:cubicBezTo>
                <a:cubicBezTo>
                  <a:pt x="440" y="968"/>
                  <a:pt x="520" y="936"/>
                  <a:pt x="624" y="864"/>
                </a:cubicBezTo>
                <a:cubicBezTo>
                  <a:pt x="728" y="792"/>
                  <a:pt x="848" y="720"/>
                  <a:pt x="960" y="576"/>
                </a:cubicBezTo>
                <a:cubicBezTo>
                  <a:pt x="1072" y="432"/>
                  <a:pt x="1240" y="9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 flipV="1">
            <a:off x="6477120" y="5104800"/>
            <a:ext cx="533160" cy="15228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010280" y="4800600"/>
            <a:ext cx="533520" cy="4572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543800" y="4343400"/>
            <a:ext cx="533520" cy="9144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 flipV="1">
            <a:off x="5943600" y="5104800"/>
            <a:ext cx="533520" cy="15228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6477120" y="4800600"/>
            <a:ext cx="533160" cy="30492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010280" y="4343400"/>
            <a:ext cx="533520" cy="4572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7543800" y="3429000"/>
            <a:ext cx="533520" cy="9144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54200" y="1554120"/>
                <a:ext cx="4808520" cy="446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our  equal  interval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53A6-05EB-41BE-8EC6-B0031C384CD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Line 3"/>
          <p:cNvSpPr/>
          <p:nvPr/>
        </p:nvSpPr>
        <p:spPr>
          <a:xfrm flipV="1">
            <a:off x="5486400" y="2971440"/>
            <a:ext cx="1440" cy="24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5637240" y="5410080"/>
            <a:ext cx="327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5545080" y="5540400"/>
                <a:ext cx="2273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609480" y="15238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ra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Freeform 7"/>
          <p:cNvSpPr/>
          <p:nvPr/>
        </p:nvSpPr>
        <p:spPr>
          <a:xfrm>
            <a:off x="5486400" y="3905280"/>
            <a:ext cx="1981080" cy="1495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1248" h="942">
                <a:moveTo>
                  <a:pt x="0" y="942"/>
                </a:moveTo>
                <a:cubicBezTo>
                  <a:pt x="54" y="930"/>
                  <a:pt x="218" y="902"/>
                  <a:pt x="323" y="861"/>
                </a:cubicBezTo>
                <a:cubicBezTo>
                  <a:pt x="429" y="821"/>
                  <a:pt x="531" y="767"/>
                  <a:pt x="635" y="700"/>
                </a:cubicBezTo>
                <a:cubicBezTo>
                  <a:pt x="738" y="633"/>
                  <a:pt x="847" y="575"/>
                  <a:pt x="949" y="458"/>
                </a:cubicBezTo>
                <a:cubicBezTo>
                  <a:pt x="1051" y="341"/>
                  <a:pt x="1186" y="95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 flipV="1">
            <a:off x="5987880" y="5257080"/>
            <a:ext cx="489240" cy="15228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477120" y="5033880"/>
            <a:ext cx="488880" cy="3762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6978600" y="4657680"/>
            <a:ext cx="488880" cy="7524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1"/>
          <p:cNvSpPr/>
          <p:nvPr/>
        </p:nvSpPr>
        <p:spPr>
          <a:xfrm flipV="1">
            <a:off x="5486400" y="5284800"/>
            <a:ext cx="488880" cy="12528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987880" y="5029200"/>
            <a:ext cx="489240" cy="2286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477120" y="4653000"/>
            <a:ext cx="488880" cy="3762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978600" y="3895560"/>
            <a:ext cx="488880" cy="75276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533520" y="2971800"/>
            <a:ext cx="4190760" cy="144792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533520" y="1523880"/>
            <a:ext cx="4190760" cy="144792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mudawar</dc:creator>
  <dc:description/>
  <dc:language>en-US</dc:language>
  <cp:lastModifiedBy>PHILIPS</cp:lastModifiedBy>
  <dcterms:modified xsi:type="dcterms:W3CDTF">2016-04-18T06:27:23Z</dcterms:modified>
  <cp:revision>204</cp:revision>
  <dc:subject/>
  <dc:title>Slide 1</dc:title>
</cp:coreProperties>
</file>