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037-A698-4C80-9119-99D58D8E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4F8-0284-4705-9DFC-D0B7E19B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6C1-308D-44FB-99C0-EE9D6B2A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5F3-8C9A-478E-BF9C-75ED1F5D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81D48-A887-4A76-8031-946DFE3A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49FAA-89CB-4A92-9ABE-77DFF077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C2F5C-BA85-47EC-9722-18737EBF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B8061-8B99-4570-8A4A-6E067401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394C5-4BCC-4498-8F8B-B3912A43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38A6C-632F-4F47-9D2E-8C043C0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FEFD-0199-491C-BAA9-BA47994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22E-0034-4223-8D06-B9BED384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0FDE3-ACE5-4C36-8669-A49C5151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467D1-D677-46CB-8606-95C2769A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6FE01-FC99-4CC5-B388-B3744EA7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91BB6-8A73-47AC-A9B6-6759E97E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2896C-7A1C-4EE4-AEC8-5F8CBED4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D4F0-A0E1-491E-8A57-65BC1E53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F591-6020-4950-AC3A-8CEAFE12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83FA-A109-4626-B904-1E7055D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E895D-AF11-4A76-8669-891DD206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E251-7C92-4916-9921-D79043EE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EE1-2E9E-4BB5-AD18-2329DB2C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CEC15-BEE6-4B3C-BB9E-7D0EED9A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4366-BDA4-418A-A768-0D7436E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867D-B10B-4F0E-B8F5-D1A2573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D028-7783-4DB6-BCA0-9143314F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16F6-146E-4444-803E-72A374D6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80B8-D8D0-4EEA-A2EB-727844F2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A607-E2B2-495C-ABA9-ED785504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185C4-B77C-4D02-A7C5-407349F2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6FCF8-F926-4971-942C-DF01F573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D1935-21C3-40F7-B12F-F1F57045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354-9774-482B-8248-3FB7FE42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97AEE-A940-4175-95C0-D3E6FD64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A1CEA-A06C-40F5-8810-EDCA3DEC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C1D798-8343-4249-B96A-83FEC81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28B6B-C4C6-4170-B2C2-8DC56E2D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5C731-796C-483A-9502-B292F4E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4FCC2-6665-4114-BD30-77339FC1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3E969-A01A-4C11-ABFB-4A666260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CC704-70E9-4930-8F9F-4AF363E7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87D04-5BDB-4357-B9D2-DBD44A77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38B-826C-495A-9571-60A672A3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74B-C967-4462-AB70-956657F7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EA0-998F-46ED-8D82-64DA64C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5A8-6081-4828-953A-330CECB2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4C5-5227-4C81-9AC1-2A7B512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A337-A847-4402-9775-A1EF5DAB7BB4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رابط مستقيم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رابط مستقيم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شكل بيضاوي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B8AF-B425-485F-9F3E-C3BD8FF7E378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رابط مستقيم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C54-1F05-4F10-8A56-A9408431C7BC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رابط مستقيم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رابط مستقيم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465-EFB1-4A9A-91A4-F2D8FDE63457}" type="slidenum">
              <a:rPr b="0" lang="ar-SA" sz="16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ac9"/>
                </a:solidFill>
                <a:latin typeface="Constantia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onstantia"/>
              </a:rPr>
              <a:t>NUR 42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عنوان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d0d0d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57200" y="1785960"/>
          <a:ext cx="6572520" cy="2803680"/>
        </p:xfrm>
        <a:graphic>
          <a:graphicData uri="http://schemas.openxmlformats.org/drawingml/2006/table">
            <a:tbl>
              <a:tblPr/>
              <a:tblGrid>
                <a:gridCol w="3286080"/>
                <a:gridCol w="328644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ize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12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1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ren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 10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ant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9ec2"/>
                      </a:solidFill>
                    </a:lnL>
                    <a:lnR>
                      <a:noFill/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#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#8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809ec2"/>
                      </a:solidFill>
                    </a:lnR>
                    <a:lnT w="5760">
                      <a:solidFill>
                        <a:srgbClr val="809ec2"/>
                      </a:solidFill>
                    </a:lnT>
                    <a:lnB w="5760">
                      <a:solidFill>
                        <a:srgbClr val="809ec2"/>
                      </a:solidFill>
                    </a:lnB>
                    <a:solidFill>
                      <a:srgbClr val="edf0f4"/>
                    </a:solidFill>
                  </a:tcPr>
                </a:tc>
              </a:tr>
            </a:tbl>
          </a:graphicData>
        </a:graphic>
      </p:graphicFrame>
      <p:sp>
        <p:nvSpPr>
          <p:cNvPr id="209" name="مستطيل 4"/>
          <p:cNvSpPr/>
          <p:nvPr/>
        </p:nvSpPr>
        <p:spPr>
          <a:xfrm>
            <a:off x="642960" y="49291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Half the diameter (or less) of the tracheal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شكل بيضاوي 5"/>
          <p:cNvSpPr/>
          <p:nvPr/>
        </p:nvSpPr>
        <p:spPr>
          <a:xfrm>
            <a:off x="500040" y="214200"/>
            <a:ext cx="81439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Choosing the Right Size Catheter</a:t>
            </a: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52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ow types of suctioning cathete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Whistle – tipped catheter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Open – tipped catheter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00040" y="3857760"/>
          <a:ext cx="8358120" cy="1768320"/>
        </p:xfrm>
        <a:graphic>
          <a:graphicData uri="http://schemas.openxmlformats.org/drawingml/2006/table">
            <a:tbl>
              <a:tblPr/>
              <a:tblGrid>
                <a:gridCol w="4178160"/>
                <a:gridCol w="417996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whistle – tipped catheter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open – tipped catheter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ss irritate the airway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re effective for removing thick mucus plug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14" name="شكل بيضاوي 4"/>
          <p:cNvSpPr/>
          <p:nvPr/>
        </p:nvSpPr>
        <p:spPr>
          <a:xfrm>
            <a:off x="500040" y="214200"/>
            <a:ext cx="81439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Choosing the Right Size Catheter  Cont</a:t>
            </a:r>
            <a:r>
              <a:rPr b="1" lang="en-US" sz="3200" spc="-1" strike="noStrike">
                <a:solidFill>
                  <a:srgbClr val="0d0d0d"/>
                </a:solidFill>
                <a:latin typeface="Constantia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عنصر نائب للمحتوى 3" descr="whistle – tipped catheter.jpg"/>
          <p:cNvPicPr/>
          <p:nvPr/>
        </p:nvPicPr>
        <p:blipFill>
          <a:blip r:embed="rId1"/>
          <a:stretch/>
        </p:blipFill>
        <p:spPr>
          <a:xfrm>
            <a:off x="785880" y="121428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216" name="عنصر نائب للمحتوى 6" descr="open – tipped catheter.jpg"/>
          <p:cNvPicPr/>
          <p:nvPr/>
        </p:nvPicPr>
        <p:blipFill>
          <a:blip r:embed="rId2"/>
          <a:stretch/>
        </p:blipFill>
        <p:spPr>
          <a:xfrm>
            <a:off x="4929120" y="121428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28760" y="3286080"/>
          <a:ext cx="8165880" cy="3352680"/>
        </p:xfrm>
        <a:graphic>
          <a:graphicData uri="http://schemas.openxmlformats.org/drawingml/2006/table">
            <a:tbl>
              <a:tblPr/>
              <a:tblGrid>
                <a:gridCol w="1752480"/>
                <a:gridCol w="3076560"/>
                <a:gridCol w="3336840"/>
              </a:tblGrid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all Uni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rtable Unit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to 120 mm Hg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5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10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10 mm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ef1"/>
                    </a:solidFill>
                  </a:tcPr>
                </a:tc>
              </a:tr>
              <a:tr h="94716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a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95 mm H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 5 mm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d0d0d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3071880" cy="2027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5357880" y="1214280"/>
            <a:ext cx="3286080" cy="2000520"/>
          </a:xfrm>
          <a:prstGeom prst="rect">
            <a:avLst/>
          </a:prstGeom>
          <a:ln w="0">
            <a:noFill/>
          </a:ln>
        </p:spPr>
      </p:pic>
      <p:sp>
        <p:nvSpPr>
          <p:cNvPr id="221" name="شكل بيضاوي 5"/>
          <p:cNvSpPr/>
          <p:nvPr/>
        </p:nvSpPr>
        <p:spPr>
          <a:xfrm>
            <a:off x="642960" y="0"/>
            <a:ext cx="7786800" cy="107172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Constantia"/>
              </a:rPr>
              <a:t>Setting the Correct Pressure</a:t>
            </a:r>
            <a:r>
              <a:rPr b="0" lang="en-US" sz="36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شكل بيضاوي 1"/>
          <p:cNvSpPr/>
          <p:nvPr/>
        </p:nvSpPr>
        <p:spPr>
          <a:xfrm>
            <a:off x="1785960" y="357120"/>
            <a:ext cx="5000760" cy="85716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وسيلة شرح مع سهم إلى اليمين 2"/>
          <p:cNvSpPr/>
          <p:nvPr/>
        </p:nvSpPr>
        <p:spPr>
          <a:xfrm>
            <a:off x="214200" y="1500120"/>
            <a:ext cx="1285920" cy="4786560"/>
          </a:xfrm>
          <a:prstGeom prst="rightArrowCallout">
            <a:avLst>
              <a:gd name="adj1" fmla="val 24990"/>
              <a:gd name="adj2" fmla="val 25005"/>
              <a:gd name="adj3" fmla="val 25000"/>
              <a:gd name="adj4" fmla="val 6497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مستطيل مستدير الزوايا 3"/>
          <p:cNvSpPr/>
          <p:nvPr/>
        </p:nvSpPr>
        <p:spPr>
          <a:xfrm>
            <a:off x="1571760" y="1428840"/>
            <a:ext cx="7286400" cy="4929120"/>
          </a:xfrm>
          <a:prstGeom prst="roundRect">
            <a:avLst>
              <a:gd name="adj" fmla="val 16667"/>
            </a:avLst>
          </a:prstGeom>
          <a:solidFill>
            <a:srgbClr val="b3c5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- Towel or moisture – resistant pa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2- Portable or wall suctioning machine with tubing and collection recep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3- sterile deposable container for fluid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4- Sterile normal saline or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وسيلة شرح مع سهم إلى اليمين 1"/>
          <p:cNvSpPr/>
          <p:nvPr/>
        </p:nvSpPr>
        <p:spPr>
          <a:xfrm>
            <a:off x="214200" y="1500120"/>
            <a:ext cx="1285920" cy="4786560"/>
          </a:xfrm>
          <a:prstGeom prst="rightArrowCallout">
            <a:avLst>
              <a:gd name="adj1" fmla="val 24990"/>
              <a:gd name="adj2" fmla="val 25005"/>
              <a:gd name="adj3" fmla="val 25000"/>
              <a:gd name="adj4" fmla="val 6497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شكل بيضاوي 2"/>
          <p:cNvSpPr/>
          <p:nvPr/>
        </p:nvSpPr>
        <p:spPr>
          <a:xfrm>
            <a:off x="857160" y="357120"/>
            <a:ext cx="7215120" cy="85716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مستطيل مستدير الزوايا 3"/>
          <p:cNvSpPr/>
          <p:nvPr/>
        </p:nvSpPr>
        <p:spPr>
          <a:xfrm>
            <a:off x="1571760" y="1428840"/>
            <a:ext cx="7286400" cy="4929120"/>
          </a:xfrm>
          <a:prstGeom prst="roundRect">
            <a:avLst>
              <a:gd name="adj" fmla="val 16667"/>
            </a:avLst>
          </a:prstGeom>
          <a:solidFill>
            <a:srgbClr val="b3c5da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5- Sterile glov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6- Goggles or face shiel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7- Sterile Suction Catheter ki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8- Water – soluble lubrica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0- sterile gau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1- Moisture resistant disposable b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12- Sputum trap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position the patient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28760" y="2643120"/>
          <a:ext cx="8358120" cy="3641760"/>
        </p:xfrm>
        <a:graphic>
          <a:graphicData uri="http://schemas.openxmlformats.org/drawingml/2006/table">
            <a:tbl>
              <a:tblPr/>
              <a:tblGrid>
                <a:gridCol w="4179600"/>
                <a:gridCol w="41785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Conscious patient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Unconscious patient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50460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mi – Fowler’s position wi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ad turned to one side for oral suctioning 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 nasal suctioning with the neck hyperextended.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eral position and the patient facing you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30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صورة 1" descr="ty_zvfzfd.jpg"/>
          <p:cNvPicPr/>
          <p:nvPr/>
        </p:nvPicPr>
        <p:blipFill>
          <a:blip r:embed="rId1"/>
          <a:stretch/>
        </p:blipFill>
        <p:spPr>
          <a:xfrm>
            <a:off x="1071720" y="1143000"/>
            <a:ext cx="3071520" cy="4286160"/>
          </a:xfrm>
          <a:prstGeom prst="rect">
            <a:avLst/>
          </a:prstGeom>
          <a:ln w="0">
            <a:noFill/>
          </a:ln>
        </p:spPr>
      </p:pic>
      <p:pic>
        <p:nvPicPr>
          <p:cNvPr id="232" name="صورة 2" descr="oral suctioning position.jpg"/>
          <p:cNvPicPr/>
          <p:nvPr/>
        </p:nvPicPr>
        <p:blipFill>
          <a:blip r:embed="rId2"/>
          <a:stretch/>
        </p:blipFill>
        <p:spPr>
          <a:xfrm>
            <a:off x="5214960" y="1143000"/>
            <a:ext cx="3143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0004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prepare the equipmen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make approximate measure of the depth for the insertion of the catheter and test the equipmen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7- lubricate and introduce the cathete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عنوان 3" descr=""/>
          <p:cNvPicPr/>
          <p:nvPr/>
        </p:nvPicPr>
        <p:blipFill>
          <a:blip r:embed="rId1"/>
          <a:stretch/>
        </p:blipFill>
        <p:spPr>
          <a:xfrm>
            <a:off x="268200" y="195120"/>
            <a:ext cx="853452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شكل بيضاوي 1"/>
          <p:cNvSpPr/>
          <p:nvPr/>
        </p:nvSpPr>
        <p:spPr>
          <a:xfrm>
            <a:off x="571680" y="142920"/>
            <a:ext cx="8001000" cy="92880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شكل بيضاوي 2"/>
          <p:cNvSpPr/>
          <p:nvPr/>
        </p:nvSpPr>
        <p:spPr>
          <a:xfrm>
            <a:off x="285840" y="1214280"/>
            <a:ext cx="8429400" cy="12859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22261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613"/>
                </a:solidFill>
                <a:latin typeface="Constantia"/>
                <a:ea typeface="Arial"/>
              </a:rPr>
              <a:t> </a:t>
            </a:r>
            <a:r>
              <a:rPr b="0" lang="en-US" sz="3200" spc="-1" strike="noStrike">
                <a:solidFill>
                  <a:srgbClr val="222613"/>
                </a:solidFill>
                <a:latin typeface="Constantia"/>
                <a:ea typeface="Arial"/>
              </a:rPr>
              <a:t>For Oropharyngeal suctioning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مخطط انسيابي: بيانات 3"/>
          <p:cNvSpPr/>
          <p:nvPr/>
        </p:nvSpPr>
        <p:spPr>
          <a:xfrm>
            <a:off x="428760" y="2571840"/>
            <a:ext cx="7643520" cy="4000320"/>
          </a:xfrm>
          <a:prstGeom prst="flowChartInputOutpu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Pull the tongue forwar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Do not apply suction during inser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Advance the catheter about 10 to 15 cm along on side of the mouth into oropharyn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Definition of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Sites for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- Deferent between  oropharengyeal / nasopharyngeal suctioning and endotracheal / tracheostomy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Purposes for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Indications for suctioning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Choosing the right size cathet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عنوان 1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454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شكل بيضاوي 1"/>
          <p:cNvSpPr/>
          <p:nvPr/>
        </p:nvSpPr>
        <p:spPr>
          <a:xfrm>
            <a:off x="500040" y="214200"/>
            <a:ext cx="8143920" cy="928800"/>
          </a:xfrm>
          <a:prstGeom prst="ellipse">
            <a:avLst/>
          </a:prstGeom>
          <a:solidFill>
            <a:srgbClr val="d092a7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The procedure Cont</a:t>
            </a:r>
            <a:r>
              <a:rPr b="0" lang="en-US" sz="4200" spc="-1" strike="noStrike">
                <a:solidFill>
                  <a:srgbClr val="0d0d0d"/>
                </a:solidFill>
                <a:latin typeface="Constantia"/>
              </a:rPr>
              <a:t>’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شكل بيضاوي 2"/>
          <p:cNvSpPr/>
          <p:nvPr/>
        </p:nvSpPr>
        <p:spPr>
          <a:xfrm>
            <a:off x="571680" y="1285920"/>
            <a:ext cx="8072280" cy="1285920"/>
          </a:xfrm>
          <a:prstGeom prst="ellipse">
            <a:avLst/>
          </a:prstGeom>
          <a:solidFill>
            <a:srgbClr val="fcf059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  <a:ea typeface="Arial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Constantia"/>
                <a:ea typeface="Arial"/>
              </a:rPr>
              <a:t>For Nasopharyngeal s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مخطط انسيابي: بيانات 3"/>
          <p:cNvSpPr/>
          <p:nvPr/>
        </p:nvSpPr>
        <p:spPr>
          <a:xfrm>
            <a:off x="285840" y="2857680"/>
            <a:ext cx="7786440" cy="3571560"/>
          </a:xfrm>
          <a:prstGeom prst="flowChartInputOutpu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Advance the catheter along the nasal cavity with out sucti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  <a:ea typeface="Arial"/>
              </a:rPr>
              <a:t>Never force the catheter against an obstruc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85840" y="1523880"/>
            <a:ext cx="84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8- Perform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9-  clean the catheter and apply suction again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sp>
        <p:nvSpPr>
          <p:cNvPr id="243" name="مستطيل مستدير الزوايا 5"/>
          <p:cNvSpPr/>
          <p:nvPr/>
        </p:nvSpPr>
        <p:spPr>
          <a:xfrm>
            <a:off x="285840" y="3071880"/>
            <a:ext cx="8715240" cy="3571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Wipe off the catheter with sterile gauz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Flash the catheter with sterile water or sa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Relubricate the catheter and repeat suctioning until the air passage is clea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سهم للأسفل 6"/>
          <p:cNvSpPr/>
          <p:nvPr/>
        </p:nvSpPr>
        <p:spPr>
          <a:xfrm>
            <a:off x="4357800" y="2643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sp>
        <p:nvSpPr>
          <p:cNvPr id="246" name="مستطيل مستدير الزوايا 2"/>
          <p:cNvSpPr/>
          <p:nvPr/>
        </p:nvSpPr>
        <p:spPr>
          <a:xfrm>
            <a:off x="285840" y="1714680"/>
            <a:ext cx="8501040" cy="4572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Allow 20 t0 30 second intervals between each suction and limit suctioning to 5 minutes in total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Alternate nares for repeat suctio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Arial"/>
              </a:rPr>
              <a:t>Encourage the client to breath deeply and to cough between suctioning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 – Obtain specimen if required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promote the patient comfor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2- Dispose of equipment and ensure availability for the next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3- Assess the effectiveness of suctioning 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8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pic>
        <p:nvPicPr>
          <p:cNvPr id="249" name="صورة 4" descr="obtaine spaicemen.jpg"/>
          <p:cNvPicPr/>
          <p:nvPr/>
        </p:nvPicPr>
        <p:blipFill>
          <a:blip r:embed="rId2"/>
          <a:stretch/>
        </p:blipFill>
        <p:spPr>
          <a:xfrm>
            <a:off x="2786040" y="4286160"/>
            <a:ext cx="3571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promote the patient comfort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2- Dispose of equipment and ensure availability for the next suc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3- Assess the effectiveness of suctioning 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عنوان 3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81240"/>
          </a:xfrm>
          <a:prstGeom prst="rect">
            <a:avLst/>
          </a:prstGeom>
          <a:ln w="0">
            <a:noFill/>
          </a:ln>
        </p:spPr>
      </p:pic>
      <p:pic>
        <p:nvPicPr>
          <p:cNvPr id="252" name="صورة 4" descr="NASOPHARYNGEAL SUCTIONING.jpg"/>
          <p:cNvPicPr/>
          <p:nvPr/>
        </p:nvPicPr>
        <p:blipFill>
          <a:blip r:embed="rId2"/>
          <a:stretch/>
        </p:blipFill>
        <p:spPr>
          <a:xfrm>
            <a:off x="642960" y="3786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253" name="صورة 6" descr="OROPHARYNGEAL SUCTIONING.jpg"/>
          <p:cNvPicPr/>
          <p:nvPr/>
        </p:nvPicPr>
        <p:blipFill>
          <a:blip r:embed="rId3"/>
          <a:stretch/>
        </p:blipFill>
        <p:spPr>
          <a:xfrm>
            <a:off x="5000760" y="3786120"/>
            <a:ext cx="33573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شكل بيضاوي 1"/>
          <p:cNvSpPr/>
          <p:nvPr/>
        </p:nvSpPr>
        <p:spPr>
          <a:xfrm>
            <a:off x="571680" y="357120"/>
            <a:ext cx="7429320" cy="114300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nstantia"/>
              </a:rPr>
              <a:t>Documentation</a:t>
            </a:r>
            <a:r>
              <a:rPr b="0" lang="en-US" sz="40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خماسي 3"/>
          <p:cNvSpPr/>
          <p:nvPr/>
        </p:nvSpPr>
        <p:spPr>
          <a:xfrm>
            <a:off x="571680" y="2500200"/>
            <a:ext cx="2786040" cy="100008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3" y="0"/>
                </a:lnTo>
                <a:lnTo>
                  <a:pt x="21600" y="10800"/>
                </a:lnTo>
                <a:lnTo>
                  <a:pt x="177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Record the procedu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مستطيل مستدير الزوايا 4"/>
          <p:cNvSpPr/>
          <p:nvPr/>
        </p:nvSpPr>
        <p:spPr>
          <a:xfrm>
            <a:off x="3571920" y="1643040"/>
            <a:ext cx="5286240" cy="2786040"/>
          </a:xfrm>
          <a:prstGeom prst="roundRect">
            <a:avLst>
              <a:gd name="adj" fmla="val 16667"/>
            </a:avLst>
          </a:prstGeom>
          <a:solidFill>
            <a:srgbClr val="c9d3be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The amou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onsisten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olor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Odor of the mucu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lient breathing status before and af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مستطيل 5"/>
          <p:cNvSpPr/>
          <p:nvPr/>
        </p:nvSpPr>
        <p:spPr>
          <a:xfrm>
            <a:off x="500040" y="457200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If the technique is carried out frequently it may be appropriate to record only once , how ever the frequency of suctioning must be record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شكل بيضاوي 1"/>
          <p:cNvSpPr/>
          <p:nvPr/>
        </p:nvSpPr>
        <p:spPr>
          <a:xfrm>
            <a:off x="2571840" y="2643120"/>
            <a:ext cx="3929040" cy="1714680"/>
          </a:xfrm>
          <a:prstGeom prst="ellipse">
            <a:avLst/>
          </a:prstGeom>
          <a:solidFill>
            <a:srgbClr val="ff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Complications</a:t>
            </a:r>
            <a:r>
              <a:rPr b="0" lang="en-US" sz="3200" spc="-1" strike="noStrike">
                <a:solidFill>
                  <a:srgbClr val="0d0d0d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مستطيل مستدير الزوايا 2"/>
          <p:cNvSpPr/>
          <p:nvPr/>
        </p:nvSpPr>
        <p:spPr>
          <a:xfrm>
            <a:off x="5929200" y="357120"/>
            <a:ext cx="2643480" cy="25718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rauma to the airway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مستطيل مستدير الزوايا 3"/>
          <p:cNvSpPr/>
          <p:nvPr/>
        </p:nvSpPr>
        <p:spPr>
          <a:xfrm>
            <a:off x="285840" y="285840"/>
            <a:ext cx="2714400" cy="25718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ypoxemi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مستطيل مستدير الزوايا 4"/>
          <p:cNvSpPr/>
          <p:nvPr/>
        </p:nvSpPr>
        <p:spPr>
          <a:xfrm>
            <a:off x="6143760" y="4000680"/>
            <a:ext cx="2643120" cy="25714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ardiac dysrhythmi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مستطيل مستدير الزوايا 5"/>
          <p:cNvSpPr/>
          <p:nvPr/>
        </p:nvSpPr>
        <p:spPr>
          <a:xfrm>
            <a:off x="357120" y="4000680"/>
            <a:ext cx="2643120" cy="25714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osocomial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مستطيل مستدير الزوايا 3"/>
          <p:cNvSpPr/>
          <p:nvPr/>
        </p:nvSpPr>
        <p:spPr>
          <a:xfrm>
            <a:off x="285840" y="357120"/>
            <a:ext cx="8572320" cy="1285920"/>
          </a:xfrm>
          <a:prstGeom prst="roundRect">
            <a:avLst>
              <a:gd name="adj" fmla="val 16667"/>
            </a:avLst>
          </a:prstGeom>
          <a:solidFill>
            <a:srgbClr val="fdf69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76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Suction only as needed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sterile techniqu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- Hyperinfla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- Hyperoxygenation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safe catheter siz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No saline instill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عنوان 1" descr=""/>
          <p:cNvPicPr/>
          <p:nvPr/>
        </p:nvPicPr>
        <p:blipFill>
          <a:blip r:embed="rId1"/>
          <a:stretch/>
        </p:blipFill>
        <p:spPr>
          <a:xfrm>
            <a:off x="285840" y="158760"/>
            <a:ext cx="84438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2876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Thank you for your listening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68" name="وجه ضاحك 3"/>
          <p:cNvSpPr/>
          <p:nvPr/>
        </p:nvSpPr>
        <p:spPr>
          <a:xfrm>
            <a:off x="3286080" y="3857760"/>
            <a:ext cx="2786040" cy="2214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7- Setting the correct pressur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8- The procedure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9- Documentatio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0- Complications of suctioning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1- Techniques to minimize or decrease the complications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عنوان 2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454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شكل بيضاوي 1"/>
          <p:cNvGrpSpPr/>
          <p:nvPr/>
        </p:nvGrpSpPr>
        <p:grpSpPr>
          <a:xfrm>
            <a:off x="1322280" y="566640"/>
            <a:ext cx="6353280" cy="2036880"/>
            <a:chOff x="1322280" y="566640"/>
            <a:chExt cx="6353280" cy="2036880"/>
          </a:xfrm>
        </p:grpSpPr>
        <p:pic>
          <p:nvPicPr>
            <p:cNvPr id="177" name="شكل بيضاوي 1" descr=""/>
            <p:cNvPicPr/>
            <p:nvPr/>
          </p:nvPicPr>
          <p:blipFill>
            <a:blip r:embed="rId1"/>
            <a:stretch/>
          </p:blipFill>
          <p:spPr>
            <a:xfrm>
              <a:off x="1322280" y="566640"/>
              <a:ext cx="63532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328840" y="944640"/>
              <a:ext cx="434340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d0d0d"/>
                  </a:solidFill>
                  <a:latin typeface="Constantia"/>
                </a:rPr>
                <a:t>Suctioning Definition</a:t>
              </a:r>
              <a:r>
                <a:rPr b="0" lang="en-US" sz="4400" spc="-1" strike="noStrike">
                  <a:solidFill>
                    <a:srgbClr val="0d0d0d"/>
                  </a:solidFill>
                  <a:latin typeface="Constantia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سهم للأسفل 2"/>
          <p:cNvSpPr/>
          <p:nvPr/>
        </p:nvSpPr>
        <p:spPr>
          <a:xfrm>
            <a:off x="4429080" y="250020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مستطيل مستدير الزوايا 3"/>
          <p:cNvSpPr/>
          <p:nvPr/>
        </p:nvSpPr>
        <p:spPr>
          <a:xfrm>
            <a:off x="928800" y="3286080"/>
            <a:ext cx="7358040" cy="2286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spirating secretion through a catheter connected to a suction machine or wall suction out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مستطيل مستدير الزوايا 2"/>
          <p:cNvGrpSpPr/>
          <p:nvPr/>
        </p:nvGrpSpPr>
        <p:grpSpPr>
          <a:xfrm>
            <a:off x="2109960" y="2755800"/>
            <a:ext cx="5138640" cy="1560600"/>
            <a:chOff x="2109960" y="2755800"/>
            <a:chExt cx="5138640" cy="1560600"/>
          </a:xfrm>
        </p:grpSpPr>
        <p:pic>
          <p:nvPicPr>
            <p:cNvPr id="182" name="مستطيل مستدير الزوايا 2" descr=""/>
            <p:cNvPicPr/>
            <p:nvPr/>
          </p:nvPicPr>
          <p:blipFill>
            <a:blip r:embed="rId1"/>
            <a:stretch/>
          </p:blipFill>
          <p:spPr>
            <a:xfrm>
              <a:off x="2109960" y="2755800"/>
              <a:ext cx="51386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281320" y="2924280"/>
              <a:ext cx="47959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d0d0d"/>
                  </a:solidFill>
                  <a:latin typeface="Constantia"/>
                </a:rPr>
                <a:t>Sites for Suctioning</a:t>
              </a:r>
              <a:r>
                <a:rPr b="1" lang="en-US" sz="3200" spc="-1" strike="noStrike">
                  <a:solidFill>
                    <a:srgbClr val="0d0d0d"/>
                  </a:solidFill>
                  <a:latin typeface="Constantia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وسيلة شرح على شكل سحابة 3"/>
          <p:cNvSpPr/>
          <p:nvPr/>
        </p:nvSpPr>
        <p:spPr>
          <a:xfrm>
            <a:off x="4572000" y="785880"/>
            <a:ext cx="4429080" cy="1785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Oropharynge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وسيلة شرح على شكل سحابة 4"/>
          <p:cNvSpPr/>
          <p:nvPr/>
        </p:nvSpPr>
        <p:spPr>
          <a:xfrm>
            <a:off x="0" y="785880"/>
            <a:ext cx="4500720" cy="1857240"/>
          </a:xfrm>
          <a:prstGeom prst="cloudCallout">
            <a:avLst>
              <a:gd name="adj1" fmla="val 28680"/>
              <a:gd name="adj2" fmla="val 57759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nstantia"/>
              </a:rPr>
              <a:t>Nasopharynge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وسيلة شرح على شكل سحابة 5"/>
          <p:cNvSpPr/>
          <p:nvPr/>
        </p:nvSpPr>
        <p:spPr>
          <a:xfrm>
            <a:off x="142920" y="4643280"/>
            <a:ext cx="4429080" cy="1643400"/>
          </a:xfrm>
          <a:prstGeom prst="cloudCallout">
            <a:avLst>
              <a:gd name="adj1" fmla="val 24740"/>
              <a:gd name="adj2" fmla="val -69773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Endotracheal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وسيلة شرح على شكل سحابة 6"/>
          <p:cNvSpPr/>
          <p:nvPr/>
        </p:nvSpPr>
        <p:spPr>
          <a:xfrm>
            <a:off x="4572000" y="4714920"/>
            <a:ext cx="4429080" cy="1643040"/>
          </a:xfrm>
          <a:prstGeom prst="cloudCallout">
            <a:avLst>
              <a:gd name="adj1" fmla="val -9962"/>
              <a:gd name="adj2" fmla="val -74967"/>
            </a:avLst>
          </a:prstGeom>
          <a:solidFill>
            <a:srgbClr val="0099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racheostom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شكل بيضاوي 4"/>
          <p:cNvSpPr/>
          <p:nvPr/>
        </p:nvSpPr>
        <p:spPr>
          <a:xfrm>
            <a:off x="214200" y="357120"/>
            <a:ext cx="8572680" cy="207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85840" y="3143160"/>
          <a:ext cx="8643960" cy="3071880"/>
        </p:xfrm>
        <a:graphic>
          <a:graphicData uri="http://schemas.openxmlformats.org/drawingml/2006/table">
            <a:tbl>
              <a:tblPr/>
              <a:tblGrid>
                <a:gridCol w="3630600"/>
                <a:gridCol w="5013360"/>
              </a:tblGrid>
              <a:tr h="174960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ropharyngeal /Nasopharyngeal suctio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ndotracheal/Tracheostomy suctioning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</a:tr>
              <a:tr h="1322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move secretion from th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upp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spiratory tract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move secretion from the trachea and bronchi or th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ow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respiratory tract 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ce1"/>
                    </a:solidFill>
                  </a:tcPr>
                </a:tc>
              </a:tr>
            </a:tbl>
          </a:graphicData>
        </a:graphic>
      </p:graphicFrame>
      <p:pic>
        <p:nvPicPr>
          <p:cNvPr id="190" name="عنوان 1" descr=""/>
          <p:cNvPicPr/>
          <p:nvPr/>
        </p:nvPicPr>
        <p:blipFill>
          <a:blip r:embed="rId1"/>
          <a:stretch/>
        </p:blipFill>
        <p:spPr>
          <a:xfrm>
            <a:off x="487440" y="512640"/>
            <a:ext cx="8315280" cy="1839960"/>
          </a:xfrm>
          <a:prstGeom prst="rect">
            <a:avLst/>
          </a:prstGeom>
          <a:ln w="0">
            <a:noFill/>
          </a:ln>
        </p:spPr>
      </p:pic>
      <p:sp>
        <p:nvSpPr>
          <p:cNvPr id="191" name="سهم للأسفل 5"/>
          <p:cNvSpPr/>
          <p:nvPr/>
        </p:nvSpPr>
        <p:spPr>
          <a:xfrm>
            <a:off x="4357800" y="2571840"/>
            <a:ext cx="4284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381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شكل بيضاوي 2"/>
          <p:cNvSpPr/>
          <p:nvPr/>
        </p:nvSpPr>
        <p:spPr>
          <a:xfrm>
            <a:off x="5072040" y="214200"/>
            <a:ext cx="3929040" cy="1500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racheal/ Endotracheal suction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شكل بيضاوي 3"/>
          <p:cNvSpPr/>
          <p:nvPr/>
        </p:nvSpPr>
        <p:spPr>
          <a:xfrm>
            <a:off x="142920" y="214200"/>
            <a:ext cx="3786120" cy="1428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Oral / Nasal suction</a:t>
            </a: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مستطيل مستدير الزوايا 4"/>
          <p:cNvGrpSpPr/>
          <p:nvPr/>
        </p:nvGrpSpPr>
        <p:grpSpPr>
          <a:xfrm>
            <a:off x="182520" y="1487520"/>
            <a:ext cx="3494160" cy="5443560"/>
            <a:chOff x="182520" y="1487520"/>
            <a:chExt cx="3494160" cy="5443560"/>
          </a:xfrm>
        </p:grpSpPr>
        <p:pic>
          <p:nvPicPr>
            <p:cNvPr id="195" name="مستطيل مستدير الزوايا 4" descr=""/>
            <p:cNvPicPr/>
            <p:nvPr/>
          </p:nvPicPr>
          <p:blipFill>
            <a:blip r:embed="rId1"/>
            <a:stretch/>
          </p:blipFill>
          <p:spPr>
            <a:xfrm>
              <a:off x="182520" y="1487520"/>
              <a:ext cx="3494160" cy="54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46040" y="1874880"/>
              <a:ext cx="296532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1- maintain oral/ nasal hygiene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2- comfort for the patient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3- remove blood and vomit in an emergency situation.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مستطيل مستدير الزوايا 5"/>
          <p:cNvGrpSpPr/>
          <p:nvPr/>
        </p:nvGrpSpPr>
        <p:grpSpPr>
          <a:xfrm>
            <a:off x="5394240" y="1682640"/>
            <a:ext cx="3591000" cy="5035680"/>
            <a:chOff x="5394240" y="1682640"/>
            <a:chExt cx="3591000" cy="5035680"/>
          </a:xfrm>
        </p:grpSpPr>
        <p:pic>
          <p:nvPicPr>
            <p:cNvPr id="198" name="مستطيل مستدير الزوايا 5" descr=""/>
            <p:cNvPicPr/>
            <p:nvPr/>
          </p:nvPicPr>
          <p:blipFill>
            <a:blip r:embed="rId2"/>
            <a:stretch/>
          </p:blipFill>
          <p:spPr>
            <a:xfrm>
              <a:off x="5394240" y="1682640"/>
              <a:ext cx="359100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664240" y="1949400"/>
              <a:ext cx="3030480" cy="44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Remove pulmonary secretions in patients who are unable to cough and clear their own secretions effectively.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وسيلة شرح مع سهم إلى اليسار واليمين 6"/>
          <p:cNvSpPr/>
          <p:nvPr/>
        </p:nvSpPr>
        <p:spPr>
          <a:xfrm>
            <a:off x="3643200" y="0"/>
            <a:ext cx="1785960" cy="6858000"/>
          </a:xfrm>
          <a:custGeom>
            <a:avLst/>
            <a:gdLst>
              <a:gd name="textAreaLeft" fmla="*/ 463320 w 1785960"/>
              <a:gd name="textAreaRight" fmla="*/ 1322640 w 17859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10097"/>
                </a:lnTo>
                <a:lnTo>
                  <a:pt x="16200" y="10097"/>
                </a:lnTo>
                <a:lnTo>
                  <a:pt x="16200" y="9394"/>
                </a:lnTo>
                <a:lnTo>
                  <a:pt x="21600" y="10800"/>
                </a:lnTo>
                <a:lnTo>
                  <a:pt x="16200" y="12206"/>
                </a:lnTo>
                <a:lnTo>
                  <a:pt x="16200" y="11503"/>
                </a:lnTo>
                <a:lnTo>
                  <a:pt x="15997" y="11503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1503"/>
                </a:lnTo>
                <a:lnTo>
                  <a:pt x="5400" y="11503"/>
                </a:lnTo>
                <a:lnTo>
                  <a:pt x="5400" y="12206"/>
                </a:lnTo>
                <a:lnTo>
                  <a:pt x="0" y="10800"/>
                </a:lnTo>
                <a:lnTo>
                  <a:pt x="5400" y="9394"/>
                </a:lnTo>
                <a:lnTo>
                  <a:pt x="5400" y="10097"/>
                </a:lnTo>
                <a:lnTo>
                  <a:pt x="5603" y="10097"/>
                </a:lnTo>
                <a:close/>
              </a:path>
            </a:pathLst>
          </a:cu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of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nstanti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85840" y="1571400"/>
            <a:ext cx="8572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Constantia"/>
              </a:rPr>
              <a:t>Oropharyngeal  and Nasopharyngeal  suctioning required for: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1- Patient who has undergone head and neck surgery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- Signs of respiratory distress 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3- Evidence of unable to cough up and expectorate secreations .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عنوان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3" name="شكل بيضاوي 4"/>
          <p:cNvSpPr/>
          <p:nvPr/>
        </p:nvSpPr>
        <p:spPr>
          <a:xfrm>
            <a:off x="428760" y="285840"/>
            <a:ext cx="8143920" cy="1071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onstantia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2876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-  Obtain sample of secretion for diagnostic purpose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- Prevent  infection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nstantia"/>
              </a:rPr>
              <a:t>Tracheal suctioning required for 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- Patients unable to clear their secretions themselv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- patients with mechanical ventil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عنوان 4" descr=""/>
          <p:cNvPicPr/>
          <p:nvPr/>
        </p:nvPicPr>
        <p:blipFill>
          <a:blip r:embed="rId1"/>
          <a:stretch/>
        </p:blipFill>
        <p:spPr>
          <a:xfrm>
            <a:off x="480960" y="122400"/>
            <a:ext cx="82663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7:03:09Z</dcterms:created>
  <dc:creator>sony</dc:creator>
  <dc:description/>
  <dc:language>en-US</dc:language>
  <cp:lastModifiedBy>Dalyal Alosaimi</cp:lastModifiedBy>
  <dcterms:modified xsi:type="dcterms:W3CDTF">2016-01-27T07:07:58Z</dcterms:modified>
  <cp:revision>93</cp:revision>
  <dc:subject/>
  <dc:title>Airway Suctioning</dc:title>
</cp:coreProperties>
</file>