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332D-1FE0-44D0-8E25-09B5C2BA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51F7-C123-4FD4-AA6B-A23F6EFD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6812-E1DE-44F1-9B30-F29A1721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2A7-9D39-41B0-80B4-F76FCE3E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69B78-F198-4CFB-A6E4-11555721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1EADB-FDD4-47A3-9825-DA0B33F9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AEB30-E481-4089-A8F5-187DDB16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DBE00-AF50-4F75-BE89-9879662B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4956A-2627-4EC2-BA49-6E7C1FC4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C94CB-7985-4CD1-B78F-8B9873A7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23E72-742A-4B96-8946-68893606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6DF-8A66-46A5-973E-FA4EC865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EAA12-BC07-480E-B3CC-C99E943C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337C4-CC57-4388-9AF8-3ED50063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1D8CE-AD1C-4EDC-B594-F5E0ACEE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93052-41A0-4580-B159-072E6353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44E5C-78E3-4477-AEEB-1AE098AC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98583-B95A-4048-93BC-6D31EB71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38C1F-BE3E-4546-B64C-5532E42E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6A05F-2D05-49F5-AC6A-2CDC5A25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033E2-BB54-4A96-898E-5B65814E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007F2-4945-4C76-A6C8-CFF8E7DB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E2F3-AA0B-4A60-AABE-FAE3D9BE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DDE11-C4A0-4EF9-B399-2704B498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03BE9-5ABD-4991-BE0C-17D4E024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17097-267C-475F-96E7-CEA93B97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B407C-F4ED-4099-86CD-59D3602A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A0F2E-7ED5-44DF-B418-73B8AD9D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E6070-AF00-43CC-A526-A4933CB0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A742A-1056-49A3-A320-009EB9D2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8589F7-5594-474F-9B9E-DBEE9CA8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879D3E-CC39-4A5E-ABC1-49A57F91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593108-BE58-40ED-9192-38534559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180F-4A5A-4CEC-9090-F265DD73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DEE4B6-7E77-4F41-B709-9959618F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F5FE7B-67D8-4E79-A14F-E10613CF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1ECA72-FB57-4B8C-A454-28C3E3BE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456205-FC0B-41D0-9CEC-FD32C834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2336F2-8A9B-4C57-8FDA-165221B2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E841C8-034F-49B7-A254-A86C8B65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DC14E3-6B73-4C5C-B370-F5CD78E0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EF4E7A-8882-4E55-A7ED-00133969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39497D-67E9-4693-9A5F-C1EE5048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BBF-F982-4E98-97D5-B920307A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581-A06B-427C-A8D5-4C742DCC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0F06-5DC9-4761-93FA-A8DDF3B9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038-9B94-4174-A78A-952A4247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830-B398-4D8F-846B-862CC834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6E87-03BA-4DBC-9BD8-14C57A1B4FC2}" type="slidenum">
              <a: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رابط مستقيم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رابط مستقيم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شكل بيضاوي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5B31-9318-4D6A-8BB7-72164E23CAE7}" type="slidenum">
              <a: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رابط مستقيم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1D23-BFDF-4B8E-BE28-84ADF75BFD98}" type="slidenum">
              <a: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رابط مستقيم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رابط مستقيم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0D50-5CCA-496B-ACB2-371F809818AA}" type="slidenum">
              <a: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onstantia"/>
              </a:rPr>
              <a:t>NUR 422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عنوان 1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0d0d0d"/>
              </a:solidFill>
              <a:latin typeface="Constanti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357200" y="1785960"/>
          <a:ext cx="6572520" cy="2803680"/>
        </p:xfrm>
        <a:graphic>
          <a:graphicData uri="http://schemas.openxmlformats.org/drawingml/2006/table">
            <a:tbl>
              <a:tblPr/>
              <a:tblGrid>
                <a:gridCol w="3286080"/>
                <a:gridCol w="328644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9ec2"/>
                      </a:solidFill>
                    </a:lnL>
                    <a:lnR>
                      <a:noFill/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ize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809ec2"/>
                      </a:solidFill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809ec2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9ec2"/>
                      </a:solidFill>
                    </a:lnL>
                    <a:lnR>
                      <a:noFill/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ed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#12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#18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809ec2"/>
                      </a:solidFill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edf0f4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ildren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9ec2"/>
                      </a:solidFill>
                    </a:lnL>
                    <a:lnR>
                      <a:noFill/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#8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# 10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809ec2"/>
                      </a:solidFill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ant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9ec2"/>
                      </a:solidFill>
                    </a:lnL>
                    <a:lnR>
                      <a:noFill/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ed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#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#8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809ec2"/>
                      </a:solidFill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edf0f4"/>
                    </a:solidFill>
                  </a:tcPr>
                </a:tc>
              </a:tr>
            </a:tbl>
          </a:graphicData>
        </a:graphic>
      </p:graphicFrame>
      <p:sp>
        <p:nvSpPr>
          <p:cNvPr id="209" name="مستطيل 4"/>
          <p:cNvSpPr/>
          <p:nvPr/>
        </p:nvSpPr>
        <p:spPr>
          <a:xfrm>
            <a:off x="642960" y="49291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Half the diameter (or less) of the tracheal tu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شكل بيضاوي 5"/>
          <p:cNvSpPr/>
          <p:nvPr/>
        </p:nvSpPr>
        <p:spPr>
          <a:xfrm>
            <a:off x="500040" y="214200"/>
            <a:ext cx="8143920" cy="1143000"/>
          </a:xfrm>
          <a:prstGeom prst="ellipse">
            <a:avLst/>
          </a:prstGeom>
          <a:solidFill>
            <a:srgbClr val="ff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onstantia"/>
              </a:rPr>
              <a:t>Choosing the Right Size Catheter</a:t>
            </a:r>
            <a:r>
              <a:rPr b="1" lang="en-US" sz="32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520"/>
            <a:ext cx="822960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ow types of suctioning catheter 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- Whistle – tipped catheter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2- Open – tipped catheter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عنوان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500040" y="3857760"/>
          <a:ext cx="8358120" cy="1768320"/>
        </p:xfrm>
        <a:graphic>
          <a:graphicData uri="http://schemas.openxmlformats.org/drawingml/2006/table">
            <a:tbl>
              <a:tblPr/>
              <a:tblGrid>
                <a:gridCol w="4178160"/>
                <a:gridCol w="417996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whistle – tipped catheter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open – tipped catheter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ess irritate the airway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re effective for removing thick mucus plug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sp>
        <p:nvSpPr>
          <p:cNvPr id="214" name="شكل بيضاوي 4"/>
          <p:cNvSpPr/>
          <p:nvPr/>
        </p:nvSpPr>
        <p:spPr>
          <a:xfrm>
            <a:off x="500040" y="214200"/>
            <a:ext cx="8143920" cy="1143000"/>
          </a:xfrm>
          <a:prstGeom prst="ellipse">
            <a:avLst/>
          </a:prstGeom>
          <a:solidFill>
            <a:srgbClr val="ff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onstantia"/>
              </a:rPr>
              <a:t>Choosing the Right Size Catheter  Cont</a:t>
            </a:r>
            <a:r>
              <a:rPr b="1" lang="en-US" sz="3200" spc="-1" strike="noStrike">
                <a:solidFill>
                  <a:srgbClr val="0d0d0d"/>
                </a:solidFill>
                <a:latin typeface="Constantia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عنصر نائب للمحتوى 3" descr="whistle – tipped catheter.jpg"/>
          <p:cNvPicPr/>
          <p:nvPr/>
        </p:nvPicPr>
        <p:blipFill>
          <a:blip r:embed="rId1"/>
          <a:stretch/>
        </p:blipFill>
        <p:spPr>
          <a:xfrm>
            <a:off x="785880" y="121428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216" name="عنصر نائب للمحتوى 6" descr="open – tipped catheter.jpg"/>
          <p:cNvPicPr/>
          <p:nvPr/>
        </p:nvPicPr>
        <p:blipFill>
          <a:blip r:embed="rId2"/>
          <a:stretch/>
        </p:blipFill>
        <p:spPr>
          <a:xfrm>
            <a:off x="4929120" y="1214280"/>
            <a:ext cx="3429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428760" y="3286080"/>
          <a:ext cx="8165880" cy="3352680"/>
        </p:xfrm>
        <a:graphic>
          <a:graphicData uri="http://schemas.openxmlformats.org/drawingml/2006/table">
            <a:tbl>
              <a:tblPr/>
              <a:tblGrid>
                <a:gridCol w="1752480"/>
                <a:gridCol w="3076560"/>
                <a:gridCol w="3336840"/>
              </a:tblGrid>
              <a:tr h="52056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all Uni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rtable Unite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</a:tr>
              <a:tr h="137376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to 120 mm Hg 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15 mm H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</a:tr>
              <a:tr h="137376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il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ef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110 mm H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ef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10 mm H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ef1"/>
                    </a:solidFill>
                  </a:tcPr>
                </a:tc>
              </a:tr>
              <a:tr h="94716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a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95 mm H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5 mm H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</a:tr>
            </a:tbl>
          </a:graphicData>
        </a:graphic>
      </p:graphicFrame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0d0d0d"/>
              </a:solidFill>
              <a:latin typeface="Constanti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143080" y="1214280"/>
            <a:ext cx="3071880" cy="2027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5357880" y="1214280"/>
            <a:ext cx="3286080" cy="2000520"/>
          </a:xfrm>
          <a:prstGeom prst="rect">
            <a:avLst/>
          </a:prstGeom>
          <a:ln w="0">
            <a:noFill/>
          </a:ln>
        </p:spPr>
      </p:pic>
      <p:sp>
        <p:nvSpPr>
          <p:cNvPr id="221" name="شكل بيضاوي 5"/>
          <p:cNvSpPr/>
          <p:nvPr/>
        </p:nvSpPr>
        <p:spPr>
          <a:xfrm>
            <a:off x="642960" y="0"/>
            <a:ext cx="7786800" cy="1071720"/>
          </a:xfrm>
          <a:prstGeom prst="ellipse">
            <a:avLst/>
          </a:prstGeom>
          <a:solidFill>
            <a:srgbClr val="ff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Constantia"/>
              </a:rPr>
              <a:t>Setting the Correct Pressure</a:t>
            </a:r>
            <a:r>
              <a:rPr b="0" lang="en-US" sz="36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شكل بيضاوي 1"/>
          <p:cNvSpPr/>
          <p:nvPr/>
        </p:nvSpPr>
        <p:spPr>
          <a:xfrm>
            <a:off x="1785960" y="357120"/>
            <a:ext cx="5000760" cy="85716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The procedure</a:t>
            </a: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وسيلة شرح مع سهم إلى اليمين 2"/>
          <p:cNvSpPr/>
          <p:nvPr/>
        </p:nvSpPr>
        <p:spPr>
          <a:xfrm>
            <a:off x="214200" y="1500120"/>
            <a:ext cx="1285920" cy="4786560"/>
          </a:xfrm>
          <a:prstGeom prst="rightArrowCallout">
            <a:avLst>
              <a:gd name="adj1" fmla="val 24990"/>
              <a:gd name="adj2" fmla="val 25005"/>
              <a:gd name="adj3" fmla="val 25000"/>
              <a:gd name="adj4" fmla="val 6497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مستطيل مستدير الزوايا 3"/>
          <p:cNvSpPr/>
          <p:nvPr/>
        </p:nvSpPr>
        <p:spPr>
          <a:xfrm>
            <a:off x="1571760" y="1428840"/>
            <a:ext cx="7286400" cy="4929120"/>
          </a:xfrm>
          <a:prstGeom prst="roundRect">
            <a:avLst>
              <a:gd name="adj" fmla="val 16667"/>
            </a:avLst>
          </a:prstGeom>
          <a:solidFill>
            <a:srgbClr val="b3c5da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1- Towel or moisture – resistant pad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2- Portable or wall suctioning machine with tubing and collection recep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3- sterile deposable container for fluid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4- Sterile normal saline or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وسيلة شرح مع سهم إلى اليمين 1"/>
          <p:cNvSpPr/>
          <p:nvPr/>
        </p:nvSpPr>
        <p:spPr>
          <a:xfrm>
            <a:off x="214200" y="1500120"/>
            <a:ext cx="1285920" cy="4786560"/>
          </a:xfrm>
          <a:prstGeom prst="rightArrowCallout">
            <a:avLst>
              <a:gd name="adj1" fmla="val 24990"/>
              <a:gd name="adj2" fmla="val 25005"/>
              <a:gd name="adj3" fmla="val 25000"/>
              <a:gd name="adj4" fmla="val 6497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شكل بيضاوي 2"/>
          <p:cNvSpPr/>
          <p:nvPr/>
        </p:nvSpPr>
        <p:spPr>
          <a:xfrm>
            <a:off x="857160" y="357120"/>
            <a:ext cx="7215120" cy="85716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The procedure Cont</a:t>
            </a: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’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مستطيل مستدير الزوايا 3"/>
          <p:cNvSpPr/>
          <p:nvPr/>
        </p:nvSpPr>
        <p:spPr>
          <a:xfrm>
            <a:off x="1571760" y="1428840"/>
            <a:ext cx="7286400" cy="4929120"/>
          </a:xfrm>
          <a:prstGeom prst="roundRect">
            <a:avLst>
              <a:gd name="adj" fmla="val 16667"/>
            </a:avLst>
          </a:prstGeom>
          <a:solidFill>
            <a:srgbClr val="b3c5da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5- Sterile glove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6- Goggles or face shield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7- Sterile Suction Catheter ki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8- Water – soluble lubrican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10- sterile gauz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11- Moisture resistant disposable b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12- Sputum trap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4- position the patient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28760" y="2643120"/>
          <a:ext cx="8358120" cy="3641760"/>
        </p:xfrm>
        <a:graphic>
          <a:graphicData uri="http://schemas.openxmlformats.org/drawingml/2006/table">
            <a:tbl>
              <a:tblPr/>
              <a:tblGrid>
                <a:gridCol w="4179600"/>
                <a:gridCol w="41785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Conscious patient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Unconscious patient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50460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mi – Fowler’s position wit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ad turned to one side for oral suctioning 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 nasal suctioning with the neck hyperextended.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eral position and the patient facing you 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pic>
        <p:nvPicPr>
          <p:cNvPr id="230" name="عنوان 3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صورة 1" descr="ty_zvfzfd.jpg"/>
          <p:cNvPicPr/>
          <p:nvPr/>
        </p:nvPicPr>
        <p:blipFill>
          <a:blip r:embed="rId1"/>
          <a:stretch/>
        </p:blipFill>
        <p:spPr>
          <a:xfrm>
            <a:off x="1071720" y="1143000"/>
            <a:ext cx="3071520" cy="4286160"/>
          </a:xfrm>
          <a:prstGeom prst="rect">
            <a:avLst/>
          </a:prstGeom>
          <a:ln w="0">
            <a:noFill/>
          </a:ln>
        </p:spPr>
      </p:pic>
      <p:pic>
        <p:nvPicPr>
          <p:cNvPr id="232" name="صورة 2" descr="oral suctioning position.jpg"/>
          <p:cNvPicPr/>
          <p:nvPr/>
        </p:nvPicPr>
        <p:blipFill>
          <a:blip r:embed="rId2"/>
          <a:stretch/>
        </p:blipFill>
        <p:spPr>
          <a:xfrm>
            <a:off x="5214960" y="1143000"/>
            <a:ext cx="3143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0004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- prepare the equipment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6- make approximate measure of the depth for the insertion of the catheter and test the equipment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7- lubricate and introduce the catheter 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عنوان 3" descr=""/>
          <p:cNvPicPr/>
          <p:nvPr/>
        </p:nvPicPr>
        <p:blipFill>
          <a:blip r:embed="rId1"/>
          <a:stretch/>
        </p:blipFill>
        <p:spPr>
          <a:xfrm>
            <a:off x="268200" y="195120"/>
            <a:ext cx="853452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شكل بيضاوي 1"/>
          <p:cNvSpPr/>
          <p:nvPr/>
        </p:nvSpPr>
        <p:spPr>
          <a:xfrm>
            <a:off x="571680" y="142920"/>
            <a:ext cx="8001000" cy="92880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The procedure Cont</a:t>
            </a: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’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شكل بيضاوي 2"/>
          <p:cNvSpPr/>
          <p:nvPr/>
        </p:nvSpPr>
        <p:spPr>
          <a:xfrm>
            <a:off x="285840" y="1214280"/>
            <a:ext cx="8429400" cy="128592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2226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613"/>
                </a:solidFill>
                <a:latin typeface="Constantia"/>
                <a:ea typeface="Arial"/>
              </a:rPr>
              <a:t> </a:t>
            </a:r>
            <a:r>
              <a:rPr b="0" lang="en-US" sz="3200" spc="-1" strike="noStrike">
                <a:solidFill>
                  <a:srgbClr val="222613"/>
                </a:solidFill>
                <a:latin typeface="Constantia"/>
                <a:ea typeface="Arial"/>
              </a:rPr>
              <a:t>For Oropharyngeal suctioning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مخطط انسيابي: بيانات 3"/>
          <p:cNvSpPr/>
          <p:nvPr/>
        </p:nvSpPr>
        <p:spPr>
          <a:xfrm>
            <a:off x="428760" y="2571840"/>
            <a:ext cx="7643520" cy="4000320"/>
          </a:xfrm>
          <a:prstGeom prst="flowChartInputOutpu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Pull the tongue forward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Do not apply suction during insertion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Advance the catheter about 10 to 15 cm along on side of the mouth into oropharyn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- Definition of suctioning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2- Sites for suction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3- Deferent between  oropharengyeal / nasopharyngeal suctioning and endotracheal / tracheostomy suctioning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4- Purposes for suctioning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- Indications for suctioning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6- Choosing the right size catheter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عنوان 1" descr=""/>
          <p:cNvPicPr/>
          <p:nvPr/>
        </p:nvPicPr>
        <p:blipFill>
          <a:blip r:embed="rId1"/>
          <a:stretch/>
        </p:blipFill>
        <p:spPr>
          <a:xfrm>
            <a:off x="231840" y="152280"/>
            <a:ext cx="845496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شكل بيضاوي 1"/>
          <p:cNvSpPr/>
          <p:nvPr/>
        </p:nvSpPr>
        <p:spPr>
          <a:xfrm>
            <a:off x="500040" y="214200"/>
            <a:ext cx="8143920" cy="92880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The procedure Cont</a:t>
            </a: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’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شكل بيضاوي 2"/>
          <p:cNvSpPr/>
          <p:nvPr/>
        </p:nvSpPr>
        <p:spPr>
          <a:xfrm>
            <a:off x="571680" y="1285920"/>
            <a:ext cx="8072280" cy="1285920"/>
          </a:xfrm>
          <a:prstGeom prst="ellipse">
            <a:avLst/>
          </a:prstGeom>
          <a:solidFill>
            <a:srgbClr val="fcf059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  <a:ea typeface="Arial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onstantia"/>
                <a:ea typeface="Arial"/>
              </a:rPr>
              <a:t>For Nasopharyngeal s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مخطط انسيابي: بيانات 3"/>
          <p:cNvSpPr/>
          <p:nvPr/>
        </p:nvSpPr>
        <p:spPr>
          <a:xfrm>
            <a:off x="285840" y="2857680"/>
            <a:ext cx="7786440" cy="3571560"/>
          </a:xfrm>
          <a:prstGeom prst="flowChartInputOutpu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Advance the catheter along the nasal cavity with out suctio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Never force the catheter against an obstruction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285840" y="1523880"/>
            <a:ext cx="840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8- Perform suctioning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9-  clean the catheter and apply suction again 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عنوان 3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81240"/>
          </a:xfrm>
          <a:prstGeom prst="rect">
            <a:avLst/>
          </a:prstGeom>
          <a:ln w="0">
            <a:noFill/>
          </a:ln>
        </p:spPr>
      </p:pic>
      <p:sp>
        <p:nvSpPr>
          <p:cNvPr id="243" name="مستطيل مستدير الزوايا 5"/>
          <p:cNvSpPr/>
          <p:nvPr/>
        </p:nvSpPr>
        <p:spPr>
          <a:xfrm>
            <a:off x="285840" y="3071880"/>
            <a:ext cx="8715240" cy="3571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Wipe off the catheter with sterile gauz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Flash the catheter with sterile water or sa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Relubricate the catheter and repeat suctioning until the air passage is clear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سهم للأسفل 6"/>
          <p:cNvSpPr/>
          <p:nvPr/>
        </p:nvSpPr>
        <p:spPr>
          <a:xfrm>
            <a:off x="4357800" y="264312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عنوان 3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81240"/>
          </a:xfrm>
          <a:prstGeom prst="rect">
            <a:avLst/>
          </a:prstGeom>
          <a:ln w="0">
            <a:noFill/>
          </a:ln>
        </p:spPr>
      </p:pic>
      <p:sp>
        <p:nvSpPr>
          <p:cNvPr id="246" name="مستطيل مستدير الزوايا 2"/>
          <p:cNvSpPr/>
          <p:nvPr/>
        </p:nvSpPr>
        <p:spPr>
          <a:xfrm>
            <a:off x="285840" y="1714680"/>
            <a:ext cx="8501040" cy="45720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Allow 20 t0 30 second intervals between each suction and limit suctioning to 5 minutes in total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Alternate nares for repeat suctio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Encourage the client to breath deeply and to cough between suctioning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 – Obtain specimen if required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1- promote the patient comfort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2- Dispose of equipment and ensure availability for the next suction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3- Assess the effectiveness of suctioning .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8" name="عنوان 3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81240"/>
          </a:xfrm>
          <a:prstGeom prst="rect">
            <a:avLst/>
          </a:prstGeom>
          <a:ln w="0">
            <a:noFill/>
          </a:ln>
        </p:spPr>
      </p:pic>
      <p:pic>
        <p:nvPicPr>
          <p:cNvPr id="249" name="صورة 4" descr="obtaine spaicemen.jpg"/>
          <p:cNvPicPr/>
          <p:nvPr/>
        </p:nvPicPr>
        <p:blipFill>
          <a:blip r:embed="rId2"/>
          <a:stretch/>
        </p:blipFill>
        <p:spPr>
          <a:xfrm>
            <a:off x="2786040" y="4286160"/>
            <a:ext cx="3571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1- promote the patient comfort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2- Dispose of equipment and ensure availability for the next suction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3- Assess the effectiveness of suctioning .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عنوان 3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81240"/>
          </a:xfrm>
          <a:prstGeom prst="rect">
            <a:avLst/>
          </a:prstGeom>
          <a:ln w="0">
            <a:noFill/>
          </a:ln>
        </p:spPr>
      </p:pic>
      <p:pic>
        <p:nvPicPr>
          <p:cNvPr id="252" name="صورة 4" descr="NASOPHARYNGEAL SUCTIONING.jpg"/>
          <p:cNvPicPr/>
          <p:nvPr/>
        </p:nvPicPr>
        <p:blipFill>
          <a:blip r:embed="rId2"/>
          <a:stretch/>
        </p:blipFill>
        <p:spPr>
          <a:xfrm>
            <a:off x="642960" y="3786120"/>
            <a:ext cx="3357720" cy="2786040"/>
          </a:xfrm>
          <a:prstGeom prst="rect">
            <a:avLst/>
          </a:prstGeom>
          <a:ln w="0">
            <a:noFill/>
          </a:ln>
        </p:spPr>
      </p:pic>
      <p:pic>
        <p:nvPicPr>
          <p:cNvPr id="253" name="صورة 6" descr="OROPHARYNGEAL SUCTIONING.jpg"/>
          <p:cNvPicPr/>
          <p:nvPr/>
        </p:nvPicPr>
        <p:blipFill>
          <a:blip r:embed="rId3"/>
          <a:stretch/>
        </p:blipFill>
        <p:spPr>
          <a:xfrm>
            <a:off x="5000760" y="3786120"/>
            <a:ext cx="33573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شكل بيضاوي 1"/>
          <p:cNvSpPr/>
          <p:nvPr/>
        </p:nvSpPr>
        <p:spPr>
          <a:xfrm>
            <a:off x="571680" y="357120"/>
            <a:ext cx="7429320" cy="1143000"/>
          </a:xfrm>
          <a:prstGeom prst="ellipse">
            <a:avLst/>
          </a:prstGeom>
          <a:solidFill>
            <a:srgbClr val="ff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Constantia"/>
              </a:rPr>
              <a:t>Documentation</a:t>
            </a:r>
            <a:r>
              <a:rPr b="0" lang="en-US" sz="40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خماسي 3"/>
          <p:cNvSpPr/>
          <p:nvPr/>
        </p:nvSpPr>
        <p:spPr>
          <a:xfrm>
            <a:off x="571680" y="2500200"/>
            <a:ext cx="2786040" cy="100008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3" y="0"/>
                </a:lnTo>
                <a:lnTo>
                  <a:pt x="21600" y="10800"/>
                </a:lnTo>
                <a:lnTo>
                  <a:pt x="177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Record the procedur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مستطيل مستدير الزوايا 4"/>
          <p:cNvSpPr/>
          <p:nvPr/>
        </p:nvSpPr>
        <p:spPr>
          <a:xfrm>
            <a:off x="3571920" y="1643040"/>
            <a:ext cx="5286240" cy="2786040"/>
          </a:xfrm>
          <a:prstGeom prst="roundRect">
            <a:avLst>
              <a:gd name="adj" fmla="val 16667"/>
            </a:avLst>
          </a:prstGeom>
          <a:solidFill>
            <a:srgbClr val="c9d3be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The amount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Consistency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Color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Odor of the mucu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Client breathing status before and af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مستطيل 5"/>
          <p:cNvSpPr/>
          <p:nvPr/>
        </p:nvSpPr>
        <p:spPr>
          <a:xfrm>
            <a:off x="500040" y="457200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If the technique is carried out frequently it may be appropriate to record only once , how ever the frequency of suctioning must be record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شكل بيضاوي 1"/>
          <p:cNvSpPr/>
          <p:nvPr/>
        </p:nvSpPr>
        <p:spPr>
          <a:xfrm>
            <a:off x="2571840" y="2643120"/>
            <a:ext cx="3929040" cy="1714680"/>
          </a:xfrm>
          <a:prstGeom prst="ellipse">
            <a:avLst/>
          </a:prstGeom>
          <a:solidFill>
            <a:srgbClr val="ff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Complications</a:t>
            </a: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مستطيل مستدير الزوايا 2"/>
          <p:cNvSpPr/>
          <p:nvPr/>
        </p:nvSpPr>
        <p:spPr>
          <a:xfrm>
            <a:off x="5929200" y="357120"/>
            <a:ext cx="2643480" cy="257184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rauma to the airway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مستطيل مستدير الزوايا 3"/>
          <p:cNvSpPr/>
          <p:nvPr/>
        </p:nvSpPr>
        <p:spPr>
          <a:xfrm>
            <a:off x="285840" y="285840"/>
            <a:ext cx="2714400" cy="257184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Hypoxemia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مستطيل مستدير الزوايا 4"/>
          <p:cNvSpPr/>
          <p:nvPr/>
        </p:nvSpPr>
        <p:spPr>
          <a:xfrm>
            <a:off x="6143760" y="4000680"/>
            <a:ext cx="2643120" cy="257148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ardiac dysrhythmia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مستطيل مستدير الزوايا 5"/>
          <p:cNvSpPr/>
          <p:nvPr/>
        </p:nvSpPr>
        <p:spPr>
          <a:xfrm>
            <a:off x="357120" y="4000680"/>
            <a:ext cx="2643120" cy="257148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osocomial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مستطيل مستدير الزوايا 3"/>
          <p:cNvSpPr/>
          <p:nvPr/>
        </p:nvSpPr>
        <p:spPr>
          <a:xfrm>
            <a:off x="285840" y="357120"/>
            <a:ext cx="8572320" cy="1285920"/>
          </a:xfrm>
          <a:prstGeom prst="roundRect">
            <a:avLst>
              <a:gd name="adj" fmla="val 16667"/>
            </a:avLst>
          </a:prstGeom>
          <a:solidFill>
            <a:srgbClr val="fdf69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28760" y="20001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- Suction only as needed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2- sterile technique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3- Hyperinflation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4- Hyperoxygenation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- safe catheter size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6- No saline instill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عنوان 1" descr=""/>
          <p:cNvPicPr/>
          <p:nvPr/>
        </p:nvPicPr>
        <p:blipFill>
          <a:blip r:embed="rId1"/>
          <a:stretch/>
        </p:blipFill>
        <p:spPr>
          <a:xfrm>
            <a:off x="285840" y="158760"/>
            <a:ext cx="84438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28760" y="15717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Thank you for your listening 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عنوان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268" name="وجه ضاحك 3"/>
          <p:cNvSpPr/>
          <p:nvPr/>
        </p:nvSpPr>
        <p:spPr>
          <a:xfrm>
            <a:off x="3286080" y="3857760"/>
            <a:ext cx="2786040" cy="2214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7- Setting the correct pressure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8- The procedure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9- Documentation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- Complications of suctioning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1- Techniques to minimize or decrease the complications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عنوان 2" descr=""/>
          <p:cNvPicPr/>
          <p:nvPr/>
        </p:nvPicPr>
        <p:blipFill>
          <a:blip r:embed="rId1"/>
          <a:stretch/>
        </p:blipFill>
        <p:spPr>
          <a:xfrm>
            <a:off x="231840" y="152280"/>
            <a:ext cx="845496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شكل بيضاوي 1"/>
          <p:cNvGrpSpPr/>
          <p:nvPr/>
        </p:nvGrpSpPr>
        <p:grpSpPr>
          <a:xfrm>
            <a:off x="1322280" y="566640"/>
            <a:ext cx="6353280" cy="2036880"/>
            <a:chOff x="1322280" y="566640"/>
            <a:chExt cx="6353280" cy="2036880"/>
          </a:xfrm>
        </p:grpSpPr>
        <p:pic>
          <p:nvPicPr>
            <p:cNvPr id="177" name="شكل بيضاوي 1" descr=""/>
            <p:cNvPicPr/>
            <p:nvPr/>
          </p:nvPicPr>
          <p:blipFill>
            <a:blip r:embed="rId1"/>
            <a:stretch/>
          </p:blipFill>
          <p:spPr>
            <a:xfrm>
              <a:off x="1322280" y="566640"/>
              <a:ext cx="6353280" cy="20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328840" y="944640"/>
              <a:ext cx="434340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d0d0d"/>
                  </a:solidFill>
                  <a:latin typeface="Constantia"/>
                </a:rPr>
                <a:t>Suctioning Definition</a:t>
              </a:r>
              <a:r>
                <a:rPr b="0" lang="en-US" sz="4400" spc="-1" strike="noStrike">
                  <a:solidFill>
                    <a:srgbClr val="0d0d0d"/>
                  </a:solidFill>
                  <a:latin typeface="Constantia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سهم للأسفل 2"/>
          <p:cNvSpPr/>
          <p:nvPr/>
        </p:nvSpPr>
        <p:spPr>
          <a:xfrm>
            <a:off x="4429080" y="2500200"/>
            <a:ext cx="214200" cy="64296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مستطيل مستدير الزوايا 3"/>
          <p:cNvSpPr/>
          <p:nvPr/>
        </p:nvSpPr>
        <p:spPr>
          <a:xfrm>
            <a:off x="928800" y="3286080"/>
            <a:ext cx="7358040" cy="22860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spirating secretion through a catheter connected to a suction machine or wall suction outl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مستطيل مستدير الزوايا 2"/>
          <p:cNvGrpSpPr/>
          <p:nvPr/>
        </p:nvGrpSpPr>
        <p:grpSpPr>
          <a:xfrm>
            <a:off x="2109960" y="2755800"/>
            <a:ext cx="5138640" cy="1560600"/>
            <a:chOff x="2109960" y="2755800"/>
            <a:chExt cx="5138640" cy="1560600"/>
          </a:xfrm>
        </p:grpSpPr>
        <p:pic>
          <p:nvPicPr>
            <p:cNvPr id="182" name="مستطيل مستدير الزوايا 2" descr=""/>
            <p:cNvPicPr/>
            <p:nvPr/>
          </p:nvPicPr>
          <p:blipFill>
            <a:blip r:embed="rId1"/>
            <a:stretch/>
          </p:blipFill>
          <p:spPr>
            <a:xfrm>
              <a:off x="2109960" y="2755800"/>
              <a:ext cx="513864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281320" y="2924280"/>
              <a:ext cx="479592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d0d0d"/>
                  </a:solidFill>
                  <a:latin typeface="Constantia"/>
                </a:rPr>
                <a:t>Sites for Suctioning</a:t>
              </a:r>
              <a:r>
                <a:rPr b="1" lang="en-US" sz="3200" spc="-1" strike="noStrike">
                  <a:solidFill>
                    <a:srgbClr val="0d0d0d"/>
                  </a:solidFill>
                  <a:latin typeface="Constantia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وسيلة شرح على شكل سحابة 3"/>
          <p:cNvSpPr/>
          <p:nvPr/>
        </p:nvSpPr>
        <p:spPr>
          <a:xfrm>
            <a:off x="4572000" y="785880"/>
            <a:ext cx="4429080" cy="1785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99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nstantia"/>
              </a:rPr>
              <a:t>Oropharyngeal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وسيلة شرح على شكل سحابة 4"/>
          <p:cNvSpPr/>
          <p:nvPr/>
        </p:nvSpPr>
        <p:spPr>
          <a:xfrm>
            <a:off x="0" y="785880"/>
            <a:ext cx="4500720" cy="1857240"/>
          </a:xfrm>
          <a:prstGeom prst="cloudCallout">
            <a:avLst>
              <a:gd name="adj1" fmla="val 28680"/>
              <a:gd name="adj2" fmla="val 57759"/>
            </a:avLst>
          </a:prstGeom>
          <a:solidFill>
            <a:srgbClr val="0099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nstantia"/>
              </a:rPr>
              <a:t>Nasopharyngeal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وسيلة شرح على شكل سحابة 5"/>
          <p:cNvSpPr/>
          <p:nvPr/>
        </p:nvSpPr>
        <p:spPr>
          <a:xfrm>
            <a:off x="142920" y="4643280"/>
            <a:ext cx="4429080" cy="1643400"/>
          </a:xfrm>
          <a:prstGeom prst="cloudCallout">
            <a:avLst>
              <a:gd name="adj1" fmla="val 24740"/>
              <a:gd name="adj2" fmla="val -69773"/>
            </a:avLst>
          </a:prstGeom>
          <a:solidFill>
            <a:srgbClr val="0099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Endotracheal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وسيلة شرح على شكل سحابة 6"/>
          <p:cNvSpPr/>
          <p:nvPr/>
        </p:nvSpPr>
        <p:spPr>
          <a:xfrm>
            <a:off x="4572000" y="4714920"/>
            <a:ext cx="4429080" cy="1643040"/>
          </a:xfrm>
          <a:prstGeom prst="cloudCallout">
            <a:avLst>
              <a:gd name="adj1" fmla="val -9962"/>
              <a:gd name="adj2" fmla="val -74967"/>
            </a:avLst>
          </a:prstGeom>
          <a:solidFill>
            <a:srgbClr val="0099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racheostomy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شكل بيضاوي 4"/>
          <p:cNvSpPr/>
          <p:nvPr/>
        </p:nvSpPr>
        <p:spPr>
          <a:xfrm>
            <a:off x="214200" y="357120"/>
            <a:ext cx="8572680" cy="2071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85840" y="3143160"/>
          <a:ext cx="8643960" cy="3071880"/>
        </p:xfrm>
        <a:graphic>
          <a:graphicData uri="http://schemas.openxmlformats.org/drawingml/2006/table">
            <a:tbl>
              <a:tblPr/>
              <a:tblGrid>
                <a:gridCol w="3630600"/>
                <a:gridCol w="5013360"/>
              </a:tblGrid>
              <a:tr h="174960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Oropharyngeal /Nasopharyngeal suctio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ndotracheal/Tracheostomy suctioning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</a:tr>
              <a:tr h="1322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move secretion from the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upp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respiratory tract 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move secretion from the trachea and bronchi or the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low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respiratory tract 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</a:tr>
            </a:tbl>
          </a:graphicData>
        </a:graphic>
      </p:graphicFrame>
      <p:pic>
        <p:nvPicPr>
          <p:cNvPr id="190" name="عنوان 1" descr=""/>
          <p:cNvPicPr/>
          <p:nvPr/>
        </p:nvPicPr>
        <p:blipFill>
          <a:blip r:embed="rId1"/>
          <a:stretch/>
        </p:blipFill>
        <p:spPr>
          <a:xfrm>
            <a:off x="487440" y="512640"/>
            <a:ext cx="8315280" cy="1839960"/>
          </a:xfrm>
          <a:prstGeom prst="rect">
            <a:avLst/>
          </a:prstGeom>
          <a:ln w="0">
            <a:noFill/>
          </a:ln>
        </p:spPr>
      </p:pic>
      <p:sp>
        <p:nvSpPr>
          <p:cNvPr id="191" name="سهم للأسفل 5"/>
          <p:cNvSpPr/>
          <p:nvPr/>
        </p:nvSpPr>
        <p:spPr>
          <a:xfrm>
            <a:off x="4357800" y="2571840"/>
            <a:ext cx="4284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381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شكل بيضاوي 2"/>
          <p:cNvSpPr/>
          <p:nvPr/>
        </p:nvSpPr>
        <p:spPr>
          <a:xfrm>
            <a:off x="5072040" y="214200"/>
            <a:ext cx="3929040" cy="1500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racheal/ Endotracheal suction</a:t>
            </a: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شكل بيضاوي 3"/>
          <p:cNvSpPr/>
          <p:nvPr/>
        </p:nvSpPr>
        <p:spPr>
          <a:xfrm>
            <a:off x="142920" y="214200"/>
            <a:ext cx="3786120" cy="1428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Oral / Nasal suction</a:t>
            </a: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مستطيل مستدير الزوايا 4"/>
          <p:cNvGrpSpPr/>
          <p:nvPr/>
        </p:nvGrpSpPr>
        <p:grpSpPr>
          <a:xfrm>
            <a:off x="182520" y="1487520"/>
            <a:ext cx="3494160" cy="5443560"/>
            <a:chOff x="182520" y="1487520"/>
            <a:chExt cx="3494160" cy="5443560"/>
          </a:xfrm>
        </p:grpSpPr>
        <p:pic>
          <p:nvPicPr>
            <p:cNvPr id="195" name="مستطيل مستدير الزوايا 4" descr=""/>
            <p:cNvPicPr/>
            <p:nvPr/>
          </p:nvPicPr>
          <p:blipFill>
            <a:blip r:embed="rId1"/>
            <a:stretch/>
          </p:blipFill>
          <p:spPr>
            <a:xfrm>
              <a:off x="182520" y="1487520"/>
              <a:ext cx="3494160" cy="54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46040" y="1874880"/>
              <a:ext cx="2965320" cy="45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1- maintain oral/ nasal hygiene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2- comfort for the patient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3- remove blood and vomit in an emergency situation. 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مستطيل مستدير الزوايا 5"/>
          <p:cNvGrpSpPr/>
          <p:nvPr/>
        </p:nvGrpSpPr>
        <p:grpSpPr>
          <a:xfrm>
            <a:off x="5394240" y="1682640"/>
            <a:ext cx="3591000" cy="5035680"/>
            <a:chOff x="5394240" y="1682640"/>
            <a:chExt cx="3591000" cy="5035680"/>
          </a:xfrm>
        </p:grpSpPr>
        <p:pic>
          <p:nvPicPr>
            <p:cNvPr id="198" name="مستطيل مستدير الزوايا 5" descr=""/>
            <p:cNvPicPr/>
            <p:nvPr/>
          </p:nvPicPr>
          <p:blipFill>
            <a:blip r:embed="rId2"/>
            <a:stretch/>
          </p:blipFill>
          <p:spPr>
            <a:xfrm>
              <a:off x="5394240" y="1682640"/>
              <a:ext cx="3591000" cy="503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664240" y="1949400"/>
              <a:ext cx="3030480" cy="445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Remove pulmonary secretions in patients who are unable to cough and clear their own secretions effectively.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وسيلة شرح مع سهم إلى اليسار واليمين 6"/>
          <p:cNvSpPr/>
          <p:nvPr/>
        </p:nvSpPr>
        <p:spPr>
          <a:xfrm>
            <a:off x="3643200" y="0"/>
            <a:ext cx="1785960" cy="6858000"/>
          </a:xfrm>
          <a:custGeom>
            <a:avLst/>
            <a:gdLst>
              <a:gd name="textAreaLeft" fmla="*/ 463320 w 1785960"/>
              <a:gd name="textAreaRight" fmla="*/ 1322640 w 17859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10097"/>
                </a:lnTo>
                <a:lnTo>
                  <a:pt x="16200" y="10097"/>
                </a:lnTo>
                <a:lnTo>
                  <a:pt x="16200" y="9394"/>
                </a:lnTo>
                <a:lnTo>
                  <a:pt x="21600" y="10800"/>
                </a:lnTo>
                <a:lnTo>
                  <a:pt x="16200" y="12206"/>
                </a:lnTo>
                <a:lnTo>
                  <a:pt x="16200" y="11503"/>
                </a:lnTo>
                <a:lnTo>
                  <a:pt x="15997" y="11503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1503"/>
                </a:lnTo>
                <a:lnTo>
                  <a:pt x="5400" y="11503"/>
                </a:lnTo>
                <a:lnTo>
                  <a:pt x="5400" y="12206"/>
                </a:lnTo>
                <a:lnTo>
                  <a:pt x="0" y="10800"/>
                </a:lnTo>
                <a:lnTo>
                  <a:pt x="5400" y="9394"/>
                </a:lnTo>
                <a:lnTo>
                  <a:pt x="5400" y="10097"/>
                </a:lnTo>
                <a:lnTo>
                  <a:pt x="5603" y="10097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of</a:t>
            </a: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85840" y="1571400"/>
            <a:ext cx="85723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Constantia"/>
              </a:rPr>
              <a:t>Oropharyngeal  and Nasopharyngeal  suctioning required for: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1- Patient who has undergone head and neck surgery.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2- Signs of respiratory distress .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3- Evidence of unable to cough up and expectorate secreations .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عنوان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203" name="شكل بيضاوي 4"/>
          <p:cNvSpPr/>
          <p:nvPr/>
        </p:nvSpPr>
        <p:spPr>
          <a:xfrm>
            <a:off x="428760" y="285840"/>
            <a:ext cx="8143920" cy="1071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onstantia"/>
              </a:rPr>
              <a:t>Ind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2876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-  Obtain sample of secretion for diagnostic purposes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6- Prevent  infection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racheal suctioning required for 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- Patients unable to clear their secretions themselve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2- patients with mechanical ventil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عنوان 4" descr=""/>
          <p:cNvPicPr/>
          <p:nvPr/>
        </p:nvPicPr>
        <p:blipFill>
          <a:blip r:embed="rId1"/>
          <a:stretch/>
        </p:blipFill>
        <p:spPr>
          <a:xfrm>
            <a:off x="480960" y="122400"/>
            <a:ext cx="826632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7:03:09Z</dcterms:created>
  <dc:creator>sony</dc:creator>
  <dc:description/>
  <dc:language>en-US</dc:language>
  <cp:lastModifiedBy>Dalyal Alosaimi</cp:lastModifiedBy>
  <dcterms:modified xsi:type="dcterms:W3CDTF">2016-01-27T07:07:58Z</dcterms:modified>
  <cp:revision>93</cp:revision>
  <dc:subject/>
  <dc:title>Airway Suctioning</dc:title>
</cp:coreProperties>
</file>