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B67-B839-4830-8BC7-33A39825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7ED-B999-46B7-AE12-6CDB2101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5AE-B4C9-47DD-A6FC-F26260EE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EDC-18C7-4543-9AC1-0CF9B03E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5D864-040F-4361-A6C9-336B18EB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E1C5A-1418-4841-9B38-BE8CFD1D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1273B-0844-40E4-B1F8-EDEDDFEF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A5804-FED9-4260-947D-062BD5F9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22571-9643-4C73-82EA-E473B06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5C2D2-C45E-4D86-B0CF-DA2C2D1F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4375B-CA5C-459D-83F3-19AC816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7BB-E2E4-4FD9-A4F9-FF20ED92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B734E-F200-4F5A-83DC-4E0D9BE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F78C4-7BF8-4D4D-B449-F5CCADDF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B8DC5-45FC-46A1-84EF-0368FC41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9876E-BEB7-42C5-9A69-141F16A4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95485-F417-4742-829B-9639C024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702D-D129-43F6-8918-82D3753E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DCAE-AB3C-405C-8162-CFAF2653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EAC8-BCD1-4E25-8013-F5DB982E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8312-2114-491F-B34B-2403D94C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01BA-77CE-4C10-9330-E7195C43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25A-1DAB-48C3-AD42-DE7CF2FC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48BE-8883-49CA-9B89-2EDB0E94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0A5D-3F9A-401B-A1A8-9520B18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A5CA-ADBD-45BC-8898-06FED4E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4EC9F-F9B9-4AC2-B0A7-76B4B53A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45BE-DE6D-4FAE-BCC2-D55CFDFC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CADE-CF6D-4564-BEA4-3271EAA0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C4FB-172B-467D-9C59-B866F3E1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5F0E0-E52F-4662-A4CC-52656BE5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79831-75FC-424D-905D-4E2B763C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20B50-1CB5-423C-B69E-C66A5594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9C0-BEF6-4653-9A68-E8856319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8F15F-C5C0-4A19-A6A1-5515E284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64600-C68A-4A33-BA9D-7A825956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72BA2-12BC-41F3-A3BA-46D4FAA7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DDE9F-58F6-4F5C-8FAC-6E818FD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78205-647D-41AC-803C-38ED1815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32FE3-555F-4560-8DF2-E30C2D17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00537-1921-4690-924B-58B0E52B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38510-4A0E-4980-89E1-F16B36C8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924B6-A70F-4A57-83C3-49EBB821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26D-CF6C-4221-98B1-A56D68BF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213-CEDD-46C0-A26C-1A3A8D65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8E7-BCC6-4652-A231-357F67C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17E-B058-4FA7-8D66-B3F4BE4C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BFF-E976-4294-AACD-13928746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3AB4-5468-4EA1-AC41-FA68E7AFF795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رابط مستقيم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رابط مستقيم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شكل بيضاوي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BD55-DDB7-44D8-B76B-D8E092982B92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رابط مستقيم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8DAA-3612-4146-8C32-0B041CFEB960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رابط مستقيم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رابط مستقيم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EE1C-6DDE-48BD-8BE7-CB5529E8F1D6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onstantia"/>
              </a:rPr>
              <a:t>NUR 42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عنوان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d0d0d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57200" y="1785960"/>
          <a:ext cx="6572520" cy="2803680"/>
        </p:xfrm>
        <a:graphic>
          <a:graphicData uri="http://schemas.openxmlformats.org/drawingml/2006/table">
            <a:tbl>
              <a:tblPr/>
              <a:tblGrid>
                <a:gridCol w="3286080"/>
                <a:gridCol w="328644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ize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12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1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ren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 10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an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</a:tr>
            </a:tbl>
          </a:graphicData>
        </a:graphic>
      </p:graphicFrame>
      <p:sp>
        <p:nvSpPr>
          <p:cNvPr id="209" name="مستطيل 4"/>
          <p:cNvSpPr/>
          <p:nvPr/>
        </p:nvSpPr>
        <p:spPr>
          <a:xfrm>
            <a:off x="642960" y="4929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Half the diameter (or less) of the tracheal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شكل بيضاوي 5"/>
          <p:cNvSpPr/>
          <p:nvPr/>
        </p:nvSpPr>
        <p:spPr>
          <a:xfrm>
            <a:off x="500040" y="214200"/>
            <a:ext cx="81439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Choosing the Right Size Catheter</a:t>
            </a: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52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ow types of suctioning cathete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Whistle – tipped catheter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Open – tipped catheter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00040" y="3857760"/>
          <a:ext cx="8358120" cy="17683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whistle – tipped catheter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open – tipped catheter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ss irritate the airway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re effective for removing thick mucus plug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14" name="شكل بيضاوي 4"/>
          <p:cNvSpPr/>
          <p:nvPr/>
        </p:nvSpPr>
        <p:spPr>
          <a:xfrm>
            <a:off x="500040" y="214200"/>
            <a:ext cx="81439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Choosing the Right Size Catheter  Cont</a:t>
            </a: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عنصر نائب للمحتوى 3" descr="whistle – tipped catheter.jpg"/>
          <p:cNvPicPr/>
          <p:nvPr/>
        </p:nvPicPr>
        <p:blipFill>
          <a:blip r:embed="rId1"/>
          <a:stretch/>
        </p:blipFill>
        <p:spPr>
          <a:xfrm>
            <a:off x="785880" y="121428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16" name="عنصر نائب للمحتوى 6" descr="open – tipped catheter.jpg"/>
          <p:cNvPicPr/>
          <p:nvPr/>
        </p:nvPicPr>
        <p:blipFill>
          <a:blip r:embed="rId2"/>
          <a:stretch/>
        </p:blipFill>
        <p:spPr>
          <a:xfrm>
            <a:off x="4929120" y="121428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28760" y="3286080"/>
          <a:ext cx="8165880" cy="3352680"/>
        </p:xfrm>
        <a:graphic>
          <a:graphicData uri="http://schemas.openxmlformats.org/drawingml/2006/table">
            <a:tbl>
              <a:tblPr/>
              <a:tblGrid>
                <a:gridCol w="1752480"/>
                <a:gridCol w="3076560"/>
                <a:gridCol w="3336840"/>
              </a:tblGrid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all Uni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rtable Unit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to 120 mm Hg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5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10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0 mm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a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95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5 mm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d0d0d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3071880" cy="2027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5357880" y="1214280"/>
            <a:ext cx="3286080" cy="2000520"/>
          </a:xfrm>
          <a:prstGeom prst="rect">
            <a:avLst/>
          </a:prstGeom>
          <a:ln w="0">
            <a:noFill/>
          </a:ln>
        </p:spPr>
      </p:pic>
      <p:sp>
        <p:nvSpPr>
          <p:cNvPr id="221" name="شكل بيضاوي 5"/>
          <p:cNvSpPr/>
          <p:nvPr/>
        </p:nvSpPr>
        <p:spPr>
          <a:xfrm>
            <a:off x="642960" y="0"/>
            <a:ext cx="7786800" cy="107172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Constantia"/>
              </a:rPr>
              <a:t>Setting the Correct Pressure</a:t>
            </a:r>
            <a:r>
              <a:rPr b="0" lang="en-US" sz="36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شكل بيضاوي 1"/>
          <p:cNvSpPr/>
          <p:nvPr/>
        </p:nvSpPr>
        <p:spPr>
          <a:xfrm>
            <a:off x="1785960" y="357120"/>
            <a:ext cx="5000760" cy="85716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وسيلة شرح مع سهم إلى اليمين 2"/>
          <p:cNvSpPr/>
          <p:nvPr/>
        </p:nvSpPr>
        <p:spPr>
          <a:xfrm>
            <a:off x="214200" y="1500120"/>
            <a:ext cx="1285920" cy="4786560"/>
          </a:xfrm>
          <a:prstGeom prst="rightArrowCallout">
            <a:avLst>
              <a:gd name="adj1" fmla="val 24990"/>
              <a:gd name="adj2" fmla="val 25005"/>
              <a:gd name="adj3" fmla="val 25000"/>
              <a:gd name="adj4" fmla="val 6497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مستطيل مستدير الزوايا 3"/>
          <p:cNvSpPr/>
          <p:nvPr/>
        </p:nvSpPr>
        <p:spPr>
          <a:xfrm>
            <a:off x="1571760" y="1428840"/>
            <a:ext cx="7286400" cy="4929120"/>
          </a:xfrm>
          <a:prstGeom prst="roundRect">
            <a:avLst>
              <a:gd name="adj" fmla="val 16667"/>
            </a:avLst>
          </a:prstGeom>
          <a:solidFill>
            <a:srgbClr val="b3c5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- Towel or moisture – resistant pa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2- Portable or wall suctioning machine with tubing and collection recep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3- sterile deposable container for fluid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4- Sterile normal saline or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وسيلة شرح مع سهم إلى اليمين 1"/>
          <p:cNvSpPr/>
          <p:nvPr/>
        </p:nvSpPr>
        <p:spPr>
          <a:xfrm>
            <a:off x="214200" y="1500120"/>
            <a:ext cx="1285920" cy="4786560"/>
          </a:xfrm>
          <a:prstGeom prst="rightArrowCallout">
            <a:avLst>
              <a:gd name="adj1" fmla="val 24990"/>
              <a:gd name="adj2" fmla="val 25005"/>
              <a:gd name="adj3" fmla="val 25000"/>
              <a:gd name="adj4" fmla="val 6497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شكل بيضاوي 2"/>
          <p:cNvSpPr/>
          <p:nvPr/>
        </p:nvSpPr>
        <p:spPr>
          <a:xfrm>
            <a:off x="857160" y="357120"/>
            <a:ext cx="7215120" cy="85716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مستطيل مستدير الزوايا 3"/>
          <p:cNvSpPr/>
          <p:nvPr/>
        </p:nvSpPr>
        <p:spPr>
          <a:xfrm>
            <a:off x="1571760" y="1428840"/>
            <a:ext cx="7286400" cy="4929120"/>
          </a:xfrm>
          <a:prstGeom prst="roundRect">
            <a:avLst>
              <a:gd name="adj" fmla="val 16667"/>
            </a:avLst>
          </a:prstGeom>
          <a:solidFill>
            <a:srgbClr val="b3c5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5- Sterile glov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6- Goggles or face shiel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7- Sterile Suction Catheter ki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8- Water – soluble lubrica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0- sterile gau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1- Moisture resistant disposable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2- Sputum trap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position the patient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28760" y="2643120"/>
          <a:ext cx="8358120" cy="3641760"/>
        </p:xfrm>
        <a:graphic>
          <a:graphicData uri="http://schemas.openxmlformats.org/drawingml/2006/table">
            <a:tbl>
              <a:tblPr/>
              <a:tblGrid>
                <a:gridCol w="4179600"/>
                <a:gridCol w="41785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Conscious patient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Unconscious patient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50460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mi – Fowler’s position wi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ad turned to one side for oral suctioning 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 nasal suctioning with the neck hyperextended.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eral position and the patient facing you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30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صورة 1" descr="ty_zvfzfd.jpg"/>
          <p:cNvPicPr/>
          <p:nvPr/>
        </p:nvPicPr>
        <p:blipFill>
          <a:blip r:embed="rId1"/>
          <a:stretch/>
        </p:blipFill>
        <p:spPr>
          <a:xfrm>
            <a:off x="1071720" y="1143000"/>
            <a:ext cx="3071520" cy="4286160"/>
          </a:xfrm>
          <a:prstGeom prst="rect">
            <a:avLst/>
          </a:prstGeom>
          <a:ln w="0">
            <a:noFill/>
          </a:ln>
        </p:spPr>
      </p:pic>
      <p:pic>
        <p:nvPicPr>
          <p:cNvPr id="232" name="صورة 2" descr="oral suctioning position.jpg"/>
          <p:cNvPicPr/>
          <p:nvPr/>
        </p:nvPicPr>
        <p:blipFill>
          <a:blip r:embed="rId2"/>
          <a:stretch/>
        </p:blipFill>
        <p:spPr>
          <a:xfrm>
            <a:off x="5214960" y="1143000"/>
            <a:ext cx="3143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0004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prepare the equipmen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make approximate measure of the depth for the insertion of the catheter and test the equipmen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7- lubricate and introduce the cathete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عنوان 3" descr=""/>
          <p:cNvPicPr/>
          <p:nvPr/>
        </p:nvPicPr>
        <p:blipFill>
          <a:blip r:embed="rId1"/>
          <a:stretch/>
        </p:blipFill>
        <p:spPr>
          <a:xfrm>
            <a:off x="268200" y="195120"/>
            <a:ext cx="853452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شكل بيضاوي 1"/>
          <p:cNvSpPr/>
          <p:nvPr/>
        </p:nvSpPr>
        <p:spPr>
          <a:xfrm>
            <a:off x="571680" y="142920"/>
            <a:ext cx="8001000" cy="92880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شكل بيضاوي 2"/>
          <p:cNvSpPr/>
          <p:nvPr/>
        </p:nvSpPr>
        <p:spPr>
          <a:xfrm>
            <a:off x="285840" y="1214280"/>
            <a:ext cx="8429400" cy="12859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2226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613"/>
                </a:solidFill>
                <a:latin typeface="Constantia"/>
                <a:ea typeface="Arial"/>
              </a:rPr>
              <a:t> </a:t>
            </a:r>
            <a:r>
              <a:rPr b="0" lang="en-US" sz="3200" spc="-1" strike="noStrike">
                <a:solidFill>
                  <a:srgbClr val="222613"/>
                </a:solidFill>
                <a:latin typeface="Constantia"/>
                <a:ea typeface="Arial"/>
              </a:rPr>
              <a:t>For Oropharyngeal suctioning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مخطط انسيابي: بيانات 3"/>
          <p:cNvSpPr/>
          <p:nvPr/>
        </p:nvSpPr>
        <p:spPr>
          <a:xfrm>
            <a:off x="428760" y="2571840"/>
            <a:ext cx="7643520" cy="4000320"/>
          </a:xfrm>
          <a:prstGeom prst="flowChartInputOutpu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Pull the tongue forwar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Do not apply suction during inser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Advance the catheter about 10 to 15 cm along on side of the mouth into oropharyn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Definition of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Sites for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- Deferent between  oropharengyeal / nasopharyngeal suctioning and endotracheal / tracheostomy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Purposes for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Indications for suctioning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Choosing the right size cathet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عنوان 1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454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شكل بيضاوي 1"/>
          <p:cNvSpPr/>
          <p:nvPr/>
        </p:nvSpPr>
        <p:spPr>
          <a:xfrm>
            <a:off x="500040" y="214200"/>
            <a:ext cx="8143920" cy="92880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شكل بيضاوي 2"/>
          <p:cNvSpPr/>
          <p:nvPr/>
        </p:nvSpPr>
        <p:spPr>
          <a:xfrm>
            <a:off x="571680" y="1285920"/>
            <a:ext cx="8072280" cy="1285920"/>
          </a:xfrm>
          <a:prstGeom prst="ellipse">
            <a:avLst/>
          </a:prstGeom>
          <a:solidFill>
            <a:srgbClr val="fcf059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  <a:ea typeface="Arial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onstantia"/>
                <a:ea typeface="Arial"/>
              </a:rPr>
              <a:t>For Nasopharyngeal s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مخطط انسيابي: بيانات 3"/>
          <p:cNvSpPr/>
          <p:nvPr/>
        </p:nvSpPr>
        <p:spPr>
          <a:xfrm>
            <a:off x="285840" y="2857680"/>
            <a:ext cx="7786440" cy="3571560"/>
          </a:xfrm>
          <a:prstGeom prst="flowChartInputOutpu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Advance the catheter along the nasal cavity with out sucti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Never force the catheter against an obstruc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85840" y="1523880"/>
            <a:ext cx="84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8- Perform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9-  clean the catheter and apply suction again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sp>
        <p:nvSpPr>
          <p:cNvPr id="243" name="مستطيل مستدير الزوايا 5"/>
          <p:cNvSpPr/>
          <p:nvPr/>
        </p:nvSpPr>
        <p:spPr>
          <a:xfrm>
            <a:off x="285840" y="3071880"/>
            <a:ext cx="8715240" cy="3571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Wipe off the catheter with sterile gauz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Flash the catheter with sterile water or sa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Relubricate the catheter and repeat suctioning until the air passage is clea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سهم للأسفل 6"/>
          <p:cNvSpPr/>
          <p:nvPr/>
        </p:nvSpPr>
        <p:spPr>
          <a:xfrm>
            <a:off x="4357800" y="2643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sp>
        <p:nvSpPr>
          <p:cNvPr id="246" name="مستطيل مستدير الزوايا 2"/>
          <p:cNvSpPr/>
          <p:nvPr/>
        </p:nvSpPr>
        <p:spPr>
          <a:xfrm>
            <a:off x="285840" y="1714680"/>
            <a:ext cx="8501040" cy="4572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Allow 20 t0 30 second intervals between each suction and limit suctioning to 5 minutes in total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Alternate nares for repeat suc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Encourage the client to breath deeply and to cough between suctioni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– Obtain specimen if required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promote the patient comfor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2- Dispose of equipment and ensure availability for the next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3- Assess the effectiveness of suctioning 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8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pic>
        <p:nvPicPr>
          <p:cNvPr id="249" name="صورة 4" descr="obtaine spaicemen.jpg"/>
          <p:cNvPicPr/>
          <p:nvPr/>
        </p:nvPicPr>
        <p:blipFill>
          <a:blip r:embed="rId2"/>
          <a:stretch/>
        </p:blipFill>
        <p:spPr>
          <a:xfrm>
            <a:off x="2786040" y="4286160"/>
            <a:ext cx="3571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promote the patient comfor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2- Dispose of equipment and ensure availability for the next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3- Assess the effectiveness of suctioning 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pic>
        <p:nvPicPr>
          <p:cNvPr id="252" name="صورة 4" descr="NASOPHARYNGEAL SUCTIONING.jpg"/>
          <p:cNvPicPr/>
          <p:nvPr/>
        </p:nvPicPr>
        <p:blipFill>
          <a:blip r:embed="rId2"/>
          <a:stretch/>
        </p:blipFill>
        <p:spPr>
          <a:xfrm>
            <a:off x="642960" y="3786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253" name="صورة 6" descr="OROPHARYNGEAL SUCTIONING.jpg"/>
          <p:cNvPicPr/>
          <p:nvPr/>
        </p:nvPicPr>
        <p:blipFill>
          <a:blip r:embed="rId3"/>
          <a:stretch/>
        </p:blipFill>
        <p:spPr>
          <a:xfrm>
            <a:off x="5000760" y="3786120"/>
            <a:ext cx="3357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شكل بيضاوي 1"/>
          <p:cNvSpPr/>
          <p:nvPr/>
        </p:nvSpPr>
        <p:spPr>
          <a:xfrm>
            <a:off x="571680" y="357120"/>
            <a:ext cx="74293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nstantia"/>
              </a:rPr>
              <a:t>Documentation</a:t>
            </a:r>
            <a:r>
              <a:rPr b="0" lang="en-US" sz="40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خماسي 3"/>
          <p:cNvSpPr/>
          <p:nvPr/>
        </p:nvSpPr>
        <p:spPr>
          <a:xfrm>
            <a:off x="571680" y="2500200"/>
            <a:ext cx="2786040" cy="100008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3" y="0"/>
                </a:lnTo>
                <a:lnTo>
                  <a:pt x="21600" y="10800"/>
                </a:lnTo>
                <a:lnTo>
                  <a:pt x="177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Record the procedu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مستطيل مستدير الزوايا 4"/>
          <p:cNvSpPr/>
          <p:nvPr/>
        </p:nvSpPr>
        <p:spPr>
          <a:xfrm>
            <a:off x="3571920" y="1643040"/>
            <a:ext cx="5286240" cy="2786040"/>
          </a:xfrm>
          <a:prstGeom prst="roundRect">
            <a:avLst>
              <a:gd name="adj" fmla="val 16667"/>
            </a:avLst>
          </a:prstGeom>
          <a:solidFill>
            <a:srgbClr val="c9d3be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The amou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onsisten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olor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Odor of the mucu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lient breathing status before and af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مستطيل 5"/>
          <p:cNvSpPr/>
          <p:nvPr/>
        </p:nvSpPr>
        <p:spPr>
          <a:xfrm>
            <a:off x="500040" y="457200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f the technique is carried out frequently it may be appropriate to record only once , how ever the frequency of suctioning must be record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شكل بيضاوي 1"/>
          <p:cNvSpPr/>
          <p:nvPr/>
        </p:nvSpPr>
        <p:spPr>
          <a:xfrm>
            <a:off x="2571840" y="2643120"/>
            <a:ext cx="3929040" cy="171468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Complications</a:t>
            </a: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مستطيل مستدير الزوايا 2"/>
          <p:cNvSpPr/>
          <p:nvPr/>
        </p:nvSpPr>
        <p:spPr>
          <a:xfrm>
            <a:off x="5929200" y="357120"/>
            <a:ext cx="2643480" cy="25718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rauma to the airway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مستطيل مستدير الزوايا 3"/>
          <p:cNvSpPr/>
          <p:nvPr/>
        </p:nvSpPr>
        <p:spPr>
          <a:xfrm>
            <a:off x="285840" y="285840"/>
            <a:ext cx="2714400" cy="25718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ypoxemi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مستطيل مستدير الزوايا 4"/>
          <p:cNvSpPr/>
          <p:nvPr/>
        </p:nvSpPr>
        <p:spPr>
          <a:xfrm>
            <a:off x="6143760" y="4000680"/>
            <a:ext cx="2643120" cy="25714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ardiac dysrhythmi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مستطيل مستدير الزوايا 5"/>
          <p:cNvSpPr/>
          <p:nvPr/>
        </p:nvSpPr>
        <p:spPr>
          <a:xfrm>
            <a:off x="357120" y="4000680"/>
            <a:ext cx="2643120" cy="25714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osocomial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مستطيل مستدير الزوايا 3"/>
          <p:cNvSpPr/>
          <p:nvPr/>
        </p:nvSpPr>
        <p:spPr>
          <a:xfrm>
            <a:off x="285840" y="357120"/>
            <a:ext cx="8572320" cy="1285920"/>
          </a:xfrm>
          <a:prstGeom prst="roundRect">
            <a:avLst>
              <a:gd name="adj" fmla="val 16667"/>
            </a:avLst>
          </a:prstGeom>
          <a:solidFill>
            <a:srgbClr val="fdf69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76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Suction only as needed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sterile techniqu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- Hyperinfla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Hyperoxygena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safe catheter siz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No saline instill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عنوان 1" descr=""/>
          <p:cNvPicPr/>
          <p:nvPr/>
        </p:nvPicPr>
        <p:blipFill>
          <a:blip r:embed="rId1"/>
          <a:stretch/>
        </p:blipFill>
        <p:spPr>
          <a:xfrm>
            <a:off x="285840" y="158760"/>
            <a:ext cx="84438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2876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Thank you for your listening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68" name="وجه ضاحك 3"/>
          <p:cNvSpPr/>
          <p:nvPr/>
        </p:nvSpPr>
        <p:spPr>
          <a:xfrm>
            <a:off x="3286080" y="3857760"/>
            <a:ext cx="2786040" cy="2214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7- Setting the correct pressur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8- The procedur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9- Documentatio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- Complications of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Techniques to minimize or decrease the complications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عنوان 2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454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شكل بيضاوي 1"/>
          <p:cNvGrpSpPr/>
          <p:nvPr/>
        </p:nvGrpSpPr>
        <p:grpSpPr>
          <a:xfrm>
            <a:off x="1322280" y="566640"/>
            <a:ext cx="6353280" cy="2036880"/>
            <a:chOff x="1322280" y="566640"/>
            <a:chExt cx="6353280" cy="2036880"/>
          </a:xfrm>
        </p:grpSpPr>
        <p:pic>
          <p:nvPicPr>
            <p:cNvPr id="177" name="شكل بيضاوي 1" descr=""/>
            <p:cNvPicPr/>
            <p:nvPr/>
          </p:nvPicPr>
          <p:blipFill>
            <a:blip r:embed="rId1"/>
            <a:stretch/>
          </p:blipFill>
          <p:spPr>
            <a:xfrm>
              <a:off x="1322280" y="566640"/>
              <a:ext cx="63532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328840" y="944640"/>
              <a:ext cx="434340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d0d0d"/>
                  </a:solidFill>
                  <a:latin typeface="Constantia"/>
                </a:rPr>
                <a:t>Suctioning Definition</a:t>
              </a:r>
              <a:r>
                <a:rPr b="0" lang="en-US" sz="4400" spc="-1" strike="noStrike">
                  <a:solidFill>
                    <a:srgbClr val="0d0d0d"/>
                  </a:solidFill>
                  <a:latin typeface="Constantia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سهم للأسفل 2"/>
          <p:cNvSpPr/>
          <p:nvPr/>
        </p:nvSpPr>
        <p:spPr>
          <a:xfrm>
            <a:off x="4429080" y="250020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مستطيل مستدير الزوايا 3"/>
          <p:cNvSpPr/>
          <p:nvPr/>
        </p:nvSpPr>
        <p:spPr>
          <a:xfrm>
            <a:off x="928800" y="3286080"/>
            <a:ext cx="7358040" cy="2286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spirating secretion through a catheter connected to a suction machine or wall suction out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مستطيل مستدير الزوايا 2"/>
          <p:cNvGrpSpPr/>
          <p:nvPr/>
        </p:nvGrpSpPr>
        <p:grpSpPr>
          <a:xfrm>
            <a:off x="2109960" y="2755800"/>
            <a:ext cx="5138640" cy="1560600"/>
            <a:chOff x="2109960" y="2755800"/>
            <a:chExt cx="5138640" cy="1560600"/>
          </a:xfrm>
        </p:grpSpPr>
        <p:pic>
          <p:nvPicPr>
            <p:cNvPr id="182" name="مستطيل مستدير الزوايا 2" descr=""/>
            <p:cNvPicPr/>
            <p:nvPr/>
          </p:nvPicPr>
          <p:blipFill>
            <a:blip r:embed="rId1"/>
            <a:stretch/>
          </p:blipFill>
          <p:spPr>
            <a:xfrm>
              <a:off x="2109960" y="2755800"/>
              <a:ext cx="51386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281320" y="2924280"/>
              <a:ext cx="47959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d0d0d"/>
                  </a:solidFill>
                  <a:latin typeface="Constantia"/>
                </a:rPr>
                <a:t>Sites for Suctioning</a:t>
              </a:r>
              <a:r>
                <a:rPr b="1" lang="en-US" sz="3200" spc="-1" strike="noStrike">
                  <a:solidFill>
                    <a:srgbClr val="0d0d0d"/>
                  </a:solidFill>
                  <a:latin typeface="Constantia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وسيلة شرح على شكل سحابة 3"/>
          <p:cNvSpPr/>
          <p:nvPr/>
        </p:nvSpPr>
        <p:spPr>
          <a:xfrm>
            <a:off x="4572000" y="785880"/>
            <a:ext cx="4429080" cy="1785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Oropharynge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وسيلة شرح على شكل سحابة 4"/>
          <p:cNvSpPr/>
          <p:nvPr/>
        </p:nvSpPr>
        <p:spPr>
          <a:xfrm>
            <a:off x="0" y="785880"/>
            <a:ext cx="4500720" cy="1857240"/>
          </a:xfrm>
          <a:prstGeom prst="cloudCallout">
            <a:avLst>
              <a:gd name="adj1" fmla="val 28680"/>
              <a:gd name="adj2" fmla="val 57759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Nasopharynge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وسيلة شرح على شكل سحابة 5"/>
          <p:cNvSpPr/>
          <p:nvPr/>
        </p:nvSpPr>
        <p:spPr>
          <a:xfrm>
            <a:off x="142920" y="4643280"/>
            <a:ext cx="4429080" cy="1643400"/>
          </a:xfrm>
          <a:prstGeom prst="cloudCallout">
            <a:avLst>
              <a:gd name="adj1" fmla="val 24740"/>
              <a:gd name="adj2" fmla="val -69773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Endotracheal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وسيلة شرح على شكل سحابة 6"/>
          <p:cNvSpPr/>
          <p:nvPr/>
        </p:nvSpPr>
        <p:spPr>
          <a:xfrm>
            <a:off x="4572000" y="4714920"/>
            <a:ext cx="4429080" cy="1643040"/>
          </a:xfrm>
          <a:prstGeom prst="cloudCallout">
            <a:avLst>
              <a:gd name="adj1" fmla="val -9962"/>
              <a:gd name="adj2" fmla="val -74967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racheostom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شكل بيضاوي 4"/>
          <p:cNvSpPr/>
          <p:nvPr/>
        </p:nvSpPr>
        <p:spPr>
          <a:xfrm>
            <a:off x="214200" y="357120"/>
            <a:ext cx="8572680" cy="207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5840" y="3143160"/>
          <a:ext cx="8643960" cy="3071880"/>
        </p:xfrm>
        <a:graphic>
          <a:graphicData uri="http://schemas.openxmlformats.org/drawingml/2006/table">
            <a:tbl>
              <a:tblPr/>
              <a:tblGrid>
                <a:gridCol w="3630600"/>
                <a:gridCol w="5013360"/>
              </a:tblGrid>
              <a:tr h="174960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ropharyngeal /Nasopharyngeal suctio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ndotracheal/Tracheostomy suctionin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</a:tr>
              <a:tr h="1322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move secretion from th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upp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spiratory tract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move secretion from the trachea and bronchi or th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ow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spiratory tract 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</a:tbl>
          </a:graphicData>
        </a:graphic>
      </p:graphicFrame>
      <p:pic>
        <p:nvPicPr>
          <p:cNvPr id="190" name="عنوان 1" descr=""/>
          <p:cNvPicPr/>
          <p:nvPr/>
        </p:nvPicPr>
        <p:blipFill>
          <a:blip r:embed="rId1"/>
          <a:stretch/>
        </p:blipFill>
        <p:spPr>
          <a:xfrm>
            <a:off x="487440" y="512640"/>
            <a:ext cx="8315280" cy="1839960"/>
          </a:xfrm>
          <a:prstGeom prst="rect">
            <a:avLst/>
          </a:prstGeom>
          <a:ln w="0">
            <a:noFill/>
          </a:ln>
        </p:spPr>
      </p:pic>
      <p:sp>
        <p:nvSpPr>
          <p:cNvPr id="191" name="سهم للأسفل 5"/>
          <p:cNvSpPr/>
          <p:nvPr/>
        </p:nvSpPr>
        <p:spPr>
          <a:xfrm>
            <a:off x="4357800" y="2571840"/>
            <a:ext cx="4284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381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شكل بيضاوي 2"/>
          <p:cNvSpPr/>
          <p:nvPr/>
        </p:nvSpPr>
        <p:spPr>
          <a:xfrm>
            <a:off x="5072040" y="214200"/>
            <a:ext cx="3929040" cy="1500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racheal/ Endotracheal suction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شكل بيضاوي 3"/>
          <p:cNvSpPr/>
          <p:nvPr/>
        </p:nvSpPr>
        <p:spPr>
          <a:xfrm>
            <a:off x="142920" y="214200"/>
            <a:ext cx="3786120" cy="1428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Oral / Nasal suction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مستطيل مستدير الزوايا 4"/>
          <p:cNvGrpSpPr/>
          <p:nvPr/>
        </p:nvGrpSpPr>
        <p:grpSpPr>
          <a:xfrm>
            <a:off x="182520" y="1487520"/>
            <a:ext cx="3494160" cy="5443560"/>
            <a:chOff x="182520" y="1487520"/>
            <a:chExt cx="3494160" cy="5443560"/>
          </a:xfrm>
        </p:grpSpPr>
        <p:pic>
          <p:nvPicPr>
            <p:cNvPr id="195" name="مستطيل مستدير الزوايا 4" descr=""/>
            <p:cNvPicPr/>
            <p:nvPr/>
          </p:nvPicPr>
          <p:blipFill>
            <a:blip r:embed="rId1"/>
            <a:stretch/>
          </p:blipFill>
          <p:spPr>
            <a:xfrm>
              <a:off x="182520" y="1487520"/>
              <a:ext cx="349416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46040" y="1874880"/>
              <a:ext cx="296532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1- maintain oral/ nasal hygiene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2- comfort for the patient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3- remove blood and vomit in an emergency situation.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مستطيل مستدير الزوايا 5"/>
          <p:cNvGrpSpPr/>
          <p:nvPr/>
        </p:nvGrpSpPr>
        <p:grpSpPr>
          <a:xfrm>
            <a:off x="5394240" y="1682640"/>
            <a:ext cx="3591000" cy="5035680"/>
            <a:chOff x="5394240" y="1682640"/>
            <a:chExt cx="3591000" cy="5035680"/>
          </a:xfrm>
        </p:grpSpPr>
        <p:pic>
          <p:nvPicPr>
            <p:cNvPr id="198" name="مستطيل مستدير الزوايا 5" descr=""/>
            <p:cNvPicPr/>
            <p:nvPr/>
          </p:nvPicPr>
          <p:blipFill>
            <a:blip r:embed="rId2"/>
            <a:stretch/>
          </p:blipFill>
          <p:spPr>
            <a:xfrm>
              <a:off x="5394240" y="1682640"/>
              <a:ext cx="359100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664240" y="1949400"/>
              <a:ext cx="3030480" cy="44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Remove pulmonary secretions in patients who are unable to cough and clear their own secretions effectively.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وسيلة شرح مع سهم إلى اليسار واليمين 6"/>
          <p:cNvSpPr/>
          <p:nvPr/>
        </p:nvSpPr>
        <p:spPr>
          <a:xfrm>
            <a:off x="3643200" y="0"/>
            <a:ext cx="1785960" cy="6858000"/>
          </a:xfrm>
          <a:custGeom>
            <a:avLst/>
            <a:gdLst>
              <a:gd name="textAreaLeft" fmla="*/ 463320 w 1785960"/>
              <a:gd name="textAreaRight" fmla="*/ 1322640 w 17859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10097"/>
                </a:lnTo>
                <a:lnTo>
                  <a:pt x="16200" y="10097"/>
                </a:lnTo>
                <a:lnTo>
                  <a:pt x="16200" y="9394"/>
                </a:lnTo>
                <a:lnTo>
                  <a:pt x="21600" y="10800"/>
                </a:lnTo>
                <a:lnTo>
                  <a:pt x="16200" y="12206"/>
                </a:lnTo>
                <a:lnTo>
                  <a:pt x="16200" y="11503"/>
                </a:lnTo>
                <a:lnTo>
                  <a:pt x="15997" y="11503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1503"/>
                </a:lnTo>
                <a:lnTo>
                  <a:pt x="5400" y="11503"/>
                </a:lnTo>
                <a:lnTo>
                  <a:pt x="5400" y="12206"/>
                </a:lnTo>
                <a:lnTo>
                  <a:pt x="0" y="10800"/>
                </a:lnTo>
                <a:lnTo>
                  <a:pt x="5400" y="9394"/>
                </a:lnTo>
                <a:lnTo>
                  <a:pt x="5400" y="10097"/>
                </a:lnTo>
                <a:lnTo>
                  <a:pt x="5603" y="10097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of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85840" y="1571400"/>
            <a:ext cx="8572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Constantia"/>
              </a:rPr>
              <a:t>Oropharyngeal  and Nasopharyngeal  suctioning required for: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1- Patient who has undergone head and neck surgery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- Signs of respiratory distress 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3- Evidence of unable to cough up and expectorate secreations 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3" name="شكل بيضاوي 4"/>
          <p:cNvSpPr/>
          <p:nvPr/>
        </p:nvSpPr>
        <p:spPr>
          <a:xfrm>
            <a:off x="428760" y="285840"/>
            <a:ext cx="8143920" cy="1071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onstantia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2876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 Obtain sample of secretion for diagnostic purpose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Prevent  infection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racheal suctioning required fo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Patients unable to clear their secretions themselv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patients with mechanical ventil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عنوان 4" descr=""/>
          <p:cNvPicPr/>
          <p:nvPr/>
        </p:nvPicPr>
        <p:blipFill>
          <a:blip r:embed="rId1"/>
          <a:stretch/>
        </p:blipFill>
        <p:spPr>
          <a:xfrm>
            <a:off x="480960" y="122400"/>
            <a:ext cx="82663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7:03:09Z</dcterms:created>
  <dc:creator>sony</dc:creator>
  <dc:description/>
  <dc:language>en-US</dc:language>
  <cp:lastModifiedBy>Nasima Yahya Awaji</cp:lastModifiedBy>
  <dcterms:modified xsi:type="dcterms:W3CDTF">2016-09-21T06:44:27Z</dcterms:modified>
  <cp:revision>93</cp:revision>
  <dc:subject/>
  <dc:title>Airway Suctioning</dc:title>
</cp:coreProperties>
</file>