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C7F-71DD-4739-9126-89DADC60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A52-1E9A-407C-94F1-68F79EE6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D46-8046-490C-8C07-6316B497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C47-9B25-4620-B200-11D4EF68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1540B-09B1-4706-BFCB-4551C6EC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82DE6-5955-47FF-9EFF-868173EB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DA1AA-675A-43DC-929B-5B28872F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51D3A-A428-48E5-B1FE-E0FB829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4EE34-8C14-49BC-A33D-64783FF0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376AB-F38B-437B-ABC7-92CD1730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F0C7D-2A80-46C9-80BB-C88E2659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CD4-4C3F-4A91-B61C-5075A8BB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C2377-53BE-4BEA-9DC6-8B94F39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78C1-E2C2-4B5D-813F-06A1DE5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8DB7D-3444-4AA5-9111-D8F8EE5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8100B-CD56-4B5A-A16C-32A0B882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7B0AB-81FE-444D-8F3F-1E231F05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F3A6-189E-4CEF-952C-21539556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7F28-CD11-445C-916C-01C397B4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FCBE-D24E-4066-BCA6-95C97C0B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0A6C-D89F-4A80-8B24-4342C21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EB4F-9DBA-4F33-AC84-BA19E97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A98-7CC5-47B9-9407-1FA1A20A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7ADD-A244-482F-8C8F-DC6776B5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264C-67B0-4CD5-B45E-58FDEEB5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224F-40BB-4217-8239-D523EB55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CC4DB-F9B7-4BB9-8BF9-1654180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6506-CF69-4C7D-A39C-BA425B9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3C84-36FA-42F6-AC85-D0B0138F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B230-44C7-4735-A562-EC58CDD4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0C064-61F4-45FF-8B35-35DCCB8A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8C92E-E559-4DE8-8AFD-CA3E72E0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B69AA-B16C-4EF5-B386-68410D73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F2C-2591-4570-9467-F67A683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A2328-607B-4D5F-A64D-3EBF5401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6B1D5-1EEF-499B-9E5D-BD5A01D1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A574C-3298-49CF-BA0D-9B7BBA32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5C6E8-D251-4FFC-A9F5-73F5C43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0299A-CF63-4C72-B7C8-394E15C9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6FDA9-4D40-4258-9F57-77A3B83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1944E-CF36-4EDC-A65A-84FF3AE7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A7E20-BF7E-407B-8854-575C5900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B50BD-1C14-47A6-94E0-A0C6A129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A04-0B84-4505-8F19-E84096B1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B45-5C75-4933-A1FA-ED797BC7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770-9498-4CB6-997D-C9D7BCC4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3CB-ED5C-4826-918B-197DF77A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9A8-C74A-45F2-A252-070422B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617A-86C7-4D59-AFF8-5AD0B4AE7EC6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رابط مستقيم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رابط مستقيم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شكل بيضاوي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10EE-96C1-450B-A5A5-CEF88E89A915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رابط مستقيم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2778-0D6B-46F4-ACE5-8AE671B3E08A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رابط مستقيم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رابط مستقيم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805B-84AE-415F-8856-026B06A87304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onstantia"/>
              </a:rPr>
              <a:t>NUR 42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عنوان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57200" y="1785960"/>
          <a:ext cx="6572520" cy="2803680"/>
        </p:xfrm>
        <a:graphic>
          <a:graphicData uri="http://schemas.openxmlformats.org/drawingml/2006/table">
            <a:tbl>
              <a:tblPr/>
              <a:tblGrid>
                <a:gridCol w="3286080"/>
                <a:gridCol w="328644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ze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12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1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ren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 10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</a:tbl>
          </a:graphicData>
        </a:graphic>
      </p:graphicFrame>
      <p:sp>
        <p:nvSpPr>
          <p:cNvPr id="209" name="مستطيل 4"/>
          <p:cNvSpPr/>
          <p:nvPr/>
        </p:nvSpPr>
        <p:spPr>
          <a:xfrm>
            <a:off x="642960" y="4929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Half the diameter (or less) of the tracheal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شكل بيضاوي 5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5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ow types of suctioning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Whistle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Open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3857760"/>
          <a:ext cx="8358120" cy="17683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whistle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open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ss irritate the airwa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re effective for removing thick mucus plug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14" name="شكل بيضاوي 4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  Cont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عنصر نائب للمحتوى 3" descr="whistle – tipped catheter.jpg"/>
          <p:cNvPicPr/>
          <p:nvPr/>
        </p:nvPicPr>
        <p:blipFill>
          <a:blip r:embed="rId1"/>
          <a:stretch/>
        </p:blipFill>
        <p:spPr>
          <a:xfrm>
            <a:off x="785880" y="121428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16" name="عنصر نائب للمحتوى 6" descr="open – tipped catheter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28760" y="3286080"/>
          <a:ext cx="8165880" cy="3352680"/>
        </p:xfrm>
        <a:graphic>
          <a:graphicData uri="http://schemas.openxmlformats.org/drawingml/2006/table">
            <a:tbl>
              <a:tblPr/>
              <a:tblGrid>
                <a:gridCol w="1752480"/>
                <a:gridCol w="3076560"/>
                <a:gridCol w="333684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all Un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table Unit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to 120 mm Hg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10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0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9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5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3071880" cy="2027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357880" y="1214280"/>
            <a:ext cx="3286080" cy="2000520"/>
          </a:xfrm>
          <a:prstGeom prst="rect">
            <a:avLst/>
          </a:prstGeom>
          <a:ln w="0">
            <a:noFill/>
          </a:ln>
        </p:spPr>
      </p:pic>
      <p:sp>
        <p:nvSpPr>
          <p:cNvPr id="221" name="شكل بيضاوي 5"/>
          <p:cNvSpPr/>
          <p:nvPr/>
        </p:nvSpPr>
        <p:spPr>
          <a:xfrm>
            <a:off x="642960" y="0"/>
            <a:ext cx="7786800" cy="107172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Setting the Correct Pressure</a:t>
            </a: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شكل بيضاوي 1"/>
          <p:cNvSpPr/>
          <p:nvPr/>
        </p:nvSpPr>
        <p:spPr>
          <a:xfrm>
            <a:off x="1785960" y="357120"/>
            <a:ext cx="500076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وسيلة شرح مع سهم إلى اليمين 2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- Towel or moisture – resistant pa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2- Portable or wall suctioning machine with tubing and collection recep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3- sterile deposable container for fluid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4- Sterile normal saline or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وسيلة شرح مع سهم إلى اليمين 1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شكل بيضاوي 2"/>
          <p:cNvSpPr/>
          <p:nvPr/>
        </p:nvSpPr>
        <p:spPr>
          <a:xfrm>
            <a:off x="857160" y="357120"/>
            <a:ext cx="721512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5- Sterile glov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6- Goggles or face shiel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7- Sterile Suction Catheter ki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8- Water – soluble lubrica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0- sterile gau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1- Moisture resistant disposable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2- Sputum trap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osition the patien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8760" y="2643120"/>
          <a:ext cx="8358120" cy="3641760"/>
        </p:xfrm>
        <a:graphic>
          <a:graphicData uri="http://schemas.openxmlformats.org/drawingml/2006/table">
            <a:tbl>
              <a:tblPr/>
              <a:tblGrid>
                <a:gridCol w="4179600"/>
                <a:gridCol w="41785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Un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0460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mi – Fowler’s position 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ad turned to one side for oral suctioning 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 nasal suctioning with the neck hyperextended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eral position and the patient facing you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30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صورة 1" descr="ty_zvfzfd.jpg"/>
          <p:cNvPicPr/>
          <p:nvPr/>
        </p:nvPicPr>
        <p:blipFill>
          <a:blip r:embed="rId1"/>
          <a:stretch/>
        </p:blipFill>
        <p:spPr>
          <a:xfrm>
            <a:off x="1071720" y="1143000"/>
            <a:ext cx="3071520" cy="4286160"/>
          </a:xfrm>
          <a:prstGeom prst="rect">
            <a:avLst/>
          </a:prstGeom>
          <a:ln w="0">
            <a:noFill/>
          </a:ln>
        </p:spPr>
      </p:pic>
      <p:pic>
        <p:nvPicPr>
          <p:cNvPr id="232" name="صورة 2" descr="oral suctioning position.jpg"/>
          <p:cNvPicPr/>
          <p:nvPr/>
        </p:nvPicPr>
        <p:blipFill>
          <a:blip r:embed="rId2"/>
          <a:stretch/>
        </p:blipFill>
        <p:spPr>
          <a:xfrm>
            <a:off x="5214960" y="114300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004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prepare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make approximate measure of the depth for the insertion of the catheter and test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lubricate and introduce the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عنوان 3" descr=""/>
          <p:cNvPicPr/>
          <p:nvPr/>
        </p:nvPicPr>
        <p:blipFill>
          <a:blip r:embed="rId1"/>
          <a:stretch/>
        </p:blipFill>
        <p:spPr>
          <a:xfrm>
            <a:off x="268200" y="195120"/>
            <a:ext cx="85345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شكل بيضاوي 1"/>
          <p:cNvSpPr/>
          <p:nvPr/>
        </p:nvSpPr>
        <p:spPr>
          <a:xfrm>
            <a:off x="571680" y="142920"/>
            <a:ext cx="800100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شكل بيضاوي 2"/>
          <p:cNvSpPr/>
          <p:nvPr/>
        </p:nvSpPr>
        <p:spPr>
          <a:xfrm>
            <a:off x="285840" y="1214280"/>
            <a:ext cx="8429400" cy="12859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2226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For Oropharyngeal suctioning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مخطط انسيابي: بيانات 3"/>
          <p:cNvSpPr/>
          <p:nvPr/>
        </p:nvSpPr>
        <p:spPr>
          <a:xfrm>
            <a:off x="428760" y="2571840"/>
            <a:ext cx="7643520" cy="400032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Pull the tongue forwar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Do not apply suction during inser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bout 10 to 15 cm along on side of the mouth into oro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Definition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ites for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Deferent between  oropharengyeal / nasopharyngeal suctioning and endotracheal / tracheostomy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urposes for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Indications for suctioning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Choosing the right size cathet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عنوان 1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شكل بيضاوي 1"/>
          <p:cNvSpPr/>
          <p:nvPr/>
        </p:nvSpPr>
        <p:spPr>
          <a:xfrm>
            <a:off x="500040" y="214200"/>
            <a:ext cx="814392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شكل بيضاوي 2"/>
          <p:cNvSpPr/>
          <p:nvPr/>
        </p:nvSpPr>
        <p:spPr>
          <a:xfrm>
            <a:off x="571680" y="1285920"/>
            <a:ext cx="8072280" cy="1285920"/>
          </a:xfrm>
          <a:prstGeom prst="ellipse">
            <a:avLst/>
          </a:prstGeom>
          <a:solidFill>
            <a:srgbClr val="fcf059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For Nasopharyngeal s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مخطط انسيابي: بيانات 3"/>
          <p:cNvSpPr/>
          <p:nvPr/>
        </p:nvSpPr>
        <p:spPr>
          <a:xfrm>
            <a:off x="285840" y="2857680"/>
            <a:ext cx="7786440" cy="357156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long the nasal cavity with out suc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Never force the catheter against an obstruc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85840" y="152388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Perform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 clean the catheter and apply suction again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3" name="مستطيل مستدير الزوايا 5"/>
          <p:cNvSpPr/>
          <p:nvPr/>
        </p:nvSpPr>
        <p:spPr>
          <a:xfrm>
            <a:off x="285840" y="3071880"/>
            <a:ext cx="8715240" cy="3571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Wipe off the catheter with sterile gauz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Flash the catheter with sterile water or sa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Relubricate the catheter and repeat suctioning until the air passage is clea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سهم للأسفل 6"/>
          <p:cNvSpPr/>
          <p:nvPr/>
        </p:nvSpPr>
        <p:spPr>
          <a:xfrm>
            <a:off x="4357800" y="2643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6" name="مستطيل مستدير الزوايا 2"/>
          <p:cNvSpPr/>
          <p:nvPr/>
        </p:nvSpPr>
        <p:spPr>
          <a:xfrm>
            <a:off x="285840" y="1714680"/>
            <a:ext cx="8501040" cy="4572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low 20 t0 30 second intervals between each suction and limit suctioning to 5 minutes in total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ternate nares for repeat suc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Encourage the client to breath deeply and to cough between suctioni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– Obtain specimen if required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49" name="صورة 4" descr="obtaine spaicemen.jpg"/>
          <p:cNvPicPr/>
          <p:nvPr/>
        </p:nvPicPr>
        <p:blipFill>
          <a:blip r:embed="rId2"/>
          <a:stretch/>
        </p:blipFill>
        <p:spPr>
          <a:xfrm>
            <a:off x="2786040" y="4286160"/>
            <a:ext cx="3571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52" name="صورة 4" descr="NASOPHARYNGEAL SUCTIONING.jpg"/>
          <p:cNvPicPr/>
          <p:nvPr/>
        </p:nvPicPr>
        <p:blipFill>
          <a:blip r:embed="rId2"/>
          <a:stretch/>
        </p:blipFill>
        <p:spPr>
          <a:xfrm>
            <a:off x="642960" y="3786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253" name="صورة 6" descr="OROPHARYNGEAL SUCTIONING.jpg"/>
          <p:cNvPicPr/>
          <p:nvPr/>
        </p:nvPicPr>
        <p:blipFill>
          <a:blip r:embed="rId3"/>
          <a:stretch/>
        </p:blipFill>
        <p:spPr>
          <a:xfrm>
            <a:off x="5000760" y="3786120"/>
            <a:ext cx="3357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شكل بيضاوي 1"/>
          <p:cNvSpPr/>
          <p:nvPr/>
        </p:nvSpPr>
        <p:spPr>
          <a:xfrm>
            <a:off x="571680" y="357120"/>
            <a:ext cx="74293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Documentation</a:t>
            </a: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خماسي 3"/>
          <p:cNvSpPr/>
          <p:nvPr/>
        </p:nvSpPr>
        <p:spPr>
          <a:xfrm>
            <a:off x="571680" y="2500200"/>
            <a:ext cx="2786040" cy="100008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3" y="0"/>
                </a:lnTo>
                <a:lnTo>
                  <a:pt x="21600" y="10800"/>
                </a:lnTo>
                <a:lnTo>
                  <a:pt x="177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Record the procedu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مستطيل مستدير الزوايا 4"/>
          <p:cNvSpPr/>
          <p:nvPr/>
        </p:nvSpPr>
        <p:spPr>
          <a:xfrm>
            <a:off x="3571920" y="1643040"/>
            <a:ext cx="5286240" cy="2786040"/>
          </a:xfrm>
          <a:prstGeom prst="roundRect">
            <a:avLst>
              <a:gd name="adj" fmla="val 16667"/>
            </a:avLst>
          </a:prstGeom>
          <a:solidFill>
            <a:srgbClr val="c9d3be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The amou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nsist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lo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Odor of the mucu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lient breathing status before and af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500040" y="457200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f the technique is carried out frequently it may be appropriate to record only once , how ever the frequency of suctioning must be recor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شكل بيضاوي 1"/>
          <p:cNvSpPr/>
          <p:nvPr/>
        </p:nvSpPr>
        <p:spPr>
          <a:xfrm>
            <a:off x="2571840" y="2643120"/>
            <a:ext cx="3929040" cy="171468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Complications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مستطيل مستدير الزوايا 2"/>
          <p:cNvSpPr/>
          <p:nvPr/>
        </p:nvSpPr>
        <p:spPr>
          <a:xfrm>
            <a:off x="5929200" y="357120"/>
            <a:ext cx="264348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uma to the airway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مستطيل مستدير الزوايا 3"/>
          <p:cNvSpPr/>
          <p:nvPr/>
        </p:nvSpPr>
        <p:spPr>
          <a:xfrm>
            <a:off x="285840" y="285840"/>
            <a:ext cx="271440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ypoxe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مستطيل مستدير الزوايا 4"/>
          <p:cNvSpPr/>
          <p:nvPr/>
        </p:nvSpPr>
        <p:spPr>
          <a:xfrm>
            <a:off x="614376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ardiac dysrhyth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مستطيل مستدير الزوايا 5"/>
          <p:cNvSpPr/>
          <p:nvPr/>
        </p:nvSpPr>
        <p:spPr>
          <a:xfrm>
            <a:off x="35712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osocomial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مستطيل مستدير الزوايا 3"/>
          <p:cNvSpPr/>
          <p:nvPr/>
        </p:nvSpPr>
        <p:spPr>
          <a:xfrm>
            <a:off x="285840" y="357120"/>
            <a:ext cx="8572320" cy="1285920"/>
          </a:xfrm>
          <a:prstGeom prst="roundRect">
            <a:avLst>
              <a:gd name="adj" fmla="val 16667"/>
            </a:avLst>
          </a:prstGeom>
          <a:solidFill>
            <a:srgbClr val="fdf69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76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Suction only as needed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terile techniqu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Hyperinfl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Hyperoxygen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safe catheter siz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No saline instil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عنوان 1" descr=""/>
          <p:cNvPicPr/>
          <p:nvPr/>
        </p:nvPicPr>
        <p:blipFill>
          <a:blip r:embed="rId1"/>
          <a:stretch/>
        </p:blipFill>
        <p:spPr>
          <a:xfrm>
            <a:off x="285840" y="158760"/>
            <a:ext cx="84438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2876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Thank you for your listening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68" name="وجه ضاحك 3"/>
          <p:cNvSpPr/>
          <p:nvPr/>
        </p:nvSpPr>
        <p:spPr>
          <a:xfrm>
            <a:off x="3286080" y="3857760"/>
            <a:ext cx="2786040" cy="2214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Setting the correct press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The proced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Documentati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- Complications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Techniques to minimize or decrease the complications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عنوان 2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شكل بيضاوي 1"/>
          <p:cNvGrpSpPr/>
          <p:nvPr/>
        </p:nvGrpSpPr>
        <p:grpSpPr>
          <a:xfrm>
            <a:off x="1322280" y="566640"/>
            <a:ext cx="6353280" cy="2036880"/>
            <a:chOff x="1322280" y="566640"/>
            <a:chExt cx="6353280" cy="2036880"/>
          </a:xfrm>
        </p:grpSpPr>
        <p:pic>
          <p:nvPicPr>
            <p:cNvPr id="177" name="شكل بيضاوي 1" descr=""/>
            <p:cNvPicPr/>
            <p:nvPr/>
          </p:nvPicPr>
          <p:blipFill>
            <a:blip r:embed="rId1"/>
            <a:stretch/>
          </p:blipFill>
          <p:spPr>
            <a:xfrm>
              <a:off x="1322280" y="566640"/>
              <a:ext cx="63532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328840" y="944640"/>
              <a:ext cx="43434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Suctioning Definition</a:t>
              </a: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سهم للأسفل 2"/>
          <p:cNvSpPr/>
          <p:nvPr/>
        </p:nvSpPr>
        <p:spPr>
          <a:xfrm>
            <a:off x="4429080" y="250020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مستطيل مستدير الزوايا 3"/>
          <p:cNvSpPr/>
          <p:nvPr/>
        </p:nvSpPr>
        <p:spPr>
          <a:xfrm>
            <a:off x="928800" y="3286080"/>
            <a:ext cx="7358040" cy="2286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spirating secretion through a catheter connected to a suction machine or wall suction out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مستطيل مستدير الزوايا 2"/>
          <p:cNvGrpSpPr/>
          <p:nvPr/>
        </p:nvGrpSpPr>
        <p:grpSpPr>
          <a:xfrm>
            <a:off x="2109960" y="2755800"/>
            <a:ext cx="5138640" cy="1560600"/>
            <a:chOff x="2109960" y="2755800"/>
            <a:chExt cx="5138640" cy="1560600"/>
          </a:xfrm>
        </p:grpSpPr>
        <p:pic>
          <p:nvPicPr>
            <p:cNvPr id="182" name="مستطيل مستدير الزوايا 2" descr=""/>
            <p:cNvPicPr/>
            <p:nvPr/>
          </p:nvPicPr>
          <p:blipFill>
            <a:blip r:embed="rId1"/>
            <a:stretch/>
          </p:blipFill>
          <p:spPr>
            <a:xfrm>
              <a:off x="2109960" y="2755800"/>
              <a:ext cx="51386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281320" y="2924280"/>
              <a:ext cx="47959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Sites for Suctioning</a:t>
              </a: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وسيلة شرح على شكل سحابة 3"/>
          <p:cNvSpPr/>
          <p:nvPr/>
        </p:nvSpPr>
        <p:spPr>
          <a:xfrm>
            <a:off x="4572000" y="785880"/>
            <a:ext cx="4429080" cy="1785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Or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وسيلة شرح على شكل سحابة 4"/>
          <p:cNvSpPr/>
          <p:nvPr/>
        </p:nvSpPr>
        <p:spPr>
          <a:xfrm>
            <a:off x="0" y="785880"/>
            <a:ext cx="4500720" cy="1857240"/>
          </a:xfrm>
          <a:prstGeom prst="cloudCallout">
            <a:avLst>
              <a:gd name="adj1" fmla="val 28680"/>
              <a:gd name="adj2" fmla="val 57759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Nas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وسيلة شرح على شكل سحابة 5"/>
          <p:cNvSpPr/>
          <p:nvPr/>
        </p:nvSpPr>
        <p:spPr>
          <a:xfrm>
            <a:off x="142920" y="4643280"/>
            <a:ext cx="4429080" cy="1643400"/>
          </a:xfrm>
          <a:prstGeom prst="cloudCallout">
            <a:avLst>
              <a:gd name="adj1" fmla="val 24740"/>
              <a:gd name="adj2" fmla="val -69773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Endotracheal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وسيلة شرح على شكل سحابة 6"/>
          <p:cNvSpPr/>
          <p:nvPr/>
        </p:nvSpPr>
        <p:spPr>
          <a:xfrm>
            <a:off x="4572000" y="4714920"/>
            <a:ext cx="4429080" cy="1643040"/>
          </a:xfrm>
          <a:prstGeom prst="cloudCallout">
            <a:avLst>
              <a:gd name="adj1" fmla="val -9962"/>
              <a:gd name="adj2" fmla="val -74967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cheostom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شكل بيضاوي 4"/>
          <p:cNvSpPr/>
          <p:nvPr/>
        </p:nvSpPr>
        <p:spPr>
          <a:xfrm>
            <a:off x="214200" y="357120"/>
            <a:ext cx="8572680" cy="207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5840" y="3143160"/>
          <a:ext cx="8643960" cy="3071880"/>
        </p:xfrm>
        <a:graphic>
          <a:graphicData uri="http://schemas.openxmlformats.org/drawingml/2006/table">
            <a:tbl>
              <a:tblPr/>
              <a:tblGrid>
                <a:gridCol w="3630600"/>
                <a:gridCol w="5013360"/>
              </a:tblGrid>
              <a:tr h="17496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ropharyngeal /Nasopharyngeal suctio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ndotracheal/Tracheostomy suctionin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22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upp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trachea and bronchi or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ow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pic>
        <p:nvPicPr>
          <p:cNvPr id="190" name="عنوان 1" descr=""/>
          <p:cNvPicPr/>
          <p:nvPr/>
        </p:nvPicPr>
        <p:blipFill>
          <a:blip r:embed="rId1"/>
          <a:stretch/>
        </p:blipFill>
        <p:spPr>
          <a:xfrm>
            <a:off x="487440" y="512640"/>
            <a:ext cx="8315280" cy="1839960"/>
          </a:xfrm>
          <a:prstGeom prst="rect">
            <a:avLst/>
          </a:prstGeom>
          <a:ln w="0">
            <a:noFill/>
          </a:ln>
        </p:spPr>
      </p:pic>
      <p:sp>
        <p:nvSpPr>
          <p:cNvPr id="191" name="سهم للأسفل 5"/>
          <p:cNvSpPr/>
          <p:nvPr/>
        </p:nvSpPr>
        <p:spPr>
          <a:xfrm>
            <a:off x="4357800" y="2571840"/>
            <a:ext cx="4284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381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شكل بيضاوي 2"/>
          <p:cNvSpPr/>
          <p:nvPr/>
        </p:nvSpPr>
        <p:spPr>
          <a:xfrm>
            <a:off x="5072040" y="214200"/>
            <a:ext cx="3929040" cy="1500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/ Endotrache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شكل بيضاوي 3"/>
          <p:cNvSpPr/>
          <p:nvPr/>
        </p:nvSpPr>
        <p:spPr>
          <a:xfrm>
            <a:off x="142920" y="214200"/>
            <a:ext cx="3786120" cy="1428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Oral / Nas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مستطيل مستدير الزوايا 4"/>
          <p:cNvGrpSpPr/>
          <p:nvPr/>
        </p:nvGrpSpPr>
        <p:grpSpPr>
          <a:xfrm>
            <a:off x="182520" y="1487520"/>
            <a:ext cx="3494160" cy="5443560"/>
            <a:chOff x="182520" y="1487520"/>
            <a:chExt cx="3494160" cy="5443560"/>
          </a:xfrm>
        </p:grpSpPr>
        <p:pic>
          <p:nvPicPr>
            <p:cNvPr id="195" name="مستطيل مستدير الزوايا 4" descr=""/>
            <p:cNvPicPr/>
            <p:nvPr/>
          </p:nvPicPr>
          <p:blipFill>
            <a:blip r:embed="rId1"/>
            <a:stretch/>
          </p:blipFill>
          <p:spPr>
            <a:xfrm>
              <a:off x="182520" y="1487520"/>
              <a:ext cx="349416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46040" y="1874880"/>
              <a:ext cx="29653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1- maintain oral/ nasal hygiene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2- comfort for the patient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3- remove blood and vomit in an emergency situation.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مستطيل مستدير الزوايا 5"/>
          <p:cNvGrpSpPr/>
          <p:nvPr/>
        </p:nvGrpSpPr>
        <p:grpSpPr>
          <a:xfrm>
            <a:off x="5394240" y="1682640"/>
            <a:ext cx="3591000" cy="5035680"/>
            <a:chOff x="5394240" y="1682640"/>
            <a:chExt cx="3591000" cy="5035680"/>
          </a:xfrm>
        </p:grpSpPr>
        <p:pic>
          <p:nvPicPr>
            <p:cNvPr id="198" name="مستطيل مستدير الزوايا 5" descr=""/>
            <p:cNvPicPr/>
            <p:nvPr/>
          </p:nvPicPr>
          <p:blipFill>
            <a:blip r:embed="rId2"/>
            <a:stretch/>
          </p:blipFill>
          <p:spPr>
            <a:xfrm>
              <a:off x="5394240" y="1682640"/>
              <a:ext cx="3591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664240" y="1949400"/>
              <a:ext cx="3030480" cy="44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Remove pulmonary secretions in patients who are unable to cough and clear their own secretions effectively.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وسيلة شرح مع سهم إلى اليسار واليمين 6"/>
          <p:cNvSpPr/>
          <p:nvPr/>
        </p:nvSpPr>
        <p:spPr>
          <a:xfrm>
            <a:off x="3643200" y="0"/>
            <a:ext cx="1785960" cy="6858000"/>
          </a:xfrm>
          <a:custGeom>
            <a:avLst/>
            <a:gdLst>
              <a:gd name="textAreaLeft" fmla="*/ 463320 w 1785960"/>
              <a:gd name="textAreaRight" fmla="*/ 1322640 w 17859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10097"/>
                </a:lnTo>
                <a:lnTo>
                  <a:pt x="16200" y="10097"/>
                </a:lnTo>
                <a:lnTo>
                  <a:pt x="16200" y="9394"/>
                </a:lnTo>
                <a:lnTo>
                  <a:pt x="21600" y="10800"/>
                </a:lnTo>
                <a:lnTo>
                  <a:pt x="16200" y="12206"/>
                </a:lnTo>
                <a:lnTo>
                  <a:pt x="16200" y="11503"/>
                </a:lnTo>
                <a:lnTo>
                  <a:pt x="15997" y="11503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1503"/>
                </a:lnTo>
                <a:lnTo>
                  <a:pt x="5400" y="11503"/>
                </a:lnTo>
                <a:lnTo>
                  <a:pt x="5400" y="12206"/>
                </a:lnTo>
                <a:lnTo>
                  <a:pt x="0" y="10800"/>
                </a:lnTo>
                <a:lnTo>
                  <a:pt x="5400" y="9394"/>
                </a:lnTo>
                <a:lnTo>
                  <a:pt x="5400" y="10097"/>
                </a:lnTo>
                <a:lnTo>
                  <a:pt x="5603" y="10097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of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85840" y="1571400"/>
            <a:ext cx="8572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Constantia"/>
              </a:rPr>
              <a:t>Oropharyngeal  and Nasopharyngeal  suctioning required for: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1- Patient who has undergone head and neck surgery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- Signs of respiratory distres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3- Evidence of unable to cough up and expectorate secreation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3" name="شكل بيضاوي 4"/>
          <p:cNvSpPr/>
          <p:nvPr/>
        </p:nvSpPr>
        <p:spPr>
          <a:xfrm>
            <a:off x="428760" y="285840"/>
            <a:ext cx="8143920" cy="1071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2876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 Obtain sample of secretion for diagnostic purpos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Prevent  infection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 suctioning required fo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Patients unable to clear their secretions themselv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patients with mechanical venti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عنوان 4" descr=""/>
          <p:cNvPicPr/>
          <p:nvPr/>
        </p:nvPicPr>
        <p:blipFill>
          <a:blip r:embed="rId1"/>
          <a:stretch/>
        </p:blipFill>
        <p:spPr>
          <a:xfrm>
            <a:off x="480960" y="122400"/>
            <a:ext cx="82663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7:03:09Z</dcterms:created>
  <dc:creator>sony</dc:creator>
  <dc:description/>
  <dc:language>en-US</dc:language>
  <cp:lastModifiedBy>Nasima Yahya Awaji</cp:lastModifiedBy>
  <dcterms:modified xsi:type="dcterms:W3CDTF">2016-09-21T06:44:27Z</dcterms:modified>
  <cp:revision>93</cp:revision>
  <dc:subject/>
  <dc:title>Airway Suctioning</dc:title>
</cp:coreProperties>
</file>