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827-8D09-4F96-B624-C85B7E02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3BC-A7F2-47C9-B8AA-ECA2C2B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2DE40-5AE5-4B07-B525-E6D5546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34B4F-2923-45E5-A292-C79D97C4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654F-BB4B-4330-A1CA-E321F6A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DA27D-EFD2-4D41-A513-7F49245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C256-F77B-424C-96C7-37E0C85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FF42-1C41-4CC9-9EA0-3F58B4A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48226-28EB-401F-A6C9-032E60A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E2111-D84F-4E59-BB18-F7D0E9E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9D114-7558-48AC-88B7-E17461BF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4CCB7-80B3-4A42-9278-5778B05D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FA8-8FED-4DB2-BA2E-82BD9EB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14E7A-0BEC-491F-B63E-79AF2A58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DB3D0-0435-4B71-B8C3-C9DFFEB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EC1A2-993E-4487-A4E8-BEB46F50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42B69-CEF4-4281-9280-B2C9E970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5D5FB-8CD9-4A47-B5A9-8EB41CB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5D115-26B9-401A-ADD6-814E85E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28C5-1726-45B4-967E-D2FB6E0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6625F-833F-44C2-BE6C-F52B16F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AD5E8-8008-49ED-A9B4-C1650D9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80FDF-285A-437C-B3CC-E62262A3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7E4-10D3-468B-9F07-DED3B016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EB2BD-58D5-4482-B707-F3C6CBAB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B598-9F1E-4A8F-BE23-9E87718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1FD-4C11-47CE-AE5C-330EE17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E39F-5895-46EA-8F19-DC0EDE9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E410-0701-4ED8-87B3-E5986BAF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4A5B-3140-4AB9-B212-8179C953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F6E8-FBF8-4BB5-8F38-554D8CB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B74-8A17-4787-B019-2F65B8A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AD8-FC06-4B4C-B27E-1478DE8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B8F9-30CB-442D-90DC-C89994F2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37CB-22EB-41CB-A562-35CF435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3AD9-902C-4202-8205-C3B5DDB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A5B8-98DA-4832-8D8B-31A27751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D03F-D297-4D7F-B060-4BD90826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53D1A-836D-41D9-A0ED-3328D57E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6151D-CA52-4333-8615-643C769A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B74AD-9174-4C72-B7D0-2F171AC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897DD-4959-4265-BC27-A523AB0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AA8BF-D426-4EC8-A1E7-E620CF0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140-0CDB-4235-83DC-963B216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6E5A0-B927-4EAC-8C2B-21942C6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2AF1A-A60D-4ECF-A1B9-EC1D559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BD16A-F90B-4775-B82F-74A7066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6564A-7D11-4B24-BB4C-E8D0814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8D40A-2915-47B5-92DA-4BB75007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DC560-DC5B-4CEA-A21A-7F64F84C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D4821-62D8-423F-AB0B-EA7402B7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C13D2-AA22-4B07-B195-225504B2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1E18D-D110-403D-A2FF-BA707CD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CE154-2802-44C7-AD1B-E19036B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BC7-18AA-464D-B242-DD8A841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E0532-258A-4A47-890C-B7DB1C36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822D0-DA24-4CE1-99EC-29612FC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D39BF-BE30-4344-8E44-DC7F4BF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FD086-E38B-4131-8D1F-5D62F38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7E69B-2071-47C0-9E8C-0D76562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B8480-9796-47E6-8C26-D2CF832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17FD5-6A1D-4002-8B2C-2EBE3A3D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76DAA-C160-41BE-B34C-1AC7A84F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12A48-62EC-46EE-A8FC-7B0DCE6E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F4CCD-B7DA-4F91-BB5B-DA8802BB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284-9369-4910-987E-66539E2E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0204A-8614-4C81-88F6-1142071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22C6E-5F39-4E90-9049-7A90E65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C4016-1173-46DF-ABDD-E7A6EB7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F1FF7-B6EA-4D0E-BF18-82172A1A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9D853-D545-4DF3-8AD9-1306BAD7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2C5AE-1E4F-4505-BE05-5612D49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6E3EC-6802-439C-83F9-FAD478A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1333A-DDE3-4240-B765-487D1B3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7BDEB-33F0-4C1A-A2A7-EA6C34C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902A2-814A-4432-A767-D93ED69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3F0-E89F-4161-BEF1-31796D5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0EC7B-EAB1-416D-B713-DF58A1D8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404D-1112-4611-8864-FC26AFD9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6083-783E-4AF0-B269-A2FE765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898E-D463-4EEF-B768-7E6FD2AA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1C2A-CFBD-4790-B2A4-594D014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F76F-640A-4C8E-90A0-067B3B49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CE3E-757A-43B9-92FB-0E2D783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4F8A-96DC-4B89-B17B-8BA4151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2C8E-5CDD-4D7E-B7A8-05CEF2B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F21F-033B-4F80-A695-1825D72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A1E-1A98-440E-ABA5-1A38812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E7B5-7742-4547-9B1C-FD517B79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AA4F-6118-4D44-8312-E67D1BBC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E311-A577-4350-ACEB-04B768EB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24C97-0973-412E-A4BD-E30F9945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F010D-DC11-4C19-AE05-F927C08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DDF94-3900-4C69-8E40-0F7888EB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B0660-8205-45C6-A79F-682C5489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25B80-CC18-4A8D-8311-3840578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75080-B64E-4481-A564-9E15060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62068-E04C-4FD0-93DB-D9D39C5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358-7FD3-4C5B-88DF-09F90E0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D8918-76D3-40EA-9FC6-5A56D6E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A8DD6-3372-4180-8D8D-444ADA7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F2E13-BF61-46FD-A12E-7416861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9E890-A6AE-4C45-BE64-A0647FF8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BE5F2-2F74-46FA-9851-3AE1377D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05AE-3A62-404C-A683-239D101F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9422-B074-4835-9ABD-5D6637F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85E44-5C19-4551-A23A-80F5CB4E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B1AB5-DDFD-4645-94AE-42462DF7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85F8-FCC8-493F-ADC3-D770524B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E31-EDF7-4764-94BA-D866EA2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3B32E-DE6E-439E-B056-CABCE62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28EDA-DE1E-43BE-98A1-637E9C5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59D9-0EC0-4265-ABFC-0C374767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8452-6DA9-4440-B56F-E82A416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5A1B2-0411-4830-92A3-7C9FE96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4236-9E99-4636-B422-33EFC573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D70AE-B405-4BC8-AA09-F3866392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D6402-E7CC-429D-9BCD-2DBE1753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B41CD-B96F-484A-9A74-D057FFF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218C5-8CF5-4628-8A68-F03FE50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B81-D709-4918-A93A-E53F3803CE80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153C-1B90-4467-AC70-4947AE4E50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7F0A-7857-4E3A-AA79-179CF2ED2BC8}" type="slidenum">
              <a:rPr b="1" lang="en-IN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31B-AD85-489B-B3CB-D3A46E03AA40}" type="slidenum">
              <a:rPr b="1" lang="en-IN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867-DD7A-4275-9BC0-69BECC98BD81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D5E1-3F79-40BA-8AC2-5F9CC4791A4F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CE4-C019-4804-A33E-6E82EBB7FDFD}" type="slidenum">
              <a:rPr b="1" lang="en-IN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41C-1E54-4105-99E4-B8B34733A1B3}" type="slidenum">
              <a:rPr b="1" lang="en-IN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933-EF1A-407B-9DFA-7926C1724192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099-75D0-4340-BE53-986E71AB679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OXYGEN THERAPY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619280" y="3212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  <a:ea typeface="Arial"/>
              </a:rPr>
              <a:t>NUR 422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8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 Delivery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 Delivery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0920" y="1341000"/>
            <a:ext cx="8580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Low flow (Variable performance devices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asal cannul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asal cathet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ranstracheal cathet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Reservoir system (Variable performance device)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Reservoir cannul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Simple face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artial rebreathing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on rebreathing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racheostomy mask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High flow (Fixed performance dev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Ventimask  (HAFOE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erosol mask and T-piece with nebuliser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8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1332000" y="17730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Complications of Oxygen therapy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omplications of Oxygen therap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1. Oxygen tox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2. Depression of venti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3. Retinopathy of Premat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4. Absorption atelecta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5. Fire haza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1. O</a:t>
            </a:r>
            <a:r>
              <a:rPr b="0" lang="en-US" sz="4400" spc="-1" strike="noStrike" baseline="-25000">
                <a:solidFill>
                  <a:srgbClr val="775f55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 Toxi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rimarily affects lung and C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2 factors: Pa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&amp; exposure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NS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oxicity (Paul Bert effect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occurs on breathing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t pressure &gt; 1 at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remors, twitching, convuls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How much O2 is saf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100% - not more than 12hr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80% - not more than 24hr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60% - not more than 36h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Goal should be to use lowest possible FiO2 compatible with adequate tissue oxyge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dications for 70% - 100% oxygen therap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Resusci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eriods of acute cardiopulmonary instabil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atient trans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Oxygen is a drug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When appropriately used, it is extremely benefi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When misused or abused, it is potentially harmf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bddc3"/>
                </a:solidFill>
                <a:latin typeface="Bradley Hand ITC"/>
              </a:rPr>
              <a:t>THANK YOU….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6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ic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xygen delivery syst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mplications of oxygen therap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Goal of oxygen therap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o maintain adequate tissue oxygenation while minimizing cardiopulmonary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40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herapy : CLINICAL OBJECTIV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rrect documented or suspected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crease the symptoms associated with chronic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crease the workload hypoxemia imposes on the cardiopulmonary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775f55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 Therapy :  Indication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ocumented hypoxemia as evidenced b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&lt; 60 mmHg or S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&lt; 90% on room ai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or S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below desirable range for a specific clinical situ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cute care situations in which hypoxemia is suspec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evere trau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cute myocardial infar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hort term therapy (Post anaesthesia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5182920" y="638172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Respir Care 2002;47:707-7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99760" y="1682280"/>
            <a:ext cx="65898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The need for oxygen therapy should be assessed b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1. monitoring of ABG - PaO2, SpO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2. clinical assessment finding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281916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aO2 as an indicator for Oxygen therap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743200" y="1904760"/>
            <a:ext cx="60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PaO2 : 80 – 100 mm Hg : Norm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60 – 80  mm Hg  : cold, clam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extrem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60 mm Hg    :  cya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40 mm Hg    :  mental deficien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memory lo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30 mm Hg    :  bradycard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cardiac arr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PaO2 &lt; 60 mm Hg is a strong indicator for oxygen therap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2565360" cy="293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linical assessment of hypox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w Cen MT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ild to moderate              sev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NS :          restlessness                       somnolence, confu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orientation                    impaired judgement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ssitude                           loss of coordin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adache                         obtunded mental sta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iac :     tachycardia                      bradycardia, arrhythm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ld hypertension              hypoten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pheral vasocons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spiratory:  dyspnea                          increasing dyspnoea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chypnea                        tachypnoea, possi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hallow &amp;                         bradypno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boured breathing     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kin :            paleness, cold, clammy               cya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MONITOR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hysical examination for C/F of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ulse oxim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BG 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O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CO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Mixed venous blood oxyge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36:29Z</dcterms:created>
  <dc:creator>richa</dc:creator>
  <dc:description/>
  <dc:language>en-US</dc:language>
  <cp:lastModifiedBy>Dalyal Alosaimi</cp:lastModifiedBy>
  <dcterms:modified xsi:type="dcterms:W3CDTF">2016-01-27T07:22:10Z</dcterms:modified>
  <cp:revision>433</cp:revision>
  <dc:subject/>
  <dc:title>OXYGEN THERAPY</dc:title>
</cp:coreProperties>
</file>