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003-81FD-4E95-AB51-F755E580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63D-00B6-4033-B4D2-F8EFA0B7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DAD2A-3642-401C-A557-FFE95C38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335A2-B3DC-400C-A199-1924083E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D3A33-5364-455A-A92C-12299728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972CB-9AD2-4124-A103-D79CA3A1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257AA-B401-4645-B293-70E5E396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AFA00-D335-4EF9-B526-E1F60D7C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A7A6E-5659-421C-BA14-1CBB402B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1525F-66DB-47EA-BACB-BFF0DA96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E6051-E8AF-496B-9066-8BE04D44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AC0A0-A74B-481F-9726-30FBCAFE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AC8-6DB9-4DFD-B685-D380C955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39188-C4E7-4E3A-B61C-845BCD4E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B996E-0388-4252-86DF-F234D1AC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703E4-A143-4EF5-993E-652D5317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C3394-9E1A-4F1A-BA0D-6AA99100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FF5A5-E4BC-4B15-A152-A85D67DA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1A183-7B7B-4506-AF13-DC4D507B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E10B5-675E-4B0D-A2D7-61F79073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3252E-249E-4432-8DC2-6FCC8614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D97FE-6571-42B5-8E05-2930F89F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80674-9DD7-437E-8967-A8CC02CD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578-CE2C-4985-B17C-48BF320E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D2663-17AC-4E10-8A27-EA1365D5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A674-5263-46A3-88F9-90F75CEE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4256-DC82-4294-8135-19C99377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6051-95D0-4961-AA3B-BA72E715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CB9D-C387-4D20-B3B9-3D0CE9B5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0186-7039-4AB8-9FFE-FEC64A6D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3462-5A13-4DC5-B5EC-7077B320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560D-85EB-4534-A8A0-3D7F12A7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C40-F9D7-459C-BD8F-8FE6F1A8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70FE-D086-4BDB-872D-A5DE98AB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FFDE-ED03-4A9D-98D8-C334AD2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14C3-6454-4EC0-AD06-EEF0E30A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52EC-65F7-4FF2-846F-53D41DE5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E670-FA5B-4870-927B-4F2ADA58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C9121-E5C4-4E42-9A49-359C76BC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17C87-F399-47FE-9B1B-2136B25D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B5CFA-A356-4146-BED6-52562961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87C30-50AF-438B-9C62-FB731BE1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194D8-BADB-436F-BFC7-351F0136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E4F-C6EC-4BC8-A76A-D5C4C36F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3CEA1-3630-44E7-A644-76FDA128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27A9C-967F-43D3-9738-8E4DA8DE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01252-6E6C-43F4-A47C-6397E6C9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7A54C-9409-4DB8-A08B-CCACD5E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5C8F1-1729-4101-8CB1-60BC42B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4F724-C0B1-422B-8325-1C4BB07B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0104D-969C-40A5-A6E4-84DBA0D0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8249D-C8F4-4176-B2A7-EE07B662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4EFEB-9ACD-4038-A847-05BE193A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B371C-3ED4-45F9-81B2-E6B22591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007-E4E4-4EE4-BF53-8D5B761E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0959B-01CF-497F-A79A-305EE9D7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C8275-C72E-42AD-9587-60821A7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4CBEA-3297-4CEB-9186-96576BE3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BE385-98C5-4988-BE30-E22FA368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85C9B-068B-4DE0-AB8C-73E0F53B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9192C-0DEC-49E4-9BE6-BF3F3D7F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BE2D5-C303-48E5-8CE1-5EDBC839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1E7F2-EACE-4412-8EF5-12C0FCE9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50796-2464-4987-B133-8E288A94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FD21A-FF29-4B78-891A-8362175B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9D0-9D13-4A88-8809-1446CB56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CE7DC-25DB-4848-B2E8-CAB95567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6F443-F038-479A-9E6F-985AC689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0A16E-6266-48EE-B61E-552BB86D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128E1-2DB7-4DD9-A263-62B1215D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59687-28CA-4F32-AFE5-C1682F0F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C80EA-F79E-4885-83C4-B122F70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703EC-975B-43C0-9BBC-E6D7EF6D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C06E9-3677-4331-B8A2-39AD6807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32991-1784-4B01-A0A7-6A4DC092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28DDA-10B9-42E6-83E5-4DC86F4B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F35-15E4-46D5-8ACE-51F094EA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8AE87-96C2-49B3-8FE5-578057F8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45C4-E3AB-4E8D-8146-708BDDFC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BF5B3-8C93-4FF4-9595-DA0E1396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32CD1-0336-4F3B-969C-9196B47C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B25FE-2372-4681-8C20-18F87F01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63530-7F94-4F86-954A-65009D84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C6D5-ADCF-4053-A0D1-0E19EA82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1DD89-8C82-4081-A814-3C255B07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C1F04-F3B1-4E83-8432-94531285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F7CA7-AF54-4EAD-BAB4-AAFB6E02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2A6-474B-4860-A3B8-720CE471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A3CAC-0BEF-46A2-B587-45DB9AE6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3B421-D231-4D2F-88D9-4D60A453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E09A9-6931-430C-9404-6B3FE786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165EB-0272-42AE-9DF5-9BBAB419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F690D-7E3A-46AF-A093-ADDDB46D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86A41-268B-47F0-9D23-6F371D8F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193A0-36E1-4EE7-88A9-118245C7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FD917-ECC1-45DA-A7BF-2A548F9B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40004-70EA-4A05-BFB4-38C7433B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0D34F-078B-4490-BCEB-C9C5109B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804-8997-4ACB-AE7E-03943CEA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3F672-7804-47EB-A546-9767DD7C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2B482-0B2D-4BD0-8743-C6F0BE97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D3C6D4-EEFA-4B98-813E-62052FCD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7A201-7235-4F20-9DEA-12AC7B2A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1DC309-5CE9-4AE0-A59A-A6A5EB08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D42A3-B617-40DE-8CC1-B2884A60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A2223-5C13-4C39-8884-9D2475C0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EBA20-EF99-4086-88DC-B3A9C7A9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EAC3E-089B-4DA7-958C-C5509BB8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A8760-C17F-4C43-AA2E-327CD42F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AC4-1832-406C-B91D-E0CCD2DB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958DF-B85B-48B5-957B-FDB40065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5BD19-46E4-4298-BCA2-07FB3F3D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82736-531B-49BA-B986-436F2357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9ACC1-4352-4E0F-A98D-59707A94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C9908-4388-4F1D-A2F9-3B81E7EC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69513-6613-417A-A056-5A6BCF70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8608E-57FB-4F9D-BE52-35F73053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31318-F925-4C95-9D08-365516CA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A04DD-E80C-492E-8846-8669E95A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D9515-FF92-4ADA-862C-1BDA4DBA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86D5-C9C7-47BB-B412-A02B38F80597}" type="slidenum">
              <a:rPr b="1" lang="en-I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10F6-1EAD-4792-9680-FCB783474AA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CC31-C25B-4FF8-8740-8685098E5F83}" type="slidenum">
              <a:rPr b="1" lang="en-IN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F3BB-1AA3-4A94-8D19-9F46F3223B42}" type="slidenum">
              <a:rPr b="1" lang="en-IN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AF0C-5267-4E5C-B3EF-93804BE545DF}" type="slidenum">
              <a:rPr b="1" lang="en-I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75B6-5D24-4C61-8F20-195F96594951}" type="slidenum">
              <a:rPr b="1" lang="en-I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3DE8-E127-4E18-8990-BCDFAD431352}" type="slidenum">
              <a:rPr b="1" lang="en-IN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C53C-356F-485B-9086-4BBE77D0C4FF}" type="slidenum">
              <a:rPr b="1" lang="en-IN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N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C666-B84D-4F7B-938D-BED23581E5D5}" type="slidenum">
              <a:rPr b="1" lang="en-IN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C79F-8A96-474D-8D5D-85284F6D2FB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OXYGEN THERAPY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619280" y="3212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  <a:ea typeface="Arial"/>
              </a:rPr>
              <a:t>NUR 422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28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Arial"/>
              </a:rPr>
              <a:t> Delivery syste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  <a:ea typeface="Arial"/>
              </a:rPr>
              <a:t> Delivery devi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50920" y="1341000"/>
            <a:ext cx="8580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4740"/>
                </a:solidFill>
                <a:uFillTx/>
                <a:latin typeface="Tw Cen MT"/>
              </a:rPr>
              <a:t>Low flow (Variable performance devices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Nasal cannula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Nasal catheter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ranstracheal catheter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4740"/>
                </a:solidFill>
                <a:uFillTx/>
                <a:latin typeface="Tw Cen MT"/>
              </a:rPr>
              <a:t>Reservoir system (Variable performance device)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Reservoir cannula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Simple face mask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Partial rebreathing mask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Non rebreathing mask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racheostomy mask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4740"/>
                </a:solidFill>
                <a:uFillTx/>
                <a:latin typeface="Tw Cen MT"/>
              </a:rPr>
              <a:t>High flow (Fixed performance dev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Ventimask  (HAFOE)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erosol mask and T-piece with nebuliser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28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1332000" y="17730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Arial"/>
              </a:rPr>
              <a:t>Complications of Oxygen therapy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Complications of Oxygen therap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1. Oxygen toxic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2. Depression of venti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3. Retinopathy of Prematu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4. Absorption atelecta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5. Fire hazar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1. O</a:t>
            </a:r>
            <a:r>
              <a:rPr b="0" lang="en-US" sz="4400" spc="-1" strike="noStrike" baseline="-25000">
                <a:solidFill>
                  <a:srgbClr val="775f55"/>
                </a:solidFill>
                <a:latin typeface="Tw Cen MT"/>
                <a:ea typeface="Arial"/>
              </a:rPr>
              <a:t>2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 Toxic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rimarily affects lung and C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2 factors: Pa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&amp; exposure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NS 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toxicity (Paul Bert effect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occurs on breathing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at pressure &gt; 1 at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tremors, twitching, convuls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How much O2 is saf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100% - not more than 12hrs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80% - not more than 24hrs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60% - not more than 36h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Goal should be to use lowest possible FiO2 compatible with adequate tissue oxygen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dications for 70% - 100% oxygen therapy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Resuscit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eriods of acute cardiopulmonary instabil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atient transpor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Oxygen is a drug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When appropriately used, it is extremely benefi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When misused or abused, it is potentially harmfu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bddc3"/>
                </a:solidFill>
                <a:latin typeface="Bradley Hand ITC"/>
              </a:rPr>
              <a:t>THANK YOU….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2600" spc="-1" strike="noStrike">
              <a:solidFill>
                <a:srgbClr val="ffffff"/>
              </a:solidFill>
              <a:latin typeface="Tw Cen MT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Indica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Oxygen delivery syst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omplications of oxygen therap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Goal of oxygen therap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To maintain adequate tissue oxygenation while minimizing cardiopulmonary wor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O</a:t>
            </a:r>
            <a:r>
              <a:rPr b="0" lang="en-US" sz="4000" spc="-1" strike="noStrike" baseline="-25000">
                <a:solidFill>
                  <a:srgbClr val="775f55"/>
                </a:solidFill>
                <a:latin typeface="Tw Cen MT"/>
              </a:rPr>
              <a:t>2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Therapy : CLINICAL OBJECTIV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rrect documented or suspected hypoxem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crease the symptoms associated with chronic hypoxem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crease the workload hypoxemia imposes on the cardiopulmonary syst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O</a:t>
            </a:r>
            <a:r>
              <a:rPr b="0" lang="en-US" sz="4400" spc="-1" strike="noStrike" baseline="-25000">
                <a:solidFill>
                  <a:srgbClr val="775f55"/>
                </a:solidFill>
                <a:latin typeface="Tw Cen MT"/>
                <a:ea typeface="Arial"/>
              </a:rPr>
              <a:t>2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 Therapy :  Indication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Documented hypoxemia as evidenced b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Pa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&lt; 60 mmHg or Sa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&lt; 90% on room ai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Pa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or Sa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  <a:ea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below desirable range for a specific clinical situ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Acute care situations in which hypoxemia is suspec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Severe trau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Acute myocardial infar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Short term therapy (Post anaesthesia recover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5182920" y="638172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Respir Care 2002;47:707-7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ASSESS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99760" y="1682280"/>
            <a:ext cx="65898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The need for oxygen therapy should be assessed b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1. monitoring of ABG - PaO2, SpO2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2. clinical assessment finding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2819160" cy="19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aO2 as an indicator for Oxygen therap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743200" y="1904760"/>
            <a:ext cx="6005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PaO2 : 80 – 100 mm Hg : Norm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60 – 80  mm Hg  : cold, clamm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extremi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&lt; 60 mm Hg    :  cyanos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&lt; 40 mm Hg    :  mental deficien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memory lo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&lt; 30 mm Hg    :  bradycard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cardiac arre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PaO2 &lt; 60 mm Hg is a strong indicator for oxygen therap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2565360" cy="293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Clinical assessment of hypox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w Cen MT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ild to moderate              seve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NS :          restlessness                       somnolence, confus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sorientation                    impaired judgement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ssitude                           loss of coordin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eadache                         obtunded mental stat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iac :     tachycardia                      bradycardia, arrhythm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ild hypertension              hypotens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pheral vasocons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spiratory:  dyspnea                          increasing dyspnoea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achypnea                        tachypnoea, possib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hallow &amp;                         bradypno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boured breathing      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kin :            paleness, cold, clammy               cyanos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MONITOR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hysical examination for C/F of hypoxem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ulse oxime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ABG analy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pO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pCO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Mixed venous blood oxygen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5:36:29Z</dcterms:created>
  <dc:creator>richa</dc:creator>
  <dc:description/>
  <dc:language>en-US</dc:language>
  <cp:lastModifiedBy>Dalyal Alosaimi</cp:lastModifiedBy>
  <dcterms:modified xsi:type="dcterms:W3CDTF">2016-01-27T07:22:10Z</dcterms:modified>
  <cp:revision>433</cp:revision>
  <dc:subject/>
  <dc:title>OXYGEN THERAPY</dc:title>
</cp:coreProperties>
</file>