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466B-86B0-4EAD-B6DD-D12990270CA8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6972AB-547E-4901-9325-A8618842C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A67-77FB-4C52-9160-B113BA25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A68-C682-48A8-B681-932CDB51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276-2684-4F70-8692-10B5D37B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078-3968-4AA2-BF64-8ADCAE1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32B9-6557-4360-8495-311DD5C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229E-7CE1-4FAA-B2BD-92B3584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3D18-98CC-4F28-9F57-57046928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16E6-DDD7-4324-928B-89A7A34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3DC9-C09E-4048-B6E1-2FD460E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D63F-9C47-41C6-A016-C3CA5DF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B9C-73E7-4D55-B944-84FFFAC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C3E-7A6B-4E85-9217-8328D2F8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1270-507C-441D-8058-5FA352E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45E2-6038-4827-A945-0217564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2A9-E6C2-4495-8622-FB9DE5B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D31E-C28A-4619-8BD4-E9746C30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5BE8-DDDA-4494-B882-07E53AD8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87B1-B467-4705-AB0C-3DCF266D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8EBE-62BA-4E5E-83B2-7748AE5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B197-50B0-4D72-9DC8-42CA6A9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3DD2-1C0F-4836-8CF4-A1E72CC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0844-EE3E-49F1-A95E-6684E05F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4E0-92FF-41E5-8C00-A2C592B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2EF0-7FEE-4FCB-839E-FF80682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78C3-ED0D-4906-9C83-21FE02A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93C7-B0C8-4700-8489-33D59DB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7CBE-F1AE-4CBC-8FC4-93DDEF3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DCAF-CE02-477F-AB1B-47CD9D7D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B86FF-A5EB-4AF7-BF24-DD6711F6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4884-6A0D-4434-ABC0-F361790E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055D-68A2-4BBC-8893-3F9CA5C9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8EDA-189D-4B0F-9466-46226BE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CA9E-C257-464F-8B6D-71D84922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670-B97D-427D-B68E-05FA112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6E45-977B-42EC-9256-B69664D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0082-90B4-4AF0-B414-0F463499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1DD0-BAA5-451C-82E3-09AF17A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7793-DC66-4D1D-99F3-533DF24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0797-1AF2-4B09-885B-8CE2AB3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D524-5F16-4B5D-8667-AB9C6C1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3A28-42FC-442E-BB10-9EF5E3B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CE04-6381-4B54-A491-6C0339F3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49BA-9026-4EB5-A2AB-54485595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5A5-5DD1-4F3F-A2F5-4FC8CF8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F35-F21A-4322-A3B3-AB195F7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614-A2A2-45AD-AAFE-98D15F1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FF9-BDEF-4526-9601-643BE1B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155-6333-4832-9A43-EDFD1F4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365-AC07-49BD-9B50-427C0F25DC3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7CC-310D-4CFB-89EA-AD432EB6EB0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57B-16D8-40F4-9C12-F915591D0128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6423-A3E9-4CBE-8D64-D381C4173E2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6573-2B0E-42C7-82A7-3EFABCE6D593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15C9-3FD4-457E-96DE-C161DBCED24E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C87B-E2AD-4B20-870F-A5D8224927C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DD12-5DDB-46AA-B1C3-222E07D4026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e Head, Neck, Lymph Nod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11B3-A72B-4CF6-B8ED-05ECABD913B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6F6B-D9FA-40DC-8C15-81A2846DBF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al Approach to Head and Neck Assess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t patient, explain assessment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ligh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ight sitting pos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right and left s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ic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measure  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Stethoscope  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Cup of water (for evaluation of thyroid glan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E45-8F40-4949-83BF-6EAC8150D0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Hea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77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er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BA3-A1E9-4D76-960E-29026A290B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spection and Palpation 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f the Scal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ions or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p is shiny, intact, without lesions or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, lesions, masses, hemato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f4-u1_0-B0-323-02888-8__50014-4__gr8"/>
          <p:cNvPicPr/>
          <p:nvPr/>
        </p:nvPicPr>
        <p:blipFill>
          <a:blip r:embed="rId1"/>
          <a:stretch/>
        </p:blipFill>
        <p:spPr>
          <a:xfrm>
            <a:off x="6156360" y="411120"/>
            <a:ext cx="2808360" cy="27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DCD-AA7A-4A77-966D-2B864C6211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Fac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al fea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ebral fissures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can be oval, round, or slightly squ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f4-u1_0-B0-323-03231-1__50007-3__fx1"/>
          <p:cNvPicPr/>
          <p:nvPr/>
        </p:nvPicPr>
        <p:blipFill>
          <a:blip r:embed="rId1"/>
          <a:stretch/>
        </p:blipFill>
        <p:spPr>
          <a:xfrm>
            <a:off x="5796000" y="617400"/>
            <a:ext cx="3097080" cy="245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DAB-E7D7-453C-AB1F-BB9E724BB5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Fac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ormed or absent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r less pronounced facial fea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which may alter facial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’s palsy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mporary disorder affecting cranial nerve VII and producing a unilateral facial paraly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4F67-A389-425A-A681-2594673230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16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megaly:  An enlargement of the skull and cranial bones due to increased growth horm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rocephalus:   The enlargement of the head caused by inadequate drainage of cerebrospinal fluid, resulting in abnormal growth of the sku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339120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A3D-F94F-4FD8-A2BE-AEA761E030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Cushing synd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es include a rounded or “moon-shaped” face with thin, erythematous sk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5" descr="f4-u1"/>
          <p:cNvPicPr/>
          <p:nvPr/>
        </p:nvPicPr>
        <p:blipFill>
          <a:blip r:embed="rId1"/>
          <a:stretch/>
        </p:blipFill>
        <p:spPr>
          <a:xfrm>
            <a:off x="4592520" y="3176640"/>
            <a:ext cx="414360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B22-D7E7-4EA4-814C-E7A03B5ACF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Down synd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depressed nasal bridge, epicanthal folds, mongoloid slant of eyes, low-set ears, and large tongu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5" descr="f4-u1"/>
          <p:cNvPicPr/>
          <p:nvPr/>
        </p:nvPicPr>
        <p:blipFill>
          <a:blip r:embed="rId1"/>
          <a:stretch/>
        </p:blipFill>
        <p:spPr>
          <a:xfrm>
            <a:off x="4578480" y="3238560"/>
            <a:ext cx="3933720" cy="361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21B-B60A-4F3A-922F-AA792DD7A5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Hydrocephalu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Hydrocephalus, with characteristic enlarged head, bulging fontanel, dilated scalp veins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5" descr="f4-u1"/>
          <p:cNvPicPr/>
          <p:nvPr/>
        </p:nvPicPr>
        <p:blipFill>
          <a:blip r:embed="rId1"/>
          <a:stretch/>
        </p:blipFill>
        <p:spPr>
          <a:xfrm>
            <a:off x="4998960" y="3370320"/>
            <a:ext cx="367344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E5D-AF67-4BBA-9783-2B72CA4545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512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eft facial pals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facial palsy. Facies include asymmetry of one side of the face, eyelid not closing completely, drooping lower eyelid and corner of mouth, and loss of nasolabial fold.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arch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f4-u1"/>
          <p:cNvPicPr/>
          <p:nvPr/>
        </p:nvPicPr>
        <p:blipFill>
          <a:blip r:embed="rId1"/>
          <a:stretch/>
        </p:blipFill>
        <p:spPr>
          <a:xfrm>
            <a:off x="4581360" y="115920"/>
            <a:ext cx="4105440" cy="28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1520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1960" y="2117520"/>
            <a:ext cx="8614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completion of this presentation, the nurse will be able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duct a basic adult head, neck, and lymph nodes assess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tinguish normal from 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4188-F204-4749-A3CF-F387A5C954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ndib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and auscultate the temporo-mandibular joint when the client opens and closes the m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scomfort, joint articulates smoothly without clicking or crepi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enderness, crepi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6A1-181A-4EAD-B8C3-E455E04DAE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c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ROM, pain free, symmetrical muscles, no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OM, pain, asymmetrical muscles,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5" descr="f4-u1_0-B0-323-02888-8__50014-4__gr4"/>
          <p:cNvPicPr/>
          <p:nvPr/>
        </p:nvPicPr>
        <p:blipFill>
          <a:blip r:embed="rId1"/>
          <a:stretch/>
        </p:blipFill>
        <p:spPr>
          <a:xfrm>
            <a:off x="4716360" y="549360"/>
            <a:ext cx="338292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alivary g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11552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otid gl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heeks over mand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salivary gl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mandib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mand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ling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in the floor of th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oral art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superior to temporalis mus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1103"/>
          <p:cNvPicPr/>
          <p:nvPr/>
        </p:nvPicPr>
        <p:blipFill>
          <a:blip r:embed="rId1"/>
          <a:srcRect l="0" t="0" r="0" b="636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17" descr=""/>
          <p:cNvPicPr/>
          <p:nvPr/>
        </p:nvPicPr>
        <p:blipFill>
          <a:blip r:embed="rId2"/>
          <a:stretch/>
        </p:blipFill>
        <p:spPr>
          <a:xfrm>
            <a:off x="274680" y="433440"/>
            <a:ext cx="8704080" cy="11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A31-84C5-4AF7-8A45-C8E1ACCEF5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rachea</a:t>
            </a:r>
            <a:br>
              <a:rPr sz="2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is mid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for tracheal shif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lpate trache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your index finger on the trachea in the sternal notch, then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p it off to each si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for symmetric on both sid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5" descr="1113"/>
          <p:cNvPicPr/>
          <p:nvPr/>
        </p:nvPicPr>
        <p:blipFill>
          <a:blip r:embed="rId1"/>
          <a:stretch/>
        </p:blipFill>
        <p:spPr>
          <a:xfrm>
            <a:off x="4356000" y="115920"/>
            <a:ext cx="417528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559B-FDBF-42E3-BE30-4CC3CF73333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617b"/>
                </a:solidFill>
                <a:latin typeface="Calibri"/>
              </a:rPr>
              <a:t>Position of the thumbs to evaluate the midline position of the trachea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5" descr="f4-u1"/>
          <p:cNvPicPr/>
          <p:nvPr/>
        </p:nvPicPr>
        <p:blipFill>
          <a:blip r:embed="rId1"/>
          <a:stretch/>
        </p:blipFill>
        <p:spPr>
          <a:xfrm>
            <a:off x="2050920" y="2060640"/>
            <a:ext cx="483876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895-2BD2-449D-804A-A862E65A5B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16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yroid Glan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928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yroid gland is in the middle of the neck anterior to the trach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thmus is the center, and the two lobes lie on either side of the trach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24000" y="3675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al movement with swa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m’s apple more pronounced in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sses, tenderness, or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t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5292720" y="3851280"/>
            <a:ext cx="38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al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a nodule or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1105"/>
          <p:cNvPicPr/>
          <p:nvPr/>
        </p:nvPicPr>
        <p:blipFill>
          <a:blip r:embed="rId1"/>
          <a:stretch/>
        </p:blipFill>
        <p:spPr>
          <a:xfrm>
            <a:off x="5148360" y="115920"/>
            <a:ext cx="3673440" cy="185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2FB-8921-4AD0-B818-C85E568926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9280" y="1868040"/>
            <a:ext cx="82296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Hyperthyroidism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The excessive production of thyroid hormones, resulting in enlargement of the gland, exophthalmos (bulging eyes), fine hair, weight loss, diarrhea, and other alter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Hypothyroidism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Metabolic disorder causing enlarged thyroid due to iodine deficien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5" descr="f4-u1"/>
          <p:cNvPicPr/>
          <p:nvPr/>
        </p:nvPicPr>
        <p:blipFill>
          <a:blip r:embed="rId1"/>
          <a:stretch/>
        </p:blipFill>
        <p:spPr>
          <a:xfrm>
            <a:off x="5292720" y="115920"/>
            <a:ext cx="280836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0720" y="836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alpate Thyroid: </a:t>
            </a:r>
            <a:br>
              <a:rPr sz="4000"/>
            </a:b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osterior Appro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behind the per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sit up very right, then bend the head slightly forward and then right (to relax the neck muscl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ngers of your left hand to push the trachea slightly to the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curve your right fingers between the trachea and the sternomastoid muscle, and ask the person to swallow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feel the thyroid moves up under your finger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5" descr="1114"/>
          <p:cNvPicPr/>
          <p:nvPr/>
        </p:nvPicPr>
        <p:blipFill>
          <a:blip r:embed="rId1"/>
          <a:stretch/>
        </p:blipFill>
        <p:spPr>
          <a:xfrm>
            <a:off x="5148360" y="333360"/>
            <a:ext cx="3851280" cy="213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720" y="836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alpate Thyroid: </a:t>
            </a:r>
            <a:br>
              <a:rPr sz="4000"/>
            </a:br>
            <a:r>
              <a:rPr b="1" lang="en-US" sz="4000" spc="-1" strike="noStrike">
                <a:solidFill>
                  <a:srgbClr val="0f6fc6"/>
                </a:solidFill>
                <a:latin typeface="Calibri"/>
              </a:rPr>
              <a:t>Anterior Appro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4840" y="213336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an expert to 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facing the person, ask the person to tip head forward and then to the examiner’s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ight thumb to displace the trachea slightly to the person’s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hook your right thumb and fingers around the sternomastoid muscle, and feel for lob enlargement as the person swall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5" descr="1115"/>
          <p:cNvPicPr/>
          <p:nvPr/>
        </p:nvPicPr>
        <p:blipFill>
          <a:blip r:embed="rId1"/>
          <a:stretch/>
        </p:blipFill>
        <p:spPr>
          <a:xfrm>
            <a:off x="5003640" y="115920"/>
            <a:ext cx="367668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6720" y="2141640"/>
            <a:ext cx="838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uscul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palp[1]"/>
          <p:cNvPicPr/>
          <p:nvPr/>
        </p:nvPicPr>
        <p:blipFill>
          <a:blip r:embed="rId1"/>
          <a:stretch/>
        </p:blipFill>
        <p:spPr>
          <a:xfrm>
            <a:off x="5003640" y="5184720"/>
            <a:ext cx="2232360" cy="153504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6" name="Picture 5" descr="insp[1]"/>
          <p:cNvPicPr/>
          <p:nvPr/>
        </p:nvPicPr>
        <p:blipFill>
          <a:blip r:embed="rId2"/>
          <a:stretch/>
        </p:blipFill>
        <p:spPr>
          <a:xfrm>
            <a:off x="4951440" y="757080"/>
            <a:ext cx="2141640" cy="190368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7" name="Picture 7" descr="ausc[1]"/>
          <p:cNvPicPr/>
          <p:nvPr/>
        </p:nvPicPr>
        <p:blipFill>
          <a:blip r:embed="rId3"/>
          <a:stretch/>
        </p:blipFill>
        <p:spPr>
          <a:xfrm>
            <a:off x="4943520" y="2908440"/>
            <a:ext cx="2190600" cy="194616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3440" y="475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Lymph No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in head and n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 the head and ne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vessel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from cardiovasc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part of immun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and eliminate foreign 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DE3F-D830-4A6C-8C2B-714F283F72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0680" y="-17820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0680" y="13176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93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Picture 5" descr="1106"/>
          <p:cNvPicPr/>
          <p:nvPr/>
        </p:nvPicPr>
        <p:blipFill>
          <a:blip r:embed="rId1"/>
          <a:stretch/>
        </p:blipFill>
        <p:spPr>
          <a:xfrm>
            <a:off x="3780000" y="506520"/>
            <a:ext cx="5868720" cy="573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D75E-3F3F-47C8-A4E7-5E33661AAC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194796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more efficient to palpate with both hands to compare both sides for symmetrically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t is easier to palpate the sublingual gland under the chine with one hand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gentle circular motion of  finger p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with preauricular and continue in a routine ord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7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5076720" y="169920"/>
            <a:ext cx="3797280" cy="1674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1110"/>
          <p:cNvPicPr/>
          <p:nvPr/>
        </p:nvPicPr>
        <p:blipFill>
          <a:blip r:embed="rId2"/>
          <a:stretch/>
        </p:blipFill>
        <p:spPr>
          <a:xfrm>
            <a:off x="5076720" y="3789360"/>
            <a:ext cx="373392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ADCB-319D-44F1-94D3-64741D73CC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ble to palpate or see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palpate or see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er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, hard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2D2-48CD-427F-B465-EFED86E1CD1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8F6-B4A8-4B98-A43B-825148F8E7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ull is made up of the bones of the cranium and the fa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anium includes frontal, parietal, temporal, and occipital bon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scles of the face play a role in expression of emotions and assist in neck moveme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ment of the facial muscles is controlled by cranial nerves V and VII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otid arteries provide the blood supply to the head; the temporal artery supplies blood to much of the fa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ck is supported and made mobile by vertebral processes and the sternocleidomastoid and trapezius musc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366D-0571-44EA-B59D-05446DE04E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6" descr="f4-u1"/>
          <p:cNvPicPr/>
          <p:nvPr/>
        </p:nvPicPr>
        <p:blipFill>
          <a:blip r:embed="rId1"/>
          <a:stretch/>
        </p:blipFill>
        <p:spPr>
          <a:xfrm>
            <a:off x="0" y="115920"/>
            <a:ext cx="8893080" cy="662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581B-461F-4B3A-9959-546867C8B0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presence/absence of age- and gender-specific diseases of the head and ne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hief compla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k pain or stiff n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ars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k m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inju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002-CFE3-405A-A976-AECB5600C6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ng Chief Complai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following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manifes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avating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ing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6B87-D813-4125-9152-C3E5075CBA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t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ies or acci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6DD-3DEB-4A07-A974-664754BF6F9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mily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family history o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roid diseas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dc:language>en-US</dc:language>
  <cp:lastModifiedBy>Almomani</cp:lastModifiedBy>
  <cp:lastPrinted>2015-09-01T09:48:13Z</cp:lastPrinted>
  <dcterms:modified xsi:type="dcterms:W3CDTF">2015-09-02T08:20:28Z</dcterms:modified>
  <cp:revision>222</cp:revision>
  <dc:subject/>
  <dc:title>الشريحة 1</dc:title>
</cp:coreProperties>
</file>