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8.jpeg" ContentType="image/jpeg"/>
  <Override PartName="/ppt/media/image27.png" ContentType="image/png"/>
  <Override PartName="/ppt/media/image26.jpeg" ContentType="image/jpeg"/>
  <Override PartName="/ppt/media/image19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hdr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ftr" idx="14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 type="sldNum" idx="15"/>
          </p:nvPr>
        </p:nvSpPr>
        <p:spPr>
          <a:xfrm>
            <a:off x="108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87A5-5A3E-441B-BC54-844EAE22895A}" type="slidenum">
              <a:rPr b="0" lang="ar-S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9166CC7-30D4-43ED-BF09-25E0286395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850B-9031-4D7B-956C-6F4519BA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4FB2-DEA4-4C28-AC21-F12A1FC4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3BA7-2FB9-438C-9780-DFFDF86A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17CC-E4E8-4D5F-B18A-20FBC30F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8789-CAC0-4529-A17B-98EF9F85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3C68-2F11-4D0A-AA5D-B55F0C42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766B-4572-4C9B-87D4-9CD5F4C4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4D92-8C04-407A-ACC1-659AB965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A71E-B227-4FEE-A251-10E87E8E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5C84-0DC6-4837-AB27-C3071BA0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4412-F435-459E-80E8-63231A6C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3BFA-E4FA-4E2C-9C8B-7545F281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5A90-8FE5-44BE-83C6-ACA412A3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DC71-66F8-4CE3-9D34-201424B5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2C6C-EC09-497A-B0FB-04B13332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2FB4-0E65-4EFF-A9D1-BF26BBE1E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7D26-AB90-4808-826D-72AA7912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47A49-77B3-42EB-814E-6880994B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B3DF1-1362-453C-A4CD-01771B9F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1C8C5-AC20-47EC-9BB0-E4146A7C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0CB0C-09AA-45C3-B271-598D9E54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EFEF6-B591-4AD0-89B1-D60FCF53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F1A9-FB67-4ADE-A505-E8DF08A7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00D31-C5ED-4C83-90B7-3E780043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0B418-F0A6-4F3F-BE4A-B1D6A0DD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FC394-44EE-482C-A50E-984C7F31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3D4B4-2642-4CE5-9E59-D7A02E12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DCE88-A477-4659-8C10-705CB4D3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095FB-F766-4033-BE2F-B03387EE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58F1C-FB45-49A9-B412-F3E8589C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F6ABB-CB10-4432-AE77-D2473646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6E6DA-E4F4-4644-87B1-14970B86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B727B-2E4B-4E36-B015-157459CF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7CAD-C714-49CD-8151-FF371F31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88B68-27E8-40DA-92B1-9C94917A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B1AF2-C847-4E9E-A480-1FB1F8DD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FD622-D765-4A59-9D5B-28FD520D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86BC2-2290-40EC-BEBC-A5C41F31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74539-7A77-48D6-96BE-79914EC7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982FB-701E-46FD-9ADC-2D1A6956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21B44-AD9E-402C-84C7-14578BC9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8E6EC-5C03-47C8-9C6E-03BE0425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84EEA-F843-4268-83FB-A45D7E55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A8E0-72B9-4518-AB44-DCB0C18A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AF74-A36E-43A8-A582-B8B466F4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55B3-F2E0-430C-92E8-6FA664F9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5B72-F004-41B4-942E-296CAAF9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679A-B58A-4644-BE54-9483F8A0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2FDC-C987-4159-B6A5-60E9C09127BF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B3BD-674B-400F-965A-98A1382757CB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B4E4-1222-4509-8812-3FE779D74733}" type="datetime">
              <a:rPr b="0" lang="ar-SA" sz="1200" spc="-1" strike="noStrike">
                <a:solidFill>
                  <a:srgbClr val="d1eaee"/>
                </a:solidFill>
                <a:latin typeface="Constantia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F886-9F6B-4098-BFE0-6EE863CABA28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FA89-D800-4602-A756-8248A3A6432A}" type="datetime">
              <a:rPr b="0" lang="ar-SA" sz="1200" spc="-1" strike="noStrike">
                <a:solidFill>
                  <a:srgbClr val="d1eaee"/>
                </a:solidFill>
                <a:latin typeface="Constantia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38C9-7A1D-4D0F-98A6-223269483719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9BC5-5D64-4FFB-B76A-4EFCEB1436A5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5860-0369-4D2A-9B59-986E1944FAE4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333000"/>
            <a:ext cx="82296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Saud University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Nurs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Assessment (NUR 224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The Head, Neck, Lymph Node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عنصر نائب لرقم الشريحة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DE5C-028F-42B5-94C2-D6E901747A97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39DF-A956-46FA-85D2-54E6D201D5E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General Approach to Head and Neck Assessment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t patient, explain assessment techniq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e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quate ligh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right sitting posi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right and left sid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atic approac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M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pe measure   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◆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Stethoscope   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◆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Cup of water (for evaluation of thyroid gland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8282-9E7A-42AB-8F47-0C591279AE7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Assessment of the Head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77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met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p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re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dern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F916-3C47-49AE-A35B-C3EC70451CE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nspection and Palpation </a:t>
            </a:r>
            <a:br>
              <a:rPr sz="4400"/>
            </a:br>
            <a:r>
              <a:rPr b="0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of the Scalp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ions or ma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ndin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p is shiny, intact, without lesions or ma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normal findin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eding, lesions, masses, hematom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Picture 4" descr="f4-u1_0-B0-323-02888-8__50014-4__gr8"/>
          <p:cNvPicPr/>
          <p:nvPr/>
        </p:nvPicPr>
        <p:blipFill>
          <a:blip r:embed="rId1"/>
          <a:stretch/>
        </p:blipFill>
        <p:spPr>
          <a:xfrm>
            <a:off x="6156360" y="411120"/>
            <a:ext cx="2808360" cy="273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E209-61A0-46B4-A88C-87D36A29D2D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Assessment of the Fac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met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ndin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metrical fea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pebral fissures equ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e can be oval, round, or slightly squa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0" name="Picture 4" descr="f4-u1_0-B0-323-03231-1__50007-3__fx1"/>
          <p:cNvPicPr/>
          <p:nvPr/>
        </p:nvPicPr>
        <p:blipFill>
          <a:blip r:embed="rId1"/>
          <a:stretch/>
        </p:blipFill>
        <p:spPr>
          <a:xfrm>
            <a:off x="5796000" y="617400"/>
            <a:ext cx="3097080" cy="2451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BE7F-8263-4A7D-A6BB-EF803071187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73836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Assessment of the Fac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normal finding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ormed or absent struc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met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or less pronounced facial fea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s which may alter facial featur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l’s palsy,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mporary disorder affecting cranial nerve VII and producing a unilateral facial paralys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720D-3D30-4580-A82B-8C7FB80F576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216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megaly:  An enlargement of the skull and cranial bones due to increased growth hormo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drocephalus:   The enlargement of the head caused by inadequate drainage of cerebrospinal fluid, resulting in abnormal growth of the skul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6" name="Picture 1" descr=""/>
          <p:cNvPicPr/>
          <p:nvPr/>
        </p:nvPicPr>
        <p:blipFill>
          <a:blip r:embed="rId1"/>
          <a:stretch/>
        </p:blipFill>
        <p:spPr>
          <a:xfrm>
            <a:off x="4643280" y="115920"/>
            <a:ext cx="3391200" cy="216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BFCD-B0EE-4924-A079-B345981F08F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Cushing syndrom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7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es include a rounded or “moon-shaped” face with thin, erythematous sk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0" name="Picture 5" descr="f4-u1"/>
          <p:cNvPicPr/>
          <p:nvPr/>
        </p:nvPicPr>
        <p:blipFill>
          <a:blip r:embed="rId1"/>
          <a:stretch/>
        </p:blipFill>
        <p:spPr>
          <a:xfrm>
            <a:off x="4592520" y="3176640"/>
            <a:ext cx="4143600" cy="338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01CD-ED33-4038-8F6B-18D3968134A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Down syndrom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7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depressed nasal bridge, epicanthal folds, mongoloid slant of eyes, low-set ears, and large tongue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4" name="Picture 5" descr="f4-u1"/>
          <p:cNvPicPr/>
          <p:nvPr/>
        </p:nvPicPr>
        <p:blipFill>
          <a:blip r:embed="rId1"/>
          <a:stretch/>
        </p:blipFill>
        <p:spPr>
          <a:xfrm>
            <a:off x="4578480" y="3238560"/>
            <a:ext cx="3933720" cy="3619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0809-582B-4FFA-8EDD-9D0203376D0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4617b"/>
                </a:solidFill>
                <a:latin typeface="Calibri"/>
              </a:rPr>
              <a:t>Hydrocephalu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7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Hydrocephalus, with characteristic enlarged head, bulging fontanel, dilated scalp veins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8" name="Picture 5" descr="f4-u1"/>
          <p:cNvPicPr/>
          <p:nvPr/>
        </p:nvPicPr>
        <p:blipFill>
          <a:blip r:embed="rId1"/>
          <a:stretch/>
        </p:blipFill>
        <p:spPr>
          <a:xfrm>
            <a:off x="4998960" y="3370320"/>
            <a:ext cx="3673440" cy="316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A522-5DA7-44B5-AFE4-691ABF731F8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512280"/>
            <a:ext cx="82296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Left facial pals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24000" y="306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 facial palsy. Facies include asymmetry of one side of the face, eyelid not closing completely, drooping lower eyelid and corner of mouth, and loss of nasolabial fold.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arche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2" name="Picture 5" descr="f4-u1"/>
          <p:cNvPicPr/>
          <p:nvPr/>
        </p:nvPicPr>
        <p:blipFill>
          <a:blip r:embed="rId1"/>
          <a:stretch/>
        </p:blipFill>
        <p:spPr>
          <a:xfrm>
            <a:off x="4581360" y="115920"/>
            <a:ext cx="4105440" cy="280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6080" y="152064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91960" y="2117520"/>
            <a:ext cx="861408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fter completion of this presentation, the nurse will be able t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duct a basic adult head, neck, and lymph nodes assessm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stinguish normal from abnormal findin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A9CC-446D-4EB1-9201-9954EF72F0B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2120" y="62064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Mandibl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pate and auscultate the temporo-mandibular joint when the client opens and closes the mou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ndin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discomfort, joint articulates smoothly without clicking or crepit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normal findin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n, tenderness, crepit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D8B8-71C2-4319-9CE5-C0BAF74CE6E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c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p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ndin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ROM, pain free, symmetrical muscles, no ma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normal findin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 ROM, pain, asymmetrical muscles, ma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9" name="Picture 5" descr="f4-u1_0-B0-323-02888-8__50014-4__gr4"/>
          <p:cNvPicPr/>
          <p:nvPr/>
        </p:nvPicPr>
        <p:blipFill>
          <a:blip r:embed="rId1"/>
          <a:stretch/>
        </p:blipFill>
        <p:spPr>
          <a:xfrm>
            <a:off x="4716360" y="549360"/>
            <a:ext cx="3382920" cy="259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alivary glan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1155240"/>
            <a:ext cx="712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rotid glan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9160" indent="-2185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cheeks over mandi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9160" indent="-2185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of salivary glan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bmandibul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9160" indent="-2185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ath mandi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blingu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9160" indent="-2185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s in the floor of the mou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mporal arte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9160" indent="-21852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s superior to temporalis musc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5" descr="1103"/>
          <p:cNvPicPr/>
          <p:nvPr/>
        </p:nvPicPr>
        <p:blipFill>
          <a:blip r:embed="rId1"/>
          <a:srcRect l="0" t="0" r="0" b="636"/>
          <a:stretch/>
        </p:blipFill>
        <p:spPr>
          <a:xfrm>
            <a:off x="179280" y="1268280"/>
            <a:ext cx="8785440" cy="5473800"/>
          </a:xfrm>
          <a:prstGeom prst="rect">
            <a:avLst/>
          </a:prstGeom>
          <a:ln w="0">
            <a:noFill/>
          </a:ln>
        </p:spPr>
      </p:pic>
      <p:pic>
        <p:nvPicPr>
          <p:cNvPr id="323" name="Rectangle 17" descr=""/>
          <p:cNvPicPr/>
          <p:nvPr/>
        </p:nvPicPr>
        <p:blipFill>
          <a:blip r:embed="rId2"/>
          <a:stretch/>
        </p:blipFill>
        <p:spPr>
          <a:xfrm>
            <a:off x="274680" y="433440"/>
            <a:ext cx="8704080" cy="117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0FBE-184E-4788-BCE3-F669A181AAD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Trachea</a:t>
            </a:r>
            <a:br>
              <a:rPr sz="24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hea is midli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pate for tracheal shif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alpate trache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 your index finger on the trachea in the sternal notch, then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p it off to each sid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for symmetric on both sid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7" name="Picture 5" descr="1113"/>
          <p:cNvPicPr/>
          <p:nvPr/>
        </p:nvPicPr>
        <p:blipFill>
          <a:blip r:embed="rId1"/>
          <a:stretch/>
        </p:blipFill>
        <p:spPr>
          <a:xfrm>
            <a:off x="4356000" y="115920"/>
            <a:ext cx="4175280" cy="252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9E23-EB8E-4BD5-A9AE-4ACA64FB500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4617b"/>
                </a:solidFill>
                <a:latin typeface="Calibri"/>
              </a:rPr>
              <a:t>Position of the thumbs to evaluate the midline position of the trachea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1" name="Picture 5" descr="f4-u1"/>
          <p:cNvPicPr/>
          <p:nvPr/>
        </p:nvPicPr>
        <p:blipFill>
          <a:blip r:embed="rId1"/>
          <a:stretch/>
        </p:blipFill>
        <p:spPr>
          <a:xfrm>
            <a:off x="2050920" y="2060640"/>
            <a:ext cx="4838760" cy="3889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FF4A-FABE-4412-960B-ABCEE94B104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0160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Thyroid Gland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928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yroid gland is in the middle of the neck anterior to the trachea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sthmus is the center, and the two lobes lie on either side of the trachea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324000" y="367524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rmal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metrical movement with swa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m’s apple more pronounced in 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masses, tenderness, or enlar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ent b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5292720" y="3851280"/>
            <a:ext cx="385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bnormal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larged 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metrical enlar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ce of a nodule or b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5" descr="1105"/>
          <p:cNvPicPr/>
          <p:nvPr/>
        </p:nvPicPr>
        <p:blipFill>
          <a:blip r:embed="rId1"/>
          <a:stretch/>
        </p:blipFill>
        <p:spPr>
          <a:xfrm>
            <a:off x="5148360" y="115920"/>
            <a:ext cx="3673440" cy="185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10B2-C38F-423C-8A04-CEEFE8A2593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179280" y="1868040"/>
            <a:ext cx="8229600" cy="54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Hyperthyroidism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The excessive production of thyroid hormones, resulting in enlargement of the gland, exophthalmos (bulging eyes), fine hair, weight loss, diarrhea, and other alterati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Hypothyroidism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Metabolic disorder causing enlarged thyroid due to iodine deficienc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0" name="Picture 5" descr="f4-u1"/>
          <p:cNvPicPr/>
          <p:nvPr/>
        </p:nvPicPr>
        <p:blipFill>
          <a:blip r:embed="rId1"/>
          <a:stretch/>
        </p:blipFill>
        <p:spPr>
          <a:xfrm>
            <a:off x="5292720" y="115920"/>
            <a:ext cx="2808360" cy="172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0720" y="8362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Palpate Thyroid: </a:t>
            </a:r>
            <a:br>
              <a:rPr sz="4000"/>
            </a:br>
            <a:r>
              <a:rPr b="1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Posterior Approach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00244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 behind the pers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to sit up very right, then bend the head slightly forward and then right (to relax the neck muscl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fingers of your left hand to push the trachea slightly to the right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, curve your right fingers between the trachea and the sternomastoid muscle, and ask the person to swallow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feel the thyroid moves up under your fingers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3" name="Picture 5" descr="1114"/>
          <p:cNvPicPr/>
          <p:nvPr/>
        </p:nvPicPr>
        <p:blipFill>
          <a:blip r:embed="rId1"/>
          <a:stretch/>
        </p:blipFill>
        <p:spPr>
          <a:xfrm>
            <a:off x="5148360" y="333360"/>
            <a:ext cx="3851280" cy="2131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0720" y="8362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Palpate Thyroid: </a:t>
            </a:r>
            <a:br>
              <a:rPr sz="4000"/>
            </a:br>
            <a:r>
              <a:rPr b="1" lang="en-US" sz="4000" spc="-1" strike="noStrike">
                <a:solidFill>
                  <a:srgbClr val="0f6fc6"/>
                </a:solidFill>
                <a:latin typeface="Calibri"/>
              </a:rPr>
              <a:t>Anterior Approach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64840" y="2133360"/>
            <a:ext cx="800244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an expert to d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 facing the person, ask the person to tip head forward and then to the examiner’s right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right thumb to displace the trachea slightly to the person’s right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, hook your right thumb and fingers around the sternomastoid muscle, and feel for lob enlargement as the person swallow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6" name="Picture 5" descr="1115"/>
          <p:cNvPicPr/>
          <p:nvPr/>
        </p:nvPicPr>
        <p:blipFill>
          <a:blip r:embed="rId1"/>
          <a:stretch/>
        </p:blipFill>
        <p:spPr>
          <a:xfrm>
            <a:off x="5003640" y="115920"/>
            <a:ext cx="3676680" cy="259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chniqu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56720" y="2141640"/>
            <a:ext cx="8386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spec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uscul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lp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4" descr="palp[1]"/>
          <p:cNvPicPr/>
          <p:nvPr/>
        </p:nvPicPr>
        <p:blipFill>
          <a:blip r:embed="rId1"/>
          <a:stretch/>
        </p:blipFill>
        <p:spPr>
          <a:xfrm>
            <a:off x="5003640" y="5184720"/>
            <a:ext cx="2232360" cy="1535040"/>
          </a:xfrm>
          <a:prstGeom prst="rect">
            <a:avLst/>
          </a:prstGeom>
          <a:ln w="38160">
            <a:solidFill>
              <a:srgbClr val="cc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56" name="Picture 5" descr="insp[1]"/>
          <p:cNvPicPr/>
          <p:nvPr/>
        </p:nvPicPr>
        <p:blipFill>
          <a:blip r:embed="rId2"/>
          <a:stretch/>
        </p:blipFill>
        <p:spPr>
          <a:xfrm>
            <a:off x="4951440" y="757080"/>
            <a:ext cx="2141640" cy="1903680"/>
          </a:xfrm>
          <a:prstGeom prst="rect">
            <a:avLst/>
          </a:prstGeom>
          <a:ln w="38160">
            <a:solidFill>
              <a:srgbClr val="cc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57" name="Picture 7" descr="ausc[1]"/>
          <p:cNvPicPr/>
          <p:nvPr/>
        </p:nvPicPr>
        <p:blipFill>
          <a:blip r:embed="rId3"/>
          <a:stretch/>
        </p:blipFill>
        <p:spPr>
          <a:xfrm>
            <a:off x="4943520" y="2908440"/>
            <a:ext cx="2190600" cy="1946160"/>
          </a:xfrm>
          <a:prstGeom prst="rect">
            <a:avLst/>
          </a:prstGeom>
          <a:ln w="38160">
            <a:solidFill>
              <a:srgbClr val="cc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33440" y="475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Lymph No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00244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ed in head and ne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in the head and nec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ve vessel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e from cardiovascul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part of immune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 and eliminate foreign bod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A1F9-2E2A-4602-BFC0-8D1EA152D2D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0680" y="-178200"/>
            <a:ext cx="368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Lymph Nod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90680" y="13176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p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3938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2" name="Picture 5" descr="1106"/>
          <p:cNvPicPr/>
          <p:nvPr/>
        </p:nvPicPr>
        <p:blipFill>
          <a:blip r:embed="rId1"/>
          <a:stretch/>
        </p:blipFill>
        <p:spPr>
          <a:xfrm>
            <a:off x="3780000" y="506520"/>
            <a:ext cx="5868720" cy="5735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D3B3-CEB3-44E3-BA59-1C8AAA7D8D4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368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Lymph Nod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24000" y="194796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more efficient to palpate with both hands to compare both sides for symmetrically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it is easier to palpate the sublingual gland under the chine with one hand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 gentle circular motion of  finger p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with preauricular and continue in a routine orde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37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6" name="Picture 1" descr=""/>
          <p:cNvPicPr/>
          <p:nvPr/>
        </p:nvPicPr>
        <p:blipFill>
          <a:blip r:embed="rId1"/>
          <a:stretch/>
        </p:blipFill>
        <p:spPr>
          <a:xfrm>
            <a:off x="5076720" y="169920"/>
            <a:ext cx="3797280" cy="16747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1110"/>
          <p:cNvPicPr/>
          <p:nvPr/>
        </p:nvPicPr>
        <p:blipFill>
          <a:blip r:embed="rId2"/>
          <a:stretch/>
        </p:blipFill>
        <p:spPr>
          <a:xfrm>
            <a:off x="5076720" y="3789360"/>
            <a:ext cx="3733920" cy="180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1BA8-09EB-48C1-AE1E-390D0FA1519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Lymph Nod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7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ndin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ble to palpate or see nod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normal findin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larged nod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le to palpate or see nod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dern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m, hard nod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0712-82D4-48A2-8B06-01DD594D4C0E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04920" y="1966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dd9"/>
                </a:solidFill>
                <a:latin typeface="Times New Roman"/>
                <a:ea typeface="Times New Roman"/>
              </a:rPr>
              <a:t>Question?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3A91-429A-4802-AF7F-7988205BF6F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atomy and Physiolo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kull is made up of the bones of the cranium and the fac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ranium includes frontal, parietal, temporal, and occipital bon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uscles of the face play a role in expression of emotions and assist in neck movemen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ment of the facial muscles is controlled by cranial nerves V and VII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rotid arteries provide the blood supply to the head; the temporal artery supplies blood to much of the fac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ck is supported and made mobile by vertebral processes and the sternocleidomastoid and trapezius musc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60A1-C2EF-4D50-91F9-61A3A087306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Picture 6" descr="f4-u1"/>
          <p:cNvPicPr/>
          <p:nvPr/>
        </p:nvPicPr>
        <p:blipFill>
          <a:blip r:embed="rId1"/>
          <a:stretch/>
        </p:blipFill>
        <p:spPr>
          <a:xfrm>
            <a:off x="0" y="115920"/>
            <a:ext cx="8893080" cy="6626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7553-896B-41AD-81D0-5945DC91E51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ealth Histo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presence/absence of age- and gender-specific diseases of the head and ne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chief complai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k pain or stiff ne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arsen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k ma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 inju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0224-0AE6-41D0-916C-A585A632746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valuating Chief Complain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the following characteris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d manifest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avating fac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viating fac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7187-D3F4-48BD-BDEF-C7E1BE98DCC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t Health Histo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9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l condi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er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uries or acci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E178-A54F-44D8-AB6E-A042D4136CE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amily Health Histo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if family history of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yroid diseas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harbi</dc:creator>
  <dc:description/>
  <dc:language>en-US</dc:language>
  <cp:lastModifiedBy>Almomani</cp:lastModifiedBy>
  <cp:lastPrinted>2015-09-01T09:48:13Z</cp:lastPrinted>
  <dcterms:modified xsi:type="dcterms:W3CDTF">2015-09-02T08:20:28Z</dcterms:modified>
  <cp:revision>222</cp:revision>
  <dc:subject/>
  <dc:title>الشريحة 1</dc:title>
</cp:coreProperties>
</file>