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7E2-D065-444E-B3A9-252B68F0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EC1-5900-4C9D-B399-5AC358A9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009-F6B9-439E-ABDE-FD29623F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6B6-D8CB-4D38-8E12-C552D7B9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1157-F47B-42D4-8CCE-F37370D3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A551-0022-4066-9575-79B012A1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293C-C0E8-48BB-8C8E-2EC6F944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488C-E308-48B9-81C2-B9257A7F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D961-0B67-4559-BE93-10013F4F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A67B-33C5-4CE2-A141-C21F5479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813D-8B2C-4C2C-B1D7-25D5BA9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C86-932A-4924-A2D7-821A2D20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D8B8-8C1C-4989-B024-89FA3784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358D-AC43-40F8-B1F1-D379D441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95E6-B255-4270-B3CA-6C812F70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9E21-2F5F-4F13-852A-0581B09F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E8A4-C98F-4F66-9E00-E4C0F8B7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A051-A524-4D01-B6A3-778C0CB2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CBCE-2394-4F4B-9F09-75BE045E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8AE3-E43A-4B07-A84B-7BE25361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6D52-DB26-49AA-8CD1-0B60E6C8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2FBF-963A-4B75-9D84-A1B5A365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2C7-BC9A-46E8-AD41-FB4BB72C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E4BC-70FA-430A-9B22-01D79D39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15C1-4F76-4CA4-B828-DE4B3845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1F22-0456-446A-BCB3-2D22D6F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A959-93EE-4662-9599-58CC8D08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4EE3-6269-4D32-ADE8-9DA33276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4020-E569-4AD1-9E03-C325A24A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BC90-F5E4-4899-8B9D-9DDA8916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E466E-5A0A-45BC-9B6D-08CDC8B2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92BC-C36E-4ED5-BD65-ACA7D3D8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0452C-6E95-45A9-9EA5-06BCAFED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8DD-5B95-449C-995B-A39A7C62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FFCD2-B306-461E-9B5B-A17AFAD6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D144-45BB-44C6-B4F2-4EE4888B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5C38-8DF1-4564-910C-40593AD3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8EF0-EF60-4478-A715-34F62DB6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A36C-43E6-4227-9B85-BD09D8E7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EB08B-E499-4AB2-8B3B-BA48AB5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BC2E6-E555-44F7-836D-FA3A4801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47F1D-815C-4A1E-8023-A0F35EE0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3B6D-6E8A-400A-A928-22B9F99C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943-183D-4BF0-8CDD-B88A175F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376-5524-40A0-B4C7-5BD25FD4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DE9-8D9A-4CF7-AEF6-DCC3BC86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8C1-1B60-4365-B9E4-04A799F9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515-F5A0-4A20-ADE2-5CC9F70B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E74E-0885-486F-97D9-7C8006D0B5EA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8B81-0939-46AB-9A2D-D63426DB36BD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188E-1DD3-47FE-9EFC-52728E86217A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1F85-69F0-40FB-8FAE-230854EC327F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52C7-BBDB-4819-959F-319A831FB6AF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FAC0-5A1D-424D-9C75-FFB56E54E4FC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4816-7636-4BBB-A310-AF178AD99FEA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627D-6D78-4248-8BA5-CA6E678F0F1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ssessment (NUR 224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urvey &amp; Health Histo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C77B-E416-4437-BACB-22C342BB0475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46" descr="bd20063_"/>
          <p:cNvPicPr/>
          <p:nvPr/>
        </p:nvPicPr>
        <p:blipFill>
          <a:blip r:embed="rId1"/>
          <a:stretch/>
        </p:blipFill>
        <p:spPr>
          <a:xfrm>
            <a:off x="5375160" y="4818240"/>
            <a:ext cx="3768840" cy="177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365040" y="1189080"/>
            <a:ext cx="82296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Health histor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l state of health, childhood, adult and psychiatric illness, accident and injuries, operations and  hospit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health 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dication, allergies to food or medication, smoking, drug abuse, diet, screening test, immunization, sleep pattern, exercise, environmental hazards, and safety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549360" y="1463760"/>
            <a:ext cx="82296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 histo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and health status of parents, siblings, and children; cause of death for immediate family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sychosocial factors, lifestyles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beliefs that influence health management; religious or spiritual beliefs and daily living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tri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etary habits, preferences, or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85840"/>
            <a:ext cx="82296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9dd9"/>
                </a:solidFill>
                <a:uFillTx/>
                <a:latin typeface="Tahoma"/>
                <a:ea typeface="Arial"/>
              </a:rPr>
              <a:t>Starting the interview:</a:t>
            </a:r>
            <a:r>
              <a:rPr b="0" lang="en-US" sz="4400" spc="-1" strike="noStrike">
                <a:solidFill>
                  <a:srgbClr val="009dd9"/>
                </a:solidFill>
                <a:latin typeface="Tahom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57200" y="141300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ddress the client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rself and your r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Expla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int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Tell the cli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interview will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Reassure the client that the data will be kep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Formulat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i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out client as a whole (posture, speech, signs of distress, facial expression, dressing, grooming and hygie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781200"/>
            <a:ext cx="82296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Tahoma"/>
                <a:ea typeface="Arial"/>
              </a:rPr>
              <a:t>Observe client nonverbal messag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re Ges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al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cont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68360" y="62064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-Working phas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data gathering phase. Verbal skills for this phase include questioning the client, and the nurse responses to what the client s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9280" y="2133720"/>
          <a:ext cx="8715600" cy="4551120"/>
        </p:xfrm>
        <a:graphic>
          <a:graphicData uri="http://schemas.openxmlformats.org/drawingml/2006/table">
            <a:tbl>
              <a:tblPr/>
              <a:tblGrid>
                <a:gridCol w="4826160"/>
                <a:gridCol w="3889440"/>
              </a:tblGrid>
              <a:tr h="50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ea typeface="Arial"/>
                        </a:rPr>
                        <a:t>Open ended question</a:t>
                      </a:r>
                      <a:r>
                        <a:rPr b="0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It require patient to talk about his problem, expressing feeling, opinions, and id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It enhance the development of nurse –patient ra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It helps you gather more information than can be gathered with closed ques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It can convey intere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nd trust because of the freedom it’s prov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Arial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Why did you come to the hospital to nigh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How would you describe the problem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ou are having with your breathing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ea typeface="Arial"/>
                        </a:rPr>
                        <a:t>Closed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It  elicits yes or no answ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It limits the development of nurse patient rap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They take less 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 Do you ever get short of breath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*Are you the only one in your family with lung problem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324000" y="836640"/>
            <a:ext cx="864072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unication skills during the 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1-Facil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hrases to encourage the client to continue. Example: (please contin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2-Silence</a:t>
            </a:r>
            <a:r>
              <a:rPr b="0" lang="en-US" sz="2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ilent for second to have a chance to assess the client ability to organize his thou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3-Confi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 the information given by patient to clear up any misunderstand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"/>
          <p:cNvSpPr txBox="1"/>
          <p:nvPr/>
        </p:nvSpPr>
        <p:spPr>
          <a:xfrm>
            <a:off x="539640" y="260280"/>
            <a:ext cx="82296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cap="sq" w="12600">
                  <a:solidFill>
                    <a:srgbClr val="eaeaea"/>
                  </a:solidFill>
                  <a:miter/>
                </a:ln>
                <a:solidFill>
                  <a:srgbClr val="009dd9"/>
                </a:solidFill>
                <a:latin typeface="Times New Roman"/>
              </a:rPr>
              <a:t> </a:t>
            </a:r>
            <a:endParaRPr b="0" lang="en-US" sz="1000" spc="1" strike="noStrike">
              <a:ln cap="sq" w="12600">
                <a:solidFill>
                  <a:srgbClr val="eaeaea"/>
                </a:solidFill>
                <a:miter/>
              </a:ln>
              <a:solidFill>
                <a:srgbClr val="009dd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189000"/>
            <a:ext cx="82296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4-Clarificatio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ek understanding when the client words are conf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5-Reflection</a:t>
            </a:r>
            <a:r>
              <a:rPr b="0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ing part of what the clients has just said, to focus attention on specific phrase it demands the client’s   elaboration on meaning or fe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457200" y="189000"/>
            <a:ext cx="82296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6-Empathy</a:t>
            </a:r>
            <a:r>
              <a:rPr b="0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 recognizes the feeling of the client and puts it into words. It helps the client feels accepted and can deal with the feeling open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8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7-Summary</a:t>
            </a:r>
            <a:r>
              <a:rPr b="0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 final review of what you understand the person has s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Ten traps of inter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341360"/>
            <a:ext cx="82296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false reassu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ing unwanted ad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voidance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of professional jarg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eading or biased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king too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rup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judg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 of indirect language while dealing with frightening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68360" y="83664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3.</a:t>
            </a:r>
            <a:r>
              <a:rPr b="1" i="1" lang="en-US" sz="32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 Closure phas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2400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phase that eases the closing of the interview, summarizes and sums it up .It concludes what the client and nurse agree the health state to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ting the information that was covered during int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introduce any new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that the interview is about to end (example only 2 question left, within 5 min we will finis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only specific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9240" y="1052280"/>
            <a:ext cx="82580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Outline</a:t>
            </a:r>
            <a:br>
              <a:rPr sz="4800"/>
            </a:b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80800" y="1052640"/>
            <a:ext cx="84834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history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vs. Medical hist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of health histor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obtain health histor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0f6fc6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review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e2d7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42BE-DCBB-4F16-AEC5-81A624ED2C9F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Tahoma"/>
                <a:ea typeface="Arial"/>
              </a:rPr>
              <a:t>3.</a:t>
            </a:r>
            <a:r>
              <a:rPr b="1" i="1" lang="en-US" sz="3200" spc="-1" strike="noStrike">
                <a:solidFill>
                  <a:srgbClr val="009dd9"/>
                </a:solidFill>
                <a:latin typeface="Tahoma"/>
                <a:ea typeface="Arial"/>
              </a:rPr>
              <a:t> Closure phase </a:t>
            </a:r>
            <a:r>
              <a:rPr b="1" i="1" lang="en-US" sz="2400" spc="-1" strike="noStrike">
                <a:solidFill>
                  <a:srgbClr val="009dd9"/>
                </a:solidFill>
                <a:latin typeface="Tahoma"/>
                <a:ea typeface="Arial"/>
              </a:rPr>
              <a:t>(cont.):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240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validation of the patient/client perce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the interview /conclusion brings it to c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 the client chance for final addition. (ex: is there anything else you would like to mention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the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528480">
              <a:lnSpc>
                <a:spcPct val="150000"/>
              </a:lnSpc>
              <a:spcBef>
                <a:spcPts val="601"/>
              </a:spcBef>
              <a:buClr>
                <a:srgbClr val="10cf9b"/>
              </a:buClr>
              <a:buFont typeface="Wingdings" charset="2"/>
              <a:buChar char=""/>
              <a:tabLst>
                <a:tab algn="l" pos="985680"/>
                <a:tab algn="l" pos="1442880"/>
                <a:tab algn="l" pos="1900080"/>
                <a:tab algn="l" pos="2357280"/>
                <a:tab algn="l" pos="2814480"/>
                <a:tab algn="l" pos="3271680"/>
                <a:tab algn="l" pos="3728880"/>
                <a:tab algn="l" pos="4186080"/>
                <a:tab algn="l" pos="4643280"/>
                <a:tab algn="l" pos="5100480"/>
                <a:tab algn="l" pos="5557680"/>
                <a:tab algn="l" pos="6014880"/>
                <a:tab algn="l" pos="6472080"/>
                <a:tab algn="l" pos="6929280"/>
                <a:tab algn="l" pos="7386480"/>
                <a:tab algn="l" pos="7843680"/>
                <a:tab algn="l" pos="8300880"/>
                <a:tab algn="l" pos="8758080"/>
                <a:tab algn="l" pos="9215280"/>
                <a:tab algn="l" pos="9672480"/>
                <a:tab algn="l" pos="1012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next steps. Plans can be made for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dd9"/>
                </a:solidFill>
                <a:uFillTx/>
                <a:latin typeface="Times New Roman"/>
                <a:ea typeface="Times New Roman"/>
              </a:rPr>
              <a:t>B. Review of recor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88880" y="17096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objective data collected through review of documentations related to the client health status.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diagn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 and diagnostic studies per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al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91960"/>
            <a:ext cx="82296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Tahoma"/>
                <a:ea typeface="Arial"/>
              </a:rPr>
              <a:t>Data documen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is a major part of a complete health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hould be recorded in a factual manner and not interpreted by the nurse. To increase accuracy the nurse should record subjective data in the client own w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4820-031B-40B8-A345-4F6215281A8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7FF9-E22F-4715-A3BA-357EA2176AC6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is module the learner should be able 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structure and purpose of health history in order to collect relevant inform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applying the three phases of interview to collect a comprehensive history from cli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 complete health history using standard forma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 data collected in terms of chief symptoms and complai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560520" y="291960"/>
            <a:ext cx="82296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Definition of Health assessment</a:t>
            </a:r>
            <a:r>
              <a:rPr b="0" lang="en-US" sz="28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alth assessment is the first step of the nursing process. It involves collecting two types of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457200" y="2133720"/>
            <a:ext cx="84358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8840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Arial"/>
                <a:ea typeface="Arial"/>
              </a:rPr>
              <a:t>1- </a:t>
            </a:r>
            <a:r>
              <a:rPr b="1" i="1" lang="en-US" sz="2800" spc="-1" strike="noStrike">
                <a:solidFill>
                  <a:srgbClr val="0f6fc6"/>
                </a:solidFill>
                <a:latin typeface="Arial"/>
                <a:ea typeface="Arial"/>
              </a:rPr>
              <a:t>Objec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through interviewing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ed to as sympto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ling perception &amp; concerns that cannot be observed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f6fc6"/>
                </a:solidFill>
                <a:latin typeface="Arial"/>
                <a:ea typeface="Arial"/>
              </a:rPr>
              <a:t>2- Subjec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ained through observation, standard assessment technique, laboratory &amp; diagnostic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2884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"/>
              <a:tabLst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red to as signs as it can be seen, heard, or felt, by someone other than the patient or clie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f6fc6"/>
                </a:solidFill>
                <a:uFillTx/>
                <a:latin typeface="Tahoma"/>
                <a:ea typeface="Arial"/>
              </a:rPr>
              <a:t>Purposes of health assess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ing the clients health status (current) and risk factors for particular health problem (potenti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undetected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ing for a specific disease such as diabe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ing risks for particular health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functional impact of disease (i.e. response to actual or potential  health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the effectiveness of health care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45720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Three health assessment component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23720" y="210492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27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als with obtaining a comprehensive health history and utilizing effective interview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cuses on acquiring appropriate skills to perform physical exa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27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Wingdings" charset="2"/>
              <a:buChar char="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th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aluates the client nutrit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76280" y="47628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6fc6"/>
                </a:solidFill>
                <a:uFillTx/>
                <a:latin typeface="Tahoma"/>
                <a:ea typeface="Arial"/>
              </a:rPr>
              <a:t>Health History: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476280" y="1251000"/>
            <a:ext cx="8507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ollection of data about an individual's health state by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ing the cli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rec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rpos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different type of information, to form the client’s data base, wh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  Helps the nurse discover significant health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  Used to make judgment or diagnosis about the clients past and current health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 Used in developing the nursing care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395280" y="5205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Difference between Nursing health history and Medical health history</a:t>
            </a:r>
            <a:r>
              <a:rPr b="0" lang="en-US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9528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dical  health history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s 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ursing health histor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es on the client’s functional health patterns, responses to changes in Health status &amp; alteration in life sty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The element of health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25092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graphic inform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, sex, educational level, marital status, occupation, living arrang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complai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lient reasons for seeking health care (usually in the clients own wor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health status or illn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ecord of the current issue from the starting of the onset until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0cf9b"/>
              </a:buClr>
              <a:buSzPct val="120000"/>
              <a:buFont typeface="Wingdings" charset="2"/>
              <a:buChar char="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momani</cp:lastModifiedBy>
  <dcterms:modified xsi:type="dcterms:W3CDTF">2015-08-30T04:58:30Z</dcterms:modified>
  <cp:revision>145</cp:revision>
  <dc:subject/>
  <dc:title>الشريحة 1</dc:title>
</cp:coreProperties>
</file>