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F9F6-604F-4E3D-8CAD-D68BA808C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78E0-9ABA-46D9-8DCA-C2B6D9DC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673D-F77D-4793-8D8A-2AED30D30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30C3-242A-4D2A-BA72-D2BC6820B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A7391-0439-42CB-99C1-97DF0E573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483DA-9E3B-4BC7-BD09-63948B4D8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66178-A759-45DA-A3D6-0AD149CFA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363AF-6E0F-433C-91AC-D1D7EFD0A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0A5D9-EE11-48DB-9056-ADAA7E475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82B1F-9BDB-4140-9DDA-8AE6B3F68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EBFA1-6717-4A00-A6D6-494612EC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18AC-966B-486C-90AE-B3F57855D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014D2-4D4C-445F-8B08-A8346FD8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3B742-5279-4DBE-A473-A7D8A530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51187-9148-4796-960C-3D1D81B8A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168F9-4294-44B5-98D4-87C7FFC9F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5B796-2659-4CD5-B08F-2CD859840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E3DF6-08A2-436E-BD41-809B62DB5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F1626-D16D-4798-BC0E-A5DC06650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C729B-6A86-4404-A688-1910D6D8B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69BC6-DFCE-4B3C-9932-BE2E0E13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3AB7A-0B61-40B2-883F-2ECEE81B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6F84-D823-4F36-B4B8-A9FCE62AB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4CF6B-F0AA-42EC-8CCA-638D12431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08D65-DAF8-4DE6-9A71-A725804B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0DE2B-BEDB-4E0A-9BAA-A4F1B3D3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4FA1A-DCF4-451C-9EF9-7B26F7E6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35014-E76A-4828-9414-38CC710D9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6819E-107C-44AD-9D04-4CDBD927A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9EBBF-AC70-4960-9C8F-89F9F21EF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05646-ED4B-4E56-A052-CD47625E4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C3D9C-C37F-4B9A-9DAE-B3D16657F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5D4F3-EAA5-4FC2-9878-FB175E3C3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1BFE-1220-4503-9553-645E35ACE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C6D38-AAAC-434C-844A-52EF35663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9057E-C72D-46D9-A334-4DE5ACD74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4BE6F-A226-487D-AD1E-9AA32F06E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52608-3D51-40AC-B6DA-EF9A2E63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08550-3540-4F05-90B2-CA442D28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9AAB1-A4F7-451F-8B60-2D3F7A0C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C8FD7-C541-4D3D-B1AE-1C7DFD46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0BBAF-0B29-4119-AA42-3C3D84902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C6967-CC2D-4D6F-B3B9-8E102407F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3322-3455-4384-A4B1-7DA77A785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F4C7-868A-49D5-929A-20375AF2A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3E51-FE5F-4804-8B36-FF8DE0C9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3977-E8FA-4564-897A-B71C1559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0046-4220-4B0A-9844-D1C6333E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AA1F5-E9F6-4624-8CCF-58F9A2C59DED}" type="datetime">
              <a:rPr b="0" lang="ar-SA" sz="1200" spc="-1" strike="noStrike">
                <a:solidFill>
                  <a:srgbClr val="045c75"/>
                </a:solidFill>
                <a:latin typeface="Constantia"/>
              </a:rPr>
              <a:t>١٤٤٨/٠٢/١٦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F7307-1854-4126-BF70-FD080DEA51C1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شكل حر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شكل حر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شكل حر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شكل حر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1B5BB-F012-43BA-8FB5-368A38D7A085}" type="datetime">
              <a:rPr b="0" lang="ar-SA" sz="1200" spc="-1" strike="noStrike">
                <a:solidFill>
                  <a:srgbClr val="d1eaee"/>
                </a:solidFill>
                <a:latin typeface="Constantia"/>
              </a:rPr>
              <a:t>١٤٤٨/٠٢/١٦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C7C51-00F6-4ACA-A997-E78300832043}" type="slidenum">
              <a:rPr b="0" lang="ar-S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شكل حر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شكل حر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4E0A7-F74E-42BF-BFCF-9658B03DF9C6}" type="datetime">
              <a:rPr b="0" lang="ar-SA" sz="1200" spc="-1" strike="noStrike">
                <a:solidFill>
                  <a:srgbClr val="d1eaee"/>
                </a:solidFill>
                <a:latin typeface="Constantia"/>
              </a:rPr>
              <a:t>١٤٤٨/٠٢/١٦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D5006-D04E-48F2-B920-DBC220DF6EDC}" type="slidenum">
              <a:rPr b="0" lang="ar-S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مستطيل ذو زاوية واحدة مخدوشة ودائرية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مثلث قائم الزاوية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شكل حر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شكل حر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24DC-B7EA-4D26-9CD1-649E3FC9C8E1}" type="datetime">
              <a:rPr b="0" lang="ar-SA" sz="1200" spc="-1" strike="noStrike">
                <a:solidFill>
                  <a:srgbClr val="045c75"/>
                </a:solidFill>
                <a:latin typeface="Constantia"/>
              </a:rPr>
              <a:t>١٤٤٨/٠٢/١٦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224F8-E246-4A7E-8BED-7429CFBA5BA1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57200" y="333000"/>
            <a:ext cx="8229600" cy="57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ng Saud University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ge of Nursing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lth Assessment (NUR 224)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 Survey &amp; Health History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عنصر نائب لرقم الشريحة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7CED0-3D03-4700-8FFB-0F837A7A5C97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046" descr="bd20063_"/>
          <p:cNvPicPr/>
          <p:nvPr/>
        </p:nvPicPr>
        <p:blipFill>
          <a:blip r:embed="rId1"/>
          <a:stretch/>
        </p:blipFill>
        <p:spPr>
          <a:xfrm>
            <a:off x="5375160" y="4818240"/>
            <a:ext cx="3768840" cy="1779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1"/>
          <p:cNvSpPr/>
          <p:nvPr/>
        </p:nvSpPr>
        <p:spPr>
          <a:xfrm>
            <a:off x="365040" y="1189080"/>
            <a:ext cx="822960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0cf9b"/>
              </a:buClr>
              <a:buSzPct val="120000"/>
              <a:buFont typeface="Wingdings" charset="2"/>
              <a:buChar char="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st Health history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eneral state of health, childhood, adult and psychiatric illness, accident and injuries, operations and  hospit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10cf9b"/>
              </a:buClr>
              <a:buSzPct val="120000"/>
              <a:buFont typeface="Wingdings" charset="2"/>
              <a:buChar char="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urrent health stat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edication, allergies to food or medication, smoking, drug abuse, diet, screening test, immunization, sleep pattern, exercise, environmental hazards, and safety meas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2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2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2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1"/>
          <p:cNvSpPr/>
          <p:nvPr/>
        </p:nvSpPr>
        <p:spPr>
          <a:xfrm>
            <a:off x="549360" y="1463760"/>
            <a:ext cx="8229600" cy="36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0cf9b"/>
              </a:buClr>
              <a:buSzPct val="120000"/>
              <a:buFont typeface="Wingdings" charset="2"/>
              <a:buChar char="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mily histor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ge and health status of parents, siblings, and children; cause of death for immediate family me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10cf9b"/>
              </a:buClr>
              <a:buSzPct val="120000"/>
              <a:buFont typeface="Wingdings" charset="2"/>
              <a:buChar char="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sychosocial factors, lifestyles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ltural beliefs that influence health management; religious or spiritual beliefs and daily living activ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10cf9b"/>
              </a:buClr>
              <a:buSzPct val="120000"/>
              <a:buFont typeface="Wingdings" charset="2"/>
              <a:buChar char="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utritio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etary habits, preferences, or restri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2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2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2" dur="2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1"/>
          <p:cNvSpPr/>
          <p:nvPr/>
        </p:nvSpPr>
        <p:spPr>
          <a:xfrm>
            <a:off x="457200" y="285840"/>
            <a:ext cx="822960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9dd9"/>
                </a:solidFill>
                <a:uFillTx/>
                <a:latin typeface="Tahoma"/>
                <a:ea typeface="Arial"/>
              </a:rPr>
              <a:t>Starting the interview:</a:t>
            </a:r>
            <a:r>
              <a:rPr b="0" lang="en-US" sz="4400" spc="-1" strike="noStrike">
                <a:solidFill>
                  <a:srgbClr val="009dd9"/>
                </a:solidFill>
                <a:latin typeface="Tahoma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457200" y="1413000"/>
            <a:ext cx="82296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Address the client b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ourself and your ro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Explain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rp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intervi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 Tell the clie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lo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interview will 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 Reassure the client that the data will be kep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ident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. Formulate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 i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bout client as a whole (posture, speech, signs of distress, facial expression, dressing, grooming and hygien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"/>
          <p:cNvSpPr/>
          <p:nvPr/>
        </p:nvSpPr>
        <p:spPr>
          <a:xfrm>
            <a:off x="457200" y="781200"/>
            <a:ext cx="822960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dd9"/>
                </a:solidFill>
                <a:latin typeface="Tahoma"/>
                <a:ea typeface="Arial"/>
              </a:rPr>
              <a:t>Observe client nonverbal messag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10cf9b"/>
              </a:buClr>
              <a:buSzPct val="120000"/>
              <a:buFont typeface="Wingdings" charset="2"/>
              <a:buChar char="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appear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10cf9b"/>
              </a:buClr>
              <a:buSzPct val="120000"/>
              <a:buFont typeface="Wingdings" charset="2"/>
              <a:buChar char="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ure Gest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10cf9b"/>
              </a:buClr>
              <a:buSzPct val="120000"/>
              <a:buFont typeface="Wingdings" charset="2"/>
              <a:buChar char="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ial ex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10cf9b"/>
              </a:buClr>
              <a:buSzPct val="120000"/>
              <a:buFont typeface="Wingdings" charset="2"/>
              <a:buChar char="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ye conta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10cf9b"/>
              </a:buClr>
              <a:buSzPct val="120000"/>
              <a:buFont typeface="Wingdings" charset="2"/>
              <a:buChar char="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1"/>
          <p:cNvSpPr/>
          <p:nvPr/>
        </p:nvSpPr>
        <p:spPr>
          <a:xfrm>
            <a:off x="468360" y="62064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-Working phase: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the data gathering phase. Verbal skills for this phase include questioning the client, and the nurse responses to what the client s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79280" y="2133720"/>
          <a:ext cx="8715600" cy="4551120"/>
        </p:xfrm>
        <a:graphic>
          <a:graphicData uri="http://schemas.openxmlformats.org/drawingml/2006/table">
            <a:tbl>
              <a:tblPr/>
              <a:tblGrid>
                <a:gridCol w="4826160"/>
                <a:gridCol w="3889440"/>
              </a:tblGrid>
              <a:tr h="506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ea typeface="Arial"/>
                        </a:rPr>
                        <a:t>Open ended question</a:t>
                      </a:r>
                      <a:r>
                        <a:rPr b="0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*It require patient to talk about his problem, expressing feeling, opinions, and id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* It enhance the development of nurse –patient rap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* It helps you gather more information than can be gathered with closed ques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* It can convey interes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and trust because of the freedom it’s provi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  <a:ea typeface="Arial"/>
                        </a:rPr>
                        <a:t>example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*Why did you come to the hospital to night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*How would you describe the problem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you are having with your breathing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ea typeface="Arial"/>
                        </a:rPr>
                        <a:t>Closed ques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*It  elicits yes or no answe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* It limits the development of nurse patient rappor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* They take less 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example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* Do you ever get short of breath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*Are you the only one in your family with lung problems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1"/>
          <p:cNvSpPr/>
          <p:nvPr/>
        </p:nvSpPr>
        <p:spPr>
          <a:xfrm>
            <a:off x="324000" y="836640"/>
            <a:ext cx="8640720" cy="60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munication skills during the intervie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r>
              <a:rPr b="1" lang="en-US" sz="2400" spc="-1" strike="noStrike" u="sng">
                <a:solidFill>
                  <a:srgbClr val="009dd9"/>
                </a:solidFill>
                <a:uFillTx/>
                <a:latin typeface="Times New Roman"/>
                <a:ea typeface="Times New Roman"/>
              </a:rPr>
              <a:t>1-Facili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hrases to encourage the client to continue. Example: (please contin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r>
              <a:rPr b="1" lang="en-US" sz="2400" spc="-1" strike="noStrike" u="sng">
                <a:solidFill>
                  <a:srgbClr val="009dd9"/>
                </a:solidFill>
                <a:uFillTx/>
                <a:latin typeface="Times New Roman"/>
                <a:ea typeface="Times New Roman"/>
              </a:rPr>
              <a:t>2-Silence</a:t>
            </a:r>
            <a:r>
              <a:rPr b="0" lang="en-US" sz="2400" spc="-1" strike="noStrike" u="sng">
                <a:solidFill>
                  <a:srgbClr val="009dd9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ilent for second to have a chance to assess the client ability to organize his though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r>
              <a:rPr b="1" lang="en-US" sz="2400" spc="-1" strike="noStrike" u="sng">
                <a:solidFill>
                  <a:srgbClr val="009dd9"/>
                </a:solidFill>
                <a:uFillTx/>
                <a:latin typeface="Times New Roman"/>
                <a:ea typeface="Times New Roman"/>
              </a:rPr>
              <a:t>3-Confi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eat the information given by patient to clear up any misunderstand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WordArt 2"/>
          <p:cNvSpPr txBox="1"/>
          <p:nvPr/>
        </p:nvSpPr>
        <p:spPr>
          <a:xfrm>
            <a:off x="539640" y="260280"/>
            <a:ext cx="8229600" cy="138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cap="sq" w="12600">
                  <a:solidFill>
                    <a:srgbClr val="eaeaea"/>
                  </a:solidFill>
                  <a:miter/>
                </a:ln>
                <a:solidFill>
                  <a:srgbClr val="009dd9"/>
                </a:solidFill>
                <a:latin typeface="Times New Roman"/>
              </a:rPr>
              <a:t> </a:t>
            </a:r>
            <a:endParaRPr b="0" lang="en-US" sz="1000" spc="1" strike="noStrike">
              <a:ln cap="sq" w="12600">
                <a:solidFill>
                  <a:srgbClr val="eaeaea"/>
                </a:solidFill>
                <a:miter/>
              </a:ln>
              <a:solidFill>
                <a:srgbClr val="009dd9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1"/>
          <p:cNvSpPr/>
          <p:nvPr/>
        </p:nvSpPr>
        <p:spPr>
          <a:xfrm>
            <a:off x="457200" y="189000"/>
            <a:ext cx="822960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r>
              <a:rPr b="1" lang="en-US" sz="2800" spc="-1" strike="noStrike" u="sng">
                <a:solidFill>
                  <a:srgbClr val="009dd9"/>
                </a:solidFill>
                <a:uFillTx/>
                <a:latin typeface="Times New Roman"/>
                <a:ea typeface="Times New Roman"/>
              </a:rPr>
              <a:t>4-Clarification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eek understanding when the client words are confu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r>
              <a:rPr b="1" lang="en-US" sz="2800" spc="-1" strike="noStrike" u="sng">
                <a:solidFill>
                  <a:srgbClr val="009dd9"/>
                </a:solidFill>
                <a:uFillTx/>
                <a:latin typeface="Times New Roman"/>
                <a:ea typeface="Times New Roman"/>
              </a:rPr>
              <a:t>5-Reflection</a:t>
            </a:r>
            <a:r>
              <a:rPr b="0" lang="en-US" sz="2800" spc="-1" strike="noStrike" u="sng">
                <a:solidFill>
                  <a:srgbClr val="009dd9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eating part of what the clients has just said, to focus attention on specific phrase it demands the client’s   elaboration on meaning or feel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"/>
          <p:cNvSpPr/>
          <p:nvPr/>
        </p:nvSpPr>
        <p:spPr>
          <a:xfrm>
            <a:off x="457200" y="189000"/>
            <a:ext cx="822960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r>
              <a:rPr b="1" lang="en-US" sz="2800" spc="-1" strike="noStrike" u="sng">
                <a:solidFill>
                  <a:srgbClr val="009dd9"/>
                </a:solidFill>
                <a:uFillTx/>
                <a:latin typeface="Times New Roman"/>
                <a:ea typeface="Times New Roman"/>
              </a:rPr>
              <a:t>6-Empathy</a:t>
            </a:r>
            <a:r>
              <a:rPr b="0" lang="en-US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: recognizes the feeling of the client and puts it into words. It helps the client feels accepted and can deal with the feeling openl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r>
              <a:rPr b="1" lang="en-US" sz="2800" spc="-1" strike="noStrike" u="sng">
                <a:solidFill>
                  <a:srgbClr val="009dd9"/>
                </a:solidFill>
                <a:uFillTx/>
                <a:latin typeface="Times New Roman"/>
                <a:ea typeface="Times New Roman"/>
              </a:rPr>
              <a:t>7-Summary</a:t>
            </a:r>
            <a:r>
              <a:rPr b="0" lang="en-US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: final review of what you understand the person has sa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1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9dd9"/>
                </a:solidFill>
                <a:uFillTx/>
                <a:latin typeface="Times New Roman"/>
                <a:ea typeface="Times New Roman"/>
              </a:rPr>
              <a:t>Ten traps of interview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"/>
          <p:cNvSpPr/>
          <p:nvPr/>
        </p:nvSpPr>
        <p:spPr>
          <a:xfrm>
            <a:off x="457200" y="1341360"/>
            <a:ext cx="822960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1880" indent="-457200">
              <a:lnSpc>
                <a:spcPct val="150000"/>
              </a:lnSpc>
              <a:spcBef>
                <a:spcPts val="700"/>
              </a:spcBef>
              <a:buClr>
                <a:srgbClr val="10cf9b"/>
              </a:buClr>
              <a:buSzPct val="120000"/>
              <a:buFont typeface="Wingdings" charset="2"/>
              <a:buChar char="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ing false reassur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1880" indent="-457200">
              <a:lnSpc>
                <a:spcPct val="150000"/>
              </a:lnSpc>
              <a:spcBef>
                <a:spcPts val="700"/>
              </a:spcBef>
              <a:buClr>
                <a:srgbClr val="10cf9b"/>
              </a:buClr>
              <a:buSzPct val="120000"/>
              <a:buFont typeface="Wingdings" charset="2"/>
              <a:buChar char="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ing unwanted advi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1880" indent="-457200">
              <a:lnSpc>
                <a:spcPct val="150000"/>
              </a:lnSpc>
              <a:spcBef>
                <a:spcPts val="700"/>
              </a:spcBef>
              <a:buClr>
                <a:srgbClr val="10cf9b"/>
              </a:buClr>
              <a:buSzPct val="120000"/>
              <a:buFont typeface="Wingdings" charset="2"/>
              <a:buChar char="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uthor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1880" indent="-457200">
              <a:lnSpc>
                <a:spcPct val="150000"/>
              </a:lnSpc>
              <a:spcBef>
                <a:spcPts val="700"/>
              </a:spcBef>
              <a:buClr>
                <a:srgbClr val="10cf9b"/>
              </a:buClr>
              <a:buSzPct val="120000"/>
              <a:buFont typeface="Wingdings" charset="2"/>
              <a:buChar char="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voidance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1880" indent="-457200">
              <a:lnSpc>
                <a:spcPct val="150000"/>
              </a:lnSpc>
              <a:spcBef>
                <a:spcPts val="700"/>
              </a:spcBef>
              <a:buClr>
                <a:srgbClr val="10cf9b"/>
              </a:buClr>
              <a:buSzPct val="120000"/>
              <a:buFont typeface="Wingdings" charset="2"/>
              <a:buChar char="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of professional jarg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1880" indent="-457200">
              <a:lnSpc>
                <a:spcPct val="150000"/>
              </a:lnSpc>
              <a:spcBef>
                <a:spcPts val="700"/>
              </a:spcBef>
              <a:buClr>
                <a:srgbClr val="10cf9b"/>
              </a:buClr>
              <a:buSzPct val="120000"/>
              <a:buFont typeface="Wingdings" charset="2"/>
              <a:buChar char="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eading or biased ques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1880" indent="-457200">
              <a:lnSpc>
                <a:spcPct val="150000"/>
              </a:lnSpc>
              <a:spcBef>
                <a:spcPts val="700"/>
              </a:spcBef>
              <a:buClr>
                <a:srgbClr val="10cf9b"/>
              </a:buClr>
              <a:buSzPct val="120000"/>
              <a:buFont typeface="Wingdings" charset="2"/>
              <a:buChar char="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lking too mu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1880" indent="-457200">
              <a:lnSpc>
                <a:spcPct val="150000"/>
              </a:lnSpc>
              <a:spcBef>
                <a:spcPts val="700"/>
              </a:spcBef>
              <a:buClr>
                <a:srgbClr val="10cf9b"/>
              </a:buClr>
              <a:buSzPct val="120000"/>
              <a:buFont typeface="Wingdings" charset="2"/>
              <a:buChar char="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rup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1880" indent="-457200">
              <a:lnSpc>
                <a:spcPct val="150000"/>
              </a:lnSpc>
              <a:spcBef>
                <a:spcPts val="700"/>
              </a:spcBef>
              <a:buClr>
                <a:srgbClr val="10cf9b"/>
              </a:buClr>
              <a:buSzPct val="120000"/>
              <a:buFont typeface="Wingdings" charset="2"/>
              <a:buChar char="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ing judgmen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1880" indent="-457200">
              <a:lnSpc>
                <a:spcPct val="150000"/>
              </a:lnSpc>
              <a:spcBef>
                <a:spcPts val="700"/>
              </a:spcBef>
              <a:buClr>
                <a:srgbClr val="10cf9b"/>
              </a:buClr>
              <a:buSzPct val="120000"/>
              <a:buFont typeface="Wingdings" charset="2"/>
              <a:buChar char="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age of indirect language while dealing with frightening top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2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2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1"/>
          <p:cNvSpPr/>
          <p:nvPr/>
        </p:nvSpPr>
        <p:spPr>
          <a:xfrm>
            <a:off x="468360" y="836640"/>
            <a:ext cx="822960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dd9"/>
                </a:solidFill>
                <a:latin typeface="Times New Roman"/>
                <a:ea typeface="Times New Roman"/>
              </a:rPr>
              <a:t>3.</a:t>
            </a:r>
            <a:r>
              <a:rPr b="1" i="1" lang="en-US" sz="3200" spc="-1" strike="noStrike">
                <a:solidFill>
                  <a:srgbClr val="009dd9"/>
                </a:solidFill>
                <a:latin typeface="Times New Roman"/>
                <a:ea typeface="Times New Roman"/>
              </a:rPr>
              <a:t> Closure phase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324000" y="148428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85680"/>
                <a:tab algn="l" pos="1442880"/>
                <a:tab algn="l" pos="1900080"/>
                <a:tab algn="l" pos="2357280"/>
                <a:tab algn="l" pos="2814480"/>
                <a:tab algn="l" pos="3271680"/>
                <a:tab algn="l" pos="3728880"/>
                <a:tab algn="l" pos="4186080"/>
                <a:tab algn="l" pos="4643280"/>
                <a:tab algn="l" pos="5100480"/>
                <a:tab algn="l" pos="5557680"/>
                <a:tab algn="l" pos="6014880"/>
                <a:tab algn="l" pos="6472080"/>
                <a:tab algn="l" pos="6929280"/>
                <a:tab algn="l" pos="7386480"/>
                <a:tab algn="l" pos="7843680"/>
                <a:tab algn="l" pos="8300880"/>
                <a:tab algn="l" pos="8758080"/>
                <a:tab algn="l" pos="9215280"/>
                <a:tab algn="l" pos="9672480"/>
                <a:tab algn="l" pos="1012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the phase that eases the closing of the interview, summarizes and sums it up .It concludes what the client and nurse agree the health state to b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85680"/>
                <a:tab algn="l" pos="1442880"/>
                <a:tab algn="l" pos="1900080"/>
                <a:tab algn="l" pos="2357280"/>
                <a:tab algn="l" pos="2814480"/>
                <a:tab algn="l" pos="3271680"/>
                <a:tab algn="l" pos="3728880"/>
                <a:tab algn="l" pos="4186080"/>
                <a:tab algn="l" pos="4643280"/>
                <a:tab algn="l" pos="5100480"/>
                <a:tab algn="l" pos="5557680"/>
                <a:tab algn="l" pos="6014880"/>
                <a:tab algn="l" pos="6472080"/>
                <a:tab algn="l" pos="6929280"/>
                <a:tab algn="l" pos="7386480"/>
                <a:tab algn="l" pos="7843680"/>
                <a:tab algn="l" pos="8300880"/>
                <a:tab algn="l" pos="8758080"/>
                <a:tab algn="l" pos="9215280"/>
                <a:tab algn="l" pos="9672480"/>
                <a:tab algn="l" pos="1012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ating the information that was covered during intervi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85680"/>
                <a:tab algn="l" pos="1442880"/>
                <a:tab algn="l" pos="1900080"/>
                <a:tab algn="l" pos="2357280"/>
                <a:tab algn="l" pos="2814480"/>
                <a:tab algn="l" pos="3271680"/>
                <a:tab algn="l" pos="3728880"/>
                <a:tab algn="l" pos="4186080"/>
                <a:tab algn="l" pos="4643280"/>
                <a:tab algn="l" pos="5100480"/>
                <a:tab algn="l" pos="5557680"/>
                <a:tab algn="l" pos="6014880"/>
                <a:tab algn="l" pos="6472080"/>
                <a:tab algn="l" pos="6929280"/>
                <a:tab algn="l" pos="7386480"/>
                <a:tab algn="l" pos="7843680"/>
                <a:tab algn="l" pos="8300880"/>
                <a:tab algn="l" pos="8758080"/>
                <a:tab algn="l" pos="9215280"/>
                <a:tab algn="l" pos="9672480"/>
                <a:tab algn="l" pos="1012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not introduce any new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85680"/>
                <a:tab algn="l" pos="1442880"/>
                <a:tab algn="l" pos="1900080"/>
                <a:tab algn="l" pos="2357280"/>
                <a:tab algn="l" pos="2814480"/>
                <a:tab algn="l" pos="3271680"/>
                <a:tab algn="l" pos="3728880"/>
                <a:tab algn="l" pos="4186080"/>
                <a:tab algn="l" pos="4643280"/>
                <a:tab algn="l" pos="5100480"/>
                <a:tab algn="l" pos="5557680"/>
                <a:tab algn="l" pos="6014880"/>
                <a:tab algn="l" pos="6472080"/>
                <a:tab algn="l" pos="6929280"/>
                <a:tab algn="l" pos="7386480"/>
                <a:tab algn="l" pos="7843680"/>
                <a:tab algn="l" pos="8300880"/>
                <a:tab algn="l" pos="8758080"/>
                <a:tab algn="l" pos="9215280"/>
                <a:tab algn="l" pos="9672480"/>
                <a:tab algn="l" pos="1012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al that the interview is about to end (example only 2 question left, within 5 min we will finis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85680"/>
                <a:tab algn="l" pos="1442880"/>
                <a:tab algn="l" pos="1900080"/>
                <a:tab algn="l" pos="2357280"/>
                <a:tab algn="l" pos="2814480"/>
                <a:tab algn="l" pos="3271680"/>
                <a:tab algn="l" pos="3728880"/>
                <a:tab algn="l" pos="4186080"/>
                <a:tab algn="l" pos="4643280"/>
                <a:tab algn="l" pos="5100480"/>
                <a:tab algn="l" pos="5557680"/>
                <a:tab algn="l" pos="6014880"/>
                <a:tab algn="l" pos="6472080"/>
                <a:tab algn="l" pos="6929280"/>
                <a:tab algn="l" pos="7386480"/>
                <a:tab algn="l" pos="7843680"/>
                <a:tab algn="l" pos="8300880"/>
                <a:tab algn="l" pos="8758080"/>
                <a:tab algn="l" pos="9215280"/>
                <a:tab algn="l" pos="9672480"/>
                <a:tab algn="l" pos="1012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uss only specific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9240" y="1052280"/>
            <a:ext cx="82580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Outline</a:t>
            </a:r>
            <a:br>
              <a:rPr sz="4800"/>
            </a:br>
            <a:r>
              <a:rPr b="0" lang="en-US" sz="46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80800" y="1052640"/>
            <a:ext cx="8483400" cy="51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rning objectiv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lth history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50000"/>
              </a:lnSpc>
              <a:spcBef>
                <a:spcPts val="451"/>
              </a:spcBef>
              <a:buClr>
                <a:srgbClr val="0f6fc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50000"/>
              </a:lnSpc>
              <a:spcBef>
                <a:spcPts val="451"/>
              </a:spcBef>
              <a:buClr>
                <a:srgbClr val="0f6fc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rsing vs. Medical history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50000"/>
              </a:lnSpc>
              <a:spcBef>
                <a:spcPts val="451"/>
              </a:spcBef>
              <a:buClr>
                <a:srgbClr val="0f6fc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s of health histor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obtain health history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50000"/>
              </a:lnSpc>
              <a:spcBef>
                <a:spcPts val="499"/>
              </a:spcBef>
              <a:buClr>
                <a:srgbClr val="0f6fc6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view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50000"/>
              </a:lnSpc>
              <a:spcBef>
                <a:spcPts val="499"/>
              </a:spcBef>
              <a:buClr>
                <a:srgbClr val="0f6fc6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rds review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umenta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e2d7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عنصر نائب لرقم الشريحة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5F3EB-880A-487A-850A-2CCD1584D781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1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dd9"/>
                </a:solidFill>
                <a:latin typeface="Tahoma"/>
                <a:ea typeface="Arial"/>
              </a:rPr>
              <a:t>3.</a:t>
            </a:r>
            <a:r>
              <a:rPr b="1" i="1" lang="en-US" sz="3200" spc="-1" strike="noStrike">
                <a:solidFill>
                  <a:srgbClr val="009dd9"/>
                </a:solidFill>
                <a:latin typeface="Tahoma"/>
                <a:ea typeface="Arial"/>
              </a:rPr>
              <a:t> Closure phase </a:t>
            </a:r>
            <a:r>
              <a:rPr b="1" i="1" lang="en-US" sz="2400" spc="-1" strike="noStrike">
                <a:solidFill>
                  <a:srgbClr val="009dd9"/>
                </a:solidFill>
                <a:latin typeface="Tahoma"/>
                <a:ea typeface="Arial"/>
              </a:rPr>
              <a:t>(cont.):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"/>
          <p:cNvSpPr/>
          <p:nvPr/>
        </p:nvSpPr>
        <p:spPr>
          <a:xfrm>
            <a:off x="3240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85680" indent="-528480">
              <a:lnSpc>
                <a:spcPct val="150000"/>
              </a:lnSpc>
              <a:spcBef>
                <a:spcPts val="601"/>
              </a:spcBef>
              <a:buClr>
                <a:srgbClr val="10cf9b"/>
              </a:buClr>
              <a:buFont typeface="Wingdings" charset="2"/>
              <a:buChar char=""/>
              <a:tabLst>
                <a:tab algn="l" pos="985680"/>
                <a:tab algn="l" pos="1442880"/>
                <a:tab algn="l" pos="1900080"/>
                <a:tab algn="l" pos="2357280"/>
                <a:tab algn="l" pos="2814480"/>
                <a:tab algn="l" pos="3271680"/>
                <a:tab algn="l" pos="3728880"/>
                <a:tab algn="l" pos="4186080"/>
                <a:tab algn="l" pos="4643280"/>
                <a:tab algn="l" pos="5100480"/>
                <a:tab algn="l" pos="5557680"/>
                <a:tab algn="l" pos="6014880"/>
                <a:tab algn="l" pos="6472080"/>
                <a:tab algn="l" pos="6929280"/>
                <a:tab algn="l" pos="7386480"/>
                <a:tab algn="l" pos="7843680"/>
                <a:tab algn="l" pos="8300880"/>
                <a:tab algn="l" pos="8758080"/>
                <a:tab algn="l" pos="9215280"/>
                <a:tab algn="l" pos="9672480"/>
                <a:tab algn="l" pos="10129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est validation of the patient/client percep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5680" indent="-528480">
              <a:lnSpc>
                <a:spcPct val="150000"/>
              </a:lnSpc>
              <a:spcBef>
                <a:spcPts val="601"/>
              </a:spcBef>
              <a:buClr>
                <a:srgbClr val="10cf9b"/>
              </a:buClr>
              <a:buFont typeface="Wingdings" charset="2"/>
              <a:buChar char=""/>
              <a:tabLst>
                <a:tab algn="l" pos="985680"/>
                <a:tab algn="l" pos="1442880"/>
                <a:tab algn="l" pos="1900080"/>
                <a:tab algn="l" pos="2357280"/>
                <a:tab algn="l" pos="2814480"/>
                <a:tab algn="l" pos="3271680"/>
                <a:tab algn="l" pos="3728880"/>
                <a:tab algn="l" pos="4186080"/>
                <a:tab algn="l" pos="4643280"/>
                <a:tab algn="l" pos="5100480"/>
                <a:tab algn="l" pos="5557680"/>
                <a:tab algn="l" pos="6014880"/>
                <a:tab algn="l" pos="6472080"/>
                <a:tab algn="l" pos="6929280"/>
                <a:tab algn="l" pos="7386480"/>
                <a:tab algn="l" pos="7843680"/>
                <a:tab algn="l" pos="8300880"/>
                <a:tab algn="l" pos="8758080"/>
                <a:tab algn="l" pos="9215280"/>
                <a:tab algn="l" pos="9672480"/>
                <a:tab algn="l" pos="10129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 the interview /conclusion brings it to clo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5680" indent="-528480">
              <a:lnSpc>
                <a:spcPct val="150000"/>
              </a:lnSpc>
              <a:spcBef>
                <a:spcPts val="601"/>
              </a:spcBef>
              <a:buClr>
                <a:srgbClr val="10cf9b"/>
              </a:buClr>
              <a:buFont typeface="Wingdings" charset="2"/>
              <a:buChar char=""/>
              <a:tabLst>
                <a:tab algn="l" pos="985680"/>
                <a:tab algn="l" pos="1442880"/>
                <a:tab algn="l" pos="1900080"/>
                <a:tab algn="l" pos="2357280"/>
                <a:tab algn="l" pos="2814480"/>
                <a:tab algn="l" pos="3271680"/>
                <a:tab algn="l" pos="3728880"/>
                <a:tab algn="l" pos="4186080"/>
                <a:tab algn="l" pos="4643280"/>
                <a:tab algn="l" pos="5100480"/>
                <a:tab algn="l" pos="5557680"/>
                <a:tab algn="l" pos="6014880"/>
                <a:tab algn="l" pos="6472080"/>
                <a:tab algn="l" pos="6929280"/>
                <a:tab algn="l" pos="7386480"/>
                <a:tab algn="l" pos="7843680"/>
                <a:tab algn="l" pos="8300880"/>
                <a:tab algn="l" pos="8758080"/>
                <a:tab algn="l" pos="9215280"/>
                <a:tab algn="l" pos="9672480"/>
                <a:tab algn="l" pos="10129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er the client chance for final addition. (ex: is there anything else you would like to mention?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5680" indent="-528480">
              <a:lnSpc>
                <a:spcPct val="150000"/>
              </a:lnSpc>
              <a:spcBef>
                <a:spcPts val="601"/>
              </a:spcBef>
              <a:buClr>
                <a:srgbClr val="10cf9b"/>
              </a:buClr>
              <a:buFont typeface="Wingdings" charset="2"/>
              <a:buChar char=""/>
              <a:tabLst>
                <a:tab algn="l" pos="985680"/>
                <a:tab algn="l" pos="1442880"/>
                <a:tab algn="l" pos="1900080"/>
                <a:tab algn="l" pos="2357280"/>
                <a:tab algn="l" pos="2814480"/>
                <a:tab algn="l" pos="3271680"/>
                <a:tab algn="l" pos="3728880"/>
                <a:tab algn="l" pos="4186080"/>
                <a:tab algn="l" pos="4643280"/>
                <a:tab algn="l" pos="5100480"/>
                <a:tab algn="l" pos="5557680"/>
                <a:tab algn="l" pos="6014880"/>
                <a:tab algn="l" pos="6472080"/>
                <a:tab algn="l" pos="6929280"/>
                <a:tab algn="l" pos="7386480"/>
                <a:tab algn="l" pos="7843680"/>
                <a:tab algn="l" pos="8300880"/>
                <a:tab algn="l" pos="8758080"/>
                <a:tab algn="l" pos="9215280"/>
                <a:tab algn="l" pos="9672480"/>
                <a:tab algn="l" pos="10129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nk the cli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5680" indent="-528480">
              <a:lnSpc>
                <a:spcPct val="150000"/>
              </a:lnSpc>
              <a:spcBef>
                <a:spcPts val="601"/>
              </a:spcBef>
              <a:buClr>
                <a:srgbClr val="10cf9b"/>
              </a:buClr>
              <a:buFont typeface="Wingdings" charset="2"/>
              <a:buChar char=""/>
              <a:tabLst>
                <a:tab algn="l" pos="985680"/>
                <a:tab algn="l" pos="1442880"/>
                <a:tab algn="l" pos="1900080"/>
                <a:tab algn="l" pos="2357280"/>
                <a:tab algn="l" pos="2814480"/>
                <a:tab algn="l" pos="3271680"/>
                <a:tab algn="l" pos="3728880"/>
                <a:tab algn="l" pos="4186080"/>
                <a:tab algn="l" pos="4643280"/>
                <a:tab algn="l" pos="5100480"/>
                <a:tab algn="l" pos="5557680"/>
                <a:tab algn="l" pos="6014880"/>
                <a:tab algn="l" pos="6472080"/>
                <a:tab algn="l" pos="6929280"/>
                <a:tab algn="l" pos="7386480"/>
                <a:tab algn="l" pos="7843680"/>
                <a:tab algn="l" pos="8300880"/>
                <a:tab algn="l" pos="8758080"/>
                <a:tab algn="l" pos="9215280"/>
                <a:tab algn="l" pos="9672480"/>
                <a:tab algn="l" pos="10129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lain the next steps. Plans can be made for the fu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10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1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9dd9"/>
                </a:solidFill>
                <a:uFillTx/>
                <a:latin typeface="Times New Roman"/>
                <a:ea typeface="Times New Roman"/>
              </a:rPr>
              <a:t>B. Review of record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"/>
          <p:cNvSpPr/>
          <p:nvPr/>
        </p:nvSpPr>
        <p:spPr>
          <a:xfrm>
            <a:off x="488880" y="170964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0440" indent="-457200">
              <a:lnSpc>
                <a:spcPct val="150000"/>
              </a:lnSpc>
              <a:spcBef>
                <a:spcPts val="799"/>
              </a:spcBef>
              <a:buClr>
                <a:srgbClr val="10cf9b"/>
              </a:buClr>
              <a:buSzPct val="120000"/>
              <a:buFont typeface="Wingdings" charset="2"/>
              <a:buChar char="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an objective data collected through review of documentations related to the client health status. Such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0440" indent="-457200">
              <a:lnSpc>
                <a:spcPct val="150000"/>
              </a:lnSpc>
              <a:spcBef>
                <a:spcPts val="799"/>
              </a:spcBef>
              <a:buClr>
                <a:srgbClr val="10cf9b"/>
              </a:buClr>
              <a:buSzPct val="120000"/>
              <a:buFont typeface="Wingdings" charset="2"/>
              <a:buChar char="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cal diagno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0440" indent="-457200">
              <a:lnSpc>
                <a:spcPct val="150000"/>
              </a:lnSpc>
              <a:spcBef>
                <a:spcPts val="799"/>
              </a:spcBef>
              <a:buClr>
                <a:srgbClr val="10cf9b"/>
              </a:buClr>
              <a:buSzPct val="120000"/>
              <a:buFont typeface="Wingdings" charset="2"/>
              <a:buChar char="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rsing no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0440" indent="-457200">
              <a:lnSpc>
                <a:spcPct val="150000"/>
              </a:lnSpc>
              <a:spcBef>
                <a:spcPts val="799"/>
              </a:spcBef>
              <a:buClr>
                <a:srgbClr val="10cf9b"/>
              </a:buClr>
              <a:buSzPct val="120000"/>
              <a:buFont typeface="Wingdings" charset="2"/>
              <a:buChar char="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oratory and diagnostic studies perform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0440" indent="-457200">
              <a:lnSpc>
                <a:spcPct val="150000"/>
              </a:lnSpc>
              <a:spcBef>
                <a:spcPts val="799"/>
              </a:spcBef>
              <a:buClr>
                <a:srgbClr val="10cf9b"/>
              </a:buClr>
              <a:buSzPct val="120000"/>
              <a:buFont typeface="Wingdings" charset="2"/>
              <a:buChar char="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ral no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1"/>
          <p:cNvSpPr/>
          <p:nvPr/>
        </p:nvSpPr>
        <p:spPr>
          <a:xfrm>
            <a:off x="457200" y="291960"/>
            <a:ext cx="822960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dd9"/>
                </a:solidFill>
                <a:latin typeface="Tahoma"/>
                <a:ea typeface="Arial"/>
              </a:rPr>
              <a:t>Data documenta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457200" y="1557360"/>
            <a:ext cx="8229600" cy="44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50000"/>
              </a:lnSpc>
              <a:spcBef>
                <a:spcPts val="799"/>
              </a:spcBef>
              <a:buClr>
                <a:srgbClr val="10cf9b"/>
              </a:buClr>
              <a:buSzPct val="120000"/>
              <a:buFont typeface="Wingdings" charset="2"/>
              <a:buChar char="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umentation is a major part of a complete health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799"/>
              </a:spcBef>
              <a:buClr>
                <a:srgbClr val="10cf9b"/>
              </a:buClr>
              <a:buSzPct val="120000"/>
              <a:buFont typeface="Wingdings" charset="2"/>
              <a:buChar char="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should be recorded in a factual manner and not interpreted by the nurse. To increase accuracy the nurse should record subjective data in the client own w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C17C4-8C56-4845-AD30-E68323EAE619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-304920" y="19666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9dd9"/>
                </a:solidFill>
                <a:latin typeface="Times New Roman"/>
                <a:ea typeface="Times New Roman"/>
              </a:rPr>
              <a:t>Question?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F84B0-EFA8-482B-919A-F068C50432A5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4617b"/>
                </a:solidFill>
                <a:latin typeface="Calibri"/>
              </a:rPr>
              <a:t>Learning Objectiv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the end of this module the learner should be able to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f6fc6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erstand the structure and purpose of health history in order to collect relevant information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f6fc6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gnize the importance of applying the three phases of interview to collect a comprehensive history from clien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f6fc6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 a complete health history using standard forma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f6fc6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 data collected in terms of chief symptoms and complai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1"/>
          <p:cNvSpPr/>
          <p:nvPr/>
        </p:nvSpPr>
        <p:spPr>
          <a:xfrm>
            <a:off x="560520" y="291960"/>
            <a:ext cx="8229600" cy="18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f6fc6"/>
                </a:solidFill>
                <a:uFillTx/>
                <a:latin typeface="Arial"/>
                <a:ea typeface="Arial"/>
              </a:rPr>
              <a:t>Definition of Health assessment</a:t>
            </a:r>
            <a:r>
              <a:rPr b="0" lang="en-US" sz="2800" spc="-1" strike="noStrike">
                <a:solidFill>
                  <a:srgbClr val="0f6fc6"/>
                </a:solidFill>
                <a:latin typeface="Arial"/>
                <a:ea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f6fc6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ealth assessment is the first step of the nursing process. It involves collecting two types of da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457200" y="2133720"/>
            <a:ext cx="843588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28840">
              <a:lnSpc>
                <a:spcPct val="101000"/>
              </a:lnSpc>
              <a:spcBef>
                <a:spcPts val="499"/>
              </a:spcBef>
              <a:tabLst>
                <a:tab algn="l" pos="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7752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  <a:ea typeface="Arial"/>
              </a:rPr>
              <a:t>1- </a:t>
            </a:r>
            <a:r>
              <a:rPr b="1" i="1" lang="en-US" sz="2800" spc="-1" strike="noStrike">
                <a:solidFill>
                  <a:srgbClr val="0f6fc6"/>
                </a:solidFill>
                <a:latin typeface="Arial"/>
                <a:ea typeface="Arial"/>
              </a:rPr>
              <a:t>Objective d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28840">
              <a:lnSpc>
                <a:spcPct val="101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Wingdings" charset="2"/>
              <a:buChar char=""/>
              <a:tabLst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7752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tained through interviewing pati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28840">
              <a:lnSpc>
                <a:spcPct val="101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Wingdings" charset="2"/>
              <a:buChar char=""/>
              <a:tabLst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7752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red to as symptom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28840">
              <a:lnSpc>
                <a:spcPct val="101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Wingdings" charset="2"/>
              <a:buChar char=""/>
              <a:tabLst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7752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eling perception &amp; concerns that cannot be observed b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28840">
              <a:lnSpc>
                <a:spcPct val="101000"/>
              </a:lnSpc>
              <a:spcBef>
                <a:spcPts val="499"/>
              </a:spcBef>
              <a:tabLst>
                <a:tab algn="l" pos="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7752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f6fc6"/>
                </a:solidFill>
                <a:latin typeface="Arial"/>
                <a:ea typeface="Arial"/>
              </a:rPr>
              <a:t>2- Subjective d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28840">
              <a:lnSpc>
                <a:spcPct val="101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Wingdings" charset="2"/>
              <a:buChar char=""/>
              <a:tabLst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7752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tained through observation, standard assessment technique, laboratory &amp; diagnostic t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28840">
              <a:lnSpc>
                <a:spcPct val="101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Wingdings" charset="2"/>
              <a:buChar char=""/>
              <a:tabLst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7752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red to as signs as it can be seen, heard, or felt, by someone other than the patient or client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1"/>
          <p:cNvSpPr/>
          <p:nvPr/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f6fc6"/>
                </a:solidFill>
                <a:uFillTx/>
                <a:latin typeface="Tahoma"/>
                <a:ea typeface="Arial"/>
              </a:rPr>
              <a:t>Purposes of health assessmen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ing the clients health status (current) and risk factors for particular health problem (potentia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ing undetected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eening for a specific disease such as diabe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ing risks for particular health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ing functional impact of disease (i.e. response to actual or potential  health probl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the effectiveness of health care pl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1"/>
          <p:cNvSpPr/>
          <p:nvPr/>
        </p:nvSpPr>
        <p:spPr>
          <a:xfrm>
            <a:off x="457200" y="76500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Three health assessment components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423720" y="2104920"/>
            <a:ext cx="82296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5960" indent="-3427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120000"/>
              <a:buFont typeface="Wingdings" charset="2"/>
              <a:buChar char="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 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als with obtaining a comprehensive health history and utilizing effective interviewing techniq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272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27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120000"/>
              <a:buFont typeface="Wingdings" charset="2"/>
              <a:buChar char="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 tw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cuses on acquiring appropriate skills to perform physical exami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272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27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120000"/>
              <a:buFont typeface="Wingdings" charset="2"/>
              <a:buChar char="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 thr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valuates the client nutritional stat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"/>
          <p:cNvSpPr/>
          <p:nvPr/>
        </p:nvSpPr>
        <p:spPr>
          <a:xfrm>
            <a:off x="476280" y="476280"/>
            <a:ext cx="82296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f6fc6"/>
                </a:solidFill>
                <a:uFillTx/>
                <a:latin typeface="Tahoma"/>
                <a:ea typeface="Arial"/>
              </a:rPr>
              <a:t>Health History: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"/>
          <p:cNvSpPr/>
          <p:nvPr/>
        </p:nvSpPr>
        <p:spPr>
          <a:xfrm>
            <a:off x="476280" y="1251000"/>
            <a:ext cx="8507520" cy="53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collection of data about an individual's health state by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viewing the clie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 of record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urpose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Wingdings" charset="2"/>
              <a:buChar char="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ollect different type of information, to form the client’s data base, whi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   Helps the nurse discover significant health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   Used to make judgment or diagnosis about the clients past and current health stat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  Used in developing the nursing care pla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1"/>
          <p:cNvSpPr/>
          <p:nvPr/>
        </p:nvSpPr>
        <p:spPr>
          <a:xfrm>
            <a:off x="395280" y="5205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Difference between Nursing health history and Medical health history</a:t>
            </a:r>
            <a:r>
              <a:rPr b="0" lang="en-US" sz="32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395280" y="220500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10cf9b"/>
              </a:buClr>
              <a:buSzPct val="120000"/>
              <a:buFont typeface="Wingdings" charset="2"/>
              <a:buChar char="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10058400"/>
              </a:tabLst>
            </a:pP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edical  health history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ntrates o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ptom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dis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10cf9b"/>
              </a:buClr>
              <a:buSzPct val="120000"/>
              <a:buFont typeface="Wingdings" charset="2"/>
              <a:buChar char="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10cf9b"/>
              </a:buClr>
              <a:buSzPct val="120000"/>
              <a:buFont typeface="Wingdings" charset="2"/>
              <a:buChar char="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10058400"/>
              </a:tabLst>
            </a:pP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Nursing health history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es on the client’s functional health patterns, responses to changes in Health status &amp; alteration in life sty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1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9"/>
                </a:solidFill>
                <a:latin typeface="Times New Roman"/>
                <a:ea typeface="Times New Roman"/>
              </a:rPr>
              <a:t>The element of health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"/>
          <p:cNvSpPr/>
          <p:nvPr/>
        </p:nvSpPr>
        <p:spPr>
          <a:xfrm>
            <a:off x="250920" y="1773360"/>
            <a:ext cx="87138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10cf9b"/>
              </a:buClr>
              <a:buSzPct val="120000"/>
              <a:buFont typeface="Wingdings" charset="2"/>
              <a:buChar char="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graphic informatio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ge, sex, educational level, marital status, occupation, living arrang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10cf9b"/>
              </a:buClr>
              <a:buSzPct val="120000"/>
              <a:buFont typeface="Wingdings" charset="2"/>
              <a:buChar char="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ef complain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client reasons for seeking health care (usually in the clients own wor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10cf9b"/>
              </a:buClr>
              <a:buSzPct val="120000"/>
              <a:buFont typeface="Wingdings" charset="2"/>
              <a:buChar char="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 health status or illnes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record of the current issue from the starting of the onset until 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10cf9b"/>
              </a:buClr>
              <a:buSzPct val="120000"/>
              <a:buFont typeface="Wingdings" charset="2"/>
              <a:buChar char="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2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2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momani</cp:lastModifiedBy>
  <dcterms:modified xsi:type="dcterms:W3CDTF">2015-08-30T04:58:30Z</dcterms:modified>
  <cp:revision>145</cp:revision>
  <dc:subject/>
  <dc:title>الشريحة 1</dc:title>
</cp:coreProperties>
</file>