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7175-3038-41A8-83AA-A6CF76B9C556}" type="slidenum"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27BA50-D6A6-4B9A-BE12-F44512E3AC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9D60EB-A3B3-4698-9863-A40A62C1DD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E5DFD1-61FA-4400-B93F-FCFAE93BE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CD235B-C650-43BE-B8F3-55D964167A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563EB9-7E6E-4E06-9617-BEEA94047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DC7208-CB29-4B20-A5EF-33B2821C64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F17ECB-CBB8-42CD-9084-4ECA7AC938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AEF8DB-6511-4479-AFF2-233877CE5B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25A9F4-9036-48A5-A4BF-5436560E71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AD02FE-4AF3-40C6-94C0-E9A7F02C84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FBFB78-CCC8-4AF3-98AF-77BEE21D6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34C981-5FF6-41FC-BBA5-CC1D5E45BA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F22656-7842-4592-8BA9-981E59034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2FE5A0-8124-4ECA-8CC8-E1F61004EF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7CDDA2-6B04-4957-89AE-3373375E6D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2C3D1D-0764-46A5-AE01-F704899066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8E1714-F3EF-4869-BAE4-BA1AB7212B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689ED6-AE5E-4369-A681-6CEEE6C36F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54942A-79C5-44E5-B073-92D25A8883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11F74F-01D2-41E9-AD1E-CA07390DB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F38954-F3F1-49A9-A526-D963A21C5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DB5-ACF7-4323-9095-01A6E049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A13-DA00-4B83-B9F2-DDAD3F2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A2B-007C-4108-B9D8-555A3C46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A2D-4DC3-481E-919C-92649F32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8E1D-0AB5-4C8B-9F4D-79A1AE94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4AFA-1130-45CB-93EC-D2ADD93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61AC-51DD-4640-9B79-2B5E4715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7467-4ADE-4574-85BB-8273EB0D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E71D-A973-48C2-8B8E-CFEE2394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1017-0743-4FF9-9186-18CB4607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383C-318E-4B70-863C-08D24EC2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96E-73E3-42B2-9218-312EE6A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A17F-36A7-4E9B-A629-34370D33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9ED2-F6E9-4A65-9AE9-BC2BDE9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8E59-ACDF-4A59-9996-FB418E3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9BE3-FA45-4CBC-850A-3FBC6EE8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8983-862D-4B6F-8279-FAA22674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F353-D9F0-4415-B09F-07789145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E31D-38FB-4B2F-933A-A77ECFF6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5605-7CF4-41E0-ACA3-1167C8FD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C29FF-0437-469F-93BA-4CE6F32D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541FC-F47D-4127-B710-252E4586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1EF-F24E-4E14-A8BF-8E3C1DAD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EC0A-8963-458F-A295-CD15FB0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F82A-8E8C-4DBF-9B03-9B758091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D61C-4730-433D-B0E5-48BC011F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D646-77C0-4EB7-B8EC-4E993531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FD87D-9956-4FC1-BE58-FDCF9A5D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69A4-CC11-4BF3-A0E4-D79047C5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F55C-9575-45B4-A806-7FCFEADA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59B5-E0E2-46E8-9600-B7F4D476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A9ED-2502-44DE-B292-072EA664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FF57C-8E14-4D55-A630-B409990A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99E-38DF-4879-8636-38AE4A41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A03F8-CE31-49E7-87C3-083595C1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CB8EA-6BE2-46E9-813E-15C39231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C917-3C33-4901-97EE-1487C08B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A9B50-E4FE-4A6F-9E4B-84B73835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8535F-9669-4620-B454-49F7145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5058-09C7-42BA-8A36-E632103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8AC8-2832-4DFA-9D23-2D202DF7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E4D50-FC57-4183-8DC4-C8E51F1D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8155-7F19-4D5F-BDBA-950BF227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62F-C7B4-417F-86F1-B3AF1108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59B-3C06-42A9-B1FD-BE6FD53D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984-1A5E-4288-AFD7-C6758FF6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4E5-3DCC-411A-8C96-9AE1D26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545-7B3D-483B-8FA7-59D08D3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E116-4591-4B66-A1F2-C7548B4033DE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799A-DA9C-45E8-8D43-3E0728F418A3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545F-D733-471D-83F5-13AD1355BE4C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6546-A5D4-4AF3-A405-2AAD44CC5A0E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DEF1-3B22-44F6-8DA8-EA6D448A2AC4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6097-58A6-4543-8C32-9DE33DE39F66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717F-76B8-4D7A-8F06-9B5A3CE23D80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6699-0279-4B76-9901-E0D7DE25AFB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ssessment (NUR 224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Skin, Hair, and Nai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0D3C-17B1-494B-8DA5-773C7BDEEFF2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907920"/>
            <a:ext cx="8524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3320" y="1483920"/>
            <a:ext cx="83278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5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ination of the skin, hair, and nails begins with the general survey of the pati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ke sure the patient wears a gow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326880">
              <a:lnSpc>
                <a:spcPct val="150000"/>
              </a:lnSpc>
              <a:spcBef>
                <a:spcPts val="12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ape appropriately to facilitate close inspection of hair, anterior and posterior surfaces of body, palms and soles, and webspa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pect entire skin surface in good l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326880">
              <a:lnSpc>
                <a:spcPct val="150000"/>
              </a:lnSpc>
              <a:spcBef>
                <a:spcPts val="12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ferably in natural light (or artificial light that resembles natura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326880">
              <a:lnSpc>
                <a:spcPct val="150000"/>
              </a:lnSpc>
              <a:spcBef>
                <a:spcPts val="1250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tificial light often distorts col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pect and palpate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characteristics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is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bility and turg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9760" y="2022480"/>
            <a:ext cx="861372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5000"/>
              </a:lnSpc>
              <a:spcBef>
                <a:spcPts val="1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33012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s often notice change in color before physici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33012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ok for increased pigmentation, loss of pig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33012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ok for redness, pallor, cyanosis, and yellow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0120" indent="-325800">
              <a:lnSpc>
                <a:spcPct val="95000"/>
              </a:lnSpc>
              <a:spcBef>
                <a:spcPts val="1312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d color of oxyhemoglobin best assessed at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ingertips, lips, and mucous membra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628640" indent="-325800">
              <a:lnSpc>
                <a:spcPct val="95000"/>
              </a:lnSpc>
              <a:spcBef>
                <a:spcPts val="1250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dark-skinned people, palms and sol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140120" indent="-325800">
              <a:lnSpc>
                <a:spcPct val="95000"/>
              </a:lnSpc>
              <a:spcBef>
                <a:spcPts val="1312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or central cyanosis, look in lips, oral mucosa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tong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40120" indent="-325800">
              <a:lnSpc>
                <a:spcPct val="95000"/>
              </a:lnSpc>
              <a:spcBef>
                <a:spcPts val="1312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Jaundice - scler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6080" y="105228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000" y="2963520"/>
            <a:ext cx="74134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5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ness, sweating, and oili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95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ack of fingert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warmth or coolness of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95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ness or smoothn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1"/>
          <a:stretch/>
        </p:blipFill>
        <p:spPr>
          <a:xfrm>
            <a:off x="4788000" y="1436760"/>
            <a:ext cx="3425760" cy="190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6080" y="105228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74134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5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 and turg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t fold of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ease with which it lifts up (mobility) and speed with which it returns to place (turg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4071960" y="1916280"/>
            <a:ext cx="476244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6080" y="169200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63280" y="2403360"/>
            <a:ext cx="748980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3196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characterist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31968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c location and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31968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terns and shap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31968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 of lesion (macules, papules, nevi, vesic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31968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6080" y="190152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8280" y="2707920"/>
            <a:ext cx="84232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kin lesions in contex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spcBef>
                <a:spcPts val="2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ever you see a skin lesion, look it u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 well-illustrated textbook of dermat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spcBef>
                <a:spcPts val="2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arrive at a dermatologic diagnosis, consider the type of lesions, location, and distribution, along with the patient’s history and physic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0000" y="692280"/>
            <a:ext cx="8524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spcBef>
                <a:spcPts val="5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Majalla UI"/>
              </a:rPr>
              <a:t>Examples of skin les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105080" cy="2087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2862000" cy="207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3"/>
          <a:stretch/>
        </p:blipFill>
        <p:spPr>
          <a:xfrm>
            <a:off x="608040" y="4653000"/>
            <a:ext cx="3127320" cy="201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4"/>
          <a:stretch/>
        </p:blipFill>
        <p:spPr>
          <a:xfrm>
            <a:off x="4532400" y="4437000"/>
            <a:ext cx="3887640" cy="22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15720" y="3573360"/>
            <a:ext cx="77374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5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pect and palp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quantity, distribution, and tex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5" descr="http://www.meddean.luc.edu/lumen/MedEd/medicine/pulmonar/phydx/s7a.jpg"/>
          <p:cNvPicPr/>
          <p:nvPr/>
        </p:nvPicPr>
        <p:blipFill>
          <a:blip r:embed="rId1"/>
          <a:stretch/>
        </p:blipFill>
        <p:spPr>
          <a:xfrm>
            <a:off x="5435640" y="1557360"/>
            <a:ext cx="340524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3019320"/>
            <a:ext cx="77374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pect and palpate fingernails/toe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color and sha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le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7760">
              <a:spcBef>
                <a:spcPts val="1349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itudinal bands of pigment may be a normal finding in people with darker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5580000" y="1069920"/>
            <a:ext cx="3024360" cy="276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6080" y="15206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y and Phys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1960" y="2117520"/>
            <a:ext cx="861408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5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jor function of skin is to keep the body in homeosta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boundaries for body flu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s underlying tissues from microorganisms, harmful substances, and radi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ulates body 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s vitamin 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5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viest single organ in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6% of body we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6080" y="161568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ng the Bedbound Pati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2308320"/>
            <a:ext cx="82137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5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confined to bed are particularly susceptible to skin damage and ulcer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ure sores result when sustained compression obliterates arteriolar and capillary blood flow to the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5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 these patients by carefully inspecting the skin that overlies the sacrum, buttocks, greater trochanters, knees, and he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6080" y="161568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ng the Bedbound Pati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2308320"/>
            <a:ext cx="82137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5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ll patient onto one side to see sacrum and buttoc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556000" y="3645000"/>
            <a:ext cx="5688000" cy="269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ording the Physical Exami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ly you may use sentences to describe findings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you will use phr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 good. Skin warm and moist. Nails without clubbing or cyanosis. No suspicious nevi. No rash, petechiae, or ecchymoses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d facial pallor, with circuoral cyanosis. Palms cold and moist. Cyanosis in nail beds of fingers and toes. One raised blue-black nevus, 1x2 cm, with irregular border on right forearm. No rash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430F-B781-40F3-9C23-2D80DFDF4A82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6080" y="17301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y and Physiology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1440" y="2479320"/>
            <a:ext cx="737532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e lay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piderm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rm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cutaneous tiss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ir, nails, and sebaceous and sweat glands are appendages of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520" y="11966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y and Physiology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06440" y="1581120"/>
            <a:ext cx="834696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ai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90520">
              <a:spcBef>
                <a:spcPts val="1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ellus hair – short, fine, less pig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90520">
              <a:spcBef>
                <a:spcPts val="1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rminal hair – coarser, pigmented (scalp/eyebrow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ils - protect distal ends of fingers/to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baceous glands – present all surfaces except palms/soles; produce a fatty substance secreted onto skin surface through hair follicl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weat gland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90520">
              <a:spcBef>
                <a:spcPts val="1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crine glands – widely distributed, open directly onto skin surface, help control body 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90520">
              <a:spcBef>
                <a:spcPts val="1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ocrine glands – found in axilla and groin, stimulated by emotional str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7000" y="14252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Health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9200" y="1946160"/>
            <a:ext cx="8499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463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on or concerning symp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ir lo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s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463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k the pati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you noticed any changes in your skin or your hair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you noticed any moles that have changed size, shape, color, or sensation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you noticed any new moles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74760" y="1125360"/>
            <a:ext cx="8524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Health Promotion and Counsel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74760" y="1844280"/>
            <a:ext cx="8461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ians play an important role in educating pat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337320">
              <a:lnSpc>
                <a:spcPct val="15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detection of suspicious mo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337320">
              <a:lnSpc>
                <a:spcPct val="15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ve measures for skin 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337320">
              <a:lnSpc>
                <a:spcPct val="15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zards of excessive sun expo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cancers are most common cancers in some countr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337320">
              <a:lnSpc>
                <a:spcPct val="15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evalent on hands, neck, and h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6080" y="17301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RMM Risk Factors for Melano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25360" y="2574720"/>
            <a:ext cx="51656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story of previous melano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ge over 5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ular dermatologist abs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e chang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le ge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6080" y="14252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ditional Risk Factors for Melano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1480" y="2022480"/>
            <a:ext cx="80805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0 common mo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or light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vy sun exposure (especially severe childhood sunbur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ght eye or skin color (especially freckles/burns easil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mily history of melano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1317240"/>
            <a:ext cx="852480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BCDE: Screening Moles for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ssible Melano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asymme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irregular borders, especially ragged, notched,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blur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variation or change in color, especially blue o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diameter ≥6 mm or different from othe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es, especially changing, itching, or blee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elevation or enlar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harbi</cp:lastModifiedBy>
  <cp:lastPrinted>2015-09-06T05:19:09Z</cp:lastPrinted>
  <dcterms:modified xsi:type="dcterms:W3CDTF">2015-09-06T05:23:05Z</dcterms:modified>
  <cp:revision>162</cp:revision>
  <dc:subject/>
  <dc:title>الشريحة 1</dc:title>
</cp:coreProperties>
</file>