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108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A97F-E23C-4C2F-A6B4-B0E126398068}" type="slidenum">
              <a:rPr b="0" lang="ar-S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FFA51E-4D9F-45BE-8F1A-1A5B8EC80E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48CE1D-FEFF-4030-9E1C-6DFB9A999C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CC5692-D018-4C6C-B491-09F73BC68B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B8956A-EA44-49F8-8233-3216627B3B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C89238-1257-4AB5-BCF0-833DD5B708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4BAC86-4BB0-4AF2-9054-80CFF16DC3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28FA63-90E1-4BD4-85AA-130E7BB941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DB27B6-87A2-4D4B-A1A4-F396FC95CA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3C49CB-69AD-47E9-A19D-94C925FA00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55B561-8F30-4D3B-8A2C-2FE21531DC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596DE6-2C43-4607-B41C-BC2F0648CA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017C48-BF9D-41B4-8856-7590B37D4A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D13E84-212D-4427-89B5-581BE08209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E244A5-37B1-4B5A-A5D1-E581F34363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F8706E-1D8B-4B4E-B9D9-DF14707B74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1FB87A-330A-4CD9-A26C-1CEE13413E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9DCE1D-F16E-4B80-A22F-D7B877787B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56ECB0-5F92-4FA7-B8CA-FC791927DF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C4428C-333B-405B-8EBA-DB12237D4F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527852-0EF6-4A25-AFE5-2CCFB697E1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B11D1B-056E-429F-A972-E49D9920B1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344-A474-4F63-9EC6-82106681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4AC-877C-4289-AD1C-AB16F4ED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1B6-68F3-48C2-852A-39327AEA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777-1545-4743-A6BF-24681F3C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CA99-648B-4EC6-A740-7E62F620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3A87-B02F-496E-8147-5DDA08FA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6787-61B6-4348-857C-097F84CD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DEFB-F84C-4EB9-9DBE-7EDF9294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BDBA-562D-41F6-992E-8C4EF929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372E-3608-4315-89BD-B99E457C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22B2-F56B-4E07-A91F-9E831A57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A9AE-E37C-46EE-AE32-772A514B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D894-5308-4FB5-872C-24B705EB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BDBE-FCB6-4DC8-9509-64772C9A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07A2-48A5-4B11-8BD7-81E3D343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F3C9-B351-4AD2-9190-21CE7A2E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31EC-F615-44FB-8C8E-9520349B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4DDFD-68DB-4923-9F87-1CBE65BC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5D70F-4BBD-4E39-B4DE-A63EA36E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D43F3-A86F-46A5-A285-4C752DC3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DE528-C071-4B25-AE1A-CA056DED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04E99-72C0-4172-94CA-284A31D1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D98-DE27-4A89-BA07-9112A535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2B50C-6727-464F-BDE5-44C85613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4DE30-6503-4A16-9566-8D67064E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BF839-886D-42A1-A30C-D37F4BB3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BB8E1-FE36-4167-8D60-9F929CA1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703DB-9878-4EB9-9832-719669B3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36337-3EE3-4193-89F4-559C541B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A0E83-3D3C-40C5-9333-B99D58E7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21C85-79B9-4A6A-99F4-049314B9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63999-C15C-4741-8912-3ABEB3F4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501D4-7DD2-4B55-A28F-F354A8E8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1E32-BA85-4FB8-ACA6-617E360F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E5E3B-993C-4576-BFF4-9AB97BF8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06924-F687-4525-9B30-F7F0B032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B52C6-0161-4CFF-AB88-DACC03E6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EDCAC-5E11-4E68-98BD-CCD8D160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C5D8E-0B33-4DCA-8C1C-092EB18A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EE1C9-00BC-4C74-9E2C-660C4BA7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54683-F005-4583-BEC1-5F1EEB93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BA0D8-CBBD-4365-B8F3-03F512C4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C171A-D470-463E-B473-392EEAEA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95B-8C0A-476B-8C2F-F0E85338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19C-AFFF-48A0-AC99-2A839BBA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25A-BCF4-4ACB-9946-18C585A4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60B-427E-4A40-A79C-56008873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F3B5-7FBF-4A80-BBEA-F6A4C3A6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6FBB-5CBB-494C-9617-7D7C90B51696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6FD9-2B2A-4574-83C9-49159E2D6C4A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3162-9B7A-4A66-9B1F-F097CBE43F4C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AE46-038E-4829-8277-4A944340A236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AD44-BFFC-43F3-9888-35F60777F51E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EBB6-D67F-4741-B8E0-025DCEE18872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1495-8DE8-4EED-B35B-23C24A9BF874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8524-72B0-4B53-949F-4FDFE5B6D67A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333000"/>
            <a:ext cx="82296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Saud University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Nurs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Assessment (NUR 224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Skin, Hair, and Nail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عنصر نائب لرقم الشريحة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599E-A573-4AE8-A59F-E33714B33E85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5040" y="907920"/>
            <a:ext cx="8524800" cy="38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chniques of Examin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3320" y="1483920"/>
            <a:ext cx="832788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5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ination of the skin, hair, and nails begins with the general survey of the pati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ke sure the patient wears a gow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326880">
              <a:lnSpc>
                <a:spcPct val="150000"/>
              </a:lnSpc>
              <a:spcBef>
                <a:spcPts val="12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rape appropriately to facilitate close inspection of hair, anterior and posterior surfaces of body, palms and soles, and webspa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pect entire skin surface in good l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326880">
              <a:lnSpc>
                <a:spcPct val="150000"/>
              </a:lnSpc>
              <a:spcBef>
                <a:spcPts val="12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ferably in natural light (or artificial light that resembles natural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326880">
              <a:lnSpc>
                <a:spcPct val="150000"/>
              </a:lnSpc>
              <a:spcBef>
                <a:spcPts val="1250"/>
              </a:spcBef>
              <a:buClr>
                <a:srgbClr val="009dd9"/>
              </a:buClr>
              <a:buSzPct val="70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tificial light often distorts colo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6080" y="150156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chniques of Examination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20072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spect and palpate sk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e characteristics of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is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x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bility and turg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6080" y="150156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chniques of Examination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9760" y="2022480"/>
            <a:ext cx="861372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5000"/>
              </a:lnSpc>
              <a:spcBef>
                <a:spcPts val="1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330120">
              <a:lnSpc>
                <a:spcPct val="95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tients often notice change in color before physici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330120">
              <a:lnSpc>
                <a:spcPct val="95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ok for increased pigmentation, loss of pigm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330120">
              <a:lnSpc>
                <a:spcPct val="95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ok for redness, pallor, cyanosis, and yellow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0120" indent="-325800">
              <a:lnSpc>
                <a:spcPct val="95000"/>
              </a:lnSpc>
              <a:spcBef>
                <a:spcPts val="1312"/>
              </a:spcBef>
              <a:buClr>
                <a:srgbClr val="009dd9"/>
              </a:buClr>
              <a:buSzPct val="70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Red color of oxyhemoglobin best assessed at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fingertips, lips, and mucous membran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628640" indent="-325800">
              <a:lnSpc>
                <a:spcPct val="95000"/>
              </a:lnSpc>
              <a:spcBef>
                <a:spcPts val="1250"/>
              </a:spcBef>
              <a:buClr>
                <a:srgbClr val="0bd0d9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dark-skinned people, palms and sol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140120" indent="-325800">
              <a:lnSpc>
                <a:spcPct val="95000"/>
              </a:lnSpc>
              <a:spcBef>
                <a:spcPts val="1312"/>
              </a:spcBef>
              <a:buClr>
                <a:srgbClr val="009dd9"/>
              </a:buClr>
              <a:buSzPct val="70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For central cyanosis, look in lips, oral mucosa,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d tongu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40120" indent="-325800">
              <a:lnSpc>
                <a:spcPct val="95000"/>
              </a:lnSpc>
              <a:spcBef>
                <a:spcPts val="1312"/>
              </a:spcBef>
              <a:buClr>
                <a:srgbClr val="009dd9"/>
              </a:buClr>
              <a:buSzPct val="70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Jaundice - scler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6080" y="105228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Techniques of Examination (cont.)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000" y="2963520"/>
            <a:ext cx="74134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5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is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99960">
              <a:lnSpc>
                <a:spcPct val="95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yness, sweating, and oili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95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99960">
              <a:lnSpc>
                <a:spcPct val="95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back of fingerti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99960">
              <a:lnSpc>
                <a:spcPct val="95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warmth or coolness of sk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600" indent="-228600">
              <a:lnSpc>
                <a:spcPct val="95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99960">
              <a:lnSpc>
                <a:spcPct val="95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ghness or smoothnes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1" descr=""/>
          <p:cNvPicPr/>
          <p:nvPr/>
        </p:nvPicPr>
        <p:blipFill>
          <a:blip r:embed="rId1"/>
          <a:stretch/>
        </p:blipFill>
        <p:spPr>
          <a:xfrm>
            <a:off x="4788000" y="1436760"/>
            <a:ext cx="3425760" cy="190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6080" y="105228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Techniques of Examination (cont.)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3068280"/>
            <a:ext cx="74134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5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ity and turg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99960">
              <a:lnSpc>
                <a:spcPct val="95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t fold of sk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99960">
              <a:lnSpc>
                <a:spcPct val="100000"/>
              </a:lnSpc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ease with which it lifts up (mobility) and speed with which it returns to place (turgo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4071960" y="1916280"/>
            <a:ext cx="4762440" cy="172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16080" y="169200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chniques of Examination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63280" y="2403360"/>
            <a:ext cx="7489800" cy="36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83280" indent="-31968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e characterist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319680">
              <a:lnSpc>
                <a:spcPct val="15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ic location and distrib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319680">
              <a:lnSpc>
                <a:spcPct val="15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tterns and shap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319680">
              <a:lnSpc>
                <a:spcPct val="15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ype of lesion (macules, papules, nevi, vesicl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319680">
              <a:lnSpc>
                <a:spcPct val="15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16080" y="190152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chniques of Examination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68280" y="2707920"/>
            <a:ext cx="84232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7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kin lesions in contex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47760">
              <a:spcBef>
                <a:spcPts val="27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ever you see a skin lesion, look it up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a well-illustrated textbook of dermatolo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47760">
              <a:spcBef>
                <a:spcPts val="27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arrive at a dermatologic diagnosis, consider the type of lesions, location, and distribution, along with the patient’s history and physic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0000" y="692280"/>
            <a:ext cx="85248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spcBef>
                <a:spcPts val="5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Majalla UI"/>
              </a:rPr>
              <a:t>Examples of skin les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4105080" cy="2087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2"/>
          <a:stretch/>
        </p:blipFill>
        <p:spPr>
          <a:xfrm>
            <a:off x="5508720" y="1773360"/>
            <a:ext cx="2862000" cy="2074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"/>
          <p:cNvPicPr/>
          <p:nvPr/>
        </p:nvPicPr>
        <p:blipFill>
          <a:blip r:embed="rId3"/>
          <a:stretch/>
        </p:blipFill>
        <p:spPr>
          <a:xfrm>
            <a:off x="608040" y="4653000"/>
            <a:ext cx="3127320" cy="201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"/>
          <p:cNvPicPr/>
          <p:nvPr/>
        </p:nvPicPr>
        <p:blipFill>
          <a:blip r:embed="rId4"/>
          <a:stretch/>
        </p:blipFill>
        <p:spPr>
          <a:xfrm>
            <a:off x="4532400" y="4437000"/>
            <a:ext cx="3887640" cy="223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16080" y="150156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chniques of Examination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15720" y="3573360"/>
            <a:ext cx="77374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5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47760">
              <a:lnSpc>
                <a:spcPct val="95000"/>
              </a:lnSpc>
              <a:spcBef>
                <a:spcPts val="1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spect and palp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47760">
              <a:lnSpc>
                <a:spcPct val="95000"/>
              </a:lnSpc>
              <a:spcBef>
                <a:spcPts val="1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e quantity, distribution, and tex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5" descr="http://www.meddean.luc.edu/lumen/MedEd/medicine/pulmonar/phydx/s7a.jpg"/>
          <p:cNvPicPr/>
          <p:nvPr/>
        </p:nvPicPr>
        <p:blipFill>
          <a:blip r:embed="rId1"/>
          <a:stretch/>
        </p:blipFill>
        <p:spPr>
          <a:xfrm>
            <a:off x="5435640" y="1557360"/>
            <a:ext cx="3405240" cy="251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6080" y="150156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chniques of Examination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3019320"/>
            <a:ext cx="77374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ai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47760">
              <a:lnSpc>
                <a:spcPct val="95000"/>
              </a:lnSpc>
              <a:spcBef>
                <a:spcPts val="1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spect and palpate fingernails/toenai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47760">
              <a:lnSpc>
                <a:spcPct val="95000"/>
              </a:lnSpc>
              <a:spcBef>
                <a:spcPts val="1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e color and sha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47760">
              <a:lnSpc>
                <a:spcPct val="95000"/>
              </a:lnSpc>
              <a:spcBef>
                <a:spcPts val="1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e le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347760">
              <a:spcBef>
                <a:spcPts val="1349"/>
              </a:spcBef>
              <a:buClr>
                <a:srgbClr val="009dd9"/>
              </a:buClr>
              <a:buSzPct val="70000"/>
              <a:buFont typeface="Constanti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ngitudinal bands of pigment may be a normal finding in people with darker sk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5580000" y="1069920"/>
            <a:ext cx="3024360" cy="276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6080" y="152064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atomy and Physi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91960" y="2117520"/>
            <a:ext cx="861408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5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jor function of skin is to keep the body in homeosta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340560">
              <a:lnSpc>
                <a:spcPct val="95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s boundaries for body flui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340560">
              <a:lnSpc>
                <a:spcPct val="95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cts underlying tissues from microorganisms, harmful substances, and radi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340560">
              <a:lnSpc>
                <a:spcPct val="95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ulates body tempera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340560">
              <a:lnSpc>
                <a:spcPct val="95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nthesizes vitamin 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5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aviest single organ in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340560">
              <a:lnSpc>
                <a:spcPct val="95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6% of body we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16080" y="161568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valuating the Bedbound Pati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2308320"/>
            <a:ext cx="821376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5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ople confined to bed are particularly susceptible to skin damage and ulcera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47760">
              <a:lnSpc>
                <a:spcPct val="95000"/>
              </a:lnSpc>
              <a:spcBef>
                <a:spcPts val="11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sure sores result when sustained compression obliterates arteriolar and capillary blood flow to the sk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5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sess these patients by carefully inspecting the skin that overlies the sacrum, buttocks, greater trochanters, knees, and he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16080" y="161568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valuating the Bedbound Pati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2308320"/>
            <a:ext cx="821376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5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oll patient onto one side to see sacrum and buttoc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2556000" y="3645000"/>
            <a:ext cx="5688000" cy="2692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16080" y="150156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cording the Physical Examin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ly you may use sentences to describe findings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 you will use phr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47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 good. Skin warm and moist. Nails without clubbing or cyanosis. No suspicious nevi. No rash, petechiae, or ecchymoses.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347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d facial pallor, with circuoral cyanosis. Palms cold and moist. Cyanosis in nail beds of fingers and toes. One raised blue-black nevus, 1x2 cm, with irregular border on right forearm. No rash.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AB98-6058-4489-8113-BE55D730796B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04920" y="1966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Question?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6080" y="173016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atomy and Physiology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1440" y="2479320"/>
            <a:ext cx="737532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ee lay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piderm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rm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cutaneous tiss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ir, nails, and sebaceous and sweat glands are appendages of sk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7520" y="119664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atomy and Physiology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06440" y="1581120"/>
            <a:ext cx="834696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ai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85800" indent="-290520">
              <a:spcBef>
                <a:spcPts val="11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Vellus hair – short, fine, less pig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85800" indent="-290520">
              <a:spcBef>
                <a:spcPts val="11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rminal hair – coarser, pigmented (scalp/eyebrow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ails - protect distal ends of fingers/to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baceous glands – present all surfaces except palms/soles; produce a fatty substance secreted onto skin surface through hair follicl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weat gland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85800" indent="-290520">
              <a:spcBef>
                <a:spcPts val="11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crine glands – widely distributed, open directly onto skin surface, help control body temperatu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85800" indent="-290520">
              <a:spcBef>
                <a:spcPts val="11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pocrine glands – found in axilla and groin, stimulated by emotional stre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7000" y="142524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Health Histo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9200" y="1946160"/>
            <a:ext cx="8499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1463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on or concerning symp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309240">
              <a:spcBef>
                <a:spcPts val="1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ir lo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309240">
              <a:spcBef>
                <a:spcPts val="1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as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309240">
              <a:spcBef>
                <a:spcPts val="1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1463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k the patie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309240">
              <a:spcBef>
                <a:spcPts val="1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ve you noticed any changes in your skin or your hair?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309240">
              <a:spcBef>
                <a:spcPts val="1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ve you noticed any moles that have changed size, shape, color, or sensation?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309240">
              <a:spcBef>
                <a:spcPts val="1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ve you noticed any new moles?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74760" y="1125360"/>
            <a:ext cx="8524800" cy="38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Health Promotion and Counseling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74760" y="1844280"/>
            <a:ext cx="8461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ians play an important role in educating pati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-337320">
              <a:lnSpc>
                <a:spcPct val="150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detection of suspicious mo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-337320">
              <a:lnSpc>
                <a:spcPct val="150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ve measures for skin ca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-337320">
              <a:lnSpc>
                <a:spcPct val="150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zards of excessive sun expos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cancers are most common cancers in some countr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-337320">
              <a:lnSpc>
                <a:spcPct val="150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revalent on hands, neck, and he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6080" y="173016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ARMM Risk Factors for Melano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025360" y="2574720"/>
            <a:ext cx="516564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7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story of previous melano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7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ge over 5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7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gular dermatologist abs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7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le chang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7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le gen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6080" y="1425240"/>
            <a:ext cx="8524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dditional Risk Factors for Melano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1480" y="2022480"/>
            <a:ext cx="80805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50 common mo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 or light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avy sun exposure (especially severe childhood sunburn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ght eye or skin color (especially freckles/burns easil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mily history of melano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6080" y="1317240"/>
            <a:ext cx="852480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BCDE: Screening Moles for 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ssible Melano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9760" y="2346120"/>
            <a:ext cx="861372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ec4"/>
                </a:solidFill>
                <a:latin typeface="Constanti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asymmet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ec4"/>
                </a:solidFill>
                <a:latin typeface="Constanti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irregular borders, especially ragged, notched,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 blur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ec4"/>
                </a:solidFill>
                <a:latin typeface="Constanti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variation or change in color, especially blue or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ec4"/>
                </a:solidFill>
                <a:latin typeface="Constant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diameter ≥6 mm or different from other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les, especially changing, itching, or bleed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ec4"/>
                </a:solidFill>
                <a:latin typeface="Constanti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elevation or enlarg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harbi</cp:lastModifiedBy>
  <cp:lastPrinted>2015-09-06T05:19:09Z</cp:lastPrinted>
  <dcterms:modified xsi:type="dcterms:W3CDTF">2015-09-06T05:23:05Z</dcterms:modified>
  <cp:revision>162</cp:revision>
  <dc:subject/>
  <dc:title>الشريحة 1</dc:title>
</cp:coreProperties>
</file>