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13.png" ContentType="image/png"/>
  <Override PartName="/ppt/media/image11.jpeg" ContentType="image/jpeg"/>
  <Override PartName="/ppt/media/image9.jpeg" ContentType="image/jpeg"/>
  <Override PartName="/ppt/media/image17.png" ContentType="image/png"/>
  <Override PartName="/ppt/media/image16.png" ContentType="image/png"/>
  <Override PartName="/ppt/media/image15.jpeg" ContentType="image/jpeg"/>
  <Override PartName="/ppt/media/image14.jpeg" ContentType="image/jpeg"/>
  <Override PartName="/ppt/media/image4.jpeg" ContentType="image/jpeg"/>
  <Override PartName="/ppt/media/image2.png" ContentType="image/png"/>
  <Override PartName="/ppt/media/image1.jpeg" ContentType="image/jpeg"/>
  <Override PartName="/ppt/media/image3.png" ContentType="image/png"/>
  <Override PartName="/ppt/media/image6.png" ContentType="image/png"/>
  <Override PartName="/ppt/media/image7.jpeg" ContentType="image/jpeg"/>
  <Override PartName="/ppt/media/image5.png" ContentType="image/png"/>
  <Override PartName="/ppt/media/image8.jpeg" ContentType="image/jpeg"/>
  <Override PartName="/ppt/media/image10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1080" y="0"/>
            <a:ext cx="29466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Constantia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1080" y="9429840"/>
            <a:ext cx="29466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Constantia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305A5-945A-493D-BA8D-FFA9901A295E}" type="slidenum">
              <a:rPr b="0" lang="ar-SA" sz="1200" spc="-1" strike="noStrike">
                <a:solidFill>
                  <a:srgbClr val="000000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1440" y="9429840"/>
            <a:ext cx="29466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BA2BC-DBBE-418D-B7C3-CBCCBB04AAAB}" type="slidenum">
              <a:rPr b="0" lang="ar-SA" sz="1200" spc="-1" strike="noStrike">
                <a:solidFill>
                  <a:srgbClr val="000000"/>
                </a:solidFill>
                <a:latin typeface="Arial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1440" y="9429840"/>
            <a:ext cx="29466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0DCCB-9DEB-4E43-B719-E9031613F0B5}" type="slidenum">
              <a:rPr b="0" lang="ar-SA" sz="1200" spc="-1" strike="noStrike">
                <a:solidFill>
                  <a:srgbClr val="000000"/>
                </a:solidFill>
                <a:latin typeface="Arial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1440" y="9429840"/>
            <a:ext cx="29466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F4560-E259-455E-B127-776CD46BA9B3}" type="slidenum">
              <a:rPr b="0" lang="ar-SA" sz="1200" spc="-1" strike="noStrike">
                <a:solidFill>
                  <a:srgbClr val="000000"/>
                </a:solidFill>
                <a:latin typeface="Arial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1440" y="9429840"/>
            <a:ext cx="29466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4703E-73CB-434D-B4ED-D98EC6516AE6}" type="slidenum">
              <a:rPr b="0" lang="ar-SA" sz="1200" spc="-1" strike="noStrike">
                <a:solidFill>
                  <a:srgbClr val="000000"/>
                </a:solidFill>
                <a:latin typeface="Arial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1440" y="9429840"/>
            <a:ext cx="29466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D387D-3717-4AAA-AA89-7BEA5F1C93F9}" type="slidenum">
              <a:rPr b="0" lang="ar-SA" sz="1200" spc="-1" strike="noStrike">
                <a:solidFill>
                  <a:srgbClr val="000000"/>
                </a:solidFill>
                <a:latin typeface="Arial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1440" y="9429840"/>
            <a:ext cx="29466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36319-E3A7-42A9-BC3C-84FC2FA1E92F}" type="slidenum">
              <a:rPr b="0" lang="ar-SA" sz="1200" spc="-1" strike="noStrike">
                <a:solidFill>
                  <a:srgbClr val="000000"/>
                </a:solidFill>
                <a:latin typeface="Arial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1440" y="9429840"/>
            <a:ext cx="29466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5B673-2A2E-484C-9EE9-CBB47DD9CEC5}" type="slidenum">
              <a:rPr b="0" lang="ar-SA" sz="1200" spc="-1" strike="noStrike">
                <a:solidFill>
                  <a:srgbClr val="000000"/>
                </a:solidFill>
                <a:latin typeface="Arial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1440" y="9429840"/>
            <a:ext cx="29466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ED715-7277-4959-9738-F610474050F3}" type="slidenum">
              <a:rPr b="0" lang="ar-SA" sz="1200" spc="-1" strike="noStrike">
                <a:solidFill>
                  <a:srgbClr val="000000"/>
                </a:solidFill>
                <a:latin typeface="Arial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1440" y="9429840"/>
            <a:ext cx="29466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C9E1C-D60F-49F2-82C9-CD438639CC7B}" type="slidenum">
              <a:rPr b="0" lang="ar-SA" sz="1200" spc="-1" strike="noStrike">
                <a:solidFill>
                  <a:srgbClr val="000000"/>
                </a:solidFill>
                <a:latin typeface="Arial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1440" y="9429840"/>
            <a:ext cx="29466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588A2-DA6C-472E-906C-9847AA3171E1}" type="slidenum">
              <a:rPr b="0" lang="ar-SA" sz="1200" spc="-1" strike="noStrike">
                <a:solidFill>
                  <a:srgbClr val="000000"/>
                </a:solidFill>
                <a:latin typeface="Arial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1440" y="9429840"/>
            <a:ext cx="29466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78533-08CC-4B71-B5A4-870951BA84D2}" type="slidenum">
              <a:rPr b="0" lang="ar-SA" sz="1200" spc="-1" strike="noStrike">
                <a:solidFill>
                  <a:srgbClr val="000000"/>
                </a:solidFill>
                <a:latin typeface="Arial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1440" y="9429840"/>
            <a:ext cx="29466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5A64D-65D8-4577-81EE-0A0362DCDDE5}" type="slidenum">
              <a:rPr b="0" lang="ar-SA" sz="1200" spc="-1" strike="noStrike">
                <a:solidFill>
                  <a:srgbClr val="000000"/>
                </a:solidFill>
                <a:latin typeface="Arial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1440" y="9429840"/>
            <a:ext cx="29466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5C887-3AFF-4DCB-8906-F1114C2E9599}" type="slidenum">
              <a:rPr b="0" lang="ar-SA" sz="1200" spc="-1" strike="noStrike">
                <a:solidFill>
                  <a:srgbClr val="000000"/>
                </a:solidFill>
                <a:latin typeface="Arial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1440" y="9429840"/>
            <a:ext cx="29466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8F9C1-2DEE-4E8C-BACF-3C2CF178127B}" type="slidenum">
              <a:rPr b="0" lang="ar-SA" sz="1200" spc="-1" strike="noStrike">
                <a:solidFill>
                  <a:srgbClr val="000000"/>
                </a:solidFill>
                <a:latin typeface="Arial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1440" y="9429840"/>
            <a:ext cx="29466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E3DF3-D805-403C-A8D8-0596CD240224}" type="slidenum">
              <a:rPr b="0" lang="ar-SA" sz="1200" spc="-1" strike="noStrike">
                <a:solidFill>
                  <a:srgbClr val="000000"/>
                </a:solidFill>
                <a:latin typeface="Arial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1440" y="9429840"/>
            <a:ext cx="29466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0C6A5-E021-400D-8D79-92091617CD59}" type="slidenum">
              <a:rPr b="0" lang="ar-SA" sz="1200" spc="-1" strike="noStrike">
                <a:solidFill>
                  <a:srgbClr val="000000"/>
                </a:solidFill>
                <a:latin typeface="Arial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1440" y="9429840"/>
            <a:ext cx="29466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99CC7-70BA-4E9B-A088-4363A0D830EA}" type="slidenum">
              <a:rPr b="0" lang="ar-SA" sz="1200" spc="-1" strike="noStrike">
                <a:solidFill>
                  <a:srgbClr val="000000"/>
                </a:solidFill>
                <a:latin typeface="Arial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1440" y="9429840"/>
            <a:ext cx="29466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083DD-D746-41BE-AE3E-E3AF3D9B299F}" type="slidenum">
              <a:rPr b="0" lang="ar-SA" sz="1200" spc="-1" strike="noStrike">
                <a:solidFill>
                  <a:srgbClr val="000000"/>
                </a:solidFill>
                <a:latin typeface="Arial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1440" y="9429840"/>
            <a:ext cx="29466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31568-058E-41F2-AE6B-7E95A5B0A482}" type="slidenum">
              <a:rPr b="0" lang="ar-SA" sz="1200" spc="-1" strike="noStrike">
                <a:solidFill>
                  <a:srgbClr val="000000"/>
                </a:solidFill>
                <a:latin typeface="Arial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1440" y="9429840"/>
            <a:ext cx="29466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D1964-CE6E-48E3-8D81-3BA20CA37F8B}" type="slidenum">
              <a:rPr b="0" lang="ar-SA" sz="1200" spc="-1" strike="noStrike">
                <a:solidFill>
                  <a:srgbClr val="000000"/>
                </a:solidFill>
                <a:latin typeface="Arial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1440" y="9429840"/>
            <a:ext cx="29466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94DFB-95D3-42C0-8467-DCACEF11B9B8}" type="slidenum">
              <a:rPr b="0" lang="ar-SA" sz="1200" spc="-1" strike="noStrike">
                <a:solidFill>
                  <a:srgbClr val="000000"/>
                </a:solidFill>
                <a:latin typeface="Arial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1440" y="9429840"/>
            <a:ext cx="29466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B3A37-8A1A-40FF-8FB4-C38B31044CD4}" type="slidenum">
              <a:rPr b="0" lang="ar-SA" sz="1200" spc="-1" strike="noStrike">
                <a:solidFill>
                  <a:srgbClr val="000000"/>
                </a:solidFill>
                <a:latin typeface="Arial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1440" y="9429840"/>
            <a:ext cx="29466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CD4E0-20DF-4255-9BA3-D2BC1FCB1506}" type="slidenum">
              <a:rPr b="0" lang="ar-SA" sz="1200" spc="-1" strike="noStrike">
                <a:solidFill>
                  <a:srgbClr val="000000"/>
                </a:solidFill>
                <a:latin typeface="Arial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1440" y="9429840"/>
            <a:ext cx="29466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6DC2F-3C69-4CE8-A31C-E1B8A9695612}" type="slidenum">
              <a:rPr b="0" lang="ar-SA" sz="1200" spc="-1" strike="noStrike">
                <a:solidFill>
                  <a:srgbClr val="000000"/>
                </a:solidFill>
                <a:latin typeface="Arial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1440" y="9429840"/>
            <a:ext cx="29466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F3C2D-0C81-46A2-BC2F-E916AE9E24C6}" type="slidenum">
              <a:rPr b="0" lang="ar-SA" sz="1200" spc="-1" strike="noStrike">
                <a:solidFill>
                  <a:srgbClr val="000000"/>
                </a:solidFill>
                <a:latin typeface="Arial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1440" y="9429840"/>
            <a:ext cx="29466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6239C-0DD6-44F9-A703-E5DEBF0B7EA4}" type="slidenum">
              <a:rPr b="0" lang="ar-SA" sz="1200" spc="-1" strike="noStrike">
                <a:solidFill>
                  <a:srgbClr val="000000"/>
                </a:solidFill>
                <a:latin typeface="Arial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1440" y="9429840"/>
            <a:ext cx="29466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D5C88-4DBC-45DD-AC07-C09DF3F0080F}" type="slidenum">
              <a:rPr b="0" lang="ar-SA" sz="1200" spc="-1" strike="noStrike">
                <a:solidFill>
                  <a:srgbClr val="000000"/>
                </a:solidFill>
                <a:latin typeface="Arial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1440" y="9429840"/>
            <a:ext cx="29466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BD5F3-A28C-4341-B529-9768102E65CA}" type="slidenum">
              <a:rPr b="0" lang="ar-SA" sz="1200" spc="-1" strike="noStrike">
                <a:solidFill>
                  <a:srgbClr val="000000"/>
                </a:solidFill>
                <a:latin typeface="Arial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EEBF6-BA94-425B-9B2A-07BCCA736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96F12-0E8F-4D1B-A42A-B472C3783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414EA-A8B2-4AFD-A208-7AE69827B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8CBEE-C637-43C7-9EB3-4A78A459A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B03EB-1634-4D4A-83C6-BF51899ED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D0480-E5DF-41FD-A62D-9695E6CD2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01CA4-3309-44B0-A66A-A69A064E1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19B07-F8DE-499A-BA73-7FFFB4C85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C6AAF-4E27-4819-AEB7-1B408189A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81758-A87B-4801-BFA2-BA2BC07C7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0026C-4574-4A92-9DFF-5F0CC6168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6AD5C-F0F1-40C4-9E19-3C3247DF1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B00B8-FA4D-4A52-B2C1-A064BC160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F0293-ED1F-442E-B885-9A648ECF8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D01BA-B08C-4AB4-B742-D20F674E7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A6E39-DC94-435B-8A9A-81EC634C9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A56C0-4C97-49D3-A556-2856F341F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7F8C58-5A28-40DE-B45F-3B3D0AB4C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506E9F-C87D-40B4-B776-846521FFD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B2AF3C-0629-492D-A19C-A82B0729F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C00841-FDDC-40BB-9C0F-96CB68409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4E5441-E2E8-4B34-AFA9-9091E4036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2FC4E-A88D-417E-A671-F3A94F6FE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08559A-5034-461A-89F8-E9F8E278D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A7EDCE-BE59-4486-B0A1-205A1528E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74E9A2-1983-48FC-BB48-8DE6A977A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1F4530-AE64-4C5D-BE44-616262F16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66BD2F-586A-4370-9BCA-AA71A9804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7A7DE1-DF49-402E-959B-C78AE7CC1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D90D0E-EC0E-43C0-A191-5D3878472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83ACAE-5A30-4E82-8B31-D2418FEC5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697F4F-AEF5-4923-9DAD-2D22BC265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28EA87-A93C-4774-9779-055D00C2E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68208-54D7-4B38-BAD9-F6AF0AC67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7399CF-36AF-468D-8BFF-DD8F36D55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BF8EB5-6E2A-4585-80DC-3F9846B84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A4BFC9-2C24-4E0F-93F8-69873FD0E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19145A-00B8-4524-ABAA-DDFD67066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61970E-84D9-43B0-8358-D25A60F1F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4B6656-C7A1-4EC9-98C8-CB53008A0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EC09E6-255C-4DE0-B0CB-13B407461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001019-082D-4DB0-BC74-B14398604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EB1F3C-EA70-4CB8-AA7C-F9DB21787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31156-0571-4641-8D4D-250BF042E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39C34-C2C0-4149-9E87-9CE9CB78B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8209F-EA42-4671-B23C-433205A13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79EED-6AF1-44AA-A9BA-8A4E0B8BD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24DBB-DB9A-4F45-8424-695C074A2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شكل حر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شكل حر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r" rtl="1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 algn="r" rtl="1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 algn="r" rtl="1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 algn="r" rtl="1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 algn="r" rtl="1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 algn="r" rtl="1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D9B9D-1E3D-4407-8906-8DA14BB7F5F0}" type="datetime">
              <a:rPr b="0" lang="ar-SA" sz="1200" spc="-1" strike="noStrike">
                <a:solidFill>
                  <a:srgbClr val="045c75"/>
                </a:solidFill>
                <a:latin typeface="Constantia"/>
              </a:rPr>
              <a:t>١٤٤٨/٠٢/١٦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2E384-8751-42A9-B0D2-2F75711B4B88}" type="slidenum">
              <a:rPr b="0" lang="ar-SA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مجموعة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شكل حر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شكل حر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شكل حر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شكل حر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شكل حر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شكل حر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مجموعة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شكل حر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شكل حر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شكل حر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شكل حر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 algn="r" rtl="1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 algn="r" rtl="1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 algn="r" rtl="1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 algn="r" rtl="1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 algn="r" rtl="1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 algn="r" rtl="1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B5C31-2E00-4288-8C43-056BBB865B51}" type="datetime">
              <a:rPr b="0" lang="ar-SA" sz="1200" spc="-1" strike="noStrike">
                <a:solidFill>
                  <a:srgbClr val="d1eaee"/>
                </a:solidFill>
                <a:latin typeface="Constantia"/>
              </a:rPr>
              <a:t>١٤٤٨/٠٢/١٦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2821D-08F4-4A07-99B9-6D593041954D}" type="slidenum">
              <a:rPr b="0" lang="ar-SA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شكل حر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شكل حر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مجموعة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شكل حر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شكل حر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شكل حر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شكل حر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 algn="r" rtl="1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 algn="r" rtl="1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 algn="r" rtl="1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 algn="r" rtl="1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 algn="r" rtl="1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 algn="r" rtl="1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9E6EA-3A4D-44A6-AC7F-C55FABD80FB5}" type="datetime">
              <a:rPr b="0" lang="ar-SA" sz="1200" spc="-1" strike="noStrike">
                <a:solidFill>
                  <a:srgbClr val="d1eaee"/>
                </a:solidFill>
                <a:latin typeface="Constantia"/>
              </a:rPr>
              <a:t>١٤٤٨/٠٢/١٦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FE6DB-C80A-4ADB-954C-E07DF933CAF9}" type="slidenum">
              <a:rPr b="0" lang="ar-SA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مستطيل ذو زاوية واحدة مخدوشة ودائرية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مثلث قائم الزاوية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شكل حر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شكل حر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r" rtl="1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 algn="r" rtl="1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 algn="r" rtl="1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 algn="r" rtl="1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 algn="r" rtl="1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 algn="r" rtl="1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122D0-C0E6-49A8-82BB-F5E44DF11E0B}" type="datetime">
              <a:rPr b="0" lang="ar-SA" sz="1200" spc="-1" strike="noStrike">
                <a:solidFill>
                  <a:srgbClr val="045c75"/>
                </a:solidFill>
                <a:latin typeface="Constantia"/>
              </a:rPr>
              <a:t>١٤٤٨/٠٢/١٦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9E0A7-6F56-4DE3-A856-1F7538415FF5}" type="slidenum">
              <a:rPr b="0" lang="ar-SA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457200" y="333000"/>
            <a:ext cx="8229600" cy="57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ing Saud University</a:t>
            </a:r>
            <a:br>
              <a:rPr sz="2400"/>
            </a:b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llege of Nursing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ult Nursing (NUR 316)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uid and Electrolyte Imbalanc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id and Base Imbalance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3" name="عنصر نائب لرقم الشريحة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BBFE0-F979-4580-B91C-A0535752774C}" type="slidenum">
              <a:rPr b="0" lang="ar-SA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82760" y="333000"/>
            <a:ext cx="822960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Fluid Volume Disturbance</a:t>
            </a:r>
            <a:r>
              <a:rPr b="1" i="1" lang="en-US" sz="3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: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000000"/>
                </a:solidFill>
                <a:latin typeface="Constantia"/>
              </a:rPr>
              <a:t>II- Hypervolemia (fluid volume excess):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1" i="1" lang="en-US" sz="2100" spc="-1" strike="noStrike">
                <a:solidFill>
                  <a:srgbClr val="000000"/>
                </a:solidFill>
                <a:latin typeface="Constantia"/>
              </a:rPr>
              <a:t>− </a:t>
            </a:r>
            <a:r>
              <a:rPr b="1" i="1" lang="en-US" sz="2100" spc="-1" strike="noStrike">
                <a:solidFill>
                  <a:srgbClr val="000000"/>
                </a:solidFill>
                <a:latin typeface="Constantia"/>
              </a:rPr>
              <a:t>Contributing Factors: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* Compromised regulatory mechanism such as renal failure, congestive heart failure, and cirrhosis.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        </a:t>
            </a: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* Administration of Na+ containing fluids.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        </a:t>
            </a:r>
            <a:r>
              <a:rPr b="1" lang="en-US" sz="2100" spc="-1" strike="noStrike">
                <a:solidFill>
                  <a:srgbClr val="000000"/>
                </a:solidFill>
                <a:latin typeface="Constantia"/>
              </a:rPr>
              <a:t>* </a:t>
            </a: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Prolong corticosteroid therapy.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        </a:t>
            </a:r>
            <a:r>
              <a:rPr b="1" lang="en-US" sz="2100" spc="-1" strike="noStrike">
                <a:solidFill>
                  <a:srgbClr val="000000"/>
                </a:solidFill>
                <a:latin typeface="Constantia"/>
              </a:rPr>
              <a:t>*</a:t>
            </a: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 Increase fluid intake.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nstantia"/>
              </a:rPr>
              <a:t>       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1" i="1" lang="en-US" sz="2100" spc="-1" strike="noStrike">
                <a:solidFill>
                  <a:srgbClr val="000000"/>
                </a:solidFill>
                <a:latin typeface="Constantia"/>
              </a:rPr>
              <a:t>− </a:t>
            </a:r>
            <a:r>
              <a:rPr b="1" i="1" lang="en-US" sz="2100" spc="-1" strike="noStrike">
                <a:solidFill>
                  <a:srgbClr val="000000"/>
                </a:solidFill>
                <a:latin typeface="Constantia"/>
              </a:rPr>
              <a:t>Sings and Symptoms: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        </a:t>
            </a: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Weight gain, increase blood pressure, edema, and shortness of breathing.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0" algn="r" rtl="1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0" name="Rectangle 4"/>
          <p:cNvSpPr/>
          <p:nvPr/>
        </p:nvSpPr>
        <p:spPr>
          <a:xfrm>
            <a:off x="250920" y="1223280"/>
            <a:ext cx="8283600" cy="29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essment &amp; Diagnostic Evalu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Decreased BUN , Creatinin , Serum osmolality &amp; hematocrete because of plasma dilution, &amp;↓protein inta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Urine sodium is increased if kidneys excrete excess flui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CXR may disclosed pulmonary conges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0" algn="r" rtl="1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3" name="Rectangle 4"/>
          <p:cNvSpPr/>
          <p:nvPr/>
        </p:nvSpPr>
        <p:spPr>
          <a:xfrm>
            <a:off x="533520" y="21960"/>
            <a:ext cx="8305560" cy="63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0000"/>
              </a:buClr>
              <a:buSzPct val="95000"/>
              <a:buFont typeface="Wingdings" charset="2"/>
              <a:buChar char=""/>
              <a:tabLst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irect cause should be tre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0000"/>
              </a:buClr>
              <a:buSzPct val="95000"/>
              <a:buFont typeface="Wingdings" charset="2"/>
              <a:buChar char=""/>
              <a:tabLst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ymptomatic treatment consist of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50000"/>
              </a:lnSpc>
              <a:buClr>
                <a:srgbClr val="ff0000"/>
              </a:buClr>
              <a:buSzPct val="85000"/>
              <a:buFont typeface="Wingdings" charset="2"/>
              <a:buChar char=""/>
              <a:tabLst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iure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50000"/>
              </a:lnSpc>
              <a:buClr>
                <a:srgbClr val="ff0000"/>
              </a:buClr>
              <a:buSzPct val="85000"/>
              <a:buFont typeface="Wingdings" charset="2"/>
              <a:buChar char=""/>
              <a:tabLst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strict fluid &amp; Na intak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50000"/>
              </a:lnSpc>
              <a:buClr>
                <a:srgbClr val="ff0000"/>
              </a:buClr>
              <a:buSzPct val="85000"/>
              <a:buFont typeface="Wingdings" charset="2"/>
              <a:buChar char=""/>
              <a:tabLst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intained electrolytes bal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50000"/>
              </a:lnSpc>
              <a:buClr>
                <a:srgbClr val="ff0000"/>
              </a:buClr>
              <a:buSzPct val="85000"/>
              <a:buFont typeface="Wingdings" charset="2"/>
              <a:buChar char=""/>
              <a:tabLst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emodialysis in case of renal impair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50000"/>
              </a:lnSpc>
              <a:buClr>
                <a:srgbClr val="ff0000"/>
              </a:buClr>
              <a:buSzPct val="85000"/>
              <a:buFont typeface="Wingdings" charset="2"/>
              <a:buChar char=""/>
              <a:tabLst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K+ supplement &amp; specific nutr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0000"/>
              </a:buClr>
              <a:buSzPct val="85000"/>
              <a:buFont typeface="Wingdings" charset="2"/>
              <a:buChar char=""/>
              <a:tabLst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ursing Managemen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50000"/>
              </a:lnSpc>
              <a:buClr>
                <a:srgbClr val="ff0000"/>
              </a:buClr>
              <a:buSzPct val="85000"/>
              <a:buFont typeface="Wingdings" charset="2"/>
              <a:buChar char=""/>
              <a:tabLst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 Assess breathing , weight ,degree of edema regular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50000"/>
              </a:lnSpc>
              <a:buClr>
                <a:srgbClr val="ff0000"/>
              </a:buClr>
              <a:buSzPct val="85000"/>
              <a:buFont typeface="Wingdings" charset="2"/>
              <a:buChar char=""/>
              <a:tabLst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 I &amp; O measurement regular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50000"/>
              </a:lnSpc>
              <a:buClr>
                <a:srgbClr val="ff0000"/>
              </a:buClr>
              <a:buSzPct val="85000"/>
              <a:buFont typeface="Wingdings" charset="2"/>
              <a:buChar char=""/>
              <a:tabLst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 Semifowlers position in case of shortness of brea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50000"/>
              </a:lnSpc>
              <a:buClr>
                <a:srgbClr val="ff0000"/>
              </a:buClr>
              <a:buSzPct val="85000"/>
              <a:buFont typeface="Wingdings" charset="2"/>
              <a:buChar char=""/>
              <a:tabLst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 Patient edu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4617b"/>
                </a:solidFill>
                <a:latin typeface="Calibri"/>
              </a:rPr>
              <a:t>Electrolyte imbalance</a:t>
            </a:r>
            <a:r>
              <a:rPr b="1" i="1" lang="en-US" sz="3400" spc="-1" strike="noStrike">
                <a:solidFill>
                  <a:srgbClr val="04617b"/>
                </a:solidFill>
                <a:latin typeface="Calibri"/>
              </a:rPr>
              <a:t>:</a:t>
            </a:r>
            <a:br>
              <a:rPr sz="3400"/>
            </a:br>
            <a:endParaRPr b="0" lang="en-US" sz="3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Constantia"/>
              </a:rPr>
              <a:t>I- SodiumDeficit (Hyponatremia)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−</a:t>
            </a:r>
            <a:r>
              <a:rPr b="1" i="1" lang="en-US" sz="2600" spc="-1" strike="noStrike">
                <a:solidFill>
                  <a:srgbClr val="000000"/>
                </a:solidFill>
                <a:latin typeface="Constantia"/>
              </a:rPr>
              <a:t>Contributing Factors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* Use of a diuretic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* Loss of GI fluid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* Gain of wate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1" i="1" lang="en-US" sz="2600" spc="-1" strike="noStrike">
                <a:solidFill>
                  <a:srgbClr val="000000"/>
                </a:solidFill>
                <a:latin typeface="Constantia"/>
              </a:rPr>
              <a:t>− </a:t>
            </a:r>
            <a:r>
              <a:rPr b="1" i="1" lang="en-US" sz="2600" spc="-1" strike="noStrike">
                <a:solidFill>
                  <a:srgbClr val="000000"/>
                </a:solidFill>
                <a:latin typeface="Constantia"/>
              </a:rPr>
              <a:t>Sings and Symptoms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norexia, nausea and vomiting, headache, lethargy, confusion, seizure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1509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Calibri"/>
              </a:rPr>
              <a:t>Hyponatremia, continued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5760" y="16999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reatment: correct underlying disorde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Fluid restrict,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nstantia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diuretic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Hypertonic saline to increase level 2-3 mEq/L/hr and max rate  100cc of 5% saline/hr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4617b"/>
                </a:solidFill>
                <a:latin typeface="Calibri"/>
              </a:rPr>
              <a:t>Electrolyte imbalance</a:t>
            </a:r>
            <a:r>
              <a:rPr b="1" i="1" lang="en-US" sz="3400" spc="-1" strike="noStrike">
                <a:solidFill>
                  <a:srgbClr val="04617b"/>
                </a:solidFill>
                <a:latin typeface="Calibri"/>
              </a:rPr>
              <a:t>:</a:t>
            </a:r>
            <a:br>
              <a:rPr sz="3400"/>
            </a:br>
            <a:endParaRPr b="0" lang="en-US" sz="3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1280" y="16282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- Sodium Excess (Hypernatremia)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−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ibuting Factors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Water deprivation in patient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Hypertonic tube feeding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Diabetes Insipidu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−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gs and Symptoms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rst, hallucination, lethargy, restless, pulmonary edema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41" name="Picture 2" descr="C:\Users\rtumala\Pictures\Fluid and Electrolytes Imbalance Pictures\hypernatremia.jpg"/>
          <p:cNvPicPr/>
          <p:nvPr/>
        </p:nvPicPr>
        <p:blipFill>
          <a:blip r:embed="rId1"/>
          <a:stretch/>
        </p:blipFill>
        <p:spPr>
          <a:xfrm>
            <a:off x="611280" y="333360"/>
            <a:ext cx="7921440" cy="6120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566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Hypernatremia, continued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eatment: correct underlying disorder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ee water replacement: (0.6 * kg BW) * ((Na/140) – 1). Slow infusion of D5W give ½ over first 8 hrs then rest over next 16-24 hrs to avoid cerebral edema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852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1" i="1" lang="en-US" sz="44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Electrolyte imbalance</a:t>
            </a:r>
            <a:r>
              <a:rPr b="1" i="1" lang="en-US" sz="44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: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318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- Potassium Deficit (Hypokalemia)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318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−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ibuting factors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318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Dirrhea, vomiting, gastric suction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318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Corticosteroid administration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318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Diuretic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318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−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gs and symptoms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318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tigue, anorexia, nausea, vomiting, muscle weakness, change in ECG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43600" indent="-208800">
              <a:lnSpc>
                <a:spcPct val="15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KG: low, flat T-waves, ST depression, and U wav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3184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edg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39280" y="115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Hypokalemia, continued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39280" y="177300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G changes in hypokalemi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8" name="Picture 5" descr="C:\Users\rtumala\Pictures\Fluid and Electrolytes Imbalance Pictures\Hypokalemia EKG.jpg"/>
          <p:cNvPicPr/>
          <p:nvPr/>
        </p:nvPicPr>
        <p:blipFill>
          <a:blip r:embed="rId1"/>
          <a:stretch/>
        </p:blipFill>
        <p:spPr>
          <a:xfrm>
            <a:off x="250920" y="2421000"/>
            <a:ext cx="3241440" cy="336060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6" descr="C:\Users\rtumala\Pictures\Fluid and Electrolytes Imbalance Pictures\hypokalemia.jpg"/>
          <p:cNvPicPr/>
          <p:nvPr/>
        </p:nvPicPr>
        <p:blipFill>
          <a:blip r:embed="rId2"/>
          <a:stretch/>
        </p:blipFill>
        <p:spPr>
          <a:xfrm>
            <a:off x="3708360" y="2421000"/>
            <a:ext cx="5256360" cy="34192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685440" y="762120"/>
            <a:ext cx="76201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rox. 60% of the body weight is fluid (water and electrolytes)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dy fluid is located in 3 compartment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c00000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cellular fluids contained within the cells (ICF): 2/3 of TBF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c00000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racellular fluid (ECF): 1/3 of TBF compose of  IVF + 3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r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pace (interstitial space which is the fluid between the cells 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c00000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uid compartment are separated by semi permeable membran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alibri"/>
              </a:rPr>
              <a:t>Introduction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p:transition spd="med">
    <p:wheel spokes="3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Hypokalemia, continued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G changes in hypokalemi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2" name="Picture 4" descr="f010007"/>
          <p:cNvPicPr/>
          <p:nvPr/>
        </p:nvPicPr>
        <p:blipFill>
          <a:blip r:embed="rId1"/>
          <a:stretch/>
        </p:blipFill>
        <p:spPr>
          <a:xfrm>
            <a:off x="971640" y="2421000"/>
            <a:ext cx="6848280" cy="29527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Hypokalemia, continued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eatment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ck renal funct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eat alkalosis, decrease sodium intak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 with 20-40 mEq dos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V: peripheral 7.5 mEq/hr, central 20 mEq/hr and increase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 maintenance fluid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852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4617b"/>
                </a:solidFill>
                <a:latin typeface="Calibri"/>
              </a:rPr>
              <a:t>Electrolyte imbalance</a:t>
            </a:r>
            <a:r>
              <a:rPr b="1" i="1" lang="en-US" sz="3400" spc="-1" strike="noStrike">
                <a:solidFill>
                  <a:srgbClr val="04617b"/>
                </a:solidFill>
                <a:latin typeface="Calibri"/>
              </a:rPr>
              <a:t>:</a:t>
            </a:r>
            <a:br>
              <a:rPr sz="3400"/>
            </a:br>
            <a:endParaRPr b="0" lang="en-US" sz="3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V- Potassium Excess (Hyperkalemia)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−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ibuting Factors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Renal Failur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Crush injury, burn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Blood transfusion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Administration of IV K+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−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gs and Symptoms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dycardia, dysarrythmia, anxiety, irritable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ECG:  peaked T waves then flat P  waves, depressed ST segment, widened QRS progressing to sine wave and V fib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edg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Hyperkalemia </a:t>
            </a:r>
            <a:r>
              <a:rPr b="0" lang="en-US" sz="5000" spc="-1" strike="noStrike">
                <a:solidFill>
                  <a:srgbClr val="04617b"/>
                </a:solidFill>
                <a:latin typeface="Arial"/>
              </a:rPr>
              <a:t>–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 ECG Chang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9" name="Picture 5" descr="C:\Users\rtumala\Pictures\Fluid and Electrolytes Imbalance Pictures\hyperkalemia1.png"/>
          <p:cNvPicPr/>
          <p:nvPr/>
        </p:nvPicPr>
        <p:blipFill>
          <a:blip r:embed="rId1"/>
          <a:stretch/>
        </p:blipFill>
        <p:spPr>
          <a:xfrm>
            <a:off x="395280" y="1773360"/>
            <a:ext cx="3726000" cy="431964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6" descr="C:\Users\rtumala\Pictures\Fluid and Electrolytes Imbalance Pictures\Hyperkalemia2.jpg"/>
          <p:cNvPicPr/>
          <p:nvPr/>
        </p:nvPicPr>
        <p:blipFill>
          <a:blip r:embed="rId2"/>
          <a:stretch/>
        </p:blipFill>
        <p:spPr>
          <a:xfrm>
            <a:off x="4284720" y="1773360"/>
            <a:ext cx="4464000" cy="43196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Hyperkalemia </a:t>
            </a:r>
            <a:r>
              <a:rPr b="0" lang="en-US" sz="5000" spc="-1" strike="noStrike">
                <a:solidFill>
                  <a:srgbClr val="04617b"/>
                </a:solidFill>
                <a:latin typeface="Arial"/>
              </a:rPr>
              <a:t>–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 ECG Chang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3" name="Picture 4" descr="f102008"/>
          <p:cNvPicPr/>
          <p:nvPr/>
        </p:nvPicPr>
        <p:blipFill>
          <a:blip r:embed="rId1"/>
          <a:stretch/>
        </p:blipFill>
        <p:spPr>
          <a:xfrm>
            <a:off x="684360" y="1773360"/>
            <a:ext cx="7848360" cy="45352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Hyperkalemia, continued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7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eatment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move iatrogenic caus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ute: if &gt; 7.5 mEq/L or EKG chang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-gluconate – 1 gm over 2 min IV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dium bicarbonate – 1 amp, may repeat in 15mi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50W (1 ampule = 50 gm) and 10U regular insuli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ergent dialysi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ydration and diuresis, kayexalate 20-50 g, in 100-200cc of 20% sorbitol q 4hrs or enem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alcium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22280" y="125856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ypocalcemia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98400" indent="-26856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en in hypoalbuminemia. Check ionized C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98400" indent="-26856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ten symptomatic below 8 mEq/dL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98400" indent="-26856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ck PTH: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1074240" indent="-214560">
              <a:lnSpc>
                <a:spcPct val="100000"/>
              </a:lnSpc>
              <a:spcBef>
                <a:spcPts val="60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 may be Mg deficienc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1074240" indent="-214560">
              <a:lnSpc>
                <a:spcPct val="100000"/>
              </a:lnSpc>
              <a:spcBef>
                <a:spcPts val="60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 think pancreatitis, hyperPO4, low Vitamin D, pseudohypoparathyroidism, massive blood transfusion, drugs (e.g. gentamicin) renal insufficienc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98400" indent="-26856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/Sx: numbness, tingling, circumoral paresthesia, cramps tetany, increased DTR’s, Chvostek’s sign, Trousseau’s sig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1074240" indent="-214560">
              <a:lnSpc>
                <a:spcPct val="100000"/>
              </a:lnSpc>
              <a:spcBef>
                <a:spcPts val="60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KG has prolonged QT interval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107424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3960" y="54900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alcium, continued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ypocalcemia cont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eatment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ute: (IV) CaCl 10 cc of 10% solution = 6.5 mmole Ca or CaGluconate 10cc of 10% solution = 2.2 mmole C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ronic: (PO) 0.5-1.25 gm Ca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 200-500 mg Ca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3" marL="1600200" indent="-2286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osphate binding antacids improve GI absorption of C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t D (calciferol) must have normal serum PO4. Start 50,000 – 200,000 units/da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alcium, continued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71" name="Picture 4" descr="C:\Users\rtumala\Pictures\Fluid and Electrolytes Imbalance Pictures\hypercalcemia.gif"/>
          <p:cNvPicPr/>
          <p:nvPr/>
        </p:nvPicPr>
        <p:blipFill>
          <a:blip r:embed="rId1"/>
          <a:stretch/>
        </p:blipFill>
        <p:spPr>
          <a:xfrm>
            <a:off x="1476360" y="1752480"/>
            <a:ext cx="6048360" cy="426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alcium, continued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5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ypercalcemi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735480" indent="-282960">
              <a:lnSpc>
                <a:spcPct val="15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ually secondary to hyperparathyroidism or malignancy. Other causes are thiazides, milk-alkali syndrome, granulomatous disease, acute adrenal insufficiency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735480" indent="-282960">
              <a:lnSpc>
                <a:spcPct val="15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ute crisis is serum Ca&gt; 12mg/dL. Critical at 16-20mg/dL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735480" indent="-282960">
              <a:lnSpc>
                <a:spcPct val="15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/Sx: N/V, anorexia, abdominal pain, confusion, lethargy MS changes= “Bones, stone, abdominal groans and psychic overtones.”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2" marL="1131480" indent="0" algn="r" rtl="1"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1" marL="735480"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2" descr="A02242-18-01B"/>
          <p:cNvPicPr/>
          <p:nvPr/>
        </p:nvPicPr>
        <p:blipFill>
          <a:blip r:embed="rId1"/>
          <a:srcRect l="31925" t="0" r="0" b="0"/>
          <a:stretch/>
        </p:blipFill>
        <p:spPr>
          <a:xfrm>
            <a:off x="2362320" y="1676520"/>
            <a:ext cx="5037120" cy="480060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DISTRIBUTION AND COMPOSITION OF BODY FLUID COMPARTMENTS</a:t>
            </a:r>
            <a:br>
              <a:rPr sz="2500"/>
            </a:br>
            <a:endParaRPr b="0" lang="en-US" sz="2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مربع نص 3"/>
          <p:cNvSpPr/>
          <p:nvPr/>
        </p:nvSpPr>
        <p:spPr>
          <a:xfrm>
            <a:off x="3429000" y="4495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IV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مربع نص 4"/>
          <p:cNvSpPr/>
          <p:nvPr/>
        </p:nvSpPr>
        <p:spPr>
          <a:xfrm>
            <a:off x="3352680" y="266688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3</a:t>
            </a:r>
            <a:r>
              <a:rPr b="0" lang="en-US" sz="1800" spc="-1" strike="noStrike" baseline="30000">
                <a:solidFill>
                  <a:srgbClr val="ffffff"/>
                </a:solidFill>
                <a:latin typeface="Comic Sans MS"/>
                <a:ea typeface="Arial"/>
              </a:rPr>
              <a:t>rd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 sp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مربع نص 5"/>
          <p:cNvSpPr/>
          <p:nvPr/>
        </p:nvSpPr>
        <p:spPr>
          <a:xfrm>
            <a:off x="4876920" y="45720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IC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alcium, continued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eatment: Hydration with NS then loop diuretic. Steroids for lymphoma, multiple myeloma, adrenal insufficiency, bone mets, Vit D intoxication. May need Hemodialysi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thramycin for malignancy induced hyperCa refractory to other treatment. Give 15-25 mcg/kg IVP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citonin in malignant PTH syndrom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0" algn="r" rtl="1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edg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000" spc="-1" strike="noStrike">
                <a:solidFill>
                  <a:srgbClr val="04617b"/>
                </a:solidFill>
                <a:latin typeface="Calibri"/>
              </a:rPr>
              <a:t>Types of IV solutions</a:t>
            </a:r>
            <a:r>
              <a:rPr b="1" i="1" lang="en-US" sz="5000" spc="-1" strike="noStrike">
                <a:solidFill>
                  <a:srgbClr val="04617b"/>
                </a:solidFill>
                <a:latin typeface="Calibri"/>
              </a:rPr>
              <a:t>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r" rtl="1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* Serum plasma osmalarity (280-300 m osmol).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1" i="1" lang="en-US" sz="1700" spc="-1" strike="noStrike">
                <a:solidFill>
                  <a:srgbClr val="000000"/>
                </a:solidFill>
                <a:latin typeface="Constantia"/>
              </a:rPr>
              <a:t>I- Isotonic Solutions: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        </a:t>
            </a: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A solution with the same osmalality as serum and other body 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        </a:t>
            </a: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Fluids.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           </a:t>
            </a: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e.g. N/S 0.9%, Ringer Lactate, D5W.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i="1" lang="en-US" sz="1700" spc="-1" strike="noStrike">
                <a:solidFill>
                  <a:srgbClr val="000000"/>
                </a:solidFill>
                <a:latin typeface="Constantia"/>
              </a:rPr>
              <a:t>II- Hypotonic Solutions: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       </a:t>
            </a: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A solution with an osmolality lower than that of serum 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        </a:t>
            </a: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plasma.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           </a:t>
            </a: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e.g. half strength saline (0.45% sodium chloride).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00" spc="-1" strike="noStrike">
                <a:solidFill>
                  <a:srgbClr val="000000"/>
                </a:solidFill>
                <a:latin typeface="Constantia"/>
              </a:rPr>
              <a:t>III- Hypertonic Solution: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       </a:t>
            </a: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A solution with an osmalality higher than that of serum.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        </a:t>
            </a: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e.g.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4 % N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edg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عنصر نائب للمحتوى 3" descr="صورة1.png"/>
          <p:cNvPicPr/>
          <p:nvPr/>
        </p:nvPicPr>
        <p:blipFill>
          <a:blip r:embed="rId1"/>
          <a:stretch/>
        </p:blipFill>
        <p:spPr>
          <a:xfrm>
            <a:off x="914400" y="2359080"/>
            <a:ext cx="6692760" cy="3736800"/>
          </a:xfrm>
          <a:prstGeom prst="rect">
            <a:avLst/>
          </a:prstGeom>
          <a:ln w="0">
            <a:noFill/>
          </a:ln>
        </p:spPr>
      </p:pic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ypertonic fluids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0" name="مربع نص 4"/>
          <p:cNvSpPr/>
          <p:nvPr/>
        </p:nvSpPr>
        <p:spPr>
          <a:xfrm>
            <a:off x="3857760" y="3714840"/>
            <a:ext cx="1500120" cy="3412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سهم إلى اليسار 6"/>
          <p:cNvSpPr/>
          <p:nvPr/>
        </p:nvSpPr>
        <p:spPr>
          <a:xfrm>
            <a:off x="4114800" y="4572000"/>
            <a:ext cx="1285920" cy="484200"/>
          </a:xfrm>
          <a:prstGeom prst="leftArrow">
            <a:avLst>
              <a:gd name="adj1" fmla="val 50000"/>
              <a:gd name="adj2" fmla="val 50005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nstantia"/>
              </a:rPr>
              <a:t>H2O+ Ele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سهم إلى اليسار 7"/>
          <p:cNvSpPr/>
          <p:nvPr/>
        </p:nvSpPr>
        <p:spPr>
          <a:xfrm>
            <a:off x="3505320" y="3962520"/>
            <a:ext cx="1285920" cy="484200"/>
          </a:xfrm>
          <a:prstGeom prst="leftArrow">
            <a:avLst>
              <a:gd name="adj1" fmla="val 50000"/>
              <a:gd name="adj2" fmla="val 50005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nstantia"/>
              </a:rPr>
              <a:t>H2O+ Ele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مستطيل 8"/>
          <p:cNvSpPr/>
          <p:nvPr/>
        </p:nvSpPr>
        <p:spPr>
          <a:xfrm>
            <a:off x="380880" y="914400"/>
            <a:ext cx="7696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VF have a higher osmolarity than the ICF &amp;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r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lls fluid and electrolytes from the ICF &amp;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r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to IVF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مربع نص 9"/>
          <p:cNvSpPr/>
          <p:nvPr/>
        </p:nvSpPr>
        <p:spPr>
          <a:xfrm>
            <a:off x="3733920" y="3962520"/>
            <a:ext cx="125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  <a:ea typeface="Arial"/>
              </a:rPr>
              <a:t>3</a:t>
            </a:r>
            <a:r>
              <a:rPr b="0" lang="en-US" sz="1800" spc="-1" strike="noStrike" baseline="30000">
                <a:solidFill>
                  <a:srgbClr val="ff0000"/>
                </a:solidFill>
                <a:latin typeface="Comic Sans MS"/>
                <a:ea typeface="Arial"/>
              </a:rPr>
              <a:t>rd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  <a:ea typeface="Arial"/>
              </a:rPr>
              <a:t> sp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vert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7.40741E-007 L -0.15746 0.0419 E">
                                      <p:cBhvr>
                                        <p:cTn id="41" dur="2000" fill="hold"/>
                                        <p:tgtEl>
                                          <p:spTgt spid="2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083 -0.00231 L -0.17031 -0.00185 E">
                                      <p:cBhvr>
                                        <p:cTn id="45" dur="2000" fill="hold"/>
                                        <p:tgtEl>
                                          <p:spTgt spid="2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2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help stabilize blood pressure, increase urine output, and reduce edema. 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2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ngerous in the setting of cell dehydration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2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 1.4 % NS, Colloids &amp; blood product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Hypertonic fluids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p:transition spd="med">
    <p:strips dir="ld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عنصر نائب للمحتوى 3" descr="صورة1.png"/>
          <p:cNvPicPr/>
          <p:nvPr/>
        </p:nvPicPr>
        <p:blipFill>
          <a:blip r:embed="rId1"/>
          <a:stretch/>
        </p:blipFill>
        <p:spPr>
          <a:xfrm>
            <a:off x="1066680" y="2286000"/>
            <a:ext cx="6693120" cy="4389480"/>
          </a:xfrm>
          <a:prstGeom prst="rect">
            <a:avLst/>
          </a:prstGeom>
          <a:ln w="0">
            <a:noFill/>
          </a:ln>
        </p:spPr>
      </p:pic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Hypotonic fluids</a:t>
            </a:r>
            <a:endParaRPr b="0" lang="en-US" sz="4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9" name="مربع نص 4"/>
          <p:cNvSpPr/>
          <p:nvPr/>
        </p:nvSpPr>
        <p:spPr>
          <a:xfrm>
            <a:off x="3733920" y="4267080"/>
            <a:ext cx="1500120" cy="441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  <a:ea typeface="Arial"/>
              </a:rPr>
              <a:t>3</a:t>
            </a:r>
            <a:r>
              <a:rPr b="0" lang="en-US" sz="2000" spc="-1" strike="noStrike" baseline="30000">
                <a:solidFill>
                  <a:srgbClr val="ff0000"/>
                </a:solidFill>
                <a:latin typeface="Comic Sans MS"/>
                <a:ea typeface="Arial"/>
              </a:rPr>
              <a:t>rd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  <a:ea typeface="Arial"/>
              </a:rPr>
              <a:t> sp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سهم مسنن إلى اليمين 8"/>
          <p:cNvSpPr/>
          <p:nvPr/>
        </p:nvSpPr>
        <p:spPr>
          <a:xfrm>
            <a:off x="1752480" y="4495680"/>
            <a:ext cx="1643040" cy="484200"/>
          </a:xfrm>
          <a:custGeom>
            <a:avLst/>
            <a:gdLst>
              <a:gd name="textAreaLeft" fmla="*/ 120960 w 1643040"/>
              <a:gd name="textAreaRight" fmla="*/ 1522080 w 1643040"/>
              <a:gd name="textAreaTop" fmla="*/ 120960 h 484200"/>
              <a:gd name="textAreaBottom" fmla="*/ 363240 h 4842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8417" y="5400"/>
                </a:lnTo>
                <a:lnTo>
                  <a:pt x="18417" y="0"/>
                </a:lnTo>
                <a:lnTo>
                  <a:pt x="21600" y="10800"/>
                </a:lnTo>
                <a:lnTo>
                  <a:pt x="18417" y="21600"/>
                </a:lnTo>
                <a:lnTo>
                  <a:pt x="18417" y="16200"/>
                </a:lnTo>
                <a:lnTo>
                  <a:pt x="0" y="16200"/>
                </a:lnTo>
                <a:lnTo>
                  <a:pt x="1592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H2O+ El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مستطيل 6"/>
          <p:cNvSpPr/>
          <p:nvPr/>
        </p:nvSpPr>
        <p:spPr>
          <a:xfrm>
            <a:off x="304920" y="914400"/>
            <a:ext cx="6781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VF have a lower osmolarity than the ICF &amp;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pa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lls fluid and electrolytes from the IVF into the ICF &amp;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3073 -0.01457 0.06163 -0.02891 0.07396 -0.03446 E">
                                      <p:cBhvr>
                                        <p:cTn id="71" dur="2000" fill="hold"/>
                                        <p:tgtEl>
                                          <p:spTgt spid="2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151 -0.04972 0.03038 -0.09945 0.03646 -0.11934 E">
                                      <p:cBhvr>
                                        <p:cTn id="75" dur="2000" fill="hold"/>
                                        <p:tgtEl>
                                          <p:spTgt spid="2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be helpful when cells are dehydrated, hyperglycemic, diabetic ketoacidosis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cause cardiovascular collapse and increased Intracranial pressure (ICP) in some patients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 O.45% Nacl, D5NS.45 (5% dextrose in 1/2 normal saline)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Hypotonic fluids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p:transition spd="med">
    <p:wheel spokes="8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2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عنصر نائب للمحتوى 3" descr="صورة1.png"/>
          <p:cNvPicPr/>
          <p:nvPr/>
        </p:nvPicPr>
        <p:blipFill>
          <a:blip r:embed="rId1"/>
          <a:stretch/>
        </p:blipFill>
        <p:spPr>
          <a:xfrm>
            <a:off x="1066680" y="2468520"/>
            <a:ext cx="6693120" cy="4389480"/>
          </a:xfrm>
          <a:prstGeom prst="rect">
            <a:avLst/>
          </a:prstGeom>
          <a:ln w="0">
            <a:noFill/>
          </a:ln>
        </p:spPr>
      </p:pic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390600" y="47304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Isotonic fluids</a:t>
            </a:r>
            <a:endParaRPr b="0" lang="en-US" sz="4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6" name="مربع نص 4"/>
          <p:cNvSpPr/>
          <p:nvPr/>
        </p:nvSpPr>
        <p:spPr>
          <a:xfrm>
            <a:off x="3581280" y="4419720"/>
            <a:ext cx="1500480" cy="441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  <a:ea typeface="Arial"/>
              </a:rPr>
              <a:t>3</a:t>
            </a:r>
            <a:r>
              <a:rPr b="0" lang="en-US" sz="2000" spc="-1" strike="noStrike" baseline="30000">
                <a:solidFill>
                  <a:srgbClr val="ff0000"/>
                </a:solidFill>
                <a:latin typeface="Comic Sans MS"/>
                <a:ea typeface="Arial"/>
              </a:rPr>
              <a:t>rd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  <a:ea typeface="Arial"/>
              </a:rPr>
              <a:t> sp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انفجار 2 10"/>
          <p:cNvSpPr/>
          <p:nvPr/>
        </p:nvSpPr>
        <p:spPr>
          <a:xfrm>
            <a:off x="1143000" y="3886200"/>
            <a:ext cx="1752480" cy="1066680"/>
          </a:xfrm>
          <a:prstGeom prst="irregularSeal2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H20+El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مستطيل 11"/>
          <p:cNvSpPr/>
          <p:nvPr/>
        </p:nvSpPr>
        <p:spPr>
          <a:xfrm>
            <a:off x="390600" y="1290600"/>
            <a:ext cx="6476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VF have same osmolarity as the ICF &amp;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r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uid stay inside the IVF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6.11471E-006 C -0.04844 -0.06338 -0.0967 -0.12651 -0.07934 -0.10732 C -0.06198 -0.08812 0.07326 0.07862 0.10382 0.11586 E">
                                      <p:cBhvr>
                                        <p:cTn id="97" dur="5000" fill="hold"/>
                                        <p:tgtEl>
                                          <p:spTgt spid="2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228240" y="11430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10cf9b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fter a few hours 80 % goes into 3 rd space while 20% stay in IV ( we need 3 liters of isotonic fluid to replace 1 liter of blood loss)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10cf9b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be helpful in hypotensive or hypovolemic patient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10cf9b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 Lactated Ringer's (LR), 0.9% NS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Isotonic fluids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p:transition spd="med">
    <p:push dir="r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2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2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عنصر نائب لرقم الشريحة 17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7A39A-F0A9-4CCF-AC41-EC0152D8AB78}" type="slidenum">
              <a:rPr b="0" lang="ar-SA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-304920" y="19666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9dd9"/>
                </a:solidFill>
                <a:latin typeface="Times New Roman"/>
                <a:ea typeface="Times New Roman"/>
              </a:rPr>
              <a:t>Question?</a:t>
            </a:r>
            <a:endParaRPr b="0" lang="en-US" sz="6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79280" y="404640"/>
            <a:ext cx="8229600" cy="7956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Average daily intake and output in an adult</a:t>
            </a:r>
            <a:r>
              <a:rPr b="1" i="1" lang="en-US" sz="34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:</a:t>
            </a:r>
            <a:endParaRPr b="0" lang="en-US" sz="3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11280" y="1412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r" rtl="1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rtl="1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nstantia"/>
              </a:rPr>
              <a:t>         </a:t>
            </a:r>
            <a:r>
              <a:rPr b="1" lang="en-US" sz="2100" spc="-1" strike="noStrike" u="sng">
                <a:solidFill>
                  <a:srgbClr val="000000"/>
                </a:solidFill>
                <a:uFillTx/>
                <a:latin typeface="Constantia"/>
              </a:rPr>
              <a:t>Intake</a:t>
            </a:r>
            <a:r>
              <a:rPr b="1" lang="en-US" sz="2100" spc="-1" strike="noStrike">
                <a:solidFill>
                  <a:srgbClr val="000000"/>
                </a:solidFill>
                <a:latin typeface="Constantia"/>
              </a:rPr>
              <a:t>                                </a:t>
            </a:r>
            <a:r>
              <a:rPr b="1" lang="en-US" sz="2100" spc="-1" strike="noStrike" u="sng">
                <a:solidFill>
                  <a:srgbClr val="000000"/>
                </a:solidFill>
                <a:uFillTx/>
                <a:latin typeface="Constantia"/>
              </a:rPr>
              <a:t>Output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rtl="1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Oral Liquids       1300ml.             Urine                1500ml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rtl="1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Water in foods   1000ml.             Stool                 200ml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rtl="1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Water produced                           Insensible lungs 300ml</a:t>
            </a: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   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rtl="1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by metabolism   </a:t>
            </a:r>
            <a:r>
              <a:rPr b="0" lang="en-US" sz="2100" spc="-1" strike="noStrike" u="sng">
                <a:solidFill>
                  <a:srgbClr val="000000"/>
                </a:solidFill>
                <a:uFillTx/>
                <a:latin typeface="Constantia"/>
              </a:rPr>
              <a:t>300ml   </a:t>
            </a: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             Skin          </a:t>
            </a:r>
            <a:r>
              <a:rPr b="0" lang="en-US" sz="2100" spc="-1" strike="noStrike" u="sng">
                <a:solidFill>
                  <a:srgbClr val="000000"/>
                </a:solidFill>
                <a:uFillTx/>
                <a:latin typeface="Constantia"/>
              </a:rPr>
              <a:t>        600ml</a:t>
            </a:r>
            <a:r>
              <a:rPr b="0" lang="en-US" sz="2100" spc="-1" strike="noStrike" u="sng">
                <a:solidFill>
                  <a:srgbClr val="000000"/>
                </a:solidFill>
                <a:uFillTx/>
                <a:latin typeface="Constantia"/>
              </a:rPr>
              <a:t>   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rtl="1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                       </a:t>
            </a: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2600ml                                     2600ml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000" spc="-1" strike="noStrike">
                <a:solidFill>
                  <a:srgbClr val="04617b"/>
                </a:solidFill>
                <a:latin typeface="Calibri"/>
              </a:rPr>
              <a:t>Normal Lab Results</a:t>
            </a:r>
            <a:r>
              <a:rPr b="1" i="1" lang="en-US" sz="5000" spc="-1" strike="noStrike">
                <a:solidFill>
                  <a:srgbClr val="04617b"/>
                </a:solidFill>
                <a:latin typeface="Calibri"/>
              </a:rPr>
              <a:t>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rtl="1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rtl="1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-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Na→    135−145mEq/L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rtl="1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-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K+ →    3.5−5.5mEq/L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rtl="1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-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a++→  8.5−10.5mEq/L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rtl="1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-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 →   96−106mEq/L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rtl="1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-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g→  1.5−2.5mEq/L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3964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000" spc="-1" strike="noStrike">
                <a:solidFill>
                  <a:srgbClr val="04617b"/>
                </a:solidFill>
                <a:latin typeface="Calibri"/>
              </a:rPr>
              <a:t>Fluid Volume Disturbance</a:t>
            </a:r>
            <a:r>
              <a:rPr b="1" i="1" lang="en-US" sz="5000" spc="-1" strike="noStrike">
                <a:solidFill>
                  <a:srgbClr val="04617b"/>
                </a:solidFill>
                <a:latin typeface="Calibri"/>
              </a:rPr>
              <a:t>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539640" y="1412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0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-Hypovolemia (fluids volume deficit)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−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ibuting Factors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ss of water and electroly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.g.( vomiting,diarrhea,burns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crease intake. e.g. (anorexia, nausea, inability 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ain access to flui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*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me disease.e.g (D.M, Diabetic Insipidus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−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gs and symptoms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ight loss, general weakness, dizziness, increase pul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533160"/>
            <a:ext cx="8229600" cy="56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essment &amp; Diagnostic evaluat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68520" indent="-257040">
              <a:lnSpc>
                <a:spcPct val="15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alth History &amp; Physical examinat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68520" indent="-257040">
              <a:lnSpc>
                <a:spcPct val="15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um BUN &amp; Creatini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68520" indent="-257040">
              <a:lnSpc>
                <a:spcPct val="15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matocrit level “great than normal”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68520" indent="-257040">
              <a:lnSpc>
                <a:spcPct val="15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rine specific gravity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68520" indent="-257040">
              <a:lnSpc>
                <a:spcPct val="15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um electrolytes level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1028520" indent="-205560">
              <a:lnSpc>
                <a:spcPct val="150000"/>
              </a:lnSpc>
              <a:spcBef>
                <a:spcPts val="60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ypokalemia  in case of GI &amp; renal los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1028520" indent="-205560">
              <a:lnSpc>
                <a:spcPct val="150000"/>
              </a:lnSpc>
              <a:spcBef>
                <a:spcPts val="60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yperkalemia in case of adrenal insufficienc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1028520" indent="-205560">
              <a:lnSpc>
                <a:spcPct val="150000"/>
              </a:lnSpc>
              <a:spcBef>
                <a:spcPts val="60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ypernatremia in case of ↑insensible losses &amp; diabetic insepedu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533160"/>
            <a:ext cx="8229600" cy="56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1" name="Picture 2" descr="C:\Users\rtumala\Pictures\Fluid and Electrolytes Imbalance Pictures\hypovolemic shock.jpg"/>
          <p:cNvPicPr/>
          <p:nvPr/>
        </p:nvPicPr>
        <p:blipFill>
          <a:blip r:embed="rId1"/>
          <a:stretch/>
        </p:blipFill>
        <p:spPr>
          <a:xfrm>
            <a:off x="611280" y="620640"/>
            <a:ext cx="4105080" cy="540072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3" descr="C:\Users\rtumala\Pictures\Fluid and Electrolytes Imbalance Pictures\hypovolemic shock 1.jpg"/>
          <p:cNvPicPr/>
          <p:nvPr/>
        </p:nvPicPr>
        <p:blipFill>
          <a:blip r:embed="rId2"/>
          <a:stretch/>
        </p:blipFill>
        <p:spPr>
          <a:xfrm>
            <a:off x="4716360" y="620640"/>
            <a:ext cx="3952800" cy="540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0" algn="r" rtl="1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Rectangle 4"/>
          <p:cNvSpPr/>
          <p:nvPr/>
        </p:nvSpPr>
        <p:spPr>
          <a:xfrm>
            <a:off x="457200" y="457560"/>
            <a:ext cx="830592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♣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reatment of the causes of FVD  should  be go with treatment of FVD it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ctors influence the pt fluid needs should be taken in conside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 case of sever or acute FVD   IV replacement should be start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sotonic solutions used to treat hypotension resulted from F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nal function &amp; hemodynamic status should be evalu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♣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ursing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onitor I&amp;O as needed “urin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onitor V/S, skin turgor , mental status &amp; daily we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tensive Hemodynamic CVP, arterial pres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outh care &amp; ↓ irritating flui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lharbi</dc:creator>
  <dc:description/>
  <dc:language>en-US</dc:language>
  <cp:lastModifiedBy>Alharbi</cp:lastModifiedBy>
  <cp:lastPrinted>2015-08-30T10:43:26Z</cp:lastPrinted>
  <dcterms:modified xsi:type="dcterms:W3CDTF">2015-10-22T09:11:45Z</dcterms:modified>
  <cp:revision>190</cp:revision>
  <dc:subject/>
  <dc:title>الشريحة 1</dc:title>
</cp:coreProperties>
</file>