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874B-C79B-4EA8-ACFE-79446FFD9602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931-0424-4230-BC2B-9CFAD243C3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7968-9EFA-4139-84E6-C2BFCC357AD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6D4-EE2B-4B81-B6EE-5EDD96B0DF9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E21B-9595-4380-82C8-806B8D78D09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AF57-F5BA-4ABC-B9A5-691DBEF5EBF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7D3E-63E0-4F5D-B4D3-0076C0F5FE2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C757-1428-4A74-AA13-40EA7D20C4C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FE83-8AB8-4CAF-A1EA-03102CA35A0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666-6B43-4ED5-AF56-64AE7E86FE1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CF63-4089-4F3B-B214-15AECA6DB4F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03A8-2C62-4FCE-A77A-A6ABD1B42A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A406-2541-411F-B903-BD7289CBAA4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1379-C988-4070-BC6E-CC893ED1CBF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A972-9BBC-4026-9D01-510CBE3E491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BEF8-73AC-4299-9DE8-D9C830874BB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4456-CCE5-491D-BBAF-FFC26D7733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0631-F19C-46CA-949D-B8C65061F80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6AE0-BE4B-4C75-81F9-109E5896C0A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917A-F2BF-44E2-9D4C-F6AFE766124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F6A9-4702-44C7-9BC3-5ED2DF1588D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E870-6662-42FA-9FB5-C72B8510CBC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834C-9E4E-42ED-ABE2-15E5290DBE2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8B67-739B-4278-B69A-835362D05C4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0BFE-1B59-46C5-A333-52225742BA9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3779-41AF-41E5-9EC6-0538BED5F5A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714A-F668-4475-A982-263742AE5F1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6581-1966-42CA-8096-43EE262E52B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9586-03A5-4BFC-B0B2-6972884957D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23F-7D85-4B35-B473-F30457A4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95E-9BD4-4379-B881-DBB0B66A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236-ED8A-4E71-B1FF-D737B98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061-9E98-4BC2-9A21-B060D6AD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ECFF-7804-4E74-A89C-8F346171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1602-78CB-4AFC-80E0-C68178C5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E50D-3D8D-47A7-B83F-06373C21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F82-8497-4B03-896E-752B881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648-831D-44AA-A031-A248CB8D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D650-AC09-418E-BF68-DBDF8D3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BE0E-8022-4A82-A04E-4C354168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B45-B803-4A8E-9C35-3BFFA81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9FA0-79EA-4C6F-8CFE-025522B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653B-94EF-40BD-823F-DFA6D3F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FF6D-AB18-42D0-BAC9-C5DB914E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B9C6-8457-451B-A1EA-21B27764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217-F6FB-4EE7-916A-7DF347A8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9381-9B9B-4735-85D7-031FCCE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1701-D7F1-42B2-B47D-BB8877E7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F962-E523-4651-829F-C69F7C86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A25D-B0B0-433F-B09F-6365723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AF98C-F705-4227-AD90-DA5AC835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541-5076-4F38-B956-1925DD9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3E2C-7B53-4B28-A8F3-457F0CA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8D07-80D0-4A19-B5C8-BB68E0C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4349-9776-4806-B40F-64EA149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6E84-63A9-446C-974A-4405D95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BEC3-F4F7-47F5-B2AC-155CBD8D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5F36-5273-48D9-B227-5E2DC057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F5E5-4B9B-4E86-AD0F-A8669BE6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A5C2-3E1A-449D-ABFE-B7AD92DF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7C69-E9CD-4A92-BB46-57CE2ECD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D415-2D73-4782-8A7A-056CA1BD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2A2-4B29-4304-BD58-36DC3E3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4C01-61E9-4DD0-951C-0B504D5E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0327-4FA6-4CD9-9B82-AB4BDD48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A08F-27DC-44F8-9046-02BB0F9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3B71-AAE4-4F3C-A1EA-EE712A63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08C6-78DE-4C9D-8578-CE02BB46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A61B-03B2-4C53-AF50-42E512D6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A143-EC30-4164-A36C-45F08415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FB912-52C4-49D2-8375-0A9DC4F7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96D0-20AB-4D1B-8D56-F89D8BB9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DC7-8BAF-414E-BC37-4A4E6D46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D2C-5413-4598-9BC5-A0C270FB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C30-AD17-4672-B513-156177D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7C9-EF35-48B2-BCD9-A3E6E72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31F-3FD5-4E8C-9DA5-2FFE3B7D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401-1506-4759-8947-F5AFFB564656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CCB-A58C-4BD1-8AE6-6903DBE10CC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03F3-76AD-48BF-9EDC-0C363464B705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A827-7BFD-401B-ADFD-9302577B8F2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0F6C-D9A0-4983-82F5-80450A1EF2BD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1621-1EF8-49B3-B78C-968A38009A66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0347-2A7A-4D85-80C7-BDF1BA75BA7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D5DB-5C19-4264-B32C-43C617F1B53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 Nursing (NUR 316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and Electrolyte Imbalanc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and Base Imbalanc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2B70-F340-410C-AB81-F69AB5F0EC2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827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Fluid Volume Disturbanc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II- Hypervolemia (fluid volume excess)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−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Contributing Factors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* Compromised regulatory mechanism such as renal failure, congestive heart failure, and cirrhosi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* Administration of Na+ containing fluid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long corticosteroid therapy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Increase fluid intak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− </a:t>
            </a:r>
            <a:r>
              <a:rPr b="1" i="1" lang="en-US" sz="2100" spc="-1" strike="noStrike">
                <a:solidFill>
                  <a:srgbClr val="000000"/>
                </a:solidFill>
                <a:latin typeface="Constantia"/>
              </a:rPr>
              <a:t>Sings and Symptoms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eight gain, increase blood pressure, edema, and shortness of breathing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50920" y="1223280"/>
            <a:ext cx="82836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&amp; Diagnostic Eval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creased BUN , Creatinin , Serum osmolality &amp; hematocrete because of plasma dilution, &amp;↓protein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rine sodium is increased if kidneys excrete excess 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XR may disclosed pulmonary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33520" y="21960"/>
            <a:ext cx="83055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cause should be t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9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mptomatic treatment consist o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ur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 fluid &amp; Na int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ed electrolytes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modialysis in case of renal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+ supplement &amp; specific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rsing Manag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Assess breathing , weight ,degree of edema regul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 &amp; O measurement regul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Semifowlers position in case of shortness of b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Patient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Electrolyte imbalance</a:t>
            </a: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- SodiumDeficit (Hyponatremia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−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ontributing Factor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 Use of a diureti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 Loss of GI flui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 Gain of 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−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ings and Symptom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orexia, nausea and vomiting, headache, lethargy, confusion, seiz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Hyponatremia, continue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7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eatment: correct underlying dis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uid restrict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ure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ertonic saline to increase level 2-3 mEq/L/hr and max rate  100cc of 5% saline/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Electrolyte imbalance</a:t>
            </a: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- Sodium Excess (Hypernatremia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Water deprivation in pat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ypertonic tube feed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iabetes Insipid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st, hallucination, lethargy, restless, pulmonary ede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C:\Users\rtumala\Pictures\Fluid and Electrolytes Imbalance Pictures\hypernatremia.jpg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ypernatremia, continue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 correct underlying disor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water replacement: (0.6 * kg BW) * ((Na/140) – 1). Slow infusion of D5W give ½ over first 8 hrs then rest over next 16-24 hrs to avoid cerebral edem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lectrolyte imbalance</a:t>
            </a:r>
            <a:r>
              <a:rPr b="1" i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- Potassium Deficit (Hypokalemia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irrhea, vomiting, gastric su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orticosteroid administ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iuretic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, anorexia, nausea, vomiting, muscle weakness, change in EC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: low, flat T-waves, ST depression, and U w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 changes in hypokale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5" descr="C:\Users\rtumala\Pictures\Fluid and Electrolytes Imbalance Pictures\Hypokalemia EKG.jpg"/>
          <p:cNvPicPr/>
          <p:nvPr/>
        </p:nvPicPr>
        <p:blipFill>
          <a:blip r:embed="rId1"/>
          <a:stretch/>
        </p:blipFill>
        <p:spPr>
          <a:xfrm>
            <a:off x="250920" y="2421000"/>
            <a:ext cx="3241440" cy="336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Users\rtumala\Pictures\Fluid and Electrolytes Imbalance Pictures\hypokalemia.jpg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4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440" y="7621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. 60% of the body weight is fluid (water and electrolyt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fluid is located in 3 compar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fluids contained within the cells (ICF): 2/3 of TB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ellular fluid (ECF): 1/3 of TBF compose of  IVF +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 (interstitial space which is the fluid between the cells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compartment are separated by semi permeabl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G changes in hypokale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f010007"/>
          <p:cNvPicPr/>
          <p:nvPr/>
        </p:nvPicPr>
        <p:blipFill>
          <a:blip r:embed="rId1"/>
          <a:stretch/>
        </p:blipFill>
        <p:spPr>
          <a:xfrm>
            <a:off x="971640" y="2421000"/>
            <a:ext cx="684828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renal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lkalosis, decrease sodium intak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with 20-40 mEq do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: peripheral 7.5 mEq/hr, central 20 mEq/hr and increas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aintenance flui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Electrolyte imbalance</a:t>
            </a:r>
            <a:r>
              <a:rPr b="1" i="1" lang="en-US" sz="34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Potassium Excess (Hyperkalemia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enal Fail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rush injury, bur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lood trans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dministration of IV K+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ycardia, dysarrythmia, anxiety, irritab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CG:  peaked T waves then flat P  waves, depressed ST segment, widened QRS progressing to sine wave and V f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erkalemia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ECG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5" descr="C:\Users\rtumala\Pictures\Fluid and Electrolytes Imbalance Pictures\hyperkalemia1.png"/>
          <p:cNvPicPr/>
          <p:nvPr/>
        </p:nvPicPr>
        <p:blipFill>
          <a:blip r:embed="rId1"/>
          <a:stretch/>
        </p:blipFill>
        <p:spPr>
          <a:xfrm>
            <a:off x="395280" y="1773360"/>
            <a:ext cx="3726000" cy="4319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:\Users\rtumala\Pictures\Fluid and Electrolytes Imbalance Pictures\Hyperkalemia2.jpg"/>
          <p:cNvPicPr/>
          <p:nvPr/>
        </p:nvPicPr>
        <p:blipFill>
          <a:blip r:embed="rId2"/>
          <a:stretch/>
        </p:blipFill>
        <p:spPr>
          <a:xfrm>
            <a:off x="4284720" y="1773360"/>
            <a:ext cx="446400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erkalemia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ECG Cha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f102008"/>
          <p:cNvPicPr/>
          <p:nvPr/>
        </p:nvPicPr>
        <p:blipFill>
          <a:blip r:embed="rId1"/>
          <a:stretch/>
        </p:blipFill>
        <p:spPr>
          <a:xfrm>
            <a:off x="684360" y="1773360"/>
            <a:ext cx="7848360" cy="45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erkalemia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iatrogenic cau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: if &gt; 7.5 mEq/L or EKG chan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-gluconate – 1 gm over 2 min I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bicarbonate – 1 amp, may repeat in 15m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W (1 ampule = 50 gm) and 10U regular insu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t dialy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tion and diuresis, kayexalate 20-50 g, in 100-200cc of 20% sorbitol q 4hrs or ene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22280" y="1258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calcemi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n in hypoalbuminemia. Check ionized 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symptomatic below 8 mEq/d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PTH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y be Mg deficie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hink pancreatitis, hyperPO4, low Vitamin D, pseudohypoparathyroidism, massive blood transfusion, drugs (e.g. gentamicin) renal insufficie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/Sx: numbness, tingling, circumoral paresthesia, cramps tetany, increased DTR’s, Chvostek’s sign, Trousseau’s 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 has prolonged QT interv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74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39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calcemia co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: (IV) CaCl 10 cc of 10% solution = 6.5 mmole Ca or CaGluconate 10cc of 10% solution = 2.2 mmole 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: (PO) 0.5-1.25 gm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200-500 mg C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 binding antacids improve GI absorption of 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 D (calciferol) must have normal serum PO4. Start 50,000 – 200,000 units/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4" descr="C:\Users\rtumala\Pictures\Fluid and Electrolytes Imbalance Pictures\hypercalcemia.gif"/>
          <p:cNvPicPr/>
          <p:nvPr/>
        </p:nvPicPr>
        <p:blipFill>
          <a:blip r:embed="rId1"/>
          <a:stretch/>
        </p:blipFill>
        <p:spPr>
          <a:xfrm>
            <a:off x="1476360" y="1752480"/>
            <a:ext cx="60483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calce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secondary to hyperparathyroidism or malignancy. Other causes are thiazides, milk-alkali syndrome, granulomatous disease, acute adrenal insufficie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crisis is serum Ca&gt; 12mg/dL. Critical at 16-20mg/d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/Sx: N/V, anorexia, abdominal pain, confusion, lethargy MS changes= “Bones, stone, abdominal groans and psychic overtones.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0" algn="r" rtl="1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A02242-18-01B"/>
          <p:cNvPicPr/>
          <p:nvPr/>
        </p:nvPicPr>
        <p:blipFill>
          <a:blip r:embed="rId1"/>
          <a:srcRect l="31925" t="0" r="0" b="0"/>
          <a:stretch/>
        </p:blipFill>
        <p:spPr>
          <a:xfrm>
            <a:off x="2362320" y="1676520"/>
            <a:ext cx="5037120" cy="48006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DISTRIBUTION AND COMPOSITION OF BODY FLUID COMPARTMENTS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مربع نص 3"/>
          <p:cNvSpPr/>
          <p:nvPr/>
        </p:nvSpPr>
        <p:spPr>
          <a:xfrm>
            <a:off x="342900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مربع نص 4"/>
          <p:cNvSpPr/>
          <p:nvPr/>
        </p:nvSpPr>
        <p:spPr>
          <a:xfrm>
            <a:off x="3352680" y="2666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مربع نص 5"/>
          <p:cNvSpPr/>
          <p:nvPr/>
        </p:nvSpPr>
        <p:spPr>
          <a:xfrm>
            <a:off x="48769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cium, continu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 Hydration with NS then loop diuretic. Steroids for lymphoma, multiple myeloma, adrenal insufficiency, bone mets, Vit D intoxication. May need Hemodialy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hramycin for malignancy induced hyperCa refractory to other treatment. Give 15-25 mcg/kg IV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tonin in malignant PTH syndr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Types of IV solutions</a:t>
            </a: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* Serum plasma osmalarity (280-300 m osmol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I- Isotonic Solution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 solution with the same osmalality as serum and other body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lui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e.g. N/S 0.9%, Ringer Lactate, D5W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II- Hypotonic Solution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 solution with an osmolality lower than that of serum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lasma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e.g. half strength saline (0.45% sodium chloride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Constantia"/>
              </a:rPr>
              <a:t>III- Hypertonic Solution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 solution with an osmalality higher than that of serum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 % 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عنصر نائب للمحتوى 3" descr="صورة1.png"/>
          <p:cNvPicPr/>
          <p:nvPr/>
        </p:nvPicPr>
        <p:blipFill>
          <a:blip r:embed="rId1"/>
          <a:stretch/>
        </p:blipFill>
        <p:spPr>
          <a:xfrm>
            <a:off x="914400" y="2359080"/>
            <a:ext cx="6692760" cy="3736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onic flui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مربع نص 4"/>
          <p:cNvSpPr/>
          <p:nvPr/>
        </p:nvSpPr>
        <p:spPr>
          <a:xfrm>
            <a:off x="3857760" y="3714840"/>
            <a:ext cx="1500120" cy="34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سهم إلى اليسار 6"/>
          <p:cNvSpPr/>
          <p:nvPr/>
        </p:nvSpPr>
        <p:spPr>
          <a:xfrm>
            <a:off x="4114800" y="4572000"/>
            <a:ext cx="128592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H2O+ 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سهم إلى اليسار 7"/>
          <p:cNvSpPr/>
          <p:nvPr/>
        </p:nvSpPr>
        <p:spPr>
          <a:xfrm>
            <a:off x="3505320" y="3962520"/>
            <a:ext cx="128592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nstantia"/>
              </a:rPr>
              <a:t>H2O+ 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8"/>
          <p:cNvSpPr/>
          <p:nvPr/>
        </p:nvSpPr>
        <p:spPr>
          <a:xfrm>
            <a:off x="380880" y="9144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F have a higher osmolarity than the ICF &amp;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s fluid and electrolytes from the ICF &amp;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IVF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ربع نص 9"/>
          <p:cNvSpPr/>
          <p:nvPr/>
        </p:nvSpPr>
        <p:spPr>
          <a:xfrm>
            <a:off x="3733920" y="396252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3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  <a:ea typeface="Arial"/>
              </a:rPr>
              <a:t>rd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7.40741E-007 L -0.15746 0.0419 E">
                                      <p:cBhvr>
                                        <p:cTn id="4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0231 L -0.17031 -0.00185 E">
                                      <p:cBhvr>
                                        <p:cTn id="4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elp stabilize blood pressure, increase urine output, and reduce edema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gerous in the setting of cell dehyd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1.4 % NS, Colloids &amp; blood produ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onic fluid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strips dir="l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عنصر نائب للمحتوى 3" descr="صورة1.png"/>
          <p:cNvPicPr/>
          <p:nvPr/>
        </p:nvPicPr>
        <p:blipFill>
          <a:blip r:embed="rId1"/>
          <a:stretch/>
        </p:blipFill>
        <p:spPr>
          <a:xfrm>
            <a:off x="1066680" y="2286000"/>
            <a:ext cx="6693120" cy="43894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otonic fluid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مربع نص 4"/>
          <p:cNvSpPr/>
          <p:nvPr/>
        </p:nvSpPr>
        <p:spPr>
          <a:xfrm>
            <a:off x="3733920" y="4267080"/>
            <a:ext cx="150012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  <a:ea typeface="Arial"/>
              </a:rPr>
              <a:t>rd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سهم مسنن إلى اليمين 8"/>
          <p:cNvSpPr/>
          <p:nvPr/>
        </p:nvSpPr>
        <p:spPr>
          <a:xfrm>
            <a:off x="1752480" y="4495680"/>
            <a:ext cx="1643040" cy="484200"/>
          </a:xfrm>
          <a:custGeom>
            <a:avLst/>
            <a:gdLst>
              <a:gd name="textAreaLeft" fmla="*/ 120960 w 1643040"/>
              <a:gd name="textAreaRight" fmla="*/ 1522080 w 1643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417" y="5400"/>
                </a:lnTo>
                <a:lnTo>
                  <a:pt x="18417" y="0"/>
                </a:lnTo>
                <a:lnTo>
                  <a:pt x="21600" y="10800"/>
                </a:lnTo>
                <a:lnTo>
                  <a:pt x="18417" y="21600"/>
                </a:lnTo>
                <a:lnTo>
                  <a:pt x="18417" y="16200"/>
                </a:lnTo>
                <a:lnTo>
                  <a:pt x="0" y="16200"/>
                </a:lnTo>
                <a:lnTo>
                  <a:pt x="159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2O+ 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مستطيل 6"/>
          <p:cNvSpPr/>
          <p:nvPr/>
        </p:nvSpPr>
        <p:spPr>
          <a:xfrm>
            <a:off x="304920" y="9144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F have a lower osmolarity than the ICF &amp;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s fluid and electrolytes from the IVF into the ICF &amp;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073 -0.01457 0.06163 -0.02891 0.07396 -0.03446 E">
                                      <p:cBhvr>
                                        <p:cTn id="7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1 -0.04972 0.03038 -0.09945 0.03646 -0.11934 E">
                                      <p:cBhvr>
                                        <p:cTn id="75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helpful when cells are dehydrated, hyperglycemic, diabetic ketoacidosi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ause cardiovascular collapse and increased Intracranial pressure (ICP) in some patien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.45% Nacl, D5NS.45 (5% dextrose in 1/2 normal saline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otonic fluid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عنصر نائب للمحتوى 3" descr="صورة1.png"/>
          <p:cNvPicPr/>
          <p:nvPr/>
        </p:nvPicPr>
        <p:blipFill>
          <a:blip r:embed="rId1"/>
          <a:stretch/>
        </p:blipFill>
        <p:spPr>
          <a:xfrm>
            <a:off x="1066680" y="2468520"/>
            <a:ext cx="6693120" cy="4389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0600" y="473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otonic fluid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مربع نص 4"/>
          <p:cNvSpPr/>
          <p:nvPr/>
        </p:nvSpPr>
        <p:spPr>
          <a:xfrm>
            <a:off x="3581280" y="4419720"/>
            <a:ext cx="15004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  <a:ea typeface="Arial"/>
              </a:rPr>
              <a:t>rd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انفجار 2 10"/>
          <p:cNvSpPr/>
          <p:nvPr/>
        </p:nvSpPr>
        <p:spPr>
          <a:xfrm>
            <a:off x="1143000" y="3886200"/>
            <a:ext cx="1752480" cy="1066680"/>
          </a:xfrm>
          <a:prstGeom prst="irregularSeal2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20+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مستطيل 11"/>
          <p:cNvSpPr/>
          <p:nvPr/>
        </p:nvSpPr>
        <p:spPr>
          <a:xfrm>
            <a:off x="390600" y="12906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F have same osmolarity as the ICF &amp;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stay inside the IV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6.11471E-006 C -0.04844 -0.06338 -0.0967 -0.12651 -0.07934 -0.10732 C -0.06198 -0.08812 0.07326 0.07862 0.10382 0.11586 E">
                                      <p:cBhvr>
                                        <p:cTn id="97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10cf9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 few hours 80 % goes into 3 rd space while 20% stay in IV ( we need 3 liters of isotonic fluid to replace 1 liter of blood los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10cf9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helpful in hypotensive or hypovolemic pati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10cf9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Lactated Ringer's (LR), 0.9% 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otonic fluid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5D8-0947-4A7E-B7D4-26A3F7588AF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Average daily intake and output in an adult</a:t>
            </a:r>
            <a:r>
              <a:rPr b="1" i="1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Intake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Outpu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ral Liquids       1300ml.             Urine                1500m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ater in foods   1000ml.             Stool                 200m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ater produced                           Insensible lungs 300ml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y metabolism  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300ml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Skin         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        600ml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2600ml                                     2600m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Normal Lab Results</a:t>
            </a: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→    135−14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+ →    3.5−5.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++→  8.5−10.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 →   96−106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g→  1.5−2.5mEq/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Fluid Volume Disturbance</a:t>
            </a:r>
            <a:r>
              <a:rPr b="1" i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Hypovolemia (fluids volume deficit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ng Factor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water and electroly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( vomiting,diarrhea,burn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take. e.g. (anorexia, nausea, inability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access to flu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isease.e.g (D.M, Diabetic Insipidu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s and symptom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loss, general weakness, dizziness, increase pu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&amp; Diagnostic eval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History &amp; Physical exa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BUN &amp; Creatin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ocrit level “great than normal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specific gravit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electrolytes lev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28520" indent="-20556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kalemia  in case of GI &amp; renal lo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28520" indent="-20556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 in case of adrenal insufficien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28520" indent="-205560">
              <a:lnSpc>
                <a:spcPct val="15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natremia in case of ↑insensible losses &amp; diabetic inseped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Users\rtumala\Pictures\Fluid and Electrolytes Imbalance Pictures\hypovolemic shock.jpg"/>
          <p:cNvPicPr/>
          <p:nvPr/>
        </p:nvPicPr>
        <p:blipFill>
          <a:blip r:embed="rId1"/>
          <a:stretch/>
        </p:blipFill>
        <p:spPr>
          <a:xfrm>
            <a:off x="611280" y="620640"/>
            <a:ext cx="4105080" cy="5400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rtumala\Pictures\Fluid and Electrolytes Imbalance Pictures\hypovolemic shock 1.jpg"/>
          <p:cNvPicPr/>
          <p:nvPr/>
        </p:nvPicPr>
        <p:blipFill>
          <a:blip r:embed="rId2"/>
          <a:stretch/>
        </p:blipFill>
        <p:spPr>
          <a:xfrm>
            <a:off x="4716360" y="620640"/>
            <a:ext cx="39528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57200" y="457560"/>
            <a:ext cx="830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♣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eatment of the causes of FVD  should  be go with treatment of FVD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influence the pt fluid needs should be taken in consi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ase of sever or acute FVD   IV replacement should be sta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 solutions used to treat hypotension resulted from F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al function &amp; hemodynamic status should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 I&amp;O as needed “ur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 V/S, skin turgor , mental status &amp; daily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sive Hemodynamic CVP, arter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uth care &amp; ↓ irritating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harbi</dc:creator>
  <dc:description/>
  <dc:language>en-US</dc:language>
  <cp:lastModifiedBy>Alharbi</cp:lastModifiedBy>
  <cp:lastPrinted>2015-08-30T10:43:26Z</cp:lastPrinted>
  <dcterms:modified xsi:type="dcterms:W3CDTF">2015-10-22T09:11:45Z</dcterms:modified>
  <cp:revision>190</cp:revision>
  <dc:subject/>
  <dc:title>الشريحة 1</dc:title>
</cp:coreProperties>
</file>