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293-3BC5-4C2B-AFA3-5E4883DBDF33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CE7-2E7C-413A-A44E-91BFE711BEF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8CC-1A34-4369-A4A8-75FB6D17D3E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ABC-4AC4-443F-AFE5-C9DDE384F80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7E6-8FF1-4425-8A9F-4F4800748DA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9D2-1FCB-4A96-9D7F-EB539D6DE0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2A37-A54B-48FD-A436-5419D0274E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1DE-A025-4C12-9BCA-564B2A7536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631-685E-4E34-82A9-458796A43D9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43A9-311F-4D8B-B49D-E5D9EE8803A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2D56-0348-4773-8192-7EDE8F7E7F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B374-280B-4718-B5EC-B4476D9A7A3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BFB0-B0AC-49FC-A579-E50FAA5536E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50F5-E6E9-4349-825E-A355FEAFAE2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148-7EB3-44F2-A0B0-800B003C19C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220-B742-4AF9-9602-76C275B8E87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F09-51FD-4E17-BC3C-49C4683918A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231-629C-49CD-B7AE-CEA2F439196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F395-F965-4F4C-B767-1B3C64D52D9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ECC-18CB-4292-B160-924259A5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E83-2EF6-47E2-B238-3303DCBE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7B4-2BE7-418E-84BE-1FB5CAA8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373-E4EA-42F3-89CC-E3E60989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559-4C43-4063-AEE4-E4EBEAE9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551D-DEC0-4BC3-9646-E902983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3EAE-2D78-496E-B6B4-3C64672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6A3-E1D0-41BC-AEA2-86340609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9BDB-A690-48CC-90E5-B714750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132-8254-4F12-A68A-839641C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E080-3F3E-42CF-A70B-33AC86A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16E-5D1D-4E26-81E4-AF43C0E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C2E6-3B88-4442-9682-7FEB52C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FBA-73B7-4F92-81E2-59484BC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2B68-7C70-4893-8FD4-F805050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C15E-0E9D-4DF5-A6B0-A82C3D1D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155-C6DE-4CC8-B43B-55A51888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C11C-015C-4E97-A325-DEA15FA3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D4F6-7CFB-4405-8051-6CE63000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07BA-F03A-4DAE-BA84-1DF8A5CF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91CC-FA4C-4B67-B1A3-7D031FC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7AB4-0C05-4B36-9BA9-6800C705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55B-6AE9-4852-9990-5F42085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5774-D7B0-401D-8F05-4BB4155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66BF-FCF2-4129-9E56-7E7CCB4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513F-4DC3-42B4-84AA-29D5DAA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75C2-67A2-48F9-9510-D49C426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028A-7B6B-4533-928F-3AFB7B77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8651-B5FE-4B36-A675-59C12566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27D9-68AE-4BE2-9743-A50C9958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1D72-59D5-49EF-8D9C-380F236F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1414-C770-4209-B25A-358D2E0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35B9-A215-41FA-8B48-1254905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9F8-550E-43B9-BD29-46FDC394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D0B9-9F81-4F5F-8519-9795C04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FADA-8883-4EC4-812C-71AD968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86E1-A09F-470C-9E90-E7F6FEA8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57EC-630F-412F-93DA-88F2DFF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0108-43C8-4247-BA07-45A41D7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7405-2A09-462C-B2DF-12B4281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DCEC-A920-40E9-8163-57C53148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E577-51DD-43B3-BCCC-90C64D0C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5C38-4443-462B-AA58-07B6D7FB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5155-3FB6-43A1-BF2F-68D5ABA7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D52-6069-4C06-8189-33B2CD5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2397-EA5E-4979-9308-82F0BD5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AC0D-E134-4415-BBF8-B4DE756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F962-2046-44B0-A1A5-A7115DA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27C6-568A-4596-841E-1671FFD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CCC2-1246-45A2-9A09-FB8AA6F8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17E3-874C-4C5C-8EAA-EBA97247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4F9A-2849-4508-B789-C053386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DF9F-69B5-466D-AE97-A164A70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102C-98FA-49F0-B2B6-6B05B149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F46E-B81B-4436-B485-49FB43EA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518-4762-424B-902C-74E5490B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457E2-A9A0-48F4-B54C-5D023311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2A8-F632-4BE5-B918-6EE3E0E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A56-073D-48B1-93DF-D13E02E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BE9-9617-48E0-BFDE-52AF375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3E3F-5FAE-4CDB-B244-6E1FF1848B80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12BB-0AFF-4252-B88A-EA29F7802EB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927-95E1-4E24-AF7A-C9398C1EB1EC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D406-6733-4608-94B7-663B15219FAB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9DC7-57E6-4A43-97D5-75F1D19F7063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8C4-919E-437A-B76C-FBCC5AC0274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389-65F4-4D4D-B52B-ADD8E39DE012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547-EB36-49C3-8A4C-E4C0E959D37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751F-B79D-4F1F-9E64-9DA07D7D94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oc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0D7E-BB67-40C7-8702-B275C854C93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-Assessment</a:t>
            </a: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9200" y="1130040"/>
            <a:ext cx="80010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Collecting Da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of gathering information about clients, and health sta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Data collection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Interview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Source of da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 client, Client records.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Health care profession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 Support people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laboratory and diagnostic stu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3D3-5C82-473B-9CD4-308D28E198AF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I-Nursing Diagnosis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77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inical judgment about individual, family or community responses to actual and potential health problems/life proces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 proce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Analyz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ing health problem, risks and strengt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Formulating nursing diagnosis stat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0901-DE92-4908-9B65-FF6B96E62A3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ypes of nursing diagnosis</a:t>
            </a: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130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An actual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a client problem that is present at the time of nursing assess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sk nursing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a clinical judgment that a problem does not exit, but the presence of risk factors indicate that a problem is likely to develop unless nurses intervention. e.g. risk for inf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C51E-2974-42EB-9FF0-355DCBE6C3C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Nursing Diagnos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 NANDA nursing diagnosis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Basic two or three-part statement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Problem: ( diagnostic label 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words that have been added to some NANDA label to give additional meaning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tiology :( related factor and risk factor)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one or more probable causes of the health problem. The two components are linked by the related to (r/t) term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F63-11F1-4072-B8DD-731ADD0E1151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Nursing Diagnos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Defining characteristics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uster of sign and symptoms that indicate the presence of a particular diagnostic label. The characteristics are linked to the other two components by the term” as evidenced by “ statement”.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E5D-D0D6-40BA-8AC8-AC777EE3B28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4617b"/>
                </a:solidFill>
                <a:latin typeface="Calibri"/>
              </a:rPr>
              <a:t>APPENDIX C 2007</a:t>
            </a:r>
            <a:r>
              <a:rPr b="0" lang="en-US" sz="21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04617b"/>
                </a:solidFill>
                <a:latin typeface="Calibri"/>
              </a:rPr>
              <a:t>2008 NANDA-Approved Nursing Diagnoses</a:t>
            </a:r>
            <a:br>
              <a:rPr sz="2100"/>
            </a:br>
            <a:endParaRPr b="0" lang="en-US" sz="2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ctivity Intoleranc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ctivity Intolerance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irway Clearance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nxiet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nxiety, Death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spir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ttachment, Parent/Infant/Child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Impair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utonomic Dysreflexi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utonomic Dysreflexia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lood Glucose, Risk for Unstabl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dy Image, Disturb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dy Temperature: Imbalanced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wel Incontinenc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Interrupt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thing Pattern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diac Output, Decreas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egiver Role Strai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egiver Role Strai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fort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munication: Impaired, Verbal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munication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Acut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Acute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Chronic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, Perceiv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taminatio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tamin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: Community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: Community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, Defens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B58-58B4-4622-B11D-69734343F22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n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Actual Nursing Diagnosis</a:t>
            </a:r>
            <a:r>
              <a:rPr b="0" i="1" lang="en-US" sz="2800" spc="-1" strike="noStrike">
                <a:solidFill>
                  <a:srgbClr val="04617b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written as a three-part statement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71320" y="2146320"/>
            <a:ext cx="800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effective air way cleara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or 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lated to  accumulation of tracheo-bronchial secretion or decrease energy secondary to surg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and symp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idenced by abnormal breath sound, cough , change rate and depth of respir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DC7E-0951-434C-BC40-EB38F4D59B5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A Risk or Potential Diagnosis</a:t>
            </a:r>
            <a:r>
              <a:rPr b="0" i="1" lang="en-US" sz="2800" spc="-1" strike="noStrike">
                <a:solidFill>
                  <a:srgbClr val="04617b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written as a two-part state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Labe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skin integrit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or Caus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prolonged bed res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B69-E7EB-4E0B-A880-5CB3E649A46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II- PLANN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812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directly toward solving or alleviating the problem identified in nursing diag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plann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itial 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who performs the admission assessment usually develops the initial comprehensive plan of ca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Ongoing plann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done by all nurses who work with the cl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t is the beginning of shift as the nurse plans the care to be given that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Discharge plann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anticipating and planning for needs after dischar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D0E7-01F3-48DD-9443-2F9C0AAFECA1}" type="slidenum"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lanning Process</a:t>
            </a: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iorit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client goals/desired out c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nursing strategies(action or intervention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nursing care pl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4CA9-0433-4B9E-A8DC-B35796742E8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36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692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s ?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5B6-E367-422F-9502-96902581863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8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etting priorities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stablishes the priorities of the nursing diagnoses by ranking them in order of importance to meet the client’s immediate nee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s are classified as high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, low prior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Ineffective airway clearance after surgery related to abdominal incision p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Altered nutrition less than body requirements related to chronic diarrhea for 3 wee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   knowledge deficit related to smoking cessation pr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101-45A0-438E-AF49-14D7F15C76D7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stablishing client goal/desired out com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47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goals are stated in terms of the patient behaviors and time period in which they are to be achiev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goals must be realistic, measurable, and specific, indicate a definite time frame for achievement and consider patients desired an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asurable verbs are state that, report that, demonstrate, perform, identifies adapt, increase, decrea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.g. patient will ambulate using cane within 48hrs after surg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.g. patient will identifies nutritional needs within 36h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C930-7B38-4BD5-AE82-B43C7549455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lient goals may be divided into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74200" y="144612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e2d7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reached within a short period e.g. demonstrates the intake of 1500 calories of diabetic diet spaced in three meals and one snack per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e2d7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and long term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quired longer time to be achieved and usually involves preventing complications and other health problem and promoting self-care and rehabilitation e.g. plans meals for 1 week based on diabetic exchange list or adheres to prescribed diabetic di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29DF-575A-4853-AE73-8456A0017883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electing nursing strategies(intervention or action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320" y="147456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lecting nursing intervention and activities are actions that nurse performs to a achieve client go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specific strategies chosen should focus on eliminating or   reducing the etiolo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Nursing Interven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dependent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those activities that nurses are licensed to initiate on the basis of their knowledge and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Dependent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activities carried out under the physician ord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llabor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actions the nurse carries out in collaboration with other health team memb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E4CC-5617-4C14-AA28-A65CEF13E071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riteria for choosing nursing strategies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afe and appropriate for pat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n achievable with the resources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ngruent with other strateg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termined by state la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Writing Nursing Orde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ate.                               2- Action verb.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ntent area.                  4- Time element.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Signat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3B53-CF82-4DB1-949D-39D60E7B7630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V-Implementing</a:t>
            </a:r>
            <a:r>
              <a:rPr b="0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hase in which the nurse puts the nursing care plan into a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ocess of implemen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mplementing the nursing orders( strategies)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Determining the nurse need for assista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elegating and Supervi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Communicating the nursing 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21B5-8F67-4E5F-BC98-44803708562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98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- Evaluating</a:t>
            </a: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34136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a planned, ongoing, purposeful activity in which clients and health care professionals determin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6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clients progress toward goals an achie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6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effectiveness of the nursing care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ocess of evaluating client respon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Reassessment of cl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Compare the data with desired out c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Relate nursing actions to client goals/desired outc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raw conclusions about problem sta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Continue to modify or terminate the clients care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092E-4768-4371-A004-BA2039E1BC1A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541080"/>
            <a:ext cx="878508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 Fatima 50 years old was admitted to the hospital with a diagnosis of congestive heart failure. She has lived alone for the last 2years since her husband died. She had not seen the physician for at least 2 years. At the last visit, the physician prescribed a moderately low-sodium diet, Lasix 40 mg daily, Calan, and multiple vitamins. On admission her vital signs were BP 180/90, P 98, R 22. Her weight indicated a gain of 10 pounds since the last visit. Her physical assessment indicated rales in the lung bases, 3+ edema of the ankle and difficulty of breathing in the supine 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Nursing care Plan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50920" y="1341360"/>
          <a:ext cx="8642160" cy="5426280"/>
        </p:xfrm>
        <a:graphic>
          <a:graphicData uri="http://schemas.openxmlformats.org/drawingml/2006/table">
            <a:tbl>
              <a:tblPr/>
              <a:tblGrid>
                <a:gridCol w="2162160"/>
                <a:gridCol w="1871640"/>
                <a:gridCol w="2374920"/>
                <a:gridCol w="2233440"/>
              </a:tblGrid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ursing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patient probl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pected Out come /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he patient w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ursing Inter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reathing pattern ineffective related to pulmonary congestion as evidenced by rales sound on base of lung and difficulty in breathing in supine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e able to breath easily within one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 Put on fowler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 Administer oxygen thera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 Provide good ventilated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 Administer medication as prescri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 Re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 rales sound on base of 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spiration pattern within normal 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D08-DA1E-48B9-B3ED-59C2D20C72B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0680" y="115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Learning Objectivit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8440" y="119700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completion of this lecture the learner will be able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 nursing proces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term assessment and describe how it influences the nursing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 nursing diagnos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outcome identification and planning, and give an example of this step in the nursing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what is meant by the implementation phase of the nursing process.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741-E435-467E-A90B-E8D952F5E72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ursing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ystematic, rational method of planning and providing individualized nursing c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ystematic problem- solving approach for meeting a person’s health care and nursing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zed sequence of steps that nurses use to solve the health problems of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E3B-1DCB-432F-934E-8A970A7B012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0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urpose of Nursing Process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Identify a client health status and actual or potential health care problems and nee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stablish plans to meet the identifying nee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eliver specific nursing intervention to meet nee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F33F-9D23-40C2-BAC3-C588A6CB906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4960" y="404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enefits of Nursing Proces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9080" y="12934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n orderly &amp; systematic method for planning &amp; providing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nursing efficiency by standardizing nursing pract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unity of language for the nursing prof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conomi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 the independent function of nu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care quality through the use of deliberate 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102-AEAE-4786-8993-A58B423C93A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2100" spc="-1" strike="noStrike">
                <a:solidFill>
                  <a:srgbClr val="04617b"/>
                </a:solidFill>
                <a:latin typeface="Calibri"/>
              </a:rPr>
              <a:t>The Nursing Process consist of a series of five component or phases</a:t>
            </a:r>
            <a:r>
              <a:rPr b="1" lang="en-US" sz="2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2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1" name="Diagram 28"/>
          <p:cNvGrpSpPr/>
          <p:nvPr/>
        </p:nvGrpSpPr>
        <p:grpSpPr>
          <a:xfrm>
            <a:off x="2319840" y="2006640"/>
            <a:ext cx="4381920" cy="4169520"/>
            <a:chOff x="2319840" y="2006640"/>
            <a:chExt cx="4381920" cy="4169520"/>
          </a:xfrm>
        </p:grpSpPr>
        <p:sp>
          <p:nvSpPr>
            <p:cNvPr id="272" name="_s1028"/>
            <p:cNvSpPr/>
            <p:nvPr/>
          </p:nvSpPr>
          <p:spPr>
            <a:xfrm>
              <a:off x="3352680" y="2006640"/>
              <a:ext cx="2314800" cy="23148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29"/>
            <p:cNvSpPr/>
            <p:nvPr/>
          </p:nvSpPr>
          <p:spPr>
            <a:xfrm rot="4320000">
              <a:off x="4086000" y="2540160"/>
              <a:ext cx="2314440" cy="23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0"/>
            <p:cNvSpPr/>
            <p:nvPr/>
          </p:nvSpPr>
          <p:spPr>
            <a:xfrm rot="8640000">
              <a:off x="3804840" y="340200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1"/>
            <p:cNvSpPr/>
            <p:nvPr/>
          </p:nvSpPr>
          <p:spPr>
            <a:xfrm rot="12960000">
              <a:off x="2898360" y="3399840"/>
              <a:ext cx="2314440" cy="23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032"/>
            <p:cNvSpPr/>
            <p:nvPr/>
          </p:nvSpPr>
          <p:spPr>
            <a:xfrm rot="17280000">
              <a:off x="2620800" y="253800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3"/>
            <p:cNvSpPr/>
            <p:nvPr/>
          </p:nvSpPr>
          <p:spPr>
            <a:xfrm>
              <a:off x="5103720" y="2105280"/>
              <a:ext cx="8510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5735520" y="404496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agn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035"/>
            <p:cNvSpPr/>
            <p:nvPr/>
          </p:nvSpPr>
          <p:spPr>
            <a:xfrm>
              <a:off x="3065400" y="2105280"/>
              <a:ext cx="8510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6"/>
            <p:cNvSpPr/>
            <p:nvPr/>
          </p:nvSpPr>
          <p:spPr>
            <a:xfrm>
              <a:off x="4084560" y="524520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7"/>
            <p:cNvSpPr/>
            <p:nvPr/>
          </p:nvSpPr>
          <p:spPr>
            <a:xfrm>
              <a:off x="2433600" y="404496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A54C-64B5-4008-8302-442C30BD333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haracteristics of nursing process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yclic and dynami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lient center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lann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al direc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niversally applic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D25-CBAD-4923-B8AF-0E5DE143FCA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ess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Assess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ic collection of data to determine the patient health status and identify any actual or potential health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essment process involve four closely activit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  Collec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-  Organiz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 Valida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Documen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B2FF-D8A9-414B-B46D-C50CFA019E6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omani</cp:lastModifiedBy>
  <dcterms:modified xsi:type="dcterms:W3CDTF">2015-08-30T10:04:29Z</dcterms:modified>
  <cp:revision>172</cp:revision>
  <dc:subject/>
  <dc:title>الشريحة 1</dc:title>
</cp:coreProperties>
</file>