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dt" idx="1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onstantia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ftr" idx="1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 type="sldNum" idx="1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onstantia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8BE36-DBE0-4B9A-A0C3-D0445D93F7FE}" type="slidenum">
              <a:rPr b="0" lang="ar-SA" sz="12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1606D-B692-413A-89CA-6C7E90581F07}" type="slidenum">
              <a:rPr b="0" lang="ar-SA" sz="1200" spc="-1" strike="noStrike">
                <a:solidFill>
                  <a:srgbClr val="000000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B1A0C-400F-49A3-8BB2-5A0534DCD44F}" type="slidenum">
              <a:rPr b="0" lang="ar-SA" sz="1200" spc="-1" strike="noStrike">
                <a:solidFill>
                  <a:srgbClr val="000000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E6D05-1A24-42C9-9F13-4C2CD2DE1904}" type="slidenum">
              <a:rPr b="0" lang="ar-SA" sz="1200" spc="-1" strike="noStrike">
                <a:solidFill>
                  <a:srgbClr val="000000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8F97B-9543-409D-8E63-DBA0A8E54DAE}" type="slidenum">
              <a:rPr b="0" lang="ar-SA" sz="1200" spc="-1" strike="noStrike">
                <a:solidFill>
                  <a:srgbClr val="000000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16BAC-ADAC-4DDB-BEC7-904F2FF7F341}" type="slidenum">
              <a:rPr b="0" lang="ar-SA" sz="1200" spc="-1" strike="noStrike">
                <a:solidFill>
                  <a:srgbClr val="000000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BB367-5FF9-4A24-B59A-00A6C36DAE84}" type="slidenum">
              <a:rPr b="0" lang="ar-SA" sz="1200" spc="-1" strike="noStrike">
                <a:solidFill>
                  <a:srgbClr val="000000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CC3F9-09AB-4388-AC25-D03F62BF6470}" type="slidenum">
              <a:rPr b="0" lang="ar-SA" sz="1200" spc="-1" strike="noStrike">
                <a:solidFill>
                  <a:srgbClr val="000000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531FD-8C2A-4639-A775-38C16520F499}" type="slidenum">
              <a:rPr b="0" lang="ar-SA" sz="1200" spc="-1" strike="noStrike">
                <a:solidFill>
                  <a:srgbClr val="000000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5456C-8F31-4E0A-B12E-A73FF2C40C49}" type="slidenum">
              <a:rPr b="0" lang="ar-SA" sz="1200" spc="-1" strike="noStrike">
                <a:solidFill>
                  <a:srgbClr val="000000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6E132-460B-4F96-A60B-E0890674EACD}" type="slidenum">
              <a:rPr b="0" lang="ar-SA" sz="1200" spc="-1" strike="noStrike">
                <a:solidFill>
                  <a:srgbClr val="000000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1DF38-143E-453C-A36C-E2713C53D7F8}" type="slidenum">
              <a:rPr b="0" lang="ar-SA" sz="1200" spc="-1" strike="noStrike">
                <a:solidFill>
                  <a:srgbClr val="000000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A7D85-3F3B-4D5D-9AE7-E5C03C5379C7}" type="slidenum">
              <a:rPr b="0" lang="ar-SA" sz="1200" spc="-1" strike="noStrike">
                <a:solidFill>
                  <a:srgbClr val="000000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6E991-2F30-4557-9C0D-D629974665E2}" type="slidenum">
              <a:rPr b="0" lang="ar-SA" sz="1200" spc="-1" strike="noStrike">
                <a:solidFill>
                  <a:srgbClr val="000000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AB1B3-4F85-4DAD-A9F7-93E9E25B89E5}" type="slidenum">
              <a:rPr b="0" lang="ar-SA" sz="1200" spc="-1" strike="noStrike">
                <a:solidFill>
                  <a:srgbClr val="000000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5E751-A6FE-4B04-92B6-94DCE88302E2}" type="slidenum">
              <a:rPr b="0" lang="ar-SA" sz="1200" spc="-1" strike="noStrike">
                <a:solidFill>
                  <a:srgbClr val="000000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F196D-5D69-4581-9AA8-397F28DBC1D4}" type="slidenum">
              <a:rPr b="0" lang="ar-SA" sz="1200" spc="-1" strike="noStrike">
                <a:solidFill>
                  <a:srgbClr val="000000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02F85-4E61-449F-8837-BD95644C14E5}" type="slidenum">
              <a:rPr b="0" lang="ar-SA" sz="1200" spc="-1" strike="noStrike">
                <a:solidFill>
                  <a:srgbClr val="000000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112EE-34C7-40CB-8D7D-5A75CB519574}" type="slidenum">
              <a:rPr b="0" lang="ar-SA" sz="1200" spc="-1" strike="noStrike">
                <a:solidFill>
                  <a:srgbClr val="000000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D701-4EC7-4EC1-8946-1B92C7CCE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1E74-D07E-4074-926F-1AAEBE1E7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14DB-C3C0-4973-BA45-6F19D8219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CC38-FD49-4088-AFEB-CB1FDEC20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E1008-79D0-4065-9417-0B1CF6983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DB0FB-B519-469D-9DB9-DBE9300C5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A555D-8555-4B43-B465-2248C1502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5CC0B-55ED-42C0-9AA2-9D23BBD7C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3CD45-AB9E-47B5-8193-BFA848921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7B3CB-9574-4FB9-81F3-C175A3BDB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597E1-2C69-4192-BB59-D9565033B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42C2-CC44-4B73-9982-B60991B93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825E5-3119-41D4-B38A-D5C7137B6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E00BC-21E8-4E61-930B-5A19F552E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B52A8-0C08-4128-979C-1D9A9B4DD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C7C4C-53DF-4028-A8DF-369B42DFA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BDCAD-C26D-458E-A450-DE4764108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C28B76-69FC-478F-8A96-FAF21DE50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89B3B7-07DB-469D-A1C3-30DB25EC3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4C3B69-CE41-4CA0-9C6F-D760118C9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1F1B05-1D96-4691-8CA2-ED4C95AAE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45F89C-6338-465C-BC08-B7CAC05F4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85BF-4CF0-4DCC-B361-4876DA997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ADFAD3-7CFD-402F-B2B4-F4A784069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AB9FC4-86A0-4936-9E01-9E28F2FA6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54CE84-4F7E-4E8A-92AB-6917FAAF0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B2ABE7-292A-4408-B0ED-A8ECEEA22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0FDE54-A745-4FFC-BC85-36931061D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37C71A-A14B-4246-9B3C-4442ACD43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5C653C-77A9-4257-9BAE-6A109F7D7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889985-8A4C-4E08-B027-94ED118D1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3D0B99-11F5-4312-AC42-5AB7321CC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CF578F-FA94-424E-BAB4-2BF3D537D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6131-EA2D-4F3A-BB26-706A0FD41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4697E7-9464-4EAD-989C-66BA6F61B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E67CB7-03E6-4B51-A258-C13E49FC5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0D1F9F-5B0B-4F9E-B128-008C0C3CE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901AE3-7A98-41E6-9B71-C441498ED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D06D6E-035E-41A0-8347-FED079C27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F49CF3-F4A6-498A-92DE-1AC152467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21C157-CF7A-4F43-BF53-83ED46210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3B135C-4779-4B8D-9A7B-49EED2D0E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A5CF7C-7553-4B86-92D3-BE79568A2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EAA734-9A63-4804-B6EA-3B8691464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59D8-B909-442D-8CC0-89E410276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B66086-9B77-49EF-BD4A-7A7B34633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08F9C9-9D36-4AD7-B19F-9B1E5702A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481445-B455-4144-B577-B57BE8566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E57F7A-41E3-4BFE-A24D-5A2FD8EA7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DF15B0-8B8E-4FF8-BAB6-71711E78B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ACF10B-C1AB-4605-8E63-345CEC48D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FABE24-7E23-4E6F-B33C-569DE285C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170331-5B6A-4428-AEBA-7E989940C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4B4651-A3CA-443C-80EC-B0E77BC37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E02D71-0AFD-4E56-905E-E323365AC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3BD9-FA85-4C37-A0FF-B0164CA54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C15B21-BDC2-4F22-AE34-AFE88D859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C8C5-5491-4810-905B-525334B70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08EC-DE62-47A5-B112-9D870C6F8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E9B6-963E-41E7-9B5E-9196E5445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شكل حر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شكل حر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73ED5-F2F9-43CF-B39F-084A071AD1CB}" type="datetime">
              <a:rPr b="0" lang="ar-SA" sz="1200" spc="-1" strike="noStrike">
                <a:solidFill>
                  <a:srgbClr val="045c75"/>
                </a:solidFill>
                <a:latin typeface="Constantia"/>
              </a:rPr>
              <a:t>١٤٤٨/٠٢/١٥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5F202-5A5C-4F6D-A902-20D4F5B3ECD0}" type="slidenum">
              <a:rPr b="0" lang="ar-S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مجموعة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شكل حر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شكل حر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شكل حر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شكل حر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شكل حر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شكل حر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مجموعة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شكل حر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شكل حر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شكل حر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شكل حر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22BC7-8B26-48B0-B03D-CD40EEEF189F}" type="datetime">
              <a:rPr b="0" lang="ar-SA" sz="1200" spc="-1" strike="noStrike">
                <a:solidFill>
                  <a:srgbClr val="d1eaee"/>
                </a:solidFill>
                <a:latin typeface="Constantia"/>
              </a:rPr>
              <a:t>١٤٤٨/٠٢/١٥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7A194-E717-4C51-9D7D-1C1D6608926E}" type="slidenum">
              <a:rPr b="0" lang="ar-SA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شكل حر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شكل حر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مجموعة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شكل حر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شكل حر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شكل حر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شكل حر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3F5D8-B7E5-4160-ACA6-D1B4D7AFD956}" type="datetime">
              <a:rPr b="0" lang="ar-SA" sz="1200" spc="-1" strike="noStrike">
                <a:solidFill>
                  <a:srgbClr val="d1eaee"/>
                </a:solidFill>
                <a:latin typeface="Constantia"/>
              </a:rPr>
              <a:t>١٤٤٨/٠٢/١٥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FCF1E-7CAB-4B63-8DF4-D922A1A2D2A8}" type="slidenum">
              <a:rPr b="0" lang="ar-SA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مستطيل ذو زاوية واحدة مخدوشة ودائرية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مثلث قائم الزاوية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شكل حر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شكل حر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7C2EC-7F7F-4F25-B08F-B506A47D19C2}" type="datetime">
              <a:rPr b="0" lang="ar-SA" sz="1200" spc="-1" strike="noStrike">
                <a:solidFill>
                  <a:srgbClr val="045c75"/>
                </a:solidFill>
                <a:latin typeface="Constantia"/>
              </a:rPr>
              <a:t>١٤٤٨/٠٢/١٥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EA7FD-189A-40A0-8EB0-78AD61F1B74A}" type="slidenum">
              <a:rPr b="0" lang="ar-S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شكل حر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شكل حر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مجموعة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شكل حر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99" name="شكل حر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شكل حر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2" name="شكل حر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C66E5-4EE6-4167-B627-2C65E7C5B699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457200" y="333000"/>
            <a:ext cx="8229600" cy="57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ng Saud University</a:t>
            </a:r>
            <a:br>
              <a:rPr sz="2400"/>
            </a:b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lege of Nursing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ult Nursing (NUR 316)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rsing Process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" name="عنصر نائب لرقم الشريحة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FF321-5F90-471A-942A-A25EE9D26AE5}" type="slidenum">
              <a:rPr b="0" lang="ar-S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730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I-Assessment</a:t>
            </a:r>
            <a:r>
              <a:rPr b="0" lang="en-US" sz="48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: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39200" y="1130040"/>
            <a:ext cx="8001000" cy="503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542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Collecting Data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42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the process of gathering information about clients, and health statu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42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42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Data collection metho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42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-Interviewing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42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sical examina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42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42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Source of data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42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- client, Client records.             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42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- Health care professional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42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 Support people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42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- laboratory and diagnostic studi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83CC9-38C9-42EA-B693-CFED81400139}" type="slidenum">
              <a:rPr b="0" lang="ar-SA" sz="1200" spc="-1" strike="noStrike">
                <a:solidFill>
                  <a:srgbClr val="000000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853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II-Nursing Diagnosis</a:t>
            </a: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775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1908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rsing Diagnosi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 clinical judgment about individual, family or community responses to actual and potential health problems/life processes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1908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1908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rsing Diagnosis process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1908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- Analyzing data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1908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 Identifying health problem, risks and strength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1908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- Formulating nursing diagnosis statement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1908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1908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1908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4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F672B-C0F7-4CB5-9961-18F2D7EA8A04}" type="slidenum">
              <a:rPr b="0" lang="ar-SA" sz="1200" spc="-1" strike="noStrike">
                <a:solidFill>
                  <a:srgbClr val="000000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1184040"/>
            <a:ext cx="8229600" cy="780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Types of nursing diagnosis</a:t>
            </a:r>
            <a:r>
              <a:rPr b="1" lang="en-US" sz="4800" spc="-1" strike="noStrike">
                <a:solidFill>
                  <a:srgbClr val="04617b"/>
                </a:solidFill>
                <a:latin typeface="Calibri"/>
              </a:rPr>
              <a:t>:</a:t>
            </a:r>
            <a:br>
              <a:rPr sz="4800"/>
            </a:b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413000"/>
            <a:ext cx="8229600" cy="46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- An actual diagnosi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is a client problem that is present at the time of nursing assessment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risk nursing diagnosi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is a clinical judgment that a problem does not exit, but the presence of risk factors indicate that a problem is likely to develop unless nurses intervention. e.g. risk for infection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B61F7-217D-4B02-9831-85E70D3DA596}" type="slidenum">
              <a:rPr b="0" lang="ar-SA" sz="1200" spc="-1" strike="noStrike">
                <a:solidFill>
                  <a:srgbClr val="000000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89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17b"/>
                </a:solidFill>
                <a:latin typeface="Calibri"/>
              </a:rPr>
              <a:t>Nursing Diagnosis</a:t>
            </a:r>
            <a:r>
              <a:rPr b="1" lang="en-US" sz="3200" spc="-1" strike="noStrike">
                <a:solidFill>
                  <a:srgbClr val="04617b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566280" y="1413000"/>
            <a:ext cx="80010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s of  NANDA nursing diagnosis: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5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- Basic two or three-part statement: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5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- Problem: ( diagnostic label )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5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are words that have been added to some NANDA label to give additional meaning.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5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5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Etiology :( related factor and risk factor):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5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ntifies one or more probable causes of the health problem. The two components are linked by the related to (r/t) term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5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0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D1254-51E2-48CF-85B5-DC4813DF278C}" type="slidenum">
              <a:rPr b="0" lang="ar-SA" sz="1200" spc="-1" strike="noStrike">
                <a:solidFill>
                  <a:srgbClr val="000000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89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17b"/>
                </a:solidFill>
                <a:latin typeface="Calibri"/>
              </a:rPr>
              <a:t>Nursing Diagnosis</a:t>
            </a:r>
            <a:r>
              <a:rPr b="1" lang="en-US" sz="3200" spc="-1" strike="noStrike">
                <a:solidFill>
                  <a:srgbClr val="04617b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66280" y="1413000"/>
            <a:ext cx="80010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- Defining characteristics: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5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cluster of sign and symptoms that indicate the presence of a particular diagnostic label. The characteristics are linked to the other two components by the term” as evidenced by “ statement”. 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3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5792C-E049-4B3F-BEA7-B1A145848F7D}" type="slidenum">
              <a:rPr b="0" lang="ar-SA" sz="1200" spc="-1" strike="noStrike">
                <a:solidFill>
                  <a:srgbClr val="000000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4617b"/>
                </a:solidFill>
                <a:latin typeface="Calibri"/>
              </a:rPr>
              <a:t>APPENDIX C 2007</a:t>
            </a:r>
            <a:r>
              <a:rPr b="0" lang="en-US" sz="2100" spc="-1" strike="noStrike">
                <a:solidFill>
                  <a:srgbClr val="04617b"/>
                </a:solidFill>
                <a:latin typeface="Arial"/>
              </a:rPr>
              <a:t>–</a:t>
            </a:r>
            <a:r>
              <a:rPr b="0" lang="en-US" sz="2100" spc="-1" strike="noStrike">
                <a:solidFill>
                  <a:srgbClr val="04617b"/>
                </a:solidFill>
                <a:latin typeface="Calibri"/>
              </a:rPr>
              <a:t>2008 NANDA-Approved Nursing Diagnoses</a:t>
            </a:r>
            <a:br>
              <a:rPr sz="2100"/>
            </a:br>
            <a:endParaRPr b="0" lang="en-US" sz="2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lnSpc>
                <a:spcPct val="80000"/>
              </a:lnSpc>
              <a:spcBef>
                <a:spcPts val="2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tantia"/>
              </a:rPr>
              <a:t>Activity Intolerance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80000"/>
              </a:lnSpc>
              <a:spcBef>
                <a:spcPts val="2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tantia"/>
              </a:rPr>
              <a:t>Activity Intolerance, Risk for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80000"/>
              </a:lnSpc>
              <a:spcBef>
                <a:spcPts val="2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tantia"/>
              </a:rPr>
              <a:t>Airway Clearance, Ineffective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80000"/>
              </a:lnSpc>
              <a:spcBef>
                <a:spcPts val="2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tantia"/>
              </a:rPr>
              <a:t>Anxiety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80000"/>
              </a:lnSpc>
              <a:spcBef>
                <a:spcPts val="2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tantia"/>
              </a:rPr>
              <a:t>Anxiety, Death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80000"/>
              </a:lnSpc>
              <a:spcBef>
                <a:spcPts val="2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tantia"/>
              </a:rPr>
              <a:t>Aspiration, Risk for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80000"/>
              </a:lnSpc>
              <a:spcBef>
                <a:spcPts val="2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tantia"/>
              </a:rPr>
              <a:t>Attachment, Parent/Infant/Child, Risk for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80000"/>
              </a:lnSpc>
              <a:spcBef>
                <a:spcPts val="2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tantia"/>
              </a:rPr>
              <a:t>Impaired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80000"/>
              </a:lnSpc>
              <a:spcBef>
                <a:spcPts val="2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tantia"/>
              </a:rPr>
              <a:t>Autonomic Dysreflexia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80000"/>
              </a:lnSpc>
              <a:spcBef>
                <a:spcPts val="2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tantia"/>
              </a:rPr>
              <a:t>Autonomic Dysreflexia, Risk for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80000"/>
              </a:lnSpc>
              <a:spcBef>
                <a:spcPts val="2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tantia"/>
              </a:rPr>
              <a:t>Blood Glucose, Risk for Unstable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80000"/>
              </a:lnSpc>
              <a:spcBef>
                <a:spcPts val="2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tantia"/>
              </a:rPr>
              <a:t>Body Image, Disturbed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80000"/>
              </a:lnSpc>
              <a:spcBef>
                <a:spcPts val="2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tantia"/>
              </a:rPr>
              <a:t>Body Temperature: Imbalanced, Risk for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80000"/>
              </a:lnSpc>
              <a:spcBef>
                <a:spcPts val="2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tantia"/>
              </a:rPr>
              <a:t>Bowel Incontinence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80000"/>
              </a:lnSpc>
              <a:spcBef>
                <a:spcPts val="2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tantia"/>
              </a:rPr>
              <a:t>Breastfeeding, Effective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80000"/>
              </a:lnSpc>
              <a:spcBef>
                <a:spcPts val="2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tantia"/>
              </a:rPr>
              <a:t>Breastfeeding, Ineffective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80000"/>
              </a:lnSpc>
              <a:spcBef>
                <a:spcPts val="2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tantia"/>
              </a:rPr>
              <a:t>Breastfeeding, Interrupted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80000"/>
              </a:lnSpc>
              <a:spcBef>
                <a:spcPts val="2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tantia"/>
              </a:rPr>
              <a:t>Breathing Pattern, Ineffective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80000"/>
              </a:lnSpc>
              <a:spcBef>
                <a:spcPts val="2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tantia"/>
              </a:rPr>
              <a:t>Cardiac Output, Decreased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80000"/>
              </a:lnSpc>
              <a:spcBef>
                <a:spcPts val="2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tantia"/>
              </a:rPr>
              <a:t>Caregiver Role Strain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80000"/>
              </a:lnSpc>
              <a:spcBef>
                <a:spcPts val="2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tantia"/>
              </a:rPr>
              <a:t>Caregiver Role Strain, Risk for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80000"/>
              </a:lnSpc>
              <a:spcBef>
                <a:spcPts val="2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tantia"/>
              </a:rPr>
              <a:t>Comfort, Readiness for Enhanced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80000"/>
              </a:lnSpc>
              <a:spcBef>
                <a:spcPts val="2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tantia"/>
              </a:rPr>
              <a:t>Communication: Impaired, Verbal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80000"/>
              </a:lnSpc>
              <a:spcBef>
                <a:spcPts val="2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tantia"/>
              </a:rPr>
              <a:t>Communication, Readiness for Enhanced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80000"/>
              </a:lnSpc>
              <a:spcBef>
                <a:spcPts val="2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tantia"/>
              </a:rPr>
              <a:t>Confusion, Acute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80000"/>
              </a:lnSpc>
              <a:spcBef>
                <a:spcPts val="2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tantia"/>
              </a:rPr>
              <a:t>Confusion, Acute, Risk for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80000"/>
              </a:lnSpc>
              <a:spcBef>
                <a:spcPts val="2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tantia"/>
              </a:rPr>
              <a:t>Confusion, Chronic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80000"/>
              </a:lnSpc>
              <a:spcBef>
                <a:spcPts val="2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tantia"/>
              </a:rPr>
              <a:t>Constipation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80000"/>
              </a:lnSpc>
              <a:spcBef>
                <a:spcPts val="2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tantia"/>
              </a:rPr>
              <a:t>Constipation, Perceived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80000"/>
              </a:lnSpc>
              <a:spcBef>
                <a:spcPts val="2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tantia"/>
              </a:rPr>
              <a:t>Constipation, Risk for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80000"/>
              </a:lnSpc>
              <a:spcBef>
                <a:spcPts val="2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tantia"/>
              </a:rPr>
              <a:t>Contamination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80000"/>
              </a:lnSpc>
              <a:spcBef>
                <a:spcPts val="2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tantia"/>
              </a:rPr>
              <a:t>Contamination, Risk for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80000"/>
              </a:lnSpc>
              <a:spcBef>
                <a:spcPts val="2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tantia"/>
              </a:rPr>
              <a:t>Coping: Community, Ineffective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80000"/>
              </a:lnSpc>
              <a:spcBef>
                <a:spcPts val="2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tantia"/>
              </a:rPr>
              <a:t>Coping: Community, Readiness for Enhanced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80000"/>
              </a:lnSpc>
              <a:spcBef>
                <a:spcPts val="2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tantia"/>
              </a:rPr>
              <a:t>Coping, Defensive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6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FCE26-4BF8-4121-AD5C-D7E657BFAB69}" type="slidenum">
              <a:rPr b="0" lang="ar-SA" sz="1200" spc="-1" strike="noStrike">
                <a:solidFill>
                  <a:srgbClr val="000000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Calibri"/>
              </a:rPr>
              <a:t>An </a:t>
            </a:r>
            <a:r>
              <a:rPr b="1" i="1" lang="en-US" sz="2800" spc="-1" strike="noStrike">
                <a:solidFill>
                  <a:srgbClr val="04617b"/>
                </a:solidFill>
                <a:latin typeface="Calibri"/>
              </a:rPr>
              <a:t>Actual Nursing Diagnosis</a:t>
            </a:r>
            <a:r>
              <a:rPr b="0" i="1" lang="en-US" sz="2800" spc="-1" strike="noStrike">
                <a:solidFill>
                  <a:srgbClr val="04617b"/>
                </a:solidFill>
                <a:latin typeface="Calibri"/>
              </a:rPr>
              <a:t>/</a:t>
            </a:r>
            <a:r>
              <a:rPr b="0" lang="en-US" sz="2800" spc="-1" strike="noStrike">
                <a:solidFill>
                  <a:srgbClr val="04617b"/>
                </a:solidFill>
                <a:latin typeface="Calibri"/>
              </a:rPr>
              <a:t> written as a three-part statement</a:t>
            </a:r>
            <a:r>
              <a:rPr b="0" lang="en-US" sz="2800" spc="-1" strike="noStrike">
                <a:solidFill>
                  <a:srgbClr val="04617b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571320" y="2146320"/>
            <a:ext cx="8001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agnostic 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Ineffective air way clearance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iology or Cau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Related to  accumulation of tracheo-bronchial secretion or decrease energy secondary to surger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gn and sympt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Evidenced by abnormal breath sound, cough , change rate and depth of respiration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E97C5-5243-4CBA-820F-C93FF1EE746B}" type="slidenum">
              <a:rPr b="0" lang="ar-SA" sz="1200" spc="-1" strike="noStrike">
                <a:solidFill>
                  <a:srgbClr val="000000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4617b"/>
                </a:solidFill>
                <a:latin typeface="Calibri"/>
              </a:rPr>
              <a:t>A Risk or Potential Diagnosis</a:t>
            </a:r>
            <a:r>
              <a:rPr b="0" i="1" lang="en-US" sz="2800" spc="-1" strike="noStrike">
                <a:solidFill>
                  <a:srgbClr val="04617b"/>
                </a:solidFill>
                <a:latin typeface="Calibri"/>
              </a:rPr>
              <a:t>,</a:t>
            </a:r>
            <a:r>
              <a:rPr b="0" lang="en-US" sz="2800" spc="-1" strike="noStrike">
                <a:solidFill>
                  <a:srgbClr val="04617b"/>
                </a:solidFill>
                <a:latin typeface="Calibri"/>
              </a:rPr>
              <a:t> written as a two-part statement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agnostic Label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aired skin integrity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iology or Cause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ed to prolonged bed rest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EC813-7326-4595-B0DE-85C7DEF06674}" type="slidenum">
              <a:rPr b="0" lang="ar-SA" sz="1200" spc="-1" strike="noStrike">
                <a:solidFill>
                  <a:srgbClr val="000000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91800"/>
            <a:ext cx="8229600" cy="934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III- PLANNING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38120" y="1125000"/>
            <a:ext cx="822960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23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nning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hould be directly toward solving or alleviating the problem identified in nursing diagnosi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es of planning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- Initial plann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the nurse who performs the admission assessment usually develops the initial comprehensive plan of care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 Ongoing planning: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Is done by all nurses who work with the client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It is the beginning of shift as the nurse plans the care to be given that day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- Discharge planning: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cess of anticipating and planning for needs after discharg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5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 fontScale="99000"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587CE-B570-49CD-8AC6-1FD5EE4B1373}" type="slidenum"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Planning Process</a:t>
            </a:r>
            <a:r>
              <a:rPr b="0" lang="en-US" sz="48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: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                       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ting prioritie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ablishing client goals/desired out come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ing nursing strategies(action or intervention)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nursing care pla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8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08921-6556-4B7A-8260-D1A54A82C3C2}" type="slidenum">
              <a:rPr b="0" lang="ar-SA" sz="1200" spc="-1" strike="noStrike">
                <a:solidFill>
                  <a:srgbClr val="000000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4617b"/>
                </a:solidFill>
                <a:uFillTx/>
                <a:latin typeface="Times New Roman"/>
                <a:ea typeface="Times New Roman"/>
              </a:rPr>
              <a:t>Outline</a:t>
            </a:r>
            <a:r>
              <a:rPr b="1" lang="en-US" sz="3600" spc="-1" strike="noStrike" u="sng">
                <a:solidFill>
                  <a:srgbClr val="04617b"/>
                </a:solidFill>
                <a:uFillTx/>
                <a:latin typeface="Times New Roman"/>
                <a:ea typeface="Times New Roman"/>
              </a:rPr>
              <a:t>:</a:t>
            </a:r>
            <a:br>
              <a:rPr sz="40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692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09880" indent="-209880">
              <a:lnSpc>
                <a:spcPct val="15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arning objectiv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>
              <a:lnSpc>
                <a:spcPct val="15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ition of nursing proces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>
              <a:lnSpc>
                <a:spcPct val="15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nefits of Nursing Proces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>
              <a:lnSpc>
                <a:spcPct val="15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ps of nursing proces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492480" indent="-189000">
              <a:lnSpc>
                <a:spcPct val="15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essmen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492480" indent="-189000">
              <a:lnSpc>
                <a:spcPct val="15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rsing diagnosi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492480" indent="-189000">
              <a:lnSpc>
                <a:spcPct val="15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nning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492480" indent="-189000">
              <a:lnSpc>
                <a:spcPct val="15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a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492480" indent="-189000">
              <a:lnSpc>
                <a:spcPct val="15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492480" indent="-189000">
              <a:lnSpc>
                <a:spcPct val="15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umentations ?!!!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>
              <a:lnSpc>
                <a:spcPct val="15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02E2A-5C9D-4A45-AD6C-B8055C8EE56E}" type="slidenum">
              <a:rPr b="0" lang="ar-SA" sz="1200" spc="-1" strike="noStrike">
                <a:solidFill>
                  <a:srgbClr val="000000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8640" y="836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1</a:t>
            </a:r>
            <a:r>
              <a:rPr b="1" lang="en-US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-</a:t>
            </a:r>
            <a:r>
              <a:rPr b="1" lang="en-US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Setting priorities</a:t>
            </a:r>
            <a:r>
              <a:rPr b="1" lang="en-US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:</a:t>
            </a:r>
            <a:br>
              <a:rPr sz="32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5458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nurse establishes the priorities of the nursing diagnoses by ranking them in order of importance to meet the client’s immediate need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oritis are classified as high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mediate , low priority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 priorit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—Ineffective airway clearance after surgery related to abdominal incision pai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mediate priorit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—Altered nutrition less than body requirements related to chronic diarrhea for 3 week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priorit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    knowledge deficit related to smoking cessation program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1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BDCA0-F6BD-492D-B08D-CBCF2E347EAB}" type="slidenum">
              <a:rPr b="0" lang="ar-SA" sz="1200" spc="-1" strike="noStrike">
                <a:solidFill>
                  <a:srgbClr val="000000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793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- </a:t>
            </a:r>
            <a:r>
              <a:rPr b="1" lang="en-US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Establishing client goal/desired out comes</a:t>
            </a:r>
            <a:r>
              <a:rPr b="1" lang="en-US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47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18160" indent="-218160">
              <a:lnSpc>
                <a:spcPct val="15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ent goals are stated in terms of the patient behaviors and time period in which they are to be achieved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>
              <a:lnSpc>
                <a:spcPct val="15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se goals must be realistic, measurable, and specific, indicate a definite time frame for achievement and consider patients desired and resources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>
              <a:lnSpc>
                <a:spcPct val="15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 of measurable verbs are state that, report that, demonstrate, perform, identifies adapt, increase, decrease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e.g. patient will ambulate using cane within 48hrs after surger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e.g. patient will identifies nutritional needs within 36h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4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1DC17-0B81-403B-B086-C8C57680C442}" type="slidenum">
              <a:rPr b="0" lang="ar-SA" sz="1200" spc="-1" strike="noStrike">
                <a:solidFill>
                  <a:srgbClr val="000000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Client goals may be divided into</a:t>
            </a:r>
            <a:r>
              <a:rPr b="1" lang="en-US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: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74200" y="1446120"/>
            <a:ext cx="8001000" cy="47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lnSpc>
                <a:spcPct val="150000"/>
              </a:lnSpc>
              <a:spcBef>
                <a:spcPts val="601"/>
              </a:spcBef>
              <a:buClr>
                <a:srgbClr val="e2d700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mediate goa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can be reached within a short period e.g. demonstrates the intake of 1500 calories of diabetic diet spaced in three meals and one snack per day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150000"/>
              </a:lnSpc>
              <a:spcBef>
                <a:spcPts val="601"/>
              </a:spcBef>
              <a:buClr>
                <a:srgbClr val="e2d700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mediate and long term goa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quired longer time to be achieved and usually involves preventing complications and other health problem and promoting self-care and rehabilitation e.g. plans meals for 1 week based on diabetic exchange list or adheres to prescribed diabetic diet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 algn="r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9FD7D-F521-469F-B608-99F882880302}" type="slidenum">
              <a:rPr b="0" lang="ar-SA" sz="1200" spc="-1" strike="noStrike">
                <a:solidFill>
                  <a:srgbClr val="000000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3</a:t>
            </a:r>
            <a:r>
              <a:rPr b="1" lang="en-US" sz="28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-</a:t>
            </a:r>
            <a:r>
              <a:rPr b="1" lang="en-US" sz="28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Selecting nursing strategies(intervention or action)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71320" y="1474560"/>
            <a:ext cx="800100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Selecting nursing intervention and activities are actions that nurse performs to a achieve client goal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The specific strategies chosen should focus on eliminating or   reducing the etiology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es of Nursing Intervention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- Independent interven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re those activities that nurses are licensed to initiate on the basis of their knowledge and skill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 Dependent interven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re activities carried out under the physician order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- Collaborative interven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re actions the nurse carries out in collaboration with other health team membe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0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DC724-513F-4159-A1B2-EE0F439CD846}" type="slidenum">
              <a:rPr b="0" lang="ar-SA" sz="1200" spc="-1" strike="noStrike">
                <a:solidFill>
                  <a:srgbClr val="000000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Criteria for choosing nursing strategies</a:t>
            </a:r>
            <a:r>
              <a:rPr b="1" lang="en-US" sz="28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66280" y="1412640"/>
            <a:ext cx="80010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- Safe and appropriate for patient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 An achievable with the resources availabl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- Congruent with other strategi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- Determined by state law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- Writing Nursing Orders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- Date.                               2- Action verb.         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- Content area.                  4- Time element.       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- Signatur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3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7DCC0-9CAC-4174-96A3-C1997B58B8DE}" type="slidenum">
              <a:rPr b="0" lang="ar-SA" sz="1200" spc="-1" strike="noStrike">
                <a:solidFill>
                  <a:srgbClr val="000000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IV-Implementing</a:t>
            </a:r>
            <a:r>
              <a:rPr b="0" lang="en-US" sz="3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:</a:t>
            </a:r>
            <a:br>
              <a:rPr sz="3400"/>
            </a:br>
            <a:endParaRPr b="0" lang="en-US" sz="3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the phase in which the nurse puts the nursing care plan into actio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Process of implementing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- Implementing the nursing orders( strategies).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 Determining the nurse need for assistanc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-Delegating and Supervising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- Communicating the nursing action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6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3AE83-360C-4469-AF4B-F1663F3E363B}" type="slidenum">
              <a:rPr b="0" lang="ar-SA" sz="1200" spc="-1" strike="noStrike">
                <a:solidFill>
                  <a:srgbClr val="000000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69800" y="2602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V- Evaluating</a:t>
            </a:r>
            <a:r>
              <a:rPr b="0" lang="en-US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: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83920" y="1341360"/>
            <a:ext cx="8001000" cy="45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199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Is a planned, ongoing, purposeful activity in which clients and health care professionals determine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46692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The clients progress toward goals an achievement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46692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The effectiveness of the nursing care pla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199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Process of evaluating client responses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199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-Reassessment of client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199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Compare the data with desired out com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199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- Relate nursing actions to client goals/desired outcom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199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- Draw conclusions about problem statu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199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- Continue to modify or terminate the clients care pla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9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9693B-2908-4787-82EE-86D582903872}" type="slidenum">
              <a:rPr b="0" lang="ar-SA" sz="1200" spc="-1" strike="noStrike">
                <a:solidFill>
                  <a:srgbClr val="000000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/>
          </p:nvPr>
        </p:nvSpPr>
        <p:spPr>
          <a:xfrm>
            <a:off x="250560" y="541080"/>
            <a:ext cx="8785080" cy="63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rcise (1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rs. Fatima 50 years old was admitted to the hospital with a diagnosis of congestive heart failure. She has lived alone for the last 2years since her husband died. She had not seen the physician for at least 2 years. At the last visit, the physician prescribed a moderately low-sodium diet, Lasix 40 mg daily, Calan, and multiple vitamins. On admission her vital signs were BP 180/90, P 98, R 22. Her weight indicated a gain of 10 pounds since the last visit. Her physical assessment indicated rales in the lung bases, 3+ edema of the ankle and difficulty of breathing in the supine posi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edg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0" fill="hold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0" fill="hold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Nursing care Plan</a:t>
            </a:r>
            <a:br>
              <a:rPr sz="4000"/>
            </a:b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250920" y="1341360"/>
          <a:ext cx="8642160" cy="5426280"/>
        </p:xfrm>
        <a:graphic>
          <a:graphicData uri="http://schemas.openxmlformats.org/drawingml/2006/table">
            <a:tbl>
              <a:tblPr/>
              <a:tblGrid>
                <a:gridCol w="2162160"/>
                <a:gridCol w="1871640"/>
                <a:gridCol w="2374920"/>
                <a:gridCol w="2233440"/>
              </a:tblGrid>
              <a:tr h="1679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Nursing diagnos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(patient problem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Expected Out come /Go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The patient wi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Nursing Interven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Evalu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Breathing pattern ineffective related to pulmonary congestion as evidenced by rales sound on base of lung and difficulty in breathing in supine posi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Be able to breath easily within one ho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1- Put on fowler posi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2- Administer oxygen therap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3- Provide good ventilated roo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4- Administer medication as prescrib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5- Reassess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ff0000"/>
                        </a:buClr>
                        <a:buSzPct val="12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No rales sound on base of lu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ff0000"/>
                        </a:buClr>
                        <a:buSzPct val="12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Respiration pattern within normal lim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عنصر نائب لرقم الشريحة 17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C5805-E785-4453-953D-D91176820F70}" type="slidenum">
              <a:rPr b="0" lang="ar-S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-304920" y="19666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9dd9"/>
                </a:solidFill>
                <a:latin typeface="Times New Roman"/>
                <a:ea typeface="Times New Roman"/>
              </a:rPr>
              <a:t>Question?</a:t>
            </a:r>
            <a:endParaRPr b="0" lang="en-US" sz="6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80680" y="115920"/>
            <a:ext cx="8001000" cy="89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17b"/>
                </a:solidFill>
                <a:latin typeface="Calibri"/>
              </a:rPr>
              <a:t>Learning Objectivities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658440" y="1197000"/>
            <a:ext cx="8001000" cy="515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completion of this lecture the learner will be able to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5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the term nursing process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5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cuss the term assessment and describe how it influences the nursing proces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5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the term nursing diagnosi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5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outcome identification and planning, and give an example of this step in the nursing proces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5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what is meant by the implementation phase of the nursing process.                       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73ACD-FD84-48E7-B4BB-6F1E26442989}" type="slidenum">
              <a:rPr b="0" lang="ar-SA" sz="1200" spc="-1" strike="noStrike">
                <a:solidFill>
                  <a:srgbClr val="000000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Nursing Proces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ition: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 systematic, rational method of planning and providing individualized nursing car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a systematic problem- solving approach for meeting a person’s health care and nursing need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organized sequence of steps that nurses use to solve the health problems of patien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2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1BF91-256B-4D1F-A150-9C44BD05C452}" type="slidenum">
              <a:rPr b="0" lang="ar-SA" sz="1200" spc="-1" strike="noStrike">
                <a:solidFill>
                  <a:srgbClr val="000000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1012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Purpose of Nursing Process</a:t>
            </a: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:</a:t>
            </a:r>
            <a:br>
              <a:rPr sz="5000"/>
            </a:b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566640" y="1752480"/>
            <a:ext cx="8253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-Identify a client health status and actual or potential health care problems and need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Establish plans to meet the identifying need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-Deliver specific nursing intervention to meet need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DC974-C617-4D4A-98F1-69EC738A583C}" type="slidenum">
              <a:rPr b="0" lang="ar-SA" sz="1200" spc="-1" strike="noStrike">
                <a:solidFill>
                  <a:srgbClr val="000000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4960" y="4046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17b"/>
                </a:solidFill>
                <a:latin typeface="Calibri"/>
              </a:rPr>
              <a:t>Benefits of Nursing Proces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49080" y="1293480"/>
            <a:ext cx="80010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15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an orderly &amp; systematic method for planning &amp; providing car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5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hances nursing efficiency by standardizing nursing practic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5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a unity of language for the nursing profess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5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economica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5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sses the independent function of nurs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5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s care quality through the use of deliberate actio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8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9DB05-A912-4EAC-884C-73854C5C1DEF}" type="slidenum">
              <a:rPr b="0" lang="ar-SA" sz="1200" spc="-1" strike="noStrike">
                <a:solidFill>
                  <a:srgbClr val="000000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br>
              <a:rPr sz="3400"/>
            </a:br>
            <a:r>
              <a:rPr b="1" lang="en-US" sz="2100" spc="-1" strike="noStrike">
                <a:solidFill>
                  <a:srgbClr val="04617b"/>
                </a:solidFill>
                <a:latin typeface="Calibri"/>
              </a:rPr>
              <a:t>The Nursing Process consist of a series of five component or phases</a:t>
            </a:r>
            <a:r>
              <a:rPr b="1" lang="en-US" sz="2100" spc="-1" strike="noStrike">
                <a:solidFill>
                  <a:srgbClr val="04617b"/>
                </a:solidFill>
                <a:latin typeface="Calibri"/>
              </a:rPr>
              <a:t>:</a:t>
            </a:r>
            <a:br>
              <a:rPr sz="3400"/>
            </a:br>
            <a:endParaRPr b="0" lang="en-US" sz="2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71" name="Diagram 28"/>
          <p:cNvGrpSpPr/>
          <p:nvPr/>
        </p:nvGrpSpPr>
        <p:grpSpPr>
          <a:xfrm>
            <a:off x="2319840" y="2006640"/>
            <a:ext cx="4381920" cy="4169520"/>
            <a:chOff x="2319840" y="2006640"/>
            <a:chExt cx="4381920" cy="4169520"/>
          </a:xfrm>
        </p:grpSpPr>
        <p:sp>
          <p:nvSpPr>
            <p:cNvPr id="272" name="_s1028"/>
            <p:cNvSpPr/>
            <p:nvPr/>
          </p:nvSpPr>
          <p:spPr>
            <a:xfrm>
              <a:off x="3352680" y="2006640"/>
              <a:ext cx="2314800" cy="2314800"/>
            </a:xfrm>
            <a:custGeom>
              <a:avLst/>
              <a:gdLst>
                <a:gd name="textAreaLeft" fmla="*/ 0 w 2314800"/>
                <a:gd name="textAreaRight" fmla="*/ 2315160 w 2314800"/>
                <a:gd name="textAreaTop" fmla="*/ 0 h 2314800"/>
                <a:gd name="textAreaBottom" fmla="*/ 2315160 h 2314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0f6fc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_s1029"/>
            <p:cNvSpPr/>
            <p:nvPr/>
          </p:nvSpPr>
          <p:spPr>
            <a:xfrm rot="4320000">
              <a:off x="4086000" y="2540160"/>
              <a:ext cx="2314440" cy="2314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0f6fc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_s1030"/>
            <p:cNvSpPr/>
            <p:nvPr/>
          </p:nvSpPr>
          <p:spPr>
            <a:xfrm rot="8640000">
              <a:off x="3804840" y="3402000"/>
              <a:ext cx="2314440" cy="2314800"/>
            </a:xfrm>
            <a:custGeom>
              <a:avLst/>
              <a:gdLst>
                <a:gd name="textAreaLeft" fmla="*/ 0 w 2314440"/>
                <a:gd name="textAreaRight" fmla="*/ 2314440 w 2314440"/>
                <a:gd name="textAreaTop" fmla="*/ 0 h 2314800"/>
                <a:gd name="textAreaBottom" fmla="*/ 2315160 h 2314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0f6fc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_s1031"/>
            <p:cNvSpPr/>
            <p:nvPr/>
          </p:nvSpPr>
          <p:spPr>
            <a:xfrm rot="12960000">
              <a:off x="2898360" y="3399840"/>
              <a:ext cx="2314440" cy="2314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0f6fc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_s1032"/>
            <p:cNvSpPr/>
            <p:nvPr/>
          </p:nvSpPr>
          <p:spPr>
            <a:xfrm rot="17280000">
              <a:off x="2620800" y="2538000"/>
              <a:ext cx="2314440" cy="2314800"/>
            </a:xfrm>
            <a:custGeom>
              <a:avLst/>
              <a:gdLst>
                <a:gd name="textAreaLeft" fmla="*/ 0 w 2314440"/>
                <a:gd name="textAreaRight" fmla="*/ 2314440 w 2314440"/>
                <a:gd name="textAreaTop" fmla="*/ 0 h 2314800"/>
                <a:gd name="textAreaBottom" fmla="*/ 2315160 h 2314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0f6fc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_s1033"/>
            <p:cNvSpPr/>
            <p:nvPr/>
          </p:nvSpPr>
          <p:spPr>
            <a:xfrm>
              <a:off x="5103720" y="2105280"/>
              <a:ext cx="851040" cy="85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  <a:ea typeface="Arial"/>
                </a:rPr>
                <a:t>Assess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_s1034"/>
            <p:cNvSpPr/>
            <p:nvPr/>
          </p:nvSpPr>
          <p:spPr>
            <a:xfrm>
              <a:off x="5735520" y="4044960"/>
              <a:ext cx="851040" cy="85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Arial"/>
                </a:rPr>
                <a:t>Diagnosi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_s1035"/>
            <p:cNvSpPr/>
            <p:nvPr/>
          </p:nvSpPr>
          <p:spPr>
            <a:xfrm>
              <a:off x="3065400" y="2105280"/>
              <a:ext cx="851040" cy="85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Arial"/>
                </a:rPr>
                <a:t>Evalu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_s1036"/>
            <p:cNvSpPr/>
            <p:nvPr/>
          </p:nvSpPr>
          <p:spPr>
            <a:xfrm>
              <a:off x="4084560" y="5245200"/>
              <a:ext cx="851040" cy="85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Arial"/>
                </a:rPr>
                <a:t>Plann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_s1037"/>
            <p:cNvSpPr/>
            <p:nvPr/>
          </p:nvSpPr>
          <p:spPr>
            <a:xfrm>
              <a:off x="2433600" y="4044960"/>
              <a:ext cx="851040" cy="85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Arial"/>
                </a:rPr>
                <a:t>Implement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Slide Number Placeholder 8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A58CF-6209-4371-8CFA-5ED0F515DCFE}" type="slidenum">
              <a:rPr b="0" lang="ar-SA" sz="1200" spc="-1" strike="noStrike">
                <a:solidFill>
                  <a:srgbClr val="000000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17b"/>
                </a:solidFill>
                <a:latin typeface="Calibri"/>
              </a:rPr>
              <a:t>Characteristics of nursing process</a:t>
            </a:r>
            <a:r>
              <a:rPr b="1" lang="en-US" sz="2800" spc="-1" strike="noStrike">
                <a:solidFill>
                  <a:srgbClr val="04617b"/>
                </a:solidFill>
                <a:latin typeface="Calibri"/>
              </a:rPr>
              <a:t>:</a:t>
            </a:r>
            <a:br>
              <a:rPr sz="28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66280" y="1699920"/>
            <a:ext cx="80010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lnSpc>
                <a:spcPct val="150000"/>
              </a:lnSpc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cyclic and dynamic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50000"/>
              </a:lnSpc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client centered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50000"/>
              </a:lnSpc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planned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50000"/>
              </a:lnSpc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goal directed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50000"/>
              </a:lnSpc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universally applicable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5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44987-0B31-41D7-B3BA-60C2B691F86A}" type="slidenum">
              <a:rPr b="0" lang="ar-SA" sz="1200" spc="-1" strike="noStrike">
                <a:solidFill>
                  <a:srgbClr val="000000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827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Assessment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-Assessing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atic collection of data to determine the patient health status and identify any actual or potential health problem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ssessment process involve four closely activities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-   Collecting data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-  Organizing data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- Validating data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V- Documenting data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8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FB5CF-1043-4276-A34B-1342F9BF9BA2}" type="slidenum">
              <a:rPr b="0" lang="ar-SA" sz="1200" spc="-1" strike="noStrike">
                <a:solidFill>
                  <a:srgbClr val="000000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momani</cp:lastModifiedBy>
  <dcterms:modified xsi:type="dcterms:W3CDTF">2015-08-30T10:04:29Z</dcterms:modified>
  <cp:revision>172</cp:revision>
  <dc:subject/>
  <dc:title>الشريحة 1</dc:title>
</cp:coreProperties>
</file>