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6252-07DB-45B6-9F3D-54E45E85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4710-40F2-4685-954C-375A1879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1060-A59D-44B8-BFE9-EA5994A9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6CB9-AB54-4083-BB18-21B8A1E9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94A5-FC82-485E-B803-5700A3E8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D93-2EE8-4D88-8698-E57B1091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1EAF-829E-422D-B67D-7E547A1E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3D9-CE3D-4E20-BE83-24FA9782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CB6-1F54-43D7-B8E0-0226B2B0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C396-13B7-4F99-BE51-E92104C7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9B1-AAF6-4A1C-81C7-5CF0888B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7AA4-9900-401D-8573-19297DF2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0EC1-742C-460F-9B6A-B03353554E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rdiac Cat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 4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5A23-09AE-4173-A079-D66833024B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TCA with Stent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1" name="Picture 5" descr="ptca with stenting"/>
          <p:cNvPicPr/>
          <p:nvPr/>
        </p:nvPicPr>
        <p:blipFill>
          <a:blip r:embed="rId1"/>
          <a:stretch/>
        </p:blipFill>
        <p:spPr>
          <a:xfrm>
            <a:off x="1371600" y="1905120"/>
            <a:ext cx="719136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67A2-9EC5-407D-AD1A-90FA8BA250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TCA with Stent Plac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4" name="Picture 6" descr="pre and post stent"/>
          <p:cNvPicPr/>
          <p:nvPr/>
        </p:nvPicPr>
        <p:blipFill>
          <a:blip r:embed="rId1"/>
          <a:stretch/>
        </p:blipFill>
        <p:spPr>
          <a:xfrm>
            <a:off x="1143000" y="1600200"/>
            <a:ext cx="638172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8C68-81F6-478C-88ED-6A666CE085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st Catheterization Ca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m pressure is applied to puncture site for 15-30 minu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nd sites are cleaned and d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tient will be observed in recovery  for 4-8 hou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sertion site will be checked frequently for signs of bleed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s and discharge instructions are gi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s of fluid should be taken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tal signs should be monitored for 24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5ACD-2E72-469C-80E7-E3F7EAED2A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Definition of Cardiac Catheriza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hensive term to describe minor surgical procedure for diagnostic evaluation or interventional (therapeutic) pur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s data to evaluate PT’s con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eu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intervene by mechanical means to treat disorders of the vascular and conduction systems within the he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585C-DD3F-4161-9BDF-9172E6FC0D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dica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spected or known coron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rt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odcardial infar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dden cardiovascular de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vular heart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genital heart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ortic dis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diomyopa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 and follow up assessment for heart transpl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6" descr="Cardiac catheterization—advancing catheter through femoral artery and aorta to left ventricle"/>
          <p:cNvPicPr/>
          <p:nvPr/>
        </p:nvPicPr>
        <p:blipFill>
          <a:blip r:embed="rId1"/>
          <a:stretch/>
        </p:blipFill>
        <p:spPr>
          <a:xfrm>
            <a:off x="4648320" y="2222640"/>
            <a:ext cx="403848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339F-7FC5-40AA-8426-BB05D4DF1D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traindica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GI bl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nt stro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 from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lyte im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 life expect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is intox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T refu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ntrolled hyper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eding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ntrolled ventricular arrhythm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ortic valve endocarditi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rgic to contr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MCj04113060000[1]"/>
          <p:cNvPicPr/>
          <p:nvPr/>
        </p:nvPicPr>
        <p:blipFill>
          <a:blip r:embed="rId1"/>
          <a:stretch/>
        </p:blipFill>
        <p:spPr>
          <a:xfrm>
            <a:off x="7246800" y="0"/>
            <a:ext cx="1897200" cy="1797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MCj04113060000[1]"/>
          <p:cNvPicPr/>
          <p:nvPr/>
        </p:nvPicPr>
        <p:blipFill>
          <a:blip r:embed="rId2"/>
          <a:stretch/>
        </p:blipFill>
        <p:spPr>
          <a:xfrm>
            <a:off x="0" y="0"/>
            <a:ext cx="18972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6E63-6F78-41CA-AC91-457DD0C25B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mplications and Risk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ocardial infar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rhyth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orrh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odyna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179-cva-ischemia"/>
          <p:cNvPicPr/>
          <p:nvPr/>
        </p:nvPicPr>
        <p:blipFill>
          <a:blip r:embed="rId1"/>
          <a:stretch/>
        </p:blipFill>
        <p:spPr>
          <a:xfrm>
            <a:off x="4876920" y="1676520"/>
            <a:ext cx="2776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D29F-FC6D-4057-8D6D-505348E686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e-Catheterization Ca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 sta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ation and nau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hing to eat 4-6 hours before proced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s of proced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T hemodynamic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s administ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ies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pertinen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MCj03590490000[1]"/>
          <p:cNvPicPr/>
          <p:nvPr/>
        </p:nvPicPr>
        <p:blipFill>
          <a:blip r:embed="rId1"/>
          <a:stretch/>
        </p:blipFill>
        <p:spPr>
          <a:xfrm>
            <a:off x="5867280" y="3581280"/>
            <a:ext cx="2859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9E8A-49FF-471C-8090-2098136F67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theter 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 catheter introduction site with aseptic tech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ved and clea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at femoral (most common), brachial, radial, axillary, jugular and subclavian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cardiac catherters"/>
          <p:cNvPicPr/>
          <p:nvPr/>
        </p:nvPicPr>
        <p:blipFill>
          <a:blip r:embed="rId1"/>
          <a:stretch/>
        </p:blipFill>
        <p:spPr>
          <a:xfrm>
            <a:off x="5486400" y="2098800"/>
            <a:ext cx="36576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3730-FBAB-442F-8026-5F9DE4F2DC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ata Colle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ologic data unusually col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modynamic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s blood press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scular pressures (inside &amp; outside the hea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imetry rea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ac 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samples to measure oxygen saturations levels in various parts of the he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EDC7-D12F-49F0-A06B-B5F951B8F7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ronary Angiograph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Picture 11" descr="normal lt cornary angiogrpahy"/>
          <p:cNvPicPr/>
          <p:nvPr/>
        </p:nvPicPr>
        <p:blipFill>
          <a:blip r:embed="rId1"/>
          <a:stretch/>
        </p:blipFill>
        <p:spPr>
          <a:xfrm>
            <a:off x="457200" y="2224080"/>
            <a:ext cx="4038480" cy="3276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840960" y="571500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 LT coronary Art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2135880" y="160020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 coron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t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19"/>
          <p:cNvSpPr/>
          <p:nvPr/>
        </p:nvSpPr>
        <p:spPr>
          <a:xfrm>
            <a:off x="2057400" y="19051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20" descr="ant view of coronary arteries"/>
          <p:cNvPicPr/>
          <p:nvPr/>
        </p:nvPicPr>
        <p:blipFill>
          <a:blip r:embed="rId2"/>
          <a:stretch/>
        </p:blipFill>
        <p:spPr>
          <a:xfrm>
            <a:off x="4724280" y="1523880"/>
            <a:ext cx="4419720" cy="4348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5410080" y="2057040"/>
            <a:ext cx="3276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2:24:48Z</dcterms:created>
  <dc:creator>ECC</dc:creator>
  <dc:description/>
  <dc:language>en-US</dc:language>
  <cp:lastModifiedBy>Nasima Yahya Awaji</cp:lastModifiedBy>
  <dcterms:modified xsi:type="dcterms:W3CDTF">2016-09-25T09:00:09Z</dcterms:modified>
  <cp:revision>94</cp:revision>
  <dc:subject/>
  <dc:title>Cardiac Cath and Angiocardiography</dc:title>
</cp:coreProperties>
</file>