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3C6-F3FA-4A22-A34C-7007EA21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81A-2343-4A34-BF20-E7FA25C8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821-CBB6-47B5-BFE6-30643823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162-67E8-41BD-858B-8F356B2C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658-150E-4CFD-8A7D-AD7F6AC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AEA-0AA2-4F81-A1E6-F17BBF0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E86-6AD5-4024-B03B-94CAF50E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521-9916-405E-BA82-B77F9C2E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45A-E07E-4387-B93A-FC6A245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746-8FA3-4658-93E0-DAE5EA1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59E-BD2A-4A57-825A-269D82E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AA8-E3CD-4D8E-B4F0-9BDB31B0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5C2B-56E3-451A-B7C4-1E4E234A39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rdiac Ca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4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AD23-E141-43A1-9793-91C505DF25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TCA with Sten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Picture 5" descr="ptca with stenting"/>
          <p:cNvPicPr/>
          <p:nvPr/>
        </p:nvPicPr>
        <p:blipFill>
          <a:blip r:embed="rId1"/>
          <a:stretch/>
        </p:blipFill>
        <p:spPr>
          <a:xfrm>
            <a:off x="1371600" y="1905120"/>
            <a:ext cx="71913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4936-009F-41C2-AD22-BD0341CDB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TCA with Stent Plac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4" name="Picture 6" descr="pre and post stent"/>
          <p:cNvPicPr/>
          <p:nvPr/>
        </p:nvPicPr>
        <p:blipFill>
          <a:blip r:embed="rId1"/>
          <a:stretch/>
        </p:blipFill>
        <p:spPr>
          <a:xfrm>
            <a:off x="1143000" y="1600200"/>
            <a:ext cx="6381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B044-354E-4BC1-942F-DFA9BE5199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st Catheterization C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 pressure is applied to puncture site for 15-30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nd sites are cleaned and 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ient will be observed in recovery  for 4-8 ho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sertion site will be checked frequently for signs of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and discharge instructions are 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fluid should be taken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l signs should be monitored for 2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4EF1-FA8B-4F1A-B503-2C4C6CADAC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Definition of Cardiac Catheriza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term to describe minor surgical procedure for diagnostic evaluation or interventional (therapeutic)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s data to evaluate PT’s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tervene by mechanical means to treat disorders of the vascular and conduction systems within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3305-076B-42BE-AEC3-349E321DC3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dic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cted or known coron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dcardial infar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dden cardiovascular d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vular 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enital 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diomy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and follow up assessment for heart trans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Cardiac catheterization—advancing catheter through femoral artery and aorta to left ventricle"/>
          <p:cNvPicPr/>
          <p:nvPr/>
        </p:nvPicPr>
        <p:blipFill>
          <a:blip r:embed="rId1"/>
          <a:stretch/>
        </p:blipFill>
        <p:spPr>
          <a:xfrm>
            <a:off x="4648320" y="2222640"/>
            <a:ext cx="40384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D5B-7271-464B-AB5A-C853562981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traindic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GI bl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str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from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lyte im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life expect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is intox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refu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ventricular arrhythm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ic valve endocarditi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rgic to contr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MCj04113060000[1]"/>
          <p:cNvPicPr/>
          <p:nvPr/>
        </p:nvPicPr>
        <p:blipFill>
          <a:blip r:embed="rId1"/>
          <a:stretch/>
        </p:blipFill>
        <p:spPr>
          <a:xfrm>
            <a:off x="7246800" y="0"/>
            <a:ext cx="1897200" cy="179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Cj04113060000[1]"/>
          <p:cNvPicPr/>
          <p:nvPr/>
        </p:nvPicPr>
        <p:blipFill>
          <a:blip r:embed="rId2"/>
          <a:stretch/>
        </p:blipFill>
        <p:spPr>
          <a:xfrm>
            <a:off x="0" y="0"/>
            <a:ext cx="18972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283-E42B-46CF-B089-43D464BB1C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plications and Ris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hyth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rrh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dyna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179-cva-ischemia"/>
          <p:cNvPicPr/>
          <p:nvPr/>
        </p:nvPicPr>
        <p:blipFill>
          <a:blip r:embed="rId1"/>
          <a:stretch/>
        </p:blipFill>
        <p:spPr>
          <a:xfrm>
            <a:off x="4876920" y="1676520"/>
            <a:ext cx="2776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7DB-F275-4025-B836-C73DC18815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-Catheterization C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 sta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on and 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to eat 4-6 hours before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 of proced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 hemodynam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adminis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ertine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MCj03590490000[1]"/>
          <p:cNvPicPr/>
          <p:nvPr/>
        </p:nvPicPr>
        <p:blipFill>
          <a:blip r:embed="rId1"/>
          <a:stretch/>
        </p:blipFill>
        <p:spPr>
          <a:xfrm>
            <a:off x="5867280" y="3581280"/>
            <a:ext cx="2859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D35-929C-4933-9542-0ECA1C3A4B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theter 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catheter introduction site with aseptic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ved and clea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t femoral (most common), brachial, radial, axillary, jugular and subclavia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cardiac catherters"/>
          <p:cNvPicPr/>
          <p:nvPr/>
        </p:nvPicPr>
        <p:blipFill>
          <a:blip r:embed="rId1"/>
          <a:stretch/>
        </p:blipFill>
        <p:spPr>
          <a:xfrm>
            <a:off x="5486400" y="2098800"/>
            <a:ext cx="36576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EC9-E7BC-4F12-A2F0-FDFFB1C9E8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 data unusually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dynamic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blood press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cular pressures (inside &amp; outside the hea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metry r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samples to measure oxygen saturations levels in various parts of the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999A-3001-4F6B-A8AC-05230FD6AD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ronary Angiograph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Picture 11" descr="normal lt cornary angiogrpahy"/>
          <p:cNvPicPr/>
          <p:nvPr/>
        </p:nvPicPr>
        <p:blipFill>
          <a:blip r:embed="rId1"/>
          <a:stretch/>
        </p:blipFill>
        <p:spPr>
          <a:xfrm>
            <a:off x="457200" y="22240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840960" y="5715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LT coronary Ar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2135880" y="16002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 coron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057400" y="19051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0" descr="ant view of coronary arteries"/>
          <p:cNvPicPr/>
          <p:nvPr/>
        </p:nvPicPr>
        <p:blipFill>
          <a:blip r:embed="rId2"/>
          <a:stretch/>
        </p:blipFill>
        <p:spPr>
          <a:xfrm>
            <a:off x="4724280" y="1523880"/>
            <a:ext cx="4419720" cy="4348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410080" y="2057040"/>
            <a:ext cx="3276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2:24:48Z</dcterms:created>
  <dc:creator>ECC</dc:creator>
  <dc:description/>
  <dc:language>en-US</dc:language>
  <cp:lastModifiedBy>Nasima Yahya Awaji</cp:lastModifiedBy>
  <dcterms:modified xsi:type="dcterms:W3CDTF">2016-09-25T09:00:09Z</dcterms:modified>
  <cp:revision>94</cp:revision>
  <dc:subject/>
  <dc:title>Cardiac Cath and Angiocardiography</dc:title>
</cp:coreProperties>
</file>