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776-FD63-4951-8A6E-4AE19DBF8D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FA2-34E2-49FC-9DBD-929F6B83A27C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26D-9168-4700-AF93-82160E96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390-9840-4EF8-81A9-1D75122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A37-F28A-46DD-98E4-B55C58F0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842-1CD4-4E6A-94DA-403CEDB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96D-233C-4EC2-AF0A-0331B97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E9F0-3888-4A27-A879-747B8B1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3E4-73D3-4405-974D-138588D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137-575B-4FB9-A4E4-D3F5C5BF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6BD5-D23A-41EB-9C91-7E50DA7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3C4-92D8-4FB1-B054-BDE33A5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8C0E-D1E0-45A8-91E0-8D0BA348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34B-ACB6-4637-8486-716FEF5A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DFE6-4D64-439C-A33B-EFDDBCA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256-7A55-46FE-8D8B-5646028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209-32F3-431E-9FF7-A3881D7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736-5B86-4A58-9B88-E1D93D7F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0BD-894C-4401-9629-7C30B1BE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B83-1F0F-4D5D-AAD8-F367955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BFE-89FF-45D1-BB3C-027DBFB4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1EC-E469-4EEE-A5F2-FD2F52C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F0D-005A-431B-9592-C08D99D0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281-EBFB-46A8-B174-5393A25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1C4-51FA-46EF-B0F7-F1251CE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9CC-64AC-4F37-9623-972FF1A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525-3B55-453C-B604-DA32139246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EEA0-BF5D-461D-9FE0-6C91C5A794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ssy-muir.com/products/pmv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905120" y="2057400"/>
          <a:ext cx="6172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6172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468360" y="228600"/>
            <a:ext cx="837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atomical position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tracheostomy tu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17220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11280" y="38088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ercutaneous tracheostomy insertion kit (rhi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3808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ercutaneous tracheostomy k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mponents of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zes range from 2.5mm to 11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urved 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flatable cu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langes with h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be blad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4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eri-operative complications of tracheostomy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emorrh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 emphys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r em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id cartilag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rv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TrachAnat"/>
          <p:cNvPicPr/>
          <p:nvPr/>
        </p:nvPicPr>
        <p:blipFill>
          <a:blip r:embed="rId1"/>
          <a:stretch/>
        </p:blipFill>
        <p:spPr>
          <a:xfrm>
            <a:off x="4859280" y="1989000"/>
            <a:ext cx="428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COMPLICATIONS ASSOCIATED WITH TRACHEOSTOMY TUBE PLAC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59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cheal stenosis, ulceration, fibrosis, tracheomala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normal humidifying and warming mech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physiological p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risk of nosocomial pneu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236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ING FOR THE PATI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ing a tracheostomy can be very traumatic and many patients find it difficult to adju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tients with a new tracheostomy will need lots of support, reassuranc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afety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are of the s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fection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AFETY FIRST</a:t>
            </a:r>
            <a:br>
              <a:rPr sz="40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WHEN CARING FOR A PATIENT WITH A TRACHEOSTOMY YOU MUST ENSURE THAT:-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227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pare tracheostomies available close by 1 the same size and the other a size sm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al kit is clos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ction equipment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size suction catheter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xygen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ergency equipment is available including a resuscitation bag and mask and defibrillator and emergency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24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STOMA / INFECTION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oma has to be cared for car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needs to be cleaned and inspected 2-3 times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should be cleaned using aseptic technique and appropriate dressings applied to aid h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tube is removed the stoma will close spontaneously over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granulation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arkerStoma"/>
          <p:cNvPicPr/>
          <p:nvPr/>
        </p:nvPicPr>
        <p:blipFill>
          <a:blip r:embed="rId2"/>
          <a:stretch/>
        </p:blipFill>
        <p:spPr>
          <a:xfrm>
            <a:off x="395280" y="3860640"/>
            <a:ext cx="41054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HAT IS A TRACHEOSTOM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tracheostomy is a surgical opening in the anterior wall of the trachea just below the laryn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provides an alternative airway, bypassing the upper pass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78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SYCHOLOGICAL /COMMUN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94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tients and family require reassurance and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ternative methods of communication should be s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ct medical team for advice on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stimulation in the form of television, radio, newspaper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valve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89000"/>
            <a:ext cx="3492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NUTR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local policy on eating and drinking with tracheostom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 trusts allow patients to eat and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s do no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ual ways of feeding include oral, nasogastric or parent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atients with tracheostomies can be found in many health care environments from intensive care/high dependency to the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aring for patients with tracheostomies can be difficult but rewar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5ffff"/>
                </a:solidFill>
                <a:latin typeface="Tahoma"/>
              </a:rPr>
              <a:t>Types of tracheostom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ma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erg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u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nitracheos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thyroido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RACHEOSTOMY TUB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ostomy tube is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erted through the tracheostomy to maintain a patent air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cured in place by tapes tied around the n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INDIC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907920"/>
            <a:ext cx="8589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irway ob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y airway a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onged ventilation(e.g. 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rovide and maintain a patent ai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enable the removal of tracheobronchial secre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ermit long term positive pressure venti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improve patient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decrease the work of breathing and increase volume of air entering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art of another procedure, for example, head and neck surg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ONTRAINDI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anat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bid obesity with short ne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neck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vical spine injury – suspected or otherw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rrant blood vess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roid or tracheal path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gulopat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 of infection in the soft tissues of the neck at the insertion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Un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UCTION CATHETER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Trac"/>
          <p:cNvPicPr/>
          <p:nvPr/>
        </p:nvPicPr>
        <p:blipFill>
          <a:blip r:embed="rId1"/>
          <a:srcRect l="0" t="0" r="43039" b="0"/>
          <a:stretch/>
        </p:blipFill>
        <p:spPr>
          <a:xfrm>
            <a:off x="4572000" y="1844640"/>
            <a:ext cx="410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enestr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trachtube"/>
          <p:cNvPicPr/>
          <p:nvPr/>
        </p:nvPicPr>
        <p:blipFill>
          <a:blip r:embed="rId1"/>
          <a:stretch/>
        </p:blipFill>
        <p:spPr>
          <a:xfrm>
            <a:off x="4716360" y="1989000"/>
            <a:ext cx="39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58:49Z</dcterms:created>
  <dc:creator>HNHarveyS</dc:creator>
  <dc:description/>
  <dc:language>en-US</dc:language>
  <cp:lastModifiedBy>Dalyal Alosaimi</cp:lastModifiedBy>
  <dcterms:modified xsi:type="dcterms:W3CDTF">2016-01-27T07:03:18Z</dcterms:modified>
  <cp:revision>39</cp:revision>
  <dc:subject/>
  <dc:title>No Slide Title</dc:title>
</cp:coreProperties>
</file>