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4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8D4-4C06-41FE-8ED3-23594AA213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A7F2-44BA-41D7-BCE4-65717C50C073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DD5-9E86-40D8-9140-8DA06A4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407-3722-4117-97EF-665A2915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379-55D4-4D0B-9CC6-97D820A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0E2-BB7C-4F30-9F28-1153DEB7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3DA7-D350-4205-A3BB-6161E540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EF6-E1A4-4953-BBDC-B6CF24F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E5A-D0AC-495E-AAB1-8C7F5174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D7B5-5862-4016-BCF2-5D453A7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3E4-B878-44D2-9DB4-1EB259D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4EFF-F4F6-4322-914D-2A1AD0A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F973-FFA1-4652-A4C5-49483AF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067-4505-4A05-9DF4-E161DBC7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DC2-3630-4AFE-B9B0-D1BAF2C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D7C-3239-42B2-A19C-4B931E8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5E7B-7C3A-42B8-87A1-78DA0F2E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622F-09D9-47D0-A984-608EBE20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C28B-65EC-4746-917F-1C55FF9D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D45-A037-4DCB-9BEA-DF252767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048-6F84-4D05-9D9E-2DF9191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481-90D2-40B7-B429-766E16B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D65-C55C-4B24-AA1D-2CEEBDE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EEF-70A1-413C-BE58-D83B143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743-6A64-4EBA-9C2E-BC79F6D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3BC-8CD1-4971-BDD4-A6952C8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5DE9-48AD-417E-9BA3-E52B7F7BF19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71A-18E3-4295-BC69-A7CC4579A3A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assy-muir.com/products/pmvs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1905120" y="2057400"/>
          <a:ext cx="6172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6172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3"/>
          <p:cNvSpPr/>
          <p:nvPr/>
        </p:nvSpPr>
        <p:spPr>
          <a:xfrm>
            <a:off x="468360" y="228600"/>
            <a:ext cx="837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natomical position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tracheostomy tub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17220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11280" y="38088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ercutaneous tracheostomy insertion kit (rhi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16292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26920" y="3808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ercutaneous tracheostomy ki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omponents of tracheostom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izes range from 2.5mm to 11 m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urved tu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flatable cu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langes with h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be blad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4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eri-operative complications of tracheostomy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emorrh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 emphys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ir embo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id cartilag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rve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TrachAnat"/>
          <p:cNvPicPr/>
          <p:nvPr/>
        </p:nvPicPr>
        <p:blipFill>
          <a:blip r:embed="rId1"/>
          <a:stretch/>
        </p:blipFill>
        <p:spPr>
          <a:xfrm>
            <a:off x="4859280" y="1989000"/>
            <a:ext cx="428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COMPLICATIONS ASSOCIATED WITH TRACHEOSTOMY TUBE PLAC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59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cheal stenosis, ulceration, fibrosis, tracheomala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normal humidifying and warming mech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ss of physiological p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reased risk of nosocomial pneu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236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ING FOR THE PATI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ing a tracheostomy can be very traumatic and many patients find it difficult to adju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tients with a new tracheostomy will need lots of support, reassuranc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are of the patient with a tracheostom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afety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are of the s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nfection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AFETY FIRST</a:t>
            </a:r>
            <a:br>
              <a:rPr sz="4000"/>
            </a:br>
            <a:r>
              <a:rPr b="1" lang="en-GB" sz="2400" spc="-1" strike="noStrike">
                <a:solidFill>
                  <a:srgbClr val="e5ffff"/>
                </a:solidFill>
                <a:latin typeface="Tahoma"/>
              </a:rPr>
              <a:t>WHEN CARING FOR A PATIENT WITH A TRACHEOSTOMY YOU MUST ENSURE THAT:-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227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pare tracheostomies available close by 1 the same size and the other a size sm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al kit is clos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ction equipment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fferent size suction catheter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xygen i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ergency equipment is available including a resuscitation bag and mask and defibrillator and emergency dru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24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ARE OF THE STOMA / INFECTION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oma has to be cared for car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needs to be cleaned and inspected 2-3 times a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should be cleaned using aseptic technique and appropriate dressings applied to aid hea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nce tube is removed the stoma will close spontaneously over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7" descr="granulation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24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arkerStoma"/>
          <p:cNvPicPr/>
          <p:nvPr/>
        </p:nvPicPr>
        <p:blipFill>
          <a:blip r:embed="rId2"/>
          <a:stretch/>
        </p:blipFill>
        <p:spPr>
          <a:xfrm>
            <a:off x="395280" y="3860640"/>
            <a:ext cx="41054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WHAT IS A TRACHEOSTOM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tracheostomy is a surgical opening in the anterior wall of the trachea just below the laryn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provides an alternative airway, bypassing the upper pass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5788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PSYCHOLOGICAL /COMMUNIC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94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tients and family require reassurance and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ternative methods of communication should be sou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tact medical team for advice on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stimulation in the form of television, radio, newspaper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valvefami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89000"/>
            <a:ext cx="3492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NUTR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ck local policy on eating and drinking with tracheostom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ome trusts allow patients to eat and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s do no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ual ways of feeding include oral, nasogastric or parent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atients with tracheostomies can be found in many health care environments from intensive care/high dependency to the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aring for patients with tracheostomies can be difficult but rewar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5ffff"/>
                </a:solidFill>
                <a:latin typeface="Tahoma"/>
              </a:rPr>
              <a:t>Types of tracheostomy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ma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erg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uta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nitracheos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ricothyroidot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RACHEOSTOMY TUB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tracheostomy tube is: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serted through the tracheostomy to maintain a patent air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cured in place by tapes tied around the n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INDIC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40" y="907920"/>
            <a:ext cx="8589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per airway ob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ergency airway a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longed ventilation(e.g. I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rovide and maintain a patent ai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enable the removal of tracheobronchial secre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permit long term positive pressure venti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improve patient com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 decrease the work of breathing and increase volume of air entering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art of another procedure, for example, head and neck surge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CONTRAINDI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anat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bid obesity with short ne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neck mov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vical spine injury – suspected or otherw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rrant blood vess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roid or tracheal patholo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gulopat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 of infection in the soft tissues of the neck at the insertion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Un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UCTION CATHETER"/>
          <p:cNvPicPr/>
          <p:nvPr/>
        </p:nvPicPr>
        <p:blipFill>
          <a:blip r:embed="rId1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uff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Trac"/>
          <p:cNvPicPr/>
          <p:nvPr/>
        </p:nvPicPr>
        <p:blipFill>
          <a:blip r:embed="rId1"/>
          <a:srcRect l="0" t="0" r="43039" b="0"/>
          <a:stretch/>
        </p:blipFill>
        <p:spPr>
          <a:xfrm>
            <a:off x="4572000" y="1844640"/>
            <a:ext cx="410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TYPES OF TRACHEOSTOMY TUB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enestr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trachtube"/>
          <p:cNvPicPr/>
          <p:nvPr/>
        </p:nvPicPr>
        <p:blipFill>
          <a:blip r:embed="rId1"/>
          <a:stretch/>
        </p:blipFill>
        <p:spPr>
          <a:xfrm>
            <a:off x="4716360" y="1989000"/>
            <a:ext cx="39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58:49Z</dcterms:created>
  <dc:creator>HNHarveyS</dc:creator>
  <dc:description/>
  <dc:language>en-US</dc:language>
  <cp:lastModifiedBy>Dalyal Alosaimi</cp:lastModifiedBy>
  <dcterms:modified xsi:type="dcterms:W3CDTF">2016-01-27T07:03:18Z</dcterms:modified>
  <cp:revision>39</cp:revision>
  <dc:subject/>
  <dc:title>No Slide Title</dc:title>
</cp:coreProperties>
</file>