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1.png" ContentType="image/png"/>
  <Override PartName="/ppt/media/image6.wmf" ContentType="image/x-wmf"/>
  <Override PartName="/ppt/media/image14.jpeg" ContentType="image/jpe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9C344-BF06-4E19-8F88-EBF7CA6906E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6F2F0-300B-48BC-B044-E45D697F1256}" type="slidenum"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42F1-D87A-4DEB-A937-BA567F6F4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ADC3-875C-446D-A17A-DCEF6A54D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3134-B592-49FE-AA42-8158C6442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43AA-FE42-461D-8BE9-D3ABED370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03A47-7398-4D5B-93C1-6EB175A8A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C4C35-AF91-492D-B2AA-BFD585740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AF685-A95E-42FB-8548-15F7FD308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1C693-4D12-4894-8348-5ECA1E7F3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5B7C4-7061-4F97-80EB-5EAD14AC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ECA65-6900-4A0D-BBE1-59DD0CBF5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8158E-A723-4122-926D-FED53C48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3DBB-186F-46CD-88B0-98C863122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62E2A-D2C5-499E-BE8D-E16722FC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E9E6F-87A9-43EB-8014-CE7891FE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DD2AC-FC98-4C34-BE3E-6A3BC095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23AAF-F713-4C8F-8E5D-19522EF04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90208-4C91-4C8D-9B84-8BA4FD124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C4D6-96FD-410C-BAE0-D8C51A3A7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EA43-FD1E-4410-B31D-46BA9D566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B008-A2A3-4975-9E2F-E512111F1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81EF-6FFA-4831-B8B3-F9D7D0D10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1F1F-1DC6-4BDB-BC9F-25B1ADB0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DAA5-5320-4751-99F1-4C2B090C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3EF6-2BBF-4C5F-9856-35CBC4B6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B22D7-AA68-46B5-A173-D0D0BE8BB34F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18A0E-2FC7-45CF-9C56-B5DCFFBC4FB0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passy-muir.com/products/pmvs/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Care of the patient with a tracheostom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1905120" y="2057400"/>
          <a:ext cx="617220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057400"/>
                    <a:ext cx="61722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Text Box 3"/>
          <p:cNvSpPr/>
          <p:nvPr/>
        </p:nvSpPr>
        <p:spPr>
          <a:xfrm>
            <a:off x="468360" y="228600"/>
            <a:ext cx="8370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Anatomical positioning of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a tracheostomy tub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1828800" y="2133720"/>
            <a:ext cx="6172200" cy="44956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611280" y="380880"/>
            <a:ext cx="807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Percutaneous tracheostomy insertion kit (rhino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1295280" y="2057400"/>
            <a:ext cx="7162920" cy="44956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826920" y="380880"/>
            <a:ext cx="740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Percutaneous tracheostomy ki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ffff"/>
                </a:solidFill>
                <a:latin typeface="Tahoma"/>
              </a:rPr>
              <a:t>Components of tracheostom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izes range from 2.5mm to 11 m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urved tub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nflatable cuf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Flanges with ho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ube blad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1"/>
          <a:stretch/>
        </p:blipFill>
        <p:spPr>
          <a:xfrm>
            <a:off x="4716360" y="1989000"/>
            <a:ext cx="44276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5ffff"/>
                </a:solidFill>
                <a:latin typeface="Tahoma"/>
              </a:rPr>
              <a:t>Peri-operative complications of tracheostomy</a:t>
            </a:r>
            <a:r>
              <a:rPr b="0" lang="en-GB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GB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GB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GB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GB" sz="40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Haemorrh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urgical emphyse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neumothor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ir embol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ricoid cartilage dam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Nerve dam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5" descr="TrachAnat"/>
          <p:cNvPicPr/>
          <p:nvPr/>
        </p:nvPicPr>
        <p:blipFill>
          <a:blip r:embed="rId1"/>
          <a:stretch/>
        </p:blipFill>
        <p:spPr>
          <a:xfrm>
            <a:off x="4859280" y="1989000"/>
            <a:ext cx="428472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5ffff"/>
                </a:solidFill>
                <a:latin typeface="Tahoma"/>
              </a:rPr>
              <a:t>COMPLICATIONS ASSOCIATED WITH TRACHEOSTOMY TUBE PLACEMEN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3640" y="1989000"/>
            <a:ext cx="59036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racheal stenosis, ulceration, fibrosis, tracheomalac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Loss of normal humidifying and warming mechanis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Loss of physiological pee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ncreased risk of nosocomial pneumon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6516720" y="2205000"/>
            <a:ext cx="223668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CARING FOR THE PATI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Having a tracheostomy can be very traumatic and many patients find it difficult to adjus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atients with a new tracheostomy will need lots of support, reassurance and edu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ffff"/>
                </a:solidFill>
                <a:latin typeface="Tahoma"/>
              </a:rPr>
              <a:t>Care of the patient with a tracheostomy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Safety fir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Care of the sto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Communi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sychologic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Nutri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Infection contr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5ffff"/>
                </a:solidFill>
                <a:latin typeface="Tahoma"/>
              </a:rPr>
              <a:t>SAFETY FIRST</a:t>
            </a:r>
            <a:br>
              <a:rPr sz="4000"/>
            </a:br>
            <a:r>
              <a:rPr b="1" lang="en-GB" sz="2400" spc="-1" strike="noStrike">
                <a:solidFill>
                  <a:srgbClr val="e5ffff"/>
                </a:solidFill>
                <a:latin typeface="Tahoma"/>
              </a:rPr>
              <a:t>WHEN CARING FOR A PATIENT WITH A TRACHEOSTOMY YOU MUST ENSURE THAT:-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916000" y="1700280"/>
            <a:ext cx="6227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re are spare tracheostomies available close by 1 the same size and the other a size small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 tracheal kit is close b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uction equipment is avail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ifferent size suction catheters avail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Oxygen is avail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Emergency equipment is available including a resuscitation bag and mask and defibrillator and emergency dru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539640" y="2060640"/>
            <a:ext cx="22496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CARE OF THE STOMA / INFECTION CONTRO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981080"/>
            <a:ext cx="40384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411444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00720" y="1412640"/>
            <a:ext cx="464328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stoma has to be cared for careful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t needs to be cleaned and inspected 2-3 times a d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t should be cleaned using aseptic technique and appropriate dressings applied to aid heal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Once tube is removed the stoma will close spontaneously over a few day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7" descr="granulation"/>
          <p:cNvPicPr/>
          <p:nvPr/>
        </p:nvPicPr>
        <p:blipFill>
          <a:blip r:embed="rId1"/>
          <a:stretch/>
        </p:blipFill>
        <p:spPr>
          <a:xfrm>
            <a:off x="395280" y="1413000"/>
            <a:ext cx="4105440" cy="2447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3" descr="ParkerStoma"/>
          <p:cNvPicPr/>
          <p:nvPr/>
        </p:nvPicPr>
        <p:blipFill>
          <a:blip r:embed="rId2"/>
          <a:stretch/>
        </p:blipFill>
        <p:spPr>
          <a:xfrm>
            <a:off x="395280" y="3860640"/>
            <a:ext cx="410544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WHAT IS A TRACHEOSTOMY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 tracheostomy is a surgical opening in the anterior wall of the trachea just below the larynx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t provides an alternative airway, bypassing the upper passag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578800" cy="117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5ffff"/>
                </a:solidFill>
                <a:latin typeface="Tahoma"/>
              </a:rPr>
              <a:t>PSYCHOLOGICAL /COMMUNICATIO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51940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atients and family require reassurance and supp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lternative methods of communication should be soug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ontact medical team for advice on communi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rovide stimulation in the form of television, radio, newspapers, et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012000" y="1981080"/>
            <a:ext cx="267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6" descr="valvefamil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1989000"/>
            <a:ext cx="349236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NUTRI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heck local policy on eating and drinking with tracheostom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ome trusts allow patients to eat and drin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Others do not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Usual ways of feeding include oral, nasogastric or parenter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Patients with tracheostomies can be found in many health care environments from intensive care/high dependency to the communit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Caring for patients with tracheostomies can be difficult but reward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e5ffff"/>
                </a:solidFill>
                <a:latin typeface="Tahoma"/>
              </a:rPr>
              <a:t>Types of tracheostomy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empora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erman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Emergen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urgic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ercutaneo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initracheostom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ricothyroidotom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TRACHEOSTOMY TUB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 tracheostomy tube is: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nserted through the tracheostomy to maintain a patent airw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ecured in place by tapes tied around the nec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7" descr=""/>
          <p:cNvPicPr/>
          <p:nvPr/>
        </p:nvPicPr>
        <p:blipFill>
          <a:blip r:embed="rId1"/>
          <a:stretch/>
        </p:blipFill>
        <p:spPr>
          <a:xfrm>
            <a:off x="4572000" y="1916280"/>
            <a:ext cx="4572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ffff"/>
                </a:solidFill>
                <a:latin typeface="Tahoma"/>
              </a:rPr>
              <a:t>INDICATIO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7640" y="907920"/>
            <a:ext cx="85899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pper airway obstruc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ergency airway acces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longed ventilation(e.g. ICU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o provide and maintain a patent airw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o enable the removal of tracheobronchial secre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o permit long term positive pressure ventil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o improve patient comf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o decrease the work of breathing and increase volume of air entering the lu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part of another procedure, for example, head and neck surger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CONTRAINDICA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9528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fficult anatom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rbid obesity with short neck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mited neck movemen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rvical spine injury – suspected or otherwis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errant blood vessel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yroid or tracheal patholog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agulopath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idence of infection in the soft tissues of the neck at the insertion sit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5ffff"/>
                </a:solidFill>
                <a:latin typeface="Tahoma"/>
              </a:rPr>
              <a:t>TYPES OF TRACHEOSTOMY TUB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Uncuffe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8" descr="SUCTION CATHETER"/>
          <p:cNvPicPr/>
          <p:nvPr/>
        </p:nvPicPr>
        <p:blipFill>
          <a:blip r:embed="rId1"/>
          <a:stretch/>
        </p:blipFill>
        <p:spPr>
          <a:xfrm>
            <a:off x="4643280" y="1989000"/>
            <a:ext cx="4032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5ffff"/>
                </a:solidFill>
                <a:latin typeface="Tahoma"/>
              </a:rPr>
              <a:t>TYPES OF TRACHEOSTOMY TUB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Cuffe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7" descr="Trac"/>
          <p:cNvPicPr/>
          <p:nvPr/>
        </p:nvPicPr>
        <p:blipFill>
          <a:blip r:embed="rId1"/>
          <a:srcRect l="0" t="0" r="43039" b="0"/>
          <a:stretch/>
        </p:blipFill>
        <p:spPr>
          <a:xfrm>
            <a:off x="4572000" y="1844640"/>
            <a:ext cx="410364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5ffff"/>
                </a:solidFill>
                <a:latin typeface="Tahoma"/>
              </a:rPr>
              <a:t>TYPES OF TRACHEOSTOMY TUB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Fenestrate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9" descr="trachtube"/>
          <p:cNvPicPr/>
          <p:nvPr/>
        </p:nvPicPr>
        <p:blipFill>
          <a:blip r:embed="rId1"/>
          <a:stretch/>
        </p:blipFill>
        <p:spPr>
          <a:xfrm>
            <a:off x="4716360" y="1989000"/>
            <a:ext cx="39592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3T12:58:49Z</dcterms:created>
  <dc:creator>HNHarveyS</dc:creator>
  <dc:description/>
  <dc:language>en-US</dc:language>
  <cp:lastModifiedBy>Nasima Yahya Awaji</cp:lastModifiedBy>
  <dcterms:modified xsi:type="dcterms:W3CDTF">2016-09-25T09:00:54Z</dcterms:modified>
  <cp:revision>39</cp:revision>
  <dc:subject/>
  <dc:title>No Slide Title</dc:title>
</cp:coreProperties>
</file>