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645-9EDE-4B90-B055-D7E940A18C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BAD0-9111-465E-80F1-7C03CD57ABCE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EBD-6874-4258-A8E2-869370CD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85E-A368-4A01-9EAB-41FB6B8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F3A-C8FD-48AD-892A-8607F4BE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4C8-9C49-4FFC-92E0-996C4D9C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D7A6-D7A6-4D4B-AFBE-F03212DF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034-E797-49D4-B830-C402FFD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5C6-B8BC-4173-8AEE-F54F8FE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2CF6-2E81-4811-A389-4772D2C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FC7A-3E02-418C-BE3A-BCFE1DA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6AE-CC0C-4D50-925B-10709519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8E24-C51B-4D5D-8E3B-7B51ACF2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5E1-7887-4563-8988-4325B2C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B103-7154-4E96-ACAD-10B697B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96EC-878C-41C1-8EDF-CD91A38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A490-24CF-4FD5-8510-B2AB050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850-427F-45B1-8051-5CA563F8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0FFC-4216-4349-9AFD-39DC37B5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A64-85D9-421B-B38A-096AAF45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BFC-493D-461F-B38D-19BD4E9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6CD-49BB-409F-9CA6-9DF4D33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152-1CF6-488B-A594-3191DA0F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342-C8A1-4ABC-81A6-68FBE27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EE2-D6A3-4952-A305-26A0D20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2D7-B83E-4BFF-813E-0F86C78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A6F-4DC1-43D5-8FE4-3B17F680B2B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DDD4-5185-4E77-AC22-148ECEE4EB3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ssy-muir.com/products/pmv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905120" y="2057400"/>
          <a:ext cx="6172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6172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468360" y="228600"/>
            <a:ext cx="837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atomical position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tracheostomy tu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17220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11280" y="38088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ercutaneous tracheostomy insertion kit (rhi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3808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ercutaneous tracheostomy k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mponents of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zes range from 2.5mm to 11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urved 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flatable cu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langes with h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be blad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4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eri-operative complications of tracheostomy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emorrh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 emphys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r em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id cartilag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rv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TrachAnat"/>
          <p:cNvPicPr/>
          <p:nvPr/>
        </p:nvPicPr>
        <p:blipFill>
          <a:blip r:embed="rId1"/>
          <a:stretch/>
        </p:blipFill>
        <p:spPr>
          <a:xfrm>
            <a:off x="4859280" y="1989000"/>
            <a:ext cx="428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COMPLICATIONS ASSOCIATED WITH TRACHEOSTOMY TUBE PLAC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59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cheal stenosis, ulceration, fibrosis, tracheomala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normal humidifying and warming mech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physiological p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risk of nosocomial pneu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236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ING FOR THE PATI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ing a tracheostomy can be very traumatic and many patients find it difficult to adju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tients with a new tracheostomy will need lots of support, reassuranc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afety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are of the s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fection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AFETY FIRST</a:t>
            </a:r>
            <a:br>
              <a:rPr sz="40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WHEN CARING FOR A PATIENT WITH A TRACHEOSTOMY YOU MUST ENSURE THAT:-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227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pare tracheostomies available close by 1 the same size and the other a size sm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al kit is clos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ction equipment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size suction catheter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xygen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ergency equipment is available including a resuscitation bag and mask and defibrillator and emergency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24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STOMA / INFECTION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oma has to be cared for car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needs to be cleaned and inspected 2-3 times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should be cleaned using aseptic technique and appropriate dressings applied to aid h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tube is removed the stoma will close spontaneously over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granulation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arkerStoma"/>
          <p:cNvPicPr/>
          <p:nvPr/>
        </p:nvPicPr>
        <p:blipFill>
          <a:blip r:embed="rId2"/>
          <a:stretch/>
        </p:blipFill>
        <p:spPr>
          <a:xfrm>
            <a:off x="395280" y="3860640"/>
            <a:ext cx="41054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HAT IS A TRACHEOSTOM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tracheostomy is a surgical opening in the anterior wall of the trachea just below the laryn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provides an alternative airway, bypassing the upper pass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78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SYCHOLOGICAL /COMMUN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94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tients and family require reassurance and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ternative methods of communication should be s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ct medical team for advice on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stimulation in the form of television, radio, newspaper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valve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89000"/>
            <a:ext cx="3492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NUTR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local policy on eating and drinking with tracheostom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 trusts allow patients to eat and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s do no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ual ways of feeding include oral, nasogastric or parent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atients with tracheostomies can be found in many health care environments from intensive care/high dependency to the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aring for patients with tracheostomies can be difficult but rewar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5ffff"/>
                </a:solidFill>
                <a:latin typeface="Tahoma"/>
              </a:rPr>
              <a:t>Types of tracheostom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ma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erg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u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nitracheos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thyroido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RACHEOSTOMY TUB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ostomy tube is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erted through the tracheostomy to maintain a patent air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cured in place by tapes tied around the n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INDIC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907920"/>
            <a:ext cx="8589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irway ob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y airway a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onged ventilation(e.g. 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rovide and maintain a patent ai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enable the removal of tracheobronchial secre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ermit long term positive pressure venti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improve patient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decrease the work of breathing and increase volume of air entering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art of another procedure, for example, head and neck surg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ONTRAINDI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anat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bid obesity with short ne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neck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vical spine injury – suspected or otherw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rrant blood vess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roid or tracheal path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gulopat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 of infection in the soft tissues of the neck at the insertion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Un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UCTION CATHETER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Trac"/>
          <p:cNvPicPr/>
          <p:nvPr/>
        </p:nvPicPr>
        <p:blipFill>
          <a:blip r:embed="rId1"/>
          <a:srcRect l="0" t="0" r="43039" b="0"/>
          <a:stretch/>
        </p:blipFill>
        <p:spPr>
          <a:xfrm>
            <a:off x="4572000" y="1844640"/>
            <a:ext cx="410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enestr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trachtube"/>
          <p:cNvPicPr/>
          <p:nvPr/>
        </p:nvPicPr>
        <p:blipFill>
          <a:blip r:embed="rId1"/>
          <a:stretch/>
        </p:blipFill>
        <p:spPr>
          <a:xfrm>
            <a:off x="4716360" y="1989000"/>
            <a:ext cx="39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58:49Z</dcterms:created>
  <dc:creator>HNHarveyS</dc:creator>
  <dc:description/>
  <dc:language>en-US</dc:language>
  <cp:lastModifiedBy>Nasima Yahya Awaji</cp:lastModifiedBy>
  <dcterms:modified xsi:type="dcterms:W3CDTF">2016-09-25T09:00:54Z</dcterms:modified>
  <cp:revision>39</cp:revision>
  <dc:subject/>
  <dc:title>No Slide Title</dc:title>
</cp:coreProperties>
</file>