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312-8E2B-4E2C-9A12-6A3BD3F9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656-BB39-47C1-A705-7CE6B488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0B8-FBAA-4A58-857B-5A55FC05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378-1E3A-4C35-BC5D-6349F830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879-5FE3-4A5B-A23E-90DC5A5B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A9D-E71A-497E-920A-36DB6FA0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A9A-04A3-4937-9312-0DB36A25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485-AE95-4011-B033-352324B6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977-DDCF-4D86-AB72-15403220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D1D-0223-4D33-9E0A-C363839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148-CD5F-4600-A5BF-AAFEC234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013-23B4-4CF1-B90E-DB2819BA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34C0-C964-47DF-BF0A-EE38DD2AFE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hsc.on.ca/icu/educate/abgglos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10600">
            <a:off x="1844280" y="2492280"/>
            <a:ext cx="568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00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-Base Bala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10cm"/>
          <p:cNvPicPr/>
          <p:nvPr/>
        </p:nvPicPr>
        <p:blipFill>
          <a:blip r:embed="rId1"/>
          <a:stretch/>
        </p:blipFill>
        <p:spPr>
          <a:xfrm>
            <a:off x="7308720" y="404640"/>
            <a:ext cx="12988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724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Normal plasma pH =  </a:t>
            </a:r>
            <a:r>
              <a:rPr b="1" lang="en-US" sz="3600" spc="-1" strike="noStrike">
                <a:solidFill>
                  <a:srgbClr val="ff0066"/>
                </a:solidFill>
                <a:latin typeface="Berlin Sans FB"/>
              </a:rPr>
              <a:t>7.4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(Range: 7.35 - 7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O2 + H20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   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2CO3   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CO3- +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13200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529272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5364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132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ABG-Figures"/>
          <p:cNvPicPr/>
          <p:nvPr/>
        </p:nvPicPr>
        <p:blipFill>
          <a:blip r:embed="rId1"/>
          <a:stretch/>
        </p:blipFill>
        <p:spPr>
          <a:xfrm>
            <a:off x="2484360" y="3500280"/>
            <a:ext cx="48243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Gas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057400"/>
          <a:ext cx="7619760" cy="22860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r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5-7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5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Ve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0-7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3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~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Acid-B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mechanisms to maintain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spiratory (CO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Buffer (in the blood:  carbonic acid/bicarbonate, phosphate buffers, Hg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nal (H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99"/>
                </a:solidFill>
                <a:latin typeface="Showcard Gothic"/>
              </a:rPr>
              <a:t>Buffe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 buffer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ubstance that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can give or accept proton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.e.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+,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 manner that tends to </a:t>
            </a:r>
            <a:r>
              <a:rPr b="0" i="1" lang="en-US" sz="3200" spc="-1" strike="noStrike">
                <a:solidFill>
                  <a:srgbClr val="000000"/>
                </a:solidFill>
                <a:latin typeface="Berlin Sans FB"/>
              </a:rPr>
              <a:t>minimise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of the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Usually buffers are composed of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donor) and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acceptor) as shown in the following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buffer%20reaction"/>
          <p:cNvPicPr/>
          <p:nvPr/>
        </p:nvPicPr>
        <p:blipFill>
          <a:blip r:embed="rId1"/>
          <a:stretch/>
        </p:blipFill>
        <p:spPr>
          <a:xfrm>
            <a:off x="2916360" y="5589720"/>
            <a:ext cx="41767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process of acid-base regulation invol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hemical buffering by intracellular and extracellular buffer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pCO2 by normal respiratory function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HCO3- concentration and acid excretion by the kidney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The Renal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Reclaim filtered HCO3- (therefore,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void HCO3- los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Regenerate HCO3-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n amou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erlin Sans FB"/>
              </a:rPr>
              <a:t>equal to that used as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In contrast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to the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respiratory system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, can fully compensat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without any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bicarbonate pool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Respiratory Function</a:t>
            </a:r>
            <a:r>
              <a:rPr b="0" lang="en-US" sz="4400" spc="-1" strike="noStrike">
                <a:solidFill>
                  <a:srgbClr val="99cc00"/>
                </a:solidFill>
                <a:latin typeface="Showcard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respiratory system is able to compensate for changes in the acid/base balance by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increasing or decreasing ventilatory rate.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is would result in an increase or decrease of pCO2 in the blood. Thus changes are compensated at cost, i.e. changes in the bicarbonate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Ab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cid-base imbalances can be defined as acidosis or alkal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less than 7.35 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lkal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CO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lkal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greater than 7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id-base disturb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ord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HCO3-→Metabolic dis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CO2→Respirator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Steps for ABG interpretation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o2 (hypox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H (acid or alka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co2 (resp. acidosis, alkalosis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Hco3 (metabolic acidosis, alkalosis,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back at pH (compensated or uncompens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ABG interpretation</a:t>
            </a: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acronym ROME (Respiratory opposite, Metabolic equal) to help you remem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respiratory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metabolic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respiratory acidosis with metabolic alkalosis\ main disordered is acidosis and alkalosis is the compensated, because the pH is on the acid side of 7.4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metabolic alkalosis with respiratory acidosis \ main disordered is alkalosis and acidosis is the compensated, because the pH is on the alkaline side of 7.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alibri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dy acidity has to be kept at a fairly constant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range within body fluids 7.35 - 7.4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is constantly being attacked by metabolic processes within the body that produces acidic metaboli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do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accep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Physiologically, there are two groups of important acid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ic acid (H2CO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carb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Carbonic acid (H2CO2)</a:t>
            </a: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bonic 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s from CHO and fat metabolism and results in 15,000 mmol of CO2/day. Carbonic acid metabolism is </a:t>
            </a: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mostly handled by respiration</a:t>
            </a: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alibri"/>
              </a:rPr>
              <a:t>CO2 + H20         H2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878200" y="3933720"/>
            <a:ext cx="504720" cy="144720"/>
          </a:xfrm>
          <a:prstGeom prst="rightArrow">
            <a:avLst>
              <a:gd name="adj1" fmla="val 50000"/>
              <a:gd name="adj2" fmla="val 87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841480" y="4221000"/>
            <a:ext cx="503280" cy="144720"/>
          </a:xfrm>
          <a:prstGeom prst="leftArrow">
            <a:avLst>
              <a:gd name="adj1" fmla="val 50000"/>
              <a:gd name="adj2" fmla="val 86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alibri"/>
              </a:rPr>
              <a:t>Non carbonic acid</a:t>
            </a: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 (non-volatile aci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es from protein metabolis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+ can be captured in the form of H2SO4, H2PO4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reted by the kidn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Factors involved in gas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otrs affects gas exchange, this process occurs between the alveoli &amp; pulmonary capillaries &amp; between capillaries &amp; tissue. Its involvi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Ventilation-perfus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xyhemoglobin 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577044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Partial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7564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assessing a patient's oxygenation, one of the first steps is to look at PaO2 is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partial press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oxygen dissolved in b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aO2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80 to 100 mmHg;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owever this is normal for a healthy person, less than 60 years old, breathing room 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lide 8: PaO2 &amp; SaO2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7:14:32Z</dcterms:created>
  <dc:creator>xp</dc:creator>
  <dc:description/>
  <dc:language>en-US</dc:language>
  <cp:lastModifiedBy>Nasima Yahya Awaji</cp:lastModifiedBy>
  <dcterms:modified xsi:type="dcterms:W3CDTF">2016-09-25T08:59:46Z</dcterms:modified>
  <cp:revision>48</cp:revision>
  <dc:subject/>
  <dc:title>Arterial blood gases analysis</dc:title>
</cp:coreProperties>
</file>