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37C-7334-459F-B297-254993D9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80B-917F-4DD0-A90C-35B7F86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702-4D1C-40ED-BCDA-58BBBEC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6A1-CD7A-4E96-BA47-AEDF7D43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57D-CA4B-47E6-A832-0DEA3FA4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18E-166C-40D7-95F2-89DCC717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58C-C7D4-40D3-9E6D-FB16FB67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7E5-8407-4568-BA25-BDC2418D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558-24F2-42C4-B4BF-6BC7CE4F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467-51C1-402C-A3F0-11AFE2D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52E-D63F-4423-9FBA-2B9BD64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6DD-24F0-435C-8424-EA56649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0BE5-FA29-455D-A6F9-509810FAA2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libri"/>
              </a:rPr>
              <a:t>Non carbonic acid</a:t>
            </a: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 (non-volatile aci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s from protein metabolis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+ can be captured in the form of H2SO4, H2PO4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reted by the kidn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Nasima Yahya Awaji</cp:lastModifiedBy>
  <dcterms:modified xsi:type="dcterms:W3CDTF">2016-09-25T08:59:46Z</dcterms:modified>
  <cp:revision>48</cp:revision>
  <dc:subject/>
  <dc:title>Arterial blood gases analysis</dc:title>
</cp:coreProperties>
</file>