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63B-B380-41C3-82E8-5FC04215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DB2-E191-4F8C-9A10-B17F22B2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102-572A-4CE7-B3AA-C828328A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965-6AD6-4CB6-993B-139AF44F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62F-EFA1-44D9-B0F0-7C158DBB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EE5-4870-421A-BFEE-A17A7A43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C05-3047-427B-938B-FB580D11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734-C1A3-4F3A-8893-815302A3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8C8-1133-4047-927F-DB21F0A4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C5B-FBDC-490B-87B9-F7B1B45D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59E-4571-40DC-8BDA-5070A62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7C6-7970-4B38-A5A6-623D9317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43E9-624B-45AB-B38C-31B39F3160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hsc.on.ca/icu/educate/abgglos.ht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510600">
            <a:off x="1844280" y="2492280"/>
            <a:ext cx="568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00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id-Base Balan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10cm"/>
          <p:cNvPicPr/>
          <p:nvPr/>
        </p:nvPicPr>
        <p:blipFill>
          <a:blip r:embed="rId1"/>
          <a:stretch/>
        </p:blipFill>
        <p:spPr>
          <a:xfrm>
            <a:off x="7308720" y="404640"/>
            <a:ext cx="129888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7240" y="-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d Gas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2057400"/>
          <a:ext cx="7619760" cy="22860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H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Ar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5-7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35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8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Ven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7.30-7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3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~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2-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-2 to 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Acid-B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e mechanisms to maintain 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Respiratory (CO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Buffer (in the blood:  carbonic acid/bicarbonate, phosphate buffers, Hg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Renal (H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99"/>
                </a:solidFill>
                <a:latin typeface="Showcard Gothic"/>
              </a:rPr>
              <a:t>Buffe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 buffer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ubstance that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can give or accept proton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i.e.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+,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 manner that tends to </a:t>
            </a:r>
            <a:r>
              <a:rPr b="0" i="1" lang="en-US" sz="3200" spc="-1" strike="noStrike">
                <a:solidFill>
                  <a:srgbClr val="000000"/>
                </a:solidFill>
                <a:latin typeface="Berlin Sans FB"/>
              </a:rPr>
              <a:t>minimise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of the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Usually buffers are composed of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donor) and a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weak base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(proton acceptor) as shown in the following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buffer%20reaction"/>
          <p:cNvPicPr/>
          <p:nvPr/>
        </p:nvPicPr>
        <p:blipFill>
          <a:blip r:embed="rId1"/>
          <a:stretch/>
        </p:blipFill>
        <p:spPr>
          <a:xfrm>
            <a:off x="2916360" y="5589720"/>
            <a:ext cx="41767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process of acid-base regulation invol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hemical buffering by intracellular and extracellular buffer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pCO2 by normal respiratory function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trol of HCO3- concentration and acid excretion by the kidney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The Renal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Reclaim filtered HCO3- (therefore,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avoid HCO3- los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Regenerate HCO3-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an amou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erlin Sans FB"/>
              </a:rPr>
              <a:t>equal to that used as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In contrast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to the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respiratory system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, can fully compensate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without any change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n the </a:t>
            </a:r>
            <a:r>
              <a:rPr b="1" lang="en-US" sz="3200" spc="-1" strike="noStrike">
                <a:solidFill>
                  <a:srgbClr val="99cc00"/>
                </a:solidFill>
                <a:latin typeface="Berlin Sans FB"/>
              </a:rPr>
              <a:t>bicarbonate pool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Respiratory Function</a:t>
            </a:r>
            <a:r>
              <a:rPr b="0" lang="en-US" sz="4400" spc="-1" strike="noStrike">
                <a:solidFill>
                  <a:srgbClr val="99cc00"/>
                </a:solidFill>
                <a:latin typeface="Showcard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e respiratory system is able to compensate for changes in the acid/base balance by </a:t>
            </a:r>
            <a:r>
              <a:rPr b="1" lang="en-US" sz="3200" spc="-1" strike="noStrike">
                <a:solidFill>
                  <a:srgbClr val="ff0066"/>
                </a:solidFill>
                <a:latin typeface="Berlin Sans FB"/>
              </a:rPr>
              <a:t>increasing or decreasing ventilatory rate.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is would result in an increase or decrease of pCO2 in the blood. Thus changes are compensated at cost, i.e. changes in the bicarbonate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howcard Gothic"/>
              </a:rPr>
              <a:t>Ab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cid-base imbalances can be defined as acidosis or alkalo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cid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less than 7.35 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Alkalosis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is a state of excess HCO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lkalemia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results when the blood pH is greater than 7.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id-base disturb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orde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HCO3-→Metabolic dis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ange in blood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CO2→Respiratory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Steps for ABG interpretation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o2 (hypoxe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H (acid or alka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Paco2 (resp. acidosis, alkalosis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at Hco3 (metabolic acidosis, alkalosis, or 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tep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 back at pH (compensated or uncompens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ABG interpretation</a:t>
            </a: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R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he acronym ROME (Respiratory opposite, Metabolic equal) to help you rememb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respiratory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ncompensated metabolic acid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respiratory acidosis with metabolic alkalosis\ main disordered is acidosis and alkalosis is the compensated, because the pH is on the acid side of 7.4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aO2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9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H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7.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P aCO2: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HCO3-: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mEq\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mpensated metabolic alkalosis with respiratory acidosis \ main disordered is alkalosis and acidosis is the compensated, because the pH is on the alkaline side of 7.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alibri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dy acidity has to be kept at a fairly constant le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range within body fluids 7.35 - 7.4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H is constantly being attacked by metabolic processes within the body that produces acidic metaboli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alibri"/>
              </a:rPr>
              <a:t>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do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ton accep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Physiologically, there are two groups of important acid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ic acid (H2CO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 carbon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Carbonic acid (H2CO2)</a:t>
            </a:r>
            <a:r>
              <a:rPr b="0" lang="en-US" sz="44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bonic 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s from CHO and fat metabolism and results in 15,000 mmol of CO2/day. Carbonic acid metabolism is </a:t>
            </a:r>
            <a:r>
              <a:rPr b="1" lang="en-US" sz="3200" spc="-1" strike="noStrike">
                <a:solidFill>
                  <a:srgbClr val="99cc00"/>
                </a:solidFill>
                <a:latin typeface="Calibri"/>
              </a:rPr>
              <a:t>mostly handled by respiration</a:t>
            </a:r>
            <a:r>
              <a:rPr b="0" lang="en-US" sz="3200" spc="-1" strike="noStrike">
                <a:solidFill>
                  <a:srgbClr val="99cc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alibri"/>
              </a:rPr>
              <a:t>CO2 + H20         H2C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2878200" y="3933720"/>
            <a:ext cx="504720" cy="144720"/>
          </a:xfrm>
          <a:prstGeom prst="rightArrow">
            <a:avLst>
              <a:gd name="adj1" fmla="val 50000"/>
              <a:gd name="adj2" fmla="val 87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2841480" y="4221000"/>
            <a:ext cx="503280" cy="144720"/>
          </a:xfrm>
          <a:prstGeom prst="leftArrow">
            <a:avLst>
              <a:gd name="adj1" fmla="val 50000"/>
              <a:gd name="adj2" fmla="val 869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Arial"/>
              </a:rPr>
              <a:t>Factors involved in gas ex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acotrs affects gas exchange, this process occurs between the alveoli &amp; pulmonary capillaries &amp; between capillaries &amp; tissue. Its involvie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Ventilation-perfusion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Oxyhemoglobin disso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577044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. 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Partial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7564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assessing a patient's oxygenation, one of the first steps is to look at PaO2 is the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partial press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 oxygen dissolved in bl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 PaO2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80 to 100 mmHg;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owever this is normal for a healthy person, less than 60 years old, breathing room 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lide 8: PaO2 &amp; SaO2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Showcard Gothic"/>
              </a:rPr>
              <a:t>Normal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Normal plasma pH =  </a:t>
            </a:r>
            <a:r>
              <a:rPr b="1" lang="en-US" sz="3600" spc="-1" strike="noStrike">
                <a:solidFill>
                  <a:srgbClr val="ff0066"/>
                </a:solidFill>
                <a:latin typeface="Berlin Sans FB"/>
              </a:rPr>
              <a:t>7.4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       </a:t>
            </a:r>
            <a:r>
              <a:rPr b="0" lang="en-US" sz="3200" spc="-1" strike="noStrike">
                <a:solidFill>
                  <a:srgbClr val="99cc00"/>
                </a:solidFill>
                <a:latin typeface="Berlin Sans FB"/>
              </a:rPr>
              <a:t>(Range: 7.35 - 7.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CO2 + H20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    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2CO3     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HCO3- +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313200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5292720" y="2997360"/>
            <a:ext cx="503280" cy="144360"/>
          </a:xfrm>
          <a:prstGeom prst="leftArrow">
            <a:avLst>
              <a:gd name="adj1" fmla="val 50000"/>
              <a:gd name="adj2" fmla="val 8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5364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3132000" y="3213000"/>
            <a:ext cx="505080" cy="144720"/>
          </a:xfrm>
          <a:prstGeom prst="rightArrow">
            <a:avLst>
              <a:gd name="adj1" fmla="val 50000"/>
              <a:gd name="adj2" fmla="val 87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ABG-Figures"/>
          <p:cNvPicPr/>
          <p:nvPr/>
        </p:nvPicPr>
        <p:blipFill>
          <a:blip r:embed="rId1"/>
          <a:stretch/>
        </p:blipFill>
        <p:spPr>
          <a:xfrm>
            <a:off x="2484360" y="3500280"/>
            <a:ext cx="48243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7:14:32Z</dcterms:created>
  <dc:creator>xp</dc:creator>
  <dc:description/>
  <dc:language>en-US</dc:language>
  <cp:lastModifiedBy>DELL</cp:lastModifiedBy>
  <dcterms:modified xsi:type="dcterms:W3CDTF">2016-02-08T14:19:58Z</dcterms:modified>
  <cp:revision>49</cp:revision>
  <dc:subject/>
  <dc:title>Arterial blood gases analysis</dc:title>
</cp:coreProperties>
</file>