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3DD-D705-480C-8ED6-4BB0393D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180-6ED7-4FE8-A95A-4354CAB0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045-4372-4BED-950A-74ABD6A7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2EC-7747-4E91-B681-2F204A1C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93D-AFBE-45D4-A4E0-4CE9B507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A24-18A6-4F7B-B177-C4DA0A42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EDD-87ED-4FCC-AB2D-36B61A2E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AC8-1BD7-4A80-9D50-6B8E53DE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003-8859-4785-9C8F-476C0ECD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742-C97F-4CFD-A783-0456CD2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7F9-87E1-4EBC-A989-88CB8691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096-3565-465B-B553-2FB60FC3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5A6E-32F6-424C-8A5E-645C60F2FE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hsc.on.ca/icu/educate/abgglos.ht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10600">
            <a:off x="1844280" y="2492280"/>
            <a:ext cx="568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00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id-Base Balan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10cm"/>
          <p:cNvPicPr/>
          <p:nvPr/>
        </p:nvPicPr>
        <p:blipFill>
          <a:blip r:embed="rId1"/>
          <a:stretch/>
        </p:blipFill>
        <p:spPr>
          <a:xfrm>
            <a:off x="7308720" y="404640"/>
            <a:ext cx="129888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7240" y="-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Normal plasma pH =  </a:t>
            </a:r>
            <a:r>
              <a:rPr b="1" lang="en-US" sz="3600" spc="-1" strike="noStrike">
                <a:solidFill>
                  <a:srgbClr val="ff0066"/>
                </a:solidFill>
                <a:latin typeface="Berlin Sans FB"/>
              </a:rPr>
              <a:t>7.4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(Range: 7.35 - 7.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CO2 + H20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   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2CO3   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CO3- +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313200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529272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5364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3132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ABG-Figures"/>
          <p:cNvPicPr/>
          <p:nvPr/>
        </p:nvPicPr>
        <p:blipFill>
          <a:blip r:embed="rId1"/>
          <a:stretch/>
        </p:blipFill>
        <p:spPr>
          <a:xfrm>
            <a:off x="2484360" y="3500280"/>
            <a:ext cx="48243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d Gas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057400"/>
          <a:ext cx="7619760" cy="22860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H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r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5-7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5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8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Ven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0-7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3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~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Acid-B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e mechanisms to maintain 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piratory (CO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ffer (in the blood:  carbonic acid/bicarbonate, phosphate buffers, Hg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nal (H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99"/>
                </a:solidFill>
                <a:latin typeface="Showcard Gothic"/>
              </a:rPr>
              <a:t>Buffe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 buffer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ubstance that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can give or accept proton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i.e.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+,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 manner that tends to </a:t>
            </a:r>
            <a:r>
              <a:rPr b="0" i="1" lang="en-US" sz="3200" spc="-1" strike="noStrike">
                <a:solidFill>
                  <a:srgbClr val="000000"/>
                </a:solidFill>
                <a:latin typeface="Berlin Sans FB"/>
              </a:rPr>
              <a:t>minimise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of the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Usually buffers are composed of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donor) and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base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acceptor) as shown in the following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buffer%20reaction"/>
          <p:cNvPicPr/>
          <p:nvPr/>
        </p:nvPicPr>
        <p:blipFill>
          <a:blip r:embed="rId1"/>
          <a:stretch/>
        </p:blipFill>
        <p:spPr>
          <a:xfrm>
            <a:off x="2916360" y="5589720"/>
            <a:ext cx="41767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process of acid-base regulation invol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hemical buffering by intracellular and extracellular buffer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pCO2 by normal respiratory function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HCO3- concentration and acid excretion by the kidney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The Renal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Reclaim filtered HCO3- (therefore,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void HCO3- los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Regenerate HCO3-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n amou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erlin Sans FB"/>
              </a:rPr>
              <a:t>equal to that used as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In contrast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to the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respiratory system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, can fully compensat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without any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bicarbonate pool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Respiratory Function</a:t>
            </a:r>
            <a:r>
              <a:rPr b="0" lang="en-US" sz="4400" spc="-1" strike="noStrike">
                <a:solidFill>
                  <a:srgbClr val="99cc00"/>
                </a:solidFill>
                <a:latin typeface="Showcard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respiratory system is able to compensate for changes in the acid/base balance by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increasing or decreasing ventilatory rate.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is would result in an increase or decrease of pCO2 in the blood. Thus changes are compensated at cost, i.e. changes in the bicarbonate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Ab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cid-base imbalances can be defined as acidosis or alkalo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less than 7.35 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lkal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CO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lkal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greater than 7.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id-base disturb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ord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HCO3-→Metabolic dis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CO2→Respirator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Steps for ABG interpretation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o2 (hypoxe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H (acid or alka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co2 (resp. acidosis, alkalosis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Hco3 (metabolic acidosis, alkalosis,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back at pH (compensated or uncompens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ABG interpretation</a:t>
            </a: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R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he acronym ROME (Respiratory opposite, Metabolic equal) to help you rememb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respiratory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metabolic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respiratory acidosis with metabolic alkalosis\ main disordered is acidosis and alkalosis is the compensated, because the pH is on the acid side of 7.4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metabolic alkalosis with respiratory acidosis \ main disordered is alkalosis and acidosis is the compensated, because the pH is on the alkaline side of 7.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alibri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dy acidity has to be kept at a fairly constant le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range within body fluids 7.35 - 7.4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is constantly being attacked by metabolic processes within the body that produces acidic metaboli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do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accep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Physiologically, there are two groups of important acid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ic acid (H2CO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 carb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Carbonic acid (H2CO2)</a:t>
            </a: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bonic 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s from CHO and fat metabolism and results in 15,000 mmol of CO2/day. Carbonic acid metabolism is </a:t>
            </a: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mostly handled by respiration</a:t>
            </a: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alibri"/>
              </a:rPr>
              <a:t>CO2 + H20         H2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878200" y="3933720"/>
            <a:ext cx="504720" cy="144720"/>
          </a:xfrm>
          <a:prstGeom prst="rightArrow">
            <a:avLst>
              <a:gd name="adj1" fmla="val 50000"/>
              <a:gd name="adj2" fmla="val 87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841480" y="4221000"/>
            <a:ext cx="503280" cy="144720"/>
          </a:xfrm>
          <a:prstGeom prst="leftArrow">
            <a:avLst>
              <a:gd name="adj1" fmla="val 50000"/>
              <a:gd name="adj2" fmla="val 86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alibri"/>
              </a:rPr>
              <a:t>Non carbonic acid</a:t>
            </a: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 (non-volatile aci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es from protein metabolis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+ can be captured in the form of H2SO4, H2PO4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reted by the kidn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Factors involved in gas ex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acotrs affects gas exchange, this process occurs between the alveoli &amp; pulmonary capillaries &amp; between capillaries &amp; tissue. Its involvi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Ventilation-perfusio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xyhemoglobin di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577044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.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Partial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7564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assessing a patient's oxygenation, one of the first steps is to look at PaO2 is th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partial press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oxygen dissolved in bl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aO2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80 to 100 mmHg;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owever this is normal for a healthy person, less than 60 years old, breathing room 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lide 8: PaO2 &amp; SaO2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7:14:32Z</dcterms:created>
  <dc:creator>xp</dc:creator>
  <dc:description/>
  <dc:language>en-US</dc:language>
  <cp:lastModifiedBy>rtumala</cp:lastModifiedBy>
  <dcterms:modified xsi:type="dcterms:W3CDTF">2016-10-11T09:28:24Z</dcterms:modified>
  <cp:revision>48</cp:revision>
  <dc:subject/>
  <dc:title>Arterial blood gases analysis</dc:title>
</cp:coreProperties>
</file>