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178D-8020-43F8-8B4F-4AB96ECF5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FD1D-F073-4E72-9E57-D8DB8E52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319A-478B-4B38-9B08-AE01BA3AF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5D5B-B0A5-4BE0-B970-6CA2A29CD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DCAF-0DB0-4BD8-8CAC-9876D889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29E3-2DCD-4154-8DD1-0B0F5539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1B5D-5202-47A7-937A-11E7DD47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C31B-0DDC-41E7-ACEF-D1D333EC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D456-8F4C-4C7E-9CF0-D987DF2C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CFE3-B33A-4440-8F28-DE56B9C4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1281-7F02-4E57-A54A-B2006378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1876-1CC6-4A11-BC28-AEACFF41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BB01-0DF4-4AFF-99FF-CE79012E8E2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lhsc.on.ca/icu/educate/abgglos.htm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0560" y="260280"/>
            <a:ext cx="843588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 rot="510600">
            <a:off x="1844280" y="2492280"/>
            <a:ext cx="56880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7009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35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cid-Base Balanc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35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Picture 5" descr="10cm"/>
          <p:cNvPicPr/>
          <p:nvPr/>
        </p:nvPicPr>
        <p:blipFill>
          <a:blip r:embed="rId1"/>
          <a:stretch/>
        </p:blipFill>
        <p:spPr>
          <a:xfrm>
            <a:off x="7308720" y="404640"/>
            <a:ext cx="1298880" cy="13716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6"/>
          <p:cNvSpPr/>
          <p:nvPr/>
        </p:nvSpPr>
        <p:spPr>
          <a:xfrm>
            <a:off x="57240" y="-108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Showcard Gothic"/>
              </a:rPr>
              <a:t>Normal acid-base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Normal plasma pH =  </a:t>
            </a:r>
            <a:r>
              <a:rPr b="1" lang="en-US" sz="3600" spc="-1" strike="noStrike">
                <a:solidFill>
                  <a:srgbClr val="ff0066"/>
                </a:solidFill>
                <a:latin typeface="Berlin Sans FB"/>
              </a:rPr>
              <a:t>7.4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      </a:t>
            </a:r>
            <a:r>
              <a:rPr b="0" lang="en-US" sz="3200" spc="-1" strike="noStrike">
                <a:solidFill>
                  <a:srgbClr val="99cc00"/>
                </a:solidFill>
                <a:latin typeface="Berlin Sans FB"/>
              </a:rPr>
              <a:t>(Range: 7.35 - 7.4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CO2 + H20    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     </a:t>
            </a: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H2CO3       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HCO3- +H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/>
          <p:cNvSpPr/>
          <p:nvPr/>
        </p:nvSpPr>
        <p:spPr>
          <a:xfrm>
            <a:off x="3132000" y="2997360"/>
            <a:ext cx="503280" cy="144360"/>
          </a:xfrm>
          <a:prstGeom prst="leftArrow">
            <a:avLst>
              <a:gd name="adj1" fmla="val 50000"/>
              <a:gd name="adj2" fmla="val 87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5"/>
          <p:cNvSpPr/>
          <p:nvPr/>
        </p:nvSpPr>
        <p:spPr>
          <a:xfrm>
            <a:off x="5292720" y="2997360"/>
            <a:ext cx="503280" cy="144360"/>
          </a:xfrm>
          <a:prstGeom prst="leftArrow">
            <a:avLst>
              <a:gd name="adj1" fmla="val 50000"/>
              <a:gd name="adj2" fmla="val 87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"/>
          <p:cNvSpPr/>
          <p:nvPr/>
        </p:nvSpPr>
        <p:spPr>
          <a:xfrm>
            <a:off x="5364000" y="3213000"/>
            <a:ext cx="505080" cy="144720"/>
          </a:xfrm>
          <a:prstGeom prst="rightArrow">
            <a:avLst>
              <a:gd name="adj1" fmla="val 50000"/>
              <a:gd name="adj2" fmla="val 872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>
            <a:off x="3132000" y="3213000"/>
            <a:ext cx="505080" cy="144720"/>
          </a:xfrm>
          <a:prstGeom prst="rightArrow">
            <a:avLst>
              <a:gd name="adj1" fmla="val 50000"/>
              <a:gd name="adj2" fmla="val 872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ABG-Figures"/>
          <p:cNvPicPr/>
          <p:nvPr/>
        </p:nvPicPr>
        <p:blipFill>
          <a:blip r:embed="rId1"/>
          <a:stretch/>
        </p:blipFill>
        <p:spPr>
          <a:xfrm>
            <a:off x="2484360" y="3500280"/>
            <a:ext cx="482436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lood Gas N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62120" y="2057400"/>
          <a:ext cx="7619760" cy="228600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  <a:gridCol w="1270080"/>
                <a:gridCol w="1270080"/>
                <a:gridCol w="126972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p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pCO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pO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HCO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B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Arte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7.35-7.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35-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80-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22-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-2 to 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Ven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7.30-7.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43-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~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22-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-2 to 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Acid-Base 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685800" y="1981080"/>
            <a:ext cx="7772400" cy="41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ree mechanisms to maintain 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spiratory (CO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uffer (in the blood:  carbonic acid/bicarbonate, phosphate buffers, Hgb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nal (HC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9999"/>
                </a:solidFill>
                <a:latin typeface="Showcard Gothic"/>
              </a:rPr>
              <a:t>Buffer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 </a:t>
            </a:r>
            <a:r>
              <a:rPr b="1" lang="en-US" sz="3200" spc="-1" strike="noStrike">
                <a:solidFill>
                  <a:srgbClr val="99cc00"/>
                </a:solidFill>
                <a:latin typeface="Berlin Sans FB"/>
              </a:rPr>
              <a:t>A buffer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is a substance that </a:t>
            </a:r>
            <a:r>
              <a:rPr b="1" lang="en-US" sz="3200" spc="-1" strike="noStrike">
                <a:solidFill>
                  <a:srgbClr val="ff0066"/>
                </a:solidFill>
                <a:latin typeface="Berlin Sans FB"/>
              </a:rPr>
              <a:t>can give or accept protons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i.e. </a:t>
            </a: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H+,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in a manner that tends to </a:t>
            </a:r>
            <a:r>
              <a:rPr b="0" i="1" lang="en-US" sz="3200" spc="-1" strike="noStrike">
                <a:solidFill>
                  <a:srgbClr val="000000"/>
                </a:solidFill>
                <a:latin typeface="Berlin Sans FB"/>
              </a:rPr>
              <a:t>minimise changes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in the </a:t>
            </a: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pH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of the solu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Usually buffers are composed of a </a:t>
            </a:r>
            <a:r>
              <a:rPr b="1" lang="en-US" sz="3200" spc="-1" strike="noStrike">
                <a:solidFill>
                  <a:srgbClr val="99cc00"/>
                </a:solidFill>
                <a:latin typeface="Berlin Sans FB"/>
              </a:rPr>
              <a:t>weak acid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(proton donor) and a </a:t>
            </a:r>
            <a:r>
              <a:rPr b="1" lang="en-US" sz="3200" spc="-1" strike="noStrike">
                <a:solidFill>
                  <a:srgbClr val="99cc00"/>
                </a:solidFill>
                <a:latin typeface="Berlin Sans FB"/>
              </a:rPr>
              <a:t>weak base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(proton acceptor) as shown in the following eq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buffer%20reaction"/>
          <p:cNvPicPr/>
          <p:nvPr/>
        </p:nvPicPr>
        <p:blipFill>
          <a:blip r:embed="rId1"/>
          <a:stretch/>
        </p:blipFill>
        <p:spPr>
          <a:xfrm>
            <a:off x="2916360" y="5589720"/>
            <a:ext cx="417672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Showcard Gothic"/>
              </a:rPr>
              <a:t>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The process of acid-base regulation involv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Chemical buffering by intracellular and extracellular buffers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Control of pCO2 by normal respiratory function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Control of HCO3- concentration and acid excretion by the kidney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Showcard Gothic"/>
              </a:rPr>
              <a:t>The Renal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Reclaim filtered HCO3- (therefore, </a:t>
            </a:r>
            <a:r>
              <a:rPr b="1" lang="en-US" sz="3200" spc="-1" strike="noStrike">
                <a:solidFill>
                  <a:srgbClr val="99cc00"/>
                </a:solidFill>
                <a:latin typeface="Berlin Sans FB"/>
              </a:rPr>
              <a:t>avoid HCO3- loss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Berlin Sans FB"/>
              </a:rPr>
              <a:t>Regenerate HCO3-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in an amoun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erlin Sans FB"/>
              </a:rPr>
              <a:t>equal to that used as 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In contrast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to the </a:t>
            </a:r>
            <a:r>
              <a:rPr b="0" lang="en-US" sz="3200" spc="-1" strike="noStrike">
                <a:solidFill>
                  <a:srgbClr val="99cc00"/>
                </a:solidFill>
                <a:latin typeface="Berlin Sans FB"/>
              </a:rPr>
              <a:t>respiratory system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, can fully compensate </a:t>
            </a: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without any changes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in the </a:t>
            </a:r>
            <a:r>
              <a:rPr b="1" lang="en-US" sz="3200" spc="-1" strike="noStrike">
                <a:solidFill>
                  <a:srgbClr val="99cc00"/>
                </a:solidFill>
                <a:latin typeface="Berlin Sans FB"/>
              </a:rPr>
              <a:t>bicarbonate pool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Showcard Gothic"/>
              </a:rPr>
              <a:t>Respiratory Function</a:t>
            </a:r>
            <a:r>
              <a:rPr b="0" lang="en-US" sz="4400" spc="-1" strike="noStrike">
                <a:solidFill>
                  <a:srgbClr val="99cc00"/>
                </a:solidFill>
                <a:latin typeface="Showcard Gothi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the respiratory system is able to compensate for changes in the acid/base balance by </a:t>
            </a:r>
            <a:r>
              <a:rPr b="1" lang="en-US" sz="3200" spc="-1" strike="noStrike">
                <a:solidFill>
                  <a:srgbClr val="ff0066"/>
                </a:solidFill>
                <a:latin typeface="Berlin Sans FB"/>
              </a:rPr>
              <a:t>increasing or decreasing ventilatory rate.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This would result in an increase or decrease of pCO2 in the blood. Thus changes are compensated at cost, i.e. changes in the bicarbonate p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Showcard Gothic"/>
              </a:rPr>
              <a:t>Abnormal acid-base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Acid-base imbalances can be defined as acidosis or alkalos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Acidosis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is a state of excess H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Acidemia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results when the blood pH is less than 7.35  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Alkalosis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is a state of excess HCO3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lkalemia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results when the blood pH is greater than 7.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id-base disturbanc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sorder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change in bl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HCO3-→Metabolic disord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change in blood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pCO2→Respiratory dis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Steps for ABG interpretation</a:t>
            </a: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Step1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ok at Pao2 (hypoxem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Step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ok at pH (acid or alka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Step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ok at Paco2 (resp. acidosis, alkalosis or 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Step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ok at Hco3 (metabolic acidosis, alkalosis, or 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Step5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ok back at pH (compensated or uncompensat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Calibri"/>
              </a:rPr>
              <a:t>Out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3848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268280"/>
            <a:ext cx="40384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Berlin Sans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00"/>
                </a:solidFill>
                <a:latin typeface="Arial"/>
              </a:rPr>
              <a:t>ABG interpretation</a:t>
            </a:r>
            <a:r>
              <a:rPr b="1" i="1" lang="en-US" sz="4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5280" y="198900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ROM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 the acronym ROME (Respiratory opposite, Metabolic equal) to help you remember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aO2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90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H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7.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 aCO2: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HCO3-: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mEq\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uncompensated respiratory acido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aO2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90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H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7.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 aCO2: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0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HCO3-: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7mEq\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uncompensated metabolic acido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aO2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90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H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7.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 aCO2: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0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HCO3-: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8mEq\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ompensated respiratory acidosis with metabolic alkalosis\ main disordered is acidosis and alkalosis is the compensated, because the pH is on the acid side of 7.4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aO2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90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H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7.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 aCO2: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8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HCO3-: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5 mEq\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ompensated metabolic alkalosis with respiratory acidosis \ main disordered is alkalosis and acidosis is the compensated, because the pH is on the alkaline side of 7.4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62064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99"/>
                </a:solidFill>
                <a:latin typeface="Calibri"/>
              </a:rPr>
              <a:t>Introdu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9280" y="1341360"/>
            <a:ext cx="8209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ody acidity has to be kept at a fairly constant leve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ormal pH range within body fluids 7.35 - 7.4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ormal pH is constantly being attacked by metabolic processes within the body that produces acidic metaboli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Calibri"/>
              </a:rPr>
              <a:t>Acid-Base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i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oton don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oton accept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Calibri"/>
              </a:rPr>
              <a:t>Physiologically, there are two groups of important acids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bonic acid (H2CO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 carbonic ac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Calibri"/>
              </a:rPr>
              <a:t>Carbonic acid (H2CO2)</a:t>
            </a:r>
            <a:r>
              <a:rPr b="0" lang="en-US" sz="4400" spc="-1" strike="noStrike">
                <a:solidFill>
                  <a:srgbClr val="0099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rbonic aci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mes from CHO and fat metabolism and results in 15,000 mmol of CO2/day. Carbonic acid metabolism is </a:t>
            </a:r>
            <a:r>
              <a:rPr b="1" lang="en-US" sz="3200" spc="-1" strike="noStrike">
                <a:solidFill>
                  <a:srgbClr val="99cc00"/>
                </a:solidFill>
                <a:latin typeface="Calibri"/>
              </a:rPr>
              <a:t>mostly handled by respiration</a:t>
            </a:r>
            <a:r>
              <a:rPr b="0" lang="en-US" sz="3200" spc="-1" strike="noStrike">
                <a:solidFill>
                  <a:srgbClr val="99cc00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ca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alibri"/>
              </a:rPr>
              <a:t>CO2 + H20         H2CO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2878200" y="3933720"/>
            <a:ext cx="504720" cy="144720"/>
          </a:xfrm>
          <a:prstGeom prst="rightArrow">
            <a:avLst>
              <a:gd name="adj1" fmla="val 50000"/>
              <a:gd name="adj2" fmla="val 871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2841480" y="4221000"/>
            <a:ext cx="503280" cy="144720"/>
          </a:xfrm>
          <a:prstGeom prst="leftArrow">
            <a:avLst>
              <a:gd name="adj1" fmla="val 50000"/>
              <a:gd name="adj2" fmla="val 869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Calibri"/>
              </a:rPr>
              <a:t>Non carbonic acid</a:t>
            </a:r>
            <a:r>
              <a:rPr b="0" lang="en-US" sz="4000" spc="-1" strike="noStrike">
                <a:solidFill>
                  <a:srgbClr val="009999"/>
                </a:solidFill>
                <a:latin typeface="Calibri"/>
              </a:rPr>
              <a:t> (non-volatile acid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mes from protein metabolis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+ can be captured in the form of H2SO4, H2PO4, et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xcreted by the kidne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cc00"/>
                </a:solidFill>
                <a:latin typeface="Arial"/>
              </a:rPr>
              <a:t>Factors involved in gas ex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facotrs affects gas exchange, this process occurs between the alveoli &amp; pulmonary capillaries &amp; between capillaries &amp; tissue. Its involvied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Partial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Dif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Ventilation-perfusion ma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Oxyhemoglobin dissoci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5770440" cy="3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. </a:t>
            </a: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Partial pres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675640" cy="57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en assessing a patient's oxygenation, one of the first steps is to look at PaO2 is the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partial pressur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of oxygen dissolved in blo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ormal PaO2 is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80 to 100 mmHg;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however this is normal for a healthy person, less than 60 years old, breathing room ai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Slide 8: PaO2 &amp; SaO2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3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17:14:32Z</dcterms:created>
  <dc:creator>xp</dc:creator>
  <dc:description/>
  <dc:language>en-US</dc:language>
  <cp:lastModifiedBy>rtumala</cp:lastModifiedBy>
  <dcterms:modified xsi:type="dcterms:W3CDTF">2016-10-11T09:28:24Z</dcterms:modified>
  <cp:revision>48</cp:revision>
  <dc:subject/>
  <dc:title>Arterial blood gases analysis</dc:title>
</cp:coreProperties>
</file>