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9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84480" cy="343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214960" y="-360"/>
            <a:ext cx="3984480" cy="343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890800" y="51408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C32324-063E-4E69-9DA8-17B1F27CA29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F9987A-A2C3-4550-B3B5-FB4CD09838A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53580C-7493-4287-B4CE-667536CDB4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03281D-057F-4584-8E8B-E84B16360DF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B51499-EE6A-46DF-81B4-254B303A647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47E439-46DC-4A80-8510-4A22AA71F40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3CEBB6-018B-48F8-A1A2-4731781382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151877-E694-4DEC-A666-4635BF81AC2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EA1B8F-C67A-4F11-890C-233076A9F8D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C7BA15-1B52-40E1-9053-CF7B81F29BA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FC9798-696E-4FBA-BCA0-814B14752FB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18121C-261B-412A-9FED-235E86C960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8427D0-A5AC-4B7C-9341-AC444412A1C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19EB86-63E7-47CD-AD60-31954D9E422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48510C-54A3-4F0E-BD5A-A83A39DEC8A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A26069-C4FE-41ED-B032-919AE1D4BAF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57C800-FCDE-46E3-AC38-5766AF122A7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3CD3F3-B0A7-465B-B361-DC944C15F9A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5A72F1-7E86-4EB1-A0DA-F4F61B0BB8E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81B6A3-A0DE-4B67-9A09-3A897E4BD6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0520" y="3257640"/>
            <a:ext cx="73594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2B400A-9825-4442-9385-DCC4BC52C95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9760" y="45820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372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92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976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92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0200" y="1231920"/>
            <a:ext cx="85248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372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9760" y="45820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372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16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492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976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216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492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0200" y="1231920"/>
            <a:ext cx="85248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372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word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5" descr="word mast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title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title mast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7320" y="4865040"/>
            <a:ext cx="6853320" cy="4388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4"/>
                </a:solidFill>
                <a:latin typeface="Times New Roman"/>
                <a:ea typeface="Times New Roman"/>
              </a:rPr>
              <a:t>The Nursing Process</a:t>
            </a:r>
            <a:endParaRPr b="1" lang="en-US" sz="32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1954080" y="3578400"/>
            <a:ext cx="4894560" cy="106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s of Nursin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R 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6" descr="شعار الكلية"/>
          <p:cNvPicPr/>
          <p:nvPr/>
        </p:nvPicPr>
        <p:blipFill>
          <a:blip r:embed="rId1"/>
          <a:stretch/>
        </p:blipFill>
        <p:spPr>
          <a:xfrm>
            <a:off x="3218040" y="1346040"/>
            <a:ext cx="226188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Sources of Data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mary source: Cli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ary source: Cli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family, reports, test results, information in current and past medical records, and discussions with other health care work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Types of Assessment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a base assess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rehensive information you gather on initial contact with the person to assess all aspects of health statu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cus assess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data you gather to determine the status of a specific condi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Organization of Data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uping of related informa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ization of assessment data into small groups to be analy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j0216658"/>
          <p:cNvPicPr/>
          <p:nvPr/>
        </p:nvPicPr>
        <p:blipFill>
          <a:blip r:embed="rId1"/>
          <a:stretch/>
        </p:blipFill>
        <p:spPr>
          <a:xfrm>
            <a:off x="6805440" y="3716280"/>
            <a:ext cx="13827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The data will collect through: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78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ing histo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ysical examination &amp; vital sign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 resul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view records and literatu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5533920" y="3489480"/>
            <a:ext cx="29736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Nursing Diagnosi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stage is to identify the patient's nursing probl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ing diagnosis: actual or potential health problems that can be managed by independent nursing interventions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ing Diagnosis Categor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otent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BD20058_"/>
          <p:cNvPicPr/>
          <p:nvPr/>
        </p:nvPicPr>
        <p:blipFill>
          <a:blip r:embed="rId1"/>
          <a:stretch/>
        </p:blipFill>
        <p:spPr>
          <a:xfrm>
            <a:off x="6324480" y="4114800"/>
            <a:ext cx="19605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It contains three parts: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1360" indent="-261360">
              <a:lnSpc>
                <a:spcPct val="80000"/>
              </a:lnSpc>
              <a:spcBef>
                <a:spcPts val="134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blem: Name of the health-related issue or problem as identified in the NANDA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lnSpc>
                <a:spcPct val="80000"/>
              </a:lnSpc>
              <a:spcBef>
                <a:spcPts val="134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ology: (its caus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lnSpc>
                <a:spcPct val="80000"/>
              </a:lnSpc>
              <a:spcBef>
                <a:spcPts val="134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gn and sympt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lnSpc>
                <a:spcPct val="80000"/>
              </a:lnSpc>
              <a:spcBef>
                <a:spcPts val="134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 called PES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me of the nursing diagnosis is linked to the etiology with the phras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ed to,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he signs and symptoms are identified with the phras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manifested (or evidenced) by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Writing Diagnostic Statements</a:t>
            </a:r>
            <a:r>
              <a:rPr b="0" lang="en-US" sz="2800" spc="-1" strike="noStrike">
                <a:solidFill>
                  <a:srgbClr val="186ec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30120" y="2346480"/>
          <a:ext cx="8613720" cy="427968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724040"/>
                <a:gridCol w="1722600"/>
                <a:gridCol w="1722240"/>
              </a:tblGrid>
              <a:tr h="206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iolog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ife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gns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ptom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nos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e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ng Factors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oritize the probl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t a medical diagno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Nursing Diagnosi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Difference Between Nursing and Medical Diagnosi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Nursing Diagnosis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 used to describe the client's actual or potential response to a health problem that a nurse is licensed and competent to treat i.e.-Impaired skin integrity, Risk for Infection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edical Diagnosis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hysician "clinical judgment of the disease- i.e. diabetes mellitu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Planning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cess of prioritizing nursing diagnoses and collaborative problems, identifying measurable goals or outcomes, selecting appropriate interventions, and documenting the plan of c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rse consults with the client while developing and revising the pla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 problems that require immediate 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Definition of the Nursing Proces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organized sequence of problem-solving steps used to identify and to manage the health problems of cli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accepted for clinical practice established by the American Nurses Associ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PE06259_"/>
          <p:cNvPicPr/>
          <p:nvPr/>
        </p:nvPicPr>
        <p:blipFill>
          <a:blip r:embed="rId1"/>
          <a:stretch/>
        </p:blipFill>
        <p:spPr>
          <a:xfrm>
            <a:off x="6742080" y="4708440"/>
            <a:ext cx="14842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Short-Term Goal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comes achievable in a few days or 1 week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veloped from the problem portion of the diagnostic stat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ent-cent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asura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lis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ompanied by a target 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Long-Term Goal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irable outcomes that take weeks or months to accomplish for cli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with chronic health probl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j0281050"/>
          <p:cNvPicPr/>
          <p:nvPr/>
        </p:nvPicPr>
        <p:blipFill>
          <a:blip r:embed="rId1"/>
          <a:stretch/>
        </p:blipFill>
        <p:spPr>
          <a:xfrm>
            <a:off x="5021280" y="4030560"/>
            <a:ext cx="25509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Formula for Writing Goals/Outcomes: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9760" y="2150640"/>
            <a:ext cx="86137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782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al statement (long or short term) = patient behavior + criteria + time + conditions (if need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Subject -pati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 Verb -action/behavior which pt perfo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 Criteria -acceptable perform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. Within specified time peri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. Condition (if needed) circumstances under which behavior perform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atient (1) will walk (2) the length of the hall (3) with a walker (5) by the end of the shift (4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Priorities are classified: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nursing diagnosis that if untreated, could result in harm to the client or others have the highest prior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Intermedi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nursing diagnosis involves the non-emergency, non-life threatening needs of the cli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nursing diagnosis are cli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needs that may not be directly to a specific illness or progno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Selecting Nursing Implementation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ning the measures that the client and nurse will use to accomplish identified goals involves critical think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ing interventions are directed at eliminating the etiolog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rse selects strategies based on the knowledge that certain nursing actions produce desired eff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ing interventions must be safe, within the legal scope of nursing practice, and compatible with medical or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Nursing Implementation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Direct intervent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ons performed through interaction with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Indirect intervent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ons performed away from the client, on behalf of a client or group of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Nursing Implementation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rying out the plan of c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rse implements medical orders and nursing ord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ation involves the client and one or more health care te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formation in the chart shows a correlation between the plan and the care that has been provid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es are accountable for carrying out nursing orders and physician or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Evaluation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9760" y="2320560"/>
            <a:ext cx="861372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75400" indent="-27540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ay nurses determine whether a client has reached a go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the analysis of the cli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response, evaluation helps to determine the effectiveness of nursing c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oal m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oal not m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oal partially m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PE06259_"/>
          <p:cNvPicPr/>
          <p:nvPr/>
        </p:nvPicPr>
        <p:blipFill>
          <a:blip r:embed="rId1"/>
          <a:stretch/>
        </p:blipFill>
        <p:spPr>
          <a:xfrm>
            <a:off x="6364440" y="4329000"/>
            <a:ext cx="18619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0200" y="1304640"/>
            <a:ext cx="8524800" cy="51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Process of evaluating client responses: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- Identify the desired out co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- Collecting data related to desired out co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- Compare the data with desired out 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 Relate nursing actions to client goals/desired outco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- Draw conclusions about problem stat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- Continue to modify or terminate the clients care pl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0200" y="1319400"/>
            <a:ext cx="8524800" cy="81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Purpose of Nursing Process:</a:t>
            </a:r>
            <a:br>
              <a:rPr sz="2800"/>
            </a:b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-Identify a client health status and actual or potent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problems and nee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-Establish plans to meet the identifying nee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-Deliver specific nursing intervention to meet nee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haracteristics of the Nursing Proces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in the legal scope of nurs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knowledge-requiring critical think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ned-organized and systema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ent-cent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al-direc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orit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ynam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0200" y="1482480"/>
            <a:ext cx="8524800" cy="4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Benefits of Nursing Proces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n orderly &amp; systematic method for planning &amp; providing c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es nursing efficiency by standardizing nursing practi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es documentation of c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unity of language for the nursing profe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es the independent function of nur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s care quality through the use of deliberate a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Steps of the Nursing Proces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SY01265_"/>
          <p:cNvPicPr/>
          <p:nvPr/>
        </p:nvPicPr>
        <p:blipFill>
          <a:blip r:embed="rId1"/>
          <a:stretch/>
        </p:blipFill>
        <p:spPr>
          <a:xfrm>
            <a:off x="6546960" y="2432160"/>
            <a:ext cx="1638360" cy="3468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logo2"/>
          <p:cNvPicPr/>
          <p:nvPr/>
        </p:nvPicPr>
        <p:blipFill>
          <a:blip r:embed="rId2"/>
          <a:stretch/>
        </p:blipFill>
        <p:spPr>
          <a:xfrm>
            <a:off x="3292560" y="2911320"/>
            <a:ext cx="3286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The Nursing Proce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1512720" y="1944720"/>
            <a:ext cx="2664000" cy="581400"/>
          </a:xfrm>
          <a:prstGeom prst="rect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1324080" y="1547640"/>
            <a:ext cx="3155760" cy="1360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The nursing proces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grpSp>
        <p:nvGrpSpPr>
          <p:cNvPr id="107" name="Diagram 17"/>
          <p:cNvGrpSpPr/>
          <p:nvPr/>
        </p:nvGrpSpPr>
        <p:grpSpPr>
          <a:xfrm>
            <a:off x="-1317600" y="1841400"/>
            <a:ext cx="11844360" cy="5483160"/>
            <a:chOff x="-1317600" y="1841400"/>
            <a:chExt cx="11844360" cy="5483160"/>
          </a:xfrm>
        </p:grpSpPr>
        <p:sp>
          <p:nvSpPr>
            <p:cNvPr id="108" name="AutoShape 18"/>
            <p:cNvSpPr/>
            <p:nvPr/>
          </p:nvSpPr>
          <p:spPr>
            <a:xfrm>
              <a:off x="-1317600" y="1841400"/>
              <a:ext cx="11844360" cy="54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8"/>
            <p:cNvSpPr/>
            <p:nvPr/>
          </p:nvSpPr>
          <p:spPr>
            <a:xfrm>
              <a:off x="2961360" y="2338200"/>
              <a:ext cx="3287160" cy="2667240"/>
            </a:xfrm>
            <a:custGeom>
              <a:avLst/>
              <a:gdLst>
                <a:gd name="textAreaLeft" fmla="*/ 480960 w 3287160"/>
                <a:gd name="textAreaRight" fmla="*/ 2806200 w 3287160"/>
                <a:gd name="textAreaTop" fmla="*/ 390240 h 2667240"/>
                <a:gd name="textAreaBottom" fmla="*/ 2277000 h 266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599"/>
                    <a:pt x="10800" y="3599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-1"/>
                  </a:cubicBezTo>
                  <a:cubicBezTo>
                    <a:pt x="11177" y="-1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29"/>
            <p:cNvSpPr/>
            <p:nvPr/>
          </p:nvSpPr>
          <p:spPr>
            <a:xfrm rot="4320000">
              <a:off x="4312800" y="2642400"/>
              <a:ext cx="2667240" cy="3286800"/>
            </a:xfrm>
            <a:custGeom>
              <a:avLst/>
              <a:gdLst>
                <a:gd name="textAreaLeft" fmla="*/ 390240 w 2667240"/>
                <a:gd name="textAreaRight" fmla="*/ 2277000 w 2667240"/>
                <a:gd name="textAreaTop" fmla="*/ 480960 h 3286800"/>
                <a:gd name="textAreaBottom" fmla="*/ 2805840 h 328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599"/>
                    <a:pt x="10800" y="3599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-1"/>
                  </a:cubicBezTo>
                  <a:cubicBezTo>
                    <a:pt x="11177" y="-1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0"/>
            <p:cNvSpPr/>
            <p:nvPr/>
          </p:nvSpPr>
          <p:spPr>
            <a:xfrm rot="8640000">
              <a:off x="3604680" y="3945600"/>
              <a:ext cx="3286800" cy="2667240"/>
            </a:xfrm>
            <a:custGeom>
              <a:avLst/>
              <a:gdLst>
                <a:gd name="textAreaLeft" fmla="*/ 480960 w 3286800"/>
                <a:gd name="textAreaRight" fmla="*/ 2805840 w 3286800"/>
                <a:gd name="textAreaTop" fmla="*/ 390240 h 2667240"/>
                <a:gd name="textAreaBottom" fmla="*/ 2277000 h 266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599"/>
                    <a:pt x="10800" y="3599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-1"/>
                  </a:cubicBezTo>
                  <a:cubicBezTo>
                    <a:pt x="11177" y="-1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1"/>
            <p:cNvSpPr/>
            <p:nvPr/>
          </p:nvSpPr>
          <p:spPr>
            <a:xfrm rot="12960000">
              <a:off x="2317680" y="3945960"/>
              <a:ext cx="3286800" cy="2667240"/>
            </a:xfrm>
            <a:custGeom>
              <a:avLst/>
              <a:gdLst>
                <a:gd name="textAreaLeft" fmla="*/ 480960 w 3286800"/>
                <a:gd name="textAreaRight" fmla="*/ 2805840 w 3286800"/>
                <a:gd name="textAreaTop" fmla="*/ 390240 h 2667240"/>
                <a:gd name="textAreaBottom" fmla="*/ 2277000 h 266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599"/>
                    <a:pt x="10800" y="3599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-1"/>
                  </a:cubicBezTo>
                  <a:cubicBezTo>
                    <a:pt x="11177" y="-1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2"/>
            <p:cNvSpPr/>
            <p:nvPr/>
          </p:nvSpPr>
          <p:spPr>
            <a:xfrm rot="17280000">
              <a:off x="2228760" y="2642040"/>
              <a:ext cx="2667240" cy="3286800"/>
            </a:xfrm>
            <a:custGeom>
              <a:avLst/>
              <a:gdLst>
                <a:gd name="textAreaLeft" fmla="*/ 390240 w 2667240"/>
                <a:gd name="textAreaRight" fmla="*/ 2277000 w 2667240"/>
                <a:gd name="textAreaTop" fmla="*/ 480960 h 3286800"/>
                <a:gd name="textAreaBottom" fmla="*/ 2805840 h 328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599"/>
                    <a:pt x="10800" y="3599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-1"/>
                  </a:cubicBezTo>
                  <a:cubicBezTo>
                    <a:pt x="11177" y="-1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3"/>
            <p:cNvSpPr/>
            <p:nvPr/>
          </p:nvSpPr>
          <p:spPr>
            <a:xfrm>
              <a:off x="5448960" y="2451960"/>
              <a:ext cx="12088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Assessment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1656720" y="4688640"/>
              <a:ext cx="12088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2551680" y="2452320"/>
              <a:ext cx="12088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Times New Roman"/>
                </a:rPr>
                <a:t>Evaluation</a:t>
              </a:r>
              <a:r>
                <a:rPr b="1" lang="en-US" sz="1400" spc="-1" strike="noStrike">
                  <a:solidFill>
                    <a:srgbClr val="00808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6"/>
            <p:cNvSpPr/>
            <p:nvPr/>
          </p:nvSpPr>
          <p:spPr>
            <a:xfrm>
              <a:off x="6344640" y="4687920"/>
              <a:ext cx="12088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800080"/>
                  </a:solidFill>
                  <a:latin typeface="Times New Roman"/>
                </a:rPr>
                <a:t>Diagnosis</a:t>
              </a:r>
              <a:r>
                <a:rPr b="1" lang="en-US" sz="15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7"/>
            <p:cNvSpPr/>
            <p:nvPr/>
          </p:nvSpPr>
          <p:spPr>
            <a:xfrm>
              <a:off x="4001040" y="6070320"/>
              <a:ext cx="12088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Times New Roman"/>
                </a:rPr>
                <a:t>Planning</a:t>
              </a:r>
              <a:r>
                <a:rPr b="1" lang="en-US" sz="19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1520" y="3701880"/>
            <a:ext cx="8524800" cy="38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Types of Data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ive data-observable and measurable fact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Sign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jective data-information that only the client feels and can describ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Sympto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08480" y="146520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1160" y="2178000"/>
            <a:ext cx="5144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stematic collection of facts or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9:07:27Z</dcterms:created>
  <dc:creator>Jim Ely</dc:creator>
  <dc:description/>
  <dc:language>en-US</dc:language>
  <cp:lastModifiedBy>Thamer Alwadani</cp:lastModifiedBy>
  <cp:lastPrinted>2001-01-03T19:47:24Z</cp:lastPrinted>
  <dcterms:modified xsi:type="dcterms:W3CDTF">2014-03-30T23:31:18Z</dcterms:modified>
  <cp:revision>38</cp:revision>
  <dc:subject/>
  <dc:title>Airgas template</dc:title>
</cp:coreProperties>
</file>