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91979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9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984480" cy="3430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5214960" y="-360"/>
            <a:ext cx="3984480" cy="3430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2890800" y="514080"/>
            <a:ext cx="3425760" cy="25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1123560" y="3238200"/>
            <a:ext cx="6746760" cy="30891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521496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28F72AE-3659-45AB-9284-6219CE2B05D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521496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AC23680-040F-49E9-A0E4-9C21C0B94E6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123560" y="3238200"/>
            <a:ext cx="674676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521496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1DA44E5-6077-4BEA-A932-6BE53A850AC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1123560" y="3238200"/>
            <a:ext cx="674676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521496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3BD0827-E095-4EA5-9507-18611801A52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123560" y="3238200"/>
            <a:ext cx="674676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521496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204416C-5027-4C2B-B479-6AD5496F26B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123560" y="3238200"/>
            <a:ext cx="674676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521496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EE93705-262F-4B66-B53D-108BE655DB2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123560" y="3238200"/>
            <a:ext cx="674676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521496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97D9802-8A98-4769-84A4-2A75C6DB418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1123560" y="3238200"/>
            <a:ext cx="674676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521496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572ABAD-C4FA-4E07-8B50-59DA0FFD0A3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1123560" y="3238200"/>
            <a:ext cx="674676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521496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7C0FCD4-F759-4962-96D2-D96578D9D78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123560" y="3238200"/>
            <a:ext cx="674676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521496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5C47044-3AF6-41E8-9706-09180E1C81E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123560" y="3238200"/>
            <a:ext cx="674676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521496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390AF30-3525-4278-A65C-11EB9B97DDA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1123560" y="3238200"/>
            <a:ext cx="674676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521496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0D69A2B-BDA8-4FE9-A770-0689BD45F4E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123560" y="3238200"/>
            <a:ext cx="674676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521496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CEA7745-A258-445B-99AA-351016E4113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123560" y="3238200"/>
            <a:ext cx="674676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521496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235EFC-9DE7-4AEF-AF02-1CFA7941ECB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123560" y="3238200"/>
            <a:ext cx="674676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521496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77695DE-7C42-473D-8790-25970FC41E2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1123560" y="3238200"/>
            <a:ext cx="674676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521496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D962FCD-8129-4EBF-8416-D5D59B260AC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1123560" y="3238200"/>
            <a:ext cx="674676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521496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3F573EA-776C-4214-B4B9-7009E71AFB7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23560" y="3238200"/>
            <a:ext cx="674676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521496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D34648F-3C89-4F48-8931-C3654D42AA7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23560" y="3238200"/>
            <a:ext cx="674676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521496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8F6D6BB-1EFB-4E61-990B-C04E2A744F5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23560" y="3238200"/>
            <a:ext cx="674676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521496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94CD1CB-4066-43B6-A15E-A9A6548EE96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88432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20520" y="3257640"/>
            <a:ext cx="73594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5214960" y="6515280"/>
            <a:ext cx="3984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2E01B9B-6D20-4041-AD6D-903B7847000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2890800" y="514440"/>
            <a:ext cx="3425760" cy="25686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1123560" y="3238200"/>
            <a:ext cx="6746760" cy="30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9760" y="4582080"/>
            <a:ext cx="861372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420336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3720" y="2346480"/>
            <a:ext cx="420336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9760" y="4582080"/>
            <a:ext cx="420336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43720" y="4582080"/>
            <a:ext cx="420336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277344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160" y="2346480"/>
            <a:ext cx="277344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54920" y="2346480"/>
            <a:ext cx="277344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9760" y="4582080"/>
            <a:ext cx="277344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160" y="4582080"/>
            <a:ext cx="277344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54920" y="4582080"/>
            <a:ext cx="277344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420336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43720" y="2346480"/>
            <a:ext cx="420336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30200" y="1231920"/>
            <a:ext cx="85248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420336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3720" y="2346480"/>
            <a:ext cx="420336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29760" y="4582080"/>
            <a:ext cx="420336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420336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3720" y="2346480"/>
            <a:ext cx="420336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43720" y="4582080"/>
            <a:ext cx="420336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420336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3720" y="2346480"/>
            <a:ext cx="420336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9760" y="4582080"/>
            <a:ext cx="861372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9760" y="4582080"/>
            <a:ext cx="861372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420336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3720" y="2346480"/>
            <a:ext cx="420336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9760" y="4582080"/>
            <a:ext cx="420336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43720" y="4582080"/>
            <a:ext cx="420336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277344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2160" y="2346480"/>
            <a:ext cx="277344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4920" y="2346480"/>
            <a:ext cx="277344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29760" y="4582080"/>
            <a:ext cx="277344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2160" y="4582080"/>
            <a:ext cx="277344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4920" y="4582080"/>
            <a:ext cx="277344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420336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43720" y="2346480"/>
            <a:ext cx="420336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30200" y="1231920"/>
            <a:ext cx="85248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420336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3720" y="2346480"/>
            <a:ext cx="420336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29760" y="4582080"/>
            <a:ext cx="420336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420336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3720" y="2346480"/>
            <a:ext cx="420336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43720" y="4582080"/>
            <a:ext cx="420336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420336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3720" y="2346480"/>
            <a:ext cx="420336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29760" y="4582080"/>
            <a:ext cx="8613720" cy="204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word 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40464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0492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" name="Picture 5" descr="word mast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title mast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" descr="title master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61840" indent="-40464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0492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7320" y="4865040"/>
            <a:ext cx="6853320" cy="4388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4"/>
                </a:solidFill>
                <a:latin typeface="Times New Roman"/>
                <a:ea typeface="Times New Roman"/>
              </a:rPr>
              <a:t>The Nursing Process</a:t>
            </a:r>
            <a:endParaRPr b="1" lang="en-US" sz="32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1954080" y="3578400"/>
            <a:ext cx="4894560" cy="10688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pts of Nursing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R 1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6" descr="شعار الكلية"/>
          <p:cNvPicPr/>
          <p:nvPr/>
        </p:nvPicPr>
        <p:blipFill>
          <a:blip r:embed="rId1"/>
          <a:stretch/>
        </p:blipFill>
        <p:spPr>
          <a:xfrm>
            <a:off x="3218040" y="1346040"/>
            <a:ext cx="2261880" cy="207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30200" y="1615680"/>
            <a:ext cx="8524800" cy="3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Sources of Data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imary source: Cli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ary source: Client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family, reports, test results, information in current and past medical records, and discussions with other health care work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0200" y="1615680"/>
            <a:ext cx="8524800" cy="3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Types of Assessments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ata base assess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rehensive information you gather on initial contact with the person to assess all aspects of health statu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cus assess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data you gather to determine the status of a specific condi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0200" y="1615680"/>
            <a:ext cx="8524800" cy="3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Organization of Data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ouping of related informa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rganization of assessment data into small groups to be analyz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j0216658"/>
          <p:cNvPicPr/>
          <p:nvPr/>
        </p:nvPicPr>
        <p:blipFill>
          <a:blip r:embed="rId1"/>
          <a:stretch/>
        </p:blipFill>
        <p:spPr>
          <a:xfrm>
            <a:off x="6805440" y="3716280"/>
            <a:ext cx="138276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0200" y="1615680"/>
            <a:ext cx="8524800" cy="3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The data will collect through: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782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8280" indent="-27828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rsing history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82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8280" indent="-27828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hysical examination &amp; vital sign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82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8280" indent="-27828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 resul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82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8280" indent="-27828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view records and literatur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82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5533920" y="3489480"/>
            <a:ext cx="297360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0200" y="1615680"/>
            <a:ext cx="8524800" cy="3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Nursing Diagnosis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8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urpose of this stage is to identify the patient's nursing proble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rsing diagnosis: actual or potential health problems that can be managed by independent nursing interventions 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rsing Diagnosis Categori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ctu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otenti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4" descr="BD20058_"/>
          <p:cNvPicPr/>
          <p:nvPr/>
        </p:nvPicPr>
        <p:blipFill>
          <a:blip r:embed="rId1"/>
          <a:stretch/>
        </p:blipFill>
        <p:spPr>
          <a:xfrm>
            <a:off x="6324480" y="4114800"/>
            <a:ext cx="196056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30200" y="1615680"/>
            <a:ext cx="8524800" cy="3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It contains three parts: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261360" indent="-261360">
              <a:lnSpc>
                <a:spcPct val="80000"/>
              </a:lnSpc>
              <a:spcBef>
                <a:spcPts val="134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oblem: Name of the health-related issue or problem as identified in the NANDA li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3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360" indent="-261360">
              <a:lnSpc>
                <a:spcPct val="80000"/>
              </a:lnSpc>
              <a:spcBef>
                <a:spcPts val="134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ology: (its caus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3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360" indent="-261360">
              <a:lnSpc>
                <a:spcPct val="80000"/>
              </a:lnSpc>
              <a:spcBef>
                <a:spcPts val="134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gn and sympto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3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360" indent="-261360">
              <a:lnSpc>
                <a:spcPct val="80000"/>
              </a:lnSpc>
              <a:spcBef>
                <a:spcPts val="1349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t called PES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3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1360" indent="-261360">
              <a:lnSpc>
                <a:spcPct val="80000"/>
              </a:lnSpc>
              <a:spcBef>
                <a:spcPts val="150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name of the nursing diagnosis is linked to the etiology with the phrase 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ated to,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the signs and symptoms are identified with the phrase 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manifested (or evidenced) by</a:t>
            </a:r>
            <a:r>
              <a:rPr b="0" lang="ja-JP" sz="20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30200" y="1615680"/>
            <a:ext cx="8524800" cy="3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Writing Diagnostic Statements</a:t>
            </a:r>
            <a:r>
              <a:rPr b="0" lang="en-US" sz="2800" spc="-1" strike="noStrike">
                <a:solidFill>
                  <a:srgbClr val="186ec4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30120" y="2346480"/>
          <a:ext cx="8613720" cy="4279680"/>
        </p:xfrm>
        <a:graphic>
          <a:graphicData uri="http://schemas.openxmlformats.org/drawingml/2006/table">
            <a:tbl>
              <a:tblPr/>
              <a:tblGrid>
                <a:gridCol w="1722600"/>
                <a:gridCol w="1722240"/>
                <a:gridCol w="1724040"/>
                <a:gridCol w="1722600"/>
                <a:gridCol w="1722240"/>
              </a:tblGrid>
              <a:tr h="206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a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tiolog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ife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gns &amp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mptom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gnos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e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4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ibuting Factors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14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ioritize the proble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t a medical diagnos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Nursing Diagnosis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30200" y="1231920"/>
            <a:ext cx="8524800" cy="76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Difference Between Nursing and Medical Diagnosis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Nursing Diagnosis-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tatement used to describe the client's actual or potential response to a health problem that a nurse is licensed and competent to treat i.e.-Impaired skin integrity, Risk for Infection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edical Diagnosis-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hysician "clinical judgment of the disease- i.e. diabetes mellitu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30200" y="1615680"/>
            <a:ext cx="8524800" cy="3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Planning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rocess of prioritizing nursing diagnoses and collaborative problems, identifying measurable goals or outcomes, selecting appropriate interventions, and documenting the plan of car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nurse consults with the client while developing and revising the pla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termine problems that require immediate a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0200" y="1615680"/>
            <a:ext cx="8524800" cy="3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Definition of the Nursing Process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organized sequence of problem-solving steps used to identify and to manage the health problems of cli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accepted for clinical practice established by the American Nurses Associ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PE06259_"/>
          <p:cNvPicPr/>
          <p:nvPr/>
        </p:nvPicPr>
        <p:blipFill>
          <a:blip r:embed="rId1"/>
          <a:stretch/>
        </p:blipFill>
        <p:spPr>
          <a:xfrm>
            <a:off x="6742080" y="4708440"/>
            <a:ext cx="14842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30200" y="1615680"/>
            <a:ext cx="8524800" cy="3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Short-Term Goals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comes achievable in a few days or 1 week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veloped from the problem portion of the diagnostic stat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ent-cent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asurab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alist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ompanied by a target 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30200" y="1615680"/>
            <a:ext cx="8524800" cy="3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Long-Term Goals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irable outcomes that take weeks or months to accomplish for client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with chronic health proble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4" descr="j0281050"/>
          <p:cNvPicPr/>
          <p:nvPr/>
        </p:nvPicPr>
        <p:blipFill>
          <a:blip r:embed="rId1"/>
          <a:stretch/>
        </p:blipFill>
        <p:spPr>
          <a:xfrm>
            <a:off x="5021280" y="4030560"/>
            <a:ext cx="255096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30200" y="1615680"/>
            <a:ext cx="8524800" cy="3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Formula for Writing Goals/Outcomes: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9760" y="2150640"/>
            <a:ext cx="8613720" cy="447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782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oal statement (long or short term) = patient behavior + criteria + time + conditions (if needed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8280" indent="-278280">
              <a:lnSpc>
                <a:spcPct val="8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. Subject -pati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8280" indent="-278280">
              <a:lnSpc>
                <a:spcPct val="8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. Verb -action/behavior which pt perfor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8280" indent="-278280">
              <a:lnSpc>
                <a:spcPct val="8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3. Criteria -acceptable performa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8280" indent="-278280">
              <a:lnSpc>
                <a:spcPct val="8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4. Within specified time perio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8280" indent="-278280">
              <a:lnSpc>
                <a:spcPct val="8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5. Condition (if needed) circumstances under which behavior perform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82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8280" indent="-278280">
              <a:lnSpc>
                <a:spcPct val="8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atient (1) will walk (2) the length of the hall (3) with a walker (5) by the end of the shift (4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30200" y="1615680"/>
            <a:ext cx="8524800" cy="3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Priorities are classified: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Hig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nursing diagnosis that if untreated, could result in harm to the client or others have the highest priori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Intermediat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nursing diagnosis involves the non-emergency, non-life threatening needs of the cli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Low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nursing diagnosis are client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needs that may not be directly to a specific illness or prognos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30200" y="1615680"/>
            <a:ext cx="8524800" cy="3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Selecting Nursing Implementation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nning the measures that the client and nurse will use to accomplish identified goals involves critical think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rsing interventions are directed at eliminating the etiolog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nurse selects strategies based on the knowledge that certain nursing actions produce desired effec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rsing interventions must be safe, within the legal scope of nursing practice, and compatible with medical ord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30200" y="1615680"/>
            <a:ext cx="8524800" cy="3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Nursing Implementation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Direct intervention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tions performed through interaction with clie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Indirect intervention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tions performed away from the client, on behalf of a client or group of clie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0200" y="1615680"/>
            <a:ext cx="8524800" cy="3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Nursing Implementation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rrying out the plan of ca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nurse implements medical orders and nursing ord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ation involves the client and one or more health care tea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information in the chart shows a correlation between the plan and the care that has been provid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rses are accountable for carrying out nursing orders and physician ord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30200" y="1615680"/>
            <a:ext cx="8524800" cy="3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Evaluation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9760" y="2320560"/>
            <a:ext cx="8613720" cy="43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75400" indent="-275400">
              <a:lnSpc>
                <a:spcPct val="8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way nurses determine whether a client has reached a go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540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5400" indent="-275400">
              <a:lnSpc>
                <a:spcPct val="8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is the analysis of the client</a:t>
            </a:r>
            <a:r>
              <a:rPr b="0" lang="ja-JP" sz="2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 response, evaluation helps to determine the effectiveness of nursing car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540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540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5400" indent="-275400">
              <a:lnSpc>
                <a:spcPct val="8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goal m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5400" indent="-275400">
              <a:lnSpc>
                <a:spcPct val="8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goal not m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5400" indent="-275400">
              <a:lnSpc>
                <a:spcPct val="8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goal partially m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4" descr="PE06259_"/>
          <p:cNvPicPr/>
          <p:nvPr/>
        </p:nvPicPr>
        <p:blipFill>
          <a:blip r:embed="rId1"/>
          <a:stretch/>
        </p:blipFill>
        <p:spPr>
          <a:xfrm>
            <a:off x="6364440" y="4329000"/>
            <a:ext cx="186192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30200" y="1304640"/>
            <a:ext cx="8524800" cy="51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Process of evaluating client responses: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- Identify the desired out com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- Collecting data related to desired out com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- Compare the data with desired out co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- Relate nursing actions to client goals/desired outcom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- Draw conclusions about problem stat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- Continue to modify or terminate the clients care pla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80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0200" y="1319400"/>
            <a:ext cx="8524800" cy="81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Purpose of Nursing Process:</a:t>
            </a:r>
            <a:br>
              <a:rPr sz="2800"/>
            </a:b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-Identify a client health status and actual or potent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problems and nee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-Establish plans to meet the identifying nee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-Deliver specific nursing intervention to meet nee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0200" y="1615680"/>
            <a:ext cx="8524800" cy="3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Characteristics of the Nursing Process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ithin the legal scope of nurs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ed on knowledge-requiring critical think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nned-organized and systemat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ent-cent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oal-direct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ioritiz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ynam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0200" y="1482480"/>
            <a:ext cx="8524800" cy="42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Benefits of Nursing Process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80000"/>
              </a:lnSpc>
              <a:spcBef>
                <a:spcPts val="150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s an orderly &amp; systematic method for planning &amp; providing ca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150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hances nursing efficiency by standardizing nursing practi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150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cilitates documentation of ca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150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s a unity of language for the nursing profess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150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esses the independent function of nur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80000"/>
              </a:lnSpc>
              <a:spcBef>
                <a:spcPts val="150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s care quality through the use of deliberate ac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50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0200" y="1615680"/>
            <a:ext cx="8524800" cy="3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Steps of the Nursing Process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sess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agnosi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SY01265_"/>
          <p:cNvPicPr/>
          <p:nvPr/>
        </p:nvPicPr>
        <p:blipFill>
          <a:blip r:embed="rId1"/>
          <a:stretch/>
        </p:blipFill>
        <p:spPr>
          <a:xfrm>
            <a:off x="6546960" y="2432160"/>
            <a:ext cx="1638360" cy="3468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logo2"/>
          <p:cNvPicPr/>
          <p:nvPr/>
        </p:nvPicPr>
        <p:blipFill>
          <a:blip r:embed="rId2"/>
          <a:stretch/>
        </p:blipFill>
        <p:spPr>
          <a:xfrm>
            <a:off x="3292560" y="2911320"/>
            <a:ext cx="328608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The Nursing Proces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1512720" y="1944720"/>
            <a:ext cx="2664000" cy="581400"/>
          </a:xfrm>
          <a:prstGeom prst="rect">
            <a:avLst/>
          </a:prstGeom>
          <a:solidFill>
            <a:srgbClr val="cc99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4"/>
          <p:cNvSpPr/>
          <p:nvPr/>
        </p:nvSpPr>
        <p:spPr>
          <a:xfrm>
            <a:off x="1324080" y="1547640"/>
            <a:ext cx="3155760" cy="13608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0200" y="1615680"/>
            <a:ext cx="8524800" cy="38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The nursing process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grpSp>
        <p:nvGrpSpPr>
          <p:cNvPr id="107" name="Diagram 17"/>
          <p:cNvGrpSpPr/>
          <p:nvPr/>
        </p:nvGrpSpPr>
        <p:grpSpPr>
          <a:xfrm>
            <a:off x="-1317600" y="1841400"/>
            <a:ext cx="11844360" cy="5483160"/>
            <a:chOff x="-1317600" y="1841400"/>
            <a:chExt cx="11844360" cy="5483160"/>
          </a:xfrm>
        </p:grpSpPr>
        <p:sp>
          <p:nvSpPr>
            <p:cNvPr id="108" name="AutoShape 18"/>
            <p:cNvSpPr/>
            <p:nvPr/>
          </p:nvSpPr>
          <p:spPr>
            <a:xfrm>
              <a:off x="-1317600" y="1841400"/>
              <a:ext cx="11844360" cy="54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28"/>
            <p:cNvSpPr/>
            <p:nvPr/>
          </p:nvSpPr>
          <p:spPr>
            <a:xfrm>
              <a:off x="2961360" y="2338200"/>
              <a:ext cx="3287160" cy="2667240"/>
            </a:xfrm>
            <a:custGeom>
              <a:avLst/>
              <a:gdLst>
                <a:gd name="textAreaLeft" fmla="*/ 480960 w 3287160"/>
                <a:gd name="textAreaRight" fmla="*/ 2806200 w 3287160"/>
                <a:gd name="textAreaTop" fmla="*/ 390240 h 2667240"/>
                <a:gd name="textAreaBottom" fmla="*/ 2277000 h 266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552" y="3639"/>
                  </a:moveTo>
                  <a:cubicBezTo>
                    <a:pt x="11302" y="3613"/>
                    <a:pt x="11051" y="3599"/>
                    <a:pt x="10800" y="3599"/>
                  </a:cubicBezTo>
                  <a:cubicBezTo>
                    <a:pt x="9790" y="3599"/>
                    <a:pt x="8793" y="3812"/>
                    <a:pt x="7871" y="4222"/>
                  </a:cubicBezTo>
                  <a:lnTo>
                    <a:pt x="6407" y="933"/>
                  </a:lnTo>
                  <a:cubicBezTo>
                    <a:pt x="7789" y="318"/>
                    <a:pt x="9286" y="-1"/>
                    <a:pt x="10800" y="-1"/>
                  </a:cubicBezTo>
                  <a:cubicBezTo>
                    <a:pt x="11177" y="-1"/>
                    <a:pt x="11553" y="19"/>
                    <a:pt x="11928" y="59"/>
                  </a:cubicBezTo>
                  <a:lnTo>
                    <a:pt x="12211" y="-2627"/>
                  </a:lnTo>
                  <a:lnTo>
                    <a:pt x="16215" y="2319"/>
                  </a:lnTo>
                  <a:lnTo>
                    <a:pt x="11270" y="6324"/>
                  </a:lnTo>
                  <a:lnTo>
                    <a:pt x="11552" y="3639"/>
                  </a:lnTo>
                  <a:close/>
                </a:path>
              </a:pathLst>
            </a:custGeom>
            <a:solidFill>
              <a:srgbClr val="f9f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29"/>
            <p:cNvSpPr/>
            <p:nvPr/>
          </p:nvSpPr>
          <p:spPr>
            <a:xfrm rot="4320000">
              <a:off x="4312800" y="2642400"/>
              <a:ext cx="2667240" cy="3286800"/>
            </a:xfrm>
            <a:custGeom>
              <a:avLst/>
              <a:gdLst>
                <a:gd name="textAreaLeft" fmla="*/ 390240 w 2667240"/>
                <a:gd name="textAreaRight" fmla="*/ 2277000 w 2667240"/>
                <a:gd name="textAreaTop" fmla="*/ 480960 h 3286800"/>
                <a:gd name="textAreaBottom" fmla="*/ 2805840 h 328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552" y="3639"/>
                  </a:moveTo>
                  <a:cubicBezTo>
                    <a:pt x="11302" y="3613"/>
                    <a:pt x="11051" y="3599"/>
                    <a:pt x="10800" y="3599"/>
                  </a:cubicBezTo>
                  <a:cubicBezTo>
                    <a:pt x="9790" y="3599"/>
                    <a:pt x="8793" y="3812"/>
                    <a:pt x="7871" y="4222"/>
                  </a:cubicBezTo>
                  <a:lnTo>
                    <a:pt x="6407" y="933"/>
                  </a:lnTo>
                  <a:cubicBezTo>
                    <a:pt x="7789" y="318"/>
                    <a:pt x="9286" y="-1"/>
                    <a:pt x="10800" y="-1"/>
                  </a:cubicBezTo>
                  <a:cubicBezTo>
                    <a:pt x="11177" y="-1"/>
                    <a:pt x="11553" y="19"/>
                    <a:pt x="11928" y="59"/>
                  </a:cubicBezTo>
                  <a:lnTo>
                    <a:pt x="12211" y="-2627"/>
                  </a:lnTo>
                  <a:lnTo>
                    <a:pt x="16215" y="2319"/>
                  </a:lnTo>
                  <a:lnTo>
                    <a:pt x="11270" y="6324"/>
                  </a:lnTo>
                  <a:lnTo>
                    <a:pt x="11552" y="363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30"/>
            <p:cNvSpPr/>
            <p:nvPr/>
          </p:nvSpPr>
          <p:spPr>
            <a:xfrm rot="8640000">
              <a:off x="3604680" y="3945600"/>
              <a:ext cx="3286800" cy="2667240"/>
            </a:xfrm>
            <a:custGeom>
              <a:avLst/>
              <a:gdLst>
                <a:gd name="textAreaLeft" fmla="*/ 480960 w 3286800"/>
                <a:gd name="textAreaRight" fmla="*/ 2805840 w 3286800"/>
                <a:gd name="textAreaTop" fmla="*/ 390240 h 2667240"/>
                <a:gd name="textAreaBottom" fmla="*/ 2277000 h 266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552" y="3639"/>
                  </a:moveTo>
                  <a:cubicBezTo>
                    <a:pt x="11302" y="3613"/>
                    <a:pt x="11051" y="3599"/>
                    <a:pt x="10800" y="3599"/>
                  </a:cubicBezTo>
                  <a:cubicBezTo>
                    <a:pt x="9790" y="3599"/>
                    <a:pt x="8793" y="3812"/>
                    <a:pt x="7871" y="4222"/>
                  </a:cubicBezTo>
                  <a:lnTo>
                    <a:pt x="6407" y="933"/>
                  </a:lnTo>
                  <a:cubicBezTo>
                    <a:pt x="7789" y="318"/>
                    <a:pt x="9286" y="-1"/>
                    <a:pt x="10800" y="-1"/>
                  </a:cubicBezTo>
                  <a:cubicBezTo>
                    <a:pt x="11177" y="-1"/>
                    <a:pt x="11553" y="19"/>
                    <a:pt x="11928" y="59"/>
                  </a:cubicBezTo>
                  <a:lnTo>
                    <a:pt x="12211" y="-2627"/>
                  </a:lnTo>
                  <a:lnTo>
                    <a:pt x="16215" y="2319"/>
                  </a:lnTo>
                  <a:lnTo>
                    <a:pt x="11270" y="6324"/>
                  </a:lnTo>
                  <a:lnTo>
                    <a:pt x="11552" y="363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1"/>
            <p:cNvSpPr/>
            <p:nvPr/>
          </p:nvSpPr>
          <p:spPr>
            <a:xfrm rot="12960000">
              <a:off x="2317680" y="3945960"/>
              <a:ext cx="3286800" cy="2667240"/>
            </a:xfrm>
            <a:custGeom>
              <a:avLst/>
              <a:gdLst>
                <a:gd name="textAreaLeft" fmla="*/ 480960 w 3286800"/>
                <a:gd name="textAreaRight" fmla="*/ 2805840 w 3286800"/>
                <a:gd name="textAreaTop" fmla="*/ 390240 h 2667240"/>
                <a:gd name="textAreaBottom" fmla="*/ 2277000 h 2667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552" y="3639"/>
                  </a:moveTo>
                  <a:cubicBezTo>
                    <a:pt x="11302" y="3613"/>
                    <a:pt x="11051" y="3599"/>
                    <a:pt x="10800" y="3599"/>
                  </a:cubicBezTo>
                  <a:cubicBezTo>
                    <a:pt x="9790" y="3599"/>
                    <a:pt x="8793" y="3812"/>
                    <a:pt x="7871" y="4222"/>
                  </a:cubicBezTo>
                  <a:lnTo>
                    <a:pt x="6407" y="933"/>
                  </a:lnTo>
                  <a:cubicBezTo>
                    <a:pt x="7789" y="318"/>
                    <a:pt x="9286" y="-1"/>
                    <a:pt x="10800" y="-1"/>
                  </a:cubicBezTo>
                  <a:cubicBezTo>
                    <a:pt x="11177" y="-1"/>
                    <a:pt x="11553" y="19"/>
                    <a:pt x="11928" y="59"/>
                  </a:cubicBezTo>
                  <a:lnTo>
                    <a:pt x="12211" y="-2627"/>
                  </a:lnTo>
                  <a:lnTo>
                    <a:pt x="16215" y="2319"/>
                  </a:lnTo>
                  <a:lnTo>
                    <a:pt x="11270" y="6324"/>
                  </a:lnTo>
                  <a:lnTo>
                    <a:pt x="11552" y="363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2"/>
            <p:cNvSpPr/>
            <p:nvPr/>
          </p:nvSpPr>
          <p:spPr>
            <a:xfrm rot="17280000">
              <a:off x="2228760" y="2642040"/>
              <a:ext cx="2667240" cy="3286800"/>
            </a:xfrm>
            <a:custGeom>
              <a:avLst/>
              <a:gdLst>
                <a:gd name="textAreaLeft" fmla="*/ 390240 w 2667240"/>
                <a:gd name="textAreaRight" fmla="*/ 2277000 w 2667240"/>
                <a:gd name="textAreaTop" fmla="*/ 480960 h 3286800"/>
                <a:gd name="textAreaBottom" fmla="*/ 2805840 h 328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552" y="3639"/>
                  </a:moveTo>
                  <a:cubicBezTo>
                    <a:pt x="11302" y="3613"/>
                    <a:pt x="11051" y="3599"/>
                    <a:pt x="10800" y="3599"/>
                  </a:cubicBezTo>
                  <a:cubicBezTo>
                    <a:pt x="9790" y="3599"/>
                    <a:pt x="8793" y="3812"/>
                    <a:pt x="7871" y="4222"/>
                  </a:cubicBezTo>
                  <a:lnTo>
                    <a:pt x="6407" y="933"/>
                  </a:lnTo>
                  <a:cubicBezTo>
                    <a:pt x="7789" y="318"/>
                    <a:pt x="9286" y="-1"/>
                    <a:pt x="10800" y="-1"/>
                  </a:cubicBezTo>
                  <a:cubicBezTo>
                    <a:pt x="11177" y="-1"/>
                    <a:pt x="11553" y="19"/>
                    <a:pt x="11928" y="59"/>
                  </a:cubicBezTo>
                  <a:lnTo>
                    <a:pt x="12211" y="-2627"/>
                  </a:lnTo>
                  <a:lnTo>
                    <a:pt x="16215" y="2319"/>
                  </a:lnTo>
                  <a:lnTo>
                    <a:pt x="11270" y="6324"/>
                  </a:lnTo>
                  <a:lnTo>
                    <a:pt x="11552" y="363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33"/>
            <p:cNvSpPr/>
            <p:nvPr/>
          </p:nvSpPr>
          <p:spPr>
            <a:xfrm>
              <a:off x="5448960" y="2451960"/>
              <a:ext cx="120888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Assessment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34"/>
            <p:cNvSpPr/>
            <p:nvPr/>
          </p:nvSpPr>
          <p:spPr>
            <a:xfrm>
              <a:off x="1656720" y="4688640"/>
              <a:ext cx="120888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Implementation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35"/>
            <p:cNvSpPr/>
            <p:nvPr/>
          </p:nvSpPr>
          <p:spPr>
            <a:xfrm>
              <a:off x="2551680" y="2452320"/>
              <a:ext cx="120888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80"/>
                  </a:solidFill>
                  <a:latin typeface="Times New Roman"/>
                </a:rPr>
                <a:t>Evaluation</a:t>
              </a:r>
              <a:r>
                <a:rPr b="1" lang="en-US" sz="1400" spc="-1" strike="noStrike">
                  <a:solidFill>
                    <a:srgbClr val="00808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36"/>
            <p:cNvSpPr/>
            <p:nvPr/>
          </p:nvSpPr>
          <p:spPr>
            <a:xfrm>
              <a:off x="6344640" y="4687920"/>
              <a:ext cx="120888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800080"/>
                  </a:solidFill>
                  <a:latin typeface="Times New Roman"/>
                </a:rPr>
                <a:t>Diagnosis</a:t>
              </a:r>
              <a:r>
                <a:rPr b="1" lang="en-US" sz="1500" spc="-1" strike="noStrike">
                  <a:solidFill>
                    <a:srgbClr val="80008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7"/>
            <p:cNvSpPr/>
            <p:nvPr/>
          </p:nvSpPr>
          <p:spPr>
            <a:xfrm>
              <a:off x="4001040" y="6070320"/>
              <a:ext cx="120888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800000"/>
                  </a:solidFill>
                  <a:latin typeface="Times New Roman"/>
                </a:rPr>
                <a:t>Planning</a:t>
              </a:r>
              <a:r>
                <a:rPr b="1" lang="en-US" sz="19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71520" y="3701880"/>
            <a:ext cx="8524800" cy="384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Types of Data</a:t>
            </a:r>
            <a:endParaRPr b="1" lang="en-US" sz="2800" spc="-1" strike="noStrike">
              <a:solidFill>
                <a:srgbClr val="186ec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9760" y="2346480"/>
            <a:ext cx="8613720" cy="427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jective data-observable and measurable fact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(Sign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bjective data-information that only the client feels and can describ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(Sympto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708480" y="1465200"/>
            <a:ext cx="22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4"/>
                </a:solidFill>
                <a:latin typeface="Verdana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641160" y="2178000"/>
            <a:ext cx="51440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50"/>
              </a:spcBef>
              <a:buClr>
                <a:srgbClr val="cc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stematic collection of facts or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9:07:27Z</dcterms:created>
  <dc:creator>Jim Ely</dc:creator>
  <dc:description/>
  <dc:language>en-US</dc:language>
  <cp:lastModifiedBy>Thamer Alwadani</cp:lastModifiedBy>
  <cp:lastPrinted>2001-01-03T19:47:24Z</cp:lastPrinted>
  <dcterms:modified xsi:type="dcterms:W3CDTF">2014-03-30T23:31:18Z</dcterms:modified>
  <cp:revision>38</cp:revision>
  <dc:subject/>
  <dc:title>Airgas template</dc:title>
</cp:coreProperties>
</file>