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98C-743C-46F0-AE01-2223740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EDF-5377-4DDA-B2F3-9D8AA24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C2A-1677-4450-872D-260C80C0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CEC-6130-45E6-93F8-A1370EF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ECC6-0BC7-4358-B166-EB6D9A1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8A4D-4992-44AA-89F0-22B5A60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5607-6C1F-4BB7-A2A0-266EE02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7EA9-EE48-431A-AB80-C2A4BD90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E76-3050-412D-9D7F-AD38B49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BA73-E3D8-40E7-8534-CE0D0C5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270-F07A-4B37-8BE7-4EEC78F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C9C-3B82-4DEF-9EA3-04864B6D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922-72FA-472E-9DF6-EC82D6D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AF4F-E02E-4794-8239-4FB3955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F7B8-65D5-470B-9685-994B41C0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B3F-4A10-46FC-B911-F07E8067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68D-765B-4112-9BB6-3E5A50A1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453-CDF8-4583-A016-33EBEC3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B85-008D-4AD8-9E57-1115E08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785-3F25-4066-A9CD-4C806BA5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6F8-A273-488C-816B-E84F21DD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945-E433-4311-BE06-DD82877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C06-688B-473E-B077-6F389819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3E5-E2DF-4290-8DD6-BF92FBF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DBB-213D-4FFF-81B9-7F7FD40FEE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ED4-C87F-4D2B-AB84-20EA12A9AB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0840"/>
            <a:ext cx="7772400" cy="18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Medical Nutrition Therapy for Anemia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: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nical Finding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Ear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adequate muscle fun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th abnorma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ithelial disor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immunocompetenc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L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ects in epithelial t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strit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Nutritional deficiency anaemia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nical applic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400120" cy="2283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28600" y="4102200"/>
            <a:ext cx="3200400" cy="2565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3009960" cy="2496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971800" y="2286000"/>
            <a:ext cx="3214800" cy="1724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39520" y="121932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Angul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Cheil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920" y="19051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Koilonych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6280" y="13716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Gloss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9988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Marrow iron s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5920" y="41911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Plummer-Vin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syndr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3821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Koilonchia—A Sign of Iron Deficiency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507000" cy="4456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06360" y="5864400"/>
            <a:ext cx="749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0000"/>
                </a:solidFill>
                <a:latin typeface="Arial Unicode MS"/>
              </a:rPr>
              <a:t>(From Callen JP, Greer KE, Hood AF, Paller AS, Swinyer LJ. Color Atlas of Dermatology. Philadelphia: W.B. Saunders, 1993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pplementation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Or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al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rous forms better absorbed than ferric (ferrous sulfate, ferrous lactate, ferrous fumara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st absorbed on an empty stomach but if irritation occurs, give with me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sage 50-200 mg of elemental iron for adults; 6 mg/kg body weight for child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ly supplement for 3 months (4-5 months if taken with meal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Nutritional Management of Iron-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 absorbable iron in the d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vitamin C at every m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lude meat, fish or poultry at every m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rease tea and coffee consum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toring Iron Lev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37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55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Factors to consider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oavailability of iron—the lower the Fe stores, the greater the rate of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tamin C—binds iron to form a readily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orbed comple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e sources (meat, poultry, fish)—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out 15% absorb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-355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nheme iron (grains, vegetables, eggs)—about 3% to 8% absorb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pplementation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f patient fails to resp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ot be taking suppl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ot be absorbing iron (celiac disease, steatorrhea, hemodialysi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be blee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need IV iron dextran (can cause allergic reactio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19520" y="0"/>
            <a:ext cx="6122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Arial"/>
                <a:ea typeface="Arial"/>
              </a:rPr>
              <a:t>Rx of iron deficiency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914400"/>
            <a:ext cx="71517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  <a:ea typeface="Arial"/>
              </a:rPr>
              <a:t>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lemental iron 3-6mg/kg/day, contd.. 4-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heck Hb at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  <a:ea typeface="Arial"/>
              </a:rPr>
              <a:t>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Ferrous sulphate/gluconate/fum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ron polymaltose co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lemental iron 200mg/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Parental I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rmal Hb/PatientHbXwt(kg)X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066680" cy="510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77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82840" y="0"/>
            <a:ext cx="67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Arial"/>
                <a:ea typeface="Arial"/>
              </a:rPr>
              <a:t>Diet for Iron Deficiency: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914400"/>
            <a:ext cx="844704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n adults, limit milk intake - 500 mL/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void excess caffe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Eat iron-rich foo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Protein foods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</a:t>
            </a:r>
            <a:r>
              <a:rPr b="0" lang="ar-SA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ff00"/>
                </a:solidFill>
                <a:latin typeface="Verdana"/>
                <a:ea typeface="Arial"/>
              </a:rPr>
              <a:t>Vege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eat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Gre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Fish &amp; Shelfish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 Dried peas &amp; be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2ffb"/>
                </a:solidFill>
                <a:latin typeface="Verdana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Fruits</a:t>
            </a:r>
            <a:r>
              <a:rPr b="1" lang="en-US" sz="20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7d2ffb"/>
                </a:solidFill>
                <a:latin typeface="Verdana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Arial"/>
              </a:rPr>
              <a:t>Gr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ried frui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Iron-fortified bre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uic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         Dry cere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Most fresh fruit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  Oatmeal cer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236232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isorders Associated wi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Toxicit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lass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deroblastic an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onic hemolytic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lastic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effective erythropoie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usional iron overlo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coholic cirrho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0400" y="472680"/>
            <a:ext cx="77709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Defini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deficiency in size or number of red blood cells or amount of hemoglobin they cont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d as a hemoglobin concentration below the 9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%ile for healthy reference popul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 disease but a symptom of conditions including extensive blood loss, excessive blood cell destruction, or decreased blood cell 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galoblastic Anemia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m of anemia characterized by the presence of large, immature, abnormal red blood cell progenitors in the bone marr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95% of cases are attributable to folic acid or vitamin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12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114800" y="3505320"/>
            <a:ext cx="50292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tic Test for Folate/B12 Statu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Fo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d in whole blood (plasma and cells) and then in the serum al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ce is used to calculate the red blood cell folate concentration (may better reflect the whole folate po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also test serum in fast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B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asured in ser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Functional Tests for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crocytic Anemia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Homocyste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Folate and B12 are needed to convert homocysteine to methionine; high homocysteine may mean deficiencies of folate, B12 or B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Methylmaloni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aci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asurements can be used along with homocysteine to distinguish between B12 and folate defici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chill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e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radiolabeled cobalamin is used to test for B12 mal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nicious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acrocytic, megaloblastic anemia caused by a deficiency of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secondary to lack of intrinsic factor (I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y be caused by strict vegan di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an be caused by ↓gastric acid secretion, gastric atrophy, H-pylori, gastrectomy, disorders of the small intestine (celiac disease, regional enteritis, resections), drugs that inhibit B12 absorption including neomycin, alcohol, colchicine, metformin, pancreatic dis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ymptoms of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ernicious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esthesia (especially numbness and tingling in hands and fe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or muscular coordin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aired memory and hallucin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mage can be perma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itamin B</a:t>
            </a:r>
            <a:r>
              <a:rPr b="0" lang="en-US" sz="44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Deple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649520"/>
            <a:ext cx="8502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1320" indent="-3913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—early negative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a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—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ple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I—damaged metabolism: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ficient erythropoi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V—clinical damage including vitamin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2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1320" indent="-3913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Perniciou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emia—numbness in hands and feet; poor muscular coordination; poor memory; hallucin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s of Vitamin B</a:t>
            </a:r>
            <a:r>
              <a:rPr b="0" lang="en-US" sz="4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Deficienc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9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excre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destruction by antioxid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eatment of B12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1926 was incurable; until 1948 was treated with liver extr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treatment consists of injection of 100 mcg of vitamin B12 once per week until resolved, then as often as necess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an use very large oral doses or nasal g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NT: high protein diet (1.5 g/kg) with meat, liver, eggs, milk, milk products, green leafy vegetabl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lic Acid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opical sprue; pregnancy; infants born to deficient m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cohol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taking medications chronically that affect folic acid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labsorption syndro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uses of Folate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excre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tamin B12 deficiency can cause folate deficiency due to the methylfolate trap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assification of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sed on cell size (MC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crocytic (large) MCV 100+ fl (femtoliter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ocytic (normal) MCV 80-99 f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rocytic (small) MCV&lt;80 f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sed on hemoglobin content (M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pochromic (pale colo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mochromic (normal colo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hylfolate Trap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42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absence of B12, folate in the body exists as 5-methyltetrahydro-folate (an inactive for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12 allows the removal of the 5-methyl group to form THF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rcRect l="0" t="0" r="632" b="0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ges of Folate Depletion and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63480" y="1649160"/>
            <a:ext cx="72435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—early negative folate balance (serum deple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—negative folate balance (cell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le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II—damaged folate metabolism with folate-deficient erythropoi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V—clinical folate deficiency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iagnosis of Folate Deficienc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late stores are depleted after 2-4 months on deficient d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galoblastic anemia, low leukocytes and platel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differentiate from B12, measure serum folate, RBC folate (more reflective of body stores) serum B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formiminoglutamic acid (FIGLU) in the urine also diagno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ther Nutritional Anemi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deficiency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 of protein-energy malnutr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deroblastic (pyridoxine-responsive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min E–responsive (hemolytic) anem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pper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is required for mobilization of iron from storage s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opper deficient state, result is low serum iron and hemoglobin, even when iron stores are norm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per is widespread in foods and needed in tiny amou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occurs in infants fed deficient formula or cow’s milk, adults and children with malabsorption or on TPN without copp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nosis is important, since more iron won’t help and may interfere with copper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deroblastic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cytic, hypochromic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herited defect of heme synthesis enzy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gh serum and tissue iron lev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up of immature sideroblasts—hence the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essential—must replace 25 to 100 times the RDA; may need lifelong replac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yridoxine-responsive anemia, distinguished from anemia caused by pyridoxine 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molytic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xidative damage to cells—lysis occu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min E is an antioxidant that seems t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protecti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anemia can occur in newborns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pecially preem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on</a:t>
            </a: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utritional Anemi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63480" y="1649520"/>
            <a:ext cx="7243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rts anemia (hypochromic microcytic transient anemi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emia of pregnancy: dilut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emia of inflammation, infection, or malignancy (anemia of chronic diseas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ckle cell anem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alass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orts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ent—usually in athletes who are runners; from compression of RBCs in feet until they burst, releasing hemoglob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lab val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unsel about a proper di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cterized by the production of small (microcytic) erythrocytes and a diminished level of circulating hemoglob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st stage of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esents the end point of a long period of iron depriv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in-energy malnutrition common; may have poor intake and increased energy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careful not to overdo iron in diet or supplements; iron stores are often high due to frequent transfusions; avoid iron rich foods, alcohol, and ascorbic acid which enhance iron absor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foods high in copper, zinc and folate as needs are increased due to constant replacement of erythroc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inc supplements may be use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alassem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44800" indent="-24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re inherited anemia affecting mostly people of Mediterranean ex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-24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ective globin formation in hemoglobin leads to increased blood volume, splenomegaly, bone marrow expansion, facial deformities, osteomalacia, bone 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-24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on buildup due to transfusions requires chelation therapy to remove excess ir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edical and Nutritional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anagement of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important to be familiar with the etiology and treatment of nutritional and non-nutritional anem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non-nutritional anemias have nutritional implic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critical to DIAGNOSE before treating anemias with nutritional or non-nutritional therap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s of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ron Deficiency Anemi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cts in release from st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dequate util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blood loss or excre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reased requir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ages of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moderate depletion of iron stores; no dysfun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Severe depletion of iron stores; no dysfun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tag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Iron deficiency (dysfunction and anemi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636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54080" y="1752120"/>
            <a:ext cx="7918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5280" indent="-39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Seru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poor indicator, highly variable day to day and during the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-39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Ferrit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most sensitive—chief storage form of iron; directly proportional to iron stored in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Zin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protoporphyrin/hem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rati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(ZPPH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protoporphyrin binds iron to form heme or zinc to form zinc protoporphyr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presence of iron deficiency, ratio will rise (iron deficiency defined as ratio&gt;1:12,000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affected by hematocrit or other causes of anemia; specific to iron de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sts for Iron Deficienc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ir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bind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capac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(TIBC)—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acity of transferrin to bind ir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ferrin—globulin that binds/transports Fe from gut wall to t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Perc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satu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transferr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calculate by dividing serum iron by the TIBC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BC increases in iron defici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stored iron falls, saturation of transferrin decr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21:56:52Z</dcterms:created>
  <dc:creator> Cinda Chima</dc:creator>
  <dc:description/>
  <dc:language>en-US</dc:language>
  <cp:lastModifiedBy>Dr.abdel-hamid</cp:lastModifiedBy>
  <dcterms:modified xsi:type="dcterms:W3CDTF">2006-10-19T03:52:10Z</dcterms:modified>
  <cp:revision>74</cp:revision>
  <dc:subject/>
  <dc:title>Laboratory Data in  Nutrition Assessment</dc:title>
</cp:coreProperties>
</file>