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30.png" ContentType="image/png"/>
  <Override PartName="/ppt/media/image42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865F-4B18-4F49-A3DE-00FECB595A5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877D-F5D9-48C0-998D-1C36BEB3B93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Simplified Arabic"/>
              <a:ea typeface="Simplified Arabic"/>
            </a:endParaRPr>
          </a:p>
        </p:txBody>
      </p:sp>
      <p:sp>
        <p:nvSpPr>
          <p:cNvPr id="9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4D57-0C64-4944-9DA5-95AF43A754E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Simplified Arabic"/>
              <a:ea typeface="Simplified Arabic"/>
            </a:endParaRPr>
          </a:p>
        </p:txBody>
      </p:sp>
      <p:sp>
        <p:nvSpPr>
          <p:cNvPr id="9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C25D-5D04-4F43-81C6-6052DBDD42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13D0-16CD-47A8-92BA-CD1DDD5EEE1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فصل الثاني من كتاب التحليل الحجمي والوزني، للزامل وآخرون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8A57-415C-4BD1-9EE1-8531F0391D7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فصل الأول من الكيمياء التحليلية (التحليل الآلي) أ.د. إبراهيم الزام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قياس كمية للطيف الكهرومغناطيسي (</a:t>
            </a:r>
            <a:r>
              <a:rPr b="1" lang="ar-SA" sz="1200" spc="-1" strike="noStrike" u="sng">
                <a:solidFill>
                  <a:srgbClr val="ff0000"/>
                </a:solidFill>
                <a:uFillTx/>
                <a:latin typeface="Calibri"/>
              </a:rPr>
              <a:t>الضوء المرئي، قريب فوق البنفسجي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تحت الحمراء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مصدر ضوء، عينة، مستقبل للضوء النافذ من العينة، تحويل الكمية أو الشدة إلى رقم يدل على التركيز (اعتماداً على الطول الموجي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لتحليل الكمي والنوعي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FDCF-D9C0-47AF-A623-FCDF717EBB6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0C3E-0576-4770-AD7C-78B054CFECE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Simplified Arabic"/>
              <a:ea typeface="Simplified Arabic"/>
            </a:endParaRPr>
          </a:p>
        </p:txBody>
      </p:sp>
      <p:sp>
        <p:nvSpPr>
          <p:cNvPr id="9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954E-8197-4C1B-A397-4CCB98EF656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317F-76BF-41A6-AB2B-A5DF70D4FFE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CE69-57A7-4B60-A771-28E0357E54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Simplified Arabic"/>
              <a:ea typeface="Simplified Arabic"/>
            </a:endParaRPr>
          </a:p>
        </p:txBody>
      </p:sp>
      <p:sp>
        <p:nvSpPr>
          <p:cNvPr id="9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8A4D-34EE-419F-A20B-3DFF94499D6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8FB-D2B8-427C-B708-5C9B1A1F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FB6-E664-47B7-9BE1-53B3C8A1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673-AC25-44B7-B74C-ED16D757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713-927E-4581-95D5-6859FA6E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F20E5-9843-40C8-9561-2B343E73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47E42-51BE-4C4F-A630-C25E7FCC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62B7D-2DDF-40C4-B64D-81135322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BF1B0-AAF7-4EBE-A8FE-7EB93584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D6021-586A-4719-A19D-755416E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CC61-19E8-4659-A5AF-92DECF35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58493-77C4-44D8-B5DF-EE91D901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8E8-6EDC-4FA6-9EAE-153C0EF4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D5D84-D2C8-4F4D-8E91-C0A0536A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64996-D30E-4481-A043-EF5F7FB8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79002-823F-4E71-8573-07EA16AB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4E8BF-40AA-4A29-B0E7-E65C8E42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18D07-B57B-4792-9E1C-37649DD5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7239B-956A-4A6F-A219-109C9BD2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01E93-66FF-4568-93BB-E9DBD4F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E764D-3A58-4888-A5DF-8C2DD632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2894E-6F1C-4FE5-B847-D7841F8D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63119-03E0-4B3E-AF9B-0714A5E4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9A7-7165-4D9A-817F-3F601E59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E1776-75D9-474A-8AE1-B088306A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F4A51-B893-4C01-96D5-5FAC4F26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5496B-B029-456F-A72A-AE4E2B0C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775BE-146B-4002-AD29-6FF18BC8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163C8-39AE-451A-8648-5B39A049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89785-911C-40EC-8E5B-E26662CE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B0F85-3CD6-47B6-A199-C4503E33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F04A4-C283-416D-8E85-317C5ED3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A9BC-533F-4F13-B166-7EBD8E46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AA58A-84E8-416B-BBB8-85EA7036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CEE-9792-4AA7-8C4A-FFC499DB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743C-BA5C-48BC-AA4B-FD9B5DA4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37E7-9E4D-4407-91F6-5FAA8E5A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37F0-07F6-4F9B-A559-8A69C98B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4C3C8-C749-44D3-BB82-1FCFA0BE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B95B-BE4E-49C9-A109-BAB6D92B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8B9F0-2110-450E-BF2C-822D2C7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FF7A-2CDD-4042-B770-99EED68A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C827-E3B1-46A2-B47A-10CD779C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EC71-88CE-4935-B212-E06DC31A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2BF7-1F90-4025-AED9-78DAF39F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0AA-0099-4963-A22A-E8B70089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C8091-5F13-437C-BD55-6B36F953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84346-FE4D-41DA-A671-A4362DEA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9347-74F7-444E-9D2E-8AA9B3EE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C2FB-1B1A-4128-BEBA-A4D233D9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FFF98-4132-48EE-B256-0066E5F7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AB81-BE58-4E6E-B369-9D8BE6E4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C21DA-BB68-4E5B-80A8-9955BA53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39910-A02E-416B-B96F-184A26C8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9E448-B304-4E07-8475-4BF6FDA3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646D-E132-4D80-BC3A-D6FA1B6A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B46-BBDD-4E59-9894-01A9916A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DD717-ABD9-419A-9260-819E24A2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D093A-405F-459E-995D-9CE28BE6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C922-0B37-4DC7-9EE8-60173CDC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2239B-A2D1-4018-91E3-72C5676F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30659-B101-4F7B-A721-D1F327C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30202-1FAC-43B4-B3ED-B94ED5CF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53E0F-1723-4EAF-875F-28CF5708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24AB1-451D-4CCD-82B1-25A2E3DE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6BA1E-74AF-4E88-98AF-6746C425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010D0-EBBA-4A9A-AFF7-CE999BFB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AED-59F1-4EB7-9E9D-0BB550EF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0B305-0967-4D9C-B57B-8470FC0F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61436-7C4B-4AE9-8002-D8A9D80E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FF3EA-477D-4EB7-A03B-77E4C795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14996-66FE-4C60-85CB-F3C23799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E30FC-8B86-4846-B87C-313725C0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3D1C-9582-4A6F-BDAD-CC829659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4B20E-8C33-48CE-81C0-0CA12B96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CD8C3-891E-4FAC-9C0A-A8CD6687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2BBCF-6D24-4B14-970B-6DFFF3CC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2BEE2-BBDA-4030-9819-DFE09B5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B08-55AF-4324-A400-E19462B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8F0A0-9744-4D2E-934C-1A30B488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D43D6-A484-4D14-9D95-FD57D7A8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14A87-1B22-49F1-A3B7-66A32D9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4B187-7F67-40DB-8CEF-B55526AD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A5769-E2FA-4BBD-ACFF-A050B700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CB56-B55C-4D19-900E-BCD99B84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94A65-167E-465B-AC74-2AF5D957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5EE0D-F148-4726-AE61-4835F172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6110D-848A-4568-871B-5423AB6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54CC2-DD73-4D3A-9717-EADB9263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1E4-1940-4B31-93B3-DA746F3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AAD96-806C-4160-AFDD-FA6E2EB2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690AE-AC51-40F0-BDDE-E74DC1B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1D4AC-96F8-4659-9EC1-A9696C5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8B00A-B2FC-44D6-996B-65EB4A9D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BFBE6-F42F-47AE-B5B3-F15BDFC1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4420F-2DF7-4AEA-B649-8502C408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D5A18-1A7D-4844-87AC-100243FE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7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0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3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6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9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2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8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1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4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0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43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46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49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2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5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8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1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4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7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70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9E5F-C1B1-4ACC-AB35-AEC6DBA37ADD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14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117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120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23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26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29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32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135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138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141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144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147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150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153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156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159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162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165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168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171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174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177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180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183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Rectangle 30" descr=""/>
          <p:cNvPicPr/>
          <p:nvPr/>
        </p:nvPicPr>
        <p:blipFill>
          <a:blip r:embed="rId27"/>
          <a:stretch/>
        </p:blipFill>
        <p:spPr>
          <a:xfrm>
            <a:off x="0" y="243828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37" descr=""/>
          <p:cNvPicPr/>
          <p:nvPr/>
        </p:nvPicPr>
        <p:blipFill>
          <a:blip r:embed="rId28"/>
          <a:stretch/>
        </p:blipFill>
        <p:spPr>
          <a:xfrm>
            <a:off x="0" y="91440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F095-3960-489B-BE1A-A74E2D97925A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229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235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238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241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244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247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50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3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56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259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262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265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268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271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274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277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280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283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286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289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292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295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298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C6E8-F0A8-464A-BFBD-9EA35DC19C71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343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346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349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352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355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358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361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364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367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370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73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76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9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382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385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388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391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394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397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400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403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406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409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412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Rectangle 30" descr=""/>
          <p:cNvPicPr/>
          <p:nvPr/>
        </p:nvPicPr>
        <p:blipFill>
          <a:blip r:embed="rId27"/>
          <a:stretch/>
        </p:blipFill>
        <p:spPr>
          <a:xfrm>
            <a:off x="0" y="4956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37" descr=""/>
          <p:cNvPicPr/>
          <p:nvPr/>
        </p:nvPicPr>
        <p:blipFill>
          <a:blip r:embed="rId28"/>
          <a:stretch/>
        </p:blipFill>
        <p:spPr>
          <a:xfrm>
            <a:off x="0" y="34322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52B3-7B1A-43D7-8208-D8B89D2E7E7D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458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61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464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467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470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473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476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479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482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485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488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491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494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97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500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503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506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09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12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15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518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521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524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527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4FA-675A-40CE-8AA5-2619DFA56890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572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575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578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581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584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587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590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593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596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599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602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605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608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611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614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617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620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2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623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626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629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1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32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35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38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641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3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16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1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21DC-BA75-4735-824A-A9B21FBB867D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686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689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692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695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698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01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04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07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Oval 44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710" name="Oval 44" descr=""/>
            <p:cNvPicPr/>
            <p:nvPr/>
          </p:nvPicPr>
          <p:blipFill>
            <a:blip r:embed="rId10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Oval 45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13" name="Oval 45" descr=""/>
            <p:cNvPicPr/>
            <p:nvPr/>
          </p:nvPicPr>
          <p:blipFill>
            <a:blip r:embed="rId11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Oval 46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16" name="Oval 46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Rectangle 47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19" name="Rectangle 47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Oval 48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722" name="Oval 48" descr=""/>
            <p:cNvPicPr/>
            <p:nvPr/>
          </p:nvPicPr>
          <p:blipFill>
            <a:blip r:embed="rId14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Oval 49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725" name="Oval 49" descr=""/>
            <p:cNvPicPr/>
            <p:nvPr/>
          </p:nvPicPr>
          <p:blipFill>
            <a:blip r:embed="rId15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0"/>
          </p:nvPr>
        </p:nvSpPr>
        <p:spPr>
          <a:xfrm>
            <a:off x="2285640" y="6357600"/>
            <a:ext cx="3429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1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98B4-2974-4527-90E3-ADA40D8055BC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769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772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775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778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781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84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87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90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Oval 44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93" name="Oval 44" descr=""/>
            <p:cNvPicPr/>
            <p:nvPr/>
          </p:nvPicPr>
          <p:blipFill>
            <a:blip r:embed="rId10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Oval 45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96" name="Oval 45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Rectangle 46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99" name="Rectangle 46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Oval 47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802" name="Oval 47" descr=""/>
            <p:cNvPicPr/>
            <p:nvPr/>
          </p:nvPicPr>
          <p:blipFill>
            <a:blip r:embed="rId13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Oval 48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805" name="Oval 48" descr=""/>
            <p:cNvPicPr/>
            <p:nvPr/>
          </p:nvPicPr>
          <p:blipFill>
            <a:blip r:embed="rId14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Oval 49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808" name="Oval 49" descr=""/>
            <p:cNvPicPr/>
            <p:nvPr/>
          </p:nvPicPr>
          <p:blipFill>
            <a:blip r:embed="rId15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24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8C40-C565-40B3-9DE2-5FFCA52399F6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d/Czochralski_method_used_crucible_1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upload.wikimedia.org/wikipedia/commons/0/0a/Embudo_B&#252;chner.jpeg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80880" y="29714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200000"/>
              </a:lnSpc>
              <a:spcBef>
                <a:spcPts val="1199"/>
              </a:spcBef>
              <a:spcAft>
                <a:spcPts val="1199"/>
              </a:spcAft>
              <a:buClr>
                <a:srgbClr val="b4bc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التحليل الحجمي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Volumetric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200000"/>
              </a:lnSpc>
              <a:spcBef>
                <a:spcPts val="1199"/>
              </a:spcBef>
              <a:spcAft>
                <a:spcPts val="1199"/>
              </a:spcAft>
              <a:buClr>
                <a:srgbClr val="b4bc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التحليل الطيفي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pectrophotometric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200000"/>
              </a:lnSpc>
              <a:spcBef>
                <a:spcPts val="1199"/>
              </a:spcBef>
              <a:spcAft>
                <a:spcPts val="1199"/>
              </a:spcAft>
              <a:buClr>
                <a:srgbClr val="b4bc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التحليل الوزني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Gravimetric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</a:rPr>
              <a:t>التحليل الكيميائي</a:t>
            </a:r>
            <a:endParaRPr b="0" lang="en-US" sz="36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0" name="عنصر نائب لرقم الشريحة 3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C7D-23A0-4AD1-90EE-337FB33559E8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1e1e3"/>
                </a:solidFill>
                <a:latin typeface="Simplified Arabic"/>
                <a:cs typeface="Simplified Arabic"/>
              </a:rPr>
              <a:t>الترسيب الكيميائي</a:t>
            </a:r>
            <a:endParaRPr b="0" lang="en-US" sz="2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lnSpc>
                <a:spcPct val="1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تطلبات التحليل الوزني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تطلبات الصورة المترسبة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شحيحة الذوبان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ذو بلورات أو حبيبات ذات أحجام مناسب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إمكانية تحويل الصورة المترسبة إلى موزونة بسهولة وبصورة كامل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تطلبات الصورة الموزونة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ركب واحد وله صيغة كيميائية محدد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ثابتة كيميائيا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تكون كمية العنصر أو المادة المطلوب تقديرها أقل ما يمكن في الصورة الموزونة (</a:t>
            </a:r>
            <a:r>
              <a:rPr b="0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C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و </a:t>
            </a:r>
            <a:r>
              <a:rPr b="0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BaCr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3" name="عنصر نائب لرقم الشريحة 1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9285-1F50-4113-90C7-6839A610CC13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1e1e3"/>
                </a:solidFill>
                <a:latin typeface="Simplified Arabic"/>
                <a:cs typeface="Simplified Arabic"/>
              </a:rPr>
              <a:t>الترسيب الكيميائي</a:t>
            </a:r>
            <a:endParaRPr b="0" lang="en-US" sz="2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هضم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iges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إعطاء فرصة لتكون حبيبات أو بلورات بأحجام أكبر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رشيح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ltr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Filter paper, Büchner funnel or goach filt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غسل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ashing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كتروليتي سهل التطاير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لا يكون نواتج غير متطايرة أو غير ذائبة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لا يذيب الراسب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(الأيون المشترك)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96" name="Picture 6" descr="File:Czochralski method used crucible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65760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8" descr="File:Embudo Büchner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60" y="3654360"/>
            <a:ext cx="1905120" cy="2540160"/>
          </a:xfrm>
          <a:prstGeom prst="rect">
            <a:avLst/>
          </a:prstGeom>
          <a:ln w="0">
            <a:noFill/>
          </a:ln>
        </p:spPr>
      </p:pic>
      <p:sp>
        <p:nvSpPr>
          <p:cNvPr id="898" name="عنصر نائب لرقم الشريحة 1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E4C4-BF40-4688-8A2E-EB9D2AF5039D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جفيف أو الحرق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rying or Igni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وزن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eigh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حسابات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alculation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معامل</a:t>
            </a:r>
            <a:r>
              <a:rPr b="0" lang="ar-SA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التحليل الوزني = (الوزن الذري أو الجزيئي للمراد تقديره/ الوزن الجزيئي للراسب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كتلة المراد تقديره = معامل التحليل الوزني × كتلة الراسب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النسبة المؤية لكتلة المراد تقديره = (كتلة الراسب × معامل التحليل/ كتلة العينة) × </a:t>
            </a: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1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B80D-78A5-495C-A871-49941AAA6F43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التحليل الحجمي </a:t>
            </a: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Volumetric Analysis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أسرع وأسهل من التحليل الوزني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يسمى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itrimetric Analysis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لاعتماده المعايرة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يعتمد على محلول قياسي (كاشف) ومعرفة نقطة التكافؤ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خواص مرئية 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Visual Indicator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خواص غير مرئية (مقاسة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محلول القياسي 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tandard Solution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لتفاعلات المعايرة خصائ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يتم التفاعل بنسبة معينة وثابتة ومعروفة وبصورة كاملة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سريع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مميز (فتفاعل الكاشف يتم مع المادة المراد تقديرها فقط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وضوح التغير (حاد ومفاجئ) أو توفر وسيلة للقياس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تفاعل تاما وكمياً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63" name="Picture 7" descr="http://upload.wikimedia.org/wikipedia/commons/a/af/Winkler_Titration_Prior_Titration.jpg"/>
          <p:cNvPicPr/>
          <p:nvPr/>
        </p:nvPicPr>
        <p:blipFill>
          <a:blip r:embed="rId1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64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1C03-5604-4F92-AD7F-FD0181DDE19F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التحليل الطيفي </a:t>
            </a: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Spectrophotometric methods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أكثر شيوعاً، سهلة، سريعة، دقيقة نسبيا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onstantia"/>
              </a:rPr>
              <a:t>تعتمد على انبعاث أو امتصاص أشعة، أو بعثرة أو عكس أو كسر جزء ..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67" name="Picture 4" descr=""/>
          <p:cNvPicPr/>
          <p:nvPr/>
        </p:nvPicPr>
        <p:blipFill>
          <a:blip r:embed="rId1"/>
          <a:stretch/>
        </p:blipFill>
        <p:spPr>
          <a:xfrm>
            <a:off x="1600200" y="2633760"/>
            <a:ext cx="6669000" cy="3948120"/>
          </a:xfrm>
          <a:prstGeom prst="rect">
            <a:avLst/>
          </a:prstGeom>
          <a:ln w="0">
            <a:noFill/>
          </a:ln>
        </p:spPr>
      </p:pic>
      <p:sp>
        <p:nvSpPr>
          <p:cNvPr id="868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E40F-B250-485E-9C33-702B5F6FA4B3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طرق التحليل الوزني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GRAVIMETRIC METHODS OF ANALYSIS</a:t>
            </a:r>
            <a:endParaRPr b="0" lang="en-US" sz="36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1" name="TextBox 3"/>
          <p:cNvSpPr/>
          <p:nvPr/>
        </p:nvSpPr>
        <p:spPr>
          <a:xfrm>
            <a:off x="1137960" y="6095880"/>
            <a:ext cx="84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كيمياء التحليلية. الزامل، إبراهيم وآخرون، الفصل العا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عنصر نائب لرقم الشريحة 3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8D11-2B03-4D88-90B3-5B5597E8566A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مقدمة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assical methods of quantitative analysi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nstantia"/>
              </a:rPr>
              <a:t>تحليل كيميائي كمي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زيادة في الكتلة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فقد في الكتلة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54360" indent="-21708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ادة 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0.5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جم، تفقد من الكتلة 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0.1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جم ما بين 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700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900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54360" indent="-21708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ع احتمال وجود الكربونات!!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54360" indent="-21708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فقد ماء التبلور أو المدم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ترسيب الكيميائي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5" name="عنصر نائب لرقم الشريحة 4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3ECA-F850-480B-AC42-64A7BA5ECB8F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ما هي نقاوة مركب الكربونات هنا؟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72400" cy="4670280"/>
          </a:xfrm>
          <a:prstGeom prst="rect">
            <a:avLst/>
          </a:prstGeom>
          <a:ln w="0">
            <a:noFill/>
          </a:ln>
        </p:spPr>
      </p:pic>
      <p:sp>
        <p:nvSpPr>
          <p:cNvPr id="879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B0D2-65BC-4F96-BB58-580B2C2F4C3D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82" name="Picture 2" descr="http://upload.wikimedia.org/wikipedia/commons/8/8d/Ca_oxalate_thermogram.jpg"/>
          <p:cNvPicPr/>
          <p:nvPr/>
        </p:nvPicPr>
        <p:blipFill>
          <a:blip r:embed="rId1"/>
          <a:stretch/>
        </p:blipFill>
        <p:spPr>
          <a:xfrm>
            <a:off x="93600" y="762120"/>
            <a:ext cx="8974080" cy="5629320"/>
          </a:xfrm>
          <a:prstGeom prst="rect">
            <a:avLst/>
          </a:prstGeom>
          <a:ln w="0">
            <a:noFill/>
          </a:ln>
        </p:spPr>
      </p:pic>
      <p:sp>
        <p:nvSpPr>
          <p:cNvPr id="883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2CC5-D786-4A06-A7F6-D02BDAB28E6A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86" name="Picture 2" descr="http://upload.wikimedia.org/wikipedia/commons/a/ab/Calcium_oxalate_TGA_01b.png"/>
          <p:cNvPicPr/>
          <p:nvPr/>
        </p:nvPicPr>
        <p:blipFill>
          <a:blip r:embed="rId1"/>
          <a:stretch/>
        </p:blipFill>
        <p:spPr>
          <a:xfrm>
            <a:off x="1523880" y="1523880"/>
            <a:ext cx="5996160" cy="4496040"/>
          </a:xfrm>
          <a:prstGeom prst="rect">
            <a:avLst/>
          </a:prstGeom>
          <a:ln w="0">
            <a:noFill/>
          </a:ln>
        </p:spPr>
      </p:pic>
      <p:sp>
        <p:nvSpPr>
          <p:cNvPr id="887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E9F2-9D6B-4A71-98D9-495DC7542348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1e1e3"/>
                </a:solidFill>
                <a:latin typeface="Simplified Arabic"/>
                <a:cs typeface="Simplified Arabic"/>
              </a:rPr>
              <a:t>الترسيب الكيميائي</a:t>
            </a:r>
            <a:endParaRPr b="0" lang="en-US" sz="2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 algn="r" rtl="1">
              <a:lnSpc>
                <a:spcPct val="100000"/>
              </a:lnSpc>
              <a:spcBef>
                <a:spcPts val="601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ثال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حلول 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NaC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مراد تقديره 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Cl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مُرسِب 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Ag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Precipitant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)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راسب 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AgCl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Precipitate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)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lnSpc>
                <a:spcPct val="100000"/>
              </a:lnSpc>
              <a:spcBef>
                <a:spcPts val="601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خطوات التحليل الوزني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إذابة العين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عالجة أولية لمحلول العين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ترسيب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0" name="عنصر نائب لرقم الشريحة 1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975E-B40F-4DF6-91F1-97C3D884E28D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36:41Z</dcterms:created>
  <dc:creator>أميرة المنزل</dc:creator>
  <dc:description/>
  <dc:language>en-US</dc:language>
  <cp:lastModifiedBy>Abdullah Al-Farraj</cp:lastModifiedBy>
  <dcterms:modified xsi:type="dcterms:W3CDTF">2016-12-11T11:44:48Z</dcterms:modified>
  <cp:revision>198</cp:revision>
  <dc:subject/>
  <dc:title>عرض تقديمي في PowerPoint</dc:title>
</cp:coreProperties>
</file>