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move the slide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13A-CC13-44DC-A0AE-432BB2C561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8AA-ED22-445D-AD02-35AC29CAC8E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8D25-F8F8-4D78-A2E7-799E9EBCAC1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E9B-2A4E-4988-8FBC-5DAE0BE8D09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C832-4D7C-48F3-9DE3-086259C04B9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00" spc="-1" strike="noStrike">
                <a:solidFill>
                  <a:srgbClr val="000000"/>
                </a:solidFill>
                <a:latin typeface="Calibri"/>
              </a:rPr>
              <a:t>الفصل الثاني من كتاب التحليل الحجمي والوزني، للزامل وآخرون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0595-5ACB-4B91-A8B9-1392C8D31F5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الفصل الأول من الكيمياء التحليلية (التحليل الآلي) أ.د. إبراهيم الزام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قياس كمية للطيف الكهرومغناطيسي (</a:t>
            </a:r>
            <a:r>
              <a:rPr b="1" lang="ar-SA" sz="1200" spc="-1" strike="noStrike" u="sng">
                <a:solidFill>
                  <a:srgbClr val="ff0000"/>
                </a:solidFill>
                <a:uFillTx/>
                <a:latin typeface="Calibri"/>
              </a:rPr>
              <a:t>الضوء المرئي، قريب فوق البنفسجي 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وتحت الحمراء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مصدر ضوء، عينة، مستقبل للضوء النافذ من العينة، تحويل الكمية أو الشدة إلى رقم يدل على التركيز (اعتماداً على الطول الموجي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للتحليل الكمي والنوعي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89FC-67B6-472C-995F-3767B9B742D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B43-938D-467E-A03E-8DCADEA1E2A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A636-747C-4F9E-98B0-A52312FD086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F3C3-6A22-4122-BF53-6DFFC6EF53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EE78-EAFC-4CB0-9807-FA222E0FFA5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Simplified Arabic"/>
              <a:ea typeface="Simplified Arabic"/>
            </a:endParaRPr>
          </a:p>
        </p:txBody>
      </p:sp>
      <p:sp>
        <p:nvSpPr>
          <p:cNvPr id="9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4DB7-5733-447C-A5CC-7D701EB4E30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98B-FFB5-44F5-BF74-E2AC5D5A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F75-D47A-4868-99CC-795E8E59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72E-54AD-4F4D-AB6C-B8DA103B5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B2F-2F3F-4B91-841C-69399FFC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ED230-2510-436C-9A51-7E3303AA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4ACD3-9705-4D50-90A0-6A608CBB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B2CE-F126-4409-A4A0-09305575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057ED-EDC1-4BE4-AF19-8590C7B7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75CD6-3709-4665-99E8-53E73C40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E785E-6C4D-47E7-A5B1-90998F5E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DC9ED-BE54-4B5F-BCCA-402188C7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B13-A46F-435D-BE03-01374C18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93B78-2138-4FB7-A81D-15C684C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F96DA-854C-41E3-8E3F-F7C2C93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7AB06-45CA-48C4-A98D-15C26FF2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47B02-3F71-4805-8AF2-059325D59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22A20-7526-4B74-A5D3-96FE7B16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E9295-47ED-48C1-8BFD-185CBA59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BF1FC-01EE-453B-B027-C06CAC40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E389C-D225-465C-B198-0FD18D82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FEA7F-5F6E-4EE6-A5EB-4AE10955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5E3EF-5D1A-43BB-B966-F27C52C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2BE-77C8-4E79-8A75-894AF14F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D0DFC-8819-418E-91B3-C6A88EB6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4B7E15-412B-4028-8C63-2F8C5CD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3745A-920C-4BA0-B43F-47775499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E759D3-183A-40BA-935C-A8488422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1C64F-5B88-4F22-AA0B-90588EDD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0A20C-D301-4353-AB14-00EEA665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F2091-725F-4668-B490-8BAE1B9E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D9D2-24CE-4E01-988A-8980B539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4578-C508-4738-A0A7-ED4F846C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08C26-6FA7-42CC-ABA1-ED7141C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578-CD15-4EC6-AF3D-A1FA7C69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7964-6043-418E-88E9-2BEAF434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F2425-D57A-46E4-838F-D0E8630B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C0813-DD88-492E-9206-EE26320E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B47B-7FE6-46E7-B239-88CB79A6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40EE3-E808-4490-BD30-179A6CD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CA50C-7051-40BD-98F2-F48829E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D19E1-F250-43F4-B414-9F6E7723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22F3-3BF9-48FF-A7AF-746D18D8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53CF0-08ED-4100-A095-9BA4825C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AF4E-2FEE-4D97-A798-535E27A0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70F0-1A2A-4CF5-844A-C67D2149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6BA9-0A8D-476C-B528-7F0C68C2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45F6E-9414-473D-92EC-6DC92320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305B-F1D5-4809-9881-1A60FDDA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B1D3-6F8C-4B6E-8380-F1034F77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9960D-F988-4838-ADF2-A301821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A5CED-7C77-49B1-8D12-99439B63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E433A-996B-4D14-81C0-4866826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FFA30-3DBA-4C9F-A978-A4970A3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05DD-4DD9-4AAA-83DE-DEDC2A6C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3D4A0-F208-4F79-8591-30AF07F1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0F8-EE0A-4E9F-8E02-EF4CE9B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8DA1A-2055-4342-B2FD-00A9A0AB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4FEF-99AA-4767-9DD6-0A44EC6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C0809-6766-4D3D-A987-7DF133EB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45AEB-AE90-426C-993D-47FAB72C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F6506-A04D-4D3D-83DD-8F6BC920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85401-6DF1-4CBC-AC8B-C1B07886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D9D7-03F4-419F-9AE6-9C342833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6BF97-201F-4801-817D-7C8B5566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8B220-3230-4065-86BC-88A15FE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707EB-9C78-49F9-8C93-D745911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59F-C390-4AF4-94D6-16EB918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296AD-6751-4E9D-AAC1-AD9631CF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0EB33-4026-4DE8-8D7E-43596653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0D0C-9DA4-4020-B2F6-1CA78498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E9DD0-AB77-4EDC-8CC3-B76DA701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594ED-4146-466F-8B96-E045D731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F9897-8CBB-4952-A1A1-4527202A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22C72-708F-48AB-94A3-1281B2ED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33AD-F3FB-45EB-A34D-918595D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FBB5D-DCD1-419F-83FD-026A9217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BEC98-5927-4B38-9089-FCF32FF5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D0B-56AE-4173-93CC-3A215F0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9A08F-109E-4F85-8241-DF1FB24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BC089-E1A0-4845-A424-1970FF9C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03343-89D1-4E67-9303-72C2F7FE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4B0F1-B1FD-4641-95EF-1A401196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1BD4-1B76-445F-A57C-989F04D6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073A-E1F5-440B-BEA8-FF8289BA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19739-D46D-4C84-8854-5D95C161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7334E-50BD-4F07-AB13-1138DDB5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8E699-218A-4237-9DE2-DD29A58F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D750F-C66F-4C7F-8F33-B15CFED2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209-D629-486C-826E-554459A9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0E433-181F-43A1-8F4D-59B54633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21E10-94EA-430F-8BD1-B0BFF44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4FD76-269B-474A-AA5F-D262AAAF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7C140-08F6-40ED-BF87-BDC4D4A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EFA5-A5BC-4453-8743-CCAB3224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2323-1924-4F76-925A-9416A835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790C9-670D-47D2-904F-75E68412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7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0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3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6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9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2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8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1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4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0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43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46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49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2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5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8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1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4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7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70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AB03-4DE3-477D-9882-E5E5CD79A4D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114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117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120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123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126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129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132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135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138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141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144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147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150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153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156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159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162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165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168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171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174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177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180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183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Rectangle 30" descr=""/>
          <p:cNvPicPr/>
          <p:nvPr/>
        </p:nvPicPr>
        <p:blipFill>
          <a:blip r:embed="rId27"/>
          <a:stretch/>
        </p:blipFill>
        <p:spPr>
          <a:xfrm>
            <a:off x="0" y="2438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37" descr=""/>
          <p:cNvPicPr/>
          <p:nvPr/>
        </p:nvPicPr>
        <p:blipFill>
          <a:blip r:embed="rId28"/>
          <a:stretch/>
        </p:blipFill>
        <p:spPr>
          <a:xfrm>
            <a:off x="0" y="91440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4135-6881-4813-B1CD-05E1E7EF7B18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229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232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235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238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241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244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247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250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253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256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259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262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265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268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271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274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277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280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283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286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289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292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295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298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016A-AAEA-4308-BEB4-D79CC03833AE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343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346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349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352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355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358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361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364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367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370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373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376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379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382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385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388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391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394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397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9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400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403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5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406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409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1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412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4" name="Rectangle 30" descr=""/>
          <p:cNvPicPr/>
          <p:nvPr/>
        </p:nvPicPr>
        <p:blipFill>
          <a:blip r:embed="rId27"/>
          <a:stretch/>
        </p:blipFill>
        <p:spPr>
          <a:xfrm>
            <a:off x="0" y="495612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37" descr=""/>
          <p:cNvPicPr/>
          <p:nvPr/>
        </p:nvPicPr>
        <p:blipFill>
          <a:blip r:embed="rId28"/>
          <a:stretch/>
        </p:blipFill>
        <p:spPr>
          <a:xfrm>
            <a:off x="0" y="34322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D92-AD64-4558-8F41-B95CBBD5FBED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458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461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464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6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467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470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473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476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8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479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1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482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4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485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488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491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3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494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497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9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500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2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503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5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506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8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509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512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515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7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518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0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521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3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524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527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29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FC35-7159-4D5D-AC8A-7E4740477613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Rectangle 7"/>
          <p:cNvGrpSpPr/>
          <p:nvPr/>
        </p:nvGrpSpPr>
        <p:grpSpPr>
          <a:xfrm>
            <a:off x="895320" y="2279520"/>
            <a:ext cx="2774880" cy="2152800"/>
            <a:chOff x="895320" y="2279520"/>
            <a:chExt cx="2774880" cy="2152800"/>
          </a:xfrm>
        </p:grpSpPr>
        <p:pic>
          <p:nvPicPr>
            <p:cNvPr id="572" name="Rectangle 7" descr=""/>
            <p:cNvPicPr/>
            <p:nvPr/>
          </p:nvPicPr>
          <p:blipFill>
            <a:blip r:embed="rId3"/>
            <a:stretch/>
          </p:blipFill>
          <p:spPr>
            <a:xfrm>
              <a:off x="895320" y="2279520"/>
              <a:ext cx="277488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914400" y="2292480"/>
              <a:ext cx="2743200" cy="21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4" name="Oval 10"/>
          <p:cNvGrpSpPr/>
          <p:nvPr/>
        </p:nvGrpSpPr>
        <p:grpSpPr>
          <a:xfrm>
            <a:off x="2962440" y="5059440"/>
            <a:ext cx="1785600" cy="1768320"/>
            <a:chOff x="2962440" y="5059440"/>
            <a:chExt cx="1785600" cy="1768320"/>
          </a:xfrm>
        </p:grpSpPr>
        <p:pic>
          <p:nvPicPr>
            <p:cNvPr id="575" name="Oval 10" descr=""/>
            <p:cNvPicPr/>
            <p:nvPr/>
          </p:nvPicPr>
          <p:blipFill>
            <a:blip r:embed="rId4"/>
            <a:stretch/>
          </p:blipFill>
          <p:spPr>
            <a:xfrm>
              <a:off x="2962440" y="5059440"/>
              <a:ext cx="178560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3235320" y="5326200"/>
              <a:ext cx="124308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Rectangle 12"/>
          <p:cNvGrpSpPr/>
          <p:nvPr/>
        </p:nvGrpSpPr>
        <p:grpSpPr>
          <a:xfrm>
            <a:off x="5241960" y="-19080"/>
            <a:ext cx="3914640" cy="3079800"/>
            <a:chOff x="5241960" y="-19080"/>
            <a:chExt cx="3914640" cy="3079800"/>
          </a:xfrm>
        </p:grpSpPr>
        <p:pic>
          <p:nvPicPr>
            <p:cNvPr id="578" name="Rectangle 12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4640" cy="30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5257800" y="0"/>
              <a:ext cx="388620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0" name="Rectangle 13"/>
          <p:cNvGrpSpPr/>
          <p:nvPr/>
        </p:nvGrpSpPr>
        <p:grpSpPr>
          <a:xfrm>
            <a:off x="-12600" y="4102200"/>
            <a:ext cx="2390760" cy="2493720"/>
            <a:chOff x="-12600" y="4102200"/>
            <a:chExt cx="2390760" cy="2493720"/>
          </a:xfrm>
        </p:grpSpPr>
        <p:pic>
          <p:nvPicPr>
            <p:cNvPr id="581" name="Rectangle 13" descr=""/>
            <p:cNvPicPr/>
            <p:nvPr/>
          </p:nvPicPr>
          <p:blipFill>
            <a:blip r:embed="rId6"/>
            <a:stretch/>
          </p:blipFill>
          <p:spPr>
            <a:xfrm>
              <a:off x="-12600" y="4102200"/>
              <a:ext cx="2390760" cy="24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0" y="4114800"/>
              <a:ext cx="23623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Oval 14"/>
          <p:cNvGrpSpPr/>
          <p:nvPr/>
        </p:nvGrpSpPr>
        <p:grpSpPr>
          <a:xfrm>
            <a:off x="4164120" y="2378160"/>
            <a:ext cx="2206440" cy="2200320"/>
            <a:chOff x="4164120" y="2378160"/>
            <a:chExt cx="2206440" cy="2200320"/>
          </a:xfrm>
        </p:grpSpPr>
        <p:pic>
          <p:nvPicPr>
            <p:cNvPr id="584" name="Oval 14" descr=""/>
            <p:cNvPicPr/>
            <p:nvPr/>
          </p:nvPicPr>
          <p:blipFill>
            <a:blip r:embed="rId7"/>
            <a:stretch/>
          </p:blipFill>
          <p:spPr>
            <a:xfrm>
              <a:off x="4164120" y="2378160"/>
              <a:ext cx="220644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4497480" y="2708280"/>
              <a:ext cx="15364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6" name="Oval 15"/>
          <p:cNvGrpSpPr/>
          <p:nvPr/>
        </p:nvGrpSpPr>
        <p:grpSpPr>
          <a:xfrm>
            <a:off x="6370560" y="5827680"/>
            <a:ext cx="1041480" cy="1042920"/>
            <a:chOff x="6370560" y="5827680"/>
            <a:chExt cx="1041480" cy="1042920"/>
          </a:xfrm>
        </p:grpSpPr>
        <p:pic>
          <p:nvPicPr>
            <p:cNvPr id="587" name="Oval 15" descr=""/>
            <p:cNvPicPr/>
            <p:nvPr/>
          </p:nvPicPr>
          <p:blipFill>
            <a:blip r:embed="rId8"/>
            <a:stretch/>
          </p:blipFill>
          <p:spPr>
            <a:xfrm>
              <a:off x="6370560" y="5827680"/>
              <a:ext cx="10414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532560" y="5991120"/>
              <a:ext cx="716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Oval 16"/>
          <p:cNvGrpSpPr/>
          <p:nvPr/>
        </p:nvGrpSpPr>
        <p:grpSpPr>
          <a:xfrm>
            <a:off x="6308640" y="1414440"/>
            <a:ext cx="2079720" cy="2071800"/>
            <a:chOff x="6308640" y="1414440"/>
            <a:chExt cx="2079720" cy="2071800"/>
          </a:xfrm>
        </p:grpSpPr>
        <p:pic>
          <p:nvPicPr>
            <p:cNvPr id="590" name="Oval 16" descr=""/>
            <p:cNvPicPr/>
            <p:nvPr/>
          </p:nvPicPr>
          <p:blipFill>
            <a:blip r:embed="rId9"/>
            <a:stretch/>
          </p:blipFill>
          <p:spPr>
            <a:xfrm>
              <a:off x="6308640" y="1414440"/>
              <a:ext cx="2079720" cy="20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6622920" y="1727280"/>
              <a:ext cx="14464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Oval 17"/>
          <p:cNvGrpSpPr/>
          <p:nvPr/>
        </p:nvGrpSpPr>
        <p:grpSpPr>
          <a:xfrm>
            <a:off x="96840" y="4784760"/>
            <a:ext cx="1994040" cy="1994040"/>
            <a:chOff x="96840" y="4784760"/>
            <a:chExt cx="1994040" cy="1994040"/>
          </a:xfrm>
        </p:grpSpPr>
        <p:pic>
          <p:nvPicPr>
            <p:cNvPr id="593" name="Oval 17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9404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"/>
            <p:cNvSpPr/>
            <p:nvPr/>
          </p:nvSpPr>
          <p:spPr>
            <a:xfrm>
              <a:off x="401760" y="5089680"/>
              <a:ext cx="138564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Oval 18"/>
          <p:cNvGrpSpPr/>
          <p:nvPr/>
        </p:nvGrpSpPr>
        <p:grpSpPr>
          <a:xfrm>
            <a:off x="2004840" y="4565520"/>
            <a:ext cx="1055880" cy="1054080"/>
            <a:chOff x="2004840" y="4565520"/>
            <a:chExt cx="1055880" cy="1054080"/>
          </a:xfrm>
        </p:grpSpPr>
        <p:pic>
          <p:nvPicPr>
            <p:cNvPr id="596" name="Oval 18" descr=""/>
            <p:cNvPicPr/>
            <p:nvPr/>
          </p:nvPicPr>
          <p:blipFill>
            <a:blip r:embed="rId11"/>
            <a:stretch/>
          </p:blipFill>
          <p:spPr>
            <a:xfrm>
              <a:off x="2004840" y="456552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171880" y="4729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Oval 19"/>
          <p:cNvGrpSpPr/>
          <p:nvPr/>
        </p:nvGrpSpPr>
        <p:grpSpPr>
          <a:xfrm>
            <a:off x="4157640" y="4608360"/>
            <a:ext cx="1548000" cy="1427400"/>
            <a:chOff x="4157640" y="4608360"/>
            <a:chExt cx="1548000" cy="1427400"/>
          </a:xfrm>
        </p:grpSpPr>
        <p:pic>
          <p:nvPicPr>
            <p:cNvPr id="599" name="Oval 19" descr=""/>
            <p:cNvPicPr/>
            <p:nvPr/>
          </p:nvPicPr>
          <p:blipFill>
            <a:blip r:embed="rId12"/>
            <a:stretch/>
          </p:blipFill>
          <p:spPr>
            <a:xfrm>
              <a:off x="4157640" y="4608360"/>
              <a:ext cx="154800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94160" y="4830840"/>
              <a:ext cx="107172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Rectangle 20"/>
          <p:cNvGrpSpPr/>
          <p:nvPr/>
        </p:nvGrpSpPr>
        <p:grpSpPr>
          <a:xfrm>
            <a:off x="-12600" y="347760"/>
            <a:ext cx="2543040" cy="2419200"/>
            <a:chOff x="-12600" y="347760"/>
            <a:chExt cx="2543040" cy="2419200"/>
          </a:xfrm>
        </p:grpSpPr>
        <p:pic>
          <p:nvPicPr>
            <p:cNvPr id="602" name="Rectangle 20" descr=""/>
            <p:cNvPicPr/>
            <p:nvPr/>
          </p:nvPicPr>
          <p:blipFill>
            <a:blip r:embed="rId13"/>
            <a:stretch/>
          </p:blipFill>
          <p:spPr>
            <a:xfrm>
              <a:off x="-12600" y="347760"/>
              <a:ext cx="2543040" cy="24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1440" y="361800"/>
              <a:ext cx="251316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Rectangle 22"/>
          <p:cNvGrpSpPr/>
          <p:nvPr/>
        </p:nvGrpSpPr>
        <p:grpSpPr>
          <a:xfrm>
            <a:off x="1279440" y="-19080"/>
            <a:ext cx="1555920" cy="647640"/>
            <a:chOff x="1279440" y="-19080"/>
            <a:chExt cx="1555920" cy="647640"/>
          </a:xfrm>
        </p:grpSpPr>
        <p:pic>
          <p:nvPicPr>
            <p:cNvPr id="605" name="Rectangle 22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559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295280" y="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7" name="Oval 24"/>
          <p:cNvGrpSpPr/>
          <p:nvPr/>
        </p:nvGrpSpPr>
        <p:grpSpPr>
          <a:xfrm>
            <a:off x="42840" y="195120"/>
            <a:ext cx="2054160" cy="2054520"/>
            <a:chOff x="42840" y="195120"/>
            <a:chExt cx="2054160" cy="2054520"/>
          </a:xfrm>
        </p:grpSpPr>
        <p:pic>
          <p:nvPicPr>
            <p:cNvPr id="608" name="Oval 24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54160" cy="20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55680" y="507960"/>
              <a:ext cx="143028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0" name="Oval 25"/>
          <p:cNvGrpSpPr/>
          <p:nvPr/>
        </p:nvGrpSpPr>
        <p:grpSpPr>
          <a:xfrm>
            <a:off x="60480" y="3949560"/>
            <a:ext cx="920520" cy="914400"/>
            <a:chOff x="60480" y="3949560"/>
            <a:chExt cx="920520" cy="914400"/>
          </a:xfrm>
        </p:grpSpPr>
        <p:pic>
          <p:nvPicPr>
            <p:cNvPr id="611" name="Oval 25" descr=""/>
            <p:cNvPicPr/>
            <p:nvPr/>
          </p:nvPicPr>
          <p:blipFill>
            <a:blip r:embed="rId16"/>
            <a:stretch/>
          </p:blipFill>
          <p:spPr>
            <a:xfrm>
              <a:off x="60480" y="3949560"/>
              <a:ext cx="920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06280" y="4092480"/>
              <a:ext cx="63036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3" name="Oval 26"/>
          <p:cNvGrpSpPr/>
          <p:nvPr/>
        </p:nvGrpSpPr>
        <p:grpSpPr>
          <a:xfrm>
            <a:off x="2103480" y="1494000"/>
            <a:ext cx="1438200" cy="1431720"/>
            <a:chOff x="2103480" y="1494000"/>
            <a:chExt cx="1438200" cy="1431720"/>
          </a:xfrm>
        </p:grpSpPr>
        <p:pic>
          <p:nvPicPr>
            <p:cNvPr id="614" name="Oval 26" descr=""/>
            <p:cNvPicPr/>
            <p:nvPr/>
          </p:nvPicPr>
          <p:blipFill>
            <a:blip r:embed="rId17"/>
            <a:stretch/>
          </p:blipFill>
          <p:spPr>
            <a:xfrm>
              <a:off x="2103480" y="1494000"/>
              <a:ext cx="1438200" cy="143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2327400" y="1712880"/>
              <a:ext cx="9903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Oval 27"/>
          <p:cNvGrpSpPr/>
          <p:nvPr/>
        </p:nvGrpSpPr>
        <p:grpSpPr>
          <a:xfrm>
            <a:off x="3352680" y="450720"/>
            <a:ext cx="1627200" cy="1627200"/>
            <a:chOff x="3352680" y="450720"/>
            <a:chExt cx="1627200" cy="1627200"/>
          </a:xfrm>
        </p:grpSpPr>
        <p:pic>
          <p:nvPicPr>
            <p:cNvPr id="617" name="Oval 27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2720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603600" y="700200"/>
              <a:ext cx="112716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Oval 28"/>
          <p:cNvGrpSpPr/>
          <p:nvPr/>
        </p:nvGrpSpPr>
        <p:grpSpPr>
          <a:xfrm>
            <a:off x="5175360" y="2951280"/>
            <a:ext cx="3267000" cy="3267000"/>
            <a:chOff x="5175360" y="2951280"/>
            <a:chExt cx="3267000" cy="3267000"/>
          </a:xfrm>
        </p:grpSpPr>
        <p:pic>
          <p:nvPicPr>
            <p:cNvPr id="620" name="Oval 28" descr=""/>
            <p:cNvPicPr/>
            <p:nvPr/>
          </p:nvPicPr>
          <p:blipFill>
            <a:blip r:embed="rId19"/>
            <a:stretch/>
          </p:blipFill>
          <p:spPr>
            <a:xfrm>
              <a:off x="5175360" y="2951280"/>
              <a:ext cx="326700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5664240" y="3441600"/>
              <a:ext cx="22860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2" name="Oval 29"/>
          <p:cNvGrpSpPr/>
          <p:nvPr/>
        </p:nvGrpSpPr>
        <p:grpSpPr>
          <a:xfrm>
            <a:off x="5546880" y="-6480"/>
            <a:ext cx="1055520" cy="1054080"/>
            <a:chOff x="5546880" y="-6480"/>
            <a:chExt cx="1055520" cy="1054080"/>
          </a:xfrm>
        </p:grpSpPr>
        <p:pic>
          <p:nvPicPr>
            <p:cNvPr id="623" name="Oval 29" descr=""/>
            <p:cNvPicPr/>
            <p:nvPr/>
          </p:nvPicPr>
          <p:blipFill>
            <a:blip r:embed="rId20"/>
            <a:stretch/>
          </p:blipFill>
          <p:spPr>
            <a:xfrm>
              <a:off x="554688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57135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5" name="Oval 31"/>
          <p:cNvGrpSpPr/>
          <p:nvPr/>
        </p:nvGrpSpPr>
        <p:grpSpPr>
          <a:xfrm>
            <a:off x="6937200" y="4651200"/>
            <a:ext cx="2219400" cy="2219400"/>
            <a:chOff x="6937200" y="4651200"/>
            <a:chExt cx="2219400" cy="2219400"/>
          </a:xfrm>
        </p:grpSpPr>
        <p:pic>
          <p:nvPicPr>
            <p:cNvPr id="626" name="Oval 31" descr=""/>
            <p:cNvPicPr/>
            <p:nvPr/>
          </p:nvPicPr>
          <p:blipFill>
            <a:blip r:embed="rId21"/>
            <a:stretch/>
          </p:blipFill>
          <p:spPr>
            <a:xfrm>
              <a:off x="6937200" y="4651200"/>
              <a:ext cx="221940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7272360" y="4986360"/>
              <a:ext cx="1550880" cy="15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Oval 32"/>
          <p:cNvGrpSpPr/>
          <p:nvPr/>
        </p:nvGrpSpPr>
        <p:grpSpPr>
          <a:xfrm>
            <a:off x="1584360" y="3687840"/>
            <a:ext cx="1225440" cy="1231920"/>
            <a:chOff x="1584360" y="3687840"/>
            <a:chExt cx="1225440" cy="1231920"/>
          </a:xfrm>
        </p:grpSpPr>
        <p:pic>
          <p:nvPicPr>
            <p:cNvPr id="629" name="Oval 32" descr=""/>
            <p:cNvPicPr/>
            <p:nvPr/>
          </p:nvPicPr>
          <p:blipFill>
            <a:blip r:embed="rId22"/>
            <a:stretch/>
          </p:blipFill>
          <p:spPr>
            <a:xfrm>
              <a:off x="1584360" y="3687840"/>
              <a:ext cx="122544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1774800" y="3881520"/>
              <a:ext cx="846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1" name="Oval 33"/>
          <p:cNvGrpSpPr/>
          <p:nvPr/>
        </p:nvGrpSpPr>
        <p:grpSpPr>
          <a:xfrm>
            <a:off x="6308640" y="212760"/>
            <a:ext cx="854280" cy="853920"/>
            <a:chOff x="6308640" y="212760"/>
            <a:chExt cx="854280" cy="853920"/>
          </a:xfrm>
        </p:grpSpPr>
        <p:pic>
          <p:nvPicPr>
            <p:cNvPr id="632" name="Oval 33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5428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6445080" y="349200"/>
              <a:ext cx="58104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Oval 34"/>
          <p:cNvGrpSpPr/>
          <p:nvPr/>
        </p:nvGrpSpPr>
        <p:grpSpPr>
          <a:xfrm>
            <a:off x="8064360" y="-6480"/>
            <a:ext cx="1055880" cy="1054080"/>
            <a:chOff x="8064360" y="-6480"/>
            <a:chExt cx="1055880" cy="1054080"/>
          </a:xfrm>
        </p:grpSpPr>
        <p:pic>
          <p:nvPicPr>
            <p:cNvPr id="635" name="Oval 34" descr=""/>
            <p:cNvPicPr/>
            <p:nvPr/>
          </p:nvPicPr>
          <p:blipFill>
            <a:blip r:embed="rId24"/>
            <a:stretch/>
          </p:blipFill>
          <p:spPr>
            <a:xfrm>
              <a:off x="8064360" y="-64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822816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Rectangle 35"/>
          <p:cNvGrpSpPr/>
          <p:nvPr/>
        </p:nvGrpSpPr>
        <p:grpSpPr>
          <a:xfrm>
            <a:off x="5394240" y="6308640"/>
            <a:ext cx="1555920" cy="561960"/>
            <a:chOff x="5394240" y="6308640"/>
            <a:chExt cx="1555920" cy="561960"/>
          </a:xfrm>
        </p:grpSpPr>
        <p:pic>
          <p:nvPicPr>
            <p:cNvPr id="638" name="Rectangle 35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559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410080" y="6324480"/>
              <a:ext cx="1524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Oval 36"/>
          <p:cNvGrpSpPr/>
          <p:nvPr/>
        </p:nvGrpSpPr>
        <p:grpSpPr>
          <a:xfrm>
            <a:off x="2998800" y="-6480"/>
            <a:ext cx="1055520" cy="1054080"/>
            <a:chOff x="2998800" y="-6480"/>
            <a:chExt cx="1055520" cy="1054080"/>
          </a:xfrm>
        </p:grpSpPr>
        <p:pic>
          <p:nvPicPr>
            <p:cNvPr id="641" name="Oval 36" descr=""/>
            <p:cNvPicPr/>
            <p:nvPr/>
          </p:nvPicPr>
          <p:blipFill>
            <a:blip r:embed="rId26"/>
            <a:stretch/>
          </p:blipFill>
          <p:spPr>
            <a:xfrm>
              <a:off x="2998800" y="-6480"/>
              <a:ext cx="10555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2240" y="157320"/>
              <a:ext cx="7254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3" name="Rectangle 30" descr=""/>
          <p:cNvPicPr/>
          <p:nvPr/>
        </p:nvPicPr>
        <p:blipFill>
          <a:blip r:embed="rId27"/>
          <a:stretch/>
        </p:blipFill>
        <p:spPr>
          <a:xfrm>
            <a:off x="0" y="1305000"/>
            <a:ext cx="9144000" cy="42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16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1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93BA-DDA9-4434-8E96-F670C98BFCD8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686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7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689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692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4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695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698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01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04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6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07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Oval 44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710" name="Oval 44" descr=""/>
            <p:cNvPicPr/>
            <p:nvPr/>
          </p:nvPicPr>
          <p:blipFill>
            <a:blip r:embed="rId10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2" name="Oval 45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13" name="Oval 45" descr=""/>
            <p:cNvPicPr/>
            <p:nvPr/>
          </p:nvPicPr>
          <p:blipFill>
            <a:blip r:embed="rId11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5" name="Oval 46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16" name="Oval 46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" name="Rectangle 47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19" name="Rectangle 47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Oval 48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722" name="Oval 48" descr=""/>
            <p:cNvPicPr/>
            <p:nvPr/>
          </p:nvPicPr>
          <p:blipFill>
            <a:blip r:embed="rId14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4" name="Oval 49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725" name="Oval 49" descr=""/>
            <p:cNvPicPr/>
            <p:nvPr/>
          </p:nvPicPr>
          <p:blipFill>
            <a:blip r:embed="rId15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20"/>
          </p:nvPr>
        </p:nvSpPr>
        <p:spPr>
          <a:xfrm>
            <a:off x="2285640" y="6357600"/>
            <a:ext cx="3429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1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B82-F7B1-4BE1-8385-DCBBF38ADF3C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Rectangle 30"/>
          <p:cNvGrpSpPr/>
          <p:nvPr/>
        </p:nvGrpSpPr>
        <p:grpSpPr>
          <a:xfrm>
            <a:off x="-19080" y="-19080"/>
            <a:ext cx="2622600" cy="6889680"/>
            <a:chOff x="-19080" y="-19080"/>
            <a:chExt cx="2622600" cy="6889680"/>
          </a:xfrm>
        </p:grpSpPr>
        <p:pic>
          <p:nvPicPr>
            <p:cNvPr id="769" name="Rectangle 30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2600" cy="68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0"/>
              <a:ext cx="25909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1" name="Oval 37"/>
          <p:cNvGrpSpPr/>
          <p:nvPr/>
        </p:nvGrpSpPr>
        <p:grpSpPr>
          <a:xfrm>
            <a:off x="1547640" y="4322880"/>
            <a:ext cx="1055880" cy="1054080"/>
            <a:chOff x="1547640" y="4322880"/>
            <a:chExt cx="1055880" cy="1054080"/>
          </a:xfrm>
        </p:grpSpPr>
        <p:pic>
          <p:nvPicPr>
            <p:cNvPr id="772" name="Oval 37" descr=""/>
            <p:cNvPicPr/>
            <p:nvPr/>
          </p:nvPicPr>
          <p:blipFill>
            <a:blip r:embed="rId3"/>
            <a:stretch/>
          </p:blipFill>
          <p:spPr>
            <a:xfrm>
              <a:off x="1547640" y="4322880"/>
              <a:ext cx="1055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>
              <a:off x="1714680" y="4487760"/>
              <a:ext cx="72540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Rectangle 38"/>
          <p:cNvGrpSpPr/>
          <p:nvPr/>
        </p:nvGrpSpPr>
        <p:grpSpPr>
          <a:xfrm>
            <a:off x="-19080" y="365040"/>
            <a:ext cx="2165400" cy="2421000"/>
            <a:chOff x="-19080" y="365040"/>
            <a:chExt cx="2165400" cy="2421000"/>
          </a:xfrm>
        </p:grpSpPr>
        <p:pic>
          <p:nvPicPr>
            <p:cNvPr id="775" name="Rectangle 38" descr=""/>
            <p:cNvPicPr/>
            <p:nvPr/>
          </p:nvPicPr>
          <p:blipFill>
            <a:blip r:embed="rId4"/>
            <a:stretch/>
          </p:blipFill>
          <p:spPr>
            <a:xfrm>
              <a:off x="-19080" y="365040"/>
              <a:ext cx="21654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6" name=""/>
            <p:cNvSpPr/>
            <p:nvPr/>
          </p:nvSpPr>
          <p:spPr>
            <a:xfrm>
              <a:off x="0" y="380880"/>
              <a:ext cx="2133720" cy="23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7" name="Rectangle 39"/>
          <p:cNvGrpSpPr/>
          <p:nvPr/>
        </p:nvGrpSpPr>
        <p:grpSpPr>
          <a:xfrm>
            <a:off x="1432080" y="-19080"/>
            <a:ext cx="1207800" cy="665280"/>
            <a:chOff x="1432080" y="-19080"/>
            <a:chExt cx="1207800" cy="665280"/>
          </a:xfrm>
        </p:grpSpPr>
        <p:pic>
          <p:nvPicPr>
            <p:cNvPr id="778" name="Rectangle 39" descr=""/>
            <p:cNvPicPr/>
            <p:nvPr/>
          </p:nvPicPr>
          <p:blipFill>
            <a:blip r:embed="rId5"/>
            <a:stretch/>
          </p:blipFill>
          <p:spPr>
            <a:xfrm>
              <a:off x="1432080" y="-19080"/>
              <a:ext cx="12078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1447920" y="0"/>
              <a:ext cx="117468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val 40"/>
          <p:cNvGrpSpPr/>
          <p:nvPr/>
        </p:nvGrpSpPr>
        <p:grpSpPr>
          <a:xfrm>
            <a:off x="42840" y="-19080"/>
            <a:ext cx="2335320" cy="2414520"/>
            <a:chOff x="42840" y="-19080"/>
            <a:chExt cx="2335320" cy="2414520"/>
          </a:xfrm>
        </p:grpSpPr>
        <p:pic>
          <p:nvPicPr>
            <p:cNvPr id="781" name="Oval 40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532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396720" y="347760"/>
              <a:ext cx="162900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3" name="Oval 41"/>
          <p:cNvGrpSpPr/>
          <p:nvPr/>
        </p:nvGrpSpPr>
        <p:grpSpPr>
          <a:xfrm>
            <a:off x="-19080" y="3260880"/>
            <a:ext cx="927000" cy="914400"/>
            <a:chOff x="-19080" y="3260880"/>
            <a:chExt cx="927000" cy="914400"/>
          </a:xfrm>
        </p:grpSpPr>
        <p:pic>
          <p:nvPicPr>
            <p:cNvPr id="784" name="Oval 41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27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130320" y="3406680"/>
              <a:ext cx="630000" cy="6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val 42"/>
          <p:cNvGrpSpPr/>
          <p:nvPr/>
        </p:nvGrpSpPr>
        <p:grpSpPr>
          <a:xfrm>
            <a:off x="781200" y="1706400"/>
            <a:ext cx="1431720" cy="1433520"/>
            <a:chOff x="781200" y="1706400"/>
            <a:chExt cx="1431720" cy="1433520"/>
          </a:xfrm>
        </p:grpSpPr>
        <p:pic>
          <p:nvPicPr>
            <p:cNvPr id="787" name="Oval 42" descr=""/>
            <p:cNvPicPr/>
            <p:nvPr/>
          </p:nvPicPr>
          <p:blipFill>
            <a:blip r:embed="rId8"/>
            <a:stretch/>
          </p:blipFill>
          <p:spPr>
            <a:xfrm>
              <a:off x="781200" y="1706400"/>
              <a:ext cx="143172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998640" y="1927080"/>
              <a:ext cx="992160" cy="9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Oval 43"/>
          <p:cNvGrpSpPr/>
          <p:nvPr/>
        </p:nvGrpSpPr>
        <p:grpSpPr>
          <a:xfrm>
            <a:off x="590400" y="4022640"/>
            <a:ext cx="1586160" cy="1586160"/>
            <a:chOff x="590400" y="4022640"/>
            <a:chExt cx="1586160" cy="1586160"/>
          </a:xfrm>
        </p:grpSpPr>
        <p:pic>
          <p:nvPicPr>
            <p:cNvPr id="790" name="Oval 43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61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836640" y="4265640"/>
              <a:ext cx="1100160" cy="11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buClr>
                  <a:srgbClr val="b4bc4c"/>
                </a:buClr>
                <a:buSzPct val="90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Oval 44"/>
          <p:cNvGrpSpPr/>
          <p:nvPr/>
        </p:nvGrpSpPr>
        <p:grpSpPr>
          <a:xfrm>
            <a:off x="1736640" y="365040"/>
            <a:ext cx="488880" cy="488880"/>
            <a:chOff x="1736640" y="365040"/>
            <a:chExt cx="488880" cy="488880"/>
          </a:xfrm>
        </p:grpSpPr>
        <p:pic>
          <p:nvPicPr>
            <p:cNvPr id="793" name="Oval 44" descr=""/>
            <p:cNvPicPr/>
            <p:nvPr/>
          </p:nvPicPr>
          <p:blipFill>
            <a:blip r:embed="rId10"/>
            <a:stretch/>
          </p:blipFill>
          <p:spPr>
            <a:xfrm>
              <a:off x="1736640" y="365040"/>
              <a:ext cx="488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819440" y="44784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5" name="Oval 45"/>
          <p:cNvGrpSpPr/>
          <p:nvPr/>
        </p:nvGrpSpPr>
        <p:grpSpPr>
          <a:xfrm>
            <a:off x="560520" y="2498760"/>
            <a:ext cx="2043000" cy="2043000"/>
            <a:chOff x="560520" y="2498760"/>
            <a:chExt cx="2043000" cy="2043000"/>
          </a:xfrm>
        </p:grpSpPr>
        <p:pic>
          <p:nvPicPr>
            <p:cNvPr id="796" name="Oval 45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300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"/>
            <p:cNvSpPr/>
            <p:nvPr/>
          </p:nvSpPr>
          <p:spPr>
            <a:xfrm>
              <a:off x="873000" y="2809800"/>
              <a:ext cx="142236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" name="Rectangle 46"/>
          <p:cNvGrpSpPr/>
          <p:nvPr/>
        </p:nvGrpSpPr>
        <p:grpSpPr>
          <a:xfrm>
            <a:off x="-19080" y="5699160"/>
            <a:ext cx="1635120" cy="1171440"/>
            <a:chOff x="-19080" y="5699160"/>
            <a:chExt cx="1635120" cy="1171440"/>
          </a:xfrm>
        </p:grpSpPr>
        <p:pic>
          <p:nvPicPr>
            <p:cNvPr id="799" name="Rectangle 46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351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0" y="5715000"/>
              <a:ext cx="1600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Oval 47"/>
          <p:cNvGrpSpPr/>
          <p:nvPr/>
        </p:nvGrpSpPr>
        <p:grpSpPr>
          <a:xfrm>
            <a:off x="1311120" y="5857920"/>
            <a:ext cx="762120" cy="762120"/>
            <a:chOff x="1311120" y="5857920"/>
            <a:chExt cx="762120" cy="762120"/>
          </a:xfrm>
        </p:grpSpPr>
        <p:pic>
          <p:nvPicPr>
            <p:cNvPr id="802" name="Oval 47" descr=""/>
            <p:cNvPicPr/>
            <p:nvPr/>
          </p:nvPicPr>
          <p:blipFill>
            <a:blip r:embed="rId13"/>
            <a:stretch/>
          </p:blipFill>
          <p:spPr>
            <a:xfrm>
              <a:off x="1311120" y="58579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>
              <a:off x="1430280" y="5981760"/>
              <a:ext cx="517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4" name="Oval 48"/>
          <p:cNvGrpSpPr/>
          <p:nvPr/>
        </p:nvGrpSpPr>
        <p:grpSpPr>
          <a:xfrm>
            <a:off x="19080" y="5200560"/>
            <a:ext cx="1670040" cy="1676520"/>
            <a:chOff x="19080" y="5200560"/>
            <a:chExt cx="1670040" cy="1676520"/>
          </a:xfrm>
        </p:grpSpPr>
        <p:pic>
          <p:nvPicPr>
            <p:cNvPr id="805" name="Oval 48" descr=""/>
            <p:cNvPicPr/>
            <p:nvPr/>
          </p:nvPicPr>
          <p:blipFill>
            <a:blip r:embed="rId14"/>
            <a:stretch/>
          </p:blipFill>
          <p:spPr>
            <a:xfrm>
              <a:off x="19080" y="5200560"/>
              <a:ext cx="167004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"/>
            <p:cNvSpPr/>
            <p:nvPr/>
          </p:nvSpPr>
          <p:spPr>
            <a:xfrm>
              <a:off x="271440" y="5452920"/>
              <a:ext cx="11635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Oval 49"/>
          <p:cNvGrpSpPr/>
          <p:nvPr/>
        </p:nvGrpSpPr>
        <p:grpSpPr>
          <a:xfrm>
            <a:off x="139680" y="2346480"/>
            <a:ext cx="482760" cy="488880"/>
            <a:chOff x="139680" y="2346480"/>
            <a:chExt cx="482760" cy="488880"/>
          </a:xfrm>
        </p:grpSpPr>
        <p:pic>
          <p:nvPicPr>
            <p:cNvPr id="808" name="Oval 49" descr=""/>
            <p:cNvPicPr/>
            <p:nvPr/>
          </p:nvPicPr>
          <p:blipFill>
            <a:blip r:embed="rId15"/>
            <a:stretch/>
          </p:blipFill>
          <p:spPr>
            <a:xfrm>
              <a:off x="139680" y="2346480"/>
              <a:ext cx="48276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219240" y="2428920"/>
              <a:ext cx="323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700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700"/>
              </a:spcBef>
              <a:buClr>
                <a:srgbClr val="776a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700"/>
              </a:spcBef>
              <a:buClr>
                <a:srgbClr val="b6ad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d1e1e3"/>
                </a:solidFill>
                <a:latin typeface="Constantia"/>
                <a:ea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24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EA8E-7620-4B37-8D02-3F8BAC07D372}" type="slidenum">
              <a:rPr b="0" lang="ar-SA" sz="2800" spc="-1" strike="noStrike">
                <a:solidFill>
                  <a:srgbClr val="ffffff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d/Czochralski_method_used_crucible_1.jpg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upload.wikimedia.org/wikipedia/commons/0/0a/Embudo_B&#252;chner.jpeg" TargetMode="External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80880" y="29714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حجمي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Volu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طيفي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pectrophoto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buClr>
                <a:srgbClr val="b4bc4c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التحليل الوزني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Gravimetric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</a:rPr>
              <a:t>التحليل الكيميائي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0" name="عنصر نائب لرقم الشريحة 3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33DB-2463-49E6-848F-9EEF1CDBCB2B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100000"/>
              </a:lnSpc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تحليل الوزني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صورة المترسب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شحيحة الذوبا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ذو بلورات أو حبيبات ذات أحجام مناسب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إمكانية تحويل الصورة المترسبة إلى موزونة بسهولة وبصورة كامل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88240" indent="-25092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تطلبات الصورة الموزون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ركب واحد وله صيغة كيميائية محدد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ثابتة كيميائياً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24120" indent="-25092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تكون كمية العنصر أو المادة المطلوب تقديرها أقل ما يمكن في الصورة الموزونة (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و </a:t>
            </a:r>
            <a:r>
              <a:rPr b="0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BaCr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3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4A37-3772-48A1-9E6D-A192DE408CA6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هضم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ges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إعطاء فرصة لتكون حبيبات أو بلورات بأحجام أكبر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رشيح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ltr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Filter paper, Büchner funnel or goach filt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غسل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ashing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كتروليتي سهل التطاير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لا يكون نواتج غير متطايرة أو غير ذائبة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لا يذيب الراسب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(الأيون المشترك)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96" name="Picture 6" descr="File:Czochralski method used crucible 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65760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8" descr="File:Embudo Büchner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360" y="3654360"/>
            <a:ext cx="1905120" cy="2540160"/>
          </a:xfrm>
          <a:prstGeom prst="rect">
            <a:avLst/>
          </a:prstGeom>
          <a:ln w="0">
            <a:noFill/>
          </a:ln>
        </p:spPr>
      </p:pic>
      <p:sp>
        <p:nvSpPr>
          <p:cNvPr id="898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0EF-68F4-44DD-B617-FCD2250882A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تجفيف أو الحرق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rying or Igni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وزن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Weigh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الحسابات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alculation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معامل</a:t>
            </a:r>
            <a:r>
              <a:rPr b="0" lang="ar-SA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تحليل الوزني = (الوزن الذري أو الجزيئي للمراد تقديره/ الوزن الجزيئي للراسب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كتلة المراد تقديره = معامل التحليل الوزني × كتلة الراسب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النسبة المؤية لكتلة المراد تقديره = (كتلة الراسب × معامل التحليل/ كتلة العينة) × </a:t>
            </a:r>
            <a:r>
              <a:rPr b="1" lang="ar-SA" sz="2000" spc="-1" strike="noStrike">
                <a:solidFill>
                  <a:srgbClr val="ffffff"/>
                </a:solidFill>
                <a:latin typeface="Constantia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1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F43A-3F89-449C-9EA2-5F25610AF47E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حجمي </a:t>
            </a: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Volumetric Analysi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سرع وأسهل من التحليل الوزني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يسمى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itrimetric Analysis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 لاعتماده المعاير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يعتمد على محلول قياسي (كاشف) ومعرفة نقطة التكافؤ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خواص مرئية 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Visual Indicators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خواص غير مرئية (مقاسة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محلول القياسي 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andard Solution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r" rtl="1"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لتفاعلات المعايرة خصائ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يتم التفاعل بنسبة معينة وثابتة ومعروفة وبصورة كاملة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سريع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مميز (فتفاعل الكاشف يتم مع المادة المراد تقديرها فقط)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وضوح التغير (حاد ومفاجئ) أو توفر وسيلة للقياس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lvl="1" marL="613800" indent="-261720" algn="r" rtl="1"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Constantia"/>
              </a:rPr>
              <a:t>التفاعل تاما وكمياً.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3" name="Picture 7" descr="http://upload.wikimedia.org/wikipedia/commons/a/af/Winkler_Titration_Prior_Titration.jpg"/>
          <p:cNvPicPr/>
          <p:nvPr/>
        </p:nvPicPr>
        <p:blipFill>
          <a:blip r:embed="rId1"/>
          <a:stretch/>
        </p:blipFill>
        <p:spPr>
          <a:xfrm>
            <a:off x="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64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B4CB-2A57-4419-890A-39A52C9C21E6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التحليل الطيفي </a:t>
            </a:r>
            <a:r>
              <a:rPr b="0" lang="en-US" sz="3800" spc="-1" strike="noStrike">
                <a:solidFill>
                  <a:srgbClr val="d1e1e3"/>
                </a:solidFill>
                <a:latin typeface="Constantia"/>
              </a:rPr>
              <a:t>Spectrophotometric methods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onstantia"/>
              </a:rPr>
              <a:t>أكثر شيوعاً، سهلة، سريعة، دقيقة نسبياً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Constantia"/>
              </a:rPr>
              <a:t>تعتمد على انبعاث أو امتصاص أشعة، أو بعثرة أو عكس أو كسر جزء ..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67" name="Picture 4" descr=""/>
          <p:cNvPicPr/>
          <p:nvPr/>
        </p:nvPicPr>
        <p:blipFill>
          <a:blip r:embed="rId1"/>
          <a:stretch/>
        </p:blipFill>
        <p:spPr>
          <a:xfrm>
            <a:off x="1600200" y="2633760"/>
            <a:ext cx="6669000" cy="3948120"/>
          </a:xfrm>
          <a:prstGeom prst="rect">
            <a:avLst/>
          </a:prstGeom>
          <a:ln w="0">
            <a:noFill/>
          </a:ln>
        </p:spPr>
      </p:pic>
      <p:sp>
        <p:nvSpPr>
          <p:cNvPr id="868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9CF-D4CE-42D0-BD02-CE512B208FCF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380880" y="243792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Constantia"/>
              </a:rPr>
              <a:t>طرق التحليل الوزني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GRAVIMETRIC METHODS OF ANALYSIS</a:t>
            </a:r>
            <a:endParaRPr b="0" lang="en-US" sz="36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1" name="TextBox 3"/>
          <p:cNvSpPr/>
          <p:nvPr/>
        </p:nvSpPr>
        <p:spPr>
          <a:xfrm>
            <a:off x="1137960" y="6095880"/>
            <a:ext cx="84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كيمياء التحليلية. الزامل، إبراهيم وآخرون، الفصل العا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عنصر نائب لرقم الشريحة 3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C97A-DAE0-4DBC-94DA-FC298404BAD0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قدمة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assical methods of quantitative analysi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</a:rPr>
              <a:t>تحليل كيميائي كمي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زيادة في الكتل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فقد في الكتلة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ادة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0.5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جم، تفقد من الكتلة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0.1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جم ما بين 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700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900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ع احتمال وجود الكربونات!!!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954360" indent="-21708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فقد ماء التبلور أو المدم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 algn="r" rtl="1">
              <a:lnSpc>
                <a:spcPct val="100000"/>
              </a:lnSpc>
              <a:spcBef>
                <a:spcPts val="601"/>
              </a:spcBef>
              <a:buClr>
                <a:srgbClr val="79b5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ترسيب الكيميائي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5" name="عنصر نائب لرقم الشريحة 4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0B9E-CA06-4D74-9152-38E6B05CA701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d1e1e3"/>
                </a:solidFill>
                <a:latin typeface="Constantia"/>
              </a:rPr>
              <a:t>ما هي نقاوة مركب الكربونات هنا؟</a:t>
            </a: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72400" cy="4670280"/>
          </a:xfrm>
          <a:prstGeom prst="rect">
            <a:avLst/>
          </a:prstGeom>
          <a:ln w="0">
            <a:noFill/>
          </a:ln>
        </p:spPr>
      </p:pic>
      <p:sp>
        <p:nvSpPr>
          <p:cNvPr id="879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8E9-08BA-4109-8D80-932EE85E0661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2" name="Picture 2" descr="http://upload.wikimedia.org/wikipedia/commons/8/8d/Ca_oxalate_thermogram.jpg"/>
          <p:cNvPicPr/>
          <p:nvPr/>
        </p:nvPicPr>
        <p:blipFill>
          <a:blip r:embed="rId1"/>
          <a:stretch/>
        </p:blipFill>
        <p:spPr>
          <a:xfrm>
            <a:off x="93600" y="762120"/>
            <a:ext cx="8974080" cy="5629320"/>
          </a:xfrm>
          <a:prstGeom prst="rect">
            <a:avLst/>
          </a:prstGeom>
          <a:ln w="0">
            <a:noFill/>
          </a:ln>
        </p:spPr>
      </p:pic>
      <p:sp>
        <p:nvSpPr>
          <p:cNvPr id="883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400C-4C45-43B2-8227-FE897F1294E7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b4bc4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886" name="Picture 2" descr="http://upload.wikimedia.org/wikipedia/commons/a/ab/Calcium_oxalate_TGA_01b.png"/>
          <p:cNvPicPr/>
          <p:nvPr/>
        </p:nvPicPr>
        <p:blipFill>
          <a:blip r:embed="rId1"/>
          <a:stretch/>
        </p:blipFill>
        <p:spPr>
          <a:xfrm>
            <a:off x="1523880" y="1523880"/>
            <a:ext cx="5996160" cy="4496040"/>
          </a:xfrm>
          <a:prstGeom prst="rect">
            <a:avLst/>
          </a:prstGeom>
          <a:ln w="0">
            <a:noFill/>
          </a:ln>
        </p:spPr>
      </p:pic>
      <p:sp>
        <p:nvSpPr>
          <p:cNvPr id="887" name="عنصر نائب لرقم الشريحة 2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64E7-D4DE-45CF-BC62-0E4DFE6CC0FF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1e1e3"/>
                </a:solidFill>
                <a:latin typeface="Simplified Arabic"/>
                <a:cs typeface="Simplified Arabic"/>
              </a:rPr>
              <a:t>الترسيب الكيميائي</a:t>
            </a:r>
            <a:endParaRPr b="0" lang="en-US" sz="2800" spc="-1" strike="noStrike">
              <a:solidFill>
                <a:srgbClr val="d1e1e3"/>
              </a:solidFill>
              <a:latin typeface="Constant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 algn="r" rtl="1">
              <a:lnSpc>
                <a:spcPct val="100000"/>
              </a:lnSpc>
              <a:spcBef>
                <a:spcPts val="601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ثال: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حلول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NaC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مراد تقديره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Cl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مُرسِب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Ag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Precipitant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راسب 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AgCl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Precipitate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)</a:t>
            </a:r>
            <a:r>
              <a:rPr b="1" lang="ar-SA" sz="24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lnSpc>
                <a:spcPct val="100000"/>
              </a:lnSpc>
              <a:spcBef>
                <a:spcPts val="601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خطوات التحليل الوزني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إذابة العين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عالجة أولية لمحلول العينة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lnSpc>
                <a:spcPct val="100000"/>
              </a:lnSpc>
              <a:spcBef>
                <a:spcPts val="499"/>
              </a:spcBef>
              <a:buClr>
                <a:srgbClr val="b77851"/>
              </a:buClr>
              <a:buSzPct val="85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ترسيب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0" name="عنصر نائب لرقم الشريحة 1"/>
          <p:cNvSpPr/>
          <p:nvPr/>
        </p:nvSpPr>
        <p:spPr>
          <a:xfrm>
            <a:off x="15552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E19E-8FF5-4AF5-A8D5-146DE5A40FAE}" type="slidenum">
              <a:rPr b="0" lang="ar-SA" sz="2800" spc="-1" strike="noStrike">
                <a:solidFill>
                  <a:srgbClr val="d1e1e3"/>
                </a:solidFill>
                <a:latin typeface="Constantia"/>
                <a:ea typeface="Times New Roma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5:36:41Z</dcterms:created>
  <dc:creator>أميرة المنزل</dc:creator>
  <dc:description/>
  <dc:language>en-US</dc:language>
  <cp:lastModifiedBy>Abdullah Al-Farraj</cp:lastModifiedBy>
  <dcterms:modified xsi:type="dcterms:W3CDTF">2016-12-11T11:44:48Z</dcterms:modified>
  <cp:revision>198</cp:revision>
  <dc:subject/>
  <dc:title>عرض تقديمي في PowerPoint</dc:title>
</cp:coreProperties>
</file>