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E93B-8CEA-494B-A172-682A28D6F57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أموال تعمل على أساس سنوي ولذلك تقفل حساباتها الاسمية في نهاية كل سنة مالية وتبدأ العمليات من جديد في نهاية السنة المالية التال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 أموال يتوقف بقاؤها على انجاز الأغراض المستهدفة منها ويتم أيضا إعداد التقارير المالية والتي تفصح عن نتائج العمليات والمركز المالي لكل مال في نهاية السنة المال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2A4B-B907-44CF-A08C-2C15D03915D2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موال الملكية هي وحدات قائمة تستمد بقاءها واستمرارها من بيع السلع وأداء الخدمات بمقابل فهي تعتمد على مواردها الذاتية التي تتولد من رؤوس أموالها الدائم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9D01-FD11-4787-9A9D-BA60E983349D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E545-1ED8-4EC8-A6CA-D785B0C41339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تقرير الشهري عن الايرادات , و الذي يفصح عن التالي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يرادات الشهري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يرادات المجمعه من بدايه السنه و حتى نهايه الشهر موضوع التقري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يرادات تحت التحصي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 الايرادات المتوقع تحصيلها في الفتره المتبقيه لنهايه السنه المالي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نحرافات (+/-) على مستوى شهري و مستوى تجميع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هتمام يوجه عاده على النقص الجوهري في الايرادات الفعليه عن المقدرة ( قد يكون بسبب تلاعب أو تغير في الأنظم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تقرير الشهري عن النفقات , و الذي يفصح عن التالي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نفقات الشهري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نفقات المجمعه من بدايه السنه و حتى نهايه الشهر موضوع التقري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رتباطات و الاعتمادات المتاحه وهي المتوقع الارتباط على انفاقها في الفتره الباقيه على نهايه السن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ستخدام الميزانيه و حساب الارتباطا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نحرافات (+/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اهتمام يكون في حاله الزياده الجوهريه في النفقات على الاعتمادات ( قد يكون بسبب تلاعب أو تغير في الأنظم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8EC9-030E-4060-BB94-271EBF9016E5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الاساليب نفسها تتطبق على مستوى المال و مستوى الوحده الاداريه الحكوميه مع الاخذ في الاعتبار عدم تأثير الميزانيه العموميه بالنسبه للوحدات الاداريه الحكوميه لعدم وجودها اصلا بالنسبة له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3806-F492-4911-9E51-21FC06B17448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الاساليب نفسها تتطبق على مستوى المال و مستوى الوحده الاداريه الحكومي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AFE9-23C3-4E4B-8373-D22490A400BA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- في ظل المحاسبه الحكوميه يتم تقدير المصروفات اللازمه لتغطيه الانشطه العامه للسنه الماليه القادمه ُ</a:t>
            </a:r>
            <a:r>
              <a:rPr b="1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ثم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يتم تدبير الايرادات اللازمه لتغطيتها ( عكس منشآت قطاع الأعما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- الايرادات المقدرة و الاعتمادات هي حسابات تذكيريه أو وهميه حيث انها لا تمثل مخزونا للمنافع الاقتصاديه فهي ليست نتاج احداث لاقتصاديه او عمليات تمت في الماض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يترتب على إثبات هذه التقديرات تأثير ايجابي أو سلبي على رصيد الما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إيرادات المقدرة &gt; الاعتمادات         فائ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إيرادات المقدره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اعتمادات          عج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A2F0-711F-46D5-B476-5F06F11B2735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تهدف الرقابه عن طريق الارتباطات الى ضمان صرف الاعتمادات في الأغراض المخصصه لها و عدم تجاوز القيمه المحدد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معادلة و التي تهدف الى الرقابة على الإنفاق تتمثل في عنصرين هما الارتباطات واحتياطي الارتباطات ويتم إلغاء هذين الحسابين عندما يتحول الالتزام المحتمل إلى التزام فعل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- حساب الارتباطات يقفل في نفس السنه الماليه التي حدث فيه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ملاحظه : هناك نوع من النفقات لا يستلزم الارتباط به مثل  اعتمادات الرواتب و الاجور حيث يتم سدادها شهري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99B5-89E1-42C6-A053-D08EEA623C8A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خذت الكثير من الدول المتقدمة به لانه يمكن م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. عمل المقارنه على اساس موحد بين النتائج الماليه للفترات الدوري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. تحليل المصروفات الحكوميه على اساس التكلفه الحقيقيه للخدمه بغض النظر عن المدفوعات النقدي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. توضيح القيمه الحقيقيه للمشاريع الحكومي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8099-B5B1-43D1-A252-440BBE333E0A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1423-F44A-47E1-B9FA-7349E93642AF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في المملكة العربية السعودية يتم تطبيق أساس الاستحقاق المعدل ( الأساس النقدي المعدل ) حيث يستخدم أساس الاستحقاق في إثبات المصروفات والأساس النقدي في إثبات الإيرادات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8DC2-CABD-4FD5-95B2-AE9EFEF9D867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B7B1-790F-4850-862C-BF72D9EA5121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حاسبه عن الأموال  = المحاسبة الحكوم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146F-7A12-405D-AA07-9D8C1B99502C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فرق بين المحاسبة الماليه و المحاسبة الحكومي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*في الولايات المتحده </a:t>
            </a:r>
            <a:r>
              <a:rPr b="0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الأمريكيه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 تتم المحاسبه الحكوميه على عده مستويات : الولايات / المدن / المقاطعات بينما في </a:t>
            </a:r>
            <a:r>
              <a:rPr b="0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المملكه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حاسبه تكون على مستوى الدوله ككل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Calibri"/>
              </a:rPr>
              <a:t>المال =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مجموعة من الموارد التي يتم تخصيصها لتحقيق هدف معين أو لأداء نشاط محدد وتكون موضوع القياس والاتصال المحاسب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0A29-7DA1-4176-9142-B2DFCE9245B8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**ونادرا ما تتعدد الأموال ومعظم مصادرها تكون من إيرادات الثروة الطبيع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***باعتبار أن موارد الأموال قابلة للإنفاق وتتجدد سنويا من مصادرها الخارج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صروفات الايراديه هي كل ما يلزم انفاقه نقدا او التعهد بسداده في سبيل تحقيق الايرادات في الفترة المحاسبيه المالي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صروف الرأسمالي فهو كل ما يلزم انفاقه في سبيل الحصول على الايرادات في الفتره اللاحقه او في خلال اكثر من فتره محاسبيه قادم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2D0-1F7A-4ADE-9B67-9A1F6DB47F1D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أصول السائلة : تتضمن كل من النقدية و أي أصول أخرى يتوقع تحويلها إلى نقدية خلال العمليات العادية للمال ، وترتبط الالتزامات قصيرة الأجل ارتباطا مباشرا بهذ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أصول السائل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هناك عدة مساوئ لمجرد الاكتفاء بتسجيل الأصول الثابته العامه في سجلات بيانيه دونما متابعة الحالة التشغيليه منها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عدم الالتزام بالعمر الانتاجي للأص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عدم ارتباط قرارات الاحلال بخطط مدروسه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 algn="r" rtl="1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عدم القدرة على تحديد التوقيت المناسب لاحلال الاصول مما قد يؤدي الى استمرار استخدامها  بالرغم من انخفاض كفاءتها الأمر الذي يسهم في زياده نفقات التشغيل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0693-39E9-4325-8536-88161D19FB5C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5C04-FB6D-4C1D-BD09-E14E038F1CF8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الاصول الثابته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ا يتم المحاسبه عنها في نطاق المال لأنها لا تتحول الى نقديه و يتم المحاسبه عنها عن طريق مجموعه من الحسابات  هي " مجموعة حسابات الأصول الثابته العامه طويلة الأجل"  باستخدام الاساس ( النقدي او الاستحقاق) المعدل و تظهر في شكل نفقات و ليس كأصول ثابته في ميزانيه الما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أمر نفسه مع </a:t>
            </a:r>
            <a:r>
              <a:rPr b="1" lang="ar-SA" sz="1200" spc="-1" strike="noStrike" u="sng">
                <a:solidFill>
                  <a:srgbClr val="000000"/>
                </a:solidFill>
                <a:uFillTx/>
                <a:latin typeface="Calibri"/>
              </a:rPr>
              <a:t>الالتزامات طويله الاجل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فيتم المحاسبه عنها باستخدام " مجموعة حسابات الالتزامات العامه طويله الأجل " و لا تظهر في ميزانيه الما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- يتم انشاء سجلات بيانية واحصائية يمكن عن طريقها الرقابة على الأصول الثابتة العامة طويلة الأجل و متابعة سداد الالتزامات العامة طويلة الأج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E253-E56B-4D4E-9BD1-DFE58778613F}" type="slidenum">
              <a:rPr b="0" lang="ar-S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CBBD-02E7-4FEF-A168-1DC42E44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52A3-38DF-473D-919C-D9B869C4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E9D0-6F6C-40DE-A48C-59A9E41F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C628-2984-401A-8D82-32E5338D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7A09-E8DA-4926-86FC-703C723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9E41-919B-4755-8EB4-F90EC564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83B9-9F6B-4098-AD73-FDA4499C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FDA9-A2B7-4E35-83B7-4D3F143C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3DB0-245A-4752-86BC-B639FF4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90FE-373A-4B7E-9593-05826180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D50C-F84E-403E-8E5E-9809F05C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9034-0797-4A83-9013-D6FD29F4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 algn="r" rtl="1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A42-702C-4CFC-A729-0DBEFE173047}" type="slidenum">
              <a:rPr b="0" lang="ar-SA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675e47"/>
                </a:solidFill>
                <a:latin typeface="Cambria"/>
              </a:rPr>
              <a:t>نظام المحاسبة الحكومية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الفصل الثاني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052640"/>
            <a:ext cx="76201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2f2b20"/>
                </a:solidFill>
                <a:uFillTx/>
                <a:latin typeface="Calibri"/>
              </a:rPr>
              <a:t>أنواع الأموال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الاموال الحكومية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اموال الملكية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اموال الوكالة او الامان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052640"/>
            <a:ext cx="76201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2f2b20"/>
                </a:solidFill>
                <a:uFillTx/>
                <a:latin typeface="Calibri"/>
              </a:rPr>
              <a:t>أولا: الأموال الحكوميه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تختص بأنشطة الانفاق بالأخص للمحاسبة عن تحصيل وإنفاق الموارد العامة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تُمول من الضرائب و الرسوم و ايرادات الثروة الطبيعه و اي موارد سياديه اخرى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تخصص سنويا في شكل اعتمادات في الميزانية العامة للدولة للإنفاق منها على أغراض عامة وخاصة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000" y="764640"/>
            <a:ext cx="7620120" cy="556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تقسيمات الاموال الحكومية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1700280"/>
          <a:ext cx="8137440" cy="4392720"/>
        </p:xfrm>
        <a:graphic>
          <a:graphicData uri="http://schemas.openxmlformats.org/drawingml/2006/table">
            <a:tbl>
              <a:tblPr/>
              <a:tblGrid>
                <a:gridCol w="2035080"/>
                <a:gridCol w="2035080"/>
                <a:gridCol w="2033640"/>
                <a:gridCol w="2033640"/>
              </a:tblGrid>
              <a:tr h="489960">
                <a:tc>
                  <a:txBody>
                    <a:bodyPr lIns="68040" rIns="680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خدمة الدين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مشروعات الرأسماليه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ايراد المخصص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ال العام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5385960"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موارد التي يتم جمعها لسداد القروض العامه طويله الأجل و الفوائد المستحقه عليها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ستمر مفتوحا حتى ينجز الهدف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موارد الماليه المستخدمه للحصول على تسهيلات رأسماليه أساسيه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حسابات يكون انشاؤها و بقاءها بناءا على الأغراض المستهدفه منها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مثلا هذا الحساب يفتح عندما يصرح بمشروع معين و يستمر و يتوقف استمراره على اكتمال المشروع الذي انشئ من أجله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هي مصادر ايراديه معينه مخصصه قانونا للانفاق منها على أغراض محدده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مثال :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مال الزكاة  مخصص حصيلته للصرف منها على مصارفها الشرعيه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فرض ضريبه معينه تخصص حصيلتها لاصلاح و صيانه الطرق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مال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العمليات او المال الجاري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يخصص للمحاسبة عن جميع موارد الدولة العامة ماعدا تلك التي يتم المحاسبة عنها في مال آخر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المحاسبه عنه قد تكون مركزيا ( على مستوى الدوله) أو لا مركزيا ( على مستوى المناطق المحليه)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تسمى بالموارد القابله للتخصيص لكونها جزء من مال قابل للانفاق و غير مقيد حيث لابد من نص نظام للانفاق منه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9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764640"/>
            <a:ext cx="762012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ثانيا : أموال الملكيه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 تهتم بالمحافظه على راس المال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شبه منشآت قطاع الاعمال في كونها تمثل وحدات تقوم و تستمرعلى بيع السلع و اداء الخدمات بمقابل , أي انها تعتمد على مواردها الذاتيه المتجدده من رؤوس أموالها الدائمة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شمل التالي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95280" y="2997360"/>
          <a:ext cx="7489800" cy="3109680"/>
        </p:xfrm>
        <a:graphic>
          <a:graphicData uri="http://schemas.openxmlformats.org/drawingml/2006/table">
            <a:tbl>
              <a:tblPr/>
              <a:tblGrid>
                <a:gridCol w="3745080"/>
                <a:gridCol w="374472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خدمه الداخلي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موال المرافق العام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42213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هي الأموال المستخدمه لتمويل السلع و الخدمات المقدمه بين الأقسام و الادارات في تنظيم حكومي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تشمل عمليات تعمل بصورة مشابهه لمنشات قطاع الأعمال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buClr>
                          <a:srgbClr val="494231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 تشمل ايضا العمليات التي يجد التنظيم الحكومي ضرورة لتحديد دوري لمصروفاتها و ايراداتها للمحافظة على رأس المال أو لأغراض السياسة العامة أو الرقابة الإدارية أو محاسبة المسئولين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قد تحقق فائض اذا بيعت باكثر من التكلفه و قد تحقق عجز قدمت بأقل من التكلفه نتيجه دعم و قرار سياسي ( العجز يمول من المال العام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494231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494231"/>
                          </a:solidFill>
                          <a:latin typeface="Calibri"/>
                        </a:rPr>
                        <a:t>مثال : مرافق المياه و الكهرباء و النقل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9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125360"/>
            <a:ext cx="762012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ثالثا: أموال الوكاله أو الأمان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هي أموال الغير التي عُهد بها للتنظيم الحكومي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لا يوجد رصيد و تتساوي الأصول مع الالتزامات فيها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شمل التالي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55640" y="3068640"/>
          <a:ext cx="7201080" cy="2592360"/>
        </p:xfrm>
        <a:graphic>
          <a:graphicData uri="http://schemas.openxmlformats.org/drawingml/2006/table">
            <a:tbl>
              <a:tblPr/>
              <a:tblGrid>
                <a:gridCol w="2400480"/>
                <a:gridCol w="2400120"/>
                <a:gridCol w="240048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معاشات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أموال الامانه غير القابله للانفاق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موال الأمانه القابله للانفاق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27975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هي أموال تحتفظ بها الوحده الاداريه الحكوميه ( مصلحه المعاشات و التقاعد ) لحساب الغير مؤقتا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نظام معاشات التقاعد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حافظ على رأس المال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شبه اموال الملكيه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جب استغلالها لصرف الدخل المتولد منها على أغراض محدد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مثل أموال الاوقاف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شبه الأموال الحكومي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9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000" y="1125360"/>
            <a:ext cx="7620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التقارير الماليه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 algn="r" rtl="1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هي مخرجات النظام المحاسبي الحكومي و اهم عناصر عملية الاتصال المحاسبي الحكومي و تشمل التالي 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54360" indent="-21708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تقارير مؤقته شهريه و ربع سنويه تفيد في المتابعة واتخاذ القرار وهي أداة مفيدة لأغراض الرقابة والتخطيط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تقرير الشهري عن الايرادات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تقرير الشهري عن النفقات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54360" indent="-217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قارير نهائيه ختاميه في نهايه السنه الماليه عن كل وحده اداريه رئيسيه حكوميه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تقرير عن الإيرادات وعن النفقات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54360" indent="-21708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تقرير مالي سنوي شامل يغطي كل الأموال و حسابات الوحدات الحكوميه بما فيها القوائم الماليه الخاصه بالأموال و الجداول التفصيليه و الاحصائيه بهدف توفير المعلومات التي تحقق الرقابة على العمليات و الاموال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قائمة الايرادات و النفقات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ميزانيه العموميه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15360" indent="-217080" algn="r" rtl="1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قائمة التغيير في رصيد المال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54360" indent="-21708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رقابه على الاعتمادا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اعتماد هو جزء من المال يتم تخصيصه عن طريق الميزانيه العامه للدوله لانجاز غرض معين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محاسبه هنا تهدف الى تحقيق التوازن بين النفقات و الاعتمادات و ليس النفقات و الايرادات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يوجد مستويين من المحاسبه في المحاسبه الحكوميه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مستوى مرتبط بالأموال يحقق التوازن بين موارد المال( الايرادات) و استخداماته (الاعتمادات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مستوى مرتبط بالوحده الاداريه الحكوميه يحقق التوازن بين الاعتمادات المقدره و النفقات المحققه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رقابه على الاعتمادا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اساليب  الرقابه على الاعتمادات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 الرقابه عن طريق الميزاني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 الرقابه عن طريق الارتباطات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رقابه على الاعتمادا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83920"/>
            <a:ext cx="7620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196560" algn="r" rtl="1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2f2b20"/>
                </a:solidFill>
                <a:uFillTx/>
                <a:latin typeface="Calibri"/>
              </a:rPr>
              <a:t>أولا : الرقابه عن طريق الميزانيه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r" rtl="1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الميزانيه في الوحدات الاداريه تعتبر وثيقه قانونيه لا يجوز تعديلها او الخروج عنها الا بنص القانون ( يختلف عن منشآت قطاع الاعمال 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r" rtl="1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رقابه عن طريق الميزانيه يتطلب ربط الايرادات المقدرة و الاعتمادات من جهه و ربط الايرادات و النفقات الفعليه  من جهه اخرى الأمر الذي يستلزم تسجيل بيانات الميزانية في السجلات المحاسبية للمال في بداية الفترة المحاسبية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r" rtl="1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بيانات لابد ان تكون  قابلة للمقارنة و يتم ذلك عن طريق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864000" indent="-196560" algn="r" rtl="1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تبويب السجلات المحاسبية بالطريقة نفسها المتبعة في تبويب الميزانية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864000" indent="-196560" algn="r" rtl="1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بناء تقديرات الموازنة على أساس شهري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r" rtl="1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معادله الميزانيه الجديدة بعد صدور الموازنة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94840" indent="-19656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f2b20"/>
                </a:solidFill>
                <a:latin typeface="Calibri"/>
              </a:rPr>
              <a:t>الأصول + الايرادات المقدره = الالتزامات + الاعتمادات + رصيد الما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864000" indent="-196560" algn="r" rtl="1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ثبات هذه التقديرات قد يترتب عليه تاثير سلبي او ايجابي على رصيد المال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864000" indent="-19656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550080" indent="-19656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294840" indent="-196560" algn="r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رقابه على الاعتمادا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599840"/>
            <a:ext cx="813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ثانيا : الرقابه عن طريق الارتباطات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708120" indent="-228600" algn="r" rtl="1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رتباطات هي نفقات متوقعه نتيجه توقيع عقد مقاوله مع الغير أو اصدار أمر شراء أو تحديد بواسطه عمل اداري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عند قيام الوحدات الإدارية الحكومية بتحصيل الإيرادات وسداد النفقات والارتباطات مع الغير وفقا لتقديرات الميزانية فستأخذ الميزانيه على مستوى المال الشكل التالي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f2b20"/>
                </a:solidFill>
                <a:latin typeface="Calibri"/>
              </a:rPr>
              <a:t>الأصول + الايرادات المقدره + الارتباطات + النفقات  = الالتزامات + الاعتمادات+ الايرادات+ احتياطي الارتباطات +رصيد المال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أجندة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مفاهيم المحاسبة الحكومية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الرقابة على الاعتمادات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أسس القياس المحاسبي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أسس القياس المحاسبي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12640"/>
            <a:ext cx="76201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دليل المحاسبة الحكومية الصادر من الأمم المتحدة أوضح أن اختيار الأساس المحاسبي المستخدم في أي دولة يعتمد على عده عوامل منها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) نوع البيانات المطلوبة لتحقيق حاجات الأجهزة الرقابية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) مستوى تطور المحاسبة في الدولة المعنية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) كفاءة المحاسبين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2f2b20"/>
                </a:solidFill>
                <a:uFillTx/>
                <a:latin typeface="Calibri"/>
              </a:rPr>
              <a:t>الاسس المستخدمة للقياس المحاسبي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ستحقاق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أساس النقدي / اساس الخزينه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ساس المختلط / النقدي المعدل / الاستحقاق المعدل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أسس القياس المحاسبي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 algn="r" rtl="1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2f2b20"/>
                </a:solidFill>
                <a:uFillTx/>
                <a:latin typeface="Calibri"/>
              </a:rPr>
              <a:t>أساس الاستحقاق 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عتراف بالايرادات خلال الفتره المكتسبه فيها بغض النظر عن تحصيلها و تسجيل المصروفات اعتمادا على مساهمتها بتحقيق ايراد معين بصرف النظر عن سدادها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مزاياه و عيوبه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مزاياه تتلخص في اتاحته للقابليه المقارنه بين مجهودات الفتره المحاسبيه ومنجزاتها , كما انه يساهم في تحقيق الاستقلال بين الفترات المحاسبي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عيوبه تكمن في انه يعتمد على التقدير الشخصي عند تحديد بعض عناصر المصروفات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أسس القياس المحاسبي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412640"/>
            <a:ext cx="76201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2f2b20"/>
                </a:solidFill>
                <a:uFillTx/>
                <a:latin typeface="Calibri"/>
              </a:rPr>
              <a:t>الاساس النقدي / </a:t>
            </a:r>
            <a:r>
              <a:rPr b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 </a:t>
            </a:r>
            <a:r>
              <a:rPr b="1" lang="ar-SA" sz="2200" spc="-1" strike="noStrike" u="sng">
                <a:solidFill>
                  <a:srgbClr val="2f2b20"/>
                </a:solidFill>
                <a:uFillTx/>
                <a:latin typeface="Calibri"/>
              </a:rPr>
              <a:t>أساس الخزينه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عتراف يكون بناءا على واقعه التحصيل للايرادات و صرف النفقات بغض النظر عن ما ان كانت تخص الفترة محل المحاسبة او لا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مزاياها و عيوبها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تمتاز بالوضوح والبساطه والموضوعيه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سرعه في اعداد التقارير الماليه والحسابات الختامي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يعاب عليها انها لا تعكس الجهود والمنجزات المرتبطه بالفتره المحاسبيه مما يجعل المعلومات المحاسبية غير قابلة للمقارن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يتم الاعتماد على هذا الاساس في الحكومه عند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 تقدير ايرادات الميزانيه العامه  ضمانا لتوفر الموارد اللازمه لتمويل النفقات العام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 التحويل ين الأموال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 algn="r" rtl="1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 التوقف عن صرف أرصده بعض الاعتمادات التي لم تصرف حتى نهايه السنه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r" rtl="1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أسس القياس المحاسبي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620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الاساس المختلط / النقدي المعدل / الاستحقاق المعدل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ساس وسط يجمع بين الاساس النقدي واساس الاستحقاق حيث يطبق الاساس النقدي على بعض العناصر واساس الاستحاق على بعض العناصر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يستخدم بصورة اساسية في الوحدات الحكومية الادارية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الاعتراف بالايرادات يتم في الفترة التي تتاح فيها و يمكن قياسها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اساس النقدي  يستخدم مثلا في حاله الضرائب العقاريه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لاعتراف بالمصروفات (القابله للقياس) يكون في الفتره المحاسبيه التي حدث فيها الالتزام (ماعدا الفوائد التي لم تستحق على الالتزامات طويلة الاجل) و المصروفات التي يترتب عنها التزام فعلي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f2b20"/>
                </a:solidFill>
                <a:latin typeface="Calibri"/>
              </a:rPr>
              <a:t>اساس الاستحقاق  يطبق على الرواتب و الاجور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المصادر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محاسبه الحكوميه للدكتور سلطان بن محمد بن علي السلطان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ملخص (المحاسبه الحكوميه ) للاستاذه ايمان العقيل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 algn="r" rtl="1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2f2b20"/>
                </a:solidFill>
                <a:uFillTx/>
                <a:latin typeface="Calibri"/>
              </a:rPr>
              <a:t>تعريف المال 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هي وحده ماليه و محاسبيه مستقل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 تتضمن مجموعه متوازنه من الحسابات تسجل فيها النقديه و الموارد الماليه الأخرى و ما يرتبط بها من التزامات و الرصيد المتبقي للمال بالاضافه الى التغيرات الطارئه عليه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 يخصص هذا المال لانجاز أنشطه محددة أو تحقيق أهداف معينه وفقا للقوانين و الأنظمه و اللوائح و التعليمات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060280"/>
            <a:ext cx="7620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 algn="r" rtl="1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في قطاع الأعمال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&lt;</a:t>
            </a: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 تستخدم نظرية المحاسبه الماليه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في القطاع الحكومي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&lt;</a:t>
            </a:r>
            <a:r>
              <a:rPr b="0" lang="ar-SA" sz="2400" spc="-1" strike="noStrike">
                <a:solidFill>
                  <a:srgbClr val="2f2b20"/>
                </a:solidFill>
                <a:latin typeface="Calibri"/>
              </a:rPr>
              <a:t>تستخدم نظرية المحاسبه عن الأموا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2f2b20"/>
                </a:solidFill>
                <a:latin typeface="Calibri"/>
              </a:rPr>
              <a:t> ما الفرق بين المحاسبة الماليه و المحاسبة الحكوميه ؟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75e47"/>
                </a:solidFill>
                <a:latin typeface="Cambria"/>
              </a:rPr>
              <a:t>الفرق بين المحاسبة الماليه و الحكوميه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2276640"/>
          <a:ext cx="7618320" cy="3240000"/>
        </p:xfrm>
        <a:graphic>
          <a:graphicData uri="http://schemas.openxmlformats.org/drawingml/2006/table">
            <a:tbl>
              <a:tblPr/>
              <a:tblGrid>
                <a:gridCol w="2786040"/>
                <a:gridCol w="3220920"/>
                <a:gridCol w="1611360"/>
              </a:tblGrid>
              <a:tr h="1047600"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ه الماليه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ة عن الأموال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041480">
                <a:tc>
                  <a:txBody>
                    <a:bodyPr lIns="54360" rIns="5436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وحده هي المنشأه نفسها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هي المال او الموارد المالي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وحدة المحاسبيه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1150920">
                <a:tc>
                  <a:txBody>
                    <a:bodyPr lIns="54360" rIns="5436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مبادئ المحاسبيه </a:t>
                      </a:r>
                      <a:r>
                        <a:rPr b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GAAP or IFRS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هي الاساس الذي لا يجوز الخروج عنه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قواعد و التعليمات ( القوانيين و المراسيم)  لها السبق على المبادئ  المحاسبية المتعارف علبها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التزام بالقواعد القانونيه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75e47"/>
                </a:solidFill>
                <a:latin typeface="Cambria"/>
              </a:rPr>
              <a:t>الفرق بين المحاسبة الماليه و الحكوميه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0920" y="1484280"/>
          <a:ext cx="7980120" cy="5373720"/>
        </p:xfrm>
        <a:graphic>
          <a:graphicData uri="http://schemas.openxmlformats.org/drawingml/2006/table">
            <a:tbl>
              <a:tblPr/>
              <a:tblGrid>
                <a:gridCol w="2674800"/>
                <a:gridCol w="3952800"/>
                <a:gridCol w="1352520"/>
              </a:tblGrid>
              <a:tr h="315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ه الماليه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ة عن الأموال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6702480">
                <a:tc>
                  <a:txBody>
                    <a:bodyPr lIns="47880" rIns="4788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ستخدم مبدأ المقابله بين الايرادات و المصروفات الخاصه بالفتره بغض النظر عن التدفقات الداخله و الخارج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تم التفرقه بين المصروف الايرادي و الرأس مالي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لامقارنه بين ايرادات الوحده الاداريه و نفقاتها على مستوى الوحده بينما تكون المقارنة بين الايرادات و النفقات على مستوى الدوله و نتيجتها اما عجز أو فائض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عجز </a:t>
                      </a:r>
                      <a:r>
                        <a:rPr b="1" lang="en-US" sz="1600" spc="-1" strike="noStrike">
                          <a:solidFill>
                            <a:srgbClr val="2f2b20"/>
                          </a:solidFill>
                          <a:latin typeface="Calibri"/>
                          <a:ea typeface="Arial"/>
                        </a:rPr>
                        <a:t>&lt;&lt;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  <a:ea typeface="Arial"/>
                        </a:rPr>
                        <a:t> يغطى عن طريق السحب من </a:t>
                      </a: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الاحتياطيى العام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فائض </a:t>
                      </a:r>
                      <a:r>
                        <a:rPr b="1" i="1" lang="en-US" sz="1600" spc="-1" strike="noStrike">
                          <a:solidFill>
                            <a:srgbClr val="2f2b20"/>
                          </a:solidFill>
                          <a:latin typeface="Calibri"/>
                          <a:ea typeface="Arial"/>
                        </a:rPr>
                        <a:t>&lt;&lt;</a:t>
                      </a: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ea typeface="Arial"/>
                        </a:rPr>
                        <a:t> يحول الى الاحنياطي العام للدوله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لا فرق بين مصروف ايرادي (جاري) و رأسمالي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نفقات </a:t>
                      </a:r>
                      <a:r>
                        <a:rPr b="1" i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xpenditures</a:t>
                      </a: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بدل مصروفات </a:t>
                      </a:r>
                      <a:r>
                        <a:rPr b="1" i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xpenses</a:t>
                      </a:r>
                      <a:r>
                        <a:rPr b="1" i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.</a:t>
                      </a: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تبويب المحاسبي للايرادات و النفقات في الميزانيه العامه للدوله يكون كالتالي :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ctr" rtl="1">
                        <a:lnSpc>
                          <a:spcPct val="100000"/>
                        </a:lnSpc>
                        <a:buClr>
                          <a:srgbClr val="2f2b2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الايرادات العامه تصنف حسب نوع المال – مصادر الايرادات – الوحده الاداريه المسئوله عن التحصيل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lvl="1" marL="800280" indent="-343080" algn="ctr" rtl="1">
                        <a:lnSpc>
                          <a:spcPct val="100000"/>
                        </a:lnSpc>
                        <a:buClr>
                          <a:srgbClr val="2f2b2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النفقات 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  <a:cs typeface="Arial"/>
                        </a:rPr>
                        <a:t>تبوب حسب نوع المال – الوظيفه – البرامج و الانشطه – الوحده الاداريه و طبيعه النفقه و نوعها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2f2b2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بويب المحاسبي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47880" marR="47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75e47"/>
                </a:solidFill>
                <a:latin typeface="Cambria"/>
              </a:rPr>
              <a:t>الفرق بين المحاسبة الماليه و الحكوميه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341360"/>
          <a:ext cx="7920000" cy="5365800"/>
        </p:xfrm>
        <a:graphic>
          <a:graphicData uri="http://schemas.openxmlformats.org/drawingml/2006/table">
            <a:tbl>
              <a:tblPr/>
              <a:tblGrid>
                <a:gridCol w="2295360"/>
                <a:gridCol w="3902040"/>
                <a:gridCol w="1722600"/>
              </a:tblGrid>
              <a:tr h="72468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ه الماليه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حاسبة عن الأموال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89d7f"/>
                    </a:solidFill>
                  </a:tcPr>
                </a:tc>
              </a:tr>
              <a:tr h="228420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تم الافصاح عن الأصول قصيرة و طويلة الأجل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وعن الالتزامات قصيرة و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طويلة الأجل بما يتفق مع أساس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استحقاق في الميزانية العمومية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تم الافصاح عن الأصول السائلة المتاحة لتحقيق الغرض المستهدف من المال وتفصح ايضا عن التزامات المرتبطة بهذه الاصول ( ق. الاجل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اصول و الالتزامات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9d7f"/>
                    </a:solidFill>
                  </a:tcPr>
                </a:tc>
              </a:tr>
              <a:tr h="4231080">
                <a:tc>
                  <a:txBody>
                    <a:bodyPr lIns="90720" rIns="90720" tIns="46800" bIns="46800" anchor="ctr">
                      <a:noAutofit/>
                    </a:bodyPr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ستخدام التكلفه التاريخيه في التقويم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يتم توزيع تكلفة الأصل على مستوى عمره الإنتاجي ( حساب استهلاك)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تقييم يكون باستخدام التكلفه التاريخيه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صعبة التحديد</a:t>
                      </a:r>
                      <a:r>
                        <a:rPr b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لذا يتم</a:t>
                      </a:r>
                      <a:r>
                        <a:rPr b="1" lang="en-US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قديرها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اصول الثابته المستلمه على شكل هبه أو منحه تقدر قيمتها على أساس القيمه العادله السائده في السوق وقت الحصول عليها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الاصول المشتراة و المنشئه فقط يتم معالجتها كنفقات 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تسجل كافه الأصول الثابته في "مجموعة حسابات الأصول الثابته العامه طويلة الأجل«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لا يتم احتساب استهلاك على الأصول الثابته نتيجه عدم التفرقه بين المصروفات الايراديه و الرأس ماليه</a:t>
                      </a: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 marL="285840" indent="-285840" algn="ctr" rtl="1">
                        <a:buClr>
                          <a:srgbClr val="2f2b2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قييم الأصول الثابتة والاستهلاك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9d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620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75e47"/>
                </a:solidFill>
                <a:latin typeface="Cambria"/>
              </a:rPr>
              <a:t>مفاهيم المحاسبه الحكوميه</a:t>
            </a:r>
            <a:br>
              <a:rPr sz="4800"/>
            </a:b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196640"/>
            <a:ext cx="76201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2f2b20"/>
                </a:solidFill>
                <a:uFillTx/>
                <a:latin typeface="Calibri"/>
              </a:rPr>
              <a:t>الاصول و الالتزامات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2b20"/>
                </a:solidFill>
                <a:latin typeface="Calibri"/>
              </a:rPr>
              <a:t>معادله الميزانيه في المحاسبه الحكوميه و التي تكون على مستوى الدولة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Diagram 3" descr=""/>
          <p:cNvPicPr/>
          <p:nvPr/>
        </p:nvPicPr>
        <p:blipFill>
          <a:blip r:embed="rId1"/>
          <a:stretch/>
        </p:blipFill>
        <p:spPr>
          <a:xfrm>
            <a:off x="901800" y="2133720"/>
            <a:ext cx="66024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675e47"/>
                </a:solidFill>
                <a:latin typeface="Cambria"/>
              </a:rPr>
              <a:t>مفاهيم المحاسبه الحكوميه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267920"/>
            <a:ext cx="76201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معادله الميزانيه على مستوى الوحده الادرايه المنفذه لاهداف المال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776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اصول : الموارد المخصصة للوحدة الإدارية الحكومية في شكل اعتمادات تعتمد لها في الميزانية العامة لتأدية الأنشطة المنوطة بها في نطاق فترة زمنية محددة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2f2b20"/>
                </a:solidFill>
                <a:latin typeface="Calibri"/>
              </a:rPr>
              <a:t>الالتزامات : القيود المفروضة على استخدام الوحدة الإدارية الحكومية للموارد المخصصة لها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2b20"/>
                </a:solidFill>
                <a:latin typeface="Calibri"/>
              </a:rPr>
              <a:t>ماذا عن الاصول الثابته و الالتزامات ط. الاجل في المحاسبة الحكومية ؟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540160" y="1989000"/>
            <a:ext cx="2879640" cy="64800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Calibri"/>
                <a:cs typeface="Arial"/>
              </a:rPr>
              <a:t>الأصول = الالتزامات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09:25:48Z</dcterms:created>
  <dc:creator>kayan albalawi</dc:creator>
  <dc:description/>
  <dc:language>en-US</dc:language>
  <cp:lastModifiedBy>kayan albalawi</cp:lastModifiedBy>
  <dcterms:modified xsi:type="dcterms:W3CDTF">2014-02-05T20:37:09Z</dcterms:modified>
  <cp:revision>178</cp:revision>
  <dc:subject/>
  <dc:title>نظام المحاسبة الحكومية</dc:title>
</cp:coreProperties>
</file>