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5639-2B84-48B9-A2F7-95E5EF6B88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أموال تعمل على أساس سنوي ولذلك تقفل حساباتها الاسمية في نهاية كل سنة مالية وتبدأ العمليات من جديد في نهاية السنة المالية التال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 أموال يتوقف بقاؤها على انجاز الأغراض المستهدفة منها ويتم أيضا إعداد التقارير المالية والتي تفصح عن نتائج العمليات والمركز المالي لكل مال في نهاية السنة المال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A4C-6B01-4A75-84F5-F108A235EFE3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موال الملكية هي وحدات قائمة تستمد بقاءها واستمرارها من بيع السلع وأداء الخدمات بمقابل فهي تعتمد على مواردها الذاتية التي تتولد من رؤوس أموالها الدائم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9CB-2294-45B3-9FCC-E9B6449787A1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A79-5682-43FB-91DA-A5033B77F8F1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قرير الشهري عن الايرادات , و الذي يفصح عن التالي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الشهر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المجمعه من بدايه السنه و حتى نهايه الشهر موضوع التقر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تحت التحصي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 الايرادات المتوقع تحصيلها في الفتره المتبقيه لنهايه السنه المال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حرافات (+/-) على مستوى شهري و مستوى تجميع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هتمام يوجه عاده على النقص الجوهري في الايرادات الفعليه عن المقدرة ( قد يكون بسبب تلاعب أو تغير في الأنظم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قرير الشهري عن النفقات , و الذي يفصح عن التالي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فقات الشهر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فقات المجمعه من بدايه السنه و حتى نهايه الشهر موضوع التقر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رتباطات و الاعتمادات المتاحه وهي المتوقع الارتباط على انفاقها في الفتره الباقيه على نهايه السن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ستخدام الميزانيه و حساب الارتباط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حرافات (+/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هتمام يكون في حاله الزياده الجوهريه في النفقات على الاعتمادات ( قد يكون بسبب تلاعب أو تغير في الأنظم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936D-2348-4E07-9EA1-F47B78B4E852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الاساليب نفسها تتطبق على مستوى المال و مستوى الوحده الاداريه الحكوميه مع الاخذ في الاعتبار عدم تأثير الميزانيه العموميه بالنسبه للوحدات الاداريه الحكوميه لعدم وجودها اصلا بالنسبة له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B59-77E0-4F5C-BEE6-DDEAA623F91D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الاساليب نفسها تتطبق على مستوى المال و مستوى الوحده الاداريه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B96-4CAF-432E-8E5B-8ECBEB45ABF3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في ظل المحاسبه الحكوميه يتم تقدير المصروفات اللازمه لتغطيه الانشطه العامه للسنه الماليه القادمه ُ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ثم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يتم تدبير الايرادات اللازمه لتغطيتها ( عكس منشآت قطاع الأعما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الايرادات المقدرة و الاعتمادات هي حسابات تذكيريه أو وهميه حيث انها لا تمثل مخزونا للمنافع الاقتصاديه فهي ليست نتاج احداث لاقتصاديه او عمليات تمت في الماض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يترتب على إثبات هذه التقديرات تأثير ايجابي أو سلبي على رصيد الما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إيرادات المقدرة &gt; الاعتمادات         فائ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إيرادات المقدره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اعتمادات          عج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A48-A715-4AC4-A631-1D2534100347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هدف الرقابه عن طريق الارتباطات الى ضمان صرف الاعتمادات في الأغراض المخصصه لها و عدم تجاوز القيمه المحدد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معادلة و التي تهدف الى الرقابة على الإنفاق تتمثل في عنصرين هما الارتباطات واحتياطي الارتباطات ويتم إلغاء هذين الحسابين عندما يتحول الالتزام المحتمل إلى التزام فعل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حساب الارتباطات يقفل في نفس السنه الماليه التي حدث فيه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لاحظه : هناك نوع من النفقات لا يستلزم الارتباط به مثل  اعتمادات الرواتب و الاجور حيث يتم سدادها شهري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E6C5-D827-4A40-A527-5F7DC895671A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خذت الكثير من الدول المتقدمة به لانه يمكن م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عمل المقارنه على اساس موحد بين النتائج الماليه للفترات الدوري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تحليل المصروفات الحكوميه على اساس التكلفه الحقيقيه للخدمه بغض النظر عن المدفوعات النقد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توضيح القيمه الحقيقيه للمشاريع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7F2-45E1-478E-879F-341F8C89CC76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0F0-AC6F-4BC4-85A7-93F5B8B62AB6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في المملكة العربية السعودية يتم تطبيق أساس الاستحقاق المعدل ( الأساس النقدي المعدل ) حيث يستخدم أساس الاستحقاق في إثبات المصروفات والأساس النقدي في إثبات الإيرادات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88E0-AB96-4BF7-8EAC-B378A6198D61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5A4-26A5-4D85-8352-9D8ACE267867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حاسبه عن الأموال  = المحاسبة الحكوم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D6E-EB93-4689-B216-12302232F186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فرق بين المحاسبة الماليه و المحاسبة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في الولايات المتحده </a:t>
            </a:r>
            <a:r>
              <a:rPr b="0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أمريكيه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تتم المحاسبه الحكوميه على عده مستويات : الولايات / المدن / المقاطعات بينما في </a:t>
            </a:r>
            <a:r>
              <a:rPr b="0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مملكه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حاسبه تكون على مستوى الدوله ككل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Calibri"/>
              </a:rPr>
              <a:t>المال =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جموعة من الموارد التي يتم تخصيصها لتحقيق هدف معين أو لأداء نشاط محدد وتكون موضوع القياس والاتصال المحاسب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6B80-4EDA-4F5E-8D41-E23F71450902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*ونادرا ما تتعدد الأموال ومعظم مصادرها تكون من إيرادات الثروة الطبيع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**باعتبار أن موارد الأموال قابلة للإنفاق وتتجدد سنويا من مصادرها الخارج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صروفات الايراديه هي كل ما يلزم انفاقه نقدا او التعهد بسداده في سبيل تحقيق الايرادات في الفترة المحاسبيه المالي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صروف الرأسمالي فهو كل ما يلزم انفاقه في سبيل الحصول على الايرادات في الفتره اللاحقه او في خلال اكثر من فتره محاسبيه قادم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57F-1781-4291-92EA-84D47727EB0F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أصول السائلة : تتضمن كل من النقدية و أي أصول أخرى يتوقع تحويلها إلى نقدية خلال العمليات العادية للمال ، وترتبط الالتزامات قصيرة الأجل ارتباطا مباشرا بهذ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أصول السائل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هناك عدة مساوئ لمجرد الاكتفاء بتسجيل الأصول الثابته العامه في سجلات بيانيه دونما متابعة الحالة التشغيليه منها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لالتزام بالعمر الانتاجي للأص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رتباط قرارات الاحلال بخطط مدروس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لقدرة على تحديد التوقيت المناسب لاحلال الاصول مما قد يؤدي الى استمرار استخدامها  بالرغم من انخفاض كفاءتها الأمر الذي يسهم في زياده نفقات التشغي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C8C-128A-45A2-93A5-6EC1B3268831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2E1-6945-4AF6-B906-1A06ED643D6A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اصول الثابته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ا يتم المحاسبه عنها في نطاق المال لأنها لا تتحول الى نقديه و يتم المحاسبه عنها عن طريق مجموعه من الحسابات  هي " مجموعة حسابات الأصول الثابته العامه طويلة الأجل"  باستخدام الاساس ( النقدي او الاستحقاق) المعدل و تظهر في شكل نفقات و ليس كأصول ثابته في ميزانيه الما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أمر نفسه مع 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التزامات طويله الاجل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فيتم المحاسبه عنها باستخدام " مجموعة حسابات الالتزامات العامه طويله الأجل " و لا تظهر في ميزانيه الما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- يتم انشاء سجلات بيانية واحصائية يمكن عن طريقها الرقابة على الأصول الثابتة العامة طويلة الأجل و متابعة سداد الالتزامات العامة طويلة الأج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0786-18B9-43C4-9ACB-AA7A7A19D65B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22C6-ABF4-4F7C-A1A6-83B3D5F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24D4-AEF5-489F-A7BD-B66A1335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8E28-011A-4291-A658-45F0F880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5046-37D1-4561-8AF8-D625EB83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D9B8-0D03-41B9-9176-B0A095A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06C7-C43E-4E75-83DA-2A2FDEAE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3BA2-9D2F-4436-96AE-C384743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4A4-2CAE-4952-B2DB-71D9B37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0B61-5C6C-456F-BD09-579FC48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73B0-020A-4B2A-BCD2-849211D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B90F-E1B0-4B71-870A-AC7E54A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6FEB-BEE6-452D-8927-8E04F585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272-4187-4C56-BF4E-59AACB8B5BC7}" type="slidenum">
              <a:rPr b="0" lang="ar-SA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675e47"/>
                </a:solidFill>
                <a:latin typeface="Cambria"/>
              </a:rPr>
              <a:t>نظام المحاسبة الحكومية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الفصل الثاني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052640"/>
            <a:ext cx="76201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نواع الأموال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لاموال الحكومية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موال الملكية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موال الوكالة او الامان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052640"/>
            <a:ext cx="76201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ولا: الأموال الحكوميه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ختص بأنشطة الانفاق بالأخص للمحاسبة عن تحصيل وإنفاق الموارد العام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ُمول من الضرائب و الرسوم و ايرادات الثروة الطبيعه و اي موارد سياديه اخرى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خصص سنويا في شكل اعتمادات في الميزانية العامة للدولة للإنفاق منها على أغراض عامة وخاص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000" y="764640"/>
            <a:ext cx="7620120" cy="556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تقسيمات الاموال الحكومية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700280"/>
          <a:ext cx="8137440" cy="4392720"/>
        </p:xfrm>
        <a:graphic>
          <a:graphicData uri="http://schemas.openxmlformats.org/drawingml/2006/table">
            <a:tbl>
              <a:tblPr/>
              <a:tblGrid>
                <a:gridCol w="2035080"/>
                <a:gridCol w="2035080"/>
                <a:gridCol w="2033640"/>
                <a:gridCol w="2033640"/>
              </a:tblGrid>
              <a:tr h="489960"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خدمة الدين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مشروعات الرأسمال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ايراد المخصص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ال العام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538596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وارد التي يتم جمعها لسداد القروض العامه طويله الأجل و الفوائد المستحقه عليها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ستمر مفتوحا حتى ينجز الهدف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وارد الماليه المستخدمه للحصول على تسهيلات رأسماليه أساس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حسابات يكون انشاؤها و بقاءها بناءا على الأغراض المستهدفه منها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مثلا هذا الحساب يفتح عندما يصرح بمشروع معين و يستمر و يتوقف استمراره على اكتمال المشروع الذي انشئ من أجله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مصادر ايراديه معينه مخصصه قانونا للانفاق منها على أغراض محدده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مثال :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مال الزكاة  مخصص حصيلته للصرف منها على مصارفها الشرع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فرض ضريبه معينه تخصص حصيلتها لاصلاح و صيانه الطرق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مال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العمليات او المال الجاري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يخصص للمحاسبة عن جميع موارد الدولة العامة ماعدا تلك التي يتم المحاسبة عنها في مال آخر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المحاسبه عنه قد تكون مركزيا ( على مستوى الدوله) أو لا مركزيا ( على مستوى المناطق المحليه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تسمى بالموارد القابله للتخصيص لكونها جزء من مال قابل للانفاق و غير مقيد حيث لابد من نص نظام للانفاق منه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764640"/>
            <a:ext cx="762012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نيا : أموال الملك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تهتم بالمحافظه على راس المال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به منشآت قطاع الاعمال في كونها تمثل وحدات تقوم و تستمرعلى بيع السلع و اداء الخدمات بمقابل , أي انها تعتمد على مواردها الذاتيه المتجدده من رؤوس أموالها الدائمة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م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2997360"/>
          <a:ext cx="7489800" cy="310968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خدمه الداخ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موال المرافق العام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4221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الأموال المستخدمه لتمويل السلع و الخدمات المقدمه بين الأقسام و الادارات في تنظيم حكومي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تشمل عمليات تعمل بصورة مشابهه لمنشات قطاع الأعما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buClr>
                          <a:srgbClr val="494231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 تشمل ايضا العمليات التي يجد التنظيم الحكومي ضرورة لتحديد دوري لمصروفاتها و ايراداتها للمحافظة على رأس المال أو لأغراض السياسة العامة أو الرقابة الإدارية أو محاسبة المسئولين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قد تحقق فائض اذا بيعت باكثر من التكلفه و قد تحقق عجز قدمت بأقل من التكلفه نتيجه دعم و قرار سياسي ( العجز يمول من المال العام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مثال : مرافق المياه و الكهرباء و النق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125360"/>
            <a:ext cx="762012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لثا: أموال الوكاله أو الأمان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هي أموال الغير التي عُهد بها للتنظيم الحكومي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لا يوجد رصيد و تتساوي الأصول مع الالتزامات في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م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5640" y="3068640"/>
          <a:ext cx="7201080" cy="259236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  <a:gridCol w="240048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معاشات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امانه غير القابله للانفاق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موال الأمانه القابله للانفاق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797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أموال تحتفظ بها الوحده الاداريه الحكوميه ( مصلحه المعاشات و التقاعد ) لحساب الغير مؤقت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نظام معاشات التقاعد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حافظ على رأس المال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شبه اموال الملكي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جب استغلالها لصرف الدخل المتولد منها على أغراض محدد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مثل أموال الاوقاف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شبه الأموال الحكوم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1125360"/>
            <a:ext cx="7620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تقارير المال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 algn="r" rtl="1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هي مخرجات النظام المحاسبي الحكومي و اهم عناصر عملية الاتصال المحاسبي الحكومي و تشمل التالي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ارير مؤقته شهريه و ربع سنويه تفيد في المتابعة واتخاذ القرار وهي أداة مفيدة لأغراض الرقابة والتخطيط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تقرير الشهري عن الايرادات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تقرير الشهري عن النفقات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قارير نهائيه ختاميه في نهايه السنه الماليه عن كل وحده اداريه رئيسيه حكومي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رير عن الإيرادات وعن النفقات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رير مالي سنوي شامل يغطي كل الأموال و حسابات الوحدات الحكوميه بما فيها القوائم الماليه الخاصه بالأموال و الجداول التفصيليه و الاحصائيه بهدف توفير المعلومات التي تحقق الرقابة على العمليات و الاموال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قائمة الايرادات و النفقات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ميزانيه العموميه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قائمة التغيير في رصيد المال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عتماد هو جزء من المال يتم تخصيصه عن طريق الميزانيه العامه للدوله لانجاز غرض معين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محاسبه هنا تهدف الى تحقيق التوازن بين النفقات و الاعتمادات و ليس النفقات و الايرادات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يوجد مستويين من المحاسبه في المحاسبه الحكوميه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مستوى مرتبط بالأموال يحقق التوازن بين موارد المال( الايرادات) و استخداماته (الاعتمادات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مستوى مرتبط بالوحده الاداريه الحكوميه يحقق التوازن بين الاعتمادات المقدره و النفقات المحققه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ساليب  الرقابه على الاعتمادات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الرقابه عن طريق الميزاني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 الرقابه عن طريق الارتباط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8392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196560" algn="r" rtl="1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2f2b20"/>
                </a:solidFill>
                <a:uFillTx/>
                <a:latin typeface="Calibri"/>
              </a:rPr>
              <a:t>أولا : الرقابه عن طريق الميزانيه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لميزانيه في الوحدات الاداريه تعتبر وثيقه قانونيه لا يجوز تعديلها او الخروج عنها الا بنص القانون ( يختلف عن منشآت قطاع الاعمال 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رقابه عن طريق الميزانيه يتطلب ربط الايرادات المقدرة و الاعتمادات من جهه و ربط الايرادات و النفقات الفعليه  من جهه اخرى الأمر الذي يستلزم تسجيل بيانات الميزانية في السجلات المحاسبية للمال في بداية الفترة المحاسبية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بيانات لابد ان تكون  قابلة للمقارنة و يتم ذلك عن طريق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تبويب السجلات المحاسبية بالطريقة نفسها المتبعة في تبويب الميزاني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بناء تقديرات الموازنة على أساس شهري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معادله الميزانيه الجديدة بعد صدور الموازنة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f2b20"/>
                </a:solidFill>
                <a:latin typeface="Calibri"/>
              </a:rPr>
              <a:t>الأصول + الايرادات المقدره = الالتزامات + الاعتمادات + رصيد الما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ثبات هذه التقديرات قد يترتب عليه تاثير سلبي او ايجابي على رصيد الم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59984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نيا : الرقابه عن طريق الارتباط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708120" indent="-228600" algn="r" rtl="1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رتباطات هي نفقات متوقعه نتيجه توقيع عقد مقاوله مع الغير أو اصدار أمر شراء أو تحديد بواسطه عمل اداري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عند قيام الوحدات الإدارية الحكومية بتحصيل الإيرادات وسداد النفقات والارتباطات مع الغير وفقا لتقديرات الميزانية فستأخذ الميزانيه على مستوى المال الشك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f2b20"/>
                </a:solidFill>
                <a:latin typeface="Calibri"/>
              </a:rPr>
              <a:t>الأصول + الايرادات المقدره + الارتباطات + النفقات  = الالتزامات + الاعتمادات+ الايرادات+ احتياطي الارتباطات +رصيد الم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أجندة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فاهيم المحاسبة الحكومية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الرقابة على الاعتمادات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أسس القياس المحاسبي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دليل المحاسبة الحكومية الصادر من الأمم المتحدة أوضح أن اختيار الأساس المحاسبي المستخدم في أي دولة يعتمد على عده عوامل منها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نوع البيانات المطلوبة لتحقيق حاجات الأجهزة الرقابية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مستوى تطور المحاسبة في الدولة المعني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كفاءة المحاسبين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الاسس المستخدمة للقياس المحاسبي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ستحقاق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أساس النقدي / اساس الخزين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ساس المختلط / النقدي المعدل / الاستحقاق المعد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 algn="r" rtl="1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ساس الاستحقاق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بالايرادات خلال الفتره المكتسبه فيها بغض النظر عن تحصيلها و تسجيل المصروفات اعتمادا على مساهمتها بتحقيق ايراد معين بصرف النظر عن سداد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 و عيوبه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 تتلخص في اتاحته للقابليه المقارنه بين مجهودات الفتره المحاسبيه ومنجزاتها , كما انه يساهم في تحقيق الاستقلال بين الفترات المحاسبي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عيوبه تكمن في انه يعتمد على التقدير الشخصي عند تحديد بعض عناصر المصروفات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الاساس النقدي /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 </a:t>
            </a: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أساس الخزينه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يكون بناءا على واقعه التحصيل للايرادات و صرف النفقات بغض النظر عن ما ان كانت تخص الفترة محل المحاسبة او لا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ا و عيوبها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متاز بالوضوح والبساطه والموضوعي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سرعه في اعداد التقارير الماليه والحسابات الختامي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عاب عليها انها لا تعكس الجهود والمنجزات المرتبطه بالفتره المحاسبيه مما يجعل المعلومات المحاسبية غير قابلة للمقارن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تم الاعتماد على هذا الاساس في الحكومه عند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تقدير ايرادات الميزانيه العامه  ضمانا لتوفر الموارد اللازمه لتمويل النفقات العام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التحويل ين الأموال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التوقف عن صرف أرصده بعض الاعتمادات التي لم تصرف حتى نهايه السن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r" rtl="1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620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اساس المختلط / النقدي المعدل / الاستحقاق المعدل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ساس وسط يجمع بين الاساس النقدي واساس الاستحقاق حيث يطبق الاساس النقدي على بعض العناصر واساس الاستحاق على بعض العناصر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ستخدم بصورة اساسية في الوحدات الحكومية الاداري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بالايرادات يتم في الفترة التي تتاح فيها و يمكن قياس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اساس النقدي  يستخدم مثلا في حاله الضرائب العقاريه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اعتراف بالمصروفات (القابله للقياس) يكون في الفتره المحاسبيه التي حدث فيها الالتزام (ماعدا الفوائد التي لم تستحق على الالتزامات طويلة الاجل) و المصروفات التي يترتب عنها التزام فعلي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ساس الاستحقاق  يطبق على الرواتب و الاجور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مصادر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محاسبه الحكوميه للدكتور سلطان بن محمد بن علي السلطان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ملخص (المحاسبه الحكوميه ) للاستاذه ايمان العقيل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 algn="r" rtl="1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تعريف المال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هي وحده ماليه و محاسبيه مستقل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تتضمن مجموعه متوازنه من الحسابات تسجل فيها النقديه و الموارد الماليه الأخرى و ما يرتبط بها من التزامات و الرصيد المتبقي للمال بالاضافه الى التغيرات الطارئه علي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يخصص هذا المال لانجاز أنشطه محددة أو تحقيق أهداف معينه وفقا للقوانين و الأنظمه و اللوائح و التعليم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060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في قطاع الأعمال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&lt;</a:t>
            </a: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تستخدم نظرية المحاسبه المال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في القطاع الحكومي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&lt;</a:t>
            </a: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ستخدم نظرية المحاسبه عن الأموا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2f2b20"/>
                </a:solidFill>
                <a:latin typeface="Calibri"/>
              </a:rPr>
              <a:t> ما الفرق بين المحاسبة الماليه و المحاسبة الحكوميه ؟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276640"/>
          <a:ext cx="7618320" cy="3240000"/>
        </p:xfrm>
        <a:graphic>
          <a:graphicData uri="http://schemas.openxmlformats.org/drawingml/2006/table">
            <a:tbl>
              <a:tblPr/>
              <a:tblGrid>
                <a:gridCol w="2786040"/>
                <a:gridCol w="3220920"/>
                <a:gridCol w="1611360"/>
              </a:tblGrid>
              <a:tr h="1047600"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041480"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وحده هي المنشأه نفسه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المال او الموارد الما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حدة المحاسبيه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150920"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بادئ المحاسبيه 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AAP or IFRS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هي الاساس الذي لا يجوز الخروج عن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قواعد و التعليمات ( القوانيين و المراسيم)  لها السبق على المبادئ  المحاسبية المتعارف علب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التزام بالقواعد القانونيه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1484280"/>
          <a:ext cx="7980120" cy="5373720"/>
        </p:xfrm>
        <a:graphic>
          <a:graphicData uri="http://schemas.openxmlformats.org/drawingml/2006/table">
            <a:tbl>
              <a:tblPr/>
              <a:tblGrid>
                <a:gridCol w="2674800"/>
                <a:gridCol w="3952800"/>
                <a:gridCol w="1352520"/>
              </a:tblGrid>
              <a:tr h="315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702480">
                <a:tc>
                  <a:txBody>
                    <a:bodyPr lIns="47880" rIns="4788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ستخدم مبدأ المقابله بين الايرادات و المصروفات الخاصه بالفتره بغض النظر عن التدفقات الداخله و الخارج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تفرقه بين المصروف الايرادي و الرأس مالي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مقارنه بين ايرادات الوحده الاداريه و نفقاتها على مستوى الوحده بينما تكون المقارنة بين الايرادات و النفقات على مستوى الدوله و نتيجتها اما عجز أو فائض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عجز 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&lt;&lt;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 يغطى عن طريق السحب من 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احتياطيى العام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فائض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&lt;&lt;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 يحول الى الاحنياطي العام للدول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 فرق بين مصروف ايرادي (جاري) و رأسمالي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نفقات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enditures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بدل مصروفات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enses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.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تبويب المحاسبي للايرادات و النفقات في الميزانيه العامه للدوله يكون كالتالي :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00000"/>
                        </a:lnSpc>
                        <a:buClr>
                          <a:srgbClr val="2f2b2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ايرادات العامه تصنف حسب نوع المال – مصادر الايرادات – الوحده الاداريه المسئوله عن التحصي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00000"/>
                        </a:lnSpc>
                        <a:buClr>
                          <a:srgbClr val="2f2b2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نفقات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تبوب حسب نوع المال – الوظيفه – البرامج و الانشطه – الوحده الاداريه و طبيعه النفقه و نوعه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بويب المحاسبي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341360"/>
          <a:ext cx="7920000" cy="5365800"/>
        </p:xfrm>
        <a:graphic>
          <a:graphicData uri="http://schemas.openxmlformats.org/drawingml/2006/table">
            <a:tbl>
              <a:tblPr/>
              <a:tblGrid>
                <a:gridCol w="2295360"/>
                <a:gridCol w="3902040"/>
                <a:gridCol w="1722600"/>
              </a:tblGrid>
              <a:tr h="72468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  <a:tr h="228420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افصاح عن الأصول قصيرة و طويلة الأج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وعن الالتزامات قصيرة و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طويلة الأجل بما يتفق مع أساس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ستحقاق في الميزانية العمومية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افصاح عن الأصول السائلة المتاحة لتحقيق الغرض المستهدف من المال وتفصح ايضا عن التزامات المرتبطة بهذه الاصول ( ق. الاجل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اصول و الالتزامات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  <a:tr h="4231080">
                <a:tc>
                  <a:txBody>
                    <a:bodyPr lIns="90720" rIns="90720" tIns="46800" bIns="46800" anchor="ctr">
                      <a:noAutofit/>
                    </a:bodyPr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ستخدام التكلفه التاريخيه في التقويم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توزيع تكلفة الأصل على مستوى عمره الإنتاجي ( حساب استهلاك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تقييم يكون باستخدام التكلفه التاريخي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صعبة التحديد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ذا يتم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قدير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صول الثابته المستلمه على شكل هبه أو منحه تقدر قيمتها على أساس القيمه العادله السائده في السوق وقت الحصول علي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صول المشتراة و المنشئه فقط يتم معالجتها كنفقات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سجل كافه الأصول الثابته في "مجموعة حسابات الأصول الثابته العامه طويلة الأجل«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 يتم احتساب استهلاك على الأصول الثابته نتيجه عدم التفرقه بين المصروفات الايراديه و الرأس ما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قييم الأصول الثابتة والاستهلاك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75e47"/>
                </a:solidFill>
                <a:latin typeface="Cambria"/>
              </a:rPr>
              <a:t>مفاهيم المحاسبه الحكوميه</a:t>
            </a:r>
            <a:br>
              <a:rPr sz="4800"/>
            </a:b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196640"/>
            <a:ext cx="76201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اصول و الالتزام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عادله الميزانيه في المحاسبه الحكوميه و التي تكون على مستوى الدول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Diagram 3" descr=""/>
          <p:cNvPicPr/>
          <p:nvPr/>
        </p:nvPicPr>
        <p:blipFill>
          <a:blip r:embed="rId1"/>
          <a:stretch/>
        </p:blipFill>
        <p:spPr>
          <a:xfrm>
            <a:off x="901800" y="2133720"/>
            <a:ext cx="6602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267920"/>
            <a:ext cx="76201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عادله الميزانيه على مستوى الوحده الادرايه المنفذه لاهداف المال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صول : الموارد المخصصة للوحدة الإدارية الحكومية في شكل اعتمادات تعتمد لها في الميزانية العامة لتأدية الأنشطة المنوطة بها في نطاق فترة زمنية محدد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لتزامات : القيود المفروضة على استخدام الوحدة الإدارية الحكومية للموارد المخصصة لها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اذا عن الاصول الثابته و الالتزامات ط. الاجل في المحاسبة الحكومية ؟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540160" y="1989000"/>
            <a:ext cx="2879640" cy="64800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Calibri"/>
                <a:cs typeface="Arial"/>
              </a:rPr>
              <a:t>الأصول = الالتزامات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09:25:48Z</dcterms:created>
  <dc:creator>kayan albalawi</dc:creator>
  <dc:description/>
  <dc:language>en-US</dc:language>
  <cp:lastModifiedBy>kayan albalawi</cp:lastModifiedBy>
  <dcterms:modified xsi:type="dcterms:W3CDTF">2014-02-05T20:37:09Z</dcterms:modified>
  <cp:revision>178</cp:revision>
  <dc:subject/>
  <dc:title>نظام المحاسبة الحكومية</dc:title>
</cp:coreProperties>
</file>