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BCF-32B5-4216-A67C-40B42FD2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123-8F2C-4B6F-BEEE-96507481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27B-6B1E-4469-A17D-E91F0669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5E9-827A-40B2-AED9-1697A436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2A09-4F44-4E0F-A9C2-78EBA0F5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8DD7-BA26-4DD2-B427-DC88D133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AFE0-3FD3-4CFD-8B14-F7792458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1FAF-0EFB-41EF-8A87-789FF4B4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7E98-5150-4EF9-A4A1-20A2871A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D04B-0EFD-4018-B86C-BF2E48D9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2CE7-8C0B-4671-9281-717D26B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631-5D13-4E71-90FA-CEF7371E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4D58-D5C7-41CC-98AF-A86BFA0C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87EF-B9C0-462D-85FE-FF1B4B69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3722-5CF8-4501-9D49-5CFA4866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A75F-DBC7-4A11-BDB5-E8E6FE90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6019-27BA-463B-BF47-19D1449F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3DF80-3461-49E7-9186-2312E73C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2F36-09B4-4A06-87F6-FEBF3ED6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56018-E8A8-4D73-BF19-5A3786F9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3CCB1-B632-4497-A2EF-BCA08165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47AA-C6FD-43CE-A9C7-CB656341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CFB-53F6-43B7-9FCB-4D913D76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DF650-9472-4C70-B61A-67DBA86F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40A5-6A8C-4505-A849-BD7A3AD4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D843-5E1C-4ACD-B56B-78A47DC5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3206-C6EE-4BB6-912B-BB549F51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D407-A636-4A1C-80BD-B7237FE7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FB27-3644-4FB7-8461-F4B6243F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E173-F5A7-402D-9DC7-C90710D9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34A2-838F-4454-9517-DF9632F4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14996-C8B7-4F06-9F3F-D15B6FB2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D3E5-84B0-4801-BE10-50C6A6A5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43C-0152-4AA7-B2EC-AF40D621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D6D3-CDE3-49B2-BB24-E129F5A8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616F8-80B7-4494-AE99-D63C50FC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CEE9-F726-4FB2-98C3-4B2D4613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9B692-1F47-48E8-BBFA-35E71C95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AC09B-9EAC-43D1-A938-6AFC0E1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78E66-9652-45AD-B5FC-85D72CC1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D4BBB-4DDF-46C9-8FCE-8895BB7C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58C6-767C-419F-A760-8000E4DB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C58B-EB8D-4B91-8AE9-EDD6AFDB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73CFE-54A3-48A7-98CC-B2E4541B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7EC-CFDC-4307-BC8E-A662737C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06A17-4E15-4640-9E69-8657B610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9E2DE-5F25-47D8-BE41-9D90FF86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318D2-00DD-47DD-85BF-A7E665A8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DA4B1-9AE7-48D3-B158-38742A45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BA161-03ED-4D44-9850-19163C15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C8165-C45F-4344-BF03-43A26E6D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F27A-ECD8-44B6-A30F-18D68E1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0A509-6856-46CB-8369-7711B39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299E7-A8AA-4395-963E-75FBBCEA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86F65-0918-4C59-B77B-6CA11DE1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32A-1E70-4596-B125-02286970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6641-CB02-403E-B732-FC06D556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CA462-5E25-41F7-B513-FB0528A0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B264D-0971-4893-82A9-A10BCE17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D0B5B-C341-4920-9F9D-0AB87FA2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F70A8-03F1-46BA-8E44-F37F1570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252F8-15EB-4B91-A1CD-82305EE3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C58AA-E082-485B-B90D-663111D4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AC3B1-FB6C-44A5-AC1F-1A56D532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C45F6-3F35-486F-8DE0-E22E232D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9719E-4626-474E-8266-847390F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D05-A08E-4D63-AA58-47D3C73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C1A04-D80F-4664-822B-2DD611E1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09CEE-7B0B-4FBB-B994-98F37D98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BD615-4F0C-45E3-B349-A1651B77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B39A7-81C5-474F-BDF5-9143759F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C1253-533D-49C7-9880-D5A924FD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378E0-857F-416C-92B4-0E741A8B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F2167-FD0A-4597-B860-34C82FBB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AA8EC-9B44-446E-9F3C-58421233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8F8C1-C671-498C-9055-0C9B3E2C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4D6CA-701C-41E7-8763-9585F6D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D13-6F75-41DB-B5BD-0134A4D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E5E24-925E-417E-90E8-A3E03C9C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59B2E-D39B-44DF-A55B-A2DC2B9C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85EB0-A0CE-4F36-979B-C4D4D1CC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7C3AB-D792-4321-8C36-B4F1E79A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63EA5-FB7C-4A35-808C-55A806E6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663-0C0F-474E-9AA0-0E666C45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FBED-A0CE-46A6-9926-AA5A19958C6C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8D4E-FAED-4DB3-B7CD-2FDD1BFE89F4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B1BE-873F-4BE3-B699-4C5F13927FF2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F3B4-52EB-40C9-BA1C-C76C430C856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056-87AA-4D9E-9625-2EE3EDAC57B7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390E-7DDE-4AB6-8885-345C9C983912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2618-8F6C-4488-BAB2-CC82C19B46D5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281160" y="1566720"/>
            <a:ext cx="8667720" cy="2567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نظم العلاقة بين المنظمة مع البيئة الخارجية 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General</cp:lastModifiedBy>
  <dcterms:modified xsi:type="dcterms:W3CDTF">2012-04-17T20:23:14Z</dcterms:modified>
  <cp:revision>54</cp:revision>
  <dc:subject/>
  <dc:title>التسويق..</dc:title>
</cp:coreProperties>
</file>