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3437-0117-4703-9CCD-BCF6782FE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4F42-FF9F-48AD-A319-E7CB53B35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802B-49A6-4435-B98B-DCE1A6CE8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F144-4048-4320-A7E1-FA83560DF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245DF-E4B6-4894-B246-F1767ABB9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2D834-01C1-4D6B-82B9-B9E7BCCB0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DB942-AB7B-429D-9F84-873E641FF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4CBEE-BFC3-44FA-9BA5-8B898CCA0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707E3-2F88-4A9E-8259-0E6A80EAA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1620F-4C34-4B6A-88B1-0EEB3EB85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B4075-FB1E-4866-ADA4-633E92402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1E79-5609-4364-AB0C-91735632D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E6E54-40A4-4869-AB8C-06E40C4C2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7D972-E4F5-49CC-B0D0-F60301194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455BB-D484-4628-BE68-97DDD1392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43690-C71E-4FDC-9E1C-2B6C2AECC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011D1-9CC7-4C19-8CD7-C93B614E0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2F8F4-5AA3-4C67-9CEC-A0F3976D6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3A483-4768-48E6-91C4-37A1C938A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9B8BA-E1A0-42FF-A9A0-7034D785B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35C59-1F42-4CDF-A31E-B025FD5E2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B1FA0-30D8-47F3-AF84-85600A167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FFF8-B7C2-4B13-AD52-971BC9A53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DF308-9E25-4BAA-AC4C-D2CF00F62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D9712-ED75-4492-8E8F-65F984950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66A3B-66CB-4D97-8D61-DFC077C3E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938F1-31F7-409A-AC78-A427DEE8B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2B4EA-94A1-4B9C-9B1C-93F836C9D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EEF5E-E0A0-4EB0-A676-AEE3F8DF8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EA52E-F1BB-4F03-AFF9-1448D94C9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41588-4006-4023-91A4-19F0B618B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2FAC6-ABCC-4D40-AA75-EF83C8E25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AAE14-BDAF-4BB9-8FA5-8E1294F2D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C2F4-512E-4C89-9003-EFDCADE60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7E594E-0F6B-4F2A-B5A7-2E6AA3D3B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EB77D-07FC-4B58-9699-9AD873E0A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9DF24-E1CB-4BF4-B57C-CDE100A8B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92BC5-6FCB-4F52-AA5D-019637943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C3FD1-8C8D-4819-AA48-2F86F6897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DB9EF-E5B9-442F-BAC9-B2EEE3F62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3270E-2CAF-4EDD-9A16-445C1A4C8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9EAC4-7A14-486D-ADFB-D93C8BDBA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C95FA2-79CB-4AE1-A147-E7A8029C5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393BA2-EF67-47D7-9C24-3A4B7CA0E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0D58-D82B-406A-A456-97E6E7233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4A38D8-7A38-4472-9B8B-F34E9CBA2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B1CC4-DF36-4170-916E-A4464D305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5FF1CB-709F-452C-BCDF-E916DC336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477623-1834-4217-8B5A-61A632443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08D451-E5D9-4FA9-99B8-903AB3F8C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4F8CA8-CD93-473F-8524-8577C636A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B9B13D-7D0E-459F-9F24-E08CA10E5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49CC5D-B518-479C-AD01-7348E70BB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4B3A25-BA12-4BEA-BA61-824591037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5F2C5D-DD81-4BD6-AA01-558D5DD73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A157-E2D2-49B3-BE75-52CF2B3B0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06E617-7C54-4878-97A3-6B47E5BF4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5DC659-F4FB-426A-8A3C-E72AAD11D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9071B9-D289-425C-904F-0399FBB3E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89F62F-AC3D-43CF-BF50-0A9850666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C5E0A5-2095-4F1C-94B5-99DC96BA7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1CF0C8-283D-47C8-938F-78C9E9255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23FBD7-9E8B-4399-AFE9-4D27FCFDC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0C2810-4E90-42C9-BF37-CF7C094AD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28D254-5E30-4DEF-B7F9-9A481635A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4EC43B-ECF7-4F8F-B238-B0BB7BDDD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2623-C272-4AA0-A5F9-AB1366DC9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B3C5CC-C538-49C2-97FD-959739148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9ACDFE-B25F-4580-A224-6A0BDF2F4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DD78B6-CB1B-4E7B-8DFA-60C005038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C5D0BD-444B-440E-BF90-BC53DF88C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F81EB5-C4EF-4A59-8D24-E5DB79563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01A686-4C73-44AD-904F-6E74950BE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71C973-5120-4E86-A614-CB0F3C55D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BC1E59-D2D2-4D5B-9399-BDCA1A66B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340C61-45C4-4EE6-BB2B-3073F4060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109CDF-CA6C-4B18-B705-C57F4B17C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1510-6DEA-47AB-860A-E50A010BA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0FBD10-D796-40F9-99C2-40B863CF8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1CAD71-346B-4878-BFFA-5D3F3CA4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047F1F-DC0B-43C1-95CC-C4B1D63D3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F01A95-16B5-4522-88BA-394499843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5857DA-EA0B-4F7C-AEDC-091747DF6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35ED-C73B-4584-BC61-94613D0C2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مستطيل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مستطيل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مستطيل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مستطيل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مستطيل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مستطيل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مستطيل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مستطيل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مستطيل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1C5E2-5F8B-4054-B3BE-814D9453D68B}" type="slidenum">
              <a:rPr b="0" lang="ar-SA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مستطيل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مستطيل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مستطيل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مستطيل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مستطيل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مستطيل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مستطيل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مستطيل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مستطيل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EDDF0-8D77-4E54-91D3-BB9AA0B96172}" type="slidenum">
              <a:rPr b="0" lang="ar-SA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مستطيل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" name="مستطيل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" name="مستطيل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" name="مستطيل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" name="مستطيل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" name="مستطيل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" name="مستطيل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مستطيل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" name="مستطيل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شكل حر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" name="شكل حر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شكل حر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شكل حر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شكل حر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شكل حر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شكل حر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شكل حر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شكل حر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شكل حر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شكل حر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شكل حر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شكل حر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2" name="شكل حر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3" name="شكل حر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مستطيل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مستطيل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مستطيل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مستطيل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مستطيل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مستطيل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F65E0-4C50-4801-87A4-AFBCC8673593}" type="slidenum">
              <a:rPr b="0" lang="ar-SA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17815-0963-40D5-BEF4-41E4C998CCC3}" type="slidenum">
              <a:rPr b="0" lang="ar-SA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مستطيل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3" name="مستطيل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4" name="مستطيل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5" name="مستطيل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6" name="مستطيل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7" name="مستطيل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8" name="مستطيل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9" name="مستطيل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0" name="مستطيل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1" name="مستطيل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17E8E-0AC6-4EDC-A878-C456F85CCD5D}" type="slidenum">
              <a:rPr b="0" lang="ar-SA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7D4E2-71F0-4CCF-A2A4-24A6884BD56C}" type="slidenum">
              <a:rPr b="0" lang="ar-SA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مستطيل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5" name="مستطيل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6" name="مستطيل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7" name="مستطيل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8" name="مستطيل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9" name="مستطيل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0" name="مستطيل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1" name="مستطيل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2" name="مستطيل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3" name="مستطيل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4" name="رابط مستقيم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315" name="مجموعة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رابط مستقيم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17" name="رابط مستقيم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18" name="رابط مستقيم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319" name="مجموعة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رابط مستقيم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21" name="رابط مستقيم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22" name="رابط مستقيم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323" name="مجموعة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رابط مستقيم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25" name="رابط مستقيم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26" name="رابط مستقيم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C5310-C397-4384-B07F-5EC461B89776}" type="slidenum">
              <a:rPr b="0" lang="ar-SA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Rectangle 2" descr=""/>
          <p:cNvPicPr/>
          <p:nvPr/>
        </p:nvPicPr>
        <p:blipFill>
          <a:blip r:embed="rId1"/>
          <a:stretch/>
        </p:blipFill>
        <p:spPr>
          <a:xfrm>
            <a:off x="281160" y="1566720"/>
            <a:ext cx="8667720" cy="256716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rIns="900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Corbel"/>
                <a:ea typeface="Akhbar MT"/>
              </a:rPr>
              <a:t>..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8"/>
          <p:cNvSpPr/>
          <p:nvPr/>
        </p:nvSpPr>
        <p:spPr>
          <a:xfrm>
            <a:off x="257040" y="291960"/>
            <a:ext cx="8418600" cy="88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5f7791"/>
                </a:solidFill>
                <a:latin typeface="Times New Roman"/>
                <a:cs typeface="Times New Roman"/>
              </a:rPr>
              <a:t>مفهوم نظام المعلومات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157a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1" name="شكل بيضاوي 1"/>
          <p:cNvSpPr/>
          <p:nvPr/>
        </p:nvSpPr>
        <p:spPr>
          <a:xfrm>
            <a:off x="684360" y="2001960"/>
            <a:ext cx="7704000" cy="1787400"/>
          </a:xfrm>
          <a:prstGeom prst="ellipse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f75"/>
                </a:solidFill>
                <a:latin typeface="Times New Roman"/>
                <a:cs typeface="Times New Roman"/>
              </a:rPr>
              <a:t>البيانات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هي المتطلبات او المعطيات المجردة التي لها صفة الوصف او صفة القياس(الارقام ، الزمن ، الطول...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2" name="شكل بيضاوي 2"/>
          <p:cNvSpPr/>
          <p:nvPr/>
        </p:nvSpPr>
        <p:spPr>
          <a:xfrm>
            <a:off x="900000" y="4076640"/>
            <a:ext cx="7488360" cy="1944720"/>
          </a:xfrm>
          <a:prstGeom prst="ellipse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f75"/>
                </a:solidFill>
                <a:latin typeface="Times New Roman"/>
                <a:cs typeface="Times New Roman"/>
              </a:rPr>
              <a:t>المعلومات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هي البيانات التي اصبح لها معنى مفهوم واضح بعد معالجتها او تشغيلها مما يكسبها صفة صلاحية امكانية استخدامها لخدمة صانع القرار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1"/>
          <p:cNvSpPr/>
          <p:nvPr/>
        </p:nvSpPr>
        <p:spPr>
          <a:xfrm>
            <a:off x="357120" y="0"/>
            <a:ext cx="8501040" cy="46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5f7791"/>
                </a:solidFill>
                <a:latin typeface="Times New Roman"/>
                <a:cs typeface="Times New Roman"/>
              </a:rPr>
              <a:t>مفهوم نظام المعلومات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4" name="شكل بيضاوي 2"/>
          <p:cNvSpPr/>
          <p:nvPr/>
        </p:nvSpPr>
        <p:spPr>
          <a:xfrm>
            <a:off x="1042920" y="1916280"/>
            <a:ext cx="7345440" cy="3168360"/>
          </a:xfrm>
          <a:prstGeom prst="ellipse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و ذلك النظام الذي يكفل توفير المعلومات التاريخية والحالية والمستقبلية المطلوبة لصانعي القرار بمصداقية من خلال قنوات الاتصال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9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1"/>
          <p:cNvSpPr/>
          <p:nvPr/>
        </p:nvSpPr>
        <p:spPr>
          <a:xfrm>
            <a:off x="357120" y="642960"/>
            <a:ext cx="8286840" cy="90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00000"/>
                </a:solidFill>
                <a:latin typeface="Times New Roman"/>
                <a:cs typeface="Times New Roman"/>
              </a:rPr>
              <a:t>أهمية نظام المعلومات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r" rtl="1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مهم لعملية اتخاذ القرارات وسلامة القرارات والأوامر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r" rtl="1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يعمل على تنسيق العلاقة الداخلية بين الادارات الداخلية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r" rtl="1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ينظم العلاقة بين المنظمة مع البيئة الخارجية 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r" rtl="1">
              <a:lnSpc>
                <a:spcPct val="15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كذلك التقنية تلعب دورا كبيرا وايجابيا للبيانات والمعلومات الادارية فهي تكفل السرعة والدقة اللازمة وهي جزأ لا يتجزأ من نظام المعلومات.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18:09:41Z</dcterms:created>
  <dc:creator>vip</dc:creator>
  <dc:description/>
  <dc:language>en-US</dc:language>
  <cp:lastModifiedBy>General</cp:lastModifiedBy>
  <dcterms:modified xsi:type="dcterms:W3CDTF">2012-04-17T20:23:14Z</dcterms:modified>
  <cp:revision>54</cp:revision>
  <dc:subject/>
  <dc:title>التسويق..</dc:title>
</cp:coreProperties>
</file>