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020-7026-4A10-99AB-65521EE0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F55-9EDC-4113-8C02-2380ABE9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BE5-8FA8-4853-AFA0-9BE4371B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44B-1A1D-4D10-8114-F264F9F2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8F6E-C256-4BCB-A82A-6E9DB62A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EF8A-1820-43E1-9986-1A6770EE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E5F5-46E9-4DE9-802E-142F743A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C918-D515-4143-B853-DB1523BA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FC40-C019-43B1-986B-4F0674CD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F5C7-6F90-425B-A651-A054E13F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3F25-20A4-49E2-A034-CC7C1CA0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55A-D612-4C39-BBFF-DA945D93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F100-C6DA-47AA-80C2-AC5C0C04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8E7A-5F04-48A3-8BE2-345FFCF9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0DD7-E3DC-4C13-8690-740CCEA9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0C12-3B88-4E80-A915-27FA35AC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E5E0-2EDF-4D08-ABE1-A5D8421F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5984-4BF7-45C0-A7AD-026F1FC7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B43-6B3D-44C8-A762-CA2C4AAB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3E4-3C42-48F1-83F5-9C3D43C0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65A7-8F62-4AF7-B5A5-667868AF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7F5-204F-49FE-AB1F-25589AB1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F97-ED51-49B1-8D79-7DBE4F2E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7A3-E2C0-4863-AADE-B90074DC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23F3-2579-4C89-852B-AEB8FB1E519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CE57-43C2-495C-9547-B0BCDECE9B6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50560" y="1773360"/>
            <a:ext cx="8497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6000" spc="-1" strike="noStrike">
                <a:solidFill>
                  <a:srgbClr val="eaeaea"/>
                </a:solidFill>
                <a:latin typeface="Verdana"/>
              </a:rPr>
              <a:t>النظرية البنائية لبياجيه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000000"/>
                </a:solidFill>
                <a:latin typeface="Arial"/>
              </a:rPr>
              <a:t>تعريف التعلم</a:t>
            </a:r>
            <a:r>
              <a:rPr b="0" lang="ar-OM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000" spc="-1" strike="noStrike">
                <a:solidFill>
                  <a:srgbClr val="000000"/>
                </a:solidFill>
                <a:latin typeface="Verdana"/>
              </a:rPr>
              <a:t>هاريمان </a:t>
            </a:r>
            <a:r>
              <a:rPr b="1" lang="ar-OM" sz="3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ar-OM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OM" sz="3600" spc="-1" strike="noStrike">
                <a:solidFill>
                  <a:srgbClr val="ffffcc"/>
                </a:solidFill>
                <a:latin typeface="Verdana"/>
              </a:rPr>
              <a:t>تعديل للسلوك نتيجة الخبرة</a:t>
            </a:r>
            <a:r>
              <a:rPr b="1" lang="ar-OM" sz="3600" spc="-1" strike="noStrike">
                <a:solidFill>
                  <a:srgbClr val="eaeaea"/>
                </a:solidFill>
                <a:latin typeface="Verdana"/>
              </a:rPr>
              <a:t> 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84400" indent="-284400" algn="r" rtl="1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000" spc="-1" strike="noStrike">
                <a:solidFill>
                  <a:srgbClr val="000000"/>
                </a:solidFill>
                <a:latin typeface="Verdana"/>
              </a:rPr>
              <a:t>الدريج </a:t>
            </a:r>
            <a:r>
              <a:rPr b="1" lang="ar-OM" sz="3600" spc="-1" strike="noStrike">
                <a:solidFill>
                  <a:srgbClr val="000000"/>
                </a:solidFill>
                <a:latin typeface="Verdana"/>
              </a:rPr>
              <a:t>  :</a:t>
            </a:r>
            <a:r>
              <a:rPr b="1" lang="ar-OM" sz="36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lang="ar-OM" sz="3600" spc="-1" strike="noStrike">
                <a:solidFill>
                  <a:srgbClr val="ffffcc"/>
                </a:solidFill>
                <a:latin typeface="Verdana"/>
              </a:rPr>
              <a:t>مجموعة من أفعال الإتصالات والقرارات المصنوعة بشكل مقصود أو منظم ، ليتم إستغلالها وتوظيفها  بكيفية مقصودة من طرف شخص أو مجموعة يدخلون وسيطا في إطار موقف تعليمي 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84400" indent="-284400" algn="r" rtl="1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000" spc="-1" strike="noStrike">
                <a:solidFill>
                  <a:srgbClr val="000000"/>
                </a:solidFill>
                <a:latin typeface="Verdana"/>
              </a:rPr>
              <a:t>أبو هلال :</a:t>
            </a:r>
            <a:r>
              <a:rPr b="1" lang="ar-OM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ar-OM" sz="3600" spc="-1" strike="noStrike">
                <a:solidFill>
                  <a:srgbClr val="ffffcc"/>
                </a:solidFill>
                <a:latin typeface="Verdana"/>
              </a:rPr>
              <a:t>عملية التفاعل بين المعلم وتلاميذ في غرفة الصف أو في قاعة المحاضرات 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8440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5400" spc="-1" strike="noStrike">
                <a:solidFill>
                  <a:srgbClr val="000000"/>
                </a:solidFill>
                <a:latin typeface="Arial"/>
              </a:rPr>
              <a:t>النظرية البنائية</a:t>
            </a:r>
            <a:r>
              <a:rPr b="0" lang="ar-OM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eaeaea"/>
                </a:solidFill>
                <a:latin typeface="Verdana"/>
              </a:rPr>
              <a:t>  أن التعلم الذي له معنى أو التعلم الحقيقي هو الذي ينتج عن التأمل أو التروي ، وأن التعزيز لايأتي من البيئة بل ينتج من أفكار المتعلم ذاته 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080808"/>
                </a:solidFill>
                <a:latin typeface="Arial"/>
              </a:rPr>
              <a:t>مراحل النمو العقلي (الذكاء)</a:t>
            </a:r>
            <a:r>
              <a:rPr b="0" lang="ar-OM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eec85e"/>
                </a:solidFill>
                <a:latin typeface="Verdana"/>
              </a:rPr>
              <a:t>المرحلة الحسية الحركية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من(الميلاد – 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) تبنى المعرفة من خلال الإدراك الحسي والفعل الحركي عن طريق الحواس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eec85e"/>
                </a:solidFill>
                <a:latin typeface="Verdana"/>
              </a:rPr>
              <a:t>المرحلة ماقبل الإجرائية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من( 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) تكون المعرفة في صورة رموز ونمو اللغة الرمزية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eec85e"/>
                </a:solidFill>
                <a:latin typeface="Verdana"/>
              </a:rPr>
              <a:t>المرحلة العيانية أو الإجرائية المحسوسة 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من(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ar-OM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تتميز بالتفكير المنطقي ونمو التفكير الإجتماعي واللغة الإجتماعية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 algn="r" rtl="1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eec85e"/>
                </a:solidFill>
                <a:latin typeface="Verdana"/>
              </a:rPr>
              <a:t>المرحلة الإجرائية الصورية أو الشكلية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من (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13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-...) يتم فيها إدراك المفاهيم بصورة مجردة والتفكير التحليلي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080808"/>
                </a:solidFill>
                <a:latin typeface="Arial"/>
              </a:rPr>
              <a:t>تطبيقات على النظرية البنائية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600" spc="-1" strike="noStrike">
                <a:solidFill>
                  <a:srgbClr val="eec85e"/>
                </a:solidFill>
                <a:latin typeface="Verdana"/>
              </a:rPr>
              <a:t>محتوى التعلم</a:t>
            </a:r>
            <a:r>
              <a:rPr b="1" lang="ar-OM" sz="3200" spc="-1" strike="noStrike">
                <a:solidFill>
                  <a:srgbClr val="eaeaea"/>
                </a:solidFill>
                <a:latin typeface="Verdana"/>
              </a:rPr>
              <a:t> : </a:t>
            </a:r>
            <a:r>
              <a:rPr b="1" lang="ar-OM" sz="3600" spc="-1" strike="noStrike">
                <a:solidFill>
                  <a:srgbClr val="eaeaea"/>
                </a:solidFill>
                <a:latin typeface="Verdana"/>
              </a:rPr>
              <a:t>أن الفرد يتعلم أية مثيرات تؤدي إلى مثيرات  أخرى وهذا يعني أن المثيرات إما أن تكون إشارات للإستجابات أو أن تكون إشارات لمثيرات أخرى 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 algn="r" rtl="1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600" spc="-1" strike="noStrike">
                <a:solidFill>
                  <a:srgbClr val="eec85e"/>
                </a:solidFill>
                <a:latin typeface="Verdana"/>
              </a:rPr>
              <a:t>المحددات التعليمية 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ar-OM" sz="3600" spc="-1" strike="noStrike">
                <a:solidFill>
                  <a:srgbClr val="eec85e"/>
                </a:solidFill>
                <a:latin typeface="Verdana"/>
              </a:rPr>
              <a:t>1</a:t>
            </a:r>
            <a:r>
              <a:rPr b="1" lang="ar-OM" sz="3600" spc="-1" strike="noStrike">
                <a:solidFill>
                  <a:srgbClr val="eaeaea"/>
                </a:solidFill>
                <a:latin typeface="Verdana"/>
              </a:rPr>
              <a:t>- البيئة أوعوامل التعلم الإجتماعية والمادية والنضوجية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6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ar-OM" sz="3600" spc="-1" strike="noStrike">
                <a:solidFill>
                  <a:srgbClr val="eec85e"/>
                </a:solidFill>
                <a:latin typeface="Verdana"/>
              </a:rPr>
              <a:t>2</a:t>
            </a:r>
            <a:r>
              <a:rPr b="1" lang="ar-OM" sz="3600" spc="-1" strike="noStrike">
                <a:solidFill>
                  <a:srgbClr val="eaeaea"/>
                </a:solidFill>
                <a:latin typeface="Verdana"/>
              </a:rPr>
              <a:t>-الدماغ الناضج أو الموازنة ( كيف يستطيع الإنسان تنظيم معلوماته المتناثرة في نظام معرفي غير متناقض ).</a:t>
            </a:r>
            <a:r>
              <a:rPr b="1" lang="ar-OM" sz="3200" spc="-1" strike="noStrike">
                <a:solidFill>
                  <a:srgbClr val="eaeaea"/>
                </a:solidFill>
                <a:latin typeface="Verdana"/>
              </a:rPr>
              <a:t> 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000" spc="-1" strike="noStrike">
                <a:solidFill>
                  <a:srgbClr val="eec85e"/>
                </a:solidFill>
                <a:latin typeface="Verdana"/>
              </a:rPr>
              <a:t>مراعاة الفروق الفردية</a:t>
            </a:r>
            <a:r>
              <a:rPr b="1" lang="ar-OM" sz="4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1" lang="ar-OM" sz="4000" spc="-1" strike="noStrike">
                <a:solidFill>
                  <a:srgbClr val="eec85e"/>
                </a:solidFill>
                <a:latin typeface="Verdana"/>
              </a:rPr>
              <a:t>:</a:t>
            </a:r>
            <a:r>
              <a:rPr b="0" lang="ar-OM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1-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التعلم عن طريق البيئة .    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-  التعلم عن طريق الحواس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000" spc="-1" strike="noStrike">
                <a:solidFill>
                  <a:srgbClr val="eec85e"/>
                </a:solidFill>
                <a:latin typeface="Verdana"/>
              </a:rPr>
              <a:t>إشراك المتعلم :</a:t>
            </a:r>
            <a:r>
              <a:rPr b="0" lang="ar-OM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من خلال التفاعل الإجتماعي مع الآخرين</a:t>
            </a:r>
            <a:r>
              <a:rPr b="0" lang="ar-OM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OM" sz="4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000" spc="-1" strike="noStrike">
                <a:solidFill>
                  <a:srgbClr val="eec85e"/>
                </a:solidFill>
                <a:latin typeface="Verdana"/>
              </a:rPr>
              <a:t>حماس المتعلم :</a:t>
            </a:r>
            <a:r>
              <a:rPr b="1" lang="ar-OM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 التفاصيل المتعلقة ببعد أو جانب</a:t>
            </a:r>
            <a:r>
              <a:rPr b="1" lang="ar-OM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واحد للشئ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000" spc="-1" strike="noStrike">
                <a:solidFill>
                  <a:srgbClr val="eec85e"/>
                </a:solidFill>
                <a:latin typeface="Verdana"/>
              </a:rPr>
              <a:t>تطبيق التعلم</a:t>
            </a:r>
            <a:r>
              <a:rPr b="1" lang="ar-OM" sz="4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1" lang="ar-OM" sz="4000" spc="-1" strike="noStrike">
                <a:solidFill>
                  <a:srgbClr val="eec85e"/>
                </a:solidFill>
                <a:latin typeface="Verdana"/>
              </a:rPr>
              <a:t>:</a:t>
            </a:r>
            <a:r>
              <a:rPr b="1" lang="ar-OM" sz="40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1-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القدرة على التجريد مثل إستخدام الرموزفي المعادلات .                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- القدرة على الربط بين المتغيرات(الأخذ في الإعتبارعوامل متعددة في  نفس الوقت)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3-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يخلق متغيرات جديدة من تفكيره (لوجود صراع بين تفكيره الغير واقعي والبيئة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080808"/>
                </a:solidFill>
                <a:latin typeface="Arial"/>
              </a:rPr>
              <a:t>ماالعلاقة بين النظرية والتكنولوجيا</a:t>
            </a:r>
            <a:r>
              <a:rPr b="0" lang="ar-OM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eaeaea"/>
                </a:solidFill>
                <a:latin typeface="Verdana"/>
              </a:rPr>
              <a:t>علاقة تطور وتدرج فتتطور المعرفة والخبرة حسب المراحل النمائية الأربعة للإنسان التي يمر بها في حياته ، فتبدأ من المحسوس ثم الرمز ثم المنطق فالتجريد</a:t>
            </a:r>
            <a:r>
              <a:rPr b="1" lang="ar-OM" sz="36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5400" spc="-1" strike="noStrike">
                <a:solidFill>
                  <a:srgbClr val="080808"/>
                </a:solidFill>
                <a:latin typeface="Arial"/>
              </a:rPr>
              <a:t>المراجع </a:t>
            </a:r>
            <a:r>
              <a:rPr b="1" lang="ar-OM" sz="44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lang="ar-OM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سركز، العجيلي  و خليل ، ناجي (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1993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م) نظريات التعليم ، ط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، طرابلس : دار الحكمة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قاسم ، أنسي محمد أحمد (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1999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م) علم نفس التعلم ، القاهرة :مركز الإسكندرية للكتاب 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9:12:45Z</dcterms:created>
  <dc:creator>سالم</dc:creator>
  <dc:description/>
  <dc:language>en-US</dc:language>
  <cp:lastModifiedBy>دكتور أشرف عبده</cp:lastModifiedBy>
  <dcterms:modified xsi:type="dcterms:W3CDTF">2010-10-02T13:48:54Z</dcterms:modified>
  <cp:revision>22</cp:revision>
  <dc:subject/>
  <dc:title>النظرية البنائية لبياجيه</dc:title>
</cp:coreProperties>
</file>