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F0F0-DDD9-4BB3-8F9E-D58F4B91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A47-C5AD-42B7-AB9D-DD224742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C4A-0D2C-4780-A810-0E3F973C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A78-D204-45C7-8379-6C86D7F4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9702-C68A-4C87-9708-E72287D6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CAE6-8BBF-454E-9431-1BB4B5ED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12D8-F9E5-43AD-B9F7-B7BC58CF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B948-F136-47FA-8E48-D2E0B626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CCD3-DCC1-4EDE-AB0C-A50BECD0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427C-9E27-4891-9290-8871C6DE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7745-FE35-4154-8DB0-C090F25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E28-FEAB-477B-B1F4-A3B6851B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85AF-DFF7-43BA-8815-08BA9C32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E059-51FA-4B61-86E6-A9426E7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DD26-80D6-4707-8DDD-5C8D1015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E710-741C-4010-A5B4-CF710B9E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0192-1B6C-4506-878D-7E4F4DE5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D3F-F978-48D0-882F-7A02D77C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819-D907-4C56-91DE-C4CEFE26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AA8-BB59-42C0-9B79-2217DF81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82B-48A2-4DA4-807A-FA599708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A5F-2105-4068-B730-8F55B33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639-5221-48FF-B728-BB33FAE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68D-70E7-44AA-90A7-B21180DB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E18D-D617-4509-99CA-8B6C780E85A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0097-9FCE-419E-8BAD-679F5AF048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50560" y="1773360"/>
            <a:ext cx="84978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6000" spc="-1" strike="noStrike">
                <a:solidFill>
                  <a:srgbClr val="eaeaea"/>
                </a:solidFill>
                <a:latin typeface="Verdana"/>
              </a:rPr>
              <a:t>النظرية البنائية لبياجيه</a:t>
            </a:r>
            <a:endParaRPr b="0" lang="en-US" sz="6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00000"/>
                </a:solidFill>
                <a:latin typeface="Arial"/>
              </a:rPr>
              <a:t>تعريف التعلم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هاريمان </a:t>
            </a:r>
            <a:r>
              <a:rPr b="1" lang="ar-OM" sz="3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OM" sz="3600" spc="-1" strike="noStrike">
                <a:solidFill>
                  <a:srgbClr val="ffffcc"/>
                </a:solidFill>
                <a:latin typeface="Verdana"/>
              </a:rPr>
              <a:t>تعديل للسلوك نتيجة الخبرة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-28440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الدريج </a:t>
            </a:r>
            <a:r>
              <a:rPr b="1" lang="ar-OM" sz="3600" spc="-1" strike="noStrike">
                <a:solidFill>
                  <a:srgbClr val="000000"/>
                </a:solidFill>
                <a:latin typeface="Verdana"/>
              </a:rPr>
              <a:t>  :</a:t>
            </a:r>
            <a:r>
              <a:rPr b="1" lang="ar-OM" sz="3600" spc="-1" strike="noStrike">
                <a:solidFill>
                  <a:srgbClr val="aa8456"/>
                </a:solidFill>
                <a:latin typeface="Verdana"/>
              </a:rPr>
              <a:t> </a:t>
            </a:r>
            <a:r>
              <a:rPr b="1" lang="ar-OM" sz="3600" spc="-1" strike="noStrike">
                <a:solidFill>
                  <a:srgbClr val="ffffcc"/>
                </a:solidFill>
                <a:latin typeface="Verdana"/>
              </a:rPr>
              <a:t>مجموعة من أفعال الإتصالات والقرارات المصنوعة بشكل مقصود أو منظم ، ليتم إستغلالها وتوظيفها  بكيفية مقصودة من طرف شخص أو مجموعة يدخلون وسيطا في إطار موقف تعليمي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-28440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أبو هلال :</a:t>
            </a:r>
            <a:r>
              <a:rPr b="1" lang="ar-OM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ar-OM" sz="3600" spc="-1" strike="noStrike">
                <a:solidFill>
                  <a:srgbClr val="ffffcc"/>
                </a:solidFill>
                <a:latin typeface="Verdana"/>
              </a:rPr>
              <a:t>عملية التفاعل بين المعلم وتلاميذ في غرفة الصف أو في قاعة المحاضرات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28440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5400" spc="-1" strike="noStrike">
                <a:solidFill>
                  <a:srgbClr val="000000"/>
                </a:solidFill>
                <a:latin typeface="Arial"/>
              </a:rPr>
              <a:t>النظرية البنائية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eaeaea"/>
                </a:solidFill>
                <a:latin typeface="Verdana"/>
              </a:rPr>
              <a:t>  أن التعلم الذي له معنى أو التعلم الحقيقي هو الذي ينتج عن التأمل أو التروي ، وأن التعزيز لايأتي من البيئة بل ينتج من أفكار المتعلم ذاته .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مراحل النمو العقلي (الذكاء)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الحسية الحرك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(الميلاد –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) تبنى المعرفة من خلال الإدراك الحسي والفعل الحركي عن طريق الحواس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ماقبل الإجرائ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(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) تكون المعرفة في صورة رموز ونمو اللغة الرمز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العيانية أو الإجرائية المحسوسة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(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تتميز بالتفكير المنطقي ونمو التفكير الإجتماعي واللغة الإجتماع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15360" indent="-315360" algn="r" rtl="1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ec85e"/>
                </a:solidFill>
                <a:latin typeface="Verdana"/>
              </a:rPr>
              <a:t>المرحلة الإجرائية الصورية أو الشكلي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من (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13</a:t>
            </a:r>
            <a:r>
              <a:rPr b="1" lang="ar-OM" sz="2800" spc="-1" strike="noStrike">
                <a:solidFill>
                  <a:srgbClr val="ffffff"/>
                </a:solidFill>
                <a:latin typeface="Verdana"/>
              </a:rPr>
              <a:t>-...) يتم فيها إدراك المفاهيم بصورة مجردة والتفكير التحليلي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تطبيقات على النظرية البنائية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محتوى التعلم</a:t>
            </a: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: 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أن الفرد يتعلم أية مثيرات تؤدي إلى مثيرات  أخرى وهذا يعني أن المثيرات إما أن تكون إشارات للإستجابات أو أن تكون إشارات لمثيرات أخرى 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المحددات التعليمية 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1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- البيئة أوعوامل التعلم الإجتماعية والمادية والنضوجية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ar-OM" sz="3600" spc="-1" strike="noStrike">
                <a:solidFill>
                  <a:srgbClr val="eec85e"/>
                </a:solidFill>
                <a:latin typeface="Verdana"/>
              </a:rPr>
              <a:t>2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-الدماغ الناضج أو الموازنة ( كيف يستطيع الإنسان تنظيم معلوماته المتناثرة في نظام معرفي غير متناقض ).</a:t>
            </a: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0920" y="33300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مراعاة الفروق الفردية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:</a:t>
            </a:r>
            <a:r>
              <a:rPr b="0" lang="ar-OM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-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التعلم عن طريق البيئة .   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-  التعلم عن طريق الحواس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إشراك المتعلم :</a:t>
            </a:r>
            <a:r>
              <a:rPr b="0" lang="ar-OM" sz="4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من خلال التفاعل الإجتماعي مع الآخرين</a:t>
            </a:r>
            <a:r>
              <a:rPr b="0" lang="ar-OM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OM" sz="4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حماس المتعلم :</a:t>
            </a:r>
            <a:r>
              <a:rPr b="1" lang="ar-OM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التفاصيل المتعلقة ببعد أو جانب</a:t>
            </a:r>
            <a:r>
              <a:rPr b="1" lang="ar-OM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واحد للشئ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تطبيق التعلم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1" lang="ar-OM" sz="4000" spc="-1" strike="noStrike">
                <a:solidFill>
                  <a:srgbClr val="eec85e"/>
                </a:solidFill>
                <a:latin typeface="Verdana"/>
              </a:rPr>
              <a:t>:</a:t>
            </a:r>
            <a:r>
              <a:rPr b="1" lang="ar-OM" sz="4000" spc="-1" strike="noStrike">
                <a:solidFill>
                  <a:srgbClr val="080808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-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القدرة على التجريد مثل إستخدام الرموزفي المعادلات .               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- القدرة على الربط بين المتغيرات(الأخذ في الإعتبارعوامل متعددة في  نفس الوقت)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3-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يخلق متغيرات جديدة من تفكيره (لوجود صراع بين تفكيره الغير واقعي والبيئة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ماالعلاقة بين النظرية والتكنولوجيا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eaeaea"/>
                </a:solidFill>
                <a:latin typeface="Verdana"/>
              </a:rPr>
              <a:t>علاقة تطور وتدرج فتتطور المعرفة والخبرة حسب المراحل النمائية الأربعة للإنسان التي يمر بها في حياته ، فتبدأ من المحسوس ثم الرمز ثم المنطق فالتجريد</a:t>
            </a:r>
            <a:r>
              <a:rPr b="1" lang="ar-OM" sz="36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5400" spc="-1" strike="noStrike">
                <a:solidFill>
                  <a:srgbClr val="080808"/>
                </a:solidFill>
                <a:latin typeface="Arial"/>
              </a:rPr>
              <a:t>المراجع </a:t>
            </a:r>
            <a:r>
              <a:rPr b="1" lang="ar-OM" sz="4400" spc="-1" strike="noStrike">
                <a:solidFill>
                  <a:srgbClr val="080808"/>
                </a:solidFill>
                <a:latin typeface="Arial"/>
              </a:rPr>
              <a:t>:</a:t>
            </a:r>
            <a:r>
              <a:rPr b="0" lang="ar-OM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OM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سركز، العجيلي  و خليل ، ناجي (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م) نظريات التعليم ، ط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، طرابلس : دار الحكمة 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قاسم ، أنسي محمد أحمد (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1999</a:t>
            </a:r>
            <a:r>
              <a:rPr b="1" lang="ar-OM" sz="3200" spc="-1" strike="noStrike">
                <a:solidFill>
                  <a:srgbClr val="ffffff"/>
                </a:solidFill>
                <a:latin typeface="Verdana"/>
              </a:rPr>
              <a:t>م) علم نفس التعلم ، القاهرة :مركز الإسكندرية للكتاب .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9:12:45Z</dcterms:created>
  <dc:creator>سالم</dc:creator>
  <dc:description/>
  <dc:language>en-US</dc:language>
  <cp:lastModifiedBy>دكتور أشرف عبده</cp:lastModifiedBy>
  <dcterms:modified xsi:type="dcterms:W3CDTF">2010-10-02T13:48:54Z</dcterms:modified>
  <cp:revision>22</cp:revision>
  <dc:subject/>
  <dc:title>النظرية البنائية لبياجيه</dc:title>
</cp:coreProperties>
</file>