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explode.wav" ContentType="audio/x-wav"/>
  <Override PartName="/ppt/media/drumroll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F9A-0EA8-4FD2-B61A-1F3C1578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126-4BA8-49BC-B476-09D01A24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F75-75E3-46F6-A770-C605E240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433-B773-4D5B-A12F-CB8E7190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507D-616B-401A-8D7B-3E21C770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8015-D3A1-4900-B992-2723B75A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520A-248E-4BD0-9721-5F1341CF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F616-847F-42A3-BED9-B149DEE3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DEA-C1F9-4F8A-A1DF-F5AFAC5F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6DA6-90A4-4A40-904E-C4ED3DCE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E2BA-E9D5-4D68-92BF-D374707F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BFD-B990-4829-9DB0-165F8F48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A91C-00C5-40E6-8416-9EF101BF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B5D6-D5C6-4750-A504-9B6CD22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3BBE-FD90-4915-91E4-DFA3AD35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04EA-B7AC-40D9-8677-D161845C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5619-97AF-4616-AB16-EF20D09E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CE2-6510-4540-9DAE-BE5A1F85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578-363E-4D47-99C5-67D03EB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EBC-9BE7-4D1F-8124-3C0F76A1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85E-2F01-4F84-B226-4B1FB9AB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A86-3C00-4C69-822A-E44B0467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898-A6E3-4451-8C59-0AE0A640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1EC-0E8F-467B-822E-AF923A9F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cs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5A61-7BD3-41B9-B8B3-D39DE1580E2D}" type="datetime">
              <a:rPr b="0" lang="ar-SA" sz="1400" spc="-1" strike="noStrike">
                <a:solidFill>
                  <a:srgbClr val="ffffff"/>
                </a:solidFill>
                <a:latin typeface="Times New Roman"/>
                <a:cs typeface="Arial"/>
              </a:rPr>
              <a:t>١٤٤٨/٠٢/١٦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fld id="{CACF113B-221E-4262-B8D2-7BE6CB9EA783}" type="datetime10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04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247C-FB21-4219-998F-C361099DC6FC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cs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2404-7C8E-4C16-86FF-ECCD298F970F}" type="datetime">
              <a:rPr b="0" lang="ar-SA" sz="1400" spc="-1" strike="noStrike">
                <a:solidFill>
                  <a:srgbClr val="ffffff"/>
                </a:solidFill>
                <a:latin typeface="Times New Roman"/>
                <a:cs typeface="Arial"/>
              </a:rPr>
              <a:t>١٤٤٨/٠٢/١٦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fld id="{E81D39A2-8F8A-4EEB-AB41-2CF94253EAEE}" type="datetime10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04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D3BC-8DB9-42A4-805B-72D15CAF8961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eec94"/>
                </a:solidFill>
                <a:latin typeface="Times New Roman"/>
                <a:cs typeface="AdvertisingBold"/>
              </a:rPr>
              <a:t>نظرية التعلم الاجتماعي</a:t>
            </a:r>
            <a:br>
              <a:rPr sz="4800"/>
            </a:br>
            <a:r>
              <a:rPr b="0" lang="en-US" sz="4800" spc="-1" strike="noStrike">
                <a:solidFill>
                  <a:srgbClr val="feec94"/>
                </a:solidFill>
                <a:latin typeface="Times New Roman"/>
                <a:ea typeface="AdvertisingBold"/>
              </a:rPr>
              <a:t>Social Learning Theory</a:t>
            </a:r>
            <a:br>
              <a:rPr sz="4800"/>
            </a:br>
            <a:r>
              <a:rPr b="0" lang="ar-SA" sz="4800" spc="-1" strike="noStrike">
                <a:solidFill>
                  <a:srgbClr val="feec94"/>
                </a:solidFill>
                <a:latin typeface="Times New Roman"/>
                <a:cs typeface="AdvertisingBold"/>
              </a:rPr>
              <a:t>البرت باندورا</a:t>
            </a:r>
            <a:r>
              <a:rPr b="0" lang="ar-SA" sz="4800" spc="-1" strike="noStrike">
                <a:solidFill>
                  <a:srgbClr val="feec94"/>
                </a:solidFill>
                <a:latin typeface="Times New Roman"/>
                <a:ea typeface="AdvertisingBold"/>
              </a:rPr>
              <a:t>(</a:t>
            </a:r>
            <a:r>
              <a:rPr b="0" lang="en-US" sz="4800" spc="-1" strike="noStrike">
                <a:solidFill>
                  <a:srgbClr val="feec94"/>
                </a:solidFill>
                <a:latin typeface="Times New Roman"/>
                <a:ea typeface="AdvertisingBold"/>
              </a:rPr>
              <a:t>Bandura</a:t>
            </a:r>
            <a:r>
              <a:rPr b="0" lang="ar-SA" sz="4800" spc="-1" strike="noStrike">
                <a:solidFill>
                  <a:srgbClr val="feec94"/>
                </a:solidFill>
                <a:latin typeface="Times New Roman"/>
                <a:ea typeface="AdvertisingBold"/>
              </a:rPr>
              <a:t>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2708280"/>
            <a:ext cx="166032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71640" y="2997360"/>
            <a:ext cx="595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16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Times New Roman"/>
              </a:rPr>
              <a:t>نواتــــــــــج التعلم بالملاحظة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r" rtl="1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تعلم سلوك جدي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r" rtl="1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كف او تحرير سلو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r" rtl="1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تسهيل ظهور سلو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762120"/>
            <a:ext cx="85690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 algn="r" rtl="1">
              <a:lnSpc>
                <a:spcPct val="90000"/>
              </a:lnSpc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مصادر التعلم الاجتماع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تفاعل المباشر مع الاشخا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تفاعل غير المباشر من خلال وسائل الاعلام مثل الراديو والتلفزيون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 قراءة القصص و الروايات الدينية او الادب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 الشخصيات التاريخية و الاسطورية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981000"/>
            <a:ext cx="77724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eec94"/>
                </a:solidFill>
                <a:latin typeface="Times New Roman"/>
                <a:cs typeface="Arial"/>
              </a:rPr>
              <a:t>متطلبات التعلم الاجتماعي </a:t>
            </a:r>
            <a:br>
              <a:rPr sz="6000"/>
            </a:b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1</a:t>
            </a: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. الانتباة</a:t>
            </a:r>
            <a:br>
              <a:rPr sz="6000"/>
            </a:b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2</a:t>
            </a: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. الاحتفاظ</a:t>
            </a:r>
            <a:br>
              <a:rPr sz="6000"/>
            </a:b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3</a:t>
            </a: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.الانتاج</a:t>
            </a:r>
            <a:br>
              <a:rPr sz="6000"/>
            </a:b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4</a:t>
            </a: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. الدافع و الحوافز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17560" y="351000"/>
            <a:ext cx="6091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  <a:cs typeface="MCS FREEDOM"/>
              </a:rPr>
              <a:t>التطبيقات التربوية لنظرية التعلم الاجتماعي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8560" y="1757520"/>
            <a:ext cx="6467400" cy="4263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00"/>
                </a:solidFill>
                <a:latin typeface="Times New Roman"/>
              </a:rPr>
              <a:t>اولا: تنمية العادات و القيم و الاتجاهات لدى المتعلمين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00"/>
                </a:solidFill>
                <a:latin typeface="Times New Roman"/>
              </a:rPr>
              <a:t>ثانيا: تنمية المهارات الرياضية والفنية والحرف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00"/>
                </a:solidFill>
                <a:latin typeface="Times New Roman"/>
              </a:rPr>
              <a:t>ثالثا: تعديل السلوك لدى الافرادمن خلال الاجراءات الذاتية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ec94"/>
                </a:solidFill>
                <a:latin typeface="Times New Roman"/>
                <a:cs typeface="AdvertisingBold"/>
              </a:rPr>
              <a:t>محتويات الموضو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معرفة هدف النظر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المبادئ الاساسية لنظرية التعلم الاجتماع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نواتج التعلم بالملاحظ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مصادر التعلم الاجتماع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متطلبات التعلم الاجتماع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التطبيقات التربوية لنظرية التعلم الاجتماع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نظرية التعلم الاجتماعي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تعرف هذه النظرية باسم التعلم بالملاحظة والمحاكا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تعتبر حلقة الوصل بين النظريات السلوكية و النظرية المعرف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سؤال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هل يعتبر السلوك الخارجي محكا للحكم على التعلم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للاجابة على هذا السؤال نوضح العلاقة بين التعلم و الاداء: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الاداء (السلوك الخارجي ) ليس من الضروري ان يعكس التعلم الحقيقي للفرد لانة في كثير من الاحيان يتعلم الفرد الكثير من الانماط السلوكية و الخبرات ولكن هذه الخبرات لا تظهر بسلوك الفرد. اذن ( السلوك الخارجي ليس محكا للحكم على التعلي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304920"/>
            <a:ext cx="85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المبادئ الاساسية لنظرية التعلم الاجتماع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rot="20158800">
            <a:off x="964440" y="2276280"/>
            <a:ext cx="7263000" cy="1739880"/>
          </a:xfrm>
          <a:prstGeom prst="rect">
            <a:avLst/>
          </a:prstGeom>
          <a:solidFill>
            <a:srgbClr val="e9f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80808"/>
                </a:solidFill>
                <a:latin typeface="Abadi MT Condensed Light"/>
                <a:cs typeface="MCS ALMAALIM HIGH"/>
              </a:rPr>
              <a:t>يؤكد باندورا على وجود ثلاثة مبادئ اساسية تحكم على التعلم لدى الافراد وهي كما يلي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933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-914400" algn="ctr">
              <a:buClr>
                <a:srgbClr val="feec94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eec94"/>
                </a:solidFill>
                <a:latin typeface="Times New Roman"/>
                <a:cs typeface="MCS FREEDOM"/>
              </a:rPr>
              <a:t>العمليات الابدالية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  <a:ea typeface="MCS FREEDOM"/>
              </a:rPr>
              <a:t>Reciprocal Processe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640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شير هذا المبدأ على ان التعلم يتم من خلال النمذجة او المحاكا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وضيح : اى ان الخبرات التي   يتعلمها  الفرد من خلال الممارس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و التجربة المباشرة يمكن تعلمها على نحو بديلي يتمثل في ملاحظة سلوك الاخرين , الامر الذي  يثير الدافعية لدى الفرد لتعلم مثل هذا السلوك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ثــــــــــال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تعلم الفرد سلوك الخوف من الاشياء دون ان يكون له أي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خبرة مباشرة , وانما يكتسبها من ملاحظة سلوك الاخر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5880" y="466560"/>
            <a:ext cx="731196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العمليات المعرفية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gnitive Process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 يشير هذا المبدأ الى دور العمليات الداخلية كالاستدلال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 و التمثيل الرمزي و التوقع و الاعتقاد الذي يتوسط بين المثير و الاستجابة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 rot="19527000">
            <a:off x="826560" y="198576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eec94"/>
                </a:solidFill>
                <a:latin typeface="Times New Roman"/>
                <a:cs typeface="MCS RedSea S_U normal."/>
              </a:rPr>
              <a:t>كل سؤال من هذه الاسئلة يكشف عن صفتين أساسيتين في الانسان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8720" y="525240"/>
            <a:ext cx="74487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eec94"/>
                </a:solidFill>
                <a:latin typeface="Times New Roman"/>
                <a:ea typeface="MCS FREEDOM"/>
              </a:rPr>
              <a:t>3</a:t>
            </a:r>
            <a:r>
              <a:rPr b="0" lang="ar-SA" sz="6000" spc="-1" strike="noStrike">
                <a:solidFill>
                  <a:srgbClr val="feec94"/>
                </a:solidFill>
                <a:latin typeface="Times New Roman"/>
                <a:ea typeface="MCS FREEDOM"/>
              </a:rPr>
              <a:t>. عملية التنظيم الذاتي</a:t>
            </a:r>
            <a:r>
              <a:rPr b="0" lang="ar-SA" sz="4000" spc="-1" strike="noStrike">
                <a:solidFill>
                  <a:srgbClr val="feec94"/>
                </a:solidFill>
                <a:latin typeface="Times New Roman"/>
                <a:ea typeface="MCS FREEDOM"/>
              </a:rPr>
              <a:t>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6842160" cy="5300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</a:rPr>
              <a:t>يشير هذا المبدأ الى ان الافراد قادرون على تنظيم سلوكهم في ضوء النتائج التي يتوقعونها .ووفقا لهذا المبدأ فان الافراد قادرون على اعادة تنظيم السلوك وتنويعة وفقا للنتائج التي يحددونها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</a:rPr>
              <a:t>مثــــــــــال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m</cp:lastModifiedBy>
  <dcterms:modified xsi:type="dcterms:W3CDTF">2012-10-03T20:28:26Z</dcterms:modified>
  <cp:revision>254</cp:revision>
  <dc:subject/>
  <dc:title>عرض تقديمي من PowerPoint</dc:title>
</cp:coreProperties>
</file>