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explode.wav" ContentType="audio/x-wav"/>
  <Override PartName="/ppt/media/drumroll.wav" ContentType="audio/x-wav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B5D1-D7B5-47FC-8559-CF2467D8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C88-2AF0-4107-BD62-9F2E4320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8A4-D58E-4FF1-B663-209ADDF0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CF6C-EEBC-44FA-A1A0-79C04B87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8D4D-A795-4FD1-91DC-640AEEB9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5859-A7B8-4247-AF74-61B5FCCB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0E4F-6056-41FE-AC99-45E4BC1D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1A3A-944E-44D9-A5C7-B986CAA2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F7AD-2C35-42F9-8FDD-26C41E7E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611B-E478-4F47-B8D5-DD34F750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6AFC-E931-439B-8FD4-06A1BB4B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28F-9CF5-4345-981F-8524FA67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4475-1C7D-404A-8FCE-45B53734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AC23-C63E-42E8-BF32-25FD9C0F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AC88-05E0-4107-B18C-F23A05EF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D790-D246-46DC-B14D-7E68A8ED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AA18-A721-4A3B-A990-926F017C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8FE-F517-434F-A6D4-9DACD6C9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D13B-B489-400D-A9C6-455996EE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C05-F33E-4131-9989-972F66E9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C6B7-EF66-433C-A1EC-BD30A341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D8BA-B849-4E4E-94CC-269BA2CB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4F42-5B5B-462C-AA81-7CA32291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947-81C8-4595-9A54-89B36C7A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cs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4A6A-6101-45A4-95F4-1513561D35D7}" type="datetime">
              <a:rPr b="0" lang="ar-SA" sz="1400" spc="-1" strike="noStrike">
                <a:solidFill>
                  <a:srgbClr val="ffffff"/>
                </a:solidFill>
                <a:latin typeface="Times New Roman"/>
                <a:cs typeface="Arial"/>
              </a:rPr>
              <a:t>١٤٤٨/٠٢/١٤</a:t>
            </a:fld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fld id="{DDB556F7-E1AD-41F7-BA54-DF318F7E6E43}" type="datetime10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14: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1669-5B74-4E83-8C40-5AAF568334AC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cs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B779-78D2-4564-869B-0B49F819114D}" type="datetime">
              <a:rPr b="0" lang="ar-SA" sz="1400" spc="-1" strike="noStrike">
                <a:solidFill>
                  <a:srgbClr val="ffffff"/>
                </a:solidFill>
                <a:latin typeface="Times New Roman"/>
                <a:cs typeface="Arial"/>
              </a:rPr>
              <a:t>١٤٤٨/٠٢/١٤</a:t>
            </a:fld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fld id="{1A7D3588-5352-4C5C-ABF7-C4906C9CE4E5}" type="datetime10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14:2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1501-19DB-48B1-9187-4747F390C319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explode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eec94"/>
                </a:solidFill>
                <a:latin typeface="Times New Roman"/>
                <a:cs typeface="AdvertisingBold"/>
              </a:rPr>
              <a:t>نظرية التعلم الاجتماعي</a:t>
            </a:r>
            <a:br>
              <a:rPr sz="4800"/>
            </a:br>
            <a:r>
              <a:rPr b="0" lang="en-US" sz="4800" spc="-1" strike="noStrike">
                <a:solidFill>
                  <a:srgbClr val="feec94"/>
                </a:solidFill>
                <a:latin typeface="Times New Roman"/>
                <a:ea typeface="AdvertisingBold"/>
              </a:rPr>
              <a:t>Social Learning Theory</a:t>
            </a:r>
            <a:br>
              <a:rPr sz="4800"/>
            </a:br>
            <a:r>
              <a:rPr b="0" lang="ar-SA" sz="4800" spc="-1" strike="noStrike">
                <a:solidFill>
                  <a:srgbClr val="feec94"/>
                </a:solidFill>
                <a:latin typeface="Times New Roman"/>
                <a:cs typeface="AdvertisingBold"/>
              </a:rPr>
              <a:t>البرت باندورا</a:t>
            </a:r>
            <a:r>
              <a:rPr b="0" lang="ar-SA" sz="4800" spc="-1" strike="noStrike">
                <a:solidFill>
                  <a:srgbClr val="feec94"/>
                </a:solidFill>
                <a:latin typeface="Times New Roman"/>
                <a:ea typeface="AdvertisingBold"/>
              </a:rPr>
              <a:t>(</a:t>
            </a:r>
            <a:r>
              <a:rPr b="0" lang="en-US" sz="4800" spc="-1" strike="noStrike">
                <a:solidFill>
                  <a:srgbClr val="feec94"/>
                </a:solidFill>
                <a:latin typeface="Times New Roman"/>
                <a:ea typeface="AdvertisingBold"/>
              </a:rPr>
              <a:t>Bandura</a:t>
            </a:r>
            <a:r>
              <a:rPr b="0" lang="ar-SA" sz="4800" spc="-1" strike="noStrike">
                <a:solidFill>
                  <a:srgbClr val="feec94"/>
                </a:solidFill>
                <a:latin typeface="Times New Roman"/>
                <a:ea typeface="AdvertisingBold"/>
              </a:rPr>
              <a:t>)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2708280"/>
            <a:ext cx="1660320" cy="2600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71640" y="2997360"/>
            <a:ext cx="595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10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spcBef>
                <a:spcPts val="16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ff"/>
                </a:solidFill>
                <a:latin typeface="Times New Roman"/>
              </a:rPr>
              <a:t>نواتــــــــــج التعلم بالملاحظة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 algn="r" rtl="1"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تعلم سلوك جديد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 algn="r" rtl="1"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كف او تحرير سلو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 algn="r" rtl="1"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تسهيل ظهور سلو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560" y="762120"/>
            <a:ext cx="85690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 algn="r" rtl="1">
              <a:lnSpc>
                <a:spcPct val="90000"/>
              </a:lnSpc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</a:rPr>
              <a:t>مصادر التعلم الاجتماعي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لتفاعل المباشر مع الاشخا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لتفاعل غير المباشر من خلال وسائل الاعلام مثل الراديو والتلفزيون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. قراءة القصص و الروايات الدينية او الادب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. الشخصيات التاريخية و الاسطورية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0" algn="r" rtl="1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981000"/>
            <a:ext cx="77724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eec94"/>
                </a:solidFill>
                <a:latin typeface="Times New Roman"/>
                <a:cs typeface="Arial"/>
              </a:rPr>
              <a:t>متطلبات التعلم الاجتماعي </a:t>
            </a:r>
            <a:br>
              <a:rPr sz="6000"/>
            </a:br>
            <a:r>
              <a:rPr b="1" lang="ar-SA" sz="6000" spc="-1" strike="noStrike">
                <a:solidFill>
                  <a:srgbClr val="feec94"/>
                </a:solidFill>
                <a:latin typeface="Times New Roman"/>
                <a:ea typeface="Arial"/>
              </a:rPr>
              <a:t>1</a:t>
            </a:r>
            <a:r>
              <a:rPr b="1" lang="ar-SA" sz="6000" spc="-1" strike="noStrike">
                <a:solidFill>
                  <a:srgbClr val="feec94"/>
                </a:solidFill>
                <a:latin typeface="Times New Roman"/>
                <a:ea typeface="Arial"/>
              </a:rPr>
              <a:t>. الانتباة</a:t>
            </a:r>
            <a:br>
              <a:rPr sz="6000"/>
            </a:br>
            <a:r>
              <a:rPr b="1" lang="ar-SA" sz="6000" spc="-1" strike="noStrike">
                <a:solidFill>
                  <a:srgbClr val="feec94"/>
                </a:solidFill>
                <a:latin typeface="Times New Roman"/>
                <a:ea typeface="Arial"/>
              </a:rPr>
              <a:t>2</a:t>
            </a:r>
            <a:r>
              <a:rPr b="1" lang="ar-SA" sz="6000" spc="-1" strike="noStrike">
                <a:solidFill>
                  <a:srgbClr val="feec94"/>
                </a:solidFill>
                <a:latin typeface="Times New Roman"/>
                <a:ea typeface="Arial"/>
              </a:rPr>
              <a:t>. الاحتفاظ</a:t>
            </a:r>
            <a:br>
              <a:rPr sz="6000"/>
            </a:br>
            <a:r>
              <a:rPr b="1" lang="ar-SA" sz="6000" spc="-1" strike="noStrike">
                <a:solidFill>
                  <a:srgbClr val="feec94"/>
                </a:solidFill>
                <a:latin typeface="Times New Roman"/>
                <a:ea typeface="Arial"/>
              </a:rPr>
              <a:t>3</a:t>
            </a:r>
            <a:r>
              <a:rPr b="1" lang="ar-SA" sz="6000" spc="-1" strike="noStrike">
                <a:solidFill>
                  <a:srgbClr val="feec94"/>
                </a:solidFill>
                <a:latin typeface="Times New Roman"/>
                <a:ea typeface="Arial"/>
              </a:rPr>
              <a:t>.الانتاج</a:t>
            </a:r>
            <a:br>
              <a:rPr sz="6000"/>
            </a:br>
            <a:r>
              <a:rPr b="1" lang="ar-SA" sz="6000" spc="-1" strike="noStrike">
                <a:solidFill>
                  <a:srgbClr val="feec94"/>
                </a:solidFill>
                <a:latin typeface="Times New Roman"/>
                <a:ea typeface="Arial"/>
              </a:rPr>
              <a:t>4</a:t>
            </a:r>
            <a:r>
              <a:rPr b="1" lang="ar-SA" sz="6000" spc="-1" strike="noStrike">
                <a:solidFill>
                  <a:srgbClr val="feec94"/>
                </a:solidFill>
                <a:latin typeface="Times New Roman"/>
                <a:ea typeface="Arial"/>
              </a:rPr>
              <a:t>. الدافع و الحوافز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17560" y="351000"/>
            <a:ext cx="6091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eec94"/>
                </a:solidFill>
                <a:latin typeface="Times New Roman"/>
                <a:cs typeface="MCS FREEDOM"/>
              </a:rPr>
              <a:t>التطبيقات التربوية لنظرية التعلم الاجتماعي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58560" y="1757520"/>
            <a:ext cx="6467400" cy="4263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00"/>
                </a:solidFill>
                <a:latin typeface="Times New Roman"/>
              </a:rPr>
              <a:t>اولا: تنمية العادات و القيم و الاتجاهات لدى المتعلمين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00"/>
                </a:solidFill>
                <a:latin typeface="Times New Roman"/>
              </a:rPr>
              <a:t>ثانيا: تنمية المهارات الرياضية والفنية والحرف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 algn="ct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00"/>
                </a:solidFill>
                <a:latin typeface="Times New Roman"/>
              </a:rPr>
              <a:t>ثالثا: تعديل السلوك لدى الافرادمن خلال الاجراءات الذاتية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eec94"/>
                </a:solidFill>
                <a:latin typeface="Times New Roman"/>
                <a:cs typeface="AdvertisingBold"/>
              </a:rPr>
              <a:t>محتويات الموضو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معرفة هدف النظر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المبادئ الاساسية لنظرية التعلم الاجتماع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نواتج التعلم بالملاحظ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مصادر التعلم الاجتماعي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متطلبات التعلم الاجتماعي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التطبيقات التربوية لنظرية التعلم الاجتماعي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ct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نظرية التعلم الاجتماعي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تعرف هذه النظرية باسم التعلم بالملاحظة والمحاكا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تعتبر حلقة الوصل بين النظريات السلوكية و النظرية المعرفي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r" rtl="1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سؤال 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ea typeface="AdvertisingMedium"/>
              </a:rPr>
              <a:t> هل يعتبر السلوك الخارجي محكا للحكم على التعلم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ea typeface="AdvertisingMedium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للاجابة على هذا السؤال نوضح العلاقة بين التعلم و الاداء:</a:t>
            </a:r>
            <a:r>
              <a:rPr b="0" lang="ar-SA" sz="4400" spc="-1" strike="noStrike">
                <a:solidFill>
                  <a:srgbClr val="ffffff"/>
                </a:solidFill>
                <a:latin typeface="Times New Roman"/>
                <a:ea typeface="AdvertisingMedium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AdvertisingMedium"/>
              </a:rPr>
              <a:t>الاداء (السلوك الخارجي ) ليس من الضروري ان يعكس التعلم الحقيقي للفرد لانة في كثير من الاحيان يتعلم الفرد الكثير من الانماط السلوكية و الخبرات ولكن هذه الخبرات لا تظهر بسلوك الفرد. اذن ( السلوك الخارجي ليس محكا للحكم على التعليم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1280" y="304920"/>
            <a:ext cx="8532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Times New Roman"/>
                <a:ea typeface="AdvertisingMedium"/>
              </a:rPr>
              <a:t> المبادئ الاساسية لنظرية التعلم الاجتماعي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rot="20158800">
            <a:off x="964440" y="2276280"/>
            <a:ext cx="7263000" cy="1739880"/>
          </a:xfrm>
          <a:prstGeom prst="rect">
            <a:avLst/>
          </a:prstGeom>
          <a:solidFill>
            <a:srgbClr val="e9f7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80808"/>
                </a:solidFill>
                <a:latin typeface="Abadi MT Condensed Light"/>
                <a:cs typeface="MCS ALMAALIM HIGH"/>
              </a:rPr>
              <a:t>يؤكد باندورا على وجود ثلاثة مبادئ اساسية تحكم على التعلم لدى الافراد وهي كما يلي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6933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-914400" algn="ctr">
              <a:buClr>
                <a:srgbClr val="feec94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eec94"/>
                </a:solidFill>
                <a:latin typeface="Times New Roman"/>
                <a:cs typeface="MCS FREEDOM"/>
              </a:rPr>
              <a:t>العمليات الابدالية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  <a:ea typeface="MCS FREEDOM"/>
              </a:rPr>
              <a:t>Reciprocal Processes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2205000"/>
            <a:ext cx="9144000" cy="64087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يشير هذا المبدأ على ان التعلم يتم من خلال النمذجة او المحاكاة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توضيح : اى ان الخبرات التي   يتعلمها  الفرد من خلال الممارسة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و التجربة المباشرة يمكن تعلمها على نحو بديلي يتمثل في ملاحظة سلوك الاخرين , الامر الذي  يثير الدافعية لدى الفرد لتعلم مثل هذا السلوك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مثــــــــــال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يتعلم الفرد سلوك الخوف من الاشياء دون ان يكون له أي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خبرة مباشرة , وانما يكتسبها من ملاحظة سلوك الاخري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5880" y="466560"/>
            <a:ext cx="731196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2</a:t>
            </a:r>
            <a:r>
              <a:rPr b="1" lang="ar-SA" sz="3600" spc="-1" strike="noStrike">
                <a:solidFill>
                  <a:srgbClr val="feec94"/>
                </a:solidFill>
                <a:latin typeface="Times New Roman"/>
              </a:rPr>
              <a:t>. </a:t>
            </a:r>
            <a:r>
              <a:rPr b="1" lang="ar-SA" sz="5400" spc="-1" strike="noStrike">
                <a:solidFill>
                  <a:srgbClr val="feec94"/>
                </a:solidFill>
                <a:latin typeface="Times New Roman"/>
              </a:rPr>
              <a:t>العمليات المعرفية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ognitive Process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dvertisingMedium"/>
              </a:rPr>
              <a:t>  يشير هذا المبدأ الى دور العمليات الداخلية كالاستدلال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dvertisingMedium"/>
              </a:rPr>
              <a:t>  و التمثيل الرمزي و التوقع و الاعتقاد الذي يتوسط بين المثير و الاستجابة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 rot="19527000">
            <a:off x="826560" y="198576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eec94"/>
                </a:solidFill>
                <a:latin typeface="Times New Roman"/>
                <a:cs typeface="MCS RedSea S_U normal."/>
              </a:rPr>
              <a:t>كل سؤال من هذه الاسئلة يكشف عن صفتين أساسيتين في الانسان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8720" y="525240"/>
            <a:ext cx="74487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SA" sz="4000" spc="-1" strike="noStrike">
                <a:solidFill>
                  <a:srgbClr val="feec94"/>
                </a:solidFill>
                <a:latin typeface="Times New Roman"/>
                <a:ea typeface="MCS FREEDOM"/>
              </a:rPr>
              <a:t>3</a:t>
            </a:r>
            <a:r>
              <a:rPr b="0" lang="ar-SA" sz="6000" spc="-1" strike="noStrike">
                <a:solidFill>
                  <a:srgbClr val="feec94"/>
                </a:solidFill>
                <a:latin typeface="Times New Roman"/>
                <a:ea typeface="MCS FREEDOM"/>
              </a:rPr>
              <a:t>. عملية التنظيم الذاتي</a:t>
            </a:r>
            <a:r>
              <a:rPr b="0" lang="ar-SA" sz="4000" spc="-1" strike="noStrike">
                <a:solidFill>
                  <a:srgbClr val="feec94"/>
                </a:solidFill>
                <a:latin typeface="Times New Roman"/>
                <a:ea typeface="MCS FREEDOM"/>
              </a:rPr>
              <a:t>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8920" y="1557360"/>
            <a:ext cx="6842160" cy="5300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ffcc"/>
                </a:solidFill>
                <a:latin typeface="Times New Roman"/>
              </a:rPr>
              <a:t>يشير هذا المبدأ الى ان الافراد قادرون على تنظيم سلوكهم في ضوء النتائج التي يتوقعونها .ووفقا لهذا المبدأ فان الافراد قادرون على اعادة تنظيم السلوك وتنويعة وفقا للنتائج التي يحددونها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ctr" rtl="1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ffcc"/>
                </a:solidFill>
                <a:latin typeface="Times New Roman"/>
              </a:rPr>
              <a:t>مثــــــــــال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ctr" rtl="1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ctr" rtl="1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m</cp:lastModifiedBy>
  <dcterms:modified xsi:type="dcterms:W3CDTF">2012-10-03T20:28:26Z</dcterms:modified>
  <cp:revision>254</cp:revision>
  <dc:subject/>
  <dc:title>عرض تقديمي من PowerPoint</dc:title>
</cp:coreProperties>
</file>