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2495B-1424-450A-9D5B-2863A8BF5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3D90F-C006-4903-AE71-46B5902AF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6132F-D44D-4738-93CC-3DAD4B9E7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7CE75-0442-4F84-B6EF-CE8864FB2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7C9EE4-5C0B-4069-B2B5-C4EAC5E0EB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93CE9-DC0A-44E4-98BC-011719034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25881-A462-4908-99BD-E80C5A0EA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F4BC5-B123-452C-A283-1C2770754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BAB5E-48DF-499B-9DD3-5E1CB678E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A8042-04F9-4C22-ABA4-5864C9636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88D0F-7FA2-424B-92C6-A5946A7FA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45A7C-5DC4-4F9F-9644-A2472BC6C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0F5DC-79DD-491D-AD87-10FDA372C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D4C3D-426A-417D-8D8B-89B083824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EB640-E25B-4CAF-B793-37106B0C4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29BE1A-5B76-4524-9EBA-F8B10E141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D2B501-3255-468B-864D-54C841AF1F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82F43F8-E96E-427C-BDEB-3207F691C8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F8CB906-93B8-4C68-BE7D-6448A30D0A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46B61F6-859B-4AF3-B0E7-8B6311CD13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FEE7A56-1982-49FF-91BC-489C76F74A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A6E7DB6-6585-471C-BE9E-A733405B8C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A6166-8299-40DD-B30B-D895109DC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BD6DAA6-3D49-4F4A-A5BF-5839CA4D31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F56612E-0FCE-4B2B-AB45-27E0FCB27E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81CF192-943B-4F93-AD65-968A87D1C3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69B0AD7-709F-45E8-B525-1E749C1C6E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BE54395-7AB3-446B-9671-EE6FF950C2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0EEAB99-2D8F-462C-9FA9-0DBFE546F5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CDAA5F3-F0E9-4964-B70D-269BDE26D4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C504344-241A-48A5-BE5B-B37A21E8C2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79BBD1E-1823-488D-99BD-2D0164493C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0388CFA-F7A1-4C69-AD39-DEFDCE38AD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28131-FE45-4C37-AE48-E11828C3B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6F061EA-E523-4134-B906-1AEE8649E7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C0586EA-74F8-47BC-977B-DF22AA2D73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7A8EF4A-2701-4366-B7DD-79724FCCD2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842215E-6F68-4229-862D-44CFE80FFD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03C5571-75C1-4852-A738-6FA59C6C14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109E991-86FC-4D63-A3FD-0AF7B52880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681DF95-FE69-4144-A21A-00FDC1C028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530F007-1739-4157-876F-AAF7439525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BC3F4D5-7F2F-48AD-BB81-73E57C6430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CC1E45A-51AE-4F33-BE6C-6EEEA48712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70057-D43C-41BF-AA51-4852BA7C1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F4078ED-9E0A-40F0-A789-51AFA0BA27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4C4D9A4-2818-48CB-9C4F-B970549559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D006933-C485-488E-9479-6AC722AE44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36E7A0B-3840-45F0-A731-5B36C782D5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E148045-2FBC-4ACC-8469-9EDF3ADB7C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0C32AE2-E55E-4C90-9E2C-0FEC949C3F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A091DD2-E711-4D69-8CAC-6D414B6CBD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8409CB0-7381-4E4F-A926-9AF9252289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28A72A0-04A4-4A82-B9C0-67CA244157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1F6B3E3-B9E1-4406-AAF0-06A44BFFEE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56CE3-1038-46FA-B64F-6F85B4F72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210226E-1819-4899-A04D-EF7135947A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666EA4-C6EB-47D2-BC19-365C0B568B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8E7C55-AAE0-4A70-AC86-76440F46CE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5B7D46-3EF4-4137-8719-49D8DE95AC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2FDF93-5315-46EF-ACA9-9685AB971C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899519-DC40-453B-BA7C-35D2AEFE0A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678902-B565-4BC9-822D-F4656A2ED0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3568E9-61B6-426B-8D4D-12180137EF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363876-CE50-4330-9FA3-EFF0D1ECC2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CD3C50-9EE7-451E-B6C4-1BD92933AD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09F49-315F-4529-9CA3-893E79696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1F6A86-A5D5-4968-8D1E-3B557A4E88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F3E517-FE02-4757-A420-4DE195ECFF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63E959-D0B7-457E-B477-CFA707AB08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A3648C4-ED79-4C92-800D-E6ACB21DE1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7905110-B140-40BB-AA38-1E3F2723A2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E2F231A-8BFB-4BA5-8EA1-33CA099A6C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05526B6-9FCE-40E7-8AF0-287BC474C7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E148134-03D8-4FA9-B40D-69788E88B3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3CA50E5-7A04-48B4-AA94-87F2003CAD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82BD766-2CC5-4EC0-AB73-C2641B67D0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90D30-9530-4736-95B5-E62728AAE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1B295FD-FFB0-44CB-BC34-09A3B192D4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36120DC-F122-4696-B28D-06C83F539F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827DAA1-2BA6-4AEA-B665-66CBF92AEC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61101E9-0DB0-4E43-AC82-710F55CB6D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CBF14CA-C73B-4959-AEFA-CCEC49EA30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ADEF27-19B7-4813-94EF-A5218009EE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E4322B-38BE-43DD-9B8F-9B27F97190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D7FD45-C377-41A9-BDE4-F83784D12B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C2DAA3-AF2C-4E4D-9F3B-106971AD9F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7536DF-8C73-47BB-B53E-05E83FE2C8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0F105-9342-42EE-A07F-6018058ED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EEC2C5-2C1B-4F82-9AA0-69FCAC91FF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9FA7D7-B8FC-4355-9F97-96D0297855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8606BF-B6B4-4F3B-B375-5B2A91ECB3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1440B6-A8AD-4F6C-BC61-1142D02EFC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CB1D66-6490-4482-A79B-E19CBBE29B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C5F07A-F0A7-4A25-B632-FF2FBDA98C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830CD2-9C67-40FF-B9E4-EDAA81C08BA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w Cen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45F04-28D1-4053-84DD-51987C6F9F21}" type="slidenum">
              <a:rPr b="1" lang="ar-SA" sz="1400" spc="-1" strike="noStrike">
                <a:solidFill>
                  <a:srgbClr val="ffffff"/>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fffff"/>
                </a:solidFill>
                <a:latin typeface="Tw Cen MT"/>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w Cen MT"/>
              </a:rPr>
              <a:t>&lt;date/time&gt;</a:t>
            </a:r>
            <a:endParaRPr b="0" lang="en-US" sz="20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ebddc3"/>
                </a:solidFill>
                <a:latin typeface="Tw Cen MT"/>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A4A3-2D7A-4FCD-B6DC-AC2A685C78A2}" type="slidenum">
              <a:rPr b="1" lang="ar-SA" sz="1400" spc="-1" strike="noStrike">
                <a:solidFill>
                  <a:srgbClr val="ebddc3"/>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w Cen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ffffff"/>
                </a:solidFill>
                <a:latin typeface="Tw Cen MT"/>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F497A-9803-4AFB-A5A7-3A2C63C4E46B}" type="slidenum">
              <a:rPr b="1" lang="ar-SA" sz="2400" spc="-1" strike="noStrike">
                <a:solidFill>
                  <a:srgbClr val="ffffff"/>
                </a:solidFill>
                <a:latin typeface="Tw Cen MT"/>
              </a:rPr>
              <a:t>&lt;number&gt;</a:t>
            </a:fld>
            <a:endParaRPr b="0" lang="en-US" sz="2400" spc="-1" strike="noStrike">
              <a:solidFill>
                <a:srgbClr val="000000"/>
              </a:solidFill>
              <a:latin typeface="Arial"/>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w Cen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302A8-DAD3-41CC-9DEB-02842E6E86AE}" type="slidenum">
              <a:rPr b="1" lang="ar-SA" sz="1400" spc="-1" strike="noStrike">
                <a:solidFill>
                  <a:srgbClr val="ffffff"/>
                </a:solidFill>
                <a:latin typeface="Tw Cen MT"/>
              </a:rPr>
              <a:t>&lt;number&gt;</a:t>
            </a:fld>
            <a:endParaRPr b="0" lang="en-US" sz="1400" spc="-1" strike="noStrike">
              <a:solidFill>
                <a:srgbClr val="000000"/>
              </a:solidFill>
              <a:latin typeface="Arial"/>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w Cen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6B4DD-D95F-4D11-A2BB-6EE46A2FE552}" type="slidenum">
              <a:rPr b="1" lang="ar-SA" sz="1400" spc="-1" strike="noStrike">
                <a:solidFill>
                  <a:srgbClr val="ffffff"/>
                </a:solidFill>
                <a:latin typeface="Tw Cen MT"/>
              </a:rPr>
              <a:t>&lt;number&gt;</a:t>
            </a:fld>
            <a:endParaRPr b="0" lang="en-US" sz="1400" spc="-1" strike="noStrike">
              <a:solidFill>
                <a:srgbClr val="000000"/>
              </a:solidFill>
              <a:latin typeface="Arial"/>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w Cen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775f55"/>
                </a:solidFill>
                <a:latin typeface="Tw Cen MT"/>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5D04E-9DB5-462D-9ADD-95A2B810C949}" type="slidenum">
              <a:rPr b="1" lang="ar-SA" sz="1400" spc="-1" strike="noStrike">
                <a:solidFill>
                  <a:srgbClr val="775f55"/>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w Cen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800" spc="-1" strike="noStrike">
                <a:solidFill>
                  <a:srgbClr val="ffffff"/>
                </a:solidFill>
                <a:latin typeface="Tw Cen MT"/>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B1DE3-7866-4B38-BCB5-2B25AFE76192}" type="slidenum">
              <a:rPr b="1" lang="ar-SA" sz="2800" spc="-1" strike="noStrike">
                <a:solidFill>
                  <a:srgbClr val="ffffff"/>
                </a:solidFill>
                <a:latin typeface="Tw Cen MT"/>
              </a:rPr>
              <a:t>&lt;number&gt;</a:t>
            </a:fld>
            <a:endParaRPr b="0" lang="en-US" sz="2800" spc="-1" strike="noStrike">
              <a:solidFill>
                <a:srgbClr val="000000"/>
              </a:solidFill>
              <a:latin typeface="Arial"/>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w Cen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2C852-9099-4320-9BEA-CBA709DB40E4}" type="slidenum">
              <a:rPr b="1" lang="ar-SA" sz="1400" spc="-1" strike="noStrike">
                <a:solidFill>
                  <a:srgbClr val="ffffff"/>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4.wmf"/><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5f55"/>
                </a:solidFill>
                <a:latin typeface="Tw Cen MT"/>
              </a:rPr>
              <a:t>نظرية روجرز: المفاهيم الأساسية</a:t>
            </a:r>
            <a:br>
              <a:rPr sz="4400"/>
            </a:br>
            <a:endParaRPr b="0" lang="en-US" sz="4400" spc="-1" strike="noStrike">
              <a:solidFill>
                <a:srgbClr val="775f55"/>
              </a:solidFill>
              <a:latin typeface="Tw Cen MT"/>
            </a:endParaRPr>
          </a:p>
        </p:txBody>
      </p:sp>
      <p:sp>
        <p:nvSpPr>
          <p:cNvPr id="351" name=""/>
          <p:cNvSpPr txBox="1"/>
          <p:nvPr/>
        </p:nvSpPr>
        <p:spPr>
          <a:xfrm>
            <a:off x="612720" y="1600200"/>
            <a:ext cx="8153280" cy="4495680"/>
          </a:xfrm>
          <a:prstGeom prst="rect">
            <a:avLst/>
          </a:prstGeom>
          <a:noFill/>
          <a:ln w="0">
            <a:noFill/>
          </a:ln>
        </p:spPr>
        <p:txBody>
          <a:bodyPr anchor="t">
            <a:normAutofit fontScale="94000"/>
          </a:bodyPr>
          <a:p>
            <a:pPr marL="299520" indent="-29952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الذات</a:t>
            </a:r>
            <a:r>
              <a:rPr b="0" lang="ar-SA" sz="2900" spc="-1" strike="noStrike">
                <a:solidFill>
                  <a:srgbClr val="000000"/>
                </a:solidFill>
                <a:latin typeface="Tw Cen MT"/>
              </a:rPr>
              <a:t>/ يعتبر الجوهر نظرية روجرز ويتشكل من الأحداث التي يمربها الفرد مثال/ طفل يمتنع عن ممارسة أعمال في ركن الفن ويطلق على نفسه (أنا غير قادر – أنا لا اعرف) ← (نظرة سلبية عن الذات).</a:t>
            </a:r>
            <a:endParaRPr b="0" lang="en-US" sz="2900" spc="-1" strike="noStrike">
              <a:solidFill>
                <a:srgbClr val="000000"/>
              </a:solidFill>
              <a:latin typeface="Tw Cen MT"/>
            </a:endParaRPr>
          </a:p>
          <a:p>
            <a:pPr marL="299520" indent="-29952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الشعور</a:t>
            </a:r>
            <a:r>
              <a:rPr b="0" lang="ar-SA" sz="2900" spc="-1" strike="noStrike">
                <a:solidFill>
                  <a:srgbClr val="000000"/>
                </a:solidFill>
                <a:latin typeface="Tw Cen MT"/>
              </a:rPr>
              <a:t>/ أن الفرد يمتلك القدرة والسيطرة على أفعاله وانه يدرك ماحوله مثال/ أن الطفل الذي تتغيب عن الروضة معلمته يدرك الوضع الحالي بالفصل وبذلك يكون قادر على السيطرة على أفعاله من خلال تمثيل الخبرات السابقة واللاحقة لتربيه ذاته.</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775f55"/>
                </a:solidFill>
                <a:latin typeface="Tw Cen MT"/>
              </a:rPr>
              <a:t>اسلوب لاغالب ولامغلوب:</a:t>
            </a:r>
            <a:br>
              <a:rPr sz="4400"/>
            </a:b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fontScale="92000"/>
          </a:bodyPr>
          <a:p>
            <a:pPr marL="293400" indent="-2934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يدعو هذا الاسلوب المربي والطفل الى اتخاذ قرارات مشتركة لحل المشاكل حيث ان اشتراك الطفل يضمن مشاركته في تنفيذها وفي هذا الاسلوب يأخذ بعين الاعتبار حاجات الطفل يعبر الطفل عن ثقته بتنفيذ قرارته.</a:t>
            </a:r>
            <a:endParaRPr b="0" lang="en-US" sz="2900" spc="-1" strike="noStrike">
              <a:solidFill>
                <a:srgbClr val="000000"/>
              </a:solidFill>
              <a:latin typeface="Tw Cen MT"/>
            </a:endParaRPr>
          </a:p>
          <a:p>
            <a:pPr marL="293400" indent="-2934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مع أسلوب لا غالب ولا مغلوب المربية لا تعتبر الخلاف بينها وبين الأطفال صراع بل موقف يُهيئ للأطفال فرصة للتعلم وايجاد الحلول التي ترضي الجميع</a:t>
            </a:r>
            <a:endParaRPr b="0" lang="en-US" sz="2900" spc="-1" strike="noStrike">
              <a:solidFill>
                <a:srgbClr val="000000"/>
              </a:solidFill>
              <a:latin typeface="Tw Cen MT"/>
            </a:endParaRPr>
          </a:p>
          <a:p>
            <a:pPr marL="293400" indent="-2934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هنا تحصل المعلمة على تعاون الأطفال</a:t>
            </a:r>
            <a:endParaRPr b="0" lang="en-US" sz="2900" spc="-1" strike="noStrike">
              <a:solidFill>
                <a:srgbClr val="000000"/>
              </a:solidFill>
              <a:latin typeface="Tw Cen MT"/>
            </a:endParaRPr>
          </a:p>
          <a:p>
            <a:pPr marL="293400" indent="-2934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تتقبل المعلمة مشاعرهم ويتقبلون مشاعرها</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0" name=""/>
          <p:cNvGraphicFramePr/>
          <p:nvPr/>
        </p:nvGraphicFramePr>
        <p:xfrm>
          <a:off x="0" y="981000"/>
          <a:ext cx="9144000" cy="5546880"/>
        </p:xfrm>
        <a:graphic>
          <a:graphicData uri="http://schemas.openxmlformats.org/drawingml/2006/table">
            <a:tbl>
              <a:tblPr/>
              <a:tblGrid>
                <a:gridCol w="1127160"/>
                <a:gridCol w="703080"/>
                <a:gridCol w="914400"/>
                <a:gridCol w="914400"/>
                <a:gridCol w="914400"/>
                <a:gridCol w="914400"/>
                <a:gridCol w="916200"/>
                <a:gridCol w="1006560"/>
                <a:gridCol w="974520"/>
                <a:gridCol w="758880"/>
              </a:tblGrid>
              <a:tr h="1077840">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r>
              <a:tr h="893880">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rPr>
                        <a:t>السبت</a:t>
                      </a:r>
                      <a:endParaRPr b="0" lang="en-US" sz="11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893880">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rPr>
                        <a:t>الاحد</a:t>
                      </a:r>
                      <a:endParaRPr b="0" lang="en-US" sz="11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893520">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rPr>
                        <a:t>الأثنين</a:t>
                      </a:r>
                      <a:endParaRPr b="0" lang="en-US" sz="11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893880">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rPr>
                        <a:t>الثلاثاء</a:t>
                      </a:r>
                      <a:endParaRPr b="0" lang="en-US" sz="11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893880">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40320" rIns="4032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alibri"/>
                        </a:rPr>
                        <a:t>الأربعاء</a:t>
                      </a:r>
                      <a:endParaRPr b="0" lang="en-US" sz="1100" spc="-1" strike="noStrike">
                        <a:solidFill>
                          <a:srgbClr val="000000"/>
                        </a:solidFill>
                        <a:latin typeface="Arial"/>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r>
            </a:tbl>
          </a:graphicData>
        </a:graphic>
      </p:graphicFrame>
      <p:sp>
        <p:nvSpPr>
          <p:cNvPr id="371" name="WordArt 1921"/>
          <p:cNvSpPr txBox="1"/>
          <p:nvPr/>
        </p:nvSpPr>
        <p:spPr>
          <a:xfrm>
            <a:off x="6372360" y="1844640"/>
            <a:ext cx="904680" cy="2541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Tahoma"/>
              </a:rPr>
              <a:t>اللعب الحر في الاركان</a:t>
            </a:r>
            <a:endParaRPr b="0" lang="en-US" sz="1800" spc="1" strike="noStrike">
              <a:ln w="9360">
                <a:solidFill>
                  <a:srgbClr val="000000"/>
                </a:solidFill>
                <a:miter/>
              </a:ln>
              <a:solidFill>
                <a:srgbClr val="000000"/>
              </a:solidFill>
              <a:latin typeface="Tahoma"/>
              <a:ea typeface="Tahoma"/>
            </a:endParaRPr>
          </a:p>
        </p:txBody>
      </p:sp>
      <p:sp>
        <p:nvSpPr>
          <p:cNvPr id="372" name="WordArt 1919"/>
          <p:cNvSpPr txBox="1"/>
          <p:nvPr/>
        </p:nvSpPr>
        <p:spPr>
          <a:xfrm>
            <a:off x="4788000" y="1773360"/>
            <a:ext cx="404640" cy="234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Tahoma"/>
              </a:rPr>
              <a:t>الوجبة</a:t>
            </a:r>
            <a:endParaRPr b="0" lang="en-US" sz="1800" spc="1" strike="noStrike">
              <a:ln w="9360">
                <a:solidFill>
                  <a:srgbClr val="000000"/>
                </a:solidFill>
                <a:miter/>
              </a:ln>
              <a:solidFill>
                <a:srgbClr val="000000"/>
              </a:solidFill>
              <a:latin typeface="Tahoma"/>
              <a:ea typeface="Tahoma"/>
            </a:endParaRPr>
          </a:p>
        </p:txBody>
      </p:sp>
      <p:pic>
        <p:nvPicPr>
          <p:cNvPr id="373" name="Picture 1918" descr=""/>
          <p:cNvPicPr/>
          <p:nvPr/>
        </p:nvPicPr>
        <p:blipFill>
          <a:blip r:embed="rId1"/>
          <a:stretch/>
        </p:blipFill>
        <p:spPr>
          <a:xfrm>
            <a:off x="3132000" y="981000"/>
            <a:ext cx="493920" cy="506520"/>
          </a:xfrm>
          <a:prstGeom prst="rect">
            <a:avLst/>
          </a:prstGeom>
          <a:ln w="0">
            <a:noFill/>
          </a:ln>
        </p:spPr>
      </p:pic>
      <p:sp>
        <p:nvSpPr>
          <p:cNvPr id="374" name="WordArt 1920"/>
          <p:cNvSpPr txBox="1"/>
          <p:nvPr/>
        </p:nvSpPr>
        <p:spPr>
          <a:xfrm>
            <a:off x="1403280" y="1773360"/>
            <a:ext cx="384120" cy="255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Tahoma"/>
              </a:rPr>
              <a:t>اللقاء الاخير</a:t>
            </a:r>
            <a:endParaRPr b="1" lang="en-US" sz="1800" spc="1" strike="noStrike">
              <a:ln w="9360">
                <a:solidFill>
                  <a:srgbClr val="000000"/>
                </a:solidFill>
                <a:miter/>
              </a:ln>
              <a:solidFill>
                <a:srgbClr val="000000"/>
              </a:solidFill>
              <a:latin typeface="Tahoma"/>
              <a:ea typeface="Tahoma"/>
            </a:endParaRPr>
          </a:p>
        </p:txBody>
      </p:sp>
      <p:grpSp>
        <p:nvGrpSpPr>
          <p:cNvPr id="375" name="Group 1"/>
          <p:cNvGrpSpPr/>
          <p:nvPr/>
        </p:nvGrpSpPr>
        <p:grpSpPr>
          <a:xfrm>
            <a:off x="-372960" y="549360"/>
            <a:ext cx="9183600" cy="1527120"/>
            <a:chOff x="-372960" y="549360"/>
            <a:chExt cx="9183600" cy="1527120"/>
          </a:xfrm>
        </p:grpSpPr>
        <p:grpSp>
          <p:nvGrpSpPr>
            <p:cNvPr id="376" name="Group 1628"/>
            <p:cNvGrpSpPr/>
            <p:nvPr/>
          </p:nvGrpSpPr>
          <p:grpSpPr>
            <a:xfrm>
              <a:off x="7770600" y="675000"/>
              <a:ext cx="1040040" cy="953280"/>
              <a:chOff x="7770600" y="675000"/>
              <a:chExt cx="1040040" cy="953280"/>
            </a:xfrm>
          </p:grpSpPr>
          <p:grpSp>
            <p:nvGrpSpPr>
              <p:cNvPr id="377" name="Group 1630"/>
              <p:cNvGrpSpPr/>
              <p:nvPr/>
            </p:nvGrpSpPr>
            <p:grpSpPr>
              <a:xfrm>
                <a:off x="7770600" y="675000"/>
                <a:ext cx="702720" cy="953280"/>
                <a:chOff x="7770600" y="675000"/>
                <a:chExt cx="702720" cy="953280"/>
              </a:xfrm>
            </p:grpSpPr>
            <p:grpSp>
              <p:nvGrpSpPr>
                <p:cNvPr id="378" name="Group 1632"/>
                <p:cNvGrpSpPr/>
                <p:nvPr/>
              </p:nvGrpSpPr>
              <p:grpSpPr>
                <a:xfrm>
                  <a:off x="7770600" y="675000"/>
                  <a:ext cx="442080" cy="953280"/>
                  <a:chOff x="7770600" y="675000"/>
                  <a:chExt cx="442080" cy="953280"/>
                </a:xfrm>
              </p:grpSpPr>
              <p:grpSp>
                <p:nvGrpSpPr>
                  <p:cNvPr id="379" name="Group 1717"/>
                  <p:cNvGrpSpPr/>
                  <p:nvPr/>
                </p:nvGrpSpPr>
                <p:grpSpPr>
                  <a:xfrm>
                    <a:off x="7770600" y="675000"/>
                    <a:ext cx="442080" cy="658080"/>
                    <a:chOff x="7770600" y="675000"/>
                    <a:chExt cx="442080" cy="658080"/>
                  </a:xfrm>
                </p:grpSpPr>
                <p:sp>
                  <p:nvSpPr>
                    <p:cNvPr id="380" name="Freeform 1917"/>
                    <p:cNvSpPr/>
                    <p:nvPr/>
                  </p:nvSpPr>
                  <p:spPr>
                    <a:xfrm rot="111600">
                      <a:off x="7833240" y="867600"/>
                      <a:ext cx="140400" cy="180720"/>
                    </a:xfrm>
                    <a:custGeom>
                      <a:avLst/>
                      <a:gdLst>
                        <a:gd name="textAreaLeft" fmla="*/ 0 w 140400"/>
                        <a:gd name="textAreaRight" fmla="*/ 140760 w 140400"/>
                        <a:gd name="textAreaTop" fmla="*/ 0 h 180720"/>
                        <a:gd name="textAreaBottom" fmla="*/ 181080 h 180720"/>
                      </a:gdLst>
                      <a:ahLst/>
                      <a:rect l="textAreaLeft" t="textAreaTop" r="textAreaRight" b="textAreaBottom"/>
                      <a:pathLst>
                        <a:path w="1103" h="1371">
                          <a:moveTo>
                            <a:pt x="513" y="0"/>
                          </a:moveTo>
                          <a:lnTo>
                            <a:pt x="580" y="12"/>
                          </a:lnTo>
                          <a:lnTo>
                            <a:pt x="647" y="23"/>
                          </a:lnTo>
                          <a:lnTo>
                            <a:pt x="702" y="34"/>
                          </a:lnTo>
                          <a:lnTo>
                            <a:pt x="758" y="56"/>
                          </a:lnTo>
                          <a:lnTo>
                            <a:pt x="814" y="79"/>
                          </a:lnTo>
                          <a:lnTo>
                            <a:pt x="858" y="112"/>
                          </a:lnTo>
                          <a:lnTo>
                            <a:pt x="903" y="145"/>
                          </a:lnTo>
                          <a:lnTo>
                            <a:pt x="947" y="190"/>
                          </a:lnTo>
                          <a:lnTo>
                            <a:pt x="981" y="235"/>
                          </a:lnTo>
                          <a:lnTo>
                            <a:pt x="1014" y="290"/>
                          </a:lnTo>
                          <a:lnTo>
                            <a:pt x="1037" y="335"/>
                          </a:lnTo>
                          <a:lnTo>
                            <a:pt x="1059" y="391"/>
                          </a:lnTo>
                          <a:lnTo>
                            <a:pt x="1081" y="457"/>
                          </a:lnTo>
                          <a:lnTo>
                            <a:pt x="1092" y="513"/>
                          </a:lnTo>
                          <a:lnTo>
                            <a:pt x="1103" y="580"/>
                          </a:lnTo>
                          <a:lnTo>
                            <a:pt x="1103" y="647"/>
                          </a:lnTo>
                          <a:lnTo>
                            <a:pt x="1092" y="714"/>
                          </a:lnTo>
                          <a:lnTo>
                            <a:pt x="1081" y="781"/>
                          </a:lnTo>
                          <a:lnTo>
                            <a:pt x="1059" y="848"/>
                          </a:lnTo>
                          <a:lnTo>
                            <a:pt x="1048" y="914"/>
                          </a:lnTo>
                          <a:lnTo>
                            <a:pt x="1025" y="970"/>
                          </a:lnTo>
                          <a:lnTo>
                            <a:pt x="1003" y="1037"/>
                          </a:lnTo>
                          <a:lnTo>
                            <a:pt x="981" y="1093"/>
                          </a:lnTo>
                          <a:lnTo>
                            <a:pt x="947" y="1137"/>
                          </a:lnTo>
                          <a:lnTo>
                            <a:pt x="914" y="1193"/>
                          </a:lnTo>
                          <a:lnTo>
                            <a:pt x="869" y="1227"/>
                          </a:lnTo>
                          <a:lnTo>
                            <a:pt x="825" y="1271"/>
                          </a:lnTo>
                          <a:lnTo>
                            <a:pt x="780" y="1305"/>
                          </a:lnTo>
                          <a:lnTo>
                            <a:pt x="725" y="1327"/>
                          </a:lnTo>
                          <a:lnTo>
                            <a:pt x="658" y="1349"/>
                          </a:lnTo>
                          <a:lnTo>
                            <a:pt x="591" y="1360"/>
                          </a:lnTo>
                          <a:lnTo>
                            <a:pt x="513" y="1371"/>
                          </a:lnTo>
                          <a:lnTo>
                            <a:pt x="446" y="1360"/>
                          </a:lnTo>
                          <a:lnTo>
                            <a:pt x="390" y="1349"/>
                          </a:lnTo>
                          <a:lnTo>
                            <a:pt x="334" y="1338"/>
                          </a:lnTo>
                          <a:lnTo>
                            <a:pt x="279" y="1316"/>
                          </a:lnTo>
                          <a:lnTo>
                            <a:pt x="234" y="1282"/>
                          </a:lnTo>
                          <a:lnTo>
                            <a:pt x="201" y="1238"/>
                          </a:lnTo>
                          <a:lnTo>
                            <a:pt x="156" y="1204"/>
                          </a:lnTo>
                          <a:lnTo>
                            <a:pt x="123" y="1148"/>
                          </a:lnTo>
                          <a:lnTo>
                            <a:pt x="100" y="1104"/>
                          </a:lnTo>
                          <a:lnTo>
                            <a:pt x="67" y="1048"/>
                          </a:lnTo>
                          <a:lnTo>
                            <a:pt x="56" y="981"/>
                          </a:lnTo>
                          <a:lnTo>
                            <a:pt x="34" y="926"/>
                          </a:lnTo>
                          <a:lnTo>
                            <a:pt x="22" y="859"/>
                          </a:lnTo>
                          <a:lnTo>
                            <a:pt x="11" y="792"/>
                          </a:lnTo>
                          <a:lnTo>
                            <a:pt x="0" y="725"/>
                          </a:lnTo>
                          <a:lnTo>
                            <a:pt x="0" y="658"/>
                          </a:lnTo>
                          <a:lnTo>
                            <a:pt x="0" y="591"/>
                          </a:lnTo>
                          <a:lnTo>
                            <a:pt x="11" y="524"/>
                          </a:lnTo>
                          <a:lnTo>
                            <a:pt x="22" y="469"/>
                          </a:lnTo>
                          <a:lnTo>
                            <a:pt x="34" y="402"/>
                          </a:lnTo>
                          <a:lnTo>
                            <a:pt x="45" y="346"/>
                          </a:lnTo>
                          <a:lnTo>
                            <a:pt x="67" y="290"/>
                          </a:lnTo>
                          <a:lnTo>
                            <a:pt x="100" y="246"/>
                          </a:lnTo>
                          <a:lnTo>
                            <a:pt x="123" y="201"/>
                          </a:lnTo>
                          <a:lnTo>
                            <a:pt x="156" y="157"/>
                          </a:lnTo>
                          <a:lnTo>
                            <a:pt x="190" y="123"/>
                          </a:lnTo>
                          <a:lnTo>
                            <a:pt x="234" y="90"/>
                          </a:lnTo>
                          <a:lnTo>
                            <a:pt x="279" y="56"/>
                          </a:lnTo>
                          <a:lnTo>
                            <a:pt x="334" y="34"/>
                          </a:lnTo>
                          <a:lnTo>
                            <a:pt x="390" y="23"/>
                          </a:lnTo>
                          <a:lnTo>
                            <a:pt x="446" y="12"/>
                          </a:lnTo>
                          <a:lnTo>
                            <a:pt x="513" y="0"/>
                          </a:lnTo>
                          <a:close/>
                        </a:path>
                      </a:pathLst>
                    </a:custGeom>
                    <a:solidFill>
                      <a:srgbClr val="ffebb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1916"/>
                    <p:cNvSpPr/>
                    <p:nvPr/>
                  </p:nvSpPr>
                  <p:spPr>
                    <a:xfrm rot="111600">
                      <a:off x="7900560" y="868680"/>
                      <a:ext cx="76680" cy="85320"/>
                    </a:xfrm>
                    <a:custGeom>
                      <a:avLst/>
                      <a:gdLst>
                        <a:gd name="textAreaLeft" fmla="*/ 0 w 76680"/>
                        <a:gd name="textAreaRight" fmla="*/ 77040 w 76680"/>
                        <a:gd name="textAreaTop" fmla="*/ 0 h 85320"/>
                        <a:gd name="textAreaBottom" fmla="*/ 85680 h 85320"/>
                      </a:gdLst>
                      <a:ahLst/>
                      <a:rect l="textAreaLeft" t="textAreaTop" r="textAreaRight" b="textAreaBottom"/>
                      <a:pathLst>
                        <a:path w="602" h="647">
                          <a:moveTo>
                            <a:pt x="590" y="647"/>
                          </a:moveTo>
                          <a:lnTo>
                            <a:pt x="602" y="647"/>
                          </a:lnTo>
                          <a:lnTo>
                            <a:pt x="590" y="580"/>
                          </a:lnTo>
                          <a:lnTo>
                            <a:pt x="590" y="513"/>
                          </a:lnTo>
                          <a:lnTo>
                            <a:pt x="568" y="457"/>
                          </a:lnTo>
                          <a:lnTo>
                            <a:pt x="557" y="391"/>
                          </a:lnTo>
                          <a:lnTo>
                            <a:pt x="535" y="335"/>
                          </a:lnTo>
                          <a:lnTo>
                            <a:pt x="501" y="279"/>
                          </a:lnTo>
                          <a:lnTo>
                            <a:pt x="468" y="235"/>
                          </a:lnTo>
                          <a:lnTo>
                            <a:pt x="434" y="190"/>
                          </a:lnTo>
                          <a:lnTo>
                            <a:pt x="390" y="145"/>
                          </a:lnTo>
                          <a:lnTo>
                            <a:pt x="345" y="112"/>
                          </a:lnTo>
                          <a:lnTo>
                            <a:pt x="301" y="79"/>
                          </a:lnTo>
                          <a:lnTo>
                            <a:pt x="245" y="45"/>
                          </a:lnTo>
                          <a:lnTo>
                            <a:pt x="189" y="23"/>
                          </a:lnTo>
                          <a:lnTo>
                            <a:pt x="134" y="12"/>
                          </a:lnTo>
                          <a:lnTo>
                            <a:pt x="67" y="0"/>
                          </a:lnTo>
                          <a:lnTo>
                            <a:pt x="0" y="0"/>
                          </a:lnTo>
                          <a:lnTo>
                            <a:pt x="0" y="12"/>
                          </a:lnTo>
                          <a:lnTo>
                            <a:pt x="67" y="12"/>
                          </a:lnTo>
                          <a:lnTo>
                            <a:pt x="122" y="23"/>
                          </a:lnTo>
                          <a:lnTo>
                            <a:pt x="189" y="45"/>
                          </a:lnTo>
                          <a:lnTo>
                            <a:pt x="245" y="67"/>
                          </a:lnTo>
                          <a:lnTo>
                            <a:pt x="290" y="90"/>
                          </a:lnTo>
                          <a:lnTo>
                            <a:pt x="345" y="123"/>
                          </a:lnTo>
                          <a:lnTo>
                            <a:pt x="390" y="157"/>
                          </a:lnTo>
                          <a:lnTo>
                            <a:pt x="423" y="201"/>
                          </a:lnTo>
                          <a:lnTo>
                            <a:pt x="457" y="235"/>
                          </a:lnTo>
                          <a:lnTo>
                            <a:pt x="490" y="290"/>
                          </a:lnTo>
                          <a:lnTo>
                            <a:pt x="524" y="335"/>
                          </a:lnTo>
                          <a:lnTo>
                            <a:pt x="546" y="391"/>
                          </a:lnTo>
                          <a:lnTo>
                            <a:pt x="557" y="457"/>
                          </a:lnTo>
                          <a:lnTo>
                            <a:pt x="568" y="513"/>
                          </a:lnTo>
                          <a:lnTo>
                            <a:pt x="579" y="580"/>
                          </a:lnTo>
                          <a:lnTo>
                            <a:pt x="579" y="647"/>
                          </a:lnTo>
                          <a:lnTo>
                            <a:pt x="590" y="647"/>
                          </a:lnTo>
                          <a:close/>
                        </a:path>
                      </a:pathLst>
                    </a:custGeom>
                    <a:solidFill>
                      <a:srgbClr val="000000"/>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1915"/>
                    <p:cNvSpPr/>
                    <p:nvPr/>
                  </p:nvSpPr>
                  <p:spPr>
                    <a:xfrm rot="111600">
                      <a:off x="7897320" y="954000"/>
                      <a:ext cx="75240" cy="95400"/>
                    </a:xfrm>
                    <a:custGeom>
                      <a:avLst/>
                      <a:gdLst>
                        <a:gd name="textAreaLeft" fmla="*/ 0 w 75240"/>
                        <a:gd name="textAreaRight" fmla="*/ 75600 w 75240"/>
                        <a:gd name="textAreaTop" fmla="*/ 0 h 95400"/>
                        <a:gd name="textAreaBottom" fmla="*/ 95760 h 95400"/>
                      </a:gdLst>
                      <a:ahLst/>
                      <a:rect l="textAreaLeft" t="textAreaTop" r="textAreaRight" b="textAreaBottom"/>
                      <a:pathLst>
                        <a:path w="590" h="724">
                          <a:moveTo>
                            <a:pt x="0" y="724"/>
                          </a:moveTo>
                          <a:lnTo>
                            <a:pt x="0" y="724"/>
                          </a:lnTo>
                          <a:lnTo>
                            <a:pt x="78" y="724"/>
                          </a:lnTo>
                          <a:lnTo>
                            <a:pt x="145" y="702"/>
                          </a:lnTo>
                          <a:lnTo>
                            <a:pt x="212" y="691"/>
                          </a:lnTo>
                          <a:lnTo>
                            <a:pt x="267" y="658"/>
                          </a:lnTo>
                          <a:lnTo>
                            <a:pt x="323" y="624"/>
                          </a:lnTo>
                          <a:lnTo>
                            <a:pt x="368" y="591"/>
                          </a:lnTo>
                          <a:lnTo>
                            <a:pt x="401" y="546"/>
                          </a:lnTo>
                          <a:lnTo>
                            <a:pt x="446" y="501"/>
                          </a:lnTo>
                          <a:lnTo>
                            <a:pt x="468" y="446"/>
                          </a:lnTo>
                          <a:lnTo>
                            <a:pt x="490" y="390"/>
                          </a:lnTo>
                          <a:lnTo>
                            <a:pt x="524" y="323"/>
                          </a:lnTo>
                          <a:lnTo>
                            <a:pt x="535" y="267"/>
                          </a:lnTo>
                          <a:lnTo>
                            <a:pt x="557" y="201"/>
                          </a:lnTo>
                          <a:lnTo>
                            <a:pt x="568" y="134"/>
                          </a:lnTo>
                          <a:lnTo>
                            <a:pt x="579" y="67"/>
                          </a:lnTo>
                          <a:lnTo>
                            <a:pt x="590" y="0"/>
                          </a:lnTo>
                          <a:lnTo>
                            <a:pt x="579" y="0"/>
                          </a:lnTo>
                          <a:lnTo>
                            <a:pt x="568" y="67"/>
                          </a:lnTo>
                          <a:lnTo>
                            <a:pt x="557" y="134"/>
                          </a:lnTo>
                          <a:lnTo>
                            <a:pt x="546" y="201"/>
                          </a:lnTo>
                          <a:lnTo>
                            <a:pt x="524" y="267"/>
                          </a:lnTo>
                          <a:lnTo>
                            <a:pt x="501" y="323"/>
                          </a:lnTo>
                          <a:lnTo>
                            <a:pt x="479" y="379"/>
                          </a:lnTo>
                          <a:lnTo>
                            <a:pt x="457" y="435"/>
                          </a:lnTo>
                          <a:lnTo>
                            <a:pt x="423" y="490"/>
                          </a:lnTo>
                          <a:lnTo>
                            <a:pt x="390" y="535"/>
                          </a:lnTo>
                          <a:lnTo>
                            <a:pt x="356" y="580"/>
                          </a:lnTo>
                          <a:lnTo>
                            <a:pt x="312" y="613"/>
                          </a:lnTo>
                          <a:lnTo>
                            <a:pt x="267" y="646"/>
                          </a:lnTo>
                          <a:lnTo>
                            <a:pt x="212" y="669"/>
                          </a:lnTo>
                          <a:lnTo>
                            <a:pt x="145" y="691"/>
                          </a:lnTo>
                          <a:lnTo>
                            <a:pt x="78" y="702"/>
                          </a:lnTo>
                          <a:lnTo>
                            <a:pt x="0" y="713"/>
                          </a:lnTo>
                          <a:lnTo>
                            <a:pt x="0" y="72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1914"/>
                    <p:cNvSpPr/>
                    <p:nvPr/>
                  </p:nvSpPr>
                  <p:spPr>
                    <a:xfrm rot="111600">
                      <a:off x="7831800" y="952920"/>
                      <a:ext cx="65160" cy="93960"/>
                    </a:xfrm>
                    <a:custGeom>
                      <a:avLst/>
                      <a:gdLst>
                        <a:gd name="textAreaLeft" fmla="*/ 0 w 65160"/>
                        <a:gd name="textAreaRight" fmla="*/ 65520 w 65160"/>
                        <a:gd name="textAreaTop" fmla="*/ 0 h 93960"/>
                        <a:gd name="textAreaBottom" fmla="*/ 94320 h 93960"/>
                      </a:gdLst>
                      <a:ahLst/>
                      <a:rect l="textAreaLeft" t="textAreaTop" r="textAreaRight" b="textAreaBottom"/>
                      <a:pathLst>
                        <a:path w="513" h="713">
                          <a:moveTo>
                            <a:pt x="0" y="0"/>
                          </a:moveTo>
                          <a:lnTo>
                            <a:pt x="0" y="0"/>
                          </a:lnTo>
                          <a:lnTo>
                            <a:pt x="0" y="67"/>
                          </a:lnTo>
                          <a:lnTo>
                            <a:pt x="0" y="134"/>
                          </a:lnTo>
                          <a:lnTo>
                            <a:pt x="11" y="201"/>
                          </a:lnTo>
                          <a:lnTo>
                            <a:pt x="34" y="268"/>
                          </a:lnTo>
                          <a:lnTo>
                            <a:pt x="45" y="334"/>
                          </a:lnTo>
                          <a:lnTo>
                            <a:pt x="67" y="390"/>
                          </a:lnTo>
                          <a:lnTo>
                            <a:pt x="89" y="446"/>
                          </a:lnTo>
                          <a:lnTo>
                            <a:pt x="123" y="502"/>
                          </a:lnTo>
                          <a:lnTo>
                            <a:pt x="156" y="546"/>
                          </a:lnTo>
                          <a:lnTo>
                            <a:pt x="190" y="591"/>
                          </a:lnTo>
                          <a:lnTo>
                            <a:pt x="234" y="624"/>
                          </a:lnTo>
                          <a:lnTo>
                            <a:pt x="279" y="658"/>
                          </a:lnTo>
                          <a:lnTo>
                            <a:pt x="334" y="680"/>
                          </a:lnTo>
                          <a:lnTo>
                            <a:pt x="390" y="702"/>
                          </a:lnTo>
                          <a:lnTo>
                            <a:pt x="446" y="713"/>
                          </a:lnTo>
                          <a:lnTo>
                            <a:pt x="513" y="713"/>
                          </a:lnTo>
                          <a:lnTo>
                            <a:pt x="513" y="702"/>
                          </a:lnTo>
                          <a:lnTo>
                            <a:pt x="446" y="702"/>
                          </a:lnTo>
                          <a:lnTo>
                            <a:pt x="390" y="691"/>
                          </a:lnTo>
                          <a:lnTo>
                            <a:pt x="334" y="669"/>
                          </a:lnTo>
                          <a:lnTo>
                            <a:pt x="290" y="647"/>
                          </a:lnTo>
                          <a:lnTo>
                            <a:pt x="245" y="613"/>
                          </a:lnTo>
                          <a:lnTo>
                            <a:pt x="201" y="580"/>
                          </a:lnTo>
                          <a:lnTo>
                            <a:pt x="167" y="535"/>
                          </a:lnTo>
                          <a:lnTo>
                            <a:pt x="134" y="490"/>
                          </a:lnTo>
                          <a:lnTo>
                            <a:pt x="100" y="435"/>
                          </a:lnTo>
                          <a:lnTo>
                            <a:pt x="78" y="379"/>
                          </a:lnTo>
                          <a:lnTo>
                            <a:pt x="56" y="323"/>
                          </a:lnTo>
                          <a:lnTo>
                            <a:pt x="45" y="268"/>
                          </a:lnTo>
                          <a:lnTo>
                            <a:pt x="34" y="201"/>
                          </a:lnTo>
                          <a:lnTo>
                            <a:pt x="22" y="134"/>
                          </a:lnTo>
                          <a:lnTo>
                            <a:pt x="11" y="67"/>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1913"/>
                    <p:cNvSpPr/>
                    <p:nvPr/>
                  </p:nvSpPr>
                  <p:spPr>
                    <a:xfrm rot="111600">
                      <a:off x="7835040" y="866160"/>
                      <a:ext cx="65160" cy="86760"/>
                    </a:xfrm>
                    <a:custGeom>
                      <a:avLst/>
                      <a:gdLst>
                        <a:gd name="textAreaLeft" fmla="*/ 0 w 65160"/>
                        <a:gd name="textAreaRight" fmla="*/ 65520 w 65160"/>
                        <a:gd name="textAreaTop" fmla="*/ 0 h 86760"/>
                        <a:gd name="textAreaBottom" fmla="*/ 87120 h 86760"/>
                      </a:gdLst>
                      <a:ahLst/>
                      <a:rect l="textAreaLeft" t="textAreaTop" r="textAreaRight" b="textAreaBottom"/>
                      <a:pathLst>
                        <a:path w="513" h="658">
                          <a:moveTo>
                            <a:pt x="513" y="0"/>
                          </a:moveTo>
                          <a:lnTo>
                            <a:pt x="513" y="0"/>
                          </a:lnTo>
                          <a:lnTo>
                            <a:pt x="446" y="0"/>
                          </a:lnTo>
                          <a:lnTo>
                            <a:pt x="390" y="12"/>
                          </a:lnTo>
                          <a:lnTo>
                            <a:pt x="334" y="23"/>
                          </a:lnTo>
                          <a:lnTo>
                            <a:pt x="279" y="56"/>
                          </a:lnTo>
                          <a:lnTo>
                            <a:pt x="234" y="79"/>
                          </a:lnTo>
                          <a:lnTo>
                            <a:pt x="190" y="112"/>
                          </a:lnTo>
                          <a:lnTo>
                            <a:pt x="156" y="157"/>
                          </a:lnTo>
                          <a:lnTo>
                            <a:pt x="123" y="190"/>
                          </a:lnTo>
                          <a:lnTo>
                            <a:pt x="89" y="246"/>
                          </a:lnTo>
                          <a:lnTo>
                            <a:pt x="67" y="290"/>
                          </a:lnTo>
                          <a:lnTo>
                            <a:pt x="45" y="346"/>
                          </a:lnTo>
                          <a:lnTo>
                            <a:pt x="22" y="402"/>
                          </a:lnTo>
                          <a:lnTo>
                            <a:pt x="11" y="469"/>
                          </a:lnTo>
                          <a:lnTo>
                            <a:pt x="0" y="524"/>
                          </a:lnTo>
                          <a:lnTo>
                            <a:pt x="0" y="591"/>
                          </a:lnTo>
                          <a:lnTo>
                            <a:pt x="0" y="658"/>
                          </a:lnTo>
                          <a:lnTo>
                            <a:pt x="11" y="658"/>
                          </a:lnTo>
                          <a:lnTo>
                            <a:pt x="11" y="591"/>
                          </a:lnTo>
                          <a:lnTo>
                            <a:pt x="22" y="524"/>
                          </a:lnTo>
                          <a:lnTo>
                            <a:pt x="22" y="469"/>
                          </a:lnTo>
                          <a:lnTo>
                            <a:pt x="45" y="413"/>
                          </a:lnTo>
                          <a:lnTo>
                            <a:pt x="56" y="346"/>
                          </a:lnTo>
                          <a:lnTo>
                            <a:pt x="78" y="301"/>
                          </a:lnTo>
                          <a:lnTo>
                            <a:pt x="100" y="246"/>
                          </a:lnTo>
                          <a:lnTo>
                            <a:pt x="134" y="201"/>
                          </a:lnTo>
                          <a:lnTo>
                            <a:pt x="167" y="157"/>
                          </a:lnTo>
                          <a:lnTo>
                            <a:pt x="201" y="123"/>
                          </a:lnTo>
                          <a:lnTo>
                            <a:pt x="234" y="90"/>
                          </a:lnTo>
                          <a:lnTo>
                            <a:pt x="290" y="67"/>
                          </a:lnTo>
                          <a:lnTo>
                            <a:pt x="334" y="45"/>
                          </a:lnTo>
                          <a:lnTo>
                            <a:pt x="390" y="23"/>
                          </a:lnTo>
                          <a:lnTo>
                            <a:pt x="446" y="23"/>
                          </a:lnTo>
                          <a:lnTo>
                            <a:pt x="513" y="12"/>
                          </a:lnTo>
                          <a:lnTo>
                            <a:pt x="513" y="0"/>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1912"/>
                    <p:cNvSpPr/>
                    <p:nvPr/>
                  </p:nvSpPr>
                  <p:spPr>
                    <a:xfrm rot="111600">
                      <a:off x="7774920" y="830880"/>
                      <a:ext cx="268560" cy="272160"/>
                    </a:xfrm>
                    <a:custGeom>
                      <a:avLst/>
                      <a:gdLst>
                        <a:gd name="textAreaLeft" fmla="*/ 0 w 268560"/>
                        <a:gd name="textAreaRight" fmla="*/ 268920 w 268560"/>
                        <a:gd name="textAreaTop" fmla="*/ 0 h 272160"/>
                        <a:gd name="textAreaBottom" fmla="*/ 272520 h 272160"/>
                      </a:gdLst>
                      <a:ahLst/>
                      <a:rect l="textAreaLeft" t="textAreaTop" r="textAreaRight" b="textAreaBottom"/>
                      <a:pathLst>
                        <a:path w="2107" h="2062">
                          <a:moveTo>
                            <a:pt x="1092" y="167"/>
                          </a:moveTo>
                          <a:lnTo>
                            <a:pt x="1081" y="145"/>
                          </a:lnTo>
                          <a:lnTo>
                            <a:pt x="1059" y="134"/>
                          </a:lnTo>
                          <a:lnTo>
                            <a:pt x="1037" y="111"/>
                          </a:lnTo>
                          <a:lnTo>
                            <a:pt x="1014" y="89"/>
                          </a:lnTo>
                          <a:lnTo>
                            <a:pt x="992" y="78"/>
                          </a:lnTo>
                          <a:lnTo>
                            <a:pt x="959" y="56"/>
                          </a:lnTo>
                          <a:lnTo>
                            <a:pt x="925" y="33"/>
                          </a:lnTo>
                          <a:lnTo>
                            <a:pt x="892" y="22"/>
                          </a:lnTo>
                          <a:lnTo>
                            <a:pt x="858" y="11"/>
                          </a:lnTo>
                          <a:lnTo>
                            <a:pt x="814" y="11"/>
                          </a:lnTo>
                          <a:lnTo>
                            <a:pt x="769" y="0"/>
                          </a:lnTo>
                          <a:lnTo>
                            <a:pt x="725" y="0"/>
                          </a:lnTo>
                          <a:lnTo>
                            <a:pt x="680" y="11"/>
                          </a:lnTo>
                          <a:lnTo>
                            <a:pt x="647" y="22"/>
                          </a:lnTo>
                          <a:lnTo>
                            <a:pt x="602" y="33"/>
                          </a:lnTo>
                          <a:lnTo>
                            <a:pt x="569" y="44"/>
                          </a:lnTo>
                          <a:lnTo>
                            <a:pt x="535" y="67"/>
                          </a:lnTo>
                          <a:lnTo>
                            <a:pt x="491" y="89"/>
                          </a:lnTo>
                          <a:lnTo>
                            <a:pt x="457" y="122"/>
                          </a:lnTo>
                          <a:lnTo>
                            <a:pt x="435" y="145"/>
                          </a:lnTo>
                          <a:lnTo>
                            <a:pt x="401" y="178"/>
                          </a:lnTo>
                          <a:lnTo>
                            <a:pt x="368" y="223"/>
                          </a:lnTo>
                          <a:lnTo>
                            <a:pt x="346" y="256"/>
                          </a:lnTo>
                          <a:lnTo>
                            <a:pt x="323" y="301"/>
                          </a:lnTo>
                          <a:lnTo>
                            <a:pt x="312" y="334"/>
                          </a:lnTo>
                          <a:lnTo>
                            <a:pt x="301" y="379"/>
                          </a:lnTo>
                          <a:lnTo>
                            <a:pt x="290" y="423"/>
                          </a:lnTo>
                          <a:lnTo>
                            <a:pt x="279" y="457"/>
                          </a:lnTo>
                          <a:lnTo>
                            <a:pt x="279" y="501"/>
                          </a:lnTo>
                          <a:lnTo>
                            <a:pt x="279" y="546"/>
                          </a:lnTo>
                          <a:lnTo>
                            <a:pt x="268" y="591"/>
                          </a:lnTo>
                          <a:lnTo>
                            <a:pt x="268" y="635"/>
                          </a:lnTo>
                          <a:lnTo>
                            <a:pt x="290" y="657"/>
                          </a:lnTo>
                          <a:lnTo>
                            <a:pt x="301" y="691"/>
                          </a:lnTo>
                          <a:lnTo>
                            <a:pt x="312" y="724"/>
                          </a:lnTo>
                          <a:lnTo>
                            <a:pt x="312" y="758"/>
                          </a:lnTo>
                          <a:lnTo>
                            <a:pt x="323" y="802"/>
                          </a:lnTo>
                          <a:lnTo>
                            <a:pt x="312" y="836"/>
                          </a:lnTo>
                          <a:lnTo>
                            <a:pt x="312" y="880"/>
                          </a:lnTo>
                          <a:lnTo>
                            <a:pt x="301" y="903"/>
                          </a:lnTo>
                          <a:lnTo>
                            <a:pt x="290" y="925"/>
                          </a:lnTo>
                          <a:lnTo>
                            <a:pt x="290" y="947"/>
                          </a:lnTo>
                          <a:lnTo>
                            <a:pt x="268" y="958"/>
                          </a:lnTo>
                          <a:lnTo>
                            <a:pt x="256" y="981"/>
                          </a:lnTo>
                          <a:lnTo>
                            <a:pt x="234" y="992"/>
                          </a:lnTo>
                          <a:lnTo>
                            <a:pt x="223" y="1003"/>
                          </a:lnTo>
                          <a:lnTo>
                            <a:pt x="201" y="1025"/>
                          </a:lnTo>
                          <a:lnTo>
                            <a:pt x="178" y="1036"/>
                          </a:lnTo>
                          <a:lnTo>
                            <a:pt x="156" y="1059"/>
                          </a:lnTo>
                          <a:lnTo>
                            <a:pt x="134" y="1070"/>
                          </a:lnTo>
                          <a:lnTo>
                            <a:pt x="123" y="1081"/>
                          </a:lnTo>
                          <a:lnTo>
                            <a:pt x="100" y="1103"/>
                          </a:lnTo>
                          <a:lnTo>
                            <a:pt x="89" y="1114"/>
                          </a:lnTo>
                          <a:lnTo>
                            <a:pt x="67" y="1137"/>
                          </a:lnTo>
                          <a:lnTo>
                            <a:pt x="56" y="1148"/>
                          </a:lnTo>
                          <a:lnTo>
                            <a:pt x="45" y="1159"/>
                          </a:lnTo>
                          <a:lnTo>
                            <a:pt x="22" y="1215"/>
                          </a:lnTo>
                          <a:lnTo>
                            <a:pt x="11" y="1270"/>
                          </a:lnTo>
                          <a:lnTo>
                            <a:pt x="0" y="1326"/>
                          </a:lnTo>
                          <a:lnTo>
                            <a:pt x="0" y="1393"/>
                          </a:lnTo>
                          <a:lnTo>
                            <a:pt x="0" y="1449"/>
                          </a:lnTo>
                          <a:lnTo>
                            <a:pt x="11" y="1516"/>
                          </a:lnTo>
                          <a:lnTo>
                            <a:pt x="22" y="1571"/>
                          </a:lnTo>
                          <a:lnTo>
                            <a:pt x="45" y="1616"/>
                          </a:lnTo>
                          <a:lnTo>
                            <a:pt x="56" y="1616"/>
                          </a:lnTo>
                          <a:lnTo>
                            <a:pt x="67" y="1594"/>
                          </a:lnTo>
                          <a:lnTo>
                            <a:pt x="67" y="1583"/>
                          </a:lnTo>
                          <a:lnTo>
                            <a:pt x="78" y="1571"/>
                          </a:lnTo>
                          <a:lnTo>
                            <a:pt x="78" y="1560"/>
                          </a:lnTo>
                          <a:lnTo>
                            <a:pt x="89" y="1549"/>
                          </a:lnTo>
                          <a:lnTo>
                            <a:pt x="89" y="1560"/>
                          </a:lnTo>
                          <a:lnTo>
                            <a:pt x="89" y="1605"/>
                          </a:lnTo>
                          <a:lnTo>
                            <a:pt x="100" y="1661"/>
                          </a:lnTo>
                          <a:lnTo>
                            <a:pt x="112" y="1694"/>
                          </a:lnTo>
                          <a:lnTo>
                            <a:pt x="134" y="1727"/>
                          </a:lnTo>
                          <a:lnTo>
                            <a:pt x="156" y="1761"/>
                          </a:lnTo>
                          <a:lnTo>
                            <a:pt x="178" y="1783"/>
                          </a:lnTo>
                          <a:lnTo>
                            <a:pt x="212" y="1805"/>
                          </a:lnTo>
                          <a:lnTo>
                            <a:pt x="245" y="1828"/>
                          </a:lnTo>
                          <a:lnTo>
                            <a:pt x="256" y="1805"/>
                          </a:lnTo>
                          <a:lnTo>
                            <a:pt x="256" y="1783"/>
                          </a:lnTo>
                          <a:lnTo>
                            <a:pt x="256" y="1772"/>
                          </a:lnTo>
                          <a:lnTo>
                            <a:pt x="268" y="1761"/>
                          </a:lnTo>
                          <a:lnTo>
                            <a:pt x="268" y="1794"/>
                          </a:lnTo>
                          <a:lnTo>
                            <a:pt x="268" y="1839"/>
                          </a:lnTo>
                          <a:lnTo>
                            <a:pt x="268" y="1883"/>
                          </a:lnTo>
                          <a:lnTo>
                            <a:pt x="268" y="1917"/>
                          </a:lnTo>
                          <a:lnTo>
                            <a:pt x="268" y="1961"/>
                          </a:lnTo>
                          <a:lnTo>
                            <a:pt x="256" y="1995"/>
                          </a:lnTo>
                          <a:lnTo>
                            <a:pt x="245" y="2039"/>
                          </a:lnTo>
                          <a:lnTo>
                            <a:pt x="245" y="2062"/>
                          </a:lnTo>
                          <a:lnTo>
                            <a:pt x="256" y="2051"/>
                          </a:lnTo>
                          <a:lnTo>
                            <a:pt x="279" y="2028"/>
                          </a:lnTo>
                          <a:lnTo>
                            <a:pt x="290" y="2017"/>
                          </a:lnTo>
                          <a:lnTo>
                            <a:pt x="312" y="1995"/>
                          </a:lnTo>
                          <a:lnTo>
                            <a:pt x="335" y="1984"/>
                          </a:lnTo>
                          <a:lnTo>
                            <a:pt x="357" y="1961"/>
                          </a:lnTo>
                          <a:lnTo>
                            <a:pt x="368" y="1939"/>
                          </a:lnTo>
                          <a:lnTo>
                            <a:pt x="390" y="1917"/>
                          </a:lnTo>
                          <a:lnTo>
                            <a:pt x="413" y="1895"/>
                          </a:lnTo>
                          <a:lnTo>
                            <a:pt x="424" y="1872"/>
                          </a:lnTo>
                          <a:lnTo>
                            <a:pt x="435" y="1850"/>
                          </a:lnTo>
                          <a:lnTo>
                            <a:pt x="446" y="1828"/>
                          </a:lnTo>
                          <a:lnTo>
                            <a:pt x="457" y="1794"/>
                          </a:lnTo>
                          <a:lnTo>
                            <a:pt x="468" y="1772"/>
                          </a:lnTo>
                          <a:lnTo>
                            <a:pt x="468" y="1739"/>
                          </a:lnTo>
                          <a:lnTo>
                            <a:pt x="468" y="1716"/>
                          </a:lnTo>
                          <a:lnTo>
                            <a:pt x="479" y="1727"/>
                          </a:lnTo>
                          <a:lnTo>
                            <a:pt x="491" y="1739"/>
                          </a:lnTo>
                          <a:lnTo>
                            <a:pt x="491" y="1750"/>
                          </a:lnTo>
                          <a:lnTo>
                            <a:pt x="513" y="1761"/>
                          </a:lnTo>
                          <a:lnTo>
                            <a:pt x="535" y="1727"/>
                          </a:lnTo>
                          <a:lnTo>
                            <a:pt x="557" y="1683"/>
                          </a:lnTo>
                          <a:lnTo>
                            <a:pt x="580" y="1616"/>
                          </a:lnTo>
                          <a:lnTo>
                            <a:pt x="602" y="1538"/>
                          </a:lnTo>
                          <a:lnTo>
                            <a:pt x="602" y="1460"/>
                          </a:lnTo>
                          <a:lnTo>
                            <a:pt x="602" y="1382"/>
                          </a:lnTo>
                          <a:lnTo>
                            <a:pt x="580" y="1304"/>
                          </a:lnTo>
                          <a:lnTo>
                            <a:pt x="535" y="1226"/>
                          </a:lnTo>
                          <a:lnTo>
                            <a:pt x="502" y="1170"/>
                          </a:lnTo>
                          <a:lnTo>
                            <a:pt x="479" y="1114"/>
                          </a:lnTo>
                          <a:lnTo>
                            <a:pt x="468" y="1059"/>
                          </a:lnTo>
                          <a:lnTo>
                            <a:pt x="457" y="1014"/>
                          </a:lnTo>
                          <a:lnTo>
                            <a:pt x="435" y="958"/>
                          </a:lnTo>
                          <a:lnTo>
                            <a:pt x="424" y="914"/>
                          </a:lnTo>
                          <a:lnTo>
                            <a:pt x="413" y="880"/>
                          </a:lnTo>
                          <a:lnTo>
                            <a:pt x="401" y="847"/>
                          </a:lnTo>
                          <a:lnTo>
                            <a:pt x="401" y="825"/>
                          </a:lnTo>
                          <a:lnTo>
                            <a:pt x="401" y="802"/>
                          </a:lnTo>
                          <a:lnTo>
                            <a:pt x="413" y="780"/>
                          </a:lnTo>
                          <a:lnTo>
                            <a:pt x="424" y="758"/>
                          </a:lnTo>
                          <a:lnTo>
                            <a:pt x="435" y="735"/>
                          </a:lnTo>
                          <a:lnTo>
                            <a:pt x="446" y="713"/>
                          </a:lnTo>
                          <a:lnTo>
                            <a:pt x="457" y="702"/>
                          </a:lnTo>
                          <a:lnTo>
                            <a:pt x="457" y="680"/>
                          </a:lnTo>
                          <a:lnTo>
                            <a:pt x="479" y="669"/>
                          </a:lnTo>
                          <a:lnTo>
                            <a:pt x="491" y="669"/>
                          </a:lnTo>
                          <a:lnTo>
                            <a:pt x="502" y="657"/>
                          </a:lnTo>
                          <a:lnTo>
                            <a:pt x="524" y="657"/>
                          </a:lnTo>
                          <a:lnTo>
                            <a:pt x="535" y="657"/>
                          </a:lnTo>
                          <a:lnTo>
                            <a:pt x="546" y="657"/>
                          </a:lnTo>
                          <a:lnTo>
                            <a:pt x="569" y="657"/>
                          </a:lnTo>
                          <a:lnTo>
                            <a:pt x="580" y="657"/>
                          </a:lnTo>
                          <a:lnTo>
                            <a:pt x="602" y="657"/>
                          </a:lnTo>
                          <a:lnTo>
                            <a:pt x="624" y="657"/>
                          </a:lnTo>
                          <a:lnTo>
                            <a:pt x="635" y="646"/>
                          </a:lnTo>
                          <a:lnTo>
                            <a:pt x="658" y="646"/>
                          </a:lnTo>
                          <a:lnTo>
                            <a:pt x="669" y="646"/>
                          </a:lnTo>
                          <a:lnTo>
                            <a:pt x="691" y="646"/>
                          </a:lnTo>
                          <a:lnTo>
                            <a:pt x="702" y="635"/>
                          </a:lnTo>
                          <a:lnTo>
                            <a:pt x="725" y="635"/>
                          </a:lnTo>
                          <a:lnTo>
                            <a:pt x="736" y="624"/>
                          </a:lnTo>
                          <a:lnTo>
                            <a:pt x="747" y="602"/>
                          </a:lnTo>
                          <a:lnTo>
                            <a:pt x="769" y="579"/>
                          </a:lnTo>
                          <a:lnTo>
                            <a:pt x="791" y="557"/>
                          </a:lnTo>
                          <a:lnTo>
                            <a:pt x="814" y="535"/>
                          </a:lnTo>
                          <a:lnTo>
                            <a:pt x="847" y="513"/>
                          </a:lnTo>
                          <a:lnTo>
                            <a:pt x="869" y="490"/>
                          </a:lnTo>
                          <a:lnTo>
                            <a:pt x="892" y="479"/>
                          </a:lnTo>
                          <a:lnTo>
                            <a:pt x="914" y="457"/>
                          </a:lnTo>
                          <a:lnTo>
                            <a:pt x="925" y="468"/>
                          </a:lnTo>
                          <a:lnTo>
                            <a:pt x="947" y="446"/>
                          </a:lnTo>
                          <a:lnTo>
                            <a:pt x="959" y="423"/>
                          </a:lnTo>
                          <a:lnTo>
                            <a:pt x="981" y="412"/>
                          </a:lnTo>
                          <a:lnTo>
                            <a:pt x="992" y="390"/>
                          </a:lnTo>
                          <a:lnTo>
                            <a:pt x="1014" y="368"/>
                          </a:lnTo>
                          <a:lnTo>
                            <a:pt x="1026" y="345"/>
                          </a:lnTo>
                          <a:lnTo>
                            <a:pt x="1048" y="323"/>
                          </a:lnTo>
                          <a:lnTo>
                            <a:pt x="1070" y="301"/>
                          </a:lnTo>
                          <a:lnTo>
                            <a:pt x="1092" y="334"/>
                          </a:lnTo>
                          <a:lnTo>
                            <a:pt x="1126" y="368"/>
                          </a:lnTo>
                          <a:lnTo>
                            <a:pt x="1159" y="412"/>
                          </a:lnTo>
                          <a:lnTo>
                            <a:pt x="1193" y="457"/>
                          </a:lnTo>
                          <a:lnTo>
                            <a:pt x="1226" y="501"/>
                          </a:lnTo>
                          <a:lnTo>
                            <a:pt x="1271" y="546"/>
                          </a:lnTo>
                          <a:lnTo>
                            <a:pt x="1304" y="602"/>
                          </a:lnTo>
                          <a:lnTo>
                            <a:pt x="1338" y="646"/>
                          </a:lnTo>
                          <a:lnTo>
                            <a:pt x="1382" y="702"/>
                          </a:lnTo>
                          <a:lnTo>
                            <a:pt x="1416" y="747"/>
                          </a:lnTo>
                          <a:lnTo>
                            <a:pt x="1449" y="802"/>
                          </a:lnTo>
                          <a:lnTo>
                            <a:pt x="1471" y="847"/>
                          </a:lnTo>
                          <a:lnTo>
                            <a:pt x="1505" y="892"/>
                          </a:lnTo>
                          <a:lnTo>
                            <a:pt x="1527" y="925"/>
                          </a:lnTo>
                          <a:lnTo>
                            <a:pt x="1538" y="958"/>
                          </a:lnTo>
                          <a:lnTo>
                            <a:pt x="1538" y="992"/>
                          </a:lnTo>
                          <a:lnTo>
                            <a:pt x="1516" y="1025"/>
                          </a:lnTo>
                          <a:lnTo>
                            <a:pt x="1505" y="1059"/>
                          </a:lnTo>
                          <a:lnTo>
                            <a:pt x="1482" y="1103"/>
                          </a:lnTo>
                          <a:lnTo>
                            <a:pt x="1471" y="1159"/>
                          </a:lnTo>
                          <a:lnTo>
                            <a:pt x="1471" y="1204"/>
                          </a:lnTo>
                          <a:lnTo>
                            <a:pt x="1460" y="1259"/>
                          </a:lnTo>
                          <a:lnTo>
                            <a:pt x="1471" y="1304"/>
                          </a:lnTo>
                          <a:lnTo>
                            <a:pt x="1471" y="1360"/>
                          </a:lnTo>
                          <a:lnTo>
                            <a:pt x="1494" y="1404"/>
                          </a:lnTo>
                          <a:lnTo>
                            <a:pt x="1505" y="1460"/>
                          </a:lnTo>
                          <a:lnTo>
                            <a:pt x="1527" y="1505"/>
                          </a:lnTo>
                          <a:lnTo>
                            <a:pt x="1560" y="1538"/>
                          </a:lnTo>
                          <a:lnTo>
                            <a:pt x="1594" y="1583"/>
                          </a:lnTo>
                          <a:lnTo>
                            <a:pt x="1627" y="1616"/>
                          </a:lnTo>
                          <a:lnTo>
                            <a:pt x="1672" y="1638"/>
                          </a:lnTo>
                          <a:lnTo>
                            <a:pt x="1717" y="1661"/>
                          </a:lnTo>
                          <a:lnTo>
                            <a:pt x="1728" y="1661"/>
                          </a:lnTo>
                          <a:lnTo>
                            <a:pt x="1728" y="1649"/>
                          </a:lnTo>
                          <a:lnTo>
                            <a:pt x="1728" y="1638"/>
                          </a:lnTo>
                          <a:lnTo>
                            <a:pt x="1717" y="1627"/>
                          </a:lnTo>
                          <a:lnTo>
                            <a:pt x="1705" y="1616"/>
                          </a:lnTo>
                          <a:lnTo>
                            <a:pt x="1717" y="1605"/>
                          </a:lnTo>
                          <a:lnTo>
                            <a:pt x="1728" y="1616"/>
                          </a:lnTo>
                          <a:lnTo>
                            <a:pt x="1739" y="1627"/>
                          </a:lnTo>
                          <a:lnTo>
                            <a:pt x="1761" y="1661"/>
                          </a:lnTo>
                          <a:lnTo>
                            <a:pt x="1772" y="1705"/>
                          </a:lnTo>
                          <a:lnTo>
                            <a:pt x="1783" y="1750"/>
                          </a:lnTo>
                          <a:lnTo>
                            <a:pt x="1783" y="1805"/>
                          </a:lnTo>
                          <a:lnTo>
                            <a:pt x="1783" y="1850"/>
                          </a:lnTo>
                          <a:lnTo>
                            <a:pt x="1783" y="1895"/>
                          </a:lnTo>
                          <a:lnTo>
                            <a:pt x="1772" y="1928"/>
                          </a:lnTo>
                          <a:lnTo>
                            <a:pt x="1795" y="1906"/>
                          </a:lnTo>
                          <a:lnTo>
                            <a:pt x="1817" y="1883"/>
                          </a:lnTo>
                          <a:lnTo>
                            <a:pt x="1839" y="1861"/>
                          </a:lnTo>
                          <a:lnTo>
                            <a:pt x="1861" y="1850"/>
                          </a:lnTo>
                          <a:lnTo>
                            <a:pt x="1873" y="1828"/>
                          </a:lnTo>
                          <a:lnTo>
                            <a:pt x="1884" y="1805"/>
                          </a:lnTo>
                          <a:lnTo>
                            <a:pt x="1895" y="1783"/>
                          </a:lnTo>
                          <a:lnTo>
                            <a:pt x="1917" y="1761"/>
                          </a:lnTo>
                          <a:lnTo>
                            <a:pt x="1917" y="1750"/>
                          </a:lnTo>
                          <a:lnTo>
                            <a:pt x="1928" y="1727"/>
                          </a:lnTo>
                          <a:lnTo>
                            <a:pt x="1939" y="1705"/>
                          </a:lnTo>
                          <a:lnTo>
                            <a:pt x="1951" y="1683"/>
                          </a:lnTo>
                          <a:lnTo>
                            <a:pt x="1962" y="1661"/>
                          </a:lnTo>
                          <a:lnTo>
                            <a:pt x="1962" y="1627"/>
                          </a:lnTo>
                          <a:lnTo>
                            <a:pt x="1973" y="1605"/>
                          </a:lnTo>
                          <a:lnTo>
                            <a:pt x="1973" y="1594"/>
                          </a:lnTo>
                          <a:lnTo>
                            <a:pt x="1984" y="1594"/>
                          </a:lnTo>
                          <a:lnTo>
                            <a:pt x="1984" y="1605"/>
                          </a:lnTo>
                          <a:lnTo>
                            <a:pt x="1973" y="1627"/>
                          </a:lnTo>
                          <a:lnTo>
                            <a:pt x="1973" y="1638"/>
                          </a:lnTo>
                          <a:lnTo>
                            <a:pt x="1962" y="1649"/>
                          </a:lnTo>
                          <a:lnTo>
                            <a:pt x="1973" y="1661"/>
                          </a:lnTo>
                          <a:lnTo>
                            <a:pt x="1984" y="1661"/>
                          </a:lnTo>
                          <a:lnTo>
                            <a:pt x="2006" y="1649"/>
                          </a:lnTo>
                          <a:lnTo>
                            <a:pt x="2040" y="1616"/>
                          </a:lnTo>
                          <a:lnTo>
                            <a:pt x="2062" y="1583"/>
                          </a:lnTo>
                          <a:lnTo>
                            <a:pt x="2084" y="1538"/>
                          </a:lnTo>
                          <a:lnTo>
                            <a:pt x="2095" y="1505"/>
                          </a:lnTo>
                          <a:lnTo>
                            <a:pt x="2107" y="1460"/>
                          </a:lnTo>
                          <a:lnTo>
                            <a:pt x="2095" y="1415"/>
                          </a:lnTo>
                          <a:lnTo>
                            <a:pt x="2095" y="1371"/>
                          </a:lnTo>
                          <a:lnTo>
                            <a:pt x="2073" y="1326"/>
                          </a:lnTo>
                          <a:lnTo>
                            <a:pt x="2051" y="1282"/>
                          </a:lnTo>
                          <a:lnTo>
                            <a:pt x="2029" y="1237"/>
                          </a:lnTo>
                          <a:lnTo>
                            <a:pt x="1984" y="1192"/>
                          </a:lnTo>
                          <a:lnTo>
                            <a:pt x="1939" y="1148"/>
                          </a:lnTo>
                          <a:lnTo>
                            <a:pt x="1895" y="1092"/>
                          </a:lnTo>
                          <a:lnTo>
                            <a:pt x="1839" y="1048"/>
                          </a:lnTo>
                          <a:lnTo>
                            <a:pt x="1783" y="992"/>
                          </a:lnTo>
                          <a:lnTo>
                            <a:pt x="1705" y="947"/>
                          </a:lnTo>
                          <a:lnTo>
                            <a:pt x="1717" y="892"/>
                          </a:lnTo>
                          <a:lnTo>
                            <a:pt x="1717" y="847"/>
                          </a:lnTo>
                          <a:lnTo>
                            <a:pt x="1717" y="791"/>
                          </a:lnTo>
                          <a:lnTo>
                            <a:pt x="1717" y="735"/>
                          </a:lnTo>
                          <a:lnTo>
                            <a:pt x="1728" y="669"/>
                          </a:lnTo>
                          <a:lnTo>
                            <a:pt x="1728" y="613"/>
                          </a:lnTo>
                          <a:lnTo>
                            <a:pt x="1728" y="546"/>
                          </a:lnTo>
                          <a:lnTo>
                            <a:pt x="1717" y="479"/>
                          </a:lnTo>
                          <a:lnTo>
                            <a:pt x="1705" y="423"/>
                          </a:lnTo>
                          <a:lnTo>
                            <a:pt x="1694" y="368"/>
                          </a:lnTo>
                          <a:lnTo>
                            <a:pt x="1683" y="301"/>
                          </a:lnTo>
                          <a:lnTo>
                            <a:pt x="1650" y="256"/>
                          </a:lnTo>
                          <a:lnTo>
                            <a:pt x="1616" y="200"/>
                          </a:lnTo>
                          <a:lnTo>
                            <a:pt x="1583" y="156"/>
                          </a:lnTo>
                          <a:lnTo>
                            <a:pt x="1527" y="122"/>
                          </a:lnTo>
                          <a:lnTo>
                            <a:pt x="1471" y="89"/>
                          </a:lnTo>
                          <a:lnTo>
                            <a:pt x="1460" y="78"/>
                          </a:lnTo>
                          <a:lnTo>
                            <a:pt x="1438" y="67"/>
                          </a:lnTo>
                          <a:lnTo>
                            <a:pt x="1416" y="67"/>
                          </a:lnTo>
                          <a:lnTo>
                            <a:pt x="1404" y="56"/>
                          </a:lnTo>
                          <a:lnTo>
                            <a:pt x="1382" y="44"/>
                          </a:lnTo>
                          <a:lnTo>
                            <a:pt x="1360" y="44"/>
                          </a:lnTo>
                          <a:lnTo>
                            <a:pt x="1349" y="44"/>
                          </a:lnTo>
                          <a:lnTo>
                            <a:pt x="1326" y="44"/>
                          </a:lnTo>
                          <a:lnTo>
                            <a:pt x="1315" y="44"/>
                          </a:lnTo>
                          <a:lnTo>
                            <a:pt x="1293" y="44"/>
                          </a:lnTo>
                          <a:lnTo>
                            <a:pt x="1282" y="44"/>
                          </a:lnTo>
                          <a:lnTo>
                            <a:pt x="1260" y="44"/>
                          </a:lnTo>
                          <a:lnTo>
                            <a:pt x="1248" y="56"/>
                          </a:lnTo>
                          <a:lnTo>
                            <a:pt x="1237" y="56"/>
                          </a:lnTo>
                          <a:lnTo>
                            <a:pt x="1226" y="56"/>
                          </a:lnTo>
                          <a:lnTo>
                            <a:pt x="1215" y="67"/>
                          </a:lnTo>
                          <a:lnTo>
                            <a:pt x="1193" y="78"/>
                          </a:lnTo>
                          <a:lnTo>
                            <a:pt x="1182" y="89"/>
                          </a:lnTo>
                          <a:lnTo>
                            <a:pt x="1170" y="100"/>
                          </a:lnTo>
                          <a:lnTo>
                            <a:pt x="1148" y="111"/>
                          </a:lnTo>
                          <a:lnTo>
                            <a:pt x="1137" y="122"/>
                          </a:lnTo>
                          <a:lnTo>
                            <a:pt x="1115" y="134"/>
                          </a:lnTo>
                          <a:lnTo>
                            <a:pt x="1104" y="145"/>
                          </a:lnTo>
                          <a:lnTo>
                            <a:pt x="1092" y="167"/>
                          </a:lnTo>
                          <a:close/>
                        </a:path>
                      </a:pathLst>
                    </a:custGeom>
                    <a:solidFill>
                      <a:srgbClr val="f5c77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911"/>
                    <p:cNvSpPr/>
                    <p:nvPr/>
                  </p:nvSpPr>
                  <p:spPr>
                    <a:xfrm rot="111600">
                      <a:off x="7892640" y="833760"/>
                      <a:ext cx="25200" cy="19080"/>
                    </a:xfrm>
                    <a:custGeom>
                      <a:avLst/>
                      <a:gdLst>
                        <a:gd name="textAreaLeft" fmla="*/ 0 w 25200"/>
                        <a:gd name="textAreaRight" fmla="*/ 25560 w 25200"/>
                        <a:gd name="textAreaTop" fmla="*/ 0 h 19080"/>
                        <a:gd name="textAreaBottom" fmla="*/ 19440 h 19080"/>
                      </a:gdLst>
                      <a:ahLst/>
                      <a:rect l="textAreaLeft" t="textAreaTop" r="textAreaRight" b="textAreaBottom"/>
                      <a:pathLst>
                        <a:path w="200" h="145">
                          <a:moveTo>
                            <a:pt x="0" y="11"/>
                          </a:moveTo>
                          <a:lnTo>
                            <a:pt x="0" y="11"/>
                          </a:lnTo>
                          <a:lnTo>
                            <a:pt x="33" y="22"/>
                          </a:lnTo>
                          <a:lnTo>
                            <a:pt x="67" y="45"/>
                          </a:lnTo>
                          <a:lnTo>
                            <a:pt x="89" y="56"/>
                          </a:lnTo>
                          <a:lnTo>
                            <a:pt x="122" y="78"/>
                          </a:lnTo>
                          <a:lnTo>
                            <a:pt x="145" y="100"/>
                          </a:lnTo>
                          <a:lnTo>
                            <a:pt x="167" y="112"/>
                          </a:lnTo>
                          <a:lnTo>
                            <a:pt x="178" y="134"/>
                          </a:lnTo>
                          <a:lnTo>
                            <a:pt x="189" y="145"/>
                          </a:lnTo>
                          <a:lnTo>
                            <a:pt x="200" y="134"/>
                          </a:lnTo>
                          <a:lnTo>
                            <a:pt x="189" y="123"/>
                          </a:lnTo>
                          <a:lnTo>
                            <a:pt x="167" y="100"/>
                          </a:lnTo>
                          <a:lnTo>
                            <a:pt x="156" y="89"/>
                          </a:lnTo>
                          <a:lnTo>
                            <a:pt x="122" y="67"/>
                          </a:lnTo>
                          <a:lnTo>
                            <a:pt x="100" y="45"/>
                          </a:lnTo>
                          <a:lnTo>
                            <a:pt x="67" y="22"/>
                          </a:lnTo>
                          <a:lnTo>
                            <a:pt x="44" y="11"/>
                          </a:lnTo>
                          <a:lnTo>
                            <a:pt x="0" y="0"/>
                          </a:lnTo>
                          <a:lnTo>
                            <a:pt x="0" y="11"/>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1910"/>
                    <p:cNvSpPr/>
                    <p:nvPr/>
                  </p:nvSpPr>
                  <p:spPr>
                    <a:xfrm rot="111600">
                      <a:off x="7818840" y="829440"/>
                      <a:ext cx="73800" cy="39600"/>
                    </a:xfrm>
                    <a:custGeom>
                      <a:avLst/>
                      <a:gdLst>
                        <a:gd name="textAreaLeft" fmla="*/ 0 w 73800"/>
                        <a:gd name="textAreaRight" fmla="*/ 74160 w 73800"/>
                        <a:gd name="textAreaTop" fmla="*/ 0 h 39600"/>
                        <a:gd name="textAreaBottom" fmla="*/ 39600 h 39600"/>
                      </a:gdLst>
                      <a:ahLst/>
                      <a:rect l="textAreaLeft" t="textAreaTop" r="textAreaRight" b="textAreaBottom"/>
                      <a:pathLst>
                        <a:path w="580" h="301">
                          <a:moveTo>
                            <a:pt x="11" y="301"/>
                          </a:moveTo>
                          <a:lnTo>
                            <a:pt x="11" y="301"/>
                          </a:lnTo>
                          <a:lnTo>
                            <a:pt x="34" y="267"/>
                          </a:lnTo>
                          <a:lnTo>
                            <a:pt x="67" y="223"/>
                          </a:lnTo>
                          <a:lnTo>
                            <a:pt x="89" y="189"/>
                          </a:lnTo>
                          <a:lnTo>
                            <a:pt x="123" y="156"/>
                          </a:lnTo>
                          <a:lnTo>
                            <a:pt x="156" y="122"/>
                          </a:lnTo>
                          <a:lnTo>
                            <a:pt x="190" y="100"/>
                          </a:lnTo>
                          <a:lnTo>
                            <a:pt x="223" y="78"/>
                          </a:lnTo>
                          <a:lnTo>
                            <a:pt x="257" y="56"/>
                          </a:lnTo>
                          <a:lnTo>
                            <a:pt x="301" y="33"/>
                          </a:lnTo>
                          <a:lnTo>
                            <a:pt x="335" y="22"/>
                          </a:lnTo>
                          <a:lnTo>
                            <a:pt x="368" y="22"/>
                          </a:lnTo>
                          <a:lnTo>
                            <a:pt x="413" y="11"/>
                          </a:lnTo>
                          <a:lnTo>
                            <a:pt x="457" y="11"/>
                          </a:lnTo>
                          <a:lnTo>
                            <a:pt x="502" y="11"/>
                          </a:lnTo>
                          <a:lnTo>
                            <a:pt x="535" y="22"/>
                          </a:lnTo>
                          <a:lnTo>
                            <a:pt x="580" y="33"/>
                          </a:lnTo>
                          <a:lnTo>
                            <a:pt x="580" y="22"/>
                          </a:lnTo>
                          <a:lnTo>
                            <a:pt x="546" y="11"/>
                          </a:lnTo>
                          <a:lnTo>
                            <a:pt x="502" y="0"/>
                          </a:lnTo>
                          <a:lnTo>
                            <a:pt x="457" y="0"/>
                          </a:lnTo>
                          <a:lnTo>
                            <a:pt x="413" y="0"/>
                          </a:lnTo>
                          <a:lnTo>
                            <a:pt x="368" y="0"/>
                          </a:lnTo>
                          <a:lnTo>
                            <a:pt x="335" y="11"/>
                          </a:lnTo>
                          <a:lnTo>
                            <a:pt x="290" y="22"/>
                          </a:lnTo>
                          <a:lnTo>
                            <a:pt x="257" y="44"/>
                          </a:lnTo>
                          <a:lnTo>
                            <a:pt x="212" y="67"/>
                          </a:lnTo>
                          <a:lnTo>
                            <a:pt x="179" y="89"/>
                          </a:lnTo>
                          <a:lnTo>
                            <a:pt x="145" y="111"/>
                          </a:lnTo>
                          <a:lnTo>
                            <a:pt x="112" y="145"/>
                          </a:lnTo>
                          <a:lnTo>
                            <a:pt x="78" y="178"/>
                          </a:lnTo>
                          <a:lnTo>
                            <a:pt x="56" y="212"/>
                          </a:lnTo>
                          <a:lnTo>
                            <a:pt x="23" y="256"/>
                          </a:lnTo>
                          <a:lnTo>
                            <a:pt x="0" y="301"/>
                          </a:lnTo>
                          <a:lnTo>
                            <a:pt x="11" y="301"/>
                          </a:lnTo>
                          <a:close/>
                        </a:path>
                      </a:pathLst>
                    </a:custGeom>
                    <a:solidFill>
                      <a:srgbClr val="0000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909"/>
                    <p:cNvSpPr/>
                    <p:nvPr/>
                  </p:nvSpPr>
                  <p:spPr>
                    <a:xfrm rot="111600">
                      <a:off x="7811280" y="867600"/>
                      <a:ext cx="6840" cy="45360"/>
                    </a:xfrm>
                    <a:custGeom>
                      <a:avLst/>
                      <a:gdLst>
                        <a:gd name="textAreaLeft" fmla="*/ 0 w 6840"/>
                        <a:gd name="textAreaRight" fmla="*/ 7200 w 6840"/>
                        <a:gd name="textAreaTop" fmla="*/ 0 h 45360"/>
                        <a:gd name="textAreaBottom" fmla="*/ 45720 h 45360"/>
                      </a:gdLst>
                      <a:ahLst/>
                      <a:rect l="textAreaLeft" t="textAreaTop" r="textAreaRight" b="textAreaBottom"/>
                      <a:pathLst>
                        <a:path w="55" h="345">
                          <a:moveTo>
                            <a:pt x="11" y="334"/>
                          </a:moveTo>
                          <a:lnTo>
                            <a:pt x="11" y="334"/>
                          </a:lnTo>
                          <a:lnTo>
                            <a:pt x="11" y="290"/>
                          </a:lnTo>
                          <a:lnTo>
                            <a:pt x="11" y="245"/>
                          </a:lnTo>
                          <a:lnTo>
                            <a:pt x="22" y="200"/>
                          </a:lnTo>
                          <a:lnTo>
                            <a:pt x="22" y="156"/>
                          </a:lnTo>
                          <a:lnTo>
                            <a:pt x="33" y="122"/>
                          </a:lnTo>
                          <a:lnTo>
                            <a:pt x="33" y="78"/>
                          </a:lnTo>
                          <a:lnTo>
                            <a:pt x="44" y="33"/>
                          </a:lnTo>
                          <a:lnTo>
                            <a:pt x="55" y="0"/>
                          </a:lnTo>
                          <a:lnTo>
                            <a:pt x="44" y="0"/>
                          </a:lnTo>
                          <a:lnTo>
                            <a:pt x="33" y="33"/>
                          </a:lnTo>
                          <a:lnTo>
                            <a:pt x="22" y="78"/>
                          </a:lnTo>
                          <a:lnTo>
                            <a:pt x="11" y="122"/>
                          </a:lnTo>
                          <a:lnTo>
                            <a:pt x="11" y="156"/>
                          </a:lnTo>
                          <a:lnTo>
                            <a:pt x="0" y="200"/>
                          </a:lnTo>
                          <a:lnTo>
                            <a:pt x="0" y="245"/>
                          </a:lnTo>
                          <a:lnTo>
                            <a:pt x="0" y="290"/>
                          </a:lnTo>
                          <a:lnTo>
                            <a:pt x="0" y="334"/>
                          </a:lnTo>
                          <a:lnTo>
                            <a:pt x="0" y="345"/>
                          </a:lnTo>
                          <a:lnTo>
                            <a:pt x="11" y="334"/>
                          </a:lnTo>
                          <a:close/>
                        </a:path>
                      </a:pathLst>
                    </a:custGeom>
                    <a:solidFill>
                      <a:srgbClr val="000000"/>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908"/>
                    <p:cNvSpPr/>
                    <p:nvPr/>
                  </p:nvSpPr>
                  <p:spPr>
                    <a:xfrm rot="111600">
                      <a:off x="7810200" y="911880"/>
                      <a:ext cx="6840" cy="36720"/>
                    </a:xfrm>
                    <a:custGeom>
                      <a:avLst/>
                      <a:gdLst>
                        <a:gd name="textAreaLeft" fmla="*/ 0 w 6840"/>
                        <a:gd name="textAreaRight" fmla="*/ 7200 w 6840"/>
                        <a:gd name="textAreaTop" fmla="*/ 0 h 36720"/>
                        <a:gd name="textAreaBottom" fmla="*/ 37080 h 36720"/>
                      </a:gdLst>
                      <a:ahLst/>
                      <a:rect l="textAreaLeft" t="textAreaTop" r="textAreaRight" b="textAreaBottom"/>
                      <a:pathLst>
                        <a:path w="55" h="279">
                          <a:moveTo>
                            <a:pt x="44" y="279"/>
                          </a:moveTo>
                          <a:lnTo>
                            <a:pt x="44" y="279"/>
                          </a:lnTo>
                          <a:lnTo>
                            <a:pt x="55" y="245"/>
                          </a:lnTo>
                          <a:lnTo>
                            <a:pt x="55" y="201"/>
                          </a:lnTo>
                          <a:lnTo>
                            <a:pt x="55" y="167"/>
                          </a:lnTo>
                          <a:lnTo>
                            <a:pt x="55" y="123"/>
                          </a:lnTo>
                          <a:lnTo>
                            <a:pt x="44" y="89"/>
                          </a:lnTo>
                          <a:lnTo>
                            <a:pt x="44" y="56"/>
                          </a:lnTo>
                          <a:lnTo>
                            <a:pt x="22" y="22"/>
                          </a:lnTo>
                          <a:lnTo>
                            <a:pt x="11" y="0"/>
                          </a:lnTo>
                          <a:lnTo>
                            <a:pt x="0" y="11"/>
                          </a:lnTo>
                          <a:lnTo>
                            <a:pt x="11" y="22"/>
                          </a:lnTo>
                          <a:lnTo>
                            <a:pt x="22" y="56"/>
                          </a:lnTo>
                          <a:lnTo>
                            <a:pt x="33" y="89"/>
                          </a:lnTo>
                          <a:lnTo>
                            <a:pt x="44" y="123"/>
                          </a:lnTo>
                          <a:lnTo>
                            <a:pt x="44" y="167"/>
                          </a:lnTo>
                          <a:lnTo>
                            <a:pt x="44" y="201"/>
                          </a:lnTo>
                          <a:lnTo>
                            <a:pt x="33" y="234"/>
                          </a:lnTo>
                          <a:lnTo>
                            <a:pt x="22" y="268"/>
                          </a:lnTo>
                          <a:lnTo>
                            <a:pt x="44" y="279"/>
                          </a:lnTo>
                          <a:close/>
                        </a:path>
                      </a:pathLst>
                    </a:custGeom>
                    <a:solidFill>
                      <a:srgbClr val="000000"/>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907"/>
                    <p:cNvSpPr/>
                    <p:nvPr/>
                  </p:nvSpPr>
                  <p:spPr>
                    <a:xfrm rot="111600">
                      <a:off x="7780680" y="946440"/>
                      <a:ext cx="33840" cy="34920"/>
                    </a:xfrm>
                    <a:custGeom>
                      <a:avLst/>
                      <a:gdLst>
                        <a:gd name="textAreaLeft" fmla="*/ 0 w 33840"/>
                        <a:gd name="textAreaRight" fmla="*/ 34200 w 33840"/>
                        <a:gd name="textAreaTop" fmla="*/ 0 h 34920"/>
                        <a:gd name="textAreaBottom" fmla="*/ 35280 h 34920"/>
                      </a:gdLst>
                      <a:ahLst/>
                      <a:rect l="textAreaLeft" t="textAreaTop" r="textAreaRight" b="textAreaBottom"/>
                      <a:pathLst>
                        <a:path w="267" h="267">
                          <a:moveTo>
                            <a:pt x="11" y="267"/>
                          </a:moveTo>
                          <a:lnTo>
                            <a:pt x="11" y="267"/>
                          </a:lnTo>
                          <a:lnTo>
                            <a:pt x="11" y="245"/>
                          </a:lnTo>
                          <a:lnTo>
                            <a:pt x="33" y="234"/>
                          </a:lnTo>
                          <a:lnTo>
                            <a:pt x="44" y="223"/>
                          </a:lnTo>
                          <a:lnTo>
                            <a:pt x="55" y="200"/>
                          </a:lnTo>
                          <a:lnTo>
                            <a:pt x="78" y="189"/>
                          </a:lnTo>
                          <a:lnTo>
                            <a:pt x="100" y="178"/>
                          </a:lnTo>
                          <a:lnTo>
                            <a:pt x="122" y="156"/>
                          </a:lnTo>
                          <a:lnTo>
                            <a:pt x="145" y="145"/>
                          </a:lnTo>
                          <a:lnTo>
                            <a:pt x="156" y="122"/>
                          </a:lnTo>
                          <a:lnTo>
                            <a:pt x="178" y="111"/>
                          </a:lnTo>
                          <a:lnTo>
                            <a:pt x="200" y="100"/>
                          </a:lnTo>
                          <a:lnTo>
                            <a:pt x="211" y="78"/>
                          </a:lnTo>
                          <a:lnTo>
                            <a:pt x="234" y="67"/>
                          </a:lnTo>
                          <a:lnTo>
                            <a:pt x="245" y="44"/>
                          </a:lnTo>
                          <a:lnTo>
                            <a:pt x="256" y="22"/>
                          </a:lnTo>
                          <a:lnTo>
                            <a:pt x="267" y="11"/>
                          </a:lnTo>
                          <a:lnTo>
                            <a:pt x="245" y="0"/>
                          </a:lnTo>
                          <a:lnTo>
                            <a:pt x="245" y="22"/>
                          </a:lnTo>
                          <a:lnTo>
                            <a:pt x="234" y="33"/>
                          </a:lnTo>
                          <a:lnTo>
                            <a:pt x="223" y="55"/>
                          </a:lnTo>
                          <a:lnTo>
                            <a:pt x="200" y="67"/>
                          </a:lnTo>
                          <a:lnTo>
                            <a:pt x="189" y="89"/>
                          </a:lnTo>
                          <a:lnTo>
                            <a:pt x="167" y="100"/>
                          </a:lnTo>
                          <a:lnTo>
                            <a:pt x="156" y="111"/>
                          </a:lnTo>
                          <a:lnTo>
                            <a:pt x="133" y="133"/>
                          </a:lnTo>
                          <a:lnTo>
                            <a:pt x="111" y="145"/>
                          </a:lnTo>
                          <a:lnTo>
                            <a:pt x="89" y="167"/>
                          </a:lnTo>
                          <a:lnTo>
                            <a:pt x="67" y="178"/>
                          </a:lnTo>
                          <a:lnTo>
                            <a:pt x="55" y="189"/>
                          </a:lnTo>
                          <a:lnTo>
                            <a:pt x="33" y="211"/>
                          </a:lnTo>
                          <a:lnTo>
                            <a:pt x="22" y="223"/>
                          </a:lnTo>
                          <a:lnTo>
                            <a:pt x="11" y="245"/>
                          </a:lnTo>
                          <a:lnTo>
                            <a:pt x="0" y="256"/>
                          </a:lnTo>
                          <a:lnTo>
                            <a:pt x="11" y="267"/>
                          </a:lnTo>
                          <a:close/>
                        </a:path>
                      </a:pathLst>
                    </a:custGeom>
                    <a:solidFill>
                      <a:srgbClr val="000000"/>
                    </a:solidFill>
                    <a:ln w="0">
                      <a:noFill/>
                    </a:ln>
                  </p:spPr>
                  <p:style>
                    <a:lnRef idx="0"/>
                    <a:fillRef idx="0"/>
                    <a:effectRef idx="0"/>
                    <a:fontRef idx="minor"/>
                  </p:style>
                  <p:txBody>
                    <a:bodyPr lIns="90000" rIns="90000" tIns="-11520" bIns="-11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906"/>
                    <p:cNvSpPr/>
                    <p:nvPr/>
                  </p:nvSpPr>
                  <p:spPr>
                    <a:xfrm rot="111600">
                      <a:off x="7772400" y="979920"/>
                      <a:ext cx="8280" cy="60120"/>
                    </a:xfrm>
                    <a:custGeom>
                      <a:avLst/>
                      <a:gdLst>
                        <a:gd name="textAreaLeft" fmla="*/ 0 w 8280"/>
                        <a:gd name="textAreaRight" fmla="*/ 8640 w 8280"/>
                        <a:gd name="textAreaTop" fmla="*/ 0 h 60120"/>
                        <a:gd name="textAreaBottom" fmla="*/ 60480 h 60120"/>
                      </a:gdLst>
                      <a:ahLst/>
                      <a:rect l="textAreaLeft" t="textAreaTop" r="textAreaRight" b="textAreaBottom"/>
                      <a:pathLst>
                        <a:path w="67" h="457">
                          <a:moveTo>
                            <a:pt x="67" y="457"/>
                          </a:moveTo>
                          <a:lnTo>
                            <a:pt x="67" y="457"/>
                          </a:lnTo>
                          <a:lnTo>
                            <a:pt x="45" y="401"/>
                          </a:lnTo>
                          <a:lnTo>
                            <a:pt x="33" y="357"/>
                          </a:lnTo>
                          <a:lnTo>
                            <a:pt x="22" y="290"/>
                          </a:lnTo>
                          <a:lnTo>
                            <a:pt x="11" y="234"/>
                          </a:lnTo>
                          <a:lnTo>
                            <a:pt x="22" y="167"/>
                          </a:lnTo>
                          <a:lnTo>
                            <a:pt x="22" y="111"/>
                          </a:lnTo>
                          <a:lnTo>
                            <a:pt x="33" y="56"/>
                          </a:lnTo>
                          <a:lnTo>
                            <a:pt x="67" y="11"/>
                          </a:lnTo>
                          <a:lnTo>
                            <a:pt x="56" y="0"/>
                          </a:lnTo>
                          <a:lnTo>
                            <a:pt x="22" y="45"/>
                          </a:lnTo>
                          <a:lnTo>
                            <a:pt x="11" y="100"/>
                          </a:lnTo>
                          <a:lnTo>
                            <a:pt x="0" y="167"/>
                          </a:lnTo>
                          <a:lnTo>
                            <a:pt x="0" y="234"/>
                          </a:lnTo>
                          <a:lnTo>
                            <a:pt x="0" y="290"/>
                          </a:lnTo>
                          <a:lnTo>
                            <a:pt x="22" y="357"/>
                          </a:lnTo>
                          <a:lnTo>
                            <a:pt x="33" y="412"/>
                          </a:lnTo>
                          <a:lnTo>
                            <a:pt x="56" y="457"/>
                          </a:lnTo>
                          <a:lnTo>
                            <a:pt x="67" y="457"/>
                          </a:lnTo>
                          <a:close/>
                        </a:path>
                      </a:pathLst>
                    </a:custGeom>
                    <a:solidFill>
                      <a:srgbClr val="000000"/>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905"/>
                    <p:cNvSpPr/>
                    <p:nvPr/>
                  </p:nvSpPr>
                  <p:spPr>
                    <a:xfrm rot="111600">
                      <a:off x="7778160" y="1029960"/>
                      <a:ext cx="5400" cy="11520"/>
                    </a:xfrm>
                    <a:custGeom>
                      <a:avLst/>
                      <a:gdLst>
                        <a:gd name="textAreaLeft" fmla="*/ 0 w 5400"/>
                        <a:gd name="textAreaRight" fmla="*/ 5760 w 5400"/>
                        <a:gd name="textAreaTop" fmla="*/ 0 h 11520"/>
                        <a:gd name="textAreaBottom" fmla="*/ 11880 h 11520"/>
                      </a:gdLst>
                      <a:ahLst/>
                      <a:rect l="textAreaLeft" t="textAreaTop" r="textAreaRight" b="textAreaBottom"/>
                      <a:pathLst>
                        <a:path w="44" h="89">
                          <a:moveTo>
                            <a:pt x="44" y="22"/>
                          </a:moveTo>
                          <a:lnTo>
                            <a:pt x="44" y="22"/>
                          </a:lnTo>
                          <a:lnTo>
                            <a:pt x="44" y="0"/>
                          </a:lnTo>
                          <a:lnTo>
                            <a:pt x="33" y="11"/>
                          </a:lnTo>
                          <a:lnTo>
                            <a:pt x="22" y="22"/>
                          </a:lnTo>
                          <a:lnTo>
                            <a:pt x="22" y="45"/>
                          </a:lnTo>
                          <a:lnTo>
                            <a:pt x="11" y="56"/>
                          </a:lnTo>
                          <a:lnTo>
                            <a:pt x="11" y="67"/>
                          </a:lnTo>
                          <a:lnTo>
                            <a:pt x="0" y="78"/>
                          </a:lnTo>
                          <a:lnTo>
                            <a:pt x="11" y="78"/>
                          </a:lnTo>
                          <a:lnTo>
                            <a:pt x="0" y="78"/>
                          </a:lnTo>
                          <a:lnTo>
                            <a:pt x="11" y="89"/>
                          </a:lnTo>
                          <a:lnTo>
                            <a:pt x="22" y="78"/>
                          </a:lnTo>
                          <a:lnTo>
                            <a:pt x="22" y="67"/>
                          </a:lnTo>
                          <a:lnTo>
                            <a:pt x="33" y="45"/>
                          </a:lnTo>
                          <a:lnTo>
                            <a:pt x="33" y="33"/>
                          </a:lnTo>
                          <a:lnTo>
                            <a:pt x="44" y="22"/>
                          </a:lnTo>
                          <a:lnTo>
                            <a:pt x="33" y="22"/>
                          </a:lnTo>
                          <a:lnTo>
                            <a:pt x="44" y="22"/>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904"/>
                    <p:cNvSpPr/>
                    <p:nvPr/>
                  </p:nvSpPr>
                  <p:spPr>
                    <a:xfrm rot="111600">
                      <a:off x="7782120" y="1033200"/>
                      <a:ext cx="21240" cy="35280"/>
                    </a:xfrm>
                    <a:custGeom>
                      <a:avLst/>
                      <a:gdLst>
                        <a:gd name="textAreaLeft" fmla="*/ 0 w 21240"/>
                        <a:gd name="textAreaRight" fmla="*/ 21600 w 21240"/>
                        <a:gd name="textAreaTop" fmla="*/ 0 h 35280"/>
                        <a:gd name="textAreaBottom" fmla="*/ 35640 h 35280"/>
                      </a:gdLst>
                      <a:ahLst/>
                      <a:rect l="textAreaLeft" t="textAreaTop" r="textAreaRight" b="textAreaBottom"/>
                      <a:pathLst>
                        <a:path w="167" h="268">
                          <a:moveTo>
                            <a:pt x="156" y="268"/>
                          </a:moveTo>
                          <a:lnTo>
                            <a:pt x="167" y="268"/>
                          </a:lnTo>
                          <a:lnTo>
                            <a:pt x="134" y="234"/>
                          </a:lnTo>
                          <a:lnTo>
                            <a:pt x="112" y="212"/>
                          </a:lnTo>
                          <a:lnTo>
                            <a:pt x="78" y="190"/>
                          </a:lnTo>
                          <a:lnTo>
                            <a:pt x="56" y="167"/>
                          </a:lnTo>
                          <a:lnTo>
                            <a:pt x="45" y="134"/>
                          </a:lnTo>
                          <a:lnTo>
                            <a:pt x="22" y="89"/>
                          </a:lnTo>
                          <a:lnTo>
                            <a:pt x="22" y="45"/>
                          </a:lnTo>
                          <a:lnTo>
                            <a:pt x="11" y="0"/>
                          </a:lnTo>
                          <a:lnTo>
                            <a:pt x="0" y="0"/>
                          </a:lnTo>
                          <a:lnTo>
                            <a:pt x="0" y="45"/>
                          </a:lnTo>
                          <a:lnTo>
                            <a:pt x="11" y="101"/>
                          </a:lnTo>
                          <a:lnTo>
                            <a:pt x="22" y="134"/>
                          </a:lnTo>
                          <a:lnTo>
                            <a:pt x="45" y="167"/>
                          </a:lnTo>
                          <a:lnTo>
                            <a:pt x="78" y="201"/>
                          </a:lnTo>
                          <a:lnTo>
                            <a:pt x="100" y="223"/>
                          </a:lnTo>
                          <a:lnTo>
                            <a:pt x="134" y="245"/>
                          </a:lnTo>
                          <a:lnTo>
                            <a:pt x="156" y="268"/>
                          </a:lnTo>
                          <a:lnTo>
                            <a:pt x="167" y="268"/>
                          </a:lnTo>
                          <a:lnTo>
                            <a:pt x="156" y="268"/>
                          </a:lnTo>
                          <a:close/>
                        </a:path>
                      </a:pathLst>
                    </a:custGeom>
                    <a:solidFill>
                      <a:srgbClr val="00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1903"/>
                    <p:cNvSpPr/>
                    <p:nvPr/>
                  </p:nvSpPr>
                  <p:spPr>
                    <a:xfrm rot="111600">
                      <a:off x="7801560" y="1060560"/>
                      <a:ext cx="4320" cy="8640"/>
                    </a:xfrm>
                    <a:custGeom>
                      <a:avLst/>
                      <a:gdLst>
                        <a:gd name="textAreaLeft" fmla="*/ 0 w 4320"/>
                        <a:gd name="textAreaRight" fmla="*/ 4680 w 4320"/>
                        <a:gd name="textAreaTop" fmla="*/ 0 h 8640"/>
                        <a:gd name="textAreaBottom" fmla="*/ 9000 h 8640"/>
                      </a:gdLst>
                      <a:ahLst/>
                      <a:rect l="textAreaLeft" t="textAreaTop" r="textAreaRight" b="textAreaBottom"/>
                      <a:pathLst>
                        <a:path w="34" h="67">
                          <a:moveTo>
                            <a:pt x="34" y="0"/>
                          </a:moveTo>
                          <a:lnTo>
                            <a:pt x="22" y="0"/>
                          </a:lnTo>
                          <a:lnTo>
                            <a:pt x="22" y="11"/>
                          </a:lnTo>
                          <a:lnTo>
                            <a:pt x="11" y="22"/>
                          </a:lnTo>
                          <a:lnTo>
                            <a:pt x="11" y="44"/>
                          </a:lnTo>
                          <a:lnTo>
                            <a:pt x="0" y="67"/>
                          </a:lnTo>
                          <a:lnTo>
                            <a:pt x="11" y="67"/>
                          </a:lnTo>
                          <a:lnTo>
                            <a:pt x="22" y="44"/>
                          </a:lnTo>
                          <a:lnTo>
                            <a:pt x="34" y="22"/>
                          </a:lnTo>
                          <a:lnTo>
                            <a:pt x="34" y="11"/>
                          </a:lnTo>
                          <a:lnTo>
                            <a:pt x="34" y="0"/>
                          </a:lnTo>
                          <a:lnTo>
                            <a:pt x="22" y="0"/>
                          </a:lnTo>
                          <a:lnTo>
                            <a:pt x="34" y="0"/>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1902"/>
                    <p:cNvSpPr/>
                    <p:nvPr/>
                  </p:nvSpPr>
                  <p:spPr>
                    <a:xfrm rot="111600">
                      <a:off x="7801200" y="1060560"/>
                      <a:ext cx="5400" cy="41040"/>
                    </a:xfrm>
                    <a:custGeom>
                      <a:avLst/>
                      <a:gdLst>
                        <a:gd name="textAreaLeft" fmla="*/ 0 w 5400"/>
                        <a:gd name="textAreaRight" fmla="*/ 5760 w 5400"/>
                        <a:gd name="textAreaTop" fmla="*/ 0 h 41040"/>
                        <a:gd name="textAreaBottom" fmla="*/ 41400 h 41040"/>
                      </a:gdLst>
                      <a:ahLst/>
                      <a:rect l="textAreaLeft" t="textAreaTop" r="textAreaRight" b="textAreaBottom"/>
                      <a:pathLst>
                        <a:path w="45" h="312">
                          <a:moveTo>
                            <a:pt x="0" y="301"/>
                          </a:moveTo>
                          <a:lnTo>
                            <a:pt x="11" y="301"/>
                          </a:lnTo>
                          <a:lnTo>
                            <a:pt x="22" y="278"/>
                          </a:lnTo>
                          <a:lnTo>
                            <a:pt x="34" y="245"/>
                          </a:lnTo>
                          <a:lnTo>
                            <a:pt x="34" y="200"/>
                          </a:lnTo>
                          <a:lnTo>
                            <a:pt x="45" y="156"/>
                          </a:lnTo>
                          <a:lnTo>
                            <a:pt x="45" y="122"/>
                          </a:lnTo>
                          <a:lnTo>
                            <a:pt x="45" y="78"/>
                          </a:lnTo>
                          <a:lnTo>
                            <a:pt x="45" y="33"/>
                          </a:lnTo>
                          <a:lnTo>
                            <a:pt x="34" y="0"/>
                          </a:lnTo>
                          <a:lnTo>
                            <a:pt x="22" y="0"/>
                          </a:lnTo>
                          <a:lnTo>
                            <a:pt x="22" y="33"/>
                          </a:lnTo>
                          <a:lnTo>
                            <a:pt x="34" y="78"/>
                          </a:lnTo>
                          <a:lnTo>
                            <a:pt x="22" y="122"/>
                          </a:lnTo>
                          <a:lnTo>
                            <a:pt x="22" y="156"/>
                          </a:lnTo>
                          <a:lnTo>
                            <a:pt x="22" y="200"/>
                          </a:lnTo>
                          <a:lnTo>
                            <a:pt x="11" y="234"/>
                          </a:lnTo>
                          <a:lnTo>
                            <a:pt x="11" y="267"/>
                          </a:lnTo>
                          <a:lnTo>
                            <a:pt x="0" y="301"/>
                          </a:lnTo>
                          <a:lnTo>
                            <a:pt x="11" y="312"/>
                          </a:lnTo>
                          <a:lnTo>
                            <a:pt x="0" y="301"/>
                          </a:lnTo>
                          <a:close/>
                        </a:path>
                      </a:pathLst>
                    </a:custGeom>
                    <a:solidFill>
                      <a:srgbClr val="0000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901"/>
                    <p:cNvSpPr/>
                    <p:nvPr/>
                  </p:nvSpPr>
                  <p:spPr>
                    <a:xfrm rot="111600">
                      <a:off x="7800840" y="1053360"/>
                      <a:ext cx="30960" cy="48240"/>
                    </a:xfrm>
                    <a:custGeom>
                      <a:avLst/>
                      <a:gdLst>
                        <a:gd name="textAreaLeft" fmla="*/ 0 w 30960"/>
                        <a:gd name="textAreaRight" fmla="*/ 31320 w 30960"/>
                        <a:gd name="textAreaTop" fmla="*/ 0 h 48240"/>
                        <a:gd name="textAreaBottom" fmla="*/ 48600 h 48240"/>
                      </a:gdLst>
                      <a:ahLst/>
                      <a:rect l="textAreaLeft" t="textAreaTop" r="textAreaRight" b="textAreaBottom"/>
                      <a:pathLst>
                        <a:path w="245" h="368">
                          <a:moveTo>
                            <a:pt x="245" y="0"/>
                          </a:moveTo>
                          <a:lnTo>
                            <a:pt x="223" y="11"/>
                          </a:lnTo>
                          <a:lnTo>
                            <a:pt x="223" y="34"/>
                          </a:lnTo>
                          <a:lnTo>
                            <a:pt x="223" y="67"/>
                          </a:lnTo>
                          <a:lnTo>
                            <a:pt x="223" y="89"/>
                          </a:lnTo>
                          <a:lnTo>
                            <a:pt x="212" y="112"/>
                          </a:lnTo>
                          <a:lnTo>
                            <a:pt x="201" y="134"/>
                          </a:lnTo>
                          <a:lnTo>
                            <a:pt x="190" y="156"/>
                          </a:lnTo>
                          <a:lnTo>
                            <a:pt x="167" y="190"/>
                          </a:lnTo>
                          <a:lnTo>
                            <a:pt x="156" y="212"/>
                          </a:lnTo>
                          <a:lnTo>
                            <a:pt x="134" y="223"/>
                          </a:lnTo>
                          <a:lnTo>
                            <a:pt x="112" y="245"/>
                          </a:lnTo>
                          <a:lnTo>
                            <a:pt x="89" y="268"/>
                          </a:lnTo>
                          <a:lnTo>
                            <a:pt x="78" y="290"/>
                          </a:lnTo>
                          <a:lnTo>
                            <a:pt x="56" y="301"/>
                          </a:lnTo>
                          <a:lnTo>
                            <a:pt x="34" y="323"/>
                          </a:lnTo>
                          <a:lnTo>
                            <a:pt x="22" y="334"/>
                          </a:lnTo>
                          <a:lnTo>
                            <a:pt x="0" y="357"/>
                          </a:lnTo>
                          <a:lnTo>
                            <a:pt x="11" y="368"/>
                          </a:lnTo>
                          <a:lnTo>
                            <a:pt x="34" y="346"/>
                          </a:lnTo>
                          <a:lnTo>
                            <a:pt x="45" y="334"/>
                          </a:lnTo>
                          <a:lnTo>
                            <a:pt x="67" y="312"/>
                          </a:lnTo>
                          <a:lnTo>
                            <a:pt x="89" y="301"/>
                          </a:lnTo>
                          <a:lnTo>
                            <a:pt x="101" y="279"/>
                          </a:lnTo>
                          <a:lnTo>
                            <a:pt x="123" y="256"/>
                          </a:lnTo>
                          <a:lnTo>
                            <a:pt x="145" y="234"/>
                          </a:lnTo>
                          <a:lnTo>
                            <a:pt x="167" y="212"/>
                          </a:lnTo>
                          <a:lnTo>
                            <a:pt x="179" y="190"/>
                          </a:lnTo>
                          <a:lnTo>
                            <a:pt x="201" y="167"/>
                          </a:lnTo>
                          <a:lnTo>
                            <a:pt x="212" y="145"/>
                          </a:lnTo>
                          <a:lnTo>
                            <a:pt x="223" y="123"/>
                          </a:lnTo>
                          <a:lnTo>
                            <a:pt x="234" y="89"/>
                          </a:lnTo>
                          <a:lnTo>
                            <a:pt x="234" y="67"/>
                          </a:lnTo>
                          <a:lnTo>
                            <a:pt x="245" y="34"/>
                          </a:lnTo>
                          <a:lnTo>
                            <a:pt x="245" y="11"/>
                          </a:lnTo>
                          <a:lnTo>
                            <a:pt x="234" y="11"/>
                          </a:lnTo>
                          <a:lnTo>
                            <a:pt x="245" y="0"/>
                          </a:lnTo>
                          <a:close/>
                        </a:path>
                      </a:pathLst>
                    </a:custGeom>
                    <a:solidFill>
                      <a:srgbClr val="000000"/>
                    </a:solidFill>
                    <a:ln w="0">
                      <a:noFill/>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900"/>
                    <p:cNvSpPr/>
                    <p:nvPr/>
                  </p:nvSpPr>
                  <p:spPr>
                    <a:xfrm rot="111600">
                      <a:off x="7831440" y="1053720"/>
                      <a:ext cx="5400" cy="8640"/>
                    </a:xfrm>
                    <a:custGeom>
                      <a:avLst/>
                      <a:gdLst>
                        <a:gd name="textAreaLeft" fmla="*/ 0 w 5400"/>
                        <a:gd name="textAreaRight" fmla="*/ 5760 w 5400"/>
                        <a:gd name="textAreaTop" fmla="*/ 0 h 8640"/>
                        <a:gd name="textAreaBottom" fmla="*/ 9000 h 8640"/>
                      </a:gdLst>
                      <a:ahLst/>
                      <a:rect l="textAreaLeft" t="textAreaTop" r="textAreaRight" b="textAreaBottom"/>
                      <a:pathLst>
                        <a:path w="45" h="67">
                          <a:moveTo>
                            <a:pt x="34" y="56"/>
                          </a:moveTo>
                          <a:lnTo>
                            <a:pt x="45" y="56"/>
                          </a:lnTo>
                          <a:lnTo>
                            <a:pt x="34" y="45"/>
                          </a:lnTo>
                          <a:lnTo>
                            <a:pt x="23" y="22"/>
                          </a:lnTo>
                          <a:lnTo>
                            <a:pt x="11" y="0"/>
                          </a:lnTo>
                          <a:lnTo>
                            <a:pt x="0" y="11"/>
                          </a:lnTo>
                          <a:lnTo>
                            <a:pt x="11" y="22"/>
                          </a:lnTo>
                          <a:lnTo>
                            <a:pt x="11" y="34"/>
                          </a:lnTo>
                          <a:lnTo>
                            <a:pt x="23" y="45"/>
                          </a:lnTo>
                          <a:lnTo>
                            <a:pt x="34" y="67"/>
                          </a:lnTo>
                          <a:lnTo>
                            <a:pt x="45" y="67"/>
                          </a:lnTo>
                          <a:lnTo>
                            <a:pt x="34" y="56"/>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899"/>
                    <p:cNvSpPr/>
                    <p:nvPr/>
                  </p:nvSpPr>
                  <p:spPr>
                    <a:xfrm rot="111600">
                      <a:off x="7836840" y="991080"/>
                      <a:ext cx="14040" cy="72000"/>
                    </a:xfrm>
                    <a:custGeom>
                      <a:avLst/>
                      <a:gdLst>
                        <a:gd name="textAreaLeft" fmla="*/ 0 w 14040"/>
                        <a:gd name="textAreaRight" fmla="*/ 14400 w 14040"/>
                        <a:gd name="textAreaTop" fmla="*/ 0 h 72000"/>
                        <a:gd name="textAreaBottom" fmla="*/ 72360 h 72000"/>
                      </a:gdLst>
                      <a:ahLst/>
                      <a:rect l="textAreaLeft" t="textAreaTop" r="textAreaRight" b="textAreaBottom"/>
                      <a:pathLst>
                        <a:path w="111" h="546">
                          <a:moveTo>
                            <a:pt x="22" y="0"/>
                          </a:moveTo>
                          <a:lnTo>
                            <a:pt x="22" y="0"/>
                          </a:lnTo>
                          <a:lnTo>
                            <a:pt x="67" y="78"/>
                          </a:lnTo>
                          <a:lnTo>
                            <a:pt x="89" y="156"/>
                          </a:lnTo>
                          <a:lnTo>
                            <a:pt x="100" y="234"/>
                          </a:lnTo>
                          <a:lnTo>
                            <a:pt x="89" y="312"/>
                          </a:lnTo>
                          <a:lnTo>
                            <a:pt x="78" y="390"/>
                          </a:lnTo>
                          <a:lnTo>
                            <a:pt x="55" y="446"/>
                          </a:lnTo>
                          <a:lnTo>
                            <a:pt x="22" y="501"/>
                          </a:lnTo>
                          <a:lnTo>
                            <a:pt x="0" y="535"/>
                          </a:lnTo>
                          <a:lnTo>
                            <a:pt x="11" y="546"/>
                          </a:lnTo>
                          <a:lnTo>
                            <a:pt x="33" y="513"/>
                          </a:lnTo>
                          <a:lnTo>
                            <a:pt x="67" y="457"/>
                          </a:lnTo>
                          <a:lnTo>
                            <a:pt x="89" y="390"/>
                          </a:lnTo>
                          <a:lnTo>
                            <a:pt x="100" y="312"/>
                          </a:lnTo>
                          <a:lnTo>
                            <a:pt x="111" y="234"/>
                          </a:lnTo>
                          <a:lnTo>
                            <a:pt x="100" y="156"/>
                          </a:lnTo>
                          <a:lnTo>
                            <a:pt x="78" y="78"/>
                          </a:lnTo>
                          <a:lnTo>
                            <a:pt x="33" y="0"/>
                          </a:lnTo>
                          <a:lnTo>
                            <a:pt x="22" y="0"/>
                          </a:lnTo>
                          <a:close/>
                        </a:path>
                      </a:pathLst>
                    </a:custGeom>
                    <a:solidFill>
                      <a:srgbClr val="000000"/>
                    </a:solidFill>
                    <a:ln w="0">
                      <a:no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898"/>
                    <p:cNvSpPr/>
                    <p:nvPr/>
                  </p:nvSpPr>
                  <p:spPr>
                    <a:xfrm rot="111600">
                      <a:off x="7824960" y="938880"/>
                      <a:ext cx="18360" cy="51480"/>
                    </a:xfrm>
                    <a:custGeom>
                      <a:avLst/>
                      <a:gdLst>
                        <a:gd name="textAreaLeft" fmla="*/ 0 w 18360"/>
                        <a:gd name="textAreaRight" fmla="*/ 18720 w 18360"/>
                        <a:gd name="textAreaTop" fmla="*/ 0 h 51480"/>
                        <a:gd name="textAreaBottom" fmla="*/ 51840 h 51480"/>
                      </a:gdLst>
                      <a:ahLst/>
                      <a:rect l="textAreaLeft" t="textAreaTop" r="textAreaRight" b="textAreaBottom"/>
                      <a:pathLst>
                        <a:path w="145" h="390">
                          <a:moveTo>
                            <a:pt x="0" y="11"/>
                          </a:moveTo>
                          <a:lnTo>
                            <a:pt x="0" y="11"/>
                          </a:lnTo>
                          <a:lnTo>
                            <a:pt x="11" y="44"/>
                          </a:lnTo>
                          <a:lnTo>
                            <a:pt x="34" y="78"/>
                          </a:lnTo>
                          <a:lnTo>
                            <a:pt x="45" y="122"/>
                          </a:lnTo>
                          <a:lnTo>
                            <a:pt x="56" y="178"/>
                          </a:lnTo>
                          <a:lnTo>
                            <a:pt x="67" y="223"/>
                          </a:lnTo>
                          <a:lnTo>
                            <a:pt x="89" y="278"/>
                          </a:lnTo>
                          <a:lnTo>
                            <a:pt x="112" y="334"/>
                          </a:lnTo>
                          <a:lnTo>
                            <a:pt x="134" y="390"/>
                          </a:lnTo>
                          <a:lnTo>
                            <a:pt x="145" y="390"/>
                          </a:lnTo>
                          <a:lnTo>
                            <a:pt x="123" y="334"/>
                          </a:lnTo>
                          <a:lnTo>
                            <a:pt x="101" y="278"/>
                          </a:lnTo>
                          <a:lnTo>
                            <a:pt x="78" y="223"/>
                          </a:lnTo>
                          <a:lnTo>
                            <a:pt x="67" y="178"/>
                          </a:lnTo>
                          <a:lnTo>
                            <a:pt x="56" y="122"/>
                          </a:lnTo>
                          <a:lnTo>
                            <a:pt x="45" y="78"/>
                          </a:lnTo>
                          <a:lnTo>
                            <a:pt x="34" y="44"/>
                          </a:lnTo>
                          <a:lnTo>
                            <a:pt x="11" y="0"/>
                          </a:lnTo>
                          <a:lnTo>
                            <a:pt x="11" y="11"/>
                          </a:lnTo>
                          <a:lnTo>
                            <a:pt x="0" y="11"/>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897"/>
                    <p:cNvSpPr/>
                    <p:nvPr/>
                  </p:nvSpPr>
                  <p:spPr>
                    <a:xfrm rot="111600">
                      <a:off x="7826400" y="918360"/>
                      <a:ext cx="9720" cy="21960"/>
                    </a:xfrm>
                    <a:custGeom>
                      <a:avLst/>
                      <a:gdLst>
                        <a:gd name="textAreaLeft" fmla="*/ 0 w 9720"/>
                        <a:gd name="textAreaRight" fmla="*/ 10080 w 9720"/>
                        <a:gd name="textAreaTop" fmla="*/ 0 h 21960"/>
                        <a:gd name="textAreaBottom" fmla="*/ 22320 h 21960"/>
                      </a:gdLst>
                      <a:ahLst/>
                      <a:rect l="textAreaLeft" t="textAreaTop" r="textAreaRight" b="textAreaBottom"/>
                      <a:pathLst>
                        <a:path w="78" h="167">
                          <a:moveTo>
                            <a:pt x="67" y="0"/>
                          </a:moveTo>
                          <a:lnTo>
                            <a:pt x="67" y="0"/>
                          </a:lnTo>
                          <a:lnTo>
                            <a:pt x="56" y="11"/>
                          </a:lnTo>
                          <a:lnTo>
                            <a:pt x="45" y="33"/>
                          </a:lnTo>
                          <a:lnTo>
                            <a:pt x="34" y="55"/>
                          </a:lnTo>
                          <a:lnTo>
                            <a:pt x="23" y="78"/>
                          </a:lnTo>
                          <a:lnTo>
                            <a:pt x="11" y="100"/>
                          </a:lnTo>
                          <a:lnTo>
                            <a:pt x="11" y="122"/>
                          </a:lnTo>
                          <a:lnTo>
                            <a:pt x="0" y="145"/>
                          </a:lnTo>
                          <a:lnTo>
                            <a:pt x="0" y="167"/>
                          </a:lnTo>
                          <a:lnTo>
                            <a:pt x="11" y="167"/>
                          </a:lnTo>
                          <a:lnTo>
                            <a:pt x="11" y="145"/>
                          </a:lnTo>
                          <a:lnTo>
                            <a:pt x="23" y="122"/>
                          </a:lnTo>
                          <a:lnTo>
                            <a:pt x="34" y="100"/>
                          </a:lnTo>
                          <a:lnTo>
                            <a:pt x="45" y="78"/>
                          </a:lnTo>
                          <a:lnTo>
                            <a:pt x="56" y="55"/>
                          </a:lnTo>
                          <a:lnTo>
                            <a:pt x="67" y="33"/>
                          </a:lnTo>
                          <a:lnTo>
                            <a:pt x="67" y="22"/>
                          </a:lnTo>
                          <a:lnTo>
                            <a:pt x="78" y="11"/>
                          </a:lnTo>
                          <a:lnTo>
                            <a:pt x="67"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1896"/>
                    <p:cNvSpPr/>
                    <p:nvPr/>
                  </p:nvSpPr>
                  <p:spPr>
                    <a:xfrm rot="111600">
                      <a:off x="7834680" y="915480"/>
                      <a:ext cx="2520" cy="4320"/>
                    </a:xfrm>
                    <a:custGeom>
                      <a:avLst/>
                      <a:gdLst>
                        <a:gd name="textAreaLeft" fmla="*/ 0 w 2520"/>
                        <a:gd name="textAreaRight" fmla="*/ 2880 w 2520"/>
                        <a:gd name="textAreaTop" fmla="*/ 0 h 4320"/>
                        <a:gd name="textAreaBottom" fmla="*/ 4680 h 4320"/>
                      </a:gdLst>
                      <a:ahLst/>
                      <a:rect l="textAreaLeft" t="textAreaTop" r="textAreaRight" b="textAreaBottom"/>
                      <a:pathLst>
                        <a:path w="22" h="34">
                          <a:moveTo>
                            <a:pt x="22" y="0"/>
                          </a:moveTo>
                          <a:lnTo>
                            <a:pt x="11" y="12"/>
                          </a:lnTo>
                          <a:lnTo>
                            <a:pt x="0" y="23"/>
                          </a:lnTo>
                          <a:lnTo>
                            <a:pt x="11" y="34"/>
                          </a:lnTo>
                          <a:lnTo>
                            <a:pt x="22" y="23"/>
                          </a:lnTo>
                          <a:lnTo>
                            <a:pt x="22" y="0"/>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1895"/>
                    <p:cNvSpPr/>
                    <p:nvPr/>
                  </p:nvSpPr>
                  <p:spPr>
                    <a:xfrm rot="111600">
                      <a:off x="7837560" y="910440"/>
                      <a:ext cx="34200" cy="8640"/>
                    </a:xfrm>
                    <a:custGeom>
                      <a:avLst/>
                      <a:gdLst>
                        <a:gd name="textAreaLeft" fmla="*/ 0 w 34200"/>
                        <a:gd name="textAreaRight" fmla="*/ 34560 w 34200"/>
                        <a:gd name="textAreaTop" fmla="*/ 0 h 8640"/>
                        <a:gd name="textAreaBottom" fmla="*/ 9000 h 8640"/>
                      </a:gdLst>
                      <a:ahLst/>
                      <a:rect l="textAreaLeft" t="textAreaTop" r="textAreaRight" b="textAreaBottom"/>
                      <a:pathLst>
                        <a:path w="268" h="67">
                          <a:moveTo>
                            <a:pt x="246" y="11"/>
                          </a:moveTo>
                          <a:lnTo>
                            <a:pt x="257" y="0"/>
                          </a:lnTo>
                          <a:lnTo>
                            <a:pt x="234" y="11"/>
                          </a:lnTo>
                          <a:lnTo>
                            <a:pt x="223" y="22"/>
                          </a:lnTo>
                          <a:lnTo>
                            <a:pt x="212" y="22"/>
                          </a:lnTo>
                          <a:lnTo>
                            <a:pt x="190" y="33"/>
                          </a:lnTo>
                          <a:lnTo>
                            <a:pt x="179" y="33"/>
                          </a:lnTo>
                          <a:lnTo>
                            <a:pt x="156" y="33"/>
                          </a:lnTo>
                          <a:lnTo>
                            <a:pt x="145" y="33"/>
                          </a:lnTo>
                          <a:lnTo>
                            <a:pt x="123" y="33"/>
                          </a:lnTo>
                          <a:lnTo>
                            <a:pt x="101" y="33"/>
                          </a:lnTo>
                          <a:lnTo>
                            <a:pt x="90" y="33"/>
                          </a:lnTo>
                          <a:lnTo>
                            <a:pt x="67" y="33"/>
                          </a:lnTo>
                          <a:lnTo>
                            <a:pt x="56" y="33"/>
                          </a:lnTo>
                          <a:lnTo>
                            <a:pt x="45" y="33"/>
                          </a:lnTo>
                          <a:lnTo>
                            <a:pt x="23" y="44"/>
                          </a:lnTo>
                          <a:lnTo>
                            <a:pt x="12" y="44"/>
                          </a:lnTo>
                          <a:lnTo>
                            <a:pt x="0" y="44"/>
                          </a:lnTo>
                          <a:lnTo>
                            <a:pt x="0" y="67"/>
                          </a:lnTo>
                          <a:lnTo>
                            <a:pt x="12" y="56"/>
                          </a:lnTo>
                          <a:lnTo>
                            <a:pt x="23" y="56"/>
                          </a:lnTo>
                          <a:lnTo>
                            <a:pt x="45" y="56"/>
                          </a:lnTo>
                          <a:lnTo>
                            <a:pt x="56" y="56"/>
                          </a:lnTo>
                          <a:lnTo>
                            <a:pt x="67" y="44"/>
                          </a:lnTo>
                          <a:lnTo>
                            <a:pt x="90" y="44"/>
                          </a:lnTo>
                          <a:lnTo>
                            <a:pt x="101" y="44"/>
                          </a:lnTo>
                          <a:lnTo>
                            <a:pt x="123" y="44"/>
                          </a:lnTo>
                          <a:lnTo>
                            <a:pt x="145" y="44"/>
                          </a:lnTo>
                          <a:lnTo>
                            <a:pt x="156" y="44"/>
                          </a:lnTo>
                          <a:lnTo>
                            <a:pt x="179" y="44"/>
                          </a:lnTo>
                          <a:lnTo>
                            <a:pt x="190" y="44"/>
                          </a:lnTo>
                          <a:lnTo>
                            <a:pt x="212" y="33"/>
                          </a:lnTo>
                          <a:lnTo>
                            <a:pt x="234" y="33"/>
                          </a:lnTo>
                          <a:lnTo>
                            <a:pt x="246" y="22"/>
                          </a:lnTo>
                          <a:lnTo>
                            <a:pt x="257" y="11"/>
                          </a:lnTo>
                          <a:lnTo>
                            <a:pt x="268" y="11"/>
                          </a:lnTo>
                          <a:lnTo>
                            <a:pt x="246" y="11"/>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1894"/>
                    <p:cNvSpPr/>
                    <p:nvPr/>
                  </p:nvSpPr>
                  <p:spPr>
                    <a:xfrm rot="111600">
                      <a:off x="7869240" y="889200"/>
                      <a:ext cx="23760" cy="23400"/>
                    </a:xfrm>
                    <a:custGeom>
                      <a:avLst/>
                      <a:gdLst>
                        <a:gd name="textAreaLeft" fmla="*/ 0 w 23760"/>
                        <a:gd name="textAreaRight" fmla="*/ 24120 w 23760"/>
                        <a:gd name="textAreaTop" fmla="*/ 0 h 23400"/>
                        <a:gd name="textAreaBottom" fmla="*/ 23760 h 23400"/>
                      </a:gdLst>
                      <a:ahLst/>
                      <a:rect l="textAreaLeft" t="textAreaTop" r="textAreaRight" b="textAreaBottom"/>
                      <a:pathLst>
                        <a:path w="189" h="178">
                          <a:moveTo>
                            <a:pt x="178" y="0"/>
                          </a:moveTo>
                          <a:lnTo>
                            <a:pt x="178" y="0"/>
                          </a:lnTo>
                          <a:lnTo>
                            <a:pt x="156" y="22"/>
                          </a:lnTo>
                          <a:lnTo>
                            <a:pt x="144" y="44"/>
                          </a:lnTo>
                          <a:lnTo>
                            <a:pt x="111" y="67"/>
                          </a:lnTo>
                          <a:lnTo>
                            <a:pt x="89" y="89"/>
                          </a:lnTo>
                          <a:lnTo>
                            <a:pt x="66" y="111"/>
                          </a:lnTo>
                          <a:lnTo>
                            <a:pt x="33" y="133"/>
                          </a:lnTo>
                          <a:lnTo>
                            <a:pt x="22" y="156"/>
                          </a:lnTo>
                          <a:lnTo>
                            <a:pt x="0" y="178"/>
                          </a:lnTo>
                          <a:lnTo>
                            <a:pt x="22" y="178"/>
                          </a:lnTo>
                          <a:lnTo>
                            <a:pt x="33" y="156"/>
                          </a:lnTo>
                          <a:lnTo>
                            <a:pt x="44" y="145"/>
                          </a:lnTo>
                          <a:lnTo>
                            <a:pt x="66" y="122"/>
                          </a:lnTo>
                          <a:lnTo>
                            <a:pt x="100" y="100"/>
                          </a:lnTo>
                          <a:lnTo>
                            <a:pt x="122" y="78"/>
                          </a:lnTo>
                          <a:lnTo>
                            <a:pt x="144" y="55"/>
                          </a:lnTo>
                          <a:lnTo>
                            <a:pt x="167" y="33"/>
                          </a:lnTo>
                          <a:lnTo>
                            <a:pt x="189" y="11"/>
                          </a:lnTo>
                          <a:lnTo>
                            <a:pt x="178" y="0"/>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893"/>
                    <p:cNvSpPr/>
                    <p:nvPr/>
                  </p:nvSpPr>
                  <p:spPr>
                    <a:xfrm rot="111600">
                      <a:off x="7892280" y="889560"/>
                      <a:ext cx="2520" cy="2880"/>
                    </a:xfrm>
                    <a:custGeom>
                      <a:avLst/>
                      <a:gdLst>
                        <a:gd name="textAreaLeft" fmla="*/ 0 w 2520"/>
                        <a:gd name="textAreaRight" fmla="*/ 2880 w 2520"/>
                        <a:gd name="textAreaTop" fmla="*/ 0 h 2880"/>
                        <a:gd name="textAreaBottom" fmla="*/ 3240 h 2880"/>
                      </a:gdLst>
                      <a:ahLst/>
                      <a:rect l="textAreaLeft" t="textAreaTop" r="textAreaRight" b="textAreaBottom"/>
                      <a:pathLst>
                        <a:path w="22" h="22">
                          <a:moveTo>
                            <a:pt x="22" y="11"/>
                          </a:moveTo>
                          <a:lnTo>
                            <a:pt x="22" y="11"/>
                          </a:lnTo>
                          <a:lnTo>
                            <a:pt x="11" y="0"/>
                          </a:lnTo>
                          <a:lnTo>
                            <a:pt x="0" y="0"/>
                          </a:lnTo>
                          <a:lnTo>
                            <a:pt x="11" y="11"/>
                          </a:lnTo>
                          <a:lnTo>
                            <a:pt x="11" y="22"/>
                          </a:lnTo>
                          <a:lnTo>
                            <a:pt x="22" y="22"/>
                          </a:lnTo>
                          <a:lnTo>
                            <a:pt x="22"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1892"/>
                    <p:cNvSpPr/>
                    <p:nvPr/>
                  </p:nvSpPr>
                  <p:spPr>
                    <a:xfrm rot="111600">
                      <a:off x="7895520" y="870480"/>
                      <a:ext cx="18360" cy="21960"/>
                    </a:xfrm>
                    <a:custGeom>
                      <a:avLst/>
                      <a:gdLst>
                        <a:gd name="textAreaLeft" fmla="*/ 0 w 18360"/>
                        <a:gd name="textAreaRight" fmla="*/ 18720 w 18360"/>
                        <a:gd name="textAreaTop" fmla="*/ 0 h 21960"/>
                        <a:gd name="textAreaBottom" fmla="*/ 22320 h 21960"/>
                      </a:gdLst>
                      <a:ahLst/>
                      <a:rect l="textAreaLeft" t="textAreaTop" r="textAreaRight" b="textAreaBottom"/>
                      <a:pathLst>
                        <a:path w="145" h="167">
                          <a:moveTo>
                            <a:pt x="145" y="0"/>
                          </a:moveTo>
                          <a:lnTo>
                            <a:pt x="134" y="0"/>
                          </a:lnTo>
                          <a:lnTo>
                            <a:pt x="123" y="22"/>
                          </a:lnTo>
                          <a:lnTo>
                            <a:pt x="101" y="44"/>
                          </a:lnTo>
                          <a:lnTo>
                            <a:pt x="78" y="67"/>
                          </a:lnTo>
                          <a:lnTo>
                            <a:pt x="67" y="78"/>
                          </a:lnTo>
                          <a:lnTo>
                            <a:pt x="45" y="100"/>
                          </a:lnTo>
                          <a:lnTo>
                            <a:pt x="34" y="122"/>
                          </a:lnTo>
                          <a:lnTo>
                            <a:pt x="11" y="145"/>
                          </a:lnTo>
                          <a:lnTo>
                            <a:pt x="0" y="156"/>
                          </a:lnTo>
                          <a:lnTo>
                            <a:pt x="0" y="167"/>
                          </a:lnTo>
                          <a:lnTo>
                            <a:pt x="22" y="145"/>
                          </a:lnTo>
                          <a:lnTo>
                            <a:pt x="45" y="134"/>
                          </a:lnTo>
                          <a:lnTo>
                            <a:pt x="56" y="111"/>
                          </a:lnTo>
                          <a:lnTo>
                            <a:pt x="78" y="89"/>
                          </a:lnTo>
                          <a:lnTo>
                            <a:pt x="89" y="67"/>
                          </a:lnTo>
                          <a:lnTo>
                            <a:pt x="112" y="44"/>
                          </a:lnTo>
                          <a:lnTo>
                            <a:pt x="134" y="22"/>
                          </a:lnTo>
                          <a:lnTo>
                            <a:pt x="145" y="0"/>
                          </a:lnTo>
                          <a:lnTo>
                            <a:pt x="134" y="0"/>
                          </a:lnTo>
                          <a:lnTo>
                            <a:pt x="145"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1891"/>
                    <p:cNvSpPr/>
                    <p:nvPr/>
                  </p:nvSpPr>
                  <p:spPr>
                    <a:xfrm rot="111600">
                      <a:off x="7911720" y="871560"/>
                      <a:ext cx="62280" cy="91080"/>
                    </a:xfrm>
                    <a:custGeom>
                      <a:avLst/>
                      <a:gdLst>
                        <a:gd name="textAreaLeft" fmla="*/ 0 w 62280"/>
                        <a:gd name="textAreaRight" fmla="*/ 62640 w 62280"/>
                        <a:gd name="textAreaTop" fmla="*/ 0 h 91080"/>
                        <a:gd name="textAreaBottom" fmla="*/ 91440 h 91080"/>
                      </a:gdLst>
                      <a:ahLst/>
                      <a:rect l="textAreaLeft" t="textAreaTop" r="textAreaRight" b="textAreaBottom"/>
                      <a:pathLst>
                        <a:path w="490" h="691">
                          <a:moveTo>
                            <a:pt x="490" y="691"/>
                          </a:moveTo>
                          <a:lnTo>
                            <a:pt x="490" y="691"/>
                          </a:lnTo>
                          <a:lnTo>
                            <a:pt x="479" y="657"/>
                          </a:lnTo>
                          <a:lnTo>
                            <a:pt x="468" y="624"/>
                          </a:lnTo>
                          <a:lnTo>
                            <a:pt x="446" y="579"/>
                          </a:lnTo>
                          <a:lnTo>
                            <a:pt x="423" y="535"/>
                          </a:lnTo>
                          <a:lnTo>
                            <a:pt x="390" y="490"/>
                          </a:lnTo>
                          <a:lnTo>
                            <a:pt x="357" y="446"/>
                          </a:lnTo>
                          <a:lnTo>
                            <a:pt x="323" y="401"/>
                          </a:lnTo>
                          <a:lnTo>
                            <a:pt x="290" y="345"/>
                          </a:lnTo>
                          <a:lnTo>
                            <a:pt x="256" y="301"/>
                          </a:lnTo>
                          <a:lnTo>
                            <a:pt x="212" y="245"/>
                          </a:lnTo>
                          <a:lnTo>
                            <a:pt x="178" y="200"/>
                          </a:lnTo>
                          <a:lnTo>
                            <a:pt x="134" y="145"/>
                          </a:lnTo>
                          <a:lnTo>
                            <a:pt x="100" y="111"/>
                          </a:lnTo>
                          <a:lnTo>
                            <a:pt x="67" y="67"/>
                          </a:lnTo>
                          <a:lnTo>
                            <a:pt x="45" y="22"/>
                          </a:lnTo>
                          <a:lnTo>
                            <a:pt x="11" y="0"/>
                          </a:lnTo>
                          <a:lnTo>
                            <a:pt x="0" y="0"/>
                          </a:lnTo>
                          <a:lnTo>
                            <a:pt x="33" y="33"/>
                          </a:lnTo>
                          <a:lnTo>
                            <a:pt x="56" y="78"/>
                          </a:lnTo>
                          <a:lnTo>
                            <a:pt x="89" y="111"/>
                          </a:lnTo>
                          <a:lnTo>
                            <a:pt x="123" y="156"/>
                          </a:lnTo>
                          <a:lnTo>
                            <a:pt x="167" y="212"/>
                          </a:lnTo>
                          <a:lnTo>
                            <a:pt x="201" y="256"/>
                          </a:lnTo>
                          <a:lnTo>
                            <a:pt x="245" y="301"/>
                          </a:lnTo>
                          <a:lnTo>
                            <a:pt x="279" y="356"/>
                          </a:lnTo>
                          <a:lnTo>
                            <a:pt x="312" y="401"/>
                          </a:lnTo>
                          <a:lnTo>
                            <a:pt x="345" y="457"/>
                          </a:lnTo>
                          <a:lnTo>
                            <a:pt x="379" y="501"/>
                          </a:lnTo>
                          <a:lnTo>
                            <a:pt x="412" y="546"/>
                          </a:lnTo>
                          <a:lnTo>
                            <a:pt x="435" y="591"/>
                          </a:lnTo>
                          <a:lnTo>
                            <a:pt x="457" y="624"/>
                          </a:lnTo>
                          <a:lnTo>
                            <a:pt x="468" y="657"/>
                          </a:lnTo>
                          <a:lnTo>
                            <a:pt x="479" y="691"/>
                          </a:lnTo>
                          <a:lnTo>
                            <a:pt x="479" y="680"/>
                          </a:lnTo>
                          <a:lnTo>
                            <a:pt x="490" y="691"/>
                          </a:lnTo>
                          <a:close/>
                        </a:path>
                      </a:pathLst>
                    </a:custGeom>
                    <a:solidFill>
                      <a:srgbClr val="000000"/>
                    </a:soli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890"/>
                    <p:cNvSpPr/>
                    <p:nvPr/>
                  </p:nvSpPr>
                  <p:spPr>
                    <a:xfrm rot="111600">
                      <a:off x="7959960" y="963000"/>
                      <a:ext cx="32760" cy="89640"/>
                    </a:xfrm>
                    <a:custGeom>
                      <a:avLst/>
                      <a:gdLst>
                        <a:gd name="textAreaLeft" fmla="*/ 0 w 32760"/>
                        <a:gd name="textAreaRight" fmla="*/ 33120 w 32760"/>
                        <a:gd name="textAreaTop" fmla="*/ 0 h 89640"/>
                        <a:gd name="textAreaBottom" fmla="*/ 90000 h 89640"/>
                      </a:gdLst>
                      <a:ahLst/>
                      <a:rect l="textAreaLeft" t="textAreaTop" r="textAreaRight" b="textAreaBottom"/>
                      <a:pathLst>
                        <a:path w="257" h="680">
                          <a:moveTo>
                            <a:pt x="257" y="668"/>
                          </a:moveTo>
                          <a:lnTo>
                            <a:pt x="257" y="668"/>
                          </a:lnTo>
                          <a:lnTo>
                            <a:pt x="212" y="646"/>
                          </a:lnTo>
                          <a:lnTo>
                            <a:pt x="167" y="624"/>
                          </a:lnTo>
                          <a:lnTo>
                            <a:pt x="134" y="590"/>
                          </a:lnTo>
                          <a:lnTo>
                            <a:pt x="100" y="557"/>
                          </a:lnTo>
                          <a:lnTo>
                            <a:pt x="78" y="512"/>
                          </a:lnTo>
                          <a:lnTo>
                            <a:pt x="56" y="468"/>
                          </a:lnTo>
                          <a:lnTo>
                            <a:pt x="34" y="423"/>
                          </a:lnTo>
                          <a:lnTo>
                            <a:pt x="22" y="379"/>
                          </a:lnTo>
                          <a:lnTo>
                            <a:pt x="22" y="323"/>
                          </a:lnTo>
                          <a:lnTo>
                            <a:pt x="11" y="278"/>
                          </a:lnTo>
                          <a:lnTo>
                            <a:pt x="11" y="223"/>
                          </a:lnTo>
                          <a:lnTo>
                            <a:pt x="22" y="178"/>
                          </a:lnTo>
                          <a:lnTo>
                            <a:pt x="34" y="133"/>
                          </a:lnTo>
                          <a:lnTo>
                            <a:pt x="45" y="89"/>
                          </a:lnTo>
                          <a:lnTo>
                            <a:pt x="67" y="44"/>
                          </a:lnTo>
                          <a:lnTo>
                            <a:pt x="89" y="11"/>
                          </a:lnTo>
                          <a:lnTo>
                            <a:pt x="78" y="0"/>
                          </a:lnTo>
                          <a:lnTo>
                            <a:pt x="56" y="44"/>
                          </a:lnTo>
                          <a:lnTo>
                            <a:pt x="34" y="78"/>
                          </a:lnTo>
                          <a:lnTo>
                            <a:pt x="22" y="122"/>
                          </a:lnTo>
                          <a:lnTo>
                            <a:pt x="11" y="178"/>
                          </a:lnTo>
                          <a:lnTo>
                            <a:pt x="0" y="223"/>
                          </a:lnTo>
                          <a:lnTo>
                            <a:pt x="0" y="278"/>
                          </a:lnTo>
                          <a:lnTo>
                            <a:pt x="0" y="323"/>
                          </a:lnTo>
                          <a:lnTo>
                            <a:pt x="11" y="379"/>
                          </a:lnTo>
                          <a:lnTo>
                            <a:pt x="22" y="423"/>
                          </a:lnTo>
                          <a:lnTo>
                            <a:pt x="45" y="479"/>
                          </a:lnTo>
                          <a:lnTo>
                            <a:pt x="67" y="524"/>
                          </a:lnTo>
                          <a:lnTo>
                            <a:pt x="89" y="568"/>
                          </a:lnTo>
                          <a:lnTo>
                            <a:pt x="123" y="602"/>
                          </a:lnTo>
                          <a:lnTo>
                            <a:pt x="167" y="635"/>
                          </a:lnTo>
                          <a:lnTo>
                            <a:pt x="212" y="657"/>
                          </a:lnTo>
                          <a:lnTo>
                            <a:pt x="257" y="680"/>
                          </a:lnTo>
                          <a:lnTo>
                            <a:pt x="257" y="66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1889"/>
                    <p:cNvSpPr/>
                    <p:nvPr/>
                  </p:nvSpPr>
                  <p:spPr>
                    <a:xfrm rot="111600">
                      <a:off x="7989840" y="1045800"/>
                      <a:ext cx="2880" cy="7200"/>
                    </a:xfrm>
                    <a:custGeom>
                      <a:avLst/>
                      <a:gdLst>
                        <a:gd name="textAreaLeft" fmla="*/ 0 w 2880"/>
                        <a:gd name="textAreaRight" fmla="*/ 3240 w 2880"/>
                        <a:gd name="textAreaTop" fmla="*/ 0 h 7200"/>
                        <a:gd name="textAreaBottom" fmla="*/ 7560 h 7200"/>
                      </a:gdLst>
                      <a:ahLst/>
                      <a:rect l="textAreaLeft" t="textAreaTop" r="textAreaRight" b="textAreaBottom"/>
                      <a:pathLst>
                        <a:path w="23" h="56">
                          <a:moveTo>
                            <a:pt x="23" y="0"/>
                          </a:moveTo>
                          <a:lnTo>
                            <a:pt x="23" y="0"/>
                          </a:lnTo>
                          <a:lnTo>
                            <a:pt x="0" y="0"/>
                          </a:lnTo>
                          <a:lnTo>
                            <a:pt x="0" y="11"/>
                          </a:lnTo>
                          <a:lnTo>
                            <a:pt x="0" y="22"/>
                          </a:lnTo>
                          <a:lnTo>
                            <a:pt x="0" y="33"/>
                          </a:lnTo>
                          <a:lnTo>
                            <a:pt x="12" y="44"/>
                          </a:lnTo>
                          <a:lnTo>
                            <a:pt x="23" y="44"/>
                          </a:lnTo>
                          <a:lnTo>
                            <a:pt x="12" y="44"/>
                          </a:lnTo>
                          <a:lnTo>
                            <a:pt x="12" y="56"/>
                          </a:lnTo>
                          <a:lnTo>
                            <a:pt x="23" y="56"/>
                          </a:lnTo>
                          <a:lnTo>
                            <a:pt x="23" y="44"/>
                          </a:lnTo>
                          <a:lnTo>
                            <a:pt x="23" y="33"/>
                          </a:lnTo>
                          <a:lnTo>
                            <a:pt x="23" y="22"/>
                          </a:lnTo>
                          <a:lnTo>
                            <a:pt x="12" y="11"/>
                          </a:lnTo>
                          <a:lnTo>
                            <a:pt x="23" y="0"/>
                          </a:lnTo>
                          <a:close/>
                        </a:path>
                      </a:pathLst>
                    </a:custGeom>
                    <a:solidFill>
                      <a:srgbClr val="000000"/>
                    </a:solidFill>
                    <a:ln w="0">
                      <a:noFill/>
                    </a:ln>
                  </p:spPr>
                  <p:style>
                    <a:lnRef idx="0"/>
                    <a:fillRef idx="0"/>
                    <a:effectRef idx="0"/>
                    <a:fontRef idx="minor"/>
                  </p:style>
                  <p:txBody>
                    <a:bodyPr lIns="90000" rIns="90000" tIns="-39240" bIns="-39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1888"/>
                    <p:cNvSpPr/>
                    <p:nvPr/>
                  </p:nvSpPr>
                  <p:spPr>
                    <a:xfrm rot="111600">
                      <a:off x="7990920" y="1046160"/>
                      <a:ext cx="9720" cy="42480"/>
                    </a:xfrm>
                    <a:custGeom>
                      <a:avLst/>
                      <a:gdLst>
                        <a:gd name="textAreaLeft" fmla="*/ 0 w 9720"/>
                        <a:gd name="textAreaRight" fmla="*/ 10080 w 9720"/>
                        <a:gd name="textAreaTop" fmla="*/ 0 h 42480"/>
                        <a:gd name="textAreaBottom" fmla="*/ 42840 h 42480"/>
                      </a:gdLst>
                      <a:ahLst/>
                      <a:rect l="textAreaLeft" t="textAreaTop" r="textAreaRight" b="textAreaBottom"/>
                      <a:pathLst>
                        <a:path w="78" h="323">
                          <a:moveTo>
                            <a:pt x="55" y="312"/>
                          </a:moveTo>
                          <a:lnTo>
                            <a:pt x="66" y="323"/>
                          </a:lnTo>
                          <a:lnTo>
                            <a:pt x="66" y="290"/>
                          </a:lnTo>
                          <a:lnTo>
                            <a:pt x="78" y="245"/>
                          </a:lnTo>
                          <a:lnTo>
                            <a:pt x="78" y="200"/>
                          </a:lnTo>
                          <a:lnTo>
                            <a:pt x="66" y="145"/>
                          </a:lnTo>
                          <a:lnTo>
                            <a:pt x="55" y="89"/>
                          </a:lnTo>
                          <a:lnTo>
                            <a:pt x="44" y="56"/>
                          </a:lnTo>
                          <a:lnTo>
                            <a:pt x="33" y="22"/>
                          </a:lnTo>
                          <a:lnTo>
                            <a:pt x="11" y="0"/>
                          </a:lnTo>
                          <a:lnTo>
                            <a:pt x="0" y="11"/>
                          </a:lnTo>
                          <a:lnTo>
                            <a:pt x="22" y="22"/>
                          </a:lnTo>
                          <a:lnTo>
                            <a:pt x="33" y="56"/>
                          </a:lnTo>
                          <a:lnTo>
                            <a:pt x="44" y="100"/>
                          </a:lnTo>
                          <a:lnTo>
                            <a:pt x="55" y="145"/>
                          </a:lnTo>
                          <a:lnTo>
                            <a:pt x="55" y="200"/>
                          </a:lnTo>
                          <a:lnTo>
                            <a:pt x="55" y="245"/>
                          </a:lnTo>
                          <a:lnTo>
                            <a:pt x="55" y="290"/>
                          </a:lnTo>
                          <a:lnTo>
                            <a:pt x="44" y="323"/>
                          </a:lnTo>
                          <a:lnTo>
                            <a:pt x="55" y="323"/>
                          </a:lnTo>
                          <a:lnTo>
                            <a:pt x="55" y="312"/>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1887"/>
                    <p:cNvSpPr/>
                    <p:nvPr/>
                  </p:nvSpPr>
                  <p:spPr>
                    <a:xfrm rot="111600">
                      <a:off x="7997400" y="1065240"/>
                      <a:ext cx="18360" cy="23400"/>
                    </a:xfrm>
                    <a:custGeom>
                      <a:avLst/>
                      <a:gdLst>
                        <a:gd name="textAreaLeft" fmla="*/ 0 w 18360"/>
                        <a:gd name="textAreaRight" fmla="*/ 18720 w 18360"/>
                        <a:gd name="textAreaTop" fmla="*/ 0 h 23400"/>
                        <a:gd name="textAreaBottom" fmla="*/ 23760 h 23400"/>
                      </a:gdLst>
                      <a:ahLst/>
                      <a:rect l="textAreaLeft" t="textAreaTop" r="textAreaRight" b="textAreaBottom"/>
                      <a:pathLst>
                        <a:path w="145" h="178">
                          <a:moveTo>
                            <a:pt x="134" y="0"/>
                          </a:moveTo>
                          <a:lnTo>
                            <a:pt x="134" y="11"/>
                          </a:lnTo>
                          <a:lnTo>
                            <a:pt x="123" y="33"/>
                          </a:lnTo>
                          <a:lnTo>
                            <a:pt x="112" y="55"/>
                          </a:lnTo>
                          <a:lnTo>
                            <a:pt x="101" y="67"/>
                          </a:lnTo>
                          <a:lnTo>
                            <a:pt x="78" y="89"/>
                          </a:lnTo>
                          <a:lnTo>
                            <a:pt x="56" y="111"/>
                          </a:lnTo>
                          <a:lnTo>
                            <a:pt x="45" y="133"/>
                          </a:lnTo>
                          <a:lnTo>
                            <a:pt x="23" y="145"/>
                          </a:lnTo>
                          <a:lnTo>
                            <a:pt x="0" y="167"/>
                          </a:lnTo>
                          <a:lnTo>
                            <a:pt x="0" y="178"/>
                          </a:lnTo>
                          <a:lnTo>
                            <a:pt x="34" y="156"/>
                          </a:lnTo>
                          <a:lnTo>
                            <a:pt x="56" y="145"/>
                          </a:lnTo>
                          <a:lnTo>
                            <a:pt x="67" y="122"/>
                          </a:lnTo>
                          <a:lnTo>
                            <a:pt x="89" y="100"/>
                          </a:lnTo>
                          <a:lnTo>
                            <a:pt x="112" y="78"/>
                          </a:lnTo>
                          <a:lnTo>
                            <a:pt x="123" y="55"/>
                          </a:lnTo>
                          <a:lnTo>
                            <a:pt x="134" y="33"/>
                          </a:lnTo>
                          <a:lnTo>
                            <a:pt x="145" y="11"/>
                          </a:lnTo>
                          <a:lnTo>
                            <a:pt x="134" y="0"/>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1886"/>
                    <p:cNvSpPr/>
                    <p:nvPr/>
                  </p:nvSpPr>
                  <p:spPr>
                    <a:xfrm rot="111600">
                      <a:off x="8015040" y="1043640"/>
                      <a:ext cx="9720" cy="23400"/>
                    </a:xfrm>
                    <a:custGeom>
                      <a:avLst/>
                      <a:gdLst>
                        <a:gd name="textAreaLeft" fmla="*/ 0 w 9720"/>
                        <a:gd name="textAreaRight" fmla="*/ 10080 w 9720"/>
                        <a:gd name="textAreaTop" fmla="*/ 0 h 23400"/>
                        <a:gd name="textAreaBottom" fmla="*/ 23760 h 23400"/>
                      </a:gdLst>
                      <a:ahLst/>
                      <a:rect l="textAreaLeft" t="textAreaTop" r="textAreaRight" b="textAreaBottom"/>
                      <a:pathLst>
                        <a:path w="78" h="178">
                          <a:moveTo>
                            <a:pt x="67" y="0"/>
                          </a:moveTo>
                          <a:lnTo>
                            <a:pt x="56" y="11"/>
                          </a:lnTo>
                          <a:lnTo>
                            <a:pt x="56" y="22"/>
                          </a:lnTo>
                          <a:lnTo>
                            <a:pt x="56" y="44"/>
                          </a:lnTo>
                          <a:lnTo>
                            <a:pt x="45" y="78"/>
                          </a:lnTo>
                          <a:lnTo>
                            <a:pt x="33" y="100"/>
                          </a:lnTo>
                          <a:lnTo>
                            <a:pt x="22" y="122"/>
                          </a:lnTo>
                          <a:lnTo>
                            <a:pt x="11" y="144"/>
                          </a:lnTo>
                          <a:lnTo>
                            <a:pt x="11" y="167"/>
                          </a:lnTo>
                          <a:lnTo>
                            <a:pt x="0" y="167"/>
                          </a:lnTo>
                          <a:lnTo>
                            <a:pt x="11" y="178"/>
                          </a:lnTo>
                          <a:lnTo>
                            <a:pt x="22" y="167"/>
                          </a:lnTo>
                          <a:lnTo>
                            <a:pt x="33" y="156"/>
                          </a:lnTo>
                          <a:lnTo>
                            <a:pt x="45" y="133"/>
                          </a:lnTo>
                          <a:lnTo>
                            <a:pt x="56" y="100"/>
                          </a:lnTo>
                          <a:lnTo>
                            <a:pt x="56" y="78"/>
                          </a:lnTo>
                          <a:lnTo>
                            <a:pt x="67" y="44"/>
                          </a:lnTo>
                          <a:lnTo>
                            <a:pt x="78" y="22"/>
                          </a:lnTo>
                          <a:lnTo>
                            <a:pt x="78" y="11"/>
                          </a:lnTo>
                          <a:lnTo>
                            <a:pt x="67" y="22"/>
                          </a:lnTo>
                          <a:lnTo>
                            <a:pt x="67" y="0"/>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885"/>
                    <p:cNvSpPr/>
                    <p:nvPr/>
                  </p:nvSpPr>
                  <p:spPr>
                    <a:xfrm rot="111600">
                      <a:off x="8022600" y="1043640"/>
                      <a:ext cx="5400" cy="11520"/>
                    </a:xfrm>
                    <a:custGeom>
                      <a:avLst/>
                      <a:gdLst>
                        <a:gd name="textAreaLeft" fmla="*/ 0 w 5400"/>
                        <a:gd name="textAreaRight" fmla="*/ 5760 w 5400"/>
                        <a:gd name="textAreaTop" fmla="*/ 0 h 11520"/>
                        <a:gd name="textAreaBottom" fmla="*/ 11880 h 11520"/>
                      </a:gdLst>
                      <a:ahLst/>
                      <a:rect l="textAreaLeft" t="textAreaTop" r="textAreaRight" b="textAreaBottom"/>
                      <a:pathLst>
                        <a:path w="44" h="89">
                          <a:moveTo>
                            <a:pt x="33" y="66"/>
                          </a:moveTo>
                          <a:lnTo>
                            <a:pt x="33" y="66"/>
                          </a:lnTo>
                          <a:lnTo>
                            <a:pt x="11" y="78"/>
                          </a:lnTo>
                          <a:lnTo>
                            <a:pt x="11" y="66"/>
                          </a:lnTo>
                          <a:lnTo>
                            <a:pt x="11" y="55"/>
                          </a:lnTo>
                          <a:lnTo>
                            <a:pt x="22" y="44"/>
                          </a:lnTo>
                          <a:lnTo>
                            <a:pt x="22" y="22"/>
                          </a:lnTo>
                          <a:lnTo>
                            <a:pt x="22" y="11"/>
                          </a:lnTo>
                          <a:lnTo>
                            <a:pt x="11" y="0"/>
                          </a:lnTo>
                          <a:lnTo>
                            <a:pt x="11" y="22"/>
                          </a:lnTo>
                          <a:lnTo>
                            <a:pt x="11" y="44"/>
                          </a:lnTo>
                          <a:lnTo>
                            <a:pt x="0" y="55"/>
                          </a:lnTo>
                          <a:lnTo>
                            <a:pt x="0" y="66"/>
                          </a:lnTo>
                          <a:lnTo>
                            <a:pt x="0" y="89"/>
                          </a:lnTo>
                          <a:lnTo>
                            <a:pt x="22" y="89"/>
                          </a:lnTo>
                          <a:lnTo>
                            <a:pt x="44" y="78"/>
                          </a:lnTo>
                          <a:lnTo>
                            <a:pt x="33" y="66"/>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1884"/>
                    <p:cNvSpPr/>
                    <p:nvPr/>
                  </p:nvSpPr>
                  <p:spPr>
                    <a:xfrm rot="111600">
                      <a:off x="7991280" y="958320"/>
                      <a:ext cx="51120" cy="95400"/>
                    </a:xfrm>
                    <a:custGeom>
                      <a:avLst/>
                      <a:gdLst>
                        <a:gd name="textAreaLeft" fmla="*/ 0 w 51120"/>
                        <a:gd name="textAreaRight" fmla="*/ 51480 w 51120"/>
                        <a:gd name="textAreaTop" fmla="*/ 0 h 95400"/>
                        <a:gd name="textAreaBottom" fmla="*/ 95760 h 95400"/>
                      </a:gdLst>
                      <a:ahLst/>
                      <a:rect l="textAreaLeft" t="textAreaTop" r="textAreaRight" b="textAreaBottom"/>
                      <a:pathLst>
                        <a:path w="402" h="725">
                          <a:moveTo>
                            <a:pt x="0" y="11"/>
                          </a:moveTo>
                          <a:lnTo>
                            <a:pt x="0" y="11"/>
                          </a:lnTo>
                          <a:lnTo>
                            <a:pt x="67" y="67"/>
                          </a:lnTo>
                          <a:lnTo>
                            <a:pt x="134" y="112"/>
                          </a:lnTo>
                          <a:lnTo>
                            <a:pt x="190" y="167"/>
                          </a:lnTo>
                          <a:lnTo>
                            <a:pt x="234" y="212"/>
                          </a:lnTo>
                          <a:lnTo>
                            <a:pt x="279" y="256"/>
                          </a:lnTo>
                          <a:lnTo>
                            <a:pt x="312" y="312"/>
                          </a:lnTo>
                          <a:lnTo>
                            <a:pt x="346" y="357"/>
                          </a:lnTo>
                          <a:lnTo>
                            <a:pt x="368" y="401"/>
                          </a:lnTo>
                          <a:lnTo>
                            <a:pt x="379" y="435"/>
                          </a:lnTo>
                          <a:lnTo>
                            <a:pt x="390" y="479"/>
                          </a:lnTo>
                          <a:lnTo>
                            <a:pt x="390" y="524"/>
                          </a:lnTo>
                          <a:lnTo>
                            <a:pt x="390" y="557"/>
                          </a:lnTo>
                          <a:lnTo>
                            <a:pt x="368" y="602"/>
                          </a:lnTo>
                          <a:lnTo>
                            <a:pt x="357" y="635"/>
                          </a:lnTo>
                          <a:lnTo>
                            <a:pt x="324" y="680"/>
                          </a:lnTo>
                          <a:lnTo>
                            <a:pt x="290" y="713"/>
                          </a:lnTo>
                          <a:lnTo>
                            <a:pt x="301" y="725"/>
                          </a:lnTo>
                          <a:lnTo>
                            <a:pt x="335" y="680"/>
                          </a:lnTo>
                          <a:lnTo>
                            <a:pt x="368" y="647"/>
                          </a:lnTo>
                          <a:lnTo>
                            <a:pt x="390" y="602"/>
                          </a:lnTo>
                          <a:lnTo>
                            <a:pt x="402" y="569"/>
                          </a:lnTo>
                          <a:lnTo>
                            <a:pt x="402" y="524"/>
                          </a:lnTo>
                          <a:lnTo>
                            <a:pt x="402" y="479"/>
                          </a:lnTo>
                          <a:lnTo>
                            <a:pt x="390" y="435"/>
                          </a:lnTo>
                          <a:lnTo>
                            <a:pt x="379" y="390"/>
                          </a:lnTo>
                          <a:lnTo>
                            <a:pt x="357" y="346"/>
                          </a:lnTo>
                          <a:lnTo>
                            <a:pt x="324" y="301"/>
                          </a:lnTo>
                          <a:lnTo>
                            <a:pt x="290" y="256"/>
                          </a:lnTo>
                          <a:lnTo>
                            <a:pt x="246" y="201"/>
                          </a:lnTo>
                          <a:lnTo>
                            <a:pt x="201" y="156"/>
                          </a:lnTo>
                          <a:lnTo>
                            <a:pt x="134" y="100"/>
                          </a:lnTo>
                          <a:lnTo>
                            <a:pt x="78" y="56"/>
                          </a:lnTo>
                          <a:lnTo>
                            <a:pt x="12" y="0"/>
                          </a:lnTo>
                          <a:lnTo>
                            <a:pt x="12"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1883"/>
                    <p:cNvSpPr/>
                    <p:nvPr/>
                  </p:nvSpPr>
                  <p:spPr>
                    <a:xfrm rot="111600">
                      <a:off x="7964640" y="845280"/>
                      <a:ext cx="32760" cy="113040"/>
                    </a:xfrm>
                    <a:custGeom>
                      <a:avLst/>
                      <a:gdLst>
                        <a:gd name="textAreaLeft" fmla="*/ 0 w 32760"/>
                        <a:gd name="textAreaRight" fmla="*/ 33120 w 32760"/>
                        <a:gd name="textAreaTop" fmla="*/ 0 h 113040"/>
                        <a:gd name="textAreaBottom" fmla="*/ 113400 h 113040"/>
                      </a:gdLst>
                      <a:ahLst/>
                      <a:rect l="textAreaLeft" t="textAreaTop" r="textAreaRight" b="textAreaBottom"/>
                      <a:pathLst>
                        <a:path w="257" h="858">
                          <a:moveTo>
                            <a:pt x="0" y="11"/>
                          </a:moveTo>
                          <a:lnTo>
                            <a:pt x="0" y="11"/>
                          </a:lnTo>
                          <a:lnTo>
                            <a:pt x="56" y="45"/>
                          </a:lnTo>
                          <a:lnTo>
                            <a:pt x="101" y="78"/>
                          </a:lnTo>
                          <a:lnTo>
                            <a:pt x="145" y="123"/>
                          </a:lnTo>
                          <a:lnTo>
                            <a:pt x="179" y="167"/>
                          </a:lnTo>
                          <a:lnTo>
                            <a:pt x="201" y="223"/>
                          </a:lnTo>
                          <a:lnTo>
                            <a:pt x="223" y="279"/>
                          </a:lnTo>
                          <a:lnTo>
                            <a:pt x="234" y="334"/>
                          </a:lnTo>
                          <a:lnTo>
                            <a:pt x="234" y="390"/>
                          </a:lnTo>
                          <a:lnTo>
                            <a:pt x="246" y="457"/>
                          </a:lnTo>
                          <a:lnTo>
                            <a:pt x="246" y="524"/>
                          </a:lnTo>
                          <a:lnTo>
                            <a:pt x="246" y="580"/>
                          </a:lnTo>
                          <a:lnTo>
                            <a:pt x="246" y="646"/>
                          </a:lnTo>
                          <a:lnTo>
                            <a:pt x="234" y="702"/>
                          </a:lnTo>
                          <a:lnTo>
                            <a:pt x="234" y="758"/>
                          </a:lnTo>
                          <a:lnTo>
                            <a:pt x="234" y="803"/>
                          </a:lnTo>
                          <a:lnTo>
                            <a:pt x="234" y="858"/>
                          </a:lnTo>
                          <a:lnTo>
                            <a:pt x="246" y="858"/>
                          </a:lnTo>
                          <a:lnTo>
                            <a:pt x="246" y="803"/>
                          </a:lnTo>
                          <a:lnTo>
                            <a:pt x="257" y="758"/>
                          </a:lnTo>
                          <a:lnTo>
                            <a:pt x="257" y="702"/>
                          </a:lnTo>
                          <a:lnTo>
                            <a:pt x="257" y="646"/>
                          </a:lnTo>
                          <a:lnTo>
                            <a:pt x="257" y="580"/>
                          </a:lnTo>
                          <a:lnTo>
                            <a:pt x="257" y="524"/>
                          </a:lnTo>
                          <a:lnTo>
                            <a:pt x="257" y="457"/>
                          </a:lnTo>
                          <a:lnTo>
                            <a:pt x="257" y="390"/>
                          </a:lnTo>
                          <a:lnTo>
                            <a:pt x="246" y="334"/>
                          </a:lnTo>
                          <a:lnTo>
                            <a:pt x="234" y="268"/>
                          </a:lnTo>
                          <a:lnTo>
                            <a:pt x="212" y="212"/>
                          </a:lnTo>
                          <a:lnTo>
                            <a:pt x="190" y="156"/>
                          </a:lnTo>
                          <a:lnTo>
                            <a:pt x="156" y="111"/>
                          </a:lnTo>
                          <a:lnTo>
                            <a:pt x="112" y="67"/>
                          </a:lnTo>
                          <a:lnTo>
                            <a:pt x="67" y="22"/>
                          </a:lnTo>
                          <a:lnTo>
                            <a:pt x="11"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1882"/>
                    <p:cNvSpPr/>
                    <p:nvPr/>
                  </p:nvSpPr>
                  <p:spPr>
                    <a:xfrm rot="111600">
                      <a:off x="7932600" y="836640"/>
                      <a:ext cx="35280" cy="8640"/>
                    </a:xfrm>
                    <a:custGeom>
                      <a:avLst/>
                      <a:gdLst>
                        <a:gd name="textAreaLeft" fmla="*/ 0 w 35280"/>
                        <a:gd name="textAreaRight" fmla="*/ 35640 w 35280"/>
                        <a:gd name="textAreaTop" fmla="*/ 0 h 8640"/>
                        <a:gd name="textAreaBottom" fmla="*/ 9000 h 8640"/>
                      </a:gdLst>
                      <a:ahLst/>
                      <a:rect l="textAreaLeft" t="textAreaTop" r="textAreaRight" b="textAreaBottom"/>
                      <a:pathLst>
                        <a:path w="278" h="67">
                          <a:moveTo>
                            <a:pt x="11" y="34"/>
                          </a:moveTo>
                          <a:lnTo>
                            <a:pt x="11" y="34"/>
                          </a:lnTo>
                          <a:lnTo>
                            <a:pt x="22" y="34"/>
                          </a:lnTo>
                          <a:lnTo>
                            <a:pt x="33" y="34"/>
                          </a:lnTo>
                          <a:lnTo>
                            <a:pt x="44" y="23"/>
                          </a:lnTo>
                          <a:lnTo>
                            <a:pt x="56" y="23"/>
                          </a:lnTo>
                          <a:lnTo>
                            <a:pt x="78" y="23"/>
                          </a:lnTo>
                          <a:lnTo>
                            <a:pt x="89" y="23"/>
                          </a:lnTo>
                          <a:lnTo>
                            <a:pt x="111" y="23"/>
                          </a:lnTo>
                          <a:lnTo>
                            <a:pt x="122" y="23"/>
                          </a:lnTo>
                          <a:lnTo>
                            <a:pt x="145" y="23"/>
                          </a:lnTo>
                          <a:lnTo>
                            <a:pt x="156" y="23"/>
                          </a:lnTo>
                          <a:lnTo>
                            <a:pt x="178" y="23"/>
                          </a:lnTo>
                          <a:lnTo>
                            <a:pt x="200" y="34"/>
                          </a:lnTo>
                          <a:lnTo>
                            <a:pt x="212" y="34"/>
                          </a:lnTo>
                          <a:lnTo>
                            <a:pt x="234" y="45"/>
                          </a:lnTo>
                          <a:lnTo>
                            <a:pt x="245" y="56"/>
                          </a:lnTo>
                          <a:lnTo>
                            <a:pt x="267" y="67"/>
                          </a:lnTo>
                          <a:lnTo>
                            <a:pt x="278" y="56"/>
                          </a:lnTo>
                          <a:lnTo>
                            <a:pt x="256" y="45"/>
                          </a:lnTo>
                          <a:lnTo>
                            <a:pt x="234" y="34"/>
                          </a:lnTo>
                          <a:lnTo>
                            <a:pt x="223" y="23"/>
                          </a:lnTo>
                          <a:lnTo>
                            <a:pt x="200" y="11"/>
                          </a:lnTo>
                          <a:lnTo>
                            <a:pt x="178" y="11"/>
                          </a:lnTo>
                          <a:lnTo>
                            <a:pt x="156" y="0"/>
                          </a:lnTo>
                          <a:lnTo>
                            <a:pt x="145" y="0"/>
                          </a:lnTo>
                          <a:lnTo>
                            <a:pt x="122" y="0"/>
                          </a:lnTo>
                          <a:lnTo>
                            <a:pt x="111" y="0"/>
                          </a:lnTo>
                          <a:lnTo>
                            <a:pt x="89" y="0"/>
                          </a:lnTo>
                          <a:lnTo>
                            <a:pt x="78" y="0"/>
                          </a:lnTo>
                          <a:lnTo>
                            <a:pt x="56" y="11"/>
                          </a:lnTo>
                          <a:lnTo>
                            <a:pt x="44" y="11"/>
                          </a:lnTo>
                          <a:lnTo>
                            <a:pt x="33" y="11"/>
                          </a:lnTo>
                          <a:lnTo>
                            <a:pt x="22" y="23"/>
                          </a:lnTo>
                          <a:lnTo>
                            <a:pt x="0" y="23"/>
                          </a:lnTo>
                          <a:lnTo>
                            <a:pt x="11" y="34"/>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881"/>
                    <p:cNvSpPr/>
                    <p:nvPr/>
                  </p:nvSpPr>
                  <p:spPr>
                    <a:xfrm rot="111600">
                      <a:off x="7917120" y="839160"/>
                      <a:ext cx="16920" cy="14400"/>
                    </a:xfrm>
                    <a:custGeom>
                      <a:avLst/>
                      <a:gdLst>
                        <a:gd name="textAreaLeft" fmla="*/ 0 w 16920"/>
                        <a:gd name="textAreaRight" fmla="*/ 17280 w 16920"/>
                        <a:gd name="textAreaTop" fmla="*/ 0 h 14400"/>
                        <a:gd name="textAreaBottom" fmla="*/ 14760 h 14400"/>
                      </a:gdLst>
                      <a:ahLst/>
                      <a:rect l="textAreaLeft" t="textAreaTop" r="textAreaRight" b="textAreaBottom"/>
                      <a:pathLst>
                        <a:path w="134" h="111">
                          <a:moveTo>
                            <a:pt x="0" y="111"/>
                          </a:moveTo>
                          <a:lnTo>
                            <a:pt x="11" y="111"/>
                          </a:lnTo>
                          <a:lnTo>
                            <a:pt x="23" y="100"/>
                          </a:lnTo>
                          <a:lnTo>
                            <a:pt x="45" y="89"/>
                          </a:lnTo>
                          <a:lnTo>
                            <a:pt x="56" y="78"/>
                          </a:lnTo>
                          <a:lnTo>
                            <a:pt x="78" y="66"/>
                          </a:lnTo>
                          <a:lnTo>
                            <a:pt x="89" y="44"/>
                          </a:lnTo>
                          <a:lnTo>
                            <a:pt x="101" y="33"/>
                          </a:lnTo>
                          <a:lnTo>
                            <a:pt x="123" y="22"/>
                          </a:lnTo>
                          <a:lnTo>
                            <a:pt x="134" y="11"/>
                          </a:lnTo>
                          <a:lnTo>
                            <a:pt x="123" y="0"/>
                          </a:lnTo>
                          <a:lnTo>
                            <a:pt x="112" y="11"/>
                          </a:lnTo>
                          <a:lnTo>
                            <a:pt x="101" y="22"/>
                          </a:lnTo>
                          <a:lnTo>
                            <a:pt x="78" y="44"/>
                          </a:lnTo>
                          <a:lnTo>
                            <a:pt x="67" y="55"/>
                          </a:lnTo>
                          <a:lnTo>
                            <a:pt x="45" y="66"/>
                          </a:lnTo>
                          <a:lnTo>
                            <a:pt x="34" y="78"/>
                          </a:lnTo>
                          <a:lnTo>
                            <a:pt x="23" y="89"/>
                          </a:lnTo>
                          <a:lnTo>
                            <a:pt x="0" y="100"/>
                          </a:lnTo>
                          <a:lnTo>
                            <a:pt x="11" y="100"/>
                          </a:lnTo>
                          <a:lnTo>
                            <a:pt x="0" y="111"/>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880"/>
                    <p:cNvSpPr/>
                    <p:nvPr/>
                  </p:nvSpPr>
                  <p:spPr>
                    <a:xfrm rot="111600">
                      <a:off x="7915680" y="965520"/>
                      <a:ext cx="2520" cy="360"/>
                    </a:xfrm>
                    <a:custGeom>
                      <a:avLst/>
                      <a:gdLst>
                        <a:gd name="textAreaLeft" fmla="*/ 0 w 2520"/>
                        <a:gd name="textAreaRight" fmla="*/ 2880 w 2520"/>
                        <a:gd name="textAreaTop" fmla="*/ 0 h 360"/>
                        <a:gd name="textAreaBottom" fmla="*/ 720 h 360"/>
                      </a:gdLst>
                      <a:ahLst/>
                      <a:rect l="textAreaLeft" t="textAreaTop" r="textAreaRight" b="textAreaBottom"/>
                      <a:pathLst>
                        <a:path w="22" h="1">
                          <a:moveTo>
                            <a:pt x="0" y="0"/>
                          </a:moveTo>
                          <a:lnTo>
                            <a:pt x="11" y="0"/>
                          </a:lnTo>
                          <a:lnTo>
                            <a:pt x="22"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879"/>
                    <p:cNvSpPr/>
                    <p:nvPr/>
                  </p:nvSpPr>
                  <p:spPr>
                    <a:xfrm rot="111600">
                      <a:off x="7902000" y="945720"/>
                      <a:ext cx="16920" cy="19080"/>
                    </a:xfrm>
                    <a:custGeom>
                      <a:avLst/>
                      <a:gdLst>
                        <a:gd name="textAreaLeft" fmla="*/ 0 w 16920"/>
                        <a:gd name="textAreaRight" fmla="*/ 17280 w 16920"/>
                        <a:gd name="textAreaTop" fmla="*/ 0 h 19080"/>
                        <a:gd name="textAreaBottom" fmla="*/ 19440 h 19080"/>
                      </a:gdLst>
                      <a:ahLst/>
                      <a:rect l="textAreaLeft" t="textAreaTop" r="textAreaRight" b="textAreaBottom"/>
                      <a:pathLst>
                        <a:path w="134" h="145">
                          <a:moveTo>
                            <a:pt x="0" y="11"/>
                          </a:moveTo>
                          <a:lnTo>
                            <a:pt x="0" y="11"/>
                          </a:lnTo>
                          <a:lnTo>
                            <a:pt x="22" y="11"/>
                          </a:lnTo>
                          <a:lnTo>
                            <a:pt x="45" y="23"/>
                          </a:lnTo>
                          <a:lnTo>
                            <a:pt x="67" y="34"/>
                          </a:lnTo>
                          <a:lnTo>
                            <a:pt x="78" y="56"/>
                          </a:lnTo>
                          <a:lnTo>
                            <a:pt x="100" y="78"/>
                          </a:lnTo>
                          <a:lnTo>
                            <a:pt x="112" y="101"/>
                          </a:lnTo>
                          <a:lnTo>
                            <a:pt x="112" y="123"/>
                          </a:lnTo>
                          <a:lnTo>
                            <a:pt x="112" y="145"/>
                          </a:lnTo>
                          <a:lnTo>
                            <a:pt x="134" y="145"/>
                          </a:lnTo>
                          <a:lnTo>
                            <a:pt x="123" y="123"/>
                          </a:lnTo>
                          <a:lnTo>
                            <a:pt x="123" y="89"/>
                          </a:lnTo>
                          <a:lnTo>
                            <a:pt x="112" y="67"/>
                          </a:lnTo>
                          <a:lnTo>
                            <a:pt x="89" y="45"/>
                          </a:lnTo>
                          <a:lnTo>
                            <a:pt x="67" y="23"/>
                          </a:lnTo>
                          <a:lnTo>
                            <a:pt x="45" y="11"/>
                          </a:lnTo>
                          <a:lnTo>
                            <a:pt x="22" y="0"/>
                          </a:lnTo>
                          <a:lnTo>
                            <a:pt x="0" y="0"/>
                          </a:lnTo>
                          <a:lnTo>
                            <a:pt x="0" y="11"/>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878"/>
                    <p:cNvSpPr/>
                    <p:nvPr/>
                  </p:nvSpPr>
                  <p:spPr>
                    <a:xfrm rot="111600">
                      <a:off x="7889040" y="945360"/>
                      <a:ext cx="12600" cy="14760"/>
                    </a:xfrm>
                    <a:custGeom>
                      <a:avLst/>
                      <a:gdLst>
                        <a:gd name="textAreaLeft" fmla="*/ 0 w 12600"/>
                        <a:gd name="textAreaRight" fmla="*/ 12960 w 12600"/>
                        <a:gd name="textAreaTop" fmla="*/ 0 h 14760"/>
                        <a:gd name="textAreaBottom" fmla="*/ 15120 h 14760"/>
                      </a:gdLst>
                      <a:ahLst/>
                      <a:rect l="textAreaLeft" t="textAreaTop" r="textAreaRight" b="textAreaBottom"/>
                      <a:pathLst>
                        <a:path w="100" h="112">
                          <a:moveTo>
                            <a:pt x="11" y="112"/>
                          </a:moveTo>
                          <a:lnTo>
                            <a:pt x="22" y="101"/>
                          </a:lnTo>
                          <a:lnTo>
                            <a:pt x="22" y="89"/>
                          </a:lnTo>
                          <a:lnTo>
                            <a:pt x="33" y="67"/>
                          </a:lnTo>
                          <a:lnTo>
                            <a:pt x="44" y="56"/>
                          </a:lnTo>
                          <a:lnTo>
                            <a:pt x="67" y="45"/>
                          </a:lnTo>
                          <a:lnTo>
                            <a:pt x="78" y="34"/>
                          </a:lnTo>
                          <a:lnTo>
                            <a:pt x="89" y="23"/>
                          </a:lnTo>
                          <a:lnTo>
                            <a:pt x="100" y="11"/>
                          </a:lnTo>
                          <a:lnTo>
                            <a:pt x="100" y="0"/>
                          </a:lnTo>
                          <a:lnTo>
                            <a:pt x="78" y="11"/>
                          </a:lnTo>
                          <a:lnTo>
                            <a:pt x="67" y="23"/>
                          </a:lnTo>
                          <a:lnTo>
                            <a:pt x="55" y="34"/>
                          </a:lnTo>
                          <a:lnTo>
                            <a:pt x="33" y="45"/>
                          </a:lnTo>
                          <a:lnTo>
                            <a:pt x="22" y="67"/>
                          </a:lnTo>
                          <a:lnTo>
                            <a:pt x="11" y="78"/>
                          </a:lnTo>
                          <a:lnTo>
                            <a:pt x="0" y="89"/>
                          </a:lnTo>
                          <a:lnTo>
                            <a:pt x="0" y="112"/>
                          </a:lnTo>
                          <a:lnTo>
                            <a:pt x="11" y="112"/>
                          </a:lnTo>
                          <a:close/>
                        </a:path>
                      </a:pathLst>
                    </a:custGeom>
                    <a:solidFill>
                      <a:srgbClr val="000000"/>
                    </a:solidFill>
                    <a:ln w="0">
                      <a:noFill/>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877"/>
                    <p:cNvSpPr/>
                    <p:nvPr/>
                  </p:nvSpPr>
                  <p:spPr>
                    <a:xfrm rot="111600">
                      <a:off x="7900560" y="947160"/>
                      <a:ext cx="2520" cy="360"/>
                    </a:xfrm>
                    <a:custGeom>
                      <a:avLst/>
                      <a:gdLst>
                        <a:gd name="textAreaLeft" fmla="*/ 0 w 2520"/>
                        <a:gd name="textAreaRight" fmla="*/ 2880 w 2520"/>
                        <a:gd name="textAreaTop" fmla="*/ 0 h 360"/>
                        <a:gd name="textAreaBottom" fmla="*/ 720 h 360"/>
                      </a:gdLst>
                      <a:ahLst/>
                      <a:rect l="textAreaLeft" t="textAreaTop" r="textAreaRight" b="textAreaBottom"/>
                      <a:pathLst>
                        <a:path w="22" h="1">
                          <a:moveTo>
                            <a:pt x="0" y="0"/>
                          </a:moveTo>
                          <a:lnTo>
                            <a:pt x="0" y="0"/>
                          </a:lnTo>
                          <a:lnTo>
                            <a:pt x="11" y="0"/>
                          </a:lnTo>
                          <a:lnTo>
                            <a:pt x="22"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876"/>
                    <p:cNvSpPr/>
                    <p:nvPr/>
                  </p:nvSpPr>
                  <p:spPr>
                    <a:xfrm rot="111600">
                      <a:off x="7882560" y="977760"/>
                      <a:ext cx="1080" cy="360"/>
                    </a:xfrm>
                    <a:custGeom>
                      <a:avLst/>
                      <a:gdLst>
                        <a:gd name="textAreaLeft" fmla="*/ 0 w 1080"/>
                        <a:gd name="textAreaRight" fmla="*/ 1440 w 1080"/>
                        <a:gd name="textAreaTop" fmla="*/ 0 h 360"/>
                        <a:gd name="textAreaBottom" fmla="*/ 720 h 360"/>
                      </a:gdLst>
                      <a:ahLst/>
                      <a:rect l="textAreaLeft" t="textAreaTop" r="textAreaRight" b="textAreaBottom"/>
                      <a:pathLst>
                        <a:path w="11" h="1">
                          <a:moveTo>
                            <a:pt x="11" y="0"/>
                          </a:moveTo>
                          <a:lnTo>
                            <a:pt x="11" y="0"/>
                          </a:lnTo>
                          <a:lnTo>
                            <a:pt x="0" y="0"/>
                          </a:lnTo>
                          <a:lnTo>
                            <a:pt x="11"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875"/>
                    <p:cNvSpPr/>
                    <p:nvPr/>
                  </p:nvSpPr>
                  <p:spPr>
                    <a:xfrm rot="111600">
                      <a:off x="7873920" y="977400"/>
                      <a:ext cx="9720" cy="10080"/>
                    </a:xfrm>
                    <a:custGeom>
                      <a:avLst/>
                      <a:gdLst>
                        <a:gd name="textAreaLeft" fmla="*/ 0 w 9720"/>
                        <a:gd name="textAreaRight" fmla="*/ 10080 w 9720"/>
                        <a:gd name="textAreaTop" fmla="*/ 0 h 10080"/>
                        <a:gd name="textAreaBottom" fmla="*/ 10440 h 10080"/>
                      </a:gdLst>
                      <a:ahLst/>
                      <a:rect l="textAreaLeft" t="textAreaTop" r="textAreaRight" b="textAreaBottom"/>
                      <a:pathLst>
                        <a:path w="78" h="78">
                          <a:moveTo>
                            <a:pt x="11" y="78"/>
                          </a:moveTo>
                          <a:lnTo>
                            <a:pt x="11" y="78"/>
                          </a:lnTo>
                          <a:lnTo>
                            <a:pt x="23" y="67"/>
                          </a:lnTo>
                          <a:lnTo>
                            <a:pt x="34" y="56"/>
                          </a:lnTo>
                          <a:lnTo>
                            <a:pt x="45" y="45"/>
                          </a:lnTo>
                          <a:lnTo>
                            <a:pt x="56" y="45"/>
                          </a:lnTo>
                          <a:lnTo>
                            <a:pt x="67" y="34"/>
                          </a:lnTo>
                          <a:lnTo>
                            <a:pt x="78" y="23"/>
                          </a:lnTo>
                          <a:lnTo>
                            <a:pt x="78" y="0"/>
                          </a:lnTo>
                          <a:lnTo>
                            <a:pt x="67" y="0"/>
                          </a:lnTo>
                          <a:lnTo>
                            <a:pt x="56" y="12"/>
                          </a:lnTo>
                          <a:lnTo>
                            <a:pt x="56" y="23"/>
                          </a:lnTo>
                          <a:lnTo>
                            <a:pt x="45" y="34"/>
                          </a:lnTo>
                          <a:lnTo>
                            <a:pt x="34" y="34"/>
                          </a:lnTo>
                          <a:lnTo>
                            <a:pt x="34" y="45"/>
                          </a:lnTo>
                          <a:lnTo>
                            <a:pt x="23" y="56"/>
                          </a:lnTo>
                          <a:lnTo>
                            <a:pt x="11" y="67"/>
                          </a:lnTo>
                          <a:lnTo>
                            <a:pt x="0" y="67"/>
                          </a:lnTo>
                          <a:lnTo>
                            <a:pt x="11" y="67"/>
                          </a:lnTo>
                          <a:lnTo>
                            <a:pt x="11" y="78"/>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874"/>
                    <p:cNvSpPr/>
                    <p:nvPr/>
                  </p:nvSpPr>
                  <p:spPr>
                    <a:xfrm rot="111600">
                      <a:off x="7863480" y="985680"/>
                      <a:ext cx="11160" cy="4320"/>
                    </a:xfrm>
                    <a:custGeom>
                      <a:avLst/>
                      <a:gdLst>
                        <a:gd name="textAreaLeft" fmla="*/ 0 w 11160"/>
                        <a:gd name="textAreaRight" fmla="*/ 11520 w 11160"/>
                        <a:gd name="textAreaTop" fmla="*/ 0 h 4320"/>
                        <a:gd name="textAreaBottom" fmla="*/ 4680 h 4320"/>
                      </a:gdLst>
                      <a:ahLst/>
                      <a:rect l="textAreaLeft" t="textAreaTop" r="textAreaRight" b="textAreaBottom"/>
                      <a:pathLst>
                        <a:path w="89" h="34">
                          <a:moveTo>
                            <a:pt x="0" y="34"/>
                          </a:moveTo>
                          <a:lnTo>
                            <a:pt x="0" y="34"/>
                          </a:lnTo>
                          <a:lnTo>
                            <a:pt x="89" y="11"/>
                          </a:lnTo>
                          <a:lnTo>
                            <a:pt x="89" y="0"/>
                          </a:lnTo>
                          <a:lnTo>
                            <a:pt x="0" y="23"/>
                          </a:lnTo>
                          <a:lnTo>
                            <a:pt x="0" y="34"/>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873"/>
                    <p:cNvSpPr/>
                    <p:nvPr/>
                  </p:nvSpPr>
                  <p:spPr>
                    <a:xfrm rot="111600">
                      <a:off x="7863480" y="98892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1" h="11">
                          <a:moveTo>
                            <a:pt x="0" y="0"/>
                          </a:move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872"/>
                    <p:cNvSpPr/>
                    <p:nvPr/>
                  </p:nvSpPr>
                  <p:spPr>
                    <a:xfrm rot="111600">
                      <a:off x="7922160" y="98028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11" y="0"/>
                          </a:moveTo>
                          <a:lnTo>
                            <a:pt x="11" y="0"/>
                          </a:lnTo>
                          <a:lnTo>
                            <a:pt x="0" y="0"/>
                          </a:lnTo>
                          <a:lnTo>
                            <a:pt x="0" y="11"/>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871"/>
                    <p:cNvSpPr/>
                    <p:nvPr/>
                  </p:nvSpPr>
                  <p:spPr>
                    <a:xfrm rot="111600">
                      <a:off x="7922160" y="980280"/>
                      <a:ext cx="18360" cy="15840"/>
                    </a:xfrm>
                    <a:custGeom>
                      <a:avLst/>
                      <a:gdLst>
                        <a:gd name="textAreaLeft" fmla="*/ 0 w 18360"/>
                        <a:gd name="textAreaRight" fmla="*/ 18720 w 18360"/>
                        <a:gd name="textAreaTop" fmla="*/ 0 h 15840"/>
                        <a:gd name="textAreaBottom" fmla="*/ 16200 h 15840"/>
                      </a:gdLst>
                      <a:ahLst/>
                      <a:rect l="textAreaLeft" t="textAreaTop" r="textAreaRight" b="textAreaBottom"/>
                      <a:pathLst>
                        <a:path w="145" h="122">
                          <a:moveTo>
                            <a:pt x="145" y="100"/>
                          </a:moveTo>
                          <a:lnTo>
                            <a:pt x="123" y="100"/>
                          </a:lnTo>
                          <a:lnTo>
                            <a:pt x="112" y="100"/>
                          </a:lnTo>
                          <a:lnTo>
                            <a:pt x="89" y="100"/>
                          </a:lnTo>
                          <a:lnTo>
                            <a:pt x="78" y="89"/>
                          </a:lnTo>
                          <a:lnTo>
                            <a:pt x="67" y="78"/>
                          </a:lnTo>
                          <a:lnTo>
                            <a:pt x="56" y="66"/>
                          </a:lnTo>
                          <a:lnTo>
                            <a:pt x="34" y="44"/>
                          </a:lnTo>
                          <a:lnTo>
                            <a:pt x="11" y="0"/>
                          </a:lnTo>
                          <a:lnTo>
                            <a:pt x="0" y="11"/>
                          </a:lnTo>
                          <a:lnTo>
                            <a:pt x="23" y="44"/>
                          </a:lnTo>
                          <a:lnTo>
                            <a:pt x="45" y="78"/>
                          </a:lnTo>
                          <a:lnTo>
                            <a:pt x="56" y="89"/>
                          </a:lnTo>
                          <a:lnTo>
                            <a:pt x="78" y="100"/>
                          </a:lnTo>
                          <a:lnTo>
                            <a:pt x="89" y="111"/>
                          </a:lnTo>
                          <a:lnTo>
                            <a:pt x="112" y="111"/>
                          </a:lnTo>
                          <a:lnTo>
                            <a:pt x="123" y="111"/>
                          </a:lnTo>
                          <a:lnTo>
                            <a:pt x="145" y="122"/>
                          </a:lnTo>
                          <a:lnTo>
                            <a:pt x="145" y="100"/>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870"/>
                    <p:cNvSpPr/>
                    <p:nvPr/>
                  </p:nvSpPr>
                  <p:spPr>
                    <a:xfrm rot="111600">
                      <a:off x="7923600" y="98028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1" h="11">
                          <a:moveTo>
                            <a:pt x="0" y="11"/>
                          </a:moveTo>
                          <a:lnTo>
                            <a:pt x="0" y="11"/>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869"/>
                    <p:cNvSpPr/>
                    <p:nvPr/>
                  </p:nvSpPr>
                  <p:spPr>
                    <a:xfrm rot="111600">
                      <a:off x="7927560" y="98928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2">
                          <a:moveTo>
                            <a:pt x="11" y="12"/>
                          </a:moveTo>
                          <a:lnTo>
                            <a:pt x="11" y="12"/>
                          </a:lnTo>
                          <a:lnTo>
                            <a:pt x="11" y="0"/>
                          </a:lnTo>
                          <a:lnTo>
                            <a:pt x="0" y="12"/>
                          </a:lnTo>
                          <a:lnTo>
                            <a:pt x="11" y="12"/>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868"/>
                    <p:cNvSpPr/>
                    <p:nvPr/>
                  </p:nvSpPr>
                  <p:spPr>
                    <a:xfrm rot="111600">
                      <a:off x="7891920" y="990360"/>
                      <a:ext cx="36720" cy="18720"/>
                    </a:xfrm>
                    <a:custGeom>
                      <a:avLst/>
                      <a:gdLst>
                        <a:gd name="textAreaLeft" fmla="*/ 0 w 36720"/>
                        <a:gd name="textAreaRight" fmla="*/ 37080 w 36720"/>
                        <a:gd name="textAreaTop" fmla="*/ 0 h 18720"/>
                        <a:gd name="textAreaBottom" fmla="*/ 19080 h 18720"/>
                      </a:gdLst>
                      <a:ahLst/>
                      <a:rect l="textAreaLeft" t="textAreaTop" r="textAreaRight" b="textAreaBottom"/>
                      <a:pathLst>
                        <a:path w="290" h="144">
                          <a:moveTo>
                            <a:pt x="0" y="133"/>
                          </a:moveTo>
                          <a:lnTo>
                            <a:pt x="0" y="133"/>
                          </a:lnTo>
                          <a:lnTo>
                            <a:pt x="22" y="144"/>
                          </a:lnTo>
                          <a:lnTo>
                            <a:pt x="45" y="144"/>
                          </a:lnTo>
                          <a:lnTo>
                            <a:pt x="67" y="144"/>
                          </a:lnTo>
                          <a:lnTo>
                            <a:pt x="89" y="144"/>
                          </a:lnTo>
                          <a:lnTo>
                            <a:pt x="112" y="144"/>
                          </a:lnTo>
                          <a:lnTo>
                            <a:pt x="134" y="144"/>
                          </a:lnTo>
                          <a:lnTo>
                            <a:pt x="156" y="133"/>
                          </a:lnTo>
                          <a:lnTo>
                            <a:pt x="167" y="122"/>
                          </a:lnTo>
                          <a:lnTo>
                            <a:pt x="190" y="111"/>
                          </a:lnTo>
                          <a:lnTo>
                            <a:pt x="212" y="100"/>
                          </a:lnTo>
                          <a:lnTo>
                            <a:pt x="223" y="89"/>
                          </a:lnTo>
                          <a:lnTo>
                            <a:pt x="245" y="78"/>
                          </a:lnTo>
                          <a:lnTo>
                            <a:pt x="257" y="55"/>
                          </a:lnTo>
                          <a:lnTo>
                            <a:pt x="268" y="44"/>
                          </a:lnTo>
                          <a:lnTo>
                            <a:pt x="279" y="22"/>
                          </a:lnTo>
                          <a:lnTo>
                            <a:pt x="290" y="0"/>
                          </a:lnTo>
                          <a:lnTo>
                            <a:pt x="279" y="0"/>
                          </a:lnTo>
                          <a:lnTo>
                            <a:pt x="268" y="11"/>
                          </a:lnTo>
                          <a:lnTo>
                            <a:pt x="257" y="33"/>
                          </a:lnTo>
                          <a:lnTo>
                            <a:pt x="245" y="55"/>
                          </a:lnTo>
                          <a:lnTo>
                            <a:pt x="234" y="66"/>
                          </a:lnTo>
                          <a:lnTo>
                            <a:pt x="212" y="78"/>
                          </a:lnTo>
                          <a:lnTo>
                            <a:pt x="201" y="89"/>
                          </a:lnTo>
                          <a:lnTo>
                            <a:pt x="179" y="100"/>
                          </a:lnTo>
                          <a:lnTo>
                            <a:pt x="167" y="111"/>
                          </a:lnTo>
                          <a:lnTo>
                            <a:pt x="145" y="122"/>
                          </a:lnTo>
                          <a:lnTo>
                            <a:pt x="134" y="122"/>
                          </a:lnTo>
                          <a:lnTo>
                            <a:pt x="112" y="133"/>
                          </a:lnTo>
                          <a:lnTo>
                            <a:pt x="89" y="133"/>
                          </a:lnTo>
                          <a:lnTo>
                            <a:pt x="67" y="133"/>
                          </a:lnTo>
                          <a:lnTo>
                            <a:pt x="45" y="133"/>
                          </a:lnTo>
                          <a:lnTo>
                            <a:pt x="34" y="122"/>
                          </a:lnTo>
                          <a:lnTo>
                            <a:pt x="11" y="122"/>
                          </a:lnTo>
                          <a:lnTo>
                            <a:pt x="0" y="133"/>
                          </a:lnTo>
                          <a:close/>
                        </a:path>
                      </a:pathLst>
                    </a:custGeom>
                    <a:solidFill>
                      <a:srgbClr val="000000"/>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867"/>
                    <p:cNvSpPr/>
                    <p:nvPr/>
                  </p:nvSpPr>
                  <p:spPr>
                    <a:xfrm rot="111600">
                      <a:off x="7873560" y="986040"/>
                      <a:ext cx="19800" cy="20520"/>
                    </a:xfrm>
                    <a:custGeom>
                      <a:avLst/>
                      <a:gdLst>
                        <a:gd name="textAreaLeft" fmla="*/ 0 w 19800"/>
                        <a:gd name="textAreaRight" fmla="*/ 20160 w 19800"/>
                        <a:gd name="textAreaTop" fmla="*/ 0 h 20520"/>
                        <a:gd name="textAreaBottom" fmla="*/ 20880 h 20520"/>
                      </a:gdLst>
                      <a:ahLst/>
                      <a:rect l="textAreaLeft" t="textAreaTop" r="textAreaRight" b="textAreaBottom"/>
                      <a:pathLst>
                        <a:path w="156" h="156">
                          <a:moveTo>
                            <a:pt x="0" y="11"/>
                          </a:moveTo>
                          <a:lnTo>
                            <a:pt x="23" y="45"/>
                          </a:lnTo>
                          <a:lnTo>
                            <a:pt x="45" y="78"/>
                          </a:lnTo>
                          <a:lnTo>
                            <a:pt x="56" y="101"/>
                          </a:lnTo>
                          <a:lnTo>
                            <a:pt x="78" y="112"/>
                          </a:lnTo>
                          <a:lnTo>
                            <a:pt x="89" y="134"/>
                          </a:lnTo>
                          <a:lnTo>
                            <a:pt x="112" y="145"/>
                          </a:lnTo>
                          <a:lnTo>
                            <a:pt x="123" y="156"/>
                          </a:lnTo>
                          <a:lnTo>
                            <a:pt x="145" y="156"/>
                          </a:lnTo>
                          <a:lnTo>
                            <a:pt x="156" y="145"/>
                          </a:lnTo>
                          <a:lnTo>
                            <a:pt x="134" y="134"/>
                          </a:lnTo>
                          <a:lnTo>
                            <a:pt x="112" y="134"/>
                          </a:lnTo>
                          <a:lnTo>
                            <a:pt x="101" y="123"/>
                          </a:lnTo>
                          <a:lnTo>
                            <a:pt x="89" y="101"/>
                          </a:lnTo>
                          <a:lnTo>
                            <a:pt x="67" y="89"/>
                          </a:lnTo>
                          <a:lnTo>
                            <a:pt x="56" y="67"/>
                          </a:lnTo>
                          <a:lnTo>
                            <a:pt x="34" y="34"/>
                          </a:lnTo>
                          <a:lnTo>
                            <a:pt x="11" y="0"/>
                          </a:lnTo>
                          <a:lnTo>
                            <a:pt x="0" y="11"/>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866"/>
                    <p:cNvSpPr/>
                    <p:nvPr/>
                  </p:nvSpPr>
                  <p:spPr>
                    <a:xfrm rot="111600">
                      <a:off x="7891560" y="100584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11" y="0"/>
                          </a:moveTo>
                          <a:lnTo>
                            <a:pt x="11" y="0"/>
                          </a:lnTo>
                          <a:lnTo>
                            <a:pt x="0" y="0"/>
                          </a:lnTo>
                          <a:lnTo>
                            <a:pt x="0" y="11"/>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865"/>
                    <p:cNvSpPr/>
                    <p:nvPr/>
                  </p:nvSpPr>
                  <p:spPr>
                    <a:xfrm rot="111600">
                      <a:off x="7989480" y="903240"/>
                      <a:ext cx="32400" cy="65880"/>
                    </a:xfrm>
                    <a:custGeom>
                      <a:avLst/>
                      <a:gdLst>
                        <a:gd name="textAreaLeft" fmla="*/ 0 w 32400"/>
                        <a:gd name="textAreaRight" fmla="*/ 32760 w 32400"/>
                        <a:gd name="textAreaTop" fmla="*/ 0 h 65880"/>
                        <a:gd name="textAreaBottom" fmla="*/ 66240 h 65880"/>
                      </a:gdLst>
                      <a:ahLst/>
                      <a:rect l="textAreaLeft" t="textAreaTop" r="textAreaRight" b="textAreaBottom"/>
                      <a:pathLst>
                        <a:path w="256" h="501">
                          <a:moveTo>
                            <a:pt x="33" y="145"/>
                          </a:moveTo>
                          <a:lnTo>
                            <a:pt x="45" y="122"/>
                          </a:lnTo>
                          <a:lnTo>
                            <a:pt x="56" y="100"/>
                          </a:lnTo>
                          <a:lnTo>
                            <a:pt x="67" y="78"/>
                          </a:lnTo>
                          <a:lnTo>
                            <a:pt x="89" y="55"/>
                          </a:lnTo>
                          <a:lnTo>
                            <a:pt x="100" y="44"/>
                          </a:lnTo>
                          <a:lnTo>
                            <a:pt x="123" y="22"/>
                          </a:lnTo>
                          <a:lnTo>
                            <a:pt x="134" y="11"/>
                          </a:lnTo>
                          <a:lnTo>
                            <a:pt x="167" y="0"/>
                          </a:lnTo>
                          <a:lnTo>
                            <a:pt x="189" y="11"/>
                          </a:lnTo>
                          <a:lnTo>
                            <a:pt x="223" y="55"/>
                          </a:lnTo>
                          <a:lnTo>
                            <a:pt x="245" y="100"/>
                          </a:lnTo>
                          <a:lnTo>
                            <a:pt x="256" y="167"/>
                          </a:lnTo>
                          <a:lnTo>
                            <a:pt x="256" y="234"/>
                          </a:lnTo>
                          <a:lnTo>
                            <a:pt x="256" y="301"/>
                          </a:lnTo>
                          <a:lnTo>
                            <a:pt x="245" y="356"/>
                          </a:lnTo>
                          <a:lnTo>
                            <a:pt x="234" y="412"/>
                          </a:lnTo>
                          <a:lnTo>
                            <a:pt x="223" y="423"/>
                          </a:lnTo>
                          <a:lnTo>
                            <a:pt x="223" y="434"/>
                          </a:lnTo>
                          <a:lnTo>
                            <a:pt x="212" y="457"/>
                          </a:lnTo>
                          <a:lnTo>
                            <a:pt x="201" y="468"/>
                          </a:lnTo>
                          <a:lnTo>
                            <a:pt x="189" y="479"/>
                          </a:lnTo>
                          <a:lnTo>
                            <a:pt x="189" y="490"/>
                          </a:lnTo>
                          <a:lnTo>
                            <a:pt x="167" y="501"/>
                          </a:lnTo>
                          <a:lnTo>
                            <a:pt x="156" y="501"/>
                          </a:lnTo>
                          <a:lnTo>
                            <a:pt x="134" y="501"/>
                          </a:lnTo>
                          <a:lnTo>
                            <a:pt x="123" y="501"/>
                          </a:lnTo>
                          <a:lnTo>
                            <a:pt x="100" y="490"/>
                          </a:lnTo>
                          <a:lnTo>
                            <a:pt x="89" y="479"/>
                          </a:lnTo>
                          <a:lnTo>
                            <a:pt x="78" y="468"/>
                          </a:lnTo>
                          <a:lnTo>
                            <a:pt x="67" y="457"/>
                          </a:lnTo>
                          <a:lnTo>
                            <a:pt x="56" y="446"/>
                          </a:lnTo>
                          <a:lnTo>
                            <a:pt x="33" y="434"/>
                          </a:lnTo>
                          <a:lnTo>
                            <a:pt x="22" y="401"/>
                          </a:lnTo>
                          <a:lnTo>
                            <a:pt x="11" y="368"/>
                          </a:lnTo>
                          <a:lnTo>
                            <a:pt x="0" y="323"/>
                          </a:lnTo>
                          <a:lnTo>
                            <a:pt x="0" y="289"/>
                          </a:lnTo>
                          <a:lnTo>
                            <a:pt x="0" y="245"/>
                          </a:lnTo>
                          <a:lnTo>
                            <a:pt x="0" y="211"/>
                          </a:lnTo>
                          <a:lnTo>
                            <a:pt x="11" y="178"/>
                          </a:lnTo>
                          <a:lnTo>
                            <a:pt x="33" y="145"/>
                          </a:lnTo>
                          <a:close/>
                        </a:path>
                      </a:pathLst>
                    </a:custGeom>
                    <a:solidFill>
                      <a:srgbClr val="5475e8"/>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864"/>
                    <p:cNvSpPr/>
                    <p:nvPr/>
                  </p:nvSpPr>
                  <p:spPr>
                    <a:xfrm rot="111600">
                      <a:off x="7992720" y="901800"/>
                      <a:ext cx="18360" cy="21960"/>
                    </a:xfrm>
                    <a:custGeom>
                      <a:avLst/>
                      <a:gdLst>
                        <a:gd name="textAreaLeft" fmla="*/ 0 w 18360"/>
                        <a:gd name="textAreaRight" fmla="*/ 18720 w 18360"/>
                        <a:gd name="textAreaTop" fmla="*/ 0 h 21960"/>
                        <a:gd name="textAreaBottom" fmla="*/ 22320 h 21960"/>
                      </a:gdLst>
                      <a:ahLst/>
                      <a:rect l="textAreaLeft" t="textAreaTop" r="textAreaRight" b="textAreaBottom"/>
                      <a:pathLst>
                        <a:path w="145" h="167">
                          <a:moveTo>
                            <a:pt x="145" y="0"/>
                          </a:moveTo>
                          <a:lnTo>
                            <a:pt x="134" y="0"/>
                          </a:lnTo>
                          <a:lnTo>
                            <a:pt x="112" y="11"/>
                          </a:lnTo>
                          <a:lnTo>
                            <a:pt x="89" y="33"/>
                          </a:lnTo>
                          <a:lnTo>
                            <a:pt x="67" y="44"/>
                          </a:lnTo>
                          <a:lnTo>
                            <a:pt x="56" y="66"/>
                          </a:lnTo>
                          <a:lnTo>
                            <a:pt x="45" y="89"/>
                          </a:lnTo>
                          <a:lnTo>
                            <a:pt x="34" y="111"/>
                          </a:lnTo>
                          <a:lnTo>
                            <a:pt x="23" y="133"/>
                          </a:lnTo>
                          <a:lnTo>
                            <a:pt x="0" y="156"/>
                          </a:lnTo>
                          <a:lnTo>
                            <a:pt x="23" y="167"/>
                          </a:lnTo>
                          <a:lnTo>
                            <a:pt x="34" y="133"/>
                          </a:lnTo>
                          <a:lnTo>
                            <a:pt x="45" y="111"/>
                          </a:lnTo>
                          <a:lnTo>
                            <a:pt x="56" y="100"/>
                          </a:lnTo>
                          <a:lnTo>
                            <a:pt x="67" y="78"/>
                          </a:lnTo>
                          <a:lnTo>
                            <a:pt x="78" y="55"/>
                          </a:lnTo>
                          <a:lnTo>
                            <a:pt x="101" y="44"/>
                          </a:lnTo>
                          <a:lnTo>
                            <a:pt x="123" y="33"/>
                          </a:lnTo>
                          <a:lnTo>
                            <a:pt x="145" y="11"/>
                          </a:lnTo>
                          <a:lnTo>
                            <a:pt x="145"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863"/>
                    <p:cNvSpPr/>
                    <p:nvPr/>
                  </p:nvSpPr>
                  <p:spPr>
                    <a:xfrm rot="111600">
                      <a:off x="8010720" y="902160"/>
                      <a:ext cx="12600" cy="55800"/>
                    </a:xfrm>
                    <a:custGeom>
                      <a:avLst/>
                      <a:gdLst>
                        <a:gd name="textAreaLeft" fmla="*/ 0 w 12600"/>
                        <a:gd name="textAreaRight" fmla="*/ 12960 w 12600"/>
                        <a:gd name="textAreaTop" fmla="*/ 0 h 55800"/>
                        <a:gd name="textAreaBottom" fmla="*/ 56160 h 55800"/>
                      </a:gdLst>
                      <a:ahLst/>
                      <a:rect l="textAreaLeft" t="textAreaTop" r="textAreaRight" b="textAreaBottom"/>
                      <a:pathLst>
                        <a:path w="100" h="423">
                          <a:moveTo>
                            <a:pt x="67" y="423"/>
                          </a:moveTo>
                          <a:lnTo>
                            <a:pt x="67" y="423"/>
                          </a:lnTo>
                          <a:lnTo>
                            <a:pt x="89" y="367"/>
                          </a:lnTo>
                          <a:lnTo>
                            <a:pt x="100" y="312"/>
                          </a:lnTo>
                          <a:lnTo>
                            <a:pt x="100" y="245"/>
                          </a:lnTo>
                          <a:lnTo>
                            <a:pt x="89" y="178"/>
                          </a:lnTo>
                          <a:lnTo>
                            <a:pt x="78" y="111"/>
                          </a:lnTo>
                          <a:lnTo>
                            <a:pt x="56" y="55"/>
                          </a:lnTo>
                          <a:lnTo>
                            <a:pt x="34" y="22"/>
                          </a:lnTo>
                          <a:lnTo>
                            <a:pt x="0" y="0"/>
                          </a:lnTo>
                          <a:lnTo>
                            <a:pt x="0" y="11"/>
                          </a:lnTo>
                          <a:lnTo>
                            <a:pt x="22" y="33"/>
                          </a:lnTo>
                          <a:lnTo>
                            <a:pt x="45" y="66"/>
                          </a:lnTo>
                          <a:lnTo>
                            <a:pt x="67" y="111"/>
                          </a:lnTo>
                          <a:lnTo>
                            <a:pt x="78" y="178"/>
                          </a:lnTo>
                          <a:lnTo>
                            <a:pt x="89" y="245"/>
                          </a:lnTo>
                          <a:lnTo>
                            <a:pt x="89" y="312"/>
                          </a:lnTo>
                          <a:lnTo>
                            <a:pt x="78" y="367"/>
                          </a:lnTo>
                          <a:lnTo>
                            <a:pt x="56" y="423"/>
                          </a:lnTo>
                          <a:lnTo>
                            <a:pt x="67" y="423"/>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862"/>
                    <p:cNvSpPr/>
                    <p:nvPr/>
                  </p:nvSpPr>
                  <p:spPr>
                    <a:xfrm rot="111600">
                      <a:off x="8008200" y="957960"/>
                      <a:ext cx="9720" cy="12960"/>
                    </a:xfrm>
                    <a:custGeom>
                      <a:avLst/>
                      <a:gdLst>
                        <a:gd name="textAreaLeft" fmla="*/ 0 w 9720"/>
                        <a:gd name="textAreaRight" fmla="*/ 10080 w 9720"/>
                        <a:gd name="textAreaTop" fmla="*/ 0 h 12960"/>
                        <a:gd name="textAreaBottom" fmla="*/ 13320 h 12960"/>
                      </a:gdLst>
                      <a:ahLst/>
                      <a:rect l="textAreaLeft" t="textAreaTop" r="textAreaRight" b="textAreaBottom"/>
                      <a:pathLst>
                        <a:path w="78" h="100">
                          <a:moveTo>
                            <a:pt x="0" y="100"/>
                          </a:moveTo>
                          <a:lnTo>
                            <a:pt x="0" y="100"/>
                          </a:lnTo>
                          <a:lnTo>
                            <a:pt x="22" y="89"/>
                          </a:lnTo>
                          <a:lnTo>
                            <a:pt x="33" y="78"/>
                          </a:lnTo>
                          <a:lnTo>
                            <a:pt x="45" y="67"/>
                          </a:lnTo>
                          <a:lnTo>
                            <a:pt x="56" y="56"/>
                          </a:lnTo>
                          <a:lnTo>
                            <a:pt x="67" y="45"/>
                          </a:lnTo>
                          <a:lnTo>
                            <a:pt x="67" y="34"/>
                          </a:lnTo>
                          <a:lnTo>
                            <a:pt x="78" y="11"/>
                          </a:lnTo>
                          <a:lnTo>
                            <a:pt x="78" y="0"/>
                          </a:lnTo>
                          <a:lnTo>
                            <a:pt x="67" y="0"/>
                          </a:lnTo>
                          <a:lnTo>
                            <a:pt x="67" y="11"/>
                          </a:lnTo>
                          <a:lnTo>
                            <a:pt x="56" y="22"/>
                          </a:lnTo>
                          <a:lnTo>
                            <a:pt x="45" y="34"/>
                          </a:lnTo>
                          <a:lnTo>
                            <a:pt x="45" y="45"/>
                          </a:lnTo>
                          <a:lnTo>
                            <a:pt x="33" y="67"/>
                          </a:lnTo>
                          <a:lnTo>
                            <a:pt x="22" y="78"/>
                          </a:lnTo>
                          <a:lnTo>
                            <a:pt x="11" y="78"/>
                          </a:lnTo>
                          <a:lnTo>
                            <a:pt x="0" y="89"/>
                          </a:lnTo>
                          <a:lnTo>
                            <a:pt x="0" y="78"/>
                          </a:lnTo>
                          <a:lnTo>
                            <a:pt x="0" y="10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861"/>
                    <p:cNvSpPr/>
                    <p:nvPr/>
                  </p:nvSpPr>
                  <p:spPr>
                    <a:xfrm rot="111600">
                      <a:off x="7992720" y="960480"/>
                      <a:ext cx="15480" cy="10080"/>
                    </a:xfrm>
                    <a:custGeom>
                      <a:avLst/>
                      <a:gdLst>
                        <a:gd name="textAreaLeft" fmla="*/ 0 w 15480"/>
                        <a:gd name="textAreaRight" fmla="*/ 15840 w 15480"/>
                        <a:gd name="textAreaTop" fmla="*/ 0 h 10080"/>
                        <a:gd name="textAreaBottom" fmla="*/ 10440 h 10080"/>
                      </a:gdLst>
                      <a:ahLst/>
                      <a:rect l="textAreaLeft" t="textAreaTop" r="textAreaRight" b="textAreaBottom"/>
                      <a:pathLst>
                        <a:path w="123" h="78">
                          <a:moveTo>
                            <a:pt x="0" y="12"/>
                          </a:moveTo>
                          <a:lnTo>
                            <a:pt x="0" y="12"/>
                          </a:lnTo>
                          <a:lnTo>
                            <a:pt x="12" y="23"/>
                          </a:lnTo>
                          <a:lnTo>
                            <a:pt x="23" y="23"/>
                          </a:lnTo>
                          <a:lnTo>
                            <a:pt x="34" y="45"/>
                          </a:lnTo>
                          <a:lnTo>
                            <a:pt x="56" y="56"/>
                          </a:lnTo>
                          <a:lnTo>
                            <a:pt x="67" y="67"/>
                          </a:lnTo>
                          <a:lnTo>
                            <a:pt x="90" y="67"/>
                          </a:lnTo>
                          <a:lnTo>
                            <a:pt x="101" y="78"/>
                          </a:lnTo>
                          <a:lnTo>
                            <a:pt x="123" y="78"/>
                          </a:lnTo>
                          <a:lnTo>
                            <a:pt x="123" y="56"/>
                          </a:lnTo>
                          <a:lnTo>
                            <a:pt x="101" y="56"/>
                          </a:lnTo>
                          <a:lnTo>
                            <a:pt x="90" y="56"/>
                          </a:lnTo>
                          <a:lnTo>
                            <a:pt x="78" y="45"/>
                          </a:lnTo>
                          <a:lnTo>
                            <a:pt x="56" y="45"/>
                          </a:lnTo>
                          <a:lnTo>
                            <a:pt x="45" y="34"/>
                          </a:lnTo>
                          <a:lnTo>
                            <a:pt x="34" y="23"/>
                          </a:lnTo>
                          <a:lnTo>
                            <a:pt x="23" y="12"/>
                          </a:lnTo>
                          <a:lnTo>
                            <a:pt x="12" y="0"/>
                          </a:lnTo>
                          <a:lnTo>
                            <a:pt x="0" y="12"/>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860"/>
                    <p:cNvSpPr/>
                    <p:nvPr/>
                  </p:nvSpPr>
                  <p:spPr>
                    <a:xfrm rot="111600">
                      <a:off x="7987680" y="921960"/>
                      <a:ext cx="6840" cy="39600"/>
                    </a:xfrm>
                    <a:custGeom>
                      <a:avLst/>
                      <a:gdLst>
                        <a:gd name="textAreaLeft" fmla="*/ 0 w 6840"/>
                        <a:gd name="textAreaRight" fmla="*/ 7200 w 6840"/>
                        <a:gd name="textAreaTop" fmla="*/ 0 h 39600"/>
                        <a:gd name="textAreaBottom" fmla="*/ 39600 h 39600"/>
                      </a:gdLst>
                      <a:ahLst/>
                      <a:rect l="textAreaLeft" t="textAreaTop" r="textAreaRight" b="textAreaBottom"/>
                      <a:pathLst>
                        <a:path w="56" h="301">
                          <a:moveTo>
                            <a:pt x="33" y="0"/>
                          </a:moveTo>
                          <a:lnTo>
                            <a:pt x="44" y="0"/>
                          </a:lnTo>
                          <a:lnTo>
                            <a:pt x="22" y="33"/>
                          </a:lnTo>
                          <a:lnTo>
                            <a:pt x="11" y="66"/>
                          </a:lnTo>
                          <a:lnTo>
                            <a:pt x="0" y="100"/>
                          </a:lnTo>
                          <a:lnTo>
                            <a:pt x="0" y="144"/>
                          </a:lnTo>
                          <a:lnTo>
                            <a:pt x="0" y="178"/>
                          </a:lnTo>
                          <a:lnTo>
                            <a:pt x="11" y="223"/>
                          </a:lnTo>
                          <a:lnTo>
                            <a:pt x="22" y="267"/>
                          </a:lnTo>
                          <a:lnTo>
                            <a:pt x="44" y="301"/>
                          </a:lnTo>
                          <a:lnTo>
                            <a:pt x="56" y="289"/>
                          </a:lnTo>
                          <a:lnTo>
                            <a:pt x="33" y="256"/>
                          </a:lnTo>
                          <a:lnTo>
                            <a:pt x="22" y="223"/>
                          </a:lnTo>
                          <a:lnTo>
                            <a:pt x="22" y="178"/>
                          </a:lnTo>
                          <a:lnTo>
                            <a:pt x="11" y="144"/>
                          </a:lnTo>
                          <a:lnTo>
                            <a:pt x="11" y="100"/>
                          </a:lnTo>
                          <a:lnTo>
                            <a:pt x="22" y="66"/>
                          </a:lnTo>
                          <a:lnTo>
                            <a:pt x="33" y="33"/>
                          </a:lnTo>
                          <a:lnTo>
                            <a:pt x="56" y="11"/>
                          </a:lnTo>
                          <a:lnTo>
                            <a:pt x="33" y="0"/>
                          </a:lnTo>
                          <a:close/>
                        </a:path>
                      </a:pathLst>
                    </a:custGeom>
                    <a:solidFill>
                      <a:srgbClr val="0000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859"/>
                    <p:cNvSpPr/>
                    <p:nvPr/>
                  </p:nvSpPr>
                  <p:spPr>
                    <a:xfrm rot="111600">
                      <a:off x="7969320" y="923040"/>
                      <a:ext cx="28440" cy="39600"/>
                    </a:xfrm>
                    <a:custGeom>
                      <a:avLst/>
                      <a:gdLst>
                        <a:gd name="textAreaLeft" fmla="*/ 0 w 28440"/>
                        <a:gd name="textAreaRight" fmla="*/ 28800 w 28440"/>
                        <a:gd name="textAreaTop" fmla="*/ 0 h 39600"/>
                        <a:gd name="textAreaBottom" fmla="*/ 39600 h 39600"/>
                      </a:gdLst>
                      <a:ahLst/>
                      <a:rect l="textAreaLeft" t="textAreaTop" r="textAreaRight" b="textAreaBottom"/>
                      <a:pathLst>
                        <a:path w="223" h="301">
                          <a:moveTo>
                            <a:pt x="33" y="0"/>
                          </a:moveTo>
                          <a:lnTo>
                            <a:pt x="44" y="0"/>
                          </a:lnTo>
                          <a:lnTo>
                            <a:pt x="56" y="0"/>
                          </a:lnTo>
                          <a:lnTo>
                            <a:pt x="67" y="0"/>
                          </a:lnTo>
                          <a:lnTo>
                            <a:pt x="78" y="0"/>
                          </a:lnTo>
                          <a:lnTo>
                            <a:pt x="89" y="0"/>
                          </a:lnTo>
                          <a:lnTo>
                            <a:pt x="100" y="0"/>
                          </a:lnTo>
                          <a:lnTo>
                            <a:pt x="111" y="0"/>
                          </a:lnTo>
                          <a:lnTo>
                            <a:pt x="122" y="0"/>
                          </a:lnTo>
                          <a:lnTo>
                            <a:pt x="156" y="33"/>
                          </a:lnTo>
                          <a:lnTo>
                            <a:pt x="189" y="55"/>
                          </a:lnTo>
                          <a:lnTo>
                            <a:pt x="212" y="89"/>
                          </a:lnTo>
                          <a:lnTo>
                            <a:pt x="223" y="122"/>
                          </a:lnTo>
                          <a:lnTo>
                            <a:pt x="223" y="167"/>
                          </a:lnTo>
                          <a:lnTo>
                            <a:pt x="212" y="200"/>
                          </a:lnTo>
                          <a:lnTo>
                            <a:pt x="201" y="245"/>
                          </a:lnTo>
                          <a:lnTo>
                            <a:pt x="178" y="278"/>
                          </a:lnTo>
                          <a:lnTo>
                            <a:pt x="156" y="290"/>
                          </a:lnTo>
                          <a:lnTo>
                            <a:pt x="145" y="290"/>
                          </a:lnTo>
                          <a:lnTo>
                            <a:pt x="134" y="290"/>
                          </a:lnTo>
                          <a:lnTo>
                            <a:pt x="111" y="301"/>
                          </a:lnTo>
                          <a:lnTo>
                            <a:pt x="100" y="301"/>
                          </a:lnTo>
                          <a:lnTo>
                            <a:pt x="78" y="301"/>
                          </a:lnTo>
                          <a:lnTo>
                            <a:pt x="67" y="301"/>
                          </a:lnTo>
                          <a:lnTo>
                            <a:pt x="56" y="301"/>
                          </a:lnTo>
                          <a:lnTo>
                            <a:pt x="33" y="301"/>
                          </a:lnTo>
                          <a:lnTo>
                            <a:pt x="22" y="290"/>
                          </a:lnTo>
                          <a:lnTo>
                            <a:pt x="11" y="278"/>
                          </a:lnTo>
                          <a:lnTo>
                            <a:pt x="11" y="267"/>
                          </a:lnTo>
                          <a:lnTo>
                            <a:pt x="11" y="256"/>
                          </a:lnTo>
                          <a:lnTo>
                            <a:pt x="11" y="234"/>
                          </a:lnTo>
                          <a:lnTo>
                            <a:pt x="11" y="212"/>
                          </a:lnTo>
                          <a:lnTo>
                            <a:pt x="22" y="189"/>
                          </a:lnTo>
                          <a:lnTo>
                            <a:pt x="22" y="178"/>
                          </a:lnTo>
                          <a:lnTo>
                            <a:pt x="11" y="156"/>
                          </a:lnTo>
                          <a:lnTo>
                            <a:pt x="11" y="122"/>
                          </a:lnTo>
                          <a:lnTo>
                            <a:pt x="0" y="89"/>
                          </a:lnTo>
                          <a:lnTo>
                            <a:pt x="0" y="55"/>
                          </a:lnTo>
                          <a:lnTo>
                            <a:pt x="0" y="33"/>
                          </a:lnTo>
                          <a:lnTo>
                            <a:pt x="11" y="11"/>
                          </a:lnTo>
                          <a:lnTo>
                            <a:pt x="33" y="0"/>
                          </a:lnTo>
                          <a:close/>
                        </a:path>
                      </a:pathLst>
                    </a:custGeom>
                    <a:solidFill>
                      <a:srgbClr val="5475e8"/>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858"/>
                    <p:cNvSpPr/>
                    <p:nvPr/>
                  </p:nvSpPr>
                  <p:spPr>
                    <a:xfrm rot="111600">
                      <a:off x="7973640" y="921600"/>
                      <a:ext cx="12600" cy="2880"/>
                    </a:xfrm>
                    <a:custGeom>
                      <a:avLst/>
                      <a:gdLst>
                        <a:gd name="textAreaLeft" fmla="*/ 0 w 12600"/>
                        <a:gd name="textAreaRight" fmla="*/ 12960 w 12600"/>
                        <a:gd name="textAreaTop" fmla="*/ 0 h 2880"/>
                        <a:gd name="textAreaBottom" fmla="*/ 3240 h 2880"/>
                      </a:gdLst>
                      <a:ahLst/>
                      <a:rect l="textAreaLeft" t="textAreaTop" r="textAreaRight" b="textAreaBottom"/>
                      <a:pathLst>
                        <a:path w="101" h="22">
                          <a:moveTo>
                            <a:pt x="101" y="11"/>
                          </a:moveTo>
                          <a:lnTo>
                            <a:pt x="89" y="11"/>
                          </a:lnTo>
                          <a:lnTo>
                            <a:pt x="78" y="0"/>
                          </a:lnTo>
                          <a:lnTo>
                            <a:pt x="67" y="0"/>
                          </a:lnTo>
                          <a:lnTo>
                            <a:pt x="56" y="0"/>
                          </a:lnTo>
                          <a:lnTo>
                            <a:pt x="45" y="0"/>
                          </a:lnTo>
                          <a:lnTo>
                            <a:pt x="34" y="0"/>
                          </a:lnTo>
                          <a:lnTo>
                            <a:pt x="23" y="0"/>
                          </a:lnTo>
                          <a:lnTo>
                            <a:pt x="11" y="0"/>
                          </a:lnTo>
                          <a:lnTo>
                            <a:pt x="0" y="0"/>
                          </a:lnTo>
                          <a:lnTo>
                            <a:pt x="0" y="22"/>
                          </a:lnTo>
                          <a:lnTo>
                            <a:pt x="11" y="22"/>
                          </a:lnTo>
                          <a:lnTo>
                            <a:pt x="23" y="22"/>
                          </a:lnTo>
                          <a:lnTo>
                            <a:pt x="34" y="11"/>
                          </a:lnTo>
                          <a:lnTo>
                            <a:pt x="45" y="11"/>
                          </a:lnTo>
                          <a:lnTo>
                            <a:pt x="56" y="11"/>
                          </a:lnTo>
                          <a:lnTo>
                            <a:pt x="67" y="11"/>
                          </a:lnTo>
                          <a:lnTo>
                            <a:pt x="78" y="11"/>
                          </a:lnTo>
                          <a:lnTo>
                            <a:pt x="89" y="22"/>
                          </a:lnTo>
                          <a:lnTo>
                            <a:pt x="101"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857"/>
                    <p:cNvSpPr/>
                    <p:nvPr/>
                  </p:nvSpPr>
                  <p:spPr>
                    <a:xfrm rot="111600">
                      <a:off x="7984800" y="923400"/>
                      <a:ext cx="14040" cy="38160"/>
                    </a:xfrm>
                    <a:custGeom>
                      <a:avLst/>
                      <a:gdLst>
                        <a:gd name="textAreaLeft" fmla="*/ 0 w 14040"/>
                        <a:gd name="textAreaRight" fmla="*/ 14400 w 14040"/>
                        <a:gd name="textAreaTop" fmla="*/ 0 h 38160"/>
                        <a:gd name="textAreaBottom" fmla="*/ 38520 h 38160"/>
                      </a:gdLst>
                      <a:ahLst/>
                      <a:rect l="textAreaLeft" t="textAreaTop" r="textAreaRight" b="textAreaBottom"/>
                      <a:pathLst>
                        <a:path w="112" h="290">
                          <a:moveTo>
                            <a:pt x="56" y="290"/>
                          </a:moveTo>
                          <a:lnTo>
                            <a:pt x="56" y="290"/>
                          </a:lnTo>
                          <a:lnTo>
                            <a:pt x="79" y="245"/>
                          </a:lnTo>
                          <a:lnTo>
                            <a:pt x="101" y="200"/>
                          </a:lnTo>
                          <a:lnTo>
                            <a:pt x="112" y="167"/>
                          </a:lnTo>
                          <a:lnTo>
                            <a:pt x="101" y="122"/>
                          </a:lnTo>
                          <a:lnTo>
                            <a:pt x="90" y="89"/>
                          </a:lnTo>
                          <a:lnTo>
                            <a:pt x="67" y="55"/>
                          </a:lnTo>
                          <a:lnTo>
                            <a:pt x="45" y="22"/>
                          </a:lnTo>
                          <a:lnTo>
                            <a:pt x="12" y="0"/>
                          </a:lnTo>
                          <a:lnTo>
                            <a:pt x="0" y="11"/>
                          </a:lnTo>
                          <a:lnTo>
                            <a:pt x="34" y="33"/>
                          </a:lnTo>
                          <a:lnTo>
                            <a:pt x="56" y="67"/>
                          </a:lnTo>
                          <a:lnTo>
                            <a:pt x="79" y="89"/>
                          </a:lnTo>
                          <a:lnTo>
                            <a:pt x="90" y="122"/>
                          </a:lnTo>
                          <a:lnTo>
                            <a:pt x="90" y="167"/>
                          </a:lnTo>
                          <a:lnTo>
                            <a:pt x="90" y="200"/>
                          </a:lnTo>
                          <a:lnTo>
                            <a:pt x="67" y="234"/>
                          </a:lnTo>
                          <a:lnTo>
                            <a:pt x="45" y="278"/>
                          </a:lnTo>
                          <a:lnTo>
                            <a:pt x="56" y="290"/>
                          </a:lnTo>
                          <a:close/>
                        </a:path>
                      </a:pathLst>
                    </a:custGeom>
                    <a:solidFill>
                      <a:srgbClr val="0000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856"/>
                    <p:cNvSpPr/>
                    <p:nvPr/>
                  </p:nvSpPr>
                  <p:spPr>
                    <a:xfrm rot="111600">
                      <a:off x="7968960" y="946800"/>
                      <a:ext cx="22680" cy="17640"/>
                    </a:xfrm>
                    <a:custGeom>
                      <a:avLst/>
                      <a:gdLst>
                        <a:gd name="textAreaLeft" fmla="*/ 0 w 22680"/>
                        <a:gd name="textAreaRight" fmla="*/ 23040 w 22680"/>
                        <a:gd name="textAreaTop" fmla="*/ 0 h 17640"/>
                        <a:gd name="textAreaBottom" fmla="*/ 18000 h 17640"/>
                      </a:gdLst>
                      <a:ahLst/>
                      <a:rect l="textAreaLeft" t="textAreaTop" r="textAreaRight" b="textAreaBottom"/>
                      <a:pathLst>
                        <a:path w="178" h="134">
                          <a:moveTo>
                            <a:pt x="11" y="11"/>
                          </a:moveTo>
                          <a:lnTo>
                            <a:pt x="11" y="0"/>
                          </a:lnTo>
                          <a:lnTo>
                            <a:pt x="0" y="34"/>
                          </a:lnTo>
                          <a:lnTo>
                            <a:pt x="0" y="56"/>
                          </a:lnTo>
                          <a:lnTo>
                            <a:pt x="0" y="78"/>
                          </a:lnTo>
                          <a:lnTo>
                            <a:pt x="0" y="100"/>
                          </a:lnTo>
                          <a:lnTo>
                            <a:pt x="11" y="112"/>
                          </a:lnTo>
                          <a:lnTo>
                            <a:pt x="22" y="123"/>
                          </a:lnTo>
                          <a:lnTo>
                            <a:pt x="33" y="123"/>
                          </a:lnTo>
                          <a:lnTo>
                            <a:pt x="56" y="134"/>
                          </a:lnTo>
                          <a:lnTo>
                            <a:pt x="67" y="134"/>
                          </a:lnTo>
                          <a:lnTo>
                            <a:pt x="78" y="134"/>
                          </a:lnTo>
                          <a:lnTo>
                            <a:pt x="100" y="134"/>
                          </a:lnTo>
                          <a:lnTo>
                            <a:pt x="111" y="123"/>
                          </a:lnTo>
                          <a:lnTo>
                            <a:pt x="134" y="123"/>
                          </a:lnTo>
                          <a:lnTo>
                            <a:pt x="145" y="123"/>
                          </a:lnTo>
                          <a:lnTo>
                            <a:pt x="167" y="112"/>
                          </a:lnTo>
                          <a:lnTo>
                            <a:pt x="178" y="112"/>
                          </a:lnTo>
                          <a:lnTo>
                            <a:pt x="167" y="100"/>
                          </a:lnTo>
                          <a:lnTo>
                            <a:pt x="156" y="100"/>
                          </a:lnTo>
                          <a:lnTo>
                            <a:pt x="145" y="100"/>
                          </a:lnTo>
                          <a:lnTo>
                            <a:pt x="134" y="112"/>
                          </a:lnTo>
                          <a:lnTo>
                            <a:pt x="111" y="112"/>
                          </a:lnTo>
                          <a:lnTo>
                            <a:pt x="100" y="112"/>
                          </a:lnTo>
                          <a:lnTo>
                            <a:pt x="78" y="112"/>
                          </a:lnTo>
                          <a:lnTo>
                            <a:pt x="67" y="112"/>
                          </a:lnTo>
                          <a:lnTo>
                            <a:pt x="56" y="112"/>
                          </a:lnTo>
                          <a:lnTo>
                            <a:pt x="44" y="112"/>
                          </a:lnTo>
                          <a:lnTo>
                            <a:pt x="33" y="112"/>
                          </a:lnTo>
                          <a:lnTo>
                            <a:pt x="22" y="100"/>
                          </a:lnTo>
                          <a:lnTo>
                            <a:pt x="11" y="89"/>
                          </a:lnTo>
                          <a:lnTo>
                            <a:pt x="11" y="78"/>
                          </a:lnTo>
                          <a:lnTo>
                            <a:pt x="11" y="56"/>
                          </a:lnTo>
                          <a:lnTo>
                            <a:pt x="22" y="34"/>
                          </a:lnTo>
                          <a:lnTo>
                            <a:pt x="22" y="11"/>
                          </a:lnTo>
                          <a:lnTo>
                            <a:pt x="11" y="11"/>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855"/>
                    <p:cNvSpPr/>
                    <p:nvPr/>
                  </p:nvSpPr>
                  <p:spPr>
                    <a:xfrm rot="111600">
                      <a:off x="7967880" y="921240"/>
                      <a:ext cx="5400" cy="26280"/>
                    </a:xfrm>
                    <a:custGeom>
                      <a:avLst/>
                      <a:gdLst>
                        <a:gd name="textAreaLeft" fmla="*/ 0 w 5400"/>
                        <a:gd name="textAreaRight" fmla="*/ 5760 w 5400"/>
                        <a:gd name="textAreaTop" fmla="*/ 0 h 26280"/>
                        <a:gd name="textAreaBottom" fmla="*/ 26640 h 26280"/>
                      </a:gdLst>
                      <a:ahLst/>
                      <a:rect l="textAreaLeft" t="textAreaTop" r="textAreaRight" b="textAreaBottom"/>
                      <a:pathLst>
                        <a:path w="44" h="200">
                          <a:moveTo>
                            <a:pt x="44" y="0"/>
                          </a:moveTo>
                          <a:lnTo>
                            <a:pt x="44" y="0"/>
                          </a:lnTo>
                          <a:lnTo>
                            <a:pt x="22" y="11"/>
                          </a:lnTo>
                          <a:lnTo>
                            <a:pt x="11" y="44"/>
                          </a:lnTo>
                          <a:lnTo>
                            <a:pt x="0" y="66"/>
                          </a:lnTo>
                          <a:lnTo>
                            <a:pt x="0" y="100"/>
                          </a:lnTo>
                          <a:lnTo>
                            <a:pt x="11" y="133"/>
                          </a:lnTo>
                          <a:lnTo>
                            <a:pt x="22" y="167"/>
                          </a:lnTo>
                          <a:lnTo>
                            <a:pt x="22" y="189"/>
                          </a:lnTo>
                          <a:lnTo>
                            <a:pt x="22" y="200"/>
                          </a:lnTo>
                          <a:lnTo>
                            <a:pt x="33" y="200"/>
                          </a:lnTo>
                          <a:lnTo>
                            <a:pt x="33" y="189"/>
                          </a:lnTo>
                          <a:lnTo>
                            <a:pt x="33" y="167"/>
                          </a:lnTo>
                          <a:lnTo>
                            <a:pt x="22" y="133"/>
                          </a:lnTo>
                          <a:lnTo>
                            <a:pt x="22" y="100"/>
                          </a:lnTo>
                          <a:lnTo>
                            <a:pt x="22" y="66"/>
                          </a:lnTo>
                          <a:lnTo>
                            <a:pt x="22" y="44"/>
                          </a:lnTo>
                          <a:lnTo>
                            <a:pt x="22" y="22"/>
                          </a:lnTo>
                          <a:lnTo>
                            <a:pt x="44" y="22"/>
                          </a:lnTo>
                          <a:lnTo>
                            <a:pt x="44" y="0"/>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854"/>
                    <p:cNvSpPr/>
                    <p:nvPr/>
                  </p:nvSpPr>
                  <p:spPr>
                    <a:xfrm rot="111600">
                      <a:off x="7939440" y="912240"/>
                      <a:ext cx="36720" cy="65880"/>
                    </a:xfrm>
                    <a:custGeom>
                      <a:avLst/>
                      <a:gdLst>
                        <a:gd name="textAreaLeft" fmla="*/ 0 w 36720"/>
                        <a:gd name="textAreaRight" fmla="*/ 37080 w 36720"/>
                        <a:gd name="textAreaTop" fmla="*/ 0 h 65880"/>
                        <a:gd name="textAreaBottom" fmla="*/ 66240 h 65880"/>
                      </a:gdLst>
                      <a:ahLst/>
                      <a:rect l="textAreaLeft" t="textAreaTop" r="textAreaRight" b="textAreaBottom"/>
                      <a:pathLst>
                        <a:path w="290" h="501">
                          <a:moveTo>
                            <a:pt x="33" y="22"/>
                          </a:moveTo>
                          <a:lnTo>
                            <a:pt x="44" y="11"/>
                          </a:lnTo>
                          <a:lnTo>
                            <a:pt x="56" y="0"/>
                          </a:lnTo>
                          <a:lnTo>
                            <a:pt x="67" y="0"/>
                          </a:lnTo>
                          <a:lnTo>
                            <a:pt x="78" y="0"/>
                          </a:lnTo>
                          <a:lnTo>
                            <a:pt x="100" y="0"/>
                          </a:lnTo>
                          <a:lnTo>
                            <a:pt x="111" y="0"/>
                          </a:lnTo>
                          <a:lnTo>
                            <a:pt x="134" y="11"/>
                          </a:lnTo>
                          <a:lnTo>
                            <a:pt x="156" y="11"/>
                          </a:lnTo>
                          <a:lnTo>
                            <a:pt x="178" y="22"/>
                          </a:lnTo>
                          <a:lnTo>
                            <a:pt x="189" y="33"/>
                          </a:lnTo>
                          <a:lnTo>
                            <a:pt x="212" y="44"/>
                          </a:lnTo>
                          <a:lnTo>
                            <a:pt x="223" y="67"/>
                          </a:lnTo>
                          <a:lnTo>
                            <a:pt x="245" y="78"/>
                          </a:lnTo>
                          <a:lnTo>
                            <a:pt x="256" y="100"/>
                          </a:lnTo>
                          <a:lnTo>
                            <a:pt x="267" y="111"/>
                          </a:lnTo>
                          <a:lnTo>
                            <a:pt x="278" y="133"/>
                          </a:lnTo>
                          <a:lnTo>
                            <a:pt x="290" y="167"/>
                          </a:lnTo>
                          <a:lnTo>
                            <a:pt x="290" y="200"/>
                          </a:lnTo>
                          <a:lnTo>
                            <a:pt x="290" y="234"/>
                          </a:lnTo>
                          <a:lnTo>
                            <a:pt x="290" y="278"/>
                          </a:lnTo>
                          <a:lnTo>
                            <a:pt x="278" y="312"/>
                          </a:lnTo>
                          <a:lnTo>
                            <a:pt x="267" y="345"/>
                          </a:lnTo>
                          <a:lnTo>
                            <a:pt x="256" y="379"/>
                          </a:lnTo>
                          <a:lnTo>
                            <a:pt x="245" y="412"/>
                          </a:lnTo>
                          <a:lnTo>
                            <a:pt x="223" y="434"/>
                          </a:lnTo>
                          <a:lnTo>
                            <a:pt x="200" y="457"/>
                          </a:lnTo>
                          <a:lnTo>
                            <a:pt x="167" y="479"/>
                          </a:lnTo>
                          <a:lnTo>
                            <a:pt x="145" y="490"/>
                          </a:lnTo>
                          <a:lnTo>
                            <a:pt x="111" y="501"/>
                          </a:lnTo>
                          <a:lnTo>
                            <a:pt x="78" y="501"/>
                          </a:lnTo>
                          <a:lnTo>
                            <a:pt x="56" y="490"/>
                          </a:lnTo>
                          <a:lnTo>
                            <a:pt x="33" y="457"/>
                          </a:lnTo>
                          <a:lnTo>
                            <a:pt x="11" y="401"/>
                          </a:lnTo>
                          <a:lnTo>
                            <a:pt x="0" y="334"/>
                          </a:lnTo>
                          <a:lnTo>
                            <a:pt x="0" y="267"/>
                          </a:lnTo>
                          <a:lnTo>
                            <a:pt x="0" y="211"/>
                          </a:lnTo>
                          <a:lnTo>
                            <a:pt x="0" y="145"/>
                          </a:lnTo>
                          <a:lnTo>
                            <a:pt x="11" y="89"/>
                          </a:lnTo>
                          <a:lnTo>
                            <a:pt x="22" y="55"/>
                          </a:lnTo>
                          <a:lnTo>
                            <a:pt x="33" y="22"/>
                          </a:lnTo>
                          <a:close/>
                        </a:path>
                      </a:pathLst>
                    </a:custGeom>
                    <a:solidFill>
                      <a:srgbClr val="5475e8"/>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853"/>
                    <p:cNvSpPr/>
                    <p:nvPr/>
                  </p:nvSpPr>
                  <p:spPr>
                    <a:xfrm rot="111600">
                      <a:off x="7943040" y="910800"/>
                      <a:ext cx="32400" cy="18720"/>
                    </a:xfrm>
                    <a:custGeom>
                      <a:avLst/>
                      <a:gdLst>
                        <a:gd name="textAreaLeft" fmla="*/ 0 w 32400"/>
                        <a:gd name="textAreaRight" fmla="*/ 32760 w 32400"/>
                        <a:gd name="textAreaTop" fmla="*/ 0 h 18720"/>
                        <a:gd name="textAreaBottom" fmla="*/ 19080 h 18720"/>
                      </a:gdLst>
                      <a:ahLst/>
                      <a:rect l="textAreaLeft" t="textAreaTop" r="textAreaRight" b="textAreaBottom"/>
                      <a:pathLst>
                        <a:path w="256" h="144">
                          <a:moveTo>
                            <a:pt x="256" y="144"/>
                          </a:moveTo>
                          <a:lnTo>
                            <a:pt x="256" y="144"/>
                          </a:lnTo>
                          <a:lnTo>
                            <a:pt x="256" y="122"/>
                          </a:lnTo>
                          <a:lnTo>
                            <a:pt x="234" y="100"/>
                          </a:lnTo>
                          <a:lnTo>
                            <a:pt x="223" y="89"/>
                          </a:lnTo>
                          <a:lnTo>
                            <a:pt x="212" y="66"/>
                          </a:lnTo>
                          <a:lnTo>
                            <a:pt x="190" y="55"/>
                          </a:lnTo>
                          <a:lnTo>
                            <a:pt x="167" y="44"/>
                          </a:lnTo>
                          <a:lnTo>
                            <a:pt x="156" y="33"/>
                          </a:lnTo>
                          <a:lnTo>
                            <a:pt x="134" y="22"/>
                          </a:lnTo>
                          <a:lnTo>
                            <a:pt x="112" y="11"/>
                          </a:lnTo>
                          <a:lnTo>
                            <a:pt x="100" y="0"/>
                          </a:lnTo>
                          <a:lnTo>
                            <a:pt x="78" y="0"/>
                          </a:lnTo>
                          <a:lnTo>
                            <a:pt x="56" y="0"/>
                          </a:lnTo>
                          <a:lnTo>
                            <a:pt x="45" y="0"/>
                          </a:lnTo>
                          <a:lnTo>
                            <a:pt x="22" y="11"/>
                          </a:lnTo>
                          <a:lnTo>
                            <a:pt x="11" y="11"/>
                          </a:lnTo>
                          <a:lnTo>
                            <a:pt x="0" y="22"/>
                          </a:lnTo>
                          <a:lnTo>
                            <a:pt x="11" y="33"/>
                          </a:lnTo>
                          <a:lnTo>
                            <a:pt x="22" y="22"/>
                          </a:lnTo>
                          <a:lnTo>
                            <a:pt x="34" y="22"/>
                          </a:lnTo>
                          <a:lnTo>
                            <a:pt x="45" y="11"/>
                          </a:lnTo>
                          <a:lnTo>
                            <a:pt x="56" y="11"/>
                          </a:lnTo>
                          <a:lnTo>
                            <a:pt x="78" y="11"/>
                          </a:lnTo>
                          <a:lnTo>
                            <a:pt x="89" y="22"/>
                          </a:lnTo>
                          <a:lnTo>
                            <a:pt x="112" y="22"/>
                          </a:lnTo>
                          <a:lnTo>
                            <a:pt x="134" y="33"/>
                          </a:lnTo>
                          <a:lnTo>
                            <a:pt x="145" y="44"/>
                          </a:lnTo>
                          <a:lnTo>
                            <a:pt x="167" y="55"/>
                          </a:lnTo>
                          <a:lnTo>
                            <a:pt x="178" y="66"/>
                          </a:lnTo>
                          <a:lnTo>
                            <a:pt x="201" y="78"/>
                          </a:lnTo>
                          <a:lnTo>
                            <a:pt x="212" y="100"/>
                          </a:lnTo>
                          <a:lnTo>
                            <a:pt x="223" y="111"/>
                          </a:lnTo>
                          <a:lnTo>
                            <a:pt x="234" y="122"/>
                          </a:lnTo>
                          <a:lnTo>
                            <a:pt x="245" y="144"/>
                          </a:lnTo>
                          <a:lnTo>
                            <a:pt x="256" y="144"/>
                          </a:lnTo>
                          <a:close/>
                        </a:path>
                      </a:pathLst>
                    </a:custGeom>
                    <a:solidFill>
                      <a:srgbClr val="000000"/>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852"/>
                    <p:cNvSpPr/>
                    <p:nvPr/>
                  </p:nvSpPr>
                  <p:spPr>
                    <a:xfrm rot="111600">
                      <a:off x="7969320" y="930240"/>
                      <a:ext cx="8280" cy="36720"/>
                    </a:xfrm>
                    <a:custGeom>
                      <a:avLst/>
                      <a:gdLst>
                        <a:gd name="textAreaLeft" fmla="*/ 0 w 8280"/>
                        <a:gd name="textAreaRight" fmla="*/ 8640 w 8280"/>
                        <a:gd name="textAreaTop" fmla="*/ 0 h 36720"/>
                        <a:gd name="textAreaBottom" fmla="*/ 37080 h 36720"/>
                      </a:gdLst>
                      <a:ahLst/>
                      <a:rect l="textAreaLeft" t="textAreaTop" r="textAreaRight" b="textAreaBottom"/>
                      <a:pathLst>
                        <a:path w="67" h="279">
                          <a:moveTo>
                            <a:pt x="11" y="279"/>
                          </a:moveTo>
                          <a:lnTo>
                            <a:pt x="11" y="279"/>
                          </a:lnTo>
                          <a:lnTo>
                            <a:pt x="33" y="257"/>
                          </a:lnTo>
                          <a:lnTo>
                            <a:pt x="44" y="223"/>
                          </a:lnTo>
                          <a:lnTo>
                            <a:pt x="56" y="179"/>
                          </a:lnTo>
                          <a:lnTo>
                            <a:pt x="67" y="145"/>
                          </a:lnTo>
                          <a:lnTo>
                            <a:pt x="67" y="101"/>
                          </a:lnTo>
                          <a:lnTo>
                            <a:pt x="67" y="67"/>
                          </a:lnTo>
                          <a:lnTo>
                            <a:pt x="56" y="34"/>
                          </a:lnTo>
                          <a:lnTo>
                            <a:pt x="44" y="0"/>
                          </a:lnTo>
                          <a:lnTo>
                            <a:pt x="33" y="0"/>
                          </a:lnTo>
                          <a:lnTo>
                            <a:pt x="44" y="34"/>
                          </a:lnTo>
                          <a:lnTo>
                            <a:pt x="56" y="67"/>
                          </a:lnTo>
                          <a:lnTo>
                            <a:pt x="56" y="101"/>
                          </a:lnTo>
                          <a:lnTo>
                            <a:pt x="44" y="145"/>
                          </a:lnTo>
                          <a:lnTo>
                            <a:pt x="44" y="179"/>
                          </a:lnTo>
                          <a:lnTo>
                            <a:pt x="33" y="212"/>
                          </a:lnTo>
                          <a:lnTo>
                            <a:pt x="11" y="246"/>
                          </a:lnTo>
                          <a:lnTo>
                            <a:pt x="0" y="279"/>
                          </a:lnTo>
                          <a:lnTo>
                            <a:pt x="11" y="279"/>
                          </a:lnTo>
                          <a:close/>
                        </a:path>
                      </a:pathLst>
                    </a:custGeom>
                    <a:solidFill>
                      <a:srgbClr val="000000"/>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1851"/>
                    <p:cNvSpPr/>
                    <p:nvPr/>
                  </p:nvSpPr>
                  <p:spPr>
                    <a:xfrm rot="111600">
                      <a:off x="7942320" y="966600"/>
                      <a:ext cx="27000" cy="12960"/>
                    </a:xfrm>
                    <a:custGeom>
                      <a:avLst/>
                      <a:gdLst>
                        <a:gd name="textAreaLeft" fmla="*/ 0 w 27000"/>
                        <a:gd name="textAreaRight" fmla="*/ 27360 w 27000"/>
                        <a:gd name="textAreaTop" fmla="*/ 0 h 12960"/>
                        <a:gd name="textAreaBottom" fmla="*/ 13320 h 12960"/>
                      </a:gdLst>
                      <a:ahLst/>
                      <a:rect l="textAreaLeft" t="textAreaTop" r="textAreaRight" b="textAreaBottom"/>
                      <a:pathLst>
                        <a:path w="212" h="100">
                          <a:moveTo>
                            <a:pt x="0" y="56"/>
                          </a:moveTo>
                          <a:lnTo>
                            <a:pt x="0" y="56"/>
                          </a:lnTo>
                          <a:lnTo>
                            <a:pt x="23" y="78"/>
                          </a:lnTo>
                          <a:lnTo>
                            <a:pt x="45" y="100"/>
                          </a:lnTo>
                          <a:lnTo>
                            <a:pt x="78" y="100"/>
                          </a:lnTo>
                          <a:lnTo>
                            <a:pt x="112" y="89"/>
                          </a:lnTo>
                          <a:lnTo>
                            <a:pt x="145" y="67"/>
                          </a:lnTo>
                          <a:lnTo>
                            <a:pt x="167" y="45"/>
                          </a:lnTo>
                          <a:lnTo>
                            <a:pt x="190" y="22"/>
                          </a:lnTo>
                          <a:lnTo>
                            <a:pt x="212" y="0"/>
                          </a:lnTo>
                          <a:lnTo>
                            <a:pt x="201" y="0"/>
                          </a:lnTo>
                          <a:lnTo>
                            <a:pt x="179" y="11"/>
                          </a:lnTo>
                          <a:lnTo>
                            <a:pt x="156" y="34"/>
                          </a:lnTo>
                          <a:lnTo>
                            <a:pt x="134" y="56"/>
                          </a:lnTo>
                          <a:lnTo>
                            <a:pt x="101" y="78"/>
                          </a:lnTo>
                          <a:lnTo>
                            <a:pt x="78" y="78"/>
                          </a:lnTo>
                          <a:lnTo>
                            <a:pt x="56" y="78"/>
                          </a:lnTo>
                          <a:lnTo>
                            <a:pt x="34" y="67"/>
                          </a:lnTo>
                          <a:lnTo>
                            <a:pt x="11" y="45"/>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850"/>
                    <p:cNvSpPr/>
                    <p:nvPr/>
                  </p:nvSpPr>
                  <p:spPr>
                    <a:xfrm rot="111600">
                      <a:off x="7938000" y="913320"/>
                      <a:ext cx="6840" cy="60120"/>
                    </a:xfrm>
                    <a:custGeom>
                      <a:avLst/>
                      <a:gdLst>
                        <a:gd name="textAreaLeft" fmla="*/ 0 w 6840"/>
                        <a:gd name="textAreaRight" fmla="*/ 7200 w 6840"/>
                        <a:gd name="textAreaTop" fmla="*/ 0 h 60120"/>
                        <a:gd name="textAreaBottom" fmla="*/ 60480 h 60120"/>
                      </a:gdLst>
                      <a:ahLst/>
                      <a:rect l="textAreaLeft" t="textAreaTop" r="textAreaRight" b="textAreaBottom"/>
                      <a:pathLst>
                        <a:path w="55" h="457">
                          <a:moveTo>
                            <a:pt x="33" y="0"/>
                          </a:moveTo>
                          <a:lnTo>
                            <a:pt x="33" y="11"/>
                          </a:lnTo>
                          <a:lnTo>
                            <a:pt x="22" y="33"/>
                          </a:lnTo>
                          <a:lnTo>
                            <a:pt x="11" y="78"/>
                          </a:lnTo>
                          <a:lnTo>
                            <a:pt x="0" y="134"/>
                          </a:lnTo>
                          <a:lnTo>
                            <a:pt x="0" y="200"/>
                          </a:lnTo>
                          <a:lnTo>
                            <a:pt x="0" y="256"/>
                          </a:lnTo>
                          <a:lnTo>
                            <a:pt x="11" y="323"/>
                          </a:lnTo>
                          <a:lnTo>
                            <a:pt x="22" y="390"/>
                          </a:lnTo>
                          <a:lnTo>
                            <a:pt x="44" y="457"/>
                          </a:lnTo>
                          <a:lnTo>
                            <a:pt x="55" y="446"/>
                          </a:lnTo>
                          <a:lnTo>
                            <a:pt x="33" y="390"/>
                          </a:lnTo>
                          <a:lnTo>
                            <a:pt x="22" y="323"/>
                          </a:lnTo>
                          <a:lnTo>
                            <a:pt x="11" y="256"/>
                          </a:lnTo>
                          <a:lnTo>
                            <a:pt x="11" y="200"/>
                          </a:lnTo>
                          <a:lnTo>
                            <a:pt x="22" y="134"/>
                          </a:lnTo>
                          <a:lnTo>
                            <a:pt x="22" y="89"/>
                          </a:lnTo>
                          <a:lnTo>
                            <a:pt x="33" y="44"/>
                          </a:lnTo>
                          <a:lnTo>
                            <a:pt x="44" y="11"/>
                          </a:lnTo>
                          <a:lnTo>
                            <a:pt x="33" y="0"/>
                          </a:lnTo>
                          <a:close/>
                        </a:path>
                      </a:pathLst>
                    </a:custGeom>
                    <a:solidFill>
                      <a:srgbClr val="000000"/>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1849"/>
                    <p:cNvSpPr/>
                    <p:nvPr/>
                  </p:nvSpPr>
                  <p:spPr>
                    <a:xfrm rot="111600">
                      <a:off x="7784640" y="898200"/>
                      <a:ext cx="32400" cy="65880"/>
                    </a:xfrm>
                    <a:custGeom>
                      <a:avLst/>
                      <a:gdLst>
                        <a:gd name="textAreaLeft" fmla="*/ 0 w 32400"/>
                        <a:gd name="textAreaRight" fmla="*/ 32760 w 32400"/>
                        <a:gd name="textAreaTop" fmla="*/ 0 h 65880"/>
                        <a:gd name="textAreaBottom" fmla="*/ 66240 h 65880"/>
                      </a:gdLst>
                      <a:ahLst/>
                      <a:rect l="textAreaLeft" t="textAreaTop" r="textAreaRight" b="textAreaBottom"/>
                      <a:pathLst>
                        <a:path w="256" h="501">
                          <a:moveTo>
                            <a:pt x="256" y="145"/>
                          </a:moveTo>
                          <a:lnTo>
                            <a:pt x="223" y="111"/>
                          </a:lnTo>
                          <a:lnTo>
                            <a:pt x="212" y="78"/>
                          </a:lnTo>
                          <a:lnTo>
                            <a:pt x="201" y="56"/>
                          </a:lnTo>
                          <a:lnTo>
                            <a:pt x="189" y="33"/>
                          </a:lnTo>
                          <a:lnTo>
                            <a:pt x="178" y="33"/>
                          </a:lnTo>
                          <a:lnTo>
                            <a:pt x="167" y="22"/>
                          </a:lnTo>
                          <a:lnTo>
                            <a:pt x="156" y="11"/>
                          </a:lnTo>
                          <a:lnTo>
                            <a:pt x="134" y="0"/>
                          </a:lnTo>
                          <a:lnTo>
                            <a:pt x="123" y="0"/>
                          </a:lnTo>
                          <a:lnTo>
                            <a:pt x="100" y="11"/>
                          </a:lnTo>
                          <a:lnTo>
                            <a:pt x="89" y="22"/>
                          </a:lnTo>
                          <a:lnTo>
                            <a:pt x="78" y="33"/>
                          </a:lnTo>
                          <a:lnTo>
                            <a:pt x="67" y="44"/>
                          </a:lnTo>
                          <a:lnTo>
                            <a:pt x="56" y="56"/>
                          </a:lnTo>
                          <a:lnTo>
                            <a:pt x="56" y="78"/>
                          </a:lnTo>
                          <a:lnTo>
                            <a:pt x="45" y="89"/>
                          </a:lnTo>
                          <a:lnTo>
                            <a:pt x="33" y="134"/>
                          </a:lnTo>
                          <a:lnTo>
                            <a:pt x="22" y="178"/>
                          </a:lnTo>
                          <a:lnTo>
                            <a:pt x="11" y="234"/>
                          </a:lnTo>
                          <a:lnTo>
                            <a:pt x="0" y="290"/>
                          </a:lnTo>
                          <a:lnTo>
                            <a:pt x="0" y="345"/>
                          </a:lnTo>
                          <a:lnTo>
                            <a:pt x="11" y="401"/>
                          </a:lnTo>
                          <a:lnTo>
                            <a:pt x="22" y="446"/>
                          </a:lnTo>
                          <a:lnTo>
                            <a:pt x="45" y="501"/>
                          </a:lnTo>
                          <a:lnTo>
                            <a:pt x="56" y="501"/>
                          </a:lnTo>
                          <a:lnTo>
                            <a:pt x="67" y="501"/>
                          </a:lnTo>
                          <a:lnTo>
                            <a:pt x="78" y="501"/>
                          </a:lnTo>
                          <a:lnTo>
                            <a:pt x="89" y="501"/>
                          </a:lnTo>
                          <a:lnTo>
                            <a:pt x="100" y="501"/>
                          </a:lnTo>
                          <a:lnTo>
                            <a:pt x="111" y="501"/>
                          </a:lnTo>
                          <a:lnTo>
                            <a:pt x="134" y="490"/>
                          </a:lnTo>
                          <a:lnTo>
                            <a:pt x="156" y="468"/>
                          </a:lnTo>
                          <a:lnTo>
                            <a:pt x="167" y="457"/>
                          </a:lnTo>
                          <a:lnTo>
                            <a:pt x="189" y="435"/>
                          </a:lnTo>
                          <a:lnTo>
                            <a:pt x="201" y="423"/>
                          </a:lnTo>
                          <a:lnTo>
                            <a:pt x="212" y="401"/>
                          </a:lnTo>
                          <a:lnTo>
                            <a:pt x="223" y="390"/>
                          </a:lnTo>
                          <a:lnTo>
                            <a:pt x="234" y="345"/>
                          </a:lnTo>
                          <a:lnTo>
                            <a:pt x="245" y="301"/>
                          </a:lnTo>
                          <a:lnTo>
                            <a:pt x="256" y="256"/>
                          </a:lnTo>
                          <a:lnTo>
                            <a:pt x="256" y="200"/>
                          </a:lnTo>
                          <a:lnTo>
                            <a:pt x="256" y="189"/>
                          </a:lnTo>
                          <a:lnTo>
                            <a:pt x="256" y="178"/>
                          </a:lnTo>
                          <a:lnTo>
                            <a:pt x="256" y="167"/>
                          </a:lnTo>
                          <a:lnTo>
                            <a:pt x="256" y="145"/>
                          </a:lnTo>
                          <a:close/>
                        </a:path>
                      </a:pathLst>
                    </a:custGeom>
                    <a:solidFill>
                      <a:srgbClr val="5475e8"/>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1848"/>
                    <p:cNvSpPr/>
                    <p:nvPr/>
                  </p:nvSpPr>
                  <p:spPr>
                    <a:xfrm rot="111600">
                      <a:off x="7802280" y="896760"/>
                      <a:ext cx="15480" cy="21960"/>
                    </a:xfrm>
                    <a:custGeom>
                      <a:avLst/>
                      <a:gdLst>
                        <a:gd name="textAreaLeft" fmla="*/ 0 w 15480"/>
                        <a:gd name="textAreaRight" fmla="*/ 15840 w 15480"/>
                        <a:gd name="textAreaTop" fmla="*/ 0 h 21960"/>
                        <a:gd name="textAreaBottom" fmla="*/ 22320 h 21960"/>
                      </a:gdLst>
                      <a:ahLst/>
                      <a:rect l="textAreaLeft" t="textAreaTop" r="textAreaRight" b="textAreaBottom"/>
                      <a:pathLst>
                        <a:path w="122" h="167">
                          <a:moveTo>
                            <a:pt x="0" y="22"/>
                          </a:moveTo>
                          <a:lnTo>
                            <a:pt x="0" y="22"/>
                          </a:lnTo>
                          <a:lnTo>
                            <a:pt x="11" y="33"/>
                          </a:lnTo>
                          <a:lnTo>
                            <a:pt x="22" y="33"/>
                          </a:lnTo>
                          <a:lnTo>
                            <a:pt x="33" y="44"/>
                          </a:lnTo>
                          <a:lnTo>
                            <a:pt x="44" y="55"/>
                          </a:lnTo>
                          <a:lnTo>
                            <a:pt x="55" y="67"/>
                          </a:lnTo>
                          <a:lnTo>
                            <a:pt x="67" y="89"/>
                          </a:lnTo>
                          <a:lnTo>
                            <a:pt x="89" y="122"/>
                          </a:lnTo>
                          <a:lnTo>
                            <a:pt x="111" y="167"/>
                          </a:lnTo>
                          <a:lnTo>
                            <a:pt x="122" y="156"/>
                          </a:lnTo>
                          <a:lnTo>
                            <a:pt x="100" y="111"/>
                          </a:lnTo>
                          <a:lnTo>
                            <a:pt x="89" y="78"/>
                          </a:lnTo>
                          <a:lnTo>
                            <a:pt x="67" y="55"/>
                          </a:lnTo>
                          <a:lnTo>
                            <a:pt x="55" y="44"/>
                          </a:lnTo>
                          <a:lnTo>
                            <a:pt x="44" y="33"/>
                          </a:lnTo>
                          <a:lnTo>
                            <a:pt x="33" y="22"/>
                          </a:lnTo>
                          <a:lnTo>
                            <a:pt x="22" y="22"/>
                          </a:lnTo>
                          <a:lnTo>
                            <a:pt x="11" y="11"/>
                          </a:lnTo>
                          <a:lnTo>
                            <a:pt x="0" y="0"/>
                          </a:lnTo>
                          <a:lnTo>
                            <a:pt x="0" y="22"/>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847"/>
                    <p:cNvSpPr/>
                    <p:nvPr/>
                  </p:nvSpPr>
                  <p:spPr>
                    <a:xfrm rot="111600">
                      <a:off x="7789680" y="89640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101" h="100">
                          <a:moveTo>
                            <a:pt x="23" y="100"/>
                          </a:moveTo>
                          <a:lnTo>
                            <a:pt x="23" y="100"/>
                          </a:lnTo>
                          <a:lnTo>
                            <a:pt x="23" y="89"/>
                          </a:lnTo>
                          <a:lnTo>
                            <a:pt x="34" y="78"/>
                          </a:lnTo>
                          <a:lnTo>
                            <a:pt x="34" y="55"/>
                          </a:lnTo>
                          <a:lnTo>
                            <a:pt x="45" y="44"/>
                          </a:lnTo>
                          <a:lnTo>
                            <a:pt x="56" y="33"/>
                          </a:lnTo>
                          <a:lnTo>
                            <a:pt x="67" y="22"/>
                          </a:lnTo>
                          <a:lnTo>
                            <a:pt x="90" y="22"/>
                          </a:lnTo>
                          <a:lnTo>
                            <a:pt x="101" y="22"/>
                          </a:lnTo>
                          <a:lnTo>
                            <a:pt x="101" y="0"/>
                          </a:lnTo>
                          <a:lnTo>
                            <a:pt x="90" y="11"/>
                          </a:lnTo>
                          <a:lnTo>
                            <a:pt x="67" y="11"/>
                          </a:lnTo>
                          <a:lnTo>
                            <a:pt x="45" y="22"/>
                          </a:lnTo>
                          <a:lnTo>
                            <a:pt x="34" y="33"/>
                          </a:lnTo>
                          <a:lnTo>
                            <a:pt x="23" y="55"/>
                          </a:lnTo>
                          <a:lnTo>
                            <a:pt x="23" y="67"/>
                          </a:lnTo>
                          <a:lnTo>
                            <a:pt x="12" y="89"/>
                          </a:lnTo>
                          <a:lnTo>
                            <a:pt x="0" y="100"/>
                          </a:lnTo>
                          <a:lnTo>
                            <a:pt x="23" y="10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1846"/>
                    <p:cNvSpPr/>
                    <p:nvPr/>
                  </p:nvSpPr>
                  <p:spPr>
                    <a:xfrm rot="111600">
                      <a:off x="7782840" y="909720"/>
                      <a:ext cx="8280" cy="55800"/>
                    </a:xfrm>
                    <a:custGeom>
                      <a:avLst/>
                      <a:gdLst>
                        <a:gd name="textAreaLeft" fmla="*/ 0 w 8280"/>
                        <a:gd name="textAreaRight" fmla="*/ 8640 w 8280"/>
                        <a:gd name="textAreaTop" fmla="*/ 0 h 55800"/>
                        <a:gd name="textAreaBottom" fmla="*/ 56160 h 55800"/>
                      </a:gdLst>
                      <a:ahLst/>
                      <a:rect l="textAreaLeft" t="textAreaTop" r="textAreaRight" b="textAreaBottom"/>
                      <a:pathLst>
                        <a:path w="67" h="424">
                          <a:moveTo>
                            <a:pt x="56" y="401"/>
                          </a:moveTo>
                          <a:lnTo>
                            <a:pt x="67" y="412"/>
                          </a:lnTo>
                          <a:lnTo>
                            <a:pt x="44" y="357"/>
                          </a:lnTo>
                          <a:lnTo>
                            <a:pt x="22" y="301"/>
                          </a:lnTo>
                          <a:lnTo>
                            <a:pt x="22" y="256"/>
                          </a:lnTo>
                          <a:lnTo>
                            <a:pt x="22" y="201"/>
                          </a:lnTo>
                          <a:lnTo>
                            <a:pt x="22" y="145"/>
                          </a:lnTo>
                          <a:lnTo>
                            <a:pt x="33" y="89"/>
                          </a:lnTo>
                          <a:lnTo>
                            <a:pt x="44" y="45"/>
                          </a:lnTo>
                          <a:lnTo>
                            <a:pt x="67" y="0"/>
                          </a:lnTo>
                          <a:lnTo>
                            <a:pt x="44" y="0"/>
                          </a:lnTo>
                          <a:lnTo>
                            <a:pt x="33" y="45"/>
                          </a:lnTo>
                          <a:lnTo>
                            <a:pt x="22" y="89"/>
                          </a:lnTo>
                          <a:lnTo>
                            <a:pt x="11" y="145"/>
                          </a:lnTo>
                          <a:lnTo>
                            <a:pt x="0" y="201"/>
                          </a:lnTo>
                          <a:lnTo>
                            <a:pt x="0" y="256"/>
                          </a:lnTo>
                          <a:lnTo>
                            <a:pt x="11" y="312"/>
                          </a:lnTo>
                          <a:lnTo>
                            <a:pt x="22" y="368"/>
                          </a:lnTo>
                          <a:lnTo>
                            <a:pt x="56" y="424"/>
                          </a:lnTo>
                          <a:lnTo>
                            <a:pt x="56" y="401"/>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845"/>
                    <p:cNvSpPr/>
                    <p:nvPr/>
                  </p:nvSpPr>
                  <p:spPr>
                    <a:xfrm rot="111600">
                      <a:off x="7788960" y="962640"/>
                      <a:ext cx="6840" cy="2880"/>
                    </a:xfrm>
                    <a:custGeom>
                      <a:avLst/>
                      <a:gdLst>
                        <a:gd name="textAreaLeft" fmla="*/ 0 w 6840"/>
                        <a:gd name="textAreaRight" fmla="*/ 7200 w 6840"/>
                        <a:gd name="textAreaTop" fmla="*/ 0 h 2880"/>
                        <a:gd name="textAreaBottom" fmla="*/ 3240 h 2880"/>
                      </a:gdLst>
                      <a:ahLst/>
                      <a:rect l="textAreaLeft" t="textAreaTop" r="textAreaRight" b="textAreaBottom"/>
                      <a:pathLst>
                        <a:path w="55" h="23">
                          <a:moveTo>
                            <a:pt x="55" y="11"/>
                          </a:moveTo>
                          <a:lnTo>
                            <a:pt x="55" y="11"/>
                          </a:lnTo>
                          <a:lnTo>
                            <a:pt x="44" y="11"/>
                          </a:lnTo>
                          <a:lnTo>
                            <a:pt x="33" y="11"/>
                          </a:lnTo>
                          <a:lnTo>
                            <a:pt x="22" y="11"/>
                          </a:lnTo>
                          <a:lnTo>
                            <a:pt x="11" y="11"/>
                          </a:lnTo>
                          <a:lnTo>
                            <a:pt x="11" y="0"/>
                          </a:lnTo>
                          <a:lnTo>
                            <a:pt x="0" y="0"/>
                          </a:lnTo>
                          <a:lnTo>
                            <a:pt x="0" y="23"/>
                          </a:lnTo>
                          <a:lnTo>
                            <a:pt x="11" y="23"/>
                          </a:lnTo>
                          <a:lnTo>
                            <a:pt x="22" y="23"/>
                          </a:lnTo>
                          <a:lnTo>
                            <a:pt x="33" y="23"/>
                          </a:lnTo>
                          <a:lnTo>
                            <a:pt x="44" y="23"/>
                          </a:lnTo>
                          <a:lnTo>
                            <a:pt x="55" y="23"/>
                          </a:lnTo>
                          <a:lnTo>
                            <a:pt x="55"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1844"/>
                    <p:cNvSpPr/>
                    <p:nvPr/>
                  </p:nvSpPr>
                  <p:spPr>
                    <a:xfrm rot="111600">
                      <a:off x="7796880" y="949680"/>
                      <a:ext cx="15480" cy="16200"/>
                    </a:xfrm>
                    <a:custGeom>
                      <a:avLst/>
                      <a:gdLst>
                        <a:gd name="textAreaLeft" fmla="*/ 0 w 15480"/>
                        <a:gd name="textAreaRight" fmla="*/ 15840 w 15480"/>
                        <a:gd name="textAreaTop" fmla="*/ 0 h 16200"/>
                        <a:gd name="textAreaBottom" fmla="*/ 16560 h 16200"/>
                      </a:gdLst>
                      <a:ahLst/>
                      <a:rect l="textAreaLeft" t="textAreaTop" r="textAreaRight" b="textAreaBottom"/>
                      <a:pathLst>
                        <a:path w="123" h="123">
                          <a:moveTo>
                            <a:pt x="112" y="0"/>
                          </a:moveTo>
                          <a:lnTo>
                            <a:pt x="112" y="0"/>
                          </a:lnTo>
                          <a:lnTo>
                            <a:pt x="112" y="11"/>
                          </a:lnTo>
                          <a:lnTo>
                            <a:pt x="101" y="22"/>
                          </a:lnTo>
                          <a:lnTo>
                            <a:pt x="78" y="45"/>
                          </a:lnTo>
                          <a:lnTo>
                            <a:pt x="67" y="56"/>
                          </a:lnTo>
                          <a:lnTo>
                            <a:pt x="45" y="78"/>
                          </a:lnTo>
                          <a:lnTo>
                            <a:pt x="34" y="89"/>
                          </a:lnTo>
                          <a:lnTo>
                            <a:pt x="11" y="100"/>
                          </a:lnTo>
                          <a:lnTo>
                            <a:pt x="0" y="111"/>
                          </a:lnTo>
                          <a:lnTo>
                            <a:pt x="0" y="123"/>
                          </a:lnTo>
                          <a:lnTo>
                            <a:pt x="23" y="111"/>
                          </a:lnTo>
                          <a:lnTo>
                            <a:pt x="34" y="100"/>
                          </a:lnTo>
                          <a:lnTo>
                            <a:pt x="56" y="89"/>
                          </a:lnTo>
                          <a:lnTo>
                            <a:pt x="78" y="67"/>
                          </a:lnTo>
                          <a:lnTo>
                            <a:pt x="89" y="56"/>
                          </a:lnTo>
                          <a:lnTo>
                            <a:pt x="112" y="33"/>
                          </a:lnTo>
                          <a:lnTo>
                            <a:pt x="123" y="22"/>
                          </a:lnTo>
                          <a:lnTo>
                            <a:pt x="123" y="0"/>
                          </a:lnTo>
                          <a:lnTo>
                            <a:pt x="112" y="0"/>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1843"/>
                    <p:cNvSpPr/>
                    <p:nvPr/>
                  </p:nvSpPr>
                  <p:spPr>
                    <a:xfrm rot="111600">
                      <a:off x="7811280" y="925200"/>
                      <a:ext cx="6840" cy="24840"/>
                    </a:xfrm>
                    <a:custGeom>
                      <a:avLst/>
                      <a:gdLst>
                        <a:gd name="textAreaLeft" fmla="*/ 0 w 6840"/>
                        <a:gd name="textAreaRight" fmla="*/ 7200 w 6840"/>
                        <a:gd name="textAreaTop" fmla="*/ 0 h 24840"/>
                        <a:gd name="textAreaBottom" fmla="*/ 25200 h 24840"/>
                      </a:gdLst>
                      <a:ahLst/>
                      <a:rect l="textAreaLeft" t="textAreaTop" r="textAreaRight" b="textAreaBottom"/>
                      <a:pathLst>
                        <a:path w="56" h="190">
                          <a:moveTo>
                            <a:pt x="44" y="0"/>
                          </a:moveTo>
                          <a:lnTo>
                            <a:pt x="44" y="0"/>
                          </a:lnTo>
                          <a:lnTo>
                            <a:pt x="33" y="56"/>
                          </a:lnTo>
                          <a:lnTo>
                            <a:pt x="33" y="101"/>
                          </a:lnTo>
                          <a:lnTo>
                            <a:pt x="22" y="145"/>
                          </a:lnTo>
                          <a:lnTo>
                            <a:pt x="0" y="190"/>
                          </a:lnTo>
                          <a:lnTo>
                            <a:pt x="11" y="190"/>
                          </a:lnTo>
                          <a:lnTo>
                            <a:pt x="33" y="145"/>
                          </a:lnTo>
                          <a:lnTo>
                            <a:pt x="44" y="101"/>
                          </a:lnTo>
                          <a:lnTo>
                            <a:pt x="56" y="56"/>
                          </a:lnTo>
                          <a:lnTo>
                            <a:pt x="56" y="0"/>
                          </a:lnTo>
                          <a:lnTo>
                            <a:pt x="44" y="0"/>
                          </a:lnTo>
                          <a:close/>
                        </a:path>
                      </a:pathLst>
                    </a:custGeom>
                    <a:solidFill>
                      <a:srgbClr val="00000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842"/>
                    <p:cNvSpPr/>
                    <p:nvPr/>
                  </p:nvSpPr>
                  <p:spPr>
                    <a:xfrm rot="111600">
                      <a:off x="7816320" y="918000"/>
                      <a:ext cx="2880" cy="7200"/>
                    </a:xfrm>
                    <a:custGeom>
                      <a:avLst/>
                      <a:gdLst>
                        <a:gd name="textAreaLeft" fmla="*/ 0 w 2880"/>
                        <a:gd name="textAreaRight" fmla="*/ 3240 w 2880"/>
                        <a:gd name="textAreaTop" fmla="*/ 0 h 7200"/>
                        <a:gd name="textAreaBottom" fmla="*/ 7560 h 7200"/>
                      </a:gdLst>
                      <a:ahLst/>
                      <a:rect l="textAreaLeft" t="textAreaTop" r="textAreaRight" b="textAreaBottom"/>
                      <a:pathLst>
                        <a:path w="23" h="55">
                          <a:moveTo>
                            <a:pt x="0" y="11"/>
                          </a:moveTo>
                          <a:lnTo>
                            <a:pt x="0" y="11"/>
                          </a:lnTo>
                          <a:lnTo>
                            <a:pt x="0" y="22"/>
                          </a:lnTo>
                          <a:lnTo>
                            <a:pt x="11" y="33"/>
                          </a:lnTo>
                          <a:lnTo>
                            <a:pt x="11" y="44"/>
                          </a:lnTo>
                          <a:lnTo>
                            <a:pt x="11" y="55"/>
                          </a:lnTo>
                          <a:lnTo>
                            <a:pt x="23" y="55"/>
                          </a:lnTo>
                          <a:lnTo>
                            <a:pt x="23" y="44"/>
                          </a:lnTo>
                          <a:lnTo>
                            <a:pt x="23" y="33"/>
                          </a:lnTo>
                          <a:lnTo>
                            <a:pt x="11" y="22"/>
                          </a:lnTo>
                          <a:lnTo>
                            <a:pt x="11" y="0"/>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841"/>
                    <p:cNvSpPr/>
                    <p:nvPr/>
                  </p:nvSpPr>
                  <p:spPr>
                    <a:xfrm rot="111600">
                      <a:off x="7809840" y="919080"/>
                      <a:ext cx="18360" cy="29160"/>
                    </a:xfrm>
                    <a:custGeom>
                      <a:avLst/>
                      <a:gdLst>
                        <a:gd name="textAreaLeft" fmla="*/ 0 w 18360"/>
                        <a:gd name="textAreaRight" fmla="*/ 18720 w 18360"/>
                        <a:gd name="textAreaTop" fmla="*/ 0 h 29160"/>
                        <a:gd name="textAreaBottom" fmla="*/ 29520 h 29160"/>
                      </a:gdLst>
                      <a:ahLst/>
                      <a:rect l="textAreaLeft" t="textAreaTop" r="textAreaRight" b="textAreaBottom"/>
                      <a:pathLst>
                        <a:path w="145" h="223">
                          <a:moveTo>
                            <a:pt x="100" y="11"/>
                          </a:moveTo>
                          <a:lnTo>
                            <a:pt x="55" y="0"/>
                          </a:lnTo>
                          <a:lnTo>
                            <a:pt x="22" y="22"/>
                          </a:lnTo>
                          <a:lnTo>
                            <a:pt x="11" y="56"/>
                          </a:lnTo>
                          <a:lnTo>
                            <a:pt x="0" y="111"/>
                          </a:lnTo>
                          <a:lnTo>
                            <a:pt x="0" y="156"/>
                          </a:lnTo>
                          <a:lnTo>
                            <a:pt x="22" y="201"/>
                          </a:lnTo>
                          <a:lnTo>
                            <a:pt x="55" y="223"/>
                          </a:lnTo>
                          <a:lnTo>
                            <a:pt x="100" y="223"/>
                          </a:lnTo>
                          <a:lnTo>
                            <a:pt x="100" y="212"/>
                          </a:lnTo>
                          <a:lnTo>
                            <a:pt x="111" y="212"/>
                          </a:lnTo>
                          <a:lnTo>
                            <a:pt x="122" y="212"/>
                          </a:lnTo>
                          <a:lnTo>
                            <a:pt x="122" y="201"/>
                          </a:lnTo>
                          <a:lnTo>
                            <a:pt x="122" y="189"/>
                          </a:lnTo>
                          <a:lnTo>
                            <a:pt x="133" y="189"/>
                          </a:lnTo>
                          <a:lnTo>
                            <a:pt x="133" y="178"/>
                          </a:lnTo>
                          <a:lnTo>
                            <a:pt x="145" y="134"/>
                          </a:lnTo>
                          <a:lnTo>
                            <a:pt x="145" y="100"/>
                          </a:lnTo>
                          <a:lnTo>
                            <a:pt x="145" y="67"/>
                          </a:lnTo>
                          <a:lnTo>
                            <a:pt x="122" y="33"/>
                          </a:lnTo>
                          <a:lnTo>
                            <a:pt x="122" y="22"/>
                          </a:lnTo>
                          <a:lnTo>
                            <a:pt x="111" y="11"/>
                          </a:lnTo>
                          <a:lnTo>
                            <a:pt x="100" y="11"/>
                          </a:lnTo>
                          <a:close/>
                        </a:path>
                      </a:pathLst>
                    </a:custGeom>
                    <a:solidFill>
                      <a:srgbClr val="5475e8"/>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840"/>
                    <p:cNvSpPr/>
                    <p:nvPr/>
                  </p:nvSpPr>
                  <p:spPr>
                    <a:xfrm rot="111600">
                      <a:off x="7808760" y="917640"/>
                      <a:ext cx="14040" cy="32040"/>
                    </a:xfrm>
                    <a:custGeom>
                      <a:avLst/>
                      <a:gdLst>
                        <a:gd name="textAreaLeft" fmla="*/ 0 w 14040"/>
                        <a:gd name="textAreaRight" fmla="*/ 14400 w 14040"/>
                        <a:gd name="textAreaTop" fmla="*/ 0 h 32040"/>
                        <a:gd name="textAreaBottom" fmla="*/ 32400 h 32040"/>
                      </a:gdLst>
                      <a:ahLst/>
                      <a:rect l="textAreaLeft" t="textAreaTop" r="textAreaRight" b="textAreaBottom"/>
                      <a:pathLst>
                        <a:path w="112" h="245">
                          <a:moveTo>
                            <a:pt x="112" y="223"/>
                          </a:moveTo>
                          <a:lnTo>
                            <a:pt x="112" y="223"/>
                          </a:lnTo>
                          <a:lnTo>
                            <a:pt x="67" y="234"/>
                          </a:lnTo>
                          <a:lnTo>
                            <a:pt x="34" y="212"/>
                          </a:lnTo>
                          <a:lnTo>
                            <a:pt x="23" y="167"/>
                          </a:lnTo>
                          <a:lnTo>
                            <a:pt x="23" y="122"/>
                          </a:lnTo>
                          <a:lnTo>
                            <a:pt x="23" y="67"/>
                          </a:lnTo>
                          <a:lnTo>
                            <a:pt x="45" y="33"/>
                          </a:lnTo>
                          <a:lnTo>
                            <a:pt x="67" y="11"/>
                          </a:lnTo>
                          <a:lnTo>
                            <a:pt x="112" y="22"/>
                          </a:lnTo>
                          <a:lnTo>
                            <a:pt x="112" y="11"/>
                          </a:lnTo>
                          <a:lnTo>
                            <a:pt x="67" y="0"/>
                          </a:lnTo>
                          <a:lnTo>
                            <a:pt x="34" y="22"/>
                          </a:lnTo>
                          <a:lnTo>
                            <a:pt x="12" y="67"/>
                          </a:lnTo>
                          <a:lnTo>
                            <a:pt x="0" y="122"/>
                          </a:lnTo>
                          <a:lnTo>
                            <a:pt x="12" y="167"/>
                          </a:lnTo>
                          <a:lnTo>
                            <a:pt x="23" y="223"/>
                          </a:lnTo>
                          <a:lnTo>
                            <a:pt x="67" y="245"/>
                          </a:lnTo>
                          <a:lnTo>
                            <a:pt x="112" y="234"/>
                          </a:lnTo>
                          <a:lnTo>
                            <a:pt x="112" y="223"/>
                          </a:lnTo>
                          <a:close/>
                        </a:path>
                      </a:pathLst>
                    </a:custGeom>
                    <a:solidFill>
                      <a:srgbClr val="00000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839"/>
                    <p:cNvSpPr/>
                    <p:nvPr/>
                  </p:nvSpPr>
                  <p:spPr>
                    <a:xfrm rot="111600">
                      <a:off x="7822440" y="946080"/>
                      <a:ext cx="2520" cy="2880"/>
                    </a:xfrm>
                    <a:custGeom>
                      <a:avLst/>
                      <a:gdLst>
                        <a:gd name="textAreaLeft" fmla="*/ 0 w 2520"/>
                        <a:gd name="textAreaRight" fmla="*/ 2880 w 2520"/>
                        <a:gd name="textAreaTop" fmla="*/ 0 h 2880"/>
                        <a:gd name="textAreaBottom" fmla="*/ 3240 h 2880"/>
                      </a:gdLst>
                      <a:ahLst/>
                      <a:rect l="textAreaLeft" t="textAreaTop" r="textAreaRight" b="textAreaBottom"/>
                      <a:pathLst>
                        <a:path w="22" h="22">
                          <a:moveTo>
                            <a:pt x="11" y="11"/>
                          </a:moveTo>
                          <a:lnTo>
                            <a:pt x="22" y="0"/>
                          </a:lnTo>
                          <a:lnTo>
                            <a:pt x="11" y="0"/>
                          </a:lnTo>
                          <a:lnTo>
                            <a:pt x="0" y="11"/>
                          </a:lnTo>
                          <a:lnTo>
                            <a:pt x="0" y="22"/>
                          </a:lnTo>
                          <a:lnTo>
                            <a:pt x="11" y="22"/>
                          </a:lnTo>
                          <a:lnTo>
                            <a:pt x="11" y="11"/>
                          </a:lnTo>
                          <a:lnTo>
                            <a:pt x="22" y="11"/>
                          </a:lnTo>
                          <a:lnTo>
                            <a:pt x="11"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838"/>
                    <p:cNvSpPr/>
                    <p:nvPr/>
                  </p:nvSpPr>
                  <p:spPr>
                    <a:xfrm rot="111600">
                      <a:off x="7823880" y="94320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34" h="34">
                          <a:moveTo>
                            <a:pt x="22" y="0"/>
                          </a:moveTo>
                          <a:lnTo>
                            <a:pt x="22" y="0"/>
                          </a:lnTo>
                          <a:lnTo>
                            <a:pt x="11" y="0"/>
                          </a:lnTo>
                          <a:lnTo>
                            <a:pt x="11" y="11"/>
                          </a:lnTo>
                          <a:lnTo>
                            <a:pt x="0" y="23"/>
                          </a:lnTo>
                          <a:lnTo>
                            <a:pt x="0" y="34"/>
                          </a:lnTo>
                          <a:lnTo>
                            <a:pt x="11" y="34"/>
                          </a:lnTo>
                          <a:lnTo>
                            <a:pt x="22" y="23"/>
                          </a:lnTo>
                          <a:lnTo>
                            <a:pt x="22" y="11"/>
                          </a:lnTo>
                          <a:lnTo>
                            <a:pt x="34" y="0"/>
                          </a:lnTo>
                          <a:lnTo>
                            <a:pt x="22" y="0"/>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837"/>
                    <p:cNvSpPr/>
                    <p:nvPr/>
                  </p:nvSpPr>
                  <p:spPr>
                    <a:xfrm rot="111600">
                      <a:off x="7826040" y="922680"/>
                      <a:ext cx="4320" cy="20520"/>
                    </a:xfrm>
                    <a:custGeom>
                      <a:avLst/>
                      <a:gdLst>
                        <a:gd name="textAreaLeft" fmla="*/ 0 w 4320"/>
                        <a:gd name="textAreaRight" fmla="*/ 4680 w 4320"/>
                        <a:gd name="textAreaTop" fmla="*/ 0 h 20520"/>
                        <a:gd name="textAreaBottom" fmla="*/ 20880 h 20520"/>
                      </a:gdLst>
                      <a:ahLst/>
                      <a:rect l="textAreaLeft" t="textAreaTop" r="textAreaRight" b="textAreaBottom"/>
                      <a:pathLst>
                        <a:path w="34" h="156">
                          <a:moveTo>
                            <a:pt x="0" y="11"/>
                          </a:moveTo>
                          <a:lnTo>
                            <a:pt x="0" y="11"/>
                          </a:lnTo>
                          <a:lnTo>
                            <a:pt x="11" y="45"/>
                          </a:lnTo>
                          <a:lnTo>
                            <a:pt x="23" y="78"/>
                          </a:lnTo>
                          <a:lnTo>
                            <a:pt x="23" y="112"/>
                          </a:lnTo>
                          <a:lnTo>
                            <a:pt x="11" y="156"/>
                          </a:lnTo>
                          <a:lnTo>
                            <a:pt x="23" y="156"/>
                          </a:lnTo>
                          <a:lnTo>
                            <a:pt x="34" y="112"/>
                          </a:lnTo>
                          <a:lnTo>
                            <a:pt x="34" y="78"/>
                          </a:lnTo>
                          <a:lnTo>
                            <a:pt x="23" y="45"/>
                          </a:lnTo>
                          <a:lnTo>
                            <a:pt x="11" y="11"/>
                          </a:lnTo>
                          <a:lnTo>
                            <a:pt x="11" y="0"/>
                          </a:lnTo>
                          <a:lnTo>
                            <a:pt x="0" y="11"/>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836"/>
                    <p:cNvSpPr/>
                    <p:nvPr/>
                  </p:nvSpPr>
                  <p:spPr>
                    <a:xfrm rot="111600">
                      <a:off x="7823160" y="919440"/>
                      <a:ext cx="3960" cy="4320"/>
                    </a:xfrm>
                    <a:custGeom>
                      <a:avLst/>
                      <a:gdLst>
                        <a:gd name="textAreaLeft" fmla="*/ 0 w 3960"/>
                        <a:gd name="textAreaRight" fmla="*/ 4320 w 3960"/>
                        <a:gd name="textAreaTop" fmla="*/ 0 h 4320"/>
                        <a:gd name="textAreaBottom" fmla="*/ 4680 h 4320"/>
                      </a:gdLst>
                      <a:ahLst/>
                      <a:rect l="textAreaLeft" t="textAreaTop" r="textAreaRight" b="textAreaBottom"/>
                      <a:pathLst>
                        <a:path w="33" h="33">
                          <a:moveTo>
                            <a:pt x="0" y="11"/>
                          </a:moveTo>
                          <a:lnTo>
                            <a:pt x="0" y="11"/>
                          </a:lnTo>
                          <a:lnTo>
                            <a:pt x="11" y="22"/>
                          </a:lnTo>
                          <a:lnTo>
                            <a:pt x="22" y="33"/>
                          </a:lnTo>
                          <a:lnTo>
                            <a:pt x="33" y="22"/>
                          </a:lnTo>
                          <a:lnTo>
                            <a:pt x="22" y="22"/>
                          </a:lnTo>
                          <a:lnTo>
                            <a:pt x="22" y="11"/>
                          </a:lnTo>
                          <a:lnTo>
                            <a:pt x="11" y="0"/>
                          </a:lnTo>
                          <a:lnTo>
                            <a:pt x="0" y="0"/>
                          </a:lnTo>
                          <a:lnTo>
                            <a:pt x="0"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835"/>
                    <p:cNvSpPr/>
                    <p:nvPr/>
                  </p:nvSpPr>
                  <p:spPr>
                    <a:xfrm rot="111600">
                      <a:off x="7824240" y="902160"/>
                      <a:ext cx="35280" cy="76320"/>
                    </a:xfrm>
                    <a:custGeom>
                      <a:avLst/>
                      <a:gdLst>
                        <a:gd name="textAreaLeft" fmla="*/ 0 w 35280"/>
                        <a:gd name="textAreaRight" fmla="*/ 35640 w 35280"/>
                        <a:gd name="textAreaTop" fmla="*/ 0 h 76320"/>
                        <a:gd name="textAreaBottom" fmla="*/ 76680 h 76320"/>
                      </a:gdLst>
                      <a:ahLst/>
                      <a:rect l="textAreaLeft" t="textAreaTop" r="textAreaRight" b="textAreaBottom"/>
                      <a:pathLst>
                        <a:path w="279" h="580">
                          <a:moveTo>
                            <a:pt x="34" y="178"/>
                          </a:moveTo>
                          <a:lnTo>
                            <a:pt x="45" y="145"/>
                          </a:lnTo>
                          <a:lnTo>
                            <a:pt x="78" y="123"/>
                          </a:lnTo>
                          <a:lnTo>
                            <a:pt x="100" y="89"/>
                          </a:lnTo>
                          <a:lnTo>
                            <a:pt x="123" y="56"/>
                          </a:lnTo>
                          <a:lnTo>
                            <a:pt x="156" y="22"/>
                          </a:lnTo>
                          <a:lnTo>
                            <a:pt x="190" y="11"/>
                          </a:lnTo>
                          <a:lnTo>
                            <a:pt x="212" y="0"/>
                          </a:lnTo>
                          <a:lnTo>
                            <a:pt x="245" y="0"/>
                          </a:lnTo>
                          <a:lnTo>
                            <a:pt x="256" y="22"/>
                          </a:lnTo>
                          <a:lnTo>
                            <a:pt x="268" y="67"/>
                          </a:lnTo>
                          <a:lnTo>
                            <a:pt x="279" y="123"/>
                          </a:lnTo>
                          <a:lnTo>
                            <a:pt x="279" y="190"/>
                          </a:lnTo>
                          <a:lnTo>
                            <a:pt x="268" y="256"/>
                          </a:lnTo>
                          <a:lnTo>
                            <a:pt x="268" y="323"/>
                          </a:lnTo>
                          <a:lnTo>
                            <a:pt x="245" y="390"/>
                          </a:lnTo>
                          <a:lnTo>
                            <a:pt x="234" y="446"/>
                          </a:lnTo>
                          <a:lnTo>
                            <a:pt x="223" y="468"/>
                          </a:lnTo>
                          <a:lnTo>
                            <a:pt x="212" y="502"/>
                          </a:lnTo>
                          <a:lnTo>
                            <a:pt x="201" y="524"/>
                          </a:lnTo>
                          <a:lnTo>
                            <a:pt x="178" y="557"/>
                          </a:lnTo>
                          <a:lnTo>
                            <a:pt x="156" y="569"/>
                          </a:lnTo>
                          <a:lnTo>
                            <a:pt x="134" y="580"/>
                          </a:lnTo>
                          <a:lnTo>
                            <a:pt x="112" y="580"/>
                          </a:lnTo>
                          <a:lnTo>
                            <a:pt x="89" y="557"/>
                          </a:lnTo>
                          <a:lnTo>
                            <a:pt x="78" y="546"/>
                          </a:lnTo>
                          <a:lnTo>
                            <a:pt x="67" y="524"/>
                          </a:lnTo>
                          <a:lnTo>
                            <a:pt x="56" y="502"/>
                          </a:lnTo>
                          <a:lnTo>
                            <a:pt x="45" y="479"/>
                          </a:lnTo>
                          <a:lnTo>
                            <a:pt x="45" y="457"/>
                          </a:lnTo>
                          <a:lnTo>
                            <a:pt x="34" y="424"/>
                          </a:lnTo>
                          <a:lnTo>
                            <a:pt x="22" y="401"/>
                          </a:lnTo>
                          <a:lnTo>
                            <a:pt x="11" y="379"/>
                          </a:lnTo>
                          <a:lnTo>
                            <a:pt x="11" y="357"/>
                          </a:lnTo>
                          <a:lnTo>
                            <a:pt x="0" y="335"/>
                          </a:lnTo>
                          <a:lnTo>
                            <a:pt x="11" y="301"/>
                          </a:lnTo>
                          <a:lnTo>
                            <a:pt x="11" y="279"/>
                          </a:lnTo>
                          <a:lnTo>
                            <a:pt x="11" y="256"/>
                          </a:lnTo>
                          <a:lnTo>
                            <a:pt x="22" y="223"/>
                          </a:lnTo>
                          <a:lnTo>
                            <a:pt x="22" y="201"/>
                          </a:lnTo>
                          <a:lnTo>
                            <a:pt x="34" y="178"/>
                          </a:lnTo>
                          <a:close/>
                        </a:path>
                      </a:pathLst>
                    </a:custGeom>
                    <a:solidFill>
                      <a:srgbClr val="5475e8"/>
                    </a:solidFill>
                    <a:ln w="0">
                      <a:no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834"/>
                    <p:cNvSpPr/>
                    <p:nvPr/>
                  </p:nvSpPr>
                  <p:spPr>
                    <a:xfrm rot="111600">
                      <a:off x="7827480" y="901080"/>
                      <a:ext cx="28440" cy="24840"/>
                    </a:xfrm>
                    <a:custGeom>
                      <a:avLst/>
                      <a:gdLst>
                        <a:gd name="textAreaLeft" fmla="*/ 0 w 28440"/>
                        <a:gd name="textAreaRight" fmla="*/ 28800 w 28440"/>
                        <a:gd name="textAreaTop" fmla="*/ 0 h 24840"/>
                        <a:gd name="textAreaBottom" fmla="*/ 25200 h 24840"/>
                      </a:gdLst>
                      <a:ahLst/>
                      <a:rect l="textAreaLeft" t="textAreaTop" r="textAreaRight" b="textAreaBottom"/>
                      <a:pathLst>
                        <a:path w="223" h="189">
                          <a:moveTo>
                            <a:pt x="223" y="11"/>
                          </a:moveTo>
                          <a:lnTo>
                            <a:pt x="223" y="11"/>
                          </a:lnTo>
                          <a:lnTo>
                            <a:pt x="190" y="0"/>
                          </a:lnTo>
                          <a:lnTo>
                            <a:pt x="156" y="11"/>
                          </a:lnTo>
                          <a:lnTo>
                            <a:pt x="134" y="33"/>
                          </a:lnTo>
                          <a:lnTo>
                            <a:pt x="101" y="56"/>
                          </a:lnTo>
                          <a:lnTo>
                            <a:pt x="67" y="89"/>
                          </a:lnTo>
                          <a:lnTo>
                            <a:pt x="45" y="123"/>
                          </a:lnTo>
                          <a:lnTo>
                            <a:pt x="23" y="156"/>
                          </a:lnTo>
                          <a:lnTo>
                            <a:pt x="0" y="189"/>
                          </a:lnTo>
                          <a:lnTo>
                            <a:pt x="23" y="189"/>
                          </a:lnTo>
                          <a:lnTo>
                            <a:pt x="34" y="167"/>
                          </a:lnTo>
                          <a:lnTo>
                            <a:pt x="56" y="134"/>
                          </a:lnTo>
                          <a:lnTo>
                            <a:pt x="78" y="100"/>
                          </a:lnTo>
                          <a:lnTo>
                            <a:pt x="112" y="67"/>
                          </a:lnTo>
                          <a:lnTo>
                            <a:pt x="134" y="45"/>
                          </a:lnTo>
                          <a:lnTo>
                            <a:pt x="168" y="33"/>
                          </a:lnTo>
                          <a:lnTo>
                            <a:pt x="190" y="22"/>
                          </a:lnTo>
                          <a:lnTo>
                            <a:pt x="212" y="22"/>
                          </a:lnTo>
                          <a:lnTo>
                            <a:pt x="223" y="11"/>
                          </a:lnTo>
                          <a:close/>
                        </a:path>
                      </a:pathLst>
                    </a:custGeom>
                    <a:solidFill>
                      <a:srgbClr val="00000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833"/>
                    <p:cNvSpPr/>
                    <p:nvPr/>
                  </p:nvSpPr>
                  <p:spPr>
                    <a:xfrm rot="111600">
                      <a:off x="7854480" y="902880"/>
                      <a:ext cx="6840" cy="58680"/>
                    </a:xfrm>
                    <a:custGeom>
                      <a:avLst/>
                      <a:gdLst>
                        <a:gd name="textAreaLeft" fmla="*/ 0 w 6840"/>
                        <a:gd name="textAreaRight" fmla="*/ 7200 w 6840"/>
                        <a:gd name="textAreaTop" fmla="*/ 0 h 58680"/>
                        <a:gd name="textAreaBottom" fmla="*/ 59040 h 58680"/>
                      </a:gdLst>
                      <a:ahLst/>
                      <a:rect l="textAreaLeft" t="textAreaTop" r="textAreaRight" b="textAreaBottom"/>
                      <a:pathLst>
                        <a:path w="56" h="446">
                          <a:moveTo>
                            <a:pt x="11" y="446"/>
                          </a:moveTo>
                          <a:lnTo>
                            <a:pt x="11" y="446"/>
                          </a:lnTo>
                          <a:lnTo>
                            <a:pt x="22" y="390"/>
                          </a:lnTo>
                          <a:lnTo>
                            <a:pt x="34" y="323"/>
                          </a:lnTo>
                          <a:lnTo>
                            <a:pt x="45" y="256"/>
                          </a:lnTo>
                          <a:lnTo>
                            <a:pt x="56" y="190"/>
                          </a:lnTo>
                          <a:lnTo>
                            <a:pt x="56" y="123"/>
                          </a:lnTo>
                          <a:lnTo>
                            <a:pt x="45" y="67"/>
                          </a:lnTo>
                          <a:lnTo>
                            <a:pt x="34" y="22"/>
                          </a:lnTo>
                          <a:lnTo>
                            <a:pt x="11" y="0"/>
                          </a:lnTo>
                          <a:lnTo>
                            <a:pt x="0" y="11"/>
                          </a:lnTo>
                          <a:lnTo>
                            <a:pt x="22" y="22"/>
                          </a:lnTo>
                          <a:lnTo>
                            <a:pt x="34" y="67"/>
                          </a:lnTo>
                          <a:lnTo>
                            <a:pt x="34" y="123"/>
                          </a:lnTo>
                          <a:lnTo>
                            <a:pt x="34" y="190"/>
                          </a:lnTo>
                          <a:lnTo>
                            <a:pt x="34" y="256"/>
                          </a:lnTo>
                          <a:lnTo>
                            <a:pt x="22" y="323"/>
                          </a:lnTo>
                          <a:lnTo>
                            <a:pt x="11" y="390"/>
                          </a:lnTo>
                          <a:lnTo>
                            <a:pt x="0" y="446"/>
                          </a:lnTo>
                          <a:lnTo>
                            <a:pt x="11" y="446"/>
                          </a:lnTo>
                          <a:close/>
                        </a:path>
                      </a:pathLst>
                    </a:custGeom>
                    <a:solidFill>
                      <a:srgbClr val="000000"/>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832"/>
                    <p:cNvSpPr/>
                    <p:nvPr/>
                  </p:nvSpPr>
                  <p:spPr>
                    <a:xfrm rot="111600">
                      <a:off x="7833240" y="961200"/>
                      <a:ext cx="21240" cy="19080"/>
                    </a:xfrm>
                    <a:custGeom>
                      <a:avLst/>
                      <a:gdLst>
                        <a:gd name="textAreaLeft" fmla="*/ 0 w 21240"/>
                        <a:gd name="textAreaRight" fmla="*/ 21600 w 21240"/>
                        <a:gd name="textAreaTop" fmla="*/ 0 h 19080"/>
                        <a:gd name="textAreaBottom" fmla="*/ 19440 h 19080"/>
                      </a:gdLst>
                      <a:ahLst/>
                      <a:rect l="textAreaLeft" t="textAreaTop" r="textAreaRight" b="textAreaBottom"/>
                      <a:pathLst>
                        <a:path w="167" h="145">
                          <a:moveTo>
                            <a:pt x="0" y="123"/>
                          </a:moveTo>
                          <a:lnTo>
                            <a:pt x="0" y="123"/>
                          </a:lnTo>
                          <a:lnTo>
                            <a:pt x="34" y="145"/>
                          </a:lnTo>
                          <a:lnTo>
                            <a:pt x="56" y="145"/>
                          </a:lnTo>
                          <a:lnTo>
                            <a:pt x="89" y="134"/>
                          </a:lnTo>
                          <a:lnTo>
                            <a:pt x="112" y="111"/>
                          </a:lnTo>
                          <a:lnTo>
                            <a:pt x="134" y="89"/>
                          </a:lnTo>
                          <a:lnTo>
                            <a:pt x="145" y="56"/>
                          </a:lnTo>
                          <a:lnTo>
                            <a:pt x="156" y="22"/>
                          </a:lnTo>
                          <a:lnTo>
                            <a:pt x="167" y="0"/>
                          </a:lnTo>
                          <a:lnTo>
                            <a:pt x="156" y="0"/>
                          </a:lnTo>
                          <a:lnTo>
                            <a:pt x="145" y="22"/>
                          </a:lnTo>
                          <a:lnTo>
                            <a:pt x="134" y="45"/>
                          </a:lnTo>
                          <a:lnTo>
                            <a:pt x="112" y="78"/>
                          </a:lnTo>
                          <a:lnTo>
                            <a:pt x="100" y="100"/>
                          </a:lnTo>
                          <a:lnTo>
                            <a:pt x="78" y="123"/>
                          </a:lnTo>
                          <a:lnTo>
                            <a:pt x="56" y="134"/>
                          </a:lnTo>
                          <a:lnTo>
                            <a:pt x="34" y="134"/>
                          </a:lnTo>
                          <a:lnTo>
                            <a:pt x="11" y="111"/>
                          </a:lnTo>
                          <a:lnTo>
                            <a:pt x="0" y="123"/>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831"/>
                    <p:cNvSpPr/>
                    <p:nvPr/>
                  </p:nvSpPr>
                  <p:spPr>
                    <a:xfrm rot="111600">
                      <a:off x="7824960" y="950400"/>
                      <a:ext cx="9720" cy="26280"/>
                    </a:xfrm>
                    <a:custGeom>
                      <a:avLst/>
                      <a:gdLst>
                        <a:gd name="textAreaLeft" fmla="*/ 0 w 9720"/>
                        <a:gd name="textAreaRight" fmla="*/ 10080 w 9720"/>
                        <a:gd name="textAreaTop" fmla="*/ 0 h 26280"/>
                        <a:gd name="textAreaBottom" fmla="*/ 26640 h 26280"/>
                      </a:gdLst>
                      <a:ahLst/>
                      <a:rect l="textAreaLeft" t="textAreaTop" r="textAreaRight" b="textAreaBottom"/>
                      <a:pathLst>
                        <a:path w="78" h="201">
                          <a:moveTo>
                            <a:pt x="0" y="11"/>
                          </a:moveTo>
                          <a:lnTo>
                            <a:pt x="0" y="11"/>
                          </a:lnTo>
                          <a:lnTo>
                            <a:pt x="0" y="33"/>
                          </a:lnTo>
                          <a:lnTo>
                            <a:pt x="11" y="56"/>
                          </a:lnTo>
                          <a:lnTo>
                            <a:pt x="23" y="89"/>
                          </a:lnTo>
                          <a:lnTo>
                            <a:pt x="34" y="111"/>
                          </a:lnTo>
                          <a:lnTo>
                            <a:pt x="34" y="134"/>
                          </a:lnTo>
                          <a:lnTo>
                            <a:pt x="45" y="167"/>
                          </a:lnTo>
                          <a:lnTo>
                            <a:pt x="56" y="189"/>
                          </a:lnTo>
                          <a:lnTo>
                            <a:pt x="67" y="201"/>
                          </a:lnTo>
                          <a:lnTo>
                            <a:pt x="78" y="189"/>
                          </a:lnTo>
                          <a:lnTo>
                            <a:pt x="67" y="178"/>
                          </a:lnTo>
                          <a:lnTo>
                            <a:pt x="56" y="156"/>
                          </a:lnTo>
                          <a:lnTo>
                            <a:pt x="56" y="134"/>
                          </a:lnTo>
                          <a:lnTo>
                            <a:pt x="45" y="111"/>
                          </a:lnTo>
                          <a:lnTo>
                            <a:pt x="34" y="78"/>
                          </a:lnTo>
                          <a:lnTo>
                            <a:pt x="23" y="56"/>
                          </a:lnTo>
                          <a:lnTo>
                            <a:pt x="23" y="33"/>
                          </a:lnTo>
                          <a:lnTo>
                            <a:pt x="11" y="0"/>
                          </a:lnTo>
                          <a:lnTo>
                            <a:pt x="0" y="11"/>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830"/>
                    <p:cNvSpPr/>
                    <p:nvPr/>
                  </p:nvSpPr>
                  <p:spPr>
                    <a:xfrm rot="111600">
                      <a:off x="7824240" y="925560"/>
                      <a:ext cx="5400" cy="26280"/>
                    </a:xfrm>
                    <a:custGeom>
                      <a:avLst/>
                      <a:gdLst>
                        <a:gd name="textAreaLeft" fmla="*/ 0 w 5400"/>
                        <a:gd name="textAreaRight" fmla="*/ 5760 w 5400"/>
                        <a:gd name="textAreaTop" fmla="*/ 0 h 26280"/>
                        <a:gd name="textAreaBottom" fmla="*/ 26640 h 26280"/>
                      </a:gdLst>
                      <a:ahLst/>
                      <a:rect l="textAreaLeft" t="textAreaTop" r="textAreaRight" b="textAreaBottom"/>
                      <a:pathLst>
                        <a:path w="45" h="201">
                          <a:moveTo>
                            <a:pt x="22" y="0"/>
                          </a:moveTo>
                          <a:lnTo>
                            <a:pt x="22" y="0"/>
                          </a:lnTo>
                          <a:lnTo>
                            <a:pt x="22" y="23"/>
                          </a:lnTo>
                          <a:lnTo>
                            <a:pt x="11" y="45"/>
                          </a:lnTo>
                          <a:lnTo>
                            <a:pt x="11" y="67"/>
                          </a:lnTo>
                          <a:lnTo>
                            <a:pt x="0" y="101"/>
                          </a:lnTo>
                          <a:lnTo>
                            <a:pt x="0" y="123"/>
                          </a:lnTo>
                          <a:lnTo>
                            <a:pt x="0" y="157"/>
                          </a:lnTo>
                          <a:lnTo>
                            <a:pt x="0" y="179"/>
                          </a:lnTo>
                          <a:lnTo>
                            <a:pt x="11" y="201"/>
                          </a:lnTo>
                          <a:lnTo>
                            <a:pt x="22" y="190"/>
                          </a:lnTo>
                          <a:lnTo>
                            <a:pt x="11" y="179"/>
                          </a:lnTo>
                          <a:lnTo>
                            <a:pt x="11" y="157"/>
                          </a:lnTo>
                          <a:lnTo>
                            <a:pt x="11" y="123"/>
                          </a:lnTo>
                          <a:lnTo>
                            <a:pt x="11" y="101"/>
                          </a:lnTo>
                          <a:lnTo>
                            <a:pt x="22" y="78"/>
                          </a:lnTo>
                          <a:lnTo>
                            <a:pt x="22" y="45"/>
                          </a:lnTo>
                          <a:lnTo>
                            <a:pt x="34" y="23"/>
                          </a:lnTo>
                          <a:lnTo>
                            <a:pt x="45" y="0"/>
                          </a:lnTo>
                          <a:lnTo>
                            <a:pt x="22" y="0"/>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829"/>
                    <p:cNvSpPr/>
                    <p:nvPr/>
                  </p:nvSpPr>
                  <p:spPr>
                    <a:xfrm rot="111600">
                      <a:off x="7917480" y="914040"/>
                      <a:ext cx="2520" cy="4320"/>
                    </a:xfrm>
                    <a:custGeom>
                      <a:avLst/>
                      <a:gdLst>
                        <a:gd name="textAreaLeft" fmla="*/ 0 w 2520"/>
                        <a:gd name="textAreaRight" fmla="*/ 2880 w 2520"/>
                        <a:gd name="textAreaTop" fmla="*/ 0 h 4320"/>
                        <a:gd name="textAreaBottom" fmla="*/ 4680 h 4320"/>
                      </a:gdLst>
                      <a:ahLst/>
                      <a:rect l="textAreaLeft" t="textAreaTop" r="textAreaRight" b="textAreaBottom"/>
                      <a:pathLst>
                        <a:path w="22" h="33">
                          <a:moveTo>
                            <a:pt x="22" y="11"/>
                          </a:moveTo>
                          <a:lnTo>
                            <a:pt x="22" y="0"/>
                          </a:lnTo>
                          <a:lnTo>
                            <a:pt x="11" y="0"/>
                          </a:lnTo>
                          <a:lnTo>
                            <a:pt x="0" y="11"/>
                          </a:lnTo>
                          <a:lnTo>
                            <a:pt x="0" y="22"/>
                          </a:lnTo>
                          <a:lnTo>
                            <a:pt x="0" y="33"/>
                          </a:lnTo>
                          <a:lnTo>
                            <a:pt x="22"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828"/>
                    <p:cNvSpPr/>
                    <p:nvPr/>
                  </p:nvSpPr>
                  <p:spPr>
                    <a:xfrm rot="111600">
                      <a:off x="7917480" y="915480"/>
                      <a:ext cx="9720" cy="16200"/>
                    </a:xfrm>
                    <a:custGeom>
                      <a:avLst/>
                      <a:gdLst>
                        <a:gd name="textAreaLeft" fmla="*/ 0 w 9720"/>
                        <a:gd name="textAreaRight" fmla="*/ 10080 w 9720"/>
                        <a:gd name="textAreaTop" fmla="*/ 0 h 16200"/>
                        <a:gd name="textAreaBottom" fmla="*/ 16560 h 16200"/>
                      </a:gdLst>
                      <a:ahLst/>
                      <a:rect l="textAreaLeft" t="textAreaTop" r="textAreaRight" b="textAreaBottom"/>
                      <a:pathLst>
                        <a:path w="78" h="123">
                          <a:moveTo>
                            <a:pt x="78" y="112"/>
                          </a:moveTo>
                          <a:lnTo>
                            <a:pt x="78" y="100"/>
                          </a:lnTo>
                          <a:lnTo>
                            <a:pt x="78" y="89"/>
                          </a:lnTo>
                          <a:lnTo>
                            <a:pt x="66" y="67"/>
                          </a:lnTo>
                          <a:lnTo>
                            <a:pt x="55" y="56"/>
                          </a:lnTo>
                          <a:lnTo>
                            <a:pt x="55" y="45"/>
                          </a:lnTo>
                          <a:lnTo>
                            <a:pt x="44" y="34"/>
                          </a:lnTo>
                          <a:lnTo>
                            <a:pt x="33" y="11"/>
                          </a:lnTo>
                          <a:lnTo>
                            <a:pt x="22" y="0"/>
                          </a:lnTo>
                          <a:lnTo>
                            <a:pt x="0" y="22"/>
                          </a:lnTo>
                          <a:lnTo>
                            <a:pt x="11" y="34"/>
                          </a:lnTo>
                          <a:lnTo>
                            <a:pt x="22" y="45"/>
                          </a:lnTo>
                          <a:lnTo>
                            <a:pt x="22" y="56"/>
                          </a:lnTo>
                          <a:lnTo>
                            <a:pt x="33" y="67"/>
                          </a:lnTo>
                          <a:lnTo>
                            <a:pt x="33" y="78"/>
                          </a:lnTo>
                          <a:lnTo>
                            <a:pt x="33" y="100"/>
                          </a:lnTo>
                          <a:lnTo>
                            <a:pt x="44" y="112"/>
                          </a:lnTo>
                          <a:lnTo>
                            <a:pt x="44" y="123"/>
                          </a:lnTo>
                          <a:lnTo>
                            <a:pt x="78" y="11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1827"/>
                    <p:cNvSpPr/>
                    <p:nvPr/>
                  </p:nvSpPr>
                  <p:spPr>
                    <a:xfrm rot="111600">
                      <a:off x="7915680" y="915480"/>
                      <a:ext cx="5400" cy="2880"/>
                    </a:xfrm>
                    <a:custGeom>
                      <a:avLst/>
                      <a:gdLst>
                        <a:gd name="textAreaLeft" fmla="*/ 0 w 5400"/>
                        <a:gd name="textAreaRight" fmla="*/ 5760 w 5400"/>
                        <a:gd name="textAreaTop" fmla="*/ 0 h 2880"/>
                        <a:gd name="textAreaBottom" fmla="*/ 3240 h 2880"/>
                      </a:gdLst>
                      <a:ahLst/>
                      <a:rect l="textAreaLeft" t="textAreaTop" r="textAreaRight" b="textAreaBottom"/>
                      <a:pathLst>
                        <a:path w="45" h="22">
                          <a:moveTo>
                            <a:pt x="0" y="11"/>
                          </a:moveTo>
                          <a:lnTo>
                            <a:pt x="12" y="22"/>
                          </a:lnTo>
                          <a:lnTo>
                            <a:pt x="23" y="22"/>
                          </a:lnTo>
                          <a:lnTo>
                            <a:pt x="34" y="22"/>
                          </a:lnTo>
                          <a:lnTo>
                            <a:pt x="45" y="11"/>
                          </a:lnTo>
                          <a:lnTo>
                            <a:pt x="45" y="0"/>
                          </a:lnTo>
                          <a:lnTo>
                            <a:pt x="0"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1826"/>
                    <p:cNvSpPr/>
                    <p:nvPr/>
                  </p:nvSpPr>
                  <p:spPr>
                    <a:xfrm rot="111600">
                      <a:off x="7897320" y="911880"/>
                      <a:ext cx="4320" cy="2880"/>
                    </a:xfrm>
                    <a:custGeom>
                      <a:avLst/>
                      <a:gdLst>
                        <a:gd name="textAreaLeft" fmla="*/ 0 w 4320"/>
                        <a:gd name="textAreaRight" fmla="*/ 4680 w 4320"/>
                        <a:gd name="textAreaTop" fmla="*/ 0 h 2880"/>
                        <a:gd name="textAreaBottom" fmla="*/ 3240 h 2880"/>
                      </a:gdLst>
                      <a:ahLst/>
                      <a:rect l="textAreaLeft" t="textAreaTop" r="textAreaRight" b="textAreaBottom"/>
                      <a:pathLst>
                        <a:path w="34" h="22">
                          <a:moveTo>
                            <a:pt x="23" y="22"/>
                          </a:moveTo>
                          <a:lnTo>
                            <a:pt x="34" y="22"/>
                          </a:lnTo>
                          <a:lnTo>
                            <a:pt x="34" y="11"/>
                          </a:lnTo>
                          <a:lnTo>
                            <a:pt x="23" y="0"/>
                          </a:lnTo>
                          <a:lnTo>
                            <a:pt x="12" y="0"/>
                          </a:lnTo>
                          <a:lnTo>
                            <a:pt x="0" y="0"/>
                          </a:lnTo>
                          <a:lnTo>
                            <a:pt x="0" y="11"/>
                          </a:lnTo>
                          <a:lnTo>
                            <a:pt x="23" y="22"/>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825"/>
                    <p:cNvSpPr/>
                    <p:nvPr/>
                  </p:nvSpPr>
                  <p:spPr>
                    <a:xfrm rot="111600">
                      <a:off x="7890120" y="912960"/>
                      <a:ext cx="9720" cy="16200"/>
                    </a:xfrm>
                    <a:custGeom>
                      <a:avLst/>
                      <a:gdLst>
                        <a:gd name="textAreaLeft" fmla="*/ 0 w 9720"/>
                        <a:gd name="textAreaRight" fmla="*/ 10080 w 9720"/>
                        <a:gd name="textAreaTop" fmla="*/ 0 h 16200"/>
                        <a:gd name="textAreaBottom" fmla="*/ 16560 h 16200"/>
                      </a:gdLst>
                      <a:ahLst/>
                      <a:rect l="textAreaLeft" t="textAreaTop" r="textAreaRight" b="textAreaBottom"/>
                      <a:pathLst>
                        <a:path w="78" h="123">
                          <a:moveTo>
                            <a:pt x="33" y="123"/>
                          </a:moveTo>
                          <a:lnTo>
                            <a:pt x="44" y="111"/>
                          </a:lnTo>
                          <a:lnTo>
                            <a:pt x="44" y="89"/>
                          </a:lnTo>
                          <a:lnTo>
                            <a:pt x="55" y="78"/>
                          </a:lnTo>
                          <a:lnTo>
                            <a:pt x="55" y="67"/>
                          </a:lnTo>
                          <a:lnTo>
                            <a:pt x="67" y="56"/>
                          </a:lnTo>
                          <a:lnTo>
                            <a:pt x="67" y="45"/>
                          </a:lnTo>
                          <a:lnTo>
                            <a:pt x="78" y="22"/>
                          </a:lnTo>
                          <a:lnTo>
                            <a:pt x="78" y="11"/>
                          </a:lnTo>
                          <a:lnTo>
                            <a:pt x="55" y="0"/>
                          </a:lnTo>
                          <a:lnTo>
                            <a:pt x="44" y="11"/>
                          </a:lnTo>
                          <a:lnTo>
                            <a:pt x="33" y="22"/>
                          </a:lnTo>
                          <a:lnTo>
                            <a:pt x="33" y="33"/>
                          </a:lnTo>
                          <a:lnTo>
                            <a:pt x="22" y="56"/>
                          </a:lnTo>
                          <a:lnTo>
                            <a:pt x="22" y="67"/>
                          </a:lnTo>
                          <a:lnTo>
                            <a:pt x="11" y="78"/>
                          </a:lnTo>
                          <a:lnTo>
                            <a:pt x="11" y="100"/>
                          </a:lnTo>
                          <a:lnTo>
                            <a:pt x="0" y="111"/>
                          </a:lnTo>
                          <a:lnTo>
                            <a:pt x="33" y="123"/>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1824"/>
                    <p:cNvSpPr/>
                    <p:nvPr/>
                  </p:nvSpPr>
                  <p:spPr>
                    <a:xfrm rot="111600">
                      <a:off x="7895880" y="913320"/>
                      <a:ext cx="5400" cy="2880"/>
                    </a:xfrm>
                    <a:custGeom>
                      <a:avLst/>
                      <a:gdLst>
                        <a:gd name="textAreaLeft" fmla="*/ 0 w 5400"/>
                        <a:gd name="textAreaRight" fmla="*/ 5760 w 5400"/>
                        <a:gd name="textAreaTop" fmla="*/ 0 h 2880"/>
                        <a:gd name="textAreaBottom" fmla="*/ 3240 h 2880"/>
                      </a:gdLst>
                      <a:ahLst/>
                      <a:rect l="textAreaLeft" t="textAreaTop" r="textAreaRight" b="textAreaBottom"/>
                      <a:pathLst>
                        <a:path w="45" h="22">
                          <a:moveTo>
                            <a:pt x="0" y="0"/>
                          </a:moveTo>
                          <a:lnTo>
                            <a:pt x="11" y="22"/>
                          </a:lnTo>
                          <a:lnTo>
                            <a:pt x="23" y="22"/>
                          </a:lnTo>
                          <a:lnTo>
                            <a:pt x="34" y="22"/>
                          </a:lnTo>
                          <a:lnTo>
                            <a:pt x="45" y="11"/>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823"/>
                    <p:cNvSpPr/>
                    <p:nvPr/>
                  </p:nvSpPr>
                  <p:spPr>
                    <a:xfrm rot="111600">
                      <a:off x="7991280" y="745920"/>
                      <a:ext cx="203040" cy="194040"/>
                    </a:xfrm>
                    <a:custGeom>
                      <a:avLst/>
                      <a:gdLst>
                        <a:gd name="textAreaLeft" fmla="*/ 0 w 203040"/>
                        <a:gd name="textAreaRight" fmla="*/ 203400 w 203040"/>
                        <a:gd name="textAreaTop" fmla="*/ 0 h 194040"/>
                        <a:gd name="textAreaBottom" fmla="*/ 194400 h 194040"/>
                      </a:gdLst>
                      <a:ahLst/>
                      <a:rect l="textAreaLeft" t="textAreaTop" r="textAreaRight" b="textAreaBottom"/>
                      <a:pathLst>
                        <a:path w="1594" h="1471">
                          <a:moveTo>
                            <a:pt x="769" y="0"/>
                          </a:moveTo>
                          <a:lnTo>
                            <a:pt x="813" y="0"/>
                          </a:lnTo>
                          <a:lnTo>
                            <a:pt x="847" y="11"/>
                          </a:lnTo>
                          <a:lnTo>
                            <a:pt x="880" y="11"/>
                          </a:lnTo>
                          <a:lnTo>
                            <a:pt x="914" y="22"/>
                          </a:lnTo>
                          <a:lnTo>
                            <a:pt x="947" y="44"/>
                          </a:lnTo>
                          <a:lnTo>
                            <a:pt x="981" y="56"/>
                          </a:lnTo>
                          <a:lnTo>
                            <a:pt x="1014" y="78"/>
                          </a:lnTo>
                          <a:lnTo>
                            <a:pt x="1047" y="89"/>
                          </a:lnTo>
                          <a:lnTo>
                            <a:pt x="1081" y="122"/>
                          </a:lnTo>
                          <a:lnTo>
                            <a:pt x="1103" y="145"/>
                          </a:lnTo>
                          <a:lnTo>
                            <a:pt x="1137" y="167"/>
                          </a:lnTo>
                          <a:lnTo>
                            <a:pt x="1159" y="200"/>
                          </a:lnTo>
                          <a:lnTo>
                            <a:pt x="1181" y="234"/>
                          </a:lnTo>
                          <a:lnTo>
                            <a:pt x="1215" y="267"/>
                          </a:lnTo>
                          <a:lnTo>
                            <a:pt x="1237" y="301"/>
                          </a:lnTo>
                          <a:lnTo>
                            <a:pt x="1248" y="334"/>
                          </a:lnTo>
                          <a:lnTo>
                            <a:pt x="1281" y="345"/>
                          </a:lnTo>
                          <a:lnTo>
                            <a:pt x="1315" y="356"/>
                          </a:lnTo>
                          <a:lnTo>
                            <a:pt x="1337" y="356"/>
                          </a:lnTo>
                          <a:lnTo>
                            <a:pt x="1371" y="368"/>
                          </a:lnTo>
                          <a:lnTo>
                            <a:pt x="1404" y="379"/>
                          </a:lnTo>
                          <a:lnTo>
                            <a:pt x="1426" y="390"/>
                          </a:lnTo>
                          <a:lnTo>
                            <a:pt x="1449" y="390"/>
                          </a:lnTo>
                          <a:lnTo>
                            <a:pt x="1482" y="412"/>
                          </a:lnTo>
                          <a:lnTo>
                            <a:pt x="1504" y="423"/>
                          </a:lnTo>
                          <a:lnTo>
                            <a:pt x="1527" y="435"/>
                          </a:lnTo>
                          <a:lnTo>
                            <a:pt x="1538" y="457"/>
                          </a:lnTo>
                          <a:lnTo>
                            <a:pt x="1560" y="490"/>
                          </a:lnTo>
                          <a:lnTo>
                            <a:pt x="1571" y="513"/>
                          </a:lnTo>
                          <a:lnTo>
                            <a:pt x="1582" y="546"/>
                          </a:lnTo>
                          <a:lnTo>
                            <a:pt x="1594" y="591"/>
                          </a:lnTo>
                          <a:lnTo>
                            <a:pt x="1594" y="635"/>
                          </a:lnTo>
                          <a:lnTo>
                            <a:pt x="1594" y="657"/>
                          </a:lnTo>
                          <a:lnTo>
                            <a:pt x="1582" y="680"/>
                          </a:lnTo>
                          <a:lnTo>
                            <a:pt x="1582" y="691"/>
                          </a:lnTo>
                          <a:lnTo>
                            <a:pt x="1571" y="713"/>
                          </a:lnTo>
                          <a:lnTo>
                            <a:pt x="1560" y="735"/>
                          </a:lnTo>
                          <a:lnTo>
                            <a:pt x="1549" y="758"/>
                          </a:lnTo>
                          <a:lnTo>
                            <a:pt x="1538" y="780"/>
                          </a:lnTo>
                          <a:lnTo>
                            <a:pt x="1527" y="791"/>
                          </a:lnTo>
                          <a:lnTo>
                            <a:pt x="1504" y="813"/>
                          </a:lnTo>
                          <a:lnTo>
                            <a:pt x="1482" y="825"/>
                          </a:lnTo>
                          <a:lnTo>
                            <a:pt x="1471" y="847"/>
                          </a:lnTo>
                          <a:lnTo>
                            <a:pt x="1438" y="858"/>
                          </a:lnTo>
                          <a:lnTo>
                            <a:pt x="1415" y="869"/>
                          </a:lnTo>
                          <a:lnTo>
                            <a:pt x="1393" y="880"/>
                          </a:lnTo>
                          <a:lnTo>
                            <a:pt x="1359" y="880"/>
                          </a:lnTo>
                          <a:lnTo>
                            <a:pt x="1326" y="880"/>
                          </a:lnTo>
                          <a:lnTo>
                            <a:pt x="1315" y="947"/>
                          </a:lnTo>
                          <a:lnTo>
                            <a:pt x="1293" y="1003"/>
                          </a:lnTo>
                          <a:lnTo>
                            <a:pt x="1270" y="1059"/>
                          </a:lnTo>
                          <a:lnTo>
                            <a:pt x="1248" y="1114"/>
                          </a:lnTo>
                          <a:lnTo>
                            <a:pt x="1215" y="1170"/>
                          </a:lnTo>
                          <a:lnTo>
                            <a:pt x="1181" y="1215"/>
                          </a:lnTo>
                          <a:lnTo>
                            <a:pt x="1148" y="1259"/>
                          </a:lnTo>
                          <a:lnTo>
                            <a:pt x="1114" y="1304"/>
                          </a:lnTo>
                          <a:lnTo>
                            <a:pt x="1070" y="1337"/>
                          </a:lnTo>
                          <a:lnTo>
                            <a:pt x="1025" y="1371"/>
                          </a:lnTo>
                          <a:lnTo>
                            <a:pt x="981" y="1404"/>
                          </a:lnTo>
                          <a:lnTo>
                            <a:pt x="936" y="1426"/>
                          </a:lnTo>
                          <a:lnTo>
                            <a:pt x="891" y="1438"/>
                          </a:lnTo>
                          <a:lnTo>
                            <a:pt x="847" y="1460"/>
                          </a:lnTo>
                          <a:lnTo>
                            <a:pt x="791" y="1460"/>
                          </a:lnTo>
                          <a:lnTo>
                            <a:pt x="747" y="1471"/>
                          </a:lnTo>
                          <a:lnTo>
                            <a:pt x="668" y="1460"/>
                          </a:lnTo>
                          <a:lnTo>
                            <a:pt x="613" y="1449"/>
                          </a:lnTo>
                          <a:lnTo>
                            <a:pt x="546" y="1426"/>
                          </a:lnTo>
                          <a:lnTo>
                            <a:pt x="490" y="1404"/>
                          </a:lnTo>
                          <a:lnTo>
                            <a:pt x="446" y="1371"/>
                          </a:lnTo>
                          <a:lnTo>
                            <a:pt x="401" y="1337"/>
                          </a:lnTo>
                          <a:lnTo>
                            <a:pt x="356" y="1293"/>
                          </a:lnTo>
                          <a:lnTo>
                            <a:pt x="323" y="1248"/>
                          </a:lnTo>
                          <a:lnTo>
                            <a:pt x="290" y="1192"/>
                          </a:lnTo>
                          <a:lnTo>
                            <a:pt x="267" y="1137"/>
                          </a:lnTo>
                          <a:lnTo>
                            <a:pt x="245" y="1081"/>
                          </a:lnTo>
                          <a:lnTo>
                            <a:pt x="234" y="1025"/>
                          </a:lnTo>
                          <a:lnTo>
                            <a:pt x="223" y="958"/>
                          </a:lnTo>
                          <a:lnTo>
                            <a:pt x="223" y="891"/>
                          </a:lnTo>
                          <a:lnTo>
                            <a:pt x="223" y="825"/>
                          </a:lnTo>
                          <a:lnTo>
                            <a:pt x="234" y="758"/>
                          </a:lnTo>
                          <a:lnTo>
                            <a:pt x="200" y="758"/>
                          </a:lnTo>
                          <a:lnTo>
                            <a:pt x="167" y="747"/>
                          </a:lnTo>
                          <a:lnTo>
                            <a:pt x="134" y="735"/>
                          </a:lnTo>
                          <a:lnTo>
                            <a:pt x="111" y="724"/>
                          </a:lnTo>
                          <a:lnTo>
                            <a:pt x="78" y="702"/>
                          </a:lnTo>
                          <a:lnTo>
                            <a:pt x="56" y="680"/>
                          </a:lnTo>
                          <a:lnTo>
                            <a:pt x="33" y="657"/>
                          </a:lnTo>
                          <a:lnTo>
                            <a:pt x="22" y="624"/>
                          </a:lnTo>
                          <a:lnTo>
                            <a:pt x="11" y="602"/>
                          </a:lnTo>
                          <a:lnTo>
                            <a:pt x="0" y="568"/>
                          </a:lnTo>
                          <a:lnTo>
                            <a:pt x="0" y="535"/>
                          </a:lnTo>
                          <a:lnTo>
                            <a:pt x="0" y="501"/>
                          </a:lnTo>
                          <a:lnTo>
                            <a:pt x="0" y="468"/>
                          </a:lnTo>
                          <a:lnTo>
                            <a:pt x="22" y="435"/>
                          </a:lnTo>
                          <a:lnTo>
                            <a:pt x="33" y="412"/>
                          </a:lnTo>
                          <a:lnTo>
                            <a:pt x="67" y="379"/>
                          </a:lnTo>
                          <a:lnTo>
                            <a:pt x="78" y="368"/>
                          </a:lnTo>
                          <a:lnTo>
                            <a:pt x="89" y="368"/>
                          </a:lnTo>
                          <a:lnTo>
                            <a:pt x="111" y="368"/>
                          </a:lnTo>
                          <a:lnTo>
                            <a:pt x="122" y="368"/>
                          </a:lnTo>
                          <a:lnTo>
                            <a:pt x="134" y="368"/>
                          </a:lnTo>
                          <a:lnTo>
                            <a:pt x="145" y="368"/>
                          </a:lnTo>
                          <a:lnTo>
                            <a:pt x="167" y="368"/>
                          </a:lnTo>
                          <a:lnTo>
                            <a:pt x="178" y="368"/>
                          </a:lnTo>
                          <a:lnTo>
                            <a:pt x="189" y="368"/>
                          </a:lnTo>
                          <a:lnTo>
                            <a:pt x="212" y="368"/>
                          </a:lnTo>
                          <a:lnTo>
                            <a:pt x="223" y="368"/>
                          </a:lnTo>
                          <a:lnTo>
                            <a:pt x="245" y="379"/>
                          </a:lnTo>
                          <a:lnTo>
                            <a:pt x="256" y="379"/>
                          </a:lnTo>
                          <a:lnTo>
                            <a:pt x="278" y="379"/>
                          </a:lnTo>
                          <a:lnTo>
                            <a:pt x="290" y="379"/>
                          </a:lnTo>
                          <a:lnTo>
                            <a:pt x="301" y="368"/>
                          </a:lnTo>
                          <a:lnTo>
                            <a:pt x="323" y="345"/>
                          </a:lnTo>
                          <a:lnTo>
                            <a:pt x="345" y="323"/>
                          </a:lnTo>
                          <a:lnTo>
                            <a:pt x="368" y="290"/>
                          </a:lnTo>
                          <a:lnTo>
                            <a:pt x="390" y="267"/>
                          </a:lnTo>
                          <a:lnTo>
                            <a:pt x="423" y="234"/>
                          </a:lnTo>
                          <a:lnTo>
                            <a:pt x="446" y="200"/>
                          </a:lnTo>
                          <a:lnTo>
                            <a:pt x="479" y="167"/>
                          </a:lnTo>
                          <a:lnTo>
                            <a:pt x="512" y="134"/>
                          </a:lnTo>
                          <a:lnTo>
                            <a:pt x="546" y="100"/>
                          </a:lnTo>
                          <a:lnTo>
                            <a:pt x="579" y="78"/>
                          </a:lnTo>
                          <a:lnTo>
                            <a:pt x="624" y="56"/>
                          </a:lnTo>
                          <a:lnTo>
                            <a:pt x="657" y="33"/>
                          </a:lnTo>
                          <a:lnTo>
                            <a:pt x="691" y="11"/>
                          </a:lnTo>
                          <a:lnTo>
                            <a:pt x="735" y="11"/>
                          </a:lnTo>
                          <a:lnTo>
                            <a:pt x="769" y="0"/>
                          </a:lnTo>
                          <a:close/>
                        </a:path>
                      </a:pathLst>
                    </a:custGeom>
                    <a:solidFill>
                      <a:srgbClr val="ffd6a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822"/>
                    <p:cNvSpPr/>
                    <p:nvPr/>
                  </p:nvSpPr>
                  <p:spPr>
                    <a:xfrm rot="111600">
                      <a:off x="8091360" y="746640"/>
                      <a:ext cx="62280" cy="45360"/>
                    </a:xfrm>
                    <a:custGeom>
                      <a:avLst/>
                      <a:gdLst>
                        <a:gd name="textAreaLeft" fmla="*/ 0 w 62280"/>
                        <a:gd name="textAreaRight" fmla="*/ 62640 w 62280"/>
                        <a:gd name="textAreaTop" fmla="*/ 0 h 45360"/>
                        <a:gd name="textAreaBottom" fmla="*/ 45720 h 45360"/>
                      </a:gdLst>
                      <a:ahLst/>
                      <a:rect l="textAreaLeft" t="textAreaTop" r="textAreaRight" b="textAreaBottom"/>
                      <a:pathLst>
                        <a:path w="490" h="345">
                          <a:moveTo>
                            <a:pt x="479" y="334"/>
                          </a:moveTo>
                          <a:lnTo>
                            <a:pt x="490" y="334"/>
                          </a:lnTo>
                          <a:lnTo>
                            <a:pt x="468" y="301"/>
                          </a:lnTo>
                          <a:lnTo>
                            <a:pt x="446" y="256"/>
                          </a:lnTo>
                          <a:lnTo>
                            <a:pt x="423" y="223"/>
                          </a:lnTo>
                          <a:lnTo>
                            <a:pt x="401" y="200"/>
                          </a:lnTo>
                          <a:lnTo>
                            <a:pt x="368" y="167"/>
                          </a:lnTo>
                          <a:lnTo>
                            <a:pt x="345" y="134"/>
                          </a:lnTo>
                          <a:lnTo>
                            <a:pt x="312" y="111"/>
                          </a:lnTo>
                          <a:lnTo>
                            <a:pt x="278" y="89"/>
                          </a:lnTo>
                          <a:lnTo>
                            <a:pt x="256" y="67"/>
                          </a:lnTo>
                          <a:lnTo>
                            <a:pt x="223" y="44"/>
                          </a:lnTo>
                          <a:lnTo>
                            <a:pt x="189" y="33"/>
                          </a:lnTo>
                          <a:lnTo>
                            <a:pt x="145" y="22"/>
                          </a:lnTo>
                          <a:lnTo>
                            <a:pt x="111" y="11"/>
                          </a:lnTo>
                          <a:lnTo>
                            <a:pt x="78" y="0"/>
                          </a:lnTo>
                          <a:lnTo>
                            <a:pt x="44" y="0"/>
                          </a:lnTo>
                          <a:lnTo>
                            <a:pt x="0" y="0"/>
                          </a:lnTo>
                          <a:lnTo>
                            <a:pt x="0" y="11"/>
                          </a:lnTo>
                          <a:lnTo>
                            <a:pt x="44" y="11"/>
                          </a:lnTo>
                          <a:lnTo>
                            <a:pt x="78" y="11"/>
                          </a:lnTo>
                          <a:lnTo>
                            <a:pt x="111" y="22"/>
                          </a:lnTo>
                          <a:lnTo>
                            <a:pt x="145" y="33"/>
                          </a:lnTo>
                          <a:lnTo>
                            <a:pt x="178" y="44"/>
                          </a:lnTo>
                          <a:lnTo>
                            <a:pt x="212" y="67"/>
                          </a:lnTo>
                          <a:lnTo>
                            <a:pt x="245" y="78"/>
                          </a:lnTo>
                          <a:lnTo>
                            <a:pt x="278" y="100"/>
                          </a:lnTo>
                          <a:lnTo>
                            <a:pt x="301" y="122"/>
                          </a:lnTo>
                          <a:lnTo>
                            <a:pt x="334" y="145"/>
                          </a:lnTo>
                          <a:lnTo>
                            <a:pt x="356" y="178"/>
                          </a:lnTo>
                          <a:lnTo>
                            <a:pt x="390" y="200"/>
                          </a:lnTo>
                          <a:lnTo>
                            <a:pt x="412" y="234"/>
                          </a:lnTo>
                          <a:lnTo>
                            <a:pt x="434" y="267"/>
                          </a:lnTo>
                          <a:lnTo>
                            <a:pt x="457" y="301"/>
                          </a:lnTo>
                          <a:lnTo>
                            <a:pt x="479" y="345"/>
                          </a:lnTo>
                          <a:lnTo>
                            <a:pt x="479" y="334"/>
                          </a:lnTo>
                          <a:close/>
                        </a:path>
                      </a:pathLst>
                    </a:custGeom>
                    <a:solidFill>
                      <a:srgbClr val="000000"/>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821"/>
                    <p:cNvSpPr/>
                    <p:nvPr/>
                  </p:nvSpPr>
                  <p:spPr>
                    <a:xfrm rot="111600">
                      <a:off x="8151120" y="792720"/>
                      <a:ext cx="45360" cy="39600"/>
                    </a:xfrm>
                    <a:custGeom>
                      <a:avLst/>
                      <a:gdLst>
                        <a:gd name="textAreaLeft" fmla="*/ 0 w 45360"/>
                        <a:gd name="textAreaRight" fmla="*/ 45720 w 45360"/>
                        <a:gd name="textAreaTop" fmla="*/ 0 h 39600"/>
                        <a:gd name="textAreaBottom" fmla="*/ 39600 h 39600"/>
                      </a:gdLst>
                      <a:ahLst/>
                      <a:rect l="textAreaLeft" t="textAreaTop" r="textAreaRight" b="textAreaBottom"/>
                      <a:pathLst>
                        <a:path w="357" h="301">
                          <a:moveTo>
                            <a:pt x="357" y="301"/>
                          </a:moveTo>
                          <a:lnTo>
                            <a:pt x="357" y="301"/>
                          </a:lnTo>
                          <a:lnTo>
                            <a:pt x="346" y="257"/>
                          </a:lnTo>
                          <a:lnTo>
                            <a:pt x="346" y="212"/>
                          </a:lnTo>
                          <a:lnTo>
                            <a:pt x="334" y="179"/>
                          </a:lnTo>
                          <a:lnTo>
                            <a:pt x="312" y="145"/>
                          </a:lnTo>
                          <a:lnTo>
                            <a:pt x="301" y="123"/>
                          </a:lnTo>
                          <a:lnTo>
                            <a:pt x="279" y="101"/>
                          </a:lnTo>
                          <a:lnTo>
                            <a:pt x="256" y="78"/>
                          </a:lnTo>
                          <a:lnTo>
                            <a:pt x="234" y="67"/>
                          </a:lnTo>
                          <a:lnTo>
                            <a:pt x="212" y="56"/>
                          </a:lnTo>
                          <a:lnTo>
                            <a:pt x="178" y="45"/>
                          </a:lnTo>
                          <a:lnTo>
                            <a:pt x="156" y="34"/>
                          </a:lnTo>
                          <a:lnTo>
                            <a:pt x="123" y="22"/>
                          </a:lnTo>
                          <a:lnTo>
                            <a:pt x="89" y="22"/>
                          </a:lnTo>
                          <a:lnTo>
                            <a:pt x="67" y="11"/>
                          </a:lnTo>
                          <a:lnTo>
                            <a:pt x="33" y="11"/>
                          </a:lnTo>
                          <a:lnTo>
                            <a:pt x="0" y="0"/>
                          </a:lnTo>
                          <a:lnTo>
                            <a:pt x="0" y="11"/>
                          </a:lnTo>
                          <a:lnTo>
                            <a:pt x="33" y="22"/>
                          </a:lnTo>
                          <a:lnTo>
                            <a:pt x="56" y="22"/>
                          </a:lnTo>
                          <a:lnTo>
                            <a:pt x="89" y="34"/>
                          </a:lnTo>
                          <a:lnTo>
                            <a:pt x="123" y="45"/>
                          </a:lnTo>
                          <a:lnTo>
                            <a:pt x="145" y="45"/>
                          </a:lnTo>
                          <a:lnTo>
                            <a:pt x="178" y="56"/>
                          </a:lnTo>
                          <a:lnTo>
                            <a:pt x="201" y="67"/>
                          </a:lnTo>
                          <a:lnTo>
                            <a:pt x="223" y="78"/>
                          </a:lnTo>
                          <a:lnTo>
                            <a:pt x="245" y="89"/>
                          </a:lnTo>
                          <a:lnTo>
                            <a:pt x="268" y="112"/>
                          </a:lnTo>
                          <a:lnTo>
                            <a:pt x="290" y="134"/>
                          </a:lnTo>
                          <a:lnTo>
                            <a:pt x="301" y="156"/>
                          </a:lnTo>
                          <a:lnTo>
                            <a:pt x="312" y="190"/>
                          </a:lnTo>
                          <a:lnTo>
                            <a:pt x="323" y="223"/>
                          </a:lnTo>
                          <a:lnTo>
                            <a:pt x="334" y="257"/>
                          </a:lnTo>
                          <a:lnTo>
                            <a:pt x="346" y="301"/>
                          </a:lnTo>
                          <a:lnTo>
                            <a:pt x="357" y="301"/>
                          </a:lnTo>
                          <a:close/>
                        </a:path>
                      </a:pathLst>
                    </a:custGeom>
                    <a:solidFill>
                      <a:srgbClr val="0000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820"/>
                    <p:cNvSpPr/>
                    <p:nvPr/>
                  </p:nvSpPr>
                  <p:spPr>
                    <a:xfrm rot="111600">
                      <a:off x="8160120" y="832680"/>
                      <a:ext cx="35280" cy="33480"/>
                    </a:xfrm>
                    <a:custGeom>
                      <a:avLst/>
                      <a:gdLst>
                        <a:gd name="textAreaLeft" fmla="*/ 0 w 35280"/>
                        <a:gd name="textAreaRight" fmla="*/ 35640 w 35280"/>
                        <a:gd name="textAreaTop" fmla="*/ 0 h 33480"/>
                        <a:gd name="textAreaBottom" fmla="*/ 33840 h 33480"/>
                      </a:gdLst>
                      <a:ahLst/>
                      <a:rect l="textAreaLeft" t="textAreaTop" r="textAreaRight" b="textAreaBottom"/>
                      <a:pathLst>
                        <a:path w="279" h="256">
                          <a:moveTo>
                            <a:pt x="11" y="256"/>
                          </a:moveTo>
                          <a:lnTo>
                            <a:pt x="0" y="256"/>
                          </a:lnTo>
                          <a:lnTo>
                            <a:pt x="33" y="256"/>
                          </a:lnTo>
                          <a:lnTo>
                            <a:pt x="67" y="245"/>
                          </a:lnTo>
                          <a:lnTo>
                            <a:pt x="89" y="245"/>
                          </a:lnTo>
                          <a:lnTo>
                            <a:pt x="123" y="234"/>
                          </a:lnTo>
                          <a:lnTo>
                            <a:pt x="145" y="212"/>
                          </a:lnTo>
                          <a:lnTo>
                            <a:pt x="167" y="201"/>
                          </a:lnTo>
                          <a:lnTo>
                            <a:pt x="190" y="190"/>
                          </a:lnTo>
                          <a:lnTo>
                            <a:pt x="201" y="167"/>
                          </a:lnTo>
                          <a:lnTo>
                            <a:pt x="212" y="145"/>
                          </a:lnTo>
                          <a:lnTo>
                            <a:pt x="234" y="123"/>
                          </a:lnTo>
                          <a:lnTo>
                            <a:pt x="245" y="100"/>
                          </a:lnTo>
                          <a:lnTo>
                            <a:pt x="256" y="89"/>
                          </a:lnTo>
                          <a:lnTo>
                            <a:pt x="256" y="56"/>
                          </a:lnTo>
                          <a:lnTo>
                            <a:pt x="268" y="45"/>
                          </a:lnTo>
                          <a:lnTo>
                            <a:pt x="279" y="22"/>
                          </a:lnTo>
                          <a:lnTo>
                            <a:pt x="279" y="0"/>
                          </a:lnTo>
                          <a:lnTo>
                            <a:pt x="268" y="0"/>
                          </a:lnTo>
                          <a:lnTo>
                            <a:pt x="256" y="22"/>
                          </a:lnTo>
                          <a:lnTo>
                            <a:pt x="256" y="34"/>
                          </a:lnTo>
                          <a:lnTo>
                            <a:pt x="245" y="56"/>
                          </a:lnTo>
                          <a:lnTo>
                            <a:pt x="245" y="78"/>
                          </a:lnTo>
                          <a:lnTo>
                            <a:pt x="234" y="100"/>
                          </a:lnTo>
                          <a:lnTo>
                            <a:pt x="223" y="123"/>
                          </a:lnTo>
                          <a:lnTo>
                            <a:pt x="212" y="134"/>
                          </a:lnTo>
                          <a:lnTo>
                            <a:pt x="190" y="156"/>
                          </a:lnTo>
                          <a:lnTo>
                            <a:pt x="178" y="178"/>
                          </a:lnTo>
                          <a:lnTo>
                            <a:pt x="156" y="190"/>
                          </a:lnTo>
                          <a:lnTo>
                            <a:pt x="134" y="201"/>
                          </a:lnTo>
                          <a:lnTo>
                            <a:pt x="112" y="212"/>
                          </a:lnTo>
                          <a:lnTo>
                            <a:pt x="89" y="223"/>
                          </a:lnTo>
                          <a:lnTo>
                            <a:pt x="67" y="234"/>
                          </a:lnTo>
                          <a:lnTo>
                            <a:pt x="33" y="245"/>
                          </a:lnTo>
                          <a:lnTo>
                            <a:pt x="0" y="245"/>
                          </a:lnTo>
                          <a:lnTo>
                            <a:pt x="11" y="256"/>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819"/>
                    <p:cNvSpPr/>
                    <p:nvPr/>
                  </p:nvSpPr>
                  <p:spPr>
                    <a:xfrm rot="111600">
                      <a:off x="8084520" y="862920"/>
                      <a:ext cx="75240" cy="77760"/>
                    </a:xfrm>
                    <a:custGeom>
                      <a:avLst/>
                      <a:gdLst>
                        <a:gd name="textAreaLeft" fmla="*/ 0 w 75240"/>
                        <a:gd name="textAreaRight" fmla="*/ 75600 w 75240"/>
                        <a:gd name="textAreaTop" fmla="*/ 0 h 77760"/>
                        <a:gd name="textAreaBottom" fmla="*/ 78120 h 77760"/>
                      </a:gdLst>
                      <a:ahLst/>
                      <a:rect l="textAreaLeft" t="textAreaTop" r="textAreaRight" b="textAreaBottom"/>
                      <a:pathLst>
                        <a:path w="590" h="591">
                          <a:moveTo>
                            <a:pt x="0" y="591"/>
                          </a:moveTo>
                          <a:lnTo>
                            <a:pt x="0" y="591"/>
                          </a:lnTo>
                          <a:lnTo>
                            <a:pt x="44" y="591"/>
                          </a:lnTo>
                          <a:lnTo>
                            <a:pt x="100" y="580"/>
                          </a:lnTo>
                          <a:lnTo>
                            <a:pt x="144" y="569"/>
                          </a:lnTo>
                          <a:lnTo>
                            <a:pt x="189" y="546"/>
                          </a:lnTo>
                          <a:lnTo>
                            <a:pt x="245" y="524"/>
                          </a:lnTo>
                          <a:lnTo>
                            <a:pt x="289" y="491"/>
                          </a:lnTo>
                          <a:lnTo>
                            <a:pt x="323" y="457"/>
                          </a:lnTo>
                          <a:lnTo>
                            <a:pt x="367" y="424"/>
                          </a:lnTo>
                          <a:lnTo>
                            <a:pt x="412" y="379"/>
                          </a:lnTo>
                          <a:lnTo>
                            <a:pt x="445" y="335"/>
                          </a:lnTo>
                          <a:lnTo>
                            <a:pt x="479" y="290"/>
                          </a:lnTo>
                          <a:lnTo>
                            <a:pt x="501" y="234"/>
                          </a:lnTo>
                          <a:lnTo>
                            <a:pt x="534" y="179"/>
                          </a:lnTo>
                          <a:lnTo>
                            <a:pt x="557" y="123"/>
                          </a:lnTo>
                          <a:lnTo>
                            <a:pt x="568" y="67"/>
                          </a:lnTo>
                          <a:lnTo>
                            <a:pt x="590" y="11"/>
                          </a:lnTo>
                          <a:lnTo>
                            <a:pt x="579" y="0"/>
                          </a:lnTo>
                          <a:lnTo>
                            <a:pt x="557" y="67"/>
                          </a:lnTo>
                          <a:lnTo>
                            <a:pt x="546" y="123"/>
                          </a:lnTo>
                          <a:lnTo>
                            <a:pt x="523" y="179"/>
                          </a:lnTo>
                          <a:lnTo>
                            <a:pt x="490" y="234"/>
                          </a:lnTo>
                          <a:lnTo>
                            <a:pt x="468" y="279"/>
                          </a:lnTo>
                          <a:lnTo>
                            <a:pt x="434" y="335"/>
                          </a:lnTo>
                          <a:lnTo>
                            <a:pt x="401" y="379"/>
                          </a:lnTo>
                          <a:lnTo>
                            <a:pt x="356" y="413"/>
                          </a:lnTo>
                          <a:lnTo>
                            <a:pt x="323" y="457"/>
                          </a:lnTo>
                          <a:lnTo>
                            <a:pt x="278" y="480"/>
                          </a:lnTo>
                          <a:lnTo>
                            <a:pt x="234" y="513"/>
                          </a:lnTo>
                          <a:lnTo>
                            <a:pt x="189" y="535"/>
                          </a:lnTo>
                          <a:lnTo>
                            <a:pt x="144" y="558"/>
                          </a:lnTo>
                          <a:lnTo>
                            <a:pt x="89" y="569"/>
                          </a:lnTo>
                          <a:lnTo>
                            <a:pt x="44" y="580"/>
                          </a:lnTo>
                          <a:lnTo>
                            <a:pt x="0" y="580"/>
                          </a:lnTo>
                          <a:lnTo>
                            <a:pt x="0" y="591"/>
                          </a:lnTo>
                          <a:close/>
                        </a:path>
                      </a:pathLst>
                    </a:custGeom>
                    <a:solidFill>
                      <a:srgbClr val="000000"/>
                    </a:solidFill>
                    <a:ln w="0">
                      <a:noFill/>
                    </a:ln>
                  </p:spPr>
                  <p:style>
                    <a:lnRef idx="0"/>
                    <a:fillRef idx="0"/>
                    <a:effectRef idx="0"/>
                    <a:fontRef idx="minor"/>
                  </p:style>
                  <p:txBody>
                    <a:bodyPr lIns="90000" rIns="90000" tIns="31320" bIns="31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818"/>
                    <p:cNvSpPr/>
                    <p:nvPr/>
                  </p:nvSpPr>
                  <p:spPr>
                    <a:xfrm rot="111600">
                      <a:off x="8016480" y="843120"/>
                      <a:ext cx="68040" cy="95400"/>
                    </a:xfrm>
                    <a:custGeom>
                      <a:avLst/>
                      <a:gdLst>
                        <a:gd name="textAreaLeft" fmla="*/ 0 w 68040"/>
                        <a:gd name="textAreaRight" fmla="*/ 68400 w 68040"/>
                        <a:gd name="textAreaTop" fmla="*/ 0 h 95400"/>
                        <a:gd name="textAreaBottom" fmla="*/ 95760 h 95400"/>
                      </a:gdLst>
                      <a:ahLst/>
                      <a:rect l="textAreaLeft" t="textAreaTop" r="textAreaRight" b="textAreaBottom"/>
                      <a:pathLst>
                        <a:path w="535" h="724">
                          <a:moveTo>
                            <a:pt x="22" y="11"/>
                          </a:moveTo>
                          <a:lnTo>
                            <a:pt x="11" y="11"/>
                          </a:lnTo>
                          <a:lnTo>
                            <a:pt x="0" y="78"/>
                          </a:lnTo>
                          <a:lnTo>
                            <a:pt x="0" y="144"/>
                          </a:lnTo>
                          <a:lnTo>
                            <a:pt x="0" y="211"/>
                          </a:lnTo>
                          <a:lnTo>
                            <a:pt x="11" y="278"/>
                          </a:lnTo>
                          <a:lnTo>
                            <a:pt x="22" y="334"/>
                          </a:lnTo>
                          <a:lnTo>
                            <a:pt x="44" y="401"/>
                          </a:lnTo>
                          <a:lnTo>
                            <a:pt x="66" y="457"/>
                          </a:lnTo>
                          <a:lnTo>
                            <a:pt x="100" y="501"/>
                          </a:lnTo>
                          <a:lnTo>
                            <a:pt x="133" y="546"/>
                          </a:lnTo>
                          <a:lnTo>
                            <a:pt x="178" y="590"/>
                          </a:lnTo>
                          <a:lnTo>
                            <a:pt x="222" y="624"/>
                          </a:lnTo>
                          <a:lnTo>
                            <a:pt x="278" y="657"/>
                          </a:lnTo>
                          <a:lnTo>
                            <a:pt x="334" y="691"/>
                          </a:lnTo>
                          <a:lnTo>
                            <a:pt x="390" y="702"/>
                          </a:lnTo>
                          <a:lnTo>
                            <a:pt x="456" y="724"/>
                          </a:lnTo>
                          <a:lnTo>
                            <a:pt x="535" y="724"/>
                          </a:lnTo>
                          <a:lnTo>
                            <a:pt x="535" y="713"/>
                          </a:lnTo>
                          <a:lnTo>
                            <a:pt x="456" y="702"/>
                          </a:lnTo>
                          <a:lnTo>
                            <a:pt x="401" y="691"/>
                          </a:lnTo>
                          <a:lnTo>
                            <a:pt x="334" y="668"/>
                          </a:lnTo>
                          <a:lnTo>
                            <a:pt x="278" y="646"/>
                          </a:lnTo>
                          <a:lnTo>
                            <a:pt x="234" y="613"/>
                          </a:lnTo>
                          <a:lnTo>
                            <a:pt x="189" y="579"/>
                          </a:lnTo>
                          <a:lnTo>
                            <a:pt x="144" y="535"/>
                          </a:lnTo>
                          <a:lnTo>
                            <a:pt x="111" y="490"/>
                          </a:lnTo>
                          <a:lnTo>
                            <a:pt x="89" y="445"/>
                          </a:lnTo>
                          <a:lnTo>
                            <a:pt x="55" y="390"/>
                          </a:lnTo>
                          <a:lnTo>
                            <a:pt x="44" y="334"/>
                          </a:lnTo>
                          <a:lnTo>
                            <a:pt x="22" y="278"/>
                          </a:lnTo>
                          <a:lnTo>
                            <a:pt x="22" y="211"/>
                          </a:lnTo>
                          <a:lnTo>
                            <a:pt x="11" y="144"/>
                          </a:lnTo>
                          <a:lnTo>
                            <a:pt x="22" y="78"/>
                          </a:lnTo>
                          <a:lnTo>
                            <a:pt x="22" y="11"/>
                          </a:lnTo>
                          <a:lnTo>
                            <a:pt x="22" y="0"/>
                          </a:lnTo>
                          <a:lnTo>
                            <a:pt x="22"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1817"/>
                    <p:cNvSpPr/>
                    <p:nvPr/>
                  </p:nvSpPr>
                  <p:spPr>
                    <a:xfrm rot="111600">
                      <a:off x="7990200" y="793080"/>
                      <a:ext cx="30960" cy="49680"/>
                    </a:xfrm>
                    <a:custGeom>
                      <a:avLst/>
                      <a:gdLst>
                        <a:gd name="textAreaLeft" fmla="*/ 0 w 30960"/>
                        <a:gd name="textAreaRight" fmla="*/ 31320 w 30960"/>
                        <a:gd name="textAreaTop" fmla="*/ 0 h 49680"/>
                        <a:gd name="textAreaBottom" fmla="*/ 50040 h 49680"/>
                      </a:gdLst>
                      <a:ahLst/>
                      <a:rect l="textAreaLeft" t="textAreaTop" r="textAreaRight" b="textAreaBottom"/>
                      <a:pathLst>
                        <a:path w="245" h="379">
                          <a:moveTo>
                            <a:pt x="67" y="0"/>
                          </a:moveTo>
                          <a:lnTo>
                            <a:pt x="67" y="0"/>
                          </a:lnTo>
                          <a:lnTo>
                            <a:pt x="44" y="22"/>
                          </a:lnTo>
                          <a:lnTo>
                            <a:pt x="22" y="56"/>
                          </a:lnTo>
                          <a:lnTo>
                            <a:pt x="11" y="89"/>
                          </a:lnTo>
                          <a:lnTo>
                            <a:pt x="0" y="122"/>
                          </a:lnTo>
                          <a:lnTo>
                            <a:pt x="0" y="156"/>
                          </a:lnTo>
                          <a:lnTo>
                            <a:pt x="11" y="189"/>
                          </a:lnTo>
                          <a:lnTo>
                            <a:pt x="11" y="223"/>
                          </a:lnTo>
                          <a:lnTo>
                            <a:pt x="22" y="245"/>
                          </a:lnTo>
                          <a:lnTo>
                            <a:pt x="44" y="278"/>
                          </a:lnTo>
                          <a:lnTo>
                            <a:pt x="67" y="301"/>
                          </a:lnTo>
                          <a:lnTo>
                            <a:pt x="89" y="334"/>
                          </a:lnTo>
                          <a:lnTo>
                            <a:pt x="111" y="345"/>
                          </a:lnTo>
                          <a:lnTo>
                            <a:pt x="145" y="368"/>
                          </a:lnTo>
                          <a:lnTo>
                            <a:pt x="178" y="379"/>
                          </a:lnTo>
                          <a:lnTo>
                            <a:pt x="211" y="379"/>
                          </a:lnTo>
                          <a:lnTo>
                            <a:pt x="245" y="379"/>
                          </a:lnTo>
                          <a:lnTo>
                            <a:pt x="245" y="368"/>
                          </a:lnTo>
                          <a:lnTo>
                            <a:pt x="211" y="368"/>
                          </a:lnTo>
                          <a:lnTo>
                            <a:pt x="178" y="368"/>
                          </a:lnTo>
                          <a:lnTo>
                            <a:pt x="145" y="356"/>
                          </a:lnTo>
                          <a:lnTo>
                            <a:pt x="122" y="334"/>
                          </a:lnTo>
                          <a:lnTo>
                            <a:pt x="100" y="323"/>
                          </a:lnTo>
                          <a:lnTo>
                            <a:pt x="78" y="301"/>
                          </a:lnTo>
                          <a:lnTo>
                            <a:pt x="55" y="267"/>
                          </a:lnTo>
                          <a:lnTo>
                            <a:pt x="44" y="245"/>
                          </a:lnTo>
                          <a:lnTo>
                            <a:pt x="22" y="212"/>
                          </a:lnTo>
                          <a:lnTo>
                            <a:pt x="22" y="189"/>
                          </a:lnTo>
                          <a:lnTo>
                            <a:pt x="11" y="156"/>
                          </a:lnTo>
                          <a:lnTo>
                            <a:pt x="11" y="122"/>
                          </a:lnTo>
                          <a:lnTo>
                            <a:pt x="22" y="89"/>
                          </a:lnTo>
                          <a:lnTo>
                            <a:pt x="33" y="67"/>
                          </a:lnTo>
                          <a:lnTo>
                            <a:pt x="55" y="33"/>
                          </a:lnTo>
                          <a:lnTo>
                            <a:pt x="78" y="11"/>
                          </a:lnTo>
                          <a:lnTo>
                            <a:pt x="67" y="0"/>
                          </a:lnTo>
                          <a:close/>
                        </a:path>
                      </a:pathLst>
                    </a:custGeom>
                    <a:solidFill>
                      <a:srgbClr val="000000"/>
                    </a:solidFill>
                    <a:ln w="0">
                      <a:noFill/>
                    </a:ln>
                  </p:spPr>
                  <p:style>
                    <a:lnRef idx="0"/>
                    <a:fillRef idx="0"/>
                    <a:effectRef idx="0"/>
                    <a:fontRef idx="minor"/>
                  </p:style>
                  <p:txBody>
                    <a:bodyPr lIns="90000" rIns="90000" tIns="3240" bIns="3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1816"/>
                    <p:cNvSpPr/>
                    <p:nvPr/>
                  </p:nvSpPr>
                  <p:spPr>
                    <a:xfrm rot="111600">
                      <a:off x="7999560" y="790200"/>
                      <a:ext cx="30960" cy="4320"/>
                    </a:xfrm>
                    <a:custGeom>
                      <a:avLst/>
                      <a:gdLst>
                        <a:gd name="textAreaLeft" fmla="*/ 0 w 30960"/>
                        <a:gd name="textAreaRight" fmla="*/ 31320 w 30960"/>
                        <a:gd name="textAreaTop" fmla="*/ 0 h 4320"/>
                        <a:gd name="textAreaBottom" fmla="*/ 4680 h 4320"/>
                      </a:gdLst>
                      <a:ahLst/>
                      <a:rect l="textAreaLeft" t="textAreaTop" r="textAreaRight" b="textAreaBottom"/>
                      <a:pathLst>
                        <a:path w="245" h="34">
                          <a:moveTo>
                            <a:pt x="234" y="23"/>
                          </a:moveTo>
                          <a:lnTo>
                            <a:pt x="234" y="23"/>
                          </a:lnTo>
                          <a:lnTo>
                            <a:pt x="222" y="23"/>
                          </a:lnTo>
                          <a:lnTo>
                            <a:pt x="200" y="12"/>
                          </a:lnTo>
                          <a:lnTo>
                            <a:pt x="189" y="12"/>
                          </a:lnTo>
                          <a:lnTo>
                            <a:pt x="167" y="12"/>
                          </a:lnTo>
                          <a:lnTo>
                            <a:pt x="156" y="12"/>
                          </a:lnTo>
                          <a:lnTo>
                            <a:pt x="133" y="0"/>
                          </a:lnTo>
                          <a:lnTo>
                            <a:pt x="122" y="0"/>
                          </a:lnTo>
                          <a:lnTo>
                            <a:pt x="111" y="0"/>
                          </a:lnTo>
                          <a:lnTo>
                            <a:pt x="89" y="0"/>
                          </a:lnTo>
                          <a:lnTo>
                            <a:pt x="78" y="0"/>
                          </a:lnTo>
                          <a:lnTo>
                            <a:pt x="66" y="0"/>
                          </a:lnTo>
                          <a:lnTo>
                            <a:pt x="55" y="0"/>
                          </a:lnTo>
                          <a:lnTo>
                            <a:pt x="33" y="0"/>
                          </a:lnTo>
                          <a:lnTo>
                            <a:pt x="22" y="12"/>
                          </a:lnTo>
                          <a:lnTo>
                            <a:pt x="11" y="12"/>
                          </a:lnTo>
                          <a:lnTo>
                            <a:pt x="0" y="23"/>
                          </a:lnTo>
                          <a:lnTo>
                            <a:pt x="11" y="34"/>
                          </a:lnTo>
                          <a:lnTo>
                            <a:pt x="22" y="23"/>
                          </a:lnTo>
                          <a:lnTo>
                            <a:pt x="33" y="23"/>
                          </a:lnTo>
                          <a:lnTo>
                            <a:pt x="44" y="23"/>
                          </a:lnTo>
                          <a:lnTo>
                            <a:pt x="55" y="12"/>
                          </a:lnTo>
                          <a:lnTo>
                            <a:pt x="66" y="12"/>
                          </a:lnTo>
                          <a:lnTo>
                            <a:pt x="78" y="12"/>
                          </a:lnTo>
                          <a:lnTo>
                            <a:pt x="89" y="12"/>
                          </a:lnTo>
                          <a:lnTo>
                            <a:pt x="111" y="12"/>
                          </a:lnTo>
                          <a:lnTo>
                            <a:pt x="122" y="12"/>
                          </a:lnTo>
                          <a:lnTo>
                            <a:pt x="133" y="23"/>
                          </a:lnTo>
                          <a:lnTo>
                            <a:pt x="156" y="23"/>
                          </a:lnTo>
                          <a:lnTo>
                            <a:pt x="167" y="23"/>
                          </a:lnTo>
                          <a:lnTo>
                            <a:pt x="189" y="23"/>
                          </a:lnTo>
                          <a:lnTo>
                            <a:pt x="200" y="34"/>
                          </a:lnTo>
                          <a:lnTo>
                            <a:pt x="222" y="34"/>
                          </a:lnTo>
                          <a:lnTo>
                            <a:pt x="234" y="34"/>
                          </a:lnTo>
                          <a:lnTo>
                            <a:pt x="245" y="34"/>
                          </a:lnTo>
                          <a:lnTo>
                            <a:pt x="234" y="23"/>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815"/>
                    <p:cNvSpPr/>
                    <p:nvPr/>
                  </p:nvSpPr>
                  <p:spPr>
                    <a:xfrm rot="111600">
                      <a:off x="8030520" y="744840"/>
                      <a:ext cx="60840" cy="51120"/>
                    </a:xfrm>
                    <a:custGeom>
                      <a:avLst/>
                      <a:gdLst>
                        <a:gd name="textAreaLeft" fmla="*/ 0 w 60840"/>
                        <a:gd name="textAreaRight" fmla="*/ 61200 w 60840"/>
                        <a:gd name="textAreaTop" fmla="*/ 0 h 51120"/>
                        <a:gd name="textAreaBottom" fmla="*/ 51480 h 51120"/>
                      </a:gdLst>
                      <a:ahLst/>
                      <a:rect l="textAreaLeft" t="textAreaTop" r="textAreaRight" b="textAreaBottom"/>
                      <a:pathLst>
                        <a:path w="479" h="390">
                          <a:moveTo>
                            <a:pt x="479" y="0"/>
                          </a:moveTo>
                          <a:lnTo>
                            <a:pt x="479" y="0"/>
                          </a:lnTo>
                          <a:lnTo>
                            <a:pt x="445" y="0"/>
                          </a:lnTo>
                          <a:lnTo>
                            <a:pt x="401" y="11"/>
                          </a:lnTo>
                          <a:lnTo>
                            <a:pt x="367" y="22"/>
                          </a:lnTo>
                          <a:lnTo>
                            <a:pt x="323" y="44"/>
                          </a:lnTo>
                          <a:lnTo>
                            <a:pt x="289" y="67"/>
                          </a:lnTo>
                          <a:lnTo>
                            <a:pt x="256" y="100"/>
                          </a:lnTo>
                          <a:lnTo>
                            <a:pt x="222" y="134"/>
                          </a:lnTo>
                          <a:lnTo>
                            <a:pt x="189" y="156"/>
                          </a:lnTo>
                          <a:lnTo>
                            <a:pt x="156" y="189"/>
                          </a:lnTo>
                          <a:lnTo>
                            <a:pt x="122" y="223"/>
                          </a:lnTo>
                          <a:lnTo>
                            <a:pt x="100" y="256"/>
                          </a:lnTo>
                          <a:lnTo>
                            <a:pt x="66" y="290"/>
                          </a:lnTo>
                          <a:lnTo>
                            <a:pt x="44" y="312"/>
                          </a:lnTo>
                          <a:lnTo>
                            <a:pt x="33" y="345"/>
                          </a:lnTo>
                          <a:lnTo>
                            <a:pt x="11" y="356"/>
                          </a:lnTo>
                          <a:lnTo>
                            <a:pt x="0" y="379"/>
                          </a:lnTo>
                          <a:lnTo>
                            <a:pt x="11" y="390"/>
                          </a:lnTo>
                          <a:lnTo>
                            <a:pt x="22" y="368"/>
                          </a:lnTo>
                          <a:lnTo>
                            <a:pt x="44" y="345"/>
                          </a:lnTo>
                          <a:lnTo>
                            <a:pt x="55" y="323"/>
                          </a:lnTo>
                          <a:lnTo>
                            <a:pt x="78" y="301"/>
                          </a:lnTo>
                          <a:lnTo>
                            <a:pt x="111" y="267"/>
                          </a:lnTo>
                          <a:lnTo>
                            <a:pt x="133" y="234"/>
                          </a:lnTo>
                          <a:lnTo>
                            <a:pt x="167" y="200"/>
                          </a:lnTo>
                          <a:lnTo>
                            <a:pt x="200" y="167"/>
                          </a:lnTo>
                          <a:lnTo>
                            <a:pt x="222" y="145"/>
                          </a:lnTo>
                          <a:lnTo>
                            <a:pt x="256" y="111"/>
                          </a:lnTo>
                          <a:lnTo>
                            <a:pt x="300" y="78"/>
                          </a:lnTo>
                          <a:lnTo>
                            <a:pt x="334" y="56"/>
                          </a:lnTo>
                          <a:lnTo>
                            <a:pt x="367" y="33"/>
                          </a:lnTo>
                          <a:lnTo>
                            <a:pt x="412" y="22"/>
                          </a:lnTo>
                          <a:lnTo>
                            <a:pt x="445" y="11"/>
                          </a:lnTo>
                          <a:lnTo>
                            <a:pt x="479" y="11"/>
                          </a:lnTo>
                          <a:lnTo>
                            <a:pt x="479" y="0"/>
                          </a:lnTo>
                          <a:close/>
                        </a:path>
                      </a:pathLst>
                    </a:custGeom>
                    <a:solidFill>
                      <a:srgbClr val="000000"/>
                    </a:solidFill>
                    <a:ln w="0">
                      <a:noFill/>
                    </a:ln>
                  </p:spPr>
                  <p:style>
                    <a:lnRef idx="0"/>
                    <a:fillRef idx="0"/>
                    <a:effectRef idx="0"/>
                    <a:fontRef idx="minor"/>
                  </p:style>
                  <p:txBody>
                    <a:bodyPr lIns="90000" rIns="90000" tIns="4680" bIns="4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1814"/>
                    <p:cNvSpPr/>
                    <p:nvPr/>
                  </p:nvSpPr>
                  <p:spPr>
                    <a:xfrm rot="111600">
                      <a:off x="8062200" y="868680"/>
                      <a:ext cx="2520" cy="1440"/>
                    </a:xfrm>
                    <a:custGeom>
                      <a:avLst/>
                      <a:gdLst>
                        <a:gd name="textAreaLeft" fmla="*/ 0 w 2520"/>
                        <a:gd name="textAreaRight" fmla="*/ 2880 w 2520"/>
                        <a:gd name="textAreaTop" fmla="*/ 0 h 1440"/>
                        <a:gd name="textAreaBottom" fmla="*/ 1800 h 1440"/>
                      </a:gdLst>
                      <a:ahLst/>
                      <a:rect l="textAreaLeft" t="textAreaTop" r="textAreaRight" b="textAreaBottom"/>
                      <a:pathLst>
                        <a:path w="22" h="11">
                          <a:moveTo>
                            <a:pt x="22" y="11"/>
                          </a:moveTo>
                          <a:lnTo>
                            <a:pt x="11" y="11"/>
                          </a:lnTo>
                          <a:lnTo>
                            <a:pt x="11" y="0"/>
                          </a:lnTo>
                          <a:lnTo>
                            <a:pt x="11" y="11"/>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1813"/>
                    <p:cNvSpPr/>
                    <p:nvPr/>
                  </p:nvSpPr>
                  <p:spPr>
                    <a:xfrm rot="111600">
                      <a:off x="8046720" y="869400"/>
                      <a:ext cx="18360" cy="13320"/>
                    </a:xfrm>
                    <a:custGeom>
                      <a:avLst/>
                      <a:gdLst>
                        <a:gd name="textAreaLeft" fmla="*/ 0 w 18360"/>
                        <a:gd name="textAreaRight" fmla="*/ 18720 w 18360"/>
                        <a:gd name="textAreaTop" fmla="*/ 0 h 13320"/>
                        <a:gd name="textAreaBottom" fmla="*/ 13680 h 13320"/>
                      </a:gdLst>
                      <a:ahLst/>
                      <a:rect l="textAreaLeft" t="textAreaTop" r="textAreaRight" b="textAreaBottom"/>
                      <a:pathLst>
                        <a:path w="144" h="101">
                          <a:moveTo>
                            <a:pt x="0" y="101"/>
                          </a:moveTo>
                          <a:lnTo>
                            <a:pt x="22" y="101"/>
                          </a:lnTo>
                          <a:lnTo>
                            <a:pt x="44" y="89"/>
                          </a:lnTo>
                          <a:lnTo>
                            <a:pt x="66" y="89"/>
                          </a:lnTo>
                          <a:lnTo>
                            <a:pt x="89" y="78"/>
                          </a:lnTo>
                          <a:lnTo>
                            <a:pt x="100" y="67"/>
                          </a:lnTo>
                          <a:lnTo>
                            <a:pt x="122" y="45"/>
                          </a:lnTo>
                          <a:lnTo>
                            <a:pt x="133" y="22"/>
                          </a:lnTo>
                          <a:lnTo>
                            <a:pt x="144" y="0"/>
                          </a:lnTo>
                          <a:lnTo>
                            <a:pt x="122" y="0"/>
                          </a:lnTo>
                          <a:lnTo>
                            <a:pt x="122" y="22"/>
                          </a:lnTo>
                          <a:lnTo>
                            <a:pt x="111" y="34"/>
                          </a:lnTo>
                          <a:lnTo>
                            <a:pt x="89" y="56"/>
                          </a:lnTo>
                          <a:lnTo>
                            <a:pt x="78" y="67"/>
                          </a:lnTo>
                          <a:lnTo>
                            <a:pt x="55" y="67"/>
                          </a:lnTo>
                          <a:lnTo>
                            <a:pt x="44" y="78"/>
                          </a:lnTo>
                          <a:lnTo>
                            <a:pt x="22" y="78"/>
                          </a:lnTo>
                          <a:lnTo>
                            <a:pt x="0" y="89"/>
                          </a:lnTo>
                          <a:lnTo>
                            <a:pt x="0" y="101"/>
                          </a:lnTo>
                          <a:close/>
                        </a:path>
                      </a:pathLst>
                    </a:custGeom>
                    <a:solidFill>
                      <a:srgbClr val="000000"/>
                    </a:solidFill>
                    <a:ln w="0">
                      <a:no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1812"/>
                    <p:cNvSpPr/>
                    <p:nvPr/>
                  </p:nvSpPr>
                  <p:spPr>
                    <a:xfrm rot="111600">
                      <a:off x="8062200" y="868680"/>
                      <a:ext cx="1080" cy="2880"/>
                    </a:xfrm>
                    <a:custGeom>
                      <a:avLst/>
                      <a:gdLst>
                        <a:gd name="textAreaLeft" fmla="*/ 0 w 1080"/>
                        <a:gd name="textAreaRight" fmla="*/ 1440 w 1080"/>
                        <a:gd name="textAreaTop" fmla="*/ 0 h 2880"/>
                        <a:gd name="textAreaBottom" fmla="*/ 3240 h 2880"/>
                      </a:gdLst>
                      <a:ahLst/>
                      <a:rect l="textAreaLeft" t="textAreaTop" r="textAreaRight" b="textAreaBottom"/>
                      <a:pathLst>
                        <a:path w="11" h="22">
                          <a:moveTo>
                            <a:pt x="11" y="0"/>
                          </a:moveTo>
                          <a:lnTo>
                            <a:pt x="11" y="11"/>
                          </a:lnTo>
                          <a:lnTo>
                            <a:pt x="0" y="11"/>
                          </a:lnTo>
                          <a:lnTo>
                            <a:pt x="11" y="11"/>
                          </a:lnTo>
                          <a:lnTo>
                            <a:pt x="11" y="22"/>
                          </a:lnTo>
                          <a:lnTo>
                            <a:pt x="11"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811"/>
                    <p:cNvSpPr/>
                    <p:nvPr/>
                  </p:nvSpPr>
                  <p:spPr>
                    <a:xfrm rot="111600">
                      <a:off x="8119440" y="873360"/>
                      <a:ext cx="2520" cy="360"/>
                    </a:xfrm>
                    <a:custGeom>
                      <a:avLst/>
                      <a:gdLst>
                        <a:gd name="textAreaLeft" fmla="*/ 0 w 2520"/>
                        <a:gd name="textAreaRight" fmla="*/ 2880 w 2520"/>
                        <a:gd name="textAreaTop" fmla="*/ 0 h 360"/>
                        <a:gd name="textAreaBottom" fmla="*/ 720 h 360"/>
                      </a:gdLst>
                      <a:ahLst/>
                      <a:rect l="textAreaLeft" t="textAreaTop" r="textAreaRight" b="textAreaBottom"/>
                      <a:pathLst>
                        <a:path w="22" h="1">
                          <a:moveTo>
                            <a:pt x="22" y="0"/>
                          </a:moveTo>
                          <a:lnTo>
                            <a:pt x="11" y="0"/>
                          </a:lnTo>
                          <a:lnTo>
                            <a:pt x="0" y="0"/>
                          </a:lnTo>
                          <a:lnTo>
                            <a:pt x="22"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810"/>
                    <p:cNvSpPr/>
                    <p:nvPr/>
                  </p:nvSpPr>
                  <p:spPr>
                    <a:xfrm rot="111600">
                      <a:off x="8119440" y="873360"/>
                      <a:ext cx="18360" cy="14760"/>
                    </a:xfrm>
                    <a:custGeom>
                      <a:avLst/>
                      <a:gdLst>
                        <a:gd name="textAreaLeft" fmla="*/ 0 w 18360"/>
                        <a:gd name="textAreaRight" fmla="*/ 18720 w 18360"/>
                        <a:gd name="textAreaTop" fmla="*/ 0 h 14760"/>
                        <a:gd name="textAreaBottom" fmla="*/ 15120 h 14760"/>
                      </a:gdLst>
                      <a:ahLst/>
                      <a:rect l="textAreaLeft" t="textAreaTop" r="textAreaRight" b="textAreaBottom"/>
                      <a:pathLst>
                        <a:path w="145" h="112">
                          <a:moveTo>
                            <a:pt x="145" y="101"/>
                          </a:moveTo>
                          <a:lnTo>
                            <a:pt x="111" y="101"/>
                          </a:lnTo>
                          <a:lnTo>
                            <a:pt x="89" y="101"/>
                          </a:lnTo>
                          <a:lnTo>
                            <a:pt x="67" y="90"/>
                          </a:lnTo>
                          <a:lnTo>
                            <a:pt x="45" y="90"/>
                          </a:lnTo>
                          <a:lnTo>
                            <a:pt x="33" y="78"/>
                          </a:lnTo>
                          <a:lnTo>
                            <a:pt x="22" y="56"/>
                          </a:lnTo>
                          <a:lnTo>
                            <a:pt x="22" y="34"/>
                          </a:lnTo>
                          <a:lnTo>
                            <a:pt x="22" y="0"/>
                          </a:lnTo>
                          <a:lnTo>
                            <a:pt x="0" y="0"/>
                          </a:lnTo>
                          <a:lnTo>
                            <a:pt x="11" y="34"/>
                          </a:lnTo>
                          <a:lnTo>
                            <a:pt x="11" y="67"/>
                          </a:lnTo>
                          <a:lnTo>
                            <a:pt x="22" y="90"/>
                          </a:lnTo>
                          <a:lnTo>
                            <a:pt x="45" y="101"/>
                          </a:lnTo>
                          <a:lnTo>
                            <a:pt x="67" y="112"/>
                          </a:lnTo>
                          <a:lnTo>
                            <a:pt x="89" y="112"/>
                          </a:lnTo>
                          <a:lnTo>
                            <a:pt x="111" y="112"/>
                          </a:lnTo>
                          <a:lnTo>
                            <a:pt x="145" y="112"/>
                          </a:lnTo>
                          <a:lnTo>
                            <a:pt x="145" y="101"/>
                          </a:lnTo>
                          <a:close/>
                        </a:path>
                      </a:pathLst>
                    </a:custGeom>
                    <a:solidFill>
                      <a:srgbClr val="000000"/>
                    </a:solidFill>
                    <a:ln w="0">
                      <a:noFill/>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809"/>
                    <p:cNvSpPr/>
                    <p:nvPr/>
                  </p:nvSpPr>
                  <p:spPr>
                    <a:xfrm rot="111600">
                      <a:off x="8120520" y="87336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0" y="11"/>
                          </a:moveTo>
                          <a:lnTo>
                            <a:pt x="0" y="0"/>
                          </a:lnTo>
                          <a:lnTo>
                            <a:pt x="11" y="0"/>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808"/>
                    <p:cNvSpPr/>
                    <p:nvPr/>
                  </p:nvSpPr>
                  <p:spPr>
                    <a:xfrm rot="111600">
                      <a:off x="8076240" y="795600"/>
                      <a:ext cx="4320" cy="2880"/>
                    </a:xfrm>
                    <a:custGeom>
                      <a:avLst/>
                      <a:gdLst>
                        <a:gd name="textAreaLeft" fmla="*/ 0 w 4320"/>
                        <a:gd name="textAreaRight" fmla="*/ 4680 w 4320"/>
                        <a:gd name="textAreaTop" fmla="*/ 0 h 2880"/>
                        <a:gd name="textAreaBottom" fmla="*/ 3240 h 2880"/>
                      </a:gdLst>
                      <a:ahLst/>
                      <a:rect l="textAreaLeft" t="textAreaTop" r="textAreaRight" b="textAreaBottom"/>
                      <a:pathLst>
                        <a:path w="34" h="22">
                          <a:moveTo>
                            <a:pt x="34" y="22"/>
                          </a:moveTo>
                          <a:lnTo>
                            <a:pt x="34" y="0"/>
                          </a:lnTo>
                          <a:lnTo>
                            <a:pt x="11" y="0"/>
                          </a:lnTo>
                          <a:lnTo>
                            <a:pt x="0" y="0"/>
                          </a:lnTo>
                          <a:lnTo>
                            <a:pt x="0" y="22"/>
                          </a:lnTo>
                          <a:lnTo>
                            <a:pt x="34" y="22"/>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807"/>
                    <p:cNvSpPr/>
                    <p:nvPr/>
                  </p:nvSpPr>
                  <p:spPr>
                    <a:xfrm rot="111600">
                      <a:off x="8071920" y="798120"/>
                      <a:ext cx="8280" cy="12960"/>
                    </a:xfrm>
                    <a:custGeom>
                      <a:avLst/>
                      <a:gdLst>
                        <a:gd name="textAreaLeft" fmla="*/ 0 w 8280"/>
                        <a:gd name="textAreaRight" fmla="*/ 8640 w 8280"/>
                        <a:gd name="textAreaTop" fmla="*/ 0 h 12960"/>
                        <a:gd name="textAreaBottom" fmla="*/ 13320 h 12960"/>
                      </a:gdLst>
                      <a:ahLst/>
                      <a:rect l="textAreaLeft" t="textAreaTop" r="textAreaRight" b="textAreaBottom"/>
                      <a:pathLst>
                        <a:path w="67" h="100">
                          <a:moveTo>
                            <a:pt x="44" y="100"/>
                          </a:moveTo>
                          <a:lnTo>
                            <a:pt x="44" y="78"/>
                          </a:lnTo>
                          <a:lnTo>
                            <a:pt x="56" y="56"/>
                          </a:lnTo>
                          <a:lnTo>
                            <a:pt x="67" y="22"/>
                          </a:lnTo>
                          <a:lnTo>
                            <a:pt x="67" y="0"/>
                          </a:lnTo>
                          <a:lnTo>
                            <a:pt x="33" y="0"/>
                          </a:lnTo>
                          <a:lnTo>
                            <a:pt x="22" y="22"/>
                          </a:lnTo>
                          <a:lnTo>
                            <a:pt x="22" y="45"/>
                          </a:lnTo>
                          <a:lnTo>
                            <a:pt x="11" y="67"/>
                          </a:lnTo>
                          <a:lnTo>
                            <a:pt x="0" y="100"/>
                          </a:lnTo>
                          <a:lnTo>
                            <a:pt x="44" y="10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1806"/>
                    <p:cNvSpPr/>
                    <p:nvPr/>
                  </p:nvSpPr>
                  <p:spPr>
                    <a:xfrm rot="111600">
                      <a:off x="8076240" y="798480"/>
                      <a:ext cx="4320" cy="1440"/>
                    </a:xfrm>
                    <a:custGeom>
                      <a:avLst/>
                      <a:gdLst>
                        <a:gd name="textAreaLeft" fmla="*/ 0 w 4320"/>
                        <a:gd name="textAreaRight" fmla="*/ 4680 w 4320"/>
                        <a:gd name="textAreaTop" fmla="*/ 0 h 1440"/>
                        <a:gd name="textAreaBottom" fmla="*/ 1800 h 1440"/>
                      </a:gdLst>
                      <a:ahLst/>
                      <a:rect l="textAreaLeft" t="textAreaTop" r="textAreaRight" b="textAreaBottom"/>
                      <a:pathLst>
                        <a:path w="34" h="11">
                          <a:moveTo>
                            <a:pt x="0" y="0"/>
                          </a:moveTo>
                          <a:lnTo>
                            <a:pt x="0" y="11"/>
                          </a:lnTo>
                          <a:lnTo>
                            <a:pt x="11" y="11"/>
                          </a:lnTo>
                          <a:lnTo>
                            <a:pt x="34" y="11"/>
                          </a:lnTo>
                          <a:lnTo>
                            <a:pt x="34"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805"/>
                    <p:cNvSpPr/>
                    <p:nvPr/>
                  </p:nvSpPr>
                  <p:spPr>
                    <a:xfrm rot="111600">
                      <a:off x="8111880" y="799560"/>
                      <a:ext cx="3960" cy="2880"/>
                    </a:xfrm>
                    <a:custGeom>
                      <a:avLst/>
                      <a:gdLst>
                        <a:gd name="textAreaLeft" fmla="*/ 0 w 3960"/>
                        <a:gd name="textAreaRight" fmla="*/ 4320 w 3960"/>
                        <a:gd name="textAreaTop" fmla="*/ 0 h 2880"/>
                        <a:gd name="textAreaBottom" fmla="*/ 3240 h 2880"/>
                      </a:gdLst>
                      <a:ahLst/>
                      <a:rect l="textAreaLeft" t="textAreaTop" r="textAreaRight" b="textAreaBottom"/>
                      <a:pathLst>
                        <a:path w="33" h="22">
                          <a:moveTo>
                            <a:pt x="33" y="11"/>
                          </a:moveTo>
                          <a:lnTo>
                            <a:pt x="22" y="11"/>
                          </a:lnTo>
                          <a:lnTo>
                            <a:pt x="22" y="0"/>
                          </a:lnTo>
                          <a:lnTo>
                            <a:pt x="11" y="0"/>
                          </a:lnTo>
                          <a:lnTo>
                            <a:pt x="0" y="0"/>
                          </a:lnTo>
                          <a:lnTo>
                            <a:pt x="0" y="11"/>
                          </a:lnTo>
                          <a:lnTo>
                            <a:pt x="0" y="22"/>
                          </a:lnTo>
                          <a:lnTo>
                            <a:pt x="33"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804"/>
                    <p:cNvSpPr/>
                    <p:nvPr/>
                  </p:nvSpPr>
                  <p:spPr>
                    <a:xfrm rot="111600">
                      <a:off x="8111880" y="801000"/>
                      <a:ext cx="8280" cy="16200"/>
                    </a:xfrm>
                    <a:custGeom>
                      <a:avLst/>
                      <a:gdLst>
                        <a:gd name="textAreaLeft" fmla="*/ 0 w 8280"/>
                        <a:gd name="textAreaRight" fmla="*/ 8640 w 8280"/>
                        <a:gd name="textAreaTop" fmla="*/ 0 h 16200"/>
                        <a:gd name="textAreaBottom" fmla="*/ 16560 h 16200"/>
                      </a:gdLst>
                      <a:ahLst/>
                      <a:rect l="textAreaLeft" t="textAreaTop" r="textAreaRight" b="textAreaBottom"/>
                      <a:pathLst>
                        <a:path w="67" h="123">
                          <a:moveTo>
                            <a:pt x="67" y="112"/>
                          </a:moveTo>
                          <a:lnTo>
                            <a:pt x="56" y="78"/>
                          </a:lnTo>
                          <a:lnTo>
                            <a:pt x="45" y="56"/>
                          </a:lnTo>
                          <a:lnTo>
                            <a:pt x="45" y="34"/>
                          </a:lnTo>
                          <a:lnTo>
                            <a:pt x="33" y="0"/>
                          </a:lnTo>
                          <a:lnTo>
                            <a:pt x="0" y="11"/>
                          </a:lnTo>
                          <a:lnTo>
                            <a:pt x="0" y="45"/>
                          </a:lnTo>
                          <a:lnTo>
                            <a:pt x="11" y="67"/>
                          </a:lnTo>
                          <a:lnTo>
                            <a:pt x="22" y="89"/>
                          </a:lnTo>
                          <a:lnTo>
                            <a:pt x="33" y="123"/>
                          </a:lnTo>
                          <a:lnTo>
                            <a:pt x="67" y="11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803"/>
                    <p:cNvSpPr/>
                    <p:nvPr/>
                  </p:nvSpPr>
                  <p:spPr>
                    <a:xfrm rot="111600">
                      <a:off x="8111880" y="801000"/>
                      <a:ext cx="3960" cy="2880"/>
                    </a:xfrm>
                    <a:custGeom>
                      <a:avLst/>
                      <a:gdLst>
                        <a:gd name="textAreaLeft" fmla="*/ 0 w 3960"/>
                        <a:gd name="textAreaRight" fmla="*/ 4320 w 3960"/>
                        <a:gd name="textAreaTop" fmla="*/ 0 h 2880"/>
                        <a:gd name="textAreaBottom" fmla="*/ 3240 h 2880"/>
                      </a:gdLst>
                      <a:ahLst/>
                      <a:rect l="textAreaLeft" t="textAreaTop" r="textAreaRight" b="textAreaBottom"/>
                      <a:pathLst>
                        <a:path w="33" h="23">
                          <a:moveTo>
                            <a:pt x="0" y="11"/>
                          </a:moveTo>
                          <a:lnTo>
                            <a:pt x="0" y="23"/>
                          </a:lnTo>
                          <a:lnTo>
                            <a:pt x="11" y="23"/>
                          </a:lnTo>
                          <a:lnTo>
                            <a:pt x="22" y="23"/>
                          </a:lnTo>
                          <a:lnTo>
                            <a:pt x="33" y="11"/>
                          </a:lnTo>
                          <a:lnTo>
                            <a:pt x="33" y="0"/>
                          </a:lnTo>
                          <a:lnTo>
                            <a:pt x="0"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802"/>
                    <p:cNvSpPr/>
                    <p:nvPr/>
                  </p:nvSpPr>
                  <p:spPr>
                    <a:xfrm rot="111600">
                      <a:off x="8107560" y="840600"/>
                      <a:ext cx="1080" cy="360"/>
                    </a:xfrm>
                    <a:custGeom>
                      <a:avLst/>
                      <a:gdLst>
                        <a:gd name="textAreaLeft" fmla="*/ 0 w 1080"/>
                        <a:gd name="textAreaRight" fmla="*/ 1440 w 1080"/>
                        <a:gd name="textAreaTop" fmla="*/ 0 h 360"/>
                        <a:gd name="textAreaBottom" fmla="*/ 720 h 360"/>
                      </a:gdLst>
                      <a:ahLst/>
                      <a:rect l="textAreaLeft" t="textAreaTop" r="textAreaRight" b="textAreaBottom"/>
                      <a:pathLst>
                        <a:path w="11" h="1">
                          <a:moveTo>
                            <a:pt x="0" y="0"/>
                          </a:moveTo>
                          <a:lnTo>
                            <a:pt x="0" y="0"/>
                          </a:lnTo>
                          <a:lnTo>
                            <a:pt x="11"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801"/>
                    <p:cNvSpPr/>
                    <p:nvPr/>
                  </p:nvSpPr>
                  <p:spPr>
                    <a:xfrm rot="111600">
                      <a:off x="8094960" y="824040"/>
                      <a:ext cx="14040" cy="15840"/>
                    </a:xfrm>
                    <a:custGeom>
                      <a:avLst/>
                      <a:gdLst>
                        <a:gd name="textAreaLeft" fmla="*/ 0 w 14040"/>
                        <a:gd name="textAreaRight" fmla="*/ 14400 w 14040"/>
                        <a:gd name="textAreaTop" fmla="*/ 0 h 15840"/>
                        <a:gd name="textAreaBottom" fmla="*/ 16200 h 15840"/>
                      </a:gdLst>
                      <a:ahLst/>
                      <a:rect l="textAreaLeft" t="textAreaTop" r="textAreaRight" b="textAreaBottom"/>
                      <a:pathLst>
                        <a:path w="112" h="122">
                          <a:moveTo>
                            <a:pt x="0" y="22"/>
                          </a:moveTo>
                          <a:lnTo>
                            <a:pt x="0" y="22"/>
                          </a:lnTo>
                          <a:lnTo>
                            <a:pt x="12" y="22"/>
                          </a:lnTo>
                          <a:lnTo>
                            <a:pt x="34" y="33"/>
                          </a:lnTo>
                          <a:lnTo>
                            <a:pt x="45" y="44"/>
                          </a:lnTo>
                          <a:lnTo>
                            <a:pt x="56" y="55"/>
                          </a:lnTo>
                          <a:lnTo>
                            <a:pt x="78" y="66"/>
                          </a:lnTo>
                          <a:lnTo>
                            <a:pt x="90" y="89"/>
                          </a:lnTo>
                          <a:lnTo>
                            <a:pt x="90" y="100"/>
                          </a:lnTo>
                          <a:lnTo>
                            <a:pt x="101" y="122"/>
                          </a:lnTo>
                          <a:lnTo>
                            <a:pt x="112" y="122"/>
                          </a:lnTo>
                          <a:lnTo>
                            <a:pt x="112" y="100"/>
                          </a:lnTo>
                          <a:lnTo>
                            <a:pt x="101" y="78"/>
                          </a:lnTo>
                          <a:lnTo>
                            <a:pt x="90" y="55"/>
                          </a:lnTo>
                          <a:lnTo>
                            <a:pt x="67" y="44"/>
                          </a:lnTo>
                          <a:lnTo>
                            <a:pt x="56" y="33"/>
                          </a:lnTo>
                          <a:lnTo>
                            <a:pt x="34" y="11"/>
                          </a:lnTo>
                          <a:lnTo>
                            <a:pt x="23" y="11"/>
                          </a:lnTo>
                          <a:lnTo>
                            <a:pt x="0" y="0"/>
                          </a:lnTo>
                          <a:lnTo>
                            <a:pt x="0" y="22"/>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800"/>
                    <p:cNvSpPr/>
                    <p:nvPr/>
                  </p:nvSpPr>
                  <p:spPr>
                    <a:xfrm rot="111600">
                      <a:off x="8076600" y="823320"/>
                      <a:ext cx="18360" cy="15840"/>
                    </a:xfrm>
                    <a:custGeom>
                      <a:avLst/>
                      <a:gdLst>
                        <a:gd name="textAreaLeft" fmla="*/ 0 w 18360"/>
                        <a:gd name="textAreaRight" fmla="*/ 18720 w 18360"/>
                        <a:gd name="textAreaTop" fmla="*/ 0 h 15840"/>
                        <a:gd name="textAreaBottom" fmla="*/ 16200 h 15840"/>
                      </a:gdLst>
                      <a:ahLst/>
                      <a:rect l="textAreaLeft" t="textAreaTop" r="textAreaRight" b="textAreaBottom"/>
                      <a:pathLst>
                        <a:path w="145" h="122">
                          <a:moveTo>
                            <a:pt x="12" y="122"/>
                          </a:moveTo>
                          <a:lnTo>
                            <a:pt x="23" y="100"/>
                          </a:lnTo>
                          <a:lnTo>
                            <a:pt x="34" y="89"/>
                          </a:lnTo>
                          <a:lnTo>
                            <a:pt x="45" y="66"/>
                          </a:lnTo>
                          <a:lnTo>
                            <a:pt x="56" y="44"/>
                          </a:lnTo>
                          <a:lnTo>
                            <a:pt x="79" y="33"/>
                          </a:lnTo>
                          <a:lnTo>
                            <a:pt x="101" y="22"/>
                          </a:lnTo>
                          <a:lnTo>
                            <a:pt x="123" y="22"/>
                          </a:lnTo>
                          <a:lnTo>
                            <a:pt x="145" y="22"/>
                          </a:lnTo>
                          <a:lnTo>
                            <a:pt x="145" y="0"/>
                          </a:lnTo>
                          <a:lnTo>
                            <a:pt x="123" y="0"/>
                          </a:lnTo>
                          <a:lnTo>
                            <a:pt x="90" y="11"/>
                          </a:lnTo>
                          <a:lnTo>
                            <a:pt x="67" y="22"/>
                          </a:lnTo>
                          <a:lnTo>
                            <a:pt x="56" y="33"/>
                          </a:lnTo>
                          <a:lnTo>
                            <a:pt x="34" y="55"/>
                          </a:lnTo>
                          <a:lnTo>
                            <a:pt x="23" y="78"/>
                          </a:lnTo>
                          <a:lnTo>
                            <a:pt x="0" y="100"/>
                          </a:lnTo>
                          <a:lnTo>
                            <a:pt x="0" y="122"/>
                          </a:lnTo>
                          <a:lnTo>
                            <a:pt x="12" y="122"/>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1799"/>
                    <p:cNvSpPr/>
                    <p:nvPr/>
                  </p:nvSpPr>
                  <p:spPr>
                    <a:xfrm rot="111600">
                      <a:off x="8093520" y="825480"/>
                      <a:ext cx="1080" cy="360"/>
                    </a:xfrm>
                    <a:custGeom>
                      <a:avLst/>
                      <a:gdLst>
                        <a:gd name="textAreaLeft" fmla="*/ 0 w 1080"/>
                        <a:gd name="textAreaRight" fmla="*/ 1440 w 1080"/>
                        <a:gd name="textAreaTop" fmla="*/ 0 h 360"/>
                        <a:gd name="textAreaBottom" fmla="*/ 720 h 360"/>
                      </a:gdLst>
                      <a:ahLst/>
                      <a:rect l="textAreaLeft" t="textAreaTop" r="textAreaRight" b="textAreaBottom"/>
                      <a:pathLst>
                        <a:path w="11" h="1">
                          <a:moveTo>
                            <a:pt x="0" y="0"/>
                          </a:moveTo>
                          <a:lnTo>
                            <a:pt x="0" y="0"/>
                          </a:lnTo>
                          <a:lnTo>
                            <a:pt x="11"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798"/>
                    <p:cNvSpPr/>
                    <p:nvPr/>
                  </p:nvSpPr>
                  <p:spPr>
                    <a:xfrm rot="111600">
                      <a:off x="8055000" y="880200"/>
                      <a:ext cx="1440" cy="1080"/>
                    </a:xfrm>
                    <a:custGeom>
                      <a:avLst/>
                      <a:gdLst>
                        <a:gd name="textAreaLeft" fmla="*/ 0 w 1440"/>
                        <a:gd name="textAreaRight" fmla="*/ 1800 w 1440"/>
                        <a:gd name="textAreaTop" fmla="*/ 0 h 1080"/>
                        <a:gd name="textAreaBottom" fmla="*/ 1440 h 1080"/>
                      </a:gdLst>
                      <a:ahLst/>
                      <a:rect l="textAreaLeft" t="textAreaTop" r="textAreaRight" b="textAreaBottom"/>
                      <a:pathLst>
                        <a:path w="12" h="11">
                          <a:moveTo>
                            <a:pt x="12" y="0"/>
                          </a:moveTo>
                          <a:lnTo>
                            <a:pt x="0" y="0"/>
                          </a:lnTo>
                          <a:lnTo>
                            <a:pt x="0" y="11"/>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1797"/>
                    <p:cNvSpPr/>
                    <p:nvPr/>
                  </p:nvSpPr>
                  <p:spPr>
                    <a:xfrm rot="111600">
                      <a:off x="8055000" y="880200"/>
                      <a:ext cx="5400" cy="10080"/>
                    </a:xfrm>
                    <a:custGeom>
                      <a:avLst/>
                      <a:gdLst>
                        <a:gd name="textAreaLeft" fmla="*/ 0 w 5400"/>
                        <a:gd name="textAreaRight" fmla="*/ 5760 w 5400"/>
                        <a:gd name="textAreaTop" fmla="*/ 0 h 10080"/>
                        <a:gd name="textAreaBottom" fmla="*/ 10440 h 10080"/>
                      </a:gdLst>
                      <a:ahLst/>
                      <a:rect l="textAreaLeft" t="textAreaTop" r="textAreaRight" b="textAreaBottom"/>
                      <a:pathLst>
                        <a:path w="45" h="78">
                          <a:moveTo>
                            <a:pt x="45" y="67"/>
                          </a:moveTo>
                          <a:lnTo>
                            <a:pt x="45" y="67"/>
                          </a:lnTo>
                          <a:lnTo>
                            <a:pt x="34" y="56"/>
                          </a:lnTo>
                          <a:lnTo>
                            <a:pt x="34" y="34"/>
                          </a:lnTo>
                          <a:lnTo>
                            <a:pt x="23" y="11"/>
                          </a:lnTo>
                          <a:lnTo>
                            <a:pt x="12" y="0"/>
                          </a:lnTo>
                          <a:lnTo>
                            <a:pt x="0" y="11"/>
                          </a:lnTo>
                          <a:lnTo>
                            <a:pt x="12" y="23"/>
                          </a:lnTo>
                          <a:lnTo>
                            <a:pt x="23" y="45"/>
                          </a:lnTo>
                          <a:lnTo>
                            <a:pt x="23" y="56"/>
                          </a:lnTo>
                          <a:lnTo>
                            <a:pt x="34" y="78"/>
                          </a:lnTo>
                          <a:lnTo>
                            <a:pt x="45" y="67"/>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796"/>
                    <p:cNvSpPr/>
                    <p:nvPr/>
                  </p:nvSpPr>
                  <p:spPr>
                    <a:xfrm rot="111600">
                      <a:off x="8058960" y="889200"/>
                      <a:ext cx="43920" cy="17640"/>
                    </a:xfrm>
                    <a:custGeom>
                      <a:avLst/>
                      <a:gdLst>
                        <a:gd name="textAreaLeft" fmla="*/ 0 w 43920"/>
                        <a:gd name="textAreaRight" fmla="*/ 44280 w 43920"/>
                        <a:gd name="textAreaTop" fmla="*/ 0 h 17640"/>
                        <a:gd name="textAreaBottom" fmla="*/ 18000 h 17640"/>
                      </a:gdLst>
                      <a:ahLst/>
                      <a:rect l="textAreaLeft" t="textAreaTop" r="textAreaRight" b="textAreaBottom"/>
                      <a:pathLst>
                        <a:path w="345" h="134">
                          <a:moveTo>
                            <a:pt x="345" y="100"/>
                          </a:moveTo>
                          <a:lnTo>
                            <a:pt x="345" y="100"/>
                          </a:lnTo>
                          <a:lnTo>
                            <a:pt x="323" y="112"/>
                          </a:lnTo>
                          <a:lnTo>
                            <a:pt x="290" y="123"/>
                          </a:lnTo>
                          <a:lnTo>
                            <a:pt x="267" y="123"/>
                          </a:lnTo>
                          <a:lnTo>
                            <a:pt x="245" y="123"/>
                          </a:lnTo>
                          <a:lnTo>
                            <a:pt x="223" y="123"/>
                          </a:lnTo>
                          <a:lnTo>
                            <a:pt x="201" y="123"/>
                          </a:lnTo>
                          <a:lnTo>
                            <a:pt x="178" y="112"/>
                          </a:lnTo>
                          <a:lnTo>
                            <a:pt x="156" y="112"/>
                          </a:lnTo>
                          <a:lnTo>
                            <a:pt x="145" y="100"/>
                          </a:lnTo>
                          <a:lnTo>
                            <a:pt x="122" y="89"/>
                          </a:lnTo>
                          <a:lnTo>
                            <a:pt x="100" y="78"/>
                          </a:lnTo>
                          <a:lnTo>
                            <a:pt x="78" y="67"/>
                          </a:lnTo>
                          <a:lnTo>
                            <a:pt x="67" y="56"/>
                          </a:lnTo>
                          <a:lnTo>
                            <a:pt x="44" y="45"/>
                          </a:lnTo>
                          <a:lnTo>
                            <a:pt x="33" y="22"/>
                          </a:lnTo>
                          <a:lnTo>
                            <a:pt x="11" y="0"/>
                          </a:lnTo>
                          <a:lnTo>
                            <a:pt x="0" y="11"/>
                          </a:lnTo>
                          <a:lnTo>
                            <a:pt x="22" y="34"/>
                          </a:lnTo>
                          <a:lnTo>
                            <a:pt x="33" y="56"/>
                          </a:lnTo>
                          <a:lnTo>
                            <a:pt x="56" y="67"/>
                          </a:lnTo>
                          <a:lnTo>
                            <a:pt x="78" y="78"/>
                          </a:lnTo>
                          <a:lnTo>
                            <a:pt x="89" y="100"/>
                          </a:lnTo>
                          <a:lnTo>
                            <a:pt x="111" y="112"/>
                          </a:lnTo>
                          <a:lnTo>
                            <a:pt x="134" y="112"/>
                          </a:lnTo>
                          <a:lnTo>
                            <a:pt x="156" y="123"/>
                          </a:lnTo>
                          <a:lnTo>
                            <a:pt x="178" y="134"/>
                          </a:lnTo>
                          <a:lnTo>
                            <a:pt x="201" y="134"/>
                          </a:lnTo>
                          <a:lnTo>
                            <a:pt x="223" y="134"/>
                          </a:lnTo>
                          <a:lnTo>
                            <a:pt x="245" y="134"/>
                          </a:lnTo>
                          <a:lnTo>
                            <a:pt x="267" y="134"/>
                          </a:lnTo>
                          <a:lnTo>
                            <a:pt x="301" y="134"/>
                          </a:lnTo>
                          <a:lnTo>
                            <a:pt x="323" y="123"/>
                          </a:lnTo>
                          <a:lnTo>
                            <a:pt x="345" y="112"/>
                          </a:lnTo>
                          <a:lnTo>
                            <a:pt x="345" y="100"/>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795"/>
                    <p:cNvSpPr/>
                    <p:nvPr/>
                  </p:nvSpPr>
                  <p:spPr>
                    <a:xfrm rot="111600">
                      <a:off x="8103240" y="884520"/>
                      <a:ext cx="21240" cy="20520"/>
                    </a:xfrm>
                    <a:custGeom>
                      <a:avLst/>
                      <a:gdLst>
                        <a:gd name="textAreaLeft" fmla="*/ 0 w 21240"/>
                        <a:gd name="textAreaRight" fmla="*/ 21600 w 21240"/>
                        <a:gd name="textAreaTop" fmla="*/ 0 h 20520"/>
                        <a:gd name="textAreaBottom" fmla="*/ 20880 h 20520"/>
                      </a:gdLst>
                      <a:ahLst/>
                      <a:rect l="textAreaLeft" t="textAreaTop" r="textAreaRight" b="textAreaBottom"/>
                      <a:pathLst>
                        <a:path w="168" h="156">
                          <a:moveTo>
                            <a:pt x="156" y="0"/>
                          </a:moveTo>
                          <a:lnTo>
                            <a:pt x="145" y="22"/>
                          </a:lnTo>
                          <a:lnTo>
                            <a:pt x="123" y="44"/>
                          </a:lnTo>
                          <a:lnTo>
                            <a:pt x="101" y="66"/>
                          </a:lnTo>
                          <a:lnTo>
                            <a:pt x="90" y="89"/>
                          </a:lnTo>
                          <a:lnTo>
                            <a:pt x="67" y="100"/>
                          </a:lnTo>
                          <a:lnTo>
                            <a:pt x="45" y="122"/>
                          </a:lnTo>
                          <a:lnTo>
                            <a:pt x="23" y="133"/>
                          </a:lnTo>
                          <a:lnTo>
                            <a:pt x="0" y="144"/>
                          </a:lnTo>
                          <a:lnTo>
                            <a:pt x="0" y="156"/>
                          </a:lnTo>
                          <a:lnTo>
                            <a:pt x="34" y="144"/>
                          </a:lnTo>
                          <a:lnTo>
                            <a:pt x="56" y="133"/>
                          </a:lnTo>
                          <a:lnTo>
                            <a:pt x="78" y="111"/>
                          </a:lnTo>
                          <a:lnTo>
                            <a:pt x="101" y="89"/>
                          </a:lnTo>
                          <a:lnTo>
                            <a:pt x="112" y="66"/>
                          </a:lnTo>
                          <a:lnTo>
                            <a:pt x="134" y="44"/>
                          </a:lnTo>
                          <a:lnTo>
                            <a:pt x="156" y="22"/>
                          </a:lnTo>
                          <a:lnTo>
                            <a:pt x="168" y="0"/>
                          </a:lnTo>
                          <a:lnTo>
                            <a:pt x="156" y="0"/>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1794"/>
                    <p:cNvSpPr/>
                    <p:nvPr/>
                  </p:nvSpPr>
                  <p:spPr>
                    <a:xfrm rot="111600">
                      <a:off x="8102520" y="90360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2" h="12">
                          <a:moveTo>
                            <a:pt x="12" y="12"/>
                          </a:moveTo>
                          <a:lnTo>
                            <a:pt x="12" y="12"/>
                          </a:lnTo>
                          <a:lnTo>
                            <a:pt x="12" y="0"/>
                          </a:lnTo>
                          <a:lnTo>
                            <a:pt x="0" y="0"/>
                          </a:lnTo>
                          <a:lnTo>
                            <a:pt x="0" y="12"/>
                          </a:lnTo>
                          <a:lnTo>
                            <a:pt x="12" y="12"/>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1793"/>
                    <p:cNvSpPr/>
                    <p:nvPr/>
                  </p:nvSpPr>
                  <p:spPr>
                    <a:xfrm rot="111600">
                      <a:off x="7986960" y="678240"/>
                      <a:ext cx="223200" cy="148320"/>
                    </a:xfrm>
                    <a:custGeom>
                      <a:avLst/>
                      <a:gdLst>
                        <a:gd name="textAreaLeft" fmla="*/ 0 w 223200"/>
                        <a:gd name="textAreaRight" fmla="*/ 223560 w 223200"/>
                        <a:gd name="textAreaTop" fmla="*/ 0 h 148320"/>
                        <a:gd name="textAreaBottom" fmla="*/ 148680 h 148320"/>
                      </a:gdLst>
                      <a:ahLst/>
                      <a:rect l="textAreaLeft" t="textAreaTop" r="textAreaRight" b="textAreaBottom"/>
                      <a:pathLst>
                        <a:path w="1750" h="1126">
                          <a:moveTo>
                            <a:pt x="914" y="190"/>
                          </a:moveTo>
                          <a:lnTo>
                            <a:pt x="903" y="178"/>
                          </a:lnTo>
                          <a:lnTo>
                            <a:pt x="892" y="156"/>
                          </a:lnTo>
                          <a:lnTo>
                            <a:pt x="881" y="123"/>
                          </a:lnTo>
                          <a:lnTo>
                            <a:pt x="869" y="89"/>
                          </a:lnTo>
                          <a:lnTo>
                            <a:pt x="847" y="67"/>
                          </a:lnTo>
                          <a:lnTo>
                            <a:pt x="814" y="45"/>
                          </a:lnTo>
                          <a:lnTo>
                            <a:pt x="780" y="45"/>
                          </a:lnTo>
                          <a:lnTo>
                            <a:pt x="736" y="56"/>
                          </a:lnTo>
                          <a:lnTo>
                            <a:pt x="724" y="45"/>
                          </a:lnTo>
                          <a:lnTo>
                            <a:pt x="713" y="34"/>
                          </a:lnTo>
                          <a:lnTo>
                            <a:pt x="702" y="22"/>
                          </a:lnTo>
                          <a:lnTo>
                            <a:pt x="691" y="22"/>
                          </a:lnTo>
                          <a:lnTo>
                            <a:pt x="680" y="11"/>
                          </a:lnTo>
                          <a:lnTo>
                            <a:pt x="658" y="11"/>
                          </a:lnTo>
                          <a:lnTo>
                            <a:pt x="646" y="11"/>
                          </a:lnTo>
                          <a:lnTo>
                            <a:pt x="635" y="11"/>
                          </a:lnTo>
                          <a:lnTo>
                            <a:pt x="613" y="22"/>
                          </a:lnTo>
                          <a:lnTo>
                            <a:pt x="591" y="34"/>
                          </a:lnTo>
                          <a:lnTo>
                            <a:pt x="568" y="56"/>
                          </a:lnTo>
                          <a:lnTo>
                            <a:pt x="546" y="67"/>
                          </a:lnTo>
                          <a:lnTo>
                            <a:pt x="535" y="89"/>
                          </a:lnTo>
                          <a:lnTo>
                            <a:pt x="524" y="112"/>
                          </a:lnTo>
                          <a:lnTo>
                            <a:pt x="524" y="134"/>
                          </a:lnTo>
                          <a:lnTo>
                            <a:pt x="513" y="156"/>
                          </a:lnTo>
                          <a:lnTo>
                            <a:pt x="502" y="167"/>
                          </a:lnTo>
                          <a:lnTo>
                            <a:pt x="490" y="178"/>
                          </a:lnTo>
                          <a:lnTo>
                            <a:pt x="479" y="190"/>
                          </a:lnTo>
                          <a:lnTo>
                            <a:pt x="468" y="201"/>
                          </a:lnTo>
                          <a:lnTo>
                            <a:pt x="457" y="212"/>
                          </a:lnTo>
                          <a:lnTo>
                            <a:pt x="457" y="223"/>
                          </a:lnTo>
                          <a:lnTo>
                            <a:pt x="446" y="234"/>
                          </a:lnTo>
                          <a:lnTo>
                            <a:pt x="435" y="245"/>
                          </a:lnTo>
                          <a:lnTo>
                            <a:pt x="424" y="279"/>
                          </a:lnTo>
                          <a:lnTo>
                            <a:pt x="424" y="301"/>
                          </a:lnTo>
                          <a:lnTo>
                            <a:pt x="424" y="335"/>
                          </a:lnTo>
                          <a:lnTo>
                            <a:pt x="412" y="368"/>
                          </a:lnTo>
                          <a:lnTo>
                            <a:pt x="390" y="346"/>
                          </a:lnTo>
                          <a:lnTo>
                            <a:pt x="368" y="346"/>
                          </a:lnTo>
                          <a:lnTo>
                            <a:pt x="334" y="346"/>
                          </a:lnTo>
                          <a:lnTo>
                            <a:pt x="312" y="346"/>
                          </a:lnTo>
                          <a:lnTo>
                            <a:pt x="290" y="357"/>
                          </a:lnTo>
                          <a:lnTo>
                            <a:pt x="268" y="379"/>
                          </a:lnTo>
                          <a:lnTo>
                            <a:pt x="256" y="401"/>
                          </a:lnTo>
                          <a:lnTo>
                            <a:pt x="245" y="424"/>
                          </a:lnTo>
                          <a:lnTo>
                            <a:pt x="223" y="413"/>
                          </a:lnTo>
                          <a:lnTo>
                            <a:pt x="190" y="401"/>
                          </a:lnTo>
                          <a:lnTo>
                            <a:pt x="167" y="401"/>
                          </a:lnTo>
                          <a:lnTo>
                            <a:pt x="145" y="401"/>
                          </a:lnTo>
                          <a:lnTo>
                            <a:pt x="123" y="413"/>
                          </a:lnTo>
                          <a:lnTo>
                            <a:pt x="100" y="424"/>
                          </a:lnTo>
                          <a:lnTo>
                            <a:pt x="89" y="424"/>
                          </a:lnTo>
                          <a:lnTo>
                            <a:pt x="67" y="446"/>
                          </a:lnTo>
                          <a:lnTo>
                            <a:pt x="56" y="457"/>
                          </a:lnTo>
                          <a:lnTo>
                            <a:pt x="45" y="479"/>
                          </a:lnTo>
                          <a:lnTo>
                            <a:pt x="45" y="502"/>
                          </a:lnTo>
                          <a:lnTo>
                            <a:pt x="45" y="513"/>
                          </a:lnTo>
                          <a:lnTo>
                            <a:pt x="45" y="535"/>
                          </a:lnTo>
                          <a:lnTo>
                            <a:pt x="45" y="557"/>
                          </a:lnTo>
                          <a:lnTo>
                            <a:pt x="56" y="580"/>
                          </a:lnTo>
                          <a:lnTo>
                            <a:pt x="67" y="602"/>
                          </a:lnTo>
                          <a:lnTo>
                            <a:pt x="33" y="635"/>
                          </a:lnTo>
                          <a:lnTo>
                            <a:pt x="22" y="658"/>
                          </a:lnTo>
                          <a:lnTo>
                            <a:pt x="11" y="691"/>
                          </a:lnTo>
                          <a:lnTo>
                            <a:pt x="0" y="725"/>
                          </a:lnTo>
                          <a:lnTo>
                            <a:pt x="11" y="747"/>
                          </a:lnTo>
                          <a:lnTo>
                            <a:pt x="22" y="769"/>
                          </a:lnTo>
                          <a:lnTo>
                            <a:pt x="33" y="803"/>
                          </a:lnTo>
                          <a:lnTo>
                            <a:pt x="67" y="814"/>
                          </a:lnTo>
                          <a:lnTo>
                            <a:pt x="67" y="847"/>
                          </a:lnTo>
                          <a:lnTo>
                            <a:pt x="67" y="869"/>
                          </a:lnTo>
                          <a:lnTo>
                            <a:pt x="78" y="881"/>
                          </a:lnTo>
                          <a:lnTo>
                            <a:pt x="89" y="892"/>
                          </a:lnTo>
                          <a:lnTo>
                            <a:pt x="123" y="903"/>
                          </a:lnTo>
                          <a:lnTo>
                            <a:pt x="156" y="903"/>
                          </a:lnTo>
                          <a:lnTo>
                            <a:pt x="178" y="903"/>
                          </a:lnTo>
                          <a:lnTo>
                            <a:pt x="201" y="903"/>
                          </a:lnTo>
                          <a:lnTo>
                            <a:pt x="212" y="903"/>
                          </a:lnTo>
                          <a:lnTo>
                            <a:pt x="223" y="892"/>
                          </a:lnTo>
                          <a:lnTo>
                            <a:pt x="234" y="892"/>
                          </a:lnTo>
                          <a:lnTo>
                            <a:pt x="256" y="892"/>
                          </a:lnTo>
                          <a:lnTo>
                            <a:pt x="245" y="903"/>
                          </a:lnTo>
                          <a:lnTo>
                            <a:pt x="245" y="925"/>
                          </a:lnTo>
                          <a:lnTo>
                            <a:pt x="245" y="936"/>
                          </a:lnTo>
                          <a:lnTo>
                            <a:pt x="245" y="948"/>
                          </a:lnTo>
                          <a:lnTo>
                            <a:pt x="245" y="959"/>
                          </a:lnTo>
                          <a:lnTo>
                            <a:pt x="256" y="970"/>
                          </a:lnTo>
                          <a:lnTo>
                            <a:pt x="279" y="981"/>
                          </a:lnTo>
                          <a:lnTo>
                            <a:pt x="301" y="992"/>
                          </a:lnTo>
                          <a:lnTo>
                            <a:pt x="290" y="1014"/>
                          </a:lnTo>
                          <a:lnTo>
                            <a:pt x="290" y="1048"/>
                          </a:lnTo>
                          <a:lnTo>
                            <a:pt x="290" y="1070"/>
                          </a:lnTo>
                          <a:lnTo>
                            <a:pt x="301" y="1104"/>
                          </a:lnTo>
                          <a:lnTo>
                            <a:pt x="323" y="1115"/>
                          </a:lnTo>
                          <a:lnTo>
                            <a:pt x="357" y="1115"/>
                          </a:lnTo>
                          <a:lnTo>
                            <a:pt x="379" y="1104"/>
                          </a:lnTo>
                          <a:lnTo>
                            <a:pt x="401" y="1092"/>
                          </a:lnTo>
                          <a:lnTo>
                            <a:pt x="412" y="1059"/>
                          </a:lnTo>
                          <a:lnTo>
                            <a:pt x="424" y="1037"/>
                          </a:lnTo>
                          <a:lnTo>
                            <a:pt x="435" y="1003"/>
                          </a:lnTo>
                          <a:lnTo>
                            <a:pt x="424" y="981"/>
                          </a:lnTo>
                          <a:lnTo>
                            <a:pt x="457" y="970"/>
                          </a:lnTo>
                          <a:lnTo>
                            <a:pt x="490" y="948"/>
                          </a:lnTo>
                          <a:lnTo>
                            <a:pt x="502" y="925"/>
                          </a:lnTo>
                          <a:lnTo>
                            <a:pt x="513" y="892"/>
                          </a:lnTo>
                          <a:lnTo>
                            <a:pt x="524" y="858"/>
                          </a:lnTo>
                          <a:lnTo>
                            <a:pt x="524" y="825"/>
                          </a:lnTo>
                          <a:lnTo>
                            <a:pt x="524" y="791"/>
                          </a:lnTo>
                          <a:lnTo>
                            <a:pt x="513" y="758"/>
                          </a:lnTo>
                          <a:lnTo>
                            <a:pt x="535" y="758"/>
                          </a:lnTo>
                          <a:lnTo>
                            <a:pt x="546" y="747"/>
                          </a:lnTo>
                          <a:lnTo>
                            <a:pt x="568" y="736"/>
                          </a:lnTo>
                          <a:lnTo>
                            <a:pt x="580" y="736"/>
                          </a:lnTo>
                          <a:lnTo>
                            <a:pt x="591" y="725"/>
                          </a:lnTo>
                          <a:lnTo>
                            <a:pt x="613" y="725"/>
                          </a:lnTo>
                          <a:lnTo>
                            <a:pt x="624" y="713"/>
                          </a:lnTo>
                          <a:lnTo>
                            <a:pt x="635" y="702"/>
                          </a:lnTo>
                          <a:lnTo>
                            <a:pt x="658" y="691"/>
                          </a:lnTo>
                          <a:lnTo>
                            <a:pt x="669" y="680"/>
                          </a:lnTo>
                          <a:lnTo>
                            <a:pt x="680" y="669"/>
                          </a:lnTo>
                          <a:lnTo>
                            <a:pt x="691" y="658"/>
                          </a:lnTo>
                          <a:lnTo>
                            <a:pt x="702" y="647"/>
                          </a:lnTo>
                          <a:lnTo>
                            <a:pt x="713" y="635"/>
                          </a:lnTo>
                          <a:lnTo>
                            <a:pt x="724" y="624"/>
                          </a:lnTo>
                          <a:lnTo>
                            <a:pt x="736" y="602"/>
                          </a:lnTo>
                          <a:lnTo>
                            <a:pt x="758" y="635"/>
                          </a:lnTo>
                          <a:lnTo>
                            <a:pt x="780" y="647"/>
                          </a:lnTo>
                          <a:lnTo>
                            <a:pt x="814" y="647"/>
                          </a:lnTo>
                          <a:lnTo>
                            <a:pt x="836" y="647"/>
                          </a:lnTo>
                          <a:lnTo>
                            <a:pt x="869" y="635"/>
                          </a:lnTo>
                          <a:lnTo>
                            <a:pt x="892" y="613"/>
                          </a:lnTo>
                          <a:lnTo>
                            <a:pt x="914" y="591"/>
                          </a:lnTo>
                          <a:lnTo>
                            <a:pt x="925" y="569"/>
                          </a:lnTo>
                          <a:lnTo>
                            <a:pt x="947" y="602"/>
                          </a:lnTo>
                          <a:lnTo>
                            <a:pt x="970" y="624"/>
                          </a:lnTo>
                          <a:lnTo>
                            <a:pt x="992" y="647"/>
                          </a:lnTo>
                          <a:lnTo>
                            <a:pt x="1014" y="658"/>
                          </a:lnTo>
                          <a:lnTo>
                            <a:pt x="1037" y="669"/>
                          </a:lnTo>
                          <a:lnTo>
                            <a:pt x="1059" y="680"/>
                          </a:lnTo>
                          <a:lnTo>
                            <a:pt x="1092" y="669"/>
                          </a:lnTo>
                          <a:lnTo>
                            <a:pt x="1126" y="669"/>
                          </a:lnTo>
                          <a:lnTo>
                            <a:pt x="1126" y="680"/>
                          </a:lnTo>
                          <a:lnTo>
                            <a:pt x="1126" y="702"/>
                          </a:lnTo>
                          <a:lnTo>
                            <a:pt x="1126" y="725"/>
                          </a:lnTo>
                          <a:lnTo>
                            <a:pt x="1137" y="747"/>
                          </a:lnTo>
                          <a:lnTo>
                            <a:pt x="1148" y="769"/>
                          </a:lnTo>
                          <a:lnTo>
                            <a:pt x="1159" y="791"/>
                          </a:lnTo>
                          <a:lnTo>
                            <a:pt x="1181" y="814"/>
                          </a:lnTo>
                          <a:lnTo>
                            <a:pt x="1204" y="836"/>
                          </a:lnTo>
                          <a:lnTo>
                            <a:pt x="1215" y="836"/>
                          </a:lnTo>
                          <a:lnTo>
                            <a:pt x="1226" y="836"/>
                          </a:lnTo>
                          <a:lnTo>
                            <a:pt x="1237" y="836"/>
                          </a:lnTo>
                          <a:lnTo>
                            <a:pt x="1259" y="825"/>
                          </a:lnTo>
                          <a:lnTo>
                            <a:pt x="1271" y="825"/>
                          </a:lnTo>
                          <a:lnTo>
                            <a:pt x="1282" y="825"/>
                          </a:lnTo>
                          <a:lnTo>
                            <a:pt x="1282" y="847"/>
                          </a:lnTo>
                          <a:lnTo>
                            <a:pt x="1282" y="881"/>
                          </a:lnTo>
                          <a:lnTo>
                            <a:pt x="1282" y="903"/>
                          </a:lnTo>
                          <a:lnTo>
                            <a:pt x="1282" y="925"/>
                          </a:lnTo>
                          <a:lnTo>
                            <a:pt x="1293" y="936"/>
                          </a:lnTo>
                          <a:lnTo>
                            <a:pt x="1304" y="959"/>
                          </a:lnTo>
                          <a:lnTo>
                            <a:pt x="1315" y="970"/>
                          </a:lnTo>
                          <a:lnTo>
                            <a:pt x="1326" y="970"/>
                          </a:lnTo>
                          <a:lnTo>
                            <a:pt x="1326" y="981"/>
                          </a:lnTo>
                          <a:lnTo>
                            <a:pt x="1337" y="992"/>
                          </a:lnTo>
                          <a:lnTo>
                            <a:pt x="1349" y="992"/>
                          </a:lnTo>
                          <a:lnTo>
                            <a:pt x="1360" y="1003"/>
                          </a:lnTo>
                          <a:lnTo>
                            <a:pt x="1360" y="1037"/>
                          </a:lnTo>
                          <a:lnTo>
                            <a:pt x="1360" y="1070"/>
                          </a:lnTo>
                          <a:lnTo>
                            <a:pt x="1360" y="1104"/>
                          </a:lnTo>
                          <a:lnTo>
                            <a:pt x="1382" y="1126"/>
                          </a:lnTo>
                          <a:lnTo>
                            <a:pt x="1404" y="1126"/>
                          </a:lnTo>
                          <a:lnTo>
                            <a:pt x="1427" y="1126"/>
                          </a:lnTo>
                          <a:lnTo>
                            <a:pt x="1438" y="1126"/>
                          </a:lnTo>
                          <a:lnTo>
                            <a:pt x="1460" y="1115"/>
                          </a:lnTo>
                          <a:lnTo>
                            <a:pt x="1471" y="1092"/>
                          </a:lnTo>
                          <a:lnTo>
                            <a:pt x="1471" y="1070"/>
                          </a:lnTo>
                          <a:lnTo>
                            <a:pt x="1482" y="1048"/>
                          </a:lnTo>
                          <a:lnTo>
                            <a:pt x="1482" y="1014"/>
                          </a:lnTo>
                          <a:lnTo>
                            <a:pt x="1494" y="1003"/>
                          </a:lnTo>
                          <a:lnTo>
                            <a:pt x="1505" y="992"/>
                          </a:lnTo>
                          <a:lnTo>
                            <a:pt x="1505" y="981"/>
                          </a:lnTo>
                          <a:lnTo>
                            <a:pt x="1516" y="970"/>
                          </a:lnTo>
                          <a:lnTo>
                            <a:pt x="1516" y="959"/>
                          </a:lnTo>
                          <a:lnTo>
                            <a:pt x="1527" y="948"/>
                          </a:lnTo>
                          <a:lnTo>
                            <a:pt x="1527" y="936"/>
                          </a:lnTo>
                          <a:lnTo>
                            <a:pt x="1527" y="914"/>
                          </a:lnTo>
                          <a:lnTo>
                            <a:pt x="1527" y="925"/>
                          </a:lnTo>
                          <a:lnTo>
                            <a:pt x="1538" y="936"/>
                          </a:lnTo>
                          <a:lnTo>
                            <a:pt x="1549" y="936"/>
                          </a:lnTo>
                          <a:lnTo>
                            <a:pt x="1560" y="948"/>
                          </a:lnTo>
                          <a:lnTo>
                            <a:pt x="1572" y="959"/>
                          </a:lnTo>
                          <a:lnTo>
                            <a:pt x="1583" y="970"/>
                          </a:lnTo>
                          <a:lnTo>
                            <a:pt x="1594" y="970"/>
                          </a:lnTo>
                          <a:lnTo>
                            <a:pt x="1605" y="970"/>
                          </a:lnTo>
                          <a:lnTo>
                            <a:pt x="1650" y="970"/>
                          </a:lnTo>
                          <a:lnTo>
                            <a:pt x="1694" y="959"/>
                          </a:lnTo>
                          <a:lnTo>
                            <a:pt x="1716" y="936"/>
                          </a:lnTo>
                          <a:lnTo>
                            <a:pt x="1739" y="903"/>
                          </a:lnTo>
                          <a:lnTo>
                            <a:pt x="1750" y="869"/>
                          </a:lnTo>
                          <a:lnTo>
                            <a:pt x="1750" y="825"/>
                          </a:lnTo>
                          <a:lnTo>
                            <a:pt x="1750" y="791"/>
                          </a:lnTo>
                          <a:lnTo>
                            <a:pt x="1728" y="769"/>
                          </a:lnTo>
                          <a:lnTo>
                            <a:pt x="1728" y="758"/>
                          </a:lnTo>
                          <a:lnTo>
                            <a:pt x="1716" y="758"/>
                          </a:lnTo>
                          <a:lnTo>
                            <a:pt x="1705" y="747"/>
                          </a:lnTo>
                          <a:lnTo>
                            <a:pt x="1694" y="736"/>
                          </a:lnTo>
                          <a:lnTo>
                            <a:pt x="1683" y="736"/>
                          </a:lnTo>
                          <a:lnTo>
                            <a:pt x="1672" y="725"/>
                          </a:lnTo>
                          <a:lnTo>
                            <a:pt x="1683" y="702"/>
                          </a:lnTo>
                          <a:lnTo>
                            <a:pt x="1694" y="680"/>
                          </a:lnTo>
                          <a:lnTo>
                            <a:pt x="1694" y="658"/>
                          </a:lnTo>
                          <a:lnTo>
                            <a:pt x="1694" y="635"/>
                          </a:lnTo>
                          <a:lnTo>
                            <a:pt x="1694" y="624"/>
                          </a:lnTo>
                          <a:lnTo>
                            <a:pt x="1683" y="602"/>
                          </a:lnTo>
                          <a:lnTo>
                            <a:pt x="1661" y="591"/>
                          </a:lnTo>
                          <a:lnTo>
                            <a:pt x="1638" y="569"/>
                          </a:lnTo>
                          <a:lnTo>
                            <a:pt x="1661" y="546"/>
                          </a:lnTo>
                          <a:lnTo>
                            <a:pt x="1672" y="524"/>
                          </a:lnTo>
                          <a:lnTo>
                            <a:pt x="1683" y="502"/>
                          </a:lnTo>
                          <a:lnTo>
                            <a:pt x="1683" y="479"/>
                          </a:lnTo>
                          <a:lnTo>
                            <a:pt x="1683" y="457"/>
                          </a:lnTo>
                          <a:lnTo>
                            <a:pt x="1672" y="435"/>
                          </a:lnTo>
                          <a:lnTo>
                            <a:pt x="1661" y="413"/>
                          </a:lnTo>
                          <a:lnTo>
                            <a:pt x="1650" y="390"/>
                          </a:lnTo>
                          <a:lnTo>
                            <a:pt x="1627" y="368"/>
                          </a:lnTo>
                          <a:lnTo>
                            <a:pt x="1605" y="357"/>
                          </a:lnTo>
                          <a:lnTo>
                            <a:pt x="1583" y="346"/>
                          </a:lnTo>
                          <a:lnTo>
                            <a:pt x="1560" y="335"/>
                          </a:lnTo>
                          <a:lnTo>
                            <a:pt x="1527" y="335"/>
                          </a:lnTo>
                          <a:lnTo>
                            <a:pt x="1505" y="335"/>
                          </a:lnTo>
                          <a:lnTo>
                            <a:pt x="1482" y="335"/>
                          </a:lnTo>
                          <a:lnTo>
                            <a:pt x="1460" y="346"/>
                          </a:lnTo>
                          <a:lnTo>
                            <a:pt x="1471" y="301"/>
                          </a:lnTo>
                          <a:lnTo>
                            <a:pt x="1471" y="268"/>
                          </a:lnTo>
                          <a:lnTo>
                            <a:pt x="1471" y="223"/>
                          </a:lnTo>
                          <a:lnTo>
                            <a:pt x="1471" y="201"/>
                          </a:lnTo>
                          <a:lnTo>
                            <a:pt x="1460" y="167"/>
                          </a:lnTo>
                          <a:lnTo>
                            <a:pt x="1438" y="145"/>
                          </a:lnTo>
                          <a:lnTo>
                            <a:pt x="1415" y="134"/>
                          </a:lnTo>
                          <a:lnTo>
                            <a:pt x="1382" y="134"/>
                          </a:lnTo>
                          <a:lnTo>
                            <a:pt x="1371" y="134"/>
                          </a:lnTo>
                          <a:lnTo>
                            <a:pt x="1360" y="112"/>
                          </a:lnTo>
                          <a:lnTo>
                            <a:pt x="1349" y="89"/>
                          </a:lnTo>
                          <a:lnTo>
                            <a:pt x="1326" y="78"/>
                          </a:lnTo>
                          <a:lnTo>
                            <a:pt x="1315" y="56"/>
                          </a:lnTo>
                          <a:lnTo>
                            <a:pt x="1293" y="45"/>
                          </a:lnTo>
                          <a:lnTo>
                            <a:pt x="1271" y="22"/>
                          </a:lnTo>
                          <a:lnTo>
                            <a:pt x="1248" y="22"/>
                          </a:lnTo>
                          <a:lnTo>
                            <a:pt x="1226" y="11"/>
                          </a:lnTo>
                          <a:lnTo>
                            <a:pt x="1204" y="0"/>
                          </a:lnTo>
                          <a:lnTo>
                            <a:pt x="1181" y="0"/>
                          </a:lnTo>
                          <a:lnTo>
                            <a:pt x="1159" y="0"/>
                          </a:lnTo>
                          <a:lnTo>
                            <a:pt x="1137" y="0"/>
                          </a:lnTo>
                          <a:lnTo>
                            <a:pt x="1103" y="0"/>
                          </a:lnTo>
                          <a:lnTo>
                            <a:pt x="1081" y="0"/>
                          </a:lnTo>
                          <a:lnTo>
                            <a:pt x="1059" y="11"/>
                          </a:lnTo>
                          <a:lnTo>
                            <a:pt x="1037" y="22"/>
                          </a:lnTo>
                          <a:lnTo>
                            <a:pt x="1025" y="34"/>
                          </a:lnTo>
                          <a:lnTo>
                            <a:pt x="1003" y="45"/>
                          </a:lnTo>
                          <a:lnTo>
                            <a:pt x="992" y="67"/>
                          </a:lnTo>
                          <a:lnTo>
                            <a:pt x="970" y="89"/>
                          </a:lnTo>
                          <a:lnTo>
                            <a:pt x="959" y="112"/>
                          </a:lnTo>
                          <a:lnTo>
                            <a:pt x="947" y="134"/>
                          </a:lnTo>
                          <a:lnTo>
                            <a:pt x="925" y="156"/>
                          </a:lnTo>
                          <a:lnTo>
                            <a:pt x="914" y="190"/>
                          </a:lnTo>
                          <a:close/>
                        </a:path>
                      </a:pathLst>
                    </a:custGeom>
                    <a:solidFill>
                      <a:srgbClr val="a6591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792"/>
                    <p:cNvSpPr/>
                    <p:nvPr/>
                  </p:nvSpPr>
                  <p:spPr>
                    <a:xfrm rot="111600">
                      <a:off x="8081280" y="682560"/>
                      <a:ext cx="24120" cy="20520"/>
                    </a:xfrm>
                    <a:custGeom>
                      <a:avLst/>
                      <a:gdLst>
                        <a:gd name="textAreaLeft" fmla="*/ 0 w 24120"/>
                        <a:gd name="textAreaRight" fmla="*/ 24480 w 24120"/>
                        <a:gd name="textAreaTop" fmla="*/ 0 h 20520"/>
                        <a:gd name="textAreaBottom" fmla="*/ 20880 h 20520"/>
                      </a:gdLst>
                      <a:ahLst/>
                      <a:rect l="textAreaLeft" t="textAreaTop" r="textAreaRight" b="textAreaBottom"/>
                      <a:pathLst>
                        <a:path w="190" h="156">
                          <a:moveTo>
                            <a:pt x="0" y="22"/>
                          </a:moveTo>
                          <a:lnTo>
                            <a:pt x="12" y="22"/>
                          </a:lnTo>
                          <a:lnTo>
                            <a:pt x="56" y="11"/>
                          </a:lnTo>
                          <a:lnTo>
                            <a:pt x="90" y="22"/>
                          </a:lnTo>
                          <a:lnTo>
                            <a:pt x="112" y="33"/>
                          </a:lnTo>
                          <a:lnTo>
                            <a:pt x="134" y="66"/>
                          </a:lnTo>
                          <a:lnTo>
                            <a:pt x="157" y="89"/>
                          </a:lnTo>
                          <a:lnTo>
                            <a:pt x="168" y="122"/>
                          </a:lnTo>
                          <a:lnTo>
                            <a:pt x="179" y="144"/>
                          </a:lnTo>
                          <a:lnTo>
                            <a:pt x="179" y="156"/>
                          </a:lnTo>
                          <a:lnTo>
                            <a:pt x="190" y="156"/>
                          </a:lnTo>
                          <a:lnTo>
                            <a:pt x="190" y="144"/>
                          </a:lnTo>
                          <a:lnTo>
                            <a:pt x="179" y="122"/>
                          </a:lnTo>
                          <a:lnTo>
                            <a:pt x="168" y="89"/>
                          </a:lnTo>
                          <a:lnTo>
                            <a:pt x="145" y="55"/>
                          </a:lnTo>
                          <a:lnTo>
                            <a:pt x="123" y="22"/>
                          </a:lnTo>
                          <a:lnTo>
                            <a:pt x="90" y="11"/>
                          </a:lnTo>
                          <a:lnTo>
                            <a:pt x="56" y="0"/>
                          </a:lnTo>
                          <a:lnTo>
                            <a:pt x="12" y="11"/>
                          </a:lnTo>
                          <a:lnTo>
                            <a:pt x="0" y="22"/>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791"/>
                    <p:cNvSpPr/>
                    <p:nvPr/>
                  </p:nvSpPr>
                  <p:spPr>
                    <a:xfrm rot="111600">
                      <a:off x="8070120" y="677520"/>
                      <a:ext cx="12600" cy="7200"/>
                    </a:xfrm>
                    <a:custGeom>
                      <a:avLst/>
                      <a:gdLst>
                        <a:gd name="textAreaLeft" fmla="*/ 0 w 12600"/>
                        <a:gd name="textAreaRight" fmla="*/ 12960 w 12600"/>
                        <a:gd name="textAreaTop" fmla="*/ 0 h 7200"/>
                        <a:gd name="textAreaBottom" fmla="*/ 7560 h 7200"/>
                      </a:gdLst>
                      <a:ahLst/>
                      <a:rect l="textAreaLeft" t="textAreaTop" r="textAreaRight" b="textAreaBottom"/>
                      <a:pathLst>
                        <a:path w="101" h="56">
                          <a:moveTo>
                            <a:pt x="0" y="22"/>
                          </a:moveTo>
                          <a:lnTo>
                            <a:pt x="0" y="22"/>
                          </a:lnTo>
                          <a:lnTo>
                            <a:pt x="11" y="22"/>
                          </a:lnTo>
                          <a:lnTo>
                            <a:pt x="23" y="22"/>
                          </a:lnTo>
                          <a:lnTo>
                            <a:pt x="45" y="22"/>
                          </a:lnTo>
                          <a:lnTo>
                            <a:pt x="56" y="22"/>
                          </a:lnTo>
                          <a:lnTo>
                            <a:pt x="56" y="34"/>
                          </a:lnTo>
                          <a:lnTo>
                            <a:pt x="67" y="34"/>
                          </a:lnTo>
                          <a:lnTo>
                            <a:pt x="78" y="45"/>
                          </a:lnTo>
                          <a:lnTo>
                            <a:pt x="89" y="56"/>
                          </a:lnTo>
                          <a:lnTo>
                            <a:pt x="101" y="45"/>
                          </a:lnTo>
                          <a:lnTo>
                            <a:pt x="89" y="34"/>
                          </a:lnTo>
                          <a:lnTo>
                            <a:pt x="78" y="22"/>
                          </a:lnTo>
                          <a:lnTo>
                            <a:pt x="67" y="22"/>
                          </a:lnTo>
                          <a:lnTo>
                            <a:pt x="56" y="11"/>
                          </a:lnTo>
                          <a:lnTo>
                            <a:pt x="45" y="11"/>
                          </a:lnTo>
                          <a:lnTo>
                            <a:pt x="23" y="0"/>
                          </a:lnTo>
                          <a:lnTo>
                            <a:pt x="11" y="0"/>
                          </a:lnTo>
                          <a:lnTo>
                            <a:pt x="0" y="11"/>
                          </a:lnTo>
                          <a:lnTo>
                            <a:pt x="0" y="22"/>
                          </a:lnTo>
                          <a:close/>
                        </a:path>
                      </a:pathLst>
                    </a:custGeom>
                    <a:solidFill>
                      <a:srgbClr val="000000"/>
                    </a:solidFill>
                    <a:ln w="0">
                      <a:noFill/>
                    </a:ln>
                  </p:spPr>
                  <p:style>
                    <a:lnRef idx="0"/>
                    <a:fillRef idx="0"/>
                    <a:effectRef idx="0"/>
                    <a:fontRef idx="minor"/>
                  </p:style>
                  <p:txBody>
                    <a:bodyPr lIns="90000" rIns="90000" tIns="-39240" bIns="-39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790"/>
                    <p:cNvSpPr/>
                    <p:nvPr/>
                  </p:nvSpPr>
                  <p:spPr>
                    <a:xfrm rot="111600">
                      <a:off x="8052840" y="678600"/>
                      <a:ext cx="16920" cy="19080"/>
                    </a:xfrm>
                    <a:custGeom>
                      <a:avLst/>
                      <a:gdLst>
                        <a:gd name="textAreaLeft" fmla="*/ 0 w 16920"/>
                        <a:gd name="textAreaRight" fmla="*/ 17280 w 16920"/>
                        <a:gd name="textAreaTop" fmla="*/ 0 h 19080"/>
                        <a:gd name="textAreaBottom" fmla="*/ 19440 h 19080"/>
                      </a:gdLst>
                      <a:ahLst/>
                      <a:rect l="textAreaLeft" t="textAreaTop" r="textAreaRight" b="textAreaBottom"/>
                      <a:pathLst>
                        <a:path w="133" h="145">
                          <a:moveTo>
                            <a:pt x="11" y="145"/>
                          </a:moveTo>
                          <a:lnTo>
                            <a:pt x="11" y="145"/>
                          </a:lnTo>
                          <a:lnTo>
                            <a:pt x="22" y="123"/>
                          </a:lnTo>
                          <a:lnTo>
                            <a:pt x="33" y="101"/>
                          </a:lnTo>
                          <a:lnTo>
                            <a:pt x="44" y="78"/>
                          </a:lnTo>
                          <a:lnTo>
                            <a:pt x="55" y="67"/>
                          </a:lnTo>
                          <a:lnTo>
                            <a:pt x="66" y="45"/>
                          </a:lnTo>
                          <a:lnTo>
                            <a:pt x="89" y="34"/>
                          </a:lnTo>
                          <a:lnTo>
                            <a:pt x="111" y="23"/>
                          </a:lnTo>
                          <a:lnTo>
                            <a:pt x="133" y="11"/>
                          </a:lnTo>
                          <a:lnTo>
                            <a:pt x="133" y="0"/>
                          </a:lnTo>
                          <a:lnTo>
                            <a:pt x="100" y="11"/>
                          </a:lnTo>
                          <a:lnTo>
                            <a:pt x="78" y="23"/>
                          </a:lnTo>
                          <a:lnTo>
                            <a:pt x="55" y="34"/>
                          </a:lnTo>
                          <a:lnTo>
                            <a:pt x="44" y="56"/>
                          </a:lnTo>
                          <a:lnTo>
                            <a:pt x="33" y="78"/>
                          </a:lnTo>
                          <a:lnTo>
                            <a:pt x="22" y="101"/>
                          </a:lnTo>
                          <a:lnTo>
                            <a:pt x="11" y="123"/>
                          </a:lnTo>
                          <a:lnTo>
                            <a:pt x="0" y="145"/>
                          </a:lnTo>
                          <a:lnTo>
                            <a:pt x="11" y="145"/>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1789"/>
                    <p:cNvSpPr/>
                    <p:nvPr/>
                  </p:nvSpPr>
                  <p:spPr>
                    <a:xfrm rot="111600">
                      <a:off x="8043840" y="697320"/>
                      <a:ext cx="9720" cy="11520"/>
                    </a:xfrm>
                    <a:custGeom>
                      <a:avLst/>
                      <a:gdLst>
                        <a:gd name="textAreaLeft" fmla="*/ 0 w 9720"/>
                        <a:gd name="textAreaRight" fmla="*/ 10080 w 9720"/>
                        <a:gd name="textAreaTop" fmla="*/ 0 h 11520"/>
                        <a:gd name="textAreaBottom" fmla="*/ 11880 h 11520"/>
                      </a:gdLst>
                      <a:ahLst/>
                      <a:rect l="textAreaLeft" t="textAreaTop" r="textAreaRight" b="textAreaBottom"/>
                      <a:pathLst>
                        <a:path w="78" h="89">
                          <a:moveTo>
                            <a:pt x="11" y="89"/>
                          </a:moveTo>
                          <a:lnTo>
                            <a:pt x="11" y="89"/>
                          </a:lnTo>
                          <a:lnTo>
                            <a:pt x="11" y="78"/>
                          </a:lnTo>
                          <a:lnTo>
                            <a:pt x="22" y="67"/>
                          </a:lnTo>
                          <a:lnTo>
                            <a:pt x="33" y="56"/>
                          </a:lnTo>
                          <a:lnTo>
                            <a:pt x="44" y="45"/>
                          </a:lnTo>
                          <a:lnTo>
                            <a:pt x="55" y="45"/>
                          </a:lnTo>
                          <a:lnTo>
                            <a:pt x="55" y="34"/>
                          </a:lnTo>
                          <a:lnTo>
                            <a:pt x="67" y="11"/>
                          </a:lnTo>
                          <a:lnTo>
                            <a:pt x="78" y="0"/>
                          </a:lnTo>
                          <a:lnTo>
                            <a:pt x="67" y="0"/>
                          </a:lnTo>
                          <a:lnTo>
                            <a:pt x="55" y="11"/>
                          </a:lnTo>
                          <a:lnTo>
                            <a:pt x="55" y="22"/>
                          </a:lnTo>
                          <a:lnTo>
                            <a:pt x="44" y="34"/>
                          </a:lnTo>
                          <a:lnTo>
                            <a:pt x="33" y="45"/>
                          </a:lnTo>
                          <a:lnTo>
                            <a:pt x="22" y="56"/>
                          </a:lnTo>
                          <a:lnTo>
                            <a:pt x="11" y="67"/>
                          </a:lnTo>
                          <a:lnTo>
                            <a:pt x="0" y="78"/>
                          </a:lnTo>
                          <a:lnTo>
                            <a:pt x="0" y="89"/>
                          </a:lnTo>
                          <a:lnTo>
                            <a:pt x="11"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788"/>
                    <p:cNvSpPr/>
                    <p:nvPr/>
                  </p:nvSpPr>
                  <p:spPr>
                    <a:xfrm rot="111600">
                      <a:off x="8040600" y="708840"/>
                      <a:ext cx="4320" cy="16200"/>
                    </a:xfrm>
                    <a:custGeom>
                      <a:avLst/>
                      <a:gdLst>
                        <a:gd name="textAreaLeft" fmla="*/ 0 w 4320"/>
                        <a:gd name="textAreaRight" fmla="*/ 4680 w 4320"/>
                        <a:gd name="textAreaTop" fmla="*/ 0 h 16200"/>
                        <a:gd name="textAreaBottom" fmla="*/ 16560 h 16200"/>
                      </a:gdLst>
                      <a:ahLst/>
                      <a:rect l="textAreaLeft" t="textAreaTop" r="textAreaRight" b="textAreaBottom"/>
                      <a:pathLst>
                        <a:path w="34" h="123">
                          <a:moveTo>
                            <a:pt x="0" y="123"/>
                          </a:moveTo>
                          <a:lnTo>
                            <a:pt x="12" y="123"/>
                          </a:lnTo>
                          <a:lnTo>
                            <a:pt x="12" y="90"/>
                          </a:lnTo>
                          <a:lnTo>
                            <a:pt x="12" y="56"/>
                          </a:lnTo>
                          <a:lnTo>
                            <a:pt x="23" y="34"/>
                          </a:lnTo>
                          <a:lnTo>
                            <a:pt x="34" y="0"/>
                          </a:lnTo>
                          <a:lnTo>
                            <a:pt x="23" y="0"/>
                          </a:lnTo>
                          <a:lnTo>
                            <a:pt x="12" y="34"/>
                          </a:lnTo>
                          <a:lnTo>
                            <a:pt x="0" y="56"/>
                          </a:lnTo>
                          <a:lnTo>
                            <a:pt x="0" y="90"/>
                          </a:lnTo>
                          <a:lnTo>
                            <a:pt x="0" y="123"/>
                          </a:lnTo>
                          <a:lnTo>
                            <a:pt x="12" y="112"/>
                          </a:lnTo>
                          <a:lnTo>
                            <a:pt x="0" y="123"/>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787"/>
                    <p:cNvSpPr/>
                    <p:nvPr/>
                  </p:nvSpPr>
                  <p:spPr>
                    <a:xfrm rot="111600">
                      <a:off x="8019000" y="720360"/>
                      <a:ext cx="22680" cy="11520"/>
                    </a:xfrm>
                    <a:custGeom>
                      <a:avLst/>
                      <a:gdLst>
                        <a:gd name="textAreaLeft" fmla="*/ 0 w 22680"/>
                        <a:gd name="textAreaRight" fmla="*/ 23040 w 22680"/>
                        <a:gd name="textAreaTop" fmla="*/ 0 h 11520"/>
                        <a:gd name="textAreaBottom" fmla="*/ 11880 h 11520"/>
                      </a:gdLst>
                      <a:ahLst/>
                      <a:rect l="textAreaLeft" t="textAreaTop" r="textAreaRight" b="textAreaBottom"/>
                      <a:pathLst>
                        <a:path w="179" h="89">
                          <a:moveTo>
                            <a:pt x="0" y="89"/>
                          </a:moveTo>
                          <a:lnTo>
                            <a:pt x="11" y="89"/>
                          </a:lnTo>
                          <a:lnTo>
                            <a:pt x="11" y="66"/>
                          </a:lnTo>
                          <a:lnTo>
                            <a:pt x="34" y="44"/>
                          </a:lnTo>
                          <a:lnTo>
                            <a:pt x="45" y="33"/>
                          </a:lnTo>
                          <a:lnTo>
                            <a:pt x="67" y="22"/>
                          </a:lnTo>
                          <a:lnTo>
                            <a:pt x="89" y="11"/>
                          </a:lnTo>
                          <a:lnTo>
                            <a:pt x="123" y="11"/>
                          </a:lnTo>
                          <a:lnTo>
                            <a:pt x="145" y="22"/>
                          </a:lnTo>
                          <a:lnTo>
                            <a:pt x="167" y="33"/>
                          </a:lnTo>
                          <a:lnTo>
                            <a:pt x="179" y="22"/>
                          </a:lnTo>
                          <a:lnTo>
                            <a:pt x="145" y="11"/>
                          </a:lnTo>
                          <a:lnTo>
                            <a:pt x="123" y="0"/>
                          </a:lnTo>
                          <a:lnTo>
                            <a:pt x="89" y="0"/>
                          </a:lnTo>
                          <a:lnTo>
                            <a:pt x="67" y="11"/>
                          </a:lnTo>
                          <a:lnTo>
                            <a:pt x="34" y="22"/>
                          </a:lnTo>
                          <a:lnTo>
                            <a:pt x="23" y="44"/>
                          </a:lnTo>
                          <a:lnTo>
                            <a:pt x="0" y="55"/>
                          </a:lnTo>
                          <a:lnTo>
                            <a:pt x="0" y="89"/>
                          </a:lnTo>
                          <a:lnTo>
                            <a:pt x="11" y="78"/>
                          </a:lnTo>
                          <a:lnTo>
                            <a:pt x="0"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786"/>
                    <p:cNvSpPr/>
                    <p:nvPr/>
                  </p:nvSpPr>
                  <p:spPr>
                    <a:xfrm rot="111600">
                      <a:off x="7991280" y="726840"/>
                      <a:ext cx="28440" cy="29160"/>
                    </a:xfrm>
                    <a:custGeom>
                      <a:avLst/>
                      <a:gdLst>
                        <a:gd name="textAreaLeft" fmla="*/ 0 w 28440"/>
                        <a:gd name="textAreaRight" fmla="*/ 28800 w 28440"/>
                        <a:gd name="textAreaTop" fmla="*/ 0 h 29160"/>
                        <a:gd name="textAreaBottom" fmla="*/ 29520 h 29160"/>
                      </a:gdLst>
                      <a:ahLst/>
                      <a:rect l="textAreaLeft" t="textAreaTop" r="textAreaRight" b="textAreaBottom"/>
                      <a:pathLst>
                        <a:path w="223" h="223">
                          <a:moveTo>
                            <a:pt x="34" y="223"/>
                          </a:moveTo>
                          <a:lnTo>
                            <a:pt x="34" y="212"/>
                          </a:lnTo>
                          <a:lnTo>
                            <a:pt x="23" y="190"/>
                          </a:lnTo>
                          <a:lnTo>
                            <a:pt x="23" y="167"/>
                          </a:lnTo>
                          <a:lnTo>
                            <a:pt x="12" y="145"/>
                          </a:lnTo>
                          <a:lnTo>
                            <a:pt x="12" y="123"/>
                          </a:lnTo>
                          <a:lnTo>
                            <a:pt x="23" y="112"/>
                          </a:lnTo>
                          <a:lnTo>
                            <a:pt x="23" y="89"/>
                          </a:lnTo>
                          <a:lnTo>
                            <a:pt x="34" y="78"/>
                          </a:lnTo>
                          <a:lnTo>
                            <a:pt x="45" y="56"/>
                          </a:lnTo>
                          <a:lnTo>
                            <a:pt x="56" y="45"/>
                          </a:lnTo>
                          <a:lnTo>
                            <a:pt x="67" y="34"/>
                          </a:lnTo>
                          <a:lnTo>
                            <a:pt x="90" y="23"/>
                          </a:lnTo>
                          <a:lnTo>
                            <a:pt x="112" y="23"/>
                          </a:lnTo>
                          <a:lnTo>
                            <a:pt x="134" y="23"/>
                          </a:lnTo>
                          <a:lnTo>
                            <a:pt x="157" y="23"/>
                          </a:lnTo>
                          <a:lnTo>
                            <a:pt x="190" y="23"/>
                          </a:lnTo>
                          <a:lnTo>
                            <a:pt x="212" y="34"/>
                          </a:lnTo>
                          <a:lnTo>
                            <a:pt x="223" y="23"/>
                          </a:lnTo>
                          <a:lnTo>
                            <a:pt x="190" y="11"/>
                          </a:lnTo>
                          <a:lnTo>
                            <a:pt x="157" y="11"/>
                          </a:lnTo>
                          <a:lnTo>
                            <a:pt x="134" y="0"/>
                          </a:lnTo>
                          <a:lnTo>
                            <a:pt x="112" y="11"/>
                          </a:lnTo>
                          <a:lnTo>
                            <a:pt x="90" y="11"/>
                          </a:lnTo>
                          <a:lnTo>
                            <a:pt x="67" y="23"/>
                          </a:lnTo>
                          <a:lnTo>
                            <a:pt x="45" y="34"/>
                          </a:lnTo>
                          <a:lnTo>
                            <a:pt x="34" y="45"/>
                          </a:lnTo>
                          <a:lnTo>
                            <a:pt x="23" y="67"/>
                          </a:lnTo>
                          <a:lnTo>
                            <a:pt x="12" y="89"/>
                          </a:lnTo>
                          <a:lnTo>
                            <a:pt x="0" y="101"/>
                          </a:lnTo>
                          <a:lnTo>
                            <a:pt x="0" y="123"/>
                          </a:lnTo>
                          <a:lnTo>
                            <a:pt x="0" y="145"/>
                          </a:lnTo>
                          <a:lnTo>
                            <a:pt x="0" y="167"/>
                          </a:lnTo>
                          <a:lnTo>
                            <a:pt x="12" y="190"/>
                          </a:lnTo>
                          <a:lnTo>
                            <a:pt x="23" y="212"/>
                          </a:lnTo>
                          <a:lnTo>
                            <a:pt x="34" y="223"/>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785"/>
                    <p:cNvSpPr/>
                    <p:nvPr/>
                  </p:nvSpPr>
                  <p:spPr>
                    <a:xfrm rot="111600">
                      <a:off x="7986240" y="754200"/>
                      <a:ext cx="8280" cy="29160"/>
                    </a:xfrm>
                    <a:custGeom>
                      <a:avLst/>
                      <a:gdLst>
                        <a:gd name="textAreaLeft" fmla="*/ 0 w 8280"/>
                        <a:gd name="textAreaRight" fmla="*/ 8640 w 8280"/>
                        <a:gd name="textAreaTop" fmla="*/ 0 h 29160"/>
                        <a:gd name="textAreaBottom" fmla="*/ 29520 h 29160"/>
                      </a:gdLst>
                      <a:ahLst/>
                      <a:rect l="textAreaLeft" t="textAreaTop" r="textAreaRight" b="textAreaBottom"/>
                      <a:pathLst>
                        <a:path w="67" h="223">
                          <a:moveTo>
                            <a:pt x="67" y="212"/>
                          </a:moveTo>
                          <a:lnTo>
                            <a:pt x="67" y="201"/>
                          </a:lnTo>
                          <a:lnTo>
                            <a:pt x="45" y="189"/>
                          </a:lnTo>
                          <a:lnTo>
                            <a:pt x="22" y="167"/>
                          </a:lnTo>
                          <a:lnTo>
                            <a:pt x="11" y="145"/>
                          </a:lnTo>
                          <a:lnTo>
                            <a:pt x="11" y="123"/>
                          </a:lnTo>
                          <a:lnTo>
                            <a:pt x="11" y="89"/>
                          </a:lnTo>
                          <a:lnTo>
                            <a:pt x="22" y="67"/>
                          </a:lnTo>
                          <a:lnTo>
                            <a:pt x="45" y="33"/>
                          </a:lnTo>
                          <a:lnTo>
                            <a:pt x="67" y="11"/>
                          </a:lnTo>
                          <a:lnTo>
                            <a:pt x="56" y="0"/>
                          </a:lnTo>
                          <a:lnTo>
                            <a:pt x="33" y="22"/>
                          </a:lnTo>
                          <a:lnTo>
                            <a:pt x="11" y="56"/>
                          </a:lnTo>
                          <a:lnTo>
                            <a:pt x="0" y="89"/>
                          </a:lnTo>
                          <a:lnTo>
                            <a:pt x="0" y="123"/>
                          </a:lnTo>
                          <a:lnTo>
                            <a:pt x="0" y="145"/>
                          </a:lnTo>
                          <a:lnTo>
                            <a:pt x="11" y="178"/>
                          </a:lnTo>
                          <a:lnTo>
                            <a:pt x="33" y="201"/>
                          </a:lnTo>
                          <a:lnTo>
                            <a:pt x="56" y="223"/>
                          </a:lnTo>
                          <a:lnTo>
                            <a:pt x="56" y="212"/>
                          </a:lnTo>
                          <a:lnTo>
                            <a:pt x="67" y="212"/>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784"/>
                    <p:cNvSpPr/>
                    <p:nvPr/>
                  </p:nvSpPr>
                  <p:spPr>
                    <a:xfrm rot="111600">
                      <a:off x="7992720" y="782280"/>
                      <a:ext cx="5400" cy="11520"/>
                    </a:xfrm>
                    <a:custGeom>
                      <a:avLst/>
                      <a:gdLst>
                        <a:gd name="textAreaLeft" fmla="*/ 0 w 5400"/>
                        <a:gd name="textAreaRight" fmla="*/ 5760 w 5400"/>
                        <a:gd name="textAreaTop" fmla="*/ 0 h 11520"/>
                        <a:gd name="textAreaBottom" fmla="*/ 11880 h 11520"/>
                      </a:gdLst>
                      <a:ahLst/>
                      <a:rect l="textAreaLeft" t="textAreaTop" r="textAreaRight" b="textAreaBottom"/>
                      <a:pathLst>
                        <a:path w="44" h="89">
                          <a:moveTo>
                            <a:pt x="33" y="78"/>
                          </a:moveTo>
                          <a:lnTo>
                            <a:pt x="44" y="78"/>
                          </a:lnTo>
                          <a:lnTo>
                            <a:pt x="33" y="67"/>
                          </a:lnTo>
                          <a:lnTo>
                            <a:pt x="22" y="55"/>
                          </a:lnTo>
                          <a:lnTo>
                            <a:pt x="11" y="33"/>
                          </a:lnTo>
                          <a:lnTo>
                            <a:pt x="11" y="0"/>
                          </a:lnTo>
                          <a:lnTo>
                            <a:pt x="0" y="0"/>
                          </a:lnTo>
                          <a:lnTo>
                            <a:pt x="0" y="33"/>
                          </a:lnTo>
                          <a:lnTo>
                            <a:pt x="11" y="55"/>
                          </a:lnTo>
                          <a:lnTo>
                            <a:pt x="22" y="67"/>
                          </a:lnTo>
                          <a:lnTo>
                            <a:pt x="33" y="89"/>
                          </a:lnTo>
                          <a:lnTo>
                            <a:pt x="33" y="78"/>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783"/>
                    <p:cNvSpPr/>
                    <p:nvPr/>
                  </p:nvSpPr>
                  <p:spPr>
                    <a:xfrm rot="111600">
                      <a:off x="7996680" y="791640"/>
                      <a:ext cx="21240" cy="4320"/>
                    </a:xfrm>
                    <a:custGeom>
                      <a:avLst/>
                      <a:gdLst>
                        <a:gd name="textAreaLeft" fmla="*/ 0 w 21240"/>
                        <a:gd name="textAreaRight" fmla="*/ 21600 w 21240"/>
                        <a:gd name="textAreaTop" fmla="*/ 0 h 4320"/>
                        <a:gd name="textAreaBottom" fmla="*/ 4680 h 4320"/>
                      </a:gdLst>
                      <a:ahLst/>
                      <a:rect l="textAreaLeft" t="textAreaTop" r="textAreaRight" b="textAreaBottom"/>
                      <a:pathLst>
                        <a:path w="167" h="33">
                          <a:moveTo>
                            <a:pt x="167" y="11"/>
                          </a:moveTo>
                          <a:lnTo>
                            <a:pt x="167" y="0"/>
                          </a:lnTo>
                          <a:lnTo>
                            <a:pt x="145" y="0"/>
                          </a:lnTo>
                          <a:lnTo>
                            <a:pt x="134" y="0"/>
                          </a:lnTo>
                          <a:lnTo>
                            <a:pt x="123" y="11"/>
                          </a:lnTo>
                          <a:lnTo>
                            <a:pt x="112" y="11"/>
                          </a:lnTo>
                          <a:lnTo>
                            <a:pt x="89" y="22"/>
                          </a:lnTo>
                          <a:lnTo>
                            <a:pt x="67" y="22"/>
                          </a:lnTo>
                          <a:lnTo>
                            <a:pt x="34" y="11"/>
                          </a:lnTo>
                          <a:lnTo>
                            <a:pt x="0" y="11"/>
                          </a:lnTo>
                          <a:lnTo>
                            <a:pt x="0" y="22"/>
                          </a:lnTo>
                          <a:lnTo>
                            <a:pt x="34" y="22"/>
                          </a:lnTo>
                          <a:lnTo>
                            <a:pt x="67" y="33"/>
                          </a:lnTo>
                          <a:lnTo>
                            <a:pt x="89" y="33"/>
                          </a:lnTo>
                          <a:lnTo>
                            <a:pt x="112" y="22"/>
                          </a:lnTo>
                          <a:lnTo>
                            <a:pt x="123" y="22"/>
                          </a:lnTo>
                          <a:lnTo>
                            <a:pt x="134" y="22"/>
                          </a:lnTo>
                          <a:lnTo>
                            <a:pt x="156" y="11"/>
                          </a:lnTo>
                          <a:lnTo>
                            <a:pt x="167" y="11"/>
                          </a:lnTo>
                          <a:lnTo>
                            <a:pt x="156" y="0"/>
                          </a:lnTo>
                          <a:lnTo>
                            <a:pt x="167"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782"/>
                    <p:cNvSpPr/>
                    <p:nvPr/>
                  </p:nvSpPr>
                  <p:spPr>
                    <a:xfrm rot="111600">
                      <a:off x="8015040" y="792000"/>
                      <a:ext cx="9720" cy="15840"/>
                    </a:xfrm>
                    <a:custGeom>
                      <a:avLst/>
                      <a:gdLst>
                        <a:gd name="textAreaLeft" fmla="*/ 0 w 9720"/>
                        <a:gd name="textAreaRight" fmla="*/ 10080 w 9720"/>
                        <a:gd name="textAreaTop" fmla="*/ 0 h 15840"/>
                        <a:gd name="textAreaBottom" fmla="*/ 16200 h 15840"/>
                      </a:gdLst>
                      <a:ahLst/>
                      <a:rect l="textAreaLeft" t="textAreaTop" r="textAreaRight" b="textAreaBottom"/>
                      <a:pathLst>
                        <a:path w="78" h="122">
                          <a:moveTo>
                            <a:pt x="78" y="122"/>
                          </a:moveTo>
                          <a:lnTo>
                            <a:pt x="67" y="111"/>
                          </a:lnTo>
                          <a:lnTo>
                            <a:pt x="45" y="100"/>
                          </a:lnTo>
                          <a:lnTo>
                            <a:pt x="22" y="89"/>
                          </a:lnTo>
                          <a:lnTo>
                            <a:pt x="22" y="78"/>
                          </a:lnTo>
                          <a:lnTo>
                            <a:pt x="11" y="67"/>
                          </a:lnTo>
                          <a:lnTo>
                            <a:pt x="11" y="55"/>
                          </a:lnTo>
                          <a:lnTo>
                            <a:pt x="11" y="44"/>
                          </a:lnTo>
                          <a:lnTo>
                            <a:pt x="22" y="22"/>
                          </a:lnTo>
                          <a:lnTo>
                            <a:pt x="22" y="11"/>
                          </a:lnTo>
                          <a:lnTo>
                            <a:pt x="11" y="0"/>
                          </a:lnTo>
                          <a:lnTo>
                            <a:pt x="11" y="22"/>
                          </a:lnTo>
                          <a:lnTo>
                            <a:pt x="0" y="44"/>
                          </a:lnTo>
                          <a:lnTo>
                            <a:pt x="0" y="55"/>
                          </a:lnTo>
                          <a:lnTo>
                            <a:pt x="0" y="67"/>
                          </a:lnTo>
                          <a:lnTo>
                            <a:pt x="11" y="89"/>
                          </a:lnTo>
                          <a:lnTo>
                            <a:pt x="22" y="100"/>
                          </a:lnTo>
                          <a:lnTo>
                            <a:pt x="34" y="111"/>
                          </a:lnTo>
                          <a:lnTo>
                            <a:pt x="67" y="122"/>
                          </a:lnTo>
                          <a:lnTo>
                            <a:pt x="67" y="111"/>
                          </a:lnTo>
                          <a:lnTo>
                            <a:pt x="78" y="122"/>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1781"/>
                    <p:cNvSpPr/>
                    <p:nvPr/>
                  </p:nvSpPr>
                  <p:spPr>
                    <a:xfrm rot="111600">
                      <a:off x="8020440" y="806760"/>
                      <a:ext cx="3960" cy="14760"/>
                    </a:xfrm>
                    <a:custGeom>
                      <a:avLst/>
                      <a:gdLst>
                        <a:gd name="textAreaLeft" fmla="*/ 0 w 3960"/>
                        <a:gd name="textAreaRight" fmla="*/ 4320 w 3960"/>
                        <a:gd name="textAreaTop" fmla="*/ 0 h 14760"/>
                        <a:gd name="textAreaBottom" fmla="*/ 15120 h 14760"/>
                      </a:gdLst>
                      <a:ahLst/>
                      <a:rect l="textAreaLeft" t="textAreaTop" r="textAreaRight" b="textAreaBottom"/>
                      <a:pathLst>
                        <a:path w="33" h="112">
                          <a:moveTo>
                            <a:pt x="22" y="100"/>
                          </a:moveTo>
                          <a:lnTo>
                            <a:pt x="33" y="100"/>
                          </a:lnTo>
                          <a:lnTo>
                            <a:pt x="22" y="78"/>
                          </a:lnTo>
                          <a:lnTo>
                            <a:pt x="11" y="56"/>
                          </a:lnTo>
                          <a:lnTo>
                            <a:pt x="22" y="22"/>
                          </a:lnTo>
                          <a:lnTo>
                            <a:pt x="33" y="11"/>
                          </a:lnTo>
                          <a:lnTo>
                            <a:pt x="22" y="0"/>
                          </a:lnTo>
                          <a:lnTo>
                            <a:pt x="11" y="22"/>
                          </a:lnTo>
                          <a:lnTo>
                            <a:pt x="0" y="56"/>
                          </a:lnTo>
                          <a:lnTo>
                            <a:pt x="0" y="89"/>
                          </a:lnTo>
                          <a:lnTo>
                            <a:pt x="22" y="112"/>
                          </a:lnTo>
                          <a:lnTo>
                            <a:pt x="22" y="100"/>
                          </a:lnTo>
                          <a:close/>
                        </a:path>
                      </a:pathLst>
                    </a:custGeom>
                    <a:solidFill>
                      <a:srgbClr val="000000"/>
                    </a:solidFill>
                    <a:ln w="0">
                      <a:noFill/>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780"/>
                    <p:cNvSpPr/>
                    <p:nvPr/>
                  </p:nvSpPr>
                  <p:spPr>
                    <a:xfrm rot="111600">
                      <a:off x="8023320" y="803880"/>
                      <a:ext cx="16920" cy="20520"/>
                    </a:xfrm>
                    <a:custGeom>
                      <a:avLst/>
                      <a:gdLst>
                        <a:gd name="textAreaLeft" fmla="*/ 0 w 16920"/>
                        <a:gd name="textAreaRight" fmla="*/ 17280 w 16920"/>
                        <a:gd name="textAreaTop" fmla="*/ 0 h 20520"/>
                        <a:gd name="textAreaBottom" fmla="*/ 20880 h 20520"/>
                      </a:gdLst>
                      <a:ahLst/>
                      <a:rect l="textAreaLeft" t="textAreaTop" r="textAreaRight" b="textAreaBottom"/>
                      <a:pathLst>
                        <a:path w="134" h="156">
                          <a:moveTo>
                            <a:pt x="123" y="0"/>
                          </a:moveTo>
                          <a:lnTo>
                            <a:pt x="123" y="11"/>
                          </a:lnTo>
                          <a:lnTo>
                            <a:pt x="123" y="33"/>
                          </a:lnTo>
                          <a:lnTo>
                            <a:pt x="123" y="67"/>
                          </a:lnTo>
                          <a:lnTo>
                            <a:pt x="111" y="89"/>
                          </a:lnTo>
                          <a:lnTo>
                            <a:pt x="89" y="111"/>
                          </a:lnTo>
                          <a:lnTo>
                            <a:pt x="78" y="134"/>
                          </a:lnTo>
                          <a:lnTo>
                            <a:pt x="56" y="134"/>
                          </a:lnTo>
                          <a:lnTo>
                            <a:pt x="22" y="134"/>
                          </a:lnTo>
                          <a:lnTo>
                            <a:pt x="0" y="122"/>
                          </a:lnTo>
                          <a:lnTo>
                            <a:pt x="0" y="134"/>
                          </a:lnTo>
                          <a:lnTo>
                            <a:pt x="22" y="145"/>
                          </a:lnTo>
                          <a:lnTo>
                            <a:pt x="56" y="156"/>
                          </a:lnTo>
                          <a:lnTo>
                            <a:pt x="78" y="145"/>
                          </a:lnTo>
                          <a:lnTo>
                            <a:pt x="100" y="122"/>
                          </a:lnTo>
                          <a:lnTo>
                            <a:pt x="123" y="100"/>
                          </a:lnTo>
                          <a:lnTo>
                            <a:pt x="134" y="67"/>
                          </a:lnTo>
                          <a:lnTo>
                            <a:pt x="134" y="33"/>
                          </a:lnTo>
                          <a:lnTo>
                            <a:pt x="134" y="11"/>
                          </a:lnTo>
                          <a:lnTo>
                            <a:pt x="123" y="22"/>
                          </a:lnTo>
                          <a:lnTo>
                            <a:pt x="123" y="0"/>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1779"/>
                    <p:cNvSpPr/>
                    <p:nvPr/>
                  </p:nvSpPr>
                  <p:spPr>
                    <a:xfrm rot="111600">
                      <a:off x="8039880" y="775080"/>
                      <a:ext cx="12600" cy="32040"/>
                    </a:xfrm>
                    <a:custGeom>
                      <a:avLst/>
                      <a:gdLst>
                        <a:gd name="textAreaLeft" fmla="*/ 0 w 12600"/>
                        <a:gd name="textAreaRight" fmla="*/ 12960 w 12600"/>
                        <a:gd name="textAreaTop" fmla="*/ 0 h 32040"/>
                        <a:gd name="textAreaBottom" fmla="*/ 32400 h 32040"/>
                      </a:gdLst>
                      <a:ahLst/>
                      <a:rect l="textAreaLeft" t="textAreaTop" r="textAreaRight" b="textAreaBottom"/>
                      <a:pathLst>
                        <a:path w="100" h="245">
                          <a:moveTo>
                            <a:pt x="89" y="0"/>
                          </a:moveTo>
                          <a:lnTo>
                            <a:pt x="89" y="11"/>
                          </a:lnTo>
                          <a:lnTo>
                            <a:pt x="89" y="44"/>
                          </a:lnTo>
                          <a:lnTo>
                            <a:pt x="89" y="78"/>
                          </a:lnTo>
                          <a:lnTo>
                            <a:pt x="89" y="111"/>
                          </a:lnTo>
                          <a:lnTo>
                            <a:pt x="89" y="145"/>
                          </a:lnTo>
                          <a:lnTo>
                            <a:pt x="78" y="167"/>
                          </a:lnTo>
                          <a:lnTo>
                            <a:pt x="55" y="189"/>
                          </a:lnTo>
                          <a:lnTo>
                            <a:pt x="33" y="212"/>
                          </a:lnTo>
                          <a:lnTo>
                            <a:pt x="0" y="223"/>
                          </a:lnTo>
                          <a:lnTo>
                            <a:pt x="0" y="245"/>
                          </a:lnTo>
                          <a:lnTo>
                            <a:pt x="44" y="223"/>
                          </a:lnTo>
                          <a:lnTo>
                            <a:pt x="66" y="201"/>
                          </a:lnTo>
                          <a:lnTo>
                            <a:pt x="89" y="178"/>
                          </a:lnTo>
                          <a:lnTo>
                            <a:pt x="100" y="145"/>
                          </a:lnTo>
                          <a:lnTo>
                            <a:pt x="100" y="111"/>
                          </a:lnTo>
                          <a:lnTo>
                            <a:pt x="100" y="78"/>
                          </a:lnTo>
                          <a:lnTo>
                            <a:pt x="100" y="44"/>
                          </a:lnTo>
                          <a:lnTo>
                            <a:pt x="100" y="11"/>
                          </a:lnTo>
                          <a:lnTo>
                            <a:pt x="89" y="22"/>
                          </a:lnTo>
                          <a:lnTo>
                            <a:pt x="89" y="0"/>
                          </a:lnTo>
                          <a:close/>
                        </a:path>
                      </a:pathLst>
                    </a:custGeom>
                    <a:solidFill>
                      <a:srgbClr val="00000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1778"/>
                    <p:cNvSpPr/>
                    <p:nvPr/>
                  </p:nvSpPr>
                  <p:spPr>
                    <a:xfrm rot="111600">
                      <a:off x="8051400" y="756720"/>
                      <a:ext cx="28440" cy="21960"/>
                    </a:xfrm>
                    <a:custGeom>
                      <a:avLst/>
                      <a:gdLst>
                        <a:gd name="textAreaLeft" fmla="*/ 0 w 28440"/>
                        <a:gd name="textAreaRight" fmla="*/ 28800 w 28440"/>
                        <a:gd name="textAreaTop" fmla="*/ 0 h 21960"/>
                        <a:gd name="textAreaBottom" fmla="*/ 22320 h 21960"/>
                      </a:gdLst>
                      <a:ahLst/>
                      <a:rect l="textAreaLeft" t="textAreaTop" r="textAreaRight" b="textAreaBottom"/>
                      <a:pathLst>
                        <a:path w="223" h="167">
                          <a:moveTo>
                            <a:pt x="223" y="0"/>
                          </a:moveTo>
                          <a:lnTo>
                            <a:pt x="211" y="0"/>
                          </a:lnTo>
                          <a:lnTo>
                            <a:pt x="211" y="22"/>
                          </a:lnTo>
                          <a:lnTo>
                            <a:pt x="200" y="33"/>
                          </a:lnTo>
                          <a:lnTo>
                            <a:pt x="189" y="45"/>
                          </a:lnTo>
                          <a:lnTo>
                            <a:pt x="178" y="56"/>
                          </a:lnTo>
                          <a:lnTo>
                            <a:pt x="167" y="67"/>
                          </a:lnTo>
                          <a:lnTo>
                            <a:pt x="145" y="78"/>
                          </a:lnTo>
                          <a:lnTo>
                            <a:pt x="133" y="89"/>
                          </a:lnTo>
                          <a:lnTo>
                            <a:pt x="122" y="100"/>
                          </a:lnTo>
                          <a:lnTo>
                            <a:pt x="111" y="100"/>
                          </a:lnTo>
                          <a:lnTo>
                            <a:pt x="100" y="111"/>
                          </a:lnTo>
                          <a:lnTo>
                            <a:pt x="78" y="123"/>
                          </a:lnTo>
                          <a:lnTo>
                            <a:pt x="67" y="123"/>
                          </a:lnTo>
                          <a:lnTo>
                            <a:pt x="44" y="134"/>
                          </a:lnTo>
                          <a:lnTo>
                            <a:pt x="33" y="134"/>
                          </a:lnTo>
                          <a:lnTo>
                            <a:pt x="11" y="145"/>
                          </a:lnTo>
                          <a:lnTo>
                            <a:pt x="0" y="145"/>
                          </a:lnTo>
                          <a:lnTo>
                            <a:pt x="0" y="167"/>
                          </a:lnTo>
                          <a:lnTo>
                            <a:pt x="22" y="156"/>
                          </a:lnTo>
                          <a:lnTo>
                            <a:pt x="33" y="156"/>
                          </a:lnTo>
                          <a:lnTo>
                            <a:pt x="55" y="145"/>
                          </a:lnTo>
                          <a:lnTo>
                            <a:pt x="67" y="134"/>
                          </a:lnTo>
                          <a:lnTo>
                            <a:pt x="89" y="134"/>
                          </a:lnTo>
                          <a:lnTo>
                            <a:pt x="100" y="123"/>
                          </a:lnTo>
                          <a:lnTo>
                            <a:pt x="111" y="111"/>
                          </a:lnTo>
                          <a:lnTo>
                            <a:pt x="133" y="111"/>
                          </a:lnTo>
                          <a:lnTo>
                            <a:pt x="145" y="100"/>
                          </a:lnTo>
                          <a:lnTo>
                            <a:pt x="156" y="89"/>
                          </a:lnTo>
                          <a:lnTo>
                            <a:pt x="167" y="78"/>
                          </a:lnTo>
                          <a:lnTo>
                            <a:pt x="189" y="67"/>
                          </a:lnTo>
                          <a:lnTo>
                            <a:pt x="200" y="56"/>
                          </a:lnTo>
                          <a:lnTo>
                            <a:pt x="211" y="33"/>
                          </a:lnTo>
                          <a:lnTo>
                            <a:pt x="211" y="22"/>
                          </a:lnTo>
                          <a:lnTo>
                            <a:pt x="223" y="11"/>
                          </a:lnTo>
                          <a:lnTo>
                            <a:pt x="211" y="11"/>
                          </a:lnTo>
                          <a:lnTo>
                            <a:pt x="223"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777"/>
                    <p:cNvSpPr/>
                    <p:nvPr/>
                  </p:nvSpPr>
                  <p:spPr>
                    <a:xfrm rot="111600">
                      <a:off x="8079120" y="753120"/>
                      <a:ext cx="27000" cy="11520"/>
                    </a:xfrm>
                    <a:custGeom>
                      <a:avLst/>
                      <a:gdLst>
                        <a:gd name="textAreaLeft" fmla="*/ 0 w 27000"/>
                        <a:gd name="textAreaRight" fmla="*/ 27360 w 27000"/>
                        <a:gd name="textAreaTop" fmla="*/ 0 h 11520"/>
                        <a:gd name="textAreaBottom" fmla="*/ 11880 h 11520"/>
                      </a:gdLst>
                      <a:ahLst/>
                      <a:rect l="textAreaLeft" t="textAreaTop" r="textAreaRight" b="textAreaBottom"/>
                      <a:pathLst>
                        <a:path w="212" h="89">
                          <a:moveTo>
                            <a:pt x="212" y="0"/>
                          </a:moveTo>
                          <a:lnTo>
                            <a:pt x="201" y="0"/>
                          </a:lnTo>
                          <a:lnTo>
                            <a:pt x="179" y="22"/>
                          </a:lnTo>
                          <a:lnTo>
                            <a:pt x="168" y="44"/>
                          </a:lnTo>
                          <a:lnTo>
                            <a:pt x="134" y="55"/>
                          </a:lnTo>
                          <a:lnTo>
                            <a:pt x="112" y="66"/>
                          </a:lnTo>
                          <a:lnTo>
                            <a:pt x="90" y="78"/>
                          </a:lnTo>
                          <a:lnTo>
                            <a:pt x="56" y="66"/>
                          </a:lnTo>
                          <a:lnTo>
                            <a:pt x="34" y="55"/>
                          </a:lnTo>
                          <a:lnTo>
                            <a:pt x="12" y="33"/>
                          </a:lnTo>
                          <a:lnTo>
                            <a:pt x="0" y="44"/>
                          </a:lnTo>
                          <a:lnTo>
                            <a:pt x="34" y="66"/>
                          </a:lnTo>
                          <a:lnTo>
                            <a:pt x="56" y="89"/>
                          </a:lnTo>
                          <a:lnTo>
                            <a:pt x="90" y="89"/>
                          </a:lnTo>
                          <a:lnTo>
                            <a:pt x="112" y="78"/>
                          </a:lnTo>
                          <a:lnTo>
                            <a:pt x="145" y="66"/>
                          </a:lnTo>
                          <a:lnTo>
                            <a:pt x="168" y="55"/>
                          </a:lnTo>
                          <a:lnTo>
                            <a:pt x="190" y="33"/>
                          </a:lnTo>
                          <a:lnTo>
                            <a:pt x="212" y="11"/>
                          </a:lnTo>
                          <a:lnTo>
                            <a:pt x="201" y="11"/>
                          </a:lnTo>
                          <a:lnTo>
                            <a:pt x="212" y="0"/>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776"/>
                    <p:cNvSpPr/>
                    <p:nvPr/>
                  </p:nvSpPr>
                  <p:spPr>
                    <a:xfrm rot="111600">
                      <a:off x="8104680" y="753840"/>
                      <a:ext cx="27000" cy="14400"/>
                    </a:xfrm>
                    <a:custGeom>
                      <a:avLst/>
                      <a:gdLst>
                        <a:gd name="textAreaLeft" fmla="*/ 0 w 27000"/>
                        <a:gd name="textAreaRight" fmla="*/ 27360 w 27000"/>
                        <a:gd name="textAreaTop" fmla="*/ 0 h 14400"/>
                        <a:gd name="textAreaBottom" fmla="*/ 14760 h 14400"/>
                      </a:gdLst>
                      <a:ahLst/>
                      <a:rect l="textAreaLeft" t="textAreaTop" r="textAreaRight" b="textAreaBottom"/>
                      <a:pathLst>
                        <a:path w="212" h="111">
                          <a:moveTo>
                            <a:pt x="212" y="100"/>
                          </a:moveTo>
                          <a:lnTo>
                            <a:pt x="201" y="89"/>
                          </a:lnTo>
                          <a:lnTo>
                            <a:pt x="167" y="100"/>
                          </a:lnTo>
                          <a:lnTo>
                            <a:pt x="134" y="100"/>
                          </a:lnTo>
                          <a:lnTo>
                            <a:pt x="112" y="100"/>
                          </a:lnTo>
                          <a:lnTo>
                            <a:pt x="89" y="89"/>
                          </a:lnTo>
                          <a:lnTo>
                            <a:pt x="67" y="66"/>
                          </a:lnTo>
                          <a:lnTo>
                            <a:pt x="45" y="44"/>
                          </a:lnTo>
                          <a:lnTo>
                            <a:pt x="34" y="22"/>
                          </a:lnTo>
                          <a:lnTo>
                            <a:pt x="11" y="0"/>
                          </a:lnTo>
                          <a:lnTo>
                            <a:pt x="0" y="11"/>
                          </a:lnTo>
                          <a:lnTo>
                            <a:pt x="22" y="33"/>
                          </a:lnTo>
                          <a:lnTo>
                            <a:pt x="34" y="55"/>
                          </a:lnTo>
                          <a:lnTo>
                            <a:pt x="67" y="78"/>
                          </a:lnTo>
                          <a:lnTo>
                            <a:pt x="89" y="100"/>
                          </a:lnTo>
                          <a:lnTo>
                            <a:pt x="112" y="111"/>
                          </a:lnTo>
                          <a:lnTo>
                            <a:pt x="134" y="111"/>
                          </a:lnTo>
                          <a:lnTo>
                            <a:pt x="167" y="111"/>
                          </a:lnTo>
                          <a:lnTo>
                            <a:pt x="201" y="100"/>
                          </a:lnTo>
                          <a:lnTo>
                            <a:pt x="201" y="89"/>
                          </a:lnTo>
                          <a:lnTo>
                            <a:pt x="212" y="100"/>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1775"/>
                    <p:cNvSpPr/>
                    <p:nvPr/>
                  </p:nvSpPr>
                  <p:spPr>
                    <a:xfrm rot="111600">
                      <a:off x="8128080" y="766440"/>
                      <a:ext cx="11160" cy="23400"/>
                    </a:xfrm>
                    <a:custGeom>
                      <a:avLst/>
                      <a:gdLst>
                        <a:gd name="textAreaLeft" fmla="*/ 0 w 11160"/>
                        <a:gd name="textAreaRight" fmla="*/ 11520 w 11160"/>
                        <a:gd name="textAreaTop" fmla="*/ 0 h 23400"/>
                        <a:gd name="textAreaBottom" fmla="*/ 23760 h 23400"/>
                      </a:gdLst>
                      <a:ahLst/>
                      <a:rect l="textAreaLeft" t="textAreaTop" r="textAreaRight" b="textAreaBottom"/>
                      <a:pathLst>
                        <a:path w="89" h="178">
                          <a:moveTo>
                            <a:pt x="89" y="167"/>
                          </a:moveTo>
                          <a:lnTo>
                            <a:pt x="89" y="167"/>
                          </a:lnTo>
                          <a:lnTo>
                            <a:pt x="66" y="156"/>
                          </a:lnTo>
                          <a:lnTo>
                            <a:pt x="55" y="133"/>
                          </a:lnTo>
                          <a:lnTo>
                            <a:pt x="33" y="111"/>
                          </a:lnTo>
                          <a:lnTo>
                            <a:pt x="22" y="89"/>
                          </a:lnTo>
                          <a:lnTo>
                            <a:pt x="22" y="67"/>
                          </a:lnTo>
                          <a:lnTo>
                            <a:pt x="11" y="44"/>
                          </a:lnTo>
                          <a:lnTo>
                            <a:pt x="11" y="22"/>
                          </a:lnTo>
                          <a:lnTo>
                            <a:pt x="22" y="11"/>
                          </a:lnTo>
                          <a:lnTo>
                            <a:pt x="11" y="0"/>
                          </a:lnTo>
                          <a:lnTo>
                            <a:pt x="0" y="22"/>
                          </a:lnTo>
                          <a:lnTo>
                            <a:pt x="0" y="44"/>
                          </a:lnTo>
                          <a:lnTo>
                            <a:pt x="11" y="67"/>
                          </a:lnTo>
                          <a:lnTo>
                            <a:pt x="11" y="100"/>
                          </a:lnTo>
                          <a:lnTo>
                            <a:pt x="22" y="122"/>
                          </a:lnTo>
                          <a:lnTo>
                            <a:pt x="44" y="145"/>
                          </a:lnTo>
                          <a:lnTo>
                            <a:pt x="55" y="167"/>
                          </a:lnTo>
                          <a:lnTo>
                            <a:pt x="89" y="178"/>
                          </a:lnTo>
                          <a:lnTo>
                            <a:pt x="89" y="167"/>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774"/>
                    <p:cNvSpPr/>
                    <p:nvPr/>
                  </p:nvSpPr>
                  <p:spPr>
                    <a:xfrm rot="111600">
                      <a:off x="8139240" y="787320"/>
                      <a:ext cx="11160" cy="2880"/>
                    </a:xfrm>
                    <a:custGeom>
                      <a:avLst/>
                      <a:gdLst>
                        <a:gd name="textAreaLeft" fmla="*/ 0 w 11160"/>
                        <a:gd name="textAreaRight" fmla="*/ 11520 w 11160"/>
                        <a:gd name="textAreaTop" fmla="*/ 0 h 2880"/>
                        <a:gd name="textAreaBottom" fmla="*/ 3240 h 2880"/>
                      </a:gdLst>
                      <a:ahLst/>
                      <a:rect l="textAreaLeft" t="textAreaTop" r="textAreaRight" b="textAreaBottom"/>
                      <a:pathLst>
                        <a:path w="89" h="22">
                          <a:moveTo>
                            <a:pt x="89" y="11"/>
                          </a:moveTo>
                          <a:lnTo>
                            <a:pt x="78" y="0"/>
                          </a:lnTo>
                          <a:lnTo>
                            <a:pt x="67" y="0"/>
                          </a:lnTo>
                          <a:lnTo>
                            <a:pt x="44" y="11"/>
                          </a:lnTo>
                          <a:lnTo>
                            <a:pt x="33" y="11"/>
                          </a:lnTo>
                          <a:lnTo>
                            <a:pt x="22" y="11"/>
                          </a:lnTo>
                          <a:lnTo>
                            <a:pt x="11" y="11"/>
                          </a:lnTo>
                          <a:lnTo>
                            <a:pt x="0" y="11"/>
                          </a:lnTo>
                          <a:lnTo>
                            <a:pt x="0" y="22"/>
                          </a:lnTo>
                          <a:lnTo>
                            <a:pt x="11" y="22"/>
                          </a:lnTo>
                          <a:lnTo>
                            <a:pt x="22" y="22"/>
                          </a:lnTo>
                          <a:lnTo>
                            <a:pt x="44" y="22"/>
                          </a:lnTo>
                          <a:lnTo>
                            <a:pt x="55" y="22"/>
                          </a:lnTo>
                          <a:lnTo>
                            <a:pt x="67" y="22"/>
                          </a:lnTo>
                          <a:lnTo>
                            <a:pt x="78" y="22"/>
                          </a:lnTo>
                          <a:lnTo>
                            <a:pt x="78" y="11"/>
                          </a:lnTo>
                          <a:lnTo>
                            <a:pt x="89"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773"/>
                    <p:cNvSpPr/>
                    <p:nvPr/>
                  </p:nvSpPr>
                  <p:spPr>
                    <a:xfrm rot="111600">
                      <a:off x="8147880" y="788760"/>
                      <a:ext cx="2520" cy="14400"/>
                    </a:xfrm>
                    <a:custGeom>
                      <a:avLst/>
                      <a:gdLst>
                        <a:gd name="textAreaLeft" fmla="*/ 0 w 2520"/>
                        <a:gd name="textAreaRight" fmla="*/ 2880 w 2520"/>
                        <a:gd name="textAreaTop" fmla="*/ 0 h 14400"/>
                        <a:gd name="textAreaBottom" fmla="*/ 14760 h 14400"/>
                      </a:gdLst>
                      <a:ahLst/>
                      <a:rect l="textAreaLeft" t="textAreaTop" r="textAreaRight" b="textAreaBottom"/>
                      <a:pathLst>
                        <a:path w="22" h="111">
                          <a:moveTo>
                            <a:pt x="22" y="100"/>
                          </a:moveTo>
                          <a:lnTo>
                            <a:pt x="22" y="100"/>
                          </a:lnTo>
                          <a:lnTo>
                            <a:pt x="11" y="78"/>
                          </a:lnTo>
                          <a:lnTo>
                            <a:pt x="11" y="56"/>
                          </a:lnTo>
                          <a:lnTo>
                            <a:pt x="22" y="22"/>
                          </a:lnTo>
                          <a:lnTo>
                            <a:pt x="22" y="0"/>
                          </a:lnTo>
                          <a:lnTo>
                            <a:pt x="11" y="0"/>
                          </a:lnTo>
                          <a:lnTo>
                            <a:pt x="0" y="22"/>
                          </a:lnTo>
                          <a:lnTo>
                            <a:pt x="0" y="56"/>
                          </a:lnTo>
                          <a:lnTo>
                            <a:pt x="0" y="78"/>
                          </a:lnTo>
                          <a:lnTo>
                            <a:pt x="11" y="111"/>
                          </a:lnTo>
                          <a:lnTo>
                            <a:pt x="22" y="100"/>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772"/>
                    <p:cNvSpPr/>
                    <p:nvPr/>
                  </p:nvSpPr>
                  <p:spPr>
                    <a:xfrm rot="111600">
                      <a:off x="8148600" y="802080"/>
                      <a:ext cx="9720" cy="10080"/>
                    </a:xfrm>
                    <a:custGeom>
                      <a:avLst/>
                      <a:gdLst>
                        <a:gd name="textAreaLeft" fmla="*/ 0 w 9720"/>
                        <a:gd name="textAreaRight" fmla="*/ 10080 w 9720"/>
                        <a:gd name="textAreaTop" fmla="*/ 0 h 10080"/>
                        <a:gd name="textAreaBottom" fmla="*/ 10440 h 10080"/>
                      </a:gdLst>
                      <a:ahLst/>
                      <a:rect l="textAreaLeft" t="textAreaTop" r="textAreaRight" b="textAreaBottom"/>
                      <a:pathLst>
                        <a:path w="78" h="78">
                          <a:moveTo>
                            <a:pt x="78" y="78"/>
                          </a:moveTo>
                          <a:lnTo>
                            <a:pt x="78" y="67"/>
                          </a:lnTo>
                          <a:lnTo>
                            <a:pt x="67" y="67"/>
                          </a:lnTo>
                          <a:lnTo>
                            <a:pt x="67" y="56"/>
                          </a:lnTo>
                          <a:lnTo>
                            <a:pt x="55" y="56"/>
                          </a:lnTo>
                          <a:lnTo>
                            <a:pt x="44" y="45"/>
                          </a:lnTo>
                          <a:lnTo>
                            <a:pt x="33" y="34"/>
                          </a:lnTo>
                          <a:lnTo>
                            <a:pt x="33" y="23"/>
                          </a:lnTo>
                          <a:lnTo>
                            <a:pt x="22" y="11"/>
                          </a:lnTo>
                          <a:lnTo>
                            <a:pt x="11" y="0"/>
                          </a:lnTo>
                          <a:lnTo>
                            <a:pt x="0" y="11"/>
                          </a:lnTo>
                          <a:lnTo>
                            <a:pt x="11" y="23"/>
                          </a:lnTo>
                          <a:lnTo>
                            <a:pt x="22" y="34"/>
                          </a:lnTo>
                          <a:lnTo>
                            <a:pt x="22" y="45"/>
                          </a:lnTo>
                          <a:lnTo>
                            <a:pt x="33" y="56"/>
                          </a:lnTo>
                          <a:lnTo>
                            <a:pt x="44" y="67"/>
                          </a:lnTo>
                          <a:lnTo>
                            <a:pt x="55" y="67"/>
                          </a:lnTo>
                          <a:lnTo>
                            <a:pt x="67" y="78"/>
                          </a:lnTo>
                          <a:lnTo>
                            <a:pt x="78" y="78"/>
                          </a:lnTo>
                          <a:lnTo>
                            <a:pt x="67" y="78"/>
                          </a:lnTo>
                          <a:lnTo>
                            <a:pt x="78" y="78"/>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1771"/>
                    <p:cNvSpPr/>
                    <p:nvPr/>
                  </p:nvSpPr>
                  <p:spPr>
                    <a:xfrm rot="111600">
                      <a:off x="8156880" y="812520"/>
                      <a:ext cx="3960" cy="17640"/>
                    </a:xfrm>
                    <a:custGeom>
                      <a:avLst/>
                      <a:gdLst>
                        <a:gd name="textAreaLeft" fmla="*/ 0 w 3960"/>
                        <a:gd name="textAreaRight" fmla="*/ 4320 w 3960"/>
                        <a:gd name="textAreaTop" fmla="*/ 0 h 17640"/>
                        <a:gd name="textAreaBottom" fmla="*/ 18000 h 17640"/>
                      </a:gdLst>
                      <a:ahLst/>
                      <a:rect l="textAreaLeft" t="textAreaTop" r="textAreaRight" b="textAreaBottom"/>
                      <a:pathLst>
                        <a:path w="33" h="134">
                          <a:moveTo>
                            <a:pt x="33" y="112"/>
                          </a:moveTo>
                          <a:lnTo>
                            <a:pt x="33" y="112"/>
                          </a:lnTo>
                          <a:lnTo>
                            <a:pt x="22" y="89"/>
                          </a:lnTo>
                          <a:lnTo>
                            <a:pt x="11" y="67"/>
                          </a:lnTo>
                          <a:lnTo>
                            <a:pt x="11" y="34"/>
                          </a:lnTo>
                          <a:lnTo>
                            <a:pt x="11" y="0"/>
                          </a:lnTo>
                          <a:lnTo>
                            <a:pt x="0" y="0"/>
                          </a:lnTo>
                          <a:lnTo>
                            <a:pt x="0" y="34"/>
                          </a:lnTo>
                          <a:lnTo>
                            <a:pt x="0" y="67"/>
                          </a:lnTo>
                          <a:lnTo>
                            <a:pt x="11" y="101"/>
                          </a:lnTo>
                          <a:lnTo>
                            <a:pt x="22" y="123"/>
                          </a:lnTo>
                          <a:lnTo>
                            <a:pt x="33" y="134"/>
                          </a:lnTo>
                          <a:lnTo>
                            <a:pt x="33" y="112"/>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770"/>
                    <p:cNvSpPr/>
                    <p:nvPr/>
                  </p:nvSpPr>
                  <p:spPr>
                    <a:xfrm rot="111600">
                      <a:off x="8161200" y="81288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100" h="134">
                          <a:moveTo>
                            <a:pt x="89" y="0"/>
                          </a:moveTo>
                          <a:lnTo>
                            <a:pt x="89" y="11"/>
                          </a:lnTo>
                          <a:lnTo>
                            <a:pt x="89" y="45"/>
                          </a:lnTo>
                          <a:lnTo>
                            <a:pt x="89" y="67"/>
                          </a:lnTo>
                          <a:lnTo>
                            <a:pt x="78" y="89"/>
                          </a:lnTo>
                          <a:lnTo>
                            <a:pt x="67" y="101"/>
                          </a:lnTo>
                          <a:lnTo>
                            <a:pt x="56" y="112"/>
                          </a:lnTo>
                          <a:lnTo>
                            <a:pt x="45" y="123"/>
                          </a:lnTo>
                          <a:lnTo>
                            <a:pt x="22" y="123"/>
                          </a:lnTo>
                          <a:lnTo>
                            <a:pt x="0" y="112"/>
                          </a:lnTo>
                          <a:lnTo>
                            <a:pt x="0" y="134"/>
                          </a:lnTo>
                          <a:lnTo>
                            <a:pt x="22" y="134"/>
                          </a:lnTo>
                          <a:lnTo>
                            <a:pt x="45" y="134"/>
                          </a:lnTo>
                          <a:lnTo>
                            <a:pt x="56" y="123"/>
                          </a:lnTo>
                          <a:lnTo>
                            <a:pt x="78" y="112"/>
                          </a:lnTo>
                          <a:lnTo>
                            <a:pt x="89" y="101"/>
                          </a:lnTo>
                          <a:lnTo>
                            <a:pt x="100" y="67"/>
                          </a:lnTo>
                          <a:lnTo>
                            <a:pt x="100" y="45"/>
                          </a:lnTo>
                          <a:lnTo>
                            <a:pt x="100" y="11"/>
                          </a:lnTo>
                          <a:lnTo>
                            <a:pt x="89" y="0"/>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1769"/>
                    <p:cNvSpPr/>
                    <p:nvPr/>
                  </p:nvSpPr>
                  <p:spPr>
                    <a:xfrm rot="111600">
                      <a:off x="8173080" y="801720"/>
                      <a:ext cx="6840" cy="12960"/>
                    </a:xfrm>
                    <a:custGeom>
                      <a:avLst/>
                      <a:gdLst>
                        <a:gd name="textAreaLeft" fmla="*/ 0 w 6840"/>
                        <a:gd name="textAreaRight" fmla="*/ 7200 w 6840"/>
                        <a:gd name="textAreaTop" fmla="*/ 0 h 12960"/>
                        <a:gd name="textAreaBottom" fmla="*/ 13320 h 12960"/>
                      </a:gdLst>
                      <a:ahLst/>
                      <a:rect l="textAreaLeft" t="textAreaTop" r="textAreaRight" b="textAreaBottom"/>
                      <a:pathLst>
                        <a:path w="56" h="100">
                          <a:moveTo>
                            <a:pt x="56" y="0"/>
                          </a:moveTo>
                          <a:lnTo>
                            <a:pt x="45" y="0"/>
                          </a:lnTo>
                          <a:lnTo>
                            <a:pt x="45" y="22"/>
                          </a:lnTo>
                          <a:lnTo>
                            <a:pt x="45" y="34"/>
                          </a:lnTo>
                          <a:lnTo>
                            <a:pt x="45" y="45"/>
                          </a:lnTo>
                          <a:lnTo>
                            <a:pt x="34" y="56"/>
                          </a:lnTo>
                          <a:lnTo>
                            <a:pt x="34" y="67"/>
                          </a:lnTo>
                          <a:lnTo>
                            <a:pt x="23" y="67"/>
                          </a:lnTo>
                          <a:lnTo>
                            <a:pt x="11" y="78"/>
                          </a:lnTo>
                          <a:lnTo>
                            <a:pt x="0" y="89"/>
                          </a:lnTo>
                          <a:lnTo>
                            <a:pt x="11" y="100"/>
                          </a:lnTo>
                          <a:lnTo>
                            <a:pt x="23" y="89"/>
                          </a:lnTo>
                          <a:lnTo>
                            <a:pt x="34" y="78"/>
                          </a:lnTo>
                          <a:lnTo>
                            <a:pt x="45" y="67"/>
                          </a:lnTo>
                          <a:lnTo>
                            <a:pt x="45" y="56"/>
                          </a:lnTo>
                          <a:lnTo>
                            <a:pt x="56" y="45"/>
                          </a:lnTo>
                          <a:lnTo>
                            <a:pt x="56" y="34"/>
                          </a:lnTo>
                          <a:lnTo>
                            <a:pt x="56" y="22"/>
                          </a:lnTo>
                          <a:lnTo>
                            <a:pt x="56" y="0"/>
                          </a:lnTo>
                          <a:lnTo>
                            <a:pt x="45" y="0"/>
                          </a:lnTo>
                          <a:lnTo>
                            <a:pt x="56" y="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768"/>
                    <p:cNvSpPr/>
                    <p:nvPr/>
                  </p:nvSpPr>
                  <p:spPr>
                    <a:xfrm rot="111600">
                      <a:off x="8178840" y="801720"/>
                      <a:ext cx="11160" cy="8640"/>
                    </a:xfrm>
                    <a:custGeom>
                      <a:avLst/>
                      <a:gdLst>
                        <a:gd name="textAreaLeft" fmla="*/ 0 w 11160"/>
                        <a:gd name="textAreaRight" fmla="*/ 11520 w 11160"/>
                        <a:gd name="textAreaTop" fmla="*/ 0 h 8640"/>
                        <a:gd name="textAreaBottom" fmla="*/ 9000 h 8640"/>
                      </a:gdLst>
                      <a:ahLst/>
                      <a:rect l="textAreaLeft" t="textAreaTop" r="textAreaRight" b="textAreaBottom"/>
                      <a:pathLst>
                        <a:path w="89" h="67">
                          <a:moveTo>
                            <a:pt x="89" y="56"/>
                          </a:moveTo>
                          <a:lnTo>
                            <a:pt x="89" y="56"/>
                          </a:lnTo>
                          <a:lnTo>
                            <a:pt x="78" y="56"/>
                          </a:lnTo>
                          <a:lnTo>
                            <a:pt x="67" y="45"/>
                          </a:lnTo>
                          <a:lnTo>
                            <a:pt x="56" y="45"/>
                          </a:lnTo>
                          <a:lnTo>
                            <a:pt x="44" y="34"/>
                          </a:lnTo>
                          <a:lnTo>
                            <a:pt x="33" y="22"/>
                          </a:lnTo>
                          <a:lnTo>
                            <a:pt x="22" y="11"/>
                          </a:lnTo>
                          <a:lnTo>
                            <a:pt x="22" y="0"/>
                          </a:lnTo>
                          <a:lnTo>
                            <a:pt x="11" y="0"/>
                          </a:lnTo>
                          <a:lnTo>
                            <a:pt x="0" y="0"/>
                          </a:lnTo>
                          <a:lnTo>
                            <a:pt x="11" y="11"/>
                          </a:lnTo>
                          <a:lnTo>
                            <a:pt x="11" y="22"/>
                          </a:lnTo>
                          <a:lnTo>
                            <a:pt x="22" y="34"/>
                          </a:lnTo>
                          <a:lnTo>
                            <a:pt x="44" y="45"/>
                          </a:lnTo>
                          <a:lnTo>
                            <a:pt x="56" y="56"/>
                          </a:lnTo>
                          <a:lnTo>
                            <a:pt x="67" y="56"/>
                          </a:lnTo>
                          <a:lnTo>
                            <a:pt x="78" y="67"/>
                          </a:lnTo>
                          <a:lnTo>
                            <a:pt x="89" y="67"/>
                          </a:lnTo>
                          <a:lnTo>
                            <a:pt x="89" y="56"/>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1767"/>
                    <p:cNvSpPr/>
                    <p:nvPr/>
                  </p:nvSpPr>
                  <p:spPr>
                    <a:xfrm rot="111600">
                      <a:off x="8190000" y="781200"/>
                      <a:ext cx="19800" cy="29160"/>
                    </a:xfrm>
                    <a:custGeom>
                      <a:avLst/>
                      <a:gdLst>
                        <a:gd name="textAreaLeft" fmla="*/ 0 w 19800"/>
                        <a:gd name="textAreaRight" fmla="*/ 20160 w 19800"/>
                        <a:gd name="textAreaTop" fmla="*/ 0 h 29160"/>
                        <a:gd name="textAreaBottom" fmla="*/ 29520 h 29160"/>
                      </a:gdLst>
                      <a:ahLst/>
                      <a:rect l="textAreaLeft" t="textAreaTop" r="textAreaRight" b="textAreaBottom"/>
                      <a:pathLst>
                        <a:path w="156" h="223">
                          <a:moveTo>
                            <a:pt x="123" y="11"/>
                          </a:moveTo>
                          <a:lnTo>
                            <a:pt x="123" y="11"/>
                          </a:lnTo>
                          <a:lnTo>
                            <a:pt x="134" y="33"/>
                          </a:lnTo>
                          <a:lnTo>
                            <a:pt x="145" y="67"/>
                          </a:lnTo>
                          <a:lnTo>
                            <a:pt x="145" y="111"/>
                          </a:lnTo>
                          <a:lnTo>
                            <a:pt x="134" y="145"/>
                          </a:lnTo>
                          <a:lnTo>
                            <a:pt x="111" y="167"/>
                          </a:lnTo>
                          <a:lnTo>
                            <a:pt x="78" y="190"/>
                          </a:lnTo>
                          <a:lnTo>
                            <a:pt x="45" y="212"/>
                          </a:lnTo>
                          <a:lnTo>
                            <a:pt x="0" y="212"/>
                          </a:lnTo>
                          <a:lnTo>
                            <a:pt x="0" y="223"/>
                          </a:lnTo>
                          <a:lnTo>
                            <a:pt x="45" y="223"/>
                          </a:lnTo>
                          <a:lnTo>
                            <a:pt x="89" y="212"/>
                          </a:lnTo>
                          <a:lnTo>
                            <a:pt x="123" y="178"/>
                          </a:lnTo>
                          <a:lnTo>
                            <a:pt x="145" y="145"/>
                          </a:lnTo>
                          <a:lnTo>
                            <a:pt x="156" y="111"/>
                          </a:lnTo>
                          <a:lnTo>
                            <a:pt x="156" y="67"/>
                          </a:lnTo>
                          <a:lnTo>
                            <a:pt x="145" y="33"/>
                          </a:lnTo>
                          <a:lnTo>
                            <a:pt x="134" y="0"/>
                          </a:lnTo>
                          <a:lnTo>
                            <a:pt x="123" y="11"/>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1766"/>
                    <p:cNvSpPr/>
                    <p:nvPr/>
                  </p:nvSpPr>
                  <p:spPr>
                    <a:xfrm rot="111600">
                      <a:off x="8197920" y="777240"/>
                      <a:ext cx="9720" cy="5760"/>
                    </a:xfrm>
                    <a:custGeom>
                      <a:avLst/>
                      <a:gdLst>
                        <a:gd name="textAreaLeft" fmla="*/ 0 w 9720"/>
                        <a:gd name="textAreaRight" fmla="*/ 10080 w 9720"/>
                        <a:gd name="textAreaTop" fmla="*/ 0 h 5760"/>
                        <a:gd name="textAreaBottom" fmla="*/ 6120 h 5760"/>
                      </a:gdLst>
                      <a:ahLst/>
                      <a:rect l="textAreaLeft" t="textAreaTop" r="textAreaRight" b="textAreaBottom"/>
                      <a:pathLst>
                        <a:path w="78" h="44">
                          <a:moveTo>
                            <a:pt x="0" y="0"/>
                          </a:moveTo>
                          <a:lnTo>
                            <a:pt x="11" y="11"/>
                          </a:lnTo>
                          <a:lnTo>
                            <a:pt x="22" y="22"/>
                          </a:lnTo>
                          <a:lnTo>
                            <a:pt x="33" y="22"/>
                          </a:lnTo>
                          <a:lnTo>
                            <a:pt x="44" y="33"/>
                          </a:lnTo>
                          <a:lnTo>
                            <a:pt x="55" y="33"/>
                          </a:lnTo>
                          <a:lnTo>
                            <a:pt x="55" y="44"/>
                          </a:lnTo>
                          <a:lnTo>
                            <a:pt x="67" y="44"/>
                          </a:lnTo>
                          <a:lnTo>
                            <a:pt x="78" y="33"/>
                          </a:lnTo>
                          <a:lnTo>
                            <a:pt x="67" y="33"/>
                          </a:lnTo>
                          <a:lnTo>
                            <a:pt x="67" y="22"/>
                          </a:lnTo>
                          <a:lnTo>
                            <a:pt x="55" y="22"/>
                          </a:lnTo>
                          <a:lnTo>
                            <a:pt x="44" y="11"/>
                          </a:lnTo>
                          <a:lnTo>
                            <a:pt x="33" y="11"/>
                          </a:lnTo>
                          <a:lnTo>
                            <a:pt x="22" y="0"/>
                          </a:lnTo>
                          <a:lnTo>
                            <a:pt x="11" y="0"/>
                          </a:lnTo>
                          <a:lnTo>
                            <a:pt x="22" y="11"/>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1765"/>
                    <p:cNvSpPr/>
                    <p:nvPr/>
                  </p:nvSpPr>
                  <p:spPr>
                    <a:xfrm rot="111600">
                      <a:off x="8195760" y="756720"/>
                      <a:ext cx="8280" cy="21960"/>
                    </a:xfrm>
                    <a:custGeom>
                      <a:avLst/>
                      <a:gdLst>
                        <a:gd name="textAreaLeft" fmla="*/ 0 w 8280"/>
                        <a:gd name="textAreaRight" fmla="*/ 8640 w 8280"/>
                        <a:gd name="textAreaTop" fmla="*/ 0 h 21960"/>
                        <a:gd name="textAreaBottom" fmla="*/ 22320 h 21960"/>
                      </a:gdLst>
                      <a:ahLst/>
                      <a:rect l="textAreaLeft" t="textAreaTop" r="textAreaRight" b="textAreaBottom"/>
                      <a:pathLst>
                        <a:path w="67" h="167">
                          <a:moveTo>
                            <a:pt x="0" y="0"/>
                          </a:moveTo>
                          <a:lnTo>
                            <a:pt x="0" y="11"/>
                          </a:lnTo>
                          <a:lnTo>
                            <a:pt x="23" y="22"/>
                          </a:lnTo>
                          <a:lnTo>
                            <a:pt x="34" y="44"/>
                          </a:lnTo>
                          <a:lnTo>
                            <a:pt x="45" y="55"/>
                          </a:lnTo>
                          <a:lnTo>
                            <a:pt x="56" y="66"/>
                          </a:lnTo>
                          <a:lnTo>
                            <a:pt x="56" y="89"/>
                          </a:lnTo>
                          <a:lnTo>
                            <a:pt x="45" y="111"/>
                          </a:lnTo>
                          <a:lnTo>
                            <a:pt x="45" y="133"/>
                          </a:lnTo>
                          <a:lnTo>
                            <a:pt x="23" y="156"/>
                          </a:lnTo>
                          <a:lnTo>
                            <a:pt x="45" y="167"/>
                          </a:lnTo>
                          <a:lnTo>
                            <a:pt x="56" y="133"/>
                          </a:lnTo>
                          <a:lnTo>
                            <a:pt x="67" y="111"/>
                          </a:lnTo>
                          <a:lnTo>
                            <a:pt x="67" y="89"/>
                          </a:lnTo>
                          <a:lnTo>
                            <a:pt x="67" y="66"/>
                          </a:lnTo>
                          <a:lnTo>
                            <a:pt x="56" y="55"/>
                          </a:lnTo>
                          <a:lnTo>
                            <a:pt x="45" y="33"/>
                          </a:lnTo>
                          <a:lnTo>
                            <a:pt x="23" y="11"/>
                          </a:ln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1764"/>
                    <p:cNvSpPr/>
                    <p:nvPr/>
                  </p:nvSpPr>
                  <p:spPr>
                    <a:xfrm rot="111600">
                      <a:off x="8172360" y="723600"/>
                      <a:ext cx="30960" cy="33840"/>
                    </a:xfrm>
                    <a:custGeom>
                      <a:avLst/>
                      <a:gdLst>
                        <a:gd name="textAreaLeft" fmla="*/ 0 w 30960"/>
                        <a:gd name="textAreaRight" fmla="*/ 31320 w 30960"/>
                        <a:gd name="textAreaTop" fmla="*/ 0 h 33840"/>
                        <a:gd name="textAreaBottom" fmla="*/ 34200 h 33840"/>
                      </a:gdLst>
                      <a:ahLst/>
                      <a:rect l="textAreaLeft" t="textAreaTop" r="textAreaRight" b="textAreaBottom"/>
                      <a:pathLst>
                        <a:path w="245" h="257">
                          <a:moveTo>
                            <a:pt x="0" y="23"/>
                          </a:moveTo>
                          <a:lnTo>
                            <a:pt x="11" y="23"/>
                          </a:lnTo>
                          <a:lnTo>
                            <a:pt x="33" y="23"/>
                          </a:lnTo>
                          <a:lnTo>
                            <a:pt x="56" y="12"/>
                          </a:lnTo>
                          <a:lnTo>
                            <a:pt x="78" y="12"/>
                          </a:lnTo>
                          <a:lnTo>
                            <a:pt x="111" y="23"/>
                          </a:lnTo>
                          <a:lnTo>
                            <a:pt x="134" y="34"/>
                          </a:lnTo>
                          <a:lnTo>
                            <a:pt x="156" y="45"/>
                          </a:lnTo>
                          <a:lnTo>
                            <a:pt x="178" y="56"/>
                          </a:lnTo>
                          <a:lnTo>
                            <a:pt x="189" y="67"/>
                          </a:lnTo>
                          <a:lnTo>
                            <a:pt x="212" y="90"/>
                          </a:lnTo>
                          <a:lnTo>
                            <a:pt x="223" y="112"/>
                          </a:lnTo>
                          <a:lnTo>
                            <a:pt x="223" y="134"/>
                          </a:lnTo>
                          <a:lnTo>
                            <a:pt x="234" y="156"/>
                          </a:lnTo>
                          <a:lnTo>
                            <a:pt x="223" y="179"/>
                          </a:lnTo>
                          <a:lnTo>
                            <a:pt x="223" y="201"/>
                          </a:lnTo>
                          <a:lnTo>
                            <a:pt x="201" y="223"/>
                          </a:lnTo>
                          <a:lnTo>
                            <a:pt x="189" y="246"/>
                          </a:lnTo>
                          <a:lnTo>
                            <a:pt x="189" y="257"/>
                          </a:lnTo>
                          <a:lnTo>
                            <a:pt x="212" y="234"/>
                          </a:lnTo>
                          <a:lnTo>
                            <a:pt x="234" y="201"/>
                          </a:lnTo>
                          <a:lnTo>
                            <a:pt x="245" y="179"/>
                          </a:lnTo>
                          <a:lnTo>
                            <a:pt x="245" y="156"/>
                          </a:lnTo>
                          <a:lnTo>
                            <a:pt x="245" y="134"/>
                          </a:lnTo>
                          <a:lnTo>
                            <a:pt x="234" y="101"/>
                          </a:lnTo>
                          <a:lnTo>
                            <a:pt x="223" y="78"/>
                          </a:lnTo>
                          <a:lnTo>
                            <a:pt x="201" y="56"/>
                          </a:lnTo>
                          <a:lnTo>
                            <a:pt x="178" y="45"/>
                          </a:lnTo>
                          <a:lnTo>
                            <a:pt x="156" y="23"/>
                          </a:lnTo>
                          <a:lnTo>
                            <a:pt x="134" y="12"/>
                          </a:lnTo>
                          <a:lnTo>
                            <a:pt x="111" y="0"/>
                          </a:lnTo>
                          <a:lnTo>
                            <a:pt x="78" y="0"/>
                          </a:lnTo>
                          <a:lnTo>
                            <a:pt x="56" y="0"/>
                          </a:lnTo>
                          <a:lnTo>
                            <a:pt x="33" y="0"/>
                          </a:lnTo>
                          <a:lnTo>
                            <a:pt x="0" y="12"/>
                          </a:lnTo>
                          <a:lnTo>
                            <a:pt x="11" y="23"/>
                          </a:lnTo>
                          <a:lnTo>
                            <a:pt x="0" y="23"/>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1763"/>
                    <p:cNvSpPr/>
                    <p:nvPr/>
                  </p:nvSpPr>
                  <p:spPr>
                    <a:xfrm rot="111600">
                      <a:off x="8164440" y="696960"/>
                      <a:ext cx="12600" cy="29160"/>
                    </a:xfrm>
                    <a:custGeom>
                      <a:avLst/>
                      <a:gdLst>
                        <a:gd name="textAreaLeft" fmla="*/ 0 w 12600"/>
                        <a:gd name="textAreaRight" fmla="*/ 12960 w 12600"/>
                        <a:gd name="textAreaTop" fmla="*/ 0 h 29160"/>
                        <a:gd name="textAreaBottom" fmla="*/ 29520 h 29160"/>
                      </a:gdLst>
                      <a:ahLst/>
                      <a:rect l="textAreaLeft" t="textAreaTop" r="textAreaRight" b="textAreaBottom"/>
                      <a:pathLst>
                        <a:path w="100" h="223">
                          <a:moveTo>
                            <a:pt x="0" y="11"/>
                          </a:moveTo>
                          <a:lnTo>
                            <a:pt x="0" y="11"/>
                          </a:lnTo>
                          <a:lnTo>
                            <a:pt x="33" y="22"/>
                          </a:lnTo>
                          <a:lnTo>
                            <a:pt x="56" y="33"/>
                          </a:lnTo>
                          <a:lnTo>
                            <a:pt x="78" y="55"/>
                          </a:lnTo>
                          <a:lnTo>
                            <a:pt x="78" y="78"/>
                          </a:lnTo>
                          <a:lnTo>
                            <a:pt x="89" y="100"/>
                          </a:lnTo>
                          <a:lnTo>
                            <a:pt x="89" y="145"/>
                          </a:lnTo>
                          <a:lnTo>
                            <a:pt x="78" y="178"/>
                          </a:lnTo>
                          <a:lnTo>
                            <a:pt x="67" y="223"/>
                          </a:lnTo>
                          <a:lnTo>
                            <a:pt x="78" y="223"/>
                          </a:lnTo>
                          <a:lnTo>
                            <a:pt x="89" y="178"/>
                          </a:lnTo>
                          <a:lnTo>
                            <a:pt x="100" y="145"/>
                          </a:lnTo>
                          <a:lnTo>
                            <a:pt x="100" y="100"/>
                          </a:lnTo>
                          <a:lnTo>
                            <a:pt x="100" y="67"/>
                          </a:lnTo>
                          <a:lnTo>
                            <a:pt x="89" y="44"/>
                          </a:lnTo>
                          <a:lnTo>
                            <a:pt x="67" y="22"/>
                          </a:lnTo>
                          <a:lnTo>
                            <a:pt x="33" y="11"/>
                          </a:lnTo>
                          <a:lnTo>
                            <a:pt x="0" y="0"/>
                          </a:lnTo>
                          <a:lnTo>
                            <a:pt x="0" y="11"/>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1762"/>
                    <p:cNvSpPr/>
                    <p:nvPr/>
                  </p:nvSpPr>
                  <p:spPr>
                    <a:xfrm rot="111600">
                      <a:off x="8161920" y="696600"/>
                      <a:ext cx="2520" cy="1080"/>
                    </a:xfrm>
                    <a:custGeom>
                      <a:avLst/>
                      <a:gdLst>
                        <a:gd name="textAreaLeft" fmla="*/ 0 w 2520"/>
                        <a:gd name="textAreaRight" fmla="*/ 2880 w 2520"/>
                        <a:gd name="textAreaTop" fmla="*/ 0 h 1080"/>
                        <a:gd name="textAreaBottom" fmla="*/ 1440 h 1080"/>
                      </a:gdLst>
                      <a:ahLst/>
                      <a:rect l="textAreaLeft" t="textAreaTop" r="textAreaRight" b="textAreaBottom"/>
                      <a:pathLst>
                        <a:path w="22" h="11">
                          <a:moveTo>
                            <a:pt x="0" y="11"/>
                          </a:moveTo>
                          <a:lnTo>
                            <a:pt x="11" y="11"/>
                          </a:lnTo>
                          <a:lnTo>
                            <a:pt x="22" y="11"/>
                          </a:lnTo>
                          <a:lnTo>
                            <a:pt x="22" y="0"/>
                          </a:lnTo>
                          <a:lnTo>
                            <a:pt x="11" y="0"/>
                          </a:lnTo>
                          <a:lnTo>
                            <a:pt x="11" y="11"/>
                          </a:lnTo>
                          <a:lnTo>
                            <a:pt x="0" y="11"/>
                          </a:lnTo>
                          <a:close/>
                        </a:path>
                      </a:pathLst>
                    </a:custGeom>
                    <a:solidFill>
                      <a:srgbClr val="000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1761"/>
                    <p:cNvSpPr/>
                    <p:nvPr/>
                  </p:nvSpPr>
                  <p:spPr>
                    <a:xfrm rot="111600">
                      <a:off x="8121600" y="678240"/>
                      <a:ext cx="42480" cy="19080"/>
                    </a:xfrm>
                    <a:custGeom>
                      <a:avLst/>
                      <a:gdLst>
                        <a:gd name="textAreaLeft" fmla="*/ 0 w 42480"/>
                        <a:gd name="textAreaRight" fmla="*/ 42480 w 42480"/>
                        <a:gd name="textAreaTop" fmla="*/ 0 h 19080"/>
                        <a:gd name="textAreaBottom" fmla="*/ 19440 h 19080"/>
                      </a:gdLst>
                      <a:ahLst/>
                      <a:rect l="textAreaLeft" t="textAreaTop" r="textAreaRight" b="textAreaBottom"/>
                      <a:pathLst>
                        <a:path w="334" h="145">
                          <a:moveTo>
                            <a:pt x="0" y="33"/>
                          </a:moveTo>
                          <a:lnTo>
                            <a:pt x="0" y="45"/>
                          </a:lnTo>
                          <a:lnTo>
                            <a:pt x="22" y="33"/>
                          </a:lnTo>
                          <a:lnTo>
                            <a:pt x="44" y="22"/>
                          </a:lnTo>
                          <a:lnTo>
                            <a:pt x="66" y="11"/>
                          </a:lnTo>
                          <a:lnTo>
                            <a:pt x="100" y="11"/>
                          </a:lnTo>
                          <a:lnTo>
                            <a:pt x="122" y="11"/>
                          </a:lnTo>
                          <a:lnTo>
                            <a:pt x="144" y="11"/>
                          </a:lnTo>
                          <a:lnTo>
                            <a:pt x="167" y="22"/>
                          </a:lnTo>
                          <a:lnTo>
                            <a:pt x="189" y="22"/>
                          </a:lnTo>
                          <a:lnTo>
                            <a:pt x="211" y="33"/>
                          </a:lnTo>
                          <a:lnTo>
                            <a:pt x="234" y="45"/>
                          </a:lnTo>
                          <a:lnTo>
                            <a:pt x="256" y="56"/>
                          </a:lnTo>
                          <a:lnTo>
                            <a:pt x="267" y="67"/>
                          </a:lnTo>
                          <a:lnTo>
                            <a:pt x="289" y="89"/>
                          </a:lnTo>
                          <a:lnTo>
                            <a:pt x="300" y="100"/>
                          </a:lnTo>
                          <a:lnTo>
                            <a:pt x="312" y="123"/>
                          </a:lnTo>
                          <a:lnTo>
                            <a:pt x="323" y="145"/>
                          </a:lnTo>
                          <a:lnTo>
                            <a:pt x="334" y="145"/>
                          </a:lnTo>
                          <a:lnTo>
                            <a:pt x="323" y="123"/>
                          </a:lnTo>
                          <a:lnTo>
                            <a:pt x="312" y="100"/>
                          </a:lnTo>
                          <a:lnTo>
                            <a:pt x="300" y="78"/>
                          </a:lnTo>
                          <a:lnTo>
                            <a:pt x="278" y="67"/>
                          </a:lnTo>
                          <a:lnTo>
                            <a:pt x="256" y="45"/>
                          </a:lnTo>
                          <a:lnTo>
                            <a:pt x="234" y="33"/>
                          </a:lnTo>
                          <a:lnTo>
                            <a:pt x="211" y="22"/>
                          </a:lnTo>
                          <a:lnTo>
                            <a:pt x="189" y="11"/>
                          </a:lnTo>
                          <a:lnTo>
                            <a:pt x="167" y="11"/>
                          </a:lnTo>
                          <a:lnTo>
                            <a:pt x="144" y="0"/>
                          </a:lnTo>
                          <a:lnTo>
                            <a:pt x="122" y="0"/>
                          </a:lnTo>
                          <a:lnTo>
                            <a:pt x="100" y="0"/>
                          </a:lnTo>
                          <a:lnTo>
                            <a:pt x="66" y="0"/>
                          </a:lnTo>
                          <a:lnTo>
                            <a:pt x="44" y="11"/>
                          </a:lnTo>
                          <a:lnTo>
                            <a:pt x="22" y="11"/>
                          </a:lnTo>
                          <a:lnTo>
                            <a:pt x="0" y="22"/>
                          </a:lnTo>
                          <a:lnTo>
                            <a:pt x="0" y="33"/>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1760"/>
                    <p:cNvSpPr/>
                    <p:nvPr/>
                  </p:nvSpPr>
                  <p:spPr>
                    <a:xfrm rot="111600">
                      <a:off x="8103600" y="68148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134" h="168">
                          <a:moveTo>
                            <a:pt x="0" y="168"/>
                          </a:moveTo>
                          <a:lnTo>
                            <a:pt x="11" y="168"/>
                          </a:lnTo>
                          <a:lnTo>
                            <a:pt x="33" y="145"/>
                          </a:lnTo>
                          <a:lnTo>
                            <a:pt x="44" y="112"/>
                          </a:lnTo>
                          <a:lnTo>
                            <a:pt x="56" y="90"/>
                          </a:lnTo>
                          <a:lnTo>
                            <a:pt x="78" y="67"/>
                          </a:lnTo>
                          <a:lnTo>
                            <a:pt x="89" y="45"/>
                          </a:lnTo>
                          <a:lnTo>
                            <a:pt x="111" y="34"/>
                          </a:lnTo>
                          <a:lnTo>
                            <a:pt x="122" y="23"/>
                          </a:lnTo>
                          <a:lnTo>
                            <a:pt x="134" y="0"/>
                          </a:lnTo>
                          <a:lnTo>
                            <a:pt x="111" y="12"/>
                          </a:lnTo>
                          <a:lnTo>
                            <a:pt x="100" y="23"/>
                          </a:lnTo>
                          <a:lnTo>
                            <a:pt x="78" y="34"/>
                          </a:lnTo>
                          <a:lnTo>
                            <a:pt x="67" y="56"/>
                          </a:lnTo>
                          <a:lnTo>
                            <a:pt x="56" y="78"/>
                          </a:lnTo>
                          <a:lnTo>
                            <a:pt x="33" y="112"/>
                          </a:lnTo>
                          <a:lnTo>
                            <a:pt x="22" y="134"/>
                          </a:lnTo>
                          <a:lnTo>
                            <a:pt x="0" y="168"/>
                          </a:lnTo>
                          <a:lnTo>
                            <a:pt x="11" y="168"/>
                          </a:lnTo>
                          <a:lnTo>
                            <a:pt x="0" y="168"/>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1759"/>
                    <p:cNvSpPr/>
                    <p:nvPr/>
                  </p:nvSpPr>
                  <p:spPr>
                    <a:xfrm rot="111600">
                      <a:off x="7823520" y="1103040"/>
                      <a:ext cx="227160" cy="226440"/>
                    </a:xfrm>
                    <a:custGeom>
                      <a:avLst/>
                      <a:gdLst>
                        <a:gd name="textAreaLeft" fmla="*/ 0 w 227160"/>
                        <a:gd name="textAreaRight" fmla="*/ 227520 w 227160"/>
                        <a:gd name="textAreaTop" fmla="*/ 0 h 226440"/>
                        <a:gd name="textAreaBottom" fmla="*/ 226800 h 226440"/>
                      </a:gdLst>
                      <a:ahLst/>
                      <a:rect l="textAreaLeft" t="textAreaTop" r="textAreaRight" b="textAreaBottom"/>
                      <a:pathLst>
                        <a:path w="1783" h="1716">
                          <a:moveTo>
                            <a:pt x="658" y="22"/>
                          </a:moveTo>
                          <a:lnTo>
                            <a:pt x="680" y="11"/>
                          </a:lnTo>
                          <a:lnTo>
                            <a:pt x="713" y="11"/>
                          </a:lnTo>
                          <a:lnTo>
                            <a:pt x="747" y="0"/>
                          </a:lnTo>
                          <a:lnTo>
                            <a:pt x="780" y="0"/>
                          </a:lnTo>
                          <a:lnTo>
                            <a:pt x="802" y="0"/>
                          </a:lnTo>
                          <a:lnTo>
                            <a:pt x="836" y="0"/>
                          </a:lnTo>
                          <a:lnTo>
                            <a:pt x="869" y="0"/>
                          </a:lnTo>
                          <a:lnTo>
                            <a:pt x="903" y="0"/>
                          </a:lnTo>
                          <a:lnTo>
                            <a:pt x="936" y="11"/>
                          </a:lnTo>
                          <a:lnTo>
                            <a:pt x="958" y="11"/>
                          </a:lnTo>
                          <a:lnTo>
                            <a:pt x="992" y="22"/>
                          </a:lnTo>
                          <a:lnTo>
                            <a:pt x="1025" y="33"/>
                          </a:lnTo>
                          <a:lnTo>
                            <a:pt x="1059" y="44"/>
                          </a:lnTo>
                          <a:lnTo>
                            <a:pt x="1081" y="55"/>
                          </a:lnTo>
                          <a:lnTo>
                            <a:pt x="1114" y="67"/>
                          </a:lnTo>
                          <a:lnTo>
                            <a:pt x="1148" y="78"/>
                          </a:lnTo>
                          <a:lnTo>
                            <a:pt x="1170" y="89"/>
                          </a:lnTo>
                          <a:lnTo>
                            <a:pt x="1204" y="111"/>
                          </a:lnTo>
                          <a:lnTo>
                            <a:pt x="1237" y="122"/>
                          </a:lnTo>
                          <a:lnTo>
                            <a:pt x="1259" y="145"/>
                          </a:lnTo>
                          <a:lnTo>
                            <a:pt x="1293" y="156"/>
                          </a:lnTo>
                          <a:lnTo>
                            <a:pt x="1315" y="178"/>
                          </a:lnTo>
                          <a:lnTo>
                            <a:pt x="1337" y="200"/>
                          </a:lnTo>
                          <a:lnTo>
                            <a:pt x="1371" y="223"/>
                          </a:lnTo>
                          <a:lnTo>
                            <a:pt x="1393" y="245"/>
                          </a:lnTo>
                          <a:lnTo>
                            <a:pt x="1415" y="267"/>
                          </a:lnTo>
                          <a:lnTo>
                            <a:pt x="1438" y="301"/>
                          </a:lnTo>
                          <a:lnTo>
                            <a:pt x="1460" y="323"/>
                          </a:lnTo>
                          <a:lnTo>
                            <a:pt x="1482" y="345"/>
                          </a:lnTo>
                          <a:lnTo>
                            <a:pt x="1505" y="379"/>
                          </a:lnTo>
                          <a:lnTo>
                            <a:pt x="1516" y="412"/>
                          </a:lnTo>
                          <a:lnTo>
                            <a:pt x="1538" y="434"/>
                          </a:lnTo>
                          <a:lnTo>
                            <a:pt x="1560" y="445"/>
                          </a:lnTo>
                          <a:lnTo>
                            <a:pt x="1583" y="445"/>
                          </a:lnTo>
                          <a:lnTo>
                            <a:pt x="1605" y="457"/>
                          </a:lnTo>
                          <a:lnTo>
                            <a:pt x="1627" y="457"/>
                          </a:lnTo>
                          <a:lnTo>
                            <a:pt x="1649" y="468"/>
                          </a:lnTo>
                          <a:lnTo>
                            <a:pt x="1672" y="479"/>
                          </a:lnTo>
                          <a:lnTo>
                            <a:pt x="1683" y="490"/>
                          </a:lnTo>
                          <a:lnTo>
                            <a:pt x="1705" y="501"/>
                          </a:lnTo>
                          <a:lnTo>
                            <a:pt x="1716" y="512"/>
                          </a:lnTo>
                          <a:lnTo>
                            <a:pt x="1727" y="523"/>
                          </a:lnTo>
                          <a:lnTo>
                            <a:pt x="1739" y="535"/>
                          </a:lnTo>
                          <a:lnTo>
                            <a:pt x="1750" y="546"/>
                          </a:lnTo>
                          <a:lnTo>
                            <a:pt x="1761" y="557"/>
                          </a:lnTo>
                          <a:lnTo>
                            <a:pt x="1772" y="568"/>
                          </a:lnTo>
                          <a:lnTo>
                            <a:pt x="1783" y="590"/>
                          </a:lnTo>
                          <a:lnTo>
                            <a:pt x="1783" y="601"/>
                          </a:lnTo>
                          <a:lnTo>
                            <a:pt x="1783" y="635"/>
                          </a:lnTo>
                          <a:lnTo>
                            <a:pt x="1783" y="668"/>
                          </a:lnTo>
                          <a:lnTo>
                            <a:pt x="1772" y="702"/>
                          </a:lnTo>
                          <a:lnTo>
                            <a:pt x="1761" y="724"/>
                          </a:lnTo>
                          <a:lnTo>
                            <a:pt x="1739" y="758"/>
                          </a:lnTo>
                          <a:lnTo>
                            <a:pt x="1716" y="780"/>
                          </a:lnTo>
                          <a:lnTo>
                            <a:pt x="1683" y="802"/>
                          </a:lnTo>
                          <a:lnTo>
                            <a:pt x="1649" y="824"/>
                          </a:lnTo>
                          <a:lnTo>
                            <a:pt x="1661" y="902"/>
                          </a:lnTo>
                          <a:lnTo>
                            <a:pt x="1661" y="969"/>
                          </a:lnTo>
                          <a:lnTo>
                            <a:pt x="1661" y="1047"/>
                          </a:lnTo>
                          <a:lnTo>
                            <a:pt x="1649" y="1114"/>
                          </a:lnTo>
                          <a:lnTo>
                            <a:pt x="1627" y="1192"/>
                          </a:lnTo>
                          <a:lnTo>
                            <a:pt x="1605" y="1259"/>
                          </a:lnTo>
                          <a:lnTo>
                            <a:pt x="1571" y="1315"/>
                          </a:lnTo>
                          <a:lnTo>
                            <a:pt x="1538" y="1382"/>
                          </a:lnTo>
                          <a:lnTo>
                            <a:pt x="1493" y="1437"/>
                          </a:lnTo>
                          <a:lnTo>
                            <a:pt x="1449" y="1493"/>
                          </a:lnTo>
                          <a:lnTo>
                            <a:pt x="1404" y="1538"/>
                          </a:lnTo>
                          <a:lnTo>
                            <a:pt x="1349" y="1582"/>
                          </a:lnTo>
                          <a:lnTo>
                            <a:pt x="1282" y="1616"/>
                          </a:lnTo>
                          <a:lnTo>
                            <a:pt x="1226" y="1649"/>
                          </a:lnTo>
                          <a:lnTo>
                            <a:pt x="1159" y="1683"/>
                          </a:lnTo>
                          <a:lnTo>
                            <a:pt x="1092" y="1705"/>
                          </a:lnTo>
                          <a:lnTo>
                            <a:pt x="1059" y="1705"/>
                          </a:lnTo>
                          <a:lnTo>
                            <a:pt x="1025" y="1716"/>
                          </a:lnTo>
                          <a:lnTo>
                            <a:pt x="992" y="1716"/>
                          </a:lnTo>
                          <a:lnTo>
                            <a:pt x="958" y="1716"/>
                          </a:lnTo>
                          <a:lnTo>
                            <a:pt x="925" y="1716"/>
                          </a:lnTo>
                          <a:lnTo>
                            <a:pt x="892" y="1716"/>
                          </a:lnTo>
                          <a:lnTo>
                            <a:pt x="858" y="1716"/>
                          </a:lnTo>
                          <a:lnTo>
                            <a:pt x="825" y="1705"/>
                          </a:lnTo>
                          <a:lnTo>
                            <a:pt x="791" y="1705"/>
                          </a:lnTo>
                          <a:lnTo>
                            <a:pt x="758" y="1694"/>
                          </a:lnTo>
                          <a:lnTo>
                            <a:pt x="724" y="1683"/>
                          </a:lnTo>
                          <a:lnTo>
                            <a:pt x="691" y="1671"/>
                          </a:lnTo>
                          <a:lnTo>
                            <a:pt x="658" y="1660"/>
                          </a:lnTo>
                          <a:lnTo>
                            <a:pt x="635" y="1649"/>
                          </a:lnTo>
                          <a:lnTo>
                            <a:pt x="602" y="1638"/>
                          </a:lnTo>
                          <a:lnTo>
                            <a:pt x="568" y="1616"/>
                          </a:lnTo>
                          <a:lnTo>
                            <a:pt x="535" y="1593"/>
                          </a:lnTo>
                          <a:lnTo>
                            <a:pt x="513" y="1582"/>
                          </a:lnTo>
                          <a:lnTo>
                            <a:pt x="479" y="1560"/>
                          </a:lnTo>
                          <a:lnTo>
                            <a:pt x="457" y="1538"/>
                          </a:lnTo>
                          <a:lnTo>
                            <a:pt x="423" y="1504"/>
                          </a:lnTo>
                          <a:lnTo>
                            <a:pt x="401" y="1482"/>
                          </a:lnTo>
                          <a:lnTo>
                            <a:pt x="379" y="1460"/>
                          </a:lnTo>
                          <a:lnTo>
                            <a:pt x="357" y="1426"/>
                          </a:lnTo>
                          <a:lnTo>
                            <a:pt x="334" y="1404"/>
                          </a:lnTo>
                          <a:lnTo>
                            <a:pt x="312" y="1371"/>
                          </a:lnTo>
                          <a:lnTo>
                            <a:pt x="290" y="1337"/>
                          </a:lnTo>
                          <a:lnTo>
                            <a:pt x="267" y="1304"/>
                          </a:lnTo>
                          <a:lnTo>
                            <a:pt x="256" y="1270"/>
                          </a:lnTo>
                          <a:lnTo>
                            <a:pt x="234" y="1237"/>
                          </a:lnTo>
                          <a:lnTo>
                            <a:pt x="223" y="1192"/>
                          </a:lnTo>
                          <a:lnTo>
                            <a:pt x="201" y="1159"/>
                          </a:lnTo>
                          <a:lnTo>
                            <a:pt x="167" y="1159"/>
                          </a:lnTo>
                          <a:lnTo>
                            <a:pt x="145" y="1148"/>
                          </a:lnTo>
                          <a:lnTo>
                            <a:pt x="111" y="1136"/>
                          </a:lnTo>
                          <a:lnTo>
                            <a:pt x="78" y="1125"/>
                          </a:lnTo>
                          <a:lnTo>
                            <a:pt x="56" y="1103"/>
                          </a:lnTo>
                          <a:lnTo>
                            <a:pt x="33" y="1081"/>
                          </a:lnTo>
                          <a:lnTo>
                            <a:pt x="22" y="1058"/>
                          </a:lnTo>
                          <a:lnTo>
                            <a:pt x="11" y="1025"/>
                          </a:lnTo>
                          <a:lnTo>
                            <a:pt x="0" y="980"/>
                          </a:lnTo>
                          <a:lnTo>
                            <a:pt x="0" y="936"/>
                          </a:lnTo>
                          <a:lnTo>
                            <a:pt x="11" y="902"/>
                          </a:lnTo>
                          <a:lnTo>
                            <a:pt x="22" y="869"/>
                          </a:lnTo>
                          <a:lnTo>
                            <a:pt x="45" y="824"/>
                          </a:lnTo>
                          <a:lnTo>
                            <a:pt x="78" y="791"/>
                          </a:lnTo>
                          <a:lnTo>
                            <a:pt x="111" y="758"/>
                          </a:lnTo>
                          <a:lnTo>
                            <a:pt x="156" y="724"/>
                          </a:lnTo>
                          <a:lnTo>
                            <a:pt x="156" y="668"/>
                          </a:lnTo>
                          <a:lnTo>
                            <a:pt x="167" y="601"/>
                          </a:lnTo>
                          <a:lnTo>
                            <a:pt x="189" y="546"/>
                          </a:lnTo>
                          <a:lnTo>
                            <a:pt x="201" y="490"/>
                          </a:lnTo>
                          <a:lnTo>
                            <a:pt x="223" y="423"/>
                          </a:lnTo>
                          <a:lnTo>
                            <a:pt x="245" y="379"/>
                          </a:lnTo>
                          <a:lnTo>
                            <a:pt x="279" y="323"/>
                          </a:lnTo>
                          <a:lnTo>
                            <a:pt x="312" y="278"/>
                          </a:lnTo>
                          <a:lnTo>
                            <a:pt x="345" y="223"/>
                          </a:lnTo>
                          <a:lnTo>
                            <a:pt x="379" y="189"/>
                          </a:lnTo>
                          <a:lnTo>
                            <a:pt x="412" y="145"/>
                          </a:lnTo>
                          <a:lnTo>
                            <a:pt x="457" y="111"/>
                          </a:lnTo>
                          <a:lnTo>
                            <a:pt x="501" y="78"/>
                          </a:lnTo>
                          <a:lnTo>
                            <a:pt x="546" y="55"/>
                          </a:lnTo>
                          <a:lnTo>
                            <a:pt x="602" y="33"/>
                          </a:lnTo>
                          <a:lnTo>
                            <a:pt x="658" y="22"/>
                          </a:lnTo>
                          <a:close/>
                        </a:path>
                      </a:pathLst>
                    </a:custGeom>
                    <a:solidFill>
                      <a:srgbClr val="ffd6a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1758"/>
                    <p:cNvSpPr/>
                    <p:nvPr/>
                  </p:nvSpPr>
                  <p:spPr>
                    <a:xfrm rot="111600">
                      <a:off x="7908840" y="1102320"/>
                      <a:ext cx="115200" cy="60120"/>
                    </a:xfrm>
                    <a:custGeom>
                      <a:avLst/>
                      <a:gdLst>
                        <a:gd name="textAreaLeft" fmla="*/ 0 w 115200"/>
                        <a:gd name="textAreaRight" fmla="*/ 115560 w 115200"/>
                        <a:gd name="textAreaTop" fmla="*/ 0 h 60120"/>
                        <a:gd name="textAreaBottom" fmla="*/ 60480 h 60120"/>
                      </a:gdLst>
                      <a:ahLst/>
                      <a:rect l="textAreaLeft" t="textAreaTop" r="textAreaRight" b="textAreaBottom"/>
                      <a:pathLst>
                        <a:path w="903" h="457">
                          <a:moveTo>
                            <a:pt x="892" y="435"/>
                          </a:moveTo>
                          <a:lnTo>
                            <a:pt x="903" y="446"/>
                          </a:lnTo>
                          <a:lnTo>
                            <a:pt x="881" y="413"/>
                          </a:lnTo>
                          <a:lnTo>
                            <a:pt x="870" y="379"/>
                          </a:lnTo>
                          <a:lnTo>
                            <a:pt x="847" y="357"/>
                          </a:lnTo>
                          <a:lnTo>
                            <a:pt x="825" y="324"/>
                          </a:lnTo>
                          <a:lnTo>
                            <a:pt x="803" y="301"/>
                          </a:lnTo>
                          <a:lnTo>
                            <a:pt x="781" y="279"/>
                          </a:lnTo>
                          <a:lnTo>
                            <a:pt x="747" y="257"/>
                          </a:lnTo>
                          <a:lnTo>
                            <a:pt x="725" y="223"/>
                          </a:lnTo>
                          <a:lnTo>
                            <a:pt x="703" y="212"/>
                          </a:lnTo>
                          <a:lnTo>
                            <a:pt x="669" y="190"/>
                          </a:lnTo>
                          <a:lnTo>
                            <a:pt x="647" y="168"/>
                          </a:lnTo>
                          <a:lnTo>
                            <a:pt x="625" y="145"/>
                          </a:lnTo>
                          <a:lnTo>
                            <a:pt x="591" y="123"/>
                          </a:lnTo>
                          <a:lnTo>
                            <a:pt x="558" y="112"/>
                          </a:lnTo>
                          <a:lnTo>
                            <a:pt x="535" y="90"/>
                          </a:lnTo>
                          <a:lnTo>
                            <a:pt x="502" y="79"/>
                          </a:lnTo>
                          <a:lnTo>
                            <a:pt x="468" y="67"/>
                          </a:lnTo>
                          <a:lnTo>
                            <a:pt x="446" y="56"/>
                          </a:lnTo>
                          <a:lnTo>
                            <a:pt x="413" y="45"/>
                          </a:lnTo>
                          <a:lnTo>
                            <a:pt x="379" y="34"/>
                          </a:lnTo>
                          <a:lnTo>
                            <a:pt x="346" y="23"/>
                          </a:lnTo>
                          <a:lnTo>
                            <a:pt x="312" y="23"/>
                          </a:lnTo>
                          <a:lnTo>
                            <a:pt x="290" y="12"/>
                          </a:lnTo>
                          <a:lnTo>
                            <a:pt x="257" y="0"/>
                          </a:lnTo>
                          <a:lnTo>
                            <a:pt x="223" y="0"/>
                          </a:lnTo>
                          <a:lnTo>
                            <a:pt x="190" y="0"/>
                          </a:lnTo>
                          <a:lnTo>
                            <a:pt x="156" y="0"/>
                          </a:lnTo>
                          <a:lnTo>
                            <a:pt x="123" y="0"/>
                          </a:lnTo>
                          <a:lnTo>
                            <a:pt x="101" y="0"/>
                          </a:lnTo>
                          <a:lnTo>
                            <a:pt x="67" y="12"/>
                          </a:lnTo>
                          <a:lnTo>
                            <a:pt x="34" y="12"/>
                          </a:lnTo>
                          <a:lnTo>
                            <a:pt x="0" y="23"/>
                          </a:lnTo>
                          <a:lnTo>
                            <a:pt x="12" y="45"/>
                          </a:lnTo>
                          <a:lnTo>
                            <a:pt x="45" y="34"/>
                          </a:lnTo>
                          <a:lnTo>
                            <a:pt x="67" y="23"/>
                          </a:lnTo>
                          <a:lnTo>
                            <a:pt x="101" y="23"/>
                          </a:lnTo>
                          <a:lnTo>
                            <a:pt x="134" y="23"/>
                          </a:lnTo>
                          <a:lnTo>
                            <a:pt x="168" y="23"/>
                          </a:lnTo>
                          <a:lnTo>
                            <a:pt x="190" y="23"/>
                          </a:lnTo>
                          <a:lnTo>
                            <a:pt x="223" y="23"/>
                          </a:lnTo>
                          <a:lnTo>
                            <a:pt x="257" y="23"/>
                          </a:lnTo>
                          <a:lnTo>
                            <a:pt x="279" y="34"/>
                          </a:lnTo>
                          <a:lnTo>
                            <a:pt x="312" y="34"/>
                          </a:lnTo>
                          <a:lnTo>
                            <a:pt x="346" y="45"/>
                          </a:lnTo>
                          <a:lnTo>
                            <a:pt x="379" y="56"/>
                          </a:lnTo>
                          <a:lnTo>
                            <a:pt x="402" y="67"/>
                          </a:lnTo>
                          <a:lnTo>
                            <a:pt x="435" y="79"/>
                          </a:lnTo>
                          <a:lnTo>
                            <a:pt x="468" y="90"/>
                          </a:lnTo>
                          <a:lnTo>
                            <a:pt x="491" y="101"/>
                          </a:lnTo>
                          <a:lnTo>
                            <a:pt x="524" y="112"/>
                          </a:lnTo>
                          <a:lnTo>
                            <a:pt x="558" y="123"/>
                          </a:lnTo>
                          <a:lnTo>
                            <a:pt x="580" y="145"/>
                          </a:lnTo>
                          <a:lnTo>
                            <a:pt x="613" y="157"/>
                          </a:lnTo>
                          <a:lnTo>
                            <a:pt x="636" y="179"/>
                          </a:lnTo>
                          <a:lnTo>
                            <a:pt x="669" y="201"/>
                          </a:lnTo>
                          <a:lnTo>
                            <a:pt x="691" y="223"/>
                          </a:lnTo>
                          <a:lnTo>
                            <a:pt x="714" y="246"/>
                          </a:lnTo>
                          <a:lnTo>
                            <a:pt x="736" y="268"/>
                          </a:lnTo>
                          <a:lnTo>
                            <a:pt x="758" y="290"/>
                          </a:lnTo>
                          <a:lnTo>
                            <a:pt x="781" y="313"/>
                          </a:lnTo>
                          <a:lnTo>
                            <a:pt x="803" y="335"/>
                          </a:lnTo>
                          <a:lnTo>
                            <a:pt x="825" y="368"/>
                          </a:lnTo>
                          <a:lnTo>
                            <a:pt x="847" y="391"/>
                          </a:lnTo>
                          <a:lnTo>
                            <a:pt x="870" y="424"/>
                          </a:lnTo>
                          <a:lnTo>
                            <a:pt x="881" y="457"/>
                          </a:lnTo>
                          <a:lnTo>
                            <a:pt x="892" y="457"/>
                          </a:lnTo>
                          <a:lnTo>
                            <a:pt x="892" y="435"/>
                          </a:lnTo>
                          <a:close/>
                        </a:path>
                      </a:pathLst>
                    </a:custGeom>
                    <a:solidFill>
                      <a:srgbClr val="000000"/>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1757"/>
                    <p:cNvSpPr/>
                    <p:nvPr/>
                  </p:nvSpPr>
                  <p:spPr>
                    <a:xfrm rot="111600">
                      <a:off x="8021520" y="1162080"/>
                      <a:ext cx="32400" cy="23400"/>
                    </a:xfrm>
                    <a:custGeom>
                      <a:avLst/>
                      <a:gdLst>
                        <a:gd name="textAreaLeft" fmla="*/ 0 w 32400"/>
                        <a:gd name="textAreaRight" fmla="*/ 32760 w 32400"/>
                        <a:gd name="textAreaTop" fmla="*/ 0 h 23400"/>
                        <a:gd name="textAreaBottom" fmla="*/ 23760 h 23400"/>
                      </a:gdLst>
                      <a:ahLst/>
                      <a:rect l="textAreaLeft" t="textAreaTop" r="textAreaRight" b="textAreaBottom"/>
                      <a:pathLst>
                        <a:path w="256" h="178">
                          <a:moveTo>
                            <a:pt x="256" y="178"/>
                          </a:moveTo>
                          <a:lnTo>
                            <a:pt x="256" y="178"/>
                          </a:lnTo>
                          <a:lnTo>
                            <a:pt x="245" y="156"/>
                          </a:lnTo>
                          <a:lnTo>
                            <a:pt x="245" y="145"/>
                          </a:lnTo>
                          <a:lnTo>
                            <a:pt x="234" y="134"/>
                          </a:lnTo>
                          <a:lnTo>
                            <a:pt x="223" y="123"/>
                          </a:lnTo>
                          <a:lnTo>
                            <a:pt x="212" y="100"/>
                          </a:lnTo>
                          <a:lnTo>
                            <a:pt x="201" y="89"/>
                          </a:lnTo>
                          <a:lnTo>
                            <a:pt x="178" y="78"/>
                          </a:lnTo>
                          <a:lnTo>
                            <a:pt x="167" y="67"/>
                          </a:lnTo>
                          <a:lnTo>
                            <a:pt x="145" y="56"/>
                          </a:lnTo>
                          <a:lnTo>
                            <a:pt x="134" y="45"/>
                          </a:lnTo>
                          <a:lnTo>
                            <a:pt x="111" y="34"/>
                          </a:lnTo>
                          <a:lnTo>
                            <a:pt x="89" y="34"/>
                          </a:lnTo>
                          <a:lnTo>
                            <a:pt x="67" y="22"/>
                          </a:lnTo>
                          <a:lnTo>
                            <a:pt x="45" y="11"/>
                          </a:lnTo>
                          <a:lnTo>
                            <a:pt x="22" y="11"/>
                          </a:lnTo>
                          <a:lnTo>
                            <a:pt x="0" y="0"/>
                          </a:lnTo>
                          <a:lnTo>
                            <a:pt x="0" y="22"/>
                          </a:lnTo>
                          <a:lnTo>
                            <a:pt x="22" y="34"/>
                          </a:lnTo>
                          <a:lnTo>
                            <a:pt x="45" y="34"/>
                          </a:lnTo>
                          <a:lnTo>
                            <a:pt x="67" y="45"/>
                          </a:lnTo>
                          <a:lnTo>
                            <a:pt x="89" y="45"/>
                          </a:lnTo>
                          <a:lnTo>
                            <a:pt x="111" y="56"/>
                          </a:lnTo>
                          <a:lnTo>
                            <a:pt x="123" y="67"/>
                          </a:lnTo>
                          <a:lnTo>
                            <a:pt x="145" y="78"/>
                          </a:lnTo>
                          <a:lnTo>
                            <a:pt x="156" y="78"/>
                          </a:lnTo>
                          <a:lnTo>
                            <a:pt x="178" y="100"/>
                          </a:lnTo>
                          <a:lnTo>
                            <a:pt x="189" y="100"/>
                          </a:lnTo>
                          <a:lnTo>
                            <a:pt x="201" y="112"/>
                          </a:lnTo>
                          <a:lnTo>
                            <a:pt x="212" y="134"/>
                          </a:lnTo>
                          <a:lnTo>
                            <a:pt x="212" y="145"/>
                          </a:lnTo>
                          <a:lnTo>
                            <a:pt x="223" y="156"/>
                          </a:lnTo>
                          <a:lnTo>
                            <a:pt x="234" y="167"/>
                          </a:lnTo>
                          <a:lnTo>
                            <a:pt x="234" y="178"/>
                          </a:lnTo>
                          <a:lnTo>
                            <a:pt x="256" y="178"/>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756"/>
                    <p:cNvSpPr/>
                    <p:nvPr/>
                  </p:nvSpPr>
                  <p:spPr>
                    <a:xfrm rot="111600">
                      <a:off x="8033400" y="1185480"/>
                      <a:ext cx="19800" cy="30960"/>
                    </a:xfrm>
                    <a:custGeom>
                      <a:avLst/>
                      <a:gdLst>
                        <a:gd name="textAreaLeft" fmla="*/ 0 w 19800"/>
                        <a:gd name="textAreaRight" fmla="*/ 20160 w 19800"/>
                        <a:gd name="textAreaTop" fmla="*/ 0 h 30960"/>
                        <a:gd name="textAreaBottom" fmla="*/ 31320 h 30960"/>
                      </a:gdLst>
                      <a:ahLst/>
                      <a:rect l="textAreaLeft" t="textAreaTop" r="textAreaRight" b="textAreaBottom"/>
                      <a:pathLst>
                        <a:path w="156" h="235">
                          <a:moveTo>
                            <a:pt x="23" y="223"/>
                          </a:moveTo>
                          <a:lnTo>
                            <a:pt x="11" y="235"/>
                          </a:lnTo>
                          <a:lnTo>
                            <a:pt x="56" y="212"/>
                          </a:lnTo>
                          <a:lnTo>
                            <a:pt x="89" y="190"/>
                          </a:lnTo>
                          <a:lnTo>
                            <a:pt x="112" y="157"/>
                          </a:lnTo>
                          <a:lnTo>
                            <a:pt x="134" y="134"/>
                          </a:lnTo>
                          <a:lnTo>
                            <a:pt x="145" y="101"/>
                          </a:lnTo>
                          <a:lnTo>
                            <a:pt x="156" y="67"/>
                          </a:lnTo>
                          <a:lnTo>
                            <a:pt x="156" y="34"/>
                          </a:lnTo>
                          <a:lnTo>
                            <a:pt x="156" y="0"/>
                          </a:lnTo>
                          <a:lnTo>
                            <a:pt x="134" y="0"/>
                          </a:lnTo>
                          <a:lnTo>
                            <a:pt x="134" y="34"/>
                          </a:lnTo>
                          <a:lnTo>
                            <a:pt x="134" y="67"/>
                          </a:lnTo>
                          <a:lnTo>
                            <a:pt x="123" y="90"/>
                          </a:lnTo>
                          <a:lnTo>
                            <a:pt x="112" y="123"/>
                          </a:lnTo>
                          <a:lnTo>
                            <a:pt x="101" y="145"/>
                          </a:lnTo>
                          <a:lnTo>
                            <a:pt x="67" y="168"/>
                          </a:lnTo>
                          <a:lnTo>
                            <a:pt x="45" y="190"/>
                          </a:lnTo>
                          <a:lnTo>
                            <a:pt x="0" y="212"/>
                          </a:lnTo>
                          <a:lnTo>
                            <a:pt x="0" y="223"/>
                          </a:lnTo>
                          <a:lnTo>
                            <a:pt x="23" y="223"/>
                          </a:lnTo>
                          <a:close/>
                        </a:path>
                      </a:pathLst>
                    </a:custGeom>
                    <a:solidFill>
                      <a:srgbClr val="000000"/>
                    </a:solidFill>
                    <a:ln w="0">
                      <a:noFill/>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1755"/>
                    <p:cNvSpPr/>
                    <p:nvPr/>
                  </p:nvSpPr>
                  <p:spPr>
                    <a:xfrm rot="111600">
                      <a:off x="7961040" y="1213560"/>
                      <a:ext cx="73800" cy="116280"/>
                    </a:xfrm>
                    <a:custGeom>
                      <a:avLst/>
                      <a:gdLst>
                        <a:gd name="textAreaLeft" fmla="*/ 0 w 73800"/>
                        <a:gd name="textAreaRight" fmla="*/ 74160 w 73800"/>
                        <a:gd name="textAreaTop" fmla="*/ 0 h 116280"/>
                        <a:gd name="textAreaBottom" fmla="*/ 116640 h 116280"/>
                      </a:gdLst>
                      <a:ahLst/>
                      <a:rect l="textAreaLeft" t="textAreaTop" r="textAreaRight" b="textAreaBottom"/>
                      <a:pathLst>
                        <a:path w="580" h="881">
                          <a:moveTo>
                            <a:pt x="0" y="881"/>
                          </a:moveTo>
                          <a:lnTo>
                            <a:pt x="0" y="881"/>
                          </a:lnTo>
                          <a:lnTo>
                            <a:pt x="67" y="870"/>
                          </a:lnTo>
                          <a:lnTo>
                            <a:pt x="134" y="836"/>
                          </a:lnTo>
                          <a:lnTo>
                            <a:pt x="201" y="803"/>
                          </a:lnTo>
                          <a:lnTo>
                            <a:pt x="257" y="769"/>
                          </a:lnTo>
                          <a:lnTo>
                            <a:pt x="312" y="725"/>
                          </a:lnTo>
                          <a:lnTo>
                            <a:pt x="368" y="669"/>
                          </a:lnTo>
                          <a:lnTo>
                            <a:pt x="413" y="613"/>
                          </a:lnTo>
                          <a:lnTo>
                            <a:pt x="457" y="558"/>
                          </a:lnTo>
                          <a:lnTo>
                            <a:pt x="491" y="502"/>
                          </a:lnTo>
                          <a:lnTo>
                            <a:pt x="524" y="435"/>
                          </a:lnTo>
                          <a:lnTo>
                            <a:pt x="546" y="368"/>
                          </a:lnTo>
                          <a:lnTo>
                            <a:pt x="557" y="301"/>
                          </a:lnTo>
                          <a:lnTo>
                            <a:pt x="580" y="223"/>
                          </a:lnTo>
                          <a:lnTo>
                            <a:pt x="580" y="145"/>
                          </a:lnTo>
                          <a:lnTo>
                            <a:pt x="580" y="78"/>
                          </a:lnTo>
                          <a:lnTo>
                            <a:pt x="569" y="0"/>
                          </a:lnTo>
                          <a:lnTo>
                            <a:pt x="546" y="0"/>
                          </a:lnTo>
                          <a:lnTo>
                            <a:pt x="557" y="78"/>
                          </a:lnTo>
                          <a:lnTo>
                            <a:pt x="557" y="145"/>
                          </a:lnTo>
                          <a:lnTo>
                            <a:pt x="557" y="223"/>
                          </a:lnTo>
                          <a:lnTo>
                            <a:pt x="546" y="290"/>
                          </a:lnTo>
                          <a:lnTo>
                            <a:pt x="524" y="357"/>
                          </a:lnTo>
                          <a:lnTo>
                            <a:pt x="502" y="424"/>
                          </a:lnTo>
                          <a:lnTo>
                            <a:pt x="468" y="491"/>
                          </a:lnTo>
                          <a:lnTo>
                            <a:pt x="435" y="547"/>
                          </a:lnTo>
                          <a:lnTo>
                            <a:pt x="390" y="602"/>
                          </a:lnTo>
                          <a:lnTo>
                            <a:pt x="346" y="658"/>
                          </a:lnTo>
                          <a:lnTo>
                            <a:pt x="301" y="703"/>
                          </a:lnTo>
                          <a:lnTo>
                            <a:pt x="245" y="747"/>
                          </a:lnTo>
                          <a:lnTo>
                            <a:pt x="190" y="781"/>
                          </a:lnTo>
                          <a:lnTo>
                            <a:pt x="123" y="814"/>
                          </a:lnTo>
                          <a:lnTo>
                            <a:pt x="67" y="847"/>
                          </a:lnTo>
                          <a:lnTo>
                            <a:pt x="0" y="870"/>
                          </a:lnTo>
                          <a:lnTo>
                            <a:pt x="0" y="88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754"/>
                    <p:cNvSpPr/>
                    <p:nvPr/>
                  </p:nvSpPr>
                  <p:spPr>
                    <a:xfrm rot="111600">
                      <a:off x="7846920" y="1253520"/>
                      <a:ext cx="113400" cy="76320"/>
                    </a:xfrm>
                    <a:custGeom>
                      <a:avLst/>
                      <a:gdLst>
                        <a:gd name="textAreaLeft" fmla="*/ 0 w 113400"/>
                        <a:gd name="textAreaRight" fmla="*/ 113760 w 113400"/>
                        <a:gd name="textAreaTop" fmla="*/ 0 h 76320"/>
                        <a:gd name="textAreaBottom" fmla="*/ 76320 h 76320"/>
                      </a:gdLst>
                      <a:ahLst/>
                      <a:rect l="textAreaLeft" t="textAreaTop" r="textAreaRight" b="textAreaBottom"/>
                      <a:pathLst>
                        <a:path w="891" h="579">
                          <a:moveTo>
                            <a:pt x="11" y="22"/>
                          </a:moveTo>
                          <a:lnTo>
                            <a:pt x="0" y="11"/>
                          </a:lnTo>
                          <a:lnTo>
                            <a:pt x="11" y="55"/>
                          </a:lnTo>
                          <a:lnTo>
                            <a:pt x="22" y="89"/>
                          </a:lnTo>
                          <a:lnTo>
                            <a:pt x="44" y="122"/>
                          </a:lnTo>
                          <a:lnTo>
                            <a:pt x="55" y="156"/>
                          </a:lnTo>
                          <a:lnTo>
                            <a:pt x="78" y="189"/>
                          </a:lnTo>
                          <a:lnTo>
                            <a:pt x="100" y="223"/>
                          </a:lnTo>
                          <a:lnTo>
                            <a:pt x="122" y="256"/>
                          </a:lnTo>
                          <a:lnTo>
                            <a:pt x="144" y="289"/>
                          </a:lnTo>
                          <a:lnTo>
                            <a:pt x="167" y="312"/>
                          </a:lnTo>
                          <a:lnTo>
                            <a:pt x="200" y="345"/>
                          </a:lnTo>
                          <a:lnTo>
                            <a:pt x="222" y="367"/>
                          </a:lnTo>
                          <a:lnTo>
                            <a:pt x="245" y="390"/>
                          </a:lnTo>
                          <a:lnTo>
                            <a:pt x="278" y="412"/>
                          </a:lnTo>
                          <a:lnTo>
                            <a:pt x="300" y="434"/>
                          </a:lnTo>
                          <a:lnTo>
                            <a:pt x="334" y="457"/>
                          </a:lnTo>
                          <a:lnTo>
                            <a:pt x="367" y="479"/>
                          </a:lnTo>
                          <a:lnTo>
                            <a:pt x="390" y="490"/>
                          </a:lnTo>
                          <a:lnTo>
                            <a:pt x="423" y="512"/>
                          </a:lnTo>
                          <a:lnTo>
                            <a:pt x="457" y="523"/>
                          </a:lnTo>
                          <a:lnTo>
                            <a:pt x="490" y="535"/>
                          </a:lnTo>
                          <a:lnTo>
                            <a:pt x="523" y="546"/>
                          </a:lnTo>
                          <a:lnTo>
                            <a:pt x="557" y="557"/>
                          </a:lnTo>
                          <a:lnTo>
                            <a:pt x="590" y="568"/>
                          </a:lnTo>
                          <a:lnTo>
                            <a:pt x="624" y="568"/>
                          </a:lnTo>
                          <a:lnTo>
                            <a:pt x="657" y="579"/>
                          </a:lnTo>
                          <a:lnTo>
                            <a:pt x="691" y="579"/>
                          </a:lnTo>
                          <a:lnTo>
                            <a:pt x="724" y="579"/>
                          </a:lnTo>
                          <a:lnTo>
                            <a:pt x="757" y="579"/>
                          </a:lnTo>
                          <a:lnTo>
                            <a:pt x="791" y="579"/>
                          </a:lnTo>
                          <a:lnTo>
                            <a:pt x="824" y="579"/>
                          </a:lnTo>
                          <a:lnTo>
                            <a:pt x="858" y="568"/>
                          </a:lnTo>
                          <a:lnTo>
                            <a:pt x="891" y="557"/>
                          </a:lnTo>
                          <a:lnTo>
                            <a:pt x="891" y="546"/>
                          </a:lnTo>
                          <a:lnTo>
                            <a:pt x="858" y="546"/>
                          </a:lnTo>
                          <a:lnTo>
                            <a:pt x="824" y="557"/>
                          </a:lnTo>
                          <a:lnTo>
                            <a:pt x="791" y="557"/>
                          </a:lnTo>
                          <a:lnTo>
                            <a:pt x="757" y="557"/>
                          </a:lnTo>
                          <a:lnTo>
                            <a:pt x="724" y="557"/>
                          </a:lnTo>
                          <a:lnTo>
                            <a:pt x="691" y="557"/>
                          </a:lnTo>
                          <a:lnTo>
                            <a:pt x="657" y="557"/>
                          </a:lnTo>
                          <a:lnTo>
                            <a:pt x="624" y="557"/>
                          </a:lnTo>
                          <a:lnTo>
                            <a:pt x="590" y="546"/>
                          </a:lnTo>
                          <a:lnTo>
                            <a:pt x="557" y="535"/>
                          </a:lnTo>
                          <a:lnTo>
                            <a:pt x="523" y="523"/>
                          </a:lnTo>
                          <a:lnTo>
                            <a:pt x="490" y="512"/>
                          </a:lnTo>
                          <a:lnTo>
                            <a:pt x="468" y="501"/>
                          </a:lnTo>
                          <a:lnTo>
                            <a:pt x="434" y="490"/>
                          </a:lnTo>
                          <a:lnTo>
                            <a:pt x="401" y="479"/>
                          </a:lnTo>
                          <a:lnTo>
                            <a:pt x="367" y="457"/>
                          </a:lnTo>
                          <a:lnTo>
                            <a:pt x="345" y="445"/>
                          </a:lnTo>
                          <a:lnTo>
                            <a:pt x="312" y="423"/>
                          </a:lnTo>
                          <a:lnTo>
                            <a:pt x="289" y="401"/>
                          </a:lnTo>
                          <a:lnTo>
                            <a:pt x="256" y="379"/>
                          </a:lnTo>
                          <a:lnTo>
                            <a:pt x="234" y="356"/>
                          </a:lnTo>
                          <a:lnTo>
                            <a:pt x="211" y="323"/>
                          </a:lnTo>
                          <a:lnTo>
                            <a:pt x="178" y="301"/>
                          </a:lnTo>
                          <a:lnTo>
                            <a:pt x="167" y="278"/>
                          </a:lnTo>
                          <a:lnTo>
                            <a:pt x="144" y="245"/>
                          </a:lnTo>
                          <a:lnTo>
                            <a:pt x="122" y="211"/>
                          </a:lnTo>
                          <a:lnTo>
                            <a:pt x="100" y="178"/>
                          </a:lnTo>
                          <a:lnTo>
                            <a:pt x="78" y="145"/>
                          </a:lnTo>
                          <a:lnTo>
                            <a:pt x="55" y="111"/>
                          </a:lnTo>
                          <a:lnTo>
                            <a:pt x="44" y="78"/>
                          </a:lnTo>
                          <a:lnTo>
                            <a:pt x="33" y="44"/>
                          </a:lnTo>
                          <a:lnTo>
                            <a:pt x="11" y="11"/>
                          </a:lnTo>
                          <a:lnTo>
                            <a:pt x="0" y="0"/>
                          </a:lnTo>
                          <a:lnTo>
                            <a:pt x="11" y="22"/>
                          </a:lnTo>
                          <a:close/>
                        </a:path>
                      </a:pathLst>
                    </a:custGeom>
                    <a:solidFill>
                      <a:srgbClr val="000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1753"/>
                    <p:cNvSpPr/>
                    <p:nvPr/>
                  </p:nvSpPr>
                  <p:spPr>
                    <a:xfrm rot="111600">
                      <a:off x="7822800" y="1235160"/>
                      <a:ext cx="27000" cy="19080"/>
                    </a:xfrm>
                    <a:custGeom>
                      <a:avLst/>
                      <a:gdLst>
                        <a:gd name="textAreaLeft" fmla="*/ 0 w 27000"/>
                        <a:gd name="textAreaRight" fmla="*/ 27360 w 27000"/>
                        <a:gd name="textAreaTop" fmla="*/ 0 h 19080"/>
                        <a:gd name="textAreaBottom" fmla="*/ 19440 h 19080"/>
                      </a:gdLst>
                      <a:ahLst/>
                      <a:rect l="textAreaLeft" t="textAreaTop" r="textAreaRight" b="textAreaBottom"/>
                      <a:pathLst>
                        <a:path w="212" h="145">
                          <a:moveTo>
                            <a:pt x="0" y="0"/>
                          </a:moveTo>
                          <a:lnTo>
                            <a:pt x="0" y="0"/>
                          </a:lnTo>
                          <a:lnTo>
                            <a:pt x="11" y="33"/>
                          </a:lnTo>
                          <a:lnTo>
                            <a:pt x="33" y="67"/>
                          </a:lnTo>
                          <a:lnTo>
                            <a:pt x="45" y="89"/>
                          </a:lnTo>
                          <a:lnTo>
                            <a:pt x="78" y="100"/>
                          </a:lnTo>
                          <a:lnTo>
                            <a:pt x="100" y="123"/>
                          </a:lnTo>
                          <a:lnTo>
                            <a:pt x="134" y="134"/>
                          </a:lnTo>
                          <a:lnTo>
                            <a:pt x="167" y="134"/>
                          </a:lnTo>
                          <a:lnTo>
                            <a:pt x="212" y="145"/>
                          </a:lnTo>
                          <a:lnTo>
                            <a:pt x="201" y="123"/>
                          </a:lnTo>
                          <a:lnTo>
                            <a:pt x="178" y="123"/>
                          </a:lnTo>
                          <a:lnTo>
                            <a:pt x="145" y="111"/>
                          </a:lnTo>
                          <a:lnTo>
                            <a:pt x="111" y="100"/>
                          </a:lnTo>
                          <a:lnTo>
                            <a:pt x="89" y="89"/>
                          </a:lnTo>
                          <a:lnTo>
                            <a:pt x="67" y="67"/>
                          </a:lnTo>
                          <a:lnTo>
                            <a:pt x="45" y="56"/>
                          </a:lnTo>
                          <a:lnTo>
                            <a:pt x="33" y="22"/>
                          </a:lnTo>
                          <a:lnTo>
                            <a:pt x="11"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1752"/>
                    <p:cNvSpPr/>
                    <p:nvPr/>
                  </p:nvSpPr>
                  <p:spPr>
                    <a:xfrm rot="111600">
                      <a:off x="7822800" y="1195200"/>
                      <a:ext cx="22680" cy="39600"/>
                    </a:xfrm>
                    <a:custGeom>
                      <a:avLst/>
                      <a:gdLst>
                        <a:gd name="textAreaLeft" fmla="*/ 0 w 22680"/>
                        <a:gd name="textAreaRight" fmla="*/ 23040 w 22680"/>
                        <a:gd name="textAreaTop" fmla="*/ 0 h 39600"/>
                        <a:gd name="textAreaBottom" fmla="*/ 39600 h 39600"/>
                      </a:gdLst>
                      <a:ahLst/>
                      <a:rect l="textAreaLeft" t="textAreaTop" r="textAreaRight" b="textAreaBottom"/>
                      <a:pathLst>
                        <a:path w="178" h="301">
                          <a:moveTo>
                            <a:pt x="156" y="0"/>
                          </a:moveTo>
                          <a:lnTo>
                            <a:pt x="156" y="0"/>
                          </a:lnTo>
                          <a:lnTo>
                            <a:pt x="122" y="34"/>
                          </a:lnTo>
                          <a:lnTo>
                            <a:pt x="78" y="67"/>
                          </a:lnTo>
                          <a:lnTo>
                            <a:pt x="56" y="100"/>
                          </a:lnTo>
                          <a:lnTo>
                            <a:pt x="22" y="134"/>
                          </a:lnTo>
                          <a:lnTo>
                            <a:pt x="0" y="178"/>
                          </a:lnTo>
                          <a:lnTo>
                            <a:pt x="0" y="212"/>
                          </a:lnTo>
                          <a:lnTo>
                            <a:pt x="0" y="256"/>
                          </a:lnTo>
                          <a:lnTo>
                            <a:pt x="11" y="301"/>
                          </a:lnTo>
                          <a:lnTo>
                            <a:pt x="22" y="301"/>
                          </a:lnTo>
                          <a:lnTo>
                            <a:pt x="22" y="256"/>
                          </a:lnTo>
                          <a:lnTo>
                            <a:pt x="22" y="223"/>
                          </a:lnTo>
                          <a:lnTo>
                            <a:pt x="33" y="178"/>
                          </a:lnTo>
                          <a:lnTo>
                            <a:pt x="44" y="145"/>
                          </a:lnTo>
                          <a:lnTo>
                            <a:pt x="67" y="112"/>
                          </a:lnTo>
                          <a:lnTo>
                            <a:pt x="100" y="78"/>
                          </a:lnTo>
                          <a:lnTo>
                            <a:pt x="134" y="45"/>
                          </a:lnTo>
                          <a:lnTo>
                            <a:pt x="167" y="11"/>
                          </a:lnTo>
                          <a:lnTo>
                            <a:pt x="178" y="0"/>
                          </a:lnTo>
                          <a:lnTo>
                            <a:pt x="156" y="0"/>
                          </a:lnTo>
                          <a:close/>
                        </a:path>
                      </a:pathLst>
                    </a:custGeom>
                    <a:solidFill>
                      <a:srgbClr val="0000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1751"/>
                    <p:cNvSpPr/>
                    <p:nvPr/>
                  </p:nvSpPr>
                  <p:spPr>
                    <a:xfrm rot="111600">
                      <a:off x="7844400" y="1102320"/>
                      <a:ext cx="65160" cy="93960"/>
                    </a:xfrm>
                    <a:custGeom>
                      <a:avLst/>
                      <a:gdLst>
                        <a:gd name="textAreaLeft" fmla="*/ 0 w 65160"/>
                        <a:gd name="textAreaRight" fmla="*/ 65520 w 65160"/>
                        <a:gd name="textAreaTop" fmla="*/ 0 h 93960"/>
                        <a:gd name="textAreaBottom" fmla="*/ 94320 h 93960"/>
                      </a:gdLst>
                      <a:ahLst/>
                      <a:rect l="textAreaLeft" t="textAreaTop" r="textAreaRight" b="textAreaBottom"/>
                      <a:pathLst>
                        <a:path w="513" h="713">
                          <a:moveTo>
                            <a:pt x="501" y="0"/>
                          </a:moveTo>
                          <a:lnTo>
                            <a:pt x="501" y="0"/>
                          </a:lnTo>
                          <a:lnTo>
                            <a:pt x="457" y="11"/>
                          </a:lnTo>
                          <a:lnTo>
                            <a:pt x="401" y="33"/>
                          </a:lnTo>
                          <a:lnTo>
                            <a:pt x="356" y="56"/>
                          </a:lnTo>
                          <a:lnTo>
                            <a:pt x="301" y="89"/>
                          </a:lnTo>
                          <a:lnTo>
                            <a:pt x="267" y="122"/>
                          </a:lnTo>
                          <a:lnTo>
                            <a:pt x="223" y="167"/>
                          </a:lnTo>
                          <a:lnTo>
                            <a:pt x="189" y="212"/>
                          </a:lnTo>
                          <a:lnTo>
                            <a:pt x="156" y="256"/>
                          </a:lnTo>
                          <a:lnTo>
                            <a:pt x="122" y="301"/>
                          </a:lnTo>
                          <a:lnTo>
                            <a:pt x="89" y="356"/>
                          </a:lnTo>
                          <a:lnTo>
                            <a:pt x="67" y="412"/>
                          </a:lnTo>
                          <a:lnTo>
                            <a:pt x="44" y="468"/>
                          </a:lnTo>
                          <a:lnTo>
                            <a:pt x="33" y="524"/>
                          </a:lnTo>
                          <a:lnTo>
                            <a:pt x="11" y="590"/>
                          </a:lnTo>
                          <a:lnTo>
                            <a:pt x="0" y="657"/>
                          </a:lnTo>
                          <a:lnTo>
                            <a:pt x="0" y="713"/>
                          </a:lnTo>
                          <a:lnTo>
                            <a:pt x="22" y="713"/>
                          </a:lnTo>
                          <a:lnTo>
                            <a:pt x="22" y="657"/>
                          </a:lnTo>
                          <a:lnTo>
                            <a:pt x="33" y="590"/>
                          </a:lnTo>
                          <a:lnTo>
                            <a:pt x="56" y="535"/>
                          </a:lnTo>
                          <a:lnTo>
                            <a:pt x="67" y="479"/>
                          </a:lnTo>
                          <a:lnTo>
                            <a:pt x="89" y="423"/>
                          </a:lnTo>
                          <a:lnTo>
                            <a:pt x="111" y="368"/>
                          </a:lnTo>
                          <a:lnTo>
                            <a:pt x="145" y="323"/>
                          </a:lnTo>
                          <a:lnTo>
                            <a:pt x="167" y="267"/>
                          </a:lnTo>
                          <a:lnTo>
                            <a:pt x="200" y="223"/>
                          </a:lnTo>
                          <a:lnTo>
                            <a:pt x="245" y="178"/>
                          </a:lnTo>
                          <a:lnTo>
                            <a:pt x="278" y="145"/>
                          </a:lnTo>
                          <a:lnTo>
                            <a:pt x="323" y="111"/>
                          </a:lnTo>
                          <a:lnTo>
                            <a:pt x="368" y="78"/>
                          </a:lnTo>
                          <a:lnTo>
                            <a:pt x="412" y="56"/>
                          </a:lnTo>
                          <a:lnTo>
                            <a:pt x="457" y="33"/>
                          </a:lnTo>
                          <a:lnTo>
                            <a:pt x="513" y="22"/>
                          </a:lnTo>
                          <a:lnTo>
                            <a:pt x="50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1750"/>
                    <p:cNvSpPr/>
                    <p:nvPr/>
                  </p:nvSpPr>
                  <p:spPr>
                    <a:xfrm rot="111600">
                      <a:off x="7988040" y="1241640"/>
                      <a:ext cx="2520" cy="2880"/>
                    </a:xfrm>
                    <a:custGeom>
                      <a:avLst/>
                      <a:gdLst>
                        <a:gd name="textAreaLeft" fmla="*/ 0 w 2520"/>
                        <a:gd name="textAreaRight" fmla="*/ 2880 w 2520"/>
                        <a:gd name="textAreaTop" fmla="*/ 0 h 2880"/>
                        <a:gd name="textAreaBottom" fmla="*/ 3240 h 2880"/>
                      </a:gdLst>
                      <a:ahLst/>
                      <a:rect l="textAreaLeft" t="textAreaTop" r="textAreaRight" b="textAreaBottom"/>
                      <a:pathLst>
                        <a:path w="22" h="22">
                          <a:moveTo>
                            <a:pt x="22" y="11"/>
                          </a:moveTo>
                          <a:lnTo>
                            <a:pt x="11" y="0"/>
                          </a:lnTo>
                          <a:lnTo>
                            <a:pt x="0" y="0"/>
                          </a:lnTo>
                          <a:lnTo>
                            <a:pt x="0" y="11"/>
                          </a:lnTo>
                          <a:lnTo>
                            <a:pt x="0" y="22"/>
                          </a:lnTo>
                          <a:lnTo>
                            <a:pt x="22"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1749"/>
                    <p:cNvSpPr/>
                    <p:nvPr/>
                  </p:nvSpPr>
                  <p:spPr>
                    <a:xfrm rot="111600">
                      <a:off x="7987680" y="1243440"/>
                      <a:ext cx="23760" cy="16200"/>
                    </a:xfrm>
                    <a:custGeom>
                      <a:avLst/>
                      <a:gdLst>
                        <a:gd name="textAreaLeft" fmla="*/ 0 w 23760"/>
                        <a:gd name="textAreaRight" fmla="*/ 24120 w 23760"/>
                        <a:gd name="textAreaTop" fmla="*/ 0 h 16200"/>
                        <a:gd name="textAreaBottom" fmla="*/ 16560 h 16200"/>
                      </a:gdLst>
                      <a:ahLst/>
                      <a:rect l="textAreaLeft" t="textAreaTop" r="textAreaRight" b="textAreaBottom"/>
                      <a:pathLst>
                        <a:path w="189" h="123">
                          <a:moveTo>
                            <a:pt x="189" y="112"/>
                          </a:moveTo>
                          <a:lnTo>
                            <a:pt x="167" y="101"/>
                          </a:lnTo>
                          <a:lnTo>
                            <a:pt x="134" y="89"/>
                          </a:lnTo>
                          <a:lnTo>
                            <a:pt x="111" y="89"/>
                          </a:lnTo>
                          <a:lnTo>
                            <a:pt x="89" y="78"/>
                          </a:lnTo>
                          <a:lnTo>
                            <a:pt x="67" y="56"/>
                          </a:lnTo>
                          <a:lnTo>
                            <a:pt x="56" y="45"/>
                          </a:lnTo>
                          <a:lnTo>
                            <a:pt x="33" y="23"/>
                          </a:lnTo>
                          <a:lnTo>
                            <a:pt x="22" y="0"/>
                          </a:lnTo>
                          <a:lnTo>
                            <a:pt x="0" y="11"/>
                          </a:lnTo>
                          <a:lnTo>
                            <a:pt x="22" y="34"/>
                          </a:lnTo>
                          <a:lnTo>
                            <a:pt x="33" y="56"/>
                          </a:lnTo>
                          <a:lnTo>
                            <a:pt x="56" y="78"/>
                          </a:lnTo>
                          <a:lnTo>
                            <a:pt x="78" y="89"/>
                          </a:lnTo>
                          <a:lnTo>
                            <a:pt x="111" y="101"/>
                          </a:lnTo>
                          <a:lnTo>
                            <a:pt x="134" y="112"/>
                          </a:lnTo>
                          <a:lnTo>
                            <a:pt x="156" y="123"/>
                          </a:lnTo>
                          <a:lnTo>
                            <a:pt x="189" y="123"/>
                          </a:lnTo>
                          <a:lnTo>
                            <a:pt x="189" y="11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1748"/>
                    <p:cNvSpPr/>
                    <p:nvPr/>
                  </p:nvSpPr>
                  <p:spPr>
                    <a:xfrm rot="111600">
                      <a:off x="7989120" y="124308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0" y="11"/>
                          </a:moveTo>
                          <a:lnTo>
                            <a:pt x="0" y="11"/>
                          </a:lnTo>
                          <a:lnTo>
                            <a:pt x="11" y="11"/>
                          </a:lnTo>
                          <a:lnTo>
                            <a:pt x="11" y="0"/>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747"/>
                    <p:cNvSpPr/>
                    <p:nvPr/>
                  </p:nvSpPr>
                  <p:spPr>
                    <a:xfrm rot="111600">
                      <a:off x="7906320" y="1256400"/>
                      <a:ext cx="2520" cy="1080"/>
                    </a:xfrm>
                    <a:custGeom>
                      <a:avLst/>
                      <a:gdLst>
                        <a:gd name="textAreaLeft" fmla="*/ 0 w 2520"/>
                        <a:gd name="textAreaRight" fmla="*/ 2880 w 2520"/>
                        <a:gd name="textAreaTop" fmla="*/ 0 h 1080"/>
                        <a:gd name="textAreaBottom" fmla="*/ 1440 h 1080"/>
                      </a:gdLst>
                      <a:ahLst/>
                      <a:rect l="textAreaLeft" t="textAreaTop" r="textAreaRight" b="textAreaBottom"/>
                      <a:pathLst>
                        <a:path w="22" h="11">
                          <a:moveTo>
                            <a:pt x="22" y="11"/>
                          </a:moveTo>
                          <a:lnTo>
                            <a:pt x="22" y="11"/>
                          </a:lnTo>
                          <a:lnTo>
                            <a:pt x="11" y="0"/>
                          </a:lnTo>
                          <a:lnTo>
                            <a:pt x="0" y="11"/>
                          </a:lnTo>
                          <a:lnTo>
                            <a:pt x="22" y="11"/>
                          </a:lnTo>
                          <a:close/>
                        </a:path>
                      </a:pathLst>
                    </a:custGeom>
                    <a:solidFill>
                      <a:srgbClr val="000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746"/>
                    <p:cNvSpPr/>
                    <p:nvPr/>
                  </p:nvSpPr>
                  <p:spPr>
                    <a:xfrm rot="111600">
                      <a:off x="7900560" y="1257840"/>
                      <a:ext cx="8280" cy="17640"/>
                    </a:xfrm>
                    <a:custGeom>
                      <a:avLst/>
                      <a:gdLst>
                        <a:gd name="textAreaLeft" fmla="*/ 0 w 8280"/>
                        <a:gd name="textAreaRight" fmla="*/ 8640 w 8280"/>
                        <a:gd name="textAreaTop" fmla="*/ 0 h 17640"/>
                        <a:gd name="textAreaBottom" fmla="*/ 18000 h 17640"/>
                      </a:gdLst>
                      <a:ahLst/>
                      <a:rect l="textAreaLeft" t="textAreaTop" r="textAreaRight" b="textAreaBottom"/>
                      <a:pathLst>
                        <a:path w="67" h="134">
                          <a:moveTo>
                            <a:pt x="22" y="134"/>
                          </a:moveTo>
                          <a:lnTo>
                            <a:pt x="22" y="123"/>
                          </a:lnTo>
                          <a:lnTo>
                            <a:pt x="33" y="112"/>
                          </a:lnTo>
                          <a:lnTo>
                            <a:pt x="33" y="100"/>
                          </a:lnTo>
                          <a:lnTo>
                            <a:pt x="45" y="89"/>
                          </a:lnTo>
                          <a:lnTo>
                            <a:pt x="56" y="67"/>
                          </a:lnTo>
                          <a:lnTo>
                            <a:pt x="56" y="56"/>
                          </a:lnTo>
                          <a:lnTo>
                            <a:pt x="67" y="45"/>
                          </a:lnTo>
                          <a:lnTo>
                            <a:pt x="67" y="22"/>
                          </a:lnTo>
                          <a:lnTo>
                            <a:pt x="67" y="0"/>
                          </a:lnTo>
                          <a:lnTo>
                            <a:pt x="45" y="0"/>
                          </a:lnTo>
                          <a:lnTo>
                            <a:pt x="45" y="22"/>
                          </a:lnTo>
                          <a:lnTo>
                            <a:pt x="45" y="33"/>
                          </a:lnTo>
                          <a:lnTo>
                            <a:pt x="33" y="45"/>
                          </a:lnTo>
                          <a:lnTo>
                            <a:pt x="33" y="56"/>
                          </a:lnTo>
                          <a:lnTo>
                            <a:pt x="22" y="78"/>
                          </a:lnTo>
                          <a:lnTo>
                            <a:pt x="22" y="89"/>
                          </a:lnTo>
                          <a:lnTo>
                            <a:pt x="11" y="100"/>
                          </a:lnTo>
                          <a:lnTo>
                            <a:pt x="0" y="112"/>
                          </a:lnTo>
                          <a:lnTo>
                            <a:pt x="22" y="134"/>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1745"/>
                    <p:cNvSpPr/>
                    <p:nvPr/>
                  </p:nvSpPr>
                  <p:spPr>
                    <a:xfrm rot="111600">
                      <a:off x="7888680" y="1272240"/>
                      <a:ext cx="14040" cy="5760"/>
                    </a:xfrm>
                    <a:custGeom>
                      <a:avLst/>
                      <a:gdLst>
                        <a:gd name="textAreaLeft" fmla="*/ 0 w 14040"/>
                        <a:gd name="textAreaRight" fmla="*/ 14400 w 14040"/>
                        <a:gd name="textAreaTop" fmla="*/ 0 h 5760"/>
                        <a:gd name="textAreaBottom" fmla="*/ 6120 h 5760"/>
                      </a:gdLst>
                      <a:ahLst/>
                      <a:rect l="textAreaLeft" t="textAreaTop" r="textAreaRight" b="textAreaBottom"/>
                      <a:pathLst>
                        <a:path w="111" h="44">
                          <a:moveTo>
                            <a:pt x="0" y="44"/>
                          </a:moveTo>
                          <a:lnTo>
                            <a:pt x="22" y="44"/>
                          </a:lnTo>
                          <a:lnTo>
                            <a:pt x="33" y="44"/>
                          </a:lnTo>
                          <a:lnTo>
                            <a:pt x="56" y="33"/>
                          </a:lnTo>
                          <a:lnTo>
                            <a:pt x="67" y="33"/>
                          </a:lnTo>
                          <a:lnTo>
                            <a:pt x="89" y="33"/>
                          </a:lnTo>
                          <a:lnTo>
                            <a:pt x="89" y="22"/>
                          </a:lnTo>
                          <a:lnTo>
                            <a:pt x="100" y="22"/>
                          </a:lnTo>
                          <a:lnTo>
                            <a:pt x="111" y="22"/>
                          </a:lnTo>
                          <a:lnTo>
                            <a:pt x="89" y="0"/>
                          </a:lnTo>
                          <a:lnTo>
                            <a:pt x="78" y="11"/>
                          </a:lnTo>
                          <a:lnTo>
                            <a:pt x="67" y="11"/>
                          </a:lnTo>
                          <a:lnTo>
                            <a:pt x="44" y="22"/>
                          </a:lnTo>
                          <a:lnTo>
                            <a:pt x="33" y="22"/>
                          </a:lnTo>
                          <a:lnTo>
                            <a:pt x="11" y="22"/>
                          </a:lnTo>
                          <a:lnTo>
                            <a:pt x="0" y="22"/>
                          </a:lnTo>
                          <a:lnTo>
                            <a:pt x="0" y="44"/>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744"/>
                    <p:cNvSpPr/>
                    <p:nvPr/>
                  </p:nvSpPr>
                  <p:spPr>
                    <a:xfrm rot="111600">
                      <a:off x="7900200" y="1272600"/>
                      <a:ext cx="1080" cy="2880"/>
                    </a:xfrm>
                    <a:custGeom>
                      <a:avLst/>
                      <a:gdLst>
                        <a:gd name="textAreaLeft" fmla="*/ 0 w 1080"/>
                        <a:gd name="textAreaRight" fmla="*/ 1440 w 1080"/>
                        <a:gd name="textAreaTop" fmla="*/ 0 h 2880"/>
                        <a:gd name="textAreaBottom" fmla="*/ 3240 h 2880"/>
                      </a:gdLst>
                      <a:ahLst/>
                      <a:rect l="textAreaLeft" t="textAreaTop" r="textAreaRight" b="textAreaBottom"/>
                      <a:pathLst>
                        <a:path w="11" h="22">
                          <a:moveTo>
                            <a:pt x="11" y="0"/>
                          </a:moveTo>
                          <a:lnTo>
                            <a:pt x="0" y="0"/>
                          </a:lnTo>
                          <a:lnTo>
                            <a:pt x="0" y="11"/>
                          </a:lnTo>
                          <a:lnTo>
                            <a:pt x="11" y="22"/>
                          </a:lnTo>
                          <a:lnTo>
                            <a:pt x="11"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1743"/>
                    <p:cNvSpPr/>
                    <p:nvPr/>
                  </p:nvSpPr>
                  <p:spPr>
                    <a:xfrm rot="111600">
                      <a:off x="7824960" y="1059840"/>
                      <a:ext cx="213120" cy="169200"/>
                    </a:xfrm>
                    <a:custGeom>
                      <a:avLst/>
                      <a:gdLst>
                        <a:gd name="textAreaLeft" fmla="*/ 0 w 213120"/>
                        <a:gd name="textAreaRight" fmla="*/ 213480 w 213120"/>
                        <a:gd name="textAreaTop" fmla="*/ 0 h 169200"/>
                        <a:gd name="textAreaBottom" fmla="*/ 169560 h 169200"/>
                      </a:gdLst>
                      <a:ahLst/>
                      <a:rect l="textAreaLeft" t="textAreaTop" r="textAreaRight" b="textAreaBottom"/>
                      <a:pathLst>
                        <a:path w="1672" h="1282">
                          <a:moveTo>
                            <a:pt x="680" y="223"/>
                          </a:moveTo>
                          <a:lnTo>
                            <a:pt x="635" y="223"/>
                          </a:lnTo>
                          <a:lnTo>
                            <a:pt x="591" y="223"/>
                          </a:lnTo>
                          <a:lnTo>
                            <a:pt x="546" y="223"/>
                          </a:lnTo>
                          <a:lnTo>
                            <a:pt x="490" y="234"/>
                          </a:lnTo>
                          <a:lnTo>
                            <a:pt x="446" y="246"/>
                          </a:lnTo>
                          <a:lnTo>
                            <a:pt x="390" y="257"/>
                          </a:lnTo>
                          <a:lnTo>
                            <a:pt x="345" y="268"/>
                          </a:lnTo>
                          <a:lnTo>
                            <a:pt x="290" y="290"/>
                          </a:lnTo>
                          <a:lnTo>
                            <a:pt x="245" y="324"/>
                          </a:lnTo>
                          <a:lnTo>
                            <a:pt x="200" y="346"/>
                          </a:lnTo>
                          <a:lnTo>
                            <a:pt x="156" y="379"/>
                          </a:lnTo>
                          <a:lnTo>
                            <a:pt x="122" y="413"/>
                          </a:lnTo>
                          <a:lnTo>
                            <a:pt x="89" y="446"/>
                          </a:lnTo>
                          <a:lnTo>
                            <a:pt x="67" y="491"/>
                          </a:lnTo>
                          <a:lnTo>
                            <a:pt x="44" y="535"/>
                          </a:lnTo>
                          <a:lnTo>
                            <a:pt x="22" y="580"/>
                          </a:lnTo>
                          <a:lnTo>
                            <a:pt x="11" y="636"/>
                          </a:lnTo>
                          <a:lnTo>
                            <a:pt x="0" y="703"/>
                          </a:lnTo>
                          <a:lnTo>
                            <a:pt x="0" y="769"/>
                          </a:lnTo>
                          <a:lnTo>
                            <a:pt x="0" y="836"/>
                          </a:lnTo>
                          <a:lnTo>
                            <a:pt x="0" y="903"/>
                          </a:lnTo>
                          <a:lnTo>
                            <a:pt x="22" y="970"/>
                          </a:lnTo>
                          <a:lnTo>
                            <a:pt x="44" y="1037"/>
                          </a:lnTo>
                          <a:lnTo>
                            <a:pt x="78" y="1093"/>
                          </a:lnTo>
                          <a:lnTo>
                            <a:pt x="100" y="1104"/>
                          </a:lnTo>
                          <a:lnTo>
                            <a:pt x="122" y="1104"/>
                          </a:lnTo>
                          <a:lnTo>
                            <a:pt x="145" y="1093"/>
                          </a:lnTo>
                          <a:lnTo>
                            <a:pt x="167" y="1093"/>
                          </a:lnTo>
                          <a:lnTo>
                            <a:pt x="200" y="1082"/>
                          </a:lnTo>
                          <a:lnTo>
                            <a:pt x="223" y="1070"/>
                          </a:lnTo>
                          <a:lnTo>
                            <a:pt x="245" y="1059"/>
                          </a:lnTo>
                          <a:lnTo>
                            <a:pt x="267" y="1070"/>
                          </a:lnTo>
                          <a:lnTo>
                            <a:pt x="278" y="1082"/>
                          </a:lnTo>
                          <a:lnTo>
                            <a:pt x="290" y="1104"/>
                          </a:lnTo>
                          <a:lnTo>
                            <a:pt x="312" y="1137"/>
                          </a:lnTo>
                          <a:lnTo>
                            <a:pt x="312" y="1171"/>
                          </a:lnTo>
                          <a:lnTo>
                            <a:pt x="323" y="1204"/>
                          </a:lnTo>
                          <a:lnTo>
                            <a:pt x="334" y="1238"/>
                          </a:lnTo>
                          <a:lnTo>
                            <a:pt x="345" y="1260"/>
                          </a:lnTo>
                          <a:lnTo>
                            <a:pt x="356" y="1282"/>
                          </a:lnTo>
                          <a:lnTo>
                            <a:pt x="379" y="1260"/>
                          </a:lnTo>
                          <a:lnTo>
                            <a:pt x="412" y="1226"/>
                          </a:lnTo>
                          <a:lnTo>
                            <a:pt x="434" y="1193"/>
                          </a:lnTo>
                          <a:lnTo>
                            <a:pt x="446" y="1148"/>
                          </a:lnTo>
                          <a:lnTo>
                            <a:pt x="457" y="1115"/>
                          </a:lnTo>
                          <a:lnTo>
                            <a:pt x="457" y="1070"/>
                          </a:lnTo>
                          <a:lnTo>
                            <a:pt x="457" y="1037"/>
                          </a:lnTo>
                          <a:lnTo>
                            <a:pt x="457" y="992"/>
                          </a:lnTo>
                          <a:lnTo>
                            <a:pt x="535" y="881"/>
                          </a:lnTo>
                          <a:lnTo>
                            <a:pt x="557" y="859"/>
                          </a:lnTo>
                          <a:lnTo>
                            <a:pt x="568" y="825"/>
                          </a:lnTo>
                          <a:lnTo>
                            <a:pt x="591" y="803"/>
                          </a:lnTo>
                          <a:lnTo>
                            <a:pt x="602" y="769"/>
                          </a:lnTo>
                          <a:lnTo>
                            <a:pt x="624" y="747"/>
                          </a:lnTo>
                          <a:lnTo>
                            <a:pt x="635" y="714"/>
                          </a:lnTo>
                          <a:lnTo>
                            <a:pt x="657" y="691"/>
                          </a:lnTo>
                          <a:lnTo>
                            <a:pt x="669" y="669"/>
                          </a:lnTo>
                          <a:lnTo>
                            <a:pt x="691" y="636"/>
                          </a:lnTo>
                          <a:lnTo>
                            <a:pt x="702" y="613"/>
                          </a:lnTo>
                          <a:lnTo>
                            <a:pt x="713" y="591"/>
                          </a:lnTo>
                          <a:lnTo>
                            <a:pt x="724" y="569"/>
                          </a:lnTo>
                          <a:lnTo>
                            <a:pt x="735" y="535"/>
                          </a:lnTo>
                          <a:lnTo>
                            <a:pt x="747" y="513"/>
                          </a:lnTo>
                          <a:lnTo>
                            <a:pt x="758" y="491"/>
                          </a:lnTo>
                          <a:lnTo>
                            <a:pt x="769" y="457"/>
                          </a:lnTo>
                          <a:lnTo>
                            <a:pt x="780" y="625"/>
                          </a:lnTo>
                          <a:lnTo>
                            <a:pt x="791" y="613"/>
                          </a:lnTo>
                          <a:lnTo>
                            <a:pt x="813" y="591"/>
                          </a:lnTo>
                          <a:lnTo>
                            <a:pt x="836" y="569"/>
                          </a:lnTo>
                          <a:lnTo>
                            <a:pt x="847" y="547"/>
                          </a:lnTo>
                          <a:lnTo>
                            <a:pt x="858" y="513"/>
                          </a:lnTo>
                          <a:lnTo>
                            <a:pt x="869" y="491"/>
                          </a:lnTo>
                          <a:lnTo>
                            <a:pt x="869" y="457"/>
                          </a:lnTo>
                          <a:lnTo>
                            <a:pt x="869" y="435"/>
                          </a:lnTo>
                          <a:lnTo>
                            <a:pt x="936" y="569"/>
                          </a:lnTo>
                          <a:lnTo>
                            <a:pt x="958" y="591"/>
                          </a:lnTo>
                          <a:lnTo>
                            <a:pt x="969" y="625"/>
                          </a:lnTo>
                          <a:lnTo>
                            <a:pt x="992" y="647"/>
                          </a:lnTo>
                          <a:lnTo>
                            <a:pt x="1014" y="669"/>
                          </a:lnTo>
                          <a:lnTo>
                            <a:pt x="1025" y="691"/>
                          </a:lnTo>
                          <a:lnTo>
                            <a:pt x="1059" y="714"/>
                          </a:lnTo>
                          <a:lnTo>
                            <a:pt x="1081" y="736"/>
                          </a:lnTo>
                          <a:lnTo>
                            <a:pt x="1103" y="747"/>
                          </a:lnTo>
                          <a:lnTo>
                            <a:pt x="1125" y="769"/>
                          </a:lnTo>
                          <a:lnTo>
                            <a:pt x="1148" y="781"/>
                          </a:lnTo>
                          <a:lnTo>
                            <a:pt x="1181" y="803"/>
                          </a:lnTo>
                          <a:lnTo>
                            <a:pt x="1215" y="814"/>
                          </a:lnTo>
                          <a:lnTo>
                            <a:pt x="1237" y="814"/>
                          </a:lnTo>
                          <a:lnTo>
                            <a:pt x="1270" y="825"/>
                          </a:lnTo>
                          <a:lnTo>
                            <a:pt x="1304" y="836"/>
                          </a:lnTo>
                          <a:lnTo>
                            <a:pt x="1337" y="836"/>
                          </a:lnTo>
                          <a:lnTo>
                            <a:pt x="1337" y="870"/>
                          </a:lnTo>
                          <a:lnTo>
                            <a:pt x="1348" y="903"/>
                          </a:lnTo>
                          <a:lnTo>
                            <a:pt x="1360" y="937"/>
                          </a:lnTo>
                          <a:lnTo>
                            <a:pt x="1382" y="959"/>
                          </a:lnTo>
                          <a:lnTo>
                            <a:pt x="1404" y="992"/>
                          </a:lnTo>
                          <a:lnTo>
                            <a:pt x="1426" y="1015"/>
                          </a:lnTo>
                          <a:lnTo>
                            <a:pt x="1460" y="1026"/>
                          </a:lnTo>
                          <a:lnTo>
                            <a:pt x="1493" y="1026"/>
                          </a:lnTo>
                          <a:lnTo>
                            <a:pt x="1482" y="981"/>
                          </a:lnTo>
                          <a:lnTo>
                            <a:pt x="1471" y="903"/>
                          </a:lnTo>
                          <a:lnTo>
                            <a:pt x="1482" y="836"/>
                          </a:lnTo>
                          <a:lnTo>
                            <a:pt x="1493" y="792"/>
                          </a:lnTo>
                          <a:lnTo>
                            <a:pt x="1504" y="781"/>
                          </a:lnTo>
                          <a:lnTo>
                            <a:pt x="1527" y="781"/>
                          </a:lnTo>
                          <a:lnTo>
                            <a:pt x="1549" y="781"/>
                          </a:lnTo>
                          <a:lnTo>
                            <a:pt x="1571" y="781"/>
                          </a:lnTo>
                          <a:lnTo>
                            <a:pt x="1594" y="792"/>
                          </a:lnTo>
                          <a:lnTo>
                            <a:pt x="1627" y="792"/>
                          </a:lnTo>
                          <a:lnTo>
                            <a:pt x="1638" y="792"/>
                          </a:lnTo>
                          <a:lnTo>
                            <a:pt x="1660" y="781"/>
                          </a:lnTo>
                          <a:lnTo>
                            <a:pt x="1672" y="758"/>
                          </a:lnTo>
                          <a:lnTo>
                            <a:pt x="1672" y="703"/>
                          </a:lnTo>
                          <a:lnTo>
                            <a:pt x="1672" y="636"/>
                          </a:lnTo>
                          <a:lnTo>
                            <a:pt x="1660" y="558"/>
                          </a:lnTo>
                          <a:lnTo>
                            <a:pt x="1638" y="491"/>
                          </a:lnTo>
                          <a:lnTo>
                            <a:pt x="1627" y="413"/>
                          </a:lnTo>
                          <a:lnTo>
                            <a:pt x="1605" y="368"/>
                          </a:lnTo>
                          <a:lnTo>
                            <a:pt x="1594" y="335"/>
                          </a:lnTo>
                          <a:lnTo>
                            <a:pt x="1582" y="312"/>
                          </a:lnTo>
                          <a:lnTo>
                            <a:pt x="1571" y="290"/>
                          </a:lnTo>
                          <a:lnTo>
                            <a:pt x="1549" y="268"/>
                          </a:lnTo>
                          <a:lnTo>
                            <a:pt x="1527" y="246"/>
                          </a:lnTo>
                          <a:lnTo>
                            <a:pt x="1516" y="223"/>
                          </a:lnTo>
                          <a:lnTo>
                            <a:pt x="1493" y="201"/>
                          </a:lnTo>
                          <a:lnTo>
                            <a:pt x="1460" y="179"/>
                          </a:lnTo>
                          <a:lnTo>
                            <a:pt x="1438" y="168"/>
                          </a:lnTo>
                          <a:lnTo>
                            <a:pt x="1415" y="145"/>
                          </a:lnTo>
                          <a:lnTo>
                            <a:pt x="1393" y="134"/>
                          </a:lnTo>
                          <a:lnTo>
                            <a:pt x="1360" y="123"/>
                          </a:lnTo>
                          <a:lnTo>
                            <a:pt x="1337" y="112"/>
                          </a:lnTo>
                          <a:lnTo>
                            <a:pt x="1315" y="101"/>
                          </a:lnTo>
                          <a:lnTo>
                            <a:pt x="1293" y="90"/>
                          </a:lnTo>
                          <a:lnTo>
                            <a:pt x="1259" y="90"/>
                          </a:lnTo>
                          <a:lnTo>
                            <a:pt x="1237" y="90"/>
                          </a:lnTo>
                          <a:lnTo>
                            <a:pt x="1226" y="78"/>
                          </a:lnTo>
                          <a:lnTo>
                            <a:pt x="1203" y="78"/>
                          </a:lnTo>
                          <a:lnTo>
                            <a:pt x="1192" y="90"/>
                          </a:lnTo>
                          <a:lnTo>
                            <a:pt x="1170" y="90"/>
                          </a:lnTo>
                          <a:lnTo>
                            <a:pt x="1159" y="90"/>
                          </a:lnTo>
                          <a:lnTo>
                            <a:pt x="1137" y="90"/>
                          </a:lnTo>
                          <a:lnTo>
                            <a:pt x="1125" y="101"/>
                          </a:lnTo>
                          <a:lnTo>
                            <a:pt x="1103" y="101"/>
                          </a:lnTo>
                          <a:lnTo>
                            <a:pt x="1081" y="112"/>
                          </a:lnTo>
                          <a:lnTo>
                            <a:pt x="1070" y="112"/>
                          </a:lnTo>
                          <a:lnTo>
                            <a:pt x="1047" y="112"/>
                          </a:lnTo>
                          <a:lnTo>
                            <a:pt x="1036" y="123"/>
                          </a:lnTo>
                          <a:lnTo>
                            <a:pt x="1014" y="123"/>
                          </a:lnTo>
                          <a:lnTo>
                            <a:pt x="1003" y="134"/>
                          </a:lnTo>
                          <a:lnTo>
                            <a:pt x="981" y="134"/>
                          </a:lnTo>
                          <a:lnTo>
                            <a:pt x="969" y="145"/>
                          </a:lnTo>
                          <a:lnTo>
                            <a:pt x="969" y="101"/>
                          </a:lnTo>
                          <a:lnTo>
                            <a:pt x="981" y="67"/>
                          </a:lnTo>
                          <a:lnTo>
                            <a:pt x="992" y="34"/>
                          </a:lnTo>
                          <a:lnTo>
                            <a:pt x="1003" y="0"/>
                          </a:lnTo>
                          <a:lnTo>
                            <a:pt x="969" y="23"/>
                          </a:lnTo>
                          <a:lnTo>
                            <a:pt x="947" y="34"/>
                          </a:lnTo>
                          <a:lnTo>
                            <a:pt x="925" y="56"/>
                          </a:lnTo>
                          <a:lnTo>
                            <a:pt x="903" y="67"/>
                          </a:lnTo>
                          <a:lnTo>
                            <a:pt x="891" y="90"/>
                          </a:lnTo>
                          <a:lnTo>
                            <a:pt x="880" y="112"/>
                          </a:lnTo>
                          <a:lnTo>
                            <a:pt x="869" y="134"/>
                          </a:lnTo>
                          <a:lnTo>
                            <a:pt x="858" y="156"/>
                          </a:lnTo>
                          <a:lnTo>
                            <a:pt x="847" y="145"/>
                          </a:lnTo>
                          <a:lnTo>
                            <a:pt x="836" y="145"/>
                          </a:lnTo>
                          <a:lnTo>
                            <a:pt x="813" y="134"/>
                          </a:lnTo>
                          <a:lnTo>
                            <a:pt x="791" y="123"/>
                          </a:lnTo>
                          <a:lnTo>
                            <a:pt x="780" y="123"/>
                          </a:lnTo>
                          <a:lnTo>
                            <a:pt x="758" y="123"/>
                          </a:lnTo>
                          <a:lnTo>
                            <a:pt x="747" y="112"/>
                          </a:lnTo>
                          <a:lnTo>
                            <a:pt x="735" y="112"/>
                          </a:lnTo>
                          <a:lnTo>
                            <a:pt x="735" y="123"/>
                          </a:lnTo>
                          <a:lnTo>
                            <a:pt x="747" y="134"/>
                          </a:lnTo>
                          <a:lnTo>
                            <a:pt x="758" y="134"/>
                          </a:lnTo>
                          <a:lnTo>
                            <a:pt x="758" y="145"/>
                          </a:lnTo>
                          <a:lnTo>
                            <a:pt x="769" y="156"/>
                          </a:lnTo>
                          <a:lnTo>
                            <a:pt x="780" y="168"/>
                          </a:lnTo>
                          <a:lnTo>
                            <a:pt x="791" y="179"/>
                          </a:lnTo>
                          <a:lnTo>
                            <a:pt x="769" y="179"/>
                          </a:lnTo>
                          <a:lnTo>
                            <a:pt x="758" y="168"/>
                          </a:lnTo>
                          <a:lnTo>
                            <a:pt x="747" y="168"/>
                          </a:lnTo>
                          <a:lnTo>
                            <a:pt x="735" y="156"/>
                          </a:lnTo>
                          <a:lnTo>
                            <a:pt x="724" y="156"/>
                          </a:lnTo>
                          <a:lnTo>
                            <a:pt x="702" y="156"/>
                          </a:lnTo>
                          <a:lnTo>
                            <a:pt x="691" y="145"/>
                          </a:lnTo>
                          <a:lnTo>
                            <a:pt x="680" y="145"/>
                          </a:lnTo>
                          <a:lnTo>
                            <a:pt x="669" y="145"/>
                          </a:lnTo>
                          <a:lnTo>
                            <a:pt x="657" y="134"/>
                          </a:lnTo>
                          <a:lnTo>
                            <a:pt x="635" y="134"/>
                          </a:lnTo>
                          <a:lnTo>
                            <a:pt x="624" y="134"/>
                          </a:lnTo>
                          <a:lnTo>
                            <a:pt x="613" y="134"/>
                          </a:lnTo>
                          <a:lnTo>
                            <a:pt x="591" y="123"/>
                          </a:lnTo>
                          <a:lnTo>
                            <a:pt x="579" y="123"/>
                          </a:lnTo>
                          <a:lnTo>
                            <a:pt x="568" y="123"/>
                          </a:lnTo>
                          <a:lnTo>
                            <a:pt x="579" y="134"/>
                          </a:lnTo>
                          <a:lnTo>
                            <a:pt x="591" y="145"/>
                          </a:lnTo>
                          <a:lnTo>
                            <a:pt x="613" y="168"/>
                          </a:lnTo>
                          <a:lnTo>
                            <a:pt x="624" y="179"/>
                          </a:lnTo>
                          <a:lnTo>
                            <a:pt x="635" y="190"/>
                          </a:lnTo>
                          <a:lnTo>
                            <a:pt x="657" y="201"/>
                          </a:lnTo>
                          <a:lnTo>
                            <a:pt x="669" y="212"/>
                          </a:lnTo>
                          <a:lnTo>
                            <a:pt x="680" y="223"/>
                          </a:lnTo>
                          <a:close/>
                        </a:path>
                      </a:pathLst>
                    </a:custGeom>
                    <a:solidFill>
                      <a:srgbClr val="6b4c1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1742"/>
                    <p:cNvSpPr/>
                    <p:nvPr/>
                  </p:nvSpPr>
                  <p:spPr>
                    <a:xfrm rot="111600">
                      <a:off x="7827120" y="1085760"/>
                      <a:ext cx="85320" cy="48240"/>
                    </a:xfrm>
                    <a:custGeom>
                      <a:avLst/>
                      <a:gdLst>
                        <a:gd name="textAreaLeft" fmla="*/ 0 w 85320"/>
                        <a:gd name="textAreaRight" fmla="*/ 85680 w 85320"/>
                        <a:gd name="textAreaTop" fmla="*/ 0 h 48240"/>
                        <a:gd name="textAreaBottom" fmla="*/ 48600 h 48240"/>
                      </a:gdLst>
                      <a:ahLst/>
                      <a:rect l="textAreaLeft" t="textAreaTop" r="textAreaRight" b="textAreaBottom"/>
                      <a:pathLst>
                        <a:path w="669" h="368">
                          <a:moveTo>
                            <a:pt x="22" y="368"/>
                          </a:moveTo>
                          <a:lnTo>
                            <a:pt x="22" y="368"/>
                          </a:lnTo>
                          <a:lnTo>
                            <a:pt x="45" y="323"/>
                          </a:lnTo>
                          <a:lnTo>
                            <a:pt x="67" y="279"/>
                          </a:lnTo>
                          <a:lnTo>
                            <a:pt x="89" y="245"/>
                          </a:lnTo>
                          <a:lnTo>
                            <a:pt x="123" y="212"/>
                          </a:lnTo>
                          <a:lnTo>
                            <a:pt x="156" y="179"/>
                          </a:lnTo>
                          <a:lnTo>
                            <a:pt x="201" y="145"/>
                          </a:lnTo>
                          <a:lnTo>
                            <a:pt x="245" y="123"/>
                          </a:lnTo>
                          <a:lnTo>
                            <a:pt x="290" y="89"/>
                          </a:lnTo>
                          <a:lnTo>
                            <a:pt x="334" y="67"/>
                          </a:lnTo>
                          <a:lnTo>
                            <a:pt x="379" y="56"/>
                          </a:lnTo>
                          <a:lnTo>
                            <a:pt x="435" y="45"/>
                          </a:lnTo>
                          <a:lnTo>
                            <a:pt x="479" y="34"/>
                          </a:lnTo>
                          <a:lnTo>
                            <a:pt x="535" y="22"/>
                          </a:lnTo>
                          <a:lnTo>
                            <a:pt x="580" y="22"/>
                          </a:lnTo>
                          <a:lnTo>
                            <a:pt x="624" y="22"/>
                          </a:lnTo>
                          <a:lnTo>
                            <a:pt x="669" y="22"/>
                          </a:lnTo>
                          <a:lnTo>
                            <a:pt x="669" y="11"/>
                          </a:lnTo>
                          <a:lnTo>
                            <a:pt x="624" y="0"/>
                          </a:lnTo>
                          <a:lnTo>
                            <a:pt x="580" y="0"/>
                          </a:lnTo>
                          <a:lnTo>
                            <a:pt x="524" y="0"/>
                          </a:lnTo>
                          <a:lnTo>
                            <a:pt x="479" y="11"/>
                          </a:lnTo>
                          <a:lnTo>
                            <a:pt x="423" y="22"/>
                          </a:lnTo>
                          <a:lnTo>
                            <a:pt x="379" y="34"/>
                          </a:lnTo>
                          <a:lnTo>
                            <a:pt x="323" y="56"/>
                          </a:lnTo>
                          <a:lnTo>
                            <a:pt x="279" y="67"/>
                          </a:lnTo>
                          <a:lnTo>
                            <a:pt x="223" y="100"/>
                          </a:lnTo>
                          <a:lnTo>
                            <a:pt x="178" y="123"/>
                          </a:lnTo>
                          <a:lnTo>
                            <a:pt x="145" y="156"/>
                          </a:lnTo>
                          <a:lnTo>
                            <a:pt x="100" y="190"/>
                          </a:lnTo>
                          <a:lnTo>
                            <a:pt x="67" y="234"/>
                          </a:lnTo>
                          <a:lnTo>
                            <a:pt x="45" y="268"/>
                          </a:lnTo>
                          <a:lnTo>
                            <a:pt x="22" y="312"/>
                          </a:lnTo>
                          <a:lnTo>
                            <a:pt x="0" y="357"/>
                          </a:lnTo>
                          <a:lnTo>
                            <a:pt x="22" y="368"/>
                          </a:lnTo>
                          <a:close/>
                        </a:path>
                      </a:pathLst>
                    </a:custGeom>
                    <a:solidFill>
                      <a:srgbClr val="000000"/>
                    </a:solidFill>
                    <a:ln w="0">
                      <a:noFill/>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1741"/>
                    <p:cNvSpPr/>
                    <p:nvPr/>
                  </p:nvSpPr>
                  <p:spPr>
                    <a:xfrm rot="111600">
                      <a:off x="7822440" y="1131840"/>
                      <a:ext cx="12600" cy="70560"/>
                    </a:xfrm>
                    <a:custGeom>
                      <a:avLst/>
                      <a:gdLst>
                        <a:gd name="textAreaLeft" fmla="*/ 0 w 12600"/>
                        <a:gd name="textAreaRight" fmla="*/ 12960 w 12600"/>
                        <a:gd name="textAreaTop" fmla="*/ 0 h 70560"/>
                        <a:gd name="textAreaBottom" fmla="*/ 70920 h 70560"/>
                      </a:gdLst>
                      <a:ahLst/>
                      <a:rect l="textAreaLeft" t="textAreaTop" r="textAreaRight" b="textAreaBottom"/>
                      <a:pathLst>
                        <a:path w="100" h="535">
                          <a:moveTo>
                            <a:pt x="100" y="513"/>
                          </a:moveTo>
                          <a:lnTo>
                            <a:pt x="100" y="513"/>
                          </a:lnTo>
                          <a:lnTo>
                            <a:pt x="67" y="457"/>
                          </a:lnTo>
                          <a:lnTo>
                            <a:pt x="44" y="401"/>
                          </a:lnTo>
                          <a:lnTo>
                            <a:pt x="33" y="334"/>
                          </a:lnTo>
                          <a:lnTo>
                            <a:pt x="22" y="267"/>
                          </a:lnTo>
                          <a:lnTo>
                            <a:pt x="22" y="200"/>
                          </a:lnTo>
                          <a:lnTo>
                            <a:pt x="22" y="134"/>
                          </a:lnTo>
                          <a:lnTo>
                            <a:pt x="33" y="67"/>
                          </a:lnTo>
                          <a:lnTo>
                            <a:pt x="44" y="11"/>
                          </a:lnTo>
                          <a:lnTo>
                            <a:pt x="22" y="0"/>
                          </a:lnTo>
                          <a:lnTo>
                            <a:pt x="11" y="67"/>
                          </a:lnTo>
                          <a:lnTo>
                            <a:pt x="0" y="122"/>
                          </a:lnTo>
                          <a:lnTo>
                            <a:pt x="0" y="200"/>
                          </a:lnTo>
                          <a:lnTo>
                            <a:pt x="0" y="267"/>
                          </a:lnTo>
                          <a:lnTo>
                            <a:pt x="0" y="334"/>
                          </a:lnTo>
                          <a:lnTo>
                            <a:pt x="22" y="401"/>
                          </a:lnTo>
                          <a:lnTo>
                            <a:pt x="44" y="468"/>
                          </a:lnTo>
                          <a:lnTo>
                            <a:pt x="89" y="524"/>
                          </a:lnTo>
                          <a:lnTo>
                            <a:pt x="78" y="535"/>
                          </a:lnTo>
                          <a:lnTo>
                            <a:pt x="100" y="513"/>
                          </a:lnTo>
                          <a:close/>
                        </a:path>
                      </a:pathLst>
                    </a:custGeom>
                    <a:solidFill>
                      <a:srgbClr val="000000"/>
                    </a:solidFill>
                    <a:ln w="0">
                      <a:noFill/>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740"/>
                    <p:cNvSpPr/>
                    <p:nvPr/>
                  </p:nvSpPr>
                  <p:spPr>
                    <a:xfrm rot="111600">
                      <a:off x="7831440" y="1195560"/>
                      <a:ext cx="25200" cy="8640"/>
                    </a:xfrm>
                    <a:custGeom>
                      <a:avLst/>
                      <a:gdLst>
                        <a:gd name="textAreaLeft" fmla="*/ 0 w 25200"/>
                        <a:gd name="textAreaRight" fmla="*/ 25560 w 25200"/>
                        <a:gd name="textAreaTop" fmla="*/ 0 h 8640"/>
                        <a:gd name="textAreaBottom" fmla="*/ 9000 h 8640"/>
                      </a:gdLst>
                      <a:ahLst/>
                      <a:rect l="textAreaLeft" t="textAreaTop" r="textAreaRight" b="textAreaBottom"/>
                      <a:pathLst>
                        <a:path w="200" h="67">
                          <a:moveTo>
                            <a:pt x="200" y="11"/>
                          </a:moveTo>
                          <a:lnTo>
                            <a:pt x="200" y="11"/>
                          </a:lnTo>
                          <a:lnTo>
                            <a:pt x="178" y="0"/>
                          </a:lnTo>
                          <a:lnTo>
                            <a:pt x="156" y="11"/>
                          </a:lnTo>
                          <a:lnTo>
                            <a:pt x="122" y="22"/>
                          </a:lnTo>
                          <a:lnTo>
                            <a:pt x="100" y="34"/>
                          </a:lnTo>
                          <a:lnTo>
                            <a:pt x="67" y="34"/>
                          </a:lnTo>
                          <a:lnTo>
                            <a:pt x="44" y="45"/>
                          </a:lnTo>
                          <a:lnTo>
                            <a:pt x="33" y="45"/>
                          </a:lnTo>
                          <a:lnTo>
                            <a:pt x="22" y="34"/>
                          </a:lnTo>
                          <a:lnTo>
                            <a:pt x="0" y="56"/>
                          </a:lnTo>
                          <a:lnTo>
                            <a:pt x="22" y="67"/>
                          </a:lnTo>
                          <a:lnTo>
                            <a:pt x="55" y="67"/>
                          </a:lnTo>
                          <a:lnTo>
                            <a:pt x="78" y="56"/>
                          </a:lnTo>
                          <a:lnTo>
                            <a:pt x="111" y="56"/>
                          </a:lnTo>
                          <a:lnTo>
                            <a:pt x="133" y="45"/>
                          </a:lnTo>
                          <a:lnTo>
                            <a:pt x="167" y="34"/>
                          </a:lnTo>
                          <a:lnTo>
                            <a:pt x="189" y="22"/>
                          </a:lnTo>
                          <a:lnTo>
                            <a:pt x="200" y="11"/>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1739"/>
                    <p:cNvSpPr/>
                    <p:nvPr/>
                  </p:nvSpPr>
                  <p:spPr>
                    <a:xfrm rot="111600">
                      <a:off x="7854840" y="1197720"/>
                      <a:ext cx="12600" cy="30600"/>
                    </a:xfrm>
                    <a:custGeom>
                      <a:avLst/>
                      <a:gdLst>
                        <a:gd name="textAreaLeft" fmla="*/ 0 w 12600"/>
                        <a:gd name="textAreaRight" fmla="*/ 12960 w 12600"/>
                        <a:gd name="textAreaTop" fmla="*/ 0 h 30600"/>
                        <a:gd name="textAreaBottom" fmla="*/ 30960 h 30600"/>
                      </a:gdLst>
                      <a:ahLst/>
                      <a:rect l="textAreaLeft" t="textAreaTop" r="textAreaRight" b="textAreaBottom"/>
                      <a:pathLst>
                        <a:path w="100" h="234">
                          <a:moveTo>
                            <a:pt x="89" y="212"/>
                          </a:moveTo>
                          <a:lnTo>
                            <a:pt x="100" y="223"/>
                          </a:lnTo>
                          <a:lnTo>
                            <a:pt x="100" y="201"/>
                          </a:lnTo>
                          <a:lnTo>
                            <a:pt x="89" y="179"/>
                          </a:lnTo>
                          <a:lnTo>
                            <a:pt x="78" y="145"/>
                          </a:lnTo>
                          <a:lnTo>
                            <a:pt x="67" y="112"/>
                          </a:lnTo>
                          <a:lnTo>
                            <a:pt x="56" y="78"/>
                          </a:lnTo>
                          <a:lnTo>
                            <a:pt x="45" y="45"/>
                          </a:lnTo>
                          <a:lnTo>
                            <a:pt x="34" y="11"/>
                          </a:lnTo>
                          <a:lnTo>
                            <a:pt x="11" y="0"/>
                          </a:lnTo>
                          <a:lnTo>
                            <a:pt x="0" y="11"/>
                          </a:lnTo>
                          <a:lnTo>
                            <a:pt x="22" y="23"/>
                          </a:lnTo>
                          <a:lnTo>
                            <a:pt x="34" y="45"/>
                          </a:lnTo>
                          <a:lnTo>
                            <a:pt x="45" y="78"/>
                          </a:lnTo>
                          <a:lnTo>
                            <a:pt x="56" y="112"/>
                          </a:lnTo>
                          <a:lnTo>
                            <a:pt x="56" y="145"/>
                          </a:lnTo>
                          <a:lnTo>
                            <a:pt x="67" y="179"/>
                          </a:lnTo>
                          <a:lnTo>
                            <a:pt x="78" y="212"/>
                          </a:lnTo>
                          <a:lnTo>
                            <a:pt x="89" y="234"/>
                          </a:lnTo>
                          <a:lnTo>
                            <a:pt x="100" y="234"/>
                          </a:lnTo>
                          <a:lnTo>
                            <a:pt x="89" y="212"/>
                          </a:lnTo>
                          <a:close/>
                        </a:path>
                      </a:pathLst>
                    </a:custGeom>
                    <a:solidFill>
                      <a:srgbClr val="000000"/>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1738"/>
                    <p:cNvSpPr/>
                    <p:nvPr/>
                  </p:nvSpPr>
                  <p:spPr>
                    <a:xfrm rot="111600">
                      <a:off x="7866720" y="1189080"/>
                      <a:ext cx="15480" cy="39600"/>
                    </a:xfrm>
                    <a:custGeom>
                      <a:avLst/>
                      <a:gdLst>
                        <a:gd name="textAreaLeft" fmla="*/ 0 w 15480"/>
                        <a:gd name="textAreaRight" fmla="*/ 15840 w 15480"/>
                        <a:gd name="textAreaTop" fmla="*/ 0 h 39600"/>
                        <a:gd name="textAreaBottom" fmla="*/ 39600 h 39600"/>
                      </a:gdLst>
                      <a:ahLst/>
                      <a:rect l="textAreaLeft" t="textAreaTop" r="textAreaRight" b="textAreaBottom"/>
                      <a:pathLst>
                        <a:path w="123" h="301">
                          <a:moveTo>
                            <a:pt x="101" y="0"/>
                          </a:moveTo>
                          <a:lnTo>
                            <a:pt x="101" y="12"/>
                          </a:lnTo>
                          <a:lnTo>
                            <a:pt x="101" y="45"/>
                          </a:lnTo>
                          <a:lnTo>
                            <a:pt x="101" y="78"/>
                          </a:lnTo>
                          <a:lnTo>
                            <a:pt x="101" y="123"/>
                          </a:lnTo>
                          <a:lnTo>
                            <a:pt x="89" y="156"/>
                          </a:lnTo>
                          <a:lnTo>
                            <a:pt x="78" y="190"/>
                          </a:lnTo>
                          <a:lnTo>
                            <a:pt x="56" y="223"/>
                          </a:lnTo>
                          <a:lnTo>
                            <a:pt x="34" y="257"/>
                          </a:lnTo>
                          <a:lnTo>
                            <a:pt x="0" y="279"/>
                          </a:lnTo>
                          <a:lnTo>
                            <a:pt x="11" y="301"/>
                          </a:lnTo>
                          <a:lnTo>
                            <a:pt x="45" y="268"/>
                          </a:lnTo>
                          <a:lnTo>
                            <a:pt x="78" y="246"/>
                          </a:lnTo>
                          <a:lnTo>
                            <a:pt x="101" y="201"/>
                          </a:lnTo>
                          <a:lnTo>
                            <a:pt x="112" y="168"/>
                          </a:lnTo>
                          <a:lnTo>
                            <a:pt x="123" y="123"/>
                          </a:lnTo>
                          <a:lnTo>
                            <a:pt x="123" y="78"/>
                          </a:lnTo>
                          <a:lnTo>
                            <a:pt x="123" y="45"/>
                          </a:lnTo>
                          <a:lnTo>
                            <a:pt x="123" y="0"/>
                          </a:lnTo>
                          <a:lnTo>
                            <a:pt x="123" y="12"/>
                          </a:lnTo>
                          <a:lnTo>
                            <a:pt x="101" y="0"/>
                          </a:lnTo>
                          <a:close/>
                        </a:path>
                      </a:pathLst>
                    </a:custGeom>
                    <a:solidFill>
                      <a:srgbClr val="0000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737"/>
                    <p:cNvSpPr/>
                    <p:nvPr/>
                  </p:nvSpPr>
                  <p:spPr>
                    <a:xfrm rot="111600">
                      <a:off x="7880760" y="117324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100" h="134">
                          <a:moveTo>
                            <a:pt x="89" y="0"/>
                          </a:moveTo>
                          <a:lnTo>
                            <a:pt x="89" y="0"/>
                          </a:lnTo>
                          <a:lnTo>
                            <a:pt x="0" y="122"/>
                          </a:lnTo>
                          <a:lnTo>
                            <a:pt x="22" y="134"/>
                          </a:lnTo>
                          <a:lnTo>
                            <a:pt x="100" y="11"/>
                          </a:lnTo>
                          <a:lnTo>
                            <a:pt x="89" y="0"/>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736"/>
                    <p:cNvSpPr/>
                    <p:nvPr/>
                  </p:nvSpPr>
                  <p:spPr>
                    <a:xfrm rot="111600">
                      <a:off x="7892280" y="1145880"/>
                      <a:ext cx="18360" cy="29160"/>
                    </a:xfrm>
                    <a:custGeom>
                      <a:avLst/>
                      <a:gdLst>
                        <a:gd name="textAreaLeft" fmla="*/ 0 w 18360"/>
                        <a:gd name="textAreaRight" fmla="*/ 18720 w 18360"/>
                        <a:gd name="textAreaTop" fmla="*/ 0 h 29160"/>
                        <a:gd name="textAreaBottom" fmla="*/ 29520 h 29160"/>
                      </a:gdLst>
                      <a:ahLst/>
                      <a:rect l="textAreaLeft" t="textAreaTop" r="textAreaRight" b="textAreaBottom"/>
                      <a:pathLst>
                        <a:path w="145" h="223">
                          <a:moveTo>
                            <a:pt x="122" y="0"/>
                          </a:moveTo>
                          <a:lnTo>
                            <a:pt x="122" y="0"/>
                          </a:lnTo>
                          <a:lnTo>
                            <a:pt x="111" y="22"/>
                          </a:lnTo>
                          <a:lnTo>
                            <a:pt x="89" y="56"/>
                          </a:lnTo>
                          <a:lnTo>
                            <a:pt x="78" y="78"/>
                          </a:lnTo>
                          <a:lnTo>
                            <a:pt x="56" y="111"/>
                          </a:lnTo>
                          <a:lnTo>
                            <a:pt x="44" y="134"/>
                          </a:lnTo>
                          <a:lnTo>
                            <a:pt x="33" y="167"/>
                          </a:lnTo>
                          <a:lnTo>
                            <a:pt x="11" y="189"/>
                          </a:lnTo>
                          <a:lnTo>
                            <a:pt x="0" y="212"/>
                          </a:lnTo>
                          <a:lnTo>
                            <a:pt x="11" y="223"/>
                          </a:lnTo>
                          <a:lnTo>
                            <a:pt x="33" y="201"/>
                          </a:lnTo>
                          <a:lnTo>
                            <a:pt x="44" y="178"/>
                          </a:lnTo>
                          <a:lnTo>
                            <a:pt x="67" y="145"/>
                          </a:lnTo>
                          <a:lnTo>
                            <a:pt x="78" y="123"/>
                          </a:lnTo>
                          <a:lnTo>
                            <a:pt x="100" y="89"/>
                          </a:lnTo>
                          <a:lnTo>
                            <a:pt x="111" y="67"/>
                          </a:lnTo>
                          <a:lnTo>
                            <a:pt x="134" y="33"/>
                          </a:lnTo>
                          <a:lnTo>
                            <a:pt x="145" y="11"/>
                          </a:lnTo>
                          <a:lnTo>
                            <a:pt x="122" y="0"/>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735"/>
                    <p:cNvSpPr/>
                    <p:nvPr/>
                  </p:nvSpPr>
                  <p:spPr>
                    <a:xfrm rot="111600">
                      <a:off x="7908480" y="1119600"/>
                      <a:ext cx="15480" cy="27720"/>
                    </a:xfrm>
                    <a:custGeom>
                      <a:avLst/>
                      <a:gdLst>
                        <a:gd name="textAreaLeft" fmla="*/ 0 w 15480"/>
                        <a:gd name="textAreaRight" fmla="*/ 15840 w 15480"/>
                        <a:gd name="textAreaTop" fmla="*/ 0 h 27720"/>
                        <a:gd name="textAreaBottom" fmla="*/ 28080 h 27720"/>
                      </a:gdLst>
                      <a:ahLst/>
                      <a:rect l="textAreaLeft" t="textAreaTop" r="textAreaRight" b="textAreaBottom"/>
                      <a:pathLst>
                        <a:path w="123" h="212">
                          <a:moveTo>
                            <a:pt x="123" y="0"/>
                          </a:moveTo>
                          <a:lnTo>
                            <a:pt x="101" y="0"/>
                          </a:lnTo>
                          <a:lnTo>
                            <a:pt x="90" y="23"/>
                          </a:lnTo>
                          <a:lnTo>
                            <a:pt x="78" y="56"/>
                          </a:lnTo>
                          <a:lnTo>
                            <a:pt x="67" y="78"/>
                          </a:lnTo>
                          <a:lnTo>
                            <a:pt x="56" y="101"/>
                          </a:lnTo>
                          <a:lnTo>
                            <a:pt x="45" y="123"/>
                          </a:lnTo>
                          <a:lnTo>
                            <a:pt x="34" y="156"/>
                          </a:lnTo>
                          <a:lnTo>
                            <a:pt x="23" y="179"/>
                          </a:lnTo>
                          <a:lnTo>
                            <a:pt x="0" y="201"/>
                          </a:lnTo>
                          <a:lnTo>
                            <a:pt x="23" y="212"/>
                          </a:lnTo>
                          <a:lnTo>
                            <a:pt x="34" y="190"/>
                          </a:lnTo>
                          <a:lnTo>
                            <a:pt x="56" y="168"/>
                          </a:lnTo>
                          <a:lnTo>
                            <a:pt x="67" y="134"/>
                          </a:lnTo>
                          <a:lnTo>
                            <a:pt x="78" y="112"/>
                          </a:lnTo>
                          <a:lnTo>
                            <a:pt x="90" y="90"/>
                          </a:lnTo>
                          <a:lnTo>
                            <a:pt x="101" y="67"/>
                          </a:lnTo>
                          <a:lnTo>
                            <a:pt x="112" y="34"/>
                          </a:lnTo>
                          <a:lnTo>
                            <a:pt x="123" y="12"/>
                          </a:lnTo>
                          <a:lnTo>
                            <a:pt x="101" y="0"/>
                          </a:lnTo>
                          <a:lnTo>
                            <a:pt x="123" y="0"/>
                          </a:lnTo>
                          <a:close/>
                        </a:path>
                      </a:pathLst>
                    </a:custGeom>
                    <a:solidFill>
                      <a:srgbClr val="000000"/>
                    </a:solidFill>
                    <a:ln w="0">
                      <a:noFill/>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734"/>
                    <p:cNvSpPr/>
                    <p:nvPr/>
                  </p:nvSpPr>
                  <p:spPr>
                    <a:xfrm rot="111600">
                      <a:off x="7921440" y="1119960"/>
                      <a:ext cx="3960" cy="23400"/>
                    </a:xfrm>
                    <a:custGeom>
                      <a:avLst/>
                      <a:gdLst>
                        <a:gd name="textAreaLeft" fmla="*/ 0 w 3960"/>
                        <a:gd name="textAreaRight" fmla="*/ 4320 w 3960"/>
                        <a:gd name="textAreaTop" fmla="*/ 0 h 23400"/>
                        <a:gd name="textAreaBottom" fmla="*/ 23760 h 23400"/>
                      </a:gdLst>
                      <a:ahLst/>
                      <a:rect l="textAreaLeft" t="textAreaTop" r="textAreaRight" b="textAreaBottom"/>
                      <a:pathLst>
                        <a:path w="33" h="179">
                          <a:moveTo>
                            <a:pt x="11" y="156"/>
                          </a:moveTo>
                          <a:lnTo>
                            <a:pt x="33" y="168"/>
                          </a:lnTo>
                          <a:lnTo>
                            <a:pt x="22" y="0"/>
                          </a:lnTo>
                          <a:lnTo>
                            <a:pt x="0" y="0"/>
                          </a:lnTo>
                          <a:lnTo>
                            <a:pt x="11" y="168"/>
                          </a:lnTo>
                          <a:lnTo>
                            <a:pt x="22" y="179"/>
                          </a:lnTo>
                          <a:lnTo>
                            <a:pt x="11" y="156"/>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733"/>
                    <p:cNvSpPr/>
                    <p:nvPr/>
                  </p:nvSpPr>
                  <p:spPr>
                    <a:xfrm rot="111600">
                      <a:off x="7923240" y="1117440"/>
                      <a:ext cx="15480" cy="26280"/>
                    </a:xfrm>
                    <a:custGeom>
                      <a:avLst/>
                      <a:gdLst>
                        <a:gd name="textAreaLeft" fmla="*/ 0 w 15480"/>
                        <a:gd name="textAreaRight" fmla="*/ 15840 w 15480"/>
                        <a:gd name="textAreaTop" fmla="*/ 0 h 26280"/>
                        <a:gd name="textAreaBottom" fmla="*/ 26640 h 26280"/>
                      </a:gdLst>
                      <a:ahLst/>
                      <a:rect l="textAreaLeft" t="textAreaTop" r="textAreaRight" b="textAreaBottom"/>
                      <a:pathLst>
                        <a:path w="122" h="201">
                          <a:moveTo>
                            <a:pt x="111" y="0"/>
                          </a:moveTo>
                          <a:lnTo>
                            <a:pt x="89" y="0"/>
                          </a:lnTo>
                          <a:lnTo>
                            <a:pt x="89" y="22"/>
                          </a:lnTo>
                          <a:lnTo>
                            <a:pt x="89" y="56"/>
                          </a:lnTo>
                          <a:lnTo>
                            <a:pt x="78" y="78"/>
                          </a:lnTo>
                          <a:lnTo>
                            <a:pt x="67" y="100"/>
                          </a:lnTo>
                          <a:lnTo>
                            <a:pt x="56" y="123"/>
                          </a:lnTo>
                          <a:lnTo>
                            <a:pt x="33" y="145"/>
                          </a:lnTo>
                          <a:lnTo>
                            <a:pt x="22" y="167"/>
                          </a:lnTo>
                          <a:lnTo>
                            <a:pt x="0" y="178"/>
                          </a:lnTo>
                          <a:lnTo>
                            <a:pt x="11" y="201"/>
                          </a:lnTo>
                          <a:lnTo>
                            <a:pt x="33" y="178"/>
                          </a:lnTo>
                          <a:lnTo>
                            <a:pt x="56" y="167"/>
                          </a:lnTo>
                          <a:lnTo>
                            <a:pt x="67" y="134"/>
                          </a:lnTo>
                          <a:lnTo>
                            <a:pt x="89" y="112"/>
                          </a:lnTo>
                          <a:lnTo>
                            <a:pt x="100" y="89"/>
                          </a:lnTo>
                          <a:lnTo>
                            <a:pt x="111" y="56"/>
                          </a:lnTo>
                          <a:lnTo>
                            <a:pt x="122" y="22"/>
                          </a:lnTo>
                          <a:lnTo>
                            <a:pt x="122" y="0"/>
                          </a:lnTo>
                          <a:lnTo>
                            <a:pt x="100" y="0"/>
                          </a:lnTo>
                          <a:lnTo>
                            <a:pt x="111" y="0"/>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732"/>
                    <p:cNvSpPr/>
                    <p:nvPr/>
                  </p:nvSpPr>
                  <p:spPr>
                    <a:xfrm rot="111600">
                      <a:off x="7936560" y="1117800"/>
                      <a:ext cx="9720" cy="17640"/>
                    </a:xfrm>
                    <a:custGeom>
                      <a:avLst/>
                      <a:gdLst>
                        <a:gd name="textAreaLeft" fmla="*/ 0 w 9720"/>
                        <a:gd name="textAreaRight" fmla="*/ 10080 w 9720"/>
                        <a:gd name="textAreaTop" fmla="*/ 0 h 17640"/>
                        <a:gd name="textAreaBottom" fmla="*/ 18000 h 17640"/>
                      </a:gdLst>
                      <a:ahLst/>
                      <a:rect l="textAreaLeft" t="textAreaTop" r="textAreaRight" b="textAreaBottom"/>
                      <a:pathLst>
                        <a:path w="78" h="134">
                          <a:moveTo>
                            <a:pt x="78" y="123"/>
                          </a:moveTo>
                          <a:lnTo>
                            <a:pt x="78" y="123"/>
                          </a:lnTo>
                          <a:lnTo>
                            <a:pt x="11" y="0"/>
                          </a:lnTo>
                          <a:lnTo>
                            <a:pt x="0" y="0"/>
                          </a:lnTo>
                          <a:lnTo>
                            <a:pt x="56" y="134"/>
                          </a:lnTo>
                          <a:lnTo>
                            <a:pt x="78" y="123"/>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1731"/>
                    <p:cNvSpPr/>
                    <p:nvPr/>
                  </p:nvSpPr>
                  <p:spPr>
                    <a:xfrm rot="111600">
                      <a:off x="7942320" y="1134720"/>
                      <a:ext cx="53640" cy="37800"/>
                    </a:xfrm>
                    <a:custGeom>
                      <a:avLst/>
                      <a:gdLst>
                        <a:gd name="textAreaLeft" fmla="*/ 0 w 53640"/>
                        <a:gd name="textAreaRight" fmla="*/ 54000 w 53640"/>
                        <a:gd name="textAreaTop" fmla="*/ 0 h 37800"/>
                        <a:gd name="textAreaBottom" fmla="*/ 38160 h 37800"/>
                      </a:gdLst>
                      <a:ahLst/>
                      <a:rect l="textAreaLeft" t="textAreaTop" r="textAreaRight" b="textAreaBottom"/>
                      <a:pathLst>
                        <a:path w="423" h="289">
                          <a:moveTo>
                            <a:pt x="423" y="278"/>
                          </a:moveTo>
                          <a:lnTo>
                            <a:pt x="412" y="267"/>
                          </a:lnTo>
                          <a:lnTo>
                            <a:pt x="379" y="267"/>
                          </a:lnTo>
                          <a:lnTo>
                            <a:pt x="345" y="256"/>
                          </a:lnTo>
                          <a:lnTo>
                            <a:pt x="312" y="256"/>
                          </a:lnTo>
                          <a:lnTo>
                            <a:pt x="290" y="245"/>
                          </a:lnTo>
                          <a:lnTo>
                            <a:pt x="256" y="234"/>
                          </a:lnTo>
                          <a:lnTo>
                            <a:pt x="234" y="223"/>
                          </a:lnTo>
                          <a:lnTo>
                            <a:pt x="200" y="200"/>
                          </a:lnTo>
                          <a:lnTo>
                            <a:pt x="178" y="189"/>
                          </a:lnTo>
                          <a:lnTo>
                            <a:pt x="156" y="167"/>
                          </a:lnTo>
                          <a:lnTo>
                            <a:pt x="134" y="156"/>
                          </a:lnTo>
                          <a:lnTo>
                            <a:pt x="111" y="133"/>
                          </a:lnTo>
                          <a:lnTo>
                            <a:pt x="89" y="111"/>
                          </a:lnTo>
                          <a:lnTo>
                            <a:pt x="78" y="78"/>
                          </a:lnTo>
                          <a:lnTo>
                            <a:pt x="56" y="55"/>
                          </a:lnTo>
                          <a:lnTo>
                            <a:pt x="44" y="33"/>
                          </a:lnTo>
                          <a:lnTo>
                            <a:pt x="22" y="0"/>
                          </a:lnTo>
                          <a:lnTo>
                            <a:pt x="0" y="11"/>
                          </a:lnTo>
                          <a:lnTo>
                            <a:pt x="22" y="44"/>
                          </a:lnTo>
                          <a:lnTo>
                            <a:pt x="33" y="67"/>
                          </a:lnTo>
                          <a:lnTo>
                            <a:pt x="56" y="100"/>
                          </a:lnTo>
                          <a:lnTo>
                            <a:pt x="78" y="122"/>
                          </a:lnTo>
                          <a:lnTo>
                            <a:pt x="100" y="145"/>
                          </a:lnTo>
                          <a:lnTo>
                            <a:pt x="122" y="167"/>
                          </a:lnTo>
                          <a:lnTo>
                            <a:pt x="145" y="189"/>
                          </a:lnTo>
                          <a:lnTo>
                            <a:pt x="167" y="200"/>
                          </a:lnTo>
                          <a:lnTo>
                            <a:pt x="200" y="223"/>
                          </a:lnTo>
                          <a:lnTo>
                            <a:pt x="223" y="234"/>
                          </a:lnTo>
                          <a:lnTo>
                            <a:pt x="256" y="245"/>
                          </a:lnTo>
                          <a:lnTo>
                            <a:pt x="278" y="267"/>
                          </a:lnTo>
                          <a:lnTo>
                            <a:pt x="312" y="267"/>
                          </a:lnTo>
                          <a:lnTo>
                            <a:pt x="345" y="278"/>
                          </a:lnTo>
                          <a:lnTo>
                            <a:pt x="379" y="289"/>
                          </a:lnTo>
                          <a:lnTo>
                            <a:pt x="412" y="289"/>
                          </a:lnTo>
                          <a:lnTo>
                            <a:pt x="401" y="289"/>
                          </a:lnTo>
                          <a:lnTo>
                            <a:pt x="423" y="278"/>
                          </a:lnTo>
                          <a:close/>
                        </a:path>
                      </a:pathLst>
                    </a:custGeom>
                    <a:solidFill>
                      <a:srgbClr val="00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730"/>
                    <p:cNvSpPr/>
                    <p:nvPr/>
                  </p:nvSpPr>
                  <p:spPr>
                    <a:xfrm rot="111600">
                      <a:off x="7992720" y="1172880"/>
                      <a:ext cx="22680" cy="26280"/>
                    </a:xfrm>
                    <a:custGeom>
                      <a:avLst/>
                      <a:gdLst>
                        <a:gd name="textAreaLeft" fmla="*/ 0 w 22680"/>
                        <a:gd name="textAreaRight" fmla="*/ 23040 w 22680"/>
                        <a:gd name="textAreaTop" fmla="*/ 0 h 26280"/>
                        <a:gd name="textAreaBottom" fmla="*/ 26640 h 26280"/>
                      </a:gdLst>
                      <a:ahLst/>
                      <a:rect l="textAreaLeft" t="textAreaTop" r="textAreaRight" b="textAreaBottom"/>
                      <a:pathLst>
                        <a:path w="178" h="201">
                          <a:moveTo>
                            <a:pt x="156" y="201"/>
                          </a:moveTo>
                          <a:lnTo>
                            <a:pt x="167" y="179"/>
                          </a:lnTo>
                          <a:lnTo>
                            <a:pt x="134" y="179"/>
                          </a:lnTo>
                          <a:lnTo>
                            <a:pt x="112" y="168"/>
                          </a:lnTo>
                          <a:lnTo>
                            <a:pt x="78" y="145"/>
                          </a:lnTo>
                          <a:lnTo>
                            <a:pt x="67" y="123"/>
                          </a:lnTo>
                          <a:lnTo>
                            <a:pt x="45" y="89"/>
                          </a:lnTo>
                          <a:lnTo>
                            <a:pt x="34" y="67"/>
                          </a:lnTo>
                          <a:lnTo>
                            <a:pt x="34" y="34"/>
                          </a:lnTo>
                          <a:lnTo>
                            <a:pt x="22" y="0"/>
                          </a:lnTo>
                          <a:lnTo>
                            <a:pt x="0" y="11"/>
                          </a:lnTo>
                          <a:lnTo>
                            <a:pt x="0" y="34"/>
                          </a:lnTo>
                          <a:lnTo>
                            <a:pt x="11" y="67"/>
                          </a:lnTo>
                          <a:lnTo>
                            <a:pt x="22" y="101"/>
                          </a:lnTo>
                          <a:lnTo>
                            <a:pt x="45" y="134"/>
                          </a:lnTo>
                          <a:lnTo>
                            <a:pt x="67" y="156"/>
                          </a:lnTo>
                          <a:lnTo>
                            <a:pt x="100" y="179"/>
                          </a:lnTo>
                          <a:lnTo>
                            <a:pt x="134" y="201"/>
                          </a:lnTo>
                          <a:lnTo>
                            <a:pt x="167" y="201"/>
                          </a:lnTo>
                          <a:lnTo>
                            <a:pt x="178" y="190"/>
                          </a:lnTo>
                          <a:lnTo>
                            <a:pt x="156" y="201"/>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729"/>
                    <p:cNvSpPr/>
                    <p:nvPr/>
                  </p:nvSpPr>
                  <p:spPr>
                    <a:xfrm rot="111600">
                      <a:off x="8009640" y="1165680"/>
                      <a:ext cx="5400" cy="33480"/>
                    </a:xfrm>
                    <a:custGeom>
                      <a:avLst/>
                      <a:gdLst>
                        <a:gd name="textAreaLeft" fmla="*/ 0 w 5400"/>
                        <a:gd name="textAreaRight" fmla="*/ 5760 w 5400"/>
                        <a:gd name="textAreaTop" fmla="*/ 0 h 33480"/>
                        <a:gd name="textAreaBottom" fmla="*/ 33840 h 33480"/>
                      </a:gdLst>
                      <a:ahLst/>
                      <a:rect l="textAreaLeft" t="textAreaTop" r="textAreaRight" b="textAreaBottom"/>
                      <a:pathLst>
                        <a:path w="44" h="256">
                          <a:moveTo>
                            <a:pt x="22" y="0"/>
                          </a:moveTo>
                          <a:lnTo>
                            <a:pt x="22" y="0"/>
                          </a:lnTo>
                          <a:lnTo>
                            <a:pt x="0" y="55"/>
                          </a:lnTo>
                          <a:lnTo>
                            <a:pt x="0" y="133"/>
                          </a:lnTo>
                          <a:lnTo>
                            <a:pt x="11" y="200"/>
                          </a:lnTo>
                          <a:lnTo>
                            <a:pt x="22" y="256"/>
                          </a:lnTo>
                          <a:lnTo>
                            <a:pt x="44" y="245"/>
                          </a:lnTo>
                          <a:lnTo>
                            <a:pt x="33" y="200"/>
                          </a:lnTo>
                          <a:lnTo>
                            <a:pt x="33" y="122"/>
                          </a:lnTo>
                          <a:lnTo>
                            <a:pt x="33" y="55"/>
                          </a:lnTo>
                          <a:lnTo>
                            <a:pt x="33" y="22"/>
                          </a:lnTo>
                          <a:lnTo>
                            <a:pt x="22"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728"/>
                    <p:cNvSpPr/>
                    <p:nvPr/>
                  </p:nvSpPr>
                  <p:spPr>
                    <a:xfrm rot="111600">
                      <a:off x="8013240" y="1164600"/>
                      <a:ext cx="22680" cy="4320"/>
                    </a:xfrm>
                    <a:custGeom>
                      <a:avLst/>
                      <a:gdLst>
                        <a:gd name="textAreaLeft" fmla="*/ 0 w 22680"/>
                        <a:gd name="textAreaRight" fmla="*/ 23040 w 22680"/>
                        <a:gd name="textAreaTop" fmla="*/ 0 h 4320"/>
                        <a:gd name="textAreaBottom" fmla="*/ 4680 h 4320"/>
                      </a:gdLst>
                      <a:ahLst/>
                      <a:rect l="textAreaLeft" t="textAreaTop" r="textAreaRight" b="textAreaBottom"/>
                      <a:pathLst>
                        <a:path w="178" h="34">
                          <a:moveTo>
                            <a:pt x="167" y="12"/>
                          </a:moveTo>
                          <a:lnTo>
                            <a:pt x="167" y="12"/>
                          </a:lnTo>
                          <a:lnTo>
                            <a:pt x="156" y="12"/>
                          </a:lnTo>
                          <a:lnTo>
                            <a:pt x="134" y="12"/>
                          </a:lnTo>
                          <a:lnTo>
                            <a:pt x="112" y="12"/>
                          </a:lnTo>
                          <a:lnTo>
                            <a:pt x="89" y="0"/>
                          </a:lnTo>
                          <a:lnTo>
                            <a:pt x="67" y="0"/>
                          </a:lnTo>
                          <a:lnTo>
                            <a:pt x="45" y="0"/>
                          </a:lnTo>
                          <a:lnTo>
                            <a:pt x="22" y="0"/>
                          </a:lnTo>
                          <a:lnTo>
                            <a:pt x="0" y="12"/>
                          </a:lnTo>
                          <a:lnTo>
                            <a:pt x="11" y="34"/>
                          </a:lnTo>
                          <a:lnTo>
                            <a:pt x="22" y="23"/>
                          </a:lnTo>
                          <a:lnTo>
                            <a:pt x="45" y="23"/>
                          </a:lnTo>
                          <a:lnTo>
                            <a:pt x="67" y="23"/>
                          </a:lnTo>
                          <a:lnTo>
                            <a:pt x="89" y="23"/>
                          </a:lnTo>
                          <a:lnTo>
                            <a:pt x="112" y="34"/>
                          </a:lnTo>
                          <a:lnTo>
                            <a:pt x="145" y="34"/>
                          </a:lnTo>
                          <a:lnTo>
                            <a:pt x="167" y="34"/>
                          </a:lnTo>
                          <a:lnTo>
                            <a:pt x="178" y="23"/>
                          </a:lnTo>
                          <a:lnTo>
                            <a:pt x="167" y="1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1727"/>
                    <p:cNvSpPr/>
                    <p:nvPr/>
                  </p:nvSpPr>
                  <p:spPr>
                    <a:xfrm rot="111600">
                      <a:off x="8028720" y="1107360"/>
                      <a:ext cx="11160" cy="60120"/>
                    </a:xfrm>
                    <a:custGeom>
                      <a:avLst/>
                      <a:gdLst>
                        <a:gd name="textAreaLeft" fmla="*/ 0 w 11160"/>
                        <a:gd name="textAreaRight" fmla="*/ 11520 w 11160"/>
                        <a:gd name="textAreaTop" fmla="*/ 0 h 60120"/>
                        <a:gd name="textAreaBottom" fmla="*/ 60480 h 60120"/>
                      </a:gdLst>
                      <a:ahLst/>
                      <a:rect l="textAreaLeft" t="textAreaTop" r="textAreaRight" b="textAreaBottom"/>
                      <a:pathLst>
                        <a:path w="89" h="457">
                          <a:moveTo>
                            <a:pt x="0" y="0"/>
                          </a:moveTo>
                          <a:lnTo>
                            <a:pt x="0" y="0"/>
                          </a:lnTo>
                          <a:lnTo>
                            <a:pt x="11" y="33"/>
                          </a:lnTo>
                          <a:lnTo>
                            <a:pt x="22" y="89"/>
                          </a:lnTo>
                          <a:lnTo>
                            <a:pt x="33" y="156"/>
                          </a:lnTo>
                          <a:lnTo>
                            <a:pt x="44" y="234"/>
                          </a:lnTo>
                          <a:lnTo>
                            <a:pt x="66" y="301"/>
                          </a:lnTo>
                          <a:lnTo>
                            <a:pt x="66" y="368"/>
                          </a:lnTo>
                          <a:lnTo>
                            <a:pt x="66" y="423"/>
                          </a:lnTo>
                          <a:lnTo>
                            <a:pt x="55" y="446"/>
                          </a:lnTo>
                          <a:lnTo>
                            <a:pt x="66" y="457"/>
                          </a:lnTo>
                          <a:lnTo>
                            <a:pt x="89" y="423"/>
                          </a:lnTo>
                          <a:lnTo>
                            <a:pt x="89" y="368"/>
                          </a:lnTo>
                          <a:lnTo>
                            <a:pt x="89" y="301"/>
                          </a:lnTo>
                          <a:lnTo>
                            <a:pt x="78" y="223"/>
                          </a:lnTo>
                          <a:lnTo>
                            <a:pt x="55" y="145"/>
                          </a:lnTo>
                          <a:lnTo>
                            <a:pt x="44" y="78"/>
                          </a:lnTo>
                          <a:lnTo>
                            <a:pt x="22" y="22"/>
                          </a:lnTo>
                          <a:lnTo>
                            <a:pt x="11"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726"/>
                    <p:cNvSpPr/>
                    <p:nvPr/>
                  </p:nvSpPr>
                  <p:spPr>
                    <a:xfrm rot="111600">
                      <a:off x="7984440" y="1072800"/>
                      <a:ext cx="46800" cy="33840"/>
                    </a:xfrm>
                    <a:custGeom>
                      <a:avLst/>
                      <a:gdLst>
                        <a:gd name="textAreaLeft" fmla="*/ 0 w 46800"/>
                        <a:gd name="textAreaRight" fmla="*/ 47160 w 46800"/>
                        <a:gd name="textAreaTop" fmla="*/ 0 h 33840"/>
                        <a:gd name="textAreaBottom" fmla="*/ 34200 h 33840"/>
                      </a:gdLst>
                      <a:ahLst/>
                      <a:rect l="textAreaLeft" t="textAreaTop" r="textAreaRight" b="textAreaBottom"/>
                      <a:pathLst>
                        <a:path w="368" h="257">
                          <a:moveTo>
                            <a:pt x="0" y="23"/>
                          </a:moveTo>
                          <a:lnTo>
                            <a:pt x="0" y="23"/>
                          </a:lnTo>
                          <a:lnTo>
                            <a:pt x="22" y="23"/>
                          </a:lnTo>
                          <a:lnTo>
                            <a:pt x="45" y="23"/>
                          </a:lnTo>
                          <a:lnTo>
                            <a:pt x="78" y="34"/>
                          </a:lnTo>
                          <a:lnTo>
                            <a:pt x="100" y="45"/>
                          </a:lnTo>
                          <a:lnTo>
                            <a:pt x="123" y="56"/>
                          </a:lnTo>
                          <a:lnTo>
                            <a:pt x="145" y="67"/>
                          </a:lnTo>
                          <a:lnTo>
                            <a:pt x="178" y="78"/>
                          </a:lnTo>
                          <a:lnTo>
                            <a:pt x="201" y="101"/>
                          </a:lnTo>
                          <a:lnTo>
                            <a:pt x="223" y="112"/>
                          </a:lnTo>
                          <a:lnTo>
                            <a:pt x="245" y="134"/>
                          </a:lnTo>
                          <a:lnTo>
                            <a:pt x="267" y="156"/>
                          </a:lnTo>
                          <a:lnTo>
                            <a:pt x="290" y="168"/>
                          </a:lnTo>
                          <a:lnTo>
                            <a:pt x="301" y="190"/>
                          </a:lnTo>
                          <a:lnTo>
                            <a:pt x="323" y="212"/>
                          </a:lnTo>
                          <a:lnTo>
                            <a:pt x="334" y="234"/>
                          </a:lnTo>
                          <a:lnTo>
                            <a:pt x="357" y="257"/>
                          </a:lnTo>
                          <a:lnTo>
                            <a:pt x="368" y="257"/>
                          </a:lnTo>
                          <a:lnTo>
                            <a:pt x="357" y="223"/>
                          </a:lnTo>
                          <a:lnTo>
                            <a:pt x="334" y="201"/>
                          </a:lnTo>
                          <a:lnTo>
                            <a:pt x="323" y="179"/>
                          </a:lnTo>
                          <a:lnTo>
                            <a:pt x="301" y="156"/>
                          </a:lnTo>
                          <a:lnTo>
                            <a:pt x="279" y="134"/>
                          </a:lnTo>
                          <a:lnTo>
                            <a:pt x="256" y="123"/>
                          </a:lnTo>
                          <a:lnTo>
                            <a:pt x="234" y="101"/>
                          </a:lnTo>
                          <a:lnTo>
                            <a:pt x="212" y="78"/>
                          </a:lnTo>
                          <a:lnTo>
                            <a:pt x="189" y="67"/>
                          </a:lnTo>
                          <a:lnTo>
                            <a:pt x="156" y="45"/>
                          </a:lnTo>
                          <a:lnTo>
                            <a:pt x="134" y="34"/>
                          </a:lnTo>
                          <a:lnTo>
                            <a:pt x="111" y="23"/>
                          </a:lnTo>
                          <a:lnTo>
                            <a:pt x="78" y="12"/>
                          </a:lnTo>
                          <a:lnTo>
                            <a:pt x="56" y="0"/>
                          </a:lnTo>
                          <a:lnTo>
                            <a:pt x="22" y="0"/>
                          </a:lnTo>
                          <a:lnTo>
                            <a:pt x="0" y="0"/>
                          </a:lnTo>
                          <a:lnTo>
                            <a:pt x="0" y="23"/>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1725"/>
                    <p:cNvSpPr/>
                    <p:nvPr/>
                  </p:nvSpPr>
                  <p:spPr>
                    <a:xfrm rot="111600">
                      <a:off x="7949160" y="1069920"/>
                      <a:ext cx="35280" cy="11520"/>
                    </a:xfrm>
                    <a:custGeom>
                      <a:avLst/>
                      <a:gdLst>
                        <a:gd name="textAreaLeft" fmla="*/ 0 w 35280"/>
                        <a:gd name="textAreaRight" fmla="*/ 35640 w 35280"/>
                        <a:gd name="textAreaTop" fmla="*/ 0 h 11520"/>
                        <a:gd name="textAreaBottom" fmla="*/ 11880 h 11520"/>
                      </a:gdLst>
                      <a:ahLst/>
                      <a:rect l="textAreaLeft" t="textAreaTop" r="textAreaRight" b="textAreaBottom"/>
                      <a:pathLst>
                        <a:path w="279" h="89">
                          <a:moveTo>
                            <a:pt x="0" y="78"/>
                          </a:moveTo>
                          <a:lnTo>
                            <a:pt x="11" y="89"/>
                          </a:lnTo>
                          <a:lnTo>
                            <a:pt x="34" y="78"/>
                          </a:lnTo>
                          <a:lnTo>
                            <a:pt x="45" y="78"/>
                          </a:lnTo>
                          <a:lnTo>
                            <a:pt x="56" y="67"/>
                          </a:lnTo>
                          <a:lnTo>
                            <a:pt x="78" y="67"/>
                          </a:lnTo>
                          <a:lnTo>
                            <a:pt x="101" y="56"/>
                          </a:lnTo>
                          <a:lnTo>
                            <a:pt x="112" y="56"/>
                          </a:lnTo>
                          <a:lnTo>
                            <a:pt x="134" y="56"/>
                          </a:lnTo>
                          <a:lnTo>
                            <a:pt x="145" y="45"/>
                          </a:lnTo>
                          <a:lnTo>
                            <a:pt x="167" y="45"/>
                          </a:lnTo>
                          <a:lnTo>
                            <a:pt x="190" y="34"/>
                          </a:lnTo>
                          <a:lnTo>
                            <a:pt x="201" y="34"/>
                          </a:lnTo>
                          <a:lnTo>
                            <a:pt x="223" y="34"/>
                          </a:lnTo>
                          <a:lnTo>
                            <a:pt x="234" y="34"/>
                          </a:lnTo>
                          <a:lnTo>
                            <a:pt x="245" y="23"/>
                          </a:lnTo>
                          <a:lnTo>
                            <a:pt x="268" y="23"/>
                          </a:lnTo>
                          <a:lnTo>
                            <a:pt x="279" y="34"/>
                          </a:lnTo>
                          <a:lnTo>
                            <a:pt x="279" y="11"/>
                          </a:lnTo>
                          <a:lnTo>
                            <a:pt x="257" y="0"/>
                          </a:lnTo>
                          <a:lnTo>
                            <a:pt x="245" y="0"/>
                          </a:lnTo>
                          <a:lnTo>
                            <a:pt x="234" y="11"/>
                          </a:lnTo>
                          <a:lnTo>
                            <a:pt x="212" y="11"/>
                          </a:lnTo>
                          <a:lnTo>
                            <a:pt x="190" y="11"/>
                          </a:lnTo>
                          <a:lnTo>
                            <a:pt x="179" y="11"/>
                          </a:lnTo>
                          <a:lnTo>
                            <a:pt x="156" y="23"/>
                          </a:lnTo>
                          <a:lnTo>
                            <a:pt x="145" y="23"/>
                          </a:lnTo>
                          <a:lnTo>
                            <a:pt x="123" y="34"/>
                          </a:lnTo>
                          <a:lnTo>
                            <a:pt x="101" y="34"/>
                          </a:lnTo>
                          <a:lnTo>
                            <a:pt x="89" y="34"/>
                          </a:lnTo>
                          <a:lnTo>
                            <a:pt x="67" y="45"/>
                          </a:lnTo>
                          <a:lnTo>
                            <a:pt x="56" y="45"/>
                          </a:lnTo>
                          <a:lnTo>
                            <a:pt x="34" y="56"/>
                          </a:lnTo>
                          <a:lnTo>
                            <a:pt x="23" y="56"/>
                          </a:lnTo>
                          <a:lnTo>
                            <a:pt x="0" y="67"/>
                          </a:lnTo>
                          <a:lnTo>
                            <a:pt x="23" y="78"/>
                          </a:lnTo>
                          <a:lnTo>
                            <a:pt x="0" y="78"/>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1724"/>
                    <p:cNvSpPr/>
                    <p:nvPr/>
                  </p:nvSpPr>
                  <p:spPr>
                    <a:xfrm rot="111600">
                      <a:off x="7949520" y="1059120"/>
                      <a:ext cx="6840" cy="20520"/>
                    </a:xfrm>
                    <a:custGeom>
                      <a:avLst/>
                      <a:gdLst>
                        <a:gd name="textAreaLeft" fmla="*/ 0 w 6840"/>
                        <a:gd name="textAreaRight" fmla="*/ 7200 w 6840"/>
                        <a:gd name="textAreaTop" fmla="*/ 0 h 20520"/>
                        <a:gd name="textAreaBottom" fmla="*/ 20880 h 20520"/>
                      </a:gdLst>
                      <a:ahLst/>
                      <a:rect l="textAreaLeft" t="textAreaTop" r="textAreaRight" b="textAreaBottom"/>
                      <a:pathLst>
                        <a:path w="56" h="156">
                          <a:moveTo>
                            <a:pt x="45" y="23"/>
                          </a:moveTo>
                          <a:lnTo>
                            <a:pt x="34" y="11"/>
                          </a:lnTo>
                          <a:lnTo>
                            <a:pt x="11" y="45"/>
                          </a:lnTo>
                          <a:lnTo>
                            <a:pt x="11" y="78"/>
                          </a:lnTo>
                          <a:lnTo>
                            <a:pt x="0" y="112"/>
                          </a:lnTo>
                          <a:lnTo>
                            <a:pt x="0" y="156"/>
                          </a:lnTo>
                          <a:lnTo>
                            <a:pt x="23" y="156"/>
                          </a:lnTo>
                          <a:lnTo>
                            <a:pt x="23" y="112"/>
                          </a:lnTo>
                          <a:lnTo>
                            <a:pt x="34" y="89"/>
                          </a:lnTo>
                          <a:lnTo>
                            <a:pt x="45" y="56"/>
                          </a:lnTo>
                          <a:lnTo>
                            <a:pt x="56" y="23"/>
                          </a:lnTo>
                          <a:lnTo>
                            <a:pt x="34" y="0"/>
                          </a:lnTo>
                          <a:lnTo>
                            <a:pt x="45" y="23"/>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1723"/>
                    <p:cNvSpPr/>
                    <p:nvPr/>
                  </p:nvSpPr>
                  <p:spPr>
                    <a:xfrm rot="111600">
                      <a:off x="7935120" y="1058760"/>
                      <a:ext cx="19800" cy="23400"/>
                    </a:xfrm>
                    <a:custGeom>
                      <a:avLst/>
                      <a:gdLst>
                        <a:gd name="textAreaLeft" fmla="*/ 0 w 19800"/>
                        <a:gd name="textAreaRight" fmla="*/ 20160 w 19800"/>
                        <a:gd name="textAreaTop" fmla="*/ 0 h 23400"/>
                        <a:gd name="textAreaBottom" fmla="*/ 23760 h 23400"/>
                      </a:gdLst>
                      <a:ahLst/>
                      <a:rect l="textAreaLeft" t="textAreaTop" r="textAreaRight" b="textAreaBottom"/>
                      <a:pathLst>
                        <a:path w="156" h="179">
                          <a:moveTo>
                            <a:pt x="11" y="179"/>
                          </a:moveTo>
                          <a:lnTo>
                            <a:pt x="22" y="167"/>
                          </a:lnTo>
                          <a:lnTo>
                            <a:pt x="33" y="156"/>
                          </a:lnTo>
                          <a:lnTo>
                            <a:pt x="44" y="134"/>
                          </a:lnTo>
                          <a:lnTo>
                            <a:pt x="56" y="112"/>
                          </a:lnTo>
                          <a:lnTo>
                            <a:pt x="67" y="89"/>
                          </a:lnTo>
                          <a:lnTo>
                            <a:pt x="89" y="78"/>
                          </a:lnTo>
                          <a:lnTo>
                            <a:pt x="111" y="56"/>
                          </a:lnTo>
                          <a:lnTo>
                            <a:pt x="134" y="45"/>
                          </a:lnTo>
                          <a:lnTo>
                            <a:pt x="156" y="23"/>
                          </a:lnTo>
                          <a:lnTo>
                            <a:pt x="145" y="0"/>
                          </a:lnTo>
                          <a:lnTo>
                            <a:pt x="111" y="23"/>
                          </a:lnTo>
                          <a:lnTo>
                            <a:pt x="89" y="34"/>
                          </a:lnTo>
                          <a:lnTo>
                            <a:pt x="67" y="56"/>
                          </a:lnTo>
                          <a:lnTo>
                            <a:pt x="44" y="78"/>
                          </a:lnTo>
                          <a:lnTo>
                            <a:pt x="33" y="101"/>
                          </a:lnTo>
                          <a:lnTo>
                            <a:pt x="22" y="123"/>
                          </a:lnTo>
                          <a:lnTo>
                            <a:pt x="11" y="145"/>
                          </a:lnTo>
                          <a:lnTo>
                            <a:pt x="0" y="167"/>
                          </a:lnTo>
                          <a:lnTo>
                            <a:pt x="22" y="156"/>
                          </a:lnTo>
                          <a:lnTo>
                            <a:pt x="11" y="179"/>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1722"/>
                    <p:cNvSpPr/>
                    <p:nvPr/>
                  </p:nvSpPr>
                  <p:spPr>
                    <a:xfrm rot="111600">
                      <a:off x="7919280" y="1072800"/>
                      <a:ext cx="18360" cy="8640"/>
                    </a:xfrm>
                    <a:custGeom>
                      <a:avLst/>
                      <a:gdLst>
                        <a:gd name="textAreaLeft" fmla="*/ 0 w 18360"/>
                        <a:gd name="textAreaRight" fmla="*/ 18720 w 18360"/>
                        <a:gd name="textAreaTop" fmla="*/ 0 h 8640"/>
                        <a:gd name="textAreaBottom" fmla="*/ 9000 h 8640"/>
                      </a:gdLst>
                      <a:ahLst/>
                      <a:rect l="textAreaLeft" t="textAreaTop" r="textAreaRight" b="textAreaBottom"/>
                      <a:pathLst>
                        <a:path w="145" h="67">
                          <a:moveTo>
                            <a:pt x="11" y="0"/>
                          </a:moveTo>
                          <a:lnTo>
                            <a:pt x="11" y="22"/>
                          </a:lnTo>
                          <a:lnTo>
                            <a:pt x="23" y="22"/>
                          </a:lnTo>
                          <a:lnTo>
                            <a:pt x="34" y="33"/>
                          </a:lnTo>
                          <a:lnTo>
                            <a:pt x="56" y="33"/>
                          </a:lnTo>
                          <a:lnTo>
                            <a:pt x="67" y="33"/>
                          </a:lnTo>
                          <a:lnTo>
                            <a:pt x="89" y="44"/>
                          </a:lnTo>
                          <a:lnTo>
                            <a:pt x="101" y="44"/>
                          </a:lnTo>
                          <a:lnTo>
                            <a:pt x="112" y="55"/>
                          </a:lnTo>
                          <a:lnTo>
                            <a:pt x="134" y="67"/>
                          </a:lnTo>
                          <a:lnTo>
                            <a:pt x="145" y="44"/>
                          </a:lnTo>
                          <a:lnTo>
                            <a:pt x="123" y="44"/>
                          </a:lnTo>
                          <a:lnTo>
                            <a:pt x="112" y="33"/>
                          </a:lnTo>
                          <a:lnTo>
                            <a:pt x="89" y="22"/>
                          </a:lnTo>
                          <a:lnTo>
                            <a:pt x="78" y="11"/>
                          </a:lnTo>
                          <a:lnTo>
                            <a:pt x="56" y="11"/>
                          </a:lnTo>
                          <a:lnTo>
                            <a:pt x="45" y="11"/>
                          </a:lnTo>
                          <a:lnTo>
                            <a:pt x="23" y="0"/>
                          </a:lnTo>
                          <a:lnTo>
                            <a:pt x="11" y="0"/>
                          </a:lnTo>
                          <a:lnTo>
                            <a:pt x="0" y="11"/>
                          </a:lnTo>
                          <a:lnTo>
                            <a:pt x="11" y="0"/>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1721"/>
                    <p:cNvSpPr/>
                    <p:nvPr/>
                  </p:nvSpPr>
                  <p:spPr>
                    <a:xfrm rot="111600">
                      <a:off x="7919280" y="1072800"/>
                      <a:ext cx="8280" cy="11520"/>
                    </a:xfrm>
                    <a:custGeom>
                      <a:avLst/>
                      <a:gdLst>
                        <a:gd name="textAreaLeft" fmla="*/ 0 w 8280"/>
                        <a:gd name="textAreaRight" fmla="*/ 8640 w 8280"/>
                        <a:gd name="textAreaTop" fmla="*/ 0 h 11520"/>
                        <a:gd name="textAreaBottom" fmla="*/ 11880 h 11520"/>
                      </a:gdLst>
                      <a:ahLst/>
                      <a:rect l="textAreaLeft" t="textAreaTop" r="textAreaRight" b="textAreaBottom"/>
                      <a:pathLst>
                        <a:path w="67" h="89">
                          <a:moveTo>
                            <a:pt x="56" y="89"/>
                          </a:moveTo>
                          <a:lnTo>
                            <a:pt x="67" y="78"/>
                          </a:lnTo>
                          <a:lnTo>
                            <a:pt x="67" y="67"/>
                          </a:lnTo>
                          <a:lnTo>
                            <a:pt x="56" y="55"/>
                          </a:lnTo>
                          <a:lnTo>
                            <a:pt x="45" y="44"/>
                          </a:lnTo>
                          <a:lnTo>
                            <a:pt x="45" y="33"/>
                          </a:lnTo>
                          <a:lnTo>
                            <a:pt x="34" y="22"/>
                          </a:lnTo>
                          <a:lnTo>
                            <a:pt x="23" y="11"/>
                          </a:lnTo>
                          <a:lnTo>
                            <a:pt x="11" y="0"/>
                          </a:lnTo>
                          <a:lnTo>
                            <a:pt x="0" y="11"/>
                          </a:lnTo>
                          <a:lnTo>
                            <a:pt x="11" y="22"/>
                          </a:lnTo>
                          <a:lnTo>
                            <a:pt x="23" y="33"/>
                          </a:lnTo>
                          <a:lnTo>
                            <a:pt x="23" y="44"/>
                          </a:lnTo>
                          <a:lnTo>
                            <a:pt x="34" y="55"/>
                          </a:lnTo>
                          <a:lnTo>
                            <a:pt x="34" y="67"/>
                          </a:lnTo>
                          <a:lnTo>
                            <a:pt x="45" y="67"/>
                          </a:lnTo>
                          <a:lnTo>
                            <a:pt x="45" y="78"/>
                          </a:lnTo>
                          <a:lnTo>
                            <a:pt x="56" y="89"/>
                          </a:lnTo>
                          <a:lnTo>
                            <a:pt x="67" y="67"/>
                          </a:lnTo>
                          <a:lnTo>
                            <a:pt x="56"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720"/>
                    <p:cNvSpPr/>
                    <p:nvPr/>
                  </p:nvSpPr>
                  <p:spPr>
                    <a:xfrm rot="111600">
                      <a:off x="7898040" y="1073880"/>
                      <a:ext cx="29520" cy="10080"/>
                    </a:xfrm>
                    <a:custGeom>
                      <a:avLst/>
                      <a:gdLst>
                        <a:gd name="textAreaLeft" fmla="*/ 0 w 29520"/>
                        <a:gd name="textAreaRight" fmla="*/ 29880 w 29520"/>
                        <a:gd name="textAreaTop" fmla="*/ 0 h 10080"/>
                        <a:gd name="textAreaBottom" fmla="*/ 10440 h 10080"/>
                      </a:gdLst>
                      <a:ahLst/>
                      <a:rect l="textAreaLeft" t="textAreaTop" r="textAreaRight" b="textAreaBottom"/>
                      <a:pathLst>
                        <a:path w="234" h="78">
                          <a:moveTo>
                            <a:pt x="11" y="0"/>
                          </a:moveTo>
                          <a:lnTo>
                            <a:pt x="0" y="22"/>
                          </a:lnTo>
                          <a:lnTo>
                            <a:pt x="22" y="22"/>
                          </a:lnTo>
                          <a:lnTo>
                            <a:pt x="34" y="22"/>
                          </a:lnTo>
                          <a:lnTo>
                            <a:pt x="56" y="22"/>
                          </a:lnTo>
                          <a:lnTo>
                            <a:pt x="67" y="33"/>
                          </a:lnTo>
                          <a:lnTo>
                            <a:pt x="78" y="33"/>
                          </a:lnTo>
                          <a:lnTo>
                            <a:pt x="89" y="33"/>
                          </a:lnTo>
                          <a:lnTo>
                            <a:pt x="112" y="33"/>
                          </a:lnTo>
                          <a:lnTo>
                            <a:pt x="123" y="44"/>
                          </a:lnTo>
                          <a:lnTo>
                            <a:pt x="134" y="44"/>
                          </a:lnTo>
                          <a:lnTo>
                            <a:pt x="145" y="56"/>
                          </a:lnTo>
                          <a:lnTo>
                            <a:pt x="156" y="56"/>
                          </a:lnTo>
                          <a:lnTo>
                            <a:pt x="167" y="56"/>
                          </a:lnTo>
                          <a:lnTo>
                            <a:pt x="190" y="67"/>
                          </a:lnTo>
                          <a:lnTo>
                            <a:pt x="201" y="67"/>
                          </a:lnTo>
                          <a:lnTo>
                            <a:pt x="212" y="78"/>
                          </a:lnTo>
                          <a:lnTo>
                            <a:pt x="223" y="78"/>
                          </a:lnTo>
                          <a:lnTo>
                            <a:pt x="234" y="56"/>
                          </a:lnTo>
                          <a:lnTo>
                            <a:pt x="223" y="56"/>
                          </a:lnTo>
                          <a:lnTo>
                            <a:pt x="212" y="44"/>
                          </a:lnTo>
                          <a:lnTo>
                            <a:pt x="190" y="44"/>
                          </a:lnTo>
                          <a:lnTo>
                            <a:pt x="178" y="33"/>
                          </a:lnTo>
                          <a:lnTo>
                            <a:pt x="167" y="33"/>
                          </a:lnTo>
                          <a:lnTo>
                            <a:pt x="156" y="33"/>
                          </a:lnTo>
                          <a:lnTo>
                            <a:pt x="134" y="22"/>
                          </a:lnTo>
                          <a:lnTo>
                            <a:pt x="123" y="22"/>
                          </a:lnTo>
                          <a:lnTo>
                            <a:pt x="112" y="22"/>
                          </a:lnTo>
                          <a:lnTo>
                            <a:pt x="100" y="11"/>
                          </a:lnTo>
                          <a:lnTo>
                            <a:pt x="78" y="11"/>
                          </a:lnTo>
                          <a:lnTo>
                            <a:pt x="67" y="11"/>
                          </a:lnTo>
                          <a:lnTo>
                            <a:pt x="56" y="11"/>
                          </a:lnTo>
                          <a:lnTo>
                            <a:pt x="34" y="0"/>
                          </a:lnTo>
                          <a:lnTo>
                            <a:pt x="22" y="0"/>
                          </a:lnTo>
                          <a:lnTo>
                            <a:pt x="11" y="0"/>
                          </a:lnTo>
                          <a:lnTo>
                            <a:pt x="0" y="11"/>
                          </a:lnTo>
                          <a:lnTo>
                            <a:pt x="11" y="0"/>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1719"/>
                    <p:cNvSpPr/>
                    <p:nvPr/>
                  </p:nvSpPr>
                  <p:spPr>
                    <a:xfrm rot="111600">
                      <a:off x="7898040" y="1073520"/>
                      <a:ext cx="16920" cy="15840"/>
                    </a:xfrm>
                    <a:custGeom>
                      <a:avLst/>
                      <a:gdLst>
                        <a:gd name="textAreaLeft" fmla="*/ 0 w 16920"/>
                        <a:gd name="textAreaRight" fmla="*/ 17280 w 16920"/>
                        <a:gd name="textAreaTop" fmla="*/ 0 h 15840"/>
                        <a:gd name="textAreaBottom" fmla="*/ 16200 h 15840"/>
                      </a:gdLst>
                      <a:ahLst/>
                      <a:rect l="textAreaLeft" t="textAreaTop" r="textAreaRight" b="textAreaBottom"/>
                      <a:pathLst>
                        <a:path w="134" h="122">
                          <a:moveTo>
                            <a:pt x="123" y="122"/>
                          </a:moveTo>
                          <a:lnTo>
                            <a:pt x="134" y="111"/>
                          </a:lnTo>
                          <a:lnTo>
                            <a:pt x="112" y="100"/>
                          </a:lnTo>
                          <a:lnTo>
                            <a:pt x="100" y="89"/>
                          </a:lnTo>
                          <a:lnTo>
                            <a:pt x="89" y="78"/>
                          </a:lnTo>
                          <a:lnTo>
                            <a:pt x="67" y="56"/>
                          </a:lnTo>
                          <a:lnTo>
                            <a:pt x="56" y="44"/>
                          </a:lnTo>
                          <a:lnTo>
                            <a:pt x="45" y="33"/>
                          </a:lnTo>
                          <a:lnTo>
                            <a:pt x="34" y="22"/>
                          </a:lnTo>
                          <a:lnTo>
                            <a:pt x="11" y="0"/>
                          </a:lnTo>
                          <a:lnTo>
                            <a:pt x="0" y="11"/>
                          </a:lnTo>
                          <a:lnTo>
                            <a:pt x="11" y="33"/>
                          </a:lnTo>
                          <a:lnTo>
                            <a:pt x="34" y="44"/>
                          </a:lnTo>
                          <a:lnTo>
                            <a:pt x="45" y="56"/>
                          </a:lnTo>
                          <a:lnTo>
                            <a:pt x="56" y="78"/>
                          </a:lnTo>
                          <a:lnTo>
                            <a:pt x="78" y="89"/>
                          </a:lnTo>
                          <a:lnTo>
                            <a:pt x="89" y="100"/>
                          </a:lnTo>
                          <a:lnTo>
                            <a:pt x="100" y="111"/>
                          </a:lnTo>
                          <a:lnTo>
                            <a:pt x="123" y="122"/>
                          </a:lnTo>
                          <a:lnTo>
                            <a:pt x="123" y="111"/>
                          </a:lnTo>
                          <a:lnTo>
                            <a:pt x="123" y="122"/>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1718"/>
                    <p:cNvSpPr/>
                    <p:nvPr/>
                  </p:nvSpPr>
                  <p:spPr>
                    <a:xfrm rot="111600">
                      <a:off x="7921800" y="1166040"/>
                      <a:ext cx="5400" cy="4320"/>
                    </a:xfrm>
                    <a:custGeom>
                      <a:avLst/>
                      <a:gdLst>
                        <a:gd name="textAreaLeft" fmla="*/ 0 w 5400"/>
                        <a:gd name="textAreaRight" fmla="*/ 5760 w 5400"/>
                        <a:gd name="textAreaTop" fmla="*/ 0 h 4320"/>
                        <a:gd name="textAreaBottom" fmla="*/ 4680 h 4320"/>
                      </a:gdLst>
                      <a:ahLst/>
                      <a:rect l="textAreaLeft" t="textAreaTop" r="textAreaRight" b="textAreaBottom"/>
                      <a:pathLst>
                        <a:path w="44" h="33">
                          <a:moveTo>
                            <a:pt x="44" y="33"/>
                          </a:moveTo>
                          <a:lnTo>
                            <a:pt x="44" y="22"/>
                          </a:lnTo>
                          <a:lnTo>
                            <a:pt x="44" y="11"/>
                          </a:lnTo>
                          <a:lnTo>
                            <a:pt x="33" y="0"/>
                          </a:lnTo>
                          <a:lnTo>
                            <a:pt x="22" y="0"/>
                          </a:lnTo>
                          <a:lnTo>
                            <a:pt x="11" y="0"/>
                          </a:lnTo>
                          <a:lnTo>
                            <a:pt x="0" y="11"/>
                          </a:lnTo>
                          <a:lnTo>
                            <a:pt x="44" y="33"/>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0" name="Freeform 1716"/>
                  <p:cNvSpPr/>
                  <p:nvPr/>
                </p:nvSpPr>
                <p:spPr>
                  <a:xfrm rot="111600">
                    <a:off x="7916040" y="1166760"/>
                    <a:ext cx="11160" cy="21960"/>
                  </a:xfrm>
                  <a:custGeom>
                    <a:avLst/>
                    <a:gdLst>
                      <a:gd name="textAreaLeft" fmla="*/ 0 w 11160"/>
                      <a:gd name="textAreaRight" fmla="*/ 11520 w 11160"/>
                      <a:gd name="textAreaTop" fmla="*/ 0 h 21960"/>
                      <a:gd name="textAreaBottom" fmla="*/ 22320 h 21960"/>
                    </a:gdLst>
                    <a:ahLst/>
                    <a:rect l="textAreaLeft" t="textAreaTop" r="textAreaRight" b="textAreaBottom"/>
                    <a:pathLst>
                      <a:path w="89" h="167">
                        <a:moveTo>
                          <a:pt x="45" y="167"/>
                        </a:moveTo>
                        <a:lnTo>
                          <a:pt x="45" y="145"/>
                        </a:lnTo>
                        <a:lnTo>
                          <a:pt x="45" y="134"/>
                        </a:lnTo>
                        <a:lnTo>
                          <a:pt x="56" y="111"/>
                        </a:lnTo>
                        <a:lnTo>
                          <a:pt x="56" y="89"/>
                        </a:lnTo>
                        <a:lnTo>
                          <a:pt x="67" y="78"/>
                        </a:lnTo>
                        <a:lnTo>
                          <a:pt x="67" y="56"/>
                        </a:lnTo>
                        <a:lnTo>
                          <a:pt x="78" y="33"/>
                        </a:lnTo>
                        <a:lnTo>
                          <a:pt x="89" y="22"/>
                        </a:lnTo>
                        <a:lnTo>
                          <a:pt x="45" y="0"/>
                        </a:lnTo>
                        <a:lnTo>
                          <a:pt x="34" y="22"/>
                        </a:lnTo>
                        <a:lnTo>
                          <a:pt x="34" y="33"/>
                        </a:lnTo>
                        <a:lnTo>
                          <a:pt x="23" y="56"/>
                        </a:lnTo>
                        <a:lnTo>
                          <a:pt x="11" y="78"/>
                        </a:lnTo>
                        <a:lnTo>
                          <a:pt x="11" y="100"/>
                        </a:lnTo>
                        <a:lnTo>
                          <a:pt x="0" y="123"/>
                        </a:lnTo>
                        <a:lnTo>
                          <a:pt x="0" y="145"/>
                        </a:lnTo>
                        <a:lnTo>
                          <a:pt x="0" y="167"/>
                        </a:lnTo>
                        <a:lnTo>
                          <a:pt x="45" y="167"/>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715"/>
                  <p:cNvSpPr/>
                  <p:nvPr/>
                </p:nvSpPr>
                <p:spPr>
                  <a:xfrm rot="111600">
                    <a:off x="7921800" y="1168560"/>
                    <a:ext cx="5400" cy="2880"/>
                  </a:xfrm>
                  <a:custGeom>
                    <a:avLst/>
                    <a:gdLst>
                      <a:gd name="textAreaLeft" fmla="*/ 0 w 5400"/>
                      <a:gd name="textAreaRight" fmla="*/ 5760 w 5400"/>
                      <a:gd name="textAreaTop" fmla="*/ 0 h 2880"/>
                      <a:gd name="textAreaBottom" fmla="*/ 3240 h 2880"/>
                    </a:gdLst>
                    <a:ahLst/>
                    <a:rect l="textAreaLeft" t="textAreaTop" r="textAreaRight" b="textAreaBottom"/>
                    <a:pathLst>
                      <a:path w="44" h="22">
                        <a:moveTo>
                          <a:pt x="0" y="0"/>
                        </a:moveTo>
                        <a:lnTo>
                          <a:pt x="0" y="11"/>
                        </a:lnTo>
                        <a:lnTo>
                          <a:pt x="11" y="22"/>
                        </a:lnTo>
                        <a:lnTo>
                          <a:pt x="22" y="22"/>
                        </a:lnTo>
                        <a:lnTo>
                          <a:pt x="33" y="22"/>
                        </a:lnTo>
                        <a:lnTo>
                          <a:pt x="44" y="22"/>
                        </a:lnTo>
                        <a:lnTo>
                          <a:pt x="44" y="11"/>
                        </a:lnTo>
                        <a:lnTo>
                          <a:pt x="44"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1714"/>
                  <p:cNvSpPr/>
                  <p:nvPr/>
                </p:nvSpPr>
                <p:spPr>
                  <a:xfrm rot="111600">
                    <a:off x="7946280" y="115776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34" h="33">
                        <a:moveTo>
                          <a:pt x="34" y="0"/>
                        </a:moveTo>
                        <a:lnTo>
                          <a:pt x="23" y="0"/>
                        </a:lnTo>
                        <a:lnTo>
                          <a:pt x="11" y="0"/>
                        </a:lnTo>
                        <a:lnTo>
                          <a:pt x="0" y="0"/>
                        </a:lnTo>
                        <a:lnTo>
                          <a:pt x="0" y="11"/>
                        </a:lnTo>
                        <a:lnTo>
                          <a:pt x="0" y="22"/>
                        </a:lnTo>
                        <a:lnTo>
                          <a:pt x="0" y="33"/>
                        </a:lnTo>
                        <a:lnTo>
                          <a:pt x="34" y="0"/>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713"/>
                  <p:cNvSpPr/>
                  <p:nvPr/>
                </p:nvSpPr>
                <p:spPr>
                  <a:xfrm rot="111600">
                    <a:off x="7945920" y="1157760"/>
                    <a:ext cx="18360" cy="23400"/>
                  </a:xfrm>
                  <a:custGeom>
                    <a:avLst/>
                    <a:gdLst>
                      <a:gd name="textAreaLeft" fmla="*/ 0 w 18360"/>
                      <a:gd name="textAreaRight" fmla="*/ 18720 w 18360"/>
                      <a:gd name="textAreaTop" fmla="*/ 0 h 23400"/>
                      <a:gd name="textAreaBottom" fmla="*/ 23760 h 23400"/>
                    </a:gdLst>
                    <a:ahLst/>
                    <a:rect l="textAreaLeft" t="textAreaTop" r="textAreaRight" b="textAreaBottom"/>
                    <a:pathLst>
                      <a:path w="145" h="178">
                        <a:moveTo>
                          <a:pt x="145" y="167"/>
                        </a:moveTo>
                        <a:lnTo>
                          <a:pt x="134" y="145"/>
                        </a:lnTo>
                        <a:lnTo>
                          <a:pt x="123" y="123"/>
                        </a:lnTo>
                        <a:lnTo>
                          <a:pt x="112" y="100"/>
                        </a:lnTo>
                        <a:lnTo>
                          <a:pt x="101" y="78"/>
                        </a:lnTo>
                        <a:lnTo>
                          <a:pt x="78" y="56"/>
                        </a:lnTo>
                        <a:lnTo>
                          <a:pt x="67" y="33"/>
                        </a:lnTo>
                        <a:lnTo>
                          <a:pt x="45" y="11"/>
                        </a:lnTo>
                        <a:lnTo>
                          <a:pt x="34" y="0"/>
                        </a:lnTo>
                        <a:lnTo>
                          <a:pt x="0" y="33"/>
                        </a:lnTo>
                        <a:lnTo>
                          <a:pt x="23" y="45"/>
                        </a:lnTo>
                        <a:lnTo>
                          <a:pt x="34" y="67"/>
                        </a:lnTo>
                        <a:lnTo>
                          <a:pt x="45" y="78"/>
                        </a:lnTo>
                        <a:lnTo>
                          <a:pt x="67" y="100"/>
                        </a:lnTo>
                        <a:lnTo>
                          <a:pt x="78" y="123"/>
                        </a:lnTo>
                        <a:lnTo>
                          <a:pt x="89" y="145"/>
                        </a:lnTo>
                        <a:lnTo>
                          <a:pt x="101" y="156"/>
                        </a:lnTo>
                        <a:lnTo>
                          <a:pt x="112" y="178"/>
                        </a:lnTo>
                        <a:lnTo>
                          <a:pt x="145" y="167"/>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1712"/>
                  <p:cNvSpPr/>
                  <p:nvPr/>
                </p:nvSpPr>
                <p:spPr>
                  <a:xfrm rot="111600">
                    <a:off x="7946280" y="1159200"/>
                    <a:ext cx="5400" cy="4320"/>
                  </a:xfrm>
                  <a:custGeom>
                    <a:avLst/>
                    <a:gdLst>
                      <a:gd name="textAreaLeft" fmla="*/ 0 w 5400"/>
                      <a:gd name="textAreaRight" fmla="*/ 5760 w 5400"/>
                      <a:gd name="textAreaTop" fmla="*/ 0 h 4320"/>
                      <a:gd name="textAreaBottom" fmla="*/ 4680 h 4320"/>
                    </a:gdLst>
                    <a:ahLst/>
                    <a:rect l="textAreaLeft" t="textAreaTop" r="textAreaRight" b="textAreaBottom"/>
                    <a:pathLst>
                      <a:path w="45" h="34">
                        <a:moveTo>
                          <a:pt x="0" y="22"/>
                        </a:moveTo>
                        <a:lnTo>
                          <a:pt x="0" y="22"/>
                        </a:lnTo>
                        <a:lnTo>
                          <a:pt x="11" y="34"/>
                        </a:lnTo>
                        <a:lnTo>
                          <a:pt x="23" y="34"/>
                        </a:lnTo>
                        <a:lnTo>
                          <a:pt x="34" y="34"/>
                        </a:lnTo>
                        <a:lnTo>
                          <a:pt x="34" y="22"/>
                        </a:lnTo>
                        <a:lnTo>
                          <a:pt x="45" y="11"/>
                        </a:lnTo>
                        <a:lnTo>
                          <a:pt x="34" y="0"/>
                        </a:lnTo>
                        <a:lnTo>
                          <a:pt x="0" y="2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1711"/>
                  <p:cNvSpPr/>
                  <p:nvPr/>
                </p:nvSpPr>
                <p:spPr>
                  <a:xfrm rot="111600">
                    <a:off x="7967520" y="1218600"/>
                    <a:ext cx="2520" cy="1440"/>
                  </a:xfrm>
                  <a:custGeom>
                    <a:avLst/>
                    <a:gdLst>
                      <a:gd name="textAreaLeft" fmla="*/ 0 w 2520"/>
                      <a:gd name="textAreaRight" fmla="*/ 2880 w 2520"/>
                      <a:gd name="textAreaTop" fmla="*/ 0 h 1440"/>
                      <a:gd name="textAreaBottom" fmla="*/ 1800 h 1440"/>
                    </a:gdLst>
                    <a:ahLst/>
                    <a:rect l="textAreaLeft" t="textAreaTop" r="textAreaRight" b="textAreaBottom"/>
                    <a:pathLst>
                      <a:path w="22" h="11">
                        <a:moveTo>
                          <a:pt x="0" y="11"/>
                        </a:moveTo>
                        <a:lnTo>
                          <a:pt x="11" y="11"/>
                        </a:lnTo>
                        <a:lnTo>
                          <a:pt x="22" y="11"/>
                        </a:lnTo>
                        <a:lnTo>
                          <a:pt x="22"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710"/>
                  <p:cNvSpPr/>
                  <p:nvPr/>
                </p:nvSpPr>
                <p:spPr>
                  <a:xfrm rot="111600">
                    <a:off x="7943400" y="1203480"/>
                    <a:ext cx="27000" cy="15840"/>
                  </a:xfrm>
                  <a:custGeom>
                    <a:avLst/>
                    <a:gdLst>
                      <a:gd name="textAreaLeft" fmla="*/ 0 w 27000"/>
                      <a:gd name="textAreaRight" fmla="*/ 27360 w 27000"/>
                      <a:gd name="textAreaTop" fmla="*/ 0 h 15840"/>
                      <a:gd name="textAreaBottom" fmla="*/ 16200 h 15840"/>
                    </a:gdLst>
                    <a:ahLst/>
                    <a:rect l="textAreaLeft" t="textAreaTop" r="textAreaRight" b="textAreaBottom"/>
                    <a:pathLst>
                      <a:path w="212" h="122">
                        <a:moveTo>
                          <a:pt x="11" y="22"/>
                        </a:moveTo>
                        <a:lnTo>
                          <a:pt x="11" y="22"/>
                        </a:lnTo>
                        <a:lnTo>
                          <a:pt x="34" y="22"/>
                        </a:lnTo>
                        <a:lnTo>
                          <a:pt x="67" y="22"/>
                        </a:lnTo>
                        <a:lnTo>
                          <a:pt x="100" y="22"/>
                        </a:lnTo>
                        <a:lnTo>
                          <a:pt x="123" y="33"/>
                        </a:lnTo>
                        <a:lnTo>
                          <a:pt x="145" y="55"/>
                        </a:lnTo>
                        <a:lnTo>
                          <a:pt x="167" y="66"/>
                        </a:lnTo>
                        <a:lnTo>
                          <a:pt x="178" y="100"/>
                        </a:lnTo>
                        <a:lnTo>
                          <a:pt x="190" y="122"/>
                        </a:lnTo>
                        <a:lnTo>
                          <a:pt x="212" y="111"/>
                        </a:lnTo>
                        <a:lnTo>
                          <a:pt x="201" y="89"/>
                        </a:lnTo>
                        <a:lnTo>
                          <a:pt x="178" y="55"/>
                        </a:lnTo>
                        <a:lnTo>
                          <a:pt x="156" y="33"/>
                        </a:lnTo>
                        <a:lnTo>
                          <a:pt x="134" y="22"/>
                        </a:lnTo>
                        <a:lnTo>
                          <a:pt x="100" y="0"/>
                        </a:lnTo>
                        <a:lnTo>
                          <a:pt x="67" y="0"/>
                        </a:lnTo>
                        <a:lnTo>
                          <a:pt x="34" y="0"/>
                        </a:lnTo>
                        <a:lnTo>
                          <a:pt x="0" y="0"/>
                        </a:lnTo>
                        <a:lnTo>
                          <a:pt x="11" y="22"/>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709"/>
                  <p:cNvSpPr/>
                  <p:nvPr/>
                </p:nvSpPr>
                <p:spPr>
                  <a:xfrm rot="111600">
                    <a:off x="7931880" y="1202760"/>
                    <a:ext cx="12600" cy="26280"/>
                  </a:xfrm>
                  <a:custGeom>
                    <a:avLst/>
                    <a:gdLst>
                      <a:gd name="textAreaLeft" fmla="*/ 0 w 12600"/>
                      <a:gd name="textAreaRight" fmla="*/ 12960 w 12600"/>
                      <a:gd name="textAreaTop" fmla="*/ 0 h 26280"/>
                      <a:gd name="textAreaBottom" fmla="*/ 26640 h 26280"/>
                    </a:gdLst>
                    <a:ahLst/>
                    <a:rect l="textAreaLeft" t="textAreaTop" r="textAreaRight" b="textAreaBottom"/>
                    <a:pathLst>
                      <a:path w="100" h="200">
                        <a:moveTo>
                          <a:pt x="22" y="189"/>
                        </a:moveTo>
                        <a:lnTo>
                          <a:pt x="22" y="167"/>
                        </a:lnTo>
                        <a:lnTo>
                          <a:pt x="22" y="144"/>
                        </a:lnTo>
                        <a:lnTo>
                          <a:pt x="22" y="111"/>
                        </a:lnTo>
                        <a:lnTo>
                          <a:pt x="33" y="89"/>
                        </a:lnTo>
                        <a:lnTo>
                          <a:pt x="45" y="66"/>
                        </a:lnTo>
                        <a:lnTo>
                          <a:pt x="56" y="55"/>
                        </a:lnTo>
                        <a:lnTo>
                          <a:pt x="78" y="33"/>
                        </a:lnTo>
                        <a:lnTo>
                          <a:pt x="100" y="22"/>
                        </a:lnTo>
                        <a:lnTo>
                          <a:pt x="89" y="0"/>
                        </a:lnTo>
                        <a:lnTo>
                          <a:pt x="67" y="11"/>
                        </a:lnTo>
                        <a:lnTo>
                          <a:pt x="45" y="33"/>
                        </a:lnTo>
                        <a:lnTo>
                          <a:pt x="22" y="55"/>
                        </a:lnTo>
                        <a:lnTo>
                          <a:pt x="11" y="78"/>
                        </a:lnTo>
                        <a:lnTo>
                          <a:pt x="0" y="111"/>
                        </a:lnTo>
                        <a:lnTo>
                          <a:pt x="0" y="133"/>
                        </a:lnTo>
                        <a:lnTo>
                          <a:pt x="0" y="167"/>
                        </a:lnTo>
                        <a:lnTo>
                          <a:pt x="0" y="200"/>
                        </a:lnTo>
                        <a:lnTo>
                          <a:pt x="22" y="189"/>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1708"/>
                  <p:cNvSpPr/>
                  <p:nvPr/>
                </p:nvSpPr>
                <p:spPr>
                  <a:xfrm rot="111600">
                    <a:off x="7941960" y="1204200"/>
                    <a:ext cx="2520" cy="1440"/>
                  </a:xfrm>
                  <a:custGeom>
                    <a:avLst/>
                    <a:gdLst>
                      <a:gd name="textAreaLeft" fmla="*/ 0 w 2520"/>
                      <a:gd name="textAreaRight" fmla="*/ 2880 w 2520"/>
                      <a:gd name="textAreaTop" fmla="*/ 0 h 1440"/>
                      <a:gd name="textAreaBottom" fmla="*/ 1800 h 1440"/>
                    </a:gdLst>
                    <a:ahLst/>
                    <a:rect l="textAreaLeft" t="textAreaTop" r="textAreaRight" b="textAreaBottom"/>
                    <a:pathLst>
                      <a:path w="22" h="11">
                        <a:moveTo>
                          <a:pt x="0" y="0"/>
                        </a:moveTo>
                        <a:lnTo>
                          <a:pt x="11" y="11"/>
                        </a:lnTo>
                        <a:lnTo>
                          <a:pt x="22" y="11"/>
                        </a:lnTo>
                        <a:lnTo>
                          <a:pt x="22"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707"/>
                  <p:cNvSpPr/>
                  <p:nvPr/>
                </p:nvSpPr>
                <p:spPr>
                  <a:xfrm rot="111600">
                    <a:off x="7994880" y="1250280"/>
                    <a:ext cx="2520" cy="1440"/>
                  </a:xfrm>
                  <a:custGeom>
                    <a:avLst/>
                    <a:gdLst>
                      <a:gd name="textAreaLeft" fmla="*/ 0 w 2520"/>
                      <a:gd name="textAreaRight" fmla="*/ 2880 w 2520"/>
                      <a:gd name="textAreaTop" fmla="*/ 0 h 1440"/>
                      <a:gd name="textAreaBottom" fmla="*/ 1800 h 1440"/>
                    </a:gdLst>
                    <a:ahLst/>
                    <a:rect l="textAreaLeft" t="textAreaTop" r="textAreaRight" b="textAreaBottom"/>
                    <a:pathLst>
                      <a:path w="22" h="11">
                        <a:moveTo>
                          <a:pt x="22" y="11"/>
                        </a:moveTo>
                        <a:lnTo>
                          <a:pt x="11" y="11"/>
                        </a:lnTo>
                        <a:lnTo>
                          <a:pt x="11" y="0"/>
                        </a:lnTo>
                        <a:lnTo>
                          <a:pt x="0" y="0"/>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706"/>
                  <p:cNvSpPr/>
                  <p:nvPr/>
                </p:nvSpPr>
                <p:spPr>
                  <a:xfrm rot="111600">
                    <a:off x="7974360" y="1251000"/>
                    <a:ext cx="22680" cy="33840"/>
                  </a:xfrm>
                  <a:custGeom>
                    <a:avLst/>
                    <a:gdLst>
                      <a:gd name="textAreaLeft" fmla="*/ 0 w 22680"/>
                      <a:gd name="textAreaRight" fmla="*/ 23040 w 22680"/>
                      <a:gd name="textAreaTop" fmla="*/ 0 h 33840"/>
                      <a:gd name="textAreaBottom" fmla="*/ 34200 h 33840"/>
                    </a:gdLst>
                    <a:ahLst/>
                    <a:rect l="textAreaLeft" t="textAreaTop" r="textAreaRight" b="textAreaBottom"/>
                    <a:pathLst>
                      <a:path w="179" h="257">
                        <a:moveTo>
                          <a:pt x="12" y="257"/>
                        </a:moveTo>
                        <a:lnTo>
                          <a:pt x="12" y="257"/>
                        </a:lnTo>
                        <a:lnTo>
                          <a:pt x="34" y="234"/>
                        </a:lnTo>
                        <a:lnTo>
                          <a:pt x="56" y="212"/>
                        </a:lnTo>
                        <a:lnTo>
                          <a:pt x="90" y="179"/>
                        </a:lnTo>
                        <a:lnTo>
                          <a:pt x="112" y="156"/>
                        </a:lnTo>
                        <a:lnTo>
                          <a:pt x="134" y="123"/>
                        </a:lnTo>
                        <a:lnTo>
                          <a:pt x="145" y="89"/>
                        </a:lnTo>
                        <a:lnTo>
                          <a:pt x="168" y="45"/>
                        </a:lnTo>
                        <a:lnTo>
                          <a:pt x="179" y="0"/>
                        </a:lnTo>
                        <a:lnTo>
                          <a:pt x="157" y="0"/>
                        </a:lnTo>
                        <a:lnTo>
                          <a:pt x="145" y="45"/>
                        </a:lnTo>
                        <a:lnTo>
                          <a:pt x="123" y="78"/>
                        </a:lnTo>
                        <a:lnTo>
                          <a:pt x="112" y="112"/>
                        </a:lnTo>
                        <a:lnTo>
                          <a:pt x="90" y="145"/>
                        </a:lnTo>
                        <a:lnTo>
                          <a:pt x="67" y="167"/>
                        </a:lnTo>
                        <a:lnTo>
                          <a:pt x="45" y="190"/>
                        </a:lnTo>
                        <a:lnTo>
                          <a:pt x="23" y="212"/>
                        </a:lnTo>
                        <a:lnTo>
                          <a:pt x="0" y="245"/>
                        </a:lnTo>
                        <a:lnTo>
                          <a:pt x="12" y="257"/>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705"/>
                  <p:cNvSpPr/>
                  <p:nvPr/>
                </p:nvSpPr>
                <p:spPr>
                  <a:xfrm rot="111600">
                    <a:off x="7911000" y="1282320"/>
                    <a:ext cx="63720" cy="12960"/>
                  </a:xfrm>
                  <a:custGeom>
                    <a:avLst/>
                    <a:gdLst>
                      <a:gd name="textAreaLeft" fmla="*/ 0 w 63720"/>
                      <a:gd name="textAreaRight" fmla="*/ 64080 w 63720"/>
                      <a:gd name="textAreaTop" fmla="*/ 0 h 12960"/>
                      <a:gd name="textAreaBottom" fmla="*/ 13320 h 12960"/>
                    </a:gdLst>
                    <a:ahLst/>
                    <a:rect l="textAreaLeft" t="textAreaTop" r="textAreaRight" b="textAreaBottom"/>
                    <a:pathLst>
                      <a:path w="502" h="101">
                        <a:moveTo>
                          <a:pt x="0" y="23"/>
                        </a:moveTo>
                        <a:lnTo>
                          <a:pt x="0" y="23"/>
                        </a:lnTo>
                        <a:lnTo>
                          <a:pt x="34" y="45"/>
                        </a:lnTo>
                        <a:lnTo>
                          <a:pt x="67" y="67"/>
                        </a:lnTo>
                        <a:lnTo>
                          <a:pt x="100" y="78"/>
                        </a:lnTo>
                        <a:lnTo>
                          <a:pt x="134" y="78"/>
                        </a:lnTo>
                        <a:lnTo>
                          <a:pt x="167" y="90"/>
                        </a:lnTo>
                        <a:lnTo>
                          <a:pt x="212" y="101"/>
                        </a:lnTo>
                        <a:lnTo>
                          <a:pt x="245" y="101"/>
                        </a:lnTo>
                        <a:lnTo>
                          <a:pt x="279" y="90"/>
                        </a:lnTo>
                        <a:lnTo>
                          <a:pt x="312" y="90"/>
                        </a:lnTo>
                        <a:lnTo>
                          <a:pt x="346" y="90"/>
                        </a:lnTo>
                        <a:lnTo>
                          <a:pt x="379" y="78"/>
                        </a:lnTo>
                        <a:lnTo>
                          <a:pt x="401" y="67"/>
                        </a:lnTo>
                        <a:lnTo>
                          <a:pt x="435" y="56"/>
                        </a:lnTo>
                        <a:lnTo>
                          <a:pt x="457" y="45"/>
                        </a:lnTo>
                        <a:lnTo>
                          <a:pt x="479" y="34"/>
                        </a:lnTo>
                        <a:lnTo>
                          <a:pt x="502" y="12"/>
                        </a:lnTo>
                        <a:lnTo>
                          <a:pt x="490" y="0"/>
                        </a:lnTo>
                        <a:lnTo>
                          <a:pt x="468" y="12"/>
                        </a:lnTo>
                        <a:lnTo>
                          <a:pt x="446" y="23"/>
                        </a:lnTo>
                        <a:lnTo>
                          <a:pt x="424" y="34"/>
                        </a:lnTo>
                        <a:lnTo>
                          <a:pt x="401" y="45"/>
                        </a:lnTo>
                        <a:lnTo>
                          <a:pt x="368" y="56"/>
                        </a:lnTo>
                        <a:lnTo>
                          <a:pt x="334" y="67"/>
                        </a:lnTo>
                        <a:lnTo>
                          <a:pt x="312" y="67"/>
                        </a:lnTo>
                        <a:lnTo>
                          <a:pt x="268" y="78"/>
                        </a:lnTo>
                        <a:lnTo>
                          <a:pt x="234" y="78"/>
                        </a:lnTo>
                        <a:lnTo>
                          <a:pt x="201" y="78"/>
                        </a:lnTo>
                        <a:lnTo>
                          <a:pt x="167" y="67"/>
                        </a:lnTo>
                        <a:lnTo>
                          <a:pt x="134" y="67"/>
                        </a:lnTo>
                        <a:lnTo>
                          <a:pt x="100" y="56"/>
                        </a:lnTo>
                        <a:lnTo>
                          <a:pt x="78" y="45"/>
                        </a:lnTo>
                        <a:lnTo>
                          <a:pt x="45" y="23"/>
                        </a:lnTo>
                        <a:lnTo>
                          <a:pt x="11" y="12"/>
                        </a:lnTo>
                        <a:lnTo>
                          <a:pt x="0" y="23"/>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704"/>
                  <p:cNvSpPr/>
                  <p:nvPr/>
                </p:nvSpPr>
                <p:spPr>
                  <a:xfrm rot="111600">
                    <a:off x="7901640" y="1272240"/>
                    <a:ext cx="11160" cy="11520"/>
                  </a:xfrm>
                  <a:custGeom>
                    <a:avLst/>
                    <a:gdLst>
                      <a:gd name="textAreaLeft" fmla="*/ 0 w 11160"/>
                      <a:gd name="textAreaRight" fmla="*/ 11520 w 11160"/>
                      <a:gd name="textAreaTop" fmla="*/ 0 h 11520"/>
                      <a:gd name="textAreaBottom" fmla="*/ 11880 h 11520"/>
                    </a:gdLst>
                    <a:ahLst/>
                    <a:rect l="textAreaLeft" t="textAreaTop" r="textAreaRight" b="textAreaBottom"/>
                    <a:pathLst>
                      <a:path w="89" h="89">
                        <a:moveTo>
                          <a:pt x="0" y="11"/>
                        </a:moveTo>
                        <a:lnTo>
                          <a:pt x="11" y="22"/>
                        </a:lnTo>
                        <a:lnTo>
                          <a:pt x="11" y="33"/>
                        </a:lnTo>
                        <a:lnTo>
                          <a:pt x="22" y="44"/>
                        </a:lnTo>
                        <a:lnTo>
                          <a:pt x="34" y="55"/>
                        </a:lnTo>
                        <a:lnTo>
                          <a:pt x="45" y="66"/>
                        </a:lnTo>
                        <a:lnTo>
                          <a:pt x="56" y="66"/>
                        </a:lnTo>
                        <a:lnTo>
                          <a:pt x="67" y="78"/>
                        </a:lnTo>
                        <a:lnTo>
                          <a:pt x="78" y="89"/>
                        </a:lnTo>
                        <a:lnTo>
                          <a:pt x="89" y="78"/>
                        </a:lnTo>
                        <a:lnTo>
                          <a:pt x="78" y="66"/>
                        </a:lnTo>
                        <a:lnTo>
                          <a:pt x="67" y="55"/>
                        </a:lnTo>
                        <a:lnTo>
                          <a:pt x="56" y="44"/>
                        </a:lnTo>
                        <a:lnTo>
                          <a:pt x="45" y="33"/>
                        </a:lnTo>
                        <a:lnTo>
                          <a:pt x="34" y="33"/>
                        </a:lnTo>
                        <a:lnTo>
                          <a:pt x="34" y="22"/>
                        </a:lnTo>
                        <a:lnTo>
                          <a:pt x="22" y="11"/>
                        </a:lnTo>
                        <a:lnTo>
                          <a:pt x="11" y="0"/>
                        </a:lnTo>
                        <a:lnTo>
                          <a:pt x="0" y="11"/>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703"/>
                  <p:cNvSpPr/>
                  <p:nvPr/>
                </p:nvSpPr>
                <p:spPr>
                  <a:xfrm rot="111600">
                    <a:off x="7911000" y="128304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1" h="11">
                        <a:moveTo>
                          <a:pt x="11" y="0"/>
                        </a:moveTo>
                        <a:lnTo>
                          <a:pt x="0" y="0"/>
                        </a:lnTo>
                        <a:lnTo>
                          <a:pt x="0" y="11"/>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702"/>
                  <p:cNvSpPr/>
                  <p:nvPr/>
                </p:nvSpPr>
                <p:spPr>
                  <a:xfrm rot="111600">
                    <a:off x="7938360" y="1357920"/>
                    <a:ext cx="221760" cy="266040"/>
                  </a:xfrm>
                  <a:custGeom>
                    <a:avLst/>
                    <a:gdLst>
                      <a:gd name="textAreaLeft" fmla="*/ 0 w 221760"/>
                      <a:gd name="textAreaRight" fmla="*/ 222120 w 221760"/>
                      <a:gd name="textAreaTop" fmla="*/ 0 h 266040"/>
                      <a:gd name="textAreaBottom" fmla="*/ 266400 h 266040"/>
                    </a:gdLst>
                    <a:ahLst/>
                    <a:rect l="textAreaLeft" t="textAreaTop" r="textAreaRight" b="textAreaBottom"/>
                    <a:pathLst>
                      <a:path w="1738" h="2017">
                        <a:moveTo>
                          <a:pt x="289" y="122"/>
                        </a:moveTo>
                        <a:lnTo>
                          <a:pt x="323" y="100"/>
                        </a:lnTo>
                        <a:lnTo>
                          <a:pt x="356" y="89"/>
                        </a:lnTo>
                        <a:lnTo>
                          <a:pt x="390" y="78"/>
                        </a:lnTo>
                        <a:lnTo>
                          <a:pt x="434" y="66"/>
                        </a:lnTo>
                        <a:lnTo>
                          <a:pt x="468" y="55"/>
                        </a:lnTo>
                        <a:lnTo>
                          <a:pt x="512" y="44"/>
                        </a:lnTo>
                        <a:lnTo>
                          <a:pt x="546" y="33"/>
                        </a:lnTo>
                        <a:lnTo>
                          <a:pt x="579" y="22"/>
                        </a:lnTo>
                        <a:lnTo>
                          <a:pt x="624" y="22"/>
                        </a:lnTo>
                        <a:lnTo>
                          <a:pt x="657" y="11"/>
                        </a:lnTo>
                        <a:lnTo>
                          <a:pt x="702" y="11"/>
                        </a:lnTo>
                        <a:lnTo>
                          <a:pt x="735" y="0"/>
                        </a:lnTo>
                        <a:lnTo>
                          <a:pt x="780" y="0"/>
                        </a:lnTo>
                        <a:lnTo>
                          <a:pt x="813" y="0"/>
                        </a:lnTo>
                        <a:lnTo>
                          <a:pt x="858" y="0"/>
                        </a:lnTo>
                        <a:lnTo>
                          <a:pt x="902" y="0"/>
                        </a:lnTo>
                        <a:lnTo>
                          <a:pt x="936" y="0"/>
                        </a:lnTo>
                        <a:lnTo>
                          <a:pt x="980" y="0"/>
                        </a:lnTo>
                        <a:lnTo>
                          <a:pt x="1014" y="0"/>
                        </a:lnTo>
                        <a:lnTo>
                          <a:pt x="1058" y="11"/>
                        </a:lnTo>
                        <a:lnTo>
                          <a:pt x="1092" y="11"/>
                        </a:lnTo>
                        <a:lnTo>
                          <a:pt x="1136" y="11"/>
                        </a:lnTo>
                        <a:lnTo>
                          <a:pt x="1181" y="22"/>
                        </a:lnTo>
                        <a:lnTo>
                          <a:pt x="1214" y="33"/>
                        </a:lnTo>
                        <a:lnTo>
                          <a:pt x="1248" y="33"/>
                        </a:lnTo>
                        <a:lnTo>
                          <a:pt x="1292" y="44"/>
                        </a:lnTo>
                        <a:lnTo>
                          <a:pt x="1337" y="55"/>
                        </a:lnTo>
                        <a:lnTo>
                          <a:pt x="1370" y="66"/>
                        </a:lnTo>
                        <a:lnTo>
                          <a:pt x="1415" y="78"/>
                        </a:lnTo>
                        <a:lnTo>
                          <a:pt x="1448" y="89"/>
                        </a:lnTo>
                        <a:lnTo>
                          <a:pt x="1482" y="100"/>
                        </a:lnTo>
                        <a:lnTo>
                          <a:pt x="1526" y="122"/>
                        </a:lnTo>
                        <a:lnTo>
                          <a:pt x="1515" y="167"/>
                        </a:lnTo>
                        <a:lnTo>
                          <a:pt x="1504" y="211"/>
                        </a:lnTo>
                        <a:lnTo>
                          <a:pt x="1493" y="267"/>
                        </a:lnTo>
                        <a:lnTo>
                          <a:pt x="1482" y="323"/>
                        </a:lnTo>
                        <a:lnTo>
                          <a:pt x="1482" y="378"/>
                        </a:lnTo>
                        <a:lnTo>
                          <a:pt x="1482" y="456"/>
                        </a:lnTo>
                        <a:lnTo>
                          <a:pt x="1493" y="546"/>
                        </a:lnTo>
                        <a:lnTo>
                          <a:pt x="1526" y="646"/>
                        </a:lnTo>
                        <a:lnTo>
                          <a:pt x="1560" y="646"/>
                        </a:lnTo>
                        <a:lnTo>
                          <a:pt x="1582" y="635"/>
                        </a:lnTo>
                        <a:lnTo>
                          <a:pt x="1616" y="635"/>
                        </a:lnTo>
                        <a:lnTo>
                          <a:pt x="1638" y="635"/>
                        </a:lnTo>
                        <a:lnTo>
                          <a:pt x="1660" y="635"/>
                        </a:lnTo>
                        <a:lnTo>
                          <a:pt x="1683" y="635"/>
                        </a:lnTo>
                        <a:lnTo>
                          <a:pt x="1705" y="646"/>
                        </a:lnTo>
                        <a:lnTo>
                          <a:pt x="1716" y="668"/>
                        </a:lnTo>
                        <a:lnTo>
                          <a:pt x="1727" y="702"/>
                        </a:lnTo>
                        <a:lnTo>
                          <a:pt x="1738" y="746"/>
                        </a:lnTo>
                        <a:lnTo>
                          <a:pt x="1738" y="802"/>
                        </a:lnTo>
                        <a:lnTo>
                          <a:pt x="1738" y="858"/>
                        </a:lnTo>
                        <a:lnTo>
                          <a:pt x="1738" y="913"/>
                        </a:lnTo>
                        <a:lnTo>
                          <a:pt x="1727" y="969"/>
                        </a:lnTo>
                        <a:lnTo>
                          <a:pt x="1727" y="1025"/>
                        </a:lnTo>
                        <a:lnTo>
                          <a:pt x="1716" y="1069"/>
                        </a:lnTo>
                        <a:lnTo>
                          <a:pt x="1705" y="1081"/>
                        </a:lnTo>
                        <a:lnTo>
                          <a:pt x="1694" y="1092"/>
                        </a:lnTo>
                        <a:lnTo>
                          <a:pt x="1683" y="1092"/>
                        </a:lnTo>
                        <a:lnTo>
                          <a:pt x="1671" y="1103"/>
                        </a:lnTo>
                        <a:lnTo>
                          <a:pt x="1660" y="1103"/>
                        </a:lnTo>
                        <a:lnTo>
                          <a:pt x="1649" y="1114"/>
                        </a:lnTo>
                        <a:lnTo>
                          <a:pt x="1627" y="1114"/>
                        </a:lnTo>
                        <a:lnTo>
                          <a:pt x="1616" y="1125"/>
                        </a:lnTo>
                        <a:lnTo>
                          <a:pt x="1593" y="1125"/>
                        </a:lnTo>
                        <a:lnTo>
                          <a:pt x="1582" y="1136"/>
                        </a:lnTo>
                        <a:lnTo>
                          <a:pt x="1560" y="1136"/>
                        </a:lnTo>
                        <a:lnTo>
                          <a:pt x="1549" y="1136"/>
                        </a:lnTo>
                        <a:lnTo>
                          <a:pt x="1538" y="1148"/>
                        </a:lnTo>
                        <a:lnTo>
                          <a:pt x="1515" y="1148"/>
                        </a:lnTo>
                        <a:lnTo>
                          <a:pt x="1504" y="1148"/>
                        </a:lnTo>
                        <a:lnTo>
                          <a:pt x="1493" y="1148"/>
                        </a:lnTo>
                        <a:lnTo>
                          <a:pt x="1504" y="1226"/>
                        </a:lnTo>
                        <a:lnTo>
                          <a:pt x="1515" y="1292"/>
                        </a:lnTo>
                        <a:lnTo>
                          <a:pt x="1515" y="1359"/>
                        </a:lnTo>
                        <a:lnTo>
                          <a:pt x="1526" y="1415"/>
                        </a:lnTo>
                        <a:lnTo>
                          <a:pt x="1526" y="1471"/>
                        </a:lnTo>
                        <a:lnTo>
                          <a:pt x="1538" y="1538"/>
                        </a:lnTo>
                        <a:lnTo>
                          <a:pt x="1538" y="1593"/>
                        </a:lnTo>
                        <a:lnTo>
                          <a:pt x="1538" y="1638"/>
                        </a:lnTo>
                        <a:lnTo>
                          <a:pt x="1538" y="1694"/>
                        </a:lnTo>
                        <a:lnTo>
                          <a:pt x="1538" y="1738"/>
                        </a:lnTo>
                        <a:lnTo>
                          <a:pt x="1538" y="1772"/>
                        </a:lnTo>
                        <a:lnTo>
                          <a:pt x="1526" y="1805"/>
                        </a:lnTo>
                        <a:lnTo>
                          <a:pt x="1526" y="1839"/>
                        </a:lnTo>
                        <a:lnTo>
                          <a:pt x="1515" y="1861"/>
                        </a:lnTo>
                        <a:lnTo>
                          <a:pt x="1504" y="1883"/>
                        </a:lnTo>
                        <a:lnTo>
                          <a:pt x="1493" y="1894"/>
                        </a:lnTo>
                        <a:lnTo>
                          <a:pt x="1493" y="1905"/>
                        </a:lnTo>
                        <a:lnTo>
                          <a:pt x="1482" y="1917"/>
                        </a:lnTo>
                        <a:lnTo>
                          <a:pt x="1460" y="1928"/>
                        </a:lnTo>
                        <a:lnTo>
                          <a:pt x="1437" y="1928"/>
                        </a:lnTo>
                        <a:lnTo>
                          <a:pt x="1415" y="1939"/>
                        </a:lnTo>
                        <a:lnTo>
                          <a:pt x="1393" y="1950"/>
                        </a:lnTo>
                        <a:lnTo>
                          <a:pt x="1359" y="1961"/>
                        </a:lnTo>
                        <a:lnTo>
                          <a:pt x="1337" y="1972"/>
                        </a:lnTo>
                        <a:lnTo>
                          <a:pt x="1304" y="1972"/>
                        </a:lnTo>
                        <a:lnTo>
                          <a:pt x="1259" y="1983"/>
                        </a:lnTo>
                        <a:lnTo>
                          <a:pt x="1226" y="1995"/>
                        </a:lnTo>
                        <a:lnTo>
                          <a:pt x="1181" y="1995"/>
                        </a:lnTo>
                        <a:lnTo>
                          <a:pt x="1148" y="2006"/>
                        </a:lnTo>
                        <a:lnTo>
                          <a:pt x="1103" y="2006"/>
                        </a:lnTo>
                        <a:lnTo>
                          <a:pt x="1058" y="2006"/>
                        </a:lnTo>
                        <a:lnTo>
                          <a:pt x="1014" y="2017"/>
                        </a:lnTo>
                        <a:lnTo>
                          <a:pt x="969" y="2017"/>
                        </a:lnTo>
                        <a:lnTo>
                          <a:pt x="913" y="2017"/>
                        </a:lnTo>
                        <a:lnTo>
                          <a:pt x="869" y="2017"/>
                        </a:lnTo>
                        <a:lnTo>
                          <a:pt x="824" y="2017"/>
                        </a:lnTo>
                        <a:lnTo>
                          <a:pt x="780" y="2017"/>
                        </a:lnTo>
                        <a:lnTo>
                          <a:pt x="724" y="2017"/>
                        </a:lnTo>
                        <a:lnTo>
                          <a:pt x="679" y="2017"/>
                        </a:lnTo>
                        <a:lnTo>
                          <a:pt x="635" y="2017"/>
                        </a:lnTo>
                        <a:lnTo>
                          <a:pt x="579" y="2006"/>
                        </a:lnTo>
                        <a:lnTo>
                          <a:pt x="535" y="2006"/>
                        </a:lnTo>
                        <a:lnTo>
                          <a:pt x="490" y="2006"/>
                        </a:lnTo>
                        <a:lnTo>
                          <a:pt x="445" y="1995"/>
                        </a:lnTo>
                        <a:lnTo>
                          <a:pt x="401" y="1995"/>
                        </a:lnTo>
                        <a:lnTo>
                          <a:pt x="367" y="1983"/>
                        </a:lnTo>
                        <a:lnTo>
                          <a:pt x="323" y="1972"/>
                        </a:lnTo>
                        <a:lnTo>
                          <a:pt x="289" y="1961"/>
                        </a:lnTo>
                        <a:lnTo>
                          <a:pt x="245" y="1939"/>
                        </a:lnTo>
                        <a:lnTo>
                          <a:pt x="211" y="1894"/>
                        </a:lnTo>
                        <a:lnTo>
                          <a:pt x="200" y="1805"/>
                        </a:lnTo>
                        <a:lnTo>
                          <a:pt x="189" y="1705"/>
                        </a:lnTo>
                        <a:lnTo>
                          <a:pt x="200" y="1582"/>
                        </a:lnTo>
                        <a:lnTo>
                          <a:pt x="211" y="1437"/>
                        </a:lnTo>
                        <a:lnTo>
                          <a:pt x="222" y="1281"/>
                        </a:lnTo>
                        <a:lnTo>
                          <a:pt x="245" y="1114"/>
                        </a:lnTo>
                        <a:lnTo>
                          <a:pt x="222" y="1114"/>
                        </a:lnTo>
                        <a:lnTo>
                          <a:pt x="211" y="1103"/>
                        </a:lnTo>
                        <a:lnTo>
                          <a:pt x="200" y="1103"/>
                        </a:lnTo>
                        <a:lnTo>
                          <a:pt x="178" y="1103"/>
                        </a:lnTo>
                        <a:lnTo>
                          <a:pt x="167" y="1103"/>
                        </a:lnTo>
                        <a:lnTo>
                          <a:pt x="144" y="1103"/>
                        </a:lnTo>
                        <a:lnTo>
                          <a:pt x="133" y="1103"/>
                        </a:lnTo>
                        <a:lnTo>
                          <a:pt x="111" y="1103"/>
                        </a:lnTo>
                        <a:lnTo>
                          <a:pt x="100" y="1092"/>
                        </a:lnTo>
                        <a:lnTo>
                          <a:pt x="89" y="1092"/>
                        </a:lnTo>
                        <a:lnTo>
                          <a:pt x="78" y="1092"/>
                        </a:lnTo>
                        <a:lnTo>
                          <a:pt x="55" y="1092"/>
                        </a:lnTo>
                        <a:lnTo>
                          <a:pt x="44" y="1081"/>
                        </a:lnTo>
                        <a:lnTo>
                          <a:pt x="33" y="1081"/>
                        </a:lnTo>
                        <a:lnTo>
                          <a:pt x="22" y="1069"/>
                        </a:lnTo>
                        <a:lnTo>
                          <a:pt x="22" y="1058"/>
                        </a:lnTo>
                        <a:lnTo>
                          <a:pt x="11" y="1014"/>
                        </a:lnTo>
                        <a:lnTo>
                          <a:pt x="0" y="947"/>
                        </a:lnTo>
                        <a:lnTo>
                          <a:pt x="0" y="880"/>
                        </a:lnTo>
                        <a:lnTo>
                          <a:pt x="0" y="802"/>
                        </a:lnTo>
                        <a:lnTo>
                          <a:pt x="11" y="724"/>
                        </a:lnTo>
                        <a:lnTo>
                          <a:pt x="11" y="657"/>
                        </a:lnTo>
                        <a:lnTo>
                          <a:pt x="22" y="601"/>
                        </a:lnTo>
                        <a:lnTo>
                          <a:pt x="33" y="568"/>
                        </a:lnTo>
                        <a:lnTo>
                          <a:pt x="44" y="557"/>
                        </a:lnTo>
                        <a:lnTo>
                          <a:pt x="55" y="557"/>
                        </a:lnTo>
                        <a:lnTo>
                          <a:pt x="66" y="546"/>
                        </a:lnTo>
                        <a:lnTo>
                          <a:pt x="78" y="546"/>
                        </a:lnTo>
                        <a:lnTo>
                          <a:pt x="89" y="546"/>
                        </a:lnTo>
                        <a:lnTo>
                          <a:pt x="100" y="546"/>
                        </a:lnTo>
                        <a:lnTo>
                          <a:pt x="122" y="535"/>
                        </a:lnTo>
                        <a:lnTo>
                          <a:pt x="133" y="535"/>
                        </a:lnTo>
                        <a:lnTo>
                          <a:pt x="144" y="535"/>
                        </a:lnTo>
                        <a:lnTo>
                          <a:pt x="167" y="546"/>
                        </a:lnTo>
                        <a:lnTo>
                          <a:pt x="178" y="546"/>
                        </a:lnTo>
                        <a:lnTo>
                          <a:pt x="189" y="546"/>
                        </a:lnTo>
                        <a:lnTo>
                          <a:pt x="211" y="546"/>
                        </a:lnTo>
                        <a:lnTo>
                          <a:pt x="222" y="546"/>
                        </a:lnTo>
                        <a:lnTo>
                          <a:pt x="245" y="546"/>
                        </a:lnTo>
                        <a:lnTo>
                          <a:pt x="256" y="546"/>
                        </a:lnTo>
                        <a:lnTo>
                          <a:pt x="267" y="434"/>
                        </a:lnTo>
                        <a:lnTo>
                          <a:pt x="278" y="323"/>
                        </a:lnTo>
                        <a:lnTo>
                          <a:pt x="278" y="211"/>
                        </a:lnTo>
                        <a:lnTo>
                          <a:pt x="289" y="122"/>
                        </a:lnTo>
                        <a:close/>
                      </a:path>
                    </a:pathLst>
                  </a:custGeom>
                  <a:solidFill>
                    <a:srgbClr val="ffebb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701"/>
                  <p:cNvSpPr/>
                  <p:nvPr/>
                </p:nvSpPr>
                <p:spPr>
                  <a:xfrm rot="111600">
                    <a:off x="7978320" y="1356840"/>
                    <a:ext cx="160560" cy="17640"/>
                  </a:xfrm>
                  <a:custGeom>
                    <a:avLst/>
                    <a:gdLst>
                      <a:gd name="textAreaLeft" fmla="*/ 0 w 160560"/>
                      <a:gd name="textAreaRight" fmla="*/ 160920 w 160560"/>
                      <a:gd name="textAreaTop" fmla="*/ 0 h 17640"/>
                      <a:gd name="textAreaBottom" fmla="*/ 18000 h 17640"/>
                    </a:gdLst>
                    <a:ahLst/>
                    <a:rect l="textAreaLeft" t="textAreaTop" r="textAreaRight" b="textAreaBottom"/>
                    <a:pathLst>
                      <a:path w="1260" h="134">
                        <a:moveTo>
                          <a:pt x="1260" y="134"/>
                        </a:moveTo>
                        <a:lnTo>
                          <a:pt x="1248" y="123"/>
                        </a:lnTo>
                        <a:lnTo>
                          <a:pt x="1215" y="101"/>
                        </a:lnTo>
                        <a:lnTo>
                          <a:pt x="1170" y="90"/>
                        </a:lnTo>
                        <a:lnTo>
                          <a:pt x="1137" y="78"/>
                        </a:lnTo>
                        <a:lnTo>
                          <a:pt x="1092" y="67"/>
                        </a:lnTo>
                        <a:lnTo>
                          <a:pt x="1059" y="56"/>
                        </a:lnTo>
                        <a:lnTo>
                          <a:pt x="1014" y="45"/>
                        </a:lnTo>
                        <a:lnTo>
                          <a:pt x="981" y="45"/>
                        </a:lnTo>
                        <a:lnTo>
                          <a:pt x="936" y="34"/>
                        </a:lnTo>
                        <a:lnTo>
                          <a:pt x="903" y="23"/>
                        </a:lnTo>
                        <a:lnTo>
                          <a:pt x="858" y="23"/>
                        </a:lnTo>
                        <a:lnTo>
                          <a:pt x="814" y="12"/>
                        </a:lnTo>
                        <a:lnTo>
                          <a:pt x="780" y="12"/>
                        </a:lnTo>
                        <a:lnTo>
                          <a:pt x="736" y="0"/>
                        </a:lnTo>
                        <a:lnTo>
                          <a:pt x="702" y="0"/>
                        </a:lnTo>
                        <a:lnTo>
                          <a:pt x="658" y="0"/>
                        </a:lnTo>
                        <a:lnTo>
                          <a:pt x="624" y="0"/>
                        </a:lnTo>
                        <a:lnTo>
                          <a:pt x="580" y="0"/>
                        </a:lnTo>
                        <a:lnTo>
                          <a:pt x="535" y="0"/>
                        </a:lnTo>
                        <a:lnTo>
                          <a:pt x="502" y="0"/>
                        </a:lnTo>
                        <a:lnTo>
                          <a:pt x="457" y="12"/>
                        </a:lnTo>
                        <a:lnTo>
                          <a:pt x="424" y="12"/>
                        </a:lnTo>
                        <a:lnTo>
                          <a:pt x="379" y="12"/>
                        </a:lnTo>
                        <a:lnTo>
                          <a:pt x="346" y="23"/>
                        </a:lnTo>
                        <a:lnTo>
                          <a:pt x="301" y="34"/>
                        </a:lnTo>
                        <a:lnTo>
                          <a:pt x="268" y="34"/>
                        </a:lnTo>
                        <a:lnTo>
                          <a:pt x="223" y="45"/>
                        </a:lnTo>
                        <a:lnTo>
                          <a:pt x="190" y="56"/>
                        </a:lnTo>
                        <a:lnTo>
                          <a:pt x="156" y="67"/>
                        </a:lnTo>
                        <a:lnTo>
                          <a:pt x="112" y="78"/>
                        </a:lnTo>
                        <a:lnTo>
                          <a:pt x="78" y="90"/>
                        </a:lnTo>
                        <a:lnTo>
                          <a:pt x="45" y="101"/>
                        </a:lnTo>
                        <a:lnTo>
                          <a:pt x="0" y="123"/>
                        </a:lnTo>
                        <a:lnTo>
                          <a:pt x="11" y="134"/>
                        </a:lnTo>
                        <a:lnTo>
                          <a:pt x="45" y="123"/>
                        </a:lnTo>
                        <a:lnTo>
                          <a:pt x="78" y="112"/>
                        </a:lnTo>
                        <a:lnTo>
                          <a:pt x="123" y="101"/>
                        </a:lnTo>
                        <a:lnTo>
                          <a:pt x="156" y="90"/>
                        </a:lnTo>
                        <a:lnTo>
                          <a:pt x="190" y="78"/>
                        </a:lnTo>
                        <a:lnTo>
                          <a:pt x="234" y="67"/>
                        </a:lnTo>
                        <a:lnTo>
                          <a:pt x="268" y="56"/>
                        </a:lnTo>
                        <a:lnTo>
                          <a:pt x="312" y="45"/>
                        </a:lnTo>
                        <a:lnTo>
                          <a:pt x="346" y="45"/>
                        </a:lnTo>
                        <a:lnTo>
                          <a:pt x="390" y="34"/>
                        </a:lnTo>
                        <a:lnTo>
                          <a:pt x="424" y="34"/>
                        </a:lnTo>
                        <a:lnTo>
                          <a:pt x="457" y="23"/>
                        </a:lnTo>
                        <a:lnTo>
                          <a:pt x="502" y="23"/>
                        </a:lnTo>
                        <a:lnTo>
                          <a:pt x="535" y="23"/>
                        </a:lnTo>
                        <a:lnTo>
                          <a:pt x="580" y="23"/>
                        </a:lnTo>
                        <a:lnTo>
                          <a:pt x="624" y="23"/>
                        </a:lnTo>
                        <a:lnTo>
                          <a:pt x="658" y="23"/>
                        </a:lnTo>
                        <a:lnTo>
                          <a:pt x="702" y="23"/>
                        </a:lnTo>
                        <a:lnTo>
                          <a:pt x="736" y="23"/>
                        </a:lnTo>
                        <a:lnTo>
                          <a:pt x="780" y="23"/>
                        </a:lnTo>
                        <a:lnTo>
                          <a:pt x="814" y="34"/>
                        </a:lnTo>
                        <a:lnTo>
                          <a:pt x="858" y="34"/>
                        </a:lnTo>
                        <a:lnTo>
                          <a:pt x="892" y="45"/>
                        </a:lnTo>
                        <a:lnTo>
                          <a:pt x="936" y="45"/>
                        </a:lnTo>
                        <a:lnTo>
                          <a:pt x="970" y="56"/>
                        </a:lnTo>
                        <a:lnTo>
                          <a:pt x="1014" y="67"/>
                        </a:lnTo>
                        <a:lnTo>
                          <a:pt x="1048" y="78"/>
                        </a:lnTo>
                        <a:lnTo>
                          <a:pt x="1092" y="90"/>
                        </a:lnTo>
                        <a:lnTo>
                          <a:pt x="1126" y="101"/>
                        </a:lnTo>
                        <a:lnTo>
                          <a:pt x="1170" y="112"/>
                        </a:lnTo>
                        <a:lnTo>
                          <a:pt x="1204" y="123"/>
                        </a:lnTo>
                        <a:lnTo>
                          <a:pt x="1237" y="134"/>
                        </a:lnTo>
                        <a:lnTo>
                          <a:pt x="1260" y="134"/>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1700"/>
                  <p:cNvSpPr/>
                  <p:nvPr/>
                </p:nvSpPr>
                <p:spPr>
                  <a:xfrm rot="111600">
                    <a:off x="8129160" y="1377000"/>
                    <a:ext cx="8280" cy="70560"/>
                  </a:xfrm>
                  <a:custGeom>
                    <a:avLst/>
                    <a:gdLst>
                      <a:gd name="textAreaLeft" fmla="*/ 0 w 8280"/>
                      <a:gd name="textAreaRight" fmla="*/ 8640 w 8280"/>
                      <a:gd name="textAreaTop" fmla="*/ 0 h 70560"/>
                      <a:gd name="textAreaBottom" fmla="*/ 70920 h 70560"/>
                    </a:gdLst>
                    <a:ahLst/>
                    <a:rect l="textAreaLeft" t="textAreaTop" r="textAreaRight" b="textAreaBottom"/>
                    <a:pathLst>
                      <a:path w="67" h="535">
                        <a:moveTo>
                          <a:pt x="55" y="513"/>
                        </a:moveTo>
                        <a:lnTo>
                          <a:pt x="67" y="524"/>
                        </a:lnTo>
                        <a:lnTo>
                          <a:pt x="33" y="424"/>
                        </a:lnTo>
                        <a:lnTo>
                          <a:pt x="22" y="334"/>
                        </a:lnTo>
                        <a:lnTo>
                          <a:pt x="11" y="256"/>
                        </a:lnTo>
                        <a:lnTo>
                          <a:pt x="22" y="201"/>
                        </a:lnTo>
                        <a:lnTo>
                          <a:pt x="33" y="145"/>
                        </a:lnTo>
                        <a:lnTo>
                          <a:pt x="44" y="100"/>
                        </a:lnTo>
                        <a:lnTo>
                          <a:pt x="55" y="45"/>
                        </a:lnTo>
                        <a:lnTo>
                          <a:pt x="67" y="0"/>
                        </a:lnTo>
                        <a:lnTo>
                          <a:pt x="44" y="0"/>
                        </a:lnTo>
                        <a:lnTo>
                          <a:pt x="44" y="45"/>
                        </a:lnTo>
                        <a:lnTo>
                          <a:pt x="33" y="89"/>
                        </a:lnTo>
                        <a:lnTo>
                          <a:pt x="11" y="145"/>
                        </a:lnTo>
                        <a:lnTo>
                          <a:pt x="0" y="201"/>
                        </a:lnTo>
                        <a:lnTo>
                          <a:pt x="0" y="256"/>
                        </a:lnTo>
                        <a:lnTo>
                          <a:pt x="0" y="334"/>
                        </a:lnTo>
                        <a:lnTo>
                          <a:pt x="11" y="424"/>
                        </a:lnTo>
                        <a:lnTo>
                          <a:pt x="44" y="524"/>
                        </a:lnTo>
                        <a:lnTo>
                          <a:pt x="55" y="535"/>
                        </a:lnTo>
                        <a:lnTo>
                          <a:pt x="55" y="513"/>
                        </a:lnTo>
                        <a:close/>
                      </a:path>
                    </a:pathLst>
                  </a:custGeom>
                  <a:solidFill>
                    <a:srgbClr val="000000"/>
                  </a:solidFill>
                  <a:ln w="0">
                    <a:noFill/>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699"/>
                  <p:cNvSpPr/>
                  <p:nvPr/>
                </p:nvSpPr>
                <p:spPr>
                  <a:xfrm rot="111600">
                    <a:off x="8134920" y="1443600"/>
                    <a:ext cx="25560" cy="5760"/>
                  </a:xfrm>
                  <a:custGeom>
                    <a:avLst/>
                    <a:gdLst>
                      <a:gd name="textAreaLeft" fmla="*/ 0 w 25560"/>
                      <a:gd name="textAreaRight" fmla="*/ 25920 w 25560"/>
                      <a:gd name="textAreaTop" fmla="*/ 0 h 5760"/>
                      <a:gd name="textAreaBottom" fmla="*/ 6120 h 5760"/>
                    </a:gdLst>
                    <a:ahLst/>
                    <a:rect l="textAreaLeft" t="textAreaTop" r="textAreaRight" b="textAreaBottom"/>
                    <a:pathLst>
                      <a:path w="201" h="44">
                        <a:moveTo>
                          <a:pt x="190" y="33"/>
                        </a:moveTo>
                        <a:lnTo>
                          <a:pt x="201" y="44"/>
                        </a:lnTo>
                        <a:lnTo>
                          <a:pt x="179" y="22"/>
                        </a:lnTo>
                        <a:lnTo>
                          <a:pt x="157" y="0"/>
                        </a:lnTo>
                        <a:lnTo>
                          <a:pt x="134" y="0"/>
                        </a:lnTo>
                        <a:lnTo>
                          <a:pt x="112" y="0"/>
                        </a:lnTo>
                        <a:lnTo>
                          <a:pt x="90" y="0"/>
                        </a:lnTo>
                        <a:lnTo>
                          <a:pt x="56" y="0"/>
                        </a:lnTo>
                        <a:lnTo>
                          <a:pt x="34" y="11"/>
                        </a:lnTo>
                        <a:lnTo>
                          <a:pt x="0" y="11"/>
                        </a:lnTo>
                        <a:lnTo>
                          <a:pt x="0" y="33"/>
                        </a:lnTo>
                        <a:lnTo>
                          <a:pt x="34" y="22"/>
                        </a:lnTo>
                        <a:lnTo>
                          <a:pt x="56" y="22"/>
                        </a:lnTo>
                        <a:lnTo>
                          <a:pt x="90" y="22"/>
                        </a:lnTo>
                        <a:lnTo>
                          <a:pt x="112" y="22"/>
                        </a:lnTo>
                        <a:lnTo>
                          <a:pt x="134" y="22"/>
                        </a:lnTo>
                        <a:lnTo>
                          <a:pt x="157" y="22"/>
                        </a:lnTo>
                        <a:lnTo>
                          <a:pt x="168" y="33"/>
                        </a:lnTo>
                        <a:lnTo>
                          <a:pt x="179" y="44"/>
                        </a:lnTo>
                        <a:lnTo>
                          <a:pt x="190" y="33"/>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1698"/>
                  <p:cNvSpPr/>
                  <p:nvPr/>
                </p:nvSpPr>
                <p:spPr>
                  <a:xfrm rot="111600">
                    <a:off x="8156880" y="1448280"/>
                    <a:ext cx="5400" cy="55800"/>
                  </a:xfrm>
                  <a:custGeom>
                    <a:avLst/>
                    <a:gdLst>
                      <a:gd name="textAreaLeft" fmla="*/ 0 w 5400"/>
                      <a:gd name="textAreaRight" fmla="*/ 5760 w 5400"/>
                      <a:gd name="textAreaTop" fmla="*/ 0 h 55800"/>
                      <a:gd name="textAreaBottom" fmla="*/ 56160 h 55800"/>
                    </a:gdLst>
                    <a:ahLst/>
                    <a:rect l="textAreaLeft" t="textAreaTop" r="textAreaRight" b="textAreaBottom"/>
                    <a:pathLst>
                      <a:path w="44" h="424">
                        <a:moveTo>
                          <a:pt x="11" y="424"/>
                        </a:moveTo>
                        <a:lnTo>
                          <a:pt x="22" y="412"/>
                        </a:lnTo>
                        <a:lnTo>
                          <a:pt x="22" y="368"/>
                        </a:lnTo>
                        <a:lnTo>
                          <a:pt x="33" y="312"/>
                        </a:lnTo>
                        <a:lnTo>
                          <a:pt x="44" y="256"/>
                        </a:lnTo>
                        <a:lnTo>
                          <a:pt x="44" y="201"/>
                        </a:lnTo>
                        <a:lnTo>
                          <a:pt x="44" y="145"/>
                        </a:lnTo>
                        <a:lnTo>
                          <a:pt x="44" y="89"/>
                        </a:lnTo>
                        <a:lnTo>
                          <a:pt x="33" y="45"/>
                        </a:lnTo>
                        <a:lnTo>
                          <a:pt x="11" y="0"/>
                        </a:lnTo>
                        <a:lnTo>
                          <a:pt x="0" y="11"/>
                        </a:lnTo>
                        <a:lnTo>
                          <a:pt x="11" y="45"/>
                        </a:lnTo>
                        <a:lnTo>
                          <a:pt x="22" y="89"/>
                        </a:lnTo>
                        <a:lnTo>
                          <a:pt x="22" y="145"/>
                        </a:lnTo>
                        <a:lnTo>
                          <a:pt x="22" y="201"/>
                        </a:lnTo>
                        <a:lnTo>
                          <a:pt x="22" y="256"/>
                        </a:lnTo>
                        <a:lnTo>
                          <a:pt x="11" y="312"/>
                        </a:lnTo>
                        <a:lnTo>
                          <a:pt x="11" y="368"/>
                        </a:lnTo>
                        <a:lnTo>
                          <a:pt x="0" y="412"/>
                        </a:lnTo>
                        <a:lnTo>
                          <a:pt x="11" y="424"/>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1697"/>
                  <p:cNvSpPr/>
                  <p:nvPr/>
                </p:nvSpPr>
                <p:spPr>
                  <a:xfrm rot="111600">
                    <a:off x="8128440" y="1502280"/>
                    <a:ext cx="28440" cy="11520"/>
                  </a:xfrm>
                  <a:custGeom>
                    <a:avLst/>
                    <a:gdLst>
                      <a:gd name="textAreaLeft" fmla="*/ 0 w 28440"/>
                      <a:gd name="textAreaRight" fmla="*/ 28800 w 28440"/>
                      <a:gd name="textAreaTop" fmla="*/ 0 h 11520"/>
                      <a:gd name="textAreaBottom" fmla="*/ 11880 h 11520"/>
                    </a:gdLst>
                    <a:ahLst/>
                    <a:rect l="textAreaLeft" t="textAreaTop" r="textAreaRight" b="textAreaBottom"/>
                    <a:pathLst>
                      <a:path w="223" h="90">
                        <a:moveTo>
                          <a:pt x="11" y="79"/>
                        </a:moveTo>
                        <a:lnTo>
                          <a:pt x="0" y="90"/>
                        </a:lnTo>
                        <a:lnTo>
                          <a:pt x="11" y="90"/>
                        </a:lnTo>
                        <a:lnTo>
                          <a:pt x="22" y="90"/>
                        </a:lnTo>
                        <a:lnTo>
                          <a:pt x="45" y="79"/>
                        </a:lnTo>
                        <a:lnTo>
                          <a:pt x="56" y="79"/>
                        </a:lnTo>
                        <a:lnTo>
                          <a:pt x="78" y="79"/>
                        </a:lnTo>
                        <a:lnTo>
                          <a:pt x="89" y="79"/>
                        </a:lnTo>
                        <a:lnTo>
                          <a:pt x="111" y="67"/>
                        </a:lnTo>
                        <a:lnTo>
                          <a:pt x="123" y="67"/>
                        </a:lnTo>
                        <a:lnTo>
                          <a:pt x="134" y="56"/>
                        </a:lnTo>
                        <a:lnTo>
                          <a:pt x="156" y="56"/>
                        </a:lnTo>
                        <a:lnTo>
                          <a:pt x="167" y="45"/>
                        </a:lnTo>
                        <a:lnTo>
                          <a:pt x="190" y="45"/>
                        </a:lnTo>
                        <a:lnTo>
                          <a:pt x="201" y="34"/>
                        </a:lnTo>
                        <a:lnTo>
                          <a:pt x="212" y="23"/>
                        </a:lnTo>
                        <a:lnTo>
                          <a:pt x="223" y="12"/>
                        </a:lnTo>
                        <a:lnTo>
                          <a:pt x="212" y="0"/>
                        </a:lnTo>
                        <a:lnTo>
                          <a:pt x="201" y="12"/>
                        </a:lnTo>
                        <a:lnTo>
                          <a:pt x="190" y="12"/>
                        </a:lnTo>
                        <a:lnTo>
                          <a:pt x="178" y="23"/>
                        </a:lnTo>
                        <a:lnTo>
                          <a:pt x="167" y="23"/>
                        </a:lnTo>
                        <a:lnTo>
                          <a:pt x="145" y="34"/>
                        </a:lnTo>
                        <a:lnTo>
                          <a:pt x="134" y="45"/>
                        </a:lnTo>
                        <a:lnTo>
                          <a:pt x="123" y="45"/>
                        </a:lnTo>
                        <a:lnTo>
                          <a:pt x="100" y="45"/>
                        </a:lnTo>
                        <a:lnTo>
                          <a:pt x="89" y="56"/>
                        </a:lnTo>
                        <a:lnTo>
                          <a:pt x="67" y="56"/>
                        </a:lnTo>
                        <a:lnTo>
                          <a:pt x="56" y="67"/>
                        </a:lnTo>
                        <a:lnTo>
                          <a:pt x="45" y="67"/>
                        </a:lnTo>
                        <a:lnTo>
                          <a:pt x="22" y="67"/>
                        </a:lnTo>
                        <a:lnTo>
                          <a:pt x="11" y="67"/>
                        </a:lnTo>
                        <a:lnTo>
                          <a:pt x="0" y="67"/>
                        </a:lnTo>
                        <a:lnTo>
                          <a:pt x="0" y="79"/>
                        </a:lnTo>
                        <a:lnTo>
                          <a:pt x="11" y="7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1696"/>
                  <p:cNvSpPr/>
                  <p:nvPr/>
                </p:nvSpPr>
                <p:spPr>
                  <a:xfrm rot="111600">
                    <a:off x="8127360" y="1512360"/>
                    <a:ext cx="6840" cy="64440"/>
                  </a:xfrm>
                  <a:custGeom>
                    <a:avLst/>
                    <a:gdLst>
                      <a:gd name="textAreaLeft" fmla="*/ 0 w 6840"/>
                      <a:gd name="textAreaRight" fmla="*/ 7200 w 6840"/>
                      <a:gd name="textAreaTop" fmla="*/ 0 h 64440"/>
                      <a:gd name="textAreaBottom" fmla="*/ 64800 h 64440"/>
                    </a:gdLst>
                    <a:ahLst/>
                    <a:rect l="textAreaLeft" t="textAreaTop" r="textAreaRight" b="textAreaBottom"/>
                    <a:pathLst>
                      <a:path w="56" h="490">
                        <a:moveTo>
                          <a:pt x="56" y="490"/>
                        </a:moveTo>
                        <a:lnTo>
                          <a:pt x="56" y="490"/>
                        </a:lnTo>
                        <a:lnTo>
                          <a:pt x="56" y="445"/>
                        </a:lnTo>
                        <a:lnTo>
                          <a:pt x="45" y="390"/>
                        </a:lnTo>
                        <a:lnTo>
                          <a:pt x="45" y="323"/>
                        </a:lnTo>
                        <a:lnTo>
                          <a:pt x="45" y="267"/>
                        </a:lnTo>
                        <a:lnTo>
                          <a:pt x="33" y="211"/>
                        </a:lnTo>
                        <a:lnTo>
                          <a:pt x="22" y="144"/>
                        </a:lnTo>
                        <a:lnTo>
                          <a:pt x="22" y="78"/>
                        </a:lnTo>
                        <a:lnTo>
                          <a:pt x="11" y="0"/>
                        </a:lnTo>
                        <a:lnTo>
                          <a:pt x="0" y="0"/>
                        </a:lnTo>
                        <a:lnTo>
                          <a:pt x="0" y="78"/>
                        </a:lnTo>
                        <a:lnTo>
                          <a:pt x="11" y="144"/>
                        </a:lnTo>
                        <a:lnTo>
                          <a:pt x="11" y="211"/>
                        </a:lnTo>
                        <a:lnTo>
                          <a:pt x="22" y="267"/>
                        </a:lnTo>
                        <a:lnTo>
                          <a:pt x="22" y="323"/>
                        </a:lnTo>
                        <a:lnTo>
                          <a:pt x="33" y="390"/>
                        </a:lnTo>
                        <a:lnTo>
                          <a:pt x="33" y="445"/>
                        </a:lnTo>
                        <a:lnTo>
                          <a:pt x="33" y="490"/>
                        </a:lnTo>
                        <a:lnTo>
                          <a:pt x="56" y="490"/>
                        </a:lnTo>
                        <a:close/>
                      </a:path>
                    </a:pathLst>
                  </a:custGeom>
                  <a:solidFill>
                    <a:srgbClr val="000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1695"/>
                  <p:cNvSpPr/>
                  <p:nvPr/>
                </p:nvSpPr>
                <p:spPr>
                  <a:xfrm rot="111600">
                    <a:off x="8125920" y="1576800"/>
                    <a:ext cx="6840" cy="33480"/>
                  </a:xfrm>
                  <a:custGeom>
                    <a:avLst/>
                    <a:gdLst>
                      <a:gd name="textAreaLeft" fmla="*/ 0 w 6840"/>
                      <a:gd name="textAreaRight" fmla="*/ 7200 w 6840"/>
                      <a:gd name="textAreaTop" fmla="*/ 0 h 33480"/>
                      <a:gd name="textAreaBottom" fmla="*/ 33840 h 33480"/>
                    </a:gdLst>
                    <a:ahLst/>
                    <a:rect l="textAreaLeft" t="textAreaTop" r="textAreaRight" b="textAreaBottom"/>
                    <a:pathLst>
                      <a:path w="56" h="256">
                        <a:moveTo>
                          <a:pt x="11" y="256"/>
                        </a:moveTo>
                        <a:lnTo>
                          <a:pt x="11" y="256"/>
                        </a:lnTo>
                        <a:lnTo>
                          <a:pt x="22" y="245"/>
                        </a:lnTo>
                        <a:lnTo>
                          <a:pt x="33" y="223"/>
                        </a:lnTo>
                        <a:lnTo>
                          <a:pt x="33" y="201"/>
                        </a:lnTo>
                        <a:lnTo>
                          <a:pt x="45" y="167"/>
                        </a:lnTo>
                        <a:lnTo>
                          <a:pt x="56" y="134"/>
                        </a:lnTo>
                        <a:lnTo>
                          <a:pt x="56" y="100"/>
                        </a:lnTo>
                        <a:lnTo>
                          <a:pt x="56" y="56"/>
                        </a:lnTo>
                        <a:lnTo>
                          <a:pt x="56" y="0"/>
                        </a:lnTo>
                        <a:lnTo>
                          <a:pt x="33" y="0"/>
                        </a:lnTo>
                        <a:lnTo>
                          <a:pt x="33" y="56"/>
                        </a:lnTo>
                        <a:lnTo>
                          <a:pt x="33" y="100"/>
                        </a:lnTo>
                        <a:lnTo>
                          <a:pt x="33" y="134"/>
                        </a:lnTo>
                        <a:lnTo>
                          <a:pt x="22" y="167"/>
                        </a:lnTo>
                        <a:lnTo>
                          <a:pt x="22" y="201"/>
                        </a:lnTo>
                        <a:lnTo>
                          <a:pt x="11" y="223"/>
                        </a:lnTo>
                        <a:lnTo>
                          <a:pt x="0" y="234"/>
                        </a:lnTo>
                        <a:lnTo>
                          <a:pt x="0" y="245"/>
                        </a:lnTo>
                        <a:lnTo>
                          <a:pt x="11" y="256"/>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1694"/>
                  <p:cNvSpPr/>
                  <p:nvPr/>
                </p:nvSpPr>
                <p:spPr>
                  <a:xfrm rot="111600">
                    <a:off x="7970400" y="1606680"/>
                    <a:ext cx="156240" cy="19080"/>
                  </a:xfrm>
                  <a:custGeom>
                    <a:avLst/>
                    <a:gdLst>
                      <a:gd name="textAreaLeft" fmla="*/ 0 w 156240"/>
                      <a:gd name="textAreaRight" fmla="*/ 156600 w 156240"/>
                      <a:gd name="textAreaTop" fmla="*/ 0 h 19080"/>
                      <a:gd name="textAreaBottom" fmla="*/ 19440 h 19080"/>
                    </a:gdLst>
                    <a:ahLst/>
                    <a:rect l="textAreaLeft" t="textAreaTop" r="textAreaRight" b="textAreaBottom"/>
                    <a:pathLst>
                      <a:path w="1226" h="145">
                        <a:moveTo>
                          <a:pt x="11" y="89"/>
                        </a:moveTo>
                        <a:lnTo>
                          <a:pt x="0" y="89"/>
                        </a:lnTo>
                        <a:lnTo>
                          <a:pt x="45" y="100"/>
                        </a:lnTo>
                        <a:lnTo>
                          <a:pt x="78" y="112"/>
                        </a:lnTo>
                        <a:lnTo>
                          <a:pt x="123" y="112"/>
                        </a:lnTo>
                        <a:lnTo>
                          <a:pt x="167" y="123"/>
                        </a:lnTo>
                        <a:lnTo>
                          <a:pt x="212" y="123"/>
                        </a:lnTo>
                        <a:lnTo>
                          <a:pt x="257" y="134"/>
                        </a:lnTo>
                        <a:lnTo>
                          <a:pt x="301" y="134"/>
                        </a:lnTo>
                        <a:lnTo>
                          <a:pt x="357" y="145"/>
                        </a:lnTo>
                        <a:lnTo>
                          <a:pt x="401" y="145"/>
                        </a:lnTo>
                        <a:lnTo>
                          <a:pt x="446" y="145"/>
                        </a:lnTo>
                        <a:lnTo>
                          <a:pt x="502" y="145"/>
                        </a:lnTo>
                        <a:lnTo>
                          <a:pt x="546" y="145"/>
                        </a:lnTo>
                        <a:lnTo>
                          <a:pt x="591" y="145"/>
                        </a:lnTo>
                        <a:lnTo>
                          <a:pt x="635" y="145"/>
                        </a:lnTo>
                        <a:lnTo>
                          <a:pt x="691" y="145"/>
                        </a:lnTo>
                        <a:lnTo>
                          <a:pt x="736" y="134"/>
                        </a:lnTo>
                        <a:lnTo>
                          <a:pt x="780" y="134"/>
                        </a:lnTo>
                        <a:lnTo>
                          <a:pt x="825" y="134"/>
                        </a:lnTo>
                        <a:lnTo>
                          <a:pt x="870" y="123"/>
                        </a:lnTo>
                        <a:lnTo>
                          <a:pt x="903" y="123"/>
                        </a:lnTo>
                        <a:lnTo>
                          <a:pt x="948" y="112"/>
                        </a:lnTo>
                        <a:lnTo>
                          <a:pt x="981" y="112"/>
                        </a:lnTo>
                        <a:lnTo>
                          <a:pt x="1026" y="100"/>
                        </a:lnTo>
                        <a:lnTo>
                          <a:pt x="1059" y="100"/>
                        </a:lnTo>
                        <a:lnTo>
                          <a:pt x="1092" y="89"/>
                        </a:lnTo>
                        <a:lnTo>
                          <a:pt x="1115" y="78"/>
                        </a:lnTo>
                        <a:lnTo>
                          <a:pt x="1137" y="67"/>
                        </a:lnTo>
                        <a:lnTo>
                          <a:pt x="1170" y="56"/>
                        </a:lnTo>
                        <a:lnTo>
                          <a:pt x="1182" y="45"/>
                        </a:lnTo>
                        <a:lnTo>
                          <a:pt x="1204" y="34"/>
                        </a:lnTo>
                        <a:lnTo>
                          <a:pt x="1215" y="22"/>
                        </a:lnTo>
                        <a:lnTo>
                          <a:pt x="1226" y="11"/>
                        </a:lnTo>
                        <a:lnTo>
                          <a:pt x="1215" y="0"/>
                        </a:lnTo>
                        <a:lnTo>
                          <a:pt x="1204" y="11"/>
                        </a:lnTo>
                        <a:lnTo>
                          <a:pt x="1193" y="22"/>
                        </a:lnTo>
                        <a:lnTo>
                          <a:pt x="1182" y="34"/>
                        </a:lnTo>
                        <a:lnTo>
                          <a:pt x="1159" y="45"/>
                        </a:lnTo>
                        <a:lnTo>
                          <a:pt x="1137" y="45"/>
                        </a:lnTo>
                        <a:lnTo>
                          <a:pt x="1115" y="56"/>
                        </a:lnTo>
                        <a:lnTo>
                          <a:pt x="1081" y="67"/>
                        </a:lnTo>
                        <a:lnTo>
                          <a:pt x="1048" y="78"/>
                        </a:lnTo>
                        <a:lnTo>
                          <a:pt x="1014" y="78"/>
                        </a:lnTo>
                        <a:lnTo>
                          <a:pt x="981" y="89"/>
                        </a:lnTo>
                        <a:lnTo>
                          <a:pt x="948" y="100"/>
                        </a:lnTo>
                        <a:lnTo>
                          <a:pt x="903" y="100"/>
                        </a:lnTo>
                        <a:lnTo>
                          <a:pt x="870" y="112"/>
                        </a:lnTo>
                        <a:lnTo>
                          <a:pt x="825" y="112"/>
                        </a:lnTo>
                        <a:lnTo>
                          <a:pt x="780" y="112"/>
                        </a:lnTo>
                        <a:lnTo>
                          <a:pt x="736" y="123"/>
                        </a:lnTo>
                        <a:lnTo>
                          <a:pt x="691" y="123"/>
                        </a:lnTo>
                        <a:lnTo>
                          <a:pt x="635" y="123"/>
                        </a:lnTo>
                        <a:lnTo>
                          <a:pt x="591" y="123"/>
                        </a:lnTo>
                        <a:lnTo>
                          <a:pt x="546" y="123"/>
                        </a:lnTo>
                        <a:lnTo>
                          <a:pt x="502" y="123"/>
                        </a:lnTo>
                        <a:lnTo>
                          <a:pt x="446" y="123"/>
                        </a:lnTo>
                        <a:lnTo>
                          <a:pt x="401" y="123"/>
                        </a:lnTo>
                        <a:lnTo>
                          <a:pt x="357" y="123"/>
                        </a:lnTo>
                        <a:lnTo>
                          <a:pt x="301" y="123"/>
                        </a:lnTo>
                        <a:lnTo>
                          <a:pt x="257" y="112"/>
                        </a:lnTo>
                        <a:lnTo>
                          <a:pt x="212" y="112"/>
                        </a:lnTo>
                        <a:lnTo>
                          <a:pt x="167" y="100"/>
                        </a:lnTo>
                        <a:lnTo>
                          <a:pt x="123" y="100"/>
                        </a:lnTo>
                        <a:lnTo>
                          <a:pt x="89" y="89"/>
                        </a:lnTo>
                        <a:lnTo>
                          <a:pt x="45" y="78"/>
                        </a:lnTo>
                        <a:lnTo>
                          <a:pt x="11" y="67"/>
                        </a:lnTo>
                        <a:lnTo>
                          <a:pt x="11" y="89"/>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1693"/>
                  <p:cNvSpPr/>
                  <p:nvPr/>
                </p:nvSpPr>
                <p:spPr>
                  <a:xfrm rot="111600">
                    <a:off x="7960320" y="1500840"/>
                    <a:ext cx="12600" cy="114480"/>
                  </a:xfrm>
                  <a:custGeom>
                    <a:avLst/>
                    <a:gdLst>
                      <a:gd name="textAreaLeft" fmla="*/ 0 w 12600"/>
                      <a:gd name="textAreaRight" fmla="*/ 12960 w 12600"/>
                      <a:gd name="textAreaTop" fmla="*/ 0 h 114480"/>
                      <a:gd name="textAreaBottom" fmla="*/ 114840 h 114480"/>
                    </a:gdLst>
                    <a:ahLst/>
                    <a:rect l="textAreaLeft" t="textAreaTop" r="textAreaRight" b="textAreaBottom"/>
                    <a:pathLst>
                      <a:path w="100" h="869">
                        <a:moveTo>
                          <a:pt x="56" y="22"/>
                        </a:moveTo>
                        <a:lnTo>
                          <a:pt x="45" y="11"/>
                        </a:lnTo>
                        <a:lnTo>
                          <a:pt x="22" y="178"/>
                        </a:lnTo>
                        <a:lnTo>
                          <a:pt x="11" y="334"/>
                        </a:lnTo>
                        <a:lnTo>
                          <a:pt x="0" y="479"/>
                        </a:lnTo>
                        <a:lnTo>
                          <a:pt x="0" y="602"/>
                        </a:lnTo>
                        <a:lnTo>
                          <a:pt x="0" y="702"/>
                        </a:lnTo>
                        <a:lnTo>
                          <a:pt x="11" y="791"/>
                        </a:lnTo>
                        <a:lnTo>
                          <a:pt x="45" y="847"/>
                        </a:lnTo>
                        <a:lnTo>
                          <a:pt x="100" y="869"/>
                        </a:lnTo>
                        <a:lnTo>
                          <a:pt x="100" y="847"/>
                        </a:lnTo>
                        <a:lnTo>
                          <a:pt x="56" y="836"/>
                        </a:lnTo>
                        <a:lnTo>
                          <a:pt x="33" y="791"/>
                        </a:lnTo>
                        <a:lnTo>
                          <a:pt x="22" y="702"/>
                        </a:lnTo>
                        <a:lnTo>
                          <a:pt x="11" y="602"/>
                        </a:lnTo>
                        <a:lnTo>
                          <a:pt x="22" y="479"/>
                        </a:lnTo>
                        <a:lnTo>
                          <a:pt x="33" y="334"/>
                        </a:lnTo>
                        <a:lnTo>
                          <a:pt x="45" y="178"/>
                        </a:lnTo>
                        <a:lnTo>
                          <a:pt x="67" y="11"/>
                        </a:lnTo>
                        <a:lnTo>
                          <a:pt x="56" y="0"/>
                        </a:ln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1692"/>
                  <p:cNvSpPr/>
                  <p:nvPr/>
                </p:nvSpPr>
                <p:spPr>
                  <a:xfrm rot="111600">
                    <a:off x="7939800" y="1494720"/>
                    <a:ext cx="29520" cy="8640"/>
                  </a:xfrm>
                  <a:custGeom>
                    <a:avLst/>
                    <a:gdLst>
                      <a:gd name="textAreaLeft" fmla="*/ 0 w 29520"/>
                      <a:gd name="textAreaRight" fmla="*/ 29880 w 29520"/>
                      <a:gd name="textAreaTop" fmla="*/ 0 h 8640"/>
                      <a:gd name="textAreaBottom" fmla="*/ 9000 h 8640"/>
                    </a:gdLst>
                    <a:ahLst/>
                    <a:rect l="textAreaLeft" t="textAreaTop" r="textAreaRight" b="textAreaBottom"/>
                    <a:pathLst>
                      <a:path w="234" h="67">
                        <a:moveTo>
                          <a:pt x="0" y="0"/>
                        </a:moveTo>
                        <a:lnTo>
                          <a:pt x="0" y="11"/>
                        </a:lnTo>
                        <a:lnTo>
                          <a:pt x="11" y="23"/>
                        </a:lnTo>
                        <a:lnTo>
                          <a:pt x="22" y="23"/>
                        </a:lnTo>
                        <a:lnTo>
                          <a:pt x="33" y="34"/>
                        </a:lnTo>
                        <a:lnTo>
                          <a:pt x="44" y="34"/>
                        </a:lnTo>
                        <a:lnTo>
                          <a:pt x="55" y="45"/>
                        </a:lnTo>
                        <a:lnTo>
                          <a:pt x="78" y="45"/>
                        </a:lnTo>
                        <a:lnTo>
                          <a:pt x="89" y="45"/>
                        </a:lnTo>
                        <a:lnTo>
                          <a:pt x="100" y="45"/>
                        </a:lnTo>
                        <a:lnTo>
                          <a:pt x="122" y="56"/>
                        </a:lnTo>
                        <a:lnTo>
                          <a:pt x="133" y="56"/>
                        </a:lnTo>
                        <a:lnTo>
                          <a:pt x="156" y="56"/>
                        </a:lnTo>
                        <a:lnTo>
                          <a:pt x="167" y="56"/>
                        </a:lnTo>
                        <a:lnTo>
                          <a:pt x="189" y="56"/>
                        </a:lnTo>
                        <a:lnTo>
                          <a:pt x="200" y="56"/>
                        </a:lnTo>
                        <a:lnTo>
                          <a:pt x="211" y="56"/>
                        </a:lnTo>
                        <a:lnTo>
                          <a:pt x="234" y="67"/>
                        </a:lnTo>
                        <a:lnTo>
                          <a:pt x="234" y="45"/>
                        </a:lnTo>
                        <a:lnTo>
                          <a:pt x="223" y="45"/>
                        </a:lnTo>
                        <a:lnTo>
                          <a:pt x="200" y="34"/>
                        </a:lnTo>
                        <a:lnTo>
                          <a:pt x="189" y="34"/>
                        </a:lnTo>
                        <a:lnTo>
                          <a:pt x="167" y="34"/>
                        </a:lnTo>
                        <a:lnTo>
                          <a:pt x="156" y="34"/>
                        </a:lnTo>
                        <a:lnTo>
                          <a:pt x="133" y="34"/>
                        </a:lnTo>
                        <a:lnTo>
                          <a:pt x="122" y="34"/>
                        </a:lnTo>
                        <a:lnTo>
                          <a:pt x="100" y="34"/>
                        </a:lnTo>
                        <a:lnTo>
                          <a:pt x="89" y="34"/>
                        </a:lnTo>
                        <a:lnTo>
                          <a:pt x="78" y="23"/>
                        </a:lnTo>
                        <a:lnTo>
                          <a:pt x="67" y="23"/>
                        </a:lnTo>
                        <a:lnTo>
                          <a:pt x="55" y="23"/>
                        </a:lnTo>
                        <a:lnTo>
                          <a:pt x="44" y="11"/>
                        </a:lnTo>
                        <a:lnTo>
                          <a:pt x="33" y="11"/>
                        </a:lnTo>
                        <a:lnTo>
                          <a:pt x="22" y="0"/>
                        </a:lnTo>
                        <a:lnTo>
                          <a:pt x="11" y="0"/>
                        </a:lnTo>
                        <a:lnTo>
                          <a:pt x="0" y="0"/>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1691"/>
                  <p:cNvSpPr/>
                  <p:nvPr/>
                </p:nvSpPr>
                <p:spPr>
                  <a:xfrm rot="111600">
                    <a:off x="7938360" y="1427760"/>
                    <a:ext cx="6840" cy="65880"/>
                  </a:xfrm>
                  <a:custGeom>
                    <a:avLst/>
                    <a:gdLst>
                      <a:gd name="textAreaLeft" fmla="*/ 0 w 6840"/>
                      <a:gd name="textAreaRight" fmla="*/ 7200 w 6840"/>
                      <a:gd name="textAreaTop" fmla="*/ 0 h 65880"/>
                      <a:gd name="textAreaBottom" fmla="*/ 66240 h 65880"/>
                    </a:gdLst>
                    <a:ahLst/>
                    <a:rect l="textAreaLeft" t="textAreaTop" r="textAreaRight" b="textAreaBottom"/>
                    <a:pathLst>
                      <a:path w="56" h="501">
                        <a:moveTo>
                          <a:pt x="45" y="0"/>
                        </a:moveTo>
                        <a:lnTo>
                          <a:pt x="34" y="0"/>
                        </a:lnTo>
                        <a:lnTo>
                          <a:pt x="23" y="44"/>
                        </a:lnTo>
                        <a:lnTo>
                          <a:pt x="23" y="100"/>
                        </a:lnTo>
                        <a:lnTo>
                          <a:pt x="12" y="167"/>
                        </a:lnTo>
                        <a:lnTo>
                          <a:pt x="0" y="245"/>
                        </a:lnTo>
                        <a:lnTo>
                          <a:pt x="0" y="323"/>
                        </a:lnTo>
                        <a:lnTo>
                          <a:pt x="0" y="390"/>
                        </a:lnTo>
                        <a:lnTo>
                          <a:pt x="12" y="457"/>
                        </a:lnTo>
                        <a:lnTo>
                          <a:pt x="23" y="501"/>
                        </a:lnTo>
                        <a:lnTo>
                          <a:pt x="34" y="501"/>
                        </a:lnTo>
                        <a:lnTo>
                          <a:pt x="23" y="457"/>
                        </a:lnTo>
                        <a:lnTo>
                          <a:pt x="23" y="390"/>
                        </a:lnTo>
                        <a:lnTo>
                          <a:pt x="23" y="323"/>
                        </a:lnTo>
                        <a:lnTo>
                          <a:pt x="23" y="245"/>
                        </a:lnTo>
                        <a:lnTo>
                          <a:pt x="23" y="167"/>
                        </a:lnTo>
                        <a:lnTo>
                          <a:pt x="34" y="100"/>
                        </a:lnTo>
                        <a:lnTo>
                          <a:pt x="45" y="44"/>
                        </a:lnTo>
                        <a:lnTo>
                          <a:pt x="56" y="11"/>
                        </a:lnTo>
                        <a:lnTo>
                          <a:pt x="45" y="0"/>
                        </a:lnTo>
                        <a:close/>
                      </a:path>
                    </a:pathLst>
                  </a:custGeom>
                  <a:solidFill>
                    <a:srgbClr val="000000"/>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1690"/>
                  <p:cNvSpPr/>
                  <p:nvPr/>
                </p:nvSpPr>
                <p:spPr>
                  <a:xfrm rot="111600">
                    <a:off x="7944840" y="1425600"/>
                    <a:ext cx="29520" cy="4320"/>
                  </a:xfrm>
                  <a:custGeom>
                    <a:avLst/>
                    <a:gdLst>
                      <a:gd name="textAreaLeft" fmla="*/ 0 w 29520"/>
                      <a:gd name="textAreaRight" fmla="*/ 29880 w 29520"/>
                      <a:gd name="textAreaTop" fmla="*/ 0 h 4320"/>
                      <a:gd name="textAreaBottom" fmla="*/ 4680 h 4320"/>
                    </a:gdLst>
                    <a:ahLst/>
                    <a:rect l="textAreaLeft" t="textAreaTop" r="textAreaRight" b="textAreaBottom"/>
                    <a:pathLst>
                      <a:path w="234" h="33">
                        <a:moveTo>
                          <a:pt x="223" y="11"/>
                        </a:moveTo>
                        <a:lnTo>
                          <a:pt x="223" y="11"/>
                        </a:lnTo>
                        <a:lnTo>
                          <a:pt x="212" y="0"/>
                        </a:lnTo>
                        <a:lnTo>
                          <a:pt x="189" y="0"/>
                        </a:lnTo>
                        <a:lnTo>
                          <a:pt x="178" y="0"/>
                        </a:lnTo>
                        <a:lnTo>
                          <a:pt x="156" y="0"/>
                        </a:lnTo>
                        <a:lnTo>
                          <a:pt x="145" y="0"/>
                        </a:lnTo>
                        <a:lnTo>
                          <a:pt x="134" y="0"/>
                        </a:lnTo>
                        <a:lnTo>
                          <a:pt x="111" y="0"/>
                        </a:lnTo>
                        <a:lnTo>
                          <a:pt x="100" y="0"/>
                        </a:lnTo>
                        <a:lnTo>
                          <a:pt x="89" y="0"/>
                        </a:lnTo>
                        <a:lnTo>
                          <a:pt x="67" y="0"/>
                        </a:lnTo>
                        <a:lnTo>
                          <a:pt x="56" y="0"/>
                        </a:lnTo>
                        <a:lnTo>
                          <a:pt x="45" y="0"/>
                        </a:lnTo>
                        <a:lnTo>
                          <a:pt x="33" y="0"/>
                        </a:lnTo>
                        <a:lnTo>
                          <a:pt x="22" y="11"/>
                        </a:lnTo>
                        <a:lnTo>
                          <a:pt x="11" y="11"/>
                        </a:lnTo>
                        <a:lnTo>
                          <a:pt x="0" y="22"/>
                        </a:lnTo>
                        <a:lnTo>
                          <a:pt x="11" y="33"/>
                        </a:lnTo>
                        <a:lnTo>
                          <a:pt x="22" y="22"/>
                        </a:lnTo>
                        <a:lnTo>
                          <a:pt x="33" y="22"/>
                        </a:lnTo>
                        <a:lnTo>
                          <a:pt x="45" y="22"/>
                        </a:lnTo>
                        <a:lnTo>
                          <a:pt x="56" y="11"/>
                        </a:lnTo>
                        <a:lnTo>
                          <a:pt x="67" y="11"/>
                        </a:lnTo>
                        <a:lnTo>
                          <a:pt x="89" y="11"/>
                        </a:lnTo>
                        <a:lnTo>
                          <a:pt x="100" y="11"/>
                        </a:lnTo>
                        <a:lnTo>
                          <a:pt x="111" y="11"/>
                        </a:lnTo>
                        <a:lnTo>
                          <a:pt x="134" y="11"/>
                        </a:lnTo>
                        <a:lnTo>
                          <a:pt x="145" y="11"/>
                        </a:lnTo>
                        <a:lnTo>
                          <a:pt x="156" y="22"/>
                        </a:lnTo>
                        <a:lnTo>
                          <a:pt x="178" y="22"/>
                        </a:lnTo>
                        <a:lnTo>
                          <a:pt x="189" y="22"/>
                        </a:lnTo>
                        <a:lnTo>
                          <a:pt x="212" y="22"/>
                        </a:lnTo>
                        <a:lnTo>
                          <a:pt x="223" y="22"/>
                        </a:lnTo>
                        <a:lnTo>
                          <a:pt x="234" y="11"/>
                        </a:lnTo>
                        <a:lnTo>
                          <a:pt x="223"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1689"/>
                  <p:cNvSpPr/>
                  <p:nvPr/>
                </p:nvSpPr>
                <p:spPr>
                  <a:xfrm rot="111600">
                    <a:off x="7974360" y="1370520"/>
                    <a:ext cx="3960" cy="57240"/>
                  </a:xfrm>
                  <a:custGeom>
                    <a:avLst/>
                    <a:gdLst>
                      <a:gd name="textAreaLeft" fmla="*/ 0 w 3960"/>
                      <a:gd name="textAreaRight" fmla="*/ 4320 w 3960"/>
                      <a:gd name="textAreaTop" fmla="*/ 0 h 57240"/>
                      <a:gd name="textAreaBottom" fmla="*/ 57600 h 57240"/>
                    </a:gdLst>
                    <a:ahLst/>
                    <a:rect l="textAreaLeft" t="textAreaTop" r="textAreaRight" b="textAreaBottom"/>
                    <a:pathLst>
                      <a:path w="33" h="435">
                        <a:moveTo>
                          <a:pt x="22" y="0"/>
                        </a:moveTo>
                        <a:lnTo>
                          <a:pt x="22" y="11"/>
                        </a:lnTo>
                        <a:lnTo>
                          <a:pt x="22" y="100"/>
                        </a:lnTo>
                        <a:lnTo>
                          <a:pt x="11" y="212"/>
                        </a:lnTo>
                        <a:lnTo>
                          <a:pt x="0" y="323"/>
                        </a:lnTo>
                        <a:lnTo>
                          <a:pt x="0" y="435"/>
                        </a:lnTo>
                        <a:lnTo>
                          <a:pt x="11" y="435"/>
                        </a:lnTo>
                        <a:lnTo>
                          <a:pt x="22" y="323"/>
                        </a:lnTo>
                        <a:lnTo>
                          <a:pt x="33" y="212"/>
                        </a:lnTo>
                        <a:lnTo>
                          <a:pt x="33" y="100"/>
                        </a:lnTo>
                        <a:lnTo>
                          <a:pt x="33" y="11"/>
                        </a:lnTo>
                        <a:lnTo>
                          <a:pt x="22" y="0"/>
                        </a:lnTo>
                        <a:close/>
                      </a:path>
                    </a:pathLst>
                  </a:custGeom>
                  <a:solidFill>
                    <a:srgbClr val="000000"/>
                  </a:soli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688"/>
                  <p:cNvSpPr/>
                  <p:nvPr/>
                </p:nvSpPr>
                <p:spPr>
                  <a:xfrm rot="111600">
                    <a:off x="8071560" y="1504440"/>
                    <a:ext cx="2880" cy="1440"/>
                  </a:xfrm>
                  <a:custGeom>
                    <a:avLst/>
                    <a:gdLst>
                      <a:gd name="textAreaLeft" fmla="*/ 0 w 2880"/>
                      <a:gd name="textAreaRight" fmla="*/ 3240 w 2880"/>
                      <a:gd name="textAreaTop" fmla="*/ 0 h 1440"/>
                      <a:gd name="textAreaBottom" fmla="*/ 1800 h 1440"/>
                    </a:gdLst>
                    <a:ahLst/>
                    <a:rect l="textAreaLeft" t="textAreaTop" r="textAreaRight" b="textAreaBottom"/>
                    <a:pathLst>
                      <a:path w="23" h="11">
                        <a:moveTo>
                          <a:pt x="0" y="0"/>
                        </a:moveTo>
                        <a:lnTo>
                          <a:pt x="0" y="11"/>
                        </a:lnTo>
                        <a:lnTo>
                          <a:pt x="11" y="11"/>
                        </a:lnTo>
                        <a:lnTo>
                          <a:pt x="23"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1687"/>
                  <p:cNvSpPr/>
                  <p:nvPr/>
                </p:nvSpPr>
                <p:spPr>
                  <a:xfrm rot="111600">
                    <a:off x="8062200" y="1480680"/>
                    <a:ext cx="12600" cy="23400"/>
                  </a:xfrm>
                  <a:custGeom>
                    <a:avLst/>
                    <a:gdLst>
                      <a:gd name="textAreaLeft" fmla="*/ 0 w 12600"/>
                      <a:gd name="textAreaRight" fmla="*/ 12960 w 12600"/>
                      <a:gd name="textAreaTop" fmla="*/ 0 h 23400"/>
                      <a:gd name="textAreaBottom" fmla="*/ 23760 h 23400"/>
                    </a:gdLst>
                    <a:ahLst/>
                    <a:rect l="textAreaLeft" t="textAreaTop" r="textAreaRight" b="textAreaBottom"/>
                    <a:pathLst>
                      <a:path w="101" h="178">
                        <a:moveTo>
                          <a:pt x="0" y="22"/>
                        </a:moveTo>
                        <a:lnTo>
                          <a:pt x="0" y="22"/>
                        </a:lnTo>
                        <a:lnTo>
                          <a:pt x="11" y="33"/>
                        </a:lnTo>
                        <a:lnTo>
                          <a:pt x="23" y="44"/>
                        </a:lnTo>
                        <a:lnTo>
                          <a:pt x="34" y="66"/>
                        </a:lnTo>
                        <a:lnTo>
                          <a:pt x="45" y="89"/>
                        </a:lnTo>
                        <a:lnTo>
                          <a:pt x="56" y="111"/>
                        </a:lnTo>
                        <a:lnTo>
                          <a:pt x="67" y="133"/>
                        </a:lnTo>
                        <a:lnTo>
                          <a:pt x="78" y="156"/>
                        </a:lnTo>
                        <a:lnTo>
                          <a:pt x="78" y="178"/>
                        </a:lnTo>
                        <a:lnTo>
                          <a:pt x="101" y="178"/>
                        </a:lnTo>
                        <a:lnTo>
                          <a:pt x="89" y="156"/>
                        </a:lnTo>
                        <a:lnTo>
                          <a:pt x="89" y="122"/>
                        </a:lnTo>
                        <a:lnTo>
                          <a:pt x="78" y="100"/>
                        </a:lnTo>
                        <a:lnTo>
                          <a:pt x="67" y="78"/>
                        </a:lnTo>
                        <a:lnTo>
                          <a:pt x="56" y="55"/>
                        </a:lnTo>
                        <a:lnTo>
                          <a:pt x="34" y="33"/>
                        </a:lnTo>
                        <a:lnTo>
                          <a:pt x="23" y="22"/>
                        </a:lnTo>
                        <a:lnTo>
                          <a:pt x="11" y="0"/>
                        </a:lnTo>
                        <a:lnTo>
                          <a:pt x="0" y="22"/>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1686"/>
                  <p:cNvSpPr/>
                  <p:nvPr/>
                </p:nvSpPr>
                <p:spPr>
                  <a:xfrm rot="111600">
                    <a:off x="8026560" y="1476720"/>
                    <a:ext cx="36720" cy="24840"/>
                  </a:xfrm>
                  <a:custGeom>
                    <a:avLst/>
                    <a:gdLst>
                      <a:gd name="textAreaLeft" fmla="*/ 0 w 36720"/>
                      <a:gd name="textAreaRight" fmla="*/ 37080 w 36720"/>
                      <a:gd name="textAreaTop" fmla="*/ 0 h 24840"/>
                      <a:gd name="textAreaBottom" fmla="*/ 25200 h 24840"/>
                    </a:gdLst>
                    <a:ahLst/>
                    <a:rect l="textAreaLeft" t="textAreaTop" r="textAreaRight" b="textAreaBottom"/>
                    <a:pathLst>
                      <a:path w="289" h="190">
                        <a:moveTo>
                          <a:pt x="22" y="190"/>
                        </a:moveTo>
                        <a:lnTo>
                          <a:pt x="22" y="167"/>
                        </a:lnTo>
                        <a:lnTo>
                          <a:pt x="22" y="145"/>
                        </a:lnTo>
                        <a:lnTo>
                          <a:pt x="33" y="134"/>
                        </a:lnTo>
                        <a:lnTo>
                          <a:pt x="44" y="112"/>
                        </a:lnTo>
                        <a:lnTo>
                          <a:pt x="55" y="89"/>
                        </a:lnTo>
                        <a:lnTo>
                          <a:pt x="66" y="78"/>
                        </a:lnTo>
                        <a:lnTo>
                          <a:pt x="78" y="56"/>
                        </a:lnTo>
                        <a:lnTo>
                          <a:pt x="89" y="45"/>
                        </a:lnTo>
                        <a:lnTo>
                          <a:pt x="111" y="45"/>
                        </a:lnTo>
                        <a:lnTo>
                          <a:pt x="133" y="34"/>
                        </a:lnTo>
                        <a:lnTo>
                          <a:pt x="156" y="23"/>
                        </a:lnTo>
                        <a:lnTo>
                          <a:pt x="167" y="23"/>
                        </a:lnTo>
                        <a:lnTo>
                          <a:pt x="200" y="23"/>
                        </a:lnTo>
                        <a:lnTo>
                          <a:pt x="222" y="23"/>
                        </a:lnTo>
                        <a:lnTo>
                          <a:pt x="245" y="34"/>
                        </a:lnTo>
                        <a:lnTo>
                          <a:pt x="278" y="45"/>
                        </a:lnTo>
                        <a:lnTo>
                          <a:pt x="289" y="23"/>
                        </a:lnTo>
                        <a:lnTo>
                          <a:pt x="256" y="11"/>
                        </a:lnTo>
                        <a:lnTo>
                          <a:pt x="222" y="11"/>
                        </a:lnTo>
                        <a:lnTo>
                          <a:pt x="200" y="0"/>
                        </a:lnTo>
                        <a:lnTo>
                          <a:pt x="167" y="0"/>
                        </a:lnTo>
                        <a:lnTo>
                          <a:pt x="144" y="11"/>
                        </a:lnTo>
                        <a:lnTo>
                          <a:pt x="122" y="11"/>
                        </a:lnTo>
                        <a:lnTo>
                          <a:pt x="100" y="23"/>
                        </a:lnTo>
                        <a:lnTo>
                          <a:pt x="89" y="34"/>
                        </a:lnTo>
                        <a:lnTo>
                          <a:pt x="66" y="45"/>
                        </a:lnTo>
                        <a:lnTo>
                          <a:pt x="44" y="67"/>
                        </a:lnTo>
                        <a:lnTo>
                          <a:pt x="33" y="78"/>
                        </a:lnTo>
                        <a:lnTo>
                          <a:pt x="22" y="101"/>
                        </a:lnTo>
                        <a:lnTo>
                          <a:pt x="11" y="123"/>
                        </a:lnTo>
                        <a:lnTo>
                          <a:pt x="11" y="145"/>
                        </a:lnTo>
                        <a:lnTo>
                          <a:pt x="0" y="167"/>
                        </a:lnTo>
                        <a:lnTo>
                          <a:pt x="0" y="190"/>
                        </a:lnTo>
                        <a:lnTo>
                          <a:pt x="22" y="190"/>
                        </a:lnTo>
                        <a:close/>
                      </a:path>
                    </a:pathLst>
                  </a:custGeom>
                  <a:solidFill>
                    <a:srgbClr val="00000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1685"/>
                  <p:cNvSpPr/>
                  <p:nvPr/>
                </p:nvSpPr>
                <p:spPr>
                  <a:xfrm rot="111600">
                    <a:off x="8061120" y="1482120"/>
                    <a:ext cx="2520" cy="1080"/>
                  </a:xfrm>
                  <a:custGeom>
                    <a:avLst/>
                    <a:gdLst>
                      <a:gd name="textAreaLeft" fmla="*/ 0 w 2520"/>
                      <a:gd name="textAreaRight" fmla="*/ 2880 w 2520"/>
                      <a:gd name="textAreaTop" fmla="*/ 0 h 1080"/>
                      <a:gd name="textAreaBottom" fmla="*/ 1440 h 1080"/>
                    </a:gdLst>
                    <a:ahLst/>
                    <a:rect l="textAreaLeft" t="textAreaTop" r="textAreaRight" b="textAreaBottom"/>
                    <a:pathLst>
                      <a:path w="22" h="11">
                        <a:moveTo>
                          <a:pt x="0" y="0"/>
                        </a:moveTo>
                        <a:lnTo>
                          <a:pt x="11" y="11"/>
                        </a:lnTo>
                        <a:lnTo>
                          <a:pt x="22" y="11"/>
                        </a:lnTo>
                        <a:lnTo>
                          <a:pt x="22"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1684"/>
                  <p:cNvSpPr/>
                  <p:nvPr/>
                </p:nvSpPr>
                <p:spPr>
                  <a:xfrm rot="111600">
                    <a:off x="8006400" y="1549440"/>
                    <a:ext cx="2520" cy="2880"/>
                  </a:xfrm>
                  <a:custGeom>
                    <a:avLst/>
                    <a:gdLst>
                      <a:gd name="textAreaLeft" fmla="*/ 0 w 2520"/>
                      <a:gd name="textAreaRight" fmla="*/ 2880 w 2520"/>
                      <a:gd name="textAreaTop" fmla="*/ 0 h 2880"/>
                      <a:gd name="textAreaBottom" fmla="*/ 3240 h 2880"/>
                    </a:gdLst>
                    <a:ahLst/>
                    <a:rect l="textAreaLeft" t="textAreaTop" r="textAreaRight" b="textAreaBottom"/>
                    <a:pathLst>
                      <a:path w="22" h="22">
                        <a:moveTo>
                          <a:pt x="22" y="11"/>
                        </a:moveTo>
                        <a:lnTo>
                          <a:pt x="11" y="0"/>
                        </a:lnTo>
                        <a:lnTo>
                          <a:pt x="0" y="11"/>
                        </a:lnTo>
                        <a:lnTo>
                          <a:pt x="0" y="22"/>
                        </a:lnTo>
                        <a:lnTo>
                          <a:pt x="22"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1683"/>
                  <p:cNvSpPr/>
                  <p:nvPr/>
                </p:nvSpPr>
                <p:spPr>
                  <a:xfrm rot="111600">
                    <a:off x="8006400" y="1550880"/>
                    <a:ext cx="8280" cy="12960"/>
                  </a:xfrm>
                  <a:custGeom>
                    <a:avLst/>
                    <a:gdLst>
                      <a:gd name="textAreaLeft" fmla="*/ 0 w 8280"/>
                      <a:gd name="textAreaRight" fmla="*/ 8640 w 8280"/>
                      <a:gd name="textAreaTop" fmla="*/ 0 h 12960"/>
                      <a:gd name="textAreaBottom" fmla="*/ 13320 h 12960"/>
                    </a:gdLst>
                    <a:ahLst/>
                    <a:rect l="textAreaLeft" t="textAreaTop" r="textAreaRight" b="textAreaBottom"/>
                    <a:pathLst>
                      <a:path w="67" h="100">
                        <a:moveTo>
                          <a:pt x="67" y="89"/>
                        </a:moveTo>
                        <a:lnTo>
                          <a:pt x="67" y="89"/>
                        </a:lnTo>
                        <a:lnTo>
                          <a:pt x="67" y="78"/>
                        </a:lnTo>
                        <a:lnTo>
                          <a:pt x="55" y="67"/>
                        </a:lnTo>
                        <a:lnTo>
                          <a:pt x="44" y="55"/>
                        </a:lnTo>
                        <a:lnTo>
                          <a:pt x="44" y="44"/>
                        </a:lnTo>
                        <a:lnTo>
                          <a:pt x="33" y="33"/>
                        </a:lnTo>
                        <a:lnTo>
                          <a:pt x="33" y="22"/>
                        </a:lnTo>
                        <a:lnTo>
                          <a:pt x="22" y="11"/>
                        </a:lnTo>
                        <a:lnTo>
                          <a:pt x="22" y="0"/>
                        </a:lnTo>
                        <a:lnTo>
                          <a:pt x="0" y="11"/>
                        </a:lnTo>
                        <a:lnTo>
                          <a:pt x="11" y="22"/>
                        </a:lnTo>
                        <a:lnTo>
                          <a:pt x="11" y="33"/>
                        </a:lnTo>
                        <a:lnTo>
                          <a:pt x="22" y="44"/>
                        </a:lnTo>
                        <a:lnTo>
                          <a:pt x="22" y="55"/>
                        </a:lnTo>
                        <a:lnTo>
                          <a:pt x="33" y="67"/>
                        </a:lnTo>
                        <a:lnTo>
                          <a:pt x="44" y="78"/>
                        </a:lnTo>
                        <a:lnTo>
                          <a:pt x="44" y="89"/>
                        </a:lnTo>
                        <a:lnTo>
                          <a:pt x="55" y="100"/>
                        </a:lnTo>
                        <a:lnTo>
                          <a:pt x="67" y="89"/>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682"/>
                  <p:cNvSpPr/>
                  <p:nvPr/>
                </p:nvSpPr>
                <p:spPr>
                  <a:xfrm rot="111600">
                    <a:off x="8012880" y="1562760"/>
                    <a:ext cx="11160" cy="10080"/>
                  </a:xfrm>
                  <a:custGeom>
                    <a:avLst/>
                    <a:gdLst>
                      <a:gd name="textAreaLeft" fmla="*/ 0 w 11160"/>
                      <a:gd name="textAreaRight" fmla="*/ 11520 w 11160"/>
                      <a:gd name="textAreaTop" fmla="*/ 0 h 10080"/>
                      <a:gd name="textAreaBottom" fmla="*/ 10440 h 10080"/>
                    </a:gdLst>
                    <a:ahLst/>
                    <a:rect l="textAreaLeft" t="textAreaTop" r="textAreaRight" b="textAreaBottom"/>
                    <a:pathLst>
                      <a:path w="90" h="78">
                        <a:moveTo>
                          <a:pt x="90" y="56"/>
                        </a:moveTo>
                        <a:lnTo>
                          <a:pt x="90" y="56"/>
                        </a:lnTo>
                        <a:lnTo>
                          <a:pt x="78" y="56"/>
                        </a:lnTo>
                        <a:lnTo>
                          <a:pt x="67" y="44"/>
                        </a:lnTo>
                        <a:lnTo>
                          <a:pt x="56" y="44"/>
                        </a:lnTo>
                        <a:lnTo>
                          <a:pt x="45" y="33"/>
                        </a:lnTo>
                        <a:lnTo>
                          <a:pt x="34" y="22"/>
                        </a:lnTo>
                        <a:lnTo>
                          <a:pt x="23" y="11"/>
                        </a:lnTo>
                        <a:lnTo>
                          <a:pt x="12" y="0"/>
                        </a:lnTo>
                        <a:lnTo>
                          <a:pt x="0" y="11"/>
                        </a:lnTo>
                        <a:lnTo>
                          <a:pt x="12" y="22"/>
                        </a:lnTo>
                        <a:lnTo>
                          <a:pt x="23" y="33"/>
                        </a:lnTo>
                        <a:lnTo>
                          <a:pt x="34" y="44"/>
                        </a:lnTo>
                        <a:lnTo>
                          <a:pt x="45" y="56"/>
                        </a:lnTo>
                        <a:lnTo>
                          <a:pt x="56" y="67"/>
                        </a:lnTo>
                        <a:lnTo>
                          <a:pt x="67" y="67"/>
                        </a:lnTo>
                        <a:lnTo>
                          <a:pt x="78" y="78"/>
                        </a:lnTo>
                        <a:lnTo>
                          <a:pt x="90" y="56"/>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681"/>
                  <p:cNvSpPr/>
                  <p:nvPr/>
                </p:nvSpPr>
                <p:spPr>
                  <a:xfrm rot="111600">
                    <a:off x="8022600" y="1569600"/>
                    <a:ext cx="48240" cy="8640"/>
                  </a:xfrm>
                  <a:custGeom>
                    <a:avLst/>
                    <a:gdLst>
                      <a:gd name="textAreaLeft" fmla="*/ 0 w 48240"/>
                      <a:gd name="textAreaRight" fmla="*/ 48600 w 48240"/>
                      <a:gd name="textAreaTop" fmla="*/ 0 h 8640"/>
                      <a:gd name="textAreaBottom" fmla="*/ 9000 h 8640"/>
                    </a:gdLst>
                    <a:ahLst/>
                    <a:rect l="textAreaLeft" t="textAreaTop" r="textAreaRight" b="textAreaBottom"/>
                    <a:pathLst>
                      <a:path w="379" h="67">
                        <a:moveTo>
                          <a:pt x="368" y="0"/>
                        </a:moveTo>
                        <a:lnTo>
                          <a:pt x="368" y="0"/>
                        </a:lnTo>
                        <a:lnTo>
                          <a:pt x="346" y="12"/>
                        </a:lnTo>
                        <a:lnTo>
                          <a:pt x="324" y="23"/>
                        </a:lnTo>
                        <a:lnTo>
                          <a:pt x="301" y="34"/>
                        </a:lnTo>
                        <a:lnTo>
                          <a:pt x="279" y="34"/>
                        </a:lnTo>
                        <a:lnTo>
                          <a:pt x="257" y="45"/>
                        </a:lnTo>
                        <a:lnTo>
                          <a:pt x="234" y="45"/>
                        </a:lnTo>
                        <a:lnTo>
                          <a:pt x="212" y="45"/>
                        </a:lnTo>
                        <a:lnTo>
                          <a:pt x="190" y="45"/>
                        </a:lnTo>
                        <a:lnTo>
                          <a:pt x="168" y="45"/>
                        </a:lnTo>
                        <a:lnTo>
                          <a:pt x="145" y="45"/>
                        </a:lnTo>
                        <a:lnTo>
                          <a:pt x="112" y="45"/>
                        </a:lnTo>
                        <a:lnTo>
                          <a:pt x="101" y="45"/>
                        </a:lnTo>
                        <a:lnTo>
                          <a:pt x="67" y="34"/>
                        </a:lnTo>
                        <a:lnTo>
                          <a:pt x="56" y="34"/>
                        </a:lnTo>
                        <a:lnTo>
                          <a:pt x="34" y="23"/>
                        </a:lnTo>
                        <a:lnTo>
                          <a:pt x="12" y="12"/>
                        </a:lnTo>
                        <a:lnTo>
                          <a:pt x="0" y="34"/>
                        </a:lnTo>
                        <a:lnTo>
                          <a:pt x="23" y="45"/>
                        </a:lnTo>
                        <a:lnTo>
                          <a:pt x="45" y="45"/>
                        </a:lnTo>
                        <a:lnTo>
                          <a:pt x="67" y="56"/>
                        </a:lnTo>
                        <a:lnTo>
                          <a:pt x="90" y="56"/>
                        </a:lnTo>
                        <a:lnTo>
                          <a:pt x="112" y="67"/>
                        </a:lnTo>
                        <a:lnTo>
                          <a:pt x="145" y="67"/>
                        </a:lnTo>
                        <a:lnTo>
                          <a:pt x="168" y="67"/>
                        </a:lnTo>
                        <a:lnTo>
                          <a:pt x="190" y="67"/>
                        </a:lnTo>
                        <a:lnTo>
                          <a:pt x="212" y="67"/>
                        </a:lnTo>
                        <a:lnTo>
                          <a:pt x="234" y="67"/>
                        </a:lnTo>
                        <a:lnTo>
                          <a:pt x="268" y="56"/>
                        </a:lnTo>
                        <a:lnTo>
                          <a:pt x="290" y="56"/>
                        </a:lnTo>
                        <a:lnTo>
                          <a:pt x="313" y="45"/>
                        </a:lnTo>
                        <a:lnTo>
                          <a:pt x="335" y="45"/>
                        </a:lnTo>
                        <a:lnTo>
                          <a:pt x="357" y="34"/>
                        </a:lnTo>
                        <a:lnTo>
                          <a:pt x="379" y="23"/>
                        </a:lnTo>
                        <a:lnTo>
                          <a:pt x="368" y="0"/>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680"/>
                  <p:cNvSpPr/>
                  <p:nvPr/>
                </p:nvSpPr>
                <p:spPr>
                  <a:xfrm rot="111600">
                    <a:off x="8070120" y="1554120"/>
                    <a:ext cx="16920" cy="19080"/>
                  </a:xfrm>
                  <a:custGeom>
                    <a:avLst/>
                    <a:gdLst>
                      <a:gd name="textAreaLeft" fmla="*/ 0 w 16920"/>
                      <a:gd name="textAreaRight" fmla="*/ 17280 w 16920"/>
                      <a:gd name="textAreaTop" fmla="*/ 0 h 19080"/>
                      <a:gd name="textAreaBottom" fmla="*/ 19440 h 19080"/>
                    </a:gdLst>
                    <a:ahLst/>
                    <a:rect l="textAreaLeft" t="textAreaTop" r="textAreaRight" b="textAreaBottom"/>
                    <a:pathLst>
                      <a:path w="134" h="145">
                        <a:moveTo>
                          <a:pt x="112" y="0"/>
                        </a:moveTo>
                        <a:lnTo>
                          <a:pt x="101" y="22"/>
                        </a:lnTo>
                        <a:lnTo>
                          <a:pt x="78" y="56"/>
                        </a:lnTo>
                        <a:lnTo>
                          <a:pt x="56" y="78"/>
                        </a:lnTo>
                        <a:lnTo>
                          <a:pt x="34" y="89"/>
                        </a:lnTo>
                        <a:lnTo>
                          <a:pt x="23" y="111"/>
                        </a:lnTo>
                        <a:lnTo>
                          <a:pt x="11" y="122"/>
                        </a:lnTo>
                        <a:lnTo>
                          <a:pt x="0" y="122"/>
                        </a:lnTo>
                        <a:lnTo>
                          <a:pt x="11" y="145"/>
                        </a:lnTo>
                        <a:lnTo>
                          <a:pt x="11" y="134"/>
                        </a:lnTo>
                        <a:lnTo>
                          <a:pt x="23" y="134"/>
                        </a:lnTo>
                        <a:lnTo>
                          <a:pt x="34" y="122"/>
                        </a:lnTo>
                        <a:lnTo>
                          <a:pt x="45" y="100"/>
                        </a:lnTo>
                        <a:lnTo>
                          <a:pt x="67" y="89"/>
                        </a:lnTo>
                        <a:lnTo>
                          <a:pt x="89" y="67"/>
                        </a:lnTo>
                        <a:lnTo>
                          <a:pt x="112" y="33"/>
                        </a:lnTo>
                        <a:lnTo>
                          <a:pt x="134" y="11"/>
                        </a:lnTo>
                        <a:lnTo>
                          <a:pt x="112" y="0"/>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679"/>
                  <p:cNvSpPr/>
                  <p:nvPr/>
                </p:nvSpPr>
                <p:spPr>
                  <a:xfrm rot="111600">
                    <a:off x="8069400" y="1570320"/>
                    <a:ext cx="1080" cy="2880"/>
                  </a:xfrm>
                  <a:custGeom>
                    <a:avLst/>
                    <a:gdLst>
                      <a:gd name="textAreaLeft" fmla="*/ 0 w 1080"/>
                      <a:gd name="textAreaRight" fmla="*/ 1440 w 1080"/>
                      <a:gd name="textAreaTop" fmla="*/ 0 h 2880"/>
                      <a:gd name="textAreaBottom" fmla="*/ 3240 h 2880"/>
                    </a:gdLst>
                    <a:ahLst/>
                    <a:rect l="textAreaLeft" t="textAreaTop" r="textAreaRight" b="textAreaBottom"/>
                    <a:pathLst>
                      <a:path w="11" h="23">
                        <a:moveTo>
                          <a:pt x="11" y="23"/>
                        </a:moveTo>
                        <a:lnTo>
                          <a:pt x="11" y="12"/>
                        </a:lnTo>
                        <a:lnTo>
                          <a:pt x="11" y="0"/>
                        </a:lnTo>
                        <a:lnTo>
                          <a:pt x="0" y="0"/>
                        </a:lnTo>
                        <a:lnTo>
                          <a:pt x="0" y="12"/>
                        </a:lnTo>
                        <a:lnTo>
                          <a:pt x="11" y="23"/>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678"/>
                  <p:cNvSpPr/>
                  <p:nvPr/>
                </p:nvSpPr>
                <p:spPr>
                  <a:xfrm rot="111600">
                    <a:off x="8015760" y="1527840"/>
                    <a:ext cx="2520" cy="1440"/>
                  </a:xfrm>
                  <a:custGeom>
                    <a:avLst/>
                    <a:gdLst>
                      <a:gd name="textAreaLeft" fmla="*/ 0 w 2520"/>
                      <a:gd name="textAreaRight" fmla="*/ 2880 w 2520"/>
                      <a:gd name="textAreaTop" fmla="*/ 0 h 1440"/>
                      <a:gd name="textAreaBottom" fmla="*/ 1800 h 1440"/>
                    </a:gdLst>
                    <a:ahLst/>
                    <a:rect l="textAreaLeft" t="textAreaTop" r="textAreaRight" b="textAreaBottom"/>
                    <a:pathLst>
                      <a:path w="22" h="12">
                        <a:moveTo>
                          <a:pt x="22" y="12"/>
                        </a:moveTo>
                        <a:lnTo>
                          <a:pt x="22" y="0"/>
                        </a:lnTo>
                        <a:lnTo>
                          <a:pt x="11" y="0"/>
                        </a:lnTo>
                        <a:lnTo>
                          <a:pt x="0" y="12"/>
                        </a:lnTo>
                        <a:lnTo>
                          <a:pt x="22" y="12"/>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677"/>
                  <p:cNvSpPr/>
                  <p:nvPr/>
                </p:nvSpPr>
                <p:spPr>
                  <a:xfrm rot="111600">
                    <a:off x="7990920" y="1528560"/>
                    <a:ext cx="27000" cy="37800"/>
                  </a:xfrm>
                  <a:custGeom>
                    <a:avLst/>
                    <a:gdLst>
                      <a:gd name="textAreaLeft" fmla="*/ 0 w 27000"/>
                      <a:gd name="textAreaRight" fmla="*/ 27360 w 27000"/>
                      <a:gd name="textAreaTop" fmla="*/ 0 h 37800"/>
                      <a:gd name="textAreaBottom" fmla="*/ 38160 h 37800"/>
                    </a:gdLst>
                    <a:ahLst/>
                    <a:rect l="textAreaLeft" t="textAreaTop" r="textAreaRight" b="textAreaBottom"/>
                    <a:pathLst>
                      <a:path w="212" h="289">
                        <a:moveTo>
                          <a:pt x="0" y="289"/>
                        </a:moveTo>
                        <a:lnTo>
                          <a:pt x="56" y="256"/>
                        </a:lnTo>
                        <a:lnTo>
                          <a:pt x="100" y="222"/>
                        </a:lnTo>
                        <a:lnTo>
                          <a:pt x="134" y="189"/>
                        </a:lnTo>
                        <a:lnTo>
                          <a:pt x="156" y="144"/>
                        </a:lnTo>
                        <a:lnTo>
                          <a:pt x="178" y="100"/>
                        </a:lnTo>
                        <a:lnTo>
                          <a:pt x="190" y="66"/>
                        </a:lnTo>
                        <a:lnTo>
                          <a:pt x="201" y="33"/>
                        </a:lnTo>
                        <a:lnTo>
                          <a:pt x="212" y="0"/>
                        </a:lnTo>
                        <a:lnTo>
                          <a:pt x="190" y="0"/>
                        </a:lnTo>
                        <a:lnTo>
                          <a:pt x="190" y="22"/>
                        </a:lnTo>
                        <a:lnTo>
                          <a:pt x="178" y="55"/>
                        </a:lnTo>
                        <a:lnTo>
                          <a:pt x="156" y="100"/>
                        </a:lnTo>
                        <a:lnTo>
                          <a:pt x="145" y="133"/>
                        </a:lnTo>
                        <a:lnTo>
                          <a:pt x="123" y="178"/>
                        </a:lnTo>
                        <a:lnTo>
                          <a:pt x="89" y="211"/>
                        </a:lnTo>
                        <a:lnTo>
                          <a:pt x="45" y="245"/>
                        </a:lnTo>
                        <a:lnTo>
                          <a:pt x="0" y="267"/>
                        </a:lnTo>
                        <a:lnTo>
                          <a:pt x="0" y="289"/>
                        </a:lnTo>
                        <a:close/>
                      </a:path>
                    </a:pathLst>
                  </a:custGeom>
                  <a:solidFill>
                    <a:srgbClr val="00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676"/>
                  <p:cNvSpPr/>
                  <p:nvPr/>
                </p:nvSpPr>
                <p:spPr>
                  <a:xfrm rot="111600">
                    <a:off x="8015760" y="1527840"/>
                    <a:ext cx="1080" cy="2880"/>
                  </a:xfrm>
                  <a:custGeom>
                    <a:avLst/>
                    <a:gdLst>
                      <a:gd name="textAreaLeft" fmla="*/ 0 w 1080"/>
                      <a:gd name="textAreaRight" fmla="*/ 1440 w 1080"/>
                      <a:gd name="textAreaTop" fmla="*/ 0 h 2880"/>
                      <a:gd name="textAreaBottom" fmla="*/ 3240 h 2880"/>
                    </a:gdLst>
                    <a:ahLst/>
                    <a:rect l="textAreaLeft" t="textAreaTop" r="textAreaRight" b="textAreaBottom"/>
                    <a:pathLst>
                      <a:path w="11" h="23">
                        <a:moveTo>
                          <a:pt x="11" y="0"/>
                        </a:moveTo>
                        <a:lnTo>
                          <a:pt x="0" y="0"/>
                        </a:lnTo>
                        <a:lnTo>
                          <a:pt x="0" y="12"/>
                        </a:lnTo>
                        <a:lnTo>
                          <a:pt x="11" y="23"/>
                        </a:lnTo>
                        <a:lnTo>
                          <a:pt x="11"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675"/>
                  <p:cNvSpPr/>
                  <p:nvPr/>
                </p:nvSpPr>
                <p:spPr>
                  <a:xfrm rot="111600">
                    <a:off x="8079120" y="1538280"/>
                    <a:ext cx="2520" cy="1080"/>
                  </a:xfrm>
                  <a:custGeom>
                    <a:avLst/>
                    <a:gdLst>
                      <a:gd name="textAreaLeft" fmla="*/ 0 w 2520"/>
                      <a:gd name="textAreaRight" fmla="*/ 2880 w 2520"/>
                      <a:gd name="textAreaTop" fmla="*/ 0 h 1080"/>
                      <a:gd name="textAreaBottom" fmla="*/ 1440 h 1080"/>
                    </a:gdLst>
                    <a:ahLst/>
                    <a:rect l="textAreaLeft" t="textAreaTop" r="textAreaRight" b="textAreaBottom"/>
                    <a:pathLst>
                      <a:path w="22" h="11">
                        <a:moveTo>
                          <a:pt x="22" y="11"/>
                        </a:moveTo>
                        <a:lnTo>
                          <a:pt x="11" y="0"/>
                        </a:lnTo>
                        <a:lnTo>
                          <a:pt x="0" y="0"/>
                        </a:lnTo>
                        <a:lnTo>
                          <a:pt x="0" y="11"/>
                        </a:lnTo>
                        <a:lnTo>
                          <a:pt x="22" y="11"/>
                        </a:lnTo>
                        <a:close/>
                      </a:path>
                    </a:pathLst>
                  </a:custGeom>
                  <a:solidFill>
                    <a:srgbClr val="000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1674"/>
                  <p:cNvSpPr/>
                  <p:nvPr/>
                </p:nvSpPr>
                <p:spPr>
                  <a:xfrm rot="111600">
                    <a:off x="8078760" y="1539720"/>
                    <a:ext cx="21240" cy="26280"/>
                  </a:xfrm>
                  <a:custGeom>
                    <a:avLst/>
                    <a:gdLst>
                      <a:gd name="textAreaLeft" fmla="*/ 0 w 21240"/>
                      <a:gd name="textAreaRight" fmla="*/ 21600 w 21240"/>
                      <a:gd name="textAreaTop" fmla="*/ 0 h 26280"/>
                      <a:gd name="textAreaBottom" fmla="*/ 26640 h 26280"/>
                    </a:gdLst>
                    <a:ahLst/>
                    <a:rect l="textAreaLeft" t="textAreaTop" r="textAreaRight" b="textAreaBottom"/>
                    <a:pathLst>
                      <a:path w="167" h="201">
                        <a:moveTo>
                          <a:pt x="167" y="190"/>
                        </a:moveTo>
                        <a:lnTo>
                          <a:pt x="134" y="168"/>
                        </a:lnTo>
                        <a:lnTo>
                          <a:pt x="112" y="156"/>
                        </a:lnTo>
                        <a:lnTo>
                          <a:pt x="89" y="134"/>
                        </a:lnTo>
                        <a:lnTo>
                          <a:pt x="67" y="112"/>
                        </a:lnTo>
                        <a:lnTo>
                          <a:pt x="56" y="78"/>
                        </a:lnTo>
                        <a:lnTo>
                          <a:pt x="34" y="56"/>
                        </a:lnTo>
                        <a:lnTo>
                          <a:pt x="22" y="23"/>
                        </a:lnTo>
                        <a:lnTo>
                          <a:pt x="22" y="0"/>
                        </a:lnTo>
                        <a:lnTo>
                          <a:pt x="0" y="0"/>
                        </a:lnTo>
                        <a:lnTo>
                          <a:pt x="11" y="34"/>
                        </a:lnTo>
                        <a:lnTo>
                          <a:pt x="22" y="67"/>
                        </a:lnTo>
                        <a:lnTo>
                          <a:pt x="34" y="90"/>
                        </a:lnTo>
                        <a:lnTo>
                          <a:pt x="56" y="123"/>
                        </a:lnTo>
                        <a:lnTo>
                          <a:pt x="78" y="145"/>
                        </a:lnTo>
                        <a:lnTo>
                          <a:pt x="100" y="168"/>
                        </a:lnTo>
                        <a:lnTo>
                          <a:pt x="134" y="190"/>
                        </a:lnTo>
                        <a:lnTo>
                          <a:pt x="167" y="201"/>
                        </a:lnTo>
                        <a:lnTo>
                          <a:pt x="167" y="190"/>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1673"/>
                  <p:cNvSpPr/>
                  <p:nvPr/>
                </p:nvSpPr>
                <p:spPr>
                  <a:xfrm rot="111600">
                    <a:off x="8079120" y="1538280"/>
                    <a:ext cx="2520" cy="2880"/>
                  </a:xfrm>
                  <a:custGeom>
                    <a:avLst/>
                    <a:gdLst>
                      <a:gd name="textAreaLeft" fmla="*/ 0 w 2520"/>
                      <a:gd name="textAreaRight" fmla="*/ 2880 w 2520"/>
                      <a:gd name="textAreaTop" fmla="*/ 0 h 2880"/>
                      <a:gd name="textAreaBottom" fmla="*/ 3240 h 2880"/>
                    </a:gdLst>
                    <a:ahLst/>
                    <a:rect l="textAreaLeft" t="textAreaTop" r="textAreaRight" b="textAreaBottom"/>
                    <a:pathLst>
                      <a:path w="22" h="23">
                        <a:moveTo>
                          <a:pt x="0" y="23"/>
                        </a:moveTo>
                        <a:lnTo>
                          <a:pt x="11" y="11"/>
                        </a:lnTo>
                        <a:lnTo>
                          <a:pt x="22" y="11"/>
                        </a:lnTo>
                        <a:lnTo>
                          <a:pt x="11" y="0"/>
                        </a:lnTo>
                        <a:lnTo>
                          <a:pt x="0" y="23"/>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1672"/>
                  <p:cNvSpPr/>
                  <p:nvPr/>
                </p:nvSpPr>
                <p:spPr>
                  <a:xfrm rot="111600">
                    <a:off x="8066880" y="1437840"/>
                    <a:ext cx="5400" cy="4320"/>
                  </a:xfrm>
                  <a:custGeom>
                    <a:avLst/>
                    <a:gdLst>
                      <a:gd name="textAreaLeft" fmla="*/ 0 w 5400"/>
                      <a:gd name="textAreaRight" fmla="*/ 5760 w 5400"/>
                      <a:gd name="textAreaTop" fmla="*/ 0 h 4320"/>
                      <a:gd name="textAreaBottom" fmla="*/ 4680 h 4320"/>
                    </a:gdLst>
                    <a:ahLst/>
                    <a:rect l="textAreaLeft" t="textAreaTop" r="textAreaRight" b="textAreaBottom"/>
                    <a:pathLst>
                      <a:path w="44" h="34">
                        <a:moveTo>
                          <a:pt x="44" y="12"/>
                        </a:moveTo>
                        <a:lnTo>
                          <a:pt x="33" y="12"/>
                        </a:lnTo>
                        <a:lnTo>
                          <a:pt x="22" y="0"/>
                        </a:lnTo>
                        <a:lnTo>
                          <a:pt x="11" y="12"/>
                        </a:lnTo>
                        <a:lnTo>
                          <a:pt x="0" y="12"/>
                        </a:lnTo>
                        <a:lnTo>
                          <a:pt x="0" y="23"/>
                        </a:lnTo>
                        <a:lnTo>
                          <a:pt x="0" y="34"/>
                        </a:lnTo>
                        <a:lnTo>
                          <a:pt x="44" y="1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671"/>
                  <p:cNvSpPr/>
                  <p:nvPr/>
                </p:nvSpPr>
                <p:spPr>
                  <a:xfrm rot="111600">
                    <a:off x="8066520" y="1439640"/>
                    <a:ext cx="14040" cy="26280"/>
                  </a:xfrm>
                  <a:custGeom>
                    <a:avLst/>
                    <a:gdLst>
                      <a:gd name="textAreaLeft" fmla="*/ 0 w 14040"/>
                      <a:gd name="textAreaRight" fmla="*/ 14400 w 14040"/>
                      <a:gd name="textAreaTop" fmla="*/ 0 h 26280"/>
                      <a:gd name="textAreaBottom" fmla="*/ 26640 h 26280"/>
                    </a:gdLst>
                    <a:ahLst/>
                    <a:rect l="textAreaLeft" t="textAreaTop" r="textAreaRight" b="textAreaBottom"/>
                    <a:pathLst>
                      <a:path w="111" h="200">
                        <a:moveTo>
                          <a:pt x="111" y="200"/>
                        </a:moveTo>
                        <a:lnTo>
                          <a:pt x="111" y="167"/>
                        </a:lnTo>
                        <a:lnTo>
                          <a:pt x="100" y="144"/>
                        </a:lnTo>
                        <a:lnTo>
                          <a:pt x="89" y="122"/>
                        </a:lnTo>
                        <a:lnTo>
                          <a:pt x="78" y="100"/>
                        </a:lnTo>
                        <a:lnTo>
                          <a:pt x="66" y="78"/>
                        </a:lnTo>
                        <a:lnTo>
                          <a:pt x="55" y="44"/>
                        </a:lnTo>
                        <a:lnTo>
                          <a:pt x="55" y="22"/>
                        </a:lnTo>
                        <a:lnTo>
                          <a:pt x="44" y="0"/>
                        </a:lnTo>
                        <a:lnTo>
                          <a:pt x="0" y="22"/>
                        </a:lnTo>
                        <a:lnTo>
                          <a:pt x="11" y="44"/>
                        </a:lnTo>
                        <a:lnTo>
                          <a:pt x="22" y="66"/>
                        </a:lnTo>
                        <a:lnTo>
                          <a:pt x="33" y="89"/>
                        </a:lnTo>
                        <a:lnTo>
                          <a:pt x="44" y="111"/>
                        </a:lnTo>
                        <a:lnTo>
                          <a:pt x="55" y="133"/>
                        </a:lnTo>
                        <a:lnTo>
                          <a:pt x="55" y="156"/>
                        </a:lnTo>
                        <a:lnTo>
                          <a:pt x="66" y="178"/>
                        </a:lnTo>
                        <a:lnTo>
                          <a:pt x="78" y="200"/>
                        </a:lnTo>
                        <a:lnTo>
                          <a:pt x="111" y="200"/>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670"/>
                  <p:cNvSpPr/>
                  <p:nvPr/>
                </p:nvSpPr>
                <p:spPr>
                  <a:xfrm rot="111600">
                    <a:off x="8066880" y="1441080"/>
                    <a:ext cx="5400" cy="2880"/>
                  </a:xfrm>
                  <a:custGeom>
                    <a:avLst/>
                    <a:gdLst>
                      <a:gd name="textAreaLeft" fmla="*/ 0 w 5400"/>
                      <a:gd name="textAreaRight" fmla="*/ 5760 w 5400"/>
                      <a:gd name="textAreaTop" fmla="*/ 0 h 2880"/>
                      <a:gd name="textAreaBottom" fmla="*/ 3240 h 2880"/>
                    </a:gdLst>
                    <a:ahLst/>
                    <a:rect l="textAreaLeft" t="textAreaTop" r="textAreaRight" b="textAreaBottom"/>
                    <a:pathLst>
                      <a:path w="44" h="22">
                        <a:moveTo>
                          <a:pt x="0" y="11"/>
                        </a:moveTo>
                        <a:lnTo>
                          <a:pt x="11" y="11"/>
                        </a:lnTo>
                        <a:lnTo>
                          <a:pt x="11" y="22"/>
                        </a:lnTo>
                        <a:lnTo>
                          <a:pt x="22" y="22"/>
                        </a:lnTo>
                        <a:lnTo>
                          <a:pt x="33" y="22"/>
                        </a:lnTo>
                        <a:lnTo>
                          <a:pt x="44" y="11"/>
                        </a:lnTo>
                        <a:lnTo>
                          <a:pt x="44" y="0"/>
                        </a:lnTo>
                        <a:lnTo>
                          <a:pt x="0"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669"/>
                  <p:cNvSpPr/>
                  <p:nvPr/>
                </p:nvSpPr>
                <p:spPr>
                  <a:xfrm rot="111600">
                    <a:off x="8038440" y="1436760"/>
                    <a:ext cx="3960" cy="2880"/>
                  </a:xfrm>
                  <a:custGeom>
                    <a:avLst/>
                    <a:gdLst>
                      <a:gd name="textAreaLeft" fmla="*/ 0 w 3960"/>
                      <a:gd name="textAreaRight" fmla="*/ 4320 w 3960"/>
                      <a:gd name="textAreaTop" fmla="*/ 0 h 2880"/>
                      <a:gd name="textAreaBottom" fmla="*/ 3240 h 2880"/>
                    </a:gdLst>
                    <a:ahLst/>
                    <a:rect l="textAreaLeft" t="textAreaTop" r="textAreaRight" b="textAreaBottom"/>
                    <a:pathLst>
                      <a:path w="33" h="23">
                        <a:moveTo>
                          <a:pt x="33" y="23"/>
                        </a:moveTo>
                        <a:lnTo>
                          <a:pt x="33" y="12"/>
                        </a:lnTo>
                        <a:lnTo>
                          <a:pt x="33" y="0"/>
                        </a:lnTo>
                        <a:lnTo>
                          <a:pt x="22" y="0"/>
                        </a:lnTo>
                        <a:lnTo>
                          <a:pt x="11" y="0"/>
                        </a:lnTo>
                        <a:lnTo>
                          <a:pt x="0" y="0"/>
                        </a:lnTo>
                        <a:lnTo>
                          <a:pt x="0" y="12"/>
                        </a:lnTo>
                        <a:lnTo>
                          <a:pt x="33" y="23"/>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1668"/>
                  <p:cNvSpPr/>
                  <p:nvPr/>
                </p:nvSpPr>
                <p:spPr>
                  <a:xfrm rot="111600">
                    <a:off x="8028000" y="143856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11" h="167">
                        <a:moveTo>
                          <a:pt x="33" y="167"/>
                        </a:moveTo>
                        <a:lnTo>
                          <a:pt x="44" y="144"/>
                        </a:lnTo>
                        <a:lnTo>
                          <a:pt x="55" y="122"/>
                        </a:lnTo>
                        <a:lnTo>
                          <a:pt x="66" y="111"/>
                        </a:lnTo>
                        <a:lnTo>
                          <a:pt x="78" y="89"/>
                        </a:lnTo>
                        <a:lnTo>
                          <a:pt x="89" y="66"/>
                        </a:lnTo>
                        <a:lnTo>
                          <a:pt x="89" y="44"/>
                        </a:lnTo>
                        <a:lnTo>
                          <a:pt x="100" y="33"/>
                        </a:lnTo>
                        <a:lnTo>
                          <a:pt x="111" y="11"/>
                        </a:lnTo>
                        <a:lnTo>
                          <a:pt x="78" y="0"/>
                        </a:lnTo>
                        <a:lnTo>
                          <a:pt x="66" y="11"/>
                        </a:lnTo>
                        <a:lnTo>
                          <a:pt x="55" y="33"/>
                        </a:lnTo>
                        <a:lnTo>
                          <a:pt x="44" y="55"/>
                        </a:lnTo>
                        <a:lnTo>
                          <a:pt x="33" y="66"/>
                        </a:lnTo>
                        <a:lnTo>
                          <a:pt x="22" y="89"/>
                        </a:lnTo>
                        <a:lnTo>
                          <a:pt x="22" y="111"/>
                        </a:lnTo>
                        <a:lnTo>
                          <a:pt x="11" y="133"/>
                        </a:lnTo>
                        <a:lnTo>
                          <a:pt x="0" y="144"/>
                        </a:lnTo>
                        <a:lnTo>
                          <a:pt x="33" y="167"/>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1667"/>
                  <p:cNvSpPr/>
                  <p:nvPr/>
                </p:nvSpPr>
                <p:spPr>
                  <a:xfrm rot="111600">
                    <a:off x="8038440" y="1438560"/>
                    <a:ext cx="3960" cy="2880"/>
                  </a:xfrm>
                  <a:custGeom>
                    <a:avLst/>
                    <a:gdLst>
                      <a:gd name="textAreaLeft" fmla="*/ 0 w 3960"/>
                      <a:gd name="textAreaRight" fmla="*/ 4320 w 3960"/>
                      <a:gd name="textAreaTop" fmla="*/ 0 h 2880"/>
                      <a:gd name="textAreaBottom" fmla="*/ 3240 h 2880"/>
                    </a:gdLst>
                    <a:ahLst/>
                    <a:rect l="textAreaLeft" t="textAreaTop" r="textAreaRight" b="textAreaBottom"/>
                    <a:pathLst>
                      <a:path w="33" h="22">
                        <a:moveTo>
                          <a:pt x="0" y="0"/>
                        </a:moveTo>
                        <a:lnTo>
                          <a:pt x="0" y="0"/>
                        </a:lnTo>
                        <a:lnTo>
                          <a:pt x="0" y="11"/>
                        </a:lnTo>
                        <a:lnTo>
                          <a:pt x="0" y="22"/>
                        </a:lnTo>
                        <a:lnTo>
                          <a:pt x="11" y="22"/>
                        </a:lnTo>
                        <a:lnTo>
                          <a:pt x="22" y="22"/>
                        </a:lnTo>
                        <a:lnTo>
                          <a:pt x="33" y="22"/>
                        </a:lnTo>
                        <a:lnTo>
                          <a:pt x="33" y="11"/>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666"/>
                  <p:cNvSpPr/>
                  <p:nvPr/>
                </p:nvSpPr>
                <p:spPr>
                  <a:xfrm rot="111600">
                    <a:off x="7946280" y="1305000"/>
                    <a:ext cx="216000" cy="171720"/>
                  </a:xfrm>
                  <a:custGeom>
                    <a:avLst/>
                    <a:gdLst>
                      <a:gd name="textAreaLeft" fmla="*/ 0 w 216000"/>
                      <a:gd name="textAreaRight" fmla="*/ 216360 w 216000"/>
                      <a:gd name="textAreaTop" fmla="*/ 0 h 171720"/>
                      <a:gd name="textAreaBottom" fmla="*/ 172080 h 171720"/>
                    </a:gdLst>
                    <a:ahLst/>
                    <a:rect l="textAreaLeft" t="textAreaTop" r="textAreaRight" b="textAreaBottom"/>
                    <a:pathLst>
                      <a:path w="1694" h="1304">
                        <a:moveTo>
                          <a:pt x="892" y="535"/>
                        </a:moveTo>
                        <a:lnTo>
                          <a:pt x="892" y="558"/>
                        </a:lnTo>
                        <a:lnTo>
                          <a:pt x="880" y="580"/>
                        </a:lnTo>
                        <a:lnTo>
                          <a:pt x="880" y="602"/>
                        </a:lnTo>
                        <a:lnTo>
                          <a:pt x="869" y="624"/>
                        </a:lnTo>
                        <a:lnTo>
                          <a:pt x="858" y="647"/>
                        </a:lnTo>
                        <a:lnTo>
                          <a:pt x="847" y="669"/>
                        </a:lnTo>
                        <a:lnTo>
                          <a:pt x="825" y="691"/>
                        </a:lnTo>
                        <a:lnTo>
                          <a:pt x="802" y="714"/>
                        </a:lnTo>
                        <a:lnTo>
                          <a:pt x="780" y="736"/>
                        </a:lnTo>
                        <a:lnTo>
                          <a:pt x="758" y="769"/>
                        </a:lnTo>
                        <a:lnTo>
                          <a:pt x="747" y="792"/>
                        </a:lnTo>
                        <a:lnTo>
                          <a:pt x="724" y="803"/>
                        </a:lnTo>
                        <a:lnTo>
                          <a:pt x="713" y="825"/>
                        </a:lnTo>
                        <a:lnTo>
                          <a:pt x="691" y="836"/>
                        </a:lnTo>
                        <a:lnTo>
                          <a:pt x="680" y="836"/>
                        </a:lnTo>
                        <a:lnTo>
                          <a:pt x="669" y="836"/>
                        </a:lnTo>
                        <a:lnTo>
                          <a:pt x="658" y="836"/>
                        </a:lnTo>
                        <a:lnTo>
                          <a:pt x="646" y="836"/>
                        </a:lnTo>
                        <a:lnTo>
                          <a:pt x="624" y="825"/>
                        </a:lnTo>
                        <a:lnTo>
                          <a:pt x="613" y="814"/>
                        </a:lnTo>
                        <a:lnTo>
                          <a:pt x="580" y="836"/>
                        </a:lnTo>
                        <a:lnTo>
                          <a:pt x="557" y="858"/>
                        </a:lnTo>
                        <a:lnTo>
                          <a:pt x="535" y="881"/>
                        </a:lnTo>
                        <a:lnTo>
                          <a:pt x="524" y="914"/>
                        </a:lnTo>
                        <a:lnTo>
                          <a:pt x="513" y="937"/>
                        </a:lnTo>
                        <a:lnTo>
                          <a:pt x="502" y="959"/>
                        </a:lnTo>
                        <a:lnTo>
                          <a:pt x="479" y="992"/>
                        </a:lnTo>
                        <a:lnTo>
                          <a:pt x="446" y="1026"/>
                        </a:lnTo>
                        <a:lnTo>
                          <a:pt x="435" y="1015"/>
                        </a:lnTo>
                        <a:lnTo>
                          <a:pt x="424" y="1003"/>
                        </a:lnTo>
                        <a:lnTo>
                          <a:pt x="424" y="981"/>
                        </a:lnTo>
                        <a:lnTo>
                          <a:pt x="412" y="981"/>
                        </a:lnTo>
                        <a:lnTo>
                          <a:pt x="412" y="970"/>
                        </a:lnTo>
                        <a:lnTo>
                          <a:pt x="401" y="959"/>
                        </a:lnTo>
                        <a:lnTo>
                          <a:pt x="401" y="948"/>
                        </a:lnTo>
                        <a:lnTo>
                          <a:pt x="379" y="992"/>
                        </a:lnTo>
                        <a:lnTo>
                          <a:pt x="368" y="1037"/>
                        </a:lnTo>
                        <a:lnTo>
                          <a:pt x="357" y="1070"/>
                        </a:lnTo>
                        <a:lnTo>
                          <a:pt x="334" y="1104"/>
                        </a:lnTo>
                        <a:lnTo>
                          <a:pt x="312" y="1137"/>
                        </a:lnTo>
                        <a:lnTo>
                          <a:pt x="290" y="1171"/>
                        </a:lnTo>
                        <a:lnTo>
                          <a:pt x="256" y="1204"/>
                        </a:lnTo>
                        <a:lnTo>
                          <a:pt x="212" y="1226"/>
                        </a:lnTo>
                        <a:lnTo>
                          <a:pt x="212" y="1159"/>
                        </a:lnTo>
                        <a:lnTo>
                          <a:pt x="201" y="1104"/>
                        </a:lnTo>
                        <a:lnTo>
                          <a:pt x="201" y="1037"/>
                        </a:lnTo>
                        <a:lnTo>
                          <a:pt x="201" y="959"/>
                        </a:lnTo>
                        <a:lnTo>
                          <a:pt x="178" y="959"/>
                        </a:lnTo>
                        <a:lnTo>
                          <a:pt x="167" y="970"/>
                        </a:lnTo>
                        <a:lnTo>
                          <a:pt x="145" y="970"/>
                        </a:lnTo>
                        <a:lnTo>
                          <a:pt x="134" y="970"/>
                        </a:lnTo>
                        <a:lnTo>
                          <a:pt x="111" y="970"/>
                        </a:lnTo>
                        <a:lnTo>
                          <a:pt x="89" y="959"/>
                        </a:lnTo>
                        <a:lnTo>
                          <a:pt x="78" y="959"/>
                        </a:lnTo>
                        <a:lnTo>
                          <a:pt x="56" y="937"/>
                        </a:lnTo>
                        <a:lnTo>
                          <a:pt x="45" y="914"/>
                        </a:lnTo>
                        <a:lnTo>
                          <a:pt x="22" y="881"/>
                        </a:lnTo>
                        <a:lnTo>
                          <a:pt x="11" y="847"/>
                        </a:lnTo>
                        <a:lnTo>
                          <a:pt x="11" y="814"/>
                        </a:lnTo>
                        <a:lnTo>
                          <a:pt x="0" y="792"/>
                        </a:lnTo>
                        <a:lnTo>
                          <a:pt x="0" y="758"/>
                        </a:lnTo>
                        <a:lnTo>
                          <a:pt x="11" y="725"/>
                        </a:lnTo>
                        <a:lnTo>
                          <a:pt x="11" y="702"/>
                        </a:lnTo>
                        <a:lnTo>
                          <a:pt x="22" y="691"/>
                        </a:lnTo>
                        <a:lnTo>
                          <a:pt x="33" y="680"/>
                        </a:lnTo>
                        <a:lnTo>
                          <a:pt x="45" y="680"/>
                        </a:lnTo>
                        <a:lnTo>
                          <a:pt x="45" y="669"/>
                        </a:lnTo>
                        <a:lnTo>
                          <a:pt x="56" y="602"/>
                        </a:lnTo>
                        <a:lnTo>
                          <a:pt x="56" y="535"/>
                        </a:lnTo>
                        <a:lnTo>
                          <a:pt x="56" y="468"/>
                        </a:lnTo>
                        <a:lnTo>
                          <a:pt x="78" y="402"/>
                        </a:lnTo>
                        <a:lnTo>
                          <a:pt x="78" y="379"/>
                        </a:lnTo>
                        <a:lnTo>
                          <a:pt x="100" y="357"/>
                        </a:lnTo>
                        <a:lnTo>
                          <a:pt x="111" y="335"/>
                        </a:lnTo>
                        <a:lnTo>
                          <a:pt x="123" y="312"/>
                        </a:lnTo>
                        <a:lnTo>
                          <a:pt x="145" y="301"/>
                        </a:lnTo>
                        <a:lnTo>
                          <a:pt x="167" y="279"/>
                        </a:lnTo>
                        <a:lnTo>
                          <a:pt x="178" y="257"/>
                        </a:lnTo>
                        <a:lnTo>
                          <a:pt x="201" y="245"/>
                        </a:lnTo>
                        <a:lnTo>
                          <a:pt x="223" y="234"/>
                        </a:lnTo>
                        <a:lnTo>
                          <a:pt x="245" y="212"/>
                        </a:lnTo>
                        <a:lnTo>
                          <a:pt x="279" y="201"/>
                        </a:lnTo>
                        <a:lnTo>
                          <a:pt x="301" y="201"/>
                        </a:lnTo>
                        <a:lnTo>
                          <a:pt x="323" y="190"/>
                        </a:lnTo>
                        <a:lnTo>
                          <a:pt x="346" y="179"/>
                        </a:lnTo>
                        <a:lnTo>
                          <a:pt x="368" y="179"/>
                        </a:lnTo>
                        <a:lnTo>
                          <a:pt x="401" y="179"/>
                        </a:lnTo>
                        <a:lnTo>
                          <a:pt x="401" y="167"/>
                        </a:lnTo>
                        <a:lnTo>
                          <a:pt x="401" y="134"/>
                        </a:lnTo>
                        <a:lnTo>
                          <a:pt x="412" y="112"/>
                        </a:lnTo>
                        <a:lnTo>
                          <a:pt x="424" y="101"/>
                        </a:lnTo>
                        <a:lnTo>
                          <a:pt x="435" y="101"/>
                        </a:lnTo>
                        <a:lnTo>
                          <a:pt x="457" y="101"/>
                        </a:lnTo>
                        <a:lnTo>
                          <a:pt x="490" y="101"/>
                        </a:lnTo>
                        <a:lnTo>
                          <a:pt x="535" y="89"/>
                        </a:lnTo>
                        <a:lnTo>
                          <a:pt x="568" y="89"/>
                        </a:lnTo>
                        <a:lnTo>
                          <a:pt x="602" y="89"/>
                        </a:lnTo>
                        <a:lnTo>
                          <a:pt x="624" y="89"/>
                        </a:lnTo>
                        <a:lnTo>
                          <a:pt x="635" y="89"/>
                        </a:lnTo>
                        <a:lnTo>
                          <a:pt x="635" y="67"/>
                        </a:lnTo>
                        <a:lnTo>
                          <a:pt x="624" y="56"/>
                        </a:lnTo>
                        <a:lnTo>
                          <a:pt x="624" y="23"/>
                        </a:lnTo>
                        <a:lnTo>
                          <a:pt x="613" y="0"/>
                        </a:lnTo>
                        <a:lnTo>
                          <a:pt x="624" y="0"/>
                        </a:lnTo>
                        <a:lnTo>
                          <a:pt x="646" y="0"/>
                        </a:lnTo>
                        <a:lnTo>
                          <a:pt x="658" y="0"/>
                        </a:lnTo>
                        <a:lnTo>
                          <a:pt x="680" y="0"/>
                        </a:lnTo>
                        <a:lnTo>
                          <a:pt x="702" y="11"/>
                        </a:lnTo>
                        <a:lnTo>
                          <a:pt x="724" y="11"/>
                        </a:lnTo>
                        <a:lnTo>
                          <a:pt x="736" y="23"/>
                        </a:lnTo>
                        <a:lnTo>
                          <a:pt x="758" y="34"/>
                        </a:lnTo>
                        <a:lnTo>
                          <a:pt x="780" y="45"/>
                        </a:lnTo>
                        <a:lnTo>
                          <a:pt x="802" y="45"/>
                        </a:lnTo>
                        <a:lnTo>
                          <a:pt x="814" y="56"/>
                        </a:lnTo>
                        <a:lnTo>
                          <a:pt x="836" y="67"/>
                        </a:lnTo>
                        <a:lnTo>
                          <a:pt x="847" y="78"/>
                        </a:lnTo>
                        <a:lnTo>
                          <a:pt x="869" y="89"/>
                        </a:lnTo>
                        <a:lnTo>
                          <a:pt x="880" y="101"/>
                        </a:lnTo>
                        <a:lnTo>
                          <a:pt x="892" y="112"/>
                        </a:lnTo>
                        <a:lnTo>
                          <a:pt x="914" y="101"/>
                        </a:lnTo>
                        <a:lnTo>
                          <a:pt x="925" y="89"/>
                        </a:lnTo>
                        <a:lnTo>
                          <a:pt x="936" y="89"/>
                        </a:lnTo>
                        <a:lnTo>
                          <a:pt x="959" y="78"/>
                        </a:lnTo>
                        <a:lnTo>
                          <a:pt x="970" y="67"/>
                        </a:lnTo>
                        <a:lnTo>
                          <a:pt x="992" y="56"/>
                        </a:lnTo>
                        <a:lnTo>
                          <a:pt x="1003" y="56"/>
                        </a:lnTo>
                        <a:lnTo>
                          <a:pt x="1025" y="45"/>
                        </a:lnTo>
                        <a:lnTo>
                          <a:pt x="1037" y="45"/>
                        </a:lnTo>
                        <a:lnTo>
                          <a:pt x="1059" y="34"/>
                        </a:lnTo>
                        <a:lnTo>
                          <a:pt x="1070" y="34"/>
                        </a:lnTo>
                        <a:lnTo>
                          <a:pt x="1092" y="34"/>
                        </a:lnTo>
                        <a:lnTo>
                          <a:pt x="1115" y="34"/>
                        </a:lnTo>
                        <a:lnTo>
                          <a:pt x="1126" y="23"/>
                        </a:lnTo>
                        <a:lnTo>
                          <a:pt x="1148" y="23"/>
                        </a:lnTo>
                        <a:lnTo>
                          <a:pt x="1170" y="34"/>
                        </a:lnTo>
                        <a:lnTo>
                          <a:pt x="1170" y="45"/>
                        </a:lnTo>
                        <a:lnTo>
                          <a:pt x="1159" y="56"/>
                        </a:lnTo>
                        <a:lnTo>
                          <a:pt x="1148" y="67"/>
                        </a:lnTo>
                        <a:lnTo>
                          <a:pt x="1137" y="89"/>
                        </a:lnTo>
                        <a:lnTo>
                          <a:pt x="1159" y="89"/>
                        </a:lnTo>
                        <a:lnTo>
                          <a:pt x="1170" y="89"/>
                        </a:lnTo>
                        <a:lnTo>
                          <a:pt x="1193" y="89"/>
                        </a:lnTo>
                        <a:lnTo>
                          <a:pt x="1215" y="89"/>
                        </a:lnTo>
                        <a:lnTo>
                          <a:pt x="1237" y="89"/>
                        </a:lnTo>
                        <a:lnTo>
                          <a:pt x="1259" y="89"/>
                        </a:lnTo>
                        <a:lnTo>
                          <a:pt x="1271" y="89"/>
                        </a:lnTo>
                        <a:lnTo>
                          <a:pt x="1293" y="89"/>
                        </a:lnTo>
                        <a:lnTo>
                          <a:pt x="1326" y="101"/>
                        </a:lnTo>
                        <a:lnTo>
                          <a:pt x="1349" y="101"/>
                        </a:lnTo>
                        <a:lnTo>
                          <a:pt x="1371" y="112"/>
                        </a:lnTo>
                        <a:lnTo>
                          <a:pt x="1382" y="123"/>
                        </a:lnTo>
                        <a:lnTo>
                          <a:pt x="1393" y="134"/>
                        </a:lnTo>
                        <a:lnTo>
                          <a:pt x="1415" y="156"/>
                        </a:lnTo>
                        <a:lnTo>
                          <a:pt x="1427" y="179"/>
                        </a:lnTo>
                        <a:lnTo>
                          <a:pt x="1449" y="201"/>
                        </a:lnTo>
                        <a:lnTo>
                          <a:pt x="1449" y="212"/>
                        </a:lnTo>
                        <a:lnTo>
                          <a:pt x="1471" y="223"/>
                        </a:lnTo>
                        <a:lnTo>
                          <a:pt x="1493" y="234"/>
                        </a:lnTo>
                        <a:lnTo>
                          <a:pt x="1516" y="245"/>
                        </a:lnTo>
                        <a:lnTo>
                          <a:pt x="1538" y="257"/>
                        </a:lnTo>
                        <a:lnTo>
                          <a:pt x="1560" y="279"/>
                        </a:lnTo>
                        <a:lnTo>
                          <a:pt x="1571" y="290"/>
                        </a:lnTo>
                        <a:lnTo>
                          <a:pt x="1583" y="312"/>
                        </a:lnTo>
                        <a:lnTo>
                          <a:pt x="1594" y="346"/>
                        </a:lnTo>
                        <a:lnTo>
                          <a:pt x="1594" y="379"/>
                        </a:lnTo>
                        <a:lnTo>
                          <a:pt x="1583" y="424"/>
                        </a:lnTo>
                        <a:lnTo>
                          <a:pt x="1583" y="457"/>
                        </a:lnTo>
                        <a:lnTo>
                          <a:pt x="1594" y="457"/>
                        </a:lnTo>
                        <a:lnTo>
                          <a:pt x="1605" y="468"/>
                        </a:lnTo>
                        <a:lnTo>
                          <a:pt x="1605" y="480"/>
                        </a:lnTo>
                        <a:lnTo>
                          <a:pt x="1616" y="480"/>
                        </a:lnTo>
                        <a:lnTo>
                          <a:pt x="1638" y="535"/>
                        </a:lnTo>
                        <a:lnTo>
                          <a:pt x="1661" y="580"/>
                        </a:lnTo>
                        <a:lnTo>
                          <a:pt x="1683" y="647"/>
                        </a:lnTo>
                        <a:lnTo>
                          <a:pt x="1683" y="702"/>
                        </a:lnTo>
                        <a:lnTo>
                          <a:pt x="1694" y="769"/>
                        </a:lnTo>
                        <a:lnTo>
                          <a:pt x="1683" y="836"/>
                        </a:lnTo>
                        <a:lnTo>
                          <a:pt x="1683" y="892"/>
                        </a:lnTo>
                        <a:lnTo>
                          <a:pt x="1672" y="948"/>
                        </a:lnTo>
                        <a:lnTo>
                          <a:pt x="1661" y="981"/>
                        </a:lnTo>
                        <a:lnTo>
                          <a:pt x="1661" y="1003"/>
                        </a:lnTo>
                        <a:lnTo>
                          <a:pt x="1650" y="1015"/>
                        </a:lnTo>
                        <a:lnTo>
                          <a:pt x="1638" y="1026"/>
                        </a:lnTo>
                        <a:lnTo>
                          <a:pt x="1627" y="1037"/>
                        </a:lnTo>
                        <a:lnTo>
                          <a:pt x="1616" y="1037"/>
                        </a:lnTo>
                        <a:lnTo>
                          <a:pt x="1605" y="1037"/>
                        </a:lnTo>
                        <a:lnTo>
                          <a:pt x="1594" y="1037"/>
                        </a:lnTo>
                        <a:lnTo>
                          <a:pt x="1583" y="1037"/>
                        </a:lnTo>
                        <a:lnTo>
                          <a:pt x="1549" y="1048"/>
                        </a:lnTo>
                        <a:lnTo>
                          <a:pt x="1516" y="1070"/>
                        </a:lnTo>
                        <a:lnTo>
                          <a:pt x="1493" y="1104"/>
                        </a:lnTo>
                        <a:lnTo>
                          <a:pt x="1471" y="1148"/>
                        </a:lnTo>
                        <a:lnTo>
                          <a:pt x="1460" y="1182"/>
                        </a:lnTo>
                        <a:lnTo>
                          <a:pt x="1449" y="1226"/>
                        </a:lnTo>
                        <a:lnTo>
                          <a:pt x="1438" y="1271"/>
                        </a:lnTo>
                        <a:lnTo>
                          <a:pt x="1415" y="1304"/>
                        </a:lnTo>
                        <a:lnTo>
                          <a:pt x="1404" y="1282"/>
                        </a:lnTo>
                        <a:lnTo>
                          <a:pt x="1393" y="1260"/>
                        </a:lnTo>
                        <a:lnTo>
                          <a:pt x="1382" y="1237"/>
                        </a:lnTo>
                        <a:lnTo>
                          <a:pt x="1382" y="1226"/>
                        </a:lnTo>
                        <a:lnTo>
                          <a:pt x="1371" y="1171"/>
                        </a:lnTo>
                        <a:lnTo>
                          <a:pt x="1371" y="1115"/>
                        </a:lnTo>
                        <a:lnTo>
                          <a:pt x="1360" y="1081"/>
                        </a:lnTo>
                        <a:lnTo>
                          <a:pt x="1349" y="1037"/>
                        </a:lnTo>
                        <a:lnTo>
                          <a:pt x="1326" y="1003"/>
                        </a:lnTo>
                        <a:lnTo>
                          <a:pt x="1315" y="970"/>
                        </a:lnTo>
                        <a:lnTo>
                          <a:pt x="1282" y="948"/>
                        </a:lnTo>
                        <a:lnTo>
                          <a:pt x="1259" y="925"/>
                        </a:lnTo>
                        <a:lnTo>
                          <a:pt x="1237" y="903"/>
                        </a:lnTo>
                        <a:lnTo>
                          <a:pt x="1215" y="892"/>
                        </a:lnTo>
                        <a:lnTo>
                          <a:pt x="1204" y="881"/>
                        </a:lnTo>
                        <a:lnTo>
                          <a:pt x="1181" y="870"/>
                        </a:lnTo>
                        <a:lnTo>
                          <a:pt x="1170" y="858"/>
                        </a:lnTo>
                        <a:lnTo>
                          <a:pt x="1148" y="858"/>
                        </a:lnTo>
                        <a:lnTo>
                          <a:pt x="1126" y="858"/>
                        </a:lnTo>
                        <a:lnTo>
                          <a:pt x="1115" y="858"/>
                        </a:lnTo>
                        <a:lnTo>
                          <a:pt x="1103" y="858"/>
                        </a:lnTo>
                        <a:lnTo>
                          <a:pt x="1081" y="847"/>
                        </a:lnTo>
                        <a:lnTo>
                          <a:pt x="1070" y="836"/>
                        </a:lnTo>
                        <a:lnTo>
                          <a:pt x="1048" y="825"/>
                        </a:lnTo>
                        <a:lnTo>
                          <a:pt x="1037" y="814"/>
                        </a:lnTo>
                        <a:lnTo>
                          <a:pt x="1025" y="792"/>
                        </a:lnTo>
                        <a:lnTo>
                          <a:pt x="1025" y="769"/>
                        </a:lnTo>
                        <a:lnTo>
                          <a:pt x="1025" y="747"/>
                        </a:lnTo>
                        <a:lnTo>
                          <a:pt x="1014" y="747"/>
                        </a:lnTo>
                        <a:lnTo>
                          <a:pt x="1003" y="747"/>
                        </a:lnTo>
                        <a:lnTo>
                          <a:pt x="992" y="747"/>
                        </a:lnTo>
                        <a:lnTo>
                          <a:pt x="981" y="747"/>
                        </a:lnTo>
                        <a:lnTo>
                          <a:pt x="970" y="758"/>
                        </a:lnTo>
                        <a:lnTo>
                          <a:pt x="959" y="758"/>
                        </a:lnTo>
                        <a:lnTo>
                          <a:pt x="947" y="736"/>
                        </a:lnTo>
                        <a:lnTo>
                          <a:pt x="936" y="714"/>
                        </a:lnTo>
                        <a:lnTo>
                          <a:pt x="925" y="691"/>
                        </a:lnTo>
                        <a:lnTo>
                          <a:pt x="914" y="658"/>
                        </a:lnTo>
                        <a:lnTo>
                          <a:pt x="903" y="636"/>
                        </a:lnTo>
                        <a:lnTo>
                          <a:pt x="903" y="602"/>
                        </a:lnTo>
                        <a:lnTo>
                          <a:pt x="892" y="569"/>
                        </a:lnTo>
                        <a:lnTo>
                          <a:pt x="892" y="535"/>
                        </a:lnTo>
                        <a:close/>
                      </a:path>
                    </a:pathLst>
                  </a:custGeom>
                  <a:solidFill>
                    <a:srgbClr val="f5b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1665"/>
                  <p:cNvSpPr/>
                  <p:nvPr/>
                </p:nvSpPr>
                <p:spPr>
                  <a:xfrm rot="111600">
                    <a:off x="8057520" y="1375920"/>
                    <a:ext cx="4320" cy="11520"/>
                  </a:xfrm>
                  <a:custGeom>
                    <a:avLst/>
                    <a:gdLst>
                      <a:gd name="textAreaLeft" fmla="*/ 0 w 4320"/>
                      <a:gd name="textAreaRight" fmla="*/ 4680 w 4320"/>
                      <a:gd name="textAreaTop" fmla="*/ 0 h 11520"/>
                      <a:gd name="textAreaBottom" fmla="*/ 11880 h 11520"/>
                    </a:gdLst>
                    <a:ahLst/>
                    <a:rect l="textAreaLeft" t="textAreaTop" r="textAreaRight" b="textAreaBottom"/>
                    <a:pathLst>
                      <a:path w="34" h="89">
                        <a:moveTo>
                          <a:pt x="11" y="89"/>
                        </a:moveTo>
                        <a:lnTo>
                          <a:pt x="11" y="89"/>
                        </a:lnTo>
                        <a:lnTo>
                          <a:pt x="23" y="67"/>
                        </a:lnTo>
                        <a:lnTo>
                          <a:pt x="23" y="45"/>
                        </a:lnTo>
                        <a:lnTo>
                          <a:pt x="34" y="23"/>
                        </a:lnTo>
                        <a:lnTo>
                          <a:pt x="34" y="0"/>
                        </a:lnTo>
                        <a:lnTo>
                          <a:pt x="11" y="0"/>
                        </a:lnTo>
                        <a:lnTo>
                          <a:pt x="11" y="23"/>
                        </a:lnTo>
                        <a:lnTo>
                          <a:pt x="11" y="45"/>
                        </a:lnTo>
                        <a:lnTo>
                          <a:pt x="0" y="67"/>
                        </a:lnTo>
                        <a:lnTo>
                          <a:pt x="0" y="78"/>
                        </a:lnTo>
                        <a:lnTo>
                          <a:pt x="11"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1664"/>
                  <p:cNvSpPr/>
                  <p:nvPr/>
                </p:nvSpPr>
                <p:spPr>
                  <a:xfrm rot="111600">
                    <a:off x="8037000" y="1385280"/>
                    <a:ext cx="21240" cy="26280"/>
                  </a:xfrm>
                  <a:custGeom>
                    <a:avLst/>
                    <a:gdLst>
                      <a:gd name="textAreaLeft" fmla="*/ 0 w 21240"/>
                      <a:gd name="textAreaRight" fmla="*/ 21600 w 21240"/>
                      <a:gd name="textAreaTop" fmla="*/ 0 h 26280"/>
                      <a:gd name="textAreaBottom" fmla="*/ 26640 h 26280"/>
                    </a:gdLst>
                    <a:ahLst/>
                    <a:rect l="textAreaLeft" t="textAreaTop" r="textAreaRight" b="textAreaBottom"/>
                    <a:pathLst>
                      <a:path w="167" h="201">
                        <a:moveTo>
                          <a:pt x="23" y="201"/>
                        </a:moveTo>
                        <a:lnTo>
                          <a:pt x="23" y="201"/>
                        </a:lnTo>
                        <a:lnTo>
                          <a:pt x="34" y="179"/>
                        </a:lnTo>
                        <a:lnTo>
                          <a:pt x="56" y="156"/>
                        </a:lnTo>
                        <a:lnTo>
                          <a:pt x="78" y="134"/>
                        </a:lnTo>
                        <a:lnTo>
                          <a:pt x="101" y="112"/>
                        </a:lnTo>
                        <a:lnTo>
                          <a:pt x="123" y="89"/>
                        </a:lnTo>
                        <a:lnTo>
                          <a:pt x="134" y="67"/>
                        </a:lnTo>
                        <a:lnTo>
                          <a:pt x="156" y="34"/>
                        </a:lnTo>
                        <a:lnTo>
                          <a:pt x="167" y="11"/>
                        </a:lnTo>
                        <a:lnTo>
                          <a:pt x="156" y="0"/>
                        </a:lnTo>
                        <a:lnTo>
                          <a:pt x="134" y="23"/>
                        </a:lnTo>
                        <a:lnTo>
                          <a:pt x="123" y="56"/>
                        </a:lnTo>
                        <a:lnTo>
                          <a:pt x="101" y="78"/>
                        </a:lnTo>
                        <a:lnTo>
                          <a:pt x="89" y="101"/>
                        </a:lnTo>
                        <a:lnTo>
                          <a:pt x="67" y="123"/>
                        </a:lnTo>
                        <a:lnTo>
                          <a:pt x="45" y="145"/>
                        </a:lnTo>
                        <a:lnTo>
                          <a:pt x="23" y="167"/>
                        </a:lnTo>
                        <a:lnTo>
                          <a:pt x="0" y="190"/>
                        </a:lnTo>
                        <a:lnTo>
                          <a:pt x="23" y="201"/>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1663"/>
                  <p:cNvSpPr/>
                  <p:nvPr/>
                </p:nvSpPr>
                <p:spPr>
                  <a:xfrm rot="111600">
                    <a:off x="8021880" y="1410120"/>
                    <a:ext cx="16920" cy="5760"/>
                  </a:xfrm>
                  <a:custGeom>
                    <a:avLst/>
                    <a:gdLst>
                      <a:gd name="textAreaLeft" fmla="*/ 0 w 16920"/>
                      <a:gd name="textAreaRight" fmla="*/ 17280 w 16920"/>
                      <a:gd name="textAreaTop" fmla="*/ 0 h 5760"/>
                      <a:gd name="textAreaBottom" fmla="*/ 6120 h 5760"/>
                    </a:gdLst>
                    <a:ahLst/>
                    <a:rect l="textAreaLeft" t="textAreaTop" r="textAreaRight" b="textAreaBottom"/>
                    <a:pathLst>
                      <a:path w="134" h="44">
                        <a:moveTo>
                          <a:pt x="11" y="22"/>
                        </a:moveTo>
                        <a:lnTo>
                          <a:pt x="0" y="22"/>
                        </a:lnTo>
                        <a:lnTo>
                          <a:pt x="22" y="33"/>
                        </a:lnTo>
                        <a:lnTo>
                          <a:pt x="33" y="44"/>
                        </a:lnTo>
                        <a:lnTo>
                          <a:pt x="56" y="44"/>
                        </a:lnTo>
                        <a:lnTo>
                          <a:pt x="67" y="44"/>
                        </a:lnTo>
                        <a:lnTo>
                          <a:pt x="78" y="44"/>
                        </a:lnTo>
                        <a:lnTo>
                          <a:pt x="100" y="33"/>
                        </a:lnTo>
                        <a:lnTo>
                          <a:pt x="111" y="22"/>
                        </a:lnTo>
                        <a:lnTo>
                          <a:pt x="134" y="11"/>
                        </a:lnTo>
                        <a:lnTo>
                          <a:pt x="111" y="0"/>
                        </a:lnTo>
                        <a:lnTo>
                          <a:pt x="100" y="11"/>
                        </a:lnTo>
                        <a:lnTo>
                          <a:pt x="89" y="22"/>
                        </a:lnTo>
                        <a:lnTo>
                          <a:pt x="78" y="22"/>
                        </a:lnTo>
                        <a:lnTo>
                          <a:pt x="67" y="33"/>
                        </a:lnTo>
                        <a:lnTo>
                          <a:pt x="56" y="33"/>
                        </a:lnTo>
                        <a:lnTo>
                          <a:pt x="44" y="22"/>
                        </a:lnTo>
                        <a:lnTo>
                          <a:pt x="33" y="22"/>
                        </a:lnTo>
                        <a:lnTo>
                          <a:pt x="11" y="11"/>
                        </a:lnTo>
                        <a:lnTo>
                          <a:pt x="0" y="11"/>
                        </a:lnTo>
                        <a:lnTo>
                          <a:pt x="11" y="22"/>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1662"/>
                  <p:cNvSpPr/>
                  <p:nvPr/>
                </p:nvSpPr>
                <p:spPr>
                  <a:xfrm rot="111600">
                    <a:off x="8001720" y="1410840"/>
                    <a:ext cx="21240" cy="29160"/>
                  </a:xfrm>
                  <a:custGeom>
                    <a:avLst/>
                    <a:gdLst>
                      <a:gd name="textAreaLeft" fmla="*/ 0 w 21240"/>
                      <a:gd name="textAreaRight" fmla="*/ 21600 w 21240"/>
                      <a:gd name="textAreaTop" fmla="*/ 0 h 29160"/>
                      <a:gd name="textAreaBottom" fmla="*/ 29520 h 29160"/>
                    </a:gdLst>
                    <a:ahLst/>
                    <a:rect l="textAreaLeft" t="textAreaTop" r="textAreaRight" b="textAreaBottom"/>
                    <a:pathLst>
                      <a:path w="167" h="223">
                        <a:moveTo>
                          <a:pt x="0" y="223"/>
                        </a:moveTo>
                        <a:lnTo>
                          <a:pt x="11" y="223"/>
                        </a:lnTo>
                        <a:lnTo>
                          <a:pt x="44" y="189"/>
                        </a:lnTo>
                        <a:lnTo>
                          <a:pt x="67" y="156"/>
                        </a:lnTo>
                        <a:lnTo>
                          <a:pt x="78" y="123"/>
                        </a:lnTo>
                        <a:lnTo>
                          <a:pt x="89" y="100"/>
                        </a:lnTo>
                        <a:lnTo>
                          <a:pt x="100" y="78"/>
                        </a:lnTo>
                        <a:lnTo>
                          <a:pt x="111" y="56"/>
                        </a:lnTo>
                        <a:lnTo>
                          <a:pt x="134" y="33"/>
                        </a:lnTo>
                        <a:lnTo>
                          <a:pt x="167" y="11"/>
                        </a:lnTo>
                        <a:lnTo>
                          <a:pt x="156" y="0"/>
                        </a:lnTo>
                        <a:lnTo>
                          <a:pt x="122" y="22"/>
                        </a:lnTo>
                        <a:lnTo>
                          <a:pt x="100" y="44"/>
                        </a:lnTo>
                        <a:lnTo>
                          <a:pt x="89" y="67"/>
                        </a:lnTo>
                        <a:lnTo>
                          <a:pt x="78" y="89"/>
                        </a:lnTo>
                        <a:lnTo>
                          <a:pt x="56" y="111"/>
                        </a:lnTo>
                        <a:lnTo>
                          <a:pt x="44" y="145"/>
                        </a:lnTo>
                        <a:lnTo>
                          <a:pt x="22" y="178"/>
                        </a:lnTo>
                        <a:lnTo>
                          <a:pt x="0" y="212"/>
                        </a:lnTo>
                        <a:lnTo>
                          <a:pt x="11" y="212"/>
                        </a:lnTo>
                        <a:lnTo>
                          <a:pt x="0" y="223"/>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1661"/>
                  <p:cNvSpPr/>
                  <p:nvPr/>
                </p:nvSpPr>
                <p:spPr>
                  <a:xfrm rot="111600">
                    <a:off x="7994520" y="1426680"/>
                    <a:ext cx="8280" cy="12960"/>
                  </a:xfrm>
                  <a:custGeom>
                    <a:avLst/>
                    <a:gdLst>
                      <a:gd name="textAreaLeft" fmla="*/ 0 w 8280"/>
                      <a:gd name="textAreaRight" fmla="*/ 8640 w 8280"/>
                      <a:gd name="textAreaTop" fmla="*/ 0 h 12960"/>
                      <a:gd name="textAreaBottom" fmla="*/ 13320 h 12960"/>
                    </a:gdLst>
                    <a:ahLst/>
                    <a:rect l="textAreaLeft" t="textAreaTop" r="textAreaRight" b="textAreaBottom"/>
                    <a:pathLst>
                      <a:path w="67" h="100">
                        <a:moveTo>
                          <a:pt x="22" y="11"/>
                        </a:moveTo>
                        <a:lnTo>
                          <a:pt x="0" y="22"/>
                        </a:lnTo>
                        <a:lnTo>
                          <a:pt x="11" y="22"/>
                        </a:lnTo>
                        <a:lnTo>
                          <a:pt x="11" y="33"/>
                        </a:lnTo>
                        <a:lnTo>
                          <a:pt x="22" y="44"/>
                        </a:lnTo>
                        <a:lnTo>
                          <a:pt x="22" y="55"/>
                        </a:lnTo>
                        <a:lnTo>
                          <a:pt x="34" y="66"/>
                        </a:lnTo>
                        <a:lnTo>
                          <a:pt x="34" y="78"/>
                        </a:lnTo>
                        <a:lnTo>
                          <a:pt x="45" y="89"/>
                        </a:lnTo>
                        <a:lnTo>
                          <a:pt x="56" y="100"/>
                        </a:lnTo>
                        <a:lnTo>
                          <a:pt x="67" y="89"/>
                        </a:lnTo>
                        <a:lnTo>
                          <a:pt x="56" y="78"/>
                        </a:lnTo>
                        <a:lnTo>
                          <a:pt x="56" y="66"/>
                        </a:lnTo>
                        <a:lnTo>
                          <a:pt x="45" y="55"/>
                        </a:lnTo>
                        <a:lnTo>
                          <a:pt x="45" y="44"/>
                        </a:lnTo>
                        <a:lnTo>
                          <a:pt x="34" y="33"/>
                        </a:lnTo>
                        <a:lnTo>
                          <a:pt x="34" y="22"/>
                        </a:lnTo>
                        <a:lnTo>
                          <a:pt x="22" y="11"/>
                        </a:lnTo>
                        <a:lnTo>
                          <a:pt x="11" y="0"/>
                        </a:lnTo>
                        <a:lnTo>
                          <a:pt x="0" y="11"/>
                        </a:lnTo>
                        <a:lnTo>
                          <a:pt x="22" y="11"/>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1660"/>
                  <p:cNvSpPr/>
                  <p:nvPr/>
                </p:nvSpPr>
                <p:spPr>
                  <a:xfrm rot="111600">
                    <a:off x="7971480" y="1427760"/>
                    <a:ext cx="25200" cy="37800"/>
                  </a:xfrm>
                  <a:custGeom>
                    <a:avLst/>
                    <a:gdLst>
                      <a:gd name="textAreaLeft" fmla="*/ 0 w 25200"/>
                      <a:gd name="textAreaRight" fmla="*/ 25560 w 25200"/>
                      <a:gd name="textAreaTop" fmla="*/ 0 h 37800"/>
                      <a:gd name="textAreaBottom" fmla="*/ 38160 h 37800"/>
                    </a:gdLst>
                    <a:ahLst/>
                    <a:rect l="textAreaLeft" t="textAreaTop" r="textAreaRight" b="textAreaBottom"/>
                    <a:pathLst>
                      <a:path w="200" h="289">
                        <a:moveTo>
                          <a:pt x="0" y="278"/>
                        </a:moveTo>
                        <a:lnTo>
                          <a:pt x="11" y="289"/>
                        </a:lnTo>
                        <a:lnTo>
                          <a:pt x="56" y="256"/>
                        </a:lnTo>
                        <a:lnTo>
                          <a:pt x="89" y="234"/>
                        </a:lnTo>
                        <a:lnTo>
                          <a:pt x="111" y="200"/>
                        </a:lnTo>
                        <a:lnTo>
                          <a:pt x="134" y="167"/>
                        </a:lnTo>
                        <a:lnTo>
                          <a:pt x="156" y="122"/>
                        </a:lnTo>
                        <a:lnTo>
                          <a:pt x="167" y="89"/>
                        </a:lnTo>
                        <a:lnTo>
                          <a:pt x="178" y="44"/>
                        </a:lnTo>
                        <a:lnTo>
                          <a:pt x="200" y="0"/>
                        </a:lnTo>
                        <a:lnTo>
                          <a:pt x="178" y="0"/>
                        </a:lnTo>
                        <a:lnTo>
                          <a:pt x="167" y="44"/>
                        </a:lnTo>
                        <a:lnTo>
                          <a:pt x="145" y="78"/>
                        </a:lnTo>
                        <a:lnTo>
                          <a:pt x="134" y="122"/>
                        </a:lnTo>
                        <a:lnTo>
                          <a:pt x="122" y="156"/>
                        </a:lnTo>
                        <a:lnTo>
                          <a:pt x="100" y="189"/>
                        </a:lnTo>
                        <a:lnTo>
                          <a:pt x="67" y="211"/>
                        </a:lnTo>
                        <a:lnTo>
                          <a:pt x="44" y="245"/>
                        </a:lnTo>
                        <a:lnTo>
                          <a:pt x="0" y="278"/>
                        </a:lnTo>
                        <a:lnTo>
                          <a:pt x="11" y="278"/>
                        </a:lnTo>
                        <a:lnTo>
                          <a:pt x="0" y="278"/>
                        </a:lnTo>
                        <a:close/>
                      </a:path>
                    </a:pathLst>
                  </a:custGeom>
                  <a:solidFill>
                    <a:srgbClr val="00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1659"/>
                  <p:cNvSpPr/>
                  <p:nvPr/>
                </p:nvSpPr>
                <p:spPr>
                  <a:xfrm rot="111600">
                    <a:off x="7968600" y="1427400"/>
                    <a:ext cx="4320" cy="36360"/>
                  </a:xfrm>
                  <a:custGeom>
                    <a:avLst/>
                    <a:gdLst>
                      <a:gd name="textAreaLeft" fmla="*/ 0 w 4320"/>
                      <a:gd name="textAreaRight" fmla="*/ 4680 w 4320"/>
                      <a:gd name="textAreaTop" fmla="*/ 0 h 36360"/>
                      <a:gd name="textAreaBottom" fmla="*/ 36720 h 36360"/>
                    </a:gdLst>
                    <a:ahLst/>
                    <a:rect l="textAreaLeft" t="textAreaTop" r="textAreaRight" b="textAreaBottom"/>
                    <a:pathLst>
                      <a:path w="34" h="278">
                        <a:moveTo>
                          <a:pt x="12" y="22"/>
                        </a:moveTo>
                        <a:lnTo>
                          <a:pt x="0" y="11"/>
                        </a:lnTo>
                        <a:lnTo>
                          <a:pt x="0" y="89"/>
                        </a:lnTo>
                        <a:lnTo>
                          <a:pt x="0" y="156"/>
                        </a:lnTo>
                        <a:lnTo>
                          <a:pt x="12" y="211"/>
                        </a:lnTo>
                        <a:lnTo>
                          <a:pt x="23" y="278"/>
                        </a:lnTo>
                        <a:lnTo>
                          <a:pt x="34" y="278"/>
                        </a:lnTo>
                        <a:lnTo>
                          <a:pt x="23" y="211"/>
                        </a:lnTo>
                        <a:lnTo>
                          <a:pt x="23" y="156"/>
                        </a:lnTo>
                        <a:lnTo>
                          <a:pt x="12" y="89"/>
                        </a:lnTo>
                        <a:lnTo>
                          <a:pt x="23" y="11"/>
                        </a:lnTo>
                        <a:lnTo>
                          <a:pt x="12" y="0"/>
                        </a:lnTo>
                        <a:lnTo>
                          <a:pt x="12" y="22"/>
                        </a:lnTo>
                        <a:close/>
                      </a:path>
                    </a:pathLst>
                  </a:custGeom>
                  <a:solidFill>
                    <a:srgbClr val="0000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1658"/>
                  <p:cNvSpPr/>
                  <p:nvPr/>
                </p:nvSpPr>
                <p:spPr>
                  <a:xfrm rot="111600">
                    <a:off x="7950600" y="1425240"/>
                    <a:ext cx="19800" cy="5760"/>
                  </a:xfrm>
                  <a:custGeom>
                    <a:avLst/>
                    <a:gdLst>
                      <a:gd name="textAreaLeft" fmla="*/ 0 w 19800"/>
                      <a:gd name="textAreaRight" fmla="*/ 20160 w 19800"/>
                      <a:gd name="textAreaTop" fmla="*/ 0 h 5760"/>
                      <a:gd name="textAreaBottom" fmla="*/ 6120 h 5760"/>
                    </a:gdLst>
                    <a:ahLst/>
                    <a:rect l="textAreaLeft" t="textAreaTop" r="textAreaRight" b="textAreaBottom"/>
                    <a:pathLst>
                      <a:path w="156" h="44">
                        <a:moveTo>
                          <a:pt x="0" y="11"/>
                        </a:moveTo>
                        <a:lnTo>
                          <a:pt x="0" y="11"/>
                        </a:lnTo>
                        <a:lnTo>
                          <a:pt x="22" y="22"/>
                        </a:lnTo>
                        <a:lnTo>
                          <a:pt x="44" y="33"/>
                        </a:lnTo>
                        <a:lnTo>
                          <a:pt x="66" y="44"/>
                        </a:lnTo>
                        <a:lnTo>
                          <a:pt x="89" y="44"/>
                        </a:lnTo>
                        <a:lnTo>
                          <a:pt x="100" y="44"/>
                        </a:lnTo>
                        <a:lnTo>
                          <a:pt x="122" y="33"/>
                        </a:lnTo>
                        <a:lnTo>
                          <a:pt x="133" y="33"/>
                        </a:lnTo>
                        <a:lnTo>
                          <a:pt x="156" y="33"/>
                        </a:lnTo>
                        <a:lnTo>
                          <a:pt x="156" y="11"/>
                        </a:lnTo>
                        <a:lnTo>
                          <a:pt x="133" y="22"/>
                        </a:lnTo>
                        <a:lnTo>
                          <a:pt x="122" y="22"/>
                        </a:lnTo>
                        <a:lnTo>
                          <a:pt x="100" y="22"/>
                        </a:lnTo>
                        <a:lnTo>
                          <a:pt x="89" y="22"/>
                        </a:lnTo>
                        <a:lnTo>
                          <a:pt x="66" y="22"/>
                        </a:lnTo>
                        <a:lnTo>
                          <a:pt x="44" y="22"/>
                        </a:lnTo>
                        <a:lnTo>
                          <a:pt x="33" y="11"/>
                        </a:lnTo>
                        <a:lnTo>
                          <a:pt x="22" y="0"/>
                        </a:lnTo>
                        <a:lnTo>
                          <a:pt x="0" y="11"/>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1657"/>
                  <p:cNvSpPr/>
                  <p:nvPr/>
                </p:nvSpPr>
                <p:spPr>
                  <a:xfrm rot="111600">
                    <a:off x="7944120" y="1392840"/>
                    <a:ext cx="9720" cy="33840"/>
                  </a:xfrm>
                  <a:custGeom>
                    <a:avLst/>
                    <a:gdLst>
                      <a:gd name="textAreaLeft" fmla="*/ 0 w 9720"/>
                      <a:gd name="textAreaRight" fmla="*/ 10080 w 9720"/>
                      <a:gd name="textAreaTop" fmla="*/ 0 h 33840"/>
                      <a:gd name="textAreaBottom" fmla="*/ 34200 h 33840"/>
                    </a:gdLst>
                    <a:ahLst/>
                    <a:rect l="textAreaLeft" t="textAreaTop" r="textAreaRight" b="textAreaBottom"/>
                    <a:pathLst>
                      <a:path w="78" h="257">
                        <a:moveTo>
                          <a:pt x="22" y="11"/>
                        </a:moveTo>
                        <a:lnTo>
                          <a:pt x="22" y="0"/>
                        </a:lnTo>
                        <a:lnTo>
                          <a:pt x="11" y="34"/>
                        </a:lnTo>
                        <a:lnTo>
                          <a:pt x="0" y="67"/>
                        </a:lnTo>
                        <a:lnTo>
                          <a:pt x="0" y="101"/>
                        </a:lnTo>
                        <a:lnTo>
                          <a:pt x="11" y="134"/>
                        </a:lnTo>
                        <a:lnTo>
                          <a:pt x="22" y="167"/>
                        </a:lnTo>
                        <a:lnTo>
                          <a:pt x="22" y="190"/>
                        </a:lnTo>
                        <a:lnTo>
                          <a:pt x="44" y="223"/>
                        </a:lnTo>
                        <a:lnTo>
                          <a:pt x="56" y="257"/>
                        </a:lnTo>
                        <a:lnTo>
                          <a:pt x="78" y="246"/>
                        </a:lnTo>
                        <a:lnTo>
                          <a:pt x="56" y="223"/>
                        </a:lnTo>
                        <a:lnTo>
                          <a:pt x="44" y="190"/>
                        </a:lnTo>
                        <a:lnTo>
                          <a:pt x="33" y="156"/>
                        </a:lnTo>
                        <a:lnTo>
                          <a:pt x="22" y="123"/>
                        </a:lnTo>
                        <a:lnTo>
                          <a:pt x="22" y="101"/>
                        </a:lnTo>
                        <a:lnTo>
                          <a:pt x="22" y="67"/>
                        </a:lnTo>
                        <a:lnTo>
                          <a:pt x="22" y="34"/>
                        </a:lnTo>
                        <a:lnTo>
                          <a:pt x="33" y="11"/>
                        </a:lnTo>
                        <a:lnTo>
                          <a:pt x="22" y="11"/>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1656"/>
                  <p:cNvSpPr/>
                  <p:nvPr/>
                </p:nvSpPr>
                <p:spPr>
                  <a:xfrm rot="111600">
                    <a:off x="7947360" y="1389960"/>
                    <a:ext cx="5400" cy="4320"/>
                  </a:xfrm>
                  <a:custGeom>
                    <a:avLst/>
                    <a:gdLst>
                      <a:gd name="textAreaLeft" fmla="*/ 0 w 5400"/>
                      <a:gd name="textAreaRight" fmla="*/ 5760 w 5400"/>
                      <a:gd name="textAreaTop" fmla="*/ 0 h 4320"/>
                      <a:gd name="textAreaBottom" fmla="*/ 4680 h 4320"/>
                    </a:gdLst>
                    <a:ahLst/>
                    <a:rect l="textAreaLeft" t="textAreaTop" r="textAreaRight" b="textAreaBottom"/>
                    <a:pathLst>
                      <a:path w="45" h="33">
                        <a:moveTo>
                          <a:pt x="22" y="0"/>
                        </a:moveTo>
                        <a:lnTo>
                          <a:pt x="22" y="0"/>
                        </a:lnTo>
                        <a:lnTo>
                          <a:pt x="11" y="11"/>
                        </a:lnTo>
                        <a:lnTo>
                          <a:pt x="0" y="22"/>
                        </a:lnTo>
                        <a:lnTo>
                          <a:pt x="0" y="33"/>
                        </a:lnTo>
                        <a:lnTo>
                          <a:pt x="11" y="33"/>
                        </a:lnTo>
                        <a:lnTo>
                          <a:pt x="22" y="33"/>
                        </a:lnTo>
                        <a:lnTo>
                          <a:pt x="22" y="22"/>
                        </a:lnTo>
                        <a:lnTo>
                          <a:pt x="34" y="11"/>
                        </a:lnTo>
                        <a:lnTo>
                          <a:pt x="45" y="0"/>
                        </a:lnTo>
                        <a:lnTo>
                          <a:pt x="22" y="0"/>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1655"/>
                  <p:cNvSpPr/>
                  <p:nvPr/>
                </p:nvSpPr>
                <p:spPr>
                  <a:xfrm rot="111600">
                    <a:off x="7950960" y="1354680"/>
                    <a:ext cx="5400" cy="34920"/>
                  </a:xfrm>
                  <a:custGeom>
                    <a:avLst/>
                    <a:gdLst>
                      <a:gd name="textAreaLeft" fmla="*/ 0 w 5400"/>
                      <a:gd name="textAreaRight" fmla="*/ 5760 w 5400"/>
                      <a:gd name="textAreaTop" fmla="*/ 0 h 34920"/>
                      <a:gd name="textAreaBottom" fmla="*/ 35280 h 34920"/>
                    </a:gdLst>
                    <a:ahLst/>
                    <a:rect l="textAreaLeft" t="textAreaTop" r="textAreaRight" b="textAreaBottom"/>
                    <a:pathLst>
                      <a:path w="45" h="267">
                        <a:moveTo>
                          <a:pt x="34" y="0"/>
                        </a:moveTo>
                        <a:lnTo>
                          <a:pt x="34" y="0"/>
                        </a:lnTo>
                        <a:lnTo>
                          <a:pt x="12" y="66"/>
                        </a:lnTo>
                        <a:lnTo>
                          <a:pt x="12" y="133"/>
                        </a:lnTo>
                        <a:lnTo>
                          <a:pt x="12" y="200"/>
                        </a:lnTo>
                        <a:lnTo>
                          <a:pt x="0" y="267"/>
                        </a:lnTo>
                        <a:lnTo>
                          <a:pt x="23" y="267"/>
                        </a:lnTo>
                        <a:lnTo>
                          <a:pt x="34" y="200"/>
                        </a:lnTo>
                        <a:lnTo>
                          <a:pt x="34" y="133"/>
                        </a:lnTo>
                        <a:lnTo>
                          <a:pt x="34" y="66"/>
                        </a:lnTo>
                        <a:lnTo>
                          <a:pt x="45" y="0"/>
                        </a:lnTo>
                        <a:lnTo>
                          <a:pt x="34" y="0"/>
                        </a:lnTo>
                        <a:close/>
                      </a:path>
                    </a:pathLst>
                  </a:custGeom>
                  <a:solidFill>
                    <a:srgbClr val="000000"/>
                  </a:solidFill>
                  <a:ln w="0">
                    <a:noFill/>
                  </a:ln>
                </p:spPr>
                <p:style>
                  <a:lnRef idx="0"/>
                  <a:fillRef idx="0"/>
                  <a:effectRef idx="0"/>
                  <a:fontRef idx="minor"/>
                </p:style>
                <p:txBody>
                  <a:bodyPr lIns="90000" rIns="90000" tIns="-11520" bIns="-11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1654"/>
                  <p:cNvSpPr/>
                  <p:nvPr/>
                </p:nvSpPr>
                <p:spPr>
                  <a:xfrm rot="111600">
                    <a:off x="7956360" y="1324440"/>
                    <a:ext cx="42480" cy="30960"/>
                  </a:xfrm>
                  <a:custGeom>
                    <a:avLst/>
                    <a:gdLst>
                      <a:gd name="textAreaLeft" fmla="*/ 0 w 42480"/>
                      <a:gd name="textAreaRight" fmla="*/ 42480 w 42480"/>
                      <a:gd name="textAreaTop" fmla="*/ 0 h 30960"/>
                      <a:gd name="textAreaBottom" fmla="*/ 31320 h 30960"/>
                    </a:gdLst>
                    <a:ahLst/>
                    <a:rect l="textAreaLeft" t="textAreaTop" r="textAreaRight" b="textAreaBottom"/>
                    <a:pathLst>
                      <a:path w="334" h="235">
                        <a:moveTo>
                          <a:pt x="323" y="12"/>
                        </a:moveTo>
                        <a:lnTo>
                          <a:pt x="334" y="0"/>
                        </a:lnTo>
                        <a:lnTo>
                          <a:pt x="301" y="0"/>
                        </a:lnTo>
                        <a:lnTo>
                          <a:pt x="279" y="0"/>
                        </a:lnTo>
                        <a:lnTo>
                          <a:pt x="256" y="12"/>
                        </a:lnTo>
                        <a:lnTo>
                          <a:pt x="234" y="23"/>
                        </a:lnTo>
                        <a:lnTo>
                          <a:pt x="201" y="34"/>
                        </a:lnTo>
                        <a:lnTo>
                          <a:pt x="178" y="45"/>
                        </a:lnTo>
                        <a:lnTo>
                          <a:pt x="156" y="56"/>
                        </a:lnTo>
                        <a:lnTo>
                          <a:pt x="134" y="67"/>
                        </a:lnTo>
                        <a:lnTo>
                          <a:pt x="111" y="90"/>
                        </a:lnTo>
                        <a:lnTo>
                          <a:pt x="89" y="101"/>
                        </a:lnTo>
                        <a:lnTo>
                          <a:pt x="67" y="123"/>
                        </a:lnTo>
                        <a:lnTo>
                          <a:pt x="56" y="145"/>
                        </a:lnTo>
                        <a:lnTo>
                          <a:pt x="33" y="168"/>
                        </a:lnTo>
                        <a:lnTo>
                          <a:pt x="22" y="190"/>
                        </a:lnTo>
                        <a:lnTo>
                          <a:pt x="11" y="212"/>
                        </a:lnTo>
                        <a:lnTo>
                          <a:pt x="0" y="235"/>
                        </a:lnTo>
                        <a:lnTo>
                          <a:pt x="11" y="235"/>
                        </a:lnTo>
                        <a:lnTo>
                          <a:pt x="22" y="212"/>
                        </a:lnTo>
                        <a:lnTo>
                          <a:pt x="33" y="201"/>
                        </a:lnTo>
                        <a:lnTo>
                          <a:pt x="44" y="179"/>
                        </a:lnTo>
                        <a:lnTo>
                          <a:pt x="67" y="156"/>
                        </a:lnTo>
                        <a:lnTo>
                          <a:pt x="78" y="134"/>
                        </a:lnTo>
                        <a:lnTo>
                          <a:pt x="100" y="123"/>
                        </a:lnTo>
                        <a:lnTo>
                          <a:pt x="122" y="101"/>
                        </a:lnTo>
                        <a:lnTo>
                          <a:pt x="145" y="90"/>
                        </a:lnTo>
                        <a:lnTo>
                          <a:pt x="167" y="67"/>
                        </a:lnTo>
                        <a:lnTo>
                          <a:pt x="189" y="56"/>
                        </a:lnTo>
                        <a:lnTo>
                          <a:pt x="212" y="45"/>
                        </a:lnTo>
                        <a:lnTo>
                          <a:pt x="234" y="34"/>
                        </a:lnTo>
                        <a:lnTo>
                          <a:pt x="256" y="34"/>
                        </a:lnTo>
                        <a:lnTo>
                          <a:pt x="279" y="23"/>
                        </a:lnTo>
                        <a:lnTo>
                          <a:pt x="301" y="23"/>
                        </a:lnTo>
                        <a:lnTo>
                          <a:pt x="334" y="23"/>
                        </a:lnTo>
                        <a:lnTo>
                          <a:pt x="334" y="12"/>
                        </a:lnTo>
                        <a:lnTo>
                          <a:pt x="323" y="12"/>
                        </a:lnTo>
                        <a:close/>
                      </a:path>
                    </a:pathLst>
                  </a:custGeom>
                  <a:solidFill>
                    <a:srgbClr val="000000"/>
                  </a:solidFill>
                  <a:ln w="0">
                    <a:noFill/>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1653"/>
                  <p:cNvSpPr/>
                  <p:nvPr/>
                </p:nvSpPr>
                <p:spPr>
                  <a:xfrm rot="111600">
                    <a:off x="7998120" y="1315080"/>
                    <a:ext cx="4320" cy="11520"/>
                  </a:xfrm>
                  <a:custGeom>
                    <a:avLst/>
                    <a:gdLst>
                      <a:gd name="textAreaLeft" fmla="*/ 0 w 4320"/>
                      <a:gd name="textAreaRight" fmla="*/ 4680 w 4320"/>
                      <a:gd name="textAreaTop" fmla="*/ 0 h 11520"/>
                      <a:gd name="textAreaBottom" fmla="*/ 11880 h 11520"/>
                    </a:gdLst>
                    <a:ahLst/>
                    <a:rect l="textAreaLeft" t="textAreaTop" r="textAreaRight" b="textAreaBottom"/>
                    <a:pathLst>
                      <a:path w="34" h="90">
                        <a:moveTo>
                          <a:pt x="34" y="0"/>
                        </a:moveTo>
                        <a:lnTo>
                          <a:pt x="22" y="0"/>
                        </a:lnTo>
                        <a:lnTo>
                          <a:pt x="11" y="23"/>
                        </a:lnTo>
                        <a:lnTo>
                          <a:pt x="0" y="45"/>
                        </a:lnTo>
                        <a:lnTo>
                          <a:pt x="0" y="67"/>
                        </a:lnTo>
                        <a:lnTo>
                          <a:pt x="0" y="90"/>
                        </a:lnTo>
                        <a:lnTo>
                          <a:pt x="11" y="90"/>
                        </a:lnTo>
                        <a:lnTo>
                          <a:pt x="22" y="78"/>
                        </a:lnTo>
                        <a:lnTo>
                          <a:pt x="22" y="56"/>
                        </a:lnTo>
                        <a:lnTo>
                          <a:pt x="34" y="34"/>
                        </a:lnTo>
                        <a:lnTo>
                          <a:pt x="34" y="23"/>
                        </a:lnTo>
                        <a:lnTo>
                          <a:pt x="34" y="0"/>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1652"/>
                  <p:cNvSpPr/>
                  <p:nvPr/>
                </p:nvSpPr>
                <p:spPr>
                  <a:xfrm rot="111600">
                    <a:off x="8002440" y="1314000"/>
                    <a:ext cx="28080" cy="4320"/>
                  </a:xfrm>
                  <a:custGeom>
                    <a:avLst/>
                    <a:gdLst>
                      <a:gd name="textAreaLeft" fmla="*/ 0 w 28080"/>
                      <a:gd name="textAreaRight" fmla="*/ 28440 w 28080"/>
                      <a:gd name="textAreaTop" fmla="*/ 0 h 4320"/>
                      <a:gd name="textAreaBottom" fmla="*/ 4680 h 4320"/>
                    </a:gdLst>
                    <a:ahLst/>
                    <a:rect l="textAreaLeft" t="textAreaTop" r="textAreaRight" b="textAreaBottom"/>
                    <a:pathLst>
                      <a:path w="222" h="34">
                        <a:moveTo>
                          <a:pt x="200" y="11"/>
                        </a:moveTo>
                        <a:lnTo>
                          <a:pt x="200" y="0"/>
                        </a:lnTo>
                        <a:lnTo>
                          <a:pt x="178" y="0"/>
                        </a:lnTo>
                        <a:lnTo>
                          <a:pt x="144" y="0"/>
                        </a:lnTo>
                        <a:lnTo>
                          <a:pt x="111" y="11"/>
                        </a:lnTo>
                        <a:lnTo>
                          <a:pt x="66" y="11"/>
                        </a:lnTo>
                        <a:lnTo>
                          <a:pt x="33" y="11"/>
                        </a:lnTo>
                        <a:lnTo>
                          <a:pt x="11" y="11"/>
                        </a:lnTo>
                        <a:lnTo>
                          <a:pt x="0" y="11"/>
                        </a:lnTo>
                        <a:lnTo>
                          <a:pt x="0" y="34"/>
                        </a:lnTo>
                        <a:lnTo>
                          <a:pt x="11" y="34"/>
                        </a:lnTo>
                        <a:lnTo>
                          <a:pt x="33" y="23"/>
                        </a:lnTo>
                        <a:lnTo>
                          <a:pt x="66" y="23"/>
                        </a:lnTo>
                        <a:lnTo>
                          <a:pt x="111" y="23"/>
                        </a:lnTo>
                        <a:lnTo>
                          <a:pt x="144" y="23"/>
                        </a:lnTo>
                        <a:lnTo>
                          <a:pt x="178" y="23"/>
                        </a:lnTo>
                        <a:lnTo>
                          <a:pt x="200" y="23"/>
                        </a:lnTo>
                        <a:lnTo>
                          <a:pt x="211" y="23"/>
                        </a:lnTo>
                        <a:lnTo>
                          <a:pt x="222" y="11"/>
                        </a:lnTo>
                        <a:lnTo>
                          <a:pt x="200"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1651"/>
                  <p:cNvSpPr/>
                  <p:nvPr/>
                </p:nvSpPr>
                <p:spPr>
                  <a:xfrm rot="111600">
                    <a:off x="8025480" y="1302840"/>
                    <a:ext cx="5400" cy="12960"/>
                  </a:xfrm>
                  <a:custGeom>
                    <a:avLst/>
                    <a:gdLst>
                      <a:gd name="textAreaLeft" fmla="*/ 0 w 5400"/>
                      <a:gd name="textAreaRight" fmla="*/ 5760 w 5400"/>
                      <a:gd name="textAreaTop" fmla="*/ 0 h 12960"/>
                      <a:gd name="textAreaBottom" fmla="*/ 13320 h 12960"/>
                    </a:gdLst>
                    <a:ahLst/>
                    <a:rect l="textAreaLeft" t="textAreaTop" r="textAreaRight" b="textAreaBottom"/>
                    <a:pathLst>
                      <a:path w="44" h="100">
                        <a:moveTo>
                          <a:pt x="11" y="0"/>
                        </a:moveTo>
                        <a:lnTo>
                          <a:pt x="0" y="11"/>
                        </a:lnTo>
                        <a:lnTo>
                          <a:pt x="11" y="45"/>
                        </a:lnTo>
                        <a:lnTo>
                          <a:pt x="11" y="67"/>
                        </a:lnTo>
                        <a:lnTo>
                          <a:pt x="22" y="78"/>
                        </a:lnTo>
                        <a:lnTo>
                          <a:pt x="22" y="100"/>
                        </a:lnTo>
                        <a:lnTo>
                          <a:pt x="44" y="100"/>
                        </a:lnTo>
                        <a:lnTo>
                          <a:pt x="44" y="78"/>
                        </a:lnTo>
                        <a:lnTo>
                          <a:pt x="33" y="56"/>
                        </a:lnTo>
                        <a:lnTo>
                          <a:pt x="33" y="34"/>
                        </a:lnTo>
                        <a:lnTo>
                          <a:pt x="11" y="0"/>
                        </a:lnTo>
                        <a:lnTo>
                          <a:pt x="11" y="11"/>
                        </a:lnTo>
                        <a:lnTo>
                          <a:pt x="11" y="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1650"/>
                  <p:cNvSpPr/>
                  <p:nvPr/>
                </p:nvSpPr>
                <p:spPr>
                  <a:xfrm rot="111600">
                    <a:off x="8026920" y="1303200"/>
                    <a:ext cx="36720" cy="17640"/>
                  </a:xfrm>
                  <a:custGeom>
                    <a:avLst/>
                    <a:gdLst>
                      <a:gd name="textAreaLeft" fmla="*/ 0 w 36720"/>
                      <a:gd name="textAreaRight" fmla="*/ 37080 w 36720"/>
                      <a:gd name="textAreaTop" fmla="*/ 0 h 17640"/>
                      <a:gd name="textAreaBottom" fmla="*/ 18000 h 17640"/>
                    </a:gdLst>
                    <a:ahLst/>
                    <a:rect l="textAreaLeft" t="textAreaTop" r="textAreaRight" b="textAreaBottom"/>
                    <a:pathLst>
                      <a:path w="290" h="134">
                        <a:moveTo>
                          <a:pt x="279" y="112"/>
                        </a:moveTo>
                        <a:lnTo>
                          <a:pt x="290" y="112"/>
                        </a:lnTo>
                        <a:lnTo>
                          <a:pt x="267" y="100"/>
                        </a:lnTo>
                        <a:lnTo>
                          <a:pt x="256" y="89"/>
                        </a:lnTo>
                        <a:lnTo>
                          <a:pt x="245" y="78"/>
                        </a:lnTo>
                        <a:lnTo>
                          <a:pt x="223" y="67"/>
                        </a:lnTo>
                        <a:lnTo>
                          <a:pt x="212" y="56"/>
                        </a:lnTo>
                        <a:lnTo>
                          <a:pt x="189" y="45"/>
                        </a:lnTo>
                        <a:lnTo>
                          <a:pt x="167" y="45"/>
                        </a:lnTo>
                        <a:lnTo>
                          <a:pt x="145" y="34"/>
                        </a:lnTo>
                        <a:lnTo>
                          <a:pt x="134" y="22"/>
                        </a:lnTo>
                        <a:lnTo>
                          <a:pt x="111" y="22"/>
                        </a:lnTo>
                        <a:lnTo>
                          <a:pt x="89" y="11"/>
                        </a:lnTo>
                        <a:lnTo>
                          <a:pt x="67" y="11"/>
                        </a:lnTo>
                        <a:lnTo>
                          <a:pt x="56" y="0"/>
                        </a:lnTo>
                        <a:lnTo>
                          <a:pt x="33" y="0"/>
                        </a:lnTo>
                        <a:lnTo>
                          <a:pt x="11" y="0"/>
                        </a:lnTo>
                        <a:lnTo>
                          <a:pt x="0" y="0"/>
                        </a:lnTo>
                        <a:lnTo>
                          <a:pt x="0" y="11"/>
                        </a:lnTo>
                        <a:lnTo>
                          <a:pt x="11" y="11"/>
                        </a:lnTo>
                        <a:lnTo>
                          <a:pt x="33" y="22"/>
                        </a:lnTo>
                        <a:lnTo>
                          <a:pt x="45" y="22"/>
                        </a:lnTo>
                        <a:lnTo>
                          <a:pt x="67" y="22"/>
                        </a:lnTo>
                        <a:lnTo>
                          <a:pt x="89" y="34"/>
                        </a:lnTo>
                        <a:lnTo>
                          <a:pt x="100" y="34"/>
                        </a:lnTo>
                        <a:lnTo>
                          <a:pt x="123" y="45"/>
                        </a:lnTo>
                        <a:lnTo>
                          <a:pt x="145" y="56"/>
                        </a:lnTo>
                        <a:lnTo>
                          <a:pt x="167" y="56"/>
                        </a:lnTo>
                        <a:lnTo>
                          <a:pt x="178" y="67"/>
                        </a:lnTo>
                        <a:lnTo>
                          <a:pt x="201" y="78"/>
                        </a:lnTo>
                        <a:lnTo>
                          <a:pt x="212" y="89"/>
                        </a:lnTo>
                        <a:lnTo>
                          <a:pt x="234" y="100"/>
                        </a:lnTo>
                        <a:lnTo>
                          <a:pt x="245" y="112"/>
                        </a:lnTo>
                        <a:lnTo>
                          <a:pt x="256" y="123"/>
                        </a:lnTo>
                        <a:lnTo>
                          <a:pt x="267" y="134"/>
                        </a:lnTo>
                        <a:lnTo>
                          <a:pt x="279" y="134"/>
                        </a:lnTo>
                        <a:lnTo>
                          <a:pt x="279" y="112"/>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1649"/>
                  <p:cNvSpPr/>
                  <p:nvPr/>
                </p:nvSpPr>
                <p:spPr>
                  <a:xfrm rot="111600">
                    <a:off x="8062560" y="1308600"/>
                    <a:ext cx="36720" cy="12960"/>
                  </a:xfrm>
                  <a:custGeom>
                    <a:avLst/>
                    <a:gdLst>
                      <a:gd name="textAreaLeft" fmla="*/ 0 w 36720"/>
                      <a:gd name="textAreaRight" fmla="*/ 37080 w 36720"/>
                      <a:gd name="textAreaTop" fmla="*/ 0 h 12960"/>
                      <a:gd name="textAreaBottom" fmla="*/ 13320 h 12960"/>
                    </a:gdLst>
                    <a:ahLst/>
                    <a:rect l="textAreaLeft" t="textAreaTop" r="textAreaRight" b="textAreaBottom"/>
                    <a:pathLst>
                      <a:path w="289" h="100">
                        <a:moveTo>
                          <a:pt x="289" y="11"/>
                        </a:moveTo>
                        <a:lnTo>
                          <a:pt x="278" y="0"/>
                        </a:lnTo>
                        <a:lnTo>
                          <a:pt x="256" y="0"/>
                        </a:lnTo>
                        <a:lnTo>
                          <a:pt x="234" y="0"/>
                        </a:lnTo>
                        <a:lnTo>
                          <a:pt x="223" y="0"/>
                        </a:lnTo>
                        <a:lnTo>
                          <a:pt x="200" y="0"/>
                        </a:lnTo>
                        <a:lnTo>
                          <a:pt x="178" y="0"/>
                        </a:lnTo>
                        <a:lnTo>
                          <a:pt x="167" y="11"/>
                        </a:lnTo>
                        <a:lnTo>
                          <a:pt x="145" y="11"/>
                        </a:lnTo>
                        <a:lnTo>
                          <a:pt x="122" y="11"/>
                        </a:lnTo>
                        <a:lnTo>
                          <a:pt x="111" y="22"/>
                        </a:lnTo>
                        <a:lnTo>
                          <a:pt x="89" y="33"/>
                        </a:lnTo>
                        <a:lnTo>
                          <a:pt x="78" y="33"/>
                        </a:lnTo>
                        <a:lnTo>
                          <a:pt x="55" y="44"/>
                        </a:lnTo>
                        <a:lnTo>
                          <a:pt x="44" y="55"/>
                        </a:lnTo>
                        <a:lnTo>
                          <a:pt x="33" y="66"/>
                        </a:lnTo>
                        <a:lnTo>
                          <a:pt x="11" y="78"/>
                        </a:lnTo>
                        <a:lnTo>
                          <a:pt x="0" y="78"/>
                        </a:lnTo>
                        <a:lnTo>
                          <a:pt x="0" y="100"/>
                        </a:lnTo>
                        <a:lnTo>
                          <a:pt x="22" y="89"/>
                        </a:lnTo>
                        <a:lnTo>
                          <a:pt x="33" y="78"/>
                        </a:lnTo>
                        <a:lnTo>
                          <a:pt x="55" y="66"/>
                        </a:lnTo>
                        <a:lnTo>
                          <a:pt x="67" y="55"/>
                        </a:lnTo>
                        <a:lnTo>
                          <a:pt x="89" y="55"/>
                        </a:lnTo>
                        <a:lnTo>
                          <a:pt x="100" y="44"/>
                        </a:lnTo>
                        <a:lnTo>
                          <a:pt x="122" y="44"/>
                        </a:lnTo>
                        <a:lnTo>
                          <a:pt x="133" y="33"/>
                        </a:lnTo>
                        <a:lnTo>
                          <a:pt x="156" y="33"/>
                        </a:lnTo>
                        <a:lnTo>
                          <a:pt x="167" y="22"/>
                        </a:lnTo>
                        <a:lnTo>
                          <a:pt x="189" y="22"/>
                        </a:lnTo>
                        <a:lnTo>
                          <a:pt x="200" y="22"/>
                        </a:lnTo>
                        <a:lnTo>
                          <a:pt x="223" y="11"/>
                        </a:lnTo>
                        <a:lnTo>
                          <a:pt x="234" y="11"/>
                        </a:lnTo>
                        <a:lnTo>
                          <a:pt x="256" y="11"/>
                        </a:lnTo>
                        <a:lnTo>
                          <a:pt x="278" y="11"/>
                        </a:lnTo>
                        <a:lnTo>
                          <a:pt x="267" y="11"/>
                        </a:lnTo>
                        <a:lnTo>
                          <a:pt x="289" y="11"/>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1648"/>
                  <p:cNvSpPr/>
                  <p:nvPr/>
                </p:nvSpPr>
                <p:spPr>
                  <a:xfrm rot="111600">
                    <a:off x="8093880" y="1310760"/>
                    <a:ext cx="5400" cy="8640"/>
                  </a:xfrm>
                  <a:custGeom>
                    <a:avLst/>
                    <a:gdLst>
                      <a:gd name="textAreaLeft" fmla="*/ 0 w 5400"/>
                      <a:gd name="textAreaRight" fmla="*/ 5760 w 5400"/>
                      <a:gd name="textAreaTop" fmla="*/ 0 h 8640"/>
                      <a:gd name="textAreaBottom" fmla="*/ 9000 h 8640"/>
                    </a:gdLst>
                    <a:ahLst/>
                    <a:rect l="textAreaLeft" t="textAreaTop" r="textAreaRight" b="textAreaBottom"/>
                    <a:pathLst>
                      <a:path w="44" h="67">
                        <a:moveTo>
                          <a:pt x="0" y="44"/>
                        </a:moveTo>
                        <a:lnTo>
                          <a:pt x="11" y="55"/>
                        </a:lnTo>
                        <a:lnTo>
                          <a:pt x="22" y="44"/>
                        </a:lnTo>
                        <a:lnTo>
                          <a:pt x="33" y="22"/>
                        </a:lnTo>
                        <a:lnTo>
                          <a:pt x="44" y="11"/>
                        </a:lnTo>
                        <a:lnTo>
                          <a:pt x="44" y="0"/>
                        </a:lnTo>
                        <a:lnTo>
                          <a:pt x="22" y="0"/>
                        </a:lnTo>
                        <a:lnTo>
                          <a:pt x="11" y="11"/>
                        </a:lnTo>
                        <a:lnTo>
                          <a:pt x="0" y="33"/>
                        </a:lnTo>
                        <a:lnTo>
                          <a:pt x="0" y="55"/>
                        </a:lnTo>
                        <a:lnTo>
                          <a:pt x="0" y="67"/>
                        </a:lnTo>
                        <a:lnTo>
                          <a:pt x="0" y="44"/>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1647"/>
                  <p:cNvSpPr/>
                  <p:nvPr/>
                </p:nvSpPr>
                <p:spPr>
                  <a:xfrm rot="111600">
                    <a:off x="8093520" y="1316520"/>
                    <a:ext cx="19800" cy="2880"/>
                  </a:xfrm>
                  <a:custGeom>
                    <a:avLst/>
                    <a:gdLst>
                      <a:gd name="textAreaLeft" fmla="*/ 0 w 19800"/>
                      <a:gd name="textAreaRight" fmla="*/ 20160 w 19800"/>
                      <a:gd name="textAreaTop" fmla="*/ 0 h 2880"/>
                      <a:gd name="textAreaBottom" fmla="*/ 3240 h 2880"/>
                    </a:gdLst>
                    <a:ahLst/>
                    <a:rect l="textAreaLeft" t="textAreaTop" r="textAreaRight" b="textAreaBottom"/>
                    <a:pathLst>
                      <a:path w="156" h="23">
                        <a:moveTo>
                          <a:pt x="156" y="0"/>
                        </a:moveTo>
                        <a:lnTo>
                          <a:pt x="156" y="0"/>
                        </a:lnTo>
                        <a:lnTo>
                          <a:pt x="134" y="0"/>
                        </a:lnTo>
                        <a:lnTo>
                          <a:pt x="122" y="0"/>
                        </a:lnTo>
                        <a:lnTo>
                          <a:pt x="100" y="0"/>
                        </a:lnTo>
                        <a:lnTo>
                          <a:pt x="78" y="0"/>
                        </a:lnTo>
                        <a:lnTo>
                          <a:pt x="56" y="0"/>
                        </a:lnTo>
                        <a:lnTo>
                          <a:pt x="33" y="0"/>
                        </a:lnTo>
                        <a:lnTo>
                          <a:pt x="22" y="0"/>
                        </a:lnTo>
                        <a:lnTo>
                          <a:pt x="0" y="0"/>
                        </a:lnTo>
                        <a:lnTo>
                          <a:pt x="0" y="23"/>
                        </a:lnTo>
                        <a:lnTo>
                          <a:pt x="22" y="23"/>
                        </a:lnTo>
                        <a:lnTo>
                          <a:pt x="33" y="23"/>
                        </a:lnTo>
                        <a:lnTo>
                          <a:pt x="56" y="23"/>
                        </a:lnTo>
                        <a:lnTo>
                          <a:pt x="78" y="23"/>
                        </a:lnTo>
                        <a:lnTo>
                          <a:pt x="100" y="23"/>
                        </a:lnTo>
                        <a:lnTo>
                          <a:pt x="122" y="23"/>
                        </a:lnTo>
                        <a:lnTo>
                          <a:pt x="134" y="23"/>
                        </a:lnTo>
                        <a:lnTo>
                          <a:pt x="156" y="23"/>
                        </a:lnTo>
                        <a:lnTo>
                          <a:pt x="156"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1646"/>
                  <p:cNvSpPr/>
                  <p:nvPr/>
                </p:nvSpPr>
                <p:spPr>
                  <a:xfrm rot="111600">
                    <a:off x="8113320" y="1317240"/>
                    <a:ext cx="19800" cy="17640"/>
                  </a:xfrm>
                  <a:custGeom>
                    <a:avLst/>
                    <a:gdLst>
                      <a:gd name="textAreaLeft" fmla="*/ 0 w 19800"/>
                      <a:gd name="textAreaRight" fmla="*/ 20160 w 19800"/>
                      <a:gd name="textAreaTop" fmla="*/ 0 h 17640"/>
                      <a:gd name="textAreaBottom" fmla="*/ 18000 h 17640"/>
                    </a:gdLst>
                    <a:ahLst/>
                    <a:rect l="textAreaLeft" t="textAreaTop" r="textAreaRight" b="textAreaBottom"/>
                    <a:pathLst>
                      <a:path w="156" h="134">
                        <a:moveTo>
                          <a:pt x="156" y="123"/>
                        </a:moveTo>
                        <a:lnTo>
                          <a:pt x="156" y="123"/>
                        </a:lnTo>
                        <a:lnTo>
                          <a:pt x="145" y="89"/>
                        </a:lnTo>
                        <a:lnTo>
                          <a:pt x="122" y="67"/>
                        </a:lnTo>
                        <a:lnTo>
                          <a:pt x="111" y="56"/>
                        </a:lnTo>
                        <a:lnTo>
                          <a:pt x="89" y="34"/>
                        </a:lnTo>
                        <a:lnTo>
                          <a:pt x="78" y="23"/>
                        </a:lnTo>
                        <a:lnTo>
                          <a:pt x="56" y="23"/>
                        </a:lnTo>
                        <a:lnTo>
                          <a:pt x="33" y="11"/>
                        </a:lnTo>
                        <a:lnTo>
                          <a:pt x="0" y="0"/>
                        </a:lnTo>
                        <a:lnTo>
                          <a:pt x="0" y="23"/>
                        </a:lnTo>
                        <a:lnTo>
                          <a:pt x="22" y="34"/>
                        </a:lnTo>
                        <a:lnTo>
                          <a:pt x="56" y="34"/>
                        </a:lnTo>
                        <a:lnTo>
                          <a:pt x="67" y="45"/>
                        </a:lnTo>
                        <a:lnTo>
                          <a:pt x="89" y="56"/>
                        </a:lnTo>
                        <a:lnTo>
                          <a:pt x="100" y="67"/>
                        </a:lnTo>
                        <a:lnTo>
                          <a:pt x="111" y="78"/>
                        </a:lnTo>
                        <a:lnTo>
                          <a:pt x="122" y="101"/>
                        </a:lnTo>
                        <a:lnTo>
                          <a:pt x="145" y="134"/>
                        </a:lnTo>
                        <a:lnTo>
                          <a:pt x="156" y="123"/>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1645"/>
                  <p:cNvSpPr/>
                  <p:nvPr/>
                </p:nvSpPr>
                <p:spPr>
                  <a:xfrm rot="111600">
                    <a:off x="8131320" y="1334160"/>
                    <a:ext cx="19800" cy="14400"/>
                  </a:xfrm>
                  <a:custGeom>
                    <a:avLst/>
                    <a:gdLst>
                      <a:gd name="textAreaLeft" fmla="*/ 0 w 19800"/>
                      <a:gd name="textAreaRight" fmla="*/ 20160 w 19800"/>
                      <a:gd name="textAreaTop" fmla="*/ 0 h 14400"/>
                      <a:gd name="textAreaBottom" fmla="*/ 14760 h 14400"/>
                    </a:gdLst>
                    <a:ahLst/>
                    <a:rect l="textAreaLeft" t="textAreaTop" r="textAreaRight" b="textAreaBottom"/>
                    <a:pathLst>
                      <a:path w="156" h="111">
                        <a:moveTo>
                          <a:pt x="156" y="100"/>
                        </a:moveTo>
                        <a:lnTo>
                          <a:pt x="156" y="100"/>
                        </a:lnTo>
                        <a:lnTo>
                          <a:pt x="145" y="89"/>
                        </a:lnTo>
                        <a:lnTo>
                          <a:pt x="122" y="67"/>
                        </a:lnTo>
                        <a:lnTo>
                          <a:pt x="100" y="56"/>
                        </a:lnTo>
                        <a:lnTo>
                          <a:pt x="78" y="33"/>
                        </a:lnTo>
                        <a:lnTo>
                          <a:pt x="55" y="22"/>
                        </a:lnTo>
                        <a:lnTo>
                          <a:pt x="33" y="11"/>
                        </a:lnTo>
                        <a:lnTo>
                          <a:pt x="22" y="11"/>
                        </a:lnTo>
                        <a:lnTo>
                          <a:pt x="11" y="0"/>
                        </a:lnTo>
                        <a:lnTo>
                          <a:pt x="0" y="11"/>
                        </a:lnTo>
                        <a:lnTo>
                          <a:pt x="11" y="22"/>
                        </a:lnTo>
                        <a:lnTo>
                          <a:pt x="22" y="33"/>
                        </a:lnTo>
                        <a:lnTo>
                          <a:pt x="44" y="44"/>
                        </a:lnTo>
                        <a:lnTo>
                          <a:pt x="67" y="56"/>
                        </a:lnTo>
                        <a:lnTo>
                          <a:pt x="100" y="67"/>
                        </a:lnTo>
                        <a:lnTo>
                          <a:pt x="111" y="78"/>
                        </a:lnTo>
                        <a:lnTo>
                          <a:pt x="133" y="100"/>
                        </a:lnTo>
                        <a:lnTo>
                          <a:pt x="145" y="111"/>
                        </a:lnTo>
                        <a:lnTo>
                          <a:pt x="156" y="100"/>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1644"/>
                  <p:cNvSpPr/>
                  <p:nvPr/>
                </p:nvSpPr>
                <p:spPr>
                  <a:xfrm rot="111600">
                    <a:off x="8147880" y="1347840"/>
                    <a:ext cx="4320" cy="21960"/>
                  </a:xfrm>
                  <a:custGeom>
                    <a:avLst/>
                    <a:gdLst>
                      <a:gd name="textAreaLeft" fmla="*/ 0 w 4320"/>
                      <a:gd name="textAreaRight" fmla="*/ 4680 w 4320"/>
                      <a:gd name="textAreaTop" fmla="*/ 0 h 21960"/>
                      <a:gd name="textAreaBottom" fmla="*/ 22320 h 21960"/>
                    </a:gdLst>
                    <a:ahLst/>
                    <a:rect l="textAreaLeft" t="textAreaTop" r="textAreaRight" b="textAreaBottom"/>
                    <a:pathLst>
                      <a:path w="34" h="167">
                        <a:moveTo>
                          <a:pt x="12" y="145"/>
                        </a:moveTo>
                        <a:lnTo>
                          <a:pt x="23" y="156"/>
                        </a:lnTo>
                        <a:lnTo>
                          <a:pt x="23" y="123"/>
                        </a:lnTo>
                        <a:lnTo>
                          <a:pt x="34" y="78"/>
                        </a:lnTo>
                        <a:lnTo>
                          <a:pt x="34" y="45"/>
                        </a:lnTo>
                        <a:lnTo>
                          <a:pt x="23" y="0"/>
                        </a:lnTo>
                        <a:lnTo>
                          <a:pt x="12" y="11"/>
                        </a:lnTo>
                        <a:lnTo>
                          <a:pt x="12" y="45"/>
                        </a:lnTo>
                        <a:lnTo>
                          <a:pt x="12" y="78"/>
                        </a:lnTo>
                        <a:lnTo>
                          <a:pt x="0" y="123"/>
                        </a:lnTo>
                        <a:lnTo>
                          <a:pt x="0" y="156"/>
                        </a:lnTo>
                        <a:lnTo>
                          <a:pt x="12" y="167"/>
                        </a:lnTo>
                        <a:lnTo>
                          <a:pt x="12" y="145"/>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1643"/>
                  <p:cNvSpPr/>
                  <p:nvPr/>
                </p:nvSpPr>
                <p:spPr>
                  <a:xfrm rot="111600">
                    <a:off x="8148960" y="1366920"/>
                    <a:ext cx="5400" cy="5760"/>
                  </a:xfrm>
                  <a:custGeom>
                    <a:avLst/>
                    <a:gdLst>
                      <a:gd name="textAreaLeft" fmla="*/ 0 w 5400"/>
                      <a:gd name="textAreaRight" fmla="*/ 5760 w 5400"/>
                      <a:gd name="textAreaTop" fmla="*/ 0 h 5760"/>
                      <a:gd name="textAreaBottom" fmla="*/ 6120 h 5760"/>
                    </a:gdLst>
                    <a:ahLst/>
                    <a:rect l="textAreaLeft" t="textAreaTop" r="textAreaRight" b="textAreaBottom"/>
                    <a:pathLst>
                      <a:path w="44" h="45">
                        <a:moveTo>
                          <a:pt x="44" y="34"/>
                        </a:moveTo>
                        <a:lnTo>
                          <a:pt x="33" y="34"/>
                        </a:lnTo>
                        <a:lnTo>
                          <a:pt x="33" y="22"/>
                        </a:lnTo>
                        <a:lnTo>
                          <a:pt x="22" y="11"/>
                        </a:lnTo>
                        <a:lnTo>
                          <a:pt x="11" y="11"/>
                        </a:lnTo>
                        <a:lnTo>
                          <a:pt x="0" y="0"/>
                        </a:lnTo>
                        <a:lnTo>
                          <a:pt x="0" y="22"/>
                        </a:lnTo>
                        <a:lnTo>
                          <a:pt x="11" y="34"/>
                        </a:lnTo>
                        <a:lnTo>
                          <a:pt x="22" y="34"/>
                        </a:lnTo>
                        <a:lnTo>
                          <a:pt x="22" y="45"/>
                        </a:lnTo>
                        <a:lnTo>
                          <a:pt x="44" y="34"/>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1642"/>
                  <p:cNvSpPr/>
                  <p:nvPr/>
                </p:nvSpPr>
                <p:spPr>
                  <a:xfrm rot="111600">
                    <a:off x="8150760" y="1371960"/>
                    <a:ext cx="11160" cy="61560"/>
                  </a:xfrm>
                  <a:custGeom>
                    <a:avLst/>
                    <a:gdLst>
                      <a:gd name="textAreaLeft" fmla="*/ 0 w 11160"/>
                      <a:gd name="textAreaRight" fmla="*/ 11520 w 11160"/>
                      <a:gd name="textAreaTop" fmla="*/ 0 h 61560"/>
                      <a:gd name="textAreaBottom" fmla="*/ 61920 h 61560"/>
                    </a:gdLst>
                    <a:ahLst/>
                    <a:rect l="textAreaLeft" t="textAreaTop" r="textAreaRight" b="textAreaBottom"/>
                    <a:pathLst>
                      <a:path w="89" h="468">
                        <a:moveTo>
                          <a:pt x="78" y="468"/>
                        </a:moveTo>
                        <a:lnTo>
                          <a:pt x="78" y="468"/>
                        </a:lnTo>
                        <a:lnTo>
                          <a:pt x="89" y="412"/>
                        </a:lnTo>
                        <a:lnTo>
                          <a:pt x="89" y="356"/>
                        </a:lnTo>
                        <a:lnTo>
                          <a:pt x="89" y="289"/>
                        </a:lnTo>
                        <a:lnTo>
                          <a:pt x="89" y="222"/>
                        </a:lnTo>
                        <a:lnTo>
                          <a:pt x="78" y="156"/>
                        </a:lnTo>
                        <a:lnTo>
                          <a:pt x="67" y="100"/>
                        </a:lnTo>
                        <a:lnTo>
                          <a:pt x="45" y="44"/>
                        </a:lnTo>
                        <a:lnTo>
                          <a:pt x="22" y="0"/>
                        </a:lnTo>
                        <a:lnTo>
                          <a:pt x="0" y="11"/>
                        </a:lnTo>
                        <a:lnTo>
                          <a:pt x="33" y="55"/>
                        </a:lnTo>
                        <a:lnTo>
                          <a:pt x="45" y="100"/>
                        </a:lnTo>
                        <a:lnTo>
                          <a:pt x="67" y="167"/>
                        </a:lnTo>
                        <a:lnTo>
                          <a:pt x="78" y="222"/>
                        </a:lnTo>
                        <a:lnTo>
                          <a:pt x="78" y="289"/>
                        </a:lnTo>
                        <a:lnTo>
                          <a:pt x="78" y="356"/>
                        </a:lnTo>
                        <a:lnTo>
                          <a:pt x="67" y="412"/>
                        </a:lnTo>
                        <a:lnTo>
                          <a:pt x="56" y="468"/>
                        </a:lnTo>
                        <a:lnTo>
                          <a:pt x="78" y="468"/>
                        </a:lnTo>
                        <a:close/>
                      </a:path>
                    </a:pathLst>
                  </a:custGeom>
                  <a:solidFill>
                    <a:srgbClr val="000000"/>
                  </a:solidFill>
                  <a:ln w="0">
                    <a:no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1641"/>
                  <p:cNvSpPr/>
                  <p:nvPr/>
                </p:nvSpPr>
                <p:spPr>
                  <a:xfrm rot="111600">
                    <a:off x="8154000" y="1433520"/>
                    <a:ext cx="5400" cy="11520"/>
                  </a:xfrm>
                  <a:custGeom>
                    <a:avLst/>
                    <a:gdLst>
                      <a:gd name="textAreaLeft" fmla="*/ 0 w 5400"/>
                      <a:gd name="textAreaRight" fmla="*/ 5760 w 5400"/>
                      <a:gd name="textAreaTop" fmla="*/ 0 h 11520"/>
                      <a:gd name="textAreaBottom" fmla="*/ 11880 h 11520"/>
                    </a:gdLst>
                    <a:ahLst/>
                    <a:rect l="textAreaLeft" t="textAreaTop" r="textAreaRight" b="textAreaBottom"/>
                    <a:pathLst>
                      <a:path w="45" h="89">
                        <a:moveTo>
                          <a:pt x="0" y="89"/>
                        </a:moveTo>
                        <a:lnTo>
                          <a:pt x="12" y="89"/>
                        </a:lnTo>
                        <a:lnTo>
                          <a:pt x="23" y="78"/>
                        </a:lnTo>
                        <a:lnTo>
                          <a:pt x="34" y="55"/>
                        </a:lnTo>
                        <a:lnTo>
                          <a:pt x="34" y="33"/>
                        </a:lnTo>
                        <a:lnTo>
                          <a:pt x="45" y="0"/>
                        </a:lnTo>
                        <a:lnTo>
                          <a:pt x="23" y="0"/>
                        </a:lnTo>
                        <a:lnTo>
                          <a:pt x="23" y="33"/>
                        </a:lnTo>
                        <a:lnTo>
                          <a:pt x="12" y="44"/>
                        </a:lnTo>
                        <a:lnTo>
                          <a:pt x="12" y="67"/>
                        </a:lnTo>
                        <a:lnTo>
                          <a:pt x="0" y="78"/>
                        </a:lnTo>
                        <a:lnTo>
                          <a:pt x="0"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1640"/>
                  <p:cNvSpPr/>
                  <p:nvPr/>
                </p:nvSpPr>
                <p:spPr>
                  <a:xfrm rot="111600">
                    <a:off x="8146440" y="1443600"/>
                    <a:ext cx="6840" cy="2880"/>
                  </a:xfrm>
                  <a:custGeom>
                    <a:avLst/>
                    <a:gdLst>
                      <a:gd name="textAreaLeft" fmla="*/ 0 w 6840"/>
                      <a:gd name="textAreaRight" fmla="*/ 7200 w 6840"/>
                      <a:gd name="textAreaTop" fmla="*/ 0 h 2880"/>
                      <a:gd name="textAreaBottom" fmla="*/ 3240 h 2880"/>
                    </a:gdLst>
                    <a:ahLst/>
                    <a:rect l="textAreaLeft" t="textAreaTop" r="textAreaRight" b="textAreaBottom"/>
                    <a:pathLst>
                      <a:path w="55" h="22">
                        <a:moveTo>
                          <a:pt x="0" y="22"/>
                        </a:moveTo>
                        <a:lnTo>
                          <a:pt x="0" y="22"/>
                        </a:lnTo>
                        <a:lnTo>
                          <a:pt x="11" y="22"/>
                        </a:lnTo>
                        <a:lnTo>
                          <a:pt x="22" y="22"/>
                        </a:lnTo>
                        <a:lnTo>
                          <a:pt x="33" y="22"/>
                        </a:lnTo>
                        <a:lnTo>
                          <a:pt x="44" y="22"/>
                        </a:lnTo>
                        <a:lnTo>
                          <a:pt x="44" y="11"/>
                        </a:lnTo>
                        <a:lnTo>
                          <a:pt x="55" y="11"/>
                        </a:lnTo>
                        <a:lnTo>
                          <a:pt x="55" y="0"/>
                        </a:lnTo>
                        <a:lnTo>
                          <a:pt x="44" y="0"/>
                        </a:lnTo>
                        <a:lnTo>
                          <a:pt x="33" y="0"/>
                        </a:lnTo>
                        <a:lnTo>
                          <a:pt x="22" y="0"/>
                        </a:lnTo>
                        <a:lnTo>
                          <a:pt x="11" y="0"/>
                        </a:lnTo>
                        <a:lnTo>
                          <a:pt x="0" y="0"/>
                        </a:lnTo>
                        <a:lnTo>
                          <a:pt x="0" y="22"/>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1639"/>
                  <p:cNvSpPr/>
                  <p:nvPr/>
                </p:nvSpPr>
                <p:spPr>
                  <a:xfrm rot="111600">
                    <a:off x="8123400" y="1442880"/>
                    <a:ext cx="22680" cy="36360"/>
                  </a:xfrm>
                  <a:custGeom>
                    <a:avLst/>
                    <a:gdLst>
                      <a:gd name="textAreaLeft" fmla="*/ 0 w 22680"/>
                      <a:gd name="textAreaRight" fmla="*/ 23040 w 22680"/>
                      <a:gd name="textAreaTop" fmla="*/ 0 h 36360"/>
                      <a:gd name="textAreaBottom" fmla="*/ 36720 h 36360"/>
                    </a:gdLst>
                    <a:ahLst/>
                    <a:rect l="textAreaLeft" t="textAreaTop" r="textAreaRight" b="textAreaBottom"/>
                    <a:pathLst>
                      <a:path w="179" h="278">
                        <a:moveTo>
                          <a:pt x="0" y="278"/>
                        </a:moveTo>
                        <a:lnTo>
                          <a:pt x="23" y="278"/>
                        </a:lnTo>
                        <a:lnTo>
                          <a:pt x="34" y="245"/>
                        </a:lnTo>
                        <a:lnTo>
                          <a:pt x="56" y="200"/>
                        </a:lnTo>
                        <a:lnTo>
                          <a:pt x="67" y="167"/>
                        </a:lnTo>
                        <a:lnTo>
                          <a:pt x="78" y="122"/>
                        </a:lnTo>
                        <a:lnTo>
                          <a:pt x="101" y="89"/>
                        </a:lnTo>
                        <a:lnTo>
                          <a:pt x="123" y="55"/>
                        </a:lnTo>
                        <a:lnTo>
                          <a:pt x="145" y="33"/>
                        </a:lnTo>
                        <a:lnTo>
                          <a:pt x="179" y="22"/>
                        </a:lnTo>
                        <a:lnTo>
                          <a:pt x="179" y="0"/>
                        </a:lnTo>
                        <a:lnTo>
                          <a:pt x="134" y="11"/>
                        </a:lnTo>
                        <a:lnTo>
                          <a:pt x="101" y="44"/>
                        </a:lnTo>
                        <a:lnTo>
                          <a:pt x="78" y="78"/>
                        </a:lnTo>
                        <a:lnTo>
                          <a:pt x="67" y="111"/>
                        </a:lnTo>
                        <a:lnTo>
                          <a:pt x="45" y="156"/>
                        </a:lnTo>
                        <a:lnTo>
                          <a:pt x="34" y="200"/>
                        </a:lnTo>
                        <a:lnTo>
                          <a:pt x="23" y="234"/>
                        </a:lnTo>
                        <a:lnTo>
                          <a:pt x="0" y="267"/>
                        </a:lnTo>
                        <a:lnTo>
                          <a:pt x="23" y="267"/>
                        </a:lnTo>
                        <a:lnTo>
                          <a:pt x="0" y="278"/>
                        </a:lnTo>
                        <a:close/>
                      </a:path>
                    </a:pathLst>
                  </a:custGeom>
                  <a:solidFill>
                    <a:srgbClr val="0000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1638"/>
                  <p:cNvSpPr/>
                  <p:nvPr/>
                </p:nvSpPr>
                <p:spPr>
                  <a:xfrm rot="111600">
                    <a:off x="8118360" y="1467720"/>
                    <a:ext cx="6840" cy="11520"/>
                  </a:xfrm>
                  <a:custGeom>
                    <a:avLst/>
                    <a:gdLst>
                      <a:gd name="textAreaLeft" fmla="*/ 0 w 6840"/>
                      <a:gd name="textAreaRight" fmla="*/ 7200 w 6840"/>
                      <a:gd name="textAreaTop" fmla="*/ 0 h 11520"/>
                      <a:gd name="textAreaBottom" fmla="*/ 11880 h 11520"/>
                    </a:gdLst>
                    <a:ahLst/>
                    <a:rect l="textAreaLeft" t="textAreaTop" r="textAreaRight" b="textAreaBottom"/>
                    <a:pathLst>
                      <a:path w="56" h="89">
                        <a:moveTo>
                          <a:pt x="0" y="11"/>
                        </a:moveTo>
                        <a:lnTo>
                          <a:pt x="0" y="11"/>
                        </a:lnTo>
                        <a:lnTo>
                          <a:pt x="11" y="34"/>
                        </a:lnTo>
                        <a:lnTo>
                          <a:pt x="11" y="45"/>
                        </a:lnTo>
                        <a:lnTo>
                          <a:pt x="22" y="67"/>
                        </a:lnTo>
                        <a:lnTo>
                          <a:pt x="33" y="89"/>
                        </a:lnTo>
                        <a:lnTo>
                          <a:pt x="56" y="78"/>
                        </a:lnTo>
                        <a:lnTo>
                          <a:pt x="44" y="67"/>
                        </a:lnTo>
                        <a:lnTo>
                          <a:pt x="33" y="45"/>
                        </a:lnTo>
                        <a:lnTo>
                          <a:pt x="22" y="22"/>
                        </a:lnTo>
                        <a:lnTo>
                          <a:pt x="22" y="0"/>
                        </a:lnTo>
                        <a:lnTo>
                          <a:pt x="0" y="11"/>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1637"/>
                  <p:cNvSpPr/>
                  <p:nvPr/>
                </p:nvSpPr>
                <p:spPr>
                  <a:xfrm rot="111600">
                    <a:off x="8103600" y="1427400"/>
                    <a:ext cx="18360" cy="41040"/>
                  </a:xfrm>
                  <a:custGeom>
                    <a:avLst/>
                    <a:gdLst>
                      <a:gd name="textAreaLeft" fmla="*/ 0 w 18360"/>
                      <a:gd name="textAreaRight" fmla="*/ 18720 w 18360"/>
                      <a:gd name="textAreaTop" fmla="*/ 0 h 41040"/>
                      <a:gd name="textAreaBottom" fmla="*/ 41400 h 41040"/>
                    </a:gdLst>
                    <a:ahLst/>
                    <a:rect l="textAreaLeft" t="textAreaTop" r="textAreaRight" b="textAreaBottom"/>
                    <a:pathLst>
                      <a:path w="145" h="312">
                        <a:moveTo>
                          <a:pt x="0" y="11"/>
                        </a:moveTo>
                        <a:lnTo>
                          <a:pt x="0" y="11"/>
                        </a:lnTo>
                        <a:lnTo>
                          <a:pt x="34" y="34"/>
                        </a:lnTo>
                        <a:lnTo>
                          <a:pt x="56" y="67"/>
                        </a:lnTo>
                        <a:lnTo>
                          <a:pt x="67" y="89"/>
                        </a:lnTo>
                        <a:lnTo>
                          <a:pt x="89" y="123"/>
                        </a:lnTo>
                        <a:lnTo>
                          <a:pt x="101" y="167"/>
                        </a:lnTo>
                        <a:lnTo>
                          <a:pt x="112" y="212"/>
                        </a:lnTo>
                        <a:lnTo>
                          <a:pt x="112" y="257"/>
                        </a:lnTo>
                        <a:lnTo>
                          <a:pt x="123" y="312"/>
                        </a:lnTo>
                        <a:lnTo>
                          <a:pt x="145" y="301"/>
                        </a:lnTo>
                        <a:lnTo>
                          <a:pt x="134" y="257"/>
                        </a:lnTo>
                        <a:lnTo>
                          <a:pt x="123" y="201"/>
                        </a:lnTo>
                        <a:lnTo>
                          <a:pt x="123" y="156"/>
                        </a:lnTo>
                        <a:lnTo>
                          <a:pt x="101" y="123"/>
                        </a:lnTo>
                        <a:lnTo>
                          <a:pt x="89" y="89"/>
                        </a:lnTo>
                        <a:lnTo>
                          <a:pt x="67" y="56"/>
                        </a:lnTo>
                        <a:lnTo>
                          <a:pt x="45" y="23"/>
                        </a:lnTo>
                        <a:lnTo>
                          <a:pt x="11" y="0"/>
                        </a:lnTo>
                        <a:lnTo>
                          <a:pt x="0" y="11"/>
                        </a:lnTo>
                        <a:close/>
                      </a:path>
                    </a:pathLst>
                  </a:custGeom>
                  <a:solidFill>
                    <a:srgbClr val="0000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1636"/>
                  <p:cNvSpPr/>
                  <p:nvPr/>
                </p:nvSpPr>
                <p:spPr>
                  <a:xfrm rot="111600">
                    <a:off x="8087400" y="1418040"/>
                    <a:ext cx="18360" cy="10080"/>
                  </a:xfrm>
                  <a:custGeom>
                    <a:avLst/>
                    <a:gdLst>
                      <a:gd name="textAreaLeft" fmla="*/ 0 w 18360"/>
                      <a:gd name="textAreaRight" fmla="*/ 18720 w 18360"/>
                      <a:gd name="textAreaTop" fmla="*/ 0 h 10080"/>
                      <a:gd name="textAreaBottom" fmla="*/ 10440 h 10080"/>
                    </a:gdLst>
                    <a:ahLst/>
                    <a:rect l="textAreaLeft" t="textAreaTop" r="textAreaRight" b="textAreaBottom"/>
                    <a:pathLst>
                      <a:path w="144" h="78">
                        <a:moveTo>
                          <a:pt x="0" y="23"/>
                        </a:moveTo>
                        <a:lnTo>
                          <a:pt x="0" y="23"/>
                        </a:lnTo>
                        <a:lnTo>
                          <a:pt x="11" y="11"/>
                        </a:lnTo>
                        <a:lnTo>
                          <a:pt x="33" y="23"/>
                        </a:lnTo>
                        <a:lnTo>
                          <a:pt x="44" y="23"/>
                        </a:lnTo>
                        <a:lnTo>
                          <a:pt x="66" y="34"/>
                        </a:lnTo>
                        <a:lnTo>
                          <a:pt x="78" y="45"/>
                        </a:lnTo>
                        <a:lnTo>
                          <a:pt x="100" y="56"/>
                        </a:lnTo>
                        <a:lnTo>
                          <a:pt x="122" y="67"/>
                        </a:lnTo>
                        <a:lnTo>
                          <a:pt x="133" y="78"/>
                        </a:lnTo>
                        <a:lnTo>
                          <a:pt x="144" y="67"/>
                        </a:lnTo>
                        <a:lnTo>
                          <a:pt x="133" y="56"/>
                        </a:lnTo>
                        <a:lnTo>
                          <a:pt x="111" y="45"/>
                        </a:lnTo>
                        <a:lnTo>
                          <a:pt x="89" y="23"/>
                        </a:lnTo>
                        <a:lnTo>
                          <a:pt x="66" y="11"/>
                        </a:lnTo>
                        <a:lnTo>
                          <a:pt x="55" y="11"/>
                        </a:lnTo>
                        <a:lnTo>
                          <a:pt x="33" y="0"/>
                        </a:lnTo>
                        <a:lnTo>
                          <a:pt x="11" y="0"/>
                        </a:lnTo>
                        <a:lnTo>
                          <a:pt x="0" y="0"/>
                        </a:lnTo>
                        <a:lnTo>
                          <a:pt x="0" y="23"/>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1635"/>
                  <p:cNvSpPr/>
                  <p:nvPr/>
                </p:nvSpPr>
                <p:spPr>
                  <a:xfrm rot="111600">
                    <a:off x="8074800" y="140328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101" h="134">
                        <a:moveTo>
                          <a:pt x="11" y="11"/>
                        </a:moveTo>
                        <a:lnTo>
                          <a:pt x="0" y="11"/>
                        </a:lnTo>
                        <a:lnTo>
                          <a:pt x="0" y="33"/>
                        </a:lnTo>
                        <a:lnTo>
                          <a:pt x="11" y="56"/>
                        </a:lnTo>
                        <a:lnTo>
                          <a:pt x="23" y="78"/>
                        </a:lnTo>
                        <a:lnTo>
                          <a:pt x="34" y="100"/>
                        </a:lnTo>
                        <a:lnTo>
                          <a:pt x="45" y="111"/>
                        </a:lnTo>
                        <a:lnTo>
                          <a:pt x="67" y="122"/>
                        </a:lnTo>
                        <a:lnTo>
                          <a:pt x="78" y="134"/>
                        </a:lnTo>
                        <a:lnTo>
                          <a:pt x="101" y="134"/>
                        </a:lnTo>
                        <a:lnTo>
                          <a:pt x="101" y="111"/>
                        </a:lnTo>
                        <a:lnTo>
                          <a:pt x="89" y="111"/>
                        </a:lnTo>
                        <a:lnTo>
                          <a:pt x="67" y="100"/>
                        </a:lnTo>
                        <a:lnTo>
                          <a:pt x="56" y="100"/>
                        </a:lnTo>
                        <a:lnTo>
                          <a:pt x="45" y="89"/>
                        </a:lnTo>
                        <a:lnTo>
                          <a:pt x="34" y="67"/>
                        </a:lnTo>
                        <a:lnTo>
                          <a:pt x="23" y="56"/>
                        </a:lnTo>
                        <a:lnTo>
                          <a:pt x="23" y="33"/>
                        </a:lnTo>
                        <a:lnTo>
                          <a:pt x="23" y="11"/>
                        </a:lnTo>
                        <a:lnTo>
                          <a:pt x="11" y="0"/>
                        </a:lnTo>
                        <a:lnTo>
                          <a:pt x="11" y="11"/>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1634"/>
                  <p:cNvSpPr/>
                  <p:nvPr/>
                </p:nvSpPr>
                <p:spPr>
                  <a:xfrm rot="111600">
                    <a:off x="8066520" y="140292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78" h="33">
                        <a:moveTo>
                          <a:pt x="0" y="22"/>
                        </a:moveTo>
                        <a:lnTo>
                          <a:pt x="12" y="33"/>
                        </a:lnTo>
                        <a:lnTo>
                          <a:pt x="23" y="22"/>
                        </a:lnTo>
                        <a:lnTo>
                          <a:pt x="34" y="22"/>
                        </a:lnTo>
                        <a:lnTo>
                          <a:pt x="45" y="22"/>
                        </a:lnTo>
                        <a:lnTo>
                          <a:pt x="56" y="22"/>
                        </a:lnTo>
                        <a:lnTo>
                          <a:pt x="67" y="22"/>
                        </a:lnTo>
                        <a:lnTo>
                          <a:pt x="78" y="11"/>
                        </a:lnTo>
                        <a:lnTo>
                          <a:pt x="78" y="0"/>
                        </a:lnTo>
                        <a:lnTo>
                          <a:pt x="67" y="0"/>
                        </a:lnTo>
                        <a:lnTo>
                          <a:pt x="56" y="0"/>
                        </a:lnTo>
                        <a:lnTo>
                          <a:pt x="45" y="0"/>
                        </a:lnTo>
                        <a:lnTo>
                          <a:pt x="34" y="11"/>
                        </a:lnTo>
                        <a:lnTo>
                          <a:pt x="23" y="11"/>
                        </a:lnTo>
                        <a:lnTo>
                          <a:pt x="12" y="11"/>
                        </a:lnTo>
                        <a:lnTo>
                          <a:pt x="23" y="11"/>
                        </a:lnTo>
                        <a:lnTo>
                          <a:pt x="0" y="2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1633"/>
                  <p:cNvSpPr/>
                  <p:nvPr/>
                </p:nvSpPr>
                <p:spPr>
                  <a:xfrm rot="111600">
                    <a:off x="8058600" y="1375920"/>
                    <a:ext cx="11160" cy="29160"/>
                  </a:xfrm>
                  <a:custGeom>
                    <a:avLst/>
                    <a:gdLst>
                      <a:gd name="textAreaLeft" fmla="*/ 0 w 11160"/>
                      <a:gd name="textAreaRight" fmla="*/ 11520 w 11160"/>
                      <a:gd name="textAreaTop" fmla="*/ 0 h 29160"/>
                      <a:gd name="textAreaBottom" fmla="*/ 29520 h 29160"/>
                    </a:gdLst>
                    <a:ahLst/>
                    <a:rect l="textAreaLeft" t="textAreaTop" r="textAreaRight" b="textAreaBottom"/>
                    <a:pathLst>
                      <a:path w="90" h="223">
                        <a:moveTo>
                          <a:pt x="23" y="0"/>
                        </a:moveTo>
                        <a:lnTo>
                          <a:pt x="0" y="0"/>
                        </a:lnTo>
                        <a:lnTo>
                          <a:pt x="0" y="34"/>
                        </a:lnTo>
                        <a:lnTo>
                          <a:pt x="12" y="67"/>
                        </a:lnTo>
                        <a:lnTo>
                          <a:pt x="23" y="101"/>
                        </a:lnTo>
                        <a:lnTo>
                          <a:pt x="23" y="134"/>
                        </a:lnTo>
                        <a:lnTo>
                          <a:pt x="34" y="156"/>
                        </a:lnTo>
                        <a:lnTo>
                          <a:pt x="45" y="190"/>
                        </a:lnTo>
                        <a:lnTo>
                          <a:pt x="56" y="201"/>
                        </a:lnTo>
                        <a:lnTo>
                          <a:pt x="67" y="223"/>
                        </a:lnTo>
                        <a:lnTo>
                          <a:pt x="90" y="212"/>
                        </a:lnTo>
                        <a:lnTo>
                          <a:pt x="79" y="201"/>
                        </a:lnTo>
                        <a:lnTo>
                          <a:pt x="67" y="179"/>
                        </a:lnTo>
                        <a:lnTo>
                          <a:pt x="56" y="156"/>
                        </a:lnTo>
                        <a:lnTo>
                          <a:pt x="45" y="123"/>
                        </a:lnTo>
                        <a:lnTo>
                          <a:pt x="34" y="89"/>
                        </a:lnTo>
                        <a:lnTo>
                          <a:pt x="34" y="67"/>
                        </a:lnTo>
                        <a:lnTo>
                          <a:pt x="23" y="34"/>
                        </a:lnTo>
                        <a:lnTo>
                          <a:pt x="23" y="0"/>
                        </a:lnTo>
                        <a:lnTo>
                          <a:pt x="0" y="0"/>
                        </a:lnTo>
                        <a:lnTo>
                          <a:pt x="23" y="0"/>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4" name="AutoShape 1631"/>
                <p:cNvSpPr/>
                <p:nvPr/>
              </p:nvSpPr>
              <p:spPr>
                <a:xfrm>
                  <a:off x="8081640" y="917280"/>
                  <a:ext cx="391680" cy="518040"/>
                </a:xfrm>
                <a:custGeom>
                  <a:avLst/>
                  <a:gdLst>
                    <a:gd name="textAreaLeft" fmla="*/ 52200 w 391680"/>
                    <a:gd name="textAreaRight" fmla="*/ 339480 w 391680"/>
                    <a:gd name="textAreaTop" fmla="*/ 98280 h 518040"/>
                    <a:gd name="textAreaBottom" fmla="*/ 367920 h 518040"/>
                  </a:gdLst>
                  <a:ahLst/>
                  <a:rect l="textAreaLeft" t="textAreaTop" r="textAreaRight" b="textAreaBottom"/>
                  <a:pathLst>
                    <a:path w="21600" h="21600">
                      <a:moveTo>
                        <a:pt x="21600" y="0"/>
                      </a:moveTo>
                      <a:arcTo wR="21600" hR="8196" stAng="-5400000" swAng="-5400000"/>
                      <a:lnTo>
                        <a:pt x="0" y="11245"/>
                      </a:lnTo>
                      <a:arcTo wR="21600" hR="8196" stAng="10800000" swAng="-2878634"/>
                      <a:lnTo>
                        <a:pt x="14612" y="21159"/>
                      </a:lnTo>
                      <a:lnTo>
                        <a:pt x="21600" y="17916"/>
                      </a:lnTo>
                      <a:lnTo>
                        <a:pt x="14612" y="13790"/>
                      </a:lnTo>
                      <a:lnTo>
                        <a:pt x="14612" y="15950"/>
                      </a:lnTo>
                      <a:arcTo wR="21600" hR="8196" stAng="7921366" swAng="2632116"/>
                      <a:lnTo>
                        <a:pt x="377" y="9720"/>
                      </a:lnTo>
                      <a:arcTo wR="21600" hR="8196" stAng="-10553482" swAng="5153482"/>
                      <a:close/>
                    </a:path>
                    <a:path fill="darkenLess" w="21600" h="21600">
                      <a:moveTo>
                        <a:pt x="21600" y="0"/>
                      </a:moveTo>
                      <a:arcTo wR="21600" hR="8196" stAng="-5400000" swAng="-5400000"/>
                      <a:lnTo>
                        <a:pt x="0" y="8196"/>
                      </a:lnTo>
                      <a:arcTo wR="21600" hR="8196" stAng="10800000" swAng="-246518"/>
                      <a:lnTo>
                        <a:pt x="377" y="9720"/>
                      </a:lnTo>
                      <a:arcTo wR="21600" hR="8196" stAng="-10553482" swAng="5153482"/>
                      <a:close/>
                    </a:path>
                  </a:pathLst>
                </a:custGeom>
                <a:solidFill>
                  <a:srgbClr val="ff0000"/>
                </a:solidFill>
                <a:ln w="9360">
                  <a:solidFill>
                    <a:srgbClr val="ff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5" name="WordArt 1629"/>
              <p:cNvSpPr txBox="1"/>
              <p:nvPr/>
            </p:nvSpPr>
            <p:spPr>
              <a:xfrm>
                <a:off x="8362080" y="1062000"/>
                <a:ext cx="448560" cy="2084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Tahoma"/>
                  </a:rPr>
                  <a:t>الحلقة</a:t>
                </a:r>
                <a:endParaRPr b="1" lang="en-US" sz="1800" spc="1" strike="noStrike">
                  <a:ln w="9360">
                    <a:solidFill>
                      <a:srgbClr val="000000"/>
                    </a:solidFill>
                    <a:miter/>
                  </a:ln>
                  <a:solidFill>
                    <a:srgbClr val="000000"/>
                  </a:solidFill>
                  <a:latin typeface="Tahoma"/>
                  <a:ea typeface="Tahoma"/>
                </a:endParaRPr>
              </a:p>
            </p:txBody>
          </p:sp>
        </p:grpSp>
        <p:pic>
          <p:nvPicPr>
            <p:cNvPr id="666" name="Picture 1627" descr=""/>
            <p:cNvPicPr/>
            <p:nvPr/>
          </p:nvPicPr>
          <p:blipFill>
            <a:blip r:embed="rId2"/>
            <a:stretch/>
          </p:blipFill>
          <p:spPr>
            <a:xfrm>
              <a:off x="6716520" y="739080"/>
              <a:ext cx="933840" cy="962280"/>
            </a:xfrm>
            <a:prstGeom prst="rect">
              <a:avLst/>
            </a:prstGeom>
            <a:ln w="0">
              <a:noFill/>
            </a:ln>
          </p:spPr>
        </p:pic>
        <p:pic>
          <p:nvPicPr>
            <p:cNvPr id="667" name="Picture 1626" descr=""/>
            <p:cNvPicPr/>
            <p:nvPr/>
          </p:nvPicPr>
          <p:blipFill>
            <a:blip r:embed="rId3"/>
            <a:stretch/>
          </p:blipFill>
          <p:spPr>
            <a:xfrm>
              <a:off x="4794120" y="790560"/>
              <a:ext cx="648000" cy="834120"/>
            </a:xfrm>
            <a:prstGeom prst="rect">
              <a:avLst/>
            </a:prstGeom>
            <a:ln w="0">
              <a:noFill/>
            </a:ln>
          </p:spPr>
        </p:pic>
        <p:pic>
          <p:nvPicPr>
            <p:cNvPr id="668" name="صورة 589" descr=""/>
            <p:cNvPicPr/>
            <p:nvPr/>
          </p:nvPicPr>
          <p:blipFill>
            <a:blip r:embed="rId4"/>
            <a:stretch/>
          </p:blipFill>
          <p:spPr>
            <a:xfrm>
              <a:off x="3943080" y="757080"/>
              <a:ext cx="499680" cy="555840"/>
            </a:xfrm>
            <a:prstGeom prst="rect">
              <a:avLst/>
            </a:prstGeom>
            <a:ln w="0">
              <a:noFill/>
            </a:ln>
          </p:spPr>
        </p:pic>
        <p:pic>
          <p:nvPicPr>
            <p:cNvPr id="669" name="صورة 590" descr=""/>
            <p:cNvPicPr/>
            <p:nvPr/>
          </p:nvPicPr>
          <p:blipFill>
            <a:blip r:embed="rId5"/>
            <a:stretch/>
          </p:blipFill>
          <p:spPr>
            <a:xfrm flipH="1">
              <a:off x="3696120" y="1214280"/>
              <a:ext cx="363600" cy="543600"/>
            </a:xfrm>
            <a:prstGeom prst="rect">
              <a:avLst/>
            </a:prstGeom>
            <a:ln w="0">
              <a:noFill/>
            </a:ln>
          </p:spPr>
        </p:pic>
        <p:pic>
          <p:nvPicPr>
            <p:cNvPr id="670" name="صورة 591" descr=""/>
            <p:cNvPicPr/>
            <p:nvPr/>
          </p:nvPicPr>
          <p:blipFill>
            <a:blip r:embed="rId6"/>
            <a:stretch/>
          </p:blipFill>
          <p:spPr>
            <a:xfrm flipH="1" rot="20717400">
              <a:off x="4146480" y="1313280"/>
              <a:ext cx="455040" cy="407520"/>
            </a:xfrm>
            <a:prstGeom prst="rect">
              <a:avLst/>
            </a:prstGeom>
            <a:ln w="0">
              <a:noFill/>
            </a:ln>
          </p:spPr>
        </p:pic>
        <p:sp>
          <p:nvSpPr>
            <p:cNvPr id="671" name="WordArt 1622"/>
            <p:cNvSpPr txBox="1"/>
            <p:nvPr/>
          </p:nvSpPr>
          <p:spPr>
            <a:xfrm>
              <a:off x="3762720" y="1752480"/>
              <a:ext cx="764640" cy="2959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0000"/>
                    </a:solidFill>
                    <a:miter/>
                  </a:ln>
                  <a:solidFill>
                    <a:srgbClr val="000000"/>
                  </a:solidFill>
                  <a:latin typeface="Tahoma"/>
                </a:rPr>
                <a:t>اللعب في الخارج</a:t>
              </a:r>
              <a:endParaRPr b="0" lang="en-US" sz="4400" spc="1" strike="noStrike">
                <a:ln w="9360">
                  <a:solidFill>
                    <a:srgbClr val="000000"/>
                  </a:solidFill>
                  <a:miter/>
                </a:ln>
                <a:solidFill>
                  <a:srgbClr val="000000"/>
                </a:solidFill>
                <a:latin typeface="Tahoma"/>
                <a:ea typeface="Tahoma"/>
              </a:endParaRPr>
            </a:p>
          </p:txBody>
        </p:sp>
        <p:pic>
          <p:nvPicPr>
            <p:cNvPr id="672" name="صورة 596" descr=""/>
            <p:cNvPicPr/>
            <p:nvPr/>
          </p:nvPicPr>
          <p:blipFill>
            <a:blip r:embed="rId7"/>
            <a:stretch/>
          </p:blipFill>
          <p:spPr>
            <a:xfrm>
              <a:off x="1683000" y="549360"/>
              <a:ext cx="925560" cy="963360"/>
            </a:xfrm>
            <a:prstGeom prst="rect">
              <a:avLst/>
            </a:prstGeom>
            <a:ln w="0">
              <a:noFill/>
            </a:ln>
          </p:spPr>
        </p:pic>
        <p:grpSp>
          <p:nvGrpSpPr>
            <p:cNvPr id="673" name="Group 1333"/>
            <p:cNvGrpSpPr/>
            <p:nvPr/>
          </p:nvGrpSpPr>
          <p:grpSpPr>
            <a:xfrm>
              <a:off x="5674680" y="780120"/>
              <a:ext cx="602280" cy="1166760"/>
              <a:chOff x="5674680" y="780120"/>
              <a:chExt cx="602280" cy="1166760"/>
            </a:xfrm>
          </p:grpSpPr>
          <p:grpSp>
            <p:nvGrpSpPr>
              <p:cNvPr id="674" name="Group 1335"/>
              <p:cNvGrpSpPr/>
              <p:nvPr/>
            </p:nvGrpSpPr>
            <p:grpSpPr>
              <a:xfrm>
                <a:off x="5674680" y="780120"/>
                <a:ext cx="384120" cy="1166760"/>
                <a:chOff x="5674680" y="780120"/>
                <a:chExt cx="384120" cy="1166760"/>
              </a:xfrm>
            </p:grpSpPr>
            <p:grpSp>
              <p:nvGrpSpPr>
                <p:cNvPr id="675" name="Group 1420"/>
                <p:cNvGrpSpPr/>
                <p:nvPr/>
              </p:nvGrpSpPr>
              <p:grpSpPr>
                <a:xfrm>
                  <a:off x="5674680" y="780120"/>
                  <a:ext cx="384120" cy="806040"/>
                  <a:chOff x="5674680" y="780120"/>
                  <a:chExt cx="384120" cy="806040"/>
                </a:xfrm>
              </p:grpSpPr>
              <p:sp>
                <p:nvSpPr>
                  <p:cNvPr id="676" name="Freeform 1620"/>
                  <p:cNvSpPr/>
                  <p:nvPr/>
                </p:nvSpPr>
                <p:spPr>
                  <a:xfrm rot="111600">
                    <a:off x="5730120" y="1017360"/>
                    <a:ext cx="120600" cy="221760"/>
                  </a:xfrm>
                  <a:custGeom>
                    <a:avLst/>
                    <a:gdLst>
                      <a:gd name="textAreaLeft" fmla="*/ 0 w 120600"/>
                      <a:gd name="textAreaRight" fmla="*/ 120960 w 120600"/>
                      <a:gd name="textAreaTop" fmla="*/ 0 h 221760"/>
                      <a:gd name="textAreaBottom" fmla="*/ 222120 h 221760"/>
                    </a:gdLst>
                    <a:ahLst/>
                    <a:rect l="textAreaLeft" t="textAreaTop" r="textAreaRight" b="textAreaBottom"/>
                    <a:pathLst>
                      <a:path w="1103" h="1371">
                        <a:moveTo>
                          <a:pt x="513" y="0"/>
                        </a:moveTo>
                        <a:lnTo>
                          <a:pt x="580" y="12"/>
                        </a:lnTo>
                        <a:lnTo>
                          <a:pt x="647" y="23"/>
                        </a:lnTo>
                        <a:lnTo>
                          <a:pt x="702" y="34"/>
                        </a:lnTo>
                        <a:lnTo>
                          <a:pt x="758" y="56"/>
                        </a:lnTo>
                        <a:lnTo>
                          <a:pt x="814" y="79"/>
                        </a:lnTo>
                        <a:lnTo>
                          <a:pt x="858" y="112"/>
                        </a:lnTo>
                        <a:lnTo>
                          <a:pt x="903" y="145"/>
                        </a:lnTo>
                        <a:lnTo>
                          <a:pt x="947" y="190"/>
                        </a:lnTo>
                        <a:lnTo>
                          <a:pt x="981" y="235"/>
                        </a:lnTo>
                        <a:lnTo>
                          <a:pt x="1014" y="290"/>
                        </a:lnTo>
                        <a:lnTo>
                          <a:pt x="1037" y="335"/>
                        </a:lnTo>
                        <a:lnTo>
                          <a:pt x="1059" y="391"/>
                        </a:lnTo>
                        <a:lnTo>
                          <a:pt x="1081" y="457"/>
                        </a:lnTo>
                        <a:lnTo>
                          <a:pt x="1092" y="513"/>
                        </a:lnTo>
                        <a:lnTo>
                          <a:pt x="1103" y="580"/>
                        </a:lnTo>
                        <a:lnTo>
                          <a:pt x="1103" y="647"/>
                        </a:lnTo>
                        <a:lnTo>
                          <a:pt x="1092" y="714"/>
                        </a:lnTo>
                        <a:lnTo>
                          <a:pt x="1081" y="781"/>
                        </a:lnTo>
                        <a:lnTo>
                          <a:pt x="1059" y="848"/>
                        </a:lnTo>
                        <a:lnTo>
                          <a:pt x="1048" y="914"/>
                        </a:lnTo>
                        <a:lnTo>
                          <a:pt x="1025" y="970"/>
                        </a:lnTo>
                        <a:lnTo>
                          <a:pt x="1003" y="1037"/>
                        </a:lnTo>
                        <a:lnTo>
                          <a:pt x="981" y="1093"/>
                        </a:lnTo>
                        <a:lnTo>
                          <a:pt x="947" y="1137"/>
                        </a:lnTo>
                        <a:lnTo>
                          <a:pt x="914" y="1193"/>
                        </a:lnTo>
                        <a:lnTo>
                          <a:pt x="869" y="1227"/>
                        </a:lnTo>
                        <a:lnTo>
                          <a:pt x="825" y="1271"/>
                        </a:lnTo>
                        <a:lnTo>
                          <a:pt x="780" y="1305"/>
                        </a:lnTo>
                        <a:lnTo>
                          <a:pt x="725" y="1327"/>
                        </a:lnTo>
                        <a:lnTo>
                          <a:pt x="658" y="1349"/>
                        </a:lnTo>
                        <a:lnTo>
                          <a:pt x="591" y="1360"/>
                        </a:lnTo>
                        <a:lnTo>
                          <a:pt x="513" y="1371"/>
                        </a:lnTo>
                        <a:lnTo>
                          <a:pt x="446" y="1360"/>
                        </a:lnTo>
                        <a:lnTo>
                          <a:pt x="390" y="1349"/>
                        </a:lnTo>
                        <a:lnTo>
                          <a:pt x="334" y="1338"/>
                        </a:lnTo>
                        <a:lnTo>
                          <a:pt x="279" y="1316"/>
                        </a:lnTo>
                        <a:lnTo>
                          <a:pt x="234" y="1282"/>
                        </a:lnTo>
                        <a:lnTo>
                          <a:pt x="201" y="1238"/>
                        </a:lnTo>
                        <a:lnTo>
                          <a:pt x="156" y="1204"/>
                        </a:lnTo>
                        <a:lnTo>
                          <a:pt x="123" y="1148"/>
                        </a:lnTo>
                        <a:lnTo>
                          <a:pt x="100" y="1104"/>
                        </a:lnTo>
                        <a:lnTo>
                          <a:pt x="67" y="1048"/>
                        </a:lnTo>
                        <a:lnTo>
                          <a:pt x="56" y="981"/>
                        </a:lnTo>
                        <a:lnTo>
                          <a:pt x="34" y="926"/>
                        </a:lnTo>
                        <a:lnTo>
                          <a:pt x="22" y="859"/>
                        </a:lnTo>
                        <a:lnTo>
                          <a:pt x="11" y="792"/>
                        </a:lnTo>
                        <a:lnTo>
                          <a:pt x="0" y="725"/>
                        </a:lnTo>
                        <a:lnTo>
                          <a:pt x="0" y="658"/>
                        </a:lnTo>
                        <a:lnTo>
                          <a:pt x="0" y="591"/>
                        </a:lnTo>
                        <a:lnTo>
                          <a:pt x="11" y="524"/>
                        </a:lnTo>
                        <a:lnTo>
                          <a:pt x="22" y="469"/>
                        </a:lnTo>
                        <a:lnTo>
                          <a:pt x="34" y="402"/>
                        </a:lnTo>
                        <a:lnTo>
                          <a:pt x="45" y="346"/>
                        </a:lnTo>
                        <a:lnTo>
                          <a:pt x="67" y="290"/>
                        </a:lnTo>
                        <a:lnTo>
                          <a:pt x="100" y="246"/>
                        </a:lnTo>
                        <a:lnTo>
                          <a:pt x="123" y="201"/>
                        </a:lnTo>
                        <a:lnTo>
                          <a:pt x="156" y="157"/>
                        </a:lnTo>
                        <a:lnTo>
                          <a:pt x="190" y="123"/>
                        </a:lnTo>
                        <a:lnTo>
                          <a:pt x="234" y="90"/>
                        </a:lnTo>
                        <a:lnTo>
                          <a:pt x="279" y="56"/>
                        </a:lnTo>
                        <a:lnTo>
                          <a:pt x="334" y="34"/>
                        </a:lnTo>
                        <a:lnTo>
                          <a:pt x="390" y="23"/>
                        </a:lnTo>
                        <a:lnTo>
                          <a:pt x="446" y="12"/>
                        </a:lnTo>
                        <a:lnTo>
                          <a:pt x="513" y="0"/>
                        </a:lnTo>
                        <a:close/>
                      </a:path>
                    </a:pathLst>
                  </a:custGeom>
                  <a:solidFill>
                    <a:srgbClr val="ffebb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1619"/>
                  <p:cNvSpPr/>
                  <p:nvPr/>
                </p:nvSpPr>
                <p:spPr>
                  <a:xfrm rot="111600">
                    <a:off x="5788440" y="1018440"/>
                    <a:ext cx="65880" cy="104400"/>
                  </a:xfrm>
                  <a:custGeom>
                    <a:avLst/>
                    <a:gdLst>
                      <a:gd name="textAreaLeft" fmla="*/ 0 w 65880"/>
                      <a:gd name="textAreaRight" fmla="*/ 66240 w 65880"/>
                      <a:gd name="textAreaTop" fmla="*/ 0 h 104400"/>
                      <a:gd name="textAreaBottom" fmla="*/ 104760 h 104400"/>
                    </a:gdLst>
                    <a:ahLst/>
                    <a:rect l="textAreaLeft" t="textAreaTop" r="textAreaRight" b="textAreaBottom"/>
                    <a:pathLst>
                      <a:path w="602" h="647">
                        <a:moveTo>
                          <a:pt x="590" y="647"/>
                        </a:moveTo>
                        <a:lnTo>
                          <a:pt x="602" y="647"/>
                        </a:lnTo>
                        <a:lnTo>
                          <a:pt x="590" y="580"/>
                        </a:lnTo>
                        <a:lnTo>
                          <a:pt x="590" y="513"/>
                        </a:lnTo>
                        <a:lnTo>
                          <a:pt x="568" y="457"/>
                        </a:lnTo>
                        <a:lnTo>
                          <a:pt x="557" y="391"/>
                        </a:lnTo>
                        <a:lnTo>
                          <a:pt x="535" y="335"/>
                        </a:lnTo>
                        <a:lnTo>
                          <a:pt x="501" y="279"/>
                        </a:lnTo>
                        <a:lnTo>
                          <a:pt x="468" y="235"/>
                        </a:lnTo>
                        <a:lnTo>
                          <a:pt x="434" y="190"/>
                        </a:lnTo>
                        <a:lnTo>
                          <a:pt x="390" y="145"/>
                        </a:lnTo>
                        <a:lnTo>
                          <a:pt x="345" y="112"/>
                        </a:lnTo>
                        <a:lnTo>
                          <a:pt x="301" y="79"/>
                        </a:lnTo>
                        <a:lnTo>
                          <a:pt x="245" y="45"/>
                        </a:lnTo>
                        <a:lnTo>
                          <a:pt x="189" y="23"/>
                        </a:lnTo>
                        <a:lnTo>
                          <a:pt x="134" y="12"/>
                        </a:lnTo>
                        <a:lnTo>
                          <a:pt x="67" y="0"/>
                        </a:lnTo>
                        <a:lnTo>
                          <a:pt x="0" y="0"/>
                        </a:lnTo>
                        <a:lnTo>
                          <a:pt x="0" y="12"/>
                        </a:lnTo>
                        <a:lnTo>
                          <a:pt x="67" y="12"/>
                        </a:lnTo>
                        <a:lnTo>
                          <a:pt x="122" y="23"/>
                        </a:lnTo>
                        <a:lnTo>
                          <a:pt x="189" y="45"/>
                        </a:lnTo>
                        <a:lnTo>
                          <a:pt x="245" y="67"/>
                        </a:lnTo>
                        <a:lnTo>
                          <a:pt x="290" y="90"/>
                        </a:lnTo>
                        <a:lnTo>
                          <a:pt x="345" y="123"/>
                        </a:lnTo>
                        <a:lnTo>
                          <a:pt x="390" y="157"/>
                        </a:lnTo>
                        <a:lnTo>
                          <a:pt x="423" y="201"/>
                        </a:lnTo>
                        <a:lnTo>
                          <a:pt x="457" y="235"/>
                        </a:lnTo>
                        <a:lnTo>
                          <a:pt x="490" y="290"/>
                        </a:lnTo>
                        <a:lnTo>
                          <a:pt x="524" y="335"/>
                        </a:lnTo>
                        <a:lnTo>
                          <a:pt x="546" y="391"/>
                        </a:lnTo>
                        <a:lnTo>
                          <a:pt x="557" y="457"/>
                        </a:lnTo>
                        <a:lnTo>
                          <a:pt x="568" y="513"/>
                        </a:lnTo>
                        <a:lnTo>
                          <a:pt x="579" y="580"/>
                        </a:lnTo>
                        <a:lnTo>
                          <a:pt x="579" y="647"/>
                        </a:lnTo>
                        <a:lnTo>
                          <a:pt x="590" y="64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1618"/>
                  <p:cNvSpPr/>
                  <p:nvPr/>
                </p:nvSpPr>
                <p:spPr>
                  <a:xfrm rot="111600">
                    <a:off x="5784480" y="1122840"/>
                    <a:ext cx="64440" cy="117000"/>
                  </a:xfrm>
                  <a:custGeom>
                    <a:avLst/>
                    <a:gdLst>
                      <a:gd name="textAreaLeft" fmla="*/ 0 w 64440"/>
                      <a:gd name="textAreaRight" fmla="*/ 64800 w 64440"/>
                      <a:gd name="textAreaTop" fmla="*/ 0 h 117000"/>
                      <a:gd name="textAreaBottom" fmla="*/ 117360 h 117000"/>
                    </a:gdLst>
                    <a:ahLst/>
                    <a:rect l="textAreaLeft" t="textAreaTop" r="textAreaRight" b="textAreaBottom"/>
                    <a:pathLst>
                      <a:path w="590" h="724">
                        <a:moveTo>
                          <a:pt x="0" y="724"/>
                        </a:moveTo>
                        <a:lnTo>
                          <a:pt x="0" y="724"/>
                        </a:lnTo>
                        <a:lnTo>
                          <a:pt x="78" y="724"/>
                        </a:lnTo>
                        <a:lnTo>
                          <a:pt x="145" y="702"/>
                        </a:lnTo>
                        <a:lnTo>
                          <a:pt x="212" y="691"/>
                        </a:lnTo>
                        <a:lnTo>
                          <a:pt x="267" y="658"/>
                        </a:lnTo>
                        <a:lnTo>
                          <a:pt x="323" y="624"/>
                        </a:lnTo>
                        <a:lnTo>
                          <a:pt x="368" y="591"/>
                        </a:lnTo>
                        <a:lnTo>
                          <a:pt x="401" y="546"/>
                        </a:lnTo>
                        <a:lnTo>
                          <a:pt x="446" y="501"/>
                        </a:lnTo>
                        <a:lnTo>
                          <a:pt x="468" y="446"/>
                        </a:lnTo>
                        <a:lnTo>
                          <a:pt x="490" y="390"/>
                        </a:lnTo>
                        <a:lnTo>
                          <a:pt x="524" y="323"/>
                        </a:lnTo>
                        <a:lnTo>
                          <a:pt x="535" y="267"/>
                        </a:lnTo>
                        <a:lnTo>
                          <a:pt x="557" y="201"/>
                        </a:lnTo>
                        <a:lnTo>
                          <a:pt x="568" y="134"/>
                        </a:lnTo>
                        <a:lnTo>
                          <a:pt x="579" y="67"/>
                        </a:lnTo>
                        <a:lnTo>
                          <a:pt x="590" y="0"/>
                        </a:lnTo>
                        <a:lnTo>
                          <a:pt x="579" y="0"/>
                        </a:lnTo>
                        <a:lnTo>
                          <a:pt x="568" y="67"/>
                        </a:lnTo>
                        <a:lnTo>
                          <a:pt x="557" y="134"/>
                        </a:lnTo>
                        <a:lnTo>
                          <a:pt x="546" y="201"/>
                        </a:lnTo>
                        <a:lnTo>
                          <a:pt x="524" y="267"/>
                        </a:lnTo>
                        <a:lnTo>
                          <a:pt x="501" y="323"/>
                        </a:lnTo>
                        <a:lnTo>
                          <a:pt x="479" y="379"/>
                        </a:lnTo>
                        <a:lnTo>
                          <a:pt x="457" y="435"/>
                        </a:lnTo>
                        <a:lnTo>
                          <a:pt x="423" y="490"/>
                        </a:lnTo>
                        <a:lnTo>
                          <a:pt x="390" y="535"/>
                        </a:lnTo>
                        <a:lnTo>
                          <a:pt x="356" y="580"/>
                        </a:lnTo>
                        <a:lnTo>
                          <a:pt x="312" y="613"/>
                        </a:lnTo>
                        <a:lnTo>
                          <a:pt x="267" y="646"/>
                        </a:lnTo>
                        <a:lnTo>
                          <a:pt x="212" y="669"/>
                        </a:lnTo>
                        <a:lnTo>
                          <a:pt x="145" y="691"/>
                        </a:lnTo>
                        <a:lnTo>
                          <a:pt x="78" y="702"/>
                        </a:lnTo>
                        <a:lnTo>
                          <a:pt x="0" y="713"/>
                        </a:lnTo>
                        <a:lnTo>
                          <a:pt x="0" y="72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1617"/>
                  <p:cNvSpPr/>
                  <p:nvPr/>
                </p:nvSpPr>
                <p:spPr>
                  <a:xfrm rot="111600">
                    <a:off x="5728320" y="1122840"/>
                    <a:ext cx="55800" cy="115200"/>
                  </a:xfrm>
                  <a:custGeom>
                    <a:avLst/>
                    <a:gdLst>
                      <a:gd name="textAreaLeft" fmla="*/ 0 w 55800"/>
                      <a:gd name="textAreaRight" fmla="*/ 56160 w 55800"/>
                      <a:gd name="textAreaTop" fmla="*/ 0 h 115200"/>
                      <a:gd name="textAreaBottom" fmla="*/ 115560 h 115200"/>
                    </a:gdLst>
                    <a:ahLst/>
                    <a:rect l="textAreaLeft" t="textAreaTop" r="textAreaRight" b="textAreaBottom"/>
                    <a:pathLst>
                      <a:path w="513" h="713">
                        <a:moveTo>
                          <a:pt x="0" y="0"/>
                        </a:moveTo>
                        <a:lnTo>
                          <a:pt x="0" y="0"/>
                        </a:lnTo>
                        <a:lnTo>
                          <a:pt x="0" y="67"/>
                        </a:lnTo>
                        <a:lnTo>
                          <a:pt x="0" y="134"/>
                        </a:lnTo>
                        <a:lnTo>
                          <a:pt x="11" y="201"/>
                        </a:lnTo>
                        <a:lnTo>
                          <a:pt x="34" y="268"/>
                        </a:lnTo>
                        <a:lnTo>
                          <a:pt x="45" y="334"/>
                        </a:lnTo>
                        <a:lnTo>
                          <a:pt x="67" y="390"/>
                        </a:lnTo>
                        <a:lnTo>
                          <a:pt x="89" y="446"/>
                        </a:lnTo>
                        <a:lnTo>
                          <a:pt x="123" y="502"/>
                        </a:lnTo>
                        <a:lnTo>
                          <a:pt x="156" y="546"/>
                        </a:lnTo>
                        <a:lnTo>
                          <a:pt x="190" y="591"/>
                        </a:lnTo>
                        <a:lnTo>
                          <a:pt x="234" y="624"/>
                        </a:lnTo>
                        <a:lnTo>
                          <a:pt x="279" y="658"/>
                        </a:lnTo>
                        <a:lnTo>
                          <a:pt x="334" y="680"/>
                        </a:lnTo>
                        <a:lnTo>
                          <a:pt x="390" y="702"/>
                        </a:lnTo>
                        <a:lnTo>
                          <a:pt x="446" y="713"/>
                        </a:lnTo>
                        <a:lnTo>
                          <a:pt x="513" y="713"/>
                        </a:lnTo>
                        <a:lnTo>
                          <a:pt x="513" y="702"/>
                        </a:lnTo>
                        <a:lnTo>
                          <a:pt x="446" y="702"/>
                        </a:lnTo>
                        <a:lnTo>
                          <a:pt x="390" y="691"/>
                        </a:lnTo>
                        <a:lnTo>
                          <a:pt x="334" y="669"/>
                        </a:lnTo>
                        <a:lnTo>
                          <a:pt x="290" y="647"/>
                        </a:lnTo>
                        <a:lnTo>
                          <a:pt x="245" y="613"/>
                        </a:lnTo>
                        <a:lnTo>
                          <a:pt x="201" y="580"/>
                        </a:lnTo>
                        <a:lnTo>
                          <a:pt x="167" y="535"/>
                        </a:lnTo>
                        <a:lnTo>
                          <a:pt x="134" y="490"/>
                        </a:lnTo>
                        <a:lnTo>
                          <a:pt x="100" y="435"/>
                        </a:lnTo>
                        <a:lnTo>
                          <a:pt x="78" y="379"/>
                        </a:lnTo>
                        <a:lnTo>
                          <a:pt x="56" y="323"/>
                        </a:lnTo>
                        <a:lnTo>
                          <a:pt x="45" y="268"/>
                        </a:lnTo>
                        <a:lnTo>
                          <a:pt x="34" y="201"/>
                        </a:lnTo>
                        <a:lnTo>
                          <a:pt x="22" y="134"/>
                        </a:lnTo>
                        <a:lnTo>
                          <a:pt x="11" y="67"/>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1616"/>
                  <p:cNvSpPr/>
                  <p:nvPr/>
                </p:nvSpPr>
                <p:spPr>
                  <a:xfrm rot="111600">
                    <a:off x="5732280" y="1016280"/>
                    <a:ext cx="55800" cy="106200"/>
                  </a:xfrm>
                  <a:custGeom>
                    <a:avLst/>
                    <a:gdLst>
                      <a:gd name="textAreaLeft" fmla="*/ 0 w 55800"/>
                      <a:gd name="textAreaRight" fmla="*/ 56160 w 55800"/>
                      <a:gd name="textAreaTop" fmla="*/ 0 h 106200"/>
                      <a:gd name="textAreaBottom" fmla="*/ 106560 h 106200"/>
                    </a:gdLst>
                    <a:ahLst/>
                    <a:rect l="textAreaLeft" t="textAreaTop" r="textAreaRight" b="textAreaBottom"/>
                    <a:pathLst>
                      <a:path w="513" h="658">
                        <a:moveTo>
                          <a:pt x="513" y="0"/>
                        </a:moveTo>
                        <a:lnTo>
                          <a:pt x="513" y="0"/>
                        </a:lnTo>
                        <a:lnTo>
                          <a:pt x="446" y="0"/>
                        </a:lnTo>
                        <a:lnTo>
                          <a:pt x="390" y="12"/>
                        </a:lnTo>
                        <a:lnTo>
                          <a:pt x="334" y="23"/>
                        </a:lnTo>
                        <a:lnTo>
                          <a:pt x="279" y="56"/>
                        </a:lnTo>
                        <a:lnTo>
                          <a:pt x="234" y="79"/>
                        </a:lnTo>
                        <a:lnTo>
                          <a:pt x="190" y="112"/>
                        </a:lnTo>
                        <a:lnTo>
                          <a:pt x="156" y="157"/>
                        </a:lnTo>
                        <a:lnTo>
                          <a:pt x="123" y="190"/>
                        </a:lnTo>
                        <a:lnTo>
                          <a:pt x="89" y="246"/>
                        </a:lnTo>
                        <a:lnTo>
                          <a:pt x="67" y="290"/>
                        </a:lnTo>
                        <a:lnTo>
                          <a:pt x="45" y="346"/>
                        </a:lnTo>
                        <a:lnTo>
                          <a:pt x="22" y="402"/>
                        </a:lnTo>
                        <a:lnTo>
                          <a:pt x="11" y="469"/>
                        </a:lnTo>
                        <a:lnTo>
                          <a:pt x="0" y="524"/>
                        </a:lnTo>
                        <a:lnTo>
                          <a:pt x="0" y="591"/>
                        </a:lnTo>
                        <a:lnTo>
                          <a:pt x="0" y="658"/>
                        </a:lnTo>
                        <a:lnTo>
                          <a:pt x="11" y="658"/>
                        </a:lnTo>
                        <a:lnTo>
                          <a:pt x="11" y="591"/>
                        </a:lnTo>
                        <a:lnTo>
                          <a:pt x="22" y="524"/>
                        </a:lnTo>
                        <a:lnTo>
                          <a:pt x="22" y="469"/>
                        </a:lnTo>
                        <a:lnTo>
                          <a:pt x="45" y="413"/>
                        </a:lnTo>
                        <a:lnTo>
                          <a:pt x="56" y="346"/>
                        </a:lnTo>
                        <a:lnTo>
                          <a:pt x="78" y="301"/>
                        </a:lnTo>
                        <a:lnTo>
                          <a:pt x="100" y="246"/>
                        </a:lnTo>
                        <a:lnTo>
                          <a:pt x="134" y="201"/>
                        </a:lnTo>
                        <a:lnTo>
                          <a:pt x="167" y="157"/>
                        </a:lnTo>
                        <a:lnTo>
                          <a:pt x="201" y="123"/>
                        </a:lnTo>
                        <a:lnTo>
                          <a:pt x="234" y="90"/>
                        </a:lnTo>
                        <a:lnTo>
                          <a:pt x="290" y="67"/>
                        </a:lnTo>
                        <a:lnTo>
                          <a:pt x="334" y="45"/>
                        </a:lnTo>
                        <a:lnTo>
                          <a:pt x="390" y="23"/>
                        </a:lnTo>
                        <a:lnTo>
                          <a:pt x="446" y="23"/>
                        </a:lnTo>
                        <a:lnTo>
                          <a:pt x="513" y="12"/>
                        </a:lnTo>
                        <a:lnTo>
                          <a:pt x="513"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1615"/>
                  <p:cNvSpPr/>
                  <p:nvPr/>
                </p:nvSpPr>
                <p:spPr>
                  <a:xfrm rot="111600">
                    <a:off x="5679720" y="973080"/>
                    <a:ext cx="230400" cy="333360"/>
                  </a:xfrm>
                  <a:custGeom>
                    <a:avLst/>
                    <a:gdLst>
                      <a:gd name="textAreaLeft" fmla="*/ 0 w 230400"/>
                      <a:gd name="textAreaRight" fmla="*/ 230760 w 230400"/>
                      <a:gd name="textAreaTop" fmla="*/ 0 h 333360"/>
                      <a:gd name="textAreaBottom" fmla="*/ 333720 h 333360"/>
                    </a:gdLst>
                    <a:ahLst/>
                    <a:rect l="textAreaLeft" t="textAreaTop" r="textAreaRight" b="textAreaBottom"/>
                    <a:pathLst>
                      <a:path w="2107" h="2062">
                        <a:moveTo>
                          <a:pt x="1092" y="167"/>
                        </a:moveTo>
                        <a:lnTo>
                          <a:pt x="1081" y="145"/>
                        </a:lnTo>
                        <a:lnTo>
                          <a:pt x="1059" y="134"/>
                        </a:lnTo>
                        <a:lnTo>
                          <a:pt x="1037" y="111"/>
                        </a:lnTo>
                        <a:lnTo>
                          <a:pt x="1014" y="89"/>
                        </a:lnTo>
                        <a:lnTo>
                          <a:pt x="992" y="78"/>
                        </a:lnTo>
                        <a:lnTo>
                          <a:pt x="959" y="56"/>
                        </a:lnTo>
                        <a:lnTo>
                          <a:pt x="925" y="33"/>
                        </a:lnTo>
                        <a:lnTo>
                          <a:pt x="892" y="22"/>
                        </a:lnTo>
                        <a:lnTo>
                          <a:pt x="858" y="11"/>
                        </a:lnTo>
                        <a:lnTo>
                          <a:pt x="814" y="11"/>
                        </a:lnTo>
                        <a:lnTo>
                          <a:pt x="769" y="0"/>
                        </a:lnTo>
                        <a:lnTo>
                          <a:pt x="725" y="0"/>
                        </a:lnTo>
                        <a:lnTo>
                          <a:pt x="680" y="11"/>
                        </a:lnTo>
                        <a:lnTo>
                          <a:pt x="647" y="22"/>
                        </a:lnTo>
                        <a:lnTo>
                          <a:pt x="602" y="33"/>
                        </a:lnTo>
                        <a:lnTo>
                          <a:pt x="569" y="44"/>
                        </a:lnTo>
                        <a:lnTo>
                          <a:pt x="535" y="67"/>
                        </a:lnTo>
                        <a:lnTo>
                          <a:pt x="491" y="89"/>
                        </a:lnTo>
                        <a:lnTo>
                          <a:pt x="457" y="122"/>
                        </a:lnTo>
                        <a:lnTo>
                          <a:pt x="435" y="145"/>
                        </a:lnTo>
                        <a:lnTo>
                          <a:pt x="401" y="178"/>
                        </a:lnTo>
                        <a:lnTo>
                          <a:pt x="368" y="223"/>
                        </a:lnTo>
                        <a:lnTo>
                          <a:pt x="346" y="256"/>
                        </a:lnTo>
                        <a:lnTo>
                          <a:pt x="323" y="301"/>
                        </a:lnTo>
                        <a:lnTo>
                          <a:pt x="312" y="334"/>
                        </a:lnTo>
                        <a:lnTo>
                          <a:pt x="301" y="379"/>
                        </a:lnTo>
                        <a:lnTo>
                          <a:pt x="290" y="423"/>
                        </a:lnTo>
                        <a:lnTo>
                          <a:pt x="279" y="457"/>
                        </a:lnTo>
                        <a:lnTo>
                          <a:pt x="279" y="501"/>
                        </a:lnTo>
                        <a:lnTo>
                          <a:pt x="279" y="546"/>
                        </a:lnTo>
                        <a:lnTo>
                          <a:pt x="268" y="591"/>
                        </a:lnTo>
                        <a:lnTo>
                          <a:pt x="268" y="635"/>
                        </a:lnTo>
                        <a:lnTo>
                          <a:pt x="290" y="657"/>
                        </a:lnTo>
                        <a:lnTo>
                          <a:pt x="301" y="691"/>
                        </a:lnTo>
                        <a:lnTo>
                          <a:pt x="312" y="724"/>
                        </a:lnTo>
                        <a:lnTo>
                          <a:pt x="312" y="758"/>
                        </a:lnTo>
                        <a:lnTo>
                          <a:pt x="323" y="802"/>
                        </a:lnTo>
                        <a:lnTo>
                          <a:pt x="312" y="836"/>
                        </a:lnTo>
                        <a:lnTo>
                          <a:pt x="312" y="880"/>
                        </a:lnTo>
                        <a:lnTo>
                          <a:pt x="301" y="903"/>
                        </a:lnTo>
                        <a:lnTo>
                          <a:pt x="290" y="925"/>
                        </a:lnTo>
                        <a:lnTo>
                          <a:pt x="290" y="947"/>
                        </a:lnTo>
                        <a:lnTo>
                          <a:pt x="268" y="958"/>
                        </a:lnTo>
                        <a:lnTo>
                          <a:pt x="256" y="981"/>
                        </a:lnTo>
                        <a:lnTo>
                          <a:pt x="234" y="992"/>
                        </a:lnTo>
                        <a:lnTo>
                          <a:pt x="223" y="1003"/>
                        </a:lnTo>
                        <a:lnTo>
                          <a:pt x="201" y="1025"/>
                        </a:lnTo>
                        <a:lnTo>
                          <a:pt x="178" y="1036"/>
                        </a:lnTo>
                        <a:lnTo>
                          <a:pt x="156" y="1059"/>
                        </a:lnTo>
                        <a:lnTo>
                          <a:pt x="134" y="1070"/>
                        </a:lnTo>
                        <a:lnTo>
                          <a:pt x="123" y="1081"/>
                        </a:lnTo>
                        <a:lnTo>
                          <a:pt x="100" y="1103"/>
                        </a:lnTo>
                        <a:lnTo>
                          <a:pt x="89" y="1114"/>
                        </a:lnTo>
                        <a:lnTo>
                          <a:pt x="67" y="1137"/>
                        </a:lnTo>
                        <a:lnTo>
                          <a:pt x="56" y="1148"/>
                        </a:lnTo>
                        <a:lnTo>
                          <a:pt x="45" y="1159"/>
                        </a:lnTo>
                        <a:lnTo>
                          <a:pt x="22" y="1215"/>
                        </a:lnTo>
                        <a:lnTo>
                          <a:pt x="11" y="1270"/>
                        </a:lnTo>
                        <a:lnTo>
                          <a:pt x="0" y="1326"/>
                        </a:lnTo>
                        <a:lnTo>
                          <a:pt x="0" y="1393"/>
                        </a:lnTo>
                        <a:lnTo>
                          <a:pt x="0" y="1449"/>
                        </a:lnTo>
                        <a:lnTo>
                          <a:pt x="11" y="1516"/>
                        </a:lnTo>
                        <a:lnTo>
                          <a:pt x="22" y="1571"/>
                        </a:lnTo>
                        <a:lnTo>
                          <a:pt x="45" y="1616"/>
                        </a:lnTo>
                        <a:lnTo>
                          <a:pt x="56" y="1616"/>
                        </a:lnTo>
                        <a:lnTo>
                          <a:pt x="67" y="1594"/>
                        </a:lnTo>
                        <a:lnTo>
                          <a:pt x="67" y="1583"/>
                        </a:lnTo>
                        <a:lnTo>
                          <a:pt x="78" y="1571"/>
                        </a:lnTo>
                        <a:lnTo>
                          <a:pt x="78" y="1560"/>
                        </a:lnTo>
                        <a:lnTo>
                          <a:pt x="89" y="1549"/>
                        </a:lnTo>
                        <a:lnTo>
                          <a:pt x="89" y="1560"/>
                        </a:lnTo>
                        <a:lnTo>
                          <a:pt x="89" y="1605"/>
                        </a:lnTo>
                        <a:lnTo>
                          <a:pt x="100" y="1661"/>
                        </a:lnTo>
                        <a:lnTo>
                          <a:pt x="112" y="1694"/>
                        </a:lnTo>
                        <a:lnTo>
                          <a:pt x="134" y="1727"/>
                        </a:lnTo>
                        <a:lnTo>
                          <a:pt x="156" y="1761"/>
                        </a:lnTo>
                        <a:lnTo>
                          <a:pt x="178" y="1783"/>
                        </a:lnTo>
                        <a:lnTo>
                          <a:pt x="212" y="1805"/>
                        </a:lnTo>
                        <a:lnTo>
                          <a:pt x="245" y="1828"/>
                        </a:lnTo>
                        <a:lnTo>
                          <a:pt x="256" y="1805"/>
                        </a:lnTo>
                        <a:lnTo>
                          <a:pt x="256" y="1783"/>
                        </a:lnTo>
                        <a:lnTo>
                          <a:pt x="256" y="1772"/>
                        </a:lnTo>
                        <a:lnTo>
                          <a:pt x="268" y="1761"/>
                        </a:lnTo>
                        <a:lnTo>
                          <a:pt x="268" y="1794"/>
                        </a:lnTo>
                        <a:lnTo>
                          <a:pt x="268" y="1839"/>
                        </a:lnTo>
                        <a:lnTo>
                          <a:pt x="268" y="1883"/>
                        </a:lnTo>
                        <a:lnTo>
                          <a:pt x="268" y="1917"/>
                        </a:lnTo>
                        <a:lnTo>
                          <a:pt x="268" y="1961"/>
                        </a:lnTo>
                        <a:lnTo>
                          <a:pt x="256" y="1995"/>
                        </a:lnTo>
                        <a:lnTo>
                          <a:pt x="245" y="2039"/>
                        </a:lnTo>
                        <a:lnTo>
                          <a:pt x="245" y="2062"/>
                        </a:lnTo>
                        <a:lnTo>
                          <a:pt x="256" y="2051"/>
                        </a:lnTo>
                        <a:lnTo>
                          <a:pt x="279" y="2028"/>
                        </a:lnTo>
                        <a:lnTo>
                          <a:pt x="290" y="2017"/>
                        </a:lnTo>
                        <a:lnTo>
                          <a:pt x="312" y="1995"/>
                        </a:lnTo>
                        <a:lnTo>
                          <a:pt x="335" y="1984"/>
                        </a:lnTo>
                        <a:lnTo>
                          <a:pt x="357" y="1961"/>
                        </a:lnTo>
                        <a:lnTo>
                          <a:pt x="368" y="1939"/>
                        </a:lnTo>
                        <a:lnTo>
                          <a:pt x="390" y="1917"/>
                        </a:lnTo>
                        <a:lnTo>
                          <a:pt x="413" y="1895"/>
                        </a:lnTo>
                        <a:lnTo>
                          <a:pt x="424" y="1872"/>
                        </a:lnTo>
                        <a:lnTo>
                          <a:pt x="435" y="1850"/>
                        </a:lnTo>
                        <a:lnTo>
                          <a:pt x="446" y="1828"/>
                        </a:lnTo>
                        <a:lnTo>
                          <a:pt x="457" y="1794"/>
                        </a:lnTo>
                        <a:lnTo>
                          <a:pt x="468" y="1772"/>
                        </a:lnTo>
                        <a:lnTo>
                          <a:pt x="468" y="1739"/>
                        </a:lnTo>
                        <a:lnTo>
                          <a:pt x="468" y="1716"/>
                        </a:lnTo>
                        <a:lnTo>
                          <a:pt x="479" y="1727"/>
                        </a:lnTo>
                        <a:lnTo>
                          <a:pt x="491" y="1739"/>
                        </a:lnTo>
                        <a:lnTo>
                          <a:pt x="491" y="1750"/>
                        </a:lnTo>
                        <a:lnTo>
                          <a:pt x="513" y="1761"/>
                        </a:lnTo>
                        <a:lnTo>
                          <a:pt x="535" y="1727"/>
                        </a:lnTo>
                        <a:lnTo>
                          <a:pt x="557" y="1683"/>
                        </a:lnTo>
                        <a:lnTo>
                          <a:pt x="580" y="1616"/>
                        </a:lnTo>
                        <a:lnTo>
                          <a:pt x="602" y="1538"/>
                        </a:lnTo>
                        <a:lnTo>
                          <a:pt x="602" y="1460"/>
                        </a:lnTo>
                        <a:lnTo>
                          <a:pt x="602" y="1382"/>
                        </a:lnTo>
                        <a:lnTo>
                          <a:pt x="580" y="1304"/>
                        </a:lnTo>
                        <a:lnTo>
                          <a:pt x="535" y="1226"/>
                        </a:lnTo>
                        <a:lnTo>
                          <a:pt x="502" y="1170"/>
                        </a:lnTo>
                        <a:lnTo>
                          <a:pt x="479" y="1114"/>
                        </a:lnTo>
                        <a:lnTo>
                          <a:pt x="468" y="1059"/>
                        </a:lnTo>
                        <a:lnTo>
                          <a:pt x="457" y="1014"/>
                        </a:lnTo>
                        <a:lnTo>
                          <a:pt x="435" y="958"/>
                        </a:lnTo>
                        <a:lnTo>
                          <a:pt x="424" y="914"/>
                        </a:lnTo>
                        <a:lnTo>
                          <a:pt x="413" y="880"/>
                        </a:lnTo>
                        <a:lnTo>
                          <a:pt x="401" y="847"/>
                        </a:lnTo>
                        <a:lnTo>
                          <a:pt x="401" y="825"/>
                        </a:lnTo>
                        <a:lnTo>
                          <a:pt x="401" y="802"/>
                        </a:lnTo>
                        <a:lnTo>
                          <a:pt x="413" y="780"/>
                        </a:lnTo>
                        <a:lnTo>
                          <a:pt x="424" y="758"/>
                        </a:lnTo>
                        <a:lnTo>
                          <a:pt x="435" y="735"/>
                        </a:lnTo>
                        <a:lnTo>
                          <a:pt x="446" y="713"/>
                        </a:lnTo>
                        <a:lnTo>
                          <a:pt x="457" y="702"/>
                        </a:lnTo>
                        <a:lnTo>
                          <a:pt x="457" y="680"/>
                        </a:lnTo>
                        <a:lnTo>
                          <a:pt x="479" y="669"/>
                        </a:lnTo>
                        <a:lnTo>
                          <a:pt x="491" y="669"/>
                        </a:lnTo>
                        <a:lnTo>
                          <a:pt x="502" y="657"/>
                        </a:lnTo>
                        <a:lnTo>
                          <a:pt x="524" y="657"/>
                        </a:lnTo>
                        <a:lnTo>
                          <a:pt x="535" y="657"/>
                        </a:lnTo>
                        <a:lnTo>
                          <a:pt x="546" y="657"/>
                        </a:lnTo>
                        <a:lnTo>
                          <a:pt x="569" y="657"/>
                        </a:lnTo>
                        <a:lnTo>
                          <a:pt x="580" y="657"/>
                        </a:lnTo>
                        <a:lnTo>
                          <a:pt x="602" y="657"/>
                        </a:lnTo>
                        <a:lnTo>
                          <a:pt x="624" y="657"/>
                        </a:lnTo>
                        <a:lnTo>
                          <a:pt x="635" y="646"/>
                        </a:lnTo>
                        <a:lnTo>
                          <a:pt x="658" y="646"/>
                        </a:lnTo>
                        <a:lnTo>
                          <a:pt x="669" y="646"/>
                        </a:lnTo>
                        <a:lnTo>
                          <a:pt x="691" y="646"/>
                        </a:lnTo>
                        <a:lnTo>
                          <a:pt x="702" y="635"/>
                        </a:lnTo>
                        <a:lnTo>
                          <a:pt x="725" y="635"/>
                        </a:lnTo>
                        <a:lnTo>
                          <a:pt x="736" y="624"/>
                        </a:lnTo>
                        <a:lnTo>
                          <a:pt x="747" y="602"/>
                        </a:lnTo>
                        <a:lnTo>
                          <a:pt x="769" y="579"/>
                        </a:lnTo>
                        <a:lnTo>
                          <a:pt x="791" y="557"/>
                        </a:lnTo>
                        <a:lnTo>
                          <a:pt x="814" y="535"/>
                        </a:lnTo>
                        <a:lnTo>
                          <a:pt x="847" y="513"/>
                        </a:lnTo>
                        <a:lnTo>
                          <a:pt x="869" y="490"/>
                        </a:lnTo>
                        <a:lnTo>
                          <a:pt x="892" y="479"/>
                        </a:lnTo>
                        <a:lnTo>
                          <a:pt x="914" y="457"/>
                        </a:lnTo>
                        <a:lnTo>
                          <a:pt x="925" y="468"/>
                        </a:lnTo>
                        <a:lnTo>
                          <a:pt x="947" y="446"/>
                        </a:lnTo>
                        <a:lnTo>
                          <a:pt x="959" y="423"/>
                        </a:lnTo>
                        <a:lnTo>
                          <a:pt x="981" y="412"/>
                        </a:lnTo>
                        <a:lnTo>
                          <a:pt x="992" y="390"/>
                        </a:lnTo>
                        <a:lnTo>
                          <a:pt x="1014" y="368"/>
                        </a:lnTo>
                        <a:lnTo>
                          <a:pt x="1026" y="345"/>
                        </a:lnTo>
                        <a:lnTo>
                          <a:pt x="1048" y="323"/>
                        </a:lnTo>
                        <a:lnTo>
                          <a:pt x="1070" y="301"/>
                        </a:lnTo>
                        <a:lnTo>
                          <a:pt x="1092" y="334"/>
                        </a:lnTo>
                        <a:lnTo>
                          <a:pt x="1126" y="368"/>
                        </a:lnTo>
                        <a:lnTo>
                          <a:pt x="1159" y="412"/>
                        </a:lnTo>
                        <a:lnTo>
                          <a:pt x="1193" y="457"/>
                        </a:lnTo>
                        <a:lnTo>
                          <a:pt x="1226" y="501"/>
                        </a:lnTo>
                        <a:lnTo>
                          <a:pt x="1271" y="546"/>
                        </a:lnTo>
                        <a:lnTo>
                          <a:pt x="1304" y="602"/>
                        </a:lnTo>
                        <a:lnTo>
                          <a:pt x="1338" y="646"/>
                        </a:lnTo>
                        <a:lnTo>
                          <a:pt x="1382" y="702"/>
                        </a:lnTo>
                        <a:lnTo>
                          <a:pt x="1416" y="747"/>
                        </a:lnTo>
                        <a:lnTo>
                          <a:pt x="1449" y="802"/>
                        </a:lnTo>
                        <a:lnTo>
                          <a:pt x="1471" y="847"/>
                        </a:lnTo>
                        <a:lnTo>
                          <a:pt x="1505" y="892"/>
                        </a:lnTo>
                        <a:lnTo>
                          <a:pt x="1527" y="925"/>
                        </a:lnTo>
                        <a:lnTo>
                          <a:pt x="1538" y="958"/>
                        </a:lnTo>
                        <a:lnTo>
                          <a:pt x="1538" y="992"/>
                        </a:lnTo>
                        <a:lnTo>
                          <a:pt x="1516" y="1025"/>
                        </a:lnTo>
                        <a:lnTo>
                          <a:pt x="1505" y="1059"/>
                        </a:lnTo>
                        <a:lnTo>
                          <a:pt x="1482" y="1103"/>
                        </a:lnTo>
                        <a:lnTo>
                          <a:pt x="1471" y="1159"/>
                        </a:lnTo>
                        <a:lnTo>
                          <a:pt x="1471" y="1204"/>
                        </a:lnTo>
                        <a:lnTo>
                          <a:pt x="1460" y="1259"/>
                        </a:lnTo>
                        <a:lnTo>
                          <a:pt x="1471" y="1304"/>
                        </a:lnTo>
                        <a:lnTo>
                          <a:pt x="1471" y="1360"/>
                        </a:lnTo>
                        <a:lnTo>
                          <a:pt x="1494" y="1404"/>
                        </a:lnTo>
                        <a:lnTo>
                          <a:pt x="1505" y="1460"/>
                        </a:lnTo>
                        <a:lnTo>
                          <a:pt x="1527" y="1505"/>
                        </a:lnTo>
                        <a:lnTo>
                          <a:pt x="1560" y="1538"/>
                        </a:lnTo>
                        <a:lnTo>
                          <a:pt x="1594" y="1583"/>
                        </a:lnTo>
                        <a:lnTo>
                          <a:pt x="1627" y="1616"/>
                        </a:lnTo>
                        <a:lnTo>
                          <a:pt x="1672" y="1638"/>
                        </a:lnTo>
                        <a:lnTo>
                          <a:pt x="1717" y="1661"/>
                        </a:lnTo>
                        <a:lnTo>
                          <a:pt x="1728" y="1661"/>
                        </a:lnTo>
                        <a:lnTo>
                          <a:pt x="1728" y="1649"/>
                        </a:lnTo>
                        <a:lnTo>
                          <a:pt x="1728" y="1638"/>
                        </a:lnTo>
                        <a:lnTo>
                          <a:pt x="1717" y="1627"/>
                        </a:lnTo>
                        <a:lnTo>
                          <a:pt x="1705" y="1616"/>
                        </a:lnTo>
                        <a:lnTo>
                          <a:pt x="1717" y="1605"/>
                        </a:lnTo>
                        <a:lnTo>
                          <a:pt x="1728" y="1616"/>
                        </a:lnTo>
                        <a:lnTo>
                          <a:pt x="1739" y="1627"/>
                        </a:lnTo>
                        <a:lnTo>
                          <a:pt x="1761" y="1661"/>
                        </a:lnTo>
                        <a:lnTo>
                          <a:pt x="1772" y="1705"/>
                        </a:lnTo>
                        <a:lnTo>
                          <a:pt x="1783" y="1750"/>
                        </a:lnTo>
                        <a:lnTo>
                          <a:pt x="1783" y="1805"/>
                        </a:lnTo>
                        <a:lnTo>
                          <a:pt x="1783" y="1850"/>
                        </a:lnTo>
                        <a:lnTo>
                          <a:pt x="1783" y="1895"/>
                        </a:lnTo>
                        <a:lnTo>
                          <a:pt x="1772" y="1928"/>
                        </a:lnTo>
                        <a:lnTo>
                          <a:pt x="1795" y="1906"/>
                        </a:lnTo>
                        <a:lnTo>
                          <a:pt x="1817" y="1883"/>
                        </a:lnTo>
                        <a:lnTo>
                          <a:pt x="1839" y="1861"/>
                        </a:lnTo>
                        <a:lnTo>
                          <a:pt x="1861" y="1850"/>
                        </a:lnTo>
                        <a:lnTo>
                          <a:pt x="1873" y="1828"/>
                        </a:lnTo>
                        <a:lnTo>
                          <a:pt x="1884" y="1805"/>
                        </a:lnTo>
                        <a:lnTo>
                          <a:pt x="1895" y="1783"/>
                        </a:lnTo>
                        <a:lnTo>
                          <a:pt x="1917" y="1761"/>
                        </a:lnTo>
                        <a:lnTo>
                          <a:pt x="1917" y="1750"/>
                        </a:lnTo>
                        <a:lnTo>
                          <a:pt x="1928" y="1727"/>
                        </a:lnTo>
                        <a:lnTo>
                          <a:pt x="1939" y="1705"/>
                        </a:lnTo>
                        <a:lnTo>
                          <a:pt x="1951" y="1683"/>
                        </a:lnTo>
                        <a:lnTo>
                          <a:pt x="1962" y="1661"/>
                        </a:lnTo>
                        <a:lnTo>
                          <a:pt x="1962" y="1627"/>
                        </a:lnTo>
                        <a:lnTo>
                          <a:pt x="1973" y="1605"/>
                        </a:lnTo>
                        <a:lnTo>
                          <a:pt x="1973" y="1594"/>
                        </a:lnTo>
                        <a:lnTo>
                          <a:pt x="1984" y="1594"/>
                        </a:lnTo>
                        <a:lnTo>
                          <a:pt x="1984" y="1605"/>
                        </a:lnTo>
                        <a:lnTo>
                          <a:pt x="1973" y="1627"/>
                        </a:lnTo>
                        <a:lnTo>
                          <a:pt x="1973" y="1638"/>
                        </a:lnTo>
                        <a:lnTo>
                          <a:pt x="1962" y="1649"/>
                        </a:lnTo>
                        <a:lnTo>
                          <a:pt x="1973" y="1661"/>
                        </a:lnTo>
                        <a:lnTo>
                          <a:pt x="1984" y="1661"/>
                        </a:lnTo>
                        <a:lnTo>
                          <a:pt x="2006" y="1649"/>
                        </a:lnTo>
                        <a:lnTo>
                          <a:pt x="2040" y="1616"/>
                        </a:lnTo>
                        <a:lnTo>
                          <a:pt x="2062" y="1583"/>
                        </a:lnTo>
                        <a:lnTo>
                          <a:pt x="2084" y="1538"/>
                        </a:lnTo>
                        <a:lnTo>
                          <a:pt x="2095" y="1505"/>
                        </a:lnTo>
                        <a:lnTo>
                          <a:pt x="2107" y="1460"/>
                        </a:lnTo>
                        <a:lnTo>
                          <a:pt x="2095" y="1415"/>
                        </a:lnTo>
                        <a:lnTo>
                          <a:pt x="2095" y="1371"/>
                        </a:lnTo>
                        <a:lnTo>
                          <a:pt x="2073" y="1326"/>
                        </a:lnTo>
                        <a:lnTo>
                          <a:pt x="2051" y="1282"/>
                        </a:lnTo>
                        <a:lnTo>
                          <a:pt x="2029" y="1237"/>
                        </a:lnTo>
                        <a:lnTo>
                          <a:pt x="1984" y="1192"/>
                        </a:lnTo>
                        <a:lnTo>
                          <a:pt x="1939" y="1148"/>
                        </a:lnTo>
                        <a:lnTo>
                          <a:pt x="1895" y="1092"/>
                        </a:lnTo>
                        <a:lnTo>
                          <a:pt x="1839" y="1048"/>
                        </a:lnTo>
                        <a:lnTo>
                          <a:pt x="1783" y="992"/>
                        </a:lnTo>
                        <a:lnTo>
                          <a:pt x="1705" y="947"/>
                        </a:lnTo>
                        <a:lnTo>
                          <a:pt x="1717" y="892"/>
                        </a:lnTo>
                        <a:lnTo>
                          <a:pt x="1717" y="847"/>
                        </a:lnTo>
                        <a:lnTo>
                          <a:pt x="1717" y="791"/>
                        </a:lnTo>
                        <a:lnTo>
                          <a:pt x="1717" y="735"/>
                        </a:lnTo>
                        <a:lnTo>
                          <a:pt x="1728" y="669"/>
                        </a:lnTo>
                        <a:lnTo>
                          <a:pt x="1728" y="613"/>
                        </a:lnTo>
                        <a:lnTo>
                          <a:pt x="1728" y="546"/>
                        </a:lnTo>
                        <a:lnTo>
                          <a:pt x="1717" y="479"/>
                        </a:lnTo>
                        <a:lnTo>
                          <a:pt x="1705" y="423"/>
                        </a:lnTo>
                        <a:lnTo>
                          <a:pt x="1694" y="368"/>
                        </a:lnTo>
                        <a:lnTo>
                          <a:pt x="1683" y="301"/>
                        </a:lnTo>
                        <a:lnTo>
                          <a:pt x="1650" y="256"/>
                        </a:lnTo>
                        <a:lnTo>
                          <a:pt x="1616" y="200"/>
                        </a:lnTo>
                        <a:lnTo>
                          <a:pt x="1583" y="156"/>
                        </a:lnTo>
                        <a:lnTo>
                          <a:pt x="1527" y="122"/>
                        </a:lnTo>
                        <a:lnTo>
                          <a:pt x="1471" y="89"/>
                        </a:lnTo>
                        <a:lnTo>
                          <a:pt x="1460" y="78"/>
                        </a:lnTo>
                        <a:lnTo>
                          <a:pt x="1438" y="67"/>
                        </a:lnTo>
                        <a:lnTo>
                          <a:pt x="1416" y="67"/>
                        </a:lnTo>
                        <a:lnTo>
                          <a:pt x="1404" y="56"/>
                        </a:lnTo>
                        <a:lnTo>
                          <a:pt x="1382" y="44"/>
                        </a:lnTo>
                        <a:lnTo>
                          <a:pt x="1360" y="44"/>
                        </a:lnTo>
                        <a:lnTo>
                          <a:pt x="1349" y="44"/>
                        </a:lnTo>
                        <a:lnTo>
                          <a:pt x="1326" y="44"/>
                        </a:lnTo>
                        <a:lnTo>
                          <a:pt x="1315" y="44"/>
                        </a:lnTo>
                        <a:lnTo>
                          <a:pt x="1293" y="44"/>
                        </a:lnTo>
                        <a:lnTo>
                          <a:pt x="1282" y="44"/>
                        </a:lnTo>
                        <a:lnTo>
                          <a:pt x="1260" y="44"/>
                        </a:lnTo>
                        <a:lnTo>
                          <a:pt x="1248" y="56"/>
                        </a:lnTo>
                        <a:lnTo>
                          <a:pt x="1237" y="56"/>
                        </a:lnTo>
                        <a:lnTo>
                          <a:pt x="1226" y="56"/>
                        </a:lnTo>
                        <a:lnTo>
                          <a:pt x="1215" y="67"/>
                        </a:lnTo>
                        <a:lnTo>
                          <a:pt x="1193" y="78"/>
                        </a:lnTo>
                        <a:lnTo>
                          <a:pt x="1182" y="89"/>
                        </a:lnTo>
                        <a:lnTo>
                          <a:pt x="1170" y="100"/>
                        </a:lnTo>
                        <a:lnTo>
                          <a:pt x="1148" y="111"/>
                        </a:lnTo>
                        <a:lnTo>
                          <a:pt x="1137" y="122"/>
                        </a:lnTo>
                        <a:lnTo>
                          <a:pt x="1115" y="134"/>
                        </a:lnTo>
                        <a:lnTo>
                          <a:pt x="1104" y="145"/>
                        </a:lnTo>
                        <a:lnTo>
                          <a:pt x="1092" y="167"/>
                        </a:lnTo>
                        <a:close/>
                      </a:path>
                    </a:pathLst>
                  </a:custGeom>
                  <a:solidFill>
                    <a:srgbClr val="f5c77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1614"/>
                  <p:cNvSpPr/>
                  <p:nvPr/>
                </p:nvSpPr>
                <p:spPr>
                  <a:xfrm rot="111600">
                    <a:off x="5782320" y="975960"/>
                    <a:ext cx="21600" cy="23400"/>
                  </a:xfrm>
                  <a:custGeom>
                    <a:avLst/>
                    <a:gdLst>
                      <a:gd name="textAreaLeft" fmla="*/ 0 w 21600"/>
                      <a:gd name="textAreaRight" fmla="*/ 21960 w 21600"/>
                      <a:gd name="textAreaTop" fmla="*/ 0 h 23400"/>
                      <a:gd name="textAreaBottom" fmla="*/ 23760 h 23400"/>
                    </a:gdLst>
                    <a:ahLst/>
                    <a:rect l="textAreaLeft" t="textAreaTop" r="textAreaRight" b="textAreaBottom"/>
                    <a:pathLst>
                      <a:path w="200" h="145">
                        <a:moveTo>
                          <a:pt x="0" y="11"/>
                        </a:moveTo>
                        <a:lnTo>
                          <a:pt x="0" y="11"/>
                        </a:lnTo>
                        <a:lnTo>
                          <a:pt x="33" y="22"/>
                        </a:lnTo>
                        <a:lnTo>
                          <a:pt x="67" y="45"/>
                        </a:lnTo>
                        <a:lnTo>
                          <a:pt x="89" y="56"/>
                        </a:lnTo>
                        <a:lnTo>
                          <a:pt x="122" y="78"/>
                        </a:lnTo>
                        <a:lnTo>
                          <a:pt x="145" y="100"/>
                        </a:lnTo>
                        <a:lnTo>
                          <a:pt x="167" y="112"/>
                        </a:lnTo>
                        <a:lnTo>
                          <a:pt x="178" y="134"/>
                        </a:lnTo>
                        <a:lnTo>
                          <a:pt x="189" y="145"/>
                        </a:lnTo>
                        <a:lnTo>
                          <a:pt x="200" y="134"/>
                        </a:lnTo>
                        <a:lnTo>
                          <a:pt x="189" y="123"/>
                        </a:lnTo>
                        <a:lnTo>
                          <a:pt x="167" y="100"/>
                        </a:lnTo>
                        <a:lnTo>
                          <a:pt x="156" y="89"/>
                        </a:lnTo>
                        <a:lnTo>
                          <a:pt x="122" y="67"/>
                        </a:lnTo>
                        <a:lnTo>
                          <a:pt x="100" y="45"/>
                        </a:lnTo>
                        <a:lnTo>
                          <a:pt x="67" y="22"/>
                        </a:lnTo>
                        <a:lnTo>
                          <a:pt x="44" y="11"/>
                        </a:lnTo>
                        <a:lnTo>
                          <a:pt x="0" y="0"/>
                        </a:lnTo>
                        <a:lnTo>
                          <a:pt x="0" y="11"/>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613"/>
                  <p:cNvSpPr/>
                  <p:nvPr/>
                </p:nvSpPr>
                <p:spPr>
                  <a:xfrm rot="111600">
                    <a:off x="5718600" y="971280"/>
                    <a:ext cx="63360" cy="48600"/>
                  </a:xfrm>
                  <a:custGeom>
                    <a:avLst/>
                    <a:gdLst>
                      <a:gd name="textAreaLeft" fmla="*/ 0 w 63360"/>
                      <a:gd name="textAreaRight" fmla="*/ 63720 w 63360"/>
                      <a:gd name="textAreaTop" fmla="*/ 0 h 48600"/>
                      <a:gd name="textAreaBottom" fmla="*/ 48960 h 48600"/>
                    </a:gdLst>
                    <a:ahLst/>
                    <a:rect l="textAreaLeft" t="textAreaTop" r="textAreaRight" b="textAreaBottom"/>
                    <a:pathLst>
                      <a:path w="580" h="301">
                        <a:moveTo>
                          <a:pt x="11" y="301"/>
                        </a:moveTo>
                        <a:lnTo>
                          <a:pt x="11" y="301"/>
                        </a:lnTo>
                        <a:lnTo>
                          <a:pt x="34" y="267"/>
                        </a:lnTo>
                        <a:lnTo>
                          <a:pt x="67" y="223"/>
                        </a:lnTo>
                        <a:lnTo>
                          <a:pt x="89" y="189"/>
                        </a:lnTo>
                        <a:lnTo>
                          <a:pt x="123" y="156"/>
                        </a:lnTo>
                        <a:lnTo>
                          <a:pt x="156" y="122"/>
                        </a:lnTo>
                        <a:lnTo>
                          <a:pt x="190" y="100"/>
                        </a:lnTo>
                        <a:lnTo>
                          <a:pt x="223" y="78"/>
                        </a:lnTo>
                        <a:lnTo>
                          <a:pt x="257" y="56"/>
                        </a:lnTo>
                        <a:lnTo>
                          <a:pt x="301" y="33"/>
                        </a:lnTo>
                        <a:lnTo>
                          <a:pt x="335" y="22"/>
                        </a:lnTo>
                        <a:lnTo>
                          <a:pt x="368" y="22"/>
                        </a:lnTo>
                        <a:lnTo>
                          <a:pt x="413" y="11"/>
                        </a:lnTo>
                        <a:lnTo>
                          <a:pt x="457" y="11"/>
                        </a:lnTo>
                        <a:lnTo>
                          <a:pt x="502" y="11"/>
                        </a:lnTo>
                        <a:lnTo>
                          <a:pt x="535" y="22"/>
                        </a:lnTo>
                        <a:lnTo>
                          <a:pt x="580" y="33"/>
                        </a:lnTo>
                        <a:lnTo>
                          <a:pt x="580" y="22"/>
                        </a:lnTo>
                        <a:lnTo>
                          <a:pt x="546" y="11"/>
                        </a:lnTo>
                        <a:lnTo>
                          <a:pt x="502" y="0"/>
                        </a:lnTo>
                        <a:lnTo>
                          <a:pt x="457" y="0"/>
                        </a:lnTo>
                        <a:lnTo>
                          <a:pt x="413" y="0"/>
                        </a:lnTo>
                        <a:lnTo>
                          <a:pt x="368" y="0"/>
                        </a:lnTo>
                        <a:lnTo>
                          <a:pt x="335" y="11"/>
                        </a:lnTo>
                        <a:lnTo>
                          <a:pt x="290" y="22"/>
                        </a:lnTo>
                        <a:lnTo>
                          <a:pt x="257" y="44"/>
                        </a:lnTo>
                        <a:lnTo>
                          <a:pt x="212" y="67"/>
                        </a:lnTo>
                        <a:lnTo>
                          <a:pt x="179" y="89"/>
                        </a:lnTo>
                        <a:lnTo>
                          <a:pt x="145" y="111"/>
                        </a:lnTo>
                        <a:lnTo>
                          <a:pt x="112" y="145"/>
                        </a:lnTo>
                        <a:lnTo>
                          <a:pt x="78" y="178"/>
                        </a:lnTo>
                        <a:lnTo>
                          <a:pt x="56" y="212"/>
                        </a:lnTo>
                        <a:lnTo>
                          <a:pt x="23" y="256"/>
                        </a:lnTo>
                        <a:lnTo>
                          <a:pt x="0" y="301"/>
                        </a:lnTo>
                        <a:lnTo>
                          <a:pt x="11" y="301"/>
                        </a:lnTo>
                        <a:close/>
                      </a:path>
                    </a:pathLst>
                  </a:custGeom>
                  <a:solidFill>
                    <a:srgbClr val="00000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612"/>
                  <p:cNvSpPr/>
                  <p:nvPr/>
                </p:nvSpPr>
                <p:spPr>
                  <a:xfrm rot="111600">
                    <a:off x="5712120" y="1019160"/>
                    <a:ext cx="5760" cy="55800"/>
                  </a:xfrm>
                  <a:custGeom>
                    <a:avLst/>
                    <a:gdLst>
                      <a:gd name="textAreaLeft" fmla="*/ 0 w 5760"/>
                      <a:gd name="textAreaRight" fmla="*/ 6120 w 5760"/>
                      <a:gd name="textAreaTop" fmla="*/ 0 h 55800"/>
                      <a:gd name="textAreaBottom" fmla="*/ 56160 h 55800"/>
                    </a:gdLst>
                    <a:ahLst/>
                    <a:rect l="textAreaLeft" t="textAreaTop" r="textAreaRight" b="textAreaBottom"/>
                    <a:pathLst>
                      <a:path w="55" h="345">
                        <a:moveTo>
                          <a:pt x="11" y="334"/>
                        </a:moveTo>
                        <a:lnTo>
                          <a:pt x="11" y="334"/>
                        </a:lnTo>
                        <a:lnTo>
                          <a:pt x="11" y="290"/>
                        </a:lnTo>
                        <a:lnTo>
                          <a:pt x="11" y="245"/>
                        </a:lnTo>
                        <a:lnTo>
                          <a:pt x="22" y="200"/>
                        </a:lnTo>
                        <a:lnTo>
                          <a:pt x="22" y="156"/>
                        </a:lnTo>
                        <a:lnTo>
                          <a:pt x="33" y="122"/>
                        </a:lnTo>
                        <a:lnTo>
                          <a:pt x="33" y="78"/>
                        </a:lnTo>
                        <a:lnTo>
                          <a:pt x="44" y="33"/>
                        </a:lnTo>
                        <a:lnTo>
                          <a:pt x="55" y="0"/>
                        </a:lnTo>
                        <a:lnTo>
                          <a:pt x="44" y="0"/>
                        </a:lnTo>
                        <a:lnTo>
                          <a:pt x="33" y="33"/>
                        </a:lnTo>
                        <a:lnTo>
                          <a:pt x="22" y="78"/>
                        </a:lnTo>
                        <a:lnTo>
                          <a:pt x="11" y="122"/>
                        </a:lnTo>
                        <a:lnTo>
                          <a:pt x="11" y="156"/>
                        </a:lnTo>
                        <a:lnTo>
                          <a:pt x="0" y="200"/>
                        </a:lnTo>
                        <a:lnTo>
                          <a:pt x="0" y="245"/>
                        </a:lnTo>
                        <a:lnTo>
                          <a:pt x="0" y="290"/>
                        </a:lnTo>
                        <a:lnTo>
                          <a:pt x="0" y="334"/>
                        </a:lnTo>
                        <a:lnTo>
                          <a:pt x="0" y="345"/>
                        </a:lnTo>
                        <a:lnTo>
                          <a:pt x="11" y="334"/>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611"/>
                  <p:cNvSpPr/>
                  <p:nvPr/>
                </p:nvSpPr>
                <p:spPr>
                  <a:xfrm rot="111600">
                    <a:off x="5710320" y="1072800"/>
                    <a:ext cx="5760" cy="45000"/>
                  </a:xfrm>
                  <a:custGeom>
                    <a:avLst/>
                    <a:gdLst>
                      <a:gd name="textAreaLeft" fmla="*/ 0 w 5760"/>
                      <a:gd name="textAreaRight" fmla="*/ 6120 w 5760"/>
                      <a:gd name="textAreaTop" fmla="*/ 0 h 45000"/>
                      <a:gd name="textAreaBottom" fmla="*/ 45360 h 45000"/>
                    </a:gdLst>
                    <a:ahLst/>
                    <a:rect l="textAreaLeft" t="textAreaTop" r="textAreaRight" b="textAreaBottom"/>
                    <a:pathLst>
                      <a:path w="55" h="279">
                        <a:moveTo>
                          <a:pt x="44" y="279"/>
                        </a:moveTo>
                        <a:lnTo>
                          <a:pt x="44" y="279"/>
                        </a:lnTo>
                        <a:lnTo>
                          <a:pt x="55" y="245"/>
                        </a:lnTo>
                        <a:lnTo>
                          <a:pt x="55" y="201"/>
                        </a:lnTo>
                        <a:lnTo>
                          <a:pt x="55" y="167"/>
                        </a:lnTo>
                        <a:lnTo>
                          <a:pt x="55" y="123"/>
                        </a:lnTo>
                        <a:lnTo>
                          <a:pt x="44" y="89"/>
                        </a:lnTo>
                        <a:lnTo>
                          <a:pt x="44" y="56"/>
                        </a:lnTo>
                        <a:lnTo>
                          <a:pt x="22" y="22"/>
                        </a:lnTo>
                        <a:lnTo>
                          <a:pt x="11" y="0"/>
                        </a:lnTo>
                        <a:lnTo>
                          <a:pt x="0" y="11"/>
                        </a:lnTo>
                        <a:lnTo>
                          <a:pt x="11" y="22"/>
                        </a:lnTo>
                        <a:lnTo>
                          <a:pt x="22" y="56"/>
                        </a:lnTo>
                        <a:lnTo>
                          <a:pt x="33" y="89"/>
                        </a:lnTo>
                        <a:lnTo>
                          <a:pt x="44" y="123"/>
                        </a:lnTo>
                        <a:lnTo>
                          <a:pt x="44" y="167"/>
                        </a:lnTo>
                        <a:lnTo>
                          <a:pt x="44" y="201"/>
                        </a:lnTo>
                        <a:lnTo>
                          <a:pt x="33" y="234"/>
                        </a:lnTo>
                        <a:lnTo>
                          <a:pt x="22" y="268"/>
                        </a:lnTo>
                        <a:lnTo>
                          <a:pt x="44" y="279"/>
                        </a:lnTo>
                        <a:close/>
                      </a:path>
                    </a:pathLst>
                  </a:custGeom>
                  <a:solidFill>
                    <a:srgbClr val="00000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610"/>
                  <p:cNvSpPr/>
                  <p:nvPr/>
                </p:nvSpPr>
                <p:spPr>
                  <a:xfrm rot="111600">
                    <a:off x="5684760" y="1115640"/>
                    <a:ext cx="29160" cy="42840"/>
                  </a:xfrm>
                  <a:custGeom>
                    <a:avLst/>
                    <a:gdLst>
                      <a:gd name="textAreaLeft" fmla="*/ 0 w 29160"/>
                      <a:gd name="textAreaRight" fmla="*/ 29160 w 29160"/>
                      <a:gd name="textAreaTop" fmla="*/ 0 h 42840"/>
                      <a:gd name="textAreaBottom" fmla="*/ 43200 h 42840"/>
                    </a:gdLst>
                    <a:ahLst/>
                    <a:rect l="textAreaLeft" t="textAreaTop" r="textAreaRight" b="textAreaBottom"/>
                    <a:pathLst>
                      <a:path w="267" h="267">
                        <a:moveTo>
                          <a:pt x="11" y="267"/>
                        </a:moveTo>
                        <a:lnTo>
                          <a:pt x="11" y="267"/>
                        </a:lnTo>
                        <a:lnTo>
                          <a:pt x="11" y="245"/>
                        </a:lnTo>
                        <a:lnTo>
                          <a:pt x="33" y="234"/>
                        </a:lnTo>
                        <a:lnTo>
                          <a:pt x="44" y="223"/>
                        </a:lnTo>
                        <a:lnTo>
                          <a:pt x="55" y="200"/>
                        </a:lnTo>
                        <a:lnTo>
                          <a:pt x="78" y="189"/>
                        </a:lnTo>
                        <a:lnTo>
                          <a:pt x="100" y="178"/>
                        </a:lnTo>
                        <a:lnTo>
                          <a:pt x="122" y="156"/>
                        </a:lnTo>
                        <a:lnTo>
                          <a:pt x="145" y="145"/>
                        </a:lnTo>
                        <a:lnTo>
                          <a:pt x="156" y="122"/>
                        </a:lnTo>
                        <a:lnTo>
                          <a:pt x="178" y="111"/>
                        </a:lnTo>
                        <a:lnTo>
                          <a:pt x="200" y="100"/>
                        </a:lnTo>
                        <a:lnTo>
                          <a:pt x="211" y="78"/>
                        </a:lnTo>
                        <a:lnTo>
                          <a:pt x="234" y="67"/>
                        </a:lnTo>
                        <a:lnTo>
                          <a:pt x="245" y="44"/>
                        </a:lnTo>
                        <a:lnTo>
                          <a:pt x="256" y="22"/>
                        </a:lnTo>
                        <a:lnTo>
                          <a:pt x="267" y="11"/>
                        </a:lnTo>
                        <a:lnTo>
                          <a:pt x="245" y="0"/>
                        </a:lnTo>
                        <a:lnTo>
                          <a:pt x="245" y="22"/>
                        </a:lnTo>
                        <a:lnTo>
                          <a:pt x="234" y="33"/>
                        </a:lnTo>
                        <a:lnTo>
                          <a:pt x="223" y="55"/>
                        </a:lnTo>
                        <a:lnTo>
                          <a:pt x="200" y="67"/>
                        </a:lnTo>
                        <a:lnTo>
                          <a:pt x="189" y="89"/>
                        </a:lnTo>
                        <a:lnTo>
                          <a:pt x="167" y="100"/>
                        </a:lnTo>
                        <a:lnTo>
                          <a:pt x="156" y="111"/>
                        </a:lnTo>
                        <a:lnTo>
                          <a:pt x="133" y="133"/>
                        </a:lnTo>
                        <a:lnTo>
                          <a:pt x="111" y="145"/>
                        </a:lnTo>
                        <a:lnTo>
                          <a:pt x="89" y="167"/>
                        </a:lnTo>
                        <a:lnTo>
                          <a:pt x="67" y="178"/>
                        </a:lnTo>
                        <a:lnTo>
                          <a:pt x="55" y="189"/>
                        </a:lnTo>
                        <a:lnTo>
                          <a:pt x="33" y="211"/>
                        </a:lnTo>
                        <a:lnTo>
                          <a:pt x="22" y="223"/>
                        </a:lnTo>
                        <a:lnTo>
                          <a:pt x="11" y="245"/>
                        </a:lnTo>
                        <a:lnTo>
                          <a:pt x="0" y="256"/>
                        </a:lnTo>
                        <a:lnTo>
                          <a:pt x="11" y="267"/>
                        </a:lnTo>
                        <a:close/>
                      </a:path>
                    </a:pathLst>
                  </a:custGeom>
                  <a:solidFill>
                    <a:srgbClr val="00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609"/>
                  <p:cNvSpPr/>
                  <p:nvPr/>
                </p:nvSpPr>
                <p:spPr>
                  <a:xfrm rot="111600">
                    <a:off x="5676840" y="1156680"/>
                    <a:ext cx="7200" cy="73800"/>
                  </a:xfrm>
                  <a:custGeom>
                    <a:avLst/>
                    <a:gdLst>
                      <a:gd name="textAreaLeft" fmla="*/ 0 w 7200"/>
                      <a:gd name="textAreaRight" fmla="*/ 7560 w 7200"/>
                      <a:gd name="textAreaTop" fmla="*/ 0 h 73800"/>
                      <a:gd name="textAreaBottom" fmla="*/ 74160 h 73800"/>
                    </a:gdLst>
                    <a:ahLst/>
                    <a:rect l="textAreaLeft" t="textAreaTop" r="textAreaRight" b="textAreaBottom"/>
                    <a:pathLst>
                      <a:path w="67" h="457">
                        <a:moveTo>
                          <a:pt x="67" y="457"/>
                        </a:moveTo>
                        <a:lnTo>
                          <a:pt x="67" y="457"/>
                        </a:lnTo>
                        <a:lnTo>
                          <a:pt x="45" y="401"/>
                        </a:lnTo>
                        <a:lnTo>
                          <a:pt x="33" y="357"/>
                        </a:lnTo>
                        <a:lnTo>
                          <a:pt x="22" y="290"/>
                        </a:lnTo>
                        <a:lnTo>
                          <a:pt x="11" y="234"/>
                        </a:lnTo>
                        <a:lnTo>
                          <a:pt x="22" y="167"/>
                        </a:lnTo>
                        <a:lnTo>
                          <a:pt x="22" y="111"/>
                        </a:lnTo>
                        <a:lnTo>
                          <a:pt x="33" y="56"/>
                        </a:lnTo>
                        <a:lnTo>
                          <a:pt x="67" y="11"/>
                        </a:lnTo>
                        <a:lnTo>
                          <a:pt x="56" y="0"/>
                        </a:lnTo>
                        <a:lnTo>
                          <a:pt x="22" y="45"/>
                        </a:lnTo>
                        <a:lnTo>
                          <a:pt x="11" y="100"/>
                        </a:lnTo>
                        <a:lnTo>
                          <a:pt x="0" y="167"/>
                        </a:lnTo>
                        <a:lnTo>
                          <a:pt x="0" y="234"/>
                        </a:lnTo>
                        <a:lnTo>
                          <a:pt x="0" y="290"/>
                        </a:lnTo>
                        <a:lnTo>
                          <a:pt x="22" y="357"/>
                        </a:lnTo>
                        <a:lnTo>
                          <a:pt x="33" y="412"/>
                        </a:lnTo>
                        <a:lnTo>
                          <a:pt x="56" y="457"/>
                        </a:lnTo>
                        <a:lnTo>
                          <a:pt x="67" y="457"/>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608"/>
                  <p:cNvSpPr/>
                  <p:nvPr/>
                </p:nvSpPr>
                <p:spPr>
                  <a:xfrm rot="111600">
                    <a:off x="5681880" y="1218240"/>
                    <a:ext cx="4680" cy="14040"/>
                  </a:xfrm>
                  <a:custGeom>
                    <a:avLst/>
                    <a:gdLst>
                      <a:gd name="textAreaLeft" fmla="*/ 0 w 4680"/>
                      <a:gd name="textAreaRight" fmla="*/ 5040 w 4680"/>
                      <a:gd name="textAreaTop" fmla="*/ 0 h 14040"/>
                      <a:gd name="textAreaBottom" fmla="*/ 14400 h 14040"/>
                    </a:gdLst>
                    <a:ahLst/>
                    <a:rect l="textAreaLeft" t="textAreaTop" r="textAreaRight" b="textAreaBottom"/>
                    <a:pathLst>
                      <a:path w="44" h="89">
                        <a:moveTo>
                          <a:pt x="44" y="22"/>
                        </a:moveTo>
                        <a:lnTo>
                          <a:pt x="44" y="22"/>
                        </a:lnTo>
                        <a:lnTo>
                          <a:pt x="44" y="0"/>
                        </a:lnTo>
                        <a:lnTo>
                          <a:pt x="33" y="11"/>
                        </a:lnTo>
                        <a:lnTo>
                          <a:pt x="22" y="22"/>
                        </a:lnTo>
                        <a:lnTo>
                          <a:pt x="22" y="45"/>
                        </a:lnTo>
                        <a:lnTo>
                          <a:pt x="11" y="56"/>
                        </a:lnTo>
                        <a:lnTo>
                          <a:pt x="11" y="67"/>
                        </a:lnTo>
                        <a:lnTo>
                          <a:pt x="0" y="78"/>
                        </a:lnTo>
                        <a:lnTo>
                          <a:pt x="11" y="78"/>
                        </a:lnTo>
                        <a:lnTo>
                          <a:pt x="0" y="78"/>
                        </a:lnTo>
                        <a:lnTo>
                          <a:pt x="11" y="89"/>
                        </a:lnTo>
                        <a:lnTo>
                          <a:pt x="22" y="78"/>
                        </a:lnTo>
                        <a:lnTo>
                          <a:pt x="22" y="67"/>
                        </a:lnTo>
                        <a:lnTo>
                          <a:pt x="33" y="45"/>
                        </a:lnTo>
                        <a:lnTo>
                          <a:pt x="33" y="33"/>
                        </a:lnTo>
                        <a:lnTo>
                          <a:pt x="44" y="22"/>
                        </a:lnTo>
                        <a:lnTo>
                          <a:pt x="33" y="22"/>
                        </a:lnTo>
                        <a:lnTo>
                          <a:pt x="44" y="22"/>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07"/>
                  <p:cNvSpPr/>
                  <p:nvPr/>
                </p:nvSpPr>
                <p:spPr>
                  <a:xfrm rot="111600">
                    <a:off x="5685120" y="1221840"/>
                    <a:ext cx="18000" cy="43200"/>
                  </a:xfrm>
                  <a:custGeom>
                    <a:avLst/>
                    <a:gdLst>
                      <a:gd name="textAreaLeft" fmla="*/ 0 w 18000"/>
                      <a:gd name="textAreaRight" fmla="*/ 18360 w 18000"/>
                      <a:gd name="textAreaTop" fmla="*/ 0 h 43200"/>
                      <a:gd name="textAreaBottom" fmla="*/ 43560 h 43200"/>
                    </a:gdLst>
                    <a:ahLst/>
                    <a:rect l="textAreaLeft" t="textAreaTop" r="textAreaRight" b="textAreaBottom"/>
                    <a:pathLst>
                      <a:path w="167" h="268">
                        <a:moveTo>
                          <a:pt x="156" y="268"/>
                        </a:moveTo>
                        <a:lnTo>
                          <a:pt x="167" y="268"/>
                        </a:lnTo>
                        <a:lnTo>
                          <a:pt x="134" y="234"/>
                        </a:lnTo>
                        <a:lnTo>
                          <a:pt x="112" y="212"/>
                        </a:lnTo>
                        <a:lnTo>
                          <a:pt x="78" y="190"/>
                        </a:lnTo>
                        <a:lnTo>
                          <a:pt x="56" y="167"/>
                        </a:lnTo>
                        <a:lnTo>
                          <a:pt x="45" y="134"/>
                        </a:lnTo>
                        <a:lnTo>
                          <a:pt x="22" y="89"/>
                        </a:lnTo>
                        <a:lnTo>
                          <a:pt x="22" y="45"/>
                        </a:lnTo>
                        <a:lnTo>
                          <a:pt x="11" y="0"/>
                        </a:lnTo>
                        <a:lnTo>
                          <a:pt x="0" y="0"/>
                        </a:lnTo>
                        <a:lnTo>
                          <a:pt x="0" y="45"/>
                        </a:lnTo>
                        <a:lnTo>
                          <a:pt x="11" y="101"/>
                        </a:lnTo>
                        <a:lnTo>
                          <a:pt x="22" y="134"/>
                        </a:lnTo>
                        <a:lnTo>
                          <a:pt x="45" y="167"/>
                        </a:lnTo>
                        <a:lnTo>
                          <a:pt x="78" y="201"/>
                        </a:lnTo>
                        <a:lnTo>
                          <a:pt x="100" y="223"/>
                        </a:lnTo>
                        <a:lnTo>
                          <a:pt x="134" y="245"/>
                        </a:lnTo>
                        <a:lnTo>
                          <a:pt x="156" y="268"/>
                        </a:lnTo>
                        <a:lnTo>
                          <a:pt x="167" y="268"/>
                        </a:lnTo>
                        <a:lnTo>
                          <a:pt x="156" y="268"/>
                        </a:lnTo>
                        <a:close/>
                      </a:path>
                    </a:pathLst>
                  </a:custGeom>
                  <a:solidFill>
                    <a:srgbClr val="000000"/>
                  </a:solidFill>
                  <a:ln w="0">
                    <a:noFill/>
                  </a:ln>
                </p:spPr>
                <p:style>
                  <a:lnRef idx="0"/>
                  <a:fillRef idx="0"/>
                  <a:effectRef idx="0"/>
                  <a:fontRef idx="minor"/>
                </p:style>
                <p:txBody>
                  <a:bodyPr lIns="90000" rIns="90000" tIns="-3240" bIns="-3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606"/>
                  <p:cNvSpPr/>
                  <p:nvPr/>
                </p:nvSpPr>
                <p:spPr>
                  <a:xfrm rot="111600">
                    <a:off x="5701320" y="1254960"/>
                    <a:ext cx="3600" cy="10800"/>
                  </a:xfrm>
                  <a:custGeom>
                    <a:avLst/>
                    <a:gdLst>
                      <a:gd name="textAreaLeft" fmla="*/ 0 w 3600"/>
                      <a:gd name="textAreaRight" fmla="*/ 3960 w 3600"/>
                      <a:gd name="textAreaTop" fmla="*/ 0 h 10800"/>
                      <a:gd name="textAreaBottom" fmla="*/ 11160 h 10800"/>
                    </a:gdLst>
                    <a:ahLst/>
                    <a:rect l="textAreaLeft" t="textAreaTop" r="textAreaRight" b="textAreaBottom"/>
                    <a:pathLst>
                      <a:path w="34" h="67">
                        <a:moveTo>
                          <a:pt x="34" y="0"/>
                        </a:moveTo>
                        <a:lnTo>
                          <a:pt x="22" y="0"/>
                        </a:lnTo>
                        <a:lnTo>
                          <a:pt x="22" y="11"/>
                        </a:lnTo>
                        <a:lnTo>
                          <a:pt x="11" y="22"/>
                        </a:lnTo>
                        <a:lnTo>
                          <a:pt x="11" y="44"/>
                        </a:lnTo>
                        <a:lnTo>
                          <a:pt x="0" y="67"/>
                        </a:lnTo>
                        <a:lnTo>
                          <a:pt x="11" y="67"/>
                        </a:lnTo>
                        <a:lnTo>
                          <a:pt x="22" y="44"/>
                        </a:lnTo>
                        <a:lnTo>
                          <a:pt x="34" y="22"/>
                        </a:lnTo>
                        <a:lnTo>
                          <a:pt x="34" y="11"/>
                        </a:lnTo>
                        <a:lnTo>
                          <a:pt x="34" y="0"/>
                        </a:lnTo>
                        <a:lnTo>
                          <a:pt x="22" y="0"/>
                        </a:lnTo>
                        <a:lnTo>
                          <a:pt x="34" y="0"/>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605"/>
                  <p:cNvSpPr/>
                  <p:nvPr/>
                </p:nvSpPr>
                <p:spPr>
                  <a:xfrm rot="111600">
                    <a:off x="5700600" y="1254960"/>
                    <a:ext cx="4680" cy="50400"/>
                  </a:xfrm>
                  <a:custGeom>
                    <a:avLst/>
                    <a:gdLst>
                      <a:gd name="textAreaLeft" fmla="*/ 0 w 4680"/>
                      <a:gd name="textAreaRight" fmla="*/ 5040 w 4680"/>
                      <a:gd name="textAreaTop" fmla="*/ 0 h 50400"/>
                      <a:gd name="textAreaBottom" fmla="*/ 50760 h 50400"/>
                    </a:gdLst>
                    <a:ahLst/>
                    <a:rect l="textAreaLeft" t="textAreaTop" r="textAreaRight" b="textAreaBottom"/>
                    <a:pathLst>
                      <a:path w="45" h="312">
                        <a:moveTo>
                          <a:pt x="0" y="301"/>
                        </a:moveTo>
                        <a:lnTo>
                          <a:pt x="11" y="301"/>
                        </a:lnTo>
                        <a:lnTo>
                          <a:pt x="22" y="278"/>
                        </a:lnTo>
                        <a:lnTo>
                          <a:pt x="34" y="245"/>
                        </a:lnTo>
                        <a:lnTo>
                          <a:pt x="34" y="200"/>
                        </a:lnTo>
                        <a:lnTo>
                          <a:pt x="45" y="156"/>
                        </a:lnTo>
                        <a:lnTo>
                          <a:pt x="45" y="122"/>
                        </a:lnTo>
                        <a:lnTo>
                          <a:pt x="45" y="78"/>
                        </a:lnTo>
                        <a:lnTo>
                          <a:pt x="45" y="33"/>
                        </a:lnTo>
                        <a:lnTo>
                          <a:pt x="34" y="0"/>
                        </a:lnTo>
                        <a:lnTo>
                          <a:pt x="22" y="0"/>
                        </a:lnTo>
                        <a:lnTo>
                          <a:pt x="22" y="33"/>
                        </a:lnTo>
                        <a:lnTo>
                          <a:pt x="34" y="78"/>
                        </a:lnTo>
                        <a:lnTo>
                          <a:pt x="22" y="122"/>
                        </a:lnTo>
                        <a:lnTo>
                          <a:pt x="22" y="156"/>
                        </a:lnTo>
                        <a:lnTo>
                          <a:pt x="22" y="200"/>
                        </a:lnTo>
                        <a:lnTo>
                          <a:pt x="11" y="234"/>
                        </a:lnTo>
                        <a:lnTo>
                          <a:pt x="11" y="267"/>
                        </a:lnTo>
                        <a:lnTo>
                          <a:pt x="0" y="301"/>
                        </a:lnTo>
                        <a:lnTo>
                          <a:pt x="11" y="312"/>
                        </a:lnTo>
                        <a:lnTo>
                          <a:pt x="0" y="301"/>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604"/>
                  <p:cNvSpPr/>
                  <p:nvPr/>
                </p:nvSpPr>
                <p:spPr>
                  <a:xfrm rot="111600">
                    <a:off x="5700960" y="1246320"/>
                    <a:ext cx="26640" cy="59400"/>
                  </a:xfrm>
                  <a:custGeom>
                    <a:avLst/>
                    <a:gdLst>
                      <a:gd name="textAreaLeft" fmla="*/ 0 w 26640"/>
                      <a:gd name="textAreaRight" fmla="*/ 27000 w 26640"/>
                      <a:gd name="textAreaTop" fmla="*/ 0 h 59400"/>
                      <a:gd name="textAreaBottom" fmla="*/ 59760 h 59400"/>
                    </a:gdLst>
                    <a:ahLst/>
                    <a:rect l="textAreaLeft" t="textAreaTop" r="textAreaRight" b="textAreaBottom"/>
                    <a:pathLst>
                      <a:path w="245" h="368">
                        <a:moveTo>
                          <a:pt x="245" y="0"/>
                        </a:moveTo>
                        <a:lnTo>
                          <a:pt x="223" y="11"/>
                        </a:lnTo>
                        <a:lnTo>
                          <a:pt x="223" y="34"/>
                        </a:lnTo>
                        <a:lnTo>
                          <a:pt x="223" y="67"/>
                        </a:lnTo>
                        <a:lnTo>
                          <a:pt x="223" y="89"/>
                        </a:lnTo>
                        <a:lnTo>
                          <a:pt x="212" y="112"/>
                        </a:lnTo>
                        <a:lnTo>
                          <a:pt x="201" y="134"/>
                        </a:lnTo>
                        <a:lnTo>
                          <a:pt x="190" y="156"/>
                        </a:lnTo>
                        <a:lnTo>
                          <a:pt x="167" y="190"/>
                        </a:lnTo>
                        <a:lnTo>
                          <a:pt x="156" y="212"/>
                        </a:lnTo>
                        <a:lnTo>
                          <a:pt x="134" y="223"/>
                        </a:lnTo>
                        <a:lnTo>
                          <a:pt x="112" y="245"/>
                        </a:lnTo>
                        <a:lnTo>
                          <a:pt x="89" y="268"/>
                        </a:lnTo>
                        <a:lnTo>
                          <a:pt x="78" y="290"/>
                        </a:lnTo>
                        <a:lnTo>
                          <a:pt x="56" y="301"/>
                        </a:lnTo>
                        <a:lnTo>
                          <a:pt x="34" y="323"/>
                        </a:lnTo>
                        <a:lnTo>
                          <a:pt x="22" y="334"/>
                        </a:lnTo>
                        <a:lnTo>
                          <a:pt x="0" y="357"/>
                        </a:lnTo>
                        <a:lnTo>
                          <a:pt x="11" y="368"/>
                        </a:lnTo>
                        <a:lnTo>
                          <a:pt x="34" y="346"/>
                        </a:lnTo>
                        <a:lnTo>
                          <a:pt x="45" y="334"/>
                        </a:lnTo>
                        <a:lnTo>
                          <a:pt x="67" y="312"/>
                        </a:lnTo>
                        <a:lnTo>
                          <a:pt x="89" y="301"/>
                        </a:lnTo>
                        <a:lnTo>
                          <a:pt x="101" y="279"/>
                        </a:lnTo>
                        <a:lnTo>
                          <a:pt x="123" y="256"/>
                        </a:lnTo>
                        <a:lnTo>
                          <a:pt x="145" y="234"/>
                        </a:lnTo>
                        <a:lnTo>
                          <a:pt x="167" y="212"/>
                        </a:lnTo>
                        <a:lnTo>
                          <a:pt x="179" y="190"/>
                        </a:lnTo>
                        <a:lnTo>
                          <a:pt x="201" y="167"/>
                        </a:lnTo>
                        <a:lnTo>
                          <a:pt x="212" y="145"/>
                        </a:lnTo>
                        <a:lnTo>
                          <a:pt x="223" y="123"/>
                        </a:lnTo>
                        <a:lnTo>
                          <a:pt x="234" y="89"/>
                        </a:lnTo>
                        <a:lnTo>
                          <a:pt x="234" y="67"/>
                        </a:lnTo>
                        <a:lnTo>
                          <a:pt x="245" y="34"/>
                        </a:lnTo>
                        <a:lnTo>
                          <a:pt x="245" y="11"/>
                        </a:lnTo>
                        <a:lnTo>
                          <a:pt x="234" y="11"/>
                        </a:lnTo>
                        <a:lnTo>
                          <a:pt x="245"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1603"/>
                  <p:cNvSpPr/>
                  <p:nvPr/>
                </p:nvSpPr>
                <p:spPr>
                  <a:xfrm rot="111600">
                    <a:off x="5727240" y="1246680"/>
                    <a:ext cx="4680" cy="10800"/>
                  </a:xfrm>
                  <a:custGeom>
                    <a:avLst/>
                    <a:gdLst>
                      <a:gd name="textAreaLeft" fmla="*/ 0 w 4680"/>
                      <a:gd name="textAreaRight" fmla="*/ 5040 w 4680"/>
                      <a:gd name="textAreaTop" fmla="*/ 0 h 10800"/>
                      <a:gd name="textAreaBottom" fmla="*/ 11160 h 10800"/>
                    </a:gdLst>
                    <a:ahLst/>
                    <a:rect l="textAreaLeft" t="textAreaTop" r="textAreaRight" b="textAreaBottom"/>
                    <a:pathLst>
                      <a:path w="45" h="67">
                        <a:moveTo>
                          <a:pt x="34" y="56"/>
                        </a:moveTo>
                        <a:lnTo>
                          <a:pt x="45" y="56"/>
                        </a:lnTo>
                        <a:lnTo>
                          <a:pt x="34" y="45"/>
                        </a:lnTo>
                        <a:lnTo>
                          <a:pt x="23" y="22"/>
                        </a:lnTo>
                        <a:lnTo>
                          <a:pt x="11" y="0"/>
                        </a:lnTo>
                        <a:lnTo>
                          <a:pt x="0" y="11"/>
                        </a:lnTo>
                        <a:lnTo>
                          <a:pt x="11" y="22"/>
                        </a:lnTo>
                        <a:lnTo>
                          <a:pt x="11" y="34"/>
                        </a:lnTo>
                        <a:lnTo>
                          <a:pt x="23" y="45"/>
                        </a:lnTo>
                        <a:lnTo>
                          <a:pt x="34" y="67"/>
                        </a:lnTo>
                        <a:lnTo>
                          <a:pt x="45" y="67"/>
                        </a:lnTo>
                        <a:lnTo>
                          <a:pt x="34" y="56"/>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1602"/>
                  <p:cNvSpPr/>
                  <p:nvPr/>
                </p:nvSpPr>
                <p:spPr>
                  <a:xfrm rot="111600">
                    <a:off x="5732280" y="1169280"/>
                    <a:ext cx="11880" cy="88200"/>
                  </a:xfrm>
                  <a:custGeom>
                    <a:avLst/>
                    <a:gdLst>
                      <a:gd name="textAreaLeft" fmla="*/ 0 w 11880"/>
                      <a:gd name="textAreaRight" fmla="*/ 12240 w 11880"/>
                      <a:gd name="textAreaTop" fmla="*/ 0 h 88200"/>
                      <a:gd name="textAreaBottom" fmla="*/ 88560 h 88200"/>
                    </a:gdLst>
                    <a:ahLst/>
                    <a:rect l="textAreaLeft" t="textAreaTop" r="textAreaRight" b="textAreaBottom"/>
                    <a:pathLst>
                      <a:path w="111" h="546">
                        <a:moveTo>
                          <a:pt x="22" y="0"/>
                        </a:moveTo>
                        <a:lnTo>
                          <a:pt x="22" y="0"/>
                        </a:lnTo>
                        <a:lnTo>
                          <a:pt x="67" y="78"/>
                        </a:lnTo>
                        <a:lnTo>
                          <a:pt x="89" y="156"/>
                        </a:lnTo>
                        <a:lnTo>
                          <a:pt x="100" y="234"/>
                        </a:lnTo>
                        <a:lnTo>
                          <a:pt x="89" y="312"/>
                        </a:lnTo>
                        <a:lnTo>
                          <a:pt x="78" y="390"/>
                        </a:lnTo>
                        <a:lnTo>
                          <a:pt x="55" y="446"/>
                        </a:lnTo>
                        <a:lnTo>
                          <a:pt x="22" y="501"/>
                        </a:lnTo>
                        <a:lnTo>
                          <a:pt x="0" y="535"/>
                        </a:lnTo>
                        <a:lnTo>
                          <a:pt x="11" y="546"/>
                        </a:lnTo>
                        <a:lnTo>
                          <a:pt x="33" y="513"/>
                        </a:lnTo>
                        <a:lnTo>
                          <a:pt x="67" y="457"/>
                        </a:lnTo>
                        <a:lnTo>
                          <a:pt x="89" y="390"/>
                        </a:lnTo>
                        <a:lnTo>
                          <a:pt x="100" y="312"/>
                        </a:lnTo>
                        <a:lnTo>
                          <a:pt x="111" y="234"/>
                        </a:lnTo>
                        <a:lnTo>
                          <a:pt x="100" y="156"/>
                        </a:lnTo>
                        <a:lnTo>
                          <a:pt x="78" y="78"/>
                        </a:lnTo>
                        <a:lnTo>
                          <a:pt x="33" y="0"/>
                        </a:lnTo>
                        <a:lnTo>
                          <a:pt x="22" y="0"/>
                        </a:lnTo>
                        <a:close/>
                      </a:path>
                    </a:pathLst>
                  </a:custGeom>
                  <a:solidFill>
                    <a:srgbClr val="000000"/>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1601"/>
                  <p:cNvSpPr/>
                  <p:nvPr/>
                </p:nvSpPr>
                <p:spPr>
                  <a:xfrm rot="111600">
                    <a:off x="5722560" y="1105920"/>
                    <a:ext cx="15840" cy="63000"/>
                  </a:xfrm>
                  <a:custGeom>
                    <a:avLst/>
                    <a:gdLst>
                      <a:gd name="textAreaLeft" fmla="*/ 0 w 15840"/>
                      <a:gd name="textAreaRight" fmla="*/ 16200 w 15840"/>
                      <a:gd name="textAreaTop" fmla="*/ 0 h 63000"/>
                      <a:gd name="textAreaBottom" fmla="*/ 63360 h 63000"/>
                    </a:gdLst>
                    <a:ahLst/>
                    <a:rect l="textAreaLeft" t="textAreaTop" r="textAreaRight" b="textAreaBottom"/>
                    <a:pathLst>
                      <a:path w="145" h="390">
                        <a:moveTo>
                          <a:pt x="0" y="11"/>
                        </a:moveTo>
                        <a:lnTo>
                          <a:pt x="0" y="11"/>
                        </a:lnTo>
                        <a:lnTo>
                          <a:pt x="11" y="44"/>
                        </a:lnTo>
                        <a:lnTo>
                          <a:pt x="34" y="78"/>
                        </a:lnTo>
                        <a:lnTo>
                          <a:pt x="45" y="122"/>
                        </a:lnTo>
                        <a:lnTo>
                          <a:pt x="56" y="178"/>
                        </a:lnTo>
                        <a:lnTo>
                          <a:pt x="67" y="223"/>
                        </a:lnTo>
                        <a:lnTo>
                          <a:pt x="89" y="278"/>
                        </a:lnTo>
                        <a:lnTo>
                          <a:pt x="112" y="334"/>
                        </a:lnTo>
                        <a:lnTo>
                          <a:pt x="134" y="390"/>
                        </a:lnTo>
                        <a:lnTo>
                          <a:pt x="145" y="390"/>
                        </a:lnTo>
                        <a:lnTo>
                          <a:pt x="123" y="334"/>
                        </a:lnTo>
                        <a:lnTo>
                          <a:pt x="101" y="278"/>
                        </a:lnTo>
                        <a:lnTo>
                          <a:pt x="78" y="223"/>
                        </a:lnTo>
                        <a:lnTo>
                          <a:pt x="67" y="178"/>
                        </a:lnTo>
                        <a:lnTo>
                          <a:pt x="56" y="122"/>
                        </a:lnTo>
                        <a:lnTo>
                          <a:pt x="45" y="78"/>
                        </a:lnTo>
                        <a:lnTo>
                          <a:pt x="34" y="44"/>
                        </a:lnTo>
                        <a:lnTo>
                          <a:pt x="11" y="0"/>
                        </a:lnTo>
                        <a:lnTo>
                          <a:pt x="11" y="11"/>
                        </a:lnTo>
                        <a:lnTo>
                          <a:pt x="0" y="11"/>
                        </a:lnTo>
                        <a:close/>
                      </a:path>
                    </a:pathLst>
                  </a:custGeom>
                  <a:solidFill>
                    <a:srgbClr val="000000"/>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1600"/>
                  <p:cNvSpPr/>
                  <p:nvPr/>
                </p:nvSpPr>
                <p:spPr>
                  <a:xfrm rot="111600">
                    <a:off x="5723640" y="1080720"/>
                    <a:ext cx="8280" cy="27000"/>
                  </a:xfrm>
                  <a:custGeom>
                    <a:avLst/>
                    <a:gdLst>
                      <a:gd name="textAreaLeft" fmla="*/ 0 w 8280"/>
                      <a:gd name="textAreaRight" fmla="*/ 8640 w 8280"/>
                      <a:gd name="textAreaTop" fmla="*/ 0 h 27000"/>
                      <a:gd name="textAreaBottom" fmla="*/ 27360 h 27000"/>
                    </a:gdLst>
                    <a:ahLst/>
                    <a:rect l="textAreaLeft" t="textAreaTop" r="textAreaRight" b="textAreaBottom"/>
                    <a:pathLst>
                      <a:path w="78" h="167">
                        <a:moveTo>
                          <a:pt x="67" y="0"/>
                        </a:moveTo>
                        <a:lnTo>
                          <a:pt x="67" y="0"/>
                        </a:lnTo>
                        <a:lnTo>
                          <a:pt x="56" y="11"/>
                        </a:lnTo>
                        <a:lnTo>
                          <a:pt x="45" y="33"/>
                        </a:lnTo>
                        <a:lnTo>
                          <a:pt x="34" y="55"/>
                        </a:lnTo>
                        <a:lnTo>
                          <a:pt x="23" y="78"/>
                        </a:lnTo>
                        <a:lnTo>
                          <a:pt x="11" y="100"/>
                        </a:lnTo>
                        <a:lnTo>
                          <a:pt x="11" y="122"/>
                        </a:lnTo>
                        <a:lnTo>
                          <a:pt x="0" y="145"/>
                        </a:lnTo>
                        <a:lnTo>
                          <a:pt x="0" y="167"/>
                        </a:lnTo>
                        <a:lnTo>
                          <a:pt x="11" y="167"/>
                        </a:lnTo>
                        <a:lnTo>
                          <a:pt x="11" y="145"/>
                        </a:lnTo>
                        <a:lnTo>
                          <a:pt x="23" y="122"/>
                        </a:lnTo>
                        <a:lnTo>
                          <a:pt x="34" y="100"/>
                        </a:lnTo>
                        <a:lnTo>
                          <a:pt x="45" y="78"/>
                        </a:lnTo>
                        <a:lnTo>
                          <a:pt x="56" y="55"/>
                        </a:lnTo>
                        <a:lnTo>
                          <a:pt x="67" y="33"/>
                        </a:lnTo>
                        <a:lnTo>
                          <a:pt x="67" y="22"/>
                        </a:lnTo>
                        <a:lnTo>
                          <a:pt x="78" y="11"/>
                        </a:lnTo>
                        <a:lnTo>
                          <a:pt x="67" y="0"/>
                        </a:lnTo>
                        <a:close/>
                      </a:path>
                    </a:pathLst>
                  </a:custGeom>
                  <a:solidFill>
                    <a:srgbClr val="000000"/>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1599"/>
                  <p:cNvSpPr/>
                  <p:nvPr/>
                </p:nvSpPr>
                <p:spPr>
                  <a:xfrm rot="111600">
                    <a:off x="5731560" y="1077120"/>
                    <a:ext cx="2160" cy="5400"/>
                  </a:xfrm>
                  <a:custGeom>
                    <a:avLst/>
                    <a:gdLst>
                      <a:gd name="textAreaLeft" fmla="*/ 0 w 2160"/>
                      <a:gd name="textAreaRight" fmla="*/ 2520 w 2160"/>
                      <a:gd name="textAreaTop" fmla="*/ 0 h 5400"/>
                      <a:gd name="textAreaBottom" fmla="*/ 5760 h 5400"/>
                    </a:gdLst>
                    <a:ahLst/>
                    <a:rect l="textAreaLeft" t="textAreaTop" r="textAreaRight" b="textAreaBottom"/>
                    <a:pathLst>
                      <a:path w="22" h="34">
                        <a:moveTo>
                          <a:pt x="22" y="0"/>
                        </a:moveTo>
                        <a:lnTo>
                          <a:pt x="11" y="12"/>
                        </a:lnTo>
                        <a:lnTo>
                          <a:pt x="0" y="23"/>
                        </a:lnTo>
                        <a:lnTo>
                          <a:pt x="11" y="34"/>
                        </a:lnTo>
                        <a:lnTo>
                          <a:pt x="22" y="23"/>
                        </a:lnTo>
                        <a:lnTo>
                          <a:pt x="22" y="0"/>
                        </a:lnTo>
                        <a:close/>
                      </a:path>
                    </a:pathLst>
                  </a:custGeom>
                  <a:solidFill>
                    <a:srgbClr val="000000"/>
                  </a:solidFill>
                  <a:ln w="0">
                    <a:noFill/>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1598"/>
                  <p:cNvSpPr/>
                  <p:nvPr/>
                </p:nvSpPr>
                <p:spPr>
                  <a:xfrm rot="111600">
                    <a:off x="5734080" y="1070640"/>
                    <a:ext cx="29160" cy="10800"/>
                  </a:xfrm>
                  <a:custGeom>
                    <a:avLst/>
                    <a:gdLst>
                      <a:gd name="textAreaLeft" fmla="*/ 0 w 29160"/>
                      <a:gd name="textAreaRight" fmla="*/ 29520 w 29160"/>
                      <a:gd name="textAreaTop" fmla="*/ 0 h 10800"/>
                      <a:gd name="textAreaBottom" fmla="*/ 11160 h 10800"/>
                    </a:gdLst>
                    <a:ahLst/>
                    <a:rect l="textAreaLeft" t="textAreaTop" r="textAreaRight" b="textAreaBottom"/>
                    <a:pathLst>
                      <a:path w="268" h="67">
                        <a:moveTo>
                          <a:pt x="246" y="11"/>
                        </a:moveTo>
                        <a:lnTo>
                          <a:pt x="257" y="0"/>
                        </a:lnTo>
                        <a:lnTo>
                          <a:pt x="234" y="11"/>
                        </a:lnTo>
                        <a:lnTo>
                          <a:pt x="223" y="22"/>
                        </a:lnTo>
                        <a:lnTo>
                          <a:pt x="212" y="22"/>
                        </a:lnTo>
                        <a:lnTo>
                          <a:pt x="190" y="33"/>
                        </a:lnTo>
                        <a:lnTo>
                          <a:pt x="179" y="33"/>
                        </a:lnTo>
                        <a:lnTo>
                          <a:pt x="156" y="33"/>
                        </a:lnTo>
                        <a:lnTo>
                          <a:pt x="145" y="33"/>
                        </a:lnTo>
                        <a:lnTo>
                          <a:pt x="123" y="33"/>
                        </a:lnTo>
                        <a:lnTo>
                          <a:pt x="101" y="33"/>
                        </a:lnTo>
                        <a:lnTo>
                          <a:pt x="90" y="33"/>
                        </a:lnTo>
                        <a:lnTo>
                          <a:pt x="67" y="33"/>
                        </a:lnTo>
                        <a:lnTo>
                          <a:pt x="56" y="33"/>
                        </a:lnTo>
                        <a:lnTo>
                          <a:pt x="45" y="33"/>
                        </a:lnTo>
                        <a:lnTo>
                          <a:pt x="23" y="44"/>
                        </a:lnTo>
                        <a:lnTo>
                          <a:pt x="12" y="44"/>
                        </a:lnTo>
                        <a:lnTo>
                          <a:pt x="0" y="44"/>
                        </a:lnTo>
                        <a:lnTo>
                          <a:pt x="0" y="67"/>
                        </a:lnTo>
                        <a:lnTo>
                          <a:pt x="12" y="56"/>
                        </a:lnTo>
                        <a:lnTo>
                          <a:pt x="23" y="56"/>
                        </a:lnTo>
                        <a:lnTo>
                          <a:pt x="45" y="56"/>
                        </a:lnTo>
                        <a:lnTo>
                          <a:pt x="56" y="56"/>
                        </a:lnTo>
                        <a:lnTo>
                          <a:pt x="67" y="44"/>
                        </a:lnTo>
                        <a:lnTo>
                          <a:pt x="90" y="44"/>
                        </a:lnTo>
                        <a:lnTo>
                          <a:pt x="101" y="44"/>
                        </a:lnTo>
                        <a:lnTo>
                          <a:pt x="123" y="44"/>
                        </a:lnTo>
                        <a:lnTo>
                          <a:pt x="145" y="44"/>
                        </a:lnTo>
                        <a:lnTo>
                          <a:pt x="156" y="44"/>
                        </a:lnTo>
                        <a:lnTo>
                          <a:pt x="179" y="44"/>
                        </a:lnTo>
                        <a:lnTo>
                          <a:pt x="190" y="44"/>
                        </a:lnTo>
                        <a:lnTo>
                          <a:pt x="212" y="33"/>
                        </a:lnTo>
                        <a:lnTo>
                          <a:pt x="234" y="33"/>
                        </a:lnTo>
                        <a:lnTo>
                          <a:pt x="246" y="22"/>
                        </a:lnTo>
                        <a:lnTo>
                          <a:pt x="257" y="11"/>
                        </a:lnTo>
                        <a:lnTo>
                          <a:pt x="268" y="11"/>
                        </a:lnTo>
                        <a:lnTo>
                          <a:pt x="246" y="11"/>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1597"/>
                  <p:cNvSpPr/>
                  <p:nvPr/>
                </p:nvSpPr>
                <p:spPr>
                  <a:xfrm rot="111600">
                    <a:off x="5761440" y="1044000"/>
                    <a:ext cx="20520" cy="28440"/>
                  </a:xfrm>
                  <a:custGeom>
                    <a:avLst/>
                    <a:gdLst>
                      <a:gd name="textAreaLeft" fmla="*/ 0 w 20520"/>
                      <a:gd name="textAreaRight" fmla="*/ 20880 w 20520"/>
                      <a:gd name="textAreaTop" fmla="*/ 0 h 28440"/>
                      <a:gd name="textAreaBottom" fmla="*/ 28800 h 28440"/>
                    </a:gdLst>
                    <a:ahLst/>
                    <a:rect l="textAreaLeft" t="textAreaTop" r="textAreaRight" b="textAreaBottom"/>
                    <a:pathLst>
                      <a:path w="189" h="178">
                        <a:moveTo>
                          <a:pt x="178" y="0"/>
                        </a:moveTo>
                        <a:lnTo>
                          <a:pt x="178" y="0"/>
                        </a:lnTo>
                        <a:lnTo>
                          <a:pt x="156" y="22"/>
                        </a:lnTo>
                        <a:lnTo>
                          <a:pt x="144" y="44"/>
                        </a:lnTo>
                        <a:lnTo>
                          <a:pt x="111" y="67"/>
                        </a:lnTo>
                        <a:lnTo>
                          <a:pt x="89" y="89"/>
                        </a:lnTo>
                        <a:lnTo>
                          <a:pt x="66" y="111"/>
                        </a:lnTo>
                        <a:lnTo>
                          <a:pt x="33" y="133"/>
                        </a:lnTo>
                        <a:lnTo>
                          <a:pt x="22" y="156"/>
                        </a:lnTo>
                        <a:lnTo>
                          <a:pt x="0" y="178"/>
                        </a:lnTo>
                        <a:lnTo>
                          <a:pt x="22" y="178"/>
                        </a:lnTo>
                        <a:lnTo>
                          <a:pt x="33" y="156"/>
                        </a:lnTo>
                        <a:lnTo>
                          <a:pt x="44" y="145"/>
                        </a:lnTo>
                        <a:lnTo>
                          <a:pt x="66" y="122"/>
                        </a:lnTo>
                        <a:lnTo>
                          <a:pt x="100" y="100"/>
                        </a:lnTo>
                        <a:lnTo>
                          <a:pt x="122" y="78"/>
                        </a:lnTo>
                        <a:lnTo>
                          <a:pt x="144" y="55"/>
                        </a:lnTo>
                        <a:lnTo>
                          <a:pt x="167" y="33"/>
                        </a:lnTo>
                        <a:lnTo>
                          <a:pt x="189" y="11"/>
                        </a:lnTo>
                        <a:lnTo>
                          <a:pt x="178" y="0"/>
                        </a:lnTo>
                        <a:close/>
                      </a:path>
                    </a:pathLst>
                  </a:custGeom>
                  <a:solidFill>
                    <a:srgbClr val="000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1596"/>
                  <p:cNvSpPr/>
                  <p:nvPr/>
                </p:nvSpPr>
                <p:spPr>
                  <a:xfrm rot="111600">
                    <a:off x="5781240" y="1044720"/>
                    <a:ext cx="2160" cy="3240"/>
                  </a:xfrm>
                  <a:custGeom>
                    <a:avLst/>
                    <a:gdLst>
                      <a:gd name="textAreaLeft" fmla="*/ 0 w 2160"/>
                      <a:gd name="textAreaRight" fmla="*/ 2520 w 2160"/>
                      <a:gd name="textAreaTop" fmla="*/ 0 h 3240"/>
                      <a:gd name="textAreaBottom" fmla="*/ 3600 h 3240"/>
                    </a:gdLst>
                    <a:ahLst/>
                    <a:rect l="textAreaLeft" t="textAreaTop" r="textAreaRight" b="textAreaBottom"/>
                    <a:pathLst>
                      <a:path w="22" h="22">
                        <a:moveTo>
                          <a:pt x="22" y="11"/>
                        </a:moveTo>
                        <a:lnTo>
                          <a:pt x="22" y="11"/>
                        </a:lnTo>
                        <a:lnTo>
                          <a:pt x="11" y="0"/>
                        </a:lnTo>
                        <a:lnTo>
                          <a:pt x="0" y="0"/>
                        </a:lnTo>
                        <a:lnTo>
                          <a:pt x="11" y="11"/>
                        </a:lnTo>
                        <a:lnTo>
                          <a:pt x="11" y="22"/>
                        </a:lnTo>
                        <a:lnTo>
                          <a:pt x="22" y="22"/>
                        </a:lnTo>
                        <a:lnTo>
                          <a:pt x="22" y="11"/>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1595"/>
                  <p:cNvSpPr/>
                  <p:nvPr/>
                </p:nvSpPr>
                <p:spPr>
                  <a:xfrm rot="111600">
                    <a:off x="5784480" y="1021320"/>
                    <a:ext cx="15840" cy="27000"/>
                  </a:xfrm>
                  <a:custGeom>
                    <a:avLst/>
                    <a:gdLst>
                      <a:gd name="textAreaLeft" fmla="*/ 0 w 15840"/>
                      <a:gd name="textAreaRight" fmla="*/ 16200 w 15840"/>
                      <a:gd name="textAreaTop" fmla="*/ 0 h 27000"/>
                      <a:gd name="textAreaBottom" fmla="*/ 27360 h 27000"/>
                    </a:gdLst>
                    <a:ahLst/>
                    <a:rect l="textAreaLeft" t="textAreaTop" r="textAreaRight" b="textAreaBottom"/>
                    <a:pathLst>
                      <a:path w="145" h="167">
                        <a:moveTo>
                          <a:pt x="145" y="0"/>
                        </a:moveTo>
                        <a:lnTo>
                          <a:pt x="134" y="0"/>
                        </a:lnTo>
                        <a:lnTo>
                          <a:pt x="123" y="22"/>
                        </a:lnTo>
                        <a:lnTo>
                          <a:pt x="101" y="44"/>
                        </a:lnTo>
                        <a:lnTo>
                          <a:pt x="78" y="67"/>
                        </a:lnTo>
                        <a:lnTo>
                          <a:pt x="67" y="78"/>
                        </a:lnTo>
                        <a:lnTo>
                          <a:pt x="45" y="100"/>
                        </a:lnTo>
                        <a:lnTo>
                          <a:pt x="34" y="122"/>
                        </a:lnTo>
                        <a:lnTo>
                          <a:pt x="11" y="145"/>
                        </a:lnTo>
                        <a:lnTo>
                          <a:pt x="0" y="156"/>
                        </a:lnTo>
                        <a:lnTo>
                          <a:pt x="0" y="167"/>
                        </a:lnTo>
                        <a:lnTo>
                          <a:pt x="22" y="145"/>
                        </a:lnTo>
                        <a:lnTo>
                          <a:pt x="45" y="134"/>
                        </a:lnTo>
                        <a:lnTo>
                          <a:pt x="56" y="111"/>
                        </a:lnTo>
                        <a:lnTo>
                          <a:pt x="78" y="89"/>
                        </a:lnTo>
                        <a:lnTo>
                          <a:pt x="89" y="67"/>
                        </a:lnTo>
                        <a:lnTo>
                          <a:pt x="112" y="44"/>
                        </a:lnTo>
                        <a:lnTo>
                          <a:pt x="134" y="22"/>
                        </a:lnTo>
                        <a:lnTo>
                          <a:pt x="145" y="0"/>
                        </a:lnTo>
                        <a:lnTo>
                          <a:pt x="134" y="0"/>
                        </a:lnTo>
                        <a:lnTo>
                          <a:pt x="145" y="0"/>
                        </a:lnTo>
                        <a:close/>
                      </a:path>
                    </a:pathLst>
                  </a:custGeom>
                  <a:solidFill>
                    <a:srgbClr val="000000"/>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1594"/>
                  <p:cNvSpPr/>
                  <p:nvPr/>
                </p:nvSpPr>
                <p:spPr>
                  <a:xfrm rot="111600">
                    <a:off x="5797440" y="1022400"/>
                    <a:ext cx="53640" cy="111600"/>
                  </a:xfrm>
                  <a:custGeom>
                    <a:avLst/>
                    <a:gdLst>
                      <a:gd name="textAreaLeft" fmla="*/ 0 w 53640"/>
                      <a:gd name="textAreaRight" fmla="*/ 54000 w 53640"/>
                      <a:gd name="textAreaTop" fmla="*/ 0 h 111600"/>
                      <a:gd name="textAreaBottom" fmla="*/ 111960 h 111600"/>
                    </a:gdLst>
                    <a:ahLst/>
                    <a:rect l="textAreaLeft" t="textAreaTop" r="textAreaRight" b="textAreaBottom"/>
                    <a:pathLst>
                      <a:path w="490" h="691">
                        <a:moveTo>
                          <a:pt x="490" y="691"/>
                        </a:moveTo>
                        <a:lnTo>
                          <a:pt x="490" y="691"/>
                        </a:lnTo>
                        <a:lnTo>
                          <a:pt x="479" y="657"/>
                        </a:lnTo>
                        <a:lnTo>
                          <a:pt x="468" y="624"/>
                        </a:lnTo>
                        <a:lnTo>
                          <a:pt x="446" y="579"/>
                        </a:lnTo>
                        <a:lnTo>
                          <a:pt x="423" y="535"/>
                        </a:lnTo>
                        <a:lnTo>
                          <a:pt x="390" y="490"/>
                        </a:lnTo>
                        <a:lnTo>
                          <a:pt x="357" y="446"/>
                        </a:lnTo>
                        <a:lnTo>
                          <a:pt x="323" y="401"/>
                        </a:lnTo>
                        <a:lnTo>
                          <a:pt x="290" y="345"/>
                        </a:lnTo>
                        <a:lnTo>
                          <a:pt x="256" y="301"/>
                        </a:lnTo>
                        <a:lnTo>
                          <a:pt x="212" y="245"/>
                        </a:lnTo>
                        <a:lnTo>
                          <a:pt x="178" y="200"/>
                        </a:lnTo>
                        <a:lnTo>
                          <a:pt x="134" y="145"/>
                        </a:lnTo>
                        <a:lnTo>
                          <a:pt x="100" y="111"/>
                        </a:lnTo>
                        <a:lnTo>
                          <a:pt x="67" y="67"/>
                        </a:lnTo>
                        <a:lnTo>
                          <a:pt x="45" y="22"/>
                        </a:lnTo>
                        <a:lnTo>
                          <a:pt x="11" y="0"/>
                        </a:lnTo>
                        <a:lnTo>
                          <a:pt x="0" y="0"/>
                        </a:lnTo>
                        <a:lnTo>
                          <a:pt x="33" y="33"/>
                        </a:lnTo>
                        <a:lnTo>
                          <a:pt x="56" y="78"/>
                        </a:lnTo>
                        <a:lnTo>
                          <a:pt x="89" y="111"/>
                        </a:lnTo>
                        <a:lnTo>
                          <a:pt x="123" y="156"/>
                        </a:lnTo>
                        <a:lnTo>
                          <a:pt x="167" y="212"/>
                        </a:lnTo>
                        <a:lnTo>
                          <a:pt x="201" y="256"/>
                        </a:lnTo>
                        <a:lnTo>
                          <a:pt x="245" y="301"/>
                        </a:lnTo>
                        <a:lnTo>
                          <a:pt x="279" y="356"/>
                        </a:lnTo>
                        <a:lnTo>
                          <a:pt x="312" y="401"/>
                        </a:lnTo>
                        <a:lnTo>
                          <a:pt x="345" y="457"/>
                        </a:lnTo>
                        <a:lnTo>
                          <a:pt x="379" y="501"/>
                        </a:lnTo>
                        <a:lnTo>
                          <a:pt x="412" y="546"/>
                        </a:lnTo>
                        <a:lnTo>
                          <a:pt x="435" y="591"/>
                        </a:lnTo>
                        <a:lnTo>
                          <a:pt x="457" y="624"/>
                        </a:lnTo>
                        <a:lnTo>
                          <a:pt x="468" y="657"/>
                        </a:lnTo>
                        <a:lnTo>
                          <a:pt x="479" y="691"/>
                        </a:lnTo>
                        <a:lnTo>
                          <a:pt x="479" y="680"/>
                        </a:lnTo>
                        <a:lnTo>
                          <a:pt x="490" y="69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1593"/>
                  <p:cNvSpPr/>
                  <p:nvPr/>
                </p:nvSpPr>
                <p:spPr>
                  <a:xfrm rot="111600">
                    <a:off x="5838480" y="1133280"/>
                    <a:ext cx="28080" cy="109800"/>
                  </a:xfrm>
                  <a:custGeom>
                    <a:avLst/>
                    <a:gdLst>
                      <a:gd name="textAreaLeft" fmla="*/ 0 w 28080"/>
                      <a:gd name="textAreaRight" fmla="*/ 28440 w 28080"/>
                      <a:gd name="textAreaTop" fmla="*/ 0 h 109800"/>
                      <a:gd name="textAreaBottom" fmla="*/ 110160 h 109800"/>
                    </a:gdLst>
                    <a:ahLst/>
                    <a:rect l="textAreaLeft" t="textAreaTop" r="textAreaRight" b="textAreaBottom"/>
                    <a:pathLst>
                      <a:path w="257" h="680">
                        <a:moveTo>
                          <a:pt x="257" y="668"/>
                        </a:moveTo>
                        <a:lnTo>
                          <a:pt x="257" y="668"/>
                        </a:lnTo>
                        <a:lnTo>
                          <a:pt x="212" y="646"/>
                        </a:lnTo>
                        <a:lnTo>
                          <a:pt x="167" y="624"/>
                        </a:lnTo>
                        <a:lnTo>
                          <a:pt x="134" y="590"/>
                        </a:lnTo>
                        <a:lnTo>
                          <a:pt x="100" y="557"/>
                        </a:lnTo>
                        <a:lnTo>
                          <a:pt x="78" y="512"/>
                        </a:lnTo>
                        <a:lnTo>
                          <a:pt x="56" y="468"/>
                        </a:lnTo>
                        <a:lnTo>
                          <a:pt x="34" y="423"/>
                        </a:lnTo>
                        <a:lnTo>
                          <a:pt x="22" y="379"/>
                        </a:lnTo>
                        <a:lnTo>
                          <a:pt x="22" y="323"/>
                        </a:lnTo>
                        <a:lnTo>
                          <a:pt x="11" y="278"/>
                        </a:lnTo>
                        <a:lnTo>
                          <a:pt x="11" y="223"/>
                        </a:lnTo>
                        <a:lnTo>
                          <a:pt x="22" y="178"/>
                        </a:lnTo>
                        <a:lnTo>
                          <a:pt x="34" y="133"/>
                        </a:lnTo>
                        <a:lnTo>
                          <a:pt x="45" y="89"/>
                        </a:lnTo>
                        <a:lnTo>
                          <a:pt x="67" y="44"/>
                        </a:lnTo>
                        <a:lnTo>
                          <a:pt x="89" y="11"/>
                        </a:lnTo>
                        <a:lnTo>
                          <a:pt x="78" y="0"/>
                        </a:lnTo>
                        <a:lnTo>
                          <a:pt x="56" y="44"/>
                        </a:lnTo>
                        <a:lnTo>
                          <a:pt x="34" y="78"/>
                        </a:lnTo>
                        <a:lnTo>
                          <a:pt x="22" y="122"/>
                        </a:lnTo>
                        <a:lnTo>
                          <a:pt x="11" y="178"/>
                        </a:lnTo>
                        <a:lnTo>
                          <a:pt x="0" y="223"/>
                        </a:lnTo>
                        <a:lnTo>
                          <a:pt x="0" y="278"/>
                        </a:lnTo>
                        <a:lnTo>
                          <a:pt x="0" y="323"/>
                        </a:lnTo>
                        <a:lnTo>
                          <a:pt x="11" y="379"/>
                        </a:lnTo>
                        <a:lnTo>
                          <a:pt x="22" y="423"/>
                        </a:lnTo>
                        <a:lnTo>
                          <a:pt x="45" y="479"/>
                        </a:lnTo>
                        <a:lnTo>
                          <a:pt x="67" y="524"/>
                        </a:lnTo>
                        <a:lnTo>
                          <a:pt x="89" y="568"/>
                        </a:lnTo>
                        <a:lnTo>
                          <a:pt x="123" y="602"/>
                        </a:lnTo>
                        <a:lnTo>
                          <a:pt x="167" y="635"/>
                        </a:lnTo>
                        <a:lnTo>
                          <a:pt x="212" y="657"/>
                        </a:lnTo>
                        <a:lnTo>
                          <a:pt x="257" y="680"/>
                        </a:lnTo>
                        <a:lnTo>
                          <a:pt x="257" y="66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1592"/>
                  <p:cNvSpPr/>
                  <p:nvPr/>
                </p:nvSpPr>
                <p:spPr>
                  <a:xfrm rot="111600">
                    <a:off x="5862960" y="1234800"/>
                    <a:ext cx="2160" cy="9000"/>
                  </a:xfrm>
                  <a:custGeom>
                    <a:avLst/>
                    <a:gdLst>
                      <a:gd name="textAreaLeft" fmla="*/ 0 w 2160"/>
                      <a:gd name="textAreaRight" fmla="*/ 2520 w 2160"/>
                      <a:gd name="textAreaTop" fmla="*/ 0 h 9000"/>
                      <a:gd name="textAreaBottom" fmla="*/ 9360 h 9000"/>
                    </a:gdLst>
                    <a:ahLst/>
                    <a:rect l="textAreaLeft" t="textAreaTop" r="textAreaRight" b="textAreaBottom"/>
                    <a:pathLst>
                      <a:path w="23" h="56">
                        <a:moveTo>
                          <a:pt x="23" y="0"/>
                        </a:moveTo>
                        <a:lnTo>
                          <a:pt x="23" y="0"/>
                        </a:lnTo>
                        <a:lnTo>
                          <a:pt x="0" y="0"/>
                        </a:lnTo>
                        <a:lnTo>
                          <a:pt x="0" y="11"/>
                        </a:lnTo>
                        <a:lnTo>
                          <a:pt x="0" y="22"/>
                        </a:lnTo>
                        <a:lnTo>
                          <a:pt x="0" y="33"/>
                        </a:lnTo>
                        <a:lnTo>
                          <a:pt x="12" y="44"/>
                        </a:lnTo>
                        <a:lnTo>
                          <a:pt x="23" y="44"/>
                        </a:lnTo>
                        <a:lnTo>
                          <a:pt x="12" y="44"/>
                        </a:lnTo>
                        <a:lnTo>
                          <a:pt x="12" y="56"/>
                        </a:lnTo>
                        <a:lnTo>
                          <a:pt x="23" y="56"/>
                        </a:lnTo>
                        <a:lnTo>
                          <a:pt x="23" y="44"/>
                        </a:lnTo>
                        <a:lnTo>
                          <a:pt x="23" y="33"/>
                        </a:lnTo>
                        <a:lnTo>
                          <a:pt x="23" y="22"/>
                        </a:lnTo>
                        <a:lnTo>
                          <a:pt x="12" y="11"/>
                        </a:lnTo>
                        <a:lnTo>
                          <a:pt x="23" y="0"/>
                        </a:lnTo>
                        <a:close/>
                      </a:path>
                    </a:pathLst>
                  </a:custGeom>
                  <a:solidFill>
                    <a:srgbClr val="000000"/>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1591"/>
                  <p:cNvSpPr/>
                  <p:nvPr/>
                </p:nvSpPr>
                <p:spPr>
                  <a:xfrm rot="111600">
                    <a:off x="5863680" y="1235160"/>
                    <a:ext cx="8280" cy="52200"/>
                  </a:xfrm>
                  <a:custGeom>
                    <a:avLst/>
                    <a:gdLst>
                      <a:gd name="textAreaLeft" fmla="*/ 0 w 8280"/>
                      <a:gd name="textAreaRight" fmla="*/ 8640 w 8280"/>
                      <a:gd name="textAreaTop" fmla="*/ 0 h 52200"/>
                      <a:gd name="textAreaBottom" fmla="*/ 52560 h 52200"/>
                    </a:gdLst>
                    <a:ahLst/>
                    <a:rect l="textAreaLeft" t="textAreaTop" r="textAreaRight" b="textAreaBottom"/>
                    <a:pathLst>
                      <a:path w="78" h="323">
                        <a:moveTo>
                          <a:pt x="55" y="312"/>
                        </a:moveTo>
                        <a:lnTo>
                          <a:pt x="66" y="323"/>
                        </a:lnTo>
                        <a:lnTo>
                          <a:pt x="66" y="290"/>
                        </a:lnTo>
                        <a:lnTo>
                          <a:pt x="78" y="245"/>
                        </a:lnTo>
                        <a:lnTo>
                          <a:pt x="78" y="200"/>
                        </a:lnTo>
                        <a:lnTo>
                          <a:pt x="66" y="145"/>
                        </a:lnTo>
                        <a:lnTo>
                          <a:pt x="55" y="89"/>
                        </a:lnTo>
                        <a:lnTo>
                          <a:pt x="44" y="56"/>
                        </a:lnTo>
                        <a:lnTo>
                          <a:pt x="33" y="22"/>
                        </a:lnTo>
                        <a:lnTo>
                          <a:pt x="11" y="0"/>
                        </a:lnTo>
                        <a:lnTo>
                          <a:pt x="0" y="11"/>
                        </a:lnTo>
                        <a:lnTo>
                          <a:pt x="22" y="22"/>
                        </a:lnTo>
                        <a:lnTo>
                          <a:pt x="33" y="56"/>
                        </a:lnTo>
                        <a:lnTo>
                          <a:pt x="44" y="100"/>
                        </a:lnTo>
                        <a:lnTo>
                          <a:pt x="55" y="145"/>
                        </a:lnTo>
                        <a:lnTo>
                          <a:pt x="55" y="200"/>
                        </a:lnTo>
                        <a:lnTo>
                          <a:pt x="55" y="245"/>
                        </a:lnTo>
                        <a:lnTo>
                          <a:pt x="55" y="290"/>
                        </a:lnTo>
                        <a:lnTo>
                          <a:pt x="44" y="323"/>
                        </a:lnTo>
                        <a:lnTo>
                          <a:pt x="55" y="323"/>
                        </a:lnTo>
                        <a:lnTo>
                          <a:pt x="55" y="312"/>
                        </a:lnTo>
                        <a:close/>
                      </a:path>
                    </a:pathLst>
                  </a:custGeom>
                  <a:solidFill>
                    <a:srgbClr val="000000"/>
                  </a:solidFill>
                  <a:ln w="0">
                    <a:noFill/>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590"/>
                  <p:cNvSpPr/>
                  <p:nvPr/>
                </p:nvSpPr>
                <p:spPr>
                  <a:xfrm rot="111600">
                    <a:off x="5869440" y="1258560"/>
                    <a:ext cx="15840" cy="28800"/>
                  </a:xfrm>
                  <a:custGeom>
                    <a:avLst/>
                    <a:gdLst>
                      <a:gd name="textAreaLeft" fmla="*/ 0 w 15840"/>
                      <a:gd name="textAreaRight" fmla="*/ 16200 w 15840"/>
                      <a:gd name="textAreaTop" fmla="*/ 0 h 28800"/>
                      <a:gd name="textAreaBottom" fmla="*/ 29160 h 28800"/>
                    </a:gdLst>
                    <a:ahLst/>
                    <a:rect l="textAreaLeft" t="textAreaTop" r="textAreaRight" b="textAreaBottom"/>
                    <a:pathLst>
                      <a:path w="145" h="178">
                        <a:moveTo>
                          <a:pt x="134" y="0"/>
                        </a:moveTo>
                        <a:lnTo>
                          <a:pt x="134" y="11"/>
                        </a:lnTo>
                        <a:lnTo>
                          <a:pt x="123" y="33"/>
                        </a:lnTo>
                        <a:lnTo>
                          <a:pt x="112" y="55"/>
                        </a:lnTo>
                        <a:lnTo>
                          <a:pt x="101" y="67"/>
                        </a:lnTo>
                        <a:lnTo>
                          <a:pt x="78" y="89"/>
                        </a:lnTo>
                        <a:lnTo>
                          <a:pt x="56" y="111"/>
                        </a:lnTo>
                        <a:lnTo>
                          <a:pt x="45" y="133"/>
                        </a:lnTo>
                        <a:lnTo>
                          <a:pt x="23" y="145"/>
                        </a:lnTo>
                        <a:lnTo>
                          <a:pt x="0" y="167"/>
                        </a:lnTo>
                        <a:lnTo>
                          <a:pt x="0" y="178"/>
                        </a:lnTo>
                        <a:lnTo>
                          <a:pt x="34" y="156"/>
                        </a:lnTo>
                        <a:lnTo>
                          <a:pt x="56" y="145"/>
                        </a:lnTo>
                        <a:lnTo>
                          <a:pt x="67" y="122"/>
                        </a:lnTo>
                        <a:lnTo>
                          <a:pt x="89" y="100"/>
                        </a:lnTo>
                        <a:lnTo>
                          <a:pt x="112" y="78"/>
                        </a:lnTo>
                        <a:lnTo>
                          <a:pt x="123" y="55"/>
                        </a:lnTo>
                        <a:lnTo>
                          <a:pt x="134" y="33"/>
                        </a:lnTo>
                        <a:lnTo>
                          <a:pt x="145" y="11"/>
                        </a:lnTo>
                        <a:lnTo>
                          <a:pt x="134" y="0"/>
                        </a:lnTo>
                        <a:close/>
                      </a:path>
                    </a:pathLst>
                  </a:custGeom>
                  <a:solidFill>
                    <a:srgbClr val="000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589"/>
                  <p:cNvSpPr/>
                  <p:nvPr/>
                </p:nvSpPr>
                <p:spPr>
                  <a:xfrm rot="111600">
                    <a:off x="5884920" y="1231920"/>
                    <a:ext cx="8280" cy="28800"/>
                  </a:xfrm>
                  <a:custGeom>
                    <a:avLst/>
                    <a:gdLst>
                      <a:gd name="textAreaLeft" fmla="*/ 0 w 8280"/>
                      <a:gd name="textAreaRight" fmla="*/ 8640 w 8280"/>
                      <a:gd name="textAreaTop" fmla="*/ 0 h 28800"/>
                      <a:gd name="textAreaBottom" fmla="*/ 29160 h 28800"/>
                    </a:gdLst>
                    <a:ahLst/>
                    <a:rect l="textAreaLeft" t="textAreaTop" r="textAreaRight" b="textAreaBottom"/>
                    <a:pathLst>
                      <a:path w="78" h="178">
                        <a:moveTo>
                          <a:pt x="67" y="0"/>
                        </a:moveTo>
                        <a:lnTo>
                          <a:pt x="56" y="11"/>
                        </a:lnTo>
                        <a:lnTo>
                          <a:pt x="56" y="22"/>
                        </a:lnTo>
                        <a:lnTo>
                          <a:pt x="56" y="44"/>
                        </a:lnTo>
                        <a:lnTo>
                          <a:pt x="45" y="78"/>
                        </a:lnTo>
                        <a:lnTo>
                          <a:pt x="33" y="100"/>
                        </a:lnTo>
                        <a:lnTo>
                          <a:pt x="22" y="122"/>
                        </a:lnTo>
                        <a:lnTo>
                          <a:pt x="11" y="144"/>
                        </a:lnTo>
                        <a:lnTo>
                          <a:pt x="11" y="167"/>
                        </a:lnTo>
                        <a:lnTo>
                          <a:pt x="0" y="167"/>
                        </a:lnTo>
                        <a:lnTo>
                          <a:pt x="11" y="178"/>
                        </a:lnTo>
                        <a:lnTo>
                          <a:pt x="22" y="167"/>
                        </a:lnTo>
                        <a:lnTo>
                          <a:pt x="33" y="156"/>
                        </a:lnTo>
                        <a:lnTo>
                          <a:pt x="45" y="133"/>
                        </a:lnTo>
                        <a:lnTo>
                          <a:pt x="56" y="100"/>
                        </a:lnTo>
                        <a:lnTo>
                          <a:pt x="56" y="78"/>
                        </a:lnTo>
                        <a:lnTo>
                          <a:pt x="67" y="44"/>
                        </a:lnTo>
                        <a:lnTo>
                          <a:pt x="78" y="22"/>
                        </a:lnTo>
                        <a:lnTo>
                          <a:pt x="78" y="11"/>
                        </a:lnTo>
                        <a:lnTo>
                          <a:pt x="67" y="22"/>
                        </a:lnTo>
                        <a:lnTo>
                          <a:pt x="67" y="0"/>
                        </a:lnTo>
                        <a:close/>
                      </a:path>
                    </a:pathLst>
                  </a:custGeom>
                  <a:solidFill>
                    <a:srgbClr val="000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1588"/>
                  <p:cNvSpPr/>
                  <p:nvPr/>
                </p:nvSpPr>
                <p:spPr>
                  <a:xfrm rot="111600">
                    <a:off x="5891400" y="1232280"/>
                    <a:ext cx="4680" cy="14400"/>
                  </a:xfrm>
                  <a:custGeom>
                    <a:avLst/>
                    <a:gdLst>
                      <a:gd name="textAreaLeft" fmla="*/ 0 w 4680"/>
                      <a:gd name="textAreaRight" fmla="*/ 5040 w 4680"/>
                      <a:gd name="textAreaTop" fmla="*/ 0 h 14400"/>
                      <a:gd name="textAreaBottom" fmla="*/ 14760 h 14400"/>
                    </a:gdLst>
                    <a:ahLst/>
                    <a:rect l="textAreaLeft" t="textAreaTop" r="textAreaRight" b="textAreaBottom"/>
                    <a:pathLst>
                      <a:path w="44" h="89">
                        <a:moveTo>
                          <a:pt x="33" y="66"/>
                        </a:moveTo>
                        <a:lnTo>
                          <a:pt x="33" y="66"/>
                        </a:lnTo>
                        <a:lnTo>
                          <a:pt x="11" y="78"/>
                        </a:lnTo>
                        <a:lnTo>
                          <a:pt x="11" y="66"/>
                        </a:lnTo>
                        <a:lnTo>
                          <a:pt x="11" y="55"/>
                        </a:lnTo>
                        <a:lnTo>
                          <a:pt x="22" y="44"/>
                        </a:lnTo>
                        <a:lnTo>
                          <a:pt x="22" y="22"/>
                        </a:lnTo>
                        <a:lnTo>
                          <a:pt x="22" y="11"/>
                        </a:lnTo>
                        <a:lnTo>
                          <a:pt x="11" y="0"/>
                        </a:lnTo>
                        <a:lnTo>
                          <a:pt x="11" y="22"/>
                        </a:lnTo>
                        <a:lnTo>
                          <a:pt x="11" y="44"/>
                        </a:lnTo>
                        <a:lnTo>
                          <a:pt x="0" y="55"/>
                        </a:lnTo>
                        <a:lnTo>
                          <a:pt x="0" y="66"/>
                        </a:lnTo>
                        <a:lnTo>
                          <a:pt x="0" y="89"/>
                        </a:lnTo>
                        <a:lnTo>
                          <a:pt x="22" y="89"/>
                        </a:lnTo>
                        <a:lnTo>
                          <a:pt x="44" y="78"/>
                        </a:lnTo>
                        <a:lnTo>
                          <a:pt x="33" y="66"/>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1587"/>
                  <p:cNvSpPr/>
                  <p:nvPr/>
                </p:nvSpPr>
                <p:spPr>
                  <a:xfrm rot="111600">
                    <a:off x="5864760" y="1127160"/>
                    <a:ext cx="43920" cy="117000"/>
                  </a:xfrm>
                  <a:custGeom>
                    <a:avLst/>
                    <a:gdLst>
                      <a:gd name="textAreaLeft" fmla="*/ 0 w 43920"/>
                      <a:gd name="textAreaRight" fmla="*/ 44280 w 43920"/>
                      <a:gd name="textAreaTop" fmla="*/ 0 h 117000"/>
                      <a:gd name="textAreaBottom" fmla="*/ 117360 h 117000"/>
                    </a:gdLst>
                    <a:ahLst/>
                    <a:rect l="textAreaLeft" t="textAreaTop" r="textAreaRight" b="textAreaBottom"/>
                    <a:pathLst>
                      <a:path w="402" h="725">
                        <a:moveTo>
                          <a:pt x="0" y="11"/>
                        </a:moveTo>
                        <a:lnTo>
                          <a:pt x="0" y="11"/>
                        </a:lnTo>
                        <a:lnTo>
                          <a:pt x="67" y="67"/>
                        </a:lnTo>
                        <a:lnTo>
                          <a:pt x="134" y="112"/>
                        </a:lnTo>
                        <a:lnTo>
                          <a:pt x="190" y="167"/>
                        </a:lnTo>
                        <a:lnTo>
                          <a:pt x="234" y="212"/>
                        </a:lnTo>
                        <a:lnTo>
                          <a:pt x="279" y="256"/>
                        </a:lnTo>
                        <a:lnTo>
                          <a:pt x="312" y="312"/>
                        </a:lnTo>
                        <a:lnTo>
                          <a:pt x="346" y="357"/>
                        </a:lnTo>
                        <a:lnTo>
                          <a:pt x="368" y="401"/>
                        </a:lnTo>
                        <a:lnTo>
                          <a:pt x="379" y="435"/>
                        </a:lnTo>
                        <a:lnTo>
                          <a:pt x="390" y="479"/>
                        </a:lnTo>
                        <a:lnTo>
                          <a:pt x="390" y="524"/>
                        </a:lnTo>
                        <a:lnTo>
                          <a:pt x="390" y="557"/>
                        </a:lnTo>
                        <a:lnTo>
                          <a:pt x="368" y="602"/>
                        </a:lnTo>
                        <a:lnTo>
                          <a:pt x="357" y="635"/>
                        </a:lnTo>
                        <a:lnTo>
                          <a:pt x="324" y="680"/>
                        </a:lnTo>
                        <a:lnTo>
                          <a:pt x="290" y="713"/>
                        </a:lnTo>
                        <a:lnTo>
                          <a:pt x="301" y="725"/>
                        </a:lnTo>
                        <a:lnTo>
                          <a:pt x="335" y="680"/>
                        </a:lnTo>
                        <a:lnTo>
                          <a:pt x="368" y="647"/>
                        </a:lnTo>
                        <a:lnTo>
                          <a:pt x="390" y="602"/>
                        </a:lnTo>
                        <a:lnTo>
                          <a:pt x="402" y="569"/>
                        </a:lnTo>
                        <a:lnTo>
                          <a:pt x="402" y="524"/>
                        </a:lnTo>
                        <a:lnTo>
                          <a:pt x="402" y="479"/>
                        </a:lnTo>
                        <a:lnTo>
                          <a:pt x="390" y="435"/>
                        </a:lnTo>
                        <a:lnTo>
                          <a:pt x="379" y="390"/>
                        </a:lnTo>
                        <a:lnTo>
                          <a:pt x="357" y="346"/>
                        </a:lnTo>
                        <a:lnTo>
                          <a:pt x="324" y="301"/>
                        </a:lnTo>
                        <a:lnTo>
                          <a:pt x="290" y="256"/>
                        </a:lnTo>
                        <a:lnTo>
                          <a:pt x="246" y="201"/>
                        </a:lnTo>
                        <a:lnTo>
                          <a:pt x="201" y="156"/>
                        </a:lnTo>
                        <a:lnTo>
                          <a:pt x="134" y="100"/>
                        </a:lnTo>
                        <a:lnTo>
                          <a:pt x="78" y="56"/>
                        </a:lnTo>
                        <a:lnTo>
                          <a:pt x="12" y="0"/>
                        </a:lnTo>
                        <a:lnTo>
                          <a:pt x="12"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1586"/>
                  <p:cNvSpPr/>
                  <p:nvPr/>
                </p:nvSpPr>
                <p:spPr>
                  <a:xfrm rot="111600">
                    <a:off x="5843520" y="988920"/>
                    <a:ext cx="28080" cy="138600"/>
                  </a:xfrm>
                  <a:custGeom>
                    <a:avLst/>
                    <a:gdLst>
                      <a:gd name="textAreaLeft" fmla="*/ 0 w 28080"/>
                      <a:gd name="textAreaRight" fmla="*/ 28440 w 28080"/>
                      <a:gd name="textAreaTop" fmla="*/ 0 h 138600"/>
                      <a:gd name="textAreaBottom" fmla="*/ 138960 h 138600"/>
                    </a:gdLst>
                    <a:ahLst/>
                    <a:rect l="textAreaLeft" t="textAreaTop" r="textAreaRight" b="textAreaBottom"/>
                    <a:pathLst>
                      <a:path w="257" h="858">
                        <a:moveTo>
                          <a:pt x="0" y="11"/>
                        </a:moveTo>
                        <a:lnTo>
                          <a:pt x="0" y="11"/>
                        </a:lnTo>
                        <a:lnTo>
                          <a:pt x="56" y="45"/>
                        </a:lnTo>
                        <a:lnTo>
                          <a:pt x="101" y="78"/>
                        </a:lnTo>
                        <a:lnTo>
                          <a:pt x="145" y="123"/>
                        </a:lnTo>
                        <a:lnTo>
                          <a:pt x="179" y="167"/>
                        </a:lnTo>
                        <a:lnTo>
                          <a:pt x="201" y="223"/>
                        </a:lnTo>
                        <a:lnTo>
                          <a:pt x="223" y="279"/>
                        </a:lnTo>
                        <a:lnTo>
                          <a:pt x="234" y="334"/>
                        </a:lnTo>
                        <a:lnTo>
                          <a:pt x="234" y="390"/>
                        </a:lnTo>
                        <a:lnTo>
                          <a:pt x="246" y="457"/>
                        </a:lnTo>
                        <a:lnTo>
                          <a:pt x="246" y="524"/>
                        </a:lnTo>
                        <a:lnTo>
                          <a:pt x="246" y="580"/>
                        </a:lnTo>
                        <a:lnTo>
                          <a:pt x="246" y="646"/>
                        </a:lnTo>
                        <a:lnTo>
                          <a:pt x="234" y="702"/>
                        </a:lnTo>
                        <a:lnTo>
                          <a:pt x="234" y="758"/>
                        </a:lnTo>
                        <a:lnTo>
                          <a:pt x="234" y="803"/>
                        </a:lnTo>
                        <a:lnTo>
                          <a:pt x="234" y="858"/>
                        </a:lnTo>
                        <a:lnTo>
                          <a:pt x="246" y="858"/>
                        </a:lnTo>
                        <a:lnTo>
                          <a:pt x="246" y="803"/>
                        </a:lnTo>
                        <a:lnTo>
                          <a:pt x="257" y="758"/>
                        </a:lnTo>
                        <a:lnTo>
                          <a:pt x="257" y="702"/>
                        </a:lnTo>
                        <a:lnTo>
                          <a:pt x="257" y="646"/>
                        </a:lnTo>
                        <a:lnTo>
                          <a:pt x="257" y="580"/>
                        </a:lnTo>
                        <a:lnTo>
                          <a:pt x="257" y="524"/>
                        </a:lnTo>
                        <a:lnTo>
                          <a:pt x="257" y="457"/>
                        </a:lnTo>
                        <a:lnTo>
                          <a:pt x="257" y="390"/>
                        </a:lnTo>
                        <a:lnTo>
                          <a:pt x="246" y="334"/>
                        </a:lnTo>
                        <a:lnTo>
                          <a:pt x="234" y="268"/>
                        </a:lnTo>
                        <a:lnTo>
                          <a:pt x="212" y="212"/>
                        </a:lnTo>
                        <a:lnTo>
                          <a:pt x="190" y="156"/>
                        </a:lnTo>
                        <a:lnTo>
                          <a:pt x="156" y="111"/>
                        </a:lnTo>
                        <a:lnTo>
                          <a:pt x="112" y="67"/>
                        </a:lnTo>
                        <a:lnTo>
                          <a:pt x="67" y="22"/>
                        </a:lnTo>
                        <a:lnTo>
                          <a:pt x="11"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1585"/>
                  <p:cNvSpPr/>
                  <p:nvPr/>
                </p:nvSpPr>
                <p:spPr>
                  <a:xfrm rot="111600">
                    <a:off x="5816520" y="979200"/>
                    <a:ext cx="30240" cy="10800"/>
                  </a:xfrm>
                  <a:custGeom>
                    <a:avLst/>
                    <a:gdLst>
                      <a:gd name="textAreaLeft" fmla="*/ 0 w 30240"/>
                      <a:gd name="textAreaRight" fmla="*/ 30600 w 30240"/>
                      <a:gd name="textAreaTop" fmla="*/ 0 h 10800"/>
                      <a:gd name="textAreaBottom" fmla="*/ 11160 h 10800"/>
                    </a:gdLst>
                    <a:ahLst/>
                    <a:rect l="textAreaLeft" t="textAreaTop" r="textAreaRight" b="textAreaBottom"/>
                    <a:pathLst>
                      <a:path w="278" h="67">
                        <a:moveTo>
                          <a:pt x="11" y="34"/>
                        </a:moveTo>
                        <a:lnTo>
                          <a:pt x="11" y="34"/>
                        </a:lnTo>
                        <a:lnTo>
                          <a:pt x="22" y="34"/>
                        </a:lnTo>
                        <a:lnTo>
                          <a:pt x="33" y="34"/>
                        </a:lnTo>
                        <a:lnTo>
                          <a:pt x="44" y="23"/>
                        </a:lnTo>
                        <a:lnTo>
                          <a:pt x="56" y="23"/>
                        </a:lnTo>
                        <a:lnTo>
                          <a:pt x="78" y="23"/>
                        </a:lnTo>
                        <a:lnTo>
                          <a:pt x="89" y="23"/>
                        </a:lnTo>
                        <a:lnTo>
                          <a:pt x="111" y="23"/>
                        </a:lnTo>
                        <a:lnTo>
                          <a:pt x="122" y="23"/>
                        </a:lnTo>
                        <a:lnTo>
                          <a:pt x="145" y="23"/>
                        </a:lnTo>
                        <a:lnTo>
                          <a:pt x="156" y="23"/>
                        </a:lnTo>
                        <a:lnTo>
                          <a:pt x="178" y="23"/>
                        </a:lnTo>
                        <a:lnTo>
                          <a:pt x="200" y="34"/>
                        </a:lnTo>
                        <a:lnTo>
                          <a:pt x="212" y="34"/>
                        </a:lnTo>
                        <a:lnTo>
                          <a:pt x="234" y="45"/>
                        </a:lnTo>
                        <a:lnTo>
                          <a:pt x="245" y="56"/>
                        </a:lnTo>
                        <a:lnTo>
                          <a:pt x="267" y="67"/>
                        </a:lnTo>
                        <a:lnTo>
                          <a:pt x="278" y="56"/>
                        </a:lnTo>
                        <a:lnTo>
                          <a:pt x="256" y="45"/>
                        </a:lnTo>
                        <a:lnTo>
                          <a:pt x="234" y="34"/>
                        </a:lnTo>
                        <a:lnTo>
                          <a:pt x="223" y="23"/>
                        </a:lnTo>
                        <a:lnTo>
                          <a:pt x="200" y="11"/>
                        </a:lnTo>
                        <a:lnTo>
                          <a:pt x="178" y="11"/>
                        </a:lnTo>
                        <a:lnTo>
                          <a:pt x="156" y="0"/>
                        </a:lnTo>
                        <a:lnTo>
                          <a:pt x="145" y="0"/>
                        </a:lnTo>
                        <a:lnTo>
                          <a:pt x="122" y="0"/>
                        </a:lnTo>
                        <a:lnTo>
                          <a:pt x="111" y="0"/>
                        </a:lnTo>
                        <a:lnTo>
                          <a:pt x="89" y="0"/>
                        </a:lnTo>
                        <a:lnTo>
                          <a:pt x="78" y="0"/>
                        </a:lnTo>
                        <a:lnTo>
                          <a:pt x="56" y="11"/>
                        </a:lnTo>
                        <a:lnTo>
                          <a:pt x="44" y="11"/>
                        </a:lnTo>
                        <a:lnTo>
                          <a:pt x="33" y="11"/>
                        </a:lnTo>
                        <a:lnTo>
                          <a:pt x="22" y="23"/>
                        </a:lnTo>
                        <a:lnTo>
                          <a:pt x="0" y="23"/>
                        </a:lnTo>
                        <a:lnTo>
                          <a:pt x="11" y="34"/>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1584"/>
                  <p:cNvSpPr/>
                  <p:nvPr/>
                </p:nvSpPr>
                <p:spPr>
                  <a:xfrm rot="111600">
                    <a:off x="5803200" y="982440"/>
                    <a:ext cx="14400" cy="17640"/>
                  </a:xfrm>
                  <a:custGeom>
                    <a:avLst/>
                    <a:gdLst>
                      <a:gd name="textAreaLeft" fmla="*/ 0 w 14400"/>
                      <a:gd name="textAreaRight" fmla="*/ 14760 w 14400"/>
                      <a:gd name="textAreaTop" fmla="*/ 0 h 17640"/>
                      <a:gd name="textAreaBottom" fmla="*/ 18000 h 17640"/>
                    </a:gdLst>
                    <a:ahLst/>
                    <a:rect l="textAreaLeft" t="textAreaTop" r="textAreaRight" b="textAreaBottom"/>
                    <a:pathLst>
                      <a:path w="134" h="111">
                        <a:moveTo>
                          <a:pt x="0" y="111"/>
                        </a:moveTo>
                        <a:lnTo>
                          <a:pt x="11" y="111"/>
                        </a:lnTo>
                        <a:lnTo>
                          <a:pt x="23" y="100"/>
                        </a:lnTo>
                        <a:lnTo>
                          <a:pt x="45" y="89"/>
                        </a:lnTo>
                        <a:lnTo>
                          <a:pt x="56" y="78"/>
                        </a:lnTo>
                        <a:lnTo>
                          <a:pt x="78" y="66"/>
                        </a:lnTo>
                        <a:lnTo>
                          <a:pt x="89" y="44"/>
                        </a:lnTo>
                        <a:lnTo>
                          <a:pt x="101" y="33"/>
                        </a:lnTo>
                        <a:lnTo>
                          <a:pt x="123" y="22"/>
                        </a:lnTo>
                        <a:lnTo>
                          <a:pt x="134" y="11"/>
                        </a:lnTo>
                        <a:lnTo>
                          <a:pt x="123" y="0"/>
                        </a:lnTo>
                        <a:lnTo>
                          <a:pt x="112" y="11"/>
                        </a:lnTo>
                        <a:lnTo>
                          <a:pt x="101" y="22"/>
                        </a:lnTo>
                        <a:lnTo>
                          <a:pt x="78" y="44"/>
                        </a:lnTo>
                        <a:lnTo>
                          <a:pt x="67" y="55"/>
                        </a:lnTo>
                        <a:lnTo>
                          <a:pt x="45" y="66"/>
                        </a:lnTo>
                        <a:lnTo>
                          <a:pt x="34" y="78"/>
                        </a:lnTo>
                        <a:lnTo>
                          <a:pt x="23" y="89"/>
                        </a:lnTo>
                        <a:lnTo>
                          <a:pt x="0" y="100"/>
                        </a:lnTo>
                        <a:lnTo>
                          <a:pt x="11" y="100"/>
                        </a:lnTo>
                        <a:lnTo>
                          <a:pt x="0" y="111"/>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1583"/>
                  <p:cNvSpPr/>
                  <p:nvPr/>
                </p:nvSpPr>
                <p:spPr>
                  <a:xfrm rot="111600">
                    <a:off x="5800680" y="1137240"/>
                    <a:ext cx="2160" cy="360"/>
                  </a:xfrm>
                  <a:custGeom>
                    <a:avLst/>
                    <a:gdLst>
                      <a:gd name="textAreaLeft" fmla="*/ 0 w 2160"/>
                      <a:gd name="textAreaRight" fmla="*/ 2520 w 2160"/>
                      <a:gd name="textAreaTop" fmla="*/ 0 h 360"/>
                      <a:gd name="textAreaBottom" fmla="*/ 720 h 360"/>
                    </a:gdLst>
                    <a:ahLst/>
                    <a:rect l="textAreaLeft" t="textAreaTop" r="textAreaRight" b="textAreaBottom"/>
                    <a:pathLst>
                      <a:path w="22" h="1">
                        <a:moveTo>
                          <a:pt x="0" y="0"/>
                        </a:moveTo>
                        <a:lnTo>
                          <a:pt x="11" y="0"/>
                        </a:lnTo>
                        <a:lnTo>
                          <a:pt x="22"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1582"/>
                  <p:cNvSpPr/>
                  <p:nvPr/>
                </p:nvSpPr>
                <p:spPr>
                  <a:xfrm rot="111600">
                    <a:off x="5788440" y="1113480"/>
                    <a:ext cx="14400" cy="23400"/>
                  </a:xfrm>
                  <a:custGeom>
                    <a:avLst/>
                    <a:gdLst>
                      <a:gd name="textAreaLeft" fmla="*/ 0 w 14400"/>
                      <a:gd name="textAreaRight" fmla="*/ 14760 w 14400"/>
                      <a:gd name="textAreaTop" fmla="*/ 0 h 23400"/>
                      <a:gd name="textAreaBottom" fmla="*/ 23760 h 23400"/>
                    </a:gdLst>
                    <a:ahLst/>
                    <a:rect l="textAreaLeft" t="textAreaTop" r="textAreaRight" b="textAreaBottom"/>
                    <a:pathLst>
                      <a:path w="134" h="145">
                        <a:moveTo>
                          <a:pt x="0" y="11"/>
                        </a:moveTo>
                        <a:lnTo>
                          <a:pt x="0" y="11"/>
                        </a:lnTo>
                        <a:lnTo>
                          <a:pt x="22" y="11"/>
                        </a:lnTo>
                        <a:lnTo>
                          <a:pt x="45" y="23"/>
                        </a:lnTo>
                        <a:lnTo>
                          <a:pt x="67" y="34"/>
                        </a:lnTo>
                        <a:lnTo>
                          <a:pt x="78" y="56"/>
                        </a:lnTo>
                        <a:lnTo>
                          <a:pt x="100" y="78"/>
                        </a:lnTo>
                        <a:lnTo>
                          <a:pt x="112" y="101"/>
                        </a:lnTo>
                        <a:lnTo>
                          <a:pt x="112" y="123"/>
                        </a:lnTo>
                        <a:lnTo>
                          <a:pt x="112" y="145"/>
                        </a:lnTo>
                        <a:lnTo>
                          <a:pt x="134" y="145"/>
                        </a:lnTo>
                        <a:lnTo>
                          <a:pt x="123" y="123"/>
                        </a:lnTo>
                        <a:lnTo>
                          <a:pt x="123" y="89"/>
                        </a:lnTo>
                        <a:lnTo>
                          <a:pt x="112" y="67"/>
                        </a:lnTo>
                        <a:lnTo>
                          <a:pt x="89" y="45"/>
                        </a:lnTo>
                        <a:lnTo>
                          <a:pt x="67" y="23"/>
                        </a:lnTo>
                        <a:lnTo>
                          <a:pt x="45" y="11"/>
                        </a:lnTo>
                        <a:lnTo>
                          <a:pt x="22" y="0"/>
                        </a:lnTo>
                        <a:lnTo>
                          <a:pt x="0" y="0"/>
                        </a:lnTo>
                        <a:lnTo>
                          <a:pt x="0" y="11"/>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1581"/>
                  <p:cNvSpPr/>
                  <p:nvPr/>
                </p:nvSpPr>
                <p:spPr>
                  <a:xfrm rot="111600">
                    <a:off x="5778000" y="1113120"/>
                    <a:ext cx="10800" cy="18000"/>
                  </a:xfrm>
                  <a:custGeom>
                    <a:avLst/>
                    <a:gdLst>
                      <a:gd name="textAreaLeft" fmla="*/ 0 w 10800"/>
                      <a:gd name="textAreaRight" fmla="*/ 11160 w 10800"/>
                      <a:gd name="textAreaTop" fmla="*/ 0 h 18000"/>
                      <a:gd name="textAreaBottom" fmla="*/ 18360 h 18000"/>
                    </a:gdLst>
                    <a:ahLst/>
                    <a:rect l="textAreaLeft" t="textAreaTop" r="textAreaRight" b="textAreaBottom"/>
                    <a:pathLst>
                      <a:path w="100" h="112">
                        <a:moveTo>
                          <a:pt x="11" y="112"/>
                        </a:moveTo>
                        <a:lnTo>
                          <a:pt x="22" y="101"/>
                        </a:lnTo>
                        <a:lnTo>
                          <a:pt x="22" y="89"/>
                        </a:lnTo>
                        <a:lnTo>
                          <a:pt x="33" y="67"/>
                        </a:lnTo>
                        <a:lnTo>
                          <a:pt x="44" y="56"/>
                        </a:lnTo>
                        <a:lnTo>
                          <a:pt x="67" y="45"/>
                        </a:lnTo>
                        <a:lnTo>
                          <a:pt x="78" y="34"/>
                        </a:lnTo>
                        <a:lnTo>
                          <a:pt x="89" y="23"/>
                        </a:lnTo>
                        <a:lnTo>
                          <a:pt x="100" y="11"/>
                        </a:lnTo>
                        <a:lnTo>
                          <a:pt x="100" y="0"/>
                        </a:lnTo>
                        <a:lnTo>
                          <a:pt x="78" y="11"/>
                        </a:lnTo>
                        <a:lnTo>
                          <a:pt x="67" y="23"/>
                        </a:lnTo>
                        <a:lnTo>
                          <a:pt x="55" y="34"/>
                        </a:lnTo>
                        <a:lnTo>
                          <a:pt x="33" y="45"/>
                        </a:lnTo>
                        <a:lnTo>
                          <a:pt x="22" y="67"/>
                        </a:lnTo>
                        <a:lnTo>
                          <a:pt x="11" y="78"/>
                        </a:lnTo>
                        <a:lnTo>
                          <a:pt x="0" y="89"/>
                        </a:lnTo>
                        <a:lnTo>
                          <a:pt x="0" y="112"/>
                        </a:lnTo>
                        <a:lnTo>
                          <a:pt x="11" y="112"/>
                        </a:lnTo>
                        <a:close/>
                      </a:path>
                    </a:pathLst>
                  </a:custGeom>
                  <a:solidFill>
                    <a:srgbClr val="000000"/>
                  </a:solidFill>
                  <a:ln w="0">
                    <a:noFill/>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1580"/>
                  <p:cNvSpPr/>
                  <p:nvPr/>
                </p:nvSpPr>
                <p:spPr>
                  <a:xfrm rot="111600">
                    <a:off x="5787720" y="1114920"/>
                    <a:ext cx="2160" cy="360"/>
                  </a:xfrm>
                  <a:custGeom>
                    <a:avLst/>
                    <a:gdLst>
                      <a:gd name="textAreaLeft" fmla="*/ 0 w 2160"/>
                      <a:gd name="textAreaRight" fmla="*/ 2520 w 2160"/>
                      <a:gd name="textAreaTop" fmla="*/ 0 h 360"/>
                      <a:gd name="textAreaBottom" fmla="*/ 720 h 360"/>
                    </a:gdLst>
                    <a:ahLst/>
                    <a:rect l="textAreaLeft" t="textAreaTop" r="textAreaRight" b="textAreaBottom"/>
                    <a:pathLst>
                      <a:path w="22" h="1">
                        <a:moveTo>
                          <a:pt x="0" y="0"/>
                        </a:moveTo>
                        <a:lnTo>
                          <a:pt x="0" y="0"/>
                        </a:lnTo>
                        <a:lnTo>
                          <a:pt x="11" y="0"/>
                        </a:lnTo>
                        <a:lnTo>
                          <a:pt x="22"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1579"/>
                  <p:cNvSpPr/>
                  <p:nvPr/>
                </p:nvSpPr>
                <p:spPr>
                  <a:xfrm rot="111600">
                    <a:off x="5771880" y="1152360"/>
                    <a:ext cx="1080" cy="360"/>
                  </a:xfrm>
                  <a:custGeom>
                    <a:avLst/>
                    <a:gdLst>
                      <a:gd name="textAreaLeft" fmla="*/ 0 w 1080"/>
                      <a:gd name="textAreaRight" fmla="*/ 1440 w 1080"/>
                      <a:gd name="textAreaTop" fmla="*/ 0 h 360"/>
                      <a:gd name="textAreaBottom" fmla="*/ 720 h 360"/>
                    </a:gdLst>
                    <a:ahLst/>
                    <a:rect l="textAreaLeft" t="textAreaTop" r="textAreaRight" b="textAreaBottom"/>
                    <a:pathLst>
                      <a:path w="11" h="1">
                        <a:moveTo>
                          <a:pt x="11" y="0"/>
                        </a:moveTo>
                        <a:lnTo>
                          <a:pt x="11" y="0"/>
                        </a:lnTo>
                        <a:lnTo>
                          <a:pt x="0" y="0"/>
                        </a:lnTo>
                        <a:lnTo>
                          <a:pt x="11"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1578"/>
                  <p:cNvSpPr/>
                  <p:nvPr/>
                </p:nvSpPr>
                <p:spPr>
                  <a:xfrm rot="111600">
                    <a:off x="5764680" y="1152000"/>
                    <a:ext cx="8280" cy="12600"/>
                  </a:xfrm>
                  <a:custGeom>
                    <a:avLst/>
                    <a:gdLst>
                      <a:gd name="textAreaLeft" fmla="*/ 0 w 8280"/>
                      <a:gd name="textAreaRight" fmla="*/ 8640 w 8280"/>
                      <a:gd name="textAreaTop" fmla="*/ 0 h 12600"/>
                      <a:gd name="textAreaBottom" fmla="*/ 12960 h 12600"/>
                    </a:gdLst>
                    <a:ahLst/>
                    <a:rect l="textAreaLeft" t="textAreaTop" r="textAreaRight" b="textAreaBottom"/>
                    <a:pathLst>
                      <a:path w="78" h="78">
                        <a:moveTo>
                          <a:pt x="11" y="78"/>
                        </a:moveTo>
                        <a:lnTo>
                          <a:pt x="11" y="78"/>
                        </a:lnTo>
                        <a:lnTo>
                          <a:pt x="23" y="67"/>
                        </a:lnTo>
                        <a:lnTo>
                          <a:pt x="34" y="56"/>
                        </a:lnTo>
                        <a:lnTo>
                          <a:pt x="45" y="45"/>
                        </a:lnTo>
                        <a:lnTo>
                          <a:pt x="56" y="45"/>
                        </a:lnTo>
                        <a:lnTo>
                          <a:pt x="67" y="34"/>
                        </a:lnTo>
                        <a:lnTo>
                          <a:pt x="78" y="23"/>
                        </a:lnTo>
                        <a:lnTo>
                          <a:pt x="78" y="0"/>
                        </a:lnTo>
                        <a:lnTo>
                          <a:pt x="67" y="0"/>
                        </a:lnTo>
                        <a:lnTo>
                          <a:pt x="56" y="12"/>
                        </a:lnTo>
                        <a:lnTo>
                          <a:pt x="56" y="23"/>
                        </a:lnTo>
                        <a:lnTo>
                          <a:pt x="45" y="34"/>
                        </a:lnTo>
                        <a:lnTo>
                          <a:pt x="34" y="34"/>
                        </a:lnTo>
                        <a:lnTo>
                          <a:pt x="34" y="45"/>
                        </a:lnTo>
                        <a:lnTo>
                          <a:pt x="23" y="56"/>
                        </a:lnTo>
                        <a:lnTo>
                          <a:pt x="11" y="67"/>
                        </a:lnTo>
                        <a:lnTo>
                          <a:pt x="0" y="67"/>
                        </a:lnTo>
                        <a:lnTo>
                          <a:pt x="11" y="67"/>
                        </a:lnTo>
                        <a:lnTo>
                          <a:pt x="11" y="78"/>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1577"/>
                  <p:cNvSpPr/>
                  <p:nvPr/>
                </p:nvSpPr>
                <p:spPr>
                  <a:xfrm rot="111600">
                    <a:off x="5755680" y="116280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9" h="34">
                        <a:moveTo>
                          <a:pt x="0" y="34"/>
                        </a:moveTo>
                        <a:lnTo>
                          <a:pt x="0" y="34"/>
                        </a:lnTo>
                        <a:lnTo>
                          <a:pt x="89" y="11"/>
                        </a:lnTo>
                        <a:lnTo>
                          <a:pt x="89" y="0"/>
                        </a:lnTo>
                        <a:lnTo>
                          <a:pt x="0" y="23"/>
                        </a:lnTo>
                        <a:lnTo>
                          <a:pt x="0" y="34"/>
                        </a:lnTo>
                        <a:close/>
                      </a:path>
                    </a:pathLst>
                  </a:custGeom>
                  <a:solidFill>
                    <a:srgbClr val="000000"/>
                  </a:solidFill>
                  <a:ln w="0">
                    <a:noFill/>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1576"/>
                  <p:cNvSpPr/>
                  <p:nvPr/>
                </p:nvSpPr>
                <p:spPr>
                  <a:xfrm rot="111600">
                    <a:off x="5755320" y="116676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1" h="11">
                        <a:moveTo>
                          <a:pt x="0" y="0"/>
                        </a:move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1575"/>
                  <p:cNvSpPr/>
                  <p:nvPr/>
                </p:nvSpPr>
                <p:spPr>
                  <a:xfrm rot="111600">
                    <a:off x="5805720" y="115560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11" y="0"/>
                        </a:moveTo>
                        <a:lnTo>
                          <a:pt x="11" y="0"/>
                        </a:lnTo>
                        <a:lnTo>
                          <a:pt x="0" y="0"/>
                        </a:lnTo>
                        <a:lnTo>
                          <a:pt x="0" y="11"/>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1574"/>
                  <p:cNvSpPr/>
                  <p:nvPr/>
                </p:nvSpPr>
                <p:spPr>
                  <a:xfrm rot="111600">
                    <a:off x="5805720" y="1155600"/>
                    <a:ext cx="15840" cy="19440"/>
                  </a:xfrm>
                  <a:custGeom>
                    <a:avLst/>
                    <a:gdLst>
                      <a:gd name="textAreaLeft" fmla="*/ 0 w 15840"/>
                      <a:gd name="textAreaRight" fmla="*/ 16200 w 15840"/>
                      <a:gd name="textAreaTop" fmla="*/ 0 h 19440"/>
                      <a:gd name="textAreaBottom" fmla="*/ 19800 h 19440"/>
                    </a:gdLst>
                    <a:ahLst/>
                    <a:rect l="textAreaLeft" t="textAreaTop" r="textAreaRight" b="textAreaBottom"/>
                    <a:pathLst>
                      <a:path w="145" h="122">
                        <a:moveTo>
                          <a:pt x="145" y="100"/>
                        </a:moveTo>
                        <a:lnTo>
                          <a:pt x="123" y="100"/>
                        </a:lnTo>
                        <a:lnTo>
                          <a:pt x="112" y="100"/>
                        </a:lnTo>
                        <a:lnTo>
                          <a:pt x="89" y="100"/>
                        </a:lnTo>
                        <a:lnTo>
                          <a:pt x="78" y="89"/>
                        </a:lnTo>
                        <a:lnTo>
                          <a:pt x="67" y="78"/>
                        </a:lnTo>
                        <a:lnTo>
                          <a:pt x="56" y="66"/>
                        </a:lnTo>
                        <a:lnTo>
                          <a:pt x="34" y="44"/>
                        </a:lnTo>
                        <a:lnTo>
                          <a:pt x="11" y="0"/>
                        </a:lnTo>
                        <a:lnTo>
                          <a:pt x="0" y="11"/>
                        </a:lnTo>
                        <a:lnTo>
                          <a:pt x="23" y="44"/>
                        </a:lnTo>
                        <a:lnTo>
                          <a:pt x="45" y="78"/>
                        </a:lnTo>
                        <a:lnTo>
                          <a:pt x="56" y="89"/>
                        </a:lnTo>
                        <a:lnTo>
                          <a:pt x="78" y="100"/>
                        </a:lnTo>
                        <a:lnTo>
                          <a:pt x="89" y="111"/>
                        </a:lnTo>
                        <a:lnTo>
                          <a:pt x="112" y="111"/>
                        </a:lnTo>
                        <a:lnTo>
                          <a:pt x="123" y="111"/>
                        </a:lnTo>
                        <a:lnTo>
                          <a:pt x="145" y="122"/>
                        </a:lnTo>
                        <a:lnTo>
                          <a:pt x="145" y="100"/>
                        </a:lnTo>
                        <a:close/>
                      </a:path>
                    </a:pathLst>
                  </a:custGeom>
                  <a:solidFill>
                    <a:srgbClr val="000000"/>
                  </a:solidFill>
                  <a:ln w="0">
                    <a:noFill/>
                  </a:ln>
                </p:spPr>
                <p:style>
                  <a:lnRef idx="0"/>
                  <a:fillRef idx="0"/>
                  <a:effectRef idx="0"/>
                  <a:fontRef idx="minor"/>
                </p:style>
                <p:txBody>
                  <a:bodyPr lIns="90000" rIns="90000" tIns="-27000" bIns="-27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1573"/>
                  <p:cNvSpPr/>
                  <p:nvPr/>
                </p:nvSpPr>
                <p:spPr>
                  <a:xfrm rot="111600">
                    <a:off x="5807160" y="115560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1" h="11">
                        <a:moveTo>
                          <a:pt x="0" y="11"/>
                        </a:moveTo>
                        <a:lnTo>
                          <a:pt x="0" y="11"/>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1572"/>
                  <p:cNvSpPr/>
                  <p:nvPr/>
                </p:nvSpPr>
                <p:spPr>
                  <a:xfrm rot="111600">
                    <a:off x="5810400" y="1166400"/>
                    <a:ext cx="1080" cy="1800"/>
                  </a:xfrm>
                  <a:custGeom>
                    <a:avLst/>
                    <a:gdLst>
                      <a:gd name="textAreaLeft" fmla="*/ 0 w 1080"/>
                      <a:gd name="textAreaRight" fmla="*/ 1440 w 1080"/>
                      <a:gd name="textAreaTop" fmla="*/ 0 h 1800"/>
                      <a:gd name="textAreaBottom" fmla="*/ 2160 h 1800"/>
                    </a:gdLst>
                    <a:ahLst/>
                    <a:rect l="textAreaLeft" t="textAreaTop" r="textAreaRight" b="textAreaBottom"/>
                    <a:pathLst>
                      <a:path w="11" h="12">
                        <a:moveTo>
                          <a:pt x="11" y="12"/>
                        </a:moveTo>
                        <a:lnTo>
                          <a:pt x="11" y="12"/>
                        </a:lnTo>
                        <a:lnTo>
                          <a:pt x="11" y="0"/>
                        </a:lnTo>
                        <a:lnTo>
                          <a:pt x="0" y="12"/>
                        </a:lnTo>
                        <a:lnTo>
                          <a:pt x="11" y="12"/>
                        </a:lnTo>
                        <a:close/>
                      </a:path>
                    </a:pathLst>
                  </a:custGeom>
                  <a:solidFill>
                    <a:srgbClr val="000000"/>
                  </a:soli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1571"/>
                  <p:cNvSpPr/>
                  <p:nvPr/>
                </p:nvSpPr>
                <p:spPr>
                  <a:xfrm rot="111600">
                    <a:off x="5779440" y="1167840"/>
                    <a:ext cx="31680" cy="23040"/>
                  </a:xfrm>
                  <a:custGeom>
                    <a:avLst/>
                    <a:gdLst>
                      <a:gd name="textAreaLeft" fmla="*/ 0 w 31680"/>
                      <a:gd name="textAreaRight" fmla="*/ 32040 w 31680"/>
                      <a:gd name="textAreaTop" fmla="*/ 0 h 23040"/>
                      <a:gd name="textAreaBottom" fmla="*/ 23400 h 23040"/>
                    </a:gdLst>
                    <a:ahLst/>
                    <a:rect l="textAreaLeft" t="textAreaTop" r="textAreaRight" b="textAreaBottom"/>
                    <a:pathLst>
                      <a:path w="290" h="144">
                        <a:moveTo>
                          <a:pt x="0" y="133"/>
                        </a:moveTo>
                        <a:lnTo>
                          <a:pt x="0" y="133"/>
                        </a:lnTo>
                        <a:lnTo>
                          <a:pt x="22" y="144"/>
                        </a:lnTo>
                        <a:lnTo>
                          <a:pt x="45" y="144"/>
                        </a:lnTo>
                        <a:lnTo>
                          <a:pt x="67" y="144"/>
                        </a:lnTo>
                        <a:lnTo>
                          <a:pt x="89" y="144"/>
                        </a:lnTo>
                        <a:lnTo>
                          <a:pt x="112" y="144"/>
                        </a:lnTo>
                        <a:lnTo>
                          <a:pt x="134" y="144"/>
                        </a:lnTo>
                        <a:lnTo>
                          <a:pt x="156" y="133"/>
                        </a:lnTo>
                        <a:lnTo>
                          <a:pt x="167" y="122"/>
                        </a:lnTo>
                        <a:lnTo>
                          <a:pt x="190" y="111"/>
                        </a:lnTo>
                        <a:lnTo>
                          <a:pt x="212" y="100"/>
                        </a:lnTo>
                        <a:lnTo>
                          <a:pt x="223" y="89"/>
                        </a:lnTo>
                        <a:lnTo>
                          <a:pt x="245" y="78"/>
                        </a:lnTo>
                        <a:lnTo>
                          <a:pt x="257" y="55"/>
                        </a:lnTo>
                        <a:lnTo>
                          <a:pt x="268" y="44"/>
                        </a:lnTo>
                        <a:lnTo>
                          <a:pt x="279" y="22"/>
                        </a:lnTo>
                        <a:lnTo>
                          <a:pt x="290" y="0"/>
                        </a:lnTo>
                        <a:lnTo>
                          <a:pt x="279" y="0"/>
                        </a:lnTo>
                        <a:lnTo>
                          <a:pt x="268" y="11"/>
                        </a:lnTo>
                        <a:lnTo>
                          <a:pt x="257" y="33"/>
                        </a:lnTo>
                        <a:lnTo>
                          <a:pt x="245" y="55"/>
                        </a:lnTo>
                        <a:lnTo>
                          <a:pt x="234" y="66"/>
                        </a:lnTo>
                        <a:lnTo>
                          <a:pt x="212" y="78"/>
                        </a:lnTo>
                        <a:lnTo>
                          <a:pt x="201" y="89"/>
                        </a:lnTo>
                        <a:lnTo>
                          <a:pt x="179" y="100"/>
                        </a:lnTo>
                        <a:lnTo>
                          <a:pt x="167" y="111"/>
                        </a:lnTo>
                        <a:lnTo>
                          <a:pt x="145" y="122"/>
                        </a:lnTo>
                        <a:lnTo>
                          <a:pt x="134" y="122"/>
                        </a:lnTo>
                        <a:lnTo>
                          <a:pt x="112" y="133"/>
                        </a:lnTo>
                        <a:lnTo>
                          <a:pt x="89" y="133"/>
                        </a:lnTo>
                        <a:lnTo>
                          <a:pt x="67" y="133"/>
                        </a:lnTo>
                        <a:lnTo>
                          <a:pt x="45" y="133"/>
                        </a:lnTo>
                        <a:lnTo>
                          <a:pt x="34" y="122"/>
                        </a:lnTo>
                        <a:lnTo>
                          <a:pt x="11" y="122"/>
                        </a:lnTo>
                        <a:lnTo>
                          <a:pt x="0" y="133"/>
                        </a:lnTo>
                        <a:close/>
                      </a:path>
                    </a:pathLst>
                  </a:custGeom>
                  <a:solidFill>
                    <a:srgbClr val="000000"/>
                  </a:solidFill>
                  <a:ln w="0">
                    <a:noFill/>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1570"/>
                  <p:cNvSpPr/>
                  <p:nvPr/>
                </p:nvSpPr>
                <p:spPr>
                  <a:xfrm rot="111600">
                    <a:off x="5763960" y="1162800"/>
                    <a:ext cx="16920" cy="25200"/>
                  </a:xfrm>
                  <a:custGeom>
                    <a:avLst/>
                    <a:gdLst>
                      <a:gd name="textAreaLeft" fmla="*/ 0 w 16920"/>
                      <a:gd name="textAreaRight" fmla="*/ 17280 w 16920"/>
                      <a:gd name="textAreaTop" fmla="*/ 0 h 25200"/>
                      <a:gd name="textAreaBottom" fmla="*/ 25560 h 25200"/>
                    </a:gdLst>
                    <a:ahLst/>
                    <a:rect l="textAreaLeft" t="textAreaTop" r="textAreaRight" b="textAreaBottom"/>
                    <a:pathLst>
                      <a:path w="156" h="156">
                        <a:moveTo>
                          <a:pt x="0" y="11"/>
                        </a:moveTo>
                        <a:lnTo>
                          <a:pt x="23" y="45"/>
                        </a:lnTo>
                        <a:lnTo>
                          <a:pt x="45" y="78"/>
                        </a:lnTo>
                        <a:lnTo>
                          <a:pt x="56" y="101"/>
                        </a:lnTo>
                        <a:lnTo>
                          <a:pt x="78" y="112"/>
                        </a:lnTo>
                        <a:lnTo>
                          <a:pt x="89" y="134"/>
                        </a:lnTo>
                        <a:lnTo>
                          <a:pt x="112" y="145"/>
                        </a:lnTo>
                        <a:lnTo>
                          <a:pt x="123" y="156"/>
                        </a:lnTo>
                        <a:lnTo>
                          <a:pt x="145" y="156"/>
                        </a:lnTo>
                        <a:lnTo>
                          <a:pt x="156" y="145"/>
                        </a:lnTo>
                        <a:lnTo>
                          <a:pt x="134" y="134"/>
                        </a:lnTo>
                        <a:lnTo>
                          <a:pt x="112" y="134"/>
                        </a:lnTo>
                        <a:lnTo>
                          <a:pt x="101" y="123"/>
                        </a:lnTo>
                        <a:lnTo>
                          <a:pt x="89" y="101"/>
                        </a:lnTo>
                        <a:lnTo>
                          <a:pt x="67" y="89"/>
                        </a:lnTo>
                        <a:lnTo>
                          <a:pt x="56" y="67"/>
                        </a:lnTo>
                        <a:lnTo>
                          <a:pt x="34" y="34"/>
                        </a:lnTo>
                        <a:lnTo>
                          <a:pt x="11" y="0"/>
                        </a:lnTo>
                        <a:lnTo>
                          <a:pt x="0" y="11"/>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1569"/>
                  <p:cNvSpPr/>
                  <p:nvPr/>
                </p:nvSpPr>
                <p:spPr>
                  <a:xfrm rot="111600">
                    <a:off x="5779440" y="118692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11" y="0"/>
                        </a:moveTo>
                        <a:lnTo>
                          <a:pt x="11" y="0"/>
                        </a:lnTo>
                        <a:lnTo>
                          <a:pt x="0" y="0"/>
                        </a:lnTo>
                        <a:lnTo>
                          <a:pt x="0" y="11"/>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1568"/>
                  <p:cNvSpPr/>
                  <p:nvPr/>
                </p:nvSpPr>
                <p:spPr>
                  <a:xfrm rot="111600">
                    <a:off x="5864040" y="1060200"/>
                    <a:ext cx="27720" cy="81000"/>
                  </a:xfrm>
                  <a:custGeom>
                    <a:avLst/>
                    <a:gdLst>
                      <a:gd name="textAreaLeft" fmla="*/ 0 w 27720"/>
                      <a:gd name="textAreaRight" fmla="*/ 28080 w 27720"/>
                      <a:gd name="textAreaTop" fmla="*/ 0 h 81000"/>
                      <a:gd name="textAreaBottom" fmla="*/ 81360 h 81000"/>
                    </a:gdLst>
                    <a:ahLst/>
                    <a:rect l="textAreaLeft" t="textAreaTop" r="textAreaRight" b="textAreaBottom"/>
                    <a:pathLst>
                      <a:path w="256" h="501">
                        <a:moveTo>
                          <a:pt x="33" y="145"/>
                        </a:moveTo>
                        <a:lnTo>
                          <a:pt x="45" y="122"/>
                        </a:lnTo>
                        <a:lnTo>
                          <a:pt x="56" y="100"/>
                        </a:lnTo>
                        <a:lnTo>
                          <a:pt x="67" y="78"/>
                        </a:lnTo>
                        <a:lnTo>
                          <a:pt x="89" y="55"/>
                        </a:lnTo>
                        <a:lnTo>
                          <a:pt x="100" y="44"/>
                        </a:lnTo>
                        <a:lnTo>
                          <a:pt x="123" y="22"/>
                        </a:lnTo>
                        <a:lnTo>
                          <a:pt x="134" y="11"/>
                        </a:lnTo>
                        <a:lnTo>
                          <a:pt x="167" y="0"/>
                        </a:lnTo>
                        <a:lnTo>
                          <a:pt x="189" y="11"/>
                        </a:lnTo>
                        <a:lnTo>
                          <a:pt x="223" y="55"/>
                        </a:lnTo>
                        <a:lnTo>
                          <a:pt x="245" y="100"/>
                        </a:lnTo>
                        <a:lnTo>
                          <a:pt x="256" y="167"/>
                        </a:lnTo>
                        <a:lnTo>
                          <a:pt x="256" y="234"/>
                        </a:lnTo>
                        <a:lnTo>
                          <a:pt x="256" y="301"/>
                        </a:lnTo>
                        <a:lnTo>
                          <a:pt x="245" y="356"/>
                        </a:lnTo>
                        <a:lnTo>
                          <a:pt x="234" y="412"/>
                        </a:lnTo>
                        <a:lnTo>
                          <a:pt x="223" y="423"/>
                        </a:lnTo>
                        <a:lnTo>
                          <a:pt x="223" y="434"/>
                        </a:lnTo>
                        <a:lnTo>
                          <a:pt x="212" y="457"/>
                        </a:lnTo>
                        <a:lnTo>
                          <a:pt x="201" y="468"/>
                        </a:lnTo>
                        <a:lnTo>
                          <a:pt x="189" y="479"/>
                        </a:lnTo>
                        <a:lnTo>
                          <a:pt x="189" y="490"/>
                        </a:lnTo>
                        <a:lnTo>
                          <a:pt x="167" y="501"/>
                        </a:lnTo>
                        <a:lnTo>
                          <a:pt x="156" y="501"/>
                        </a:lnTo>
                        <a:lnTo>
                          <a:pt x="134" y="501"/>
                        </a:lnTo>
                        <a:lnTo>
                          <a:pt x="123" y="501"/>
                        </a:lnTo>
                        <a:lnTo>
                          <a:pt x="100" y="490"/>
                        </a:lnTo>
                        <a:lnTo>
                          <a:pt x="89" y="479"/>
                        </a:lnTo>
                        <a:lnTo>
                          <a:pt x="78" y="468"/>
                        </a:lnTo>
                        <a:lnTo>
                          <a:pt x="67" y="457"/>
                        </a:lnTo>
                        <a:lnTo>
                          <a:pt x="56" y="446"/>
                        </a:lnTo>
                        <a:lnTo>
                          <a:pt x="33" y="434"/>
                        </a:lnTo>
                        <a:lnTo>
                          <a:pt x="22" y="401"/>
                        </a:lnTo>
                        <a:lnTo>
                          <a:pt x="11" y="368"/>
                        </a:lnTo>
                        <a:lnTo>
                          <a:pt x="0" y="323"/>
                        </a:lnTo>
                        <a:lnTo>
                          <a:pt x="0" y="289"/>
                        </a:lnTo>
                        <a:lnTo>
                          <a:pt x="0" y="245"/>
                        </a:lnTo>
                        <a:lnTo>
                          <a:pt x="0" y="211"/>
                        </a:lnTo>
                        <a:lnTo>
                          <a:pt x="11" y="178"/>
                        </a:lnTo>
                        <a:lnTo>
                          <a:pt x="33" y="145"/>
                        </a:lnTo>
                        <a:close/>
                      </a:path>
                    </a:pathLst>
                  </a:custGeom>
                  <a:solidFill>
                    <a:srgbClr val="5475e8"/>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1567"/>
                  <p:cNvSpPr/>
                  <p:nvPr/>
                </p:nvSpPr>
                <p:spPr>
                  <a:xfrm rot="111600">
                    <a:off x="5867280" y="1058400"/>
                    <a:ext cx="15840" cy="27000"/>
                  </a:xfrm>
                  <a:custGeom>
                    <a:avLst/>
                    <a:gdLst>
                      <a:gd name="textAreaLeft" fmla="*/ 0 w 15840"/>
                      <a:gd name="textAreaRight" fmla="*/ 16200 w 15840"/>
                      <a:gd name="textAreaTop" fmla="*/ 0 h 27000"/>
                      <a:gd name="textAreaBottom" fmla="*/ 27360 h 27000"/>
                    </a:gdLst>
                    <a:ahLst/>
                    <a:rect l="textAreaLeft" t="textAreaTop" r="textAreaRight" b="textAreaBottom"/>
                    <a:pathLst>
                      <a:path w="145" h="167">
                        <a:moveTo>
                          <a:pt x="145" y="0"/>
                        </a:moveTo>
                        <a:lnTo>
                          <a:pt x="134" y="0"/>
                        </a:lnTo>
                        <a:lnTo>
                          <a:pt x="112" y="11"/>
                        </a:lnTo>
                        <a:lnTo>
                          <a:pt x="89" y="33"/>
                        </a:lnTo>
                        <a:lnTo>
                          <a:pt x="67" y="44"/>
                        </a:lnTo>
                        <a:lnTo>
                          <a:pt x="56" y="66"/>
                        </a:lnTo>
                        <a:lnTo>
                          <a:pt x="45" y="89"/>
                        </a:lnTo>
                        <a:lnTo>
                          <a:pt x="34" y="111"/>
                        </a:lnTo>
                        <a:lnTo>
                          <a:pt x="23" y="133"/>
                        </a:lnTo>
                        <a:lnTo>
                          <a:pt x="0" y="156"/>
                        </a:lnTo>
                        <a:lnTo>
                          <a:pt x="23" y="167"/>
                        </a:lnTo>
                        <a:lnTo>
                          <a:pt x="34" y="133"/>
                        </a:lnTo>
                        <a:lnTo>
                          <a:pt x="45" y="111"/>
                        </a:lnTo>
                        <a:lnTo>
                          <a:pt x="56" y="100"/>
                        </a:lnTo>
                        <a:lnTo>
                          <a:pt x="67" y="78"/>
                        </a:lnTo>
                        <a:lnTo>
                          <a:pt x="78" y="55"/>
                        </a:lnTo>
                        <a:lnTo>
                          <a:pt x="101" y="44"/>
                        </a:lnTo>
                        <a:lnTo>
                          <a:pt x="123" y="33"/>
                        </a:lnTo>
                        <a:lnTo>
                          <a:pt x="145" y="11"/>
                        </a:lnTo>
                        <a:lnTo>
                          <a:pt x="145" y="0"/>
                        </a:lnTo>
                        <a:close/>
                      </a:path>
                    </a:pathLst>
                  </a:custGeom>
                  <a:solidFill>
                    <a:srgbClr val="000000"/>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1566"/>
                  <p:cNvSpPr/>
                  <p:nvPr/>
                </p:nvSpPr>
                <p:spPr>
                  <a:xfrm rot="111600">
                    <a:off x="5882400" y="1058760"/>
                    <a:ext cx="10800" cy="68400"/>
                  </a:xfrm>
                  <a:custGeom>
                    <a:avLst/>
                    <a:gdLst>
                      <a:gd name="textAreaLeft" fmla="*/ 0 w 10800"/>
                      <a:gd name="textAreaRight" fmla="*/ 11160 w 10800"/>
                      <a:gd name="textAreaTop" fmla="*/ 0 h 68400"/>
                      <a:gd name="textAreaBottom" fmla="*/ 68760 h 68400"/>
                    </a:gdLst>
                    <a:ahLst/>
                    <a:rect l="textAreaLeft" t="textAreaTop" r="textAreaRight" b="textAreaBottom"/>
                    <a:pathLst>
                      <a:path w="100" h="423">
                        <a:moveTo>
                          <a:pt x="67" y="423"/>
                        </a:moveTo>
                        <a:lnTo>
                          <a:pt x="67" y="423"/>
                        </a:lnTo>
                        <a:lnTo>
                          <a:pt x="89" y="367"/>
                        </a:lnTo>
                        <a:lnTo>
                          <a:pt x="100" y="312"/>
                        </a:lnTo>
                        <a:lnTo>
                          <a:pt x="100" y="245"/>
                        </a:lnTo>
                        <a:lnTo>
                          <a:pt x="89" y="178"/>
                        </a:lnTo>
                        <a:lnTo>
                          <a:pt x="78" y="111"/>
                        </a:lnTo>
                        <a:lnTo>
                          <a:pt x="56" y="55"/>
                        </a:lnTo>
                        <a:lnTo>
                          <a:pt x="34" y="22"/>
                        </a:lnTo>
                        <a:lnTo>
                          <a:pt x="0" y="0"/>
                        </a:lnTo>
                        <a:lnTo>
                          <a:pt x="0" y="11"/>
                        </a:lnTo>
                        <a:lnTo>
                          <a:pt x="22" y="33"/>
                        </a:lnTo>
                        <a:lnTo>
                          <a:pt x="45" y="66"/>
                        </a:lnTo>
                        <a:lnTo>
                          <a:pt x="67" y="111"/>
                        </a:lnTo>
                        <a:lnTo>
                          <a:pt x="78" y="178"/>
                        </a:lnTo>
                        <a:lnTo>
                          <a:pt x="89" y="245"/>
                        </a:lnTo>
                        <a:lnTo>
                          <a:pt x="89" y="312"/>
                        </a:lnTo>
                        <a:lnTo>
                          <a:pt x="78" y="367"/>
                        </a:lnTo>
                        <a:lnTo>
                          <a:pt x="56" y="423"/>
                        </a:lnTo>
                        <a:lnTo>
                          <a:pt x="67" y="423"/>
                        </a:lnTo>
                        <a:close/>
                      </a:path>
                    </a:pathLst>
                  </a:custGeom>
                  <a:solidFill>
                    <a:srgbClr val="000000"/>
                  </a:soli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1565"/>
                  <p:cNvSpPr/>
                  <p:nvPr/>
                </p:nvSpPr>
                <p:spPr>
                  <a:xfrm rot="111600">
                    <a:off x="5880240" y="1127160"/>
                    <a:ext cx="8280" cy="15840"/>
                  </a:xfrm>
                  <a:custGeom>
                    <a:avLst/>
                    <a:gdLst>
                      <a:gd name="textAreaLeft" fmla="*/ 0 w 8280"/>
                      <a:gd name="textAreaRight" fmla="*/ 8640 w 8280"/>
                      <a:gd name="textAreaTop" fmla="*/ 0 h 15840"/>
                      <a:gd name="textAreaBottom" fmla="*/ 16200 h 15840"/>
                    </a:gdLst>
                    <a:ahLst/>
                    <a:rect l="textAreaLeft" t="textAreaTop" r="textAreaRight" b="textAreaBottom"/>
                    <a:pathLst>
                      <a:path w="78" h="100">
                        <a:moveTo>
                          <a:pt x="0" y="100"/>
                        </a:moveTo>
                        <a:lnTo>
                          <a:pt x="0" y="100"/>
                        </a:lnTo>
                        <a:lnTo>
                          <a:pt x="22" y="89"/>
                        </a:lnTo>
                        <a:lnTo>
                          <a:pt x="33" y="78"/>
                        </a:lnTo>
                        <a:lnTo>
                          <a:pt x="45" y="67"/>
                        </a:lnTo>
                        <a:lnTo>
                          <a:pt x="56" y="56"/>
                        </a:lnTo>
                        <a:lnTo>
                          <a:pt x="67" y="45"/>
                        </a:lnTo>
                        <a:lnTo>
                          <a:pt x="67" y="34"/>
                        </a:lnTo>
                        <a:lnTo>
                          <a:pt x="78" y="11"/>
                        </a:lnTo>
                        <a:lnTo>
                          <a:pt x="78" y="0"/>
                        </a:lnTo>
                        <a:lnTo>
                          <a:pt x="67" y="0"/>
                        </a:lnTo>
                        <a:lnTo>
                          <a:pt x="67" y="11"/>
                        </a:lnTo>
                        <a:lnTo>
                          <a:pt x="56" y="22"/>
                        </a:lnTo>
                        <a:lnTo>
                          <a:pt x="45" y="34"/>
                        </a:lnTo>
                        <a:lnTo>
                          <a:pt x="45" y="45"/>
                        </a:lnTo>
                        <a:lnTo>
                          <a:pt x="33" y="67"/>
                        </a:lnTo>
                        <a:lnTo>
                          <a:pt x="22" y="78"/>
                        </a:lnTo>
                        <a:lnTo>
                          <a:pt x="11" y="78"/>
                        </a:lnTo>
                        <a:lnTo>
                          <a:pt x="0" y="89"/>
                        </a:lnTo>
                        <a:lnTo>
                          <a:pt x="0" y="78"/>
                        </a:lnTo>
                        <a:lnTo>
                          <a:pt x="0" y="100"/>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1564"/>
                  <p:cNvSpPr/>
                  <p:nvPr/>
                </p:nvSpPr>
                <p:spPr>
                  <a:xfrm rot="111600">
                    <a:off x="5866560" y="113040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123" h="78">
                        <a:moveTo>
                          <a:pt x="0" y="12"/>
                        </a:moveTo>
                        <a:lnTo>
                          <a:pt x="0" y="12"/>
                        </a:lnTo>
                        <a:lnTo>
                          <a:pt x="12" y="23"/>
                        </a:lnTo>
                        <a:lnTo>
                          <a:pt x="23" y="23"/>
                        </a:lnTo>
                        <a:lnTo>
                          <a:pt x="34" y="45"/>
                        </a:lnTo>
                        <a:lnTo>
                          <a:pt x="56" y="56"/>
                        </a:lnTo>
                        <a:lnTo>
                          <a:pt x="67" y="67"/>
                        </a:lnTo>
                        <a:lnTo>
                          <a:pt x="90" y="67"/>
                        </a:lnTo>
                        <a:lnTo>
                          <a:pt x="101" y="78"/>
                        </a:lnTo>
                        <a:lnTo>
                          <a:pt x="123" y="78"/>
                        </a:lnTo>
                        <a:lnTo>
                          <a:pt x="123" y="56"/>
                        </a:lnTo>
                        <a:lnTo>
                          <a:pt x="101" y="56"/>
                        </a:lnTo>
                        <a:lnTo>
                          <a:pt x="90" y="56"/>
                        </a:lnTo>
                        <a:lnTo>
                          <a:pt x="78" y="45"/>
                        </a:lnTo>
                        <a:lnTo>
                          <a:pt x="56" y="45"/>
                        </a:lnTo>
                        <a:lnTo>
                          <a:pt x="45" y="34"/>
                        </a:lnTo>
                        <a:lnTo>
                          <a:pt x="34" y="23"/>
                        </a:lnTo>
                        <a:lnTo>
                          <a:pt x="23" y="12"/>
                        </a:lnTo>
                        <a:lnTo>
                          <a:pt x="12" y="0"/>
                        </a:lnTo>
                        <a:lnTo>
                          <a:pt x="0" y="12"/>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1563"/>
                  <p:cNvSpPr/>
                  <p:nvPr/>
                </p:nvSpPr>
                <p:spPr>
                  <a:xfrm rot="111600">
                    <a:off x="5862600" y="1083240"/>
                    <a:ext cx="6120" cy="48600"/>
                  </a:xfrm>
                  <a:custGeom>
                    <a:avLst/>
                    <a:gdLst>
                      <a:gd name="textAreaLeft" fmla="*/ 0 w 6120"/>
                      <a:gd name="textAreaRight" fmla="*/ 6480 w 6120"/>
                      <a:gd name="textAreaTop" fmla="*/ 0 h 48600"/>
                      <a:gd name="textAreaBottom" fmla="*/ 48960 h 48600"/>
                    </a:gdLst>
                    <a:ahLst/>
                    <a:rect l="textAreaLeft" t="textAreaTop" r="textAreaRight" b="textAreaBottom"/>
                    <a:pathLst>
                      <a:path w="56" h="301">
                        <a:moveTo>
                          <a:pt x="33" y="0"/>
                        </a:moveTo>
                        <a:lnTo>
                          <a:pt x="44" y="0"/>
                        </a:lnTo>
                        <a:lnTo>
                          <a:pt x="22" y="33"/>
                        </a:lnTo>
                        <a:lnTo>
                          <a:pt x="11" y="66"/>
                        </a:lnTo>
                        <a:lnTo>
                          <a:pt x="0" y="100"/>
                        </a:lnTo>
                        <a:lnTo>
                          <a:pt x="0" y="144"/>
                        </a:lnTo>
                        <a:lnTo>
                          <a:pt x="0" y="178"/>
                        </a:lnTo>
                        <a:lnTo>
                          <a:pt x="11" y="223"/>
                        </a:lnTo>
                        <a:lnTo>
                          <a:pt x="22" y="267"/>
                        </a:lnTo>
                        <a:lnTo>
                          <a:pt x="44" y="301"/>
                        </a:lnTo>
                        <a:lnTo>
                          <a:pt x="56" y="289"/>
                        </a:lnTo>
                        <a:lnTo>
                          <a:pt x="33" y="256"/>
                        </a:lnTo>
                        <a:lnTo>
                          <a:pt x="22" y="223"/>
                        </a:lnTo>
                        <a:lnTo>
                          <a:pt x="22" y="178"/>
                        </a:lnTo>
                        <a:lnTo>
                          <a:pt x="11" y="144"/>
                        </a:lnTo>
                        <a:lnTo>
                          <a:pt x="11" y="100"/>
                        </a:lnTo>
                        <a:lnTo>
                          <a:pt x="22" y="66"/>
                        </a:lnTo>
                        <a:lnTo>
                          <a:pt x="33" y="33"/>
                        </a:lnTo>
                        <a:lnTo>
                          <a:pt x="56" y="11"/>
                        </a:lnTo>
                        <a:lnTo>
                          <a:pt x="33" y="0"/>
                        </a:lnTo>
                        <a:close/>
                      </a:path>
                    </a:pathLst>
                  </a:custGeom>
                  <a:solidFill>
                    <a:srgbClr val="00000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1562"/>
                  <p:cNvSpPr/>
                  <p:nvPr/>
                </p:nvSpPr>
                <p:spPr>
                  <a:xfrm rot="111600">
                    <a:off x="5846760" y="1085040"/>
                    <a:ext cx="24120" cy="48600"/>
                  </a:xfrm>
                  <a:custGeom>
                    <a:avLst/>
                    <a:gdLst>
                      <a:gd name="textAreaLeft" fmla="*/ 0 w 24120"/>
                      <a:gd name="textAreaRight" fmla="*/ 24480 w 24120"/>
                      <a:gd name="textAreaTop" fmla="*/ 0 h 48600"/>
                      <a:gd name="textAreaBottom" fmla="*/ 48960 h 48600"/>
                    </a:gdLst>
                    <a:ahLst/>
                    <a:rect l="textAreaLeft" t="textAreaTop" r="textAreaRight" b="textAreaBottom"/>
                    <a:pathLst>
                      <a:path w="223" h="301">
                        <a:moveTo>
                          <a:pt x="33" y="0"/>
                        </a:moveTo>
                        <a:lnTo>
                          <a:pt x="44" y="0"/>
                        </a:lnTo>
                        <a:lnTo>
                          <a:pt x="56" y="0"/>
                        </a:lnTo>
                        <a:lnTo>
                          <a:pt x="67" y="0"/>
                        </a:lnTo>
                        <a:lnTo>
                          <a:pt x="78" y="0"/>
                        </a:lnTo>
                        <a:lnTo>
                          <a:pt x="89" y="0"/>
                        </a:lnTo>
                        <a:lnTo>
                          <a:pt x="100" y="0"/>
                        </a:lnTo>
                        <a:lnTo>
                          <a:pt x="111" y="0"/>
                        </a:lnTo>
                        <a:lnTo>
                          <a:pt x="122" y="0"/>
                        </a:lnTo>
                        <a:lnTo>
                          <a:pt x="156" y="33"/>
                        </a:lnTo>
                        <a:lnTo>
                          <a:pt x="189" y="55"/>
                        </a:lnTo>
                        <a:lnTo>
                          <a:pt x="212" y="89"/>
                        </a:lnTo>
                        <a:lnTo>
                          <a:pt x="223" y="122"/>
                        </a:lnTo>
                        <a:lnTo>
                          <a:pt x="223" y="167"/>
                        </a:lnTo>
                        <a:lnTo>
                          <a:pt x="212" y="200"/>
                        </a:lnTo>
                        <a:lnTo>
                          <a:pt x="201" y="245"/>
                        </a:lnTo>
                        <a:lnTo>
                          <a:pt x="178" y="278"/>
                        </a:lnTo>
                        <a:lnTo>
                          <a:pt x="156" y="290"/>
                        </a:lnTo>
                        <a:lnTo>
                          <a:pt x="145" y="290"/>
                        </a:lnTo>
                        <a:lnTo>
                          <a:pt x="134" y="290"/>
                        </a:lnTo>
                        <a:lnTo>
                          <a:pt x="111" y="301"/>
                        </a:lnTo>
                        <a:lnTo>
                          <a:pt x="100" y="301"/>
                        </a:lnTo>
                        <a:lnTo>
                          <a:pt x="78" y="301"/>
                        </a:lnTo>
                        <a:lnTo>
                          <a:pt x="67" y="301"/>
                        </a:lnTo>
                        <a:lnTo>
                          <a:pt x="56" y="301"/>
                        </a:lnTo>
                        <a:lnTo>
                          <a:pt x="33" y="301"/>
                        </a:lnTo>
                        <a:lnTo>
                          <a:pt x="22" y="290"/>
                        </a:lnTo>
                        <a:lnTo>
                          <a:pt x="11" y="278"/>
                        </a:lnTo>
                        <a:lnTo>
                          <a:pt x="11" y="267"/>
                        </a:lnTo>
                        <a:lnTo>
                          <a:pt x="11" y="256"/>
                        </a:lnTo>
                        <a:lnTo>
                          <a:pt x="11" y="234"/>
                        </a:lnTo>
                        <a:lnTo>
                          <a:pt x="11" y="212"/>
                        </a:lnTo>
                        <a:lnTo>
                          <a:pt x="22" y="189"/>
                        </a:lnTo>
                        <a:lnTo>
                          <a:pt x="22" y="178"/>
                        </a:lnTo>
                        <a:lnTo>
                          <a:pt x="11" y="156"/>
                        </a:lnTo>
                        <a:lnTo>
                          <a:pt x="11" y="122"/>
                        </a:lnTo>
                        <a:lnTo>
                          <a:pt x="0" y="89"/>
                        </a:lnTo>
                        <a:lnTo>
                          <a:pt x="0" y="55"/>
                        </a:lnTo>
                        <a:lnTo>
                          <a:pt x="0" y="33"/>
                        </a:lnTo>
                        <a:lnTo>
                          <a:pt x="11" y="11"/>
                        </a:lnTo>
                        <a:lnTo>
                          <a:pt x="33" y="0"/>
                        </a:lnTo>
                        <a:close/>
                      </a:path>
                    </a:pathLst>
                  </a:custGeom>
                  <a:solidFill>
                    <a:srgbClr val="5475e8"/>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1561"/>
                  <p:cNvSpPr/>
                  <p:nvPr/>
                </p:nvSpPr>
                <p:spPr>
                  <a:xfrm rot="111600">
                    <a:off x="5851080" y="1082880"/>
                    <a:ext cx="10800" cy="3240"/>
                  </a:xfrm>
                  <a:custGeom>
                    <a:avLst/>
                    <a:gdLst>
                      <a:gd name="textAreaLeft" fmla="*/ 0 w 10800"/>
                      <a:gd name="textAreaRight" fmla="*/ 11160 w 10800"/>
                      <a:gd name="textAreaTop" fmla="*/ 0 h 3240"/>
                      <a:gd name="textAreaBottom" fmla="*/ 3600 h 3240"/>
                    </a:gdLst>
                    <a:ahLst/>
                    <a:rect l="textAreaLeft" t="textAreaTop" r="textAreaRight" b="textAreaBottom"/>
                    <a:pathLst>
                      <a:path w="101" h="22">
                        <a:moveTo>
                          <a:pt x="101" y="11"/>
                        </a:moveTo>
                        <a:lnTo>
                          <a:pt x="89" y="11"/>
                        </a:lnTo>
                        <a:lnTo>
                          <a:pt x="78" y="0"/>
                        </a:lnTo>
                        <a:lnTo>
                          <a:pt x="67" y="0"/>
                        </a:lnTo>
                        <a:lnTo>
                          <a:pt x="56" y="0"/>
                        </a:lnTo>
                        <a:lnTo>
                          <a:pt x="45" y="0"/>
                        </a:lnTo>
                        <a:lnTo>
                          <a:pt x="34" y="0"/>
                        </a:lnTo>
                        <a:lnTo>
                          <a:pt x="23" y="0"/>
                        </a:lnTo>
                        <a:lnTo>
                          <a:pt x="11" y="0"/>
                        </a:lnTo>
                        <a:lnTo>
                          <a:pt x="0" y="0"/>
                        </a:lnTo>
                        <a:lnTo>
                          <a:pt x="0" y="22"/>
                        </a:lnTo>
                        <a:lnTo>
                          <a:pt x="11" y="22"/>
                        </a:lnTo>
                        <a:lnTo>
                          <a:pt x="23" y="22"/>
                        </a:lnTo>
                        <a:lnTo>
                          <a:pt x="34" y="11"/>
                        </a:lnTo>
                        <a:lnTo>
                          <a:pt x="45" y="11"/>
                        </a:lnTo>
                        <a:lnTo>
                          <a:pt x="56" y="11"/>
                        </a:lnTo>
                        <a:lnTo>
                          <a:pt x="67" y="11"/>
                        </a:lnTo>
                        <a:lnTo>
                          <a:pt x="78" y="11"/>
                        </a:lnTo>
                        <a:lnTo>
                          <a:pt x="89" y="22"/>
                        </a:lnTo>
                        <a:lnTo>
                          <a:pt x="101" y="11"/>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1560"/>
                  <p:cNvSpPr/>
                  <p:nvPr/>
                </p:nvSpPr>
                <p:spPr>
                  <a:xfrm rot="111600">
                    <a:off x="5860080" y="1085040"/>
                    <a:ext cx="12240" cy="46800"/>
                  </a:xfrm>
                  <a:custGeom>
                    <a:avLst/>
                    <a:gdLst>
                      <a:gd name="textAreaLeft" fmla="*/ 0 w 12240"/>
                      <a:gd name="textAreaRight" fmla="*/ 12600 w 12240"/>
                      <a:gd name="textAreaTop" fmla="*/ 0 h 46800"/>
                      <a:gd name="textAreaBottom" fmla="*/ 47160 h 46800"/>
                    </a:gdLst>
                    <a:ahLst/>
                    <a:rect l="textAreaLeft" t="textAreaTop" r="textAreaRight" b="textAreaBottom"/>
                    <a:pathLst>
                      <a:path w="112" h="290">
                        <a:moveTo>
                          <a:pt x="56" y="290"/>
                        </a:moveTo>
                        <a:lnTo>
                          <a:pt x="56" y="290"/>
                        </a:lnTo>
                        <a:lnTo>
                          <a:pt x="79" y="245"/>
                        </a:lnTo>
                        <a:lnTo>
                          <a:pt x="101" y="200"/>
                        </a:lnTo>
                        <a:lnTo>
                          <a:pt x="112" y="167"/>
                        </a:lnTo>
                        <a:lnTo>
                          <a:pt x="101" y="122"/>
                        </a:lnTo>
                        <a:lnTo>
                          <a:pt x="90" y="89"/>
                        </a:lnTo>
                        <a:lnTo>
                          <a:pt x="67" y="55"/>
                        </a:lnTo>
                        <a:lnTo>
                          <a:pt x="45" y="22"/>
                        </a:lnTo>
                        <a:lnTo>
                          <a:pt x="12" y="0"/>
                        </a:lnTo>
                        <a:lnTo>
                          <a:pt x="0" y="11"/>
                        </a:lnTo>
                        <a:lnTo>
                          <a:pt x="34" y="33"/>
                        </a:lnTo>
                        <a:lnTo>
                          <a:pt x="56" y="67"/>
                        </a:lnTo>
                        <a:lnTo>
                          <a:pt x="79" y="89"/>
                        </a:lnTo>
                        <a:lnTo>
                          <a:pt x="90" y="122"/>
                        </a:lnTo>
                        <a:lnTo>
                          <a:pt x="90" y="167"/>
                        </a:lnTo>
                        <a:lnTo>
                          <a:pt x="90" y="200"/>
                        </a:lnTo>
                        <a:lnTo>
                          <a:pt x="67" y="234"/>
                        </a:lnTo>
                        <a:lnTo>
                          <a:pt x="45" y="278"/>
                        </a:lnTo>
                        <a:lnTo>
                          <a:pt x="56" y="290"/>
                        </a:lnTo>
                        <a:close/>
                      </a:path>
                    </a:pathLst>
                  </a:custGeom>
                  <a:solidFill>
                    <a:srgbClr val="000000"/>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1559"/>
                  <p:cNvSpPr/>
                  <p:nvPr/>
                </p:nvSpPr>
                <p:spPr>
                  <a:xfrm rot="111600">
                    <a:off x="5846400" y="1113480"/>
                    <a:ext cx="19440" cy="21600"/>
                  </a:xfrm>
                  <a:custGeom>
                    <a:avLst/>
                    <a:gdLst>
                      <a:gd name="textAreaLeft" fmla="*/ 0 w 19440"/>
                      <a:gd name="textAreaRight" fmla="*/ 19440 w 19440"/>
                      <a:gd name="textAreaTop" fmla="*/ 0 h 21600"/>
                      <a:gd name="textAreaBottom" fmla="*/ 21960 h 21600"/>
                    </a:gdLst>
                    <a:ahLst/>
                    <a:rect l="textAreaLeft" t="textAreaTop" r="textAreaRight" b="textAreaBottom"/>
                    <a:pathLst>
                      <a:path w="178" h="134">
                        <a:moveTo>
                          <a:pt x="11" y="11"/>
                        </a:moveTo>
                        <a:lnTo>
                          <a:pt x="11" y="0"/>
                        </a:lnTo>
                        <a:lnTo>
                          <a:pt x="0" y="34"/>
                        </a:lnTo>
                        <a:lnTo>
                          <a:pt x="0" y="56"/>
                        </a:lnTo>
                        <a:lnTo>
                          <a:pt x="0" y="78"/>
                        </a:lnTo>
                        <a:lnTo>
                          <a:pt x="0" y="100"/>
                        </a:lnTo>
                        <a:lnTo>
                          <a:pt x="11" y="112"/>
                        </a:lnTo>
                        <a:lnTo>
                          <a:pt x="22" y="123"/>
                        </a:lnTo>
                        <a:lnTo>
                          <a:pt x="33" y="123"/>
                        </a:lnTo>
                        <a:lnTo>
                          <a:pt x="56" y="134"/>
                        </a:lnTo>
                        <a:lnTo>
                          <a:pt x="67" y="134"/>
                        </a:lnTo>
                        <a:lnTo>
                          <a:pt x="78" y="134"/>
                        </a:lnTo>
                        <a:lnTo>
                          <a:pt x="100" y="134"/>
                        </a:lnTo>
                        <a:lnTo>
                          <a:pt x="111" y="123"/>
                        </a:lnTo>
                        <a:lnTo>
                          <a:pt x="134" y="123"/>
                        </a:lnTo>
                        <a:lnTo>
                          <a:pt x="145" y="123"/>
                        </a:lnTo>
                        <a:lnTo>
                          <a:pt x="167" y="112"/>
                        </a:lnTo>
                        <a:lnTo>
                          <a:pt x="178" y="112"/>
                        </a:lnTo>
                        <a:lnTo>
                          <a:pt x="167" y="100"/>
                        </a:lnTo>
                        <a:lnTo>
                          <a:pt x="156" y="100"/>
                        </a:lnTo>
                        <a:lnTo>
                          <a:pt x="145" y="100"/>
                        </a:lnTo>
                        <a:lnTo>
                          <a:pt x="134" y="112"/>
                        </a:lnTo>
                        <a:lnTo>
                          <a:pt x="111" y="112"/>
                        </a:lnTo>
                        <a:lnTo>
                          <a:pt x="100" y="112"/>
                        </a:lnTo>
                        <a:lnTo>
                          <a:pt x="78" y="112"/>
                        </a:lnTo>
                        <a:lnTo>
                          <a:pt x="67" y="112"/>
                        </a:lnTo>
                        <a:lnTo>
                          <a:pt x="56" y="112"/>
                        </a:lnTo>
                        <a:lnTo>
                          <a:pt x="44" y="112"/>
                        </a:lnTo>
                        <a:lnTo>
                          <a:pt x="33" y="112"/>
                        </a:lnTo>
                        <a:lnTo>
                          <a:pt x="22" y="100"/>
                        </a:lnTo>
                        <a:lnTo>
                          <a:pt x="11" y="89"/>
                        </a:lnTo>
                        <a:lnTo>
                          <a:pt x="11" y="78"/>
                        </a:lnTo>
                        <a:lnTo>
                          <a:pt x="11" y="56"/>
                        </a:lnTo>
                        <a:lnTo>
                          <a:pt x="22" y="34"/>
                        </a:lnTo>
                        <a:lnTo>
                          <a:pt x="22" y="11"/>
                        </a:lnTo>
                        <a:lnTo>
                          <a:pt x="11" y="11"/>
                        </a:lnTo>
                        <a:close/>
                      </a:path>
                    </a:pathLst>
                  </a:custGeom>
                  <a:solidFill>
                    <a:srgbClr val="000000"/>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1558"/>
                  <p:cNvSpPr/>
                  <p:nvPr/>
                </p:nvSpPr>
                <p:spPr>
                  <a:xfrm rot="111600">
                    <a:off x="5846040" y="1082880"/>
                    <a:ext cx="4680" cy="32040"/>
                  </a:xfrm>
                  <a:custGeom>
                    <a:avLst/>
                    <a:gdLst>
                      <a:gd name="textAreaLeft" fmla="*/ 0 w 4680"/>
                      <a:gd name="textAreaRight" fmla="*/ 5040 w 4680"/>
                      <a:gd name="textAreaTop" fmla="*/ 0 h 32040"/>
                      <a:gd name="textAreaBottom" fmla="*/ 32400 h 32040"/>
                    </a:gdLst>
                    <a:ahLst/>
                    <a:rect l="textAreaLeft" t="textAreaTop" r="textAreaRight" b="textAreaBottom"/>
                    <a:pathLst>
                      <a:path w="44" h="200">
                        <a:moveTo>
                          <a:pt x="44" y="0"/>
                        </a:moveTo>
                        <a:lnTo>
                          <a:pt x="44" y="0"/>
                        </a:lnTo>
                        <a:lnTo>
                          <a:pt x="22" y="11"/>
                        </a:lnTo>
                        <a:lnTo>
                          <a:pt x="11" y="44"/>
                        </a:lnTo>
                        <a:lnTo>
                          <a:pt x="0" y="66"/>
                        </a:lnTo>
                        <a:lnTo>
                          <a:pt x="0" y="100"/>
                        </a:lnTo>
                        <a:lnTo>
                          <a:pt x="11" y="133"/>
                        </a:lnTo>
                        <a:lnTo>
                          <a:pt x="22" y="167"/>
                        </a:lnTo>
                        <a:lnTo>
                          <a:pt x="22" y="189"/>
                        </a:lnTo>
                        <a:lnTo>
                          <a:pt x="22" y="200"/>
                        </a:lnTo>
                        <a:lnTo>
                          <a:pt x="33" y="200"/>
                        </a:lnTo>
                        <a:lnTo>
                          <a:pt x="33" y="189"/>
                        </a:lnTo>
                        <a:lnTo>
                          <a:pt x="33" y="167"/>
                        </a:lnTo>
                        <a:lnTo>
                          <a:pt x="22" y="133"/>
                        </a:lnTo>
                        <a:lnTo>
                          <a:pt x="22" y="100"/>
                        </a:lnTo>
                        <a:lnTo>
                          <a:pt x="22" y="66"/>
                        </a:lnTo>
                        <a:lnTo>
                          <a:pt x="22" y="44"/>
                        </a:lnTo>
                        <a:lnTo>
                          <a:pt x="22" y="22"/>
                        </a:lnTo>
                        <a:lnTo>
                          <a:pt x="44" y="22"/>
                        </a:lnTo>
                        <a:lnTo>
                          <a:pt x="44" y="0"/>
                        </a:lnTo>
                        <a:close/>
                      </a:path>
                    </a:pathLst>
                  </a:custGeom>
                  <a:solidFill>
                    <a:srgbClr val="00000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1557"/>
                  <p:cNvSpPr/>
                  <p:nvPr/>
                </p:nvSpPr>
                <p:spPr>
                  <a:xfrm rot="111600">
                    <a:off x="5821200" y="1071720"/>
                    <a:ext cx="31680" cy="81000"/>
                  </a:xfrm>
                  <a:custGeom>
                    <a:avLst/>
                    <a:gdLst>
                      <a:gd name="textAreaLeft" fmla="*/ 0 w 31680"/>
                      <a:gd name="textAreaRight" fmla="*/ 32040 w 31680"/>
                      <a:gd name="textAreaTop" fmla="*/ 0 h 81000"/>
                      <a:gd name="textAreaBottom" fmla="*/ 81360 h 81000"/>
                    </a:gdLst>
                    <a:ahLst/>
                    <a:rect l="textAreaLeft" t="textAreaTop" r="textAreaRight" b="textAreaBottom"/>
                    <a:pathLst>
                      <a:path w="290" h="501">
                        <a:moveTo>
                          <a:pt x="33" y="22"/>
                        </a:moveTo>
                        <a:lnTo>
                          <a:pt x="44" y="11"/>
                        </a:lnTo>
                        <a:lnTo>
                          <a:pt x="56" y="0"/>
                        </a:lnTo>
                        <a:lnTo>
                          <a:pt x="67" y="0"/>
                        </a:lnTo>
                        <a:lnTo>
                          <a:pt x="78" y="0"/>
                        </a:lnTo>
                        <a:lnTo>
                          <a:pt x="100" y="0"/>
                        </a:lnTo>
                        <a:lnTo>
                          <a:pt x="111" y="0"/>
                        </a:lnTo>
                        <a:lnTo>
                          <a:pt x="134" y="11"/>
                        </a:lnTo>
                        <a:lnTo>
                          <a:pt x="156" y="11"/>
                        </a:lnTo>
                        <a:lnTo>
                          <a:pt x="178" y="22"/>
                        </a:lnTo>
                        <a:lnTo>
                          <a:pt x="189" y="33"/>
                        </a:lnTo>
                        <a:lnTo>
                          <a:pt x="212" y="44"/>
                        </a:lnTo>
                        <a:lnTo>
                          <a:pt x="223" y="67"/>
                        </a:lnTo>
                        <a:lnTo>
                          <a:pt x="245" y="78"/>
                        </a:lnTo>
                        <a:lnTo>
                          <a:pt x="256" y="100"/>
                        </a:lnTo>
                        <a:lnTo>
                          <a:pt x="267" y="111"/>
                        </a:lnTo>
                        <a:lnTo>
                          <a:pt x="278" y="133"/>
                        </a:lnTo>
                        <a:lnTo>
                          <a:pt x="290" y="167"/>
                        </a:lnTo>
                        <a:lnTo>
                          <a:pt x="290" y="200"/>
                        </a:lnTo>
                        <a:lnTo>
                          <a:pt x="290" y="234"/>
                        </a:lnTo>
                        <a:lnTo>
                          <a:pt x="290" y="278"/>
                        </a:lnTo>
                        <a:lnTo>
                          <a:pt x="278" y="312"/>
                        </a:lnTo>
                        <a:lnTo>
                          <a:pt x="267" y="345"/>
                        </a:lnTo>
                        <a:lnTo>
                          <a:pt x="256" y="379"/>
                        </a:lnTo>
                        <a:lnTo>
                          <a:pt x="245" y="412"/>
                        </a:lnTo>
                        <a:lnTo>
                          <a:pt x="223" y="434"/>
                        </a:lnTo>
                        <a:lnTo>
                          <a:pt x="200" y="457"/>
                        </a:lnTo>
                        <a:lnTo>
                          <a:pt x="167" y="479"/>
                        </a:lnTo>
                        <a:lnTo>
                          <a:pt x="145" y="490"/>
                        </a:lnTo>
                        <a:lnTo>
                          <a:pt x="111" y="501"/>
                        </a:lnTo>
                        <a:lnTo>
                          <a:pt x="78" y="501"/>
                        </a:lnTo>
                        <a:lnTo>
                          <a:pt x="56" y="490"/>
                        </a:lnTo>
                        <a:lnTo>
                          <a:pt x="33" y="457"/>
                        </a:lnTo>
                        <a:lnTo>
                          <a:pt x="11" y="401"/>
                        </a:lnTo>
                        <a:lnTo>
                          <a:pt x="0" y="334"/>
                        </a:lnTo>
                        <a:lnTo>
                          <a:pt x="0" y="267"/>
                        </a:lnTo>
                        <a:lnTo>
                          <a:pt x="0" y="211"/>
                        </a:lnTo>
                        <a:lnTo>
                          <a:pt x="0" y="145"/>
                        </a:lnTo>
                        <a:lnTo>
                          <a:pt x="11" y="89"/>
                        </a:lnTo>
                        <a:lnTo>
                          <a:pt x="22" y="55"/>
                        </a:lnTo>
                        <a:lnTo>
                          <a:pt x="33" y="22"/>
                        </a:lnTo>
                        <a:close/>
                      </a:path>
                    </a:pathLst>
                  </a:custGeom>
                  <a:solidFill>
                    <a:srgbClr val="5475e8"/>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1556"/>
                  <p:cNvSpPr/>
                  <p:nvPr/>
                </p:nvSpPr>
                <p:spPr>
                  <a:xfrm rot="111600">
                    <a:off x="5824080" y="1069920"/>
                    <a:ext cx="27720" cy="23040"/>
                  </a:xfrm>
                  <a:custGeom>
                    <a:avLst/>
                    <a:gdLst>
                      <a:gd name="textAreaLeft" fmla="*/ 0 w 27720"/>
                      <a:gd name="textAreaRight" fmla="*/ 28080 w 27720"/>
                      <a:gd name="textAreaTop" fmla="*/ 0 h 23040"/>
                      <a:gd name="textAreaBottom" fmla="*/ 23400 h 23040"/>
                    </a:gdLst>
                    <a:ahLst/>
                    <a:rect l="textAreaLeft" t="textAreaTop" r="textAreaRight" b="textAreaBottom"/>
                    <a:pathLst>
                      <a:path w="256" h="144">
                        <a:moveTo>
                          <a:pt x="256" y="144"/>
                        </a:moveTo>
                        <a:lnTo>
                          <a:pt x="256" y="144"/>
                        </a:lnTo>
                        <a:lnTo>
                          <a:pt x="256" y="122"/>
                        </a:lnTo>
                        <a:lnTo>
                          <a:pt x="234" y="100"/>
                        </a:lnTo>
                        <a:lnTo>
                          <a:pt x="223" y="89"/>
                        </a:lnTo>
                        <a:lnTo>
                          <a:pt x="212" y="66"/>
                        </a:lnTo>
                        <a:lnTo>
                          <a:pt x="190" y="55"/>
                        </a:lnTo>
                        <a:lnTo>
                          <a:pt x="167" y="44"/>
                        </a:lnTo>
                        <a:lnTo>
                          <a:pt x="156" y="33"/>
                        </a:lnTo>
                        <a:lnTo>
                          <a:pt x="134" y="22"/>
                        </a:lnTo>
                        <a:lnTo>
                          <a:pt x="112" y="11"/>
                        </a:lnTo>
                        <a:lnTo>
                          <a:pt x="100" y="0"/>
                        </a:lnTo>
                        <a:lnTo>
                          <a:pt x="78" y="0"/>
                        </a:lnTo>
                        <a:lnTo>
                          <a:pt x="56" y="0"/>
                        </a:lnTo>
                        <a:lnTo>
                          <a:pt x="45" y="0"/>
                        </a:lnTo>
                        <a:lnTo>
                          <a:pt x="22" y="11"/>
                        </a:lnTo>
                        <a:lnTo>
                          <a:pt x="11" y="11"/>
                        </a:lnTo>
                        <a:lnTo>
                          <a:pt x="0" y="22"/>
                        </a:lnTo>
                        <a:lnTo>
                          <a:pt x="11" y="33"/>
                        </a:lnTo>
                        <a:lnTo>
                          <a:pt x="22" y="22"/>
                        </a:lnTo>
                        <a:lnTo>
                          <a:pt x="34" y="22"/>
                        </a:lnTo>
                        <a:lnTo>
                          <a:pt x="45" y="11"/>
                        </a:lnTo>
                        <a:lnTo>
                          <a:pt x="56" y="11"/>
                        </a:lnTo>
                        <a:lnTo>
                          <a:pt x="78" y="11"/>
                        </a:lnTo>
                        <a:lnTo>
                          <a:pt x="89" y="22"/>
                        </a:lnTo>
                        <a:lnTo>
                          <a:pt x="112" y="22"/>
                        </a:lnTo>
                        <a:lnTo>
                          <a:pt x="134" y="33"/>
                        </a:lnTo>
                        <a:lnTo>
                          <a:pt x="145" y="44"/>
                        </a:lnTo>
                        <a:lnTo>
                          <a:pt x="167" y="55"/>
                        </a:lnTo>
                        <a:lnTo>
                          <a:pt x="178" y="66"/>
                        </a:lnTo>
                        <a:lnTo>
                          <a:pt x="201" y="78"/>
                        </a:lnTo>
                        <a:lnTo>
                          <a:pt x="212" y="100"/>
                        </a:lnTo>
                        <a:lnTo>
                          <a:pt x="223" y="111"/>
                        </a:lnTo>
                        <a:lnTo>
                          <a:pt x="234" y="122"/>
                        </a:lnTo>
                        <a:lnTo>
                          <a:pt x="245" y="144"/>
                        </a:lnTo>
                        <a:lnTo>
                          <a:pt x="256" y="144"/>
                        </a:lnTo>
                        <a:close/>
                      </a:path>
                    </a:pathLst>
                  </a:custGeom>
                  <a:solidFill>
                    <a:srgbClr val="000000"/>
                  </a:solidFill>
                  <a:ln w="0">
                    <a:noFill/>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1555"/>
                  <p:cNvSpPr/>
                  <p:nvPr/>
                </p:nvSpPr>
                <p:spPr>
                  <a:xfrm rot="111600">
                    <a:off x="5846400" y="1093680"/>
                    <a:ext cx="7200" cy="45000"/>
                  </a:xfrm>
                  <a:custGeom>
                    <a:avLst/>
                    <a:gdLst>
                      <a:gd name="textAreaLeft" fmla="*/ 0 w 7200"/>
                      <a:gd name="textAreaRight" fmla="*/ 7560 w 7200"/>
                      <a:gd name="textAreaTop" fmla="*/ 0 h 45000"/>
                      <a:gd name="textAreaBottom" fmla="*/ 45360 h 45000"/>
                    </a:gdLst>
                    <a:ahLst/>
                    <a:rect l="textAreaLeft" t="textAreaTop" r="textAreaRight" b="textAreaBottom"/>
                    <a:pathLst>
                      <a:path w="67" h="279">
                        <a:moveTo>
                          <a:pt x="11" y="279"/>
                        </a:moveTo>
                        <a:lnTo>
                          <a:pt x="11" y="279"/>
                        </a:lnTo>
                        <a:lnTo>
                          <a:pt x="33" y="257"/>
                        </a:lnTo>
                        <a:lnTo>
                          <a:pt x="44" y="223"/>
                        </a:lnTo>
                        <a:lnTo>
                          <a:pt x="56" y="179"/>
                        </a:lnTo>
                        <a:lnTo>
                          <a:pt x="67" y="145"/>
                        </a:lnTo>
                        <a:lnTo>
                          <a:pt x="67" y="101"/>
                        </a:lnTo>
                        <a:lnTo>
                          <a:pt x="67" y="67"/>
                        </a:lnTo>
                        <a:lnTo>
                          <a:pt x="56" y="34"/>
                        </a:lnTo>
                        <a:lnTo>
                          <a:pt x="44" y="0"/>
                        </a:lnTo>
                        <a:lnTo>
                          <a:pt x="33" y="0"/>
                        </a:lnTo>
                        <a:lnTo>
                          <a:pt x="44" y="34"/>
                        </a:lnTo>
                        <a:lnTo>
                          <a:pt x="56" y="67"/>
                        </a:lnTo>
                        <a:lnTo>
                          <a:pt x="56" y="101"/>
                        </a:lnTo>
                        <a:lnTo>
                          <a:pt x="44" y="145"/>
                        </a:lnTo>
                        <a:lnTo>
                          <a:pt x="44" y="179"/>
                        </a:lnTo>
                        <a:lnTo>
                          <a:pt x="33" y="212"/>
                        </a:lnTo>
                        <a:lnTo>
                          <a:pt x="11" y="246"/>
                        </a:lnTo>
                        <a:lnTo>
                          <a:pt x="0" y="279"/>
                        </a:lnTo>
                        <a:lnTo>
                          <a:pt x="11" y="279"/>
                        </a:lnTo>
                        <a:close/>
                      </a:path>
                    </a:pathLst>
                  </a:custGeom>
                  <a:solidFill>
                    <a:srgbClr val="00000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1554"/>
                  <p:cNvSpPr/>
                  <p:nvPr/>
                </p:nvSpPr>
                <p:spPr>
                  <a:xfrm rot="111600">
                    <a:off x="5823720" y="1138320"/>
                    <a:ext cx="23040" cy="15840"/>
                  </a:xfrm>
                  <a:custGeom>
                    <a:avLst/>
                    <a:gdLst>
                      <a:gd name="textAreaLeft" fmla="*/ 0 w 23040"/>
                      <a:gd name="textAreaRight" fmla="*/ 23400 w 23040"/>
                      <a:gd name="textAreaTop" fmla="*/ 0 h 15840"/>
                      <a:gd name="textAreaBottom" fmla="*/ 16200 h 15840"/>
                    </a:gdLst>
                    <a:ahLst/>
                    <a:rect l="textAreaLeft" t="textAreaTop" r="textAreaRight" b="textAreaBottom"/>
                    <a:pathLst>
                      <a:path w="212" h="100">
                        <a:moveTo>
                          <a:pt x="0" y="56"/>
                        </a:moveTo>
                        <a:lnTo>
                          <a:pt x="0" y="56"/>
                        </a:lnTo>
                        <a:lnTo>
                          <a:pt x="23" y="78"/>
                        </a:lnTo>
                        <a:lnTo>
                          <a:pt x="45" y="100"/>
                        </a:lnTo>
                        <a:lnTo>
                          <a:pt x="78" y="100"/>
                        </a:lnTo>
                        <a:lnTo>
                          <a:pt x="112" y="89"/>
                        </a:lnTo>
                        <a:lnTo>
                          <a:pt x="145" y="67"/>
                        </a:lnTo>
                        <a:lnTo>
                          <a:pt x="167" y="45"/>
                        </a:lnTo>
                        <a:lnTo>
                          <a:pt x="190" y="22"/>
                        </a:lnTo>
                        <a:lnTo>
                          <a:pt x="212" y="0"/>
                        </a:lnTo>
                        <a:lnTo>
                          <a:pt x="201" y="0"/>
                        </a:lnTo>
                        <a:lnTo>
                          <a:pt x="179" y="11"/>
                        </a:lnTo>
                        <a:lnTo>
                          <a:pt x="156" y="34"/>
                        </a:lnTo>
                        <a:lnTo>
                          <a:pt x="134" y="56"/>
                        </a:lnTo>
                        <a:lnTo>
                          <a:pt x="101" y="78"/>
                        </a:lnTo>
                        <a:lnTo>
                          <a:pt x="78" y="78"/>
                        </a:lnTo>
                        <a:lnTo>
                          <a:pt x="56" y="78"/>
                        </a:lnTo>
                        <a:lnTo>
                          <a:pt x="34" y="67"/>
                        </a:lnTo>
                        <a:lnTo>
                          <a:pt x="11" y="45"/>
                        </a:lnTo>
                        <a:lnTo>
                          <a:pt x="0" y="56"/>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1553"/>
                  <p:cNvSpPr/>
                  <p:nvPr/>
                </p:nvSpPr>
                <p:spPr>
                  <a:xfrm rot="111600">
                    <a:off x="5819760" y="1072800"/>
                    <a:ext cx="5760" cy="73800"/>
                  </a:xfrm>
                  <a:custGeom>
                    <a:avLst/>
                    <a:gdLst>
                      <a:gd name="textAreaLeft" fmla="*/ 0 w 5760"/>
                      <a:gd name="textAreaRight" fmla="*/ 6120 w 5760"/>
                      <a:gd name="textAreaTop" fmla="*/ 0 h 73800"/>
                      <a:gd name="textAreaBottom" fmla="*/ 74160 h 73800"/>
                    </a:gdLst>
                    <a:ahLst/>
                    <a:rect l="textAreaLeft" t="textAreaTop" r="textAreaRight" b="textAreaBottom"/>
                    <a:pathLst>
                      <a:path w="55" h="457">
                        <a:moveTo>
                          <a:pt x="33" y="0"/>
                        </a:moveTo>
                        <a:lnTo>
                          <a:pt x="33" y="11"/>
                        </a:lnTo>
                        <a:lnTo>
                          <a:pt x="22" y="33"/>
                        </a:lnTo>
                        <a:lnTo>
                          <a:pt x="11" y="78"/>
                        </a:lnTo>
                        <a:lnTo>
                          <a:pt x="0" y="134"/>
                        </a:lnTo>
                        <a:lnTo>
                          <a:pt x="0" y="200"/>
                        </a:lnTo>
                        <a:lnTo>
                          <a:pt x="0" y="256"/>
                        </a:lnTo>
                        <a:lnTo>
                          <a:pt x="11" y="323"/>
                        </a:lnTo>
                        <a:lnTo>
                          <a:pt x="22" y="390"/>
                        </a:lnTo>
                        <a:lnTo>
                          <a:pt x="44" y="457"/>
                        </a:lnTo>
                        <a:lnTo>
                          <a:pt x="55" y="446"/>
                        </a:lnTo>
                        <a:lnTo>
                          <a:pt x="33" y="390"/>
                        </a:lnTo>
                        <a:lnTo>
                          <a:pt x="22" y="323"/>
                        </a:lnTo>
                        <a:lnTo>
                          <a:pt x="11" y="256"/>
                        </a:lnTo>
                        <a:lnTo>
                          <a:pt x="11" y="200"/>
                        </a:lnTo>
                        <a:lnTo>
                          <a:pt x="22" y="134"/>
                        </a:lnTo>
                        <a:lnTo>
                          <a:pt x="22" y="89"/>
                        </a:lnTo>
                        <a:lnTo>
                          <a:pt x="33" y="44"/>
                        </a:lnTo>
                        <a:lnTo>
                          <a:pt x="44" y="11"/>
                        </a:lnTo>
                        <a:lnTo>
                          <a:pt x="33" y="0"/>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1552"/>
                  <p:cNvSpPr/>
                  <p:nvPr/>
                </p:nvSpPr>
                <p:spPr>
                  <a:xfrm rot="111600">
                    <a:off x="5688360" y="1056600"/>
                    <a:ext cx="27720" cy="81000"/>
                  </a:xfrm>
                  <a:custGeom>
                    <a:avLst/>
                    <a:gdLst>
                      <a:gd name="textAreaLeft" fmla="*/ 0 w 27720"/>
                      <a:gd name="textAreaRight" fmla="*/ 28080 w 27720"/>
                      <a:gd name="textAreaTop" fmla="*/ 0 h 81000"/>
                      <a:gd name="textAreaBottom" fmla="*/ 81360 h 81000"/>
                    </a:gdLst>
                    <a:ahLst/>
                    <a:rect l="textAreaLeft" t="textAreaTop" r="textAreaRight" b="textAreaBottom"/>
                    <a:pathLst>
                      <a:path w="256" h="501">
                        <a:moveTo>
                          <a:pt x="256" y="145"/>
                        </a:moveTo>
                        <a:lnTo>
                          <a:pt x="223" y="111"/>
                        </a:lnTo>
                        <a:lnTo>
                          <a:pt x="212" y="78"/>
                        </a:lnTo>
                        <a:lnTo>
                          <a:pt x="201" y="56"/>
                        </a:lnTo>
                        <a:lnTo>
                          <a:pt x="189" y="33"/>
                        </a:lnTo>
                        <a:lnTo>
                          <a:pt x="178" y="33"/>
                        </a:lnTo>
                        <a:lnTo>
                          <a:pt x="167" y="22"/>
                        </a:lnTo>
                        <a:lnTo>
                          <a:pt x="156" y="11"/>
                        </a:lnTo>
                        <a:lnTo>
                          <a:pt x="134" y="0"/>
                        </a:lnTo>
                        <a:lnTo>
                          <a:pt x="123" y="0"/>
                        </a:lnTo>
                        <a:lnTo>
                          <a:pt x="100" y="11"/>
                        </a:lnTo>
                        <a:lnTo>
                          <a:pt x="89" y="22"/>
                        </a:lnTo>
                        <a:lnTo>
                          <a:pt x="78" y="33"/>
                        </a:lnTo>
                        <a:lnTo>
                          <a:pt x="67" y="44"/>
                        </a:lnTo>
                        <a:lnTo>
                          <a:pt x="56" y="56"/>
                        </a:lnTo>
                        <a:lnTo>
                          <a:pt x="56" y="78"/>
                        </a:lnTo>
                        <a:lnTo>
                          <a:pt x="45" y="89"/>
                        </a:lnTo>
                        <a:lnTo>
                          <a:pt x="33" y="134"/>
                        </a:lnTo>
                        <a:lnTo>
                          <a:pt x="22" y="178"/>
                        </a:lnTo>
                        <a:lnTo>
                          <a:pt x="11" y="234"/>
                        </a:lnTo>
                        <a:lnTo>
                          <a:pt x="0" y="290"/>
                        </a:lnTo>
                        <a:lnTo>
                          <a:pt x="0" y="345"/>
                        </a:lnTo>
                        <a:lnTo>
                          <a:pt x="11" y="401"/>
                        </a:lnTo>
                        <a:lnTo>
                          <a:pt x="22" y="446"/>
                        </a:lnTo>
                        <a:lnTo>
                          <a:pt x="45" y="501"/>
                        </a:lnTo>
                        <a:lnTo>
                          <a:pt x="56" y="501"/>
                        </a:lnTo>
                        <a:lnTo>
                          <a:pt x="67" y="501"/>
                        </a:lnTo>
                        <a:lnTo>
                          <a:pt x="78" y="501"/>
                        </a:lnTo>
                        <a:lnTo>
                          <a:pt x="89" y="501"/>
                        </a:lnTo>
                        <a:lnTo>
                          <a:pt x="100" y="501"/>
                        </a:lnTo>
                        <a:lnTo>
                          <a:pt x="111" y="501"/>
                        </a:lnTo>
                        <a:lnTo>
                          <a:pt x="134" y="490"/>
                        </a:lnTo>
                        <a:lnTo>
                          <a:pt x="156" y="468"/>
                        </a:lnTo>
                        <a:lnTo>
                          <a:pt x="167" y="457"/>
                        </a:lnTo>
                        <a:lnTo>
                          <a:pt x="189" y="435"/>
                        </a:lnTo>
                        <a:lnTo>
                          <a:pt x="201" y="423"/>
                        </a:lnTo>
                        <a:lnTo>
                          <a:pt x="212" y="401"/>
                        </a:lnTo>
                        <a:lnTo>
                          <a:pt x="223" y="390"/>
                        </a:lnTo>
                        <a:lnTo>
                          <a:pt x="234" y="345"/>
                        </a:lnTo>
                        <a:lnTo>
                          <a:pt x="245" y="301"/>
                        </a:lnTo>
                        <a:lnTo>
                          <a:pt x="256" y="256"/>
                        </a:lnTo>
                        <a:lnTo>
                          <a:pt x="256" y="200"/>
                        </a:lnTo>
                        <a:lnTo>
                          <a:pt x="256" y="189"/>
                        </a:lnTo>
                        <a:lnTo>
                          <a:pt x="256" y="178"/>
                        </a:lnTo>
                        <a:lnTo>
                          <a:pt x="256" y="167"/>
                        </a:lnTo>
                        <a:lnTo>
                          <a:pt x="256" y="145"/>
                        </a:lnTo>
                        <a:close/>
                      </a:path>
                    </a:pathLst>
                  </a:custGeom>
                  <a:solidFill>
                    <a:srgbClr val="5475e8"/>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1551"/>
                  <p:cNvSpPr/>
                  <p:nvPr/>
                </p:nvSpPr>
                <p:spPr>
                  <a:xfrm rot="111600">
                    <a:off x="5703840" y="1054800"/>
                    <a:ext cx="13320" cy="27000"/>
                  </a:xfrm>
                  <a:custGeom>
                    <a:avLst/>
                    <a:gdLst>
                      <a:gd name="textAreaLeft" fmla="*/ 0 w 13320"/>
                      <a:gd name="textAreaRight" fmla="*/ 13680 w 13320"/>
                      <a:gd name="textAreaTop" fmla="*/ 0 h 27000"/>
                      <a:gd name="textAreaBottom" fmla="*/ 27360 h 27000"/>
                    </a:gdLst>
                    <a:ahLst/>
                    <a:rect l="textAreaLeft" t="textAreaTop" r="textAreaRight" b="textAreaBottom"/>
                    <a:pathLst>
                      <a:path w="122" h="167">
                        <a:moveTo>
                          <a:pt x="0" y="22"/>
                        </a:moveTo>
                        <a:lnTo>
                          <a:pt x="0" y="22"/>
                        </a:lnTo>
                        <a:lnTo>
                          <a:pt x="11" y="33"/>
                        </a:lnTo>
                        <a:lnTo>
                          <a:pt x="22" y="33"/>
                        </a:lnTo>
                        <a:lnTo>
                          <a:pt x="33" y="44"/>
                        </a:lnTo>
                        <a:lnTo>
                          <a:pt x="44" y="55"/>
                        </a:lnTo>
                        <a:lnTo>
                          <a:pt x="55" y="67"/>
                        </a:lnTo>
                        <a:lnTo>
                          <a:pt x="67" y="89"/>
                        </a:lnTo>
                        <a:lnTo>
                          <a:pt x="89" y="122"/>
                        </a:lnTo>
                        <a:lnTo>
                          <a:pt x="111" y="167"/>
                        </a:lnTo>
                        <a:lnTo>
                          <a:pt x="122" y="156"/>
                        </a:lnTo>
                        <a:lnTo>
                          <a:pt x="100" y="111"/>
                        </a:lnTo>
                        <a:lnTo>
                          <a:pt x="89" y="78"/>
                        </a:lnTo>
                        <a:lnTo>
                          <a:pt x="67" y="55"/>
                        </a:lnTo>
                        <a:lnTo>
                          <a:pt x="55" y="44"/>
                        </a:lnTo>
                        <a:lnTo>
                          <a:pt x="44" y="33"/>
                        </a:lnTo>
                        <a:lnTo>
                          <a:pt x="33" y="22"/>
                        </a:lnTo>
                        <a:lnTo>
                          <a:pt x="22" y="22"/>
                        </a:lnTo>
                        <a:lnTo>
                          <a:pt x="11" y="11"/>
                        </a:lnTo>
                        <a:lnTo>
                          <a:pt x="0" y="0"/>
                        </a:lnTo>
                        <a:lnTo>
                          <a:pt x="0" y="22"/>
                        </a:lnTo>
                        <a:close/>
                      </a:path>
                    </a:pathLst>
                  </a:custGeom>
                  <a:solidFill>
                    <a:srgbClr val="000000"/>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1550"/>
                  <p:cNvSpPr/>
                  <p:nvPr/>
                </p:nvSpPr>
                <p:spPr>
                  <a:xfrm rot="111600">
                    <a:off x="5693040" y="1054440"/>
                    <a:ext cx="10800" cy="15840"/>
                  </a:xfrm>
                  <a:custGeom>
                    <a:avLst/>
                    <a:gdLst>
                      <a:gd name="textAreaLeft" fmla="*/ 0 w 10800"/>
                      <a:gd name="textAreaRight" fmla="*/ 11160 w 10800"/>
                      <a:gd name="textAreaTop" fmla="*/ 0 h 15840"/>
                      <a:gd name="textAreaBottom" fmla="*/ 16200 h 15840"/>
                    </a:gdLst>
                    <a:ahLst/>
                    <a:rect l="textAreaLeft" t="textAreaTop" r="textAreaRight" b="textAreaBottom"/>
                    <a:pathLst>
                      <a:path w="101" h="100">
                        <a:moveTo>
                          <a:pt x="23" y="100"/>
                        </a:moveTo>
                        <a:lnTo>
                          <a:pt x="23" y="100"/>
                        </a:lnTo>
                        <a:lnTo>
                          <a:pt x="23" y="89"/>
                        </a:lnTo>
                        <a:lnTo>
                          <a:pt x="34" y="78"/>
                        </a:lnTo>
                        <a:lnTo>
                          <a:pt x="34" y="55"/>
                        </a:lnTo>
                        <a:lnTo>
                          <a:pt x="45" y="44"/>
                        </a:lnTo>
                        <a:lnTo>
                          <a:pt x="56" y="33"/>
                        </a:lnTo>
                        <a:lnTo>
                          <a:pt x="67" y="22"/>
                        </a:lnTo>
                        <a:lnTo>
                          <a:pt x="90" y="22"/>
                        </a:lnTo>
                        <a:lnTo>
                          <a:pt x="101" y="22"/>
                        </a:lnTo>
                        <a:lnTo>
                          <a:pt x="101" y="0"/>
                        </a:lnTo>
                        <a:lnTo>
                          <a:pt x="90" y="11"/>
                        </a:lnTo>
                        <a:lnTo>
                          <a:pt x="67" y="11"/>
                        </a:lnTo>
                        <a:lnTo>
                          <a:pt x="45" y="22"/>
                        </a:lnTo>
                        <a:lnTo>
                          <a:pt x="34" y="33"/>
                        </a:lnTo>
                        <a:lnTo>
                          <a:pt x="23" y="55"/>
                        </a:lnTo>
                        <a:lnTo>
                          <a:pt x="23" y="67"/>
                        </a:lnTo>
                        <a:lnTo>
                          <a:pt x="12" y="89"/>
                        </a:lnTo>
                        <a:lnTo>
                          <a:pt x="0" y="100"/>
                        </a:lnTo>
                        <a:lnTo>
                          <a:pt x="23" y="100"/>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1549"/>
                  <p:cNvSpPr/>
                  <p:nvPr/>
                </p:nvSpPr>
                <p:spPr>
                  <a:xfrm rot="111600">
                    <a:off x="5686920" y="1070280"/>
                    <a:ext cx="7200" cy="68400"/>
                  </a:xfrm>
                  <a:custGeom>
                    <a:avLst/>
                    <a:gdLst>
                      <a:gd name="textAreaLeft" fmla="*/ 0 w 7200"/>
                      <a:gd name="textAreaRight" fmla="*/ 7560 w 7200"/>
                      <a:gd name="textAreaTop" fmla="*/ 0 h 68400"/>
                      <a:gd name="textAreaBottom" fmla="*/ 68760 h 68400"/>
                    </a:gdLst>
                    <a:ahLst/>
                    <a:rect l="textAreaLeft" t="textAreaTop" r="textAreaRight" b="textAreaBottom"/>
                    <a:pathLst>
                      <a:path w="67" h="424">
                        <a:moveTo>
                          <a:pt x="56" y="401"/>
                        </a:moveTo>
                        <a:lnTo>
                          <a:pt x="67" y="412"/>
                        </a:lnTo>
                        <a:lnTo>
                          <a:pt x="44" y="357"/>
                        </a:lnTo>
                        <a:lnTo>
                          <a:pt x="22" y="301"/>
                        </a:lnTo>
                        <a:lnTo>
                          <a:pt x="22" y="256"/>
                        </a:lnTo>
                        <a:lnTo>
                          <a:pt x="22" y="201"/>
                        </a:lnTo>
                        <a:lnTo>
                          <a:pt x="22" y="145"/>
                        </a:lnTo>
                        <a:lnTo>
                          <a:pt x="33" y="89"/>
                        </a:lnTo>
                        <a:lnTo>
                          <a:pt x="44" y="45"/>
                        </a:lnTo>
                        <a:lnTo>
                          <a:pt x="67" y="0"/>
                        </a:lnTo>
                        <a:lnTo>
                          <a:pt x="44" y="0"/>
                        </a:lnTo>
                        <a:lnTo>
                          <a:pt x="33" y="45"/>
                        </a:lnTo>
                        <a:lnTo>
                          <a:pt x="22" y="89"/>
                        </a:lnTo>
                        <a:lnTo>
                          <a:pt x="11" y="145"/>
                        </a:lnTo>
                        <a:lnTo>
                          <a:pt x="0" y="201"/>
                        </a:lnTo>
                        <a:lnTo>
                          <a:pt x="0" y="256"/>
                        </a:lnTo>
                        <a:lnTo>
                          <a:pt x="11" y="312"/>
                        </a:lnTo>
                        <a:lnTo>
                          <a:pt x="22" y="368"/>
                        </a:lnTo>
                        <a:lnTo>
                          <a:pt x="56" y="424"/>
                        </a:lnTo>
                        <a:lnTo>
                          <a:pt x="56" y="401"/>
                        </a:lnTo>
                        <a:close/>
                      </a:path>
                    </a:pathLst>
                  </a:custGeom>
                  <a:solidFill>
                    <a:srgbClr val="000000"/>
                  </a:soli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1548"/>
                  <p:cNvSpPr/>
                  <p:nvPr/>
                </p:nvSpPr>
                <p:spPr>
                  <a:xfrm rot="111600">
                    <a:off x="5691960" y="1135440"/>
                    <a:ext cx="5760" cy="3600"/>
                  </a:xfrm>
                  <a:custGeom>
                    <a:avLst/>
                    <a:gdLst>
                      <a:gd name="textAreaLeft" fmla="*/ 0 w 5760"/>
                      <a:gd name="textAreaRight" fmla="*/ 6120 w 5760"/>
                      <a:gd name="textAreaTop" fmla="*/ 0 h 3600"/>
                      <a:gd name="textAreaBottom" fmla="*/ 3960 h 3600"/>
                    </a:gdLst>
                    <a:ahLst/>
                    <a:rect l="textAreaLeft" t="textAreaTop" r="textAreaRight" b="textAreaBottom"/>
                    <a:pathLst>
                      <a:path w="55" h="23">
                        <a:moveTo>
                          <a:pt x="55" y="11"/>
                        </a:moveTo>
                        <a:lnTo>
                          <a:pt x="55" y="11"/>
                        </a:lnTo>
                        <a:lnTo>
                          <a:pt x="44" y="11"/>
                        </a:lnTo>
                        <a:lnTo>
                          <a:pt x="33" y="11"/>
                        </a:lnTo>
                        <a:lnTo>
                          <a:pt x="22" y="11"/>
                        </a:lnTo>
                        <a:lnTo>
                          <a:pt x="11" y="11"/>
                        </a:lnTo>
                        <a:lnTo>
                          <a:pt x="11" y="0"/>
                        </a:lnTo>
                        <a:lnTo>
                          <a:pt x="0" y="0"/>
                        </a:lnTo>
                        <a:lnTo>
                          <a:pt x="0" y="23"/>
                        </a:lnTo>
                        <a:lnTo>
                          <a:pt x="11" y="23"/>
                        </a:lnTo>
                        <a:lnTo>
                          <a:pt x="22" y="23"/>
                        </a:lnTo>
                        <a:lnTo>
                          <a:pt x="33" y="23"/>
                        </a:lnTo>
                        <a:lnTo>
                          <a:pt x="44" y="23"/>
                        </a:lnTo>
                        <a:lnTo>
                          <a:pt x="55" y="23"/>
                        </a:lnTo>
                        <a:lnTo>
                          <a:pt x="55" y="11"/>
                        </a:lnTo>
                        <a:close/>
                      </a:path>
                    </a:pathLst>
                  </a:custGeom>
                  <a:solidFill>
                    <a:srgbClr val="000000"/>
                  </a:solidFill>
                  <a:ln w="0">
                    <a:noFill/>
                  </a:ln>
                </p:spPr>
                <p:style>
                  <a:lnRef idx="0"/>
                  <a:fillRef idx="0"/>
                  <a:effectRef idx="0"/>
                  <a:fontRef idx="minor"/>
                </p:style>
                <p:txBody>
                  <a:bodyPr lIns="90000" rIns="90000" tIns="-42840" bIns="-42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1547"/>
                  <p:cNvSpPr/>
                  <p:nvPr/>
                </p:nvSpPr>
                <p:spPr>
                  <a:xfrm rot="111600">
                    <a:off x="5698800" y="1119240"/>
                    <a:ext cx="13320" cy="19800"/>
                  </a:xfrm>
                  <a:custGeom>
                    <a:avLst/>
                    <a:gdLst>
                      <a:gd name="textAreaLeft" fmla="*/ 0 w 13320"/>
                      <a:gd name="textAreaRight" fmla="*/ 13680 w 13320"/>
                      <a:gd name="textAreaTop" fmla="*/ 0 h 19800"/>
                      <a:gd name="textAreaBottom" fmla="*/ 20160 h 19800"/>
                    </a:gdLst>
                    <a:ahLst/>
                    <a:rect l="textAreaLeft" t="textAreaTop" r="textAreaRight" b="textAreaBottom"/>
                    <a:pathLst>
                      <a:path w="123" h="123">
                        <a:moveTo>
                          <a:pt x="112" y="0"/>
                        </a:moveTo>
                        <a:lnTo>
                          <a:pt x="112" y="0"/>
                        </a:lnTo>
                        <a:lnTo>
                          <a:pt x="112" y="11"/>
                        </a:lnTo>
                        <a:lnTo>
                          <a:pt x="101" y="22"/>
                        </a:lnTo>
                        <a:lnTo>
                          <a:pt x="78" y="45"/>
                        </a:lnTo>
                        <a:lnTo>
                          <a:pt x="67" y="56"/>
                        </a:lnTo>
                        <a:lnTo>
                          <a:pt x="45" y="78"/>
                        </a:lnTo>
                        <a:lnTo>
                          <a:pt x="34" y="89"/>
                        </a:lnTo>
                        <a:lnTo>
                          <a:pt x="11" y="100"/>
                        </a:lnTo>
                        <a:lnTo>
                          <a:pt x="0" y="111"/>
                        </a:lnTo>
                        <a:lnTo>
                          <a:pt x="0" y="123"/>
                        </a:lnTo>
                        <a:lnTo>
                          <a:pt x="23" y="111"/>
                        </a:lnTo>
                        <a:lnTo>
                          <a:pt x="34" y="100"/>
                        </a:lnTo>
                        <a:lnTo>
                          <a:pt x="56" y="89"/>
                        </a:lnTo>
                        <a:lnTo>
                          <a:pt x="78" y="67"/>
                        </a:lnTo>
                        <a:lnTo>
                          <a:pt x="89" y="56"/>
                        </a:lnTo>
                        <a:lnTo>
                          <a:pt x="112" y="33"/>
                        </a:lnTo>
                        <a:lnTo>
                          <a:pt x="123" y="22"/>
                        </a:lnTo>
                        <a:lnTo>
                          <a:pt x="123" y="0"/>
                        </a:lnTo>
                        <a:lnTo>
                          <a:pt x="112" y="0"/>
                        </a:lnTo>
                        <a:close/>
                      </a:path>
                    </a:pathLst>
                  </a:custGeom>
                  <a:solidFill>
                    <a:srgbClr val="000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1546"/>
                  <p:cNvSpPr/>
                  <p:nvPr/>
                </p:nvSpPr>
                <p:spPr>
                  <a:xfrm rot="111600">
                    <a:off x="5711400" y="1089360"/>
                    <a:ext cx="6120" cy="30600"/>
                  </a:xfrm>
                  <a:custGeom>
                    <a:avLst/>
                    <a:gdLst>
                      <a:gd name="textAreaLeft" fmla="*/ 0 w 6120"/>
                      <a:gd name="textAreaRight" fmla="*/ 6480 w 6120"/>
                      <a:gd name="textAreaTop" fmla="*/ 0 h 30600"/>
                      <a:gd name="textAreaBottom" fmla="*/ 30960 h 30600"/>
                    </a:gdLst>
                    <a:ahLst/>
                    <a:rect l="textAreaLeft" t="textAreaTop" r="textAreaRight" b="textAreaBottom"/>
                    <a:pathLst>
                      <a:path w="56" h="190">
                        <a:moveTo>
                          <a:pt x="44" y="0"/>
                        </a:moveTo>
                        <a:lnTo>
                          <a:pt x="44" y="0"/>
                        </a:lnTo>
                        <a:lnTo>
                          <a:pt x="33" y="56"/>
                        </a:lnTo>
                        <a:lnTo>
                          <a:pt x="33" y="101"/>
                        </a:lnTo>
                        <a:lnTo>
                          <a:pt x="22" y="145"/>
                        </a:lnTo>
                        <a:lnTo>
                          <a:pt x="0" y="190"/>
                        </a:lnTo>
                        <a:lnTo>
                          <a:pt x="11" y="190"/>
                        </a:lnTo>
                        <a:lnTo>
                          <a:pt x="33" y="145"/>
                        </a:lnTo>
                        <a:lnTo>
                          <a:pt x="44" y="101"/>
                        </a:lnTo>
                        <a:lnTo>
                          <a:pt x="56" y="56"/>
                        </a:lnTo>
                        <a:lnTo>
                          <a:pt x="56" y="0"/>
                        </a:lnTo>
                        <a:lnTo>
                          <a:pt x="44" y="0"/>
                        </a:lnTo>
                        <a:close/>
                      </a:path>
                    </a:pathLst>
                  </a:custGeom>
                  <a:solidFill>
                    <a:srgbClr val="000000"/>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1545"/>
                  <p:cNvSpPr/>
                  <p:nvPr/>
                </p:nvSpPr>
                <p:spPr>
                  <a:xfrm rot="111600">
                    <a:off x="5715720" y="1080360"/>
                    <a:ext cx="2160" cy="8640"/>
                  </a:xfrm>
                  <a:custGeom>
                    <a:avLst/>
                    <a:gdLst>
                      <a:gd name="textAreaLeft" fmla="*/ 0 w 2160"/>
                      <a:gd name="textAreaRight" fmla="*/ 2520 w 2160"/>
                      <a:gd name="textAreaTop" fmla="*/ 0 h 8640"/>
                      <a:gd name="textAreaBottom" fmla="*/ 9000 h 8640"/>
                    </a:gdLst>
                    <a:ahLst/>
                    <a:rect l="textAreaLeft" t="textAreaTop" r="textAreaRight" b="textAreaBottom"/>
                    <a:pathLst>
                      <a:path w="23" h="55">
                        <a:moveTo>
                          <a:pt x="0" y="11"/>
                        </a:moveTo>
                        <a:lnTo>
                          <a:pt x="0" y="11"/>
                        </a:lnTo>
                        <a:lnTo>
                          <a:pt x="0" y="22"/>
                        </a:lnTo>
                        <a:lnTo>
                          <a:pt x="11" y="33"/>
                        </a:lnTo>
                        <a:lnTo>
                          <a:pt x="11" y="44"/>
                        </a:lnTo>
                        <a:lnTo>
                          <a:pt x="11" y="55"/>
                        </a:lnTo>
                        <a:lnTo>
                          <a:pt x="23" y="55"/>
                        </a:lnTo>
                        <a:lnTo>
                          <a:pt x="23" y="44"/>
                        </a:lnTo>
                        <a:lnTo>
                          <a:pt x="23" y="33"/>
                        </a:lnTo>
                        <a:lnTo>
                          <a:pt x="11" y="22"/>
                        </a:lnTo>
                        <a:lnTo>
                          <a:pt x="11" y="0"/>
                        </a:lnTo>
                        <a:lnTo>
                          <a:pt x="0" y="11"/>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1544"/>
                  <p:cNvSpPr/>
                  <p:nvPr/>
                </p:nvSpPr>
                <p:spPr>
                  <a:xfrm rot="111600">
                    <a:off x="5710320" y="1081800"/>
                    <a:ext cx="15840" cy="36000"/>
                  </a:xfrm>
                  <a:custGeom>
                    <a:avLst/>
                    <a:gdLst>
                      <a:gd name="textAreaLeft" fmla="*/ 0 w 15840"/>
                      <a:gd name="textAreaRight" fmla="*/ 16200 w 15840"/>
                      <a:gd name="textAreaTop" fmla="*/ 0 h 36000"/>
                      <a:gd name="textAreaBottom" fmla="*/ 36360 h 36000"/>
                    </a:gdLst>
                    <a:ahLst/>
                    <a:rect l="textAreaLeft" t="textAreaTop" r="textAreaRight" b="textAreaBottom"/>
                    <a:pathLst>
                      <a:path w="145" h="223">
                        <a:moveTo>
                          <a:pt x="100" y="11"/>
                        </a:moveTo>
                        <a:lnTo>
                          <a:pt x="55" y="0"/>
                        </a:lnTo>
                        <a:lnTo>
                          <a:pt x="22" y="22"/>
                        </a:lnTo>
                        <a:lnTo>
                          <a:pt x="11" y="56"/>
                        </a:lnTo>
                        <a:lnTo>
                          <a:pt x="0" y="111"/>
                        </a:lnTo>
                        <a:lnTo>
                          <a:pt x="0" y="156"/>
                        </a:lnTo>
                        <a:lnTo>
                          <a:pt x="22" y="201"/>
                        </a:lnTo>
                        <a:lnTo>
                          <a:pt x="55" y="223"/>
                        </a:lnTo>
                        <a:lnTo>
                          <a:pt x="100" y="223"/>
                        </a:lnTo>
                        <a:lnTo>
                          <a:pt x="100" y="212"/>
                        </a:lnTo>
                        <a:lnTo>
                          <a:pt x="111" y="212"/>
                        </a:lnTo>
                        <a:lnTo>
                          <a:pt x="122" y="212"/>
                        </a:lnTo>
                        <a:lnTo>
                          <a:pt x="122" y="201"/>
                        </a:lnTo>
                        <a:lnTo>
                          <a:pt x="122" y="189"/>
                        </a:lnTo>
                        <a:lnTo>
                          <a:pt x="133" y="189"/>
                        </a:lnTo>
                        <a:lnTo>
                          <a:pt x="133" y="178"/>
                        </a:lnTo>
                        <a:lnTo>
                          <a:pt x="145" y="134"/>
                        </a:lnTo>
                        <a:lnTo>
                          <a:pt x="145" y="100"/>
                        </a:lnTo>
                        <a:lnTo>
                          <a:pt x="145" y="67"/>
                        </a:lnTo>
                        <a:lnTo>
                          <a:pt x="122" y="33"/>
                        </a:lnTo>
                        <a:lnTo>
                          <a:pt x="122" y="22"/>
                        </a:lnTo>
                        <a:lnTo>
                          <a:pt x="111" y="11"/>
                        </a:lnTo>
                        <a:lnTo>
                          <a:pt x="100" y="11"/>
                        </a:lnTo>
                        <a:close/>
                      </a:path>
                    </a:pathLst>
                  </a:custGeom>
                  <a:solidFill>
                    <a:srgbClr val="5475e8"/>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1543"/>
                  <p:cNvSpPr/>
                  <p:nvPr/>
                </p:nvSpPr>
                <p:spPr>
                  <a:xfrm rot="111600">
                    <a:off x="5709240" y="1080000"/>
                    <a:ext cx="12240" cy="39600"/>
                  </a:xfrm>
                  <a:custGeom>
                    <a:avLst/>
                    <a:gdLst>
                      <a:gd name="textAreaLeft" fmla="*/ 0 w 12240"/>
                      <a:gd name="textAreaRight" fmla="*/ 12600 w 12240"/>
                      <a:gd name="textAreaTop" fmla="*/ 0 h 39600"/>
                      <a:gd name="textAreaBottom" fmla="*/ 39960 h 39600"/>
                    </a:gdLst>
                    <a:ahLst/>
                    <a:rect l="textAreaLeft" t="textAreaTop" r="textAreaRight" b="textAreaBottom"/>
                    <a:pathLst>
                      <a:path w="112" h="245">
                        <a:moveTo>
                          <a:pt x="112" y="223"/>
                        </a:moveTo>
                        <a:lnTo>
                          <a:pt x="112" y="223"/>
                        </a:lnTo>
                        <a:lnTo>
                          <a:pt x="67" y="234"/>
                        </a:lnTo>
                        <a:lnTo>
                          <a:pt x="34" y="212"/>
                        </a:lnTo>
                        <a:lnTo>
                          <a:pt x="23" y="167"/>
                        </a:lnTo>
                        <a:lnTo>
                          <a:pt x="23" y="122"/>
                        </a:lnTo>
                        <a:lnTo>
                          <a:pt x="23" y="67"/>
                        </a:lnTo>
                        <a:lnTo>
                          <a:pt x="45" y="33"/>
                        </a:lnTo>
                        <a:lnTo>
                          <a:pt x="67" y="11"/>
                        </a:lnTo>
                        <a:lnTo>
                          <a:pt x="112" y="22"/>
                        </a:lnTo>
                        <a:lnTo>
                          <a:pt x="112" y="11"/>
                        </a:lnTo>
                        <a:lnTo>
                          <a:pt x="67" y="0"/>
                        </a:lnTo>
                        <a:lnTo>
                          <a:pt x="34" y="22"/>
                        </a:lnTo>
                        <a:lnTo>
                          <a:pt x="12" y="67"/>
                        </a:lnTo>
                        <a:lnTo>
                          <a:pt x="0" y="122"/>
                        </a:lnTo>
                        <a:lnTo>
                          <a:pt x="12" y="167"/>
                        </a:lnTo>
                        <a:lnTo>
                          <a:pt x="23" y="223"/>
                        </a:lnTo>
                        <a:lnTo>
                          <a:pt x="67" y="245"/>
                        </a:lnTo>
                        <a:lnTo>
                          <a:pt x="112" y="234"/>
                        </a:lnTo>
                        <a:lnTo>
                          <a:pt x="112" y="223"/>
                        </a:lnTo>
                        <a:close/>
                      </a:path>
                    </a:pathLst>
                  </a:custGeom>
                  <a:solidFill>
                    <a:srgbClr val="000000"/>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1542"/>
                  <p:cNvSpPr/>
                  <p:nvPr/>
                </p:nvSpPr>
                <p:spPr>
                  <a:xfrm rot="111600">
                    <a:off x="5720760" y="1114560"/>
                    <a:ext cx="2160" cy="3240"/>
                  </a:xfrm>
                  <a:custGeom>
                    <a:avLst/>
                    <a:gdLst>
                      <a:gd name="textAreaLeft" fmla="*/ 0 w 2160"/>
                      <a:gd name="textAreaRight" fmla="*/ 2520 w 2160"/>
                      <a:gd name="textAreaTop" fmla="*/ 0 h 3240"/>
                      <a:gd name="textAreaBottom" fmla="*/ 3600 h 3240"/>
                    </a:gdLst>
                    <a:ahLst/>
                    <a:rect l="textAreaLeft" t="textAreaTop" r="textAreaRight" b="textAreaBottom"/>
                    <a:pathLst>
                      <a:path w="22" h="22">
                        <a:moveTo>
                          <a:pt x="11" y="11"/>
                        </a:moveTo>
                        <a:lnTo>
                          <a:pt x="22" y="0"/>
                        </a:lnTo>
                        <a:lnTo>
                          <a:pt x="11" y="0"/>
                        </a:lnTo>
                        <a:lnTo>
                          <a:pt x="0" y="11"/>
                        </a:lnTo>
                        <a:lnTo>
                          <a:pt x="0" y="22"/>
                        </a:lnTo>
                        <a:lnTo>
                          <a:pt x="11" y="22"/>
                        </a:lnTo>
                        <a:lnTo>
                          <a:pt x="11" y="11"/>
                        </a:lnTo>
                        <a:lnTo>
                          <a:pt x="22" y="11"/>
                        </a:lnTo>
                        <a:lnTo>
                          <a:pt x="11" y="11"/>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1541"/>
                  <p:cNvSpPr/>
                  <p:nvPr/>
                </p:nvSpPr>
                <p:spPr>
                  <a:xfrm rot="111600">
                    <a:off x="5721840" y="1111320"/>
                    <a:ext cx="3600" cy="5400"/>
                  </a:xfrm>
                  <a:custGeom>
                    <a:avLst/>
                    <a:gdLst>
                      <a:gd name="textAreaLeft" fmla="*/ 0 w 3600"/>
                      <a:gd name="textAreaRight" fmla="*/ 3960 w 3600"/>
                      <a:gd name="textAreaTop" fmla="*/ 0 h 5400"/>
                      <a:gd name="textAreaBottom" fmla="*/ 5760 h 5400"/>
                    </a:gdLst>
                    <a:ahLst/>
                    <a:rect l="textAreaLeft" t="textAreaTop" r="textAreaRight" b="textAreaBottom"/>
                    <a:pathLst>
                      <a:path w="34" h="34">
                        <a:moveTo>
                          <a:pt x="22" y="0"/>
                        </a:moveTo>
                        <a:lnTo>
                          <a:pt x="22" y="0"/>
                        </a:lnTo>
                        <a:lnTo>
                          <a:pt x="11" y="0"/>
                        </a:lnTo>
                        <a:lnTo>
                          <a:pt x="11" y="11"/>
                        </a:lnTo>
                        <a:lnTo>
                          <a:pt x="0" y="23"/>
                        </a:lnTo>
                        <a:lnTo>
                          <a:pt x="0" y="34"/>
                        </a:lnTo>
                        <a:lnTo>
                          <a:pt x="11" y="34"/>
                        </a:lnTo>
                        <a:lnTo>
                          <a:pt x="22" y="23"/>
                        </a:lnTo>
                        <a:lnTo>
                          <a:pt x="22" y="11"/>
                        </a:lnTo>
                        <a:lnTo>
                          <a:pt x="34" y="0"/>
                        </a:lnTo>
                        <a:lnTo>
                          <a:pt x="22" y="0"/>
                        </a:lnTo>
                        <a:close/>
                      </a:path>
                    </a:pathLst>
                  </a:custGeom>
                  <a:solidFill>
                    <a:srgbClr val="000000"/>
                  </a:solidFill>
                  <a:ln w="0">
                    <a:noFill/>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1540"/>
                  <p:cNvSpPr/>
                  <p:nvPr/>
                </p:nvSpPr>
                <p:spPr>
                  <a:xfrm rot="111600">
                    <a:off x="5723640" y="1086120"/>
                    <a:ext cx="3600" cy="25200"/>
                  </a:xfrm>
                  <a:custGeom>
                    <a:avLst/>
                    <a:gdLst>
                      <a:gd name="textAreaLeft" fmla="*/ 0 w 3600"/>
                      <a:gd name="textAreaRight" fmla="*/ 3960 w 3600"/>
                      <a:gd name="textAreaTop" fmla="*/ 0 h 25200"/>
                      <a:gd name="textAreaBottom" fmla="*/ 25560 h 25200"/>
                    </a:gdLst>
                    <a:ahLst/>
                    <a:rect l="textAreaLeft" t="textAreaTop" r="textAreaRight" b="textAreaBottom"/>
                    <a:pathLst>
                      <a:path w="34" h="156">
                        <a:moveTo>
                          <a:pt x="0" y="11"/>
                        </a:moveTo>
                        <a:lnTo>
                          <a:pt x="0" y="11"/>
                        </a:lnTo>
                        <a:lnTo>
                          <a:pt x="11" y="45"/>
                        </a:lnTo>
                        <a:lnTo>
                          <a:pt x="23" y="78"/>
                        </a:lnTo>
                        <a:lnTo>
                          <a:pt x="23" y="112"/>
                        </a:lnTo>
                        <a:lnTo>
                          <a:pt x="11" y="156"/>
                        </a:lnTo>
                        <a:lnTo>
                          <a:pt x="23" y="156"/>
                        </a:lnTo>
                        <a:lnTo>
                          <a:pt x="34" y="112"/>
                        </a:lnTo>
                        <a:lnTo>
                          <a:pt x="34" y="78"/>
                        </a:lnTo>
                        <a:lnTo>
                          <a:pt x="23" y="45"/>
                        </a:lnTo>
                        <a:lnTo>
                          <a:pt x="11" y="11"/>
                        </a:lnTo>
                        <a:lnTo>
                          <a:pt x="11" y="0"/>
                        </a:lnTo>
                        <a:lnTo>
                          <a:pt x="0" y="11"/>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1539"/>
                  <p:cNvSpPr/>
                  <p:nvPr/>
                </p:nvSpPr>
                <p:spPr>
                  <a:xfrm rot="111600">
                    <a:off x="5721840" y="1082160"/>
                    <a:ext cx="3240" cy="5040"/>
                  </a:xfrm>
                  <a:custGeom>
                    <a:avLst/>
                    <a:gdLst>
                      <a:gd name="textAreaLeft" fmla="*/ 0 w 3240"/>
                      <a:gd name="textAreaRight" fmla="*/ 3600 w 3240"/>
                      <a:gd name="textAreaTop" fmla="*/ 0 h 5040"/>
                      <a:gd name="textAreaBottom" fmla="*/ 5400 h 5040"/>
                    </a:gdLst>
                    <a:ahLst/>
                    <a:rect l="textAreaLeft" t="textAreaTop" r="textAreaRight" b="textAreaBottom"/>
                    <a:pathLst>
                      <a:path w="33" h="33">
                        <a:moveTo>
                          <a:pt x="0" y="11"/>
                        </a:moveTo>
                        <a:lnTo>
                          <a:pt x="0" y="11"/>
                        </a:lnTo>
                        <a:lnTo>
                          <a:pt x="11" y="22"/>
                        </a:lnTo>
                        <a:lnTo>
                          <a:pt x="22" y="33"/>
                        </a:lnTo>
                        <a:lnTo>
                          <a:pt x="33" y="22"/>
                        </a:lnTo>
                        <a:lnTo>
                          <a:pt x="22" y="22"/>
                        </a:lnTo>
                        <a:lnTo>
                          <a:pt x="22" y="11"/>
                        </a:lnTo>
                        <a:lnTo>
                          <a:pt x="11" y="0"/>
                        </a:lnTo>
                        <a:lnTo>
                          <a:pt x="0" y="0"/>
                        </a:lnTo>
                        <a:lnTo>
                          <a:pt x="0" y="11"/>
                        </a:lnTo>
                        <a:close/>
                      </a:path>
                    </a:pathLst>
                  </a:custGeom>
                  <a:solidFill>
                    <a:srgbClr val="000000"/>
                  </a:solidFill>
                  <a:ln w="0">
                    <a:no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1538"/>
                  <p:cNvSpPr/>
                  <p:nvPr/>
                </p:nvSpPr>
                <p:spPr>
                  <a:xfrm rot="111600">
                    <a:off x="5722200" y="1061280"/>
                    <a:ext cx="30240" cy="93600"/>
                  </a:xfrm>
                  <a:custGeom>
                    <a:avLst/>
                    <a:gdLst>
                      <a:gd name="textAreaLeft" fmla="*/ 0 w 30240"/>
                      <a:gd name="textAreaRight" fmla="*/ 30600 w 30240"/>
                      <a:gd name="textAreaTop" fmla="*/ 0 h 93600"/>
                      <a:gd name="textAreaBottom" fmla="*/ 93960 h 93600"/>
                    </a:gdLst>
                    <a:ahLst/>
                    <a:rect l="textAreaLeft" t="textAreaTop" r="textAreaRight" b="textAreaBottom"/>
                    <a:pathLst>
                      <a:path w="279" h="580">
                        <a:moveTo>
                          <a:pt x="34" y="178"/>
                        </a:moveTo>
                        <a:lnTo>
                          <a:pt x="45" y="145"/>
                        </a:lnTo>
                        <a:lnTo>
                          <a:pt x="78" y="123"/>
                        </a:lnTo>
                        <a:lnTo>
                          <a:pt x="100" y="89"/>
                        </a:lnTo>
                        <a:lnTo>
                          <a:pt x="123" y="56"/>
                        </a:lnTo>
                        <a:lnTo>
                          <a:pt x="156" y="22"/>
                        </a:lnTo>
                        <a:lnTo>
                          <a:pt x="190" y="11"/>
                        </a:lnTo>
                        <a:lnTo>
                          <a:pt x="212" y="0"/>
                        </a:lnTo>
                        <a:lnTo>
                          <a:pt x="245" y="0"/>
                        </a:lnTo>
                        <a:lnTo>
                          <a:pt x="256" y="22"/>
                        </a:lnTo>
                        <a:lnTo>
                          <a:pt x="268" y="67"/>
                        </a:lnTo>
                        <a:lnTo>
                          <a:pt x="279" y="123"/>
                        </a:lnTo>
                        <a:lnTo>
                          <a:pt x="279" y="190"/>
                        </a:lnTo>
                        <a:lnTo>
                          <a:pt x="268" y="256"/>
                        </a:lnTo>
                        <a:lnTo>
                          <a:pt x="268" y="323"/>
                        </a:lnTo>
                        <a:lnTo>
                          <a:pt x="245" y="390"/>
                        </a:lnTo>
                        <a:lnTo>
                          <a:pt x="234" y="446"/>
                        </a:lnTo>
                        <a:lnTo>
                          <a:pt x="223" y="468"/>
                        </a:lnTo>
                        <a:lnTo>
                          <a:pt x="212" y="502"/>
                        </a:lnTo>
                        <a:lnTo>
                          <a:pt x="201" y="524"/>
                        </a:lnTo>
                        <a:lnTo>
                          <a:pt x="178" y="557"/>
                        </a:lnTo>
                        <a:lnTo>
                          <a:pt x="156" y="569"/>
                        </a:lnTo>
                        <a:lnTo>
                          <a:pt x="134" y="580"/>
                        </a:lnTo>
                        <a:lnTo>
                          <a:pt x="112" y="580"/>
                        </a:lnTo>
                        <a:lnTo>
                          <a:pt x="89" y="557"/>
                        </a:lnTo>
                        <a:lnTo>
                          <a:pt x="78" y="546"/>
                        </a:lnTo>
                        <a:lnTo>
                          <a:pt x="67" y="524"/>
                        </a:lnTo>
                        <a:lnTo>
                          <a:pt x="56" y="502"/>
                        </a:lnTo>
                        <a:lnTo>
                          <a:pt x="45" y="479"/>
                        </a:lnTo>
                        <a:lnTo>
                          <a:pt x="45" y="457"/>
                        </a:lnTo>
                        <a:lnTo>
                          <a:pt x="34" y="424"/>
                        </a:lnTo>
                        <a:lnTo>
                          <a:pt x="22" y="401"/>
                        </a:lnTo>
                        <a:lnTo>
                          <a:pt x="11" y="379"/>
                        </a:lnTo>
                        <a:lnTo>
                          <a:pt x="11" y="357"/>
                        </a:lnTo>
                        <a:lnTo>
                          <a:pt x="0" y="335"/>
                        </a:lnTo>
                        <a:lnTo>
                          <a:pt x="11" y="301"/>
                        </a:lnTo>
                        <a:lnTo>
                          <a:pt x="11" y="279"/>
                        </a:lnTo>
                        <a:lnTo>
                          <a:pt x="11" y="256"/>
                        </a:lnTo>
                        <a:lnTo>
                          <a:pt x="22" y="223"/>
                        </a:lnTo>
                        <a:lnTo>
                          <a:pt x="22" y="201"/>
                        </a:lnTo>
                        <a:lnTo>
                          <a:pt x="34" y="178"/>
                        </a:lnTo>
                        <a:close/>
                      </a:path>
                    </a:pathLst>
                  </a:custGeom>
                  <a:solidFill>
                    <a:srgbClr val="5475e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1537"/>
                  <p:cNvSpPr/>
                  <p:nvPr/>
                </p:nvSpPr>
                <p:spPr>
                  <a:xfrm rot="111600">
                    <a:off x="5725800" y="1059480"/>
                    <a:ext cx="24120" cy="30240"/>
                  </a:xfrm>
                  <a:custGeom>
                    <a:avLst/>
                    <a:gdLst>
                      <a:gd name="textAreaLeft" fmla="*/ 0 w 24120"/>
                      <a:gd name="textAreaRight" fmla="*/ 24480 w 24120"/>
                      <a:gd name="textAreaTop" fmla="*/ 0 h 30240"/>
                      <a:gd name="textAreaBottom" fmla="*/ 30600 h 30240"/>
                    </a:gdLst>
                    <a:ahLst/>
                    <a:rect l="textAreaLeft" t="textAreaTop" r="textAreaRight" b="textAreaBottom"/>
                    <a:pathLst>
                      <a:path w="223" h="189">
                        <a:moveTo>
                          <a:pt x="223" y="11"/>
                        </a:moveTo>
                        <a:lnTo>
                          <a:pt x="223" y="11"/>
                        </a:lnTo>
                        <a:lnTo>
                          <a:pt x="190" y="0"/>
                        </a:lnTo>
                        <a:lnTo>
                          <a:pt x="156" y="11"/>
                        </a:lnTo>
                        <a:lnTo>
                          <a:pt x="134" y="33"/>
                        </a:lnTo>
                        <a:lnTo>
                          <a:pt x="101" y="56"/>
                        </a:lnTo>
                        <a:lnTo>
                          <a:pt x="67" y="89"/>
                        </a:lnTo>
                        <a:lnTo>
                          <a:pt x="45" y="123"/>
                        </a:lnTo>
                        <a:lnTo>
                          <a:pt x="23" y="156"/>
                        </a:lnTo>
                        <a:lnTo>
                          <a:pt x="0" y="189"/>
                        </a:lnTo>
                        <a:lnTo>
                          <a:pt x="23" y="189"/>
                        </a:lnTo>
                        <a:lnTo>
                          <a:pt x="34" y="167"/>
                        </a:lnTo>
                        <a:lnTo>
                          <a:pt x="56" y="134"/>
                        </a:lnTo>
                        <a:lnTo>
                          <a:pt x="78" y="100"/>
                        </a:lnTo>
                        <a:lnTo>
                          <a:pt x="112" y="67"/>
                        </a:lnTo>
                        <a:lnTo>
                          <a:pt x="134" y="45"/>
                        </a:lnTo>
                        <a:lnTo>
                          <a:pt x="168" y="33"/>
                        </a:lnTo>
                        <a:lnTo>
                          <a:pt x="190" y="22"/>
                        </a:lnTo>
                        <a:lnTo>
                          <a:pt x="212" y="22"/>
                        </a:lnTo>
                        <a:lnTo>
                          <a:pt x="223" y="11"/>
                        </a:lnTo>
                        <a:close/>
                      </a:path>
                    </a:pathLst>
                  </a:custGeom>
                  <a:solidFill>
                    <a:srgbClr val="000000"/>
                  </a:solidFill>
                  <a:ln w="0">
                    <a:no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1536"/>
                  <p:cNvSpPr/>
                  <p:nvPr/>
                </p:nvSpPr>
                <p:spPr>
                  <a:xfrm rot="111600">
                    <a:off x="5748120" y="1061640"/>
                    <a:ext cx="6120" cy="72000"/>
                  </a:xfrm>
                  <a:custGeom>
                    <a:avLst/>
                    <a:gdLst>
                      <a:gd name="textAreaLeft" fmla="*/ 0 w 6120"/>
                      <a:gd name="textAreaRight" fmla="*/ 6480 w 6120"/>
                      <a:gd name="textAreaTop" fmla="*/ 0 h 72000"/>
                      <a:gd name="textAreaBottom" fmla="*/ 72360 h 72000"/>
                    </a:gdLst>
                    <a:ahLst/>
                    <a:rect l="textAreaLeft" t="textAreaTop" r="textAreaRight" b="textAreaBottom"/>
                    <a:pathLst>
                      <a:path w="56" h="446">
                        <a:moveTo>
                          <a:pt x="11" y="446"/>
                        </a:moveTo>
                        <a:lnTo>
                          <a:pt x="11" y="446"/>
                        </a:lnTo>
                        <a:lnTo>
                          <a:pt x="22" y="390"/>
                        </a:lnTo>
                        <a:lnTo>
                          <a:pt x="34" y="323"/>
                        </a:lnTo>
                        <a:lnTo>
                          <a:pt x="45" y="256"/>
                        </a:lnTo>
                        <a:lnTo>
                          <a:pt x="56" y="190"/>
                        </a:lnTo>
                        <a:lnTo>
                          <a:pt x="56" y="123"/>
                        </a:lnTo>
                        <a:lnTo>
                          <a:pt x="45" y="67"/>
                        </a:lnTo>
                        <a:lnTo>
                          <a:pt x="34" y="22"/>
                        </a:lnTo>
                        <a:lnTo>
                          <a:pt x="11" y="0"/>
                        </a:lnTo>
                        <a:lnTo>
                          <a:pt x="0" y="11"/>
                        </a:lnTo>
                        <a:lnTo>
                          <a:pt x="22" y="22"/>
                        </a:lnTo>
                        <a:lnTo>
                          <a:pt x="34" y="67"/>
                        </a:lnTo>
                        <a:lnTo>
                          <a:pt x="34" y="123"/>
                        </a:lnTo>
                        <a:lnTo>
                          <a:pt x="34" y="190"/>
                        </a:lnTo>
                        <a:lnTo>
                          <a:pt x="34" y="256"/>
                        </a:lnTo>
                        <a:lnTo>
                          <a:pt x="22" y="323"/>
                        </a:lnTo>
                        <a:lnTo>
                          <a:pt x="11" y="390"/>
                        </a:lnTo>
                        <a:lnTo>
                          <a:pt x="0" y="446"/>
                        </a:lnTo>
                        <a:lnTo>
                          <a:pt x="11" y="446"/>
                        </a:lnTo>
                        <a:close/>
                      </a:path>
                    </a:pathLst>
                  </a:custGeom>
                  <a:solidFill>
                    <a:srgbClr val="000000"/>
                  </a:solidFill>
                  <a:ln w="0">
                    <a:no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1535"/>
                  <p:cNvSpPr/>
                  <p:nvPr/>
                </p:nvSpPr>
                <p:spPr>
                  <a:xfrm rot="111600">
                    <a:off x="5729400" y="1132920"/>
                    <a:ext cx="18000" cy="23400"/>
                  </a:xfrm>
                  <a:custGeom>
                    <a:avLst/>
                    <a:gdLst>
                      <a:gd name="textAreaLeft" fmla="*/ 0 w 18000"/>
                      <a:gd name="textAreaRight" fmla="*/ 18360 w 18000"/>
                      <a:gd name="textAreaTop" fmla="*/ 0 h 23400"/>
                      <a:gd name="textAreaBottom" fmla="*/ 23760 h 23400"/>
                    </a:gdLst>
                    <a:ahLst/>
                    <a:rect l="textAreaLeft" t="textAreaTop" r="textAreaRight" b="textAreaBottom"/>
                    <a:pathLst>
                      <a:path w="167" h="145">
                        <a:moveTo>
                          <a:pt x="0" y="123"/>
                        </a:moveTo>
                        <a:lnTo>
                          <a:pt x="0" y="123"/>
                        </a:lnTo>
                        <a:lnTo>
                          <a:pt x="34" y="145"/>
                        </a:lnTo>
                        <a:lnTo>
                          <a:pt x="56" y="145"/>
                        </a:lnTo>
                        <a:lnTo>
                          <a:pt x="89" y="134"/>
                        </a:lnTo>
                        <a:lnTo>
                          <a:pt x="112" y="111"/>
                        </a:lnTo>
                        <a:lnTo>
                          <a:pt x="134" y="89"/>
                        </a:lnTo>
                        <a:lnTo>
                          <a:pt x="145" y="56"/>
                        </a:lnTo>
                        <a:lnTo>
                          <a:pt x="156" y="22"/>
                        </a:lnTo>
                        <a:lnTo>
                          <a:pt x="167" y="0"/>
                        </a:lnTo>
                        <a:lnTo>
                          <a:pt x="156" y="0"/>
                        </a:lnTo>
                        <a:lnTo>
                          <a:pt x="145" y="22"/>
                        </a:lnTo>
                        <a:lnTo>
                          <a:pt x="134" y="45"/>
                        </a:lnTo>
                        <a:lnTo>
                          <a:pt x="112" y="78"/>
                        </a:lnTo>
                        <a:lnTo>
                          <a:pt x="100" y="100"/>
                        </a:lnTo>
                        <a:lnTo>
                          <a:pt x="78" y="123"/>
                        </a:lnTo>
                        <a:lnTo>
                          <a:pt x="56" y="134"/>
                        </a:lnTo>
                        <a:lnTo>
                          <a:pt x="34" y="134"/>
                        </a:lnTo>
                        <a:lnTo>
                          <a:pt x="11" y="111"/>
                        </a:lnTo>
                        <a:lnTo>
                          <a:pt x="0" y="123"/>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1534"/>
                  <p:cNvSpPr/>
                  <p:nvPr/>
                </p:nvSpPr>
                <p:spPr>
                  <a:xfrm rot="111600">
                    <a:off x="5722200" y="1120320"/>
                    <a:ext cx="8280" cy="32400"/>
                  </a:xfrm>
                  <a:custGeom>
                    <a:avLst/>
                    <a:gdLst>
                      <a:gd name="textAreaLeft" fmla="*/ 0 w 8280"/>
                      <a:gd name="textAreaRight" fmla="*/ 8640 w 8280"/>
                      <a:gd name="textAreaTop" fmla="*/ 0 h 32400"/>
                      <a:gd name="textAreaBottom" fmla="*/ 32760 h 32400"/>
                    </a:gdLst>
                    <a:ahLst/>
                    <a:rect l="textAreaLeft" t="textAreaTop" r="textAreaRight" b="textAreaBottom"/>
                    <a:pathLst>
                      <a:path w="78" h="201">
                        <a:moveTo>
                          <a:pt x="0" y="11"/>
                        </a:moveTo>
                        <a:lnTo>
                          <a:pt x="0" y="11"/>
                        </a:lnTo>
                        <a:lnTo>
                          <a:pt x="0" y="33"/>
                        </a:lnTo>
                        <a:lnTo>
                          <a:pt x="11" y="56"/>
                        </a:lnTo>
                        <a:lnTo>
                          <a:pt x="23" y="89"/>
                        </a:lnTo>
                        <a:lnTo>
                          <a:pt x="34" y="111"/>
                        </a:lnTo>
                        <a:lnTo>
                          <a:pt x="34" y="134"/>
                        </a:lnTo>
                        <a:lnTo>
                          <a:pt x="45" y="167"/>
                        </a:lnTo>
                        <a:lnTo>
                          <a:pt x="56" y="189"/>
                        </a:lnTo>
                        <a:lnTo>
                          <a:pt x="67" y="201"/>
                        </a:lnTo>
                        <a:lnTo>
                          <a:pt x="78" y="189"/>
                        </a:lnTo>
                        <a:lnTo>
                          <a:pt x="67" y="178"/>
                        </a:lnTo>
                        <a:lnTo>
                          <a:pt x="56" y="156"/>
                        </a:lnTo>
                        <a:lnTo>
                          <a:pt x="56" y="134"/>
                        </a:lnTo>
                        <a:lnTo>
                          <a:pt x="45" y="111"/>
                        </a:lnTo>
                        <a:lnTo>
                          <a:pt x="34" y="78"/>
                        </a:lnTo>
                        <a:lnTo>
                          <a:pt x="23" y="56"/>
                        </a:lnTo>
                        <a:lnTo>
                          <a:pt x="23" y="33"/>
                        </a:lnTo>
                        <a:lnTo>
                          <a:pt x="11" y="0"/>
                        </a:lnTo>
                        <a:lnTo>
                          <a:pt x="0" y="11"/>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1533"/>
                  <p:cNvSpPr/>
                  <p:nvPr/>
                </p:nvSpPr>
                <p:spPr>
                  <a:xfrm rot="111600">
                    <a:off x="5722200" y="1089720"/>
                    <a:ext cx="4680" cy="32400"/>
                  </a:xfrm>
                  <a:custGeom>
                    <a:avLst/>
                    <a:gdLst>
                      <a:gd name="textAreaLeft" fmla="*/ 0 w 4680"/>
                      <a:gd name="textAreaRight" fmla="*/ 5040 w 4680"/>
                      <a:gd name="textAreaTop" fmla="*/ 0 h 32400"/>
                      <a:gd name="textAreaBottom" fmla="*/ 32760 h 32400"/>
                    </a:gdLst>
                    <a:ahLst/>
                    <a:rect l="textAreaLeft" t="textAreaTop" r="textAreaRight" b="textAreaBottom"/>
                    <a:pathLst>
                      <a:path w="45" h="201">
                        <a:moveTo>
                          <a:pt x="22" y="0"/>
                        </a:moveTo>
                        <a:lnTo>
                          <a:pt x="22" y="0"/>
                        </a:lnTo>
                        <a:lnTo>
                          <a:pt x="22" y="23"/>
                        </a:lnTo>
                        <a:lnTo>
                          <a:pt x="11" y="45"/>
                        </a:lnTo>
                        <a:lnTo>
                          <a:pt x="11" y="67"/>
                        </a:lnTo>
                        <a:lnTo>
                          <a:pt x="0" y="101"/>
                        </a:lnTo>
                        <a:lnTo>
                          <a:pt x="0" y="123"/>
                        </a:lnTo>
                        <a:lnTo>
                          <a:pt x="0" y="157"/>
                        </a:lnTo>
                        <a:lnTo>
                          <a:pt x="0" y="179"/>
                        </a:lnTo>
                        <a:lnTo>
                          <a:pt x="11" y="201"/>
                        </a:lnTo>
                        <a:lnTo>
                          <a:pt x="22" y="190"/>
                        </a:lnTo>
                        <a:lnTo>
                          <a:pt x="11" y="179"/>
                        </a:lnTo>
                        <a:lnTo>
                          <a:pt x="11" y="157"/>
                        </a:lnTo>
                        <a:lnTo>
                          <a:pt x="11" y="123"/>
                        </a:lnTo>
                        <a:lnTo>
                          <a:pt x="11" y="101"/>
                        </a:lnTo>
                        <a:lnTo>
                          <a:pt x="22" y="78"/>
                        </a:lnTo>
                        <a:lnTo>
                          <a:pt x="22" y="45"/>
                        </a:lnTo>
                        <a:lnTo>
                          <a:pt x="34" y="23"/>
                        </a:lnTo>
                        <a:lnTo>
                          <a:pt x="45" y="0"/>
                        </a:lnTo>
                        <a:lnTo>
                          <a:pt x="22" y="0"/>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1532"/>
                  <p:cNvSpPr/>
                  <p:nvPr/>
                </p:nvSpPr>
                <p:spPr>
                  <a:xfrm rot="111600">
                    <a:off x="5802840" y="1074240"/>
                    <a:ext cx="2160" cy="5040"/>
                  </a:xfrm>
                  <a:custGeom>
                    <a:avLst/>
                    <a:gdLst>
                      <a:gd name="textAreaLeft" fmla="*/ 0 w 2160"/>
                      <a:gd name="textAreaRight" fmla="*/ 2520 w 2160"/>
                      <a:gd name="textAreaTop" fmla="*/ 0 h 5040"/>
                      <a:gd name="textAreaBottom" fmla="*/ 5400 h 5040"/>
                    </a:gdLst>
                    <a:ahLst/>
                    <a:rect l="textAreaLeft" t="textAreaTop" r="textAreaRight" b="textAreaBottom"/>
                    <a:pathLst>
                      <a:path w="22" h="33">
                        <a:moveTo>
                          <a:pt x="22" y="11"/>
                        </a:moveTo>
                        <a:lnTo>
                          <a:pt x="22" y="0"/>
                        </a:lnTo>
                        <a:lnTo>
                          <a:pt x="11" y="0"/>
                        </a:lnTo>
                        <a:lnTo>
                          <a:pt x="0" y="11"/>
                        </a:lnTo>
                        <a:lnTo>
                          <a:pt x="0" y="22"/>
                        </a:lnTo>
                        <a:lnTo>
                          <a:pt x="0" y="33"/>
                        </a:lnTo>
                        <a:lnTo>
                          <a:pt x="22" y="11"/>
                        </a:lnTo>
                        <a:close/>
                      </a:path>
                    </a:pathLst>
                  </a:custGeom>
                  <a:solidFill>
                    <a:srgbClr val="000000"/>
                  </a:solidFill>
                  <a:ln w="0">
                    <a:no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1531"/>
                  <p:cNvSpPr/>
                  <p:nvPr/>
                </p:nvSpPr>
                <p:spPr>
                  <a:xfrm rot="111600">
                    <a:off x="5802840" y="1076040"/>
                    <a:ext cx="8280" cy="19800"/>
                  </a:xfrm>
                  <a:custGeom>
                    <a:avLst/>
                    <a:gdLst>
                      <a:gd name="textAreaLeft" fmla="*/ 0 w 8280"/>
                      <a:gd name="textAreaRight" fmla="*/ 8640 w 8280"/>
                      <a:gd name="textAreaTop" fmla="*/ 0 h 19800"/>
                      <a:gd name="textAreaBottom" fmla="*/ 20160 h 19800"/>
                    </a:gdLst>
                    <a:ahLst/>
                    <a:rect l="textAreaLeft" t="textAreaTop" r="textAreaRight" b="textAreaBottom"/>
                    <a:pathLst>
                      <a:path w="78" h="123">
                        <a:moveTo>
                          <a:pt x="78" y="112"/>
                        </a:moveTo>
                        <a:lnTo>
                          <a:pt x="78" y="100"/>
                        </a:lnTo>
                        <a:lnTo>
                          <a:pt x="78" y="89"/>
                        </a:lnTo>
                        <a:lnTo>
                          <a:pt x="66" y="67"/>
                        </a:lnTo>
                        <a:lnTo>
                          <a:pt x="55" y="56"/>
                        </a:lnTo>
                        <a:lnTo>
                          <a:pt x="55" y="45"/>
                        </a:lnTo>
                        <a:lnTo>
                          <a:pt x="44" y="34"/>
                        </a:lnTo>
                        <a:lnTo>
                          <a:pt x="33" y="11"/>
                        </a:lnTo>
                        <a:lnTo>
                          <a:pt x="22" y="0"/>
                        </a:lnTo>
                        <a:lnTo>
                          <a:pt x="0" y="22"/>
                        </a:lnTo>
                        <a:lnTo>
                          <a:pt x="11" y="34"/>
                        </a:lnTo>
                        <a:lnTo>
                          <a:pt x="22" y="45"/>
                        </a:lnTo>
                        <a:lnTo>
                          <a:pt x="22" y="56"/>
                        </a:lnTo>
                        <a:lnTo>
                          <a:pt x="33" y="67"/>
                        </a:lnTo>
                        <a:lnTo>
                          <a:pt x="33" y="78"/>
                        </a:lnTo>
                        <a:lnTo>
                          <a:pt x="33" y="100"/>
                        </a:lnTo>
                        <a:lnTo>
                          <a:pt x="44" y="112"/>
                        </a:lnTo>
                        <a:lnTo>
                          <a:pt x="44" y="123"/>
                        </a:lnTo>
                        <a:lnTo>
                          <a:pt x="78" y="112"/>
                        </a:lnTo>
                        <a:close/>
                      </a:path>
                    </a:pathLst>
                  </a:custGeom>
                  <a:solidFill>
                    <a:srgbClr val="000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1530"/>
                  <p:cNvSpPr/>
                  <p:nvPr/>
                </p:nvSpPr>
                <p:spPr>
                  <a:xfrm rot="111600">
                    <a:off x="5801400" y="107604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45" h="22">
                        <a:moveTo>
                          <a:pt x="0" y="11"/>
                        </a:moveTo>
                        <a:lnTo>
                          <a:pt x="12" y="22"/>
                        </a:lnTo>
                        <a:lnTo>
                          <a:pt x="23" y="22"/>
                        </a:lnTo>
                        <a:lnTo>
                          <a:pt x="34" y="22"/>
                        </a:lnTo>
                        <a:lnTo>
                          <a:pt x="45" y="11"/>
                        </a:lnTo>
                        <a:lnTo>
                          <a:pt x="45" y="0"/>
                        </a:lnTo>
                        <a:lnTo>
                          <a:pt x="0" y="11"/>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1529"/>
                  <p:cNvSpPr/>
                  <p:nvPr/>
                </p:nvSpPr>
                <p:spPr>
                  <a:xfrm rot="111600">
                    <a:off x="5785560" y="1071720"/>
                    <a:ext cx="3600" cy="3240"/>
                  </a:xfrm>
                  <a:custGeom>
                    <a:avLst/>
                    <a:gdLst>
                      <a:gd name="textAreaLeft" fmla="*/ 0 w 3600"/>
                      <a:gd name="textAreaRight" fmla="*/ 3960 w 3600"/>
                      <a:gd name="textAreaTop" fmla="*/ 0 h 3240"/>
                      <a:gd name="textAreaBottom" fmla="*/ 3600 h 3240"/>
                    </a:gdLst>
                    <a:ahLst/>
                    <a:rect l="textAreaLeft" t="textAreaTop" r="textAreaRight" b="textAreaBottom"/>
                    <a:pathLst>
                      <a:path w="34" h="22">
                        <a:moveTo>
                          <a:pt x="23" y="22"/>
                        </a:moveTo>
                        <a:lnTo>
                          <a:pt x="34" y="22"/>
                        </a:lnTo>
                        <a:lnTo>
                          <a:pt x="34" y="11"/>
                        </a:lnTo>
                        <a:lnTo>
                          <a:pt x="23" y="0"/>
                        </a:lnTo>
                        <a:lnTo>
                          <a:pt x="12" y="0"/>
                        </a:lnTo>
                        <a:lnTo>
                          <a:pt x="0" y="0"/>
                        </a:lnTo>
                        <a:lnTo>
                          <a:pt x="0" y="11"/>
                        </a:lnTo>
                        <a:lnTo>
                          <a:pt x="23" y="22"/>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1528"/>
                  <p:cNvSpPr/>
                  <p:nvPr/>
                </p:nvSpPr>
                <p:spPr>
                  <a:xfrm rot="111600">
                    <a:off x="5779440" y="1073520"/>
                    <a:ext cx="8280" cy="19800"/>
                  </a:xfrm>
                  <a:custGeom>
                    <a:avLst/>
                    <a:gdLst>
                      <a:gd name="textAreaLeft" fmla="*/ 0 w 8280"/>
                      <a:gd name="textAreaRight" fmla="*/ 8640 w 8280"/>
                      <a:gd name="textAreaTop" fmla="*/ 0 h 19800"/>
                      <a:gd name="textAreaBottom" fmla="*/ 20160 h 19800"/>
                    </a:gdLst>
                    <a:ahLst/>
                    <a:rect l="textAreaLeft" t="textAreaTop" r="textAreaRight" b="textAreaBottom"/>
                    <a:pathLst>
                      <a:path w="78" h="123">
                        <a:moveTo>
                          <a:pt x="33" y="123"/>
                        </a:moveTo>
                        <a:lnTo>
                          <a:pt x="44" y="111"/>
                        </a:lnTo>
                        <a:lnTo>
                          <a:pt x="44" y="89"/>
                        </a:lnTo>
                        <a:lnTo>
                          <a:pt x="55" y="78"/>
                        </a:lnTo>
                        <a:lnTo>
                          <a:pt x="55" y="67"/>
                        </a:lnTo>
                        <a:lnTo>
                          <a:pt x="67" y="56"/>
                        </a:lnTo>
                        <a:lnTo>
                          <a:pt x="67" y="45"/>
                        </a:lnTo>
                        <a:lnTo>
                          <a:pt x="78" y="22"/>
                        </a:lnTo>
                        <a:lnTo>
                          <a:pt x="78" y="11"/>
                        </a:lnTo>
                        <a:lnTo>
                          <a:pt x="55" y="0"/>
                        </a:lnTo>
                        <a:lnTo>
                          <a:pt x="44" y="11"/>
                        </a:lnTo>
                        <a:lnTo>
                          <a:pt x="33" y="22"/>
                        </a:lnTo>
                        <a:lnTo>
                          <a:pt x="33" y="33"/>
                        </a:lnTo>
                        <a:lnTo>
                          <a:pt x="22" y="56"/>
                        </a:lnTo>
                        <a:lnTo>
                          <a:pt x="22" y="67"/>
                        </a:lnTo>
                        <a:lnTo>
                          <a:pt x="11" y="78"/>
                        </a:lnTo>
                        <a:lnTo>
                          <a:pt x="11" y="100"/>
                        </a:lnTo>
                        <a:lnTo>
                          <a:pt x="0" y="111"/>
                        </a:lnTo>
                        <a:lnTo>
                          <a:pt x="33" y="123"/>
                        </a:lnTo>
                        <a:close/>
                      </a:path>
                    </a:pathLst>
                  </a:custGeom>
                  <a:solidFill>
                    <a:srgbClr val="000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1527"/>
                  <p:cNvSpPr/>
                  <p:nvPr/>
                </p:nvSpPr>
                <p:spPr>
                  <a:xfrm rot="111600">
                    <a:off x="5784120" y="107352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45" h="22">
                        <a:moveTo>
                          <a:pt x="0" y="0"/>
                        </a:moveTo>
                        <a:lnTo>
                          <a:pt x="11" y="22"/>
                        </a:lnTo>
                        <a:lnTo>
                          <a:pt x="23" y="22"/>
                        </a:lnTo>
                        <a:lnTo>
                          <a:pt x="34" y="22"/>
                        </a:lnTo>
                        <a:lnTo>
                          <a:pt x="45" y="11"/>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1526"/>
                  <p:cNvSpPr/>
                  <p:nvPr/>
                </p:nvSpPr>
                <p:spPr>
                  <a:xfrm rot="111600">
                    <a:off x="5866920" y="866160"/>
                    <a:ext cx="174240" cy="237960"/>
                  </a:xfrm>
                  <a:custGeom>
                    <a:avLst/>
                    <a:gdLst>
                      <a:gd name="textAreaLeft" fmla="*/ 0 w 174240"/>
                      <a:gd name="textAreaRight" fmla="*/ 174240 w 174240"/>
                      <a:gd name="textAreaTop" fmla="*/ 0 h 237960"/>
                      <a:gd name="textAreaBottom" fmla="*/ 238320 h 237960"/>
                    </a:gdLst>
                    <a:ahLst/>
                    <a:rect l="textAreaLeft" t="textAreaTop" r="textAreaRight" b="textAreaBottom"/>
                    <a:pathLst>
                      <a:path w="1594" h="1471">
                        <a:moveTo>
                          <a:pt x="769" y="0"/>
                        </a:moveTo>
                        <a:lnTo>
                          <a:pt x="813" y="0"/>
                        </a:lnTo>
                        <a:lnTo>
                          <a:pt x="847" y="11"/>
                        </a:lnTo>
                        <a:lnTo>
                          <a:pt x="880" y="11"/>
                        </a:lnTo>
                        <a:lnTo>
                          <a:pt x="914" y="22"/>
                        </a:lnTo>
                        <a:lnTo>
                          <a:pt x="947" y="44"/>
                        </a:lnTo>
                        <a:lnTo>
                          <a:pt x="981" y="56"/>
                        </a:lnTo>
                        <a:lnTo>
                          <a:pt x="1014" y="78"/>
                        </a:lnTo>
                        <a:lnTo>
                          <a:pt x="1047" y="89"/>
                        </a:lnTo>
                        <a:lnTo>
                          <a:pt x="1081" y="122"/>
                        </a:lnTo>
                        <a:lnTo>
                          <a:pt x="1103" y="145"/>
                        </a:lnTo>
                        <a:lnTo>
                          <a:pt x="1137" y="167"/>
                        </a:lnTo>
                        <a:lnTo>
                          <a:pt x="1159" y="200"/>
                        </a:lnTo>
                        <a:lnTo>
                          <a:pt x="1181" y="234"/>
                        </a:lnTo>
                        <a:lnTo>
                          <a:pt x="1215" y="267"/>
                        </a:lnTo>
                        <a:lnTo>
                          <a:pt x="1237" y="301"/>
                        </a:lnTo>
                        <a:lnTo>
                          <a:pt x="1248" y="334"/>
                        </a:lnTo>
                        <a:lnTo>
                          <a:pt x="1281" y="345"/>
                        </a:lnTo>
                        <a:lnTo>
                          <a:pt x="1315" y="356"/>
                        </a:lnTo>
                        <a:lnTo>
                          <a:pt x="1337" y="356"/>
                        </a:lnTo>
                        <a:lnTo>
                          <a:pt x="1371" y="368"/>
                        </a:lnTo>
                        <a:lnTo>
                          <a:pt x="1404" y="379"/>
                        </a:lnTo>
                        <a:lnTo>
                          <a:pt x="1426" y="390"/>
                        </a:lnTo>
                        <a:lnTo>
                          <a:pt x="1449" y="390"/>
                        </a:lnTo>
                        <a:lnTo>
                          <a:pt x="1482" y="412"/>
                        </a:lnTo>
                        <a:lnTo>
                          <a:pt x="1504" y="423"/>
                        </a:lnTo>
                        <a:lnTo>
                          <a:pt x="1527" y="435"/>
                        </a:lnTo>
                        <a:lnTo>
                          <a:pt x="1538" y="457"/>
                        </a:lnTo>
                        <a:lnTo>
                          <a:pt x="1560" y="490"/>
                        </a:lnTo>
                        <a:lnTo>
                          <a:pt x="1571" y="513"/>
                        </a:lnTo>
                        <a:lnTo>
                          <a:pt x="1582" y="546"/>
                        </a:lnTo>
                        <a:lnTo>
                          <a:pt x="1594" y="591"/>
                        </a:lnTo>
                        <a:lnTo>
                          <a:pt x="1594" y="635"/>
                        </a:lnTo>
                        <a:lnTo>
                          <a:pt x="1594" y="657"/>
                        </a:lnTo>
                        <a:lnTo>
                          <a:pt x="1582" y="680"/>
                        </a:lnTo>
                        <a:lnTo>
                          <a:pt x="1582" y="691"/>
                        </a:lnTo>
                        <a:lnTo>
                          <a:pt x="1571" y="713"/>
                        </a:lnTo>
                        <a:lnTo>
                          <a:pt x="1560" y="735"/>
                        </a:lnTo>
                        <a:lnTo>
                          <a:pt x="1549" y="758"/>
                        </a:lnTo>
                        <a:lnTo>
                          <a:pt x="1538" y="780"/>
                        </a:lnTo>
                        <a:lnTo>
                          <a:pt x="1527" y="791"/>
                        </a:lnTo>
                        <a:lnTo>
                          <a:pt x="1504" y="813"/>
                        </a:lnTo>
                        <a:lnTo>
                          <a:pt x="1482" y="825"/>
                        </a:lnTo>
                        <a:lnTo>
                          <a:pt x="1471" y="847"/>
                        </a:lnTo>
                        <a:lnTo>
                          <a:pt x="1438" y="858"/>
                        </a:lnTo>
                        <a:lnTo>
                          <a:pt x="1415" y="869"/>
                        </a:lnTo>
                        <a:lnTo>
                          <a:pt x="1393" y="880"/>
                        </a:lnTo>
                        <a:lnTo>
                          <a:pt x="1359" y="880"/>
                        </a:lnTo>
                        <a:lnTo>
                          <a:pt x="1326" y="880"/>
                        </a:lnTo>
                        <a:lnTo>
                          <a:pt x="1315" y="947"/>
                        </a:lnTo>
                        <a:lnTo>
                          <a:pt x="1293" y="1003"/>
                        </a:lnTo>
                        <a:lnTo>
                          <a:pt x="1270" y="1059"/>
                        </a:lnTo>
                        <a:lnTo>
                          <a:pt x="1248" y="1114"/>
                        </a:lnTo>
                        <a:lnTo>
                          <a:pt x="1215" y="1170"/>
                        </a:lnTo>
                        <a:lnTo>
                          <a:pt x="1181" y="1215"/>
                        </a:lnTo>
                        <a:lnTo>
                          <a:pt x="1148" y="1259"/>
                        </a:lnTo>
                        <a:lnTo>
                          <a:pt x="1114" y="1304"/>
                        </a:lnTo>
                        <a:lnTo>
                          <a:pt x="1070" y="1337"/>
                        </a:lnTo>
                        <a:lnTo>
                          <a:pt x="1025" y="1371"/>
                        </a:lnTo>
                        <a:lnTo>
                          <a:pt x="981" y="1404"/>
                        </a:lnTo>
                        <a:lnTo>
                          <a:pt x="936" y="1426"/>
                        </a:lnTo>
                        <a:lnTo>
                          <a:pt x="891" y="1438"/>
                        </a:lnTo>
                        <a:lnTo>
                          <a:pt x="847" y="1460"/>
                        </a:lnTo>
                        <a:lnTo>
                          <a:pt x="791" y="1460"/>
                        </a:lnTo>
                        <a:lnTo>
                          <a:pt x="747" y="1471"/>
                        </a:lnTo>
                        <a:lnTo>
                          <a:pt x="668" y="1460"/>
                        </a:lnTo>
                        <a:lnTo>
                          <a:pt x="613" y="1449"/>
                        </a:lnTo>
                        <a:lnTo>
                          <a:pt x="546" y="1426"/>
                        </a:lnTo>
                        <a:lnTo>
                          <a:pt x="490" y="1404"/>
                        </a:lnTo>
                        <a:lnTo>
                          <a:pt x="446" y="1371"/>
                        </a:lnTo>
                        <a:lnTo>
                          <a:pt x="401" y="1337"/>
                        </a:lnTo>
                        <a:lnTo>
                          <a:pt x="356" y="1293"/>
                        </a:lnTo>
                        <a:lnTo>
                          <a:pt x="323" y="1248"/>
                        </a:lnTo>
                        <a:lnTo>
                          <a:pt x="290" y="1192"/>
                        </a:lnTo>
                        <a:lnTo>
                          <a:pt x="267" y="1137"/>
                        </a:lnTo>
                        <a:lnTo>
                          <a:pt x="245" y="1081"/>
                        </a:lnTo>
                        <a:lnTo>
                          <a:pt x="234" y="1025"/>
                        </a:lnTo>
                        <a:lnTo>
                          <a:pt x="223" y="958"/>
                        </a:lnTo>
                        <a:lnTo>
                          <a:pt x="223" y="891"/>
                        </a:lnTo>
                        <a:lnTo>
                          <a:pt x="223" y="825"/>
                        </a:lnTo>
                        <a:lnTo>
                          <a:pt x="234" y="758"/>
                        </a:lnTo>
                        <a:lnTo>
                          <a:pt x="200" y="758"/>
                        </a:lnTo>
                        <a:lnTo>
                          <a:pt x="167" y="747"/>
                        </a:lnTo>
                        <a:lnTo>
                          <a:pt x="134" y="735"/>
                        </a:lnTo>
                        <a:lnTo>
                          <a:pt x="111" y="724"/>
                        </a:lnTo>
                        <a:lnTo>
                          <a:pt x="78" y="702"/>
                        </a:lnTo>
                        <a:lnTo>
                          <a:pt x="56" y="680"/>
                        </a:lnTo>
                        <a:lnTo>
                          <a:pt x="33" y="657"/>
                        </a:lnTo>
                        <a:lnTo>
                          <a:pt x="22" y="624"/>
                        </a:lnTo>
                        <a:lnTo>
                          <a:pt x="11" y="602"/>
                        </a:lnTo>
                        <a:lnTo>
                          <a:pt x="0" y="568"/>
                        </a:lnTo>
                        <a:lnTo>
                          <a:pt x="0" y="535"/>
                        </a:lnTo>
                        <a:lnTo>
                          <a:pt x="0" y="501"/>
                        </a:lnTo>
                        <a:lnTo>
                          <a:pt x="0" y="468"/>
                        </a:lnTo>
                        <a:lnTo>
                          <a:pt x="22" y="435"/>
                        </a:lnTo>
                        <a:lnTo>
                          <a:pt x="33" y="412"/>
                        </a:lnTo>
                        <a:lnTo>
                          <a:pt x="67" y="379"/>
                        </a:lnTo>
                        <a:lnTo>
                          <a:pt x="78" y="368"/>
                        </a:lnTo>
                        <a:lnTo>
                          <a:pt x="89" y="368"/>
                        </a:lnTo>
                        <a:lnTo>
                          <a:pt x="111" y="368"/>
                        </a:lnTo>
                        <a:lnTo>
                          <a:pt x="122" y="368"/>
                        </a:lnTo>
                        <a:lnTo>
                          <a:pt x="134" y="368"/>
                        </a:lnTo>
                        <a:lnTo>
                          <a:pt x="145" y="368"/>
                        </a:lnTo>
                        <a:lnTo>
                          <a:pt x="167" y="368"/>
                        </a:lnTo>
                        <a:lnTo>
                          <a:pt x="178" y="368"/>
                        </a:lnTo>
                        <a:lnTo>
                          <a:pt x="189" y="368"/>
                        </a:lnTo>
                        <a:lnTo>
                          <a:pt x="212" y="368"/>
                        </a:lnTo>
                        <a:lnTo>
                          <a:pt x="223" y="368"/>
                        </a:lnTo>
                        <a:lnTo>
                          <a:pt x="245" y="379"/>
                        </a:lnTo>
                        <a:lnTo>
                          <a:pt x="256" y="379"/>
                        </a:lnTo>
                        <a:lnTo>
                          <a:pt x="278" y="379"/>
                        </a:lnTo>
                        <a:lnTo>
                          <a:pt x="290" y="379"/>
                        </a:lnTo>
                        <a:lnTo>
                          <a:pt x="301" y="368"/>
                        </a:lnTo>
                        <a:lnTo>
                          <a:pt x="323" y="345"/>
                        </a:lnTo>
                        <a:lnTo>
                          <a:pt x="345" y="323"/>
                        </a:lnTo>
                        <a:lnTo>
                          <a:pt x="368" y="290"/>
                        </a:lnTo>
                        <a:lnTo>
                          <a:pt x="390" y="267"/>
                        </a:lnTo>
                        <a:lnTo>
                          <a:pt x="423" y="234"/>
                        </a:lnTo>
                        <a:lnTo>
                          <a:pt x="446" y="200"/>
                        </a:lnTo>
                        <a:lnTo>
                          <a:pt x="479" y="167"/>
                        </a:lnTo>
                        <a:lnTo>
                          <a:pt x="512" y="134"/>
                        </a:lnTo>
                        <a:lnTo>
                          <a:pt x="546" y="100"/>
                        </a:lnTo>
                        <a:lnTo>
                          <a:pt x="579" y="78"/>
                        </a:lnTo>
                        <a:lnTo>
                          <a:pt x="624" y="56"/>
                        </a:lnTo>
                        <a:lnTo>
                          <a:pt x="657" y="33"/>
                        </a:lnTo>
                        <a:lnTo>
                          <a:pt x="691" y="11"/>
                        </a:lnTo>
                        <a:lnTo>
                          <a:pt x="735" y="11"/>
                        </a:lnTo>
                        <a:lnTo>
                          <a:pt x="769" y="0"/>
                        </a:lnTo>
                        <a:close/>
                      </a:path>
                    </a:pathLst>
                  </a:custGeom>
                  <a:solidFill>
                    <a:srgbClr val="ffd6a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1525"/>
                  <p:cNvSpPr/>
                  <p:nvPr/>
                </p:nvSpPr>
                <p:spPr>
                  <a:xfrm rot="111600">
                    <a:off x="5954040" y="866880"/>
                    <a:ext cx="53280" cy="55800"/>
                  </a:xfrm>
                  <a:custGeom>
                    <a:avLst/>
                    <a:gdLst>
                      <a:gd name="textAreaLeft" fmla="*/ 0 w 53280"/>
                      <a:gd name="textAreaRight" fmla="*/ 53640 w 53280"/>
                      <a:gd name="textAreaTop" fmla="*/ 0 h 55800"/>
                      <a:gd name="textAreaBottom" fmla="*/ 56160 h 55800"/>
                    </a:gdLst>
                    <a:ahLst/>
                    <a:rect l="textAreaLeft" t="textAreaTop" r="textAreaRight" b="textAreaBottom"/>
                    <a:pathLst>
                      <a:path w="490" h="345">
                        <a:moveTo>
                          <a:pt x="479" y="334"/>
                        </a:moveTo>
                        <a:lnTo>
                          <a:pt x="490" y="334"/>
                        </a:lnTo>
                        <a:lnTo>
                          <a:pt x="468" y="301"/>
                        </a:lnTo>
                        <a:lnTo>
                          <a:pt x="446" y="256"/>
                        </a:lnTo>
                        <a:lnTo>
                          <a:pt x="423" y="223"/>
                        </a:lnTo>
                        <a:lnTo>
                          <a:pt x="401" y="200"/>
                        </a:lnTo>
                        <a:lnTo>
                          <a:pt x="368" y="167"/>
                        </a:lnTo>
                        <a:lnTo>
                          <a:pt x="345" y="134"/>
                        </a:lnTo>
                        <a:lnTo>
                          <a:pt x="312" y="111"/>
                        </a:lnTo>
                        <a:lnTo>
                          <a:pt x="278" y="89"/>
                        </a:lnTo>
                        <a:lnTo>
                          <a:pt x="256" y="67"/>
                        </a:lnTo>
                        <a:lnTo>
                          <a:pt x="223" y="44"/>
                        </a:lnTo>
                        <a:lnTo>
                          <a:pt x="189" y="33"/>
                        </a:lnTo>
                        <a:lnTo>
                          <a:pt x="145" y="22"/>
                        </a:lnTo>
                        <a:lnTo>
                          <a:pt x="111" y="11"/>
                        </a:lnTo>
                        <a:lnTo>
                          <a:pt x="78" y="0"/>
                        </a:lnTo>
                        <a:lnTo>
                          <a:pt x="44" y="0"/>
                        </a:lnTo>
                        <a:lnTo>
                          <a:pt x="0" y="0"/>
                        </a:lnTo>
                        <a:lnTo>
                          <a:pt x="0" y="11"/>
                        </a:lnTo>
                        <a:lnTo>
                          <a:pt x="44" y="11"/>
                        </a:lnTo>
                        <a:lnTo>
                          <a:pt x="78" y="11"/>
                        </a:lnTo>
                        <a:lnTo>
                          <a:pt x="111" y="22"/>
                        </a:lnTo>
                        <a:lnTo>
                          <a:pt x="145" y="33"/>
                        </a:lnTo>
                        <a:lnTo>
                          <a:pt x="178" y="44"/>
                        </a:lnTo>
                        <a:lnTo>
                          <a:pt x="212" y="67"/>
                        </a:lnTo>
                        <a:lnTo>
                          <a:pt x="245" y="78"/>
                        </a:lnTo>
                        <a:lnTo>
                          <a:pt x="278" y="100"/>
                        </a:lnTo>
                        <a:lnTo>
                          <a:pt x="301" y="122"/>
                        </a:lnTo>
                        <a:lnTo>
                          <a:pt x="334" y="145"/>
                        </a:lnTo>
                        <a:lnTo>
                          <a:pt x="356" y="178"/>
                        </a:lnTo>
                        <a:lnTo>
                          <a:pt x="390" y="200"/>
                        </a:lnTo>
                        <a:lnTo>
                          <a:pt x="412" y="234"/>
                        </a:lnTo>
                        <a:lnTo>
                          <a:pt x="434" y="267"/>
                        </a:lnTo>
                        <a:lnTo>
                          <a:pt x="457" y="301"/>
                        </a:lnTo>
                        <a:lnTo>
                          <a:pt x="479" y="345"/>
                        </a:lnTo>
                        <a:lnTo>
                          <a:pt x="479" y="334"/>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1524"/>
                  <p:cNvSpPr/>
                  <p:nvPr/>
                </p:nvSpPr>
                <p:spPr>
                  <a:xfrm rot="111600">
                    <a:off x="6004440" y="922320"/>
                    <a:ext cx="38880" cy="48600"/>
                  </a:xfrm>
                  <a:custGeom>
                    <a:avLst/>
                    <a:gdLst>
                      <a:gd name="textAreaLeft" fmla="*/ 0 w 38880"/>
                      <a:gd name="textAreaRight" fmla="*/ 39240 w 38880"/>
                      <a:gd name="textAreaTop" fmla="*/ 0 h 48600"/>
                      <a:gd name="textAreaBottom" fmla="*/ 48960 h 48600"/>
                    </a:gdLst>
                    <a:ahLst/>
                    <a:rect l="textAreaLeft" t="textAreaTop" r="textAreaRight" b="textAreaBottom"/>
                    <a:pathLst>
                      <a:path w="357" h="301">
                        <a:moveTo>
                          <a:pt x="357" y="301"/>
                        </a:moveTo>
                        <a:lnTo>
                          <a:pt x="357" y="301"/>
                        </a:lnTo>
                        <a:lnTo>
                          <a:pt x="346" y="257"/>
                        </a:lnTo>
                        <a:lnTo>
                          <a:pt x="346" y="212"/>
                        </a:lnTo>
                        <a:lnTo>
                          <a:pt x="334" y="179"/>
                        </a:lnTo>
                        <a:lnTo>
                          <a:pt x="312" y="145"/>
                        </a:lnTo>
                        <a:lnTo>
                          <a:pt x="301" y="123"/>
                        </a:lnTo>
                        <a:lnTo>
                          <a:pt x="279" y="101"/>
                        </a:lnTo>
                        <a:lnTo>
                          <a:pt x="256" y="78"/>
                        </a:lnTo>
                        <a:lnTo>
                          <a:pt x="234" y="67"/>
                        </a:lnTo>
                        <a:lnTo>
                          <a:pt x="212" y="56"/>
                        </a:lnTo>
                        <a:lnTo>
                          <a:pt x="178" y="45"/>
                        </a:lnTo>
                        <a:lnTo>
                          <a:pt x="156" y="34"/>
                        </a:lnTo>
                        <a:lnTo>
                          <a:pt x="123" y="22"/>
                        </a:lnTo>
                        <a:lnTo>
                          <a:pt x="89" y="22"/>
                        </a:lnTo>
                        <a:lnTo>
                          <a:pt x="67" y="11"/>
                        </a:lnTo>
                        <a:lnTo>
                          <a:pt x="33" y="11"/>
                        </a:lnTo>
                        <a:lnTo>
                          <a:pt x="0" y="0"/>
                        </a:lnTo>
                        <a:lnTo>
                          <a:pt x="0" y="11"/>
                        </a:lnTo>
                        <a:lnTo>
                          <a:pt x="33" y="22"/>
                        </a:lnTo>
                        <a:lnTo>
                          <a:pt x="56" y="22"/>
                        </a:lnTo>
                        <a:lnTo>
                          <a:pt x="89" y="34"/>
                        </a:lnTo>
                        <a:lnTo>
                          <a:pt x="123" y="45"/>
                        </a:lnTo>
                        <a:lnTo>
                          <a:pt x="145" y="45"/>
                        </a:lnTo>
                        <a:lnTo>
                          <a:pt x="178" y="56"/>
                        </a:lnTo>
                        <a:lnTo>
                          <a:pt x="201" y="67"/>
                        </a:lnTo>
                        <a:lnTo>
                          <a:pt x="223" y="78"/>
                        </a:lnTo>
                        <a:lnTo>
                          <a:pt x="245" y="89"/>
                        </a:lnTo>
                        <a:lnTo>
                          <a:pt x="268" y="112"/>
                        </a:lnTo>
                        <a:lnTo>
                          <a:pt x="290" y="134"/>
                        </a:lnTo>
                        <a:lnTo>
                          <a:pt x="301" y="156"/>
                        </a:lnTo>
                        <a:lnTo>
                          <a:pt x="312" y="190"/>
                        </a:lnTo>
                        <a:lnTo>
                          <a:pt x="323" y="223"/>
                        </a:lnTo>
                        <a:lnTo>
                          <a:pt x="334" y="257"/>
                        </a:lnTo>
                        <a:lnTo>
                          <a:pt x="346" y="301"/>
                        </a:lnTo>
                        <a:lnTo>
                          <a:pt x="357" y="301"/>
                        </a:lnTo>
                        <a:close/>
                      </a:path>
                    </a:pathLst>
                  </a:custGeom>
                  <a:solidFill>
                    <a:srgbClr val="00000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1523"/>
                  <p:cNvSpPr/>
                  <p:nvPr/>
                </p:nvSpPr>
                <p:spPr>
                  <a:xfrm rot="111600">
                    <a:off x="6011640" y="970920"/>
                    <a:ext cx="30240" cy="41400"/>
                  </a:xfrm>
                  <a:custGeom>
                    <a:avLst/>
                    <a:gdLst>
                      <a:gd name="textAreaLeft" fmla="*/ 0 w 30240"/>
                      <a:gd name="textAreaRight" fmla="*/ 30600 w 30240"/>
                      <a:gd name="textAreaTop" fmla="*/ 0 h 41400"/>
                      <a:gd name="textAreaBottom" fmla="*/ 41760 h 41400"/>
                    </a:gdLst>
                    <a:ahLst/>
                    <a:rect l="textAreaLeft" t="textAreaTop" r="textAreaRight" b="textAreaBottom"/>
                    <a:pathLst>
                      <a:path w="279" h="256">
                        <a:moveTo>
                          <a:pt x="11" y="256"/>
                        </a:moveTo>
                        <a:lnTo>
                          <a:pt x="0" y="256"/>
                        </a:lnTo>
                        <a:lnTo>
                          <a:pt x="33" y="256"/>
                        </a:lnTo>
                        <a:lnTo>
                          <a:pt x="67" y="245"/>
                        </a:lnTo>
                        <a:lnTo>
                          <a:pt x="89" y="245"/>
                        </a:lnTo>
                        <a:lnTo>
                          <a:pt x="123" y="234"/>
                        </a:lnTo>
                        <a:lnTo>
                          <a:pt x="145" y="212"/>
                        </a:lnTo>
                        <a:lnTo>
                          <a:pt x="167" y="201"/>
                        </a:lnTo>
                        <a:lnTo>
                          <a:pt x="190" y="190"/>
                        </a:lnTo>
                        <a:lnTo>
                          <a:pt x="201" y="167"/>
                        </a:lnTo>
                        <a:lnTo>
                          <a:pt x="212" y="145"/>
                        </a:lnTo>
                        <a:lnTo>
                          <a:pt x="234" y="123"/>
                        </a:lnTo>
                        <a:lnTo>
                          <a:pt x="245" y="100"/>
                        </a:lnTo>
                        <a:lnTo>
                          <a:pt x="256" y="89"/>
                        </a:lnTo>
                        <a:lnTo>
                          <a:pt x="256" y="56"/>
                        </a:lnTo>
                        <a:lnTo>
                          <a:pt x="268" y="45"/>
                        </a:lnTo>
                        <a:lnTo>
                          <a:pt x="279" y="22"/>
                        </a:lnTo>
                        <a:lnTo>
                          <a:pt x="279" y="0"/>
                        </a:lnTo>
                        <a:lnTo>
                          <a:pt x="268" y="0"/>
                        </a:lnTo>
                        <a:lnTo>
                          <a:pt x="256" y="22"/>
                        </a:lnTo>
                        <a:lnTo>
                          <a:pt x="256" y="34"/>
                        </a:lnTo>
                        <a:lnTo>
                          <a:pt x="245" y="56"/>
                        </a:lnTo>
                        <a:lnTo>
                          <a:pt x="245" y="78"/>
                        </a:lnTo>
                        <a:lnTo>
                          <a:pt x="234" y="100"/>
                        </a:lnTo>
                        <a:lnTo>
                          <a:pt x="223" y="123"/>
                        </a:lnTo>
                        <a:lnTo>
                          <a:pt x="212" y="134"/>
                        </a:lnTo>
                        <a:lnTo>
                          <a:pt x="190" y="156"/>
                        </a:lnTo>
                        <a:lnTo>
                          <a:pt x="178" y="178"/>
                        </a:lnTo>
                        <a:lnTo>
                          <a:pt x="156" y="190"/>
                        </a:lnTo>
                        <a:lnTo>
                          <a:pt x="134" y="201"/>
                        </a:lnTo>
                        <a:lnTo>
                          <a:pt x="112" y="212"/>
                        </a:lnTo>
                        <a:lnTo>
                          <a:pt x="89" y="223"/>
                        </a:lnTo>
                        <a:lnTo>
                          <a:pt x="67" y="234"/>
                        </a:lnTo>
                        <a:lnTo>
                          <a:pt x="33" y="245"/>
                        </a:lnTo>
                        <a:lnTo>
                          <a:pt x="0" y="245"/>
                        </a:lnTo>
                        <a:lnTo>
                          <a:pt x="11" y="256"/>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1522"/>
                  <p:cNvSpPr/>
                  <p:nvPr/>
                </p:nvSpPr>
                <p:spPr>
                  <a:xfrm rot="111600">
                    <a:off x="5946120" y="1009080"/>
                    <a:ext cx="64440" cy="95400"/>
                  </a:xfrm>
                  <a:custGeom>
                    <a:avLst/>
                    <a:gdLst>
                      <a:gd name="textAreaLeft" fmla="*/ 0 w 64440"/>
                      <a:gd name="textAreaRight" fmla="*/ 64800 w 64440"/>
                      <a:gd name="textAreaTop" fmla="*/ 0 h 95400"/>
                      <a:gd name="textAreaBottom" fmla="*/ 95760 h 95400"/>
                    </a:gdLst>
                    <a:ahLst/>
                    <a:rect l="textAreaLeft" t="textAreaTop" r="textAreaRight" b="textAreaBottom"/>
                    <a:pathLst>
                      <a:path w="590" h="591">
                        <a:moveTo>
                          <a:pt x="0" y="591"/>
                        </a:moveTo>
                        <a:lnTo>
                          <a:pt x="0" y="591"/>
                        </a:lnTo>
                        <a:lnTo>
                          <a:pt x="44" y="591"/>
                        </a:lnTo>
                        <a:lnTo>
                          <a:pt x="100" y="580"/>
                        </a:lnTo>
                        <a:lnTo>
                          <a:pt x="144" y="569"/>
                        </a:lnTo>
                        <a:lnTo>
                          <a:pt x="189" y="546"/>
                        </a:lnTo>
                        <a:lnTo>
                          <a:pt x="245" y="524"/>
                        </a:lnTo>
                        <a:lnTo>
                          <a:pt x="289" y="491"/>
                        </a:lnTo>
                        <a:lnTo>
                          <a:pt x="323" y="457"/>
                        </a:lnTo>
                        <a:lnTo>
                          <a:pt x="367" y="424"/>
                        </a:lnTo>
                        <a:lnTo>
                          <a:pt x="412" y="379"/>
                        </a:lnTo>
                        <a:lnTo>
                          <a:pt x="445" y="335"/>
                        </a:lnTo>
                        <a:lnTo>
                          <a:pt x="479" y="290"/>
                        </a:lnTo>
                        <a:lnTo>
                          <a:pt x="501" y="234"/>
                        </a:lnTo>
                        <a:lnTo>
                          <a:pt x="534" y="179"/>
                        </a:lnTo>
                        <a:lnTo>
                          <a:pt x="557" y="123"/>
                        </a:lnTo>
                        <a:lnTo>
                          <a:pt x="568" y="67"/>
                        </a:lnTo>
                        <a:lnTo>
                          <a:pt x="590" y="11"/>
                        </a:lnTo>
                        <a:lnTo>
                          <a:pt x="579" y="0"/>
                        </a:lnTo>
                        <a:lnTo>
                          <a:pt x="557" y="67"/>
                        </a:lnTo>
                        <a:lnTo>
                          <a:pt x="546" y="123"/>
                        </a:lnTo>
                        <a:lnTo>
                          <a:pt x="523" y="179"/>
                        </a:lnTo>
                        <a:lnTo>
                          <a:pt x="490" y="234"/>
                        </a:lnTo>
                        <a:lnTo>
                          <a:pt x="468" y="279"/>
                        </a:lnTo>
                        <a:lnTo>
                          <a:pt x="434" y="335"/>
                        </a:lnTo>
                        <a:lnTo>
                          <a:pt x="401" y="379"/>
                        </a:lnTo>
                        <a:lnTo>
                          <a:pt x="356" y="413"/>
                        </a:lnTo>
                        <a:lnTo>
                          <a:pt x="323" y="457"/>
                        </a:lnTo>
                        <a:lnTo>
                          <a:pt x="278" y="480"/>
                        </a:lnTo>
                        <a:lnTo>
                          <a:pt x="234" y="513"/>
                        </a:lnTo>
                        <a:lnTo>
                          <a:pt x="189" y="535"/>
                        </a:lnTo>
                        <a:lnTo>
                          <a:pt x="144" y="558"/>
                        </a:lnTo>
                        <a:lnTo>
                          <a:pt x="89" y="569"/>
                        </a:lnTo>
                        <a:lnTo>
                          <a:pt x="44" y="580"/>
                        </a:lnTo>
                        <a:lnTo>
                          <a:pt x="0" y="580"/>
                        </a:lnTo>
                        <a:lnTo>
                          <a:pt x="0" y="59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1521"/>
                  <p:cNvSpPr/>
                  <p:nvPr/>
                </p:nvSpPr>
                <p:spPr>
                  <a:xfrm rot="111600">
                    <a:off x="5887800" y="985680"/>
                    <a:ext cx="58320" cy="117000"/>
                  </a:xfrm>
                  <a:custGeom>
                    <a:avLst/>
                    <a:gdLst>
                      <a:gd name="textAreaLeft" fmla="*/ 0 w 58320"/>
                      <a:gd name="textAreaRight" fmla="*/ 58680 w 58320"/>
                      <a:gd name="textAreaTop" fmla="*/ 0 h 117000"/>
                      <a:gd name="textAreaBottom" fmla="*/ 117360 h 117000"/>
                    </a:gdLst>
                    <a:ahLst/>
                    <a:rect l="textAreaLeft" t="textAreaTop" r="textAreaRight" b="textAreaBottom"/>
                    <a:pathLst>
                      <a:path w="535" h="724">
                        <a:moveTo>
                          <a:pt x="22" y="11"/>
                        </a:moveTo>
                        <a:lnTo>
                          <a:pt x="11" y="11"/>
                        </a:lnTo>
                        <a:lnTo>
                          <a:pt x="0" y="78"/>
                        </a:lnTo>
                        <a:lnTo>
                          <a:pt x="0" y="144"/>
                        </a:lnTo>
                        <a:lnTo>
                          <a:pt x="0" y="211"/>
                        </a:lnTo>
                        <a:lnTo>
                          <a:pt x="11" y="278"/>
                        </a:lnTo>
                        <a:lnTo>
                          <a:pt x="22" y="334"/>
                        </a:lnTo>
                        <a:lnTo>
                          <a:pt x="44" y="401"/>
                        </a:lnTo>
                        <a:lnTo>
                          <a:pt x="66" y="457"/>
                        </a:lnTo>
                        <a:lnTo>
                          <a:pt x="100" y="501"/>
                        </a:lnTo>
                        <a:lnTo>
                          <a:pt x="133" y="546"/>
                        </a:lnTo>
                        <a:lnTo>
                          <a:pt x="178" y="590"/>
                        </a:lnTo>
                        <a:lnTo>
                          <a:pt x="222" y="624"/>
                        </a:lnTo>
                        <a:lnTo>
                          <a:pt x="278" y="657"/>
                        </a:lnTo>
                        <a:lnTo>
                          <a:pt x="334" y="691"/>
                        </a:lnTo>
                        <a:lnTo>
                          <a:pt x="390" y="702"/>
                        </a:lnTo>
                        <a:lnTo>
                          <a:pt x="456" y="724"/>
                        </a:lnTo>
                        <a:lnTo>
                          <a:pt x="535" y="724"/>
                        </a:lnTo>
                        <a:lnTo>
                          <a:pt x="535" y="713"/>
                        </a:lnTo>
                        <a:lnTo>
                          <a:pt x="456" y="702"/>
                        </a:lnTo>
                        <a:lnTo>
                          <a:pt x="401" y="691"/>
                        </a:lnTo>
                        <a:lnTo>
                          <a:pt x="334" y="668"/>
                        </a:lnTo>
                        <a:lnTo>
                          <a:pt x="278" y="646"/>
                        </a:lnTo>
                        <a:lnTo>
                          <a:pt x="234" y="613"/>
                        </a:lnTo>
                        <a:lnTo>
                          <a:pt x="189" y="579"/>
                        </a:lnTo>
                        <a:lnTo>
                          <a:pt x="144" y="535"/>
                        </a:lnTo>
                        <a:lnTo>
                          <a:pt x="111" y="490"/>
                        </a:lnTo>
                        <a:lnTo>
                          <a:pt x="89" y="445"/>
                        </a:lnTo>
                        <a:lnTo>
                          <a:pt x="55" y="390"/>
                        </a:lnTo>
                        <a:lnTo>
                          <a:pt x="44" y="334"/>
                        </a:lnTo>
                        <a:lnTo>
                          <a:pt x="22" y="278"/>
                        </a:lnTo>
                        <a:lnTo>
                          <a:pt x="22" y="211"/>
                        </a:lnTo>
                        <a:lnTo>
                          <a:pt x="11" y="144"/>
                        </a:lnTo>
                        <a:lnTo>
                          <a:pt x="22" y="78"/>
                        </a:lnTo>
                        <a:lnTo>
                          <a:pt x="22" y="11"/>
                        </a:lnTo>
                        <a:lnTo>
                          <a:pt x="22" y="0"/>
                        </a:lnTo>
                        <a:lnTo>
                          <a:pt x="22"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1520"/>
                  <p:cNvSpPr/>
                  <p:nvPr/>
                </p:nvSpPr>
                <p:spPr>
                  <a:xfrm rot="111600">
                    <a:off x="5866560" y="924840"/>
                    <a:ext cx="26640" cy="61200"/>
                  </a:xfrm>
                  <a:custGeom>
                    <a:avLst/>
                    <a:gdLst>
                      <a:gd name="textAreaLeft" fmla="*/ 0 w 26640"/>
                      <a:gd name="textAreaRight" fmla="*/ 27000 w 26640"/>
                      <a:gd name="textAreaTop" fmla="*/ 0 h 61200"/>
                      <a:gd name="textAreaBottom" fmla="*/ 61560 h 61200"/>
                    </a:gdLst>
                    <a:ahLst/>
                    <a:rect l="textAreaLeft" t="textAreaTop" r="textAreaRight" b="textAreaBottom"/>
                    <a:pathLst>
                      <a:path w="245" h="379">
                        <a:moveTo>
                          <a:pt x="67" y="0"/>
                        </a:moveTo>
                        <a:lnTo>
                          <a:pt x="67" y="0"/>
                        </a:lnTo>
                        <a:lnTo>
                          <a:pt x="44" y="22"/>
                        </a:lnTo>
                        <a:lnTo>
                          <a:pt x="22" y="56"/>
                        </a:lnTo>
                        <a:lnTo>
                          <a:pt x="11" y="89"/>
                        </a:lnTo>
                        <a:lnTo>
                          <a:pt x="0" y="122"/>
                        </a:lnTo>
                        <a:lnTo>
                          <a:pt x="0" y="156"/>
                        </a:lnTo>
                        <a:lnTo>
                          <a:pt x="11" y="189"/>
                        </a:lnTo>
                        <a:lnTo>
                          <a:pt x="11" y="223"/>
                        </a:lnTo>
                        <a:lnTo>
                          <a:pt x="22" y="245"/>
                        </a:lnTo>
                        <a:lnTo>
                          <a:pt x="44" y="278"/>
                        </a:lnTo>
                        <a:lnTo>
                          <a:pt x="67" y="301"/>
                        </a:lnTo>
                        <a:lnTo>
                          <a:pt x="89" y="334"/>
                        </a:lnTo>
                        <a:lnTo>
                          <a:pt x="111" y="345"/>
                        </a:lnTo>
                        <a:lnTo>
                          <a:pt x="145" y="368"/>
                        </a:lnTo>
                        <a:lnTo>
                          <a:pt x="178" y="379"/>
                        </a:lnTo>
                        <a:lnTo>
                          <a:pt x="211" y="379"/>
                        </a:lnTo>
                        <a:lnTo>
                          <a:pt x="245" y="379"/>
                        </a:lnTo>
                        <a:lnTo>
                          <a:pt x="245" y="368"/>
                        </a:lnTo>
                        <a:lnTo>
                          <a:pt x="211" y="368"/>
                        </a:lnTo>
                        <a:lnTo>
                          <a:pt x="178" y="368"/>
                        </a:lnTo>
                        <a:lnTo>
                          <a:pt x="145" y="356"/>
                        </a:lnTo>
                        <a:lnTo>
                          <a:pt x="122" y="334"/>
                        </a:lnTo>
                        <a:lnTo>
                          <a:pt x="100" y="323"/>
                        </a:lnTo>
                        <a:lnTo>
                          <a:pt x="78" y="301"/>
                        </a:lnTo>
                        <a:lnTo>
                          <a:pt x="55" y="267"/>
                        </a:lnTo>
                        <a:lnTo>
                          <a:pt x="44" y="245"/>
                        </a:lnTo>
                        <a:lnTo>
                          <a:pt x="22" y="212"/>
                        </a:lnTo>
                        <a:lnTo>
                          <a:pt x="22" y="189"/>
                        </a:lnTo>
                        <a:lnTo>
                          <a:pt x="11" y="156"/>
                        </a:lnTo>
                        <a:lnTo>
                          <a:pt x="11" y="122"/>
                        </a:lnTo>
                        <a:lnTo>
                          <a:pt x="22" y="89"/>
                        </a:lnTo>
                        <a:lnTo>
                          <a:pt x="33" y="67"/>
                        </a:lnTo>
                        <a:lnTo>
                          <a:pt x="55" y="33"/>
                        </a:lnTo>
                        <a:lnTo>
                          <a:pt x="78" y="11"/>
                        </a:lnTo>
                        <a:lnTo>
                          <a:pt x="67" y="0"/>
                        </a:lnTo>
                        <a:close/>
                      </a:path>
                    </a:pathLst>
                  </a:custGeom>
                  <a:solidFill>
                    <a:srgbClr val="000000"/>
                  </a:solidFill>
                  <a:ln w="0">
                    <a:noFill/>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1519"/>
                  <p:cNvSpPr/>
                  <p:nvPr/>
                </p:nvSpPr>
                <p:spPr>
                  <a:xfrm rot="111600">
                    <a:off x="5874840" y="921600"/>
                    <a:ext cx="26640" cy="5400"/>
                  </a:xfrm>
                  <a:custGeom>
                    <a:avLst/>
                    <a:gdLst>
                      <a:gd name="textAreaLeft" fmla="*/ 0 w 26640"/>
                      <a:gd name="textAreaRight" fmla="*/ 27000 w 26640"/>
                      <a:gd name="textAreaTop" fmla="*/ 0 h 5400"/>
                      <a:gd name="textAreaBottom" fmla="*/ 5760 h 5400"/>
                    </a:gdLst>
                    <a:ahLst/>
                    <a:rect l="textAreaLeft" t="textAreaTop" r="textAreaRight" b="textAreaBottom"/>
                    <a:pathLst>
                      <a:path w="245" h="34">
                        <a:moveTo>
                          <a:pt x="234" y="23"/>
                        </a:moveTo>
                        <a:lnTo>
                          <a:pt x="234" y="23"/>
                        </a:lnTo>
                        <a:lnTo>
                          <a:pt x="222" y="23"/>
                        </a:lnTo>
                        <a:lnTo>
                          <a:pt x="200" y="12"/>
                        </a:lnTo>
                        <a:lnTo>
                          <a:pt x="189" y="12"/>
                        </a:lnTo>
                        <a:lnTo>
                          <a:pt x="167" y="12"/>
                        </a:lnTo>
                        <a:lnTo>
                          <a:pt x="156" y="12"/>
                        </a:lnTo>
                        <a:lnTo>
                          <a:pt x="133" y="0"/>
                        </a:lnTo>
                        <a:lnTo>
                          <a:pt x="122" y="0"/>
                        </a:lnTo>
                        <a:lnTo>
                          <a:pt x="111" y="0"/>
                        </a:lnTo>
                        <a:lnTo>
                          <a:pt x="89" y="0"/>
                        </a:lnTo>
                        <a:lnTo>
                          <a:pt x="78" y="0"/>
                        </a:lnTo>
                        <a:lnTo>
                          <a:pt x="66" y="0"/>
                        </a:lnTo>
                        <a:lnTo>
                          <a:pt x="55" y="0"/>
                        </a:lnTo>
                        <a:lnTo>
                          <a:pt x="33" y="0"/>
                        </a:lnTo>
                        <a:lnTo>
                          <a:pt x="22" y="12"/>
                        </a:lnTo>
                        <a:lnTo>
                          <a:pt x="11" y="12"/>
                        </a:lnTo>
                        <a:lnTo>
                          <a:pt x="0" y="23"/>
                        </a:lnTo>
                        <a:lnTo>
                          <a:pt x="11" y="34"/>
                        </a:lnTo>
                        <a:lnTo>
                          <a:pt x="22" y="23"/>
                        </a:lnTo>
                        <a:lnTo>
                          <a:pt x="33" y="23"/>
                        </a:lnTo>
                        <a:lnTo>
                          <a:pt x="44" y="23"/>
                        </a:lnTo>
                        <a:lnTo>
                          <a:pt x="55" y="12"/>
                        </a:lnTo>
                        <a:lnTo>
                          <a:pt x="66" y="12"/>
                        </a:lnTo>
                        <a:lnTo>
                          <a:pt x="78" y="12"/>
                        </a:lnTo>
                        <a:lnTo>
                          <a:pt x="89" y="12"/>
                        </a:lnTo>
                        <a:lnTo>
                          <a:pt x="111" y="12"/>
                        </a:lnTo>
                        <a:lnTo>
                          <a:pt x="122" y="12"/>
                        </a:lnTo>
                        <a:lnTo>
                          <a:pt x="133" y="23"/>
                        </a:lnTo>
                        <a:lnTo>
                          <a:pt x="156" y="23"/>
                        </a:lnTo>
                        <a:lnTo>
                          <a:pt x="167" y="23"/>
                        </a:lnTo>
                        <a:lnTo>
                          <a:pt x="189" y="23"/>
                        </a:lnTo>
                        <a:lnTo>
                          <a:pt x="200" y="34"/>
                        </a:lnTo>
                        <a:lnTo>
                          <a:pt x="222" y="34"/>
                        </a:lnTo>
                        <a:lnTo>
                          <a:pt x="234" y="34"/>
                        </a:lnTo>
                        <a:lnTo>
                          <a:pt x="245" y="34"/>
                        </a:lnTo>
                        <a:lnTo>
                          <a:pt x="234" y="23"/>
                        </a:lnTo>
                        <a:close/>
                      </a:path>
                    </a:pathLst>
                  </a:custGeom>
                  <a:solidFill>
                    <a:srgbClr val="000000"/>
                  </a:solidFill>
                  <a:ln w="0">
                    <a:noFill/>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1518"/>
                  <p:cNvSpPr/>
                  <p:nvPr/>
                </p:nvSpPr>
                <p:spPr>
                  <a:xfrm rot="111600">
                    <a:off x="5901480" y="865080"/>
                    <a:ext cx="52200" cy="63000"/>
                  </a:xfrm>
                  <a:custGeom>
                    <a:avLst/>
                    <a:gdLst>
                      <a:gd name="textAreaLeft" fmla="*/ 0 w 52200"/>
                      <a:gd name="textAreaRight" fmla="*/ 52560 w 52200"/>
                      <a:gd name="textAreaTop" fmla="*/ 0 h 63000"/>
                      <a:gd name="textAreaBottom" fmla="*/ 63360 h 63000"/>
                    </a:gdLst>
                    <a:ahLst/>
                    <a:rect l="textAreaLeft" t="textAreaTop" r="textAreaRight" b="textAreaBottom"/>
                    <a:pathLst>
                      <a:path w="479" h="390">
                        <a:moveTo>
                          <a:pt x="479" y="0"/>
                        </a:moveTo>
                        <a:lnTo>
                          <a:pt x="479" y="0"/>
                        </a:lnTo>
                        <a:lnTo>
                          <a:pt x="445" y="0"/>
                        </a:lnTo>
                        <a:lnTo>
                          <a:pt x="401" y="11"/>
                        </a:lnTo>
                        <a:lnTo>
                          <a:pt x="367" y="22"/>
                        </a:lnTo>
                        <a:lnTo>
                          <a:pt x="323" y="44"/>
                        </a:lnTo>
                        <a:lnTo>
                          <a:pt x="289" y="67"/>
                        </a:lnTo>
                        <a:lnTo>
                          <a:pt x="256" y="100"/>
                        </a:lnTo>
                        <a:lnTo>
                          <a:pt x="222" y="134"/>
                        </a:lnTo>
                        <a:lnTo>
                          <a:pt x="189" y="156"/>
                        </a:lnTo>
                        <a:lnTo>
                          <a:pt x="156" y="189"/>
                        </a:lnTo>
                        <a:lnTo>
                          <a:pt x="122" y="223"/>
                        </a:lnTo>
                        <a:lnTo>
                          <a:pt x="100" y="256"/>
                        </a:lnTo>
                        <a:lnTo>
                          <a:pt x="66" y="290"/>
                        </a:lnTo>
                        <a:lnTo>
                          <a:pt x="44" y="312"/>
                        </a:lnTo>
                        <a:lnTo>
                          <a:pt x="33" y="345"/>
                        </a:lnTo>
                        <a:lnTo>
                          <a:pt x="11" y="356"/>
                        </a:lnTo>
                        <a:lnTo>
                          <a:pt x="0" y="379"/>
                        </a:lnTo>
                        <a:lnTo>
                          <a:pt x="11" y="390"/>
                        </a:lnTo>
                        <a:lnTo>
                          <a:pt x="22" y="368"/>
                        </a:lnTo>
                        <a:lnTo>
                          <a:pt x="44" y="345"/>
                        </a:lnTo>
                        <a:lnTo>
                          <a:pt x="55" y="323"/>
                        </a:lnTo>
                        <a:lnTo>
                          <a:pt x="78" y="301"/>
                        </a:lnTo>
                        <a:lnTo>
                          <a:pt x="111" y="267"/>
                        </a:lnTo>
                        <a:lnTo>
                          <a:pt x="133" y="234"/>
                        </a:lnTo>
                        <a:lnTo>
                          <a:pt x="167" y="200"/>
                        </a:lnTo>
                        <a:lnTo>
                          <a:pt x="200" y="167"/>
                        </a:lnTo>
                        <a:lnTo>
                          <a:pt x="222" y="145"/>
                        </a:lnTo>
                        <a:lnTo>
                          <a:pt x="256" y="111"/>
                        </a:lnTo>
                        <a:lnTo>
                          <a:pt x="300" y="78"/>
                        </a:lnTo>
                        <a:lnTo>
                          <a:pt x="334" y="56"/>
                        </a:lnTo>
                        <a:lnTo>
                          <a:pt x="367" y="33"/>
                        </a:lnTo>
                        <a:lnTo>
                          <a:pt x="412" y="22"/>
                        </a:lnTo>
                        <a:lnTo>
                          <a:pt x="445" y="11"/>
                        </a:lnTo>
                        <a:lnTo>
                          <a:pt x="479" y="11"/>
                        </a:lnTo>
                        <a:lnTo>
                          <a:pt x="479" y="0"/>
                        </a:lnTo>
                        <a:close/>
                      </a:path>
                    </a:pathLst>
                  </a:custGeom>
                  <a:solidFill>
                    <a:srgbClr val="000000"/>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1517"/>
                  <p:cNvSpPr/>
                  <p:nvPr/>
                </p:nvSpPr>
                <p:spPr>
                  <a:xfrm rot="111600">
                    <a:off x="5927760" y="101700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22" h="11">
                        <a:moveTo>
                          <a:pt x="22" y="11"/>
                        </a:moveTo>
                        <a:lnTo>
                          <a:pt x="11" y="11"/>
                        </a:lnTo>
                        <a:lnTo>
                          <a:pt x="11" y="0"/>
                        </a:lnTo>
                        <a:lnTo>
                          <a:pt x="11" y="11"/>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1516"/>
                  <p:cNvSpPr/>
                  <p:nvPr/>
                </p:nvSpPr>
                <p:spPr>
                  <a:xfrm rot="111600">
                    <a:off x="5914440" y="1018440"/>
                    <a:ext cx="15480" cy="16200"/>
                  </a:xfrm>
                  <a:custGeom>
                    <a:avLst/>
                    <a:gdLst>
                      <a:gd name="textAreaLeft" fmla="*/ 0 w 15480"/>
                      <a:gd name="textAreaRight" fmla="*/ 15840 w 15480"/>
                      <a:gd name="textAreaTop" fmla="*/ 0 h 16200"/>
                      <a:gd name="textAreaBottom" fmla="*/ 16560 h 16200"/>
                    </a:gdLst>
                    <a:ahLst/>
                    <a:rect l="textAreaLeft" t="textAreaTop" r="textAreaRight" b="textAreaBottom"/>
                    <a:pathLst>
                      <a:path w="144" h="101">
                        <a:moveTo>
                          <a:pt x="0" y="101"/>
                        </a:moveTo>
                        <a:lnTo>
                          <a:pt x="22" y="101"/>
                        </a:lnTo>
                        <a:lnTo>
                          <a:pt x="44" y="89"/>
                        </a:lnTo>
                        <a:lnTo>
                          <a:pt x="66" y="89"/>
                        </a:lnTo>
                        <a:lnTo>
                          <a:pt x="89" y="78"/>
                        </a:lnTo>
                        <a:lnTo>
                          <a:pt x="100" y="67"/>
                        </a:lnTo>
                        <a:lnTo>
                          <a:pt x="122" y="45"/>
                        </a:lnTo>
                        <a:lnTo>
                          <a:pt x="133" y="22"/>
                        </a:lnTo>
                        <a:lnTo>
                          <a:pt x="144" y="0"/>
                        </a:lnTo>
                        <a:lnTo>
                          <a:pt x="122" y="0"/>
                        </a:lnTo>
                        <a:lnTo>
                          <a:pt x="122" y="22"/>
                        </a:lnTo>
                        <a:lnTo>
                          <a:pt x="111" y="34"/>
                        </a:lnTo>
                        <a:lnTo>
                          <a:pt x="89" y="56"/>
                        </a:lnTo>
                        <a:lnTo>
                          <a:pt x="78" y="67"/>
                        </a:lnTo>
                        <a:lnTo>
                          <a:pt x="55" y="67"/>
                        </a:lnTo>
                        <a:lnTo>
                          <a:pt x="44" y="78"/>
                        </a:lnTo>
                        <a:lnTo>
                          <a:pt x="22" y="78"/>
                        </a:lnTo>
                        <a:lnTo>
                          <a:pt x="0" y="89"/>
                        </a:lnTo>
                        <a:lnTo>
                          <a:pt x="0" y="101"/>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1515"/>
                  <p:cNvSpPr/>
                  <p:nvPr/>
                </p:nvSpPr>
                <p:spPr>
                  <a:xfrm rot="111600">
                    <a:off x="5927760" y="1017000"/>
                    <a:ext cx="1080" cy="3240"/>
                  </a:xfrm>
                  <a:custGeom>
                    <a:avLst/>
                    <a:gdLst>
                      <a:gd name="textAreaLeft" fmla="*/ 0 w 1080"/>
                      <a:gd name="textAreaRight" fmla="*/ 1440 w 1080"/>
                      <a:gd name="textAreaTop" fmla="*/ 0 h 3240"/>
                      <a:gd name="textAreaBottom" fmla="*/ 3600 h 3240"/>
                    </a:gdLst>
                    <a:ahLst/>
                    <a:rect l="textAreaLeft" t="textAreaTop" r="textAreaRight" b="textAreaBottom"/>
                    <a:pathLst>
                      <a:path w="11" h="22">
                        <a:moveTo>
                          <a:pt x="11" y="0"/>
                        </a:moveTo>
                        <a:lnTo>
                          <a:pt x="11" y="11"/>
                        </a:lnTo>
                        <a:lnTo>
                          <a:pt x="0" y="11"/>
                        </a:lnTo>
                        <a:lnTo>
                          <a:pt x="11" y="11"/>
                        </a:lnTo>
                        <a:lnTo>
                          <a:pt x="11" y="22"/>
                        </a:lnTo>
                        <a:lnTo>
                          <a:pt x="11"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1514"/>
                  <p:cNvSpPr/>
                  <p:nvPr/>
                </p:nvSpPr>
                <p:spPr>
                  <a:xfrm rot="111600">
                    <a:off x="5976360" y="1021680"/>
                    <a:ext cx="2160" cy="360"/>
                  </a:xfrm>
                  <a:custGeom>
                    <a:avLst/>
                    <a:gdLst>
                      <a:gd name="textAreaLeft" fmla="*/ 0 w 2160"/>
                      <a:gd name="textAreaRight" fmla="*/ 2520 w 2160"/>
                      <a:gd name="textAreaTop" fmla="*/ 0 h 360"/>
                      <a:gd name="textAreaBottom" fmla="*/ 720 h 360"/>
                    </a:gdLst>
                    <a:ahLst/>
                    <a:rect l="textAreaLeft" t="textAreaTop" r="textAreaRight" b="textAreaBottom"/>
                    <a:pathLst>
                      <a:path w="22" h="1">
                        <a:moveTo>
                          <a:pt x="22" y="0"/>
                        </a:moveTo>
                        <a:lnTo>
                          <a:pt x="11" y="0"/>
                        </a:lnTo>
                        <a:lnTo>
                          <a:pt x="0" y="0"/>
                        </a:lnTo>
                        <a:lnTo>
                          <a:pt x="22"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1513"/>
                  <p:cNvSpPr/>
                  <p:nvPr/>
                </p:nvSpPr>
                <p:spPr>
                  <a:xfrm rot="111600">
                    <a:off x="5976360" y="1021680"/>
                    <a:ext cx="15840" cy="18000"/>
                  </a:xfrm>
                  <a:custGeom>
                    <a:avLst/>
                    <a:gdLst>
                      <a:gd name="textAreaLeft" fmla="*/ 0 w 15840"/>
                      <a:gd name="textAreaRight" fmla="*/ 16200 w 15840"/>
                      <a:gd name="textAreaTop" fmla="*/ 0 h 18000"/>
                      <a:gd name="textAreaBottom" fmla="*/ 18360 h 18000"/>
                    </a:gdLst>
                    <a:ahLst/>
                    <a:rect l="textAreaLeft" t="textAreaTop" r="textAreaRight" b="textAreaBottom"/>
                    <a:pathLst>
                      <a:path w="145" h="112">
                        <a:moveTo>
                          <a:pt x="145" y="101"/>
                        </a:moveTo>
                        <a:lnTo>
                          <a:pt x="111" y="101"/>
                        </a:lnTo>
                        <a:lnTo>
                          <a:pt x="89" y="101"/>
                        </a:lnTo>
                        <a:lnTo>
                          <a:pt x="67" y="90"/>
                        </a:lnTo>
                        <a:lnTo>
                          <a:pt x="45" y="90"/>
                        </a:lnTo>
                        <a:lnTo>
                          <a:pt x="33" y="78"/>
                        </a:lnTo>
                        <a:lnTo>
                          <a:pt x="22" y="56"/>
                        </a:lnTo>
                        <a:lnTo>
                          <a:pt x="22" y="34"/>
                        </a:lnTo>
                        <a:lnTo>
                          <a:pt x="22" y="0"/>
                        </a:lnTo>
                        <a:lnTo>
                          <a:pt x="0" y="0"/>
                        </a:lnTo>
                        <a:lnTo>
                          <a:pt x="11" y="34"/>
                        </a:lnTo>
                        <a:lnTo>
                          <a:pt x="11" y="67"/>
                        </a:lnTo>
                        <a:lnTo>
                          <a:pt x="22" y="90"/>
                        </a:lnTo>
                        <a:lnTo>
                          <a:pt x="45" y="101"/>
                        </a:lnTo>
                        <a:lnTo>
                          <a:pt x="67" y="112"/>
                        </a:lnTo>
                        <a:lnTo>
                          <a:pt x="89" y="112"/>
                        </a:lnTo>
                        <a:lnTo>
                          <a:pt x="111" y="112"/>
                        </a:lnTo>
                        <a:lnTo>
                          <a:pt x="145" y="112"/>
                        </a:lnTo>
                        <a:lnTo>
                          <a:pt x="145" y="101"/>
                        </a:lnTo>
                        <a:close/>
                      </a:path>
                    </a:pathLst>
                  </a:custGeom>
                  <a:solidFill>
                    <a:srgbClr val="000000"/>
                  </a:solidFill>
                  <a:ln w="0">
                    <a:noFill/>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1512"/>
                  <p:cNvSpPr/>
                  <p:nvPr/>
                </p:nvSpPr>
                <p:spPr>
                  <a:xfrm rot="111600">
                    <a:off x="5977800" y="102168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0" y="11"/>
                        </a:moveTo>
                        <a:lnTo>
                          <a:pt x="0" y="0"/>
                        </a:lnTo>
                        <a:lnTo>
                          <a:pt x="11" y="0"/>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1511"/>
                  <p:cNvSpPr/>
                  <p:nvPr/>
                </p:nvSpPr>
                <p:spPr>
                  <a:xfrm rot="111600">
                    <a:off x="5940360" y="927000"/>
                    <a:ext cx="3600" cy="3240"/>
                  </a:xfrm>
                  <a:custGeom>
                    <a:avLst/>
                    <a:gdLst>
                      <a:gd name="textAreaLeft" fmla="*/ 0 w 3600"/>
                      <a:gd name="textAreaRight" fmla="*/ 3960 w 3600"/>
                      <a:gd name="textAreaTop" fmla="*/ 0 h 3240"/>
                      <a:gd name="textAreaBottom" fmla="*/ 3600 h 3240"/>
                    </a:gdLst>
                    <a:ahLst/>
                    <a:rect l="textAreaLeft" t="textAreaTop" r="textAreaRight" b="textAreaBottom"/>
                    <a:pathLst>
                      <a:path w="34" h="22">
                        <a:moveTo>
                          <a:pt x="34" y="22"/>
                        </a:moveTo>
                        <a:lnTo>
                          <a:pt x="34" y="0"/>
                        </a:lnTo>
                        <a:lnTo>
                          <a:pt x="11" y="0"/>
                        </a:lnTo>
                        <a:lnTo>
                          <a:pt x="0" y="0"/>
                        </a:lnTo>
                        <a:lnTo>
                          <a:pt x="0" y="22"/>
                        </a:lnTo>
                        <a:lnTo>
                          <a:pt x="34" y="22"/>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1510"/>
                  <p:cNvSpPr/>
                  <p:nvPr/>
                </p:nvSpPr>
                <p:spPr>
                  <a:xfrm rot="111600">
                    <a:off x="5936760" y="93060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67" h="100">
                        <a:moveTo>
                          <a:pt x="44" y="100"/>
                        </a:moveTo>
                        <a:lnTo>
                          <a:pt x="44" y="78"/>
                        </a:lnTo>
                        <a:lnTo>
                          <a:pt x="56" y="56"/>
                        </a:lnTo>
                        <a:lnTo>
                          <a:pt x="67" y="22"/>
                        </a:lnTo>
                        <a:lnTo>
                          <a:pt x="67" y="0"/>
                        </a:lnTo>
                        <a:lnTo>
                          <a:pt x="33" y="0"/>
                        </a:lnTo>
                        <a:lnTo>
                          <a:pt x="22" y="22"/>
                        </a:lnTo>
                        <a:lnTo>
                          <a:pt x="22" y="45"/>
                        </a:lnTo>
                        <a:lnTo>
                          <a:pt x="11" y="67"/>
                        </a:lnTo>
                        <a:lnTo>
                          <a:pt x="0" y="100"/>
                        </a:lnTo>
                        <a:lnTo>
                          <a:pt x="44" y="100"/>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1509"/>
                  <p:cNvSpPr/>
                  <p:nvPr/>
                </p:nvSpPr>
                <p:spPr>
                  <a:xfrm rot="111600">
                    <a:off x="5940360" y="930600"/>
                    <a:ext cx="3600" cy="1440"/>
                  </a:xfrm>
                  <a:custGeom>
                    <a:avLst/>
                    <a:gdLst>
                      <a:gd name="textAreaLeft" fmla="*/ 0 w 3600"/>
                      <a:gd name="textAreaRight" fmla="*/ 3960 w 3600"/>
                      <a:gd name="textAreaTop" fmla="*/ 0 h 1440"/>
                      <a:gd name="textAreaBottom" fmla="*/ 1800 h 1440"/>
                    </a:gdLst>
                    <a:ahLst/>
                    <a:rect l="textAreaLeft" t="textAreaTop" r="textAreaRight" b="textAreaBottom"/>
                    <a:pathLst>
                      <a:path w="34" h="11">
                        <a:moveTo>
                          <a:pt x="0" y="0"/>
                        </a:moveTo>
                        <a:lnTo>
                          <a:pt x="0" y="11"/>
                        </a:lnTo>
                        <a:lnTo>
                          <a:pt x="11" y="11"/>
                        </a:lnTo>
                        <a:lnTo>
                          <a:pt x="34" y="11"/>
                        </a:lnTo>
                        <a:lnTo>
                          <a:pt x="34"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1508"/>
                  <p:cNvSpPr/>
                  <p:nvPr/>
                </p:nvSpPr>
                <p:spPr>
                  <a:xfrm rot="111600">
                    <a:off x="5970960" y="931680"/>
                    <a:ext cx="3600" cy="3240"/>
                  </a:xfrm>
                  <a:custGeom>
                    <a:avLst/>
                    <a:gdLst>
                      <a:gd name="textAreaLeft" fmla="*/ 0 w 3600"/>
                      <a:gd name="textAreaRight" fmla="*/ 3960 w 3600"/>
                      <a:gd name="textAreaTop" fmla="*/ 0 h 3240"/>
                      <a:gd name="textAreaBottom" fmla="*/ 3600 h 3240"/>
                    </a:gdLst>
                    <a:ahLst/>
                    <a:rect l="textAreaLeft" t="textAreaTop" r="textAreaRight" b="textAreaBottom"/>
                    <a:pathLst>
                      <a:path w="33" h="22">
                        <a:moveTo>
                          <a:pt x="33" y="11"/>
                        </a:moveTo>
                        <a:lnTo>
                          <a:pt x="22" y="11"/>
                        </a:lnTo>
                        <a:lnTo>
                          <a:pt x="22" y="0"/>
                        </a:lnTo>
                        <a:lnTo>
                          <a:pt x="11" y="0"/>
                        </a:lnTo>
                        <a:lnTo>
                          <a:pt x="0" y="0"/>
                        </a:lnTo>
                        <a:lnTo>
                          <a:pt x="0" y="11"/>
                        </a:lnTo>
                        <a:lnTo>
                          <a:pt x="0" y="22"/>
                        </a:lnTo>
                        <a:lnTo>
                          <a:pt x="33" y="11"/>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1507"/>
                  <p:cNvSpPr/>
                  <p:nvPr/>
                </p:nvSpPr>
                <p:spPr>
                  <a:xfrm rot="111600">
                    <a:off x="5970960" y="933480"/>
                    <a:ext cx="7200" cy="19800"/>
                  </a:xfrm>
                  <a:custGeom>
                    <a:avLst/>
                    <a:gdLst>
                      <a:gd name="textAreaLeft" fmla="*/ 0 w 7200"/>
                      <a:gd name="textAreaRight" fmla="*/ 7560 w 7200"/>
                      <a:gd name="textAreaTop" fmla="*/ 0 h 19800"/>
                      <a:gd name="textAreaBottom" fmla="*/ 20160 h 19800"/>
                    </a:gdLst>
                    <a:ahLst/>
                    <a:rect l="textAreaLeft" t="textAreaTop" r="textAreaRight" b="textAreaBottom"/>
                    <a:pathLst>
                      <a:path w="67" h="123">
                        <a:moveTo>
                          <a:pt x="67" y="112"/>
                        </a:moveTo>
                        <a:lnTo>
                          <a:pt x="56" y="78"/>
                        </a:lnTo>
                        <a:lnTo>
                          <a:pt x="45" y="56"/>
                        </a:lnTo>
                        <a:lnTo>
                          <a:pt x="45" y="34"/>
                        </a:lnTo>
                        <a:lnTo>
                          <a:pt x="33" y="0"/>
                        </a:lnTo>
                        <a:lnTo>
                          <a:pt x="0" y="11"/>
                        </a:lnTo>
                        <a:lnTo>
                          <a:pt x="0" y="45"/>
                        </a:lnTo>
                        <a:lnTo>
                          <a:pt x="11" y="67"/>
                        </a:lnTo>
                        <a:lnTo>
                          <a:pt x="22" y="89"/>
                        </a:lnTo>
                        <a:lnTo>
                          <a:pt x="33" y="123"/>
                        </a:lnTo>
                        <a:lnTo>
                          <a:pt x="67" y="112"/>
                        </a:lnTo>
                        <a:close/>
                      </a:path>
                    </a:pathLst>
                  </a:custGeom>
                  <a:solidFill>
                    <a:srgbClr val="000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1506"/>
                  <p:cNvSpPr/>
                  <p:nvPr/>
                </p:nvSpPr>
                <p:spPr>
                  <a:xfrm rot="111600">
                    <a:off x="5970960" y="933480"/>
                    <a:ext cx="3600" cy="3600"/>
                  </a:xfrm>
                  <a:custGeom>
                    <a:avLst/>
                    <a:gdLst>
                      <a:gd name="textAreaLeft" fmla="*/ 0 w 3600"/>
                      <a:gd name="textAreaRight" fmla="*/ 3960 w 3600"/>
                      <a:gd name="textAreaTop" fmla="*/ 0 h 3600"/>
                      <a:gd name="textAreaBottom" fmla="*/ 3960 h 3600"/>
                    </a:gdLst>
                    <a:ahLst/>
                    <a:rect l="textAreaLeft" t="textAreaTop" r="textAreaRight" b="textAreaBottom"/>
                    <a:pathLst>
                      <a:path w="33" h="23">
                        <a:moveTo>
                          <a:pt x="0" y="11"/>
                        </a:moveTo>
                        <a:lnTo>
                          <a:pt x="0" y="23"/>
                        </a:lnTo>
                        <a:lnTo>
                          <a:pt x="11" y="23"/>
                        </a:lnTo>
                        <a:lnTo>
                          <a:pt x="22" y="23"/>
                        </a:lnTo>
                        <a:lnTo>
                          <a:pt x="33" y="11"/>
                        </a:lnTo>
                        <a:lnTo>
                          <a:pt x="33" y="0"/>
                        </a:lnTo>
                        <a:lnTo>
                          <a:pt x="0" y="11"/>
                        </a:lnTo>
                        <a:close/>
                      </a:path>
                    </a:pathLst>
                  </a:custGeom>
                  <a:solidFill>
                    <a:srgbClr val="000000"/>
                  </a:solidFill>
                  <a:ln w="0">
                    <a:noFill/>
                  </a:ln>
                </p:spPr>
                <p:style>
                  <a:lnRef idx="0"/>
                  <a:fillRef idx="0"/>
                  <a:effectRef idx="0"/>
                  <a:fontRef idx="minor"/>
                </p:style>
                <p:txBody>
                  <a:bodyPr lIns="90000" rIns="90000" tIns="-42840" bIns="-42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1505"/>
                  <p:cNvSpPr/>
                  <p:nvPr/>
                </p:nvSpPr>
                <p:spPr>
                  <a:xfrm rot="111600">
                    <a:off x="5966640" y="981720"/>
                    <a:ext cx="1080" cy="360"/>
                  </a:xfrm>
                  <a:custGeom>
                    <a:avLst/>
                    <a:gdLst>
                      <a:gd name="textAreaLeft" fmla="*/ 0 w 1080"/>
                      <a:gd name="textAreaRight" fmla="*/ 1440 w 1080"/>
                      <a:gd name="textAreaTop" fmla="*/ 0 h 360"/>
                      <a:gd name="textAreaBottom" fmla="*/ 720 h 360"/>
                    </a:gdLst>
                    <a:ahLst/>
                    <a:rect l="textAreaLeft" t="textAreaTop" r="textAreaRight" b="textAreaBottom"/>
                    <a:pathLst>
                      <a:path w="11" h="1">
                        <a:moveTo>
                          <a:pt x="0" y="0"/>
                        </a:moveTo>
                        <a:lnTo>
                          <a:pt x="0" y="0"/>
                        </a:lnTo>
                        <a:lnTo>
                          <a:pt x="11"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1504"/>
                  <p:cNvSpPr/>
                  <p:nvPr/>
                </p:nvSpPr>
                <p:spPr>
                  <a:xfrm rot="111600">
                    <a:off x="5956200" y="961920"/>
                    <a:ext cx="12240" cy="19440"/>
                  </a:xfrm>
                  <a:custGeom>
                    <a:avLst/>
                    <a:gdLst>
                      <a:gd name="textAreaLeft" fmla="*/ 0 w 12240"/>
                      <a:gd name="textAreaRight" fmla="*/ 12600 w 12240"/>
                      <a:gd name="textAreaTop" fmla="*/ 0 h 19440"/>
                      <a:gd name="textAreaBottom" fmla="*/ 19800 h 19440"/>
                    </a:gdLst>
                    <a:ahLst/>
                    <a:rect l="textAreaLeft" t="textAreaTop" r="textAreaRight" b="textAreaBottom"/>
                    <a:pathLst>
                      <a:path w="112" h="122">
                        <a:moveTo>
                          <a:pt x="0" y="22"/>
                        </a:moveTo>
                        <a:lnTo>
                          <a:pt x="0" y="22"/>
                        </a:lnTo>
                        <a:lnTo>
                          <a:pt x="12" y="22"/>
                        </a:lnTo>
                        <a:lnTo>
                          <a:pt x="34" y="33"/>
                        </a:lnTo>
                        <a:lnTo>
                          <a:pt x="45" y="44"/>
                        </a:lnTo>
                        <a:lnTo>
                          <a:pt x="56" y="55"/>
                        </a:lnTo>
                        <a:lnTo>
                          <a:pt x="78" y="66"/>
                        </a:lnTo>
                        <a:lnTo>
                          <a:pt x="90" y="89"/>
                        </a:lnTo>
                        <a:lnTo>
                          <a:pt x="90" y="100"/>
                        </a:lnTo>
                        <a:lnTo>
                          <a:pt x="101" y="122"/>
                        </a:lnTo>
                        <a:lnTo>
                          <a:pt x="112" y="122"/>
                        </a:lnTo>
                        <a:lnTo>
                          <a:pt x="112" y="100"/>
                        </a:lnTo>
                        <a:lnTo>
                          <a:pt x="101" y="78"/>
                        </a:lnTo>
                        <a:lnTo>
                          <a:pt x="90" y="55"/>
                        </a:lnTo>
                        <a:lnTo>
                          <a:pt x="67" y="44"/>
                        </a:lnTo>
                        <a:lnTo>
                          <a:pt x="56" y="33"/>
                        </a:lnTo>
                        <a:lnTo>
                          <a:pt x="34" y="11"/>
                        </a:lnTo>
                        <a:lnTo>
                          <a:pt x="23" y="11"/>
                        </a:lnTo>
                        <a:lnTo>
                          <a:pt x="0" y="0"/>
                        </a:lnTo>
                        <a:lnTo>
                          <a:pt x="0" y="22"/>
                        </a:lnTo>
                        <a:close/>
                      </a:path>
                    </a:pathLst>
                  </a:custGeom>
                  <a:solidFill>
                    <a:srgbClr val="000000"/>
                  </a:solidFill>
                  <a:ln w="0">
                    <a:noFill/>
                  </a:ln>
                </p:spPr>
                <p:style>
                  <a:lnRef idx="0"/>
                  <a:fillRef idx="0"/>
                  <a:effectRef idx="0"/>
                  <a:fontRef idx="minor"/>
                </p:style>
                <p:txBody>
                  <a:bodyPr lIns="90000" rIns="90000" tIns="-27000" bIns="-27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1503"/>
                  <p:cNvSpPr/>
                  <p:nvPr/>
                </p:nvSpPr>
                <p:spPr>
                  <a:xfrm rot="111600">
                    <a:off x="5940360" y="961560"/>
                    <a:ext cx="15840" cy="19440"/>
                  </a:xfrm>
                  <a:custGeom>
                    <a:avLst/>
                    <a:gdLst>
                      <a:gd name="textAreaLeft" fmla="*/ 0 w 15840"/>
                      <a:gd name="textAreaRight" fmla="*/ 16200 w 15840"/>
                      <a:gd name="textAreaTop" fmla="*/ 0 h 19440"/>
                      <a:gd name="textAreaBottom" fmla="*/ 19800 h 19440"/>
                    </a:gdLst>
                    <a:ahLst/>
                    <a:rect l="textAreaLeft" t="textAreaTop" r="textAreaRight" b="textAreaBottom"/>
                    <a:pathLst>
                      <a:path w="145" h="122">
                        <a:moveTo>
                          <a:pt x="12" y="122"/>
                        </a:moveTo>
                        <a:lnTo>
                          <a:pt x="23" y="100"/>
                        </a:lnTo>
                        <a:lnTo>
                          <a:pt x="34" y="89"/>
                        </a:lnTo>
                        <a:lnTo>
                          <a:pt x="45" y="66"/>
                        </a:lnTo>
                        <a:lnTo>
                          <a:pt x="56" y="44"/>
                        </a:lnTo>
                        <a:lnTo>
                          <a:pt x="79" y="33"/>
                        </a:lnTo>
                        <a:lnTo>
                          <a:pt x="101" y="22"/>
                        </a:lnTo>
                        <a:lnTo>
                          <a:pt x="123" y="22"/>
                        </a:lnTo>
                        <a:lnTo>
                          <a:pt x="145" y="22"/>
                        </a:lnTo>
                        <a:lnTo>
                          <a:pt x="145" y="0"/>
                        </a:lnTo>
                        <a:lnTo>
                          <a:pt x="123" y="0"/>
                        </a:lnTo>
                        <a:lnTo>
                          <a:pt x="90" y="11"/>
                        </a:lnTo>
                        <a:lnTo>
                          <a:pt x="67" y="22"/>
                        </a:lnTo>
                        <a:lnTo>
                          <a:pt x="56" y="33"/>
                        </a:lnTo>
                        <a:lnTo>
                          <a:pt x="34" y="55"/>
                        </a:lnTo>
                        <a:lnTo>
                          <a:pt x="23" y="78"/>
                        </a:lnTo>
                        <a:lnTo>
                          <a:pt x="0" y="100"/>
                        </a:lnTo>
                        <a:lnTo>
                          <a:pt x="0" y="122"/>
                        </a:lnTo>
                        <a:lnTo>
                          <a:pt x="12" y="122"/>
                        </a:lnTo>
                        <a:close/>
                      </a:path>
                    </a:pathLst>
                  </a:custGeom>
                  <a:solidFill>
                    <a:srgbClr val="000000"/>
                  </a:solidFill>
                  <a:ln w="0">
                    <a:noFill/>
                  </a:ln>
                </p:spPr>
                <p:style>
                  <a:lnRef idx="0"/>
                  <a:fillRef idx="0"/>
                  <a:effectRef idx="0"/>
                  <a:fontRef idx="minor"/>
                </p:style>
                <p:txBody>
                  <a:bodyPr lIns="90000" rIns="90000" tIns="-27000" bIns="-27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1502"/>
                  <p:cNvSpPr/>
                  <p:nvPr/>
                </p:nvSpPr>
                <p:spPr>
                  <a:xfrm rot="111600">
                    <a:off x="5955120" y="963360"/>
                    <a:ext cx="1080" cy="360"/>
                  </a:xfrm>
                  <a:custGeom>
                    <a:avLst/>
                    <a:gdLst>
                      <a:gd name="textAreaLeft" fmla="*/ 0 w 1080"/>
                      <a:gd name="textAreaRight" fmla="*/ 1440 w 1080"/>
                      <a:gd name="textAreaTop" fmla="*/ 0 h 360"/>
                      <a:gd name="textAreaBottom" fmla="*/ 720 h 360"/>
                    </a:gdLst>
                    <a:ahLst/>
                    <a:rect l="textAreaLeft" t="textAreaTop" r="textAreaRight" b="textAreaBottom"/>
                    <a:pathLst>
                      <a:path w="11" h="1">
                        <a:moveTo>
                          <a:pt x="0" y="0"/>
                        </a:moveTo>
                        <a:lnTo>
                          <a:pt x="0" y="0"/>
                        </a:lnTo>
                        <a:lnTo>
                          <a:pt x="11"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1501"/>
                  <p:cNvSpPr/>
                  <p:nvPr/>
                </p:nvSpPr>
                <p:spPr>
                  <a:xfrm rot="111600">
                    <a:off x="5921280" y="103104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2" h="11">
                        <a:moveTo>
                          <a:pt x="12" y="0"/>
                        </a:moveTo>
                        <a:lnTo>
                          <a:pt x="0" y="0"/>
                        </a:lnTo>
                        <a:lnTo>
                          <a:pt x="0" y="11"/>
                        </a:lnTo>
                        <a:lnTo>
                          <a:pt x="12"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1500"/>
                  <p:cNvSpPr/>
                  <p:nvPr/>
                </p:nvSpPr>
                <p:spPr>
                  <a:xfrm rot="111600">
                    <a:off x="5921280" y="1031040"/>
                    <a:ext cx="4680" cy="12600"/>
                  </a:xfrm>
                  <a:custGeom>
                    <a:avLst/>
                    <a:gdLst>
                      <a:gd name="textAreaLeft" fmla="*/ 0 w 4680"/>
                      <a:gd name="textAreaRight" fmla="*/ 5040 w 4680"/>
                      <a:gd name="textAreaTop" fmla="*/ 0 h 12600"/>
                      <a:gd name="textAreaBottom" fmla="*/ 12960 h 12600"/>
                    </a:gdLst>
                    <a:ahLst/>
                    <a:rect l="textAreaLeft" t="textAreaTop" r="textAreaRight" b="textAreaBottom"/>
                    <a:pathLst>
                      <a:path w="45" h="78">
                        <a:moveTo>
                          <a:pt x="45" y="67"/>
                        </a:moveTo>
                        <a:lnTo>
                          <a:pt x="45" y="67"/>
                        </a:lnTo>
                        <a:lnTo>
                          <a:pt x="34" y="56"/>
                        </a:lnTo>
                        <a:lnTo>
                          <a:pt x="34" y="34"/>
                        </a:lnTo>
                        <a:lnTo>
                          <a:pt x="23" y="11"/>
                        </a:lnTo>
                        <a:lnTo>
                          <a:pt x="12" y="0"/>
                        </a:lnTo>
                        <a:lnTo>
                          <a:pt x="0" y="11"/>
                        </a:lnTo>
                        <a:lnTo>
                          <a:pt x="12" y="23"/>
                        </a:lnTo>
                        <a:lnTo>
                          <a:pt x="23" y="45"/>
                        </a:lnTo>
                        <a:lnTo>
                          <a:pt x="23" y="56"/>
                        </a:lnTo>
                        <a:lnTo>
                          <a:pt x="34" y="78"/>
                        </a:lnTo>
                        <a:lnTo>
                          <a:pt x="45" y="67"/>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1499"/>
                  <p:cNvSpPr/>
                  <p:nvPr/>
                </p:nvSpPr>
                <p:spPr>
                  <a:xfrm rot="111600">
                    <a:off x="5924160" y="1042560"/>
                    <a:ext cx="37440" cy="21600"/>
                  </a:xfrm>
                  <a:custGeom>
                    <a:avLst/>
                    <a:gdLst>
                      <a:gd name="textAreaLeft" fmla="*/ 0 w 37440"/>
                      <a:gd name="textAreaRight" fmla="*/ 37800 w 37440"/>
                      <a:gd name="textAreaTop" fmla="*/ 0 h 21600"/>
                      <a:gd name="textAreaBottom" fmla="*/ 21960 h 21600"/>
                    </a:gdLst>
                    <a:ahLst/>
                    <a:rect l="textAreaLeft" t="textAreaTop" r="textAreaRight" b="textAreaBottom"/>
                    <a:pathLst>
                      <a:path w="345" h="134">
                        <a:moveTo>
                          <a:pt x="345" y="100"/>
                        </a:moveTo>
                        <a:lnTo>
                          <a:pt x="345" y="100"/>
                        </a:lnTo>
                        <a:lnTo>
                          <a:pt x="323" y="112"/>
                        </a:lnTo>
                        <a:lnTo>
                          <a:pt x="290" y="123"/>
                        </a:lnTo>
                        <a:lnTo>
                          <a:pt x="267" y="123"/>
                        </a:lnTo>
                        <a:lnTo>
                          <a:pt x="245" y="123"/>
                        </a:lnTo>
                        <a:lnTo>
                          <a:pt x="223" y="123"/>
                        </a:lnTo>
                        <a:lnTo>
                          <a:pt x="201" y="123"/>
                        </a:lnTo>
                        <a:lnTo>
                          <a:pt x="178" y="112"/>
                        </a:lnTo>
                        <a:lnTo>
                          <a:pt x="156" y="112"/>
                        </a:lnTo>
                        <a:lnTo>
                          <a:pt x="145" y="100"/>
                        </a:lnTo>
                        <a:lnTo>
                          <a:pt x="122" y="89"/>
                        </a:lnTo>
                        <a:lnTo>
                          <a:pt x="100" y="78"/>
                        </a:lnTo>
                        <a:lnTo>
                          <a:pt x="78" y="67"/>
                        </a:lnTo>
                        <a:lnTo>
                          <a:pt x="67" y="56"/>
                        </a:lnTo>
                        <a:lnTo>
                          <a:pt x="44" y="45"/>
                        </a:lnTo>
                        <a:lnTo>
                          <a:pt x="33" y="22"/>
                        </a:lnTo>
                        <a:lnTo>
                          <a:pt x="11" y="0"/>
                        </a:lnTo>
                        <a:lnTo>
                          <a:pt x="0" y="11"/>
                        </a:lnTo>
                        <a:lnTo>
                          <a:pt x="22" y="34"/>
                        </a:lnTo>
                        <a:lnTo>
                          <a:pt x="33" y="56"/>
                        </a:lnTo>
                        <a:lnTo>
                          <a:pt x="56" y="67"/>
                        </a:lnTo>
                        <a:lnTo>
                          <a:pt x="78" y="78"/>
                        </a:lnTo>
                        <a:lnTo>
                          <a:pt x="89" y="100"/>
                        </a:lnTo>
                        <a:lnTo>
                          <a:pt x="111" y="112"/>
                        </a:lnTo>
                        <a:lnTo>
                          <a:pt x="134" y="112"/>
                        </a:lnTo>
                        <a:lnTo>
                          <a:pt x="156" y="123"/>
                        </a:lnTo>
                        <a:lnTo>
                          <a:pt x="178" y="134"/>
                        </a:lnTo>
                        <a:lnTo>
                          <a:pt x="201" y="134"/>
                        </a:lnTo>
                        <a:lnTo>
                          <a:pt x="223" y="134"/>
                        </a:lnTo>
                        <a:lnTo>
                          <a:pt x="245" y="134"/>
                        </a:lnTo>
                        <a:lnTo>
                          <a:pt x="267" y="134"/>
                        </a:lnTo>
                        <a:lnTo>
                          <a:pt x="301" y="134"/>
                        </a:lnTo>
                        <a:lnTo>
                          <a:pt x="323" y="123"/>
                        </a:lnTo>
                        <a:lnTo>
                          <a:pt x="345" y="112"/>
                        </a:lnTo>
                        <a:lnTo>
                          <a:pt x="345" y="100"/>
                        </a:lnTo>
                        <a:close/>
                      </a:path>
                    </a:pathLst>
                  </a:custGeom>
                  <a:solidFill>
                    <a:srgbClr val="000000"/>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498"/>
                  <p:cNvSpPr/>
                  <p:nvPr/>
                </p:nvSpPr>
                <p:spPr>
                  <a:xfrm rot="111600">
                    <a:off x="5961960" y="1036080"/>
                    <a:ext cx="18360" cy="25200"/>
                  </a:xfrm>
                  <a:custGeom>
                    <a:avLst/>
                    <a:gdLst>
                      <a:gd name="textAreaLeft" fmla="*/ 0 w 18360"/>
                      <a:gd name="textAreaRight" fmla="*/ 18720 w 18360"/>
                      <a:gd name="textAreaTop" fmla="*/ 0 h 25200"/>
                      <a:gd name="textAreaBottom" fmla="*/ 25560 h 25200"/>
                    </a:gdLst>
                    <a:ahLst/>
                    <a:rect l="textAreaLeft" t="textAreaTop" r="textAreaRight" b="textAreaBottom"/>
                    <a:pathLst>
                      <a:path w="168" h="156">
                        <a:moveTo>
                          <a:pt x="156" y="0"/>
                        </a:moveTo>
                        <a:lnTo>
                          <a:pt x="145" y="22"/>
                        </a:lnTo>
                        <a:lnTo>
                          <a:pt x="123" y="44"/>
                        </a:lnTo>
                        <a:lnTo>
                          <a:pt x="101" y="66"/>
                        </a:lnTo>
                        <a:lnTo>
                          <a:pt x="90" y="89"/>
                        </a:lnTo>
                        <a:lnTo>
                          <a:pt x="67" y="100"/>
                        </a:lnTo>
                        <a:lnTo>
                          <a:pt x="45" y="122"/>
                        </a:lnTo>
                        <a:lnTo>
                          <a:pt x="23" y="133"/>
                        </a:lnTo>
                        <a:lnTo>
                          <a:pt x="0" y="144"/>
                        </a:lnTo>
                        <a:lnTo>
                          <a:pt x="0" y="156"/>
                        </a:lnTo>
                        <a:lnTo>
                          <a:pt x="34" y="144"/>
                        </a:lnTo>
                        <a:lnTo>
                          <a:pt x="56" y="133"/>
                        </a:lnTo>
                        <a:lnTo>
                          <a:pt x="78" y="111"/>
                        </a:lnTo>
                        <a:lnTo>
                          <a:pt x="101" y="89"/>
                        </a:lnTo>
                        <a:lnTo>
                          <a:pt x="112" y="66"/>
                        </a:lnTo>
                        <a:lnTo>
                          <a:pt x="134" y="44"/>
                        </a:lnTo>
                        <a:lnTo>
                          <a:pt x="156" y="22"/>
                        </a:lnTo>
                        <a:lnTo>
                          <a:pt x="168" y="0"/>
                        </a:lnTo>
                        <a:lnTo>
                          <a:pt x="156"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1497"/>
                  <p:cNvSpPr/>
                  <p:nvPr/>
                </p:nvSpPr>
                <p:spPr>
                  <a:xfrm rot="111600">
                    <a:off x="5961600" y="1059480"/>
                    <a:ext cx="1080" cy="1800"/>
                  </a:xfrm>
                  <a:custGeom>
                    <a:avLst/>
                    <a:gdLst>
                      <a:gd name="textAreaLeft" fmla="*/ 0 w 1080"/>
                      <a:gd name="textAreaRight" fmla="*/ 1440 w 1080"/>
                      <a:gd name="textAreaTop" fmla="*/ 0 h 1800"/>
                      <a:gd name="textAreaBottom" fmla="*/ 2160 h 1800"/>
                    </a:gdLst>
                    <a:ahLst/>
                    <a:rect l="textAreaLeft" t="textAreaTop" r="textAreaRight" b="textAreaBottom"/>
                    <a:pathLst>
                      <a:path w="12" h="12">
                        <a:moveTo>
                          <a:pt x="12" y="12"/>
                        </a:moveTo>
                        <a:lnTo>
                          <a:pt x="12" y="12"/>
                        </a:lnTo>
                        <a:lnTo>
                          <a:pt x="12" y="0"/>
                        </a:lnTo>
                        <a:lnTo>
                          <a:pt x="0" y="0"/>
                        </a:lnTo>
                        <a:lnTo>
                          <a:pt x="0" y="12"/>
                        </a:lnTo>
                        <a:lnTo>
                          <a:pt x="12" y="12"/>
                        </a:lnTo>
                        <a:close/>
                      </a:path>
                    </a:pathLst>
                  </a:custGeom>
                  <a:solidFill>
                    <a:srgbClr val="000000"/>
                  </a:soli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1496"/>
                  <p:cNvSpPr/>
                  <p:nvPr/>
                </p:nvSpPr>
                <p:spPr>
                  <a:xfrm rot="111600">
                    <a:off x="5864040" y="783000"/>
                    <a:ext cx="191520" cy="181800"/>
                  </a:xfrm>
                  <a:custGeom>
                    <a:avLst/>
                    <a:gdLst>
                      <a:gd name="textAreaLeft" fmla="*/ 0 w 191520"/>
                      <a:gd name="textAreaRight" fmla="*/ 191880 w 191520"/>
                      <a:gd name="textAreaTop" fmla="*/ 0 h 181800"/>
                      <a:gd name="textAreaBottom" fmla="*/ 182160 h 181800"/>
                    </a:gdLst>
                    <a:ahLst/>
                    <a:rect l="textAreaLeft" t="textAreaTop" r="textAreaRight" b="textAreaBottom"/>
                    <a:pathLst>
                      <a:path w="1750" h="1126">
                        <a:moveTo>
                          <a:pt x="914" y="190"/>
                        </a:moveTo>
                        <a:lnTo>
                          <a:pt x="903" y="178"/>
                        </a:lnTo>
                        <a:lnTo>
                          <a:pt x="892" y="156"/>
                        </a:lnTo>
                        <a:lnTo>
                          <a:pt x="881" y="123"/>
                        </a:lnTo>
                        <a:lnTo>
                          <a:pt x="869" y="89"/>
                        </a:lnTo>
                        <a:lnTo>
                          <a:pt x="847" y="67"/>
                        </a:lnTo>
                        <a:lnTo>
                          <a:pt x="814" y="45"/>
                        </a:lnTo>
                        <a:lnTo>
                          <a:pt x="780" y="45"/>
                        </a:lnTo>
                        <a:lnTo>
                          <a:pt x="736" y="56"/>
                        </a:lnTo>
                        <a:lnTo>
                          <a:pt x="724" y="45"/>
                        </a:lnTo>
                        <a:lnTo>
                          <a:pt x="713" y="34"/>
                        </a:lnTo>
                        <a:lnTo>
                          <a:pt x="702" y="22"/>
                        </a:lnTo>
                        <a:lnTo>
                          <a:pt x="691" y="22"/>
                        </a:lnTo>
                        <a:lnTo>
                          <a:pt x="680" y="11"/>
                        </a:lnTo>
                        <a:lnTo>
                          <a:pt x="658" y="11"/>
                        </a:lnTo>
                        <a:lnTo>
                          <a:pt x="646" y="11"/>
                        </a:lnTo>
                        <a:lnTo>
                          <a:pt x="635" y="11"/>
                        </a:lnTo>
                        <a:lnTo>
                          <a:pt x="613" y="22"/>
                        </a:lnTo>
                        <a:lnTo>
                          <a:pt x="591" y="34"/>
                        </a:lnTo>
                        <a:lnTo>
                          <a:pt x="568" y="56"/>
                        </a:lnTo>
                        <a:lnTo>
                          <a:pt x="546" y="67"/>
                        </a:lnTo>
                        <a:lnTo>
                          <a:pt x="535" y="89"/>
                        </a:lnTo>
                        <a:lnTo>
                          <a:pt x="524" y="112"/>
                        </a:lnTo>
                        <a:lnTo>
                          <a:pt x="524" y="134"/>
                        </a:lnTo>
                        <a:lnTo>
                          <a:pt x="513" y="156"/>
                        </a:lnTo>
                        <a:lnTo>
                          <a:pt x="502" y="167"/>
                        </a:lnTo>
                        <a:lnTo>
                          <a:pt x="490" y="178"/>
                        </a:lnTo>
                        <a:lnTo>
                          <a:pt x="479" y="190"/>
                        </a:lnTo>
                        <a:lnTo>
                          <a:pt x="468" y="201"/>
                        </a:lnTo>
                        <a:lnTo>
                          <a:pt x="457" y="212"/>
                        </a:lnTo>
                        <a:lnTo>
                          <a:pt x="457" y="223"/>
                        </a:lnTo>
                        <a:lnTo>
                          <a:pt x="446" y="234"/>
                        </a:lnTo>
                        <a:lnTo>
                          <a:pt x="435" y="245"/>
                        </a:lnTo>
                        <a:lnTo>
                          <a:pt x="424" y="279"/>
                        </a:lnTo>
                        <a:lnTo>
                          <a:pt x="424" y="301"/>
                        </a:lnTo>
                        <a:lnTo>
                          <a:pt x="424" y="335"/>
                        </a:lnTo>
                        <a:lnTo>
                          <a:pt x="412" y="368"/>
                        </a:lnTo>
                        <a:lnTo>
                          <a:pt x="390" y="346"/>
                        </a:lnTo>
                        <a:lnTo>
                          <a:pt x="368" y="346"/>
                        </a:lnTo>
                        <a:lnTo>
                          <a:pt x="334" y="346"/>
                        </a:lnTo>
                        <a:lnTo>
                          <a:pt x="312" y="346"/>
                        </a:lnTo>
                        <a:lnTo>
                          <a:pt x="290" y="357"/>
                        </a:lnTo>
                        <a:lnTo>
                          <a:pt x="268" y="379"/>
                        </a:lnTo>
                        <a:lnTo>
                          <a:pt x="256" y="401"/>
                        </a:lnTo>
                        <a:lnTo>
                          <a:pt x="245" y="424"/>
                        </a:lnTo>
                        <a:lnTo>
                          <a:pt x="223" y="413"/>
                        </a:lnTo>
                        <a:lnTo>
                          <a:pt x="190" y="401"/>
                        </a:lnTo>
                        <a:lnTo>
                          <a:pt x="167" y="401"/>
                        </a:lnTo>
                        <a:lnTo>
                          <a:pt x="145" y="401"/>
                        </a:lnTo>
                        <a:lnTo>
                          <a:pt x="123" y="413"/>
                        </a:lnTo>
                        <a:lnTo>
                          <a:pt x="100" y="424"/>
                        </a:lnTo>
                        <a:lnTo>
                          <a:pt x="89" y="424"/>
                        </a:lnTo>
                        <a:lnTo>
                          <a:pt x="67" y="446"/>
                        </a:lnTo>
                        <a:lnTo>
                          <a:pt x="56" y="457"/>
                        </a:lnTo>
                        <a:lnTo>
                          <a:pt x="45" y="479"/>
                        </a:lnTo>
                        <a:lnTo>
                          <a:pt x="45" y="502"/>
                        </a:lnTo>
                        <a:lnTo>
                          <a:pt x="45" y="513"/>
                        </a:lnTo>
                        <a:lnTo>
                          <a:pt x="45" y="535"/>
                        </a:lnTo>
                        <a:lnTo>
                          <a:pt x="45" y="557"/>
                        </a:lnTo>
                        <a:lnTo>
                          <a:pt x="56" y="580"/>
                        </a:lnTo>
                        <a:lnTo>
                          <a:pt x="67" y="602"/>
                        </a:lnTo>
                        <a:lnTo>
                          <a:pt x="33" y="635"/>
                        </a:lnTo>
                        <a:lnTo>
                          <a:pt x="22" y="658"/>
                        </a:lnTo>
                        <a:lnTo>
                          <a:pt x="11" y="691"/>
                        </a:lnTo>
                        <a:lnTo>
                          <a:pt x="0" y="725"/>
                        </a:lnTo>
                        <a:lnTo>
                          <a:pt x="11" y="747"/>
                        </a:lnTo>
                        <a:lnTo>
                          <a:pt x="22" y="769"/>
                        </a:lnTo>
                        <a:lnTo>
                          <a:pt x="33" y="803"/>
                        </a:lnTo>
                        <a:lnTo>
                          <a:pt x="67" y="814"/>
                        </a:lnTo>
                        <a:lnTo>
                          <a:pt x="67" y="847"/>
                        </a:lnTo>
                        <a:lnTo>
                          <a:pt x="67" y="869"/>
                        </a:lnTo>
                        <a:lnTo>
                          <a:pt x="78" y="881"/>
                        </a:lnTo>
                        <a:lnTo>
                          <a:pt x="89" y="892"/>
                        </a:lnTo>
                        <a:lnTo>
                          <a:pt x="123" y="903"/>
                        </a:lnTo>
                        <a:lnTo>
                          <a:pt x="156" y="903"/>
                        </a:lnTo>
                        <a:lnTo>
                          <a:pt x="178" y="903"/>
                        </a:lnTo>
                        <a:lnTo>
                          <a:pt x="201" y="903"/>
                        </a:lnTo>
                        <a:lnTo>
                          <a:pt x="212" y="903"/>
                        </a:lnTo>
                        <a:lnTo>
                          <a:pt x="223" y="892"/>
                        </a:lnTo>
                        <a:lnTo>
                          <a:pt x="234" y="892"/>
                        </a:lnTo>
                        <a:lnTo>
                          <a:pt x="256" y="892"/>
                        </a:lnTo>
                        <a:lnTo>
                          <a:pt x="245" y="903"/>
                        </a:lnTo>
                        <a:lnTo>
                          <a:pt x="245" y="925"/>
                        </a:lnTo>
                        <a:lnTo>
                          <a:pt x="245" y="936"/>
                        </a:lnTo>
                        <a:lnTo>
                          <a:pt x="245" y="948"/>
                        </a:lnTo>
                        <a:lnTo>
                          <a:pt x="245" y="959"/>
                        </a:lnTo>
                        <a:lnTo>
                          <a:pt x="256" y="970"/>
                        </a:lnTo>
                        <a:lnTo>
                          <a:pt x="279" y="981"/>
                        </a:lnTo>
                        <a:lnTo>
                          <a:pt x="301" y="992"/>
                        </a:lnTo>
                        <a:lnTo>
                          <a:pt x="290" y="1014"/>
                        </a:lnTo>
                        <a:lnTo>
                          <a:pt x="290" y="1048"/>
                        </a:lnTo>
                        <a:lnTo>
                          <a:pt x="290" y="1070"/>
                        </a:lnTo>
                        <a:lnTo>
                          <a:pt x="301" y="1104"/>
                        </a:lnTo>
                        <a:lnTo>
                          <a:pt x="323" y="1115"/>
                        </a:lnTo>
                        <a:lnTo>
                          <a:pt x="357" y="1115"/>
                        </a:lnTo>
                        <a:lnTo>
                          <a:pt x="379" y="1104"/>
                        </a:lnTo>
                        <a:lnTo>
                          <a:pt x="401" y="1092"/>
                        </a:lnTo>
                        <a:lnTo>
                          <a:pt x="412" y="1059"/>
                        </a:lnTo>
                        <a:lnTo>
                          <a:pt x="424" y="1037"/>
                        </a:lnTo>
                        <a:lnTo>
                          <a:pt x="435" y="1003"/>
                        </a:lnTo>
                        <a:lnTo>
                          <a:pt x="424" y="981"/>
                        </a:lnTo>
                        <a:lnTo>
                          <a:pt x="457" y="970"/>
                        </a:lnTo>
                        <a:lnTo>
                          <a:pt x="490" y="948"/>
                        </a:lnTo>
                        <a:lnTo>
                          <a:pt x="502" y="925"/>
                        </a:lnTo>
                        <a:lnTo>
                          <a:pt x="513" y="892"/>
                        </a:lnTo>
                        <a:lnTo>
                          <a:pt x="524" y="858"/>
                        </a:lnTo>
                        <a:lnTo>
                          <a:pt x="524" y="825"/>
                        </a:lnTo>
                        <a:lnTo>
                          <a:pt x="524" y="791"/>
                        </a:lnTo>
                        <a:lnTo>
                          <a:pt x="513" y="758"/>
                        </a:lnTo>
                        <a:lnTo>
                          <a:pt x="535" y="758"/>
                        </a:lnTo>
                        <a:lnTo>
                          <a:pt x="546" y="747"/>
                        </a:lnTo>
                        <a:lnTo>
                          <a:pt x="568" y="736"/>
                        </a:lnTo>
                        <a:lnTo>
                          <a:pt x="580" y="736"/>
                        </a:lnTo>
                        <a:lnTo>
                          <a:pt x="591" y="725"/>
                        </a:lnTo>
                        <a:lnTo>
                          <a:pt x="613" y="725"/>
                        </a:lnTo>
                        <a:lnTo>
                          <a:pt x="624" y="713"/>
                        </a:lnTo>
                        <a:lnTo>
                          <a:pt x="635" y="702"/>
                        </a:lnTo>
                        <a:lnTo>
                          <a:pt x="658" y="691"/>
                        </a:lnTo>
                        <a:lnTo>
                          <a:pt x="669" y="680"/>
                        </a:lnTo>
                        <a:lnTo>
                          <a:pt x="680" y="669"/>
                        </a:lnTo>
                        <a:lnTo>
                          <a:pt x="691" y="658"/>
                        </a:lnTo>
                        <a:lnTo>
                          <a:pt x="702" y="647"/>
                        </a:lnTo>
                        <a:lnTo>
                          <a:pt x="713" y="635"/>
                        </a:lnTo>
                        <a:lnTo>
                          <a:pt x="724" y="624"/>
                        </a:lnTo>
                        <a:lnTo>
                          <a:pt x="736" y="602"/>
                        </a:lnTo>
                        <a:lnTo>
                          <a:pt x="758" y="635"/>
                        </a:lnTo>
                        <a:lnTo>
                          <a:pt x="780" y="647"/>
                        </a:lnTo>
                        <a:lnTo>
                          <a:pt x="814" y="647"/>
                        </a:lnTo>
                        <a:lnTo>
                          <a:pt x="836" y="647"/>
                        </a:lnTo>
                        <a:lnTo>
                          <a:pt x="869" y="635"/>
                        </a:lnTo>
                        <a:lnTo>
                          <a:pt x="892" y="613"/>
                        </a:lnTo>
                        <a:lnTo>
                          <a:pt x="914" y="591"/>
                        </a:lnTo>
                        <a:lnTo>
                          <a:pt x="925" y="569"/>
                        </a:lnTo>
                        <a:lnTo>
                          <a:pt x="947" y="602"/>
                        </a:lnTo>
                        <a:lnTo>
                          <a:pt x="970" y="624"/>
                        </a:lnTo>
                        <a:lnTo>
                          <a:pt x="992" y="647"/>
                        </a:lnTo>
                        <a:lnTo>
                          <a:pt x="1014" y="658"/>
                        </a:lnTo>
                        <a:lnTo>
                          <a:pt x="1037" y="669"/>
                        </a:lnTo>
                        <a:lnTo>
                          <a:pt x="1059" y="680"/>
                        </a:lnTo>
                        <a:lnTo>
                          <a:pt x="1092" y="669"/>
                        </a:lnTo>
                        <a:lnTo>
                          <a:pt x="1126" y="669"/>
                        </a:lnTo>
                        <a:lnTo>
                          <a:pt x="1126" y="680"/>
                        </a:lnTo>
                        <a:lnTo>
                          <a:pt x="1126" y="702"/>
                        </a:lnTo>
                        <a:lnTo>
                          <a:pt x="1126" y="725"/>
                        </a:lnTo>
                        <a:lnTo>
                          <a:pt x="1137" y="747"/>
                        </a:lnTo>
                        <a:lnTo>
                          <a:pt x="1148" y="769"/>
                        </a:lnTo>
                        <a:lnTo>
                          <a:pt x="1159" y="791"/>
                        </a:lnTo>
                        <a:lnTo>
                          <a:pt x="1181" y="814"/>
                        </a:lnTo>
                        <a:lnTo>
                          <a:pt x="1204" y="836"/>
                        </a:lnTo>
                        <a:lnTo>
                          <a:pt x="1215" y="836"/>
                        </a:lnTo>
                        <a:lnTo>
                          <a:pt x="1226" y="836"/>
                        </a:lnTo>
                        <a:lnTo>
                          <a:pt x="1237" y="836"/>
                        </a:lnTo>
                        <a:lnTo>
                          <a:pt x="1259" y="825"/>
                        </a:lnTo>
                        <a:lnTo>
                          <a:pt x="1271" y="825"/>
                        </a:lnTo>
                        <a:lnTo>
                          <a:pt x="1282" y="825"/>
                        </a:lnTo>
                        <a:lnTo>
                          <a:pt x="1282" y="847"/>
                        </a:lnTo>
                        <a:lnTo>
                          <a:pt x="1282" y="881"/>
                        </a:lnTo>
                        <a:lnTo>
                          <a:pt x="1282" y="903"/>
                        </a:lnTo>
                        <a:lnTo>
                          <a:pt x="1282" y="925"/>
                        </a:lnTo>
                        <a:lnTo>
                          <a:pt x="1293" y="936"/>
                        </a:lnTo>
                        <a:lnTo>
                          <a:pt x="1304" y="959"/>
                        </a:lnTo>
                        <a:lnTo>
                          <a:pt x="1315" y="970"/>
                        </a:lnTo>
                        <a:lnTo>
                          <a:pt x="1326" y="970"/>
                        </a:lnTo>
                        <a:lnTo>
                          <a:pt x="1326" y="981"/>
                        </a:lnTo>
                        <a:lnTo>
                          <a:pt x="1337" y="992"/>
                        </a:lnTo>
                        <a:lnTo>
                          <a:pt x="1349" y="992"/>
                        </a:lnTo>
                        <a:lnTo>
                          <a:pt x="1360" y="1003"/>
                        </a:lnTo>
                        <a:lnTo>
                          <a:pt x="1360" y="1037"/>
                        </a:lnTo>
                        <a:lnTo>
                          <a:pt x="1360" y="1070"/>
                        </a:lnTo>
                        <a:lnTo>
                          <a:pt x="1360" y="1104"/>
                        </a:lnTo>
                        <a:lnTo>
                          <a:pt x="1382" y="1126"/>
                        </a:lnTo>
                        <a:lnTo>
                          <a:pt x="1404" y="1126"/>
                        </a:lnTo>
                        <a:lnTo>
                          <a:pt x="1427" y="1126"/>
                        </a:lnTo>
                        <a:lnTo>
                          <a:pt x="1438" y="1126"/>
                        </a:lnTo>
                        <a:lnTo>
                          <a:pt x="1460" y="1115"/>
                        </a:lnTo>
                        <a:lnTo>
                          <a:pt x="1471" y="1092"/>
                        </a:lnTo>
                        <a:lnTo>
                          <a:pt x="1471" y="1070"/>
                        </a:lnTo>
                        <a:lnTo>
                          <a:pt x="1482" y="1048"/>
                        </a:lnTo>
                        <a:lnTo>
                          <a:pt x="1482" y="1014"/>
                        </a:lnTo>
                        <a:lnTo>
                          <a:pt x="1494" y="1003"/>
                        </a:lnTo>
                        <a:lnTo>
                          <a:pt x="1505" y="992"/>
                        </a:lnTo>
                        <a:lnTo>
                          <a:pt x="1505" y="981"/>
                        </a:lnTo>
                        <a:lnTo>
                          <a:pt x="1516" y="970"/>
                        </a:lnTo>
                        <a:lnTo>
                          <a:pt x="1516" y="959"/>
                        </a:lnTo>
                        <a:lnTo>
                          <a:pt x="1527" y="948"/>
                        </a:lnTo>
                        <a:lnTo>
                          <a:pt x="1527" y="936"/>
                        </a:lnTo>
                        <a:lnTo>
                          <a:pt x="1527" y="914"/>
                        </a:lnTo>
                        <a:lnTo>
                          <a:pt x="1527" y="925"/>
                        </a:lnTo>
                        <a:lnTo>
                          <a:pt x="1538" y="936"/>
                        </a:lnTo>
                        <a:lnTo>
                          <a:pt x="1549" y="936"/>
                        </a:lnTo>
                        <a:lnTo>
                          <a:pt x="1560" y="948"/>
                        </a:lnTo>
                        <a:lnTo>
                          <a:pt x="1572" y="959"/>
                        </a:lnTo>
                        <a:lnTo>
                          <a:pt x="1583" y="970"/>
                        </a:lnTo>
                        <a:lnTo>
                          <a:pt x="1594" y="970"/>
                        </a:lnTo>
                        <a:lnTo>
                          <a:pt x="1605" y="970"/>
                        </a:lnTo>
                        <a:lnTo>
                          <a:pt x="1650" y="970"/>
                        </a:lnTo>
                        <a:lnTo>
                          <a:pt x="1694" y="959"/>
                        </a:lnTo>
                        <a:lnTo>
                          <a:pt x="1716" y="936"/>
                        </a:lnTo>
                        <a:lnTo>
                          <a:pt x="1739" y="903"/>
                        </a:lnTo>
                        <a:lnTo>
                          <a:pt x="1750" y="869"/>
                        </a:lnTo>
                        <a:lnTo>
                          <a:pt x="1750" y="825"/>
                        </a:lnTo>
                        <a:lnTo>
                          <a:pt x="1750" y="791"/>
                        </a:lnTo>
                        <a:lnTo>
                          <a:pt x="1728" y="769"/>
                        </a:lnTo>
                        <a:lnTo>
                          <a:pt x="1728" y="758"/>
                        </a:lnTo>
                        <a:lnTo>
                          <a:pt x="1716" y="758"/>
                        </a:lnTo>
                        <a:lnTo>
                          <a:pt x="1705" y="747"/>
                        </a:lnTo>
                        <a:lnTo>
                          <a:pt x="1694" y="736"/>
                        </a:lnTo>
                        <a:lnTo>
                          <a:pt x="1683" y="736"/>
                        </a:lnTo>
                        <a:lnTo>
                          <a:pt x="1672" y="725"/>
                        </a:lnTo>
                        <a:lnTo>
                          <a:pt x="1683" y="702"/>
                        </a:lnTo>
                        <a:lnTo>
                          <a:pt x="1694" y="680"/>
                        </a:lnTo>
                        <a:lnTo>
                          <a:pt x="1694" y="658"/>
                        </a:lnTo>
                        <a:lnTo>
                          <a:pt x="1694" y="635"/>
                        </a:lnTo>
                        <a:lnTo>
                          <a:pt x="1694" y="624"/>
                        </a:lnTo>
                        <a:lnTo>
                          <a:pt x="1683" y="602"/>
                        </a:lnTo>
                        <a:lnTo>
                          <a:pt x="1661" y="591"/>
                        </a:lnTo>
                        <a:lnTo>
                          <a:pt x="1638" y="569"/>
                        </a:lnTo>
                        <a:lnTo>
                          <a:pt x="1661" y="546"/>
                        </a:lnTo>
                        <a:lnTo>
                          <a:pt x="1672" y="524"/>
                        </a:lnTo>
                        <a:lnTo>
                          <a:pt x="1683" y="502"/>
                        </a:lnTo>
                        <a:lnTo>
                          <a:pt x="1683" y="479"/>
                        </a:lnTo>
                        <a:lnTo>
                          <a:pt x="1683" y="457"/>
                        </a:lnTo>
                        <a:lnTo>
                          <a:pt x="1672" y="435"/>
                        </a:lnTo>
                        <a:lnTo>
                          <a:pt x="1661" y="413"/>
                        </a:lnTo>
                        <a:lnTo>
                          <a:pt x="1650" y="390"/>
                        </a:lnTo>
                        <a:lnTo>
                          <a:pt x="1627" y="368"/>
                        </a:lnTo>
                        <a:lnTo>
                          <a:pt x="1605" y="357"/>
                        </a:lnTo>
                        <a:lnTo>
                          <a:pt x="1583" y="346"/>
                        </a:lnTo>
                        <a:lnTo>
                          <a:pt x="1560" y="335"/>
                        </a:lnTo>
                        <a:lnTo>
                          <a:pt x="1527" y="335"/>
                        </a:lnTo>
                        <a:lnTo>
                          <a:pt x="1505" y="335"/>
                        </a:lnTo>
                        <a:lnTo>
                          <a:pt x="1482" y="335"/>
                        </a:lnTo>
                        <a:lnTo>
                          <a:pt x="1460" y="346"/>
                        </a:lnTo>
                        <a:lnTo>
                          <a:pt x="1471" y="301"/>
                        </a:lnTo>
                        <a:lnTo>
                          <a:pt x="1471" y="268"/>
                        </a:lnTo>
                        <a:lnTo>
                          <a:pt x="1471" y="223"/>
                        </a:lnTo>
                        <a:lnTo>
                          <a:pt x="1471" y="201"/>
                        </a:lnTo>
                        <a:lnTo>
                          <a:pt x="1460" y="167"/>
                        </a:lnTo>
                        <a:lnTo>
                          <a:pt x="1438" y="145"/>
                        </a:lnTo>
                        <a:lnTo>
                          <a:pt x="1415" y="134"/>
                        </a:lnTo>
                        <a:lnTo>
                          <a:pt x="1382" y="134"/>
                        </a:lnTo>
                        <a:lnTo>
                          <a:pt x="1371" y="134"/>
                        </a:lnTo>
                        <a:lnTo>
                          <a:pt x="1360" y="112"/>
                        </a:lnTo>
                        <a:lnTo>
                          <a:pt x="1349" y="89"/>
                        </a:lnTo>
                        <a:lnTo>
                          <a:pt x="1326" y="78"/>
                        </a:lnTo>
                        <a:lnTo>
                          <a:pt x="1315" y="56"/>
                        </a:lnTo>
                        <a:lnTo>
                          <a:pt x="1293" y="45"/>
                        </a:lnTo>
                        <a:lnTo>
                          <a:pt x="1271" y="22"/>
                        </a:lnTo>
                        <a:lnTo>
                          <a:pt x="1248" y="22"/>
                        </a:lnTo>
                        <a:lnTo>
                          <a:pt x="1226" y="11"/>
                        </a:lnTo>
                        <a:lnTo>
                          <a:pt x="1204" y="0"/>
                        </a:lnTo>
                        <a:lnTo>
                          <a:pt x="1181" y="0"/>
                        </a:lnTo>
                        <a:lnTo>
                          <a:pt x="1159" y="0"/>
                        </a:lnTo>
                        <a:lnTo>
                          <a:pt x="1137" y="0"/>
                        </a:lnTo>
                        <a:lnTo>
                          <a:pt x="1103" y="0"/>
                        </a:lnTo>
                        <a:lnTo>
                          <a:pt x="1081" y="0"/>
                        </a:lnTo>
                        <a:lnTo>
                          <a:pt x="1059" y="11"/>
                        </a:lnTo>
                        <a:lnTo>
                          <a:pt x="1037" y="22"/>
                        </a:lnTo>
                        <a:lnTo>
                          <a:pt x="1025" y="34"/>
                        </a:lnTo>
                        <a:lnTo>
                          <a:pt x="1003" y="45"/>
                        </a:lnTo>
                        <a:lnTo>
                          <a:pt x="992" y="67"/>
                        </a:lnTo>
                        <a:lnTo>
                          <a:pt x="970" y="89"/>
                        </a:lnTo>
                        <a:lnTo>
                          <a:pt x="959" y="112"/>
                        </a:lnTo>
                        <a:lnTo>
                          <a:pt x="947" y="134"/>
                        </a:lnTo>
                        <a:lnTo>
                          <a:pt x="925" y="156"/>
                        </a:lnTo>
                        <a:lnTo>
                          <a:pt x="914" y="190"/>
                        </a:lnTo>
                        <a:close/>
                      </a:path>
                    </a:pathLst>
                  </a:custGeom>
                  <a:solidFill>
                    <a:srgbClr val="a6591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1495"/>
                  <p:cNvSpPr/>
                  <p:nvPr/>
                </p:nvSpPr>
                <p:spPr>
                  <a:xfrm rot="111600">
                    <a:off x="5945760" y="788400"/>
                    <a:ext cx="20520" cy="25200"/>
                  </a:xfrm>
                  <a:custGeom>
                    <a:avLst/>
                    <a:gdLst>
                      <a:gd name="textAreaLeft" fmla="*/ 0 w 20520"/>
                      <a:gd name="textAreaRight" fmla="*/ 20880 w 20520"/>
                      <a:gd name="textAreaTop" fmla="*/ 0 h 25200"/>
                      <a:gd name="textAreaBottom" fmla="*/ 25560 h 25200"/>
                    </a:gdLst>
                    <a:ahLst/>
                    <a:rect l="textAreaLeft" t="textAreaTop" r="textAreaRight" b="textAreaBottom"/>
                    <a:pathLst>
                      <a:path w="190" h="156">
                        <a:moveTo>
                          <a:pt x="0" y="22"/>
                        </a:moveTo>
                        <a:lnTo>
                          <a:pt x="12" y="22"/>
                        </a:lnTo>
                        <a:lnTo>
                          <a:pt x="56" y="11"/>
                        </a:lnTo>
                        <a:lnTo>
                          <a:pt x="90" y="22"/>
                        </a:lnTo>
                        <a:lnTo>
                          <a:pt x="112" y="33"/>
                        </a:lnTo>
                        <a:lnTo>
                          <a:pt x="134" y="66"/>
                        </a:lnTo>
                        <a:lnTo>
                          <a:pt x="157" y="89"/>
                        </a:lnTo>
                        <a:lnTo>
                          <a:pt x="168" y="122"/>
                        </a:lnTo>
                        <a:lnTo>
                          <a:pt x="179" y="144"/>
                        </a:lnTo>
                        <a:lnTo>
                          <a:pt x="179" y="156"/>
                        </a:lnTo>
                        <a:lnTo>
                          <a:pt x="190" y="156"/>
                        </a:lnTo>
                        <a:lnTo>
                          <a:pt x="190" y="144"/>
                        </a:lnTo>
                        <a:lnTo>
                          <a:pt x="179" y="122"/>
                        </a:lnTo>
                        <a:lnTo>
                          <a:pt x="168" y="89"/>
                        </a:lnTo>
                        <a:lnTo>
                          <a:pt x="145" y="55"/>
                        </a:lnTo>
                        <a:lnTo>
                          <a:pt x="123" y="22"/>
                        </a:lnTo>
                        <a:lnTo>
                          <a:pt x="90" y="11"/>
                        </a:lnTo>
                        <a:lnTo>
                          <a:pt x="56" y="0"/>
                        </a:lnTo>
                        <a:lnTo>
                          <a:pt x="12" y="11"/>
                        </a:lnTo>
                        <a:lnTo>
                          <a:pt x="0" y="22"/>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1494"/>
                  <p:cNvSpPr/>
                  <p:nvPr/>
                </p:nvSpPr>
                <p:spPr>
                  <a:xfrm rot="111600">
                    <a:off x="5936400" y="782280"/>
                    <a:ext cx="10800" cy="9000"/>
                  </a:xfrm>
                  <a:custGeom>
                    <a:avLst/>
                    <a:gdLst>
                      <a:gd name="textAreaLeft" fmla="*/ 0 w 10800"/>
                      <a:gd name="textAreaRight" fmla="*/ 11160 w 10800"/>
                      <a:gd name="textAreaTop" fmla="*/ 0 h 9000"/>
                      <a:gd name="textAreaBottom" fmla="*/ 9360 h 9000"/>
                    </a:gdLst>
                    <a:ahLst/>
                    <a:rect l="textAreaLeft" t="textAreaTop" r="textAreaRight" b="textAreaBottom"/>
                    <a:pathLst>
                      <a:path w="101" h="56">
                        <a:moveTo>
                          <a:pt x="0" y="22"/>
                        </a:moveTo>
                        <a:lnTo>
                          <a:pt x="0" y="22"/>
                        </a:lnTo>
                        <a:lnTo>
                          <a:pt x="11" y="22"/>
                        </a:lnTo>
                        <a:lnTo>
                          <a:pt x="23" y="22"/>
                        </a:lnTo>
                        <a:lnTo>
                          <a:pt x="45" y="22"/>
                        </a:lnTo>
                        <a:lnTo>
                          <a:pt x="56" y="22"/>
                        </a:lnTo>
                        <a:lnTo>
                          <a:pt x="56" y="34"/>
                        </a:lnTo>
                        <a:lnTo>
                          <a:pt x="67" y="34"/>
                        </a:lnTo>
                        <a:lnTo>
                          <a:pt x="78" y="45"/>
                        </a:lnTo>
                        <a:lnTo>
                          <a:pt x="89" y="56"/>
                        </a:lnTo>
                        <a:lnTo>
                          <a:pt x="101" y="45"/>
                        </a:lnTo>
                        <a:lnTo>
                          <a:pt x="89" y="34"/>
                        </a:lnTo>
                        <a:lnTo>
                          <a:pt x="78" y="22"/>
                        </a:lnTo>
                        <a:lnTo>
                          <a:pt x="67" y="22"/>
                        </a:lnTo>
                        <a:lnTo>
                          <a:pt x="56" y="11"/>
                        </a:lnTo>
                        <a:lnTo>
                          <a:pt x="45" y="11"/>
                        </a:lnTo>
                        <a:lnTo>
                          <a:pt x="23" y="0"/>
                        </a:lnTo>
                        <a:lnTo>
                          <a:pt x="11" y="0"/>
                        </a:lnTo>
                        <a:lnTo>
                          <a:pt x="0" y="11"/>
                        </a:lnTo>
                        <a:lnTo>
                          <a:pt x="0" y="22"/>
                        </a:lnTo>
                        <a:close/>
                      </a:path>
                    </a:pathLst>
                  </a:custGeom>
                  <a:solidFill>
                    <a:srgbClr val="000000"/>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493"/>
                  <p:cNvSpPr/>
                  <p:nvPr/>
                </p:nvSpPr>
                <p:spPr>
                  <a:xfrm rot="111600">
                    <a:off x="5921640" y="783720"/>
                    <a:ext cx="14400" cy="23400"/>
                  </a:xfrm>
                  <a:custGeom>
                    <a:avLst/>
                    <a:gdLst>
                      <a:gd name="textAreaLeft" fmla="*/ 0 w 14400"/>
                      <a:gd name="textAreaRight" fmla="*/ 14760 w 14400"/>
                      <a:gd name="textAreaTop" fmla="*/ 0 h 23400"/>
                      <a:gd name="textAreaBottom" fmla="*/ 23760 h 23400"/>
                    </a:gdLst>
                    <a:ahLst/>
                    <a:rect l="textAreaLeft" t="textAreaTop" r="textAreaRight" b="textAreaBottom"/>
                    <a:pathLst>
                      <a:path w="133" h="145">
                        <a:moveTo>
                          <a:pt x="11" y="145"/>
                        </a:moveTo>
                        <a:lnTo>
                          <a:pt x="11" y="145"/>
                        </a:lnTo>
                        <a:lnTo>
                          <a:pt x="22" y="123"/>
                        </a:lnTo>
                        <a:lnTo>
                          <a:pt x="33" y="101"/>
                        </a:lnTo>
                        <a:lnTo>
                          <a:pt x="44" y="78"/>
                        </a:lnTo>
                        <a:lnTo>
                          <a:pt x="55" y="67"/>
                        </a:lnTo>
                        <a:lnTo>
                          <a:pt x="66" y="45"/>
                        </a:lnTo>
                        <a:lnTo>
                          <a:pt x="89" y="34"/>
                        </a:lnTo>
                        <a:lnTo>
                          <a:pt x="111" y="23"/>
                        </a:lnTo>
                        <a:lnTo>
                          <a:pt x="133" y="11"/>
                        </a:lnTo>
                        <a:lnTo>
                          <a:pt x="133" y="0"/>
                        </a:lnTo>
                        <a:lnTo>
                          <a:pt x="100" y="11"/>
                        </a:lnTo>
                        <a:lnTo>
                          <a:pt x="78" y="23"/>
                        </a:lnTo>
                        <a:lnTo>
                          <a:pt x="55" y="34"/>
                        </a:lnTo>
                        <a:lnTo>
                          <a:pt x="44" y="56"/>
                        </a:lnTo>
                        <a:lnTo>
                          <a:pt x="33" y="78"/>
                        </a:lnTo>
                        <a:lnTo>
                          <a:pt x="22" y="101"/>
                        </a:lnTo>
                        <a:lnTo>
                          <a:pt x="11" y="123"/>
                        </a:lnTo>
                        <a:lnTo>
                          <a:pt x="0" y="145"/>
                        </a:lnTo>
                        <a:lnTo>
                          <a:pt x="11" y="145"/>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1492"/>
                  <p:cNvSpPr/>
                  <p:nvPr/>
                </p:nvSpPr>
                <p:spPr>
                  <a:xfrm rot="111600">
                    <a:off x="5913720" y="807120"/>
                    <a:ext cx="8280" cy="14400"/>
                  </a:xfrm>
                  <a:custGeom>
                    <a:avLst/>
                    <a:gdLst>
                      <a:gd name="textAreaLeft" fmla="*/ 0 w 8280"/>
                      <a:gd name="textAreaRight" fmla="*/ 8640 w 8280"/>
                      <a:gd name="textAreaTop" fmla="*/ 0 h 14400"/>
                      <a:gd name="textAreaBottom" fmla="*/ 14760 h 14400"/>
                    </a:gdLst>
                    <a:ahLst/>
                    <a:rect l="textAreaLeft" t="textAreaTop" r="textAreaRight" b="textAreaBottom"/>
                    <a:pathLst>
                      <a:path w="78" h="89">
                        <a:moveTo>
                          <a:pt x="11" y="89"/>
                        </a:moveTo>
                        <a:lnTo>
                          <a:pt x="11" y="89"/>
                        </a:lnTo>
                        <a:lnTo>
                          <a:pt x="11" y="78"/>
                        </a:lnTo>
                        <a:lnTo>
                          <a:pt x="22" y="67"/>
                        </a:lnTo>
                        <a:lnTo>
                          <a:pt x="33" y="56"/>
                        </a:lnTo>
                        <a:lnTo>
                          <a:pt x="44" y="45"/>
                        </a:lnTo>
                        <a:lnTo>
                          <a:pt x="55" y="45"/>
                        </a:lnTo>
                        <a:lnTo>
                          <a:pt x="55" y="34"/>
                        </a:lnTo>
                        <a:lnTo>
                          <a:pt x="67" y="11"/>
                        </a:lnTo>
                        <a:lnTo>
                          <a:pt x="78" y="0"/>
                        </a:lnTo>
                        <a:lnTo>
                          <a:pt x="67" y="0"/>
                        </a:lnTo>
                        <a:lnTo>
                          <a:pt x="55" y="11"/>
                        </a:lnTo>
                        <a:lnTo>
                          <a:pt x="55" y="22"/>
                        </a:lnTo>
                        <a:lnTo>
                          <a:pt x="44" y="34"/>
                        </a:lnTo>
                        <a:lnTo>
                          <a:pt x="33" y="45"/>
                        </a:lnTo>
                        <a:lnTo>
                          <a:pt x="22" y="56"/>
                        </a:lnTo>
                        <a:lnTo>
                          <a:pt x="11" y="67"/>
                        </a:lnTo>
                        <a:lnTo>
                          <a:pt x="0" y="78"/>
                        </a:lnTo>
                        <a:lnTo>
                          <a:pt x="0" y="89"/>
                        </a:lnTo>
                        <a:lnTo>
                          <a:pt x="11" y="89"/>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1491"/>
                  <p:cNvSpPr/>
                  <p:nvPr/>
                </p:nvSpPr>
                <p:spPr>
                  <a:xfrm rot="111600">
                    <a:off x="5910840" y="821520"/>
                    <a:ext cx="3600" cy="19800"/>
                  </a:xfrm>
                  <a:custGeom>
                    <a:avLst/>
                    <a:gdLst>
                      <a:gd name="textAreaLeft" fmla="*/ 0 w 3600"/>
                      <a:gd name="textAreaRight" fmla="*/ 3960 w 3600"/>
                      <a:gd name="textAreaTop" fmla="*/ 0 h 19800"/>
                      <a:gd name="textAreaBottom" fmla="*/ 20160 h 19800"/>
                    </a:gdLst>
                    <a:ahLst/>
                    <a:rect l="textAreaLeft" t="textAreaTop" r="textAreaRight" b="textAreaBottom"/>
                    <a:pathLst>
                      <a:path w="34" h="123">
                        <a:moveTo>
                          <a:pt x="0" y="123"/>
                        </a:moveTo>
                        <a:lnTo>
                          <a:pt x="12" y="123"/>
                        </a:lnTo>
                        <a:lnTo>
                          <a:pt x="12" y="90"/>
                        </a:lnTo>
                        <a:lnTo>
                          <a:pt x="12" y="56"/>
                        </a:lnTo>
                        <a:lnTo>
                          <a:pt x="23" y="34"/>
                        </a:lnTo>
                        <a:lnTo>
                          <a:pt x="34" y="0"/>
                        </a:lnTo>
                        <a:lnTo>
                          <a:pt x="23" y="0"/>
                        </a:lnTo>
                        <a:lnTo>
                          <a:pt x="12" y="34"/>
                        </a:lnTo>
                        <a:lnTo>
                          <a:pt x="0" y="56"/>
                        </a:lnTo>
                        <a:lnTo>
                          <a:pt x="0" y="90"/>
                        </a:lnTo>
                        <a:lnTo>
                          <a:pt x="0" y="123"/>
                        </a:lnTo>
                        <a:lnTo>
                          <a:pt x="12" y="112"/>
                        </a:lnTo>
                        <a:lnTo>
                          <a:pt x="0" y="123"/>
                        </a:lnTo>
                        <a:close/>
                      </a:path>
                    </a:pathLst>
                  </a:custGeom>
                  <a:solidFill>
                    <a:srgbClr val="000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1490"/>
                  <p:cNvSpPr/>
                  <p:nvPr/>
                </p:nvSpPr>
                <p:spPr>
                  <a:xfrm rot="111600">
                    <a:off x="5891760" y="835200"/>
                    <a:ext cx="19440" cy="14040"/>
                  </a:xfrm>
                  <a:custGeom>
                    <a:avLst/>
                    <a:gdLst>
                      <a:gd name="textAreaLeft" fmla="*/ 0 w 19440"/>
                      <a:gd name="textAreaRight" fmla="*/ 19800 w 19440"/>
                      <a:gd name="textAreaTop" fmla="*/ 0 h 14040"/>
                      <a:gd name="textAreaBottom" fmla="*/ 14400 h 14040"/>
                    </a:gdLst>
                    <a:ahLst/>
                    <a:rect l="textAreaLeft" t="textAreaTop" r="textAreaRight" b="textAreaBottom"/>
                    <a:pathLst>
                      <a:path w="179" h="89">
                        <a:moveTo>
                          <a:pt x="0" y="89"/>
                        </a:moveTo>
                        <a:lnTo>
                          <a:pt x="11" y="89"/>
                        </a:lnTo>
                        <a:lnTo>
                          <a:pt x="11" y="66"/>
                        </a:lnTo>
                        <a:lnTo>
                          <a:pt x="34" y="44"/>
                        </a:lnTo>
                        <a:lnTo>
                          <a:pt x="45" y="33"/>
                        </a:lnTo>
                        <a:lnTo>
                          <a:pt x="67" y="22"/>
                        </a:lnTo>
                        <a:lnTo>
                          <a:pt x="89" y="11"/>
                        </a:lnTo>
                        <a:lnTo>
                          <a:pt x="123" y="11"/>
                        </a:lnTo>
                        <a:lnTo>
                          <a:pt x="145" y="22"/>
                        </a:lnTo>
                        <a:lnTo>
                          <a:pt x="167" y="33"/>
                        </a:lnTo>
                        <a:lnTo>
                          <a:pt x="179" y="22"/>
                        </a:lnTo>
                        <a:lnTo>
                          <a:pt x="145" y="11"/>
                        </a:lnTo>
                        <a:lnTo>
                          <a:pt x="123" y="0"/>
                        </a:lnTo>
                        <a:lnTo>
                          <a:pt x="89" y="0"/>
                        </a:lnTo>
                        <a:lnTo>
                          <a:pt x="67" y="11"/>
                        </a:lnTo>
                        <a:lnTo>
                          <a:pt x="34" y="22"/>
                        </a:lnTo>
                        <a:lnTo>
                          <a:pt x="23" y="44"/>
                        </a:lnTo>
                        <a:lnTo>
                          <a:pt x="0" y="55"/>
                        </a:lnTo>
                        <a:lnTo>
                          <a:pt x="0" y="89"/>
                        </a:lnTo>
                        <a:lnTo>
                          <a:pt x="11" y="78"/>
                        </a:lnTo>
                        <a:lnTo>
                          <a:pt x="0" y="89"/>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1489"/>
                  <p:cNvSpPr/>
                  <p:nvPr/>
                </p:nvSpPr>
                <p:spPr>
                  <a:xfrm rot="111600">
                    <a:off x="5868360" y="843840"/>
                    <a:ext cx="24120" cy="36000"/>
                  </a:xfrm>
                  <a:custGeom>
                    <a:avLst/>
                    <a:gdLst>
                      <a:gd name="textAreaLeft" fmla="*/ 0 w 24120"/>
                      <a:gd name="textAreaRight" fmla="*/ 24480 w 24120"/>
                      <a:gd name="textAreaTop" fmla="*/ 0 h 36000"/>
                      <a:gd name="textAreaBottom" fmla="*/ 36360 h 36000"/>
                    </a:gdLst>
                    <a:ahLst/>
                    <a:rect l="textAreaLeft" t="textAreaTop" r="textAreaRight" b="textAreaBottom"/>
                    <a:pathLst>
                      <a:path w="223" h="223">
                        <a:moveTo>
                          <a:pt x="34" y="223"/>
                        </a:moveTo>
                        <a:lnTo>
                          <a:pt x="34" y="212"/>
                        </a:lnTo>
                        <a:lnTo>
                          <a:pt x="23" y="190"/>
                        </a:lnTo>
                        <a:lnTo>
                          <a:pt x="23" y="167"/>
                        </a:lnTo>
                        <a:lnTo>
                          <a:pt x="12" y="145"/>
                        </a:lnTo>
                        <a:lnTo>
                          <a:pt x="12" y="123"/>
                        </a:lnTo>
                        <a:lnTo>
                          <a:pt x="23" y="112"/>
                        </a:lnTo>
                        <a:lnTo>
                          <a:pt x="23" y="89"/>
                        </a:lnTo>
                        <a:lnTo>
                          <a:pt x="34" y="78"/>
                        </a:lnTo>
                        <a:lnTo>
                          <a:pt x="45" y="56"/>
                        </a:lnTo>
                        <a:lnTo>
                          <a:pt x="56" y="45"/>
                        </a:lnTo>
                        <a:lnTo>
                          <a:pt x="67" y="34"/>
                        </a:lnTo>
                        <a:lnTo>
                          <a:pt x="90" y="23"/>
                        </a:lnTo>
                        <a:lnTo>
                          <a:pt x="112" y="23"/>
                        </a:lnTo>
                        <a:lnTo>
                          <a:pt x="134" y="23"/>
                        </a:lnTo>
                        <a:lnTo>
                          <a:pt x="157" y="23"/>
                        </a:lnTo>
                        <a:lnTo>
                          <a:pt x="190" y="23"/>
                        </a:lnTo>
                        <a:lnTo>
                          <a:pt x="212" y="34"/>
                        </a:lnTo>
                        <a:lnTo>
                          <a:pt x="223" y="23"/>
                        </a:lnTo>
                        <a:lnTo>
                          <a:pt x="190" y="11"/>
                        </a:lnTo>
                        <a:lnTo>
                          <a:pt x="157" y="11"/>
                        </a:lnTo>
                        <a:lnTo>
                          <a:pt x="134" y="0"/>
                        </a:lnTo>
                        <a:lnTo>
                          <a:pt x="112" y="11"/>
                        </a:lnTo>
                        <a:lnTo>
                          <a:pt x="90" y="11"/>
                        </a:lnTo>
                        <a:lnTo>
                          <a:pt x="67" y="23"/>
                        </a:lnTo>
                        <a:lnTo>
                          <a:pt x="45" y="34"/>
                        </a:lnTo>
                        <a:lnTo>
                          <a:pt x="34" y="45"/>
                        </a:lnTo>
                        <a:lnTo>
                          <a:pt x="23" y="67"/>
                        </a:lnTo>
                        <a:lnTo>
                          <a:pt x="12" y="89"/>
                        </a:lnTo>
                        <a:lnTo>
                          <a:pt x="0" y="101"/>
                        </a:lnTo>
                        <a:lnTo>
                          <a:pt x="0" y="123"/>
                        </a:lnTo>
                        <a:lnTo>
                          <a:pt x="0" y="145"/>
                        </a:lnTo>
                        <a:lnTo>
                          <a:pt x="0" y="167"/>
                        </a:lnTo>
                        <a:lnTo>
                          <a:pt x="12" y="190"/>
                        </a:lnTo>
                        <a:lnTo>
                          <a:pt x="23" y="212"/>
                        </a:lnTo>
                        <a:lnTo>
                          <a:pt x="34" y="223"/>
                        </a:lnTo>
                        <a:close/>
                      </a:path>
                    </a:pathLst>
                  </a:custGeom>
                  <a:solidFill>
                    <a:srgbClr val="0000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1488"/>
                  <p:cNvSpPr/>
                  <p:nvPr/>
                </p:nvSpPr>
                <p:spPr>
                  <a:xfrm rot="111600">
                    <a:off x="5863680" y="877680"/>
                    <a:ext cx="7200" cy="36000"/>
                  </a:xfrm>
                  <a:custGeom>
                    <a:avLst/>
                    <a:gdLst>
                      <a:gd name="textAreaLeft" fmla="*/ 0 w 7200"/>
                      <a:gd name="textAreaRight" fmla="*/ 7560 w 7200"/>
                      <a:gd name="textAreaTop" fmla="*/ 0 h 36000"/>
                      <a:gd name="textAreaBottom" fmla="*/ 36360 h 36000"/>
                    </a:gdLst>
                    <a:ahLst/>
                    <a:rect l="textAreaLeft" t="textAreaTop" r="textAreaRight" b="textAreaBottom"/>
                    <a:pathLst>
                      <a:path w="67" h="223">
                        <a:moveTo>
                          <a:pt x="67" y="212"/>
                        </a:moveTo>
                        <a:lnTo>
                          <a:pt x="67" y="201"/>
                        </a:lnTo>
                        <a:lnTo>
                          <a:pt x="45" y="189"/>
                        </a:lnTo>
                        <a:lnTo>
                          <a:pt x="22" y="167"/>
                        </a:lnTo>
                        <a:lnTo>
                          <a:pt x="11" y="145"/>
                        </a:lnTo>
                        <a:lnTo>
                          <a:pt x="11" y="123"/>
                        </a:lnTo>
                        <a:lnTo>
                          <a:pt x="11" y="89"/>
                        </a:lnTo>
                        <a:lnTo>
                          <a:pt x="22" y="67"/>
                        </a:lnTo>
                        <a:lnTo>
                          <a:pt x="45" y="33"/>
                        </a:lnTo>
                        <a:lnTo>
                          <a:pt x="67" y="11"/>
                        </a:lnTo>
                        <a:lnTo>
                          <a:pt x="56" y="0"/>
                        </a:lnTo>
                        <a:lnTo>
                          <a:pt x="33" y="22"/>
                        </a:lnTo>
                        <a:lnTo>
                          <a:pt x="11" y="56"/>
                        </a:lnTo>
                        <a:lnTo>
                          <a:pt x="0" y="89"/>
                        </a:lnTo>
                        <a:lnTo>
                          <a:pt x="0" y="123"/>
                        </a:lnTo>
                        <a:lnTo>
                          <a:pt x="0" y="145"/>
                        </a:lnTo>
                        <a:lnTo>
                          <a:pt x="11" y="178"/>
                        </a:lnTo>
                        <a:lnTo>
                          <a:pt x="33" y="201"/>
                        </a:lnTo>
                        <a:lnTo>
                          <a:pt x="56" y="223"/>
                        </a:lnTo>
                        <a:lnTo>
                          <a:pt x="56" y="212"/>
                        </a:lnTo>
                        <a:lnTo>
                          <a:pt x="67" y="212"/>
                        </a:lnTo>
                        <a:close/>
                      </a:path>
                    </a:pathLst>
                  </a:custGeom>
                  <a:solidFill>
                    <a:srgbClr val="0000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1487"/>
                  <p:cNvSpPr/>
                  <p:nvPr/>
                </p:nvSpPr>
                <p:spPr>
                  <a:xfrm rot="111600">
                    <a:off x="5868720" y="911880"/>
                    <a:ext cx="4680" cy="14040"/>
                  </a:xfrm>
                  <a:custGeom>
                    <a:avLst/>
                    <a:gdLst>
                      <a:gd name="textAreaLeft" fmla="*/ 0 w 4680"/>
                      <a:gd name="textAreaRight" fmla="*/ 5040 w 4680"/>
                      <a:gd name="textAreaTop" fmla="*/ 0 h 14040"/>
                      <a:gd name="textAreaBottom" fmla="*/ 14400 h 14040"/>
                    </a:gdLst>
                    <a:ahLst/>
                    <a:rect l="textAreaLeft" t="textAreaTop" r="textAreaRight" b="textAreaBottom"/>
                    <a:pathLst>
                      <a:path w="44" h="89">
                        <a:moveTo>
                          <a:pt x="33" y="78"/>
                        </a:moveTo>
                        <a:lnTo>
                          <a:pt x="44" y="78"/>
                        </a:lnTo>
                        <a:lnTo>
                          <a:pt x="33" y="67"/>
                        </a:lnTo>
                        <a:lnTo>
                          <a:pt x="22" y="55"/>
                        </a:lnTo>
                        <a:lnTo>
                          <a:pt x="11" y="33"/>
                        </a:lnTo>
                        <a:lnTo>
                          <a:pt x="11" y="0"/>
                        </a:lnTo>
                        <a:lnTo>
                          <a:pt x="0" y="0"/>
                        </a:lnTo>
                        <a:lnTo>
                          <a:pt x="0" y="33"/>
                        </a:lnTo>
                        <a:lnTo>
                          <a:pt x="11" y="55"/>
                        </a:lnTo>
                        <a:lnTo>
                          <a:pt x="22" y="67"/>
                        </a:lnTo>
                        <a:lnTo>
                          <a:pt x="33" y="89"/>
                        </a:lnTo>
                        <a:lnTo>
                          <a:pt x="33" y="78"/>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1486"/>
                  <p:cNvSpPr/>
                  <p:nvPr/>
                </p:nvSpPr>
                <p:spPr>
                  <a:xfrm rot="111600">
                    <a:off x="5871960" y="923040"/>
                    <a:ext cx="18000" cy="5040"/>
                  </a:xfrm>
                  <a:custGeom>
                    <a:avLst/>
                    <a:gdLst>
                      <a:gd name="textAreaLeft" fmla="*/ 0 w 18000"/>
                      <a:gd name="textAreaRight" fmla="*/ 18360 w 18000"/>
                      <a:gd name="textAreaTop" fmla="*/ 0 h 5040"/>
                      <a:gd name="textAreaBottom" fmla="*/ 5400 h 5040"/>
                    </a:gdLst>
                    <a:ahLst/>
                    <a:rect l="textAreaLeft" t="textAreaTop" r="textAreaRight" b="textAreaBottom"/>
                    <a:pathLst>
                      <a:path w="167" h="33">
                        <a:moveTo>
                          <a:pt x="167" y="11"/>
                        </a:moveTo>
                        <a:lnTo>
                          <a:pt x="167" y="0"/>
                        </a:lnTo>
                        <a:lnTo>
                          <a:pt x="145" y="0"/>
                        </a:lnTo>
                        <a:lnTo>
                          <a:pt x="134" y="0"/>
                        </a:lnTo>
                        <a:lnTo>
                          <a:pt x="123" y="11"/>
                        </a:lnTo>
                        <a:lnTo>
                          <a:pt x="112" y="11"/>
                        </a:lnTo>
                        <a:lnTo>
                          <a:pt x="89" y="22"/>
                        </a:lnTo>
                        <a:lnTo>
                          <a:pt x="67" y="22"/>
                        </a:lnTo>
                        <a:lnTo>
                          <a:pt x="34" y="11"/>
                        </a:lnTo>
                        <a:lnTo>
                          <a:pt x="0" y="11"/>
                        </a:lnTo>
                        <a:lnTo>
                          <a:pt x="0" y="22"/>
                        </a:lnTo>
                        <a:lnTo>
                          <a:pt x="34" y="22"/>
                        </a:lnTo>
                        <a:lnTo>
                          <a:pt x="67" y="33"/>
                        </a:lnTo>
                        <a:lnTo>
                          <a:pt x="89" y="33"/>
                        </a:lnTo>
                        <a:lnTo>
                          <a:pt x="112" y="22"/>
                        </a:lnTo>
                        <a:lnTo>
                          <a:pt x="123" y="22"/>
                        </a:lnTo>
                        <a:lnTo>
                          <a:pt x="134" y="22"/>
                        </a:lnTo>
                        <a:lnTo>
                          <a:pt x="156" y="11"/>
                        </a:lnTo>
                        <a:lnTo>
                          <a:pt x="167" y="11"/>
                        </a:lnTo>
                        <a:lnTo>
                          <a:pt x="156" y="0"/>
                        </a:lnTo>
                        <a:lnTo>
                          <a:pt x="167" y="11"/>
                        </a:lnTo>
                        <a:close/>
                      </a:path>
                    </a:pathLst>
                  </a:custGeom>
                  <a:solidFill>
                    <a:srgbClr val="000000"/>
                  </a:solidFill>
                  <a:ln w="0">
                    <a:no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1485"/>
                  <p:cNvSpPr/>
                  <p:nvPr/>
                </p:nvSpPr>
                <p:spPr>
                  <a:xfrm rot="111600">
                    <a:off x="5887800" y="923400"/>
                    <a:ext cx="8280" cy="19440"/>
                  </a:xfrm>
                  <a:custGeom>
                    <a:avLst/>
                    <a:gdLst>
                      <a:gd name="textAreaLeft" fmla="*/ 0 w 8280"/>
                      <a:gd name="textAreaRight" fmla="*/ 8640 w 8280"/>
                      <a:gd name="textAreaTop" fmla="*/ 0 h 19440"/>
                      <a:gd name="textAreaBottom" fmla="*/ 19800 h 19440"/>
                    </a:gdLst>
                    <a:ahLst/>
                    <a:rect l="textAreaLeft" t="textAreaTop" r="textAreaRight" b="textAreaBottom"/>
                    <a:pathLst>
                      <a:path w="78" h="122">
                        <a:moveTo>
                          <a:pt x="78" y="122"/>
                        </a:moveTo>
                        <a:lnTo>
                          <a:pt x="67" y="111"/>
                        </a:lnTo>
                        <a:lnTo>
                          <a:pt x="45" y="100"/>
                        </a:lnTo>
                        <a:lnTo>
                          <a:pt x="22" y="89"/>
                        </a:lnTo>
                        <a:lnTo>
                          <a:pt x="22" y="78"/>
                        </a:lnTo>
                        <a:lnTo>
                          <a:pt x="11" y="67"/>
                        </a:lnTo>
                        <a:lnTo>
                          <a:pt x="11" y="55"/>
                        </a:lnTo>
                        <a:lnTo>
                          <a:pt x="11" y="44"/>
                        </a:lnTo>
                        <a:lnTo>
                          <a:pt x="22" y="22"/>
                        </a:lnTo>
                        <a:lnTo>
                          <a:pt x="22" y="11"/>
                        </a:lnTo>
                        <a:lnTo>
                          <a:pt x="11" y="0"/>
                        </a:lnTo>
                        <a:lnTo>
                          <a:pt x="11" y="22"/>
                        </a:lnTo>
                        <a:lnTo>
                          <a:pt x="0" y="44"/>
                        </a:lnTo>
                        <a:lnTo>
                          <a:pt x="0" y="55"/>
                        </a:lnTo>
                        <a:lnTo>
                          <a:pt x="0" y="67"/>
                        </a:lnTo>
                        <a:lnTo>
                          <a:pt x="11" y="89"/>
                        </a:lnTo>
                        <a:lnTo>
                          <a:pt x="22" y="100"/>
                        </a:lnTo>
                        <a:lnTo>
                          <a:pt x="34" y="111"/>
                        </a:lnTo>
                        <a:lnTo>
                          <a:pt x="67" y="122"/>
                        </a:lnTo>
                        <a:lnTo>
                          <a:pt x="67" y="111"/>
                        </a:lnTo>
                        <a:lnTo>
                          <a:pt x="78" y="122"/>
                        </a:lnTo>
                        <a:close/>
                      </a:path>
                    </a:pathLst>
                  </a:custGeom>
                  <a:solidFill>
                    <a:srgbClr val="000000"/>
                  </a:solidFill>
                  <a:ln w="0">
                    <a:noFill/>
                  </a:ln>
                </p:spPr>
                <p:style>
                  <a:lnRef idx="0"/>
                  <a:fillRef idx="0"/>
                  <a:effectRef idx="0"/>
                  <a:fontRef idx="minor"/>
                </p:style>
                <p:txBody>
                  <a:bodyPr lIns="90000" rIns="90000" tIns="-27000" bIns="-27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1484"/>
                  <p:cNvSpPr/>
                  <p:nvPr/>
                </p:nvSpPr>
                <p:spPr>
                  <a:xfrm rot="111600">
                    <a:off x="5892480" y="941760"/>
                    <a:ext cx="3240" cy="18000"/>
                  </a:xfrm>
                  <a:custGeom>
                    <a:avLst/>
                    <a:gdLst>
                      <a:gd name="textAreaLeft" fmla="*/ 0 w 3240"/>
                      <a:gd name="textAreaRight" fmla="*/ 3600 w 3240"/>
                      <a:gd name="textAreaTop" fmla="*/ 0 h 18000"/>
                      <a:gd name="textAreaBottom" fmla="*/ 18360 h 18000"/>
                    </a:gdLst>
                    <a:ahLst/>
                    <a:rect l="textAreaLeft" t="textAreaTop" r="textAreaRight" b="textAreaBottom"/>
                    <a:pathLst>
                      <a:path w="33" h="112">
                        <a:moveTo>
                          <a:pt x="22" y="100"/>
                        </a:moveTo>
                        <a:lnTo>
                          <a:pt x="33" y="100"/>
                        </a:lnTo>
                        <a:lnTo>
                          <a:pt x="22" y="78"/>
                        </a:lnTo>
                        <a:lnTo>
                          <a:pt x="11" y="56"/>
                        </a:lnTo>
                        <a:lnTo>
                          <a:pt x="22" y="22"/>
                        </a:lnTo>
                        <a:lnTo>
                          <a:pt x="33" y="11"/>
                        </a:lnTo>
                        <a:lnTo>
                          <a:pt x="22" y="0"/>
                        </a:lnTo>
                        <a:lnTo>
                          <a:pt x="11" y="22"/>
                        </a:lnTo>
                        <a:lnTo>
                          <a:pt x="0" y="56"/>
                        </a:lnTo>
                        <a:lnTo>
                          <a:pt x="0" y="89"/>
                        </a:lnTo>
                        <a:lnTo>
                          <a:pt x="22" y="112"/>
                        </a:lnTo>
                        <a:lnTo>
                          <a:pt x="22" y="100"/>
                        </a:lnTo>
                        <a:close/>
                      </a:path>
                    </a:pathLst>
                  </a:custGeom>
                  <a:solidFill>
                    <a:srgbClr val="000000"/>
                  </a:solidFill>
                  <a:ln w="0">
                    <a:noFill/>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1483"/>
                  <p:cNvSpPr/>
                  <p:nvPr/>
                </p:nvSpPr>
                <p:spPr>
                  <a:xfrm rot="111600">
                    <a:off x="5894280" y="938160"/>
                    <a:ext cx="14400" cy="25200"/>
                  </a:xfrm>
                  <a:custGeom>
                    <a:avLst/>
                    <a:gdLst>
                      <a:gd name="textAreaLeft" fmla="*/ 0 w 14400"/>
                      <a:gd name="textAreaRight" fmla="*/ 14760 w 14400"/>
                      <a:gd name="textAreaTop" fmla="*/ 0 h 25200"/>
                      <a:gd name="textAreaBottom" fmla="*/ 25560 h 25200"/>
                    </a:gdLst>
                    <a:ahLst/>
                    <a:rect l="textAreaLeft" t="textAreaTop" r="textAreaRight" b="textAreaBottom"/>
                    <a:pathLst>
                      <a:path w="134" h="156">
                        <a:moveTo>
                          <a:pt x="123" y="0"/>
                        </a:moveTo>
                        <a:lnTo>
                          <a:pt x="123" y="11"/>
                        </a:lnTo>
                        <a:lnTo>
                          <a:pt x="123" y="33"/>
                        </a:lnTo>
                        <a:lnTo>
                          <a:pt x="123" y="67"/>
                        </a:lnTo>
                        <a:lnTo>
                          <a:pt x="111" y="89"/>
                        </a:lnTo>
                        <a:lnTo>
                          <a:pt x="89" y="111"/>
                        </a:lnTo>
                        <a:lnTo>
                          <a:pt x="78" y="134"/>
                        </a:lnTo>
                        <a:lnTo>
                          <a:pt x="56" y="134"/>
                        </a:lnTo>
                        <a:lnTo>
                          <a:pt x="22" y="134"/>
                        </a:lnTo>
                        <a:lnTo>
                          <a:pt x="0" y="122"/>
                        </a:lnTo>
                        <a:lnTo>
                          <a:pt x="0" y="134"/>
                        </a:lnTo>
                        <a:lnTo>
                          <a:pt x="22" y="145"/>
                        </a:lnTo>
                        <a:lnTo>
                          <a:pt x="56" y="156"/>
                        </a:lnTo>
                        <a:lnTo>
                          <a:pt x="78" y="145"/>
                        </a:lnTo>
                        <a:lnTo>
                          <a:pt x="100" y="122"/>
                        </a:lnTo>
                        <a:lnTo>
                          <a:pt x="123" y="100"/>
                        </a:lnTo>
                        <a:lnTo>
                          <a:pt x="134" y="67"/>
                        </a:lnTo>
                        <a:lnTo>
                          <a:pt x="134" y="33"/>
                        </a:lnTo>
                        <a:lnTo>
                          <a:pt x="134" y="11"/>
                        </a:lnTo>
                        <a:lnTo>
                          <a:pt x="123" y="22"/>
                        </a:lnTo>
                        <a:lnTo>
                          <a:pt x="123"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1482"/>
                  <p:cNvSpPr/>
                  <p:nvPr/>
                </p:nvSpPr>
                <p:spPr>
                  <a:xfrm rot="111600">
                    <a:off x="5909040" y="902520"/>
                    <a:ext cx="10800" cy="39600"/>
                  </a:xfrm>
                  <a:custGeom>
                    <a:avLst/>
                    <a:gdLst>
                      <a:gd name="textAreaLeft" fmla="*/ 0 w 10800"/>
                      <a:gd name="textAreaRight" fmla="*/ 11160 w 10800"/>
                      <a:gd name="textAreaTop" fmla="*/ 0 h 39600"/>
                      <a:gd name="textAreaBottom" fmla="*/ 39960 h 39600"/>
                    </a:gdLst>
                    <a:ahLst/>
                    <a:rect l="textAreaLeft" t="textAreaTop" r="textAreaRight" b="textAreaBottom"/>
                    <a:pathLst>
                      <a:path w="100" h="245">
                        <a:moveTo>
                          <a:pt x="89" y="0"/>
                        </a:moveTo>
                        <a:lnTo>
                          <a:pt x="89" y="11"/>
                        </a:lnTo>
                        <a:lnTo>
                          <a:pt x="89" y="44"/>
                        </a:lnTo>
                        <a:lnTo>
                          <a:pt x="89" y="78"/>
                        </a:lnTo>
                        <a:lnTo>
                          <a:pt x="89" y="111"/>
                        </a:lnTo>
                        <a:lnTo>
                          <a:pt x="89" y="145"/>
                        </a:lnTo>
                        <a:lnTo>
                          <a:pt x="78" y="167"/>
                        </a:lnTo>
                        <a:lnTo>
                          <a:pt x="55" y="189"/>
                        </a:lnTo>
                        <a:lnTo>
                          <a:pt x="33" y="212"/>
                        </a:lnTo>
                        <a:lnTo>
                          <a:pt x="0" y="223"/>
                        </a:lnTo>
                        <a:lnTo>
                          <a:pt x="0" y="245"/>
                        </a:lnTo>
                        <a:lnTo>
                          <a:pt x="44" y="223"/>
                        </a:lnTo>
                        <a:lnTo>
                          <a:pt x="66" y="201"/>
                        </a:lnTo>
                        <a:lnTo>
                          <a:pt x="89" y="178"/>
                        </a:lnTo>
                        <a:lnTo>
                          <a:pt x="100" y="145"/>
                        </a:lnTo>
                        <a:lnTo>
                          <a:pt x="100" y="111"/>
                        </a:lnTo>
                        <a:lnTo>
                          <a:pt x="100" y="78"/>
                        </a:lnTo>
                        <a:lnTo>
                          <a:pt x="100" y="44"/>
                        </a:lnTo>
                        <a:lnTo>
                          <a:pt x="100" y="11"/>
                        </a:lnTo>
                        <a:lnTo>
                          <a:pt x="89" y="22"/>
                        </a:lnTo>
                        <a:lnTo>
                          <a:pt x="89" y="0"/>
                        </a:lnTo>
                        <a:close/>
                      </a:path>
                    </a:pathLst>
                  </a:custGeom>
                  <a:solidFill>
                    <a:srgbClr val="000000"/>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1481"/>
                  <p:cNvSpPr/>
                  <p:nvPr/>
                </p:nvSpPr>
                <p:spPr>
                  <a:xfrm rot="111600">
                    <a:off x="5919480" y="879840"/>
                    <a:ext cx="24120" cy="27000"/>
                  </a:xfrm>
                  <a:custGeom>
                    <a:avLst/>
                    <a:gdLst>
                      <a:gd name="textAreaLeft" fmla="*/ 0 w 24120"/>
                      <a:gd name="textAreaRight" fmla="*/ 24480 w 24120"/>
                      <a:gd name="textAreaTop" fmla="*/ 0 h 27000"/>
                      <a:gd name="textAreaBottom" fmla="*/ 27360 h 27000"/>
                    </a:gdLst>
                    <a:ahLst/>
                    <a:rect l="textAreaLeft" t="textAreaTop" r="textAreaRight" b="textAreaBottom"/>
                    <a:pathLst>
                      <a:path w="223" h="167">
                        <a:moveTo>
                          <a:pt x="223" y="0"/>
                        </a:moveTo>
                        <a:lnTo>
                          <a:pt x="211" y="0"/>
                        </a:lnTo>
                        <a:lnTo>
                          <a:pt x="211" y="22"/>
                        </a:lnTo>
                        <a:lnTo>
                          <a:pt x="200" y="33"/>
                        </a:lnTo>
                        <a:lnTo>
                          <a:pt x="189" y="45"/>
                        </a:lnTo>
                        <a:lnTo>
                          <a:pt x="178" y="56"/>
                        </a:lnTo>
                        <a:lnTo>
                          <a:pt x="167" y="67"/>
                        </a:lnTo>
                        <a:lnTo>
                          <a:pt x="145" y="78"/>
                        </a:lnTo>
                        <a:lnTo>
                          <a:pt x="133" y="89"/>
                        </a:lnTo>
                        <a:lnTo>
                          <a:pt x="122" y="100"/>
                        </a:lnTo>
                        <a:lnTo>
                          <a:pt x="111" y="100"/>
                        </a:lnTo>
                        <a:lnTo>
                          <a:pt x="100" y="111"/>
                        </a:lnTo>
                        <a:lnTo>
                          <a:pt x="78" y="123"/>
                        </a:lnTo>
                        <a:lnTo>
                          <a:pt x="67" y="123"/>
                        </a:lnTo>
                        <a:lnTo>
                          <a:pt x="44" y="134"/>
                        </a:lnTo>
                        <a:lnTo>
                          <a:pt x="33" y="134"/>
                        </a:lnTo>
                        <a:lnTo>
                          <a:pt x="11" y="145"/>
                        </a:lnTo>
                        <a:lnTo>
                          <a:pt x="0" y="145"/>
                        </a:lnTo>
                        <a:lnTo>
                          <a:pt x="0" y="167"/>
                        </a:lnTo>
                        <a:lnTo>
                          <a:pt x="22" y="156"/>
                        </a:lnTo>
                        <a:lnTo>
                          <a:pt x="33" y="156"/>
                        </a:lnTo>
                        <a:lnTo>
                          <a:pt x="55" y="145"/>
                        </a:lnTo>
                        <a:lnTo>
                          <a:pt x="67" y="134"/>
                        </a:lnTo>
                        <a:lnTo>
                          <a:pt x="89" y="134"/>
                        </a:lnTo>
                        <a:lnTo>
                          <a:pt x="100" y="123"/>
                        </a:lnTo>
                        <a:lnTo>
                          <a:pt x="111" y="111"/>
                        </a:lnTo>
                        <a:lnTo>
                          <a:pt x="133" y="111"/>
                        </a:lnTo>
                        <a:lnTo>
                          <a:pt x="145" y="100"/>
                        </a:lnTo>
                        <a:lnTo>
                          <a:pt x="156" y="89"/>
                        </a:lnTo>
                        <a:lnTo>
                          <a:pt x="167" y="78"/>
                        </a:lnTo>
                        <a:lnTo>
                          <a:pt x="189" y="67"/>
                        </a:lnTo>
                        <a:lnTo>
                          <a:pt x="200" y="56"/>
                        </a:lnTo>
                        <a:lnTo>
                          <a:pt x="211" y="33"/>
                        </a:lnTo>
                        <a:lnTo>
                          <a:pt x="211" y="22"/>
                        </a:lnTo>
                        <a:lnTo>
                          <a:pt x="223" y="11"/>
                        </a:lnTo>
                        <a:lnTo>
                          <a:pt x="211" y="11"/>
                        </a:lnTo>
                        <a:lnTo>
                          <a:pt x="223" y="0"/>
                        </a:lnTo>
                        <a:close/>
                      </a:path>
                    </a:pathLst>
                  </a:custGeom>
                  <a:solidFill>
                    <a:srgbClr val="000000"/>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1480"/>
                  <p:cNvSpPr/>
                  <p:nvPr/>
                </p:nvSpPr>
                <p:spPr>
                  <a:xfrm rot="111600">
                    <a:off x="5943240" y="875160"/>
                    <a:ext cx="23040" cy="14040"/>
                  </a:xfrm>
                  <a:custGeom>
                    <a:avLst/>
                    <a:gdLst>
                      <a:gd name="textAreaLeft" fmla="*/ 0 w 23040"/>
                      <a:gd name="textAreaRight" fmla="*/ 23400 w 23040"/>
                      <a:gd name="textAreaTop" fmla="*/ 0 h 14040"/>
                      <a:gd name="textAreaBottom" fmla="*/ 14400 h 14040"/>
                    </a:gdLst>
                    <a:ahLst/>
                    <a:rect l="textAreaLeft" t="textAreaTop" r="textAreaRight" b="textAreaBottom"/>
                    <a:pathLst>
                      <a:path w="212" h="89">
                        <a:moveTo>
                          <a:pt x="212" y="0"/>
                        </a:moveTo>
                        <a:lnTo>
                          <a:pt x="201" y="0"/>
                        </a:lnTo>
                        <a:lnTo>
                          <a:pt x="179" y="22"/>
                        </a:lnTo>
                        <a:lnTo>
                          <a:pt x="168" y="44"/>
                        </a:lnTo>
                        <a:lnTo>
                          <a:pt x="134" y="55"/>
                        </a:lnTo>
                        <a:lnTo>
                          <a:pt x="112" y="66"/>
                        </a:lnTo>
                        <a:lnTo>
                          <a:pt x="90" y="78"/>
                        </a:lnTo>
                        <a:lnTo>
                          <a:pt x="56" y="66"/>
                        </a:lnTo>
                        <a:lnTo>
                          <a:pt x="34" y="55"/>
                        </a:lnTo>
                        <a:lnTo>
                          <a:pt x="12" y="33"/>
                        </a:lnTo>
                        <a:lnTo>
                          <a:pt x="0" y="44"/>
                        </a:lnTo>
                        <a:lnTo>
                          <a:pt x="34" y="66"/>
                        </a:lnTo>
                        <a:lnTo>
                          <a:pt x="56" y="89"/>
                        </a:lnTo>
                        <a:lnTo>
                          <a:pt x="90" y="89"/>
                        </a:lnTo>
                        <a:lnTo>
                          <a:pt x="112" y="78"/>
                        </a:lnTo>
                        <a:lnTo>
                          <a:pt x="145" y="66"/>
                        </a:lnTo>
                        <a:lnTo>
                          <a:pt x="168" y="55"/>
                        </a:lnTo>
                        <a:lnTo>
                          <a:pt x="190" y="33"/>
                        </a:lnTo>
                        <a:lnTo>
                          <a:pt x="212" y="11"/>
                        </a:lnTo>
                        <a:lnTo>
                          <a:pt x="201" y="11"/>
                        </a:lnTo>
                        <a:lnTo>
                          <a:pt x="212" y="0"/>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1479"/>
                  <p:cNvSpPr/>
                  <p:nvPr/>
                </p:nvSpPr>
                <p:spPr>
                  <a:xfrm rot="111600">
                    <a:off x="5965200" y="875880"/>
                    <a:ext cx="23040" cy="17640"/>
                  </a:xfrm>
                  <a:custGeom>
                    <a:avLst/>
                    <a:gdLst>
                      <a:gd name="textAreaLeft" fmla="*/ 0 w 23040"/>
                      <a:gd name="textAreaRight" fmla="*/ 23400 w 23040"/>
                      <a:gd name="textAreaTop" fmla="*/ 0 h 17640"/>
                      <a:gd name="textAreaBottom" fmla="*/ 18000 h 17640"/>
                    </a:gdLst>
                    <a:ahLst/>
                    <a:rect l="textAreaLeft" t="textAreaTop" r="textAreaRight" b="textAreaBottom"/>
                    <a:pathLst>
                      <a:path w="212" h="111">
                        <a:moveTo>
                          <a:pt x="212" y="100"/>
                        </a:moveTo>
                        <a:lnTo>
                          <a:pt x="201" y="89"/>
                        </a:lnTo>
                        <a:lnTo>
                          <a:pt x="167" y="100"/>
                        </a:lnTo>
                        <a:lnTo>
                          <a:pt x="134" y="100"/>
                        </a:lnTo>
                        <a:lnTo>
                          <a:pt x="112" y="100"/>
                        </a:lnTo>
                        <a:lnTo>
                          <a:pt x="89" y="89"/>
                        </a:lnTo>
                        <a:lnTo>
                          <a:pt x="67" y="66"/>
                        </a:lnTo>
                        <a:lnTo>
                          <a:pt x="45" y="44"/>
                        </a:lnTo>
                        <a:lnTo>
                          <a:pt x="34" y="22"/>
                        </a:lnTo>
                        <a:lnTo>
                          <a:pt x="11" y="0"/>
                        </a:lnTo>
                        <a:lnTo>
                          <a:pt x="0" y="11"/>
                        </a:lnTo>
                        <a:lnTo>
                          <a:pt x="22" y="33"/>
                        </a:lnTo>
                        <a:lnTo>
                          <a:pt x="34" y="55"/>
                        </a:lnTo>
                        <a:lnTo>
                          <a:pt x="67" y="78"/>
                        </a:lnTo>
                        <a:lnTo>
                          <a:pt x="89" y="100"/>
                        </a:lnTo>
                        <a:lnTo>
                          <a:pt x="112" y="111"/>
                        </a:lnTo>
                        <a:lnTo>
                          <a:pt x="134" y="111"/>
                        </a:lnTo>
                        <a:lnTo>
                          <a:pt x="167" y="111"/>
                        </a:lnTo>
                        <a:lnTo>
                          <a:pt x="201" y="100"/>
                        </a:lnTo>
                        <a:lnTo>
                          <a:pt x="201" y="89"/>
                        </a:lnTo>
                        <a:lnTo>
                          <a:pt x="212" y="100"/>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1478"/>
                  <p:cNvSpPr/>
                  <p:nvPr/>
                </p:nvSpPr>
                <p:spPr>
                  <a:xfrm rot="111600">
                    <a:off x="5985360" y="89064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89" h="178">
                        <a:moveTo>
                          <a:pt x="89" y="167"/>
                        </a:moveTo>
                        <a:lnTo>
                          <a:pt x="89" y="167"/>
                        </a:lnTo>
                        <a:lnTo>
                          <a:pt x="66" y="156"/>
                        </a:lnTo>
                        <a:lnTo>
                          <a:pt x="55" y="133"/>
                        </a:lnTo>
                        <a:lnTo>
                          <a:pt x="33" y="111"/>
                        </a:lnTo>
                        <a:lnTo>
                          <a:pt x="22" y="89"/>
                        </a:lnTo>
                        <a:lnTo>
                          <a:pt x="22" y="67"/>
                        </a:lnTo>
                        <a:lnTo>
                          <a:pt x="11" y="44"/>
                        </a:lnTo>
                        <a:lnTo>
                          <a:pt x="11" y="22"/>
                        </a:lnTo>
                        <a:lnTo>
                          <a:pt x="22" y="11"/>
                        </a:lnTo>
                        <a:lnTo>
                          <a:pt x="11" y="0"/>
                        </a:lnTo>
                        <a:lnTo>
                          <a:pt x="0" y="22"/>
                        </a:lnTo>
                        <a:lnTo>
                          <a:pt x="0" y="44"/>
                        </a:lnTo>
                        <a:lnTo>
                          <a:pt x="11" y="67"/>
                        </a:lnTo>
                        <a:lnTo>
                          <a:pt x="11" y="100"/>
                        </a:lnTo>
                        <a:lnTo>
                          <a:pt x="22" y="122"/>
                        </a:lnTo>
                        <a:lnTo>
                          <a:pt x="44" y="145"/>
                        </a:lnTo>
                        <a:lnTo>
                          <a:pt x="55" y="167"/>
                        </a:lnTo>
                        <a:lnTo>
                          <a:pt x="89" y="178"/>
                        </a:lnTo>
                        <a:lnTo>
                          <a:pt x="89" y="167"/>
                        </a:lnTo>
                        <a:close/>
                      </a:path>
                    </a:pathLst>
                  </a:custGeom>
                  <a:solidFill>
                    <a:srgbClr val="000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1477"/>
                  <p:cNvSpPr/>
                  <p:nvPr/>
                </p:nvSpPr>
                <p:spPr>
                  <a:xfrm rot="111600">
                    <a:off x="5994360" y="916200"/>
                    <a:ext cx="9720" cy="3240"/>
                  </a:xfrm>
                  <a:custGeom>
                    <a:avLst/>
                    <a:gdLst>
                      <a:gd name="textAreaLeft" fmla="*/ 0 w 9720"/>
                      <a:gd name="textAreaRight" fmla="*/ 10080 w 9720"/>
                      <a:gd name="textAreaTop" fmla="*/ 0 h 3240"/>
                      <a:gd name="textAreaBottom" fmla="*/ 3600 h 3240"/>
                    </a:gdLst>
                    <a:ahLst/>
                    <a:rect l="textAreaLeft" t="textAreaTop" r="textAreaRight" b="textAreaBottom"/>
                    <a:pathLst>
                      <a:path w="89" h="22">
                        <a:moveTo>
                          <a:pt x="89" y="11"/>
                        </a:moveTo>
                        <a:lnTo>
                          <a:pt x="78" y="0"/>
                        </a:lnTo>
                        <a:lnTo>
                          <a:pt x="67" y="0"/>
                        </a:lnTo>
                        <a:lnTo>
                          <a:pt x="44" y="11"/>
                        </a:lnTo>
                        <a:lnTo>
                          <a:pt x="33" y="11"/>
                        </a:lnTo>
                        <a:lnTo>
                          <a:pt x="22" y="11"/>
                        </a:lnTo>
                        <a:lnTo>
                          <a:pt x="11" y="11"/>
                        </a:lnTo>
                        <a:lnTo>
                          <a:pt x="0" y="11"/>
                        </a:lnTo>
                        <a:lnTo>
                          <a:pt x="0" y="22"/>
                        </a:lnTo>
                        <a:lnTo>
                          <a:pt x="11" y="22"/>
                        </a:lnTo>
                        <a:lnTo>
                          <a:pt x="22" y="22"/>
                        </a:lnTo>
                        <a:lnTo>
                          <a:pt x="44" y="22"/>
                        </a:lnTo>
                        <a:lnTo>
                          <a:pt x="55" y="22"/>
                        </a:lnTo>
                        <a:lnTo>
                          <a:pt x="67" y="22"/>
                        </a:lnTo>
                        <a:lnTo>
                          <a:pt x="78" y="22"/>
                        </a:lnTo>
                        <a:lnTo>
                          <a:pt x="78" y="11"/>
                        </a:lnTo>
                        <a:lnTo>
                          <a:pt x="89" y="11"/>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1476"/>
                  <p:cNvSpPr/>
                  <p:nvPr/>
                </p:nvSpPr>
                <p:spPr>
                  <a:xfrm rot="111600">
                    <a:off x="6001560" y="918000"/>
                    <a:ext cx="2160" cy="17640"/>
                  </a:xfrm>
                  <a:custGeom>
                    <a:avLst/>
                    <a:gdLst>
                      <a:gd name="textAreaLeft" fmla="*/ 0 w 2160"/>
                      <a:gd name="textAreaRight" fmla="*/ 2520 w 2160"/>
                      <a:gd name="textAreaTop" fmla="*/ 0 h 17640"/>
                      <a:gd name="textAreaBottom" fmla="*/ 18000 h 17640"/>
                    </a:gdLst>
                    <a:ahLst/>
                    <a:rect l="textAreaLeft" t="textAreaTop" r="textAreaRight" b="textAreaBottom"/>
                    <a:pathLst>
                      <a:path w="22" h="111">
                        <a:moveTo>
                          <a:pt x="22" y="100"/>
                        </a:moveTo>
                        <a:lnTo>
                          <a:pt x="22" y="100"/>
                        </a:lnTo>
                        <a:lnTo>
                          <a:pt x="11" y="78"/>
                        </a:lnTo>
                        <a:lnTo>
                          <a:pt x="11" y="56"/>
                        </a:lnTo>
                        <a:lnTo>
                          <a:pt x="22" y="22"/>
                        </a:lnTo>
                        <a:lnTo>
                          <a:pt x="22" y="0"/>
                        </a:lnTo>
                        <a:lnTo>
                          <a:pt x="11" y="0"/>
                        </a:lnTo>
                        <a:lnTo>
                          <a:pt x="0" y="22"/>
                        </a:lnTo>
                        <a:lnTo>
                          <a:pt x="0" y="56"/>
                        </a:lnTo>
                        <a:lnTo>
                          <a:pt x="0" y="78"/>
                        </a:lnTo>
                        <a:lnTo>
                          <a:pt x="11" y="111"/>
                        </a:lnTo>
                        <a:lnTo>
                          <a:pt x="22" y="100"/>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1475"/>
                  <p:cNvSpPr/>
                  <p:nvPr/>
                </p:nvSpPr>
                <p:spPr>
                  <a:xfrm rot="111600">
                    <a:off x="6002640" y="934560"/>
                    <a:ext cx="8280" cy="12240"/>
                  </a:xfrm>
                  <a:custGeom>
                    <a:avLst/>
                    <a:gdLst>
                      <a:gd name="textAreaLeft" fmla="*/ 0 w 8280"/>
                      <a:gd name="textAreaRight" fmla="*/ 8640 w 8280"/>
                      <a:gd name="textAreaTop" fmla="*/ 0 h 12240"/>
                      <a:gd name="textAreaBottom" fmla="*/ 12600 h 12240"/>
                    </a:gdLst>
                    <a:ahLst/>
                    <a:rect l="textAreaLeft" t="textAreaTop" r="textAreaRight" b="textAreaBottom"/>
                    <a:pathLst>
                      <a:path w="78" h="78">
                        <a:moveTo>
                          <a:pt x="78" y="78"/>
                        </a:moveTo>
                        <a:lnTo>
                          <a:pt x="78" y="67"/>
                        </a:lnTo>
                        <a:lnTo>
                          <a:pt x="67" y="67"/>
                        </a:lnTo>
                        <a:lnTo>
                          <a:pt x="67" y="56"/>
                        </a:lnTo>
                        <a:lnTo>
                          <a:pt x="55" y="56"/>
                        </a:lnTo>
                        <a:lnTo>
                          <a:pt x="44" y="45"/>
                        </a:lnTo>
                        <a:lnTo>
                          <a:pt x="33" y="34"/>
                        </a:lnTo>
                        <a:lnTo>
                          <a:pt x="33" y="23"/>
                        </a:lnTo>
                        <a:lnTo>
                          <a:pt x="22" y="11"/>
                        </a:lnTo>
                        <a:lnTo>
                          <a:pt x="11" y="0"/>
                        </a:lnTo>
                        <a:lnTo>
                          <a:pt x="0" y="11"/>
                        </a:lnTo>
                        <a:lnTo>
                          <a:pt x="11" y="23"/>
                        </a:lnTo>
                        <a:lnTo>
                          <a:pt x="22" y="34"/>
                        </a:lnTo>
                        <a:lnTo>
                          <a:pt x="22" y="45"/>
                        </a:lnTo>
                        <a:lnTo>
                          <a:pt x="33" y="56"/>
                        </a:lnTo>
                        <a:lnTo>
                          <a:pt x="44" y="67"/>
                        </a:lnTo>
                        <a:lnTo>
                          <a:pt x="55" y="67"/>
                        </a:lnTo>
                        <a:lnTo>
                          <a:pt x="67" y="78"/>
                        </a:lnTo>
                        <a:lnTo>
                          <a:pt x="78" y="78"/>
                        </a:lnTo>
                        <a:lnTo>
                          <a:pt x="67" y="78"/>
                        </a:lnTo>
                        <a:lnTo>
                          <a:pt x="78" y="78"/>
                        </a:lnTo>
                        <a:close/>
                      </a:path>
                    </a:pathLst>
                  </a:custGeom>
                  <a:solidFill>
                    <a:srgbClr val="000000"/>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1474"/>
                  <p:cNvSpPr/>
                  <p:nvPr/>
                </p:nvSpPr>
                <p:spPr>
                  <a:xfrm rot="111600">
                    <a:off x="6009480" y="947160"/>
                    <a:ext cx="3600" cy="21600"/>
                  </a:xfrm>
                  <a:custGeom>
                    <a:avLst/>
                    <a:gdLst>
                      <a:gd name="textAreaLeft" fmla="*/ 0 w 3600"/>
                      <a:gd name="textAreaRight" fmla="*/ 3960 w 3600"/>
                      <a:gd name="textAreaTop" fmla="*/ 0 h 21600"/>
                      <a:gd name="textAreaBottom" fmla="*/ 21960 h 21600"/>
                    </a:gdLst>
                    <a:ahLst/>
                    <a:rect l="textAreaLeft" t="textAreaTop" r="textAreaRight" b="textAreaBottom"/>
                    <a:pathLst>
                      <a:path w="33" h="134">
                        <a:moveTo>
                          <a:pt x="33" y="112"/>
                        </a:moveTo>
                        <a:lnTo>
                          <a:pt x="33" y="112"/>
                        </a:lnTo>
                        <a:lnTo>
                          <a:pt x="22" y="89"/>
                        </a:lnTo>
                        <a:lnTo>
                          <a:pt x="11" y="67"/>
                        </a:lnTo>
                        <a:lnTo>
                          <a:pt x="11" y="34"/>
                        </a:lnTo>
                        <a:lnTo>
                          <a:pt x="11" y="0"/>
                        </a:lnTo>
                        <a:lnTo>
                          <a:pt x="0" y="0"/>
                        </a:lnTo>
                        <a:lnTo>
                          <a:pt x="0" y="34"/>
                        </a:lnTo>
                        <a:lnTo>
                          <a:pt x="0" y="67"/>
                        </a:lnTo>
                        <a:lnTo>
                          <a:pt x="11" y="101"/>
                        </a:lnTo>
                        <a:lnTo>
                          <a:pt x="22" y="123"/>
                        </a:lnTo>
                        <a:lnTo>
                          <a:pt x="33" y="134"/>
                        </a:lnTo>
                        <a:lnTo>
                          <a:pt x="33" y="112"/>
                        </a:lnTo>
                        <a:close/>
                      </a:path>
                    </a:pathLst>
                  </a:custGeom>
                  <a:solidFill>
                    <a:srgbClr val="000000"/>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1473"/>
                  <p:cNvSpPr/>
                  <p:nvPr/>
                </p:nvSpPr>
                <p:spPr>
                  <a:xfrm rot="111600">
                    <a:off x="6013080" y="947520"/>
                    <a:ext cx="10800" cy="21600"/>
                  </a:xfrm>
                  <a:custGeom>
                    <a:avLst/>
                    <a:gdLst>
                      <a:gd name="textAreaLeft" fmla="*/ 0 w 10800"/>
                      <a:gd name="textAreaRight" fmla="*/ 11160 w 10800"/>
                      <a:gd name="textAreaTop" fmla="*/ 0 h 21600"/>
                      <a:gd name="textAreaBottom" fmla="*/ 21960 h 21600"/>
                    </a:gdLst>
                    <a:ahLst/>
                    <a:rect l="textAreaLeft" t="textAreaTop" r="textAreaRight" b="textAreaBottom"/>
                    <a:pathLst>
                      <a:path w="100" h="134">
                        <a:moveTo>
                          <a:pt x="89" y="0"/>
                        </a:moveTo>
                        <a:lnTo>
                          <a:pt x="89" y="11"/>
                        </a:lnTo>
                        <a:lnTo>
                          <a:pt x="89" y="45"/>
                        </a:lnTo>
                        <a:lnTo>
                          <a:pt x="89" y="67"/>
                        </a:lnTo>
                        <a:lnTo>
                          <a:pt x="78" y="89"/>
                        </a:lnTo>
                        <a:lnTo>
                          <a:pt x="67" y="101"/>
                        </a:lnTo>
                        <a:lnTo>
                          <a:pt x="56" y="112"/>
                        </a:lnTo>
                        <a:lnTo>
                          <a:pt x="45" y="123"/>
                        </a:lnTo>
                        <a:lnTo>
                          <a:pt x="22" y="123"/>
                        </a:lnTo>
                        <a:lnTo>
                          <a:pt x="0" y="112"/>
                        </a:lnTo>
                        <a:lnTo>
                          <a:pt x="0" y="134"/>
                        </a:lnTo>
                        <a:lnTo>
                          <a:pt x="22" y="134"/>
                        </a:lnTo>
                        <a:lnTo>
                          <a:pt x="45" y="134"/>
                        </a:lnTo>
                        <a:lnTo>
                          <a:pt x="56" y="123"/>
                        </a:lnTo>
                        <a:lnTo>
                          <a:pt x="78" y="112"/>
                        </a:lnTo>
                        <a:lnTo>
                          <a:pt x="89" y="101"/>
                        </a:lnTo>
                        <a:lnTo>
                          <a:pt x="100" y="67"/>
                        </a:lnTo>
                        <a:lnTo>
                          <a:pt x="100" y="45"/>
                        </a:lnTo>
                        <a:lnTo>
                          <a:pt x="100" y="11"/>
                        </a:lnTo>
                        <a:lnTo>
                          <a:pt x="89" y="0"/>
                        </a:lnTo>
                        <a:close/>
                      </a:path>
                    </a:pathLst>
                  </a:custGeom>
                  <a:solidFill>
                    <a:srgbClr val="000000"/>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1472"/>
                  <p:cNvSpPr/>
                  <p:nvPr/>
                </p:nvSpPr>
                <p:spPr>
                  <a:xfrm rot="111600">
                    <a:off x="6023160" y="933120"/>
                    <a:ext cx="6120" cy="15840"/>
                  </a:xfrm>
                  <a:custGeom>
                    <a:avLst/>
                    <a:gdLst>
                      <a:gd name="textAreaLeft" fmla="*/ 0 w 6120"/>
                      <a:gd name="textAreaRight" fmla="*/ 6480 w 6120"/>
                      <a:gd name="textAreaTop" fmla="*/ 0 h 15840"/>
                      <a:gd name="textAreaBottom" fmla="*/ 16200 h 15840"/>
                    </a:gdLst>
                    <a:ahLst/>
                    <a:rect l="textAreaLeft" t="textAreaTop" r="textAreaRight" b="textAreaBottom"/>
                    <a:pathLst>
                      <a:path w="56" h="100">
                        <a:moveTo>
                          <a:pt x="56" y="0"/>
                        </a:moveTo>
                        <a:lnTo>
                          <a:pt x="45" y="0"/>
                        </a:lnTo>
                        <a:lnTo>
                          <a:pt x="45" y="22"/>
                        </a:lnTo>
                        <a:lnTo>
                          <a:pt x="45" y="34"/>
                        </a:lnTo>
                        <a:lnTo>
                          <a:pt x="45" y="45"/>
                        </a:lnTo>
                        <a:lnTo>
                          <a:pt x="34" y="56"/>
                        </a:lnTo>
                        <a:lnTo>
                          <a:pt x="34" y="67"/>
                        </a:lnTo>
                        <a:lnTo>
                          <a:pt x="23" y="67"/>
                        </a:lnTo>
                        <a:lnTo>
                          <a:pt x="11" y="78"/>
                        </a:lnTo>
                        <a:lnTo>
                          <a:pt x="0" y="89"/>
                        </a:lnTo>
                        <a:lnTo>
                          <a:pt x="11" y="100"/>
                        </a:lnTo>
                        <a:lnTo>
                          <a:pt x="23" y="89"/>
                        </a:lnTo>
                        <a:lnTo>
                          <a:pt x="34" y="78"/>
                        </a:lnTo>
                        <a:lnTo>
                          <a:pt x="45" y="67"/>
                        </a:lnTo>
                        <a:lnTo>
                          <a:pt x="45" y="56"/>
                        </a:lnTo>
                        <a:lnTo>
                          <a:pt x="56" y="45"/>
                        </a:lnTo>
                        <a:lnTo>
                          <a:pt x="56" y="34"/>
                        </a:lnTo>
                        <a:lnTo>
                          <a:pt x="56" y="22"/>
                        </a:lnTo>
                        <a:lnTo>
                          <a:pt x="56" y="0"/>
                        </a:lnTo>
                        <a:lnTo>
                          <a:pt x="45" y="0"/>
                        </a:lnTo>
                        <a:lnTo>
                          <a:pt x="56" y="0"/>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1471"/>
                  <p:cNvSpPr/>
                  <p:nvPr/>
                </p:nvSpPr>
                <p:spPr>
                  <a:xfrm rot="111600">
                    <a:off x="6028200" y="933480"/>
                    <a:ext cx="9720" cy="10800"/>
                  </a:xfrm>
                  <a:custGeom>
                    <a:avLst/>
                    <a:gdLst>
                      <a:gd name="textAreaLeft" fmla="*/ 0 w 9720"/>
                      <a:gd name="textAreaRight" fmla="*/ 10080 w 9720"/>
                      <a:gd name="textAreaTop" fmla="*/ 0 h 10800"/>
                      <a:gd name="textAreaBottom" fmla="*/ 11160 h 10800"/>
                    </a:gdLst>
                    <a:ahLst/>
                    <a:rect l="textAreaLeft" t="textAreaTop" r="textAreaRight" b="textAreaBottom"/>
                    <a:pathLst>
                      <a:path w="89" h="67">
                        <a:moveTo>
                          <a:pt x="89" y="56"/>
                        </a:moveTo>
                        <a:lnTo>
                          <a:pt x="89" y="56"/>
                        </a:lnTo>
                        <a:lnTo>
                          <a:pt x="78" y="56"/>
                        </a:lnTo>
                        <a:lnTo>
                          <a:pt x="67" y="45"/>
                        </a:lnTo>
                        <a:lnTo>
                          <a:pt x="56" y="45"/>
                        </a:lnTo>
                        <a:lnTo>
                          <a:pt x="44" y="34"/>
                        </a:lnTo>
                        <a:lnTo>
                          <a:pt x="33" y="22"/>
                        </a:lnTo>
                        <a:lnTo>
                          <a:pt x="22" y="11"/>
                        </a:lnTo>
                        <a:lnTo>
                          <a:pt x="22" y="0"/>
                        </a:lnTo>
                        <a:lnTo>
                          <a:pt x="11" y="0"/>
                        </a:lnTo>
                        <a:lnTo>
                          <a:pt x="0" y="0"/>
                        </a:lnTo>
                        <a:lnTo>
                          <a:pt x="11" y="11"/>
                        </a:lnTo>
                        <a:lnTo>
                          <a:pt x="11" y="22"/>
                        </a:lnTo>
                        <a:lnTo>
                          <a:pt x="22" y="34"/>
                        </a:lnTo>
                        <a:lnTo>
                          <a:pt x="44" y="45"/>
                        </a:lnTo>
                        <a:lnTo>
                          <a:pt x="56" y="56"/>
                        </a:lnTo>
                        <a:lnTo>
                          <a:pt x="67" y="56"/>
                        </a:lnTo>
                        <a:lnTo>
                          <a:pt x="78" y="67"/>
                        </a:lnTo>
                        <a:lnTo>
                          <a:pt x="89" y="67"/>
                        </a:lnTo>
                        <a:lnTo>
                          <a:pt x="89" y="56"/>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1470"/>
                  <p:cNvSpPr/>
                  <p:nvPr/>
                </p:nvSpPr>
                <p:spPr>
                  <a:xfrm rot="111600">
                    <a:off x="6038280" y="908640"/>
                    <a:ext cx="16920" cy="36000"/>
                  </a:xfrm>
                  <a:custGeom>
                    <a:avLst/>
                    <a:gdLst>
                      <a:gd name="textAreaLeft" fmla="*/ 0 w 16920"/>
                      <a:gd name="textAreaRight" fmla="*/ 17280 w 16920"/>
                      <a:gd name="textAreaTop" fmla="*/ 0 h 36000"/>
                      <a:gd name="textAreaBottom" fmla="*/ 36360 h 36000"/>
                    </a:gdLst>
                    <a:ahLst/>
                    <a:rect l="textAreaLeft" t="textAreaTop" r="textAreaRight" b="textAreaBottom"/>
                    <a:pathLst>
                      <a:path w="156" h="223">
                        <a:moveTo>
                          <a:pt x="123" y="11"/>
                        </a:moveTo>
                        <a:lnTo>
                          <a:pt x="123" y="11"/>
                        </a:lnTo>
                        <a:lnTo>
                          <a:pt x="134" y="33"/>
                        </a:lnTo>
                        <a:lnTo>
                          <a:pt x="145" y="67"/>
                        </a:lnTo>
                        <a:lnTo>
                          <a:pt x="145" y="111"/>
                        </a:lnTo>
                        <a:lnTo>
                          <a:pt x="134" y="145"/>
                        </a:lnTo>
                        <a:lnTo>
                          <a:pt x="111" y="167"/>
                        </a:lnTo>
                        <a:lnTo>
                          <a:pt x="78" y="190"/>
                        </a:lnTo>
                        <a:lnTo>
                          <a:pt x="45" y="212"/>
                        </a:lnTo>
                        <a:lnTo>
                          <a:pt x="0" y="212"/>
                        </a:lnTo>
                        <a:lnTo>
                          <a:pt x="0" y="223"/>
                        </a:lnTo>
                        <a:lnTo>
                          <a:pt x="45" y="223"/>
                        </a:lnTo>
                        <a:lnTo>
                          <a:pt x="89" y="212"/>
                        </a:lnTo>
                        <a:lnTo>
                          <a:pt x="123" y="178"/>
                        </a:lnTo>
                        <a:lnTo>
                          <a:pt x="145" y="145"/>
                        </a:lnTo>
                        <a:lnTo>
                          <a:pt x="156" y="111"/>
                        </a:lnTo>
                        <a:lnTo>
                          <a:pt x="156" y="67"/>
                        </a:lnTo>
                        <a:lnTo>
                          <a:pt x="145" y="33"/>
                        </a:lnTo>
                        <a:lnTo>
                          <a:pt x="134" y="0"/>
                        </a:lnTo>
                        <a:lnTo>
                          <a:pt x="123" y="11"/>
                        </a:lnTo>
                        <a:close/>
                      </a:path>
                    </a:pathLst>
                  </a:custGeom>
                  <a:solidFill>
                    <a:srgbClr val="0000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1469"/>
                  <p:cNvSpPr/>
                  <p:nvPr/>
                </p:nvSpPr>
                <p:spPr>
                  <a:xfrm rot="111600">
                    <a:off x="6045120" y="903240"/>
                    <a:ext cx="8280" cy="6840"/>
                  </a:xfrm>
                  <a:custGeom>
                    <a:avLst/>
                    <a:gdLst>
                      <a:gd name="textAreaLeft" fmla="*/ 0 w 8280"/>
                      <a:gd name="textAreaRight" fmla="*/ 8640 w 8280"/>
                      <a:gd name="textAreaTop" fmla="*/ 0 h 6840"/>
                      <a:gd name="textAreaBottom" fmla="*/ 7200 h 6840"/>
                    </a:gdLst>
                    <a:ahLst/>
                    <a:rect l="textAreaLeft" t="textAreaTop" r="textAreaRight" b="textAreaBottom"/>
                    <a:pathLst>
                      <a:path w="78" h="44">
                        <a:moveTo>
                          <a:pt x="0" y="0"/>
                        </a:moveTo>
                        <a:lnTo>
                          <a:pt x="11" y="11"/>
                        </a:lnTo>
                        <a:lnTo>
                          <a:pt x="22" y="22"/>
                        </a:lnTo>
                        <a:lnTo>
                          <a:pt x="33" y="22"/>
                        </a:lnTo>
                        <a:lnTo>
                          <a:pt x="44" y="33"/>
                        </a:lnTo>
                        <a:lnTo>
                          <a:pt x="55" y="33"/>
                        </a:lnTo>
                        <a:lnTo>
                          <a:pt x="55" y="44"/>
                        </a:lnTo>
                        <a:lnTo>
                          <a:pt x="67" y="44"/>
                        </a:lnTo>
                        <a:lnTo>
                          <a:pt x="78" y="33"/>
                        </a:lnTo>
                        <a:lnTo>
                          <a:pt x="67" y="33"/>
                        </a:lnTo>
                        <a:lnTo>
                          <a:pt x="67" y="22"/>
                        </a:lnTo>
                        <a:lnTo>
                          <a:pt x="55" y="22"/>
                        </a:lnTo>
                        <a:lnTo>
                          <a:pt x="44" y="11"/>
                        </a:lnTo>
                        <a:lnTo>
                          <a:pt x="33" y="11"/>
                        </a:lnTo>
                        <a:lnTo>
                          <a:pt x="22" y="0"/>
                        </a:lnTo>
                        <a:lnTo>
                          <a:pt x="11" y="0"/>
                        </a:lnTo>
                        <a:lnTo>
                          <a:pt x="22" y="11"/>
                        </a:lnTo>
                        <a:lnTo>
                          <a:pt x="0" y="0"/>
                        </a:lnTo>
                        <a:close/>
                      </a:path>
                    </a:pathLst>
                  </a:custGeom>
                  <a:solidFill>
                    <a:srgbClr val="000000"/>
                  </a:solidFill>
                  <a:ln w="0">
                    <a:noFill/>
                  </a:ln>
                </p:spPr>
                <p:style>
                  <a:lnRef idx="0"/>
                  <a:fillRef idx="0"/>
                  <a:effectRef idx="0"/>
                  <a:fontRef idx="minor"/>
                </p:style>
                <p:txBody>
                  <a:bodyPr lIns="90000" rIns="90000" tIns="-39600" bIns="-39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1468"/>
                  <p:cNvSpPr/>
                  <p:nvPr/>
                </p:nvSpPr>
                <p:spPr>
                  <a:xfrm rot="111600">
                    <a:off x="6042960" y="878040"/>
                    <a:ext cx="7200" cy="27000"/>
                  </a:xfrm>
                  <a:custGeom>
                    <a:avLst/>
                    <a:gdLst>
                      <a:gd name="textAreaLeft" fmla="*/ 0 w 7200"/>
                      <a:gd name="textAreaRight" fmla="*/ 7560 w 7200"/>
                      <a:gd name="textAreaTop" fmla="*/ 0 h 27000"/>
                      <a:gd name="textAreaBottom" fmla="*/ 27360 h 27000"/>
                    </a:gdLst>
                    <a:ahLst/>
                    <a:rect l="textAreaLeft" t="textAreaTop" r="textAreaRight" b="textAreaBottom"/>
                    <a:pathLst>
                      <a:path w="67" h="167">
                        <a:moveTo>
                          <a:pt x="0" y="0"/>
                        </a:moveTo>
                        <a:lnTo>
                          <a:pt x="0" y="11"/>
                        </a:lnTo>
                        <a:lnTo>
                          <a:pt x="23" y="22"/>
                        </a:lnTo>
                        <a:lnTo>
                          <a:pt x="34" y="44"/>
                        </a:lnTo>
                        <a:lnTo>
                          <a:pt x="45" y="55"/>
                        </a:lnTo>
                        <a:lnTo>
                          <a:pt x="56" y="66"/>
                        </a:lnTo>
                        <a:lnTo>
                          <a:pt x="56" y="89"/>
                        </a:lnTo>
                        <a:lnTo>
                          <a:pt x="45" y="111"/>
                        </a:lnTo>
                        <a:lnTo>
                          <a:pt x="45" y="133"/>
                        </a:lnTo>
                        <a:lnTo>
                          <a:pt x="23" y="156"/>
                        </a:lnTo>
                        <a:lnTo>
                          <a:pt x="45" y="167"/>
                        </a:lnTo>
                        <a:lnTo>
                          <a:pt x="56" y="133"/>
                        </a:lnTo>
                        <a:lnTo>
                          <a:pt x="67" y="111"/>
                        </a:lnTo>
                        <a:lnTo>
                          <a:pt x="67" y="89"/>
                        </a:lnTo>
                        <a:lnTo>
                          <a:pt x="67" y="66"/>
                        </a:lnTo>
                        <a:lnTo>
                          <a:pt x="56" y="55"/>
                        </a:lnTo>
                        <a:lnTo>
                          <a:pt x="45" y="33"/>
                        </a:lnTo>
                        <a:lnTo>
                          <a:pt x="23" y="11"/>
                        </a:ln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1467"/>
                  <p:cNvSpPr/>
                  <p:nvPr/>
                </p:nvSpPr>
                <p:spPr>
                  <a:xfrm rot="111600">
                    <a:off x="6023520" y="838080"/>
                    <a:ext cx="26640" cy="41400"/>
                  </a:xfrm>
                  <a:custGeom>
                    <a:avLst/>
                    <a:gdLst>
                      <a:gd name="textAreaLeft" fmla="*/ 0 w 26640"/>
                      <a:gd name="textAreaRight" fmla="*/ 27000 w 26640"/>
                      <a:gd name="textAreaTop" fmla="*/ 0 h 41400"/>
                      <a:gd name="textAreaBottom" fmla="*/ 41760 h 41400"/>
                    </a:gdLst>
                    <a:ahLst/>
                    <a:rect l="textAreaLeft" t="textAreaTop" r="textAreaRight" b="textAreaBottom"/>
                    <a:pathLst>
                      <a:path w="245" h="257">
                        <a:moveTo>
                          <a:pt x="0" y="23"/>
                        </a:moveTo>
                        <a:lnTo>
                          <a:pt x="11" y="23"/>
                        </a:lnTo>
                        <a:lnTo>
                          <a:pt x="33" y="23"/>
                        </a:lnTo>
                        <a:lnTo>
                          <a:pt x="56" y="12"/>
                        </a:lnTo>
                        <a:lnTo>
                          <a:pt x="78" y="12"/>
                        </a:lnTo>
                        <a:lnTo>
                          <a:pt x="111" y="23"/>
                        </a:lnTo>
                        <a:lnTo>
                          <a:pt x="134" y="34"/>
                        </a:lnTo>
                        <a:lnTo>
                          <a:pt x="156" y="45"/>
                        </a:lnTo>
                        <a:lnTo>
                          <a:pt x="178" y="56"/>
                        </a:lnTo>
                        <a:lnTo>
                          <a:pt x="189" y="67"/>
                        </a:lnTo>
                        <a:lnTo>
                          <a:pt x="212" y="90"/>
                        </a:lnTo>
                        <a:lnTo>
                          <a:pt x="223" y="112"/>
                        </a:lnTo>
                        <a:lnTo>
                          <a:pt x="223" y="134"/>
                        </a:lnTo>
                        <a:lnTo>
                          <a:pt x="234" y="156"/>
                        </a:lnTo>
                        <a:lnTo>
                          <a:pt x="223" y="179"/>
                        </a:lnTo>
                        <a:lnTo>
                          <a:pt x="223" y="201"/>
                        </a:lnTo>
                        <a:lnTo>
                          <a:pt x="201" y="223"/>
                        </a:lnTo>
                        <a:lnTo>
                          <a:pt x="189" y="246"/>
                        </a:lnTo>
                        <a:lnTo>
                          <a:pt x="189" y="257"/>
                        </a:lnTo>
                        <a:lnTo>
                          <a:pt x="212" y="234"/>
                        </a:lnTo>
                        <a:lnTo>
                          <a:pt x="234" y="201"/>
                        </a:lnTo>
                        <a:lnTo>
                          <a:pt x="245" y="179"/>
                        </a:lnTo>
                        <a:lnTo>
                          <a:pt x="245" y="156"/>
                        </a:lnTo>
                        <a:lnTo>
                          <a:pt x="245" y="134"/>
                        </a:lnTo>
                        <a:lnTo>
                          <a:pt x="234" y="101"/>
                        </a:lnTo>
                        <a:lnTo>
                          <a:pt x="223" y="78"/>
                        </a:lnTo>
                        <a:lnTo>
                          <a:pt x="201" y="56"/>
                        </a:lnTo>
                        <a:lnTo>
                          <a:pt x="178" y="45"/>
                        </a:lnTo>
                        <a:lnTo>
                          <a:pt x="156" y="23"/>
                        </a:lnTo>
                        <a:lnTo>
                          <a:pt x="134" y="12"/>
                        </a:lnTo>
                        <a:lnTo>
                          <a:pt x="111" y="0"/>
                        </a:lnTo>
                        <a:lnTo>
                          <a:pt x="78" y="0"/>
                        </a:lnTo>
                        <a:lnTo>
                          <a:pt x="56" y="0"/>
                        </a:lnTo>
                        <a:lnTo>
                          <a:pt x="33" y="0"/>
                        </a:lnTo>
                        <a:lnTo>
                          <a:pt x="0" y="12"/>
                        </a:lnTo>
                        <a:lnTo>
                          <a:pt x="11" y="23"/>
                        </a:lnTo>
                        <a:lnTo>
                          <a:pt x="0" y="23"/>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1466"/>
                  <p:cNvSpPr/>
                  <p:nvPr/>
                </p:nvSpPr>
                <p:spPr>
                  <a:xfrm rot="111600">
                    <a:off x="6017040" y="805320"/>
                    <a:ext cx="10800" cy="36000"/>
                  </a:xfrm>
                  <a:custGeom>
                    <a:avLst/>
                    <a:gdLst>
                      <a:gd name="textAreaLeft" fmla="*/ 0 w 10800"/>
                      <a:gd name="textAreaRight" fmla="*/ 11160 w 10800"/>
                      <a:gd name="textAreaTop" fmla="*/ 0 h 36000"/>
                      <a:gd name="textAreaBottom" fmla="*/ 36360 h 36000"/>
                    </a:gdLst>
                    <a:ahLst/>
                    <a:rect l="textAreaLeft" t="textAreaTop" r="textAreaRight" b="textAreaBottom"/>
                    <a:pathLst>
                      <a:path w="100" h="223">
                        <a:moveTo>
                          <a:pt x="0" y="11"/>
                        </a:moveTo>
                        <a:lnTo>
                          <a:pt x="0" y="11"/>
                        </a:lnTo>
                        <a:lnTo>
                          <a:pt x="33" y="22"/>
                        </a:lnTo>
                        <a:lnTo>
                          <a:pt x="56" y="33"/>
                        </a:lnTo>
                        <a:lnTo>
                          <a:pt x="78" y="55"/>
                        </a:lnTo>
                        <a:lnTo>
                          <a:pt x="78" y="78"/>
                        </a:lnTo>
                        <a:lnTo>
                          <a:pt x="89" y="100"/>
                        </a:lnTo>
                        <a:lnTo>
                          <a:pt x="89" y="145"/>
                        </a:lnTo>
                        <a:lnTo>
                          <a:pt x="78" y="178"/>
                        </a:lnTo>
                        <a:lnTo>
                          <a:pt x="67" y="223"/>
                        </a:lnTo>
                        <a:lnTo>
                          <a:pt x="78" y="223"/>
                        </a:lnTo>
                        <a:lnTo>
                          <a:pt x="89" y="178"/>
                        </a:lnTo>
                        <a:lnTo>
                          <a:pt x="100" y="145"/>
                        </a:lnTo>
                        <a:lnTo>
                          <a:pt x="100" y="100"/>
                        </a:lnTo>
                        <a:lnTo>
                          <a:pt x="100" y="67"/>
                        </a:lnTo>
                        <a:lnTo>
                          <a:pt x="89" y="44"/>
                        </a:lnTo>
                        <a:lnTo>
                          <a:pt x="67" y="22"/>
                        </a:lnTo>
                        <a:lnTo>
                          <a:pt x="33" y="11"/>
                        </a:lnTo>
                        <a:lnTo>
                          <a:pt x="0" y="0"/>
                        </a:lnTo>
                        <a:lnTo>
                          <a:pt x="0" y="11"/>
                        </a:lnTo>
                        <a:close/>
                      </a:path>
                    </a:pathLst>
                  </a:custGeom>
                  <a:solidFill>
                    <a:srgbClr val="0000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1465"/>
                  <p:cNvSpPr/>
                  <p:nvPr/>
                </p:nvSpPr>
                <p:spPr>
                  <a:xfrm rot="111600">
                    <a:off x="6015240" y="8053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22" h="11">
                        <a:moveTo>
                          <a:pt x="0" y="11"/>
                        </a:moveTo>
                        <a:lnTo>
                          <a:pt x="11" y="11"/>
                        </a:lnTo>
                        <a:lnTo>
                          <a:pt x="22" y="11"/>
                        </a:lnTo>
                        <a:lnTo>
                          <a:pt x="22" y="0"/>
                        </a:lnTo>
                        <a:lnTo>
                          <a:pt x="11" y="0"/>
                        </a:lnTo>
                        <a:lnTo>
                          <a:pt x="11" y="11"/>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1464"/>
                  <p:cNvSpPr/>
                  <p:nvPr/>
                </p:nvSpPr>
                <p:spPr>
                  <a:xfrm rot="111600">
                    <a:off x="5979960" y="782640"/>
                    <a:ext cx="36360" cy="23400"/>
                  </a:xfrm>
                  <a:custGeom>
                    <a:avLst/>
                    <a:gdLst>
                      <a:gd name="textAreaLeft" fmla="*/ 0 w 36360"/>
                      <a:gd name="textAreaRight" fmla="*/ 36720 w 36360"/>
                      <a:gd name="textAreaTop" fmla="*/ 0 h 23400"/>
                      <a:gd name="textAreaBottom" fmla="*/ 23760 h 23400"/>
                    </a:gdLst>
                    <a:ahLst/>
                    <a:rect l="textAreaLeft" t="textAreaTop" r="textAreaRight" b="textAreaBottom"/>
                    <a:pathLst>
                      <a:path w="334" h="145">
                        <a:moveTo>
                          <a:pt x="0" y="33"/>
                        </a:moveTo>
                        <a:lnTo>
                          <a:pt x="0" y="45"/>
                        </a:lnTo>
                        <a:lnTo>
                          <a:pt x="22" y="33"/>
                        </a:lnTo>
                        <a:lnTo>
                          <a:pt x="44" y="22"/>
                        </a:lnTo>
                        <a:lnTo>
                          <a:pt x="66" y="11"/>
                        </a:lnTo>
                        <a:lnTo>
                          <a:pt x="100" y="11"/>
                        </a:lnTo>
                        <a:lnTo>
                          <a:pt x="122" y="11"/>
                        </a:lnTo>
                        <a:lnTo>
                          <a:pt x="144" y="11"/>
                        </a:lnTo>
                        <a:lnTo>
                          <a:pt x="167" y="22"/>
                        </a:lnTo>
                        <a:lnTo>
                          <a:pt x="189" y="22"/>
                        </a:lnTo>
                        <a:lnTo>
                          <a:pt x="211" y="33"/>
                        </a:lnTo>
                        <a:lnTo>
                          <a:pt x="234" y="45"/>
                        </a:lnTo>
                        <a:lnTo>
                          <a:pt x="256" y="56"/>
                        </a:lnTo>
                        <a:lnTo>
                          <a:pt x="267" y="67"/>
                        </a:lnTo>
                        <a:lnTo>
                          <a:pt x="289" y="89"/>
                        </a:lnTo>
                        <a:lnTo>
                          <a:pt x="300" y="100"/>
                        </a:lnTo>
                        <a:lnTo>
                          <a:pt x="312" y="123"/>
                        </a:lnTo>
                        <a:lnTo>
                          <a:pt x="323" y="145"/>
                        </a:lnTo>
                        <a:lnTo>
                          <a:pt x="334" y="145"/>
                        </a:lnTo>
                        <a:lnTo>
                          <a:pt x="323" y="123"/>
                        </a:lnTo>
                        <a:lnTo>
                          <a:pt x="312" y="100"/>
                        </a:lnTo>
                        <a:lnTo>
                          <a:pt x="300" y="78"/>
                        </a:lnTo>
                        <a:lnTo>
                          <a:pt x="278" y="67"/>
                        </a:lnTo>
                        <a:lnTo>
                          <a:pt x="256" y="45"/>
                        </a:lnTo>
                        <a:lnTo>
                          <a:pt x="234" y="33"/>
                        </a:lnTo>
                        <a:lnTo>
                          <a:pt x="211" y="22"/>
                        </a:lnTo>
                        <a:lnTo>
                          <a:pt x="189" y="11"/>
                        </a:lnTo>
                        <a:lnTo>
                          <a:pt x="167" y="11"/>
                        </a:lnTo>
                        <a:lnTo>
                          <a:pt x="144" y="0"/>
                        </a:lnTo>
                        <a:lnTo>
                          <a:pt x="122" y="0"/>
                        </a:lnTo>
                        <a:lnTo>
                          <a:pt x="100" y="0"/>
                        </a:lnTo>
                        <a:lnTo>
                          <a:pt x="66" y="0"/>
                        </a:lnTo>
                        <a:lnTo>
                          <a:pt x="44" y="11"/>
                        </a:lnTo>
                        <a:lnTo>
                          <a:pt x="22" y="11"/>
                        </a:lnTo>
                        <a:lnTo>
                          <a:pt x="0" y="22"/>
                        </a:lnTo>
                        <a:lnTo>
                          <a:pt x="0" y="33"/>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1463"/>
                  <p:cNvSpPr/>
                  <p:nvPr/>
                </p:nvSpPr>
                <p:spPr>
                  <a:xfrm rot="111600">
                    <a:off x="5965560" y="786960"/>
                    <a:ext cx="14400" cy="27000"/>
                  </a:xfrm>
                  <a:custGeom>
                    <a:avLst/>
                    <a:gdLst>
                      <a:gd name="textAreaLeft" fmla="*/ 0 w 14400"/>
                      <a:gd name="textAreaRight" fmla="*/ 14760 w 14400"/>
                      <a:gd name="textAreaTop" fmla="*/ 0 h 27000"/>
                      <a:gd name="textAreaBottom" fmla="*/ 27360 h 27000"/>
                    </a:gdLst>
                    <a:ahLst/>
                    <a:rect l="textAreaLeft" t="textAreaTop" r="textAreaRight" b="textAreaBottom"/>
                    <a:pathLst>
                      <a:path w="134" h="168">
                        <a:moveTo>
                          <a:pt x="0" y="168"/>
                        </a:moveTo>
                        <a:lnTo>
                          <a:pt x="11" y="168"/>
                        </a:lnTo>
                        <a:lnTo>
                          <a:pt x="33" y="145"/>
                        </a:lnTo>
                        <a:lnTo>
                          <a:pt x="44" y="112"/>
                        </a:lnTo>
                        <a:lnTo>
                          <a:pt x="56" y="90"/>
                        </a:lnTo>
                        <a:lnTo>
                          <a:pt x="78" y="67"/>
                        </a:lnTo>
                        <a:lnTo>
                          <a:pt x="89" y="45"/>
                        </a:lnTo>
                        <a:lnTo>
                          <a:pt x="111" y="34"/>
                        </a:lnTo>
                        <a:lnTo>
                          <a:pt x="122" y="23"/>
                        </a:lnTo>
                        <a:lnTo>
                          <a:pt x="134" y="0"/>
                        </a:lnTo>
                        <a:lnTo>
                          <a:pt x="111" y="12"/>
                        </a:lnTo>
                        <a:lnTo>
                          <a:pt x="100" y="23"/>
                        </a:lnTo>
                        <a:lnTo>
                          <a:pt x="78" y="34"/>
                        </a:lnTo>
                        <a:lnTo>
                          <a:pt x="67" y="56"/>
                        </a:lnTo>
                        <a:lnTo>
                          <a:pt x="56" y="78"/>
                        </a:lnTo>
                        <a:lnTo>
                          <a:pt x="33" y="112"/>
                        </a:lnTo>
                        <a:lnTo>
                          <a:pt x="22" y="134"/>
                        </a:lnTo>
                        <a:lnTo>
                          <a:pt x="0" y="168"/>
                        </a:lnTo>
                        <a:lnTo>
                          <a:pt x="11" y="168"/>
                        </a:lnTo>
                        <a:lnTo>
                          <a:pt x="0" y="168"/>
                        </a:lnTo>
                        <a:close/>
                      </a:path>
                    </a:pathLst>
                  </a:custGeom>
                  <a:solidFill>
                    <a:srgbClr val="000000"/>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1462"/>
                  <p:cNvSpPr/>
                  <p:nvPr/>
                </p:nvSpPr>
                <p:spPr>
                  <a:xfrm rot="111600">
                    <a:off x="5718600" y="1305360"/>
                    <a:ext cx="195120" cy="277560"/>
                  </a:xfrm>
                  <a:custGeom>
                    <a:avLst/>
                    <a:gdLst>
                      <a:gd name="textAreaLeft" fmla="*/ 0 w 195120"/>
                      <a:gd name="textAreaRight" fmla="*/ 195480 w 195120"/>
                      <a:gd name="textAreaTop" fmla="*/ 0 h 277560"/>
                      <a:gd name="textAreaBottom" fmla="*/ 277920 h 277560"/>
                    </a:gdLst>
                    <a:ahLst/>
                    <a:rect l="textAreaLeft" t="textAreaTop" r="textAreaRight" b="textAreaBottom"/>
                    <a:pathLst>
                      <a:path w="1783" h="1716">
                        <a:moveTo>
                          <a:pt x="658" y="22"/>
                        </a:moveTo>
                        <a:lnTo>
                          <a:pt x="680" y="11"/>
                        </a:lnTo>
                        <a:lnTo>
                          <a:pt x="713" y="11"/>
                        </a:lnTo>
                        <a:lnTo>
                          <a:pt x="747" y="0"/>
                        </a:lnTo>
                        <a:lnTo>
                          <a:pt x="780" y="0"/>
                        </a:lnTo>
                        <a:lnTo>
                          <a:pt x="802" y="0"/>
                        </a:lnTo>
                        <a:lnTo>
                          <a:pt x="836" y="0"/>
                        </a:lnTo>
                        <a:lnTo>
                          <a:pt x="869" y="0"/>
                        </a:lnTo>
                        <a:lnTo>
                          <a:pt x="903" y="0"/>
                        </a:lnTo>
                        <a:lnTo>
                          <a:pt x="936" y="11"/>
                        </a:lnTo>
                        <a:lnTo>
                          <a:pt x="958" y="11"/>
                        </a:lnTo>
                        <a:lnTo>
                          <a:pt x="992" y="22"/>
                        </a:lnTo>
                        <a:lnTo>
                          <a:pt x="1025" y="33"/>
                        </a:lnTo>
                        <a:lnTo>
                          <a:pt x="1059" y="44"/>
                        </a:lnTo>
                        <a:lnTo>
                          <a:pt x="1081" y="55"/>
                        </a:lnTo>
                        <a:lnTo>
                          <a:pt x="1114" y="67"/>
                        </a:lnTo>
                        <a:lnTo>
                          <a:pt x="1148" y="78"/>
                        </a:lnTo>
                        <a:lnTo>
                          <a:pt x="1170" y="89"/>
                        </a:lnTo>
                        <a:lnTo>
                          <a:pt x="1204" y="111"/>
                        </a:lnTo>
                        <a:lnTo>
                          <a:pt x="1237" y="122"/>
                        </a:lnTo>
                        <a:lnTo>
                          <a:pt x="1259" y="145"/>
                        </a:lnTo>
                        <a:lnTo>
                          <a:pt x="1293" y="156"/>
                        </a:lnTo>
                        <a:lnTo>
                          <a:pt x="1315" y="178"/>
                        </a:lnTo>
                        <a:lnTo>
                          <a:pt x="1337" y="200"/>
                        </a:lnTo>
                        <a:lnTo>
                          <a:pt x="1371" y="223"/>
                        </a:lnTo>
                        <a:lnTo>
                          <a:pt x="1393" y="245"/>
                        </a:lnTo>
                        <a:lnTo>
                          <a:pt x="1415" y="267"/>
                        </a:lnTo>
                        <a:lnTo>
                          <a:pt x="1438" y="301"/>
                        </a:lnTo>
                        <a:lnTo>
                          <a:pt x="1460" y="323"/>
                        </a:lnTo>
                        <a:lnTo>
                          <a:pt x="1482" y="345"/>
                        </a:lnTo>
                        <a:lnTo>
                          <a:pt x="1505" y="379"/>
                        </a:lnTo>
                        <a:lnTo>
                          <a:pt x="1516" y="412"/>
                        </a:lnTo>
                        <a:lnTo>
                          <a:pt x="1538" y="434"/>
                        </a:lnTo>
                        <a:lnTo>
                          <a:pt x="1560" y="445"/>
                        </a:lnTo>
                        <a:lnTo>
                          <a:pt x="1583" y="445"/>
                        </a:lnTo>
                        <a:lnTo>
                          <a:pt x="1605" y="457"/>
                        </a:lnTo>
                        <a:lnTo>
                          <a:pt x="1627" y="457"/>
                        </a:lnTo>
                        <a:lnTo>
                          <a:pt x="1649" y="468"/>
                        </a:lnTo>
                        <a:lnTo>
                          <a:pt x="1672" y="479"/>
                        </a:lnTo>
                        <a:lnTo>
                          <a:pt x="1683" y="490"/>
                        </a:lnTo>
                        <a:lnTo>
                          <a:pt x="1705" y="501"/>
                        </a:lnTo>
                        <a:lnTo>
                          <a:pt x="1716" y="512"/>
                        </a:lnTo>
                        <a:lnTo>
                          <a:pt x="1727" y="523"/>
                        </a:lnTo>
                        <a:lnTo>
                          <a:pt x="1739" y="535"/>
                        </a:lnTo>
                        <a:lnTo>
                          <a:pt x="1750" y="546"/>
                        </a:lnTo>
                        <a:lnTo>
                          <a:pt x="1761" y="557"/>
                        </a:lnTo>
                        <a:lnTo>
                          <a:pt x="1772" y="568"/>
                        </a:lnTo>
                        <a:lnTo>
                          <a:pt x="1783" y="590"/>
                        </a:lnTo>
                        <a:lnTo>
                          <a:pt x="1783" y="601"/>
                        </a:lnTo>
                        <a:lnTo>
                          <a:pt x="1783" y="635"/>
                        </a:lnTo>
                        <a:lnTo>
                          <a:pt x="1783" y="668"/>
                        </a:lnTo>
                        <a:lnTo>
                          <a:pt x="1772" y="702"/>
                        </a:lnTo>
                        <a:lnTo>
                          <a:pt x="1761" y="724"/>
                        </a:lnTo>
                        <a:lnTo>
                          <a:pt x="1739" y="758"/>
                        </a:lnTo>
                        <a:lnTo>
                          <a:pt x="1716" y="780"/>
                        </a:lnTo>
                        <a:lnTo>
                          <a:pt x="1683" y="802"/>
                        </a:lnTo>
                        <a:lnTo>
                          <a:pt x="1649" y="824"/>
                        </a:lnTo>
                        <a:lnTo>
                          <a:pt x="1661" y="902"/>
                        </a:lnTo>
                        <a:lnTo>
                          <a:pt x="1661" y="969"/>
                        </a:lnTo>
                        <a:lnTo>
                          <a:pt x="1661" y="1047"/>
                        </a:lnTo>
                        <a:lnTo>
                          <a:pt x="1649" y="1114"/>
                        </a:lnTo>
                        <a:lnTo>
                          <a:pt x="1627" y="1192"/>
                        </a:lnTo>
                        <a:lnTo>
                          <a:pt x="1605" y="1259"/>
                        </a:lnTo>
                        <a:lnTo>
                          <a:pt x="1571" y="1315"/>
                        </a:lnTo>
                        <a:lnTo>
                          <a:pt x="1538" y="1382"/>
                        </a:lnTo>
                        <a:lnTo>
                          <a:pt x="1493" y="1437"/>
                        </a:lnTo>
                        <a:lnTo>
                          <a:pt x="1449" y="1493"/>
                        </a:lnTo>
                        <a:lnTo>
                          <a:pt x="1404" y="1538"/>
                        </a:lnTo>
                        <a:lnTo>
                          <a:pt x="1349" y="1582"/>
                        </a:lnTo>
                        <a:lnTo>
                          <a:pt x="1282" y="1616"/>
                        </a:lnTo>
                        <a:lnTo>
                          <a:pt x="1226" y="1649"/>
                        </a:lnTo>
                        <a:lnTo>
                          <a:pt x="1159" y="1683"/>
                        </a:lnTo>
                        <a:lnTo>
                          <a:pt x="1092" y="1705"/>
                        </a:lnTo>
                        <a:lnTo>
                          <a:pt x="1059" y="1705"/>
                        </a:lnTo>
                        <a:lnTo>
                          <a:pt x="1025" y="1716"/>
                        </a:lnTo>
                        <a:lnTo>
                          <a:pt x="992" y="1716"/>
                        </a:lnTo>
                        <a:lnTo>
                          <a:pt x="958" y="1716"/>
                        </a:lnTo>
                        <a:lnTo>
                          <a:pt x="925" y="1716"/>
                        </a:lnTo>
                        <a:lnTo>
                          <a:pt x="892" y="1716"/>
                        </a:lnTo>
                        <a:lnTo>
                          <a:pt x="858" y="1716"/>
                        </a:lnTo>
                        <a:lnTo>
                          <a:pt x="825" y="1705"/>
                        </a:lnTo>
                        <a:lnTo>
                          <a:pt x="791" y="1705"/>
                        </a:lnTo>
                        <a:lnTo>
                          <a:pt x="758" y="1694"/>
                        </a:lnTo>
                        <a:lnTo>
                          <a:pt x="724" y="1683"/>
                        </a:lnTo>
                        <a:lnTo>
                          <a:pt x="691" y="1671"/>
                        </a:lnTo>
                        <a:lnTo>
                          <a:pt x="658" y="1660"/>
                        </a:lnTo>
                        <a:lnTo>
                          <a:pt x="635" y="1649"/>
                        </a:lnTo>
                        <a:lnTo>
                          <a:pt x="602" y="1638"/>
                        </a:lnTo>
                        <a:lnTo>
                          <a:pt x="568" y="1616"/>
                        </a:lnTo>
                        <a:lnTo>
                          <a:pt x="535" y="1593"/>
                        </a:lnTo>
                        <a:lnTo>
                          <a:pt x="513" y="1582"/>
                        </a:lnTo>
                        <a:lnTo>
                          <a:pt x="479" y="1560"/>
                        </a:lnTo>
                        <a:lnTo>
                          <a:pt x="457" y="1538"/>
                        </a:lnTo>
                        <a:lnTo>
                          <a:pt x="423" y="1504"/>
                        </a:lnTo>
                        <a:lnTo>
                          <a:pt x="401" y="1482"/>
                        </a:lnTo>
                        <a:lnTo>
                          <a:pt x="379" y="1460"/>
                        </a:lnTo>
                        <a:lnTo>
                          <a:pt x="357" y="1426"/>
                        </a:lnTo>
                        <a:lnTo>
                          <a:pt x="334" y="1404"/>
                        </a:lnTo>
                        <a:lnTo>
                          <a:pt x="312" y="1371"/>
                        </a:lnTo>
                        <a:lnTo>
                          <a:pt x="290" y="1337"/>
                        </a:lnTo>
                        <a:lnTo>
                          <a:pt x="267" y="1304"/>
                        </a:lnTo>
                        <a:lnTo>
                          <a:pt x="256" y="1270"/>
                        </a:lnTo>
                        <a:lnTo>
                          <a:pt x="234" y="1237"/>
                        </a:lnTo>
                        <a:lnTo>
                          <a:pt x="223" y="1192"/>
                        </a:lnTo>
                        <a:lnTo>
                          <a:pt x="201" y="1159"/>
                        </a:lnTo>
                        <a:lnTo>
                          <a:pt x="167" y="1159"/>
                        </a:lnTo>
                        <a:lnTo>
                          <a:pt x="145" y="1148"/>
                        </a:lnTo>
                        <a:lnTo>
                          <a:pt x="111" y="1136"/>
                        </a:lnTo>
                        <a:lnTo>
                          <a:pt x="78" y="1125"/>
                        </a:lnTo>
                        <a:lnTo>
                          <a:pt x="56" y="1103"/>
                        </a:lnTo>
                        <a:lnTo>
                          <a:pt x="33" y="1081"/>
                        </a:lnTo>
                        <a:lnTo>
                          <a:pt x="22" y="1058"/>
                        </a:lnTo>
                        <a:lnTo>
                          <a:pt x="11" y="1025"/>
                        </a:lnTo>
                        <a:lnTo>
                          <a:pt x="0" y="980"/>
                        </a:lnTo>
                        <a:lnTo>
                          <a:pt x="0" y="936"/>
                        </a:lnTo>
                        <a:lnTo>
                          <a:pt x="11" y="902"/>
                        </a:lnTo>
                        <a:lnTo>
                          <a:pt x="22" y="869"/>
                        </a:lnTo>
                        <a:lnTo>
                          <a:pt x="45" y="824"/>
                        </a:lnTo>
                        <a:lnTo>
                          <a:pt x="78" y="791"/>
                        </a:lnTo>
                        <a:lnTo>
                          <a:pt x="111" y="758"/>
                        </a:lnTo>
                        <a:lnTo>
                          <a:pt x="156" y="724"/>
                        </a:lnTo>
                        <a:lnTo>
                          <a:pt x="156" y="668"/>
                        </a:lnTo>
                        <a:lnTo>
                          <a:pt x="167" y="601"/>
                        </a:lnTo>
                        <a:lnTo>
                          <a:pt x="189" y="546"/>
                        </a:lnTo>
                        <a:lnTo>
                          <a:pt x="201" y="490"/>
                        </a:lnTo>
                        <a:lnTo>
                          <a:pt x="223" y="423"/>
                        </a:lnTo>
                        <a:lnTo>
                          <a:pt x="245" y="379"/>
                        </a:lnTo>
                        <a:lnTo>
                          <a:pt x="279" y="323"/>
                        </a:lnTo>
                        <a:lnTo>
                          <a:pt x="312" y="278"/>
                        </a:lnTo>
                        <a:lnTo>
                          <a:pt x="345" y="223"/>
                        </a:lnTo>
                        <a:lnTo>
                          <a:pt x="379" y="189"/>
                        </a:lnTo>
                        <a:lnTo>
                          <a:pt x="412" y="145"/>
                        </a:lnTo>
                        <a:lnTo>
                          <a:pt x="457" y="111"/>
                        </a:lnTo>
                        <a:lnTo>
                          <a:pt x="501" y="78"/>
                        </a:lnTo>
                        <a:lnTo>
                          <a:pt x="546" y="55"/>
                        </a:lnTo>
                        <a:lnTo>
                          <a:pt x="602" y="33"/>
                        </a:lnTo>
                        <a:lnTo>
                          <a:pt x="658" y="22"/>
                        </a:lnTo>
                        <a:close/>
                      </a:path>
                    </a:pathLst>
                  </a:custGeom>
                  <a:solidFill>
                    <a:srgbClr val="ffd6a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1461"/>
                  <p:cNvSpPr/>
                  <p:nvPr/>
                </p:nvSpPr>
                <p:spPr>
                  <a:xfrm rot="111600">
                    <a:off x="5792760" y="1304280"/>
                    <a:ext cx="98640" cy="73800"/>
                  </a:xfrm>
                  <a:custGeom>
                    <a:avLst/>
                    <a:gdLst>
                      <a:gd name="textAreaLeft" fmla="*/ 0 w 98640"/>
                      <a:gd name="textAreaRight" fmla="*/ 99000 w 98640"/>
                      <a:gd name="textAreaTop" fmla="*/ 0 h 73800"/>
                      <a:gd name="textAreaBottom" fmla="*/ 74160 h 73800"/>
                    </a:gdLst>
                    <a:ahLst/>
                    <a:rect l="textAreaLeft" t="textAreaTop" r="textAreaRight" b="textAreaBottom"/>
                    <a:pathLst>
                      <a:path w="903" h="457">
                        <a:moveTo>
                          <a:pt x="892" y="435"/>
                        </a:moveTo>
                        <a:lnTo>
                          <a:pt x="903" y="446"/>
                        </a:lnTo>
                        <a:lnTo>
                          <a:pt x="881" y="413"/>
                        </a:lnTo>
                        <a:lnTo>
                          <a:pt x="870" y="379"/>
                        </a:lnTo>
                        <a:lnTo>
                          <a:pt x="847" y="357"/>
                        </a:lnTo>
                        <a:lnTo>
                          <a:pt x="825" y="324"/>
                        </a:lnTo>
                        <a:lnTo>
                          <a:pt x="803" y="301"/>
                        </a:lnTo>
                        <a:lnTo>
                          <a:pt x="781" y="279"/>
                        </a:lnTo>
                        <a:lnTo>
                          <a:pt x="747" y="257"/>
                        </a:lnTo>
                        <a:lnTo>
                          <a:pt x="725" y="223"/>
                        </a:lnTo>
                        <a:lnTo>
                          <a:pt x="703" y="212"/>
                        </a:lnTo>
                        <a:lnTo>
                          <a:pt x="669" y="190"/>
                        </a:lnTo>
                        <a:lnTo>
                          <a:pt x="647" y="168"/>
                        </a:lnTo>
                        <a:lnTo>
                          <a:pt x="625" y="145"/>
                        </a:lnTo>
                        <a:lnTo>
                          <a:pt x="591" y="123"/>
                        </a:lnTo>
                        <a:lnTo>
                          <a:pt x="558" y="112"/>
                        </a:lnTo>
                        <a:lnTo>
                          <a:pt x="535" y="90"/>
                        </a:lnTo>
                        <a:lnTo>
                          <a:pt x="502" y="79"/>
                        </a:lnTo>
                        <a:lnTo>
                          <a:pt x="468" y="67"/>
                        </a:lnTo>
                        <a:lnTo>
                          <a:pt x="446" y="56"/>
                        </a:lnTo>
                        <a:lnTo>
                          <a:pt x="413" y="45"/>
                        </a:lnTo>
                        <a:lnTo>
                          <a:pt x="379" y="34"/>
                        </a:lnTo>
                        <a:lnTo>
                          <a:pt x="346" y="23"/>
                        </a:lnTo>
                        <a:lnTo>
                          <a:pt x="312" y="23"/>
                        </a:lnTo>
                        <a:lnTo>
                          <a:pt x="290" y="12"/>
                        </a:lnTo>
                        <a:lnTo>
                          <a:pt x="257" y="0"/>
                        </a:lnTo>
                        <a:lnTo>
                          <a:pt x="223" y="0"/>
                        </a:lnTo>
                        <a:lnTo>
                          <a:pt x="190" y="0"/>
                        </a:lnTo>
                        <a:lnTo>
                          <a:pt x="156" y="0"/>
                        </a:lnTo>
                        <a:lnTo>
                          <a:pt x="123" y="0"/>
                        </a:lnTo>
                        <a:lnTo>
                          <a:pt x="101" y="0"/>
                        </a:lnTo>
                        <a:lnTo>
                          <a:pt x="67" y="12"/>
                        </a:lnTo>
                        <a:lnTo>
                          <a:pt x="34" y="12"/>
                        </a:lnTo>
                        <a:lnTo>
                          <a:pt x="0" y="23"/>
                        </a:lnTo>
                        <a:lnTo>
                          <a:pt x="12" y="45"/>
                        </a:lnTo>
                        <a:lnTo>
                          <a:pt x="45" y="34"/>
                        </a:lnTo>
                        <a:lnTo>
                          <a:pt x="67" y="23"/>
                        </a:lnTo>
                        <a:lnTo>
                          <a:pt x="101" y="23"/>
                        </a:lnTo>
                        <a:lnTo>
                          <a:pt x="134" y="23"/>
                        </a:lnTo>
                        <a:lnTo>
                          <a:pt x="168" y="23"/>
                        </a:lnTo>
                        <a:lnTo>
                          <a:pt x="190" y="23"/>
                        </a:lnTo>
                        <a:lnTo>
                          <a:pt x="223" y="23"/>
                        </a:lnTo>
                        <a:lnTo>
                          <a:pt x="257" y="23"/>
                        </a:lnTo>
                        <a:lnTo>
                          <a:pt x="279" y="34"/>
                        </a:lnTo>
                        <a:lnTo>
                          <a:pt x="312" y="34"/>
                        </a:lnTo>
                        <a:lnTo>
                          <a:pt x="346" y="45"/>
                        </a:lnTo>
                        <a:lnTo>
                          <a:pt x="379" y="56"/>
                        </a:lnTo>
                        <a:lnTo>
                          <a:pt x="402" y="67"/>
                        </a:lnTo>
                        <a:lnTo>
                          <a:pt x="435" y="79"/>
                        </a:lnTo>
                        <a:lnTo>
                          <a:pt x="468" y="90"/>
                        </a:lnTo>
                        <a:lnTo>
                          <a:pt x="491" y="101"/>
                        </a:lnTo>
                        <a:lnTo>
                          <a:pt x="524" y="112"/>
                        </a:lnTo>
                        <a:lnTo>
                          <a:pt x="558" y="123"/>
                        </a:lnTo>
                        <a:lnTo>
                          <a:pt x="580" y="145"/>
                        </a:lnTo>
                        <a:lnTo>
                          <a:pt x="613" y="157"/>
                        </a:lnTo>
                        <a:lnTo>
                          <a:pt x="636" y="179"/>
                        </a:lnTo>
                        <a:lnTo>
                          <a:pt x="669" y="201"/>
                        </a:lnTo>
                        <a:lnTo>
                          <a:pt x="691" y="223"/>
                        </a:lnTo>
                        <a:lnTo>
                          <a:pt x="714" y="246"/>
                        </a:lnTo>
                        <a:lnTo>
                          <a:pt x="736" y="268"/>
                        </a:lnTo>
                        <a:lnTo>
                          <a:pt x="758" y="290"/>
                        </a:lnTo>
                        <a:lnTo>
                          <a:pt x="781" y="313"/>
                        </a:lnTo>
                        <a:lnTo>
                          <a:pt x="803" y="335"/>
                        </a:lnTo>
                        <a:lnTo>
                          <a:pt x="825" y="368"/>
                        </a:lnTo>
                        <a:lnTo>
                          <a:pt x="847" y="391"/>
                        </a:lnTo>
                        <a:lnTo>
                          <a:pt x="870" y="424"/>
                        </a:lnTo>
                        <a:lnTo>
                          <a:pt x="881" y="457"/>
                        </a:lnTo>
                        <a:lnTo>
                          <a:pt x="892" y="457"/>
                        </a:lnTo>
                        <a:lnTo>
                          <a:pt x="892" y="435"/>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1460"/>
                  <p:cNvSpPr/>
                  <p:nvPr/>
                </p:nvSpPr>
                <p:spPr>
                  <a:xfrm rot="111600">
                    <a:off x="5888880" y="1376640"/>
                    <a:ext cx="27720" cy="28800"/>
                  </a:xfrm>
                  <a:custGeom>
                    <a:avLst/>
                    <a:gdLst>
                      <a:gd name="textAreaLeft" fmla="*/ 0 w 27720"/>
                      <a:gd name="textAreaRight" fmla="*/ 28080 w 27720"/>
                      <a:gd name="textAreaTop" fmla="*/ 0 h 28800"/>
                      <a:gd name="textAreaBottom" fmla="*/ 29160 h 28800"/>
                    </a:gdLst>
                    <a:ahLst/>
                    <a:rect l="textAreaLeft" t="textAreaTop" r="textAreaRight" b="textAreaBottom"/>
                    <a:pathLst>
                      <a:path w="256" h="178">
                        <a:moveTo>
                          <a:pt x="256" y="178"/>
                        </a:moveTo>
                        <a:lnTo>
                          <a:pt x="256" y="178"/>
                        </a:lnTo>
                        <a:lnTo>
                          <a:pt x="245" y="156"/>
                        </a:lnTo>
                        <a:lnTo>
                          <a:pt x="245" y="145"/>
                        </a:lnTo>
                        <a:lnTo>
                          <a:pt x="234" y="134"/>
                        </a:lnTo>
                        <a:lnTo>
                          <a:pt x="223" y="123"/>
                        </a:lnTo>
                        <a:lnTo>
                          <a:pt x="212" y="100"/>
                        </a:lnTo>
                        <a:lnTo>
                          <a:pt x="201" y="89"/>
                        </a:lnTo>
                        <a:lnTo>
                          <a:pt x="178" y="78"/>
                        </a:lnTo>
                        <a:lnTo>
                          <a:pt x="167" y="67"/>
                        </a:lnTo>
                        <a:lnTo>
                          <a:pt x="145" y="56"/>
                        </a:lnTo>
                        <a:lnTo>
                          <a:pt x="134" y="45"/>
                        </a:lnTo>
                        <a:lnTo>
                          <a:pt x="111" y="34"/>
                        </a:lnTo>
                        <a:lnTo>
                          <a:pt x="89" y="34"/>
                        </a:lnTo>
                        <a:lnTo>
                          <a:pt x="67" y="22"/>
                        </a:lnTo>
                        <a:lnTo>
                          <a:pt x="45" y="11"/>
                        </a:lnTo>
                        <a:lnTo>
                          <a:pt x="22" y="11"/>
                        </a:lnTo>
                        <a:lnTo>
                          <a:pt x="0" y="0"/>
                        </a:lnTo>
                        <a:lnTo>
                          <a:pt x="0" y="22"/>
                        </a:lnTo>
                        <a:lnTo>
                          <a:pt x="22" y="34"/>
                        </a:lnTo>
                        <a:lnTo>
                          <a:pt x="45" y="34"/>
                        </a:lnTo>
                        <a:lnTo>
                          <a:pt x="67" y="45"/>
                        </a:lnTo>
                        <a:lnTo>
                          <a:pt x="89" y="45"/>
                        </a:lnTo>
                        <a:lnTo>
                          <a:pt x="111" y="56"/>
                        </a:lnTo>
                        <a:lnTo>
                          <a:pt x="123" y="67"/>
                        </a:lnTo>
                        <a:lnTo>
                          <a:pt x="145" y="78"/>
                        </a:lnTo>
                        <a:lnTo>
                          <a:pt x="156" y="78"/>
                        </a:lnTo>
                        <a:lnTo>
                          <a:pt x="178" y="100"/>
                        </a:lnTo>
                        <a:lnTo>
                          <a:pt x="189" y="100"/>
                        </a:lnTo>
                        <a:lnTo>
                          <a:pt x="201" y="112"/>
                        </a:lnTo>
                        <a:lnTo>
                          <a:pt x="212" y="134"/>
                        </a:lnTo>
                        <a:lnTo>
                          <a:pt x="212" y="145"/>
                        </a:lnTo>
                        <a:lnTo>
                          <a:pt x="223" y="156"/>
                        </a:lnTo>
                        <a:lnTo>
                          <a:pt x="234" y="167"/>
                        </a:lnTo>
                        <a:lnTo>
                          <a:pt x="234" y="178"/>
                        </a:lnTo>
                        <a:lnTo>
                          <a:pt x="256" y="178"/>
                        </a:lnTo>
                        <a:close/>
                      </a:path>
                    </a:pathLst>
                  </a:custGeom>
                  <a:solidFill>
                    <a:srgbClr val="000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1459"/>
                  <p:cNvSpPr/>
                  <p:nvPr/>
                </p:nvSpPr>
                <p:spPr>
                  <a:xfrm rot="111600">
                    <a:off x="5898960" y="1405440"/>
                    <a:ext cx="16920" cy="37800"/>
                  </a:xfrm>
                  <a:custGeom>
                    <a:avLst/>
                    <a:gdLst>
                      <a:gd name="textAreaLeft" fmla="*/ 0 w 16920"/>
                      <a:gd name="textAreaRight" fmla="*/ 17280 w 16920"/>
                      <a:gd name="textAreaTop" fmla="*/ 0 h 37800"/>
                      <a:gd name="textAreaBottom" fmla="*/ 38160 h 37800"/>
                    </a:gdLst>
                    <a:ahLst/>
                    <a:rect l="textAreaLeft" t="textAreaTop" r="textAreaRight" b="textAreaBottom"/>
                    <a:pathLst>
                      <a:path w="156" h="235">
                        <a:moveTo>
                          <a:pt x="23" y="223"/>
                        </a:moveTo>
                        <a:lnTo>
                          <a:pt x="11" y="235"/>
                        </a:lnTo>
                        <a:lnTo>
                          <a:pt x="56" y="212"/>
                        </a:lnTo>
                        <a:lnTo>
                          <a:pt x="89" y="190"/>
                        </a:lnTo>
                        <a:lnTo>
                          <a:pt x="112" y="157"/>
                        </a:lnTo>
                        <a:lnTo>
                          <a:pt x="134" y="134"/>
                        </a:lnTo>
                        <a:lnTo>
                          <a:pt x="145" y="101"/>
                        </a:lnTo>
                        <a:lnTo>
                          <a:pt x="156" y="67"/>
                        </a:lnTo>
                        <a:lnTo>
                          <a:pt x="156" y="34"/>
                        </a:lnTo>
                        <a:lnTo>
                          <a:pt x="156" y="0"/>
                        </a:lnTo>
                        <a:lnTo>
                          <a:pt x="134" y="0"/>
                        </a:lnTo>
                        <a:lnTo>
                          <a:pt x="134" y="34"/>
                        </a:lnTo>
                        <a:lnTo>
                          <a:pt x="134" y="67"/>
                        </a:lnTo>
                        <a:lnTo>
                          <a:pt x="123" y="90"/>
                        </a:lnTo>
                        <a:lnTo>
                          <a:pt x="112" y="123"/>
                        </a:lnTo>
                        <a:lnTo>
                          <a:pt x="101" y="145"/>
                        </a:lnTo>
                        <a:lnTo>
                          <a:pt x="67" y="168"/>
                        </a:lnTo>
                        <a:lnTo>
                          <a:pt x="45" y="190"/>
                        </a:lnTo>
                        <a:lnTo>
                          <a:pt x="0" y="212"/>
                        </a:lnTo>
                        <a:lnTo>
                          <a:pt x="0" y="223"/>
                        </a:lnTo>
                        <a:lnTo>
                          <a:pt x="23" y="223"/>
                        </a:lnTo>
                        <a:close/>
                      </a:path>
                    </a:pathLst>
                  </a:custGeom>
                  <a:solidFill>
                    <a:srgbClr val="00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1458"/>
                  <p:cNvSpPr/>
                  <p:nvPr/>
                </p:nvSpPr>
                <p:spPr>
                  <a:xfrm rot="111600">
                    <a:off x="5836320" y="1440720"/>
                    <a:ext cx="63360" cy="142200"/>
                  </a:xfrm>
                  <a:custGeom>
                    <a:avLst/>
                    <a:gdLst>
                      <a:gd name="textAreaLeft" fmla="*/ 0 w 63360"/>
                      <a:gd name="textAreaRight" fmla="*/ 63720 w 63360"/>
                      <a:gd name="textAreaTop" fmla="*/ 0 h 142200"/>
                      <a:gd name="textAreaBottom" fmla="*/ 142560 h 142200"/>
                    </a:gdLst>
                    <a:ahLst/>
                    <a:rect l="textAreaLeft" t="textAreaTop" r="textAreaRight" b="textAreaBottom"/>
                    <a:pathLst>
                      <a:path w="580" h="881">
                        <a:moveTo>
                          <a:pt x="0" y="881"/>
                        </a:moveTo>
                        <a:lnTo>
                          <a:pt x="0" y="881"/>
                        </a:lnTo>
                        <a:lnTo>
                          <a:pt x="67" y="870"/>
                        </a:lnTo>
                        <a:lnTo>
                          <a:pt x="134" y="836"/>
                        </a:lnTo>
                        <a:lnTo>
                          <a:pt x="201" y="803"/>
                        </a:lnTo>
                        <a:lnTo>
                          <a:pt x="257" y="769"/>
                        </a:lnTo>
                        <a:lnTo>
                          <a:pt x="312" y="725"/>
                        </a:lnTo>
                        <a:lnTo>
                          <a:pt x="368" y="669"/>
                        </a:lnTo>
                        <a:lnTo>
                          <a:pt x="413" y="613"/>
                        </a:lnTo>
                        <a:lnTo>
                          <a:pt x="457" y="558"/>
                        </a:lnTo>
                        <a:lnTo>
                          <a:pt x="491" y="502"/>
                        </a:lnTo>
                        <a:lnTo>
                          <a:pt x="524" y="435"/>
                        </a:lnTo>
                        <a:lnTo>
                          <a:pt x="546" y="368"/>
                        </a:lnTo>
                        <a:lnTo>
                          <a:pt x="557" y="301"/>
                        </a:lnTo>
                        <a:lnTo>
                          <a:pt x="580" y="223"/>
                        </a:lnTo>
                        <a:lnTo>
                          <a:pt x="580" y="145"/>
                        </a:lnTo>
                        <a:lnTo>
                          <a:pt x="580" y="78"/>
                        </a:lnTo>
                        <a:lnTo>
                          <a:pt x="569" y="0"/>
                        </a:lnTo>
                        <a:lnTo>
                          <a:pt x="546" y="0"/>
                        </a:lnTo>
                        <a:lnTo>
                          <a:pt x="557" y="78"/>
                        </a:lnTo>
                        <a:lnTo>
                          <a:pt x="557" y="145"/>
                        </a:lnTo>
                        <a:lnTo>
                          <a:pt x="557" y="223"/>
                        </a:lnTo>
                        <a:lnTo>
                          <a:pt x="546" y="290"/>
                        </a:lnTo>
                        <a:lnTo>
                          <a:pt x="524" y="357"/>
                        </a:lnTo>
                        <a:lnTo>
                          <a:pt x="502" y="424"/>
                        </a:lnTo>
                        <a:lnTo>
                          <a:pt x="468" y="491"/>
                        </a:lnTo>
                        <a:lnTo>
                          <a:pt x="435" y="547"/>
                        </a:lnTo>
                        <a:lnTo>
                          <a:pt x="390" y="602"/>
                        </a:lnTo>
                        <a:lnTo>
                          <a:pt x="346" y="658"/>
                        </a:lnTo>
                        <a:lnTo>
                          <a:pt x="301" y="703"/>
                        </a:lnTo>
                        <a:lnTo>
                          <a:pt x="245" y="747"/>
                        </a:lnTo>
                        <a:lnTo>
                          <a:pt x="190" y="781"/>
                        </a:lnTo>
                        <a:lnTo>
                          <a:pt x="123" y="814"/>
                        </a:lnTo>
                        <a:lnTo>
                          <a:pt x="67" y="847"/>
                        </a:lnTo>
                        <a:lnTo>
                          <a:pt x="0" y="870"/>
                        </a:lnTo>
                        <a:lnTo>
                          <a:pt x="0" y="88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1457"/>
                  <p:cNvSpPr/>
                  <p:nvPr/>
                </p:nvSpPr>
                <p:spPr>
                  <a:xfrm rot="111600">
                    <a:off x="5737680" y="1490400"/>
                    <a:ext cx="97200" cy="93600"/>
                  </a:xfrm>
                  <a:custGeom>
                    <a:avLst/>
                    <a:gdLst>
                      <a:gd name="textAreaLeft" fmla="*/ 0 w 97200"/>
                      <a:gd name="textAreaRight" fmla="*/ 97560 w 97200"/>
                      <a:gd name="textAreaTop" fmla="*/ 0 h 93600"/>
                      <a:gd name="textAreaBottom" fmla="*/ 93960 h 93600"/>
                    </a:gdLst>
                    <a:ahLst/>
                    <a:rect l="textAreaLeft" t="textAreaTop" r="textAreaRight" b="textAreaBottom"/>
                    <a:pathLst>
                      <a:path w="891" h="579">
                        <a:moveTo>
                          <a:pt x="11" y="22"/>
                        </a:moveTo>
                        <a:lnTo>
                          <a:pt x="0" y="11"/>
                        </a:lnTo>
                        <a:lnTo>
                          <a:pt x="11" y="55"/>
                        </a:lnTo>
                        <a:lnTo>
                          <a:pt x="22" y="89"/>
                        </a:lnTo>
                        <a:lnTo>
                          <a:pt x="44" y="122"/>
                        </a:lnTo>
                        <a:lnTo>
                          <a:pt x="55" y="156"/>
                        </a:lnTo>
                        <a:lnTo>
                          <a:pt x="78" y="189"/>
                        </a:lnTo>
                        <a:lnTo>
                          <a:pt x="100" y="223"/>
                        </a:lnTo>
                        <a:lnTo>
                          <a:pt x="122" y="256"/>
                        </a:lnTo>
                        <a:lnTo>
                          <a:pt x="144" y="289"/>
                        </a:lnTo>
                        <a:lnTo>
                          <a:pt x="167" y="312"/>
                        </a:lnTo>
                        <a:lnTo>
                          <a:pt x="200" y="345"/>
                        </a:lnTo>
                        <a:lnTo>
                          <a:pt x="222" y="367"/>
                        </a:lnTo>
                        <a:lnTo>
                          <a:pt x="245" y="390"/>
                        </a:lnTo>
                        <a:lnTo>
                          <a:pt x="278" y="412"/>
                        </a:lnTo>
                        <a:lnTo>
                          <a:pt x="300" y="434"/>
                        </a:lnTo>
                        <a:lnTo>
                          <a:pt x="334" y="457"/>
                        </a:lnTo>
                        <a:lnTo>
                          <a:pt x="367" y="479"/>
                        </a:lnTo>
                        <a:lnTo>
                          <a:pt x="390" y="490"/>
                        </a:lnTo>
                        <a:lnTo>
                          <a:pt x="423" y="512"/>
                        </a:lnTo>
                        <a:lnTo>
                          <a:pt x="457" y="523"/>
                        </a:lnTo>
                        <a:lnTo>
                          <a:pt x="490" y="535"/>
                        </a:lnTo>
                        <a:lnTo>
                          <a:pt x="523" y="546"/>
                        </a:lnTo>
                        <a:lnTo>
                          <a:pt x="557" y="557"/>
                        </a:lnTo>
                        <a:lnTo>
                          <a:pt x="590" y="568"/>
                        </a:lnTo>
                        <a:lnTo>
                          <a:pt x="624" y="568"/>
                        </a:lnTo>
                        <a:lnTo>
                          <a:pt x="657" y="579"/>
                        </a:lnTo>
                        <a:lnTo>
                          <a:pt x="691" y="579"/>
                        </a:lnTo>
                        <a:lnTo>
                          <a:pt x="724" y="579"/>
                        </a:lnTo>
                        <a:lnTo>
                          <a:pt x="757" y="579"/>
                        </a:lnTo>
                        <a:lnTo>
                          <a:pt x="791" y="579"/>
                        </a:lnTo>
                        <a:lnTo>
                          <a:pt x="824" y="579"/>
                        </a:lnTo>
                        <a:lnTo>
                          <a:pt x="858" y="568"/>
                        </a:lnTo>
                        <a:lnTo>
                          <a:pt x="891" y="557"/>
                        </a:lnTo>
                        <a:lnTo>
                          <a:pt x="891" y="546"/>
                        </a:lnTo>
                        <a:lnTo>
                          <a:pt x="858" y="546"/>
                        </a:lnTo>
                        <a:lnTo>
                          <a:pt x="824" y="557"/>
                        </a:lnTo>
                        <a:lnTo>
                          <a:pt x="791" y="557"/>
                        </a:lnTo>
                        <a:lnTo>
                          <a:pt x="757" y="557"/>
                        </a:lnTo>
                        <a:lnTo>
                          <a:pt x="724" y="557"/>
                        </a:lnTo>
                        <a:lnTo>
                          <a:pt x="691" y="557"/>
                        </a:lnTo>
                        <a:lnTo>
                          <a:pt x="657" y="557"/>
                        </a:lnTo>
                        <a:lnTo>
                          <a:pt x="624" y="557"/>
                        </a:lnTo>
                        <a:lnTo>
                          <a:pt x="590" y="546"/>
                        </a:lnTo>
                        <a:lnTo>
                          <a:pt x="557" y="535"/>
                        </a:lnTo>
                        <a:lnTo>
                          <a:pt x="523" y="523"/>
                        </a:lnTo>
                        <a:lnTo>
                          <a:pt x="490" y="512"/>
                        </a:lnTo>
                        <a:lnTo>
                          <a:pt x="468" y="501"/>
                        </a:lnTo>
                        <a:lnTo>
                          <a:pt x="434" y="490"/>
                        </a:lnTo>
                        <a:lnTo>
                          <a:pt x="401" y="479"/>
                        </a:lnTo>
                        <a:lnTo>
                          <a:pt x="367" y="457"/>
                        </a:lnTo>
                        <a:lnTo>
                          <a:pt x="345" y="445"/>
                        </a:lnTo>
                        <a:lnTo>
                          <a:pt x="312" y="423"/>
                        </a:lnTo>
                        <a:lnTo>
                          <a:pt x="289" y="401"/>
                        </a:lnTo>
                        <a:lnTo>
                          <a:pt x="256" y="379"/>
                        </a:lnTo>
                        <a:lnTo>
                          <a:pt x="234" y="356"/>
                        </a:lnTo>
                        <a:lnTo>
                          <a:pt x="211" y="323"/>
                        </a:lnTo>
                        <a:lnTo>
                          <a:pt x="178" y="301"/>
                        </a:lnTo>
                        <a:lnTo>
                          <a:pt x="167" y="278"/>
                        </a:lnTo>
                        <a:lnTo>
                          <a:pt x="144" y="245"/>
                        </a:lnTo>
                        <a:lnTo>
                          <a:pt x="122" y="211"/>
                        </a:lnTo>
                        <a:lnTo>
                          <a:pt x="100" y="178"/>
                        </a:lnTo>
                        <a:lnTo>
                          <a:pt x="78" y="145"/>
                        </a:lnTo>
                        <a:lnTo>
                          <a:pt x="55" y="111"/>
                        </a:lnTo>
                        <a:lnTo>
                          <a:pt x="44" y="78"/>
                        </a:lnTo>
                        <a:lnTo>
                          <a:pt x="33" y="44"/>
                        </a:lnTo>
                        <a:lnTo>
                          <a:pt x="11" y="11"/>
                        </a:lnTo>
                        <a:lnTo>
                          <a:pt x="0" y="0"/>
                        </a:lnTo>
                        <a:lnTo>
                          <a:pt x="11" y="2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1456"/>
                  <p:cNvSpPr/>
                  <p:nvPr/>
                </p:nvSpPr>
                <p:spPr>
                  <a:xfrm rot="111600">
                    <a:off x="5717160" y="1468800"/>
                    <a:ext cx="23040" cy="23400"/>
                  </a:xfrm>
                  <a:custGeom>
                    <a:avLst/>
                    <a:gdLst>
                      <a:gd name="textAreaLeft" fmla="*/ 0 w 23040"/>
                      <a:gd name="textAreaRight" fmla="*/ 23400 w 23040"/>
                      <a:gd name="textAreaTop" fmla="*/ 0 h 23400"/>
                      <a:gd name="textAreaBottom" fmla="*/ 23760 h 23400"/>
                    </a:gdLst>
                    <a:ahLst/>
                    <a:rect l="textAreaLeft" t="textAreaTop" r="textAreaRight" b="textAreaBottom"/>
                    <a:pathLst>
                      <a:path w="212" h="145">
                        <a:moveTo>
                          <a:pt x="0" y="0"/>
                        </a:moveTo>
                        <a:lnTo>
                          <a:pt x="0" y="0"/>
                        </a:lnTo>
                        <a:lnTo>
                          <a:pt x="11" y="33"/>
                        </a:lnTo>
                        <a:lnTo>
                          <a:pt x="33" y="67"/>
                        </a:lnTo>
                        <a:lnTo>
                          <a:pt x="45" y="89"/>
                        </a:lnTo>
                        <a:lnTo>
                          <a:pt x="78" y="100"/>
                        </a:lnTo>
                        <a:lnTo>
                          <a:pt x="100" y="123"/>
                        </a:lnTo>
                        <a:lnTo>
                          <a:pt x="134" y="134"/>
                        </a:lnTo>
                        <a:lnTo>
                          <a:pt x="167" y="134"/>
                        </a:lnTo>
                        <a:lnTo>
                          <a:pt x="212" y="145"/>
                        </a:lnTo>
                        <a:lnTo>
                          <a:pt x="201" y="123"/>
                        </a:lnTo>
                        <a:lnTo>
                          <a:pt x="178" y="123"/>
                        </a:lnTo>
                        <a:lnTo>
                          <a:pt x="145" y="111"/>
                        </a:lnTo>
                        <a:lnTo>
                          <a:pt x="111" y="100"/>
                        </a:lnTo>
                        <a:lnTo>
                          <a:pt x="89" y="89"/>
                        </a:lnTo>
                        <a:lnTo>
                          <a:pt x="67" y="67"/>
                        </a:lnTo>
                        <a:lnTo>
                          <a:pt x="45" y="56"/>
                        </a:lnTo>
                        <a:lnTo>
                          <a:pt x="33" y="22"/>
                        </a:lnTo>
                        <a:lnTo>
                          <a:pt x="11" y="0"/>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1455"/>
                  <p:cNvSpPr/>
                  <p:nvPr/>
                </p:nvSpPr>
                <p:spPr>
                  <a:xfrm rot="111600">
                    <a:off x="5717160" y="1419840"/>
                    <a:ext cx="19440" cy="48600"/>
                  </a:xfrm>
                  <a:custGeom>
                    <a:avLst/>
                    <a:gdLst>
                      <a:gd name="textAreaLeft" fmla="*/ 0 w 19440"/>
                      <a:gd name="textAreaRight" fmla="*/ 19440 w 19440"/>
                      <a:gd name="textAreaTop" fmla="*/ 0 h 48600"/>
                      <a:gd name="textAreaBottom" fmla="*/ 48960 h 48600"/>
                    </a:gdLst>
                    <a:ahLst/>
                    <a:rect l="textAreaLeft" t="textAreaTop" r="textAreaRight" b="textAreaBottom"/>
                    <a:pathLst>
                      <a:path w="178" h="301">
                        <a:moveTo>
                          <a:pt x="156" y="0"/>
                        </a:moveTo>
                        <a:lnTo>
                          <a:pt x="156" y="0"/>
                        </a:lnTo>
                        <a:lnTo>
                          <a:pt x="122" y="34"/>
                        </a:lnTo>
                        <a:lnTo>
                          <a:pt x="78" y="67"/>
                        </a:lnTo>
                        <a:lnTo>
                          <a:pt x="56" y="100"/>
                        </a:lnTo>
                        <a:lnTo>
                          <a:pt x="22" y="134"/>
                        </a:lnTo>
                        <a:lnTo>
                          <a:pt x="0" y="178"/>
                        </a:lnTo>
                        <a:lnTo>
                          <a:pt x="0" y="212"/>
                        </a:lnTo>
                        <a:lnTo>
                          <a:pt x="0" y="256"/>
                        </a:lnTo>
                        <a:lnTo>
                          <a:pt x="11" y="301"/>
                        </a:lnTo>
                        <a:lnTo>
                          <a:pt x="22" y="301"/>
                        </a:lnTo>
                        <a:lnTo>
                          <a:pt x="22" y="256"/>
                        </a:lnTo>
                        <a:lnTo>
                          <a:pt x="22" y="223"/>
                        </a:lnTo>
                        <a:lnTo>
                          <a:pt x="33" y="178"/>
                        </a:lnTo>
                        <a:lnTo>
                          <a:pt x="44" y="145"/>
                        </a:lnTo>
                        <a:lnTo>
                          <a:pt x="67" y="112"/>
                        </a:lnTo>
                        <a:lnTo>
                          <a:pt x="100" y="78"/>
                        </a:lnTo>
                        <a:lnTo>
                          <a:pt x="134" y="45"/>
                        </a:lnTo>
                        <a:lnTo>
                          <a:pt x="167" y="11"/>
                        </a:lnTo>
                        <a:lnTo>
                          <a:pt x="178" y="0"/>
                        </a:lnTo>
                        <a:lnTo>
                          <a:pt x="156" y="0"/>
                        </a:lnTo>
                        <a:close/>
                      </a:path>
                    </a:pathLst>
                  </a:custGeom>
                  <a:solidFill>
                    <a:srgbClr val="00000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1454"/>
                  <p:cNvSpPr/>
                  <p:nvPr/>
                </p:nvSpPr>
                <p:spPr>
                  <a:xfrm rot="111600">
                    <a:off x="5737320" y="1305360"/>
                    <a:ext cx="55800" cy="115200"/>
                  </a:xfrm>
                  <a:custGeom>
                    <a:avLst/>
                    <a:gdLst>
                      <a:gd name="textAreaLeft" fmla="*/ 0 w 55800"/>
                      <a:gd name="textAreaRight" fmla="*/ 56160 w 55800"/>
                      <a:gd name="textAreaTop" fmla="*/ 0 h 115200"/>
                      <a:gd name="textAreaBottom" fmla="*/ 115560 h 115200"/>
                    </a:gdLst>
                    <a:ahLst/>
                    <a:rect l="textAreaLeft" t="textAreaTop" r="textAreaRight" b="textAreaBottom"/>
                    <a:pathLst>
                      <a:path w="513" h="713">
                        <a:moveTo>
                          <a:pt x="501" y="0"/>
                        </a:moveTo>
                        <a:lnTo>
                          <a:pt x="501" y="0"/>
                        </a:lnTo>
                        <a:lnTo>
                          <a:pt x="457" y="11"/>
                        </a:lnTo>
                        <a:lnTo>
                          <a:pt x="401" y="33"/>
                        </a:lnTo>
                        <a:lnTo>
                          <a:pt x="356" y="56"/>
                        </a:lnTo>
                        <a:lnTo>
                          <a:pt x="301" y="89"/>
                        </a:lnTo>
                        <a:lnTo>
                          <a:pt x="267" y="122"/>
                        </a:lnTo>
                        <a:lnTo>
                          <a:pt x="223" y="167"/>
                        </a:lnTo>
                        <a:lnTo>
                          <a:pt x="189" y="212"/>
                        </a:lnTo>
                        <a:lnTo>
                          <a:pt x="156" y="256"/>
                        </a:lnTo>
                        <a:lnTo>
                          <a:pt x="122" y="301"/>
                        </a:lnTo>
                        <a:lnTo>
                          <a:pt x="89" y="356"/>
                        </a:lnTo>
                        <a:lnTo>
                          <a:pt x="67" y="412"/>
                        </a:lnTo>
                        <a:lnTo>
                          <a:pt x="44" y="468"/>
                        </a:lnTo>
                        <a:lnTo>
                          <a:pt x="33" y="524"/>
                        </a:lnTo>
                        <a:lnTo>
                          <a:pt x="11" y="590"/>
                        </a:lnTo>
                        <a:lnTo>
                          <a:pt x="0" y="657"/>
                        </a:lnTo>
                        <a:lnTo>
                          <a:pt x="0" y="713"/>
                        </a:lnTo>
                        <a:lnTo>
                          <a:pt x="22" y="713"/>
                        </a:lnTo>
                        <a:lnTo>
                          <a:pt x="22" y="657"/>
                        </a:lnTo>
                        <a:lnTo>
                          <a:pt x="33" y="590"/>
                        </a:lnTo>
                        <a:lnTo>
                          <a:pt x="56" y="535"/>
                        </a:lnTo>
                        <a:lnTo>
                          <a:pt x="67" y="479"/>
                        </a:lnTo>
                        <a:lnTo>
                          <a:pt x="89" y="423"/>
                        </a:lnTo>
                        <a:lnTo>
                          <a:pt x="111" y="368"/>
                        </a:lnTo>
                        <a:lnTo>
                          <a:pt x="145" y="323"/>
                        </a:lnTo>
                        <a:lnTo>
                          <a:pt x="167" y="267"/>
                        </a:lnTo>
                        <a:lnTo>
                          <a:pt x="200" y="223"/>
                        </a:lnTo>
                        <a:lnTo>
                          <a:pt x="245" y="178"/>
                        </a:lnTo>
                        <a:lnTo>
                          <a:pt x="278" y="145"/>
                        </a:lnTo>
                        <a:lnTo>
                          <a:pt x="323" y="111"/>
                        </a:lnTo>
                        <a:lnTo>
                          <a:pt x="368" y="78"/>
                        </a:lnTo>
                        <a:lnTo>
                          <a:pt x="412" y="56"/>
                        </a:lnTo>
                        <a:lnTo>
                          <a:pt x="457" y="33"/>
                        </a:lnTo>
                        <a:lnTo>
                          <a:pt x="513" y="22"/>
                        </a:lnTo>
                        <a:lnTo>
                          <a:pt x="50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1453"/>
                  <p:cNvSpPr/>
                  <p:nvPr/>
                </p:nvSpPr>
                <p:spPr>
                  <a:xfrm rot="111600">
                    <a:off x="5859360" y="1474560"/>
                    <a:ext cx="2160" cy="3240"/>
                  </a:xfrm>
                  <a:custGeom>
                    <a:avLst/>
                    <a:gdLst>
                      <a:gd name="textAreaLeft" fmla="*/ 0 w 2160"/>
                      <a:gd name="textAreaRight" fmla="*/ 2520 w 2160"/>
                      <a:gd name="textAreaTop" fmla="*/ 0 h 3240"/>
                      <a:gd name="textAreaBottom" fmla="*/ 3600 h 3240"/>
                    </a:gdLst>
                    <a:ahLst/>
                    <a:rect l="textAreaLeft" t="textAreaTop" r="textAreaRight" b="textAreaBottom"/>
                    <a:pathLst>
                      <a:path w="22" h="22">
                        <a:moveTo>
                          <a:pt x="22" y="11"/>
                        </a:moveTo>
                        <a:lnTo>
                          <a:pt x="11" y="0"/>
                        </a:lnTo>
                        <a:lnTo>
                          <a:pt x="0" y="0"/>
                        </a:lnTo>
                        <a:lnTo>
                          <a:pt x="0" y="11"/>
                        </a:lnTo>
                        <a:lnTo>
                          <a:pt x="0" y="22"/>
                        </a:lnTo>
                        <a:lnTo>
                          <a:pt x="22" y="11"/>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1452"/>
                  <p:cNvSpPr/>
                  <p:nvPr/>
                </p:nvSpPr>
                <p:spPr>
                  <a:xfrm rot="111600">
                    <a:off x="5859360" y="1476360"/>
                    <a:ext cx="20520" cy="19800"/>
                  </a:xfrm>
                  <a:custGeom>
                    <a:avLst/>
                    <a:gdLst>
                      <a:gd name="textAreaLeft" fmla="*/ 0 w 20520"/>
                      <a:gd name="textAreaRight" fmla="*/ 20880 w 20520"/>
                      <a:gd name="textAreaTop" fmla="*/ 0 h 19800"/>
                      <a:gd name="textAreaBottom" fmla="*/ 20160 h 19800"/>
                    </a:gdLst>
                    <a:ahLst/>
                    <a:rect l="textAreaLeft" t="textAreaTop" r="textAreaRight" b="textAreaBottom"/>
                    <a:pathLst>
                      <a:path w="189" h="123">
                        <a:moveTo>
                          <a:pt x="189" y="112"/>
                        </a:moveTo>
                        <a:lnTo>
                          <a:pt x="167" y="101"/>
                        </a:lnTo>
                        <a:lnTo>
                          <a:pt x="134" y="89"/>
                        </a:lnTo>
                        <a:lnTo>
                          <a:pt x="111" y="89"/>
                        </a:lnTo>
                        <a:lnTo>
                          <a:pt x="89" y="78"/>
                        </a:lnTo>
                        <a:lnTo>
                          <a:pt x="67" y="56"/>
                        </a:lnTo>
                        <a:lnTo>
                          <a:pt x="56" y="45"/>
                        </a:lnTo>
                        <a:lnTo>
                          <a:pt x="33" y="23"/>
                        </a:lnTo>
                        <a:lnTo>
                          <a:pt x="22" y="0"/>
                        </a:lnTo>
                        <a:lnTo>
                          <a:pt x="0" y="11"/>
                        </a:lnTo>
                        <a:lnTo>
                          <a:pt x="22" y="34"/>
                        </a:lnTo>
                        <a:lnTo>
                          <a:pt x="33" y="56"/>
                        </a:lnTo>
                        <a:lnTo>
                          <a:pt x="56" y="78"/>
                        </a:lnTo>
                        <a:lnTo>
                          <a:pt x="78" y="89"/>
                        </a:lnTo>
                        <a:lnTo>
                          <a:pt x="111" y="101"/>
                        </a:lnTo>
                        <a:lnTo>
                          <a:pt x="134" y="112"/>
                        </a:lnTo>
                        <a:lnTo>
                          <a:pt x="156" y="123"/>
                        </a:lnTo>
                        <a:lnTo>
                          <a:pt x="189" y="123"/>
                        </a:lnTo>
                        <a:lnTo>
                          <a:pt x="189" y="112"/>
                        </a:lnTo>
                        <a:close/>
                      </a:path>
                    </a:pathLst>
                  </a:custGeom>
                  <a:solidFill>
                    <a:srgbClr val="000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1451"/>
                  <p:cNvSpPr/>
                  <p:nvPr/>
                </p:nvSpPr>
                <p:spPr>
                  <a:xfrm rot="111600">
                    <a:off x="5860440" y="147672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0" y="11"/>
                        </a:moveTo>
                        <a:lnTo>
                          <a:pt x="0" y="11"/>
                        </a:lnTo>
                        <a:lnTo>
                          <a:pt x="11" y="11"/>
                        </a:lnTo>
                        <a:lnTo>
                          <a:pt x="11" y="0"/>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1450"/>
                  <p:cNvSpPr/>
                  <p:nvPr/>
                </p:nvSpPr>
                <p:spPr>
                  <a:xfrm rot="111600">
                    <a:off x="5789160" y="149400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22" h="11">
                        <a:moveTo>
                          <a:pt x="22" y="11"/>
                        </a:moveTo>
                        <a:lnTo>
                          <a:pt x="22" y="11"/>
                        </a:lnTo>
                        <a:lnTo>
                          <a:pt x="11" y="0"/>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1449"/>
                  <p:cNvSpPr/>
                  <p:nvPr/>
                </p:nvSpPr>
                <p:spPr>
                  <a:xfrm rot="111600">
                    <a:off x="5784120" y="1495800"/>
                    <a:ext cx="7200" cy="21600"/>
                  </a:xfrm>
                  <a:custGeom>
                    <a:avLst/>
                    <a:gdLst>
                      <a:gd name="textAreaLeft" fmla="*/ 0 w 7200"/>
                      <a:gd name="textAreaRight" fmla="*/ 7560 w 7200"/>
                      <a:gd name="textAreaTop" fmla="*/ 0 h 21600"/>
                      <a:gd name="textAreaBottom" fmla="*/ 21960 h 21600"/>
                    </a:gdLst>
                    <a:ahLst/>
                    <a:rect l="textAreaLeft" t="textAreaTop" r="textAreaRight" b="textAreaBottom"/>
                    <a:pathLst>
                      <a:path w="67" h="134">
                        <a:moveTo>
                          <a:pt x="22" y="134"/>
                        </a:moveTo>
                        <a:lnTo>
                          <a:pt x="22" y="123"/>
                        </a:lnTo>
                        <a:lnTo>
                          <a:pt x="33" y="112"/>
                        </a:lnTo>
                        <a:lnTo>
                          <a:pt x="33" y="100"/>
                        </a:lnTo>
                        <a:lnTo>
                          <a:pt x="45" y="89"/>
                        </a:lnTo>
                        <a:lnTo>
                          <a:pt x="56" y="67"/>
                        </a:lnTo>
                        <a:lnTo>
                          <a:pt x="56" y="56"/>
                        </a:lnTo>
                        <a:lnTo>
                          <a:pt x="67" y="45"/>
                        </a:lnTo>
                        <a:lnTo>
                          <a:pt x="67" y="22"/>
                        </a:lnTo>
                        <a:lnTo>
                          <a:pt x="67" y="0"/>
                        </a:lnTo>
                        <a:lnTo>
                          <a:pt x="45" y="0"/>
                        </a:lnTo>
                        <a:lnTo>
                          <a:pt x="45" y="22"/>
                        </a:lnTo>
                        <a:lnTo>
                          <a:pt x="45" y="33"/>
                        </a:lnTo>
                        <a:lnTo>
                          <a:pt x="33" y="45"/>
                        </a:lnTo>
                        <a:lnTo>
                          <a:pt x="33" y="56"/>
                        </a:lnTo>
                        <a:lnTo>
                          <a:pt x="22" y="78"/>
                        </a:lnTo>
                        <a:lnTo>
                          <a:pt x="22" y="89"/>
                        </a:lnTo>
                        <a:lnTo>
                          <a:pt x="11" y="100"/>
                        </a:lnTo>
                        <a:lnTo>
                          <a:pt x="0" y="112"/>
                        </a:lnTo>
                        <a:lnTo>
                          <a:pt x="22" y="134"/>
                        </a:lnTo>
                        <a:close/>
                      </a:path>
                    </a:pathLst>
                  </a:custGeom>
                  <a:solidFill>
                    <a:srgbClr val="000000"/>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1448"/>
                  <p:cNvSpPr/>
                  <p:nvPr/>
                </p:nvSpPr>
                <p:spPr>
                  <a:xfrm rot="111600">
                    <a:off x="5773680" y="1513440"/>
                    <a:ext cx="11880" cy="6840"/>
                  </a:xfrm>
                  <a:custGeom>
                    <a:avLst/>
                    <a:gdLst>
                      <a:gd name="textAreaLeft" fmla="*/ 0 w 11880"/>
                      <a:gd name="textAreaRight" fmla="*/ 12240 w 11880"/>
                      <a:gd name="textAreaTop" fmla="*/ 0 h 6840"/>
                      <a:gd name="textAreaBottom" fmla="*/ 7200 h 6840"/>
                    </a:gdLst>
                    <a:ahLst/>
                    <a:rect l="textAreaLeft" t="textAreaTop" r="textAreaRight" b="textAreaBottom"/>
                    <a:pathLst>
                      <a:path w="111" h="44">
                        <a:moveTo>
                          <a:pt x="0" y="44"/>
                        </a:moveTo>
                        <a:lnTo>
                          <a:pt x="22" y="44"/>
                        </a:lnTo>
                        <a:lnTo>
                          <a:pt x="33" y="44"/>
                        </a:lnTo>
                        <a:lnTo>
                          <a:pt x="56" y="33"/>
                        </a:lnTo>
                        <a:lnTo>
                          <a:pt x="67" y="33"/>
                        </a:lnTo>
                        <a:lnTo>
                          <a:pt x="89" y="33"/>
                        </a:lnTo>
                        <a:lnTo>
                          <a:pt x="89" y="22"/>
                        </a:lnTo>
                        <a:lnTo>
                          <a:pt x="100" y="22"/>
                        </a:lnTo>
                        <a:lnTo>
                          <a:pt x="111" y="22"/>
                        </a:lnTo>
                        <a:lnTo>
                          <a:pt x="89" y="0"/>
                        </a:lnTo>
                        <a:lnTo>
                          <a:pt x="78" y="11"/>
                        </a:lnTo>
                        <a:lnTo>
                          <a:pt x="67" y="11"/>
                        </a:lnTo>
                        <a:lnTo>
                          <a:pt x="44" y="22"/>
                        </a:lnTo>
                        <a:lnTo>
                          <a:pt x="33" y="22"/>
                        </a:lnTo>
                        <a:lnTo>
                          <a:pt x="11" y="22"/>
                        </a:lnTo>
                        <a:lnTo>
                          <a:pt x="0" y="22"/>
                        </a:lnTo>
                        <a:lnTo>
                          <a:pt x="0" y="44"/>
                        </a:lnTo>
                        <a:close/>
                      </a:path>
                    </a:pathLst>
                  </a:custGeom>
                  <a:solidFill>
                    <a:srgbClr val="000000"/>
                  </a:solidFill>
                  <a:ln w="0">
                    <a:noFill/>
                  </a:ln>
                </p:spPr>
                <p:style>
                  <a:lnRef idx="0"/>
                  <a:fillRef idx="0"/>
                  <a:effectRef idx="0"/>
                  <a:fontRef idx="minor"/>
                </p:style>
                <p:txBody>
                  <a:bodyPr lIns="90000" rIns="90000" tIns="-39600" bIns="-39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1447"/>
                  <p:cNvSpPr/>
                  <p:nvPr/>
                </p:nvSpPr>
                <p:spPr>
                  <a:xfrm rot="111600">
                    <a:off x="5783400" y="1513800"/>
                    <a:ext cx="1080" cy="3240"/>
                  </a:xfrm>
                  <a:custGeom>
                    <a:avLst/>
                    <a:gdLst>
                      <a:gd name="textAreaLeft" fmla="*/ 0 w 1080"/>
                      <a:gd name="textAreaRight" fmla="*/ 1440 w 1080"/>
                      <a:gd name="textAreaTop" fmla="*/ 0 h 3240"/>
                      <a:gd name="textAreaBottom" fmla="*/ 3600 h 3240"/>
                    </a:gdLst>
                    <a:ahLst/>
                    <a:rect l="textAreaLeft" t="textAreaTop" r="textAreaRight" b="textAreaBottom"/>
                    <a:pathLst>
                      <a:path w="11" h="22">
                        <a:moveTo>
                          <a:pt x="11" y="0"/>
                        </a:moveTo>
                        <a:lnTo>
                          <a:pt x="0" y="0"/>
                        </a:lnTo>
                        <a:lnTo>
                          <a:pt x="0" y="11"/>
                        </a:lnTo>
                        <a:lnTo>
                          <a:pt x="11" y="22"/>
                        </a:lnTo>
                        <a:lnTo>
                          <a:pt x="11"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1446"/>
                  <p:cNvSpPr/>
                  <p:nvPr/>
                </p:nvSpPr>
                <p:spPr>
                  <a:xfrm rot="111600">
                    <a:off x="5720400" y="1253160"/>
                    <a:ext cx="182880" cy="207360"/>
                  </a:xfrm>
                  <a:custGeom>
                    <a:avLst/>
                    <a:gdLst>
                      <a:gd name="textAreaLeft" fmla="*/ 0 w 182880"/>
                      <a:gd name="textAreaRight" fmla="*/ 183240 w 182880"/>
                      <a:gd name="textAreaTop" fmla="*/ 0 h 207360"/>
                      <a:gd name="textAreaBottom" fmla="*/ 207720 h 207360"/>
                    </a:gdLst>
                    <a:ahLst/>
                    <a:rect l="textAreaLeft" t="textAreaTop" r="textAreaRight" b="textAreaBottom"/>
                    <a:pathLst>
                      <a:path w="1672" h="1282">
                        <a:moveTo>
                          <a:pt x="680" y="223"/>
                        </a:moveTo>
                        <a:lnTo>
                          <a:pt x="635" y="223"/>
                        </a:lnTo>
                        <a:lnTo>
                          <a:pt x="591" y="223"/>
                        </a:lnTo>
                        <a:lnTo>
                          <a:pt x="546" y="223"/>
                        </a:lnTo>
                        <a:lnTo>
                          <a:pt x="490" y="234"/>
                        </a:lnTo>
                        <a:lnTo>
                          <a:pt x="446" y="246"/>
                        </a:lnTo>
                        <a:lnTo>
                          <a:pt x="390" y="257"/>
                        </a:lnTo>
                        <a:lnTo>
                          <a:pt x="345" y="268"/>
                        </a:lnTo>
                        <a:lnTo>
                          <a:pt x="290" y="290"/>
                        </a:lnTo>
                        <a:lnTo>
                          <a:pt x="245" y="324"/>
                        </a:lnTo>
                        <a:lnTo>
                          <a:pt x="200" y="346"/>
                        </a:lnTo>
                        <a:lnTo>
                          <a:pt x="156" y="379"/>
                        </a:lnTo>
                        <a:lnTo>
                          <a:pt x="122" y="413"/>
                        </a:lnTo>
                        <a:lnTo>
                          <a:pt x="89" y="446"/>
                        </a:lnTo>
                        <a:lnTo>
                          <a:pt x="67" y="491"/>
                        </a:lnTo>
                        <a:lnTo>
                          <a:pt x="44" y="535"/>
                        </a:lnTo>
                        <a:lnTo>
                          <a:pt x="22" y="580"/>
                        </a:lnTo>
                        <a:lnTo>
                          <a:pt x="11" y="636"/>
                        </a:lnTo>
                        <a:lnTo>
                          <a:pt x="0" y="703"/>
                        </a:lnTo>
                        <a:lnTo>
                          <a:pt x="0" y="769"/>
                        </a:lnTo>
                        <a:lnTo>
                          <a:pt x="0" y="836"/>
                        </a:lnTo>
                        <a:lnTo>
                          <a:pt x="0" y="903"/>
                        </a:lnTo>
                        <a:lnTo>
                          <a:pt x="22" y="970"/>
                        </a:lnTo>
                        <a:lnTo>
                          <a:pt x="44" y="1037"/>
                        </a:lnTo>
                        <a:lnTo>
                          <a:pt x="78" y="1093"/>
                        </a:lnTo>
                        <a:lnTo>
                          <a:pt x="100" y="1104"/>
                        </a:lnTo>
                        <a:lnTo>
                          <a:pt x="122" y="1104"/>
                        </a:lnTo>
                        <a:lnTo>
                          <a:pt x="145" y="1093"/>
                        </a:lnTo>
                        <a:lnTo>
                          <a:pt x="167" y="1093"/>
                        </a:lnTo>
                        <a:lnTo>
                          <a:pt x="200" y="1082"/>
                        </a:lnTo>
                        <a:lnTo>
                          <a:pt x="223" y="1070"/>
                        </a:lnTo>
                        <a:lnTo>
                          <a:pt x="245" y="1059"/>
                        </a:lnTo>
                        <a:lnTo>
                          <a:pt x="267" y="1070"/>
                        </a:lnTo>
                        <a:lnTo>
                          <a:pt x="278" y="1082"/>
                        </a:lnTo>
                        <a:lnTo>
                          <a:pt x="290" y="1104"/>
                        </a:lnTo>
                        <a:lnTo>
                          <a:pt x="312" y="1137"/>
                        </a:lnTo>
                        <a:lnTo>
                          <a:pt x="312" y="1171"/>
                        </a:lnTo>
                        <a:lnTo>
                          <a:pt x="323" y="1204"/>
                        </a:lnTo>
                        <a:lnTo>
                          <a:pt x="334" y="1238"/>
                        </a:lnTo>
                        <a:lnTo>
                          <a:pt x="345" y="1260"/>
                        </a:lnTo>
                        <a:lnTo>
                          <a:pt x="356" y="1282"/>
                        </a:lnTo>
                        <a:lnTo>
                          <a:pt x="379" y="1260"/>
                        </a:lnTo>
                        <a:lnTo>
                          <a:pt x="412" y="1226"/>
                        </a:lnTo>
                        <a:lnTo>
                          <a:pt x="434" y="1193"/>
                        </a:lnTo>
                        <a:lnTo>
                          <a:pt x="446" y="1148"/>
                        </a:lnTo>
                        <a:lnTo>
                          <a:pt x="457" y="1115"/>
                        </a:lnTo>
                        <a:lnTo>
                          <a:pt x="457" y="1070"/>
                        </a:lnTo>
                        <a:lnTo>
                          <a:pt x="457" y="1037"/>
                        </a:lnTo>
                        <a:lnTo>
                          <a:pt x="457" y="992"/>
                        </a:lnTo>
                        <a:lnTo>
                          <a:pt x="535" y="881"/>
                        </a:lnTo>
                        <a:lnTo>
                          <a:pt x="557" y="859"/>
                        </a:lnTo>
                        <a:lnTo>
                          <a:pt x="568" y="825"/>
                        </a:lnTo>
                        <a:lnTo>
                          <a:pt x="591" y="803"/>
                        </a:lnTo>
                        <a:lnTo>
                          <a:pt x="602" y="769"/>
                        </a:lnTo>
                        <a:lnTo>
                          <a:pt x="624" y="747"/>
                        </a:lnTo>
                        <a:lnTo>
                          <a:pt x="635" y="714"/>
                        </a:lnTo>
                        <a:lnTo>
                          <a:pt x="657" y="691"/>
                        </a:lnTo>
                        <a:lnTo>
                          <a:pt x="669" y="669"/>
                        </a:lnTo>
                        <a:lnTo>
                          <a:pt x="691" y="636"/>
                        </a:lnTo>
                        <a:lnTo>
                          <a:pt x="702" y="613"/>
                        </a:lnTo>
                        <a:lnTo>
                          <a:pt x="713" y="591"/>
                        </a:lnTo>
                        <a:lnTo>
                          <a:pt x="724" y="569"/>
                        </a:lnTo>
                        <a:lnTo>
                          <a:pt x="735" y="535"/>
                        </a:lnTo>
                        <a:lnTo>
                          <a:pt x="747" y="513"/>
                        </a:lnTo>
                        <a:lnTo>
                          <a:pt x="758" y="491"/>
                        </a:lnTo>
                        <a:lnTo>
                          <a:pt x="769" y="457"/>
                        </a:lnTo>
                        <a:lnTo>
                          <a:pt x="780" y="625"/>
                        </a:lnTo>
                        <a:lnTo>
                          <a:pt x="791" y="613"/>
                        </a:lnTo>
                        <a:lnTo>
                          <a:pt x="813" y="591"/>
                        </a:lnTo>
                        <a:lnTo>
                          <a:pt x="836" y="569"/>
                        </a:lnTo>
                        <a:lnTo>
                          <a:pt x="847" y="547"/>
                        </a:lnTo>
                        <a:lnTo>
                          <a:pt x="858" y="513"/>
                        </a:lnTo>
                        <a:lnTo>
                          <a:pt x="869" y="491"/>
                        </a:lnTo>
                        <a:lnTo>
                          <a:pt x="869" y="457"/>
                        </a:lnTo>
                        <a:lnTo>
                          <a:pt x="869" y="435"/>
                        </a:lnTo>
                        <a:lnTo>
                          <a:pt x="936" y="569"/>
                        </a:lnTo>
                        <a:lnTo>
                          <a:pt x="958" y="591"/>
                        </a:lnTo>
                        <a:lnTo>
                          <a:pt x="969" y="625"/>
                        </a:lnTo>
                        <a:lnTo>
                          <a:pt x="992" y="647"/>
                        </a:lnTo>
                        <a:lnTo>
                          <a:pt x="1014" y="669"/>
                        </a:lnTo>
                        <a:lnTo>
                          <a:pt x="1025" y="691"/>
                        </a:lnTo>
                        <a:lnTo>
                          <a:pt x="1059" y="714"/>
                        </a:lnTo>
                        <a:lnTo>
                          <a:pt x="1081" y="736"/>
                        </a:lnTo>
                        <a:lnTo>
                          <a:pt x="1103" y="747"/>
                        </a:lnTo>
                        <a:lnTo>
                          <a:pt x="1125" y="769"/>
                        </a:lnTo>
                        <a:lnTo>
                          <a:pt x="1148" y="781"/>
                        </a:lnTo>
                        <a:lnTo>
                          <a:pt x="1181" y="803"/>
                        </a:lnTo>
                        <a:lnTo>
                          <a:pt x="1215" y="814"/>
                        </a:lnTo>
                        <a:lnTo>
                          <a:pt x="1237" y="814"/>
                        </a:lnTo>
                        <a:lnTo>
                          <a:pt x="1270" y="825"/>
                        </a:lnTo>
                        <a:lnTo>
                          <a:pt x="1304" y="836"/>
                        </a:lnTo>
                        <a:lnTo>
                          <a:pt x="1337" y="836"/>
                        </a:lnTo>
                        <a:lnTo>
                          <a:pt x="1337" y="870"/>
                        </a:lnTo>
                        <a:lnTo>
                          <a:pt x="1348" y="903"/>
                        </a:lnTo>
                        <a:lnTo>
                          <a:pt x="1360" y="937"/>
                        </a:lnTo>
                        <a:lnTo>
                          <a:pt x="1382" y="959"/>
                        </a:lnTo>
                        <a:lnTo>
                          <a:pt x="1404" y="992"/>
                        </a:lnTo>
                        <a:lnTo>
                          <a:pt x="1426" y="1015"/>
                        </a:lnTo>
                        <a:lnTo>
                          <a:pt x="1460" y="1026"/>
                        </a:lnTo>
                        <a:lnTo>
                          <a:pt x="1493" y="1026"/>
                        </a:lnTo>
                        <a:lnTo>
                          <a:pt x="1482" y="981"/>
                        </a:lnTo>
                        <a:lnTo>
                          <a:pt x="1471" y="903"/>
                        </a:lnTo>
                        <a:lnTo>
                          <a:pt x="1482" y="836"/>
                        </a:lnTo>
                        <a:lnTo>
                          <a:pt x="1493" y="792"/>
                        </a:lnTo>
                        <a:lnTo>
                          <a:pt x="1504" y="781"/>
                        </a:lnTo>
                        <a:lnTo>
                          <a:pt x="1527" y="781"/>
                        </a:lnTo>
                        <a:lnTo>
                          <a:pt x="1549" y="781"/>
                        </a:lnTo>
                        <a:lnTo>
                          <a:pt x="1571" y="781"/>
                        </a:lnTo>
                        <a:lnTo>
                          <a:pt x="1594" y="792"/>
                        </a:lnTo>
                        <a:lnTo>
                          <a:pt x="1627" y="792"/>
                        </a:lnTo>
                        <a:lnTo>
                          <a:pt x="1638" y="792"/>
                        </a:lnTo>
                        <a:lnTo>
                          <a:pt x="1660" y="781"/>
                        </a:lnTo>
                        <a:lnTo>
                          <a:pt x="1672" y="758"/>
                        </a:lnTo>
                        <a:lnTo>
                          <a:pt x="1672" y="703"/>
                        </a:lnTo>
                        <a:lnTo>
                          <a:pt x="1672" y="636"/>
                        </a:lnTo>
                        <a:lnTo>
                          <a:pt x="1660" y="558"/>
                        </a:lnTo>
                        <a:lnTo>
                          <a:pt x="1638" y="491"/>
                        </a:lnTo>
                        <a:lnTo>
                          <a:pt x="1627" y="413"/>
                        </a:lnTo>
                        <a:lnTo>
                          <a:pt x="1605" y="368"/>
                        </a:lnTo>
                        <a:lnTo>
                          <a:pt x="1594" y="335"/>
                        </a:lnTo>
                        <a:lnTo>
                          <a:pt x="1582" y="312"/>
                        </a:lnTo>
                        <a:lnTo>
                          <a:pt x="1571" y="290"/>
                        </a:lnTo>
                        <a:lnTo>
                          <a:pt x="1549" y="268"/>
                        </a:lnTo>
                        <a:lnTo>
                          <a:pt x="1527" y="246"/>
                        </a:lnTo>
                        <a:lnTo>
                          <a:pt x="1516" y="223"/>
                        </a:lnTo>
                        <a:lnTo>
                          <a:pt x="1493" y="201"/>
                        </a:lnTo>
                        <a:lnTo>
                          <a:pt x="1460" y="179"/>
                        </a:lnTo>
                        <a:lnTo>
                          <a:pt x="1438" y="168"/>
                        </a:lnTo>
                        <a:lnTo>
                          <a:pt x="1415" y="145"/>
                        </a:lnTo>
                        <a:lnTo>
                          <a:pt x="1393" y="134"/>
                        </a:lnTo>
                        <a:lnTo>
                          <a:pt x="1360" y="123"/>
                        </a:lnTo>
                        <a:lnTo>
                          <a:pt x="1337" y="112"/>
                        </a:lnTo>
                        <a:lnTo>
                          <a:pt x="1315" y="101"/>
                        </a:lnTo>
                        <a:lnTo>
                          <a:pt x="1293" y="90"/>
                        </a:lnTo>
                        <a:lnTo>
                          <a:pt x="1259" y="90"/>
                        </a:lnTo>
                        <a:lnTo>
                          <a:pt x="1237" y="90"/>
                        </a:lnTo>
                        <a:lnTo>
                          <a:pt x="1226" y="78"/>
                        </a:lnTo>
                        <a:lnTo>
                          <a:pt x="1203" y="78"/>
                        </a:lnTo>
                        <a:lnTo>
                          <a:pt x="1192" y="90"/>
                        </a:lnTo>
                        <a:lnTo>
                          <a:pt x="1170" y="90"/>
                        </a:lnTo>
                        <a:lnTo>
                          <a:pt x="1159" y="90"/>
                        </a:lnTo>
                        <a:lnTo>
                          <a:pt x="1137" y="90"/>
                        </a:lnTo>
                        <a:lnTo>
                          <a:pt x="1125" y="101"/>
                        </a:lnTo>
                        <a:lnTo>
                          <a:pt x="1103" y="101"/>
                        </a:lnTo>
                        <a:lnTo>
                          <a:pt x="1081" y="112"/>
                        </a:lnTo>
                        <a:lnTo>
                          <a:pt x="1070" y="112"/>
                        </a:lnTo>
                        <a:lnTo>
                          <a:pt x="1047" y="112"/>
                        </a:lnTo>
                        <a:lnTo>
                          <a:pt x="1036" y="123"/>
                        </a:lnTo>
                        <a:lnTo>
                          <a:pt x="1014" y="123"/>
                        </a:lnTo>
                        <a:lnTo>
                          <a:pt x="1003" y="134"/>
                        </a:lnTo>
                        <a:lnTo>
                          <a:pt x="981" y="134"/>
                        </a:lnTo>
                        <a:lnTo>
                          <a:pt x="969" y="145"/>
                        </a:lnTo>
                        <a:lnTo>
                          <a:pt x="969" y="101"/>
                        </a:lnTo>
                        <a:lnTo>
                          <a:pt x="981" y="67"/>
                        </a:lnTo>
                        <a:lnTo>
                          <a:pt x="992" y="34"/>
                        </a:lnTo>
                        <a:lnTo>
                          <a:pt x="1003" y="0"/>
                        </a:lnTo>
                        <a:lnTo>
                          <a:pt x="969" y="23"/>
                        </a:lnTo>
                        <a:lnTo>
                          <a:pt x="947" y="34"/>
                        </a:lnTo>
                        <a:lnTo>
                          <a:pt x="925" y="56"/>
                        </a:lnTo>
                        <a:lnTo>
                          <a:pt x="903" y="67"/>
                        </a:lnTo>
                        <a:lnTo>
                          <a:pt x="891" y="90"/>
                        </a:lnTo>
                        <a:lnTo>
                          <a:pt x="880" y="112"/>
                        </a:lnTo>
                        <a:lnTo>
                          <a:pt x="869" y="134"/>
                        </a:lnTo>
                        <a:lnTo>
                          <a:pt x="858" y="156"/>
                        </a:lnTo>
                        <a:lnTo>
                          <a:pt x="847" y="145"/>
                        </a:lnTo>
                        <a:lnTo>
                          <a:pt x="836" y="145"/>
                        </a:lnTo>
                        <a:lnTo>
                          <a:pt x="813" y="134"/>
                        </a:lnTo>
                        <a:lnTo>
                          <a:pt x="791" y="123"/>
                        </a:lnTo>
                        <a:lnTo>
                          <a:pt x="780" y="123"/>
                        </a:lnTo>
                        <a:lnTo>
                          <a:pt x="758" y="123"/>
                        </a:lnTo>
                        <a:lnTo>
                          <a:pt x="747" y="112"/>
                        </a:lnTo>
                        <a:lnTo>
                          <a:pt x="735" y="112"/>
                        </a:lnTo>
                        <a:lnTo>
                          <a:pt x="735" y="123"/>
                        </a:lnTo>
                        <a:lnTo>
                          <a:pt x="747" y="134"/>
                        </a:lnTo>
                        <a:lnTo>
                          <a:pt x="758" y="134"/>
                        </a:lnTo>
                        <a:lnTo>
                          <a:pt x="758" y="145"/>
                        </a:lnTo>
                        <a:lnTo>
                          <a:pt x="769" y="156"/>
                        </a:lnTo>
                        <a:lnTo>
                          <a:pt x="780" y="168"/>
                        </a:lnTo>
                        <a:lnTo>
                          <a:pt x="791" y="179"/>
                        </a:lnTo>
                        <a:lnTo>
                          <a:pt x="769" y="179"/>
                        </a:lnTo>
                        <a:lnTo>
                          <a:pt x="758" y="168"/>
                        </a:lnTo>
                        <a:lnTo>
                          <a:pt x="747" y="168"/>
                        </a:lnTo>
                        <a:lnTo>
                          <a:pt x="735" y="156"/>
                        </a:lnTo>
                        <a:lnTo>
                          <a:pt x="724" y="156"/>
                        </a:lnTo>
                        <a:lnTo>
                          <a:pt x="702" y="156"/>
                        </a:lnTo>
                        <a:lnTo>
                          <a:pt x="691" y="145"/>
                        </a:lnTo>
                        <a:lnTo>
                          <a:pt x="680" y="145"/>
                        </a:lnTo>
                        <a:lnTo>
                          <a:pt x="669" y="145"/>
                        </a:lnTo>
                        <a:lnTo>
                          <a:pt x="657" y="134"/>
                        </a:lnTo>
                        <a:lnTo>
                          <a:pt x="635" y="134"/>
                        </a:lnTo>
                        <a:lnTo>
                          <a:pt x="624" y="134"/>
                        </a:lnTo>
                        <a:lnTo>
                          <a:pt x="613" y="134"/>
                        </a:lnTo>
                        <a:lnTo>
                          <a:pt x="591" y="123"/>
                        </a:lnTo>
                        <a:lnTo>
                          <a:pt x="579" y="123"/>
                        </a:lnTo>
                        <a:lnTo>
                          <a:pt x="568" y="123"/>
                        </a:lnTo>
                        <a:lnTo>
                          <a:pt x="579" y="134"/>
                        </a:lnTo>
                        <a:lnTo>
                          <a:pt x="591" y="145"/>
                        </a:lnTo>
                        <a:lnTo>
                          <a:pt x="613" y="168"/>
                        </a:lnTo>
                        <a:lnTo>
                          <a:pt x="624" y="179"/>
                        </a:lnTo>
                        <a:lnTo>
                          <a:pt x="635" y="190"/>
                        </a:lnTo>
                        <a:lnTo>
                          <a:pt x="657" y="201"/>
                        </a:lnTo>
                        <a:lnTo>
                          <a:pt x="669" y="212"/>
                        </a:lnTo>
                        <a:lnTo>
                          <a:pt x="680" y="223"/>
                        </a:lnTo>
                        <a:close/>
                      </a:path>
                    </a:pathLst>
                  </a:custGeom>
                  <a:solidFill>
                    <a:srgbClr val="6b4c1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1445"/>
                  <p:cNvSpPr/>
                  <p:nvPr/>
                </p:nvSpPr>
                <p:spPr>
                  <a:xfrm rot="111600">
                    <a:off x="5722920" y="1285560"/>
                    <a:ext cx="73080" cy="59400"/>
                  </a:xfrm>
                  <a:custGeom>
                    <a:avLst/>
                    <a:gdLst>
                      <a:gd name="textAreaLeft" fmla="*/ 0 w 73080"/>
                      <a:gd name="textAreaRight" fmla="*/ 73440 w 73080"/>
                      <a:gd name="textAreaTop" fmla="*/ 0 h 59400"/>
                      <a:gd name="textAreaBottom" fmla="*/ 59760 h 59400"/>
                    </a:gdLst>
                    <a:ahLst/>
                    <a:rect l="textAreaLeft" t="textAreaTop" r="textAreaRight" b="textAreaBottom"/>
                    <a:pathLst>
                      <a:path w="669" h="368">
                        <a:moveTo>
                          <a:pt x="22" y="368"/>
                        </a:moveTo>
                        <a:lnTo>
                          <a:pt x="22" y="368"/>
                        </a:lnTo>
                        <a:lnTo>
                          <a:pt x="45" y="323"/>
                        </a:lnTo>
                        <a:lnTo>
                          <a:pt x="67" y="279"/>
                        </a:lnTo>
                        <a:lnTo>
                          <a:pt x="89" y="245"/>
                        </a:lnTo>
                        <a:lnTo>
                          <a:pt x="123" y="212"/>
                        </a:lnTo>
                        <a:lnTo>
                          <a:pt x="156" y="179"/>
                        </a:lnTo>
                        <a:lnTo>
                          <a:pt x="201" y="145"/>
                        </a:lnTo>
                        <a:lnTo>
                          <a:pt x="245" y="123"/>
                        </a:lnTo>
                        <a:lnTo>
                          <a:pt x="290" y="89"/>
                        </a:lnTo>
                        <a:lnTo>
                          <a:pt x="334" y="67"/>
                        </a:lnTo>
                        <a:lnTo>
                          <a:pt x="379" y="56"/>
                        </a:lnTo>
                        <a:lnTo>
                          <a:pt x="435" y="45"/>
                        </a:lnTo>
                        <a:lnTo>
                          <a:pt x="479" y="34"/>
                        </a:lnTo>
                        <a:lnTo>
                          <a:pt x="535" y="22"/>
                        </a:lnTo>
                        <a:lnTo>
                          <a:pt x="580" y="22"/>
                        </a:lnTo>
                        <a:lnTo>
                          <a:pt x="624" y="22"/>
                        </a:lnTo>
                        <a:lnTo>
                          <a:pt x="669" y="22"/>
                        </a:lnTo>
                        <a:lnTo>
                          <a:pt x="669" y="11"/>
                        </a:lnTo>
                        <a:lnTo>
                          <a:pt x="624" y="0"/>
                        </a:lnTo>
                        <a:lnTo>
                          <a:pt x="580" y="0"/>
                        </a:lnTo>
                        <a:lnTo>
                          <a:pt x="524" y="0"/>
                        </a:lnTo>
                        <a:lnTo>
                          <a:pt x="479" y="11"/>
                        </a:lnTo>
                        <a:lnTo>
                          <a:pt x="423" y="22"/>
                        </a:lnTo>
                        <a:lnTo>
                          <a:pt x="379" y="34"/>
                        </a:lnTo>
                        <a:lnTo>
                          <a:pt x="323" y="56"/>
                        </a:lnTo>
                        <a:lnTo>
                          <a:pt x="279" y="67"/>
                        </a:lnTo>
                        <a:lnTo>
                          <a:pt x="223" y="100"/>
                        </a:lnTo>
                        <a:lnTo>
                          <a:pt x="178" y="123"/>
                        </a:lnTo>
                        <a:lnTo>
                          <a:pt x="145" y="156"/>
                        </a:lnTo>
                        <a:lnTo>
                          <a:pt x="100" y="190"/>
                        </a:lnTo>
                        <a:lnTo>
                          <a:pt x="67" y="234"/>
                        </a:lnTo>
                        <a:lnTo>
                          <a:pt x="45" y="268"/>
                        </a:lnTo>
                        <a:lnTo>
                          <a:pt x="22" y="312"/>
                        </a:lnTo>
                        <a:lnTo>
                          <a:pt x="0" y="357"/>
                        </a:lnTo>
                        <a:lnTo>
                          <a:pt x="22" y="368"/>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1444"/>
                  <p:cNvSpPr/>
                  <p:nvPr/>
                </p:nvSpPr>
                <p:spPr>
                  <a:xfrm rot="111600">
                    <a:off x="5718240" y="1342080"/>
                    <a:ext cx="10800" cy="86400"/>
                  </a:xfrm>
                  <a:custGeom>
                    <a:avLst/>
                    <a:gdLst>
                      <a:gd name="textAreaLeft" fmla="*/ 0 w 10800"/>
                      <a:gd name="textAreaRight" fmla="*/ 11160 w 10800"/>
                      <a:gd name="textAreaTop" fmla="*/ 0 h 86400"/>
                      <a:gd name="textAreaBottom" fmla="*/ 86760 h 86400"/>
                    </a:gdLst>
                    <a:ahLst/>
                    <a:rect l="textAreaLeft" t="textAreaTop" r="textAreaRight" b="textAreaBottom"/>
                    <a:pathLst>
                      <a:path w="100" h="535">
                        <a:moveTo>
                          <a:pt x="100" y="513"/>
                        </a:moveTo>
                        <a:lnTo>
                          <a:pt x="100" y="513"/>
                        </a:lnTo>
                        <a:lnTo>
                          <a:pt x="67" y="457"/>
                        </a:lnTo>
                        <a:lnTo>
                          <a:pt x="44" y="401"/>
                        </a:lnTo>
                        <a:lnTo>
                          <a:pt x="33" y="334"/>
                        </a:lnTo>
                        <a:lnTo>
                          <a:pt x="22" y="267"/>
                        </a:lnTo>
                        <a:lnTo>
                          <a:pt x="22" y="200"/>
                        </a:lnTo>
                        <a:lnTo>
                          <a:pt x="22" y="134"/>
                        </a:lnTo>
                        <a:lnTo>
                          <a:pt x="33" y="67"/>
                        </a:lnTo>
                        <a:lnTo>
                          <a:pt x="44" y="11"/>
                        </a:lnTo>
                        <a:lnTo>
                          <a:pt x="22" y="0"/>
                        </a:lnTo>
                        <a:lnTo>
                          <a:pt x="11" y="67"/>
                        </a:lnTo>
                        <a:lnTo>
                          <a:pt x="0" y="122"/>
                        </a:lnTo>
                        <a:lnTo>
                          <a:pt x="0" y="200"/>
                        </a:lnTo>
                        <a:lnTo>
                          <a:pt x="0" y="267"/>
                        </a:lnTo>
                        <a:lnTo>
                          <a:pt x="0" y="334"/>
                        </a:lnTo>
                        <a:lnTo>
                          <a:pt x="22" y="401"/>
                        </a:lnTo>
                        <a:lnTo>
                          <a:pt x="44" y="468"/>
                        </a:lnTo>
                        <a:lnTo>
                          <a:pt x="89" y="524"/>
                        </a:lnTo>
                        <a:lnTo>
                          <a:pt x="78" y="535"/>
                        </a:lnTo>
                        <a:lnTo>
                          <a:pt x="100" y="513"/>
                        </a:lnTo>
                        <a:close/>
                      </a:path>
                    </a:pathLst>
                  </a:custGeom>
                  <a:solidFill>
                    <a:srgbClr val="000000"/>
                  </a:solidFill>
                  <a:ln w="0">
                    <a:noFill/>
                  </a:ln>
                </p:spPr>
                <p:style>
                  <a:lnRef idx="0"/>
                  <a:fillRef idx="0"/>
                  <a:effectRef idx="0"/>
                  <a:fontRef idx="minor"/>
                </p:style>
                <p:txBody>
                  <a:bodyPr lIns="90000" rIns="90000" tIns="39960" bIns="39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1443"/>
                  <p:cNvSpPr/>
                  <p:nvPr/>
                </p:nvSpPr>
                <p:spPr>
                  <a:xfrm rot="111600">
                    <a:off x="5725080" y="1419840"/>
                    <a:ext cx="21600" cy="10800"/>
                  </a:xfrm>
                  <a:custGeom>
                    <a:avLst/>
                    <a:gdLst>
                      <a:gd name="textAreaLeft" fmla="*/ 0 w 21600"/>
                      <a:gd name="textAreaRight" fmla="*/ 21960 w 21600"/>
                      <a:gd name="textAreaTop" fmla="*/ 0 h 10800"/>
                      <a:gd name="textAreaBottom" fmla="*/ 11160 h 10800"/>
                    </a:gdLst>
                    <a:ahLst/>
                    <a:rect l="textAreaLeft" t="textAreaTop" r="textAreaRight" b="textAreaBottom"/>
                    <a:pathLst>
                      <a:path w="200" h="67">
                        <a:moveTo>
                          <a:pt x="200" y="11"/>
                        </a:moveTo>
                        <a:lnTo>
                          <a:pt x="200" y="11"/>
                        </a:lnTo>
                        <a:lnTo>
                          <a:pt x="178" y="0"/>
                        </a:lnTo>
                        <a:lnTo>
                          <a:pt x="156" y="11"/>
                        </a:lnTo>
                        <a:lnTo>
                          <a:pt x="122" y="22"/>
                        </a:lnTo>
                        <a:lnTo>
                          <a:pt x="100" y="34"/>
                        </a:lnTo>
                        <a:lnTo>
                          <a:pt x="67" y="34"/>
                        </a:lnTo>
                        <a:lnTo>
                          <a:pt x="44" y="45"/>
                        </a:lnTo>
                        <a:lnTo>
                          <a:pt x="33" y="45"/>
                        </a:lnTo>
                        <a:lnTo>
                          <a:pt x="22" y="34"/>
                        </a:lnTo>
                        <a:lnTo>
                          <a:pt x="0" y="56"/>
                        </a:lnTo>
                        <a:lnTo>
                          <a:pt x="22" y="67"/>
                        </a:lnTo>
                        <a:lnTo>
                          <a:pt x="55" y="67"/>
                        </a:lnTo>
                        <a:lnTo>
                          <a:pt x="78" y="56"/>
                        </a:lnTo>
                        <a:lnTo>
                          <a:pt x="111" y="56"/>
                        </a:lnTo>
                        <a:lnTo>
                          <a:pt x="133" y="45"/>
                        </a:lnTo>
                        <a:lnTo>
                          <a:pt x="167" y="34"/>
                        </a:lnTo>
                        <a:lnTo>
                          <a:pt x="189" y="22"/>
                        </a:lnTo>
                        <a:lnTo>
                          <a:pt x="200" y="11"/>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1442"/>
                  <p:cNvSpPr/>
                  <p:nvPr/>
                </p:nvSpPr>
                <p:spPr>
                  <a:xfrm rot="111600">
                    <a:off x="5745600" y="1422360"/>
                    <a:ext cx="10800" cy="37800"/>
                  </a:xfrm>
                  <a:custGeom>
                    <a:avLst/>
                    <a:gdLst>
                      <a:gd name="textAreaLeft" fmla="*/ 0 w 10800"/>
                      <a:gd name="textAreaRight" fmla="*/ 11160 w 10800"/>
                      <a:gd name="textAreaTop" fmla="*/ 0 h 37800"/>
                      <a:gd name="textAreaBottom" fmla="*/ 38160 h 37800"/>
                    </a:gdLst>
                    <a:ahLst/>
                    <a:rect l="textAreaLeft" t="textAreaTop" r="textAreaRight" b="textAreaBottom"/>
                    <a:pathLst>
                      <a:path w="100" h="234">
                        <a:moveTo>
                          <a:pt x="89" y="212"/>
                        </a:moveTo>
                        <a:lnTo>
                          <a:pt x="100" y="223"/>
                        </a:lnTo>
                        <a:lnTo>
                          <a:pt x="100" y="201"/>
                        </a:lnTo>
                        <a:lnTo>
                          <a:pt x="89" y="179"/>
                        </a:lnTo>
                        <a:lnTo>
                          <a:pt x="78" y="145"/>
                        </a:lnTo>
                        <a:lnTo>
                          <a:pt x="67" y="112"/>
                        </a:lnTo>
                        <a:lnTo>
                          <a:pt x="56" y="78"/>
                        </a:lnTo>
                        <a:lnTo>
                          <a:pt x="45" y="45"/>
                        </a:lnTo>
                        <a:lnTo>
                          <a:pt x="34" y="11"/>
                        </a:lnTo>
                        <a:lnTo>
                          <a:pt x="11" y="0"/>
                        </a:lnTo>
                        <a:lnTo>
                          <a:pt x="0" y="11"/>
                        </a:lnTo>
                        <a:lnTo>
                          <a:pt x="22" y="23"/>
                        </a:lnTo>
                        <a:lnTo>
                          <a:pt x="34" y="45"/>
                        </a:lnTo>
                        <a:lnTo>
                          <a:pt x="45" y="78"/>
                        </a:lnTo>
                        <a:lnTo>
                          <a:pt x="56" y="112"/>
                        </a:lnTo>
                        <a:lnTo>
                          <a:pt x="56" y="145"/>
                        </a:lnTo>
                        <a:lnTo>
                          <a:pt x="67" y="179"/>
                        </a:lnTo>
                        <a:lnTo>
                          <a:pt x="78" y="212"/>
                        </a:lnTo>
                        <a:lnTo>
                          <a:pt x="89" y="234"/>
                        </a:lnTo>
                        <a:lnTo>
                          <a:pt x="100" y="234"/>
                        </a:lnTo>
                        <a:lnTo>
                          <a:pt x="89" y="212"/>
                        </a:lnTo>
                        <a:close/>
                      </a:path>
                    </a:pathLst>
                  </a:custGeom>
                  <a:solidFill>
                    <a:srgbClr val="00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1441"/>
                  <p:cNvSpPr/>
                  <p:nvPr/>
                </p:nvSpPr>
                <p:spPr>
                  <a:xfrm rot="111600">
                    <a:off x="5755320" y="1411560"/>
                    <a:ext cx="13320" cy="48600"/>
                  </a:xfrm>
                  <a:custGeom>
                    <a:avLst/>
                    <a:gdLst>
                      <a:gd name="textAreaLeft" fmla="*/ 0 w 13320"/>
                      <a:gd name="textAreaRight" fmla="*/ 13680 w 13320"/>
                      <a:gd name="textAreaTop" fmla="*/ 0 h 48600"/>
                      <a:gd name="textAreaBottom" fmla="*/ 48960 h 48600"/>
                    </a:gdLst>
                    <a:ahLst/>
                    <a:rect l="textAreaLeft" t="textAreaTop" r="textAreaRight" b="textAreaBottom"/>
                    <a:pathLst>
                      <a:path w="123" h="301">
                        <a:moveTo>
                          <a:pt x="101" y="0"/>
                        </a:moveTo>
                        <a:lnTo>
                          <a:pt x="101" y="12"/>
                        </a:lnTo>
                        <a:lnTo>
                          <a:pt x="101" y="45"/>
                        </a:lnTo>
                        <a:lnTo>
                          <a:pt x="101" y="78"/>
                        </a:lnTo>
                        <a:lnTo>
                          <a:pt x="101" y="123"/>
                        </a:lnTo>
                        <a:lnTo>
                          <a:pt x="89" y="156"/>
                        </a:lnTo>
                        <a:lnTo>
                          <a:pt x="78" y="190"/>
                        </a:lnTo>
                        <a:lnTo>
                          <a:pt x="56" y="223"/>
                        </a:lnTo>
                        <a:lnTo>
                          <a:pt x="34" y="257"/>
                        </a:lnTo>
                        <a:lnTo>
                          <a:pt x="0" y="279"/>
                        </a:lnTo>
                        <a:lnTo>
                          <a:pt x="11" y="301"/>
                        </a:lnTo>
                        <a:lnTo>
                          <a:pt x="45" y="268"/>
                        </a:lnTo>
                        <a:lnTo>
                          <a:pt x="78" y="246"/>
                        </a:lnTo>
                        <a:lnTo>
                          <a:pt x="101" y="201"/>
                        </a:lnTo>
                        <a:lnTo>
                          <a:pt x="112" y="168"/>
                        </a:lnTo>
                        <a:lnTo>
                          <a:pt x="123" y="123"/>
                        </a:lnTo>
                        <a:lnTo>
                          <a:pt x="123" y="78"/>
                        </a:lnTo>
                        <a:lnTo>
                          <a:pt x="123" y="45"/>
                        </a:lnTo>
                        <a:lnTo>
                          <a:pt x="123" y="0"/>
                        </a:lnTo>
                        <a:lnTo>
                          <a:pt x="123" y="12"/>
                        </a:lnTo>
                        <a:lnTo>
                          <a:pt x="101" y="0"/>
                        </a:lnTo>
                        <a:close/>
                      </a:path>
                    </a:pathLst>
                  </a:custGeom>
                  <a:solidFill>
                    <a:srgbClr val="00000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1440"/>
                  <p:cNvSpPr/>
                  <p:nvPr/>
                </p:nvSpPr>
                <p:spPr>
                  <a:xfrm rot="111600">
                    <a:off x="5767920" y="1392480"/>
                    <a:ext cx="10800" cy="21600"/>
                  </a:xfrm>
                  <a:custGeom>
                    <a:avLst/>
                    <a:gdLst>
                      <a:gd name="textAreaLeft" fmla="*/ 0 w 10800"/>
                      <a:gd name="textAreaRight" fmla="*/ 11160 w 10800"/>
                      <a:gd name="textAreaTop" fmla="*/ 0 h 21600"/>
                      <a:gd name="textAreaBottom" fmla="*/ 21960 h 21600"/>
                    </a:gdLst>
                    <a:ahLst/>
                    <a:rect l="textAreaLeft" t="textAreaTop" r="textAreaRight" b="textAreaBottom"/>
                    <a:pathLst>
                      <a:path w="100" h="134">
                        <a:moveTo>
                          <a:pt x="89" y="0"/>
                        </a:moveTo>
                        <a:lnTo>
                          <a:pt x="89" y="0"/>
                        </a:lnTo>
                        <a:lnTo>
                          <a:pt x="0" y="122"/>
                        </a:lnTo>
                        <a:lnTo>
                          <a:pt x="22" y="134"/>
                        </a:lnTo>
                        <a:lnTo>
                          <a:pt x="100" y="11"/>
                        </a:lnTo>
                        <a:lnTo>
                          <a:pt x="89" y="0"/>
                        </a:lnTo>
                        <a:close/>
                      </a:path>
                    </a:pathLst>
                  </a:custGeom>
                  <a:solidFill>
                    <a:srgbClr val="000000"/>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1439"/>
                  <p:cNvSpPr/>
                  <p:nvPr/>
                </p:nvSpPr>
                <p:spPr>
                  <a:xfrm rot="111600">
                    <a:off x="5778360" y="1358280"/>
                    <a:ext cx="15840" cy="36000"/>
                  </a:xfrm>
                  <a:custGeom>
                    <a:avLst/>
                    <a:gdLst>
                      <a:gd name="textAreaLeft" fmla="*/ 0 w 15840"/>
                      <a:gd name="textAreaRight" fmla="*/ 16200 w 15840"/>
                      <a:gd name="textAreaTop" fmla="*/ 0 h 36000"/>
                      <a:gd name="textAreaBottom" fmla="*/ 36360 h 36000"/>
                    </a:gdLst>
                    <a:ahLst/>
                    <a:rect l="textAreaLeft" t="textAreaTop" r="textAreaRight" b="textAreaBottom"/>
                    <a:pathLst>
                      <a:path w="145" h="223">
                        <a:moveTo>
                          <a:pt x="122" y="0"/>
                        </a:moveTo>
                        <a:lnTo>
                          <a:pt x="122" y="0"/>
                        </a:lnTo>
                        <a:lnTo>
                          <a:pt x="111" y="22"/>
                        </a:lnTo>
                        <a:lnTo>
                          <a:pt x="89" y="56"/>
                        </a:lnTo>
                        <a:lnTo>
                          <a:pt x="78" y="78"/>
                        </a:lnTo>
                        <a:lnTo>
                          <a:pt x="56" y="111"/>
                        </a:lnTo>
                        <a:lnTo>
                          <a:pt x="44" y="134"/>
                        </a:lnTo>
                        <a:lnTo>
                          <a:pt x="33" y="167"/>
                        </a:lnTo>
                        <a:lnTo>
                          <a:pt x="11" y="189"/>
                        </a:lnTo>
                        <a:lnTo>
                          <a:pt x="0" y="212"/>
                        </a:lnTo>
                        <a:lnTo>
                          <a:pt x="11" y="223"/>
                        </a:lnTo>
                        <a:lnTo>
                          <a:pt x="33" y="201"/>
                        </a:lnTo>
                        <a:lnTo>
                          <a:pt x="44" y="178"/>
                        </a:lnTo>
                        <a:lnTo>
                          <a:pt x="67" y="145"/>
                        </a:lnTo>
                        <a:lnTo>
                          <a:pt x="78" y="123"/>
                        </a:lnTo>
                        <a:lnTo>
                          <a:pt x="100" y="89"/>
                        </a:lnTo>
                        <a:lnTo>
                          <a:pt x="111" y="67"/>
                        </a:lnTo>
                        <a:lnTo>
                          <a:pt x="134" y="33"/>
                        </a:lnTo>
                        <a:lnTo>
                          <a:pt x="145" y="11"/>
                        </a:lnTo>
                        <a:lnTo>
                          <a:pt x="122" y="0"/>
                        </a:lnTo>
                        <a:close/>
                      </a:path>
                    </a:pathLst>
                  </a:custGeom>
                  <a:solidFill>
                    <a:srgbClr val="0000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1438"/>
                  <p:cNvSpPr/>
                  <p:nvPr/>
                </p:nvSpPr>
                <p:spPr>
                  <a:xfrm rot="111600">
                    <a:off x="5792760" y="1326240"/>
                    <a:ext cx="13320" cy="34200"/>
                  </a:xfrm>
                  <a:custGeom>
                    <a:avLst/>
                    <a:gdLst>
                      <a:gd name="textAreaLeft" fmla="*/ 0 w 13320"/>
                      <a:gd name="textAreaRight" fmla="*/ 13680 w 13320"/>
                      <a:gd name="textAreaTop" fmla="*/ 0 h 34200"/>
                      <a:gd name="textAreaBottom" fmla="*/ 34560 h 34200"/>
                    </a:gdLst>
                    <a:ahLst/>
                    <a:rect l="textAreaLeft" t="textAreaTop" r="textAreaRight" b="textAreaBottom"/>
                    <a:pathLst>
                      <a:path w="123" h="212">
                        <a:moveTo>
                          <a:pt x="123" y="0"/>
                        </a:moveTo>
                        <a:lnTo>
                          <a:pt x="101" y="0"/>
                        </a:lnTo>
                        <a:lnTo>
                          <a:pt x="90" y="23"/>
                        </a:lnTo>
                        <a:lnTo>
                          <a:pt x="78" y="56"/>
                        </a:lnTo>
                        <a:lnTo>
                          <a:pt x="67" y="78"/>
                        </a:lnTo>
                        <a:lnTo>
                          <a:pt x="56" y="101"/>
                        </a:lnTo>
                        <a:lnTo>
                          <a:pt x="45" y="123"/>
                        </a:lnTo>
                        <a:lnTo>
                          <a:pt x="34" y="156"/>
                        </a:lnTo>
                        <a:lnTo>
                          <a:pt x="23" y="179"/>
                        </a:lnTo>
                        <a:lnTo>
                          <a:pt x="0" y="201"/>
                        </a:lnTo>
                        <a:lnTo>
                          <a:pt x="23" y="212"/>
                        </a:lnTo>
                        <a:lnTo>
                          <a:pt x="34" y="190"/>
                        </a:lnTo>
                        <a:lnTo>
                          <a:pt x="56" y="168"/>
                        </a:lnTo>
                        <a:lnTo>
                          <a:pt x="67" y="134"/>
                        </a:lnTo>
                        <a:lnTo>
                          <a:pt x="78" y="112"/>
                        </a:lnTo>
                        <a:lnTo>
                          <a:pt x="90" y="90"/>
                        </a:lnTo>
                        <a:lnTo>
                          <a:pt x="101" y="67"/>
                        </a:lnTo>
                        <a:lnTo>
                          <a:pt x="112" y="34"/>
                        </a:lnTo>
                        <a:lnTo>
                          <a:pt x="123" y="12"/>
                        </a:lnTo>
                        <a:lnTo>
                          <a:pt x="101" y="0"/>
                        </a:lnTo>
                        <a:lnTo>
                          <a:pt x="123" y="0"/>
                        </a:lnTo>
                        <a:close/>
                      </a:path>
                    </a:pathLst>
                  </a:custGeom>
                  <a:solidFill>
                    <a:srgbClr val="000000"/>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1437"/>
                  <p:cNvSpPr/>
                  <p:nvPr/>
                </p:nvSpPr>
                <p:spPr>
                  <a:xfrm rot="111600">
                    <a:off x="5803920" y="1326600"/>
                    <a:ext cx="3240" cy="28800"/>
                  </a:xfrm>
                  <a:custGeom>
                    <a:avLst/>
                    <a:gdLst>
                      <a:gd name="textAreaLeft" fmla="*/ 0 w 3240"/>
                      <a:gd name="textAreaRight" fmla="*/ 3600 w 3240"/>
                      <a:gd name="textAreaTop" fmla="*/ 0 h 28800"/>
                      <a:gd name="textAreaBottom" fmla="*/ 29160 h 28800"/>
                    </a:gdLst>
                    <a:ahLst/>
                    <a:rect l="textAreaLeft" t="textAreaTop" r="textAreaRight" b="textAreaBottom"/>
                    <a:pathLst>
                      <a:path w="33" h="179">
                        <a:moveTo>
                          <a:pt x="11" y="156"/>
                        </a:moveTo>
                        <a:lnTo>
                          <a:pt x="33" y="168"/>
                        </a:lnTo>
                        <a:lnTo>
                          <a:pt x="22" y="0"/>
                        </a:lnTo>
                        <a:lnTo>
                          <a:pt x="0" y="0"/>
                        </a:lnTo>
                        <a:lnTo>
                          <a:pt x="11" y="168"/>
                        </a:lnTo>
                        <a:lnTo>
                          <a:pt x="22" y="179"/>
                        </a:lnTo>
                        <a:lnTo>
                          <a:pt x="11" y="156"/>
                        </a:lnTo>
                        <a:close/>
                      </a:path>
                    </a:pathLst>
                  </a:custGeom>
                  <a:solidFill>
                    <a:srgbClr val="000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1436"/>
                  <p:cNvSpPr/>
                  <p:nvPr/>
                </p:nvSpPr>
                <p:spPr>
                  <a:xfrm rot="111600">
                    <a:off x="5805000" y="1323000"/>
                    <a:ext cx="13320" cy="32400"/>
                  </a:xfrm>
                  <a:custGeom>
                    <a:avLst/>
                    <a:gdLst>
                      <a:gd name="textAreaLeft" fmla="*/ 0 w 13320"/>
                      <a:gd name="textAreaRight" fmla="*/ 13680 w 13320"/>
                      <a:gd name="textAreaTop" fmla="*/ 0 h 32400"/>
                      <a:gd name="textAreaBottom" fmla="*/ 32760 h 32400"/>
                    </a:gdLst>
                    <a:ahLst/>
                    <a:rect l="textAreaLeft" t="textAreaTop" r="textAreaRight" b="textAreaBottom"/>
                    <a:pathLst>
                      <a:path w="122" h="201">
                        <a:moveTo>
                          <a:pt x="111" y="0"/>
                        </a:moveTo>
                        <a:lnTo>
                          <a:pt x="89" y="0"/>
                        </a:lnTo>
                        <a:lnTo>
                          <a:pt x="89" y="22"/>
                        </a:lnTo>
                        <a:lnTo>
                          <a:pt x="89" y="56"/>
                        </a:lnTo>
                        <a:lnTo>
                          <a:pt x="78" y="78"/>
                        </a:lnTo>
                        <a:lnTo>
                          <a:pt x="67" y="100"/>
                        </a:lnTo>
                        <a:lnTo>
                          <a:pt x="56" y="123"/>
                        </a:lnTo>
                        <a:lnTo>
                          <a:pt x="33" y="145"/>
                        </a:lnTo>
                        <a:lnTo>
                          <a:pt x="22" y="167"/>
                        </a:lnTo>
                        <a:lnTo>
                          <a:pt x="0" y="178"/>
                        </a:lnTo>
                        <a:lnTo>
                          <a:pt x="11" y="201"/>
                        </a:lnTo>
                        <a:lnTo>
                          <a:pt x="33" y="178"/>
                        </a:lnTo>
                        <a:lnTo>
                          <a:pt x="56" y="167"/>
                        </a:lnTo>
                        <a:lnTo>
                          <a:pt x="67" y="134"/>
                        </a:lnTo>
                        <a:lnTo>
                          <a:pt x="89" y="112"/>
                        </a:lnTo>
                        <a:lnTo>
                          <a:pt x="100" y="89"/>
                        </a:lnTo>
                        <a:lnTo>
                          <a:pt x="111" y="56"/>
                        </a:lnTo>
                        <a:lnTo>
                          <a:pt x="122" y="22"/>
                        </a:lnTo>
                        <a:lnTo>
                          <a:pt x="122" y="0"/>
                        </a:lnTo>
                        <a:lnTo>
                          <a:pt x="100" y="0"/>
                        </a:lnTo>
                        <a:lnTo>
                          <a:pt x="111" y="0"/>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1435"/>
                  <p:cNvSpPr/>
                  <p:nvPr/>
                </p:nvSpPr>
                <p:spPr>
                  <a:xfrm rot="111600">
                    <a:off x="5816160" y="1323360"/>
                    <a:ext cx="8280" cy="21600"/>
                  </a:xfrm>
                  <a:custGeom>
                    <a:avLst/>
                    <a:gdLst>
                      <a:gd name="textAreaLeft" fmla="*/ 0 w 8280"/>
                      <a:gd name="textAreaRight" fmla="*/ 8640 w 8280"/>
                      <a:gd name="textAreaTop" fmla="*/ 0 h 21600"/>
                      <a:gd name="textAreaBottom" fmla="*/ 21960 h 21600"/>
                    </a:gdLst>
                    <a:ahLst/>
                    <a:rect l="textAreaLeft" t="textAreaTop" r="textAreaRight" b="textAreaBottom"/>
                    <a:pathLst>
                      <a:path w="78" h="134">
                        <a:moveTo>
                          <a:pt x="78" y="123"/>
                        </a:moveTo>
                        <a:lnTo>
                          <a:pt x="78" y="123"/>
                        </a:lnTo>
                        <a:lnTo>
                          <a:pt x="11" y="0"/>
                        </a:lnTo>
                        <a:lnTo>
                          <a:pt x="0" y="0"/>
                        </a:lnTo>
                        <a:lnTo>
                          <a:pt x="56" y="134"/>
                        </a:lnTo>
                        <a:lnTo>
                          <a:pt x="78" y="123"/>
                        </a:lnTo>
                        <a:close/>
                      </a:path>
                    </a:pathLst>
                  </a:custGeom>
                  <a:solidFill>
                    <a:srgbClr val="000000"/>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1434"/>
                  <p:cNvSpPr/>
                  <p:nvPr/>
                </p:nvSpPr>
                <p:spPr>
                  <a:xfrm rot="111600">
                    <a:off x="5821200" y="1344240"/>
                    <a:ext cx="46080" cy="46440"/>
                  </a:xfrm>
                  <a:custGeom>
                    <a:avLst/>
                    <a:gdLst>
                      <a:gd name="textAreaLeft" fmla="*/ 0 w 46080"/>
                      <a:gd name="textAreaRight" fmla="*/ 46440 w 46080"/>
                      <a:gd name="textAreaTop" fmla="*/ 0 h 46440"/>
                      <a:gd name="textAreaBottom" fmla="*/ 46800 h 46440"/>
                    </a:gdLst>
                    <a:ahLst/>
                    <a:rect l="textAreaLeft" t="textAreaTop" r="textAreaRight" b="textAreaBottom"/>
                    <a:pathLst>
                      <a:path w="423" h="289">
                        <a:moveTo>
                          <a:pt x="423" y="278"/>
                        </a:moveTo>
                        <a:lnTo>
                          <a:pt x="412" y="267"/>
                        </a:lnTo>
                        <a:lnTo>
                          <a:pt x="379" y="267"/>
                        </a:lnTo>
                        <a:lnTo>
                          <a:pt x="345" y="256"/>
                        </a:lnTo>
                        <a:lnTo>
                          <a:pt x="312" y="256"/>
                        </a:lnTo>
                        <a:lnTo>
                          <a:pt x="290" y="245"/>
                        </a:lnTo>
                        <a:lnTo>
                          <a:pt x="256" y="234"/>
                        </a:lnTo>
                        <a:lnTo>
                          <a:pt x="234" y="223"/>
                        </a:lnTo>
                        <a:lnTo>
                          <a:pt x="200" y="200"/>
                        </a:lnTo>
                        <a:lnTo>
                          <a:pt x="178" y="189"/>
                        </a:lnTo>
                        <a:lnTo>
                          <a:pt x="156" y="167"/>
                        </a:lnTo>
                        <a:lnTo>
                          <a:pt x="134" y="156"/>
                        </a:lnTo>
                        <a:lnTo>
                          <a:pt x="111" y="133"/>
                        </a:lnTo>
                        <a:lnTo>
                          <a:pt x="89" y="111"/>
                        </a:lnTo>
                        <a:lnTo>
                          <a:pt x="78" y="78"/>
                        </a:lnTo>
                        <a:lnTo>
                          <a:pt x="56" y="55"/>
                        </a:lnTo>
                        <a:lnTo>
                          <a:pt x="44" y="33"/>
                        </a:lnTo>
                        <a:lnTo>
                          <a:pt x="22" y="0"/>
                        </a:lnTo>
                        <a:lnTo>
                          <a:pt x="0" y="11"/>
                        </a:lnTo>
                        <a:lnTo>
                          <a:pt x="22" y="44"/>
                        </a:lnTo>
                        <a:lnTo>
                          <a:pt x="33" y="67"/>
                        </a:lnTo>
                        <a:lnTo>
                          <a:pt x="56" y="100"/>
                        </a:lnTo>
                        <a:lnTo>
                          <a:pt x="78" y="122"/>
                        </a:lnTo>
                        <a:lnTo>
                          <a:pt x="100" y="145"/>
                        </a:lnTo>
                        <a:lnTo>
                          <a:pt x="122" y="167"/>
                        </a:lnTo>
                        <a:lnTo>
                          <a:pt x="145" y="189"/>
                        </a:lnTo>
                        <a:lnTo>
                          <a:pt x="167" y="200"/>
                        </a:lnTo>
                        <a:lnTo>
                          <a:pt x="200" y="223"/>
                        </a:lnTo>
                        <a:lnTo>
                          <a:pt x="223" y="234"/>
                        </a:lnTo>
                        <a:lnTo>
                          <a:pt x="256" y="245"/>
                        </a:lnTo>
                        <a:lnTo>
                          <a:pt x="278" y="267"/>
                        </a:lnTo>
                        <a:lnTo>
                          <a:pt x="312" y="267"/>
                        </a:lnTo>
                        <a:lnTo>
                          <a:pt x="345" y="278"/>
                        </a:lnTo>
                        <a:lnTo>
                          <a:pt x="379" y="289"/>
                        </a:lnTo>
                        <a:lnTo>
                          <a:pt x="412" y="289"/>
                        </a:lnTo>
                        <a:lnTo>
                          <a:pt x="401" y="289"/>
                        </a:lnTo>
                        <a:lnTo>
                          <a:pt x="423" y="278"/>
                        </a:lnTo>
                        <a:close/>
                      </a:path>
                    </a:pathLst>
                  </a:custGeom>
                  <a:solidFill>
                    <a:srgbClr val="000000"/>
                  </a:solidFill>
                  <a:ln w="0">
                    <a:noFill/>
                  </a:ln>
                </p:spPr>
                <p:style>
                  <a:lnRef idx="0"/>
                  <a:fillRef idx="0"/>
                  <a:effectRef idx="0"/>
                  <a:fontRef idx="minor"/>
                </p:style>
                <p:txBody>
                  <a:bodyPr lIns="90000" rIns="9000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1433"/>
                  <p:cNvSpPr/>
                  <p:nvPr/>
                </p:nvSpPr>
                <p:spPr>
                  <a:xfrm rot="111600">
                    <a:off x="5863680" y="1389960"/>
                    <a:ext cx="19440" cy="32400"/>
                  </a:xfrm>
                  <a:custGeom>
                    <a:avLst/>
                    <a:gdLst>
                      <a:gd name="textAreaLeft" fmla="*/ 0 w 19440"/>
                      <a:gd name="textAreaRight" fmla="*/ 19440 w 19440"/>
                      <a:gd name="textAreaTop" fmla="*/ 0 h 32400"/>
                      <a:gd name="textAreaBottom" fmla="*/ 32760 h 32400"/>
                    </a:gdLst>
                    <a:ahLst/>
                    <a:rect l="textAreaLeft" t="textAreaTop" r="textAreaRight" b="textAreaBottom"/>
                    <a:pathLst>
                      <a:path w="178" h="201">
                        <a:moveTo>
                          <a:pt x="156" y="201"/>
                        </a:moveTo>
                        <a:lnTo>
                          <a:pt x="167" y="179"/>
                        </a:lnTo>
                        <a:lnTo>
                          <a:pt x="134" y="179"/>
                        </a:lnTo>
                        <a:lnTo>
                          <a:pt x="112" y="168"/>
                        </a:lnTo>
                        <a:lnTo>
                          <a:pt x="78" y="145"/>
                        </a:lnTo>
                        <a:lnTo>
                          <a:pt x="67" y="123"/>
                        </a:lnTo>
                        <a:lnTo>
                          <a:pt x="45" y="89"/>
                        </a:lnTo>
                        <a:lnTo>
                          <a:pt x="34" y="67"/>
                        </a:lnTo>
                        <a:lnTo>
                          <a:pt x="34" y="34"/>
                        </a:lnTo>
                        <a:lnTo>
                          <a:pt x="22" y="0"/>
                        </a:lnTo>
                        <a:lnTo>
                          <a:pt x="0" y="11"/>
                        </a:lnTo>
                        <a:lnTo>
                          <a:pt x="0" y="34"/>
                        </a:lnTo>
                        <a:lnTo>
                          <a:pt x="11" y="67"/>
                        </a:lnTo>
                        <a:lnTo>
                          <a:pt x="22" y="101"/>
                        </a:lnTo>
                        <a:lnTo>
                          <a:pt x="45" y="134"/>
                        </a:lnTo>
                        <a:lnTo>
                          <a:pt x="67" y="156"/>
                        </a:lnTo>
                        <a:lnTo>
                          <a:pt x="100" y="179"/>
                        </a:lnTo>
                        <a:lnTo>
                          <a:pt x="134" y="201"/>
                        </a:lnTo>
                        <a:lnTo>
                          <a:pt x="167" y="201"/>
                        </a:lnTo>
                        <a:lnTo>
                          <a:pt x="178" y="190"/>
                        </a:lnTo>
                        <a:lnTo>
                          <a:pt x="156" y="201"/>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1432"/>
                  <p:cNvSpPr/>
                  <p:nvPr/>
                </p:nvSpPr>
                <p:spPr>
                  <a:xfrm rot="111600">
                    <a:off x="5878800" y="1381680"/>
                    <a:ext cx="4680" cy="41400"/>
                  </a:xfrm>
                  <a:custGeom>
                    <a:avLst/>
                    <a:gdLst>
                      <a:gd name="textAreaLeft" fmla="*/ 0 w 4680"/>
                      <a:gd name="textAreaRight" fmla="*/ 5040 w 4680"/>
                      <a:gd name="textAreaTop" fmla="*/ 0 h 41400"/>
                      <a:gd name="textAreaBottom" fmla="*/ 41760 h 41400"/>
                    </a:gdLst>
                    <a:ahLst/>
                    <a:rect l="textAreaLeft" t="textAreaTop" r="textAreaRight" b="textAreaBottom"/>
                    <a:pathLst>
                      <a:path w="44" h="256">
                        <a:moveTo>
                          <a:pt x="22" y="0"/>
                        </a:moveTo>
                        <a:lnTo>
                          <a:pt x="22" y="0"/>
                        </a:lnTo>
                        <a:lnTo>
                          <a:pt x="0" y="55"/>
                        </a:lnTo>
                        <a:lnTo>
                          <a:pt x="0" y="133"/>
                        </a:lnTo>
                        <a:lnTo>
                          <a:pt x="11" y="200"/>
                        </a:lnTo>
                        <a:lnTo>
                          <a:pt x="22" y="256"/>
                        </a:lnTo>
                        <a:lnTo>
                          <a:pt x="44" y="245"/>
                        </a:lnTo>
                        <a:lnTo>
                          <a:pt x="33" y="200"/>
                        </a:lnTo>
                        <a:lnTo>
                          <a:pt x="33" y="122"/>
                        </a:lnTo>
                        <a:lnTo>
                          <a:pt x="33" y="55"/>
                        </a:lnTo>
                        <a:lnTo>
                          <a:pt x="33" y="22"/>
                        </a:lnTo>
                        <a:lnTo>
                          <a:pt x="22" y="0"/>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1431"/>
                  <p:cNvSpPr/>
                  <p:nvPr/>
                </p:nvSpPr>
                <p:spPr>
                  <a:xfrm rot="111600">
                    <a:off x="5881680" y="1379520"/>
                    <a:ext cx="19440" cy="5400"/>
                  </a:xfrm>
                  <a:custGeom>
                    <a:avLst/>
                    <a:gdLst>
                      <a:gd name="textAreaLeft" fmla="*/ 0 w 19440"/>
                      <a:gd name="textAreaRight" fmla="*/ 19440 w 19440"/>
                      <a:gd name="textAreaTop" fmla="*/ 0 h 5400"/>
                      <a:gd name="textAreaBottom" fmla="*/ 5760 h 5400"/>
                    </a:gdLst>
                    <a:ahLst/>
                    <a:rect l="textAreaLeft" t="textAreaTop" r="textAreaRight" b="textAreaBottom"/>
                    <a:pathLst>
                      <a:path w="178" h="34">
                        <a:moveTo>
                          <a:pt x="167" y="12"/>
                        </a:moveTo>
                        <a:lnTo>
                          <a:pt x="167" y="12"/>
                        </a:lnTo>
                        <a:lnTo>
                          <a:pt x="156" y="12"/>
                        </a:lnTo>
                        <a:lnTo>
                          <a:pt x="134" y="12"/>
                        </a:lnTo>
                        <a:lnTo>
                          <a:pt x="112" y="12"/>
                        </a:lnTo>
                        <a:lnTo>
                          <a:pt x="89" y="0"/>
                        </a:lnTo>
                        <a:lnTo>
                          <a:pt x="67" y="0"/>
                        </a:lnTo>
                        <a:lnTo>
                          <a:pt x="45" y="0"/>
                        </a:lnTo>
                        <a:lnTo>
                          <a:pt x="22" y="0"/>
                        </a:lnTo>
                        <a:lnTo>
                          <a:pt x="0" y="12"/>
                        </a:lnTo>
                        <a:lnTo>
                          <a:pt x="11" y="34"/>
                        </a:lnTo>
                        <a:lnTo>
                          <a:pt x="22" y="23"/>
                        </a:lnTo>
                        <a:lnTo>
                          <a:pt x="45" y="23"/>
                        </a:lnTo>
                        <a:lnTo>
                          <a:pt x="67" y="23"/>
                        </a:lnTo>
                        <a:lnTo>
                          <a:pt x="89" y="23"/>
                        </a:lnTo>
                        <a:lnTo>
                          <a:pt x="112" y="34"/>
                        </a:lnTo>
                        <a:lnTo>
                          <a:pt x="145" y="34"/>
                        </a:lnTo>
                        <a:lnTo>
                          <a:pt x="167" y="34"/>
                        </a:lnTo>
                        <a:lnTo>
                          <a:pt x="178" y="23"/>
                        </a:lnTo>
                        <a:lnTo>
                          <a:pt x="167" y="12"/>
                        </a:lnTo>
                        <a:close/>
                      </a:path>
                    </a:pathLst>
                  </a:custGeom>
                  <a:solidFill>
                    <a:srgbClr val="000000"/>
                  </a:solidFill>
                  <a:ln w="0">
                    <a:noFill/>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1430"/>
                  <p:cNvSpPr/>
                  <p:nvPr/>
                </p:nvSpPr>
                <p:spPr>
                  <a:xfrm rot="111600">
                    <a:off x="5895360" y="1310040"/>
                    <a:ext cx="9720" cy="73800"/>
                  </a:xfrm>
                  <a:custGeom>
                    <a:avLst/>
                    <a:gdLst>
                      <a:gd name="textAreaLeft" fmla="*/ 0 w 9720"/>
                      <a:gd name="textAreaRight" fmla="*/ 10080 w 9720"/>
                      <a:gd name="textAreaTop" fmla="*/ 0 h 73800"/>
                      <a:gd name="textAreaBottom" fmla="*/ 74160 h 73800"/>
                    </a:gdLst>
                    <a:ahLst/>
                    <a:rect l="textAreaLeft" t="textAreaTop" r="textAreaRight" b="textAreaBottom"/>
                    <a:pathLst>
                      <a:path w="89" h="457">
                        <a:moveTo>
                          <a:pt x="0" y="0"/>
                        </a:moveTo>
                        <a:lnTo>
                          <a:pt x="0" y="0"/>
                        </a:lnTo>
                        <a:lnTo>
                          <a:pt x="11" y="33"/>
                        </a:lnTo>
                        <a:lnTo>
                          <a:pt x="22" y="89"/>
                        </a:lnTo>
                        <a:lnTo>
                          <a:pt x="33" y="156"/>
                        </a:lnTo>
                        <a:lnTo>
                          <a:pt x="44" y="234"/>
                        </a:lnTo>
                        <a:lnTo>
                          <a:pt x="66" y="301"/>
                        </a:lnTo>
                        <a:lnTo>
                          <a:pt x="66" y="368"/>
                        </a:lnTo>
                        <a:lnTo>
                          <a:pt x="66" y="423"/>
                        </a:lnTo>
                        <a:lnTo>
                          <a:pt x="55" y="446"/>
                        </a:lnTo>
                        <a:lnTo>
                          <a:pt x="66" y="457"/>
                        </a:lnTo>
                        <a:lnTo>
                          <a:pt x="89" y="423"/>
                        </a:lnTo>
                        <a:lnTo>
                          <a:pt x="89" y="368"/>
                        </a:lnTo>
                        <a:lnTo>
                          <a:pt x="89" y="301"/>
                        </a:lnTo>
                        <a:lnTo>
                          <a:pt x="78" y="223"/>
                        </a:lnTo>
                        <a:lnTo>
                          <a:pt x="55" y="145"/>
                        </a:lnTo>
                        <a:lnTo>
                          <a:pt x="44" y="78"/>
                        </a:lnTo>
                        <a:lnTo>
                          <a:pt x="22" y="22"/>
                        </a:lnTo>
                        <a:lnTo>
                          <a:pt x="11"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1429"/>
                  <p:cNvSpPr/>
                  <p:nvPr/>
                </p:nvSpPr>
                <p:spPr>
                  <a:xfrm rot="111600">
                    <a:off x="5857920" y="1267560"/>
                    <a:ext cx="39960" cy="41400"/>
                  </a:xfrm>
                  <a:custGeom>
                    <a:avLst/>
                    <a:gdLst>
                      <a:gd name="textAreaLeft" fmla="*/ 0 w 39960"/>
                      <a:gd name="textAreaRight" fmla="*/ 40320 w 39960"/>
                      <a:gd name="textAreaTop" fmla="*/ 0 h 41400"/>
                      <a:gd name="textAreaBottom" fmla="*/ 41760 h 41400"/>
                    </a:gdLst>
                    <a:ahLst/>
                    <a:rect l="textAreaLeft" t="textAreaTop" r="textAreaRight" b="textAreaBottom"/>
                    <a:pathLst>
                      <a:path w="368" h="257">
                        <a:moveTo>
                          <a:pt x="0" y="23"/>
                        </a:moveTo>
                        <a:lnTo>
                          <a:pt x="0" y="23"/>
                        </a:lnTo>
                        <a:lnTo>
                          <a:pt x="22" y="23"/>
                        </a:lnTo>
                        <a:lnTo>
                          <a:pt x="45" y="23"/>
                        </a:lnTo>
                        <a:lnTo>
                          <a:pt x="78" y="34"/>
                        </a:lnTo>
                        <a:lnTo>
                          <a:pt x="100" y="45"/>
                        </a:lnTo>
                        <a:lnTo>
                          <a:pt x="123" y="56"/>
                        </a:lnTo>
                        <a:lnTo>
                          <a:pt x="145" y="67"/>
                        </a:lnTo>
                        <a:lnTo>
                          <a:pt x="178" y="78"/>
                        </a:lnTo>
                        <a:lnTo>
                          <a:pt x="201" y="101"/>
                        </a:lnTo>
                        <a:lnTo>
                          <a:pt x="223" y="112"/>
                        </a:lnTo>
                        <a:lnTo>
                          <a:pt x="245" y="134"/>
                        </a:lnTo>
                        <a:lnTo>
                          <a:pt x="267" y="156"/>
                        </a:lnTo>
                        <a:lnTo>
                          <a:pt x="290" y="168"/>
                        </a:lnTo>
                        <a:lnTo>
                          <a:pt x="301" y="190"/>
                        </a:lnTo>
                        <a:lnTo>
                          <a:pt x="323" y="212"/>
                        </a:lnTo>
                        <a:lnTo>
                          <a:pt x="334" y="234"/>
                        </a:lnTo>
                        <a:lnTo>
                          <a:pt x="357" y="257"/>
                        </a:lnTo>
                        <a:lnTo>
                          <a:pt x="368" y="257"/>
                        </a:lnTo>
                        <a:lnTo>
                          <a:pt x="357" y="223"/>
                        </a:lnTo>
                        <a:lnTo>
                          <a:pt x="334" y="201"/>
                        </a:lnTo>
                        <a:lnTo>
                          <a:pt x="323" y="179"/>
                        </a:lnTo>
                        <a:lnTo>
                          <a:pt x="301" y="156"/>
                        </a:lnTo>
                        <a:lnTo>
                          <a:pt x="279" y="134"/>
                        </a:lnTo>
                        <a:lnTo>
                          <a:pt x="256" y="123"/>
                        </a:lnTo>
                        <a:lnTo>
                          <a:pt x="234" y="101"/>
                        </a:lnTo>
                        <a:lnTo>
                          <a:pt x="212" y="78"/>
                        </a:lnTo>
                        <a:lnTo>
                          <a:pt x="189" y="67"/>
                        </a:lnTo>
                        <a:lnTo>
                          <a:pt x="156" y="45"/>
                        </a:lnTo>
                        <a:lnTo>
                          <a:pt x="134" y="34"/>
                        </a:lnTo>
                        <a:lnTo>
                          <a:pt x="111" y="23"/>
                        </a:lnTo>
                        <a:lnTo>
                          <a:pt x="78" y="12"/>
                        </a:lnTo>
                        <a:lnTo>
                          <a:pt x="56" y="0"/>
                        </a:lnTo>
                        <a:lnTo>
                          <a:pt x="22" y="0"/>
                        </a:lnTo>
                        <a:lnTo>
                          <a:pt x="0" y="0"/>
                        </a:lnTo>
                        <a:lnTo>
                          <a:pt x="0" y="23"/>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1428"/>
                  <p:cNvSpPr/>
                  <p:nvPr/>
                </p:nvSpPr>
                <p:spPr>
                  <a:xfrm rot="111600">
                    <a:off x="5828040" y="1264680"/>
                    <a:ext cx="30240" cy="14040"/>
                  </a:xfrm>
                  <a:custGeom>
                    <a:avLst/>
                    <a:gdLst>
                      <a:gd name="textAreaLeft" fmla="*/ 0 w 30240"/>
                      <a:gd name="textAreaRight" fmla="*/ 30600 w 30240"/>
                      <a:gd name="textAreaTop" fmla="*/ 0 h 14040"/>
                      <a:gd name="textAreaBottom" fmla="*/ 14400 h 14040"/>
                    </a:gdLst>
                    <a:ahLst/>
                    <a:rect l="textAreaLeft" t="textAreaTop" r="textAreaRight" b="textAreaBottom"/>
                    <a:pathLst>
                      <a:path w="279" h="89">
                        <a:moveTo>
                          <a:pt x="0" y="78"/>
                        </a:moveTo>
                        <a:lnTo>
                          <a:pt x="11" y="89"/>
                        </a:lnTo>
                        <a:lnTo>
                          <a:pt x="34" y="78"/>
                        </a:lnTo>
                        <a:lnTo>
                          <a:pt x="45" y="78"/>
                        </a:lnTo>
                        <a:lnTo>
                          <a:pt x="56" y="67"/>
                        </a:lnTo>
                        <a:lnTo>
                          <a:pt x="78" y="67"/>
                        </a:lnTo>
                        <a:lnTo>
                          <a:pt x="101" y="56"/>
                        </a:lnTo>
                        <a:lnTo>
                          <a:pt x="112" y="56"/>
                        </a:lnTo>
                        <a:lnTo>
                          <a:pt x="134" y="56"/>
                        </a:lnTo>
                        <a:lnTo>
                          <a:pt x="145" y="45"/>
                        </a:lnTo>
                        <a:lnTo>
                          <a:pt x="167" y="45"/>
                        </a:lnTo>
                        <a:lnTo>
                          <a:pt x="190" y="34"/>
                        </a:lnTo>
                        <a:lnTo>
                          <a:pt x="201" y="34"/>
                        </a:lnTo>
                        <a:lnTo>
                          <a:pt x="223" y="34"/>
                        </a:lnTo>
                        <a:lnTo>
                          <a:pt x="234" y="34"/>
                        </a:lnTo>
                        <a:lnTo>
                          <a:pt x="245" y="23"/>
                        </a:lnTo>
                        <a:lnTo>
                          <a:pt x="268" y="23"/>
                        </a:lnTo>
                        <a:lnTo>
                          <a:pt x="279" y="34"/>
                        </a:lnTo>
                        <a:lnTo>
                          <a:pt x="279" y="11"/>
                        </a:lnTo>
                        <a:lnTo>
                          <a:pt x="257" y="0"/>
                        </a:lnTo>
                        <a:lnTo>
                          <a:pt x="245" y="0"/>
                        </a:lnTo>
                        <a:lnTo>
                          <a:pt x="234" y="11"/>
                        </a:lnTo>
                        <a:lnTo>
                          <a:pt x="212" y="11"/>
                        </a:lnTo>
                        <a:lnTo>
                          <a:pt x="190" y="11"/>
                        </a:lnTo>
                        <a:lnTo>
                          <a:pt x="179" y="11"/>
                        </a:lnTo>
                        <a:lnTo>
                          <a:pt x="156" y="23"/>
                        </a:lnTo>
                        <a:lnTo>
                          <a:pt x="145" y="23"/>
                        </a:lnTo>
                        <a:lnTo>
                          <a:pt x="123" y="34"/>
                        </a:lnTo>
                        <a:lnTo>
                          <a:pt x="101" y="34"/>
                        </a:lnTo>
                        <a:lnTo>
                          <a:pt x="89" y="34"/>
                        </a:lnTo>
                        <a:lnTo>
                          <a:pt x="67" y="45"/>
                        </a:lnTo>
                        <a:lnTo>
                          <a:pt x="56" y="45"/>
                        </a:lnTo>
                        <a:lnTo>
                          <a:pt x="34" y="56"/>
                        </a:lnTo>
                        <a:lnTo>
                          <a:pt x="23" y="56"/>
                        </a:lnTo>
                        <a:lnTo>
                          <a:pt x="0" y="67"/>
                        </a:lnTo>
                        <a:lnTo>
                          <a:pt x="23" y="78"/>
                        </a:lnTo>
                        <a:lnTo>
                          <a:pt x="0" y="78"/>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1427"/>
                  <p:cNvSpPr/>
                  <p:nvPr/>
                </p:nvSpPr>
                <p:spPr>
                  <a:xfrm rot="111600">
                    <a:off x="5828040" y="125172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56" h="156">
                        <a:moveTo>
                          <a:pt x="45" y="23"/>
                        </a:moveTo>
                        <a:lnTo>
                          <a:pt x="34" y="11"/>
                        </a:lnTo>
                        <a:lnTo>
                          <a:pt x="11" y="45"/>
                        </a:lnTo>
                        <a:lnTo>
                          <a:pt x="11" y="78"/>
                        </a:lnTo>
                        <a:lnTo>
                          <a:pt x="0" y="112"/>
                        </a:lnTo>
                        <a:lnTo>
                          <a:pt x="0" y="156"/>
                        </a:lnTo>
                        <a:lnTo>
                          <a:pt x="23" y="156"/>
                        </a:lnTo>
                        <a:lnTo>
                          <a:pt x="23" y="112"/>
                        </a:lnTo>
                        <a:lnTo>
                          <a:pt x="34" y="89"/>
                        </a:lnTo>
                        <a:lnTo>
                          <a:pt x="45" y="56"/>
                        </a:lnTo>
                        <a:lnTo>
                          <a:pt x="56" y="23"/>
                        </a:lnTo>
                        <a:lnTo>
                          <a:pt x="34" y="0"/>
                        </a:lnTo>
                        <a:lnTo>
                          <a:pt x="45" y="23"/>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1426"/>
                  <p:cNvSpPr/>
                  <p:nvPr/>
                </p:nvSpPr>
                <p:spPr>
                  <a:xfrm rot="111600">
                    <a:off x="5816160" y="1251360"/>
                    <a:ext cx="16920" cy="28800"/>
                  </a:xfrm>
                  <a:custGeom>
                    <a:avLst/>
                    <a:gdLst>
                      <a:gd name="textAreaLeft" fmla="*/ 0 w 16920"/>
                      <a:gd name="textAreaRight" fmla="*/ 17280 w 16920"/>
                      <a:gd name="textAreaTop" fmla="*/ 0 h 28800"/>
                      <a:gd name="textAreaBottom" fmla="*/ 29160 h 28800"/>
                    </a:gdLst>
                    <a:ahLst/>
                    <a:rect l="textAreaLeft" t="textAreaTop" r="textAreaRight" b="textAreaBottom"/>
                    <a:pathLst>
                      <a:path w="156" h="179">
                        <a:moveTo>
                          <a:pt x="11" y="179"/>
                        </a:moveTo>
                        <a:lnTo>
                          <a:pt x="22" y="167"/>
                        </a:lnTo>
                        <a:lnTo>
                          <a:pt x="33" y="156"/>
                        </a:lnTo>
                        <a:lnTo>
                          <a:pt x="44" y="134"/>
                        </a:lnTo>
                        <a:lnTo>
                          <a:pt x="56" y="112"/>
                        </a:lnTo>
                        <a:lnTo>
                          <a:pt x="67" y="89"/>
                        </a:lnTo>
                        <a:lnTo>
                          <a:pt x="89" y="78"/>
                        </a:lnTo>
                        <a:lnTo>
                          <a:pt x="111" y="56"/>
                        </a:lnTo>
                        <a:lnTo>
                          <a:pt x="134" y="45"/>
                        </a:lnTo>
                        <a:lnTo>
                          <a:pt x="156" y="23"/>
                        </a:lnTo>
                        <a:lnTo>
                          <a:pt x="145" y="0"/>
                        </a:lnTo>
                        <a:lnTo>
                          <a:pt x="111" y="23"/>
                        </a:lnTo>
                        <a:lnTo>
                          <a:pt x="89" y="34"/>
                        </a:lnTo>
                        <a:lnTo>
                          <a:pt x="67" y="56"/>
                        </a:lnTo>
                        <a:lnTo>
                          <a:pt x="44" y="78"/>
                        </a:lnTo>
                        <a:lnTo>
                          <a:pt x="33" y="101"/>
                        </a:lnTo>
                        <a:lnTo>
                          <a:pt x="22" y="123"/>
                        </a:lnTo>
                        <a:lnTo>
                          <a:pt x="11" y="145"/>
                        </a:lnTo>
                        <a:lnTo>
                          <a:pt x="0" y="167"/>
                        </a:lnTo>
                        <a:lnTo>
                          <a:pt x="22" y="156"/>
                        </a:lnTo>
                        <a:lnTo>
                          <a:pt x="11" y="179"/>
                        </a:lnTo>
                        <a:close/>
                      </a:path>
                    </a:pathLst>
                  </a:custGeom>
                  <a:solidFill>
                    <a:srgbClr val="000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1425"/>
                  <p:cNvSpPr/>
                  <p:nvPr/>
                </p:nvSpPr>
                <p:spPr>
                  <a:xfrm rot="111600">
                    <a:off x="5802120" y="1269000"/>
                    <a:ext cx="15840" cy="10800"/>
                  </a:xfrm>
                  <a:custGeom>
                    <a:avLst/>
                    <a:gdLst>
                      <a:gd name="textAreaLeft" fmla="*/ 0 w 15840"/>
                      <a:gd name="textAreaRight" fmla="*/ 16200 w 15840"/>
                      <a:gd name="textAreaTop" fmla="*/ 0 h 10800"/>
                      <a:gd name="textAreaBottom" fmla="*/ 11160 h 10800"/>
                    </a:gdLst>
                    <a:ahLst/>
                    <a:rect l="textAreaLeft" t="textAreaTop" r="textAreaRight" b="textAreaBottom"/>
                    <a:pathLst>
                      <a:path w="145" h="67">
                        <a:moveTo>
                          <a:pt x="11" y="0"/>
                        </a:moveTo>
                        <a:lnTo>
                          <a:pt x="11" y="22"/>
                        </a:lnTo>
                        <a:lnTo>
                          <a:pt x="23" y="22"/>
                        </a:lnTo>
                        <a:lnTo>
                          <a:pt x="34" y="33"/>
                        </a:lnTo>
                        <a:lnTo>
                          <a:pt x="56" y="33"/>
                        </a:lnTo>
                        <a:lnTo>
                          <a:pt x="67" y="33"/>
                        </a:lnTo>
                        <a:lnTo>
                          <a:pt x="89" y="44"/>
                        </a:lnTo>
                        <a:lnTo>
                          <a:pt x="101" y="44"/>
                        </a:lnTo>
                        <a:lnTo>
                          <a:pt x="112" y="55"/>
                        </a:lnTo>
                        <a:lnTo>
                          <a:pt x="134" y="67"/>
                        </a:lnTo>
                        <a:lnTo>
                          <a:pt x="145" y="44"/>
                        </a:lnTo>
                        <a:lnTo>
                          <a:pt x="123" y="44"/>
                        </a:lnTo>
                        <a:lnTo>
                          <a:pt x="112" y="33"/>
                        </a:lnTo>
                        <a:lnTo>
                          <a:pt x="89" y="22"/>
                        </a:lnTo>
                        <a:lnTo>
                          <a:pt x="78" y="11"/>
                        </a:lnTo>
                        <a:lnTo>
                          <a:pt x="56" y="11"/>
                        </a:lnTo>
                        <a:lnTo>
                          <a:pt x="45" y="11"/>
                        </a:lnTo>
                        <a:lnTo>
                          <a:pt x="23" y="0"/>
                        </a:lnTo>
                        <a:lnTo>
                          <a:pt x="11" y="0"/>
                        </a:lnTo>
                        <a:lnTo>
                          <a:pt x="0" y="11"/>
                        </a:lnTo>
                        <a:lnTo>
                          <a:pt x="11" y="0"/>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1424"/>
                  <p:cNvSpPr/>
                  <p:nvPr/>
                </p:nvSpPr>
                <p:spPr>
                  <a:xfrm rot="111600">
                    <a:off x="5802120" y="1269000"/>
                    <a:ext cx="7200" cy="14040"/>
                  </a:xfrm>
                  <a:custGeom>
                    <a:avLst/>
                    <a:gdLst>
                      <a:gd name="textAreaLeft" fmla="*/ 0 w 7200"/>
                      <a:gd name="textAreaRight" fmla="*/ 7560 w 7200"/>
                      <a:gd name="textAreaTop" fmla="*/ 0 h 14040"/>
                      <a:gd name="textAreaBottom" fmla="*/ 14400 h 14040"/>
                    </a:gdLst>
                    <a:ahLst/>
                    <a:rect l="textAreaLeft" t="textAreaTop" r="textAreaRight" b="textAreaBottom"/>
                    <a:pathLst>
                      <a:path w="67" h="89">
                        <a:moveTo>
                          <a:pt x="56" y="89"/>
                        </a:moveTo>
                        <a:lnTo>
                          <a:pt x="67" y="78"/>
                        </a:lnTo>
                        <a:lnTo>
                          <a:pt x="67" y="67"/>
                        </a:lnTo>
                        <a:lnTo>
                          <a:pt x="56" y="55"/>
                        </a:lnTo>
                        <a:lnTo>
                          <a:pt x="45" y="44"/>
                        </a:lnTo>
                        <a:lnTo>
                          <a:pt x="45" y="33"/>
                        </a:lnTo>
                        <a:lnTo>
                          <a:pt x="34" y="22"/>
                        </a:lnTo>
                        <a:lnTo>
                          <a:pt x="23" y="11"/>
                        </a:lnTo>
                        <a:lnTo>
                          <a:pt x="11" y="0"/>
                        </a:lnTo>
                        <a:lnTo>
                          <a:pt x="0" y="11"/>
                        </a:lnTo>
                        <a:lnTo>
                          <a:pt x="11" y="22"/>
                        </a:lnTo>
                        <a:lnTo>
                          <a:pt x="23" y="33"/>
                        </a:lnTo>
                        <a:lnTo>
                          <a:pt x="23" y="44"/>
                        </a:lnTo>
                        <a:lnTo>
                          <a:pt x="34" y="55"/>
                        </a:lnTo>
                        <a:lnTo>
                          <a:pt x="34" y="67"/>
                        </a:lnTo>
                        <a:lnTo>
                          <a:pt x="45" y="67"/>
                        </a:lnTo>
                        <a:lnTo>
                          <a:pt x="45" y="78"/>
                        </a:lnTo>
                        <a:lnTo>
                          <a:pt x="56" y="89"/>
                        </a:lnTo>
                        <a:lnTo>
                          <a:pt x="67" y="67"/>
                        </a:lnTo>
                        <a:lnTo>
                          <a:pt x="56" y="89"/>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1423"/>
                  <p:cNvSpPr/>
                  <p:nvPr/>
                </p:nvSpPr>
                <p:spPr>
                  <a:xfrm rot="111600">
                    <a:off x="5783760" y="1270440"/>
                    <a:ext cx="25560" cy="12600"/>
                  </a:xfrm>
                  <a:custGeom>
                    <a:avLst/>
                    <a:gdLst>
                      <a:gd name="textAreaLeft" fmla="*/ 0 w 25560"/>
                      <a:gd name="textAreaRight" fmla="*/ 25920 w 25560"/>
                      <a:gd name="textAreaTop" fmla="*/ 0 h 12600"/>
                      <a:gd name="textAreaBottom" fmla="*/ 12960 h 12600"/>
                    </a:gdLst>
                    <a:ahLst/>
                    <a:rect l="textAreaLeft" t="textAreaTop" r="textAreaRight" b="textAreaBottom"/>
                    <a:pathLst>
                      <a:path w="234" h="78">
                        <a:moveTo>
                          <a:pt x="11" y="0"/>
                        </a:moveTo>
                        <a:lnTo>
                          <a:pt x="0" y="22"/>
                        </a:lnTo>
                        <a:lnTo>
                          <a:pt x="22" y="22"/>
                        </a:lnTo>
                        <a:lnTo>
                          <a:pt x="34" y="22"/>
                        </a:lnTo>
                        <a:lnTo>
                          <a:pt x="56" y="22"/>
                        </a:lnTo>
                        <a:lnTo>
                          <a:pt x="67" y="33"/>
                        </a:lnTo>
                        <a:lnTo>
                          <a:pt x="78" y="33"/>
                        </a:lnTo>
                        <a:lnTo>
                          <a:pt x="89" y="33"/>
                        </a:lnTo>
                        <a:lnTo>
                          <a:pt x="112" y="33"/>
                        </a:lnTo>
                        <a:lnTo>
                          <a:pt x="123" y="44"/>
                        </a:lnTo>
                        <a:lnTo>
                          <a:pt x="134" y="44"/>
                        </a:lnTo>
                        <a:lnTo>
                          <a:pt x="145" y="56"/>
                        </a:lnTo>
                        <a:lnTo>
                          <a:pt x="156" y="56"/>
                        </a:lnTo>
                        <a:lnTo>
                          <a:pt x="167" y="56"/>
                        </a:lnTo>
                        <a:lnTo>
                          <a:pt x="190" y="67"/>
                        </a:lnTo>
                        <a:lnTo>
                          <a:pt x="201" y="67"/>
                        </a:lnTo>
                        <a:lnTo>
                          <a:pt x="212" y="78"/>
                        </a:lnTo>
                        <a:lnTo>
                          <a:pt x="223" y="78"/>
                        </a:lnTo>
                        <a:lnTo>
                          <a:pt x="234" y="56"/>
                        </a:lnTo>
                        <a:lnTo>
                          <a:pt x="223" y="56"/>
                        </a:lnTo>
                        <a:lnTo>
                          <a:pt x="212" y="44"/>
                        </a:lnTo>
                        <a:lnTo>
                          <a:pt x="190" y="44"/>
                        </a:lnTo>
                        <a:lnTo>
                          <a:pt x="178" y="33"/>
                        </a:lnTo>
                        <a:lnTo>
                          <a:pt x="167" y="33"/>
                        </a:lnTo>
                        <a:lnTo>
                          <a:pt x="156" y="33"/>
                        </a:lnTo>
                        <a:lnTo>
                          <a:pt x="134" y="22"/>
                        </a:lnTo>
                        <a:lnTo>
                          <a:pt x="123" y="22"/>
                        </a:lnTo>
                        <a:lnTo>
                          <a:pt x="112" y="22"/>
                        </a:lnTo>
                        <a:lnTo>
                          <a:pt x="100" y="11"/>
                        </a:lnTo>
                        <a:lnTo>
                          <a:pt x="78" y="11"/>
                        </a:lnTo>
                        <a:lnTo>
                          <a:pt x="67" y="11"/>
                        </a:lnTo>
                        <a:lnTo>
                          <a:pt x="56" y="11"/>
                        </a:lnTo>
                        <a:lnTo>
                          <a:pt x="34" y="0"/>
                        </a:lnTo>
                        <a:lnTo>
                          <a:pt x="22" y="0"/>
                        </a:lnTo>
                        <a:lnTo>
                          <a:pt x="11" y="0"/>
                        </a:lnTo>
                        <a:lnTo>
                          <a:pt x="0" y="11"/>
                        </a:lnTo>
                        <a:lnTo>
                          <a:pt x="11" y="0"/>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Freeform 1422"/>
                  <p:cNvSpPr/>
                  <p:nvPr/>
                </p:nvSpPr>
                <p:spPr>
                  <a:xfrm rot="111600">
                    <a:off x="5783760" y="1270080"/>
                    <a:ext cx="14400" cy="19440"/>
                  </a:xfrm>
                  <a:custGeom>
                    <a:avLst/>
                    <a:gdLst>
                      <a:gd name="textAreaLeft" fmla="*/ 0 w 14400"/>
                      <a:gd name="textAreaRight" fmla="*/ 14760 w 14400"/>
                      <a:gd name="textAreaTop" fmla="*/ 0 h 19440"/>
                      <a:gd name="textAreaBottom" fmla="*/ 19800 h 19440"/>
                    </a:gdLst>
                    <a:ahLst/>
                    <a:rect l="textAreaLeft" t="textAreaTop" r="textAreaRight" b="textAreaBottom"/>
                    <a:pathLst>
                      <a:path w="134" h="122">
                        <a:moveTo>
                          <a:pt x="123" y="122"/>
                        </a:moveTo>
                        <a:lnTo>
                          <a:pt x="134" y="111"/>
                        </a:lnTo>
                        <a:lnTo>
                          <a:pt x="112" y="100"/>
                        </a:lnTo>
                        <a:lnTo>
                          <a:pt x="100" y="89"/>
                        </a:lnTo>
                        <a:lnTo>
                          <a:pt x="89" y="78"/>
                        </a:lnTo>
                        <a:lnTo>
                          <a:pt x="67" y="56"/>
                        </a:lnTo>
                        <a:lnTo>
                          <a:pt x="56" y="44"/>
                        </a:lnTo>
                        <a:lnTo>
                          <a:pt x="45" y="33"/>
                        </a:lnTo>
                        <a:lnTo>
                          <a:pt x="34" y="22"/>
                        </a:lnTo>
                        <a:lnTo>
                          <a:pt x="11" y="0"/>
                        </a:lnTo>
                        <a:lnTo>
                          <a:pt x="0" y="11"/>
                        </a:lnTo>
                        <a:lnTo>
                          <a:pt x="11" y="33"/>
                        </a:lnTo>
                        <a:lnTo>
                          <a:pt x="34" y="44"/>
                        </a:lnTo>
                        <a:lnTo>
                          <a:pt x="45" y="56"/>
                        </a:lnTo>
                        <a:lnTo>
                          <a:pt x="56" y="78"/>
                        </a:lnTo>
                        <a:lnTo>
                          <a:pt x="78" y="89"/>
                        </a:lnTo>
                        <a:lnTo>
                          <a:pt x="89" y="100"/>
                        </a:lnTo>
                        <a:lnTo>
                          <a:pt x="100" y="111"/>
                        </a:lnTo>
                        <a:lnTo>
                          <a:pt x="123" y="122"/>
                        </a:lnTo>
                        <a:lnTo>
                          <a:pt x="123" y="111"/>
                        </a:lnTo>
                        <a:lnTo>
                          <a:pt x="123" y="122"/>
                        </a:lnTo>
                        <a:close/>
                      </a:path>
                    </a:pathLst>
                  </a:custGeom>
                  <a:solidFill>
                    <a:srgbClr val="000000"/>
                  </a:solidFill>
                  <a:ln w="0">
                    <a:noFill/>
                  </a:ln>
                </p:spPr>
                <p:style>
                  <a:lnRef idx="0"/>
                  <a:fillRef idx="0"/>
                  <a:effectRef idx="0"/>
                  <a:fontRef idx="minor"/>
                </p:style>
                <p:txBody>
                  <a:bodyPr lIns="90000" rIns="90000" tIns="-27000" bIns="-27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Freeform 1421"/>
                  <p:cNvSpPr/>
                  <p:nvPr/>
                </p:nvSpPr>
                <p:spPr>
                  <a:xfrm rot="111600">
                    <a:off x="5803560" y="1382400"/>
                    <a:ext cx="4680" cy="5040"/>
                  </a:xfrm>
                  <a:custGeom>
                    <a:avLst/>
                    <a:gdLst>
                      <a:gd name="textAreaLeft" fmla="*/ 0 w 4680"/>
                      <a:gd name="textAreaRight" fmla="*/ 5040 w 4680"/>
                      <a:gd name="textAreaTop" fmla="*/ 0 h 5040"/>
                      <a:gd name="textAreaBottom" fmla="*/ 5400 h 5040"/>
                    </a:gdLst>
                    <a:ahLst/>
                    <a:rect l="textAreaLeft" t="textAreaTop" r="textAreaRight" b="textAreaBottom"/>
                    <a:pathLst>
                      <a:path w="44" h="33">
                        <a:moveTo>
                          <a:pt x="44" y="33"/>
                        </a:moveTo>
                        <a:lnTo>
                          <a:pt x="44" y="22"/>
                        </a:lnTo>
                        <a:lnTo>
                          <a:pt x="44" y="11"/>
                        </a:lnTo>
                        <a:lnTo>
                          <a:pt x="33" y="0"/>
                        </a:lnTo>
                        <a:lnTo>
                          <a:pt x="22" y="0"/>
                        </a:lnTo>
                        <a:lnTo>
                          <a:pt x="11" y="0"/>
                        </a:lnTo>
                        <a:lnTo>
                          <a:pt x="0" y="11"/>
                        </a:lnTo>
                        <a:lnTo>
                          <a:pt x="44" y="33"/>
                        </a:lnTo>
                        <a:close/>
                      </a:path>
                    </a:pathLst>
                  </a:custGeom>
                  <a:solidFill>
                    <a:srgbClr val="000000"/>
                  </a:solidFill>
                  <a:ln w="0">
                    <a:no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6" name="Freeform 1419"/>
                <p:cNvSpPr/>
                <p:nvPr/>
              </p:nvSpPr>
              <p:spPr>
                <a:xfrm rot="111600">
                  <a:off x="5798160" y="1384200"/>
                  <a:ext cx="9720" cy="26640"/>
                </a:xfrm>
                <a:custGeom>
                  <a:avLst/>
                  <a:gdLst>
                    <a:gd name="textAreaLeft" fmla="*/ 0 w 9720"/>
                    <a:gd name="textAreaRight" fmla="*/ 10080 w 9720"/>
                    <a:gd name="textAreaTop" fmla="*/ 0 h 26640"/>
                    <a:gd name="textAreaBottom" fmla="*/ 27000 h 26640"/>
                  </a:gdLst>
                  <a:ahLst/>
                  <a:rect l="textAreaLeft" t="textAreaTop" r="textAreaRight" b="textAreaBottom"/>
                  <a:pathLst>
                    <a:path w="89" h="167">
                      <a:moveTo>
                        <a:pt x="45" y="167"/>
                      </a:moveTo>
                      <a:lnTo>
                        <a:pt x="45" y="145"/>
                      </a:lnTo>
                      <a:lnTo>
                        <a:pt x="45" y="134"/>
                      </a:lnTo>
                      <a:lnTo>
                        <a:pt x="56" y="111"/>
                      </a:lnTo>
                      <a:lnTo>
                        <a:pt x="56" y="89"/>
                      </a:lnTo>
                      <a:lnTo>
                        <a:pt x="67" y="78"/>
                      </a:lnTo>
                      <a:lnTo>
                        <a:pt x="67" y="56"/>
                      </a:lnTo>
                      <a:lnTo>
                        <a:pt x="78" y="33"/>
                      </a:lnTo>
                      <a:lnTo>
                        <a:pt x="89" y="22"/>
                      </a:lnTo>
                      <a:lnTo>
                        <a:pt x="45" y="0"/>
                      </a:lnTo>
                      <a:lnTo>
                        <a:pt x="34" y="22"/>
                      </a:lnTo>
                      <a:lnTo>
                        <a:pt x="34" y="33"/>
                      </a:lnTo>
                      <a:lnTo>
                        <a:pt x="23" y="56"/>
                      </a:lnTo>
                      <a:lnTo>
                        <a:pt x="11" y="78"/>
                      </a:lnTo>
                      <a:lnTo>
                        <a:pt x="11" y="100"/>
                      </a:lnTo>
                      <a:lnTo>
                        <a:pt x="0" y="123"/>
                      </a:lnTo>
                      <a:lnTo>
                        <a:pt x="0" y="145"/>
                      </a:lnTo>
                      <a:lnTo>
                        <a:pt x="0" y="167"/>
                      </a:lnTo>
                      <a:lnTo>
                        <a:pt x="45" y="167"/>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Freeform 1418"/>
                <p:cNvSpPr/>
                <p:nvPr/>
              </p:nvSpPr>
              <p:spPr>
                <a:xfrm rot="111600">
                  <a:off x="5803560" y="138600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44" h="22">
                      <a:moveTo>
                        <a:pt x="0" y="0"/>
                      </a:moveTo>
                      <a:lnTo>
                        <a:pt x="0" y="11"/>
                      </a:lnTo>
                      <a:lnTo>
                        <a:pt x="11" y="22"/>
                      </a:lnTo>
                      <a:lnTo>
                        <a:pt x="22" y="22"/>
                      </a:lnTo>
                      <a:lnTo>
                        <a:pt x="33" y="22"/>
                      </a:lnTo>
                      <a:lnTo>
                        <a:pt x="44" y="22"/>
                      </a:lnTo>
                      <a:lnTo>
                        <a:pt x="44" y="11"/>
                      </a:lnTo>
                      <a:lnTo>
                        <a:pt x="44"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1417"/>
                <p:cNvSpPr/>
                <p:nvPr/>
              </p:nvSpPr>
              <p:spPr>
                <a:xfrm rot="111600">
                  <a:off x="5824440" y="1372320"/>
                  <a:ext cx="3600" cy="5040"/>
                </a:xfrm>
                <a:custGeom>
                  <a:avLst/>
                  <a:gdLst>
                    <a:gd name="textAreaLeft" fmla="*/ 0 w 3600"/>
                    <a:gd name="textAreaRight" fmla="*/ 3960 w 3600"/>
                    <a:gd name="textAreaTop" fmla="*/ 0 h 5040"/>
                    <a:gd name="textAreaBottom" fmla="*/ 5400 h 5040"/>
                  </a:gdLst>
                  <a:ahLst/>
                  <a:rect l="textAreaLeft" t="textAreaTop" r="textAreaRight" b="textAreaBottom"/>
                  <a:pathLst>
                    <a:path w="34" h="33">
                      <a:moveTo>
                        <a:pt x="34" y="0"/>
                      </a:moveTo>
                      <a:lnTo>
                        <a:pt x="23" y="0"/>
                      </a:lnTo>
                      <a:lnTo>
                        <a:pt x="11" y="0"/>
                      </a:lnTo>
                      <a:lnTo>
                        <a:pt x="0" y="0"/>
                      </a:lnTo>
                      <a:lnTo>
                        <a:pt x="0" y="11"/>
                      </a:lnTo>
                      <a:lnTo>
                        <a:pt x="0" y="22"/>
                      </a:lnTo>
                      <a:lnTo>
                        <a:pt x="0" y="33"/>
                      </a:lnTo>
                      <a:lnTo>
                        <a:pt x="34" y="0"/>
                      </a:lnTo>
                      <a:close/>
                    </a:path>
                  </a:pathLst>
                </a:custGeom>
                <a:solidFill>
                  <a:srgbClr val="000000"/>
                </a:solidFill>
                <a:ln w="0">
                  <a:no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1416"/>
                <p:cNvSpPr/>
                <p:nvPr/>
              </p:nvSpPr>
              <p:spPr>
                <a:xfrm rot="111600">
                  <a:off x="5824080" y="1372320"/>
                  <a:ext cx="15840" cy="28440"/>
                </a:xfrm>
                <a:custGeom>
                  <a:avLst/>
                  <a:gdLst>
                    <a:gd name="textAreaLeft" fmla="*/ 0 w 15840"/>
                    <a:gd name="textAreaRight" fmla="*/ 16200 w 15840"/>
                    <a:gd name="textAreaTop" fmla="*/ 0 h 28440"/>
                    <a:gd name="textAreaBottom" fmla="*/ 28800 h 28440"/>
                  </a:gdLst>
                  <a:ahLst/>
                  <a:rect l="textAreaLeft" t="textAreaTop" r="textAreaRight" b="textAreaBottom"/>
                  <a:pathLst>
                    <a:path w="145" h="178">
                      <a:moveTo>
                        <a:pt x="145" y="167"/>
                      </a:moveTo>
                      <a:lnTo>
                        <a:pt x="134" y="145"/>
                      </a:lnTo>
                      <a:lnTo>
                        <a:pt x="123" y="123"/>
                      </a:lnTo>
                      <a:lnTo>
                        <a:pt x="112" y="100"/>
                      </a:lnTo>
                      <a:lnTo>
                        <a:pt x="101" y="78"/>
                      </a:lnTo>
                      <a:lnTo>
                        <a:pt x="78" y="56"/>
                      </a:lnTo>
                      <a:lnTo>
                        <a:pt x="67" y="33"/>
                      </a:lnTo>
                      <a:lnTo>
                        <a:pt x="45" y="11"/>
                      </a:lnTo>
                      <a:lnTo>
                        <a:pt x="34" y="0"/>
                      </a:lnTo>
                      <a:lnTo>
                        <a:pt x="0" y="33"/>
                      </a:lnTo>
                      <a:lnTo>
                        <a:pt x="23" y="45"/>
                      </a:lnTo>
                      <a:lnTo>
                        <a:pt x="34" y="67"/>
                      </a:lnTo>
                      <a:lnTo>
                        <a:pt x="45" y="78"/>
                      </a:lnTo>
                      <a:lnTo>
                        <a:pt x="67" y="100"/>
                      </a:lnTo>
                      <a:lnTo>
                        <a:pt x="78" y="123"/>
                      </a:lnTo>
                      <a:lnTo>
                        <a:pt x="89" y="145"/>
                      </a:lnTo>
                      <a:lnTo>
                        <a:pt x="101" y="156"/>
                      </a:lnTo>
                      <a:lnTo>
                        <a:pt x="112" y="178"/>
                      </a:lnTo>
                      <a:lnTo>
                        <a:pt x="145" y="167"/>
                      </a:lnTo>
                      <a:close/>
                    </a:path>
                  </a:pathLst>
                </a:custGeom>
                <a:solidFill>
                  <a:srgbClr val="000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Freeform 1415"/>
                <p:cNvSpPr/>
                <p:nvPr/>
              </p:nvSpPr>
              <p:spPr>
                <a:xfrm rot="111600">
                  <a:off x="5824440" y="1374120"/>
                  <a:ext cx="4680" cy="5400"/>
                </a:xfrm>
                <a:custGeom>
                  <a:avLst/>
                  <a:gdLst>
                    <a:gd name="textAreaLeft" fmla="*/ 0 w 4680"/>
                    <a:gd name="textAreaRight" fmla="*/ 5040 w 4680"/>
                    <a:gd name="textAreaTop" fmla="*/ 0 h 5400"/>
                    <a:gd name="textAreaBottom" fmla="*/ 5760 h 5400"/>
                  </a:gdLst>
                  <a:ahLst/>
                  <a:rect l="textAreaLeft" t="textAreaTop" r="textAreaRight" b="textAreaBottom"/>
                  <a:pathLst>
                    <a:path w="45" h="34">
                      <a:moveTo>
                        <a:pt x="0" y="22"/>
                      </a:moveTo>
                      <a:lnTo>
                        <a:pt x="0" y="22"/>
                      </a:lnTo>
                      <a:lnTo>
                        <a:pt x="11" y="34"/>
                      </a:lnTo>
                      <a:lnTo>
                        <a:pt x="23" y="34"/>
                      </a:lnTo>
                      <a:lnTo>
                        <a:pt x="34" y="34"/>
                      </a:lnTo>
                      <a:lnTo>
                        <a:pt x="34" y="22"/>
                      </a:lnTo>
                      <a:lnTo>
                        <a:pt x="45" y="11"/>
                      </a:lnTo>
                      <a:lnTo>
                        <a:pt x="34" y="0"/>
                      </a:lnTo>
                      <a:lnTo>
                        <a:pt x="0" y="22"/>
                      </a:lnTo>
                      <a:close/>
                    </a:path>
                  </a:pathLst>
                </a:custGeom>
                <a:solidFill>
                  <a:srgbClr val="000000"/>
                </a:solidFill>
                <a:ln w="0">
                  <a:noFill/>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Freeform 1414"/>
                <p:cNvSpPr/>
                <p:nvPr/>
              </p:nvSpPr>
              <p:spPr>
                <a:xfrm rot="111600">
                  <a:off x="5841720" y="144684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22" h="11">
                      <a:moveTo>
                        <a:pt x="0" y="11"/>
                      </a:moveTo>
                      <a:lnTo>
                        <a:pt x="11" y="11"/>
                      </a:lnTo>
                      <a:lnTo>
                        <a:pt x="22" y="11"/>
                      </a:lnTo>
                      <a:lnTo>
                        <a:pt x="22"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Freeform 1413"/>
                <p:cNvSpPr/>
                <p:nvPr/>
              </p:nvSpPr>
              <p:spPr>
                <a:xfrm rot="111600">
                  <a:off x="5821560" y="1428480"/>
                  <a:ext cx="23040" cy="19440"/>
                </a:xfrm>
                <a:custGeom>
                  <a:avLst/>
                  <a:gdLst>
                    <a:gd name="textAreaLeft" fmla="*/ 0 w 23040"/>
                    <a:gd name="textAreaRight" fmla="*/ 23400 w 23040"/>
                    <a:gd name="textAreaTop" fmla="*/ 0 h 19440"/>
                    <a:gd name="textAreaBottom" fmla="*/ 19800 h 19440"/>
                  </a:gdLst>
                  <a:ahLst/>
                  <a:rect l="textAreaLeft" t="textAreaTop" r="textAreaRight" b="textAreaBottom"/>
                  <a:pathLst>
                    <a:path w="212" h="122">
                      <a:moveTo>
                        <a:pt x="11" y="22"/>
                      </a:moveTo>
                      <a:lnTo>
                        <a:pt x="11" y="22"/>
                      </a:lnTo>
                      <a:lnTo>
                        <a:pt x="34" y="22"/>
                      </a:lnTo>
                      <a:lnTo>
                        <a:pt x="67" y="22"/>
                      </a:lnTo>
                      <a:lnTo>
                        <a:pt x="100" y="22"/>
                      </a:lnTo>
                      <a:lnTo>
                        <a:pt x="123" y="33"/>
                      </a:lnTo>
                      <a:lnTo>
                        <a:pt x="145" y="55"/>
                      </a:lnTo>
                      <a:lnTo>
                        <a:pt x="167" y="66"/>
                      </a:lnTo>
                      <a:lnTo>
                        <a:pt x="178" y="100"/>
                      </a:lnTo>
                      <a:lnTo>
                        <a:pt x="190" y="122"/>
                      </a:lnTo>
                      <a:lnTo>
                        <a:pt x="212" y="111"/>
                      </a:lnTo>
                      <a:lnTo>
                        <a:pt x="201" y="89"/>
                      </a:lnTo>
                      <a:lnTo>
                        <a:pt x="178" y="55"/>
                      </a:lnTo>
                      <a:lnTo>
                        <a:pt x="156" y="33"/>
                      </a:lnTo>
                      <a:lnTo>
                        <a:pt x="134" y="22"/>
                      </a:lnTo>
                      <a:lnTo>
                        <a:pt x="100" y="0"/>
                      </a:lnTo>
                      <a:lnTo>
                        <a:pt x="67" y="0"/>
                      </a:lnTo>
                      <a:lnTo>
                        <a:pt x="34" y="0"/>
                      </a:lnTo>
                      <a:lnTo>
                        <a:pt x="0" y="0"/>
                      </a:lnTo>
                      <a:lnTo>
                        <a:pt x="11" y="22"/>
                      </a:lnTo>
                      <a:close/>
                    </a:path>
                  </a:pathLst>
                </a:custGeom>
                <a:solidFill>
                  <a:srgbClr val="000000"/>
                </a:solidFill>
                <a:ln w="0">
                  <a:noFill/>
                </a:ln>
              </p:spPr>
              <p:style>
                <a:lnRef idx="0"/>
                <a:fillRef idx="0"/>
                <a:effectRef idx="0"/>
                <a:fontRef idx="minor"/>
              </p:style>
              <p:txBody>
                <a:bodyPr lIns="90000" rIns="90000" tIns="-27000" bIns="-27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Freeform 1412"/>
                <p:cNvSpPr/>
                <p:nvPr/>
              </p:nvSpPr>
              <p:spPr>
                <a:xfrm rot="111600">
                  <a:off x="5811480" y="1427760"/>
                  <a:ext cx="10800" cy="32040"/>
                </a:xfrm>
                <a:custGeom>
                  <a:avLst/>
                  <a:gdLst>
                    <a:gd name="textAreaLeft" fmla="*/ 0 w 10800"/>
                    <a:gd name="textAreaRight" fmla="*/ 11160 w 10800"/>
                    <a:gd name="textAreaTop" fmla="*/ 0 h 32040"/>
                    <a:gd name="textAreaBottom" fmla="*/ 32400 h 32040"/>
                  </a:gdLst>
                  <a:ahLst/>
                  <a:rect l="textAreaLeft" t="textAreaTop" r="textAreaRight" b="textAreaBottom"/>
                  <a:pathLst>
                    <a:path w="100" h="200">
                      <a:moveTo>
                        <a:pt x="22" y="189"/>
                      </a:moveTo>
                      <a:lnTo>
                        <a:pt x="22" y="167"/>
                      </a:lnTo>
                      <a:lnTo>
                        <a:pt x="22" y="144"/>
                      </a:lnTo>
                      <a:lnTo>
                        <a:pt x="22" y="111"/>
                      </a:lnTo>
                      <a:lnTo>
                        <a:pt x="33" y="89"/>
                      </a:lnTo>
                      <a:lnTo>
                        <a:pt x="45" y="66"/>
                      </a:lnTo>
                      <a:lnTo>
                        <a:pt x="56" y="55"/>
                      </a:lnTo>
                      <a:lnTo>
                        <a:pt x="78" y="33"/>
                      </a:lnTo>
                      <a:lnTo>
                        <a:pt x="100" y="22"/>
                      </a:lnTo>
                      <a:lnTo>
                        <a:pt x="89" y="0"/>
                      </a:lnTo>
                      <a:lnTo>
                        <a:pt x="67" y="11"/>
                      </a:lnTo>
                      <a:lnTo>
                        <a:pt x="45" y="33"/>
                      </a:lnTo>
                      <a:lnTo>
                        <a:pt x="22" y="55"/>
                      </a:lnTo>
                      <a:lnTo>
                        <a:pt x="11" y="78"/>
                      </a:lnTo>
                      <a:lnTo>
                        <a:pt x="0" y="111"/>
                      </a:lnTo>
                      <a:lnTo>
                        <a:pt x="0" y="133"/>
                      </a:lnTo>
                      <a:lnTo>
                        <a:pt x="0" y="167"/>
                      </a:lnTo>
                      <a:lnTo>
                        <a:pt x="0" y="200"/>
                      </a:lnTo>
                      <a:lnTo>
                        <a:pt x="22" y="189"/>
                      </a:lnTo>
                      <a:close/>
                    </a:path>
                  </a:pathLst>
                </a:custGeom>
                <a:solidFill>
                  <a:srgbClr val="00000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Freeform 1411"/>
                <p:cNvSpPr/>
                <p:nvPr/>
              </p:nvSpPr>
              <p:spPr>
                <a:xfrm rot="111600">
                  <a:off x="5820480" y="14299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22" h="11">
                      <a:moveTo>
                        <a:pt x="0" y="0"/>
                      </a:moveTo>
                      <a:lnTo>
                        <a:pt x="11" y="11"/>
                      </a:lnTo>
                      <a:lnTo>
                        <a:pt x="22" y="11"/>
                      </a:lnTo>
                      <a:lnTo>
                        <a:pt x="22"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Freeform 1410"/>
                <p:cNvSpPr/>
                <p:nvPr/>
              </p:nvSpPr>
              <p:spPr>
                <a:xfrm rot="111600">
                  <a:off x="5865120" y="148536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22" h="11">
                      <a:moveTo>
                        <a:pt x="22" y="11"/>
                      </a:moveTo>
                      <a:lnTo>
                        <a:pt x="11" y="11"/>
                      </a:lnTo>
                      <a:lnTo>
                        <a:pt x="11" y="0"/>
                      </a:lnTo>
                      <a:lnTo>
                        <a:pt x="0" y="0"/>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1409"/>
                <p:cNvSpPr/>
                <p:nvPr/>
              </p:nvSpPr>
              <p:spPr>
                <a:xfrm rot="111600">
                  <a:off x="5847480" y="1486440"/>
                  <a:ext cx="19440" cy="41400"/>
                </a:xfrm>
                <a:custGeom>
                  <a:avLst/>
                  <a:gdLst>
                    <a:gd name="textAreaLeft" fmla="*/ 0 w 19440"/>
                    <a:gd name="textAreaRight" fmla="*/ 19800 w 19440"/>
                    <a:gd name="textAreaTop" fmla="*/ 0 h 41400"/>
                    <a:gd name="textAreaBottom" fmla="*/ 41760 h 41400"/>
                  </a:gdLst>
                  <a:ahLst/>
                  <a:rect l="textAreaLeft" t="textAreaTop" r="textAreaRight" b="textAreaBottom"/>
                  <a:pathLst>
                    <a:path w="179" h="257">
                      <a:moveTo>
                        <a:pt x="12" y="257"/>
                      </a:moveTo>
                      <a:lnTo>
                        <a:pt x="12" y="257"/>
                      </a:lnTo>
                      <a:lnTo>
                        <a:pt x="34" y="234"/>
                      </a:lnTo>
                      <a:lnTo>
                        <a:pt x="56" y="212"/>
                      </a:lnTo>
                      <a:lnTo>
                        <a:pt x="90" y="179"/>
                      </a:lnTo>
                      <a:lnTo>
                        <a:pt x="112" y="156"/>
                      </a:lnTo>
                      <a:lnTo>
                        <a:pt x="134" y="123"/>
                      </a:lnTo>
                      <a:lnTo>
                        <a:pt x="145" y="89"/>
                      </a:lnTo>
                      <a:lnTo>
                        <a:pt x="168" y="45"/>
                      </a:lnTo>
                      <a:lnTo>
                        <a:pt x="179" y="0"/>
                      </a:lnTo>
                      <a:lnTo>
                        <a:pt x="157" y="0"/>
                      </a:lnTo>
                      <a:lnTo>
                        <a:pt x="145" y="45"/>
                      </a:lnTo>
                      <a:lnTo>
                        <a:pt x="123" y="78"/>
                      </a:lnTo>
                      <a:lnTo>
                        <a:pt x="112" y="112"/>
                      </a:lnTo>
                      <a:lnTo>
                        <a:pt x="90" y="145"/>
                      </a:lnTo>
                      <a:lnTo>
                        <a:pt x="67" y="167"/>
                      </a:lnTo>
                      <a:lnTo>
                        <a:pt x="45" y="190"/>
                      </a:lnTo>
                      <a:lnTo>
                        <a:pt x="23" y="212"/>
                      </a:lnTo>
                      <a:lnTo>
                        <a:pt x="0" y="245"/>
                      </a:lnTo>
                      <a:lnTo>
                        <a:pt x="12" y="257"/>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1408"/>
                <p:cNvSpPr/>
                <p:nvPr/>
              </p:nvSpPr>
              <p:spPr>
                <a:xfrm rot="111600">
                  <a:off x="5792760" y="1525320"/>
                  <a:ext cx="54720" cy="16200"/>
                </a:xfrm>
                <a:custGeom>
                  <a:avLst/>
                  <a:gdLst>
                    <a:gd name="textAreaLeft" fmla="*/ 0 w 54720"/>
                    <a:gd name="textAreaRight" fmla="*/ 55080 w 54720"/>
                    <a:gd name="textAreaTop" fmla="*/ 0 h 16200"/>
                    <a:gd name="textAreaBottom" fmla="*/ 16560 h 16200"/>
                  </a:gdLst>
                  <a:ahLst/>
                  <a:rect l="textAreaLeft" t="textAreaTop" r="textAreaRight" b="textAreaBottom"/>
                  <a:pathLst>
                    <a:path w="502" h="101">
                      <a:moveTo>
                        <a:pt x="0" y="23"/>
                      </a:moveTo>
                      <a:lnTo>
                        <a:pt x="0" y="23"/>
                      </a:lnTo>
                      <a:lnTo>
                        <a:pt x="34" y="45"/>
                      </a:lnTo>
                      <a:lnTo>
                        <a:pt x="67" y="67"/>
                      </a:lnTo>
                      <a:lnTo>
                        <a:pt x="100" y="78"/>
                      </a:lnTo>
                      <a:lnTo>
                        <a:pt x="134" y="78"/>
                      </a:lnTo>
                      <a:lnTo>
                        <a:pt x="167" y="90"/>
                      </a:lnTo>
                      <a:lnTo>
                        <a:pt x="212" y="101"/>
                      </a:lnTo>
                      <a:lnTo>
                        <a:pt x="245" y="101"/>
                      </a:lnTo>
                      <a:lnTo>
                        <a:pt x="279" y="90"/>
                      </a:lnTo>
                      <a:lnTo>
                        <a:pt x="312" y="90"/>
                      </a:lnTo>
                      <a:lnTo>
                        <a:pt x="346" y="90"/>
                      </a:lnTo>
                      <a:lnTo>
                        <a:pt x="379" y="78"/>
                      </a:lnTo>
                      <a:lnTo>
                        <a:pt x="401" y="67"/>
                      </a:lnTo>
                      <a:lnTo>
                        <a:pt x="435" y="56"/>
                      </a:lnTo>
                      <a:lnTo>
                        <a:pt x="457" y="45"/>
                      </a:lnTo>
                      <a:lnTo>
                        <a:pt x="479" y="34"/>
                      </a:lnTo>
                      <a:lnTo>
                        <a:pt x="502" y="12"/>
                      </a:lnTo>
                      <a:lnTo>
                        <a:pt x="490" y="0"/>
                      </a:lnTo>
                      <a:lnTo>
                        <a:pt x="468" y="12"/>
                      </a:lnTo>
                      <a:lnTo>
                        <a:pt x="446" y="23"/>
                      </a:lnTo>
                      <a:lnTo>
                        <a:pt x="424" y="34"/>
                      </a:lnTo>
                      <a:lnTo>
                        <a:pt x="401" y="45"/>
                      </a:lnTo>
                      <a:lnTo>
                        <a:pt x="368" y="56"/>
                      </a:lnTo>
                      <a:lnTo>
                        <a:pt x="334" y="67"/>
                      </a:lnTo>
                      <a:lnTo>
                        <a:pt x="312" y="67"/>
                      </a:lnTo>
                      <a:lnTo>
                        <a:pt x="268" y="78"/>
                      </a:lnTo>
                      <a:lnTo>
                        <a:pt x="234" y="78"/>
                      </a:lnTo>
                      <a:lnTo>
                        <a:pt x="201" y="78"/>
                      </a:lnTo>
                      <a:lnTo>
                        <a:pt x="167" y="67"/>
                      </a:lnTo>
                      <a:lnTo>
                        <a:pt x="134" y="67"/>
                      </a:lnTo>
                      <a:lnTo>
                        <a:pt x="100" y="56"/>
                      </a:lnTo>
                      <a:lnTo>
                        <a:pt x="78" y="45"/>
                      </a:lnTo>
                      <a:lnTo>
                        <a:pt x="45" y="23"/>
                      </a:lnTo>
                      <a:lnTo>
                        <a:pt x="11" y="12"/>
                      </a:lnTo>
                      <a:lnTo>
                        <a:pt x="0" y="23"/>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1407"/>
                <p:cNvSpPr/>
                <p:nvPr/>
              </p:nvSpPr>
              <p:spPr>
                <a:xfrm rot="111600">
                  <a:off x="5784480" y="1513800"/>
                  <a:ext cx="9720" cy="14040"/>
                </a:xfrm>
                <a:custGeom>
                  <a:avLst/>
                  <a:gdLst>
                    <a:gd name="textAreaLeft" fmla="*/ 0 w 9720"/>
                    <a:gd name="textAreaRight" fmla="*/ 10080 w 9720"/>
                    <a:gd name="textAreaTop" fmla="*/ 0 h 14040"/>
                    <a:gd name="textAreaBottom" fmla="*/ 14400 h 14040"/>
                  </a:gdLst>
                  <a:ahLst/>
                  <a:rect l="textAreaLeft" t="textAreaTop" r="textAreaRight" b="textAreaBottom"/>
                  <a:pathLst>
                    <a:path w="89" h="89">
                      <a:moveTo>
                        <a:pt x="0" y="11"/>
                      </a:moveTo>
                      <a:lnTo>
                        <a:pt x="11" y="22"/>
                      </a:lnTo>
                      <a:lnTo>
                        <a:pt x="11" y="33"/>
                      </a:lnTo>
                      <a:lnTo>
                        <a:pt x="22" y="44"/>
                      </a:lnTo>
                      <a:lnTo>
                        <a:pt x="34" y="55"/>
                      </a:lnTo>
                      <a:lnTo>
                        <a:pt x="45" y="66"/>
                      </a:lnTo>
                      <a:lnTo>
                        <a:pt x="56" y="66"/>
                      </a:lnTo>
                      <a:lnTo>
                        <a:pt x="67" y="78"/>
                      </a:lnTo>
                      <a:lnTo>
                        <a:pt x="78" y="89"/>
                      </a:lnTo>
                      <a:lnTo>
                        <a:pt x="89" y="78"/>
                      </a:lnTo>
                      <a:lnTo>
                        <a:pt x="78" y="66"/>
                      </a:lnTo>
                      <a:lnTo>
                        <a:pt x="67" y="55"/>
                      </a:lnTo>
                      <a:lnTo>
                        <a:pt x="56" y="44"/>
                      </a:lnTo>
                      <a:lnTo>
                        <a:pt x="45" y="33"/>
                      </a:lnTo>
                      <a:lnTo>
                        <a:pt x="34" y="33"/>
                      </a:lnTo>
                      <a:lnTo>
                        <a:pt x="34" y="22"/>
                      </a:lnTo>
                      <a:lnTo>
                        <a:pt x="22" y="11"/>
                      </a:lnTo>
                      <a:lnTo>
                        <a:pt x="11" y="0"/>
                      </a:lnTo>
                      <a:lnTo>
                        <a:pt x="0" y="11"/>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Freeform 1406"/>
                <p:cNvSpPr/>
                <p:nvPr/>
              </p:nvSpPr>
              <p:spPr>
                <a:xfrm rot="111600">
                  <a:off x="5792760" y="152676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11" y="0"/>
                      </a:moveTo>
                      <a:lnTo>
                        <a:pt x="0" y="0"/>
                      </a:lnTo>
                      <a:lnTo>
                        <a:pt x="0" y="11"/>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Freeform 1405"/>
                <p:cNvSpPr/>
                <p:nvPr/>
              </p:nvSpPr>
              <p:spPr>
                <a:xfrm rot="111600">
                  <a:off x="5814000" y="1616760"/>
                  <a:ext cx="190080" cy="326160"/>
                </a:xfrm>
                <a:custGeom>
                  <a:avLst/>
                  <a:gdLst>
                    <a:gd name="textAreaLeft" fmla="*/ 0 w 190080"/>
                    <a:gd name="textAreaRight" fmla="*/ 190440 w 190080"/>
                    <a:gd name="textAreaTop" fmla="*/ 0 h 326160"/>
                    <a:gd name="textAreaBottom" fmla="*/ 326520 h 326160"/>
                  </a:gdLst>
                  <a:ahLst/>
                  <a:rect l="textAreaLeft" t="textAreaTop" r="textAreaRight" b="textAreaBottom"/>
                  <a:pathLst>
                    <a:path w="1738" h="2017">
                      <a:moveTo>
                        <a:pt x="289" y="122"/>
                      </a:moveTo>
                      <a:lnTo>
                        <a:pt x="323" y="100"/>
                      </a:lnTo>
                      <a:lnTo>
                        <a:pt x="356" y="89"/>
                      </a:lnTo>
                      <a:lnTo>
                        <a:pt x="390" y="78"/>
                      </a:lnTo>
                      <a:lnTo>
                        <a:pt x="434" y="66"/>
                      </a:lnTo>
                      <a:lnTo>
                        <a:pt x="468" y="55"/>
                      </a:lnTo>
                      <a:lnTo>
                        <a:pt x="512" y="44"/>
                      </a:lnTo>
                      <a:lnTo>
                        <a:pt x="546" y="33"/>
                      </a:lnTo>
                      <a:lnTo>
                        <a:pt x="579" y="22"/>
                      </a:lnTo>
                      <a:lnTo>
                        <a:pt x="624" y="22"/>
                      </a:lnTo>
                      <a:lnTo>
                        <a:pt x="657" y="11"/>
                      </a:lnTo>
                      <a:lnTo>
                        <a:pt x="702" y="11"/>
                      </a:lnTo>
                      <a:lnTo>
                        <a:pt x="735" y="0"/>
                      </a:lnTo>
                      <a:lnTo>
                        <a:pt x="780" y="0"/>
                      </a:lnTo>
                      <a:lnTo>
                        <a:pt x="813" y="0"/>
                      </a:lnTo>
                      <a:lnTo>
                        <a:pt x="858" y="0"/>
                      </a:lnTo>
                      <a:lnTo>
                        <a:pt x="902" y="0"/>
                      </a:lnTo>
                      <a:lnTo>
                        <a:pt x="936" y="0"/>
                      </a:lnTo>
                      <a:lnTo>
                        <a:pt x="980" y="0"/>
                      </a:lnTo>
                      <a:lnTo>
                        <a:pt x="1014" y="0"/>
                      </a:lnTo>
                      <a:lnTo>
                        <a:pt x="1058" y="11"/>
                      </a:lnTo>
                      <a:lnTo>
                        <a:pt x="1092" y="11"/>
                      </a:lnTo>
                      <a:lnTo>
                        <a:pt x="1136" y="11"/>
                      </a:lnTo>
                      <a:lnTo>
                        <a:pt x="1181" y="22"/>
                      </a:lnTo>
                      <a:lnTo>
                        <a:pt x="1214" y="33"/>
                      </a:lnTo>
                      <a:lnTo>
                        <a:pt x="1248" y="33"/>
                      </a:lnTo>
                      <a:lnTo>
                        <a:pt x="1292" y="44"/>
                      </a:lnTo>
                      <a:lnTo>
                        <a:pt x="1337" y="55"/>
                      </a:lnTo>
                      <a:lnTo>
                        <a:pt x="1370" y="66"/>
                      </a:lnTo>
                      <a:lnTo>
                        <a:pt x="1415" y="78"/>
                      </a:lnTo>
                      <a:lnTo>
                        <a:pt x="1448" y="89"/>
                      </a:lnTo>
                      <a:lnTo>
                        <a:pt x="1482" y="100"/>
                      </a:lnTo>
                      <a:lnTo>
                        <a:pt x="1526" y="122"/>
                      </a:lnTo>
                      <a:lnTo>
                        <a:pt x="1515" y="167"/>
                      </a:lnTo>
                      <a:lnTo>
                        <a:pt x="1504" y="211"/>
                      </a:lnTo>
                      <a:lnTo>
                        <a:pt x="1493" y="267"/>
                      </a:lnTo>
                      <a:lnTo>
                        <a:pt x="1482" y="323"/>
                      </a:lnTo>
                      <a:lnTo>
                        <a:pt x="1482" y="378"/>
                      </a:lnTo>
                      <a:lnTo>
                        <a:pt x="1482" y="456"/>
                      </a:lnTo>
                      <a:lnTo>
                        <a:pt x="1493" y="546"/>
                      </a:lnTo>
                      <a:lnTo>
                        <a:pt x="1526" y="646"/>
                      </a:lnTo>
                      <a:lnTo>
                        <a:pt x="1560" y="646"/>
                      </a:lnTo>
                      <a:lnTo>
                        <a:pt x="1582" y="635"/>
                      </a:lnTo>
                      <a:lnTo>
                        <a:pt x="1616" y="635"/>
                      </a:lnTo>
                      <a:lnTo>
                        <a:pt x="1638" y="635"/>
                      </a:lnTo>
                      <a:lnTo>
                        <a:pt x="1660" y="635"/>
                      </a:lnTo>
                      <a:lnTo>
                        <a:pt x="1683" y="635"/>
                      </a:lnTo>
                      <a:lnTo>
                        <a:pt x="1705" y="646"/>
                      </a:lnTo>
                      <a:lnTo>
                        <a:pt x="1716" y="668"/>
                      </a:lnTo>
                      <a:lnTo>
                        <a:pt x="1727" y="702"/>
                      </a:lnTo>
                      <a:lnTo>
                        <a:pt x="1738" y="746"/>
                      </a:lnTo>
                      <a:lnTo>
                        <a:pt x="1738" y="802"/>
                      </a:lnTo>
                      <a:lnTo>
                        <a:pt x="1738" y="858"/>
                      </a:lnTo>
                      <a:lnTo>
                        <a:pt x="1738" y="913"/>
                      </a:lnTo>
                      <a:lnTo>
                        <a:pt x="1727" y="969"/>
                      </a:lnTo>
                      <a:lnTo>
                        <a:pt x="1727" y="1025"/>
                      </a:lnTo>
                      <a:lnTo>
                        <a:pt x="1716" y="1069"/>
                      </a:lnTo>
                      <a:lnTo>
                        <a:pt x="1705" y="1081"/>
                      </a:lnTo>
                      <a:lnTo>
                        <a:pt x="1694" y="1092"/>
                      </a:lnTo>
                      <a:lnTo>
                        <a:pt x="1683" y="1092"/>
                      </a:lnTo>
                      <a:lnTo>
                        <a:pt x="1671" y="1103"/>
                      </a:lnTo>
                      <a:lnTo>
                        <a:pt x="1660" y="1103"/>
                      </a:lnTo>
                      <a:lnTo>
                        <a:pt x="1649" y="1114"/>
                      </a:lnTo>
                      <a:lnTo>
                        <a:pt x="1627" y="1114"/>
                      </a:lnTo>
                      <a:lnTo>
                        <a:pt x="1616" y="1125"/>
                      </a:lnTo>
                      <a:lnTo>
                        <a:pt x="1593" y="1125"/>
                      </a:lnTo>
                      <a:lnTo>
                        <a:pt x="1582" y="1136"/>
                      </a:lnTo>
                      <a:lnTo>
                        <a:pt x="1560" y="1136"/>
                      </a:lnTo>
                      <a:lnTo>
                        <a:pt x="1549" y="1136"/>
                      </a:lnTo>
                      <a:lnTo>
                        <a:pt x="1538" y="1148"/>
                      </a:lnTo>
                      <a:lnTo>
                        <a:pt x="1515" y="1148"/>
                      </a:lnTo>
                      <a:lnTo>
                        <a:pt x="1504" y="1148"/>
                      </a:lnTo>
                      <a:lnTo>
                        <a:pt x="1493" y="1148"/>
                      </a:lnTo>
                      <a:lnTo>
                        <a:pt x="1504" y="1226"/>
                      </a:lnTo>
                      <a:lnTo>
                        <a:pt x="1515" y="1292"/>
                      </a:lnTo>
                      <a:lnTo>
                        <a:pt x="1515" y="1359"/>
                      </a:lnTo>
                      <a:lnTo>
                        <a:pt x="1526" y="1415"/>
                      </a:lnTo>
                      <a:lnTo>
                        <a:pt x="1526" y="1471"/>
                      </a:lnTo>
                      <a:lnTo>
                        <a:pt x="1538" y="1538"/>
                      </a:lnTo>
                      <a:lnTo>
                        <a:pt x="1538" y="1593"/>
                      </a:lnTo>
                      <a:lnTo>
                        <a:pt x="1538" y="1638"/>
                      </a:lnTo>
                      <a:lnTo>
                        <a:pt x="1538" y="1694"/>
                      </a:lnTo>
                      <a:lnTo>
                        <a:pt x="1538" y="1738"/>
                      </a:lnTo>
                      <a:lnTo>
                        <a:pt x="1538" y="1772"/>
                      </a:lnTo>
                      <a:lnTo>
                        <a:pt x="1526" y="1805"/>
                      </a:lnTo>
                      <a:lnTo>
                        <a:pt x="1526" y="1839"/>
                      </a:lnTo>
                      <a:lnTo>
                        <a:pt x="1515" y="1861"/>
                      </a:lnTo>
                      <a:lnTo>
                        <a:pt x="1504" y="1883"/>
                      </a:lnTo>
                      <a:lnTo>
                        <a:pt x="1493" y="1894"/>
                      </a:lnTo>
                      <a:lnTo>
                        <a:pt x="1493" y="1905"/>
                      </a:lnTo>
                      <a:lnTo>
                        <a:pt x="1482" y="1917"/>
                      </a:lnTo>
                      <a:lnTo>
                        <a:pt x="1460" y="1928"/>
                      </a:lnTo>
                      <a:lnTo>
                        <a:pt x="1437" y="1928"/>
                      </a:lnTo>
                      <a:lnTo>
                        <a:pt x="1415" y="1939"/>
                      </a:lnTo>
                      <a:lnTo>
                        <a:pt x="1393" y="1950"/>
                      </a:lnTo>
                      <a:lnTo>
                        <a:pt x="1359" y="1961"/>
                      </a:lnTo>
                      <a:lnTo>
                        <a:pt x="1337" y="1972"/>
                      </a:lnTo>
                      <a:lnTo>
                        <a:pt x="1304" y="1972"/>
                      </a:lnTo>
                      <a:lnTo>
                        <a:pt x="1259" y="1983"/>
                      </a:lnTo>
                      <a:lnTo>
                        <a:pt x="1226" y="1995"/>
                      </a:lnTo>
                      <a:lnTo>
                        <a:pt x="1181" y="1995"/>
                      </a:lnTo>
                      <a:lnTo>
                        <a:pt x="1148" y="2006"/>
                      </a:lnTo>
                      <a:lnTo>
                        <a:pt x="1103" y="2006"/>
                      </a:lnTo>
                      <a:lnTo>
                        <a:pt x="1058" y="2006"/>
                      </a:lnTo>
                      <a:lnTo>
                        <a:pt x="1014" y="2017"/>
                      </a:lnTo>
                      <a:lnTo>
                        <a:pt x="969" y="2017"/>
                      </a:lnTo>
                      <a:lnTo>
                        <a:pt x="913" y="2017"/>
                      </a:lnTo>
                      <a:lnTo>
                        <a:pt x="869" y="2017"/>
                      </a:lnTo>
                      <a:lnTo>
                        <a:pt x="824" y="2017"/>
                      </a:lnTo>
                      <a:lnTo>
                        <a:pt x="780" y="2017"/>
                      </a:lnTo>
                      <a:lnTo>
                        <a:pt x="724" y="2017"/>
                      </a:lnTo>
                      <a:lnTo>
                        <a:pt x="679" y="2017"/>
                      </a:lnTo>
                      <a:lnTo>
                        <a:pt x="635" y="2017"/>
                      </a:lnTo>
                      <a:lnTo>
                        <a:pt x="579" y="2006"/>
                      </a:lnTo>
                      <a:lnTo>
                        <a:pt x="535" y="2006"/>
                      </a:lnTo>
                      <a:lnTo>
                        <a:pt x="490" y="2006"/>
                      </a:lnTo>
                      <a:lnTo>
                        <a:pt x="445" y="1995"/>
                      </a:lnTo>
                      <a:lnTo>
                        <a:pt x="401" y="1995"/>
                      </a:lnTo>
                      <a:lnTo>
                        <a:pt x="367" y="1983"/>
                      </a:lnTo>
                      <a:lnTo>
                        <a:pt x="323" y="1972"/>
                      </a:lnTo>
                      <a:lnTo>
                        <a:pt x="289" y="1961"/>
                      </a:lnTo>
                      <a:lnTo>
                        <a:pt x="245" y="1939"/>
                      </a:lnTo>
                      <a:lnTo>
                        <a:pt x="211" y="1894"/>
                      </a:lnTo>
                      <a:lnTo>
                        <a:pt x="200" y="1805"/>
                      </a:lnTo>
                      <a:lnTo>
                        <a:pt x="189" y="1705"/>
                      </a:lnTo>
                      <a:lnTo>
                        <a:pt x="200" y="1582"/>
                      </a:lnTo>
                      <a:lnTo>
                        <a:pt x="211" y="1437"/>
                      </a:lnTo>
                      <a:lnTo>
                        <a:pt x="222" y="1281"/>
                      </a:lnTo>
                      <a:lnTo>
                        <a:pt x="245" y="1114"/>
                      </a:lnTo>
                      <a:lnTo>
                        <a:pt x="222" y="1114"/>
                      </a:lnTo>
                      <a:lnTo>
                        <a:pt x="211" y="1103"/>
                      </a:lnTo>
                      <a:lnTo>
                        <a:pt x="200" y="1103"/>
                      </a:lnTo>
                      <a:lnTo>
                        <a:pt x="178" y="1103"/>
                      </a:lnTo>
                      <a:lnTo>
                        <a:pt x="167" y="1103"/>
                      </a:lnTo>
                      <a:lnTo>
                        <a:pt x="144" y="1103"/>
                      </a:lnTo>
                      <a:lnTo>
                        <a:pt x="133" y="1103"/>
                      </a:lnTo>
                      <a:lnTo>
                        <a:pt x="111" y="1103"/>
                      </a:lnTo>
                      <a:lnTo>
                        <a:pt x="100" y="1092"/>
                      </a:lnTo>
                      <a:lnTo>
                        <a:pt x="89" y="1092"/>
                      </a:lnTo>
                      <a:lnTo>
                        <a:pt x="78" y="1092"/>
                      </a:lnTo>
                      <a:lnTo>
                        <a:pt x="55" y="1092"/>
                      </a:lnTo>
                      <a:lnTo>
                        <a:pt x="44" y="1081"/>
                      </a:lnTo>
                      <a:lnTo>
                        <a:pt x="33" y="1081"/>
                      </a:lnTo>
                      <a:lnTo>
                        <a:pt x="22" y="1069"/>
                      </a:lnTo>
                      <a:lnTo>
                        <a:pt x="22" y="1058"/>
                      </a:lnTo>
                      <a:lnTo>
                        <a:pt x="11" y="1014"/>
                      </a:lnTo>
                      <a:lnTo>
                        <a:pt x="0" y="947"/>
                      </a:lnTo>
                      <a:lnTo>
                        <a:pt x="0" y="880"/>
                      </a:lnTo>
                      <a:lnTo>
                        <a:pt x="0" y="802"/>
                      </a:lnTo>
                      <a:lnTo>
                        <a:pt x="11" y="724"/>
                      </a:lnTo>
                      <a:lnTo>
                        <a:pt x="11" y="657"/>
                      </a:lnTo>
                      <a:lnTo>
                        <a:pt x="22" y="601"/>
                      </a:lnTo>
                      <a:lnTo>
                        <a:pt x="33" y="568"/>
                      </a:lnTo>
                      <a:lnTo>
                        <a:pt x="44" y="557"/>
                      </a:lnTo>
                      <a:lnTo>
                        <a:pt x="55" y="557"/>
                      </a:lnTo>
                      <a:lnTo>
                        <a:pt x="66" y="546"/>
                      </a:lnTo>
                      <a:lnTo>
                        <a:pt x="78" y="546"/>
                      </a:lnTo>
                      <a:lnTo>
                        <a:pt x="89" y="546"/>
                      </a:lnTo>
                      <a:lnTo>
                        <a:pt x="100" y="546"/>
                      </a:lnTo>
                      <a:lnTo>
                        <a:pt x="122" y="535"/>
                      </a:lnTo>
                      <a:lnTo>
                        <a:pt x="133" y="535"/>
                      </a:lnTo>
                      <a:lnTo>
                        <a:pt x="144" y="535"/>
                      </a:lnTo>
                      <a:lnTo>
                        <a:pt x="167" y="546"/>
                      </a:lnTo>
                      <a:lnTo>
                        <a:pt x="178" y="546"/>
                      </a:lnTo>
                      <a:lnTo>
                        <a:pt x="189" y="546"/>
                      </a:lnTo>
                      <a:lnTo>
                        <a:pt x="211" y="546"/>
                      </a:lnTo>
                      <a:lnTo>
                        <a:pt x="222" y="546"/>
                      </a:lnTo>
                      <a:lnTo>
                        <a:pt x="245" y="546"/>
                      </a:lnTo>
                      <a:lnTo>
                        <a:pt x="256" y="546"/>
                      </a:lnTo>
                      <a:lnTo>
                        <a:pt x="267" y="434"/>
                      </a:lnTo>
                      <a:lnTo>
                        <a:pt x="278" y="323"/>
                      </a:lnTo>
                      <a:lnTo>
                        <a:pt x="278" y="211"/>
                      </a:lnTo>
                      <a:lnTo>
                        <a:pt x="289" y="122"/>
                      </a:lnTo>
                      <a:close/>
                    </a:path>
                  </a:pathLst>
                </a:custGeom>
                <a:solidFill>
                  <a:srgbClr val="ffebb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1404"/>
                <p:cNvSpPr/>
                <p:nvPr/>
              </p:nvSpPr>
              <p:spPr>
                <a:xfrm rot="111600">
                  <a:off x="5849280" y="1615320"/>
                  <a:ext cx="137880" cy="21600"/>
                </a:xfrm>
                <a:custGeom>
                  <a:avLst/>
                  <a:gdLst>
                    <a:gd name="textAreaLeft" fmla="*/ 0 w 137880"/>
                    <a:gd name="textAreaRight" fmla="*/ 138240 w 137880"/>
                    <a:gd name="textAreaTop" fmla="*/ 0 h 21600"/>
                    <a:gd name="textAreaBottom" fmla="*/ 21960 h 21600"/>
                  </a:gdLst>
                  <a:ahLst/>
                  <a:rect l="textAreaLeft" t="textAreaTop" r="textAreaRight" b="textAreaBottom"/>
                  <a:pathLst>
                    <a:path w="1260" h="134">
                      <a:moveTo>
                        <a:pt x="1260" y="134"/>
                      </a:moveTo>
                      <a:lnTo>
                        <a:pt x="1248" y="123"/>
                      </a:lnTo>
                      <a:lnTo>
                        <a:pt x="1215" y="101"/>
                      </a:lnTo>
                      <a:lnTo>
                        <a:pt x="1170" y="90"/>
                      </a:lnTo>
                      <a:lnTo>
                        <a:pt x="1137" y="78"/>
                      </a:lnTo>
                      <a:lnTo>
                        <a:pt x="1092" y="67"/>
                      </a:lnTo>
                      <a:lnTo>
                        <a:pt x="1059" y="56"/>
                      </a:lnTo>
                      <a:lnTo>
                        <a:pt x="1014" y="45"/>
                      </a:lnTo>
                      <a:lnTo>
                        <a:pt x="981" y="45"/>
                      </a:lnTo>
                      <a:lnTo>
                        <a:pt x="936" y="34"/>
                      </a:lnTo>
                      <a:lnTo>
                        <a:pt x="903" y="23"/>
                      </a:lnTo>
                      <a:lnTo>
                        <a:pt x="858" y="23"/>
                      </a:lnTo>
                      <a:lnTo>
                        <a:pt x="814" y="12"/>
                      </a:lnTo>
                      <a:lnTo>
                        <a:pt x="780" y="12"/>
                      </a:lnTo>
                      <a:lnTo>
                        <a:pt x="736" y="0"/>
                      </a:lnTo>
                      <a:lnTo>
                        <a:pt x="702" y="0"/>
                      </a:lnTo>
                      <a:lnTo>
                        <a:pt x="658" y="0"/>
                      </a:lnTo>
                      <a:lnTo>
                        <a:pt x="624" y="0"/>
                      </a:lnTo>
                      <a:lnTo>
                        <a:pt x="580" y="0"/>
                      </a:lnTo>
                      <a:lnTo>
                        <a:pt x="535" y="0"/>
                      </a:lnTo>
                      <a:lnTo>
                        <a:pt x="502" y="0"/>
                      </a:lnTo>
                      <a:lnTo>
                        <a:pt x="457" y="12"/>
                      </a:lnTo>
                      <a:lnTo>
                        <a:pt x="424" y="12"/>
                      </a:lnTo>
                      <a:lnTo>
                        <a:pt x="379" y="12"/>
                      </a:lnTo>
                      <a:lnTo>
                        <a:pt x="346" y="23"/>
                      </a:lnTo>
                      <a:lnTo>
                        <a:pt x="301" y="34"/>
                      </a:lnTo>
                      <a:lnTo>
                        <a:pt x="268" y="34"/>
                      </a:lnTo>
                      <a:lnTo>
                        <a:pt x="223" y="45"/>
                      </a:lnTo>
                      <a:lnTo>
                        <a:pt x="190" y="56"/>
                      </a:lnTo>
                      <a:lnTo>
                        <a:pt x="156" y="67"/>
                      </a:lnTo>
                      <a:lnTo>
                        <a:pt x="112" y="78"/>
                      </a:lnTo>
                      <a:lnTo>
                        <a:pt x="78" y="90"/>
                      </a:lnTo>
                      <a:lnTo>
                        <a:pt x="45" y="101"/>
                      </a:lnTo>
                      <a:lnTo>
                        <a:pt x="0" y="123"/>
                      </a:lnTo>
                      <a:lnTo>
                        <a:pt x="11" y="134"/>
                      </a:lnTo>
                      <a:lnTo>
                        <a:pt x="45" y="123"/>
                      </a:lnTo>
                      <a:lnTo>
                        <a:pt x="78" y="112"/>
                      </a:lnTo>
                      <a:lnTo>
                        <a:pt x="123" y="101"/>
                      </a:lnTo>
                      <a:lnTo>
                        <a:pt x="156" y="90"/>
                      </a:lnTo>
                      <a:lnTo>
                        <a:pt x="190" y="78"/>
                      </a:lnTo>
                      <a:lnTo>
                        <a:pt x="234" y="67"/>
                      </a:lnTo>
                      <a:lnTo>
                        <a:pt x="268" y="56"/>
                      </a:lnTo>
                      <a:lnTo>
                        <a:pt x="312" y="45"/>
                      </a:lnTo>
                      <a:lnTo>
                        <a:pt x="346" y="45"/>
                      </a:lnTo>
                      <a:lnTo>
                        <a:pt x="390" y="34"/>
                      </a:lnTo>
                      <a:lnTo>
                        <a:pt x="424" y="34"/>
                      </a:lnTo>
                      <a:lnTo>
                        <a:pt x="457" y="23"/>
                      </a:lnTo>
                      <a:lnTo>
                        <a:pt x="502" y="23"/>
                      </a:lnTo>
                      <a:lnTo>
                        <a:pt x="535" y="23"/>
                      </a:lnTo>
                      <a:lnTo>
                        <a:pt x="580" y="23"/>
                      </a:lnTo>
                      <a:lnTo>
                        <a:pt x="624" y="23"/>
                      </a:lnTo>
                      <a:lnTo>
                        <a:pt x="658" y="23"/>
                      </a:lnTo>
                      <a:lnTo>
                        <a:pt x="702" y="23"/>
                      </a:lnTo>
                      <a:lnTo>
                        <a:pt x="736" y="23"/>
                      </a:lnTo>
                      <a:lnTo>
                        <a:pt x="780" y="23"/>
                      </a:lnTo>
                      <a:lnTo>
                        <a:pt x="814" y="34"/>
                      </a:lnTo>
                      <a:lnTo>
                        <a:pt x="858" y="34"/>
                      </a:lnTo>
                      <a:lnTo>
                        <a:pt x="892" y="45"/>
                      </a:lnTo>
                      <a:lnTo>
                        <a:pt x="936" y="45"/>
                      </a:lnTo>
                      <a:lnTo>
                        <a:pt x="970" y="56"/>
                      </a:lnTo>
                      <a:lnTo>
                        <a:pt x="1014" y="67"/>
                      </a:lnTo>
                      <a:lnTo>
                        <a:pt x="1048" y="78"/>
                      </a:lnTo>
                      <a:lnTo>
                        <a:pt x="1092" y="90"/>
                      </a:lnTo>
                      <a:lnTo>
                        <a:pt x="1126" y="101"/>
                      </a:lnTo>
                      <a:lnTo>
                        <a:pt x="1170" y="112"/>
                      </a:lnTo>
                      <a:lnTo>
                        <a:pt x="1204" y="123"/>
                      </a:lnTo>
                      <a:lnTo>
                        <a:pt x="1237" y="134"/>
                      </a:lnTo>
                      <a:lnTo>
                        <a:pt x="1260" y="134"/>
                      </a:lnTo>
                      <a:close/>
                    </a:path>
                  </a:pathLst>
                </a:custGeom>
                <a:solidFill>
                  <a:srgbClr val="000000"/>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1403"/>
                <p:cNvSpPr/>
                <p:nvPr/>
              </p:nvSpPr>
              <p:spPr>
                <a:xfrm rot="111600">
                  <a:off x="5978520" y="1639080"/>
                  <a:ext cx="7200" cy="86400"/>
                </a:xfrm>
                <a:custGeom>
                  <a:avLst/>
                  <a:gdLst>
                    <a:gd name="textAreaLeft" fmla="*/ 0 w 7200"/>
                    <a:gd name="textAreaRight" fmla="*/ 7560 w 7200"/>
                    <a:gd name="textAreaTop" fmla="*/ 0 h 86400"/>
                    <a:gd name="textAreaBottom" fmla="*/ 86760 h 86400"/>
                  </a:gdLst>
                  <a:ahLst/>
                  <a:rect l="textAreaLeft" t="textAreaTop" r="textAreaRight" b="textAreaBottom"/>
                  <a:pathLst>
                    <a:path w="67" h="535">
                      <a:moveTo>
                        <a:pt x="55" y="513"/>
                      </a:moveTo>
                      <a:lnTo>
                        <a:pt x="67" y="524"/>
                      </a:lnTo>
                      <a:lnTo>
                        <a:pt x="33" y="424"/>
                      </a:lnTo>
                      <a:lnTo>
                        <a:pt x="22" y="334"/>
                      </a:lnTo>
                      <a:lnTo>
                        <a:pt x="11" y="256"/>
                      </a:lnTo>
                      <a:lnTo>
                        <a:pt x="22" y="201"/>
                      </a:lnTo>
                      <a:lnTo>
                        <a:pt x="33" y="145"/>
                      </a:lnTo>
                      <a:lnTo>
                        <a:pt x="44" y="100"/>
                      </a:lnTo>
                      <a:lnTo>
                        <a:pt x="55" y="45"/>
                      </a:lnTo>
                      <a:lnTo>
                        <a:pt x="67" y="0"/>
                      </a:lnTo>
                      <a:lnTo>
                        <a:pt x="44" y="0"/>
                      </a:lnTo>
                      <a:lnTo>
                        <a:pt x="44" y="45"/>
                      </a:lnTo>
                      <a:lnTo>
                        <a:pt x="33" y="89"/>
                      </a:lnTo>
                      <a:lnTo>
                        <a:pt x="11" y="145"/>
                      </a:lnTo>
                      <a:lnTo>
                        <a:pt x="0" y="201"/>
                      </a:lnTo>
                      <a:lnTo>
                        <a:pt x="0" y="256"/>
                      </a:lnTo>
                      <a:lnTo>
                        <a:pt x="0" y="334"/>
                      </a:lnTo>
                      <a:lnTo>
                        <a:pt x="11" y="424"/>
                      </a:lnTo>
                      <a:lnTo>
                        <a:pt x="44" y="524"/>
                      </a:lnTo>
                      <a:lnTo>
                        <a:pt x="55" y="535"/>
                      </a:lnTo>
                      <a:lnTo>
                        <a:pt x="55" y="513"/>
                      </a:lnTo>
                      <a:close/>
                    </a:path>
                  </a:pathLst>
                </a:custGeom>
                <a:solidFill>
                  <a:srgbClr val="000000"/>
                </a:solidFill>
                <a:ln w="0">
                  <a:noFill/>
                </a:ln>
              </p:spPr>
              <p:style>
                <a:lnRef idx="0"/>
                <a:fillRef idx="0"/>
                <a:effectRef idx="0"/>
                <a:fontRef idx="minor"/>
              </p:style>
              <p:txBody>
                <a:bodyPr lIns="90000" rIns="90000" tIns="39960" bIns="39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1402"/>
                <p:cNvSpPr/>
                <p:nvPr/>
              </p:nvSpPr>
              <p:spPr>
                <a:xfrm rot="111600">
                  <a:off x="5982840" y="1720440"/>
                  <a:ext cx="21960" cy="6840"/>
                </a:xfrm>
                <a:custGeom>
                  <a:avLst/>
                  <a:gdLst>
                    <a:gd name="textAreaLeft" fmla="*/ 0 w 21960"/>
                    <a:gd name="textAreaRight" fmla="*/ 22320 w 21960"/>
                    <a:gd name="textAreaTop" fmla="*/ 0 h 6840"/>
                    <a:gd name="textAreaBottom" fmla="*/ 7200 h 6840"/>
                  </a:gdLst>
                  <a:ahLst/>
                  <a:rect l="textAreaLeft" t="textAreaTop" r="textAreaRight" b="textAreaBottom"/>
                  <a:pathLst>
                    <a:path w="201" h="44">
                      <a:moveTo>
                        <a:pt x="190" y="33"/>
                      </a:moveTo>
                      <a:lnTo>
                        <a:pt x="201" y="44"/>
                      </a:lnTo>
                      <a:lnTo>
                        <a:pt x="179" y="22"/>
                      </a:lnTo>
                      <a:lnTo>
                        <a:pt x="157" y="0"/>
                      </a:lnTo>
                      <a:lnTo>
                        <a:pt x="134" y="0"/>
                      </a:lnTo>
                      <a:lnTo>
                        <a:pt x="112" y="0"/>
                      </a:lnTo>
                      <a:lnTo>
                        <a:pt x="90" y="0"/>
                      </a:lnTo>
                      <a:lnTo>
                        <a:pt x="56" y="0"/>
                      </a:lnTo>
                      <a:lnTo>
                        <a:pt x="34" y="11"/>
                      </a:lnTo>
                      <a:lnTo>
                        <a:pt x="0" y="11"/>
                      </a:lnTo>
                      <a:lnTo>
                        <a:pt x="0" y="33"/>
                      </a:lnTo>
                      <a:lnTo>
                        <a:pt x="34" y="22"/>
                      </a:lnTo>
                      <a:lnTo>
                        <a:pt x="56" y="22"/>
                      </a:lnTo>
                      <a:lnTo>
                        <a:pt x="90" y="22"/>
                      </a:lnTo>
                      <a:lnTo>
                        <a:pt x="112" y="22"/>
                      </a:lnTo>
                      <a:lnTo>
                        <a:pt x="134" y="22"/>
                      </a:lnTo>
                      <a:lnTo>
                        <a:pt x="157" y="22"/>
                      </a:lnTo>
                      <a:lnTo>
                        <a:pt x="168" y="33"/>
                      </a:lnTo>
                      <a:lnTo>
                        <a:pt x="179" y="44"/>
                      </a:lnTo>
                      <a:lnTo>
                        <a:pt x="190" y="33"/>
                      </a:lnTo>
                      <a:close/>
                    </a:path>
                  </a:pathLst>
                </a:custGeom>
                <a:solidFill>
                  <a:srgbClr val="000000"/>
                </a:solidFill>
                <a:ln w="0">
                  <a:noFill/>
                </a:ln>
              </p:spPr>
              <p:style>
                <a:lnRef idx="0"/>
                <a:fillRef idx="0"/>
                <a:effectRef idx="0"/>
                <a:fontRef idx="minor"/>
              </p:style>
              <p:txBody>
                <a:bodyPr lIns="90000" rIns="90000" tIns="-39600" bIns="-39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1401"/>
                <p:cNvSpPr/>
                <p:nvPr/>
              </p:nvSpPr>
              <p:spPr>
                <a:xfrm rot="111600">
                  <a:off x="6001200" y="1726200"/>
                  <a:ext cx="4680" cy="68400"/>
                </a:xfrm>
                <a:custGeom>
                  <a:avLst/>
                  <a:gdLst>
                    <a:gd name="textAreaLeft" fmla="*/ 0 w 4680"/>
                    <a:gd name="textAreaRight" fmla="*/ 5040 w 4680"/>
                    <a:gd name="textAreaTop" fmla="*/ 0 h 68400"/>
                    <a:gd name="textAreaBottom" fmla="*/ 68760 h 68400"/>
                  </a:gdLst>
                  <a:ahLst/>
                  <a:rect l="textAreaLeft" t="textAreaTop" r="textAreaRight" b="textAreaBottom"/>
                  <a:pathLst>
                    <a:path w="44" h="424">
                      <a:moveTo>
                        <a:pt x="11" y="424"/>
                      </a:moveTo>
                      <a:lnTo>
                        <a:pt x="22" y="412"/>
                      </a:lnTo>
                      <a:lnTo>
                        <a:pt x="22" y="368"/>
                      </a:lnTo>
                      <a:lnTo>
                        <a:pt x="33" y="312"/>
                      </a:lnTo>
                      <a:lnTo>
                        <a:pt x="44" y="256"/>
                      </a:lnTo>
                      <a:lnTo>
                        <a:pt x="44" y="201"/>
                      </a:lnTo>
                      <a:lnTo>
                        <a:pt x="44" y="145"/>
                      </a:lnTo>
                      <a:lnTo>
                        <a:pt x="44" y="89"/>
                      </a:lnTo>
                      <a:lnTo>
                        <a:pt x="33" y="45"/>
                      </a:lnTo>
                      <a:lnTo>
                        <a:pt x="11" y="0"/>
                      </a:lnTo>
                      <a:lnTo>
                        <a:pt x="0" y="11"/>
                      </a:lnTo>
                      <a:lnTo>
                        <a:pt x="11" y="45"/>
                      </a:lnTo>
                      <a:lnTo>
                        <a:pt x="22" y="89"/>
                      </a:lnTo>
                      <a:lnTo>
                        <a:pt x="22" y="145"/>
                      </a:lnTo>
                      <a:lnTo>
                        <a:pt x="22" y="201"/>
                      </a:lnTo>
                      <a:lnTo>
                        <a:pt x="22" y="256"/>
                      </a:lnTo>
                      <a:lnTo>
                        <a:pt x="11" y="312"/>
                      </a:lnTo>
                      <a:lnTo>
                        <a:pt x="11" y="368"/>
                      </a:lnTo>
                      <a:lnTo>
                        <a:pt x="0" y="412"/>
                      </a:lnTo>
                      <a:lnTo>
                        <a:pt x="11" y="424"/>
                      </a:lnTo>
                      <a:close/>
                    </a:path>
                  </a:pathLst>
                </a:custGeom>
                <a:solidFill>
                  <a:srgbClr val="000000"/>
                </a:soli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1400"/>
                <p:cNvSpPr/>
                <p:nvPr/>
              </p:nvSpPr>
              <p:spPr>
                <a:xfrm rot="111600">
                  <a:off x="5976720" y="1792800"/>
                  <a:ext cx="24120" cy="14400"/>
                </a:xfrm>
                <a:custGeom>
                  <a:avLst/>
                  <a:gdLst>
                    <a:gd name="textAreaLeft" fmla="*/ 0 w 24120"/>
                    <a:gd name="textAreaRight" fmla="*/ 24480 w 24120"/>
                    <a:gd name="textAreaTop" fmla="*/ 0 h 14400"/>
                    <a:gd name="textAreaBottom" fmla="*/ 14760 h 14400"/>
                  </a:gdLst>
                  <a:ahLst/>
                  <a:rect l="textAreaLeft" t="textAreaTop" r="textAreaRight" b="textAreaBottom"/>
                  <a:pathLst>
                    <a:path w="223" h="90">
                      <a:moveTo>
                        <a:pt x="11" y="79"/>
                      </a:moveTo>
                      <a:lnTo>
                        <a:pt x="0" y="90"/>
                      </a:lnTo>
                      <a:lnTo>
                        <a:pt x="11" y="90"/>
                      </a:lnTo>
                      <a:lnTo>
                        <a:pt x="22" y="90"/>
                      </a:lnTo>
                      <a:lnTo>
                        <a:pt x="45" y="79"/>
                      </a:lnTo>
                      <a:lnTo>
                        <a:pt x="56" y="79"/>
                      </a:lnTo>
                      <a:lnTo>
                        <a:pt x="78" y="79"/>
                      </a:lnTo>
                      <a:lnTo>
                        <a:pt x="89" y="79"/>
                      </a:lnTo>
                      <a:lnTo>
                        <a:pt x="111" y="67"/>
                      </a:lnTo>
                      <a:lnTo>
                        <a:pt x="123" y="67"/>
                      </a:lnTo>
                      <a:lnTo>
                        <a:pt x="134" y="56"/>
                      </a:lnTo>
                      <a:lnTo>
                        <a:pt x="156" y="56"/>
                      </a:lnTo>
                      <a:lnTo>
                        <a:pt x="167" y="45"/>
                      </a:lnTo>
                      <a:lnTo>
                        <a:pt x="190" y="45"/>
                      </a:lnTo>
                      <a:lnTo>
                        <a:pt x="201" y="34"/>
                      </a:lnTo>
                      <a:lnTo>
                        <a:pt x="212" y="23"/>
                      </a:lnTo>
                      <a:lnTo>
                        <a:pt x="223" y="12"/>
                      </a:lnTo>
                      <a:lnTo>
                        <a:pt x="212" y="0"/>
                      </a:lnTo>
                      <a:lnTo>
                        <a:pt x="201" y="12"/>
                      </a:lnTo>
                      <a:lnTo>
                        <a:pt x="190" y="12"/>
                      </a:lnTo>
                      <a:lnTo>
                        <a:pt x="178" y="23"/>
                      </a:lnTo>
                      <a:lnTo>
                        <a:pt x="167" y="23"/>
                      </a:lnTo>
                      <a:lnTo>
                        <a:pt x="145" y="34"/>
                      </a:lnTo>
                      <a:lnTo>
                        <a:pt x="134" y="45"/>
                      </a:lnTo>
                      <a:lnTo>
                        <a:pt x="123" y="45"/>
                      </a:lnTo>
                      <a:lnTo>
                        <a:pt x="100" y="45"/>
                      </a:lnTo>
                      <a:lnTo>
                        <a:pt x="89" y="56"/>
                      </a:lnTo>
                      <a:lnTo>
                        <a:pt x="67" y="56"/>
                      </a:lnTo>
                      <a:lnTo>
                        <a:pt x="56" y="67"/>
                      </a:lnTo>
                      <a:lnTo>
                        <a:pt x="45" y="67"/>
                      </a:lnTo>
                      <a:lnTo>
                        <a:pt x="22" y="67"/>
                      </a:lnTo>
                      <a:lnTo>
                        <a:pt x="11" y="67"/>
                      </a:lnTo>
                      <a:lnTo>
                        <a:pt x="0" y="67"/>
                      </a:lnTo>
                      <a:lnTo>
                        <a:pt x="0" y="79"/>
                      </a:lnTo>
                      <a:lnTo>
                        <a:pt x="11" y="79"/>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1399"/>
                <p:cNvSpPr/>
                <p:nvPr/>
              </p:nvSpPr>
              <p:spPr>
                <a:xfrm rot="111600">
                  <a:off x="5975280" y="1804680"/>
                  <a:ext cx="6120" cy="79200"/>
                </a:xfrm>
                <a:custGeom>
                  <a:avLst/>
                  <a:gdLst>
                    <a:gd name="textAreaLeft" fmla="*/ 0 w 6120"/>
                    <a:gd name="textAreaRight" fmla="*/ 6480 w 6120"/>
                    <a:gd name="textAreaTop" fmla="*/ 0 h 79200"/>
                    <a:gd name="textAreaBottom" fmla="*/ 79560 h 79200"/>
                  </a:gdLst>
                  <a:ahLst/>
                  <a:rect l="textAreaLeft" t="textAreaTop" r="textAreaRight" b="textAreaBottom"/>
                  <a:pathLst>
                    <a:path w="56" h="490">
                      <a:moveTo>
                        <a:pt x="56" y="490"/>
                      </a:moveTo>
                      <a:lnTo>
                        <a:pt x="56" y="490"/>
                      </a:lnTo>
                      <a:lnTo>
                        <a:pt x="56" y="445"/>
                      </a:lnTo>
                      <a:lnTo>
                        <a:pt x="45" y="390"/>
                      </a:lnTo>
                      <a:lnTo>
                        <a:pt x="45" y="323"/>
                      </a:lnTo>
                      <a:lnTo>
                        <a:pt x="45" y="267"/>
                      </a:lnTo>
                      <a:lnTo>
                        <a:pt x="33" y="211"/>
                      </a:lnTo>
                      <a:lnTo>
                        <a:pt x="22" y="144"/>
                      </a:lnTo>
                      <a:lnTo>
                        <a:pt x="22" y="78"/>
                      </a:lnTo>
                      <a:lnTo>
                        <a:pt x="11" y="0"/>
                      </a:lnTo>
                      <a:lnTo>
                        <a:pt x="0" y="0"/>
                      </a:lnTo>
                      <a:lnTo>
                        <a:pt x="0" y="78"/>
                      </a:lnTo>
                      <a:lnTo>
                        <a:pt x="11" y="144"/>
                      </a:lnTo>
                      <a:lnTo>
                        <a:pt x="11" y="211"/>
                      </a:lnTo>
                      <a:lnTo>
                        <a:pt x="22" y="267"/>
                      </a:lnTo>
                      <a:lnTo>
                        <a:pt x="22" y="323"/>
                      </a:lnTo>
                      <a:lnTo>
                        <a:pt x="33" y="390"/>
                      </a:lnTo>
                      <a:lnTo>
                        <a:pt x="33" y="445"/>
                      </a:lnTo>
                      <a:lnTo>
                        <a:pt x="33" y="490"/>
                      </a:lnTo>
                      <a:lnTo>
                        <a:pt x="56" y="490"/>
                      </a:lnTo>
                      <a:close/>
                    </a:path>
                  </a:pathLst>
                </a:custGeom>
                <a:solidFill>
                  <a:srgbClr val="000000"/>
                </a:solidFill>
                <a:ln w="0">
                  <a:noFill/>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1398"/>
                <p:cNvSpPr/>
                <p:nvPr/>
              </p:nvSpPr>
              <p:spPr>
                <a:xfrm rot="111600">
                  <a:off x="5973480" y="1883880"/>
                  <a:ext cx="6120" cy="41400"/>
                </a:xfrm>
                <a:custGeom>
                  <a:avLst/>
                  <a:gdLst>
                    <a:gd name="textAreaLeft" fmla="*/ 0 w 6120"/>
                    <a:gd name="textAreaRight" fmla="*/ 6480 w 6120"/>
                    <a:gd name="textAreaTop" fmla="*/ 0 h 41400"/>
                    <a:gd name="textAreaBottom" fmla="*/ 41760 h 41400"/>
                  </a:gdLst>
                  <a:ahLst/>
                  <a:rect l="textAreaLeft" t="textAreaTop" r="textAreaRight" b="textAreaBottom"/>
                  <a:pathLst>
                    <a:path w="56" h="256">
                      <a:moveTo>
                        <a:pt x="11" y="256"/>
                      </a:moveTo>
                      <a:lnTo>
                        <a:pt x="11" y="256"/>
                      </a:lnTo>
                      <a:lnTo>
                        <a:pt x="22" y="245"/>
                      </a:lnTo>
                      <a:lnTo>
                        <a:pt x="33" y="223"/>
                      </a:lnTo>
                      <a:lnTo>
                        <a:pt x="33" y="201"/>
                      </a:lnTo>
                      <a:lnTo>
                        <a:pt x="45" y="167"/>
                      </a:lnTo>
                      <a:lnTo>
                        <a:pt x="56" y="134"/>
                      </a:lnTo>
                      <a:lnTo>
                        <a:pt x="56" y="100"/>
                      </a:lnTo>
                      <a:lnTo>
                        <a:pt x="56" y="56"/>
                      </a:lnTo>
                      <a:lnTo>
                        <a:pt x="56" y="0"/>
                      </a:lnTo>
                      <a:lnTo>
                        <a:pt x="33" y="0"/>
                      </a:lnTo>
                      <a:lnTo>
                        <a:pt x="33" y="56"/>
                      </a:lnTo>
                      <a:lnTo>
                        <a:pt x="33" y="100"/>
                      </a:lnTo>
                      <a:lnTo>
                        <a:pt x="33" y="134"/>
                      </a:lnTo>
                      <a:lnTo>
                        <a:pt x="22" y="167"/>
                      </a:lnTo>
                      <a:lnTo>
                        <a:pt x="22" y="201"/>
                      </a:lnTo>
                      <a:lnTo>
                        <a:pt x="11" y="223"/>
                      </a:lnTo>
                      <a:lnTo>
                        <a:pt x="0" y="234"/>
                      </a:lnTo>
                      <a:lnTo>
                        <a:pt x="0" y="245"/>
                      </a:lnTo>
                      <a:lnTo>
                        <a:pt x="11" y="256"/>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1397"/>
                <p:cNvSpPr/>
                <p:nvPr/>
              </p:nvSpPr>
              <p:spPr>
                <a:xfrm rot="111600">
                  <a:off x="5839560" y="1921320"/>
                  <a:ext cx="133920" cy="23400"/>
                </a:xfrm>
                <a:custGeom>
                  <a:avLst/>
                  <a:gdLst>
                    <a:gd name="textAreaLeft" fmla="*/ 0 w 133920"/>
                    <a:gd name="textAreaRight" fmla="*/ 134280 w 133920"/>
                    <a:gd name="textAreaTop" fmla="*/ 0 h 23400"/>
                    <a:gd name="textAreaBottom" fmla="*/ 23760 h 23400"/>
                  </a:gdLst>
                  <a:ahLst/>
                  <a:rect l="textAreaLeft" t="textAreaTop" r="textAreaRight" b="textAreaBottom"/>
                  <a:pathLst>
                    <a:path w="1226" h="145">
                      <a:moveTo>
                        <a:pt x="11" y="89"/>
                      </a:moveTo>
                      <a:lnTo>
                        <a:pt x="0" y="89"/>
                      </a:lnTo>
                      <a:lnTo>
                        <a:pt x="45" y="100"/>
                      </a:lnTo>
                      <a:lnTo>
                        <a:pt x="78" y="112"/>
                      </a:lnTo>
                      <a:lnTo>
                        <a:pt x="123" y="112"/>
                      </a:lnTo>
                      <a:lnTo>
                        <a:pt x="167" y="123"/>
                      </a:lnTo>
                      <a:lnTo>
                        <a:pt x="212" y="123"/>
                      </a:lnTo>
                      <a:lnTo>
                        <a:pt x="257" y="134"/>
                      </a:lnTo>
                      <a:lnTo>
                        <a:pt x="301" y="134"/>
                      </a:lnTo>
                      <a:lnTo>
                        <a:pt x="357" y="145"/>
                      </a:lnTo>
                      <a:lnTo>
                        <a:pt x="401" y="145"/>
                      </a:lnTo>
                      <a:lnTo>
                        <a:pt x="446" y="145"/>
                      </a:lnTo>
                      <a:lnTo>
                        <a:pt x="502" y="145"/>
                      </a:lnTo>
                      <a:lnTo>
                        <a:pt x="546" y="145"/>
                      </a:lnTo>
                      <a:lnTo>
                        <a:pt x="591" y="145"/>
                      </a:lnTo>
                      <a:lnTo>
                        <a:pt x="635" y="145"/>
                      </a:lnTo>
                      <a:lnTo>
                        <a:pt x="691" y="145"/>
                      </a:lnTo>
                      <a:lnTo>
                        <a:pt x="736" y="134"/>
                      </a:lnTo>
                      <a:lnTo>
                        <a:pt x="780" y="134"/>
                      </a:lnTo>
                      <a:lnTo>
                        <a:pt x="825" y="134"/>
                      </a:lnTo>
                      <a:lnTo>
                        <a:pt x="870" y="123"/>
                      </a:lnTo>
                      <a:lnTo>
                        <a:pt x="903" y="123"/>
                      </a:lnTo>
                      <a:lnTo>
                        <a:pt x="948" y="112"/>
                      </a:lnTo>
                      <a:lnTo>
                        <a:pt x="981" y="112"/>
                      </a:lnTo>
                      <a:lnTo>
                        <a:pt x="1026" y="100"/>
                      </a:lnTo>
                      <a:lnTo>
                        <a:pt x="1059" y="100"/>
                      </a:lnTo>
                      <a:lnTo>
                        <a:pt x="1092" y="89"/>
                      </a:lnTo>
                      <a:lnTo>
                        <a:pt x="1115" y="78"/>
                      </a:lnTo>
                      <a:lnTo>
                        <a:pt x="1137" y="67"/>
                      </a:lnTo>
                      <a:lnTo>
                        <a:pt x="1170" y="56"/>
                      </a:lnTo>
                      <a:lnTo>
                        <a:pt x="1182" y="45"/>
                      </a:lnTo>
                      <a:lnTo>
                        <a:pt x="1204" y="34"/>
                      </a:lnTo>
                      <a:lnTo>
                        <a:pt x="1215" y="22"/>
                      </a:lnTo>
                      <a:lnTo>
                        <a:pt x="1226" y="11"/>
                      </a:lnTo>
                      <a:lnTo>
                        <a:pt x="1215" y="0"/>
                      </a:lnTo>
                      <a:lnTo>
                        <a:pt x="1204" y="11"/>
                      </a:lnTo>
                      <a:lnTo>
                        <a:pt x="1193" y="22"/>
                      </a:lnTo>
                      <a:lnTo>
                        <a:pt x="1182" y="34"/>
                      </a:lnTo>
                      <a:lnTo>
                        <a:pt x="1159" y="45"/>
                      </a:lnTo>
                      <a:lnTo>
                        <a:pt x="1137" y="45"/>
                      </a:lnTo>
                      <a:lnTo>
                        <a:pt x="1115" y="56"/>
                      </a:lnTo>
                      <a:lnTo>
                        <a:pt x="1081" y="67"/>
                      </a:lnTo>
                      <a:lnTo>
                        <a:pt x="1048" y="78"/>
                      </a:lnTo>
                      <a:lnTo>
                        <a:pt x="1014" y="78"/>
                      </a:lnTo>
                      <a:lnTo>
                        <a:pt x="981" y="89"/>
                      </a:lnTo>
                      <a:lnTo>
                        <a:pt x="948" y="100"/>
                      </a:lnTo>
                      <a:lnTo>
                        <a:pt x="903" y="100"/>
                      </a:lnTo>
                      <a:lnTo>
                        <a:pt x="870" y="112"/>
                      </a:lnTo>
                      <a:lnTo>
                        <a:pt x="825" y="112"/>
                      </a:lnTo>
                      <a:lnTo>
                        <a:pt x="780" y="112"/>
                      </a:lnTo>
                      <a:lnTo>
                        <a:pt x="736" y="123"/>
                      </a:lnTo>
                      <a:lnTo>
                        <a:pt x="691" y="123"/>
                      </a:lnTo>
                      <a:lnTo>
                        <a:pt x="635" y="123"/>
                      </a:lnTo>
                      <a:lnTo>
                        <a:pt x="591" y="123"/>
                      </a:lnTo>
                      <a:lnTo>
                        <a:pt x="546" y="123"/>
                      </a:lnTo>
                      <a:lnTo>
                        <a:pt x="502" y="123"/>
                      </a:lnTo>
                      <a:lnTo>
                        <a:pt x="446" y="123"/>
                      </a:lnTo>
                      <a:lnTo>
                        <a:pt x="401" y="123"/>
                      </a:lnTo>
                      <a:lnTo>
                        <a:pt x="357" y="123"/>
                      </a:lnTo>
                      <a:lnTo>
                        <a:pt x="301" y="123"/>
                      </a:lnTo>
                      <a:lnTo>
                        <a:pt x="257" y="112"/>
                      </a:lnTo>
                      <a:lnTo>
                        <a:pt x="212" y="112"/>
                      </a:lnTo>
                      <a:lnTo>
                        <a:pt x="167" y="100"/>
                      </a:lnTo>
                      <a:lnTo>
                        <a:pt x="123" y="100"/>
                      </a:lnTo>
                      <a:lnTo>
                        <a:pt x="89" y="89"/>
                      </a:lnTo>
                      <a:lnTo>
                        <a:pt x="45" y="78"/>
                      </a:lnTo>
                      <a:lnTo>
                        <a:pt x="11" y="67"/>
                      </a:lnTo>
                      <a:lnTo>
                        <a:pt x="11" y="89"/>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1396"/>
                <p:cNvSpPr/>
                <p:nvPr/>
              </p:nvSpPr>
              <p:spPr>
                <a:xfrm rot="111600">
                  <a:off x="5832000" y="1793160"/>
                  <a:ext cx="10800" cy="140400"/>
                </a:xfrm>
                <a:custGeom>
                  <a:avLst/>
                  <a:gdLst>
                    <a:gd name="textAreaLeft" fmla="*/ 0 w 10800"/>
                    <a:gd name="textAreaRight" fmla="*/ 11160 w 10800"/>
                    <a:gd name="textAreaTop" fmla="*/ 0 h 140400"/>
                    <a:gd name="textAreaBottom" fmla="*/ 140760 h 140400"/>
                  </a:gdLst>
                  <a:ahLst/>
                  <a:rect l="textAreaLeft" t="textAreaTop" r="textAreaRight" b="textAreaBottom"/>
                  <a:pathLst>
                    <a:path w="100" h="869">
                      <a:moveTo>
                        <a:pt x="56" y="22"/>
                      </a:moveTo>
                      <a:lnTo>
                        <a:pt x="45" y="11"/>
                      </a:lnTo>
                      <a:lnTo>
                        <a:pt x="22" y="178"/>
                      </a:lnTo>
                      <a:lnTo>
                        <a:pt x="11" y="334"/>
                      </a:lnTo>
                      <a:lnTo>
                        <a:pt x="0" y="479"/>
                      </a:lnTo>
                      <a:lnTo>
                        <a:pt x="0" y="602"/>
                      </a:lnTo>
                      <a:lnTo>
                        <a:pt x="0" y="702"/>
                      </a:lnTo>
                      <a:lnTo>
                        <a:pt x="11" y="791"/>
                      </a:lnTo>
                      <a:lnTo>
                        <a:pt x="45" y="847"/>
                      </a:lnTo>
                      <a:lnTo>
                        <a:pt x="100" y="869"/>
                      </a:lnTo>
                      <a:lnTo>
                        <a:pt x="100" y="847"/>
                      </a:lnTo>
                      <a:lnTo>
                        <a:pt x="56" y="836"/>
                      </a:lnTo>
                      <a:lnTo>
                        <a:pt x="33" y="791"/>
                      </a:lnTo>
                      <a:lnTo>
                        <a:pt x="22" y="702"/>
                      </a:lnTo>
                      <a:lnTo>
                        <a:pt x="11" y="602"/>
                      </a:lnTo>
                      <a:lnTo>
                        <a:pt x="22" y="479"/>
                      </a:lnTo>
                      <a:lnTo>
                        <a:pt x="33" y="334"/>
                      </a:lnTo>
                      <a:lnTo>
                        <a:pt x="45" y="178"/>
                      </a:lnTo>
                      <a:lnTo>
                        <a:pt x="67" y="11"/>
                      </a:lnTo>
                      <a:lnTo>
                        <a:pt x="56" y="0"/>
                      </a:ln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1395"/>
                <p:cNvSpPr/>
                <p:nvPr/>
              </p:nvSpPr>
              <p:spPr>
                <a:xfrm rot="111600">
                  <a:off x="5815080" y="1785600"/>
                  <a:ext cx="25560" cy="10800"/>
                </a:xfrm>
                <a:custGeom>
                  <a:avLst/>
                  <a:gdLst>
                    <a:gd name="textAreaLeft" fmla="*/ 0 w 25560"/>
                    <a:gd name="textAreaRight" fmla="*/ 25920 w 25560"/>
                    <a:gd name="textAreaTop" fmla="*/ 0 h 10800"/>
                    <a:gd name="textAreaBottom" fmla="*/ 11160 h 10800"/>
                  </a:gdLst>
                  <a:ahLst/>
                  <a:rect l="textAreaLeft" t="textAreaTop" r="textAreaRight" b="textAreaBottom"/>
                  <a:pathLst>
                    <a:path w="234" h="67">
                      <a:moveTo>
                        <a:pt x="0" y="0"/>
                      </a:moveTo>
                      <a:lnTo>
                        <a:pt x="0" y="11"/>
                      </a:lnTo>
                      <a:lnTo>
                        <a:pt x="11" y="23"/>
                      </a:lnTo>
                      <a:lnTo>
                        <a:pt x="22" y="23"/>
                      </a:lnTo>
                      <a:lnTo>
                        <a:pt x="33" y="34"/>
                      </a:lnTo>
                      <a:lnTo>
                        <a:pt x="44" y="34"/>
                      </a:lnTo>
                      <a:lnTo>
                        <a:pt x="55" y="45"/>
                      </a:lnTo>
                      <a:lnTo>
                        <a:pt x="78" y="45"/>
                      </a:lnTo>
                      <a:lnTo>
                        <a:pt x="89" y="45"/>
                      </a:lnTo>
                      <a:lnTo>
                        <a:pt x="100" y="45"/>
                      </a:lnTo>
                      <a:lnTo>
                        <a:pt x="122" y="56"/>
                      </a:lnTo>
                      <a:lnTo>
                        <a:pt x="133" y="56"/>
                      </a:lnTo>
                      <a:lnTo>
                        <a:pt x="156" y="56"/>
                      </a:lnTo>
                      <a:lnTo>
                        <a:pt x="167" y="56"/>
                      </a:lnTo>
                      <a:lnTo>
                        <a:pt x="189" y="56"/>
                      </a:lnTo>
                      <a:lnTo>
                        <a:pt x="200" y="56"/>
                      </a:lnTo>
                      <a:lnTo>
                        <a:pt x="211" y="56"/>
                      </a:lnTo>
                      <a:lnTo>
                        <a:pt x="234" y="67"/>
                      </a:lnTo>
                      <a:lnTo>
                        <a:pt x="234" y="45"/>
                      </a:lnTo>
                      <a:lnTo>
                        <a:pt x="223" y="45"/>
                      </a:lnTo>
                      <a:lnTo>
                        <a:pt x="200" y="34"/>
                      </a:lnTo>
                      <a:lnTo>
                        <a:pt x="189" y="34"/>
                      </a:lnTo>
                      <a:lnTo>
                        <a:pt x="167" y="34"/>
                      </a:lnTo>
                      <a:lnTo>
                        <a:pt x="156" y="34"/>
                      </a:lnTo>
                      <a:lnTo>
                        <a:pt x="133" y="34"/>
                      </a:lnTo>
                      <a:lnTo>
                        <a:pt x="122" y="34"/>
                      </a:lnTo>
                      <a:lnTo>
                        <a:pt x="100" y="34"/>
                      </a:lnTo>
                      <a:lnTo>
                        <a:pt x="89" y="34"/>
                      </a:lnTo>
                      <a:lnTo>
                        <a:pt x="78" y="23"/>
                      </a:lnTo>
                      <a:lnTo>
                        <a:pt x="67" y="23"/>
                      </a:lnTo>
                      <a:lnTo>
                        <a:pt x="55" y="23"/>
                      </a:lnTo>
                      <a:lnTo>
                        <a:pt x="44" y="11"/>
                      </a:lnTo>
                      <a:lnTo>
                        <a:pt x="33" y="11"/>
                      </a:lnTo>
                      <a:lnTo>
                        <a:pt x="22" y="0"/>
                      </a:lnTo>
                      <a:lnTo>
                        <a:pt x="11"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1394"/>
                <p:cNvSpPr/>
                <p:nvPr/>
              </p:nvSpPr>
              <p:spPr>
                <a:xfrm rot="111600">
                  <a:off x="5814000" y="1703880"/>
                  <a:ext cx="6120" cy="81000"/>
                </a:xfrm>
                <a:custGeom>
                  <a:avLst/>
                  <a:gdLst>
                    <a:gd name="textAreaLeft" fmla="*/ 0 w 6120"/>
                    <a:gd name="textAreaRight" fmla="*/ 6480 w 6120"/>
                    <a:gd name="textAreaTop" fmla="*/ 0 h 81000"/>
                    <a:gd name="textAreaBottom" fmla="*/ 81360 h 81000"/>
                  </a:gdLst>
                  <a:ahLst/>
                  <a:rect l="textAreaLeft" t="textAreaTop" r="textAreaRight" b="textAreaBottom"/>
                  <a:pathLst>
                    <a:path w="56" h="501">
                      <a:moveTo>
                        <a:pt x="45" y="0"/>
                      </a:moveTo>
                      <a:lnTo>
                        <a:pt x="34" y="0"/>
                      </a:lnTo>
                      <a:lnTo>
                        <a:pt x="23" y="44"/>
                      </a:lnTo>
                      <a:lnTo>
                        <a:pt x="23" y="100"/>
                      </a:lnTo>
                      <a:lnTo>
                        <a:pt x="12" y="167"/>
                      </a:lnTo>
                      <a:lnTo>
                        <a:pt x="0" y="245"/>
                      </a:lnTo>
                      <a:lnTo>
                        <a:pt x="0" y="323"/>
                      </a:lnTo>
                      <a:lnTo>
                        <a:pt x="0" y="390"/>
                      </a:lnTo>
                      <a:lnTo>
                        <a:pt x="12" y="457"/>
                      </a:lnTo>
                      <a:lnTo>
                        <a:pt x="23" y="501"/>
                      </a:lnTo>
                      <a:lnTo>
                        <a:pt x="34" y="501"/>
                      </a:lnTo>
                      <a:lnTo>
                        <a:pt x="23" y="457"/>
                      </a:lnTo>
                      <a:lnTo>
                        <a:pt x="23" y="390"/>
                      </a:lnTo>
                      <a:lnTo>
                        <a:pt x="23" y="323"/>
                      </a:lnTo>
                      <a:lnTo>
                        <a:pt x="23" y="245"/>
                      </a:lnTo>
                      <a:lnTo>
                        <a:pt x="23" y="167"/>
                      </a:lnTo>
                      <a:lnTo>
                        <a:pt x="34" y="100"/>
                      </a:lnTo>
                      <a:lnTo>
                        <a:pt x="45" y="44"/>
                      </a:lnTo>
                      <a:lnTo>
                        <a:pt x="56" y="11"/>
                      </a:lnTo>
                      <a:lnTo>
                        <a:pt x="45" y="0"/>
                      </a:lnTo>
                      <a:close/>
                    </a:path>
                  </a:pathLst>
                </a:cu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1393"/>
                <p:cNvSpPr/>
                <p:nvPr/>
              </p:nvSpPr>
              <p:spPr>
                <a:xfrm rot="111600">
                  <a:off x="5819760" y="1701000"/>
                  <a:ext cx="25560" cy="5040"/>
                </a:xfrm>
                <a:custGeom>
                  <a:avLst/>
                  <a:gdLst>
                    <a:gd name="textAreaLeft" fmla="*/ 0 w 25560"/>
                    <a:gd name="textAreaRight" fmla="*/ 25920 w 25560"/>
                    <a:gd name="textAreaTop" fmla="*/ 0 h 5040"/>
                    <a:gd name="textAreaBottom" fmla="*/ 5400 h 5040"/>
                  </a:gdLst>
                  <a:ahLst/>
                  <a:rect l="textAreaLeft" t="textAreaTop" r="textAreaRight" b="textAreaBottom"/>
                  <a:pathLst>
                    <a:path w="234" h="33">
                      <a:moveTo>
                        <a:pt x="223" y="11"/>
                      </a:moveTo>
                      <a:lnTo>
                        <a:pt x="223" y="11"/>
                      </a:lnTo>
                      <a:lnTo>
                        <a:pt x="212" y="0"/>
                      </a:lnTo>
                      <a:lnTo>
                        <a:pt x="189" y="0"/>
                      </a:lnTo>
                      <a:lnTo>
                        <a:pt x="178" y="0"/>
                      </a:lnTo>
                      <a:lnTo>
                        <a:pt x="156" y="0"/>
                      </a:lnTo>
                      <a:lnTo>
                        <a:pt x="145" y="0"/>
                      </a:lnTo>
                      <a:lnTo>
                        <a:pt x="134" y="0"/>
                      </a:lnTo>
                      <a:lnTo>
                        <a:pt x="111" y="0"/>
                      </a:lnTo>
                      <a:lnTo>
                        <a:pt x="100" y="0"/>
                      </a:lnTo>
                      <a:lnTo>
                        <a:pt x="89" y="0"/>
                      </a:lnTo>
                      <a:lnTo>
                        <a:pt x="67" y="0"/>
                      </a:lnTo>
                      <a:lnTo>
                        <a:pt x="56" y="0"/>
                      </a:lnTo>
                      <a:lnTo>
                        <a:pt x="45" y="0"/>
                      </a:lnTo>
                      <a:lnTo>
                        <a:pt x="33" y="0"/>
                      </a:lnTo>
                      <a:lnTo>
                        <a:pt x="22" y="11"/>
                      </a:lnTo>
                      <a:lnTo>
                        <a:pt x="11" y="11"/>
                      </a:lnTo>
                      <a:lnTo>
                        <a:pt x="0" y="22"/>
                      </a:lnTo>
                      <a:lnTo>
                        <a:pt x="11" y="33"/>
                      </a:lnTo>
                      <a:lnTo>
                        <a:pt x="22" y="22"/>
                      </a:lnTo>
                      <a:lnTo>
                        <a:pt x="33" y="22"/>
                      </a:lnTo>
                      <a:lnTo>
                        <a:pt x="45" y="22"/>
                      </a:lnTo>
                      <a:lnTo>
                        <a:pt x="56" y="11"/>
                      </a:lnTo>
                      <a:lnTo>
                        <a:pt x="67" y="11"/>
                      </a:lnTo>
                      <a:lnTo>
                        <a:pt x="89" y="11"/>
                      </a:lnTo>
                      <a:lnTo>
                        <a:pt x="100" y="11"/>
                      </a:lnTo>
                      <a:lnTo>
                        <a:pt x="111" y="11"/>
                      </a:lnTo>
                      <a:lnTo>
                        <a:pt x="134" y="11"/>
                      </a:lnTo>
                      <a:lnTo>
                        <a:pt x="145" y="11"/>
                      </a:lnTo>
                      <a:lnTo>
                        <a:pt x="156" y="22"/>
                      </a:lnTo>
                      <a:lnTo>
                        <a:pt x="178" y="22"/>
                      </a:lnTo>
                      <a:lnTo>
                        <a:pt x="189" y="22"/>
                      </a:lnTo>
                      <a:lnTo>
                        <a:pt x="212" y="22"/>
                      </a:lnTo>
                      <a:lnTo>
                        <a:pt x="223" y="22"/>
                      </a:lnTo>
                      <a:lnTo>
                        <a:pt x="234" y="11"/>
                      </a:lnTo>
                      <a:lnTo>
                        <a:pt x="223" y="11"/>
                      </a:lnTo>
                      <a:close/>
                    </a:path>
                  </a:pathLst>
                </a:custGeom>
                <a:solidFill>
                  <a:srgbClr val="000000"/>
                </a:solidFill>
                <a:ln w="0">
                  <a:no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1392"/>
                <p:cNvSpPr/>
                <p:nvPr/>
              </p:nvSpPr>
              <p:spPr>
                <a:xfrm rot="111600">
                  <a:off x="5845320" y="1632960"/>
                  <a:ext cx="3600" cy="70200"/>
                </a:xfrm>
                <a:custGeom>
                  <a:avLst/>
                  <a:gdLst>
                    <a:gd name="textAreaLeft" fmla="*/ 0 w 3600"/>
                    <a:gd name="textAreaRight" fmla="*/ 3960 w 3600"/>
                    <a:gd name="textAreaTop" fmla="*/ 0 h 70200"/>
                    <a:gd name="textAreaBottom" fmla="*/ 70560 h 70200"/>
                  </a:gdLst>
                  <a:ahLst/>
                  <a:rect l="textAreaLeft" t="textAreaTop" r="textAreaRight" b="textAreaBottom"/>
                  <a:pathLst>
                    <a:path w="33" h="435">
                      <a:moveTo>
                        <a:pt x="22" y="0"/>
                      </a:moveTo>
                      <a:lnTo>
                        <a:pt x="22" y="11"/>
                      </a:lnTo>
                      <a:lnTo>
                        <a:pt x="22" y="100"/>
                      </a:lnTo>
                      <a:lnTo>
                        <a:pt x="11" y="212"/>
                      </a:lnTo>
                      <a:lnTo>
                        <a:pt x="0" y="323"/>
                      </a:lnTo>
                      <a:lnTo>
                        <a:pt x="0" y="435"/>
                      </a:lnTo>
                      <a:lnTo>
                        <a:pt x="11" y="435"/>
                      </a:lnTo>
                      <a:lnTo>
                        <a:pt x="22" y="323"/>
                      </a:lnTo>
                      <a:lnTo>
                        <a:pt x="33" y="212"/>
                      </a:lnTo>
                      <a:lnTo>
                        <a:pt x="33" y="100"/>
                      </a:lnTo>
                      <a:lnTo>
                        <a:pt x="33" y="11"/>
                      </a:lnTo>
                      <a:lnTo>
                        <a:pt x="22" y="0"/>
                      </a:lnTo>
                      <a:close/>
                    </a:path>
                  </a:pathLst>
                </a:custGeom>
                <a:solidFill>
                  <a:srgbClr val="000000"/>
                </a:solidFill>
                <a:ln w="0">
                  <a:noFill/>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1391"/>
                <p:cNvSpPr/>
                <p:nvPr/>
              </p:nvSpPr>
              <p:spPr>
                <a:xfrm rot="111600">
                  <a:off x="5928120" y="1796040"/>
                  <a:ext cx="2520" cy="1440"/>
                </a:xfrm>
                <a:custGeom>
                  <a:avLst/>
                  <a:gdLst>
                    <a:gd name="textAreaLeft" fmla="*/ 0 w 2520"/>
                    <a:gd name="textAreaRight" fmla="*/ 2880 w 2520"/>
                    <a:gd name="textAreaTop" fmla="*/ 0 h 1440"/>
                    <a:gd name="textAreaBottom" fmla="*/ 1800 h 1440"/>
                  </a:gdLst>
                  <a:ahLst/>
                  <a:rect l="textAreaLeft" t="textAreaTop" r="textAreaRight" b="textAreaBottom"/>
                  <a:pathLst>
                    <a:path w="23" h="11">
                      <a:moveTo>
                        <a:pt x="0" y="0"/>
                      </a:moveTo>
                      <a:lnTo>
                        <a:pt x="0" y="11"/>
                      </a:lnTo>
                      <a:lnTo>
                        <a:pt x="11" y="11"/>
                      </a:lnTo>
                      <a:lnTo>
                        <a:pt x="23"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1390"/>
                <p:cNvSpPr/>
                <p:nvPr/>
              </p:nvSpPr>
              <p:spPr>
                <a:xfrm rot="111600">
                  <a:off x="5919840" y="1766880"/>
                  <a:ext cx="10800" cy="28440"/>
                </a:xfrm>
                <a:custGeom>
                  <a:avLst/>
                  <a:gdLst>
                    <a:gd name="textAreaLeft" fmla="*/ 0 w 10800"/>
                    <a:gd name="textAreaRight" fmla="*/ 11160 w 10800"/>
                    <a:gd name="textAreaTop" fmla="*/ 0 h 28440"/>
                    <a:gd name="textAreaBottom" fmla="*/ 28800 h 28440"/>
                  </a:gdLst>
                  <a:ahLst/>
                  <a:rect l="textAreaLeft" t="textAreaTop" r="textAreaRight" b="textAreaBottom"/>
                  <a:pathLst>
                    <a:path w="101" h="178">
                      <a:moveTo>
                        <a:pt x="0" y="22"/>
                      </a:moveTo>
                      <a:lnTo>
                        <a:pt x="0" y="22"/>
                      </a:lnTo>
                      <a:lnTo>
                        <a:pt x="11" y="33"/>
                      </a:lnTo>
                      <a:lnTo>
                        <a:pt x="23" y="44"/>
                      </a:lnTo>
                      <a:lnTo>
                        <a:pt x="34" y="66"/>
                      </a:lnTo>
                      <a:lnTo>
                        <a:pt x="45" y="89"/>
                      </a:lnTo>
                      <a:lnTo>
                        <a:pt x="56" y="111"/>
                      </a:lnTo>
                      <a:lnTo>
                        <a:pt x="67" y="133"/>
                      </a:lnTo>
                      <a:lnTo>
                        <a:pt x="78" y="156"/>
                      </a:lnTo>
                      <a:lnTo>
                        <a:pt x="78" y="178"/>
                      </a:lnTo>
                      <a:lnTo>
                        <a:pt x="101" y="178"/>
                      </a:lnTo>
                      <a:lnTo>
                        <a:pt x="89" y="156"/>
                      </a:lnTo>
                      <a:lnTo>
                        <a:pt x="89" y="122"/>
                      </a:lnTo>
                      <a:lnTo>
                        <a:pt x="78" y="100"/>
                      </a:lnTo>
                      <a:lnTo>
                        <a:pt x="67" y="78"/>
                      </a:lnTo>
                      <a:lnTo>
                        <a:pt x="56" y="55"/>
                      </a:lnTo>
                      <a:lnTo>
                        <a:pt x="34" y="33"/>
                      </a:lnTo>
                      <a:lnTo>
                        <a:pt x="23" y="22"/>
                      </a:lnTo>
                      <a:lnTo>
                        <a:pt x="11" y="0"/>
                      </a:lnTo>
                      <a:lnTo>
                        <a:pt x="0" y="22"/>
                      </a:lnTo>
                      <a:close/>
                    </a:path>
                  </a:pathLst>
                </a:custGeom>
                <a:solidFill>
                  <a:srgbClr val="000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1389"/>
                <p:cNvSpPr/>
                <p:nvPr/>
              </p:nvSpPr>
              <p:spPr>
                <a:xfrm rot="111600">
                  <a:off x="5889960" y="1762920"/>
                  <a:ext cx="31320" cy="30600"/>
                </a:xfrm>
                <a:custGeom>
                  <a:avLst/>
                  <a:gdLst>
                    <a:gd name="textAreaLeft" fmla="*/ 0 w 31320"/>
                    <a:gd name="textAreaRight" fmla="*/ 31680 w 31320"/>
                    <a:gd name="textAreaTop" fmla="*/ 0 h 30600"/>
                    <a:gd name="textAreaBottom" fmla="*/ 30960 h 30600"/>
                  </a:gdLst>
                  <a:ahLst/>
                  <a:rect l="textAreaLeft" t="textAreaTop" r="textAreaRight" b="textAreaBottom"/>
                  <a:pathLst>
                    <a:path w="289" h="190">
                      <a:moveTo>
                        <a:pt x="22" y="190"/>
                      </a:moveTo>
                      <a:lnTo>
                        <a:pt x="22" y="167"/>
                      </a:lnTo>
                      <a:lnTo>
                        <a:pt x="22" y="145"/>
                      </a:lnTo>
                      <a:lnTo>
                        <a:pt x="33" y="134"/>
                      </a:lnTo>
                      <a:lnTo>
                        <a:pt x="44" y="112"/>
                      </a:lnTo>
                      <a:lnTo>
                        <a:pt x="55" y="89"/>
                      </a:lnTo>
                      <a:lnTo>
                        <a:pt x="66" y="78"/>
                      </a:lnTo>
                      <a:lnTo>
                        <a:pt x="78" y="56"/>
                      </a:lnTo>
                      <a:lnTo>
                        <a:pt x="89" y="45"/>
                      </a:lnTo>
                      <a:lnTo>
                        <a:pt x="111" y="45"/>
                      </a:lnTo>
                      <a:lnTo>
                        <a:pt x="133" y="34"/>
                      </a:lnTo>
                      <a:lnTo>
                        <a:pt x="156" y="23"/>
                      </a:lnTo>
                      <a:lnTo>
                        <a:pt x="167" y="23"/>
                      </a:lnTo>
                      <a:lnTo>
                        <a:pt x="200" y="23"/>
                      </a:lnTo>
                      <a:lnTo>
                        <a:pt x="222" y="23"/>
                      </a:lnTo>
                      <a:lnTo>
                        <a:pt x="245" y="34"/>
                      </a:lnTo>
                      <a:lnTo>
                        <a:pt x="278" y="45"/>
                      </a:lnTo>
                      <a:lnTo>
                        <a:pt x="289" y="23"/>
                      </a:lnTo>
                      <a:lnTo>
                        <a:pt x="256" y="11"/>
                      </a:lnTo>
                      <a:lnTo>
                        <a:pt x="222" y="11"/>
                      </a:lnTo>
                      <a:lnTo>
                        <a:pt x="200" y="0"/>
                      </a:lnTo>
                      <a:lnTo>
                        <a:pt x="167" y="0"/>
                      </a:lnTo>
                      <a:lnTo>
                        <a:pt x="144" y="11"/>
                      </a:lnTo>
                      <a:lnTo>
                        <a:pt x="122" y="11"/>
                      </a:lnTo>
                      <a:lnTo>
                        <a:pt x="100" y="23"/>
                      </a:lnTo>
                      <a:lnTo>
                        <a:pt x="89" y="34"/>
                      </a:lnTo>
                      <a:lnTo>
                        <a:pt x="66" y="45"/>
                      </a:lnTo>
                      <a:lnTo>
                        <a:pt x="44" y="67"/>
                      </a:lnTo>
                      <a:lnTo>
                        <a:pt x="33" y="78"/>
                      </a:lnTo>
                      <a:lnTo>
                        <a:pt x="22" y="101"/>
                      </a:lnTo>
                      <a:lnTo>
                        <a:pt x="11" y="123"/>
                      </a:lnTo>
                      <a:lnTo>
                        <a:pt x="11" y="145"/>
                      </a:lnTo>
                      <a:lnTo>
                        <a:pt x="0" y="167"/>
                      </a:lnTo>
                      <a:lnTo>
                        <a:pt x="0" y="190"/>
                      </a:lnTo>
                      <a:lnTo>
                        <a:pt x="22" y="190"/>
                      </a:lnTo>
                      <a:close/>
                    </a:path>
                  </a:pathLst>
                </a:custGeom>
                <a:solidFill>
                  <a:srgbClr val="000000"/>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1388"/>
                <p:cNvSpPr/>
                <p:nvPr/>
              </p:nvSpPr>
              <p:spPr>
                <a:xfrm rot="111600">
                  <a:off x="5919120" y="176868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22" h="11">
                      <a:moveTo>
                        <a:pt x="0" y="0"/>
                      </a:moveTo>
                      <a:lnTo>
                        <a:pt x="11" y="11"/>
                      </a:lnTo>
                      <a:lnTo>
                        <a:pt x="22" y="11"/>
                      </a:lnTo>
                      <a:lnTo>
                        <a:pt x="22"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1387"/>
                <p:cNvSpPr/>
                <p:nvPr/>
              </p:nvSpPr>
              <p:spPr>
                <a:xfrm rot="111600">
                  <a:off x="5871240" y="1851840"/>
                  <a:ext cx="2160" cy="3240"/>
                </a:xfrm>
                <a:custGeom>
                  <a:avLst/>
                  <a:gdLst>
                    <a:gd name="textAreaLeft" fmla="*/ 0 w 2160"/>
                    <a:gd name="textAreaRight" fmla="*/ 2520 w 2160"/>
                    <a:gd name="textAreaTop" fmla="*/ 0 h 3240"/>
                    <a:gd name="textAreaBottom" fmla="*/ 3600 h 3240"/>
                  </a:gdLst>
                  <a:ahLst/>
                  <a:rect l="textAreaLeft" t="textAreaTop" r="textAreaRight" b="textAreaBottom"/>
                  <a:pathLst>
                    <a:path w="22" h="22">
                      <a:moveTo>
                        <a:pt x="22" y="11"/>
                      </a:moveTo>
                      <a:lnTo>
                        <a:pt x="11" y="0"/>
                      </a:lnTo>
                      <a:lnTo>
                        <a:pt x="0" y="11"/>
                      </a:lnTo>
                      <a:lnTo>
                        <a:pt x="0" y="22"/>
                      </a:lnTo>
                      <a:lnTo>
                        <a:pt x="22" y="11"/>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1386"/>
                <p:cNvSpPr/>
                <p:nvPr/>
              </p:nvSpPr>
              <p:spPr>
                <a:xfrm rot="111600">
                  <a:off x="5871240" y="185364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67" h="100">
                      <a:moveTo>
                        <a:pt x="67" y="89"/>
                      </a:moveTo>
                      <a:lnTo>
                        <a:pt x="67" y="89"/>
                      </a:lnTo>
                      <a:lnTo>
                        <a:pt x="67" y="78"/>
                      </a:lnTo>
                      <a:lnTo>
                        <a:pt x="55" y="67"/>
                      </a:lnTo>
                      <a:lnTo>
                        <a:pt x="44" y="55"/>
                      </a:lnTo>
                      <a:lnTo>
                        <a:pt x="44" y="44"/>
                      </a:lnTo>
                      <a:lnTo>
                        <a:pt x="33" y="33"/>
                      </a:lnTo>
                      <a:lnTo>
                        <a:pt x="33" y="22"/>
                      </a:lnTo>
                      <a:lnTo>
                        <a:pt x="22" y="11"/>
                      </a:lnTo>
                      <a:lnTo>
                        <a:pt x="22" y="0"/>
                      </a:lnTo>
                      <a:lnTo>
                        <a:pt x="0" y="11"/>
                      </a:lnTo>
                      <a:lnTo>
                        <a:pt x="11" y="22"/>
                      </a:lnTo>
                      <a:lnTo>
                        <a:pt x="11" y="33"/>
                      </a:lnTo>
                      <a:lnTo>
                        <a:pt x="22" y="44"/>
                      </a:lnTo>
                      <a:lnTo>
                        <a:pt x="22" y="55"/>
                      </a:lnTo>
                      <a:lnTo>
                        <a:pt x="33" y="67"/>
                      </a:lnTo>
                      <a:lnTo>
                        <a:pt x="44" y="78"/>
                      </a:lnTo>
                      <a:lnTo>
                        <a:pt x="44" y="89"/>
                      </a:lnTo>
                      <a:lnTo>
                        <a:pt x="55" y="100"/>
                      </a:lnTo>
                      <a:lnTo>
                        <a:pt x="67" y="89"/>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1385"/>
                <p:cNvSpPr/>
                <p:nvPr/>
              </p:nvSpPr>
              <p:spPr>
                <a:xfrm rot="111600">
                  <a:off x="5876640" y="1868400"/>
                  <a:ext cx="9720" cy="12600"/>
                </a:xfrm>
                <a:custGeom>
                  <a:avLst/>
                  <a:gdLst>
                    <a:gd name="textAreaLeft" fmla="*/ 0 w 9720"/>
                    <a:gd name="textAreaRight" fmla="*/ 10080 w 9720"/>
                    <a:gd name="textAreaTop" fmla="*/ 0 h 12600"/>
                    <a:gd name="textAreaBottom" fmla="*/ 12960 h 12600"/>
                  </a:gdLst>
                  <a:ahLst/>
                  <a:rect l="textAreaLeft" t="textAreaTop" r="textAreaRight" b="textAreaBottom"/>
                  <a:pathLst>
                    <a:path w="90" h="78">
                      <a:moveTo>
                        <a:pt x="90" y="56"/>
                      </a:moveTo>
                      <a:lnTo>
                        <a:pt x="90" y="56"/>
                      </a:lnTo>
                      <a:lnTo>
                        <a:pt x="78" y="56"/>
                      </a:lnTo>
                      <a:lnTo>
                        <a:pt x="67" y="44"/>
                      </a:lnTo>
                      <a:lnTo>
                        <a:pt x="56" y="44"/>
                      </a:lnTo>
                      <a:lnTo>
                        <a:pt x="45" y="33"/>
                      </a:lnTo>
                      <a:lnTo>
                        <a:pt x="34" y="22"/>
                      </a:lnTo>
                      <a:lnTo>
                        <a:pt x="23" y="11"/>
                      </a:lnTo>
                      <a:lnTo>
                        <a:pt x="12" y="0"/>
                      </a:lnTo>
                      <a:lnTo>
                        <a:pt x="0" y="11"/>
                      </a:lnTo>
                      <a:lnTo>
                        <a:pt x="12" y="22"/>
                      </a:lnTo>
                      <a:lnTo>
                        <a:pt x="23" y="33"/>
                      </a:lnTo>
                      <a:lnTo>
                        <a:pt x="34" y="44"/>
                      </a:lnTo>
                      <a:lnTo>
                        <a:pt x="45" y="56"/>
                      </a:lnTo>
                      <a:lnTo>
                        <a:pt x="56" y="67"/>
                      </a:lnTo>
                      <a:lnTo>
                        <a:pt x="67" y="67"/>
                      </a:lnTo>
                      <a:lnTo>
                        <a:pt x="78" y="78"/>
                      </a:lnTo>
                      <a:lnTo>
                        <a:pt x="90" y="56"/>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1384"/>
                <p:cNvSpPr/>
                <p:nvPr/>
              </p:nvSpPr>
              <p:spPr>
                <a:xfrm rot="111600">
                  <a:off x="5885280" y="1875960"/>
                  <a:ext cx="41400" cy="10800"/>
                </a:xfrm>
                <a:custGeom>
                  <a:avLst/>
                  <a:gdLst>
                    <a:gd name="textAreaLeft" fmla="*/ 0 w 41400"/>
                    <a:gd name="textAreaRight" fmla="*/ 41760 w 41400"/>
                    <a:gd name="textAreaTop" fmla="*/ 0 h 10800"/>
                    <a:gd name="textAreaBottom" fmla="*/ 11160 h 10800"/>
                  </a:gdLst>
                  <a:ahLst/>
                  <a:rect l="textAreaLeft" t="textAreaTop" r="textAreaRight" b="textAreaBottom"/>
                  <a:pathLst>
                    <a:path w="379" h="67">
                      <a:moveTo>
                        <a:pt x="368" y="0"/>
                      </a:moveTo>
                      <a:lnTo>
                        <a:pt x="368" y="0"/>
                      </a:lnTo>
                      <a:lnTo>
                        <a:pt x="346" y="12"/>
                      </a:lnTo>
                      <a:lnTo>
                        <a:pt x="324" y="23"/>
                      </a:lnTo>
                      <a:lnTo>
                        <a:pt x="301" y="34"/>
                      </a:lnTo>
                      <a:lnTo>
                        <a:pt x="279" y="34"/>
                      </a:lnTo>
                      <a:lnTo>
                        <a:pt x="257" y="45"/>
                      </a:lnTo>
                      <a:lnTo>
                        <a:pt x="234" y="45"/>
                      </a:lnTo>
                      <a:lnTo>
                        <a:pt x="212" y="45"/>
                      </a:lnTo>
                      <a:lnTo>
                        <a:pt x="190" y="45"/>
                      </a:lnTo>
                      <a:lnTo>
                        <a:pt x="168" y="45"/>
                      </a:lnTo>
                      <a:lnTo>
                        <a:pt x="145" y="45"/>
                      </a:lnTo>
                      <a:lnTo>
                        <a:pt x="112" y="45"/>
                      </a:lnTo>
                      <a:lnTo>
                        <a:pt x="101" y="45"/>
                      </a:lnTo>
                      <a:lnTo>
                        <a:pt x="67" y="34"/>
                      </a:lnTo>
                      <a:lnTo>
                        <a:pt x="56" y="34"/>
                      </a:lnTo>
                      <a:lnTo>
                        <a:pt x="34" y="23"/>
                      </a:lnTo>
                      <a:lnTo>
                        <a:pt x="12" y="12"/>
                      </a:lnTo>
                      <a:lnTo>
                        <a:pt x="0" y="34"/>
                      </a:lnTo>
                      <a:lnTo>
                        <a:pt x="23" y="45"/>
                      </a:lnTo>
                      <a:lnTo>
                        <a:pt x="45" y="45"/>
                      </a:lnTo>
                      <a:lnTo>
                        <a:pt x="67" y="56"/>
                      </a:lnTo>
                      <a:lnTo>
                        <a:pt x="90" y="56"/>
                      </a:lnTo>
                      <a:lnTo>
                        <a:pt x="112" y="67"/>
                      </a:lnTo>
                      <a:lnTo>
                        <a:pt x="145" y="67"/>
                      </a:lnTo>
                      <a:lnTo>
                        <a:pt x="168" y="67"/>
                      </a:lnTo>
                      <a:lnTo>
                        <a:pt x="190" y="67"/>
                      </a:lnTo>
                      <a:lnTo>
                        <a:pt x="212" y="67"/>
                      </a:lnTo>
                      <a:lnTo>
                        <a:pt x="234" y="67"/>
                      </a:lnTo>
                      <a:lnTo>
                        <a:pt x="268" y="56"/>
                      </a:lnTo>
                      <a:lnTo>
                        <a:pt x="290" y="56"/>
                      </a:lnTo>
                      <a:lnTo>
                        <a:pt x="313" y="45"/>
                      </a:lnTo>
                      <a:lnTo>
                        <a:pt x="335" y="45"/>
                      </a:lnTo>
                      <a:lnTo>
                        <a:pt x="357" y="34"/>
                      </a:lnTo>
                      <a:lnTo>
                        <a:pt x="379" y="23"/>
                      </a:lnTo>
                      <a:lnTo>
                        <a:pt x="368" y="0"/>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1383"/>
                <p:cNvSpPr/>
                <p:nvPr/>
              </p:nvSpPr>
              <p:spPr>
                <a:xfrm rot="111600">
                  <a:off x="5925600" y="1857240"/>
                  <a:ext cx="14400" cy="23400"/>
                </a:xfrm>
                <a:custGeom>
                  <a:avLst/>
                  <a:gdLst>
                    <a:gd name="textAreaLeft" fmla="*/ 0 w 14400"/>
                    <a:gd name="textAreaRight" fmla="*/ 14760 w 14400"/>
                    <a:gd name="textAreaTop" fmla="*/ 0 h 23400"/>
                    <a:gd name="textAreaBottom" fmla="*/ 23760 h 23400"/>
                  </a:gdLst>
                  <a:ahLst/>
                  <a:rect l="textAreaLeft" t="textAreaTop" r="textAreaRight" b="textAreaBottom"/>
                  <a:pathLst>
                    <a:path w="134" h="145">
                      <a:moveTo>
                        <a:pt x="112" y="0"/>
                      </a:moveTo>
                      <a:lnTo>
                        <a:pt x="101" y="22"/>
                      </a:lnTo>
                      <a:lnTo>
                        <a:pt x="78" y="56"/>
                      </a:lnTo>
                      <a:lnTo>
                        <a:pt x="56" y="78"/>
                      </a:lnTo>
                      <a:lnTo>
                        <a:pt x="34" y="89"/>
                      </a:lnTo>
                      <a:lnTo>
                        <a:pt x="23" y="111"/>
                      </a:lnTo>
                      <a:lnTo>
                        <a:pt x="11" y="122"/>
                      </a:lnTo>
                      <a:lnTo>
                        <a:pt x="0" y="122"/>
                      </a:lnTo>
                      <a:lnTo>
                        <a:pt x="11" y="145"/>
                      </a:lnTo>
                      <a:lnTo>
                        <a:pt x="11" y="134"/>
                      </a:lnTo>
                      <a:lnTo>
                        <a:pt x="23" y="134"/>
                      </a:lnTo>
                      <a:lnTo>
                        <a:pt x="34" y="122"/>
                      </a:lnTo>
                      <a:lnTo>
                        <a:pt x="45" y="100"/>
                      </a:lnTo>
                      <a:lnTo>
                        <a:pt x="67" y="89"/>
                      </a:lnTo>
                      <a:lnTo>
                        <a:pt x="89" y="67"/>
                      </a:lnTo>
                      <a:lnTo>
                        <a:pt x="112" y="33"/>
                      </a:lnTo>
                      <a:lnTo>
                        <a:pt x="134" y="11"/>
                      </a:lnTo>
                      <a:lnTo>
                        <a:pt x="112" y="0"/>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1382"/>
                <p:cNvSpPr/>
                <p:nvPr/>
              </p:nvSpPr>
              <p:spPr>
                <a:xfrm rot="111600">
                  <a:off x="5925600" y="1877040"/>
                  <a:ext cx="1080" cy="3600"/>
                </a:xfrm>
                <a:custGeom>
                  <a:avLst/>
                  <a:gdLst>
                    <a:gd name="textAreaLeft" fmla="*/ 0 w 1080"/>
                    <a:gd name="textAreaRight" fmla="*/ 1440 w 1080"/>
                    <a:gd name="textAreaTop" fmla="*/ 0 h 3600"/>
                    <a:gd name="textAreaBottom" fmla="*/ 3960 h 3600"/>
                  </a:gdLst>
                  <a:ahLst/>
                  <a:rect l="textAreaLeft" t="textAreaTop" r="textAreaRight" b="textAreaBottom"/>
                  <a:pathLst>
                    <a:path w="11" h="23">
                      <a:moveTo>
                        <a:pt x="11" y="23"/>
                      </a:moveTo>
                      <a:lnTo>
                        <a:pt x="11" y="12"/>
                      </a:lnTo>
                      <a:lnTo>
                        <a:pt x="11" y="0"/>
                      </a:lnTo>
                      <a:lnTo>
                        <a:pt x="0" y="0"/>
                      </a:lnTo>
                      <a:lnTo>
                        <a:pt x="0" y="12"/>
                      </a:lnTo>
                      <a:lnTo>
                        <a:pt x="11" y="23"/>
                      </a:lnTo>
                      <a:close/>
                    </a:path>
                  </a:pathLst>
                </a:custGeom>
                <a:solidFill>
                  <a:srgbClr val="000000"/>
                </a:solidFill>
                <a:ln w="0">
                  <a:noFill/>
                </a:ln>
              </p:spPr>
              <p:style>
                <a:lnRef idx="0"/>
                <a:fillRef idx="0"/>
                <a:effectRef idx="0"/>
                <a:fontRef idx="minor"/>
              </p:style>
              <p:txBody>
                <a:bodyPr lIns="90000" rIns="90000" tIns="-42840" bIns="-42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1381"/>
                <p:cNvSpPr/>
                <p:nvPr/>
              </p:nvSpPr>
              <p:spPr>
                <a:xfrm rot="111600">
                  <a:off x="5879520" y="1825200"/>
                  <a:ext cx="2160" cy="1800"/>
                </a:xfrm>
                <a:custGeom>
                  <a:avLst/>
                  <a:gdLst>
                    <a:gd name="textAreaLeft" fmla="*/ 0 w 2160"/>
                    <a:gd name="textAreaRight" fmla="*/ 2520 w 2160"/>
                    <a:gd name="textAreaTop" fmla="*/ 0 h 1800"/>
                    <a:gd name="textAreaBottom" fmla="*/ 2160 h 1800"/>
                  </a:gdLst>
                  <a:ahLst/>
                  <a:rect l="textAreaLeft" t="textAreaTop" r="textAreaRight" b="textAreaBottom"/>
                  <a:pathLst>
                    <a:path w="22" h="12">
                      <a:moveTo>
                        <a:pt x="22" y="12"/>
                      </a:moveTo>
                      <a:lnTo>
                        <a:pt x="22" y="0"/>
                      </a:lnTo>
                      <a:lnTo>
                        <a:pt x="11" y="0"/>
                      </a:lnTo>
                      <a:lnTo>
                        <a:pt x="0" y="12"/>
                      </a:lnTo>
                      <a:lnTo>
                        <a:pt x="22" y="12"/>
                      </a:lnTo>
                      <a:close/>
                    </a:path>
                  </a:pathLst>
                </a:custGeom>
                <a:solidFill>
                  <a:srgbClr val="000000"/>
                </a:soli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1380"/>
                <p:cNvSpPr/>
                <p:nvPr/>
              </p:nvSpPr>
              <p:spPr>
                <a:xfrm rot="111600">
                  <a:off x="5857920" y="1826640"/>
                  <a:ext cx="23040" cy="46440"/>
                </a:xfrm>
                <a:custGeom>
                  <a:avLst/>
                  <a:gdLst>
                    <a:gd name="textAreaLeft" fmla="*/ 0 w 23040"/>
                    <a:gd name="textAreaRight" fmla="*/ 23400 w 23040"/>
                    <a:gd name="textAreaTop" fmla="*/ 0 h 46440"/>
                    <a:gd name="textAreaBottom" fmla="*/ 46800 h 46440"/>
                  </a:gdLst>
                  <a:ahLst/>
                  <a:rect l="textAreaLeft" t="textAreaTop" r="textAreaRight" b="textAreaBottom"/>
                  <a:pathLst>
                    <a:path w="212" h="289">
                      <a:moveTo>
                        <a:pt x="0" y="289"/>
                      </a:moveTo>
                      <a:lnTo>
                        <a:pt x="56" y="256"/>
                      </a:lnTo>
                      <a:lnTo>
                        <a:pt x="100" y="222"/>
                      </a:lnTo>
                      <a:lnTo>
                        <a:pt x="134" y="189"/>
                      </a:lnTo>
                      <a:lnTo>
                        <a:pt x="156" y="144"/>
                      </a:lnTo>
                      <a:lnTo>
                        <a:pt x="178" y="100"/>
                      </a:lnTo>
                      <a:lnTo>
                        <a:pt x="190" y="66"/>
                      </a:lnTo>
                      <a:lnTo>
                        <a:pt x="201" y="33"/>
                      </a:lnTo>
                      <a:lnTo>
                        <a:pt x="212" y="0"/>
                      </a:lnTo>
                      <a:lnTo>
                        <a:pt x="190" y="0"/>
                      </a:lnTo>
                      <a:lnTo>
                        <a:pt x="190" y="22"/>
                      </a:lnTo>
                      <a:lnTo>
                        <a:pt x="178" y="55"/>
                      </a:lnTo>
                      <a:lnTo>
                        <a:pt x="156" y="100"/>
                      </a:lnTo>
                      <a:lnTo>
                        <a:pt x="145" y="133"/>
                      </a:lnTo>
                      <a:lnTo>
                        <a:pt x="123" y="178"/>
                      </a:lnTo>
                      <a:lnTo>
                        <a:pt x="89" y="211"/>
                      </a:lnTo>
                      <a:lnTo>
                        <a:pt x="45" y="245"/>
                      </a:lnTo>
                      <a:lnTo>
                        <a:pt x="0" y="267"/>
                      </a:lnTo>
                      <a:lnTo>
                        <a:pt x="0" y="289"/>
                      </a:lnTo>
                      <a:close/>
                    </a:path>
                  </a:pathLst>
                </a:custGeom>
                <a:solidFill>
                  <a:srgbClr val="000000"/>
                </a:solidFill>
                <a:ln w="0">
                  <a:noFill/>
                </a:ln>
              </p:spPr>
              <p:style>
                <a:lnRef idx="0"/>
                <a:fillRef idx="0"/>
                <a:effectRef idx="0"/>
                <a:fontRef idx="minor"/>
              </p:style>
              <p:txBody>
                <a:bodyPr lIns="90000" rIns="9000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1379"/>
                <p:cNvSpPr/>
                <p:nvPr/>
              </p:nvSpPr>
              <p:spPr>
                <a:xfrm rot="111600">
                  <a:off x="5879520" y="1825200"/>
                  <a:ext cx="1080" cy="3600"/>
                </a:xfrm>
                <a:custGeom>
                  <a:avLst/>
                  <a:gdLst>
                    <a:gd name="textAreaLeft" fmla="*/ 0 w 1080"/>
                    <a:gd name="textAreaRight" fmla="*/ 1440 w 1080"/>
                    <a:gd name="textAreaTop" fmla="*/ 0 h 3600"/>
                    <a:gd name="textAreaBottom" fmla="*/ 3960 h 3600"/>
                  </a:gdLst>
                  <a:ahLst/>
                  <a:rect l="textAreaLeft" t="textAreaTop" r="textAreaRight" b="textAreaBottom"/>
                  <a:pathLst>
                    <a:path w="11" h="23">
                      <a:moveTo>
                        <a:pt x="11" y="0"/>
                      </a:moveTo>
                      <a:lnTo>
                        <a:pt x="0" y="0"/>
                      </a:lnTo>
                      <a:lnTo>
                        <a:pt x="0" y="12"/>
                      </a:lnTo>
                      <a:lnTo>
                        <a:pt x="11" y="23"/>
                      </a:lnTo>
                      <a:lnTo>
                        <a:pt x="11" y="0"/>
                      </a:lnTo>
                      <a:close/>
                    </a:path>
                  </a:pathLst>
                </a:custGeom>
                <a:solidFill>
                  <a:srgbClr val="000000"/>
                </a:solidFill>
                <a:ln w="0">
                  <a:noFill/>
                </a:ln>
              </p:spPr>
              <p:style>
                <a:lnRef idx="0"/>
                <a:fillRef idx="0"/>
                <a:effectRef idx="0"/>
                <a:fontRef idx="minor"/>
              </p:style>
              <p:txBody>
                <a:bodyPr lIns="90000" rIns="90000" tIns="-42840" bIns="-42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1378"/>
                <p:cNvSpPr/>
                <p:nvPr/>
              </p:nvSpPr>
              <p:spPr>
                <a:xfrm rot="111600">
                  <a:off x="5933880" y="183780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22" h="11">
                      <a:moveTo>
                        <a:pt x="22" y="11"/>
                      </a:moveTo>
                      <a:lnTo>
                        <a:pt x="11" y="0"/>
                      </a:lnTo>
                      <a:lnTo>
                        <a:pt x="0" y="0"/>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1377"/>
                <p:cNvSpPr/>
                <p:nvPr/>
              </p:nvSpPr>
              <p:spPr>
                <a:xfrm rot="111600">
                  <a:off x="5933520" y="1839600"/>
                  <a:ext cx="18000" cy="32400"/>
                </a:xfrm>
                <a:custGeom>
                  <a:avLst/>
                  <a:gdLst>
                    <a:gd name="textAreaLeft" fmla="*/ 0 w 18000"/>
                    <a:gd name="textAreaRight" fmla="*/ 18360 w 18000"/>
                    <a:gd name="textAreaTop" fmla="*/ 0 h 32400"/>
                    <a:gd name="textAreaBottom" fmla="*/ 32760 h 32400"/>
                  </a:gdLst>
                  <a:ahLst/>
                  <a:rect l="textAreaLeft" t="textAreaTop" r="textAreaRight" b="textAreaBottom"/>
                  <a:pathLst>
                    <a:path w="167" h="201">
                      <a:moveTo>
                        <a:pt x="167" y="190"/>
                      </a:moveTo>
                      <a:lnTo>
                        <a:pt x="134" y="168"/>
                      </a:lnTo>
                      <a:lnTo>
                        <a:pt x="112" y="156"/>
                      </a:lnTo>
                      <a:lnTo>
                        <a:pt x="89" y="134"/>
                      </a:lnTo>
                      <a:lnTo>
                        <a:pt x="67" y="112"/>
                      </a:lnTo>
                      <a:lnTo>
                        <a:pt x="56" y="78"/>
                      </a:lnTo>
                      <a:lnTo>
                        <a:pt x="34" y="56"/>
                      </a:lnTo>
                      <a:lnTo>
                        <a:pt x="22" y="23"/>
                      </a:lnTo>
                      <a:lnTo>
                        <a:pt x="22" y="0"/>
                      </a:lnTo>
                      <a:lnTo>
                        <a:pt x="0" y="0"/>
                      </a:lnTo>
                      <a:lnTo>
                        <a:pt x="11" y="34"/>
                      </a:lnTo>
                      <a:lnTo>
                        <a:pt x="22" y="67"/>
                      </a:lnTo>
                      <a:lnTo>
                        <a:pt x="34" y="90"/>
                      </a:lnTo>
                      <a:lnTo>
                        <a:pt x="56" y="123"/>
                      </a:lnTo>
                      <a:lnTo>
                        <a:pt x="78" y="145"/>
                      </a:lnTo>
                      <a:lnTo>
                        <a:pt x="100" y="168"/>
                      </a:lnTo>
                      <a:lnTo>
                        <a:pt x="134" y="190"/>
                      </a:lnTo>
                      <a:lnTo>
                        <a:pt x="167" y="201"/>
                      </a:lnTo>
                      <a:lnTo>
                        <a:pt x="167" y="190"/>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1376"/>
                <p:cNvSpPr/>
                <p:nvPr/>
              </p:nvSpPr>
              <p:spPr>
                <a:xfrm rot="111600">
                  <a:off x="5933880" y="1837800"/>
                  <a:ext cx="2160" cy="3600"/>
                </a:xfrm>
                <a:custGeom>
                  <a:avLst/>
                  <a:gdLst>
                    <a:gd name="textAreaLeft" fmla="*/ 0 w 2160"/>
                    <a:gd name="textAreaRight" fmla="*/ 2520 w 2160"/>
                    <a:gd name="textAreaTop" fmla="*/ 0 h 3600"/>
                    <a:gd name="textAreaBottom" fmla="*/ 3960 h 3600"/>
                  </a:gdLst>
                  <a:ahLst/>
                  <a:rect l="textAreaLeft" t="textAreaTop" r="textAreaRight" b="textAreaBottom"/>
                  <a:pathLst>
                    <a:path w="22" h="23">
                      <a:moveTo>
                        <a:pt x="0" y="23"/>
                      </a:moveTo>
                      <a:lnTo>
                        <a:pt x="11" y="11"/>
                      </a:lnTo>
                      <a:lnTo>
                        <a:pt x="22" y="11"/>
                      </a:lnTo>
                      <a:lnTo>
                        <a:pt x="11" y="0"/>
                      </a:lnTo>
                      <a:lnTo>
                        <a:pt x="0" y="23"/>
                      </a:lnTo>
                      <a:close/>
                    </a:path>
                  </a:pathLst>
                </a:custGeom>
                <a:solidFill>
                  <a:srgbClr val="000000"/>
                </a:solidFill>
                <a:ln w="0">
                  <a:noFill/>
                </a:ln>
              </p:spPr>
              <p:style>
                <a:lnRef idx="0"/>
                <a:fillRef idx="0"/>
                <a:effectRef idx="0"/>
                <a:fontRef idx="minor"/>
              </p:style>
              <p:txBody>
                <a:bodyPr lIns="90000" rIns="90000" tIns="-42840" bIns="-42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1375"/>
                <p:cNvSpPr/>
                <p:nvPr/>
              </p:nvSpPr>
              <p:spPr>
                <a:xfrm rot="111600">
                  <a:off x="5924520" y="1714680"/>
                  <a:ext cx="4680" cy="5400"/>
                </a:xfrm>
                <a:custGeom>
                  <a:avLst/>
                  <a:gdLst>
                    <a:gd name="textAreaLeft" fmla="*/ 0 w 4680"/>
                    <a:gd name="textAreaRight" fmla="*/ 5040 w 4680"/>
                    <a:gd name="textAreaTop" fmla="*/ 0 h 5400"/>
                    <a:gd name="textAreaBottom" fmla="*/ 5760 h 5400"/>
                  </a:gdLst>
                  <a:ahLst/>
                  <a:rect l="textAreaLeft" t="textAreaTop" r="textAreaRight" b="textAreaBottom"/>
                  <a:pathLst>
                    <a:path w="44" h="34">
                      <a:moveTo>
                        <a:pt x="44" y="12"/>
                      </a:moveTo>
                      <a:lnTo>
                        <a:pt x="33" y="12"/>
                      </a:lnTo>
                      <a:lnTo>
                        <a:pt x="22" y="0"/>
                      </a:lnTo>
                      <a:lnTo>
                        <a:pt x="11" y="12"/>
                      </a:lnTo>
                      <a:lnTo>
                        <a:pt x="0" y="12"/>
                      </a:lnTo>
                      <a:lnTo>
                        <a:pt x="0" y="23"/>
                      </a:lnTo>
                      <a:lnTo>
                        <a:pt x="0" y="34"/>
                      </a:lnTo>
                      <a:lnTo>
                        <a:pt x="44" y="12"/>
                      </a:lnTo>
                      <a:close/>
                    </a:path>
                  </a:pathLst>
                </a:custGeom>
                <a:solidFill>
                  <a:srgbClr val="000000"/>
                </a:solidFill>
                <a:ln w="0">
                  <a:noFill/>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1374"/>
                <p:cNvSpPr/>
                <p:nvPr/>
              </p:nvSpPr>
              <p:spPr>
                <a:xfrm rot="111600">
                  <a:off x="5924160" y="1716840"/>
                  <a:ext cx="11880" cy="32040"/>
                </a:xfrm>
                <a:custGeom>
                  <a:avLst/>
                  <a:gdLst>
                    <a:gd name="textAreaLeft" fmla="*/ 0 w 11880"/>
                    <a:gd name="textAreaRight" fmla="*/ 12240 w 11880"/>
                    <a:gd name="textAreaTop" fmla="*/ 0 h 32040"/>
                    <a:gd name="textAreaBottom" fmla="*/ 32400 h 32040"/>
                  </a:gdLst>
                  <a:ahLst/>
                  <a:rect l="textAreaLeft" t="textAreaTop" r="textAreaRight" b="textAreaBottom"/>
                  <a:pathLst>
                    <a:path w="111" h="200">
                      <a:moveTo>
                        <a:pt x="111" y="200"/>
                      </a:moveTo>
                      <a:lnTo>
                        <a:pt x="111" y="167"/>
                      </a:lnTo>
                      <a:lnTo>
                        <a:pt x="100" y="144"/>
                      </a:lnTo>
                      <a:lnTo>
                        <a:pt x="89" y="122"/>
                      </a:lnTo>
                      <a:lnTo>
                        <a:pt x="78" y="100"/>
                      </a:lnTo>
                      <a:lnTo>
                        <a:pt x="66" y="78"/>
                      </a:lnTo>
                      <a:lnTo>
                        <a:pt x="55" y="44"/>
                      </a:lnTo>
                      <a:lnTo>
                        <a:pt x="55" y="22"/>
                      </a:lnTo>
                      <a:lnTo>
                        <a:pt x="44" y="0"/>
                      </a:lnTo>
                      <a:lnTo>
                        <a:pt x="0" y="22"/>
                      </a:lnTo>
                      <a:lnTo>
                        <a:pt x="11" y="44"/>
                      </a:lnTo>
                      <a:lnTo>
                        <a:pt x="22" y="66"/>
                      </a:lnTo>
                      <a:lnTo>
                        <a:pt x="33" y="89"/>
                      </a:lnTo>
                      <a:lnTo>
                        <a:pt x="44" y="111"/>
                      </a:lnTo>
                      <a:lnTo>
                        <a:pt x="55" y="133"/>
                      </a:lnTo>
                      <a:lnTo>
                        <a:pt x="55" y="156"/>
                      </a:lnTo>
                      <a:lnTo>
                        <a:pt x="66" y="178"/>
                      </a:lnTo>
                      <a:lnTo>
                        <a:pt x="78" y="200"/>
                      </a:lnTo>
                      <a:lnTo>
                        <a:pt x="111" y="200"/>
                      </a:lnTo>
                      <a:close/>
                    </a:path>
                  </a:pathLst>
                </a:custGeom>
                <a:solidFill>
                  <a:srgbClr val="00000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1373"/>
                <p:cNvSpPr/>
                <p:nvPr/>
              </p:nvSpPr>
              <p:spPr>
                <a:xfrm rot="111600">
                  <a:off x="5924520" y="171864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44" h="22">
                      <a:moveTo>
                        <a:pt x="0" y="11"/>
                      </a:moveTo>
                      <a:lnTo>
                        <a:pt x="11" y="11"/>
                      </a:lnTo>
                      <a:lnTo>
                        <a:pt x="11" y="22"/>
                      </a:lnTo>
                      <a:lnTo>
                        <a:pt x="22" y="22"/>
                      </a:lnTo>
                      <a:lnTo>
                        <a:pt x="33" y="22"/>
                      </a:lnTo>
                      <a:lnTo>
                        <a:pt x="44" y="11"/>
                      </a:lnTo>
                      <a:lnTo>
                        <a:pt x="44" y="0"/>
                      </a:lnTo>
                      <a:lnTo>
                        <a:pt x="0" y="11"/>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1372"/>
                <p:cNvSpPr/>
                <p:nvPr/>
              </p:nvSpPr>
              <p:spPr>
                <a:xfrm rot="111600">
                  <a:off x="5900040" y="1713600"/>
                  <a:ext cx="3600" cy="3600"/>
                </a:xfrm>
                <a:custGeom>
                  <a:avLst/>
                  <a:gdLst>
                    <a:gd name="textAreaLeft" fmla="*/ 0 w 3600"/>
                    <a:gd name="textAreaRight" fmla="*/ 3960 w 3600"/>
                    <a:gd name="textAreaTop" fmla="*/ 0 h 3600"/>
                    <a:gd name="textAreaBottom" fmla="*/ 3960 h 3600"/>
                  </a:gdLst>
                  <a:ahLst/>
                  <a:rect l="textAreaLeft" t="textAreaTop" r="textAreaRight" b="textAreaBottom"/>
                  <a:pathLst>
                    <a:path w="33" h="23">
                      <a:moveTo>
                        <a:pt x="33" y="23"/>
                      </a:moveTo>
                      <a:lnTo>
                        <a:pt x="33" y="12"/>
                      </a:lnTo>
                      <a:lnTo>
                        <a:pt x="33" y="0"/>
                      </a:lnTo>
                      <a:lnTo>
                        <a:pt x="22" y="0"/>
                      </a:lnTo>
                      <a:lnTo>
                        <a:pt x="11" y="0"/>
                      </a:lnTo>
                      <a:lnTo>
                        <a:pt x="0" y="0"/>
                      </a:lnTo>
                      <a:lnTo>
                        <a:pt x="0" y="12"/>
                      </a:lnTo>
                      <a:lnTo>
                        <a:pt x="33" y="23"/>
                      </a:lnTo>
                      <a:close/>
                    </a:path>
                  </a:pathLst>
                </a:custGeom>
                <a:solidFill>
                  <a:srgbClr val="000000"/>
                </a:solidFill>
                <a:ln w="0">
                  <a:noFill/>
                </a:ln>
              </p:spPr>
              <p:style>
                <a:lnRef idx="0"/>
                <a:fillRef idx="0"/>
                <a:effectRef idx="0"/>
                <a:fontRef idx="minor"/>
              </p:style>
              <p:txBody>
                <a:bodyPr lIns="90000" rIns="90000" tIns="-42840" bIns="-42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1371"/>
                <p:cNvSpPr/>
                <p:nvPr/>
              </p:nvSpPr>
              <p:spPr>
                <a:xfrm rot="111600">
                  <a:off x="5891400" y="1715760"/>
                  <a:ext cx="11880" cy="27000"/>
                </a:xfrm>
                <a:custGeom>
                  <a:avLst/>
                  <a:gdLst>
                    <a:gd name="textAreaLeft" fmla="*/ 0 w 11880"/>
                    <a:gd name="textAreaRight" fmla="*/ 12240 w 11880"/>
                    <a:gd name="textAreaTop" fmla="*/ 0 h 27000"/>
                    <a:gd name="textAreaBottom" fmla="*/ 27360 h 27000"/>
                  </a:gdLst>
                  <a:ahLst/>
                  <a:rect l="textAreaLeft" t="textAreaTop" r="textAreaRight" b="textAreaBottom"/>
                  <a:pathLst>
                    <a:path w="111" h="167">
                      <a:moveTo>
                        <a:pt x="33" y="167"/>
                      </a:moveTo>
                      <a:lnTo>
                        <a:pt x="44" y="144"/>
                      </a:lnTo>
                      <a:lnTo>
                        <a:pt x="55" y="122"/>
                      </a:lnTo>
                      <a:lnTo>
                        <a:pt x="66" y="111"/>
                      </a:lnTo>
                      <a:lnTo>
                        <a:pt x="78" y="89"/>
                      </a:lnTo>
                      <a:lnTo>
                        <a:pt x="89" y="66"/>
                      </a:lnTo>
                      <a:lnTo>
                        <a:pt x="89" y="44"/>
                      </a:lnTo>
                      <a:lnTo>
                        <a:pt x="100" y="33"/>
                      </a:lnTo>
                      <a:lnTo>
                        <a:pt x="111" y="11"/>
                      </a:lnTo>
                      <a:lnTo>
                        <a:pt x="78" y="0"/>
                      </a:lnTo>
                      <a:lnTo>
                        <a:pt x="66" y="11"/>
                      </a:lnTo>
                      <a:lnTo>
                        <a:pt x="55" y="33"/>
                      </a:lnTo>
                      <a:lnTo>
                        <a:pt x="44" y="55"/>
                      </a:lnTo>
                      <a:lnTo>
                        <a:pt x="33" y="66"/>
                      </a:lnTo>
                      <a:lnTo>
                        <a:pt x="22" y="89"/>
                      </a:lnTo>
                      <a:lnTo>
                        <a:pt x="22" y="111"/>
                      </a:lnTo>
                      <a:lnTo>
                        <a:pt x="11" y="133"/>
                      </a:lnTo>
                      <a:lnTo>
                        <a:pt x="0" y="144"/>
                      </a:lnTo>
                      <a:lnTo>
                        <a:pt x="33" y="167"/>
                      </a:lnTo>
                      <a:close/>
                    </a:path>
                  </a:pathLst>
                </a:custGeom>
                <a:solidFill>
                  <a:srgbClr val="000000"/>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1370"/>
                <p:cNvSpPr/>
                <p:nvPr/>
              </p:nvSpPr>
              <p:spPr>
                <a:xfrm rot="111600">
                  <a:off x="5900040" y="1715760"/>
                  <a:ext cx="3600" cy="3240"/>
                </a:xfrm>
                <a:custGeom>
                  <a:avLst/>
                  <a:gdLst>
                    <a:gd name="textAreaLeft" fmla="*/ 0 w 3600"/>
                    <a:gd name="textAreaRight" fmla="*/ 3960 w 3600"/>
                    <a:gd name="textAreaTop" fmla="*/ 0 h 3240"/>
                    <a:gd name="textAreaBottom" fmla="*/ 3600 h 3240"/>
                  </a:gdLst>
                  <a:ahLst/>
                  <a:rect l="textAreaLeft" t="textAreaTop" r="textAreaRight" b="textAreaBottom"/>
                  <a:pathLst>
                    <a:path w="33" h="22">
                      <a:moveTo>
                        <a:pt x="0" y="0"/>
                      </a:moveTo>
                      <a:lnTo>
                        <a:pt x="0" y="0"/>
                      </a:lnTo>
                      <a:lnTo>
                        <a:pt x="0" y="11"/>
                      </a:lnTo>
                      <a:lnTo>
                        <a:pt x="0" y="22"/>
                      </a:lnTo>
                      <a:lnTo>
                        <a:pt x="11" y="22"/>
                      </a:lnTo>
                      <a:lnTo>
                        <a:pt x="22" y="22"/>
                      </a:lnTo>
                      <a:lnTo>
                        <a:pt x="33" y="22"/>
                      </a:lnTo>
                      <a:lnTo>
                        <a:pt x="33" y="11"/>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1369"/>
                <p:cNvSpPr/>
                <p:nvPr/>
              </p:nvSpPr>
              <p:spPr>
                <a:xfrm rot="111600">
                  <a:off x="5821560" y="1551960"/>
                  <a:ext cx="185400" cy="210600"/>
                </a:xfrm>
                <a:custGeom>
                  <a:avLst/>
                  <a:gdLst>
                    <a:gd name="textAreaLeft" fmla="*/ 0 w 185400"/>
                    <a:gd name="textAreaRight" fmla="*/ 185760 w 185400"/>
                    <a:gd name="textAreaTop" fmla="*/ 0 h 210600"/>
                    <a:gd name="textAreaBottom" fmla="*/ 210960 h 210600"/>
                  </a:gdLst>
                  <a:ahLst/>
                  <a:rect l="textAreaLeft" t="textAreaTop" r="textAreaRight" b="textAreaBottom"/>
                  <a:pathLst>
                    <a:path w="1694" h="1304">
                      <a:moveTo>
                        <a:pt x="892" y="535"/>
                      </a:moveTo>
                      <a:lnTo>
                        <a:pt x="892" y="558"/>
                      </a:lnTo>
                      <a:lnTo>
                        <a:pt x="880" y="580"/>
                      </a:lnTo>
                      <a:lnTo>
                        <a:pt x="880" y="602"/>
                      </a:lnTo>
                      <a:lnTo>
                        <a:pt x="869" y="624"/>
                      </a:lnTo>
                      <a:lnTo>
                        <a:pt x="858" y="647"/>
                      </a:lnTo>
                      <a:lnTo>
                        <a:pt x="847" y="669"/>
                      </a:lnTo>
                      <a:lnTo>
                        <a:pt x="825" y="691"/>
                      </a:lnTo>
                      <a:lnTo>
                        <a:pt x="802" y="714"/>
                      </a:lnTo>
                      <a:lnTo>
                        <a:pt x="780" y="736"/>
                      </a:lnTo>
                      <a:lnTo>
                        <a:pt x="758" y="769"/>
                      </a:lnTo>
                      <a:lnTo>
                        <a:pt x="747" y="792"/>
                      </a:lnTo>
                      <a:lnTo>
                        <a:pt x="724" y="803"/>
                      </a:lnTo>
                      <a:lnTo>
                        <a:pt x="713" y="825"/>
                      </a:lnTo>
                      <a:lnTo>
                        <a:pt x="691" y="836"/>
                      </a:lnTo>
                      <a:lnTo>
                        <a:pt x="680" y="836"/>
                      </a:lnTo>
                      <a:lnTo>
                        <a:pt x="669" y="836"/>
                      </a:lnTo>
                      <a:lnTo>
                        <a:pt x="658" y="836"/>
                      </a:lnTo>
                      <a:lnTo>
                        <a:pt x="646" y="836"/>
                      </a:lnTo>
                      <a:lnTo>
                        <a:pt x="624" y="825"/>
                      </a:lnTo>
                      <a:lnTo>
                        <a:pt x="613" y="814"/>
                      </a:lnTo>
                      <a:lnTo>
                        <a:pt x="580" y="836"/>
                      </a:lnTo>
                      <a:lnTo>
                        <a:pt x="557" y="858"/>
                      </a:lnTo>
                      <a:lnTo>
                        <a:pt x="535" y="881"/>
                      </a:lnTo>
                      <a:lnTo>
                        <a:pt x="524" y="914"/>
                      </a:lnTo>
                      <a:lnTo>
                        <a:pt x="513" y="937"/>
                      </a:lnTo>
                      <a:lnTo>
                        <a:pt x="502" y="959"/>
                      </a:lnTo>
                      <a:lnTo>
                        <a:pt x="479" y="992"/>
                      </a:lnTo>
                      <a:lnTo>
                        <a:pt x="446" y="1026"/>
                      </a:lnTo>
                      <a:lnTo>
                        <a:pt x="435" y="1015"/>
                      </a:lnTo>
                      <a:lnTo>
                        <a:pt x="424" y="1003"/>
                      </a:lnTo>
                      <a:lnTo>
                        <a:pt x="424" y="981"/>
                      </a:lnTo>
                      <a:lnTo>
                        <a:pt x="412" y="981"/>
                      </a:lnTo>
                      <a:lnTo>
                        <a:pt x="412" y="970"/>
                      </a:lnTo>
                      <a:lnTo>
                        <a:pt x="401" y="959"/>
                      </a:lnTo>
                      <a:lnTo>
                        <a:pt x="401" y="948"/>
                      </a:lnTo>
                      <a:lnTo>
                        <a:pt x="379" y="992"/>
                      </a:lnTo>
                      <a:lnTo>
                        <a:pt x="368" y="1037"/>
                      </a:lnTo>
                      <a:lnTo>
                        <a:pt x="357" y="1070"/>
                      </a:lnTo>
                      <a:lnTo>
                        <a:pt x="334" y="1104"/>
                      </a:lnTo>
                      <a:lnTo>
                        <a:pt x="312" y="1137"/>
                      </a:lnTo>
                      <a:lnTo>
                        <a:pt x="290" y="1171"/>
                      </a:lnTo>
                      <a:lnTo>
                        <a:pt x="256" y="1204"/>
                      </a:lnTo>
                      <a:lnTo>
                        <a:pt x="212" y="1226"/>
                      </a:lnTo>
                      <a:lnTo>
                        <a:pt x="212" y="1159"/>
                      </a:lnTo>
                      <a:lnTo>
                        <a:pt x="201" y="1104"/>
                      </a:lnTo>
                      <a:lnTo>
                        <a:pt x="201" y="1037"/>
                      </a:lnTo>
                      <a:lnTo>
                        <a:pt x="201" y="959"/>
                      </a:lnTo>
                      <a:lnTo>
                        <a:pt x="178" y="959"/>
                      </a:lnTo>
                      <a:lnTo>
                        <a:pt x="167" y="970"/>
                      </a:lnTo>
                      <a:lnTo>
                        <a:pt x="145" y="970"/>
                      </a:lnTo>
                      <a:lnTo>
                        <a:pt x="134" y="970"/>
                      </a:lnTo>
                      <a:lnTo>
                        <a:pt x="111" y="970"/>
                      </a:lnTo>
                      <a:lnTo>
                        <a:pt x="89" y="959"/>
                      </a:lnTo>
                      <a:lnTo>
                        <a:pt x="78" y="959"/>
                      </a:lnTo>
                      <a:lnTo>
                        <a:pt x="56" y="937"/>
                      </a:lnTo>
                      <a:lnTo>
                        <a:pt x="45" y="914"/>
                      </a:lnTo>
                      <a:lnTo>
                        <a:pt x="22" y="881"/>
                      </a:lnTo>
                      <a:lnTo>
                        <a:pt x="11" y="847"/>
                      </a:lnTo>
                      <a:lnTo>
                        <a:pt x="11" y="814"/>
                      </a:lnTo>
                      <a:lnTo>
                        <a:pt x="0" y="792"/>
                      </a:lnTo>
                      <a:lnTo>
                        <a:pt x="0" y="758"/>
                      </a:lnTo>
                      <a:lnTo>
                        <a:pt x="11" y="725"/>
                      </a:lnTo>
                      <a:lnTo>
                        <a:pt x="11" y="702"/>
                      </a:lnTo>
                      <a:lnTo>
                        <a:pt x="22" y="691"/>
                      </a:lnTo>
                      <a:lnTo>
                        <a:pt x="33" y="680"/>
                      </a:lnTo>
                      <a:lnTo>
                        <a:pt x="45" y="680"/>
                      </a:lnTo>
                      <a:lnTo>
                        <a:pt x="45" y="669"/>
                      </a:lnTo>
                      <a:lnTo>
                        <a:pt x="56" y="602"/>
                      </a:lnTo>
                      <a:lnTo>
                        <a:pt x="56" y="535"/>
                      </a:lnTo>
                      <a:lnTo>
                        <a:pt x="56" y="468"/>
                      </a:lnTo>
                      <a:lnTo>
                        <a:pt x="78" y="402"/>
                      </a:lnTo>
                      <a:lnTo>
                        <a:pt x="78" y="379"/>
                      </a:lnTo>
                      <a:lnTo>
                        <a:pt x="100" y="357"/>
                      </a:lnTo>
                      <a:lnTo>
                        <a:pt x="111" y="335"/>
                      </a:lnTo>
                      <a:lnTo>
                        <a:pt x="123" y="312"/>
                      </a:lnTo>
                      <a:lnTo>
                        <a:pt x="145" y="301"/>
                      </a:lnTo>
                      <a:lnTo>
                        <a:pt x="167" y="279"/>
                      </a:lnTo>
                      <a:lnTo>
                        <a:pt x="178" y="257"/>
                      </a:lnTo>
                      <a:lnTo>
                        <a:pt x="201" y="245"/>
                      </a:lnTo>
                      <a:lnTo>
                        <a:pt x="223" y="234"/>
                      </a:lnTo>
                      <a:lnTo>
                        <a:pt x="245" y="212"/>
                      </a:lnTo>
                      <a:lnTo>
                        <a:pt x="279" y="201"/>
                      </a:lnTo>
                      <a:lnTo>
                        <a:pt x="301" y="201"/>
                      </a:lnTo>
                      <a:lnTo>
                        <a:pt x="323" y="190"/>
                      </a:lnTo>
                      <a:lnTo>
                        <a:pt x="346" y="179"/>
                      </a:lnTo>
                      <a:lnTo>
                        <a:pt x="368" y="179"/>
                      </a:lnTo>
                      <a:lnTo>
                        <a:pt x="401" y="179"/>
                      </a:lnTo>
                      <a:lnTo>
                        <a:pt x="401" y="167"/>
                      </a:lnTo>
                      <a:lnTo>
                        <a:pt x="401" y="134"/>
                      </a:lnTo>
                      <a:lnTo>
                        <a:pt x="412" y="112"/>
                      </a:lnTo>
                      <a:lnTo>
                        <a:pt x="424" y="101"/>
                      </a:lnTo>
                      <a:lnTo>
                        <a:pt x="435" y="101"/>
                      </a:lnTo>
                      <a:lnTo>
                        <a:pt x="457" y="101"/>
                      </a:lnTo>
                      <a:lnTo>
                        <a:pt x="490" y="101"/>
                      </a:lnTo>
                      <a:lnTo>
                        <a:pt x="535" y="89"/>
                      </a:lnTo>
                      <a:lnTo>
                        <a:pt x="568" y="89"/>
                      </a:lnTo>
                      <a:lnTo>
                        <a:pt x="602" y="89"/>
                      </a:lnTo>
                      <a:lnTo>
                        <a:pt x="624" y="89"/>
                      </a:lnTo>
                      <a:lnTo>
                        <a:pt x="635" y="89"/>
                      </a:lnTo>
                      <a:lnTo>
                        <a:pt x="635" y="67"/>
                      </a:lnTo>
                      <a:lnTo>
                        <a:pt x="624" y="56"/>
                      </a:lnTo>
                      <a:lnTo>
                        <a:pt x="624" y="23"/>
                      </a:lnTo>
                      <a:lnTo>
                        <a:pt x="613" y="0"/>
                      </a:lnTo>
                      <a:lnTo>
                        <a:pt x="624" y="0"/>
                      </a:lnTo>
                      <a:lnTo>
                        <a:pt x="646" y="0"/>
                      </a:lnTo>
                      <a:lnTo>
                        <a:pt x="658" y="0"/>
                      </a:lnTo>
                      <a:lnTo>
                        <a:pt x="680" y="0"/>
                      </a:lnTo>
                      <a:lnTo>
                        <a:pt x="702" y="11"/>
                      </a:lnTo>
                      <a:lnTo>
                        <a:pt x="724" y="11"/>
                      </a:lnTo>
                      <a:lnTo>
                        <a:pt x="736" y="23"/>
                      </a:lnTo>
                      <a:lnTo>
                        <a:pt x="758" y="34"/>
                      </a:lnTo>
                      <a:lnTo>
                        <a:pt x="780" y="45"/>
                      </a:lnTo>
                      <a:lnTo>
                        <a:pt x="802" y="45"/>
                      </a:lnTo>
                      <a:lnTo>
                        <a:pt x="814" y="56"/>
                      </a:lnTo>
                      <a:lnTo>
                        <a:pt x="836" y="67"/>
                      </a:lnTo>
                      <a:lnTo>
                        <a:pt x="847" y="78"/>
                      </a:lnTo>
                      <a:lnTo>
                        <a:pt x="869" y="89"/>
                      </a:lnTo>
                      <a:lnTo>
                        <a:pt x="880" y="101"/>
                      </a:lnTo>
                      <a:lnTo>
                        <a:pt x="892" y="112"/>
                      </a:lnTo>
                      <a:lnTo>
                        <a:pt x="914" y="101"/>
                      </a:lnTo>
                      <a:lnTo>
                        <a:pt x="925" y="89"/>
                      </a:lnTo>
                      <a:lnTo>
                        <a:pt x="936" y="89"/>
                      </a:lnTo>
                      <a:lnTo>
                        <a:pt x="959" y="78"/>
                      </a:lnTo>
                      <a:lnTo>
                        <a:pt x="970" y="67"/>
                      </a:lnTo>
                      <a:lnTo>
                        <a:pt x="992" y="56"/>
                      </a:lnTo>
                      <a:lnTo>
                        <a:pt x="1003" y="56"/>
                      </a:lnTo>
                      <a:lnTo>
                        <a:pt x="1025" y="45"/>
                      </a:lnTo>
                      <a:lnTo>
                        <a:pt x="1037" y="45"/>
                      </a:lnTo>
                      <a:lnTo>
                        <a:pt x="1059" y="34"/>
                      </a:lnTo>
                      <a:lnTo>
                        <a:pt x="1070" y="34"/>
                      </a:lnTo>
                      <a:lnTo>
                        <a:pt x="1092" y="34"/>
                      </a:lnTo>
                      <a:lnTo>
                        <a:pt x="1115" y="34"/>
                      </a:lnTo>
                      <a:lnTo>
                        <a:pt x="1126" y="23"/>
                      </a:lnTo>
                      <a:lnTo>
                        <a:pt x="1148" y="23"/>
                      </a:lnTo>
                      <a:lnTo>
                        <a:pt x="1170" y="34"/>
                      </a:lnTo>
                      <a:lnTo>
                        <a:pt x="1170" y="45"/>
                      </a:lnTo>
                      <a:lnTo>
                        <a:pt x="1159" y="56"/>
                      </a:lnTo>
                      <a:lnTo>
                        <a:pt x="1148" y="67"/>
                      </a:lnTo>
                      <a:lnTo>
                        <a:pt x="1137" y="89"/>
                      </a:lnTo>
                      <a:lnTo>
                        <a:pt x="1159" y="89"/>
                      </a:lnTo>
                      <a:lnTo>
                        <a:pt x="1170" y="89"/>
                      </a:lnTo>
                      <a:lnTo>
                        <a:pt x="1193" y="89"/>
                      </a:lnTo>
                      <a:lnTo>
                        <a:pt x="1215" y="89"/>
                      </a:lnTo>
                      <a:lnTo>
                        <a:pt x="1237" y="89"/>
                      </a:lnTo>
                      <a:lnTo>
                        <a:pt x="1259" y="89"/>
                      </a:lnTo>
                      <a:lnTo>
                        <a:pt x="1271" y="89"/>
                      </a:lnTo>
                      <a:lnTo>
                        <a:pt x="1293" y="89"/>
                      </a:lnTo>
                      <a:lnTo>
                        <a:pt x="1326" y="101"/>
                      </a:lnTo>
                      <a:lnTo>
                        <a:pt x="1349" y="101"/>
                      </a:lnTo>
                      <a:lnTo>
                        <a:pt x="1371" y="112"/>
                      </a:lnTo>
                      <a:lnTo>
                        <a:pt x="1382" y="123"/>
                      </a:lnTo>
                      <a:lnTo>
                        <a:pt x="1393" y="134"/>
                      </a:lnTo>
                      <a:lnTo>
                        <a:pt x="1415" y="156"/>
                      </a:lnTo>
                      <a:lnTo>
                        <a:pt x="1427" y="179"/>
                      </a:lnTo>
                      <a:lnTo>
                        <a:pt x="1449" y="201"/>
                      </a:lnTo>
                      <a:lnTo>
                        <a:pt x="1449" y="212"/>
                      </a:lnTo>
                      <a:lnTo>
                        <a:pt x="1471" y="223"/>
                      </a:lnTo>
                      <a:lnTo>
                        <a:pt x="1493" y="234"/>
                      </a:lnTo>
                      <a:lnTo>
                        <a:pt x="1516" y="245"/>
                      </a:lnTo>
                      <a:lnTo>
                        <a:pt x="1538" y="257"/>
                      </a:lnTo>
                      <a:lnTo>
                        <a:pt x="1560" y="279"/>
                      </a:lnTo>
                      <a:lnTo>
                        <a:pt x="1571" y="290"/>
                      </a:lnTo>
                      <a:lnTo>
                        <a:pt x="1583" y="312"/>
                      </a:lnTo>
                      <a:lnTo>
                        <a:pt x="1594" y="346"/>
                      </a:lnTo>
                      <a:lnTo>
                        <a:pt x="1594" y="379"/>
                      </a:lnTo>
                      <a:lnTo>
                        <a:pt x="1583" y="424"/>
                      </a:lnTo>
                      <a:lnTo>
                        <a:pt x="1583" y="457"/>
                      </a:lnTo>
                      <a:lnTo>
                        <a:pt x="1594" y="457"/>
                      </a:lnTo>
                      <a:lnTo>
                        <a:pt x="1605" y="468"/>
                      </a:lnTo>
                      <a:lnTo>
                        <a:pt x="1605" y="480"/>
                      </a:lnTo>
                      <a:lnTo>
                        <a:pt x="1616" y="480"/>
                      </a:lnTo>
                      <a:lnTo>
                        <a:pt x="1638" y="535"/>
                      </a:lnTo>
                      <a:lnTo>
                        <a:pt x="1661" y="580"/>
                      </a:lnTo>
                      <a:lnTo>
                        <a:pt x="1683" y="647"/>
                      </a:lnTo>
                      <a:lnTo>
                        <a:pt x="1683" y="702"/>
                      </a:lnTo>
                      <a:lnTo>
                        <a:pt x="1694" y="769"/>
                      </a:lnTo>
                      <a:lnTo>
                        <a:pt x="1683" y="836"/>
                      </a:lnTo>
                      <a:lnTo>
                        <a:pt x="1683" y="892"/>
                      </a:lnTo>
                      <a:lnTo>
                        <a:pt x="1672" y="948"/>
                      </a:lnTo>
                      <a:lnTo>
                        <a:pt x="1661" y="981"/>
                      </a:lnTo>
                      <a:lnTo>
                        <a:pt x="1661" y="1003"/>
                      </a:lnTo>
                      <a:lnTo>
                        <a:pt x="1650" y="1015"/>
                      </a:lnTo>
                      <a:lnTo>
                        <a:pt x="1638" y="1026"/>
                      </a:lnTo>
                      <a:lnTo>
                        <a:pt x="1627" y="1037"/>
                      </a:lnTo>
                      <a:lnTo>
                        <a:pt x="1616" y="1037"/>
                      </a:lnTo>
                      <a:lnTo>
                        <a:pt x="1605" y="1037"/>
                      </a:lnTo>
                      <a:lnTo>
                        <a:pt x="1594" y="1037"/>
                      </a:lnTo>
                      <a:lnTo>
                        <a:pt x="1583" y="1037"/>
                      </a:lnTo>
                      <a:lnTo>
                        <a:pt x="1549" y="1048"/>
                      </a:lnTo>
                      <a:lnTo>
                        <a:pt x="1516" y="1070"/>
                      </a:lnTo>
                      <a:lnTo>
                        <a:pt x="1493" y="1104"/>
                      </a:lnTo>
                      <a:lnTo>
                        <a:pt x="1471" y="1148"/>
                      </a:lnTo>
                      <a:lnTo>
                        <a:pt x="1460" y="1182"/>
                      </a:lnTo>
                      <a:lnTo>
                        <a:pt x="1449" y="1226"/>
                      </a:lnTo>
                      <a:lnTo>
                        <a:pt x="1438" y="1271"/>
                      </a:lnTo>
                      <a:lnTo>
                        <a:pt x="1415" y="1304"/>
                      </a:lnTo>
                      <a:lnTo>
                        <a:pt x="1404" y="1282"/>
                      </a:lnTo>
                      <a:lnTo>
                        <a:pt x="1393" y="1260"/>
                      </a:lnTo>
                      <a:lnTo>
                        <a:pt x="1382" y="1237"/>
                      </a:lnTo>
                      <a:lnTo>
                        <a:pt x="1382" y="1226"/>
                      </a:lnTo>
                      <a:lnTo>
                        <a:pt x="1371" y="1171"/>
                      </a:lnTo>
                      <a:lnTo>
                        <a:pt x="1371" y="1115"/>
                      </a:lnTo>
                      <a:lnTo>
                        <a:pt x="1360" y="1081"/>
                      </a:lnTo>
                      <a:lnTo>
                        <a:pt x="1349" y="1037"/>
                      </a:lnTo>
                      <a:lnTo>
                        <a:pt x="1326" y="1003"/>
                      </a:lnTo>
                      <a:lnTo>
                        <a:pt x="1315" y="970"/>
                      </a:lnTo>
                      <a:lnTo>
                        <a:pt x="1282" y="948"/>
                      </a:lnTo>
                      <a:lnTo>
                        <a:pt x="1259" y="925"/>
                      </a:lnTo>
                      <a:lnTo>
                        <a:pt x="1237" y="903"/>
                      </a:lnTo>
                      <a:lnTo>
                        <a:pt x="1215" y="892"/>
                      </a:lnTo>
                      <a:lnTo>
                        <a:pt x="1204" y="881"/>
                      </a:lnTo>
                      <a:lnTo>
                        <a:pt x="1181" y="870"/>
                      </a:lnTo>
                      <a:lnTo>
                        <a:pt x="1170" y="858"/>
                      </a:lnTo>
                      <a:lnTo>
                        <a:pt x="1148" y="858"/>
                      </a:lnTo>
                      <a:lnTo>
                        <a:pt x="1126" y="858"/>
                      </a:lnTo>
                      <a:lnTo>
                        <a:pt x="1115" y="858"/>
                      </a:lnTo>
                      <a:lnTo>
                        <a:pt x="1103" y="858"/>
                      </a:lnTo>
                      <a:lnTo>
                        <a:pt x="1081" y="847"/>
                      </a:lnTo>
                      <a:lnTo>
                        <a:pt x="1070" y="836"/>
                      </a:lnTo>
                      <a:lnTo>
                        <a:pt x="1048" y="825"/>
                      </a:lnTo>
                      <a:lnTo>
                        <a:pt x="1037" y="814"/>
                      </a:lnTo>
                      <a:lnTo>
                        <a:pt x="1025" y="792"/>
                      </a:lnTo>
                      <a:lnTo>
                        <a:pt x="1025" y="769"/>
                      </a:lnTo>
                      <a:lnTo>
                        <a:pt x="1025" y="747"/>
                      </a:lnTo>
                      <a:lnTo>
                        <a:pt x="1014" y="747"/>
                      </a:lnTo>
                      <a:lnTo>
                        <a:pt x="1003" y="747"/>
                      </a:lnTo>
                      <a:lnTo>
                        <a:pt x="992" y="747"/>
                      </a:lnTo>
                      <a:lnTo>
                        <a:pt x="981" y="747"/>
                      </a:lnTo>
                      <a:lnTo>
                        <a:pt x="970" y="758"/>
                      </a:lnTo>
                      <a:lnTo>
                        <a:pt x="959" y="758"/>
                      </a:lnTo>
                      <a:lnTo>
                        <a:pt x="947" y="736"/>
                      </a:lnTo>
                      <a:lnTo>
                        <a:pt x="936" y="714"/>
                      </a:lnTo>
                      <a:lnTo>
                        <a:pt x="925" y="691"/>
                      </a:lnTo>
                      <a:lnTo>
                        <a:pt x="914" y="658"/>
                      </a:lnTo>
                      <a:lnTo>
                        <a:pt x="903" y="636"/>
                      </a:lnTo>
                      <a:lnTo>
                        <a:pt x="903" y="602"/>
                      </a:lnTo>
                      <a:lnTo>
                        <a:pt x="892" y="569"/>
                      </a:lnTo>
                      <a:lnTo>
                        <a:pt x="892" y="535"/>
                      </a:lnTo>
                      <a:close/>
                    </a:path>
                  </a:pathLst>
                </a:custGeom>
                <a:solidFill>
                  <a:srgbClr val="f5b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1368"/>
                <p:cNvSpPr/>
                <p:nvPr/>
              </p:nvSpPr>
              <p:spPr>
                <a:xfrm rot="111600">
                  <a:off x="5917320" y="1638720"/>
                  <a:ext cx="3600" cy="14040"/>
                </a:xfrm>
                <a:custGeom>
                  <a:avLst/>
                  <a:gdLst>
                    <a:gd name="textAreaLeft" fmla="*/ 0 w 3600"/>
                    <a:gd name="textAreaRight" fmla="*/ 3960 w 3600"/>
                    <a:gd name="textAreaTop" fmla="*/ 0 h 14040"/>
                    <a:gd name="textAreaBottom" fmla="*/ 14400 h 14040"/>
                  </a:gdLst>
                  <a:ahLst/>
                  <a:rect l="textAreaLeft" t="textAreaTop" r="textAreaRight" b="textAreaBottom"/>
                  <a:pathLst>
                    <a:path w="34" h="89">
                      <a:moveTo>
                        <a:pt x="11" y="89"/>
                      </a:moveTo>
                      <a:lnTo>
                        <a:pt x="11" y="89"/>
                      </a:lnTo>
                      <a:lnTo>
                        <a:pt x="23" y="67"/>
                      </a:lnTo>
                      <a:lnTo>
                        <a:pt x="23" y="45"/>
                      </a:lnTo>
                      <a:lnTo>
                        <a:pt x="34" y="23"/>
                      </a:lnTo>
                      <a:lnTo>
                        <a:pt x="34" y="0"/>
                      </a:lnTo>
                      <a:lnTo>
                        <a:pt x="11" y="0"/>
                      </a:lnTo>
                      <a:lnTo>
                        <a:pt x="11" y="23"/>
                      </a:lnTo>
                      <a:lnTo>
                        <a:pt x="11" y="45"/>
                      </a:lnTo>
                      <a:lnTo>
                        <a:pt x="0" y="67"/>
                      </a:lnTo>
                      <a:lnTo>
                        <a:pt x="0" y="78"/>
                      </a:lnTo>
                      <a:lnTo>
                        <a:pt x="11" y="89"/>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1367"/>
                <p:cNvSpPr/>
                <p:nvPr/>
              </p:nvSpPr>
              <p:spPr>
                <a:xfrm rot="111600">
                  <a:off x="5899320" y="1650600"/>
                  <a:ext cx="18000" cy="32400"/>
                </a:xfrm>
                <a:custGeom>
                  <a:avLst/>
                  <a:gdLst>
                    <a:gd name="textAreaLeft" fmla="*/ 0 w 18000"/>
                    <a:gd name="textAreaRight" fmla="*/ 18360 w 18000"/>
                    <a:gd name="textAreaTop" fmla="*/ 0 h 32400"/>
                    <a:gd name="textAreaBottom" fmla="*/ 32760 h 32400"/>
                  </a:gdLst>
                  <a:ahLst/>
                  <a:rect l="textAreaLeft" t="textAreaTop" r="textAreaRight" b="textAreaBottom"/>
                  <a:pathLst>
                    <a:path w="167" h="201">
                      <a:moveTo>
                        <a:pt x="23" y="201"/>
                      </a:moveTo>
                      <a:lnTo>
                        <a:pt x="23" y="201"/>
                      </a:lnTo>
                      <a:lnTo>
                        <a:pt x="34" y="179"/>
                      </a:lnTo>
                      <a:lnTo>
                        <a:pt x="56" y="156"/>
                      </a:lnTo>
                      <a:lnTo>
                        <a:pt x="78" y="134"/>
                      </a:lnTo>
                      <a:lnTo>
                        <a:pt x="101" y="112"/>
                      </a:lnTo>
                      <a:lnTo>
                        <a:pt x="123" y="89"/>
                      </a:lnTo>
                      <a:lnTo>
                        <a:pt x="134" y="67"/>
                      </a:lnTo>
                      <a:lnTo>
                        <a:pt x="156" y="34"/>
                      </a:lnTo>
                      <a:lnTo>
                        <a:pt x="167" y="11"/>
                      </a:lnTo>
                      <a:lnTo>
                        <a:pt x="156" y="0"/>
                      </a:lnTo>
                      <a:lnTo>
                        <a:pt x="134" y="23"/>
                      </a:lnTo>
                      <a:lnTo>
                        <a:pt x="123" y="56"/>
                      </a:lnTo>
                      <a:lnTo>
                        <a:pt x="101" y="78"/>
                      </a:lnTo>
                      <a:lnTo>
                        <a:pt x="89" y="101"/>
                      </a:lnTo>
                      <a:lnTo>
                        <a:pt x="67" y="123"/>
                      </a:lnTo>
                      <a:lnTo>
                        <a:pt x="45" y="145"/>
                      </a:lnTo>
                      <a:lnTo>
                        <a:pt x="23" y="167"/>
                      </a:lnTo>
                      <a:lnTo>
                        <a:pt x="0" y="190"/>
                      </a:lnTo>
                      <a:lnTo>
                        <a:pt x="23" y="201"/>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1366"/>
                <p:cNvSpPr/>
                <p:nvPr/>
              </p:nvSpPr>
              <p:spPr>
                <a:xfrm rot="111600">
                  <a:off x="5886720" y="1680840"/>
                  <a:ext cx="14400" cy="6840"/>
                </a:xfrm>
                <a:custGeom>
                  <a:avLst/>
                  <a:gdLst>
                    <a:gd name="textAreaLeft" fmla="*/ 0 w 14400"/>
                    <a:gd name="textAreaRight" fmla="*/ 14760 w 14400"/>
                    <a:gd name="textAreaTop" fmla="*/ 0 h 6840"/>
                    <a:gd name="textAreaBottom" fmla="*/ 7200 h 6840"/>
                  </a:gdLst>
                  <a:ahLst/>
                  <a:rect l="textAreaLeft" t="textAreaTop" r="textAreaRight" b="textAreaBottom"/>
                  <a:pathLst>
                    <a:path w="134" h="44">
                      <a:moveTo>
                        <a:pt x="11" y="22"/>
                      </a:moveTo>
                      <a:lnTo>
                        <a:pt x="0" y="22"/>
                      </a:lnTo>
                      <a:lnTo>
                        <a:pt x="22" y="33"/>
                      </a:lnTo>
                      <a:lnTo>
                        <a:pt x="33" y="44"/>
                      </a:lnTo>
                      <a:lnTo>
                        <a:pt x="56" y="44"/>
                      </a:lnTo>
                      <a:lnTo>
                        <a:pt x="67" y="44"/>
                      </a:lnTo>
                      <a:lnTo>
                        <a:pt x="78" y="44"/>
                      </a:lnTo>
                      <a:lnTo>
                        <a:pt x="100" y="33"/>
                      </a:lnTo>
                      <a:lnTo>
                        <a:pt x="111" y="22"/>
                      </a:lnTo>
                      <a:lnTo>
                        <a:pt x="134" y="11"/>
                      </a:lnTo>
                      <a:lnTo>
                        <a:pt x="111" y="0"/>
                      </a:lnTo>
                      <a:lnTo>
                        <a:pt x="100" y="11"/>
                      </a:lnTo>
                      <a:lnTo>
                        <a:pt x="89" y="22"/>
                      </a:lnTo>
                      <a:lnTo>
                        <a:pt x="78" y="22"/>
                      </a:lnTo>
                      <a:lnTo>
                        <a:pt x="67" y="33"/>
                      </a:lnTo>
                      <a:lnTo>
                        <a:pt x="56" y="33"/>
                      </a:lnTo>
                      <a:lnTo>
                        <a:pt x="44" y="22"/>
                      </a:lnTo>
                      <a:lnTo>
                        <a:pt x="33" y="22"/>
                      </a:lnTo>
                      <a:lnTo>
                        <a:pt x="11" y="11"/>
                      </a:lnTo>
                      <a:lnTo>
                        <a:pt x="0" y="11"/>
                      </a:lnTo>
                      <a:lnTo>
                        <a:pt x="11" y="22"/>
                      </a:lnTo>
                      <a:close/>
                    </a:path>
                  </a:pathLst>
                </a:custGeom>
                <a:solidFill>
                  <a:srgbClr val="000000"/>
                </a:solidFill>
                <a:ln w="0">
                  <a:noFill/>
                </a:ln>
              </p:spPr>
              <p:style>
                <a:lnRef idx="0"/>
                <a:fillRef idx="0"/>
                <a:effectRef idx="0"/>
                <a:fontRef idx="minor"/>
              </p:style>
              <p:txBody>
                <a:bodyPr lIns="90000" rIns="90000" tIns="-39600" bIns="-39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1365"/>
                <p:cNvSpPr/>
                <p:nvPr/>
              </p:nvSpPr>
              <p:spPr>
                <a:xfrm rot="111600">
                  <a:off x="5869080" y="1682280"/>
                  <a:ext cx="18000" cy="36000"/>
                </a:xfrm>
                <a:custGeom>
                  <a:avLst/>
                  <a:gdLst>
                    <a:gd name="textAreaLeft" fmla="*/ 0 w 18000"/>
                    <a:gd name="textAreaRight" fmla="*/ 18360 w 18000"/>
                    <a:gd name="textAreaTop" fmla="*/ 0 h 36000"/>
                    <a:gd name="textAreaBottom" fmla="*/ 36360 h 36000"/>
                  </a:gdLst>
                  <a:ahLst/>
                  <a:rect l="textAreaLeft" t="textAreaTop" r="textAreaRight" b="textAreaBottom"/>
                  <a:pathLst>
                    <a:path w="167" h="223">
                      <a:moveTo>
                        <a:pt x="0" y="223"/>
                      </a:moveTo>
                      <a:lnTo>
                        <a:pt x="11" y="223"/>
                      </a:lnTo>
                      <a:lnTo>
                        <a:pt x="44" y="189"/>
                      </a:lnTo>
                      <a:lnTo>
                        <a:pt x="67" y="156"/>
                      </a:lnTo>
                      <a:lnTo>
                        <a:pt x="78" y="123"/>
                      </a:lnTo>
                      <a:lnTo>
                        <a:pt x="89" y="100"/>
                      </a:lnTo>
                      <a:lnTo>
                        <a:pt x="100" y="78"/>
                      </a:lnTo>
                      <a:lnTo>
                        <a:pt x="111" y="56"/>
                      </a:lnTo>
                      <a:lnTo>
                        <a:pt x="134" y="33"/>
                      </a:lnTo>
                      <a:lnTo>
                        <a:pt x="167" y="11"/>
                      </a:lnTo>
                      <a:lnTo>
                        <a:pt x="156" y="0"/>
                      </a:lnTo>
                      <a:lnTo>
                        <a:pt x="122" y="22"/>
                      </a:lnTo>
                      <a:lnTo>
                        <a:pt x="100" y="44"/>
                      </a:lnTo>
                      <a:lnTo>
                        <a:pt x="89" y="67"/>
                      </a:lnTo>
                      <a:lnTo>
                        <a:pt x="78" y="89"/>
                      </a:lnTo>
                      <a:lnTo>
                        <a:pt x="56" y="111"/>
                      </a:lnTo>
                      <a:lnTo>
                        <a:pt x="44" y="145"/>
                      </a:lnTo>
                      <a:lnTo>
                        <a:pt x="22" y="178"/>
                      </a:lnTo>
                      <a:lnTo>
                        <a:pt x="0" y="212"/>
                      </a:lnTo>
                      <a:lnTo>
                        <a:pt x="11" y="212"/>
                      </a:lnTo>
                      <a:lnTo>
                        <a:pt x="0" y="223"/>
                      </a:lnTo>
                      <a:close/>
                    </a:path>
                  </a:pathLst>
                </a:custGeom>
                <a:solidFill>
                  <a:srgbClr val="0000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1364"/>
                <p:cNvSpPr/>
                <p:nvPr/>
              </p:nvSpPr>
              <p:spPr>
                <a:xfrm rot="111600">
                  <a:off x="5862600" y="170208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67" h="100">
                      <a:moveTo>
                        <a:pt x="22" y="11"/>
                      </a:moveTo>
                      <a:lnTo>
                        <a:pt x="0" y="22"/>
                      </a:lnTo>
                      <a:lnTo>
                        <a:pt x="11" y="22"/>
                      </a:lnTo>
                      <a:lnTo>
                        <a:pt x="11" y="33"/>
                      </a:lnTo>
                      <a:lnTo>
                        <a:pt x="22" y="44"/>
                      </a:lnTo>
                      <a:lnTo>
                        <a:pt x="22" y="55"/>
                      </a:lnTo>
                      <a:lnTo>
                        <a:pt x="34" y="66"/>
                      </a:lnTo>
                      <a:lnTo>
                        <a:pt x="34" y="78"/>
                      </a:lnTo>
                      <a:lnTo>
                        <a:pt x="45" y="89"/>
                      </a:lnTo>
                      <a:lnTo>
                        <a:pt x="56" y="100"/>
                      </a:lnTo>
                      <a:lnTo>
                        <a:pt x="67" y="89"/>
                      </a:lnTo>
                      <a:lnTo>
                        <a:pt x="56" y="78"/>
                      </a:lnTo>
                      <a:lnTo>
                        <a:pt x="56" y="66"/>
                      </a:lnTo>
                      <a:lnTo>
                        <a:pt x="45" y="55"/>
                      </a:lnTo>
                      <a:lnTo>
                        <a:pt x="45" y="44"/>
                      </a:lnTo>
                      <a:lnTo>
                        <a:pt x="34" y="33"/>
                      </a:lnTo>
                      <a:lnTo>
                        <a:pt x="34" y="22"/>
                      </a:lnTo>
                      <a:lnTo>
                        <a:pt x="22" y="11"/>
                      </a:lnTo>
                      <a:lnTo>
                        <a:pt x="11" y="0"/>
                      </a:lnTo>
                      <a:lnTo>
                        <a:pt x="0" y="11"/>
                      </a:lnTo>
                      <a:lnTo>
                        <a:pt x="22" y="11"/>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1363"/>
                <p:cNvSpPr/>
                <p:nvPr/>
              </p:nvSpPr>
              <p:spPr>
                <a:xfrm rot="111600">
                  <a:off x="5842440" y="1703160"/>
                  <a:ext cx="21600" cy="46440"/>
                </a:xfrm>
                <a:custGeom>
                  <a:avLst/>
                  <a:gdLst>
                    <a:gd name="textAreaLeft" fmla="*/ 0 w 21600"/>
                    <a:gd name="textAreaRight" fmla="*/ 21960 w 21600"/>
                    <a:gd name="textAreaTop" fmla="*/ 0 h 46440"/>
                    <a:gd name="textAreaBottom" fmla="*/ 46800 h 46440"/>
                  </a:gdLst>
                  <a:ahLst/>
                  <a:rect l="textAreaLeft" t="textAreaTop" r="textAreaRight" b="textAreaBottom"/>
                  <a:pathLst>
                    <a:path w="200" h="289">
                      <a:moveTo>
                        <a:pt x="0" y="278"/>
                      </a:moveTo>
                      <a:lnTo>
                        <a:pt x="11" y="289"/>
                      </a:lnTo>
                      <a:lnTo>
                        <a:pt x="56" y="256"/>
                      </a:lnTo>
                      <a:lnTo>
                        <a:pt x="89" y="234"/>
                      </a:lnTo>
                      <a:lnTo>
                        <a:pt x="111" y="200"/>
                      </a:lnTo>
                      <a:lnTo>
                        <a:pt x="134" y="167"/>
                      </a:lnTo>
                      <a:lnTo>
                        <a:pt x="156" y="122"/>
                      </a:lnTo>
                      <a:lnTo>
                        <a:pt x="167" y="89"/>
                      </a:lnTo>
                      <a:lnTo>
                        <a:pt x="178" y="44"/>
                      </a:lnTo>
                      <a:lnTo>
                        <a:pt x="200" y="0"/>
                      </a:lnTo>
                      <a:lnTo>
                        <a:pt x="178" y="0"/>
                      </a:lnTo>
                      <a:lnTo>
                        <a:pt x="167" y="44"/>
                      </a:lnTo>
                      <a:lnTo>
                        <a:pt x="145" y="78"/>
                      </a:lnTo>
                      <a:lnTo>
                        <a:pt x="134" y="122"/>
                      </a:lnTo>
                      <a:lnTo>
                        <a:pt x="122" y="156"/>
                      </a:lnTo>
                      <a:lnTo>
                        <a:pt x="100" y="189"/>
                      </a:lnTo>
                      <a:lnTo>
                        <a:pt x="67" y="211"/>
                      </a:lnTo>
                      <a:lnTo>
                        <a:pt x="44" y="245"/>
                      </a:lnTo>
                      <a:lnTo>
                        <a:pt x="0" y="278"/>
                      </a:lnTo>
                      <a:lnTo>
                        <a:pt x="11" y="278"/>
                      </a:lnTo>
                      <a:lnTo>
                        <a:pt x="0" y="278"/>
                      </a:lnTo>
                      <a:close/>
                    </a:path>
                  </a:pathLst>
                </a:custGeom>
                <a:solidFill>
                  <a:srgbClr val="000000"/>
                </a:solidFill>
                <a:ln w="0">
                  <a:noFill/>
                </a:ln>
              </p:spPr>
              <p:style>
                <a:lnRef idx="0"/>
                <a:fillRef idx="0"/>
                <a:effectRef idx="0"/>
                <a:fontRef idx="minor"/>
              </p:style>
              <p:txBody>
                <a:bodyPr lIns="90000" rIns="9000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Freeform 1362"/>
                <p:cNvSpPr/>
                <p:nvPr/>
              </p:nvSpPr>
              <p:spPr>
                <a:xfrm rot="111600">
                  <a:off x="5839920" y="1703160"/>
                  <a:ext cx="3600" cy="44640"/>
                </a:xfrm>
                <a:custGeom>
                  <a:avLst/>
                  <a:gdLst>
                    <a:gd name="textAreaLeft" fmla="*/ 0 w 3600"/>
                    <a:gd name="textAreaRight" fmla="*/ 3960 w 3600"/>
                    <a:gd name="textAreaTop" fmla="*/ 0 h 44640"/>
                    <a:gd name="textAreaBottom" fmla="*/ 45000 h 44640"/>
                  </a:gdLst>
                  <a:ahLst/>
                  <a:rect l="textAreaLeft" t="textAreaTop" r="textAreaRight" b="textAreaBottom"/>
                  <a:pathLst>
                    <a:path w="34" h="278">
                      <a:moveTo>
                        <a:pt x="12" y="22"/>
                      </a:moveTo>
                      <a:lnTo>
                        <a:pt x="0" y="11"/>
                      </a:lnTo>
                      <a:lnTo>
                        <a:pt x="0" y="89"/>
                      </a:lnTo>
                      <a:lnTo>
                        <a:pt x="0" y="156"/>
                      </a:lnTo>
                      <a:lnTo>
                        <a:pt x="12" y="211"/>
                      </a:lnTo>
                      <a:lnTo>
                        <a:pt x="23" y="278"/>
                      </a:lnTo>
                      <a:lnTo>
                        <a:pt x="34" y="278"/>
                      </a:lnTo>
                      <a:lnTo>
                        <a:pt x="23" y="211"/>
                      </a:lnTo>
                      <a:lnTo>
                        <a:pt x="23" y="156"/>
                      </a:lnTo>
                      <a:lnTo>
                        <a:pt x="12" y="89"/>
                      </a:lnTo>
                      <a:lnTo>
                        <a:pt x="23" y="11"/>
                      </a:lnTo>
                      <a:lnTo>
                        <a:pt x="12" y="0"/>
                      </a:lnTo>
                      <a:lnTo>
                        <a:pt x="12" y="22"/>
                      </a:lnTo>
                      <a:close/>
                    </a:path>
                  </a:pathLst>
                </a:custGeom>
                <a:solidFill>
                  <a:srgbClr val="000000"/>
                </a:solidFill>
                <a:ln w="0">
                  <a:noFill/>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Freeform 1361"/>
                <p:cNvSpPr/>
                <p:nvPr/>
              </p:nvSpPr>
              <p:spPr>
                <a:xfrm rot="111600">
                  <a:off x="5824800" y="1701000"/>
                  <a:ext cx="16920" cy="6840"/>
                </a:xfrm>
                <a:custGeom>
                  <a:avLst/>
                  <a:gdLst>
                    <a:gd name="textAreaLeft" fmla="*/ 0 w 16920"/>
                    <a:gd name="textAreaRight" fmla="*/ 17280 w 16920"/>
                    <a:gd name="textAreaTop" fmla="*/ 0 h 6840"/>
                    <a:gd name="textAreaBottom" fmla="*/ 7200 h 6840"/>
                  </a:gdLst>
                  <a:ahLst/>
                  <a:rect l="textAreaLeft" t="textAreaTop" r="textAreaRight" b="textAreaBottom"/>
                  <a:pathLst>
                    <a:path w="156" h="44">
                      <a:moveTo>
                        <a:pt x="0" y="11"/>
                      </a:moveTo>
                      <a:lnTo>
                        <a:pt x="0" y="11"/>
                      </a:lnTo>
                      <a:lnTo>
                        <a:pt x="22" y="22"/>
                      </a:lnTo>
                      <a:lnTo>
                        <a:pt x="44" y="33"/>
                      </a:lnTo>
                      <a:lnTo>
                        <a:pt x="66" y="44"/>
                      </a:lnTo>
                      <a:lnTo>
                        <a:pt x="89" y="44"/>
                      </a:lnTo>
                      <a:lnTo>
                        <a:pt x="100" y="44"/>
                      </a:lnTo>
                      <a:lnTo>
                        <a:pt x="122" y="33"/>
                      </a:lnTo>
                      <a:lnTo>
                        <a:pt x="133" y="33"/>
                      </a:lnTo>
                      <a:lnTo>
                        <a:pt x="156" y="33"/>
                      </a:lnTo>
                      <a:lnTo>
                        <a:pt x="156" y="11"/>
                      </a:lnTo>
                      <a:lnTo>
                        <a:pt x="133" y="22"/>
                      </a:lnTo>
                      <a:lnTo>
                        <a:pt x="122" y="22"/>
                      </a:lnTo>
                      <a:lnTo>
                        <a:pt x="100" y="22"/>
                      </a:lnTo>
                      <a:lnTo>
                        <a:pt x="89" y="22"/>
                      </a:lnTo>
                      <a:lnTo>
                        <a:pt x="66" y="22"/>
                      </a:lnTo>
                      <a:lnTo>
                        <a:pt x="44" y="22"/>
                      </a:lnTo>
                      <a:lnTo>
                        <a:pt x="33" y="11"/>
                      </a:lnTo>
                      <a:lnTo>
                        <a:pt x="22" y="0"/>
                      </a:lnTo>
                      <a:lnTo>
                        <a:pt x="0" y="11"/>
                      </a:lnTo>
                      <a:close/>
                    </a:path>
                  </a:pathLst>
                </a:custGeom>
                <a:solidFill>
                  <a:srgbClr val="000000"/>
                </a:solidFill>
                <a:ln w="0">
                  <a:noFill/>
                </a:ln>
              </p:spPr>
              <p:style>
                <a:lnRef idx="0"/>
                <a:fillRef idx="0"/>
                <a:effectRef idx="0"/>
                <a:fontRef idx="minor"/>
              </p:style>
              <p:txBody>
                <a:bodyPr lIns="90000" rIns="90000" tIns="-39600" bIns="-39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Freeform 1360"/>
                <p:cNvSpPr/>
                <p:nvPr/>
              </p:nvSpPr>
              <p:spPr>
                <a:xfrm rot="111600">
                  <a:off x="5819760" y="1660680"/>
                  <a:ext cx="8280" cy="41400"/>
                </a:xfrm>
                <a:custGeom>
                  <a:avLst/>
                  <a:gdLst>
                    <a:gd name="textAreaLeft" fmla="*/ 0 w 8280"/>
                    <a:gd name="textAreaRight" fmla="*/ 8640 w 8280"/>
                    <a:gd name="textAreaTop" fmla="*/ 0 h 41400"/>
                    <a:gd name="textAreaBottom" fmla="*/ 41760 h 41400"/>
                  </a:gdLst>
                  <a:ahLst/>
                  <a:rect l="textAreaLeft" t="textAreaTop" r="textAreaRight" b="textAreaBottom"/>
                  <a:pathLst>
                    <a:path w="78" h="257">
                      <a:moveTo>
                        <a:pt x="22" y="11"/>
                      </a:moveTo>
                      <a:lnTo>
                        <a:pt x="22" y="0"/>
                      </a:lnTo>
                      <a:lnTo>
                        <a:pt x="11" y="34"/>
                      </a:lnTo>
                      <a:lnTo>
                        <a:pt x="0" y="67"/>
                      </a:lnTo>
                      <a:lnTo>
                        <a:pt x="0" y="101"/>
                      </a:lnTo>
                      <a:lnTo>
                        <a:pt x="11" y="134"/>
                      </a:lnTo>
                      <a:lnTo>
                        <a:pt x="22" y="167"/>
                      </a:lnTo>
                      <a:lnTo>
                        <a:pt x="22" y="190"/>
                      </a:lnTo>
                      <a:lnTo>
                        <a:pt x="44" y="223"/>
                      </a:lnTo>
                      <a:lnTo>
                        <a:pt x="56" y="257"/>
                      </a:lnTo>
                      <a:lnTo>
                        <a:pt x="78" y="246"/>
                      </a:lnTo>
                      <a:lnTo>
                        <a:pt x="56" y="223"/>
                      </a:lnTo>
                      <a:lnTo>
                        <a:pt x="44" y="190"/>
                      </a:lnTo>
                      <a:lnTo>
                        <a:pt x="33" y="156"/>
                      </a:lnTo>
                      <a:lnTo>
                        <a:pt x="22" y="123"/>
                      </a:lnTo>
                      <a:lnTo>
                        <a:pt x="22" y="101"/>
                      </a:lnTo>
                      <a:lnTo>
                        <a:pt x="22" y="67"/>
                      </a:lnTo>
                      <a:lnTo>
                        <a:pt x="22" y="34"/>
                      </a:lnTo>
                      <a:lnTo>
                        <a:pt x="33" y="11"/>
                      </a:lnTo>
                      <a:lnTo>
                        <a:pt x="22" y="11"/>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Freeform 1359"/>
                <p:cNvSpPr/>
                <p:nvPr/>
              </p:nvSpPr>
              <p:spPr>
                <a:xfrm rot="111600">
                  <a:off x="5822640" y="1657080"/>
                  <a:ext cx="4680" cy="5040"/>
                </a:xfrm>
                <a:custGeom>
                  <a:avLst/>
                  <a:gdLst>
                    <a:gd name="textAreaLeft" fmla="*/ 0 w 4680"/>
                    <a:gd name="textAreaRight" fmla="*/ 5040 w 4680"/>
                    <a:gd name="textAreaTop" fmla="*/ 0 h 5040"/>
                    <a:gd name="textAreaBottom" fmla="*/ 5400 h 5040"/>
                  </a:gdLst>
                  <a:ahLst/>
                  <a:rect l="textAreaLeft" t="textAreaTop" r="textAreaRight" b="textAreaBottom"/>
                  <a:pathLst>
                    <a:path w="45" h="33">
                      <a:moveTo>
                        <a:pt x="22" y="0"/>
                      </a:moveTo>
                      <a:lnTo>
                        <a:pt x="22" y="0"/>
                      </a:lnTo>
                      <a:lnTo>
                        <a:pt x="11" y="11"/>
                      </a:lnTo>
                      <a:lnTo>
                        <a:pt x="0" y="22"/>
                      </a:lnTo>
                      <a:lnTo>
                        <a:pt x="0" y="33"/>
                      </a:lnTo>
                      <a:lnTo>
                        <a:pt x="11" y="33"/>
                      </a:lnTo>
                      <a:lnTo>
                        <a:pt x="22" y="33"/>
                      </a:lnTo>
                      <a:lnTo>
                        <a:pt x="22" y="22"/>
                      </a:lnTo>
                      <a:lnTo>
                        <a:pt x="34" y="11"/>
                      </a:lnTo>
                      <a:lnTo>
                        <a:pt x="45" y="0"/>
                      </a:lnTo>
                      <a:lnTo>
                        <a:pt x="22" y="0"/>
                      </a:lnTo>
                      <a:close/>
                    </a:path>
                  </a:pathLst>
                </a:custGeom>
                <a:solidFill>
                  <a:srgbClr val="000000"/>
                </a:solidFill>
                <a:ln w="0">
                  <a:no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reeform 1358"/>
                <p:cNvSpPr/>
                <p:nvPr/>
              </p:nvSpPr>
              <p:spPr>
                <a:xfrm rot="111600">
                  <a:off x="5825880" y="1614240"/>
                  <a:ext cx="4680" cy="42840"/>
                </a:xfrm>
                <a:custGeom>
                  <a:avLst/>
                  <a:gdLst>
                    <a:gd name="textAreaLeft" fmla="*/ 0 w 4680"/>
                    <a:gd name="textAreaRight" fmla="*/ 5040 w 4680"/>
                    <a:gd name="textAreaTop" fmla="*/ 0 h 42840"/>
                    <a:gd name="textAreaBottom" fmla="*/ 43200 h 42840"/>
                  </a:gdLst>
                  <a:ahLst/>
                  <a:rect l="textAreaLeft" t="textAreaTop" r="textAreaRight" b="textAreaBottom"/>
                  <a:pathLst>
                    <a:path w="45" h="267">
                      <a:moveTo>
                        <a:pt x="34" y="0"/>
                      </a:moveTo>
                      <a:lnTo>
                        <a:pt x="34" y="0"/>
                      </a:lnTo>
                      <a:lnTo>
                        <a:pt x="12" y="66"/>
                      </a:lnTo>
                      <a:lnTo>
                        <a:pt x="12" y="133"/>
                      </a:lnTo>
                      <a:lnTo>
                        <a:pt x="12" y="200"/>
                      </a:lnTo>
                      <a:lnTo>
                        <a:pt x="0" y="267"/>
                      </a:lnTo>
                      <a:lnTo>
                        <a:pt x="23" y="267"/>
                      </a:lnTo>
                      <a:lnTo>
                        <a:pt x="34" y="200"/>
                      </a:lnTo>
                      <a:lnTo>
                        <a:pt x="34" y="133"/>
                      </a:lnTo>
                      <a:lnTo>
                        <a:pt x="34" y="66"/>
                      </a:lnTo>
                      <a:lnTo>
                        <a:pt x="45" y="0"/>
                      </a:lnTo>
                      <a:lnTo>
                        <a:pt x="34" y="0"/>
                      </a:lnTo>
                      <a:close/>
                    </a:path>
                  </a:pathLst>
                </a:custGeom>
                <a:solidFill>
                  <a:srgbClr val="00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Freeform 1357"/>
                <p:cNvSpPr/>
                <p:nvPr/>
              </p:nvSpPr>
              <p:spPr>
                <a:xfrm rot="111600">
                  <a:off x="5831280" y="1576800"/>
                  <a:ext cx="36360" cy="37800"/>
                </a:xfrm>
                <a:custGeom>
                  <a:avLst/>
                  <a:gdLst>
                    <a:gd name="textAreaLeft" fmla="*/ 0 w 36360"/>
                    <a:gd name="textAreaRight" fmla="*/ 36720 w 36360"/>
                    <a:gd name="textAreaTop" fmla="*/ 0 h 37800"/>
                    <a:gd name="textAreaBottom" fmla="*/ 38160 h 37800"/>
                  </a:gdLst>
                  <a:ahLst/>
                  <a:rect l="textAreaLeft" t="textAreaTop" r="textAreaRight" b="textAreaBottom"/>
                  <a:pathLst>
                    <a:path w="334" h="235">
                      <a:moveTo>
                        <a:pt x="323" y="12"/>
                      </a:moveTo>
                      <a:lnTo>
                        <a:pt x="334" y="0"/>
                      </a:lnTo>
                      <a:lnTo>
                        <a:pt x="301" y="0"/>
                      </a:lnTo>
                      <a:lnTo>
                        <a:pt x="279" y="0"/>
                      </a:lnTo>
                      <a:lnTo>
                        <a:pt x="256" y="12"/>
                      </a:lnTo>
                      <a:lnTo>
                        <a:pt x="234" y="23"/>
                      </a:lnTo>
                      <a:lnTo>
                        <a:pt x="201" y="34"/>
                      </a:lnTo>
                      <a:lnTo>
                        <a:pt x="178" y="45"/>
                      </a:lnTo>
                      <a:lnTo>
                        <a:pt x="156" y="56"/>
                      </a:lnTo>
                      <a:lnTo>
                        <a:pt x="134" y="67"/>
                      </a:lnTo>
                      <a:lnTo>
                        <a:pt x="111" y="90"/>
                      </a:lnTo>
                      <a:lnTo>
                        <a:pt x="89" y="101"/>
                      </a:lnTo>
                      <a:lnTo>
                        <a:pt x="67" y="123"/>
                      </a:lnTo>
                      <a:lnTo>
                        <a:pt x="56" y="145"/>
                      </a:lnTo>
                      <a:lnTo>
                        <a:pt x="33" y="168"/>
                      </a:lnTo>
                      <a:lnTo>
                        <a:pt x="22" y="190"/>
                      </a:lnTo>
                      <a:lnTo>
                        <a:pt x="11" y="212"/>
                      </a:lnTo>
                      <a:lnTo>
                        <a:pt x="0" y="235"/>
                      </a:lnTo>
                      <a:lnTo>
                        <a:pt x="11" y="235"/>
                      </a:lnTo>
                      <a:lnTo>
                        <a:pt x="22" y="212"/>
                      </a:lnTo>
                      <a:lnTo>
                        <a:pt x="33" y="201"/>
                      </a:lnTo>
                      <a:lnTo>
                        <a:pt x="44" y="179"/>
                      </a:lnTo>
                      <a:lnTo>
                        <a:pt x="67" y="156"/>
                      </a:lnTo>
                      <a:lnTo>
                        <a:pt x="78" y="134"/>
                      </a:lnTo>
                      <a:lnTo>
                        <a:pt x="100" y="123"/>
                      </a:lnTo>
                      <a:lnTo>
                        <a:pt x="122" y="101"/>
                      </a:lnTo>
                      <a:lnTo>
                        <a:pt x="145" y="90"/>
                      </a:lnTo>
                      <a:lnTo>
                        <a:pt x="167" y="67"/>
                      </a:lnTo>
                      <a:lnTo>
                        <a:pt x="189" y="56"/>
                      </a:lnTo>
                      <a:lnTo>
                        <a:pt x="212" y="45"/>
                      </a:lnTo>
                      <a:lnTo>
                        <a:pt x="234" y="34"/>
                      </a:lnTo>
                      <a:lnTo>
                        <a:pt x="256" y="34"/>
                      </a:lnTo>
                      <a:lnTo>
                        <a:pt x="279" y="23"/>
                      </a:lnTo>
                      <a:lnTo>
                        <a:pt x="301" y="23"/>
                      </a:lnTo>
                      <a:lnTo>
                        <a:pt x="334" y="23"/>
                      </a:lnTo>
                      <a:lnTo>
                        <a:pt x="334" y="12"/>
                      </a:lnTo>
                      <a:lnTo>
                        <a:pt x="323" y="12"/>
                      </a:lnTo>
                      <a:close/>
                    </a:path>
                  </a:pathLst>
                </a:custGeom>
                <a:solidFill>
                  <a:srgbClr val="00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1356"/>
                <p:cNvSpPr/>
                <p:nvPr/>
              </p:nvSpPr>
              <p:spPr>
                <a:xfrm rot="111600">
                  <a:off x="5867280" y="1564920"/>
                  <a:ext cx="3600" cy="14400"/>
                </a:xfrm>
                <a:custGeom>
                  <a:avLst/>
                  <a:gdLst>
                    <a:gd name="textAreaLeft" fmla="*/ 0 w 3600"/>
                    <a:gd name="textAreaRight" fmla="*/ 3960 w 3600"/>
                    <a:gd name="textAreaTop" fmla="*/ 0 h 14400"/>
                    <a:gd name="textAreaBottom" fmla="*/ 14760 h 14400"/>
                  </a:gdLst>
                  <a:ahLst/>
                  <a:rect l="textAreaLeft" t="textAreaTop" r="textAreaRight" b="textAreaBottom"/>
                  <a:pathLst>
                    <a:path w="34" h="90">
                      <a:moveTo>
                        <a:pt x="34" y="0"/>
                      </a:moveTo>
                      <a:lnTo>
                        <a:pt x="22" y="0"/>
                      </a:lnTo>
                      <a:lnTo>
                        <a:pt x="11" y="23"/>
                      </a:lnTo>
                      <a:lnTo>
                        <a:pt x="0" y="45"/>
                      </a:lnTo>
                      <a:lnTo>
                        <a:pt x="0" y="67"/>
                      </a:lnTo>
                      <a:lnTo>
                        <a:pt x="0" y="90"/>
                      </a:lnTo>
                      <a:lnTo>
                        <a:pt x="11" y="90"/>
                      </a:lnTo>
                      <a:lnTo>
                        <a:pt x="22" y="78"/>
                      </a:lnTo>
                      <a:lnTo>
                        <a:pt x="22" y="56"/>
                      </a:lnTo>
                      <a:lnTo>
                        <a:pt x="34" y="34"/>
                      </a:lnTo>
                      <a:lnTo>
                        <a:pt x="34" y="23"/>
                      </a:lnTo>
                      <a:lnTo>
                        <a:pt x="34" y="0"/>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1355"/>
                <p:cNvSpPr/>
                <p:nvPr/>
              </p:nvSpPr>
              <p:spPr>
                <a:xfrm rot="111600">
                  <a:off x="5870880" y="1563840"/>
                  <a:ext cx="24120" cy="5400"/>
                </a:xfrm>
                <a:custGeom>
                  <a:avLst/>
                  <a:gdLst>
                    <a:gd name="textAreaLeft" fmla="*/ 0 w 24120"/>
                    <a:gd name="textAreaRight" fmla="*/ 24480 w 24120"/>
                    <a:gd name="textAreaTop" fmla="*/ 0 h 5400"/>
                    <a:gd name="textAreaBottom" fmla="*/ 5760 h 5400"/>
                  </a:gdLst>
                  <a:ahLst/>
                  <a:rect l="textAreaLeft" t="textAreaTop" r="textAreaRight" b="textAreaBottom"/>
                  <a:pathLst>
                    <a:path w="222" h="34">
                      <a:moveTo>
                        <a:pt x="200" y="11"/>
                      </a:moveTo>
                      <a:lnTo>
                        <a:pt x="200" y="0"/>
                      </a:lnTo>
                      <a:lnTo>
                        <a:pt x="178" y="0"/>
                      </a:lnTo>
                      <a:lnTo>
                        <a:pt x="144" y="0"/>
                      </a:lnTo>
                      <a:lnTo>
                        <a:pt x="111" y="11"/>
                      </a:lnTo>
                      <a:lnTo>
                        <a:pt x="66" y="11"/>
                      </a:lnTo>
                      <a:lnTo>
                        <a:pt x="33" y="11"/>
                      </a:lnTo>
                      <a:lnTo>
                        <a:pt x="11" y="11"/>
                      </a:lnTo>
                      <a:lnTo>
                        <a:pt x="0" y="11"/>
                      </a:lnTo>
                      <a:lnTo>
                        <a:pt x="0" y="34"/>
                      </a:lnTo>
                      <a:lnTo>
                        <a:pt x="11" y="34"/>
                      </a:lnTo>
                      <a:lnTo>
                        <a:pt x="33" y="23"/>
                      </a:lnTo>
                      <a:lnTo>
                        <a:pt x="66" y="23"/>
                      </a:lnTo>
                      <a:lnTo>
                        <a:pt x="111" y="23"/>
                      </a:lnTo>
                      <a:lnTo>
                        <a:pt x="144" y="23"/>
                      </a:lnTo>
                      <a:lnTo>
                        <a:pt x="178" y="23"/>
                      </a:lnTo>
                      <a:lnTo>
                        <a:pt x="200" y="23"/>
                      </a:lnTo>
                      <a:lnTo>
                        <a:pt x="211" y="23"/>
                      </a:lnTo>
                      <a:lnTo>
                        <a:pt x="222" y="11"/>
                      </a:lnTo>
                      <a:lnTo>
                        <a:pt x="200" y="11"/>
                      </a:lnTo>
                      <a:close/>
                    </a:path>
                  </a:pathLst>
                </a:custGeom>
                <a:solidFill>
                  <a:srgbClr val="000000"/>
                </a:solidFill>
                <a:ln w="0">
                  <a:noFill/>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Freeform 1354"/>
                <p:cNvSpPr/>
                <p:nvPr/>
              </p:nvSpPr>
              <p:spPr>
                <a:xfrm rot="111600">
                  <a:off x="5891040" y="1549440"/>
                  <a:ext cx="4680" cy="15840"/>
                </a:xfrm>
                <a:custGeom>
                  <a:avLst/>
                  <a:gdLst>
                    <a:gd name="textAreaLeft" fmla="*/ 0 w 4680"/>
                    <a:gd name="textAreaRight" fmla="*/ 5040 w 4680"/>
                    <a:gd name="textAreaTop" fmla="*/ 0 h 15840"/>
                    <a:gd name="textAreaBottom" fmla="*/ 16200 h 15840"/>
                  </a:gdLst>
                  <a:ahLst/>
                  <a:rect l="textAreaLeft" t="textAreaTop" r="textAreaRight" b="textAreaBottom"/>
                  <a:pathLst>
                    <a:path w="44" h="100">
                      <a:moveTo>
                        <a:pt x="11" y="0"/>
                      </a:moveTo>
                      <a:lnTo>
                        <a:pt x="0" y="11"/>
                      </a:lnTo>
                      <a:lnTo>
                        <a:pt x="11" y="45"/>
                      </a:lnTo>
                      <a:lnTo>
                        <a:pt x="11" y="67"/>
                      </a:lnTo>
                      <a:lnTo>
                        <a:pt x="22" y="78"/>
                      </a:lnTo>
                      <a:lnTo>
                        <a:pt x="22" y="100"/>
                      </a:lnTo>
                      <a:lnTo>
                        <a:pt x="44" y="100"/>
                      </a:lnTo>
                      <a:lnTo>
                        <a:pt x="44" y="78"/>
                      </a:lnTo>
                      <a:lnTo>
                        <a:pt x="33" y="56"/>
                      </a:lnTo>
                      <a:lnTo>
                        <a:pt x="33" y="34"/>
                      </a:lnTo>
                      <a:lnTo>
                        <a:pt x="11" y="0"/>
                      </a:lnTo>
                      <a:lnTo>
                        <a:pt x="11" y="11"/>
                      </a:lnTo>
                      <a:lnTo>
                        <a:pt x="11" y="0"/>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Freeform 1353"/>
                <p:cNvSpPr/>
                <p:nvPr/>
              </p:nvSpPr>
              <p:spPr>
                <a:xfrm rot="111600">
                  <a:off x="5892120" y="1550160"/>
                  <a:ext cx="31680" cy="21600"/>
                </a:xfrm>
                <a:custGeom>
                  <a:avLst/>
                  <a:gdLst>
                    <a:gd name="textAreaLeft" fmla="*/ 0 w 31680"/>
                    <a:gd name="textAreaRight" fmla="*/ 32040 w 31680"/>
                    <a:gd name="textAreaTop" fmla="*/ 0 h 21600"/>
                    <a:gd name="textAreaBottom" fmla="*/ 21960 h 21600"/>
                  </a:gdLst>
                  <a:ahLst/>
                  <a:rect l="textAreaLeft" t="textAreaTop" r="textAreaRight" b="textAreaBottom"/>
                  <a:pathLst>
                    <a:path w="290" h="134">
                      <a:moveTo>
                        <a:pt x="279" y="112"/>
                      </a:moveTo>
                      <a:lnTo>
                        <a:pt x="290" y="112"/>
                      </a:lnTo>
                      <a:lnTo>
                        <a:pt x="267" y="100"/>
                      </a:lnTo>
                      <a:lnTo>
                        <a:pt x="256" y="89"/>
                      </a:lnTo>
                      <a:lnTo>
                        <a:pt x="245" y="78"/>
                      </a:lnTo>
                      <a:lnTo>
                        <a:pt x="223" y="67"/>
                      </a:lnTo>
                      <a:lnTo>
                        <a:pt x="212" y="56"/>
                      </a:lnTo>
                      <a:lnTo>
                        <a:pt x="189" y="45"/>
                      </a:lnTo>
                      <a:lnTo>
                        <a:pt x="167" y="45"/>
                      </a:lnTo>
                      <a:lnTo>
                        <a:pt x="145" y="34"/>
                      </a:lnTo>
                      <a:lnTo>
                        <a:pt x="134" y="22"/>
                      </a:lnTo>
                      <a:lnTo>
                        <a:pt x="111" y="22"/>
                      </a:lnTo>
                      <a:lnTo>
                        <a:pt x="89" y="11"/>
                      </a:lnTo>
                      <a:lnTo>
                        <a:pt x="67" y="11"/>
                      </a:lnTo>
                      <a:lnTo>
                        <a:pt x="56" y="0"/>
                      </a:lnTo>
                      <a:lnTo>
                        <a:pt x="33" y="0"/>
                      </a:lnTo>
                      <a:lnTo>
                        <a:pt x="11" y="0"/>
                      </a:lnTo>
                      <a:lnTo>
                        <a:pt x="0" y="0"/>
                      </a:lnTo>
                      <a:lnTo>
                        <a:pt x="0" y="11"/>
                      </a:lnTo>
                      <a:lnTo>
                        <a:pt x="11" y="11"/>
                      </a:lnTo>
                      <a:lnTo>
                        <a:pt x="33" y="22"/>
                      </a:lnTo>
                      <a:lnTo>
                        <a:pt x="45" y="22"/>
                      </a:lnTo>
                      <a:lnTo>
                        <a:pt x="67" y="22"/>
                      </a:lnTo>
                      <a:lnTo>
                        <a:pt x="89" y="34"/>
                      </a:lnTo>
                      <a:lnTo>
                        <a:pt x="100" y="34"/>
                      </a:lnTo>
                      <a:lnTo>
                        <a:pt x="123" y="45"/>
                      </a:lnTo>
                      <a:lnTo>
                        <a:pt x="145" y="56"/>
                      </a:lnTo>
                      <a:lnTo>
                        <a:pt x="167" y="56"/>
                      </a:lnTo>
                      <a:lnTo>
                        <a:pt x="178" y="67"/>
                      </a:lnTo>
                      <a:lnTo>
                        <a:pt x="201" y="78"/>
                      </a:lnTo>
                      <a:lnTo>
                        <a:pt x="212" y="89"/>
                      </a:lnTo>
                      <a:lnTo>
                        <a:pt x="234" y="100"/>
                      </a:lnTo>
                      <a:lnTo>
                        <a:pt x="245" y="112"/>
                      </a:lnTo>
                      <a:lnTo>
                        <a:pt x="256" y="123"/>
                      </a:lnTo>
                      <a:lnTo>
                        <a:pt x="267" y="134"/>
                      </a:lnTo>
                      <a:lnTo>
                        <a:pt x="279" y="134"/>
                      </a:lnTo>
                      <a:lnTo>
                        <a:pt x="279" y="112"/>
                      </a:lnTo>
                      <a:close/>
                    </a:path>
                  </a:pathLst>
                </a:custGeom>
                <a:solidFill>
                  <a:srgbClr val="000000"/>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1352"/>
                <p:cNvSpPr/>
                <p:nvPr/>
              </p:nvSpPr>
              <p:spPr>
                <a:xfrm rot="111600">
                  <a:off x="5922360" y="1556280"/>
                  <a:ext cx="31320" cy="15840"/>
                </a:xfrm>
                <a:custGeom>
                  <a:avLst/>
                  <a:gdLst>
                    <a:gd name="textAreaLeft" fmla="*/ 0 w 31320"/>
                    <a:gd name="textAreaRight" fmla="*/ 31680 w 31320"/>
                    <a:gd name="textAreaTop" fmla="*/ 0 h 15840"/>
                    <a:gd name="textAreaBottom" fmla="*/ 16200 h 15840"/>
                  </a:gdLst>
                  <a:ahLst/>
                  <a:rect l="textAreaLeft" t="textAreaTop" r="textAreaRight" b="textAreaBottom"/>
                  <a:pathLst>
                    <a:path w="289" h="100">
                      <a:moveTo>
                        <a:pt x="289" y="11"/>
                      </a:moveTo>
                      <a:lnTo>
                        <a:pt x="278" y="0"/>
                      </a:lnTo>
                      <a:lnTo>
                        <a:pt x="256" y="0"/>
                      </a:lnTo>
                      <a:lnTo>
                        <a:pt x="234" y="0"/>
                      </a:lnTo>
                      <a:lnTo>
                        <a:pt x="223" y="0"/>
                      </a:lnTo>
                      <a:lnTo>
                        <a:pt x="200" y="0"/>
                      </a:lnTo>
                      <a:lnTo>
                        <a:pt x="178" y="0"/>
                      </a:lnTo>
                      <a:lnTo>
                        <a:pt x="167" y="11"/>
                      </a:lnTo>
                      <a:lnTo>
                        <a:pt x="145" y="11"/>
                      </a:lnTo>
                      <a:lnTo>
                        <a:pt x="122" y="11"/>
                      </a:lnTo>
                      <a:lnTo>
                        <a:pt x="111" y="22"/>
                      </a:lnTo>
                      <a:lnTo>
                        <a:pt x="89" y="33"/>
                      </a:lnTo>
                      <a:lnTo>
                        <a:pt x="78" y="33"/>
                      </a:lnTo>
                      <a:lnTo>
                        <a:pt x="55" y="44"/>
                      </a:lnTo>
                      <a:lnTo>
                        <a:pt x="44" y="55"/>
                      </a:lnTo>
                      <a:lnTo>
                        <a:pt x="33" y="66"/>
                      </a:lnTo>
                      <a:lnTo>
                        <a:pt x="11" y="78"/>
                      </a:lnTo>
                      <a:lnTo>
                        <a:pt x="0" y="78"/>
                      </a:lnTo>
                      <a:lnTo>
                        <a:pt x="0" y="100"/>
                      </a:lnTo>
                      <a:lnTo>
                        <a:pt x="22" y="89"/>
                      </a:lnTo>
                      <a:lnTo>
                        <a:pt x="33" y="78"/>
                      </a:lnTo>
                      <a:lnTo>
                        <a:pt x="55" y="66"/>
                      </a:lnTo>
                      <a:lnTo>
                        <a:pt x="67" y="55"/>
                      </a:lnTo>
                      <a:lnTo>
                        <a:pt x="89" y="55"/>
                      </a:lnTo>
                      <a:lnTo>
                        <a:pt x="100" y="44"/>
                      </a:lnTo>
                      <a:lnTo>
                        <a:pt x="122" y="44"/>
                      </a:lnTo>
                      <a:lnTo>
                        <a:pt x="133" y="33"/>
                      </a:lnTo>
                      <a:lnTo>
                        <a:pt x="156" y="33"/>
                      </a:lnTo>
                      <a:lnTo>
                        <a:pt x="167" y="22"/>
                      </a:lnTo>
                      <a:lnTo>
                        <a:pt x="189" y="22"/>
                      </a:lnTo>
                      <a:lnTo>
                        <a:pt x="200" y="22"/>
                      </a:lnTo>
                      <a:lnTo>
                        <a:pt x="223" y="11"/>
                      </a:lnTo>
                      <a:lnTo>
                        <a:pt x="234" y="11"/>
                      </a:lnTo>
                      <a:lnTo>
                        <a:pt x="256" y="11"/>
                      </a:lnTo>
                      <a:lnTo>
                        <a:pt x="278" y="11"/>
                      </a:lnTo>
                      <a:lnTo>
                        <a:pt x="267" y="11"/>
                      </a:lnTo>
                      <a:lnTo>
                        <a:pt x="289" y="11"/>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1351"/>
                <p:cNvSpPr/>
                <p:nvPr/>
              </p:nvSpPr>
              <p:spPr>
                <a:xfrm rot="111600">
                  <a:off x="5949000" y="1558800"/>
                  <a:ext cx="4680" cy="10800"/>
                </a:xfrm>
                <a:custGeom>
                  <a:avLst/>
                  <a:gdLst>
                    <a:gd name="textAreaLeft" fmla="*/ 0 w 4680"/>
                    <a:gd name="textAreaRight" fmla="*/ 5040 w 4680"/>
                    <a:gd name="textAreaTop" fmla="*/ 0 h 10800"/>
                    <a:gd name="textAreaBottom" fmla="*/ 11160 h 10800"/>
                  </a:gdLst>
                  <a:ahLst/>
                  <a:rect l="textAreaLeft" t="textAreaTop" r="textAreaRight" b="textAreaBottom"/>
                  <a:pathLst>
                    <a:path w="44" h="67">
                      <a:moveTo>
                        <a:pt x="0" y="44"/>
                      </a:moveTo>
                      <a:lnTo>
                        <a:pt x="11" y="55"/>
                      </a:lnTo>
                      <a:lnTo>
                        <a:pt x="22" y="44"/>
                      </a:lnTo>
                      <a:lnTo>
                        <a:pt x="33" y="22"/>
                      </a:lnTo>
                      <a:lnTo>
                        <a:pt x="44" y="11"/>
                      </a:lnTo>
                      <a:lnTo>
                        <a:pt x="44" y="0"/>
                      </a:lnTo>
                      <a:lnTo>
                        <a:pt x="22" y="0"/>
                      </a:lnTo>
                      <a:lnTo>
                        <a:pt x="11" y="11"/>
                      </a:lnTo>
                      <a:lnTo>
                        <a:pt x="0" y="33"/>
                      </a:lnTo>
                      <a:lnTo>
                        <a:pt x="0" y="55"/>
                      </a:lnTo>
                      <a:lnTo>
                        <a:pt x="0" y="67"/>
                      </a:lnTo>
                      <a:lnTo>
                        <a:pt x="0" y="44"/>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1350"/>
                <p:cNvSpPr/>
                <p:nvPr/>
              </p:nvSpPr>
              <p:spPr>
                <a:xfrm rot="111600">
                  <a:off x="5949000" y="1566000"/>
                  <a:ext cx="16920" cy="3600"/>
                </a:xfrm>
                <a:custGeom>
                  <a:avLst/>
                  <a:gdLst>
                    <a:gd name="textAreaLeft" fmla="*/ 0 w 16920"/>
                    <a:gd name="textAreaRight" fmla="*/ 17280 w 16920"/>
                    <a:gd name="textAreaTop" fmla="*/ 0 h 3600"/>
                    <a:gd name="textAreaBottom" fmla="*/ 3960 h 3600"/>
                  </a:gdLst>
                  <a:ahLst/>
                  <a:rect l="textAreaLeft" t="textAreaTop" r="textAreaRight" b="textAreaBottom"/>
                  <a:pathLst>
                    <a:path w="156" h="23">
                      <a:moveTo>
                        <a:pt x="156" y="0"/>
                      </a:moveTo>
                      <a:lnTo>
                        <a:pt x="156" y="0"/>
                      </a:lnTo>
                      <a:lnTo>
                        <a:pt x="134" y="0"/>
                      </a:lnTo>
                      <a:lnTo>
                        <a:pt x="122" y="0"/>
                      </a:lnTo>
                      <a:lnTo>
                        <a:pt x="100" y="0"/>
                      </a:lnTo>
                      <a:lnTo>
                        <a:pt x="78" y="0"/>
                      </a:lnTo>
                      <a:lnTo>
                        <a:pt x="56" y="0"/>
                      </a:lnTo>
                      <a:lnTo>
                        <a:pt x="33" y="0"/>
                      </a:lnTo>
                      <a:lnTo>
                        <a:pt x="22" y="0"/>
                      </a:lnTo>
                      <a:lnTo>
                        <a:pt x="0" y="0"/>
                      </a:lnTo>
                      <a:lnTo>
                        <a:pt x="0" y="23"/>
                      </a:lnTo>
                      <a:lnTo>
                        <a:pt x="22" y="23"/>
                      </a:lnTo>
                      <a:lnTo>
                        <a:pt x="33" y="23"/>
                      </a:lnTo>
                      <a:lnTo>
                        <a:pt x="56" y="23"/>
                      </a:lnTo>
                      <a:lnTo>
                        <a:pt x="78" y="23"/>
                      </a:lnTo>
                      <a:lnTo>
                        <a:pt x="100" y="23"/>
                      </a:lnTo>
                      <a:lnTo>
                        <a:pt x="122" y="23"/>
                      </a:lnTo>
                      <a:lnTo>
                        <a:pt x="134" y="23"/>
                      </a:lnTo>
                      <a:lnTo>
                        <a:pt x="156" y="23"/>
                      </a:lnTo>
                      <a:lnTo>
                        <a:pt x="156" y="0"/>
                      </a:lnTo>
                      <a:close/>
                    </a:path>
                  </a:pathLst>
                </a:custGeom>
                <a:solidFill>
                  <a:srgbClr val="000000"/>
                </a:solidFill>
                <a:ln w="0">
                  <a:noFill/>
                </a:ln>
              </p:spPr>
              <p:style>
                <a:lnRef idx="0"/>
                <a:fillRef idx="0"/>
                <a:effectRef idx="0"/>
                <a:fontRef idx="minor"/>
              </p:style>
              <p:txBody>
                <a:bodyPr lIns="90000" rIns="90000" tIns="-42840" bIns="-42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1349"/>
                <p:cNvSpPr/>
                <p:nvPr/>
              </p:nvSpPr>
              <p:spPr>
                <a:xfrm rot="111600">
                  <a:off x="5966280" y="1566360"/>
                  <a:ext cx="16920" cy="21600"/>
                </a:xfrm>
                <a:custGeom>
                  <a:avLst/>
                  <a:gdLst>
                    <a:gd name="textAreaLeft" fmla="*/ 0 w 16920"/>
                    <a:gd name="textAreaRight" fmla="*/ 17280 w 16920"/>
                    <a:gd name="textAreaTop" fmla="*/ 0 h 21600"/>
                    <a:gd name="textAreaBottom" fmla="*/ 21960 h 21600"/>
                  </a:gdLst>
                  <a:ahLst/>
                  <a:rect l="textAreaLeft" t="textAreaTop" r="textAreaRight" b="textAreaBottom"/>
                  <a:pathLst>
                    <a:path w="156" h="134">
                      <a:moveTo>
                        <a:pt x="156" y="123"/>
                      </a:moveTo>
                      <a:lnTo>
                        <a:pt x="156" y="123"/>
                      </a:lnTo>
                      <a:lnTo>
                        <a:pt x="145" y="89"/>
                      </a:lnTo>
                      <a:lnTo>
                        <a:pt x="122" y="67"/>
                      </a:lnTo>
                      <a:lnTo>
                        <a:pt x="111" y="56"/>
                      </a:lnTo>
                      <a:lnTo>
                        <a:pt x="89" y="34"/>
                      </a:lnTo>
                      <a:lnTo>
                        <a:pt x="78" y="23"/>
                      </a:lnTo>
                      <a:lnTo>
                        <a:pt x="56" y="23"/>
                      </a:lnTo>
                      <a:lnTo>
                        <a:pt x="33" y="11"/>
                      </a:lnTo>
                      <a:lnTo>
                        <a:pt x="0" y="0"/>
                      </a:lnTo>
                      <a:lnTo>
                        <a:pt x="0" y="23"/>
                      </a:lnTo>
                      <a:lnTo>
                        <a:pt x="22" y="34"/>
                      </a:lnTo>
                      <a:lnTo>
                        <a:pt x="56" y="34"/>
                      </a:lnTo>
                      <a:lnTo>
                        <a:pt x="67" y="45"/>
                      </a:lnTo>
                      <a:lnTo>
                        <a:pt x="89" y="56"/>
                      </a:lnTo>
                      <a:lnTo>
                        <a:pt x="100" y="67"/>
                      </a:lnTo>
                      <a:lnTo>
                        <a:pt x="111" y="78"/>
                      </a:lnTo>
                      <a:lnTo>
                        <a:pt x="122" y="101"/>
                      </a:lnTo>
                      <a:lnTo>
                        <a:pt x="145" y="134"/>
                      </a:lnTo>
                      <a:lnTo>
                        <a:pt x="156" y="123"/>
                      </a:lnTo>
                      <a:close/>
                    </a:path>
                  </a:pathLst>
                </a:custGeom>
                <a:solidFill>
                  <a:srgbClr val="000000"/>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Freeform 1348"/>
                <p:cNvSpPr/>
                <p:nvPr/>
              </p:nvSpPr>
              <p:spPr>
                <a:xfrm rot="111600">
                  <a:off x="5981400" y="1586880"/>
                  <a:ext cx="16920" cy="17640"/>
                </a:xfrm>
                <a:custGeom>
                  <a:avLst/>
                  <a:gdLst>
                    <a:gd name="textAreaLeft" fmla="*/ 0 w 16920"/>
                    <a:gd name="textAreaRight" fmla="*/ 17280 w 16920"/>
                    <a:gd name="textAreaTop" fmla="*/ 0 h 17640"/>
                    <a:gd name="textAreaBottom" fmla="*/ 18000 h 17640"/>
                  </a:gdLst>
                  <a:ahLst/>
                  <a:rect l="textAreaLeft" t="textAreaTop" r="textAreaRight" b="textAreaBottom"/>
                  <a:pathLst>
                    <a:path w="156" h="111">
                      <a:moveTo>
                        <a:pt x="156" y="100"/>
                      </a:moveTo>
                      <a:lnTo>
                        <a:pt x="156" y="100"/>
                      </a:lnTo>
                      <a:lnTo>
                        <a:pt x="145" y="89"/>
                      </a:lnTo>
                      <a:lnTo>
                        <a:pt x="122" y="67"/>
                      </a:lnTo>
                      <a:lnTo>
                        <a:pt x="100" y="56"/>
                      </a:lnTo>
                      <a:lnTo>
                        <a:pt x="78" y="33"/>
                      </a:lnTo>
                      <a:lnTo>
                        <a:pt x="55" y="22"/>
                      </a:lnTo>
                      <a:lnTo>
                        <a:pt x="33" y="11"/>
                      </a:lnTo>
                      <a:lnTo>
                        <a:pt x="22" y="11"/>
                      </a:lnTo>
                      <a:lnTo>
                        <a:pt x="11" y="0"/>
                      </a:lnTo>
                      <a:lnTo>
                        <a:pt x="0" y="11"/>
                      </a:lnTo>
                      <a:lnTo>
                        <a:pt x="11" y="22"/>
                      </a:lnTo>
                      <a:lnTo>
                        <a:pt x="22" y="33"/>
                      </a:lnTo>
                      <a:lnTo>
                        <a:pt x="44" y="44"/>
                      </a:lnTo>
                      <a:lnTo>
                        <a:pt x="67" y="56"/>
                      </a:lnTo>
                      <a:lnTo>
                        <a:pt x="100" y="67"/>
                      </a:lnTo>
                      <a:lnTo>
                        <a:pt x="111" y="78"/>
                      </a:lnTo>
                      <a:lnTo>
                        <a:pt x="133" y="100"/>
                      </a:lnTo>
                      <a:lnTo>
                        <a:pt x="145" y="111"/>
                      </a:lnTo>
                      <a:lnTo>
                        <a:pt x="156" y="100"/>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Freeform 1347"/>
                <p:cNvSpPr/>
                <p:nvPr/>
              </p:nvSpPr>
              <p:spPr>
                <a:xfrm rot="111600">
                  <a:off x="5994720" y="1603440"/>
                  <a:ext cx="3600" cy="26640"/>
                </a:xfrm>
                <a:custGeom>
                  <a:avLst/>
                  <a:gdLst>
                    <a:gd name="textAreaLeft" fmla="*/ 0 w 3600"/>
                    <a:gd name="textAreaRight" fmla="*/ 3960 w 3600"/>
                    <a:gd name="textAreaTop" fmla="*/ 0 h 26640"/>
                    <a:gd name="textAreaBottom" fmla="*/ 27000 h 26640"/>
                  </a:gdLst>
                  <a:ahLst/>
                  <a:rect l="textAreaLeft" t="textAreaTop" r="textAreaRight" b="textAreaBottom"/>
                  <a:pathLst>
                    <a:path w="34" h="167">
                      <a:moveTo>
                        <a:pt x="12" y="145"/>
                      </a:moveTo>
                      <a:lnTo>
                        <a:pt x="23" y="156"/>
                      </a:lnTo>
                      <a:lnTo>
                        <a:pt x="23" y="123"/>
                      </a:lnTo>
                      <a:lnTo>
                        <a:pt x="34" y="78"/>
                      </a:lnTo>
                      <a:lnTo>
                        <a:pt x="34" y="45"/>
                      </a:lnTo>
                      <a:lnTo>
                        <a:pt x="23" y="0"/>
                      </a:lnTo>
                      <a:lnTo>
                        <a:pt x="12" y="11"/>
                      </a:lnTo>
                      <a:lnTo>
                        <a:pt x="12" y="45"/>
                      </a:lnTo>
                      <a:lnTo>
                        <a:pt x="12" y="78"/>
                      </a:lnTo>
                      <a:lnTo>
                        <a:pt x="0" y="123"/>
                      </a:lnTo>
                      <a:lnTo>
                        <a:pt x="0" y="156"/>
                      </a:lnTo>
                      <a:lnTo>
                        <a:pt x="12" y="167"/>
                      </a:lnTo>
                      <a:lnTo>
                        <a:pt x="12" y="145"/>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1346"/>
                <p:cNvSpPr/>
                <p:nvPr/>
              </p:nvSpPr>
              <p:spPr>
                <a:xfrm rot="111600">
                  <a:off x="5995800" y="1626840"/>
                  <a:ext cx="4680" cy="7200"/>
                </a:xfrm>
                <a:custGeom>
                  <a:avLst/>
                  <a:gdLst>
                    <a:gd name="textAreaLeft" fmla="*/ 0 w 4680"/>
                    <a:gd name="textAreaRight" fmla="*/ 5040 w 4680"/>
                    <a:gd name="textAreaTop" fmla="*/ 0 h 7200"/>
                    <a:gd name="textAreaBottom" fmla="*/ 7560 h 7200"/>
                  </a:gdLst>
                  <a:ahLst/>
                  <a:rect l="textAreaLeft" t="textAreaTop" r="textAreaRight" b="textAreaBottom"/>
                  <a:pathLst>
                    <a:path w="44" h="45">
                      <a:moveTo>
                        <a:pt x="44" y="34"/>
                      </a:moveTo>
                      <a:lnTo>
                        <a:pt x="33" y="34"/>
                      </a:lnTo>
                      <a:lnTo>
                        <a:pt x="33" y="22"/>
                      </a:lnTo>
                      <a:lnTo>
                        <a:pt x="22" y="11"/>
                      </a:lnTo>
                      <a:lnTo>
                        <a:pt x="11" y="11"/>
                      </a:lnTo>
                      <a:lnTo>
                        <a:pt x="0" y="0"/>
                      </a:lnTo>
                      <a:lnTo>
                        <a:pt x="0" y="22"/>
                      </a:lnTo>
                      <a:lnTo>
                        <a:pt x="11" y="34"/>
                      </a:lnTo>
                      <a:lnTo>
                        <a:pt x="22" y="34"/>
                      </a:lnTo>
                      <a:lnTo>
                        <a:pt x="22" y="45"/>
                      </a:lnTo>
                      <a:lnTo>
                        <a:pt x="44" y="34"/>
                      </a:lnTo>
                      <a:close/>
                    </a:path>
                  </a:pathLst>
                </a:custGeom>
                <a:solidFill>
                  <a:srgbClr val="000000"/>
                </a:solidFill>
                <a:ln w="0">
                  <a:noFill/>
                </a:ln>
              </p:spPr>
              <p:style>
                <a:lnRef idx="0"/>
                <a:fillRef idx="0"/>
                <a:effectRef idx="0"/>
                <a:fontRef idx="minor"/>
              </p:style>
              <p:txBody>
                <a:bodyPr lIns="90000" rIns="90000" tIns="-39240" bIns="-39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Freeform 1345"/>
                <p:cNvSpPr/>
                <p:nvPr/>
              </p:nvSpPr>
              <p:spPr>
                <a:xfrm rot="111600">
                  <a:off x="5997240" y="1632240"/>
                  <a:ext cx="9720" cy="75600"/>
                </a:xfrm>
                <a:custGeom>
                  <a:avLst/>
                  <a:gdLst>
                    <a:gd name="textAreaLeft" fmla="*/ 0 w 9720"/>
                    <a:gd name="textAreaRight" fmla="*/ 10080 w 9720"/>
                    <a:gd name="textAreaTop" fmla="*/ 0 h 75600"/>
                    <a:gd name="textAreaBottom" fmla="*/ 75960 h 75600"/>
                  </a:gdLst>
                  <a:ahLst/>
                  <a:rect l="textAreaLeft" t="textAreaTop" r="textAreaRight" b="textAreaBottom"/>
                  <a:pathLst>
                    <a:path w="89" h="468">
                      <a:moveTo>
                        <a:pt x="78" y="468"/>
                      </a:moveTo>
                      <a:lnTo>
                        <a:pt x="78" y="468"/>
                      </a:lnTo>
                      <a:lnTo>
                        <a:pt x="89" y="412"/>
                      </a:lnTo>
                      <a:lnTo>
                        <a:pt x="89" y="356"/>
                      </a:lnTo>
                      <a:lnTo>
                        <a:pt x="89" y="289"/>
                      </a:lnTo>
                      <a:lnTo>
                        <a:pt x="89" y="222"/>
                      </a:lnTo>
                      <a:lnTo>
                        <a:pt x="78" y="156"/>
                      </a:lnTo>
                      <a:lnTo>
                        <a:pt x="67" y="100"/>
                      </a:lnTo>
                      <a:lnTo>
                        <a:pt x="45" y="44"/>
                      </a:lnTo>
                      <a:lnTo>
                        <a:pt x="22" y="0"/>
                      </a:lnTo>
                      <a:lnTo>
                        <a:pt x="0" y="11"/>
                      </a:lnTo>
                      <a:lnTo>
                        <a:pt x="33" y="55"/>
                      </a:lnTo>
                      <a:lnTo>
                        <a:pt x="45" y="100"/>
                      </a:lnTo>
                      <a:lnTo>
                        <a:pt x="67" y="167"/>
                      </a:lnTo>
                      <a:lnTo>
                        <a:pt x="78" y="222"/>
                      </a:lnTo>
                      <a:lnTo>
                        <a:pt x="78" y="289"/>
                      </a:lnTo>
                      <a:lnTo>
                        <a:pt x="78" y="356"/>
                      </a:lnTo>
                      <a:lnTo>
                        <a:pt x="67" y="412"/>
                      </a:lnTo>
                      <a:lnTo>
                        <a:pt x="56" y="468"/>
                      </a:lnTo>
                      <a:lnTo>
                        <a:pt x="78" y="468"/>
                      </a:lnTo>
                      <a:close/>
                    </a:path>
                  </a:pathLst>
                </a:custGeom>
                <a:solidFill>
                  <a:srgbClr val="000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1344"/>
                <p:cNvSpPr/>
                <p:nvPr/>
              </p:nvSpPr>
              <p:spPr>
                <a:xfrm rot="111600">
                  <a:off x="5999400" y="1708200"/>
                  <a:ext cx="4680" cy="14040"/>
                </a:xfrm>
                <a:custGeom>
                  <a:avLst/>
                  <a:gdLst>
                    <a:gd name="textAreaLeft" fmla="*/ 0 w 4680"/>
                    <a:gd name="textAreaRight" fmla="*/ 5040 w 4680"/>
                    <a:gd name="textAreaTop" fmla="*/ 0 h 14040"/>
                    <a:gd name="textAreaBottom" fmla="*/ 14400 h 14040"/>
                  </a:gdLst>
                  <a:ahLst/>
                  <a:rect l="textAreaLeft" t="textAreaTop" r="textAreaRight" b="textAreaBottom"/>
                  <a:pathLst>
                    <a:path w="45" h="89">
                      <a:moveTo>
                        <a:pt x="0" y="89"/>
                      </a:moveTo>
                      <a:lnTo>
                        <a:pt x="12" y="89"/>
                      </a:lnTo>
                      <a:lnTo>
                        <a:pt x="23" y="78"/>
                      </a:lnTo>
                      <a:lnTo>
                        <a:pt x="34" y="55"/>
                      </a:lnTo>
                      <a:lnTo>
                        <a:pt x="34" y="33"/>
                      </a:lnTo>
                      <a:lnTo>
                        <a:pt x="45" y="0"/>
                      </a:lnTo>
                      <a:lnTo>
                        <a:pt x="23" y="0"/>
                      </a:lnTo>
                      <a:lnTo>
                        <a:pt x="23" y="33"/>
                      </a:lnTo>
                      <a:lnTo>
                        <a:pt x="12" y="44"/>
                      </a:lnTo>
                      <a:lnTo>
                        <a:pt x="12" y="67"/>
                      </a:lnTo>
                      <a:lnTo>
                        <a:pt x="0" y="78"/>
                      </a:lnTo>
                      <a:lnTo>
                        <a:pt x="0" y="89"/>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1343"/>
                <p:cNvSpPr/>
                <p:nvPr/>
              </p:nvSpPr>
              <p:spPr>
                <a:xfrm rot="111600">
                  <a:off x="5992920" y="1720800"/>
                  <a:ext cx="5760" cy="3240"/>
                </a:xfrm>
                <a:custGeom>
                  <a:avLst/>
                  <a:gdLst>
                    <a:gd name="textAreaLeft" fmla="*/ 0 w 5760"/>
                    <a:gd name="textAreaRight" fmla="*/ 6120 w 5760"/>
                    <a:gd name="textAreaTop" fmla="*/ 0 h 3240"/>
                    <a:gd name="textAreaBottom" fmla="*/ 3600 h 3240"/>
                  </a:gdLst>
                  <a:ahLst/>
                  <a:rect l="textAreaLeft" t="textAreaTop" r="textAreaRight" b="textAreaBottom"/>
                  <a:pathLst>
                    <a:path w="55" h="22">
                      <a:moveTo>
                        <a:pt x="0" y="22"/>
                      </a:moveTo>
                      <a:lnTo>
                        <a:pt x="0" y="22"/>
                      </a:lnTo>
                      <a:lnTo>
                        <a:pt x="11" y="22"/>
                      </a:lnTo>
                      <a:lnTo>
                        <a:pt x="22" y="22"/>
                      </a:lnTo>
                      <a:lnTo>
                        <a:pt x="33" y="22"/>
                      </a:lnTo>
                      <a:lnTo>
                        <a:pt x="44" y="22"/>
                      </a:lnTo>
                      <a:lnTo>
                        <a:pt x="44" y="11"/>
                      </a:lnTo>
                      <a:lnTo>
                        <a:pt x="55" y="11"/>
                      </a:lnTo>
                      <a:lnTo>
                        <a:pt x="55" y="0"/>
                      </a:lnTo>
                      <a:lnTo>
                        <a:pt x="44" y="0"/>
                      </a:lnTo>
                      <a:lnTo>
                        <a:pt x="33" y="0"/>
                      </a:lnTo>
                      <a:lnTo>
                        <a:pt x="22" y="0"/>
                      </a:lnTo>
                      <a:lnTo>
                        <a:pt x="11" y="0"/>
                      </a:lnTo>
                      <a:lnTo>
                        <a:pt x="0" y="0"/>
                      </a:lnTo>
                      <a:lnTo>
                        <a:pt x="0" y="22"/>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1342"/>
                <p:cNvSpPr/>
                <p:nvPr/>
              </p:nvSpPr>
              <p:spPr>
                <a:xfrm rot="111600">
                  <a:off x="5972400" y="1720080"/>
                  <a:ext cx="19440" cy="44640"/>
                </a:xfrm>
                <a:custGeom>
                  <a:avLst/>
                  <a:gdLst>
                    <a:gd name="textAreaLeft" fmla="*/ 0 w 19440"/>
                    <a:gd name="textAreaRight" fmla="*/ 19800 w 19440"/>
                    <a:gd name="textAreaTop" fmla="*/ 0 h 44640"/>
                    <a:gd name="textAreaBottom" fmla="*/ 45000 h 44640"/>
                  </a:gdLst>
                  <a:ahLst/>
                  <a:rect l="textAreaLeft" t="textAreaTop" r="textAreaRight" b="textAreaBottom"/>
                  <a:pathLst>
                    <a:path w="179" h="278">
                      <a:moveTo>
                        <a:pt x="0" y="278"/>
                      </a:moveTo>
                      <a:lnTo>
                        <a:pt x="23" y="278"/>
                      </a:lnTo>
                      <a:lnTo>
                        <a:pt x="34" y="245"/>
                      </a:lnTo>
                      <a:lnTo>
                        <a:pt x="56" y="200"/>
                      </a:lnTo>
                      <a:lnTo>
                        <a:pt x="67" y="167"/>
                      </a:lnTo>
                      <a:lnTo>
                        <a:pt x="78" y="122"/>
                      </a:lnTo>
                      <a:lnTo>
                        <a:pt x="101" y="89"/>
                      </a:lnTo>
                      <a:lnTo>
                        <a:pt x="123" y="55"/>
                      </a:lnTo>
                      <a:lnTo>
                        <a:pt x="145" y="33"/>
                      </a:lnTo>
                      <a:lnTo>
                        <a:pt x="179" y="22"/>
                      </a:lnTo>
                      <a:lnTo>
                        <a:pt x="179" y="0"/>
                      </a:lnTo>
                      <a:lnTo>
                        <a:pt x="134" y="11"/>
                      </a:lnTo>
                      <a:lnTo>
                        <a:pt x="101" y="44"/>
                      </a:lnTo>
                      <a:lnTo>
                        <a:pt x="78" y="78"/>
                      </a:lnTo>
                      <a:lnTo>
                        <a:pt x="67" y="111"/>
                      </a:lnTo>
                      <a:lnTo>
                        <a:pt x="45" y="156"/>
                      </a:lnTo>
                      <a:lnTo>
                        <a:pt x="34" y="200"/>
                      </a:lnTo>
                      <a:lnTo>
                        <a:pt x="23" y="234"/>
                      </a:lnTo>
                      <a:lnTo>
                        <a:pt x="0" y="267"/>
                      </a:lnTo>
                      <a:lnTo>
                        <a:pt x="23" y="267"/>
                      </a:lnTo>
                      <a:lnTo>
                        <a:pt x="0" y="278"/>
                      </a:lnTo>
                      <a:close/>
                    </a:path>
                  </a:pathLst>
                </a:custGeom>
                <a:solidFill>
                  <a:srgbClr val="000000"/>
                </a:solidFill>
                <a:ln w="0">
                  <a:noFill/>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1341"/>
                <p:cNvSpPr/>
                <p:nvPr/>
              </p:nvSpPr>
              <p:spPr>
                <a:xfrm rot="111600">
                  <a:off x="5968440" y="1750320"/>
                  <a:ext cx="6120" cy="14400"/>
                </a:xfrm>
                <a:custGeom>
                  <a:avLst/>
                  <a:gdLst>
                    <a:gd name="textAreaLeft" fmla="*/ 0 w 6120"/>
                    <a:gd name="textAreaRight" fmla="*/ 6480 w 6120"/>
                    <a:gd name="textAreaTop" fmla="*/ 0 h 14400"/>
                    <a:gd name="textAreaBottom" fmla="*/ 14760 h 14400"/>
                  </a:gdLst>
                  <a:ahLst/>
                  <a:rect l="textAreaLeft" t="textAreaTop" r="textAreaRight" b="textAreaBottom"/>
                  <a:pathLst>
                    <a:path w="56" h="89">
                      <a:moveTo>
                        <a:pt x="0" y="11"/>
                      </a:moveTo>
                      <a:lnTo>
                        <a:pt x="0" y="11"/>
                      </a:lnTo>
                      <a:lnTo>
                        <a:pt x="11" y="34"/>
                      </a:lnTo>
                      <a:lnTo>
                        <a:pt x="11" y="45"/>
                      </a:lnTo>
                      <a:lnTo>
                        <a:pt x="22" y="67"/>
                      </a:lnTo>
                      <a:lnTo>
                        <a:pt x="33" y="89"/>
                      </a:lnTo>
                      <a:lnTo>
                        <a:pt x="56" y="78"/>
                      </a:lnTo>
                      <a:lnTo>
                        <a:pt x="44" y="67"/>
                      </a:lnTo>
                      <a:lnTo>
                        <a:pt x="33" y="45"/>
                      </a:lnTo>
                      <a:lnTo>
                        <a:pt x="22" y="22"/>
                      </a:lnTo>
                      <a:lnTo>
                        <a:pt x="22" y="0"/>
                      </a:lnTo>
                      <a:lnTo>
                        <a:pt x="0" y="11"/>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1340"/>
                <p:cNvSpPr/>
                <p:nvPr/>
              </p:nvSpPr>
              <p:spPr>
                <a:xfrm rot="111600">
                  <a:off x="5955840" y="1701360"/>
                  <a:ext cx="15840" cy="50400"/>
                </a:xfrm>
                <a:custGeom>
                  <a:avLst/>
                  <a:gdLst>
                    <a:gd name="textAreaLeft" fmla="*/ 0 w 15840"/>
                    <a:gd name="textAreaRight" fmla="*/ 16200 w 15840"/>
                    <a:gd name="textAreaTop" fmla="*/ 0 h 50400"/>
                    <a:gd name="textAreaBottom" fmla="*/ 50760 h 50400"/>
                  </a:gdLst>
                  <a:ahLst/>
                  <a:rect l="textAreaLeft" t="textAreaTop" r="textAreaRight" b="textAreaBottom"/>
                  <a:pathLst>
                    <a:path w="145" h="312">
                      <a:moveTo>
                        <a:pt x="0" y="11"/>
                      </a:moveTo>
                      <a:lnTo>
                        <a:pt x="0" y="11"/>
                      </a:lnTo>
                      <a:lnTo>
                        <a:pt x="34" y="34"/>
                      </a:lnTo>
                      <a:lnTo>
                        <a:pt x="56" y="67"/>
                      </a:lnTo>
                      <a:lnTo>
                        <a:pt x="67" y="89"/>
                      </a:lnTo>
                      <a:lnTo>
                        <a:pt x="89" y="123"/>
                      </a:lnTo>
                      <a:lnTo>
                        <a:pt x="101" y="167"/>
                      </a:lnTo>
                      <a:lnTo>
                        <a:pt x="112" y="212"/>
                      </a:lnTo>
                      <a:lnTo>
                        <a:pt x="112" y="257"/>
                      </a:lnTo>
                      <a:lnTo>
                        <a:pt x="123" y="312"/>
                      </a:lnTo>
                      <a:lnTo>
                        <a:pt x="145" y="301"/>
                      </a:lnTo>
                      <a:lnTo>
                        <a:pt x="134" y="257"/>
                      </a:lnTo>
                      <a:lnTo>
                        <a:pt x="123" y="201"/>
                      </a:lnTo>
                      <a:lnTo>
                        <a:pt x="123" y="156"/>
                      </a:lnTo>
                      <a:lnTo>
                        <a:pt x="101" y="123"/>
                      </a:lnTo>
                      <a:lnTo>
                        <a:pt x="89" y="89"/>
                      </a:lnTo>
                      <a:lnTo>
                        <a:pt x="67" y="56"/>
                      </a:lnTo>
                      <a:lnTo>
                        <a:pt x="45" y="23"/>
                      </a:lnTo>
                      <a:lnTo>
                        <a:pt x="11" y="0"/>
                      </a:lnTo>
                      <a:lnTo>
                        <a:pt x="0" y="11"/>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Freeform 1339"/>
                <p:cNvSpPr/>
                <p:nvPr/>
              </p:nvSpPr>
              <p:spPr>
                <a:xfrm rot="111600">
                  <a:off x="5942520" y="1689840"/>
                  <a:ext cx="15480" cy="12600"/>
                </a:xfrm>
                <a:custGeom>
                  <a:avLst/>
                  <a:gdLst>
                    <a:gd name="textAreaLeft" fmla="*/ 0 w 15480"/>
                    <a:gd name="textAreaRight" fmla="*/ 15840 w 15480"/>
                    <a:gd name="textAreaTop" fmla="*/ 0 h 12600"/>
                    <a:gd name="textAreaBottom" fmla="*/ 12960 h 12600"/>
                  </a:gdLst>
                  <a:ahLst/>
                  <a:rect l="textAreaLeft" t="textAreaTop" r="textAreaRight" b="textAreaBottom"/>
                  <a:pathLst>
                    <a:path w="144" h="78">
                      <a:moveTo>
                        <a:pt x="0" y="23"/>
                      </a:moveTo>
                      <a:lnTo>
                        <a:pt x="0" y="23"/>
                      </a:lnTo>
                      <a:lnTo>
                        <a:pt x="11" y="11"/>
                      </a:lnTo>
                      <a:lnTo>
                        <a:pt x="33" y="23"/>
                      </a:lnTo>
                      <a:lnTo>
                        <a:pt x="44" y="23"/>
                      </a:lnTo>
                      <a:lnTo>
                        <a:pt x="66" y="34"/>
                      </a:lnTo>
                      <a:lnTo>
                        <a:pt x="78" y="45"/>
                      </a:lnTo>
                      <a:lnTo>
                        <a:pt x="100" y="56"/>
                      </a:lnTo>
                      <a:lnTo>
                        <a:pt x="122" y="67"/>
                      </a:lnTo>
                      <a:lnTo>
                        <a:pt x="133" y="78"/>
                      </a:lnTo>
                      <a:lnTo>
                        <a:pt x="144" y="67"/>
                      </a:lnTo>
                      <a:lnTo>
                        <a:pt x="133" y="56"/>
                      </a:lnTo>
                      <a:lnTo>
                        <a:pt x="111" y="45"/>
                      </a:lnTo>
                      <a:lnTo>
                        <a:pt x="89" y="23"/>
                      </a:lnTo>
                      <a:lnTo>
                        <a:pt x="66" y="11"/>
                      </a:lnTo>
                      <a:lnTo>
                        <a:pt x="55" y="11"/>
                      </a:lnTo>
                      <a:lnTo>
                        <a:pt x="33" y="0"/>
                      </a:lnTo>
                      <a:lnTo>
                        <a:pt x="11" y="0"/>
                      </a:lnTo>
                      <a:lnTo>
                        <a:pt x="0" y="0"/>
                      </a:lnTo>
                      <a:lnTo>
                        <a:pt x="0" y="23"/>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Freeform 1338"/>
                <p:cNvSpPr/>
                <p:nvPr/>
              </p:nvSpPr>
              <p:spPr>
                <a:xfrm rot="111600">
                  <a:off x="5932080" y="1671480"/>
                  <a:ext cx="10800" cy="21600"/>
                </a:xfrm>
                <a:custGeom>
                  <a:avLst/>
                  <a:gdLst>
                    <a:gd name="textAreaLeft" fmla="*/ 0 w 10800"/>
                    <a:gd name="textAreaRight" fmla="*/ 11160 w 10800"/>
                    <a:gd name="textAreaTop" fmla="*/ 0 h 21600"/>
                    <a:gd name="textAreaBottom" fmla="*/ 21960 h 21600"/>
                  </a:gdLst>
                  <a:ahLst/>
                  <a:rect l="textAreaLeft" t="textAreaTop" r="textAreaRight" b="textAreaBottom"/>
                  <a:pathLst>
                    <a:path w="101" h="134">
                      <a:moveTo>
                        <a:pt x="11" y="11"/>
                      </a:moveTo>
                      <a:lnTo>
                        <a:pt x="0" y="11"/>
                      </a:lnTo>
                      <a:lnTo>
                        <a:pt x="0" y="33"/>
                      </a:lnTo>
                      <a:lnTo>
                        <a:pt x="11" y="56"/>
                      </a:lnTo>
                      <a:lnTo>
                        <a:pt x="23" y="78"/>
                      </a:lnTo>
                      <a:lnTo>
                        <a:pt x="34" y="100"/>
                      </a:lnTo>
                      <a:lnTo>
                        <a:pt x="45" y="111"/>
                      </a:lnTo>
                      <a:lnTo>
                        <a:pt x="67" y="122"/>
                      </a:lnTo>
                      <a:lnTo>
                        <a:pt x="78" y="134"/>
                      </a:lnTo>
                      <a:lnTo>
                        <a:pt x="101" y="134"/>
                      </a:lnTo>
                      <a:lnTo>
                        <a:pt x="101" y="111"/>
                      </a:lnTo>
                      <a:lnTo>
                        <a:pt x="89" y="111"/>
                      </a:lnTo>
                      <a:lnTo>
                        <a:pt x="67" y="100"/>
                      </a:lnTo>
                      <a:lnTo>
                        <a:pt x="56" y="100"/>
                      </a:lnTo>
                      <a:lnTo>
                        <a:pt x="45" y="89"/>
                      </a:lnTo>
                      <a:lnTo>
                        <a:pt x="34" y="67"/>
                      </a:lnTo>
                      <a:lnTo>
                        <a:pt x="23" y="56"/>
                      </a:lnTo>
                      <a:lnTo>
                        <a:pt x="23" y="33"/>
                      </a:lnTo>
                      <a:lnTo>
                        <a:pt x="23" y="11"/>
                      </a:lnTo>
                      <a:lnTo>
                        <a:pt x="11" y="0"/>
                      </a:lnTo>
                      <a:lnTo>
                        <a:pt x="11" y="11"/>
                      </a:lnTo>
                      <a:close/>
                    </a:path>
                  </a:pathLst>
                </a:custGeom>
                <a:solidFill>
                  <a:srgbClr val="000000"/>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reeform 1337"/>
                <p:cNvSpPr/>
                <p:nvPr/>
              </p:nvSpPr>
              <p:spPr>
                <a:xfrm rot="111600">
                  <a:off x="5924520" y="1671480"/>
                  <a:ext cx="8280" cy="5040"/>
                </a:xfrm>
                <a:custGeom>
                  <a:avLst/>
                  <a:gdLst>
                    <a:gd name="textAreaLeft" fmla="*/ 0 w 8280"/>
                    <a:gd name="textAreaRight" fmla="*/ 8640 w 8280"/>
                    <a:gd name="textAreaTop" fmla="*/ 0 h 5040"/>
                    <a:gd name="textAreaBottom" fmla="*/ 5400 h 5040"/>
                  </a:gdLst>
                  <a:ahLst/>
                  <a:rect l="textAreaLeft" t="textAreaTop" r="textAreaRight" b="textAreaBottom"/>
                  <a:pathLst>
                    <a:path w="78" h="33">
                      <a:moveTo>
                        <a:pt x="0" y="22"/>
                      </a:moveTo>
                      <a:lnTo>
                        <a:pt x="12" y="33"/>
                      </a:lnTo>
                      <a:lnTo>
                        <a:pt x="23" y="22"/>
                      </a:lnTo>
                      <a:lnTo>
                        <a:pt x="34" y="22"/>
                      </a:lnTo>
                      <a:lnTo>
                        <a:pt x="45" y="22"/>
                      </a:lnTo>
                      <a:lnTo>
                        <a:pt x="56" y="22"/>
                      </a:lnTo>
                      <a:lnTo>
                        <a:pt x="67" y="22"/>
                      </a:lnTo>
                      <a:lnTo>
                        <a:pt x="78" y="11"/>
                      </a:lnTo>
                      <a:lnTo>
                        <a:pt x="78" y="0"/>
                      </a:lnTo>
                      <a:lnTo>
                        <a:pt x="67" y="0"/>
                      </a:lnTo>
                      <a:lnTo>
                        <a:pt x="56" y="0"/>
                      </a:lnTo>
                      <a:lnTo>
                        <a:pt x="45" y="0"/>
                      </a:lnTo>
                      <a:lnTo>
                        <a:pt x="34" y="11"/>
                      </a:lnTo>
                      <a:lnTo>
                        <a:pt x="23" y="11"/>
                      </a:lnTo>
                      <a:lnTo>
                        <a:pt x="12" y="11"/>
                      </a:lnTo>
                      <a:lnTo>
                        <a:pt x="23" y="11"/>
                      </a:lnTo>
                      <a:lnTo>
                        <a:pt x="0" y="22"/>
                      </a:lnTo>
                      <a:close/>
                    </a:path>
                  </a:pathLst>
                </a:custGeom>
                <a:solidFill>
                  <a:srgbClr val="000000"/>
                </a:solidFill>
                <a:ln w="0">
                  <a:no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Freeform 1336"/>
                <p:cNvSpPr/>
                <p:nvPr/>
              </p:nvSpPr>
              <p:spPr>
                <a:xfrm rot="111600">
                  <a:off x="5918040" y="1638720"/>
                  <a:ext cx="9720" cy="36000"/>
                </a:xfrm>
                <a:custGeom>
                  <a:avLst/>
                  <a:gdLst>
                    <a:gd name="textAreaLeft" fmla="*/ 0 w 9720"/>
                    <a:gd name="textAreaRight" fmla="*/ 10080 w 9720"/>
                    <a:gd name="textAreaTop" fmla="*/ 0 h 36000"/>
                    <a:gd name="textAreaBottom" fmla="*/ 36360 h 36000"/>
                  </a:gdLst>
                  <a:ahLst/>
                  <a:rect l="textAreaLeft" t="textAreaTop" r="textAreaRight" b="textAreaBottom"/>
                  <a:pathLst>
                    <a:path w="90" h="223">
                      <a:moveTo>
                        <a:pt x="23" y="0"/>
                      </a:moveTo>
                      <a:lnTo>
                        <a:pt x="0" y="0"/>
                      </a:lnTo>
                      <a:lnTo>
                        <a:pt x="0" y="34"/>
                      </a:lnTo>
                      <a:lnTo>
                        <a:pt x="12" y="67"/>
                      </a:lnTo>
                      <a:lnTo>
                        <a:pt x="23" y="101"/>
                      </a:lnTo>
                      <a:lnTo>
                        <a:pt x="23" y="134"/>
                      </a:lnTo>
                      <a:lnTo>
                        <a:pt x="34" y="156"/>
                      </a:lnTo>
                      <a:lnTo>
                        <a:pt x="45" y="190"/>
                      </a:lnTo>
                      <a:lnTo>
                        <a:pt x="56" y="201"/>
                      </a:lnTo>
                      <a:lnTo>
                        <a:pt x="67" y="223"/>
                      </a:lnTo>
                      <a:lnTo>
                        <a:pt x="90" y="212"/>
                      </a:lnTo>
                      <a:lnTo>
                        <a:pt x="79" y="201"/>
                      </a:lnTo>
                      <a:lnTo>
                        <a:pt x="67" y="179"/>
                      </a:lnTo>
                      <a:lnTo>
                        <a:pt x="56" y="156"/>
                      </a:lnTo>
                      <a:lnTo>
                        <a:pt x="45" y="123"/>
                      </a:lnTo>
                      <a:lnTo>
                        <a:pt x="34" y="89"/>
                      </a:lnTo>
                      <a:lnTo>
                        <a:pt x="34" y="67"/>
                      </a:lnTo>
                      <a:lnTo>
                        <a:pt x="23" y="34"/>
                      </a:lnTo>
                      <a:lnTo>
                        <a:pt x="23" y="0"/>
                      </a:lnTo>
                      <a:lnTo>
                        <a:pt x="0" y="0"/>
                      </a:lnTo>
                      <a:lnTo>
                        <a:pt x="23" y="0"/>
                      </a:lnTo>
                      <a:close/>
                    </a:path>
                  </a:pathLst>
                </a:custGeom>
                <a:solidFill>
                  <a:srgbClr val="0000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AutoShape 1334"/>
              <p:cNvSpPr/>
              <p:nvPr/>
            </p:nvSpPr>
            <p:spPr>
              <a:xfrm>
                <a:off x="5940720" y="1077480"/>
                <a:ext cx="336240" cy="635400"/>
              </a:xfrm>
              <a:custGeom>
                <a:avLst/>
                <a:gdLst>
                  <a:gd name="textAreaLeft" fmla="*/ 45000 w 336240"/>
                  <a:gd name="textAreaRight" fmla="*/ 291240 w 336240"/>
                  <a:gd name="textAreaTop" fmla="*/ 120600 h 635400"/>
                  <a:gd name="textAreaBottom" fmla="*/ 451440 h 635400"/>
                </a:gdLst>
                <a:ahLst/>
                <a:rect l="textAreaLeft" t="textAreaTop" r="textAreaRight" b="textAreaBottom"/>
                <a:pathLst>
                  <a:path w="21600" h="21600">
                    <a:moveTo>
                      <a:pt x="21600" y="0"/>
                    </a:moveTo>
                    <a:arcTo wR="21600" hR="8196" stAng="-5400000" swAng="-5400000"/>
                    <a:lnTo>
                      <a:pt x="0" y="11245"/>
                    </a:lnTo>
                    <a:arcTo wR="21600" hR="8196" stAng="10800000" swAng="-2878634"/>
                    <a:lnTo>
                      <a:pt x="14612" y="21159"/>
                    </a:lnTo>
                    <a:lnTo>
                      <a:pt x="21600" y="17916"/>
                    </a:lnTo>
                    <a:lnTo>
                      <a:pt x="14612" y="13790"/>
                    </a:lnTo>
                    <a:lnTo>
                      <a:pt x="14612" y="15950"/>
                    </a:lnTo>
                    <a:arcTo wR="21600" hR="8196" stAng="7921366" swAng="2632116"/>
                    <a:lnTo>
                      <a:pt x="377" y="9720"/>
                    </a:lnTo>
                    <a:arcTo wR="21600" hR="8196" stAng="-10553482" swAng="5153482"/>
                    <a:close/>
                  </a:path>
                  <a:path fill="darkenLess" w="21600" h="21600">
                    <a:moveTo>
                      <a:pt x="21600" y="0"/>
                    </a:moveTo>
                    <a:arcTo wR="21600" hR="8196" stAng="-5400000" swAng="-5400000"/>
                    <a:lnTo>
                      <a:pt x="0" y="8196"/>
                    </a:lnTo>
                    <a:arcTo wR="21600" hR="8196" stAng="10800000" swAng="-246518"/>
                    <a:lnTo>
                      <a:pt x="377" y="9720"/>
                    </a:lnTo>
                    <a:arcTo wR="21600" hR="8196" stAng="-10553482" swAng="5153482"/>
                    <a:close/>
                  </a:path>
                </a:pathLst>
              </a:custGeom>
              <a:solidFill>
                <a:srgbClr val="ff0000"/>
              </a:solidFill>
              <a:ln w="9360">
                <a:solidFill>
                  <a:srgbClr val="ff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1" name="Group 1045"/>
            <p:cNvGrpSpPr/>
            <p:nvPr/>
          </p:nvGrpSpPr>
          <p:grpSpPr>
            <a:xfrm>
              <a:off x="2727360" y="744840"/>
              <a:ext cx="538200" cy="960120"/>
              <a:chOff x="2727360" y="744840"/>
              <a:chExt cx="538200" cy="960120"/>
            </a:xfrm>
          </p:grpSpPr>
          <p:grpSp>
            <p:nvGrpSpPr>
              <p:cNvPr id="962" name="Group 1047"/>
              <p:cNvGrpSpPr/>
              <p:nvPr/>
            </p:nvGrpSpPr>
            <p:grpSpPr>
              <a:xfrm>
                <a:off x="2727360" y="744840"/>
                <a:ext cx="342000" cy="960120"/>
                <a:chOff x="2727360" y="744840"/>
                <a:chExt cx="342000" cy="960120"/>
              </a:xfrm>
            </p:grpSpPr>
            <p:grpSp>
              <p:nvGrpSpPr>
                <p:cNvPr id="963" name="Group 1132"/>
                <p:cNvGrpSpPr/>
                <p:nvPr/>
              </p:nvGrpSpPr>
              <p:grpSpPr>
                <a:xfrm>
                  <a:off x="2727360" y="744840"/>
                  <a:ext cx="342000" cy="662760"/>
                  <a:chOff x="2727360" y="744840"/>
                  <a:chExt cx="342000" cy="662760"/>
                </a:xfrm>
              </p:grpSpPr>
              <p:sp>
                <p:nvSpPr>
                  <p:cNvPr id="964" name="Freeform 1332"/>
                  <p:cNvSpPr/>
                  <p:nvPr/>
                </p:nvSpPr>
                <p:spPr>
                  <a:xfrm rot="111600">
                    <a:off x="2776680" y="939600"/>
                    <a:ext cx="107640" cy="182160"/>
                  </a:xfrm>
                  <a:custGeom>
                    <a:avLst/>
                    <a:gdLst>
                      <a:gd name="textAreaLeft" fmla="*/ 0 w 107640"/>
                      <a:gd name="textAreaRight" fmla="*/ 108000 w 107640"/>
                      <a:gd name="textAreaTop" fmla="*/ 0 h 182160"/>
                      <a:gd name="textAreaBottom" fmla="*/ 182520 h 182160"/>
                    </a:gdLst>
                    <a:ahLst/>
                    <a:rect l="textAreaLeft" t="textAreaTop" r="textAreaRight" b="textAreaBottom"/>
                    <a:pathLst>
                      <a:path w="1103" h="1371">
                        <a:moveTo>
                          <a:pt x="513" y="0"/>
                        </a:moveTo>
                        <a:lnTo>
                          <a:pt x="580" y="12"/>
                        </a:lnTo>
                        <a:lnTo>
                          <a:pt x="647" y="23"/>
                        </a:lnTo>
                        <a:lnTo>
                          <a:pt x="702" y="34"/>
                        </a:lnTo>
                        <a:lnTo>
                          <a:pt x="758" y="56"/>
                        </a:lnTo>
                        <a:lnTo>
                          <a:pt x="814" y="79"/>
                        </a:lnTo>
                        <a:lnTo>
                          <a:pt x="858" y="112"/>
                        </a:lnTo>
                        <a:lnTo>
                          <a:pt x="903" y="145"/>
                        </a:lnTo>
                        <a:lnTo>
                          <a:pt x="947" y="190"/>
                        </a:lnTo>
                        <a:lnTo>
                          <a:pt x="981" y="235"/>
                        </a:lnTo>
                        <a:lnTo>
                          <a:pt x="1014" y="290"/>
                        </a:lnTo>
                        <a:lnTo>
                          <a:pt x="1037" y="335"/>
                        </a:lnTo>
                        <a:lnTo>
                          <a:pt x="1059" y="391"/>
                        </a:lnTo>
                        <a:lnTo>
                          <a:pt x="1081" y="457"/>
                        </a:lnTo>
                        <a:lnTo>
                          <a:pt x="1092" y="513"/>
                        </a:lnTo>
                        <a:lnTo>
                          <a:pt x="1103" y="580"/>
                        </a:lnTo>
                        <a:lnTo>
                          <a:pt x="1103" y="647"/>
                        </a:lnTo>
                        <a:lnTo>
                          <a:pt x="1092" y="714"/>
                        </a:lnTo>
                        <a:lnTo>
                          <a:pt x="1081" y="781"/>
                        </a:lnTo>
                        <a:lnTo>
                          <a:pt x="1059" y="848"/>
                        </a:lnTo>
                        <a:lnTo>
                          <a:pt x="1048" y="914"/>
                        </a:lnTo>
                        <a:lnTo>
                          <a:pt x="1025" y="970"/>
                        </a:lnTo>
                        <a:lnTo>
                          <a:pt x="1003" y="1037"/>
                        </a:lnTo>
                        <a:lnTo>
                          <a:pt x="981" y="1093"/>
                        </a:lnTo>
                        <a:lnTo>
                          <a:pt x="947" y="1137"/>
                        </a:lnTo>
                        <a:lnTo>
                          <a:pt x="914" y="1193"/>
                        </a:lnTo>
                        <a:lnTo>
                          <a:pt x="869" y="1227"/>
                        </a:lnTo>
                        <a:lnTo>
                          <a:pt x="825" y="1271"/>
                        </a:lnTo>
                        <a:lnTo>
                          <a:pt x="780" y="1305"/>
                        </a:lnTo>
                        <a:lnTo>
                          <a:pt x="725" y="1327"/>
                        </a:lnTo>
                        <a:lnTo>
                          <a:pt x="658" y="1349"/>
                        </a:lnTo>
                        <a:lnTo>
                          <a:pt x="591" y="1360"/>
                        </a:lnTo>
                        <a:lnTo>
                          <a:pt x="513" y="1371"/>
                        </a:lnTo>
                        <a:lnTo>
                          <a:pt x="446" y="1360"/>
                        </a:lnTo>
                        <a:lnTo>
                          <a:pt x="390" y="1349"/>
                        </a:lnTo>
                        <a:lnTo>
                          <a:pt x="334" y="1338"/>
                        </a:lnTo>
                        <a:lnTo>
                          <a:pt x="279" y="1316"/>
                        </a:lnTo>
                        <a:lnTo>
                          <a:pt x="234" y="1282"/>
                        </a:lnTo>
                        <a:lnTo>
                          <a:pt x="201" y="1238"/>
                        </a:lnTo>
                        <a:lnTo>
                          <a:pt x="156" y="1204"/>
                        </a:lnTo>
                        <a:lnTo>
                          <a:pt x="123" y="1148"/>
                        </a:lnTo>
                        <a:lnTo>
                          <a:pt x="100" y="1104"/>
                        </a:lnTo>
                        <a:lnTo>
                          <a:pt x="67" y="1048"/>
                        </a:lnTo>
                        <a:lnTo>
                          <a:pt x="56" y="981"/>
                        </a:lnTo>
                        <a:lnTo>
                          <a:pt x="34" y="926"/>
                        </a:lnTo>
                        <a:lnTo>
                          <a:pt x="22" y="859"/>
                        </a:lnTo>
                        <a:lnTo>
                          <a:pt x="11" y="792"/>
                        </a:lnTo>
                        <a:lnTo>
                          <a:pt x="0" y="725"/>
                        </a:lnTo>
                        <a:lnTo>
                          <a:pt x="0" y="658"/>
                        </a:lnTo>
                        <a:lnTo>
                          <a:pt x="0" y="591"/>
                        </a:lnTo>
                        <a:lnTo>
                          <a:pt x="11" y="524"/>
                        </a:lnTo>
                        <a:lnTo>
                          <a:pt x="22" y="469"/>
                        </a:lnTo>
                        <a:lnTo>
                          <a:pt x="34" y="402"/>
                        </a:lnTo>
                        <a:lnTo>
                          <a:pt x="45" y="346"/>
                        </a:lnTo>
                        <a:lnTo>
                          <a:pt x="67" y="290"/>
                        </a:lnTo>
                        <a:lnTo>
                          <a:pt x="100" y="246"/>
                        </a:lnTo>
                        <a:lnTo>
                          <a:pt x="123" y="201"/>
                        </a:lnTo>
                        <a:lnTo>
                          <a:pt x="156" y="157"/>
                        </a:lnTo>
                        <a:lnTo>
                          <a:pt x="190" y="123"/>
                        </a:lnTo>
                        <a:lnTo>
                          <a:pt x="234" y="90"/>
                        </a:lnTo>
                        <a:lnTo>
                          <a:pt x="279" y="56"/>
                        </a:lnTo>
                        <a:lnTo>
                          <a:pt x="334" y="34"/>
                        </a:lnTo>
                        <a:lnTo>
                          <a:pt x="390" y="23"/>
                        </a:lnTo>
                        <a:lnTo>
                          <a:pt x="446" y="12"/>
                        </a:lnTo>
                        <a:lnTo>
                          <a:pt x="513" y="0"/>
                        </a:lnTo>
                        <a:close/>
                      </a:path>
                    </a:pathLst>
                  </a:custGeom>
                  <a:solidFill>
                    <a:srgbClr val="ffebb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1331"/>
                  <p:cNvSpPr/>
                  <p:nvPr/>
                </p:nvSpPr>
                <p:spPr>
                  <a:xfrm rot="111600">
                    <a:off x="2828520" y="940320"/>
                    <a:ext cx="58680" cy="86040"/>
                  </a:xfrm>
                  <a:custGeom>
                    <a:avLst/>
                    <a:gdLst>
                      <a:gd name="textAreaLeft" fmla="*/ 0 w 58680"/>
                      <a:gd name="textAreaRight" fmla="*/ 59040 w 58680"/>
                      <a:gd name="textAreaTop" fmla="*/ 0 h 86040"/>
                      <a:gd name="textAreaBottom" fmla="*/ 86400 h 86040"/>
                    </a:gdLst>
                    <a:ahLst/>
                    <a:rect l="textAreaLeft" t="textAreaTop" r="textAreaRight" b="textAreaBottom"/>
                    <a:pathLst>
                      <a:path w="602" h="647">
                        <a:moveTo>
                          <a:pt x="590" y="647"/>
                        </a:moveTo>
                        <a:lnTo>
                          <a:pt x="602" y="647"/>
                        </a:lnTo>
                        <a:lnTo>
                          <a:pt x="590" y="580"/>
                        </a:lnTo>
                        <a:lnTo>
                          <a:pt x="590" y="513"/>
                        </a:lnTo>
                        <a:lnTo>
                          <a:pt x="568" y="457"/>
                        </a:lnTo>
                        <a:lnTo>
                          <a:pt x="557" y="391"/>
                        </a:lnTo>
                        <a:lnTo>
                          <a:pt x="535" y="335"/>
                        </a:lnTo>
                        <a:lnTo>
                          <a:pt x="501" y="279"/>
                        </a:lnTo>
                        <a:lnTo>
                          <a:pt x="468" y="235"/>
                        </a:lnTo>
                        <a:lnTo>
                          <a:pt x="434" y="190"/>
                        </a:lnTo>
                        <a:lnTo>
                          <a:pt x="390" y="145"/>
                        </a:lnTo>
                        <a:lnTo>
                          <a:pt x="345" y="112"/>
                        </a:lnTo>
                        <a:lnTo>
                          <a:pt x="301" y="79"/>
                        </a:lnTo>
                        <a:lnTo>
                          <a:pt x="245" y="45"/>
                        </a:lnTo>
                        <a:lnTo>
                          <a:pt x="189" y="23"/>
                        </a:lnTo>
                        <a:lnTo>
                          <a:pt x="134" y="12"/>
                        </a:lnTo>
                        <a:lnTo>
                          <a:pt x="67" y="0"/>
                        </a:lnTo>
                        <a:lnTo>
                          <a:pt x="0" y="0"/>
                        </a:lnTo>
                        <a:lnTo>
                          <a:pt x="0" y="12"/>
                        </a:lnTo>
                        <a:lnTo>
                          <a:pt x="67" y="12"/>
                        </a:lnTo>
                        <a:lnTo>
                          <a:pt x="122" y="23"/>
                        </a:lnTo>
                        <a:lnTo>
                          <a:pt x="189" y="45"/>
                        </a:lnTo>
                        <a:lnTo>
                          <a:pt x="245" y="67"/>
                        </a:lnTo>
                        <a:lnTo>
                          <a:pt x="290" y="90"/>
                        </a:lnTo>
                        <a:lnTo>
                          <a:pt x="345" y="123"/>
                        </a:lnTo>
                        <a:lnTo>
                          <a:pt x="390" y="157"/>
                        </a:lnTo>
                        <a:lnTo>
                          <a:pt x="423" y="201"/>
                        </a:lnTo>
                        <a:lnTo>
                          <a:pt x="457" y="235"/>
                        </a:lnTo>
                        <a:lnTo>
                          <a:pt x="490" y="290"/>
                        </a:lnTo>
                        <a:lnTo>
                          <a:pt x="524" y="335"/>
                        </a:lnTo>
                        <a:lnTo>
                          <a:pt x="546" y="391"/>
                        </a:lnTo>
                        <a:lnTo>
                          <a:pt x="557" y="457"/>
                        </a:lnTo>
                        <a:lnTo>
                          <a:pt x="568" y="513"/>
                        </a:lnTo>
                        <a:lnTo>
                          <a:pt x="579" y="580"/>
                        </a:lnTo>
                        <a:lnTo>
                          <a:pt x="579" y="647"/>
                        </a:lnTo>
                        <a:lnTo>
                          <a:pt x="590" y="647"/>
                        </a:lnTo>
                        <a:close/>
                      </a:path>
                    </a:pathLst>
                  </a:custGeom>
                  <a:solidFill>
                    <a:srgbClr val="000000"/>
                  </a:solidFill>
                  <a:ln w="0">
                    <a:noFill/>
                  </a:ln>
                </p:spPr>
                <p:style>
                  <a:lnRef idx="0"/>
                  <a:fillRef idx="0"/>
                  <a:effectRef idx="0"/>
                  <a:fontRef idx="minor"/>
                </p:style>
                <p:txBody>
                  <a:bodyPr lIns="90000" rIns="90000" tIns="39600" bIns="39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Freeform 1330"/>
                  <p:cNvSpPr/>
                  <p:nvPr/>
                </p:nvSpPr>
                <p:spPr>
                  <a:xfrm rot="111600">
                    <a:off x="2825640" y="1026720"/>
                    <a:ext cx="57600" cy="96120"/>
                  </a:xfrm>
                  <a:custGeom>
                    <a:avLst/>
                    <a:gdLst>
                      <a:gd name="textAreaLeft" fmla="*/ 0 w 57600"/>
                      <a:gd name="textAreaRight" fmla="*/ 57600 w 57600"/>
                      <a:gd name="textAreaTop" fmla="*/ 0 h 96120"/>
                      <a:gd name="textAreaBottom" fmla="*/ 96480 h 96120"/>
                    </a:gdLst>
                    <a:ahLst/>
                    <a:rect l="textAreaLeft" t="textAreaTop" r="textAreaRight" b="textAreaBottom"/>
                    <a:pathLst>
                      <a:path w="590" h="724">
                        <a:moveTo>
                          <a:pt x="0" y="724"/>
                        </a:moveTo>
                        <a:lnTo>
                          <a:pt x="0" y="724"/>
                        </a:lnTo>
                        <a:lnTo>
                          <a:pt x="78" y="724"/>
                        </a:lnTo>
                        <a:lnTo>
                          <a:pt x="145" y="702"/>
                        </a:lnTo>
                        <a:lnTo>
                          <a:pt x="212" y="691"/>
                        </a:lnTo>
                        <a:lnTo>
                          <a:pt x="267" y="658"/>
                        </a:lnTo>
                        <a:lnTo>
                          <a:pt x="323" y="624"/>
                        </a:lnTo>
                        <a:lnTo>
                          <a:pt x="368" y="591"/>
                        </a:lnTo>
                        <a:lnTo>
                          <a:pt x="401" y="546"/>
                        </a:lnTo>
                        <a:lnTo>
                          <a:pt x="446" y="501"/>
                        </a:lnTo>
                        <a:lnTo>
                          <a:pt x="468" y="446"/>
                        </a:lnTo>
                        <a:lnTo>
                          <a:pt x="490" y="390"/>
                        </a:lnTo>
                        <a:lnTo>
                          <a:pt x="524" y="323"/>
                        </a:lnTo>
                        <a:lnTo>
                          <a:pt x="535" y="267"/>
                        </a:lnTo>
                        <a:lnTo>
                          <a:pt x="557" y="201"/>
                        </a:lnTo>
                        <a:lnTo>
                          <a:pt x="568" y="134"/>
                        </a:lnTo>
                        <a:lnTo>
                          <a:pt x="579" y="67"/>
                        </a:lnTo>
                        <a:lnTo>
                          <a:pt x="590" y="0"/>
                        </a:lnTo>
                        <a:lnTo>
                          <a:pt x="579" y="0"/>
                        </a:lnTo>
                        <a:lnTo>
                          <a:pt x="568" y="67"/>
                        </a:lnTo>
                        <a:lnTo>
                          <a:pt x="557" y="134"/>
                        </a:lnTo>
                        <a:lnTo>
                          <a:pt x="546" y="201"/>
                        </a:lnTo>
                        <a:lnTo>
                          <a:pt x="524" y="267"/>
                        </a:lnTo>
                        <a:lnTo>
                          <a:pt x="501" y="323"/>
                        </a:lnTo>
                        <a:lnTo>
                          <a:pt x="479" y="379"/>
                        </a:lnTo>
                        <a:lnTo>
                          <a:pt x="457" y="435"/>
                        </a:lnTo>
                        <a:lnTo>
                          <a:pt x="423" y="490"/>
                        </a:lnTo>
                        <a:lnTo>
                          <a:pt x="390" y="535"/>
                        </a:lnTo>
                        <a:lnTo>
                          <a:pt x="356" y="580"/>
                        </a:lnTo>
                        <a:lnTo>
                          <a:pt x="312" y="613"/>
                        </a:lnTo>
                        <a:lnTo>
                          <a:pt x="267" y="646"/>
                        </a:lnTo>
                        <a:lnTo>
                          <a:pt x="212" y="669"/>
                        </a:lnTo>
                        <a:lnTo>
                          <a:pt x="145" y="691"/>
                        </a:lnTo>
                        <a:lnTo>
                          <a:pt x="78" y="702"/>
                        </a:lnTo>
                        <a:lnTo>
                          <a:pt x="0" y="713"/>
                        </a:lnTo>
                        <a:lnTo>
                          <a:pt x="0" y="72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Freeform 1329"/>
                  <p:cNvSpPr/>
                  <p:nvPr/>
                </p:nvSpPr>
                <p:spPr>
                  <a:xfrm rot="111600">
                    <a:off x="2775600" y="1026720"/>
                    <a:ext cx="50040" cy="94680"/>
                  </a:xfrm>
                  <a:custGeom>
                    <a:avLst/>
                    <a:gdLst>
                      <a:gd name="textAreaLeft" fmla="*/ 0 w 50040"/>
                      <a:gd name="textAreaRight" fmla="*/ 50400 w 50040"/>
                      <a:gd name="textAreaTop" fmla="*/ 0 h 94680"/>
                      <a:gd name="textAreaBottom" fmla="*/ 95040 h 94680"/>
                    </a:gdLst>
                    <a:ahLst/>
                    <a:rect l="textAreaLeft" t="textAreaTop" r="textAreaRight" b="textAreaBottom"/>
                    <a:pathLst>
                      <a:path w="513" h="713">
                        <a:moveTo>
                          <a:pt x="0" y="0"/>
                        </a:moveTo>
                        <a:lnTo>
                          <a:pt x="0" y="0"/>
                        </a:lnTo>
                        <a:lnTo>
                          <a:pt x="0" y="67"/>
                        </a:lnTo>
                        <a:lnTo>
                          <a:pt x="0" y="134"/>
                        </a:lnTo>
                        <a:lnTo>
                          <a:pt x="11" y="201"/>
                        </a:lnTo>
                        <a:lnTo>
                          <a:pt x="34" y="268"/>
                        </a:lnTo>
                        <a:lnTo>
                          <a:pt x="45" y="334"/>
                        </a:lnTo>
                        <a:lnTo>
                          <a:pt x="67" y="390"/>
                        </a:lnTo>
                        <a:lnTo>
                          <a:pt x="89" y="446"/>
                        </a:lnTo>
                        <a:lnTo>
                          <a:pt x="123" y="502"/>
                        </a:lnTo>
                        <a:lnTo>
                          <a:pt x="156" y="546"/>
                        </a:lnTo>
                        <a:lnTo>
                          <a:pt x="190" y="591"/>
                        </a:lnTo>
                        <a:lnTo>
                          <a:pt x="234" y="624"/>
                        </a:lnTo>
                        <a:lnTo>
                          <a:pt x="279" y="658"/>
                        </a:lnTo>
                        <a:lnTo>
                          <a:pt x="334" y="680"/>
                        </a:lnTo>
                        <a:lnTo>
                          <a:pt x="390" y="702"/>
                        </a:lnTo>
                        <a:lnTo>
                          <a:pt x="446" y="713"/>
                        </a:lnTo>
                        <a:lnTo>
                          <a:pt x="513" y="713"/>
                        </a:lnTo>
                        <a:lnTo>
                          <a:pt x="513" y="702"/>
                        </a:lnTo>
                        <a:lnTo>
                          <a:pt x="446" y="702"/>
                        </a:lnTo>
                        <a:lnTo>
                          <a:pt x="390" y="691"/>
                        </a:lnTo>
                        <a:lnTo>
                          <a:pt x="334" y="669"/>
                        </a:lnTo>
                        <a:lnTo>
                          <a:pt x="290" y="647"/>
                        </a:lnTo>
                        <a:lnTo>
                          <a:pt x="245" y="613"/>
                        </a:lnTo>
                        <a:lnTo>
                          <a:pt x="201" y="580"/>
                        </a:lnTo>
                        <a:lnTo>
                          <a:pt x="167" y="535"/>
                        </a:lnTo>
                        <a:lnTo>
                          <a:pt x="134" y="490"/>
                        </a:lnTo>
                        <a:lnTo>
                          <a:pt x="100" y="435"/>
                        </a:lnTo>
                        <a:lnTo>
                          <a:pt x="78" y="379"/>
                        </a:lnTo>
                        <a:lnTo>
                          <a:pt x="56" y="323"/>
                        </a:lnTo>
                        <a:lnTo>
                          <a:pt x="45" y="268"/>
                        </a:lnTo>
                        <a:lnTo>
                          <a:pt x="34" y="201"/>
                        </a:lnTo>
                        <a:lnTo>
                          <a:pt x="22" y="134"/>
                        </a:lnTo>
                        <a:lnTo>
                          <a:pt x="11" y="67"/>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Freeform 1328"/>
                  <p:cNvSpPr/>
                  <p:nvPr/>
                </p:nvSpPr>
                <p:spPr>
                  <a:xfrm rot="111600">
                    <a:off x="2778480" y="938880"/>
                    <a:ext cx="50040" cy="87480"/>
                  </a:xfrm>
                  <a:custGeom>
                    <a:avLst/>
                    <a:gdLst>
                      <a:gd name="textAreaLeft" fmla="*/ 0 w 50040"/>
                      <a:gd name="textAreaRight" fmla="*/ 50400 w 50040"/>
                      <a:gd name="textAreaTop" fmla="*/ 0 h 87480"/>
                      <a:gd name="textAreaBottom" fmla="*/ 87840 h 87480"/>
                    </a:gdLst>
                    <a:ahLst/>
                    <a:rect l="textAreaLeft" t="textAreaTop" r="textAreaRight" b="textAreaBottom"/>
                    <a:pathLst>
                      <a:path w="513" h="658">
                        <a:moveTo>
                          <a:pt x="513" y="0"/>
                        </a:moveTo>
                        <a:lnTo>
                          <a:pt x="513" y="0"/>
                        </a:lnTo>
                        <a:lnTo>
                          <a:pt x="446" y="0"/>
                        </a:lnTo>
                        <a:lnTo>
                          <a:pt x="390" y="12"/>
                        </a:lnTo>
                        <a:lnTo>
                          <a:pt x="334" y="23"/>
                        </a:lnTo>
                        <a:lnTo>
                          <a:pt x="279" y="56"/>
                        </a:lnTo>
                        <a:lnTo>
                          <a:pt x="234" y="79"/>
                        </a:lnTo>
                        <a:lnTo>
                          <a:pt x="190" y="112"/>
                        </a:lnTo>
                        <a:lnTo>
                          <a:pt x="156" y="157"/>
                        </a:lnTo>
                        <a:lnTo>
                          <a:pt x="123" y="190"/>
                        </a:lnTo>
                        <a:lnTo>
                          <a:pt x="89" y="246"/>
                        </a:lnTo>
                        <a:lnTo>
                          <a:pt x="67" y="290"/>
                        </a:lnTo>
                        <a:lnTo>
                          <a:pt x="45" y="346"/>
                        </a:lnTo>
                        <a:lnTo>
                          <a:pt x="22" y="402"/>
                        </a:lnTo>
                        <a:lnTo>
                          <a:pt x="11" y="469"/>
                        </a:lnTo>
                        <a:lnTo>
                          <a:pt x="0" y="524"/>
                        </a:lnTo>
                        <a:lnTo>
                          <a:pt x="0" y="591"/>
                        </a:lnTo>
                        <a:lnTo>
                          <a:pt x="0" y="658"/>
                        </a:lnTo>
                        <a:lnTo>
                          <a:pt x="11" y="658"/>
                        </a:lnTo>
                        <a:lnTo>
                          <a:pt x="11" y="591"/>
                        </a:lnTo>
                        <a:lnTo>
                          <a:pt x="22" y="524"/>
                        </a:lnTo>
                        <a:lnTo>
                          <a:pt x="22" y="469"/>
                        </a:lnTo>
                        <a:lnTo>
                          <a:pt x="45" y="413"/>
                        </a:lnTo>
                        <a:lnTo>
                          <a:pt x="56" y="346"/>
                        </a:lnTo>
                        <a:lnTo>
                          <a:pt x="78" y="301"/>
                        </a:lnTo>
                        <a:lnTo>
                          <a:pt x="100" y="246"/>
                        </a:lnTo>
                        <a:lnTo>
                          <a:pt x="134" y="201"/>
                        </a:lnTo>
                        <a:lnTo>
                          <a:pt x="167" y="157"/>
                        </a:lnTo>
                        <a:lnTo>
                          <a:pt x="201" y="123"/>
                        </a:lnTo>
                        <a:lnTo>
                          <a:pt x="234" y="90"/>
                        </a:lnTo>
                        <a:lnTo>
                          <a:pt x="290" y="67"/>
                        </a:lnTo>
                        <a:lnTo>
                          <a:pt x="334" y="45"/>
                        </a:lnTo>
                        <a:lnTo>
                          <a:pt x="390" y="23"/>
                        </a:lnTo>
                        <a:lnTo>
                          <a:pt x="446" y="23"/>
                        </a:lnTo>
                        <a:lnTo>
                          <a:pt x="513" y="12"/>
                        </a:lnTo>
                        <a:lnTo>
                          <a:pt x="513" y="0"/>
                        </a:lnTo>
                        <a:close/>
                      </a:path>
                    </a:pathLst>
                  </a:custGeom>
                  <a:solidFill>
                    <a:srgbClr val="000000"/>
                  </a:solidFill>
                  <a:ln w="0">
                    <a:noFill/>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Freeform 1327"/>
                  <p:cNvSpPr/>
                  <p:nvPr/>
                </p:nvSpPr>
                <p:spPr>
                  <a:xfrm rot="111600">
                    <a:off x="2731680" y="903240"/>
                    <a:ext cx="205920" cy="274320"/>
                  </a:xfrm>
                  <a:custGeom>
                    <a:avLst/>
                    <a:gdLst>
                      <a:gd name="textAreaLeft" fmla="*/ 0 w 205920"/>
                      <a:gd name="textAreaRight" fmla="*/ 206280 w 205920"/>
                      <a:gd name="textAreaTop" fmla="*/ 0 h 274320"/>
                      <a:gd name="textAreaBottom" fmla="*/ 274680 h 274320"/>
                    </a:gdLst>
                    <a:ahLst/>
                    <a:rect l="textAreaLeft" t="textAreaTop" r="textAreaRight" b="textAreaBottom"/>
                    <a:pathLst>
                      <a:path w="2107" h="2062">
                        <a:moveTo>
                          <a:pt x="1092" y="167"/>
                        </a:moveTo>
                        <a:lnTo>
                          <a:pt x="1081" y="145"/>
                        </a:lnTo>
                        <a:lnTo>
                          <a:pt x="1059" y="134"/>
                        </a:lnTo>
                        <a:lnTo>
                          <a:pt x="1037" y="111"/>
                        </a:lnTo>
                        <a:lnTo>
                          <a:pt x="1014" y="89"/>
                        </a:lnTo>
                        <a:lnTo>
                          <a:pt x="992" y="78"/>
                        </a:lnTo>
                        <a:lnTo>
                          <a:pt x="959" y="56"/>
                        </a:lnTo>
                        <a:lnTo>
                          <a:pt x="925" y="33"/>
                        </a:lnTo>
                        <a:lnTo>
                          <a:pt x="892" y="22"/>
                        </a:lnTo>
                        <a:lnTo>
                          <a:pt x="858" y="11"/>
                        </a:lnTo>
                        <a:lnTo>
                          <a:pt x="814" y="11"/>
                        </a:lnTo>
                        <a:lnTo>
                          <a:pt x="769" y="0"/>
                        </a:lnTo>
                        <a:lnTo>
                          <a:pt x="725" y="0"/>
                        </a:lnTo>
                        <a:lnTo>
                          <a:pt x="680" y="11"/>
                        </a:lnTo>
                        <a:lnTo>
                          <a:pt x="647" y="22"/>
                        </a:lnTo>
                        <a:lnTo>
                          <a:pt x="602" y="33"/>
                        </a:lnTo>
                        <a:lnTo>
                          <a:pt x="569" y="44"/>
                        </a:lnTo>
                        <a:lnTo>
                          <a:pt x="535" y="67"/>
                        </a:lnTo>
                        <a:lnTo>
                          <a:pt x="491" y="89"/>
                        </a:lnTo>
                        <a:lnTo>
                          <a:pt x="457" y="122"/>
                        </a:lnTo>
                        <a:lnTo>
                          <a:pt x="435" y="145"/>
                        </a:lnTo>
                        <a:lnTo>
                          <a:pt x="401" y="178"/>
                        </a:lnTo>
                        <a:lnTo>
                          <a:pt x="368" y="223"/>
                        </a:lnTo>
                        <a:lnTo>
                          <a:pt x="346" y="256"/>
                        </a:lnTo>
                        <a:lnTo>
                          <a:pt x="323" y="301"/>
                        </a:lnTo>
                        <a:lnTo>
                          <a:pt x="312" y="334"/>
                        </a:lnTo>
                        <a:lnTo>
                          <a:pt x="301" y="379"/>
                        </a:lnTo>
                        <a:lnTo>
                          <a:pt x="290" y="423"/>
                        </a:lnTo>
                        <a:lnTo>
                          <a:pt x="279" y="457"/>
                        </a:lnTo>
                        <a:lnTo>
                          <a:pt x="279" y="501"/>
                        </a:lnTo>
                        <a:lnTo>
                          <a:pt x="279" y="546"/>
                        </a:lnTo>
                        <a:lnTo>
                          <a:pt x="268" y="591"/>
                        </a:lnTo>
                        <a:lnTo>
                          <a:pt x="268" y="635"/>
                        </a:lnTo>
                        <a:lnTo>
                          <a:pt x="290" y="657"/>
                        </a:lnTo>
                        <a:lnTo>
                          <a:pt x="301" y="691"/>
                        </a:lnTo>
                        <a:lnTo>
                          <a:pt x="312" y="724"/>
                        </a:lnTo>
                        <a:lnTo>
                          <a:pt x="312" y="758"/>
                        </a:lnTo>
                        <a:lnTo>
                          <a:pt x="323" y="802"/>
                        </a:lnTo>
                        <a:lnTo>
                          <a:pt x="312" y="836"/>
                        </a:lnTo>
                        <a:lnTo>
                          <a:pt x="312" y="880"/>
                        </a:lnTo>
                        <a:lnTo>
                          <a:pt x="301" y="903"/>
                        </a:lnTo>
                        <a:lnTo>
                          <a:pt x="290" y="925"/>
                        </a:lnTo>
                        <a:lnTo>
                          <a:pt x="290" y="947"/>
                        </a:lnTo>
                        <a:lnTo>
                          <a:pt x="268" y="958"/>
                        </a:lnTo>
                        <a:lnTo>
                          <a:pt x="256" y="981"/>
                        </a:lnTo>
                        <a:lnTo>
                          <a:pt x="234" y="992"/>
                        </a:lnTo>
                        <a:lnTo>
                          <a:pt x="223" y="1003"/>
                        </a:lnTo>
                        <a:lnTo>
                          <a:pt x="201" y="1025"/>
                        </a:lnTo>
                        <a:lnTo>
                          <a:pt x="178" y="1036"/>
                        </a:lnTo>
                        <a:lnTo>
                          <a:pt x="156" y="1059"/>
                        </a:lnTo>
                        <a:lnTo>
                          <a:pt x="134" y="1070"/>
                        </a:lnTo>
                        <a:lnTo>
                          <a:pt x="123" y="1081"/>
                        </a:lnTo>
                        <a:lnTo>
                          <a:pt x="100" y="1103"/>
                        </a:lnTo>
                        <a:lnTo>
                          <a:pt x="89" y="1114"/>
                        </a:lnTo>
                        <a:lnTo>
                          <a:pt x="67" y="1137"/>
                        </a:lnTo>
                        <a:lnTo>
                          <a:pt x="56" y="1148"/>
                        </a:lnTo>
                        <a:lnTo>
                          <a:pt x="45" y="1159"/>
                        </a:lnTo>
                        <a:lnTo>
                          <a:pt x="22" y="1215"/>
                        </a:lnTo>
                        <a:lnTo>
                          <a:pt x="11" y="1270"/>
                        </a:lnTo>
                        <a:lnTo>
                          <a:pt x="0" y="1326"/>
                        </a:lnTo>
                        <a:lnTo>
                          <a:pt x="0" y="1393"/>
                        </a:lnTo>
                        <a:lnTo>
                          <a:pt x="0" y="1449"/>
                        </a:lnTo>
                        <a:lnTo>
                          <a:pt x="11" y="1516"/>
                        </a:lnTo>
                        <a:lnTo>
                          <a:pt x="22" y="1571"/>
                        </a:lnTo>
                        <a:lnTo>
                          <a:pt x="45" y="1616"/>
                        </a:lnTo>
                        <a:lnTo>
                          <a:pt x="56" y="1616"/>
                        </a:lnTo>
                        <a:lnTo>
                          <a:pt x="67" y="1594"/>
                        </a:lnTo>
                        <a:lnTo>
                          <a:pt x="67" y="1583"/>
                        </a:lnTo>
                        <a:lnTo>
                          <a:pt x="78" y="1571"/>
                        </a:lnTo>
                        <a:lnTo>
                          <a:pt x="78" y="1560"/>
                        </a:lnTo>
                        <a:lnTo>
                          <a:pt x="89" y="1549"/>
                        </a:lnTo>
                        <a:lnTo>
                          <a:pt x="89" y="1560"/>
                        </a:lnTo>
                        <a:lnTo>
                          <a:pt x="89" y="1605"/>
                        </a:lnTo>
                        <a:lnTo>
                          <a:pt x="100" y="1661"/>
                        </a:lnTo>
                        <a:lnTo>
                          <a:pt x="112" y="1694"/>
                        </a:lnTo>
                        <a:lnTo>
                          <a:pt x="134" y="1727"/>
                        </a:lnTo>
                        <a:lnTo>
                          <a:pt x="156" y="1761"/>
                        </a:lnTo>
                        <a:lnTo>
                          <a:pt x="178" y="1783"/>
                        </a:lnTo>
                        <a:lnTo>
                          <a:pt x="212" y="1805"/>
                        </a:lnTo>
                        <a:lnTo>
                          <a:pt x="245" y="1828"/>
                        </a:lnTo>
                        <a:lnTo>
                          <a:pt x="256" y="1805"/>
                        </a:lnTo>
                        <a:lnTo>
                          <a:pt x="256" y="1783"/>
                        </a:lnTo>
                        <a:lnTo>
                          <a:pt x="256" y="1772"/>
                        </a:lnTo>
                        <a:lnTo>
                          <a:pt x="268" y="1761"/>
                        </a:lnTo>
                        <a:lnTo>
                          <a:pt x="268" y="1794"/>
                        </a:lnTo>
                        <a:lnTo>
                          <a:pt x="268" y="1839"/>
                        </a:lnTo>
                        <a:lnTo>
                          <a:pt x="268" y="1883"/>
                        </a:lnTo>
                        <a:lnTo>
                          <a:pt x="268" y="1917"/>
                        </a:lnTo>
                        <a:lnTo>
                          <a:pt x="268" y="1961"/>
                        </a:lnTo>
                        <a:lnTo>
                          <a:pt x="256" y="1995"/>
                        </a:lnTo>
                        <a:lnTo>
                          <a:pt x="245" y="2039"/>
                        </a:lnTo>
                        <a:lnTo>
                          <a:pt x="245" y="2062"/>
                        </a:lnTo>
                        <a:lnTo>
                          <a:pt x="256" y="2051"/>
                        </a:lnTo>
                        <a:lnTo>
                          <a:pt x="279" y="2028"/>
                        </a:lnTo>
                        <a:lnTo>
                          <a:pt x="290" y="2017"/>
                        </a:lnTo>
                        <a:lnTo>
                          <a:pt x="312" y="1995"/>
                        </a:lnTo>
                        <a:lnTo>
                          <a:pt x="335" y="1984"/>
                        </a:lnTo>
                        <a:lnTo>
                          <a:pt x="357" y="1961"/>
                        </a:lnTo>
                        <a:lnTo>
                          <a:pt x="368" y="1939"/>
                        </a:lnTo>
                        <a:lnTo>
                          <a:pt x="390" y="1917"/>
                        </a:lnTo>
                        <a:lnTo>
                          <a:pt x="413" y="1895"/>
                        </a:lnTo>
                        <a:lnTo>
                          <a:pt x="424" y="1872"/>
                        </a:lnTo>
                        <a:lnTo>
                          <a:pt x="435" y="1850"/>
                        </a:lnTo>
                        <a:lnTo>
                          <a:pt x="446" y="1828"/>
                        </a:lnTo>
                        <a:lnTo>
                          <a:pt x="457" y="1794"/>
                        </a:lnTo>
                        <a:lnTo>
                          <a:pt x="468" y="1772"/>
                        </a:lnTo>
                        <a:lnTo>
                          <a:pt x="468" y="1739"/>
                        </a:lnTo>
                        <a:lnTo>
                          <a:pt x="468" y="1716"/>
                        </a:lnTo>
                        <a:lnTo>
                          <a:pt x="479" y="1727"/>
                        </a:lnTo>
                        <a:lnTo>
                          <a:pt x="491" y="1739"/>
                        </a:lnTo>
                        <a:lnTo>
                          <a:pt x="491" y="1750"/>
                        </a:lnTo>
                        <a:lnTo>
                          <a:pt x="513" y="1761"/>
                        </a:lnTo>
                        <a:lnTo>
                          <a:pt x="535" y="1727"/>
                        </a:lnTo>
                        <a:lnTo>
                          <a:pt x="557" y="1683"/>
                        </a:lnTo>
                        <a:lnTo>
                          <a:pt x="580" y="1616"/>
                        </a:lnTo>
                        <a:lnTo>
                          <a:pt x="602" y="1538"/>
                        </a:lnTo>
                        <a:lnTo>
                          <a:pt x="602" y="1460"/>
                        </a:lnTo>
                        <a:lnTo>
                          <a:pt x="602" y="1382"/>
                        </a:lnTo>
                        <a:lnTo>
                          <a:pt x="580" y="1304"/>
                        </a:lnTo>
                        <a:lnTo>
                          <a:pt x="535" y="1226"/>
                        </a:lnTo>
                        <a:lnTo>
                          <a:pt x="502" y="1170"/>
                        </a:lnTo>
                        <a:lnTo>
                          <a:pt x="479" y="1114"/>
                        </a:lnTo>
                        <a:lnTo>
                          <a:pt x="468" y="1059"/>
                        </a:lnTo>
                        <a:lnTo>
                          <a:pt x="457" y="1014"/>
                        </a:lnTo>
                        <a:lnTo>
                          <a:pt x="435" y="958"/>
                        </a:lnTo>
                        <a:lnTo>
                          <a:pt x="424" y="914"/>
                        </a:lnTo>
                        <a:lnTo>
                          <a:pt x="413" y="880"/>
                        </a:lnTo>
                        <a:lnTo>
                          <a:pt x="401" y="847"/>
                        </a:lnTo>
                        <a:lnTo>
                          <a:pt x="401" y="825"/>
                        </a:lnTo>
                        <a:lnTo>
                          <a:pt x="401" y="802"/>
                        </a:lnTo>
                        <a:lnTo>
                          <a:pt x="413" y="780"/>
                        </a:lnTo>
                        <a:lnTo>
                          <a:pt x="424" y="758"/>
                        </a:lnTo>
                        <a:lnTo>
                          <a:pt x="435" y="735"/>
                        </a:lnTo>
                        <a:lnTo>
                          <a:pt x="446" y="713"/>
                        </a:lnTo>
                        <a:lnTo>
                          <a:pt x="457" y="702"/>
                        </a:lnTo>
                        <a:lnTo>
                          <a:pt x="457" y="680"/>
                        </a:lnTo>
                        <a:lnTo>
                          <a:pt x="479" y="669"/>
                        </a:lnTo>
                        <a:lnTo>
                          <a:pt x="491" y="669"/>
                        </a:lnTo>
                        <a:lnTo>
                          <a:pt x="502" y="657"/>
                        </a:lnTo>
                        <a:lnTo>
                          <a:pt x="524" y="657"/>
                        </a:lnTo>
                        <a:lnTo>
                          <a:pt x="535" y="657"/>
                        </a:lnTo>
                        <a:lnTo>
                          <a:pt x="546" y="657"/>
                        </a:lnTo>
                        <a:lnTo>
                          <a:pt x="569" y="657"/>
                        </a:lnTo>
                        <a:lnTo>
                          <a:pt x="580" y="657"/>
                        </a:lnTo>
                        <a:lnTo>
                          <a:pt x="602" y="657"/>
                        </a:lnTo>
                        <a:lnTo>
                          <a:pt x="624" y="657"/>
                        </a:lnTo>
                        <a:lnTo>
                          <a:pt x="635" y="646"/>
                        </a:lnTo>
                        <a:lnTo>
                          <a:pt x="658" y="646"/>
                        </a:lnTo>
                        <a:lnTo>
                          <a:pt x="669" y="646"/>
                        </a:lnTo>
                        <a:lnTo>
                          <a:pt x="691" y="646"/>
                        </a:lnTo>
                        <a:lnTo>
                          <a:pt x="702" y="635"/>
                        </a:lnTo>
                        <a:lnTo>
                          <a:pt x="725" y="635"/>
                        </a:lnTo>
                        <a:lnTo>
                          <a:pt x="736" y="624"/>
                        </a:lnTo>
                        <a:lnTo>
                          <a:pt x="747" y="602"/>
                        </a:lnTo>
                        <a:lnTo>
                          <a:pt x="769" y="579"/>
                        </a:lnTo>
                        <a:lnTo>
                          <a:pt x="791" y="557"/>
                        </a:lnTo>
                        <a:lnTo>
                          <a:pt x="814" y="535"/>
                        </a:lnTo>
                        <a:lnTo>
                          <a:pt x="847" y="513"/>
                        </a:lnTo>
                        <a:lnTo>
                          <a:pt x="869" y="490"/>
                        </a:lnTo>
                        <a:lnTo>
                          <a:pt x="892" y="479"/>
                        </a:lnTo>
                        <a:lnTo>
                          <a:pt x="914" y="457"/>
                        </a:lnTo>
                        <a:lnTo>
                          <a:pt x="925" y="468"/>
                        </a:lnTo>
                        <a:lnTo>
                          <a:pt x="947" y="446"/>
                        </a:lnTo>
                        <a:lnTo>
                          <a:pt x="959" y="423"/>
                        </a:lnTo>
                        <a:lnTo>
                          <a:pt x="981" y="412"/>
                        </a:lnTo>
                        <a:lnTo>
                          <a:pt x="992" y="390"/>
                        </a:lnTo>
                        <a:lnTo>
                          <a:pt x="1014" y="368"/>
                        </a:lnTo>
                        <a:lnTo>
                          <a:pt x="1026" y="345"/>
                        </a:lnTo>
                        <a:lnTo>
                          <a:pt x="1048" y="323"/>
                        </a:lnTo>
                        <a:lnTo>
                          <a:pt x="1070" y="301"/>
                        </a:lnTo>
                        <a:lnTo>
                          <a:pt x="1092" y="334"/>
                        </a:lnTo>
                        <a:lnTo>
                          <a:pt x="1126" y="368"/>
                        </a:lnTo>
                        <a:lnTo>
                          <a:pt x="1159" y="412"/>
                        </a:lnTo>
                        <a:lnTo>
                          <a:pt x="1193" y="457"/>
                        </a:lnTo>
                        <a:lnTo>
                          <a:pt x="1226" y="501"/>
                        </a:lnTo>
                        <a:lnTo>
                          <a:pt x="1271" y="546"/>
                        </a:lnTo>
                        <a:lnTo>
                          <a:pt x="1304" y="602"/>
                        </a:lnTo>
                        <a:lnTo>
                          <a:pt x="1338" y="646"/>
                        </a:lnTo>
                        <a:lnTo>
                          <a:pt x="1382" y="702"/>
                        </a:lnTo>
                        <a:lnTo>
                          <a:pt x="1416" y="747"/>
                        </a:lnTo>
                        <a:lnTo>
                          <a:pt x="1449" y="802"/>
                        </a:lnTo>
                        <a:lnTo>
                          <a:pt x="1471" y="847"/>
                        </a:lnTo>
                        <a:lnTo>
                          <a:pt x="1505" y="892"/>
                        </a:lnTo>
                        <a:lnTo>
                          <a:pt x="1527" y="925"/>
                        </a:lnTo>
                        <a:lnTo>
                          <a:pt x="1538" y="958"/>
                        </a:lnTo>
                        <a:lnTo>
                          <a:pt x="1538" y="992"/>
                        </a:lnTo>
                        <a:lnTo>
                          <a:pt x="1516" y="1025"/>
                        </a:lnTo>
                        <a:lnTo>
                          <a:pt x="1505" y="1059"/>
                        </a:lnTo>
                        <a:lnTo>
                          <a:pt x="1482" y="1103"/>
                        </a:lnTo>
                        <a:lnTo>
                          <a:pt x="1471" y="1159"/>
                        </a:lnTo>
                        <a:lnTo>
                          <a:pt x="1471" y="1204"/>
                        </a:lnTo>
                        <a:lnTo>
                          <a:pt x="1460" y="1259"/>
                        </a:lnTo>
                        <a:lnTo>
                          <a:pt x="1471" y="1304"/>
                        </a:lnTo>
                        <a:lnTo>
                          <a:pt x="1471" y="1360"/>
                        </a:lnTo>
                        <a:lnTo>
                          <a:pt x="1494" y="1404"/>
                        </a:lnTo>
                        <a:lnTo>
                          <a:pt x="1505" y="1460"/>
                        </a:lnTo>
                        <a:lnTo>
                          <a:pt x="1527" y="1505"/>
                        </a:lnTo>
                        <a:lnTo>
                          <a:pt x="1560" y="1538"/>
                        </a:lnTo>
                        <a:lnTo>
                          <a:pt x="1594" y="1583"/>
                        </a:lnTo>
                        <a:lnTo>
                          <a:pt x="1627" y="1616"/>
                        </a:lnTo>
                        <a:lnTo>
                          <a:pt x="1672" y="1638"/>
                        </a:lnTo>
                        <a:lnTo>
                          <a:pt x="1717" y="1661"/>
                        </a:lnTo>
                        <a:lnTo>
                          <a:pt x="1728" y="1661"/>
                        </a:lnTo>
                        <a:lnTo>
                          <a:pt x="1728" y="1649"/>
                        </a:lnTo>
                        <a:lnTo>
                          <a:pt x="1728" y="1638"/>
                        </a:lnTo>
                        <a:lnTo>
                          <a:pt x="1717" y="1627"/>
                        </a:lnTo>
                        <a:lnTo>
                          <a:pt x="1705" y="1616"/>
                        </a:lnTo>
                        <a:lnTo>
                          <a:pt x="1717" y="1605"/>
                        </a:lnTo>
                        <a:lnTo>
                          <a:pt x="1728" y="1616"/>
                        </a:lnTo>
                        <a:lnTo>
                          <a:pt x="1739" y="1627"/>
                        </a:lnTo>
                        <a:lnTo>
                          <a:pt x="1761" y="1661"/>
                        </a:lnTo>
                        <a:lnTo>
                          <a:pt x="1772" y="1705"/>
                        </a:lnTo>
                        <a:lnTo>
                          <a:pt x="1783" y="1750"/>
                        </a:lnTo>
                        <a:lnTo>
                          <a:pt x="1783" y="1805"/>
                        </a:lnTo>
                        <a:lnTo>
                          <a:pt x="1783" y="1850"/>
                        </a:lnTo>
                        <a:lnTo>
                          <a:pt x="1783" y="1895"/>
                        </a:lnTo>
                        <a:lnTo>
                          <a:pt x="1772" y="1928"/>
                        </a:lnTo>
                        <a:lnTo>
                          <a:pt x="1795" y="1906"/>
                        </a:lnTo>
                        <a:lnTo>
                          <a:pt x="1817" y="1883"/>
                        </a:lnTo>
                        <a:lnTo>
                          <a:pt x="1839" y="1861"/>
                        </a:lnTo>
                        <a:lnTo>
                          <a:pt x="1861" y="1850"/>
                        </a:lnTo>
                        <a:lnTo>
                          <a:pt x="1873" y="1828"/>
                        </a:lnTo>
                        <a:lnTo>
                          <a:pt x="1884" y="1805"/>
                        </a:lnTo>
                        <a:lnTo>
                          <a:pt x="1895" y="1783"/>
                        </a:lnTo>
                        <a:lnTo>
                          <a:pt x="1917" y="1761"/>
                        </a:lnTo>
                        <a:lnTo>
                          <a:pt x="1917" y="1750"/>
                        </a:lnTo>
                        <a:lnTo>
                          <a:pt x="1928" y="1727"/>
                        </a:lnTo>
                        <a:lnTo>
                          <a:pt x="1939" y="1705"/>
                        </a:lnTo>
                        <a:lnTo>
                          <a:pt x="1951" y="1683"/>
                        </a:lnTo>
                        <a:lnTo>
                          <a:pt x="1962" y="1661"/>
                        </a:lnTo>
                        <a:lnTo>
                          <a:pt x="1962" y="1627"/>
                        </a:lnTo>
                        <a:lnTo>
                          <a:pt x="1973" y="1605"/>
                        </a:lnTo>
                        <a:lnTo>
                          <a:pt x="1973" y="1594"/>
                        </a:lnTo>
                        <a:lnTo>
                          <a:pt x="1984" y="1594"/>
                        </a:lnTo>
                        <a:lnTo>
                          <a:pt x="1984" y="1605"/>
                        </a:lnTo>
                        <a:lnTo>
                          <a:pt x="1973" y="1627"/>
                        </a:lnTo>
                        <a:lnTo>
                          <a:pt x="1973" y="1638"/>
                        </a:lnTo>
                        <a:lnTo>
                          <a:pt x="1962" y="1649"/>
                        </a:lnTo>
                        <a:lnTo>
                          <a:pt x="1973" y="1661"/>
                        </a:lnTo>
                        <a:lnTo>
                          <a:pt x="1984" y="1661"/>
                        </a:lnTo>
                        <a:lnTo>
                          <a:pt x="2006" y="1649"/>
                        </a:lnTo>
                        <a:lnTo>
                          <a:pt x="2040" y="1616"/>
                        </a:lnTo>
                        <a:lnTo>
                          <a:pt x="2062" y="1583"/>
                        </a:lnTo>
                        <a:lnTo>
                          <a:pt x="2084" y="1538"/>
                        </a:lnTo>
                        <a:lnTo>
                          <a:pt x="2095" y="1505"/>
                        </a:lnTo>
                        <a:lnTo>
                          <a:pt x="2107" y="1460"/>
                        </a:lnTo>
                        <a:lnTo>
                          <a:pt x="2095" y="1415"/>
                        </a:lnTo>
                        <a:lnTo>
                          <a:pt x="2095" y="1371"/>
                        </a:lnTo>
                        <a:lnTo>
                          <a:pt x="2073" y="1326"/>
                        </a:lnTo>
                        <a:lnTo>
                          <a:pt x="2051" y="1282"/>
                        </a:lnTo>
                        <a:lnTo>
                          <a:pt x="2029" y="1237"/>
                        </a:lnTo>
                        <a:lnTo>
                          <a:pt x="1984" y="1192"/>
                        </a:lnTo>
                        <a:lnTo>
                          <a:pt x="1939" y="1148"/>
                        </a:lnTo>
                        <a:lnTo>
                          <a:pt x="1895" y="1092"/>
                        </a:lnTo>
                        <a:lnTo>
                          <a:pt x="1839" y="1048"/>
                        </a:lnTo>
                        <a:lnTo>
                          <a:pt x="1783" y="992"/>
                        </a:lnTo>
                        <a:lnTo>
                          <a:pt x="1705" y="947"/>
                        </a:lnTo>
                        <a:lnTo>
                          <a:pt x="1717" y="892"/>
                        </a:lnTo>
                        <a:lnTo>
                          <a:pt x="1717" y="847"/>
                        </a:lnTo>
                        <a:lnTo>
                          <a:pt x="1717" y="791"/>
                        </a:lnTo>
                        <a:lnTo>
                          <a:pt x="1717" y="735"/>
                        </a:lnTo>
                        <a:lnTo>
                          <a:pt x="1728" y="669"/>
                        </a:lnTo>
                        <a:lnTo>
                          <a:pt x="1728" y="613"/>
                        </a:lnTo>
                        <a:lnTo>
                          <a:pt x="1728" y="546"/>
                        </a:lnTo>
                        <a:lnTo>
                          <a:pt x="1717" y="479"/>
                        </a:lnTo>
                        <a:lnTo>
                          <a:pt x="1705" y="423"/>
                        </a:lnTo>
                        <a:lnTo>
                          <a:pt x="1694" y="368"/>
                        </a:lnTo>
                        <a:lnTo>
                          <a:pt x="1683" y="301"/>
                        </a:lnTo>
                        <a:lnTo>
                          <a:pt x="1650" y="256"/>
                        </a:lnTo>
                        <a:lnTo>
                          <a:pt x="1616" y="200"/>
                        </a:lnTo>
                        <a:lnTo>
                          <a:pt x="1583" y="156"/>
                        </a:lnTo>
                        <a:lnTo>
                          <a:pt x="1527" y="122"/>
                        </a:lnTo>
                        <a:lnTo>
                          <a:pt x="1471" y="89"/>
                        </a:lnTo>
                        <a:lnTo>
                          <a:pt x="1460" y="78"/>
                        </a:lnTo>
                        <a:lnTo>
                          <a:pt x="1438" y="67"/>
                        </a:lnTo>
                        <a:lnTo>
                          <a:pt x="1416" y="67"/>
                        </a:lnTo>
                        <a:lnTo>
                          <a:pt x="1404" y="56"/>
                        </a:lnTo>
                        <a:lnTo>
                          <a:pt x="1382" y="44"/>
                        </a:lnTo>
                        <a:lnTo>
                          <a:pt x="1360" y="44"/>
                        </a:lnTo>
                        <a:lnTo>
                          <a:pt x="1349" y="44"/>
                        </a:lnTo>
                        <a:lnTo>
                          <a:pt x="1326" y="44"/>
                        </a:lnTo>
                        <a:lnTo>
                          <a:pt x="1315" y="44"/>
                        </a:lnTo>
                        <a:lnTo>
                          <a:pt x="1293" y="44"/>
                        </a:lnTo>
                        <a:lnTo>
                          <a:pt x="1282" y="44"/>
                        </a:lnTo>
                        <a:lnTo>
                          <a:pt x="1260" y="44"/>
                        </a:lnTo>
                        <a:lnTo>
                          <a:pt x="1248" y="56"/>
                        </a:lnTo>
                        <a:lnTo>
                          <a:pt x="1237" y="56"/>
                        </a:lnTo>
                        <a:lnTo>
                          <a:pt x="1226" y="56"/>
                        </a:lnTo>
                        <a:lnTo>
                          <a:pt x="1215" y="67"/>
                        </a:lnTo>
                        <a:lnTo>
                          <a:pt x="1193" y="78"/>
                        </a:lnTo>
                        <a:lnTo>
                          <a:pt x="1182" y="89"/>
                        </a:lnTo>
                        <a:lnTo>
                          <a:pt x="1170" y="100"/>
                        </a:lnTo>
                        <a:lnTo>
                          <a:pt x="1148" y="111"/>
                        </a:lnTo>
                        <a:lnTo>
                          <a:pt x="1137" y="122"/>
                        </a:lnTo>
                        <a:lnTo>
                          <a:pt x="1115" y="134"/>
                        </a:lnTo>
                        <a:lnTo>
                          <a:pt x="1104" y="145"/>
                        </a:lnTo>
                        <a:lnTo>
                          <a:pt x="1092" y="167"/>
                        </a:lnTo>
                        <a:close/>
                      </a:path>
                    </a:pathLst>
                  </a:custGeom>
                  <a:solidFill>
                    <a:srgbClr val="f5c77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Freeform 1326"/>
                  <p:cNvSpPr/>
                  <p:nvPr/>
                </p:nvSpPr>
                <p:spPr>
                  <a:xfrm rot="111600">
                    <a:off x="2823120" y="905760"/>
                    <a:ext cx="19440" cy="19080"/>
                  </a:xfrm>
                  <a:custGeom>
                    <a:avLst/>
                    <a:gdLst>
                      <a:gd name="textAreaLeft" fmla="*/ 0 w 19440"/>
                      <a:gd name="textAreaRight" fmla="*/ 19800 w 19440"/>
                      <a:gd name="textAreaTop" fmla="*/ 0 h 19080"/>
                      <a:gd name="textAreaBottom" fmla="*/ 19440 h 19080"/>
                    </a:gdLst>
                    <a:ahLst/>
                    <a:rect l="textAreaLeft" t="textAreaTop" r="textAreaRight" b="textAreaBottom"/>
                    <a:pathLst>
                      <a:path w="200" h="145">
                        <a:moveTo>
                          <a:pt x="0" y="11"/>
                        </a:moveTo>
                        <a:lnTo>
                          <a:pt x="0" y="11"/>
                        </a:lnTo>
                        <a:lnTo>
                          <a:pt x="33" y="22"/>
                        </a:lnTo>
                        <a:lnTo>
                          <a:pt x="67" y="45"/>
                        </a:lnTo>
                        <a:lnTo>
                          <a:pt x="89" y="56"/>
                        </a:lnTo>
                        <a:lnTo>
                          <a:pt x="122" y="78"/>
                        </a:lnTo>
                        <a:lnTo>
                          <a:pt x="145" y="100"/>
                        </a:lnTo>
                        <a:lnTo>
                          <a:pt x="167" y="112"/>
                        </a:lnTo>
                        <a:lnTo>
                          <a:pt x="178" y="134"/>
                        </a:lnTo>
                        <a:lnTo>
                          <a:pt x="189" y="145"/>
                        </a:lnTo>
                        <a:lnTo>
                          <a:pt x="200" y="134"/>
                        </a:lnTo>
                        <a:lnTo>
                          <a:pt x="189" y="123"/>
                        </a:lnTo>
                        <a:lnTo>
                          <a:pt x="167" y="100"/>
                        </a:lnTo>
                        <a:lnTo>
                          <a:pt x="156" y="89"/>
                        </a:lnTo>
                        <a:lnTo>
                          <a:pt x="122" y="67"/>
                        </a:lnTo>
                        <a:lnTo>
                          <a:pt x="100" y="45"/>
                        </a:lnTo>
                        <a:lnTo>
                          <a:pt x="67" y="22"/>
                        </a:lnTo>
                        <a:lnTo>
                          <a:pt x="44" y="11"/>
                        </a:lnTo>
                        <a:lnTo>
                          <a:pt x="0" y="0"/>
                        </a:lnTo>
                        <a:lnTo>
                          <a:pt x="0" y="11"/>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Freeform 1325"/>
                  <p:cNvSpPr/>
                  <p:nvPr/>
                </p:nvSpPr>
                <p:spPr>
                  <a:xfrm rot="111600">
                    <a:off x="2766240" y="901440"/>
                    <a:ext cx="56520" cy="39960"/>
                  </a:xfrm>
                  <a:custGeom>
                    <a:avLst/>
                    <a:gdLst>
                      <a:gd name="textAreaLeft" fmla="*/ 0 w 56520"/>
                      <a:gd name="textAreaRight" fmla="*/ 56880 w 56520"/>
                      <a:gd name="textAreaTop" fmla="*/ 0 h 39960"/>
                      <a:gd name="textAreaBottom" fmla="*/ 40320 h 39960"/>
                    </a:gdLst>
                    <a:ahLst/>
                    <a:rect l="textAreaLeft" t="textAreaTop" r="textAreaRight" b="textAreaBottom"/>
                    <a:pathLst>
                      <a:path w="580" h="301">
                        <a:moveTo>
                          <a:pt x="11" y="301"/>
                        </a:moveTo>
                        <a:lnTo>
                          <a:pt x="11" y="301"/>
                        </a:lnTo>
                        <a:lnTo>
                          <a:pt x="34" y="267"/>
                        </a:lnTo>
                        <a:lnTo>
                          <a:pt x="67" y="223"/>
                        </a:lnTo>
                        <a:lnTo>
                          <a:pt x="89" y="189"/>
                        </a:lnTo>
                        <a:lnTo>
                          <a:pt x="123" y="156"/>
                        </a:lnTo>
                        <a:lnTo>
                          <a:pt x="156" y="122"/>
                        </a:lnTo>
                        <a:lnTo>
                          <a:pt x="190" y="100"/>
                        </a:lnTo>
                        <a:lnTo>
                          <a:pt x="223" y="78"/>
                        </a:lnTo>
                        <a:lnTo>
                          <a:pt x="257" y="56"/>
                        </a:lnTo>
                        <a:lnTo>
                          <a:pt x="301" y="33"/>
                        </a:lnTo>
                        <a:lnTo>
                          <a:pt x="335" y="22"/>
                        </a:lnTo>
                        <a:lnTo>
                          <a:pt x="368" y="22"/>
                        </a:lnTo>
                        <a:lnTo>
                          <a:pt x="413" y="11"/>
                        </a:lnTo>
                        <a:lnTo>
                          <a:pt x="457" y="11"/>
                        </a:lnTo>
                        <a:lnTo>
                          <a:pt x="502" y="11"/>
                        </a:lnTo>
                        <a:lnTo>
                          <a:pt x="535" y="22"/>
                        </a:lnTo>
                        <a:lnTo>
                          <a:pt x="580" y="33"/>
                        </a:lnTo>
                        <a:lnTo>
                          <a:pt x="580" y="22"/>
                        </a:lnTo>
                        <a:lnTo>
                          <a:pt x="546" y="11"/>
                        </a:lnTo>
                        <a:lnTo>
                          <a:pt x="502" y="0"/>
                        </a:lnTo>
                        <a:lnTo>
                          <a:pt x="457" y="0"/>
                        </a:lnTo>
                        <a:lnTo>
                          <a:pt x="413" y="0"/>
                        </a:lnTo>
                        <a:lnTo>
                          <a:pt x="368" y="0"/>
                        </a:lnTo>
                        <a:lnTo>
                          <a:pt x="335" y="11"/>
                        </a:lnTo>
                        <a:lnTo>
                          <a:pt x="290" y="22"/>
                        </a:lnTo>
                        <a:lnTo>
                          <a:pt x="257" y="44"/>
                        </a:lnTo>
                        <a:lnTo>
                          <a:pt x="212" y="67"/>
                        </a:lnTo>
                        <a:lnTo>
                          <a:pt x="179" y="89"/>
                        </a:lnTo>
                        <a:lnTo>
                          <a:pt x="145" y="111"/>
                        </a:lnTo>
                        <a:lnTo>
                          <a:pt x="112" y="145"/>
                        </a:lnTo>
                        <a:lnTo>
                          <a:pt x="78" y="178"/>
                        </a:lnTo>
                        <a:lnTo>
                          <a:pt x="56" y="212"/>
                        </a:lnTo>
                        <a:lnTo>
                          <a:pt x="23" y="256"/>
                        </a:lnTo>
                        <a:lnTo>
                          <a:pt x="0" y="301"/>
                        </a:lnTo>
                        <a:lnTo>
                          <a:pt x="11" y="301"/>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Freeform 1324"/>
                  <p:cNvSpPr/>
                  <p:nvPr/>
                </p:nvSpPr>
                <p:spPr>
                  <a:xfrm rot="111600">
                    <a:off x="2760120" y="940680"/>
                    <a:ext cx="5040" cy="45720"/>
                  </a:xfrm>
                  <a:custGeom>
                    <a:avLst/>
                    <a:gdLst>
                      <a:gd name="textAreaLeft" fmla="*/ 0 w 5040"/>
                      <a:gd name="textAreaRight" fmla="*/ 5040 w 5040"/>
                      <a:gd name="textAreaTop" fmla="*/ 0 h 45720"/>
                      <a:gd name="textAreaBottom" fmla="*/ 46080 h 45720"/>
                    </a:gdLst>
                    <a:ahLst/>
                    <a:rect l="textAreaLeft" t="textAreaTop" r="textAreaRight" b="textAreaBottom"/>
                    <a:pathLst>
                      <a:path w="55" h="345">
                        <a:moveTo>
                          <a:pt x="11" y="334"/>
                        </a:moveTo>
                        <a:lnTo>
                          <a:pt x="11" y="334"/>
                        </a:lnTo>
                        <a:lnTo>
                          <a:pt x="11" y="290"/>
                        </a:lnTo>
                        <a:lnTo>
                          <a:pt x="11" y="245"/>
                        </a:lnTo>
                        <a:lnTo>
                          <a:pt x="22" y="200"/>
                        </a:lnTo>
                        <a:lnTo>
                          <a:pt x="22" y="156"/>
                        </a:lnTo>
                        <a:lnTo>
                          <a:pt x="33" y="122"/>
                        </a:lnTo>
                        <a:lnTo>
                          <a:pt x="33" y="78"/>
                        </a:lnTo>
                        <a:lnTo>
                          <a:pt x="44" y="33"/>
                        </a:lnTo>
                        <a:lnTo>
                          <a:pt x="55" y="0"/>
                        </a:lnTo>
                        <a:lnTo>
                          <a:pt x="44" y="0"/>
                        </a:lnTo>
                        <a:lnTo>
                          <a:pt x="33" y="33"/>
                        </a:lnTo>
                        <a:lnTo>
                          <a:pt x="22" y="78"/>
                        </a:lnTo>
                        <a:lnTo>
                          <a:pt x="11" y="122"/>
                        </a:lnTo>
                        <a:lnTo>
                          <a:pt x="11" y="156"/>
                        </a:lnTo>
                        <a:lnTo>
                          <a:pt x="0" y="200"/>
                        </a:lnTo>
                        <a:lnTo>
                          <a:pt x="0" y="245"/>
                        </a:lnTo>
                        <a:lnTo>
                          <a:pt x="0" y="290"/>
                        </a:lnTo>
                        <a:lnTo>
                          <a:pt x="0" y="334"/>
                        </a:lnTo>
                        <a:lnTo>
                          <a:pt x="0" y="345"/>
                        </a:lnTo>
                        <a:lnTo>
                          <a:pt x="11" y="334"/>
                        </a:lnTo>
                        <a:close/>
                      </a:path>
                    </a:pathLst>
                  </a:custGeom>
                  <a:solidFill>
                    <a:srgbClr val="000000"/>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Freeform 1323"/>
                  <p:cNvSpPr/>
                  <p:nvPr/>
                </p:nvSpPr>
                <p:spPr>
                  <a:xfrm rot="111600">
                    <a:off x="2759040" y="984960"/>
                    <a:ext cx="5040" cy="37080"/>
                  </a:xfrm>
                  <a:custGeom>
                    <a:avLst/>
                    <a:gdLst>
                      <a:gd name="textAreaLeft" fmla="*/ 0 w 5040"/>
                      <a:gd name="textAreaRight" fmla="*/ 5040 w 5040"/>
                      <a:gd name="textAreaTop" fmla="*/ 0 h 37080"/>
                      <a:gd name="textAreaBottom" fmla="*/ 37440 h 37080"/>
                    </a:gdLst>
                    <a:ahLst/>
                    <a:rect l="textAreaLeft" t="textAreaTop" r="textAreaRight" b="textAreaBottom"/>
                    <a:pathLst>
                      <a:path w="55" h="279">
                        <a:moveTo>
                          <a:pt x="44" y="279"/>
                        </a:moveTo>
                        <a:lnTo>
                          <a:pt x="44" y="279"/>
                        </a:lnTo>
                        <a:lnTo>
                          <a:pt x="55" y="245"/>
                        </a:lnTo>
                        <a:lnTo>
                          <a:pt x="55" y="201"/>
                        </a:lnTo>
                        <a:lnTo>
                          <a:pt x="55" y="167"/>
                        </a:lnTo>
                        <a:lnTo>
                          <a:pt x="55" y="123"/>
                        </a:lnTo>
                        <a:lnTo>
                          <a:pt x="44" y="89"/>
                        </a:lnTo>
                        <a:lnTo>
                          <a:pt x="44" y="56"/>
                        </a:lnTo>
                        <a:lnTo>
                          <a:pt x="22" y="22"/>
                        </a:lnTo>
                        <a:lnTo>
                          <a:pt x="11" y="0"/>
                        </a:lnTo>
                        <a:lnTo>
                          <a:pt x="0" y="11"/>
                        </a:lnTo>
                        <a:lnTo>
                          <a:pt x="11" y="22"/>
                        </a:lnTo>
                        <a:lnTo>
                          <a:pt x="22" y="56"/>
                        </a:lnTo>
                        <a:lnTo>
                          <a:pt x="33" y="89"/>
                        </a:lnTo>
                        <a:lnTo>
                          <a:pt x="44" y="123"/>
                        </a:lnTo>
                        <a:lnTo>
                          <a:pt x="44" y="167"/>
                        </a:lnTo>
                        <a:lnTo>
                          <a:pt x="44" y="201"/>
                        </a:lnTo>
                        <a:lnTo>
                          <a:pt x="33" y="234"/>
                        </a:lnTo>
                        <a:lnTo>
                          <a:pt x="22" y="268"/>
                        </a:lnTo>
                        <a:lnTo>
                          <a:pt x="44" y="279"/>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Freeform 1322"/>
                  <p:cNvSpPr/>
                  <p:nvPr/>
                </p:nvSpPr>
                <p:spPr>
                  <a:xfrm rot="111600">
                    <a:off x="2736360" y="1020600"/>
                    <a:ext cx="25920" cy="35280"/>
                  </a:xfrm>
                  <a:custGeom>
                    <a:avLst/>
                    <a:gdLst>
                      <a:gd name="textAreaLeft" fmla="*/ 0 w 25920"/>
                      <a:gd name="textAreaRight" fmla="*/ 26280 w 25920"/>
                      <a:gd name="textAreaTop" fmla="*/ 0 h 35280"/>
                      <a:gd name="textAreaBottom" fmla="*/ 35640 h 35280"/>
                    </a:gdLst>
                    <a:ahLst/>
                    <a:rect l="textAreaLeft" t="textAreaTop" r="textAreaRight" b="textAreaBottom"/>
                    <a:pathLst>
                      <a:path w="267" h="267">
                        <a:moveTo>
                          <a:pt x="11" y="267"/>
                        </a:moveTo>
                        <a:lnTo>
                          <a:pt x="11" y="267"/>
                        </a:lnTo>
                        <a:lnTo>
                          <a:pt x="11" y="245"/>
                        </a:lnTo>
                        <a:lnTo>
                          <a:pt x="33" y="234"/>
                        </a:lnTo>
                        <a:lnTo>
                          <a:pt x="44" y="223"/>
                        </a:lnTo>
                        <a:lnTo>
                          <a:pt x="55" y="200"/>
                        </a:lnTo>
                        <a:lnTo>
                          <a:pt x="78" y="189"/>
                        </a:lnTo>
                        <a:lnTo>
                          <a:pt x="100" y="178"/>
                        </a:lnTo>
                        <a:lnTo>
                          <a:pt x="122" y="156"/>
                        </a:lnTo>
                        <a:lnTo>
                          <a:pt x="145" y="145"/>
                        </a:lnTo>
                        <a:lnTo>
                          <a:pt x="156" y="122"/>
                        </a:lnTo>
                        <a:lnTo>
                          <a:pt x="178" y="111"/>
                        </a:lnTo>
                        <a:lnTo>
                          <a:pt x="200" y="100"/>
                        </a:lnTo>
                        <a:lnTo>
                          <a:pt x="211" y="78"/>
                        </a:lnTo>
                        <a:lnTo>
                          <a:pt x="234" y="67"/>
                        </a:lnTo>
                        <a:lnTo>
                          <a:pt x="245" y="44"/>
                        </a:lnTo>
                        <a:lnTo>
                          <a:pt x="256" y="22"/>
                        </a:lnTo>
                        <a:lnTo>
                          <a:pt x="267" y="11"/>
                        </a:lnTo>
                        <a:lnTo>
                          <a:pt x="245" y="0"/>
                        </a:lnTo>
                        <a:lnTo>
                          <a:pt x="245" y="22"/>
                        </a:lnTo>
                        <a:lnTo>
                          <a:pt x="234" y="33"/>
                        </a:lnTo>
                        <a:lnTo>
                          <a:pt x="223" y="55"/>
                        </a:lnTo>
                        <a:lnTo>
                          <a:pt x="200" y="67"/>
                        </a:lnTo>
                        <a:lnTo>
                          <a:pt x="189" y="89"/>
                        </a:lnTo>
                        <a:lnTo>
                          <a:pt x="167" y="100"/>
                        </a:lnTo>
                        <a:lnTo>
                          <a:pt x="156" y="111"/>
                        </a:lnTo>
                        <a:lnTo>
                          <a:pt x="133" y="133"/>
                        </a:lnTo>
                        <a:lnTo>
                          <a:pt x="111" y="145"/>
                        </a:lnTo>
                        <a:lnTo>
                          <a:pt x="89" y="167"/>
                        </a:lnTo>
                        <a:lnTo>
                          <a:pt x="67" y="178"/>
                        </a:lnTo>
                        <a:lnTo>
                          <a:pt x="55" y="189"/>
                        </a:lnTo>
                        <a:lnTo>
                          <a:pt x="33" y="211"/>
                        </a:lnTo>
                        <a:lnTo>
                          <a:pt x="22" y="223"/>
                        </a:lnTo>
                        <a:lnTo>
                          <a:pt x="11" y="245"/>
                        </a:lnTo>
                        <a:lnTo>
                          <a:pt x="0" y="256"/>
                        </a:lnTo>
                        <a:lnTo>
                          <a:pt x="11" y="267"/>
                        </a:lnTo>
                        <a:close/>
                      </a:path>
                    </a:pathLst>
                  </a:custGeom>
                  <a:solidFill>
                    <a:srgbClr val="00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1321"/>
                  <p:cNvSpPr/>
                  <p:nvPr/>
                </p:nvSpPr>
                <p:spPr>
                  <a:xfrm rot="111600">
                    <a:off x="2729520" y="1053720"/>
                    <a:ext cx="6480" cy="60480"/>
                  </a:xfrm>
                  <a:custGeom>
                    <a:avLst/>
                    <a:gdLst>
                      <a:gd name="textAreaLeft" fmla="*/ 0 w 6480"/>
                      <a:gd name="textAreaRight" fmla="*/ 6840 w 6480"/>
                      <a:gd name="textAreaTop" fmla="*/ 0 h 60480"/>
                      <a:gd name="textAreaBottom" fmla="*/ 60840 h 60480"/>
                    </a:gdLst>
                    <a:ahLst/>
                    <a:rect l="textAreaLeft" t="textAreaTop" r="textAreaRight" b="textAreaBottom"/>
                    <a:pathLst>
                      <a:path w="67" h="457">
                        <a:moveTo>
                          <a:pt x="67" y="457"/>
                        </a:moveTo>
                        <a:lnTo>
                          <a:pt x="67" y="457"/>
                        </a:lnTo>
                        <a:lnTo>
                          <a:pt x="45" y="401"/>
                        </a:lnTo>
                        <a:lnTo>
                          <a:pt x="33" y="357"/>
                        </a:lnTo>
                        <a:lnTo>
                          <a:pt x="22" y="290"/>
                        </a:lnTo>
                        <a:lnTo>
                          <a:pt x="11" y="234"/>
                        </a:lnTo>
                        <a:lnTo>
                          <a:pt x="22" y="167"/>
                        </a:lnTo>
                        <a:lnTo>
                          <a:pt x="22" y="111"/>
                        </a:lnTo>
                        <a:lnTo>
                          <a:pt x="33" y="56"/>
                        </a:lnTo>
                        <a:lnTo>
                          <a:pt x="67" y="11"/>
                        </a:lnTo>
                        <a:lnTo>
                          <a:pt x="56" y="0"/>
                        </a:lnTo>
                        <a:lnTo>
                          <a:pt x="22" y="45"/>
                        </a:lnTo>
                        <a:lnTo>
                          <a:pt x="11" y="100"/>
                        </a:lnTo>
                        <a:lnTo>
                          <a:pt x="0" y="167"/>
                        </a:lnTo>
                        <a:lnTo>
                          <a:pt x="0" y="234"/>
                        </a:lnTo>
                        <a:lnTo>
                          <a:pt x="0" y="290"/>
                        </a:lnTo>
                        <a:lnTo>
                          <a:pt x="22" y="357"/>
                        </a:lnTo>
                        <a:lnTo>
                          <a:pt x="33" y="412"/>
                        </a:lnTo>
                        <a:lnTo>
                          <a:pt x="56" y="457"/>
                        </a:lnTo>
                        <a:lnTo>
                          <a:pt x="67" y="457"/>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1320"/>
                  <p:cNvSpPr/>
                  <p:nvPr/>
                </p:nvSpPr>
                <p:spPr>
                  <a:xfrm rot="111600">
                    <a:off x="2733840" y="1104480"/>
                    <a:ext cx="3960" cy="11520"/>
                  </a:xfrm>
                  <a:custGeom>
                    <a:avLst/>
                    <a:gdLst>
                      <a:gd name="textAreaLeft" fmla="*/ 0 w 3960"/>
                      <a:gd name="textAreaRight" fmla="*/ 4320 w 3960"/>
                      <a:gd name="textAreaTop" fmla="*/ 0 h 11520"/>
                      <a:gd name="textAreaBottom" fmla="*/ 11880 h 11520"/>
                    </a:gdLst>
                    <a:ahLst/>
                    <a:rect l="textAreaLeft" t="textAreaTop" r="textAreaRight" b="textAreaBottom"/>
                    <a:pathLst>
                      <a:path w="44" h="89">
                        <a:moveTo>
                          <a:pt x="44" y="22"/>
                        </a:moveTo>
                        <a:lnTo>
                          <a:pt x="44" y="22"/>
                        </a:lnTo>
                        <a:lnTo>
                          <a:pt x="44" y="0"/>
                        </a:lnTo>
                        <a:lnTo>
                          <a:pt x="33" y="11"/>
                        </a:lnTo>
                        <a:lnTo>
                          <a:pt x="22" y="22"/>
                        </a:lnTo>
                        <a:lnTo>
                          <a:pt x="22" y="45"/>
                        </a:lnTo>
                        <a:lnTo>
                          <a:pt x="11" y="56"/>
                        </a:lnTo>
                        <a:lnTo>
                          <a:pt x="11" y="67"/>
                        </a:lnTo>
                        <a:lnTo>
                          <a:pt x="0" y="78"/>
                        </a:lnTo>
                        <a:lnTo>
                          <a:pt x="11" y="78"/>
                        </a:lnTo>
                        <a:lnTo>
                          <a:pt x="0" y="78"/>
                        </a:lnTo>
                        <a:lnTo>
                          <a:pt x="11" y="89"/>
                        </a:lnTo>
                        <a:lnTo>
                          <a:pt x="22" y="78"/>
                        </a:lnTo>
                        <a:lnTo>
                          <a:pt x="22" y="67"/>
                        </a:lnTo>
                        <a:lnTo>
                          <a:pt x="33" y="45"/>
                        </a:lnTo>
                        <a:lnTo>
                          <a:pt x="33" y="33"/>
                        </a:lnTo>
                        <a:lnTo>
                          <a:pt x="44" y="22"/>
                        </a:lnTo>
                        <a:lnTo>
                          <a:pt x="33" y="22"/>
                        </a:lnTo>
                        <a:lnTo>
                          <a:pt x="44" y="22"/>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1319"/>
                  <p:cNvSpPr/>
                  <p:nvPr/>
                </p:nvSpPr>
                <p:spPr>
                  <a:xfrm rot="111600">
                    <a:off x="2736720" y="1107360"/>
                    <a:ext cx="16200" cy="35640"/>
                  </a:xfrm>
                  <a:custGeom>
                    <a:avLst/>
                    <a:gdLst>
                      <a:gd name="textAreaLeft" fmla="*/ 0 w 16200"/>
                      <a:gd name="textAreaRight" fmla="*/ 16560 w 16200"/>
                      <a:gd name="textAreaTop" fmla="*/ 0 h 35640"/>
                      <a:gd name="textAreaBottom" fmla="*/ 36000 h 35640"/>
                    </a:gdLst>
                    <a:ahLst/>
                    <a:rect l="textAreaLeft" t="textAreaTop" r="textAreaRight" b="textAreaBottom"/>
                    <a:pathLst>
                      <a:path w="167" h="268">
                        <a:moveTo>
                          <a:pt x="156" y="268"/>
                        </a:moveTo>
                        <a:lnTo>
                          <a:pt x="167" y="268"/>
                        </a:lnTo>
                        <a:lnTo>
                          <a:pt x="134" y="234"/>
                        </a:lnTo>
                        <a:lnTo>
                          <a:pt x="112" y="212"/>
                        </a:lnTo>
                        <a:lnTo>
                          <a:pt x="78" y="190"/>
                        </a:lnTo>
                        <a:lnTo>
                          <a:pt x="56" y="167"/>
                        </a:lnTo>
                        <a:lnTo>
                          <a:pt x="45" y="134"/>
                        </a:lnTo>
                        <a:lnTo>
                          <a:pt x="22" y="89"/>
                        </a:lnTo>
                        <a:lnTo>
                          <a:pt x="22" y="45"/>
                        </a:lnTo>
                        <a:lnTo>
                          <a:pt x="11" y="0"/>
                        </a:lnTo>
                        <a:lnTo>
                          <a:pt x="0" y="0"/>
                        </a:lnTo>
                        <a:lnTo>
                          <a:pt x="0" y="45"/>
                        </a:lnTo>
                        <a:lnTo>
                          <a:pt x="11" y="101"/>
                        </a:lnTo>
                        <a:lnTo>
                          <a:pt x="22" y="134"/>
                        </a:lnTo>
                        <a:lnTo>
                          <a:pt x="45" y="167"/>
                        </a:lnTo>
                        <a:lnTo>
                          <a:pt x="78" y="201"/>
                        </a:lnTo>
                        <a:lnTo>
                          <a:pt x="100" y="223"/>
                        </a:lnTo>
                        <a:lnTo>
                          <a:pt x="134" y="245"/>
                        </a:lnTo>
                        <a:lnTo>
                          <a:pt x="156" y="268"/>
                        </a:lnTo>
                        <a:lnTo>
                          <a:pt x="167" y="268"/>
                        </a:lnTo>
                        <a:lnTo>
                          <a:pt x="156" y="268"/>
                        </a:lnTo>
                        <a:close/>
                      </a:path>
                    </a:pathLst>
                  </a:custGeom>
                  <a:solidFill>
                    <a:srgbClr val="000000"/>
                  </a:soli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1318"/>
                  <p:cNvSpPr/>
                  <p:nvPr/>
                </p:nvSpPr>
                <p:spPr>
                  <a:xfrm rot="111600">
                    <a:off x="2751480" y="1134720"/>
                    <a:ext cx="3240" cy="8640"/>
                  </a:xfrm>
                  <a:custGeom>
                    <a:avLst/>
                    <a:gdLst>
                      <a:gd name="textAreaLeft" fmla="*/ 0 w 3240"/>
                      <a:gd name="textAreaRight" fmla="*/ 3600 w 3240"/>
                      <a:gd name="textAreaTop" fmla="*/ 0 h 8640"/>
                      <a:gd name="textAreaBottom" fmla="*/ 9000 h 8640"/>
                    </a:gdLst>
                    <a:ahLst/>
                    <a:rect l="textAreaLeft" t="textAreaTop" r="textAreaRight" b="textAreaBottom"/>
                    <a:pathLst>
                      <a:path w="34" h="67">
                        <a:moveTo>
                          <a:pt x="34" y="0"/>
                        </a:moveTo>
                        <a:lnTo>
                          <a:pt x="22" y="0"/>
                        </a:lnTo>
                        <a:lnTo>
                          <a:pt x="22" y="11"/>
                        </a:lnTo>
                        <a:lnTo>
                          <a:pt x="11" y="22"/>
                        </a:lnTo>
                        <a:lnTo>
                          <a:pt x="11" y="44"/>
                        </a:lnTo>
                        <a:lnTo>
                          <a:pt x="0" y="67"/>
                        </a:lnTo>
                        <a:lnTo>
                          <a:pt x="11" y="67"/>
                        </a:lnTo>
                        <a:lnTo>
                          <a:pt x="22" y="44"/>
                        </a:lnTo>
                        <a:lnTo>
                          <a:pt x="34" y="22"/>
                        </a:lnTo>
                        <a:lnTo>
                          <a:pt x="34" y="11"/>
                        </a:lnTo>
                        <a:lnTo>
                          <a:pt x="34" y="0"/>
                        </a:lnTo>
                        <a:lnTo>
                          <a:pt x="22" y="0"/>
                        </a:lnTo>
                        <a:lnTo>
                          <a:pt x="34" y="0"/>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1317"/>
                  <p:cNvSpPr/>
                  <p:nvPr/>
                </p:nvSpPr>
                <p:spPr>
                  <a:xfrm rot="111600">
                    <a:off x="2751120" y="1134720"/>
                    <a:ext cx="4320" cy="41400"/>
                  </a:xfrm>
                  <a:custGeom>
                    <a:avLst/>
                    <a:gdLst>
                      <a:gd name="textAreaLeft" fmla="*/ 0 w 4320"/>
                      <a:gd name="textAreaRight" fmla="*/ 4320 w 4320"/>
                      <a:gd name="textAreaTop" fmla="*/ 0 h 41400"/>
                      <a:gd name="textAreaBottom" fmla="*/ 41760 h 41400"/>
                    </a:gdLst>
                    <a:ahLst/>
                    <a:rect l="textAreaLeft" t="textAreaTop" r="textAreaRight" b="textAreaBottom"/>
                    <a:pathLst>
                      <a:path w="45" h="312">
                        <a:moveTo>
                          <a:pt x="0" y="301"/>
                        </a:moveTo>
                        <a:lnTo>
                          <a:pt x="11" y="301"/>
                        </a:lnTo>
                        <a:lnTo>
                          <a:pt x="22" y="278"/>
                        </a:lnTo>
                        <a:lnTo>
                          <a:pt x="34" y="245"/>
                        </a:lnTo>
                        <a:lnTo>
                          <a:pt x="34" y="200"/>
                        </a:lnTo>
                        <a:lnTo>
                          <a:pt x="45" y="156"/>
                        </a:lnTo>
                        <a:lnTo>
                          <a:pt x="45" y="122"/>
                        </a:lnTo>
                        <a:lnTo>
                          <a:pt x="45" y="78"/>
                        </a:lnTo>
                        <a:lnTo>
                          <a:pt x="45" y="33"/>
                        </a:lnTo>
                        <a:lnTo>
                          <a:pt x="34" y="0"/>
                        </a:lnTo>
                        <a:lnTo>
                          <a:pt x="22" y="0"/>
                        </a:lnTo>
                        <a:lnTo>
                          <a:pt x="22" y="33"/>
                        </a:lnTo>
                        <a:lnTo>
                          <a:pt x="34" y="78"/>
                        </a:lnTo>
                        <a:lnTo>
                          <a:pt x="22" y="122"/>
                        </a:lnTo>
                        <a:lnTo>
                          <a:pt x="22" y="156"/>
                        </a:lnTo>
                        <a:lnTo>
                          <a:pt x="22" y="200"/>
                        </a:lnTo>
                        <a:lnTo>
                          <a:pt x="11" y="234"/>
                        </a:lnTo>
                        <a:lnTo>
                          <a:pt x="11" y="267"/>
                        </a:lnTo>
                        <a:lnTo>
                          <a:pt x="0" y="301"/>
                        </a:lnTo>
                        <a:lnTo>
                          <a:pt x="11" y="312"/>
                        </a:lnTo>
                        <a:lnTo>
                          <a:pt x="0" y="301"/>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Freeform 1316"/>
                  <p:cNvSpPr/>
                  <p:nvPr/>
                </p:nvSpPr>
                <p:spPr>
                  <a:xfrm rot="111600">
                    <a:off x="2750760" y="1127520"/>
                    <a:ext cx="23760" cy="48960"/>
                  </a:xfrm>
                  <a:custGeom>
                    <a:avLst/>
                    <a:gdLst>
                      <a:gd name="textAreaLeft" fmla="*/ 0 w 23760"/>
                      <a:gd name="textAreaRight" fmla="*/ 24120 w 23760"/>
                      <a:gd name="textAreaTop" fmla="*/ 0 h 48960"/>
                      <a:gd name="textAreaBottom" fmla="*/ 49320 h 48960"/>
                    </a:gdLst>
                    <a:ahLst/>
                    <a:rect l="textAreaLeft" t="textAreaTop" r="textAreaRight" b="textAreaBottom"/>
                    <a:pathLst>
                      <a:path w="245" h="368">
                        <a:moveTo>
                          <a:pt x="245" y="0"/>
                        </a:moveTo>
                        <a:lnTo>
                          <a:pt x="223" y="11"/>
                        </a:lnTo>
                        <a:lnTo>
                          <a:pt x="223" y="34"/>
                        </a:lnTo>
                        <a:lnTo>
                          <a:pt x="223" y="67"/>
                        </a:lnTo>
                        <a:lnTo>
                          <a:pt x="223" y="89"/>
                        </a:lnTo>
                        <a:lnTo>
                          <a:pt x="212" y="112"/>
                        </a:lnTo>
                        <a:lnTo>
                          <a:pt x="201" y="134"/>
                        </a:lnTo>
                        <a:lnTo>
                          <a:pt x="190" y="156"/>
                        </a:lnTo>
                        <a:lnTo>
                          <a:pt x="167" y="190"/>
                        </a:lnTo>
                        <a:lnTo>
                          <a:pt x="156" y="212"/>
                        </a:lnTo>
                        <a:lnTo>
                          <a:pt x="134" y="223"/>
                        </a:lnTo>
                        <a:lnTo>
                          <a:pt x="112" y="245"/>
                        </a:lnTo>
                        <a:lnTo>
                          <a:pt x="89" y="268"/>
                        </a:lnTo>
                        <a:lnTo>
                          <a:pt x="78" y="290"/>
                        </a:lnTo>
                        <a:lnTo>
                          <a:pt x="56" y="301"/>
                        </a:lnTo>
                        <a:lnTo>
                          <a:pt x="34" y="323"/>
                        </a:lnTo>
                        <a:lnTo>
                          <a:pt x="22" y="334"/>
                        </a:lnTo>
                        <a:lnTo>
                          <a:pt x="0" y="357"/>
                        </a:lnTo>
                        <a:lnTo>
                          <a:pt x="11" y="368"/>
                        </a:lnTo>
                        <a:lnTo>
                          <a:pt x="34" y="346"/>
                        </a:lnTo>
                        <a:lnTo>
                          <a:pt x="45" y="334"/>
                        </a:lnTo>
                        <a:lnTo>
                          <a:pt x="67" y="312"/>
                        </a:lnTo>
                        <a:lnTo>
                          <a:pt x="89" y="301"/>
                        </a:lnTo>
                        <a:lnTo>
                          <a:pt x="101" y="279"/>
                        </a:lnTo>
                        <a:lnTo>
                          <a:pt x="123" y="256"/>
                        </a:lnTo>
                        <a:lnTo>
                          <a:pt x="145" y="234"/>
                        </a:lnTo>
                        <a:lnTo>
                          <a:pt x="167" y="212"/>
                        </a:lnTo>
                        <a:lnTo>
                          <a:pt x="179" y="190"/>
                        </a:lnTo>
                        <a:lnTo>
                          <a:pt x="201" y="167"/>
                        </a:lnTo>
                        <a:lnTo>
                          <a:pt x="212" y="145"/>
                        </a:lnTo>
                        <a:lnTo>
                          <a:pt x="223" y="123"/>
                        </a:lnTo>
                        <a:lnTo>
                          <a:pt x="234" y="89"/>
                        </a:lnTo>
                        <a:lnTo>
                          <a:pt x="234" y="67"/>
                        </a:lnTo>
                        <a:lnTo>
                          <a:pt x="245" y="34"/>
                        </a:lnTo>
                        <a:lnTo>
                          <a:pt x="245" y="11"/>
                        </a:lnTo>
                        <a:lnTo>
                          <a:pt x="234" y="11"/>
                        </a:lnTo>
                        <a:lnTo>
                          <a:pt x="245" y="0"/>
                        </a:lnTo>
                        <a:close/>
                      </a:path>
                    </a:pathLst>
                  </a:custGeom>
                  <a:solidFill>
                    <a:srgbClr val="000000"/>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Freeform 1315"/>
                  <p:cNvSpPr/>
                  <p:nvPr/>
                </p:nvSpPr>
                <p:spPr>
                  <a:xfrm rot="111600">
                    <a:off x="2774520" y="1127880"/>
                    <a:ext cx="4320" cy="8640"/>
                  </a:xfrm>
                  <a:custGeom>
                    <a:avLst/>
                    <a:gdLst>
                      <a:gd name="textAreaLeft" fmla="*/ 0 w 4320"/>
                      <a:gd name="textAreaRight" fmla="*/ 4320 w 4320"/>
                      <a:gd name="textAreaTop" fmla="*/ 0 h 8640"/>
                      <a:gd name="textAreaBottom" fmla="*/ 9000 h 8640"/>
                    </a:gdLst>
                    <a:ahLst/>
                    <a:rect l="textAreaLeft" t="textAreaTop" r="textAreaRight" b="textAreaBottom"/>
                    <a:pathLst>
                      <a:path w="45" h="67">
                        <a:moveTo>
                          <a:pt x="34" y="56"/>
                        </a:moveTo>
                        <a:lnTo>
                          <a:pt x="45" y="56"/>
                        </a:lnTo>
                        <a:lnTo>
                          <a:pt x="34" y="45"/>
                        </a:lnTo>
                        <a:lnTo>
                          <a:pt x="23" y="22"/>
                        </a:lnTo>
                        <a:lnTo>
                          <a:pt x="11" y="0"/>
                        </a:lnTo>
                        <a:lnTo>
                          <a:pt x="0" y="11"/>
                        </a:lnTo>
                        <a:lnTo>
                          <a:pt x="11" y="22"/>
                        </a:lnTo>
                        <a:lnTo>
                          <a:pt x="11" y="34"/>
                        </a:lnTo>
                        <a:lnTo>
                          <a:pt x="23" y="45"/>
                        </a:lnTo>
                        <a:lnTo>
                          <a:pt x="34" y="67"/>
                        </a:lnTo>
                        <a:lnTo>
                          <a:pt x="45" y="67"/>
                        </a:lnTo>
                        <a:lnTo>
                          <a:pt x="34" y="56"/>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Freeform 1314"/>
                  <p:cNvSpPr/>
                  <p:nvPr/>
                </p:nvSpPr>
                <p:spPr>
                  <a:xfrm rot="111600">
                    <a:off x="2778840" y="1064520"/>
                    <a:ext cx="10800" cy="72360"/>
                  </a:xfrm>
                  <a:custGeom>
                    <a:avLst/>
                    <a:gdLst>
                      <a:gd name="textAreaLeft" fmla="*/ 0 w 10800"/>
                      <a:gd name="textAreaRight" fmla="*/ 10800 w 10800"/>
                      <a:gd name="textAreaTop" fmla="*/ 0 h 72360"/>
                      <a:gd name="textAreaBottom" fmla="*/ 72720 h 72360"/>
                    </a:gdLst>
                    <a:ahLst/>
                    <a:rect l="textAreaLeft" t="textAreaTop" r="textAreaRight" b="textAreaBottom"/>
                    <a:pathLst>
                      <a:path w="111" h="546">
                        <a:moveTo>
                          <a:pt x="22" y="0"/>
                        </a:moveTo>
                        <a:lnTo>
                          <a:pt x="22" y="0"/>
                        </a:lnTo>
                        <a:lnTo>
                          <a:pt x="67" y="78"/>
                        </a:lnTo>
                        <a:lnTo>
                          <a:pt x="89" y="156"/>
                        </a:lnTo>
                        <a:lnTo>
                          <a:pt x="100" y="234"/>
                        </a:lnTo>
                        <a:lnTo>
                          <a:pt x="89" y="312"/>
                        </a:lnTo>
                        <a:lnTo>
                          <a:pt x="78" y="390"/>
                        </a:lnTo>
                        <a:lnTo>
                          <a:pt x="55" y="446"/>
                        </a:lnTo>
                        <a:lnTo>
                          <a:pt x="22" y="501"/>
                        </a:lnTo>
                        <a:lnTo>
                          <a:pt x="0" y="535"/>
                        </a:lnTo>
                        <a:lnTo>
                          <a:pt x="11" y="546"/>
                        </a:lnTo>
                        <a:lnTo>
                          <a:pt x="33" y="513"/>
                        </a:lnTo>
                        <a:lnTo>
                          <a:pt x="67" y="457"/>
                        </a:lnTo>
                        <a:lnTo>
                          <a:pt x="89" y="390"/>
                        </a:lnTo>
                        <a:lnTo>
                          <a:pt x="100" y="312"/>
                        </a:lnTo>
                        <a:lnTo>
                          <a:pt x="111" y="234"/>
                        </a:lnTo>
                        <a:lnTo>
                          <a:pt x="100" y="156"/>
                        </a:lnTo>
                        <a:lnTo>
                          <a:pt x="78" y="78"/>
                        </a:lnTo>
                        <a:lnTo>
                          <a:pt x="33" y="0"/>
                        </a:lnTo>
                        <a:lnTo>
                          <a:pt x="22" y="0"/>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1313"/>
                  <p:cNvSpPr/>
                  <p:nvPr/>
                </p:nvSpPr>
                <p:spPr>
                  <a:xfrm rot="111600">
                    <a:off x="2769840" y="1012320"/>
                    <a:ext cx="14040" cy="51840"/>
                  </a:xfrm>
                  <a:custGeom>
                    <a:avLst/>
                    <a:gdLst>
                      <a:gd name="textAreaLeft" fmla="*/ 0 w 14040"/>
                      <a:gd name="textAreaRight" fmla="*/ 14400 w 14040"/>
                      <a:gd name="textAreaTop" fmla="*/ 0 h 51840"/>
                      <a:gd name="textAreaBottom" fmla="*/ 52200 h 51840"/>
                    </a:gdLst>
                    <a:ahLst/>
                    <a:rect l="textAreaLeft" t="textAreaTop" r="textAreaRight" b="textAreaBottom"/>
                    <a:pathLst>
                      <a:path w="145" h="390">
                        <a:moveTo>
                          <a:pt x="0" y="11"/>
                        </a:moveTo>
                        <a:lnTo>
                          <a:pt x="0" y="11"/>
                        </a:lnTo>
                        <a:lnTo>
                          <a:pt x="11" y="44"/>
                        </a:lnTo>
                        <a:lnTo>
                          <a:pt x="34" y="78"/>
                        </a:lnTo>
                        <a:lnTo>
                          <a:pt x="45" y="122"/>
                        </a:lnTo>
                        <a:lnTo>
                          <a:pt x="56" y="178"/>
                        </a:lnTo>
                        <a:lnTo>
                          <a:pt x="67" y="223"/>
                        </a:lnTo>
                        <a:lnTo>
                          <a:pt x="89" y="278"/>
                        </a:lnTo>
                        <a:lnTo>
                          <a:pt x="112" y="334"/>
                        </a:lnTo>
                        <a:lnTo>
                          <a:pt x="134" y="390"/>
                        </a:lnTo>
                        <a:lnTo>
                          <a:pt x="145" y="390"/>
                        </a:lnTo>
                        <a:lnTo>
                          <a:pt x="123" y="334"/>
                        </a:lnTo>
                        <a:lnTo>
                          <a:pt x="101" y="278"/>
                        </a:lnTo>
                        <a:lnTo>
                          <a:pt x="78" y="223"/>
                        </a:lnTo>
                        <a:lnTo>
                          <a:pt x="67" y="178"/>
                        </a:lnTo>
                        <a:lnTo>
                          <a:pt x="56" y="122"/>
                        </a:lnTo>
                        <a:lnTo>
                          <a:pt x="45" y="78"/>
                        </a:lnTo>
                        <a:lnTo>
                          <a:pt x="34" y="44"/>
                        </a:lnTo>
                        <a:lnTo>
                          <a:pt x="11" y="0"/>
                        </a:lnTo>
                        <a:lnTo>
                          <a:pt x="11" y="11"/>
                        </a:lnTo>
                        <a:lnTo>
                          <a:pt x="0" y="11"/>
                        </a:lnTo>
                        <a:close/>
                      </a:path>
                    </a:pathLst>
                  </a:custGeom>
                  <a:solidFill>
                    <a:srgbClr val="0000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Freeform 1312"/>
                  <p:cNvSpPr/>
                  <p:nvPr/>
                </p:nvSpPr>
                <p:spPr>
                  <a:xfrm rot="111600">
                    <a:off x="2771280" y="991440"/>
                    <a:ext cx="7560" cy="21960"/>
                  </a:xfrm>
                  <a:custGeom>
                    <a:avLst/>
                    <a:gdLst>
                      <a:gd name="textAreaLeft" fmla="*/ 0 w 7560"/>
                      <a:gd name="textAreaRight" fmla="*/ 7920 w 7560"/>
                      <a:gd name="textAreaTop" fmla="*/ 0 h 21960"/>
                      <a:gd name="textAreaBottom" fmla="*/ 22320 h 21960"/>
                    </a:gdLst>
                    <a:ahLst/>
                    <a:rect l="textAreaLeft" t="textAreaTop" r="textAreaRight" b="textAreaBottom"/>
                    <a:pathLst>
                      <a:path w="78" h="167">
                        <a:moveTo>
                          <a:pt x="67" y="0"/>
                        </a:moveTo>
                        <a:lnTo>
                          <a:pt x="67" y="0"/>
                        </a:lnTo>
                        <a:lnTo>
                          <a:pt x="56" y="11"/>
                        </a:lnTo>
                        <a:lnTo>
                          <a:pt x="45" y="33"/>
                        </a:lnTo>
                        <a:lnTo>
                          <a:pt x="34" y="55"/>
                        </a:lnTo>
                        <a:lnTo>
                          <a:pt x="23" y="78"/>
                        </a:lnTo>
                        <a:lnTo>
                          <a:pt x="11" y="100"/>
                        </a:lnTo>
                        <a:lnTo>
                          <a:pt x="11" y="122"/>
                        </a:lnTo>
                        <a:lnTo>
                          <a:pt x="0" y="145"/>
                        </a:lnTo>
                        <a:lnTo>
                          <a:pt x="0" y="167"/>
                        </a:lnTo>
                        <a:lnTo>
                          <a:pt x="11" y="167"/>
                        </a:lnTo>
                        <a:lnTo>
                          <a:pt x="11" y="145"/>
                        </a:lnTo>
                        <a:lnTo>
                          <a:pt x="23" y="122"/>
                        </a:lnTo>
                        <a:lnTo>
                          <a:pt x="34" y="100"/>
                        </a:lnTo>
                        <a:lnTo>
                          <a:pt x="45" y="78"/>
                        </a:lnTo>
                        <a:lnTo>
                          <a:pt x="56" y="55"/>
                        </a:lnTo>
                        <a:lnTo>
                          <a:pt x="67" y="33"/>
                        </a:lnTo>
                        <a:lnTo>
                          <a:pt x="67" y="22"/>
                        </a:lnTo>
                        <a:lnTo>
                          <a:pt x="78" y="11"/>
                        </a:lnTo>
                        <a:lnTo>
                          <a:pt x="67"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1311"/>
                  <p:cNvSpPr/>
                  <p:nvPr/>
                </p:nvSpPr>
                <p:spPr>
                  <a:xfrm rot="111600">
                    <a:off x="2778120" y="988920"/>
                    <a:ext cx="1800" cy="4320"/>
                  </a:xfrm>
                  <a:custGeom>
                    <a:avLst/>
                    <a:gdLst>
                      <a:gd name="textAreaLeft" fmla="*/ 0 w 1800"/>
                      <a:gd name="textAreaRight" fmla="*/ 2160 w 1800"/>
                      <a:gd name="textAreaTop" fmla="*/ 0 h 4320"/>
                      <a:gd name="textAreaBottom" fmla="*/ 4680 h 4320"/>
                    </a:gdLst>
                    <a:ahLst/>
                    <a:rect l="textAreaLeft" t="textAreaTop" r="textAreaRight" b="textAreaBottom"/>
                    <a:pathLst>
                      <a:path w="22" h="34">
                        <a:moveTo>
                          <a:pt x="22" y="0"/>
                        </a:moveTo>
                        <a:lnTo>
                          <a:pt x="11" y="12"/>
                        </a:lnTo>
                        <a:lnTo>
                          <a:pt x="0" y="23"/>
                        </a:lnTo>
                        <a:lnTo>
                          <a:pt x="11" y="34"/>
                        </a:lnTo>
                        <a:lnTo>
                          <a:pt x="22" y="23"/>
                        </a:lnTo>
                        <a:lnTo>
                          <a:pt x="22" y="0"/>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reeform 1310"/>
                  <p:cNvSpPr/>
                  <p:nvPr/>
                </p:nvSpPr>
                <p:spPr>
                  <a:xfrm rot="111600">
                    <a:off x="2780280" y="983160"/>
                    <a:ext cx="25920" cy="8640"/>
                  </a:xfrm>
                  <a:custGeom>
                    <a:avLst/>
                    <a:gdLst>
                      <a:gd name="textAreaLeft" fmla="*/ 0 w 25920"/>
                      <a:gd name="textAreaRight" fmla="*/ 26280 w 25920"/>
                      <a:gd name="textAreaTop" fmla="*/ 0 h 8640"/>
                      <a:gd name="textAreaBottom" fmla="*/ 9000 h 8640"/>
                    </a:gdLst>
                    <a:ahLst/>
                    <a:rect l="textAreaLeft" t="textAreaTop" r="textAreaRight" b="textAreaBottom"/>
                    <a:pathLst>
                      <a:path w="268" h="67">
                        <a:moveTo>
                          <a:pt x="246" y="11"/>
                        </a:moveTo>
                        <a:lnTo>
                          <a:pt x="257" y="0"/>
                        </a:lnTo>
                        <a:lnTo>
                          <a:pt x="234" y="11"/>
                        </a:lnTo>
                        <a:lnTo>
                          <a:pt x="223" y="22"/>
                        </a:lnTo>
                        <a:lnTo>
                          <a:pt x="212" y="22"/>
                        </a:lnTo>
                        <a:lnTo>
                          <a:pt x="190" y="33"/>
                        </a:lnTo>
                        <a:lnTo>
                          <a:pt x="179" y="33"/>
                        </a:lnTo>
                        <a:lnTo>
                          <a:pt x="156" y="33"/>
                        </a:lnTo>
                        <a:lnTo>
                          <a:pt x="145" y="33"/>
                        </a:lnTo>
                        <a:lnTo>
                          <a:pt x="123" y="33"/>
                        </a:lnTo>
                        <a:lnTo>
                          <a:pt x="101" y="33"/>
                        </a:lnTo>
                        <a:lnTo>
                          <a:pt x="90" y="33"/>
                        </a:lnTo>
                        <a:lnTo>
                          <a:pt x="67" y="33"/>
                        </a:lnTo>
                        <a:lnTo>
                          <a:pt x="56" y="33"/>
                        </a:lnTo>
                        <a:lnTo>
                          <a:pt x="45" y="33"/>
                        </a:lnTo>
                        <a:lnTo>
                          <a:pt x="23" y="44"/>
                        </a:lnTo>
                        <a:lnTo>
                          <a:pt x="12" y="44"/>
                        </a:lnTo>
                        <a:lnTo>
                          <a:pt x="0" y="44"/>
                        </a:lnTo>
                        <a:lnTo>
                          <a:pt x="0" y="67"/>
                        </a:lnTo>
                        <a:lnTo>
                          <a:pt x="12" y="56"/>
                        </a:lnTo>
                        <a:lnTo>
                          <a:pt x="23" y="56"/>
                        </a:lnTo>
                        <a:lnTo>
                          <a:pt x="45" y="56"/>
                        </a:lnTo>
                        <a:lnTo>
                          <a:pt x="56" y="56"/>
                        </a:lnTo>
                        <a:lnTo>
                          <a:pt x="67" y="44"/>
                        </a:lnTo>
                        <a:lnTo>
                          <a:pt x="90" y="44"/>
                        </a:lnTo>
                        <a:lnTo>
                          <a:pt x="101" y="44"/>
                        </a:lnTo>
                        <a:lnTo>
                          <a:pt x="123" y="44"/>
                        </a:lnTo>
                        <a:lnTo>
                          <a:pt x="145" y="44"/>
                        </a:lnTo>
                        <a:lnTo>
                          <a:pt x="156" y="44"/>
                        </a:lnTo>
                        <a:lnTo>
                          <a:pt x="179" y="44"/>
                        </a:lnTo>
                        <a:lnTo>
                          <a:pt x="190" y="44"/>
                        </a:lnTo>
                        <a:lnTo>
                          <a:pt x="212" y="33"/>
                        </a:lnTo>
                        <a:lnTo>
                          <a:pt x="234" y="33"/>
                        </a:lnTo>
                        <a:lnTo>
                          <a:pt x="246" y="22"/>
                        </a:lnTo>
                        <a:lnTo>
                          <a:pt x="257" y="11"/>
                        </a:lnTo>
                        <a:lnTo>
                          <a:pt x="268" y="11"/>
                        </a:lnTo>
                        <a:lnTo>
                          <a:pt x="246" y="11"/>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1309"/>
                  <p:cNvSpPr/>
                  <p:nvPr/>
                </p:nvSpPr>
                <p:spPr>
                  <a:xfrm rot="111600">
                    <a:off x="2804400" y="961560"/>
                    <a:ext cx="18360" cy="23400"/>
                  </a:xfrm>
                  <a:custGeom>
                    <a:avLst/>
                    <a:gdLst>
                      <a:gd name="textAreaLeft" fmla="*/ 0 w 18360"/>
                      <a:gd name="textAreaRight" fmla="*/ 18720 w 18360"/>
                      <a:gd name="textAreaTop" fmla="*/ 0 h 23400"/>
                      <a:gd name="textAreaBottom" fmla="*/ 23760 h 23400"/>
                    </a:gdLst>
                    <a:ahLst/>
                    <a:rect l="textAreaLeft" t="textAreaTop" r="textAreaRight" b="textAreaBottom"/>
                    <a:pathLst>
                      <a:path w="189" h="178">
                        <a:moveTo>
                          <a:pt x="178" y="0"/>
                        </a:moveTo>
                        <a:lnTo>
                          <a:pt x="178" y="0"/>
                        </a:lnTo>
                        <a:lnTo>
                          <a:pt x="156" y="22"/>
                        </a:lnTo>
                        <a:lnTo>
                          <a:pt x="144" y="44"/>
                        </a:lnTo>
                        <a:lnTo>
                          <a:pt x="111" y="67"/>
                        </a:lnTo>
                        <a:lnTo>
                          <a:pt x="89" y="89"/>
                        </a:lnTo>
                        <a:lnTo>
                          <a:pt x="66" y="111"/>
                        </a:lnTo>
                        <a:lnTo>
                          <a:pt x="33" y="133"/>
                        </a:lnTo>
                        <a:lnTo>
                          <a:pt x="22" y="156"/>
                        </a:lnTo>
                        <a:lnTo>
                          <a:pt x="0" y="178"/>
                        </a:lnTo>
                        <a:lnTo>
                          <a:pt x="22" y="178"/>
                        </a:lnTo>
                        <a:lnTo>
                          <a:pt x="33" y="156"/>
                        </a:lnTo>
                        <a:lnTo>
                          <a:pt x="44" y="145"/>
                        </a:lnTo>
                        <a:lnTo>
                          <a:pt x="66" y="122"/>
                        </a:lnTo>
                        <a:lnTo>
                          <a:pt x="100" y="100"/>
                        </a:lnTo>
                        <a:lnTo>
                          <a:pt x="122" y="78"/>
                        </a:lnTo>
                        <a:lnTo>
                          <a:pt x="144" y="55"/>
                        </a:lnTo>
                        <a:lnTo>
                          <a:pt x="167" y="33"/>
                        </a:lnTo>
                        <a:lnTo>
                          <a:pt x="189" y="11"/>
                        </a:lnTo>
                        <a:lnTo>
                          <a:pt x="178" y="0"/>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Freeform 1308"/>
                  <p:cNvSpPr/>
                  <p:nvPr/>
                </p:nvSpPr>
                <p:spPr>
                  <a:xfrm rot="111600">
                    <a:off x="2822400" y="962280"/>
                    <a:ext cx="1800" cy="2880"/>
                  </a:xfrm>
                  <a:custGeom>
                    <a:avLst/>
                    <a:gdLst>
                      <a:gd name="textAreaLeft" fmla="*/ 0 w 1800"/>
                      <a:gd name="textAreaRight" fmla="*/ 2160 w 1800"/>
                      <a:gd name="textAreaTop" fmla="*/ 0 h 2880"/>
                      <a:gd name="textAreaBottom" fmla="*/ 3240 h 2880"/>
                    </a:gdLst>
                    <a:ahLst/>
                    <a:rect l="textAreaLeft" t="textAreaTop" r="textAreaRight" b="textAreaBottom"/>
                    <a:pathLst>
                      <a:path w="22" h="22">
                        <a:moveTo>
                          <a:pt x="22" y="11"/>
                        </a:moveTo>
                        <a:lnTo>
                          <a:pt x="22" y="11"/>
                        </a:lnTo>
                        <a:lnTo>
                          <a:pt x="11" y="0"/>
                        </a:lnTo>
                        <a:lnTo>
                          <a:pt x="0" y="0"/>
                        </a:lnTo>
                        <a:lnTo>
                          <a:pt x="11" y="11"/>
                        </a:lnTo>
                        <a:lnTo>
                          <a:pt x="11" y="22"/>
                        </a:lnTo>
                        <a:lnTo>
                          <a:pt x="22" y="22"/>
                        </a:lnTo>
                        <a:lnTo>
                          <a:pt x="22"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1307"/>
                  <p:cNvSpPr/>
                  <p:nvPr/>
                </p:nvSpPr>
                <p:spPr>
                  <a:xfrm rot="111600">
                    <a:off x="2824920" y="94284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45" h="167">
                        <a:moveTo>
                          <a:pt x="145" y="0"/>
                        </a:moveTo>
                        <a:lnTo>
                          <a:pt x="134" y="0"/>
                        </a:lnTo>
                        <a:lnTo>
                          <a:pt x="123" y="22"/>
                        </a:lnTo>
                        <a:lnTo>
                          <a:pt x="101" y="44"/>
                        </a:lnTo>
                        <a:lnTo>
                          <a:pt x="78" y="67"/>
                        </a:lnTo>
                        <a:lnTo>
                          <a:pt x="67" y="78"/>
                        </a:lnTo>
                        <a:lnTo>
                          <a:pt x="45" y="100"/>
                        </a:lnTo>
                        <a:lnTo>
                          <a:pt x="34" y="122"/>
                        </a:lnTo>
                        <a:lnTo>
                          <a:pt x="11" y="145"/>
                        </a:lnTo>
                        <a:lnTo>
                          <a:pt x="0" y="156"/>
                        </a:lnTo>
                        <a:lnTo>
                          <a:pt x="0" y="167"/>
                        </a:lnTo>
                        <a:lnTo>
                          <a:pt x="22" y="145"/>
                        </a:lnTo>
                        <a:lnTo>
                          <a:pt x="45" y="134"/>
                        </a:lnTo>
                        <a:lnTo>
                          <a:pt x="56" y="111"/>
                        </a:lnTo>
                        <a:lnTo>
                          <a:pt x="78" y="89"/>
                        </a:lnTo>
                        <a:lnTo>
                          <a:pt x="89" y="67"/>
                        </a:lnTo>
                        <a:lnTo>
                          <a:pt x="112" y="44"/>
                        </a:lnTo>
                        <a:lnTo>
                          <a:pt x="134" y="22"/>
                        </a:lnTo>
                        <a:lnTo>
                          <a:pt x="145" y="0"/>
                        </a:lnTo>
                        <a:lnTo>
                          <a:pt x="134" y="0"/>
                        </a:lnTo>
                        <a:lnTo>
                          <a:pt x="145"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Freeform 1306"/>
                  <p:cNvSpPr/>
                  <p:nvPr/>
                </p:nvSpPr>
                <p:spPr>
                  <a:xfrm rot="111600">
                    <a:off x="2836800" y="943920"/>
                    <a:ext cx="47880" cy="91800"/>
                  </a:xfrm>
                  <a:custGeom>
                    <a:avLst/>
                    <a:gdLst>
                      <a:gd name="textAreaLeft" fmla="*/ 0 w 47880"/>
                      <a:gd name="textAreaRight" fmla="*/ 48240 w 47880"/>
                      <a:gd name="textAreaTop" fmla="*/ 0 h 91800"/>
                      <a:gd name="textAreaBottom" fmla="*/ 91800 h 91800"/>
                    </a:gdLst>
                    <a:ahLst/>
                    <a:rect l="textAreaLeft" t="textAreaTop" r="textAreaRight" b="textAreaBottom"/>
                    <a:pathLst>
                      <a:path w="490" h="691">
                        <a:moveTo>
                          <a:pt x="490" y="691"/>
                        </a:moveTo>
                        <a:lnTo>
                          <a:pt x="490" y="691"/>
                        </a:lnTo>
                        <a:lnTo>
                          <a:pt x="479" y="657"/>
                        </a:lnTo>
                        <a:lnTo>
                          <a:pt x="468" y="624"/>
                        </a:lnTo>
                        <a:lnTo>
                          <a:pt x="446" y="579"/>
                        </a:lnTo>
                        <a:lnTo>
                          <a:pt x="423" y="535"/>
                        </a:lnTo>
                        <a:lnTo>
                          <a:pt x="390" y="490"/>
                        </a:lnTo>
                        <a:lnTo>
                          <a:pt x="357" y="446"/>
                        </a:lnTo>
                        <a:lnTo>
                          <a:pt x="323" y="401"/>
                        </a:lnTo>
                        <a:lnTo>
                          <a:pt x="290" y="345"/>
                        </a:lnTo>
                        <a:lnTo>
                          <a:pt x="256" y="301"/>
                        </a:lnTo>
                        <a:lnTo>
                          <a:pt x="212" y="245"/>
                        </a:lnTo>
                        <a:lnTo>
                          <a:pt x="178" y="200"/>
                        </a:lnTo>
                        <a:lnTo>
                          <a:pt x="134" y="145"/>
                        </a:lnTo>
                        <a:lnTo>
                          <a:pt x="100" y="111"/>
                        </a:lnTo>
                        <a:lnTo>
                          <a:pt x="67" y="67"/>
                        </a:lnTo>
                        <a:lnTo>
                          <a:pt x="45" y="22"/>
                        </a:lnTo>
                        <a:lnTo>
                          <a:pt x="11" y="0"/>
                        </a:lnTo>
                        <a:lnTo>
                          <a:pt x="0" y="0"/>
                        </a:lnTo>
                        <a:lnTo>
                          <a:pt x="33" y="33"/>
                        </a:lnTo>
                        <a:lnTo>
                          <a:pt x="56" y="78"/>
                        </a:lnTo>
                        <a:lnTo>
                          <a:pt x="89" y="111"/>
                        </a:lnTo>
                        <a:lnTo>
                          <a:pt x="123" y="156"/>
                        </a:lnTo>
                        <a:lnTo>
                          <a:pt x="167" y="212"/>
                        </a:lnTo>
                        <a:lnTo>
                          <a:pt x="201" y="256"/>
                        </a:lnTo>
                        <a:lnTo>
                          <a:pt x="245" y="301"/>
                        </a:lnTo>
                        <a:lnTo>
                          <a:pt x="279" y="356"/>
                        </a:lnTo>
                        <a:lnTo>
                          <a:pt x="312" y="401"/>
                        </a:lnTo>
                        <a:lnTo>
                          <a:pt x="345" y="457"/>
                        </a:lnTo>
                        <a:lnTo>
                          <a:pt x="379" y="501"/>
                        </a:lnTo>
                        <a:lnTo>
                          <a:pt x="412" y="546"/>
                        </a:lnTo>
                        <a:lnTo>
                          <a:pt x="435" y="591"/>
                        </a:lnTo>
                        <a:lnTo>
                          <a:pt x="457" y="624"/>
                        </a:lnTo>
                        <a:lnTo>
                          <a:pt x="468" y="657"/>
                        </a:lnTo>
                        <a:lnTo>
                          <a:pt x="479" y="691"/>
                        </a:lnTo>
                        <a:lnTo>
                          <a:pt x="479" y="680"/>
                        </a:lnTo>
                        <a:lnTo>
                          <a:pt x="490" y="69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Freeform 1305"/>
                  <p:cNvSpPr/>
                  <p:nvPr/>
                </p:nvSpPr>
                <p:spPr>
                  <a:xfrm rot="111600">
                    <a:off x="2873160" y="1035000"/>
                    <a:ext cx="24840" cy="90360"/>
                  </a:xfrm>
                  <a:custGeom>
                    <a:avLst/>
                    <a:gdLst>
                      <a:gd name="textAreaLeft" fmla="*/ 0 w 24840"/>
                      <a:gd name="textAreaRight" fmla="*/ 25200 w 24840"/>
                      <a:gd name="textAreaTop" fmla="*/ 0 h 90360"/>
                      <a:gd name="textAreaBottom" fmla="*/ 90720 h 90360"/>
                    </a:gdLst>
                    <a:ahLst/>
                    <a:rect l="textAreaLeft" t="textAreaTop" r="textAreaRight" b="textAreaBottom"/>
                    <a:pathLst>
                      <a:path w="257" h="680">
                        <a:moveTo>
                          <a:pt x="257" y="668"/>
                        </a:moveTo>
                        <a:lnTo>
                          <a:pt x="257" y="668"/>
                        </a:lnTo>
                        <a:lnTo>
                          <a:pt x="212" y="646"/>
                        </a:lnTo>
                        <a:lnTo>
                          <a:pt x="167" y="624"/>
                        </a:lnTo>
                        <a:lnTo>
                          <a:pt x="134" y="590"/>
                        </a:lnTo>
                        <a:lnTo>
                          <a:pt x="100" y="557"/>
                        </a:lnTo>
                        <a:lnTo>
                          <a:pt x="78" y="512"/>
                        </a:lnTo>
                        <a:lnTo>
                          <a:pt x="56" y="468"/>
                        </a:lnTo>
                        <a:lnTo>
                          <a:pt x="34" y="423"/>
                        </a:lnTo>
                        <a:lnTo>
                          <a:pt x="22" y="379"/>
                        </a:lnTo>
                        <a:lnTo>
                          <a:pt x="22" y="323"/>
                        </a:lnTo>
                        <a:lnTo>
                          <a:pt x="11" y="278"/>
                        </a:lnTo>
                        <a:lnTo>
                          <a:pt x="11" y="223"/>
                        </a:lnTo>
                        <a:lnTo>
                          <a:pt x="22" y="178"/>
                        </a:lnTo>
                        <a:lnTo>
                          <a:pt x="34" y="133"/>
                        </a:lnTo>
                        <a:lnTo>
                          <a:pt x="45" y="89"/>
                        </a:lnTo>
                        <a:lnTo>
                          <a:pt x="67" y="44"/>
                        </a:lnTo>
                        <a:lnTo>
                          <a:pt x="89" y="11"/>
                        </a:lnTo>
                        <a:lnTo>
                          <a:pt x="78" y="0"/>
                        </a:lnTo>
                        <a:lnTo>
                          <a:pt x="56" y="44"/>
                        </a:lnTo>
                        <a:lnTo>
                          <a:pt x="34" y="78"/>
                        </a:lnTo>
                        <a:lnTo>
                          <a:pt x="22" y="122"/>
                        </a:lnTo>
                        <a:lnTo>
                          <a:pt x="11" y="178"/>
                        </a:lnTo>
                        <a:lnTo>
                          <a:pt x="0" y="223"/>
                        </a:lnTo>
                        <a:lnTo>
                          <a:pt x="0" y="278"/>
                        </a:lnTo>
                        <a:lnTo>
                          <a:pt x="0" y="323"/>
                        </a:lnTo>
                        <a:lnTo>
                          <a:pt x="11" y="379"/>
                        </a:lnTo>
                        <a:lnTo>
                          <a:pt x="22" y="423"/>
                        </a:lnTo>
                        <a:lnTo>
                          <a:pt x="45" y="479"/>
                        </a:lnTo>
                        <a:lnTo>
                          <a:pt x="67" y="524"/>
                        </a:lnTo>
                        <a:lnTo>
                          <a:pt x="89" y="568"/>
                        </a:lnTo>
                        <a:lnTo>
                          <a:pt x="123" y="602"/>
                        </a:lnTo>
                        <a:lnTo>
                          <a:pt x="167" y="635"/>
                        </a:lnTo>
                        <a:lnTo>
                          <a:pt x="212" y="657"/>
                        </a:lnTo>
                        <a:lnTo>
                          <a:pt x="257" y="680"/>
                        </a:lnTo>
                        <a:lnTo>
                          <a:pt x="257" y="668"/>
                        </a:lnTo>
                        <a:close/>
                      </a:path>
                    </a:pathLst>
                  </a:custGeom>
                  <a:solidFill>
                    <a:srgbClr val="000000"/>
                  </a:solidFill>
                  <a:ln w="0">
                    <a:noFill/>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Freeform 1304"/>
                  <p:cNvSpPr/>
                  <p:nvPr/>
                </p:nvSpPr>
                <p:spPr>
                  <a:xfrm rot="111600">
                    <a:off x="2895480" y="1118520"/>
                    <a:ext cx="2160" cy="7200"/>
                  </a:xfrm>
                  <a:custGeom>
                    <a:avLst/>
                    <a:gdLst>
                      <a:gd name="textAreaLeft" fmla="*/ 0 w 2160"/>
                      <a:gd name="textAreaRight" fmla="*/ 2520 w 2160"/>
                      <a:gd name="textAreaTop" fmla="*/ 0 h 7200"/>
                      <a:gd name="textAreaBottom" fmla="*/ 7560 h 7200"/>
                    </a:gdLst>
                    <a:ahLst/>
                    <a:rect l="textAreaLeft" t="textAreaTop" r="textAreaRight" b="textAreaBottom"/>
                    <a:pathLst>
                      <a:path w="23" h="56">
                        <a:moveTo>
                          <a:pt x="23" y="0"/>
                        </a:moveTo>
                        <a:lnTo>
                          <a:pt x="23" y="0"/>
                        </a:lnTo>
                        <a:lnTo>
                          <a:pt x="0" y="0"/>
                        </a:lnTo>
                        <a:lnTo>
                          <a:pt x="0" y="11"/>
                        </a:lnTo>
                        <a:lnTo>
                          <a:pt x="0" y="22"/>
                        </a:lnTo>
                        <a:lnTo>
                          <a:pt x="0" y="33"/>
                        </a:lnTo>
                        <a:lnTo>
                          <a:pt x="12" y="44"/>
                        </a:lnTo>
                        <a:lnTo>
                          <a:pt x="23" y="44"/>
                        </a:lnTo>
                        <a:lnTo>
                          <a:pt x="12" y="44"/>
                        </a:lnTo>
                        <a:lnTo>
                          <a:pt x="12" y="56"/>
                        </a:lnTo>
                        <a:lnTo>
                          <a:pt x="23" y="56"/>
                        </a:lnTo>
                        <a:lnTo>
                          <a:pt x="23" y="44"/>
                        </a:lnTo>
                        <a:lnTo>
                          <a:pt x="23" y="33"/>
                        </a:lnTo>
                        <a:lnTo>
                          <a:pt x="23" y="22"/>
                        </a:lnTo>
                        <a:lnTo>
                          <a:pt x="12" y="11"/>
                        </a:lnTo>
                        <a:lnTo>
                          <a:pt x="23" y="0"/>
                        </a:lnTo>
                        <a:close/>
                      </a:path>
                    </a:pathLst>
                  </a:custGeom>
                  <a:solidFill>
                    <a:srgbClr val="000000"/>
                  </a:solidFill>
                  <a:ln w="0">
                    <a:noFill/>
                  </a:ln>
                </p:spPr>
                <p:style>
                  <a:lnRef idx="0"/>
                  <a:fillRef idx="0"/>
                  <a:effectRef idx="0"/>
                  <a:fontRef idx="minor"/>
                </p:style>
                <p:txBody>
                  <a:bodyPr lIns="90000" rIns="90000" tIns="-39240" bIns="-39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reeform 1303"/>
                  <p:cNvSpPr/>
                  <p:nvPr/>
                </p:nvSpPr>
                <p:spPr>
                  <a:xfrm rot="111600">
                    <a:off x="2896560" y="1118880"/>
                    <a:ext cx="7560" cy="42840"/>
                  </a:xfrm>
                  <a:custGeom>
                    <a:avLst/>
                    <a:gdLst>
                      <a:gd name="textAreaLeft" fmla="*/ 0 w 7560"/>
                      <a:gd name="textAreaRight" fmla="*/ 7920 w 7560"/>
                      <a:gd name="textAreaTop" fmla="*/ 0 h 42840"/>
                      <a:gd name="textAreaBottom" fmla="*/ 43200 h 42840"/>
                    </a:gdLst>
                    <a:ahLst/>
                    <a:rect l="textAreaLeft" t="textAreaTop" r="textAreaRight" b="textAreaBottom"/>
                    <a:pathLst>
                      <a:path w="78" h="323">
                        <a:moveTo>
                          <a:pt x="55" y="312"/>
                        </a:moveTo>
                        <a:lnTo>
                          <a:pt x="66" y="323"/>
                        </a:lnTo>
                        <a:lnTo>
                          <a:pt x="66" y="290"/>
                        </a:lnTo>
                        <a:lnTo>
                          <a:pt x="78" y="245"/>
                        </a:lnTo>
                        <a:lnTo>
                          <a:pt x="78" y="200"/>
                        </a:lnTo>
                        <a:lnTo>
                          <a:pt x="66" y="145"/>
                        </a:lnTo>
                        <a:lnTo>
                          <a:pt x="55" y="89"/>
                        </a:lnTo>
                        <a:lnTo>
                          <a:pt x="44" y="56"/>
                        </a:lnTo>
                        <a:lnTo>
                          <a:pt x="33" y="22"/>
                        </a:lnTo>
                        <a:lnTo>
                          <a:pt x="11" y="0"/>
                        </a:lnTo>
                        <a:lnTo>
                          <a:pt x="0" y="11"/>
                        </a:lnTo>
                        <a:lnTo>
                          <a:pt x="22" y="22"/>
                        </a:lnTo>
                        <a:lnTo>
                          <a:pt x="33" y="56"/>
                        </a:lnTo>
                        <a:lnTo>
                          <a:pt x="44" y="100"/>
                        </a:lnTo>
                        <a:lnTo>
                          <a:pt x="55" y="145"/>
                        </a:lnTo>
                        <a:lnTo>
                          <a:pt x="55" y="200"/>
                        </a:lnTo>
                        <a:lnTo>
                          <a:pt x="55" y="245"/>
                        </a:lnTo>
                        <a:lnTo>
                          <a:pt x="55" y="290"/>
                        </a:lnTo>
                        <a:lnTo>
                          <a:pt x="44" y="323"/>
                        </a:lnTo>
                        <a:lnTo>
                          <a:pt x="55" y="323"/>
                        </a:lnTo>
                        <a:lnTo>
                          <a:pt x="55" y="312"/>
                        </a:lnTo>
                        <a:close/>
                      </a:path>
                    </a:pathLst>
                  </a:custGeom>
                  <a:solidFill>
                    <a:srgbClr val="00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1302"/>
                  <p:cNvSpPr/>
                  <p:nvPr/>
                </p:nvSpPr>
                <p:spPr>
                  <a:xfrm rot="111600">
                    <a:off x="2901600" y="1138320"/>
                    <a:ext cx="14040" cy="23400"/>
                  </a:xfrm>
                  <a:custGeom>
                    <a:avLst/>
                    <a:gdLst>
                      <a:gd name="textAreaLeft" fmla="*/ 0 w 14040"/>
                      <a:gd name="textAreaRight" fmla="*/ 14400 w 14040"/>
                      <a:gd name="textAreaTop" fmla="*/ 0 h 23400"/>
                      <a:gd name="textAreaBottom" fmla="*/ 23760 h 23400"/>
                    </a:gdLst>
                    <a:ahLst/>
                    <a:rect l="textAreaLeft" t="textAreaTop" r="textAreaRight" b="textAreaBottom"/>
                    <a:pathLst>
                      <a:path w="145" h="178">
                        <a:moveTo>
                          <a:pt x="134" y="0"/>
                        </a:moveTo>
                        <a:lnTo>
                          <a:pt x="134" y="11"/>
                        </a:lnTo>
                        <a:lnTo>
                          <a:pt x="123" y="33"/>
                        </a:lnTo>
                        <a:lnTo>
                          <a:pt x="112" y="55"/>
                        </a:lnTo>
                        <a:lnTo>
                          <a:pt x="101" y="67"/>
                        </a:lnTo>
                        <a:lnTo>
                          <a:pt x="78" y="89"/>
                        </a:lnTo>
                        <a:lnTo>
                          <a:pt x="56" y="111"/>
                        </a:lnTo>
                        <a:lnTo>
                          <a:pt x="45" y="133"/>
                        </a:lnTo>
                        <a:lnTo>
                          <a:pt x="23" y="145"/>
                        </a:lnTo>
                        <a:lnTo>
                          <a:pt x="0" y="167"/>
                        </a:lnTo>
                        <a:lnTo>
                          <a:pt x="0" y="178"/>
                        </a:lnTo>
                        <a:lnTo>
                          <a:pt x="34" y="156"/>
                        </a:lnTo>
                        <a:lnTo>
                          <a:pt x="56" y="145"/>
                        </a:lnTo>
                        <a:lnTo>
                          <a:pt x="67" y="122"/>
                        </a:lnTo>
                        <a:lnTo>
                          <a:pt x="89" y="100"/>
                        </a:lnTo>
                        <a:lnTo>
                          <a:pt x="112" y="78"/>
                        </a:lnTo>
                        <a:lnTo>
                          <a:pt x="123" y="55"/>
                        </a:lnTo>
                        <a:lnTo>
                          <a:pt x="134" y="33"/>
                        </a:lnTo>
                        <a:lnTo>
                          <a:pt x="145" y="11"/>
                        </a:lnTo>
                        <a:lnTo>
                          <a:pt x="134" y="0"/>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Freeform 1301"/>
                  <p:cNvSpPr/>
                  <p:nvPr/>
                </p:nvSpPr>
                <p:spPr>
                  <a:xfrm rot="111600">
                    <a:off x="2915280" y="1116360"/>
                    <a:ext cx="7560" cy="23400"/>
                  </a:xfrm>
                  <a:custGeom>
                    <a:avLst/>
                    <a:gdLst>
                      <a:gd name="textAreaLeft" fmla="*/ 0 w 7560"/>
                      <a:gd name="textAreaRight" fmla="*/ 7920 w 7560"/>
                      <a:gd name="textAreaTop" fmla="*/ 0 h 23400"/>
                      <a:gd name="textAreaBottom" fmla="*/ 23760 h 23400"/>
                    </a:gdLst>
                    <a:ahLst/>
                    <a:rect l="textAreaLeft" t="textAreaTop" r="textAreaRight" b="textAreaBottom"/>
                    <a:pathLst>
                      <a:path w="78" h="178">
                        <a:moveTo>
                          <a:pt x="67" y="0"/>
                        </a:moveTo>
                        <a:lnTo>
                          <a:pt x="56" y="11"/>
                        </a:lnTo>
                        <a:lnTo>
                          <a:pt x="56" y="22"/>
                        </a:lnTo>
                        <a:lnTo>
                          <a:pt x="56" y="44"/>
                        </a:lnTo>
                        <a:lnTo>
                          <a:pt x="45" y="78"/>
                        </a:lnTo>
                        <a:lnTo>
                          <a:pt x="33" y="100"/>
                        </a:lnTo>
                        <a:lnTo>
                          <a:pt x="22" y="122"/>
                        </a:lnTo>
                        <a:lnTo>
                          <a:pt x="11" y="144"/>
                        </a:lnTo>
                        <a:lnTo>
                          <a:pt x="11" y="167"/>
                        </a:lnTo>
                        <a:lnTo>
                          <a:pt x="0" y="167"/>
                        </a:lnTo>
                        <a:lnTo>
                          <a:pt x="11" y="178"/>
                        </a:lnTo>
                        <a:lnTo>
                          <a:pt x="22" y="167"/>
                        </a:lnTo>
                        <a:lnTo>
                          <a:pt x="33" y="156"/>
                        </a:lnTo>
                        <a:lnTo>
                          <a:pt x="45" y="133"/>
                        </a:lnTo>
                        <a:lnTo>
                          <a:pt x="56" y="100"/>
                        </a:lnTo>
                        <a:lnTo>
                          <a:pt x="56" y="78"/>
                        </a:lnTo>
                        <a:lnTo>
                          <a:pt x="67" y="44"/>
                        </a:lnTo>
                        <a:lnTo>
                          <a:pt x="78" y="22"/>
                        </a:lnTo>
                        <a:lnTo>
                          <a:pt x="78" y="11"/>
                        </a:lnTo>
                        <a:lnTo>
                          <a:pt x="67" y="22"/>
                        </a:lnTo>
                        <a:lnTo>
                          <a:pt x="67" y="0"/>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Freeform 1300"/>
                  <p:cNvSpPr/>
                  <p:nvPr/>
                </p:nvSpPr>
                <p:spPr>
                  <a:xfrm rot="111600">
                    <a:off x="2921040" y="1116720"/>
                    <a:ext cx="3960" cy="11520"/>
                  </a:xfrm>
                  <a:custGeom>
                    <a:avLst/>
                    <a:gdLst>
                      <a:gd name="textAreaLeft" fmla="*/ 0 w 3960"/>
                      <a:gd name="textAreaRight" fmla="*/ 4320 w 3960"/>
                      <a:gd name="textAreaTop" fmla="*/ 0 h 11520"/>
                      <a:gd name="textAreaBottom" fmla="*/ 11880 h 11520"/>
                    </a:gdLst>
                    <a:ahLst/>
                    <a:rect l="textAreaLeft" t="textAreaTop" r="textAreaRight" b="textAreaBottom"/>
                    <a:pathLst>
                      <a:path w="44" h="89">
                        <a:moveTo>
                          <a:pt x="33" y="66"/>
                        </a:moveTo>
                        <a:lnTo>
                          <a:pt x="33" y="66"/>
                        </a:lnTo>
                        <a:lnTo>
                          <a:pt x="11" y="78"/>
                        </a:lnTo>
                        <a:lnTo>
                          <a:pt x="11" y="66"/>
                        </a:lnTo>
                        <a:lnTo>
                          <a:pt x="11" y="55"/>
                        </a:lnTo>
                        <a:lnTo>
                          <a:pt x="22" y="44"/>
                        </a:lnTo>
                        <a:lnTo>
                          <a:pt x="22" y="22"/>
                        </a:lnTo>
                        <a:lnTo>
                          <a:pt x="22" y="11"/>
                        </a:lnTo>
                        <a:lnTo>
                          <a:pt x="11" y="0"/>
                        </a:lnTo>
                        <a:lnTo>
                          <a:pt x="11" y="22"/>
                        </a:lnTo>
                        <a:lnTo>
                          <a:pt x="11" y="44"/>
                        </a:lnTo>
                        <a:lnTo>
                          <a:pt x="0" y="55"/>
                        </a:lnTo>
                        <a:lnTo>
                          <a:pt x="0" y="66"/>
                        </a:lnTo>
                        <a:lnTo>
                          <a:pt x="0" y="89"/>
                        </a:lnTo>
                        <a:lnTo>
                          <a:pt x="22" y="89"/>
                        </a:lnTo>
                        <a:lnTo>
                          <a:pt x="44" y="78"/>
                        </a:lnTo>
                        <a:lnTo>
                          <a:pt x="33" y="66"/>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Freeform 1299"/>
                  <p:cNvSpPr/>
                  <p:nvPr/>
                </p:nvSpPr>
                <p:spPr>
                  <a:xfrm rot="111600">
                    <a:off x="2896920" y="1030320"/>
                    <a:ext cx="39240" cy="96480"/>
                  </a:xfrm>
                  <a:custGeom>
                    <a:avLst/>
                    <a:gdLst>
                      <a:gd name="textAreaLeft" fmla="*/ 0 w 39240"/>
                      <a:gd name="textAreaRight" fmla="*/ 39240 w 39240"/>
                      <a:gd name="textAreaTop" fmla="*/ 0 h 96480"/>
                      <a:gd name="textAreaBottom" fmla="*/ 96840 h 96480"/>
                    </a:gdLst>
                    <a:ahLst/>
                    <a:rect l="textAreaLeft" t="textAreaTop" r="textAreaRight" b="textAreaBottom"/>
                    <a:pathLst>
                      <a:path w="402" h="725">
                        <a:moveTo>
                          <a:pt x="0" y="11"/>
                        </a:moveTo>
                        <a:lnTo>
                          <a:pt x="0" y="11"/>
                        </a:lnTo>
                        <a:lnTo>
                          <a:pt x="67" y="67"/>
                        </a:lnTo>
                        <a:lnTo>
                          <a:pt x="134" y="112"/>
                        </a:lnTo>
                        <a:lnTo>
                          <a:pt x="190" y="167"/>
                        </a:lnTo>
                        <a:lnTo>
                          <a:pt x="234" y="212"/>
                        </a:lnTo>
                        <a:lnTo>
                          <a:pt x="279" y="256"/>
                        </a:lnTo>
                        <a:lnTo>
                          <a:pt x="312" y="312"/>
                        </a:lnTo>
                        <a:lnTo>
                          <a:pt x="346" y="357"/>
                        </a:lnTo>
                        <a:lnTo>
                          <a:pt x="368" y="401"/>
                        </a:lnTo>
                        <a:lnTo>
                          <a:pt x="379" y="435"/>
                        </a:lnTo>
                        <a:lnTo>
                          <a:pt x="390" y="479"/>
                        </a:lnTo>
                        <a:lnTo>
                          <a:pt x="390" y="524"/>
                        </a:lnTo>
                        <a:lnTo>
                          <a:pt x="390" y="557"/>
                        </a:lnTo>
                        <a:lnTo>
                          <a:pt x="368" y="602"/>
                        </a:lnTo>
                        <a:lnTo>
                          <a:pt x="357" y="635"/>
                        </a:lnTo>
                        <a:lnTo>
                          <a:pt x="324" y="680"/>
                        </a:lnTo>
                        <a:lnTo>
                          <a:pt x="290" y="713"/>
                        </a:lnTo>
                        <a:lnTo>
                          <a:pt x="301" y="725"/>
                        </a:lnTo>
                        <a:lnTo>
                          <a:pt x="335" y="680"/>
                        </a:lnTo>
                        <a:lnTo>
                          <a:pt x="368" y="647"/>
                        </a:lnTo>
                        <a:lnTo>
                          <a:pt x="390" y="602"/>
                        </a:lnTo>
                        <a:lnTo>
                          <a:pt x="402" y="569"/>
                        </a:lnTo>
                        <a:lnTo>
                          <a:pt x="402" y="524"/>
                        </a:lnTo>
                        <a:lnTo>
                          <a:pt x="402" y="479"/>
                        </a:lnTo>
                        <a:lnTo>
                          <a:pt x="390" y="435"/>
                        </a:lnTo>
                        <a:lnTo>
                          <a:pt x="379" y="390"/>
                        </a:lnTo>
                        <a:lnTo>
                          <a:pt x="357" y="346"/>
                        </a:lnTo>
                        <a:lnTo>
                          <a:pt x="324" y="301"/>
                        </a:lnTo>
                        <a:lnTo>
                          <a:pt x="290" y="256"/>
                        </a:lnTo>
                        <a:lnTo>
                          <a:pt x="246" y="201"/>
                        </a:lnTo>
                        <a:lnTo>
                          <a:pt x="201" y="156"/>
                        </a:lnTo>
                        <a:lnTo>
                          <a:pt x="134" y="100"/>
                        </a:lnTo>
                        <a:lnTo>
                          <a:pt x="78" y="56"/>
                        </a:lnTo>
                        <a:lnTo>
                          <a:pt x="12" y="0"/>
                        </a:lnTo>
                        <a:lnTo>
                          <a:pt x="12"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Freeform 1298"/>
                  <p:cNvSpPr/>
                  <p:nvPr/>
                </p:nvSpPr>
                <p:spPr>
                  <a:xfrm rot="111600">
                    <a:off x="2877840" y="916920"/>
                    <a:ext cx="24840" cy="114120"/>
                  </a:xfrm>
                  <a:custGeom>
                    <a:avLst/>
                    <a:gdLst>
                      <a:gd name="textAreaLeft" fmla="*/ 0 w 24840"/>
                      <a:gd name="textAreaRight" fmla="*/ 25200 w 24840"/>
                      <a:gd name="textAreaTop" fmla="*/ 0 h 114120"/>
                      <a:gd name="textAreaBottom" fmla="*/ 114480 h 114120"/>
                    </a:gdLst>
                    <a:ahLst/>
                    <a:rect l="textAreaLeft" t="textAreaTop" r="textAreaRight" b="textAreaBottom"/>
                    <a:pathLst>
                      <a:path w="257" h="858">
                        <a:moveTo>
                          <a:pt x="0" y="11"/>
                        </a:moveTo>
                        <a:lnTo>
                          <a:pt x="0" y="11"/>
                        </a:lnTo>
                        <a:lnTo>
                          <a:pt x="56" y="45"/>
                        </a:lnTo>
                        <a:lnTo>
                          <a:pt x="101" y="78"/>
                        </a:lnTo>
                        <a:lnTo>
                          <a:pt x="145" y="123"/>
                        </a:lnTo>
                        <a:lnTo>
                          <a:pt x="179" y="167"/>
                        </a:lnTo>
                        <a:lnTo>
                          <a:pt x="201" y="223"/>
                        </a:lnTo>
                        <a:lnTo>
                          <a:pt x="223" y="279"/>
                        </a:lnTo>
                        <a:lnTo>
                          <a:pt x="234" y="334"/>
                        </a:lnTo>
                        <a:lnTo>
                          <a:pt x="234" y="390"/>
                        </a:lnTo>
                        <a:lnTo>
                          <a:pt x="246" y="457"/>
                        </a:lnTo>
                        <a:lnTo>
                          <a:pt x="246" y="524"/>
                        </a:lnTo>
                        <a:lnTo>
                          <a:pt x="246" y="580"/>
                        </a:lnTo>
                        <a:lnTo>
                          <a:pt x="246" y="646"/>
                        </a:lnTo>
                        <a:lnTo>
                          <a:pt x="234" y="702"/>
                        </a:lnTo>
                        <a:lnTo>
                          <a:pt x="234" y="758"/>
                        </a:lnTo>
                        <a:lnTo>
                          <a:pt x="234" y="803"/>
                        </a:lnTo>
                        <a:lnTo>
                          <a:pt x="234" y="858"/>
                        </a:lnTo>
                        <a:lnTo>
                          <a:pt x="246" y="858"/>
                        </a:lnTo>
                        <a:lnTo>
                          <a:pt x="246" y="803"/>
                        </a:lnTo>
                        <a:lnTo>
                          <a:pt x="257" y="758"/>
                        </a:lnTo>
                        <a:lnTo>
                          <a:pt x="257" y="702"/>
                        </a:lnTo>
                        <a:lnTo>
                          <a:pt x="257" y="646"/>
                        </a:lnTo>
                        <a:lnTo>
                          <a:pt x="257" y="580"/>
                        </a:lnTo>
                        <a:lnTo>
                          <a:pt x="257" y="524"/>
                        </a:lnTo>
                        <a:lnTo>
                          <a:pt x="257" y="457"/>
                        </a:lnTo>
                        <a:lnTo>
                          <a:pt x="257" y="390"/>
                        </a:lnTo>
                        <a:lnTo>
                          <a:pt x="246" y="334"/>
                        </a:lnTo>
                        <a:lnTo>
                          <a:pt x="234" y="268"/>
                        </a:lnTo>
                        <a:lnTo>
                          <a:pt x="212" y="212"/>
                        </a:lnTo>
                        <a:lnTo>
                          <a:pt x="190" y="156"/>
                        </a:lnTo>
                        <a:lnTo>
                          <a:pt x="156" y="111"/>
                        </a:lnTo>
                        <a:lnTo>
                          <a:pt x="112" y="67"/>
                        </a:lnTo>
                        <a:lnTo>
                          <a:pt x="67" y="22"/>
                        </a:lnTo>
                        <a:lnTo>
                          <a:pt x="11"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Freeform 1297"/>
                  <p:cNvSpPr/>
                  <p:nvPr/>
                </p:nvSpPr>
                <p:spPr>
                  <a:xfrm rot="111600">
                    <a:off x="2853360" y="908280"/>
                    <a:ext cx="27000" cy="8640"/>
                  </a:xfrm>
                  <a:custGeom>
                    <a:avLst/>
                    <a:gdLst>
                      <a:gd name="textAreaLeft" fmla="*/ 0 w 27000"/>
                      <a:gd name="textAreaRight" fmla="*/ 27360 w 27000"/>
                      <a:gd name="textAreaTop" fmla="*/ 0 h 8640"/>
                      <a:gd name="textAreaBottom" fmla="*/ 9000 h 8640"/>
                    </a:gdLst>
                    <a:ahLst/>
                    <a:rect l="textAreaLeft" t="textAreaTop" r="textAreaRight" b="textAreaBottom"/>
                    <a:pathLst>
                      <a:path w="278" h="67">
                        <a:moveTo>
                          <a:pt x="11" y="34"/>
                        </a:moveTo>
                        <a:lnTo>
                          <a:pt x="11" y="34"/>
                        </a:lnTo>
                        <a:lnTo>
                          <a:pt x="22" y="34"/>
                        </a:lnTo>
                        <a:lnTo>
                          <a:pt x="33" y="34"/>
                        </a:lnTo>
                        <a:lnTo>
                          <a:pt x="44" y="23"/>
                        </a:lnTo>
                        <a:lnTo>
                          <a:pt x="56" y="23"/>
                        </a:lnTo>
                        <a:lnTo>
                          <a:pt x="78" y="23"/>
                        </a:lnTo>
                        <a:lnTo>
                          <a:pt x="89" y="23"/>
                        </a:lnTo>
                        <a:lnTo>
                          <a:pt x="111" y="23"/>
                        </a:lnTo>
                        <a:lnTo>
                          <a:pt x="122" y="23"/>
                        </a:lnTo>
                        <a:lnTo>
                          <a:pt x="145" y="23"/>
                        </a:lnTo>
                        <a:lnTo>
                          <a:pt x="156" y="23"/>
                        </a:lnTo>
                        <a:lnTo>
                          <a:pt x="178" y="23"/>
                        </a:lnTo>
                        <a:lnTo>
                          <a:pt x="200" y="34"/>
                        </a:lnTo>
                        <a:lnTo>
                          <a:pt x="212" y="34"/>
                        </a:lnTo>
                        <a:lnTo>
                          <a:pt x="234" y="45"/>
                        </a:lnTo>
                        <a:lnTo>
                          <a:pt x="245" y="56"/>
                        </a:lnTo>
                        <a:lnTo>
                          <a:pt x="267" y="67"/>
                        </a:lnTo>
                        <a:lnTo>
                          <a:pt x="278" y="56"/>
                        </a:lnTo>
                        <a:lnTo>
                          <a:pt x="256" y="45"/>
                        </a:lnTo>
                        <a:lnTo>
                          <a:pt x="234" y="34"/>
                        </a:lnTo>
                        <a:lnTo>
                          <a:pt x="223" y="23"/>
                        </a:lnTo>
                        <a:lnTo>
                          <a:pt x="200" y="11"/>
                        </a:lnTo>
                        <a:lnTo>
                          <a:pt x="178" y="11"/>
                        </a:lnTo>
                        <a:lnTo>
                          <a:pt x="156" y="0"/>
                        </a:lnTo>
                        <a:lnTo>
                          <a:pt x="145" y="0"/>
                        </a:lnTo>
                        <a:lnTo>
                          <a:pt x="122" y="0"/>
                        </a:lnTo>
                        <a:lnTo>
                          <a:pt x="111" y="0"/>
                        </a:lnTo>
                        <a:lnTo>
                          <a:pt x="89" y="0"/>
                        </a:lnTo>
                        <a:lnTo>
                          <a:pt x="78" y="0"/>
                        </a:lnTo>
                        <a:lnTo>
                          <a:pt x="56" y="11"/>
                        </a:lnTo>
                        <a:lnTo>
                          <a:pt x="44" y="11"/>
                        </a:lnTo>
                        <a:lnTo>
                          <a:pt x="33" y="11"/>
                        </a:lnTo>
                        <a:lnTo>
                          <a:pt x="22" y="23"/>
                        </a:lnTo>
                        <a:lnTo>
                          <a:pt x="0" y="23"/>
                        </a:lnTo>
                        <a:lnTo>
                          <a:pt x="11" y="34"/>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Freeform 1296"/>
                  <p:cNvSpPr/>
                  <p:nvPr/>
                </p:nvSpPr>
                <p:spPr>
                  <a:xfrm rot="111600">
                    <a:off x="2841480" y="910440"/>
                    <a:ext cx="12960" cy="14400"/>
                  </a:xfrm>
                  <a:custGeom>
                    <a:avLst/>
                    <a:gdLst>
                      <a:gd name="textAreaLeft" fmla="*/ 0 w 12960"/>
                      <a:gd name="textAreaRight" fmla="*/ 13320 w 12960"/>
                      <a:gd name="textAreaTop" fmla="*/ 0 h 14400"/>
                      <a:gd name="textAreaBottom" fmla="*/ 14760 h 14400"/>
                    </a:gdLst>
                    <a:ahLst/>
                    <a:rect l="textAreaLeft" t="textAreaTop" r="textAreaRight" b="textAreaBottom"/>
                    <a:pathLst>
                      <a:path w="134" h="111">
                        <a:moveTo>
                          <a:pt x="0" y="111"/>
                        </a:moveTo>
                        <a:lnTo>
                          <a:pt x="11" y="111"/>
                        </a:lnTo>
                        <a:lnTo>
                          <a:pt x="23" y="100"/>
                        </a:lnTo>
                        <a:lnTo>
                          <a:pt x="45" y="89"/>
                        </a:lnTo>
                        <a:lnTo>
                          <a:pt x="56" y="78"/>
                        </a:lnTo>
                        <a:lnTo>
                          <a:pt x="78" y="66"/>
                        </a:lnTo>
                        <a:lnTo>
                          <a:pt x="89" y="44"/>
                        </a:lnTo>
                        <a:lnTo>
                          <a:pt x="101" y="33"/>
                        </a:lnTo>
                        <a:lnTo>
                          <a:pt x="123" y="22"/>
                        </a:lnTo>
                        <a:lnTo>
                          <a:pt x="134" y="11"/>
                        </a:lnTo>
                        <a:lnTo>
                          <a:pt x="123" y="0"/>
                        </a:lnTo>
                        <a:lnTo>
                          <a:pt x="112" y="11"/>
                        </a:lnTo>
                        <a:lnTo>
                          <a:pt x="101" y="22"/>
                        </a:lnTo>
                        <a:lnTo>
                          <a:pt x="78" y="44"/>
                        </a:lnTo>
                        <a:lnTo>
                          <a:pt x="67" y="55"/>
                        </a:lnTo>
                        <a:lnTo>
                          <a:pt x="45" y="66"/>
                        </a:lnTo>
                        <a:lnTo>
                          <a:pt x="34" y="78"/>
                        </a:lnTo>
                        <a:lnTo>
                          <a:pt x="23" y="89"/>
                        </a:lnTo>
                        <a:lnTo>
                          <a:pt x="0" y="100"/>
                        </a:lnTo>
                        <a:lnTo>
                          <a:pt x="11" y="100"/>
                        </a:lnTo>
                        <a:lnTo>
                          <a:pt x="0" y="111"/>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Freeform 1295"/>
                  <p:cNvSpPr/>
                  <p:nvPr/>
                </p:nvSpPr>
                <p:spPr>
                  <a:xfrm rot="111600">
                    <a:off x="2839680" y="1038240"/>
                    <a:ext cx="1800" cy="360"/>
                  </a:xfrm>
                  <a:custGeom>
                    <a:avLst/>
                    <a:gdLst>
                      <a:gd name="textAreaLeft" fmla="*/ 0 w 1800"/>
                      <a:gd name="textAreaRight" fmla="*/ 2160 w 1800"/>
                      <a:gd name="textAreaTop" fmla="*/ 0 h 360"/>
                      <a:gd name="textAreaBottom" fmla="*/ 720 h 360"/>
                    </a:gdLst>
                    <a:ahLst/>
                    <a:rect l="textAreaLeft" t="textAreaTop" r="textAreaRight" b="textAreaBottom"/>
                    <a:pathLst>
                      <a:path w="22" h="1">
                        <a:moveTo>
                          <a:pt x="0" y="0"/>
                        </a:moveTo>
                        <a:lnTo>
                          <a:pt x="11" y="0"/>
                        </a:lnTo>
                        <a:lnTo>
                          <a:pt x="22"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Freeform 1294"/>
                  <p:cNvSpPr/>
                  <p:nvPr/>
                </p:nvSpPr>
                <p:spPr>
                  <a:xfrm rot="111600">
                    <a:off x="2829240" y="101844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134" h="145">
                        <a:moveTo>
                          <a:pt x="0" y="11"/>
                        </a:moveTo>
                        <a:lnTo>
                          <a:pt x="0" y="11"/>
                        </a:lnTo>
                        <a:lnTo>
                          <a:pt x="22" y="11"/>
                        </a:lnTo>
                        <a:lnTo>
                          <a:pt x="45" y="23"/>
                        </a:lnTo>
                        <a:lnTo>
                          <a:pt x="67" y="34"/>
                        </a:lnTo>
                        <a:lnTo>
                          <a:pt x="78" y="56"/>
                        </a:lnTo>
                        <a:lnTo>
                          <a:pt x="100" y="78"/>
                        </a:lnTo>
                        <a:lnTo>
                          <a:pt x="112" y="101"/>
                        </a:lnTo>
                        <a:lnTo>
                          <a:pt x="112" y="123"/>
                        </a:lnTo>
                        <a:lnTo>
                          <a:pt x="112" y="145"/>
                        </a:lnTo>
                        <a:lnTo>
                          <a:pt x="134" y="145"/>
                        </a:lnTo>
                        <a:lnTo>
                          <a:pt x="123" y="123"/>
                        </a:lnTo>
                        <a:lnTo>
                          <a:pt x="123" y="89"/>
                        </a:lnTo>
                        <a:lnTo>
                          <a:pt x="112" y="67"/>
                        </a:lnTo>
                        <a:lnTo>
                          <a:pt x="89" y="45"/>
                        </a:lnTo>
                        <a:lnTo>
                          <a:pt x="67" y="23"/>
                        </a:lnTo>
                        <a:lnTo>
                          <a:pt x="45" y="11"/>
                        </a:lnTo>
                        <a:lnTo>
                          <a:pt x="22" y="0"/>
                        </a:lnTo>
                        <a:lnTo>
                          <a:pt x="0" y="0"/>
                        </a:lnTo>
                        <a:lnTo>
                          <a:pt x="0" y="11"/>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Freeform 1293"/>
                  <p:cNvSpPr/>
                  <p:nvPr/>
                </p:nvSpPr>
                <p:spPr>
                  <a:xfrm rot="111600">
                    <a:off x="2819520" y="1018080"/>
                    <a:ext cx="9720" cy="14760"/>
                  </a:xfrm>
                  <a:custGeom>
                    <a:avLst/>
                    <a:gdLst>
                      <a:gd name="textAreaLeft" fmla="*/ 0 w 9720"/>
                      <a:gd name="textAreaRight" fmla="*/ 10080 w 9720"/>
                      <a:gd name="textAreaTop" fmla="*/ 0 h 14760"/>
                      <a:gd name="textAreaBottom" fmla="*/ 15120 h 14760"/>
                    </a:gdLst>
                    <a:ahLst/>
                    <a:rect l="textAreaLeft" t="textAreaTop" r="textAreaRight" b="textAreaBottom"/>
                    <a:pathLst>
                      <a:path w="100" h="112">
                        <a:moveTo>
                          <a:pt x="11" y="112"/>
                        </a:moveTo>
                        <a:lnTo>
                          <a:pt x="22" y="101"/>
                        </a:lnTo>
                        <a:lnTo>
                          <a:pt x="22" y="89"/>
                        </a:lnTo>
                        <a:lnTo>
                          <a:pt x="33" y="67"/>
                        </a:lnTo>
                        <a:lnTo>
                          <a:pt x="44" y="56"/>
                        </a:lnTo>
                        <a:lnTo>
                          <a:pt x="67" y="45"/>
                        </a:lnTo>
                        <a:lnTo>
                          <a:pt x="78" y="34"/>
                        </a:lnTo>
                        <a:lnTo>
                          <a:pt x="89" y="23"/>
                        </a:lnTo>
                        <a:lnTo>
                          <a:pt x="100" y="11"/>
                        </a:lnTo>
                        <a:lnTo>
                          <a:pt x="100" y="0"/>
                        </a:lnTo>
                        <a:lnTo>
                          <a:pt x="78" y="11"/>
                        </a:lnTo>
                        <a:lnTo>
                          <a:pt x="67" y="23"/>
                        </a:lnTo>
                        <a:lnTo>
                          <a:pt x="55" y="34"/>
                        </a:lnTo>
                        <a:lnTo>
                          <a:pt x="33" y="45"/>
                        </a:lnTo>
                        <a:lnTo>
                          <a:pt x="22" y="67"/>
                        </a:lnTo>
                        <a:lnTo>
                          <a:pt x="11" y="78"/>
                        </a:lnTo>
                        <a:lnTo>
                          <a:pt x="0" y="89"/>
                        </a:lnTo>
                        <a:lnTo>
                          <a:pt x="0" y="112"/>
                        </a:lnTo>
                        <a:lnTo>
                          <a:pt x="11" y="112"/>
                        </a:lnTo>
                        <a:close/>
                      </a:path>
                    </a:pathLst>
                  </a:custGeom>
                  <a:solidFill>
                    <a:srgbClr val="000000"/>
                  </a:solidFill>
                  <a:ln w="0">
                    <a:noFill/>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1292"/>
                  <p:cNvSpPr/>
                  <p:nvPr/>
                </p:nvSpPr>
                <p:spPr>
                  <a:xfrm rot="111600">
                    <a:off x="2828160" y="1019880"/>
                    <a:ext cx="1800" cy="360"/>
                  </a:xfrm>
                  <a:custGeom>
                    <a:avLst/>
                    <a:gdLst>
                      <a:gd name="textAreaLeft" fmla="*/ 0 w 1800"/>
                      <a:gd name="textAreaRight" fmla="*/ 2160 w 1800"/>
                      <a:gd name="textAreaTop" fmla="*/ 0 h 360"/>
                      <a:gd name="textAreaBottom" fmla="*/ 720 h 360"/>
                    </a:gdLst>
                    <a:ahLst/>
                    <a:rect l="textAreaLeft" t="textAreaTop" r="textAreaRight" b="textAreaBottom"/>
                    <a:pathLst>
                      <a:path w="22" h="1">
                        <a:moveTo>
                          <a:pt x="0" y="0"/>
                        </a:moveTo>
                        <a:lnTo>
                          <a:pt x="0" y="0"/>
                        </a:lnTo>
                        <a:lnTo>
                          <a:pt x="11" y="0"/>
                        </a:lnTo>
                        <a:lnTo>
                          <a:pt x="22"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1291"/>
                  <p:cNvSpPr/>
                  <p:nvPr/>
                </p:nvSpPr>
                <p:spPr>
                  <a:xfrm rot="111600">
                    <a:off x="2813760" y="1050840"/>
                    <a:ext cx="1080" cy="360"/>
                  </a:xfrm>
                  <a:custGeom>
                    <a:avLst/>
                    <a:gdLst>
                      <a:gd name="textAreaLeft" fmla="*/ 0 w 1080"/>
                      <a:gd name="textAreaRight" fmla="*/ 1440 w 1080"/>
                      <a:gd name="textAreaTop" fmla="*/ 0 h 360"/>
                      <a:gd name="textAreaBottom" fmla="*/ 720 h 360"/>
                    </a:gdLst>
                    <a:ahLst/>
                    <a:rect l="textAreaLeft" t="textAreaTop" r="textAreaRight" b="textAreaBottom"/>
                    <a:pathLst>
                      <a:path w="11" h="1">
                        <a:moveTo>
                          <a:pt x="11" y="0"/>
                        </a:moveTo>
                        <a:lnTo>
                          <a:pt x="11" y="0"/>
                        </a:lnTo>
                        <a:lnTo>
                          <a:pt x="0" y="0"/>
                        </a:lnTo>
                        <a:lnTo>
                          <a:pt x="11"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1290"/>
                  <p:cNvSpPr/>
                  <p:nvPr/>
                </p:nvSpPr>
                <p:spPr>
                  <a:xfrm rot="111600">
                    <a:off x="2807280" y="1050480"/>
                    <a:ext cx="7560" cy="10080"/>
                  </a:xfrm>
                  <a:custGeom>
                    <a:avLst/>
                    <a:gdLst>
                      <a:gd name="textAreaLeft" fmla="*/ 0 w 7560"/>
                      <a:gd name="textAreaRight" fmla="*/ 7920 w 7560"/>
                      <a:gd name="textAreaTop" fmla="*/ 0 h 10080"/>
                      <a:gd name="textAreaBottom" fmla="*/ 10440 h 10080"/>
                    </a:gdLst>
                    <a:ahLst/>
                    <a:rect l="textAreaLeft" t="textAreaTop" r="textAreaRight" b="textAreaBottom"/>
                    <a:pathLst>
                      <a:path w="78" h="78">
                        <a:moveTo>
                          <a:pt x="11" y="78"/>
                        </a:moveTo>
                        <a:lnTo>
                          <a:pt x="11" y="78"/>
                        </a:lnTo>
                        <a:lnTo>
                          <a:pt x="23" y="67"/>
                        </a:lnTo>
                        <a:lnTo>
                          <a:pt x="34" y="56"/>
                        </a:lnTo>
                        <a:lnTo>
                          <a:pt x="45" y="45"/>
                        </a:lnTo>
                        <a:lnTo>
                          <a:pt x="56" y="45"/>
                        </a:lnTo>
                        <a:lnTo>
                          <a:pt x="67" y="34"/>
                        </a:lnTo>
                        <a:lnTo>
                          <a:pt x="78" y="23"/>
                        </a:lnTo>
                        <a:lnTo>
                          <a:pt x="78" y="0"/>
                        </a:lnTo>
                        <a:lnTo>
                          <a:pt x="67" y="0"/>
                        </a:lnTo>
                        <a:lnTo>
                          <a:pt x="56" y="12"/>
                        </a:lnTo>
                        <a:lnTo>
                          <a:pt x="56" y="23"/>
                        </a:lnTo>
                        <a:lnTo>
                          <a:pt x="45" y="34"/>
                        </a:lnTo>
                        <a:lnTo>
                          <a:pt x="34" y="34"/>
                        </a:lnTo>
                        <a:lnTo>
                          <a:pt x="34" y="45"/>
                        </a:lnTo>
                        <a:lnTo>
                          <a:pt x="23" y="56"/>
                        </a:lnTo>
                        <a:lnTo>
                          <a:pt x="11" y="67"/>
                        </a:lnTo>
                        <a:lnTo>
                          <a:pt x="0" y="67"/>
                        </a:lnTo>
                        <a:lnTo>
                          <a:pt x="11" y="67"/>
                        </a:lnTo>
                        <a:lnTo>
                          <a:pt x="11" y="78"/>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1289"/>
                  <p:cNvSpPr/>
                  <p:nvPr/>
                </p:nvSpPr>
                <p:spPr>
                  <a:xfrm rot="111600">
                    <a:off x="2799720" y="1059120"/>
                    <a:ext cx="8640" cy="4320"/>
                  </a:xfrm>
                  <a:custGeom>
                    <a:avLst/>
                    <a:gdLst>
                      <a:gd name="textAreaLeft" fmla="*/ 0 w 8640"/>
                      <a:gd name="textAreaRight" fmla="*/ 9000 w 8640"/>
                      <a:gd name="textAreaTop" fmla="*/ 0 h 4320"/>
                      <a:gd name="textAreaBottom" fmla="*/ 4680 h 4320"/>
                    </a:gdLst>
                    <a:ahLst/>
                    <a:rect l="textAreaLeft" t="textAreaTop" r="textAreaRight" b="textAreaBottom"/>
                    <a:pathLst>
                      <a:path w="89" h="34">
                        <a:moveTo>
                          <a:pt x="0" y="34"/>
                        </a:moveTo>
                        <a:lnTo>
                          <a:pt x="0" y="34"/>
                        </a:lnTo>
                        <a:lnTo>
                          <a:pt x="89" y="11"/>
                        </a:lnTo>
                        <a:lnTo>
                          <a:pt x="89" y="0"/>
                        </a:lnTo>
                        <a:lnTo>
                          <a:pt x="0" y="23"/>
                        </a:lnTo>
                        <a:lnTo>
                          <a:pt x="0" y="34"/>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1288"/>
                  <p:cNvSpPr/>
                  <p:nvPr/>
                </p:nvSpPr>
                <p:spPr>
                  <a:xfrm rot="111600">
                    <a:off x="2799360" y="106236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1" h="11">
                        <a:moveTo>
                          <a:pt x="0" y="0"/>
                        </a:move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1287"/>
                  <p:cNvSpPr/>
                  <p:nvPr/>
                </p:nvSpPr>
                <p:spPr>
                  <a:xfrm rot="111600">
                    <a:off x="2844360" y="1053360"/>
                    <a:ext cx="720" cy="1440"/>
                  </a:xfrm>
                  <a:custGeom>
                    <a:avLst/>
                    <a:gdLst>
                      <a:gd name="textAreaLeft" fmla="*/ 0 w 720"/>
                      <a:gd name="textAreaRight" fmla="*/ 1080 w 720"/>
                      <a:gd name="textAreaTop" fmla="*/ 0 h 1440"/>
                      <a:gd name="textAreaBottom" fmla="*/ 1800 h 1440"/>
                    </a:gdLst>
                    <a:ahLst/>
                    <a:rect l="textAreaLeft" t="textAreaTop" r="textAreaRight" b="textAreaBottom"/>
                    <a:pathLst>
                      <a:path w="11" h="11">
                        <a:moveTo>
                          <a:pt x="11" y="0"/>
                        </a:moveTo>
                        <a:lnTo>
                          <a:pt x="11" y="0"/>
                        </a:lnTo>
                        <a:lnTo>
                          <a:pt x="0" y="0"/>
                        </a:lnTo>
                        <a:lnTo>
                          <a:pt x="0" y="11"/>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Freeform 1286"/>
                  <p:cNvSpPr/>
                  <p:nvPr/>
                </p:nvSpPr>
                <p:spPr>
                  <a:xfrm rot="111600">
                    <a:off x="2844360" y="1053360"/>
                    <a:ext cx="14040" cy="16200"/>
                  </a:xfrm>
                  <a:custGeom>
                    <a:avLst/>
                    <a:gdLst>
                      <a:gd name="textAreaLeft" fmla="*/ 0 w 14040"/>
                      <a:gd name="textAreaRight" fmla="*/ 14400 w 14040"/>
                      <a:gd name="textAreaTop" fmla="*/ 0 h 16200"/>
                      <a:gd name="textAreaBottom" fmla="*/ 16560 h 16200"/>
                    </a:gdLst>
                    <a:ahLst/>
                    <a:rect l="textAreaLeft" t="textAreaTop" r="textAreaRight" b="textAreaBottom"/>
                    <a:pathLst>
                      <a:path w="145" h="122">
                        <a:moveTo>
                          <a:pt x="145" y="100"/>
                        </a:moveTo>
                        <a:lnTo>
                          <a:pt x="123" y="100"/>
                        </a:lnTo>
                        <a:lnTo>
                          <a:pt x="112" y="100"/>
                        </a:lnTo>
                        <a:lnTo>
                          <a:pt x="89" y="100"/>
                        </a:lnTo>
                        <a:lnTo>
                          <a:pt x="78" y="89"/>
                        </a:lnTo>
                        <a:lnTo>
                          <a:pt x="67" y="78"/>
                        </a:lnTo>
                        <a:lnTo>
                          <a:pt x="56" y="66"/>
                        </a:lnTo>
                        <a:lnTo>
                          <a:pt x="34" y="44"/>
                        </a:lnTo>
                        <a:lnTo>
                          <a:pt x="11" y="0"/>
                        </a:lnTo>
                        <a:lnTo>
                          <a:pt x="0" y="11"/>
                        </a:lnTo>
                        <a:lnTo>
                          <a:pt x="23" y="44"/>
                        </a:lnTo>
                        <a:lnTo>
                          <a:pt x="45" y="78"/>
                        </a:lnTo>
                        <a:lnTo>
                          <a:pt x="56" y="89"/>
                        </a:lnTo>
                        <a:lnTo>
                          <a:pt x="78" y="100"/>
                        </a:lnTo>
                        <a:lnTo>
                          <a:pt x="89" y="111"/>
                        </a:lnTo>
                        <a:lnTo>
                          <a:pt x="112" y="111"/>
                        </a:lnTo>
                        <a:lnTo>
                          <a:pt x="123" y="111"/>
                        </a:lnTo>
                        <a:lnTo>
                          <a:pt x="145" y="122"/>
                        </a:lnTo>
                        <a:lnTo>
                          <a:pt x="145" y="100"/>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Freeform 1285"/>
                  <p:cNvSpPr/>
                  <p:nvPr/>
                </p:nvSpPr>
                <p:spPr>
                  <a:xfrm rot="111600">
                    <a:off x="2845440" y="105336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1" h="11">
                        <a:moveTo>
                          <a:pt x="0" y="11"/>
                        </a:moveTo>
                        <a:lnTo>
                          <a:pt x="0" y="11"/>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Freeform 1284"/>
                  <p:cNvSpPr/>
                  <p:nvPr/>
                </p:nvSpPr>
                <p:spPr>
                  <a:xfrm rot="111600">
                    <a:off x="2848320" y="106200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2">
                        <a:moveTo>
                          <a:pt x="11" y="12"/>
                        </a:moveTo>
                        <a:lnTo>
                          <a:pt x="11" y="12"/>
                        </a:lnTo>
                        <a:lnTo>
                          <a:pt x="11" y="0"/>
                        </a:lnTo>
                        <a:lnTo>
                          <a:pt x="0" y="12"/>
                        </a:lnTo>
                        <a:lnTo>
                          <a:pt x="11" y="12"/>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Freeform 1283"/>
                  <p:cNvSpPr/>
                  <p:nvPr/>
                </p:nvSpPr>
                <p:spPr>
                  <a:xfrm rot="111600">
                    <a:off x="2821320" y="1063440"/>
                    <a:ext cx="28080" cy="19080"/>
                  </a:xfrm>
                  <a:custGeom>
                    <a:avLst/>
                    <a:gdLst>
                      <a:gd name="textAreaLeft" fmla="*/ 0 w 28080"/>
                      <a:gd name="textAreaRight" fmla="*/ 28440 w 28080"/>
                      <a:gd name="textAreaTop" fmla="*/ 0 h 19080"/>
                      <a:gd name="textAreaBottom" fmla="*/ 19440 h 19080"/>
                    </a:gdLst>
                    <a:ahLst/>
                    <a:rect l="textAreaLeft" t="textAreaTop" r="textAreaRight" b="textAreaBottom"/>
                    <a:pathLst>
                      <a:path w="290" h="144">
                        <a:moveTo>
                          <a:pt x="0" y="133"/>
                        </a:moveTo>
                        <a:lnTo>
                          <a:pt x="0" y="133"/>
                        </a:lnTo>
                        <a:lnTo>
                          <a:pt x="22" y="144"/>
                        </a:lnTo>
                        <a:lnTo>
                          <a:pt x="45" y="144"/>
                        </a:lnTo>
                        <a:lnTo>
                          <a:pt x="67" y="144"/>
                        </a:lnTo>
                        <a:lnTo>
                          <a:pt x="89" y="144"/>
                        </a:lnTo>
                        <a:lnTo>
                          <a:pt x="112" y="144"/>
                        </a:lnTo>
                        <a:lnTo>
                          <a:pt x="134" y="144"/>
                        </a:lnTo>
                        <a:lnTo>
                          <a:pt x="156" y="133"/>
                        </a:lnTo>
                        <a:lnTo>
                          <a:pt x="167" y="122"/>
                        </a:lnTo>
                        <a:lnTo>
                          <a:pt x="190" y="111"/>
                        </a:lnTo>
                        <a:lnTo>
                          <a:pt x="212" y="100"/>
                        </a:lnTo>
                        <a:lnTo>
                          <a:pt x="223" y="89"/>
                        </a:lnTo>
                        <a:lnTo>
                          <a:pt x="245" y="78"/>
                        </a:lnTo>
                        <a:lnTo>
                          <a:pt x="257" y="55"/>
                        </a:lnTo>
                        <a:lnTo>
                          <a:pt x="268" y="44"/>
                        </a:lnTo>
                        <a:lnTo>
                          <a:pt x="279" y="22"/>
                        </a:lnTo>
                        <a:lnTo>
                          <a:pt x="290" y="0"/>
                        </a:lnTo>
                        <a:lnTo>
                          <a:pt x="279" y="0"/>
                        </a:lnTo>
                        <a:lnTo>
                          <a:pt x="268" y="11"/>
                        </a:lnTo>
                        <a:lnTo>
                          <a:pt x="257" y="33"/>
                        </a:lnTo>
                        <a:lnTo>
                          <a:pt x="245" y="55"/>
                        </a:lnTo>
                        <a:lnTo>
                          <a:pt x="234" y="66"/>
                        </a:lnTo>
                        <a:lnTo>
                          <a:pt x="212" y="78"/>
                        </a:lnTo>
                        <a:lnTo>
                          <a:pt x="201" y="89"/>
                        </a:lnTo>
                        <a:lnTo>
                          <a:pt x="179" y="100"/>
                        </a:lnTo>
                        <a:lnTo>
                          <a:pt x="167" y="111"/>
                        </a:lnTo>
                        <a:lnTo>
                          <a:pt x="145" y="122"/>
                        </a:lnTo>
                        <a:lnTo>
                          <a:pt x="134" y="122"/>
                        </a:lnTo>
                        <a:lnTo>
                          <a:pt x="112" y="133"/>
                        </a:lnTo>
                        <a:lnTo>
                          <a:pt x="89" y="133"/>
                        </a:lnTo>
                        <a:lnTo>
                          <a:pt x="67" y="133"/>
                        </a:lnTo>
                        <a:lnTo>
                          <a:pt x="45" y="133"/>
                        </a:lnTo>
                        <a:lnTo>
                          <a:pt x="34" y="122"/>
                        </a:lnTo>
                        <a:lnTo>
                          <a:pt x="11" y="122"/>
                        </a:lnTo>
                        <a:lnTo>
                          <a:pt x="0" y="133"/>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Freeform 1282"/>
                  <p:cNvSpPr/>
                  <p:nvPr/>
                </p:nvSpPr>
                <p:spPr>
                  <a:xfrm rot="111600">
                    <a:off x="2807280" y="1059120"/>
                    <a:ext cx="15120" cy="20520"/>
                  </a:xfrm>
                  <a:custGeom>
                    <a:avLst/>
                    <a:gdLst>
                      <a:gd name="textAreaLeft" fmla="*/ 0 w 15120"/>
                      <a:gd name="textAreaRight" fmla="*/ 15480 w 15120"/>
                      <a:gd name="textAreaTop" fmla="*/ 0 h 20520"/>
                      <a:gd name="textAreaBottom" fmla="*/ 20880 h 20520"/>
                    </a:gdLst>
                    <a:ahLst/>
                    <a:rect l="textAreaLeft" t="textAreaTop" r="textAreaRight" b="textAreaBottom"/>
                    <a:pathLst>
                      <a:path w="156" h="156">
                        <a:moveTo>
                          <a:pt x="0" y="11"/>
                        </a:moveTo>
                        <a:lnTo>
                          <a:pt x="23" y="45"/>
                        </a:lnTo>
                        <a:lnTo>
                          <a:pt x="45" y="78"/>
                        </a:lnTo>
                        <a:lnTo>
                          <a:pt x="56" y="101"/>
                        </a:lnTo>
                        <a:lnTo>
                          <a:pt x="78" y="112"/>
                        </a:lnTo>
                        <a:lnTo>
                          <a:pt x="89" y="134"/>
                        </a:lnTo>
                        <a:lnTo>
                          <a:pt x="112" y="145"/>
                        </a:lnTo>
                        <a:lnTo>
                          <a:pt x="123" y="156"/>
                        </a:lnTo>
                        <a:lnTo>
                          <a:pt x="145" y="156"/>
                        </a:lnTo>
                        <a:lnTo>
                          <a:pt x="156" y="145"/>
                        </a:lnTo>
                        <a:lnTo>
                          <a:pt x="134" y="134"/>
                        </a:lnTo>
                        <a:lnTo>
                          <a:pt x="112" y="134"/>
                        </a:lnTo>
                        <a:lnTo>
                          <a:pt x="101" y="123"/>
                        </a:lnTo>
                        <a:lnTo>
                          <a:pt x="89" y="101"/>
                        </a:lnTo>
                        <a:lnTo>
                          <a:pt x="67" y="89"/>
                        </a:lnTo>
                        <a:lnTo>
                          <a:pt x="56" y="67"/>
                        </a:lnTo>
                        <a:lnTo>
                          <a:pt x="34" y="34"/>
                        </a:lnTo>
                        <a:lnTo>
                          <a:pt x="11" y="0"/>
                        </a:lnTo>
                        <a:lnTo>
                          <a:pt x="0" y="11"/>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Freeform 1281"/>
                  <p:cNvSpPr/>
                  <p:nvPr/>
                </p:nvSpPr>
                <p:spPr>
                  <a:xfrm rot="111600">
                    <a:off x="2820960" y="107928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11" y="0"/>
                        </a:moveTo>
                        <a:lnTo>
                          <a:pt x="11" y="0"/>
                        </a:lnTo>
                        <a:lnTo>
                          <a:pt x="0" y="0"/>
                        </a:lnTo>
                        <a:lnTo>
                          <a:pt x="0" y="11"/>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Freeform 1280"/>
                  <p:cNvSpPr/>
                  <p:nvPr/>
                </p:nvSpPr>
                <p:spPr>
                  <a:xfrm rot="111600">
                    <a:off x="2895840" y="974880"/>
                    <a:ext cx="24840" cy="66600"/>
                  </a:xfrm>
                  <a:custGeom>
                    <a:avLst/>
                    <a:gdLst>
                      <a:gd name="textAreaLeft" fmla="*/ 0 w 24840"/>
                      <a:gd name="textAreaRight" fmla="*/ 25200 w 24840"/>
                      <a:gd name="textAreaTop" fmla="*/ 0 h 66600"/>
                      <a:gd name="textAreaBottom" fmla="*/ 66960 h 66600"/>
                    </a:gdLst>
                    <a:ahLst/>
                    <a:rect l="textAreaLeft" t="textAreaTop" r="textAreaRight" b="textAreaBottom"/>
                    <a:pathLst>
                      <a:path w="256" h="501">
                        <a:moveTo>
                          <a:pt x="33" y="145"/>
                        </a:moveTo>
                        <a:lnTo>
                          <a:pt x="45" y="122"/>
                        </a:lnTo>
                        <a:lnTo>
                          <a:pt x="56" y="100"/>
                        </a:lnTo>
                        <a:lnTo>
                          <a:pt x="67" y="78"/>
                        </a:lnTo>
                        <a:lnTo>
                          <a:pt x="89" y="55"/>
                        </a:lnTo>
                        <a:lnTo>
                          <a:pt x="100" y="44"/>
                        </a:lnTo>
                        <a:lnTo>
                          <a:pt x="123" y="22"/>
                        </a:lnTo>
                        <a:lnTo>
                          <a:pt x="134" y="11"/>
                        </a:lnTo>
                        <a:lnTo>
                          <a:pt x="167" y="0"/>
                        </a:lnTo>
                        <a:lnTo>
                          <a:pt x="189" y="11"/>
                        </a:lnTo>
                        <a:lnTo>
                          <a:pt x="223" y="55"/>
                        </a:lnTo>
                        <a:lnTo>
                          <a:pt x="245" y="100"/>
                        </a:lnTo>
                        <a:lnTo>
                          <a:pt x="256" y="167"/>
                        </a:lnTo>
                        <a:lnTo>
                          <a:pt x="256" y="234"/>
                        </a:lnTo>
                        <a:lnTo>
                          <a:pt x="256" y="301"/>
                        </a:lnTo>
                        <a:lnTo>
                          <a:pt x="245" y="356"/>
                        </a:lnTo>
                        <a:lnTo>
                          <a:pt x="234" y="412"/>
                        </a:lnTo>
                        <a:lnTo>
                          <a:pt x="223" y="423"/>
                        </a:lnTo>
                        <a:lnTo>
                          <a:pt x="223" y="434"/>
                        </a:lnTo>
                        <a:lnTo>
                          <a:pt x="212" y="457"/>
                        </a:lnTo>
                        <a:lnTo>
                          <a:pt x="201" y="468"/>
                        </a:lnTo>
                        <a:lnTo>
                          <a:pt x="189" y="479"/>
                        </a:lnTo>
                        <a:lnTo>
                          <a:pt x="189" y="490"/>
                        </a:lnTo>
                        <a:lnTo>
                          <a:pt x="167" y="501"/>
                        </a:lnTo>
                        <a:lnTo>
                          <a:pt x="156" y="501"/>
                        </a:lnTo>
                        <a:lnTo>
                          <a:pt x="134" y="501"/>
                        </a:lnTo>
                        <a:lnTo>
                          <a:pt x="123" y="501"/>
                        </a:lnTo>
                        <a:lnTo>
                          <a:pt x="100" y="490"/>
                        </a:lnTo>
                        <a:lnTo>
                          <a:pt x="89" y="479"/>
                        </a:lnTo>
                        <a:lnTo>
                          <a:pt x="78" y="468"/>
                        </a:lnTo>
                        <a:lnTo>
                          <a:pt x="67" y="457"/>
                        </a:lnTo>
                        <a:lnTo>
                          <a:pt x="56" y="446"/>
                        </a:lnTo>
                        <a:lnTo>
                          <a:pt x="33" y="434"/>
                        </a:lnTo>
                        <a:lnTo>
                          <a:pt x="22" y="401"/>
                        </a:lnTo>
                        <a:lnTo>
                          <a:pt x="11" y="368"/>
                        </a:lnTo>
                        <a:lnTo>
                          <a:pt x="0" y="323"/>
                        </a:lnTo>
                        <a:lnTo>
                          <a:pt x="0" y="289"/>
                        </a:lnTo>
                        <a:lnTo>
                          <a:pt x="0" y="245"/>
                        </a:lnTo>
                        <a:lnTo>
                          <a:pt x="0" y="211"/>
                        </a:lnTo>
                        <a:lnTo>
                          <a:pt x="11" y="178"/>
                        </a:lnTo>
                        <a:lnTo>
                          <a:pt x="33" y="145"/>
                        </a:lnTo>
                        <a:close/>
                      </a:path>
                    </a:pathLst>
                  </a:custGeom>
                  <a:solidFill>
                    <a:srgbClr val="5475e8"/>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1279"/>
                  <p:cNvSpPr/>
                  <p:nvPr/>
                </p:nvSpPr>
                <p:spPr>
                  <a:xfrm rot="111600">
                    <a:off x="2898720" y="97308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45" h="167">
                        <a:moveTo>
                          <a:pt x="145" y="0"/>
                        </a:moveTo>
                        <a:lnTo>
                          <a:pt x="134" y="0"/>
                        </a:lnTo>
                        <a:lnTo>
                          <a:pt x="112" y="11"/>
                        </a:lnTo>
                        <a:lnTo>
                          <a:pt x="89" y="33"/>
                        </a:lnTo>
                        <a:lnTo>
                          <a:pt x="67" y="44"/>
                        </a:lnTo>
                        <a:lnTo>
                          <a:pt x="56" y="66"/>
                        </a:lnTo>
                        <a:lnTo>
                          <a:pt x="45" y="89"/>
                        </a:lnTo>
                        <a:lnTo>
                          <a:pt x="34" y="111"/>
                        </a:lnTo>
                        <a:lnTo>
                          <a:pt x="23" y="133"/>
                        </a:lnTo>
                        <a:lnTo>
                          <a:pt x="0" y="156"/>
                        </a:lnTo>
                        <a:lnTo>
                          <a:pt x="23" y="167"/>
                        </a:lnTo>
                        <a:lnTo>
                          <a:pt x="34" y="133"/>
                        </a:lnTo>
                        <a:lnTo>
                          <a:pt x="45" y="111"/>
                        </a:lnTo>
                        <a:lnTo>
                          <a:pt x="56" y="100"/>
                        </a:lnTo>
                        <a:lnTo>
                          <a:pt x="67" y="78"/>
                        </a:lnTo>
                        <a:lnTo>
                          <a:pt x="78" y="55"/>
                        </a:lnTo>
                        <a:lnTo>
                          <a:pt x="101" y="44"/>
                        </a:lnTo>
                        <a:lnTo>
                          <a:pt x="123" y="33"/>
                        </a:lnTo>
                        <a:lnTo>
                          <a:pt x="145" y="11"/>
                        </a:lnTo>
                        <a:lnTo>
                          <a:pt x="145"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Freeform 1278"/>
                  <p:cNvSpPr/>
                  <p:nvPr/>
                </p:nvSpPr>
                <p:spPr>
                  <a:xfrm rot="111600">
                    <a:off x="2912760" y="973800"/>
                    <a:ext cx="9720" cy="56160"/>
                  </a:xfrm>
                  <a:custGeom>
                    <a:avLst/>
                    <a:gdLst>
                      <a:gd name="textAreaLeft" fmla="*/ 0 w 9720"/>
                      <a:gd name="textAreaRight" fmla="*/ 10080 w 9720"/>
                      <a:gd name="textAreaTop" fmla="*/ 0 h 56160"/>
                      <a:gd name="textAreaBottom" fmla="*/ 56520 h 56160"/>
                    </a:gdLst>
                    <a:ahLst/>
                    <a:rect l="textAreaLeft" t="textAreaTop" r="textAreaRight" b="textAreaBottom"/>
                    <a:pathLst>
                      <a:path w="100" h="423">
                        <a:moveTo>
                          <a:pt x="67" y="423"/>
                        </a:moveTo>
                        <a:lnTo>
                          <a:pt x="67" y="423"/>
                        </a:lnTo>
                        <a:lnTo>
                          <a:pt x="89" y="367"/>
                        </a:lnTo>
                        <a:lnTo>
                          <a:pt x="100" y="312"/>
                        </a:lnTo>
                        <a:lnTo>
                          <a:pt x="100" y="245"/>
                        </a:lnTo>
                        <a:lnTo>
                          <a:pt x="89" y="178"/>
                        </a:lnTo>
                        <a:lnTo>
                          <a:pt x="78" y="111"/>
                        </a:lnTo>
                        <a:lnTo>
                          <a:pt x="56" y="55"/>
                        </a:lnTo>
                        <a:lnTo>
                          <a:pt x="34" y="22"/>
                        </a:lnTo>
                        <a:lnTo>
                          <a:pt x="0" y="0"/>
                        </a:lnTo>
                        <a:lnTo>
                          <a:pt x="0" y="11"/>
                        </a:lnTo>
                        <a:lnTo>
                          <a:pt x="22" y="33"/>
                        </a:lnTo>
                        <a:lnTo>
                          <a:pt x="45" y="66"/>
                        </a:lnTo>
                        <a:lnTo>
                          <a:pt x="67" y="111"/>
                        </a:lnTo>
                        <a:lnTo>
                          <a:pt x="78" y="178"/>
                        </a:lnTo>
                        <a:lnTo>
                          <a:pt x="89" y="245"/>
                        </a:lnTo>
                        <a:lnTo>
                          <a:pt x="89" y="312"/>
                        </a:lnTo>
                        <a:lnTo>
                          <a:pt x="78" y="367"/>
                        </a:lnTo>
                        <a:lnTo>
                          <a:pt x="56" y="423"/>
                        </a:lnTo>
                        <a:lnTo>
                          <a:pt x="67" y="423"/>
                        </a:lnTo>
                        <a:close/>
                      </a:path>
                    </a:pathLst>
                  </a:custGeom>
                  <a:solidFill>
                    <a:srgbClr val="000000"/>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Freeform 1277"/>
                  <p:cNvSpPr/>
                  <p:nvPr/>
                </p:nvSpPr>
                <p:spPr>
                  <a:xfrm rot="111600">
                    <a:off x="2910600" y="1030320"/>
                    <a:ext cx="7560" cy="12960"/>
                  </a:xfrm>
                  <a:custGeom>
                    <a:avLst/>
                    <a:gdLst>
                      <a:gd name="textAreaLeft" fmla="*/ 0 w 7560"/>
                      <a:gd name="textAreaRight" fmla="*/ 7920 w 7560"/>
                      <a:gd name="textAreaTop" fmla="*/ 0 h 12960"/>
                      <a:gd name="textAreaBottom" fmla="*/ 13320 h 12960"/>
                    </a:gdLst>
                    <a:ahLst/>
                    <a:rect l="textAreaLeft" t="textAreaTop" r="textAreaRight" b="textAreaBottom"/>
                    <a:pathLst>
                      <a:path w="78" h="100">
                        <a:moveTo>
                          <a:pt x="0" y="100"/>
                        </a:moveTo>
                        <a:lnTo>
                          <a:pt x="0" y="100"/>
                        </a:lnTo>
                        <a:lnTo>
                          <a:pt x="22" y="89"/>
                        </a:lnTo>
                        <a:lnTo>
                          <a:pt x="33" y="78"/>
                        </a:lnTo>
                        <a:lnTo>
                          <a:pt x="45" y="67"/>
                        </a:lnTo>
                        <a:lnTo>
                          <a:pt x="56" y="56"/>
                        </a:lnTo>
                        <a:lnTo>
                          <a:pt x="67" y="45"/>
                        </a:lnTo>
                        <a:lnTo>
                          <a:pt x="67" y="34"/>
                        </a:lnTo>
                        <a:lnTo>
                          <a:pt x="78" y="11"/>
                        </a:lnTo>
                        <a:lnTo>
                          <a:pt x="78" y="0"/>
                        </a:lnTo>
                        <a:lnTo>
                          <a:pt x="67" y="0"/>
                        </a:lnTo>
                        <a:lnTo>
                          <a:pt x="67" y="11"/>
                        </a:lnTo>
                        <a:lnTo>
                          <a:pt x="56" y="22"/>
                        </a:lnTo>
                        <a:lnTo>
                          <a:pt x="45" y="34"/>
                        </a:lnTo>
                        <a:lnTo>
                          <a:pt x="45" y="45"/>
                        </a:lnTo>
                        <a:lnTo>
                          <a:pt x="33" y="67"/>
                        </a:lnTo>
                        <a:lnTo>
                          <a:pt x="22" y="78"/>
                        </a:lnTo>
                        <a:lnTo>
                          <a:pt x="11" y="78"/>
                        </a:lnTo>
                        <a:lnTo>
                          <a:pt x="0" y="89"/>
                        </a:lnTo>
                        <a:lnTo>
                          <a:pt x="0" y="78"/>
                        </a:lnTo>
                        <a:lnTo>
                          <a:pt x="0" y="10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1276"/>
                  <p:cNvSpPr/>
                  <p:nvPr/>
                </p:nvSpPr>
                <p:spPr>
                  <a:xfrm rot="111600">
                    <a:off x="2898360" y="1032840"/>
                    <a:ext cx="11880" cy="10080"/>
                  </a:xfrm>
                  <a:custGeom>
                    <a:avLst/>
                    <a:gdLst>
                      <a:gd name="textAreaLeft" fmla="*/ 0 w 11880"/>
                      <a:gd name="textAreaRight" fmla="*/ 12240 w 11880"/>
                      <a:gd name="textAreaTop" fmla="*/ 0 h 10080"/>
                      <a:gd name="textAreaBottom" fmla="*/ 10440 h 10080"/>
                    </a:gdLst>
                    <a:ahLst/>
                    <a:rect l="textAreaLeft" t="textAreaTop" r="textAreaRight" b="textAreaBottom"/>
                    <a:pathLst>
                      <a:path w="123" h="78">
                        <a:moveTo>
                          <a:pt x="0" y="12"/>
                        </a:moveTo>
                        <a:lnTo>
                          <a:pt x="0" y="12"/>
                        </a:lnTo>
                        <a:lnTo>
                          <a:pt x="12" y="23"/>
                        </a:lnTo>
                        <a:lnTo>
                          <a:pt x="23" y="23"/>
                        </a:lnTo>
                        <a:lnTo>
                          <a:pt x="34" y="45"/>
                        </a:lnTo>
                        <a:lnTo>
                          <a:pt x="56" y="56"/>
                        </a:lnTo>
                        <a:lnTo>
                          <a:pt x="67" y="67"/>
                        </a:lnTo>
                        <a:lnTo>
                          <a:pt x="90" y="67"/>
                        </a:lnTo>
                        <a:lnTo>
                          <a:pt x="101" y="78"/>
                        </a:lnTo>
                        <a:lnTo>
                          <a:pt x="123" y="78"/>
                        </a:lnTo>
                        <a:lnTo>
                          <a:pt x="123" y="56"/>
                        </a:lnTo>
                        <a:lnTo>
                          <a:pt x="101" y="56"/>
                        </a:lnTo>
                        <a:lnTo>
                          <a:pt x="90" y="56"/>
                        </a:lnTo>
                        <a:lnTo>
                          <a:pt x="78" y="45"/>
                        </a:lnTo>
                        <a:lnTo>
                          <a:pt x="56" y="45"/>
                        </a:lnTo>
                        <a:lnTo>
                          <a:pt x="45" y="34"/>
                        </a:lnTo>
                        <a:lnTo>
                          <a:pt x="34" y="23"/>
                        </a:lnTo>
                        <a:lnTo>
                          <a:pt x="23" y="12"/>
                        </a:lnTo>
                        <a:lnTo>
                          <a:pt x="12" y="0"/>
                        </a:lnTo>
                        <a:lnTo>
                          <a:pt x="0" y="12"/>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Freeform 1275"/>
                  <p:cNvSpPr/>
                  <p:nvPr/>
                </p:nvSpPr>
                <p:spPr>
                  <a:xfrm rot="111600">
                    <a:off x="2895480" y="993960"/>
                    <a:ext cx="5400" cy="39960"/>
                  </a:xfrm>
                  <a:custGeom>
                    <a:avLst/>
                    <a:gdLst>
                      <a:gd name="textAreaLeft" fmla="*/ 0 w 5400"/>
                      <a:gd name="textAreaRight" fmla="*/ 5760 w 5400"/>
                      <a:gd name="textAreaTop" fmla="*/ 0 h 39960"/>
                      <a:gd name="textAreaBottom" fmla="*/ 40320 h 39960"/>
                    </a:gdLst>
                    <a:ahLst/>
                    <a:rect l="textAreaLeft" t="textAreaTop" r="textAreaRight" b="textAreaBottom"/>
                    <a:pathLst>
                      <a:path w="56" h="301">
                        <a:moveTo>
                          <a:pt x="33" y="0"/>
                        </a:moveTo>
                        <a:lnTo>
                          <a:pt x="44" y="0"/>
                        </a:lnTo>
                        <a:lnTo>
                          <a:pt x="22" y="33"/>
                        </a:lnTo>
                        <a:lnTo>
                          <a:pt x="11" y="66"/>
                        </a:lnTo>
                        <a:lnTo>
                          <a:pt x="0" y="100"/>
                        </a:lnTo>
                        <a:lnTo>
                          <a:pt x="0" y="144"/>
                        </a:lnTo>
                        <a:lnTo>
                          <a:pt x="0" y="178"/>
                        </a:lnTo>
                        <a:lnTo>
                          <a:pt x="11" y="223"/>
                        </a:lnTo>
                        <a:lnTo>
                          <a:pt x="22" y="267"/>
                        </a:lnTo>
                        <a:lnTo>
                          <a:pt x="44" y="301"/>
                        </a:lnTo>
                        <a:lnTo>
                          <a:pt x="56" y="289"/>
                        </a:lnTo>
                        <a:lnTo>
                          <a:pt x="33" y="256"/>
                        </a:lnTo>
                        <a:lnTo>
                          <a:pt x="22" y="223"/>
                        </a:lnTo>
                        <a:lnTo>
                          <a:pt x="22" y="178"/>
                        </a:lnTo>
                        <a:lnTo>
                          <a:pt x="11" y="144"/>
                        </a:lnTo>
                        <a:lnTo>
                          <a:pt x="11" y="100"/>
                        </a:lnTo>
                        <a:lnTo>
                          <a:pt x="22" y="66"/>
                        </a:lnTo>
                        <a:lnTo>
                          <a:pt x="33" y="33"/>
                        </a:lnTo>
                        <a:lnTo>
                          <a:pt x="56" y="11"/>
                        </a:lnTo>
                        <a:lnTo>
                          <a:pt x="33" y="0"/>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1274"/>
                  <p:cNvSpPr/>
                  <p:nvPr/>
                </p:nvSpPr>
                <p:spPr>
                  <a:xfrm rot="111600">
                    <a:off x="2880720" y="995040"/>
                    <a:ext cx="21600" cy="39960"/>
                  </a:xfrm>
                  <a:custGeom>
                    <a:avLst/>
                    <a:gdLst>
                      <a:gd name="textAreaLeft" fmla="*/ 0 w 21600"/>
                      <a:gd name="textAreaRight" fmla="*/ 21960 w 21600"/>
                      <a:gd name="textAreaTop" fmla="*/ 0 h 39960"/>
                      <a:gd name="textAreaBottom" fmla="*/ 40320 h 39960"/>
                    </a:gdLst>
                    <a:ahLst/>
                    <a:rect l="textAreaLeft" t="textAreaTop" r="textAreaRight" b="textAreaBottom"/>
                    <a:pathLst>
                      <a:path w="223" h="301">
                        <a:moveTo>
                          <a:pt x="33" y="0"/>
                        </a:moveTo>
                        <a:lnTo>
                          <a:pt x="44" y="0"/>
                        </a:lnTo>
                        <a:lnTo>
                          <a:pt x="56" y="0"/>
                        </a:lnTo>
                        <a:lnTo>
                          <a:pt x="67" y="0"/>
                        </a:lnTo>
                        <a:lnTo>
                          <a:pt x="78" y="0"/>
                        </a:lnTo>
                        <a:lnTo>
                          <a:pt x="89" y="0"/>
                        </a:lnTo>
                        <a:lnTo>
                          <a:pt x="100" y="0"/>
                        </a:lnTo>
                        <a:lnTo>
                          <a:pt x="111" y="0"/>
                        </a:lnTo>
                        <a:lnTo>
                          <a:pt x="122" y="0"/>
                        </a:lnTo>
                        <a:lnTo>
                          <a:pt x="156" y="33"/>
                        </a:lnTo>
                        <a:lnTo>
                          <a:pt x="189" y="55"/>
                        </a:lnTo>
                        <a:lnTo>
                          <a:pt x="212" y="89"/>
                        </a:lnTo>
                        <a:lnTo>
                          <a:pt x="223" y="122"/>
                        </a:lnTo>
                        <a:lnTo>
                          <a:pt x="223" y="167"/>
                        </a:lnTo>
                        <a:lnTo>
                          <a:pt x="212" y="200"/>
                        </a:lnTo>
                        <a:lnTo>
                          <a:pt x="201" y="245"/>
                        </a:lnTo>
                        <a:lnTo>
                          <a:pt x="178" y="278"/>
                        </a:lnTo>
                        <a:lnTo>
                          <a:pt x="156" y="290"/>
                        </a:lnTo>
                        <a:lnTo>
                          <a:pt x="145" y="290"/>
                        </a:lnTo>
                        <a:lnTo>
                          <a:pt x="134" y="290"/>
                        </a:lnTo>
                        <a:lnTo>
                          <a:pt x="111" y="301"/>
                        </a:lnTo>
                        <a:lnTo>
                          <a:pt x="100" y="301"/>
                        </a:lnTo>
                        <a:lnTo>
                          <a:pt x="78" y="301"/>
                        </a:lnTo>
                        <a:lnTo>
                          <a:pt x="67" y="301"/>
                        </a:lnTo>
                        <a:lnTo>
                          <a:pt x="56" y="301"/>
                        </a:lnTo>
                        <a:lnTo>
                          <a:pt x="33" y="301"/>
                        </a:lnTo>
                        <a:lnTo>
                          <a:pt x="22" y="290"/>
                        </a:lnTo>
                        <a:lnTo>
                          <a:pt x="11" y="278"/>
                        </a:lnTo>
                        <a:lnTo>
                          <a:pt x="11" y="267"/>
                        </a:lnTo>
                        <a:lnTo>
                          <a:pt x="11" y="256"/>
                        </a:lnTo>
                        <a:lnTo>
                          <a:pt x="11" y="234"/>
                        </a:lnTo>
                        <a:lnTo>
                          <a:pt x="11" y="212"/>
                        </a:lnTo>
                        <a:lnTo>
                          <a:pt x="22" y="189"/>
                        </a:lnTo>
                        <a:lnTo>
                          <a:pt x="22" y="178"/>
                        </a:lnTo>
                        <a:lnTo>
                          <a:pt x="11" y="156"/>
                        </a:lnTo>
                        <a:lnTo>
                          <a:pt x="11" y="122"/>
                        </a:lnTo>
                        <a:lnTo>
                          <a:pt x="0" y="89"/>
                        </a:lnTo>
                        <a:lnTo>
                          <a:pt x="0" y="55"/>
                        </a:lnTo>
                        <a:lnTo>
                          <a:pt x="0" y="33"/>
                        </a:lnTo>
                        <a:lnTo>
                          <a:pt x="11" y="11"/>
                        </a:lnTo>
                        <a:lnTo>
                          <a:pt x="33" y="0"/>
                        </a:lnTo>
                        <a:close/>
                      </a:path>
                    </a:pathLst>
                  </a:custGeom>
                  <a:solidFill>
                    <a:srgbClr val="5475e8"/>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Freeform 1273"/>
                  <p:cNvSpPr/>
                  <p:nvPr/>
                </p:nvSpPr>
                <p:spPr>
                  <a:xfrm rot="111600">
                    <a:off x="2884680" y="993600"/>
                    <a:ext cx="9720" cy="2880"/>
                  </a:xfrm>
                  <a:custGeom>
                    <a:avLst/>
                    <a:gdLst>
                      <a:gd name="textAreaLeft" fmla="*/ 0 w 9720"/>
                      <a:gd name="textAreaRight" fmla="*/ 10080 w 9720"/>
                      <a:gd name="textAreaTop" fmla="*/ 0 h 2880"/>
                      <a:gd name="textAreaBottom" fmla="*/ 3240 h 2880"/>
                    </a:gdLst>
                    <a:ahLst/>
                    <a:rect l="textAreaLeft" t="textAreaTop" r="textAreaRight" b="textAreaBottom"/>
                    <a:pathLst>
                      <a:path w="101" h="22">
                        <a:moveTo>
                          <a:pt x="101" y="11"/>
                        </a:moveTo>
                        <a:lnTo>
                          <a:pt x="89" y="11"/>
                        </a:lnTo>
                        <a:lnTo>
                          <a:pt x="78" y="0"/>
                        </a:lnTo>
                        <a:lnTo>
                          <a:pt x="67" y="0"/>
                        </a:lnTo>
                        <a:lnTo>
                          <a:pt x="56" y="0"/>
                        </a:lnTo>
                        <a:lnTo>
                          <a:pt x="45" y="0"/>
                        </a:lnTo>
                        <a:lnTo>
                          <a:pt x="34" y="0"/>
                        </a:lnTo>
                        <a:lnTo>
                          <a:pt x="23" y="0"/>
                        </a:lnTo>
                        <a:lnTo>
                          <a:pt x="11" y="0"/>
                        </a:lnTo>
                        <a:lnTo>
                          <a:pt x="0" y="0"/>
                        </a:lnTo>
                        <a:lnTo>
                          <a:pt x="0" y="22"/>
                        </a:lnTo>
                        <a:lnTo>
                          <a:pt x="11" y="22"/>
                        </a:lnTo>
                        <a:lnTo>
                          <a:pt x="23" y="22"/>
                        </a:lnTo>
                        <a:lnTo>
                          <a:pt x="34" y="11"/>
                        </a:lnTo>
                        <a:lnTo>
                          <a:pt x="45" y="11"/>
                        </a:lnTo>
                        <a:lnTo>
                          <a:pt x="56" y="11"/>
                        </a:lnTo>
                        <a:lnTo>
                          <a:pt x="67" y="11"/>
                        </a:lnTo>
                        <a:lnTo>
                          <a:pt x="78" y="11"/>
                        </a:lnTo>
                        <a:lnTo>
                          <a:pt x="89" y="22"/>
                        </a:lnTo>
                        <a:lnTo>
                          <a:pt x="101"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Freeform 1272"/>
                  <p:cNvSpPr/>
                  <p:nvPr/>
                </p:nvSpPr>
                <p:spPr>
                  <a:xfrm rot="111600">
                    <a:off x="2892600" y="995400"/>
                    <a:ext cx="10800" cy="38520"/>
                  </a:xfrm>
                  <a:custGeom>
                    <a:avLst/>
                    <a:gdLst>
                      <a:gd name="textAreaLeft" fmla="*/ 0 w 10800"/>
                      <a:gd name="textAreaRight" fmla="*/ 11160 w 10800"/>
                      <a:gd name="textAreaTop" fmla="*/ 0 h 38520"/>
                      <a:gd name="textAreaBottom" fmla="*/ 38880 h 38520"/>
                    </a:gdLst>
                    <a:ahLst/>
                    <a:rect l="textAreaLeft" t="textAreaTop" r="textAreaRight" b="textAreaBottom"/>
                    <a:pathLst>
                      <a:path w="112" h="290">
                        <a:moveTo>
                          <a:pt x="56" y="290"/>
                        </a:moveTo>
                        <a:lnTo>
                          <a:pt x="56" y="290"/>
                        </a:lnTo>
                        <a:lnTo>
                          <a:pt x="79" y="245"/>
                        </a:lnTo>
                        <a:lnTo>
                          <a:pt x="101" y="200"/>
                        </a:lnTo>
                        <a:lnTo>
                          <a:pt x="112" y="167"/>
                        </a:lnTo>
                        <a:lnTo>
                          <a:pt x="101" y="122"/>
                        </a:lnTo>
                        <a:lnTo>
                          <a:pt x="90" y="89"/>
                        </a:lnTo>
                        <a:lnTo>
                          <a:pt x="67" y="55"/>
                        </a:lnTo>
                        <a:lnTo>
                          <a:pt x="45" y="22"/>
                        </a:lnTo>
                        <a:lnTo>
                          <a:pt x="12" y="0"/>
                        </a:lnTo>
                        <a:lnTo>
                          <a:pt x="0" y="11"/>
                        </a:lnTo>
                        <a:lnTo>
                          <a:pt x="34" y="33"/>
                        </a:lnTo>
                        <a:lnTo>
                          <a:pt x="56" y="67"/>
                        </a:lnTo>
                        <a:lnTo>
                          <a:pt x="79" y="89"/>
                        </a:lnTo>
                        <a:lnTo>
                          <a:pt x="90" y="122"/>
                        </a:lnTo>
                        <a:lnTo>
                          <a:pt x="90" y="167"/>
                        </a:lnTo>
                        <a:lnTo>
                          <a:pt x="90" y="200"/>
                        </a:lnTo>
                        <a:lnTo>
                          <a:pt x="67" y="234"/>
                        </a:lnTo>
                        <a:lnTo>
                          <a:pt x="45" y="278"/>
                        </a:lnTo>
                        <a:lnTo>
                          <a:pt x="56" y="290"/>
                        </a:lnTo>
                        <a:close/>
                      </a:path>
                    </a:pathLst>
                  </a:custGeom>
                  <a:solidFill>
                    <a:srgbClr val="000000"/>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Freeform 1271"/>
                  <p:cNvSpPr/>
                  <p:nvPr/>
                </p:nvSpPr>
                <p:spPr>
                  <a:xfrm rot="111600">
                    <a:off x="2880360" y="1018800"/>
                    <a:ext cx="17280" cy="17640"/>
                  </a:xfrm>
                  <a:custGeom>
                    <a:avLst/>
                    <a:gdLst>
                      <a:gd name="textAreaLeft" fmla="*/ 0 w 17280"/>
                      <a:gd name="textAreaRight" fmla="*/ 17640 w 17280"/>
                      <a:gd name="textAreaTop" fmla="*/ 0 h 17640"/>
                      <a:gd name="textAreaBottom" fmla="*/ 18000 h 17640"/>
                    </a:gdLst>
                    <a:ahLst/>
                    <a:rect l="textAreaLeft" t="textAreaTop" r="textAreaRight" b="textAreaBottom"/>
                    <a:pathLst>
                      <a:path w="178" h="134">
                        <a:moveTo>
                          <a:pt x="11" y="11"/>
                        </a:moveTo>
                        <a:lnTo>
                          <a:pt x="11" y="0"/>
                        </a:lnTo>
                        <a:lnTo>
                          <a:pt x="0" y="34"/>
                        </a:lnTo>
                        <a:lnTo>
                          <a:pt x="0" y="56"/>
                        </a:lnTo>
                        <a:lnTo>
                          <a:pt x="0" y="78"/>
                        </a:lnTo>
                        <a:lnTo>
                          <a:pt x="0" y="100"/>
                        </a:lnTo>
                        <a:lnTo>
                          <a:pt x="11" y="112"/>
                        </a:lnTo>
                        <a:lnTo>
                          <a:pt x="22" y="123"/>
                        </a:lnTo>
                        <a:lnTo>
                          <a:pt x="33" y="123"/>
                        </a:lnTo>
                        <a:lnTo>
                          <a:pt x="56" y="134"/>
                        </a:lnTo>
                        <a:lnTo>
                          <a:pt x="67" y="134"/>
                        </a:lnTo>
                        <a:lnTo>
                          <a:pt x="78" y="134"/>
                        </a:lnTo>
                        <a:lnTo>
                          <a:pt x="100" y="134"/>
                        </a:lnTo>
                        <a:lnTo>
                          <a:pt x="111" y="123"/>
                        </a:lnTo>
                        <a:lnTo>
                          <a:pt x="134" y="123"/>
                        </a:lnTo>
                        <a:lnTo>
                          <a:pt x="145" y="123"/>
                        </a:lnTo>
                        <a:lnTo>
                          <a:pt x="167" y="112"/>
                        </a:lnTo>
                        <a:lnTo>
                          <a:pt x="178" y="112"/>
                        </a:lnTo>
                        <a:lnTo>
                          <a:pt x="167" y="100"/>
                        </a:lnTo>
                        <a:lnTo>
                          <a:pt x="156" y="100"/>
                        </a:lnTo>
                        <a:lnTo>
                          <a:pt x="145" y="100"/>
                        </a:lnTo>
                        <a:lnTo>
                          <a:pt x="134" y="112"/>
                        </a:lnTo>
                        <a:lnTo>
                          <a:pt x="111" y="112"/>
                        </a:lnTo>
                        <a:lnTo>
                          <a:pt x="100" y="112"/>
                        </a:lnTo>
                        <a:lnTo>
                          <a:pt x="78" y="112"/>
                        </a:lnTo>
                        <a:lnTo>
                          <a:pt x="67" y="112"/>
                        </a:lnTo>
                        <a:lnTo>
                          <a:pt x="56" y="112"/>
                        </a:lnTo>
                        <a:lnTo>
                          <a:pt x="44" y="112"/>
                        </a:lnTo>
                        <a:lnTo>
                          <a:pt x="33" y="112"/>
                        </a:lnTo>
                        <a:lnTo>
                          <a:pt x="22" y="100"/>
                        </a:lnTo>
                        <a:lnTo>
                          <a:pt x="11" y="89"/>
                        </a:lnTo>
                        <a:lnTo>
                          <a:pt x="11" y="78"/>
                        </a:lnTo>
                        <a:lnTo>
                          <a:pt x="11" y="56"/>
                        </a:lnTo>
                        <a:lnTo>
                          <a:pt x="22" y="34"/>
                        </a:lnTo>
                        <a:lnTo>
                          <a:pt x="22" y="11"/>
                        </a:lnTo>
                        <a:lnTo>
                          <a:pt x="11" y="11"/>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Freeform 1270"/>
                  <p:cNvSpPr/>
                  <p:nvPr/>
                </p:nvSpPr>
                <p:spPr>
                  <a:xfrm rot="111600">
                    <a:off x="2880000" y="993600"/>
                    <a:ext cx="3960" cy="26280"/>
                  </a:xfrm>
                  <a:custGeom>
                    <a:avLst/>
                    <a:gdLst>
                      <a:gd name="textAreaLeft" fmla="*/ 0 w 3960"/>
                      <a:gd name="textAreaRight" fmla="*/ 4320 w 3960"/>
                      <a:gd name="textAreaTop" fmla="*/ 0 h 26280"/>
                      <a:gd name="textAreaBottom" fmla="*/ 26640 h 26280"/>
                    </a:gdLst>
                    <a:ahLst/>
                    <a:rect l="textAreaLeft" t="textAreaTop" r="textAreaRight" b="textAreaBottom"/>
                    <a:pathLst>
                      <a:path w="44" h="200">
                        <a:moveTo>
                          <a:pt x="44" y="0"/>
                        </a:moveTo>
                        <a:lnTo>
                          <a:pt x="44" y="0"/>
                        </a:lnTo>
                        <a:lnTo>
                          <a:pt x="22" y="11"/>
                        </a:lnTo>
                        <a:lnTo>
                          <a:pt x="11" y="44"/>
                        </a:lnTo>
                        <a:lnTo>
                          <a:pt x="0" y="66"/>
                        </a:lnTo>
                        <a:lnTo>
                          <a:pt x="0" y="100"/>
                        </a:lnTo>
                        <a:lnTo>
                          <a:pt x="11" y="133"/>
                        </a:lnTo>
                        <a:lnTo>
                          <a:pt x="22" y="167"/>
                        </a:lnTo>
                        <a:lnTo>
                          <a:pt x="22" y="189"/>
                        </a:lnTo>
                        <a:lnTo>
                          <a:pt x="22" y="200"/>
                        </a:lnTo>
                        <a:lnTo>
                          <a:pt x="33" y="200"/>
                        </a:lnTo>
                        <a:lnTo>
                          <a:pt x="33" y="189"/>
                        </a:lnTo>
                        <a:lnTo>
                          <a:pt x="33" y="167"/>
                        </a:lnTo>
                        <a:lnTo>
                          <a:pt x="22" y="133"/>
                        </a:lnTo>
                        <a:lnTo>
                          <a:pt x="22" y="100"/>
                        </a:lnTo>
                        <a:lnTo>
                          <a:pt x="22" y="66"/>
                        </a:lnTo>
                        <a:lnTo>
                          <a:pt x="22" y="44"/>
                        </a:lnTo>
                        <a:lnTo>
                          <a:pt x="22" y="22"/>
                        </a:lnTo>
                        <a:lnTo>
                          <a:pt x="44" y="22"/>
                        </a:lnTo>
                        <a:lnTo>
                          <a:pt x="44" y="0"/>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Freeform 1269"/>
                  <p:cNvSpPr/>
                  <p:nvPr/>
                </p:nvSpPr>
                <p:spPr>
                  <a:xfrm rot="111600">
                    <a:off x="2857680" y="984240"/>
                    <a:ext cx="28080" cy="66600"/>
                  </a:xfrm>
                  <a:custGeom>
                    <a:avLst/>
                    <a:gdLst>
                      <a:gd name="textAreaLeft" fmla="*/ 0 w 28080"/>
                      <a:gd name="textAreaRight" fmla="*/ 28440 w 28080"/>
                      <a:gd name="textAreaTop" fmla="*/ 0 h 66600"/>
                      <a:gd name="textAreaBottom" fmla="*/ 66960 h 66600"/>
                    </a:gdLst>
                    <a:ahLst/>
                    <a:rect l="textAreaLeft" t="textAreaTop" r="textAreaRight" b="textAreaBottom"/>
                    <a:pathLst>
                      <a:path w="290" h="501">
                        <a:moveTo>
                          <a:pt x="33" y="22"/>
                        </a:moveTo>
                        <a:lnTo>
                          <a:pt x="44" y="11"/>
                        </a:lnTo>
                        <a:lnTo>
                          <a:pt x="56" y="0"/>
                        </a:lnTo>
                        <a:lnTo>
                          <a:pt x="67" y="0"/>
                        </a:lnTo>
                        <a:lnTo>
                          <a:pt x="78" y="0"/>
                        </a:lnTo>
                        <a:lnTo>
                          <a:pt x="100" y="0"/>
                        </a:lnTo>
                        <a:lnTo>
                          <a:pt x="111" y="0"/>
                        </a:lnTo>
                        <a:lnTo>
                          <a:pt x="134" y="11"/>
                        </a:lnTo>
                        <a:lnTo>
                          <a:pt x="156" y="11"/>
                        </a:lnTo>
                        <a:lnTo>
                          <a:pt x="178" y="22"/>
                        </a:lnTo>
                        <a:lnTo>
                          <a:pt x="189" y="33"/>
                        </a:lnTo>
                        <a:lnTo>
                          <a:pt x="212" y="44"/>
                        </a:lnTo>
                        <a:lnTo>
                          <a:pt x="223" y="67"/>
                        </a:lnTo>
                        <a:lnTo>
                          <a:pt x="245" y="78"/>
                        </a:lnTo>
                        <a:lnTo>
                          <a:pt x="256" y="100"/>
                        </a:lnTo>
                        <a:lnTo>
                          <a:pt x="267" y="111"/>
                        </a:lnTo>
                        <a:lnTo>
                          <a:pt x="278" y="133"/>
                        </a:lnTo>
                        <a:lnTo>
                          <a:pt x="290" y="167"/>
                        </a:lnTo>
                        <a:lnTo>
                          <a:pt x="290" y="200"/>
                        </a:lnTo>
                        <a:lnTo>
                          <a:pt x="290" y="234"/>
                        </a:lnTo>
                        <a:lnTo>
                          <a:pt x="290" y="278"/>
                        </a:lnTo>
                        <a:lnTo>
                          <a:pt x="278" y="312"/>
                        </a:lnTo>
                        <a:lnTo>
                          <a:pt x="267" y="345"/>
                        </a:lnTo>
                        <a:lnTo>
                          <a:pt x="256" y="379"/>
                        </a:lnTo>
                        <a:lnTo>
                          <a:pt x="245" y="412"/>
                        </a:lnTo>
                        <a:lnTo>
                          <a:pt x="223" y="434"/>
                        </a:lnTo>
                        <a:lnTo>
                          <a:pt x="200" y="457"/>
                        </a:lnTo>
                        <a:lnTo>
                          <a:pt x="167" y="479"/>
                        </a:lnTo>
                        <a:lnTo>
                          <a:pt x="145" y="490"/>
                        </a:lnTo>
                        <a:lnTo>
                          <a:pt x="111" y="501"/>
                        </a:lnTo>
                        <a:lnTo>
                          <a:pt x="78" y="501"/>
                        </a:lnTo>
                        <a:lnTo>
                          <a:pt x="56" y="490"/>
                        </a:lnTo>
                        <a:lnTo>
                          <a:pt x="33" y="457"/>
                        </a:lnTo>
                        <a:lnTo>
                          <a:pt x="11" y="401"/>
                        </a:lnTo>
                        <a:lnTo>
                          <a:pt x="0" y="334"/>
                        </a:lnTo>
                        <a:lnTo>
                          <a:pt x="0" y="267"/>
                        </a:lnTo>
                        <a:lnTo>
                          <a:pt x="0" y="211"/>
                        </a:lnTo>
                        <a:lnTo>
                          <a:pt x="0" y="145"/>
                        </a:lnTo>
                        <a:lnTo>
                          <a:pt x="11" y="89"/>
                        </a:lnTo>
                        <a:lnTo>
                          <a:pt x="22" y="55"/>
                        </a:lnTo>
                        <a:lnTo>
                          <a:pt x="33" y="22"/>
                        </a:lnTo>
                        <a:close/>
                      </a:path>
                    </a:pathLst>
                  </a:custGeom>
                  <a:solidFill>
                    <a:srgbClr val="5475e8"/>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Freeform 1268"/>
                  <p:cNvSpPr/>
                  <p:nvPr/>
                </p:nvSpPr>
                <p:spPr>
                  <a:xfrm rot="111600">
                    <a:off x="2861280" y="982800"/>
                    <a:ext cx="24840" cy="19080"/>
                  </a:xfrm>
                  <a:custGeom>
                    <a:avLst/>
                    <a:gdLst>
                      <a:gd name="textAreaLeft" fmla="*/ 0 w 24840"/>
                      <a:gd name="textAreaRight" fmla="*/ 25200 w 24840"/>
                      <a:gd name="textAreaTop" fmla="*/ 0 h 19080"/>
                      <a:gd name="textAreaBottom" fmla="*/ 19440 h 19080"/>
                    </a:gdLst>
                    <a:ahLst/>
                    <a:rect l="textAreaLeft" t="textAreaTop" r="textAreaRight" b="textAreaBottom"/>
                    <a:pathLst>
                      <a:path w="256" h="144">
                        <a:moveTo>
                          <a:pt x="256" y="144"/>
                        </a:moveTo>
                        <a:lnTo>
                          <a:pt x="256" y="144"/>
                        </a:lnTo>
                        <a:lnTo>
                          <a:pt x="256" y="122"/>
                        </a:lnTo>
                        <a:lnTo>
                          <a:pt x="234" y="100"/>
                        </a:lnTo>
                        <a:lnTo>
                          <a:pt x="223" y="89"/>
                        </a:lnTo>
                        <a:lnTo>
                          <a:pt x="212" y="66"/>
                        </a:lnTo>
                        <a:lnTo>
                          <a:pt x="190" y="55"/>
                        </a:lnTo>
                        <a:lnTo>
                          <a:pt x="167" y="44"/>
                        </a:lnTo>
                        <a:lnTo>
                          <a:pt x="156" y="33"/>
                        </a:lnTo>
                        <a:lnTo>
                          <a:pt x="134" y="22"/>
                        </a:lnTo>
                        <a:lnTo>
                          <a:pt x="112" y="11"/>
                        </a:lnTo>
                        <a:lnTo>
                          <a:pt x="100" y="0"/>
                        </a:lnTo>
                        <a:lnTo>
                          <a:pt x="78" y="0"/>
                        </a:lnTo>
                        <a:lnTo>
                          <a:pt x="56" y="0"/>
                        </a:lnTo>
                        <a:lnTo>
                          <a:pt x="45" y="0"/>
                        </a:lnTo>
                        <a:lnTo>
                          <a:pt x="22" y="11"/>
                        </a:lnTo>
                        <a:lnTo>
                          <a:pt x="11" y="11"/>
                        </a:lnTo>
                        <a:lnTo>
                          <a:pt x="0" y="22"/>
                        </a:lnTo>
                        <a:lnTo>
                          <a:pt x="11" y="33"/>
                        </a:lnTo>
                        <a:lnTo>
                          <a:pt x="22" y="22"/>
                        </a:lnTo>
                        <a:lnTo>
                          <a:pt x="34" y="22"/>
                        </a:lnTo>
                        <a:lnTo>
                          <a:pt x="45" y="11"/>
                        </a:lnTo>
                        <a:lnTo>
                          <a:pt x="56" y="11"/>
                        </a:lnTo>
                        <a:lnTo>
                          <a:pt x="78" y="11"/>
                        </a:lnTo>
                        <a:lnTo>
                          <a:pt x="89" y="22"/>
                        </a:lnTo>
                        <a:lnTo>
                          <a:pt x="112" y="22"/>
                        </a:lnTo>
                        <a:lnTo>
                          <a:pt x="134" y="33"/>
                        </a:lnTo>
                        <a:lnTo>
                          <a:pt x="145" y="44"/>
                        </a:lnTo>
                        <a:lnTo>
                          <a:pt x="167" y="55"/>
                        </a:lnTo>
                        <a:lnTo>
                          <a:pt x="178" y="66"/>
                        </a:lnTo>
                        <a:lnTo>
                          <a:pt x="201" y="78"/>
                        </a:lnTo>
                        <a:lnTo>
                          <a:pt x="212" y="100"/>
                        </a:lnTo>
                        <a:lnTo>
                          <a:pt x="223" y="111"/>
                        </a:lnTo>
                        <a:lnTo>
                          <a:pt x="234" y="122"/>
                        </a:lnTo>
                        <a:lnTo>
                          <a:pt x="245" y="144"/>
                        </a:lnTo>
                        <a:lnTo>
                          <a:pt x="256" y="144"/>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1267"/>
                  <p:cNvSpPr/>
                  <p:nvPr/>
                </p:nvSpPr>
                <p:spPr>
                  <a:xfrm rot="111600">
                    <a:off x="2880720" y="1002240"/>
                    <a:ext cx="6480" cy="37080"/>
                  </a:xfrm>
                  <a:custGeom>
                    <a:avLst/>
                    <a:gdLst>
                      <a:gd name="textAreaLeft" fmla="*/ 0 w 6480"/>
                      <a:gd name="textAreaRight" fmla="*/ 6840 w 6480"/>
                      <a:gd name="textAreaTop" fmla="*/ 0 h 37080"/>
                      <a:gd name="textAreaBottom" fmla="*/ 37440 h 37080"/>
                    </a:gdLst>
                    <a:ahLst/>
                    <a:rect l="textAreaLeft" t="textAreaTop" r="textAreaRight" b="textAreaBottom"/>
                    <a:pathLst>
                      <a:path w="67" h="279">
                        <a:moveTo>
                          <a:pt x="11" y="279"/>
                        </a:moveTo>
                        <a:lnTo>
                          <a:pt x="11" y="279"/>
                        </a:lnTo>
                        <a:lnTo>
                          <a:pt x="33" y="257"/>
                        </a:lnTo>
                        <a:lnTo>
                          <a:pt x="44" y="223"/>
                        </a:lnTo>
                        <a:lnTo>
                          <a:pt x="56" y="179"/>
                        </a:lnTo>
                        <a:lnTo>
                          <a:pt x="67" y="145"/>
                        </a:lnTo>
                        <a:lnTo>
                          <a:pt x="67" y="101"/>
                        </a:lnTo>
                        <a:lnTo>
                          <a:pt x="67" y="67"/>
                        </a:lnTo>
                        <a:lnTo>
                          <a:pt x="56" y="34"/>
                        </a:lnTo>
                        <a:lnTo>
                          <a:pt x="44" y="0"/>
                        </a:lnTo>
                        <a:lnTo>
                          <a:pt x="33" y="0"/>
                        </a:lnTo>
                        <a:lnTo>
                          <a:pt x="44" y="34"/>
                        </a:lnTo>
                        <a:lnTo>
                          <a:pt x="56" y="67"/>
                        </a:lnTo>
                        <a:lnTo>
                          <a:pt x="56" y="101"/>
                        </a:lnTo>
                        <a:lnTo>
                          <a:pt x="44" y="145"/>
                        </a:lnTo>
                        <a:lnTo>
                          <a:pt x="44" y="179"/>
                        </a:lnTo>
                        <a:lnTo>
                          <a:pt x="33" y="212"/>
                        </a:lnTo>
                        <a:lnTo>
                          <a:pt x="11" y="246"/>
                        </a:lnTo>
                        <a:lnTo>
                          <a:pt x="0" y="279"/>
                        </a:lnTo>
                        <a:lnTo>
                          <a:pt x="11" y="279"/>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Freeform 1266"/>
                  <p:cNvSpPr/>
                  <p:nvPr/>
                </p:nvSpPr>
                <p:spPr>
                  <a:xfrm rot="111600">
                    <a:off x="2860200" y="1038960"/>
                    <a:ext cx="20520" cy="12960"/>
                  </a:xfrm>
                  <a:custGeom>
                    <a:avLst/>
                    <a:gdLst>
                      <a:gd name="textAreaLeft" fmla="*/ 0 w 20520"/>
                      <a:gd name="textAreaRight" fmla="*/ 20880 w 20520"/>
                      <a:gd name="textAreaTop" fmla="*/ 0 h 12960"/>
                      <a:gd name="textAreaBottom" fmla="*/ 13320 h 12960"/>
                    </a:gdLst>
                    <a:ahLst/>
                    <a:rect l="textAreaLeft" t="textAreaTop" r="textAreaRight" b="textAreaBottom"/>
                    <a:pathLst>
                      <a:path w="212" h="100">
                        <a:moveTo>
                          <a:pt x="0" y="56"/>
                        </a:moveTo>
                        <a:lnTo>
                          <a:pt x="0" y="56"/>
                        </a:lnTo>
                        <a:lnTo>
                          <a:pt x="23" y="78"/>
                        </a:lnTo>
                        <a:lnTo>
                          <a:pt x="45" y="100"/>
                        </a:lnTo>
                        <a:lnTo>
                          <a:pt x="78" y="100"/>
                        </a:lnTo>
                        <a:lnTo>
                          <a:pt x="112" y="89"/>
                        </a:lnTo>
                        <a:lnTo>
                          <a:pt x="145" y="67"/>
                        </a:lnTo>
                        <a:lnTo>
                          <a:pt x="167" y="45"/>
                        </a:lnTo>
                        <a:lnTo>
                          <a:pt x="190" y="22"/>
                        </a:lnTo>
                        <a:lnTo>
                          <a:pt x="212" y="0"/>
                        </a:lnTo>
                        <a:lnTo>
                          <a:pt x="201" y="0"/>
                        </a:lnTo>
                        <a:lnTo>
                          <a:pt x="179" y="11"/>
                        </a:lnTo>
                        <a:lnTo>
                          <a:pt x="156" y="34"/>
                        </a:lnTo>
                        <a:lnTo>
                          <a:pt x="134" y="56"/>
                        </a:lnTo>
                        <a:lnTo>
                          <a:pt x="101" y="78"/>
                        </a:lnTo>
                        <a:lnTo>
                          <a:pt x="78" y="78"/>
                        </a:lnTo>
                        <a:lnTo>
                          <a:pt x="56" y="78"/>
                        </a:lnTo>
                        <a:lnTo>
                          <a:pt x="34" y="67"/>
                        </a:lnTo>
                        <a:lnTo>
                          <a:pt x="11" y="45"/>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Freeform 1265"/>
                  <p:cNvSpPr/>
                  <p:nvPr/>
                </p:nvSpPr>
                <p:spPr>
                  <a:xfrm rot="111600">
                    <a:off x="2856960" y="985320"/>
                    <a:ext cx="5040" cy="60480"/>
                  </a:xfrm>
                  <a:custGeom>
                    <a:avLst/>
                    <a:gdLst>
                      <a:gd name="textAreaLeft" fmla="*/ 0 w 5040"/>
                      <a:gd name="textAreaRight" fmla="*/ 5040 w 5040"/>
                      <a:gd name="textAreaTop" fmla="*/ 0 h 60480"/>
                      <a:gd name="textAreaBottom" fmla="*/ 60840 h 60480"/>
                    </a:gdLst>
                    <a:ahLst/>
                    <a:rect l="textAreaLeft" t="textAreaTop" r="textAreaRight" b="textAreaBottom"/>
                    <a:pathLst>
                      <a:path w="55" h="457">
                        <a:moveTo>
                          <a:pt x="33" y="0"/>
                        </a:moveTo>
                        <a:lnTo>
                          <a:pt x="33" y="11"/>
                        </a:lnTo>
                        <a:lnTo>
                          <a:pt x="22" y="33"/>
                        </a:lnTo>
                        <a:lnTo>
                          <a:pt x="11" y="78"/>
                        </a:lnTo>
                        <a:lnTo>
                          <a:pt x="0" y="134"/>
                        </a:lnTo>
                        <a:lnTo>
                          <a:pt x="0" y="200"/>
                        </a:lnTo>
                        <a:lnTo>
                          <a:pt x="0" y="256"/>
                        </a:lnTo>
                        <a:lnTo>
                          <a:pt x="11" y="323"/>
                        </a:lnTo>
                        <a:lnTo>
                          <a:pt x="22" y="390"/>
                        </a:lnTo>
                        <a:lnTo>
                          <a:pt x="44" y="457"/>
                        </a:lnTo>
                        <a:lnTo>
                          <a:pt x="55" y="446"/>
                        </a:lnTo>
                        <a:lnTo>
                          <a:pt x="33" y="390"/>
                        </a:lnTo>
                        <a:lnTo>
                          <a:pt x="22" y="323"/>
                        </a:lnTo>
                        <a:lnTo>
                          <a:pt x="11" y="256"/>
                        </a:lnTo>
                        <a:lnTo>
                          <a:pt x="11" y="200"/>
                        </a:lnTo>
                        <a:lnTo>
                          <a:pt x="22" y="134"/>
                        </a:lnTo>
                        <a:lnTo>
                          <a:pt x="22" y="89"/>
                        </a:lnTo>
                        <a:lnTo>
                          <a:pt x="33" y="44"/>
                        </a:lnTo>
                        <a:lnTo>
                          <a:pt x="44" y="11"/>
                        </a:lnTo>
                        <a:lnTo>
                          <a:pt x="33" y="0"/>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Freeform 1264"/>
                  <p:cNvSpPr/>
                  <p:nvPr/>
                </p:nvSpPr>
                <p:spPr>
                  <a:xfrm rot="111600">
                    <a:off x="2739240" y="971280"/>
                    <a:ext cx="24840" cy="66600"/>
                  </a:xfrm>
                  <a:custGeom>
                    <a:avLst/>
                    <a:gdLst>
                      <a:gd name="textAreaLeft" fmla="*/ 0 w 24840"/>
                      <a:gd name="textAreaRight" fmla="*/ 25200 w 24840"/>
                      <a:gd name="textAreaTop" fmla="*/ 0 h 66600"/>
                      <a:gd name="textAreaBottom" fmla="*/ 66960 h 66600"/>
                    </a:gdLst>
                    <a:ahLst/>
                    <a:rect l="textAreaLeft" t="textAreaTop" r="textAreaRight" b="textAreaBottom"/>
                    <a:pathLst>
                      <a:path w="256" h="501">
                        <a:moveTo>
                          <a:pt x="256" y="145"/>
                        </a:moveTo>
                        <a:lnTo>
                          <a:pt x="223" y="111"/>
                        </a:lnTo>
                        <a:lnTo>
                          <a:pt x="212" y="78"/>
                        </a:lnTo>
                        <a:lnTo>
                          <a:pt x="201" y="56"/>
                        </a:lnTo>
                        <a:lnTo>
                          <a:pt x="189" y="33"/>
                        </a:lnTo>
                        <a:lnTo>
                          <a:pt x="178" y="33"/>
                        </a:lnTo>
                        <a:lnTo>
                          <a:pt x="167" y="22"/>
                        </a:lnTo>
                        <a:lnTo>
                          <a:pt x="156" y="11"/>
                        </a:lnTo>
                        <a:lnTo>
                          <a:pt x="134" y="0"/>
                        </a:lnTo>
                        <a:lnTo>
                          <a:pt x="123" y="0"/>
                        </a:lnTo>
                        <a:lnTo>
                          <a:pt x="100" y="11"/>
                        </a:lnTo>
                        <a:lnTo>
                          <a:pt x="89" y="22"/>
                        </a:lnTo>
                        <a:lnTo>
                          <a:pt x="78" y="33"/>
                        </a:lnTo>
                        <a:lnTo>
                          <a:pt x="67" y="44"/>
                        </a:lnTo>
                        <a:lnTo>
                          <a:pt x="56" y="56"/>
                        </a:lnTo>
                        <a:lnTo>
                          <a:pt x="56" y="78"/>
                        </a:lnTo>
                        <a:lnTo>
                          <a:pt x="45" y="89"/>
                        </a:lnTo>
                        <a:lnTo>
                          <a:pt x="33" y="134"/>
                        </a:lnTo>
                        <a:lnTo>
                          <a:pt x="22" y="178"/>
                        </a:lnTo>
                        <a:lnTo>
                          <a:pt x="11" y="234"/>
                        </a:lnTo>
                        <a:lnTo>
                          <a:pt x="0" y="290"/>
                        </a:lnTo>
                        <a:lnTo>
                          <a:pt x="0" y="345"/>
                        </a:lnTo>
                        <a:lnTo>
                          <a:pt x="11" y="401"/>
                        </a:lnTo>
                        <a:lnTo>
                          <a:pt x="22" y="446"/>
                        </a:lnTo>
                        <a:lnTo>
                          <a:pt x="45" y="501"/>
                        </a:lnTo>
                        <a:lnTo>
                          <a:pt x="56" y="501"/>
                        </a:lnTo>
                        <a:lnTo>
                          <a:pt x="67" y="501"/>
                        </a:lnTo>
                        <a:lnTo>
                          <a:pt x="78" y="501"/>
                        </a:lnTo>
                        <a:lnTo>
                          <a:pt x="89" y="501"/>
                        </a:lnTo>
                        <a:lnTo>
                          <a:pt x="100" y="501"/>
                        </a:lnTo>
                        <a:lnTo>
                          <a:pt x="111" y="501"/>
                        </a:lnTo>
                        <a:lnTo>
                          <a:pt x="134" y="490"/>
                        </a:lnTo>
                        <a:lnTo>
                          <a:pt x="156" y="468"/>
                        </a:lnTo>
                        <a:lnTo>
                          <a:pt x="167" y="457"/>
                        </a:lnTo>
                        <a:lnTo>
                          <a:pt x="189" y="435"/>
                        </a:lnTo>
                        <a:lnTo>
                          <a:pt x="201" y="423"/>
                        </a:lnTo>
                        <a:lnTo>
                          <a:pt x="212" y="401"/>
                        </a:lnTo>
                        <a:lnTo>
                          <a:pt x="223" y="390"/>
                        </a:lnTo>
                        <a:lnTo>
                          <a:pt x="234" y="345"/>
                        </a:lnTo>
                        <a:lnTo>
                          <a:pt x="245" y="301"/>
                        </a:lnTo>
                        <a:lnTo>
                          <a:pt x="256" y="256"/>
                        </a:lnTo>
                        <a:lnTo>
                          <a:pt x="256" y="200"/>
                        </a:lnTo>
                        <a:lnTo>
                          <a:pt x="256" y="189"/>
                        </a:lnTo>
                        <a:lnTo>
                          <a:pt x="256" y="178"/>
                        </a:lnTo>
                        <a:lnTo>
                          <a:pt x="256" y="167"/>
                        </a:lnTo>
                        <a:lnTo>
                          <a:pt x="256" y="145"/>
                        </a:lnTo>
                        <a:close/>
                      </a:path>
                    </a:pathLst>
                  </a:custGeom>
                  <a:solidFill>
                    <a:srgbClr val="5475e8"/>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Freeform 1263"/>
                  <p:cNvSpPr/>
                  <p:nvPr/>
                </p:nvSpPr>
                <p:spPr>
                  <a:xfrm rot="111600">
                    <a:off x="2753640" y="969840"/>
                    <a:ext cx="11880" cy="21960"/>
                  </a:xfrm>
                  <a:custGeom>
                    <a:avLst/>
                    <a:gdLst>
                      <a:gd name="textAreaLeft" fmla="*/ 0 w 11880"/>
                      <a:gd name="textAreaRight" fmla="*/ 12240 w 11880"/>
                      <a:gd name="textAreaTop" fmla="*/ 0 h 21960"/>
                      <a:gd name="textAreaBottom" fmla="*/ 22320 h 21960"/>
                    </a:gdLst>
                    <a:ahLst/>
                    <a:rect l="textAreaLeft" t="textAreaTop" r="textAreaRight" b="textAreaBottom"/>
                    <a:pathLst>
                      <a:path w="122" h="167">
                        <a:moveTo>
                          <a:pt x="0" y="22"/>
                        </a:moveTo>
                        <a:lnTo>
                          <a:pt x="0" y="22"/>
                        </a:lnTo>
                        <a:lnTo>
                          <a:pt x="11" y="33"/>
                        </a:lnTo>
                        <a:lnTo>
                          <a:pt x="22" y="33"/>
                        </a:lnTo>
                        <a:lnTo>
                          <a:pt x="33" y="44"/>
                        </a:lnTo>
                        <a:lnTo>
                          <a:pt x="44" y="55"/>
                        </a:lnTo>
                        <a:lnTo>
                          <a:pt x="55" y="67"/>
                        </a:lnTo>
                        <a:lnTo>
                          <a:pt x="67" y="89"/>
                        </a:lnTo>
                        <a:lnTo>
                          <a:pt x="89" y="122"/>
                        </a:lnTo>
                        <a:lnTo>
                          <a:pt x="111" y="167"/>
                        </a:lnTo>
                        <a:lnTo>
                          <a:pt x="122" y="156"/>
                        </a:lnTo>
                        <a:lnTo>
                          <a:pt x="100" y="111"/>
                        </a:lnTo>
                        <a:lnTo>
                          <a:pt x="89" y="78"/>
                        </a:lnTo>
                        <a:lnTo>
                          <a:pt x="67" y="55"/>
                        </a:lnTo>
                        <a:lnTo>
                          <a:pt x="55" y="44"/>
                        </a:lnTo>
                        <a:lnTo>
                          <a:pt x="44" y="33"/>
                        </a:lnTo>
                        <a:lnTo>
                          <a:pt x="33" y="22"/>
                        </a:lnTo>
                        <a:lnTo>
                          <a:pt x="22" y="22"/>
                        </a:lnTo>
                        <a:lnTo>
                          <a:pt x="11" y="11"/>
                        </a:lnTo>
                        <a:lnTo>
                          <a:pt x="0" y="0"/>
                        </a:lnTo>
                        <a:lnTo>
                          <a:pt x="0" y="22"/>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Freeform 1262"/>
                  <p:cNvSpPr/>
                  <p:nvPr/>
                </p:nvSpPr>
                <p:spPr>
                  <a:xfrm rot="111600">
                    <a:off x="2743920" y="969480"/>
                    <a:ext cx="9720" cy="12960"/>
                  </a:xfrm>
                  <a:custGeom>
                    <a:avLst/>
                    <a:gdLst>
                      <a:gd name="textAreaLeft" fmla="*/ 0 w 9720"/>
                      <a:gd name="textAreaRight" fmla="*/ 10080 w 9720"/>
                      <a:gd name="textAreaTop" fmla="*/ 0 h 12960"/>
                      <a:gd name="textAreaBottom" fmla="*/ 13320 h 12960"/>
                    </a:gdLst>
                    <a:ahLst/>
                    <a:rect l="textAreaLeft" t="textAreaTop" r="textAreaRight" b="textAreaBottom"/>
                    <a:pathLst>
                      <a:path w="101" h="100">
                        <a:moveTo>
                          <a:pt x="23" y="100"/>
                        </a:moveTo>
                        <a:lnTo>
                          <a:pt x="23" y="100"/>
                        </a:lnTo>
                        <a:lnTo>
                          <a:pt x="23" y="89"/>
                        </a:lnTo>
                        <a:lnTo>
                          <a:pt x="34" y="78"/>
                        </a:lnTo>
                        <a:lnTo>
                          <a:pt x="34" y="55"/>
                        </a:lnTo>
                        <a:lnTo>
                          <a:pt x="45" y="44"/>
                        </a:lnTo>
                        <a:lnTo>
                          <a:pt x="56" y="33"/>
                        </a:lnTo>
                        <a:lnTo>
                          <a:pt x="67" y="22"/>
                        </a:lnTo>
                        <a:lnTo>
                          <a:pt x="90" y="22"/>
                        </a:lnTo>
                        <a:lnTo>
                          <a:pt x="101" y="22"/>
                        </a:lnTo>
                        <a:lnTo>
                          <a:pt x="101" y="0"/>
                        </a:lnTo>
                        <a:lnTo>
                          <a:pt x="90" y="11"/>
                        </a:lnTo>
                        <a:lnTo>
                          <a:pt x="67" y="11"/>
                        </a:lnTo>
                        <a:lnTo>
                          <a:pt x="45" y="22"/>
                        </a:lnTo>
                        <a:lnTo>
                          <a:pt x="34" y="33"/>
                        </a:lnTo>
                        <a:lnTo>
                          <a:pt x="23" y="55"/>
                        </a:lnTo>
                        <a:lnTo>
                          <a:pt x="23" y="67"/>
                        </a:lnTo>
                        <a:lnTo>
                          <a:pt x="12" y="89"/>
                        </a:lnTo>
                        <a:lnTo>
                          <a:pt x="0" y="100"/>
                        </a:lnTo>
                        <a:lnTo>
                          <a:pt x="23" y="10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Freeform 1261"/>
                  <p:cNvSpPr/>
                  <p:nvPr/>
                </p:nvSpPr>
                <p:spPr>
                  <a:xfrm rot="111600">
                    <a:off x="2738160" y="982800"/>
                    <a:ext cx="6480" cy="56160"/>
                  </a:xfrm>
                  <a:custGeom>
                    <a:avLst/>
                    <a:gdLst>
                      <a:gd name="textAreaLeft" fmla="*/ 0 w 6480"/>
                      <a:gd name="textAreaRight" fmla="*/ 6840 w 6480"/>
                      <a:gd name="textAreaTop" fmla="*/ 0 h 56160"/>
                      <a:gd name="textAreaBottom" fmla="*/ 56520 h 56160"/>
                    </a:gdLst>
                    <a:ahLst/>
                    <a:rect l="textAreaLeft" t="textAreaTop" r="textAreaRight" b="textAreaBottom"/>
                    <a:pathLst>
                      <a:path w="67" h="424">
                        <a:moveTo>
                          <a:pt x="56" y="401"/>
                        </a:moveTo>
                        <a:lnTo>
                          <a:pt x="67" y="412"/>
                        </a:lnTo>
                        <a:lnTo>
                          <a:pt x="44" y="357"/>
                        </a:lnTo>
                        <a:lnTo>
                          <a:pt x="22" y="301"/>
                        </a:lnTo>
                        <a:lnTo>
                          <a:pt x="22" y="256"/>
                        </a:lnTo>
                        <a:lnTo>
                          <a:pt x="22" y="201"/>
                        </a:lnTo>
                        <a:lnTo>
                          <a:pt x="22" y="145"/>
                        </a:lnTo>
                        <a:lnTo>
                          <a:pt x="33" y="89"/>
                        </a:lnTo>
                        <a:lnTo>
                          <a:pt x="44" y="45"/>
                        </a:lnTo>
                        <a:lnTo>
                          <a:pt x="67" y="0"/>
                        </a:lnTo>
                        <a:lnTo>
                          <a:pt x="44" y="0"/>
                        </a:lnTo>
                        <a:lnTo>
                          <a:pt x="33" y="45"/>
                        </a:lnTo>
                        <a:lnTo>
                          <a:pt x="22" y="89"/>
                        </a:lnTo>
                        <a:lnTo>
                          <a:pt x="11" y="145"/>
                        </a:lnTo>
                        <a:lnTo>
                          <a:pt x="0" y="201"/>
                        </a:lnTo>
                        <a:lnTo>
                          <a:pt x="0" y="256"/>
                        </a:lnTo>
                        <a:lnTo>
                          <a:pt x="11" y="312"/>
                        </a:lnTo>
                        <a:lnTo>
                          <a:pt x="22" y="368"/>
                        </a:lnTo>
                        <a:lnTo>
                          <a:pt x="56" y="424"/>
                        </a:lnTo>
                        <a:lnTo>
                          <a:pt x="56" y="401"/>
                        </a:lnTo>
                        <a:close/>
                      </a:path>
                    </a:pathLst>
                  </a:custGeom>
                  <a:solidFill>
                    <a:srgbClr val="000000"/>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Freeform 1260"/>
                  <p:cNvSpPr/>
                  <p:nvPr/>
                </p:nvSpPr>
                <p:spPr>
                  <a:xfrm rot="111600">
                    <a:off x="2742840" y="1036440"/>
                    <a:ext cx="5040" cy="2880"/>
                  </a:xfrm>
                  <a:custGeom>
                    <a:avLst/>
                    <a:gdLst>
                      <a:gd name="textAreaLeft" fmla="*/ 0 w 5040"/>
                      <a:gd name="textAreaRight" fmla="*/ 5040 w 5040"/>
                      <a:gd name="textAreaTop" fmla="*/ 0 h 2880"/>
                      <a:gd name="textAreaBottom" fmla="*/ 3240 h 2880"/>
                    </a:gdLst>
                    <a:ahLst/>
                    <a:rect l="textAreaLeft" t="textAreaTop" r="textAreaRight" b="textAreaBottom"/>
                    <a:pathLst>
                      <a:path w="55" h="23">
                        <a:moveTo>
                          <a:pt x="55" y="11"/>
                        </a:moveTo>
                        <a:lnTo>
                          <a:pt x="55" y="11"/>
                        </a:lnTo>
                        <a:lnTo>
                          <a:pt x="44" y="11"/>
                        </a:lnTo>
                        <a:lnTo>
                          <a:pt x="33" y="11"/>
                        </a:lnTo>
                        <a:lnTo>
                          <a:pt x="22" y="11"/>
                        </a:lnTo>
                        <a:lnTo>
                          <a:pt x="11" y="11"/>
                        </a:lnTo>
                        <a:lnTo>
                          <a:pt x="11" y="0"/>
                        </a:lnTo>
                        <a:lnTo>
                          <a:pt x="0" y="0"/>
                        </a:lnTo>
                        <a:lnTo>
                          <a:pt x="0" y="23"/>
                        </a:lnTo>
                        <a:lnTo>
                          <a:pt x="11" y="23"/>
                        </a:lnTo>
                        <a:lnTo>
                          <a:pt x="22" y="23"/>
                        </a:lnTo>
                        <a:lnTo>
                          <a:pt x="33" y="23"/>
                        </a:lnTo>
                        <a:lnTo>
                          <a:pt x="44" y="23"/>
                        </a:lnTo>
                        <a:lnTo>
                          <a:pt x="55" y="23"/>
                        </a:lnTo>
                        <a:lnTo>
                          <a:pt x="55"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1259"/>
                  <p:cNvSpPr/>
                  <p:nvPr/>
                </p:nvSpPr>
                <p:spPr>
                  <a:xfrm rot="111600">
                    <a:off x="2748600" y="1023480"/>
                    <a:ext cx="11880" cy="16200"/>
                  </a:xfrm>
                  <a:custGeom>
                    <a:avLst/>
                    <a:gdLst>
                      <a:gd name="textAreaLeft" fmla="*/ 0 w 11880"/>
                      <a:gd name="textAreaRight" fmla="*/ 12240 w 11880"/>
                      <a:gd name="textAreaTop" fmla="*/ 0 h 16200"/>
                      <a:gd name="textAreaBottom" fmla="*/ 16560 h 16200"/>
                    </a:gdLst>
                    <a:ahLst/>
                    <a:rect l="textAreaLeft" t="textAreaTop" r="textAreaRight" b="textAreaBottom"/>
                    <a:pathLst>
                      <a:path w="123" h="123">
                        <a:moveTo>
                          <a:pt x="112" y="0"/>
                        </a:moveTo>
                        <a:lnTo>
                          <a:pt x="112" y="0"/>
                        </a:lnTo>
                        <a:lnTo>
                          <a:pt x="112" y="11"/>
                        </a:lnTo>
                        <a:lnTo>
                          <a:pt x="101" y="22"/>
                        </a:lnTo>
                        <a:lnTo>
                          <a:pt x="78" y="45"/>
                        </a:lnTo>
                        <a:lnTo>
                          <a:pt x="67" y="56"/>
                        </a:lnTo>
                        <a:lnTo>
                          <a:pt x="45" y="78"/>
                        </a:lnTo>
                        <a:lnTo>
                          <a:pt x="34" y="89"/>
                        </a:lnTo>
                        <a:lnTo>
                          <a:pt x="11" y="100"/>
                        </a:lnTo>
                        <a:lnTo>
                          <a:pt x="0" y="111"/>
                        </a:lnTo>
                        <a:lnTo>
                          <a:pt x="0" y="123"/>
                        </a:lnTo>
                        <a:lnTo>
                          <a:pt x="23" y="111"/>
                        </a:lnTo>
                        <a:lnTo>
                          <a:pt x="34" y="100"/>
                        </a:lnTo>
                        <a:lnTo>
                          <a:pt x="56" y="89"/>
                        </a:lnTo>
                        <a:lnTo>
                          <a:pt x="78" y="67"/>
                        </a:lnTo>
                        <a:lnTo>
                          <a:pt x="89" y="56"/>
                        </a:lnTo>
                        <a:lnTo>
                          <a:pt x="112" y="33"/>
                        </a:lnTo>
                        <a:lnTo>
                          <a:pt x="123" y="22"/>
                        </a:lnTo>
                        <a:lnTo>
                          <a:pt x="123" y="0"/>
                        </a:lnTo>
                        <a:lnTo>
                          <a:pt x="112" y="0"/>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Freeform 1258"/>
                  <p:cNvSpPr/>
                  <p:nvPr/>
                </p:nvSpPr>
                <p:spPr>
                  <a:xfrm rot="111600">
                    <a:off x="2759760" y="998280"/>
                    <a:ext cx="5400" cy="25200"/>
                  </a:xfrm>
                  <a:custGeom>
                    <a:avLst/>
                    <a:gdLst>
                      <a:gd name="textAreaLeft" fmla="*/ 0 w 5400"/>
                      <a:gd name="textAreaRight" fmla="*/ 5760 w 5400"/>
                      <a:gd name="textAreaTop" fmla="*/ 0 h 25200"/>
                      <a:gd name="textAreaBottom" fmla="*/ 25560 h 25200"/>
                    </a:gdLst>
                    <a:ahLst/>
                    <a:rect l="textAreaLeft" t="textAreaTop" r="textAreaRight" b="textAreaBottom"/>
                    <a:pathLst>
                      <a:path w="56" h="190">
                        <a:moveTo>
                          <a:pt x="44" y="0"/>
                        </a:moveTo>
                        <a:lnTo>
                          <a:pt x="44" y="0"/>
                        </a:lnTo>
                        <a:lnTo>
                          <a:pt x="33" y="56"/>
                        </a:lnTo>
                        <a:lnTo>
                          <a:pt x="33" y="101"/>
                        </a:lnTo>
                        <a:lnTo>
                          <a:pt x="22" y="145"/>
                        </a:lnTo>
                        <a:lnTo>
                          <a:pt x="0" y="190"/>
                        </a:lnTo>
                        <a:lnTo>
                          <a:pt x="11" y="190"/>
                        </a:lnTo>
                        <a:lnTo>
                          <a:pt x="33" y="145"/>
                        </a:lnTo>
                        <a:lnTo>
                          <a:pt x="44" y="101"/>
                        </a:lnTo>
                        <a:lnTo>
                          <a:pt x="56" y="56"/>
                        </a:lnTo>
                        <a:lnTo>
                          <a:pt x="56" y="0"/>
                        </a:lnTo>
                        <a:lnTo>
                          <a:pt x="4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Freeform 1257"/>
                  <p:cNvSpPr/>
                  <p:nvPr/>
                </p:nvSpPr>
                <p:spPr>
                  <a:xfrm rot="111600">
                    <a:off x="2763720" y="991080"/>
                    <a:ext cx="2160" cy="7200"/>
                  </a:xfrm>
                  <a:custGeom>
                    <a:avLst/>
                    <a:gdLst>
                      <a:gd name="textAreaLeft" fmla="*/ 0 w 2160"/>
                      <a:gd name="textAreaRight" fmla="*/ 2520 w 2160"/>
                      <a:gd name="textAreaTop" fmla="*/ 0 h 7200"/>
                      <a:gd name="textAreaBottom" fmla="*/ 7560 h 7200"/>
                    </a:gdLst>
                    <a:ahLst/>
                    <a:rect l="textAreaLeft" t="textAreaTop" r="textAreaRight" b="textAreaBottom"/>
                    <a:pathLst>
                      <a:path w="23" h="55">
                        <a:moveTo>
                          <a:pt x="0" y="11"/>
                        </a:moveTo>
                        <a:lnTo>
                          <a:pt x="0" y="11"/>
                        </a:lnTo>
                        <a:lnTo>
                          <a:pt x="0" y="22"/>
                        </a:lnTo>
                        <a:lnTo>
                          <a:pt x="11" y="33"/>
                        </a:lnTo>
                        <a:lnTo>
                          <a:pt x="11" y="44"/>
                        </a:lnTo>
                        <a:lnTo>
                          <a:pt x="11" y="55"/>
                        </a:lnTo>
                        <a:lnTo>
                          <a:pt x="23" y="55"/>
                        </a:lnTo>
                        <a:lnTo>
                          <a:pt x="23" y="44"/>
                        </a:lnTo>
                        <a:lnTo>
                          <a:pt x="23" y="33"/>
                        </a:lnTo>
                        <a:lnTo>
                          <a:pt x="11" y="22"/>
                        </a:lnTo>
                        <a:lnTo>
                          <a:pt x="11" y="0"/>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Freeform 1256"/>
                  <p:cNvSpPr/>
                  <p:nvPr/>
                </p:nvSpPr>
                <p:spPr>
                  <a:xfrm rot="111600">
                    <a:off x="2759040" y="992520"/>
                    <a:ext cx="14040" cy="29520"/>
                  </a:xfrm>
                  <a:custGeom>
                    <a:avLst/>
                    <a:gdLst>
                      <a:gd name="textAreaLeft" fmla="*/ 0 w 14040"/>
                      <a:gd name="textAreaRight" fmla="*/ 14400 w 14040"/>
                      <a:gd name="textAreaTop" fmla="*/ 0 h 29520"/>
                      <a:gd name="textAreaBottom" fmla="*/ 29880 h 29520"/>
                    </a:gdLst>
                    <a:ahLst/>
                    <a:rect l="textAreaLeft" t="textAreaTop" r="textAreaRight" b="textAreaBottom"/>
                    <a:pathLst>
                      <a:path w="145" h="223">
                        <a:moveTo>
                          <a:pt x="100" y="11"/>
                        </a:moveTo>
                        <a:lnTo>
                          <a:pt x="55" y="0"/>
                        </a:lnTo>
                        <a:lnTo>
                          <a:pt x="22" y="22"/>
                        </a:lnTo>
                        <a:lnTo>
                          <a:pt x="11" y="56"/>
                        </a:lnTo>
                        <a:lnTo>
                          <a:pt x="0" y="111"/>
                        </a:lnTo>
                        <a:lnTo>
                          <a:pt x="0" y="156"/>
                        </a:lnTo>
                        <a:lnTo>
                          <a:pt x="22" y="201"/>
                        </a:lnTo>
                        <a:lnTo>
                          <a:pt x="55" y="223"/>
                        </a:lnTo>
                        <a:lnTo>
                          <a:pt x="100" y="223"/>
                        </a:lnTo>
                        <a:lnTo>
                          <a:pt x="100" y="212"/>
                        </a:lnTo>
                        <a:lnTo>
                          <a:pt x="111" y="212"/>
                        </a:lnTo>
                        <a:lnTo>
                          <a:pt x="122" y="212"/>
                        </a:lnTo>
                        <a:lnTo>
                          <a:pt x="122" y="201"/>
                        </a:lnTo>
                        <a:lnTo>
                          <a:pt x="122" y="189"/>
                        </a:lnTo>
                        <a:lnTo>
                          <a:pt x="133" y="189"/>
                        </a:lnTo>
                        <a:lnTo>
                          <a:pt x="133" y="178"/>
                        </a:lnTo>
                        <a:lnTo>
                          <a:pt x="145" y="134"/>
                        </a:lnTo>
                        <a:lnTo>
                          <a:pt x="145" y="100"/>
                        </a:lnTo>
                        <a:lnTo>
                          <a:pt x="145" y="67"/>
                        </a:lnTo>
                        <a:lnTo>
                          <a:pt x="122" y="33"/>
                        </a:lnTo>
                        <a:lnTo>
                          <a:pt x="122" y="22"/>
                        </a:lnTo>
                        <a:lnTo>
                          <a:pt x="111" y="11"/>
                        </a:lnTo>
                        <a:lnTo>
                          <a:pt x="100" y="11"/>
                        </a:lnTo>
                        <a:close/>
                      </a:path>
                    </a:pathLst>
                  </a:custGeom>
                  <a:solidFill>
                    <a:srgbClr val="5475e8"/>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Freeform 1255"/>
                  <p:cNvSpPr/>
                  <p:nvPr/>
                </p:nvSpPr>
                <p:spPr>
                  <a:xfrm rot="111600">
                    <a:off x="2757960" y="991080"/>
                    <a:ext cx="10800" cy="32400"/>
                  </a:xfrm>
                  <a:custGeom>
                    <a:avLst/>
                    <a:gdLst>
                      <a:gd name="textAreaLeft" fmla="*/ 0 w 10800"/>
                      <a:gd name="textAreaRight" fmla="*/ 11160 w 10800"/>
                      <a:gd name="textAreaTop" fmla="*/ 0 h 32400"/>
                      <a:gd name="textAreaBottom" fmla="*/ 32760 h 32400"/>
                    </a:gdLst>
                    <a:ahLst/>
                    <a:rect l="textAreaLeft" t="textAreaTop" r="textAreaRight" b="textAreaBottom"/>
                    <a:pathLst>
                      <a:path w="112" h="245">
                        <a:moveTo>
                          <a:pt x="112" y="223"/>
                        </a:moveTo>
                        <a:lnTo>
                          <a:pt x="112" y="223"/>
                        </a:lnTo>
                        <a:lnTo>
                          <a:pt x="67" y="234"/>
                        </a:lnTo>
                        <a:lnTo>
                          <a:pt x="34" y="212"/>
                        </a:lnTo>
                        <a:lnTo>
                          <a:pt x="23" y="167"/>
                        </a:lnTo>
                        <a:lnTo>
                          <a:pt x="23" y="122"/>
                        </a:lnTo>
                        <a:lnTo>
                          <a:pt x="23" y="67"/>
                        </a:lnTo>
                        <a:lnTo>
                          <a:pt x="45" y="33"/>
                        </a:lnTo>
                        <a:lnTo>
                          <a:pt x="67" y="11"/>
                        </a:lnTo>
                        <a:lnTo>
                          <a:pt x="112" y="22"/>
                        </a:lnTo>
                        <a:lnTo>
                          <a:pt x="112" y="11"/>
                        </a:lnTo>
                        <a:lnTo>
                          <a:pt x="67" y="0"/>
                        </a:lnTo>
                        <a:lnTo>
                          <a:pt x="34" y="22"/>
                        </a:lnTo>
                        <a:lnTo>
                          <a:pt x="12" y="67"/>
                        </a:lnTo>
                        <a:lnTo>
                          <a:pt x="0" y="122"/>
                        </a:lnTo>
                        <a:lnTo>
                          <a:pt x="12" y="167"/>
                        </a:lnTo>
                        <a:lnTo>
                          <a:pt x="23" y="223"/>
                        </a:lnTo>
                        <a:lnTo>
                          <a:pt x="67" y="245"/>
                        </a:lnTo>
                        <a:lnTo>
                          <a:pt x="112" y="234"/>
                        </a:lnTo>
                        <a:lnTo>
                          <a:pt x="112" y="223"/>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1254"/>
                  <p:cNvSpPr/>
                  <p:nvPr/>
                </p:nvSpPr>
                <p:spPr>
                  <a:xfrm rot="111600">
                    <a:off x="2768040" y="1019520"/>
                    <a:ext cx="1800" cy="2880"/>
                  </a:xfrm>
                  <a:custGeom>
                    <a:avLst/>
                    <a:gdLst>
                      <a:gd name="textAreaLeft" fmla="*/ 0 w 1800"/>
                      <a:gd name="textAreaRight" fmla="*/ 2160 w 1800"/>
                      <a:gd name="textAreaTop" fmla="*/ 0 h 2880"/>
                      <a:gd name="textAreaBottom" fmla="*/ 3240 h 2880"/>
                    </a:gdLst>
                    <a:ahLst/>
                    <a:rect l="textAreaLeft" t="textAreaTop" r="textAreaRight" b="textAreaBottom"/>
                    <a:pathLst>
                      <a:path w="22" h="22">
                        <a:moveTo>
                          <a:pt x="11" y="11"/>
                        </a:moveTo>
                        <a:lnTo>
                          <a:pt x="22" y="0"/>
                        </a:lnTo>
                        <a:lnTo>
                          <a:pt x="11" y="0"/>
                        </a:lnTo>
                        <a:lnTo>
                          <a:pt x="0" y="11"/>
                        </a:lnTo>
                        <a:lnTo>
                          <a:pt x="0" y="22"/>
                        </a:lnTo>
                        <a:lnTo>
                          <a:pt x="11" y="22"/>
                        </a:lnTo>
                        <a:lnTo>
                          <a:pt x="11" y="11"/>
                        </a:lnTo>
                        <a:lnTo>
                          <a:pt x="22" y="11"/>
                        </a:lnTo>
                        <a:lnTo>
                          <a:pt x="11"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1253"/>
                  <p:cNvSpPr/>
                  <p:nvPr/>
                </p:nvSpPr>
                <p:spPr>
                  <a:xfrm rot="111600">
                    <a:off x="2769120" y="1016640"/>
                    <a:ext cx="3240" cy="4320"/>
                  </a:xfrm>
                  <a:custGeom>
                    <a:avLst/>
                    <a:gdLst>
                      <a:gd name="textAreaLeft" fmla="*/ 0 w 3240"/>
                      <a:gd name="textAreaRight" fmla="*/ 3600 w 3240"/>
                      <a:gd name="textAreaTop" fmla="*/ 0 h 4320"/>
                      <a:gd name="textAreaBottom" fmla="*/ 4680 h 4320"/>
                    </a:gdLst>
                    <a:ahLst/>
                    <a:rect l="textAreaLeft" t="textAreaTop" r="textAreaRight" b="textAreaBottom"/>
                    <a:pathLst>
                      <a:path w="34" h="34">
                        <a:moveTo>
                          <a:pt x="22" y="0"/>
                        </a:moveTo>
                        <a:lnTo>
                          <a:pt x="22" y="0"/>
                        </a:lnTo>
                        <a:lnTo>
                          <a:pt x="11" y="0"/>
                        </a:lnTo>
                        <a:lnTo>
                          <a:pt x="11" y="11"/>
                        </a:lnTo>
                        <a:lnTo>
                          <a:pt x="0" y="23"/>
                        </a:lnTo>
                        <a:lnTo>
                          <a:pt x="0" y="34"/>
                        </a:lnTo>
                        <a:lnTo>
                          <a:pt x="11" y="34"/>
                        </a:lnTo>
                        <a:lnTo>
                          <a:pt x="22" y="23"/>
                        </a:lnTo>
                        <a:lnTo>
                          <a:pt x="22" y="11"/>
                        </a:lnTo>
                        <a:lnTo>
                          <a:pt x="34" y="0"/>
                        </a:lnTo>
                        <a:lnTo>
                          <a:pt x="22" y="0"/>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Freeform 1252"/>
                  <p:cNvSpPr/>
                  <p:nvPr/>
                </p:nvSpPr>
                <p:spPr>
                  <a:xfrm rot="111600">
                    <a:off x="2770920" y="995760"/>
                    <a:ext cx="3240" cy="20520"/>
                  </a:xfrm>
                  <a:custGeom>
                    <a:avLst/>
                    <a:gdLst>
                      <a:gd name="textAreaLeft" fmla="*/ 0 w 3240"/>
                      <a:gd name="textAreaRight" fmla="*/ 3600 w 3240"/>
                      <a:gd name="textAreaTop" fmla="*/ 0 h 20520"/>
                      <a:gd name="textAreaBottom" fmla="*/ 20880 h 20520"/>
                    </a:gdLst>
                    <a:ahLst/>
                    <a:rect l="textAreaLeft" t="textAreaTop" r="textAreaRight" b="textAreaBottom"/>
                    <a:pathLst>
                      <a:path w="34" h="156">
                        <a:moveTo>
                          <a:pt x="0" y="11"/>
                        </a:moveTo>
                        <a:lnTo>
                          <a:pt x="0" y="11"/>
                        </a:lnTo>
                        <a:lnTo>
                          <a:pt x="11" y="45"/>
                        </a:lnTo>
                        <a:lnTo>
                          <a:pt x="23" y="78"/>
                        </a:lnTo>
                        <a:lnTo>
                          <a:pt x="23" y="112"/>
                        </a:lnTo>
                        <a:lnTo>
                          <a:pt x="11" y="156"/>
                        </a:lnTo>
                        <a:lnTo>
                          <a:pt x="23" y="156"/>
                        </a:lnTo>
                        <a:lnTo>
                          <a:pt x="34" y="112"/>
                        </a:lnTo>
                        <a:lnTo>
                          <a:pt x="34" y="78"/>
                        </a:lnTo>
                        <a:lnTo>
                          <a:pt x="23" y="45"/>
                        </a:lnTo>
                        <a:lnTo>
                          <a:pt x="11" y="11"/>
                        </a:lnTo>
                        <a:lnTo>
                          <a:pt x="11" y="0"/>
                        </a:lnTo>
                        <a:lnTo>
                          <a:pt x="0" y="11"/>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Freeform 1251"/>
                  <p:cNvSpPr/>
                  <p:nvPr/>
                </p:nvSpPr>
                <p:spPr>
                  <a:xfrm rot="111600">
                    <a:off x="2769120" y="992880"/>
                    <a:ext cx="2880" cy="4320"/>
                  </a:xfrm>
                  <a:custGeom>
                    <a:avLst/>
                    <a:gdLst>
                      <a:gd name="textAreaLeft" fmla="*/ 0 w 2880"/>
                      <a:gd name="textAreaRight" fmla="*/ 3240 w 2880"/>
                      <a:gd name="textAreaTop" fmla="*/ 0 h 4320"/>
                      <a:gd name="textAreaBottom" fmla="*/ 4680 h 4320"/>
                    </a:gdLst>
                    <a:ahLst/>
                    <a:rect l="textAreaLeft" t="textAreaTop" r="textAreaRight" b="textAreaBottom"/>
                    <a:pathLst>
                      <a:path w="33" h="33">
                        <a:moveTo>
                          <a:pt x="0" y="11"/>
                        </a:moveTo>
                        <a:lnTo>
                          <a:pt x="0" y="11"/>
                        </a:lnTo>
                        <a:lnTo>
                          <a:pt x="11" y="22"/>
                        </a:lnTo>
                        <a:lnTo>
                          <a:pt x="22" y="33"/>
                        </a:lnTo>
                        <a:lnTo>
                          <a:pt x="33" y="22"/>
                        </a:lnTo>
                        <a:lnTo>
                          <a:pt x="22" y="22"/>
                        </a:lnTo>
                        <a:lnTo>
                          <a:pt x="22" y="11"/>
                        </a:lnTo>
                        <a:lnTo>
                          <a:pt x="11" y="0"/>
                        </a:lnTo>
                        <a:lnTo>
                          <a:pt x="0" y="0"/>
                        </a:lnTo>
                        <a:lnTo>
                          <a:pt x="0"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1250"/>
                  <p:cNvSpPr/>
                  <p:nvPr/>
                </p:nvSpPr>
                <p:spPr>
                  <a:xfrm rot="111600">
                    <a:off x="2769480" y="975600"/>
                    <a:ext cx="27000" cy="77040"/>
                  </a:xfrm>
                  <a:custGeom>
                    <a:avLst/>
                    <a:gdLst>
                      <a:gd name="textAreaLeft" fmla="*/ 0 w 27000"/>
                      <a:gd name="textAreaRight" fmla="*/ 27360 w 27000"/>
                      <a:gd name="textAreaTop" fmla="*/ 0 h 77040"/>
                      <a:gd name="textAreaBottom" fmla="*/ 77400 h 77040"/>
                    </a:gdLst>
                    <a:ahLst/>
                    <a:rect l="textAreaLeft" t="textAreaTop" r="textAreaRight" b="textAreaBottom"/>
                    <a:pathLst>
                      <a:path w="279" h="580">
                        <a:moveTo>
                          <a:pt x="34" y="178"/>
                        </a:moveTo>
                        <a:lnTo>
                          <a:pt x="45" y="145"/>
                        </a:lnTo>
                        <a:lnTo>
                          <a:pt x="78" y="123"/>
                        </a:lnTo>
                        <a:lnTo>
                          <a:pt x="100" y="89"/>
                        </a:lnTo>
                        <a:lnTo>
                          <a:pt x="123" y="56"/>
                        </a:lnTo>
                        <a:lnTo>
                          <a:pt x="156" y="22"/>
                        </a:lnTo>
                        <a:lnTo>
                          <a:pt x="190" y="11"/>
                        </a:lnTo>
                        <a:lnTo>
                          <a:pt x="212" y="0"/>
                        </a:lnTo>
                        <a:lnTo>
                          <a:pt x="245" y="0"/>
                        </a:lnTo>
                        <a:lnTo>
                          <a:pt x="256" y="22"/>
                        </a:lnTo>
                        <a:lnTo>
                          <a:pt x="268" y="67"/>
                        </a:lnTo>
                        <a:lnTo>
                          <a:pt x="279" y="123"/>
                        </a:lnTo>
                        <a:lnTo>
                          <a:pt x="279" y="190"/>
                        </a:lnTo>
                        <a:lnTo>
                          <a:pt x="268" y="256"/>
                        </a:lnTo>
                        <a:lnTo>
                          <a:pt x="268" y="323"/>
                        </a:lnTo>
                        <a:lnTo>
                          <a:pt x="245" y="390"/>
                        </a:lnTo>
                        <a:lnTo>
                          <a:pt x="234" y="446"/>
                        </a:lnTo>
                        <a:lnTo>
                          <a:pt x="223" y="468"/>
                        </a:lnTo>
                        <a:lnTo>
                          <a:pt x="212" y="502"/>
                        </a:lnTo>
                        <a:lnTo>
                          <a:pt x="201" y="524"/>
                        </a:lnTo>
                        <a:lnTo>
                          <a:pt x="178" y="557"/>
                        </a:lnTo>
                        <a:lnTo>
                          <a:pt x="156" y="569"/>
                        </a:lnTo>
                        <a:lnTo>
                          <a:pt x="134" y="580"/>
                        </a:lnTo>
                        <a:lnTo>
                          <a:pt x="112" y="580"/>
                        </a:lnTo>
                        <a:lnTo>
                          <a:pt x="89" y="557"/>
                        </a:lnTo>
                        <a:lnTo>
                          <a:pt x="78" y="546"/>
                        </a:lnTo>
                        <a:lnTo>
                          <a:pt x="67" y="524"/>
                        </a:lnTo>
                        <a:lnTo>
                          <a:pt x="56" y="502"/>
                        </a:lnTo>
                        <a:lnTo>
                          <a:pt x="45" y="479"/>
                        </a:lnTo>
                        <a:lnTo>
                          <a:pt x="45" y="457"/>
                        </a:lnTo>
                        <a:lnTo>
                          <a:pt x="34" y="424"/>
                        </a:lnTo>
                        <a:lnTo>
                          <a:pt x="22" y="401"/>
                        </a:lnTo>
                        <a:lnTo>
                          <a:pt x="11" y="379"/>
                        </a:lnTo>
                        <a:lnTo>
                          <a:pt x="11" y="357"/>
                        </a:lnTo>
                        <a:lnTo>
                          <a:pt x="0" y="335"/>
                        </a:lnTo>
                        <a:lnTo>
                          <a:pt x="11" y="301"/>
                        </a:lnTo>
                        <a:lnTo>
                          <a:pt x="11" y="279"/>
                        </a:lnTo>
                        <a:lnTo>
                          <a:pt x="11" y="256"/>
                        </a:lnTo>
                        <a:lnTo>
                          <a:pt x="22" y="223"/>
                        </a:lnTo>
                        <a:lnTo>
                          <a:pt x="22" y="201"/>
                        </a:lnTo>
                        <a:lnTo>
                          <a:pt x="34" y="178"/>
                        </a:lnTo>
                        <a:close/>
                      </a:path>
                    </a:pathLst>
                  </a:custGeom>
                  <a:solidFill>
                    <a:srgbClr val="5475e8"/>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1249"/>
                  <p:cNvSpPr/>
                  <p:nvPr/>
                </p:nvSpPr>
                <p:spPr>
                  <a:xfrm rot="111600">
                    <a:off x="2772360" y="973800"/>
                    <a:ext cx="21600" cy="24840"/>
                  </a:xfrm>
                  <a:custGeom>
                    <a:avLst/>
                    <a:gdLst>
                      <a:gd name="textAreaLeft" fmla="*/ 0 w 21600"/>
                      <a:gd name="textAreaRight" fmla="*/ 21960 w 21600"/>
                      <a:gd name="textAreaTop" fmla="*/ 0 h 24840"/>
                      <a:gd name="textAreaBottom" fmla="*/ 25200 h 24840"/>
                    </a:gdLst>
                    <a:ahLst/>
                    <a:rect l="textAreaLeft" t="textAreaTop" r="textAreaRight" b="textAreaBottom"/>
                    <a:pathLst>
                      <a:path w="223" h="189">
                        <a:moveTo>
                          <a:pt x="223" y="11"/>
                        </a:moveTo>
                        <a:lnTo>
                          <a:pt x="223" y="11"/>
                        </a:lnTo>
                        <a:lnTo>
                          <a:pt x="190" y="0"/>
                        </a:lnTo>
                        <a:lnTo>
                          <a:pt x="156" y="11"/>
                        </a:lnTo>
                        <a:lnTo>
                          <a:pt x="134" y="33"/>
                        </a:lnTo>
                        <a:lnTo>
                          <a:pt x="101" y="56"/>
                        </a:lnTo>
                        <a:lnTo>
                          <a:pt x="67" y="89"/>
                        </a:lnTo>
                        <a:lnTo>
                          <a:pt x="45" y="123"/>
                        </a:lnTo>
                        <a:lnTo>
                          <a:pt x="23" y="156"/>
                        </a:lnTo>
                        <a:lnTo>
                          <a:pt x="0" y="189"/>
                        </a:lnTo>
                        <a:lnTo>
                          <a:pt x="23" y="189"/>
                        </a:lnTo>
                        <a:lnTo>
                          <a:pt x="34" y="167"/>
                        </a:lnTo>
                        <a:lnTo>
                          <a:pt x="56" y="134"/>
                        </a:lnTo>
                        <a:lnTo>
                          <a:pt x="78" y="100"/>
                        </a:lnTo>
                        <a:lnTo>
                          <a:pt x="112" y="67"/>
                        </a:lnTo>
                        <a:lnTo>
                          <a:pt x="134" y="45"/>
                        </a:lnTo>
                        <a:lnTo>
                          <a:pt x="168" y="33"/>
                        </a:lnTo>
                        <a:lnTo>
                          <a:pt x="190" y="22"/>
                        </a:lnTo>
                        <a:lnTo>
                          <a:pt x="212" y="22"/>
                        </a:lnTo>
                        <a:lnTo>
                          <a:pt x="223" y="11"/>
                        </a:lnTo>
                        <a:close/>
                      </a:path>
                    </a:pathLst>
                  </a:custGeom>
                  <a:solidFill>
                    <a:srgbClr val="00000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1248"/>
                  <p:cNvSpPr/>
                  <p:nvPr/>
                </p:nvSpPr>
                <p:spPr>
                  <a:xfrm rot="111600">
                    <a:off x="2792880" y="975960"/>
                    <a:ext cx="5400" cy="59040"/>
                  </a:xfrm>
                  <a:custGeom>
                    <a:avLst/>
                    <a:gdLst>
                      <a:gd name="textAreaLeft" fmla="*/ 0 w 5400"/>
                      <a:gd name="textAreaRight" fmla="*/ 5760 w 5400"/>
                      <a:gd name="textAreaTop" fmla="*/ 0 h 59040"/>
                      <a:gd name="textAreaBottom" fmla="*/ 59400 h 59040"/>
                    </a:gdLst>
                    <a:ahLst/>
                    <a:rect l="textAreaLeft" t="textAreaTop" r="textAreaRight" b="textAreaBottom"/>
                    <a:pathLst>
                      <a:path w="56" h="446">
                        <a:moveTo>
                          <a:pt x="11" y="446"/>
                        </a:moveTo>
                        <a:lnTo>
                          <a:pt x="11" y="446"/>
                        </a:lnTo>
                        <a:lnTo>
                          <a:pt x="22" y="390"/>
                        </a:lnTo>
                        <a:lnTo>
                          <a:pt x="34" y="323"/>
                        </a:lnTo>
                        <a:lnTo>
                          <a:pt x="45" y="256"/>
                        </a:lnTo>
                        <a:lnTo>
                          <a:pt x="56" y="190"/>
                        </a:lnTo>
                        <a:lnTo>
                          <a:pt x="56" y="123"/>
                        </a:lnTo>
                        <a:lnTo>
                          <a:pt x="45" y="67"/>
                        </a:lnTo>
                        <a:lnTo>
                          <a:pt x="34" y="22"/>
                        </a:lnTo>
                        <a:lnTo>
                          <a:pt x="11" y="0"/>
                        </a:lnTo>
                        <a:lnTo>
                          <a:pt x="0" y="11"/>
                        </a:lnTo>
                        <a:lnTo>
                          <a:pt x="22" y="22"/>
                        </a:lnTo>
                        <a:lnTo>
                          <a:pt x="34" y="67"/>
                        </a:lnTo>
                        <a:lnTo>
                          <a:pt x="34" y="123"/>
                        </a:lnTo>
                        <a:lnTo>
                          <a:pt x="34" y="190"/>
                        </a:lnTo>
                        <a:lnTo>
                          <a:pt x="34" y="256"/>
                        </a:lnTo>
                        <a:lnTo>
                          <a:pt x="22" y="323"/>
                        </a:lnTo>
                        <a:lnTo>
                          <a:pt x="11" y="390"/>
                        </a:lnTo>
                        <a:lnTo>
                          <a:pt x="0" y="446"/>
                        </a:lnTo>
                        <a:lnTo>
                          <a:pt x="11" y="44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1247"/>
                  <p:cNvSpPr/>
                  <p:nvPr/>
                </p:nvSpPr>
                <p:spPr>
                  <a:xfrm rot="111600">
                    <a:off x="2776680" y="1035000"/>
                    <a:ext cx="16200" cy="19080"/>
                  </a:xfrm>
                  <a:custGeom>
                    <a:avLst/>
                    <a:gdLst>
                      <a:gd name="textAreaLeft" fmla="*/ 0 w 16200"/>
                      <a:gd name="textAreaRight" fmla="*/ 16560 w 16200"/>
                      <a:gd name="textAreaTop" fmla="*/ 0 h 19080"/>
                      <a:gd name="textAreaBottom" fmla="*/ 19440 h 19080"/>
                    </a:gdLst>
                    <a:ahLst/>
                    <a:rect l="textAreaLeft" t="textAreaTop" r="textAreaRight" b="textAreaBottom"/>
                    <a:pathLst>
                      <a:path w="167" h="145">
                        <a:moveTo>
                          <a:pt x="0" y="123"/>
                        </a:moveTo>
                        <a:lnTo>
                          <a:pt x="0" y="123"/>
                        </a:lnTo>
                        <a:lnTo>
                          <a:pt x="34" y="145"/>
                        </a:lnTo>
                        <a:lnTo>
                          <a:pt x="56" y="145"/>
                        </a:lnTo>
                        <a:lnTo>
                          <a:pt x="89" y="134"/>
                        </a:lnTo>
                        <a:lnTo>
                          <a:pt x="112" y="111"/>
                        </a:lnTo>
                        <a:lnTo>
                          <a:pt x="134" y="89"/>
                        </a:lnTo>
                        <a:lnTo>
                          <a:pt x="145" y="56"/>
                        </a:lnTo>
                        <a:lnTo>
                          <a:pt x="156" y="22"/>
                        </a:lnTo>
                        <a:lnTo>
                          <a:pt x="167" y="0"/>
                        </a:lnTo>
                        <a:lnTo>
                          <a:pt x="156" y="0"/>
                        </a:lnTo>
                        <a:lnTo>
                          <a:pt x="145" y="22"/>
                        </a:lnTo>
                        <a:lnTo>
                          <a:pt x="134" y="45"/>
                        </a:lnTo>
                        <a:lnTo>
                          <a:pt x="112" y="78"/>
                        </a:lnTo>
                        <a:lnTo>
                          <a:pt x="100" y="100"/>
                        </a:lnTo>
                        <a:lnTo>
                          <a:pt x="78" y="123"/>
                        </a:lnTo>
                        <a:lnTo>
                          <a:pt x="56" y="134"/>
                        </a:lnTo>
                        <a:lnTo>
                          <a:pt x="34" y="134"/>
                        </a:lnTo>
                        <a:lnTo>
                          <a:pt x="11" y="111"/>
                        </a:lnTo>
                        <a:lnTo>
                          <a:pt x="0" y="123"/>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1246"/>
                  <p:cNvSpPr/>
                  <p:nvPr/>
                </p:nvSpPr>
                <p:spPr>
                  <a:xfrm rot="111600">
                    <a:off x="2769840" y="1024200"/>
                    <a:ext cx="7560" cy="26640"/>
                  </a:xfrm>
                  <a:custGeom>
                    <a:avLst/>
                    <a:gdLst>
                      <a:gd name="textAreaLeft" fmla="*/ 0 w 7560"/>
                      <a:gd name="textAreaRight" fmla="*/ 7920 w 7560"/>
                      <a:gd name="textAreaTop" fmla="*/ 0 h 26640"/>
                      <a:gd name="textAreaBottom" fmla="*/ 27000 h 26640"/>
                    </a:gdLst>
                    <a:ahLst/>
                    <a:rect l="textAreaLeft" t="textAreaTop" r="textAreaRight" b="textAreaBottom"/>
                    <a:pathLst>
                      <a:path w="78" h="201">
                        <a:moveTo>
                          <a:pt x="0" y="11"/>
                        </a:moveTo>
                        <a:lnTo>
                          <a:pt x="0" y="11"/>
                        </a:lnTo>
                        <a:lnTo>
                          <a:pt x="0" y="33"/>
                        </a:lnTo>
                        <a:lnTo>
                          <a:pt x="11" y="56"/>
                        </a:lnTo>
                        <a:lnTo>
                          <a:pt x="23" y="89"/>
                        </a:lnTo>
                        <a:lnTo>
                          <a:pt x="34" y="111"/>
                        </a:lnTo>
                        <a:lnTo>
                          <a:pt x="34" y="134"/>
                        </a:lnTo>
                        <a:lnTo>
                          <a:pt x="45" y="167"/>
                        </a:lnTo>
                        <a:lnTo>
                          <a:pt x="56" y="189"/>
                        </a:lnTo>
                        <a:lnTo>
                          <a:pt x="67" y="201"/>
                        </a:lnTo>
                        <a:lnTo>
                          <a:pt x="78" y="189"/>
                        </a:lnTo>
                        <a:lnTo>
                          <a:pt x="67" y="178"/>
                        </a:lnTo>
                        <a:lnTo>
                          <a:pt x="56" y="156"/>
                        </a:lnTo>
                        <a:lnTo>
                          <a:pt x="56" y="134"/>
                        </a:lnTo>
                        <a:lnTo>
                          <a:pt x="45" y="111"/>
                        </a:lnTo>
                        <a:lnTo>
                          <a:pt x="34" y="78"/>
                        </a:lnTo>
                        <a:lnTo>
                          <a:pt x="23" y="56"/>
                        </a:lnTo>
                        <a:lnTo>
                          <a:pt x="23" y="33"/>
                        </a:lnTo>
                        <a:lnTo>
                          <a:pt x="11" y="0"/>
                        </a:lnTo>
                        <a:lnTo>
                          <a:pt x="0" y="11"/>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1245"/>
                  <p:cNvSpPr/>
                  <p:nvPr/>
                </p:nvSpPr>
                <p:spPr>
                  <a:xfrm rot="111600">
                    <a:off x="2769480" y="998640"/>
                    <a:ext cx="4320" cy="26640"/>
                  </a:xfrm>
                  <a:custGeom>
                    <a:avLst/>
                    <a:gdLst>
                      <a:gd name="textAreaLeft" fmla="*/ 0 w 4320"/>
                      <a:gd name="textAreaRight" fmla="*/ 4320 w 4320"/>
                      <a:gd name="textAreaTop" fmla="*/ 0 h 26640"/>
                      <a:gd name="textAreaBottom" fmla="*/ 27000 h 26640"/>
                    </a:gdLst>
                    <a:ahLst/>
                    <a:rect l="textAreaLeft" t="textAreaTop" r="textAreaRight" b="textAreaBottom"/>
                    <a:pathLst>
                      <a:path w="45" h="201">
                        <a:moveTo>
                          <a:pt x="22" y="0"/>
                        </a:moveTo>
                        <a:lnTo>
                          <a:pt x="22" y="0"/>
                        </a:lnTo>
                        <a:lnTo>
                          <a:pt x="22" y="23"/>
                        </a:lnTo>
                        <a:lnTo>
                          <a:pt x="11" y="45"/>
                        </a:lnTo>
                        <a:lnTo>
                          <a:pt x="11" y="67"/>
                        </a:lnTo>
                        <a:lnTo>
                          <a:pt x="0" y="101"/>
                        </a:lnTo>
                        <a:lnTo>
                          <a:pt x="0" y="123"/>
                        </a:lnTo>
                        <a:lnTo>
                          <a:pt x="0" y="157"/>
                        </a:lnTo>
                        <a:lnTo>
                          <a:pt x="0" y="179"/>
                        </a:lnTo>
                        <a:lnTo>
                          <a:pt x="11" y="201"/>
                        </a:lnTo>
                        <a:lnTo>
                          <a:pt x="22" y="190"/>
                        </a:lnTo>
                        <a:lnTo>
                          <a:pt x="11" y="179"/>
                        </a:lnTo>
                        <a:lnTo>
                          <a:pt x="11" y="157"/>
                        </a:lnTo>
                        <a:lnTo>
                          <a:pt x="11" y="123"/>
                        </a:lnTo>
                        <a:lnTo>
                          <a:pt x="11" y="101"/>
                        </a:lnTo>
                        <a:lnTo>
                          <a:pt x="22" y="78"/>
                        </a:lnTo>
                        <a:lnTo>
                          <a:pt x="22" y="45"/>
                        </a:lnTo>
                        <a:lnTo>
                          <a:pt x="34" y="23"/>
                        </a:lnTo>
                        <a:lnTo>
                          <a:pt x="45" y="0"/>
                        </a:lnTo>
                        <a:lnTo>
                          <a:pt x="22" y="0"/>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Freeform 1244"/>
                  <p:cNvSpPr/>
                  <p:nvPr/>
                </p:nvSpPr>
                <p:spPr>
                  <a:xfrm rot="111600">
                    <a:off x="2841120" y="986040"/>
                    <a:ext cx="1800" cy="4320"/>
                  </a:xfrm>
                  <a:custGeom>
                    <a:avLst/>
                    <a:gdLst>
                      <a:gd name="textAreaLeft" fmla="*/ 0 w 1800"/>
                      <a:gd name="textAreaRight" fmla="*/ 2160 w 1800"/>
                      <a:gd name="textAreaTop" fmla="*/ 0 h 4320"/>
                      <a:gd name="textAreaBottom" fmla="*/ 4680 h 4320"/>
                    </a:gdLst>
                    <a:ahLst/>
                    <a:rect l="textAreaLeft" t="textAreaTop" r="textAreaRight" b="textAreaBottom"/>
                    <a:pathLst>
                      <a:path w="22" h="33">
                        <a:moveTo>
                          <a:pt x="22" y="11"/>
                        </a:moveTo>
                        <a:lnTo>
                          <a:pt x="22" y="0"/>
                        </a:lnTo>
                        <a:lnTo>
                          <a:pt x="11" y="0"/>
                        </a:lnTo>
                        <a:lnTo>
                          <a:pt x="0" y="11"/>
                        </a:lnTo>
                        <a:lnTo>
                          <a:pt x="0" y="22"/>
                        </a:lnTo>
                        <a:lnTo>
                          <a:pt x="0" y="33"/>
                        </a:lnTo>
                        <a:lnTo>
                          <a:pt x="22"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Freeform 1243"/>
                  <p:cNvSpPr/>
                  <p:nvPr/>
                </p:nvSpPr>
                <p:spPr>
                  <a:xfrm rot="111600">
                    <a:off x="2841120" y="987480"/>
                    <a:ext cx="7560" cy="16200"/>
                  </a:xfrm>
                  <a:custGeom>
                    <a:avLst/>
                    <a:gdLst>
                      <a:gd name="textAreaLeft" fmla="*/ 0 w 7560"/>
                      <a:gd name="textAreaRight" fmla="*/ 7920 w 7560"/>
                      <a:gd name="textAreaTop" fmla="*/ 0 h 16200"/>
                      <a:gd name="textAreaBottom" fmla="*/ 16560 h 16200"/>
                    </a:gdLst>
                    <a:ahLst/>
                    <a:rect l="textAreaLeft" t="textAreaTop" r="textAreaRight" b="textAreaBottom"/>
                    <a:pathLst>
                      <a:path w="78" h="123">
                        <a:moveTo>
                          <a:pt x="78" y="112"/>
                        </a:moveTo>
                        <a:lnTo>
                          <a:pt x="78" y="100"/>
                        </a:lnTo>
                        <a:lnTo>
                          <a:pt x="78" y="89"/>
                        </a:lnTo>
                        <a:lnTo>
                          <a:pt x="66" y="67"/>
                        </a:lnTo>
                        <a:lnTo>
                          <a:pt x="55" y="56"/>
                        </a:lnTo>
                        <a:lnTo>
                          <a:pt x="55" y="45"/>
                        </a:lnTo>
                        <a:lnTo>
                          <a:pt x="44" y="34"/>
                        </a:lnTo>
                        <a:lnTo>
                          <a:pt x="33" y="11"/>
                        </a:lnTo>
                        <a:lnTo>
                          <a:pt x="22" y="0"/>
                        </a:lnTo>
                        <a:lnTo>
                          <a:pt x="0" y="22"/>
                        </a:lnTo>
                        <a:lnTo>
                          <a:pt x="11" y="34"/>
                        </a:lnTo>
                        <a:lnTo>
                          <a:pt x="22" y="45"/>
                        </a:lnTo>
                        <a:lnTo>
                          <a:pt x="22" y="56"/>
                        </a:lnTo>
                        <a:lnTo>
                          <a:pt x="33" y="67"/>
                        </a:lnTo>
                        <a:lnTo>
                          <a:pt x="33" y="78"/>
                        </a:lnTo>
                        <a:lnTo>
                          <a:pt x="33" y="100"/>
                        </a:lnTo>
                        <a:lnTo>
                          <a:pt x="44" y="112"/>
                        </a:lnTo>
                        <a:lnTo>
                          <a:pt x="44" y="123"/>
                        </a:lnTo>
                        <a:lnTo>
                          <a:pt x="78" y="11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1242"/>
                  <p:cNvSpPr/>
                  <p:nvPr/>
                </p:nvSpPr>
                <p:spPr>
                  <a:xfrm rot="111600">
                    <a:off x="2840040" y="987480"/>
                    <a:ext cx="4320" cy="2880"/>
                  </a:xfrm>
                  <a:custGeom>
                    <a:avLst/>
                    <a:gdLst>
                      <a:gd name="textAreaLeft" fmla="*/ 0 w 4320"/>
                      <a:gd name="textAreaRight" fmla="*/ 4320 w 4320"/>
                      <a:gd name="textAreaTop" fmla="*/ 0 h 2880"/>
                      <a:gd name="textAreaBottom" fmla="*/ 3240 h 2880"/>
                    </a:gdLst>
                    <a:ahLst/>
                    <a:rect l="textAreaLeft" t="textAreaTop" r="textAreaRight" b="textAreaBottom"/>
                    <a:pathLst>
                      <a:path w="45" h="22">
                        <a:moveTo>
                          <a:pt x="0" y="11"/>
                        </a:moveTo>
                        <a:lnTo>
                          <a:pt x="12" y="22"/>
                        </a:lnTo>
                        <a:lnTo>
                          <a:pt x="23" y="22"/>
                        </a:lnTo>
                        <a:lnTo>
                          <a:pt x="34" y="22"/>
                        </a:lnTo>
                        <a:lnTo>
                          <a:pt x="45" y="11"/>
                        </a:lnTo>
                        <a:lnTo>
                          <a:pt x="45" y="0"/>
                        </a:lnTo>
                        <a:lnTo>
                          <a:pt x="0"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Freeform 1241"/>
                  <p:cNvSpPr/>
                  <p:nvPr/>
                </p:nvSpPr>
                <p:spPr>
                  <a:xfrm rot="111600">
                    <a:off x="2826000" y="984240"/>
                    <a:ext cx="3240" cy="2880"/>
                  </a:xfrm>
                  <a:custGeom>
                    <a:avLst/>
                    <a:gdLst>
                      <a:gd name="textAreaLeft" fmla="*/ 0 w 3240"/>
                      <a:gd name="textAreaRight" fmla="*/ 3600 w 3240"/>
                      <a:gd name="textAreaTop" fmla="*/ 0 h 2880"/>
                      <a:gd name="textAreaBottom" fmla="*/ 3240 h 2880"/>
                    </a:gdLst>
                    <a:ahLst/>
                    <a:rect l="textAreaLeft" t="textAreaTop" r="textAreaRight" b="textAreaBottom"/>
                    <a:pathLst>
                      <a:path w="34" h="22">
                        <a:moveTo>
                          <a:pt x="23" y="22"/>
                        </a:moveTo>
                        <a:lnTo>
                          <a:pt x="34" y="22"/>
                        </a:lnTo>
                        <a:lnTo>
                          <a:pt x="34" y="11"/>
                        </a:lnTo>
                        <a:lnTo>
                          <a:pt x="23" y="0"/>
                        </a:lnTo>
                        <a:lnTo>
                          <a:pt x="12" y="0"/>
                        </a:lnTo>
                        <a:lnTo>
                          <a:pt x="0" y="0"/>
                        </a:lnTo>
                        <a:lnTo>
                          <a:pt x="0" y="11"/>
                        </a:lnTo>
                        <a:lnTo>
                          <a:pt x="23" y="22"/>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Freeform 1240"/>
                  <p:cNvSpPr/>
                  <p:nvPr/>
                </p:nvSpPr>
                <p:spPr>
                  <a:xfrm rot="111600">
                    <a:off x="2820600" y="985320"/>
                    <a:ext cx="7560" cy="16200"/>
                  </a:xfrm>
                  <a:custGeom>
                    <a:avLst/>
                    <a:gdLst>
                      <a:gd name="textAreaLeft" fmla="*/ 0 w 7560"/>
                      <a:gd name="textAreaRight" fmla="*/ 7920 w 7560"/>
                      <a:gd name="textAreaTop" fmla="*/ 0 h 16200"/>
                      <a:gd name="textAreaBottom" fmla="*/ 16560 h 16200"/>
                    </a:gdLst>
                    <a:ahLst/>
                    <a:rect l="textAreaLeft" t="textAreaTop" r="textAreaRight" b="textAreaBottom"/>
                    <a:pathLst>
                      <a:path w="78" h="123">
                        <a:moveTo>
                          <a:pt x="33" y="123"/>
                        </a:moveTo>
                        <a:lnTo>
                          <a:pt x="44" y="111"/>
                        </a:lnTo>
                        <a:lnTo>
                          <a:pt x="44" y="89"/>
                        </a:lnTo>
                        <a:lnTo>
                          <a:pt x="55" y="78"/>
                        </a:lnTo>
                        <a:lnTo>
                          <a:pt x="55" y="67"/>
                        </a:lnTo>
                        <a:lnTo>
                          <a:pt x="67" y="56"/>
                        </a:lnTo>
                        <a:lnTo>
                          <a:pt x="67" y="45"/>
                        </a:lnTo>
                        <a:lnTo>
                          <a:pt x="78" y="22"/>
                        </a:lnTo>
                        <a:lnTo>
                          <a:pt x="78" y="11"/>
                        </a:lnTo>
                        <a:lnTo>
                          <a:pt x="55" y="0"/>
                        </a:lnTo>
                        <a:lnTo>
                          <a:pt x="44" y="11"/>
                        </a:lnTo>
                        <a:lnTo>
                          <a:pt x="33" y="22"/>
                        </a:lnTo>
                        <a:lnTo>
                          <a:pt x="33" y="33"/>
                        </a:lnTo>
                        <a:lnTo>
                          <a:pt x="22" y="56"/>
                        </a:lnTo>
                        <a:lnTo>
                          <a:pt x="22" y="67"/>
                        </a:lnTo>
                        <a:lnTo>
                          <a:pt x="11" y="78"/>
                        </a:lnTo>
                        <a:lnTo>
                          <a:pt x="11" y="100"/>
                        </a:lnTo>
                        <a:lnTo>
                          <a:pt x="0" y="111"/>
                        </a:lnTo>
                        <a:lnTo>
                          <a:pt x="33" y="123"/>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1239"/>
                  <p:cNvSpPr/>
                  <p:nvPr/>
                </p:nvSpPr>
                <p:spPr>
                  <a:xfrm rot="111600">
                    <a:off x="2824920" y="985680"/>
                    <a:ext cx="4320" cy="2880"/>
                  </a:xfrm>
                  <a:custGeom>
                    <a:avLst/>
                    <a:gdLst>
                      <a:gd name="textAreaLeft" fmla="*/ 0 w 4320"/>
                      <a:gd name="textAreaRight" fmla="*/ 4320 w 4320"/>
                      <a:gd name="textAreaTop" fmla="*/ 0 h 2880"/>
                      <a:gd name="textAreaBottom" fmla="*/ 3240 h 2880"/>
                    </a:gdLst>
                    <a:ahLst/>
                    <a:rect l="textAreaLeft" t="textAreaTop" r="textAreaRight" b="textAreaBottom"/>
                    <a:pathLst>
                      <a:path w="45" h="22">
                        <a:moveTo>
                          <a:pt x="0" y="0"/>
                        </a:moveTo>
                        <a:lnTo>
                          <a:pt x="11" y="22"/>
                        </a:lnTo>
                        <a:lnTo>
                          <a:pt x="23" y="22"/>
                        </a:lnTo>
                        <a:lnTo>
                          <a:pt x="34" y="22"/>
                        </a:lnTo>
                        <a:lnTo>
                          <a:pt x="45" y="11"/>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Freeform 1238"/>
                  <p:cNvSpPr/>
                  <p:nvPr/>
                </p:nvSpPr>
                <p:spPr>
                  <a:xfrm rot="111600">
                    <a:off x="2898720" y="815040"/>
                    <a:ext cx="155520" cy="195480"/>
                  </a:xfrm>
                  <a:custGeom>
                    <a:avLst/>
                    <a:gdLst>
                      <a:gd name="textAreaLeft" fmla="*/ 0 w 155520"/>
                      <a:gd name="textAreaRight" fmla="*/ 155880 w 155520"/>
                      <a:gd name="textAreaTop" fmla="*/ 0 h 195480"/>
                      <a:gd name="textAreaBottom" fmla="*/ 195840 h 195480"/>
                    </a:gdLst>
                    <a:ahLst/>
                    <a:rect l="textAreaLeft" t="textAreaTop" r="textAreaRight" b="textAreaBottom"/>
                    <a:pathLst>
                      <a:path w="1594" h="1471">
                        <a:moveTo>
                          <a:pt x="769" y="0"/>
                        </a:moveTo>
                        <a:lnTo>
                          <a:pt x="813" y="0"/>
                        </a:lnTo>
                        <a:lnTo>
                          <a:pt x="847" y="11"/>
                        </a:lnTo>
                        <a:lnTo>
                          <a:pt x="880" y="11"/>
                        </a:lnTo>
                        <a:lnTo>
                          <a:pt x="914" y="22"/>
                        </a:lnTo>
                        <a:lnTo>
                          <a:pt x="947" y="44"/>
                        </a:lnTo>
                        <a:lnTo>
                          <a:pt x="981" y="56"/>
                        </a:lnTo>
                        <a:lnTo>
                          <a:pt x="1014" y="78"/>
                        </a:lnTo>
                        <a:lnTo>
                          <a:pt x="1047" y="89"/>
                        </a:lnTo>
                        <a:lnTo>
                          <a:pt x="1081" y="122"/>
                        </a:lnTo>
                        <a:lnTo>
                          <a:pt x="1103" y="145"/>
                        </a:lnTo>
                        <a:lnTo>
                          <a:pt x="1137" y="167"/>
                        </a:lnTo>
                        <a:lnTo>
                          <a:pt x="1159" y="200"/>
                        </a:lnTo>
                        <a:lnTo>
                          <a:pt x="1181" y="234"/>
                        </a:lnTo>
                        <a:lnTo>
                          <a:pt x="1215" y="267"/>
                        </a:lnTo>
                        <a:lnTo>
                          <a:pt x="1237" y="301"/>
                        </a:lnTo>
                        <a:lnTo>
                          <a:pt x="1248" y="334"/>
                        </a:lnTo>
                        <a:lnTo>
                          <a:pt x="1281" y="345"/>
                        </a:lnTo>
                        <a:lnTo>
                          <a:pt x="1315" y="356"/>
                        </a:lnTo>
                        <a:lnTo>
                          <a:pt x="1337" y="356"/>
                        </a:lnTo>
                        <a:lnTo>
                          <a:pt x="1371" y="368"/>
                        </a:lnTo>
                        <a:lnTo>
                          <a:pt x="1404" y="379"/>
                        </a:lnTo>
                        <a:lnTo>
                          <a:pt x="1426" y="390"/>
                        </a:lnTo>
                        <a:lnTo>
                          <a:pt x="1449" y="390"/>
                        </a:lnTo>
                        <a:lnTo>
                          <a:pt x="1482" y="412"/>
                        </a:lnTo>
                        <a:lnTo>
                          <a:pt x="1504" y="423"/>
                        </a:lnTo>
                        <a:lnTo>
                          <a:pt x="1527" y="435"/>
                        </a:lnTo>
                        <a:lnTo>
                          <a:pt x="1538" y="457"/>
                        </a:lnTo>
                        <a:lnTo>
                          <a:pt x="1560" y="490"/>
                        </a:lnTo>
                        <a:lnTo>
                          <a:pt x="1571" y="513"/>
                        </a:lnTo>
                        <a:lnTo>
                          <a:pt x="1582" y="546"/>
                        </a:lnTo>
                        <a:lnTo>
                          <a:pt x="1594" y="591"/>
                        </a:lnTo>
                        <a:lnTo>
                          <a:pt x="1594" y="635"/>
                        </a:lnTo>
                        <a:lnTo>
                          <a:pt x="1594" y="657"/>
                        </a:lnTo>
                        <a:lnTo>
                          <a:pt x="1582" y="680"/>
                        </a:lnTo>
                        <a:lnTo>
                          <a:pt x="1582" y="691"/>
                        </a:lnTo>
                        <a:lnTo>
                          <a:pt x="1571" y="713"/>
                        </a:lnTo>
                        <a:lnTo>
                          <a:pt x="1560" y="735"/>
                        </a:lnTo>
                        <a:lnTo>
                          <a:pt x="1549" y="758"/>
                        </a:lnTo>
                        <a:lnTo>
                          <a:pt x="1538" y="780"/>
                        </a:lnTo>
                        <a:lnTo>
                          <a:pt x="1527" y="791"/>
                        </a:lnTo>
                        <a:lnTo>
                          <a:pt x="1504" y="813"/>
                        </a:lnTo>
                        <a:lnTo>
                          <a:pt x="1482" y="825"/>
                        </a:lnTo>
                        <a:lnTo>
                          <a:pt x="1471" y="847"/>
                        </a:lnTo>
                        <a:lnTo>
                          <a:pt x="1438" y="858"/>
                        </a:lnTo>
                        <a:lnTo>
                          <a:pt x="1415" y="869"/>
                        </a:lnTo>
                        <a:lnTo>
                          <a:pt x="1393" y="880"/>
                        </a:lnTo>
                        <a:lnTo>
                          <a:pt x="1359" y="880"/>
                        </a:lnTo>
                        <a:lnTo>
                          <a:pt x="1326" y="880"/>
                        </a:lnTo>
                        <a:lnTo>
                          <a:pt x="1315" y="947"/>
                        </a:lnTo>
                        <a:lnTo>
                          <a:pt x="1293" y="1003"/>
                        </a:lnTo>
                        <a:lnTo>
                          <a:pt x="1270" y="1059"/>
                        </a:lnTo>
                        <a:lnTo>
                          <a:pt x="1248" y="1114"/>
                        </a:lnTo>
                        <a:lnTo>
                          <a:pt x="1215" y="1170"/>
                        </a:lnTo>
                        <a:lnTo>
                          <a:pt x="1181" y="1215"/>
                        </a:lnTo>
                        <a:lnTo>
                          <a:pt x="1148" y="1259"/>
                        </a:lnTo>
                        <a:lnTo>
                          <a:pt x="1114" y="1304"/>
                        </a:lnTo>
                        <a:lnTo>
                          <a:pt x="1070" y="1337"/>
                        </a:lnTo>
                        <a:lnTo>
                          <a:pt x="1025" y="1371"/>
                        </a:lnTo>
                        <a:lnTo>
                          <a:pt x="981" y="1404"/>
                        </a:lnTo>
                        <a:lnTo>
                          <a:pt x="936" y="1426"/>
                        </a:lnTo>
                        <a:lnTo>
                          <a:pt x="891" y="1438"/>
                        </a:lnTo>
                        <a:lnTo>
                          <a:pt x="847" y="1460"/>
                        </a:lnTo>
                        <a:lnTo>
                          <a:pt x="791" y="1460"/>
                        </a:lnTo>
                        <a:lnTo>
                          <a:pt x="747" y="1471"/>
                        </a:lnTo>
                        <a:lnTo>
                          <a:pt x="668" y="1460"/>
                        </a:lnTo>
                        <a:lnTo>
                          <a:pt x="613" y="1449"/>
                        </a:lnTo>
                        <a:lnTo>
                          <a:pt x="546" y="1426"/>
                        </a:lnTo>
                        <a:lnTo>
                          <a:pt x="490" y="1404"/>
                        </a:lnTo>
                        <a:lnTo>
                          <a:pt x="446" y="1371"/>
                        </a:lnTo>
                        <a:lnTo>
                          <a:pt x="401" y="1337"/>
                        </a:lnTo>
                        <a:lnTo>
                          <a:pt x="356" y="1293"/>
                        </a:lnTo>
                        <a:lnTo>
                          <a:pt x="323" y="1248"/>
                        </a:lnTo>
                        <a:lnTo>
                          <a:pt x="290" y="1192"/>
                        </a:lnTo>
                        <a:lnTo>
                          <a:pt x="267" y="1137"/>
                        </a:lnTo>
                        <a:lnTo>
                          <a:pt x="245" y="1081"/>
                        </a:lnTo>
                        <a:lnTo>
                          <a:pt x="234" y="1025"/>
                        </a:lnTo>
                        <a:lnTo>
                          <a:pt x="223" y="958"/>
                        </a:lnTo>
                        <a:lnTo>
                          <a:pt x="223" y="891"/>
                        </a:lnTo>
                        <a:lnTo>
                          <a:pt x="223" y="825"/>
                        </a:lnTo>
                        <a:lnTo>
                          <a:pt x="234" y="758"/>
                        </a:lnTo>
                        <a:lnTo>
                          <a:pt x="200" y="758"/>
                        </a:lnTo>
                        <a:lnTo>
                          <a:pt x="167" y="747"/>
                        </a:lnTo>
                        <a:lnTo>
                          <a:pt x="134" y="735"/>
                        </a:lnTo>
                        <a:lnTo>
                          <a:pt x="111" y="724"/>
                        </a:lnTo>
                        <a:lnTo>
                          <a:pt x="78" y="702"/>
                        </a:lnTo>
                        <a:lnTo>
                          <a:pt x="56" y="680"/>
                        </a:lnTo>
                        <a:lnTo>
                          <a:pt x="33" y="657"/>
                        </a:lnTo>
                        <a:lnTo>
                          <a:pt x="22" y="624"/>
                        </a:lnTo>
                        <a:lnTo>
                          <a:pt x="11" y="602"/>
                        </a:lnTo>
                        <a:lnTo>
                          <a:pt x="0" y="568"/>
                        </a:lnTo>
                        <a:lnTo>
                          <a:pt x="0" y="535"/>
                        </a:lnTo>
                        <a:lnTo>
                          <a:pt x="0" y="501"/>
                        </a:lnTo>
                        <a:lnTo>
                          <a:pt x="0" y="468"/>
                        </a:lnTo>
                        <a:lnTo>
                          <a:pt x="22" y="435"/>
                        </a:lnTo>
                        <a:lnTo>
                          <a:pt x="33" y="412"/>
                        </a:lnTo>
                        <a:lnTo>
                          <a:pt x="67" y="379"/>
                        </a:lnTo>
                        <a:lnTo>
                          <a:pt x="78" y="368"/>
                        </a:lnTo>
                        <a:lnTo>
                          <a:pt x="89" y="368"/>
                        </a:lnTo>
                        <a:lnTo>
                          <a:pt x="111" y="368"/>
                        </a:lnTo>
                        <a:lnTo>
                          <a:pt x="122" y="368"/>
                        </a:lnTo>
                        <a:lnTo>
                          <a:pt x="134" y="368"/>
                        </a:lnTo>
                        <a:lnTo>
                          <a:pt x="145" y="368"/>
                        </a:lnTo>
                        <a:lnTo>
                          <a:pt x="167" y="368"/>
                        </a:lnTo>
                        <a:lnTo>
                          <a:pt x="178" y="368"/>
                        </a:lnTo>
                        <a:lnTo>
                          <a:pt x="189" y="368"/>
                        </a:lnTo>
                        <a:lnTo>
                          <a:pt x="212" y="368"/>
                        </a:lnTo>
                        <a:lnTo>
                          <a:pt x="223" y="368"/>
                        </a:lnTo>
                        <a:lnTo>
                          <a:pt x="245" y="379"/>
                        </a:lnTo>
                        <a:lnTo>
                          <a:pt x="256" y="379"/>
                        </a:lnTo>
                        <a:lnTo>
                          <a:pt x="278" y="379"/>
                        </a:lnTo>
                        <a:lnTo>
                          <a:pt x="290" y="379"/>
                        </a:lnTo>
                        <a:lnTo>
                          <a:pt x="301" y="368"/>
                        </a:lnTo>
                        <a:lnTo>
                          <a:pt x="323" y="345"/>
                        </a:lnTo>
                        <a:lnTo>
                          <a:pt x="345" y="323"/>
                        </a:lnTo>
                        <a:lnTo>
                          <a:pt x="368" y="290"/>
                        </a:lnTo>
                        <a:lnTo>
                          <a:pt x="390" y="267"/>
                        </a:lnTo>
                        <a:lnTo>
                          <a:pt x="423" y="234"/>
                        </a:lnTo>
                        <a:lnTo>
                          <a:pt x="446" y="200"/>
                        </a:lnTo>
                        <a:lnTo>
                          <a:pt x="479" y="167"/>
                        </a:lnTo>
                        <a:lnTo>
                          <a:pt x="512" y="134"/>
                        </a:lnTo>
                        <a:lnTo>
                          <a:pt x="546" y="100"/>
                        </a:lnTo>
                        <a:lnTo>
                          <a:pt x="579" y="78"/>
                        </a:lnTo>
                        <a:lnTo>
                          <a:pt x="624" y="56"/>
                        </a:lnTo>
                        <a:lnTo>
                          <a:pt x="657" y="33"/>
                        </a:lnTo>
                        <a:lnTo>
                          <a:pt x="691" y="11"/>
                        </a:lnTo>
                        <a:lnTo>
                          <a:pt x="735" y="11"/>
                        </a:lnTo>
                        <a:lnTo>
                          <a:pt x="769" y="0"/>
                        </a:lnTo>
                        <a:close/>
                      </a:path>
                    </a:pathLst>
                  </a:custGeom>
                  <a:solidFill>
                    <a:srgbClr val="ffd6a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1237"/>
                  <p:cNvSpPr/>
                  <p:nvPr/>
                </p:nvSpPr>
                <p:spPr>
                  <a:xfrm rot="111600">
                    <a:off x="2975760" y="816120"/>
                    <a:ext cx="47880" cy="45720"/>
                  </a:xfrm>
                  <a:custGeom>
                    <a:avLst/>
                    <a:gdLst>
                      <a:gd name="textAreaLeft" fmla="*/ 0 w 47880"/>
                      <a:gd name="textAreaRight" fmla="*/ 48240 w 47880"/>
                      <a:gd name="textAreaTop" fmla="*/ 0 h 45720"/>
                      <a:gd name="textAreaBottom" fmla="*/ 46080 h 45720"/>
                    </a:gdLst>
                    <a:ahLst/>
                    <a:rect l="textAreaLeft" t="textAreaTop" r="textAreaRight" b="textAreaBottom"/>
                    <a:pathLst>
                      <a:path w="490" h="345">
                        <a:moveTo>
                          <a:pt x="479" y="334"/>
                        </a:moveTo>
                        <a:lnTo>
                          <a:pt x="490" y="334"/>
                        </a:lnTo>
                        <a:lnTo>
                          <a:pt x="468" y="301"/>
                        </a:lnTo>
                        <a:lnTo>
                          <a:pt x="446" y="256"/>
                        </a:lnTo>
                        <a:lnTo>
                          <a:pt x="423" y="223"/>
                        </a:lnTo>
                        <a:lnTo>
                          <a:pt x="401" y="200"/>
                        </a:lnTo>
                        <a:lnTo>
                          <a:pt x="368" y="167"/>
                        </a:lnTo>
                        <a:lnTo>
                          <a:pt x="345" y="134"/>
                        </a:lnTo>
                        <a:lnTo>
                          <a:pt x="312" y="111"/>
                        </a:lnTo>
                        <a:lnTo>
                          <a:pt x="278" y="89"/>
                        </a:lnTo>
                        <a:lnTo>
                          <a:pt x="256" y="67"/>
                        </a:lnTo>
                        <a:lnTo>
                          <a:pt x="223" y="44"/>
                        </a:lnTo>
                        <a:lnTo>
                          <a:pt x="189" y="33"/>
                        </a:lnTo>
                        <a:lnTo>
                          <a:pt x="145" y="22"/>
                        </a:lnTo>
                        <a:lnTo>
                          <a:pt x="111" y="11"/>
                        </a:lnTo>
                        <a:lnTo>
                          <a:pt x="78" y="0"/>
                        </a:lnTo>
                        <a:lnTo>
                          <a:pt x="44" y="0"/>
                        </a:lnTo>
                        <a:lnTo>
                          <a:pt x="0" y="0"/>
                        </a:lnTo>
                        <a:lnTo>
                          <a:pt x="0" y="11"/>
                        </a:lnTo>
                        <a:lnTo>
                          <a:pt x="44" y="11"/>
                        </a:lnTo>
                        <a:lnTo>
                          <a:pt x="78" y="11"/>
                        </a:lnTo>
                        <a:lnTo>
                          <a:pt x="111" y="22"/>
                        </a:lnTo>
                        <a:lnTo>
                          <a:pt x="145" y="33"/>
                        </a:lnTo>
                        <a:lnTo>
                          <a:pt x="178" y="44"/>
                        </a:lnTo>
                        <a:lnTo>
                          <a:pt x="212" y="67"/>
                        </a:lnTo>
                        <a:lnTo>
                          <a:pt x="245" y="78"/>
                        </a:lnTo>
                        <a:lnTo>
                          <a:pt x="278" y="100"/>
                        </a:lnTo>
                        <a:lnTo>
                          <a:pt x="301" y="122"/>
                        </a:lnTo>
                        <a:lnTo>
                          <a:pt x="334" y="145"/>
                        </a:lnTo>
                        <a:lnTo>
                          <a:pt x="356" y="178"/>
                        </a:lnTo>
                        <a:lnTo>
                          <a:pt x="390" y="200"/>
                        </a:lnTo>
                        <a:lnTo>
                          <a:pt x="412" y="234"/>
                        </a:lnTo>
                        <a:lnTo>
                          <a:pt x="434" y="267"/>
                        </a:lnTo>
                        <a:lnTo>
                          <a:pt x="457" y="301"/>
                        </a:lnTo>
                        <a:lnTo>
                          <a:pt x="479" y="345"/>
                        </a:lnTo>
                        <a:lnTo>
                          <a:pt x="479" y="334"/>
                        </a:lnTo>
                        <a:close/>
                      </a:path>
                    </a:pathLst>
                  </a:custGeom>
                  <a:solidFill>
                    <a:srgbClr val="000000"/>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1236"/>
                  <p:cNvSpPr/>
                  <p:nvPr/>
                </p:nvSpPr>
                <p:spPr>
                  <a:xfrm rot="111600">
                    <a:off x="3021480" y="861840"/>
                    <a:ext cx="34560" cy="39960"/>
                  </a:xfrm>
                  <a:custGeom>
                    <a:avLst/>
                    <a:gdLst>
                      <a:gd name="textAreaLeft" fmla="*/ 0 w 34560"/>
                      <a:gd name="textAreaRight" fmla="*/ 34560 w 34560"/>
                      <a:gd name="textAreaTop" fmla="*/ 0 h 39960"/>
                      <a:gd name="textAreaBottom" fmla="*/ 40320 h 39960"/>
                    </a:gdLst>
                    <a:ahLst/>
                    <a:rect l="textAreaLeft" t="textAreaTop" r="textAreaRight" b="textAreaBottom"/>
                    <a:pathLst>
                      <a:path w="357" h="301">
                        <a:moveTo>
                          <a:pt x="357" y="301"/>
                        </a:moveTo>
                        <a:lnTo>
                          <a:pt x="357" y="301"/>
                        </a:lnTo>
                        <a:lnTo>
                          <a:pt x="346" y="257"/>
                        </a:lnTo>
                        <a:lnTo>
                          <a:pt x="346" y="212"/>
                        </a:lnTo>
                        <a:lnTo>
                          <a:pt x="334" y="179"/>
                        </a:lnTo>
                        <a:lnTo>
                          <a:pt x="312" y="145"/>
                        </a:lnTo>
                        <a:lnTo>
                          <a:pt x="301" y="123"/>
                        </a:lnTo>
                        <a:lnTo>
                          <a:pt x="279" y="101"/>
                        </a:lnTo>
                        <a:lnTo>
                          <a:pt x="256" y="78"/>
                        </a:lnTo>
                        <a:lnTo>
                          <a:pt x="234" y="67"/>
                        </a:lnTo>
                        <a:lnTo>
                          <a:pt x="212" y="56"/>
                        </a:lnTo>
                        <a:lnTo>
                          <a:pt x="178" y="45"/>
                        </a:lnTo>
                        <a:lnTo>
                          <a:pt x="156" y="34"/>
                        </a:lnTo>
                        <a:lnTo>
                          <a:pt x="123" y="22"/>
                        </a:lnTo>
                        <a:lnTo>
                          <a:pt x="89" y="22"/>
                        </a:lnTo>
                        <a:lnTo>
                          <a:pt x="67" y="11"/>
                        </a:lnTo>
                        <a:lnTo>
                          <a:pt x="33" y="11"/>
                        </a:lnTo>
                        <a:lnTo>
                          <a:pt x="0" y="0"/>
                        </a:lnTo>
                        <a:lnTo>
                          <a:pt x="0" y="11"/>
                        </a:lnTo>
                        <a:lnTo>
                          <a:pt x="33" y="22"/>
                        </a:lnTo>
                        <a:lnTo>
                          <a:pt x="56" y="22"/>
                        </a:lnTo>
                        <a:lnTo>
                          <a:pt x="89" y="34"/>
                        </a:lnTo>
                        <a:lnTo>
                          <a:pt x="123" y="45"/>
                        </a:lnTo>
                        <a:lnTo>
                          <a:pt x="145" y="45"/>
                        </a:lnTo>
                        <a:lnTo>
                          <a:pt x="178" y="56"/>
                        </a:lnTo>
                        <a:lnTo>
                          <a:pt x="201" y="67"/>
                        </a:lnTo>
                        <a:lnTo>
                          <a:pt x="223" y="78"/>
                        </a:lnTo>
                        <a:lnTo>
                          <a:pt x="245" y="89"/>
                        </a:lnTo>
                        <a:lnTo>
                          <a:pt x="268" y="112"/>
                        </a:lnTo>
                        <a:lnTo>
                          <a:pt x="290" y="134"/>
                        </a:lnTo>
                        <a:lnTo>
                          <a:pt x="301" y="156"/>
                        </a:lnTo>
                        <a:lnTo>
                          <a:pt x="312" y="190"/>
                        </a:lnTo>
                        <a:lnTo>
                          <a:pt x="323" y="223"/>
                        </a:lnTo>
                        <a:lnTo>
                          <a:pt x="334" y="257"/>
                        </a:lnTo>
                        <a:lnTo>
                          <a:pt x="346" y="301"/>
                        </a:lnTo>
                        <a:lnTo>
                          <a:pt x="357" y="301"/>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1235"/>
                  <p:cNvSpPr/>
                  <p:nvPr/>
                </p:nvSpPr>
                <p:spPr>
                  <a:xfrm rot="111600">
                    <a:off x="3027960" y="902160"/>
                    <a:ext cx="27000" cy="33840"/>
                  </a:xfrm>
                  <a:custGeom>
                    <a:avLst/>
                    <a:gdLst>
                      <a:gd name="textAreaLeft" fmla="*/ 0 w 27000"/>
                      <a:gd name="textAreaRight" fmla="*/ 27360 w 27000"/>
                      <a:gd name="textAreaTop" fmla="*/ 0 h 33840"/>
                      <a:gd name="textAreaBottom" fmla="*/ 34200 h 33840"/>
                    </a:gdLst>
                    <a:ahLst/>
                    <a:rect l="textAreaLeft" t="textAreaTop" r="textAreaRight" b="textAreaBottom"/>
                    <a:pathLst>
                      <a:path w="279" h="256">
                        <a:moveTo>
                          <a:pt x="11" y="256"/>
                        </a:moveTo>
                        <a:lnTo>
                          <a:pt x="0" y="256"/>
                        </a:lnTo>
                        <a:lnTo>
                          <a:pt x="33" y="256"/>
                        </a:lnTo>
                        <a:lnTo>
                          <a:pt x="67" y="245"/>
                        </a:lnTo>
                        <a:lnTo>
                          <a:pt x="89" y="245"/>
                        </a:lnTo>
                        <a:lnTo>
                          <a:pt x="123" y="234"/>
                        </a:lnTo>
                        <a:lnTo>
                          <a:pt x="145" y="212"/>
                        </a:lnTo>
                        <a:lnTo>
                          <a:pt x="167" y="201"/>
                        </a:lnTo>
                        <a:lnTo>
                          <a:pt x="190" y="190"/>
                        </a:lnTo>
                        <a:lnTo>
                          <a:pt x="201" y="167"/>
                        </a:lnTo>
                        <a:lnTo>
                          <a:pt x="212" y="145"/>
                        </a:lnTo>
                        <a:lnTo>
                          <a:pt x="234" y="123"/>
                        </a:lnTo>
                        <a:lnTo>
                          <a:pt x="245" y="100"/>
                        </a:lnTo>
                        <a:lnTo>
                          <a:pt x="256" y="89"/>
                        </a:lnTo>
                        <a:lnTo>
                          <a:pt x="256" y="56"/>
                        </a:lnTo>
                        <a:lnTo>
                          <a:pt x="268" y="45"/>
                        </a:lnTo>
                        <a:lnTo>
                          <a:pt x="279" y="22"/>
                        </a:lnTo>
                        <a:lnTo>
                          <a:pt x="279" y="0"/>
                        </a:lnTo>
                        <a:lnTo>
                          <a:pt x="268" y="0"/>
                        </a:lnTo>
                        <a:lnTo>
                          <a:pt x="256" y="22"/>
                        </a:lnTo>
                        <a:lnTo>
                          <a:pt x="256" y="34"/>
                        </a:lnTo>
                        <a:lnTo>
                          <a:pt x="245" y="56"/>
                        </a:lnTo>
                        <a:lnTo>
                          <a:pt x="245" y="78"/>
                        </a:lnTo>
                        <a:lnTo>
                          <a:pt x="234" y="100"/>
                        </a:lnTo>
                        <a:lnTo>
                          <a:pt x="223" y="123"/>
                        </a:lnTo>
                        <a:lnTo>
                          <a:pt x="212" y="134"/>
                        </a:lnTo>
                        <a:lnTo>
                          <a:pt x="190" y="156"/>
                        </a:lnTo>
                        <a:lnTo>
                          <a:pt x="178" y="178"/>
                        </a:lnTo>
                        <a:lnTo>
                          <a:pt x="156" y="190"/>
                        </a:lnTo>
                        <a:lnTo>
                          <a:pt x="134" y="201"/>
                        </a:lnTo>
                        <a:lnTo>
                          <a:pt x="112" y="212"/>
                        </a:lnTo>
                        <a:lnTo>
                          <a:pt x="89" y="223"/>
                        </a:lnTo>
                        <a:lnTo>
                          <a:pt x="67" y="234"/>
                        </a:lnTo>
                        <a:lnTo>
                          <a:pt x="33" y="245"/>
                        </a:lnTo>
                        <a:lnTo>
                          <a:pt x="0" y="245"/>
                        </a:lnTo>
                        <a:lnTo>
                          <a:pt x="11" y="25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1234"/>
                  <p:cNvSpPr/>
                  <p:nvPr/>
                </p:nvSpPr>
                <p:spPr>
                  <a:xfrm rot="111600">
                    <a:off x="2969280" y="933480"/>
                    <a:ext cx="57600" cy="78480"/>
                  </a:xfrm>
                  <a:custGeom>
                    <a:avLst/>
                    <a:gdLst>
                      <a:gd name="textAreaLeft" fmla="*/ 0 w 57600"/>
                      <a:gd name="textAreaRight" fmla="*/ 57600 w 57600"/>
                      <a:gd name="textAreaTop" fmla="*/ 0 h 78480"/>
                      <a:gd name="textAreaBottom" fmla="*/ 78840 h 78480"/>
                    </a:gdLst>
                    <a:ahLst/>
                    <a:rect l="textAreaLeft" t="textAreaTop" r="textAreaRight" b="textAreaBottom"/>
                    <a:pathLst>
                      <a:path w="590" h="591">
                        <a:moveTo>
                          <a:pt x="0" y="591"/>
                        </a:moveTo>
                        <a:lnTo>
                          <a:pt x="0" y="591"/>
                        </a:lnTo>
                        <a:lnTo>
                          <a:pt x="44" y="591"/>
                        </a:lnTo>
                        <a:lnTo>
                          <a:pt x="100" y="580"/>
                        </a:lnTo>
                        <a:lnTo>
                          <a:pt x="144" y="569"/>
                        </a:lnTo>
                        <a:lnTo>
                          <a:pt x="189" y="546"/>
                        </a:lnTo>
                        <a:lnTo>
                          <a:pt x="245" y="524"/>
                        </a:lnTo>
                        <a:lnTo>
                          <a:pt x="289" y="491"/>
                        </a:lnTo>
                        <a:lnTo>
                          <a:pt x="323" y="457"/>
                        </a:lnTo>
                        <a:lnTo>
                          <a:pt x="367" y="424"/>
                        </a:lnTo>
                        <a:lnTo>
                          <a:pt x="412" y="379"/>
                        </a:lnTo>
                        <a:lnTo>
                          <a:pt x="445" y="335"/>
                        </a:lnTo>
                        <a:lnTo>
                          <a:pt x="479" y="290"/>
                        </a:lnTo>
                        <a:lnTo>
                          <a:pt x="501" y="234"/>
                        </a:lnTo>
                        <a:lnTo>
                          <a:pt x="534" y="179"/>
                        </a:lnTo>
                        <a:lnTo>
                          <a:pt x="557" y="123"/>
                        </a:lnTo>
                        <a:lnTo>
                          <a:pt x="568" y="67"/>
                        </a:lnTo>
                        <a:lnTo>
                          <a:pt x="590" y="11"/>
                        </a:lnTo>
                        <a:lnTo>
                          <a:pt x="579" y="0"/>
                        </a:lnTo>
                        <a:lnTo>
                          <a:pt x="557" y="67"/>
                        </a:lnTo>
                        <a:lnTo>
                          <a:pt x="546" y="123"/>
                        </a:lnTo>
                        <a:lnTo>
                          <a:pt x="523" y="179"/>
                        </a:lnTo>
                        <a:lnTo>
                          <a:pt x="490" y="234"/>
                        </a:lnTo>
                        <a:lnTo>
                          <a:pt x="468" y="279"/>
                        </a:lnTo>
                        <a:lnTo>
                          <a:pt x="434" y="335"/>
                        </a:lnTo>
                        <a:lnTo>
                          <a:pt x="401" y="379"/>
                        </a:lnTo>
                        <a:lnTo>
                          <a:pt x="356" y="413"/>
                        </a:lnTo>
                        <a:lnTo>
                          <a:pt x="323" y="457"/>
                        </a:lnTo>
                        <a:lnTo>
                          <a:pt x="278" y="480"/>
                        </a:lnTo>
                        <a:lnTo>
                          <a:pt x="234" y="513"/>
                        </a:lnTo>
                        <a:lnTo>
                          <a:pt x="189" y="535"/>
                        </a:lnTo>
                        <a:lnTo>
                          <a:pt x="144" y="558"/>
                        </a:lnTo>
                        <a:lnTo>
                          <a:pt x="89" y="569"/>
                        </a:lnTo>
                        <a:lnTo>
                          <a:pt x="44" y="580"/>
                        </a:lnTo>
                        <a:lnTo>
                          <a:pt x="0" y="580"/>
                        </a:lnTo>
                        <a:lnTo>
                          <a:pt x="0" y="591"/>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1233"/>
                  <p:cNvSpPr/>
                  <p:nvPr/>
                </p:nvSpPr>
                <p:spPr>
                  <a:xfrm rot="111600">
                    <a:off x="2917440" y="913680"/>
                    <a:ext cx="52200" cy="96120"/>
                  </a:xfrm>
                  <a:custGeom>
                    <a:avLst/>
                    <a:gdLst>
                      <a:gd name="textAreaLeft" fmla="*/ 0 w 52200"/>
                      <a:gd name="textAreaRight" fmla="*/ 52560 w 52200"/>
                      <a:gd name="textAreaTop" fmla="*/ 0 h 96120"/>
                      <a:gd name="textAreaBottom" fmla="*/ 96480 h 96120"/>
                    </a:gdLst>
                    <a:ahLst/>
                    <a:rect l="textAreaLeft" t="textAreaTop" r="textAreaRight" b="textAreaBottom"/>
                    <a:pathLst>
                      <a:path w="535" h="724">
                        <a:moveTo>
                          <a:pt x="22" y="11"/>
                        </a:moveTo>
                        <a:lnTo>
                          <a:pt x="11" y="11"/>
                        </a:lnTo>
                        <a:lnTo>
                          <a:pt x="0" y="78"/>
                        </a:lnTo>
                        <a:lnTo>
                          <a:pt x="0" y="144"/>
                        </a:lnTo>
                        <a:lnTo>
                          <a:pt x="0" y="211"/>
                        </a:lnTo>
                        <a:lnTo>
                          <a:pt x="11" y="278"/>
                        </a:lnTo>
                        <a:lnTo>
                          <a:pt x="22" y="334"/>
                        </a:lnTo>
                        <a:lnTo>
                          <a:pt x="44" y="401"/>
                        </a:lnTo>
                        <a:lnTo>
                          <a:pt x="66" y="457"/>
                        </a:lnTo>
                        <a:lnTo>
                          <a:pt x="100" y="501"/>
                        </a:lnTo>
                        <a:lnTo>
                          <a:pt x="133" y="546"/>
                        </a:lnTo>
                        <a:lnTo>
                          <a:pt x="178" y="590"/>
                        </a:lnTo>
                        <a:lnTo>
                          <a:pt x="222" y="624"/>
                        </a:lnTo>
                        <a:lnTo>
                          <a:pt x="278" y="657"/>
                        </a:lnTo>
                        <a:lnTo>
                          <a:pt x="334" y="691"/>
                        </a:lnTo>
                        <a:lnTo>
                          <a:pt x="390" y="702"/>
                        </a:lnTo>
                        <a:lnTo>
                          <a:pt x="456" y="724"/>
                        </a:lnTo>
                        <a:lnTo>
                          <a:pt x="535" y="724"/>
                        </a:lnTo>
                        <a:lnTo>
                          <a:pt x="535" y="713"/>
                        </a:lnTo>
                        <a:lnTo>
                          <a:pt x="456" y="702"/>
                        </a:lnTo>
                        <a:lnTo>
                          <a:pt x="401" y="691"/>
                        </a:lnTo>
                        <a:lnTo>
                          <a:pt x="334" y="668"/>
                        </a:lnTo>
                        <a:lnTo>
                          <a:pt x="278" y="646"/>
                        </a:lnTo>
                        <a:lnTo>
                          <a:pt x="234" y="613"/>
                        </a:lnTo>
                        <a:lnTo>
                          <a:pt x="189" y="579"/>
                        </a:lnTo>
                        <a:lnTo>
                          <a:pt x="144" y="535"/>
                        </a:lnTo>
                        <a:lnTo>
                          <a:pt x="111" y="490"/>
                        </a:lnTo>
                        <a:lnTo>
                          <a:pt x="89" y="445"/>
                        </a:lnTo>
                        <a:lnTo>
                          <a:pt x="55" y="390"/>
                        </a:lnTo>
                        <a:lnTo>
                          <a:pt x="44" y="334"/>
                        </a:lnTo>
                        <a:lnTo>
                          <a:pt x="22" y="278"/>
                        </a:lnTo>
                        <a:lnTo>
                          <a:pt x="22" y="211"/>
                        </a:lnTo>
                        <a:lnTo>
                          <a:pt x="11" y="144"/>
                        </a:lnTo>
                        <a:lnTo>
                          <a:pt x="22" y="78"/>
                        </a:lnTo>
                        <a:lnTo>
                          <a:pt x="22" y="11"/>
                        </a:lnTo>
                        <a:lnTo>
                          <a:pt x="22" y="0"/>
                        </a:lnTo>
                        <a:lnTo>
                          <a:pt x="22"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Freeform 1232"/>
                  <p:cNvSpPr/>
                  <p:nvPr/>
                </p:nvSpPr>
                <p:spPr>
                  <a:xfrm rot="111600">
                    <a:off x="2897640" y="863640"/>
                    <a:ext cx="23760" cy="50400"/>
                  </a:xfrm>
                  <a:custGeom>
                    <a:avLst/>
                    <a:gdLst>
                      <a:gd name="textAreaLeft" fmla="*/ 0 w 23760"/>
                      <a:gd name="textAreaRight" fmla="*/ 24120 w 23760"/>
                      <a:gd name="textAreaTop" fmla="*/ 0 h 50400"/>
                      <a:gd name="textAreaBottom" fmla="*/ 50760 h 50400"/>
                    </a:gdLst>
                    <a:ahLst/>
                    <a:rect l="textAreaLeft" t="textAreaTop" r="textAreaRight" b="textAreaBottom"/>
                    <a:pathLst>
                      <a:path w="245" h="379">
                        <a:moveTo>
                          <a:pt x="67" y="0"/>
                        </a:moveTo>
                        <a:lnTo>
                          <a:pt x="67" y="0"/>
                        </a:lnTo>
                        <a:lnTo>
                          <a:pt x="44" y="22"/>
                        </a:lnTo>
                        <a:lnTo>
                          <a:pt x="22" y="56"/>
                        </a:lnTo>
                        <a:lnTo>
                          <a:pt x="11" y="89"/>
                        </a:lnTo>
                        <a:lnTo>
                          <a:pt x="0" y="122"/>
                        </a:lnTo>
                        <a:lnTo>
                          <a:pt x="0" y="156"/>
                        </a:lnTo>
                        <a:lnTo>
                          <a:pt x="11" y="189"/>
                        </a:lnTo>
                        <a:lnTo>
                          <a:pt x="11" y="223"/>
                        </a:lnTo>
                        <a:lnTo>
                          <a:pt x="22" y="245"/>
                        </a:lnTo>
                        <a:lnTo>
                          <a:pt x="44" y="278"/>
                        </a:lnTo>
                        <a:lnTo>
                          <a:pt x="67" y="301"/>
                        </a:lnTo>
                        <a:lnTo>
                          <a:pt x="89" y="334"/>
                        </a:lnTo>
                        <a:lnTo>
                          <a:pt x="111" y="345"/>
                        </a:lnTo>
                        <a:lnTo>
                          <a:pt x="145" y="368"/>
                        </a:lnTo>
                        <a:lnTo>
                          <a:pt x="178" y="379"/>
                        </a:lnTo>
                        <a:lnTo>
                          <a:pt x="211" y="379"/>
                        </a:lnTo>
                        <a:lnTo>
                          <a:pt x="245" y="379"/>
                        </a:lnTo>
                        <a:lnTo>
                          <a:pt x="245" y="368"/>
                        </a:lnTo>
                        <a:lnTo>
                          <a:pt x="211" y="368"/>
                        </a:lnTo>
                        <a:lnTo>
                          <a:pt x="178" y="368"/>
                        </a:lnTo>
                        <a:lnTo>
                          <a:pt x="145" y="356"/>
                        </a:lnTo>
                        <a:lnTo>
                          <a:pt x="122" y="334"/>
                        </a:lnTo>
                        <a:lnTo>
                          <a:pt x="100" y="323"/>
                        </a:lnTo>
                        <a:lnTo>
                          <a:pt x="78" y="301"/>
                        </a:lnTo>
                        <a:lnTo>
                          <a:pt x="55" y="267"/>
                        </a:lnTo>
                        <a:lnTo>
                          <a:pt x="44" y="245"/>
                        </a:lnTo>
                        <a:lnTo>
                          <a:pt x="22" y="212"/>
                        </a:lnTo>
                        <a:lnTo>
                          <a:pt x="22" y="189"/>
                        </a:lnTo>
                        <a:lnTo>
                          <a:pt x="11" y="156"/>
                        </a:lnTo>
                        <a:lnTo>
                          <a:pt x="11" y="122"/>
                        </a:lnTo>
                        <a:lnTo>
                          <a:pt x="22" y="89"/>
                        </a:lnTo>
                        <a:lnTo>
                          <a:pt x="33" y="67"/>
                        </a:lnTo>
                        <a:lnTo>
                          <a:pt x="55" y="33"/>
                        </a:lnTo>
                        <a:lnTo>
                          <a:pt x="78" y="11"/>
                        </a:lnTo>
                        <a:lnTo>
                          <a:pt x="67" y="0"/>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Freeform 1231"/>
                  <p:cNvSpPr/>
                  <p:nvPr/>
                </p:nvSpPr>
                <p:spPr>
                  <a:xfrm rot="111600">
                    <a:off x="2905560" y="861120"/>
                    <a:ext cx="23760" cy="4320"/>
                  </a:xfrm>
                  <a:custGeom>
                    <a:avLst/>
                    <a:gdLst>
                      <a:gd name="textAreaLeft" fmla="*/ 0 w 23760"/>
                      <a:gd name="textAreaRight" fmla="*/ 24120 w 23760"/>
                      <a:gd name="textAreaTop" fmla="*/ 0 h 4320"/>
                      <a:gd name="textAreaBottom" fmla="*/ 4680 h 4320"/>
                    </a:gdLst>
                    <a:ahLst/>
                    <a:rect l="textAreaLeft" t="textAreaTop" r="textAreaRight" b="textAreaBottom"/>
                    <a:pathLst>
                      <a:path w="245" h="34">
                        <a:moveTo>
                          <a:pt x="234" y="23"/>
                        </a:moveTo>
                        <a:lnTo>
                          <a:pt x="234" y="23"/>
                        </a:lnTo>
                        <a:lnTo>
                          <a:pt x="222" y="23"/>
                        </a:lnTo>
                        <a:lnTo>
                          <a:pt x="200" y="12"/>
                        </a:lnTo>
                        <a:lnTo>
                          <a:pt x="189" y="12"/>
                        </a:lnTo>
                        <a:lnTo>
                          <a:pt x="167" y="12"/>
                        </a:lnTo>
                        <a:lnTo>
                          <a:pt x="156" y="12"/>
                        </a:lnTo>
                        <a:lnTo>
                          <a:pt x="133" y="0"/>
                        </a:lnTo>
                        <a:lnTo>
                          <a:pt x="122" y="0"/>
                        </a:lnTo>
                        <a:lnTo>
                          <a:pt x="111" y="0"/>
                        </a:lnTo>
                        <a:lnTo>
                          <a:pt x="89" y="0"/>
                        </a:lnTo>
                        <a:lnTo>
                          <a:pt x="78" y="0"/>
                        </a:lnTo>
                        <a:lnTo>
                          <a:pt x="66" y="0"/>
                        </a:lnTo>
                        <a:lnTo>
                          <a:pt x="55" y="0"/>
                        </a:lnTo>
                        <a:lnTo>
                          <a:pt x="33" y="0"/>
                        </a:lnTo>
                        <a:lnTo>
                          <a:pt x="22" y="12"/>
                        </a:lnTo>
                        <a:lnTo>
                          <a:pt x="11" y="12"/>
                        </a:lnTo>
                        <a:lnTo>
                          <a:pt x="0" y="23"/>
                        </a:lnTo>
                        <a:lnTo>
                          <a:pt x="11" y="34"/>
                        </a:lnTo>
                        <a:lnTo>
                          <a:pt x="22" y="23"/>
                        </a:lnTo>
                        <a:lnTo>
                          <a:pt x="33" y="23"/>
                        </a:lnTo>
                        <a:lnTo>
                          <a:pt x="44" y="23"/>
                        </a:lnTo>
                        <a:lnTo>
                          <a:pt x="55" y="12"/>
                        </a:lnTo>
                        <a:lnTo>
                          <a:pt x="66" y="12"/>
                        </a:lnTo>
                        <a:lnTo>
                          <a:pt x="78" y="12"/>
                        </a:lnTo>
                        <a:lnTo>
                          <a:pt x="89" y="12"/>
                        </a:lnTo>
                        <a:lnTo>
                          <a:pt x="111" y="12"/>
                        </a:lnTo>
                        <a:lnTo>
                          <a:pt x="122" y="12"/>
                        </a:lnTo>
                        <a:lnTo>
                          <a:pt x="133" y="23"/>
                        </a:lnTo>
                        <a:lnTo>
                          <a:pt x="156" y="23"/>
                        </a:lnTo>
                        <a:lnTo>
                          <a:pt x="167" y="23"/>
                        </a:lnTo>
                        <a:lnTo>
                          <a:pt x="189" y="23"/>
                        </a:lnTo>
                        <a:lnTo>
                          <a:pt x="200" y="34"/>
                        </a:lnTo>
                        <a:lnTo>
                          <a:pt x="222" y="34"/>
                        </a:lnTo>
                        <a:lnTo>
                          <a:pt x="234" y="34"/>
                        </a:lnTo>
                        <a:lnTo>
                          <a:pt x="245" y="34"/>
                        </a:lnTo>
                        <a:lnTo>
                          <a:pt x="234" y="23"/>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1230"/>
                  <p:cNvSpPr/>
                  <p:nvPr/>
                </p:nvSpPr>
                <p:spPr>
                  <a:xfrm rot="111600">
                    <a:off x="2928960" y="814680"/>
                    <a:ext cx="46800" cy="51840"/>
                  </a:xfrm>
                  <a:custGeom>
                    <a:avLst/>
                    <a:gdLst>
                      <a:gd name="textAreaLeft" fmla="*/ 0 w 46800"/>
                      <a:gd name="textAreaRight" fmla="*/ 47160 w 46800"/>
                      <a:gd name="textAreaTop" fmla="*/ 0 h 51840"/>
                      <a:gd name="textAreaBottom" fmla="*/ 52200 h 51840"/>
                    </a:gdLst>
                    <a:ahLst/>
                    <a:rect l="textAreaLeft" t="textAreaTop" r="textAreaRight" b="textAreaBottom"/>
                    <a:pathLst>
                      <a:path w="479" h="390">
                        <a:moveTo>
                          <a:pt x="479" y="0"/>
                        </a:moveTo>
                        <a:lnTo>
                          <a:pt x="479" y="0"/>
                        </a:lnTo>
                        <a:lnTo>
                          <a:pt x="445" y="0"/>
                        </a:lnTo>
                        <a:lnTo>
                          <a:pt x="401" y="11"/>
                        </a:lnTo>
                        <a:lnTo>
                          <a:pt x="367" y="22"/>
                        </a:lnTo>
                        <a:lnTo>
                          <a:pt x="323" y="44"/>
                        </a:lnTo>
                        <a:lnTo>
                          <a:pt x="289" y="67"/>
                        </a:lnTo>
                        <a:lnTo>
                          <a:pt x="256" y="100"/>
                        </a:lnTo>
                        <a:lnTo>
                          <a:pt x="222" y="134"/>
                        </a:lnTo>
                        <a:lnTo>
                          <a:pt x="189" y="156"/>
                        </a:lnTo>
                        <a:lnTo>
                          <a:pt x="156" y="189"/>
                        </a:lnTo>
                        <a:lnTo>
                          <a:pt x="122" y="223"/>
                        </a:lnTo>
                        <a:lnTo>
                          <a:pt x="100" y="256"/>
                        </a:lnTo>
                        <a:lnTo>
                          <a:pt x="66" y="290"/>
                        </a:lnTo>
                        <a:lnTo>
                          <a:pt x="44" y="312"/>
                        </a:lnTo>
                        <a:lnTo>
                          <a:pt x="33" y="345"/>
                        </a:lnTo>
                        <a:lnTo>
                          <a:pt x="11" y="356"/>
                        </a:lnTo>
                        <a:lnTo>
                          <a:pt x="0" y="379"/>
                        </a:lnTo>
                        <a:lnTo>
                          <a:pt x="11" y="390"/>
                        </a:lnTo>
                        <a:lnTo>
                          <a:pt x="22" y="368"/>
                        </a:lnTo>
                        <a:lnTo>
                          <a:pt x="44" y="345"/>
                        </a:lnTo>
                        <a:lnTo>
                          <a:pt x="55" y="323"/>
                        </a:lnTo>
                        <a:lnTo>
                          <a:pt x="78" y="301"/>
                        </a:lnTo>
                        <a:lnTo>
                          <a:pt x="111" y="267"/>
                        </a:lnTo>
                        <a:lnTo>
                          <a:pt x="133" y="234"/>
                        </a:lnTo>
                        <a:lnTo>
                          <a:pt x="167" y="200"/>
                        </a:lnTo>
                        <a:lnTo>
                          <a:pt x="200" y="167"/>
                        </a:lnTo>
                        <a:lnTo>
                          <a:pt x="222" y="145"/>
                        </a:lnTo>
                        <a:lnTo>
                          <a:pt x="256" y="111"/>
                        </a:lnTo>
                        <a:lnTo>
                          <a:pt x="300" y="78"/>
                        </a:lnTo>
                        <a:lnTo>
                          <a:pt x="334" y="56"/>
                        </a:lnTo>
                        <a:lnTo>
                          <a:pt x="367" y="33"/>
                        </a:lnTo>
                        <a:lnTo>
                          <a:pt x="412" y="22"/>
                        </a:lnTo>
                        <a:lnTo>
                          <a:pt x="445" y="11"/>
                        </a:lnTo>
                        <a:lnTo>
                          <a:pt x="479" y="11"/>
                        </a:lnTo>
                        <a:lnTo>
                          <a:pt x="479" y="0"/>
                        </a:lnTo>
                        <a:close/>
                      </a:path>
                    </a:pathLst>
                  </a:custGeom>
                  <a:solidFill>
                    <a:srgbClr val="0000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Freeform 1229"/>
                  <p:cNvSpPr/>
                  <p:nvPr/>
                </p:nvSpPr>
                <p:spPr>
                  <a:xfrm rot="111600">
                    <a:off x="2953080" y="93924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22" y="11"/>
                        </a:moveTo>
                        <a:lnTo>
                          <a:pt x="11" y="11"/>
                        </a:lnTo>
                        <a:lnTo>
                          <a:pt x="11" y="0"/>
                        </a:lnTo>
                        <a:lnTo>
                          <a:pt x="11" y="11"/>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Freeform 1228"/>
                  <p:cNvSpPr/>
                  <p:nvPr/>
                </p:nvSpPr>
                <p:spPr>
                  <a:xfrm rot="111600">
                    <a:off x="2940840" y="940320"/>
                    <a:ext cx="14040" cy="13320"/>
                  </a:xfrm>
                  <a:custGeom>
                    <a:avLst/>
                    <a:gdLst>
                      <a:gd name="textAreaLeft" fmla="*/ 0 w 14040"/>
                      <a:gd name="textAreaRight" fmla="*/ 14400 w 14040"/>
                      <a:gd name="textAreaTop" fmla="*/ 0 h 13320"/>
                      <a:gd name="textAreaBottom" fmla="*/ 13680 h 13320"/>
                    </a:gdLst>
                    <a:ahLst/>
                    <a:rect l="textAreaLeft" t="textAreaTop" r="textAreaRight" b="textAreaBottom"/>
                    <a:pathLst>
                      <a:path w="144" h="101">
                        <a:moveTo>
                          <a:pt x="0" y="101"/>
                        </a:moveTo>
                        <a:lnTo>
                          <a:pt x="22" y="101"/>
                        </a:lnTo>
                        <a:lnTo>
                          <a:pt x="44" y="89"/>
                        </a:lnTo>
                        <a:lnTo>
                          <a:pt x="66" y="89"/>
                        </a:lnTo>
                        <a:lnTo>
                          <a:pt x="89" y="78"/>
                        </a:lnTo>
                        <a:lnTo>
                          <a:pt x="100" y="67"/>
                        </a:lnTo>
                        <a:lnTo>
                          <a:pt x="122" y="45"/>
                        </a:lnTo>
                        <a:lnTo>
                          <a:pt x="133" y="22"/>
                        </a:lnTo>
                        <a:lnTo>
                          <a:pt x="144" y="0"/>
                        </a:lnTo>
                        <a:lnTo>
                          <a:pt x="122" y="0"/>
                        </a:lnTo>
                        <a:lnTo>
                          <a:pt x="122" y="22"/>
                        </a:lnTo>
                        <a:lnTo>
                          <a:pt x="111" y="34"/>
                        </a:lnTo>
                        <a:lnTo>
                          <a:pt x="89" y="56"/>
                        </a:lnTo>
                        <a:lnTo>
                          <a:pt x="78" y="67"/>
                        </a:lnTo>
                        <a:lnTo>
                          <a:pt x="55" y="67"/>
                        </a:lnTo>
                        <a:lnTo>
                          <a:pt x="44" y="78"/>
                        </a:lnTo>
                        <a:lnTo>
                          <a:pt x="22" y="78"/>
                        </a:lnTo>
                        <a:lnTo>
                          <a:pt x="0" y="89"/>
                        </a:lnTo>
                        <a:lnTo>
                          <a:pt x="0" y="101"/>
                        </a:lnTo>
                        <a:close/>
                      </a:path>
                    </a:pathLst>
                  </a:custGeom>
                  <a:solidFill>
                    <a:srgbClr val="000000"/>
                  </a:solidFill>
                  <a:ln w="0">
                    <a:no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1227"/>
                  <p:cNvSpPr/>
                  <p:nvPr/>
                </p:nvSpPr>
                <p:spPr>
                  <a:xfrm rot="111600">
                    <a:off x="2953080" y="939240"/>
                    <a:ext cx="1080" cy="2880"/>
                  </a:xfrm>
                  <a:custGeom>
                    <a:avLst/>
                    <a:gdLst>
                      <a:gd name="textAreaLeft" fmla="*/ 0 w 1080"/>
                      <a:gd name="textAreaRight" fmla="*/ 1440 w 1080"/>
                      <a:gd name="textAreaTop" fmla="*/ 0 h 2880"/>
                      <a:gd name="textAreaBottom" fmla="*/ 3240 h 2880"/>
                    </a:gdLst>
                    <a:ahLst/>
                    <a:rect l="textAreaLeft" t="textAreaTop" r="textAreaRight" b="textAreaBottom"/>
                    <a:pathLst>
                      <a:path w="11" h="22">
                        <a:moveTo>
                          <a:pt x="11" y="0"/>
                        </a:moveTo>
                        <a:lnTo>
                          <a:pt x="11" y="11"/>
                        </a:lnTo>
                        <a:lnTo>
                          <a:pt x="0" y="11"/>
                        </a:lnTo>
                        <a:lnTo>
                          <a:pt x="11" y="11"/>
                        </a:lnTo>
                        <a:lnTo>
                          <a:pt x="11" y="22"/>
                        </a:lnTo>
                        <a:lnTo>
                          <a:pt x="11"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1226"/>
                  <p:cNvSpPr/>
                  <p:nvPr/>
                </p:nvSpPr>
                <p:spPr>
                  <a:xfrm rot="111600">
                    <a:off x="2996280" y="943560"/>
                    <a:ext cx="1800" cy="360"/>
                  </a:xfrm>
                  <a:custGeom>
                    <a:avLst/>
                    <a:gdLst>
                      <a:gd name="textAreaLeft" fmla="*/ 0 w 1800"/>
                      <a:gd name="textAreaRight" fmla="*/ 2160 w 1800"/>
                      <a:gd name="textAreaTop" fmla="*/ 0 h 360"/>
                      <a:gd name="textAreaBottom" fmla="*/ 720 h 360"/>
                    </a:gdLst>
                    <a:ahLst/>
                    <a:rect l="textAreaLeft" t="textAreaTop" r="textAreaRight" b="textAreaBottom"/>
                    <a:pathLst>
                      <a:path w="22" h="1">
                        <a:moveTo>
                          <a:pt x="22" y="0"/>
                        </a:moveTo>
                        <a:lnTo>
                          <a:pt x="11" y="0"/>
                        </a:lnTo>
                        <a:lnTo>
                          <a:pt x="0" y="0"/>
                        </a:lnTo>
                        <a:lnTo>
                          <a:pt x="22"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1225"/>
                  <p:cNvSpPr/>
                  <p:nvPr/>
                </p:nvSpPr>
                <p:spPr>
                  <a:xfrm rot="111600">
                    <a:off x="2996280" y="943560"/>
                    <a:ext cx="14040" cy="14760"/>
                  </a:xfrm>
                  <a:custGeom>
                    <a:avLst/>
                    <a:gdLst>
                      <a:gd name="textAreaLeft" fmla="*/ 0 w 14040"/>
                      <a:gd name="textAreaRight" fmla="*/ 14400 w 14040"/>
                      <a:gd name="textAreaTop" fmla="*/ 0 h 14760"/>
                      <a:gd name="textAreaBottom" fmla="*/ 15120 h 14760"/>
                    </a:gdLst>
                    <a:ahLst/>
                    <a:rect l="textAreaLeft" t="textAreaTop" r="textAreaRight" b="textAreaBottom"/>
                    <a:pathLst>
                      <a:path w="145" h="112">
                        <a:moveTo>
                          <a:pt x="145" y="101"/>
                        </a:moveTo>
                        <a:lnTo>
                          <a:pt x="111" y="101"/>
                        </a:lnTo>
                        <a:lnTo>
                          <a:pt x="89" y="101"/>
                        </a:lnTo>
                        <a:lnTo>
                          <a:pt x="67" y="90"/>
                        </a:lnTo>
                        <a:lnTo>
                          <a:pt x="45" y="90"/>
                        </a:lnTo>
                        <a:lnTo>
                          <a:pt x="33" y="78"/>
                        </a:lnTo>
                        <a:lnTo>
                          <a:pt x="22" y="56"/>
                        </a:lnTo>
                        <a:lnTo>
                          <a:pt x="22" y="34"/>
                        </a:lnTo>
                        <a:lnTo>
                          <a:pt x="22" y="0"/>
                        </a:lnTo>
                        <a:lnTo>
                          <a:pt x="0" y="0"/>
                        </a:lnTo>
                        <a:lnTo>
                          <a:pt x="11" y="34"/>
                        </a:lnTo>
                        <a:lnTo>
                          <a:pt x="11" y="67"/>
                        </a:lnTo>
                        <a:lnTo>
                          <a:pt x="22" y="90"/>
                        </a:lnTo>
                        <a:lnTo>
                          <a:pt x="45" y="101"/>
                        </a:lnTo>
                        <a:lnTo>
                          <a:pt x="67" y="112"/>
                        </a:lnTo>
                        <a:lnTo>
                          <a:pt x="89" y="112"/>
                        </a:lnTo>
                        <a:lnTo>
                          <a:pt x="111" y="112"/>
                        </a:lnTo>
                        <a:lnTo>
                          <a:pt x="145" y="112"/>
                        </a:lnTo>
                        <a:lnTo>
                          <a:pt x="145" y="101"/>
                        </a:lnTo>
                        <a:close/>
                      </a:path>
                    </a:pathLst>
                  </a:custGeom>
                  <a:solidFill>
                    <a:srgbClr val="000000"/>
                  </a:solidFill>
                  <a:ln w="0">
                    <a:noFill/>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1224"/>
                  <p:cNvSpPr/>
                  <p:nvPr/>
                </p:nvSpPr>
                <p:spPr>
                  <a:xfrm rot="111600">
                    <a:off x="2997360" y="943560"/>
                    <a:ext cx="720" cy="1440"/>
                  </a:xfrm>
                  <a:custGeom>
                    <a:avLst/>
                    <a:gdLst>
                      <a:gd name="textAreaLeft" fmla="*/ 0 w 720"/>
                      <a:gd name="textAreaRight" fmla="*/ 1080 w 720"/>
                      <a:gd name="textAreaTop" fmla="*/ 0 h 1440"/>
                      <a:gd name="textAreaBottom" fmla="*/ 1800 h 1440"/>
                    </a:gdLst>
                    <a:ahLst/>
                    <a:rect l="textAreaLeft" t="textAreaTop" r="textAreaRight" b="textAreaBottom"/>
                    <a:pathLst>
                      <a:path w="11" h="11">
                        <a:moveTo>
                          <a:pt x="0" y="11"/>
                        </a:moveTo>
                        <a:lnTo>
                          <a:pt x="0" y="0"/>
                        </a:lnTo>
                        <a:lnTo>
                          <a:pt x="11" y="0"/>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1223"/>
                  <p:cNvSpPr/>
                  <p:nvPr/>
                </p:nvSpPr>
                <p:spPr>
                  <a:xfrm rot="111600">
                    <a:off x="2963880" y="865440"/>
                    <a:ext cx="3240" cy="2880"/>
                  </a:xfrm>
                  <a:custGeom>
                    <a:avLst/>
                    <a:gdLst>
                      <a:gd name="textAreaLeft" fmla="*/ 0 w 3240"/>
                      <a:gd name="textAreaRight" fmla="*/ 3600 w 3240"/>
                      <a:gd name="textAreaTop" fmla="*/ 0 h 2880"/>
                      <a:gd name="textAreaBottom" fmla="*/ 3240 h 2880"/>
                    </a:gdLst>
                    <a:ahLst/>
                    <a:rect l="textAreaLeft" t="textAreaTop" r="textAreaRight" b="textAreaBottom"/>
                    <a:pathLst>
                      <a:path w="34" h="22">
                        <a:moveTo>
                          <a:pt x="34" y="22"/>
                        </a:moveTo>
                        <a:lnTo>
                          <a:pt x="34" y="0"/>
                        </a:lnTo>
                        <a:lnTo>
                          <a:pt x="11" y="0"/>
                        </a:lnTo>
                        <a:lnTo>
                          <a:pt x="0" y="0"/>
                        </a:lnTo>
                        <a:lnTo>
                          <a:pt x="0" y="22"/>
                        </a:lnTo>
                        <a:lnTo>
                          <a:pt x="34" y="22"/>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Freeform 1222"/>
                  <p:cNvSpPr/>
                  <p:nvPr/>
                </p:nvSpPr>
                <p:spPr>
                  <a:xfrm rot="111600">
                    <a:off x="2960640" y="868320"/>
                    <a:ext cx="6480" cy="12960"/>
                  </a:xfrm>
                  <a:custGeom>
                    <a:avLst/>
                    <a:gdLst>
                      <a:gd name="textAreaLeft" fmla="*/ 0 w 6480"/>
                      <a:gd name="textAreaRight" fmla="*/ 6840 w 6480"/>
                      <a:gd name="textAreaTop" fmla="*/ 0 h 12960"/>
                      <a:gd name="textAreaBottom" fmla="*/ 13320 h 12960"/>
                    </a:gdLst>
                    <a:ahLst/>
                    <a:rect l="textAreaLeft" t="textAreaTop" r="textAreaRight" b="textAreaBottom"/>
                    <a:pathLst>
                      <a:path w="67" h="100">
                        <a:moveTo>
                          <a:pt x="44" y="100"/>
                        </a:moveTo>
                        <a:lnTo>
                          <a:pt x="44" y="78"/>
                        </a:lnTo>
                        <a:lnTo>
                          <a:pt x="56" y="56"/>
                        </a:lnTo>
                        <a:lnTo>
                          <a:pt x="67" y="22"/>
                        </a:lnTo>
                        <a:lnTo>
                          <a:pt x="67" y="0"/>
                        </a:lnTo>
                        <a:lnTo>
                          <a:pt x="33" y="0"/>
                        </a:lnTo>
                        <a:lnTo>
                          <a:pt x="22" y="22"/>
                        </a:lnTo>
                        <a:lnTo>
                          <a:pt x="22" y="45"/>
                        </a:lnTo>
                        <a:lnTo>
                          <a:pt x="11" y="67"/>
                        </a:lnTo>
                        <a:lnTo>
                          <a:pt x="0" y="100"/>
                        </a:lnTo>
                        <a:lnTo>
                          <a:pt x="44" y="10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Freeform 1221"/>
                  <p:cNvSpPr/>
                  <p:nvPr/>
                </p:nvSpPr>
                <p:spPr>
                  <a:xfrm rot="111600">
                    <a:off x="2963880" y="868320"/>
                    <a:ext cx="3240" cy="1440"/>
                  </a:xfrm>
                  <a:custGeom>
                    <a:avLst/>
                    <a:gdLst>
                      <a:gd name="textAreaLeft" fmla="*/ 0 w 3240"/>
                      <a:gd name="textAreaRight" fmla="*/ 3600 w 3240"/>
                      <a:gd name="textAreaTop" fmla="*/ 0 h 1440"/>
                      <a:gd name="textAreaBottom" fmla="*/ 1800 h 1440"/>
                    </a:gdLst>
                    <a:ahLst/>
                    <a:rect l="textAreaLeft" t="textAreaTop" r="textAreaRight" b="textAreaBottom"/>
                    <a:pathLst>
                      <a:path w="34" h="11">
                        <a:moveTo>
                          <a:pt x="0" y="0"/>
                        </a:moveTo>
                        <a:lnTo>
                          <a:pt x="0" y="11"/>
                        </a:lnTo>
                        <a:lnTo>
                          <a:pt x="11" y="11"/>
                        </a:lnTo>
                        <a:lnTo>
                          <a:pt x="34" y="11"/>
                        </a:lnTo>
                        <a:lnTo>
                          <a:pt x="34"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Freeform 1220"/>
                  <p:cNvSpPr/>
                  <p:nvPr/>
                </p:nvSpPr>
                <p:spPr>
                  <a:xfrm rot="111600">
                    <a:off x="2991240" y="86940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33" h="22">
                        <a:moveTo>
                          <a:pt x="33" y="11"/>
                        </a:moveTo>
                        <a:lnTo>
                          <a:pt x="22" y="11"/>
                        </a:lnTo>
                        <a:lnTo>
                          <a:pt x="22" y="0"/>
                        </a:lnTo>
                        <a:lnTo>
                          <a:pt x="11" y="0"/>
                        </a:lnTo>
                        <a:lnTo>
                          <a:pt x="0" y="0"/>
                        </a:lnTo>
                        <a:lnTo>
                          <a:pt x="0" y="11"/>
                        </a:lnTo>
                        <a:lnTo>
                          <a:pt x="0" y="22"/>
                        </a:lnTo>
                        <a:lnTo>
                          <a:pt x="33"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Freeform 1219"/>
                  <p:cNvSpPr/>
                  <p:nvPr/>
                </p:nvSpPr>
                <p:spPr>
                  <a:xfrm rot="111600">
                    <a:off x="2991240" y="871200"/>
                    <a:ext cx="6480" cy="16200"/>
                  </a:xfrm>
                  <a:custGeom>
                    <a:avLst/>
                    <a:gdLst>
                      <a:gd name="textAreaLeft" fmla="*/ 0 w 6480"/>
                      <a:gd name="textAreaRight" fmla="*/ 6840 w 6480"/>
                      <a:gd name="textAreaTop" fmla="*/ 0 h 16200"/>
                      <a:gd name="textAreaBottom" fmla="*/ 16560 h 16200"/>
                    </a:gdLst>
                    <a:ahLst/>
                    <a:rect l="textAreaLeft" t="textAreaTop" r="textAreaRight" b="textAreaBottom"/>
                    <a:pathLst>
                      <a:path w="67" h="123">
                        <a:moveTo>
                          <a:pt x="67" y="112"/>
                        </a:moveTo>
                        <a:lnTo>
                          <a:pt x="56" y="78"/>
                        </a:lnTo>
                        <a:lnTo>
                          <a:pt x="45" y="56"/>
                        </a:lnTo>
                        <a:lnTo>
                          <a:pt x="45" y="34"/>
                        </a:lnTo>
                        <a:lnTo>
                          <a:pt x="33" y="0"/>
                        </a:lnTo>
                        <a:lnTo>
                          <a:pt x="0" y="11"/>
                        </a:lnTo>
                        <a:lnTo>
                          <a:pt x="0" y="45"/>
                        </a:lnTo>
                        <a:lnTo>
                          <a:pt x="11" y="67"/>
                        </a:lnTo>
                        <a:lnTo>
                          <a:pt x="22" y="89"/>
                        </a:lnTo>
                        <a:lnTo>
                          <a:pt x="33" y="123"/>
                        </a:lnTo>
                        <a:lnTo>
                          <a:pt x="67" y="11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1218"/>
                  <p:cNvSpPr/>
                  <p:nvPr/>
                </p:nvSpPr>
                <p:spPr>
                  <a:xfrm rot="111600">
                    <a:off x="2991240" y="87120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33" h="23">
                        <a:moveTo>
                          <a:pt x="0" y="11"/>
                        </a:moveTo>
                        <a:lnTo>
                          <a:pt x="0" y="23"/>
                        </a:lnTo>
                        <a:lnTo>
                          <a:pt x="11" y="23"/>
                        </a:lnTo>
                        <a:lnTo>
                          <a:pt x="22" y="23"/>
                        </a:lnTo>
                        <a:lnTo>
                          <a:pt x="33" y="11"/>
                        </a:lnTo>
                        <a:lnTo>
                          <a:pt x="33" y="0"/>
                        </a:lnTo>
                        <a:lnTo>
                          <a:pt x="0"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Freeform 1217"/>
                  <p:cNvSpPr/>
                  <p:nvPr/>
                </p:nvSpPr>
                <p:spPr>
                  <a:xfrm rot="111600">
                    <a:off x="2987640" y="910800"/>
                    <a:ext cx="1080" cy="360"/>
                  </a:xfrm>
                  <a:custGeom>
                    <a:avLst/>
                    <a:gdLst>
                      <a:gd name="textAreaLeft" fmla="*/ 0 w 1080"/>
                      <a:gd name="textAreaRight" fmla="*/ 1440 w 1080"/>
                      <a:gd name="textAreaTop" fmla="*/ 0 h 360"/>
                      <a:gd name="textAreaBottom" fmla="*/ 720 h 360"/>
                    </a:gdLst>
                    <a:ahLst/>
                    <a:rect l="textAreaLeft" t="textAreaTop" r="textAreaRight" b="textAreaBottom"/>
                    <a:pathLst>
                      <a:path w="11" h="1">
                        <a:moveTo>
                          <a:pt x="0" y="0"/>
                        </a:moveTo>
                        <a:lnTo>
                          <a:pt x="0" y="0"/>
                        </a:lnTo>
                        <a:lnTo>
                          <a:pt x="11"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Freeform 1216"/>
                  <p:cNvSpPr/>
                  <p:nvPr/>
                </p:nvSpPr>
                <p:spPr>
                  <a:xfrm rot="111600">
                    <a:off x="2978280" y="894240"/>
                    <a:ext cx="10800" cy="16200"/>
                  </a:xfrm>
                  <a:custGeom>
                    <a:avLst/>
                    <a:gdLst>
                      <a:gd name="textAreaLeft" fmla="*/ 0 w 10800"/>
                      <a:gd name="textAreaRight" fmla="*/ 11160 w 10800"/>
                      <a:gd name="textAreaTop" fmla="*/ 0 h 16200"/>
                      <a:gd name="textAreaBottom" fmla="*/ 16560 h 16200"/>
                    </a:gdLst>
                    <a:ahLst/>
                    <a:rect l="textAreaLeft" t="textAreaTop" r="textAreaRight" b="textAreaBottom"/>
                    <a:pathLst>
                      <a:path w="112" h="122">
                        <a:moveTo>
                          <a:pt x="0" y="22"/>
                        </a:moveTo>
                        <a:lnTo>
                          <a:pt x="0" y="22"/>
                        </a:lnTo>
                        <a:lnTo>
                          <a:pt x="12" y="22"/>
                        </a:lnTo>
                        <a:lnTo>
                          <a:pt x="34" y="33"/>
                        </a:lnTo>
                        <a:lnTo>
                          <a:pt x="45" y="44"/>
                        </a:lnTo>
                        <a:lnTo>
                          <a:pt x="56" y="55"/>
                        </a:lnTo>
                        <a:lnTo>
                          <a:pt x="78" y="66"/>
                        </a:lnTo>
                        <a:lnTo>
                          <a:pt x="90" y="89"/>
                        </a:lnTo>
                        <a:lnTo>
                          <a:pt x="90" y="100"/>
                        </a:lnTo>
                        <a:lnTo>
                          <a:pt x="101" y="122"/>
                        </a:lnTo>
                        <a:lnTo>
                          <a:pt x="112" y="122"/>
                        </a:lnTo>
                        <a:lnTo>
                          <a:pt x="112" y="100"/>
                        </a:lnTo>
                        <a:lnTo>
                          <a:pt x="101" y="78"/>
                        </a:lnTo>
                        <a:lnTo>
                          <a:pt x="90" y="55"/>
                        </a:lnTo>
                        <a:lnTo>
                          <a:pt x="67" y="44"/>
                        </a:lnTo>
                        <a:lnTo>
                          <a:pt x="56" y="33"/>
                        </a:lnTo>
                        <a:lnTo>
                          <a:pt x="34" y="11"/>
                        </a:lnTo>
                        <a:lnTo>
                          <a:pt x="23" y="11"/>
                        </a:lnTo>
                        <a:lnTo>
                          <a:pt x="0" y="0"/>
                        </a:lnTo>
                        <a:lnTo>
                          <a:pt x="0" y="2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1215"/>
                  <p:cNvSpPr/>
                  <p:nvPr/>
                </p:nvSpPr>
                <p:spPr>
                  <a:xfrm rot="111600">
                    <a:off x="2964240" y="893880"/>
                    <a:ext cx="14040" cy="16200"/>
                  </a:xfrm>
                  <a:custGeom>
                    <a:avLst/>
                    <a:gdLst>
                      <a:gd name="textAreaLeft" fmla="*/ 0 w 14040"/>
                      <a:gd name="textAreaRight" fmla="*/ 14400 w 14040"/>
                      <a:gd name="textAreaTop" fmla="*/ 0 h 16200"/>
                      <a:gd name="textAreaBottom" fmla="*/ 16560 h 16200"/>
                    </a:gdLst>
                    <a:ahLst/>
                    <a:rect l="textAreaLeft" t="textAreaTop" r="textAreaRight" b="textAreaBottom"/>
                    <a:pathLst>
                      <a:path w="145" h="122">
                        <a:moveTo>
                          <a:pt x="12" y="122"/>
                        </a:moveTo>
                        <a:lnTo>
                          <a:pt x="23" y="100"/>
                        </a:lnTo>
                        <a:lnTo>
                          <a:pt x="34" y="89"/>
                        </a:lnTo>
                        <a:lnTo>
                          <a:pt x="45" y="66"/>
                        </a:lnTo>
                        <a:lnTo>
                          <a:pt x="56" y="44"/>
                        </a:lnTo>
                        <a:lnTo>
                          <a:pt x="79" y="33"/>
                        </a:lnTo>
                        <a:lnTo>
                          <a:pt x="101" y="22"/>
                        </a:lnTo>
                        <a:lnTo>
                          <a:pt x="123" y="22"/>
                        </a:lnTo>
                        <a:lnTo>
                          <a:pt x="145" y="22"/>
                        </a:lnTo>
                        <a:lnTo>
                          <a:pt x="145" y="0"/>
                        </a:lnTo>
                        <a:lnTo>
                          <a:pt x="123" y="0"/>
                        </a:lnTo>
                        <a:lnTo>
                          <a:pt x="90" y="11"/>
                        </a:lnTo>
                        <a:lnTo>
                          <a:pt x="67" y="22"/>
                        </a:lnTo>
                        <a:lnTo>
                          <a:pt x="56" y="33"/>
                        </a:lnTo>
                        <a:lnTo>
                          <a:pt x="34" y="55"/>
                        </a:lnTo>
                        <a:lnTo>
                          <a:pt x="23" y="78"/>
                        </a:lnTo>
                        <a:lnTo>
                          <a:pt x="0" y="100"/>
                        </a:lnTo>
                        <a:lnTo>
                          <a:pt x="0" y="122"/>
                        </a:lnTo>
                        <a:lnTo>
                          <a:pt x="12" y="12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Freeform 1214"/>
                  <p:cNvSpPr/>
                  <p:nvPr/>
                </p:nvSpPr>
                <p:spPr>
                  <a:xfrm rot="111600">
                    <a:off x="2977200" y="895680"/>
                    <a:ext cx="1080" cy="360"/>
                  </a:xfrm>
                  <a:custGeom>
                    <a:avLst/>
                    <a:gdLst>
                      <a:gd name="textAreaLeft" fmla="*/ 0 w 1080"/>
                      <a:gd name="textAreaRight" fmla="*/ 1440 w 1080"/>
                      <a:gd name="textAreaTop" fmla="*/ 0 h 360"/>
                      <a:gd name="textAreaBottom" fmla="*/ 720 h 360"/>
                    </a:gdLst>
                    <a:ahLst/>
                    <a:rect l="textAreaLeft" t="textAreaTop" r="textAreaRight" b="textAreaBottom"/>
                    <a:pathLst>
                      <a:path w="11" h="1">
                        <a:moveTo>
                          <a:pt x="0" y="0"/>
                        </a:moveTo>
                        <a:lnTo>
                          <a:pt x="0" y="0"/>
                        </a:lnTo>
                        <a:lnTo>
                          <a:pt x="11"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1213"/>
                  <p:cNvSpPr/>
                  <p:nvPr/>
                </p:nvSpPr>
                <p:spPr>
                  <a:xfrm rot="111600">
                    <a:off x="2946960" y="95112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2" h="11">
                        <a:moveTo>
                          <a:pt x="12" y="0"/>
                        </a:moveTo>
                        <a:lnTo>
                          <a:pt x="0" y="0"/>
                        </a:lnTo>
                        <a:lnTo>
                          <a:pt x="0" y="11"/>
                        </a:lnTo>
                        <a:lnTo>
                          <a:pt x="12"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1212"/>
                  <p:cNvSpPr/>
                  <p:nvPr/>
                </p:nvSpPr>
                <p:spPr>
                  <a:xfrm rot="111600">
                    <a:off x="2946960" y="951120"/>
                    <a:ext cx="4320" cy="10080"/>
                  </a:xfrm>
                  <a:custGeom>
                    <a:avLst/>
                    <a:gdLst>
                      <a:gd name="textAreaLeft" fmla="*/ 0 w 4320"/>
                      <a:gd name="textAreaRight" fmla="*/ 4320 w 4320"/>
                      <a:gd name="textAreaTop" fmla="*/ 0 h 10080"/>
                      <a:gd name="textAreaBottom" fmla="*/ 10440 h 10080"/>
                    </a:gdLst>
                    <a:ahLst/>
                    <a:rect l="textAreaLeft" t="textAreaTop" r="textAreaRight" b="textAreaBottom"/>
                    <a:pathLst>
                      <a:path w="45" h="78">
                        <a:moveTo>
                          <a:pt x="45" y="67"/>
                        </a:moveTo>
                        <a:lnTo>
                          <a:pt x="45" y="67"/>
                        </a:lnTo>
                        <a:lnTo>
                          <a:pt x="34" y="56"/>
                        </a:lnTo>
                        <a:lnTo>
                          <a:pt x="34" y="34"/>
                        </a:lnTo>
                        <a:lnTo>
                          <a:pt x="23" y="11"/>
                        </a:lnTo>
                        <a:lnTo>
                          <a:pt x="12" y="0"/>
                        </a:lnTo>
                        <a:lnTo>
                          <a:pt x="0" y="11"/>
                        </a:lnTo>
                        <a:lnTo>
                          <a:pt x="12" y="23"/>
                        </a:lnTo>
                        <a:lnTo>
                          <a:pt x="23" y="45"/>
                        </a:lnTo>
                        <a:lnTo>
                          <a:pt x="23" y="56"/>
                        </a:lnTo>
                        <a:lnTo>
                          <a:pt x="34" y="78"/>
                        </a:lnTo>
                        <a:lnTo>
                          <a:pt x="45" y="67"/>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Freeform 1211"/>
                  <p:cNvSpPr/>
                  <p:nvPr/>
                </p:nvSpPr>
                <p:spPr>
                  <a:xfrm rot="111600">
                    <a:off x="2950200" y="960480"/>
                    <a:ext cx="33480" cy="17640"/>
                  </a:xfrm>
                  <a:custGeom>
                    <a:avLst/>
                    <a:gdLst>
                      <a:gd name="textAreaLeft" fmla="*/ 0 w 33480"/>
                      <a:gd name="textAreaRight" fmla="*/ 33840 w 33480"/>
                      <a:gd name="textAreaTop" fmla="*/ 0 h 17640"/>
                      <a:gd name="textAreaBottom" fmla="*/ 18000 h 17640"/>
                    </a:gdLst>
                    <a:ahLst/>
                    <a:rect l="textAreaLeft" t="textAreaTop" r="textAreaRight" b="textAreaBottom"/>
                    <a:pathLst>
                      <a:path w="345" h="134">
                        <a:moveTo>
                          <a:pt x="345" y="100"/>
                        </a:moveTo>
                        <a:lnTo>
                          <a:pt x="345" y="100"/>
                        </a:lnTo>
                        <a:lnTo>
                          <a:pt x="323" y="112"/>
                        </a:lnTo>
                        <a:lnTo>
                          <a:pt x="290" y="123"/>
                        </a:lnTo>
                        <a:lnTo>
                          <a:pt x="267" y="123"/>
                        </a:lnTo>
                        <a:lnTo>
                          <a:pt x="245" y="123"/>
                        </a:lnTo>
                        <a:lnTo>
                          <a:pt x="223" y="123"/>
                        </a:lnTo>
                        <a:lnTo>
                          <a:pt x="201" y="123"/>
                        </a:lnTo>
                        <a:lnTo>
                          <a:pt x="178" y="112"/>
                        </a:lnTo>
                        <a:lnTo>
                          <a:pt x="156" y="112"/>
                        </a:lnTo>
                        <a:lnTo>
                          <a:pt x="145" y="100"/>
                        </a:lnTo>
                        <a:lnTo>
                          <a:pt x="122" y="89"/>
                        </a:lnTo>
                        <a:lnTo>
                          <a:pt x="100" y="78"/>
                        </a:lnTo>
                        <a:lnTo>
                          <a:pt x="78" y="67"/>
                        </a:lnTo>
                        <a:lnTo>
                          <a:pt x="67" y="56"/>
                        </a:lnTo>
                        <a:lnTo>
                          <a:pt x="44" y="45"/>
                        </a:lnTo>
                        <a:lnTo>
                          <a:pt x="33" y="22"/>
                        </a:lnTo>
                        <a:lnTo>
                          <a:pt x="11" y="0"/>
                        </a:lnTo>
                        <a:lnTo>
                          <a:pt x="0" y="11"/>
                        </a:lnTo>
                        <a:lnTo>
                          <a:pt x="22" y="34"/>
                        </a:lnTo>
                        <a:lnTo>
                          <a:pt x="33" y="56"/>
                        </a:lnTo>
                        <a:lnTo>
                          <a:pt x="56" y="67"/>
                        </a:lnTo>
                        <a:lnTo>
                          <a:pt x="78" y="78"/>
                        </a:lnTo>
                        <a:lnTo>
                          <a:pt x="89" y="100"/>
                        </a:lnTo>
                        <a:lnTo>
                          <a:pt x="111" y="112"/>
                        </a:lnTo>
                        <a:lnTo>
                          <a:pt x="134" y="112"/>
                        </a:lnTo>
                        <a:lnTo>
                          <a:pt x="156" y="123"/>
                        </a:lnTo>
                        <a:lnTo>
                          <a:pt x="178" y="134"/>
                        </a:lnTo>
                        <a:lnTo>
                          <a:pt x="201" y="134"/>
                        </a:lnTo>
                        <a:lnTo>
                          <a:pt x="223" y="134"/>
                        </a:lnTo>
                        <a:lnTo>
                          <a:pt x="245" y="134"/>
                        </a:lnTo>
                        <a:lnTo>
                          <a:pt x="267" y="134"/>
                        </a:lnTo>
                        <a:lnTo>
                          <a:pt x="301" y="134"/>
                        </a:lnTo>
                        <a:lnTo>
                          <a:pt x="323" y="123"/>
                        </a:lnTo>
                        <a:lnTo>
                          <a:pt x="345" y="112"/>
                        </a:lnTo>
                        <a:lnTo>
                          <a:pt x="345" y="100"/>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Freeform 1210"/>
                  <p:cNvSpPr/>
                  <p:nvPr/>
                </p:nvSpPr>
                <p:spPr>
                  <a:xfrm rot="111600">
                    <a:off x="2983680" y="955440"/>
                    <a:ext cx="16200" cy="20520"/>
                  </a:xfrm>
                  <a:custGeom>
                    <a:avLst/>
                    <a:gdLst>
                      <a:gd name="textAreaLeft" fmla="*/ 0 w 16200"/>
                      <a:gd name="textAreaRight" fmla="*/ 16560 w 16200"/>
                      <a:gd name="textAreaTop" fmla="*/ 0 h 20520"/>
                      <a:gd name="textAreaBottom" fmla="*/ 20880 h 20520"/>
                    </a:gdLst>
                    <a:ahLst/>
                    <a:rect l="textAreaLeft" t="textAreaTop" r="textAreaRight" b="textAreaBottom"/>
                    <a:pathLst>
                      <a:path w="168" h="156">
                        <a:moveTo>
                          <a:pt x="156" y="0"/>
                        </a:moveTo>
                        <a:lnTo>
                          <a:pt x="145" y="22"/>
                        </a:lnTo>
                        <a:lnTo>
                          <a:pt x="123" y="44"/>
                        </a:lnTo>
                        <a:lnTo>
                          <a:pt x="101" y="66"/>
                        </a:lnTo>
                        <a:lnTo>
                          <a:pt x="90" y="89"/>
                        </a:lnTo>
                        <a:lnTo>
                          <a:pt x="67" y="100"/>
                        </a:lnTo>
                        <a:lnTo>
                          <a:pt x="45" y="122"/>
                        </a:lnTo>
                        <a:lnTo>
                          <a:pt x="23" y="133"/>
                        </a:lnTo>
                        <a:lnTo>
                          <a:pt x="0" y="144"/>
                        </a:lnTo>
                        <a:lnTo>
                          <a:pt x="0" y="156"/>
                        </a:lnTo>
                        <a:lnTo>
                          <a:pt x="34" y="144"/>
                        </a:lnTo>
                        <a:lnTo>
                          <a:pt x="56" y="133"/>
                        </a:lnTo>
                        <a:lnTo>
                          <a:pt x="78" y="111"/>
                        </a:lnTo>
                        <a:lnTo>
                          <a:pt x="101" y="89"/>
                        </a:lnTo>
                        <a:lnTo>
                          <a:pt x="112" y="66"/>
                        </a:lnTo>
                        <a:lnTo>
                          <a:pt x="134" y="44"/>
                        </a:lnTo>
                        <a:lnTo>
                          <a:pt x="156" y="22"/>
                        </a:lnTo>
                        <a:lnTo>
                          <a:pt x="168" y="0"/>
                        </a:lnTo>
                        <a:lnTo>
                          <a:pt x="156" y="0"/>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Freeform 1209"/>
                  <p:cNvSpPr/>
                  <p:nvPr/>
                </p:nvSpPr>
                <p:spPr>
                  <a:xfrm rot="111600">
                    <a:off x="2982960" y="97452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2" h="12">
                        <a:moveTo>
                          <a:pt x="12" y="12"/>
                        </a:moveTo>
                        <a:lnTo>
                          <a:pt x="12" y="12"/>
                        </a:lnTo>
                        <a:lnTo>
                          <a:pt x="12" y="0"/>
                        </a:lnTo>
                        <a:lnTo>
                          <a:pt x="0" y="0"/>
                        </a:lnTo>
                        <a:lnTo>
                          <a:pt x="0" y="12"/>
                        </a:lnTo>
                        <a:lnTo>
                          <a:pt x="12" y="12"/>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Freeform 1208"/>
                  <p:cNvSpPr/>
                  <p:nvPr/>
                </p:nvSpPr>
                <p:spPr>
                  <a:xfrm rot="111600">
                    <a:off x="2895840" y="747360"/>
                    <a:ext cx="171000" cy="149760"/>
                  </a:xfrm>
                  <a:custGeom>
                    <a:avLst/>
                    <a:gdLst>
                      <a:gd name="textAreaLeft" fmla="*/ 0 w 171000"/>
                      <a:gd name="textAreaRight" fmla="*/ 171360 w 171000"/>
                      <a:gd name="textAreaTop" fmla="*/ 0 h 149760"/>
                      <a:gd name="textAreaBottom" fmla="*/ 150120 h 149760"/>
                    </a:gdLst>
                    <a:ahLst/>
                    <a:rect l="textAreaLeft" t="textAreaTop" r="textAreaRight" b="textAreaBottom"/>
                    <a:pathLst>
                      <a:path w="1750" h="1126">
                        <a:moveTo>
                          <a:pt x="914" y="190"/>
                        </a:moveTo>
                        <a:lnTo>
                          <a:pt x="903" y="178"/>
                        </a:lnTo>
                        <a:lnTo>
                          <a:pt x="892" y="156"/>
                        </a:lnTo>
                        <a:lnTo>
                          <a:pt x="881" y="123"/>
                        </a:lnTo>
                        <a:lnTo>
                          <a:pt x="869" y="89"/>
                        </a:lnTo>
                        <a:lnTo>
                          <a:pt x="847" y="67"/>
                        </a:lnTo>
                        <a:lnTo>
                          <a:pt x="814" y="45"/>
                        </a:lnTo>
                        <a:lnTo>
                          <a:pt x="780" y="45"/>
                        </a:lnTo>
                        <a:lnTo>
                          <a:pt x="736" y="56"/>
                        </a:lnTo>
                        <a:lnTo>
                          <a:pt x="724" y="45"/>
                        </a:lnTo>
                        <a:lnTo>
                          <a:pt x="713" y="34"/>
                        </a:lnTo>
                        <a:lnTo>
                          <a:pt x="702" y="22"/>
                        </a:lnTo>
                        <a:lnTo>
                          <a:pt x="691" y="22"/>
                        </a:lnTo>
                        <a:lnTo>
                          <a:pt x="680" y="11"/>
                        </a:lnTo>
                        <a:lnTo>
                          <a:pt x="658" y="11"/>
                        </a:lnTo>
                        <a:lnTo>
                          <a:pt x="646" y="11"/>
                        </a:lnTo>
                        <a:lnTo>
                          <a:pt x="635" y="11"/>
                        </a:lnTo>
                        <a:lnTo>
                          <a:pt x="613" y="22"/>
                        </a:lnTo>
                        <a:lnTo>
                          <a:pt x="591" y="34"/>
                        </a:lnTo>
                        <a:lnTo>
                          <a:pt x="568" y="56"/>
                        </a:lnTo>
                        <a:lnTo>
                          <a:pt x="546" y="67"/>
                        </a:lnTo>
                        <a:lnTo>
                          <a:pt x="535" y="89"/>
                        </a:lnTo>
                        <a:lnTo>
                          <a:pt x="524" y="112"/>
                        </a:lnTo>
                        <a:lnTo>
                          <a:pt x="524" y="134"/>
                        </a:lnTo>
                        <a:lnTo>
                          <a:pt x="513" y="156"/>
                        </a:lnTo>
                        <a:lnTo>
                          <a:pt x="502" y="167"/>
                        </a:lnTo>
                        <a:lnTo>
                          <a:pt x="490" y="178"/>
                        </a:lnTo>
                        <a:lnTo>
                          <a:pt x="479" y="190"/>
                        </a:lnTo>
                        <a:lnTo>
                          <a:pt x="468" y="201"/>
                        </a:lnTo>
                        <a:lnTo>
                          <a:pt x="457" y="212"/>
                        </a:lnTo>
                        <a:lnTo>
                          <a:pt x="457" y="223"/>
                        </a:lnTo>
                        <a:lnTo>
                          <a:pt x="446" y="234"/>
                        </a:lnTo>
                        <a:lnTo>
                          <a:pt x="435" y="245"/>
                        </a:lnTo>
                        <a:lnTo>
                          <a:pt x="424" y="279"/>
                        </a:lnTo>
                        <a:lnTo>
                          <a:pt x="424" y="301"/>
                        </a:lnTo>
                        <a:lnTo>
                          <a:pt x="424" y="335"/>
                        </a:lnTo>
                        <a:lnTo>
                          <a:pt x="412" y="368"/>
                        </a:lnTo>
                        <a:lnTo>
                          <a:pt x="390" y="346"/>
                        </a:lnTo>
                        <a:lnTo>
                          <a:pt x="368" y="346"/>
                        </a:lnTo>
                        <a:lnTo>
                          <a:pt x="334" y="346"/>
                        </a:lnTo>
                        <a:lnTo>
                          <a:pt x="312" y="346"/>
                        </a:lnTo>
                        <a:lnTo>
                          <a:pt x="290" y="357"/>
                        </a:lnTo>
                        <a:lnTo>
                          <a:pt x="268" y="379"/>
                        </a:lnTo>
                        <a:lnTo>
                          <a:pt x="256" y="401"/>
                        </a:lnTo>
                        <a:lnTo>
                          <a:pt x="245" y="424"/>
                        </a:lnTo>
                        <a:lnTo>
                          <a:pt x="223" y="413"/>
                        </a:lnTo>
                        <a:lnTo>
                          <a:pt x="190" y="401"/>
                        </a:lnTo>
                        <a:lnTo>
                          <a:pt x="167" y="401"/>
                        </a:lnTo>
                        <a:lnTo>
                          <a:pt x="145" y="401"/>
                        </a:lnTo>
                        <a:lnTo>
                          <a:pt x="123" y="413"/>
                        </a:lnTo>
                        <a:lnTo>
                          <a:pt x="100" y="424"/>
                        </a:lnTo>
                        <a:lnTo>
                          <a:pt x="89" y="424"/>
                        </a:lnTo>
                        <a:lnTo>
                          <a:pt x="67" y="446"/>
                        </a:lnTo>
                        <a:lnTo>
                          <a:pt x="56" y="457"/>
                        </a:lnTo>
                        <a:lnTo>
                          <a:pt x="45" y="479"/>
                        </a:lnTo>
                        <a:lnTo>
                          <a:pt x="45" y="502"/>
                        </a:lnTo>
                        <a:lnTo>
                          <a:pt x="45" y="513"/>
                        </a:lnTo>
                        <a:lnTo>
                          <a:pt x="45" y="535"/>
                        </a:lnTo>
                        <a:lnTo>
                          <a:pt x="45" y="557"/>
                        </a:lnTo>
                        <a:lnTo>
                          <a:pt x="56" y="580"/>
                        </a:lnTo>
                        <a:lnTo>
                          <a:pt x="67" y="602"/>
                        </a:lnTo>
                        <a:lnTo>
                          <a:pt x="33" y="635"/>
                        </a:lnTo>
                        <a:lnTo>
                          <a:pt x="22" y="658"/>
                        </a:lnTo>
                        <a:lnTo>
                          <a:pt x="11" y="691"/>
                        </a:lnTo>
                        <a:lnTo>
                          <a:pt x="0" y="725"/>
                        </a:lnTo>
                        <a:lnTo>
                          <a:pt x="11" y="747"/>
                        </a:lnTo>
                        <a:lnTo>
                          <a:pt x="22" y="769"/>
                        </a:lnTo>
                        <a:lnTo>
                          <a:pt x="33" y="803"/>
                        </a:lnTo>
                        <a:lnTo>
                          <a:pt x="67" y="814"/>
                        </a:lnTo>
                        <a:lnTo>
                          <a:pt x="67" y="847"/>
                        </a:lnTo>
                        <a:lnTo>
                          <a:pt x="67" y="869"/>
                        </a:lnTo>
                        <a:lnTo>
                          <a:pt x="78" y="881"/>
                        </a:lnTo>
                        <a:lnTo>
                          <a:pt x="89" y="892"/>
                        </a:lnTo>
                        <a:lnTo>
                          <a:pt x="123" y="903"/>
                        </a:lnTo>
                        <a:lnTo>
                          <a:pt x="156" y="903"/>
                        </a:lnTo>
                        <a:lnTo>
                          <a:pt x="178" y="903"/>
                        </a:lnTo>
                        <a:lnTo>
                          <a:pt x="201" y="903"/>
                        </a:lnTo>
                        <a:lnTo>
                          <a:pt x="212" y="903"/>
                        </a:lnTo>
                        <a:lnTo>
                          <a:pt x="223" y="892"/>
                        </a:lnTo>
                        <a:lnTo>
                          <a:pt x="234" y="892"/>
                        </a:lnTo>
                        <a:lnTo>
                          <a:pt x="256" y="892"/>
                        </a:lnTo>
                        <a:lnTo>
                          <a:pt x="245" y="903"/>
                        </a:lnTo>
                        <a:lnTo>
                          <a:pt x="245" y="925"/>
                        </a:lnTo>
                        <a:lnTo>
                          <a:pt x="245" y="936"/>
                        </a:lnTo>
                        <a:lnTo>
                          <a:pt x="245" y="948"/>
                        </a:lnTo>
                        <a:lnTo>
                          <a:pt x="245" y="959"/>
                        </a:lnTo>
                        <a:lnTo>
                          <a:pt x="256" y="970"/>
                        </a:lnTo>
                        <a:lnTo>
                          <a:pt x="279" y="981"/>
                        </a:lnTo>
                        <a:lnTo>
                          <a:pt x="301" y="992"/>
                        </a:lnTo>
                        <a:lnTo>
                          <a:pt x="290" y="1014"/>
                        </a:lnTo>
                        <a:lnTo>
                          <a:pt x="290" y="1048"/>
                        </a:lnTo>
                        <a:lnTo>
                          <a:pt x="290" y="1070"/>
                        </a:lnTo>
                        <a:lnTo>
                          <a:pt x="301" y="1104"/>
                        </a:lnTo>
                        <a:lnTo>
                          <a:pt x="323" y="1115"/>
                        </a:lnTo>
                        <a:lnTo>
                          <a:pt x="357" y="1115"/>
                        </a:lnTo>
                        <a:lnTo>
                          <a:pt x="379" y="1104"/>
                        </a:lnTo>
                        <a:lnTo>
                          <a:pt x="401" y="1092"/>
                        </a:lnTo>
                        <a:lnTo>
                          <a:pt x="412" y="1059"/>
                        </a:lnTo>
                        <a:lnTo>
                          <a:pt x="424" y="1037"/>
                        </a:lnTo>
                        <a:lnTo>
                          <a:pt x="435" y="1003"/>
                        </a:lnTo>
                        <a:lnTo>
                          <a:pt x="424" y="981"/>
                        </a:lnTo>
                        <a:lnTo>
                          <a:pt x="457" y="970"/>
                        </a:lnTo>
                        <a:lnTo>
                          <a:pt x="490" y="948"/>
                        </a:lnTo>
                        <a:lnTo>
                          <a:pt x="502" y="925"/>
                        </a:lnTo>
                        <a:lnTo>
                          <a:pt x="513" y="892"/>
                        </a:lnTo>
                        <a:lnTo>
                          <a:pt x="524" y="858"/>
                        </a:lnTo>
                        <a:lnTo>
                          <a:pt x="524" y="825"/>
                        </a:lnTo>
                        <a:lnTo>
                          <a:pt x="524" y="791"/>
                        </a:lnTo>
                        <a:lnTo>
                          <a:pt x="513" y="758"/>
                        </a:lnTo>
                        <a:lnTo>
                          <a:pt x="535" y="758"/>
                        </a:lnTo>
                        <a:lnTo>
                          <a:pt x="546" y="747"/>
                        </a:lnTo>
                        <a:lnTo>
                          <a:pt x="568" y="736"/>
                        </a:lnTo>
                        <a:lnTo>
                          <a:pt x="580" y="736"/>
                        </a:lnTo>
                        <a:lnTo>
                          <a:pt x="591" y="725"/>
                        </a:lnTo>
                        <a:lnTo>
                          <a:pt x="613" y="725"/>
                        </a:lnTo>
                        <a:lnTo>
                          <a:pt x="624" y="713"/>
                        </a:lnTo>
                        <a:lnTo>
                          <a:pt x="635" y="702"/>
                        </a:lnTo>
                        <a:lnTo>
                          <a:pt x="658" y="691"/>
                        </a:lnTo>
                        <a:lnTo>
                          <a:pt x="669" y="680"/>
                        </a:lnTo>
                        <a:lnTo>
                          <a:pt x="680" y="669"/>
                        </a:lnTo>
                        <a:lnTo>
                          <a:pt x="691" y="658"/>
                        </a:lnTo>
                        <a:lnTo>
                          <a:pt x="702" y="647"/>
                        </a:lnTo>
                        <a:lnTo>
                          <a:pt x="713" y="635"/>
                        </a:lnTo>
                        <a:lnTo>
                          <a:pt x="724" y="624"/>
                        </a:lnTo>
                        <a:lnTo>
                          <a:pt x="736" y="602"/>
                        </a:lnTo>
                        <a:lnTo>
                          <a:pt x="758" y="635"/>
                        </a:lnTo>
                        <a:lnTo>
                          <a:pt x="780" y="647"/>
                        </a:lnTo>
                        <a:lnTo>
                          <a:pt x="814" y="647"/>
                        </a:lnTo>
                        <a:lnTo>
                          <a:pt x="836" y="647"/>
                        </a:lnTo>
                        <a:lnTo>
                          <a:pt x="869" y="635"/>
                        </a:lnTo>
                        <a:lnTo>
                          <a:pt x="892" y="613"/>
                        </a:lnTo>
                        <a:lnTo>
                          <a:pt x="914" y="591"/>
                        </a:lnTo>
                        <a:lnTo>
                          <a:pt x="925" y="569"/>
                        </a:lnTo>
                        <a:lnTo>
                          <a:pt x="947" y="602"/>
                        </a:lnTo>
                        <a:lnTo>
                          <a:pt x="970" y="624"/>
                        </a:lnTo>
                        <a:lnTo>
                          <a:pt x="992" y="647"/>
                        </a:lnTo>
                        <a:lnTo>
                          <a:pt x="1014" y="658"/>
                        </a:lnTo>
                        <a:lnTo>
                          <a:pt x="1037" y="669"/>
                        </a:lnTo>
                        <a:lnTo>
                          <a:pt x="1059" y="680"/>
                        </a:lnTo>
                        <a:lnTo>
                          <a:pt x="1092" y="669"/>
                        </a:lnTo>
                        <a:lnTo>
                          <a:pt x="1126" y="669"/>
                        </a:lnTo>
                        <a:lnTo>
                          <a:pt x="1126" y="680"/>
                        </a:lnTo>
                        <a:lnTo>
                          <a:pt x="1126" y="702"/>
                        </a:lnTo>
                        <a:lnTo>
                          <a:pt x="1126" y="725"/>
                        </a:lnTo>
                        <a:lnTo>
                          <a:pt x="1137" y="747"/>
                        </a:lnTo>
                        <a:lnTo>
                          <a:pt x="1148" y="769"/>
                        </a:lnTo>
                        <a:lnTo>
                          <a:pt x="1159" y="791"/>
                        </a:lnTo>
                        <a:lnTo>
                          <a:pt x="1181" y="814"/>
                        </a:lnTo>
                        <a:lnTo>
                          <a:pt x="1204" y="836"/>
                        </a:lnTo>
                        <a:lnTo>
                          <a:pt x="1215" y="836"/>
                        </a:lnTo>
                        <a:lnTo>
                          <a:pt x="1226" y="836"/>
                        </a:lnTo>
                        <a:lnTo>
                          <a:pt x="1237" y="836"/>
                        </a:lnTo>
                        <a:lnTo>
                          <a:pt x="1259" y="825"/>
                        </a:lnTo>
                        <a:lnTo>
                          <a:pt x="1271" y="825"/>
                        </a:lnTo>
                        <a:lnTo>
                          <a:pt x="1282" y="825"/>
                        </a:lnTo>
                        <a:lnTo>
                          <a:pt x="1282" y="847"/>
                        </a:lnTo>
                        <a:lnTo>
                          <a:pt x="1282" y="881"/>
                        </a:lnTo>
                        <a:lnTo>
                          <a:pt x="1282" y="903"/>
                        </a:lnTo>
                        <a:lnTo>
                          <a:pt x="1282" y="925"/>
                        </a:lnTo>
                        <a:lnTo>
                          <a:pt x="1293" y="936"/>
                        </a:lnTo>
                        <a:lnTo>
                          <a:pt x="1304" y="959"/>
                        </a:lnTo>
                        <a:lnTo>
                          <a:pt x="1315" y="970"/>
                        </a:lnTo>
                        <a:lnTo>
                          <a:pt x="1326" y="970"/>
                        </a:lnTo>
                        <a:lnTo>
                          <a:pt x="1326" y="981"/>
                        </a:lnTo>
                        <a:lnTo>
                          <a:pt x="1337" y="992"/>
                        </a:lnTo>
                        <a:lnTo>
                          <a:pt x="1349" y="992"/>
                        </a:lnTo>
                        <a:lnTo>
                          <a:pt x="1360" y="1003"/>
                        </a:lnTo>
                        <a:lnTo>
                          <a:pt x="1360" y="1037"/>
                        </a:lnTo>
                        <a:lnTo>
                          <a:pt x="1360" y="1070"/>
                        </a:lnTo>
                        <a:lnTo>
                          <a:pt x="1360" y="1104"/>
                        </a:lnTo>
                        <a:lnTo>
                          <a:pt x="1382" y="1126"/>
                        </a:lnTo>
                        <a:lnTo>
                          <a:pt x="1404" y="1126"/>
                        </a:lnTo>
                        <a:lnTo>
                          <a:pt x="1427" y="1126"/>
                        </a:lnTo>
                        <a:lnTo>
                          <a:pt x="1438" y="1126"/>
                        </a:lnTo>
                        <a:lnTo>
                          <a:pt x="1460" y="1115"/>
                        </a:lnTo>
                        <a:lnTo>
                          <a:pt x="1471" y="1092"/>
                        </a:lnTo>
                        <a:lnTo>
                          <a:pt x="1471" y="1070"/>
                        </a:lnTo>
                        <a:lnTo>
                          <a:pt x="1482" y="1048"/>
                        </a:lnTo>
                        <a:lnTo>
                          <a:pt x="1482" y="1014"/>
                        </a:lnTo>
                        <a:lnTo>
                          <a:pt x="1494" y="1003"/>
                        </a:lnTo>
                        <a:lnTo>
                          <a:pt x="1505" y="992"/>
                        </a:lnTo>
                        <a:lnTo>
                          <a:pt x="1505" y="981"/>
                        </a:lnTo>
                        <a:lnTo>
                          <a:pt x="1516" y="970"/>
                        </a:lnTo>
                        <a:lnTo>
                          <a:pt x="1516" y="959"/>
                        </a:lnTo>
                        <a:lnTo>
                          <a:pt x="1527" y="948"/>
                        </a:lnTo>
                        <a:lnTo>
                          <a:pt x="1527" y="936"/>
                        </a:lnTo>
                        <a:lnTo>
                          <a:pt x="1527" y="914"/>
                        </a:lnTo>
                        <a:lnTo>
                          <a:pt x="1527" y="925"/>
                        </a:lnTo>
                        <a:lnTo>
                          <a:pt x="1538" y="936"/>
                        </a:lnTo>
                        <a:lnTo>
                          <a:pt x="1549" y="936"/>
                        </a:lnTo>
                        <a:lnTo>
                          <a:pt x="1560" y="948"/>
                        </a:lnTo>
                        <a:lnTo>
                          <a:pt x="1572" y="959"/>
                        </a:lnTo>
                        <a:lnTo>
                          <a:pt x="1583" y="970"/>
                        </a:lnTo>
                        <a:lnTo>
                          <a:pt x="1594" y="970"/>
                        </a:lnTo>
                        <a:lnTo>
                          <a:pt x="1605" y="970"/>
                        </a:lnTo>
                        <a:lnTo>
                          <a:pt x="1650" y="970"/>
                        </a:lnTo>
                        <a:lnTo>
                          <a:pt x="1694" y="959"/>
                        </a:lnTo>
                        <a:lnTo>
                          <a:pt x="1716" y="936"/>
                        </a:lnTo>
                        <a:lnTo>
                          <a:pt x="1739" y="903"/>
                        </a:lnTo>
                        <a:lnTo>
                          <a:pt x="1750" y="869"/>
                        </a:lnTo>
                        <a:lnTo>
                          <a:pt x="1750" y="825"/>
                        </a:lnTo>
                        <a:lnTo>
                          <a:pt x="1750" y="791"/>
                        </a:lnTo>
                        <a:lnTo>
                          <a:pt x="1728" y="769"/>
                        </a:lnTo>
                        <a:lnTo>
                          <a:pt x="1728" y="758"/>
                        </a:lnTo>
                        <a:lnTo>
                          <a:pt x="1716" y="758"/>
                        </a:lnTo>
                        <a:lnTo>
                          <a:pt x="1705" y="747"/>
                        </a:lnTo>
                        <a:lnTo>
                          <a:pt x="1694" y="736"/>
                        </a:lnTo>
                        <a:lnTo>
                          <a:pt x="1683" y="736"/>
                        </a:lnTo>
                        <a:lnTo>
                          <a:pt x="1672" y="725"/>
                        </a:lnTo>
                        <a:lnTo>
                          <a:pt x="1683" y="702"/>
                        </a:lnTo>
                        <a:lnTo>
                          <a:pt x="1694" y="680"/>
                        </a:lnTo>
                        <a:lnTo>
                          <a:pt x="1694" y="658"/>
                        </a:lnTo>
                        <a:lnTo>
                          <a:pt x="1694" y="635"/>
                        </a:lnTo>
                        <a:lnTo>
                          <a:pt x="1694" y="624"/>
                        </a:lnTo>
                        <a:lnTo>
                          <a:pt x="1683" y="602"/>
                        </a:lnTo>
                        <a:lnTo>
                          <a:pt x="1661" y="591"/>
                        </a:lnTo>
                        <a:lnTo>
                          <a:pt x="1638" y="569"/>
                        </a:lnTo>
                        <a:lnTo>
                          <a:pt x="1661" y="546"/>
                        </a:lnTo>
                        <a:lnTo>
                          <a:pt x="1672" y="524"/>
                        </a:lnTo>
                        <a:lnTo>
                          <a:pt x="1683" y="502"/>
                        </a:lnTo>
                        <a:lnTo>
                          <a:pt x="1683" y="479"/>
                        </a:lnTo>
                        <a:lnTo>
                          <a:pt x="1683" y="457"/>
                        </a:lnTo>
                        <a:lnTo>
                          <a:pt x="1672" y="435"/>
                        </a:lnTo>
                        <a:lnTo>
                          <a:pt x="1661" y="413"/>
                        </a:lnTo>
                        <a:lnTo>
                          <a:pt x="1650" y="390"/>
                        </a:lnTo>
                        <a:lnTo>
                          <a:pt x="1627" y="368"/>
                        </a:lnTo>
                        <a:lnTo>
                          <a:pt x="1605" y="357"/>
                        </a:lnTo>
                        <a:lnTo>
                          <a:pt x="1583" y="346"/>
                        </a:lnTo>
                        <a:lnTo>
                          <a:pt x="1560" y="335"/>
                        </a:lnTo>
                        <a:lnTo>
                          <a:pt x="1527" y="335"/>
                        </a:lnTo>
                        <a:lnTo>
                          <a:pt x="1505" y="335"/>
                        </a:lnTo>
                        <a:lnTo>
                          <a:pt x="1482" y="335"/>
                        </a:lnTo>
                        <a:lnTo>
                          <a:pt x="1460" y="346"/>
                        </a:lnTo>
                        <a:lnTo>
                          <a:pt x="1471" y="301"/>
                        </a:lnTo>
                        <a:lnTo>
                          <a:pt x="1471" y="268"/>
                        </a:lnTo>
                        <a:lnTo>
                          <a:pt x="1471" y="223"/>
                        </a:lnTo>
                        <a:lnTo>
                          <a:pt x="1471" y="201"/>
                        </a:lnTo>
                        <a:lnTo>
                          <a:pt x="1460" y="167"/>
                        </a:lnTo>
                        <a:lnTo>
                          <a:pt x="1438" y="145"/>
                        </a:lnTo>
                        <a:lnTo>
                          <a:pt x="1415" y="134"/>
                        </a:lnTo>
                        <a:lnTo>
                          <a:pt x="1382" y="134"/>
                        </a:lnTo>
                        <a:lnTo>
                          <a:pt x="1371" y="134"/>
                        </a:lnTo>
                        <a:lnTo>
                          <a:pt x="1360" y="112"/>
                        </a:lnTo>
                        <a:lnTo>
                          <a:pt x="1349" y="89"/>
                        </a:lnTo>
                        <a:lnTo>
                          <a:pt x="1326" y="78"/>
                        </a:lnTo>
                        <a:lnTo>
                          <a:pt x="1315" y="56"/>
                        </a:lnTo>
                        <a:lnTo>
                          <a:pt x="1293" y="45"/>
                        </a:lnTo>
                        <a:lnTo>
                          <a:pt x="1271" y="22"/>
                        </a:lnTo>
                        <a:lnTo>
                          <a:pt x="1248" y="22"/>
                        </a:lnTo>
                        <a:lnTo>
                          <a:pt x="1226" y="11"/>
                        </a:lnTo>
                        <a:lnTo>
                          <a:pt x="1204" y="0"/>
                        </a:lnTo>
                        <a:lnTo>
                          <a:pt x="1181" y="0"/>
                        </a:lnTo>
                        <a:lnTo>
                          <a:pt x="1159" y="0"/>
                        </a:lnTo>
                        <a:lnTo>
                          <a:pt x="1137" y="0"/>
                        </a:lnTo>
                        <a:lnTo>
                          <a:pt x="1103" y="0"/>
                        </a:lnTo>
                        <a:lnTo>
                          <a:pt x="1081" y="0"/>
                        </a:lnTo>
                        <a:lnTo>
                          <a:pt x="1059" y="11"/>
                        </a:lnTo>
                        <a:lnTo>
                          <a:pt x="1037" y="22"/>
                        </a:lnTo>
                        <a:lnTo>
                          <a:pt x="1025" y="34"/>
                        </a:lnTo>
                        <a:lnTo>
                          <a:pt x="1003" y="45"/>
                        </a:lnTo>
                        <a:lnTo>
                          <a:pt x="992" y="67"/>
                        </a:lnTo>
                        <a:lnTo>
                          <a:pt x="970" y="89"/>
                        </a:lnTo>
                        <a:lnTo>
                          <a:pt x="959" y="112"/>
                        </a:lnTo>
                        <a:lnTo>
                          <a:pt x="947" y="134"/>
                        </a:lnTo>
                        <a:lnTo>
                          <a:pt x="925" y="156"/>
                        </a:lnTo>
                        <a:lnTo>
                          <a:pt x="914" y="190"/>
                        </a:lnTo>
                        <a:close/>
                      </a:path>
                    </a:pathLst>
                  </a:custGeom>
                  <a:solidFill>
                    <a:srgbClr val="a6591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Freeform 1207"/>
                  <p:cNvSpPr/>
                  <p:nvPr/>
                </p:nvSpPr>
                <p:spPr>
                  <a:xfrm rot="111600">
                    <a:off x="2968920" y="751320"/>
                    <a:ext cx="18360" cy="20520"/>
                  </a:xfrm>
                  <a:custGeom>
                    <a:avLst/>
                    <a:gdLst>
                      <a:gd name="textAreaLeft" fmla="*/ 0 w 18360"/>
                      <a:gd name="textAreaRight" fmla="*/ 18720 w 18360"/>
                      <a:gd name="textAreaTop" fmla="*/ 0 h 20520"/>
                      <a:gd name="textAreaBottom" fmla="*/ 20880 h 20520"/>
                    </a:gdLst>
                    <a:ahLst/>
                    <a:rect l="textAreaLeft" t="textAreaTop" r="textAreaRight" b="textAreaBottom"/>
                    <a:pathLst>
                      <a:path w="190" h="156">
                        <a:moveTo>
                          <a:pt x="0" y="22"/>
                        </a:moveTo>
                        <a:lnTo>
                          <a:pt x="12" y="22"/>
                        </a:lnTo>
                        <a:lnTo>
                          <a:pt x="56" y="11"/>
                        </a:lnTo>
                        <a:lnTo>
                          <a:pt x="90" y="22"/>
                        </a:lnTo>
                        <a:lnTo>
                          <a:pt x="112" y="33"/>
                        </a:lnTo>
                        <a:lnTo>
                          <a:pt x="134" y="66"/>
                        </a:lnTo>
                        <a:lnTo>
                          <a:pt x="157" y="89"/>
                        </a:lnTo>
                        <a:lnTo>
                          <a:pt x="168" y="122"/>
                        </a:lnTo>
                        <a:lnTo>
                          <a:pt x="179" y="144"/>
                        </a:lnTo>
                        <a:lnTo>
                          <a:pt x="179" y="156"/>
                        </a:lnTo>
                        <a:lnTo>
                          <a:pt x="190" y="156"/>
                        </a:lnTo>
                        <a:lnTo>
                          <a:pt x="190" y="144"/>
                        </a:lnTo>
                        <a:lnTo>
                          <a:pt x="179" y="122"/>
                        </a:lnTo>
                        <a:lnTo>
                          <a:pt x="168" y="89"/>
                        </a:lnTo>
                        <a:lnTo>
                          <a:pt x="145" y="55"/>
                        </a:lnTo>
                        <a:lnTo>
                          <a:pt x="123" y="22"/>
                        </a:lnTo>
                        <a:lnTo>
                          <a:pt x="90" y="11"/>
                        </a:lnTo>
                        <a:lnTo>
                          <a:pt x="56" y="0"/>
                        </a:lnTo>
                        <a:lnTo>
                          <a:pt x="12" y="11"/>
                        </a:lnTo>
                        <a:lnTo>
                          <a:pt x="0" y="22"/>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Freeform 1206"/>
                  <p:cNvSpPr/>
                  <p:nvPr/>
                </p:nvSpPr>
                <p:spPr>
                  <a:xfrm rot="111600">
                    <a:off x="2960280" y="747000"/>
                    <a:ext cx="9720" cy="7200"/>
                  </a:xfrm>
                  <a:custGeom>
                    <a:avLst/>
                    <a:gdLst>
                      <a:gd name="textAreaLeft" fmla="*/ 0 w 9720"/>
                      <a:gd name="textAreaRight" fmla="*/ 10080 w 9720"/>
                      <a:gd name="textAreaTop" fmla="*/ 0 h 7200"/>
                      <a:gd name="textAreaBottom" fmla="*/ 7560 h 7200"/>
                    </a:gdLst>
                    <a:ahLst/>
                    <a:rect l="textAreaLeft" t="textAreaTop" r="textAreaRight" b="textAreaBottom"/>
                    <a:pathLst>
                      <a:path w="101" h="56">
                        <a:moveTo>
                          <a:pt x="0" y="22"/>
                        </a:moveTo>
                        <a:lnTo>
                          <a:pt x="0" y="22"/>
                        </a:lnTo>
                        <a:lnTo>
                          <a:pt x="11" y="22"/>
                        </a:lnTo>
                        <a:lnTo>
                          <a:pt x="23" y="22"/>
                        </a:lnTo>
                        <a:lnTo>
                          <a:pt x="45" y="22"/>
                        </a:lnTo>
                        <a:lnTo>
                          <a:pt x="56" y="22"/>
                        </a:lnTo>
                        <a:lnTo>
                          <a:pt x="56" y="34"/>
                        </a:lnTo>
                        <a:lnTo>
                          <a:pt x="67" y="34"/>
                        </a:lnTo>
                        <a:lnTo>
                          <a:pt x="78" y="45"/>
                        </a:lnTo>
                        <a:lnTo>
                          <a:pt x="89" y="56"/>
                        </a:lnTo>
                        <a:lnTo>
                          <a:pt x="101" y="45"/>
                        </a:lnTo>
                        <a:lnTo>
                          <a:pt x="89" y="34"/>
                        </a:lnTo>
                        <a:lnTo>
                          <a:pt x="78" y="22"/>
                        </a:lnTo>
                        <a:lnTo>
                          <a:pt x="67" y="22"/>
                        </a:lnTo>
                        <a:lnTo>
                          <a:pt x="56" y="11"/>
                        </a:lnTo>
                        <a:lnTo>
                          <a:pt x="45" y="11"/>
                        </a:lnTo>
                        <a:lnTo>
                          <a:pt x="23" y="0"/>
                        </a:lnTo>
                        <a:lnTo>
                          <a:pt x="11" y="0"/>
                        </a:lnTo>
                        <a:lnTo>
                          <a:pt x="0" y="11"/>
                        </a:lnTo>
                        <a:lnTo>
                          <a:pt x="0" y="22"/>
                        </a:lnTo>
                        <a:close/>
                      </a:path>
                    </a:pathLst>
                  </a:custGeom>
                  <a:solidFill>
                    <a:srgbClr val="000000"/>
                  </a:solidFill>
                  <a:ln w="0">
                    <a:noFill/>
                  </a:ln>
                </p:spPr>
                <p:style>
                  <a:lnRef idx="0"/>
                  <a:fillRef idx="0"/>
                  <a:effectRef idx="0"/>
                  <a:fontRef idx="minor"/>
                </p:style>
                <p:txBody>
                  <a:bodyPr lIns="90000" rIns="90000" tIns="-39240" bIns="-39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Freeform 1205"/>
                  <p:cNvSpPr/>
                  <p:nvPr/>
                </p:nvSpPr>
                <p:spPr>
                  <a:xfrm rot="111600">
                    <a:off x="2947320" y="7477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133" h="145">
                        <a:moveTo>
                          <a:pt x="11" y="145"/>
                        </a:moveTo>
                        <a:lnTo>
                          <a:pt x="11" y="145"/>
                        </a:lnTo>
                        <a:lnTo>
                          <a:pt x="22" y="123"/>
                        </a:lnTo>
                        <a:lnTo>
                          <a:pt x="33" y="101"/>
                        </a:lnTo>
                        <a:lnTo>
                          <a:pt x="44" y="78"/>
                        </a:lnTo>
                        <a:lnTo>
                          <a:pt x="55" y="67"/>
                        </a:lnTo>
                        <a:lnTo>
                          <a:pt x="66" y="45"/>
                        </a:lnTo>
                        <a:lnTo>
                          <a:pt x="89" y="34"/>
                        </a:lnTo>
                        <a:lnTo>
                          <a:pt x="111" y="23"/>
                        </a:lnTo>
                        <a:lnTo>
                          <a:pt x="133" y="11"/>
                        </a:lnTo>
                        <a:lnTo>
                          <a:pt x="133" y="0"/>
                        </a:lnTo>
                        <a:lnTo>
                          <a:pt x="100" y="11"/>
                        </a:lnTo>
                        <a:lnTo>
                          <a:pt x="78" y="23"/>
                        </a:lnTo>
                        <a:lnTo>
                          <a:pt x="55" y="34"/>
                        </a:lnTo>
                        <a:lnTo>
                          <a:pt x="44" y="56"/>
                        </a:lnTo>
                        <a:lnTo>
                          <a:pt x="33" y="78"/>
                        </a:lnTo>
                        <a:lnTo>
                          <a:pt x="22" y="101"/>
                        </a:lnTo>
                        <a:lnTo>
                          <a:pt x="11" y="123"/>
                        </a:lnTo>
                        <a:lnTo>
                          <a:pt x="0" y="145"/>
                        </a:lnTo>
                        <a:lnTo>
                          <a:pt x="11" y="145"/>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Freeform 1204"/>
                  <p:cNvSpPr/>
                  <p:nvPr/>
                </p:nvSpPr>
                <p:spPr>
                  <a:xfrm rot="111600">
                    <a:off x="2939760" y="766800"/>
                    <a:ext cx="7560" cy="11520"/>
                  </a:xfrm>
                  <a:custGeom>
                    <a:avLst/>
                    <a:gdLst>
                      <a:gd name="textAreaLeft" fmla="*/ 0 w 7560"/>
                      <a:gd name="textAreaRight" fmla="*/ 7920 w 7560"/>
                      <a:gd name="textAreaTop" fmla="*/ 0 h 11520"/>
                      <a:gd name="textAreaBottom" fmla="*/ 11880 h 11520"/>
                    </a:gdLst>
                    <a:ahLst/>
                    <a:rect l="textAreaLeft" t="textAreaTop" r="textAreaRight" b="textAreaBottom"/>
                    <a:pathLst>
                      <a:path w="78" h="89">
                        <a:moveTo>
                          <a:pt x="11" y="89"/>
                        </a:moveTo>
                        <a:lnTo>
                          <a:pt x="11" y="89"/>
                        </a:lnTo>
                        <a:lnTo>
                          <a:pt x="11" y="78"/>
                        </a:lnTo>
                        <a:lnTo>
                          <a:pt x="22" y="67"/>
                        </a:lnTo>
                        <a:lnTo>
                          <a:pt x="33" y="56"/>
                        </a:lnTo>
                        <a:lnTo>
                          <a:pt x="44" y="45"/>
                        </a:lnTo>
                        <a:lnTo>
                          <a:pt x="55" y="45"/>
                        </a:lnTo>
                        <a:lnTo>
                          <a:pt x="55" y="34"/>
                        </a:lnTo>
                        <a:lnTo>
                          <a:pt x="67" y="11"/>
                        </a:lnTo>
                        <a:lnTo>
                          <a:pt x="78" y="0"/>
                        </a:lnTo>
                        <a:lnTo>
                          <a:pt x="67" y="0"/>
                        </a:lnTo>
                        <a:lnTo>
                          <a:pt x="55" y="11"/>
                        </a:lnTo>
                        <a:lnTo>
                          <a:pt x="55" y="22"/>
                        </a:lnTo>
                        <a:lnTo>
                          <a:pt x="44" y="34"/>
                        </a:lnTo>
                        <a:lnTo>
                          <a:pt x="33" y="45"/>
                        </a:lnTo>
                        <a:lnTo>
                          <a:pt x="22" y="56"/>
                        </a:lnTo>
                        <a:lnTo>
                          <a:pt x="11" y="67"/>
                        </a:lnTo>
                        <a:lnTo>
                          <a:pt x="0" y="78"/>
                        </a:lnTo>
                        <a:lnTo>
                          <a:pt x="0" y="89"/>
                        </a:lnTo>
                        <a:lnTo>
                          <a:pt x="11"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1203"/>
                  <p:cNvSpPr/>
                  <p:nvPr/>
                </p:nvSpPr>
                <p:spPr>
                  <a:xfrm rot="111600">
                    <a:off x="2937240" y="778680"/>
                    <a:ext cx="3240" cy="16200"/>
                  </a:xfrm>
                  <a:custGeom>
                    <a:avLst/>
                    <a:gdLst>
                      <a:gd name="textAreaLeft" fmla="*/ 0 w 3240"/>
                      <a:gd name="textAreaRight" fmla="*/ 3600 w 3240"/>
                      <a:gd name="textAreaTop" fmla="*/ 0 h 16200"/>
                      <a:gd name="textAreaBottom" fmla="*/ 16560 h 16200"/>
                    </a:gdLst>
                    <a:ahLst/>
                    <a:rect l="textAreaLeft" t="textAreaTop" r="textAreaRight" b="textAreaBottom"/>
                    <a:pathLst>
                      <a:path w="34" h="123">
                        <a:moveTo>
                          <a:pt x="0" y="123"/>
                        </a:moveTo>
                        <a:lnTo>
                          <a:pt x="12" y="123"/>
                        </a:lnTo>
                        <a:lnTo>
                          <a:pt x="12" y="90"/>
                        </a:lnTo>
                        <a:lnTo>
                          <a:pt x="12" y="56"/>
                        </a:lnTo>
                        <a:lnTo>
                          <a:pt x="23" y="34"/>
                        </a:lnTo>
                        <a:lnTo>
                          <a:pt x="34" y="0"/>
                        </a:lnTo>
                        <a:lnTo>
                          <a:pt x="23" y="0"/>
                        </a:lnTo>
                        <a:lnTo>
                          <a:pt x="12" y="34"/>
                        </a:lnTo>
                        <a:lnTo>
                          <a:pt x="0" y="56"/>
                        </a:lnTo>
                        <a:lnTo>
                          <a:pt x="0" y="90"/>
                        </a:lnTo>
                        <a:lnTo>
                          <a:pt x="0" y="123"/>
                        </a:lnTo>
                        <a:lnTo>
                          <a:pt x="12" y="112"/>
                        </a:lnTo>
                        <a:lnTo>
                          <a:pt x="0" y="123"/>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Freeform 1202"/>
                  <p:cNvSpPr/>
                  <p:nvPr/>
                </p:nvSpPr>
                <p:spPr>
                  <a:xfrm rot="111600">
                    <a:off x="2920680" y="789840"/>
                    <a:ext cx="17280" cy="11520"/>
                  </a:xfrm>
                  <a:custGeom>
                    <a:avLst/>
                    <a:gdLst>
                      <a:gd name="textAreaLeft" fmla="*/ 0 w 17280"/>
                      <a:gd name="textAreaRight" fmla="*/ 17640 w 17280"/>
                      <a:gd name="textAreaTop" fmla="*/ 0 h 11520"/>
                      <a:gd name="textAreaBottom" fmla="*/ 11880 h 11520"/>
                    </a:gdLst>
                    <a:ahLst/>
                    <a:rect l="textAreaLeft" t="textAreaTop" r="textAreaRight" b="textAreaBottom"/>
                    <a:pathLst>
                      <a:path w="179" h="89">
                        <a:moveTo>
                          <a:pt x="0" y="89"/>
                        </a:moveTo>
                        <a:lnTo>
                          <a:pt x="11" y="89"/>
                        </a:lnTo>
                        <a:lnTo>
                          <a:pt x="11" y="66"/>
                        </a:lnTo>
                        <a:lnTo>
                          <a:pt x="34" y="44"/>
                        </a:lnTo>
                        <a:lnTo>
                          <a:pt x="45" y="33"/>
                        </a:lnTo>
                        <a:lnTo>
                          <a:pt x="67" y="22"/>
                        </a:lnTo>
                        <a:lnTo>
                          <a:pt x="89" y="11"/>
                        </a:lnTo>
                        <a:lnTo>
                          <a:pt x="123" y="11"/>
                        </a:lnTo>
                        <a:lnTo>
                          <a:pt x="145" y="22"/>
                        </a:lnTo>
                        <a:lnTo>
                          <a:pt x="167" y="33"/>
                        </a:lnTo>
                        <a:lnTo>
                          <a:pt x="179" y="22"/>
                        </a:lnTo>
                        <a:lnTo>
                          <a:pt x="145" y="11"/>
                        </a:lnTo>
                        <a:lnTo>
                          <a:pt x="123" y="0"/>
                        </a:lnTo>
                        <a:lnTo>
                          <a:pt x="89" y="0"/>
                        </a:lnTo>
                        <a:lnTo>
                          <a:pt x="67" y="11"/>
                        </a:lnTo>
                        <a:lnTo>
                          <a:pt x="34" y="22"/>
                        </a:lnTo>
                        <a:lnTo>
                          <a:pt x="23" y="44"/>
                        </a:lnTo>
                        <a:lnTo>
                          <a:pt x="0" y="55"/>
                        </a:lnTo>
                        <a:lnTo>
                          <a:pt x="0" y="89"/>
                        </a:lnTo>
                        <a:lnTo>
                          <a:pt x="11" y="78"/>
                        </a:lnTo>
                        <a:lnTo>
                          <a:pt x="0"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Freeform 1201"/>
                  <p:cNvSpPr/>
                  <p:nvPr/>
                </p:nvSpPr>
                <p:spPr>
                  <a:xfrm rot="111600">
                    <a:off x="2899080" y="796680"/>
                    <a:ext cx="21600" cy="29520"/>
                  </a:xfrm>
                  <a:custGeom>
                    <a:avLst/>
                    <a:gdLst>
                      <a:gd name="textAreaLeft" fmla="*/ 0 w 21600"/>
                      <a:gd name="textAreaRight" fmla="*/ 21960 w 21600"/>
                      <a:gd name="textAreaTop" fmla="*/ 0 h 29520"/>
                      <a:gd name="textAreaBottom" fmla="*/ 29880 h 29520"/>
                    </a:gdLst>
                    <a:ahLst/>
                    <a:rect l="textAreaLeft" t="textAreaTop" r="textAreaRight" b="textAreaBottom"/>
                    <a:pathLst>
                      <a:path w="223" h="223">
                        <a:moveTo>
                          <a:pt x="34" y="223"/>
                        </a:moveTo>
                        <a:lnTo>
                          <a:pt x="34" y="212"/>
                        </a:lnTo>
                        <a:lnTo>
                          <a:pt x="23" y="190"/>
                        </a:lnTo>
                        <a:lnTo>
                          <a:pt x="23" y="167"/>
                        </a:lnTo>
                        <a:lnTo>
                          <a:pt x="12" y="145"/>
                        </a:lnTo>
                        <a:lnTo>
                          <a:pt x="12" y="123"/>
                        </a:lnTo>
                        <a:lnTo>
                          <a:pt x="23" y="112"/>
                        </a:lnTo>
                        <a:lnTo>
                          <a:pt x="23" y="89"/>
                        </a:lnTo>
                        <a:lnTo>
                          <a:pt x="34" y="78"/>
                        </a:lnTo>
                        <a:lnTo>
                          <a:pt x="45" y="56"/>
                        </a:lnTo>
                        <a:lnTo>
                          <a:pt x="56" y="45"/>
                        </a:lnTo>
                        <a:lnTo>
                          <a:pt x="67" y="34"/>
                        </a:lnTo>
                        <a:lnTo>
                          <a:pt x="90" y="23"/>
                        </a:lnTo>
                        <a:lnTo>
                          <a:pt x="112" y="23"/>
                        </a:lnTo>
                        <a:lnTo>
                          <a:pt x="134" y="23"/>
                        </a:lnTo>
                        <a:lnTo>
                          <a:pt x="157" y="23"/>
                        </a:lnTo>
                        <a:lnTo>
                          <a:pt x="190" y="23"/>
                        </a:lnTo>
                        <a:lnTo>
                          <a:pt x="212" y="34"/>
                        </a:lnTo>
                        <a:lnTo>
                          <a:pt x="223" y="23"/>
                        </a:lnTo>
                        <a:lnTo>
                          <a:pt x="190" y="11"/>
                        </a:lnTo>
                        <a:lnTo>
                          <a:pt x="157" y="11"/>
                        </a:lnTo>
                        <a:lnTo>
                          <a:pt x="134" y="0"/>
                        </a:lnTo>
                        <a:lnTo>
                          <a:pt x="112" y="11"/>
                        </a:lnTo>
                        <a:lnTo>
                          <a:pt x="90" y="11"/>
                        </a:lnTo>
                        <a:lnTo>
                          <a:pt x="67" y="23"/>
                        </a:lnTo>
                        <a:lnTo>
                          <a:pt x="45" y="34"/>
                        </a:lnTo>
                        <a:lnTo>
                          <a:pt x="34" y="45"/>
                        </a:lnTo>
                        <a:lnTo>
                          <a:pt x="23" y="67"/>
                        </a:lnTo>
                        <a:lnTo>
                          <a:pt x="12" y="89"/>
                        </a:lnTo>
                        <a:lnTo>
                          <a:pt x="0" y="101"/>
                        </a:lnTo>
                        <a:lnTo>
                          <a:pt x="0" y="123"/>
                        </a:lnTo>
                        <a:lnTo>
                          <a:pt x="0" y="145"/>
                        </a:lnTo>
                        <a:lnTo>
                          <a:pt x="0" y="167"/>
                        </a:lnTo>
                        <a:lnTo>
                          <a:pt x="12" y="190"/>
                        </a:lnTo>
                        <a:lnTo>
                          <a:pt x="23" y="212"/>
                        </a:lnTo>
                        <a:lnTo>
                          <a:pt x="34" y="223"/>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Freeform 1200"/>
                  <p:cNvSpPr/>
                  <p:nvPr/>
                </p:nvSpPr>
                <p:spPr>
                  <a:xfrm rot="111600">
                    <a:off x="2895120" y="824760"/>
                    <a:ext cx="6480" cy="29520"/>
                  </a:xfrm>
                  <a:custGeom>
                    <a:avLst/>
                    <a:gdLst>
                      <a:gd name="textAreaLeft" fmla="*/ 0 w 6480"/>
                      <a:gd name="textAreaRight" fmla="*/ 6840 w 6480"/>
                      <a:gd name="textAreaTop" fmla="*/ 0 h 29520"/>
                      <a:gd name="textAreaBottom" fmla="*/ 29880 h 29520"/>
                    </a:gdLst>
                    <a:ahLst/>
                    <a:rect l="textAreaLeft" t="textAreaTop" r="textAreaRight" b="textAreaBottom"/>
                    <a:pathLst>
                      <a:path w="67" h="223">
                        <a:moveTo>
                          <a:pt x="67" y="212"/>
                        </a:moveTo>
                        <a:lnTo>
                          <a:pt x="67" y="201"/>
                        </a:lnTo>
                        <a:lnTo>
                          <a:pt x="45" y="189"/>
                        </a:lnTo>
                        <a:lnTo>
                          <a:pt x="22" y="167"/>
                        </a:lnTo>
                        <a:lnTo>
                          <a:pt x="11" y="145"/>
                        </a:lnTo>
                        <a:lnTo>
                          <a:pt x="11" y="123"/>
                        </a:lnTo>
                        <a:lnTo>
                          <a:pt x="11" y="89"/>
                        </a:lnTo>
                        <a:lnTo>
                          <a:pt x="22" y="67"/>
                        </a:lnTo>
                        <a:lnTo>
                          <a:pt x="45" y="33"/>
                        </a:lnTo>
                        <a:lnTo>
                          <a:pt x="67" y="11"/>
                        </a:lnTo>
                        <a:lnTo>
                          <a:pt x="56" y="0"/>
                        </a:lnTo>
                        <a:lnTo>
                          <a:pt x="33" y="22"/>
                        </a:lnTo>
                        <a:lnTo>
                          <a:pt x="11" y="56"/>
                        </a:lnTo>
                        <a:lnTo>
                          <a:pt x="0" y="89"/>
                        </a:lnTo>
                        <a:lnTo>
                          <a:pt x="0" y="123"/>
                        </a:lnTo>
                        <a:lnTo>
                          <a:pt x="0" y="145"/>
                        </a:lnTo>
                        <a:lnTo>
                          <a:pt x="11" y="178"/>
                        </a:lnTo>
                        <a:lnTo>
                          <a:pt x="33" y="201"/>
                        </a:lnTo>
                        <a:lnTo>
                          <a:pt x="56" y="223"/>
                        </a:lnTo>
                        <a:lnTo>
                          <a:pt x="56" y="212"/>
                        </a:lnTo>
                        <a:lnTo>
                          <a:pt x="67" y="212"/>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1199"/>
                  <p:cNvSpPr/>
                  <p:nvPr/>
                </p:nvSpPr>
                <p:spPr>
                  <a:xfrm rot="111600">
                    <a:off x="2900160" y="852840"/>
                    <a:ext cx="3960" cy="11520"/>
                  </a:xfrm>
                  <a:custGeom>
                    <a:avLst/>
                    <a:gdLst>
                      <a:gd name="textAreaLeft" fmla="*/ 0 w 3960"/>
                      <a:gd name="textAreaRight" fmla="*/ 4320 w 3960"/>
                      <a:gd name="textAreaTop" fmla="*/ 0 h 11520"/>
                      <a:gd name="textAreaBottom" fmla="*/ 11880 h 11520"/>
                    </a:gdLst>
                    <a:ahLst/>
                    <a:rect l="textAreaLeft" t="textAreaTop" r="textAreaRight" b="textAreaBottom"/>
                    <a:pathLst>
                      <a:path w="44" h="89">
                        <a:moveTo>
                          <a:pt x="33" y="78"/>
                        </a:moveTo>
                        <a:lnTo>
                          <a:pt x="44" y="78"/>
                        </a:lnTo>
                        <a:lnTo>
                          <a:pt x="33" y="67"/>
                        </a:lnTo>
                        <a:lnTo>
                          <a:pt x="22" y="55"/>
                        </a:lnTo>
                        <a:lnTo>
                          <a:pt x="11" y="33"/>
                        </a:lnTo>
                        <a:lnTo>
                          <a:pt x="11" y="0"/>
                        </a:lnTo>
                        <a:lnTo>
                          <a:pt x="0" y="0"/>
                        </a:lnTo>
                        <a:lnTo>
                          <a:pt x="0" y="33"/>
                        </a:lnTo>
                        <a:lnTo>
                          <a:pt x="11" y="55"/>
                        </a:lnTo>
                        <a:lnTo>
                          <a:pt x="22" y="67"/>
                        </a:lnTo>
                        <a:lnTo>
                          <a:pt x="33" y="89"/>
                        </a:lnTo>
                        <a:lnTo>
                          <a:pt x="33" y="78"/>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Freeform 1198"/>
                  <p:cNvSpPr/>
                  <p:nvPr/>
                </p:nvSpPr>
                <p:spPr>
                  <a:xfrm rot="111600">
                    <a:off x="2902680" y="862200"/>
                    <a:ext cx="16200" cy="4320"/>
                  </a:xfrm>
                  <a:custGeom>
                    <a:avLst/>
                    <a:gdLst>
                      <a:gd name="textAreaLeft" fmla="*/ 0 w 16200"/>
                      <a:gd name="textAreaRight" fmla="*/ 16560 w 16200"/>
                      <a:gd name="textAreaTop" fmla="*/ 0 h 4320"/>
                      <a:gd name="textAreaBottom" fmla="*/ 4680 h 4320"/>
                    </a:gdLst>
                    <a:ahLst/>
                    <a:rect l="textAreaLeft" t="textAreaTop" r="textAreaRight" b="textAreaBottom"/>
                    <a:pathLst>
                      <a:path w="167" h="33">
                        <a:moveTo>
                          <a:pt x="167" y="11"/>
                        </a:moveTo>
                        <a:lnTo>
                          <a:pt x="167" y="0"/>
                        </a:lnTo>
                        <a:lnTo>
                          <a:pt x="145" y="0"/>
                        </a:lnTo>
                        <a:lnTo>
                          <a:pt x="134" y="0"/>
                        </a:lnTo>
                        <a:lnTo>
                          <a:pt x="123" y="11"/>
                        </a:lnTo>
                        <a:lnTo>
                          <a:pt x="112" y="11"/>
                        </a:lnTo>
                        <a:lnTo>
                          <a:pt x="89" y="22"/>
                        </a:lnTo>
                        <a:lnTo>
                          <a:pt x="67" y="22"/>
                        </a:lnTo>
                        <a:lnTo>
                          <a:pt x="34" y="11"/>
                        </a:lnTo>
                        <a:lnTo>
                          <a:pt x="0" y="11"/>
                        </a:lnTo>
                        <a:lnTo>
                          <a:pt x="0" y="22"/>
                        </a:lnTo>
                        <a:lnTo>
                          <a:pt x="34" y="22"/>
                        </a:lnTo>
                        <a:lnTo>
                          <a:pt x="67" y="33"/>
                        </a:lnTo>
                        <a:lnTo>
                          <a:pt x="89" y="33"/>
                        </a:lnTo>
                        <a:lnTo>
                          <a:pt x="112" y="22"/>
                        </a:lnTo>
                        <a:lnTo>
                          <a:pt x="123" y="22"/>
                        </a:lnTo>
                        <a:lnTo>
                          <a:pt x="134" y="22"/>
                        </a:lnTo>
                        <a:lnTo>
                          <a:pt x="156" y="11"/>
                        </a:lnTo>
                        <a:lnTo>
                          <a:pt x="167" y="11"/>
                        </a:lnTo>
                        <a:lnTo>
                          <a:pt x="156" y="0"/>
                        </a:lnTo>
                        <a:lnTo>
                          <a:pt x="167"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Freeform 1197"/>
                  <p:cNvSpPr/>
                  <p:nvPr/>
                </p:nvSpPr>
                <p:spPr>
                  <a:xfrm rot="111600">
                    <a:off x="2917080" y="862560"/>
                    <a:ext cx="7560" cy="16200"/>
                  </a:xfrm>
                  <a:custGeom>
                    <a:avLst/>
                    <a:gdLst>
                      <a:gd name="textAreaLeft" fmla="*/ 0 w 7560"/>
                      <a:gd name="textAreaRight" fmla="*/ 7920 w 7560"/>
                      <a:gd name="textAreaTop" fmla="*/ 0 h 16200"/>
                      <a:gd name="textAreaBottom" fmla="*/ 16560 h 16200"/>
                    </a:gdLst>
                    <a:ahLst/>
                    <a:rect l="textAreaLeft" t="textAreaTop" r="textAreaRight" b="textAreaBottom"/>
                    <a:pathLst>
                      <a:path w="78" h="122">
                        <a:moveTo>
                          <a:pt x="78" y="122"/>
                        </a:moveTo>
                        <a:lnTo>
                          <a:pt x="67" y="111"/>
                        </a:lnTo>
                        <a:lnTo>
                          <a:pt x="45" y="100"/>
                        </a:lnTo>
                        <a:lnTo>
                          <a:pt x="22" y="89"/>
                        </a:lnTo>
                        <a:lnTo>
                          <a:pt x="22" y="78"/>
                        </a:lnTo>
                        <a:lnTo>
                          <a:pt x="11" y="67"/>
                        </a:lnTo>
                        <a:lnTo>
                          <a:pt x="11" y="55"/>
                        </a:lnTo>
                        <a:lnTo>
                          <a:pt x="11" y="44"/>
                        </a:lnTo>
                        <a:lnTo>
                          <a:pt x="22" y="22"/>
                        </a:lnTo>
                        <a:lnTo>
                          <a:pt x="22" y="11"/>
                        </a:lnTo>
                        <a:lnTo>
                          <a:pt x="11" y="0"/>
                        </a:lnTo>
                        <a:lnTo>
                          <a:pt x="11" y="22"/>
                        </a:lnTo>
                        <a:lnTo>
                          <a:pt x="0" y="44"/>
                        </a:lnTo>
                        <a:lnTo>
                          <a:pt x="0" y="55"/>
                        </a:lnTo>
                        <a:lnTo>
                          <a:pt x="0" y="67"/>
                        </a:lnTo>
                        <a:lnTo>
                          <a:pt x="11" y="89"/>
                        </a:lnTo>
                        <a:lnTo>
                          <a:pt x="22" y="100"/>
                        </a:lnTo>
                        <a:lnTo>
                          <a:pt x="34" y="111"/>
                        </a:lnTo>
                        <a:lnTo>
                          <a:pt x="67" y="122"/>
                        </a:lnTo>
                        <a:lnTo>
                          <a:pt x="67" y="111"/>
                        </a:lnTo>
                        <a:lnTo>
                          <a:pt x="78" y="12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Freeform 1196"/>
                  <p:cNvSpPr/>
                  <p:nvPr/>
                </p:nvSpPr>
                <p:spPr>
                  <a:xfrm rot="111600">
                    <a:off x="2921040" y="877320"/>
                    <a:ext cx="2880" cy="14760"/>
                  </a:xfrm>
                  <a:custGeom>
                    <a:avLst/>
                    <a:gdLst>
                      <a:gd name="textAreaLeft" fmla="*/ 0 w 2880"/>
                      <a:gd name="textAreaRight" fmla="*/ 3240 w 2880"/>
                      <a:gd name="textAreaTop" fmla="*/ 0 h 14760"/>
                      <a:gd name="textAreaBottom" fmla="*/ 15120 h 14760"/>
                    </a:gdLst>
                    <a:ahLst/>
                    <a:rect l="textAreaLeft" t="textAreaTop" r="textAreaRight" b="textAreaBottom"/>
                    <a:pathLst>
                      <a:path w="33" h="112">
                        <a:moveTo>
                          <a:pt x="22" y="100"/>
                        </a:moveTo>
                        <a:lnTo>
                          <a:pt x="33" y="100"/>
                        </a:lnTo>
                        <a:lnTo>
                          <a:pt x="22" y="78"/>
                        </a:lnTo>
                        <a:lnTo>
                          <a:pt x="11" y="56"/>
                        </a:lnTo>
                        <a:lnTo>
                          <a:pt x="22" y="22"/>
                        </a:lnTo>
                        <a:lnTo>
                          <a:pt x="33" y="11"/>
                        </a:lnTo>
                        <a:lnTo>
                          <a:pt x="22" y="0"/>
                        </a:lnTo>
                        <a:lnTo>
                          <a:pt x="11" y="22"/>
                        </a:lnTo>
                        <a:lnTo>
                          <a:pt x="0" y="56"/>
                        </a:lnTo>
                        <a:lnTo>
                          <a:pt x="0" y="89"/>
                        </a:lnTo>
                        <a:lnTo>
                          <a:pt x="22" y="112"/>
                        </a:lnTo>
                        <a:lnTo>
                          <a:pt x="22" y="100"/>
                        </a:lnTo>
                        <a:close/>
                      </a:path>
                    </a:pathLst>
                  </a:custGeom>
                  <a:solidFill>
                    <a:srgbClr val="000000"/>
                  </a:solidFill>
                  <a:ln w="0">
                    <a:noFill/>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Freeform 1195"/>
                  <p:cNvSpPr/>
                  <p:nvPr/>
                </p:nvSpPr>
                <p:spPr>
                  <a:xfrm rot="111600">
                    <a:off x="2923200" y="874800"/>
                    <a:ext cx="12960" cy="20520"/>
                  </a:xfrm>
                  <a:custGeom>
                    <a:avLst/>
                    <a:gdLst>
                      <a:gd name="textAreaLeft" fmla="*/ 0 w 12960"/>
                      <a:gd name="textAreaRight" fmla="*/ 13320 w 12960"/>
                      <a:gd name="textAreaTop" fmla="*/ 0 h 20520"/>
                      <a:gd name="textAreaBottom" fmla="*/ 20880 h 20520"/>
                    </a:gdLst>
                    <a:ahLst/>
                    <a:rect l="textAreaLeft" t="textAreaTop" r="textAreaRight" b="textAreaBottom"/>
                    <a:pathLst>
                      <a:path w="134" h="156">
                        <a:moveTo>
                          <a:pt x="123" y="0"/>
                        </a:moveTo>
                        <a:lnTo>
                          <a:pt x="123" y="11"/>
                        </a:lnTo>
                        <a:lnTo>
                          <a:pt x="123" y="33"/>
                        </a:lnTo>
                        <a:lnTo>
                          <a:pt x="123" y="67"/>
                        </a:lnTo>
                        <a:lnTo>
                          <a:pt x="111" y="89"/>
                        </a:lnTo>
                        <a:lnTo>
                          <a:pt x="89" y="111"/>
                        </a:lnTo>
                        <a:lnTo>
                          <a:pt x="78" y="134"/>
                        </a:lnTo>
                        <a:lnTo>
                          <a:pt x="56" y="134"/>
                        </a:lnTo>
                        <a:lnTo>
                          <a:pt x="22" y="134"/>
                        </a:lnTo>
                        <a:lnTo>
                          <a:pt x="0" y="122"/>
                        </a:lnTo>
                        <a:lnTo>
                          <a:pt x="0" y="134"/>
                        </a:lnTo>
                        <a:lnTo>
                          <a:pt x="22" y="145"/>
                        </a:lnTo>
                        <a:lnTo>
                          <a:pt x="56" y="156"/>
                        </a:lnTo>
                        <a:lnTo>
                          <a:pt x="78" y="145"/>
                        </a:lnTo>
                        <a:lnTo>
                          <a:pt x="100" y="122"/>
                        </a:lnTo>
                        <a:lnTo>
                          <a:pt x="123" y="100"/>
                        </a:lnTo>
                        <a:lnTo>
                          <a:pt x="134" y="67"/>
                        </a:lnTo>
                        <a:lnTo>
                          <a:pt x="134" y="33"/>
                        </a:lnTo>
                        <a:lnTo>
                          <a:pt x="134" y="11"/>
                        </a:lnTo>
                        <a:lnTo>
                          <a:pt x="123" y="22"/>
                        </a:lnTo>
                        <a:lnTo>
                          <a:pt x="123" y="0"/>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1194"/>
                  <p:cNvSpPr/>
                  <p:nvPr/>
                </p:nvSpPr>
                <p:spPr>
                  <a:xfrm rot="111600">
                    <a:off x="2935800" y="845640"/>
                    <a:ext cx="9720" cy="32400"/>
                  </a:xfrm>
                  <a:custGeom>
                    <a:avLst/>
                    <a:gdLst>
                      <a:gd name="textAreaLeft" fmla="*/ 0 w 9720"/>
                      <a:gd name="textAreaRight" fmla="*/ 10080 w 9720"/>
                      <a:gd name="textAreaTop" fmla="*/ 0 h 32400"/>
                      <a:gd name="textAreaBottom" fmla="*/ 32760 h 32400"/>
                    </a:gdLst>
                    <a:ahLst/>
                    <a:rect l="textAreaLeft" t="textAreaTop" r="textAreaRight" b="textAreaBottom"/>
                    <a:pathLst>
                      <a:path w="100" h="245">
                        <a:moveTo>
                          <a:pt x="89" y="0"/>
                        </a:moveTo>
                        <a:lnTo>
                          <a:pt x="89" y="11"/>
                        </a:lnTo>
                        <a:lnTo>
                          <a:pt x="89" y="44"/>
                        </a:lnTo>
                        <a:lnTo>
                          <a:pt x="89" y="78"/>
                        </a:lnTo>
                        <a:lnTo>
                          <a:pt x="89" y="111"/>
                        </a:lnTo>
                        <a:lnTo>
                          <a:pt x="89" y="145"/>
                        </a:lnTo>
                        <a:lnTo>
                          <a:pt x="78" y="167"/>
                        </a:lnTo>
                        <a:lnTo>
                          <a:pt x="55" y="189"/>
                        </a:lnTo>
                        <a:lnTo>
                          <a:pt x="33" y="212"/>
                        </a:lnTo>
                        <a:lnTo>
                          <a:pt x="0" y="223"/>
                        </a:lnTo>
                        <a:lnTo>
                          <a:pt x="0" y="245"/>
                        </a:lnTo>
                        <a:lnTo>
                          <a:pt x="44" y="223"/>
                        </a:lnTo>
                        <a:lnTo>
                          <a:pt x="66" y="201"/>
                        </a:lnTo>
                        <a:lnTo>
                          <a:pt x="89" y="178"/>
                        </a:lnTo>
                        <a:lnTo>
                          <a:pt x="100" y="145"/>
                        </a:lnTo>
                        <a:lnTo>
                          <a:pt x="100" y="111"/>
                        </a:lnTo>
                        <a:lnTo>
                          <a:pt x="100" y="78"/>
                        </a:lnTo>
                        <a:lnTo>
                          <a:pt x="100" y="44"/>
                        </a:lnTo>
                        <a:lnTo>
                          <a:pt x="100" y="11"/>
                        </a:lnTo>
                        <a:lnTo>
                          <a:pt x="89" y="22"/>
                        </a:lnTo>
                        <a:lnTo>
                          <a:pt x="89" y="0"/>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reeform 1193"/>
                  <p:cNvSpPr/>
                  <p:nvPr/>
                </p:nvSpPr>
                <p:spPr>
                  <a:xfrm rot="111600">
                    <a:off x="2945520" y="826200"/>
                    <a:ext cx="21600" cy="21960"/>
                  </a:xfrm>
                  <a:custGeom>
                    <a:avLst/>
                    <a:gdLst>
                      <a:gd name="textAreaLeft" fmla="*/ 0 w 21600"/>
                      <a:gd name="textAreaRight" fmla="*/ 21960 w 21600"/>
                      <a:gd name="textAreaTop" fmla="*/ 0 h 21960"/>
                      <a:gd name="textAreaBottom" fmla="*/ 22320 h 21960"/>
                    </a:gdLst>
                    <a:ahLst/>
                    <a:rect l="textAreaLeft" t="textAreaTop" r="textAreaRight" b="textAreaBottom"/>
                    <a:pathLst>
                      <a:path w="223" h="167">
                        <a:moveTo>
                          <a:pt x="223" y="0"/>
                        </a:moveTo>
                        <a:lnTo>
                          <a:pt x="211" y="0"/>
                        </a:lnTo>
                        <a:lnTo>
                          <a:pt x="211" y="22"/>
                        </a:lnTo>
                        <a:lnTo>
                          <a:pt x="200" y="33"/>
                        </a:lnTo>
                        <a:lnTo>
                          <a:pt x="189" y="45"/>
                        </a:lnTo>
                        <a:lnTo>
                          <a:pt x="178" y="56"/>
                        </a:lnTo>
                        <a:lnTo>
                          <a:pt x="167" y="67"/>
                        </a:lnTo>
                        <a:lnTo>
                          <a:pt x="145" y="78"/>
                        </a:lnTo>
                        <a:lnTo>
                          <a:pt x="133" y="89"/>
                        </a:lnTo>
                        <a:lnTo>
                          <a:pt x="122" y="100"/>
                        </a:lnTo>
                        <a:lnTo>
                          <a:pt x="111" y="100"/>
                        </a:lnTo>
                        <a:lnTo>
                          <a:pt x="100" y="111"/>
                        </a:lnTo>
                        <a:lnTo>
                          <a:pt x="78" y="123"/>
                        </a:lnTo>
                        <a:lnTo>
                          <a:pt x="67" y="123"/>
                        </a:lnTo>
                        <a:lnTo>
                          <a:pt x="44" y="134"/>
                        </a:lnTo>
                        <a:lnTo>
                          <a:pt x="33" y="134"/>
                        </a:lnTo>
                        <a:lnTo>
                          <a:pt x="11" y="145"/>
                        </a:lnTo>
                        <a:lnTo>
                          <a:pt x="0" y="145"/>
                        </a:lnTo>
                        <a:lnTo>
                          <a:pt x="0" y="167"/>
                        </a:lnTo>
                        <a:lnTo>
                          <a:pt x="22" y="156"/>
                        </a:lnTo>
                        <a:lnTo>
                          <a:pt x="33" y="156"/>
                        </a:lnTo>
                        <a:lnTo>
                          <a:pt x="55" y="145"/>
                        </a:lnTo>
                        <a:lnTo>
                          <a:pt x="67" y="134"/>
                        </a:lnTo>
                        <a:lnTo>
                          <a:pt x="89" y="134"/>
                        </a:lnTo>
                        <a:lnTo>
                          <a:pt x="100" y="123"/>
                        </a:lnTo>
                        <a:lnTo>
                          <a:pt x="111" y="111"/>
                        </a:lnTo>
                        <a:lnTo>
                          <a:pt x="133" y="111"/>
                        </a:lnTo>
                        <a:lnTo>
                          <a:pt x="145" y="100"/>
                        </a:lnTo>
                        <a:lnTo>
                          <a:pt x="156" y="89"/>
                        </a:lnTo>
                        <a:lnTo>
                          <a:pt x="167" y="78"/>
                        </a:lnTo>
                        <a:lnTo>
                          <a:pt x="189" y="67"/>
                        </a:lnTo>
                        <a:lnTo>
                          <a:pt x="200" y="56"/>
                        </a:lnTo>
                        <a:lnTo>
                          <a:pt x="211" y="33"/>
                        </a:lnTo>
                        <a:lnTo>
                          <a:pt x="211" y="22"/>
                        </a:lnTo>
                        <a:lnTo>
                          <a:pt x="223" y="11"/>
                        </a:lnTo>
                        <a:lnTo>
                          <a:pt x="211" y="11"/>
                        </a:lnTo>
                        <a:lnTo>
                          <a:pt x="223"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Freeform 1192"/>
                  <p:cNvSpPr/>
                  <p:nvPr/>
                </p:nvSpPr>
                <p:spPr>
                  <a:xfrm rot="111600">
                    <a:off x="2966400" y="822600"/>
                    <a:ext cx="20520" cy="11520"/>
                  </a:xfrm>
                  <a:custGeom>
                    <a:avLst/>
                    <a:gdLst>
                      <a:gd name="textAreaLeft" fmla="*/ 0 w 20520"/>
                      <a:gd name="textAreaRight" fmla="*/ 20880 w 20520"/>
                      <a:gd name="textAreaTop" fmla="*/ 0 h 11520"/>
                      <a:gd name="textAreaBottom" fmla="*/ 11880 h 11520"/>
                    </a:gdLst>
                    <a:ahLst/>
                    <a:rect l="textAreaLeft" t="textAreaTop" r="textAreaRight" b="textAreaBottom"/>
                    <a:pathLst>
                      <a:path w="212" h="89">
                        <a:moveTo>
                          <a:pt x="212" y="0"/>
                        </a:moveTo>
                        <a:lnTo>
                          <a:pt x="201" y="0"/>
                        </a:lnTo>
                        <a:lnTo>
                          <a:pt x="179" y="22"/>
                        </a:lnTo>
                        <a:lnTo>
                          <a:pt x="168" y="44"/>
                        </a:lnTo>
                        <a:lnTo>
                          <a:pt x="134" y="55"/>
                        </a:lnTo>
                        <a:lnTo>
                          <a:pt x="112" y="66"/>
                        </a:lnTo>
                        <a:lnTo>
                          <a:pt x="90" y="78"/>
                        </a:lnTo>
                        <a:lnTo>
                          <a:pt x="56" y="66"/>
                        </a:lnTo>
                        <a:lnTo>
                          <a:pt x="34" y="55"/>
                        </a:lnTo>
                        <a:lnTo>
                          <a:pt x="12" y="33"/>
                        </a:lnTo>
                        <a:lnTo>
                          <a:pt x="0" y="44"/>
                        </a:lnTo>
                        <a:lnTo>
                          <a:pt x="34" y="66"/>
                        </a:lnTo>
                        <a:lnTo>
                          <a:pt x="56" y="89"/>
                        </a:lnTo>
                        <a:lnTo>
                          <a:pt x="90" y="89"/>
                        </a:lnTo>
                        <a:lnTo>
                          <a:pt x="112" y="78"/>
                        </a:lnTo>
                        <a:lnTo>
                          <a:pt x="145" y="66"/>
                        </a:lnTo>
                        <a:lnTo>
                          <a:pt x="168" y="55"/>
                        </a:lnTo>
                        <a:lnTo>
                          <a:pt x="190" y="33"/>
                        </a:lnTo>
                        <a:lnTo>
                          <a:pt x="212" y="11"/>
                        </a:lnTo>
                        <a:lnTo>
                          <a:pt x="201" y="11"/>
                        </a:lnTo>
                        <a:lnTo>
                          <a:pt x="212" y="0"/>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Freeform 1191"/>
                  <p:cNvSpPr/>
                  <p:nvPr/>
                </p:nvSpPr>
                <p:spPr>
                  <a:xfrm rot="111600">
                    <a:off x="2985840" y="823320"/>
                    <a:ext cx="20520" cy="14400"/>
                  </a:xfrm>
                  <a:custGeom>
                    <a:avLst/>
                    <a:gdLst>
                      <a:gd name="textAreaLeft" fmla="*/ 0 w 20520"/>
                      <a:gd name="textAreaRight" fmla="*/ 20880 w 20520"/>
                      <a:gd name="textAreaTop" fmla="*/ 0 h 14400"/>
                      <a:gd name="textAreaBottom" fmla="*/ 14760 h 14400"/>
                    </a:gdLst>
                    <a:ahLst/>
                    <a:rect l="textAreaLeft" t="textAreaTop" r="textAreaRight" b="textAreaBottom"/>
                    <a:pathLst>
                      <a:path w="212" h="111">
                        <a:moveTo>
                          <a:pt x="212" y="100"/>
                        </a:moveTo>
                        <a:lnTo>
                          <a:pt x="201" y="89"/>
                        </a:lnTo>
                        <a:lnTo>
                          <a:pt x="167" y="100"/>
                        </a:lnTo>
                        <a:lnTo>
                          <a:pt x="134" y="100"/>
                        </a:lnTo>
                        <a:lnTo>
                          <a:pt x="112" y="100"/>
                        </a:lnTo>
                        <a:lnTo>
                          <a:pt x="89" y="89"/>
                        </a:lnTo>
                        <a:lnTo>
                          <a:pt x="67" y="66"/>
                        </a:lnTo>
                        <a:lnTo>
                          <a:pt x="45" y="44"/>
                        </a:lnTo>
                        <a:lnTo>
                          <a:pt x="34" y="22"/>
                        </a:lnTo>
                        <a:lnTo>
                          <a:pt x="11" y="0"/>
                        </a:lnTo>
                        <a:lnTo>
                          <a:pt x="0" y="11"/>
                        </a:lnTo>
                        <a:lnTo>
                          <a:pt x="22" y="33"/>
                        </a:lnTo>
                        <a:lnTo>
                          <a:pt x="34" y="55"/>
                        </a:lnTo>
                        <a:lnTo>
                          <a:pt x="67" y="78"/>
                        </a:lnTo>
                        <a:lnTo>
                          <a:pt x="89" y="100"/>
                        </a:lnTo>
                        <a:lnTo>
                          <a:pt x="112" y="111"/>
                        </a:lnTo>
                        <a:lnTo>
                          <a:pt x="134" y="111"/>
                        </a:lnTo>
                        <a:lnTo>
                          <a:pt x="167" y="111"/>
                        </a:lnTo>
                        <a:lnTo>
                          <a:pt x="201" y="100"/>
                        </a:lnTo>
                        <a:lnTo>
                          <a:pt x="201" y="89"/>
                        </a:lnTo>
                        <a:lnTo>
                          <a:pt x="212" y="100"/>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1190"/>
                  <p:cNvSpPr/>
                  <p:nvPr/>
                </p:nvSpPr>
                <p:spPr>
                  <a:xfrm rot="111600">
                    <a:off x="3003840" y="835920"/>
                    <a:ext cx="8640" cy="23400"/>
                  </a:xfrm>
                  <a:custGeom>
                    <a:avLst/>
                    <a:gdLst>
                      <a:gd name="textAreaLeft" fmla="*/ 0 w 8640"/>
                      <a:gd name="textAreaRight" fmla="*/ 9000 w 8640"/>
                      <a:gd name="textAreaTop" fmla="*/ 0 h 23400"/>
                      <a:gd name="textAreaBottom" fmla="*/ 23760 h 23400"/>
                    </a:gdLst>
                    <a:ahLst/>
                    <a:rect l="textAreaLeft" t="textAreaTop" r="textAreaRight" b="textAreaBottom"/>
                    <a:pathLst>
                      <a:path w="89" h="178">
                        <a:moveTo>
                          <a:pt x="89" y="167"/>
                        </a:moveTo>
                        <a:lnTo>
                          <a:pt x="89" y="167"/>
                        </a:lnTo>
                        <a:lnTo>
                          <a:pt x="66" y="156"/>
                        </a:lnTo>
                        <a:lnTo>
                          <a:pt x="55" y="133"/>
                        </a:lnTo>
                        <a:lnTo>
                          <a:pt x="33" y="111"/>
                        </a:lnTo>
                        <a:lnTo>
                          <a:pt x="22" y="89"/>
                        </a:lnTo>
                        <a:lnTo>
                          <a:pt x="22" y="67"/>
                        </a:lnTo>
                        <a:lnTo>
                          <a:pt x="11" y="44"/>
                        </a:lnTo>
                        <a:lnTo>
                          <a:pt x="11" y="22"/>
                        </a:lnTo>
                        <a:lnTo>
                          <a:pt x="22" y="11"/>
                        </a:lnTo>
                        <a:lnTo>
                          <a:pt x="11" y="0"/>
                        </a:lnTo>
                        <a:lnTo>
                          <a:pt x="0" y="22"/>
                        </a:lnTo>
                        <a:lnTo>
                          <a:pt x="0" y="44"/>
                        </a:lnTo>
                        <a:lnTo>
                          <a:pt x="11" y="67"/>
                        </a:lnTo>
                        <a:lnTo>
                          <a:pt x="11" y="100"/>
                        </a:lnTo>
                        <a:lnTo>
                          <a:pt x="22" y="122"/>
                        </a:lnTo>
                        <a:lnTo>
                          <a:pt x="44" y="145"/>
                        </a:lnTo>
                        <a:lnTo>
                          <a:pt x="55" y="167"/>
                        </a:lnTo>
                        <a:lnTo>
                          <a:pt x="89" y="178"/>
                        </a:lnTo>
                        <a:lnTo>
                          <a:pt x="89" y="167"/>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Freeform 1189"/>
                  <p:cNvSpPr/>
                  <p:nvPr/>
                </p:nvSpPr>
                <p:spPr>
                  <a:xfrm rot="111600">
                    <a:off x="3012120" y="856800"/>
                    <a:ext cx="8640" cy="2880"/>
                  </a:xfrm>
                  <a:custGeom>
                    <a:avLst/>
                    <a:gdLst>
                      <a:gd name="textAreaLeft" fmla="*/ 0 w 8640"/>
                      <a:gd name="textAreaRight" fmla="*/ 9000 w 8640"/>
                      <a:gd name="textAreaTop" fmla="*/ 0 h 2880"/>
                      <a:gd name="textAreaBottom" fmla="*/ 3240 h 2880"/>
                    </a:gdLst>
                    <a:ahLst/>
                    <a:rect l="textAreaLeft" t="textAreaTop" r="textAreaRight" b="textAreaBottom"/>
                    <a:pathLst>
                      <a:path w="89" h="22">
                        <a:moveTo>
                          <a:pt x="89" y="11"/>
                        </a:moveTo>
                        <a:lnTo>
                          <a:pt x="78" y="0"/>
                        </a:lnTo>
                        <a:lnTo>
                          <a:pt x="67" y="0"/>
                        </a:lnTo>
                        <a:lnTo>
                          <a:pt x="44" y="11"/>
                        </a:lnTo>
                        <a:lnTo>
                          <a:pt x="33" y="11"/>
                        </a:lnTo>
                        <a:lnTo>
                          <a:pt x="22" y="11"/>
                        </a:lnTo>
                        <a:lnTo>
                          <a:pt x="11" y="11"/>
                        </a:lnTo>
                        <a:lnTo>
                          <a:pt x="0" y="11"/>
                        </a:lnTo>
                        <a:lnTo>
                          <a:pt x="0" y="22"/>
                        </a:lnTo>
                        <a:lnTo>
                          <a:pt x="11" y="22"/>
                        </a:lnTo>
                        <a:lnTo>
                          <a:pt x="22" y="22"/>
                        </a:lnTo>
                        <a:lnTo>
                          <a:pt x="44" y="22"/>
                        </a:lnTo>
                        <a:lnTo>
                          <a:pt x="55" y="22"/>
                        </a:lnTo>
                        <a:lnTo>
                          <a:pt x="67" y="22"/>
                        </a:lnTo>
                        <a:lnTo>
                          <a:pt x="78" y="22"/>
                        </a:lnTo>
                        <a:lnTo>
                          <a:pt x="78" y="11"/>
                        </a:lnTo>
                        <a:lnTo>
                          <a:pt x="89"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1188"/>
                  <p:cNvSpPr/>
                  <p:nvPr/>
                </p:nvSpPr>
                <p:spPr>
                  <a:xfrm rot="111600">
                    <a:off x="3018600" y="858600"/>
                    <a:ext cx="1800" cy="14400"/>
                  </a:xfrm>
                  <a:custGeom>
                    <a:avLst/>
                    <a:gdLst>
                      <a:gd name="textAreaLeft" fmla="*/ 0 w 1800"/>
                      <a:gd name="textAreaRight" fmla="*/ 2160 w 1800"/>
                      <a:gd name="textAreaTop" fmla="*/ 0 h 14400"/>
                      <a:gd name="textAreaBottom" fmla="*/ 14760 h 14400"/>
                    </a:gdLst>
                    <a:ahLst/>
                    <a:rect l="textAreaLeft" t="textAreaTop" r="textAreaRight" b="textAreaBottom"/>
                    <a:pathLst>
                      <a:path w="22" h="111">
                        <a:moveTo>
                          <a:pt x="22" y="100"/>
                        </a:moveTo>
                        <a:lnTo>
                          <a:pt x="22" y="100"/>
                        </a:lnTo>
                        <a:lnTo>
                          <a:pt x="11" y="78"/>
                        </a:lnTo>
                        <a:lnTo>
                          <a:pt x="11" y="56"/>
                        </a:lnTo>
                        <a:lnTo>
                          <a:pt x="22" y="22"/>
                        </a:lnTo>
                        <a:lnTo>
                          <a:pt x="22" y="0"/>
                        </a:lnTo>
                        <a:lnTo>
                          <a:pt x="11" y="0"/>
                        </a:lnTo>
                        <a:lnTo>
                          <a:pt x="0" y="22"/>
                        </a:lnTo>
                        <a:lnTo>
                          <a:pt x="0" y="56"/>
                        </a:lnTo>
                        <a:lnTo>
                          <a:pt x="0" y="78"/>
                        </a:lnTo>
                        <a:lnTo>
                          <a:pt x="11" y="111"/>
                        </a:lnTo>
                        <a:lnTo>
                          <a:pt x="22" y="100"/>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Freeform 1187"/>
                  <p:cNvSpPr/>
                  <p:nvPr/>
                </p:nvSpPr>
                <p:spPr>
                  <a:xfrm rot="111600">
                    <a:off x="3019320" y="871920"/>
                    <a:ext cx="7560" cy="10080"/>
                  </a:xfrm>
                  <a:custGeom>
                    <a:avLst/>
                    <a:gdLst>
                      <a:gd name="textAreaLeft" fmla="*/ 0 w 7560"/>
                      <a:gd name="textAreaRight" fmla="*/ 7920 w 7560"/>
                      <a:gd name="textAreaTop" fmla="*/ 0 h 10080"/>
                      <a:gd name="textAreaBottom" fmla="*/ 10440 h 10080"/>
                    </a:gdLst>
                    <a:ahLst/>
                    <a:rect l="textAreaLeft" t="textAreaTop" r="textAreaRight" b="textAreaBottom"/>
                    <a:pathLst>
                      <a:path w="78" h="78">
                        <a:moveTo>
                          <a:pt x="78" y="78"/>
                        </a:moveTo>
                        <a:lnTo>
                          <a:pt x="78" y="67"/>
                        </a:lnTo>
                        <a:lnTo>
                          <a:pt x="67" y="67"/>
                        </a:lnTo>
                        <a:lnTo>
                          <a:pt x="67" y="56"/>
                        </a:lnTo>
                        <a:lnTo>
                          <a:pt x="55" y="56"/>
                        </a:lnTo>
                        <a:lnTo>
                          <a:pt x="44" y="45"/>
                        </a:lnTo>
                        <a:lnTo>
                          <a:pt x="33" y="34"/>
                        </a:lnTo>
                        <a:lnTo>
                          <a:pt x="33" y="23"/>
                        </a:lnTo>
                        <a:lnTo>
                          <a:pt x="22" y="11"/>
                        </a:lnTo>
                        <a:lnTo>
                          <a:pt x="11" y="0"/>
                        </a:lnTo>
                        <a:lnTo>
                          <a:pt x="0" y="11"/>
                        </a:lnTo>
                        <a:lnTo>
                          <a:pt x="11" y="23"/>
                        </a:lnTo>
                        <a:lnTo>
                          <a:pt x="22" y="34"/>
                        </a:lnTo>
                        <a:lnTo>
                          <a:pt x="22" y="45"/>
                        </a:lnTo>
                        <a:lnTo>
                          <a:pt x="33" y="56"/>
                        </a:lnTo>
                        <a:lnTo>
                          <a:pt x="44" y="67"/>
                        </a:lnTo>
                        <a:lnTo>
                          <a:pt x="55" y="67"/>
                        </a:lnTo>
                        <a:lnTo>
                          <a:pt x="67" y="78"/>
                        </a:lnTo>
                        <a:lnTo>
                          <a:pt x="78" y="78"/>
                        </a:lnTo>
                        <a:lnTo>
                          <a:pt x="67" y="78"/>
                        </a:lnTo>
                        <a:lnTo>
                          <a:pt x="78" y="78"/>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Freeform 1186"/>
                  <p:cNvSpPr/>
                  <p:nvPr/>
                </p:nvSpPr>
                <p:spPr>
                  <a:xfrm rot="111600">
                    <a:off x="3025800" y="882360"/>
                    <a:ext cx="2880" cy="17640"/>
                  </a:xfrm>
                  <a:custGeom>
                    <a:avLst/>
                    <a:gdLst>
                      <a:gd name="textAreaLeft" fmla="*/ 0 w 2880"/>
                      <a:gd name="textAreaRight" fmla="*/ 3240 w 2880"/>
                      <a:gd name="textAreaTop" fmla="*/ 0 h 17640"/>
                      <a:gd name="textAreaBottom" fmla="*/ 18000 h 17640"/>
                    </a:gdLst>
                    <a:ahLst/>
                    <a:rect l="textAreaLeft" t="textAreaTop" r="textAreaRight" b="textAreaBottom"/>
                    <a:pathLst>
                      <a:path w="33" h="134">
                        <a:moveTo>
                          <a:pt x="33" y="112"/>
                        </a:moveTo>
                        <a:lnTo>
                          <a:pt x="33" y="112"/>
                        </a:lnTo>
                        <a:lnTo>
                          <a:pt x="22" y="89"/>
                        </a:lnTo>
                        <a:lnTo>
                          <a:pt x="11" y="67"/>
                        </a:lnTo>
                        <a:lnTo>
                          <a:pt x="11" y="34"/>
                        </a:lnTo>
                        <a:lnTo>
                          <a:pt x="11" y="0"/>
                        </a:lnTo>
                        <a:lnTo>
                          <a:pt x="0" y="0"/>
                        </a:lnTo>
                        <a:lnTo>
                          <a:pt x="0" y="34"/>
                        </a:lnTo>
                        <a:lnTo>
                          <a:pt x="0" y="67"/>
                        </a:lnTo>
                        <a:lnTo>
                          <a:pt x="11" y="101"/>
                        </a:lnTo>
                        <a:lnTo>
                          <a:pt x="22" y="123"/>
                        </a:lnTo>
                        <a:lnTo>
                          <a:pt x="33" y="134"/>
                        </a:lnTo>
                        <a:lnTo>
                          <a:pt x="33" y="112"/>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1185"/>
                  <p:cNvSpPr/>
                  <p:nvPr/>
                </p:nvSpPr>
                <p:spPr>
                  <a:xfrm rot="111600">
                    <a:off x="3029040" y="882360"/>
                    <a:ext cx="9720" cy="17640"/>
                  </a:xfrm>
                  <a:custGeom>
                    <a:avLst/>
                    <a:gdLst>
                      <a:gd name="textAreaLeft" fmla="*/ 0 w 9720"/>
                      <a:gd name="textAreaRight" fmla="*/ 10080 w 9720"/>
                      <a:gd name="textAreaTop" fmla="*/ 0 h 17640"/>
                      <a:gd name="textAreaBottom" fmla="*/ 18000 h 17640"/>
                    </a:gdLst>
                    <a:ahLst/>
                    <a:rect l="textAreaLeft" t="textAreaTop" r="textAreaRight" b="textAreaBottom"/>
                    <a:pathLst>
                      <a:path w="100" h="134">
                        <a:moveTo>
                          <a:pt x="89" y="0"/>
                        </a:moveTo>
                        <a:lnTo>
                          <a:pt x="89" y="11"/>
                        </a:lnTo>
                        <a:lnTo>
                          <a:pt x="89" y="45"/>
                        </a:lnTo>
                        <a:lnTo>
                          <a:pt x="89" y="67"/>
                        </a:lnTo>
                        <a:lnTo>
                          <a:pt x="78" y="89"/>
                        </a:lnTo>
                        <a:lnTo>
                          <a:pt x="67" y="101"/>
                        </a:lnTo>
                        <a:lnTo>
                          <a:pt x="56" y="112"/>
                        </a:lnTo>
                        <a:lnTo>
                          <a:pt x="45" y="123"/>
                        </a:lnTo>
                        <a:lnTo>
                          <a:pt x="22" y="123"/>
                        </a:lnTo>
                        <a:lnTo>
                          <a:pt x="0" y="112"/>
                        </a:lnTo>
                        <a:lnTo>
                          <a:pt x="0" y="134"/>
                        </a:lnTo>
                        <a:lnTo>
                          <a:pt x="22" y="134"/>
                        </a:lnTo>
                        <a:lnTo>
                          <a:pt x="45" y="134"/>
                        </a:lnTo>
                        <a:lnTo>
                          <a:pt x="56" y="123"/>
                        </a:lnTo>
                        <a:lnTo>
                          <a:pt x="78" y="112"/>
                        </a:lnTo>
                        <a:lnTo>
                          <a:pt x="89" y="101"/>
                        </a:lnTo>
                        <a:lnTo>
                          <a:pt x="100" y="67"/>
                        </a:lnTo>
                        <a:lnTo>
                          <a:pt x="100" y="45"/>
                        </a:lnTo>
                        <a:lnTo>
                          <a:pt x="100" y="11"/>
                        </a:lnTo>
                        <a:lnTo>
                          <a:pt x="89" y="0"/>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1184"/>
                  <p:cNvSpPr/>
                  <p:nvPr/>
                </p:nvSpPr>
                <p:spPr>
                  <a:xfrm rot="111600">
                    <a:off x="3038040" y="870840"/>
                    <a:ext cx="5400" cy="12960"/>
                  </a:xfrm>
                  <a:custGeom>
                    <a:avLst/>
                    <a:gdLst>
                      <a:gd name="textAreaLeft" fmla="*/ 0 w 5400"/>
                      <a:gd name="textAreaRight" fmla="*/ 5760 w 5400"/>
                      <a:gd name="textAreaTop" fmla="*/ 0 h 12960"/>
                      <a:gd name="textAreaBottom" fmla="*/ 13320 h 12960"/>
                    </a:gdLst>
                    <a:ahLst/>
                    <a:rect l="textAreaLeft" t="textAreaTop" r="textAreaRight" b="textAreaBottom"/>
                    <a:pathLst>
                      <a:path w="56" h="100">
                        <a:moveTo>
                          <a:pt x="56" y="0"/>
                        </a:moveTo>
                        <a:lnTo>
                          <a:pt x="45" y="0"/>
                        </a:lnTo>
                        <a:lnTo>
                          <a:pt x="45" y="22"/>
                        </a:lnTo>
                        <a:lnTo>
                          <a:pt x="45" y="34"/>
                        </a:lnTo>
                        <a:lnTo>
                          <a:pt x="45" y="45"/>
                        </a:lnTo>
                        <a:lnTo>
                          <a:pt x="34" y="56"/>
                        </a:lnTo>
                        <a:lnTo>
                          <a:pt x="34" y="67"/>
                        </a:lnTo>
                        <a:lnTo>
                          <a:pt x="23" y="67"/>
                        </a:lnTo>
                        <a:lnTo>
                          <a:pt x="11" y="78"/>
                        </a:lnTo>
                        <a:lnTo>
                          <a:pt x="0" y="89"/>
                        </a:lnTo>
                        <a:lnTo>
                          <a:pt x="11" y="100"/>
                        </a:lnTo>
                        <a:lnTo>
                          <a:pt x="23" y="89"/>
                        </a:lnTo>
                        <a:lnTo>
                          <a:pt x="34" y="78"/>
                        </a:lnTo>
                        <a:lnTo>
                          <a:pt x="45" y="67"/>
                        </a:lnTo>
                        <a:lnTo>
                          <a:pt x="45" y="56"/>
                        </a:lnTo>
                        <a:lnTo>
                          <a:pt x="56" y="45"/>
                        </a:lnTo>
                        <a:lnTo>
                          <a:pt x="56" y="34"/>
                        </a:lnTo>
                        <a:lnTo>
                          <a:pt x="56" y="22"/>
                        </a:lnTo>
                        <a:lnTo>
                          <a:pt x="56" y="0"/>
                        </a:lnTo>
                        <a:lnTo>
                          <a:pt x="45" y="0"/>
                        </a:lnTo>
                        <a:lnTo>
                          <a:pt x="56" y="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1183"/>
                  <p:cNvSpPr/>
                  <p:nvPr/>
                </p:nvSpPr>
                <p:spPr>
                  <a:xfrm rot="111600">
                    <a:off x="3042360" y="870840"/>
                    <a:ext cx="8640" cy="8640"/>
                  </a:xfrm>
                  <a:custGeom>
                    <a:avLst/>
                    <a:gdLst>
                      <a:gd name="textAreaLeft" fmla="*/ 0 w 8640"/>
                      <a:gd name="textAreaRight" fmla="*/ 9000 w 8640"/>
                      <a:gd name="textAreaTop" fmla="*/ 0 h 8640"/>
                      <a:gd name="textAreaBottom" fmla="*/ 9000 h 8640"/>
                    </a:gdLst>
                    <a:ahLst/>
                    <a:rect l="textAreaLeft" t="textAreaTop" r="textAreaRight" b="textAreaBottom"/>
                    <a:pathLst>
                      <a:path w="89" h="67">
                        <a:moveTo>
                          <a:pt x="89" y="56"/>
                        </a:moveTo>
                        <a:lnTo>
                          <a:pt x="89" y="56"/>
                        </a:lnTo>
                        <a:lnTo>
                          <a:pt x="78" y="56"/>
                        </a:lnTo>
                        <a:lnTo>
                          <a:pt x="67" y="45"/>
                        </a:lnTo>
                        <a:lnTo>
                          <a:pt x="56" y="45"/>
                        </a:lnTo>
                        <a:lnTo>
                          <a:pt x="44" y="34"/>
                        </a:lnTo>
                        <a:lnTo>
                          <a:pt x="33" y="22"/>
                        </a:lnTo>
                        <a:lnTo>
                          <a:pt x="22" y="11"/>
                        </a:lnTo>
                        <a:lnTo>
                          <a:pt x="22" y="0"/>
                        </a:lnTo>
                        <a:lnTo>
                          <a:pt x="11" y="0"/>
                        </a:lnTo>
                        <a:lnTo>
                          <a:pt x="0" y="0"/>
                        </a:lnTo>
                        <a:lnTo>
                          <a:pt x="11" y="11"/>
                        </a:lnTo>
                        <a:lnTo>
                          <a:pt x="11" y="22"/>
                        </a:lnTo>
                        <a:lnTo>
                          <a:pt x="22" y="34"/>
                        </a:lnTo>
                        <a:lnTo>
                          <a:pt x="44" y="45"/>
                        </a:lnTo>
                        <a:lnTo>
                          <a:pt x="56" y="56"/>
                        </a:lnTo>
                        <a:lnTo>
                          <a:pt x="67" y="56"/>
                        </a:lnTo>
                        <a:lnTo>
                          <a:pt x="78" y="67"/>
                        </a:lnTo>
                        <a:lnTo>
                          <a:pt x="89" y="67"/>
                        </a:lnTo>
                        <a:lnTo>
                          <a:pt x="89" y="56"/>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1182"/>
                  <p:cNvSpPr/>
                  <p:nvPr/>
                </p:nvSpPr>
                <p:spPr>
                  <a:xfrm rot="111600">
                    <a:off x="3051360" y="850680"/>
                    <a:ext cx="15120" cy="29520"/>
                  </a:xfrm>
                  <a:custGeom>
                    <a:avLst/>
                    <a:gdLst>
                      <a:gd name="textAreaLeft" fmla="*/ 0 w 15120"/>
                      <a:gd name="textAreaRight" fmla="*/ 15480 w 15120"/>
                      <a:gd name="textAreaTop" fmla="*/ 0 h 29520"/>
                      <a:gd name="textAreaBottom" fmla="*/ 29880 h 29520"/>
                    </a:gdLst>
                    <a:ahLst/>
                    <a:rect l="textAreaLeft" t="textAreaTop" r="textAreaRight" b="textAreaBottom"/>
                    <a:pathLst>
                      <a:path w="156" h="223">
                        <a:moveTo>
                          <a:pt x="123" y="11"/>
                        </a:moveTo>
                        <a:lnTo>
                          <a:pt x="123" y="11"/>
                        </a:lnTo>
                        <a:lnTo>
                          <a:pt x="134" y="33"/>
                        </a:lnTo>
                        <a:lnTo>
                          <a:pt x="145" y="67"/>
                        </a:lnTo>
                        <a:lnTo>
                          <a:pt x="145" y="111"/>
                        </a:lnTo>
                        <a:lnTo>
                          <a:pt x="134" y="145"/>
                        </a:lnTo>
                        <a:lnTo>
                          <a:pt x="111" y="167"/>
                        </a:lnTo>
                        <a:lnTo>
                          <a:pt x="78" y="190"/>
                        </a:lnTo>
                        <a:lnTo>
                          <a:pt x="45" y="212"/>
                        </a:lnTo>
                        <a:lnTo>
                          <a:pt x="0" y="212"/>
                        </a:lnTo>
                        <a:lnTo>
                          <a:pt x="0" y="223"/>
                        </a:lnTo>
                        <a:lnTo>
                          <a:pt x="45" y="223"/>
                        </a:lnTo>
                        <a:lnTo>
                          <a:pt x="89" y="212"/>
                        </a:lnTo>
                        <a:lnTo>
                          <a:pt x="123" y="178"/>
                        </a:lnTo>
                        <a:lnTo>
                          <a:pt x="145" y="145"/>
                        </a:lnTo>
                        <a:lnTo>
                          <a:pt x="156" y="111"/>
                        </a:lnTo>
                        <a:lnTo>
                          <a:pt x="156" y="67"/>
                        </a:lnTo>
                        <a:lnTo>
                          <a:pt x="145" y="33"/>
                        </a:lnTo>
                        <a:lnTo>
                          <a:pt x="134" y="0"/>
                        </a:lnTo>
                        <a:lnTo>
                          <a:pt x="123" y="11"/>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1181"/>
                  <p:cNvSpPr/>
                  <p:nvPr/>
                </p:nvSpPr>
                <p:spPr>
                  <a:xfrm rot="111600">
                    <a:off x="3057120" y="846720"/>
                    <a:ext cx="7560" cy="5760"/>
                  </a:xfrm>
                  <a:custGeom>
                    <a:avLst/>
                    <a:gdLst>
                      <a:gd name="textAreaLeft" fmla="*/ 0 w 7560"/>
                      <a:gd name="textAreaRight" fmla="*/ 7920 w 7560"/>
                      <a:gd name="textAreaTop" fmla="*/ 0 h 5760"/>
                      <a:gd name="textAreaBottom" fmla="*/ 6120 h 5760"/>
                    </a:gdLst>
                    <a:ahLst/>
                    <a:rect l="textAreaLeft" t="textAreaTop" r="textAreaRight" b="textAreaBottom"/>
                    <a:pathLst>
                      <a:path w="78" h="44">
                        <a:moveTo>
                          <a:pt x="0" y="0"/>
                        </a:moveTo>
                        <a:lnTo>
                          <a:pt x="11" y="11"/>
                        </a:lnTo>
                        <a:lnTo>
                          <a:pt x="22" y="22"/>
                        </a:lnTo>
                        <a:lnTo>
                          <a:pt x="33" y="22"/>
                        </a:lnTo>
                        <a:lnTo>
                          <a:pt x="44" y="33"/>
                        </a:lnTo>
                        <a:lnTo>
                          <a:pt x="55" y="33"/>
                        </a:lnTo>
                        <a:lnTo>
                          <a:pt x="55" y="44"/>
                        </a:lnTo>
                        <a:lnTo>
                          <a:pt x="67" y="44"/>
                        </a:lnTo>
                        <a:lnTo>
                          <a:pt x="78" y="33"/>
                        </a:lnTo>
                        <a:lnTo>
                          <a:pt x="67" y="33"/>
                        </a:lnTo>
                        <a:lnTo>
                          <a:pt x="67" y="22"/>
                        </a:lnTo>
                        <a:lnTo>
                          <a:pt x="55" y="22"/>
                        </a:lnTo>
                        <a:lnTo>
                          <a:pt x="44" y="11"/>
                        </a:lnTo>
                        <a:lnTo>
                          <a:pt x="33" y="11"/>
                        </a:lnTo>
                        <a:lnTo>
                          <a:pt x="22" y="0"/>
                        </a:lnTo>
                        <a:lnTo>
                          <a:pt x="11" y="0"/>
                        </a:lnTo>
                        <a:lnTo>
                          <a:pt x="22" y="11"/>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1180"/>
                  <p:cNvSpPr/>
                  <p:nvPr/>
                </p:nvSpPr>
                <p:spPr>
                  <a:xfrm rot="111600">
                    <a:off x="3055680" y="825480"/>
                    <a:ext cx="6480" cy="21960"/>
                  </a:xfrm>
                  <a:custGeom>
                    <a:avLst/>
                    <a:gdLst>
                      <a:gd name="textAreaLeft" fmla="*/ 0 w 6480"/>
                      <a:gd name="textAreaRight" fmla="*/ 6840 w 6480"/>
                      <a:gd name="textAreaTop" fmla="*/ 0 h 21960"/>
                      <a:gd name="textAreaBottom" fmla="*/ 22320 h 21960"/>
                    </a:gdLst>
                    <a:ahLst/>
                    <a:rect l="textAreaLeft" t="textAreaTop" r="textAreaRight" b="textAreaBottom"/>
                    <a:pathLst>
                      <a:path w="67" h="167">
                        <a:moveTo>
                          <a:pt x="0" y="0"/>
                        </a:moveTo>
                        <a:lnTo>
                          <a:pt x="0" y="11"/>
                        </a:lnTo>
                        <a:lnTo>
                          <a:pt x="23" y="22"/>
                        </a:lnTo>
                        <a:lnTo>
                          <a:pt x="34" y="44"/>
                        </a:lnTo>
                        <a:lnTo>
                          <a:pt x="45" y="55"/>
                        </a:lnTo>
                        <a:lnTo>
                          <a:pt x="56" y="66"/>
                        </a:lnTo>
                        <a:lnTo>
                          <a:pt x="56" y="89"/>
                        </a:lnTo>
                        <a:lnTo>
                          <a:pt x="45" y="111"/>
                        </a:lnTo>
                        <a:lnTo>
                          <a:pt x="45" y="133"/>
                        </a:lnTo>
                        <a:lnTo>
                          <a:pt x="23" y="156"/>
                        </a:lnTo>
                        <a:lnTo>
                          <a:pt x="45" y="167"/>
                        </a:lnTo>
                        <a:lnTo>
                          <a:pt x="56" y="133"/>
                        </a:lnTo>
                        <a:lnTo>
                          <a:pt x="67" y="111"/>
                        </a:lnTo>
                        <a:lnTo>
                          <a:pt x="67" y="89"/>
                        </a:lnTo>
                        <a:lnTo>
                          <a:pt x="67" y="66"/>
                        </a:lnTo>
                        <a:lnTo>
                          <a:pt x="56" y="55"/>
                        </a:lnTo>
                        <a:lnTo>
                          <a:pt x="45" y="33"/>
                        </a:lnTo>
                        <a:lnTo>
                          <a:pt x="23" y="11"/>
                        </a:ln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179"/>
                  <p:cNvSpPr/>
                  <p:nvPr/>
                </p:nvSpPr>
                <p:spPr>
                  <a:xfrm rot="111600">
                    <a:off x="3038040" y="792720"/>
                    <a:ext cx="23760" cy="33840"/>
                  </a:xfrm>
                  <a:custGeom>
                    <a:avLst/>
                    <a:gdLst>
                      <a:gd name="textAreaLeft" fmla="*/ 0 w 23760"/>
                      <a:gd name="textAreaRight" fmla="*/ 24120 w 23760"/>
                      <a:gd name="textAreaTop" fmla="*/ 0 h 33840"/>
                      <a:gd name="textAreaBottom" fmla="*/ 34200 h 33840"/>
                    </a:gdLst>
                    <a:ahLst/>
                    <a:rect l="textAreaLeft" t="textAreaTop" r="textAreaRight" b="textAreaBottom"/>
                    <a:pathLst>
                      <a:path w="245" h="257">
                        <a:moveTo>
                          <a:pt x="0" y="23"/>
                        </a:moveTo>
                        <a:lnTo>
                          <a:pt x="11" y="23"/>
                        </a:lnTo>
                        <a:lnTo>
                          <a:pt x="33" y="23"/>
                        </a:lnTo>
                        <a:lnTo>
                          <a:pt x="56" y="12"/>
                        </a:lnTo>
                        <a:lnTo>
                          <a:pt x="78" y="12"/>
                        </a:lnTo>
                        <a:lnTo>
                          <a:pt x="111" y="23"/>
                        </a:lnTo>
                        <a:lnTo>
                          <a:pt x="134" y="34"/>
                        </a:lnTo>
                        <a:lnTo>
                          <a:pt x="156" y="45"/>
                        </a:lnTo>
                        <a:lnTo>
                          <a:pt x="178" y="56"/>
                        </a:lnTo>
                        <a:lnTo>
                          <a:pt x="189" y="67"/>
                        </a:lnTo>
                        <a:lnTo>
                          <a:pt x="212" y="90"/>
                        </a:lnTo>
                        <a:lnTo>
                          <a:pt x="223" y="112"/>
                        </a:lnTo>
                        <a:lnTo>
                          <a:pt x="223" y="134"/>
                        </a:lnTo>
                        <a:lnTo>
                          <a:pt x="234" y="156"/>
                        </a:lnTo>
                        <a:lnTo>
                          <a:pt x="223" y="179"/>
                        </a:lnTo>
                        <a:lnTo>
                          <a:pt x="223" y="201"/>
                        </a:lnTo>
                        <a:lnTo>
                          <a:pt x="201" y="223"/>
                        </a:lnTo>
                        <a:lnTo>
                          <a:pt x="189" y="246"/>
                        </a:lnTo>
                        <a:lnTo>
                          <a:pt x="189" y="257"/>
                        </a:lnTo>
                        <a:lnTo>
                          <a:pt x="212" y="234"/>
                        </a:lnTo>
                        <a:lnTo>
                          <a:pt x="234" y="201"/>
                        </a:lnTo>
                        <a:lnTo>
                          <a:pt x="245" y="179"/>
                        </a:lnTo>
                        <a:lnTo>
                          <a:pt x="245" y="156"/>
                        </a:lnTo>
                        <a:lnTo>
                          <a:pt x="245" y="134"/>
                        </a:lnTo>
                        <a:lnTo>
                          <a:pt x="234" y="101"/>
                        </a:lnTo>
                        <a:lnTo>
                          <a:pt x="223" y="78"/>
                        </a:lnTo>
                        <a:lnTo>
                          <a:pt x="201" y="56"/>
                        </a:lnTo>
                        <a:lnTo>
                          <a:pt x="178" y="45"/>
                        </a:lnTo>
                        <a:lnTo>
                          <a:pt x="156" y="23"/>
                        </a:lnTo>
                        <a:lnTo>
                          <a:pt x="134" y="12"/>
                        </a:lnTo>
                        <a:lnTo>
                          <a:pt x="111" y="0"/>
                        </a:lnTo>
                        <a:lnTo>
                          <a:pt x="78" y="0"/>
                        </a:lnTo>
                        <a:lnTo>
                          <a:pt x="56" y="0"/>
                        </a:lnTo>
                        <a:lnTo>
                          <a:pt x="33" y="0"/>
                        </a:lnTo>
                        <a:lnTo>
                          <a:pt x="0" y="12"/>
                        </a:lnTo>
                        <a:lnTo>
                          <a:pt x="11" y="23"/>
                        </a:lnTo>
                        <a:lnTo>
                          <a:pt x="0" y="23"/>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Freeform 1178"/>
                  <p:cNvSpPr/>
                  <p:nvPr/>
                </p:nvSpPr>
                <p:spPr>
                  <a:xfrm rot="111600">
                    <a:off x="3032280" y="765360"/>
                    <a:ext cx="9720" cy="29520"/>
                  </a:xfrm>
                  <a:custGeom>
                    <a:avLst/>
                    <a:gdLst>
                      <a:gd name="textAreaLeft" fmla="*/ 0 w 9720"/>
                      <a:gd name="textAreaRight" fmla="*/ 10080 w 9720"/>
                      <a:gd name="textAreaTop" fmla="*/ 0 h 29520"/>
                      <a:gd name="textAreaBottom" fmla="*/ 29880 h 29520"/>
                    </a:gdLst>
                    <a:ahLst/>
                    <a:rect l="textAreaLeft" t="textAreaTop" r="textAreaRight" b="textAreaBottom"/>
                    <a:pathLst>
                      <a:path w="100" h="223">
                        <a:moveTo>
                          <a:pt x="0" y="11"/>
                        </a:moveTo>
                        <a:lnTo>
                          <a:pt x="0" y="11"/>
                        </a:lnTo>
                        <a:lnTo>
                          <a:pt x="33" y="22"/>
                        </a:lnTo>
                        <a:lnTo>
                          <a:pt x="56" y="33"/>
                        </a:lnTo>
                        <a:lnTo>
                          <a:pt x="78" y="55"/>
                        </a:lnTo>
                        <a:lnTo>
                          <a:pt x="78" y="78"/>
                        </a:lnTo>
                        <a:lnTo>
                          <a:pt x="89" y="100"/>
                        </a:lnTo>
                        <a:lnTo>
                          <a:pt x="89" y="145"/>
                        </a:lnTo>
                        <a:lnTo>
                          <a:pt x="78" y="178"/>
                        </a:lnTo>
                        <a:lnTo>
                          <a:pt x="67" y="223"/>
                        </a:lnTo>
                        <a:lnTo>
                          <a:pt x="78" y="223"/>
                        </a:lnTo>
                        <a:lnTo>
                          <a:pt x="89" y="178"/>
                        </a:lnTo>
                        <a:lnTo>
                          <a:pt x="100" y="145"/>
                        </a:lnTo>
                        <a:lnTo>
                          <a:pt x="100" y="100"/>
                        </a:lnTo>
                        <a:lnTo>
                          <a:pt x="100" y="67"/>
                        </a:lnTo>
                        <a:lnTo>
                          <a:pt x="89" y="44"/>
                        </a:lnTo>
                        <a:lnTo>
                          <a:pt x="67" y="22"/>
                        </a:lnTo>
                        <a:lnTo>
                          <a:pt x="33" y="11"/>
                        </a:lnTo>
                        <a:lnTo>
                          <a:pt x="0" y="0"/>
                        </a:lnTo>
                        <a:lnTo>
                          <a:pt x="0" y="11"/>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Freeform 1177"/>
                  <p:cNvSpPr/>
                  <p:nvPr/>
                </p:nvSpPr>
                <p:spPr>
                  <a:xfrm rot="111600">
                    <a:off x="3030480" y="76536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0" y="11"/>
                        </a:moveTo>
                        <a:lnTo>
                          <a:pt x="11" y="11"/>
                        </a:lnTo>
                        <a:lnTo>
                          <a:pt x="22" y="11"/>
                        </a:lnTo>
                        <a:lnTo>
                          <a:pt x="22" y="0"/>
                        </a:lnTo>
                        <a:lnTo>
                          <a:pt x="11" y="0"/>
                        </a:lnTo>
                        <a:lnTo>
                          <a:pt x="11" y="11"/>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1176"/>
                  <p:cNvSpPr/>
                  <p:nvPr/>
                </p:nvSpPr>
                <p:spPr>
                  <a:xfrm rot="111600">
                    <a:off x="2999520" y="747000"/>
                    <a:ext cx="32400" cy="19080"/>
                  </a:xfrm>
                  <a:custGeom>
                    <a:avLst/>
                    <a:gdLst>
                      <a:gd name="textAreaLeft" fmla="*/ 0 w 32400"/>
                      <a:gd name="textAreaRight" fmla="*/ 32760 w 32400"/>
                      <a:gd name="textAreaTop" fmla="*/ 0 h 19080"/>
                      <a:gd name="textAreaBottom" fmla="*/ 19440 h 19080"/>
                    </a:gdLst>
                    <a:ahLst/>
                    <a:rect l="textAreaLeft" t="textAreaTop" r="textAreaRight" b="textAreaBottom"/>
                    <a:pathLst>
                      <a:path w="334" h="145">
                        <a:moveTo>
                          <a:pt x="0" y="33"/>
                        </a:moveTo>
                        <a:lnTo>
                          <a:pt x="0" y="45"/>
                        </a:lnTo>
                        <a:lnTo>
                          <a:pt x="22" y="33"/>
                        </a:lnTo>
                        <a:lnTo>
                          <a:pt x="44" y="22"/>
                        </a:lnTo>
                        <a:lnTo>
                          <a:pt x="66" y="11"/>
                        </a:lnTo>
                        <a:lnTo>
                          <a:pt x="100" y="11"/>
                        </a:lnTo>
                        <a:lnTo>
                          <a:pt x="122" y="11"/>
                        </a:lnTo>
                        <a:lnTo>
                          <a:pt x="144" y="11"/>
                        </a:lnTo>
                        <a:lnTo>
                          <a:pt x="167" y="22"/>
                        </a:lnTo>
                        <a:lnTo>
                          <a:pt x="189" y="22"/>
                        </a:lnTo>
                        <a:lnTo>
                          <a:pt x="211" y="33"/>
                        </a:lnTo>
                        <a:lnTo>
                          <a:pt x="234" y="45"/>
                        </a:lnTo>
                        <a:lnTo>
                          <a:pt x="256" y="56"/>
                        </a:lnTo>
                        <a:lnTo>
                          <a:pt x="267" y="67"/>
                        </a:lnTo>
                        <a:lnTo>
                          <a:pt x="289" y="89"/>
                        </a:lnTo>
                        <a:lnTo>
                          <a:pt x="300" y="100"/>
                        </a:lnTo>
                        <a:lnTo>
                          <a:pt x="312" y="123"/>
                        </a:lnTo>
                        <a:lnTo>
                          <a:pt x="323" y="145"/>
                        </a:lnTo>
                        <a:lnTo>
                          <a:pt x="334" y="145"/>
                        </a:lnTo>
                        <a:lnTo>
                          <a:pt x="323" y="123"/>
                        </a:lnTo>
                        <a:lnTo>
                          <a:pt x="312" y="100"/>
                        </a:lnTo>
                        <a:lnTo>
                          <a:pt x="300" y="78"/>
                        </a:lnTo>
                        <a:lnTo>
                          <a:pt x="278" y="67"/>
                        </a:lnTo>
                        <a:lnTo>
                          <a:pt x="256" y="45"/>
                        </a:lnTo>
                        <a:lnTo>
                          <a:pt x="234" y="33"/>
                        </a:lnTo>
                        <a:lnTo>
                          <a:pt x="211" y="22"/>
                        </a:lnTo>
                        <a:lnTo>
                          <a:pt x="189" y="11"/>
                        </a:lnTo>
                        <a:lnTo>
                          <a:pt x="167" y="11"/>
                        </a:lnTo>
                        <a:lnTo>
                          <a:pt x="144" y="0"/>
                        </a:lnTo>
                        <a:lnTo>
                          <a:pt x="122" y="0"/>
                        </a:lnTo>
                        <a:lnTo>
                          <a:pt x="100" y="0"/>
                        </a:lnTo>
                        <a:lnTo>
                          <a:pt x="66" y="0"/>
                        </a:lnTo>
                        <a:lnTo>
                          <a:pt x="44" y="11"/>
                        </a:lnTo>
                        <a:lnTo>
                          <a:pt x="22" y="11"/>
                        </a:lnTo>
                        <a:lnTo>
                          <a:pt x="0" y="22"/>
                        </a:lnTo>
                        <a:lnTo>
                          <a:pt x="0" y="33"/>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Freeform 1175"/>
                  <p:cNvSpPr/>
                  <p:nvPr/>
                </p:nvSpPr>
                <p:spPr>
                  <a:xfrm rot="111600">
                    <a:off x="2985840" y="750600"/>
                    <a:ext cx="12960" cy="22320"/>
                  </a:xfrm>
                  <a:custGeom>
                    <a:avLst/>
                    <a:gdLst>
                      <a:gd name="textAreaLeft" fmla="*/ 0 w 12960"/>
                      <a:gd name="textAreaRight" fmla="*/ 13320 w 12960"/>
                      <a:gd name="textAreaTop" fmla="*/ 0 h 22320"/>
                      <a:gd name="textAreaBottom" fmla="*/ 22680 h 22320"/>
                    </a:gdLst>
                    <a:ahLst/>
                    <a:rect l="textAreaLeft" t="textAreaTop" r="textAreaRight" b="textAreaBottom"/>
                    <a:pathLst>
                      <a:path w="134" h="168">
                        <a:moveTo>
                          <a:pt x="0" y="168"/>
                        </a:moveTo>
                        <a:lnTo>
                          <a:pt x="11" y="168"/>
                        </a:lnTo>
                        <a:lnTo>
                          <a:pt x="33" y="145"/>
                        </a:lnTo>
                        <a:lnTo>
                          <a:pt x="44" y="112"/>
                        </a:lnTo>
                        <a:lnTo>
                          <a:pt x="56" y="90"/>
                        </a:lnTo>
                        <a:lnTo>
                          <a:pt x="78" y="67"/>
                        </a:lnTo>
                        <a:lnTo>
                          <a:pt x="89" y="45"/>
                        </a:lnTo>
                        <a:lnTo>
                          <a:pt x="111" y="34"/>
                        </a:lnTo>
                        <a:lnTo>
                          <a:pt x="122" y="23"/>
                        </a:lnTo>
                        <a:lnTo>
                          <a:pt x="134" y="0"/>
                        </a:lnTo>
                        <a:lnTo>
                          <a:pt x="111" y="12"/>
                        </a:lnTo>
                        <a:lnTo>
                          <a:pt x="100" y="23"/>
                        </a:lnTo>
                        <a:lnTo>
                          <a:pt x="78" y="34"/>
                        </a:lnTo>
                        <a:lnTo>
                          <a:pt x="67" y="56"/>
                        </a:lnTo>
                        <a:lnTo>
                          <a:pt x="56" y="78"/>
                        </a:lnTo>
                        <a:lnTo>
                          <a:pt x="33" y="112"/>
                        </a:lnTo>
                        <a:lnTo>
                          <a:pt x="22" y="134"/>
                        </a:lnTo>
                        <a:lnTo>
                          <a:pt x="0" y="168"/>
                        </a:lnTo>
                        <a:lnTo>
                          <a:pt x="11" y="168"/>
                        </a:lnTo>
                        <a:lnTo>
                          <a:pt x="0" y="168"/>
                        </a:lnTo>
                        <a:close/>
                      </a:path>
                    </a:pathLst>
                  </a:custGeom>
                  <a:solidFill>
                    <a:srgbClr val="000000"/>
                  </a:solidFill>
                  <a:ln w="0">
                    <a:noFill/>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Freeform 1174"/>
                  <p:cNvSpPr/>
                  <p:nvPr/>
                </p:nvSpPr>
                <p:spPr>
                  <a:xfrm rot="111600">
                    <a:off x="2767320" y="1176480"/>
                    <a:ext cx="174240" cy="228240"/>
                  </a:xfrm>
                  <a:custGeom>
                    <a:avLst/>
                    <a:gdLst>
                      <a:gd name="textAreaLeft" fmla="*/ 0 w 174240"/>
                      <a:gd name="textAreaRight" fmla="*/ 174600 w 174240"/>
                      <a:gd name="textAreaTop" fmla="*/ 0 h 228240"/>
                      <a:gd name="textAreaBottom" fmla="*/ 228600 h 228240"/>
                    </a:gdLst>
                    <a:ahLst/>
                    <a:rect l="textAreaLeft" t="textAreaTop" r="textAreaRight" b="textAreaBottom"/>
                    <a:pathLst>
                      <a:path w="1783" h="1716">
                        <a:moveTo>
                          <a:pt x="658" y="22"/>
                        </a:moveTo>
                        <a:lnTo>
                          <a:pt x="680" y="11"/>
                        </a:lnTo>
                        <a:lnTo>
                          <a:pt x="713" y="11"/>
                        </a:lnTo>
                        <a:lnTo>
                          <a:pt x="747" y="0"/>
                        </a:lnTo>
                        <a:lnTo>
                          <a:pt x="780" y="0"/>
                        </a:lnTo>
                        <a:lnTo>
                          <a:pt x="802" y="0"/>
                        </a:lnTo>
                        <a:lnTo>
                          <a:pt x="836" y="0"/>
                        </a:lnTo>
                        <a:lnTo>
                          <a:pt x="869" y="0"/>
                        </a:lnTo>
                        <a:lnTo>
                          <a:pt x="903" y="0"/>
                        </a:lnTo>
                        <a:lnTo>
                          <a:pt x="936" y="11"/>
                        </a:lnTo>
                        <a:lnTo>
                          <a:pt x="958" y="11"/>
                        </a:lnTo>
                        <a:lnTo>
                          <a:pt x="992" y="22"/>
                        </a:lnTo>
                        <a:lnTo>
                          <a:pt x="1025" y="33"/>
                        </a:lnTo>
                        <a:lnTo>
                          <a:pt x="1059" y="44"/>
                        </a:lnTo>
                        <a:lnTo>
                          <a:pt x="1081" y="55"/>
                        </a:lnTo>
                        <a:lnTo>
                          <a:pt x="1114" y="67"/>
                        </a:lnTo>
                        <a:lnTo>
                          <a:pt x="1148" y="78"/>
                        </a:lnTo>
                        <a:lnTo>
                          <a:pt x="1170" y="89"/>
                        </a:lnTo>
                        <a:lnTo>
                          <a:pt x="1204" y="111"/>
                        </a:lnTo>
                        <a:lnTo>
                          <a:pt x="1237" y="122"/>
                        </a:lnTo>
                        <a:lnTo>
                          <a:pt x="1259" y="145"/>
                        </a:lnTo>
                        <a:lnTo>
                          <a:pt x="1293" y="156"/>
                        </a:lnTo>
                        <a:lnTo>
                          <a:pt x="1315" y="178"/>
                        </a:lnTo>
                        <a:lnTo>
                          <a:pt x="1337" y="200"/>
                        </a:lnTo>
                        <a:lnTo>
                          <a:pt x="1371" y="223"/>
                        </a:lnTo>
                        <a:lnTo>
                          <a:pt x="1393" y="245"/>
                        </a:lnTo>
                        <a:lnTo>
                          <a:pt x="1415" y="267"/>
                        </a:lnTo>
                        <a:lnTo>
                          <a:pt x="1438" y="301"/>
                        </a:lnTo>
                        <a:lnTo>
                          <a:pt x="1460" y="323"/>
                        </a:lnTo>
                        <a:lnTo>
                          <a:pt x="1482" y="345"/>
                        </a:lnTo>
                        <a:lnTo>
                          <a:pt x="1505" y="379"/>
                        </a:lnTo>
                        <a:lnTo>
                          <a:pt x="1516" y="412"/>
                        </a:lnTo>
                        <a:lnTo>
                          <a:pt x="1538" y="434"/>
                        </a:lnTo>
                        <a:lnTo>
                          <a:pt x="1560" y="445"/>
                        </a:lnTo>
                        <a:lnTo>
                          <a:pt x="1583" y="445"/>
                        </a:lnTo>
                        <a:lnTo>
                          <a:pt x="1605" y="457"/>
                        </a:lnTo>
                        <a:lnTo>
                          <a:pt x="1627" y="457"/>
                        </a:lnTo>
                        <a:lnTo>
                          <a:pt x="1649" y="468"/>
                        </a:lnTo>
                        <a:lnTo>
                          <a:pt x="1672" y="479"/>
                        </a:lnTo>
                        <a:lnTo>
                          <a:pt x="1683" y="490"/>
                        </a:lnTo>
                        <a:lnTo>
                          <a:pt x="1705" y="501"/>
                        </a:lnTo>
                        <a:lnTo>
                          <a:pt x="1716" y="512"/>
                        </a:lnTo>
                        <a:lnTo>
                          <a:pt x="1727" y="523"/>
                        </a:lnTo>
                        <a:lnTo>
                          <a:pt x="1739" y="535"/>
                        </a:lnTo>
                        <a:lnTo>
                          <a:pt x="1750" y="546"/>
                        </a:lnTo>
                        <a:lnTo>
                          <a:pt x="1761" y="557"/>
                        </a:lnTo>
                        <a:lnTo>
                          <a:pt x="1772" y="568"/>
                        </a:lnTo>
                        <a:lnTo>
                          <a:pt x="1783" y="590"/>
                        </a:lnTo>
                        <a:lnTo>
                          <a:pt x="1783" y="601"/>
                        </a:lnTo>
                        <a:lnTo>
                          <a:pt x="1783" y="635"/>
                        </a:lnTo>
                        <a:lnTo>
                          <a:pt x="1783" y="668"/>
                        </a:lnTo>
                        <a:lnTo>
                          <a:pt x="1772" y="702"/>
                        </a:lnTo>
                        <a:lnTo>
                          <a:pt x="1761" y="724"/>
                        </a:lnTo>
                        <a:lnTo>
                          <a:pt x="1739" y="758"/>
                        </a:lnTo>
                        <a:lnTo>
                          <a:pt x="1716" y="780"/>
                        </a:lnTo>
                        <a:lnTo>
                          <a:pt x="1683" y="802"/>
                        </a:lnTo>
                        <a:lnTo>
                          <a:pt x="1649" y="824"/>
                        </a:lnTo>
                        <a:lnTo>
                          <a:pt x="1661" y="902"/>
                        </a:lnTo>
                        <a:lnTo>
                          <a:pt x="1661" y="969"/>
                        </a:lnTo>
                        <a:lnTo>
                          <a:pt x="1661" y="1047"/>
                        </a:lnTo>
                        <a:lnTo>
                          <a:pt x="1649" y="1114"/>
                        </a:lnTo>
                        <a:lnTo>
                          <a:pt x="1627" y="1192"/>
                        </a:lnTo>
                        <a:lnTo>
                          <a:pt x="1605" y="1259"/>
                        </a:lnTo>
                        <a:lnTo>
                          <a:pt x="1571" y="1315"/>
                        </a:lnTo>
                        <a:lnTo>
                          <a:pt x="1538" y="1382"/>
                        </a:lnTo>
                        <a:lnTo>
                          <a:pt x="1493" y="1437"/>
                        </a:lnTo>
                        <a:lnTo>
                          <a:pt x="1449" y="1493"/>
                        </a:lnTo>
                        <a:lnTo>
                          <a:pt x="1404" y="1538"/>
                        </a:lnTo>
                        <a:lnTo>
                          <a:pt x="1349" y="1582"/>
                        </a:lnTo>
                        <a:lnTo>
                          <a:pt x="1282" y="1616"/>
                        </a:lnTo>
                        <a:lnTo>
                          <a:pt x="1226" y="1649"/>
                        </a:lnTo>
                        <a:lnTo>
                          <a:pt x="1159" y="1683"/>
                        </a:lnTo>
                        <a:lnTo>
                          <a:pt x="1092" y="1705"/>
                        </a:lnTo>
                        <a:lnTo>
                          <a:pt x="1059" y="1705"/>
                        </a:lnTo>
                        <a:lnTo>
                          <a:pt x="1025" y="1716"/>
                        </a:lnTo>
                        <a:lnTo>
                          <a:pt x="992" y="1716"/>
                        </a:lnTo>
                        <a:lnTo>
                          <a:pt x="958" y="1716"/>
                        </a:lnTo>
                        <a:lnTo>
                          <a:pt x="925" y="1716"/>
                        </a:lnTo>
                        <a:lnTo>
                          <a:pt x="892" y="1716"/>
                        </a:lnTo>
                        <a:lnTo>
                          <a:pt x="858" y="1716"/>
                        </a:lnTo>
                        <a:lnTo>
                          <a:pt x="825" y="1705"/>
                        </a:lnTo>
                        <a:lnTo>
                          <a:pt x="791" y="1705"/>
                        </a:lnTo>
                        <a:lnTo>
                          <a:pt x="758" y="1694"/>
                        </a:lnTo>
                        <a:lnTo>
                          <a:pt x="724" y="1683"/>
                        </a:lnTo>
                        <a:lnTo>
                          <a:pt x="691" y="1671"/>
                        </a:lnTo>
                        <a:lnTo>
                          <a:pt x="658" y="1660"/>
                        </a:lnTo>
                        <a:lnTo>
                          <a:pt x="635" y="1649"/>
                        </a:lnTo>
                        <a:lnTo>
                          <a:pt x="602" y="1638"/>
                        </a:lnTo>
                        <a:lnTo>
                          <a:pt x="568" y="1616"/>
                        </a:lnTo>
                        <a:lnTo>
                          <a:pt x="535" y="1593"/>
                        </a:lnTo>
                        <a:lnTo>
                          <a:pt x="513" y="1582"/>
                        </a:lnTo>
                        <a:lnTo>
                          <a:pt x="479" y="1560"/>
                        </a:lnTo>
                        <a:lnTo>
                          <a:pt x="457" y="1538"/>
                        </a:lnTo>
                        <a:lnTo>
                          <a:pt x="423" y="1504"/>
                        </a:lnTo>
                        <a:lnTo>
                          <a:pt x="401" y="1482"/>
                        </a:lnTo>
                        <a:lnTo>
                          <a:pt x="379" y="1460"/>
                        </a:lnTo>
                        <a:lnTo>
                          <a:pt x="357" y="1426"/>
                        </a:lnTo>
                        <a:lnTo>
                          <a:pt x="334" y="1404"/>
                        </a:lnTo>
                        <a:lnTo>
                          <a:pt x="312" y="1371"/>
                        </a:lnTo>
                        <a:lnTo>
                          <a:pt x="290" y="1337"/>
                        </a:lnTo>
                        <a:lnTo>
                          <a:pt x="267" y="1304"/>
                        </a:lnTo>
                        <a:lnTo>
                          <a:pt x="256" y="1270"/>
                        </a:lnTo>
                        <a:lnTo>
                          <a:pt x="234" y="1237"/>
                        </a:lnTo>
                        <a:lnTo>
                          <a:pt x="223" y="1192"/>
                        </a:lnTo>
                        <a:lnTo>
                          <a:pt x="201" y="1159"/>
                        </a:lnTo>
                        <a:lnTo>
                          <a:pt x="167" y="1159"/>
                        </a:lnTo>
                        <a:lnTo>
                          <a:pt x="145" y="1148"/>
                        </a:lnTo>
                        <a:lnTo>
                          <a:pt x="111" y="1136"/>
                        </a:lnTo>
                        <a:lnTo>
                          <a:pt x="78" y="1125"/>
                        </a:lnTo>
                        <a:lnTo>
                          <a:pt x="56" y="1103"/>
                        </a:lnTo>
                        <a:lnTo>
                          <a:pt x="33" y="1081"/>
                        </a:lnTo>
                        <a:lnTo>
                          <a:pt x="22" y="1058"/>
                        </a:lnTo>
                        <a:lnTo>
                          <a:pt x="11" y="1025"/>
                        </a:lnTo>
                        <a:lnTo>
                          <a:pt x="0" y="980"/>
                        </a:lnTo>
                        <a:lnTo>
                          <a:pt x="0" y="936"/>
                        </a:lnTo>
                        <a:lnTo>
                          <a:pt x="11" y="902"/>
                        </a:lnTo>
                        <a:lnTo>
                          <a:pt x="22" y="869"/>
                        </a:lnTo>
                        <a:lnTo>
                          <a:pt x="45" y="824"/>
                        </a:lnTo>
                        <a:lnTo>
                          <a:pt x="78" y="791"/>
                        </a:lnTo>
                        <a:lnTo>
                          <a:pt x="111" y="758"/>
                        </a:lnTo>
                        <a:lnTo>
                          <a:pt x="156" y="724"/>
                        </a:lnTo>
                        <a:lnTo>
                          <a:pt x="156" y="668"/>
                        </a:lnTo>
                        <a:lnTo>
                          <a:pt x="167" y="601"/>
                        </a:lnTo>
                        <a:lnTo>
                          <a:pt x="189" y="546"/>
                        </a:lnTo>
                        <a:lnTo>
                          <a:pt x="201" y="490"/>
                        </a:lnTo>
                        <a:lnTo>
                          <a:pt x="223" y="423"/>
                        </a:lnTo>
                        <a:lnTo>
                          <a:pt x="245" y="379"/>
                        </a:lnTo>
                        <a:lnTo>
                          <a:pt x="279" y="323"/>
                        </a:lnTo>
                        <a:lnTo>
                          <a:pt x="312" y="278"/>
                        </a:lnTo>
                        <a:lnTo>
                          <a:pt x="345" y="223"/>
                        </a:lnTo>
                        <a:lnTo>
                          <a:pt x="379" y="189"/>
                        </a:lnTo>
                        <a:lnTo>
                          <a:pt x="412" y="145"/>
                        </a:lnTo>
                        <a:lnTo>
                          <a:pt x="457" y="111"/>
                        </a:lnTo>
                        <a:lnTo>
                          <a:pt x="501" y="78"/>
                        </a:lnTo>
                        <a:lnTo>
                          <a:pt x="546" y="55"/>
                        </a:lnTo>
                        <a:lnTo>
                          <a:pt x="602" y="33"/>
                        </a:lnTo>
                        <a:lnTo>
                          <a:pt x="658" y="22"/>
                        </a:lnTo>
                        <a:close/>
                      </a:path>
                    </a:pathLst>
                  </a:custGeom>
                  <a:solidFill>
                    <a:srgbClr val="ffd6a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1173"/>
                  <p:cNvSpPr/>
                  <p:nvPr/>
                </p:nvSpPr>
                <p:spPr>
                  <a:xfrm rot="111600">
                    <a:off x="2833200" y="1175400"/>
                    <a:ext cx="88200" cy="60480"/>
                  </a:xfrm>
                  <a:custGeom>
                    <a:avLst/>
                    <a:gdLst>
                      <a:gd name="textAreaLeft" fmla="*/ 0 w 88200"/>
                      <a:gd name="textAreaRight" fmla="*/ 88560 w 88200"/>
                      <a:gd name="textAreaTop" fmla="*/ 0 h 60480"/>
                      <a:gd name="textAreaBottom" fmla="*/ 60840 h 60480"/>
                    </a:gdLst>
                    <a:ahLst/>
                    <a:rect l="textAreaLeft" t="textAreaTop" r="textAreaRight" b="textAreaBottom"/>
                    <a:pathLst>
                      <a:path w="903" h="457">
                        <a:moveTo>
                          <a:pt x="892" y="435"/>
                        </a:moveTo>
                        <a:lnTo>
                          <a:pt x="903" y="446"/>
                        </a:lnTo>
                        <a:lnTo>
                          <a:pt x="881" y="413"/>
                        </a:lnTo>
                        <a:lnTo>
                          <a:pt x="870" y="379"/>
                        </a:lnTo>
                        <a:lnTo>
                          <a:pt x="847" y="357"/>
                        </a:lnTo>
                        <a:lnTo>
                          <a:pt x="825" y="324"/>
                        </a:lnTo>
                        <a:lnTo>
                          <a:pt x="803" y="301"/>
                        </a:lnTo>
                        <a:lnTo>
                          <a:pt x="781" y="279"/>
                        </a:lnTo>
                        <a:lnTo>
                          <a:pt x="747" y="257"/>
                        </a:lnTo>
                        <a:lnTo>
                          <a:pt x="725" y="223"/>
                        </a:lnTo>
                        <a:lnTo>
                          <a:pt x="703" y="212"/>
                        </a:lnTo>
                        <a:lnTo>
                          <a:pt x="669" y="190"/>
                        </a:lnTo>
                        <a:lnTo>
                          <a:pt x="647" y="168"/>
                        </a:lnTo>
                        <a:lnTo>
                          <a:pt x="625" y="145"/>
                        </a:lnTo>
                        <a:lnTo>
                          <a:pt x="591" y="123"/>
                        </a:lnTo>
                        <a:lnTo>
                          <a:pt x="558" y="112"/>
                        </a:lnTo>
                        <a:lnTo>
                          <a:pt x="535" y="90"/>
                        </a:lnTo>
                        <a:lnTo>
                          <a:pt x="502" y="79"/>
                        </a:lnTo>
                        <a:lnTo>
                          <a:pt x="468" y="67"/>
                        </a:lnTo>
                        <a:lnTo>
                          <a:pt x="446" y="56"/>
                        </a:lnTo>
                        <a:lnTo>
                          <a:pt x="413" y="45"/>
                        </a:lnTo>
                        <a:lnTo>
                          <a:pt x="379" y="34"/>
                        </a:lnTo>
                        <a:lnTo>
                          <a:pt x="346" y="23"/>
                        </a:lnTo>
                        <a:lnTo>
                          <a:pt x="312" y="23"/>
                        </a:lnTo>
                        <a:lnTo>
                          <a:pt x="290" y="12"/>
                        </a:lnTo>
                        <a:lnTo>
                          <a:pt x="257" y="0"/>
                        </a:lnTo>
                        <a:lnTo>
                          <a:pt x="223" y="0"/>
                        </a:lnTo>
                        <a:lnTo>
                          <a:pt x="190" y="0"/>
                        </a:lnTo>
                        <a:lnTo>
                          <a:pt x="156" y="0"/>
                        </a:lnTo>
                        <a:lnTo>
                          <a:pt x="123" y="0"/>
                        </a:lnTo>
                        <a:lnTo>
                          <a:pt x="101" y="0"/>
                        </a:lnTo>
                        <a:lnTo>
                          <a:pt x="67" y="12"/>
                        </a:lnTo>
                        <a:lnTo>
                          <a:pt x="34" y="12"/>
                        </a:lnTo>
                        <a:lnTo>
                          <a:pt x="0" y="23"/>
                        </a:lnTo>
                        <a:lnTo>
                          <a:pt x="12" y="45"/>
                        </a:lnTo>
                        <a:lnTo>
                          <a:pt x="45" y="34"/>
                        </a:lnTo>
                        <a:lnTo>
                          <a:pt x="67" y="23"/>
                        </a:lnTo>
                        <a:lnTo>
                          <a:pt x="101" y="23"/>
                        </a:lnTo>
                        <a:lnTo>
                          <a:pt x="134" y="23"/>
                        </a:lnTo>
                        <a:lnTo>
                          <a:pt x="168" y="23"/>
                        </a:lnTo>
                        <a:lnTo>
                          <a:pt x="190" y="23"/>
                        </a:lnTo>
                        <a:lnTo>
                          <a:pt x="223" y="23"/>
                        </a:lnTo>
                        <a:lnTo>
                          <a:pt x="257" y="23"/>
                        </a:lnTo>
                        <a:lnTo>
                          <a:pt x="279" y="34"/>
                        </a:lnTo>
                        <a:lnTo>
                          <a:pt x="312" y="34"/>
                        </a:lnTo>
                        <a:lnTo>
                          <a:pt x="346" y="45"/>
                        </a:lnTo>
                        <a:lnTo>
                          <a:pt x="379" y="56"/>
                        </a:lnTo>
                        <a:lnTo>
                          <a:pt x="402" y="67"/>
                        </a:lnTo>
                        <a:lnTo>
                          <a:pt x="435" y="79"/>
                        </a:lnTo>
                        <a:lnTo>
                          <a:pt x="468" y="90"/>
                        </a:lnTo>
                        <a:lnTo>
                          <a:pt x="491" y="101"/>
                        </a:lnTo>
                        <a:lnTo>
                          <a:pt x="524" y="112"/>
                        </a:lnTo>
                        <a:lnTo>
                          <a:pt x="558" y="123"/>
                        </a:lnTo>
                        <a:lnTo>
                          <a:pt x="580" y="145"/>
                        </a:lnTo>
                        <a:lnTo>
                          <a:pt x="613" y="157"/>
                        </a:lnTo>
                        <a:lnTo>
                          <a:pt x="636" y="179"/>
                        </a:lnTo>
                        <a:lnTo>
                          <a:pt x="669" y="201"/>
                        </a:lnTo>
                        <a:lnTo>
                          <a:pt x="691" y="223"/>
                        </a:lnTo>
                        <a:lnTo>
                          <a:pt x="714" y="246"/>
                        </a:lnTo>
                        <a:lnTo>
                          <a:pt x="736" y="268"/>
                        </a:lnTo>
                        <a:lnTo>
                          <a:pt x="758" y="290"/>
                        </a:lnTo>
                        <a:lnTo>
                          <a:pt x="781" y="313"/>
                        </a:lnTo>
                        <a:lnTo>
                          <a:pt x="803" y="335"/>
                        </a:lnTo>
                        <a:lnTo>
                          <a:pt x="825" y="368"/>
                        </a:lnTo>
                        <a:lnTo>
                          <a:pt x="847" y="391"/>
                        </a:lnTo>
                        <a:lnTo>
                          <a:pt x="870" y="424"/>
                        </a:lnTo>
                        <a:lnTo>
                          <a:pt x="881" y="457"/>
                        </a:lnTo>
                        <a:lnTo>
                          <a:pt x="892" y="457"/>
                        </a:lnTo>
                        <a:lnTo>
                          <a:pt x="892" y="435"/>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1172"/>
                  <p:cNvSpPr/>
                  <p:nvPr/>
                </p:nvSpPr>
                <p:spPr>
                  <a:xfrm rot="111600">
                    <a:off x="2918880" y="1235520"/>
                    <a:ext cx="24840" cy="23400"/>
                  </a:xfrm>
                  <a:custGeom>
                    <a:avLst/>
                    <a:gdLst>
                      <a:gd name="textAreaLeft" fmla="*/ 0 w 24840"/>
                      <a:gd name="textAreaRight" fmla="*/ 25200 w 24840"/>
                      <a:gd name="textAreaTop" fmla="*/ 0 h 23400"/>
                      <a:gd name="textAreaBottom" fmla="*/ 23760 h 23400"/>
                    </a:gdLst>
                    <a:ahLst/>
                    <a:rect l="textAreaLeft" t="textAreaTop" r="textAreaRight" b="textAreaBottom"/>
                    <a:pathLst>
                      <a:path w="256" h="178">
                        <a:moveTo>
                          <a:pt x="256" y="178"/>
                        </a:moveTo>
                        <a:lnTo>
                          <a:pt x="256" y="178"/>
                        </a:lnTo>
                        <a:lnTo>
                          <a:pt x="245" y="156"/>
                        </a:lnTo>
                        <a:lnTo>
                          <a:pt x="245" y="145"/>
                        </a:lnTo>
                        <a:lnTo>
                          <a:pt x="234" y="134"/>
                        </a:lnTo>
                        <a:lnTo>
                          <a:pt x="223" y="123"/>
                        </a:lnTo>
                        <a:lnTo>
                          <a:pt x="212" y="100"/>
                        </a:lnTo>
                        <a:lnTo>
                          <a:pt x="201" y="89"/>
                        </a:lnTo>
                        <a:lnTo>
                          <a:pt x="178" y="78"/>
                        </a:lnTo>
                        <a:lnTo>
                          <a:pt x="167" y="67"/>
                        </a:lnTo>
                        <a:lnTo>
                          <a:pt x="145" y="56"/>
                        </a:lnTo>
                        <a:lnTo>
                          <a:pt x="134" y="45"/>
                        </a:lnTo>
                        <a:lnTo>
                          <a:pt x="111" y="34"/>
                        </a:lnTo>
                        <a:lnTo>
                          <a:pt x="89" y="34"/>
                        </a:lnTo>
                        <a:lnTo>
                          <a:pt x="67" y="22"/>
                        </a:lnTo>
                        <a:lnTo>
                          <a:pt x="45" y="11"/>
                        </a:lnTo>
                        <a:lnTo>
                          <a:pt x="22" y="11"/>
                        </a:lnTo>
                        <a:lnTo>
                          <a:pt x="0" y="0"/>
                        </a:lnTo>
                        <a:lnTo>
                          <a:pt x="0" y="22"/>
                        </a:lnTo>
                        <a:lnTo>
                          <a:pt x="22" y="34"/>
                        </a:lnTo>
                        <a:lnTo>
                          <a:pt x="45" y="34"/>
                        </a:lnTo>
                        <a:lnTo>
                          <a:pt x="67" y="45"/>
                        </a:lnTo>
                        <a:lnTo>
                          <a:pt x="89" y="45"/>
                        </a:lnTo>
                        <a:lnTo>
                          <a:pt x="111" y="56"/>
                        </a:lnTo>
                        <a:lnTo>
                          <a:pt x="123" y="67"/>
                        </a:lnTo>
                        <a:lnTo>
                          <a:pt x="145" y="78"/>
                        </a:lnTo>
                        <a:lnTo>
                          <a:pt x="156" y="78"/>
                        </a:lnTo>
                        <a:lnTo>
                          <a:pt x="178" y="100"/>
                        </a:lnTo>
                        <a:lnTo>
                          <a:pt x="189" y="100"/>
                        </a:lnTo>
                        <a:lnTo>
                          <a:pt x="201" y="112"/>
                        </a:lnTo>
                        <a:lnTo>
                          <a:pt x="212" y="134"/>
                        </a:lnTo>
                        <a:lnTo>
                          <a:pt x="212" y="145"/>
                        </a:lnTo>
                        <a:lnTo>
                          <a:pt x="223" y="156"/>
                        </a:lnTo>
                        <a:lnTo>
                          <a:pt x="234" y="167"/>
                        </a:lnTo>
                        <a:lnTo>
                          <a:pt x="234" y="178"/>
                        </a:lnTo>
                        <a:lnTo>
                          <a:pt x="256" y="178"/>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1171"/>
                  <p:cNvSpPr/>
                  <p:nvPr/>
                </p:nvSpPr>
                <p:spPr>
                  <a:xfrm rot="111600">
                    <a:off x="2927880" y="1259280"/>
                    <a:ext cx="15120" cy="30960"/>
                  </a:xfrm>
                  <a:custGeom>
                    <a:avLst/>
                    <a:gdLst>
                      <a:gd name="textAreaLeft" fmla="*/ 0 w 15120"/>
                      <a:gd name="textAreaRight" fmla="*/ 15480 w 15120"/>
                      <a:gd name="textAreaTop" fmla="*/ 0 h 30960"/>
                      <a:gd name="textAreaBottom" fmla="*/ 31320 h 30960"/>
                    </a:gdLst>
                    <a:ahLst/>
                    <a:rect l="textAreaLeft" t="textAreaTop" r="textAreaRight" b="textAreaBottom"/>
                    <a:pathLst>
                      <a:path w="156" h="235">
                        <a:moveTo>
                          <a:pt x="23" y="223"/>
                        </a:moveTo>
                        <a:lnTo>
                          <a:pt x="11" y="235"/>
                        </a:lnTo>
                        <a:lnTo>
                          <a:pt x="56" y="212"/>
                        </a:lnTo>
                        <a:lnTo>
                          <a:pt x="89" y="190"/>
                        </a:lnTo>
                        <a:lnTo>
                          <a:pt x="112" y="157"/>
                        </a:lnTo>
                        <a:lnTo>
                          <a:pt x="134" y="134"/>
                        </a:lnTo>
                        <a:lnTo>
                          <a:pt x="145" y="101"/>
                        </a:lnTo>
                        <a:lnTo>
                          <a:pt x="156" y="67"/>
                        </a:lnTo>
                        <a:lnTo>
                          <a:pt x="156" y="34"/>
                        </a:lnTo>
                        <a:lnTo>
                          <a:pt x="156" y="0"/>
                        </a:lnTo>
                        <a:lnTo>
                          <a:pt x="134" y="0"/>
                        </a:lnTo>
                        <a:lnTo>
                          <a:pt x="134" y="34"/>
                        </a:lnTo>
                        <a:lnTo>
                          <a:pt x="134" y="67"/>
                        </a:lnTo>
                        <a:lnTo>
                          <a:pt x="123" y="90"/>
                        </a:lnTo>
                        <a:lnTo>
                          <a:pt x="112" y="123"/>
                        </a:lnTo>
                        <a:lnTo>
                          <a:pt x="101" y="145"/>
                        </a:lnTo>
                        <a:lnTo>
                          <a:pt x="67" y="168"/>
                        </a:lnTo>
                        <a:lnTo>
                          <a:pt x="45" y="190"/>
                        </a:lnTo>
                        <a:lnTo>
                          <a:pt x="0" y="212"/>
                        </a:lnTo>
                        <a:lnTo>
                          <a:pt x="0" y="223"/>
                        </a:lnTo>
                        <a:lnTo>
                          <a:pt x="23" y="223"/>
                        </a:lnTo>
                        <a:close/>
                      </a:path>
                    </a:pathLst>
                  </a:custGeom>
                  <a:solidFill>
                    <a:srgbClr val="000000"/>
                  </a:solidFill>
                  <a:ln w="0">
                    <a:noFill/>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Freeform 1170"/>
                  <p:cNvSpPr/>
                  <p:nvPr/>
                </p:nvSpPr>
                <p:spPr>
                  <a:xfrm rot="111600">
                    <a:off x="2872080" y="1288080"/>
                    <a:ext cx="56520" cy="117000"/>
                  </a:xfrm>
                  <a:custGeom>
                    <a:avLst/>
                    <a:gdLst>
                      <a:gd name="textAreaLeft" fmla="*/ 0 w 56520"/>
                      <a:gd name="textAreaRight" fmla="*/ 56880 w 56520"/>
                      <a:gd name="textAreaTop" fmla="*/ 0 h 117000"/>
                      <a:gd name="textAreaBottom" fmla="*/ 117360 h 117000"/>
                    </a:gdLst>
                    <a:ahLst/>
                    <a:rect l="textAreaLeft" t="textAreaTop" r="textAreaRight" b="textAreaBottom"/>
                    <a:pathLst>
                      <a:path w="580" h="881">
                        <a:moveTo>
                          <a:pt x="0" y="881"/>
                        </a:moveTo>
                        <a:lnTo>
                          <a:pt x="0" y="881"/>
                        </a:lnTo>
                        <a:lnTo>
                          <a:pt x="67" y="870"/>
                        </a:lnTo>
                        <a:lnTo>
                          <a:pt x="134" y="836"/>
                        </a:lnTo>
                        <a:lnTo>
                          <a:pt x="201" y="803"/>
                        </a:lnTo>
                        <a:lnTo>
                          <a:pt x="257" y="769"/>
                        </a:lnTo>
                        <a:lnTo>
                          <a:pt x="312" y="725"/>
                        </a:lnTo>
                        <a:lnTo>
                          <a:pt x="368" y="669"/>
                        </a:lnTo>
                        <a:lnTo>
                          <a:pt x="413" y="613"/>
                        </a:lnTo>
                        <a:lnTo>
                          <a:pt x="457" y="558"/>
                        </a:lnTo>
                        <a:lnTo>
                          <a:pt x="491" y="502"/>
                        </a:lnTo>
                        <a:lnTo>
                          <a:pt x="524" y="435"/>
                        </a:lnTo>
                        <a:lnTo>
                          <a:pt x="546" y="368"/>
                        </a:lnTo>
                        <a:lnTo>
                          <a:pt x="557" y="301"/>
                        </a:lnTo>
                        <a:lnTo>
                          <a:pt x="580" y="223"/>
                        </a:lnTo>
                        <a:lnTo>
                          <a:pt x="580" y="145"/>
                        </a:lnTo>
                        <a:lnTo>
                          <a:pt x="580" y="78"/>
                        </a:lnTo>
                        <a:lnTo>
                          <a:pt x="569" y="0"/>
                        </a:lnTo>
                        <a:lnTo>
                          <a:pt x="546" y="0"/>
                        </a:lnTo>
                        <a:lnTo>
                          <a:pt x="557" y="78"/>
                        </a:lnTo>
                        <a:lnTo>
                          <a:pt x="557" y="145"/>
                        </a:lnTo>
                        <a:lnTo>
                          <a:pt x="557" y="223"/>
                        </a:lnTo>
                        <a:lnTo>
                          <a:pt x="546" y="290"/>
                        </a:lnTo>
                        <a:lnTo>
                          <a:pt x="524" y="357"/>
                        </a:lnTo>
                        <a:lnTo>
                          <a:pt x="502" y="424"/>
                        </a:lnTo>
                        <a:lnTo>
                          <a:pt x="468" y="491"/>
                        </a:lnTo>
                        <a:lnTo>
                          <a:pt x="435" y="547"/>
                        </a:lnTo>
                        <a:lnTo>
                          <a:pt x="390" y="602"/>
                        </a:lnTo>
                        <a:lnTo>
                          <a:pt x="346" y="658"/>
                        </a:lnTo>
                        <a:lnTo>
                          <a:pt x="301" y="703"/>
                        </a:lnTo>
                        <a:lnTo>
                          <a:pt x="245" y="747"/>
                        </a:lnTo>
                        <a:lnTo>
                          <a:pt x="190" y="781"/>
                        </a:lnTo>
                        <a:lnTo>
                          <a:pt x="123" y="814"/>
                        </a:lnTo>
                        <a:lnTo>
                          <a:pt x="67" y="847"/>
                        </a:lnTo>
                        <a:lnTo>
                          <a:pt x="0" y="870"/>
                        </a:lnTo>
                        <a:lnTo>
                          <a:pt x="0" y="88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1169"/>
                  <p:cNvSpPr/>
                  <p:nvPr/>
                </p:nvSpPr>
                <p:spPr>
                  <a:xfrm rot="111600">
                    <a:off x="2784240" y="1328400"/>
                    <a:ext cx="86760" cy="77040"/>
                  </a:xfrm>
                  <a:custGeom>
                    <a:avLst/>
                    <a:gdLst>
                      <a:gd name="textAreaLeft" fmla="*/ 0 w 86760"/>
                      <a:gd name="textAreaRight" fmla="*/ 87120 w 86760"/>
                      <a:gd name="textAreaTop" fmla="*/ 0 h 77040"/>
                      <a:gd name="textAreaBottom" fmla="*/ 77400 h 77040"/>
                    </a:gdLst>
                    <a:ahLst/>
                    <a:rect l="textAreaLeft" t="textAreaTop" r="textAreaRight" b="textAreaBottom"/>
                    <a:pathLst>
                      <a:path w="891" h="579">
                        <a:moveTo>
                          <a:pt x="11" y="22"/>
                        </a:moveTo>
                        <a:lnTo>
                          <a:pt x="0" y="11"/>
                        </a:lnTo>
                        <a:lnTo>
                          <a:pt x="11" y="55"/>
                        </a:lnTo>
                        <a:lnTo>
                          <a:pt x="22" y="89"/>
                        </a:lnTo>
                        <a:lnTo>
                          <a:pt x="44" y="122"/>
                        </a:lnTo>
                        <a:lnTo>
                          <a:pt x="55" y="156"/>
                        </a:lnTo>
                        <a:lnTo>
                          <a:pt x="78" y="189"/>
                        </a:lnTo>
                        <a:lnTo>
                          <a:pt x="100" y="223"/>
                        </a:lnTo>
                        <a:lnTo>
                          <a:pt x="122" y="256"/>
                        </a:lnTo>
                        <a:lnTo>
                          <a:pt x="144" y="289"/>
                        </a:lnTo>
                        <a:lnTo>
                          <a:pt x="167" y="312"/>
                        </a:lnTo>
                        <a:lnTo>
                          <a:pt x="200" y="345"/>
                        </a:lnTo>
                        <a:lnTo>
                          <a:pt x="222" y="367"/>
                        </a:lnTo>
                        <a:lnTo>
                          <a:pt x="245" y="390"/>
                        </a:lnTo>
                        <a:lnTo>
                          <a:pt x="278" y="412"/>
                        </a:lnTo>
                        <a:lnTo>
                          <a:pt x="300" y="434"/>
                        </a:lnTo>
                        <a:lnTo>
                          <a:pt x="334" y="457"/>
                        </a:lnTo>
                        <a:lnTo>
                          <a:pt x="367" y="479"/>
                        </a:lnTo>
                        <a:lnTo>
                          <a:pt x="390" y="490"/>
                        </a:lnTo>
                        <a:lnTo>
                          <a:pt x="423" y="512"/>
                        </a:lnTo>
                        <a:lnTo>
                          <a:pt x="457" y="523"/>
                        </a:lnTo>
                        <a:lnTo>
                          <a:pt x="490" y="535"/>
                        </a:lnTo>
                        <a:lnTo>
                          <a:pt x="523" y="546"/>
                        </a:lnTo>
                        <a:lnTo>
                          <a:pt x="557" y="557"/>
                        </a:lnTo>
                        <a:lnTo>
                          <a:pt x="590" y="568"/>
                        </a:lnTo>
                        <a:lnTo>
                          <a:pt x="624" y="568"/>
                        </a:lnTo>
                        <a:lnTo>
                          <a:pt x="657" y="579"/>
                        </a:lnTo>
                        <a:lnTo>
                          <a:pt x="691" y="579"/>
                        </a:lnTo>
                        <a:lnTo>
                          <a:pt x="724" y="579"/>
                        </a:lnTo>
                        <a:lnTo>
                          <a:pt x="757" y="579"/>
                        </a:lnTo>
                        <a:lnTo>
                          <a:pt x="791" y="579"/>
                        </a:lnTo>
                        <a:lnTo>
                          <a:pt x="824" y="579"/>
                        </a:lnTo>
                        <a:lnTo>
                          <a:pt x="858" y="568"/>
                        </a:lnTo>
                        <a:lnTo>
                          <a:pt x="891" y="557"/>
                        </a:lnTo>
                        <a:lnTo>
                          <a:pt x="891" y="546"/>
                        </a:lnTo>
                        <a:lnTo>
                          <a:pt x="858" y="546"/>
                        </a:lnTo>
                        <a:lnTo>
                          <a:pt x="824" y="557"/>
                        </a:lnTo>
                        <a:lnTo>
                          <a:pt x="791" y="557"/>
                        </a:lnTo>
                        <a:lnTo>
                          <a:pt x="757" y="557"/>
                        </a:lnTo>
                        <a:lnTo>
                          <a:pt x="724" y="557"/>
                        </a:lnTo>
                        <a:lnTo>
                          <a:pt x="691" y="557"/>
                        </a:lnTo>
                        <a:lnTo>
                          <a:pt x="657" y="557"/>
                        </a:lnTo>
                        <a:lnTo>
                          <a:pt x="624" y="557"/>
                        </a:lnTo>
                        <a:lnTo>
                          <a:pt x="590" y="546"/>
                        </a:lnTo>
                        <a:lnTo>
                          <a:pt x="557" y="535"/>
                        </a:lnTo>
                        <a:lnTo>
                          <a:pt x="523" y="523"/>
                        </a:lnTo>
                        <a:lnTo>
                          <a:pt x="490" y="512"/>
                        </a:lnTo>
                        <a:lnTo>
                          <a:pt x="468" y="501"/>
                        </a:lnTo>
                        <a:lnTo>
                          <a:pt x="434" y="490"/>
                        </a:lnTo>
                        <a:lnTo>
                          <a:pt x="401" y="479"/>
                        </a:lnTo>
                        <a:lnTo>
                          <a:pt x="367" y="457"/>
                        </a:lnTo>
                        <a:lnTo>
                          <a:pt x="345" y="445"/>
                        </a:lnTo>
                        <a:lnTo>
                          <a:pt x="312" y="423"/>
                        </a:lnTo>
                        <a:lnTo>
                          <a:pt x="289" y="401"/>
                        </a:lnTo>
                        <a:lnTo>
                          <a:pt x="256" y="379"/>
                        </a:lnTo>
                        <a:lnTo>
                          <a:pt x="234" y="356"/>
                        </a:lnTo>
                        <a:lnTo>
                          <a:pt x="211" y="323"/>
                        </a:lnTo>
                        <a:lnTo>
                          <a:pt x="178" y="301"/>
                        </a:lnTo>
                        <a:lnTo>
                          <a:pt x="167" y="278"/>
                        </a:lnTo>
                        <a:lnTo>
                          <a:pt x="144" y="245"/>
                        </a:lnTo>
                        <a:lnTo>
                          <a:pt x="122" y="211"/>
                        </a:lnTo>
                        <a:lnTo>
                          <a:pt x="100" y="178"/>
                        </a:lnTo>
                        <a:lnTo>
                          <a:pt x="78" y="145"/>
                        </a:lnTo>
                        <a:lnTo>
                          <a:pt x="55" y="111"/>
                        </a:lnTo>
                        <a:lnTo>
                          <a:pt x="44" y="78"/>
                        </a:lnTo>
                        <a:lnTo>
                          <a:pt x="33" y="44"/>
                        </a:lnTo>
                        <a:lnTo>
                          <a:pt x="11" y="11"/>
                        </a:lnTo>
                        <a:lnTo>
                          <a:pt x="0" y="0"/>
                        </a:lnTo>
                        <a:lnTo>
                          <a:pt x="11" y="22"/>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Freeform 1168"/>
                  <p:cNvSpPr/>
                  <p:nvPr/>
                </p:nvSpPr>
                <p:spPr>
                  <a:xfrm rot="111600">
                    <a:off x="2766600" y="1310400"/>
                    <a:ext cx="20520" cy="19080"/>
                  </a:xfrm>
                  <a:custGeom>
                    <a:avLst/>
                    <a:gdLst>
                      <a:gd name="textAreaLeft" fmla="*/ 0 w 20520"/>
                      <a:gd name="textAreaRight" fmla="*/ 20880 w 20520"/>
                      <a:gd name="textAreaTop" fmla="*/ 0 h 19080"/>
                      <a:gd name="textAreaBottom" fmla="*/ 19440 h 19080"/>
                    </a:gdLst>
                    <a:ahLst/>
                    <a:rect l="textAreaLeft" t="textAreaTop" r="textAreaRight" b="textAreaBottom"/>
                    <a:pathLst>
                      <a:path w="212" h="145">
                        <a:moveTo>
                          <a:pt x="0" y="0"/>
                        </a:moveTo>
                        <a:lnTo>
                          <a:pt x="0" y="0"/>
                        </a:lnTo>
                        <a:lnTo>
                          <a:pt x="11" y="33"/>
                        </a:lnTo>
                        <a:lnTo>
                          <a:pt x="33" y="67"/>
                        </a:lnTo>
                        <a:lnTo>
                          <a:pt x="45" y="89"/>
                        </a:lnTo>
                        <a:lnTo>
                          <a:pt x="78" y="100"/>
                        </a:lnTo>
                        <a:lnTo>
                          <a:pt x="100" y="123"/>
                        </a:lnTo>
                        <a:lnTo>
                          <a:pt x="134" y="134"/>
                        </a:lnTo>
                        <a:lnTo>
                          <a:pt x="167" y="134"/>
                        </a:lnTo>
                        <a:lnTo>
                          <a:pt x="212" y="145"/>
                        </a:lnTo>
                        <a:lnTo>
                          <a:pt x="201" y="123"/>
                        </a:lnTo>
                        <a:lnTo>
                          <a:pt x="178" y="123"/>
                        </a:lnTo>
                        <a:lnTo>
                          <a:pt x="145" y="111"/>
                        </a:lnTo>
                        <a:lnTo>
                          <a:pt x="111" y="100"/>
                        </a:lnTo>
                        <a:lnTo>
                          <a:pt x="89" y="89"/>
                        </a:lnTo>
                        <a:lnTo>
                          <a:pt x="67" y="67"/>
                        </a:lnTo>
                        <a:lnTo>
                          <a:pt x="45" y="56"/>
                        </a:lnTo>
                        <a:lnTo>
                          <a:pt x="33" y="22"/>
                        </a:lnTo>
                        <a:lnTo>
                          <a:pt x="11"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1167"/>
                  <p:cNvSpPr/>
                  <p:nvPr/>
                </p:nvSpPr>
                <p:spPr>
                  <a:xfrm rot="111600">
                    <a:off x="2766240" y="1270440"/>
                    <a:ext cx="17280" cy="39960"/>
                  </a:xfrm>
                  <a:custGeom>
                    <a:avLst/>
                    <a:gdLst>
                      <a:gd name="textAreaLeft" fmla="*/ 0 w 17280"/>
                      <a:gd name="textAreaRight" fmla="*/ 17640 w 17280"/>
                      <a:gd name="textAreaTop" fmla="*/ 0 h 39960"/>
                      <a:gd name="textAreaBottom" fmla="*/ 40320 h 39960"/>
                    </a:gdLst>
                    <a:ahLst/>
                    <a:rect l="textAreaLeft" t="textAreaTop" r="textAreaRight" b="textAreaBottom"/>
                    <a:pathLst>
                      <a:path w="178" h="301">
                        <a:moveTo>
                          <a:pt x="156" y="0"/>
                        </a:moveTo>
                        <a:lnTo>
                          <a:pt x="156" y="0"/>
                        </a:lnTo>
                        <a:lnTo>
                          <a:pt x="122" y="34"/>
                        </a:lnTo>
                        <a:lnTo>
                          <a:pt x="78" y="67"/>
                        </a:lnTo>
                        <a:lnTo>
                          <a:pt x="56" y="100"/>
                        </a:lnTo>
                        <a:lnTo>
                          <a:pt x="22" y="134"/>
                        </a:lnTo>
                        <a:lnTo>
                          <a:pt x="0" y="178"/>
                        </a:lnTo>
                        <a:lnTo>
                          <a:pt x="0" y="212"/>
                        </a:lnTo>
                        <a:lnTo>
                          <a:pt x="0" y="256"/>
                        </a:lnTo>
                        <a:lnTo>
                          <a:pt x="11" y="301"/>
                        </a:lnTo>
                        <a:lnTo>
                          <a:pt x="22" y="301"/>
                        </a:lnTo>
                        <a:lnTo>
                          <a:pt x="22" y="256"/>
                        </a:lnTo>
                        <a:lnTo>
                          <a:pt x="22" y="223"/>
                        </a:lnTo>
                        <a:lnTo>
                          <a:pt x="33" y="178"/>
                        </a:lnTo>
                        <a:lnTo>
                          <a:pt x="44" y="145"/>
                        </a:lnTo>
                        <a:lnTo>
                          <a:pt x="67" y="112"/>
                        </a:lnTo>
                        <a:lnTo>
                          <a:pt x="100" y="78"/>
                        </a:lnTo>
                        <a:lnTo>
                          <a:pt x="134" y="45"/>
                        </a:lnTo>
                        <a:lnTo>
                          <a:pt x="167" y="11"/>
                        </a:lnTo>
                        <a:lnTo>
                          <a:pt x="178" y="0"/>
                        </a:lnTo>
                        <a:lnTo>
                          <a:pt x="156" y="0"/>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1166"/>
                  <p:cNvSpPr/>
                  <p:nvPr/>
                </p:nvSpPr>
                <p:spPr>
                  <a:xfrm rot="111600">
                    <a:off x="2783520" y="1176480"/>
                    <a:ext cx="50040" cy="94680"/>
                  </a:xfrm>
                  <a:custGeom>
                    <a:avLst/>
                    <a:gdLst>
                      <a:gd name="textAreaLeft" fmla="*/ 0 w 50040"/>
                      <a:gd name="textAreaRight" fmla="*/ 50400 w 50040"/>
                      <a:gd name="textAreaTop" fmla="*/ 0 h 94680"/>
                      <a:gd name="textAreaBottom" fmla="*/ 95040 h 94680"/>
                    </a:gdLst>
                    <a:ahLst/>
                    <a:rect l="textAreaLeft" t="textAreaTop" r="textAreaRight" b="textAreaBottom"/>
                    <a:pathLst>
                      <a:path w="513" h="713">
                        <a:moveTo>
                          <a:pt x="501" y="0"/>
                        </a:moveTo>
                        <a:lnTo>
                          <a:pt x="501" y="0"/>
                        </a:lnTo>
                        <a:lnTo>
                          <a:pt x="457" y="11"/>
                        </a:lnTo>
                        <a:lnTo>
                          <a:pt x="401" y="33"/>
                        </a:lnTo>
                        <a:lnTo>
                          <a:pt x="356" y="56"/>
                        </a:lnTo>
                        <a:lnTo>
                          <a:pt x="301" y="89"/>
                        </a:lnTo>
                        <a:lnTo>
                          <a:pt x="267" y="122"/>
                        </a:lnTo>
                        <a:lnTo>
                          <a:pt x="223" y="167"/>
                        </a:lnTo>
                        <a:lnTo>
                          <a:pt x="189" y="212"/>
                        </a:lnTo>
                        <a:lnTo>
                          <a:pt x="156" y="256"/>
                        </a:lnTo>
                        <a:lnTo>
                          <a:pt x="122" y="301"/>
                        </a:lnTo>
                        <a:lnTo>
                          <a:pt x="89" y="356"/>
                        </a:lnTo>
                        <a:lnTo>
                          <a:pt x="67" y="412"/>
                        </a:lnTo>
                        <a:lnTo>
                          <a:pt x="44" y="468"/>
                        </a:lnTo>
                        <a:lnTo>
                          <a:pt x="33" y="524"/>
                        </a:lnTo>
                        <a:lnTo>
                          <a:pt x="11" y="590"/>
                        </a:lnTo>
                        <a:lnTo>
                          <a:pt x="0" y="657"/>
                        </a:lnTo>
                        <a:lnTo>
                          <a:pt x="0" y="713"/>
                        </a:lnTo>
                        <a:lnTo>
                          <a:pt x="22" y="713"/>
                        </a:lnTo>
                        <a:lnTo>
                          <a:pt x="22" y="657"/>
                        </a:lnTo>
                        <a:lnTo>
                          <a:pt x="33" y="590"/>
                        </a:lnTo>
                        <a:lnTo>
                          <a:pt x="56" y="535"/>
                        </a:lnTo>
                        <a:lnTo>
                          <a:pt x="67" y="479"/>
                        </a:lnTo>
                        <a:lnTo>
                          <a:pt x="89" y="423"/>
                        </a:lnTo>
                        <a:lnTo>
                          <a:pt x="111" y="368"/>
                        </a:lnTo>
                        <a:lnTo>
                          <a:pt x="145" y="323"/>
                        </a:lnTo>
                        <a:lnTo>
                          <a:pt x="167" y="267"/>
                        </a:lnTo>
                        <a:lnTo>
                          <a:pt x="200" y="223"/>
                        </a:lnTo>
                        <a:lnTo>
                          <a:pt x="245" y="178"/>
                        </a:lnTo>
                        <a:lnTo>
                          <a:pt x="278" y="145"/>
                        </a:lnTo>
                        <a:lnTo>
                          <a:pt x="323" y="111"/>
                        </a:lnTo>
                        <a:lnTo>
                          <a:pt x="368" y="78"/>
                        </a:lnTo>
                        <a:lnTo>
                          <a:pt x="412" y="56"/>
                        </a:lnTo>
                        <a:lnTo>
                          <a:pt x="457" y="33"/>
                        </a:lnTo>
                        <a:lnTo>
                          <a:pt x="513" y="22"/>
                        </a:lnTo>
                        <a:lnTo>
                          <a:pt x="50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1165"/>
                  <p:cNvSpPr/>
                  <p:nvPr/>
                </p:nvSpPr>
                <p:spPr>
                  <a:xfrm rot="111600">
                    <a:off x="2892960" y="1315800"/>
                    <a:ext cx="1800" cy="2880"/>
                  </a:xfrm>
                  <a:custGeom>
                    <a:avLst/>
                    <a:gdLst>
                      <a:gd name="textAreaLeft" fmla="*/ 0 w 1800"/>
                      <a:gd name="textAreaRight" fmla="*/ 2160 w 1800"/>
                      <a:gd name="textAreaTop" fmla="*/ 0 h 2880"/>
                      <a:gd name="textAreaBottom" fmla="*/ 3240 h 2880"/>
                    </a:gdLst>
                    <a:ahLst/>
                    <a:rect l="textAreaLeft" t="textAreaTop" r="textAreaRight" b="textAreaBottom"/>
                    <a:pathLst>
                      <a:path w="22" h="22">
                        <a:moveTo>
                          <a:pt x="22" y="11"/>
                        </a:moveTo>
                        <a:lnTo>
                          <a:pt x="11" y="0"/>
                        </a:lnTo>
                        <a:lnTo>
                          <a:pt x="0" y="0"/>
                        </a:lnTo>
                        <a:lnTo>
                          <a:pt x="0" y="11"/>
                        </a:lnTo>
                        <a:lnTo>
                          <a:pt x="0" y="22"/>
                        </a:lnTo>
                        <a:lnTo>
                          <a:pt x="22"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Freeform 1164"/>
                  <p:cNvSpPr/>
                  <p:nvPr/>
                </p:nvSpPr>
                <p:spPr>
                  <a:xfrm rot="111600">
                    <a:off x="2892600" y="1317240"/>
                    <a:ext cx="18360" cy="16200"/>
                  </a:xfrm>
                  <a:custGeom>
                    <a:avLst/>
                    <a:gdLst>
                      <a:gd name="textAreaLeft" fmla="*/ 0 w 18360"/>
                      <a:gd name="textAreaRight" fmla="*/ 18720 w 18360"/>
                      <a:gd name="textAreaTop" fmla="*/ 0 h 16200"/>
                      <a:gd name="textAreaBottom" fmla="*/ 16560 h 16200"/>
                    </a:gdLst>
                    <a:ahLst/>
                    <a:rect l="textAreaLeft" t="textAreaTop" r="textAreaRight" b="textAreaBottom"/>
                    <a:pathLst>
                      <a:path w="189" h="123">
                        <a:moveTo>
                          <a:pt x="189" y="112"/>
                        </a:moveTo>
                        <a:lnTo>
                          <a:pt x="167" y="101"/>
                        </a:lnTo>
                        <a:lnTo>
                          <a:pt x="134" y="89"/>
                        </a:lnTo>
                        <a:lnTo>
                          <a:pt x="111" y="89"/>
                        </a:lnTo>
                        <a:lnTo>
                          <a:pt x="89" y="78"/>
                        </a:lnTo>
                        <a:lnTo>
                          <a:pt x="67" y="56"/>
                        </a:lnTo>
                        <a:lnTo>
                          <a:pt x="56" y="45"/>
                        </a:lnTo>
                        <a:lnTo>
                          <a:pt x="33" y="23"/>
                        </a:lnTo>
                        <a:lnTo>
                          <a:pt x="22" y="0"/>
                        </a:lnTo>
                        <a:lnTo>
                          <a:pt x="0" y="11"/>
                        </a:lnTo>
                        <a:lnTo>
                          <a:pt x="22" y="34"/>
                        </a:lnTo>
                        <a:lnTo>
                          <a:pt x="33" y="56"/>
                        </a:lnTo>
                        <a:lnTo>
                          <a:pt x="56" y="78"/>
                        </a:lnTo>
                        <a:lnTo>
                          <a:pt x="78" y="89"/>
                        </a:lnTo>
                        <a:lnTo>
                          <a:pt x="111" y="101"/>
                        </a:lnTo>
                        <a:lnTo>
                          <a:pt x="134" y="112"/>
                        </a:lnTo>
                        <a:lnTo>
                          <a:pt x="156" y="123"/>
                        </a:lnTo>
                        <a:lnTo>
                          <a:pt x="189" y="123"/>
                        </a:lnTo>
                        <a:lnTo>
                          <a:pt x="189" y="11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Freeform 1163"/>
                  <p:cNvSpPr/>
                  <p:nvPr/>
                </p:nvSpPr>
                <p:spPr>
                  <a:xfrm rot="111600">
                    <a:off x="2893680" y="131760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0" y="11"/>
                        </a:moveTo>
                        <a:lnTo>
                          <a:pt x="0" y="11"/>
                        </a:lnTo>
                        <a:lnTo>
                          <a:pt x="11" y="11"/>
                        </a:lnTo>
                        <a:lnTo>
                          <a:pt x="11" y="0"/>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Freeform 1162"/>
                  <p:cNvSpPr/>
                  <p:nvPr/>
                </p:nvSpPr>
                <p:spPr>
                  <a:xfrm rot="111600">
                    <a:off x="2829960" y="133200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22" y="11"/>
                        </a:moveTo>
                        <a:lnTo>
                          <a:pt x="22" y="11"/>
                        </a:lnTo>
                        <a:lnTo>
                          <a:pt x="11" y="0"/>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Freeform 1161"/>
                  <p:cNvSpPr/>
                  <p:nvPr/>
                </p:nvSpPr>
                <p:spPr>
                  <a:xfrm rot="111600">
                    <a:off x="2825640" y="1333080"/>
                    <a:ext cx="6480" cy="17640"/>
                  </a:xfrm>
                  <a:custGeom>
                    <a:avLst/>
                    <a:gdLst>
                      <a:gd name="textAreaLeft" fmla="*/ 0 w 6480"/>
                      <a:gd name="textAreaRight" fmla="*/ 6840 w 6480"/>
                      <a:gd name="textAreaTop" fmla="*/ 0 h 17640"/>
                      <a:gd name="textAreaBottom" fmla="*/ 18000 h 17640"/>
                    </a:gdLst>
                    <a:ahLst/>
                    <a:rect l="textAreaLeft" t="textAreaTop" r="textAreaRight" b="textAreaBottom"/>
                    <a:pathLst>
                      <a:path w="67" h="134">
                        <a:moveTo>
                          <a:pt x="22" y="134"/>
                        </a:moveTo>
                        <a:lnTo>
                          <a:pt x="22" y="123"/>
                        </a:lnTo>
                        <a:lnTo>
                          <a:pt x="33" y="112"/>
                        </a:lnTo>
                        <a:lnTo>
                          <a:pt x="33" y="100"/>
                        </a:lnTo>
                        <a:lnTo>
                          <a:pt x="45" y="89"/>
                        </a:lnTo>
                        <a:lnTo>
                          <a:pt x="56" y="67"/>
                        </a:lnTo>
                        <a:lnTo>
                          <a:pt x="56" y="56"/>
                        </a:lnTo>
                        <a:lnTo>
                          <a:pt x="67" y="45"/>
                        </a:lnTo>
                        <a:lnTo>
                          <a:pt x="67" y="22"/>
                        </a:lnTo>
                        <a:lnTo>
                          <a:pt x="67" y="0"/>
                        </a:lnTo>
                        <a:lnTo>
                          <a:pt x="45" y="0"/>
                        </a:lnTo>
                        <a:lnTo>
                          <a:pt x="45" y="22"/>
                        </a:lnTo>
                        <a:lnTo>
                          <a:pt x="45" y="33"/>
                        </a:lnTo>
                        <a:lnTo>
                          <a:pt x="33" y="45"/>
                        </a:lnTo>
                        <a:lnTo>
                          <a:pt x="33" y="56"/>
                        </a:lnTo>
                        <a:lnTo>
                          <a:pt x="22" y="78"/>
                        </a:lnTo>
                        <a:lnTo>
                          <a:pt x="22" y="89"/>
                        </a:lnTo>
                        <a:lnTo>
                          <a:pt x="11" y="100"/>
                        </a:lnTo>
                        <a:lnTo>
                          <a:pt x="0" y="112"/>
                        </a:lnTo>
                        <a:lnTo>
                          <a:pt x="22" y="134"/>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Freeform 1160"/>
                  <p:cNvSpPr/>
                  <p:nvPr/>
                </p:nvSpPr>
                <p:spPr>
                  <a:xfrm rot="111600">
                    <a:off x="2816640" y="1347840"/>
                    <a:ext cx="10800" cy="5760"/>
                  </a:xfrm>
                  <a:custGeom>
                    <a:avLst/>
                    <a:gdLst>
                      <a:gd name="textAreaLeft" fmla="*/ 0 w 10800"/>
                      <a:gd name="textAreaRight" fmla="*/ 10800 w 10800"/>
                      <a:gd name="textAreaTop" fmla="*/ 0 h 5760"/>
                      <a:gd name="textAreaBottom" fmla="*/ 6120 h 5760"/>
                    </a:gdLst>
                    <a:ahLst/>
                    <a:rect l="textAreaLeft" t="textAreaTop" r="textAreaRight" b="textAreaBottom"/>
                    <a:pathLst>
                      <a:path w="111" h="44">
                        <a:moveTo>
                          <a:pt x="0" y="44"/>
                        </a:moveTo>
                        <a:lnTo>
                          <a:pt x="22" y="44"/>
                        </a:lnTo>
                        <a:lnTo>
                          <a:pt x="33" y="44"/>
                        </a:lnTo>
                        <a:lnTo>
                          <a:pt x="56" y="33"/>
                        </a:lnTo>
                        <a:lnTo>
                          <a:pt x="67" y="33"/>
                        </a:lnTo>
                        <a:lnTo>
                          <a:pt x="89" y="33"/>
                        </a:lnTo>
                        <a:lnTo>
                          <a:pt x="89" y="22"/>
                        </a:lnTo>
                        <a:lnTo>
                          <a:pt x="100" y="22"/>
                        </a:lnTo>
                        <a:lnTo>
                          <a:pt x="111" y="22"/>
                        </a:lnTo>
                        <a:lnTo>
                          <a:pt x="89" y="0"/>
                        </a:lnTo>
                        <a:lnTo>
                          <a:pt x="78" y="11"/>
                        </a:lnTo>
                        <a:lnTo>
                          <a:pt x="67" y="11"/>
                        </a:lnTo>
                        <a:lnTo>
                          <a:pt x="44" y="22"/>
                        </a:lnTo>
                        <a:lnTo>
                          <a:pt x="33" y="22"/>
                        </a:lnTo>
                        <a:lnTo>
                          <a:pt x="11" y="22"/>
                        </a:lnTo>
                        <a:lnTo>
                          <a:pt x="0" y="22"/>
                        </a:lnTo>
                        <a:lnTo>
                          <a:pt x="0" y="44"/>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Freeform 1159"/>
                  <p:cNvSpPr/>
                  <p:nvPr/>
                </p:nvSpPr>
                <p:spPr>
                  <a:xfrm rot="111600">
                    <a:off x="2825280" y="1347840"/>
                    <a:ext cx="720" cy="2880"/>
                  </a:xfrm>
                  <a:custGeom>
                    <a:avLst/>
                    <a:gdLst>
                      <a:gd name="textAreaLeft" fmla="*/ 0 w 720"/>
                      <a:gd name="textAreaRight" fmla="*/ 1080 w 720"/>
                      <a:gd name="textAreaTop" fmla="*/ 0 h 2880"/>
                      <a:gd name="textAreaBottom" fmla="*/ 3240 h 2880"/>
                    </a:gdLst>
                    <a:ahLst/>
                    <a:rect l="textAreaLeft" t="textAreaTop" r="textAreaRight" b="textAreaBottom"/>
                    <a:pathLst>
                      <a:path w="11" h="22">
                        <a:moveTo>
                          <a:pt x="11" y="0"/>
                        </a:moveTo>
                        <a:lnTo>
                          <a:pt x="0" y="0"/>
                        </a:lnTo>
                        <a:lnTo>
                          <a:pt x="0" y="11"/>
                        </a:lnTo>
                        <a:lnTo>
                          <a:pt x="11" y="22"/>
                        </a:lnTo>
                        <a:lnTo>
                          <a:pt x="11"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Freeform 1158"/>
                  <p:cNvSpPr/>
                  <p:nvPr/>
                </p:nvSpPr>
                <p:spPr>
                  <a:xfrm rot="111600">
                    <a:off x="2768760" y="1133280"/>
                    <a:ext cx="163440" cy="170640"/>
                  </a:xfrm>
                  <a:custGeom>
                    <a:avLst/>
                    <a:gdLst>
                      <a:gd name="textAreaLeft" fmla="*/ 0 w 163440"/>
                      <a:gd name="textAreaRight" fmla="*/ 163800 w 163440"/>
                      <a:gd name="textAreaTop" fmla="*/ 0 h 170640"/>
                      <a:gd name="textAreaBottom" fmla="*/ 171000 h 170640"/>
                    </a:gdLst>
                    <a:ahLst/>
                    <a:rect l="textAreaLeft" t="textAreaTop" r="textAreaRight" b="textAreaBottom"/>
                    <a:pathLst>
                      <a:path w="1672" h="1282">
                        <a:moveTo>
                          <a:pt x="680" y="223"/>
                        </a:moveTo>
                        <a:lnTo>
                          <a:pt x="635" y="223"/>
                        </a:lnTo>
                        <a:lnTo>
                          <a:pt x="591" y="223"/>
                        </a:lnTo>
                        <a:lnTo>
                          <a:pt x="546" y="223"/>
                        </a:lnTo>
                        <a:lnTo>
                          <a:pt x="490" y="234"/>
                        </a:lnTo>
                        <a:lnTo>
                          <a:pt x="446" y="246"/>
                        </a:lnTo>
                        <a:lnTo>
                          <a:pt x="390" y="257"/>
                        </a:lnTo>
                        <a:lnTo>
                          <a:pt x="345" y="268"/>
                        </a:lnTo>
                        <a:lnTo>
                          <a:pt x="290" y="290"/>
                        </a:lnTo>
                        <a:lnTo>
                          <a:pt x="245" y="324"/>
                        </a:lnTo>
                        <a:lnTo>
                          <a:pt x="200" y="346"/>
                        </a:lnTo>
                        <a:lnTo>
                          <a:pt x="156" y="379"/>
                        </a:lnTo>
                        <a:lnTo>
                          <a:pt x="122" y="413"/>
                        </a:lnTo>
                        <a:lnTo>
                          <a:pt x="89" y="446"/>
                        </a:lnTo>
                        <a:lnTo>
                          <a:pt x="67" y="491"/>
                        </a:lnTo>
                        <a:lnTo>
                          <a:pt x="44" y="535"/>
                        </a:lnTo>
                        <a:lnTo>
                          <a:pt x="22" y="580"/>
                        </a:lnTo>
                        <a:lnTo>
                          <a:pt x="11" y="636"/>
                        </a:lnTo>
                        <a:lnTo>
                          <a:pt x="0" y="703"/>
                        </a:lnTo>
                        <a:lnTo>
                          <a:pt x="0" y="769"/>
                        </a:lnTo>
                        <a:lnTo>
                          <a:pt x="0" y="836"/>
                        </a:lnTo>
                        <a:lnTo>
                          <a:pt x="0" y="903"/>
                        </a:lnTo>
                        <a:lnTo>
                          <a:pt x="22" y="970"/>
                        </a:lnTo>
                        <a:lnTo>
                          <a:pt x="44" y="1037"/>
                        </a:lnTo>
                        <a:lnTo>
                          <a:pt x="78" y="1093"/>
                        </a:lnTo>
                        <a:lnTo>
                          <a:pt x="100" y="1104"/>
                        </a:lnTo>
                        <a:lnTo>
                          <a:pt x="122" y="1104"/>
                        </a:lnTo>
                        <a:lnTo>
                          <a:pt x="145" y="1093"/>
                        </a:lnTo>
                        <a:lnTo>
                          <a:pt x="167" y="1093"/>
                        </a:lnTo>
                        <a:lnTo>
                          <a:pt x="200" y="1082"/>
                        </a:lnTo>
                        <a:lnTo>
                          <a:pt x="223" y="1070"/>
                        </a:lnTo>
                        <a:lnTo>
                          <a:pt x="245" y="1059"/>
                        </a:lnTo>
                        <a:lnTo>
                          <a:pt x="267" y="1070"/>
                        </a:lnTo>
                        <a:lnTo>
                          <a:pt x="278" y="1082"/>
                        </a:lnTo>
                        <a:lnTo>
                          <a:pt x="290" y="1104"/>
                        </a:lnTo>
                        <a:lnTo>
                          <a:pt x="312" y="1137"/>
                        </a:lnTo>
                        <a:lnTo>
                          <a:pt x="312" y="1171"/>
                        </a:lnTo>
                        <a:lnTo>
                          <a:pt x="323" y="1204"/>
                        </a:lnTo>
                        <a:lnTo>
                          <a:pt x="334" y="1238"/>
                        </a:lnTo>
                        <a:lnTo>
                          <a:pt x="345" y="1260"/>
                        </a:lnTo>
                        <a:lnTo>
                          <a:pt x="356" y="1282"/>
                        </a:lnTo>
                        <a:lnTo>
                          <a:pt x="379" y="1260"/>
                        </a:lnTo>
                        <a:lnTo>
                          <a:pt x="412" y="1226"/>
                        </a:lnTo>
                        <a:lnTo>
                          <a:pt x="434" y="1193"/>
                        </a:lnTo>
                        <a:lnTo>
                          <a:pt x="446" y="1148"/>
                        </a:lnTo>
                        <a:lnTo>
                          <a:pt x="457" y="1115"/>
                        </a:lnTo>
                        <a:lnTo>
                          <a:pt x="457" y="1070"/>
                        </a:lnTo>
                        <a:lnTo>
                          <a:pt x="457" y="1037"/>
                        </a:lnTo>
                        <a:lnTo>
                          <a:pt x="457" y="992"/>
                        </a:lnTo>
                        <a:lnTo>
                          <a:pt x="535" y="881"/>
                        </a:lnTo>
                        <a:lnTo>
                          <a:pt x="557" y="859"/>
                        </a:lnTo>
                        <a:lnTo>
                          <a:pt x="568" y="825"/>
                        </a:lnTo>
                        <a:lnTo>
                          <a:pt x="591" y="803"/>
                        </a:lnTo>
                        <a:lnTo>
                          <a:pt x="602" y="769"/>
                        </a:lnTo>
                        <a:lnTo>
                          <a:pt x="624" y="747"/>
                        </a:lnTo>
                        <a:lnTo>
                          <a:pt x="635" y="714"/>
                        </a:lnTo>
                        <a:lnTo>
                          <a:pt x="657" y="691"/>
                        </a:lnTo>
                        <a:lnTo>
                          <a:pt x="669" y="669"/>
                        </a:lnTo>
                        <a:lnTo>
                          <a:pt x="691" y="636"/>
                        </a:lnTo>
                        <a:lnTo>
                          <a:pt x="702" y="613"/>
                        </a:lnTo>
                        <a:lnTo>
                          <a:pt x="713" y="591"/>
                        </a:lnTo>
                        <a:lnTo>
                          <a:pt x="724" y="569"/>
                        </a:lnTo>
                        <a:lnTo>
                          <a:pt x="735" y="535"/>
                        </a:lnTo>
                        <a:lnTo>
                          <a:pt x="747" y="513"/>
                        </a:lnTo>
                        <a:lnTo>
                          <a:pt x="758" y="491"/>
                        </a:lnTo>
                        <a:lnTo>
                          <a:pt x="769" y="457"/>
                        </a:lnTo>
                        <a:lnTo>
                          <a:pt x="780" y="625"/>
                        </a:lnTo>
                        <a:lnTo>
                          <a:pt x="791" y="613"/>
                        </a:lnTo>
                        <a:lnTo>
                          <a:pt x="813" y="591"/>
                        </a:lnTo>
                        <a:lnTo>
                          <a:pt x="836" y="569"/>
                        </a:lnTo>
                        <a:lnTo>
                          <a:pt x="847" y="547"/>
                        </a:lnTo>
                        <a:lnTo>
                          <a:pt x="858" y="513"/>
                        </a:lnTo>
                        <a:lnTo>
                          <a:pt x="869" y="491"/>
                        </a:lnTo>
                        <a:lnTo>
                          <a:pt x="869" y="457"/>
                        </a:lnTo>
                        <a:lnTo>
                          <a:pt x="869" y="435"/>
                        </a:lnTo>
                        <a:lnTo>
                          <a:pt x="936" y="569"/>
                        </a:lnTo>
                        <a:lnTo>
                          <a:pt x="958" y="591"/>
                        </a:lnTo>
                        <a:lnTo>
                          <a:pt x="969" y="625"/>
                        </a:lnTo>
                        <a:lnTo>
                          <a:pt x="992" y="647"/>
                        </a:lnTo>
                        <a:lnTo>
                          <a:pt x="1014" y="669"/>
                        </a:lnTo>
                        <a:lnTo>
                          <a:pt x="1025" y="691"/>
                        </a:lnTo>
                        <a:lnTo>
                          <a:pt x="1059" y="714"/>
                        </a:lnTo>
                        <a:lnTo>
                          <a:pt x="1081" y="736"/>
                        </a:lnTo>
                        <a:lnTo>
                          <a:pt x="1103" y="747"/>
                        </a:lnTo>
                        <a:lnTo>
                          <a:pt x="1125" y="769"/>
                        </a:lnTo>
                        <a:lnTo>
                          <a:pt x="1148" y="781"/>
                        </a:lnTo>
                        <a:lnTo>
                          <a:pt x="1181" y="803"/>
                        </a:lnTo>
                        <a:lnTo>
                          <a:pt x="1215" y="814"/>
                        </a:lnTo>
                        <a:lnTo>
                          <a:pt x="1237" y="814"/>
                        </a:lnTo>
                        <a:lnTo>
                          <a:pt x="1270" y="825"/>
                        </a:lnTo>
                        <a:lnTo>
                          <a:pt x="1304" y="836"/>
                        </a:lnTo>
                        <a:lnTo>
                          <a:pt x="1337" y="836"/>
                        </a:lnTo>
                        <a:lnTo>
                          <a:pt x="1337" y="870"/>
                        </a:lnTo>
                        <a:lnTo>
                          <a:pt x="1348" y="903"/>
                        </a:lnTo>
                        <a:lnTo>
                          <a:pt x="1360" y="937"/>
                        </a:lnTo>
                        <a:lnTo>
                          <a:pt x="1382" y="959"/>
                        </a:lnTo>
                        <a:lnTo>
                          <a:pt x="1404" y="992"/>
                        </a:lnTo>
                        <a:lnTo>
                          <a:pt x="1426" y="1015"/>
                        </a:lnTo>
                        <a:lnTo>
                          <a:pt x="1460" y="1026"/>
                        </a:lnTo>
                        <a:lnTo>
                          <a:pt x="1493" y="1026"/>
                        </a:lnTo>
                        <a:lnTo>
                          <a:pt x="1482" y="981"/>
                        </a:lnTo>
                        <a:lnTo>
                          <a:pt x="1471" y="903"/>
                        </a:lnTo>
                        <a:lnTo>
                          <a:pt x="1482" y="836"/>
                        </a:lnTo>
                        <a:lnTo>
                          <a:pt x="1493" y="792"/>
                        </a:lnTo>
                        <a:lnTo>
                          <a:pt x="1504" y="781"/>
                        </a:lnTo>
                        <a:lnTo>
                          <a:pt x="1527" y="781"/>
                        </a:lnTo>
                        <a:lnTo>
                          <a:pt x="1549" y="781"/>
                        </a:lnTo>
                        <a:lnTo>
                          <a:pt x="1571" y="781"/>
                        </a:lnTo>
                        <a:lnTo>
                          <a:pt x="1594" y="792"/>
                        </a:lnTo>
                        <a:lnTo>
                          <a:pt x="1627" y="792"/>
                        </a:lnTo>
                        <a:lnTo>
                          <a:pt x="1638" y="792"/>
                        </a:lnTo>
                        <a:lnTo>
                          <a:pt x="1660" y="781"/>
                        </a:lnTo>
                        <a:lnTo>
                          <a:pt x="1672" y="758"/>
                        </a:lnTo>
                        <a:lnTo>
                          <a:pt x="1672" y="703"/>
                        </a:lnTo>
                        <a:lnTo>
                          <a:pt x="1672" y="636"/>
                        </a:lnTo>
                        <a:lnTo>
                          <a:pt x="1660" y="558"/>
                        </a:lnTo>
                        <a:lnTo>
                          <a:pt x="1638" y="491"/>
                        </a:lnTo>
                        <a:lnTo>
                          <a:pt x="1627" y="413"/>
                        </a:lnTo>
                        <a:lnTo>
                          <a:pt x="1605" y="368"/>
                        </a:lnTo>
                        <a:lnTo>
                          <a:pt x="1594" y="335"/>
                        </a:lnTo>
                        <a:lnTo>
                          <a:pt x="1582" y="312"/>
                        </a:lnTo>
                        <a:lnTo>
                          <a:pt x="1571" y="290"/>
                        </a:lnTo>
                        <a:lnTo>
                          <a:pt x="1549" y="268"/>
                        </a:lnTo>
                        <a:lnTo>
                          <a:pt x="1527" y="246"/>
                        </a:lnTo>
                        <a:lnTo>
                          <a:pt x="1516" y="223"/>
                        </a:lnTo>
                        <a:lnTo>
                          <a:pt x="1493" y="201"/>
                        </a:lnTo>
                        <a:lnTo>
                          <a:pt x="1460" y="179"/>
                        </a:lnTo>
                        <a:lnTo>
                          <a:pt x="1438" y="168"/>
                        </a:lnTo>
                        <a:lnTo>
                          <a:pt x="1415" y="145"/>
                        </a:lnTo>
                        <a:lnTo>
                          <a:pt x="1393" y="134"/>
                        </a:lnTo>
                        <a:lnTo>
                          <a:pt x="1360" y="123"/>
                        </a:lnTo>
                        <a:lnTo>
                          <a:pt x="1337" y="112"/>
                        </a:lnTo>
                        <a:lnTo>
                          <a:pt x="1315" y="101"/>
                        </a:lnTo>
                        <a:lnTo>
                          <a:pt x="1293" y="90"/>
                        </a:lnTo>
                        <a:lnTo>
                          <a:pt x="1259" y="90"/>
                        </a:lnTo>
                        <a:lnTo>
                          <a:pt x="1237" y="90"/>
                        </a:lnTo>
                        <a:lnTo>
                          <a:pt x="1226" y="78"/>
                        </a:lnTo>
                        <a:lnTo>
                          <a:pt x="1203" y="78"/>
                        </a:lnTo>
                        <a:lnTo>
                          <a:pt x="1192" y="90"/>
                        </a:lnTo>
                        <a:lnTo>
                          <a:pt x="1170" y="90"/>
                        </a:lnTo>
                        <a:lnTo>
                          <a:pt x="1159" y="90"/>
                        </a:lnTo>
                        <a:lnTo>
                          <a:pt x="1137" y="90"/>
                        </a:lnTo>
                        <a:lnTo>
                          <a:pt x="1125" y="101"/>
                        </a:lnTo>
                        <a:lnTo>
                          <a:pt x="1103" y="101"/>
                        </a:lnTo>
                        <a:lnTo>
                          <a:pt x="1081" y="112"/>
                        </a:lnTo>
                        <a:lnTo>
                          <a:pt x="1070" y="112"/>
                        </a:lnTo>
                        <a:lnTo>
                          <a:pt x="1047" y="112"/>
                        </a:lnTo>
                        <a:lnTo>
                          <a:pt x="1036" y="123"/>
                        </a:lnTo>
                        <a:lnTo>
                          <a:pt x="1014" y="123"/>
                        </a:lnTo>
                        <a:lnTo>
                          <a:pt x="1003" y="134"/>
                        </a:lnTo>
                        <a:lnTo>
                          <a:pt x="981" y="134"/>
                        </a:lnTo>
                        <a:lnTo>
                          <a:pt x="969" y="145"/>
                        </a:lnTo>
                        <a:lnTo>
                          <a:pt x="969" y="101"/>
                        </a:lnTo>
                        <a:lnTo>
                          <a:pt x="981" y="67"/>
                        </a:lnTo>
                        <a:lnTo>
                          <a:pt x="992" y="34"/>
                        </a:lnTo>
                        <a:lnTo>
                          <a:pt x="1003" y="0"/>
                        </a:lnTo>
                        <a:lnTo>
                          <a:pt x="969" y="23"/>
                        </a:lnTo>
                        <a:lnTo>
                          <a:pt x="947" y="34"/>
                        </a:lnTo>
                        <a:lnTo>
                          <a:pt x="925" y="56"/>
                        </a:lnTo>
                        <a:lnTo>
                          <a:pt x="903" y="67"/>
                        </a:lnTo>
                        <a:lnTo>
                          <a:pt x="891" y="90"/>
                        </a:lnTo>
                        <a:lnTo>
                          <a:pt x="880" y="112"/>
                        </a:lnTo>
                        <a:lnTo>
                          <a:pt x="869" y="134"/>
                        </a:lnTo>
                        <a:lnTo>
                          <a:pt x="858" y="156"/>
                        </a:lnTo>
                        <a:lnTo>
                          <a:pt x="847" y="145"/>
                        </a:lnTo>
                        <a:lnTo>
                          <a:pt x="836" y="145"/>
                        </a:lnTo>
                        <a:lnTo>
                          <a:pt x="813" y="134"/>
                        </a:lnTo>
                        <a:lnTo>
                          <a:pt x="791" y="123"/>
                        </a:lnTo>
                        <a:lnTo>
                          <a:pt x="780" y="123"/>
                        </a:lnTo>
                        <a:lnTo>
                          <a:pt x="758" y="123"/>
                        </a:lnTo>
                        <a:lnTo>
                          <a:pt x="747" y="112"/>
                        </a:lnTo>
                        <a:lnTo>
                          <a:pt x="735" y="112"/>
                        </a:lnTo>
                        <a:lnTo>
                          <a:pt x="735" y="123"/>
                        </a:lnTo>
                        <a:lnTo>
                          <a:pt x="747" y="134"/>
                        </a:lnTo>
                        <a:lnTo>
                          <a:pt x="758" y="134"/>
                        </a:lnTo>
                        <a:lnTo>
                          <a:pt x="758" y="145"/>
                        </a:lnTo>
                        <a:lnTo>
                          <a:pt x="769" y="156"/>
                        </a:lnTo>
                        <a:lnTo>
                          <a:pt x="780" y="168"/>
                        </a:lnTo>
                        <a:lnTo>
                          <a:pt x="791" y="179"/>
                        </a:lnTo>
                        <a:lnTo>
                          <a:pt x="769" y="179"/>
                        </a:lnTo>
                        <a:lnTo>
                          <a:pt x="758" y="168"/>
                        </a:lnTo>
                        <a:lnTo>
                          <a:pt x="747" y="168"/>
                        </a:lnTo>
                        <a:lnTo>
                          <a:pt x="735" y="156"/>
                        </a:lnTo>
                        <a:lnTo>
                          <a:pt x="724" y="156"/>
                        </a:lnTo>
                        <a:lnTo>
                          <a:pt x="702" y="156"/>
                        </a:lnTo>
                        <a:lnTo>
                          <a:pt x="691" y="145"/>
                        </a:lnTo>
                        <a:lnTo>
                          <a:pt x="680" y="145"/>
                        </a:lnTo>
                        <a:lnTo>
                          <a:pt x="669" y="145"/>
                        </a:lnTo>
                        <a:lnTo>
                          <a:pt x="657" y="134"/>
                        </a:lnTo>
                        <a:lnTo>
                          <a:pt x="635" y="134"/>
                        </a:lnTo>
                        <a:lnTo>
                          <a:pt x="624" y="134"/>
                        </a:lnTo>
                        <a:lnTo>
                          <a:pt x="613" y="134"/>
                        </a:lnTo>
                        <a:lnTo>
                          <a:pt x="591" y="123"/>
                        </a:lnTo>
                        <a:lnTo>
                          <a:pt x="579" y="123"/>
                        </a:lnTo>
                        <a:lnTo>
                          <a:pt x="568" y="123"/>
                        </a:lnTo>
                        <a:lnTo>
                          <a:pt x="579" y="134"/>
                        </a:lnTo>
                        <a:lnTo>
                          <a:pt x="591" y="145"/>
                        </a:lnTo>
                        <a:lnTo>
                          <a:pt x="613" y="168"/>
                        </a:lnTo>
                        <a:lnTo>
                          <a:pt x="624" y="179"/>
                        </a:lnTo>
                        <a:lnTo>
                          <a:pt x="635" y="190"/>
                        </a:lnTo>
                        <a:lnTo>
                          <a:pt x="657" y="201"/>
                        </a:lnTo>
                        <a:lnTo>
                          <a:pt x="669" y="212"/>
                        </a:lnTo>
                        <a:lnTo>
                          <a:pt x="680" y="223"/>
                        </a:lnTo>
                        <a:close/>
                      </a:path>
                    </a:pathLst>
                  </a:custGeom>
                  <a:solidFill>
                    <a:srgbClr val="6b4c1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Freeform 1157"/>
                  <p:cNvSpPr/>
                  <p:nvPr/>
                </p:nvSpPr>
                <p:spPr>
                  <a:xfrm rot="111600">
                    <a:off x="2770560" y="1159920"/>
                    <a:ext cx="65160" cy="48960"/>
                  </a:xfrm>
                  <a:custGeom>
                    <a:avLst/>
                    <a:gdLst>
                      <a:gd name="textAreaLeft" fmla="*/ 0 w 65160"/>
                      <a:gd name="textAreaRight" fmla="*/ 65520 w 65160"/>
                      <a:gd name="textAreaTop" fmla="*/ 0 h 48960"/>
                      <a:gd name="textAreaBottom" fmla="*/ 49320 h 48960"/>
                    </a:gdLst>
                    <a:ahLst/>
                    <a:rect l="textAreaLeft" t="textAreaTop" r="textAreaRight" b="textAreaBottom"/>
                    <a:pathLst>
                      <a:path w="669" h="368">
                        <a:moveTo>
                          <a:pt x="22" y="368"/>
                        </a:moveTo>
                        <a:lnTo>
                          <a:pt x="22" y="368"/>
                        </a:lnTo>
                        <a:lnTo>
                          <a:pt x="45" y="323"/>
                        </a:lnTo>
                        <a:lnTo>
                          <a:pt x="67" y="279"/>
                        </a:lnTo>
                        <a:lnTo>
                          <a:pt x="89" y="245"/>
                        </a:lnTo>
                        <a:lnTo>
                          <a:pt x="123" y="212"/>
                        </a:lnTo>
                        <a:lnTo>
                          <a:pt x="156" y="179"/>
                        </a:lnTo>
                        <a:lnTo>
                          <a:pt x="201" y="145"/>
                        </a:lnTo>
                        <a:lnTo>
                          <a:pt x="245" y="123"/>
                        </a:lnTo>
                        <a:lnTo>
                          <a:pt x="290" y="89"/>
                        </a:lnTo>
                        <a:lnTo>
                          <a:pt x="334" y="67"/>
                        </a:lnTo>
                        <a:lnTo>
                          <a:pt x="379" y="56"/>
                        </a:lnTo>
                        <a:lnTo>
                          <a:pt x="435" y="45"/>
                        </a:lnTo>
                        <a:lnTo>
                          <a:pt x="479" y="34"/>
                        </a:lnTo>
                        <a:lnTo>
                          <a:pt x="535" y="22"/>
                        </a:lnTo>
                        <a:lnTo>
                          <a:pt x="580" y="22"/>
                        </a:lnTo>
                        <a:lnTo>
                          <a:pt x="624" y="22"/>
                        </a:lnTo>
                        <a:lnTo>
                          <a:pt x="669" y="22"/>
                        </a:lnTo>
                        <a:lnTo>
                          <a:pt x="669" y="11"/>
                        </a:lnTo>
                        <a:lnTo>
                          <a:pt x="624" y="0"/>
                        </a:lnTo>
                        <a:lnTo>
                          <a:pt x="580" y="0"/>
                        </a:lnTo>
                        <a:lnTo>
                          <a:pt x="524" y="0"/>
                        </a:lnTo>
                        <a:lnTo>
                          <a:pt x="479" y="11"/>
                        </a:lnTo>
                        <a:lnTo>
                          <a:pt x="423" y="22"/>
                        </a:lnTo>
                        <a:lnTo>
                          <a:pt x="379" y="34"/>
                        </a:lnTo>
                        <a:lnTo>
                          <a:pt x="323" y="56"/>
                        </a:lnTo>
                        <a:lnTo>
                          <a:pt x="279" y="67"/>
                        </a:lnTo>
                        <a:lnTo>
                          <a:pt x="223" y="100"/>
                        </a:lnTo>
                        <a:lnTo>
                          <a:pt x="178" y="123"/>
                        </a:lnTo>
                        <a:lnTo>
                          <a:pt x="145" y="156"/>
                        </a:lnTo>
                        <a:lnTo>
                          <a:pt x="100" y="190"/>
                        </a:lnTo>
                        <a:lnTo>
                          <a:pt x="67" y="234"/>
                        </a:lnTo>
                        <a:lnTo>
                          <a:pt x="45" y="268"/>
                        </a:lnTo>
                        <a:lnTo>
                          <a:pt x="22" y="312"/>
                        </a:lnTo>
                        <a:lnTo>
                          <a:pt x="0" y="357"/>
                        </a:lnTo>
                        <a:lnTo>
                          <a:pt x="22" y="368"/>
                        </a:lnTo>
                        <a:close/>
                      </a:path>
                    </a:pathLst>
                  </a:custGeom>
                  <a:solidFill>
                    <a:srgbClr val="000000"/>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Freeform 1156"/>
                  <p:cNvSpPr/>
                  <p:nvPr/>
                </p:nvSpPr>
                <p:spPr>
                  <a:xfrm rot="111600">
                    <a:off x="2766600" y="1206720"/>
                    <a:ext cx="9720" cy="70920"/>
                  </a:xfrm>
                  <a:custGeom>
                    <a:avLst/>
                    <a:gdLst>
                      <a:gd name="textAreaLeft" fmla="*/ 0 w 9720"/>
                      <a:gd name="textAreaRight" fmla="*/ 10080 w 9720"/>
                      <a:gd name="textAreaTop" fmla="*/ 0 h 70920"/>
                      <a:gd name="textAreaBottom" fmla="*/ 71280 h 70920"/>
                    </a:gdLst>
                    <a:ahLst/>
                    <a:rect l="textAreaLeft" t="textAreaTop" r="textAreaRight" b="textAreaBottom"/>
                    <a:pathLst>
                      <a:path w="100" h="535">
                        <a:moveTo>
                          <a:pt x="100" y="513"/>
                        </a:moveTo>
                        <a:lnTo>
                          <a:pt x="100" y="513"/>
                        </a:lnTo>
                        <a:lnTo>
                          <a:pt x="67" y="457"/>
                        </a:lnTo>
                        <a:lnTo>
                          <a:pt x="44" y="401"/>
                        </a:lnTo>
                        <a:lnTo>
                          <a:pt x="33" y="334"/>
                        </a:lnTo>
                        <a:lnTo>
                          <a:pt x="22" y="267"/>
                        </a:lnTo>
                        <a:lnTo>
                          <a:pt x="22" y="200"/>
                        </a:lnTo>
                        <a:lnTo>
                          <a:pt x="22" y="134"/>
                        </a:lnTo>
                        <a:lnTo>
                          <a:pt x="33" y="67"/>
                        </a:lnTo>
                        <a:lnTo>
                          <a:pt x="44" y="11"/>
                        </a:lnTo>
                        <a:lnTo>
                          <a:pt x="22" y="0"/>
                        </a:lnTo>
                        <a:lnTo>
                          <a:pt x="11" y="67"/>
                        </a:lnTo>
                        <a:lnTo>
                          <a:pt x="0" y="122"/>
                        </a:lnTo>
                        <a:lnTo>
                          <a:pt x="0" y="200"/>
                        </a:lnTo>
                        <a:lnTo>
                          <a:pt x="0" y="267"/>
                        </a:lnTo>
                        <a:lnTo>
                          <a:pt x="0" y="334"/>
                        </a:lnTo>
                        <a:lnTo>
                          <a:pt x="22" y="401"/>
                        </a:lnTo>
                        <a:lnTo>
                          <a:pt x="44" y="468"/>
                        </a:lnTo>
                        <a:lnTo>
                          <a:pt x="89" y="524"/>
                        </a:lnTo>
                        <a:lnTo>
                          <a:pt x="78" y="535"/>
                        </a:lnTo>
                        <a:lnTo>
                          <a:pt x="100" y="513"/>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Freeform 1155"/>
                  <p:cNvSpPr/>
                  <p:nvPr/>
                </p:nvSpPr>
                <p:spPr>
                  <a:xfrm rot="111600">
                    <a:off x="2773080" y="1270800"/>
                    <a:ext cx="19440" cy="8640"/>
                  </a:xfrm>
                  <a:custGeom>
                    <a:avLst/>
                    <a:gdLst>
                      <a:gd name="textAreaLeft" fmla="*/ 0 w 19440"/>
                      <a:gd name="textAreaRight" fmla="*/ 19800 w 19440"/>
                      <a:gd name="textAreaTop" fmla="*/ 0 h 8640"/>
                      <a:gd name="textAreaBottom" fmla="*/ 9000 h 8640"/>
                    </a:gdLst>
                    <a:ahLst/>
                    <a:rect l="textAreaLeft" t="textAreaTop" r="textAreaRight" b="textAreaBottom"/>
                    <a:pathLst>
                      <a:path w="200" h="67">
                        <a:moveTo>
                          <a:pt x="200" y="11"/>
                        </a:moveTo>
                        <a:lnTo>
                          <a:pt x="200" y="11"/>
                        </a:lnTo>
                        <a:lnTo>
                          <a:pt x="178" y="0"/>
                        </a:lnTo>
                        <a:lnTo>
                          <a:pt x="156" y="11"/>
                        </a:lnTo>
                        <a:lnTo>
                          <a:pt x="122" y="22"/>
                        </a:lnTo>
                        <a:lnTo>
                          <a:pt x="100" y="34"/>
                        </a:lnTo>
                        <a:lnTo>
                          <a:pt x="67" y="34"/>
                        </a:lnTo>
                        <a:lnTo>
                          <a:pt x="44" y="45"/>
                        </a:lnTo>
                        <a:lnTo>
                          <a:pt x="33" y="45"/>
                        </a:lnTo>
                        <a:lnTo>
                          <a:pt x="22" y="34"/>
                        </a:lnTo>
                        <a:lnTo>
                          <a:pt x="0" y="56"/>
                        </a:lnTo>
                        <a:lnTo>
                          <a:pt x="22" y="67"/>
                        </a:lnTo>
                        <a:lnTo>
                          <a:pt x="55" y="67"/>
                        </a:lnTo>
                        <a:lnTo>
                          <a:pt x="78" y="56"/>
                        </a:lnTo>
                        <a:lnTo>
                          <a:pt x="111" y="56"/>
                        </a:lnTo>
                        <a:lnTo>
                          <a:pt x="133" y="45"/>
                        </a:lnTo>
                        <a:lnTo>
                          <a:pt x="167" y="34"/>
                        </a:lnTo>
                        <a:lnTo>
                          <a:pt x="189" y="22"/>
                        </a:lnTo>
                        <a:lnTo>
                          <a:pt x="200" y="11"/>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Freeform 1154"/>
                  <p:cNvSpPr/>
                  <p:nvPr/>
                </p:nvSpPr>
                <p:spPr>
                  <a:xfrm rot="111600">
                    <a:off x="2791080" y="1272600"/>
                    <a:ext cx="9720" cy="30960"/>
                  </a:xfrm>
                  <a:custGeom>
                    <a:avLst/>
                    <a:gdLst>
                      <a:gd name="textAreaLeft" fmla="*/ 0 w 9720"/>
                      <a:gd name="textAreaRight" fmla="*/ 10080 w 9720"/>
                      <a:gd name="textAreaTop" fmla="*/ 0 h 30960"/>
                      <a:gd name="textAreaBottom" fmla="*/ 31320 h 30960"/>
                    </a:gdLst>
                    <a:ahLst/>
                    <a:rect l="textAreaLeft" t="textAreaTop" r="textAreaRight" b="textAreaBottom"/>
                    <a:pathLst>
                      <a:path w="100" h="234">
                        <a:moveTo>
                          <a:pt x="89" y="212"/>
                        </a:moveTo>
                        <a:lnTo>
                          <a:pt x="100" y="223"/>
                        </a:lnTo>
                        <a:lnTo>
                          <a:pt x="100" y="201"/>
                        </a:lnTo>
                        <a:lnTo>
                          <a:pt x="89" y="179"/>
                        </a:lnTo>
                        <a:lnTo>
                          <a:pt x="78" y="145"/>
                        </a:lnTo>
                        <a:lnTo>
                          <a:pt x="67" y="112"/>
                        </a:lnTo>
                        <a:lnTo>
                          <a:pt x="56" y="78"/>
                        </a:lnTo>
                        <a:lnTo>
                          <a:pt x="45" y="45"/>
                        </a:lnTo>
                        <a:lnTo>
                          <a:pt x="34" y="11"/>
                        </a:lnTo>
                        <a:lnTo>
                          <a:pt x="11" y="0"/>
                        </a:lnTo>
                        <a:lnTo>
                          <a:pt x="0" y="11"/>
                        </a:lnTo>
                        <a:lnTo>
                          <a:pt x="22" y="23"/>
                        </a:lnTo>
                        <a:lnTo>
                          <a:pt x="34" y="45"/>
                        </a:lnTo>
                        <a:lnTo>
                          <a:pt x="45" y="78"/>
                        </a:lnTo>
                        <a:lnTo>
                          <a:pt x="56" y="112"/>
                        </a:lnTo>
                        <a:lnTo>
                          <a:pt x="56" y="145"/>
                        </a:lnTo>
                        <a:lnTo>
                          <a:pt x="67" y="179"/>
                        </a:lnTo>
                        <a:lnTo>
                          <a:pt x="78" y="212"/>
                        </a:lnTo>
                        <a:lnTo>
                          <a:pt x="89" y="234"/>
                        </a:lnTo>
                        <a:lnTo>
                          <a:pt x="100" y="234"/>
                        </a:lnTo>
                        <a:lnTo>
                          <a:pt x="89" y="212"/>
                        </a:lnTo>
                        <a:close/>
                      </a:path>
                    </a:pathLst>
                  </a:custGeom>
                  <a:solidFill>
                    <a:srgbClr val="000000"/>
                  </a:solidFill>
                  <a:ln w="0">
                    <a:noFill/>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Freeform 1153"/>
                  <p:cNvSpPr/>
                  <p:nvPr/>
                </p:nvSpPr>
                <p:spPr>
                  <a:xfrm rot="111600">
                    <a:off x="2800080" y="1263960"/>
                    <a:ext cx="11880" cy="39960"/>
                  </a:xfrm>
                  <a:custGeom>
                    <a:avLst/>
                    <a:gdLst>
                      <a:gd name="textAreaLeft" fmla="*/ 0 w 11880"/>
                      <a:gd name="textAreaRight" fmla="*/ 12240 w 11880"/>
                      <a:gd name="textAreaTop" fmla="*/ 0 h 39960"/>
                      <a:gd name="textAreaBottom" fmla="*/ 40320 h 39960"/>
                    </a:gdLst>
                    <a:ahLst/>
                    <a:rect l="textAreaLeft" t="textAreaTop" r="textAreaRight" b="textAreaBottom"/>
                    <a:pathLst>
                      <a:path w="123" h="301">
                        <a:moveTo>
                          <a:pt x="101" y="0"/>
                        </a:moveTo>
                        <a:lnTo>
                          <a:pt x="101" y="12"/>
                        </a:lnTo>
                        <a:lnTo>
                          <a:pt x="101" y="45"/>
                        </a:lnTo>
                        <a:lnTo>
                          <a:pt x="101" y="78"/>
                        </a:lnTo>
                        <a:lnTo>
                          <a:pt x="101" y="123"/>
                        </a:lnTo>
                        <a:lnTo>
                          <a:pt x="89" y="156"/>
                        </a:lnTo>
                        <a:lnTo>
                          <a:pt x="78" y="190"/>
                        </a:lnTo>
                        <a:lnTo>
                          <a:pt x="56" y="223"/>
                        </a:lnTo>
                        <a:lnTo>
                          <a:pt x="34" y="257"/>
                        </a:lnTo>
                        <a:lnTo>
                          <a:pt x="0" y="279"/>
                        </a:lnTo>
                        <a:lnTo>
                          <a:pt x="11" y="301"/>
                        </a:lnTo>
                        <a:lnTo>
                          <a:pt x="45" y="268"/>
                        </a:lnTo>
                        <a:lnTo>
                          <a:pt x="78" y="246"/>
                        </a:lnTo>
                        <a:lnTo>
                          <a:pt x="101" y="201"/>
                        </a:lnTo>
                        <a:lnTo>
                          <a:pt x="112" y="168"/>
                        </a:lnTo>
                        <a:lnTo>
                          <a:pt x="123" y="123"/>
                        </a:lnTo>
                        <a:lnTo>
                          <a:pt x="123" y="78"/>
                        </a:lnTo>
                        <a:lnTo>
                          <a:pt x="123" y="45"/>
                        </a:lnTo>
                        <a:lnTo>
                          <a:pt x="123" y="0"/>
                        </a:lnTo>
                        <a:lnTo>
                          <a:pt x="123" y="12"/>
                        </a:lnTo>
                        <a:lnTo>
                          <a:pt x="101" y="0"/>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Freeform 1152"/>
                  <p:cNvSpPr/>
                  <p:nvPr/>
                </p:nvSpPr>
                <p:spPr>
                  <a:xfrm rot="111600">
                    <a:off x="2811240" y="1248120"/>
                    <a:ext cx="9720" cy="17640"/>
                  </a:xfrm>
                  <a:custGeom>
                    <a:avLst/>
                    <a:gdLst>
                      <a:gd name="textAreaLeft" fmla="*/ 0 w 9720"/>
                      <a:gd name="textAreaRight" fmla="*/ 10080 w 9720"/>
                      <a:gd name="textAreaTop" fmla="*/ 0 h 17640"/>
                      <a:gd name="textAreaBottom" fmla="*/ 18000 h 17640"/>
                    </a:gdLst>
                    <a:ahLst/>
                    <a:rect l="textAreaLeft" t="textAreaTop" r="textAreaRight" b="textAreaBottom"/>
                    <a:pathLst>
                      <a:path w="100" h="134">
                        <a:moveTo>
                          <a:pt x="89" y="0"/>
                        </a:moveTo>
                        <a:lnTo>
                          <a:pt x="89" y="0"/>
                        </a:lnTo>
                        <a:lnTo>
                          <a:pt x="0" y="122"/>
                        </a:lnTo>
                        <a:lnTo>
                          <a:pt x="22" y="134"/>
                        </a:lnTo>
                        <a:lnTo>
                          <a:pt x="100" y="11"/>
                        </a:lnTo>
                        <a:lnTo>
                          <a:pt x="89" y="0"/>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Freeform 1151"/>
                  <p:cNvSpPr/>
                  <p:nvPr/>
                </p:nvSpPr>
                <p:spPr>
                  <a:xfrm rot="111600">
                    <a:off x="2820240" y="1220040"/>
                    <a:ext cx="14040" cy="29520"/>
                  </a:xfrm>
                  <a:custGeom>
                    <a:avLst/>
                    <a:gdLst>
                      <a:gd name="textAreaLeft" fmla="*/ 0 w 14040"/>
                      <a:gd name="textAreaRight" fmla="*/ 14400 w 14040"/>
                      <a:gd name="textAreaTop" fmla="*/ 0 h 29520"/>
                      <a:gd name="textAreaBottom" fmla="*/ 29880 h 29520"/>
                    </a:gdLst>
                    <a:ahLst/>
                    <a:rect l="textAreaLeft" t="textAreaTop" r="textAreaRight" b="textAreaBottom"/>
                    <a:pathLst>
                      <a:path w="145" h="223">
                        <a:moveTo>
                          <a:pt x="122" y="0"/>
                        </a:moveTo>
                        <a:lnTo>
                          <a:pt x="122" y="0"/>
                        </a:lnTo>
                        <a:lnTo>
                          <a:pt x="111" y="22"/>
                        </a:lnTo>
                        <a:lnTo>
                          <a:pt x="89" y="56"/>
                        </a:lnTo>
                        <a:lnTo>
                          <a:pt x="78" y="78"/>
                        </a:lnTo>
                        <a:lnTo>
                          <a:pt x="56" y="111"/>
                        </a:lnTo>
                        <a:lnTo>
                          <a:pt x="44" y="134"/>
                        </a:lnTo>
                        <a:lnTo>
                          <a:pt x="33" y="167"/>
                        </a:lnTo>
                        <a:lnTo>
                          <a:pt x="11" y="189"/>
                        </a:lnTo>
                        <a:lnTo>
                          <a:pt x="0" y="212"/>
                        </a:lnTo>
                        <a:lnTo>
                          <a:pt x="11" y="223"/>
                        </a:lnTo>
                        <a:lnTo>
                          <a:pt x="33" y="201"/>
                        </a:lnTo>
                        <a:lnTo>
                          <a:pt x="44" y="178"/>
                        </a:lnTo>
                        <a:lnTo>
                          <a:pt x="67" y="145"/>
                        </a:lnTo>
                        <a:lnTo>
                          <a:pt x="78" y="123"/>
                        </a:lnTo>
                        <a:lnTo>
                          <a:pt x="100" y="89"/>
                        </a:lnTo>
                        <a:lnTo>
                          <a:pt x="111" y="67"/>
                        </a:lnTo>
                        <a:lnTo>
                          <a:pt x="134" y="33"/>
                        </a:lnTo>
                        <a:lnTo>
                          <a:pt x="145" y="11"/>
                        </a:lnTo>
                        <a:lnTo>
                          <a:pt x="122" y="0"/>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Freeform 1150"/>
                  <p:cNvSpPr/>
                  <p:nvPr/>
                </p:nvSpPr>
                <p:spPr>
                  <a:xfrm rot="111600">
                    <a:off x="2832840" y="1193760"/>
                    <a:ext cx="11880" cy="28080"/>
                  </a:xfrm>
                  <a:custGeom>
                    <a:avLst/>
                    <a:gdLst>
                      <a:gd name="textAreaLeft" fmla="*/ 0 w 11880"/>
                      <a:gd name="textAreaRight" fmla="*/ 12240 w 11880"/>
                      <a:gd name="textAreaTop" fmla="*/ 0 h 28080"/>
                      <a:gd name="textAreaBottom" fmla="*/ 28440 h 28080"/>
                    </a:gdLst>
                    <a:ahLst/>
                    <a:rect l="textAreaLeft" t="textAreaTop" r="textAreaRight" b="textAreaBottom"/>
                    <a:pathLst>
                      <a:path w="123" h="212">
                        <a:moveTo>
                          <a:pt x="123" y="0"/>
                        </a:moveTo>
                        <a:lnTo>
                          <a:pt x="101" y="0"/>
                        </a:lnTo>
                        <a:lnTo>
                          <a:pt x="90" y="23"/>
                        </a:lnTo>
                        <a:lnTo>
                          <a:pt x="78" y="56"/>
                        </a:lnTo>
                        <a:lnTo>
                          <a:pt x="67" y="78"/>
                        </a:lnTo>
                        <a:lnTo>
                          <a:pt x="56" y="101"/>
                        </a:lnTo>
                        <a:lnTo>
                          <a:pt x="45" y="123"/>
                        </a:lnTo>
                        <a:lnTo>
                          <a:pt x="34" y="156"/>
                        </a:lnTo>
                        <a:lnTo>
                          <a:pt x="23" y="179"/>
                        </a:lnTo>
                        <a:lnTo>
                          <a:pt x="0" y="201"/>
                        </a:lnTo>
                        <a:lnTo>
                          <a:pt x="23" y="212"/>
                        </a:lnTo>
                        <a:lnTo>
                          <a:pt x="34" y="190"/>
                        </a:lnTo>
                        <a:lnTo>
                          <a:pt x="56" y="168"/>
                        </a:lnTo>
                        <a:lnTo>
                          <a:pt x="67" y="134"/>
                        </a:lnTo>
                        <a:lnTo>
                          <a:pt x="78" y="112"/>
                        </a:lnTo>
                        <a:lnTo>
                          <a:pt x="90" y="90"/>
                        </a:lnTo>
                        <a:lnTo>
                          <a:pt x="101" y="67"/>
                        </a:lnTo>
                        <a:lnTo>
                          <a:pt x="112" y="34"/>
                        </a:lnTo>
                        <a:lnTo>
                          <a:pt x="123" y="12"/>
                        </a:lnTo>
                        <a:lnTo>
                          <a:pt x="101" y="0"/>
                        </a:lnTo>
                        <a:lnTo>
                          <a:pt x="123" y="0"/>
                        </a:lnTo>
                        <a:close/>
                      </a:path>
                    </a:pathLst>
                  </a:custGeom>
                  <a:solidFill>
                    <a:srgbClr val="0000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1149"/>
                  <p:cNvSpPr/>
                  <p:nvPr/>
                </p:nvSpPr>
                <p:spPr>
                  <a:xfrm rot="111600">
                    <a:off x="2842560" y="1194120"/>
                    <a:ext cx="2880" cy="23760"/>
                  </a:xfrm>
                  <a:custGeom>
                    <a:avLst/>
                    <a:gdLst>
                      <a:gd name="textAreaLeft" fmla="*/ 0 w 2880"/>
                      <a:gd name="textAreaRight" fmla="*/ 3240 w 2880"/>
                      <a:gd name="textAreaTop" fmla="*/ 0 h 23760"/>
                      <a:gd name="textAreaBottom" fmla="*/ 24120 h 23760"/>
                    </a:gdLst>
                    <a:ahLst/>
                    <a:rect l="textAreaLeft" t="textAreaTop" r="textAreaRight" b="textAreaBottom"/>
                    <a:pathLst>
                      <a:path w="33" h="179">
                        <a:moveTo>
                          <a:pt x="11" y="156"/>
                        </a:moveTo>
                        <a:lnTo>
                          <a:pt x="33" y="168"/>
                        </a:lnTo>
                        <a:lnTo>
                          <a:pt x="22" y="0"/>
                        </a:lnTo>
                        <a:lnTo>
                          <a:pt x="0" y="0"/>
                        </a:lnTo>
                        <a:lnTo>
                          <a:pt x="11" y="168"/>
                        </a:lnTo>
                        <a:lnTo>
                          <a:pt x="22" y="179"/>
                        </a:lnTo>
                        <a:lnTo>
                          <a:pt x="11" y="156"/>
                        </a:lnTo>
                        <a:close/>
                      </a:path>
                    </a:pathLst>
                  </a:custGeom>
                  <a:solidFill>
                    <a:srgbClr val="00000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Freeform 1148"/>
                  <p:cNvSpPr/>
                  <p:nvPr/>
                </p:nvSpPr>
                <p:spPr>
                  <a:xfrm rot="111600">
                    <a:off x="2844000" y="1191240"/>
                    <a:ext cx="11880" cy="26640"/>
                  </a:xfrm>
                  <a:custGeom>
                    <a:avLst/>
                    <a:gdLst>
                      <a:gd name="textAreaLeft" fmla="*/ 0 w 11880"/>
                      <a:gd name="textAreaRight" fmla="*/ 12240 w 11880"/>
                      <a:gd name="textAreaTop" fmla="*/ 0 h 26640"/>
                      <a:gd name="textAreaBottom" fmla="*/ 27000 h 26640"/>
                    </a:gdLst>
                    <a:ahLst/>
                    <a:rect l="textAreaLeft" t="textAreaTop" r="textAreaRight" b="textAreaBottom"/>
                    <a:pathLst>
                      <a:path w="122" h="201">
                        <a:moveTo>
                          <a:pt x="111" y="0"/>
                        </a:moveTo>
                        <a:lnTo>
                          <a:pt x="89" y="0"/>
                        </a:lnTo>
                        <a:lnTo>
                          <a:pt x="89" y="22"/>
                        </a:lnTo>
                        <a:lnTo>
                          <a:pt x="89" y="56"/>
                        </a:lnTo>
                        <a:lnTo>
                          <a:pt x="78" y="78"/>
                        </a:lnTo>
                        <a:lnTo>
                          <a:pt x="67" y="100"/>
                        </a:lnTo>
                        <a:lnTo>
                          <a:pt x="56" y="123"/>
                        </a:lnTo>
                        <a:lnTo>
                          <a:pt x="33" y="145"/>
                        </a:lnTo>
                        <a:lnTo>
                          <a:pt x="22" y="167"/>
                        </a:lnTo>
                        <a:lnTo>
                          <a:pt x="0" y="178"/>
                        </a:lnTo>
                        <a:lnTo>
                          <a:pt x="11" y="201"/>
                        </a:lnTo>
                        <a:lnTo>
                          <a:pt x="33" y="178"/>
                        </a:lnTo>
                        <a:lnTo>
                          <a:pt x="56" y="167"/>
                        </a:lnTo>
                        <a:lnTo>
                          <a:pt x="67" y="134"/>
                        </a:lnTo>
                        <a:lnTo>
                          <a:pt x="89" y="112"/>
                        </a:lnTo>
                        <a:lnTo>
                          <a:pt x="100" y="89"/>
                        </a:lnTo>
                        <a:lnTo>
                          <a:pt x="111" y="56"/>
                        </a:lnTo>
                        <a:lnTo>
                          <a:pt x="122" y="22"/>
                        </a:lnTo>
                        <a:lnTo>
                          <a:pt x="122" y="0"/>
                        </a:lnTo>
                        <a:lnTo>
                          <a:pt x="100" y="0"/>
                        </a:lnTo>
                        <a:lnTo>
                          <a:pt x="111" y="0"/>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Freeform 1147"/>
                  <p:cNvSpPr/>
                  <p:nvPr/>
                </p:nvSpPr>
                <p:spPr>
                  <a:xfrm rot="111600">
                    <a:off x="2854440" y="1191600"/>
                    <a:ext cx="7560" cy="17640"/>
                  </a:xfrm>
                  <a:custGeom>
                    <a:avLst/>
                    <a:gdLst>
                      <a:gd name="textAreaLeft" fmla="*/ 0 w 7560"/>
                      <a:gd name="textAreaRight" fmla="*/ 7920 w 7560"/>
                      <a:gd name="textAreaTop" fmla="*/ 0 h 17640"/>
                      <a:gd name="textAreaBottom" fmla="*/ 18000 h 17640"/>
                    </a:gdLst>
                    <a:ahLst/>
                    <a:rect l="textAreaLeft" t="textAreaTop" r="textAreaRight" b="textAreaBottom"/>
                    <a:pathLst>
                      <a:path w="78" h="134">
                        <a:moveTo>
                          <a:pt x="78" y="123"/>
                        </a:moveTo>
                        <a:lnTo>
                          <a:pt x="78" y="123"/>
                        </a:lnTo>
                        <a:lnTo>
                          <a:pt x="11" y="0"/>
                        </a:lnTo>
                        <a:lnTo>
                          <a:pt x="0" y="0"/>
                        </a:lnTo>
                        <a:lnTo>
                          <a:pt x="56" y="134"/>
                        </a:lnTo>
                        <a:lnTo>
                          <a:pt x="78" y="123"/>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Freeform 1146"/>
                  <p:cNvSpPr/>
                  <p:nvPr/>
                </p:nvSpPr>
                <p:spPr>
                  <a:xfrm rot="111600">
                    <a:off x="2858760" y="1208160"/>
                    <a:ext cx="41040" cy="38160"/>
                  </a:xfrm>
                  <a:custGeom>
                    <a:avLst/>
                    <a:gdLst>
                      <a:gd name="textAreaLeft" fmla="*/ 0 w 41040"/>
                      <a:gd name="textAreaRight" fmla="*/ 41400 w 41040"/>
                      <a:gd name="textAreaTop" fmla="*/ 0 h 38160"/>
                      <a:gd name="textAreaBottom" fmla="*/ 38520 h 38160"/>
                    </a:gdLst>
                    <a:ahLst/>
                    <a:rect l="textAreaLeft" t="textAreaTop" r="textAreaRight" b="textAreaBottom"/>
                    <a:pathLst>
                      <a:path w="423" h="289">
                        <a:moveTo>
                          <a:pt x="423" y="278"/>
                        </a:moveTo>
                        <a:lnTo>
                          <a:pt x="412" y="267"/>
                        </a:lnTo>
                        <a:lnTo>
                          <a:pt x="379" y="267"/>
                        </a:lnTo>
                        <a:lnTo>
                          <a:pt x="345" y="256"/>
                        </a:lnTo>
                        <a:lnTo>
                          <a:pt x="312" y="256"/>
                        </a:lnTo>
                        <a:lnTo>
                          <a:pt x="290" y="245"/>
                        </a:lnTo>
                        <a:lnTo>
                          <a:pt x="256" y="234"/>
                        </a:lnTo>
                        <a:lnTo>
                          <a:pt x="234" y="223"/>
                        </a:lnTo>
                        <a:lnTo>
                          <a:pt x="200" y="200"/>
                        </a:lnTo>
                        <a:lnTo>
                          <a:pt x="178" y="189"/>
                        </a:lnTo>
                        <a:lnTo>
                          <a:pt x="156" y="167"/>
                        </a:lnTo>
                        <a:lnTo>
                          <a:pt x="134" y="156"/>
                        </a:lnTo>
                        <a:lnTo>
                          <a:pt x="111" y="133"/>
                        </a:lnTo>
                        <a:lnTo>
                          <a:pt x="89" y="111"/>
                        </a:lnTo>
                        <a:lnTo>
                          <a:pt x="78" y="78"/>
                        </a:lnTo>
                        <a:lnTo>
                          <a:pt x="56" y="55"/>
                        </a:lnTo>
                        <a:lnTo>
                          <a:pt x="44" y="33"/>
                        </a:lnTo>
                        <a:lnTo>
                          <a:pt x="22" y="0"/>
                        </a:lnTo>
                        <a:lnTo>
                          <a:pt x="0" y="11"/>
                        </a:lnTo>
                        <a:lnTo>
                          <a:pt x="22" y="44"/>
                        </a:lnTo>
                        <a:lnTo>
                          <a:pt x="33" y="67"/>
                        </a:lnTo>
                        <a:lnTo>
                          <a:pt x="56" y="100"/>
                        </a:lnTo>
                        <a:lnTo>
                          <a:pt x="78" y="122"/>
                        </a:lnTo>
                        <a:lnTo>
                          <a:pt x="100" y="145"/>
                        </a:lnTo>
                        <a:lnTo>
                          <a:pt x="122" y="167"/>
                        </a:lnTo>
                        <a:lnTo>
                          <a:pt x="145" y="189"/>
                        </a:lnTo>
                        <a:lnTo>
                          <a:pt x="167" y="200"/>
                        </a:lnTo>
                        <a:lnTo>
                          <a:pt x="200" y="223"/>
                        </a:lnTo>
                        <a:lnTo>
                          <a:pt x="223" y="234"/>
                        </a:lnTo>
                        <a:lnTo>
                          <a:pt x="256" y="245"/>
                        </a:lnTo>
                        <a:lnTo>
                          <a:pt x="278" y="267"/>
                        </a:lnTo>
                        <a:lnTo>
                          <a:pt x="312" y="267"/>
                        </a:lnTo>
                        <a:lnTo>
                          <a:pt x="345" y="278"/>
                        </a:lnTo>
                        <a:lnTo>
                          <a:pt x="379" y="289"/>
                        </a:lnTo>
                        <a:lnTo>
                          <a:pt x="412" y="289"/>
                        </a:lnTo>
                        <a:lnTo>
                          <a:pt x="401" y="289"/>
                        </a:lnTo>
                        <a:lnTo>
                          <a:pt x="423" y="278"/>
                        </a:lnTo>
                        <a:close/>
                      </a:path>
                    </a:pathLst>
                  </a:custGeom>
                  <a:solidFill>
                    <a:srgbClr val="0000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Freeform 1145"/>
                  <p:cNvSpPr/>
                  <p:nvPr/>
                </p:nvSpPr>
                <p:spPr>
                  <a:xfrm rot="111600">
                    <a:off x="2896920" y="1246320"/>
                    <a:ext cx="17280" cy="26640"/>
                  </a:xfrm>
                  <a:custGeom>
                    <a:avLst/>
                    <a:gdLst>
                      <a:gd name="textAreaLeft" fmla="*/ 0 w 17280"/>
                      <a:gd name="textAreaRight" fmla="*/ 17640 w 17280"/>
                      <a:gd name="textAreaTop" fmla="*/ 0 h 26640"/>
                      <a:gd name="textAreaBottom" fmla="*/ 27000 h 26640"/>
                    </a:gdLst>
                    <a:ahLst/>
                    <a:rect l="textAreaLeft" t="textAreaTop" r="textAreaRight" b="textAreaBottom"/>
                    <a:pathLst>
                      <a:path w="178" h="201">
                        <a:moveTo>
                          <a:pt x="156" y="201"/>
                        </a:moveTo>
                        <a:lnTo>
                          <a:pt x="167" y="179"/>
                        </a:lnTo>
                        <a:lnTo>
                          <a:pt x="134" y="179"/>
                        </a:lnTo>
                        <a:lnTo>
                          <a:pt x="112" y="168"/>
                        </a:lnTo>
                        <a:lnTo>
                          <a:pt x="78" y="145"/>
                        </a:lnTo>
                        <a:lnTo>
                          <a:pt x="67" y="123"/>
                        </a:lnTo>
                        <a:lnTo>
                          <a:pt x="45" y="89"/>
                        </a:lnTo>
                        <a:lnTo>
                          <a:pt x="34" y="67"/>
                        </a:lnTo>
                        <a:lnTo>
                          <a:pt x="34" y="34"/>
                        </a:lnTo>
                        <a:lnTo>
                          <a:pt x="22" y="0"/>
                        </a:lnTo>
                        <a:lnTo>
                          <a:pt x="0" y="11"/>
                        </a:lnTo>
                        <a:lnTo>
                          <a:pt x="0" y="34"/>
                        </a:lnTo>
                        <a:lnTo>
                          <a:pt x="11" y="67"/>
                        </a:lnTo>
                        <a:lnTo>
                          <a:pt x="22" y="101"/>
                        </a:lnTo>
                        <a:lnTo>
                          <a:pt x="45" y="134"/>
                        </a:lnTo>
                        <a:lnTo>
                          <a:pt x="67" y="156"/>
                        </a:lnTo>
                        <a:lnTo>
                          <a:pt x="100" y="179"/>
                        </a:lnTo>
                        <a:lnTo>
                          <a:pt x="134" y="201"/>
                        </a:lnTo>
                        <a:lnTo>
                          <a:pt x="167" y="201"/>
                        </a:lnTo>
                        <a:lnTo>
                          <a:pt x="178" y="190"/>
                        </a:lnTo>
                        <a:lnTo>
                          <a:pt x="156" y="201"/>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Freeform 1144"/>
                  <p:cNvSpPr/>
                  <p:nvPr/>
                </p:nvSpPr>
                <p:spPr>
                  <a:xfrm rot="111600">
                    <a:off x="2909880" y="1239480"/>
                    <a:ext cx="3960" cy="33840"/>
                  </a:xfrm>
                  <a:custGeom>
                    <a:avLst/>
                    <a:gdLst>
                      <a:gd name="textAreaLeft" fmla="*/ 0 w 3960"/>
                      <a:gd name="textAreaRight" fmla="*/ 4320 w 3960"/>
                      <a:gd name="textAreaTop" fmla="*/ 0 h 33840"/>
                      <a:gd name="textAreaBottom" fmla="*/ 34200 h 33840"/>
                    </a:gdLst>
                    <a:ahLst/>
                    <a:rect l="textAreaLeft" t="textAreaTop" r="textAreaRight" b="textAreaBottom"/>
                    <a:pathLst>
                      <a:path w="44" h="256">
                        <a:moveTo>
                          <a:pt x="22" y="0"/>
                        </a:moveTo>
                        <a:lnTo>
                          <a:pt x="22" y="0"/>
                        </a:lnTo>
                        <a:lnTo>
                          <a:pt x="0" y="55"/>
                        </a:lnTo>
                        <a:lnTo>
                          <a:pt x="0" y="133"/>
                        </a:lnTo>
                        <a:lnTo>
                          <a:pt x="11" y="200"/>
                        </a:lnTo>
                        <a:lnTo>
                          <a:pt x="22" y="256"/>
                        </a:lnTo>
                        <a:lnTo>
                          <a:pt x="44" y="245"/>
                        </a:lnTo>
                        <a:lnTo>
                          <a:pt x="33" y="200"/>
                        </a:lnTo>
                        <a:lnTo>
                          <a:pt x="33" y="122"/>
                        </a:lnTo>
                        <a:lnTo>
                          <a:pt x="33" y="55"/>
                        </a:lnTo>
                        <a:lnTo>
                          <a:pt x="33" y="22"/>
                        </a:lnTo>
                        <a:lnTo>
                          <a:pt x="2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Freeform 1143"/>
                  <p:cNvSpPr/>
                  <p:nvPr/>
                </p:nvSpPr>
                <p:spPr>
                  <a:xfrm rot="111600">
                    <a:off x="2912760" y="1237680"/>
                    <a:ext cx="17280" cy="4320"/>
                  </a:xfrm>
                  <a:custGeom>
                    <a:avLst/>
                    <a:gdLst>
                      <a:gd name="textAreaLeft" fmla="*/ 0 w 17280"/>
                      <a:gd name="textAreaRight" fmla="*/ 17640 w 17280"/>
                      <a:gd name="textAreaTop" fmla="*/ 0 h 4320"/>
                      <a:gd name="textAreaBottom" fmla="*/ 4680 h 4320"/>
                    </a:gdLst>
                    <a:ahLst/>
                    <a:rect l="textAreaLeft" t="textAreaTop" r="textAreaRight" b="textAreaBottom"/>
                    <a:pathLst>
                      <a:path w="178" h="34">
                        <a:moveTo>
                          <a:pt x="167" y="12"/>
                        </a:moveTo>
                        <a:lnTo>
                          <a:pt x="167" y="12"/>
                        </a:lnTo>
                        <a:lnTo>
                          <a:pt x="156" y="12"/>
                        </a:lnTo>
                        <a:lnTo>
                          <a:pt x="134" y="12"/>
                        </a:lnTo>
                        <a:lnTo>
                          <a:pt x="112" y="12"/>
                        </a:lnTo>
                        <a:lnTo>
                          <a:pt x="89" y="0"/>
                        </a:lnTo>
                        <a:lnTo>
                          <a:pt x="67" y="0"/>
                        </a:lnTo>
                        <a:lnTo>
                          <a:pt x="45" y="0"/>
                        </a:lnTo>
                        <a:lnTo>
                          <a:pt x="22" y="0"/>
                        </a:lnTo>
                        <a:lnTo>
                          <a:pt x="0" y="12"/>
                        </a:lnTo>
                        <a:lnTo>
                          <a:pt x="11" y="34"/>
                        </a:lnTo>
                        <a:lnTo>
                          <a:pt x="22" y="23"/>
                        </a:lnTo>
                        <a:lnTo>
                          <a:pt x="45" y="23"/>
                        </a:lnTo>
                        <a:lnTo>
                          <a:pt x="67" y="23"/>
                        </a:lnTo>
                        <a:lnTo>
                          <a:pt x="89" y="23"/>
                        </a:lnTo>
                        <a:lnTo>
                          <a:pt x="112" y="34"/>
                        </a:lnTo>
                        <a:lnTo>
                          <a:pt x="145" y="34"/>
                        </a:lnTo>
                        <a:lnTo>
                          <a:pt x="167" y="34"/>
                        </a:lnTo>
                        <a:lnTo>
                          <a:pt x="178" y="23"/>
                        </a:lnTo>
                        <a:lnTo>
                          <a:pt x="167" y="1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Freeform 1142"/>
                  <p:cNvSpPr/>
                  <p:nvPr/>
                </p:nvSpPr>
                <p:spPr>
                  <a:xfrm rot="111600">
                    <a:off x="2924640" y="1180440"/>
                    <a:ext cx="8640" cy="60480"/>
                  </a:xfrm>
                  <a:custGeom>
                    <a:avLst/>
                    <a:gdLst>
                      <a:gd name="textAreaLeft" fmla="*/ 0 w 8640"/>
                      <a:gd name="textAreaRight" fmla="*/ 9000 w 8640"/>
                      <a:gd name="textAreaTop" fmla="*/ 0 h 60480"/>
                      <a:gd name="textAreaBottom" fmla="*/ 60840 h 60480"/>
                    </a:gdLst>
                    <a:ahLst/>
                    <a:rect l="textAreaLeft" t="textAreaTop" r="textAreaRight" b="textAreaBottom"/>
                    <a:pathLst>
                      <a:path w="89" h="457">
                        <a:moveTo>
                          <a:pt x="0" y="0"/>
                        </a:moveTo>
                        <a:lnTo>
                          <a:pt x="0" y="0"/>
                        </a:lnTo>
                        <a:lnTo>
                          <a:pt x="11" y="33"/>
                        </a:lnTo>
                        <a:lnTo>
                          <a:pt x="22" y="89"/>
                        </a:lnTo>
                        <a:lnTo>
                          <a:pt x="33" y="156"/>
                        </a:lnTo>
                        <a:lnTo>
                          <a:pt x="44" y="234"/>
                        </a:lnTo>
                        <a:lnTo>
                          <a:pt x="66" y="301"/>
                        </a:lnTo>
                        <a:lnTo>
                          <a:pt x="66" y="368"/>
                        </a:lnTo>
                        <a:lnTo>
                          <a:pt x="66" y="423"/>
                        </a:lnTo>
                        <a:lnTo>
                          <a:pt x="55" y="446"/>
                        </a:lnTo>
                        <a:lnTo>
                          <a:pt x="66" y="457"/>
                        </a:lnTo>
                        <a:lnTo>
                          <a:pt x="89" y="423"/>
                        </a:lnTo>
                        <a:lnTo>
                          <a:pt x="89" y="368"/>
                        </a:lnTo>
                        <a:lnTo>
                          <a:pt x="89" y="301"/>
                        </a:lnTo>
                        <a:lnTo>
                          <a:pt x="78" y="223"/>
                        </a:lnTo>
                        <a:lnTo>
                          <a:pt x="55" y="145"/>
                        </a:lnTo>
                        <a:lnTo>
                          <a:pt x="44" y="78"/>
                        </a:lnTo>
                        <a:lnTo>
                          <a:pt x="22" y="22"/>
                        </a:lnTo>
                        <a:lnTo>
                          <a:pt x="11" y="0"/>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Freeform 1141"/>
                  <p:cNvSpPr/>
                  <p:nvPr/>
                </p:nvSpPr>
                <p:spPr>
                  <a:xfrm rot="111600">
                    <a:off x="2891160" y="1145520"/>
                    <a:ext cx="35640" cy="34200"/>
                  </a:xfrm>
                  <a:custGeom>
                    <a:avLst/>
                    <a:gdLst>
                      <a:gd name="textAreaLeft" fmla="*/ 0 w 35640"/>
                      <a:gd name="textAreaRight" fmla="*/ 36000 w 35640"/>
                      <a:gd name="textAreaTop" fmla="*/ 0 h 34200"/>
                      <a:gd name="textAreaBottom" fmla="*/ 34560 h 34200"/>
                    </a:gdLst>
                    <a:ahLst/>
                    <a:rect l="textAreaLeft" t="textAreaTop" r="textAreaRight" b="textAreaBottom"/>
                    <a:pathLst>
                      <a:path w="368" h="257">
                        <a:moveTo>
                          <a:pt x="0" y="23"/>
                        </a:moveTo>
                        <a:lnTo>
                          <a:pt x="0" y="23"/>
                        </a:lnTo>
                        <a:lnTo>
                          <a:pt x="22" y="23"/>
                        </a:lnTo>
                        <a:lnTo>
                          <a:pt x="45" y="23"/>
                        </a:lnTo>
                        <a:lnTo>
                          <a:pt x="78" y="34"/>
                        </a:lnTo>
                        <a:lnTo>
                          <a:pt x="100" y="45"/>
                        </a:lnTo>
                        <a:lnTo>
                          <a:pt x="123" y="56"/>
                        </a:lnTo>
                        <a:lnTo>
                          <a:pt x="145" y="67"/>
                        </a:lnTo>
                        <a:lnTo>
                          <a:pt x="178" y="78"/>
                        </a:lnTo>
                        <a:lnTo>
                          <a:pt x="201" y="101"/>
                        </a:lnTo>
                        <a:lnTo>
                          <a:pt x="223" y="112"/>
                        </a:lnTo>
                        <a:lnTo>
                          <a:pt x="245" y="134"/>
                        </a:lnTo>
                        <a:lnTo>
                          <a:pt x="267" y="156"/>
                        </a:lnTo>
                        <a:lnTo>
                          <a:pt x="290" y="168"/>
                        </a:lnTo>
                        <a:lnTo>
                          <a:pt x="301" y="190"/>
                        </a:lnTo>
                        <a:lnTo>
                          <a:pt x="323" y="212"/>
                        </a:lnTo>
                        <a:lnTo>
                          <a:pt x="334" y="234"/>
                        </a:lnTo>
                        <a:lnTo>
                          <a:pt x="357" y="257"/>
                        </a:lnTo>
                        <a:lnTo>
                          <a:pt x="368" y="257"/>
                        </a:lnTo>
                        <a:lnTo>
                          <a:pt x="357" y="223"/>
                        </a:lnTo>
                        <a:lnTo>
                          <a:pt x="334" y="201"/>
                        </a:lnTo>
                        <a:lnTo>
                          <a:pt x="323" y="179"/>
                        </a:lnTo>
                        <a:lnTo>
                          <a:pt x="301" y="156"/>
                        </a:lnTo>
                        <a:lnTo>
                          <a:pt x="279" y="134"/>
                        </a:lnTo>
                        <a:lnTo>
                          <a:pt x="256" y="123"/>
                        </a:lnTo>
                        <a:lnTo>
                          <a:pt x="234" y="101"/>
                        </a:lnTo>
                        <a:lnTo>
                          <a:pt x="212" y="78"/>
                        </a:lnTo>
                        <a:lnTo>
                          <a:pt x="189" y="67"/>
                        </a:lnTo>
                        <a:lnTo>
                          <a:pt x="156" y="45"/>
                        </a:lnTo>
                        <a:lnTo>
                          <a:pt x="134" y="34"/>
                        </a:lnTo>
                        <a:lnTo>
                          <a:pt x="111" y="23"/>
                        </a:lnTo>
                        <a:lnTo>
                          <a:pt x="78" y="12"/>
                        </a:lnTo>
                        <a:lnTo>
                          <a:pt x="56" y="0"/>
                        </a:lnTo>
                        <a:lnTo>
                          <a:pt x="22" y="0"/>
                        </a:lnTo>
                        <a:lnTo>
                          <a:pt x="0" y="0"/>
                        </a:lnTo>
                        <a:lnTo>
                          <a:pt x="0" y="23"/>
                        </a:lnTo>
                        <a:close/>
                      </a:path>
                    </a:pathLst>
                  </a:custGeom>
                  <a:solidFill>
                    <a:srgbClr val="000000"/>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Freeform 1140"/>
                  <p:cNvSpPr/>
                  <p:nvPr/>
                </p:nvSpPr>
                <p:spPr>
                  <a:xfrm rot="111600">
                    <a:off x="2864520" y="1143360"/>
                    <a:ext cx="27000" cy="11520"/>
                  </a:xfrm>
                  <a:custGeom>
                    <a:avLst/>
                    <a:gdLst>
                      <a:gd name="textAreaLeft" fmla="*/ 0 w 27000"/>
                      <a:gd name="textAreaRight" fmla="*/ 27360 w 27000"/>
                      <a:gd name="textAreaTop" fmla="*/ 0 h 11520"/>
                      <a:gd name="textAreaBottom" fmla="*/ 11880 h 11520"/>
                    </a:gdLst>
                    <a:ahLst/>
                    <a:rect l="textAreaLeft" t="textAreaTop" r="textAreaRight" b="textAreaBottom"/>
                    <a:pathLst>
                      <a:path w="279" h="89">
                        <a:moveTo>
                          <a:pt x="0" y="78"/>
                        </a:moveTo>
                        <a:lnTo>
                          <a:pt x="11" y="89"/>
                        </a:lnTo>
                        <a:lnTo>
                          <a:pt x="34" y="78"/>
                        </a:lnTo>
                        <a:lnTo>
                          <a:pt x="45" y="78"/>
                        </a:lnTo>
                        <a:lnTo>
                          <a:pt x="56" y="67"/>
                        </a:lnTo>
                        <a:lnTo>
                          <a:pt x="78" y="67"/>
                        </a:lnTo>
                        <a:lnTo>
                          <a:pt x="101" y="56"/>
                        </a:lnTo>
                        <a:lnTo>
                          <a:pt x="112" y="56"/>
                        </a:lnTo>
                        <a:lnTo>
                          <a:pt x="134" y="56"/>
                        </a:lnTo>
                        <a:lnTo>
                          <a:pt x="145" y="45"/>
                        </a:lnTo>
                        <a:lnTo>
                          <a:pt x="167" y="45"/>
                        </a:lnTo>
                        <a:lnTo>
                          <a:pt x="190" y="34"/>
                        </a:lnTo>
                        <a:lnTo>
                          <a:pt x="201" y="34"/>
                        </a:lnTo>
                        <a:lnTo>
                          <a:pt x="223" y="34"/>
                        </a:lnTo>
                        <a:lnTo>
                          <a:pt x="234" y="34"/>
                        </a:lnTo>
                        <a:lnTo>
                          <a:pt x="245" y="23"/>
                        </a:lnTo>
                        <a:lnTo>
                          <a:pt x="268" y="23"/>
                        </a:lnTo>
                        <a:lnTo>
                          <a:pt x="279" y="34"/>
                        </a:lnTo>
                        <a:lnTo>
                          <a:pt x="279" y="11"/>
                        </a:lnTo>
                        <a:lnTo>
                          <a:pt x="257" y="0"/>
                        </a:lnTo>
                        <a:lnTo>
                          <a:pt x="245" y="0"/>
                        </a:lnTo>
                        <a:lnTo>
                          <a:pt x="234" y="11"/>
                        </a:lnTo>
                        <a:lnTo>
                          <a:pt x="212" y="11"/>
                        </a:lnTo>
                        <a:lnTo>
                          <a:pt x="190" y="11"/>
                        </a:lnTo>
                        <a:lnTo>
                          <a:pt x="179" y="11"/>
                        </a:lnTo>
                        <a:lnTo>
                          <a:pt x="156" y="23"/>
                        </a:lnTo>
                        <a:lnTo>
                          <a:pt x="145" y="23"/>
                        </a:lnTo>
                        <a:lnTo>
                          <a:pt x="123" y="34"/>
                        </a:lnTo>
                        <a:lnTo>
                          <a:pt x="101" y="34"/>
                        </a:lnTo>
                        <a:lnTo>
                          <a:pt x="89" y="34"/>
                        </a:lnTo>
                        <a:lnTo>
                          <a:pt x="67" y="45"/>
                        </a:lnTo>
                        <a:lnTo>
                          <a:pt x="56" y="45"/>
                        </a:lnTo>
                        <a:lnTo>
                          <a:pt x="34" y="56"/>
                        </a:lnTo>
                        <a:lnTo>
                          <a:pt x="23" y="56"/>
                        </a:lnTo>
                        <a:lnTo>
                          <a:pt x="0" y="67"/>
                        </a:lnTo>
                        <a:lnTo>
                          <a:pt x="23" y="78"/>
                        </a:lnTo>
                        <a:lnTo>
                          <a:pt x="0" y="78"/>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Freeform 1139"/>
                  <p:cNvSpPr/>
                  <p:nvPr/>
                </p:nvSpPr>
                <p:spPr>
                  <a:xfrm rot="111600">
                    <a:off x="2864880" y="1132560"/>
                    <a:ext cx="5400" cy="20520"/>
                  </a:xfrm>
                  <a:custGeom>
                    <a:avLst/>
                    <a:gdLst>
                      <a:gd name="textAreaLeft" fmla="*/ 0 w 5400"/>
                      <a:gd name="textAreaRight" fmla="*/ 5760 w 5400"/>
                      <a:gd name="textAreaTop" fmla="*/ 0 h 20520"/>
                      <a:gd name="textAreaBottom" fmla="*/ 20880 h 20520"/>
                    </a:gdLst>
                    <a:ahLst/>
                    <a:rect l="textAreaLeft" t="textAreaTop" r="textAreaRight" b="textAreaBottom"/>
                    <a:pathLst>
                      <a:path w="56" h="156">
                        <a:moveTo>
                          <a:pt x="45" y="23"/>
                        </a:moveTo>
                        <a:lnTo>
                          <a:pt x="34" y="11"/>
                        </a:lnTo>
                        <a:lnTo>
                          <a:pt x="11" y="45"/>
                        </a:lnTo>
                        <a:lnTo>
                          <a:pt x="11" y="78"/>
                        </a:lnTo>
                        <a:lnTo>
                          <a:pt x="0" y="112"/>
                        </a:lnTo>
                        <a:lnTo>
                          <a:pt x="0" y="156"/>
                        </a:lnTo>
                        <a:lnTo>
                          <a:pt x="23" y="156"/>
                        </a:lnTo>
                        <a:lnTo>
                          <a:pt x="23" y="112"/>
                        </a:lnTo>
                        <a:lnTo>
                          <a:pt x="34" y="89"/>
                        </a:lnTo>
                        <a:lnTo>
                          <a:pt x="45" y="56"/>
                        </a:lnTo>
                        <a:lnTo>
                          <a:pt x="56" y="23"/>
                        </a:lnTo>
                        <a:lnTo>
                          <a:pt x="34" y="0"/>
                        </a:lnTo>
                        <a:lnTo>
                          <a:pt x="45" y="23"/>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Freeform 1138"/>
                  <p:cNvSpPr/>
                  <p:nvPr/>
                </p:nvSpPr>
                <p:spPr>
                  <a:xfrm rot="111600">
                    <a:off x="2853720" y="1132200"/>
                    <a:ext cx="15120" cy="23760"/>
                  </a:xfrm>
                  <a:custGeom>
                    <a:avLst/>
                    <a:gdLst>
                      <a:gd name="textAreaLeft" fmla="*/ 0 w 15120"/>
                      <a:gd name="textAreaRight" fmla="*/ 15480 w 15120"/>
                      <a:gd name="textAreaTop" fmla="*/ 0 h 23760"/>
                      <a:gd name="textAreaBottom" fmla="*/ 24120 h 23760"/>
                    </a:gdLst>
                    <a:ahLst/>
                    <a:rect l="textAreaLeft" t="textAreaTop" r="textAreaRight" b="textAreaBottom"/>
                    <a:pathLst>
                      <a:path w="156" h="179">
                        <a:moveTo>
                          <a:pt x="11" y="179"/>
                        </a:moveTo>
                        <a:lnTo>
                          <a:pt x="22" y="167"/>
                        </a:lnTo>
                        <a:lnTo>
                          <a:pt x="33" y="156"/>
                        </a:lnTo>
                        <a:lnTo>
                          <a:pt x="44" y="134"/>
                        </a:lnTo>
                        <a:lnTo>
                          <a:pt x="56" y="112"/>
                        </a:lnTo>
                        <a:lnTo>
                          <a:pt x="67" y="89"/>
                        </a:lnTo>
                        <a:lnTo>
                          <a:pt x="89" y="78"/>
                        </a:lnTo>
                        <a:lnTo>
                          <a:pt x="111" y="56"/>
                        </a:lnTo>
                        <a:lnTo>
                          <a:pt x="134" y="45"/>
                        </a:lnTo>
                        <a:lnTo>
                          <a:pt x="156" y="23"/>
                        </a:lnTo>
                        <a:lnTo>
                          <a:pt x="145" y="0"/>
                        </a:lnTo>
                        <a:lnTo>
                          <a:pt x="111" y="23"/>
                        </a:lnTo>
                        <a:lnTo>
                          <a:pt x="89" y="34"/>
                        </a:lnTo>
                        <a:lnTo>
                          <a:pt x="67" y="56"/>
                        </a:lnTo>
                        <a:lnTo>
                          <a:pt x="44" y="78"/>
                        </a:lnTo>
                        <a:lnTo>
                          <a:pt x="33" y="101"/>
                        </a:lnTo>
                        <a:lnTo>
                          <a:pt x="22" y="123"/>
                        </a:lnTo>
                        <a:lnTo>
                          <a:pt x="11" y="145"/>
                        </a:lnTo>
                        <a:lnTo>
                          <a:pt x="0" y="167"/>
                        </a:lnTo>
                        <a:lnTo>
                          <a:pt x="22" y="156"/>
                        </a:lnTo>
                        <a:lnTo>
                          <a:pt x="11" y="179"/>
                        </a:lnTo>
                        <a:close/>
                      </a:path>
                    </a:pathLst>
                  </a:custGeom>
                  <a:solidFill>
                    <a:srgbClr val="00000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Freeform 1137"/>
                  <p:cNvSpPr/>
                  <p:nvPr/>
                </p:nvSpPr>
                <p:spPr>
                  <a:xfrm rot="111600">
                    <a:off x="2841480" y="1146960"/>
                    <a:ext cx="14040" cy="8640"/>
                  </a:xfrm>
                  <a:custGeom>
                    <a:avLst/>
                    <a:gdLst>
                      <a:gd name="textAreaLeft" fmla="*/ 0 w 14040"/>
                      <a:gd name="textAreaRight" fmla="*/ 14400 w 14040"/>
                      <a:gd name="textAreaTop" fmla="*/ 0 h 8640"/>
                      <a:gd name="textAreaBottom" fmla="*/ 9000 h 8640"/>
                    </a:gdLst>
                    <a:ahLst/>
                    <a:rect l="textAreaLeft" t="textAreaTop" r="textAreaRight" b="textAreaBottom"/>
                    <a:pathLst>
                      <a:path w="145" h="67">
                        <a:moveTo>
                          <a:pt x="11" y="0"/>
                        </a:moveTo>
                        <a:lnTo>
                          <a:pt x="11" y="22"/>
                        </a:lnTo>
                        <a:lnTo>
                          <a:pt x="23" y="22"/>
                        </a:lnTo>
                        <a:lnTo>
                          <a:pt x="34" y="33"/>
                        </a:lnTo>
                        <a:lnTo>
                          <a:pt x="56" y="33"/>
                        </a:lnTo>
                        <a:lnTo>
                          <a:pt x="67" y="33"/>
                        </a:lnTo>
                        <a:lnTo>
                          <a:pt x="89" y="44"/>
                        </a:lnTo>
                        <a:lnTo>
                          <a:pt x="101" y="44"/>
                        </a:lnTo>
                        <a:lnTo>
                          <a:pt x="112" y="55"/>
                        </a:lnTo>
                        <a:lnTo>
                          <a:pt x="134" y="67"/>
                        </a:lnTo>
                        <a:lnTo>
                          <a:pt x="145" y="44"/>
                        </a:lnTo>
                        <a:lnTo>
                          <a:pt x="123" y="44"/>
                        </a:lnTo>
                        <a:lnTo>
                          <a:pt x="112" y="33"/>
                        </a:lnTo>
                        <a:lnTo>
                          <a:pt x="89" y="22"/>
                        </a:lnTo>
                        <a:lnTo>
                          <a:pt x="78" y="11"/>
                        </a:lnTo>
                        <a:lnTo>
                          <a:pt x="56" y="11"/>
                        </a:lnTo>
                        <a:lnTo>
                          <a:pt x="45" y="11"/>
                        </a:lnTo>
                        <a:lnTo>
                          <a:pt x="23" y="0"/>
                        </a:lnTo>
                        <a:lnTo>
                          <a:pt x="11" y="0"/>
                        </a:lnTo>
                        <a:lnTo>
                          <a:pt x="0" y="11"/>
                        </a:lnTo>
                        <a:lnTo>
                          <a:pt x="11" y="0"/>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Freeform 1136"/>
                  <p:cNvSpPr/>
                  <p:nvPr/>
                </p:nvSpPr>
                <p:spPr>
                  <a:xfrm rot="111600">
                    <a:off x="2841480" y="1146960"/>
                    <a:ext cx="6480" cy="11520"/>
                  </a:xfrm>
                  <a:custGeom>
                    <a:avLst/>
                    <a:gdLst>
                      <a:gd name="textAreaLeft" fmla="*/ 0 w 6480"/>
                      <a:gd name="textAreaRight" fmla="*/ 6840 w 6480"/>
                      <a:gd name="textAreaTop" fmla="*/ 0 h 11520"/>
                      <a:gd name="textAreaBottom" fmla="*/ 11880 h 11520"/>
                    </a:gdLst>
                    <a:ahLst/>
                    <a:rect l="textAreaLeft" t="textAreaTop" r="textAreaRight" b="textAreaBottom"/>
                    <a:pathLst>
                      <a:path w="67" h="89">
                        <a:moveTo>
                          <a:pt x="56" y="89"/>
                        </a:moveTo>
                        <a:lnTo>
                          <a:pt x="67" y="78"/>
                        </a:lnTo>
                        <a:lnTo>
                          <a:pt x="67" y="67"/>
                        </a:lnTo>
                        <a:lnTo>
                          <a:pt x="56" y="55"/>
                        </a:lnTo>
                        <a:lnTo>
                          <a:pt x="45" y="44"/>
                        </a:lnTo>
                        <a:lnTo>
                          <a:pt x="45" y="33"/>
                        </a:lnTo>
                        <a:lnTo>
                          <a:pt x="34" y="22"/>
                        </a:lnTo>
                        <a:lnTo>
                          <a:pt x="23" y="11"/>
                        </a:lnTo>
                        <a:lnTo>
                          <a:pt x="11" y="0"/>
                        </a:lnTo>
                        <a:lnTo>
                          <a:pt x="0" y="11"/>
                        </a:lnTo>
                        <a:lnTo>
                          <a:pt x="11" y="22"/>
                        </a:lnTo>
                        <a:lnTo>
                          <a:pt x="23" y="33"/>
                        </a:lnTo>
                        <a:lnTo>
                          <a:pt x="23" y="44"/>
                        </a:lnTo>
                        <a:lnTo>
                          <a:pt x="34" y="55"/>
                        </a:lnTo>
                        <a:lnTo>
                          <a:pt x="34" y="67"/>
                        </a:lnTo>
                        <a:lnTo>
                          <a:pt x="45" y="67"/>
                        </a:lnTo>
                        <a:lnTo>
                          <a:pt x="45" y="78"/>
                        </a:lnTo>
                        <a:lnTo>
                          <a:pt x="56" y="89"/>
                        </a:lnTo>
                        <a:lnTo>
                          <a:pt x="67" y="67"/>
                        </a:lnTo>
                        <a:lnTo>
                          <a:pt x="56"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Freeform 1135"/>
                  <p:cNvSpPr/>
                  <p:nvPr/>
                </p:nvSpPr>
                <p:spPr>
                  <a:xfrm rot="111600">
                    <a:off x="2825280" y="1148040"/>
                    <a:ext cx="22680" cy="10080"/>
                  </a:xfrm>
                  <a:custGeom>
                    <a:avLst/>
                    <a:gdLst>
                      <a:gd name="textAreaLeft" fmla="*/ 0 w 22680"/>
                      <a:gd name="textAreaRight" fmla="*/ 23040 w 22680"/>
                      <a:gd name="textAreaTop" fmla="*/ 0 h 10080"/>
                      <a:gd name="textAreaBottom" fmla="*/ 10440 h 10080"/>
                    </a:gdLst>
                    <a:ahLst/>
                    <a:rect l="textAreaLeft" t="textAreaTop" r="textAreaRight" b="textAreaBottom"/>
                    <a:pathLst>
                      <a:path w="234" h="78">
                        <a:moveTo>
                          <a:pt x="11" y="0"/>
                        </a:moveTo>
                        <a:lnTo>
                          <a:pt x="0" y="22"/>
                        </a:lnTo>
                        <a:lnTo>
                          <a:pt x="22" y="22"/>
                        </a:lnTo>
                        <a:lnTo>
                          <a:pt x="34" y="22"/>
                        </a:lnTo>
                        <a:lnTo>
                          <a:pt x="56" y="22"/>
                        </a:lnTo>
                        <a:lnTo>
                          <a:pt x="67" y="33"/>
                        </a:lnTo>
                        <a:lnTo>
                          <a:pt x="78" y="33"/>
                        </a:lnTo>
                        <a:lnTo>
                          <a:pt x="89" y="33"/>
                        </a:lnTo>
                        <a:lnTo>
                          <a:pt x="112" y="33"/>
                        </a:lnTo>
                        <a:lnTo>
                          <a:pt x="123" y="44"/>
                        </a:lnTo>
                        <a:lnTo>
                          <a:pt x="134" y="44"/>
                        </a:lnTo>
                        <a:lnTo>
                          <a:pt x="145" y="56"/>
                        </a:lnTo>
                        <a:lnTo>
                          <a:pt x="156" y="56"/>
                        </a:lnTo>
                        <a:lnTo>
                          <a:pt x="167" y="56"/>
                        </a:lnTo>
                        <a:lnTo>
                          <a:pt x="190" y="67"/>
                        </a:lnTo>
                        <a:lnTo>
                          <a:pt x="201" y="67"/>
                        </a:lnTo>
                        <a:lnTo>
                          <a:pt x="212" y="78"/>
                        </a:lnTo>
                        <a:lnTo>
                          <a:pt x="223" y="78"/>
                        </a:lnTo>
                        <a:lnTo>
                          <a:pt x="234" y="56"/>
                        </a:lnTo>
                        <a:lnTo>
                          <a:pt x="223" y="56"/>
                        </a:lnTo>
                        <a:lnTo>
                          <a:pt x="212" y="44"/>
                        </a:lnTo>
                        <a:lnTo>
                          <a:pt x="190" y="44"/>
                        </a:lnTo>
                        <a:lnTo>
                          <a:pt x="178" y="33"/>
                        </a:lnTo>
                        <a:lnTo>
                          <a:pt x="167" y="33"/>
                        </a:lnTo>
                        <a:lnTo>
                          <a:pt x="156" y="33"/>
                        </a:lnTo>
                        <a:lnTo>
                          <a:pt x="134" y="22"/>
                        </a:lnTo>
                        <a:lnTo>
                          <a:pt x="123" y="22"/>
                        </a:lnTo>
                        <a:lnTo>
                          <a:pt x="112" y="22"/>
                        </a:lnTo>
                        <a:lnTo>
                          <a:pt x="100" y="11"/>
                        </a:lnTo>
                        <a:lnTo>
                          <a:pt x="78" y="11"/>
                        </a:lnTo>
                        <a:lnTo>
                          <a:pt x="67" y="11"/>
                        </a:lnTo>
                        <a:lnTo>
                          <a:pt x="56" y="11"/>
                        </a:lnTo>
                        <a:lnTo>
                          <a:pt x="34" y="0"/>
                        </a:lnTo>
                        <a:lnTo>
                          <a:pt x="22" y="0"/>
                        </a:lnTo>
                        <a:lnTo>
                          <a:pt x="11" y="0"/>
                        </a:lnTo>
                        <a:lnTo>
                          <a:pt x="0" y="11"/>
                        </a:lnTo>
                        <a:lnTo>
                          <a:pt x="11" y="0"/>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Freeform 1134"/>
                  <p:cNvSpPr/>
                  <p:nvPr/>
                </p:nvSpPr>
                <p:spPr>
                  <a:xfrm rot="111600">
                    <a:off x="2825280" y="1147680"/>
                    <a:ext cx="12960" cy="16200"/>
                  </a:xfrm>
                  <a:custGeom>
                    <a:avLst/>
                    <a:gdLst>
                      <a:gd name="textAreaLeft" fmla="*/ 0 w 12960"/>
                      <a:gd name="textAreaRight" fmla="*/ 13320 w 12960"/>
                      <a:gd name="textAreaTop" fmla="*/ 0 h 16200"/>
                      <a:gd name="textAreaBottom" fmla="*/ 16560 h 16200"/>
                    </a:gdLst>
                    <a:ahLst/>
                    <a:rect l="textAreaLeft" t="textAreaTop" r="textAreaRight" b="textAreaBottom"/>
                    <a:pathLst>
                      <a:path w="134" h="122">
                        <a:moveTo>
                          <a:pt x="123" y="122"/>
                        </a:moveTo>
                        <a:lnTo>
                          <a:pt x="134" y="111"/>
                        </a:lnTo>
                        <a:lnTo>
                          <a:pt x="112" y="100"/>
                        </a:lnTo>
                        <a:lnTo>
                          <a:pt x="100" y="89"/>
                        </a:lnTo>
                        <a:lnTo>
                          <a:pt x="89" y="78"/>
                        </a:lnTo>
                        <a:lnTo>
                          <a:pt x="67" y="56"/>
                        </a:lnTo>
                        <a:lnTo>
                          <a:pt x="56" y="44"/>
                        </a:lnTo>
                        <a:lnTo>
                          <a:pt x="45" y="33"/>
                        </a:lnTo>
                        <a:lnTo>
                          <a:pt x="34" y="22"/>
                        </a:lnTo>
                        <a:lnTo>
                          <a:pt x="11" y="0"/>
                        </a:lnTo>
                        <a:lnTo>
                          <a:pt x="0" y="11"/>
                        </a:lnTo>
                        <a:lnTo>
                          <a:pt x="11" y="33"/>
                        </a:lnTo>
                        <a:lnTo>
                          <a:pt x="34" y="44"/>
                        </a:lnTo>
                        <a:lnTo>
                          <a:pt x="45" y="56"/>
                        </a:lnTo>
                        <a:lnTo>
                          <a:pt x="56" y="78"/>
                        </a:lnTo>
                        <a:lnTo>
                          <a:pt x="78" y="89"/>
                        </a:lnTo>
                        <a:lnTo>
                          <a:pt x="89" y="100"/>
                        </a:lnTo>
                        <a:lnTo>
                          <a:pt x="100" y="111"/>
                        </a:lnTo>
                        <a:lnTo>
                          <a:pt x="123" y="122"/>
                        </a:lnTo>
                        <a:lnTo>
                          <a:pt x="123" y="111"/>
                        </a:lnTo>
                        <a:lnTo>
                          <a:pt x="123" y="12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1133"/>
                  <p:cNvSpPr/>
                  <p:nvPr/>
                </p:nvSpPr>
                <p:spPr>
                  <a:xfrm rot="111600">
                    <a:off x="2842560" y="1240200"/>
                    <a:ext cx="3960" cy="4320"/>
                  </a:xfrm>
                  <a:custGeom>
                    <a:avLst/>
                    <a:gdLst>
                      <a:gd name="textAreaLeft" fmla="*/ 0 w 3960"/>
                      <a:gd name="textAreaRight" fmla="*/ 4320 w 3960"/>
                      <a:gd name="textAreaTop" fmla="*/ 0 h 4320"/>
                      <a:gd name="textAreaBottom" fmla="*/ 4680 h 4320"/>
                    </a:gdLst>
                    <a:ahLst/>
                    <a:rect l="textAreaLeft" t="textAreaTop" r="textAreaRight" b="textAreaBottom"/>
                    <a:pathLst>
                      <a:path w="44" h="33">
                        <a:moveTo>
                          <a:pt x="44" y="33"/>
                        </a:moveTo>
                        <a:lnTo>
                          <a:pt x="44" y="22"/>
                        </a:lnTo>
                        <a:lnTo>
                          <a:pt x="44" y="11"/>
                        </a:lnTo>
                        <a:lnTo>
                          <a:pt x="33" y="0"/>
                        </a:lnTo>
                        <a:lnTo>
                          <a:pt x="22" y="0"/>
                        </a:lnTo>
                        <a:lnTo>
                          <a:pt x="11" y="0"/>
                        </a:lnTo>
                        <a:lnTo>
                          <a:pt x="0" y="11"/>
                        </a:lnTo>
                        <a:lnTo>
                          <a:pt x="44" y="33"/>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4" name="Freeform 1131"/>
                <p:cNvSpPr/>
                <p:nvPr/>
              </p:nvSpPr>
              <p:spPr>
                <a:xfrm rot="111600">
                  <a:off x="2838240" y="1241280"/>
                  <a:ext cx="8640" cy="21960"/>
                </a:xfrm>
                <a:custGeom>
                  <a:avLst/>
                  <a:gdLst>
                    <a:gd name="textAreaLeft" fmla="*/ 0 w 8640"/>
                    <a:gd name="textAreaRight" fmla="*/ 9000 w 8640"/>
                    <a:gd name="textAreaTop" fmla="*/ 0 h 21960"/>
                    <a:gd name="textAreaBottom" fmla="*/ 22320 h 21960"/>
                  </a:gdLst>
                  <a:ahLst/>
                  <a:rect l="textAreaLeft" t="textAreaTop" r="textAreaRight" b="textAreaBottom"/>
                  <a:pathLst>
                    <a:path w="89" h="167">
                      <a:moveTo>
                        <a:pt x="45" y="167"/>
                      </a:moveTo>
                      <a:lnTo>
                        <a:pt x="45" y="145"/>
                      </a:lnTo>
                      <a:lnTo>
                        <a:pt x="45" y="134"/>
                      </a:lnTo>
                      <a:lnTo>
                        <a:pt x="56" y="111"/>
                      </a:lnTo>
                      <a:lnTo>
                        <a:pt x="56" y="89"/>
                      </a:lnTo>
                      <a:lnTo>
                        <a:pt x="67" y="78"/>
                      </a:lnTo>
                      <a:lnTo>
                        <a:pt x="67" y="56"/>
                      </a:lnTo>
                      <a:lnTo>
                        <a:pt x="78" y="33"/>
                      </a:lnTo>
                      <a:lnTo>
                        <a:pt x="89" y="22"/>
                      </a:lnTo>
                      <a:lnTo>
                        <a:pt x="45" y="0"/>
                      </a:lnTo>
                      <a:lnTo>
                        <a:pt x="34" y="22"/>
                      </a:lnTo>
                      <a:lnTo>
                        <a:pt x="34" y="33"/>
                      </a:lnTo>
                      <a:lnTo>
                        <a:pt x="23" y="56"/>
                      </a:lnTo>
                      <a:lnTo>
                        <a:pt x="11" y="78"/>
                      </a:lnTo>
                      <a:lnTo>
                        <a:pt x="11" y="100"/>
                      </a:lnTo>
                      <a:lnTo>
                        <a:pt x="0" y="123"/>
                      </a:lnTo>
                      <a:lnTo>
                        <a:pt x="0" y="145"/>
                      </a:lnTo>
                      <a:lnTo>
                        <a:pt x="0" y="167"/>
                      </a:lnTo>
                      <a:lnTo>
                        <a:pt x="45" y="167"/>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Freeform 1130"/>
                <p:cNvSpPr/>
                <p:nvPr/>
              </p:nvSpPr>
              <p:spPr>
                <a:xfrm rot="111600">
                  <a:off x="2842560" y="1243080"/>
                  <a:ext cx="3960" cy="2880"/>
                </a:xfrm>
                <a:custGeom>
                  <a:avLst/>
                  <a:gdLst>
                    <a:gd name="textAreaLeft" fmla="*/ 0 w 3960"/>
                    <a:gd name="textAreaRight" fmla="*/ 4320 w 3960"/>
                    <a:gd name="textAreaTop" fmla="*/ 0 h 2880"/>
                    <a:gd name="textAreaBottom" fmla="*/ 3240 h 2880"/>
                  </a:gdLst>
                  <a:ahLst/>
                  <a:rect l="textAreaLeft" t="textAreaTop" r="textAreaRight" b="textAreaBottom"/>
                  <a:pathLst>
                    <a:path w="44" h="22">
                      <a:moveTo>
                        <a:pt x="0" y="0"/>
                      </a:moveTo>
                      <a:lnTo>
                        <a:pt x="0" y="11"/>
                      </a:lnTo>
                      <a:lnTo>
                        <a:pt x="11" y="22"/>
                      </a:lnTo>
                      <a:lnTo>
                        <a:pt x="22" y="22"/>
                      </a:lnTo>
                      <a:lnTo>
                        <a:pt x="33" y="22"/>
                      </a:lnTo>
                      <a:lnTo>
                        <a:pt x="44" y="22"/>
                      </a:lnTo>
                      <a:lnTo>
                        <a:pt x="44" y="11"/>
                      </a:lnTo>
                      <a:lnTo>
                        <a:pt x="44"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Freeform 1129"/>
                <p:cNvSpPr/>
                <p:nvPr/>
              </p:nvSpPr>
              <p:spPr>
                <a:xfrm rot="111600">
                  <a:off x="2861640" y="1231560"/>
                  <a:ext cx="3240" cy="4320"/>
                </a:xfrm>
                <a:custGeom>
                  <a:avLst/>
                  <a:gdLst>
                    <a:gd name="textAreaLeft" fmla="*/ 0 w 3240"/>
                    <a:gd name="textAreaRight" fmla="*/ 3600 w 3240"/>
                    <a:gd name="textAreaTop" fmla="*/ 0 h 4320"/>
                    <a:gd name="textAreaBottom" fmla="*/ 4680 h 4320"/>
                  </a:gdLst>
                  <a:ahLst/>
                  <a:rect l="textAreaLeft" t="textAreaTop" r="textAreaRight" b="textAreaBottom"/>
                  <a:pathLst>
                    <a:path w="34" h="33">
                      <a:moveTo>
                        <a:pt x="34" y="0"/>
                      </a:moveTo>
                      <a:lnTo>
                        <a:pt x="23" y="0"/>
                      </a:lnTo>
                      <a:lnTo>
                        <a:pt x="11" y="0"/>
                      </a:lnTo>
                      <a:lnTo>
                        <a:pt x="0" y="0"/>
                      </a:lnTo>
                      <a:lnTo>
                        <a:pt x="0" y="11"/>
                      </a:lnTo>
                      <a:lnTo>
                        <a:pt x="0" y="22"/>
                      </a:lnTo>
                      <a:lnTo>
                        <a:pt x="0" y="33"/>
                      </a:lnTo>
                      <a:lnTo>
                        <a:pt x="34" y="0"/>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1128"/>
                <p:cNvSpPr/>
                <p:nvPr/>
              </p:nvSpPr>
              <p:spPr>
                <a:xfrm rot="111600">
                  <a:off x="2861280" y="1231560"/>
                  <a:ext cx="14040" cy="23400"/>
                </a:xfrm>
                <a:custGeom>
                  <a:avLst/>
                  <a:gdLst>
                    <a:gd name="textAreaLeft" fmla="*/ 0 w 14040"/>
                    <a:gd name="textAreaRight" fmla="*/ 14400 w 14040"/>
                    <a:gd name="textAreaTop" fmla="*/ 0 h 23400"/>
                    <a:gd name="textAreaBottom" fmla="*/ 23760 h 23400"/>
                  </a:gdLst>
                  <a:ahLst/>
                  <a:rect l="textAreaLeft" t="textAreaTop" r="textAreaRight" b="textAreaBottom"/>
                  <a:pathLst>
                    <a:path w="145" h="178">
                      <a:moveTo>
                        <a:pt x="145" y="167"/>
                      </a:moveTo>
                      <a:lnTo>
                        <a:pt x="134" y="145"/>
                      </a:lnTo>
                      <a:lnTo>
                        <a:pt x="123" y="123"/>
                      </a:lnTo>
                      <a:lnTo>
                        <a:pt x="112" y="100"/>
                      </a:lnTo>
                      <a:lnTo>
                        <a:pt x="101" y="78"/>
                      </a:lnTo>
                      <a:lnTo>
                        <a:pt x="78" y="56"/>
                      </a:lnTo>
                      <a:lnTo>
                        <a:pt x="67" y="33"/>
                      </a:lnTo>
                      <a:lnTo>
                        <a:pt x="45" y="11"/>
                      </a:lnTo>
                      <a:lnTo>
                        <a:pt x="34" y="0"/>
                      </a:lnTo>
                      <a:lnTo>
                        <a:pt x="0" y="33"/>
                      </a:lnTo>
                      <a:lnTo>
                        <a:pt x="23" y="45"/>
                      </a:lnTo>
                      <a:lnTo>
                        <a:pt x="34" y="67"/>
                      </a:lnTo>
                      <a:lnTo>
                        <a:pt x="45" y="78"/>
                      </a:lnTo>
                      <a:lnTo>
                        <a:pt x="67" y="100"/>
                      </a:lnTo>
                      <a:lnTo>
                        <a:pt x="78" y="123"/>
                      </a:lnTo>
                      <a:lnTo>
                        <a:pt x="89" y="145"/>
                      </a:lnTo>
                      <a:lnTo>
                        <a:pt x="101" y="156"/>
                      </a:lnTo>
                      <a:lnTo>
                        <a:pt x="112" y="178"/>
                      </a:lnTo>
                      <a:lnTo>
                        <a:pt x="145" y="167"/>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Freeform 1127"/>
                <p:cNvSpPr/>
                <p:nvPr/>
              </p:nvSpPr>
              <p:spPr>
                <a:xfrm rot="111600">
                  <a:off x="2861640" y="1233000"/>
                  <a:ext cx="4320" cy="4320"/>
                </a:xfrm>
                <a:custGeom>
                  <a:avLst/>
                  <a:gdLst>
                    <a:gd name="textAreaLeft" fmla="*/ 0 w 4320"/>
                    <a:gd name="textAreaRight" fmla="*/ 4320 w 4320"/>
                    <a:gd name="textAreaTop" fmla="*/ 0 h 4320"/>
                    <a:gd name="textAreaBottom" fmla="*/ 4680 h 4320"/>
                  </a:gdLst>
                  <a:ahLst/>
                  <a:rect l="textAreaLeft" t="textAreaTop" r="textAreaRight" b="textAreaBottom"/>
                  <a:pathLst>
                    <a:path w="45" h="34">
                      <a:moveTo>
                        <a:pt x="0" y="22"/>
                      </a:moveTo>
                      <a:lnTo>
                        <a:pt x="0" y="22"/>
                      </a:lnTo>
                      <a:lnTo>
                        <a:pt x="11" y="34"/>
                      </a:lnTo>
                      <a:lnTo>
                        <a:pt x="23" y="34"/>
                      </a:lnTo>
                      <a:lnTo>
                        <a:pt x="34" y="34"/>
                      </a:lnTo>
                      <a:lnTo>
                        <a:pt x="34" y="22"/>
                      </a:lnTo>
                      <a:lnTo>
                        <a:pt x="45" y="11"/>
                      </a:lnTo>
                      <a:lnTo>
                        <a:pt x="34" y="0"/>
                      </a:lnTo>
                      <a:lnTo>
                        <a:pt x="0" y="2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Freeform 1126"/>
                <p:cNvSpPr/>
                <p:nvPr/>
              </p:nvSpPr>
              <p:spPr>
                <a:xfrm rot="111600">
                  <a:off x="2877120" y="129312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0" y="11"/>
                      </a:moveTo>
                      <a:lnTo>
                        <a:pt x="11" y="11"/>
                      </a:lnTo>
                      <a:lnTo>
                        <a:pt x="22" y="11"/>
                      </a:lnTo>
                      <a:lnTo>
                        <a:pt x="22"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1125"/>
                <p:cNvSpPr/>
                <p:nvPr/>
              </p:nvSpPr>
              <p:spPr>
                <a:xfrm rot="111600">
                  <a:off x="2859120" y="1277640"/>
                  <a:ext cx="20520" cy="16200"/>
                </a:xfrm>
                <a:custGeom>
                  <a:avLst/>
                  <a:gdLst>
                    <a:gd name="textAreaLeft" fmla="*/ 0 w 20520"/>
                    <a:gd name="textAreaRight" fmla="*/ 20880 w 20520"/>
                    <a:gd name="textAreaTop" fmla="*/ 0 h 16200"/>
                    <a:gd name="textAreaBottom" fmla="*/ 16560 h 16200"/>
                  </a:gdLst>
                  <a:ahLst/>
                  <a:rect l="textAreaLeft" t="textAreaTop" r="textAreaRight" b="textAreaBottom"/>
                  <a:pathLst>
                    <a:path w="212" h="122">
                      <a:moveTo>
                        <a:pt x="11" y="22"/>
                      </a:moveTo>
                      <a:lnTo>
                        <a:pt x="11" y="22"/>
                      </a:lnTo>
                      <a:lnTo>
                        <a:pt x="34" y="22"/>
                      </a:lnTo>
                      <a:lnTo>
                        <a:pt x="67" y="22"/>
                      </a:lnTo>
                      <a:lnTo>
                        <a:pt x="100" y="22"/>
                      </a:lnTo>
                      <a:lnTo>
                        <a:pt x="123" y="33"/>
                      </a:lnTo>
                      <a:lnTo>
                        <a:pt x="145" y="55"/>
                      </a:lnTo>
                      <a:lnTo>
                        <a:pt x="167" y="66"/>
                      </a:lnTo>
                      <a:lnTo>
                        <a:pt x="178" y="100"/>
                      </a:lnTo>
                      <a:lnTo>
                        <a:pt x="190" y="122"/>
                      </a:lnTo>
                      <a:lnTo>
                        <a:pt x="212" y="111"/>
                      </a:lnTo>
                      <a:lnTo>
                        <a:pt x="201" y="89"/>
                      </a:lnTo>
                      <a:lnTo>
                        <a:pt x="178" y="55"/>
                      </a:lnTo>
                      <a:lnTo>
                        <a:pt x="156" y="33"/>
                      </a:lnTo>
                      <a:lnTo>
                        <a:pt x="134" y="22"/>
                      </a:lnTo>
                      <a:lnTo>
                        <a:pt x="100" y="0"/>
                      </a:lnTo>
                      <a:lnTo>
                        <a:pt x="67" y="0"/>
                      </a:lnTo>
                      <a:lnTo>
                        <a:pt x="34" y="0"/>
                      </a:lnTo>
                      <a:lnTo>
                        <a:pt x="0" y="0"/>
                      </a:lnTo>
                      <a:lnTo>
                        <a:pt x="11" y="2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1124"/>
                <p:cNvSpPr/>
                <p:nvPr/>
              </p:nvSpPr>
              <p:spPr>
                <a:xfrm rot="111600">
                  <a:off x="2850120" y="1277640"/>
                  <a:ext cx="9720" cy="26280"/>
                </a:xfrm>
                <a:custGeom>
                  <a:avLst/>
                  <a:gdLst>
                    <a:gd name="textAreaLeft" fmla="*/ 0 w 9720"/>
                    <a:gd name="textAreaRight" fmla="*/ 10080 w 9720"/>
                    <a:gd name="textAreaTop" fmla="*/ 0 h 26280"/>
                    <a:gd name="textAreaBottom" fmla="*/ 26640 h 26280"/>
                  </a:gdLst>
                  <a:ahLst/>
                  <a:rect l="textAreaLeft" t="textAreaTop" r="textAreaRight" b="textAreaBottom"/>
                  <a:pathLst>
                    <a:path w="100" h="200">
                      <a:moveTo>
                        <a:pt x="22" y="189"/>
                      </a:moveTo>
                      <a:lnTo>
                        <a:pt x="22" y="167"/>
                      </a:lnTo>
                      <a:lnTo>
                        <a:pt x="22" y="144"/>
                      </a:lnTo>
                      <a:lnTo>
                        <a:pt x="22" y="111"/>
                      </a:lnTo>
                      <a:lnTo>
                        <a:pt x="33" y="89"/>
                      </a:lnTo>
                      <a:lnTo>
                        <a:pt x="45" y="66"/>
                      </a:lnTo>
                      <a:lnTo>
                        <a:pt x="56" y="55"/>
                      </a:lnTo>
                      <a:lnTo>
                        <a:pt x="78" y="33"/>
                      </a:lnTo>
                      <a:lnTo>
                        <a:pt x="100" y="22"/>
                      </a:lnTo>
                      <a:lnTo>
                        <a:pt x="89" y="0"/>
                      </a:lnTo>
                      <a:lnTo>
                        <a:pt x="67" y="11"/>
                      </a:lnTo>
                      <a:lnTo>
                        <a:pt x="45" y="33"/>
                      </a:lnTo>
                      <a:lnTo>
                        <a:pt x="22" y="55"/>
                      </a:lnTo>
                      <a:lnTo>
                        <a:pt x="11" y="78"/>
                      </a:lnTo>
                      <a:lnTo>
                        <a:pt x="0" y="111"/>
                      </a:lnTo>
                      <a:lnTo>
                        <a:pt x="0" y="133"/>
                      </a:lnTo>
                      <a:lnTo>
                        <a:pt x="0" y="167"/>
                      </a:lnTo>
                      <a:lnTo>
                        <a:pt x="0" y="200"/>
                      </a:lnTo>
                      <a:lnTo>
                        <a:pt x="22" y="189"/>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Freeform 1123"/>
                <p:cNvSpPr/>
                <p:nvPr/>
              </p:nvSpPr>
              <p:spPr>
                <a:xfrm rot="111600">
                  <a:off x="2858040" y="127908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0" y="0"/>
                      </a:moveTo>
                      <a:lnTo>
                        <a:pt x="11" y="11"/>
                      </a:lnTo>
                      <a:lnTo>
                        <a:pt x="22" y="11"/>
                      </a:lnTo>
                      <a:lnTo>
                        <a:pt x="22"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Freeform 1122"/>
                <p:cNvSpPr/>
                <p:nvPr/>
              </p:nvSpPr>
              <p:spPr>
                <a:xfrm rot="111600">
                  <a:off x="2898000" y="132516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22" y="11"/>
                      </a:moveTo>
                      <a:lnTo>
                        <a:pt x="11" y="11"/>
                      </a:lnTo>
                      <a:lnTo>
                        <a:pt x="11" y="0"/>
                      </a:lnTo>
                      <a:lnTo>
                        <a:pt x="0" y="0"/>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Freeform 1121"/>
                <p:cNvSpPr/>
                <p:nvPr/>
              </p:nvSpPr>
              <p:spPr>
                <a:xfrm rot="111600">
                  <a:off x="2882160" y="1325880"/>
                  <a:ext cx="17280" cy="33840"/>
                </a:xfrm>
                <a:custGeom>
                  <a:avLst/>
                  <a:gdLst>
                    <a:gd name="textAreaLeft" fmla="*/ 0 w 17280"/>
                    <a:gd name="textAreaRight" fmla="*/ 17640 w 17280"/>
                    <a:gd name="textAreaTop" fmla="*/ 0 h 33840"/>
                    <a:gd name="textAreaBottom" fmla="*/ 34200 h 33840"/>
                  </a:gdLst>
                  <a:ahLst/>
                  <a:rect l="textAreaLeft" t="textAreaTop" r="textAreaRight" b="textAreaBottom"/>
                  <a:pathLst>
                    <a:path w="179" h="257">
                      <a:moveTo>
                        <a:pt x="12" y="257"/>
                      </a:moveTo>
                      <a:lnTo>
                        <a:pt x="12" y="257"/>
                      </a:lnTo>
                      <a:lnTo>
                        <a:pt x="34" y="234"/>
                      </a:lnTo>
                      <a:lnTo>
                        <a:pt x="56" y="212"/>
                      </a:lnTo>
                      <a:lnTo>
                        <a:pt x="90" y="179"/>
                      </a:lnTo>
                      <a:lnTo>
                        <a:pt x="112" y="156"/>
                      </a:lnTo>
                      <a:lnTo>
                        <a:pt x="134" y="123"/>
                      </a:lnTo>
                      <a:lnTo>
                        <a:pt x="145" y="89"/>
                      </a:lnTo>
                      <a:lnTo>
                        <a:pt x="168" y="45"/>
                      </a:lnTo>
                      <a:lnTo>
                        <a:pt x="179" y="0"/>
                      </a:lnTo>
                      <a:lnTo>
                        <a:pt x="157" y="0"/>
                      </a:lnTo>
                      <a:lnTo>
                        <a:pt x="145" y="45"/>
                      </a:lnTo>
                      <a:lnTo>
                        <a:pt x="123" y="78"/>
                      </a:lnTo>
                      <a:lnTo>
                        <a:pt x="112" y="112"/>
                      </a:lnTo>
                      <a:lnTo>
                        <a:pt x="90" y="145"/>
                      </a:lnTo>
                      <a:lnTo>
                        <a:pt x="67" y="167"/>
                      </a:lnTo>
                      <a:lnTo>
                        <a:pt x="45" y="190"/>
                      </a:lnTo>
                      <a:lnTo>
                        <a:pt x="23" y="212"/>
                      </a:lnTo>
                      <a:lnTo>
                        <a:pt x="0" y="245"/>
                      </a:lnTo>
                      <a:lnTo>
                        <a:pt x="12" y="257"/>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Freeform 1120"/>
                <p:cNvSpPr/>
                <p:nvPr/>
              </p:nvSpPr>
              <p:spPr>
                <a:xfrm rot="111600">
                  <a:off x="2833560" y="1357560"/>
                  <a:ext cx="48960" cy="13320"/>
                </a:xfrm>
                <a:custGeom>
                  <a:avLst/>
                  <a:gdLst>
                    <a:gd name="textAreaLeft" fmla="*/ 0 w 48960"/>
                    <a:gd name="textAreaRight" fmla="*/ 49320 w 48960"/>
                    <a:gd name="textAreaTop" fmla="*/ 0 h 13320"/>
                    <a:gd name="textAreaBottom" fmla="*/ 13680 h 13320"/>
                  </a:gdLst>
                  <a:ahLst/>
                  <a:rect l="textAreaLeft" t="textAreaTop" r="textAreaRight" b="textAreaBottom"/>
                  <a:pathLst>
                    <a:path w="502" h="101">
                      <a:moveTo>
                        <a:pt x="0" y="23"/>
                      </a:moveTo>
                      <a:lnTo>
                        <a:pt x="0" y="23"/>
                      </a:lnTo>
                      <a:lnTo>
                        <a:pt x="34" y="45"/>
                      </a:lnTo>
                      <a:lnTo>
                        <a:pt x="67" y="67"/>
                      </a:lnTo>
                      <a:lnTo>
                        <a:pt x="100" y="78"/>
                      </a:lnTo>
                      <a:lnTo>
                        <a:pt x="134" y="78"/>
                      </a:lnTo>
                      <a:lnTo>
                        <a:pt x="167" y="90"/>
                      </a:lnTo>
                      <a:lnTo>
                        <a:pt x="212" y="101"/>
                      </a:lnTo>
                      <a:lnTo>
                        <a:pt x="245" y="101"/>
                      </a:lnTo>
                      <a:lnTo>
                        <a:pt x="279" y="90"/>
                      </a:lnTo>
                      <a:lnTo>
                        <a:pt x="312" y="90"/>
                      </a:lnTo>
                      <a:lnTo>
                        <a:pt x="346" y="90"/>
                      </a:lnTo>
                      <a:lnTo>
                        <a:pt x="379" y="78"/>
                      </a:lnTo>
                      <a:lnTo>
                        <a:pt x="401" y="67"/>
                      </a:lnTo>
                      <a:lnTo>
                        <a:pt x="435" y="56"/>
                      </a:lnTo>
                      <a:lnTo>
                        <a:pt x="457" y="45"/>
                      </a:lnTo>
                      <a:lnTo>
                        <a:pt x="479" y="34"/>
                      </a:lnTo>
                      <a:lnTo>
                        <a:pt x="502" y="12"/>
                      </a:lnTo>
                      <a:lnTo>
                        <a:pt x="490" y="0"/>
                      </a:lnTo>
                      <a:lnTo>
                        <a:pt x="468" y="12"/>
                      </a:lnTo>
                      <a:lnTo>
                        <a:pt x="446" y="23"/>
                      </a:lnTo>
                      <a:lnTo>
                        <a:pt x="424" y="34"/>
                      </a:lnTo>
                      <a:lnTo>
                        <a:pt x="401" y="45"/>
                      </a:lnTo>
                      <a:lnTo>
                        <a:pt x="368" y="56"/>
                      </a:lnTo>
                      <a:lnTo>
                        <a:pt x="334" y="67"/>
                      </a:lnTo>
                      <a:lnTo>
                        <a:pt x="312" y="67"/>
                      </a:lnTo>
                      <a:lnTo>
                        <a:pt x="268" y="78"/>
                      </a:lnTo>
                      <a:lnTo>
                        <a:pt x="234" y="78"/>
                      </a:lnTo>
                      <a:lnTo>
                        <a:pt x="201" y="78"/>
                      </a:lnTo>
                      <a:lnTo>
                        <a:pt x="167" y="67"/>
                      </a:lnTo>
                      <a:lnTo>
                        <a:pt x="134" y="67"/>
                      </a:lnTo>
                      <a:lnTo>
                        <a:pt x="100" y="56"/>
                      </a:lnTo>
                      <a:lnTo>
                        <a:pt x="78" y="45"/>
                      </a:lnTo>
                      <a:lnTo>
                        <a:pt x="45" y="23"/>
                      </a:lnTo>
                      <a:lnTo>
                        <a:pt x="11" y="12"/>
                      </a:lnTo>
                      <a:lnTo>
                        <a:pt x="0" y="23"/>
                      </a:lnTo>
                      <a:close/>
                    </a:path>
                  </a:pathLst>
                </a:custGeom>
                <a:solidFill>
                  <a:srgbClr val="000000"/>
                </a:solidFill>
                <a:ln w="0">
                  <a:no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Freeform 1119"/>
                <p:cNvSpPr/>
                <p:nvPr/>
              </p:nvSpPr>
              <p:spPr>
                <a:xfrm rot="111600">
                  <a:off x="2826360" y="1347840"/>
                  <a:ext cx="8640" cy="11520"/>
                </a:xfrm>
                <a:custGeom>
                  <a:avLst/>
                  <a:gdLst>
                    <a:gd name="textAreaLeft" fmla="*/ 0 w 8640"/>
                    <a:gd name="textAreaRight" fmla="*/ 9000 w 8640"/>
                    <a:gd name="textAreaTop" fmla="*/ 0 h 11520"/>
                    <a:gd name="textAreaBottom" fmla="*/ 11880 h 11520"/>
                  </a:gdLst>
                  <a:ahLst/>
                  <a:rect l="textAreaLeft" t="textAreaTop" r="textAreaRight" b="textAreaBottom"/>
                  <a:pathLst>
                    <a:path w="89" h="89">
                      <a:moveTo>
                        <a:pt x="0" y="11"/>
                      </a:moveTo>
                      <a:lnTo>
                        <a:pt x="11" y="22"/>
                      </a:lnTo>
                      <a:lnTo>
                        <a:pt x="11" y="33"/>
                      </a:lnTo>
                      <a:lnTo>
                        <a:pt x="22" y="44"/>
                      </a:lnTo>
                      <a:lnTo>
                        <a:pt x="34" y="55"/>
                      </a:lnTo>
                      <a:lnTo>
                        <a:pt x="45" y="66"/>
                      </a:lnTo>
                      <a:lnTo>
                        <a:pt x="56" y="66"/>
                      </a:lnTo>
                      <a:lnTo>
                        <a:pt x="67" y="78"/>
                      </a:lnTo>
                      <a:lnTo>
                        <a:pt x="78" y="89"/>
                      </a:lnTo>
                      <a:lnTo>
                        <a:pt x="89" y="78"/>
                      </a:lnTo>
                      <a:lnTo>
                        <a:pt x="78" y="66"/>
                      </a:lnTo>
                      <a:lnTo>
                        <a:pt x="67" y="55"/>
                      </a:lnTo>
                      <a:lnTo>
                        <a:pt x="56" y="44"/>
                      </a:lnTo>
                      <a:lnTo>
                        <a:pt x="45" y="33"/>
                      </a:lnTo>
                      <a:lnTo>
                        <a:pt x="34" y="33"/>
                      </a:lnTo>
                      <a:lnTo>
                        <a:pt x="34" y="22"/>
                      </a:lnTo>
                      <a:lnTo>
                        <a:pt x="22" y="11"/>
                      </a:lnTo>
                      <a:lnTo>
                        <a:pt x="11" y="0"/>
                      </a:lnTo>
                      <a:lnTo>
                        <a:pt x="0" y="11"/>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1118"/>
                <p:cNvSpPr/>
                <p:nvPr/>
              </p:nvSpPr>
              <p:spPr>
                <a:xfrm rot="111600">
                  <a:off x="2833560" y="135864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11" y="0"/>
                      </a:moveTo>
                      <a:lnTo>
                        <a:pt x="0" y="0"/>
                      </a:lnTo>
                      <a:lnTo>
                        <a:pt x="0" y="11"/>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Freeform 1117"/>
                <p:cNvSpPr/>
                <p:nvPr/>
              </p:nvSpPr>
              <p:spPr>
                <a:xfrm rot="111600">
                  <a:off x="2853000" y="1433160"/>
                  <a:ext cx="169560" cy="268200"/>
                </a:xfrm>
                <a:custGeom>
                  <a:avLst/>
                  <a:gdLst>
                    <a:gd name="textAreaLeft" fmla="*/ 0 w 169560"/>
                    <a:gd name="textAreaRight" fmla="*/ 169560 w 169560"/>
                    <a:gd name="textAreaTop" fmla="*/ 0 h 268200"/>
                    <a:gd name="textAreaBottom" fmla="*/ 268560 h 268200"/>
                  </a:gdLst>
                  <a:ahLst/>
                  <a:rect l="textAreaLeft" t="textAreaTop" r="textAreaRight" b="textAreaBottom"/>
                  <a:pathLst>
                    <a:path w="1738" h="2017">
                      <a:moveTo>
                        <a:pt x="289" y="122"/>
                      </a:moveTo>
                      <a:lnTo>
                        <a:pt x="323" y="100"/>
                      </a:lnTo>
                      <a:lnTo>
                        <a:pt x="356" y="89"/>
                      </a:lnTo>
                      <a:lnTo>
                        <a:pt x="390" y="78"/>
                      </a:lnTo>
                      <a:lnTo>
                        <a:pt x="434" y="66"/>
                      </a:lnTo>
                      <a:lnTo>
                        <a:pt x="468" y="55"/>
                      </a:lnTo>
                      <a:lnTo>
                        <a:pt x="512" y="44"/>
                      </a:lnTo>
                      <a:lnTo>
                        <a:pt x="546" y="33"/>
                      </a:lnTo>
                      <a:lnTo>
                        <a:pt x="579" y="22"/>
                      </a:lnTo>
                      <a:lnTo>
                        <a:pt x="624" y="22"/>
                      </a:lnTo>
                      <a:lnTo>
                        <a:pt x="657" y="11"/>
                      </a:lnTo>
                      <a:lnTo>
                        <a:pt x="702" y="11"/>
                      </a:lnTo>
                      <a:lnTo>
                        <a:pt x="735" y="0"/>
                      </a:lnTo>
                      <a:lnTo>
                        <a:pt x="780" y="0"/>
                      </a:lnTo>
                      <a:lnTo>
                        <a:pt x="813" y="0"/>
                      </a:lnTo>
                      <a:lnTo>
                        <a:pt x="858" y="0"/>
                      </a:lnTo>
                      <a:lnTo>
                        <a:pt x="902" y="0"/>
                      </a:lnTo>
                      <a:lnTo>
                        <a:pt x="936" y="0"/>
                      </a:lnTo>
                      <a:lnTo>
                        <a:pt x="980" y="0"/>
                      </a:lnTo>
                      <a:lnTo>
                        <a:pt x="1014" y="0"/>
                      </a:lnTo>
                      <a:lnTo>
                        <a:pt x="1058" y="11"/>
                      </a:lnTo>
                      <a:lnTo>
                        <a:pt x="1092" y="11"/>
                      </a:lnTo>
                      <a:lnTo>
                        <a:pt x="1136" y="11"/>
                      </a:lnTo>
                      <a:lnTo>
                        <a:pt x="1181" y="22"/>
                      </a:lnTo>
                      <a:lnTo>
                        <a:pt x="1214" y="33"/>
                      </a:lnTo>
                      <a:lnTo>
                        <a:pt x="1248" y="33"/>
                      </a:lnTo>
                      <a:lnTo>
                        <a:pt x="1292" y="44"/>
                      </a:lnTo>
                      <a:lnTo>
                        <a:pt x="1337" y="55"/>
                      </a:lnTo>
                      <a:lnTo>
                        <a:pt x="1370" y="66"/>
                      </a:lnTo>
                      <a:lnTo>
                        <a:pt x="1415" y="78"/>
                      </a:lnTo>
                      <a:lnTo>
                        <a:pt x="1448" y="89"/>
                      </a:lnTo>
                      <a:lnTo>
                        <a:pt x="1482" y="100"/>
                      </a:lnTo>
                      <a:lnTo>
                        <a:pt x="1526" y="122"/>
                      </a:lnTo>
                      <a:lnTo>
                        <a:pt x="1515" y="167"/>
                      </a:lnTo>
                      <a:lnTo>
                        <a:pt x="1504" y="211"/>
                      </a:lnTo>
                      <a:lnTo>
                        <a:pt x="1493" y="267"/>
                      </a:lnTo>
                      <a:lnTo>
                        <a:pt x="1482" y="323"/>
                      </a:lnTo>
                      <a:lnTo>
                        <a:pt x="1482" y="378"/>
                      </a:lnTo>
                      <a:lnTo>
                        <a:pt x="1482" y="456"/>
                      </a:lnTo>
                      <a:lnTo>
                        <a:pt x="1493" y="546"/>
                      </a:lnTo>
                      <a:lnTo>
                        <a:pt x="1526" y="646"/>
                      </a:lnTo>
                      <a:lnTo>
                        <a:pt x="1560" y="646"/>
                      </a:lnTo>
                      <a:lnTo>
                        <a:pt x="1582" y="635"/>
                      </a:lnTo>
                      <a:lnTo>
                        <a:pt x="1616" y="635"/>
                      </a:lnTo>
                      <a:lnTo>
                        <a:pt x="1638" y="635"/>
                      </a:lnTo>
                      <a:lnTo>
                        <a:pt x="1660" y="635"/>
                      </a:lnTo>
                      <a:lnTo>
                        <a:pt x="1683" y="635"/>
                      </a:lnTo>
                      <a:lnTo>
                        <a:pt x="1705" y="646"/>
                      </a:lnTo>
                      <a:lnTo>
                        <a:pt x="1716" y="668"/>
                      </a:lnTo>
                      <a:lnTo>
                        <a:pt x="1727" y="702"/>
                      </a:lnTo>
                      <a:lnTo>
                        <a:pt x="1738" y="746"/>
                      </a:lnTo>
                      <a:lnTo>
                        <a:pt x="1738" y="802"/>
                      </a:lnTo>
                      <a:lnTo>
                        <a:pt x="1738" y="858"/>
                      </a:lnTo>
                      <a:lnTo>
                        <a:pt x="1738" y="913"/>
                      </a:lnTo>
                      <a:lnTo>
                        <a:pt x="1727" y="969"/>
                      </a:lnTo>
                      <a:lnTo>
                        <a:pt x="1727" y="1025"/>
                      </a:lnTo>
                      <a:lnTo>
                        <a:pt x="1716" y="1069"/>
                      </a:lnTo>
                      <a:lnTo>
                        <a:pt x="1705" y="1081"/>
                      </a:lnTo>
                      <a:lnTo>
                        <a:pt x="1694" y="1092"/>
                      </a:lnTo>
                      <a:lnTo>
                        <a:pt x="1683" y="1092"/>
                      </a:lnTo>
                      <a:lnTo>
                        <a:pt x="1671" y="1103"/>
                      </a:lnTo>
                      <a:lnTo>
                        <a:pt x="1660" y="1103"/>
                      </a:lnTo>
                      <a:lnTo>
                        <a:pt x="1649" y="1114"/>
                      </a:lnTo>
                      <a:lnTo>
                        <a:pt x="1627" y="1114"/>
                      </a:lnTo>
                      <a:lnTo>
                        <a:pt x="1616" y="1125"/>
                      </a:lnTo>
                      <a:lnTo>
                        <a:pt x="1593" y="1125"/>
                      </a:lnTo>
                      <a:lnTo>
                        <a:pt x="1582" y="1136"/>
                      </a:lnTo>
                      <a:lnTo>
                        <a:pt x="1560" y="1136"/>
                      </a:lnTo>
                      <a:lnTo>
                        <a:pt x="1549" y="1136"/>
                      </a:lnTo>
                      <a:lnTo>
                        <a:pt x="1538" y="1148"/>
                      </a:lnTo>
                      <a:lnTo>
                        <a:pt x="1515" y="1148"/>
                      </a:lnTo>
                      <a:lnTo>
                        <a:pt x="1504" y="1148"/>
                      </a:lnTo>
                      <a:lnTo>
                        <a:pt x="1493" y="1148"/>
                      </a:lnTo>
                      <a:lnTo>
                        <a:pt x="1504" y="1226"/>
                      </a:lnTo>
                      <a:lnTo>
                        <a:pt x="1515" y="1292"/>
                      </a:lnTo>
                      <a:lnTo>
                        <a:pt x="1515" y="1359"/>
                      </a:lnTo>
                      <a:lnTo>
                        <a:pt x="1526" y="1415"/>
                      </a:lnTo>
                      <a:lnTo>
                        <a:pt x="1526" y="1471"/>
                      </a:lnTo>
                      <a:lnTo>
                        <a:pt x="1538" y="1538"/>
                      </a:lnTo>
                      <a:lnTo>
                        <a:pt x="1538" y="1593"/>
                      </a:lnTo>
                      <a:lnTo>
                        <a:pt x="1538" y="1638"/>
                      </a:lnTo>
                      <a:lnTo>
                        <a:pt x="1538" y="1694"/>
                      </a:lnTo>
                      <a:lnTo>
                        <a:pt x="1538" y="1738"/>
                      </a:lnTo>
                      <a:lnTo>
                        <a:pt x="1538" y="1772"/>
                      </a:lnTo>
                      <a:lnTo>
                        <a:pt x="1526" y="1805"/>
                      </a:lnTo>
                      <a:lnTo>
                        <a:pt x="1526" y="1839"/>
                      </a:lnTo>
                      <a:lnTo>
                        <a:pt x="1515" y="1861"/>
                      </a:lnTo>
                      <a:lnTo>
                        <a:pt x="1504" y="1883"/>
                      </a:lnTo>
                      <a:lnTo>
                        <a:pt x="1493" y="1894"/>
                      </a:lnTo>
                      <a:lnTo>
                        <a:pt x="1493" y="1905"/>
                      </a:lnTo>
                      <a:lnTo>
                        <a:pt x="1482" y="1917"/>
                      </a:lnTo>
                      <a:lnTo>
                        <a:pt x="1460" y="1928"/>
                      </a:lnTo>
                      <a:lnTo>
                        <a:pt x="1437" y="1928"/>
                      </a:lnTo>
                      <a:lnTo>
                        <a:pt x="1415" y="1939"/>
                      </a:lnTo>
                      <a:lnTo>
                        <a:pt x="1393" y="1950"/>
                      </a:lnTo>
                      <a:lnTo>
                        <a:pt x="1359" y="1961"/>
                      </a:lnTo>
                      <a:lnTo>
                        <a:pt x="1337" y="1972"/>
                      </a:lnTo>
                      <a:lnTo>
                        <a:pt x="1304" y="1972"/>
                      </a:lnTo>
                      <a:lnTo>
                        <a:pt x="1259" y="1983"/>
                      </a:lnTo>
                      <a:lnTo>
                        <a:pt x="1226" y="1995"/>
                      </a:lnTo>
                      <a:lnTo>
                        <a:pt x="1181" y="1995"/>
                      </a:lnTo>
                      <a:lnTo>
                        <a:pt x="1148" y="2006"/>
                      </a:lnTo>
                      <a:lnTo>
                        <a:pt x="1103" y="2006"/>
                      </a:lnTo>
                      <a:lnTo>
                        <a:pt x="1058" y="2006"/>
                      </a:lnTo>
                      <a:lnTo>
                        <a:pt x="1014" y="2017"/>
                      </a:lnTo>
                      <a:lnTo>
                        <a:pt x="969" y="2017"/>
                      </a:lnTo>
                      <a:lnTo>
                        <a:pt x="913" y="2017"/>
                      </a:lnTo>
                      <a:lnTo>
                        <a:pt x="869" y="2017"/>
                      </a:lnTo>
                      <a:lnTo>
                        <a:pt x="824" y="2017"/>
                      </a:lnTo>
                      <a:lnTo>
                        <a:pt x="780" y="2017"/>
                      </a:lnTo>
                      <a:lnTo>
                        <a:pt x="724" y="2017"/>
                      </a:lnTo>
                      <a:lnTo>
                        <a:pt x="679" y="2017"/>
                      </a:lnTo>
                      <a:lnTo>
                        <a:pt x="635" y="2017"/>
                      </a:lnTo>
                      <a:lnTo>
                        <a:pt x="579" y="2006"/>
                      </a:lnTo>
                      <a:lnTo>
                        <a:pt x="535" y="2006"/>
                      </a:lnTo>
                      <a:lnTo>
                        <a:pt x="490" y="2006"/>
                      </a:lnTo>
                      <a:lnTo>
                        <a:pt x="445" y="1995"/>
                      </a:lnTo>
                      <a:lnTo>
                        <a:pt x="401" y="1995"/>
                      </a:lnTo>
                      <a:lnTo>
                        <a:pt x="367" y="1983"/>
                      </a:lnTo>
                      <a:lnTo>
                        <a:pt x="323" y="1972"/>
                      </a:lnTo>
                      <a:lnTo>
                        <a:pt x="289" y="1961"/>
                      </a:lnTo>
                      <a:lnTo>
                        <a:pt x="245" y="1939"/>
                      </a:lnTo>
                      <a:lnTo>
                        <a:pt x="211" y="1894"/>
                      </a:lnTo>
                      <a:lnTo>
                        <a:pt x="200" y="1805"/>
                      </a:lnTo>
                      <a:lnTo>
                        <a:pt x="189" y="1705"/>
                      </a:lnTo>
                      <a:lnTo>
                        <a:pt x="200" y="1582"/>
                      </a:lnTo>
                      <a:lnTo>
                        <a:pt x="211" y="1437"/>
                      </a:lnTo>
                      <a:lnTo>
                        <a:pt x="222" y="1281"/>
                      </a:lnTo>
                      <a:lnTo>
                        <a:pt x="245" y="1114"/>
                      </a:lnTo>
                      <a:lnTo>
                        <a:pt x="222" y="1114"/>
                      </a:lnTo>
                      <a:lnTo>
                        <a:pt x="211" y="1103"/>
                      </a:lnTo>
                      <a:lnTo>
                        <a:pt x="200" y="1103"/>
                      </a:lnTo>
                      <a:lnTo>
                        <a:pt x="178" y="1103"/>
                      </a:lnTo>
                      <a:lnTo>
                        <a:pt x="167" y="1103"/>
                      </a:lnTo>
                      <a:lnTo>
                        <a:pt x="144" y="1103"/>
                      </a:lnTo>
                      <a:lnTo>
                        <a:pt x="133" y="1103"/>
                      </a:lnTo>
                      <a:lnTo>
                        <a:pt x="111" y="1103"/>
                      </a:lnTo>
                      <a:lnTo>
                        <a:pt x="100" y="1092"/>
                      </a:lnTo>
                      <a:lnTo>
                        <a:pt x="89" y="1092"/>
                      </a:lnTo>
                      <a:lnTo>
                        <a:pt x="78" y="1092"/>
                      </a:lnTo>
                      <a:lnTo>
                        <a:pt x="55" y="1092"/>
                      </a:lnTo>
                      <a:lnTo>
                        <a:pt x="44" y="1081"/>
                      </a:lnTo>
                      <a:lnTo>
                        <a:pt x="33" y="1081"/>
                      </a:lnTo>
                      <a:lnTo>
                        <a:pt x="22" y="1069"/>
                      </a:lnTo>
                      <a:lnTo>
                        <a:pt x="22" y="1058"/>
                      </a:lnTo>
                      <a:lnTo>
                        <a:pt x="11" y="1014"/>
                      </a:lnTo>
                      <a:lnTo>
                        <a:pt x="0" y="947"/>
                      </a:lnTo>
                      <a:lnTo>
                        <a:pt x="0" y="880"/>
                      </a:lnTo>
                      <a:lnTo>
                        <a:pt x="0" y="802"/>
                      </a:lnTo>
                      <a:lnTo>
                        <a:pt x="11" y="724"/>
                      </a:lnTo>
                      <a:lnTo>
                        <a:pt x="11" y="657"/>
                      </a:lnTo>
                      <a:lnTo>
                        <a:pt x="22" y="601"/>
                      </a:lnTo>
                      <a:lnTo>
                        <a:pt x="33" y="568"/>
                      </a:lnTo>
                      <a:lnTo>
                        <a:pt x="44" y="557"/>
                      </a:lnTo>
                      <a:lnTo>
                        <a:pt x="55" y="557"/>
                      </a:lnTo>
                      <a:lnTo>
                        <a:pt x="66" y="546"/>
                      </a:lnTo>
                      <a:lnTo>
                        <a:pt x="78" y="546"/>
                      </a:lnTo>
                      <a:lnTo>
                        <a:pt x="89" y="546"/>
                      </a:lnTo>
                      <a:lnTo>
                        <a:pt x="100" y="546"/>
                      </a:lnTo>
                      <a:lnTo>
                        <a:pt x="122" y="535"/>
                      </a:lnTo>
                      <a:lnTo>
                        <a:pt x="133" y="535"/>
                      </a:lnTo>
                      <a:lnTo>
                        <a:pt x="144" y="535"/>
                      </a:lnTo>
                      <a:lnTo>
                        <a:pt x="167" y="546"/>
                      </a:lnTo>
                      <a:lnTo>
                        <a:pt x="178" y="546"/>
                      </a:lnTo>
                      <a:lnTo>
                        <a:pt x="189" y="546"/>
                      </a:lnTo>
                      <a:lnTo>
                        <a:pt x="211" y="546"/>
                      </a:lnTo>
                      <a:lnTo>
                        <a:pt x="222" y="546"/>
                      </a:lnTo>
                      <a:lnTo>
                        <a:pt x="245" y="546"/>
                      </a:lnTo>
                      <a:lnTo>
                        <a:pt x="256" y="546"/>
                      </a:lnTo>
                      <a:lnTo>
                        <a:pt x="267" y="434"/>
                      </a:lnTo>
                      <a:lnTo>
                        <a:pt x="278" y="323"/>
                      </a:lnTo>
                      <a:lnTo>
                        <a:pt x="278" y="211"/>
                      </a:lnTo>
                      <a:lnTo>
                        <a:pt x="289" y="122"/>
                      </a:lnTo>
                      <a:close/>
                    </a:path>
                  </a:pathLst>
                </a:custGeom>
                <a:solidFill>
                  <a:srgbClr val="ffebb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Freeform 1116"/>
                <p:cNvSpPr/>
                <p:nvPr/>
              </p:nvSpPr>
              <p:spPr>
                <a:xfrm rot="111600">
                  <a:off x="2884320" y="1431720"/>
                  <a:ext cx="123120" cy="17640"/>
                </a:xfrm>
                <a:custGeom>
                  <a:avLst/>
                  <a:gdLst>
                    <a:gd name="textAreaLeft" fmla="*/ 0 w 123120"/>
                    <a:gd name="textAreaRight" fmla="*/ 123120 w 123120"/>
                    <a:gd name="textAreaTop" fmla="*/ 0 h 17640"/>
                    <a:gd name="textAreaBottom" fmla="*/ 18000 h 17640"/>
                  </a:gdLst>
                  <a:ahLst/>
                  <a:rect l="textAreaLeft" t="textAreaTop" r="textAreaRight" b="textAreaBottom"/>
                  <a:pathLst>
                    <a:path w="1260" h="134">
                      <a:moveTo>
                        <a:pt x="1260" y="134"/>
                      </a:moveTo>
                      <a:lnTo>
                        <a:pt x="1248" y="123"/>
                      </a:lnTo>
                      <a:lnTo>
                        <a:pt x="1215" y="101"/>
                      </a:lnTo>
                      <a:lnTo>
                        <a:pt x="1170" y="90"/>
                      </a:lnTo>
                      <a:lnTo>
                        <a:pt x="1137" y="78"/>
                      </a:lnTo>
                      <a:lnTo>
                        <a:pt x="1092" y="67"/>
                      </a:lnTo>
                      <a:lnTo>
                        <a:pt x="1059" y="56"/>
                      </a:lnTo>
                      <a:lnTo>
                        <a:pt x="1014" y="45"/>
                      </a:lnTo>
                      <a:lnTo>
                        <a:pt x="981" y="45"/>
                      </a:lnTo>
                      <a:lnTo>
                        <a:pt x="936" y="34"/>
                      </a:lnTo>
                      <a:lnTo>
                        <a:pt x="903" y="23"/>
                      </a:lnTo>
                      <a:lnTo>
                        <a:pt x="858" y="23"/>
                      </a:lnTo>
                      <a:lnTo>
                        <a:pt x="814" y="12"/>
                      </a:lnTo>
                      <a:lnTo>
                        <a:pt x="780" y="12"/>
                      </a:lnTo>
                      <a:lnTo>
                        <a:pt x="736" y="0"/>
                      </a:lnTo>
                      <a:lnTo>
                        <a:pt x="702" y="0"/>
                      </a:lnTo>
                      <a:lnTo>
                        <a:pt x="658" y="0"/>
                      </a:lnTo>
                      <a:lnTo>
                        <a:pt x="624" y="0"/>
                      </a:lnTo>
                      <a:lnTo>
                        <a:pt x="580" y="0"/>
                      </a:lnTo>
                      <a:lnTo>
                        <a:pt x="535" y="0"/>
                      </a:lnTo>
                      <a:lnTo>
                        <a:pt x="502" y="0"/>
                      </a:lnTo>
                      <a:lnTo>
                        <a:pt x="457" y="12"/>
                      </a:lnTo>
                      <a:lnTo>
                        <a:pt x="424" y="12"/>
                      </a:lnTo>
                      <a:lnTo>
                        <a:pt x="379" y="12"/>
                      </a:lnTo>
                      <a:lnTo>
                        <a:pt x="346" y="23"/>
                      </a:lnTo>
                      <a:lnTo>
                        <a:pt x="301" y="34"/>
                      </a:lnTo>
                      <a:lnTo>
                        <a:pt x="268" y="34"/>
                      </a:lnTo>
                      <a:lnTo>
                        <a:pt x="223" y="45"/>
                      </a:lnTo>
                      <a:lnTo>
                        <a:pt x="190" y="56"/>
                      </a:lnTo>
                      <a:lnTo>
                        <a:pt x="156" y="67"/>
                      </a:lnTo>
                      <a:lnTo>
                        <a:pt x="112" y="78"/>
                      </a:lnTo>
                      <a:lnTo>
                        <a:pt x="78" y="90"/>
                      </a:lnTo>
                      <a:lnTo>
                        <a:pt x="45" y="101"/>
                      </a:lnTo>
                      <a:lnTo>
                        <a:pt x="0" y="123"/>
                      </a:lnTo>
                      <a:lnTo>
                        <a:pt x="11" y="134"/>
                      </a:lnTo>
                      <a:lnTo>
                        <a:pt x="45" y="123"/>
                      </a:lnTo>
                      <a:lnTo>
                        <a:pt x="78" y="112"/>
                      </a:lnTo>
                      <a:lnTo>
                        <a:pt x="123" y="101"/>
                      </a:lnTo>
                      <a:lnTo>
                        <a:pt x="156" y="90"/>
                      </a:lnTo>
                      <a:lnTo>
                        <a:pt x="190" y="78"/>
                      </a:lnTo>
                      <a:lnTo>
                        <a:pt x="234" y="67"/>
                      </a:lnTo>
                      <a:lnTo>
                        <a:pt x="268" y="56"/>
                      </a:lnTo>
                      <a:lnTo>
                        <a:pt x="312" y="45"/>
                      </a:lnTo>
                      <a:lnTo>
                        <a:pt x="346" y="45"/>
                      </a:lnTo>
                      <a:lnTo>
                        <a:pt x="390" y="34"/>
                      </a:lnTo>
                      <a:lnTo>
                        <a:pt x="424" y="34"/>
                      </a:lnTo>
                      <a:lnTo>
                        <a:pt x="457" y="23"/>
                      </a:lnTo>
                      <a:lnTo>
                        <a:pt x="502" y="23"/>
                      </a:lnTo>
                      <a:lnTo>
                        <a:pt x="535" y="23"/>
                      </a:lnTo>
                      <a:lnTo>
                        <a:pt x="580" y="23"/>
                      </a:lnTo>
                      <a:lnTo>
                        <a:pt x="624" y="23"/>
                      </a:lnTo>
                      <a:lnTo>
                        <a:pt x="658" y="23"/>
                      </a:lnTo>
                      <a:lnTo>
                        <a:pt x="702" y="23"/>
                      </a:lnTo>
                      <a:lnTo>
                        <a:pt x="736" y="23"/>
                      </a:lnTo>
                      <a:lnTo>
                        <a:pt x="780" y="23"/>
                      </a:lnTo>
                      <a:lnTo>
                        <a:pt x="814" y="34"/>
                      </a:lnTo>
                      <a:lnTo>
                        <a:pt x="858" y="34"/>
                      </a:lnTo>
                      <a:lnTo>
                        <a:pt x="892" y="45"/>
                      </a:lnTo>
                      <a:lnTo>
                        <a:pt x="936" y="45"/>
                      </a:lnTo>
                      <a:lnTo>
                        <a:pt x="970" y="56"/>
                      </a:lnTo>
                      <a:lnTo>
                        <a:pt x="1014" y="67"/>
                      </a:lnTo>
                      <a:lnTo>
                        <a:pt x="1048" y="78"/>
                      </a:lnTo>
                      <a:lnTo>
                        <a:pt x="1092" y="90"/>
                      </a:lnTo>
                      <a:lnTo>
                        <a:pt x="1126" y="101"/>
                      </a:lnTo>
                      <a:lnTo>
                        <a:pt x="1170" y="112"/>
                      </a:lnTo>
                      <a:lnTo>
                        <a:pt x="1204" y="123"/>
                      </a:lnTo>
                      <a:lnTo>
                        <a:pt x="1237" y="134"/>
                      </a:lnTo>
                      <a:lnTo>
                        <a:pt x="1260" y="134"/>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Freeform 1115"/>
                <p:cNvSpPr/>
                <p:nvPr/>
              </p:nvSpPr>
              <p:spPr>
                <a:xfrm rot="111600">
                  <a:off x="2999160" y="1451520"/>
                  <a:ext cx="6480" cy="70920"/>
                </a:xfrm>
                <a:custGeom>
                  <a:avLst/>
                  <a:gdLst>
                    <a:gd name="textAreaLeft" fmla="*/ 0 w 6480"/>
                    <a:gd name="textAreaRight" fmla="*/ 6840 w 6480"/>
                    <a:gd name="textAreaTop" fmla="*/ 0 h 70920"/>
                    <a:gd name="textAreaBottom" fmla="*/ 71280 h 70920"/>
                  </a:gdLst>
                  <a:ahLst/>
                  <a:rect l="textAreaLeft" t="textAreaTop" r="textAreaRight" b="textAreaBottom"/>
                  <a:pathLst>
                    <a:path w="67" h="535">
                      <a:moveTo>
                        <a:pt x="55" y="513"/>
                      </a:moveTo>
                      <a:lnTo>
                        <a:pt x="67" y="524"/>
                      </a:lnTo>
                      <a:lnTo>
                        <a:pt x="33" y="424"/>
                      </a:lnTo>
                      <a:lnTo>
                        <a:pt x="22" y="334"/>
                      </a:lnTo>
                      <a:lnTo>
                        <a:pt x="11" y="256"/>
                      </a:lnTo>
                      <a:lnTo>
                        <a:pt x="22" y="201"/>
                      </a:lnTo>
                      <a:lnTo>
                        <a:pt x="33" y="145"/>
                      </a:lnTo>
                      <a:lnTo>
                        <a:pt x="44" y="100"/>
                      </a:lnTo>
                      <a:lnTo>
                        <a:pt x="55" y="45"/>
                      </a:lnTo>
                      <a:lnTo>
                        <a:pt x="67" y="0"/>
                      </a:lnTo>
                      <a:lnTo>
                        <a:pt x="44" y="0"/>
                      </a:lnTo>
                      <a:lnTo>
                        <a:pt x="44" y="45"/>
                      </a:lnTo>
                      <a:lnTo>
                        <a:pt x="33" y="89"/>
                      </a:lnTo>
                      <a:lnTo>
                        <a:pt x="11" y="145"/>
                      </a:lnTo>
                      <a:lnTo>
                        <a:pt x="0" y="201"/>
                      </a:lnTo>
                      <a:lnTo>
                        <a:pt x="0" y="256"/>
                      </a:lnTo>
                      <a:lnTo>
                        <a:pt x="0" y="334"/>
                      </a:lnTo>
                      <a:lnTo>
                        <a:pt x="11" y="424"/>
                      </a:lnTo>
                      <a:lnTo>
                        <a:pt x="44" y="524"/>
                      </a:lnTo>
                      <a:lnTo>
                        <a:pt x="55" y="535"/>
                      </a:lnTo>
                      <a:lnTo>
                        <a:pt x="55" y="513"/>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Freeform 1114"/>
                <p:cNvSpPr/>
                <p:nvPr/>
              </p:nvSpPr>
              <p:spPr>
                <a:xfrm rot="111600">
                  <a:off x="3003480" y="1518480"/>
                  <a:ext cx="19440" cy="5760"/>
                </a:xfrm>
                <a:custGeom>
                  <a:avLst/>
                  <a:gdLst>
                    <a:gd name="textAreaLeft" fmla="*/ 0 w 19440"/>
                    <a:gd name="textAreaRight" fmla="*/ 19440 w 19440"/>
                    <a:gd name="textAreaTop" fmla="*/ 0 h 5760"/>
                    <a:gd name="textAreaBottom" fmla="*/ 6120 h 5760"/>
                  </a:gdLst>
                  <a:ahLst/>
                  <a:rect l="textAreaLeft" t="textAreaTop" r="textAreaRight" b="textAreaBottom"/>
                  <a:pathLst>
                    <a:path w="201" h="44">
                      <a:moveTo>
                        <a:pt x="190" y="33"/>
                      </a:moveTo>
                      <a:lnTo>
                        <a:pt x="201" y="44"/>
                      </a:lnTo>
                      <a:lnTo>
                        <a:pt x="179" y="22"/>
                      </a:lnTo>
                      <a:lnTo>
                        <a:pt x="157" y="0"/>
                      </a:lnTo>
                      <a:lnTo>
                        <a:pt x="134" y="0"/>
                      </a:lnTo>
                      <a:lnTo>
                        <a:pt x="112" y="0"/>
                      </a:lnTo>
                      <a:lnTo>
                        <a:pt x="90" y="0"/>
                      </a:lnTo>
                      <a:lnTo>
                        <a:pt x="56" y="0"/>
                      </a:lnTo>
                      <a:lnTo>
                        <a:pt x="34" y="11"/>
                      </a:lnTo>
                      <a:lnTo>
                        <a:pt x="0" y="11"/>
                      </a:lnTo>
                      <a:lnTo>
                        <a:pt x="0" y="33"/>
                      </a:lnTo>
                      <a:lnTo>
                        <a:pt x="34" y="22"/>
                      </a:lnTo>
                      <a:lnTo>
                        <a:pt x="56" y="22"/>
                      </a:lnTo>
                      <a:lnTo>
                        <a:pt x="90" y="22"/>
                      </a:lnTo>
                      <a:lnTo>
                        <a:pt x="112" y="22"/>
                      </a:lnTo>
                      <a:lnTo>
                        <a:pt x="134" y="22"/>
                      </a:lnTo>
                      <a:lnTo>
                        <a:pt x="157" y="22"/>
                      </a:lnTo>
                      <a:lnTo>
                        <a:pt x="168" y="33"/>
                      </a:lnTo>
                      <a:lnTo>
                        <a:pt x="179" y="44"/>
                      </a:lnTo>
                      <a:lnTo>
                        <a:pt x="190" y="33"/>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Freeform 1113"/>
                <p:cNvSpPr/>
                <p:nvPr/>
              </p:nvSpPr>
              <p:spPr>
                <a:xfrm rot="111600">
                  <a:off x="3020400" y="1523520"/>
                  <a:ext cx="3960" cy="56160"/>
                </a:xfrm>
                <a:custGeom>
                  <a:avLst/>
                  <a:gdLst>
                    <a:gd name="textAreaLeft" fmla="*/ 0 w 3960"/>
                    <a:gd name="textAreaRight" fmla="*/ 4320 w 3960"/>
                    <a:gd name="textAreaTop" fmla="*/ 0 h 56160"/>
                    <a:gd name="textAreaBottom" fmla="*/ 56520 h 56160"/>
                  </a:gdLst>
                  <a:ahLst/>
                  <a:rect l="textAreaLeft" t="textAreaTop" r="textAreaRight" b="textAreaBottom"/>
                  <a:pathLst>
                    <a:path w="44" h="424">
                      <a:moveTo>
                        <a:pt x="11" y="424"/>
                      </a:moveTo>
                      <a:lnTo>
                        <a:pt x="22" y="412"/>
                      </a:lnTo>
                      <a:lnTo>
                        <a:pt x="22" y="368"/>
                      </a:lnTo>
                      <a:lnTo>
                        <a:pt x="33" y="312"/>
                      </a:lnTo>
                      <a:lnTo>
                        <a:pt x="44" y="256"/>
                      </a:lnTo>
                      <a:lnTo>
                        <a:pt x="44" y="201"/>
                      </a:lnTo>
                      <a:lnTo>
                        <a:pt x="44" y="145"/>
                      </a:lnTo>
                      <a:lnTo>
                        <a:pt x="44" y="89"/>
                      </a:lnTo>
                      <a:lnTo>
                        <a:pt x="33" y="45"/>
                      </a:lnTo>
                      <a:lnTo>
                        <a:pt x="11" y="0"/>
                      </a:lnTo>
                      <a:lnTo>
                        <a:pt x="0" y="11"/>
                      </a:lnTo>
                      <a:lnTo>
                        <a:pt x="11" y="45"/>
                      </a:lnTo>
                      <a:lnTo>
                        <a:pt x="22" y="89"/>
                      </a:lnTo>
                      <a:lnTo>
                        <a:pt x="22" y="145"/>
                      </a:lnTo>
                      <a:lnTo>
                        <a:pt x="22" y="201"/>
                      </a:lnTo>
                      <a:lnTo>
                        <a:pt x="22" y="256"/>
                      </a:lnTo>
                      <a:lnTo>
                        <a:pt x="11" y="312"/>
                      </a:lnTo>
                      <a:lnTo>
                        <a:pt x="11" y="368"/>
                      </a:lnTo>
                      <a:lnTo>
                        <a:pt x="0" y="412"/>
                      </a:lnTo>
                      <a:lnTo>
                        <a:pt x="11" y="424"/>
                      </a:lnTo>
                      <a:close/>
                    </a:path>
                  </a:pathLst>
                </a:custGeom>
                <a:solidFill>
                  <a:srgbClr val="000000"/>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1112"/>
                <p:cNvSpPr/>
                <p:nvPr/>
              </p:nvSpPr>
              <p:spPr>
                <a:xfrm rot="111600">
                  <a:off x="2998440" y="1577520"/>
                  <a:ext cx="21600" cy="11880"/>
                </a:xfrm>
                <a:custGeom>
                  <a:avLst/>
                  <a:gdLst>
                    <a:gd name="textAreaLeft" fmla="*/ 0 w 21600"/>
                    <a:gd name="textAreaRight" fmla="*/ 21960 w 21600"/>
                    <a:gd name="textAreaTop" fmla="*/ 0 h 11880"/>
                    <a:gd name="textAreaBottom" fmla="*/ 12240 h 11880"/>
                  </a:gdLst>
                  <a:ahLst/>
                  <a:rect l="textAreaLeft" t="textAreaTop" r="textAreaRight" b="textAreaBottom"/>
                  <a:pathLst>
                    <a:path w="223" h="90">
                      <a:moveTo>
                        <a:pt x="11" y="79"/>
                      </a:moveTo>
                      <a:lnTo>
                        <a:pt x="0" y="90"/>
                      </a:lnTo>
                      <a:lnTo>
                        <a:pt x="11" y="90"/>
                      </a:lnTo>
                      <a:lnTo>
                        <a:pt x="22" y="90"/>
                      </a:lnTo>
                      <a:lnTo>
                        <a:pt x="45" y="79"/>
                      </a:lnTo>
                      <a:lnTo>
                        <a:pt x="56" y="79"/>
                      </a:lnTo>
                      <a:lnTo>
                        <a:pt x="78" y="79"/>
                      </a:lnTo>
                      <a:lnTo>
                        <a:pt x="89" y="79"/>
                      </a:lnTo>
                      <a:lnTo>
                        <a:pt x="111" y="67"/>
                      </a:lnTo>
                      <a:lnTo>
                        <a:pt x="123" y="67"/>
                      </a:lnTo>
                      <a:lnTo>
                        <a:pt x="134" y="56"/>
                      </a:lnTo>
                      <a:lnTo>
                        <a:pt x="156" y="56"/>
                      </a:lnTo>
                      <a:lnTo>
                        <a:pt x="167" y="45"/>
                      </a:lnTo>
                      <a:lnTo>
                        <a:pt x="190" y="45"/>
                      </a:lnTo>
                      <a:lnTo>
                        <a:pt x="201" y="34"/>
                      </a:lnTo>
                      <a:lnTo>
                        <a:pt x="212" y="23"/>
                      </a:lnTo>
                      <a:lnTo>
                        <a:pt x="223" y="12"/>
                      </a:lnTo>
                      <a:lnTo>
                        <a:pt x="212" y="0"/>
                      </a:lnTo>
                      <a:lnTo>
                        <a:pt x="201" y="12"/>
                      </a:lnTo>
                      <a:lnTo>
                        <a:pt x="190" y="12"/>
                      </a:lnTo>
                      <a:lnTo>
                        <a:pt x="178" y="23"/>
                      </a:lnTo>
                      <a:lnTo>
                        <a:pt x="167" y="23"/>
                      </a:lnTo>
                      <a:lnTo>
                        <a:pt x="145" y="34"/>
                      </a:lnTo>
                      <a:lnTo>
                        <a:pt x="134" y="45"/>
                      </a:lnTo>
                      <a:lnTo>
                        <a:pt x="123" y="45"/>
                      </a:lnTo>
                      <a:lnTo>
                        <a:pt x="100" y="45"/>
                      </a:lnTo>
                      <a:lnTo>
                        <a:pt x="89" y="56"/>
                      </a:lnTo>
                      <a:lnTo>
                        <a:pt x="67" y="56"/>
                      </a:lnTo>
                      <a:lnTo>
                        <a:pt x="56" y="67"/>
                      </a:lnTo>
                      <a:lnTo>
                        <a:pt x="45" y="67"/>
                      </a:lnTo>
                      <a:lnTo>
                        <a:pt x="22" y="67"/>
                      </a:lnTo>
                      <a:lnTo>
                        <a:pt x="11" y="67"/>
                      </a:lnTo>
                      <a:lnTo>
                        <a:pt x="0" y="67"/>
                      </a:lnTo>
                      <a:lnTo>
                        <a:pt x="0" y="79"/>
                      </a:lnTo>
                      <a:lnTo>
                        <a:pt x="11" y="79"/>
                      </a:lnTo>
                      <a:close/>
                    </a:path>
                  </a:pathLst>
                </a:cu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1111"/>
                <p:cNvSpPr/>
                <p:nvPr/>
              </p:nvSpPr>
              <p:spPr>
                <a:xfrm rot="111600">
                  <a:off x="2997360" y="1587960"/>
                  <a:ext cx="5400" cy="65160"/>
                </a:xfrm>
                <a:custGeom>
                  <a:avLst/>
                  <a:gdLst>
                    <a:gd name="textAreaLeft" fmla="*/ 0 w 5400"/>
                    <a:gd name="textAreaRight" fmla="*/ 5760 w 5400"/>
                    <a:gd name="textAreaTop" fmla="*/ 0 h 65160"/>
                    <a:gd name="textAreaBottom" fmla="*/ 65520 h 65160"/>
                  </a:gdLst>
                  <a:ahLst/>
                  <a:rect l="textAreaLeft" t="textAreaTop" r="textAreaRight" b="textAreaBottom"/>
                  <a:pathLst>
                    <a:path w="56" h="490">
                      <a:moveTo>
                        <a:pt x="56" y="490"/>
                      </a:moveTo>
                      <a:lnTo>
                        <a:pt x="56" y="490"/>
                      </a:lnTo>
                      <a:lnTo>
                        <a:pt x="56" y="445"/>
                      </a:lnTo>
                      <a:lnTo>
                        <a:pt x="45" y="390"/>
                      </a:lnTo>
                      <a:lnTo>
                        <a:pt x="45" y="323"/>
                      </a:lnTo>
                      <a:lnTo>
                        <a:pt x="45" y="267"/>
                      </a:lnTo>
                      <a:lnTo>
                        <a:pt x="33" y="211"/>
                      </a:lnTo>
                      <a:lnTo>
                        <a:pt x="22" y="144"/>
                      </a:lnTo>
                      <a:lnTo>
                        <a:pt x="22" y="78"/>
                      </a:lnTo>
                      <a:lnTo>
                        <a:pt x="11" y="0"/>
                      </a:lnTo>
                      <a:lnTo>
                        <a:pt x="0" y="0"/>
                      </a:lnTo>
                      <a:lnTo>
                        <a:pt x="0" y="78"/>
                      </a:lnTo>
                      <a:lnTo>
                        <a:pt x="11" y="144"/>
                      </a:lnTo>
                      <a:lnTo>
                        <a:pt x="11" y="211"/>
                      </a:lnTo>
                      <a:lnTo>
                        <a:pt x="22" y="267"/>
                      </a:lnTo>
                      <a:lnTo>
                        <a:pt x="22" y="323"/>
                      </a:lnTo>
                      <a:lnTo>
                        <a:pt x="33" y="390"/>
                      </a:lnTo>
                      <a:lnTo>
                        <a:pt x="33" y="445"/>
                      </a:lnTo>
                      <a:lnTo>
                        <a:pt x="33" y="490"/>
                      </a:lnTo>
                      <a:lnTo>
                        <a:pt x="56" y="490"/>
                      </a:lnTo>
                      <a:close/>
                    </a:path>
                  </a:pathLst>
                </a:custGeom>
                <a:solidFill>
                  <a:srgbClr val="000000"/>
                </a:solidFill>
                <a:ln w="0">
                  <a:noFill/>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Freeform 1110"/>
                <p:cNvSpPr/>
                <p:nvPr/>
              </p:nvSpPr>
              <p:spPr>
                <a:xfrm rot="111600">
                  <a:off x="2995560" y="1653120"/>
                  <a:ext cx="5400" cy="33840"/>
                </a:xfrm>
                <a:custGeom>
                  <a:avLst/>
                  <a:gdLst>
                    <a:gd name="textAreaLeft" fmla="*/ 0 w 5400"/>
                    <a:gd name="textAreaRight" fmla="*/ 5760 w 5400"/>
                    <a:gd name="textAreaTop" fmla="*/ 0 h 33840"/>
                    <a:gd name="textAreaBottom" fmla="*/ 34200 h 33840"/>
                  </a:gdLst>
                  <a:ahLst/>
                  <a:rect l="textAreaLeft" t="textAreaTop" r="textAreaRight" b="textAreaBottom"/>
                  <a:pathLst>
                    <a:path w="56" h="256">
                      <a:moveTo>
                        <a:pt x="11" y="256"/>
                      </a:moveTo>
                      <a:lnTo>
                        <a:pt x="11" y="256"/>
                      </a:lnTo>
                      <a:lnTo>
                        <a:pt x="22" y="245"/>
                      </a:lnTo>
                      <a:lnTo>
                        <a:pt x="33" y="223"/>
                      </a:lnTo>
                      <a:lnTo>
                        <a:pt x="33" y="201"/>
                      </a:lnTo>
                      <a:lnTo>
                        <a:pt x="45" y="167"/>
                      </a:lnTo>
                      <a:lnTo>
                        <a:pt x="56" y="134"/>
                      </a:lnTo>
                      <a:lnTo>
                        <a:pt x="56" y="100"/>
                      </a:lnTo>
                      <a:lnTo>
                        <a:pt x="56" y="56"/>
                      </a:lnTo>
                      <a:lnTo>
                        <a:pt x="56" y="0"/>
                      </a:lnTo>
                      <a:lnTo>
                        <a:pt x="33" y="0"/>
                      </a:lnTo>
                      <a:lnTo>
                        <a:pt x="33" y="56"/>
                      </a:lnTo>
                      <a:lnTo>
                        <a:pt x="33" y="100"/>
                      </a:lnTo>
                      <a:lnTo>
                        <a:pt x="33" y="134"/>
                      </a:lnTo>
                      <a:lnTo>
                        <a:pt x="22" y="167"/>
                      </a:lnTo>
                      <a:lnTo>
                        <a:pt x="22" y="201"/>
                      </a:lnTo>
                      <a:lnTo>
                        <a:pt x="11" y="223"/>
                      </a:lnTo>
                      <a:lnTo>
                        <a:pt x="0" y="234"/>
                      </a:lnTo>
                      <a:lnTo>
                        <a:pt x="0" y="245"/>
                      </a:lnTo>
                      <a:lnTo>
                        <a:pt x="11" y="25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Freeform 1109"/>
                <p:cNvSpPr/>
                <p:nvPr/>
              </p:nvSpPr>
              <p:spPr>
                <a:xfrm rot="111600">
                  <a:off x="2876400" y="1683720"/>
                  <a:ext cx="119520" cy="19080"/>
                </a:xfrm>
                <a:custGeom>
                  <a:avLst/>
                  <a:gdLst>
                    <a:gd name="textAreaLeft" fmla="*/ 0 w 119520"/>
                    <a:gd name="textAreaRight" fmla="*/ 119880 w 119520"/>
                    <a:gd name="textAreaTop" fmla="*/ 0 h 19080"/>
                    <a:gd name="textAreaBottom" fmla="*/ 19440 h 19080"/>
                  </a:gdLst>
                  <a:ahLst/>
                  <a:rect l="textAreaLeft" t="textAreaTop" r="textAreaRight" b="textAreaBottom"/>
                  <a:pathLst>
                    <a:path w="1226" h="145">
                      <a:moveTo>
                        <a:pt x="11" y="89"/>
                      </a:moveTo>
                      <a:lnTo>
                        <a:pt x="0" y="89"/>
                      </a:lnTo>
                      <a:lnTo>
                        <a:pt x="45" y="100"/>
                      </a:lnTo>
                      <a:lnTo>
                        <a:pt x="78" y="112"/>
                      </a:lnTo>
                      <a:lnTo>
                        <a:pt x="123" y="112"/>
                      </a:lnTo>
                      <a:lnTo>
                        <a:pt x="167" y="123"/>
                      </a:lnTo>
                      <a:lnTo>
                        <a:pt x="212" y="123"/>
                      </a:lnTo>
                      <a:lnTo>
                        <a:pt x="257" y="134"/>
                      </a:lnTo>
                      <a:lnTo>
                        <a:pt x="301" y="134"/>
                      </a:lnTo>
                      <a:lnTo>
                        <a:pt x="357" y="145"/>
                      </a:lnTo>
                      <a:lnTo>
                        <a:pt x="401" y="145"/>
                      </a:lnTo>
                      <a:lnTo>
                        <a:pt x="446" y="145"/>
                      </a:lnTo>
                      <a:lnTo>
                        <a:pt x="502" y="145"/>
                      </a:lnTo>
                      <a:lnTo>
                        <a:pt x="546" y="145"/>
                      </a:lnTo>
                      <a:lnTo>
                        <a:pt x="591" y="145"/>
                      </a:lnTo>
                      <a:lnTo>
                        <a:pt x="635" y="145"/>
                      </a:lnTo>
                      <a:lnTo>
                        <a:pt x="691" y="145"/>
                      </a:lnTo>
                      <a:lnTo>
                        <a:pt x="736" y="134"/>
                      </a:lnTo>
                      <a:lnTo>
                        <a:pt x="780" y="134"/>
                      </a:lnTo>
                      <a:lnTo>
                        <a:pt x="825" y="134"/>
                      </a:lnTo>
                      <a:lnTo>
                        <a:pt x="870" y="123"/>
                      </a:lnTo>
                      <a:lnTo>
                        <a:pt x="903" y="123"/>
                      </a:lnTo>
                      <a:lnTo>
                        <a:pt x="948" y="112"/>
                      </a:lnTo>
                      <a:lnTo>
                        <a:pt x="981" y="112"/>
                      </a:lnTo>
                      <a:lnTo>
                        <a:pt x="1026" y="100"/>
                      </a:lnTo>
                      <a:lnTo>
                        <a:pt x="1059" y="100"/>
                      </a:lnTo>
                      <a:lnTo>
                        <a:pt x="1092" y="89"/>
                      </a:lnTo>
                      <a:lnTo>
                        <a:pt x="1115" y="78"/>
                      </a:lnTo>
                      <a:lnTo>
                        <a:pt x="1137" y="67"/>
                      </a:lnTo>
                      <a:lnTo>
                        <a:pt x="1170" y="56"/>
                      </a:lnTo>
                      <a:lnTo>
                        <a:pt x="1182" y="45"/>
                      </a:lnTo>
                      <a:lnTo>
                        <a:pt x="1204" y="34"/>
                      </a:lnTo>
                      <a:lnTo>
                        <a:pt x="1215" y="22"/>
                      </a:lnTo>
                      <a:lnTo>
                        <a:pt x="1226" y="11"/>
                      </a:lnTo>
                      <a:lnTo>
                        <a:pt x="1215" y="0"/>
                      </a:lnTo>
                      <a:lnTo>
                        <a:pt x="1204" y="11"/>
                      </a:lnTo>
                      <a:lnTo>
                        <a:pt x="1193" y="22"/>
                      </a:lnTo>
                      <a:lnTo>
                        <a:pt x="1182" y="34"/>
                      </a:lnTo>
                      <a:lnTo>
                        <a:pt x="1159" y="45"/>
                      </a:lnTo>
                      <a:lnTo>
                        <a:pt x="1137" y="45"/>
                      </a:lnTo>
                      <a:lnTo>
                        <a:pt x="1115" y="56"/>
                      </a:lnTo>
                      <a:lnTo>
                        <a:pt x="1081" y="67"/>
                      </a:lnTo>
                      <a:lnTo>
                        <a:pt x="1048" y="78"/>
                      </a:lnTo>
                      <a:lnTo>
                        <a:pt x="1014" y="78"/>
                      </a:lnTo>
                      <a:lnTo>
                        <a:pt x="981" y="89"/>
                      </a:lnTo>
                      <a:lnTo>
                        <a:pt x="948" y="100"/>
                      </a:lnTo>
                      <a:lnTo>
                        <a:pt x="903" y="100"/>
                      </a:lnTo>
                      <a:lnTo>
                        <a:pt x="870" y="112"/>
                      </a:lnTo>
                      <a:lnTo>
                        <a:pt x="825" y="112"/>
                      </a:lnTo>
                      <a:lnTo>
                        <a:pt x="780" y="112"/>
                      </a:lnTo>
                      <a:lnTo>
                        <a:pt x="736" y="123"/>
                      </a:lnTo>
                      <a:lnTo>
                        <a:pt x="691" y="123"/>
                      </a:lnTo>
                      <a:lnTo>
                        <a:pt x="635" y="123"/>
                      </a:lnTo>
                      <a:lnTo>
                        <a:pt x="591" y="123"/>
                      </a:lnTo>
                      <a:lnTo>
                        <a:pt x="546" y="123"/>
                      </a:lnTo>
                      <a:lnTo>
                        <a:pt x="502" y="123"/>
                      </a:lnTo>
                      <a:lnTo>
                        <a:pt x="446" y="123"/>
                      </a:lnTo>
                      <a:lnTo>
                        <a:pt x="401" y="123"/>
                      </a:lnTo>
                      <a:lnTo>
                        <a:pt x="357" y="123"/>
                      </a:lnTo>
                      <a:lnTo>
                        <a:pt x="301" y="123"/>
                      </a:lnTo>
                      <a:lnTo>
                        <a:pt x="257" y="112"/>
                      </a:lnTo>
                      <a:lnTo>
                        <a:pt x="212" y="112"/>
                      </a:lnTo>
                      <a:lnTo>
                        <a:pt x="167" y="100"/>
                      </a:lnTo>
                      <a:lnTo>
                        <a:pt x="123" y="100"/>
                      </a:lnTo>
                      <a:lnTo>
                        <a:pt x="89" y="89"/>
                      </a:lnTo>
                      <a:lnTo>
                        <a:pt x="45" y="78"/>
                      </a:lnTo>
                      <a:lnTo>
                        <a:pt x="11" y="67"/>
                      </a:lnTo>
                      <a:lnTo>
                        <a:pt x="11" y="89"/>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Freeform 1108"/>
                <p:cNvSpPr/>
                <p:nvPr/>
              </p:nvSpPr>
              <p:spPr>
                <a:xfrm rot="111600">
                  <a:off x="2869200" y="1577880"/>
                  <a:ext cx="9720" cy="115560"/>
                </a:xfrm>
                <a:custGeom>
                  <a:avLst/>
                  <a:gdLst>
                    <a:gd name="textAreaLeft" fmla="*/ 0 w 9720"/>
                    <a:gd name="textAreaRight" fmla="*/ 10080 w 9720"/>
                    <a:gd name="textAreaTop" fmla="*/ 0 h 115560"/>
                    <a:gd name="textAreaBottom" fmla="*/ 115920 h 115560"/>
                  </a:gdLst>
                  <a:ahLst/>
                  <a:rect l="textAreaLeft" t="textAreaTop" r="textAreaRight" b="textAreaBottom"/>
                  <a:pathLst>
                    <a:path w="100" h="869">
                      <a:moveTo>
                        <a:pt x="56" y="22"/>
                      </a:moveTo>
                      <a:lnTo>
                        <a:pt x="45" y="11"/>
                      </a:lnTo>
                      <a:lnTo>
                        <a:pt x="22" y="178"/>
                      </a:lnTo>
                      <a:lnTo>
                        <a:pt x="11" y="334"/>
                      </a:lnTo>
                      <a:lnTo>
                        <a:pt x="0" y="479"/>
                      </a:lnTo>
                      <a:lnTo>
                        <a:pt x="0" y="602"/>
                      </a:lnTo>
                      <a:lnTo>
                        <a:pt x="0" y="702"/>
                      </a:lnTo>
                      <a:lnTo>
                        <a:pt x="11" y="791"/>
                      </a:lnTo>
                      <a:lnTo>
                        <a:pt x="45" y="847"/>
                      </a:lnTo>
                      <a:lnTo>
                        <a:pt x="100" y="869"/>
                      </a:lnTo>
                      <a:lnTo>
                        <a:pt x="100" y="847"/>
                      </a:lnTo>
                      <a:lnTo>
                        <a:pt x="56" y="836"/>
                      </a:lnTo>
                      <a:lnTo>
                        <a:pt x="33" y="791"/>
                      </a:lnTo>
                      <a:lnTo>
                        <a:pt x="22" y="702"/>
                      </a:lnTo>
                      <a:lnTo>
                        <a:pt x="11" y="602"/>
                      </a:lnTo>
                      <a:lnTo>
                        <a:pt x="22" y="479"/>
                      </a:lnTo>
                      <a:lnTo>
                        <a:pt x="33" y="334"/>
                      </a:lnTo>
                      <a:lnTo>
                        <a:pt x="45" y="178"/>
                      </a:lnTo>
                      <a:lnTo>
                        <a:pt x="67" y="11"/>
                      </a:lnTo>
                      <a:lnTo>
                        <a:pt x="56" y="0"/>
                      </a:ln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Freeform 1107"/>
                <p:cNvSpPr/>
                <p:nvPr/>
              </p:nvSpPr>
              <p:spPr>
                <a:xfrm rot="111600">
                  <a:off x="2853720" y="1571760"/>
                  <a:ext cx="22680" cy="8640"/>
                </a:xfrm>
                <a:custGeom>
                  <a:avLst/>
                  <a:gdLst>
                    <a:gd name="textAreaLeft" fmla="*/ 0 w 22680"/>
                    <a:gd name="textAreaRight" fmla="*/ 23040 w 22680"/>
                    <a:gd name="textAreaTop" fmla="*/ 0 h 8640"/>
                    <a:gd name="textAreaBottom" fmla="*/ 9000 h 8640"/>
                  </a:gdLst>
                  <a:ahLst/>
                  <a:rect l="textAreaLeft" t="textAreaTop" r="textAreaRight" b="textAreaBottom"/>
                  <a:pathLst>
                    <a:path w="234" h="67">
                      <a:moveTo>
                        <a:pt x="0" y="0"/>
                      </a:moveTo>
                      <a:lnTo>
                        <a:pt x="0" y="11"/>
                      </a:lnTo>
                      <a:lnTo>
                        <a:pt x="11" y="23"/>
                      </a:lnTo>
                      <a:lnTo>
                        <a:pt x="22" y="23"/>
                      </a:lnTo>
                      <a:lnTo>
                        <a:pt x="33" y="34"/>
                      </a:lnTo>
                      <a:lnTo>
                        <a:pt x="44" y="34"/>
                      </a:lnTo>
                      <a:lnTo>
                        <a:pt x="55" y="45"/>
                      </a:lnTo>
                      <a:lnTo>
                        <a:pt x="78" y="45"/>
                      </a:lnTo>
                      <a:lnTo>
                        <a:pt x="89" y="45"/>
                      </a:lnTo>
                      <a:lnTo>
                        <a:pt x="100" y="45"/>
                      </a:lnTo>
                      <a:lnTo>
                        <a:pt x="122" y="56"/>
                      </a:lnTo>
                      <a:lnTo>
                        <a:pt x="133" y="56"/>
                      </a:lnTo>
                      <a:lnTo>
                        <a:pt x="156" y="56"/>
                      </a:lnTo>
                      <a:lnTo>
                        <a:pt x="167" y="56"/>
                      </a:lnTo>
                      <a:lnTo>
                        <a:pt x="189" y="56"/>
                      </a:lnTo>
                      <a:lnTo>
                        <a:pt x="200" y="56"/>
                      </a:lnTo>
                      <a:lnTo>
                        <a:pt x="211" y="56"/>
                      </a:lnTo>
                      <a:lnTo>
                        <a:pt x="234" y="67"/>
                      </a:lnTo>
                      <a:lnTo>
                        <a:pt x="234" y="45"/>
                      </a:lnTo>
                      <a:lnTo>
                        <a:pt x="223" y="45"/>
                      </a:lnTo>
                      <a:lnTo>
                        <a:pt x="200" y="34"/>
                      </a:lnTo>
                      <a:lnTo>
                        <a:pt x="189" y="34"/>
                      </a:lnTo>
                      <a:lnTo>
                        <a:pt x="167" y="34"/>
                      </a:lnTo>
                      <a:lnTo>
                        <a:pt x="156" y="34"/>
                      </a:lnTo>
                      <a:lnTo>
                        <a:pt x="133" y="34"/>
                      </a:lnTo>
                      <a:lnTo>
                        <a:pt x="122" y="34"/>
                      </a:lnTo>
                      <a:lnTo>
                        <a:pt x="100" y="34"/>
                      </a:lnTo>
                      <a:lnTo>
                        <a:pt x="89" y="34"/>
                      </a:lnTo>
                      <a:lnTo>
                        <a:pt x="78" y="23"/>
                      </a:lnTo>
                      <a:lnTo>
                        <a:pt x="67" y="23"/>
                      </a:lnTo>
                      <a:lnTo>
                        <a:pt x="55" y="23"/>
                      </a:lnTo>
                      <a:lnTo>
                        <a:pt x="44" y="11"/>
                      </a:lnTo>
                      <a:lnTo>
                        <a:pt x="33" y="11"/>
                      </a:lnTo>
                      <a:lnTo>
                        <a:pt x="22" y="0"/>
                      </a:lnTo>
                      <a:lnTo>
                        <a:pt x="11" y="0"/>
                      </a:lnTo>
                      <a:lnTo>
                        <a:pt x="0" y="0"/>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Freeform 1106"/>
                <p:cNvSpPr/>
                <p:nvPr/>
              </p:nvSpPr>
              <p:spPr>
                <a:xfrm rot="111600">
                  <a:off x="2852640" y="1504800"/>
                  <a:ext cx="5400" cy="66600"/>
                </a:xfrm>
                <a:custGeom>
                  <a:avLst/>
                  <a:gdLst>
                    <a:gd name="textAreaLeft" fmla="*/ 0 w 5400"/>
                    <a:gd name="textAreaRight" fmla="*/ 5760 w 5400"/>
                    <a:gd name="textAreaTop" fmla="*/ 0 h 66600"/>
                    <a:gd name="textAreaBottom" fmla="*/ 66960 h 66600"/>
                  </a:gdLst>
                  <a:ahLst/>
                  <a:rect l="textAreaLeft" t="textAreaTop" r="textAreaRight" b="textAreaBottom"/>
                  <a:pathLst>
                    <a:path w="56" h="501">
                      <a:moveTo>
                        <a:pt x="45" y="0"/>
                      </a:moveTo>
                      <a:lnTo>
                        <a:pt x="34" y="0"/>
                      </a:lnTo>
                      <a:lnTo>
                        <a:pt x="23" y="44"/>
                      </a:lnTo>
                      <a:lnTo>
                        <a:pt x="23" y="100"/>
                      </a:lnTo>
                      <a:lnTo>
                        <a:pt x="12" y="167"/>
                      </a:lnTo>
                      <a:lnTo>
                        <a:pt x="0" y="245"/>
                      </a:lnTo>
                      <a:lnTo>
                        <a:pt x="0" y="323"/>
                      </a:lnTo>
                      <a:lnTo>
                        <a:pt x="0" y="390"/>
                      </a:lnTo>
                      <a:lnTo>
                        <a:pt x="12" y="457"/>
                      </a:lnTo>
                      <a:lnTo>
                        <a:pt x="23" y="501"/>
                      </a:lnTo>
                      <a:lnTo>
                        <a:pt x="34" y="501"/>
                      </a:lnTo>
                      <a:lnTo>
                        <a:pt x="23" y="457"/>
                      </a:lnTo>
                      <a:lnTo>
                        <a:pt x="23" y="390"/>
                      </a:lnTo>
                      <a:lnTo>
                        <a:pt x="23" y="323"/>
                      </a:lnTo>
                      <a:lnTo>
                        <a:pt x="23" y="245"/>
                      </a:lnTo>
                      <a:lnTo>
                        <a:pt x="23" y="167"/>
                      </a:lnTo>
                      <a:lnTo>
                        <a:pt x="34" y="100"/>
                      </a:lnTo>
                      <a:lnTo>
                        <a:pt x="45" y="44"/>
                      </a:lnTo>
                      <a:lnTo>
                        <a:pt x="56" y="11"/>
                      </a:lnTo>
                      <a:lnTo>
                        <a:pt x="45" y="0"/>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1105"/>
                <p:cNvSpPr/>
                <p:nvPr/>
              </p:nvSpPr>
              <p:spPr>
                <a:xfrm rot="111600">
                  <a:off x="2858400" y="1502280"/>
                  <a:ext cx="22680" cy="4320"/>
                </a:xfrm>
                <a:custGeom>
                  <a:avLst/>
                  <a:gdLst>
                    <a:gd name="textAreaLeft" fmla="*/ 0 w 22680"/>
                    <a:gd name="textAreaRight" fmla="*/ 23040 w 22680"/>
                    <a:gd name="textAreaTop" fmla="*/ 0 h 4320"/>
                    <a:gd name="textAreaBottom" fmla="*/ 4680 h 4320"/>
                  </a:gdLst>
                  <a:ahLst/>
                  <a:rect l="textAreaLeft" t="textAreaTop" r="textAreaRight" b="textAreaBottom"/>
                  <a:pathLst>
                    <a:path w="234" h="33">
                      <a:moveTo>
                        <a:pt x="223" y="11"/>
                      </a:moveTo>
                      <a:lnTo>
                        <a:pt x="223" y="11"/>
                      </a:lnTo>
                      <a:lnTo>
                        <a:pt x="212" y="0"/>
                      </a:lnTo>
                      <a:lnTo>
                        <a:pt x="189" y="0"/>
                      </a:lnTo>
                      <a:lnTo>
                        <a:pt x="178" y="0"/>
                      </a:lnTo>
                      <a:lnTo>
                        <a:pt x="156" y="0"/>
                      </a:lnTo>
                      <a:lnTo>
                        <a:pt x="145" y="0"/>
                      </a:lnTo>
                      <a:lnTo>
                        <a:pt x="134" y="0"/>
                      </a:lnTo>
                      <a:lnTo>
                        <a:pt x="111" y="0"/>
                      </a:lnTo>
                      <a:lnTo>
                        <a:pt x="100" y="0"/>
                      </a:lnTo>
                      <a:lnTo>
                        <a:pt x="89" y="0"/>
                      </a:lnTo>
                      <a:lnTo>
                        <a:pt x="67" y="0"/>
                      </a:lnTo>
                      <a:lnTo>
                        <a:pt x="56" y="0"/>
                      </a:lnTo>
                      <a:lnTo>
                        <a:pt x="45" y="0"/>
                      </a:lnTo>
                      <a:lnTo>
                        <a:pt x="33" y="0"/>
                      </a:lnTo>
                      <a:lnTo>
                        <a:pt x="22" y="11"/>
                      </a:lnTo>
                      <a:lnTo>
                        <a:pt x="11" y="11"/>
                      </a:lnTo>
                      <a:lnTo>
                        <a:pt x="0" y="22"/>
                      </a:lnTo>
                      <a:lnTo>
                        <a:pt x="11" y="33"/>
                      </a:lnTo>
                      <a:lnTo>
                        <a:pt x="22" y="22"/>
                      </a:lnTo>
                      <a:lnTo>
                        <a:pt x="33" y="22"/>
                      </a:lnTo>
                      <a:lnTo>
                        <a:pt x="45" y="22"/>
                      </a:lnTo>
                      <a:lnTo>
                        <a:pt x="56" y="11"/>
                      </a:lnTo>
                      <a:lnTo>
                        <a:pt x="67" y="11"/>
                      </a:lnTo>
                      <a:lnTo>
                        <a:pt x="89" y="11"/>
                      </a:lnTo>
                      <a:lnTo>
                        <a:pt x="100" y="11"/>
                      </a:lnTo>
                      <a:lnTo>
                        <a:pt x="111" y="11"/>
                      </a:lnTo>
                      <a:lnTo>
                        <a:pt x="134" y="11"/>
                      </a:lnTo>
                      <a:lnTo>
                        <a:pt x="145" y="11"/>
                      </a:lnTo>
                      <a:lnTo>
                        <a:pt x="156" y="22"/>
                      </a:lnTo>
                      <a:lnTo>
                        <a:pt x="178" y="22"/>
                      </a:lnTo>
                      <a:lnTo>
                        <a:pt x="189" y="22"/>
                      </a:lnTo>
                      <a:lnTo>
                        <a:pt x="212" y="22"/>
                      </a:lnTo>
                      <a:lnTo>
                        <a:pt x="223" y="22"/>
                      </a:lnTo>
                      <a:lnTo>
                        <a:pt x="234" y="11"/>
                      </a:lnTo>
                      <a:lnTo>
                        <a:pt x="223"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Freeform 1104"/>
                <p:cNvSpPr/>
                <p:nvPr/>
              </p:nvSpPr>
              <p:spPr>
                <a:xfrm rot="111600">
                  <a:off x="2881080" y="1446480"/>
                  <a:ext cx="2880" cy="57600"/>
                </a:xfrm>
                <a:custGeom>
                  <a:avLst/>
                  <a:gdLst>
                    <a:gd name="textAreaLeft" fmla="*/ 0 w 2880"/>
                    <a:gd name="textAreaRight" fmla="*/ 3240 w 2880"/>
                    <a:gd name="textAreaTop" fmla="*/ 0 h 57600"/>
                    <a:gd name="textAreaBottom" fmla="*/ 57960 h 57600"/>
                  </a:gdLst>
                  <a:ahLst/>
                  <a:rect l="textAreaLeft" t="textAreaTop" r="textAreaRight" b="textAreaBottom"/>
                  <a:pathLst>
                    <a:path w="33" h="435">
                      <a:moveTo>
                        <a:pt x="22" y="0"/>
                      </a:moveTo>
                      <a:lnTo>
                        <a:pt x="22" y="11"/>
                      </a:lnTo>
                      <a:lnTo>
                        <a:pt x="22" y="100"/>
                      </a:lnTo>
                      <a:lnTo>
                        <a:pt x="11" y="212"/>
                      </a:lnTo>
                      <a:lnTo>
                        <a:pt x="0" y="323"/>
                      </a:lnTo>
                      <a:lnTo>
                        <a:pt x="0" y="435"/>
                      </a:lnTo>
                      <a:lnTo>
                        <a:pt x="11" y="435"/>
                      </a:lnTo>
                      <a:lnTo>
                        <a:pt x="22" y="323"/>
                      </a:lnTo>
                      <a:lnTo>
                        <a:pt x="33" y="212"/>
                      </a:lnTo>
                      <a:lnTo>
                        <a:pt x="33" y="100"/>
                      </a:lnTo>
                      <a:lnTo>
                        <a:pt x="33" y="11"/>
                      </a:lnTo>
                      <a:lnTo>
                        <a:pt x="22" y="0"/>
                      </a:lnTo>
                      <a:close/>
                    </a:path>
                  </a:pathLst>
                </a:custGeom>
                <a:solidFill>
                  <a:srgbClr val="00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Freeform 1103"/>
                <p:cNvSpPr/>
                <p:nvPr/>
              </p:nvSpPr>
              <p:spPr>
                <a:xfrm rot="111600">
                  <a:off x="2954880" y="158040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23" h="11">
                      <a:moveTo>
                        <a:pt x="0" y="0"/>
                      </a:moveTo>
                      <a:lnTo>
                        <a:pt x="0" y="11"/>
                      </a:lnTo>
                      <a:lnTo>
                        <a:pt x="11" y="11"/>
                      </a:lnTo>
                      <a:lnTo>
                        <a:pt x="23"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Freeform 1102"/>
                <p:cNvSpPr/>
                <p:nvPr/>
              </p:nvSpPr>
              <p:spPr>
                <a:xfrm rot="111600">
                  <a:off x="2947680" y="1557000"/>
                  <a:ext cx="9720" cy="23400"/>
                </a:xfrm>
                <a:custGeom>
                  <a:avLst/>
                  <a:gdLst>
                    <a:gd name="textAreaLeft" fmla="*/ 0 w 9720"/>
                    <a:gd name="textAreaRight" fmla="*/ 10080 w 9720"/>
                    <a:gd name="textAreaTop" fmla="*/ 0 h 23400"/>
                    <a:gd name="textAreaBottom" fmla="*/ 23760 h 23400"/>
                  </a:gdLst>
                  <a:ahLst/>
                  <a:rect l="textAreaLeft" t="textAreaTop" r="textAreaRight" b="textAreaBottom"/>
                  <a:pathLst>
                    <a:path w="101" h="178">
                      <a:moveTo>
                        <a:pt x="0" y="22"/>
                      </a:moveTo>
                      <a:lnTo>
                        <a:pt x="0" y="22"/>
                      </a:lnTo>
                      <a:lnTo>
                        <a:pt x="11" y="33"/>
                      </a:lnTo>
                      <a:lnTo>
                        <a:pt x="23" y="44"/>
                      </a:lnTo>
                      <a:lnTo>
                        <a:pt x="34" y="66"/>
                      </a:lnTo>
                      <a:lnTo>
                        <a:pt x="45" y="89"/>
                      </a:lnTo>
                      <a:lnTo>
                        <a:pt x="56" y="111"/>
                      </a:lnTo>
                      <a:lnTo>
                        <a:pt x="67" y="133"/>
                      </a:lnTo>
                      <a:lnTo>
                        <a:pt x="78" y="156"/>
                      </a:lnTo>
                      <a:lnTo>
                        <a:pt x="78" y="178"/>
                      </a:lnTo>
                      <a:lnTo>
                        <a:pt x="101" y="178"/>
                      </a:lnTo>
                      <a:lnTo>
                        <a:pt x="89" y="156"/>
                      </a:lnTo>
                      <a:lnTo>
                        <a:pt x="89" y="122"/>
                      </a:lnTo>
                      <a:lnTo>
                        <a:pt x="78" y="100"/>
                      </a:lnTo>
                      <a:lnTo>
                        <a:pt x="67" y="78"/>
                      </a:lnTo>
                      <a:lnTo>
                        <a:pt x="56" y="55"/>
                      </a:lnTo>
                      <a:lnTo>
                        <a:pt x="34" y="33"/>
                      </a:lnTo>
                      <a:lnTo>
                        <a:pt x="23" y="22"/>
                      </a:lnTo>
                      <a:lnTo>
                        <a:pt x="11" y="0"/>
                      </a:lnTo>
                      <a:lnTo>
                        <a:pt x="0" y="22"/>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Freeform 1101"/>
                <p:cNvSpPr/>
                <p:nvPr/>
              </p:nvSpPr>
              <p:spPr>
                <a:xfrm rot="111600">
                  <a:off x="2920680" y="1553040"/>
                  <a:ext cx="28080" cy="25200"/>
                </a:xfrm>
                <a:custGeom>
                  <a:avLst/>
                  <a:gdLst>
                    <a:gd name="textAreaLeft" fmla="*/ 0 w 28080"/>
                    <a:gd name="textAreaRight" fmla="*/ 28440 w 28080"/>
                    <a:gd name="textAreaTop" fmla="*/ 0 h 25200"/>
                    <a:gd name="textAreaBottom" fmla="*/ 25560 h 25200"/>
                  </a:gdLst>
                  <a:ahLst/>
                  <a:rect l="textAreaLeft" t="textAreaTop" r="textAreaRight" b="textAreaBottom"/>
                  <a:pathLst>
                    <a:path w="289" h="190">
                      <a:moveTo>
                        <a:pt x="22" y="190"/>
                      </a:moveTo>
                      <a:lnTo>
                        <a:pt x="22" y="167"/>
                      </a:lnTo>
                      <a:lnTo>
                        <a:pt x="22" y="145"/>
                      </a:lnTo>
                      <a:lnTo>
                        <a:pt x="33" y="134"/>
                      </a:lnTo>
                      <a:lnTo>
                        <a:pt x="44" y="112"/>
                      </a:lnTo>
                      <a:lnTo>
                        <a:pt x="55" y="89"/>
                      </a:lnTo>
                      <a:lnTo>
                        <a:pt x="66" y="78"/>
                      </a:lnTo>
                      <a:lnTo>
                        <a:pt x="78" y="56"/>
                      </a:lnTo>
                      <a:lnTo>
                        <a:pt x="89" y="45"/>
                      </a:lnTo>
                      <a:lnTo>
                        <a:pt x="111" y="45"/>
                      </a:lnTo>
                      <a:lnTo>
                        <a:pt x="133" y="34"/>
                      </a:lnTo>
                      <a:lnTo>
                        <a:pt x="156" y="23"/>
                      </a:lnTo>
                      <a:lnTo>
                        <a:pt x="167" y="23"/>
                      </a:lnTo>
                      <a:lnTo>
                        <a:pt x="200" y="23"/>
                      </a:lnTo>
                      <a:lnTo>
                        <a:pt x="222" y="23"/>
                      </a:lnTo>
                      <a:lnTo>
                        <a:pt x="245" y="34"/>
                      </a:lnTo>
                      <a:lnTo>
                        <a:pt x="278" y="45"/>
                      </a:lnTo>
                      <a:lnTo>
                        <a:pt x="289" y="23"/>
                      </a:lnTo>
                      <a:lnTo>
                        <a:pt x="256" y="11"/>
                      </a:lnTo>
                      <a:lnTo>
                        <a:pt x="222" y="11"/>
                      </a:lnTo>
                      <a:lnTo>
                        <a:pt x="200" y="0"/>
                      </a:lnTo>
                      <a:lnTo>
                        <a:pt x="167" y="0"/>
                      </a:lnTo>
                      <a:lnTo>
                        <a:pt x="144" y="11"/>
                      </a:lnTo>
                      <a:lnTo>
                        <a:pt x="122" y="11"/>
                      </a:lnTo>
                      <a:lnTo>
                        <a:pt x="100" y="23"/>
                      </a:lnTo>
                      <a:lnTo>
                        <a:pt x="89" y="34"/>
                      </a:lnTo>
                      <a:lnTo>
                        <a:pt x="66" y="45"/>
                      </a:lnTo>
                      <a:lnTo>
                        <a:pt x="44" y="67"/>
                      </a:lnTo>
                      <a:lnTo>
                        <a:pt x="33" y="78"/>
                      </a:lnTo>
                      <a:lnTo>
                        <a:pt x="22" y="101"/>
                      </a:lnTo>
                      <a:lnTo>
                        <a:pt x="11" y="123"/>
                      </a:lnTo>
                      <a:lnTo>
                        <a:pt x="11" y="145"/>
                      </a:lnTo>
                      <a:lnTo>
                        <a:pt x="0" y="167"/>
                      </a:lnTo>
                      <a:lnTo>
                        <a:pt x="0" y="190"/>
                      </a:lnTo>
                      <a:lnTo>
                        <a:pt x="22" y="19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Freeform 1100"/>
                <p:cNvSpPr/>
                <p:nvPr/>
              </p:nvSpPr>
              <p:spPr>
                <a:xfrm rot="111600">
                  <a:off x="2946960" y="155844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0" y="0"/>
                      </a:moveTo>
                      <a:lnTo>
                        <a:pt x="11" y="11"/>
                      </a:lnTo>
                      <a:lnTo>
                        <a:pt x="22" y="11"/>
                      </a:lnTo>
                      <a:lnTo>
                        <a:pt x="22"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Freeform 1099"/>
                <p:cNvSpPr/>
                <p:nvPr/>
              </p:nvSpPr>
              <p:spPr>
                <a:xfrm rot="111600">
                  <a:off x="2904480" y="1626480"/>
                  <a:ext cx="1800" cy="2880"/>
                </a:xfrm>
                <a:custGeom>
                  <a:avLst/>
                  <a:gdLst>
                    <a:gd name="textAreaLeft" fmla="*/ 0 w 1800"/>
                    <a:gd name="textAreaRight" fmla="*/ 2160 w 1800"/>
                    <a:gd name="textAreaTop" fmla="*/ 0 h 2880"/>
                    <a:gd name="textAreaBottom" fmla="*/ 3240 h 2880"/>
                  </a:gdLst>
                  <a:ahLst/>
                  <a:rect l="textAreaLeft" t="textAreaTop" r="textAreaRight" b="textAreaBottom"/>
                  <a:pathLst>
                    <a:path w="22" h="22">
                      <a:moveTo>
                        <a:pt x="22" y="11"/>
                      </a:moveTo>
                      <a:lnTo>
                        <a:pt x="11" y="0"/>
                      </a:lnTo>
                      <a:lnTo>
                        <a:pt x="0" y="11"/>
                      </a:lnTo>
                      <a:lnTo>
                        <a:pt x="0" y="22"/>
                      </a:lnTo>
                      <a:lnTo>
                        <a:pt x="22"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1098"/>
                <p:cNvSpPr/>
                <p:nvPr/>
              </p:nvSpPr>
              <p:spPr>
                <a:xfrm rot="111600">
                  <a:off x="2904120" y="1628280"/>
                  <a:ext cx="6480" cy="12960"/>
                </a:xfrm>
                <a:custGeom>
                  <a:avLst/>
                  <a:gdLst>
                    <a:gd name="textAreaLeft" fmla="*/ 0 w 6480"/>
                    <a:gd name="textAreaRight" fmla="*/ 6840 w 6480"/>
                    <a:gd name="textAreaTop" fmla="*/ 0 h 12960"/>
                    <a:gd name="textAreaBottom" fmla="*/ 13320 h 12960"/>
                  </a:gdLst>
                  <a:ahLst/>
                  <a:rect l="textAreaLeft" t="textAreaTop" r="textAreaRight" b="textAreaBottom"/>
                  <a:pathLst>
                    <a:path w="67" h="100">
                      <a:moveTo>
                        <a:pt x="67" y="89"/>
                      </a:moveTo>
                      <a:lnTo>
                        <a:pt x="67" y="89"/>
                      </a:lnTo>
                      <a:lnTo>
                        <a:pt x="67" y="78"/>
                      </a:lnTo>
                      <a:lnTo>
                        <a:pt x="55" y="67"/>
                      </a:lnTo>
                      <a:lnTo>
                        <a:pt x="44" y="55"/>
                      </a:lnTo>
                      <a:lnTo>
                        <a:pt x="44" y="44"/>
                      </a:lnTo>
                      <a:lnTo>
                        <a:pt x="33" y="33"/>
                      </a:lnTo>
                      <a:lnTo>
                        <a:pt x="33" y="22"/>
                      </a:lnTo>
                      <a:lnTo>
                        <a:pt x="22" y="11"/>
                      </a:lnTo>
                      <a:lnTo>
                        <a:pt x="22" y="0"/>
                      </a:lnTo>
                      <a:lnTo>
                        <a:pt x="0" y="11"/>
                      </a:lnTo>
                      <a:lnTo>
                        <a:pt x="11" y="22"/>
                      </a:lnTo>
                      <a:lnTo>
                        <a:pt x="11" y="33"/>
                      </a:lnTo>
                      <a:lnTo>
                        <a:pt x="22" y="44"/>
                      </a:lnTo>
                      <a:lnTo>
                        <a:pt x="22" y="55"/>
                      </a:lnTo>
                      <a:lnTo>
                        <a:pt x="33" y="67"/>
                      </a:lnTo>
                      <a:lnTo>
                        <a:pt x="44" y="78"/>
                      </a:lnTo>
                      <a:lnTo>
                        <a:pt x="44" y="89"/>
                      </a:lnTo>
                      <a:lnTo>
                        <a:pt x="55" y="100"/>
                      </a:lnTo>
                      <a:lnTo>
                        <a:pt x="67" y="89"/>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1097"/>
                <p:cNvSpPr/>
                <p:nvPr/>
              </p:nvSpPr>
              <p:spPr>
                <a:xfrm rot="111600">
                  <a:off x="2909160" y="1639800"/>
                  <a:ext cx="8640" cy="10080"/>
                </a:xfrm>
                <a:custGeom>
                  <a:avLst/>
                  <a:gdLst>
                    <a:gd name="textAreaLeft" fmla="*/ 0 w 8640"/>
                    <a:gd name="textAreaRight" fmla="*/ 9000 w 8640"/>
                    <a:gd name="textAreaTop" fmla="*/ 0 h 10080"/>
                    <a:gd name="textAreaBottom" fmla="*/ 10440 h 10080"/>
                  </a:gdLst>
                  <a:ahLst/>
                  <a:rect l="textAreaLeft" t="textAreaTop" r="textAreaRight" b="textAreaBottom"/>
                  <a:pathLst>
                    <a:path w="90" h="78">
                      <a:moveTo>
                        <a:pt x="90" y="56"/>
                      </a:moveTo>
                      <a:lnTo>
                        <a:pt x="90" y="56"/>
                      </a:lnTo>
                      <a:lnTo>
                        <a:pt x="78" y="56"/>
                      </a:lnTo>
                      <a:lnTo>
                        <a:pt x="67" y="44"/>
                      </a:lnTo>
                      <a:lnTo>
                        <a:pt x="56" y="44"/>
                      </a:lnTo>
                      <a:lnTo>
                        <a:pt x="45" y="33"/>
                      </a:lnTo>
                      <a:lnTo>
                        <a:pt x="34" y="22"/>
                      </a:lnTo>
                      <a:lnTo>
                        <a:pt x="23" y="11"/>
                      </a:lnTo>
                      <a:lnTo>
                        <a:pt x="12" y="0"/>
                      </a:lnTo>
                      <a:lnTo>
                        <a:pt x="0" y="11"/>
                      </a:lnTo>
                      <a:lnTo>
                        <a:pt x="12" y="22"/>
                      </a:lnTo>
                      <a:lnTo>
                        <a:pt x="23" y="33"/>
                      </a:lnTo>
                      <a:lnTo>
                        <a:pt x="34" y="44"/>
                      </a:lnTo>
                      <a:lnTo>
                        <a:pt x="45" y="56"/>
                      </a:lnTo>
                      <a:lnTo>
                        <a:pt x="56" y="67"/>
                      </a:lnTo>
                      <a:lnTo>
                        <a:pt x="67" y="67"/>
                      </a:lnTo>
                      <a:lnTo>
                        <a:pt x="78" y="78"/>
                      </a:lnTo>
                      <a:lnTo>
                        <a:pt x="90" y="56"/>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1096"/>
                <p:cNvSpPr/>
                <p:nvPr/>
              </p:nvSpPr>
              <p:spPr>
                <a:xfrm rot="111600">
                  <a:off x="2916720" y="1646640"/>
                  <a:ext cx="36720" cy="8640"/>
                </a:xfrm>
                <a:custGeom>
                  <a:avLst/>
                  <a:gdLst>
                    <a:gd name="textAreaLeft" fmla="*/ 0 w 36720"/>
                    <a:gd name="textAreaRight" fmla="*/ 37080 w 36720"/>
                    <a:gd name="textAreaTop" fmla="*/ 0 h 8640"/>
                    <a:gd name="textAreaBottom" fmla="*/ 9000 h 8640"/>
                  </a:gdLst>
                  <a:ahLst/>
                  <a:rect l="textAreaLeft" t="textAreaTop" r="textAreaRight" b="textAreaBottom"/>
                  <a:pathLst>
                    <a:path w="379" h="67">
                      <a:moveTo>
                        <a:pt x="368" y="0"/>
                      </a:moveTo>
                      <a:lnTo>
                        <a:pt x="368" y="0"/>
                      </a:lnTo>
                      <a:lnTo>
                        <a:pt x="346" y="12"/>
                      </a:lnTo>
                      <a:lnTo>
                        <a:pt x="324" y="23"/>
                      </a:lnTo>
                      <a:lnTo>
                        <a:pt x="301" y="34"/>
                      </a:lnTo>
                      <a:lnTo>
                        <a:pt x="279" y="34"/>
                      </a:lnTo>
                      <a:lnTo>
                        <a:pt x="257" y="45"/>
                      </a:lnTo>
                      <a:lnTo>
                        <a:pt x="234" y="45"/>
                      </a:lnTo>
                      <a:lnTo>
                        <a:pt x="212" y="45"/>
                      </a:lnTo>
                      <a:lnTo>
                        <a:pt x="190" y="45"/>
                      </a:lnTo>
                      <a:lnTo>
                        <a:pt x="168" y="45"/>
                      </a:lnTo>
                      <a:lnTo>
                        <a:pt x="145" y="45"/>
                      </a:lnTo>
                      <a:lnTo>
                        <a:pt x="112" y="45"/>
                      </a:lnTo>
                      <a:lnTo>
                        <a:pt x="101" y="45"/>
                      </a:lnTo>
                      <a:lnTo>
                        <a:pt x="67" y="34"/>
                      </a:lnTo>
                      <a:lnTo>
                        <a:pt x="56" y="34"/>
                      </a:lnTo>
                      <a:lnTo>
                        <a:pt x="34" y="23"/>
                      </a:lnTo>
                      <a:lnTo>
                        <a:pt x="12" y="12"/>
                      </a:lnTo>
                      <a:lnTo>
                        <a:pt x="0" y="34"/>
                      </a:lnTo>
                      <a:lnTo>
                        <a:pt x="23" y="45"/>
                      </a:lnTo>
                      <a:lnTo>
                        <a:pt x="45" y="45"/>
                      </a:lnTo>
                      <a:lnTo>
                        <a:pt x="67" y="56"/>
                      </a:lnTo>
                      <a:lnTo>
                        <a:pt x="90" y="56"/>
                      </a:lnTo>
                      <a:lnTo>
                        <a:pt x="112" y="67"/>
                      </a:lnTo>
                      <a:lnTo>
                        <a:pt x="145" y="67"/>
                      </a:lnTo>
                      <a:lnTo>
                        <a:pt x="168" y="67"/>
                      </a:lnTo>
                      <a:lnTo>
                        <a:pt x="190" y="67"/>
                      </a:lnTo>
                      <a:lnTo>
                        <a:pt x="212" y="67"/>
                      </a:lnTo>
                      <a:lnTo>
                        <a:pt x="234" y="67"/>
                      </a:lnTo>
                      <a:lnTo>
                        <a:pt x="268" y="56"/>
                      </a:lnTo>
                      <a:lnTo>
                        <a:pt x="290" y="56"/>
                      </a:lnTo>
                      <a:lnTo>
                        <a:pt x="313" y="45"/>
                      </a:lnTo>
                      <a:lnTo>
                        <a:pt x="335" y="45"/>
                      </a:lnTo>
                      <a:lnTo>
                        <a:pt x="357" y="34"/>
                      </a:lnTo>
                      <a:lnTo>
                        <a:pt x="379" y="23"/>
                      </a:lnTo>
                      <a:lnTo>
                        <a:pt x="368" y="0"/>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1095"/>
                <p:cNvSpPr/>
                <p:nvPr/>
              </p:nvSpPr>
              <p:spPr>
                <a:xfrm rot="111600">
                  <a:off x="2953080" y="163116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134" h="145">
                      <a:moveTo>
                        <a:pt x="112" y="0"/>
                      </a:moveTo>
                      <a:lnTo>
                        <a:pt x="101" y="22"/>
                      </a:lnTo>
                      <a:lnTo>
                        <a:pt x="78" y="56"/>
                      </a:lnTo>
                      <a:lnTo>
                        <a:pt x="56" y="78"/>
                      </a:lnTo>
                      <a:lnTo>
                        <a:pt x="34" y="89"/>
                      </a:lnTo>
                      <a:lnTo>
                        <a:pt x="23" y="111"/>
                      </a:lnTo>
                      <a:lnTo>
                        <a:pt x="11" y="122"/>
                      </a:lnTo>
                      <a:lnTo>
                        <a:pt x="0" y="122"/>
                      </a:lnTo>
                      <a:lnTo>
                        <a:pt x="11" y="145"/>
                      </a:lnTo>
                      <a:lnTo>
                        <a:pt x="11" y="134"/>
                      </a:lnTo>
                      <a:lnTo>
                        <a:pt x="23" y="134"/>
                      </a:lnTo>
                      <a:lnTo>
                        <a:pt x="34" y="122"/>
                      </a:lnTo>
                      <a:lnTo>
                        <a:pt x="45" y="100"/>
                      </a:lnTo>
                      <a:lnTo>
                        <a:pt x="67" y="89"/>
                      </a:lnTo>
                      <a:lnTo>
                        <a:pt x="89" y="67"/>
                      </a:lnTo>
                      <a:lnTo>
                        <a:pt x="112" y="33"/>
                      </a:lnTo>
                      <a:lnTo>
                        <a:pt x="134" y="11"/>
                      </a:lnTo>
                      <a:lnTo>
                        <a:pt x="112" y="0"/>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Freeform 1094"/>
                <p:cNvSpPr/>
                <p:nvPr/>
              </p:nvSpPr>
              <p:spPr>
                <a:xfrm rot="111600">
                  <a:off x="2952720" y="1647360"/>
                  <a:ext cx="1080" cy="2880"/>
                </a:xfrm>
                <a:custGeom>
                  <a:avLst/>
                  <a:gdLst>
                    <a:gd name="textAreaLeft" fmla="*/ 0 w 1080"/>
                    <a:gd name="textAreaRight" fmla="*/ 1440 w 1080"/>
                    <a:gd name="textAreaTop" fmla="*/ 0 h 2880"/>
                    <a:gd name="textAreaBottom" fmla="*/ 3240 h 2880"/>
                  </a:gdLst>
                  <a:ahLst/>
                  <a:rect l="textAreaLeft" t="textAreaTop" r="textAreaRight" b="textAreaBottom"/>
                  <a:pathLst>
                    <a:path w="11" h="23">
                      <a:moveTo>
                        <a:pt x="11" y="23"/>
                      </a:moveTo>
                      <a:lnTo>
                        <a:pt x="11" y="12"/>
                      </a:lnTo>
                      <a:lnTo>
                        <a:pt x="11" y="0"/>
                      </a:lnTo>
                      <a:lnTo>
                        <a:pt x="0" y="0"/>
                      </a:lnTo>
                      <a:lnTo>
                        <a:pt x="0" y="12"/>
                      </a:lnTo>
                      <a:lnTo>
                        <a:pt x="11" y="23"/>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1093"/>
                <p:cNvSpPr/>
                <p:nvPr/>
              </p:nvSpPr>
              <p:spPr>
                <a:xfrm rot="111600">
                  <a:off x="2911680" y="160452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2">
                      <a:moveTo>
                        <a:pt x="22" y="12"/>
                      </a:moveTo>
                      <a:lnTo>
                        <a:pt x="22" y="0"/>
                      </a:lnTo>
                      <a:lnTo>
                        <a:pt x="11" y="0"/>
                      </a:lnTo>
                      <a:lnTo>
                        <a:pt x="0" y="12"/>
                      </a:lnTo>
                      <a:lnTo>
                        <a:pt x="22" y="12"/>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1092"/>
                <p:cNvSpPr/>
                <p:nvPr/>
              </p:nvSpPr>
              <p:spPr>
                <a:xfrm rot="111600">
                  <a:off x="2892600" y="1605600"/>
                  <a:ext cx="20520" cy="38160"/>
                </a:xfrm>
                <a:custGeom>
                  <a:avLst/>
                  <a:gdLst>
                    <a:gd name="textAreaLeft" fmla="*/ 0 w 20520"/>
                    <a:gd name="textAreaRight" fmla="*/ 20880 w 20520"/>
                    <a:gd name="textAreaTop" fmla="*/ 0 h 38160"/>
                    <a:gd name="textAreaBottom" fmla="*/ 38520 h 38160"/>
                  </a:gdLst>
                  <a:ahLst/>
                  <a:rect l="textAreaLeft" t="textAreaTop" r="textAreaRight" b="textAreaBottom"/>
                  <a:pathLst>
                    <a:path w="212" h="289">
                      <a:moveTo>
                        <a:pt x="0" y="289"/>
                      </a:moveTo>
                      <a:lnTo>
                        <a:pt x="56" y="256"/>
                      </a:lnTo>
                      <a:lnTo>
                        <a:pt x="100" y="222"/>
                      </a:lnTo>
                      <a:lnTo>
                        <a:pt x="134" y="189"/>
                      </a:lnTo>
                      <a:lnTo>
                        <a:pt x="156" y="144"/>
                      </a:lnTo>
                      <a:lnTo>
                        <a:pt x="178" y="100"/>
                      </a:lnTo>
                      <a:lnTo>
                        <a:pt x="190" y="66"/>
                      </a:lnTo>
                      <a:lnTo>
                        <a:pt x="201" y="33"/>
                      </a:lnTo>
                      <a:lnTo>
                        <a:pt x="212" y="0"/>
                      </a:lnTo>
                      <a:lnTo>
                        <a:pt x="190" y="0"/>
                      </a:lnTo>
                      <a:lnTo>
                        <a:pt x="190" y="22"/>
                      </a:lnTo>
                      <a:lnTo>
                        <a:pt x="178" y="55"/>
                      </a:lnTo>
                      <a:lnTo>
                        <a:pt x="156" y="100"/>
                      </a:lnTo>
                      <a:lnTo>
                        <a:pt x="145" y="133"/>
                      </a:lnTo>
                      <a:lnTo>
                        <a:pt x="123" y="178"/>
                      </a:lnTo>
                      <a:lnTo>
                        <a:pt x="89" y="211"/>
                      </a:lnTo>
                      <a:lnTo>
                        <a:pt x="45" y="245"/>
                      </a:lnTo>
                      <a:lnTo>
                        <a:pt x="0" y="267"/>
                      </a:lnTo>
                      <a:lnTo>
                        <a:pt x="0" y="289"/>
                      </a:lnTo>
                      <a:close/>
                    </a:path>
                  </a:pathLst>
                </a:custGeom>
                <a:solidFill>
                  <a:srgbClr val="0000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Freeform 1091"/>
                <p:cNvSpPr/>
                <p:nvPr/>
              </p:nvSpPr>
              <p:spPr>
                <a:xfrm rot="111600">
                  <a:off x="2911680" y="1604520"/>
                  <a:ext cx="1080" cy="2880"/>
                </a:xfrm>
                <a:custGeom>
                  <a:avLst/>
                  <a:gdLst>
                    <a:gd name="textAreaLeft" fmla="*/ 0 w 1080"/>
                    <a:gd name="textAreaRight" fmla="*/ 1440 w 1080"/>
                    <a:gd name="textAreaTop" fmla="*/ 0 h 2880"/>
                    <a:gd name="textAreaBottom" fmla="*/ 3240 h 2880"/>
                  </a:gdLst>
                  <a:ahLst/>
                  <a:rect l="textAreaLeft" t="textAreaTop" r="textAreaRight" b="textAreaBottom"/>
                  <a:pathLst>
                    <a:path w="11" h="23">
                      <a:moveTo>
                        <a:pt x="11" y="0"/>
                      </a:moveTo>
                      <a:lnTo>
                        <a:pt x="0" y="0"/>
                      </a:lnTo>
                      <a:lnTo>
                        <a:pt x="0" y="12"/>
                      </a:lnTo>
                      <a:lnTo>
                        <a:pt x="11" y="23"/>
                      </a:lnTo>
                      <a:lnTo>
                        <a:pt x="11"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1090"/>
                <p:cNvSpPr/>
                <p:nvPr/>
              </p:nvSpPr>
              <p:spPr>
                <a:xfrm rot="111600">
                  <a:off x="2960280" y="161496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22" y="11"/>
                      </a:moveTo>
                      <a:lnTo>
                        <a:pt x="11" y="0"/>
                      </a:lnTo>
                      <a:lnTo>
                        <a:pt x="0" y="0"/>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1089"/>
                <p:cNvSpPr/>
                <p:nvPr/>
              </p:nvSpPr>
              <p:spPr>
                <a:xfrm rot="111600">
                  <a:off x="2959920" y="1616400"/>
                  <a:ext cx="16200" cy="26640"/>
                </a:xfrm>
                <a:custGeom>
                  <a:avLst/>
                  <a:gdLst>
                    <a:gd name="textAreaLeft" fmla="*/ 0 w 16200"/>
                    <a:gd name="textAreaRight" fmla="*/ 16560 w 16200"/>
                    <a:gd name="textAreaTop" fmla="*/ 0 h 26640"/>
                    <a:gd name="textAreaBottom" fmla="*/ 27000 h 26640"/>
                  </a:gdLst>
                  <a:ahLst/>
                  <a:rect l="textAreaLeft" t="textAreaTop" r="textAreaRight" b="textAreaBottom"/>
                  <a:pathLst>
                    <a:path w="167" h="201">
                      <a:moveTo>
                        <a:pt x="167" y="190"/>
                      </a:moveTo>
                      <a:lnTo>
                        <a:pt x="134" y="168"/>
                      </a:lnTo>
                      <a:lnTo>
                        <a:pt x="112" y="156"/>
                      </a:lnTo>
                      <a:lnTo>
                        <a:pt x="89" y="134"/>
                      </a:lnTo>
                      <a:lnTo>
                        <a:pt x="67" y="112"/>
                      </a:lnTo>
                      <a:lnTo>
                        <a:pt x="56" y="78"/>
                      </a:lnTo>
                      <a:lnTo>
                        <a:pt x="34" y="56"/>
                      </a:lnTo>
                      <a:lnTo>
                        <a:pt x="22" y="23"/>
                      </a:lnTo>
                      <a:lnTo>
                        <a:pt x="22" y="0"/>
                      </a:lnTo>
                      <a:lnTo>
                        <a:pt x="0" y="0"/>
                      </a:lnTo>
                      <a:lnTo>
                        <a:pt x="11" y="34"/>
                      </a:lnTo>
                      <a:lnTo>
                        <a:pt x="22" y="67"/>
                      </a:lnTo>
                      <a:lnTo>
                        <a:pt x="34" y="90"/>
                      </a:lnTo>
                      <a:lnTo>
                        <a:pt x="56" y="123"/>
                      </a:lnTo>
                      <a:lnTo>
                        <a:pt x="78" y="145"/>
                      </a:lnTo>
                      <a:lnTo>
                        <a:pt x="100" y="168"/>
                      </a:lnTo>
                      <a:lnTo>
                        <a:pt x="134" y="190"/>
                      </a:lnTo>
                      <a:lnTo>
                        <a:pt x="167" y="201"/>
                      </a:lnTo>
                      <a:lnTo>
                        <a:pt x="167" y="190"/>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1088"/>
                <p:cNvSpPr/>
                <p:nvPr/>
              </p:nvSpPr>
              <p:spPr>
                <a:xfrm rot="111600">
                  <a:off x="2960280" y="1614960"/>
                  <a:ext cx="1800" cy="2880"/>
                </a:xfrm>
                <a:custGeom>
                  <a:avLst/>
                  <a:gdLst>
                    <a:gd name="textAreaLeft" fmla="*/ 0 w 1800"/>
                    <a:gd name="textAreaRight" fmla="*/ 2160 w 1800"/>
                    <a:gd name="textAreaTop" fmla="*/ 0 h 2880"/>
                    <a:gd name="textAreaBottom" fmla="*/ 3240 h 2880"/>
                  </a:gdLst>
                  <a:ahLst/>
                  <a:rect l="textAreaLeft" t="textAreaTop" r="textAreaRight" b="textAreaBottom"/>
                  <a:pathLst>
                    <a:path w="22" h="23">
                      <a:moveTo>
                        <a:pt x="0" y="23"/>
                      </a:moveTo>
                      <a:lnTo>
                        <a:pt x="11" y="11"/>
                      </a:lnTo>
                      <a:lnTo>
                        <a:pt x="22" y="11"/>
                      </a:lnTo>
                      <a:lnTo>
                        <a:pt x="11" y="0"/>
                      </a:lnTo>
                      <a:lnTo>
                        <a:pt x="0" y="23"/>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Freeform 1087"/>
                <p:cNvSpPr/>
                <p:nvPr/>
              </p:nvSpPr>
              <p:spPr>
                <a:xfrm rot="111600">
                  <a:off x="2951640" y="1513800"/>
                  <a:ext cx="3960" cy="4320"/>
                </a:xfrm>
                <a:custGeom>
                  <a:avLst/>
                  <a:gdLst>
                    <a:gd name="textAreaLeft" fmla="*/ 0 w 3960"/>
                    <a:gd name="textAreaRight" fmla="*/ 4320 w 3960"/>
                    <a:gd name="textAreaTop" fmla="*/ 0 h 4320"/>
                    <a:gd name="textAreaBottom" fmla="*/ 4680 h 4320"/>
                  </a:gdLst>
                  <a:ahLst/>
                  <a:rect l="textAreaLeft" t="textAreaTop" r="textAreaRight" b="textAreaBottom"/>
                  <a:pathLst>
                    <a:path w="44" h="34">
                      <a:moveTo>
                        <a:pt x="44" y="12"/>
                      </a:moveTo>
                      <a:lnTo>
                        <a:pt x="33" y="12"/>
                      </a:lnTo>
                      <a:lnTo>
                        <a:pt x="22" y="0"/>
                      </a:lnTo>
                      <a:lnTo>
                        <a:pt x="11" y="12"/>
                      </a:lnTo>
                      <a:lnTo>
                        <a:pt x="0" y="12"/>
                      </a:lnTo>
                      <a:lnTo>
                        <a:pt x="0" y="23"/>
                      </a:lnTo>
                      <a:lnTo>
                        <a:pt x="0" y="34"/>
                      </a:lnTo>
                      <a:lnTo>
                        <a:pt x="44" y="1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1086"/>
                <p:cNvSpPr/>
                <p:nvPr/>
              </p:nvSpPr>
              <p:spPr>
                <a:xfrm rot="111600">
                  <a:off x="2951280" y="1515240"/>
                  <a:ext cx="10800" cy="26280"/>
                </a:xfrm>
                <a:custGeom>
                  <a:avLst/>
                  <a:gdLst>
                    <a:gd name="textAreaLeft" fmla="*/ 0 w 10800"/>
                    <a:gd name="textAreaRight" fmla="*/ 10800 w 10800"/>
                    <a:gd name="textAreaTop" fmla="*/ 0 h 26280"/>
                    <a:gd name="textAreaBottom" fmla="*/ 26640 h 26280"/>
                  </a:gdLst>
                  <a:ahLst/>
                  <a:rect l="textAreaLeft" t="textAreaTop" r="textAreaRight" b="textAreaBottom"/>
                  <a:pathLst>
                    <a:path w="111" h="200">
                      <a:moveTo>
                        <a:pt x="111" y="200"/>
                      </a:moveTo>
                      <a:lnTo>
                        <a:pt x="111" y="167"/>
                      </a:lnTo>
                      <a:lnTo>
                        <a:pt x="100" y="144"/>
                      </a:lnTo>
                      <a:lnTo>
                        <a:pt x="89" y="122"/>
                      </a:lnTo>
                      <a:lnTo>
                        <a:pt x="78" y="100"/>
                      </a:lnTo>
                      <a:lnTo>
                        <a:pt x="66" y="78"/>
                      </a:lnTo>
                      <a:lnTo>
                        <a:pt x="55" y="44"/>
                      </a:lnTo>
                      <a:lnTo>
                        <a:pt x="55" y="22"/>
                      </a:lnTo>
                      <a:lnTo>
                        <a:pt x="44" y="0"/>
                      </a:lnTo>
                      <a:lnTo>
                        <a:pt x="0" y="22"/>
                      </a:lnTo>
                      <a:lnTo>
                        <a:pt x="11" y="44"/>
                      </a:lnTo>
                      <a:lnTo>
                        <a:pt x="22" y="66"/>
                      </a:lnTo>
                      <a:lnTo>
                        <a:pt x="33" y="89"/>
                      </a:lnTo>
                      <a:lnTo>
                        <a:pt x="44" y="111"/>
                      </a:lnTo>
                      <a:lnTo>
                        <a:pt x="55" y="133"/>
                      </a:lnTo>
                      <a:lnTo>
                        <a:pt x="55" y="156"/>
                      </a:lnTo>
                      <a:lnTo>
                        <a:pt x="66" y="178"/>
                      </a:lnTo>
                      <a:lnTo>
                        <a:pt x="78" y="200"/>
                      </a:lnTo>
                      <a:lnTo>
                        <a:pt x="111" y="200"/>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Freeform 1085"/>
                <p:cNvSpPr/>
                <p:nvPr/>
              </p:nvSpPr>
              <p:spPr>
                <a:xfrm rot="111600">
                  <a:off x="2951640" y="1516680"/>
                  <a:ext cx="3960" cy="2880"/>
                </a:xfrm>
                <a:custGeom>
                  <a:avLst/>
                  <a:gdLst>
                    <a:gd name="textAreaLeft" fmla="*/ 0 w 3960"/>
                    <a:gd name="textAreaRight" fmla="*/ 4320 w 3960"/>
                    <a:gd name="textAreaTop" fmla="*/ 0 h 2880"/>
                    <a:gd name="textAreaBottom" fmla="*/ 3240 h 2880"/>
                  </a:gdLst>
                  <a:ahLst/>
                  <a:rect l="textAreaLeft" t="textAreaTop" r="textAreaRight" b="textAreaBottom"/>
                  <a:pathLst>
                    <a:path w="44" h="22">
                      <a:moveTo>
                        <a:pt x="0" y="11"/>
                      </a:moveTo>
                      <a:lnTo>
                        <a:pt x="11" y="11"/>
                      </a:lnTo>
                      <a:lnTo>
                        <a:pt x="11" y="22"/>
                      </a:lnTo>
                      <a:lnTo>
                        <a:pt x="22" y="22"/>
                      </a:lnTo>
                      <a:lnTo>
                        <a:pt x="33" y="22"/>
                      </a:lnTo>
                      <a:lnTo>
                        <a:pt x="44" y="11"/>
                      </a:lnTo>
                      <a:lnTo>
                        <a:pt x="44" y="0"/>
                      </a:lnTo>
                      <a:lnTo>
                        <a:pt x="0"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1084"/>
                <p:cNvSpPr/>
                <p:nvPr/>
              </p:nvSpPr>
              <p:spPr>
                <a:xfrm rot="111600">
                  <a:off x="2930040" y="151308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33" h="23">
                      <a:moveTo>
                        <a:pt x="33" y="23"/>
                      </a:moveTo>
                      <a:lnTo>
                        <a:pt x="33" y="12"/>
                      </a:lnTo>
                      <a:lnTo>
                        <a:pt x="33" y="0"/>
                      </a:lnTo>
                      <a:lnTo>
                        <a:pt x="22" y="0"/>
                      </a:lnTo>
                      <a:lnTo>
                        <a:pt x="11" y="0"/>
                      </a:lnTo>
                      <a:lnTo>
                        <a:pt x="0" y="0"/>
                      </a:lnTo>
                      <a:lnTo>
                        <a:pt x="0" y="12"/>
                      </a:lnTo>
                      <a:lnTo>
                        <a:pt x="33" y="23"/>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1083"/>
                <p:cNvSpPr/>
                <p:nvPr/>
              </p:nvSpPr>
              <p:spPr>
                <a:xfrm rot="111600">
                  <a:off x="2922480" y="1514160"/>
                  <a:ext cx="10800" cy="21960"/>
                </a:xfrm>
                <a:custGeom>
                  <a:avLst/>
                  <a:gdLst>
                    <a:gd name="textAreaLeft" fmla="*/ 0 w 10800"/>
                    <a:gd name="textAreaRight" fmla="*/ 10800 w 10800"/>
                    <a:gd name="textAreaTop" fmla="*/ 0 h 21960"/>
                    <a:gd name="textAreaBottom" fmla="*/ 22320 h 21960"/>
                  </a:gdLst>
                  <a:ahLst/>
                  <a:rect l="textAreaLeft" t="textAreaTop" r="textAreaRight" b="textAreaBottom"/>
                  <a:pathLst>
                    <a:path w="111" h="167">
                      <a:moveTo>
                        <a:pt x="33" y="167"/>
                      </a:moveTo>
                      <a:lnTo>
                        <a:pt x="44" y="144"/>
                      </a:lnTo>
                      <a:lnTo>
                        <a:pt x="55" y="122"/>
                      </a:lnTo>
                      <a:lnTo>
                        <a:pt x="66" y="111"/>
                      </a:lnTo>
                      <a:lnTo>
                        <a:pt x="78" y="89"/>
                      </a:lnTo>
                      <a:lnTo>
                        <a:pt x="89" y="66"/>
                      </a:lnTo>
                      <a:lnTo>
                        <a:pt x="89" y="44"/>
                      </a:lnTo>
                      <a:lnTo>
                        <a:pt x="100" y="33"/>
                      </a:lnTo>
                      <a:lnTo>
                        <a:pt x="111" y="11"/>
                      </a:lnTo>
                      <a:lnTo>
                        <a:pt x="78" y="0"/>
                      </a:lnTo>
                      <a:lnTo>
                        <a:pt x="66" y="11"/>
                      </a:lnTo>
                      <a:lnTo>
                        <a:pt x="55" y="33"/>
                      </a:lnTo>
                      <a:lnTo>
                        <a:pt x="44" y="55"/>
                      </a:lnTo>
                      <a:lnTo>
                        <a:pt x="33" y="66"/>
                      </a:lnTo>
                      <a:lnTo>
                        <a:pt x="22" y="89"/>
                      </a:lnTo>
                      <a:lnTo>
                        <a:pt x="22" y="111"/>
                      </a:lnTo>
                      <a:lnTo>
                        <a:pt x="11" y="133"/>
                      </a:lnTo>
                      <a:lnTo>
                        <a:pt x="0" y="144"/>
                      </a:lnTo>
                      <a:lnTo>
                        <a:pt x="33" y="167"/>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Freeform 1082"/>
                <p:cNvSpPr/>
                <p:nvPr/>
              </p:nvSpPr>
              <p:spPr>
                <a:xfrm rot="111600">
                  <a:off x="2930040" y="151452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33" h="22">
                      <a:moveTo>
                        <a:pt x="0" y="0"/>
                      </a:moveTo>
                      <a:lnTo>
                        <a:pt x="0" y="0"/>
                      </a:lnTo>
                      <a:lnTo>
                        <a:pt x="0" y="11"/>
                      </a:lnTo>
                      <a:lnTo>
                        <a:pt x="0" y="22"/>
                      </a:lnTo>
                      <a:lnTo>
                        <a:pt x="11" y="22"/>
                      </a:lnTo>
                      <a:lnTo>
                        <a:pt x="22" y="22"/>
                      </a:lnTo>
                      <a:lnTo>
                        <a:pt x="33" y="22"/>
                      </a:lnTo>
                      <a:lnTo>
                        <a:pt x="33" y="11"/>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1081"/>
                <p:cNvSpPr/>
                <p:nvPr/>
              </p:nvSpPr>
              <p:spPr>
                <a:xfrm rot="111600">
                  <a:off x="2859840" y="1379880"/>
                  <a:ext cx="165240" cy="173520"/>
                </a:xfrm>
                <a:custGeom>
                  <a:avLst/>
                  <a:gdLst>
                    <a:gd name="textAreaLeft" fmla="*/ 0 w 165240"/>
                    <a:gd name="textAreaRight" fmla="*/ 165600 w 165240"/>
                    <a:gd name="textAreaTop" fmla="*/ 0 h 173520"/>
                    <a:gd name="textAreaBottom" fmla="*/ 173880 h 173520"/>
                  </a:gdLst>
                  <a:ahLst/>
                  <a:rect l="textAreaLeft" t="textAreaTop" r="textAreaRight" b="textAreaBottom"/>
                  <a:pathLst>
                    <a:path w="1694" h="1304">
                      <a:moveTo>
                        <a:pt x="892" y="535"/>
                      </a:moveTo>
                      <a:lnTo>
                        <a:pt x="892" y="558"/>
                      </a:lnTo>
                      <a:lnTo>
                        <a:pt x="880" y="580"/>
                      </a:lnTo>
                      <a:lnTo>
                        <a:pt x="880" y="602"/>
                      </a:lnTo>
                      <a:lnTo>
                        <a:pt x="869" y="624"/>
                      </a:lnTo>
                      <a:lnTo>
                        <a:pt x="858" y="647"/>
                      </a:lnTo>
                      <a:lnTo>
                        <a:pt x="847" y="669"/>
                      </a:lnTo>
                      <a:lnTo>
                        <a:pt x="825" y="691"/>
                      </a:lnTo>
                      <a:lnTo>
                        <a:pt x="802" y="714"/>
                      </a:lnTo>
                      <a:lnTo>
                        <a:pt x="780" y="736"/>
                      </a:lnTo>
                      <a:lnTo>
                        <a:pt x="758" y="769"/>
                      </a:lnTo>
                      <a:lnTo>
                        <a:pt x="747" y="792"/>
                      </a:lnTo>
                      <a:lnTo>
                        <a:pt x="724" y="803"/>
                      </a:lnTo>
                      <a:lnTo>
                        <a:pt x="713" y="825"/>
                      </a:lnTo>
                      <a:lnTo>
                        <a:pt x="691" y="836"/>
                      </a:lnTo>
                      <a:lnTo>
                        <a:pt x="680" y="836"/>
                      </a:lnTo>
                      <a:lnTo>
                        <a:pt x="669" y="836"/>
                      </a:lnTo>
                      <a:lnTo>
                        <a:pt x="658" y="836"/>
                      </a:lnTo>
                      <a:lnTo>
                        <a:pt x="646" y="836"/>
                      </a:lnTo>
                      <a:lnTo>
                        <a:pt x="624" y="825"/>
                      </a:lnTo>
                      <a:lnTo>
                        <a:pt x="613" y="814"/>
                      </a:lnTo>
                      <a:lnTo>
                        <a:pt x="580" y="836"/>
                      </a:lnTo>
                      <a:lnTo>
                        <a:pt x="557" y="858"/>
                      </a:lnTo>
                      <a:lnTo>
                        <a:pt x="535" y="881"/>
                      </a:lnTo>
                      <a:lnTo>
                        <a:pt x="524" y="914"/>
                      </a:lnTo>
                      <a:lnTo>
                        <a:pt x="513" y="937"/>
                      </a:lnTo>
                      <a:lnTo>
                        <a:pt x="502" y="959"/>
                      </a:lnTo>
                      <a:lnTo>
                        <a:pt x="479" y="992"/>
                      </a:lnTo>
                      <a:lnTo>
                        <a:pt x="446" y="1026"/>
                      </a:lnTo>
                      <a:lnTo>
                        <a:pt x="435" y="1015"/>
                      </a:lnTo>
                      <a:lnTo>
                        <a:pt x="424" y="1003"/>
                      </a:lnTo>
                      <a:lnTo>
                        <a:pt x="424" y="981"/>
                      </a:lnTo>
                      <a:lnTo>
                        <a:pt x="412" y="981"/>
                      </a:lnTo>
                      <a:lnTo>
                        <a:pt x="412" y="970"/>
                      </a:lnTo>
                      <a:lnTo>
                        <a:pt x="401" y="959"/>
                      </a:lnTo>
                      <a:lnTo>
                        <a:pt x="401" y="948"/>
                      </a:lnTo>
                      <a:lnTo>
                        <a:pt x="379" y="992"/>
                      </a:lnTo>
                      <a:lnTo>
                        <a:pt x="368" y="1037"/>
                      </a:lnTo>
                      <a:lnTo>
                        <a:pt x="357" y="1070"/>
                      </a:lnTo>
                      <a:lnTo>
                        <a:pt x="334" y="1104"/>
                      </a:lnTo>
                      <a:lnTo>
                        <a:pt x="312" y="1137"/>
                      </a:lnTo>
                      <a:lnTo>
                        <a:pt x="290" y="1171"/>
                      </a:lnTo>
                      <a:lnTo>
                        <a:pt x="256" y="1204"/>
                      </a:lnTo>
                      <a:lnTo>
                        <a:pt x="212" y="1226"/>
                      </a:lnTo>
                      <a:lnTo>
                        <a:pt x="212" y="1159"/>
                      </a:lnTo>
                      <a:lnTo>
                        <a:pt x="201" y="1104"/>
                      </a:lnTo>
                      <a:lnTo>
                        <a:pt x="201" y="1037"/>
                      </a:lnTo>
                      <a:lnTo>
                        <a:pt x="201" y="959"/>
                      </a:lnTo>
                      <a:lnTo>
                        <a:pt x="178" y="959"/>
                      </a:lnTo>
                      <a:lnTo>
                        <a:pt x="167" y="970"/>
                      </a:lnTo>
                      <a:lnTo>
                        <a:pt x="145" y="970"/>
                      </a:lnTo>
                      <a:lnTo>
                        <a:pt x="134" y="970"/>
                      </a:lnTo>
                      <a:lnTo>
                        <a:pt x="111" y="970"/>
                      </a:lnTo>
                      <a:lnTo>
                        <a:pt x="89" y="959"/>
                      </a:lnTo>
                      <a:lnTo>
                        <a:pt x="78" y="959"/>
                      </a:lnTo>
                      <a:lnTo>
                        <a:pt x="56" y="937"/>
                      </a:lnTo>
                      <a:lnTo>
                        <a:pt x="45" y="914"/>
                      </a:lnTo>
                      <a:lnTo>
                        <a:pt x="22" y="881"/>
                      </a:lnTo>
                      <a:lnTo>
                        <a:pt x="11" y="847"/>
                      </a:lnTo>
                      <a:lnTo>
                        <a:pt x="11" y="814"/>
                      </a:lnTo>
                      <a:lnTo>
                        <a:pt x="0" y="792"/>
                      </a:lnTo>
                      <a:lnTo>
                        <a:pt x="0" y="758"/>
                      </a:lnTo>
                      <a:lnTo>
                        <a:pt x="11" y="725"/>
                      </a:lnTo>
                      <a:lnTo>
                        <a:pt x="11" y="702"/>
                      </a:lnTo>
                      <a:lnTo>
                        <a:pt x="22" y="691"/>
                      </a:lnTo>
                      <a:lnTo>
                        <a:pt x="33" y="680"/>
                      </a:lnTo>
                      <a:lnTo>
                        <a:pt x="45" y="680"/>
                      </a:lnTo>
                      <a:lnTo>
                        <a:pt x="45" y="669"/>
                      </a:lnTo>
                      <a:lnTo>
                        <a:pt x="56" y="602"/>
                      </a:lnTo>
                      <a:lnTo>
                        <a:pt x="56" y="535"/>
                      </a:lnTo>
                      <a:lnTo>
                        <a:pt x="56" y="468"/>
                      </a:lnTo>
                      <a:lnTo>
                        <a:pt x="78" y="402"/>
                      </a:lnTo>
                      <a:lnTo>
                        <a:pt x="78" y="379"/>
                      </a:lnTo>
                      <a:lnTo>
                        <a:pt x="100" y="357"/>
                      </a:lnTo>
                      <a:lnTo>
                        <a:pt x="111" y="335"/>
                      </a:lnTo>
                      <a:lnTo>
                        <a:pt x="123" y="312"/>
                      </a:lnTo>
                      <a:lnTo>
                        <a:pt x="145" y="301"/>
                      </a:lnTo>
                      <a:lnTo>
                        <a:pt x="167" y="279"/>
                      </a:lnTo>
                      <a:lnTo>
                        <a:pt x="178" y="257"/>
                      </a:lnTo>
                      <a:lnTo>
                        <a:pt x="201" y="245"/>
                      </a:lnTo>
                      <a:lnTo>
                        <a:pt x="223" y="234"/>
                      </a:lnTo>
                      <a:lnTo>
                        <a:pt x="245" y="212"/>
                      </a:lnTo>
                      <a:lnTo>
                        <a:pt x="279" y="201"/>
                      </a:lnTo>
                      <a:lnTo>
                        <a:pt x="301" y="201"/>
                      </a:lnTo>
                      <a:lnTo>
                        <a:pt x="323" y="190"/>
                      </a:lnTo>
                      <a:lnTo>
                        <a:pt x="346" y="179"/>
                      </a:lnTo>
                      <a:lnTo>
                        <a:pt x="368" y="179"/>
                      </a:lnTo>
                      <a:lnTo>
                        <a:pt x="401" y="179"/>
                      </a:lnTo>
                      <a:lnTo>
                        <a:pt x="401" y="167"/>
                      </a:lnTo>
                      <a:lnTo>
                        <a:pt x="401" y="134"/>
                      </a:lnTo>
                      <a:lnTo>
                        <a:pt x="412" y="112"/>
                      </a:lnTo>
                      <a:lnTo>
                        <a:pt x="424" y="101"/>
                      </a:lnTo>
                      <a:lnTo>
                        <a:pt x="435" y="101"/>
                      </a:lnTo>
                      <a:lnTo>
                        <a:pt x="457" y="101"/>
                      </a:lnTo>
                      <a:lnTo>
                        <a:pt x="490" y="101"/>
                      </a:lnTo>
                      <a:lnTo>
                        <a:pt x="535" y="89"/>
                      </a:lnTo>
                      <a:lnTo>
                        <a:pt x="568" y="89"/>
                      </a:lnTo>
                      <a:lnTo>
                        <a:pt x="602" y="89"/>
                      </a:lnTo>
                      <a:lnTo>
                        <a:pt x="624" y="89"/>
                      </a:lnTo>
                      <a:lnTo>
                        <a:pt x="635" y="89"/>
                      </a:lnTo>
                      <a:lnTo>
                        <a:pt x="635" y="67"/>
                      </a:lnTo>
                      <a:lnTo>
                        <a:pt x="624" y="56"/>
                      </a:lnTo>
                      <a:lnTo>
                        <a:pt x="624" y="23"/>
                      </a:lnTo>
                      <a:lnTo>
                        <a:pt x="613" y="0"/>
                      </a:lnTo>
                      <a:lnTo>
                        <a:pt x="624" y="0"/>
                      </a:lnTo>
                      <a:lnTo>
                        <a:pt x="646" y="0"/>
                      </a:lnTo>
                      <a:lnTo>
                        <a:pt x="658" y="0"/>
                      </a:lnTo>
                      <a:lnTo>
                        <a:pt x="680" y="0"/>
                      </a:lnTo>
                      <a:lnTo>
                        <a:pt x="702" y="11"/>
                      </a:lnTo>
                      <a:lnTo>
                        <a:pt x="724" y="11"/>
                      </a:lnTo>
                      <a:lnTo>
                        <a:pt x="736" y="23"/>
                      </a:lnTo>
                      <a:lnTo>
                        <a:pt x="758" y="34"/>
                      </a:lnTo>
                      <a:lnTo>
                        <a:pt x="780" y="45"/>
                      </a:lnTo>
                      <a:lnTo>
                        <a:pt x="802" y="45"/>
                      </a:lnTo>
                      <a:lnTo>
                        <a:pt x="814" y="56"/>
                      </a:lnTo>
                      <a:lnTo>
                        <a:pt x="836" y="67"/>
                      </a:lnTo>
                      <a:lnTo>
                        <a:pt x="847" y="78"/>
                      </a:lnTo>
                      <a:lnTo>
                        <a:pt x="869" y="89"/>
                      </a:lnTo>
                      <a:lnTo>
                        <a:pt x="880" y="101"/>
                      </a:lnTo>
                      <a:lnTo>
                        <a:pt x="892" y="112"/>
                      </a:lnTo>
                      <a:lnTo>
                        <a:pt x="914" y="101"/>
                      </a:lnTo>
                      <a:lnTo>
                        <a:pt x="925" y="89"/>
                      </a:lnTo>
                      <a:lnTo>
                        <a:pt x="936" y="89"/>
                      </a:lnTo>
                      <a:lnTo>
                        <a:pt x="959" y="78"/>
                      </a:lnTo>
                      <a:lnTo>
                        <a:pt x="970" y="67"/>
                      </a:lnTo>
                      <a:lnTo>
                        <a:pt x="992" y="56"/>
                      </a:lnTo>
                      <a:lnTo>
                        <a:pt x="1003" y="56"/>
                      </a:lnTo>
                      <a:lnTo>
                        <a:pt x="1025" y="45"/>
                      </a:lnTo>
                      <a:lnTo>
                        <a:pt x="1037" y="45"/>
                      </a:lnTo>
                      <a:lnTo>
                        <a:pt x="1059" y="34"/>
                      </a:lnTo>
                      <a:lnTo>
                        <a:pt x="1070" y="34"/>
                      </a:lnTo>
                      <a:lnTo>
                        <a:pt x="1092" y="34"/>
                      </a:lnTo>
                      <a:lnTo>
                        <a:pt x="1115" y="34"/>
                      </a:lnTo>
                      <a:lnTo>
                        <a:pt x="1126" y="23"/>
                      </a:lnTo>
                      <a:lnTo>
                        <a:pt x="1148" y="23"/>
                      </a:lnTo>
                      <a:lnTo>
                        <a:pt x="1170" y="34"/>
                      </a:lnTo>
                      <a:lnTo>
                        <a:pt x="1170" y="45"/>
                      </a:lnTo>
                      <a:lnTo>
                        <a:pt x="1159" y="56"/>
                      </a:lnTo>
                      <a:lnTo>
                        <a:pt x="1148" y="67"/>
                      </a:lnTo>
                      <a:lnTo>
                        <a:pt x="1137" y="89"/>
                      </a:lnTo>
                      <a:lnTo>
                        <a:pt x="1159" y="89"/>
                      </a:lnTo>
                      <a:lnTo>
                        <a:pt x="1170" y="89"/>
                      </a:lnTo>
                      <a:lnTo>
                        <a:pt x="1193" y="89"/>
                      </a:lnTo>
                      <a:lnTo>
                        <a:pt x="1215" y="89"/>
                      </a:lnTo>
                      <a:lnTo>
                        <a:pt x="1237" y="89"/>
                      </a:lnTo>
                      <a:lnTo>
                        <a:pt x="1259" y="89"/>
                      </a:lnTo>
                      <a:lnTo>
                        <a:pt x="1271" y="89"/>
                      </a:lnTo>
                      <a:lnTo>
                        <a:pt x="1293" y="89"/>
                      </a:lnTo>
                      <a:lnTo>
                        <a:pt x="1326" y="101"/>
                      </a:lnTo>
                      <a:lnTo>
                        <a:pt x="1349" y="101"/>
                      </a:lnTo>
                      <a:lnTo>
                        <a:pt x="1371" y="112"/>
                      </a:lnTo>
                      <a:lnTo>
                        <a:pt x="1382" y="123"/>
                      </a:lnTo>
                      <a:lnTo>
                        <a:pt x="1393" y="134"/>
                      </a:lnTo>
                      <a:lnTo>
                        <a:pt x="1415" y="156"/>
                      </a:lnTo>
                      <a:lnTo>
                        <a:pt x="1427" y="179"/>
                      </a:lnTo>
                      <a:lnTo>
                        <a:pt x="1449" y="201"/>
                      </a:lnTo>
                      <a:lnTo>
                        <a:pt x="1449" y="212"/>
                      </a:lnTo>
                      <a:lnTo>
                        <a:pt x="1471" y="223"/>
                      </a:lnTo>
                      <a:lnTo>
                        <a:pt x="1493" y="234"/>
                      </a:lnTo>
                      <a:lnTo>
                        <a:pt x="1516" y="245"/>
                      </a:lnTo>
                      <a:lnTo>
                        <a:pt x="1538" y="257"/>
                      </a:lnTo>
                      <a:lnTo>
                        <a:pt x="1560" y="279"/>
                      </a:lnTo>
                      <a:lnTo>
                        <a:pt x="1571" y="290"/>
                      </a:lnTo>
                      <a:lnTo>
                        <a:pt x="1583" y="312"/>
                      </a:lnTo>
                      <a:lnTo>
                        <a:pt x="1594" y="346"/>
                      </a:lnTo>
                      <a:lnTo>
                        <a:pt x="1594" y="379"/>
                      </a:lnTo>
                      <a:lnTo>
                        <a:pt x="1583" y="424"/>
                      </a:lnTo>
                      <a:lnTo>
                        <a:pt x="1583" y="457"/>
                      </a:lnTo>
                      <a:lnTo>
                        <a:pt x="1594" y="457"/>
                      </a:lnTo>
                      <a:lnTo>
                        <a:pt x="1605" y="468"/>
                      </a:lnTo>
                      <a:lnTo>
                        <a:pt x="1605" y="480"/>
                      </a:lnTo>
                      <a:lnTo>
                        <a:pt x="1616" y="480"/>
                      </a:lnTo>
                      <a:lnTo>
                        <a:pt x="1638" y="535"/>
                      </a:lnTo>
                      <a:lnTo>
                        <a:pt x="1661" y="580"/>
                      </a:lnTo>
                      <a:lnTo>
                        <a:pt x="1683" y="647"/>
                      </a:lnTo>
                      <a:lnTo>
                        <a:pt x="1683" y="702"/>
                      </a:lnTo>
                      <a:lnTo>
                        <a:pt x="1694" y="769"/>
                      </a:lnTo>
                      <a:lnTo>
                        <a:pt x="1683" y="836"/>
                      </a:lnTo>
                      <a:lnTo>
                        <a:pt x="1683" y="892"/>
                      </a:lnTo>
                      <a:lnTo>
                        <a:pt x="1672" y="948"/>
                      </a:lnTo>
                      <a:lnTo>
                        <a:pt x="1661" y="981"/>
                      </a:lnTo>
                      <a:lnTo>
                        <a:pt x="1661" y="1003"/>
                      </a:lnTo>
                      <a:lnTo>
                        <a:pt x="1650" y="1015"/>
                      </a:lnTo>
                      <a:lnTo>
                        <a:pt x="1638" y="1026"/>
                      </a:lnTo>
                      <a:lnTo>
                        <a:pt x="1627" y="1037"/>
                      </a:lnTo>
                      <a:lnTo>
                        <a:pt x="1616" y="1037"/>
                      </a:lnTo>
                      <a:lnTo>
                        <a:pt x="1605" y="1037"/>
                      </a:lnTo>
                      <a:lnTo>
                        <a:pt x="1594" y="1037"/>
                      </a:lnTo>
                      <a:lnTo>
                        <a:pt x="1583" y="1037"/>
                      </a:lnTo>
                      <a:lnTo>
                        <a:pt x="1549" y="1048"/>
                      </a:lnTo>
                      <a:lnTo>
                        <a:pt x="1516" y="1070"/>
                      </a:lnTo>
                      <a:lnTo>
                        <a:pt x="1493" y="1104"/>
                      </a:lnTo>
                      <a:lnTo>
                        <a:pt x="1471" y="1148"/>
                      </a:lnTo>
                      <a:lnTo>
                        <a:pt x="1460" y="1182"/>
                      </a:lnTo>
                      <a:lnTo>
                        <a:pt x="1449" y="1226"/>
                      </a:lnTo>
                      <a:lnTo>
                        <a:pt x="1438" y="1271"/>
                      </a:lnTo>
                      <a:lnTo>
                        <a:pt x="1415" y="1304"/>
                      </a:lnTo>
                      <a:lnTo>
                        <a:pt x="1404" y="1282"/>
                      </a:lnTo>
                      <a:lnTo>
                        <a:pt x="1393" y="1260"/>
                      </a:lnTo>
                      <a:lnTo>
                        <a:pt x="1382" y="1237"/>
                      </a:lnTo>
                      <a:lnTo>
                        <a:pt x="1382" y="1226"/>
                      </a:lnTo>
                      <a:lnTo>
                        <a:pt x="1371" y="1171"/>
                      </a:lnTo>
                      <a:lnTo>
                        <a:pt x="1371" y="1115"/>
                      </a:lnTo>
                      <a:lnTo>
                        <a:pt x="1360" y="1081"/>
                      </a:lnTo>
                      <a:lnTo>
                        <a:pt x="1349" y="1037"/>
                      </a:lnTo>
                      <a:lnTo>
                        <a:pt x="1326" y="1003"/>
                      </a:lnTo>
                      <a:lnTo>
                        <a:pt x="1315" y="970"/>
                      </a:lnTo>
                      <a:lnTo>
                        <a:pt x="1282" y="948"/>
                      </a:lnTo>
                      <a:lnTo>
                        <a:pt x="1259" y="925"/>
                      </a:lnTo>
                      <a:lnTo>
                        <a:pt x="1237" y="903"/>
                      </a:lnTo>
                      <a:lnTo>
                        <a:pt x="1215" y="892"/>
                      </a:lnTo>
                      <a:lnTo>
                        <a:pt x="1204" y="881"/>
                      </a:lnTo>
                      <a:lnTo>
                        <a:pt x="1181" y="870"/>
                      </a:lnTo>
                      <a:lnTo>
                        <a:pt x="1170" y="858"/>
                      </a:lnTo>
                      <a:lnTo>
                        <a:pt x="1148" y="858"/>
                      </a:lnTo>
                      <a:lnTo>
                        <a:pt x="1126" y="858"/>
                      </a:lnTo>
                      <a:lnTo>
                        <a:pt x="1115" y="858"/>
                      </a:lnTo>
                      <a:lnTo>
                        <a:pt x="1103" y="858"/>
                      </a:lnTo>
                      <a:lnTo>
                        <a:pt x="1081" y="847"/>
                      </a:lnTo>
                      <a:lnTo>
                        <a:pt x="1070" y="836"/>
                      </a:lnTo>
                      <a:lnTo>
                        <a:pt x="1048" y="825"/>
                      </a:lnTo>
                      <a:lnTo>
                        <a:pt x="1037" y="814"/>
                      </a:lnTo>
                      <a:lnTo>
                        <a:pt x="1025" y="792"/>
                      </a:lnTo>
                      <a:lnTo>
                        <a:pt x="1025" y="769"/>
                      </a:lnTo>
                      <a:lnTo>
                        <a:pt x="1025" y="747"/>
                      </a:lnTo>
                      <a:lnTo>
                        <a:pt x="1014" y="747"/>
                      </a:lnTo>
                      <a:lnTo>
                        <a:pt x="1003" y="747"/>
                      </a:lnTo>
                      <a:lnTo>
                        <a:pt x="992" y="747"/>
                      </a:lnTo>
                      <a:lnTo>
                        <a:pt x="981" y="747"/>
                      </a:lnTo>
                      <a:lnTo>
                        <a:pt x="970" y="758"/>
                      </a:lnTo>
                      <a:lnTo>
                        <a:pt x="959" y="758"/>
                      </a:lnTo>
                      <a:lnTo>
                        <a:pt x="947" y="736"/>
                      </a:lnTo>
                      <a:lnTo>
                        <a:pt x="936" y="714"/>
                      </a:lnTo>
                      <a:lnTo>
                        <a:pt x="925" y="691"/>
                      </a:lnTo>
                      <a:lnTo>
                        <a:pt x="914" y="658"/>
                      </a:lnTo>
                      <a:lnTo>
                        <a:pt x="903" y="636"/>
                      </a:lnTo>
                      <a:lnTo>
                        <a:pt x="903" y="602"/>
                      </a:lnTo>
                      <a:lnTo>
                        <a:pt x="892" y="569"/>
                      </a:lnTo>
                      <a:lnTo>
                        <a:pt x="892" y="535"/>
                      </a:lnTo>
                      <a:close/>
                    </a:path>
                  </a:pathLst>
                </a:custGeom>
                <a:solidFill>
                  <a:srgbClr val="f5b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Freeform 1080"/>
                <p:cNvSpPr/>
                <p:nvPr/>
              </p:nvSpPr>
              <p:spPr>
                <a:xfrm rot="111600">
                  <a:off x="2944800" y="1451160"/>
                  <a:ext cx="3240" cy="11520"/>
                </a:xfrm>
                <a:custGeom>
                  <a:avLst/>
                  <a:gdLst>
                    <a:gd name="textAreaLeft" fmla="*/ 0 w 3240"/>
                    <a:gd name="textAreaRight" fmla="*/ 3600 w 3240"/>
                    <a:gd name="textAreaTop" fmla="*/ 0 h 11520"/>
                    <a:gd name="textAreaBottom" fmla="*/ 11880 h 11520"/>
                  </a:gdLst>
                  <a:ahLst/>
                  <a:rect l="textAreaLeft" t="textAreaTop" r="textAreaRight" b="textAreaBottom"/>
                  <a:pathLst>
                    <a:path w="34" h="89">
                      <a:moveTo>
                        <a:pt x="11" y="89"/>
                      </a:moveTo>
                      <a:lnTo>
                        <a:pt x="11" y="89"/>
                      </a:lnTo>
                      <a:lnTo>
                        <a:pt x="23" y="67"/>
                      </a:lnTo>
                      <a:lnTo>
                        <a:pt x="23" y="45"/>
                      </a:lnTo>
                      <a:lnTo>
                        <a:pt x="34" y="23"/>
                      </a:lnTo>
                      <a:lnTo>
                        <a:pt x="34" y="0"/>
                      </a:lnTo>
                      <a:lnTo>
                        <a:pt x="11" y="0"/>
                      </a:lnTo>
                      <a:lnTo>
                        <a:pt x="11" y="23"/>
                      </a:lnTo>
                      <a:lnTo>
                        <a:pt x="11" y="45"/>
                      </a:lnTo>
                      <a:lnTo>
                        <a:pt x="0" y="67"/>
                      </a:lnTo>
                      <a:lnTo>
                        <a:pt x="0" y="78"/>
                      </a:lnTo>
                      <a:lnTo>
                        <a:pt x="11"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Freeform 1079"/>
                <p:cNvSpPr/>
                <p:nvPr/>
              </p:nvSpPr>
              <p:spPr>
                <a:xfrm rot="111600">
                  <a:off x="2929320" y="1461240"/>
                  <a:ext cx="16200" cy="26640"/>
                </a:xfrm>
                <a:custGeom>
                  <a:avLst/>
                  <a:gdLst>
                    <a:gd name="textAreaLeft" fmla="*/ 0 w 16200"/>
                    <a:gd name="textAreaRight" fmla="*/ 16560 w 16200"/>
                    <a:gd name="textAreaTop" fmla="*/ 0 h 26640"/>
                    <a:gd name="textAreaBottom" fmla="*/ 27000 h 26640"/>
                  </a:gdLst>
                  <a:ahLst/>
                  <a:rect l="textAreaLeft" t="textAreaTop" r="textAreaRight" b="textAreaBottom"/>
                  <a:pathLst>
                    <a:path w="167" h="201">
                      <a:moveTo>
                        <a:pt x="23" y="201"/>
                      </a:moveTo>
                      <a:lnTo>
                        <a:pt x="23" y="201"/>
                      </a:lnTo>
                      <a:lnTo>
                        <a:pt x="34" y="179"/>
                      </a:lnTo>
                      <a:lnTo>
                        <a:pt x="56" y="156"/>
                      </a:lnTo>
                      <a:lnTo>
                        <a:pt x="78" y="134"/>
                      </a:lnTo>
                      <a:lnTo>
                        <a:pt x="101" y="112"/>
                      </a:lnTo>
                      <a:lnTo>
                        <a:pt x="123" y="89"/>
                      </a:lnTo>
                      <a:lnTo>
                        <a:pt x="134" y="67"/>
                      </a:lnTo>
                      <a:lnTo>
                        <a:pt x="156" y="34"/>
                      </a:lnTo>
                      <a:lnTo>
                        <a:pt x="167" y="11"/>
                      </a:lnTo>
                      <a:lnTo>
                        <a:pt x="156" y="0"/>
                      </a:lnTo>
                      <a:lnTo>
                        <a:pt x="134" y="23"/>
                      </a:lnTo>
                      <a:lnTo>
                        <a:pt x="123" y="56"/>
                      </a:lnTo>
                      <a:lnTo>
                        <a:pt x="101" y="78"/>
                      </a:lnTo>
                      <a:lnTo>
                        <a:pt x="89" y="101"/>
                      </a:lnTo>
                      <a:lnTo>
                        <a:pt x="67" y="123"/>
                      </a:lnTo>
                      <a:lnTo>
                        <a:pt x="45" y="145"/>
                      </a:lnTo>
                      <a:lnTo>
                        <a:pt x="23" y="167"/>
                      </a:lnTo>
                      <a:lnTo>
                        <a:pt x="0" y="190"/>
                      </a:lnTo>
                      <a:lnTo>
                        <a:pt x="23" y="201"/>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Freeform 1078"/>
                <p:cNvSpPr/>
                <p:nvPr/>
              </p:nvSpPr>
              <p:spPr>
                <a:xfrm rot="111600">
                  <a:off x="2917440" y="1486080"/>
                  <a:ext cx="12960" cy="5760"/>
                </a:xfrm>
                <a:custGeom>
                  <a:avLst/>
                  <a:gdLst>
                    <a:gd name="textAreaLeft" fmla="*/ 0 w 12960"/>
                    <a:gd name="textAreaRight" fmla="*/ 13320 w 12960"/>
                    <a:gd name="textAreaTop" fmla="*/ 0 h 5760"/>
                    <a:gd name="textAreaBottom" fmla="*/ 6120 h 5760"/>
                  </a:gdLst>
                  <a:ahLst/>
                  <a:rect l="textAreaLeft" t="textAreaTop" r="textAreaRight" b="textAreaBottom"/>
                  <a:pathLst>
                    <a:path w="134" h="44">
                      <a:moveTo>
                        <a:pt x="11" y="22"/>
                      </a:moveTo>
                      <a:lnTo>
                        <a:pt x="0" y="22"/>
                      </a:lnTo>
                      <a:lnTo>
                        <a:pt x="22" y="33"/>
                      </a:lnTo>
                      <a:lnTo>
                        <a:pt x="33" y="44"/>
                      </a:lnTo>
                      <a:lnTo>
                        <a:pt x="56" y="44"/>
                      </a:lnTo>
                      <a:lnTo>
                        <a:pt x="67" y="44"/>
                      </a:lnTo>
                      <a:lnTo>
                        <a:pt x="78" y="44"/>
                      </a:lnTo>
                      <a:lnTo>
                        <a:pt x="100" y="33"/>
                      </a:lnTo>
                      <a:lnTo>
                        <a:pt x="111" y="22"/>
                      </a:lnTo>
                      <a:lnTo>
                        <a:pt x="134" y="11"/>
                      </a:lnTo>
                      <a:lnTo>
                        <a:pt x="111" y="0"/>
                      </a:lnTo>
                      <a:lnTo>
                        <a:pt x="100" y="11"/>
                      </a:lnTo>
                      <a:lnTo>
                        <a:pt x="89" y="22"/>
                      </a:lnTo>
                      <a:lnTo>
                        <a:pt x="78" y="22"/>
                      </a:lnTo>
                      <a:lnTo>
                        <a:pt x="67" y="33"/>
                      </a:lnTo>
                      <a:lnTo>
                        <a:pt x="56" y="33"/>
                      </a:lnTo>
                      <a:lnTo>
                        <a:pt x="44" y="22"/>
                      </a:lnTo>
                      <a:lnTo>
                        <a:pt x="33" y="22"/>
                      </a:lnTo>
                      <a:lnTo>
                        <a:pt x="11" y="11"/>
                      </a:lnTo>
                      <a:lnTo>
                        <a:pt x="0" y="11"/>
                      </a:lnTo>
                      <a:lnTo>
                        <a:pt x="11" y="22"/>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Freeform 1077"/>
                <p:cNvSpPr/>
                <p:nvPr/>
              </p:nvSpPr>
              <p:spPr>
                <a:xfrm rot="111600">
                  <a:off x="2901960" y="1487160"/>
                  <a:ext cx="16200" cy="29520"/>
                </a:xfrm>
                <a:custGeom>
                  <a:avLst/>
                  <a:gdLst>
                    <a:gd name="textAreaLeft" fmla="*/ 0 w 16200"/>
                    <a:gd name="textAreaRight" fmla="*/ 16560 w 16200"/>
                    <a:gd name="textAreaTop" fmla="*/ 0 h 29520"/>
                    <a:gd name="textAreaBottom" fmla="*/ 29880 h 29520"/>
                  </a:gdLst>
                  <a:ahLst/>
                  <a:rect l="textAreaLeft" t="textAreaTop" r="textAreaRight" b="textAreaBottom"/>
                  <a:pathLst>
                    <a:path w="167" h="223">
                      <a:moveTo>
                        <a:pt x="0" y="223"/>
                      </a:moveTo>
                      <a:lnTo>
                        <a:pt x="11" y="223"/>
                      </a:lnTo>
                      <a:lnTo>
                        <a:pt x="44" y="189"/>
                      </a:lnTo>
                      <a:lnTo>
                        <a:pt x="67" y="156"/>
                      </a:lnTo>
                      <a:lnTo>
                        <a:pt x="78" y="123"/>
                      </a:lnTo>
                      <a:lnTo>
                        <a:pt x="89" y="100"/>
                      </a:lnTo>
                      <a:lnTo>
                        <a:pt x="100" y="78"/>
                      </a:lnTo>
                      <a:lnTo>
                        <a:pt x="111" y="56"/>
                      </a:lnTo>
                      <a:lnTo>
                        <a:pt x="134" y="33"/>
                      </a:lnTo>
                      <a:lnTo>
                        <a:pt x="167" y="11"/>
                      </a:lnTo>
                      <a:lnTo>
                        <a:pt x="156" y="0"/>
                      </a:lnTo>
                      <a:lnTo>
                        <a:pt x="122" y="22"/>
                      </a:lnTo>
                      <a:lnTo>
                        <a:pt x="100" y="44"/>
                      </a:lnTo>
                      <a:lnTo>
                        <a:pt x="89" y="67"/>
                      </a:lnTo>
                      <a:lnTo>
                        <a:pt x="78" y="89"/>
                      </a:lnTo>
                      <a:lnTo>
                        <a:pt x="56" y="111"/>
                      </a:lnTo>
                      <a:lnTo>
                        <a:pt x="44" y="145"/>
                      </a:lnTo>
                      <a:lnTo>
                        <a:pt x="22" y="178"/>
                      </a:lnTo>
                      <a:lnTo>
                        <a:pt x="0" y="212"/>
                      </a:lnTo>
                      <a:lnTo>
                        <a:pt x="11" y="212"/>
                      </a:lnTo>
                      <a:lnTo>
                        <a:pt x="0" y="223"/>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Freeform 1076"/>
                <p:cNvSpPr/>
                <p:nvPr/>
              </p:nvSpPr>
              <p:spPr>
                <a:xfrm rot="111600">
                  <a:off x="2896560" y="1503000"/>
                  <a:ext cx="6480" cy="12960"/>
                </a:xfrm>
                <a:custGeom>
                  <a:avLst/>
                  <a:gdLst>
                    <a:gd name="textAreaLeft" fmla="*/ 0 w 6480"/>
                    <a:gd name="textAreaRight" fmla="*/ 6840 w 6480"/>
                    <a:gd name="textAreaTop" fmla="*/ 0 h 12960"/>
                    <a:gd name="textAreaBottom" fmla="*/ 13320 h 12960"/>
                  </a:gdLst>
                  <a:ahLst/>
                  <a:rect l="textAreaLeft" t="textAreaTop" r="textAreaRight" b="textAreaBottom"/>
                  <a:pathLst>
                    <a:path w="67" h="100">
                      <a:moveTo>
                        <a:pt x="22" y="11"/>
                      </a:moveTo>
                      <a:lnTo>
                        <a:pt x="0" y="22"/>
                      </a:lnTo>
                      <a:lnTo>
                        <a:pt x="11" y="22"/>
                      </a:lnTo>
                      <a:lnTo>
                        <a:pt x="11" y="33"/>
                      </a:lnTo>
                      <a:lnTo>
                        <a:pt x="22" y="44"/>
                      </a:lnTo>
                      <a:lnTo>
                        <a:pt x="22" y="55"/>
                      </a:lnTo>
                      <a:lnTo>
                        <a:pt x="34" y="66"/>
                      </a:lnTo>
                      <a:lnTo>
                        <a:pt x="34" y="78"/>
                      </a:lnTo>
                      <a:lnTo>
                        <a:pt x="45" y="89"/>
                      </a:lnTo>
                      <a:lnTo>
                        <a:pt x="56" y="100"/>
                      </a:lnTo>
                      <a:lnTo>
                        <a:pt x="67" y="89"/>
                      </a:lnTo>
                      <a:lnTo>
                        <a:pt x="56" y="78"/>
                      </a:lnTo>
                      <a:lnTo>
                        <a:pt x="56" y="66"/>
                      </a:lnTo>
                      <a:lnTo>
                        <a:pt x="45" y="55"/>
                      </a:lnTo>
                      <a:lnTo>
                        <a:pt x="45" y="44"/>
                      </a:lnTo>
                      <a:lnTo>
                        <a:pt x="34" y="33"/>
                      </a:lnTo>
                      <a:lnTo>
                        <a:pt x="34" y="22"/>
                      </a:lnTo>
                      <a:lnTo>
                        <a:pt x="22" y="11"/>
                      </a:lnTo>
                      <a:lnTo>
                        <a:pt x="11" y="0"/>
                      </a:lnTo>
                      <a:lnTo>
                        <a:pt x="0" y="11"/>
                      </a:lnTo>
                      <a:lnTo>
                        <a:pt x="22" y="11"/>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Freeform 1075"/>
                <p:cNvSpPr/>
                <p:nvPr/>
              </p:nvSpPr>
              <p:spPr>
                <a:xfrm rot="111600">
                  <a:off x="2878920" y="1504080"/>
                  <a:ext cx="19440" cy="38160"/>
                </a:xfrm>
                <a:custGeom>
                  <a:avLst/>
                  <a:gdLst>
                    <a:gd name="textAreaLeft" fmla="*/ 0 w 19440"/>
                    <a:gd name="textAreaRight" fmla="*/ 19800 w 19440"/>
                    <a:gd name="textAreaTop" fmla="*/ 0 h 38160"/>
                    <a:gd name="textAreaBottom" fmla="*/ 38520 h 38160"/>
                  </a:gdLst>
                  <a:ahLst/>
                  <a:rect l="textAreaLeft" t="textAreaTop" r="textAreaRight" b="textAreaBottom"/>
                  <a:pathLst>
                    <a:path w="200" h="289">
                      <a:moveTo>
                        <a:pt x="0" y="278"/>
                      </a:moveTo>
                      <a:lnTo>
                        <a:pt x="11" y="289"/>
                      </a:lnTo>
                      <a:lnTo>
                        <a:pt x="56" y="256"/>
                      </a:lnTo>
                      <a:lnTo>
                        <a:pt x="89" y="234"/>
                      </a:lnTo>
                      <a:lnTo>
                        <a:pt x="111" y="200"/>
                      </a:lnTo>
                      <a:lnTo>
                        <a:pt x="134" y="167"/>
                      </a:lnTo>
                      <a:lnTo>
                        <a:pt x="156" y="122"/>
                      </a:lnTo>
                      <a:lnTo>
                        <a:pt x="167" y="89"/>
                      </a:lnTo>
                      <a:lnTo>
                        <a:pt x="178" y="44"/>
                      </a:lnTo>
                      <a:lnTo>
                        <a:pt x="200" y="0"/>
                      </a:lnTo>
                      <a:lnTo>
                        <a:pt x="178" y="0"/>
                      </a:lnTo>
                      <a:lnTo>
                        <a:pt x="167" y="44"/>
                      </a:lnTo>
                      <a:lnTo>
                        <a:pt x="145" y="78"/>
                      </a:lnTo>
                      <a:lnTo>
                        <a:pt x="134" y="122"/>
                      </a:lnTo>
                      <a:lnTo>
                        <a:pt x="122" y="156"/>
                      </a:lnTo>
                      <a:lnTo>
                        <a:pt x="100" y="189"/>
                      </a:lnTo>
                      <a:lnTo>
                        <a:pt x="67" y="211"/>
                      </a:lnTo>
                      <a:lnTo>
                        <a:pt x="44" y="245"/>
                      </a:lnTo>
                      <a:lnTo>
                        <a:pt x="0" y="278"/>
                      </a:lnTo>
                      <a:lnTo>
                        <a:pt x="11" y="278"/>
                      </a:lnTo>
                      <a:lnTo>
                        <a:pt x="0" y="278"/>
                      </a:lnTo>
                      <a:close/>
                    </a:path>
                  </a:pathLst>
                </a:custGeom>
                <a:solidFill>
                  <a:srgbClr val="0000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Freeform 1074"/>
                <p:cNvSpPr/>
                <p:nvPr/>
              </p:nvSpPr>
              <p:spPr>
                <a:xfrm rot="111600">
                  <a:off x="2876400" y="1504080"/>
                  <a:ext cx="3240" cy="36720"/>
                </a:xfrm>
                <a:custGeom>
                  <a:avLst/>
                  <a:gdLst>
                    <a:gd name="textAreaLeft" fmla="*/ 0 w 3240"/>
                    <a:gd name="textAreaRight" fmla="*/ 3600 w 3240"/>
                    <a:gd name="textAreaTop" fmla="*/ 0 h 36720"/>
                    <a:gd name="textAreaBottom" fmla="*/ 36720 h 36720"/>
                  </a:gdLst>
                  <a:ahLst/>
                  <a:rect l="textAreaLeft" t="textAreaTop" r="textAreaRight" b="textAreaBottom"/>
                  <a:pathLst>
                    <a:path w="34" h="278">
                      <a:moveTo>
                        <a:pt x="12" y="22"/>
                      </a:moveTo>
                      <a:lnTo>
                        <a:pt x="0" y="11"/>
                      </a:lnTo>
                      <a:lnTo>
                        <a:pt x="0" y="89"/>
                      </a:lnTo>
                      <a:lnTo>
                        <a:pt x="0" y="156"/>
                      </a:lnTo>
                      <a:lnTo>
                        <a:pt x="12" y="211"/>
                      </a:lnTo>
                      <a:lnTo>
                        <a:pt x="23" y="278"/>
                      </a:lnTo>
                      <a:lnTo>
                        <a:pt x="34" y="278"/>
                      </a:lnTo>
                      <a:lnTo>
                        <a:pt x="23" y="211"/>
                      </a:lnTo>
                      <a:lnTo>
                        <a:pt x="23" y="156"/>
                      </a:lnTo>
                      <a:lnTo>
                        <a:pt x="12" y="89"/>
                      </a:lnTo>
                      <a:lnTo>
                        <a:pt x="23" y="11"/>
                      </a:lnTo>
                      <a:lnTo>
                        <a:pt x="12" y="0"/>
                      </a:lnTo>
                      <a:lnTo>
                        <a:pt x="12" y="22"/>
                      </a:lnTo>
                      <a:close/>
                    </a:path>
                  </a:pathLst>
                </a:custGeom>
                <a:solidFill>
                  <a:srgbClr val="0000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Freeform 1073"/>
                <p:cNvSpPr/>
                <p:nvPr/>
              </p:nvSpPr>
              <p:spPr>
                <a:xfrm rot="111600">
                  <a:off x="2862720" y="1501920"/>
                  <a:ext cx="15120" cy="5760"/>
                </a:xfrm>
                <a:custGeom>
                  <a:avLst/>
                  <a:gdLst>
                    <a:gd name="textAreaLeft" fmla="*/ 0 w 15120"/>
                    <a:gd name="textAreaRight" fmla="*/ 15480 w 15120"/>
                    <a:gd name="textAreaTop" fmla="*/ 0 h 5760"/>
                    <a:gd name="textAreaBottom" fmla="*/ 6120 h 5760"/>
                  </a:gdLst>
                  <a:ahLst/>
                  <a:rect l="textAreaLeft" t="textAreaTop" r="textAreaRight" b="textAreaBottom"/>
                  <a:pathLst>
                    <a:path w="156" h="44">
                      <a:moveTo>
                        <a:pt x="0" y="11"/>
                      </a:moveTo>
                      <a:lnTo>
                        <a:pt x="0" y="11"/>
                      </a:lnTo>
                      <a:lnTo>
                        <a:pt x="22" y="22"/>
                      </a:lnTo>
                      <a:lnTo>
                        <a:pt x="44" y="33"/>
                      </a:lnTo>
                      <a:lnTo>
                        <a:pt x="66" y="44"/>
                      </a:lnTo>
                      <a:lnTo>
                        <a:pt x="89" y="44"/>
                      </a:lnTo>
                      <a:lnTo>
                        <a:pt x="100" y="44"/>
                      </a:lnTo>
                      <a:lnTo>
                        <a:pt x="122" y="33"/>
                      </a:lnTo>
                      <a:lnTo>
                        <a:pt x="133" y="33"/>
                      </a:lnTo>
                      <a:lnTo>
                        <a:pt x="156" y="33"/>
                      </a:lnTo>
                      <a:lnTo>
                        <a:pt x="156" y="11"/>
                      </a:lnTo>
                      <a:lnTo>
                        <a:pt x="133" y="22"/>
                      </a:lnTo>
                      <a:lnTo>
                        <a:pt x="122" y="22"/>
                      </a:lnTo>
                      <a:lnTo>
                        <a:pt x="100" y="22"/>
                      </a:lnTo>
                      <a:lnTo>
                        <a:pt x="89" y="22"/>
                      </a:lnTo>
                      <a:lnTo>
                        <a:pt x="66" y="22"/>
                      </a:lnTo>
                      <a:lnTo>
                        <a:pt x="44" y="22"/>
                      </a:lnTo>
                      <a:lnTo>
                        <a:pt x="33" y="11"/>
                      </a:lnTo>
                      <a:lnTo>
                        <a:pt x="22" y="0"/>
                      </a:lnTo>
                      <a:lnTo>
                        <a:pt x="0" y="11"/>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Freeform 1072"/>
                <p:cNvSpPr/>
                <p:nvPr/>
              </p:nvSpPr>
              <p:spPr>
                <a:xfrm rot="111600">
                  <a:off x="2858040" y="1469160"/>
                  <a:ext cx="7560" cy="34200"/>
                </a:xfrm>
                <a:custGeom>
                  <a:avLst/>
                  <a:gdLst>
                    <a:gd name="textAreaLeft" fmla="*/ 0 w 7560"/>
                    <a:gd name="textAreaRight" fmla="*/ 7920 w 7560"/>
                    <a:gd name="textAreaTop" fmla="*/ 0 h 34200"/>
                    <a:gd name="textAreaBottom" fmla="*/ 34560 h 34200"/>
                  </a:gdLst>
                  <a:ahLst/>
                  <a:rect l="textAreaLeft" t="textAreaTop" r="textAreaRight" b="textAreaBottom"/>
                  <a:pathLst>
                    <a:path w="78" h="257">
                      <a:moveTo>
                        <a:pt x="22" y="11"/>
                      </a:moveTo>
                      <a:lnTo>
                        <a:pt x="22" y="0"/>
                      </a:lnTo>
                      <a:lnTo>
                        <a:pt x="11" y="34"/>
                      </a:lnTo>
                      <a:lnTo>
                        <a:pt x="0" y="67"/>
                      </a:lnTo>
                      <a:lnTo>
                        <a:pt x="0" y="101"/>
                      </a:lnTo>
                      <a:lnTo>
                        <a:pt x="11" y="134"/>
                      </a:lnTo>
                      <a:lnTo>
                        <a:pt x="22" y="167"/>
                      </a:lnTo>
                      <a:lnTo>
                        <a:pt x="22" y="190"/>
                      </a:lnTo>
                      <a:lnTo>
                        <a:pt x="44" y="223"/>
                      </a:lnTo>
                      <a:lnTo>
                        <a:pt x="56" y="257"/>
                      </a:lnTo>
                      <a:lnTo>
                        <a:pt x="78" y="246"/>
                      </a:lnTo>
                      <a:lnTo>
                        <a:pt x="56" y="223"/>
                      </a:lnTo>
                      <a:lnTo>
                        <a:pt x="44" y="190"/>
                      </a:lnTo>
                      <a:lnTo>
                        <a:pt x="33" y="156"/>
                      </a:lnTo>
                      <a:lnTo>
                        <a:pt x="22" y="123"/>
                      </a:lnTo>
                      <a:lnTo>
                        <a:pt x="22" y="101"/>
                      </a:lnTo>
                      <a:lnTo>
                        <a:pt x="22" y="67"/>
                      </a:lnTo>
                      <a:lnTo>
                        <a:pt x="22" y="34"/>
                      </a:lnTo>
                      <a:lnTo>
                        <a:pt x="33" y="11"/>
                      </a:lnTo>
                      <a:lnTo>
                        <a:pt x="22" y="11"/>
                      </a:lnTo>
                      <a:close/>
                    </a:path>
                  </a:pathLst>
                </a:custGeom>
                <a:solidFill>
                  <a:srgbClr val="000000"/>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Freeform 1071"/>
                <p:cNvSpPr/>
                <p:nvPr/>
              </p:nvSpPr>
              <p:spPr>
                <a:xfrm rot="111600">
                  <a:off x="2860560" y="1466280"/>
                  <a:ext cx="4320" cy="4320"/>
                </a:xfrm>
                <a:custGeom>
                  <a:avLst/>
                  <a:gdLst>
                    <a:gd name="textAreaLeft" fmla="*/ 0 w 4320"/>
                    <a:gd name="textAreaRight" fmla="*/ 4320 w 4320"/>
                    <a:gd name="textAreaTop" fmla="*/ 0 h 4320"/>
                    <a:gd name="textAreaBottom" fmla="*/ 4680 h 4320"/>
                  </a:gdLst>
                  <a:ahLst/>
                  <a:rect l="textAreaLeft" t="textAreaTop" r="textAreaRight" b="textAreaBottom"/>
                  <a:pathLst>
                    <a:path w="45" h="33">
                      <a:moveTo>
                        <a:pt x="22" y="0"/>
                      </a:moveTo>
                      <a:lnTo>
                        <a:pt x="22" y="0"/>
                      </a:lnTo>
                      <a:lnTo>
                        <a:pt x="11" y="11"/>
                      </a:lnTo>
                      <a:lnTo>
                        <a:pt x="0" y="22"/>
                      </a:lnTo>
                      <a:lnTo>
                        <a:pt x="0" y="33"/>
                      </a:lnTo>
                      <a:lnTo>
                        <a:pt x="11" y="33"/>
                      </a:lnTo>
                      <a:lnTo>
                        <a:pt x="22" y="33"/>
                      </a:lnTo>
                      <a:lnTo>
                        <a:pt x="22" y="22"/>
                      </a:lnTo>
                      <a:lnTo>
                        <a:pt x="34" y="11"/>
                      </a:lnTo>
                      <a:lnTo>
                        <a:pt x="45" y="0"/>
                      </a:lnTo>
                      <a:lnTo>
                        <a:pt x="22" y="0"/>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Freeform 1070"/>
                <p:cNvSpPr/>
                <p:nvPr/>
              </p:nvSpPr>
              <p:spPr>
                <a:xfrm rot="111600">
                  <a:off x="2863440" y="1431000"/>
                  <a:ext cx="4320" cy="35280"/>
                </a:xfrm>
                <a:custGeom>
                  <a:avLst/>
                  <a:gdLst>
                    <a:gd name="textAreaLeft" fmla="*/ 0 w 4320"/>
                    <a:gd name="textAreaRight" fmla="*/ 4320 w 4320"/>
                    <a:gd name="textAreaTop" fmla="*/ 0 h 35280"/>
                    <a:gd name="textAreaBottom" fmla="*/ 35640 h 35280"/>
                  </a:gdLst>
                  <a:ahLst/>
                  <a:rect l="textAreaLeft" t="textAreaTop" r="textAreaRight" b="textAreaBottom"/>
                  <a:pathLst>
                    <a:path w="45" h="267">
                      <a:moveTo>
                        <a:pt x="34" y="0"/>
                      </a:moveTo>
                      <a:lnTo>
                        <a:pt x="34" y="0"/>
                      </a:lnTo>
                      <a:lnTo>
                        <a:pt x="12" y="66"/>
                      </a:lnTo>
                      <a:lnTo>
                        <a:pt x="12" y="133"/>
                      </a:lnTo>
                      <a:lnTo>
                        <a:pt x="12" y="200"/>
                      </a:lnTo>
                      <a:lnTo>
                        <a:pt x="0" y="267"/>
                      </a:lnTo>
                      <a:lnTo>
                        <a:pt x="23" y="267"/>
                      </a:lnTo>
                      <a:lnTo>
                        <a:pt x="34" y="200"/>
                      </a:lnTo>
                      <a:lnTo>
                        <a:pt x="34" y="133"/>
                      </a:lnTo>
                      <a:lnTo>
                        <a:pt x="34" y="66"/>
                      </a:lnTo>
                      <a:lnTo>
                        <a:pt x="45" y="0"/>
                      </a:lnTo>
                      <a:lnTo>
                        <a:pt x="34" y="0"/>
                      </a:lnTo>
                      <a:close/>
                    </a:path>
                  </a:pathLst>
                </a:custGeom>
                <a:solidFill>
                  <a:srgbClr val="00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Freeform 1069"/>
                <p:cNvSpPr/>
                <p:nvPr/>
              </p:nvSpPr>
              <p:spPr>
                <a:xfrm rot="111600">
                  <a:off x="2867760" y="1400040"/>
                  <a:ext cx="32400" cy="30960"/>
                </a:xfrm>
                <a:custGeom>
                  <a:avLst/>
                  <a:gdLst>
                    <a:gd name="textAreaLeft" fmla="*/ 0 w 32400"/>
                    <a:gd name="textAreaRight" fmla="*/ 32760 w 32400"/>
                    <a:gd name="textAreaTop" fmla="*/ 0 h 30960"/>
                    <a:gd name="textAreaBottom" fmla="*/ 31320 h 30960"/>
                  </a:gdLst>
                  <a:ahLst/>
                  <a:rect l="textAreaLeft" t="textAreaTop" r="textAreaRight" b="textAreaBottom"/>
                  <a:pathLst>
                    <a:path w="334" h="235">
                      <a:moveTo>
                        <a:pt x="323" y="12"/>
                      </a:moveTo>
                      <a:lnTo>
                        <a:pt x="334" y="0"/>
                      </a:lnTo>
                      <a:lnTo>
                        <a:pt x="301" y="0"/>
                      </a:lnTo>
                      <a:lnTo>
                        <a:pt x="279" y="0"/>
                      </a:lnTo>
                      <a:lnTo>
                        <a:pt x="256" y="12"/>
                      </a:lnTo>
                      <a:lnTo>
                        <a:pt x="234" y="23"/>
                      </a:lnTo>
                      <a:lnTo>
                        <a:pt x="201" y="34"/>
                      </a:lnTo>
                      <a:lnTo>
                        <a:pt x="178" y="45"/>
                      </a:lnTo>
                      <a:lnTo>
                        <a:pt x="156" y="56"/>
                      </a:lnTo>
                      <a:lnTo>
                        <a:pt x="134" y="67"/>
                      </a:lnTo>
                      <a:lnTo>
                        <a:pt x="111" y="90"/>
                      </a:lnTo>
                      <a:lnTo>
                        <a:pt x="89" y="101"/>
                      </a:lnTo>
                      <a:lnTo>
                        <a:pt x="67" y="123"/>
                      </a:lnTo>
                      <a:lnTo>
                        <a:pt x="56" y="145"/>
                      </a:lnTo>
                      <a:lnTo>
                        <a:pt x="33" y="168"/>
                      </a:lnTo>
                      <a:lnTo>
                        <a:pt x="22" y="190"/>
                      </a:lnTo>
                      <a:lnTo>
                        <a:pt x="11" y="212"/>
                      </a:lnTo>
                      <a:lnTo>
                        <a:pt x="0" y="235"/>
                      </a:lnTo>
                      <a:lnTo>
                        <a:pt x="11" y="235"/>
                      </a:lnTo>
                      <a:lnTo>
                        <a:pt x="22" y="212"/>
                      </a:lnTo>
                      <a:lnTo>
                        <a:pt x="33" y="201"/>
                      </a:lnTo>
                      <a:lnTo>
                        <a:pt x="44" y="179"/>
                      </a:lnTo>
                      <a:lnTo>
                        <a:pt x="67" y="156"/>
                      </a:lnTo>
                      <a:lnTo>
                        <a:pt x="78" y="134"/>
                      </a:lnTo>
                      <a:lnTo>
                        <a:pt x="100" y="123"/>
                      </a:lnTo>
                      <a:lnTo>
                        <a:pt x="122" y="101"/>
                      </a:lnTo>
                      <a:lnTo>
                        <a:pt x="145" y="90"/>
                      </a:lnTo>
                      <a:lnTo>
                        <a:pt x="167" y="67"/>
                      </a:lnTo>
                      <a:lnTo>
                        <a:pt x="189" y="56"/>
                      </a:lnTo>
                      <a:lnTo>
                        <a:pt x="212" y="45"/>
                      </a:lnTo>
                      <a:lnTo>
                        <a:pt x="234" y="34"/>
                      </a:lnTo>
                      <a:lnTo>
                        <a:pt x="256" y="34"/>
                      </a:lnTo>
                      <a:lnTo>
                        <a:pt x="279" y="23"/>
                      </a:lnTo>
                      <a:lnTo>
                        <a:pt x="301" y="23"/>
                      </a:lnTo>
                      <a:lnTo>
                        <a:pt x="334" y="23"/>
                      </a:lnTo>
                      <a:lnTo>
                        <a:pt x="334" y="12"/>
                      </a:lnTo>
                      <a:lnTo>
                        <a:pt x="323" y="12"/>
                      </a:lnTo>
                      <a:close/>
                    </a:path>
                  </a:pathLst>
                </a:custGeom>
                <a:solidFill>
                  <a:srgbClr val="000000"/>
                </a:solidFill>
                <a:ln w="0">
                  <a:noFill/>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1068"/>
                <p:cNvSpPr/>
                <p:nvPr/>
              </p:nvSpPr>
              <p:spPr>
                <a:xfrm rot="111600">
                  <a:off x="2900160" y="1390320"/>
                  <a:ext cx="3240" cy="11880"/>
                </a:xfrm>
                <a:custGeom>
                  <a:avLst/>
                  <a:gdLst>
                    <a:gd name="textAreaLeft" fmla="*/ 0 w 3240"/>
                    <a:gd name="textAreaRight" fmla="*/ 3600 w 3240"/>
                    <a:gd name="textAreaTop" fmla="*/ 0 h 11880"/>
                    <a:gd name="textAreaBottom" fmla="*/ 12240 h 11880"/>
                  </a:gdLst>
                  <a:ahLst/>
                  <a:rect l="textAreaLeft" t="textAreaTop" r="textAreaRight" b="textAreaBottom"/>
                  <a:pathLst>
                    <a:path w="34" h="90">
                      <a:moveTo>
                        <a:pt x="34" y="0"/>
                      </a:moveTo>
                      <a:lnTo>
                        <a:pt x="22" y="0"/>
                      </a:lnTo>
                      <a:lnTo>
                        <a:pt x="11" y="23"/>
                      </a:lnTo>
                      <a:lnTo>
                        <a:pt x="0" y="45"/>
                      </a:lnTo>
                      <a:lnTo>
                        <a:pt x="0" y="67"/>
                      </a:lnTo>
                      <a:lnTo>
                        <a:pt x="0" y="90"/>
                      </a:lnTo>
                      <a:lnTo>
                        <a:pt x="11" y="90"/>
                      </a:lnTo>
                      <a:lnTo>
                        <a:pt x="22" y="78"/>
                      </a:lnTo>
                      <a:lnTo>
                        <a:pt x="22" y="56"/>
                      </a:lnTo>
                      <a:lnTo>
                        <a:pt x="34" y="34"/>
                      </a:lnTo>
                      <a:lnTo>
                        <a:pt x="34" y="23"/>
                      </a:lnTo>
                      <a:lnTo>
                        <a:pt x="34" y="0"/>
                      </a:lnTo>
                      <a:close/>
                    </a:path>
                  </a:pathLst>
                </a:cu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Freeform 1067"/>
                <p:cNvSpPr/>
                <p:nvPr/>
              </p:nvSpPr>
              <p:spPr>
                <a:xfrm rot="111600">
                  <a:off x="2903400" y="1388880"/>
                  <a:ext cx="21600" cy="4320"/>
                </a:xfrm>
                <a:custGeom>
                  <a:avLst/>
                  <a:gdLst>
                    <a:gd name="textAreaLeft" fmla="*/ 0 w 21600"/>
                    <a:gd name="textAreaRight" fmla="*/ 21960 w 21600"/>
                    <a:gd name="textAreaTop" fmla="*/ 0 h 4320"/>
                    <a:gd name="textAreaBottom" fmla="*/ 4680 h 4320"/>
                  </a:gdLst>
                  <a:ahLst/>
                  <a:rect l="textAreaLeft" t="textAreaTop" r="textAreaRight" b="textAreaBottom"/>
                  <a:pathLst>
                    <a:path w="222" h="34">
                      <a:moveTo>
                        <a:pt x="200" y="11"/>
                      </a:moveTo>
                      <a:lnTo>
                        <a:pt x="200" y="0"/>
                      </a:lnTo>
                      <a:lnTo>
                        <a:pt x="178" y="0"/>
                      </a:lnTo>
                      <a:lnTo>
                        <a:pt x="144" y="0"/>
                      </a:lnTo>
                      <a:lnTo>
                        <a:pt x="111" y="11"/>
                      </a:lnTo>
                      <a:lnTo>
                        <a:pt x="66" y="11"/>
                      </a:lnTo>
                      <a:lnTo>
                        <a:pt x="33" y="11"/>
                      </a:lnTo>
                      <a:lnTo>
                        <a:pt x="11" y="11"/>
                      </a:lnTo>
                      <a:lnTo>
                        <a:pt x="0" y="11"/>
                      </a:lnTo>
                      <a:lnTo>
                        <a:pt x="0" y="34"/>
                      </a:lnTo>
                      <a:lnTo>
                        <a:pt x="11" y="34"/>
                      </a:lnTo>
                      <a:lnTo>
                        <a:pt x="33" y="23"/>
                      </a:lnTo>
                      <a:lnTo>
                        <a:pt x="66" y="23"/>
                      </a:lnTo>
                      <a:lnTo>
                        <a:pt x="111" y="23"/>
                      </a:lnTo>
                      <a:lnTo>
                        <a:pt x="144" y="23"/>
                      </a:lnTo>
                      <a:lnTo>
                        <a:pt x="178" y="23"/>
                      </a:lnTo>
                      <a:lnTo>
                        <a:pt x="200" y="23"/>
                      </a:lnTo>
                      <a:lnTo>
                        <a:pt x="211" y="23"/>
                      </a:lnTo>
                      <a:lnTo>
                        <a:pt x="222" y="11"/>
                      </a:lnTo>
                      <a:lnTo>
                        <a:pt x="200"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Freeform 1066"/>
                <p:cNvSpPr/>
                <p:nvPr/>
              </p:nvSpPr>
              <p:spPr>
                <a:xfrm rot="111600">
                  <a:off x="2921040" y="1377720"/>
                  <a:ext cx="3960" cy="12960"/>
                </a:xfrm>
                <a:custGeom>
                  <a:avLst/>
                  <a:gdLst>
                    <a:gd name="textAreaLeft" fmla="*/ 0 w 3960"/>
                    <a:gd name="textAreaRight" fmla="*/ 4320 w 3960"/>
                    <a:gd name="textAreaTop" fmla="*/ 0 h 12960"/>
                    <a:gd name="textAreaBottom" fmla="*/ 13320 h 12960"/>
                  </a:gdLst>
                  <a:ahLst/>
                  <a:rect l="textAreaLeft" t="textAreaTop" r="textAreaRight" b="textAreaBottom"/>
                  <a:pathLst>
                    <a:path w="44" h="100">
                      <a:moveTo>
                        <a:pt x="11" y="0"/>
                      </a:moveTo>
                      <a:lnTo>
                        <a:pt x="0" y="11"/>
                      </a:lnTo>
                      <a:lnTo>
                        <a:pt x="11" y="45"/>
                      </a:lnTo>
                      <a:lnTo>
                        <a:pt x="11" y="67"/>
                      </a:lnTo>
                      <a:lnTo>
                        <a:pt x="22" y="78"/>
                      </a:lnTo>
                      <a:lnTo>
                        <a:pt x="22" y="100"/>
                      </a:lnTo>
                      <a:lnTo>
                        <a:pt x="44" y="100"/>
                      </a:lnTo>
                      <a:lnTo>
                        <a:pt x="44" y="78"/>
                      </a:lnTo>
                      <a:lnTo>
                        <a:pt x="33" y="56"/>
                      </a:lnTo>
                      <a:lnTo>
                        <a:pt x="33" y="34"/>
                      </a:lnTo>
                      <a:lnTo>
                        <a:pt x="11" y="0"/>
                      </a:lnTo>
                      <a:lnTo>
                        <a:pt x="11" y="11"/>
                      </a:lnTo>
                      <a:lnTo>
                        <a:pt x="11" y="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Freeform 1065"/>
                <p:cNvSpPr/>
                <p:nvPr/>
              </p:nvSpPr>
              <p:spPr>
                <a:xfrm rot="111600">
                  <a:off x="2922120" y="1378080"/>
                  <a:ext cx="28080" cy="17640"/>
                </a:xfrm>
                <a:custGeom>
                  <a:avLst/>
                  <a:gdLst>
                    <a:gd name="textAreaLeft" fmla="*/ 0 w 28080"/>
                    <a:gd name="textAreaRight" fmla="*/ 28440 w 28080"/>
                    <a:gd name="textAreaTop" fmla="*/ 0 h 17640"/>
                    <a:gd name="textAreaBottom" fmla="*/ 18000 h 17640"/>
                  </a:gdLst>
                  <a:ahLst/>
                  <a:rect l="textAreaLeft" t="textAreaTop" r="textAreaRight" b="textAreaBottom"/>
                  <a:pathLst>
                    <a:path w="290" h="134">
                      <a:moveTo>
                        <a:pt x="279" y="112"/>
                      </a:moveTo>
                      <a:lnTo>
                        <a:pt x="290" y="112"/>
                      </a:lnTo>
                      <a:lnTo>
                        <a:pt x="267" y="100"/>
                      </a:lnTo>
                      <a:lnTo>
                        <a:pt x="256" y="89"/>
                      </a:lnTo>
                      <a:lnTo>
                        <a:pt x="245" y="78"/>
                      </a:lnTo>
                      <a:lnTo>
                        <a:pt x="223" y="67"/>
                      </a:lnTo>
                      <a:lnTo>
                        <a:pt x="212" y="56"/>
                      </a:lnTo>
                      <a:lnTo>
                        <a:pt x="189" y="45"/>
                      </a:lnTo>
                      <a:lnTo>
                        <a:pt x="167" y="45"/>
                      </a:lnTo>
                      <a:lnTo>
                        <a:pt x="145" y="34"/>
                      </a:lnTo>
                      <a:lnTo>
                        <a:pt x="134" y="22"/>
                      </a:lnTo>
                      <a:lnTo>
                        <a:pt x="111" y="22"/>
                      </a:lnTo>
                      <a:lnTo>
                        <a:pt x="89" y="11"/>
                      </a:lnTo>
                      <a:lnTo>
                        <a:pt x="67" y="11"/>
                      </a:lnTo>
                      <a:lnTo>
                        <a:pt x="56" y="0"/>
                      </a:lnTo>
                      <a:lnTo>
                        <a:pt x="33" y="0"/>
                      </a:lnTo>
                      <a:lnTo>
                        <a:pt x="11" y="0"/>
                      </a:lnTo>
                      <a:lnTo>
                        <a:pt x="0" y="0"/>
                      </a:lnTo>
                      <a:lnTo>
                        <a:pt x="0" y="11"/>
                      </a:lnTo>
                      <a:lnTo>
                        <a:pt x="11" y="11"/>
                      </a:lnTo>
                      <a:lnTo>
                        <a:pt x="33" y="22"/>
                      </a:lnTo>
                      <a:lnTo>
                        <a:pt x="45" y="22"/>
                      </a:lnTo>
                      <a:lnTo>
                        <a:pt x="67" y="22"/>
                      </a:lnTo>
                      <a:lnTo>
                        <a:pt x="89" y="34"/>
                      </a:lnTo>
                      <a:lnTo>
                        <a:pt x="100" y="34"/>
                      </a:lnTo>
                      <a:lnTo>
                        <a:pt x="123" y="45"/>
                      </a:lnTo>
                      <a:lnTo>
                        <a:pt x="145" y="56"/>
                      </a:lnTo>
                      <a:lnTo>
                        <a:pt x="167" y="56"/>
                      </a:lnTo>
                      <a:lnTo>
                        <a:pt x="178" y="67"/>
                      </a:lnTo>
                      <a:lnTo>
                        <a:pt x="201" y="78"/>
                      </a:lnTo>
                      <a:lnTo>
                        <a:pt x="212" y="89"/>
                      </a:lnTo>
                      <a:lnTo>
                        <a:pt x="234" y="100"/>
                      </a:lnTo>
                      <a:lnTo>
                        <a:pt x="245" y="112"/>
                      </a:lnTo>
                      <a:lnTo>
                        <a:pt x="256" y="123"/>
                      </a:lnTo>
                      <a:lnTo>
                        <a:pt x="267" y="134"/>
                      </a:lnTo>
                      <a:lnTo>
                        <a:pt x="279" y="134"/>
                      </a:lnTo>
                      <a:lnTo>
                        <a:pt x="279" y="112"/>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Freeform 1064"/>
                <p:cNvSpPr/>
                <p:nvPr/>
              </p:nvSpPr>
              <p:spPr>
                <a:xfrm rot="111600">
                  <a:off x="2949480" y="1383840"/>
                  <a:ext cx="28080" cy="12960"/>
                </a:xfrm>
                <a:custGeom>
                  <a:avLst/>
                  <a:gdLst>
                    <a:gd name="textAreaLeft" fmla="*/ 0 w 28080"/>
                    <a:gd name="textAreaRight" fmla="*/ 28440 w 28080"/>
                    <a:gd name="textAreaTop" fmla="*/ 0 h 12960"/>
                    <a:gd name="textAreaBottom" fmla="*/ 13320 h 12960"/>
                  </a:gdLst>
                  <a:ahLst/>
                  <a:rect l="textAreaLeft" t="textAreaTop" r="textAreaRight" b="textAreaBottom"/>
                  <a:pathLst>
                    <a:path w="289" h="100">
                      <a:moveTo>
                        <a:pt x="289" y="11"/>
                      </a:moveTo>
                      <a:lnTo>
                        <a:pt x="278" y="0"/>
                      </a:lnTo>
                      <a:lnTo>
                        <a:pt x="256" y="0"/>
                      </a:lnTo>
                      <a:lnTo>
                        <a:pt x="234" y="0"/>
                      </a:lnTo>
                      <a:lnTo>
                        <a:pt x="223" y="0"/>
                      </a:lnTo>
                      <a:lnTo>
                        <a:pt x="200" y="0"/>
                      </a:lnTo>
                      <a:lnTo>
                        <a:pt x="178" y="0"/>
                      </a:lnTo>
                      <a:lnTo>
                        <a:pt x="167" y="11"/>
                      </a:lnTo>
                      <a:lnTo>
                        <a:pt x="145" y="11"/>
                      </a:lnTo>
                      <a:lnTo>
                        <a:pt x="122" y="11"/>
                      </a:lnTo>
                      <a:lnTo>
                        <a:pt x="111" y="22"/>
                      </a:lnTo>
                      <a:lnTo>
                        <a:pt x="89" y="33"/>
                      </a:lnTo>
                      <a:lnTo>
                        <a:pt x="78" y="33"/>
                      </a:lnTo>
                      <a:lnTo>
                        <a:pt x="55" y="44"/>
                      </a:lnTo>
                      <a:lnTo>
                        <a:pt x="44" y="55"/>
                      </a:lnTo>
                      <a:lnTo>
                        <a:pt x="33" y="66"/>
                      </a:lnTo>
                      <a:lnTo>
                        <a:pt x="11" y="78"/>
                      </a:lnTo>
                      <a:lnTo>
                        <a:pt x="0" y="78"/>
                      </a:lnTo>
                      <a:lnTo>
                        <a:pt x="0" y="100"/>
                      </a:lnTo>
                      <a:lnTo>
                        <a:pt x="22" y="89"/>
                      </a:lnTo>
                      <a:lnTo>
                        <a:pt x="33" y="78"/>
                      </a:lnTo>
                      <a:lnTo>
                        <a:pt x="55" y="66"/>
                      </a:lnTo>
                      <a:lnTo>
                        <a:pt x="67" y="55"/>
                      </a:lnTo>
                      <a:lnTo>
                        <a:pt x="89" y="55"/>
                      </a:lnTo>
                      <a:lnTo>
                        <a:pt x="100" y="44"/>
                      </a:lnTo>
                      <a:lnTo>
                        <a:pt x="122" y="44"/>
                      </a:lnTo>
                      <a:lnTo>
                        <a:pt x="133" y="33"/>
                      </a:lnTo>
                      <a:lnTo>
                        <a:pt x="156" y="33"/>
                      </a:lnTo>
                      <a:lnTo>
                        <a:pt x="167" y="22"/>
                      </a:lnTo>
                      <a:lnTo>
                        <a:pt x="189" y="22"/>
                      </a:lnTo>
                      <a:lnTo>
                        <a:pt x="200" y="22"/>
                      </a:lnTo>
                      <a:lnTo>
                        <a:pt x="223" y="11"/>
                      </a:lnTo>
                      <a:lnTo>
                        <a:pt x="234" y="11"/>
                      </a:lnTo>
                      <a:lnTo>
                        <a:pt x="256" y="11"/>
                      </a:lnTo>
                      <a:lnTo>
                        <a:pt x="278" y="11"/>
                      </a:lnTo>
                      <a:lnTo>
                        <a:pt x="267" y="11"/>
                      </a:lnTo>
                      <a:lnTo>
                        <a:pt x="289" y="11"/>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1063"/>
                <p:cNvSpPr/>
                <p:nvPr/>
              </p:nvSpPr>
              <p:spPr>
                <a:xfrm rot="111600">
                  <a:off x="2973240" y="1385640"/>
                  <a:ext cx="3960" cy="8640"/>
                </a:xfrm>
                <a:custGeom>
                  <a:avLst/>
                  <a:gdLst>
                    <a:gd name="textAreaLeft" fmla="*/ 0 w 3960"/>
                    <a:gd name="textAreaRight" fmla="*/ 4320 w 3960"/>
                    <a:gd name="textAreaTop" fmla="*/ 0 h 8640"/>
                    <a:gd name="textAreaBottom" fmla="*/ 9000 h 8640"/>
                  </a:gdLst>
                  <a:ahLst/>
                  <a:rect l="textAreaLeft" t="textAreaTop" r="textAreaRight" b="textAreaBottom"/>
                  <a:pathLst>
                    <a:path w="44" h="67">
                      <a:moveTo>
                        <a:pt x="0" y="44"/>
                      </a:moveTo>
                      <a:lnTo>
                        <a:pt x="11" y="55"/>
                      </a:lnTo>
                      <a:lnTo>
                        <a:pt x="22" y="44"/>
                      </a:lnTo>
                      <a:lnTo>
                        <a:pt x="33" y="22"/>
                      </a:lnTo>
                      <a:lnTo>
                        <a:pt x="44" y="11"/>
                      </a:lnTo>
                      <a:lnTo>
                        <a:pt x="44" y="0"/>
                      </a:lnTo>
                      <a:lnTo>
                        <a:pt x="22" y="0"/>
                      </a:lnTo>
                      <a:lnTo>
                        <a:pt x="11" y="11"/>
                      </a:lnTo>
                      <a:lnTo>
                        <a:pt x="0" y="33"/>
                      </a:lnTo>
                      <a:lnTo>
                        <a:pt x="0" y="55"/>
                      </a:lnTo>
                      <a:lnTo>
                        <a:pt x="0" y="67"/>
                      </a:lnTo>
                      <a:lnTo>
                        <a:pt x="0" y="44"/>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1062"/>
                <p:cNvSpPr/>
                <p:nvPr/>
              </p:nvSpPr>
              <p:spPr>
                <a:xfrm rot="111600">
                  <a:off x="2973240" y="1391400"/>
                  <a:ext cx="15120" cy="2880"/>
                </a:xfrm>
                <a:custGeom>
                  <a:avLst/>
                  <a:gdLst>
                    <a:gd name="textAreaLeft" fmla="*/ 0 w 15120"/>
                    <a:gd name="textAreaRight" fmla="*/ 15480 w 15120"/>
                    <a:gd name="textAreaTop" fmla="*/ 0 h 2880"/>
                    <a:gd name="textAreaBottom" fmla="*/ 3240 h 2880"/>
                  </a:gdLst>
                  <a:ahLst/>
                  <a:rect l="textAreaLeft" t="textAreaTop" r="textAreaRight" b="textAreaBottom"/>
                  <a:pathLst>
                    <a:path w="156" h="23">
                      <a:moveTo>
                        <a:pt x="156" y="0"/>
                      </a:moveTo>
                      <a:lnTo>
                        <a:pt x="156" y="0"/>
                      </a:lnTo>
                      <a:lnTo>
                        <a:pt x="134" y="0"/>
                      </a:lnTo>
                      <a:lnTo>
                        <a:pt x="122" y="0"/>
                      </a:lnTo>
                      <a:lnTo>
                        <a:pt x="100" y="0"/>
                      </a:lnTo>
                      <a:lnTo>
                        <a:pt x="78" y="0"/>
                      </a:lnTo>
                      <a:lnTo>
                        <a:pt x="56" y="0"/>
                      </a:lnTo>
                      <a:lnTo>
                        <a:pt x="33" y="0"/>
                      </a:lnTo>
                      <a:lnTo>
                        <a:pt x="22" y="0"/>
                      </a:lnTo>
                      <a:lnTo>
                        <a:pt x="0" y="0"/>
                      </a:lnTo>
                      <a:lnTo>
                        <a:pt x="0" y="23"/>
                      </a:lnTo>
                      <a:lnTo>
                        <a:pt x="22" y="23"/>
                      </a:lnTo>
                      <a:lnTo>
                        <a:pt x="33" y="23"/>
                      </a:lnTo>
                      <a:lnTo>
                        <a:pt x="56" y="23"/>
                      </a:lnTo>
                      <a:lnTo>
                        <a:pt x="78" y="23"/>
                      </a:lnTo>
                      <a:lnTo>
                        <a:pt x="100" y="23"/>
                      </a:lnTo>
                      <a:lnTo>
                        <a:pt x="122" y="23"/>
                      </a:lnTo>
                      <a:lnTo>
                        <a:pt x="134" y="23"/>
                      </a:lnTo>
                      <a:lnTo>
                        <a:pt x="156" y="23"/>
                      </a:lnTo>
                      <a:lnTo>
                        <a:pt x="156"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1061"/>
                <p:cNvSpPr/>
                <p:nvPr/>
              </p:nvSpPr>
              <p:spPr>
                <a:xfrm rot="111600">
                  <a:off x="2988360" y="1391760"/>
                  <a:ext cx="15120" cy="17640"/>
                </a:xfrm>
                <a:custGeom>
                  <a:avLst/>
                  <a:gdLst>
                    <a:gd name="textAreaLeft" fmla="*/ 0 w 15120"/>
                    <a:gd name="textAreaRight" fmla="*/ 15480 w 15120"/>
                    <a:gd name="textAreaTop" fmla="*/ 0 h 17640"/>
                    <a:gd name="textAreaBottom" fmla="*/ 18000 h 17640"/>
                  </a:gdLst>
                  <a:ahLst/>
                  <a:rect l="textAreaLeft" t="textAreaTop" r="textAreaRight" b="textAreaBottom"/>
                  <a:pathLst>
                    <a:path w="156" h="134">
                      <a:moveTo>
                        <a:pt x="156" y="123"/>
                      </a:moveTo>
                      <a:lnTo>
                        <a:pt x="156" y="123"/>
                      </a:lnTo>
                      <a:lnTo>
                        <a:pt x="145" y="89"/>
                      </a:lnTo>
                      <a:lnTo>
                        <a:pt x="122" y="67"/>
                      </a:lnTo>
                      <a:lnTo>
                        <a:pt x="111" y="56"/>
                      </a:lnTo>
                      <a:lnTo>
                        <a:pt x="89" y="34"/>
                      </a:lnTo>
                      <a:lnTo>
                        <a:pt x="78" y="23"/>
                      </a:lnTo>
                      <a:lnTo>
                        <a:pt x="56" y="23"/>
                      </a:lnTo>
                      <a:lnTo>
                        <a:pt x="33" y="11"/>
                      </a:lnTo>
                      <a:lnTo>
                        <a:pt x="0" y="0"/>
                      </a:lnTo>
                      <a:lnTo>
                        <a:pt x="0" y="23"/>
                      </a:lnTo>
                      <a:lnTo>
                        <a:pt x="22" y="34"/>
                      </a:lnTo>
                      <a:lnTo>
                        <a:pt x="56" y="34"/>
                      </a:lnTo>
                      <a:lnTo>
                        <a:pt x="67" y="45"/>
                      </a:lnTo>
                      <a:lnTo>
                        <a:pt x="89" y="56"/>
                      </a:lnTo>
                      <a:lnTo>
                        <a:pt x="100" y="67"/>
                      </a:lnTo>
                      <a:lnTo>
                        <a:pt x="111" y="78"/>
                      </a:lnTo>
                      <a:lnTo>
                        <a:pt x="122" y="101"/>
                      </a:lnTo>
                      <a:lnTo>
                        <a:pt x="145" y="134"/>
                      </a:lnTo>
                      <a:lnTo>
                        <a:pt x="156" y="123"/>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060"/>
                <p:cNvSpPr/>
                <p:nvPr/>
              </p:nvSpPr>
              <p:spPr>
                <a:xfrm rot="111600">
                  <a:off x="3001680" y="1408320"/>
                  <a:ext cx="15120" cy="14400"/>
                </a:xfrm>
                <a:custGeom>
                  <a:avLst/>
                  <a:gdLst>
                    <a:gd name="textAreaLeft" fmla="*/ 0 w 15120"/>
                    <a:gd name="textAreaRight" fmla="*/ 15480 w 15120"/>
                    <a:gd name="textAreaTop" fmla="*/ 0 h 14400"/>
                    <a:gd name="textAreaBottom" fmla="*/ 14760 h 14400"/>
                  </a:gdLst>
                  <a:ahLst/>
                  <a:rect l="textAreaLeft" t="textAreaTop" r="textAreaRight" b="textAreaBottom"/>
                  <a:pathLst>
                    <a:path w="156" h="111">
                      <a:moveTo>
                        <a:pt x="156" y="100"/>
                      </a:moveTo>
                      <a:lnTo>
                        <a:pt x="156" y="100"/>
                      </a:lnTo>
                      <a:lnTo>
                        <a:pt x="145" y="89"/>
                      </a:lnTo>
                      <a:lnTo>
                        <a:pt x="122" y="67"/>
                      </a:lnTo>
                      <a:lnTo>
                        <a:pt x="100" y="56"/>
                      </a:lnTo>
                      <a:lnTo>
                        <a:pt x="78" y="33"/>
                      </a:lnTo>
                      <a:lnTo>
                        <a:pt x="55" y="22"/>
                      </a:lnTo>
                      <a:lnTo>
                        <a:pt x="33" y="11"/>
                      </a:lnTo>
                      <a:lnTo>
                        <a:pt x="22" y="11"/>
                      </a:lnTo>
                      <a:lnTo>
                        <a:pt x="11" y="0"/>
                      </a:lnTo>
                      <a:lnTo>
                        <a:pt x="0" y="11"/>
                      </a:lnTo>
                      <a:lnTo>
                        <a:pt x="11" y="22"/>
                      </a:lnTo>
                      <a:lnTo>
                        <a:pt x="22" y="33"/>
                      </a:lnTo>
                      <a:lnTo>
                        <a:pt x="44" y="44"/>
                      </a:lnTo>
                      <a:lnTo>
                        <a:pt x="67" y="56"/>
                      </a:lnTo>
                      <a:lnTo>
                        <a:pt x="100" y="67"/>
                      </a:lnTo>
                      <a:lnTo>
                        <a:pt x="111" y="78"/>
                      </a:lnTo>
                      <a:lnTo>
                        <a:pt x="133" y="100"/>
                      </a:lnTo>
                      <a:lnTo>
                        <a:pt x="145" y="111"/>
                      </a:lnTo>
                      <a:lnTo>
                        <a:pt x="156" y="100"/>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1059"/>
                <p:cNvSpPr/>
                <p:nvPr/>
              </p:nvSpPr>
              <p:spPr>
                <a:xfrm rot="111600">
                  <a:off x="3014280" y="1422360"/>
                  <a:ext cx="3240" cy="21960"/>
                </a:xfrm>
                <a:custGeom>
                  <a:avLst/>
                  <a:gdLst>
                    <a:gd name="textAreaLeft" fmla="*/ 0 w 3240"/>
                    <a:gd name="textAreaRight" fmla="*/ 3600 w 3240"/>
                    <a:gd name="textAreaTop" fmla="*/ 0 h 21960"/>
                    <a:gd name="textAreaBottom" fmla="*/ 22320 h 21960"/>
                  </a:gdLst>
                  <a:ahLst/>
                  <a:rect l="textAreaLeft" t="textAreaTop" r="textAreaRight" b="textAreaBottom"/>
                  <a:pathLst>
                    <a:path w="34" h="167">
                      <a:moveTo>
                        <a:pt x="12" y="145"/>
                      </a:moveTo>
                      <a:lnTo>
                        <a:pt x="23" y="156"/>
                      </a:lnTo>
                      <a:lnTo>
                        <a:pt x="23" y="123"/>
                      </a:lnTo>
                      <a:lnTo>
                        <a:pt x="34" y="78"/>
                      </a:lnTo>
                      <a:lnTo>
                        <a:pt x="34" y="45"/>
                      </a:lnTo>
                      <a:lnTo>
                        <a:pt x="23" y="0"/>
                      </a:lnTo>
                      <a:lnTo>
                        <a:pt x="12" y="11"/>
                      </a:lnTo>
                      <a:lnTo>
                        <a:pt x="12" y="45"/>
                      </a:lnTo>
                      <a:lnTo>
                        <a:pt x="12" y="78"/>
                      </a:lnTo>
                      <a:lnTo>
                        <a:pt x="0" y="123"/>
                      </a:lnTo>
                      <a:lnTo>
                        <a:pt x="0" y="156"/>
                      </a:lnTo>
                      <a:lnTo>
                        <a:pt x="12" y="167"/>
                      </a:lnTo>
                      <a:lnTo>
                        <a:pt x="12" y="145"/>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Freeform 1058"/>
                <p:cNvSpPr/>
                <p:nvPr/>
              </p:nvSpPr>
              <p:spPr>
                <a:xfrm rot="111600">
                  <a:off x="3015000" y="1441800"/>
                  <a:ext cx="3960" cy="5760"/>
                </a:xfrm>
                <a:custGeom>
                  <a:avLst/>
                  <a:gdLst>
                    <a:gd name="textAreaLeft" fmla="*/ 0 w 3960"/>
                    <a:gd name="textAreaRight" fmla="*/ 4320 w 3960"/>
                    <a:gd name="textAreaTop" fmla="*/ 0 h 5760"/>
                    <a:gd name="textAreaBottom" fmla="*/ 6120 h 5760"/>
                  </a:gdLst>
                  <a:ahLst/>
                  <a:rect l="textAreaLeft" t="textAreaTop" r="textAreaRight" b="textAreaBottom"/>
                  <a:pathLst>
                    <a:path w="44" h="45">
                      <a:moveTo>
                        <a:pt x="44" y="34"/>
                      </a:moveTo>
                      <a:lnTo>
                        <a:pt x="33" y="34"/>
                      </a:lnTo>
                      <a:lnTo>
                        <a:pt x="33" y="22"/>
                      </a:lnTo>
                      <a:lnTo>
                        <a:pt x="22" y="11"/>
                      </a:lnTo>
                      <a:lnTo>
                        <a:pt x="11" y="11"/>
                      </a:lnTo>
                      <a:lnTo>
                        <a:pt x="0" y="0"/>
                      </a:lnTo>
                      <a:lnTo>
                        <a:pt x="0" y="22"/>
                      </a:lnTo>
                      <a:lnTo>
                        <a:pt x="11" y="34"/>
                      </a:lnTo>
                      <a:lnTo>
                        <a:pt x="22" y="34"/>
                      </a:lnTo>
                      <a:lnTo>
                        <a:pt x="22" y="45"/>
                      </a:lnTo>
                      <a:lnTo>
                        <a:pt x="44" y="34"/>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Freeform 1057"/>
                <p:cNvSpPr/>
                <p:nvPr/>
              </p:nvSpPr>
              <p:spPr>
                <a:xfrm rot="111600">
                  <a:off x="3016440" y="1446120"/>
                  <a:ext cx="8640" cy="62280"/>
                </a:xfrm>
                <a:custGeom>
                  <a:avLst/>
                  <a:gdLst>
                    <a:gd name="textAreaLeft" fmla="*/ 0 w 8640"/>
                    <a:gd name="textAreaRight" fmla="*/ 9000 w 8640"/>
                    <a:gd name="textAreaTop" fmla="*/ 0 h 62280"/>
                    <a:gd name="textAreaBottom" fmla="*/ 62640 h 62280"/>
                  </a:gdLst>
                  <a:ahLst/>
                  <a:rect l="textAreaLeft" t="textAreaTop" r="textAreaRight" b="textAreaBottom"/>
                  <a:pathLst>
                    <a:path w="89" h="468">
                      <a:moveTo>
                        <a:pt x="78" y="468"/>
                      </a:moveTo>
                      <a:lnTo>
                        <a:pt x="78" y="468"/>
                      </a:lnTo>
                      <a:lnTo>
                        <a:pt x="89" y="412"/>
                      </a:lnTo>
                      <a:lnTo>
                        <a:pt x="89" y="356"/>
                      </a:lnTo>
                      <a:lnTo>
                        <a:pt x="89" y="289"/>
                      </a:lnTo>
                      <a:lnTo>
                        <a:pt x="89" y="222"/>
                      </a:lnTo>
                      <a:lnTo>
                        <a:pt x="78" y="156"/>
                      </a:lnTo>
                      <a:lnTo>
                        <a:pt x="67" y="100"/>
                      </a:lnTo>
                      <a:lnTo>
                        <a:pt x="45" y="44"/>
                      </a:lnTo>
                      <a:lnTo>
                        <a:pt x="22" y="0"/>
                      </a:lnTo>
                      <a:lnTo>
                        <a:pt x="0" y="11"/>
                      </a:lnTo>
                      <a:lnTo>
                        <a:pt x="33" y="55"/>
                      </a:lnTo>
                      <a:lnTo>
                        <a:pt x="45" y="100"/>
                      </a:lnTo>
                      <a:lnTo>
                        <a:pt x="67" y="167"/>
                      </a:lnTo>
                      <a:lnTo>
                        <a:pt x="78" y="222"/>
                      </a:lnTo>
                      <a:lnTo>
                        <a:pt x="78" y="289"/>
                      </a:lnTo>
                      <a:lnTo>
                        <a:pt x="78" y="356"/>
                      </a:lnTo>
                      <a:lnTo>
                        <a:pt x="67" y="412"/>
                      </a:lnTo>
                      <a:lnTo>
                        <a:pt x="56" y="468"/>
                      </a:lnTo>
                      <a:lnTo>
                        <a:pt x="78" y="468"/>
                      </a:lnTo>
                      <a:close/>
                    </a:path>
                  </a:pathLst>
                </a:custGeom>
                <a:solidFill>
                  <a:srgbClr val="000000"/>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Freeform 1056"/>
                <p:cNvSpPr/>
                <p:nvPr/>
              </p:nvSpPr>
              <p:spPr>
                <a:xfrm rot="111600">
                  <a:off x="3018240" y="1508760"/>
                  <a:ext cx="4320" cy="11520"/>
                </a:xfrm>
                <a:custGeom>
                  <a:avLst/>
                  <a:gdLst>
                    <a:gd name="textAreaLeft" fmla="*/ 0 w 4320"/>
                    <a:gd name="textAreaRight" fmla="*/ 4320 w 4320"/>
                    <a:gd name="textAreaTop" fmla="*/ 0 h 11520"/>
                    <a:gd name="textAreaBottom" fmla="*/ 11880 h 11520"/>
                  </a:gdLst>
                  <a:ahLst/>
                  <a:rect l="textAreaLeft" t="textAreaTop" r="textAreaRight" b="textAreaBottom"/>
                  <a:pathLst>
                    <a:path w="45" h="89">
                      <a:moveTo>
                        <a:pt x="0" y="89"/>
                      </a:moveTo>
                      <a:lnTo>
                        <a:pt x="12" y="89"/>
                      </a:lnTo>
                      <a:lnTo>
                        <a:pt x="23" y="78"/>
                      </a:lnTo>
                      <a:lnTo>
                        <a:pt x="34" y="55"/>
                      </a:lnTo>
                      <a:lnTo>
                        <a:pt x="34" y="33"/>
                      </a:lnTo>
                      <a:lnTo>
                        <a:pt x="45" y="0"/>
                      </a:lnTo>
                      <a:lnTo>
                        <a:pt x="23" y="0"/>
                      </a:lnTo>
                      <a:lnTo>
                        <a:pt x="23" y="33"/>
                      </a:lnTo>
                      <a:lnTo>
                        <a:pt x="12" y="44"/>
                      </a:lnTo>
                      <a:lnTo>
                        <a:pt x="12" y="67"/>
                      </a:lnTo>
                      <a:lnTo>
                        <a:pt x="0" y="78"/>
                      </a:lnTo>
                      <a:lnTo>
                        <a:pt x="0"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1055"/>
                <p:cNvSpPr/>
                <p:nvPr/>
              </p:nvSpPr>
              <p:spPr>
                <a:xfrm rot="111600">
                  <a:off x="3012480" y="1518840"/>
                  <a:ext cx="5040" cy="2880"/>
                </a:xfrm>
                <a:custGeom>
                  <a:avLst/>
                  <a:gdLst>
                    <a:gd name="textAreaLeft" fmla="*/ 0 w 5040"/>
                    <a:gd name="textAreaRight" fmla="*/ 5040 w 5040"/>
                    <a:gd name="textAreaTop" fmla="*/ 0 h 2880"/>
                    <a:gd name="textAreaBottom" fmla="*/ 3240 h 2880"/>
                  </a:gdLst>
                  <a:ahLst/>
                  <a:rect l="textAreaLeft" t="textAreaTop" r="textAreaRight" b="textAreaBottom"/>
                  <a:pathLst>
                    <a:path w="55" h="22">
                      <a:moveTo>
                        <a:pt x="0" y="22"/>
                      </a:moveTo>
                      <a:lnTo>
                        <a:pt x="0" y="22"/>
                      </a:lnTo>
                      <a:lnTo>
                        <a:pt x="11" y="22"/>
                      </a:lnTo>
                      <a:lnTo>
                        <a:pt x="22" y="22"/>
                      </a:lnTo>
                      <a:lnTo>
                        <a:pt x="33" y="22"/>
                      </a:lnTo>
                      <a:lnTo>
                        <a:pt x="44" y="22"/>
                      </a:lnTo>
                      <a:lnTo>
                        <a:pt x="44" y="11"/>
                      </a:lnTo>
                      <a:lnTo>
                        <a:pt x="55" y="11"/>
                      </a:lnTo>
                      <a:lnTo>
                        <a:pt x="55" y="0"/>
                      </a:lnTo>
                      <a:lnTo>
                        <a:pt x="44" y="0"/>
                      </a:lnTo>
                      <a:lnTo>
                        <a:pt x="33" y="0"/>
                      </a:lnTo>
                      <a:lnTo>
                        <a:pt x="22" y="0"/>
                      </a:lnTo>
                      <a:lnTo>
                        <a:pt x="11" y="0"/>
                      </a:lnTo>
                      <a:lnTo>
                        <a:pt x="0" y="0"/>
                      </a:lnTo>
                      <a:lnTo>
                        <a:pt x="0" y="22"/>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1054"/>
                <p:cNvSpPr/>
                <p:nvPr/>
              </p:nvSpPr>
              <p:spPr>
                <a:xfrm rot="111600">
                  <a:off x="2994480" y="1518120"/>
                  <a:ext cx="17280" cy="36720"/>
                </a:xfrm>
                <a:custGeom>
                  <a:avLst/>
                  <a:gdLst>
                    <a:gd name="textAreaLeft" fmla="*/ 0 w 17280"/>
                    <a:gd name="textAreaRight" fmla="*/ 17640 w 17280"/>
                    <a:gd name="textAreaTop" fmla="*/ 0 h 36720"/>
                    <a:gd name="textAreaBottom" fmla="*/ 36720 h 36720"/>
                  </a:gdLst>
                  <a:ahLst/>
                  <a:rect l="textAreaLeft" t="textAreaTop" r="textAreaRight" b="textAreaBottom"/>
                  <a:pathLst>
                    <a:path w="179" h="278">
                      <a:moveTo>
                        <a:pt x="0" y="278"/>
                      </a:moveTo>
                      <a:lnTo>
                        <a:pt x="23" y="278"/>
                      </a:lnTo>
                      <a:lnTo>
                        <a:pt x="34" y="245"/>
                      </a:lnTo>
                      <a:lnTo>
                        <a:pt x="56" y="200"/>
                      </a:lnTo>
                      <a:lnTo>
                        <a:pt x="67" y="167"/>
                      </a:lnTo>
                      <a:lnTo>
                        <a:pt x="78" y="122"/>
                      </a:lnTo>
                      <a:lnTo>
                        <a:pt x="101" y="89"/>
                      </a:lnTo>
                      <a:lnTo>
                        <a:pt x="123" y="55"/>
                      </a:lnTo>
                      <a:lnTo>
                        <a:pt x="145" y="33"/>
                      </a:lnTo>
                      <a:lnTo>
                        <a:pt x="179" y="22"/>
                      </a:lnTo>
                      <a:lnTo>
                        <a:pt x="179" y="0"/>
                      </a:lnTo>
                      <a:lnTo>
                        <a:pt x="134" y="11"/>
                      </a:lnTo>
                      <a:lnTo>
                        <a:pt x="101" y="44"/>
                      </a:lnTo>
                      <a:lnTo>
                        <a:pt x="78" y="78"/>
                      </a:lnTo>
                      <a:lnTo>
                        <a:pt x="67" y="111"/>
                      </a:lnTo>
                      <a:lnTo>
                        <a:pt x="45" y="156"/>
                      </a:lnTo>
                      <a:lnTo>
                        <a:pt x="34" y="200"/>
                      </a:lnTo>
                      <a:lnTo>
                        <a:pt x="23" y="234"/>
                      </a:lnTo>
                      <a:lnTo>
                        <a:pt x="0" y="267"/>
                      </a:lnTo>
                      <a:lnTo>
                        <a:pt x="23" y="267"/>
                      </a:lnTo>
                      <a:lnTo>
                        <a:pt x="0" y="278"/>
                      </a:lnTo>
                      <a:close/>
                    </a:path>
                  </a:pathLst>
                </a:custGeom>
                <a:solidFill>
                  <a:srgbClr val="0000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053"/>
                <p:cNvSpPr/>
                <p:nvPr/>
              </p:nvSpPr>
              <p:spPr>
                <a:xfrm rot="111600">
                  <a:off x="2990880" y="1543320"/>
                  <a:ext cx="5400" cy="11520"/>
                </a:xfrm>
                <a:custGeom>
                  <a:avLst/>
                  <a:gdLst>
                    <a:gd name="textAreaLeft" fmla="*/ 0 w 5400"/>
                    <a:gd name="textAreaRight" fmla="*/ 5760 w 5400"/>
                    <a:gd name="textAreaTop" fmla="*/ 0 h 11520"/>
                    <a:gd name="textAreaBottom" fmla="*/ 11880 h 11520"/>
                  </a:gdLst>
                  <a:ahLst/>
                  <a:rect l="textAreaLeft" t="textAreaTop" r="textAreaRight" b="textAreaBottom"/>
                  <a:pathLst>
                    <a:path w="56" h="89">
                      <a:moveTo>
                        <a:pt x="0" y="11"/>
                      </a:moveTo>
                      <a:lnTo>
                        <a:pt x="0" y="11"/>
                      </a:lnTo>
                      <a:lnTo>
                        <a:pt x="11" y="34"/>
                      </a:lnTo>
                      <a:lnTo>
                        <a:pt x="11" y="45"/>
                      </a:lnTo>
                      <a:lnTo>
                        <a:pt x="22" y="67"/>
                      </a:lnTo>
                      <a:lnTo>
                        <a:pt x="33" y="89"/>
                      </a:lnTo>
                      <a:lnTo>
                        <a:pt x="56" y="78"/>
                      </a:lnTo>
                      <a:lnTo>
                        <a:pt x="44" y="67"/>
                      </a:lnTo>
                      <a:lnTo>
                        <a:pt x="33" y="45"/>
                      </a:lnTo>
                      <a:lnTo>
                        <a:pt x="22" y="22"/>
                      </a:lnTo>
                      <a:lnTo>
                        <a:pt x="22" y="0"/>
                      </a:lnTo>
                      <a:lnTo>
                        <a:pt x="0" y="11"/>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Freeform 1052"/>
                <p:cNvSpPr/>
                <p:nvPr/>
              </p:nvSpPr>
              <p:spPr>
                <a:xfrm rot="111600">
                  <a:off x="2980080" y="1503000"/>
                  <a:ext cx="14040" cy="41400"/>
                </a:xfrm>
                <a:custGeom>
                  <a:avLst/>
                  <a:gdLst>
                    <a:gd name="textAreaLeft" fmla="*/ 0 w 14040"/>
                    <a:gd name="textAreaRight" fmla="*/ 14400 w 14040"/>
                    <a:gd name="textAreaTop" fmla="*/ 0 h 41400"/>
                    <a:gd name="textAreaBottom" fmla="*/ 41760 h 41400"/>
                  </a:gdLst>
                  <a:ahLst/>
                  <a:rect l="textAreaLeft" t="textAreaTop" r="textAreaRight" b="textAreaBottom"/>
                  <a:pathLst>
                    <a:path w="145" h="312">
                      <a:moveTo>
                        <a:pt x="0" y="11"/>
                      </a:moveTo>
                      <a:lnTo>
                        <a:pt x="0" y="11"/>
                      </a:lnTo>
                      <a:lnTo>
                        <a:pt x="34" y="34"/>
                      </a:lnTo>
                      <a:lnTo>
                        <a:pt x="56" y="67"/>
                      </a:lnTo>
                      <a:lnTo>
                        <a:pt x="67" y="89"/>
                      </a:lnTo>
                      <a:lnTo>
                        <a:pt x="89" y="123"/>
                      </a:lnTo>
                      <a:lnTo>
                        <a:pt x="101" y="167"/>
                      </a:lnTo>
                      <a:lnTo>
                        <a:pt x="112" y="212"/>
                      </a:lnTo>
                      <a:lnTo>
                        <a:pt x="112" y="257"/>
                      </a:lnTo>
                      <a:lnTo>
                        <a:pt x="123" y="312"/>
                      </a:lnTo>
                      <a:lnTo>
                        <a:pt x="145" y="301"/>
                      </a:lnTo>
                      <a:lnTo>
                        <a:pt x="134" y="257"/>
                      </a:lnTo>
                      <a:lnTo>
                        <a:pt x="123" y="201"/>
                      </a:lnTo>
                      <a:lnTo>
                        <a:pt x="123" y="156"/>
                      </a:lnTo>
                      <a:lnTo>
                        <a:pt x="101" y="123"/>
                      </a:lnTo>
                      <a:lnTo>
                        <a:pt x="89" y="89"/>
                      </a:lnTo>
                      <a:lnTo>
                        <a:pt x="67" y="56"/>
                      </a:lnTo>
                      <a:lnTo>
                        <a:pt x="45" y="23"/>
                      </a:lnTo>
                      <a:lnTo>
                        <a:pt x="11" y="0"/>
                      </a:lnTo>
                      <a:lnTo>
                        <a:pt x="0" y="11"/>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Freeform 1051"/>
                <p:cNvSpPr/>
                <p:nvPr/>
              </p:nvSpPr>
              <p:spPr>
                <a:xfrm rot="111600">
                  <a:off x="2967840" y="1493280"/>
                  <a:ext cx="14040" cy="10080"/>
                </a:xfrm>
                <a:custGeom>
                  <a:avLst/>
                  <a:gdLst>
                    <a:gd name="textAreaLeft" fmla="*/ 0 w 14040"/>
                    <a:gd name="textAreaRight" fmla="*/ 14400 w 14040"/>
                    <a:gd name="textAreaTop" fmla="*/ 0 h 10080"/>
                    <a:gd name="textAreaBottom" fmla="*/ 10440 h 10080"/>
                  </a:gdLst>
                  <a:ahLst/>
                  <a:rect l="textAreaLeft" t="textAreaTop" r="textAreaRight" b="textAreaBottom"/>
                  <a:pathLst>
                    <a:path w="144" h="78">
                      <a:moveTo>
                        <a:pt x="0" y="23"/>
                      </a:moveTo>
                      <a:lnTo>
                        <a:pt x="0" y="23"/>
                      </a:lnTo>
                      <a:lnTo>
                        <a:pt x="11" y="11"/>
                      </a:lnTo>
                      <a:lnTo>
                        <a:pt x="33" y="23"/>
                      </a:lnTo>
                      <a:lnTo>
                        <a:pt x="44" y="23"/>
                      </a:lnTo>
                      <a:lnTo>
                        <a:pt x="66" y="34"/>
                      </a:lnTo>
                      <a:lnTo>
                        <a:pt x="78" y="45"/>
                      </a:lnTo>
                      <a:lnTo>
                        <a:pt x="100" y="56"/>
                      </a:lnTo>
                      <a:lnTo>
                        <a:pt x="122" y="67"/>
                      </a:lnTo>
                      <a:lnTo>
                        <a:pt x="133" y="78"/>
                      </a:lnTo>
                      <a:lnTo>
                        <a:pt x="144" y="67"/>
                      </a:lnTo>
                      <a:lnTo>
                        <a:pt x="133" y="56"/>
                      </a:lnTo>
                      <a:lnTo>
                        <a:pt x="111" y="45"/>
                      </a:lnTo>
                      <a:lnTo>
                        <a:pt x="89" y="23"/>
                      </a:lnTo>
                      <a:lnTo>
                        <a:pt x="66" y="11"/>
                      </a:lnTo>
                      <a:lnTo>
                        <a:pt x="55" y="11"/>
                      </a:lnTo>
                      <a:lnTo>
                        <a:pt x="33" y="0"/>
                      </a:lnTo>
                      <a:lnTo>
                        <a:pt x="11" y="0"/>
                      </a:lnTo>
                      <a:lnTo>
                        <a:pt x="0" y="0"/>
                      </a:lnTo>
                      <a:lnTo>
                        <a:pt x="0" y="23"/>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1050"/>
                <p:cNvSpPr/>
                <p:nvPr/>
              </p:nvSpPr>
              <p:spPr>
                <a:xfrm rot="111600">
                  <a:off x="2958120" y="1478520"/>
                  <a:ext cx="9720" cy="17640"/>
                </a:xfrm>
                <a:custGeom>
                  <a:avLst/>
                  <a:gdLst>
                    <a:gd name="textAreaLeft" fmla="*/ 0 w 9720"/>
                    <a:gd name="textAreaRight" fmla="*/ 10080 w 9720"/>
                    <a:gd name="textAreaTop" fmla="*/ 0 h 17640"/>
                    <a:gd name="textAreaBottom" fmla="*/ 18000 h 17640"/>
                  </a:gdLst>
                  <a:ahLst/>
                  <a:rect l="textAreaLeft" t="textAreaTop" r="textAreaRight" b="textAreaBottom"/>
                  <a:pathLst>
                    <a:path w="101" h="134">
                      <a:moveTo>
                        <a:pt x="11" y="11"/>
                      </a:moveTo>
                      <a:lnTo>
                        <a:pt x="0" y="11"/>
                      </a:lnTo>
                      <a:lnTo>
                        <a:pt x="0" y="33"/>
                      </a:lnTo>
                      <a:lnTo>
                        <a:pt x="11" y="56"/>
                      </a:lnTo>
                      <a:lnTo>
                        <a:pt x="23" y="78"/>
                      </a:lnTo>
                      <a:lnTo>
                        <a:pt x="34" y="100"/>
                      </a:lnTo>
                      <a:lnTo>
                        <a:pt x="45" y="111"/>
                      </a:lnTo>
                      <a:lnTo>
                        <a:pt x="67" y="122"/>
                      </a:lnTo>
                      <a:lnTo>
                        <a:pt x="78" y="134"/>
                      </a:lnTo>
                      <a:lnTo>
                        <a:pt x="101" y="134"/>
                      </a:lnTo>
                      <a:lnTo>
                        <a:pt x="101" y="111"/>
                      </a:lnTo>
                      <a:lnTo>
                        <a:pt x="89" y="111"/>
                      </a:lnTo>
                      <a:lnTo>
                        <a:pt x="67" y="100"/>
                      </a:lnTo>
                      <a:lnTo>
                        <a:pt x="56" y="100"/>
                      </a:lnTo>
                      <a:lnTo>
                        <a:pt x="45" y="89"/>
                      </a:lnTo>
                      <a:lnTo>
                        <a:pt x="34" y="67"/>
                      </a:lnTo>
                      <a:lnTo>
                        <a:pt x="23" y="56"/>
                      </a:lnTo>
                      <a:lnTo>
                        <a:pt x="23" y="33"/>
                      </a:lnTo>
                      <a:lnTo>
                        <a:pt x="23" y="11"/>
                      </a:lnTo>
                      <a:lnTo>
                        <a:pt x="11" y="0"/>
                      </a:lnTo>
                      <a:lnTo>
                        <a:pt x="11" y="11"/>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Freeform 1049"/>
                <p:cNvSpPr/>
                <p:nvPr/>
              </p:nvSpPr>
              <p:spPr>
                <a:xfrm rot="111600">
                  <a:off x="2951640" y="1478160"/>
                  <a:ext cx="7560" cy="4320"/>
                </a:xfrm>
                <a:custGeom>
                  <a:avLst/>
                  <a:gdLst>
                    <a:gd name="textAreaLeft" fmla="*/ 0 w 7560"/>
                    <a:gd name="textAreaRight" fmla="*/ 7920 w 7560"/>
                    <a:gd name="textAreaTop" fmla="*/ 0 h 4320"/>
                    <a:gd name="textAreaBottom" fmla="*/ 4680 h 4320"/>
                  </a:gdLst>
                  <a:ahLst/>
                  <a:rect l="textAreaLeft" t="textAreaTop" r="textAreaRight" b="textAreaBottom"/>
                  <a:pathLst>
                    <a:path w="78" h="33">
                      <a:moveTo>
                        <a:pt x="0" y="22"/>
                      </a:moveTo>
                      <a:lnTo>
                        <a:pt x="12" y="33"/>
                      </a:lnTo>
                      <a:lnTo>
                        <a:pt x="23" y="22"/>
                      </a:lnTo>
                      <a:lnTo>
                        <a:pt x="34" y="22"/>
                      </a:lnTo>
                      <a:lnTo>
                        <a:pt x="45" y="22"/>
                      </a:lnTo>
                      <a:lnTo>
                        <a:pt x="56" y="22"/>
                      </a:lnTo>
                      <a:lnTo>
                        <a:pt x="67" y="22"/>
                      </a:lnTo>
                      <a:lnTo>
                        <a:pt x="78" y="11"/>
                      </a:lnTo>
                      <a:lnTo>
                        <a:pt x="78" y="0"/>
                      </a:lnTo>
                      <a:lnTo>
                        <a:pt x="67" y="0"/>
                      </a:lnTo>
                      <a:lnTo>
                        <a:pt x="56" y="0"/>
                      </a:lnTo>
                      <a:lnTo>
                        <a:pt x="45" y="0"/>
                      </a:lnTo>
                      <a:lnTo>
                        <a:pt x="34" y="11"/>
                      </a:lnTo>
                      <a:lnTo>
                        <a:pt x="23" y="11"/>
                      </a:lnTo>
                      <a:lnTo>
                        <a:pt x="12" y="11"/>
                      </a:lnTo>
                      <a:lnTo>
                        <a:pt x="23" y="11"/>
                      </a:lnTo>
                      <a:lnTo>
                        <a:pt x="0" y="2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Freeform 1048"/>
                <p:cNvSpPr/>
                <p:nvPr/>
              </p:nvSpPr>
              <p:spPr>
                <a:xfrm rot="111600">
                  <a:off x="2945520" y="1451160"/>
                  <a:ext cx="8640" cy="29520"/>
                </a:xfrm>
                <a:custGeom>
                  <a:avLst/>
                  <a:gdLst>
                    <a:gd name="textAreaLeft" fmla="*/ 0 w 8640"/>
                    <a:gd name="textAreaRight" fmla="*/ 9000 w 8640"/>
                    <a:gd name="textAreaTop" fmla="*/ 0 h 29520"/>
                    <a:gd name="textAreaBottom" fmla="*/ 29880 h 29520"/>
                  </a:gdLst>
                  <a:ahLst/>
                  <a:rect l="textAreaLeft" t="textAreaTop" r="textAreaRight" b="textAreaBottom"/>
                  <a:pathLst>
                    <a:path w="90" h="223">
                      <a:moveTo>
                        <a:pt x="23" y="0"/>
                      </a:moveTo>
                      <a:lnTo>
                        <a:pt x="0" y="0"/>
                      </a:lnTo>
                      <a:lnTo>
                        <a:pt x="0" y="34"/>
                      </a:lnTo>
                      <a:lnTo>
                        <a:pt x="12" y="67"/>
                      </a:lnTo>
                      <a:lnTo>
                        <a:pt x="23" y="101"/>
                      </a:lnTo>
                      <a:lnTo>
                        <a:pt x="23" y="134"/>
                      </a:lnTo>
                      <a:lnTo>
                        <a:pt x="34" y="156"/>
                      </a:lnTo>
                      <a:lnTo>
                        <a:pt x="45" y="190"/>
                      </a:lnTo>
                      <a:lnTo>
                        <a:pt x="56" y="201"/>
                      </a:lnTo>
                      <a:lnTo>
                        <a:pt x="67" y="223"/>
                      </a:lnTo>
                      <a:lnTo>
                        <a:pt x="90" y="212"/>
                      </a:lnTo>
                      <a:lnTo>
                        <a:pt x="79" y="201"/>
                      </a:lnTo>
                      <a:lnTo>
                        <a:pt x="67" y="179"/>
                      </a:lnTo>
                      <a:lnTo>
                        <a:pt x="56" y="156"/>
                      </a:lnTo>
                      <a:lnTo>
                        <a:pt x="45" y="123"/>
                      </a:lnTo>
                      <a:lnTo>
                        <a:pt x="34" y="89"/>
                      </a:lnTo>
                      <a:lnTo>
                        <a:pt x="34" y="67"/>
                      </a:lnTo>
                      <a:lnTo>
                        <a:pt x="23" y="34"/>
                      </a:lnTo>
                      <a:lnTo>
                        <a:pt x="23" y="0"/>
                      </a:lnTo>
                      <a:lnTo>
                        <a:pt x="0" y="0"/>
                      </a:lnTo>
                      <a:lnTo>
                        <a:pt x="23" y="0"/>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8" name="AutoShape 1046"/>
              <p:cNvSpPr/>
              <p:nvPr/>
            </p:nvSpPr>
            <p:spPr>
              <a:xfrm>
                <a:off x="2965320" y="989280"/>
                <a:ext cx="300240" cy="522720"/>
              </a:xfrm>
              <a:custGeom>
                <a:avLst/>
                <a:gdLst>
                  <a:gd name="textAreaLeft" fmla="*/ 39960 w 300240"/>
                  <a:gd name="textAreaRight" fmla="*/ 260280 w 300240"/>
                  <a:gd name="textAreaTop" fmla="*/ 99000 h 522720"/>
                  <a:gd name="textAreaBottom" fmla="*/ 371520 h 522720"/>
                </a:gdLst>
                <a:ahLst/>
                <a:rect l="textAreaLeft" t="textAreaTop" r="textAreaRight" b="textAreaBottom"/>
                <a:pathLst>
                  <a:path w="21600" h="21600">
                    <a:moveTo>
                      <a:pt x="21600" y="0"/>
                    </a:moveTo>
                    <a:arcTo wR="21600" hR="8196" stAng="-5400000" swAng="-5400000"/>
                    <a:lnTo>
                      <a:pt x="0" y="11245"/>
                    </a:lnTo>
                    <a:arcTo wR="21600" hR="8196" stAng="10800000" swAng="-2878634"/>
                    <a:lnTo>
                      <a:pt x="14612" y="21159"/>
                    </a:lnTo>
                    <a:lnTo>
                      <a:pt x="21600" y="17916"/>
                    </a:lnTo>
                    <a:lnTo>
                      <a:pt x="14612" y="13790"/>
                    </a:lnTo>
                    <a:lnTo>
                      <a:pt x="14612" y="15950"/>
                    </a:lnTo>
                    <a:arcTo wR="21600" hR="8196" stAng="7921366" swAng="2632116"/>
                    <a:lnTo>
                      <a:pt x="377" y="9720"/>
                    </a:lnTo>
                    <a:arcTo wR="21600" hR="8196" stAng="-10553482" swAng="5153482"/>
                    <a:close/>
                  </a:path>
                  <a:path fill="darkenLess" w="21600" h="21600">
                    <a:moveTo>
                      <a:pt x="21600" y="0"/>
                    </a:moveTo>
                    <a:arcTo wR="21600" hR="8196" stAng="-5400000" swAng="-5400000"/>
                    <a:lnTo>
                      <a:pt x="0" y="8196"/>
                    </a:lnTo>
                    <a:arcTo wR="21600" hR="8196" stAng="10800000" swAng="-246518"/>
                    <a:lnTo>
                      <a:pt x="377" y="9720"/>
                    </a:lnTo>
                    <a:arcTo wR="21600" hR="8196" stAng="-10553482" swAng="5153482"/>
                    <a:close/>
                  </a:path>
                </a:pathLst>
              </a:custGeom>
              <a:solidFill>
                <a:srgbClr val="ff0000"/>
              </a:solidFill>
              <a:ln w="9360">
                <a:solidFill>
                  <a:srgbClr val="ff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9" name="WordArt 1044"/>
            <p:cNvSpPr txBox="1"/>
            <p:nvPr/>
          </p:nvSpPr>
          <p:spPr>
            <a:xfrm>
              <a:off x="2780640" y="1751040"/>
              <a:ext cx="666720" cy="2858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STBlokHead"/>
                </a:rPr>
                <a:t>English</a:t>
              </a:r>
              <a:endParaRPr b="0" lang="en-US" sz="1800" spc="1" strike="noStrike">
                <a:ln w="9360">
                  <a:solidFill>
                    <a:srgbClr val="000000"/>
                  </a:solidFill>
                  <a:miter/>
                </a:ln>
                <a:solidFill>
                  <a:srgbClr val="000000"/>
                </a:solidFill>
                <a:latin typeface="GSTBlokHead"/>
                <a:ea typeface="GSTBlokHead"/>
              </a:endParaRPr>
            </a:p>
          </p:txBody>
        </p:sp>
        <p:grpSp>
          <p:nvGrpSpPr>
            <p:cNvPr id="1250" name="Group 756"/>
            <p:cNvGrpSpPr/>
            <p:nvPr/>
          </p:nvGrpSpPr>
          <p:grpSpPr>
            <a:xfrm>
              <a:off x="946080" y="572400"/>
              <a:ext cx="537840" cy="960120"/>
              <a:chOff x="946080" y="572400"/>
              <a:chExt cx="537840" cy="960120"/>
            </a:xfrm>
          </p:grpSpPr>
          <p:grpSp>
            <p:nvGrpSpPr>
              <p:cNvPr id="1251" name="Group 758"/>
              <p:cNvGrpSpPr/>
              <p:nvPr/>
            </p:nvGrpSpPr>
            <p:grpSpPr>
              <a:xfrm>
                <a:off x="946080" y="572400"/>
                <a:ext cx="342000" cy="960120"/>
                <a:chOff x="946080" y="572400"/>
                <a:chExt cx="342000" cy="960120"/>
              </a:xfrm>
            </p:grpSpPr>
            <p:grpSp>
              <p:nvGrpSpPr>
                <p:cNvPr id="1252" name="Group 843"/>
                <p:cNvGrpSpPr/>
                <p:nvPr/>
              </p:nvGrpSpPr>
              <p:grpSpPr>
                <a:xfrm>
                  <a:off x="946080" y="572400"/>
                  <a:ext cx="342000" cy="662760"/>
                  <a:chOff x="946080" y="572400"/>
                  <a:chExt cx="342000" cy="662760"/>
                </a:xfrm>
              </p:grpSpPr>
              <p:sp>
                <p:nvSpPr>
                  <p:cNvPr id="1253" name="Freeform 1043"/>
                  <p:cNvSpPr/>
                  <p:nvPr/>
                </p:nvSpPr>
                <p:spPr>
                  <a:xfrm rot="111600">
                    <a:off x="995400" y="767160"/>
                    <a:ext cx="107640" cy="182160"/>
                  </a:xfrm>
                  <a:custGeom>
                    <a:avLst/>
                    <a:gdLst>
                      <a:gd name="textAreaLeft" fmla="*/ 0 w 107640"/>
                      <a:gd name="textAreaRight" fmla="*/ 108000 w 107640"/>
                      <a:gd name="textAreaTop" fmla="*/ 0 h 182160"/>
                      <a:gd name="textAreaBottom" fmla="*/ 182520 h 182160"/>
                    </a:gdLst>
                    <a:ahLst/>
                    <a:rect l="textAreaLeft" t="textAreaTop" r="textAreaRight" b="textAreaBottom"/>
                    <a:pathLst>
                      <a:path w="1103" h="1371">
                        <a:moveTo>
                          <a:pt x="513" y="0"/>
                        </a:moveTo>
                        <a:lnTo>
                          <a:pt x="580" y="12"/>
                        </a:lnTo>
                        <a:lnTo>
                          <a:pt x="647" y="23"/>
                        </a:lnTo>
                        <a:lnTo>
                          <a:pt x="702" y="34"/>
                        </a:lnTo>
                        <a:lnTo>
                          <a:pt x="758" y="56"/>
                        </a:lnTo>
                        <a:lnTo>
                          <a:pt x="814" y="79"/>
                        </a:lnTo>
                        <a:lnTo>
                          <a:pt x="858" y="112"/>
                        </a:lnTo>
                        <a:lnTo>
                          <a:pt x="903" y="145"/>
                        </a:lnTo>
                        <a:lnTo>
                          <a:pt x="947" y="190"/>
                        </a:lnTo>
                        <a:lnTo>
                          <a:pt x="981" y="235"/>
                        </a:lnTo>
                        <a:lnTo>
                          <a:pt x="1014" y="290"/>
                        </a:lnTo>
                        <a:lnTo>
                          <a:pt x="1037" y="335"/>
                        </a:lnTo>
                        <a:lnTo>
                          <a:pt x="1059" y="391"/>
                        </a:lnTo>
                        <a:lnTo>
                          <a:pt x="1081" y="457"/>
                        </a:lnTo>
                        <a:lnTo>
                          <a:pt x="1092" y="513"/>
                        </a:lnTo>
                        <a:lnTo>
                          <a:pt x="1103" y="580"/>
                        </a:lnTo>
                        <a:lnTo>
                          <a:pt x="1103" y="647"/>
                        </a:lnTo>
                        <a:lnTo>
                          <a:pt x="1092" y="714"/>
                        </a:lnTo>
                        <a:lnTo>
                          <a:pt x="1081" y="781"/>
                        </a:lnTo>
                        <a:lnTo>
                          <a:pt x="1059" y="848"/>
                        </a:lnTo>
                        <a:lnTo>
                          <a:pt x="1048" y="914"/>
                        </a:lnTo>
                        <a:lnTo>
                          <a:pt x="1025" y="970"/>
                        </a:lnTo>
                        <a:lnTo>
                          <a:pt x="1003" y="1037"/>
                        </a:lnTo>
                        <a:lnTo>
                          <a:pt x="981" y="1093"/>
                        </a:lnTo>
                        <a:lnTo>
                          <a:pt x="947" y="1137"/>
                        </a:lnTo>
                        <a:lnTo>
                          <a:pt x="914" y="1193"/>
                        </a:lnTo>
                        <a:lnTo>
                          <a:pt x="869" y="1227"/>
                        </a:lnTo>
                        <a:lnTo>
                          <a:pt x="825" y="1271"/>
                        </a:lnTo>
                        <a:lnTo>
                          <a:pt x="780" y="1305"/>
                        </a:lnTo>
                        <a:lnTo>
                          <a:pt x="725" y="1327"/>
                        </a:lnTo>
                        <a:lnTo>
                          <a:pt x="658" y="1349"/>
                        </a:lnTo>
                        <a:lnTo>
                          <a:pt x="591" y="1360"/>
                        </a:lnTo>
                        <a:lnTo>
                          <a:pt x="513" y="1371"/>
                        </a:lnTo>
                        <a:lnTo>
                          <a:pt x="446" y="1360"/>
                        </a:lnTo>
                        <a:lnTo>
                          <a:pt x="390" y="1349"/>
                        </a:lnTo>
                        <a:lnTo>
                          <a:pt x="334" y="1338"/>
                        </a:lnTo>
                        <a:lnTo>
                          <a:pt x="279" y="1316"/>
                        </a:lnTo>
                        <a:lnTo>
                          <a:pt x="234" y="1282"/>
                        </a:lnTo>
                        <a:lnTo>
                          <a:pt x="201" y="1238"/>
                        </a:lnTo>
                        <a:lnTo>
                          <a:pt x="156" y="1204"/>
                        </a:lnTo>
                        <a:lnTo>
                          <a:pt x="123" y="1148"/>
                        </a:lnTo>
                        <a:lnTo>
                          <a:pt x="100" y="1104"/>
                        </a:lnTo>
                        <a:lnTo>
                          <a:pt x="67" y="1048"/>
                        </a:lnTo>
                        <a:lnTo>
                          <a:pt x="56" y="981"/>
                        </a:lnTo>
                        <a:lnTo>
                          <a:pt x="34" y="926"/>
                        </a:lnTo>
                        <a:lnTo>
                          <a:pt x="22" y="859"/>
                        </a:lnTo>
                        <a:lnTo>
                          <a:pt x="11" y="792"/>
                        </a:lnTo>
                        <a:lnTo>
                          <a:pt x="0" y="725"/>
                        </a:lnTo>
                        <a:lnTo>
                          <a:pt x="0" y="658"/>
                        </a:lnTo>
                        <a:lnTo>
                          <a:pt x="0" y="591"/>
                        </a:lnTo>
                        <a:lnTo>
                          <a:pt x="11" y="524"/>
                        </a:lnTo>
                        <a:lnTo>
                          <a:pt x="22" y="469"/>
                        </a:lnTo>
                        <a:lnTo>
                          <a:pt x="34" y="402"/>
                        </a:lnTo>
                        <a:lnTo>
                          <a:pt x="45" y="346"/>
                        </a:lnTo>
                        <a:lnTo>
                          <a:pt x="67" y="290"/>
                        </a:lnTo>
                        <a:lnTo>
                          <a:pt x="100" y="246"/>
                        </a:lnTo>
                        <a:lnTo>
                          <a:pt x="123" y="201"/>
                        </a:lnTo>
                        <a:lnTo>
                          <a:pt x="156" y="157"/>
                        </a:lnTo>
                        <a:lnTo>
                          <a:pt x="190" y="123"/>
                        </a:lnTo>
                        <a:lnTo>
                          <a:pt x="234" y="90"/>
                        </a:lnTo>
                        <a:lnTo>
                          <a:pt x="279" y="56"/>
                        </a:lnTo>
                        <a:lnTo>
                          <a:pt x="334" y="34"/>
                        </a:lnTo>
                        <a:lnTo>
                          <a:pt x="390" y="23"/>
                        </a:lnTo>
                        <a:lnTo>
                          <a:pt x="446" y="12"/>
                        </a:lnTo>
                        <a:lnTo>
                          <a:pt x="513" y="0"/>
                        </a:lnTo>
                        <a:close/>
                      </a:path>
                    </a:pathLst>
                  </a:custGeom>
                  <a:solidFill>
                    <a:srgbClr val="ffebb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Freeform 1042"/>
                  <p:cNvSpPr/>
                  <p:nvPr/>
                </p:nvSpPr>
                <p:spPr>
                  <a:xfrm rot="111600">
                    <a:off x="1047240" y="767880"/>
                    <a:ext cx="58680" cy="86040"/>
                  </a:xfrm>
                  <a:custGeom>
                    <a:avLst/>
                    <a:gdLst>
                      <a:gd name="textAreaLeft" fmla="*/ 0 w 58680"/>
                      <a:gd name="textAreaRight" fmla="*/ 59040 w 58680"/>
                      <a:gd name="textAreaTop" fmla="*/ 0 h 86040"/>
                      <a:gd name="textAreaBottom" fmla="*/ 86400 h 86040"/>
                    </a:gdLst>
                    <a:ahLst/>
                    <a:rect l="textAreaLeft" t="textAreaTop" r="textAreaRight" b="textAreaBottom"/>
                    <a:pathLst>
                      <a:path w="602" h="647">
                        <a:moveTo>
                          <a:pt x="590" y="647"/>
                        </a:moveTo>
                        <a:lnTo>
                          <a:pt x="602" y="647"/>
                        </a:lnTo>
                        <a:lnTo>
                          <a:pt x="590" y="580"/>
                        </a:lnTo>
                        <a:lnTo>
                          <a:pt x="590" y="513"/>
                        </a:lnTo>
                        <a:lnTo>
                          <a:pt x="568" y="457"/>
                        </a:lnTo>
                        <a:lnTo>
                          <a:pt x="557" y="391"/>
                        </a:lnTo>
                        <a:lnTo>
                          <a:pt x="535" y="335"/>
                        </a:lnTo>
                        <a:lnTo>
                          <a:pt x="501" y="279"/>
                        </a:lnTo>
                        <a:lnTo>
                          <a:pt x="468" y="235"/>
                        </a:lnTo>
                        <a:lnTo>
                          <a:pt x="434" y="190"/>
                        </a:lnTo>
                        <a:lnTo>
                          <a:pt x="390" y="145"/>
                        </a:lnTo>
                        <a:lnTo>
                          <a:pt x="345" y="112"/>
                        </a:lnTo>
                        <a:lnTo>
                          <a:pt x="301" y="79"/>
                        </a:lnTo>
                        <a:lnTo>
                          <a:pt x="245" y="45"/>
                        </a:lnTo>
                        <a:lnTo>
                          <a:pt x="189" y="23"/>
                        </a:lnTo>
                        <a:lnTo>
                          <a:pt x="134" y="12"/>
                        </a:lnTo>
                        <a:lnTo>
                          <a:pt x="67" y="0"/>
                        </a:lnTo>
                        <a:lnTo>
                          <a:pt x="0" y="0"/>
                        </a:lnTo>
                        <a:lnTo>
                          <a:pt x="0" y="12"/>
                        </a:lnTo>
                        <a:lnTo>
                          <a:pt x="67" y="12"/>
                        </a:lnTo>
                        <a:lnTo>
                          <a:pt x="122" y="23"/>
                        </a:lnTo>
                        <a:lnTo>
                          <a:pt x="189" y="45"/>
                        </a:lnTo>
                        <a:lnTo>
                          <a:pt x="245" y="67"/>
                        </a:lnTo>
                        <a:lnTo>
                          <a:pt x="290" y="90"/>
                        </a:lnTo>
                        <a:lnTo>
                          <a:pt x="345" y="123"/>
                        </a:lnTo>
                        <a:lnTo>
                          <a:pt x="390" y="157"/>
                        </a:lnTo>
                        <a:lnTo>
                          <a:pt x="423" y="201"/>
                        </a:lnTo>
                        <a:lnTo>
                          <a:pt x="457" y="235"/>
                        </a:lnTo>
                        <a:lnTo>
                          <a:pt x="490" y="290"/>
                        </a:lnTo>
                        <a:lnTo>
                          <a:pt x="524" y="335"/>
                        </a:lnTo>
                        <a:lnTo>
                          <a:pt x="546" y="391"/>
                        </a:lnTo>
                        <a:lnTo>
                          <a:pt x="557" y="457"/>
                        </a:lnTo>
                        <a:lnTo>
                          <a:pt x="568" y="513"/>
                        </a:lnTo>
                        <a:lnTo>
                          <a:pt x="579" y="580"/>
                        </a:lnTo>
                        <a:lnTo>
                          <a:pt x="579" y="647"/>
                        </a:lnTo>
                        <a:lnTo>
                          <a:pt x="590" y="647"/>
                        </a:lnTo>
                        <a:close/>
                      </a:path>
                    </a:pathLst>
                  </a:custGeom>
                  <a:solidFill>
                    <a:srgbClr val="000000"/>
                  </a:solidFill>
                  <a:ln w="0">
                    <a:noFill/>
                  </a:ln>
                </p:spPr>
                <p:style>
                  <a:lnRef idx="0"/>
                  <a:fillRef idx="0"/>
                  <a:effectRef idx="0"/>
                  <a:fontRef idx="minor"/>
                </p:style>
                <p:txBody>
                  <a:bodyPr lIns="90000" rIns="90000" tIns="39600" bIns="39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Freeform 1041"/>
                  <p:cNvSpPr/>
                  <p:nvPr/>
                </p:nvSpPr>
                <p:spPr>
                  <a:xfrm rot="111600">
                    <a:off x="1044360" y="854280"/>
                    <a:ext cx="57600" cy="96120"/>
                  </a:xfrm>
                  <a:custGeom>
                    <a:avLst/>
                    <a:gdLst>
                      <a:gd name="textAreaLeft" fmla="*/ 0 w 57600"/>
                      <a:gd name="textAreaRight" fmla="*/ 57600 w 57600"/>
                      <a:gd name="textAreaTop" fmla="*/ 0 h 96120"/>
                      <a:gd name="textAreaBottom" fmla="*/ 96480 h 96120"/>
                    </a:gdLst>
                    <a:ahLst/>
                    <a:rect l="textAreaLeft" t="textAreaTop" r="textAreaRight" b="textAreaBottom"/>
                    <a:pathLst>
                      <a:path w="590" h="724">
                        <a:moveTo>
                          <a:pt x="0" y="724"/>
                        </a:moveTo>
                        <a:lnTo>
                          <a:pt x="0" y="724"/>
                        </a:lnTo>
                        <a:lnTo>
                          <a:pt x="78" y="724"/>
                        </a:lnTo>
                        <a:lnTo>
                          <a:pt x="145" y="702"/>
                        </a:lnTo>
                        <a:lnTo>
                          <a:pt x="212" y="691"/>
                        </a:lnTo>
                        <a:lnTo>
                          <a:pt x="267" y="658"/>
                        </a:lnTo>
                        <a:lnTo>
                          <a:pt x="323" y="624"/>
                        </a:lnTo>
                        <a:lnTo>
                          <a:pt x="368" y="591"/>
                        </a:lnTo>
                        <a:lnTo>
                          <a:pt x="401" y="546"/>
                        </a:lnTo>
                        <a:lnTo>
                          <a:pt x="446" y="501"/>
                        </a:lnTo>
                        <a:lnTo>
                          <a:pt x="468" y="446"/>
                        </a:lnTo>
                        <a:lnTo>
                          <a:pt x="490" y="390"/>
                        </a:lnTo>
                        <a:lnTo>
                          <a:pt x="524" y="323"/>
                        </a:lnTo>
                        <a:lnTo>
                          <a:pt x="535" y="267"/>
                        </a:lnTo>
                        <a:lnTo>
                          <a:pt x="557" y="201"/>
                        </a:lnTo>
                        <a:lnTo>
                          <a:pt x="568" y="134"/>
                        </a:lnTo>
                        <a:lnTo>
                          <a:pt x="579" y="67"/>
                        </a:lnTo>
                        <a:lnTo>
                          <a:pt x="590" y="0"/>
                        </a:lnTo>
                        <a:lnTo>
                          <a:pt x="579" y="0"/>
                        </a:lnTo>
                        <a:lnTo>
                          <a:pt x="568" y="67"/>
                        </a:lnTo>
                        <a:lnTo>
                          <a:pt x="557" y="134"/>
                        </a:lnTo>
                        <a:lnTo>
                          <a:pt x="546" y="201"/>
                        </a:lnTo>
                        <a:lnTo>
                          <a:pt x="524" y="267"/>
                        </a:lnTo>
                        <a:lnTo>
                          <a:pt x="501" y="323"/>
                        </a:lnTo>
                        <a:lnTo>
                          <a:pt x="479" y="379"/>
                        </a:lnTo>
                        <a:lnTo>
                          <a:pt x="457" y="435"/>
                        </a:lnTo>
                        <a:lnTo>
                          <a:pt x="423" y="490"/>
                        </a:lnTo>
                        <a:lnTo>
                          <a:pt x="390" y="535"/>
                        </a:lnTo>
                        <a:lnTo>
                          <a:pt x="356" y="580"/>
                        </a:lnTo>
                        <a:lnTo>
                          <a:pt x="312" y="613"/>
                        </a:lnTo>
                        <a:lnTo>
                          <a:pt x="267" y="646"/>
                        </a:lnTo>
                        <a:lnTo>
                          <a:pt x="212" y="669"/>
                        </a:lnTo>
                        <a:lnTo>
                          <a:pt x="145" y="691"/>
                        </a:lnTo>
                        <a:lnTo>
                          <a:pt x="78" y="702"/>
                        </a:lnTo>
                        <a:lnTo>
                          <a:pt x="0" y="713"/>
                        </a:lnTo>
                        <a:lnTo>
                          <a:pt x="0" y="72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040"/>
                  <p:cNvSpPr/>
                  <p:nvPr/>
                </p:nvSpPr>
                <p:spPr>
                  <a:xfrm rot="111600">
                    <a:off x="994320" y="854280"/>
                    <a:ext cx="50040" cy="94680"/>
                  </a:xfrm>
                  <a:custGeom>
                    <a:avLst/>
                    <a:gdLst>
                      <a:gd name="textAreaLeft" fmla="*/ 0 w 50040"/>
                      <a:gd name="textAreaRight" fmla="*/ 50400 w 50040"/>
                      <a:gd name="textAreaTop" fmla="*/ 0 h 94680"/>
                      <a:gd name="textAreaBottom" fmla="*/ 95040 h 94680"/>
                    </a:gdLst>
                    <a:ahLst/>
                    <a:rect l="textAreaLeft" t="textAreaTop" r="textAreaRight" b="textAreaBottom"/>
                    <a:pathLst>
                      <a:path w="513" h="713">
                        <a:moveTo>
                          <a:pt x="0" y="0"/>
                        </a:moveTo>
                        <a:lnTo>
                          <a:pt x="0" y="0"/>
                        </a:lnTo>
                        <a:lnTo>
                          <a:pt x="0" y="67"/>
                        </a:lnTo>
                        <a:lnTo>
                          <a:pt x="0" y="134"/>
                        </a:lnTo>
                        <a:lnTo>
                          <a:pt x="11" y="201"/>
                        </a:lnTo>
                        <a:lnTo>
                          <a:pt x="34" y="268"/>
                        </a:lnTo>
                        <a:lnTo>
                          <a:pt x="45" y="334"/>
                        </a:lnTo>
                        <a:lnTo>
                          <a:pt x="67" y="390"/>
                        </a:lnTo>
                        <a:lnTo>
                          <a:pt x="89" y="446"/>
                        </a:lnTo>
                        <a:lnTo>
                          <a:pt x="123" y="502"/>
                        </a:lnTo>
                        <a:lnTo>
                          <a:pt x="156" y="546"/>
                        </a:lnTo>
                        <a:lnTo>
                          <a:pt x="190" y="591"/>
                        </a:lnTo>
                        <a:lnTo>
                          <a:pt x="234" y="624"/>
                        </a:lnTo>
                        <a:lnTo>
                          <a:pt x="279" y="658"/>
                        </a:lnTo>
                        <a:lnTo>
                          <a:pt x="334" y="680"/>
                        </a:lnTo>
                        <a:lnTo>
                          <a:pt x="390" y="702"/>
                        </a:lnTo>
                        <a:lnTo>
                          <a:pt x="446" y="713"/>
                        </a:lnTo>
                        <a:lnTo>
                          <a:pt x="513" y="713"/>
                        </a:lnTo>
                        <a:lnTo>
                          <a:pt x="513" y="702"/>
                        </a:lnTo>
                        <a:lnTo>
                          <a:pt x="446" y="702"/>
                        </a:lnTo>
                        <a:lnTo>
                          <a:pt x="390" y="691"/>
                        </a:lnTo>
                        <a:lnTo>
                          <a:pt x="334" y="669"/>
                        </a:lnTo>
                        <a:lnTo>
                          <a:pt x="290" y="647"/>
                        </a:lnTo>
                        <a:lnTo>
                          <a:pt x="245" y="613"/>
                        </a:lnTo>
                        <a:lnTo>
                          <a:pt x="201" y="580"/>
                        </a:lnTo>
                        <a:lnTo>
                          <a:pt x="167" y="535"/>
                        </a:lnTo>
                        <a:lnTo>
                          <a:pt x="134" y="490"/>
                        </a:lnTo>
                        <a:lnTo>
                          <a:pt x="100" y="435"/>
                        </a:lnTo>
                        <a:lnTo>
                          <a:pt x="78" y="379"/>
                        </a:lnTo>
                        <a:lnTo>
                          <a:pt x="56" y="323"/>
                        </a:lnTo>
                        <a:lnTo>
                          <a:pt x="45" y="268"/>
                        </a:lnTo>
                        <a:lnTo>
                          <a:pt x="34" y="201"/>
                        </a:lnTo>
                        <a:lnTo>
                          <a:pt x="22" y="134"/>
                        </a:lnTo>
                        <a:lnTo>
                          <a:pt x="11" y="67"/>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1039"/>
                  <p:cNvSpPr/>
                  <p:nvPr/>
                </p:nvSpPr>
                <p:spPr>
                  <a:xfrm rot="111600">
                    <a:off x="997200" y="766440"/>
                    <a:ext cx="50040" cy="87480"/>
                  </a:xfrm>
                  <a:custGeom>
                    <a:avLst/>
                    <a:gdLst>
                      <a:gd name="textAreaLeft" fmla="*/ 0 w 50040"/>
                      <a:gd name="textAreaRight" fmla="*/ 50400 w 50040"/>
                      <a:gd name="textAreaTop" fmla="*/ 0 h 87480"/>
                      <a:gd name="textAreaBottom" fmla="*/ 87840 h 87480"/>
                    </a:gdLst>
                    <a:ahLst/>
                    <a:rect l="textAreaLeft" t="textAreaTop" r="textAreaRight" b="textAreaBottom"/>
                    <a:pathLst>
                      <a:path w="513" h="658">
                        <a:moveTo>
                          <a:pt x="513" y="0"/>
                        </a:moveTo>
                        <a:lnTo>
                          <a:pt x="513" y="0"/>
                        </a:lnTo>
                        <a:lnTo>
                          <a:pt x="446" y="0"/>
                        </a:lnTo>
                        <a:lnTo>
                          <a:pt x="390" y="12"/>
                        </a:lnTo>
                        <a:lnTo>
                          <a:pt x="334" y="23"/>
                        </a:lnTo>
                        <a:lnTo>
                          <a:pt x="279" y="56"/>
                        </a:lnTo>
                        <a:lnTo>
                          <a:pt x="234" y="79"/>
                        </a:lnTo>
                        <a:lnTo>
                          <a:pt x="190" y="112"/>
                        </a:lnTo>
                        <a:lnTo>
                          <a:pt x="156" y="157"/>
                        </a:lnTo>
                        <a:lnTo>
                          <a:pt x="123" y="190"/>
                        </a:lnTo>
                        <a:lnTo>
                          <a:pt x="89" y="246"/>
                        </a:lnTo>
                        <a:lnTo>
                          <a:pt x="67" y="290"/>
                        </a:lnTo>
                        <a:lnTo>
                          <a:pt x="45" y="346"/>
                        </a:lnTo>
                        <a:lnTo>
                          <a:pt x="22" y="402"/>
                        </a:lnTo>
                        <a:lnTo>
                          <a:pt x="11" y="469"/>
                        </a:lnTo>
                        <a:lnTo>
                          <a:pt x="0" y="524"/>
                        </a:lnTo>
                        <a:lnTo>
                          <a:pt x="0" y="591"/>
                        </a:lnTo>
                        <a:lnTo>
                          <a:pt x="0" y="658"/>
                        </a:lnTo>
                        <a:lnTo>
                          <a:pt x="11" y="658"/>
                        </a:lnTo>
                        <a:lnTo>
                          <a:pt x="11" y="591"/>
                        </a:lnTo>
                        <a:lnTo>
                          <a:pt x="22" y="524"/>
                        </a:lnTo>
                        <a:lnTo>
                          <a:pt x="22" y="469"/>
                        </a:lnTo>
                        <a:lnTo>
                          <a:pt x="45" y="413"/>
                        </a:lnTo>
                        <a:lnTo>
                          <a:pt x="56" y="346"/>
                        </a:lnTo>
                        <a:lnTo>
                          <a:pt x="78" y="301"/>
                        </a:lnTo>
                        <a:lnTo>
                          <a:pt x="100" y="246"/>
                        </a:lnTo>
                        <a:lnTo>
                          <a:pt x="134" y="201"/>
                        </a:lnTo>
                        <a:lnTo>
                          <a:pt x="167" y="157"/>
                        </a:lnTo>
                        <a:lnTo>
                          <a:pt x="201" y="123"/>
                        </a:lnTo>
                        <a:lnTo>
                          <a:pt x="234" y="90"/>
                        </a:lnTo>
                        <a:lnTo>
                          <a:pt x="290" y="67"/>
                        </a:lnTo>
                        <a:lnTo>
                          <a:pt x="334" y="45"/>
                        </a:lnTo>
                        <a:lnTo>
                          <a:pt x="390" y="23"/>
                        </a:lnTo>
                        <a:lnTo>
                          <a:pt x="446" y="23"/>
                        </a:lnTo>
                        <a:lnTo>
                          <a:pt x="513" y="12"/>
                        </a:lnTo>
                        <a:lnTo>
                          <a:pt x="513" y="0"/>
                        </a:lnTo>
                        <a:close/>
                      </a:path>
                    </a:pathLst>
                  </a:custGeom>
                  <a:solidFill>
                    <a:srgbClr val="000000"/>
                  </a:solidFill>
                  <a:ln w="0">
                    <a:noFill/>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Freeform 1038"/>
                  <p:cNvSpPr/>
                  <p:nvPr/>
                </p:nvSpPr>
                <p:spPr>
                  <a:xfrm rot="111600">
                    <a:off x="950400" y="730800"/>
                    <a:ext cx="205920" cy="274320"/>
                  </a:xfrm>
                  <a:custGeom>
                    <a:avLst/>
                    <a:gdLst>
                      <a:gd name="textAreaLeft" fmla="*/ 0 w 205920"/>
                      <a:gd name="textAreaRight" fmla="*/ 206280 w 205920"/>
                      <a:gd name="textAreaTop" fmla="*/ 0 h 274320"/>
                      <a:gd name="textAreaBottom" fmla="*/ 274680 h 274320"/>
                    </a:gdLst>
                    <a:ahLst/>
                    <a:rect l="textAreaLeft" t="textAreaTop" r="textAreaRight" b="textAreaBottom"/>
                    <a:pathLst>
                      <a:path w="2107" h="2062">
                        <a:moveTo>
                          <a:pt x="1092" y="167"/>
                        </a:moveTo>
                        <a:lnTo>
                          <a:pt x="1081" y="145"/>
                        </a:lnTo>
                        <a:lnTo>
                          <a:pt x="1059" y="134"/>
                        </a:lnTo>
                        <a:lnTo>
                          <a:pt x="1037" y="111"/>
                        </a:lnTo>
                        <a:lnTo>
                          <a:pt x="1014" y="89"/>
                        </a:lnTo>
                        <a:lnTo>
                          <a:pt x="992" y="78"/>
                        </a:lnTo>
                        <a:lnTo>
                          <a:pt x="959" y="56"/>
                        </a:lnTo>
                        <a:lnTo>
                          <a:pt x="925" y="33"/>
                        </a:lnTo>
                        <a:lnTo>
                          <a:pt x="892" y="22"/>
                        </a:lnTo>
                        <a:lnTo>
                          <a:pt x="858" y="11"/>
                        </a:lnTo>
                        <a:lnTo>
                          <a:pt x="814" y="11"/>
                        </a:lnTo>
                        <a:lnTo>
                          <a:pt x="769" y="0"/>
                        </a:lnTo>
                        <a:lnTo>
                          <a:pt x="725" y="0"/>
                        </a:lnTo>
                        <a:lnTo>
                          <a:pt x="680" y="11"/>
                        </a:lnTo>
                        <a:lnTo>
                          <a:pt x="647" y="22"/>
                        </a:lnTo>
                        <a:lnTo>
                          <a:pt x="602" y="33"/>
                        </a:lnTo>
                        <a:lnTo>
                          <a:pt x="569" y="44"/>
                        </a:lnTo>
                        <a:lnTo>
                          <a:pt x="535" y="67"/>
                        </a:lnTo>
                        <a:lnTo>
                          <a:pt x="491" y="89"/>
                        </a:lnTo>
                        <a:lnTo>
                          <a:pt x="457" y="122"/>
                        </a:lnTo>
                        <a:lnTo>
                          <a:pt x="435" y="145"/>
                        </a:lnTo>
                        <a:lnTo>
                          <a:pt x="401" y="178"/>
                        </a:lnTo>
                        <a:lnTo>
                          <a:pt x="368" y="223"/>
                        </a:lnTo>
                        <a:lnTo>
                          <a:pt x="346" y="256"/>
                        </a:lnTo>
                        <a:lnTo>
                          <a:pt x="323" y="301"/>
                        </a:lnTo>
                        <a:lnTo>
                          <a:pt x="312" y="334"/>
                        </a:lnTo>
                        <a:lnTo>
                          <a:pt x="301" y="379"/>
                        </a:lnTo>
                        <a:lnTo>
                          <a:pt x="290" y="423"/>
                        </a:lnTo>
                        <a:lnTo>
                          <a:pt x="279" y="457"/>
                        </a:lnTo>
                        <a:lnTo>
                          <a:pt x="279" y="501"/>
                        </a:lnTo>
                        <a:lnTo>
                          <a:pt x="279" y="546"/>
                        </a:lnTo>
                        <a:lnTo>
                          <a:pt x="268" y="591"/>
                        </a:lnTo>
                        <a:lnTo>
                          <a:pt x="268" y="635"/>
                        </a:lnTo>
                        <a:lnTo>
                          <a:pt x="290" y="657"/>
                        </a:lnTo>
                        <a:lnTo>
                          <a:pt x="301" y="691"/>
                        </a:lnTo>
                        <a:lnTo>
                          <a:pt x="312" y="724"/>
                        </a:lnTo>
                        <a:lnTo>
                          <a:pt x="312" y="758"/>
                        </a:lnTo>
                        <a:lnTo>
                          <a:pt x="323" y="802"/>
                        </a:lnTo>
                        <a:lnTo>
                          <a:pt x="312" y="836"/>
                        </a:lnTo>
                        <a:lnTo>
                          <a:pt x="312" y="880"/>
                        </a:lnTo>
                        <a:lnTo>
                          <a:pt x="301" y="903"/>
                        </a:lnTo>
                        <a:lnTo>
                          <a:pt x="290" y="925"/>
                        </a:lnTo>
                        <a:lnTo>
                          <a:pt x="290" y="947"/>
                        </a:lnTo>
                        <a:lnTo>
                          <a:pt x="268" y="958"/>
                        </a:lnTo>
                        <a:lnTo>
                          <a:pt x="256" y="981"/>
                        </a:lnTo>
                        <a:lnTo>
                          <a:pt x="234" y="992"/>
                        </a:lnTo>
                        <a:lnTo>
                          <a:pt x="223" y="1003"/>
                        </a:lnTo>
                        <a:lnTo>
                          <a:pt x="201" y="1025"/>
                        </a:lnTo>
                        <a:lnTo>
                          <a:pt x="178" y="1036"/>
                        </a:lnTo>
                        <a:lnTo>
                          <a:pt x="156" y="1059"/>
                        </a:lnTo>
                        <a:lnTo>
                          <a:pt x="134" y="1070"/>
                        </a:lnTo>
                        <a:lnTo>
                          <a:pt x="123" y="1081"/>
                        </a:lnTo>
                        <a:lnTo>
                          <a:pt x="100" y="1103"/>
                        </a:lnTo>
                        <a:lnTo>
                          <a:pt x="89" y="1114"/>
                        </a:lnTo>
                        <a:lnTo>
                          <a:pt x="67" y="1137"/>
                        </a:lnTo>
                        <a:lnTo>
                          <a:pt x="56" y="1148"/>
                        </a:lnTo>
                        <a:lnTo>
                          <a:pt x="45" y="1159"/>
                        </a:lnTo>
                        <a:lnTo>
                          <a:pt x="22" y="1215"/>
                        </a:lnTo>
                        <a:lnTo>
                          <a:pt x="11" y="1270"/>
                        </a:lnTo>
                        <a:lnTo>
                          <a:pt x="0" y="1326"/>
                        </a:lnTo>
                        <a:lnTo>
                          <a:pt x="0" y="1393"/>
                        </a:lnTo>
                        <a:lnTo>
                          <a:pt x="0" y="1449"/>
                        </a:lnTo>
                        <a:lnTo>
                          <a:pt x="11" y="1516"/>
                        </a:lnTo>
                        <a:lnTo>
                          <a:pt x="22" y="1571"/>
                        </a:lnTo>
                        <a:lnTo>
                          <a:pt x="45" y="1616"/>
                        </a:lnTo>
                        <a:lnTo>
                          <a:pt x="56" y="1616"/>
                        </a:lnTo>
                        <a:lnTo>
                          <a:pt x="67" y="1594"/>
                        </a:lnTo>
                        <a:lnTo>
                          <a:pt x="67" y="1583"/>
                        </a:lnTo>
                        <a:lnTo>
                          <a:pt x="78" y="1571"/>
                        </a:lnTo>
                        <a:lnTo>
                          <a:pt x="78" y="1560"/>
                        </a:lnTo>
                        <a:lnTo>
                          <a:pt x="89" y="1549"/>
                        </a:lnTo>
                        <a:lnTo>
                          <a:pt x="89" y="1560"/>
                        </a:lnTo>
                        <a:lnTo>
                          <a:pt x="89" y="1605"/>
                        </a:lnTo>
                        <a:lnTo>
                          <a:pt x="100" y="1661"/>
                        </a:lnTo>
                        <a:lnTo>
                          <a:pt x="112" y="1694"/>
                        </a:lnTo>
                        <a:lnTo>
                          <a:pt x="134" y="1727"/>
                        </a:lnTo>
                        <a:lnTo>
                          <a:pt x="156" y="1761"/>
                        </a:lnTo>
                        <a:lnTo>
                          <a:pt x="178" y="1783"/>
                        </a:lnTo>
                        <a:lnTo>
                          <a:pt x="212" y="1805"/>
                        </a:lnTo>
                        <a:lnTo>
                          <a:pt x="245" y="1828"/>
                        </a:lnTo>
                        <a:lnTo>
                          <a:pt x="256" y="1805"/>
                        </a:lnTo>
                        <a:lnTo>
                          <a:pt x="256" y="1783"/>
                        </a:lnTo>
                        <a:lnTo>
                          <a:pt x="256" y="1772"/>
                        </a:lnTo>
                        <a:lnTo>
                          <a:pt x="268" y="1761"/>
                        </a:lnTo>
                        <a:lnTo>
                          <a:pt x="268" y="1794"/>
                        </a:lnTo>
                        <a:lnTo>
                          <a:pt x="268" y="1839"/>
                        </a:lnTo>
                        <a:lnTo>
                          <a:pt x="268" y="1883"/>
                        </a:lnTo>
                        <a:lnTo>
                          <a:pt x="268" y="1917"/>
                        </a:lnTo>
                        <a:lnTo>
                          <a:pt x="268" y="1961"/>
                        </a:lnTo>
                        <a:lnTo>
                          <a:pt x="256" y="1995"/>
                        </a:lnTo>
                        <a:lnTo>
                          <a:pt x="245" y="2039"/>
                        </a:lnTo>
                        <a:lnTo>
                          <a:pt x="245" y="2062"/>
                        </a:lnTo>
                        <a:lnTo>
                          <a:pt x="256" y="2051"/>
                        </a:lnTo>
                        <a:lnTo>
                          <a:pt x="279" y="2028"/>
                        </a:lnTo>
                        <a:lnTo>
                          <a:pt x="290" y="2017"/>
                        </a:lnTo>
                        <a:lnTo>
                          <a:pt x="312" y="1995"/>
                        </a:lnTo>
                        <a:lnTo>
                          <a:pt x="335" y="1984"/>
                        </a:lnTo>
                        <a:lnTo>
                          <a:pt x="357" y="1961"/>
                        </a:lnTo>
                        <a:lnTo>
                          <a:pt x="368" y="1939"/>
                        </a:lnTo>
                        <a:lnTo>
                          <a:pt x="390" y="1917"/>
                        </a:lnTo>
                        <a:lnTo>
                          <a:pt x="413" y="1895"/>
                        </a:lnTo>
                        <a:lnTo>
                          <a:pt x="424" y="1872"/>
                        </a:lnTo>
                        <a:lnTo>
                          <a:pt x="435" y="1850"/>
                        </a:lnTo>
                        <a:lnTo>
                          <a:pt x="446" y="1828"/>
                        </a:lnTo>
                        <a:lnTo>
                          <a:pt x="457" y="1794"/>
                        </a:lnTo>
                        <a:lnTo>
                          <a:pt x="468" y="1772"/>
                        </a:lnTo>
                        <a:lnTo>
                          <a:pt x="468" y="1739"/>
                        </a:lnTo>
                        <a:lnTo>
                          <a:pt x="468" y="1716"/>
                        </a:lnTo>
                        <a:lnTo>
                          <a:pt x="479" y="1727"/>
                        </a:lnTo>
                        <a:lnTo>
                          <a:pt x="491" y="1739"/>
                        </a:lnTo>
                        <a:lnTo>
                          <a:pt x="491" y="1750"/>
                        </a:lnTo>
                        <a:lnTo>
                          <a:pt x="513" y="1761"/>
                        </a:lnTo>
                        <a:lnTo>
                          <a:pt x="535" y="1727"/>
                        </a:lnTo>
                        <a:lnTo>
                          <a:pt x="557" y="1683"/>
                        </a:lnTo>
                        <a:lnTo>
                          <a:pt x="580" y="1616"/>
                        </a:lnTo>
                        <a:lnTo>
                          <a:pt x="602" y="1538"/>
                        </a:lnTo>
                        <a:lnTo>
                          <a:pt x="602" y="1460"/>
                        </a:lnTo>
                        <a:lnTo>
                          <a:pt x="602" y="1382"/>
                        </a:lnTo>
                        <a:lnTo>
                          <a:pt x="580" y="1304"/>
                        </a:lnTo>
                        <a:lnTo>
                          <a:pt x="535" y="1226"/>
                        </a:lnTo>
                        <a:lnTo>
                          <a:pt x="502" y="1170"/>
                        </a:lnTo>
                        <a:lnTo>
                          <a:pt x="479" y="1114"/>
                        </a:lnTo>
                        <a:lnTo>
                          <a:pt x="468" y="1059"/>
                        </a:lnTo>
                        <a:lnTo>
                          <a:pt x="457" y="1014"/>
                        </a:lnTo>
                        <a:lnTo>
                          <a:pt x="435" y="958"/>
                        </a:lnTo>
                        <a:lnTo>
                          <a:pt x="424" y="914"/>
                        </a:lnTo>
                        <a:lnTo>
                          <a:pt x="413" y="880"/>
                        </a:lnTo>
                        <a:lnTo>
                          <a:pt x="401" y="847"/>
                        </a:lnTo>
                        <a:lnTo>
                          <a:pt x="401" y="825"/>
                        </a:lnTo>
                        <a:lnTo>
                          <a:pt x="401" y="802"/>
                        </a:lnTo>
                        <a:lnTo>
                          <a:pt x="413" y="780"/>
                        </a:lnTo>
                        <a:lnTo>
                          <a:pt x="424" y="758"/>
                        </a:lnTo>
                        <a:lnTo>
                          <a:pt x="435" y="735"/>
                        </a:lnTo>
                        <a:lnTo>
                          <a:pt x="446" y="713"/>
                        </a:lnTo>
                        <a:lnTo>
                          <a:pt x="457" y="702"/>
                        </a:lnTo>
                        <a:lnTo>
                          <a:pt x="457" y="680"/>
                        </a:lnTo>
                        <a:lnTo>
                          <a:pt x="479" y="669"/>
                        </a:lnTo>
                        <a:lnTo>
                          <a:pt x="491" y="669"/>
                        </a:lnTo>
                        <a:lnTo>
                          <a:pt x="502" y="657"/>
                        </a:lnTo>
                        <a:lnTo>
                          <a:pt x="524" y="657"/>
                        </a:lnTo>
                        <a:lnTo>
                          <a:pt x="535" y="657"/>
                        </a:lnTo>
                        <a:lnTo>
                          <a:pt x="546" y="657"/>
                        </a:lnTo>
                        <a:lnTo>
                          <a:pt x="569" y="657"/>
                        </a:lnTo>
                        <a:lnTo>
                          <a:pt x="580" y="657"/>
                        </a:lnTo>
                        <a:lnTo>
                          <a:pt x="602" y="657"/>
                        </a:lnTo>
                        <a:lnTo>
                          <a:pt x="624" y="657"/>
                        </a:lnTo>
                        <a:lnTo>
                          <a:pt x="635" y="646"/>
                        </a:lnTo>
                        <a:lnTo>
                          <a:pt x="658" y="646"/>
                        </a:lnTo>
                        <a:lnTo>
                          <a:pt x="669" y="646"/>
                        </a:lnTo>
                        <a:lnTo>
                          <a:pt x="691" y="646"/>
                        </a:lnTo>
                        <a:lnTo>
                          <a:pt x="702" y="635"/>
                        </a:lnTo>
                        <a:lnTo>
                          <a:pt x="725" y="635"/>
                        </a:lnTo>
                        <a:lnTo>
                          <a:pt x="736" y="624"/>
                        </a:lnTo>
                        <a:lnTo>
                          <a:pt x="747" y="602"/>
                        </a:lnTo>
                        <a:lnTo>
                          <a:pt x="769" y="579"/>
                        </a:lnTo>
                        <a:lnTo>
                          <a:pt x="791" y="557"/>
                        </a:lnTo>
                        <a:lnTo>
                          <a:pt x="814" y="535"/>
                        </a:lnTo>
                        <a:lnTo>
                          <a:pt x="847" y="513"/>
                        </a:lnTo>
                        <a:lnTo>
                          <a:pt x="869" y="490"/>
                        </a:lnTo>
                        <a:lnTo>
                          <a:pt x="892" y="479"/>
                        </a:lnTo>
                        <a:lnTo>
                          <a:pt x="914" y="457"/>
                        </a:lnTo>
                        <a:lnTo>
                          <a:pt x="925" y="468"/>
                        </a:lnTo>
                        <a:lnTo>
                          <a:pt x="947" y="446"/>
                        </a:lnTo>
                        <a:lnTo>
                          <a:pt x="959" y="423"/>
                        </a:lnTo>
                        <a:lnTo>
                          <a:pt x="981" y="412"/>
                        </a:lnTo>
                        <a:lnTo>
                          <a:pt x="992" y="390"/>
                        </a:lnTo>
                        <a:lnTo>
                          <a:pt x="1014" y="368"/>
                        </a:lnTo>
                        <a:lnTo>
                          <a:pt x="1026" y="345"/>
                        </a:lnTo>
                        <a:lnTo>
                          <a:pt x="1048" y="323"/>
                        </a:lnTo>
                        <a:lnTo>
                          <a:pt x="1070" y="301"/>
                        </a:lnTo>
                        <a:lnTo>
                          <a:pt x="1092" y="334"/>
                        </a:lnTo>
                        <a:lnTo>
                          <a:pt x="1126" y="368"/>
                        </a:lnTo>
                        <a:lnTo>
                          <a:pt x="1159" y="412"/>
                        </a:lnTo>
                        <a:lnTo>
                          <a:pt x="1193" y="457"/>
                        </a:lnTo>
                        <a:lnTo>
                          <a:pt x="1226" y="501"/>
                        </a:lnTo>
                        <a:lnTo>
                          <a:pt x="1271" y="546"/>
                        </a:lnTo>
                        <a:lnTo>
                          <a:pt x="1304" y="602"/>
                        </a:lnTo>
                        <a:lnTo>
                          <a:pt x="1338" y="646"/>
                        </a:lnTo>
                        <a:lnTo>
                          <a:pt x="1382" y="702"/>
                        </a:lnTo>
                        <a:lnTo>
                          <a:pt x="1416" y="747"/>
                        </a:lnTo>
                        <a:lnTo>
                          <a:pt x="1449" y="802"/>
                        </a:lnTo>
                        <a:lnTo>
                          <a:pt x="1471" y="847"/>
                        </a:lnTo>
                        <a:lnTo>
                          <a:pt x="1505" y="892"/>
                        </a:lnTo>
                        <a:lnTo>
                          <a:pt x="1527" y="925"/>
                        </a:lnTo>
                        <a:lnTo>
                          <a:pt x="1538" y="958"/>
                        </a:lnTo>
                        <a:lnTo>
                          <a:pt x="1538" y="992"/>
                        </a:lnTo>
                        <a:lnTo>
                          <a:pt x="1516" y="1025"/>
                        </a:lnTo>
                        <a:lnTo>
                          <a:pt x="1505" y="1059"/>
                        </a:lnTo>
                        <a:lnTo>
                          <a:pt x="1482" y="1103"/>
                        </a:lnTo>
                        <a:lnTo>
                          <a:pt x="1471" y="1159"/>
                        </a:lnTo>
                        <a:lnTo>
                          <a:pt x="1471" y="1204"/>
                        </a:lnTo>
                        <a:lnTo>
                          <a:pt x="1460" y="1259"/>
                        </a:lnTo>
                        <a:lnTo>
                          <a:pt x="1471" y="1304"/>
                        </a:lnTo>
                        <a:lnTo>
                          <a:pt x="1471" y="1360"/>
                        </a:lnTo>
                        <a:lnTo>
                          <a:pt x="1494" y="1404"/>
                        </a:lnTo>
                        <a:lnTo>
                          <a:pt x="1505" y="1460"/>
                        </a:lnTo>
                        <a:lnTo>
                          <a:pt x="1527" y="1505"/>
                        </a:lnTo>
                        <a:lnTo>
                          <a:pt x="1560" y="1538"/>
                        </a:lnTo>
                        <a:lnTo>
                          <a:pt x="1594" y="1583"/>
                        </a:lnTo>
                        <a:lnTo>
                          <a:pt x="1627" y="1616"/>
                        </a:lnTo>
                        <a:lnTo>
                          <a:pt x="1672" y="1638"/>
                        </a:lnTo>
                        <a:lnTo>
                          <a:pt x="1717" y="1661"/>
                        </a:lnTo>
                        <a:lnTo>
                          <a:pt x="1728" y="1661"/>
                        </a:lnTo>
                        <a:lnTo>
                          <a:pt x="1728" y="1649"/>
                        </a:lnTo>
                        <a:lnTo>
                          <a:pt x="1728" y="1638"/>
                        </a:lnTo>
                        <a:lnTo>
                          <a:pt x="1717" y="1627"/>
                        </a:lnTo>
                        <a:lnTo>
                          <a:pt x="1705" y="1616"/>
                        </a:lnTo>
                        <a:lnTo>
                          <a:pt x="1717" y="1605"/>
                        </a:lnTo>
                        <a:lnTo>
                          <a:pt x="1728" y="1616"/>
                        </a:lnTo>
                        <a:lnTo>
                          <a:pt x="1739" y="1627"/>
                        </a:lnTo>
                        <a:lnTo>
                          <a:pt x="1761" y="1661"/>
                        </a:lnTo>
                        <a:lnTo>
                          <a:pt x="1772" y="1705"/>
                        </a:lnTo>
                        <a:lnTo>
                          <a:pt x="1783" y="1750"/>
                        </a:lnTo>
                        <a:lnTo>
                          <a:pt x="1783" y="1805"/>
                        </a:lnTo>
                        <a:lnTo>
                          <a:pt x="1783" y="1850"/>
                        </a:lnTo>
                        <a:lnTo>
                          <a:pt x="1783" y="1895"/>
                        </a:lnTo>
                        <a:lnTo>
                          <a:pt x="1772" y="1928"/>
                        </a:lnTo>
                        <a:lnTo>
                          <a:pt x="1795" y="1906"/>
                        </a:lnTo>
                        <a:lnTo>
                          <a:pt x="1817" y="1883"/>
                        </a:lnTo>
                        <a:lnTo>
                          <a:pt x="1839" y="1861"/>
                        </a:lnTo>
                        <a:lnTo>
                          <a:pt x="1861" y="1850"/>
                        </a:lnTo>
                        <a:lnTo>
                          <a:pt x="1873" y="1828"/>
                        </a:lnTo>
                        <a:lnTo>
                          <a:pt x="1884" y="1805"/>
                        </a:lnTo>
                        <a:lnTo>
                          <a:pt x="1895" y="1783"/>
                        </a:lnTo>
                        <a:lnTo>
                          <a:pt x="1917" y="1761"/>
                        </a:lnTo>
                        <a:lnTo>
                          <a:pt x="1917" y="1750"/>
                        </a:lnTo>
                        <a:lnTo>
                          <a:pt x="1928" y="1727"/>
                        </a:lnTo>
                        <a:lnTo>
                          <a:pt x="1939" y="1705"/>
                        </a:lnTo>
                        <a:lnTo>
                          <a:pt x="1951" y="1683"/>
                        </a:lnTo>
                        <a:lnTo>
                          <a:pt x="1962" y="1661"/>
                        </a:lnTo>
                        <a:lnTo>
                          <a:pt x="1962" y="1627"/>
                        </a:lnTo>
                        <a:lnTo>
                          <a:pt x="1973" y="1605"/>
                        </a:lnTo>
                        <a:lnTo>
                          <a:pt x="1973" y="1594"/>
                        </a:lnTo>
                        <a:lnTo>
                          <a:pt x="1984" y="1594"/>
                        </a:lnTo>
                        <a:lnTo>
                          <a:pt x="1984" y="1605"/>
                        </a:lnTo>
                        <a:lnTo>
                          <a:pt x="1973" y="1627"/>
                        </a:lnTo>
                        <a:lnTo>
                          <a:pt x="1973" y="1638"/>
                        </a:lnTo>
                        <a:lnTo>
                          <a:pt x="1962" y="1649"/>
                        </a:lnTo>
                        <a:lnTo>
                          <a:pt x="1973" y="1661"/>
                        </a:lnTo>
                        <a:lnTo>
                          <a:pt x="1984" y="1661"/>
                        </a:lnTo>
                        <a:lnTo>
                          <a:pt x="2006" y="1649"/>
                        </a:lnTo>
                        <a:lnTo>
                          <a:pt x="2040" y="1616"/>
                        </a:lnTo>
                        <a:lnTo>
                          <a:pt x="2062" y="1583"/>
                        </a:lnTo>
                        <a:lnTo>
                          <a:pt x="2084" y="1538"/>
                        </a:lnTo>
                        <a:lnTo>
                          <a:pt x="2095" y="1505"/>
                        </a:lnTo>
                        <a:lnTo>
                          <a:pt x="2107" y="1460"/>
                        </a:lnTo>
                        <a:lnTo>
                          <a:pt x="2095" y="1415"/>
                        </a:lnTo>
                        <a:lnTo>
                          <a:pt x="2095" y="1371"/>
                        </a:lnTo>
                        <a:lnTo>
                          <a:pt x="2073" y="1326"/>
                        </a:lnTo>
                        <a:lnTo>
                          <a:pt x="2051" y="1282"/>
                        </a:lnTo>
                        <a:lnTo>
                          <a:pt x="2029" y="1237"/>
                        </a:lnTo>
                        <a:lnTo>
                          <a:pt x="1984" y="1192"/>
                        </a:lnTo>
                        <a:lnTo>
                          <a:pt x="1939" y="1148"/>
                        </a:lnTo>
                        <a:lnTo>
                          <a:pt x="1895" y="1092"/>
                        </a:lnTo>
                        <a:lnTo>
                          <a:pt x="1839" y="1048"/>
                        </a:lnTo>
                        <a:lnTo>
                          <a:pt x="1783" y="992"/>
                        </a:lnTo>
                        <a:lnTo>
                          <a:pt x="1705" y="947"/>
                        </a:lnTo>
                        <a:lnTo>
                          <a:pt x="1717" y="892"/>
                        </a:lnTo>
                        <a:lnTo>
                          <a:pt x="1717" y="847"/>
                        </a:lnTo>
                        <a:lnTo>
                          <a:pt x="1717" y="791"/>
                        </a:lnTo>
                        <a:lnTo>
                          <a:pt x="1717" y="735"/>
                        </a:lnTo>
                        <a:lnTo>
                          <a:pt x="1728" y="669"/>
                        </a:lnTo>
                        <a:lnTo>
                          <a:pt x="1728" y="613"/>
                        </a:lnTo>
                        <a:lnTo>
                          <a:pt x="1728" y="546"/>
                        </a:lnTo>
                        <a:lnTo>
                          <a:pt x="1717" y="479"/>
                        </a:lnTo>
                        <a:lnTo>
                          <a:pt x="1705" y="423"/>
                        </a:lnTo>
                        <a:lnTo>
                          <a:pt x="1694" y="368"/>
                        </a:lnTo>
                        <a:lnTo>
                          <a:pt x="1683" y="301"/>
                        </a:lnTo>
                        <a:lnTo>
                          <a:pt x="1650" y="256"/>
                        </a:lnTo>
                        <a:lnTo>
                          <a:pt x="1616" y="200"/>
                        </a:lnTo>
                        <a:lnTo>
                          <a:pt x="1583" y="156"/>
                        </a:lnTo>
                        <a:lnTo>
                          <a:pt x="1527" y="122"/>
                        </a:lnTo>
                        <a:lnTo>
                          <a:pt x="1471" y="89"/>
                        </a:lnTo>
                        <a:lnTo>
                          <a:pt x="1460" y="78"/>
                        </a:lnTo>
                        <a:lnTo>
                          <a:pt x="1438" y="67"/>
                        </a:lnTo>
                        <a:lnTo>
                          <a:pt x="1416" y="67"/>
                        </a:lnTo>
                        <a:lnTo>
                          <a:pt x="1404" y="56"/>
                        </a:lnTo>
                        <a:lnTo>
                          <a:pt x="1382" y="44"/>
                        </a:lnTo>
                        <a:lnTo>
                          <a:pt x="1360" y="44"/>
                        </a:lnTo>
                        <a:lnTo>
                          <a:pt x="1349" y="44"/>
                        </a:lnTo>
                        <a:lnTo>
                          <a:pt x="1326" y="44"/>
                        </a:lnTo>
                        <a:lnTo>
                          <a:pt x="1315" y="44"/>
                        </a:lnTo>
                        <a:lnTo>
                          <a:pt x="1293" y="44"/>
                        </a:lnTo>
                        <a:lnTo>
                          <a:pt x="1282" y="44"/>
                        </a:lnTo>
                        <a:lnTo>
                          <a:pt x="1260" y="44"/>
                        </a:lnTo>
                        <a:lnTo>
                          <a:pt x="1248" y="56"/>
                        </a:lnTo>
                        <a:lnTo>
                          <a:pt x="1237" y="56"/>
                        </a:lnTo>
                        <a:lnTo>
                          <a:pt x="1226" y="56"/>
                        </a:lnTo>
                        <a:lnTo>
                          <a:pt x="1215" y="67"/>
                        </a:lnTo>
                        <a:lnTo>
                          <a:pt x="1193" y="78"/>
                        </a:lnTo>
                        <a:lnTo>
                          <a:pt x="1182" y="89"/>
                        </a:lnTo>
                        <a:lnTo>
                          <a:pt x="1170" y="100"/>
                        </a:lnTo>
                        <a:lnTo>
                          <a:pt x="1148" y="111"/>
                        </a:lnTo>
                        <a:lnTo>
                          <a:pt x="1137" y="122"/>
                        </a:lnTo>
                        <a:lnTo>
                          <a:pt x="1115" y="134"/>
                        </a:lnTo>
                        <a:lnTo>
                          <a:pt x="1104" y="145"/>
                        </a:lnTo>
                        <a:lnTo>
                          <a:pt x="1092" y="167"/>
                        </a:lnTo>
                        <a:close/>
                      </a:path>
                    </a:pathLst>
                  </a:custGeom>
                  <a:solidFill>
                    <a:srgbClr val="f5c77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Freeform 1037"/>
                  <p:cNvSpPr/>
                  <p:nvPr/>
                </p:nvSpPr>
                <p:spPr>
                  <a:xfrm rot="111600">
                    <a:off x="1041840" y="733320"/>
                    <a:ext cx="19440" cy="19080"/>
                  </a:xfrm>
                  <a:custGeom>
                    <a:avLst/>
                    <a:gdLst>
                      <a:gd name="textAreaLeft" fmla="*/ 0 w 19440"/>
                      <a:gd name="textAreaRight" fmla="*/ 19800 w 19440"/>
                      <a:gd name="textAreaTop" fmla="*/ 0 h 19080"/>
                      <a:gd name="textAreaBottom" fmla="*/ 19440 h 19080"/>
                    </a:gdLst>
                    <a:ahLst/>
                    <a:rect l="textAreaLeft" t="textAreaTop" r="textAreaRight" b="textAreaBottom"/>
                    <a:pathLst>
                      <a:path w="200" h="145">
                        <a:moveTo>
                          <a:pt x="0" y="11"/>
                        </a:moveTo>
                        <a:lnTo>
                          <a:pt x="0" y="11"/>
                        </a:lnTo>
                        <a:lnTo>
                          <a:pt x="33" y="22"/>
                        </a:lnTo>
                        <a:lnTo>
                          <a:pt x="67" y="45"/>
                        </a:lnTo>
                        <a:lnTo>
                          <a:pt x="89" y="56"/>
                        </a:lnTo>
                        <a:lnTo>
                          <a:pt x="122" y="78"/>
                        </a:lnTo>
                        <a:lnTo>
                          <a:pt x="145" y="100"/>
                        </a:lnTo>
                        <a:lnTo>
                          <a:pt x="167" y="112"/>
                        </a:lnTo>
                        <a:lnTo>
                          <a:pt x="178" y="134"/>
                        </a:lnTo>
                        <a:lnTo>
                          <a:pt x="189" y="145"/>
                        </a:lnTo>
                        <a:lnTo>
                          <a:pt x="200" y="134"/>
                        </a:lnTo>
                        <a:lnTo>
                          <a:pt x="189" y="123"/>
                        </a:lnTo>
                        <a:lnTo>
                          <a:pt x="167" y="100"/>
                        </a:lnTo>
                        <a:lnTo>
                          <a:pt x="156" y="89"/>
                        </a:lnTo>
                        <a:lnTo>
                          <a:pt x="122" y="67"/>
                        </a:lnTo>
                        <a:lnTo>
                          <a:pt x="100" y="45"/>
                        </a:lnTo>
                        <a:lnTo>
                          <a:pt x="67" y="22"/>
                        </a:lnTo>
                        <a:lnTo>
                          <a:pt x="44" y="11"/>
                        </a:lnTo>
                        <a:lnTo>
                          <a:pt x="0" y="0"/>
                        </a:lnTo>
                        <a:lnTo>
                          <a:pt x="0" y="11"/>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Freeform 1036"/>
                  <p:cNvSpPr/>
                  <p:nvPr/>
                </p:nvSpPr>
                <p:spPr>
                  <a:xfrm rot="111600">
                    <a:off x="984960" y="729000"/>
                    <a:ext cx="56520" cy="39960"/>
                  </a:xfrm>
                  <a:custGeom>
                    <a:avLst/>
                    <a:gdLst>
                      <a:gd name="textAreaLeft" fmla="*/ 0 w 56520"/>
                      <a:gd name="textAreaRight" fmla="*/ 56880 w 56520"/>
                      <a:gd name="textAreaTop" fmla="*/ 0 h 39960"/>
                      <a:gd name="textAreaBottom" fmla="*/ 40320 h 39960"/>
                    </a:gdLst>
                    <a:ahLst/>
                    <a:rect l="textAreaLeft" t="textAreaTop" r="textAreaRight" b="textAreaBottom"/>
                    <a:pathLst>
                      <a:path w="580" h="301">
                        <a:moveTo>
                          <a:pt x="11" y="301"/>
                        </a:moveTo>
                        <a:lnTo>
                          <a:pt x="11" y="301"/>
                        </a:lnTo>
                        <a:lnTo>
                          <a:pt x="34" y="267"/>
                        </a:lnTo>
                        <a:lnTo>
                          <a:pt x="67" y="223"/>
                        </a:lnTo>
                        <a:lnTo>
                          <a:pt x="89" y="189"/>
                        </a:lnTo>
                        <a:lnTo>
                          <a:pt x="123" y="156"/>
                        </a:lnTo>
                        <a:lnTo>
                          <a:pt x="156" y="122"/>
                        </a:lnTo>
                        <a:lnTo>
                          <a:pt x="190" y="100"/>
                        </a:lnTo>
                        <a:lnTo>
                          <a:pt x="223" y="78"/>
                        </a:lnTo>
                        <a:lnTo>
                          <a:pt x="257" y="56"/>
                        </a:lnTo>
                        <a:lnTo>
                          <a:pt x="301" y="33"/>
                        </a:lnTo>
                        <a:lnTo>
                          <a:pt x="335" y="22"/>
                        </a:lnTo>
                        <a:lnTo>
                          <a:pt x="368" y="22"/>
                        </a:lnTo>
                        <a:lnTo>
                          <a:pt x="413" y="11"/>
                        </a:lnTo>
                        <a:lnTo>
                          <a:pt x="457" y="11"/>
                        </a:lnTo>
                        <a:lnTo>
                          <a:pt x="502" y="11"/>
                        </a:lnTo>
                        <a:lnTo>
                          <a:pt x="535" y="22"/>
                        </a:lnTo>
                        <a:lnTo>
                          <a:pt x="580" y="33"/>
                        </a:lnTo>
                        <a:lnTo>
                          <a:pt x="580" y="22"/>
                        </a:lnTo>
                        <a:lnTo>
                          <a:pt x="546" y="11"/>
                        </a:lnTo>
                        <a:lnTo>
                          <a:pt x="502" y="0"/>
                        </a:lnTo>
                        <a:lnTo>
                          <a:pt x="457" y="0"/>
                        </a:lnTo>
                        <a:lnTo>
                          <a:pt x="413" y="0"/>
                        </a:lnTo>
                        <a:lnTo>
                          <a:pt x="368" y="0"/>
                        </a:lnTo>
                        <a:lnTo>
                          <a:pt x="335" y="11"/>
                        </a:lnTo>
                        <a:lnTo>
                          <a:pt x="290" y="22"/>
                        </a:lnTo>
                        <a:lnTo>
                          <a:pt x="257" y="44"/>
                        </a:lnTo>
                        <a:lnTo>
                          <a:pt x="212" y="67"/>
                        </a:lnTo>
                        <a:lnTo>
                          <a:pt x="179" y="89"/>
                        </a:lnTo>
                        <a:lnTo>
                          <a:pt x="145" y="111"/>
                        </a:lnTo>
                        <a:lnTo>
                          <a:pt x="112" y="145"/>
                        </a:lnTo>
                        <a:lnTo>
                          <a:pt x="78" y="178"/>
                        </a:lnTo>
                        <a:lnTo>
                          <a:pt x="56" y="212"/>
                        </a:lnTo>
                        <a:lnTo>
                          <a:pt x="23" y="256"/>
                        </a:lnTo>
                        <a:lnTo>
                          <a:pt x="0" y="301"/>
                        </a:lnTo>
                        <a:lnTo>
                          <a:pt x="11" y="301"/>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1035"/>
                  <p:cNvSpPr/>
                  <p:nvPr/>
                </p:nvSpPr>
                <p:spPr>
                  <a:xfrm rot="111600">
                    <a:off x="978840" y="768240"/>
                    <a:ext cx="5040" cy="45720"/>
                  </a:xfrm>
                  <a:custGeom>
                    <a:avLst/>
                    <a:gdLst>
                      <a:gd name="textAreaLeft" fmla="*/ 0 w 5040"/>
                      <a:gd name="textAreaRight" fmla="*/ 5040 w 5040"/>
                      <a:gd name="textAreaTop" fmla="*/ 0 h 45720"/>
                      <a:gd name="textAreaBottom" fmla="*/ 46080 h 45720"/>
                    </a:gdLst>
                    <a:ahLst/>
                    <a:rect l="textAreaLeft" t="textAreaTop" r="textAreaRight" b="textAreaBottom"/>
                    <a:pathLst>
                      <a:path w="55" h="345">
                        <a:moveTo>
                          <a:pt x="11" y="334"/>
                        </a:moveTo>
                        <a:lnTo>
                          <a:pt x="11" y="334"/>
                        </a:lnTo>
                        <a:lnTo>
                          <a:pt x="11" y="290"/>
                        </a:lnTo>
                        <a:lnTo>
                          <a:pt x="11" y="245"/>
                        </a:lnTo>
                        <a:lnTo>
                          <a:pt x="22" y="200"/>
                        </a:lnTo>
                        <a:lnTo>
                          <a:pt x="22" y="156"/>
                        </a:lnTo>
                        <a:lnTo>
                          <a:pt x="33" y="122"/>
                        </a:lnTo>
                        <a:lnTo>
                          <a:pt x="33" y="78"/>
                        </a:lnTo>
                        <a:lnTo>
                          <a:pt x="44" y="33"/>
                        </a:lnTo>
                        <a:lnTo>
                          <a:pt x="55" y="0"/>
                        </a:lnTo>
                        <a:lnTo>
                          <a:pt x="44" y="0"/>
                        </a:lnTo>
                        <a:lnTo>
                          <a:pt x="33" y="33"/>
                        </a:lnTo>
                        <a:lnTo>
                          <a:pt x="22" y="78"/>
                        </a:lnTo>
                        <a:lnTo>
                          <a:pt x="11" y="122"/>
                        </a:lnTo>
                        <a:lnTo>
                          <a:pt x="11" y="156"/>
                        </a:lnTo>
                        <a:lnTo>
                          <a:pt x="0" y="200"/>
                        </a:lnTo>
                        <a:lnTo>
                          <a:pt x="0" y="245"/>
                        </a:lnTo>
                        <a:lnTo>
                          <a:pt x="0" y="290"/>
                        </a:lnTo>
                        <a:lnTo>
                          <a:pt x="0" y="334"/>
                        </a:lnTo>
                        <a:lnTo>
                          <a:pt x="0" y="345"/>
                        </a:lnTo>
                        <a:lnTo>
                          <a:pt x="11" y="334"/>
                        </a:lnTo>
                        <a:close/>
                      </a:path>
                    </a:pathLst>
                  </a:custGeom>
                  <a:solidFill>
                    <a:srgbClr val="000000"/>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1034"/>
                  <p:cNvSpPr/>
                  <p:nvPr/>
                </p:nvSpPr>
                <p:spPr>
                  <a:xfrm rot="111600">
                    <a:off x="977760" y="812520"/>
                    <a:ext cx="5040" cy="37080"/>
                  </a:xfrm>
                  <a:custGeom>
                    <a:avLst/>
                    <a:gdLst>
                      <a:gd name="textAreaLeft" fmla="*/ 0 w 5040"/>
                      <a:gd name="textAreaRight" fmla="*/ 5040 w 5040"/>
                      <a:gd name="textAreaTop" fmla="*/ 0 h 37080"/>
                      <a:gd name="textAreaBottom" fmla="*/ 37440 h 37080"/>
                    </a:gdLst>
                    <a:ahLst/>
                    <a:rect l="textAreaLeft" t="textAreaTop" r="textAreaRight" b="textAreaBottom"/>
                    <a:pathLst>
                      <a:path w="55" h="279">
                        <a:moveTo>
                          <a:pt x="44" y="279"/>
                        </a:moveTo>
                        <a:lnTo>
                          <a:pt x="44" y="279"/>
                        </a:lnTo>
                        <a:lnTo>
                          <a:pt x="55" y="245"/>
                        </a:lnTo>
                        <a:lnTo>
                          <a:pt x="55" y="201"/>
                        </a:lnTo>
                        <a:lnTo>
                          <a:pt x="55" y="167"/>
                        </a:lnTo>
                        <a:lnTo>
                          <a:pt x="55" y="123"/>
                        </a:lnTo>
                        <a:lnTo>
                          <a:pt x="44" y="89"/>
                        </a:lnTo>
                        <a:lnTo>
                          <a:pt x="44" y="56"/>
                        </a:lnTo>
                        <a:lnTo>
                          <a:pt x="22" y="22"/>
                        </a:lnTo>
                        <a:lnTo>
                          <a:pt x="11" y="0"/>
                        </a:lnTo>
                        <a:lnTo>
                          <a:pt x="0" y="11"/>
                        </a:lnTo>
                        <a:lnTo>
                          <a:pt x="11" y="22"/>
                        </a:lnTo>
                        <a:lnTo>
                          <a:pt x="22" y="56"/>
                        </a:lnTo>
                        <a:lnTo>
                          <a:pt x="33" y="89"/>
                        </a:lnTo>
                        <a:lnTo>
                          <a:pt x="44" y="123"/>
                        </a:lnTo>
                        <a:lnTo>
                          <a:pt x="44" y="167"/>
                        </a:lnTo>
                        <a:lnTo>
                          <a:pt x="44" y="201"/>
                        </a:lnTo>
                        <a:lnTo>
                          <a:pt x="33" y="234"/>
                        </a:lnTo>
                        <a:lnTo>
                          <a:pt x="22" y="268"/>
                        </a:lnTo>
                        <a:lnTo>
                          <a:pt x="44" y="279"/>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1033"/>
                  <p:cNvSpPr/>
                  <p:nvPr/>
                </p:nvSpPr>
                <p:spPr>
                  <a:xfrm rot="111600">
                    <a:off x="955080" y="848160"/>
                    <a:ext cx="25920" cy="35280"/>
                  </a:xfrm>
                  <a:custGeom>
                    <a:avLst/>
                    <a:gdLst>
                      <a:gd name="textAreaLeft" fmla="*/ 0 w 25920"/>
                      <a:gd name="textAreaRight" fmla="*/ 26280 w 25920"/>
                      <a:gd name="textAreaTop" fmla="*/ 0 h 35280"/>
                      <a:gd name="textAreaBottom" fmla="*/ 35640 h 35280"/>
                    </a:gdLst>
                    <a:ahLst/>
                    <a:rect l="textAreaLeft" t="textAreaTop" r="textAreaRight" b="textAreaBottom"/>
                    <a:pathLst>
                      <a:path w="267" h="267">
                        <a:moveTo>
                          <a:pt x="11" y="267"/>
                        </a:moveTo>
                        <a:lnTo>
                          <a:pt x="11" y="267"/>
                        </a:lnTo>
                        <a:lnTo>
                          <a:pt x="11" y="245"/>
                        </a:lnTo>
                        <a:lnTo>
                          <a:pt x="33" y="234"/>
                        </a:lnTo>
                        <a:lnTo>
                          <a:pt x="44" y="223"/>
                        </a:lnTo>
                        <a:lnTo>
                          <a:pt x="55" y="200"/>
                        </a:lnTo>
                        <a:lnTo>
                          <a:pt x="78" y="189"/>
                        </a:lnTo>
                        <a:lnTo>
                          <a:pt x="100" y="178"/>
                        </a:lnTo>
                        <a:lnTo>
                          <a:pt x="122" y="156"/>
                        </a:lnTo>
                        <a:lnTo>
                          <a:pt x="145" y="145"/>
                        </a:lnTo>
                        <a:lnTo>
                          <a:pt x="156" y="122"/>
                        </a:lnTo>
                        <a:lnTo>
                          <a:pt x="178" y="111"/>
                        </a:lnTo>
                        <a:lnTo>
                          <a:pt x="200" y="100"/>
                        </a:lnTo>
                        <a:lnTo>
                          <a:pt x="211" y="78"/>
                        </a:lnTo>
                        <a:lnTo>
                          <a:pt x="234" y="67"/>
                        </a:lnTo>
                        <a:lnTo>
                          <a:pt x="245" y="44"/>
                        </a:lnTo>
                        <a:lnTo>
                          <a:pt x="256" y="22"/>
                        </a:lnTo>
                        <a:lnTo>
                          <a:pt x="267" y="11"/>
                        </a:lnTo>
                        <a:lnTo>
                          <a:pt x="245" y="0"/>
                        </a:lnTo>
                        <a:lnTo>
                          <a:pt x="245" y="22"/>
                        </a:lnTo>
                        <a:lnTo>
                          <a:pt x="234" y="33"/>
                        </a:lnTo>
                        <a:lnTo>
                          <a:pt x="223" y="55"/>
                        </a:lnTo>
                        <a:lnTo>
                          <a:pt x="200" y="67"/>
                        </a:lnTo>
                        <a:lnTo>
                          <a:pt x="189" y="89"/>
                        </a:lnTo>
                        <a:lnTo>
                          <a:pt x="167" y="100"/>
                        </a:lnTo>
                        <a:lnTo>
                          <a:pt x="156" y="111"/>
                        </a:lnTo>
                        <a:lnTo>
                          <a:pt x="133" y="133"/>
                        </a:lnTo>
                        <a:lnTo>
                          <a:pt x="111" y="145"/>
                        </a:lnTo>
                        <a:lnTo>
                          <a:pt x="89" y="167"/>
                        </a:lnTo>
                        <a:lnTo>
                          <a:pt x="67" y="178"/>
                        </a:lnTo>
                        <a:lnTo>
                          <a:pt x="55" y="189"/>
                        </a:lnTo>
                        <a:lnTo>
                          <a:pt x="33" y="211"/>
                        </a:lnTo>
                        <a:lnTo>
                          <a:pt x="22" y="223"/>
                        </a:lnTo>
                        <a:lnTo>
                          <a:pt x="11" y="245"/>
                        </a:lnTo>
                        <a:lnTo>
                          <a:pt x="0" y="256"/>
                        </a:lnTo>
                        <a:lnTo>
                          <a:pt x="11" y="267"/>
                        </a:lnTo>
                        <a:close/>
                      </a:path>
                    </a:pathLst>
                  </a:custGeom>
                  <a:solidFill>
                    <a:srgbClr val="00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1032"/>
                  <p:cNvSpPr/>
                  <p:nvPr/>
                </p:nvSpPr>
                <p:spPr>
                  <a:xfrm rot="111600">
                    <a:off x="948240" y="881280"/>
                    <a:ext cx="6480" cy="60480"/>
                  </a:xfrm>
                  <a:custGeom>
                    <a:avLst/>
                    <a:gdLst>
                      <a:gd name="textAreaLeft" fmla="*/ 0 w 6480"/>
                      <a:gd name="textAreaRight" fmla="*/ 6840 w 6480"/>
                      <a:gd name="textAreaTop" fmla="*/ 0 h 60480"/>
                      <a:gd name="textAreaBottom" fmla="*/ 60840 h 60480"/>
                    </a:gdLst>
                    <a:ahLst/>
                    <a:rect l="textAreaLeft" t="textAreaTop" r="textAreaRight" b="textAreaBottom"/>
                    <a:pathLst>
                      <a:path w="67" h="457">
                        <a:moveTo>
                          <a:pt x="67" y="457"/>
                        </a:moveTo>
                        <a:lnTo>
                          <a:pt x="67" y="457"/>
                        </a:lnTo>
                        <a:lnTo>
                          <a:pt x="45" y="401"/>
                        </a:lnTo>
                        <a:lnTo>
                          <a:pt x="33" y="357"/>
                        </a:lnTo>
                        <a:lnTo>
                          <a:pt x="22" y="290"/>
                        </a:lnTo>
                        <a:lnTo>
                          <a:pt x="11" y="234"/>
                        </a:lnTo>
                        <a:lnTo>
                          <a:pt x="22" y="167"/>
                        </a:lnTo>
                        <a:lnTo>
                          <a:pt x="22" y="111"/>
                        </a:lnTo>
                        <a:lnTo>
                          <a:pt x="33" y="56"/>
                        </a:lnTo>
                        <a:lnTo>
                          <a:pt x="67" y="11"/>
                        </a:lnTo>
                        <a:lnTo>
                          <a:pt x="56" y="0"/>
                        </a:lnTo>
                        <a:lnTo>
                          <a:pt x="22" y="45"/>
                        </a:lnTo>
                        <a:lnTo>
                          <a:pt x="11" y="100"/>
                        </a:lnTo>
                        <a:lnTo>
                          <a:pt x="0" y="167"/>
                        </a:lnTo>
                        <a:lnTo>
                          <a:pt x="0" y="234"/>
                        </a:lnTo>
                        <a:lnTo>
                          <a:pt x="0" y="290"/>
                        </a:lnTo>
                        <a:lnTo>
                          <a:pt x="22" y="357"/>
                        </a:lnTo>
                        <a:lnTo>
                          <a:pt x="33" y="412"/>
                        </a:lnTo>
                        <a:lnTo>
                          <a:pt x="56" y="457"/>
                        </a:lnTo>
                        <a:lnTo>
                          <a:pt x="67" y="457"/>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1031"/>
                  <p:cNvSpPr/>
                  <p:nvPr/>
                </p:nvSpPr>
                <p:spPr>
                  <a:xfrm rot="111600">
                    <a:off x="952560" y="932040"/>
                    <a:ext cx="3960" cy="11520"/>
                  </a:xfrm>
                  <a:custGeom>
                    <a:avLst/>
                    <a:gdLst>
                      <a:gd name="textAreaLeft" fmla="*/ 0 w 3960"/>
                      <a:gd name="textAreaRight" fmla="*/ 4320 w 3960"/>
                      <a:gd name="textAreaTop" fmla="*/ 0 h 11520"/>
                      <a:gd name="textAreaBottom" fmla="*/ 11880 h 11520"/>
                    </a:gdLst>
                    <a:ahLst/>
                    <a:rect l="textAreaLeft" t="textAreaTop" r="textAreaRight" b="textAreaBottom"/>
                    <a:pathLst>
                      <a:path w="44" h="89">
                        <a:moveTo>
                          <a:pt x="44" y="22"/>
                        </a:moveTo>
                        <a:lnTo>
                          <a:pt x="44" y="22"/>
                        </a:lnTo>
                        <a:lnTo>
                          <a:pt x="44" y="0"/>
                        </a:lnTo>
                        <a:lnTo>
                          <a:pt x="33" y="11"/>
                        </a:lnTo>
                        <a:lnTo>
                          <a:pt x="22" y="22"/>
                        </a:lnTo>
                        <a:lnTo>
                          <a:pt x="22" y="45"/>
                        </a:lnTo>
                        <a:lnTo>
                          <a:pt x="11" y="56"/>
                        </a:lnTo>
                        <a:lnTo>
                          <a:pt x="11" y="67"/>
                        </a:lnTo>
                        <a:lnTo>
                          <a:pt x="0" y="78"/>
                        </a:lnTo>
                        <a:lnTo>
                          <a:pt x="11" y="78"/>
                        </a:lnTo>
                        <a:lnTo>
                          <a:pt x="0" y="78"/>
                        </a:lnTo>
                        <a:lnTo>
                          <a:pt x="11" y="89"/>
                        </a:lnTo>
                        <a:lnTo>
                          <a:pt x="22" y="78"/>
                        </a:lnTo>
                        <a:lnTo>
                          <a:pt x="22" y="67"/>
                        </a:lnTo>
                        <a:lnTo>
                          <a:pt x="33" y="45"/>
                        </a:lnTo>
                        <a:lnTo>
                          <a:pt x="33" y="33"/>
                        </a:lnTo>
                        <a:lnTo>
                          <a:pt x="44" y="22"/>
                        </a:lnTo>
                        <a:lnTo>
                          <a:pt x="33" y="22"/>
                        </a:lnTo>
                        <a:lnTo>
                          <a:pt x="44" y="22"/>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Freeform 1030"/>
                  <p:cNvSpPr/>
                  <p:nvPr/>
                </p:nvSpPr>
                <p:spPr>
                  <a:xfrm rot="111600">
                    <a:off x="955440" y="934920"/>
                    <a:ext cx="16200" cy="35640"/>
                  </a:xfrm>
                  <a:custGeom>
                    <a:avLst/>
                    <a:gdLst>
                      <a:gd name="textAreaLeft" fmla="*/ 0 w 16200"/>
                      <a:gd name="textAreaRight" fmla="*/ 16560 w 16200"/>
                      <a:gd name="textAreaTop" fmla="*/ 0 h 35640"/>
                      <a:gd name="textAreaBottom" fmla="*/ 36000 h 35640"/>
                    </a:gdLst>
                    <a:ahLst/>
                    <a:rect l="textAreaLeft" t="textAreaTop" r="textAreaRight" b="textAreaBottom"/>
                    <a:pathLst>
                      <a:path w="167" h="268">
                        <a:moveTo>
                          <a:pt x="156" y="268"/>
                        </a:moveTo>
                        <a:lnTo>
                          <a:pt x="167" y="268"/>
                        </a:lnTo>
                        <a:lnTo>
                          <a:pt x="134" y="234"/>
                        </a:lnTo>
                        <a:lnTo>
                          <a:pt x="112" y="212"/>
                        </a:lnTo>
                        <a:lnTo>
                          <a:pt x="78" y="190"/>
                        </a:lnTo>
                        <a:lnTo>
                          <a:pt x="56" y="167"/>
                        </a:lnTo>
                        <a:lnTo>
                          <a:pt x="45" y="134"/>
                        </a:lnTo>
                        <a:lnTo>
                          <a:pt x="22" y="89"/>
                        </a:lnTo>
                        <a:lnTo>
                          <a:pt x="22" y="45"/>
                        </a:lnTo>
                        <a:lnTo>
                          <a:pt x="11" y="0"/>
                        </a:lnTo>
                        <a:lnTo>
                          <a:pt x="0" y="0"/>
                        </a:lnTo>
                        <a:lnTo>
                          <a:pt x="0" y="45"/>
                        </a:lnTo>
                        <a:lnTo>
                          <a:pt x="11" y="101"/>
                        </a:lnTo>
                        <a:lnTo>
                          <a:pt x="22" y="134"/>
                        </a:lnTo>
                        <a:lnTo>
                          <a:pt x="45" y="167"/>
                        </a:lnTo>
                        <a:lnTo>
                          <a:pt x="78" y="201"/>
                        </a:lnTo>
                        <a:lnTo>
                          <a:pt x="100" y="223"/>
                        </a:lnTo>
                        <a:lnTo>
                          <a:pt x="134" y="245"/>
                        </a:lnTo>
                        <a:lnTo>
                          <a:pt x="156" y="268"/>
                        </a:lnTo>
                        <a:lnTo>
                          <a:pt x="167" y="268"/>
                        </a:lnTo>
                        <a:lnTo>
                          <a:pt x="156" y="268"/>
                        </a:lnTo>
                        <a:close/>
                      </a:path>
                    </a:pathLst>
                  </a:custGeom>
                  <a:solidFill>
                    <a:srgbClr val="000000"/>
                  </a:soli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Freeform 1029"/>
                  <p:cNvSpPr/>
                  <p:nvPr/>
                </p:nvSpPr>
                <p:spPr>
                  <a:xfrm rot="111600">
                    <a:off x="970200" y="962280"/>
                    <a:ext cx="3240" cy="8640"/>
                  </a:xfrm>
                  <a:custGeom>
                    <a:avLst/>
                    <a:gdLst>
                      <a:gd name="textAreaLeft" fmla="*/ 0 w 3240"/>
                      <a:gd name="textAreaRight" fmla="*/ 3600 w 3240"/>
                      <a:gd name="textAreaTop" fmla="*/ 0 h 8640"/>
                      <a:gd name="textAreaBottom" fmla="*/ 9000 h 8640"/>
                    </a:gdLst>
                    <a:ahLst/>
                    <a:rect l="textAreaLeft" t="textAreaTop" r="textAreaRight" b="textAreaBottom"/>
                    <a:pathLst>
                      <a:path w="34" h="67">
                        <a:moveTo>
                          <a:pt x="34" y="0"/>
                        </a:moveTo>
                        <a:lnTo>
                          <a:pt x="22" y="0"/>
                        </a:lnTo>
                        <a:lnTo>
                          <a:pt x="22" y="11"/>
                        </a:lnTo>
                        <a:lnTo>
                          <a:pt x="11" y="22"/>
                        </a:lnTo>
                        <a:lnTo>
                          <a:pt x="11" y="44"/>
                        </a:lnTo>
                        <a:lnTo>
                          <a:pt x="0" y="67"/>
                        </a:lnTo>
                        <a:lnTo>
                          <a:pt x="11" y="67"/>
                        </a:lnTo>
                        <a:lnTo>
                          <a:pt x="22" y="44"/>
                        </a:lnTo>
                        <a:lnTo>
                          <a:pt x="34" y="22"/>
                        </a:lnTo>
                        <a:lnTo>
                          <a:pt x="34" y="11"/>
                        </a:lnTo>
                        <a:lnTo>
                          <a:pt x="34" y="0"/>
                        </a:lnTo>
                        <a:lnTo>
                          <a:pt x="22" y="0"/>
                        </a:lnTo>
                        <a:lnTo>
                          <a:pt x="34" y="0"/>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1028"/>
                  <p:cNvSpPr/>
                  <p:nvPr/>
                </p:nvSpPr>
                <p:spPr>
                  <a:xfrm rot="111600">
                    <a:off x="969840" y="962280"/>
                    <a:ext cx="4320" cy="41400"/>
                  </a:xfrm>
                  <a:custGeom>
                    <a:avLst/>
                    <a:gdLst>
                      <a:gd name="textAreaLeft" fmla="*/ 0 w 4320"/>
                      <a:gd name="textAreaRight" fmla="*/ 4320 w 4320"/>
                      <a:gd name="textAreaTop" fmla="*/ 0 h 41400"/>
                      <a:gd name="textAreaBottom" fmla="*/ 41760 h 41400"/>
                    </a:gdLst>
                    <a:ahLst/>
                    <a:rect l="textAreaLeft" t="textAreaTop" r="textAreaRight" b="textAreaBottom"/>
                    <a:pathLst>
                      <a:path w="45" h="312">
                        <a:moveTo>
                          <a:pt x="0" y="301"/>
                        </a:moveTo>
                        <a:lnTo>
                          <a:pt x="11" y="301"/>
                        </a:lnTo>
                        <a:lnTo>
                          <a:pt x="22" y="278"/>
                        </a:lnTo>
                        <a:lnTo>
                          <a:pt x="34" y="245"/>
                        </a:lnTo>
                        <a:lnTo>
                          <a:pt x="34" y="200"/>
                        </a:lnTo>
                        <a:lnTo>
                          <a:pt x="45" y="156"/>
                        </a:lnTo>
                        <a:lnTo>
                          <a:pt x="45" y="122"/>
                        </a:lnTo>
                        <a:lnTo>
                          <a:pt x="45" y="78"/>
                        </a:lnTo>
                        <a:lnTo>
                          <a:pt x="45" y="33"/>
                        </a:lnTo>
                        <a:lnTo>
                          <a:pt x="34" y="0"/>
                        </a:lnTo>
                        <a:lnTo>
                          <a:pt x="22" y="0"/>
                        </a:lnTo>
                        <a:lnTo>
                          <a:pt x="22" y="33"/>
                        </a:lnTo>
                        <a:lnTo>
                          <a:pt x="34" y="78"/>
                        </a:lnTo>
                        <a:lnTo>
                          <a:pt x="22" y="122"/>
                        </a:lnTo>
                        <a:lnTo>
                          <a:pt x="22" y="156"/>
                        </a:lnTo>
                        <a:lnTo>
                          <a:pt x="22" y="200"/>
                        </a:lnTo>
                        <a:lnTo>
                          <a:pt x="11" y="234"/>
                        </a:lnTo>
                        <a:lnTo>
                          <a:pt x="11" y="267"/>
                        </a:lnTo>
                        <a:lnTo>
                          <a:pt x="0" y="301"/>
                        </a:lnTo>
                        <a:lnTo>
                          <a:pt x="11" y="312"/>
                        </a:lnTo>
                        <a:lnTo>
                          <a:pt x="0" y="301"/>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1027"/>
                  <p:cNvSpPr/>
                  <p:nvPr/>
                </p:nvSpPr>
                <p:spPr>
                  <a:xfrm rot="111600">
                    <a:off x="969480" y="955080"/>
                    <a:ext cx="23760" cy="48960"/>
                  </a:xfrm>
                  <a:custGeom>
                    <a:avLst/>
                    <a:gdLst>
                      <a:gd name="textAreaLeft" fmla="*/ 0 w 23760"/>
                      <a:gd name="textAreaRight" fmla="*/ 24120 w 23760"/>
                      <a:gd name="textAreaTop" fmla="*/ 0 h 48960"/>
                      <a:gd name="textAreaBottom" fmla="*/ 49320 h 48960"/>
                    </a:gdLst>
                    <a:ahLst/>
                    <a:rect l="textAreaLeft" t="textAreaTop" r="textAreaRight" b="textAreaBottom"/>
                    <a:pathLst>
                      <a:path w="245" h="368">
                        <a:moveTo>
                          <a:pt x="245" y="0"/>
                        </a:moveTo>
                        <a:lnTo>
                          <a:pt x="223" y="11"/>
                        </a:lnTo>
                        <a:lnTo>
                          <a:pt x="223" y="34"/>
                        </a:lnTo>
                        <a:lnTo>
                          <a:pt x="223" y="67"/>
                        </a:lnTo>
                        <a:lnTo>
                          <a:pt x="223" y="89"/>
                        </a:lnTo>
                        <a:lnTo>
                          <a:pt x="212" y="112"/>
                        </a:lnTo>
                        <a:lnTo>
                          <a:pt x="201" y="134"/>
                        </a:lnTo>
                        <a:lnTo>
                          <a:pt x="190" y="156"/>
                        </a:lnTo>
                        <a:lnTo>
                          <a:pt x="167" y="190"/>
                        </a:lnTo>
                        <a:lnTo>
                          <a:pt x="156" y="212"/>
                        </a:lnTo>
                        <a:lnTo>
                          <a:pt x="134" y="223"/>
                        </a:lnTo>
                        <a:lnTo>
                          <a:pt x="112" y="245"/>
                        </a:lnTo>
                        <a:lnTo>
                          <a:pt x="89" y="268"/>
                        </a:lnTo>
                        <a:lnTo>
                          <a:pt x="78" y="290"/>
                        </a:lnTo>
                        <a:lnTo>
                          <a:pt x="56" y="301"/>
                        </a:lnTo>
                        <a:lnTo>
                          <a:pt x="34" y="323"/>
                        </a:lnTo>
                        <a:lnTo>
                          <a:pt x="22" y="334"/>
                        </a:lnTo>
                        <a:lnTo>
                          <a:pt x="0" y="357"/>
                        </a:lnTo>
                        <a:lnTo>
                          <a:pt x="11" y="368"/>
                        </a:lnTo>
                        <a:lnTo>
                          <a:pt x="34" y="346"/>
                        </a:lnTo>
                        <a:lnTo>
                          <a:pt x="45" y="334"/>
                        </a:lnTo>
                        <a:lnTo>
                          <a:pt x="67" y="312"/>
                        </a:lnTo>
                        <a:lnTo>
                          <a:pt x="89" y="301"/>
                        </a:lnTo>
                        <a:lnTo>
                          <a:pt x="101" y="279"/>
                        </a:lnTo>
                        <a:lnTo>
                          <a:pt x="123" y="256"/>
                        </a:lnTo>
                        <a:lnTo>
                          <a:pt x="145" y="234"/>
                        </a:lnTo>
                        <a:lnTo>
                          <a:pt x="167" y="212"/>
                        </a:lnTo>
                        <a:lnTo>
                          <a:pt x="179" y="190"/>
                        </a:lnTo>
                        <a:lnTo>
                          <a:pt x="201" y="167"/>
                        </a:lnTo>
                        <a:lnTo>
                          <a:pt x="212" y="145"/>
                        </a:lnTo>
                        <a:lnTo>
                          <a:pt x="223" y="123"/>
                        </a:lnTo>
                        <a:lnTo>
                          <a:pt x="234" y="89"/>
                        </a:lnTo>
                        <a:lnTo>
                          <a:pt x="234" y="67"/>
                        </a:lnTo>
                        <a:lnTo>
                          <a:pt x="245" y="34"/>
                        </a:lnTo>
                        <a:lnTo>
                          <a:pt x="245" y="11"/>
                        </a:lnTo>
                        <a:lnTo>
                          <a:pt x="234" y="11"/>
                        </a:lnTo>
                        <a:lnTo>
                          <a:pt x="245" y="0"/>
                        </a:lnTo>
                        <a:close/>
                      </a:path>
                    </a:pathLst>
                  </a:custGeom>
                  <a:solidFill>
                    <a:srgbClr val="000000"/>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1026"/>
                  <p:cNvSpPr/>
                  <p:nvPr/>
                </p:nvSpPr>
                <p:spPr>
                  <a:xfrm rot="111600">
                    <a:off x="993240" y="955440"/>
                    <a:ext cx="4320" cy="8640"/>
                  </a:xfrm>
                  <a:custGeom>
                    <a:avLst/>
                    <a:gdLst>
                      <a:gd name="textAreaLeft" fmla="*/ 0 w 4320"/>
                      <a:gd name="textAreaRight" fmla="*/ 4320 w 4320"/>
                      <a:gd name="textAreaTop" fmla="*/ 0 h 8640"/>
                      <a:gd name="textAreaBottom" fmla="*/ 9000 h 8640"/>
                    </a:gdLst>
                    <a:ahLst/>
                    <a:rect l="textAreaLeft" t="textAreaTop" r="textAreaRight" b="textAreaBottom"/>
                    <a:pathLst>
                      <a:path w="45" h="67">
                        <a:moveTo>
                          <a:pt x="34" y="56"/>
                        </a:moveTo>
                        <a:lnTo>
                          <a:pt x="45" y="56"/>
                        </a:lnTo>
                        <a:lnTo>
                          <a:pt x="34" y="45"/>
                        </a:lnTo>
                        <a:lnTo>
                          <a:pt x="23" y="22"/>
                        </a:lnTo>
                        <a:lnTo>
                          <a:pt x="11" y="0"/>
                        </a:lnTo>
                        <a:lnTo>
                          <a:pt x="0" y="11"/>
                        </a:lnTo>
                        <a:lnTo>
                          <a:pt x="11" y="22"/>
                        </a:lnTo>
                        <a:lnTo>
                          <a:pt x="11" y="34"/>
                        </a:lnTo>
                        <a:lnTo>
                          <a:pt x="23" y="45"/>
                        </a:lnTo>
                        <a:lnTo>
                          <a:pt x="34" y="67"/>
                        </a:lnTo>
                        <a:lnTo>
                          <a:pt x="45" y="67"/>
                        </a:lnTo>
                        <a:lnTo>
                          <a:pt x="34" y="56"/>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1025"/>
                  <p:cNvSpPr/>
                  <p:nvPr/>
                </p:nvSpPr>
                <p:spPr>
                  <a:xfrm rot="111600">
                    <a:off x="997560" y="892080"/>
                    <a:ext cx="10800" cy="72360"/>
                  </a:xfrm>
                  <a:custGeom>
                    <a:avLst/>
                    <a:gdLst>
                      <a:gd name="textAreaLeft" fmla="*/ 0 w 10800"/>
                      <a:gd name="textAreaRight" fmla="*/ 10800 w 10800"/>
                      <a:gd name="textAreaTop" fmla="*/ 0 h 72360"/>
                      <a:gd name="textAreaBottom" fmla="*/ 72720 h 72360"/>
                    </a:gdLst>
                    <a:ahLst/>
                    <a:rect l="textAreaLeft" t="textAreaTop" r="textAreaRight" b="textAreaBottom"/>
                    <a:pathLst>
                      <a:path w="111" h="546">
                        <a:moveTo>
                          <a:pt x="22" y="0"/>
                        </a:moveTo>
                        <a:lnTo>
                          <a:pt x="22" y="0"/>
                        </a:lnTo>
                        <a:lnTo>
                          <a:pt x="67" y="78"/>
                        </a:lnTo>
                        <a:lnTo>
                          <a:pt x="89" y="156"/>
                        </a:lnTo>
                        <a:lnTo>
                          <a:pt x="100" y="234"/>
                        </a:lnTo>
                        <a:lnTo>
                          <a:pt x="89" y="312"/>
                        </a:lnTo>
                        <a:lnTo>
                          <a:pt x="78" y="390"/>
                        </a:lnTo>
                        <a:lnTo>
                          <a:pt x="55" y="446"/>
                        </a:lnTo>
                        <a:lnTo>
                          <a:pt x="22" y="501"/>
                        </a:lnTo>
                        <a:lnTo>
                          <a:pt x="0" y="535"/>
                        </a:lnTo>
                        <a:lnTo>
                          <a:pt x="11" y="546"/>
                        </a:lnTo>
                        <a:lnTo>
                          <a:pt x="33" y="513"/>
                        </a:lnTo>
                        <a:lnTo>
                          <a:pt x="67" y="457"/>
                        </a:lnTo>
                        <a:lnTo>
                          <a:pt x="89" y="390"/>
                        </a:lnTo>
                        <a:lnTo>
                          <a:pt x="100" y="312"/>
                        </a:lnTo>
                        <a:lnTo>
                          <a:pt x="111" y="234"/>
                        </a:lnTo>
                        <a:lnTo>
                          <a:pt x="100" y="156"/>
                        </a:lnTo>
                        <a:lnTo>
                          <a:pt x="78" y="78"/>
                        </a:lnTo>
                        <a:lnTo>
                          <a:pt x="33" y="0"/>
                        </a:lnTo>
                        <a:lnTo>
                          <a:pt x="22" y="0"/>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Freeform 1024"/>
                  <p:cNvSpPr/>
                  <p:nvPr/>
                </p:nvSpPr>
                <p:spPr>
                  <a:xfrm rot="111600">
                    <a:off x="988560" y="839880"/>
                    <a:ext cx="14040" cy="51840"/>
                  </a:xfrm>
                  <a:custGeom>
                    <a:avLst/>
                    <a:gdLst>
                      <a:gd name="textAreaLeft" fmla="*/ 0 w 14040"/>
                      <a:gd name="textAreaRight" fmla="*/ 14400 w 14040"/>
                      <a:gd name="textAreaTop" fmla="*/ 0 h 51840"/>
                      <a:gd name="textAreaBottom" fmla="*/ 52200 h 51840"/>
                    </a:gdLst>
                    <a:ahLst/>
                    <a:rect l="textAreaLeft" t="textAreaTop" r="textAreaRight" b="textAreaBottom"/>
                    <a:pathLst>
                      <a:path w="145" h="390">
                        <a:moveTo>
                          <a:pt x="0" y="11"/>
                        </a:moveTo>
                        <a:lnTo>
                          <a:pt x="0" y="11"/>
                        </a:lnTo>
                        <a:lnTo>
                          <a:pt x="11" y="44"/>
                        </a:lnTo>
                        <a:lnTo>
                          <a:pt x="34" y="78"/>
                        </a:lnTo>
                        <a:lnTo>
                          <a:pt x="45" y="122"/>
                        </a:lnTo>
                        <a:lnTo>
                          <a:pt x="56" y="178"/>
                        </a:lnTo>
                        <a:lnTo>
                          <a:pt x="67" y="223"/>
                        </a:lnTo>
                        <a:lnTo>
                          <a:pt x="89" y="278"/>
                        </a:lnTo>
                        <a:lnTo>
                          <a:pt x="112" y="334"/>
                        </a:lnTo>
                        <a:lnTo>
                          <a:pt x="134" y="390"/>
                        </a:lnTo>
                        <a:lnTo>
                          <a:pt x="145" y="390"/>
                        </a:lnTo>
                        <a:lnTo>
                          <a:pt x="123" y="334"/>
                        </a:lnTo>
                        <a:lnTo>
                          <a:pt x="101" y="278"/>
                        </a:lnTo>
                        <a:lnTo>
                          <a:pt x="78" y="223"/>
                        </a:lnTo>
                        <a:lnTo>
                          <a:pt x="67" y="178"/>
                        </a:lnTo>
                        <a:lnTo>
                          <a:pt x="56" y="122"/>
                        </a:lnTo>
                        <a:lnTo>
                          <a:pt x="45" y="78"/>
                        </a:lnTo>
                        <a:lnTo>
                          <a:pt x="34" y="44"/>
                        </a:lnTo>
                        <a:lnTo>
                          <a:pt x="11" y="0"/>
                        </a:lnTo>
                        <a:lnTo>
                          <a:pt x="11" y="11"/>
                        </a:lnTo>
                        <a:lnTo>
                          <a:pt x="0" y="11"/>
                        </a:lnTo>
                        <a:close/>
                      </a:path>
                    </a:pathLst>
                  </a:custGeom>
                  <a:solidFill>
                    <a:srgbClr val="0000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Freeform 1023"/>
                  <p:cNvSpPr/>
                  <p:nvPr/>
                </p:nvSpPr>
                <p:spPr>
                  <a:xfrm rot="111600">
                    <a:off x="990000" y="819000"/>
                    <a:ext cx="7560" cy="21960"/>
                  </a:xfrm>
                  <a:custGeom>
                    <a:avLst/>
                    <a:gdLst>
                      <a:gd name="textAreaLeft" fmla="*/ 0 w 7560"/>
                      <a:gd name="textAreaRight" fmla="*/ 7920 w 7560"/>
                      <a:gd name="textAreaTop" fmla="*/ 0 h 21960"/>
                      <a:gd name="textAreaBottom" fmla="*/ 22320 h 21960"/>
                    </a:gdLst>
                    <a:ahLst/>
                    <a:rect l="textAreaLeft" t="textAreaTop" r="textAreaRight" b="textAreaBottom"/>
                    <a:pathLst>
                      <a:path w="78" h="167">
                        <a:moveTo>
                          <a:pt x="67" y="0"/>
                        </a:moveTo>
                        <a:lnTo>
                          <a:pt x="67" y="0"/>
                        </a:lnTo>
                        <a:lnTo>
                          <a:pt x="56" y="11"/>
                        </a:lnTo>
                        <a:lnTo>
                          <a:pt x="45" y="33"/>
                        </a:lnTo>
                        <a:lnTo>
                          <a:pt x="34" y="55"/>
                        </a:lnTo>
                        <a:lnTo>
                          <a:pt x="23" y="78"/>
                        </a:lnTo>
                        <a:lnTo>
                          <a:pt x="11" y="100"/>
                        </a:lnTo>
                        <a:lnTo>
                          <a:pt x="11" y="122"/>
                        </a:lnTo>
                        <a:lnTo>
                          <a:pt x="0" y="145"/>
                        </a:lnTo>
                        <a:lnTo>
                          <a:pt x="0" y="167"/>
                        </a:lnTo>
                        <a:lnTo>
                          <a:pt x="11" y="167"/>
                        </a:lnTo>
                        <a:lnTo>
                          <a:pt x="11" y="145"/>
                        </a:lnTo>
                        <a:lnTo>
                          <a:pt x="23" y="122"/>
                        </a:lnTo>
                        <a:lnTo>
                          <a:pt x="34" y="100"/>
                        </a:lnTo>
                        <a:lnTo>
                          <a:pt x="45" y="78"/>
                        </a:lnTo>
                        <a:lnTo>
                          <a:pt x="56" y="55"/>
                        </a:lnTo>
                        <a:lnTo>
                          <a:pt x="67" y="33"/>
                        </a:lnTo>
                        <a:lnTo>
                          <a:pt x="67" y="22"/>
                        </a:lnTo>
                        <a:lnTo>
                          <a:pt x="78" y="11"/>
                        </a:lnTo>
                        <a:lnTo>
                          <a:pt x="67"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Freeform 1022"/>
                  <p:cNvSpPr/>
                  <p:nvPr/>
                </p:nvSpPr>
                <p:spPr>
                  <a:xfrm rot="111600">
                    <a:off x="996840" y="816480"/>
                    <a:ext cx="1800" cy="4320"/>
                  </a:xfrm>
                  <a:custGeom>
                    <a:avLst/>
                    <a:gdLst>
                      <a:gd name="textAreaLeft" fmla="*/ 0 w 1800"/>
                      <a:gd name="textAreaRight" fmla="*/ 2160 w 1800"/>
                      <a:gd name="textAreaTop" fmla="*/ 0 h 4320"/>
                      <a:gd name="textAreaBottom" fmla="*/ 4680 h 4320"/>
                    </a:gdLst>
                    <a:ahLst/>
                    <a:rect l="textAreaLeft" t="textAreaTop" r="textAreaRight" b="textAreaBottom"/>
                    <a:pathLst>
                      <a:path w="22" h="34">
                        <a:moveTo>
                          <a:pt x="22" y="0"/>
                        </a:moveTo>
                        <a:lnTo>
                          <a:pt x="11" y="12"/>
                        </a:lnTo>
                        <a:lnTo>
                          <a:pt x="0" y="23"/>
                        </a:lnTo>
                        <a:lnTo>
                          <a:pt x="11" y="34"/>
                        </a:lnTo>
                        <a:lnTo>
                          <a:pt x="22" y="23"/>
                        </a:lnTo>
                        <a:lnTo>
                          <a:pt x="22" y="0"/>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1021"/>
                  <p:cNvSpPr/>
                  <p:nvPr/>
                </p:nvSpPr>
                <p:spPr>
                  <a:xfrm rot="111600">
                    <a:off x="999000" y="810720"/>
                    <a:ext cx="25920" cy="8640"/>
                  </a:xfrm>
                  <a:custGeom>
                    <a:avLst/>
                    <a:gdLst>
                      <a:gd name="textAreaLeft" fmla="*/ 0 w 25920"/>
                      <a:gd name="textAreaRight" fmla="*/ 26280 w 25920"/>
                      <a:gd name="textAreaTop" fmla="*/ 0 h 8640"/>
                      <a:gd name="textAreaBottom" fmla="*/ 9000 h 8640"/>
                    </a:gdLst>
                    <a:ahLst/>
                    <a:rect l="textAreaLeft" t="textAreaTop" r="textAreaRight" b="textAreaBottom"/>
                    <a:pathLst>
                      <a:path w="268" h="67">
                        <a:moveTo>
                          <a:pt x="246" y="11"/>
                        </a:moveTo>
                        <a:lnTo>
                          <a:pt x="257" y="0"/>
                        </a:lnTo>
                        <a:lnTo>
                          <a:pt x="234" y="11"/>
                        </a:lnTo>
                        <a:lnTo>
                          <a:pt x="223" y="22"/>
                        </a:lnTo>
                        <a:lnTo>
                          <a:pt x="212" y="22"/>
                        </a:lnTo>
                        <a:lnTo>
                          <a:pt x="190" y="33"/>
                        </a:lnTo>
                        <a:lnTo>
                          <a:pt x="179" y="33"/>
                        </a:lnTo>
                        <a:lnTo>
                          <a:pt x="156" y="33"/>
                        </a:lnTo>
                        <a:lnTo>
                          <a:pt x="145" y="33"/>
                        </a:lnTo>
                        <a:lnTo>
                          <a:pt x="123" y="33"/>
                        </a:lnTo>
                        <a:lnTo>
                          <a:pt x="101" y="33"/>
                        </a:lnTo>
                        <a:lnTo>
                          <a:pt x="90" y="33"/>
                        </a:lnTo>
                        <a:lnTo>
                          <a:pt x="67" y="33"/>
                        </a:lnTo>
                        <a:lnTo>
                          <a:pt x="56" y="33"/>
                        </a:lnTo>
                        <a:lnTo>
                          <a:pt x="45" y="33"/>
                        </a:lnTo>
                        <a:lnTo>
                          <a:pt x="23" y="44"/>
                        </a:lnTo>
                        <a:lnTo>
                          <a:pt x="12" y="44"/>
                        </a:lnTo>
                        <a:lnTo>
                          <a:pt x="0" y="44"/>
                        </a:lnTo>
                        <a:lnTo>
                          <a:pt x="0" y="67"/>
                        </a:lnTo>
                        <a:lnTo>
                          <a:pt x="12" y="56"/>
                        </a:lnTo>
                        <a:lnTo>
                          <a:pt x="23" y="56"/>
                        </a:lnTo>
                        <a:lnTo>
                          <a:pt x="45" y="56"/>
                        </a:lnTo>
                        <a:lnTo>
                          <a:pt x="56" y="56"/>
                        </a:lnTo>
                        <a:lnTo>
                          <a:pt x="67" y="44"/>
                        </a:lnTo>
                        <a:lnTo>
                          <a:pt x="90" y="44"/>
                        </a:lnTo>
                        <a:lnTo>
                          <a:pt x="101" y="44"/>
                        </a:lnTo>
                        <a:lnTo>
                          <a:pt x="123" y="44"/>
                        </a:lnTo>
                        <a:lnTo>
                          <a:pt x="145" y="44"/>
                        </a:lnTo>
                        <a:lnTo>
                          <a:pt x="156" y="44"/>
                        </a:lnTo>
                        <a:lnTo>
                          <a:pt x="179" y="44"/>
                        </a:lnTo>
                        <a:lnTo>
                          <a:pt x="190" y="44"/>
                        </a:lnTo>
                        <a:lnTo>
                          <a:pt x="212" y="33"/>
                        </a:lnTo>
                        <a:lnTo>
                          <a:pt x="234" y="33"/>
                        </a:lnTo>
                        <a:lnTo>
                          <a:pt x="246" y="22"/>
                        </a:lnTo>
                        <a:lnTo>
                          <a:pt x="257" y="11"/>
                        </a:lnTo>
                        <a:lnTo>
                          <a:pt x="268" y="11"/>
                        </a:lnTo>
                        <a:lnTo>
                          <a:pt x="246" y="11"/>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1020"/>
                  <p:cNvSpPr/>
                  <p:nvPr/>
                </p:nvSpPr>
                <p:spPr>
                  <a:xfrm rot="111600">
                    <a:off x="1023120" y="789120"/>
                    <a:ext cx="18360" cy="23400"/>
                  </a:xfrm>
                  <a:custGeom>
                    <a:avLst/>
                    <a:gdLst>
                      <a:gd name="textAreaLeft" fmla="*/ 0 w 18360"/>
                      <a:gd name="textAreaRight" fmla="*/ 18720 w 18360"/>
                      <a:gd name="textAreaTop" fmla="*/ 0 h 23400"/>
                      <a:gd name="textAreaBottom" fmla="*/ 23760 h 23400"/>
                    </a:gdLst>
                    <a:ahLst/>
                    <a:rect l="textAreaLeft" t="textAreaTop" r="textAreaRight" b="textAreaBottom"/>
                    <a:pathLst>
                      <a:path w="189" h="178">
                        <a:moveTo>
                          <a:pt x="178" y="0"/>
                        </a:moveTo>
                        <a:lnTo>
                          <a:pt x="178" y="0"/>
                        </a:lnTo>
                        <a:lnTo>
                          <a:pt x="156" y="22"/>
                        </a:lnTo>
                        <a:lnTo>
                          <a:pt x="144" y="44"/>
                        </a:lnTo>
                        <a:lnTo>
                          <a:pt x="111" y="67"/>
                        </a:lnTo>
                        <a:lnTo>
                          <a:pt x="89" y="89"/>
                        </a:lnTo>
                        <a:lnTo>
                          <a:pt x="66" y="111"/>
                        </a:lnTo>
                        <a:lnTo>
                          <a:pt x="33" y="133"/>
                        </a:lnTo>
                        <a:lnTo>
                          <a:pt x="22" y="156"/>
                        </a:lnTo>
                        <a:lnTo>
                          <a:pt x="0" y="178"/>
                        </a:lnTo>
                        <a:lnTo>
                          <a:pt x="22" y="178"/>
                        </a:lnTo>
                        <a:lnTo>
                          <a:pt x="33" y="156"/>
                        </a:lnTo>
                        <a:lnTo>
                          <a:pt x="44" y="145"/>
                        </a:lnTo>
                        <a:lnTo>
                          <a:pt x="66" y="122"/>
                        </a:lnTo>
                        <a:lnTo>
                          <a:pt x="100" y="100"/>
                        </a:lnTo>
                        <a:lnTo>
                          <a:pt x="122" y="78"/>
                        </a:lnTo>
                        <a:lnTo>
                          <a:pt x="144" y="55"/>
                        </a:lnTo>
                        <a:lnTo>
                          <a:pt x="167" y="33"/>
                        </a:lnTo>
                        <a:lnTo>
                          <a:pt x="189" y="11"/>
                        </a:lnTo>
                        <a:lnTo>
                          <a:pt x="178" y="0"/>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1019"/>
                  <p:cNvSpPr/>
                  <p:nvPr/>
                </p:nvSpPr>
                <p:spPr>
                  <a:xfrm rot="111600">
                    <a:off x="1041120" y="789840"/>
                    <a:ext cx="1800" cy="2880"/>
                  </a:xfrm>
                  <a:custGeom>
                    <a:avLst/>
                    <a:gdLst>
                      <a:gd name="textAreaLeft" fmla="*/ 0 w 1800"/>
                      <a:gd name="textAreaRight" fmla="*/ 2160 w 1800"/>
                      <a:gd name="textAreaTop" fmla="*/ 0 h 2880"/>
                      <a:gd name="textAreaBottom" fmla="*/ 3240 h 2880"/>
                    </a:gdLst>
                    <a:ahLst/>
                    <a:rect l="textAreaLeft" t="textAreaTop" r="textAreaRight" b="textAreaBottom"/>
                    <a:pathLst>
                      <a:path w="22" h="22">
                        <a:moveTo>
                          <a:pt x="22" y="11"/>
                        </a:moveTo>
                        <a:lnTo>
                          <a:pt x="22" y="11"/>
                        </a:lnTo>
                        <a:lnTo>
                          <a:pt x="11" y="0"/>
                        </a:lnTo>
                        <a:lnTo>
                          <a:pt x="0" y="0"/>
                        </a:lnTo>
                        <a:lnTo>
                          <a:pt x="11" y="11"/>
                        </a:lnTo>
                        <a:lnTo>
                          <a:pt x="11" y="22"/>
                        </a:lnTo>
                        <a:lnTo>
                          <a:pt x="22" y="22"/>
                        </a:lnTo>
                        <a:lnTo>
                          <a:pt x="22"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Freeform 1018"/>
                  <p:cNvSpPr/>
                  <p:nvPr/>
                </p:nvSpPr>
                <p:spPr>
                  <a:xfrm rot="111600">
                    <a:off x="1043640" y="77040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45" h="167">
                        <a:moveTo>
                          <a:pt x="145" y="0"/>
                        </a:moveTo>
                        <a:lnTo>
                          <a:pt x="134" y="0"/>
                        </a:lnTo>
                        <a:lnTo>
                          <a:pt x="123" y="22"/>
                        </a:lnTo>
                        <a:lnTo>
                          <a:pt x="101" y="44"/>
                        </a:lnTo>
                        <a:lnTo>
                          <a:pt x="78" y="67"/>
                        </a:lnTo>
                        <a:lnTo>
                          <a:pt x="67" y="78"/>
                        </a:lnTo>
                        <a:lnTo>
                          <a:pt x="45" y="100"/>
                        </a:lnTo>
                        <a:lnTo>
                          <a:pt x="34" y="122"/>
                        </a:lnTo>
                        <a:lnTo>
                          <a:pt x="11" y="145"/>
                        </a:lnTo>
                        <a:lnTo>
                          <a:pt x="0" y="156"/>
                        </a:lnTo>
                        <a:lnTo>
                          <a:pt x="0" y="167"/>
                        </a:lnTo>
                        <a:lnTo>
                          <a:pt x="22" y="145"/>
                        </a:lnTo>
                        <a:lnTo>
                          <a:pt x="45" y="134"/>
                        </a:lnTo>
                        <a:lnTo>
                          <a:pt x="56" y="111"/>
                        </a:lnTo>
                        <a:lnTo>
                          <a:pt x="78" y="89"/>
                        </a:lnTo>
                        <a:lnTo>
                          <a:pt x="89" y="67"/>
                        </a:lnTo>
                        <a:lnTo>
                          <a:pt x="112" y="44"/>
                        </a:lnTo>
                        <a:lnTo>
                          <a:pt x="134" y="22"/>
                        </a:lnTo>
                        <a:lnTo>
                          <a:pt x="145" y="0"/>
                        </a:lnTo>
                        <a:lnTo>
                          <a:pt x="134" y="0"/>
                        </a:lnTo>
                        <a:lnTo>
                          <a:pt x="145"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Freeform 1017"/>
                  <p:cNvSpPr/>
                  <p:nvPr/>
                </p:nvSpPr>
                <p:spPr>
                  <a:xfrm rot="111600">
                    <a:off x="1055520" y="771480"/>
                    <a:ext cx="47880" cy="91800"/>
                  </a:xfrm>
                  <a:custGeom>
                    <a:avLst/>
                    <a:gdLst>
                      <a:gd name="textAreaLeft" fmla="*/ 0 w 47880"/>
                      <a:gd name="textAreaRight" fmla="*/ 48240 w 47880"/>
                      <a:gd name="textAreaTop" fmla="*/ 0 h 91800"/>
                      <a:gd name="textAreaBottom" fmla="*/ 91800 h 91800"/>
                    </a:gdLst>
                    <a:ahLst/>
                    <a:rect l="textAreaLeft" t="textAreaTop" r="textAreaRight" b="textAreaBottom"/>
                    <a:pathLst>
                      <a:path w="490" h="691">
                        <a:moveTo>
                          <a:pt x="490" y="691"/>
                        </a:moveTo>
                        <a:lnTo>
                          <a:pt x="490" y="691"/>
                        </a:lnTo>
                        <a:lnTo>
                          <a:pt x="479" y="657"/>
                        </a:lnTo>
                        <a:lnTo>
                          <a:pt x="468" y="624"/>
                        </a:lnTo>
                        <a:lnTo>
                          <a:pt x="446" y="579"/>
                        </a:lnTo>
                        <a:lnTo>
                          <a:pt x="423" y="535"/>
                        </a:lnTo>
                        <a:lnTo>
                          <a:pt x="390" y="490"/>
                        </a:lnTo>
                        <a:lnTo>
                          <a:pt x="357" y="446"/>
                        </a:lnTo>
                        <a:lnTo>
                          <a:pt x="323" y="401"/>
                        </a:lnTo>
                        <a:lnTo>
                          <a:pt x="290" y="345"/>
                        </a:lnTo>
                        <a:lnTo>
                          <a:pt x="256" y="301"/>
                        </a:lnTo>
                        <a:lnTo>
                          <a:pt x="212" y="245"/>
                        </a:lnTo>
                        <a:lnTo>
                          <a:pt x="178" y="200"/>
                        </a:lnTo>
                        <a:lnTo>
                          <a:pt x="134" y="145"/>
                        </a:lnTo>
                        <a:lnTo>
                          <a:pt x="100" y="111"/>
                        </a:lnTo>
                        <a:lnTo>
                          <a:pt x="67" y="67"/>
                        </a:lnTo>
                        <a:lnTo>
                          <a:pt x="45" y="22"/>
                        </a:lnTo>
                        <a:lnTo>
                          <a:pt x="11" y="0"/>
                        </a:lnTo>
                        <a:lnTo>
                          <a:pt x="0" y="0"/>
                        </a:lnTo>
                        <a:lnTo>
                          <a:pt x="33" y="33"/>
                        </a:lnTo>
                        <a:lnTo>
                          <a:pt x="56" y="78"/>
                        </a:lnTo>
                        <a:lnTo>
                          <a:pt x="89" y="111"/>
                        </a:lnTo>
                        <a:lnTo>
                          <a:pt x="123" y="156"/>
                        </a:lnTo>
                        <a:lnTo>
                          <a:pt x="167" y="212"/>
                        </a:lnTo>
                        <a:lnTo>
                          <a:pt x="201" y="256"/>
                        </a:lnTo>
                        <a:lnTo>
                          <a:pt x="245" y="301"/>
                        </a:lnTo>
                        <a:lnTo>
                          <a:pt x="279" y="356"/>
                        </a:lnTo>
                        <a:lnTo>
                          <a:pt x="312" y="401"/>
                        </a:lnTo>
                        <a:lnTo>
                          <a:pt x="345" y="457"/>
                        </a:lnTo>
                        <a:lnTo>
                          <a:pt x="379" y="501"/>
                        </a:lnTo>
                        <a:lnTo>
                          <a:pt x="412" y="546"/>
                        </a:lnTo>
                        <a:lnTo>
                          <a:pt x="435" y="591"/>
                        </a:lnTo>
                        <a:lnTo>
                          <a:pt x="457" y="624"/>
                        </a:lnTo>
                        <a:lnTo>
                          <a:pt x="468" y="657"/>
                        </a:lnTo>
                        <a:lnTo>
                          <a:pt x="479" y="691"/>
                        </a:lnTo>
                        <a:lnTo>
                          <a:pt x="479" y="680"/>
                        </a:lnTo>
                        <a:lnTo>
                          <a:pt x="490" y="69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Freeform 1016"/>
                  <p:cNvSpPr/>
                  <p:nvPr/>
                </p:nvSpPr>
                <p:spPr>
                  <a:xfrm rot="111600">
                    <a:off x="1091880" y="862560"/>
                    <a:ext cx="24840" cy="90360"/>
                  </a:xfrm>
                  <a:custGeom>
                    <a:avLst/>
                    <a:gdLst>
                      <a:gd name="textAreaLeft" fmla="*/ 0 w 24840"/>
                      <a:gd name="textAreaRight" fmla="*/ 25200 w 24840"/>
                      <a:gd name="textAreaTop" fmla="*/ 0 h 90360"/>
                      <a:gd name="textAreaBottom" fmla="*/ 90720 h 90360"/>
                    </a:gdLst>
                    <a:ahLst/>
                    <a:rect l="textAreaLeft" t="textAreaTop" r="textAreaRight" b="textAreaBottom"/>
                    <a:pathLst>
                      <a:path w="257" h="680">
                        <a:moveTo>
                          <a:pt x="257" y="668"/>
                        </a:moveTo>
                        <a:lnTo>
                          <a:pt x="257" y="668"/>
                        </a:lnTo>
                        <a:lnTo>
                          <a:pt x="212" y="646"/>
                        </a:lnTo>
                        <a:lnTo>
                          <a:pt x="167" y="624"/>
                        </a:lnTo>
                        <a:lnTo>
                          <a:pt x="134" y="590"/>
                        </a:lnTo>
                        <a:lnTo>
                          <a:pt x="100" y="557"/>
                        </a:lnTo>
                        <a:lnTo>
                          <a:pt x="78" y="512"/>
                        </a:lnTo>
                        <a:lnTo>
                          <a:pt x="56" y="468"/>
                        </a:lnTo>
                        <a:lnTo>
                          <a:pt x="34" y="423"/>
                        </a:lnTo>
                        <a:lnTo>
                          <a:pt x="22" y="379"/>
                        </a:lnTo>
                        <a:lnTo>
                          <a:pt x="22" y="323"/>
                        </a:lnTo>
                        <a:lnTo>
                          <a:pt x="11" y="278"/>
                        </a:lnTo>
                        <a:lnTo>
                          <a:pt x="11" y="223"/>
                        </a:lnTo>
                        <a:lnTo>
                          <a:pt x="22" y="178"/>
                        </a:lnTo>
                        <a:lnTo>
                          <a:pt x="34" y="133"/>
                        </a:lnTo>
                        <a:lnTo>
                          <a:pt x="45" y="89"/>
                        </a:lnTo>
                        <a:lnTo>
                          <a:pt x="67" y="44"/>
                        </a:lnTo>
                        <a:lnTo>
                          <a:pt x="89" y="11"/>
                        </a:lnTo>
                        <a:lnTo>
                          <a:pt x="78" y="0"/>
                        </a:lnTo>
                        <a:lnTo>
                          <a:pt x="56" y="44"/>
                        </a:lnTo>
                        <a:lnTo>
                          <a:pt x="34" y="78"/>
                        </a:lnTo>
                        <a:lnTo>
                          <a:pt x="22" y="122"/>
                        </a:lnTo>
                        <a:lnTo>
                          <a:pt x="11" y="178"/>
                        </a:lnTo>
                        <a:lnTo>
                          <a:pt x="0" y="223"/>
                        </a:lnTo>
                        <a:lnTo>
                          <a:pt x="0" y="278"/>
                        </a:lnTo>
                        <a:lnTo>
                          <a:pt x="0" y="323"/>
                        </a:lnTo>
                        <a:lnTo>
                          <a:pt x="11" y="379"/>
                        </a:lnTo>
                        <a:lnTo>
                          <a:pt x="22" y="423"/>
                        </a:lnTo>
                        <a:lnTo>
                          <a:pt x="45" y="479"/>
                        </a:lnTo>
                        <a:lnTo>
                          <a:pt x="67" y="524"/>
                        </a:lnTo>
                        <a:lnTo>
                          <a:pt x="89" y="568"/>
                        </a:lnTo>
                        <a:lnTo>
                          <a:pt x="123" y="602"/>
                        </a:lnTo>
                        <a:lnTo>
                          <a:pt x="167" y="635"/>
                        </a:lnTo>
                        <a:lnTo>
                          <a:pt x="212" y="657"/>
                        </a:lnTo>
                        <a:lnTo>
                          <a:pt x="257" y="680"/>
                        </a:lnTo>
                        <a:lnTo>
                          <a:pt x="257" y="668"/>
                        </a:lnTo>
                        <a:close/>
                      </a:path>
                    </a:pathLst>
                  </a:custGeom>
                  <a:solidFill>
                    <a:srgbClr val="000000"/>
                  </a:solidFill>
                  <a:ln w="0">
                    <a:noFill/>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1015"/>
                  <p:cNvSpPr/>
                  <p:nvPr/>
                </p:nvSpPr>
                <p:spPr>
                  <a:xfrm rot="111600">
                    <a:off x="1114200" y="946080"/>
                    <a:ext cx="2160" cy="7200"/>
                  </a:xfrm>
                  <a:custGeom>
                    <a:avLst/>
                    <a:gdLst>
                      <a:gd name="textAreaLeft" fmla="*/ 0 w 2160"/>
                      <a:gd name="textAreaRight" fmla="*/ 2520 w 2160"/>
                      <a:gd name="textAreaTop" fmla="*/ 0 h 7200"/>
                      <a:gd name="textAreaBottom" fmla="*/ 7560 h 7200"/>
                    </a:gdLst>
                    <a:ahLst/>
                    <a:rect l="textAreaLeft" t="textAreaTop" r="textAreaRight" b="textAreaBottom"/>
                    <a:pathLst>
                      <a:path w="23" h="56">
                        <a:moveTo>
                          <a:pt x="23" y="0"/>
                        </a:moveTo>
                        <a:lnTo>
                          <a:pt x="23" y="0"/>
                        </a:lnTo>
                        <a:lnTo>
                          <a:pt x="0" y="0"/>
                        </a:lnTo>
                        <a:lnTo>
                          <a:pt x="0" y="11"/>
                        </a:lnTo>
                        <a:lnTo>
                          <a:pt x="0" y="22"/>
                        </a:lnTo>
                        <a:lnTo>
                          <a:pt x="0" y="33"/>
                        </a:lnTo>
                        <a:lnTo>
                          <a:pt x="12" y="44"/>
                        </a:lnTo>
                        <a:lnTo>
                          <a:pt x="23" y="44"/>
                        </a:lnTo>
                        <a:lnTo>
                          <a:pt x="12" y="44"/>
                        </a:lnTo>
                        <a:lnTo>
                          <a:pt x="12" y="56"/>
                        </a:lnTo>
                        <a:lnTo>
                          <a:pt x="23" y="56"/>
                        </a:lnTo>
                        <a:lnTo>
                          <a:pt x="23" y="44"/>
                        </a:lnTo>
                        <a:lnTo>
                          <a:pt x="23" y="33"/>
                        </a:lnTo>
                        <a:lnTo>
                          <a:pt x="23" y="22"/>
                        </a:lnTo>
                        <a:lnTo>
                          <a:pt x="12" y="11"/>
                        </a:lnTo>
                        <a:lnTo>
                          <a:pt x="23" y="0"/>
                        </a:lnTo>
                        <a:close/>
                      </a:path>
                    </a:pathLst>
                  </a:custGeom>
                  <a:solidFill>
                    <a:srgbClr val="000000"/>
                  </a:solidFill>
                  <a:ln w="0">
                    <a:noFill/>
                  </a:ln>
                </p:spPr>
                <p:style>
                  <a:lnRef idx="0"/>
                  <a:fillRef idx="0"/>
                  <a:effectRef idx="0"/>
                  <a:fontRef idx="minor"/>
                </p:style>
                <p:txBody>
                  <a:bodyPr lIns="90000" rIns="90000" tIns="-39240" bIns="-39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1014"/>
                  <p:cNvSpPr/>
                  <p:nvPr/>
                </p:nvSpPr>
                <p:spPr>
                  <a:xfrm rot="111600">
                    <a:off x="1115280" y="946440"/>
                    <a:ext cx="7560" cy="42840"/>
                  </a:xfrm>
                  <a:custGeom>
                    <a:avLst/>
                    <a:gdLst>
                      <a:gd name="textAreaLeft" fmla="*/ 0 w 7560"/>
                      <a:gd name="textAreaRight" fmla="*/ 7920 w 7560"/>
                      <a:gd name="textAreaTop" fmla="*/ 0 h 42840"/>
                      <a:gd name="textAreaBottom" fmla="*/ 43200 h 42840"/>
                    </a:gdLst>
                    <a:ahLst/>
                    <a:rect l="textAreaLeft" t="textAreaTop" r="textAreaRight" b="textAreaBottom"/>
                    <a:pathLst>
                      <a:path w="78" h="323">
                        <a:moveTo>
                          <a:pt x="55" y="312"/>
                        </a:moveTo>
                        <a:lnTo>
                          <a:pt x="66" y="323"/>
                        </a:lnTo>
                        <a:lnTo>
                          <a:pt x="66" y="290"/>
                        </a:lnTo>
                        <a:lnTo>
                          <a:pt x="78" y="245"/>
                        </a:lnTo>
                        <a:lnTo>
                          <a:pt x="78" y="200"/>
                        </a:lnTo>
                        <a:lnTo>
                          <a:pt x="66" y="145"/>
                        </a:lnTo>
                        <a:lnTo>
                          <a:pt x="55" y="89"/>
                        </a:lnTo>
                        <a:lnTo>
                          <a:pt x="44" y="56"/>
                        </a:lnTo>
                        <a:lnTo>
                          <a:pt x="33" y="22"/>
                        </a:lnTo>
                        <a:lnTo>
                          <a:pt x="11" y="0"/>
                        </a:lnTo>
                        <a:lnTo>
                          <a:pt x="0" y="11"/>
                        </a:lnTo>
                        <a:lnTo>
                          <a:pt x="22" y="22"/>
                        </a:lnTo>
                        <a:lnTo>
                          <a:pt x="33" y="56"/>
                        </a:lnTo>
                        <a:lnTo>
                          <a:pt x="44" y="100"/>
                        </a:lnTo>
                        <a:lnTo>
                          <a:pt x="55" y="145"/>
                        </a:lnTo>
                        <a:lnTo>
                          <a:pt x="55" y="200"/>
                        </a:lnTo>
                        <a:lnTo>
                          <a:pt x="55" y="245"/>
                        </a:lnTo>
                        <a:lnTo>
                          <a:pt x="55" y="290"/>
                        </a:lnTo>
                        <a:lnTo>
                          <a:pt x="44" y="323"/>
                        </a:lnTo>
                        <a:lnTo>
                          <a:pt x="55" y="323"/>
                        </a:lnTo>
                        <a:lnTo>
                          <a:pt x="55" y="312"/>
                        </a:lnTo>
                        <a:close/>
                      </a:path>
                    </a:pathLst>
                  </a:custGeom>
                  <a:solidFill>
                    <a:srgbClr val="00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1013"/>
                  <p:cNvSpPr/>
                  <p:nvPr/>
                </p:nvSpPr>
                <p:spPr>
                  <a:xfrm rot="111600">
                    <a:off x="1120320" y="965880"/>
                    <a:ext cx="14040" cy="23400"/>
                  </a:xfrm>
                  <a:custGeom>
                    <a:avLst/>
                    <a:gdLst>
                      <a:gd name="textAreaLeft" fmla="*/ 0 w 14040"/>
                      <a:gd name="textAreaRight" fmla="*/ 14400 w 14040"/>
                      <a:gd name="textAreaTop" fmla="*/ 0 h 23400"/>
                      <a:gd name="textAreaBottom" fmla="*/ 23760 h 23400"/>
                    </a:gdLst>
                    <a:ahLst/>
                    <a:rect l="textAreaLeft" t="textAreaTop" r="textAreaRight" b="textAreaBottom"/>
                    <a:pathLst>
                      <a:path w="145" h="178">
                        <a:moveTo>
                          <a:pt x="134" y="0"/>
                        </a:moveTo>
                        <a:lnTo>
                          <a:pt x="134" y="11"/>
                        </a:lnTo>
                        <a:lnTo>
                          <a:pt x="123" y="33"/>
                        </a:lnTo>
                        <a:lnTo>
                          <a:pt x="112" y="55"/>
                        </a:lnTo>
                        <a:lnTo>
                          <a:pt x="101" y="67"/>
                        </a:lnTo>
                        <a:lnTo>
                          <a:pt x="78" y="89"/>
                        </a:lnTo>
                        <a:lnTo>
                          <a:pt x="56" y="111"/>
                        </a:lnTo>
                        <a:lnTo>
                          <a:pt x="45" y="133"/>
                        </a:lnTo>
                        <a:lnTo>
                          <a:pt x="23" y="145"/>
                        </a:lnTo>
                        <a:lnTo>
                          <a:pt x="0" y="167"/>
                        </a:lnTo>
                        <a:lnTo>
                          <a:pt x="0" y="178"/>
                        </a:lnTo>
                        <a:lnTo>
                          <a:pt x="34" y="156"/>
                        </a:lnTo>
                        <a:lnTo>
                          <a:pt x="56" y="145"/>
                        </a:lnTo>
                        <a:lnTo>
                          <a:pt x="67" y="122"/>
                        </a:lnTo>
                        <a:lnTo>
                          <a:pt x="89" y="100"/>
                        </a:lnTo>
                        <a:lnTo>
                          <a:pt x="112" y="78"/>
                        </a:lnTo>
                        <a:lnTo>
                          <a:pt x="123" y="55"/>
                        </a:lnTo>
                        <a:lnTo>
                          <a:pt x="134" y="33"/>
                        </a:lnTo>
                        <a:lnTo>
                          <a:pt x="145" y="11"/>
                        </a:lnTo>
                        <a:lnTo>
                          <a:pt x="134" y="0"/>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Freeform 1012"/>
                  <p:cNvSpPr/>
                  <p:nvPr/>
                </p:nvSpPr>
                <p:spPr>
                  <a:xfrm rot="111600">
                    <a:off x="1134000" y="943920"/>
                    <a:ext cx="7560" cy="23400"/>
                  </a:xfrm>
                  <a:custGeom>
                    <a:avLst/>
                    <a:gdLst>
                      <a:gd name="textAreaLeft" fmla="*/ 0 w 7560"/>
                      <a:gd name="textAreaRight" fmla="*/ 7920 w 7560"/>
                      <a:gd name="textAreaTop" fmla="*/ 0 h 23400"/>
                      <a:gd name="textAreaBottom" fmla="*/ 23760 h 23400"/>
                    </a:gdLst>
                    <a:ahLst/>
                    <a:rect l="textAreaLeft" t="textAreaTop" r="textAreaRight" b="textAreaBottom"/>
                    <a:pathLst>
                      <a:path w="78" h="178">
                        <a:moveTo>
                          <a:pt x="67" y="0"/>
                        </a:moveTo>
                        <a:lnTo>
                          <a:pt x="56" y="11"/>
                        </a:lnTo>
                        <a:lnTo>
                          <a:pt x="56" y="22"/>
                        </a:lnTo>
                        <a:lnTo>
                          <a:pt x="56" y="44"/>
                        </a:lnTo>
                        <a:lnTo>
                          <a:pt x="45" y="78"/>
                        </a:lnTo>
                        <a:lnTo>
                          <a:pt x="33" y="100"/>
                        </a:lnTo>
                        <a:lnTo>
                          <a:pt x="22" y="122"/>
                        </a:lnTo>
                        <a:lnTo>
                          <a:pt x="11" y="144"/>
                        </a:lnTo>
                        <a:lnTo>
                          <a:pt x="11" y="167"/>
                        </a:lnTo>
                        <a:lnTo>
                          <a:pt x="0" y="167"/>
                        </a:lnTo>
                        <a:lnTo>
                          <a:pt x="11" y="178"/>
                        </a:lnTo>
                        <a:lnTo>
                          <a:pt x="22" y="167"/>
                        </a:lnTo>
                        <a:lnTo>
                          <a:pt x="33" y="156"/>
                        </a:lnTo>
                        <a:lnTo>
                          <a:pt x="45" y="133"/>
                        </a:lnTo>
                        <a:lnTo>
                          <a:pt x="56" y="100"/>
                        </a:lnTo>
                        <a:lnTo>
                          <a:pt x="56" y="78"/>
                        </a:lnTo>
                        <a:lnTo>
                          <a:pt x="67" y="44"/>
                        </a:lnTo>
                        <a:lnTo>
                          <a:pt x="78" y="22"/>
                        </a:lnTo>
                        <a:lnTo>
                          <a:pt x="78" y="11"/>
                        </a:lnTo>
                        <a:lnTo>
                          <a:pt x="67" y="22"/>
                        </a:lnTo>
                        <a:lnTo>
                          <a:pt x="67" y="0"/>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Freeform 1011"/>
                  <p:cNvSpPr/>
                  <p:nvPr/>
                </p:nvSpPr>
                <p:spPr>
                  <a:xfrm rot="111600">
                    <a:off x="1139760" y="944280"/>
                    <a:ext cx="3960" cy="11520"/>
                  </a:xfrm>
                  <a:custGeom>
                    <a:avLst/>
                    <a:gdLst>
                      <a:gd name="textAreaLeft" fmla="*/ 0 w 3960"/>
                      <a:gd name="textAreaRight" fmla="*/ 4320 w 3960"/>
                      <a:gd name="textAreaTop" fmla="*/ 0 h 11520"/>
                      <a:gd name="textAreaBottom" fmla="*/ 11880 h 11520"/>
                    </a:gdLst>
                    <a:ahLst/>
                    <a:rect l="textAreaLeft" t="textAreaTop" r="textAreaRight" b="textAreaBottom"/>
                    <a:pathLst>
                      <a:path w="44" h="89">
                        <a:moveTo>
                          <a:pt x="33" y="66"/>
                        </a:moveTo>
                        <a:lnTo>
                          <a:pt x="33" y="66"/>
                        </a:lnTo>
                        <a:lnTo>
                          <a:pt x="11" y="78"/>
                        </a:lnTo>
                        <a:lnTo>
                          <a:pt x="11" y="66"/>
                        </a:lnTo>
                        <a:lnTo>
                          <a:pt x="11" y="55"/>
                        </a:lnTo>
                        <a:lnTo>
                          <a:pt x="22" y="44"/>
                        </a:lnTo>
                        <a:lnTo>
                          <a:pt x="22" y="22"/>
                        </a:lnTo>
                        <a:lnTo>
                          <a:pt x="22" y="11"/>
                        </a:lnTo>
                        <a:lnTo>
                          <a:pt x="11" y="0"/>
                        </a:lnTo>
                        <a:lnTo>
                          <a:pt x="11" y="22"/>
                        </a:lnTo>
                        <a:lnTo>
                          <a:pt x="11" y="44"/>
                        </a:lnTo>
                        <a:lnTo>
                          <a:pt x="0" y="55"/>
                        </a:lnTo>
                        <a:lnTo>
                          <a:pt x="0" y="66"/>
                        </a:lnTo>
                        <a:lnTo>
                          <a:pt x="0" y="89"/>
                        </a:lnTo>
                        <a:lnTo>
                          <a:pt x="22" y="89"/>
                        </a:lnTo>
                        <a:lnTo>
                          <a:pt x="44" y="78"/>
                        </a:lnTo>
                        <a:lnTo>
                          <a:pt x="33" y="66"/>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1010"/>
                  <p:cNvSpPr/>
                  <p:nvPr/>
                </p:nvSpPr>
                <p:spPr>
                  <a:xfrm rot="111600">
                    <a:off x="1115640" y="857880"/>
                    <a:ext cx="39240" cy="96480"/>
                  </a:xfrm>
                  <a:custGeom>
                    <a:avLst/>
                    <a:gdLst>
                      <a:gd name="textAreaLeft" fmla="*/ 0 w 39240"/>
                      <a:gd name="textAreaRight" fmla="*/ 39240 w 39240"/>
                      <a:gd name="textAreaTop" fmla="*/ 0 h 96480"/>
                      <a:gd name="textAreaBottom" fmla="*/ 96840 h 96480"/>
                    </a:gdLst>
                    <a:ahLst/>
                    <a:rect l="textAreaLeft" t="textAreaTop" r="textAreaRight" b="textAreaBottom"/>
                    <a:pathLst>
                      <a:path w="402" h="725">
                        <a:moveTo>
                          <a:pt x="0" y="11"/>
                        </a:moveTo>
                        <a:lnTo>
                          <a:pt x="0" y="11"/>
                        </a:lnTo>
                        <a:lnTo>
                          <a:pt x="67" y="67"/>
                        </a:lnTo>
                        <a:lnTo>
                          <a:pt x="134" y="112"/>
                        </a:lnTo>
                        <a:lnTo>
                          <a:pt x="190" y="167"/>
                        </a:lnTo>
                        <a:lnTo>
                          <a:pt x="234" y="212"/>
                        </a:lnTo>
                        <a:lnTo>
                          <a:pt x="279" y="256"/>
                        </a:lnTo>
                        <a:lnTo>
                          <a:pt x="312" y="312"/>
                        </a:lnTo>
                        <a:lnTo>
                          <a:pt x="346" y="357"/>
                        </a:lnTo>
                        <a:lnTo>
                          <a:pt x="368" y="401"/>
                        </a:lnTo>
                        <a:lnTo>
                          <a:pt x="379" y="435"/>
                        </a:lnTo>
                        <a:lnTo>
                          <a:pt x="390" y="479"/>
                        </a:lnTo>
                        <a:lnTo>
                          <a:pt x="390" y="524"/>
                        </a:lnTo>
                        <a:lnTo>
                          <a:pt x="390" y="557"/>
                        </a:lnTo>
                        <a:lnTo>
                          <a:pt x="368" y="602"/>
                        </a:lnTo>
                        <a:lnTo>
                          <a:pt x="357" y="635"/>
                        </a:lnTo>
                        <a:lnTo>
                          <a:pt x="324" y="680"/>
                        </a:lnTo>
                        <a:lnTo>
                          <a:pt x="290" y="713"/>
                        </a:lnTo>
                        <a:lnTo>
                          <a:pt x="301" y="725"/>
                        </a:lnTo>
                        <a:lnTo>
                          <a:pt x="335" y="680"/>
                        </a:lnTo>
                        <a:lnTo>
                          <a:pt x="368" y="647"/>
                        </a:lnTo>
                        <a:lnTo>
                          <a:pt x="390" y="602"/>
                        </a:lnTo>
                        <a:lnTo>
                          <a:pt x="402" y="569"/>
                        </a:lnTo>
                        <a:lnTo>
                          <a:pt x="402" y="524"/>
                        </a:lnTo>
                        <a:lnTo>
                          <a:pt x="402" y="479"/>
                        </a:lnTo>
                        <a:lnTo>
                          <a:pt x="390" y="435"/>
                        </a:lnTo>
                        <a:lnTo>
                          <a:pt x="379" y="390"/>
                        </a:lnTo>
                        <a:lnTo>
                          <a:pt x="357" y="346"/>
                        </a:lnTo>
                        <a:lnTo>
                          <a:pt x="324" y="301"/>
                        </a:lnTo>
                        <a:lnTo>
                          <a:pt x="290" y="256"/>
                        </a:lnTo>
                        <a:lnTo>
                          <a:pt x="246" y="201"/>
                        </a:lnTo>
                        <a:lnTo>
                          <a:pt x="201" y="156"/>
                        </a:lnTo>
                        <a:lnTo>
                          <a:pt x="134" y="100"/>
                        </a:lnTo>
                        <a:lnTo>
                          <a:pt x="78" y="56"/>
                        </a:lnTo>
                        <a:lnTo>
                          <a:pt x="12" y="0"/>
                        </a:lnTo>
                        <a:lnTo>
                          <a:pt x="12"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Freeform 1009"/>
                  <p:cNvSpPr/>
                  <p:nvPr/>
                </p:nvSpPr>
                <p:spPr>
                  <a:xfrm rot="111600">
                    <a:off x="1096560" y="744480"/>
                    <a:ext cx="24840" cy="114120"/>
                  </a:xfrm>
                  <a:custGeom>
                    <a:avLst/>
                    <a:gdLst>
                      <a:gd name="textAreaLeft" fmla="*/ 0 w 24840"/>
                      <a:gd name="textAreaRight" fmla="*/ 25200 w 24840"/>
                      <a:gd name="textAreaTop" fmla="*/ 0 h 114120"/>
                      <a:gd name="textAreaBottom" fmla="*/ 114480 h 114120"/>
                    </a:gdLst>
                    <a:ahLst/>
                    <a:rect l="textAreaLeft" t="textAreaTop" r="textAreaRight" b="textAreaBottom"/>
                    <a:pathLst>
                      <a:path w="257" h="858">
                        <a:moveTo>
                          <a:pt x="0" y="11"/>
                        </a:moveTo>
                        <a:lnTo>
                          <a:pt x="0" y="11"/>
                        </a:lnTo>
                        <a:lnTo>
                          <a:pt x="56" y="45"/>
                        </a:lnTo>
                        <a:lnTo>
                          <a:pt x="101" y="78"/>
                        </a:lnTo>
                        <a:lnTo>
                          <a:pt x="145" y="123"/>
                        </a:lnTo>
                        <a:lnTo>
                          <a:pt x="179" y="167"/>
                        </a:lnTo>
                        <a:lnTo>
                          <a:pt x="201" y="223"/>
                        </a:lnTo>
                        <a:lnTo>
                          <a:pt x="223" y="279"/>
                        </a:lnTo>
                        <a:lnTo>
                          <a:pt x="234" y="334"/>
                        </a:lnTo>
                        <a:lnTo>
                          <a:pt x="234" y="390"/>
                        </a:lnTo>
                        <a:lnTo>
                          <a:pt x="246" y="457"/>
                        </a:lnTo>
                        <a:lnTo>
                          <a:pt x="246" y="524"/>
                        </a:lnTo>
                        <a:lnTo>
                          <a:pt x="246" y="580"/>
                        </a:lnTo>
                        <a:lnTo>
                          <a:pt x="246" y="646"/>
                        </a:lnTo>
                        <a:lnTo>
                          <a:pt x="234" y="702"/>
                        </a:lnTo>
                        <a:lnTo>
                          <a:pt x="234" y="758"/>
                        </a:lnTo>
                        <a:lnTo>
                          <a:pt x="234" y="803"/>
                        </a:lnTo>
                        <a:lnTo>
                          <a:pt x="234" y="858"/>
                        </a:lnTo>
                        <a:lnTo>
                          <a:pt x="246" y="858"/>
                        </a:lnTo>
                        <a:lnTo>
                          <a:pt x="246" y="803"/>
                        </a:lnTo>
                        <a:lnTo>
                          <a:pt x="257" y="758"/>
                        </a:lnTo>
                        <a:lnTo>
                          <a:pt x="257" y="702"/>
                        </a:lnTo>
                        <a:lnTo>
                          <a:pt x="257" y="646"/>
                        </a:lnTo>
                        <a:lnTo>
                          <a:pt x="257" y="580"/>
                        </a:lnTo>
                        <a:lnTo>
                          <a:pt x="257" y="524"/>
                        </a:lnTo>
                        <a:lnTo>
                          <a:pt x="257" y="457"/>
                        </a:lnTo>
                        <a:lnTo>
                          <a:pt x="257" y="390"/>
                        </a:lnTo>
                        <a:lnTo>
                          <a:pt x="246" y="334"/>
                        </a:lnTo>
                        <a:lnTo>
                          <a:pt x="234" y="268"/>
                        </a:lnTo>
                        <a:lnTo>
                          <a:pt x="212" y="212"/>
                        </a:lnTo>
                        <a:lnTo>
                          <a:pt x="190" y="156"/>
                        </a:lnTo>
                        <a:lnTo>
                          <a:pt x="156" y="111"/>
                        </a:lnTo>
                        <a:lnTo>
                          <a:pt x="112" y="67"/>
                        </a:lnTo>
                        <a:lnTo>
                          <a:pt x="67" y="22"/>
                        </a:lnTo>
                        <a:lnTo>
                          <a:pt x="11"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Freeform 1008"/>
                  <p:cNvSpPr/>
                  <p:nvPr/>
                </p:nvSpPr>
                <p:spPr>
                  <a:xfrm rot="111600">
                    <a:off x="1072080" y="735840"/>
                    <a:ext cx="27000" cy="8640"/>
                  </a:xfrm>
                  <a:custGeom>
                    <a:avLst/>
                    <a:gdLst>
                      <a:gd name="textAreaLeft" fmla="*/ 0 w 27000"/>
                      <a:gd name="textAreaRight" fmla="*/ 27360 w 27000"/>
                      <a:gd name="textAreaTop" fmla="*/ 0 h 8640"/>
                      <a:gd name="textAreaBottom" fmla="*/ 9000 h 8640"/>
                    </a:gdLst>
                    <a:ahLst/>
                    <a:rect l="textAreaLeft" t="textAreaTop" r="textAreaRight" b="textAreaBottom"/>
                    <a:pathLst>
                      <a:path w="278" h="67">
                        <a:moveTo>
                          <a:pt x="11" y="34"/>
                        </a:moveTo>
                        <a:lnTo>
                          <a:pt x="11" y="34"/>
                        </a:lnTo>
                        <a:lnTo>
                          <a:pt x="22" y="34"/>
                        </a:lnTo>
                        <a:lnTo>
                          <a:pt x="33" y="34"/>
                        </a:lnTo>
                        <a:lnTo>
                          <a:pt x="44" y="23"/>
                        </a:lnTo>
                        <a:lnTo>
                          <a:pt x="56" y="23"/>
                        </a:lnTo>
                        <a:lnTo>
                          <a:pt x="78" y="23"/>
                        </a:lnTo>
                        <a:lnTo>
                          <a:pt x="89" y="23"/>
                        </a:lnTo>
                        <a:lnTo>
                          <a:pt x="111" y="23"/>
                        </a:lnTo>
                        <a:lnTo>
                          <a:pt x="122" y="23"/>
                        </a:lnTo>
                        <a:lnTo>
                          <a:pt x="145" y="23"/>
                        </a:lnTo>
                        <a:lnTo>
                          <a:pt x="156" y="23"/>
                        </a:lnTo>
                        <a:lnTo>
                          <a:pt x="178" y="23"/>
                        </a:lnTo>
                        <a:lnTo>
                          <a:pt x="200" y="34"/>
                        </a:lnTo>
                        <a:lnTo>
                          <a:pt x="212" y="34"/>
                        </a:lnTo>
                        <a:lnTo>
                          <a:pt x="234" y="45"/>
                        </a:lnTo>
                        <a:lnTo>
                          <a:pt x="245" y="56"/>
                        </a:lnTo>
                        <a:lnTo>
                          <a:pt x="267" y="67"/>
                        </a:lnTo>
                        <a:lnTo>
                          <a:pt x="278" y="56"/>
                        </a:lnTo>
                        <a:lnTo>
                          <a:pt x="256" y="45"/>
                        </a:lnTo>
                        <a:lnTo>
                          <a:pt x="234" y="34"/>
                        </a:lnTo>
                        <a:lnTo>
                          <a:pt x="223" y="23"/>
                        </a:lnTo>
                        <a:lnTo>
                          <a:pt x="200" y="11"/>
                        </a:lnTo>
                        <a:lnTo>
                          <a:pt x="178" y="11"/>
                        </a:lnTo>
                        <a:lnTo>
                          <a:pt x="156" y="0"/>
                        </a:lnTo>
                        <a:lnTo>
                          <a:pt x="145" y="0"/>
                        </a:lnTo>
                        <a:lnTo>
                          <a:pt x="122" y="0"/>
                        </a:lnTo>
                        <a:lnTo>
                          <a:pt x="111" y="0"/>
                        </a:lnTo>
                        <a:lnTo>
                          <a:pt x="89" y="0"/>
                        </a:lnTo>
                        <a:lnTo>
                          <a:pt x="78" y="0"/>
                        </a:lnTo>
                        <a:lnTo>
                          <a:pt x="56" y="11"/>
                        </a:lnTo>
                        <a:lnTo>
                          <a:pt x="44" y="11"/>
                        </a:lnTo>
                        <a:lnTo>
                          <a:pt x="33" y="11"/>
                        </a:lnTo>
                        <a:lnTo>
                          <a:pt x="22" y="23"/>
                        </a:lnTo>
                        <a:lnTo>
                          <a:pt x="0" y="23"/>
                        </a:lnTo>
                        <a:lnTo>
                          <a:pt x="11" y="34"/>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1007"/>
                  <p:cNvSpPr/>
                  <p:nvPr/>
                </p:nvSpPr>
                <p:spPr>
                  <a:xfrm rot="111600">
                    <a:off x="1060200" y="738000"/>
                    <a:ext cx="12960" cy="14400"/>
                  </a:xfrm>
                  <a:custGeom>
                    <a:avLst/>
                    <a:gdLst>
                      <a:gd name="textAreaLeft" fmla="*/ 0 w 12960"/>
                      <a:gd name="textAreaRight" fmla="*/ 13320 w 12960"/>
                      <a:gd name="textAreaTop" fmla="*/ 0 h 14400"/>
                      <a:gd name="textAreaBottom" fmla="*/ 14760 h 14400"/>
                    </a:gdLst>
                    <a:ahLst/>
                    <a:rect l="textAreaLeft" t="textAreaTop" r="textAreaRight" b="textAreaBottom"/>
                    <a:pathLst>
                      <a:path w="134" h="111">
                        <a:moveTo>
                          <a:pt x="0" y="111"/>
                        </a:moveTo>
                        <a:lnTo>
                          <a:pt x="11" y="111"/>
                        </a:lnTo>
                        <a:lnTo>
                          <a:pt x="23" y="100"/>
                        </a:lnTo>
                        <a:lnTo>
                          <a:pt x="45" y="89"/>
                        </a:lnTo>
                        <a:lnTo>
                          <a:pt x="56" y="78"/>
                        </a:lnTo>
                        <a:lnTo>
                          <a:pt x="78" y="66"/>
                        </a:lnTo>
                        <a:lnTo>
                          <a:pt x="89" y="44"/>
                        </a:lnTo>
                        <a:lnTo>
                          <a:pt x="101" y="33"/>
                        </a:lnTo>
                        <a:lnTo>
                          <a:pt x="123" y="22"/>
                        </a:lnTo>
                        <a:lnTo>
                          <a:pt x="134" y="11"/>
                        </a:lnTo>
                        <a:lnTo>
                          <a:pt x="123" y="0"/>
                        </a:lnTo>
                        <a:lnTo>
                          <a:pt x="112" y="11"/>
                        </a:lnTo>
                        <a:lnTo>
                          <a:pt x="101" y="22"/>
                        </a:lnTo>
                        <a:lnTo>
                          <a:pt x="78" y="44"/>
                        </a:lnTo>
                        <a:lnTo>
                          <a:pt x="67" y="55"/>
                        </a:lnTo>
                        <a:lnTo>
                          <a:pt x="45" y="66"/>
                        </a:lnTo>
                        <a:lnTo>
                          <a:pt x="34" y="78"/>
                        </a:lnTo>
                        <a:lnTo>
                          <a:pt x="23" y="89"/>
                        </a:lnTo>
                        <a:lnTo>
                          <a:pt x="0" y="100"/>
                        </a:lnTo>
                        <a:lnTo>
                          <a:pt x="11" y="100"/>
                        </a:lnTo>
                        <a:lnTo>
                          <a:pt x="0" y="111"/>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Freeform 1006"/>
                  <p:cNvSpPr/>
                  <p:nvPr/>
                </p:nvSpPr>
                <p:spPr>
                  <a:xfrm rot="111600">
                    <a:off x="1058400" y="865800"/>
                    <a:ext cx="1800" cy="360"/>
                  </a:xfrm>
                  <a:custGeom>
                    <a:avLst/>
                    <a:gdLst>
                      <a:gd name="textAreaLeft" fmla="*/ 0 w 1800"/>
                      <a:gd name="textAreaRight" fmla="*/ 2160 w 1800"/>
                      <a:gd name="textAreaTop" fmla="*/ 0 h 360"/>
                      <a:gd name="textAreaBottom" fmla="*/ 720 h 360"/>
                    </a:gdLst>
                    <a:ahLst/>
                    <a:rect l="textAreaLeft" t="textAreaTop" r="textAreaRight" b="textAreaBottom"/>
                    <a:pathLst>
                      <a:path w="22" h="1">
                        <a:moveTo>
                          <a:pt x="0" y="0"/>
                        </a:moveTo>
                        <a:lnTo>
                          <a:pt x="11" y="0"/>
                        </a:lnTo>
                        <a:lnTo>
                          <a:pt x="22"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Freeform 1005"/>
                  <p:cNvSpPr/>
                  <p:nvPr/>
                </p:nvSpPr>
                <p:spPr>
                  <a:xfrm rot="111600">
                    <a:off x="1047960" y="84600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134" h="145">
                        <a:moveTo>
                          <a:pt x="0" y="11"/>
                        </a:moveTo>
                        <a:lnTo>
                          <a:pt x="0" y="11"/>
                        </a:lnTo>
                        <a:lnTo>
                          <a:pt x="22" y="11"/>
                        </a:lnTo>
                        <a:lnTo>
                          <a:pt x="45" y="23"/>
                        </a:lnTo>
                        <a:lnTo>
                          <a:pt x="67" y="34"/>
                        </a:lnTo>
                        <a:lnTo>
                          <a:pt x="78" y="56"/>
                        </a:lnTo>
                        <a:lnTo>
                          <a:pt x="100" y="78"/>
                        </a:lnTo>
                        <a:lnTo>
                          <a:pt x="112" y="101"/>
                        </a:lnTo>
                        <a:lnTo>
                          <a:pt x="112" y="123"/>
                        </a:lnTo>
                        <a:lnTo>
                          <a:pt x="112" y="145"/>
                        </a:lnTo>
                        <a:lnTo>
                          <a:pt x="134" y="145"/>
                        </a:lnTo>
                        <a:lnTo>
                          <a:pt x="123" y="123"/>
                        </a:lnTo>
                        <a:lnTo>
                          <a:pt x="123" y="89"/>
                        </a:lnTo>
                        <a:lnTo>
                          <a:pt x="112" y="67"/>
                        </a:lnTo>
                        <a:lnTo>
                          <a:pt x="89" y="45"/>
                        </a:lnTo>
                        <a:lnTo>
                          <a:pt x="67" y="23"/>
                        </a:lnTo>
                        <a:lnTo>
                          <a:pt x="45" y="11"/>
                        </a:lnTo>
                        <a:lnTo>
                          <a:pt x="22" y="0"/>
                        </a:lnTo>
                        <a:lnTo>
                          <a:pt x="0" y="0"/>
                        </a:lnTo>
                        <a:lnTo>
                          <a:pt x="0" y="11"/>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reeform 1004"/>
                  <p:cNvSpPr/>
                  <p:nvPr/>
                </p:nvSpPr>
                <p:spPr>
                  <a:xfrm rot="111600">
                    <a:off x="1038240" y="845640"/>
                    <a:ext cx="9720" cy="14760"/>
                  </a:xfrm>
                  <a:custGeom>
                    <a:avLst/>
                    <a:gdLst>
                      <a:gd name="textAreaLeft" fmla="*/ 0 w 9720"/>
                      <a:gd name="textAreaRight" fmla="*/ 10080 w 9720"/>
                      <a:gd name="textAreaTop" fmla="*/ 0 h 14760"/>
                      <a:gd name="textAreaBottom" fmla="*/ 15120 h 14760"/>
                    </a:gdLst>
                    <a:ahLst/>
                    <a:rect l="textAreaLeft" t="textAreaTop" r="textAreaRight" b="textAreaBottom"/>
                    <a:pathLst>
                      <a:path w="100" h="112">
                        <a:moveTo>
                          <a:pt x="11" y="112"/>
                        </a:moveTo>
                        <a:lnTo>
                          <a:pt x="22" y="101"/>
                        </a:lnTo>
                        <a:lnTo>
                          <a:pt x="22" y="89"/>
                        </a:lnTo>
                        <a:lnTo>
                          <a:pt x="33" y="67"/>
                        </a:lnTo>
                        <a:lnTo>
                          <a:pt x="44" y="56"/>
                        </a:lnTo>
                        <a:lnTo>
                          <a:pt x="67" y="45"/>
                        </a:lnTo>
                        <a:lnTo>
                          <a:pt x="78" y="34"/>
                        </a:lnTo>
                        <a:lnTo>
                          <a:pt x="89" y="23"/>
                        </a:lnTo>
                        <a:lnTo>
                          <a:pt x="100" y="11"/>
                        </a:lnTo>
                        <a:lnTo>
                          <a:pt x="100" y="0"/>
                        </a:lnTo>
                        <a:lnTo>
                          <a:pt x="78" y="11"/>
                        </a:lnTo>
                        <a:lnTo>
                          <a:pt x="67" y="23"/>
                        </a:lnTo>
                        <a:lnTo>
                          <a:pt x="55" y="34"/>
                        </a:lnTo>
                        <a:lnTo>
                          <a:pt x="33" y="45"/>
                        </a:lnTo>
                        <a:lnTo>
                          <a:pt x="22" y="67"/>
                        </a:lnTo>
                        <a:lnTo>
                          <a:pt x="11" y="78"/>
                        </a:lnTo>
                        <a:lnTo>
                          <a:pt x="0" y="89"/>
                        </a:lnTo>
                        <a:lnTo>
                          <a:pt x="0" y="112"/>
                        </a:lnTo>
                        <a:lnTo>
                          <a:pt x="11" y="112"/>
                        </a:lnTo>
                        <a:close/>
                      </a:path>
                    </a:pathLst>
                  </a:custGeom>
                  <a:solidFill>
                    <a:srgbClr val="000000"/>
                  </a:solidFill>
                  <a:ln w="0">
                    <a:noFill/>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Freeform 1003"/>
                  <p:cNvSpPr/>
                  <p:nvPr/>
                </p:nvSpPr>
                <p:spPr>
                  <a:xfrm rot="111600">
                    <a:off x="1046880" y="847440"/>
                    <a:ext cx="1800" cy="360"/>
                  </a:xfrm>
                  <a:custGeom>
                    <a:avLst/>
                    <a:gdLst>
                      <a:gd name="textAreaLeft" fmla="*/ 0 w 1800"/>
                      <a:gd name="textAreaRight" fmla="*/ 2160 w 1800"/>
                      <a:gd name="textAreaTop" fmla="*/ 0 h 360"/>
                      <a:gd name="textAreaBottom" fmla="*/ 720 h 360"/>
                    </a:gdLst>
                    <a:ahLst/>
                    <a:rect l="textAreaLeft" t="textAreaTop" r="textAreaRight" b="textAreaBottom"/>
                    <a:pathLst>
                      <a:path w="22" h="1">
                        <a:moveTo>
                          <a:pt x="0" y="0"/>
                        </a:moveTo>
                        <a:lnTo>
                          <a:pt x="0" y="0"/>
                        </a:lnTo>
                        <a:lnTo>
                          <a:pt x="11" y="0"/>
                        </a:lnTo>
                        <a:lnTo>
                          <a:pt x="22"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Freeform 1002"/>
                  <p:cNvSpPr/>
                  <p:nvPr/>
                </p:nvSpPr>
                <p:spPr>
                  <a:xfrm rot="111600">
                    <a:off x="1032480" y="878400"/>
                    <a:ext cx="1080" cy="360"/>
                  </a:xfrm>
                  <a:custGeom>
                    <a:avLst/>
                    <a:gdLst>
                      <a:gd name="textAreaLeft" fmla="*/ 0 w 1080"/>
                      <a:gd name="textAreaRight" fmla="*/ 1440 w 1080"/>
                      <a:gd name="textAreaTop" fmla="*/ 0 h 360"/>
                      <a:gd name="textAreaBottom" fmla="*/ 720 h 360"/>
                    </a:gdLst>
                    <a:ahLst/>
                    <a:rect l="textAreaLeft" t="textAreaTop" r="textAreaRight" b="textAreaBottom"/>
                    <a:pathLst>
                      <a:path w="11" h="1">
                        <a:moveTo>
                          <a:pt x="11" y="0"/>
                        </a:moveTo>
                        <a:lnTo>
                          <a:pt x="11" y="0"/>
                        </a:lnTo>
                        <a:lnTo>
                          <a:pt x="0" y="0"/>
                        </a:lnTo>
                        <a:lnTo>
                          <a:pt x="11"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1001"/>
                  <p:cNvSpPr/>
                  <p:nvPr/>
                </p:nvSpPr>
                <p:spPr>
                  <a:xfrm rot="111600">
                    <a:off x="1026000" y="878040"/>
                    <a:ext cx="7560" cy="10080"/>
                  </a:xfrm>
                  <a:custGeom>
                    <a:avLst/>
                    <a:gdLst>
                      <a:gd name="textAreaLeft" fmla="*/ 0 w 7560"/>
                      <a:gd name="textAreaRight" fmla="*/ 7920 w 7560"/>
                      <a:gd name="textAreaTop" fmla="*/ 0 h 10080"/>
                      <a:gd name="textAreaBottom" fmla="*/ 10440 h 10080"/>
                    </a:gdLst>
                    <a:ahLst/>
                    <a:rect l="textAreaLeft" t="textAreaTop" r="textAreaRight" b="textAreaBottom"/>
                    <a:pathLst>
                      <a:path w="78" h="78">
                        <a:moveTo>
                          <a:pt x="11" y="78"/>
                        </a:moveTo>
                        <a:lnTo>
                          <a:pt x="11" y="78"/>
                        </a:lnTo>
                        <a:lnTo>
                          <a:pt x="23" y="67"/>
                        </a:lnTo>
                        <a:lnTo>
                          <a:pt x="34" y="56"/>
                        </a:lnTo>
                        <a:lnTo>
                          <a:pt x="45" y="45"/>
                        </a:lnTo>
                        <a:lnTo>
                          <a:pt x="56" y="45"/>
                        </a:lnTo>
                        <a:lnTo>
                          <a:pt x="67" y="34"/>
                        </a:lnTo>
                        <a:lnTo>
                          <a:pt x="78" y="23"/>
                        </a:lnTo>
                        <a:lnTo>
                          <a:pt x="78" y="0"/>
                        </a:lnTo>
                        <a:lnTo>
                          <a:pt x="67" y="0"/>
                        </a:lnTo>
                        <a:lnTo>
                          <a:pt x="56" y="12"/>
                        </a:lnTo>
                        <a:lnTo>
                          <a:pt x="56" y="23"/>
                        </a:lnTo>
                        <a:lnTo>
                          <a:pt x="45" y="34"/>
                        </a:lnTo>
                        <a:lnTo>
                          <a:pt x="34" y="34"/>
                        </a:lnTo>
                        <a:lnTo>
                          <a:pt x="34" y="45"/>
                        </a:lnTo>
                        <a:lnTo>
                          <a:pt x="23" y="56"/>
                        </a:lnTo>
                        <a:lnTo>
                          <a:pt x="11" y="67"/>
                        </a:lnTo>
                        <a:lnTo>
                          <a:pt x="0" y="67"/>
                        </a:lnTo>
                        <a:lnTo>
                          <a:pt x="11" y="67"/>
                        </a:lnTo>
                        <a:lnTo>
                          <a:pt x="11" y="78"/>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1000"/>
                  <p:cNvSpPr/>
                  <p:nvPr/>
                </p:nvSpPr>
                <p:spPr>
                  <a:xfrm rot="111600">
                    <a:off x="1018440" y="886680"/>
                    <a:ext cx="8640" cy="4320"/>
                  </a:xfrm>
                  <a:custGeom>
                    <a:avLst/>
                    <a:gdLst>
                      <a:gd name="textAreaLeft" fmla="*/ 0 w 8640"/>
                      <a:gd name="textAreaRight" fmla="*/ 9000 w 8640"/>
                      <a:gd name="textAreaTop" fmla="*/ 0 h 4320"/>
                      <a:gd name="textAreaBottom" fmla="*/ 4680 h 4320"/>
                    </a:gdLst>
                    <a:ahLst/>
                    <a:rect l="textAreaLeft" t="textAreaTop" r="textAreaRight" b="textAreaBottom"/>
                    <a:pathLst>
                      <a:path w="89" h="34">
                        <a:moveTo>
                          <a:pt x="0" y="34"/>
                        </a:moveTo>
                        <a:lnTo>
                          <a:pt x="0" y="34"/>
                        </a:lnTo>
                        <a:lnTo>
                          <a:pt x="89" y="11"/>
                        </a:lnTo>
                        <a:lnTo>
                          <a:pt x="89" y="0"/>
                        </a:lnTo>
                        <a:lnTo>
                          <a:pt x="0" y="23"/>
                        </a:lnTo>
                        <a:lnTo>
                          <a:pt x="0" y="34"/>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999"/>
                  <p:cNvSpPr/>
                  <p:nvPr/>
                </p:nvSpPr>
                <p:spPr>
                  <a:xfrm rot="111600">
                    <a:off x="1018080" y="88992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1" h="11">
                        <a:moveTo>
                          <a:pt x="0" y="0"/>
                        </a:move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998"/>
                  <p:cNvSpPr/>
                  <p:nvPr/>
                </p:nvSpPr>
                <p:spPr>
                  <a:xfrm rot="111600">
                    <a:off x="1063080" y="880920"/>
                    <a:ext cx="720" cy="1440"/>
                  </a:xfrm>
                  <a:custGeom>
                    <a:avLst/>
                    <a:gdLst>
                      <a:gd name="textAreaLeft" fmla="*/ 0 w 720"/>
                      <a:gd name="textAreaRight" fmla="*/ 1080 w 720"/>
                      <a:gd name="textAreaTop" fmla="*/ 0 h 1440"/>
                      <a:gd name="textAreaBottom" fmla="*/ 1800 h 1440"/>
                    </a:gdLst>
                    <a:ahLst/>
                    <a:rect l="textAreaLeft" t="textAreaTop" r="textAreaRight" b="textAreaBottom"/>
                    <a:pathLst>
                      <a:path w="11" h="11">
                        <a:moveTo>
                          <a:pt x="11" y="0"/>
                        </a:moveTo>
                        <a:lnTo>
                          <a:pt x="11" y="0"/>
                        </a:lnTo>
                        <a:lnTo>
                          <a:pt x="0" y="0"/>
                        </a:lnTo>
                        <a:lnTo>
                          <a:pt x="0" y="11"/>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reeform 997"/>
                  <p:cNvSpPr/>
                  <p:nvPr/>
                </p:nvSpPr>
                <p:spPr>
                  <a:xfrm rot="111600">
                    <a:off x="1063080" y="880920"/>
                    <a:ext cx="14040" cy="16200"/>
                  </a:xfrm>
                  <a:custGeom>
                    <a:avLst/>
                    <a:gdLst>
                      <a:gd name="textAreaLeft" fmla="*/ 0 w 14040"/>
                      <a:gd name="textAreaRight" fmla="*/ 14400 w 14040"/>
                      <a:gd name="textAreaTop" fmla="*/ 0 h 16200"/>
                      <a:gd name="textAreaBottom" fmla="*/ 16560 h 16200"/>
                    </a:gdLst>
                    <a:ahLst/>
                    <a:rect l="textAreaLeft" t="textAreaTop" r="textAreaRight" b="textAreaBottom"/>
                    <a:pathLst>
                      <a:path w="145" h="122">
                        <a:moveTo>
                          <a:pt x="145" y="100"/>
                        </a:moveTo>
                        <a:lnTo>
                          <a:pt x="123" y="100"/>
                        </a:lnTo>
                        <a:lnTo>
                          <a:pt x="112" y="100"/>
                        </a:lnTo>
                        <a:lnTo>
                          <a:pt x="89" y="100"/>
                        </a:lnTo>
                        <a:lnTo>
                          <a:pt x="78" y="89"/>
                        </a:lnTo>
                        <a:lnTo>
                          <a:pt x="67" y="78"/>
                        </a:lnTo>
                        <a:lnTo>
                          <a:pt x="56" y="66"/>
                        </a:lnTo>
                        <a:lnTo>
                          <a:pt x="34" y="44"/>
                        </a:lnTo>
                        <a:lnTo>
                          <a:pt x="11" y="0"/>
                        </a:lnTo>
                        <a:lnTo>
                          <a:pt x="0" y="11"/>
                        </a:lnTo>
                        <a:lnTo>
                          <a:pt x="23" y="44"/>
                        </a:lnTo>
                        <a:lnTo>
                          <a:pt x="45" y="78"/>
                        </a:lnTo>
                        <a:lnTo>
                          <a:pt x="56" y="89"/>
                        </a:lnTo>
                        <a:lnTo>
                          <a:pt x="78" y="100"/>
                        </a:lnTo>
                        <a:lnTo>
                          <a:pt x="89" y="111"/>
                        </a:lnTo>
                        <a:lnTo>
                          <a:pt x="112" y="111"/>
                        </a:lnTo>
                        <a:lnTo>
                          <a:pt x="123" y="111"/>
                        </a:lnTo>
                        <a:lnTo>
                          <a:pt x="145" y="122"/>
                        </a:lnTo>
                        <a:lnTo>
                          <a:pt x="145" y="100"/>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996"/>
                  <p:cNvSpPr/>
                  <p:nvPr/>
                </p:nvSpPr>
                <p:spPr>
                  <a:xfrm rot="111600">
                    <a:off x="1064160" y="88092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1" h="11">
                        <a:moveTo>
                          <a:pt x="0" y="11"/>
                        </a:moveTo>
                        <a:lnTo>
                          <a:pt x="0" y="11"/>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995"/>
                  <p:cNvSpPr/>
                  <p:nvPr/>
                </p:nvSpPr>
                <p:spPr>
                  <a:xfrm rot="111600">
                    <a:off x="1067040" y="88956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2">
                        <a:moveTo>
                          <a:pt x="11" y="12"/>
                        </a:moveTo>
                        <a:lnTo>
                          <a:pt x="11" y="12"/>
                        </a:lnTo>
                        <a:lnTo>
                          <a:pt x="11" y="0"/>
                        </a:lnTo>
                        <a:lnTo>
                          <a:pt x="0" y="12"/>
                        </a:lnTo>
                        <a:lnTo>
                          <a:pt x="11" y="12"/>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Freeform 994"/>
                  <p:cNvSpPr/>
                  <p:nvPr/>
                </p:nvSpPr>
                <p:spPr>
                  <a:xfrm rot="111600">
                    <a:off x="1040040" y="891000"/>
                    <a:ext cx="28080" cy="19080"/>
                  </a:xfrm>
                  <a:custGeom>
                    <a:avLst/>
                    <a:gdLst>
                      <a:gd name="textAreaLeft" fmla="*/ 0 w 28080"/>
                      <a:gd name="textAreaRight" fmla="*/ 28440 w 28080"/>
                      <a:gd name="textAreaTop" fmla="*/ 0 h 19080"/>
                      <a:gd name="textAreaBottom" fmla="*/ 19440 h 19080"/>
                    </a:gdLst>
                    <a:ahLst/>
                    <a:rect l="textAreaLeft" t="textAreaTop" r="textAreaRight" b="textAreaBottom"/>
                    <a:pathLst>
                      <a:path w="290" h="144">
                        <a:moveTo>
                          <a:pt x="0" y="133"/>
                        </a:moveTo>
                        <a:lnTo>
                          <a:pt x="0" y="133"/>
                        </a:lnTo>
                        <a:lnTo>
                          <a:pt x="22" y="144"/>
                        </a:lnTo>
                        <a:lnTo>
                          <a:pt x="45" y="144"/>
                        </a:lnTo>
                        <a:lnTo>
                          <a:pt x="67" y="144"/>
                        </a:lnTo>
                        <a:lnTo>
                          <a:pt x="89" y="144"/>
                        </a:lnTo>
                        <a:lnTo>
                          <a:pt x="112" y="144"/>
                        </a:lnTo>
                        <a:lnTo>
                          <a:pt x="134" y="144"/>
                        </a:lnTo>
                        <a:lnTo>
                          <a:pt x="156" y="133"/>
                        </a:lnTo>
                        <a:lnTo>
                          <a:pt x="167" y="122"/>
                        </a:lnTo>
                        <a:lnTo>
                          <a:pt x="190" y="111"/>
                        </a:lnTo>
                        <a:lnTo>
                          <a:pt x="212" y="100"/>
                        </a:lnTo>
                        <a:lnTo>
                          <a:pt x="223" y="89"/>
                        </a:lnTo>
                        <a:lnTo>
                          <a:pt x="245" y="78"/>
                        </a:lnTo>
                        <a:lnTo>
                          <a:pt x="257" y="55"/>
                        </a:lnTo>
                        <a:lnTo>
                          <a:pt x="268" y="44"/>
                        </a:lnTo>
                        <a:lnTo>
                          <a:pt x="279" y="22"/>
                        </a:lnTo>
                        <a:lnTo>
                          <a:pt x="290" y="0"/>
                        </a:lnTo>
                        <a:lnTo>
                          <a:pt x="279" y="0"/>
                        </a:lnTo>
                        <a:lnTo>
                          <a:pt x="268" y="11"/>
                        </a:lnTo>
                        <a:lnTo>
                          <a:pt x="257" y="33"/>
                        </a:lnTo>
                        <a:lnTo>
                          <a:pt x="245" y="55"/>
                        </a:lnTo>
                        <a:lnTo>
                          <a:pt x="234" y="66"/>
                        </a:lnTo>
                        <a:lnTo>
                          <a:pt x="212" y="78"/>
                        </a:lnTo>
                        <a:lnTo>
                          <a:pt x="201" y="89"/>
                        </a:lnTo>
                        <a:lnTo>
                          <a:pt x="179" y="100"/>
                        </a:lnTo>
                        <a:lnTo>
                          <a:pt x="167" y="111"/>
                        </a:lnTo>
                        <a:lnTo>
                          <a:pt x="145" y="122"/>
                        </a:lnTo>
                        <a:lnTo>
                          <a:pt x="134" y="122"/>
                        </a:lnTo>
                        <a:lnTo>
                          <a:pt x="112" y="133"/>
                        </a:lnTo>
                        <a:lnTo>
                          <a:pt x="89" y="133"/>
                        </a:lnTo>
                        <a:lnTo>
                          <a:pt x="67" y="133"/>
                        </a:lnTo>
                        <a:lnTo>
                          <a:pt x="45" y="133"/>
                        </a:lnTo>
                        <a:lnTo>
                          <a:pt x="34" y="122"/>
                        </a:lnTo>
                        <a:lnTo>
                          <a:pt x="11" y="122"/>
                        </a:lnTo>
                        <a:lnTo>
                          <a:pt x="0" y="133"/>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Freeform 993"/>
                  <p:cNvSpPr/>
                  <p:nvPr/>
                </p:nvSpPr>
                <p:spPr>
                  <a:xfrm rot="111600">
                    <a:off x="1026000" y="886680"/>
                    <a:ext cx="15120" cy="20520"/>
                  </a:xfrm>
                  <a:custGeom>
                    <a:avLst/>
                    <a:gdLst>
                      <a:gd name="textAreaLeft" fmla="*/ 0 w 15120"/>
                      <a:gd name="textAreaRight" fmla="*/ 15480 w 15120"/>
                      <a:gd name="textAreaTop" fmla="*/ 0 h 20520"/>
                      <a:gd name="textAreaBottom" fmla="*/ 20880 h 20520"/>
                    </a:gdLst>
                    <a:ahLst/>
                    <a:rect l="textAreaLeft" t="textAreaTop" r="textAreaRight" b="textAreaBottom"/>
                    <a:pathLst>
                      <a:path w="156" h="156">
                        <a:moveTo>
                          <a:pt x="0" y="11"/>
                        </a:moveTo>
                        <a:lnTo>
                          <a:pt x="23" y="45"/>
                        </a:lnTo>
                        <a:lnTo>
                          <a:pt x="45" y="78"/>
                        </a:lnTo>
                        <a:lnTo>
                          <a:pt x="56" y="101"/>
                        </a:lnTo>
                        <a:lnTo>
                          <a:pt x="78" y="112"/>
                        </a:lnTo>
                        <a:lnTo>
                          <a:pt x="89" y="134"/>
                        </a:lnTo>
                        <a:lnTo>
                          <a:pt x="112" y="145"/>
                        </a:lnTo>
                        <a:lnTo>
                          <a:pt x="123" y="156"/>
                        </a:lnTo>
                        <a:lnTo>
                          <a:pt x="145" y="156"/>
                        </a:lnTo>
                        <a:lnTo>
                          <a:pt x="156" y="145"/>
                        </a:lnTo>
                        <a:lnTo>
                          <a:pt x="134" y="134"/>
                        </a:lnTo>
                        <a:lnTo>
                          <a:pt x="112" y="134"/>
                        </a:lnTo>
                        <a:lnTo>
                          <a:pt x="101" y="123"/>
                        </a:lnTo>
                        <a:lnTo>
                          <a:pt x="89" y="101"/>
                        </a:lnTo>
                        <a:lnTo>
                          <a:pt x="67" y="89"/>
                        </a:lnTo>
                        <a:lnTo>
                          <a:pt x="56" y="67"/>
                        </a:lnTo>
                        <a:lnTo>
                          <a:pt x="34" y="34"/>
                        </a:lnTo>
                        <a:lnTo>
                          <a:pt x="11" y="0"/>
                        </a:lnTo>
                        <a:lnTo>
                          <a:pt x="0" y="11"/>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Freeform 992"/>
                  <p:cNvSpPr/>
                  <p:nvPr/>
                </p:nvSpPr>
                <p:spPr>
                  <a:xfrm rot="111600">
                    <a:off x="1039680" y="90684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11" y="0"/>
                        </a:moveTo>
                        <a:lnTo>
                          <a:pt x="11" y="0"/>
                        </a:lnTo>
                        <a:lnTo>
                          <a:pt x="0" y="0"/>
                        </a:lnTo>
                        <a:lnTo>
                          <a:pt x="0" y="11"/>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Freeform 991"/>
                  <p:cNvSpPr/>
                  <p:nvPr/>
                </p:nvSpPr>
                <p:spPr>
                  <a:xfrm rot="111600">
                    <a:off x="1114560" y="802440"/>
                    <a:ext cx="24840" cy="66600"/>
                  </a:xfrm>
                  <a:custGeom>
                    <a:avLst/>
                    <a:gdLst>
                      <a:gd name="textAreaLeft" fmla="*/ 0 w 24840"/>
                      <a:gd name="textAreaRight" fmla="*/ 25200 w 24840"/>
                      <a:gd name="textAreaTop" fmla="*/ 0 h 66600"/>
                      <a:gd name="textAreaBottom" fmla="*/ 66960 h 66600"/>
                    </a:gdLst>
                    <a:ahLst/>
                    <a:rect l="textAreaLeft" t="textAreaTop" r="textAreaRight" b="textAreaBottom"/>
                    <a:pathLst>
                      <a:path w="256" h="501">
                        <a:moveTo>
                          <a:pt x="33" y="145"/>
                        </a:moveTo>
                        <a:lnTo>
                          <a:pt x="45" y="122"/>
                        </a:lnTo>
                        <a:lnTo>
                          <a:pt x="56" y="100"/>
                        </a:lnTo>
                        <a:lnTo>
                          <a:pt x="67" y="78"/>
                        </a:lnTo>
                        <a:lnTo>
                          <a:pt x="89" y="55"/>
                        </a:lnTo>
                        <a:lnTo>
                          <a:pt x="100" y="44"/>
                        </a:lnTo>
                        <a:lnTo>
                          <a:pt x="123" y="22"/>
                        </a:lnTo>
                        <a:lnTo>
                          <a:pt x="134" y="11"/>
                        </a:lnTo>
                        <a:lnTo>
                          <a:pt x="167" y="0"/>
                        </a:lnTo>
                        <a:lnTo>
                          <a:pt x="189" y="11"/>
                        </a:lnTo>
                        <a:lnTo>
                          <a:pt x="223" y="55"/>
                        </a:lnTo>
                        <a:lnTo>
                          <a:pt x="245" y="100"/>
                        </a:lnTo>
                        <a:lnTo>
                          <a:pt x="256" y="167"/>
                        </a:lnTo>
                        <a:lnTo>
                          <a:pt x="256" y="234"/>
                        </a:lnTo>
                        <a:lnTo>
                          <a:pt x="256" y="301"/>
                        </a:lnTo>
                        <a:lnTo>
                          <a:pt x="245" y="356"/>
                        </a:lnTo>
                        <a:lnTo>
                          <a:pt x="234" y="412"/>
                        </a:lnTo>
                        <a:lnTo>
                          <a:pt x="223" y="423"/>
                        </a:lnTo>
                        <a:lnTo>
                          <a:pt x="223" y="434"/>
                        </a:lnTo>
                        <a:lnTo>
                          <a:pt x="212" y="457"/>
                        </a:lnTo>
                        <a:lnTo>
                          <a:pt x="201" y="468"/>
                        </a:lnTo>
                        <a:lnTo>
                          <a:pt x="189" y="479"/>
                        </a:lnTo>
                        <a:lnTo>
                          <a:pt x="189" y="490"/>
                        </a:lnTo>
                        <a:lnTo>
                          <a:pt x="167" y="501"/>
                        </a:lnTo>
                        <a:lnTo>
                          <a:pt x="156" y="501"/>
                        </a:lnTo>
                        <a:lnTo>
                          <a:pt x="134" y="501"/>
                        </a:lnTo>
                        <a:lnTo>
                          <a:pt x="123" y="501"/>
                        </a:lnTo>
                        <a:lnTo>
                          <a:pt x="100" y="490"/>
                        </a:lnTo>
                        <a:lnTo>
                          <a:pt x="89" y="479"/>
                        </a:lnTo>
                        <a:lnTo>
                          <a:pt x="78" y="468"/>
                        </a:lnTo>
                        <a:lnTo>
                          <a:pt x="67" y="457"/>
                        </a:lnTo>
                        <a:lnTo>
                          <a:pt x="56" y="446"/>
                        </a:lnTo>
                        <a:lnTo>
                          <a:pt x="33" y="434"/>
                        </a:lnTo>
                        <a:lnTo>
                          <a:pt x="22" y="401"/>
                        </a:lnTo>
                        <a:lnTo>
                          <a:pt x="11" y="368"/>
                        </a:lnTo>
                        <a:lnTo>
                          <a:pt x="0" y="323"/>
                        </a:lnTo>
                        <a:lnTo>
                          <a:pt x="0" y="289"/>
                        </a:lnTo>
                        <a:lnTo>
                          <a:pt x="0" y="245"/>
                        </a:lnTo>
                        <a:lnTo>
                          <a:pt x="0" y="211"/>
                        </a:lnTo>
                        <a:lnTo>
                          <a:pt x="11" y="178"/>
                        </a:lnTo>
                        <a:lnTo>
                          <a:pt x="33" y="145"/>
                        </a:lnTo>
                        <a:close/>
                      </a:path>
                    </a:pathLst>
                  </a:custGeom>
                  <a:solidFill>
                    <a:srgbClr val="5475e8"/>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Freeform 990"/>
                  <p:cNvSpPr/>
                  <p:nvPr/>
                </p:nvSpPr>
                <p:spPr>
                  <a:xfrm rot="111600">
                    <a:off x="1117440" y="80064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45" h="167">
                        <a:moveTo>
                          <a:pt x="145" y="0"/>
                        </a:moveTo>
                        <a:lnTo>
                          <a:pt x="134" y="0"/>
                        </a:lnTo>
                        <a:lnTo>
                          <a:pt x="112" y="11"/>
                        </a:lnTo>
                        <a:lnTo>
                          <a:pt x="89" y="33"/>
                        </a:lnTo>
                        <a:lnTo>
                          <a:pt x="67" y="44"/>
                        </a:lnTo>
                        <a:lnTo>
                          <a:pt x="56" y="66"/>
                        </a:lnTo>
                        <a:lnTo>
                          <a:pt x="45" y="89"/>
                        </a:lnTo>
                        <a:lnTo>
                          <a:pt x="34" y="111"/>
                        </a:lnTo>
                        <a:lnTo>
                          <a:pt x="23" y="133"/>
                        </a:lnTo>
                        <a:lnTo>
                          <a:pt x="0" y="156"/>
                        </a:lnTo>
                        <a:lnTo>
                          <a:pt x="23" y="167"/>
                        </a:lnTo>
                        <a:lnTo>
                          <a:pt x="34" y="133"/>
                        </a:lnTo>
                        <a:lnTo>
                          <a:pt x="45" y="111"/>
                        </a:lnTo>
                        <a:lnTo>
                          <a:pt x="56" y="100"/>
                        </a:lnTo>
                        <a:lnTo>
                          <a:pt x="67" y="78"/>
                        </a:lnTo>
                        <a:lnTo>
                          <a:pt x="78" y="55"/>
                        </a:lnTo>
                        <a:lnTo>
                          <a:pt x="101" y="44"/>
                        </a:lnTo>
                        <a:lnTo>
                          <a:pt x="123" y="33"/>
                        </a:lnTo>
                        <a:lnTo>
                          <a:pt x="145" y="11"/>
                        </a:lnTo>
                        <a:lnTo>
                          <a:pt x="145"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Freeform 989"/>
                  <p:cNvSpPr/>
                  <p:nvPr/>
                </p:nvSpPr>
                <p:spPr>
                  <a:xfrm rot="111600">
                    <a:off x="1131480" y="801360"/>
                    <a:ext cx="9720" cy="56160"/>
                  </a:xfrm>
                  <a:custGeom>
                    <a:avLst/>
                    <a:gdLst>
                      <a:gd name="textAreaLeft" fmla="*/ 0 w 9720"/>
                      <a:gd name="textAreaRight" fmla="*/ 10080 w 9720"/>
                      <a:gd name="textAreaTop" fmla="*/ 0 h 56160"/>
                      <a:gd name="textAreaBottom" fmla="*/ 56520 h 56160"/>
                    </a:gdLst>
                    <a:ahLst/>
                    <a:rect l="textAreaLeft" t="textAreaTop" r="textAreaRight" b="textAreaBottom"/>
                    <a:pathLst>
                      <a:path w="100" h="423">
                        <a:moveTo>
                          <a:pt x="67" y="423"/>
                        </a:moveTo>
                        <a:lnTo>
                          <a:pt x="67" y="423"/>
                        </a:lnTo>
                        <a:lnTo>
                          <a:pt x="89" y="367"/>
                        </a:lnTo>
                        <a:lnTo>
                          <a:pt x="100" y="312"/>
                        </a:lnTo>
                        <a:lnTo>
                          <a:pt x="100" y="245"/>
                        </a:lnTo>
                        <a:lnTo>
                          <a:pt x="89" y="178"/>
                        </a:lnTo>
                        <a:lnTo>
                          <a:pt x="78" y="111"/>
                        </a:lnTo>
                        <a:lnTo>
                          <a:pt x="56" y="55"/>
                        </a:lnTo>
                        <a:lnTo>
                          <a:pt x="34" y="22"/>
                        </a:lnTo>
                        <a:lnTo>
                          <a:pt x="0" y="0"/>
                        </a:lnTo>
                        <a:lnTo>
                          <a:pt x="0" y="11"/>
                        </a:lnTo>
                        <a:lnTo>
                          <a:pt x="22" y="33"/>
                        </a:lnTo>
                        <a:lnTo>
                          <a:pt x="45" y="66"/>
                        </a:lnTo>
                        <a:lnTo>
                          <a:pt x="67" y="111"/>
                        </a:lnTo>
                        <a:lnTo>
                          <a:pt x="78" y="178"/>
                        </a:lnTo>
                        <a:lnTo>
                          <a:pt x="89" y="245"/>
                        </a:lnTo>
                        <a:lnTo>
                          <a:pt x="89" y="312"/>
                        </a:lnTo>
                        <a:lnTo>
                          <a:pt x="78" y="367"/>
                        </a:lnTo>
                        <a:lnTo>
                          <a:pt x="56" y="423"/>
                        </a:lnTo>
                        <a:lnTo>
                          <a:pt x="67" y="423"/>
                        </a:lnTo>
                        <a:close/>
                      </a:path>
                    </a:pathLst>
                  </a:custGeom>
                  <a:solidFill>
                    <a:srgbClr val="000000"/>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reeform 988"/>
                  <p:cNvSpPr/>
                  <p:nvPr/>
                </p:nvSpPr>
                <p:spPr>
                  <a:xfrm rot="111600">
                    <a:off x="1129320" y="857880"/>
                    <a:ext cx="7560" cy="12960"/>
                  </a:xfrm>
                  <a:custGeom>
                    <a:avLst/>
                    <a:gdLst>
                      <a:gd name="textAreaLeft" fmla="*/ 0 w 7560"/>
                      <a:gd name="textAreaRight" fmla="*/ 7920 w 7560"/>
                      <a:gd name="textAreaTop" fmla="*/ 0 h 12960"/>
                      <a:gd name="textAreaBottom" fmla="*/ 13320 h 12960"/>
                    </a:gdLst>
                    <a:ahLst/>
                    <a:rect l="textAreaLeft" t="textAreaTop" r="textAreaRight" b="textAreaBottom"/>
                    <a:pathLst>
                      <a:path w="78" h="100">
                        <a:moveTo>
                          <a:pt x="0" y="100"/>
                        </a:moveTo>
                        <a:lnTo>
                          <a:pt x="0" y="100"/>
                        </a:lnTo>
                        <a:lnTo>
                          <a:pt x="22" y="89"/>
                        </a:lnTo>
                        <a:lnTo>
                          <a:pt x="33" y="78"/>
                        </a:lnTo>
                        <a:lnTo>
                          <a:pt x="45" y="67"/>
                        </a:lnTo>
                        <a:lnTo>
                          <a:pt x="56" y="56"/>
                        </a:lnTo>
                        <a:lnTo>
                          <a:pt x="67" y="45"/>
                        </a:lnTo>
                        <a:lnTo>
                          <a:pt x="67" y="34"/>
                        </a:lnTo>
                        <a:lnTo>
                          <a:pt x="78" y="11"/>
                        </a:lnTo>
                        <a:lnTo>
                          <a:pt x="78" y="0"/>
                        </a:lnTo>
                        <a:lnTo>
                          <a:pt x="67" y="0"/>
                        </a:lnTo>
                        <a:lnTo>
                          <a:pt x="67" y="11"/>
                        </a:lnTo>
                        <a:lnTo>
                          <a:pt x="56" y="22"/>
                        </a:lnTo>
                        <a:lnTo>
                          <a:pt x="45" y="34"/>
                        </a:lnTo>
                        <a:lnTo>
                          <a:pt x="45" y="45"/>
                        </a:lnTo>
                        <a:lnTo>
                          <a:pt x="33" y="67"/>
                        </a:lnTo>
                        <a:lnTo>
                          <a:pt x="22" y="78"/>
                        </a:lnTo>
                        <a:lnTo>
                          <a:pt x="11" y="78"/>
                        </a:lnTo>
                        <a:lnTo>
                          <a:pt x="0" y="89"/>
                        </a:lnTo>
                        <a:lnTo>
                          <a:pt x="0" y="78"/>
                        </a:lnTo>
                        <a:lnTo>
                          <a:pt x="0" y="10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987"/>
                  <p:cNvSpPr/>
                  <p:nvPr/>
                </p:nvSpPr>
                <p:spPr>
                  <a:xfrm rot="111600">
                    <a:off x="1117080" y="860400"/>
                    <a:ext cx="11880" cy="10080"/>
                  </a:xfrm>
                  <a:custGeom>
                    <a:avLst/>
                    <a:gdLst>
                      <a:gd name="textAreaLeft" fmla="*/ 0 w 11880"/>
                      <a:gd name="textAreaRight" fmla="*/ 12240 w 11880"/>
                      <a:gd name="textAreaTop" fmla="*/ 0 h 10080"/>
                      <a:gd name="textAreaBottom" fmla="*/ 10440 h 10080"/>
                    </a:gdLst>
                    <a:ahLst/>
                    <a:rect l="textAreaLeft" t="textAreaTop" r="textAreaRight" b="textAreaBottom"/>
                    <a:pathLst>
                      <a:path w="123" h="78">
                        <a:moveTo>
                          <a:pt x="0" y="12"/>
                        </a:moveTo>
                        <a:lnTo>
                          <a:pt x="0" y="12"/>
                        </a:lnTo>
                        <a:lnTo>
                          <a:pt x="12" y="23"/>
                        </a:lnTo>
                        <a:lnTo>
                          <a:pt x="23" y="23"/>
                        </a:lnTo>
                        <a:lnTo>
                          <a:pt x="34" y="45"/>
                        </a:lnTo>
                        <a:lnTo>
                          <a:pt x="56" y="56"/>
                        </a:lnTo>
                        <a:lnTo>
                          <a:pt x="67" y="67"/>
                        </a:lnTo>
                        <a:lnTo>
                          <a:pt x="90" y="67"/>
                        </a:lnTo>
                        <a:lnTo>
                          <a:pt x="101" y="78"/>
                        </a:lnTo>
                        <a:lnTo>
                          <a:pt x="123" y="78"/>
                        </a:lnTo>
                        <a:lnTo>
                          <a:pt x="123" y="56"/>
                        </a:lnTo>
                        <a:lnTo>
                          <a:pt x="101" y="56"/>
                        </a:lnTo>
                        <a:lnTo>
                          <a:pt x="90" y="56"/>
                        </a:lnTo>
                        <a:lnTo>
                          <a:pt x="78" y="45"/>
                        </a:lnTo>
                        <a:lnTo>
                          <a:pt x="56" y="45"/>
                        </a:lnTo>
                        <a:lnTo>
                          <a:pt x="45" y="34"/>
                        </a:lnTo>
                        <a:lnTo>
                          <a:pt x="34" y="23"/>
                        </a:lnTo>
                        <a:lnTo>
                          <a:pt x="23" y="12"/>
                        </a:lnTo>
                        <a:lnTo>
                          <a:pt x="12" y="0"/>
                        </a:lnTo>
                        <a:lnTo>
                          <a:pt x="0" y="12"/>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986"/>
                  <p:cNvSpPr/>
                  <p:nvPr/>
                </p:nvSpPr>
                <p:spPr>
                  <a:xfrm rot="111600">
                    <a:off x="1114200" y="821520"/>
                    <a:ext cx="5400" cy="39960"/>
                  </a:xfrm>
                  <a:custGeom>
                    <a:avLst/>
                    <a:gdLst>
                      <a:gd name="textAreaLeft" fmla="*/ 0 w 5400"/>
                      <a:gd name="textAreaRight" fmla="*/ 5760 w 5400"/>
                      <a:gd name="textAreaTop" fmla="*/ 0 h 39960"/>
                      <a:gd name="textAreaBottom" fmla="*/ 40320 h 39960"/>
                    </a:gdLst>
                    <a:ahLst/>
                    <a:rect l="textAreaLeft" t="textAreaTop" r="textAreaRight" b="textAreaBottom"/>
                    <a:pathLst>
                      <a:path w="56" h="301">
                        <a:moveTo>
                          <a:pt x="33" y="0"/>
                        </a:moveTo>
                        <a:lnTo>
                          <a:pt x="44" y="0"/>
                        </a:lnTo>
                        <a:lnTo>
                          <a:pt x="22" y="33"/>
                        </a:lnTo>
                        <a:lnTo>
                          <a:pt x="11" y="66"/>
                        </a:lnTo>
                        <a:lnTo>
                          <a:pt x="0" y="100"/>
                        </a:lnTo>
                        <a:lnTo>
                          <a:pt x="0" y="144"/>
                        </a:lnTo>
                        <a:lnTo>
                          <a:pt x="0" y="178"/>
                        </a:lnTo>
                        <a:lnTo>
                          <a:pt x="11" y="223"/>
                        </a:lnTo>
                        <a:lnTo>
                          <a:pt x="22" y="267"/>
                        </a:lnTo>
                        <a:lnTo>
                          <a:pt x="44" y="301"/>
                        </a:lnTo>
                        <a:lnTo>
                          <a:pt x="56" y="289"/>
                        </a:lnTo>
                        <a:lnTo>
                          <a:pt x="33" y="256"/>
                        </a:lnTo>
                        <a:lnTo>
                          <a:pt x="22" y="223"/>
                        </a:lnTo>
                        <a:lnTo>
                          <a:pt x="22" y="178"/>
                        </a:lnTo>
                        <a:lnTo>
                          <a:pt x="11" y="144"/>
                        </a:lnTo>
                        <a:lnTo>
                          <a:pt x="11" y="100"/>
                        </a:lnTo>
                        <a:lnTo>
                          <a:pt x="22" y="66"/>
                        </a:lnTo>
                        <a:lnTo>
                          <a:pt x="33" y="33"/>
                        </a:lnTo>
                        <a:lnTo>
                          <a:pt x="56" y="11"/>
                        </a:lnTo>
                        <a:lnTo>
                          <a:pt x="33" y="0"/>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Freeform 985"/>
                  <p:cNvSpPr/>
                  <p:nvPr/>
                </p:nvSpPr>
                <p:spPr>
                  <a:xfrm rot="111600">
                    <a:off x="1099440" y="822600"/>
                    <a:ext cx="21600" cy="39960"/>
                  </a:xfrm>
                  <a:custGeom>
                    <a:avLst/>
                    <a:gdLst>
                      <a:gd name="textAreaLeft" fmla="*/ 0 w 21600"/>
                      <a:gd name="textAreaRight" fmla="*/ 21960 w 21600"/>
                      <a:gd name="textAreaTop" fmla="*/ 0 h 39960"/>
                      <a:gd name="textAreaBottom" fmla="*/ 40320 h 39960"/>
                    </a:gdLst>
                    <a:ahLst/>
                    <a:rect l="textAreaLeft" t="textAreaTop" r="textAreaRight" b="textAreaBottom"/>
                    <a:pathLst>
                      <a:path w="223" h="301">
                        <a:moveTo>
                          <a:pt x="33" y="0"/>
                        </a:moveTo>
                        <a:lnTo>
                          <a:pt x="44" y="0"/>
                        </a:lnTo>
                        <a:lnTo>
                          <a:pt x="56" y="0"/>
                        </a:lnTo>
                        <a:lnTo>
                          <a:pt x="67" y="0"/>
                        </a:lnTo>
                        <a:lnTo>
                          <a:pt x="78" y="0"/>
                        </a:lnTo>
                        <a:lnTo>
                          <a:pt x="89" y="0"/>
                        </a:lnTo>
                        <a:lnTo>
                          <a:pt x="100" y="0"/>
                        </a:lnTo>
                        <a:lnTo>
                          <a:pt x="111" y="0"/>
                        </a:lnTo>
                        <a:lnTo>
                          <a:pt x="122" y="0"/>
                        </a:lnTo>
                        <a:lnTo>
                          <a:pt x="156" y="33"/>
                        </a:lnTo>
                        <a:lnTo>
                          <a:pt x="189" y="55"/>
                        </a:lnTo>
                        <a:lnTo>
                          <a:pt x="212" y="89"/>
                        </a:lnTo>
                        <a:lnTo>
                          <a:pt x="223" y="122"/>
                        </a:lnTo>
                        <a:lnTo>
                          <a:pt x="223" y="167"/>
                        </a:lnTo>
                        <a:lnTo>
                          <a:pt x="212" y="200"/>
                        </a:lnTo>
                        <a:lnTo>
                          <a:pt x="201" y="245"/>
                        </a:lnTo>
                        <a:lnTo>
                          <a:pt x="178" y="278"/>
                        </a:lnTo>
                        <a:lnTo>
                          <a:pt x="156" y="290"/>
                        </a:lnTo>
                        <a:lnTo>
                          <a:pt x="145" y="290"/>
                        </a:lnTo>
                        <a:lnTo>
                          <a:pt x="134" y="290"/>
                        </a:lnTo>
                        <a:lnTo>
                          <a:pt x="111" y="301"/>
                        </a:lnTo>
                        <a:lnTo>
                          <a:pt x="100" y="301"/>
                        </a:lnTo>
                        <a:lnTo>
                          <a:pt x="78" y="301"/>
                        </a:lnTo>
                        <a:lnTo>
                          <a:pt x="67" y="301"/>
                        </a:lnTo>
                        <a:lnTo>
                          <a:pt x="56" y="301"/>
                        </a:lnTo>
                        <a:lnTo>
                          <a:pt x="33" y="301"/>
                        </a:lnTo>
                        <a:lnTo>
                          <a:pt x="22" y="290"/>
                        </a:lnTo>
                        <a:lnTo>
                          <a:pt x="11" y="278"/>
                        </a:lnTo>
                        <a:lnTo>
                          <a:pt x="11" y="267"/>
                        </a:lnTo>
                        <a:lnTo>
                          <a:pt x="11" y="256"/>
                        </a:lnTo>
                        <a:lnTo>
                          <a:pt x="11" y="234"/>
                        </a:lnTo>
                        <a:lnTo>
                          <a:pt x="11" y="212"/>
                        </a:lnTo>
                        <a:lnTo>
                          <a:pt x="22" y="189"/>
                        </a:lnTo>
                        <a:lnTo>
                          <a:pt x="22" y="178"/>
                        </a:lnTo>
                        <a:lnTo>
                          <a:pt x="11" y="156"/>
                        </a:lnTo>
                        <a:lnTo>
                          <a:pt x="11" y="122"/>
                        </a:lnTo>
                        <a:lnTo>
                          <a:pt x="0" y="89"/>
                        </a:lnTo>
                        <a:lnTo>
                          <a:pt x="0" y="55"/>
                        </a:lnTo>
                        <a:lnTo>
                          <a:pt x="0" y="33"/>
                        </a:lnTo>
                        <a:lnTo>
                          <a:pt x="11" y="11"/>
                        </a:lnTo>
                        <a:lnTo>
                          <a:pt x="33" y="0"/>
                        </a:lnTo>
                        <a:close/>
                      </a:path>
                    </a:pathLst>
                  </a:custGeom>
                  <a:solidFill>
                    <a:srgbClr val="5475e8"/>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Freeform 984"/>
                  <p:cNvSpPr/>
                  <p:nvPr/>
                </p:nvSpPr>
                <p:spPr>
                  <a:xfrm rot="111600">
                    <a:off x="1103400" y="821160"/>
                    <a:ext cx="9720" cy="2880"/>
                  </a:xfrm>
                  <a:custGeom>
                    <a:avLst/>
                    <a:gdLst>
                      <a:gd name="textAreaLeft" fmla="*/ 0 w 9720"/>
                      <a:gd name="textAreaRight" fmla="*/ 10080 w 9720"/>
                      <a:gd name="textAreaTop" fmla="*/ 0 h 2880"/>
                      <a:gd name="textAreaBottom" fmla="*/ 3240 h 2880"/>
                    </a:gdLst>
                    <a:ahLst/>
                    <a:rect l="textAreaLeft" t="textAreaTop" r="textAreaRight" b="textAreaBottom"/>
                    <a:pathLst>
                      <a:path w="101" h="22">
                        <a:moveTo>
                          <a:pt x="101" y="11"/>
                        </a:moveTo>
                        <a:lnTo>
                          <a:pt x="89" y="11"/>
                        </a:lnTo>
                        <a:lnTo>
                          <a:pt x="78" y="0"/>
                        </a:lnTo>
                        <a:lnTo>
                          <a:pt x="67" y="0"/>
                        </a:lnTo>
                        <a:lnTo>
                          <a:pt x="56" y="0"/>
                        </a:lnTo>
                        <a:lnTo>
                          <a:pt x="45" y="0"/>
                        </a:lnTo>
                        <a:lnTo>
                          <a:pt x="34" y="0"/>
                        </a:lnTo>
                        <a:lnTo>
                          <a:pt x="23" y="0"/>
                        </a:lnTo>
                        <a:lnTo>
                          <a:pt x="11" y="0"/>
                        </a:lnTo>
                        <a:lnTo>
                          <a:pt x="0" y="0"/>
                        </a:lnTo>
                        <a:lnTo>
                          <a:pt x="0" y="22"/>
                        </a:lnTo>
                        <a:lnTo>
                          <a:pt x="11" y="22"/>
                        </a:lnTo>
                        <a:lnTo>
                          <a:pt x="23" y="22"/>
                        </a:lnTo>
                        <a:lnTo>
                          <a:pt x="34" y="11"/>
                        </a:lnTo>
                        <a:lnTo>
                          <a:pt x="45" y="11"/>
                        </a:lnTo>
                        <a:lnTo>
                          <a:pt x="56" y="11"/>
                        </a:lnTo>
                        <a:lnTo>
                          <a:pt x="67" y="11"/>
                        </a:lnTo>
                        <a:lnTo>
                          <a:pt x="78" y="11"/>
                        </a:lnTo>
                        <a:lnTo>
                          <a:pt x="89" y="22"/>
                        </a:lnTo>
                        <a:lnTo>
                          <a:pt x="101"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983"/>
                  <p:cNvSpPr/>
                  <p:nvPr/>
                </p:nvSpPr>
                <p:spPr>
                  <a:xfrm rot="111600">
                    <a:off x="1111320" y="822960"/>
                    <a:ext cx="10800" cy="38520"/>
                  </a:xfrm>
                  <a:custGeom>
                    <a:avLst/>
                    <a:gdLst>
                      <a:gd name="textAreaLeft" fmla="*/ 0 w 10800"/>
                      <a:gd name="textAreaRight" fmla="*/ 11160 w 10800"/>
                      <a:gd name="textAreaTop" fmla="*/ 0 h 38520"/>
                      <a:gd name="textAreaBottom" fmla="*/ 38880 h 38520"/>
                    </a:gdLst>
                    <a:ahLst/>
                    <a:rect l="textAreaLeft" t="textAreaTop" r="textAreaRight" b="textAreaBottom"/>
                    <a:pathLst>
                      <a:path w="112" h="290">
                        <a:moveTo>
                          <a:pt x="56" y="290"/>
                        </a:moveTo>
                        <a:lnTo>
                          <a:pt x="56" y="290"/>
                        </a:lnTo>
                        <a:lnTo>
                          <a:pt x="79" y="245"/>
                        </a:lnTo>
                        <a:lnTo>
                          <a:pt x="101" y="200"/>
                        </a:lnTo>
                        <a:lnTo>
                          <a:pt x="112" y="167"/>
                        </a:lnTo>
                        <a:lnTo>
                          <a:pt x="101" y="122"/>
                        </a:lnTo>
                        <a:lnTo>
                          <a:pt x="90" y="89"/>
                        </a:lnTo>
                        <a:lnTo>
                          <a:pt x="67" y="55"/>
                        </a:lnTo>
                        <a:lnTo>
                          <a:pt x="45" y="22"/>
                        </a:lnTo>
                        <a:lnTo>
                          <a:pt x="12" y="0"/>
                        </a:lnTo>
                        <a:lnTo>
                          <a:pt x="0" y="11"/>
                        </a:lnTo>
                        <a:lnTo>
                          <a:pt x="34" y="33"/>
                        </a:lnTo>
                        <a:lnTo>
                          <a:pt x="56" y="67"/>
                        </a:lnTo>
                        <a:lnTo>
                          <a:pt x="79" y="89"/>
                        </a:lnTo>
                        <a:lnTo>
                          <a:pt x="90" y="122"/>
                        </a:lnTo>
                        <a:lnTo>
                          <a:pt x="90" y="167"/>
                        </a:lnTo>
                        <a:lnTo>
                          <a:pt x="90" y="200"/>
                        </a:lnTo>
                        <a:lnTo>
                          <a:pt x="67" y="234"/>
                        </a:lnTo>
                        <a:lnTo>
                          <a:pt x="45" y="278"/>
                        </a:lnTo>
                        <a:lnTo>
                          <a:pt x="56" y="290"/>
                        </a:lnTo>
                        <a:close/>
                      </a:path>
                    </a:pathLst>
                  </a:custGeom>
                  <a:solidFill>
                    <a:srgbClr val="000000"/>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982"/>
                  <p:cNvSpPr/>
                  <p:nvPr/>
                </p:nvSpPr>
                <p:spPr>
                  <a:xfrm rot="111600">
                    <a:off x="1099080" y="846360"/>
                    <a:ext cx="17280" cy="17640"/>
                  </a:xfrm>
                  <a:custGeom>
                    <a:avLst/>
                    <a:gdLst>
                      <a:gd name="textAreaLeft" fmla="*/ 0 w 17280"/>
                      <a:gd name="textAreaRight" fmla="*/ 17640 w 17280"/>
                      <a:gd name="textAreaTop" fmla="*/ 0 h 17640"/>
                      <a:gd name="textAreaBottom" fmla="*/ 18000 h 17640"/>
                    </a:gdLst>
                    <a:ahLst/>
                    <a:rect l="textAreaLeft" t="textAreaTop" r="textAreaRight" b="textAreaBottom"/>
                    <a:pathLst>
                      <a:path w="178" h="134">
                        <a:moveTo>
                          <a:pt x="11" y="11"/>
                        </a:moveTo>
                        <a:lnTo>
                          <a:pt x="11" y="0"/>
                        </a:lnTo>
                        <a:lnTo>
                          <a:pt x="0" y="34"/>
                        </a:lnTo>
                        <a:lnTo>
                          <a:pt x="0" y="56"/>
                        </a:lnTo>
                        <a:lnTo>
                          <a:pt x="0" y="78"/>
                        </a:lnTo>
                        <a:lnTo>
                          <a:pt x="0" y="100"/>
                        </a:lnTo>
                        <a:lnTo>
                          <a:pt x="11" y="112"/>
                        </a:lnTo>
                        <a:lnTo>
                          <a:pt x="22" y="123"/>
                        </a:lnTo>
                        <a:lnTo>
                          <a:pt x="33" y="123"/>
                        </a:lnTo>
                        <a:lnTo>
                          <a:pt x="56" y="134"/>
                        </a:lnTo>
                        <a:lnTo>
                          <a:pt x="67" y="134"/>
                        </a:lnTo>
                        <a:lnTo>
                          <a:pt x="78" y="134"/>
                        </a:lnTo>
                        <a:lnTo>
                          <a:pt x="100" y="134"/>
                        </a:lnTo>
                        <a:lnTo>
                          <a:pt x="111" y="123"/>
                        </a:lnTo>
                        <a:lnTo>
                          <a:pt x="134" y="123"/>
                        </a:lnTo>
                        <a:lnTo>
                          <a:pt x="145" y="123"/>
                        </a:lnTo>
                        <a:lnTo>
                          <a:pt x="167" y="112"/>
                        </a:lnTo>
                        <a:lnTo>
                          <a:pt x="178" y="112"/>
                        </a:lnTo>
                        <a:lnTo>
                          <a:pt x="167" y="100"/>
                        </a:lnTo>
                        <a:lnTo>
                          <a:pt x="156" y="100"/>
                        </a:lnTo>
                        <a:lnTo>
                          <a:pt x="145" y="100"/>
                        </a:lnTo>
                        <a:lnTo>
                          <a:pt x="134" y="112"/>
                        </a:lnTo>
                        <a:lnTo>
                          <a:pt x="111" y="112"/>
                        </a:lnTo>
                        <a:lnTo>
                          <a:pt x="100" y="112"/>
                        </a:lnTo>
                        <a:lnTo>
                          <a:pt x="78" y="112"/>
                        </a:lnTo>
                        <a:lnTo>
                          <a:pt x="67" y="112"/>
                        </a:lnTo>
                        <a:lnTo>
                          <a:pt x="56" y="112"/>
                        </a:lnTo>
                        <a:lnTo>
                          <a:pt x="44" y="112"/>
                        </a:lnTo>
                        <a:lnTo>
                          <a:pt x="33" y="112"/>
                        </a:lnTo>
                        <a:lnTo>
                          <a:pt x="22" y="100"/>
                        </a:lnTo>
                        <a:lnTo>
                          <a:pt x="11" y="89"/>
                        </a:lnTo>
                        <a:lnTo>
                          <a:pt x="11" y="78"/>
                        </a:lnTo>
                        <a:lnTo>
                          <a:pt x="11" y="56"/>
                        </a:lnTo>
                        <a:lnTo>
                          <a:pt x="22" y="34"/>
                        </a:lnTo>
                        <a:lnTo>
                          <a:pt x="22" y="11"/>
                        </a:lnTo>
                        <a:lnTo>
                          <a:pt x="11" y="11"/>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981"/>
                  <p:cNvSpPr/>
                  <p:nvPr/>
                </p:nvSpPr>
                <p:spPr>
                  <a:xfrm rot="111600">
                    <a:off x="1098720" y="821160"/>
                    <a:ext cx="3960" cy="26280"/>
                  </a:xfrm>
                  <a:custGeom>
                    <a:avLst/>
                    <a:gdLst>
                      <a:gd name="textAreaLeft" fmla="*/ 0 w 3960"/>
                      <a:gd name="textAreaRight" fmla="*/ 4320 w 3960"/>
                      <a:gd name="textAreaTop" fmla="*/ 0 h 26280"/>
                      <a:gd name="textAreaBottom" fmla="*/ 26640 h 26280"/>
                    </a:gdLst>
                    <a:ahLst/>
                    <a:rect l="textAreaLeft" t="textAreaTop" r="textAreaRight" b="textAreaBottom"/>
                    <a:pathLst>
                      <a:path w="44" h="200">
                        <a:moveTo>
                          <a:pt x="44" y="0"/>
                        </a:moveTo>
                        <a:lnTo>
                          <a:pt x="44" y="0"/>
                        </a:lnTo>
                        <a:lnTo>
                          <a:pt x="22" y="11"/>
                        </a:lnTo>
                        <a:lnTo>
                          <a:pt x="11" y="44"/>
                        </a:lnTo>
                        <a:lnTo>
                          <a:pt x="0" y="66"/>
                        </a:lnTo>
                        <a:lnTo>
                          <a:pt x="0" y="100"/>
                        </a:lnTo>
                        <a:lnTo>
                          <a:pt x="11" y="133"/>
                        </a:lnTo>
                        <a:lnTo>
                          <a:pt x="22" y="167"/>
                        </a:lnTo>
                        <a:lnTo>
                          <a:pt x="22" y="189"/>
                        </a:lnTo>
                        <a:lnTo>
                          <a:pt x="22" y="200"/>
                        </a:lnTo>
                        <a:lnTo>
                          <a:pt x="33" y="200"/>
                        </a:lnTo>
                        <a:lnTo>
                          <a:pt x="33" y="189"/>
                        </a:lnTo>
                        <a:lnTo>
                          <a:pt x="33" y="167"/>
                        </a:lnTo>
                        <a:lnTo>
                          <a:pt x="22" y="133"/>
                        </a:lnTo>
                        <a:lnTo>
                          <a:pt x="22" y="100"/>
                        </a:lnTo>
                        <a:lnTo>
                          <a:pt x="22" y="66"/>
                        </a:lnTo>
                        <a:lnTo>
                          <a:pt x="22" y="44"/>
                        </a:lnTo>
                        <a:lnTo>
                          <a:pt x="22" y="22"/>
                        </a:lnTo>
                        <a:lnTo>
                          <a:pt x="44" y="22"/>
                        </a:lnTo>
                        <a:lnTo>
                          <a:pt x="44" y="0"/>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Freeform 980"/>
                  <p:cNvSpPr/>
                  <p:nvPr/>
                </p:nvSpPr>
                <p:spPr>
                  <a:xfrm rot="111600">
                    <a:off x="1076400" y="811800"/>
                    <a:ext cx="28080" cy="66600"/>
                  </a:xfrm>
                  <a:custGeom>
                    <a:avLst/>
                    <a:gdLst>
                      <a:gd name="textAreaLeft" fmla="*/ 0 w 28080"/>
                      <a:gd name="textAreaRight" fmla="*/ 28440 w 28080"/>
                      <a:gd name="textAreaTop" fmla="*/ 0 h 66600"/>
                      <a:gd name="textAreaBottom" fmla="*/ 66960 h 66600"/>
                    </a:gdLst>
                    <a:ahLst/>
                    <a:rect l="textAreaLeft" t="textAreaTop" r="textAreaRight" b="textAreaBottom"/>
                    <a:pathLst>
                      <a:path w="290" h="501">
                        <a:moveTo>
                          <a:pt x="33" y="22"/>
                        </a:moveTo>
                        <a:lnTo>
                          <a:pt x="44" y="11"/>
                        </a:lnTo>
                        <a:lnTo>
                          <a:pt x="56" y="0"/>
                        </a:lnTo>
                        <a:lnTo>
                          <a:pt x="67" y="0"/>
                        </a:lnTo>
                        <a:lnTo>
                          <a:pt x="78" y="0"/>
                        </a:lnTo>
                        <a:lnTo>
                          <a:pt x="100" y="0"/>
                        </a:lnTo>
                        <a:lnTo>
                          <a:pt x="111" y="0"/>
                        </a:lnTo>
                        <a:lnTo>
                          <a:pt x="134" y="11"/>
                        </a:lnTo>
                        <a:lnTo>
                          <a:pt x="156" y="11"/>
                        </a:lnTo>
                        <a:lnTo>
                          <a:pt x="178" y="22"/>
                        </a:lnTo>
                        <a:lnTo>
                          <a:pt x="189" y="33"/>
                        </a:lnTo>
                        <a:lnTo>
                          <a:pt x="212" y="44"/>
                        </a:lnTo>
                        <a:lnTo>
                          <a:pt x="223" y="67"/>
                        </a:lnTo>
                        <a:lnTo>
                          <a:pt x="245" y="78"/>
                        </a:lnTo>
                        <a:lnTo>
                          <a:pt x="256" y="100"/>
                        </a:lnTo>
                        <a:lnTo>
                          <a:pt x="267" y="111"/>
                        </a:lnTo>
                        <a:lnTo>
                          <a:pt x="278" y="133"/>
                        </a:lnTo>
                        <a:lnTo>
                          <a:pt x="290" y="167"/>
                        </a:lnTo>
                        <a:lnTo>
                          <a:pt x="290" y="200"/>
                        </a:lnTo>
                        <a:lnTo>
                          <a:pt x="290" y="234"/>
                        </a:lnTo>
                        <a:lnTo>
                          <a:pt x="290" y="278"/>
                        </a:lnTo>
                        <a:lnTo>
                          <a:pt x="278" y="312"/>
                        </a:lnTo>
                        <a:lnTo>
                          <a:pt x="267" y="345"/>
                        </a:lnTo>
                        <a:lnTo>
                          <a:pt x="256" y="379"/>
                        </a:lnTo>
                        <a:lnTo>
                          <a:pt x="245" y="412"/>
                        </a:lnTo>
                        <a:lnTo>
                          <a:pt x="223" y="434"/>
                        </a:lnTo>
                        <a:lnTo>
                          <a:pt x="200" y="457"/>
                        </a:lnTo>
                        <a:lnTo>
                          <a:pt x="167" y="479"/>
                        </a:lnTo>
                        <a:lnTo>
                          <a:pt x="145" y="490"/>
                        </a:lnTo>
                        <a:lnTo>
                          <a:pt x="111" y="501"/>
                        </a:lnTo>
                        <a:lnTo>
                          <a:pt x="78" y="501"/>
                        </a:lnTo>
                        <a:lnTo>
                          <a:pt x="56" y="490"/>
                        </a:lnTo>
                        <a:lnTo>
                          <a:pt x="33" y="457"/>
                        </a:lnTo>
                        <a:lnTo>
                          <a:pt x="11" y="401"/>
                        </a:lnTo>
                        <a:lnTo>
                          <a:pt x="0" y="334"/>
                        </a:lnTo>
                        <a:lnTo>
                          <a:pt x="0" y="267"/>
                        </a:lnTo>
                        <a:lnTo>
                          <a:pt x="0" y="211"/>
                        </a:lnTo>
                        <a:lnTo>
                          <a:pt x="0" y="145"/>
                        </a:lnTo>
                        <a:lnTo>
                          <a:pt x="11" y="89"/>
                        </a:lnTo>
                        <a:lnTo>
                          <a:pt x="22" y="55"/>
                        </a:lnTo>
                        <a:lnTo>
                          <a:pt x="33" y="22"/>
                        </a:lnTo>
                        <a:close/>
                      </a:path>
                    </a:pathLst>
                  </a:custGeom>
                  <a:solidFill>
                    <a:srgbClr val="5475e8"/>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reeform 979"/>
                  <p:cNvSpPr/>
                  <p:nvPr/>
                </p:nvSpPr>
                <p:spPr>
                  <a:xfrm rot="111600">
                    <a:off x="1080000" y="810360"/>
                    <a:ext cx="24840" cy="19080"/>
                  </a:xfrm>
                  <a:custGeom>
                    <a:avLst/>
                    <a:gdLst>
                      <a:gd name="textAreaLeft" fmla="*/ 0 w 24840"/>
                      <a:gd name="textAreaRight" fmla="*/ 25200 w 24840"/>
                      <a:gd name="textAreaTop" fmla="*/ 0 h 19080"/>
                      <a:gd name="textAreaBottom" fmla="*/ 19440 h 19080"/>
                    </a:gdLst>
                    <a:ahLst/>
                    <a:rect l="textAreaLeft" t="textAreaTop" r="textAreaRight" b="textAreaBottom"/>
                    <a:pathLst>
                      <a:path w="256" h="144">
                        <a:moveTo>
                          <a:pt x="256" y="144"/>
                        </a:moveTo>
                        <a:lnTo>
                          <a:pt x="256" y="144"/>
                        </a:lnTo>
                        <a:lnTo>
                          <a:pt x="256" y="122"/>
                        </a:lnTo>
                        <a:lnTo>
                          <a:pt x="234" y="100"/>
                        </a:lnTo>
                        <a:lnTo>
                          <a:pt x="223" y="89"/>
                        </a:lnTo>
                        <a:lnTo>
                          <a:pt x="212" y="66"/>
                        </a:lnTo>
                        <a:lnTo>
                          <a:pt x="190" y="55"/>
                        </a:lnTo>
                        <a:lnTo>
                          <a:pt x="167" y="44"/>
                        </a:lnTo>
                        <a:lnTo>
                          <a:pt x="156" y="33"/>
                        </a:lnTo>
                        <a:lnTo>
                          <a:pt x="134" y="22"/>
                        </a:lnTo>
                        <a:lnTo>
                          <a:pt x="112" y="11"/>
                        </a:lnTo>
                        <a:lnTo>
                          <a:pt x="100" y="0"/>
                        </a:lnTo>
                        <a:lnTo>
                          <a:pt x="78" y="0"/>
                        </a:lnTo>
                        <a:lnTo>
                          <a:pt x="56" y="0"/>
                        </a:lnTo>
                        <a:lnTo>
                          <a:pt x="45" y="0"/>
                        </a:lnTo>
                        <a:lnTo>
                          <a:pt x="22" y="11"/>
                        </a:lnTo>
                        <a:lnTo>
                          <a:pt x="11" y="11"/>
                        </a:lnTo>
                        <a:lnTo>
                          <a:pt x="0" y="22"/>
                        </a:lnTo>
                        <a:lnTo>
                          <a:pt x="11" y="33"/>
                        </a:lnTo>
                        <a:lnTo>
                          <a:pt x="22" y="22"/>
                        </a:lnTo>
                        <a:lnTo>
                          <a:pt x="34" y="22"/>
                        </a:lnTo>
                        <a:lnTo>
                          <a:pt x="45" y="11"/>
                        </a:lnTo>
                        <a:lnTo>
                          <a:pt x="56" y="11"/>
                        </a:lnTo>
                        <a:lnTo>
                          <a:pt x="78" y="11"/>
                        </a:lnTo>
                        <a:lnTo>
                          <a:pt x="89" y="22"/>
                        </a:lnTo>
                        <a:lnTo>
                          <a:pt x="112" y="22"/>
                        </a:lnTo>
                        <a:lnTo>
                          <a:pt x="134" y="33"/>
                        </a:lnTo>
                        <a:lnTo>
                          <a:pt x="145" y="44"/>
                        </a:lnTo>
                        <a:lnTo>
                          <a:pt x="167" y="55"/>
                        </a:lnTo>
                        <a:lnTo>
                          <a:pt x="178" y="66"/>
                        </a:lnTo>
                        <a:lnTo>
                          <a:pt x="201" y="78"/>
                        </a:lnTo>
                        <a:lnTo>
                          <a:pt x="212" y="100"/>
                        </a:lnTo>
                        <a:lnTo>
                          <a:pt x="223" y="111"/>
                        </a:lnTo>
                        <a:lnTo>
                          <a:pt x="234" y="122"/>
                        </a:lnTo>
                        <a:lnTo>
                          <a:pt x="245" y="144"/>
                        </a:lnTo>
                        <a:lnTo>
                          <a:pt x="256" y="144"/>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Freeform 978"/>
                  <p:cNvSpPr/>
                  <p:nvPr/>
                </p:nvSpPr>
                <p:spPr>
                  <a:xfrm rot="111600">
                    <a:off x="1099440" y="829800"/>
                    <a:ext cx="6480" cy="37080"/>
                  </a:xfrm>
                  <a:custGeom>
                    <a:avLst/>
                    <a:gdLst>
                      <a:gd name="textAreaLeft" fmla="*/ 0 w 6480"/>
                      <a:gd name="textAreaRight" fmla="*/ 6840 w 6480"/>
                      <a:gd name="textAreaTop" fmla="*/ 0 h 37080"/>
                      <a:gd name="textAreaBottom" fmla="*/ 37440 h 37080"/>
                    </a:gdLst>
                    <a:ahLst/>
                    <a:rect l="textAreaLeft" t="textAreaTop" r="textAreaRight" b="textAreaBottom"/>
                    <a:pathLst>
                      <a:path w="67" h="279">
                        <a:moveTo>
                          <a:pt x="11" y="279"/>
                        </a:moveTo>
                        <a:lnTo>
                          <a:pt x="11" y="279"/>
                        </a:lnTo>
                        <a:lnTo>
                          <a:pt x="33" y="257"/>
                        </a:lnTo>
                        <a:lnTo>
                          <a:pt x="44" y="223"/>
                        </a:lnTo>
                        <a:lnTo>
                          <a:pt x="56" y="179"/>
                        </a:lnTo>
                        <a:lnTo>
                          <a:pt x="67" y="145"/>
                        </a:lnTo>
                        <a:lnTo>
                          <a:pt x="67" y="101"/>
                        </a:lnTo>
                        <a:lnTo>
                          <a:pt x="67" y="67"/>
                        </a:lnTo>
                        <a:lnTo>
                          <a:pt x="56" y="34"/>
                        </a:lnTo>
                        <a:lnTo>
                          <a:pt x="44" y="0"/>
                        </a:lnTo>
                        <a:lnTo>
                          <a:pt x="33" y="0"/>
                        </a:lnTo>
                        <a:lnTo>
                          <a:pt x="44" y="34"/>
                        </a:lnTo>
                        <a:lnTo>
                          <a:pt x="56" y="67"/>
                        </a:lnTo>
                        <a:lnTo>
                          <a:pt x="56" y="101"/>
                        </a:lnTo>
                        <a:lnTo>
                          <a:pt x="44" y="145"/>
                        </a:lnTo>
                        <a:lnTo>
                          <a:pt x="44" y="179"/>
                        </a:lnTo>
                        <a:lnTo>
                          <a:pt x="33" y="212"/>
                        </a:lnTo>
                        <a:lnTo>
                          <a:pt x="11" y="246"/>
                        </a:lnTo>
                        <a:lnTo>
                          <a:pt x="0" y="279"/>
                        </a:lnTo>
                        <a:lnTo>
                          <a:pt x="11" y="279"/>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Freeform 977"/>
                  <p:cNvSpPr/>
                  <p:nvPr/>
                </p:nvSpPr>
                <p:spPr>
                  <a:xfrm rot="111600">
                    <a:off x="1078920" y="866520"/>
                    <a:ext cx="20520" cy="12960"/>
                  </a:xfrm>
                  <a:custGeom>
                    <a:avLst/>
                    <a:gdLst>
                      <a:gd name="textAreaLeft" fmla="*/ 0 w 20520"/>
                      <a:gd name="textAreaRight" fmla="*/ 20880 w 20520"/>
                      <a:gd name="textAreaTop" fmla="*/ 0 h 12960"/>
                      <a:gd name="textAreaBottom" fmla="*/ 13320 h 12960"/>
                    </a:gdLst>
                    <a:ahLst/>
                    <a:rect l="textAreaLeft" t="textAreaTop" r="textAreaRight" b="textAreaBottom"/>
                    <a:pathLst>
                      <a:path w="212" h="100">
                        <a:moveTo>
                          <a:pt x="0" y="56"/>
                        </a:moveTo>
                        <a:lnTo>
                          <a:pt x="0" y="56"/>
                        </a:lnTo>
                        <a:lnTo>
                          <a:pt x="23" y="78"/>
                        </a:lnTo>
                        <a:lnTo>
                          <a:pt x="45" y="100"/>
                        </a:lnTo>
                        <a:lnTo>
                          <a:pt x="78" y="100"/>
                        </a:lnTo>
                        <a:lnTo>
                          <a:pt x="112" y="89"/>
                        </a:lnTo>
                        <a:lnTo>
                          <a:pt x="145" y="67"/>
                        </a:lnTo>
                        <a:lnTo>
                          <a:pt x="167" y="45"/>
                        </a:lnTo>
                        <a:lnTo>
                          <a:pt x="190" y="22"/>
                        </a:lnTo>
                        <a:lnTo>
                          <a:pt x="212" y="0"/>
                        </a:lnTo>
                        <a:lnTo>
                          <a:pt x="201" y="0"/>
                        </a:lnTo>
                        <a:lnTo>
                          <a:pt x="179" y="11"/>
                        </a:lnTo>
                        <a:lnTo>
                          <a:pt x="156" y="34"/>
                        </a:lnTo>
                        <a:lnTo>
                          <a:pt x="134" y="56"/>
                        </a:lnTo>
                        <a:lnTo>
                          <a:pt x="101" y="78"/>
                        </a:lnTo>
                        <a:lnTo>
                          <a:pt x="78" y="78"/>
                        </a:lnTo>
                        <a:lnTo>
                          <a:pt x="56" y="78"/>
                        </a:lnTo>
                        <a:lnTo>
                          <a:pt x="34" y="67"/>
                        </a:lnTo>
                        <a:lnTo>
                          <a:pt x="11" y="45"/>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976"/>
                  <p:cNvSpPr/>
                  <p:nvPr/>
                </p:nvSpPr>
                <p:spPr>
                  <a:xfrm rot="111600">
                    <a:off x="1075680" y="812880"/>
                    <a:ext cx="5040" cy="60480"/>
                  </a:xfrm>
                  <a:custGeom>
                    <a:avLst/>
                    <a:gdLst>
                      <a:gd name="textAreaLeft" fmla="*/ 0 w 5040"/>
                      <a:gd name="textAreaRight" fmla="*/ 5040 w 5040"/>
                      <a:gd name="textAreaTop" fmla="*/ 0 h 60480"/>
                      <a:gd name="textAreaBottom" fmla="*/ 60840 h 60480"/>
                    </a:gdLst>
                    <a:ahLst/>
                    <a:rect l="textAreaLeft" t="textAreaTop" r="textAreaRight" b="textAreaBottom"/>
                    <a:pathLst>
                      <a:path w="55" h="457">
                        <a:moveTo>
                          <a:pt x="33" y="0"/>
                        </a:moveTo>
                        <a:lnTo>
                          <a:pt x="33" y="11"/>
                        </a:lnTo>
                        <a:lnTo>
                          <a:pt x="22" y="33"/>
                        </a:lnTo>
                        <a:lnTo>
                          <a:pt x="11" y="78"/>
                        </a:lnTo>
                        <a:lnTo>
                          <a:pt x="0" y="134"/>
                        </a:lnTo>
                        <a:lnTo>
                          <a:pt x="0" y="200"/>
                        </a:lnTo>
                        <a:lnTo>
                          <a:pt x="0" y="256"/>
                        </a:lnTo>
                        <a:lnTo>
                          <a:pt x="11" y="323"/>
                        </a:lnTo>
                        <a:lnTo>
                          <a:pt x="22" y="390"/>
                        </a:lnTo>
                        <a:lnTo>
                          <a:pt x="44" y="457"/>
                        </a:lnTo>
                        <a:lnTo>
                          <a:pt x="55" y="446"/>
                        </a:lnTo>
                        <a:lnTo>
                          <a:pt x="33" y="390"/>
                        </a:lnTo>
                        <a:lnTo>
                          <a:pt x="22" y="323"/>
                        </a:lnTo>
                        <a:lnTo>
                          <a:pt x="11" y="256"/>
                        </a:lnTo>
                        <a:lnTo>
                          <a:pt x="11" y="200"/>
                        </a:lnTo>
                        <a:lnTo>
                          <a:pt x="22" y="134"/>
                        </a:lnTo>
                        <a:lnTo>
                          <a:pt x="22" y="89"/>
                        </a:lnTo>
                        <a:lnTo>
                          <a:pt x="33" y="44"/>
                        </a:lnTo>
                        <a:lnTo>
                          <a:pt x="44" y="11"/>
                        </a:lnTo>
                        <a:lnTo>
                          <a:pt x="33" y="0"/>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975"/>
                  <p:cNvSpPr/>
                  <p:nvPr/>
                </p:nvSpPr>
                <p:spPr>
                  <a:xfrm rot="111600">
                    <a:off x="957960" y="798840"/>
                    <a:ext cx="24840" cy="66600"/>
                  </a:xfrm>
                  <a:custGeom>
                    <a:avLst/>
                    <a:gdLst>
                      <a:gd name="textAreaLeft" fmla="*/ 0 w 24840"/>
                      <a:gd name="textAreaRight" fmla="*/ 25200 w 24840"/>
                      <a:gd name="textAreaTop" fmla="*/ 0 h 66600"/>
                      <a:gd name="textAreaBottom" fmla="*/ 66960 h 66600"/>
                    </a:gdLst>
                    <a:ahLst/>
                    <a:rect l="textAreaLeft" t="textAreaTop" r="textAreaRight" b="textAreaBottom"/>
                    <a:pathLst>
                      <a:path w="256" h="501">
                        <a:moveTo>
                          <a:pt x="256" y="145"/>
                        </a:moveTo>
                        <a:lnTo>
                          <a:pt x="223" y="111"/>
                        </a:lnTo>
                        <a:lnTo>
                          <a:pt x="212" y="78"/>
                        </a:lnTo>
                        <a:lnTo>
                          <a:pt x="201" y="56"/>
                        </a:lnTo>
                        <a:lnTo>
                          <a:pt x="189" y="33"/>
                        </a:lnTo>
                        <a:lnTo>
                          <a:pt x="178" y="33"/>
                        </a:lnTo>
                        <a:lnTo>
                          <a:pt x="167" y="22"/>
                        </a:lnTo>
                        <a:lnTo>
                          <a:pt x="156" y="11"/>
                        </a:lnTo>
                        <a:lnTo>
                          <a:pt x="134" y="0"/>
                        </a:lnTo>
                        <a:lnTo>
                          <a:pt x="123" y="0"/>
                        </a:lnTo>
                        <a:lnTo>
                          <a:pt x="100" y="11"/>
                        </a:lnTo>
                        <a:lnTo>
                          <a:pt x="89" y="22"/>
                        </a:lnTo>
                        <a:lnTo>
                          <a:pt x="78" y="33"/>
                        </a:lnTo>
                        <a:lnTo>
                          <a:pt x="67" y="44"/>
                        </a:lnTo>
                        <a:lnTo>
                          <a:pt x="56" y="56"/>
                        </a:lnTo>
                        <a:lnTo>
                          <a:pt x="56" y="78"/>
                        </a:lnTo>
                        <a:lnTo>
                          <a:pt x="45" y="89"/>
                        </a:lnTo>
                        <a:lnTo>
                          <a:pt x="33" y="134"/>
                        </a:lnTo>
                        <a:lnTo>
                          <a:pt x="22" y="178"/>
                        </a:lnTo>
                        <a:lnTo>
                          <a:pt x="11" y="234"/>
                        </a:lnTo>
                        <a:lnTo>
                          <a:pt x="0" y="290"/>
                        </a:lnTo>
                        <a:lnTo>
                          <a:pt x="0" y="345"/>
                        </a:lnTo>
                        <a:lnTo>
                          <a:pt x="11" y="401"/>
                        </a:lnTo>
                        <a:lnTo>
                          <a:pt x="22" y="446"/>
                        </a:lnTo>
                        <a:lnTo>
                          <a:pt x="45" y="501"/>
                        </a:lnTo>
                        <a:lnTo>
                          <a:pt x="56" y="501"/>
                        </a:lnTo>
                        <a:lnTo>
                          <a:pt x="67" y="501"/>
                        </a:lnTo>
                        <a:lnTo>
                          <a:pt x="78" y="501"/>
                        </a:lnTo>
                        <a:lnTo>
                          <a:pt x="89" y="501"/>
                        </a:lnTo>
                        <a:lnTo>
                          <a:pt x="100" y="501"/>
                        </a:lnTo>
                        <a:lnTo>
                          <a:pt x="111" y="501"/>
                        </a:lnTo>
                        <a:lnTo>
                          <a:pt x="134" y="490"/>
                        </a:lnTo>
                        <a:lnTo>
                          <a:pt x="156" y="468"/>
                        </a:lnTo>
                        <a:lnTo>
                          <a:pt x="167" y="457"/>
                        </a:lnTo>
                        <a:lnTo>
                          <a:pt x="189" y="435"/>
                        </a:lnTo>
                        <a:lnTo>
                          <a:pt x="201" y="423"/>
                        </a:lnTo>
                        <a:lnTo>
                          <a:pt x="212" y="401"/>
                        </a:lnTo>
                        <a:lnTo>
                          <a:pt x="223" y="390"/>
                        </a:lnTo>
                        <a:lnTo>
                          <a:pt x="234" y="345"/>
                        </a:lnTo>
                        <a:lnTo>
                          <a:pt x="245" y="301"/>
                        </a:lnTo>
                        <a:lnTo>
                          <a:pt x="256" y="256"/>
                        </a:lnTo>
                        <a:lnTo>
                          <a:pt x="256" y="200"/>
                        </a:lnTo>
                        <a:lnTo>
                          <a:pt x="256" y="189"/>
                        </a:lnTo>
                        <a:lnTo>
                          <a:pt x="256" y="178"/>
                        </a:lnTo>
                        <a:lnTo>
                          <a:pt x="256" y="167"/>
                        </a:lnTo>
                        <a:lnTo>
                          <a:pt x="256" y="145"/>
                        </a:lnTo>
                        <a:close/>
                      </a:path>
                    </a:pathLst>
                  </a:custGeom>
                  <a:solidFill>
                    <a:srgbClr val="5475e8"/>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Freeform 974"/>
                  <p:cNvSpPr/>
                  <p:nvPr/>
                </p:nvSpPr>
                <p:spPr>
                  <a:xfrm rot="111600">
                    <a:off x="972360" y="797400"/>
                    <a:ext cx="11880" cy="21960"/>
                  </a:xfrm>
                  <a:custGeom>
                    <a:avLst/>
                    <a:gdLst>
                      <a:gd name="textAreaLeft" fmla="*/ 0 w 11880"/>
                      <a:gd name="textAreaRight" fmla="*/ 12240 w 11880"/>
                      <a:gd name="textAreaTop" fmla="*/ 0 h 21960"/>
                      <a:gd name="textAreaBottom" fmla="*/ 22320 h 21960"/>
                    </a:gdLst>
                    <a:ahLst/>
                    <a:rect l="textAreaLeft" t="textAreaTop" r="textAreaRight" b="textAreaBottom"/>
                    <a:pathLst>
                      <a:path w="122" h="167">
                        <a:moveTo>
                          <a:pt x="0" y="22"/>
                        </a:moveTo>
                        <a:lnTo>
                          <a:pt x="0" y="22"/>
                        </a:lnTo>
                        <a:lnTo>
                          <a:pt x="11" y="33"/>
                        </a:lnTo>
                        <a:lnTo>
                          <a:pt x="22" y="33"/>
                        </a:lnTo>
                        <a:lnTo>
                          <a:pt x="33" y="44"/>
                        </a:lnTo>
                        <a:lnTo>
                          <a:pt x="44" y="55"/>
                        </a:lnTo>
                        <a:lnTo>
                          <a:pt x="55" y="67"/>
                        </a:lnTo>
                        <a:lnTo>
                          <a:pt x="67" y="89"/>
                        </a:lnTo>
                        <a:lnTo>
                          <a:pt x="89" y="122"/>
                        </a:lnTo>
                        <a:lnTo>
                          <a:pt x="111" y="167"/>
                        </a:lnTo>
                        <a:lnTo>
                          <a:pt x="122" y="156"/>
                        </a:lnTo>
                        <a:lnTo>
                          <a:pt x="100" y="111"/>
                        </a:lnTo>
                        <a:lnTo>
                          <a:pt x="89" y="78"/>
                        </a:lnTo>
                        <a:lnTo>
                          <a:pt x="67" y="55"/>
                        </a:lnTo>
                        <a:lnTo>
                          <a:pt x="55" y="44"/>
                        </a:lnTo>
                        <a:lnTo>
                          <a:pt x="44" y="33"/>
                        </a:lnTo>
                        <a:lnTo>
                          <a:pt x="33" y="22"/>
                        </a:lnTo>
                        <a:lnTo>
                          <a:pt x="22" y="22"/>
                        </a:lnTo>
                        <a:lnTo>
                          <a:pt x="11" y="11"/>
                        </a:lnTo>
                        <a:lnTo>
                          <a:pt x="0" y="0"/>
                        </a:lnTo>
                        <a:lnTo>
                          <a:pt x="0" y="22"/>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973"/>
                  <p:cNvSpPr/>
                  <p:nvPr/>
                </p:nvSpPr>
                <p:spPr>
                  <a:xfrm rot="111600">
                    <a:off x="962640" y="797040"/>
                    <a:ext cx="9720" cy="12960"/>
                  </a:xfrm>
                  <a:custGeom>
                    <a:avLst/>
                    <a:gdLst>
                      <a:gd name="textAreaLeft" fmla="*/ 0 w 9720"/>
                      <a:gd name="textAreaRight" fmla="*/ 10080 w 9720"/>
                      <a:gd name="textAreaTop" fmla="*/ 0 h 12960"/>
                      <a:gd name="textAreaBottom" fmla="*/ 13320 h 12960"/>
                    </a:gdLst>
                    <a:ahLst/>
                    <a:rect l="textAreaLeft" t="textAreaTop" r="textAreaRight" b="textAreaBottom"/>
                    <a:pathLst>
                      <a:path w="101" h="100">
                        <a:moveTo>
                          <a:pt x="23" y="100"/>
                        </a:moveTo>
                        <a:lnTo>
                          <a:pt x="23" y="100"/>
                        </a:lnTo>
                        <a:lnTo>
                          <a:pt x="23" y="89"/>
                        </a:lnTo>
                        <a:lnTo>
                          <a:pt x="34" y="78"/>
                        </a:lnTo>
                        <a:lnTo>
                          <a:pt x="34" y="55"/>
                        </a:lnTo>
                        <a:lnTo>
                          <a:pt x="45" y="44"/>
                        </a:lnTo>
                        <a:lnTo>
                          <a:pt x="56" y="33"/>
                        </a:lnTo>
                        <a:lnTo>
                          <a:pt x="67" y="22"/>
                        </a:lnTo>
                        <a:lnTo>
                          <a:pt x="90" y="22"/>
                        </a:lnTo>
                        <a:lnTo>
                          <a:pt x="101" y="22"/>
                        </a:lnTo>
                        <a:lnTo>
                          <a:pt x="101" y="0"/>
                        </a:lnTo>
                        <a:lnTo>
                          <a:pt x="90" y="11"/>
                        </a:lnTo>
                        <a:lnTo>
                          <a:pt x="67" y="11"/>
                        </a:lnTo>
                        <a:lnTo>
                          <a:pt x="45" y="22"/>
                        </a:lnTo>
                        <a:lnTo>
                          <a:pt x="34" y="33"/>
                        </a:lnTo>
                        <a:lnTo>
                          <a:pt x="23" y="55"/>
                        </a:lnTo>
                        <a:lnTo>
                          <a:pt x="23" y="67"/>
                        </a:lnTo>
                        <a:lnTo>
                          <a:pt x="12" y="89"/>
                        </a:lnTo>
                        <a:lnTo>
                          <a:pt x="0" y="100"/>
                        </a:lnTo>
                        <a:lnTo>
                          <a:pt x="23" y="10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reeform 972"/>
                  <p:cNvSpPr/>
                  <p:nvPr/>
                </p:nvSpPr>
                <p:spPr>
                  <a:xfrm rot="111600">
                    <a:off x="956880" y="810360"/>
                    <a:ext cx="6480" cy="56160"/>
                  </a:xfrm>
                  <a:custGeom>
                    <a:avLst/>
                    <a:gdLst>
                      <a:gd name="textAreaLeft" fmla="*/ 0 w 6480"/>
                      <a:gd name="textAreaRight" fmla="*/ 6840 w 6480"/>
                      <a:gd name="textAreaTop" fmla="*/ 0 h 56160"/>
                      <a:gd name="textAreaBottom" fmla="*/ 56520 h 56160"/>
                    </a:gdLst>
                    <a:ahLst/>
                    <a:rect l="textAreaLeft" t="textAreaTop" r="textAreaRight" b="textAreaBottom"/>
                    <a:pathLst>
                      <a:path w="67" h="424">
                        <a:moveTo>
                          <a:pt x="56" y="401"/>
                        </a:moveTo>
                        <a:lnTo>
                          <a:pt x="67" y="412"/>
                        </a:lnTo>
                        <a:lnTo>
                          <a:pt x="44" y="357"/>
                        </a:lnTo>
                        <a:lnTo>
                          <a:pt x="22" y="301"/>
                        </a:lnTo>
                        <a:lnTo>
                          <a:pt x="22" y="256"/>
                        </a:lnTo>
                        <a:lnTo>
                          <a:pt x="22" y="201"/>
                        </a:lnTo>
                        <a:lnTo>
                          <a:pt x="22" y="145"/>
                        </a:lnTo>
                        <a:lnTo>
                          <a:pt x="33" y="89"/>
                        </a:lnTo>
                        <a:lnTo>
                          <a:pt x="44" y="45"/>
                        </a:lnTo>
                        <a:lnTo>
                          <a:pt x="67" y="0"/>
                        </a:lnTo>
                        <a:lnTo>
                          <a:pt x="44" y="0"/>
                        </a:lnTo>
                        <a:lnTo>
                          <a:pt x="33" y="45"/>
                        </a:lnTo>
                        <a:lnTo>
                          <a:pt x="22" y="89"/>
                        </a:lnTo>
                        <a:lnTo>
                          <a:pt x="11" y="145"/>
                        </a:lnTo>
                        <a:lnTo>
                          <a:pt x="0" y="201"/>
                        </a:lnTo>
                        <a:lnTo>
                          <a:pt x="0" y="256"/>
                        </a:lnTo>
                        <a:lnTo>
                          <a:pt x="11" y="312"/>
                        </a:lnTo>
                        <a:lnTo>
                          <a:pt x="22" y="368"/>
                        </a:lnTo>
                        <a:lnTo>
                          <a:pt x="56" y="424"/>
                        </a:lnTo>
                        <a:lnTo>
                          <a:pt x="56" y="401"/>
                        </a:lnTo>
                        <a:close/>
                      </a:path>
                    </a:pathLst>
                  </a:custGeom>
                  <a:solidFill>
                    <a:srgbClr val="000000"/>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971"/>
                  <p:cNvSpPr/>
                  <p:nvPr/>
                </p:nvSpPr>
                <p:spPr>
                  <a:xfrm rot="111600">
                    <a:off x="961560" y="864000"/>
                    <a:ext cx="5040" cy="2880"/>
                  </a:xfrm>
                  <a:custGeom>
                    <a:avLst/>
                    <a:gdLst>
                      <a:gd name="textAreaLeft" fmla="*/ 0 w 5040"/>
                      <a:gd name="textAreaRight" fmla="*/ 5040 w 5040"/>
                      <a:gd name="textAreaTop" fmla="*/ 0 h 2880"/>
                      <a:gd name="textAreaBottom" fmla="*/ 3240 h 2880"/>
                    </a:gdLst>
                    <a:ahLst/>
                    <a:rect l="textAreaLeft" t="textAreaTop" r="textAreaRight" b="textAreaBottom"/>
                    <a:pathLst>
                      <a:path w="55" h="23">
                        <a:moveTo>
                          <a:pt x="55" y="11"/>
                        </a:moveTo>
                        <a:lnTo>
                          <a:pt x="55" y="11"/>
                        </a:lnTo>
                        <a:lnTo>
                          <a:pt x="44" y="11"/>
                        </a:lnTo>
                        <a:lnTo>
                          <a:pt x="33" y="11"/>
                        </a:lnTo>
                        <a:lnTo>
                          <a:pt x="22" y="11"/>
                        </a:lnTo>
                        <a:lnTo>
                          <a:pt x="11" y="11"/>
                        </a:lnTo>
                        <a:lnTo>
                          <a:pt x="11" y="0"/>
                        </a:lnTo>
                        <a:lnTo>
                          <a:pt x="0" y="0"/>
                        </a:lnTo>
                        <a:lnTo>
                          <a:pt x="0" y="23"/>
                        </a:lnTo>
                        <a:lnTo>
                          <a:pt x="11" y="23"/>
                        </a:lnTo>
                        <a:lnTo>
                          <a:pt x="22" y="23"/>
                        </a:lnTo>
                        <a:lnTo>
                          <a:pt x="33" y="23"/>
                        </a:lnTo>
                        <a:lnTo>
                          <a:pt x="44" y="23"/>
                        </a:lnTo>
                        <a:lnTo>
                          <a:pt x="55" y="23"/>
                        </a:lnTo>
                        <a:lnTo>
                          <a:pt x="55"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970"/>
                  <p:cNvSpPr/>
                  <p:nvPr/>
                </p:nvSpPr>
                <p:spPr>
                  <a:xfrm rot="111600">
                    <a:off x="967320" y="851040"/>
                    <a:ext cx="11880" cy="16200"/>
                  </a:xfrm>
                  <a:custGeom>
                    <a:avLst/>
                    <a:gdLst>
                      <a:gd name="textAreaLeft" fmla="*/ 0 w 11880"/>
                      <a:gd name="textAreaRight" fmla="*/ 12240 w 11880"/>
                      <a:gd name="textAreaTop" fmla="*/ 0 h 16200"/>
                      <a:gd name="textAreaBottom" fmla="*/ 16560 h 16200"/>
                    </a:gdLst>
                    <a:ahLst/>
                    <a:rect l="textAreaLeft" t="textAreaTop" r="textAreaRight" b="textAreaBottom"/>
                    <a:pathLst>
                      <a:path w="123" h="123">
                        <a:moveTo>
                          <a:pt x="112" y="0"/>
                        </a:moveTo>
                        <a:lnTo>
                          <a:pt x="112" y="0"/>
                        </a:lnTo>
                        <a:lnTo>
                          <a:pt x="112" y="11"/>
                        </a:lnTo>
                        <a:lnTo>
                          <a:pt x="101" y="22"/>
                        </a:lnTo>
                        <a:lnTo>
                          <a:pt x="78" y="45"/>
                        </a:lnTo>
                        <a:lnTo>
                          <a:pt x="67" y="56"/>
                        </a:lnTo>
                        <a:lnTo>
                          <a:pt x="45" y="78"/>
                        </a:lnTo>
                        <a:lnTo>
                          <a:pt x="34" y="89"/>
                        </a:lnTo>
                        <a:lnTo>
                          <a:pt x="11" y="100"/>
                        </a:lnTo>
                        <a:lnTo>
                          <a:pt x="0" y="111"/>
                        </a:lnTo>
                        <a:lnTo>
                          <a:pt x="0" y="123"/>
                        </a:lnTo>
                        <a:lnTo>
                          <a:pt x="23" y="111"/>
                        </a:lnTo>
                        <a:lnTo>
                          <a:pt x="34" y="100"/>
                        </a:lnTo>
                        <a:lnTo>
                          <a:pt x="56" y="89"/>
                        </a:lnTo>
                        <a:lnTo>
                          <a:pt x="78" y="67"/>
                        </a:lnTo>
                        <a:lnTo>
                          <a:pt x="89" y="56"/>
                        </a:lnTo>
                        <a:lnTo>
                          <a:pt x="112" y="33"/>
                        </a:lnTo>
                        <a:lnTo>
                          <a:pt x="123" y="22"/>
                        </a:lnTo>
                        <a:lnTo>
                          <a:pt x="123" y="0"/>
                        </a:lnTo>
                        <a:lnTo>
                          <a:pt x="112" y="0"/>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Freeform 969"/>
                  <p:cNvSpPr/>
                  <p:nvPr/>
                </p:nvSpPr>
                <p:spPr>
                  <a:xfrm rot="111600">
                    <a:off x="978480" y="825840"/>
                    <a:ext cx="5400" cy="25200"/>
                  </a:xfrm>
                  <a:custGeom>
                    <a:avLst/>
                    <a:gdLst>
                      <a:gd name="textAreaLeft" fmla="*/ 0 w 5400"/>
                      <a:gd name="textAreaRight" fmla="*/ 5760 w 5400"/>
                      <a:gd name="textAreaTop" fmla="*/ 0 h 25200"/>
                      <a:gd name="textAreaBottom" fmla="*/ 25560 h 25200"/>
                    </a:gdLst>
                    <a:ahLst/>
                    <a:rect l="textAreaLeft" t="textAreaTop" r="textAreaRight" b="textAreaBottom"/>
                    <a:pathLst>
                      <a:path w="56" h="190">
                        <a:moveTo>
                          <a:pt x="44" y="0"/>
                        </a:moveTo>
                        <a:lnTo>
                          <a:pt x="44" y="0"/>
                        </a:lnTo>
                        <a:lnTo>
                          <a:pt x="33" y="56"/>
                        </a:lnTo>
                        <a:lnTo>
                          <a:pt x="33" y="101"/>
                        </a:lnTo>
                        <a:lnTo>
                          <a:pt x="22" y="145"/>
                        </a:lnTo>
                        <a:lnTo>
                          <a:pt x="0" y="190"/>
                        </a:lnTo>
                        <a:lnTo>
                          <a:pt x="11" y="190"/>
                        </a:lnTo>
                        <a:lnTo>
                          <a:pt x="33" y="145"/>
                        </a:lnTo>
                        <a:lnTo>
                          <a:pt x="44" y="101"/>
                        </a:lnTo>
                        <a:lnTo>
                          <a:pt x="56" y="56"/>
                        </a:lnTo>
                        <a:lnTo>
                          <a:pt x="56" y="0"/>
                        </a:lnTo>
                        <a:lnTo>
                          <a:pt x="4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Freeform 968"/>
                  <p:cNvSpPr/>
                  <p:nvPr/>
                </p:nvSpPr>
                <p:spPr>
                  <a:xfrm rot="111600">
                    <a:off x="982440" y="818640"/>
                    <a:ext cx="2160" cy="7200"/>
                  </a:xfrm>
                  <a:custGeom>
                    <a:avLst/>
                    <a:gdLst>
                      <a:gd name="textAreaLeft" fmla="*/ 0 w 2160"/>
                      <a:gd name="textAreaRight" fmla="*/ 2520 w 2160"/>
                      <a:gd name="textAreaTop" fmla="*/ 0 h 7200"/>
                      <a:gd name="textAreaBottom" fmla="*/ 7560 h 7200"/>
                    </a:gdLst>
                    <a:ahLst/>
                    <a:rect l="textAreaLeft" t="textAreaTop" r="textAreaRight" b="textAreaBottom"/>
                    <a:pathLst>
                      <a:path w="23" h="55">
                        <a:moveTo>
                          <a:pt x="0" y="11"/>
                        </a:moveTo>
                        <a:lnTo>
                          <a:pt x="0" y="11"/>
                        </a:lnTo>
                        <a:lnTo>
                          <a:pt x="0" y="22"/>
                        </a:lnTo>
                        <a:lnTo>
                          <a:pt x="11" y="33"/>
                        </a:lnTo>
                        <a:lnTo>
                          <a:pt x="11" y="44"/>
                        </a:lnTo>
                        <a:lnTo>
                          <a:pt x="11" y="55"/>
                        </a:lnTo>
                        <a:lnTo>
                          <a:pt x="23" y="55"/>
                        </a:lnTo>
                        <a:lnTo>
                          <a:pt x="23" y="44"/>
                        </a:lnTo>
                        <a:lnTo>
                          <a:pt x="23" y="33"/>
                        </a:lnTo>
                        <a:lnTo>
                          <a:pt x="11" y="22"/>
                        </a:lnTo>
                        <a:lnTo>
                          <a:pt x="11" y="0"/>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Freeform 967"/>
                  <p:cNvSpPr/>
                  <p:nvPr/>
                </p:nvSpPr>
                <p:spPr>
                  <a:xfrm rot="111600">
                    <a:off x="977760" y="820080"/>
                    <a:ext cx="14040" cy="29520"/>
                  </a:xfrm>
                  <a:custGeom>
                    <a:avLst/>
                    <a:gdLst>
                      <a:gd name="textAreaLeft" fmla="*/ 0 w 14040"/>
                      <a:gd name="textAreaRight" fmla="*/ 14400 w 14040"/>
                      <a:gd name="textAreaTop" fmla="*/ 0 h 29520"/>
                      <a:gd name="textAreaBottom" fmla="*/ 29880 h 29520"/>
                    </a:gdLst>
                    <a:ahLst/>
                    <a:rect l="textAreaLeft" t="textAreaTop" r="textAreaRight" b="textAreaBottom"/>
                    <a:pathLst>
                      <a:path w="145" h="223">
                        <a:moveTo>
                          <a:pt x="100" y="11"/>
                        </a:moveTo>
                        <a:lnTo>
                          <a:pt x="55" y="0"/>
                        </a:lnTo>
                        <a:lnTo>
                          <a:pt x="22" y="22"/>
                        </a:lnTo>
                        <a:lnTo>
                          <a:pt x="11" y="56"/>
                        </a:lnTo>
                        <a:lnTo>
                          <a:pt x="0" y="111"/>
                        </a:lnTo>
                        <a:lnTo>
                          <a:pt x="0" y="156"/>
                        </a:lnTo>
                        <a:lnTo>
                          <a:pt x="22" y="201"/>
                        </a:lnTo>
                        <a:lnTo>
                          <a:pt x="55" y="223"/>
                        </a:lnTo>
                        <a:lnTo>
                          <a:pt x="100" y="223"/>
                        </a:lnTo>
                        <a:lnTo>
                          <a:pt x="100" y="212"/>
                        </a:lnTo>
                        <a:lnTo>
                          <a:pt x="111" y="212"/>
                        </a:lnTo>
                        <a:lnTo>
                          <a:pt x="122" y="212"/>
                        </a:lnTo>
                        <a:lnTo>
                          <a:pt x="122" y="201"/>
                        </a:lnTo>
                        <a:lnTo>
                          <a:pt x="122" y="189"/>
                        </a:lnTo>
                        <a:lnTo>
                          <a:pt x="133" y="189"/>
                        </a:lnTo>
                        <a:lnTo>
                          <a:pt x="133" y="178"/>
                        </a:lnTo>
                        <a:lnTo>
                          <a:pt x="145" y="134"/>
                        </a:lnTo>
                        <a:lnTo>
                          <a:pt x="145" y="100"/>
                        </a:lnTo>
                        <a:lnTo>
                          <a:pt x="145" y="67"/>
                        </a:lnTo>
                        <a:lnTo>
                          <a:pt x="122" y="33"/>
                        </a:lnTo>
                        <a:lnTo>
                          <a:pt x="122" y="22"/>
                        </a:lnTo>
                        <a:lnTo>
                          <a:pt x="111" y="11"/>
                        </a:lnTo>
                        <a:lnTo>
                          <a:pt x="100" y="11"/>
                        </a:lnTo>
                        <a:close/>
                      </a:path>
                    </a:pathLst>
                  </a:custGeom>
                  <a:solidFill>
                    <a:srgbClr val="5475e8"/>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966"/>
                  <p:cNvSpPr/>
                  <p:nvPr/>
                </p:nvSpPr>
                <p:spPr>
                  <a:xfrm rot="111600">
                    <a:off x="976680" y="818640"/>
                    <a:ext cx="10800" cy="32400"/>
                  </a:xfrm>
                  <a:custGeom>
                    <a:avLst/>
                    <a:gdLst>
                      <a:gd name="textAreaLeft" fmla="*/ 0 w 10800"/>
                      <a:gd name="textAreaRight" fmla="*/ 11160 w 10800"/>
                      <a:gd name="textAreaTop" fmla="*/ 0 h 32400"/>
                      <a:gd name="textAreaBottom" fmla="*/ 32760 h 32400"/>
                    </a:gdLst>
                    <a:ahLst/>
                    <a:rect l="textAreaLeft" t="textAreaTop" r="textAreaRight" b="textAreaBottom"/>
                    <a:pathLst>
                      <a:path w="112" h="245">
                        <a:moveTo>
                          <a:pt x="112" y="223"/>
                        </a:moveTo>
                        <a:lnTo>
                          <a:pt x="112" y="223"/>
                        </a:lnTo>
                        <a:lnTo>
                          <a:pt x="67" y="234"/>
                        </a:lnTo>
                        <a:lnTo>
                          <a:pt x="34" y="212"/>
                        </a:lnTo>
                        <a:lnTo>
                          <a:pt x="23" y="167"/>
                        </a:lnTo>
                        <a:lnTo>
                          <a:pt x="23" y="122"/>
                        </a:lnTo>
                        <a:lnTo>
                          <a:pt x="23" y="67"/>
                        </a:lnTo>
                        <a:lnTo>
                          <a:pt x="45" y="33"/>
                        </a:lnTo>
                        <a:lnTo>
                          <a:pt x="67" y="11"/>
                        </a:lnTo>
                        <a:lnTo>
                          <a:pt x="112" y="22"/>
                        </a:lnTo>
                        <a:lnTo>
                          <a:pt x="112" y="11"/>
                        </a:lnTo>
                        <a:lnTo>
                          <a:pt x="67" y="0"/>
                        </a:lnTo>
                        <a:lnTo>
                          <a:pt x="34" y="22"/>
                        </a:lnTo>
                        <a:lnTo>
                          <a:pt x="12" y="67"/>
                        </a:lnTo>
                        <a:lnTo>
                          <a:pt x="0" y="122"/>
                        </a:lnTo>
                        <a:lnTo>
                          <a:pt x="12" y="167"/>
                        </a:lnTo>
                        <a:lnTo>
                          <a:pt x="23" y="223"/>
                        </a:lnTo>
                        <a:lnTo>
                          <a:pt x="67" y="245"/>
                        </a:lnTo>
                        <a:lnTo>
                          <a:pt x="112" y="234"/>
                        </a:lnTo>
                        <a:lnTo>
                          <a:pt x="112" y="223"/>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Freeform 965"/>
                  <p:cNvSpPr/>
                  <p:nvPr/>
                </p:nvSpPr>
                <p:spPr>
                  <a:xfrm rot="111600">
                    <a:off x="986760" y="847080"/>
                    <a:ext cx="1800" cy="2880"/>
                  </a:xfrm>
                  <a:custGeom>
                    <a:avLst/>
                    <a:gdLst>
                      <a:gd name="textAreaLeft" fmla="*/ 0 w 1800"/>
                      <a:gd name="textAreaRight" fmla="*/ 2160 w 1800"/>
                      <a:gd name="textAreaTop" fmla="*/ 0 h 2880"/>
                      <a:gd name="textAreaBottom" fmla="*/ 3240 h 2880"/>
                    </a:gdLst>
                    <a:ahLst/>
                    <a:rect l="textAreaLeft" t="textAreaTop" r="textAreaRight" b="textAreaBottom"/>
                    <a:pathLst>
                      <a:path w="22" h="22">
                        <a:moveTo>
                          <a:pt x="11" y="11"/>
                        </a:moveTo>
                        <a:lnTo>
                          <a:pt x="22" y="0"/>
                        </a:lnTo>
                        <a:lnTo>
                          <a:pt x="11" y="0"/>
                        </a:lnTo>
                        <a:lnTo>
                          <a:pt x="0" y="11"/>
                        </a:lnTo>
                        <a:lnTo>
                          <a:pt x="0" y="22"/>
                        </a:lnTo>
                        <a:lnTo>
                          <a:pt x="11" y="22"/>
                        </a:lnTo>
                        <a:lnTo>
                          <a:pt x="11" y="11"/>
                        </a:lnTo>
                        <a:lnTo>
                          <a:pt x="22" y="11"/>
                        </a:lnTo>
                        <a:lnTo>
                          <a:pt x="11"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Freeform 964"/>
                  <p:cNvSpPr/>
                  <p:nvPr/>
                </p:nvSpPr>
                <p:spPr>
                  <a:xfrm rot="111600">
                    <a:off x="987840" y="844200"/>
                    <a:ext cx="3240" cy="4320"/>
                  </a:xfrm>
                  <a:custGeom>
                    <a:avLst/>
                    <a:gdLst>
                      <a:gd name="textAreaLeft" fmla="*/ 0 w 3240"/>
                      <a:gd name="textAreaRight" fmla="*/ 3600 w 3240"/>
                      <a:gd name="textAreaTop" fmla="*/ 0 h 4320"/>
                      <a:gd name="textAreaBottom" fmla="*/ 4680 h 4320"/>
                    </a:gdLst>
                    <a:ahLst/>
                    <a:rect l="textAreaLeft" t="textAreaTop" r="textAreaRight" b="textAreaBottom"/>
                    <a:pathLst>
                      <a:path w="34" h="34">
                        <a:moveTo>
                          <a:pt x="22" y="0"/>
                        </a:moveTo>
                        <a:lnTo>
                          <a:pt x="22" y="0"/>
                        </a:lnTo>
                        <a:lnTo>
                          <a:pt x="11" y="0"/>
                        </a:lnTo>
                        <a:lnTo>
                          <a:pt x="11" y="11"/>
                        </a:lnTo>
                        <a:lnTo>
                          <a:pt x="0" y="23"/>
                        </a:lnTo>
                        <a:lnTo>
                          <a:pt x="0" y="34"/>
                        </a:lnTo>
                        <a:lnTo>
                          <a:pt x="11" y="34"/>
                        </a:lnTo>
                        <a:lnTo>
                          <a:pt x="22" y="23"/>
                        </a:lnTo>
                        <a:lnTo>
                          <a:pt x="22" y="11"/>
                        </a:lnTo>
                        <a:lnTo>
                          <a:pt x="34" y="0"/>
                        </a:lnTo>
                        <a:lnTo>
                          <a:pt x="22" y="0"/>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Freeform 963"/>
                  <p:cNvSpPr/>
                  <p:nvPr/>
                </p:nvSpPr>
                <p:spPr>
                  <a:xfrm rot="111600">
                    <a:off x="989640" y="823320"/>
                    <a:ext cx="3240" cy="20520"/>
                  </a:xfrm>
                  <a:custGeom>
                    <a:avLst/>
                    <a:gdLst>
                      <a:gd name="textAreaLeft" fmla="*/ 0 w 3240"/>
                      <a:gd name="textAreaRight" fmla="*/ 3600 w 3240"/>
                      <a:gd name="textAreaTop" fmla="*/ 0 h 20520"/>
                      <a:gd name="textAreaBottom" fmla="*/ 20880 h 20520"/>
                    </a:gdLst>
                    <a:ahLst/>
                    <a:rect l="textAreaLeft" t="textAreaTop" r="textAreaRight" b="textAreaBottom"/>
                    <a:pathLst>
                      <a:path w="34" h="156">
                        <a:moveTo>
                          <a:pt x="0" y="11"/>
                        </a:moveTo>
                        <a:lnTo>
                          <a:pt x="0" y="11"/>
                        </a:lnTo>
                        <a:lnTo>
                          <a:pt x="11" y="45"/>
                        </a:lnTo>
                        <a:lnTo>
                          <a:pt x="23" y="78"/>
                        </a:lnTo>
                        <a:lnTo>
                          <a:pt x="23" y="112"/>
                        </a:lnTo>
                        <a:lnTo>
                          <a:pt x="11" y="156"/>
                        </a:lnTo>
                        <a:lnTo>
                          <a:pt x="23" y="156"/>
                        </a:lnTo>
                        <a:lnTo>
                          <a:pt x="34" y="112"/>
                        </a:lnTo>
                        <a:lnTo>
                          <a:pt x="34" y="78"/>
                        </a:lnTo>
                        <a:lnTo>
                          <a:pt x="23" y="45"/>
                        </a:lnTo>
                        <a:lnTo>
                          <a:pt x="11" y="11"/>
                        </a:lnTo>
                        <a:lnTo>
                          <a:pt x="11" y="0"/>
                        </a:lnTo>
                        <a:lnTo>
                          <a:pt x="0" y="11"/>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Freeform 962"/>
                  <p:cNvSpPr/>
                  <p:nvPr/>
                </p:nvSpPr>
                <p:spPr>
                  <a:xfrm rot="111600">
                    <a:off x="987840" y="820440"/>
                    <a:ext cx="2880" cy="4320"/>
                  </a:xfrm>
                  <a:custGeom>
                    <a:avLst/>
                    <a:gdLst>
                      <a:gd name="textAreaLeft" fmla="*/ 0 w 2880"/>
                      <a:gd name="textAreaRight" fmla="*/ 3240 w 2880"/>
                      <a:gd name="textAreaTop" fmla="*/ 0 h 4320"/>
                      <a:gd name="textAreaBottom" fmla="*/ 4680 h 4320"/>
                    </a:gdLst>
                    <a:ahLst/>
                    <a:rect l="textAreaLeft" t="textAreaTop" r="textAreaRight" b="textAreaBottom"/>
                    <a:pathLst>
                      <a:path w="33" h="33">
                        <a:moveTo>
                          <a:pt x="0" y="11"/>
                        </a:moveTo>
                        <a:lnTo>
                          <a:pt x="0" y="11"/>
                        </a:lnTo>
                        <a:lnTo>
                          <a:pt x="11" y="22"/>
                        </a:lnTo>
                        <a:lnTo>
                          <a:pt x="22" y="33"/>
                        </a:lnTo>
                        <a:lnTo>
                          <a:pt x="33" y="22"/>
                        </a:lnTo>
                        <a:lnTo>
                          <a:pt x="22" y="22"/>
                        </a:lnTo>
                        <a:lnTo>
                          <a:pt x="22" y="11"/>
                        </a:lnTo>
                        <a:lnTo>
                          <a:pt x="11" y="0"/>
                        </a:lnTo>
                        <a:lnTo>
                          <a:pt x="0" y="0"/>
                        </a:lnTo>
                        <a:lnTo>
                          <a:pt x="0"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Freeform 961"/>
                  <p:cNvSpPr/>
                  <p:nvPr/>
                </p:nvSpPr>
                <p:spPr>
                  <a:xfrm rot="111600">
                    <a:off x="988200" y="803160"/>
                    <a:ext cx="27000" cy="77040"/>
                  </a:xfrm>
                  <a:custGeom>
                    <a:avLst/>
                    <a:gdLst>
                      <a:gd name="textAreaLeft" fmla="*/ 0 w 27000"/>
                      <a:gd name="textAreaRight" fmla="*/ 27360 w 27000"/>
                      <a:gd name="textAreaTop" fmla="*/ 0 h 77040"/>
                      <a:gd name="textAreaBottom" fmla="*/ 77400 h 77040"/>
                    </a:gdLst>
                    <a:ahLst/>
                    <a:rect l="textAreaLeft" t="textAreaTop" r="textAreaRight" b="textAreaBottom"/>
                    <a:pathLst>
                      <a:path w="279" h="580">
                        <a:moveTo>
                          <a:pt x="34" y="178"/>
                        </a:moveTo>
                        <a:lnTo>
                          <a:pt x="45" y="145"/>
                        </a:lnTo>
                        <a:lnTo>
                          <a:pt x="78" y="123"/>
                        </a:lnTo>
                        <a:lnTo>
                          <a:pt x="100" y="89"/>
                        </a:lnTo>
                        <a:lnTo>
                          <a:pt x="123" y="56"/>
                        </a:lnTo>
                        <a:lnTo>
                          <a:pt x="156" y="22"/>
                        </a:lnTo>
                        <a:lnTo>
                          <a:pt x="190" y="11"/>
                        </a:lnTo>
                        <a:lnTo>
                          <a:pt x="212" y="0"/>
                        </a:lnTo>
                        <a:lnTo>
                          <a:pt x="245" y="0"/>
                        </a:lnTo>
                        <a:lnTo>
                          <a:pt x="256" y="22"/>
                        </a:lnTo>
                        <a:lnTo>
                          <a:pt x="268" y="67"/>
                        </a:lnTo>
                        <a:lnTo>
                          <a:pt x="279" y="123"/>
                        </a:lnTo>
                        <a:lnTo>
                          <a:pt x="279" y="190"/>
                        </a:lnTo>
                        <a:lnTo>
                          <a:pt x="268" y="256"/>
                        </a:lnTo>
                        <a:lnTo>
                          <a:pt x="268" y="323"/>
                        </a:lnTo>
                        <a:lnTo>
                          <a:pt x="245" y="390"/>
                        </a:lnTo>
                        <a:lnTo>
                          <a:pt x="234" y="446"/>
                        </a:lnTo>
                        <a:lnTo>
                          <a:pt x="223" y="468"/>
                        </a:lnTo>
                        <a:lnTo>
                          <a:pt x="212" y="502"/>
                        </a:lnTo>
                        <a:lnTo>
                          <a:pt x="201" y="524"/>
                        </a:lnTo>
                        <a:lnTo>
                          <a:pt x="178" y="557"/>
                        </a:lnTo>
                        <a:lnTo>
                          <a:pt x="156" y="569"/>
                        </a:lnTo>
                        <a:lnTo>
                          <a:pt x="134" y="580"/>
                        </a:lnTo>
                        <a:lnTo>
                          <a:pt x="112" y="580"/>
                        </a:lnTo>
                        <a:lnTo>
                          <a:pt x="89" y="557"/>
                        </a:lnTo>
                        <a:lnTo>
                          <a:pt x="78" y="546"/>
                        </a:lnTo>
                        <a:lnTo>
                          <a:pt x="67" y="524"/>
                        </a:lnTo>
                        <a:lnTo>
                          <a:pt x="56" y="502"/>
                        </a:lnTo>
                        <a:lnTo>
                          <a:pt x="45" y="479"/>
                        </a:lnTo>
                        <a:lnTo>
                          <a:pt x="45" y="457"/>
                        </a:lnTo>
                        <a:lnTo>
                          <a:pt x="34" y="424"/>
                        </a:lnTo>
                        <a:lnTo>
                          <a:pt x="22" y="401"/>
                        </a:lnTo>
                        <a:lnTo>
                          <a:pt x="11" y="379"/>
                        </a:lnTo>
                        <a:lnTo>
                          <a:pt x="11" y="357"/>
                        </a:lnTo>
                        <a:lnTo>
                          <a:pt x="0" y="335"/>
                        </a:lnTo>
                        <a:lnTo>
                          <a:pt x="11" y="301"/>
                        </a:lnTo>
                        <a:lnTo>
                          <a:pt x="11" y="279"/>
                        </a:lnTo>
                        <a:lnTo>
                          <a:pt x="11" y="256"/>
                        </a:lnTo>
                        <a:lnTo>
                          <a:pt x="22" y="223"/>
                        </a:lnTo>
                        <a:lnTo>
                          <a:pt x="22" y="201"/>
                        </a:lnTo>
                        <a:lnTo>
                          <a:pt x="34" y="178"/>
                        </a:lnTo>
                        <a:close/>
                      </a:path>
                    </a:pathLst>
                  </a:custGeom>
                  <a:solidFill>
                    <a:srgbClr val="5475e8"/>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Freeform 960"/>
                  <p:cNvSpPr/>
                  <p:nvPr/>
                </p:nvSpPr>
                <p:spPr>
                  <a:xfrm rot="111600">
                    <a:off x="991080" y="801360"/>
                    <a:ext cx="21600" cy="24840"/>
                  </a:xfrm>
                  <a:custGeom>
                    <a:avLst/>
                    <a:gdLst>
                      <a:gd name="textAreaLeft" fmla="*/ 0 w 21600"/>
                      <a:gd name="textAreaRight" fmla="*/ 21960 w 21600"/>
                      <a:gd name="textAreaTop" fmla="*/ 0 h 24840"/>
                      <a:gd name="textAreaBottom" fmla="*/ 25200 h 24840"/>
                    </a:gdLst>
                    <a:ahLst/>
                    <a:rect l="textAreaLeft" t="textAreaTop" r="textAreaRight" b="textAreaBottom"/>
                    <a:pathLst>
                      <a:path w="223" h="189">
                        <a:moveTo>
                          <a:pt x="223" y="11"/>
                        </a:moveTo>
                        <a:lnTo>
                          <a:pt x="223" y="11"/>
                        </a:lnTo>
                        <a:lnTo>
                          <a:pt x="190" y="0"/>
                        </a:lnTo>
                        <a:lnTo>
                          <a:pt x="156" y="11"/>
                        </a:lnTo>
                        <a:lnTo>
                          <a:pt x="134" y="33"/>
                        </a:lnTo>
                        <a:lnTo>
                          <a:pt x="101" y="56"/>
                        </a:lnTo>
                        <a:lnTo>
                          <a:pt x="67" y="89"/>
                        </a:lnTo>
                        <a:lnTo>
                          <a:pt x="45" y="123"/>
                        </a:lnTo>
                        <a:lnTo>
                          <a:pt x="23" y="156"/>
                        </a:lnTo>
                        <a:lnTo>
                          <a:pt x="0" y="189"/>
                        </a:lnTo>
                        <a:lnTo>
                          <a:pt x="23" y="189"/>
                        </a:lnTo>
                        <a:lnTo>
                          <a:pt x="34" y="167"/>
                        </a:lnTo>
                        <a:lnTo>
                          <a:pt x="56" y="134"/>
                        </a:lnTo>
                        <a:lnTo>
                          <a:pt x="78" y="100"/>
                        </a:lnTo>
                        <a:lnTo>
                          <a:pt x="112" y="67"/>
                        </a:lnTo>
                        <a:lnTo>
                          <a:pt x="134" y="45"/>
                        </a:lnTo>
                        <a:lnTo>
                          <a:pt x="168" y="33"/>
                        </a:lnTo>
                        <a:lnTo>
                          <a:pt x="190" y="22"/>
                        </a:lnTo>
                        <a:lnTo>
                          <a:pt x="212" y="22"/>
                        </a:lnTo>
                        <a:lnTo>
                          <a:pt x="223" y="11"/>
                        </a:lnTo>
                        <a:close/>
                      </a:path>
                    </a:pathLst>
                  </a:custGeom>
                  <a:solidFill>
                    <a:srgbClr val="00000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Freeform 959"/>
                  <p:cNvSpPr/>
                  <p:nvPr/>
                </p:nvSpPr>
                <p:spPr>
                  <a:xfrm rot="111600">
                    <a:off x="1011600" y="803520"/>
                    <a:ext cx="5400" cy="59040"/>
                  </a:xfrm>
                  <a:custGeom>
                    <a:avLst/>
                    <a:gdLst>
                      <a:gd name="textAreaLeft" fmla="*/ 0 w 5400"/>
                      <a:gd name="textAreaRight" fmla="*/ 5760 w 5400"/>
                      <a:gd name="textAreaTop" fmla="*/ 0 h 59040"/>
                      <a:gd name="textAreaBottom" fmla="*/ 59400 h 59040"/>
                    </a:gdLst>
                    <a:ahLst/>
                    <a:rect l="textAreaLeft" t="textAreaTop" r="textAreaRight" b="textAreaBottom"/>
                    <a:pathLst>
                      <a:path w="56" h="446">
                        <a:moveTo>
                          <a:pt x="11" y="446"/>
                        </a:moveTo>
                        <a:lnTo>
                          <a:pt x="11" y="446"/>
                        </a:lnTo>
                        <a:lnTo>
                          <a:pt x="22" y="390"/>
                        </a:lnTo>
                        <a:lnTo>
                          <a:pt x="34" y="323"/>
                        </a:lnTo>
                        <a:lnTo>
                          <a:pt x="45" y="256"/>
                        </a:lnTo>
                        <a:lnTo>
                          <a:pt x="56" y="190"/>
                        </a:lnTo>
                        <a:lnTo>
                          <a:pt x="56" y="123"/>
                        </a:lnTo>
                        <a:lnTo>
                          <a:pt x="45" y="67"/>
                        </a:lnTo>
                        <a:lnTo>
                          <a:pt x="34" y="22"/>
                        </a:lnTo>
                        <a:lnTo>
                          <a:pt x="11" y="0"/>
                        </a:lnTo>
                        <a:lnTo>
                          <a:pt x="0" y="11"/>
                        </a:lnTo>
                        <a:lnTo>
                          <a:pt x="22" y="22"/>
                        </a:lnTo>
                        <a:lnTo>
                          <a:pt x="34" y="67"/>
                        </a:lnTo>
                        <a:lnTo>
                          <a:pt x="34" y="123"/>
                        </a:lnTo>
                        <a:lnTo>
                          <a:pt x="34" y="190"/>
                        </a:lnTo>
                        <a:lnTo>
                          <a:pt x="34" y="256"/>
                        </a:lnTo>
                        <a:lnTo>
                          <a:pt x="22" y="323"/>
                        </a:lnTo>
                        <a:lnTo>
                          <a:pt x="11" y="390"/>
                        </a:lnTo>
                        <a:lnTo>
                          <a:pt x="0" y="446"/>
                        </a:lnTo>
                        <a:lnTo>
                          <a:pt x="11" y="44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958"/>
                  <p:cNvSpPr/>
                  <p:nvPr/>
                </p:nvSpPr>
                <p:spPr>
                  <a:xfrm rot="111600">
                    <a:off x="995400" y="862560"/>
                    <a:ext cx="16200" cy="19080"/>
                  </a:xfrm>
                  <a:custGeom>
                    <a:avLst/>
                    <a:gdLst>
                      <a:gd name="textAreaLeft" fmla="*/ 0 w 16200"/>
                      <a:gd name="textAreaRight" fmla="*/ 16560 w 16200"/>
                      <a:gd name="textAreaTop" fmla="*/ 0 h 19080"/>
                      <a:gd name="textAreaBottom" fmla="*/ 19440 h 19080"/>
                    </a:gdLst>
                    <a:ahLst/>
                    <a:rect l="textAreaLeft" t="textAreaTop" r="textAreaRight" b="textAreaBottom"/>
                    <a:pathLst>
                      <a:path w="167" h="145">
                        <a:moveTo>
                          <a:pt x="0" y="123"/>
                        </a:moveTo>
                        <a:lnTo>
                          <a:pt x="0" y="123"/>
                        </a:lnTo>
                        <a:lnTo>
                          <a:pt x="34" y="145"/>
                        </a:lnTo>
                        <a:lnTo>
                          <a:pt x="56" y="145"/>
                        </a:lnTo>
                        <a:lnTo>
                          <a:pt x="89" y="134"/>
                        </a:lnTo>
                        <a:lnTo>
                          <a:pt x="112" y="111"/>
                        </a:lnTo>
                        <a:lnTo>
                          <a:pt x="134" y="89"/>
                        </a:lnTo>
                        <a:lnTo>
                          <a:pt x="145" y="56"/>
                        </a:lnTo>
                        <a:lnTo>
                          <a:pt x="156" y="22"/>
                        </a:lnTo>
                        <a:lnTo>
                          <a:pt x="167" y="0"/>
                        </a:lnTo>
                        <a:lnTo>
                          <a:pt x="156" y="0"/>
                        </a:lnTo>
                        <a:lnTo>
                          <a:pt x="145" y="22"/>
                        </a:lnTo>
                        <a:lnTo>
                          <a:pt x="134" y="45"/>
                        </a:lnTo>
                        <a:lnTo>
                          <a:pt x="112" y="78"/>
                        </a:lnTo>
                        <a:lnTo>
                          <a:pt x="100" y="100"/>
                        </a:lnTo>
                        <a:lnTo>
                          <a:pt x="78" y="123"/>
                        </a:lnTo>
                        <a:lnTo>
                          <a:pt x="56" y="134"/>
                        </a:lnTo>
                        <a:lnTo>
                          <a:pt x="34" y="134"/>
                        </a:lnTo>
                        <a:lnTo>
                          <a:pt x="11" y="111"/>
                        </a:lnTo>
                        <a:lnTo>
                          <a:pt x="0" y="123"/>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Freeform 957"/>
                  <p:cNvSpPr/>
                  <p:nvPr/>
                </p:nvSpPr>
                <p:spPr>
                  <a:xfrm rot="111600">
                    <a:off x="988560" y="851760"/>
                    <a:ext cx="7560" cy="26640"/>
                  </a:xfrm>
                  <a:custGeom>
                    <a:avLst/>
                    <a:gdLst>
                      <a:gd name="textAreaLeft" fmla="*/ 0 w 7560"/>
                      <a:gd name="textAreaRight" fmla="*/ 7920 w 7560"/>
                      <a:gd name="textAreaTop" fmla="*/ 0 h 26640"/>
                      <a:gd name="textAreaBottom" fmla="*/ 27000 h 26640"/>
                    </a:gdLst>
                    <a:ahLst/>
                    <a:rect l="textAreaLeft" t="textAreaTop" r="textAreaRight" b="textAreaBottom"/>
                    <a:pathLst>
                      <a:path w="78" h="201">
                        <a:moveTo>
                          <a:pt x="0" y="11"/>
                        </a:moveTo>
                        <a:lnTo>
                          <a:pt x="0" y="11"/>
                        </a:lnTo>
                        <a:lnTo>
                          <a:pt x="0" y="33"/>
                        </a:lnTo>
                        <a:lnTo>
                          <a:pt x="11" y="56"/>
                        </a:lnTo>
                        <a:lnTo>
                          <a:pt x="23" y="89"/>
                        </a:lnTo>
                        <a:lnTo>
                          <a:pt x="34" y="111"/>
                        </a:lnTo>
                        <a:lnTo>
                          <a:pt x="34" y="134"/>
                        </a:lnTo>
                        <a:lnTo>
                          <a:pt x="45" y="167"/>
                        </a:lnTo>
                        <a:lnTo>
                          <a:pt x="56" y="189"/>
                        </a:lnTo>
                        <a:lnTo>
                          <a:pt x="67" y="201"/>
                        </a:lnTo>
                        <a:lnTo>
                          <a:pt x="78" y="189"/>
                        </a:lnTo>
                        <a:lnTo>
                          <a:pt x="67" y="178"/>
                        </a:lnTo>
                        <a:lnTo>
                          <a:pt x="56" y="156"/>
                        </a:lnTo>
                        <a:lnTo>
                          <a:pt x="56" y="134"/>
                        </a:lnTo>
                        <a:lnTo>
                          <a:pt x="45" y="111"/>
                        </a:lnTo>
                        <a:lnTo>
                          <a:pt x="34" y="78"/>
                        </a:lnTo>
                        <a:lnTo>
                          <a:pt x="23" y="56"/>
                        </a:lnTo>
                        <a:lnTo>
                          <a:pt x="23" y="33"/>
                        </a:lnTo>
                        <a:lnTo>
                          <a:pt x="11" y="0"/>
                        </a:lnTo>
                        <a:lnTo>
                          <a:pt x="0" y="11"/>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Freeform 956"/>
                  <p:cNvSpPr/>
                  <p:nvPr/>
                </p:nvSpPr>
                <p:spPr>
                  <a:xfrm rot="111600">
                    <a:off x="988200" y="826200"/>
                    <a:ext cx="4320" cy="26640"/>
                  </a:xfrm>
                  <a:custGeom>
                    <a:avLst/>
                    <a:gdLst>
                      <a:gd name="textAreaLeft" fmla="*/ 0 w 4320"/>
                      <a:gd name="textAreaRight" fmla="*/ 4320 w 4320"/>
                      <a:gd name="textAreaTop" fmla="*/ 0 h 26640"/>
                      <a:gd name="textAreaBottom" fmla="*/ 27000 h 26640"/>
                    </a:gdLst>
                    <a:ahLst/>
                    <a:rect l="textAreaLeft" t="textAreaTop" r="textAreaRight" b="textAreaBottom"/>
                    <a:pathLst>
                      <a:path w="45" h="201">
                        <a:moveTo>
                          <a:pt x="22" y="0"/>
                        </a:moveTo>
                        <a:lnTo>
                          <a:pt x="22" y="0"/>
                        </a:lnTo>
                        <a:lnTo>
                          <a:pt x="22" y="23"/>
                        </a:lnTo>
                        <a:lnTo>
                          <a:pt x="11" y="45"/>
                        </a:lnTo>
                        <a:lnTo>
                          <a:pt x="11" y="67"/>
                        </a:lnTo>
                        <a:lnTo>
                          <a:pt x="0" y="101"/>
                        </a:lnTo>
                        <a:lnTo>
                          <a:pt x="0" y="123"/>
                        </a:lnTo>
                        <a:lnTo>
                          <a:pt x="0" y="157"/>
                        </a:lnTo>
                        <a:lnTo>
                          <a:pt x="0" y="179"/>
                        </a:lnTo>
                        <a:lnTo>
                          <a:pt x="11" y="201"/>
                        </a:lnTo>
                        <a:lnTo>
                          <a:pt x="22" y="190"/>
                        </a:lnTo>
                        <a:lnTo>
                          <a:pt x="11" y="179"/>
                        </a:lnTo>
                        <a:lnTo>
                          <a:pt x="11" y="157"/>
                        </a:lnTo>
                        <a:lnTo>
                          <a:pt x="11" y="123"/>
                        </a:lnTo>
                        <a:lnTo>
                          <a:pt x="11" y="101"/>
                        </a:lnTo>
                        <a:lnTo>
                          <a:pt x="22" y="78"/>
                        </a:lnTo>
                        <a:lnTo>
                          <a:pt x="22" y="45"/>
                        </a:lnTo>
                        <a:lnTo>
                          <a:pt x="34" y="23"/>
                        </a:lnTo>
                        <a:lnTo>
                          <a:pt x="45" y="0"/>
                        </a:lnTo>
                        <a:lnTo>
                          <a:pt x="22" y="0"/>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955"/>
                  <p:cNvSpPr/>
                  <p:nvPr/>
                </p:nvSpPr>
                <p:spPr>
                  <a:xfrm rot="111600">
                    <a:off x="1059840" y="813600"/>
                    <a:ext cx="1800" cy="4320"/>
                  </a:xfrm>
                  <a:custGeom>
                    <a:avLst/>
                    <a:gdLst>
                      <a:gd name="textAreaLeft" fmla="*/ 0 w 1800"/>
                      <a:gd name="textAreaRight" fmla="*/ 2160 w 1800"/>
                      <a:gd name="textAreaTop" fmla="*/ 0 h 4320"/>
                      <a:gd name="textAreaBottom" fmla="*/ 4680 h 4320"/>
                    </a:gdLst>
                    <a:ahLst/>
                    <a:rect l="textAreaLeft" t="textAreaTop" r="textAreaRight" b="textAreaBottom"/>
                    <a:pathLst>
                      <a:path w="22" h="33">
                        <a:moveTo>
                          <a:pt x="22" y="11"/>
                        </a:moveTo>
                        <a:lnTo>
                          <a:pt x="22" y="0"/>
                        </a:lnTo>
                        <a:lnTo>
                          <a:pt x="11" y="0"/>
                        </a:lnTo>
                        <a:lnTo>
                          <a:pt x="0" y="11"/>
                        </a:lnTo>
                        <a:lnTo>
                          <a:pt x="0" y="22"/>
                        </a:lnTo>
                        <a:lnTo>
                          <a:pt x="0" y="33"/>
                        </a:lnTo>
                        <a:lnTo>
                          <a:pt x="22"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Freeform 954"/>
                  <p:cNvSpPr/>
                  <p:nvPr/>
                </p:nvSpPr>
                <p:spPr>
                  <a:xfrm rot="111600">
                    <a:off x="1059840" y="815040"/>
                    <a:ext cx="7560" cy="16200"/>
                  </a:xfrm>
                  <a:custGeom>
                    <a:avLst/>
                    <a:gdLst>
                      <a:gd name="textAreaLeft" fmla="*/ 0 w 7560"/>
                      <a:gd name="textAreaRight" fmla="*/ 7920 w 7560"/>
                      <a:gd name="textAreaTop" fmla="*/ 0 h 16200"/>
                      <a:gd name="textAreaBottom" fmla="*/ 16560 h 16200"/>
                    </a:gdLst>
                    <a:ahLst/>
                    <a:rect l="textAreaLeft" t="textAreaTop" r="textAreaRight" b="textAreaBottom"/>
                    <a:pathLst>
                      <a:path w="78" h="123">
                        <a:moveTo>
                          <a:pt x="78" y="112"/>
                        </a:moveTo>
                        <a:lnTo>
                          <a:pt x="78" y="100"/>
                        </a:lnTo>
                        <a:lnTo>
                          <a:pt x="78" y="89"/>
                        </a:lnTo>
                        <a:lnTo>
                          <a:pt x="66" y="67"/>
                        </a:lnTo>
                        <a:lnTo>
                          <a:pt x="55" y="56"/>
                        </a:lnTo>
                        <a:lnTo>
                          <a:pt x="55" y="45"/>
                        </a:lnTo>
                        <a:lnTo>
                          <a:pt x="44" y="34"/>
                        </a:lnTo>
                        <a:lnTo>
                          <a:pt x="33" y="11"/>
                        </a:lnTo>
                        <a:lnTo>
                          <a:pt x="22" y="0"/>
                        </a:lnTo>
                        <a:lnTo>
                          <a:pt x="0" y="22"/>
                        </a:lnTo>
                        <a:lnTo>
                          <a:pt x="11" y="34"/>
                        </a:lnTo>
                        <a:lnTo>
                          <a:pt x="22" y="45"/>
                        </a:lnTo>
                        <a:lnTo>
                          <a:pt x="22" y="56"/>
                        </a:lnTo>
                        <a:lnTo>
                          <a:pt x="33" y="67"/>
                        </a:lnTo>
                        <a:lnTo>
                          <a:pt x="33" y="78"/>
                        </a:lnTo>
                        <a:lnTo>
                          <a:pt x="33" y="100"/>
                        </a:lnTo>
                        <a:lnTo>
                          <a:pt x="44" y="112"/>
                        </a:lnTo>
                        <a:lnTo>
                          <a:pt x="44" y="123"/>
                        </a:lnTo>
                        <a:lnTo>
                          <a:pt x="78" y="11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Freeform 953"/>
                  <p:cNvSpPr/>
                  <p:nvPr/>
                </p:nvSpPr>
                <p:spPr>
                  <a:xfrm rot="111600">
                    <a:off x="1058760" y="815040"/>
                    <a:ext cx="4320" cy="2880"/>
                  </a:xfrm>
                  <a:custGeom>
                    <a:avLst/>
                    <a:gdLst>
                      <a:gd name="textAreaLeft" fmla="*/ 0 w 4320"/>
                      <a:gd name="textAreaRight" fmla="*/ 4320 w 4320"/>
                      <a:gd name="textAreaTop" fmla="*/ 0 h 2880"/>
                      <a:gd name="textAreaBottom" fmla="*/ 3240 h 2880"/>
                    </a:gdLst>
                    <a:ahLst/>
                    <a:rect l="textAreaLeft" t="textAreaTop" r="textAreaRight" b="textAreaBottom"/>
                    <a:pathLst>
                      <a:path w="45" h="22">
                        <a:moveTo>
                          <a:pt x="0" y="11"/>
                        </a:moveTo>
                        <a:lnTo>
                          <a:pt x="12" y="22"/>
                        </a:lnTo>
                        <a:lnTo>
                          <a:pt x="23" y="22"/>
                        </a:lnTo>
                        <a:lnTo>
                          <a:pt x="34" y="22"/>
                        </a:lnTo>
                        <a:lnTo>
                          <a:pt x="45" y="11"/>
                        </a:lnTo>
                        <a:lnTo>
                          <a:pt x="45" y="0"/>
                        </a:lnTo>
                        <a:lnTo>
                          <a:pt x="0"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Freeform 952"/>
                  <p:cNvSpPr/>
                  <p:nvPr/>
                </p:nvSpPr>
                <p:spPr>
                  <a:xfrm rot="111600">
                    <a:off x="1044720" y="811800"/>
                    <a:ext cx="3240" cy="2880"/>
                  </a:xfrm>
                  <a:custGeom>
                    <a:avLst/>
                    <a:gdLst>
                      <a:gd name="textAreaLeft" fmla="*/ 0 w 3240"/>
                      <a:gd name="textAreaRight" fmla="*/ 3600 w 3240"/>
                      <a:gd name="textAreaTop" fmla="*/ 0 h 2880"/>
                      <a:gd name="textAreaBottom" fmla="*/ 3240 h 2880"/>
                    </a:gdLst>
                    <a:ahLst/>
                    <a:rect l="textAreaLeft" t="textAreaTop" r="textAreaRight" b="textAreaBottom"/>
                    <a:pathLst>
                      <a:path w="34" h="22">
                        <a:moveTo>
                          <a:pt x="23" y="22"/>
                        </a:moveTo>
                        <a:lnTo>
                          <a:pt x="34" y="22"/>
                        </a:lnTo>
                        <a:lnTo>
                          <a:pt x="34" y="11"/>
                        </a:lnTo>
                        <a:lnTo>
                          <a:pt x="23" y="0"/>
                        </a:lnTo>
                        <a:lnTo>
                          <a:pt x="12" y="0"/>
                        </a:lnTo>
                        <a:lnTo>
                          <a:pt x="0" y="0"/>
                        </a:lnTo>
                        <a:lnTo>
                          <a:pt x="0" y="11"/>
                        </a:lnTo>
                        <a:lnTo>
                          <a:pt x="23" y="22"/>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Freeform 951"/>
                  <p:cNvSpPr/>
                  <p:nvPr/>
                </p:nvSpPr>
                <p:spPr>
                  <a:xfrm rot="111600">
                    <a:off x="1039320" y="812880"/>
                    <a:ext cx="7560" cy="16200"/>
                  </a:xfrm>
                  <a:custGeom>
                    <a:avLst/>
                    <a:gdLst>
                      <a:gd name="textAreaLeft" fmla="*/ 0 w 7560"/>
                      <a:gd name="textAreaRight" fmla="*/ 7920 w 7560"/>
                      <a:gd name="textAreaTop" fmla="*/ 0 h 16200"/>
                      <a:gd name="textAreaBottom" fmla="*/ 16560 h 16200"/>
                    </a:gdLst>
                    <a:ahLst/>
                    <a:rect l="textAreaLeft" t="textAreaTop" r="textAreaRight" b="textAreaBottom"/>
                    <a:pathLst>
                      <a:path w="78" h="123">
                        <a:moveTo>
                          <a:pt x="33" y="123"/>
                        </a:moveTo>
                        <a:lnTo>
                          <a:pt x="44" y="111"/>
                        </a:lnTo>
                        <a:lnTo>
                          <a:pt x="44" y="89"/>
                        </a:lnTo>
                        <a:lnTo>
                          <a:pt x="55" y="78"/>
                        </a:lnTo>
                        <a:lnTo>
                          <a:pt x="55" y="67"/>
                        </a:lnTo>
                        <a:lnTo>
                          <a:pt x="67" y="56"/>
                        </a:lnTo>
                        <a:lnTo>
                          <a:pt x="67" y="45"/>
                        </a:lnTo>
                        <a:lnTo>
                          <a:pt x="78" y="22"/>
                        </a:lnTo>
                        <a:lnTo>
                          <a:pt x="78" y="11"/>
                        </a:lnTo>
                        <a:lnTo>
                          <a:pt x="55" y="0"/>
                        </a:lnTo>
                        <a:lnTo>
                          <a:pt x="44" y="11"/>
                        </a:lnTo>
                        <a:lnTo>
                          <a:pt x="33" y="22"/>
                        </a:lnTo>
                        <a:lnTo>
                          <a:pt x="33" y="33"/>
                        </a:lnTo>
                        <a:lnTo>
                          <a:pt x="22" y="56"/>
                        </a:lnTo>
                        <a:lnTo>
                          <a:pt x="22" y="67"/>
                        </a:lnTo>
                        <a:lnTo>
                          <a:pt x="11" y="78"/>
                        </a:lnTo>
                        <a:lnTo>
                          <a:pt x="11" y="100"/>
                        </a:lnTo>
                        <a:lnTo>
                          <a:pt x="0" y="111"/>
                        </a:lnTo>
                        <a:lnTo>
                          <a:pt x="33" y="123"/>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Freeform 950"/>
                  <p:cNvSpPr/>
                  <p:nvPr/>
                </p:nvSpPr>
                <p:spPr>
                  <a:xfrm rot="111600">
                    <a:off x="1043640" y="813240"/>
                    <a:ext cx="4320" cy="2880"/>
                  </a:xfrm>
                  <a:custGeom>
                    <a:avLst/>
                    <a:gdLst>
                      <a:gd name="textAreaLeft" fmla="*/ 0 w 4320"/>
                      <a:gd name="textAreaRight" fmla="*/ 4320 w 4320"/>
                      <a:gd name="textAreaTop" fmla="*/ 0 h 2880"/>
                      <a:gd name="textAreaBottom" fmla="*/ 3240 h 2880"/>
                    </a:gdLst>
                    <a:ahLst/>
                    <a:rect l="textAreaLeft" t="textAreaTop" r="textAreaRight" b="textAreaBottom"/>
                    <a:pathLst>
                      <a:path w="45" h="22">
                        <a:moveTo>
                          <a:pt x="0" y="0"/>
                        </a:moveTo>
                        <a:lnTo>
                          <a:pt x="11" y="22"/>
                        </a:lnTo>
                        <a:lnTo>
                          <a:pt x="23" y="22"/>
                        </a:lnTo>
                        <a:lnTo>
                          <a:pt x="34" y="22"/>
                        </a:lnTo>
                        <a:lnTo>
                          <a:pt x="45" y="11"/>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Freeform 949"/>
                  <p:cNvSpPr/>
                  <p:nvPr/>
                </p:nvSpPr>
                <p:spPr>
                  <a:xfrm rot="111600">
                    <a:off x="1117440" y="642600"/>
                    <a:ext cx="155520" cy="195480"/>
                  </a:xfrm>
                  <a:custGeom>
                    <a:avLst/>
                    <a:gdLst>
                      <a:gd name="textAreaLeft" fmla="*/ 0 w 155520"/>
                      <a:gd name="textAreaRight" fmla="*/ 155880 w 155520"/>
                      <a:gd name="textAreaTop" fmla="*/ 0 h 195480"/>
                      <a:gd name="textAreaBottom" fmla="*/ 195840 h 195480"/>
                    </a:gdLst>
                    <a:ahLst/>
                    <a:rect l="textAreaLeft" t="textAreaTop" r="textAreaRight" b="textAreaBottom"/>
                    <a:pathLst>
                      <a:path w="1594" h="1471">
                        <a:moveTo>
                          <a:pt x="769" y="0"/>
                        </a:moveTo>
                        <a:lnTo>
                          <a:pt x="813" y="0"/>
                        </a:lnTo>
                        <a:lnTo>
                          <a:pt x="847" y="11"/>
                        </a:lnTo>
                        <a:lnTo>
                          <a:pt x="880" y="11"/>
                        </a:lnTo>
                        <a:lnTo>
                          <a:pt x="914" y="22"/>
                        </a:lnTo>
                        <a:lnTo>
                          <a:pt x="947" y="44"/>
                        </a:lnTo>
                        <a:lnTo>
                          <a:pt x="981" y="56"/>
                        </a:lnTo>
                        <a:lnTo>
                          <a:pt x="1014" y="78"/>
                        </a:lnTo>
                        <a:lnTo>
                          <a:pt x="1047" y="89"/>
                        </a:lnTo>
                        <a:lnTo>
                          <a:pt x="1081" y="122"/>
                        </a:lnTo>
                        <a:lnTo>
                          <a:pt x="1103" y="145"/>
                        </a:lnTo>
                        <a:lnTo>
                          <a:pt x="1137" y="167"/>
                        </a:lnTo>
                        <a:lnTo>
                          <a:pt x="1159" y="200"/>
                        </a:lnTo>
                        <a:lnTo>
                          <a:pt x="1181" y="234"/>
                        </a:lnTo>
                        <a:lnTo>
                          <a:pt x="1215" y="267"/>
                        </a:lnTo>
                        <a:lnTo>
                          <a:pt x="1237" y="301"/>
                        </a:lnTo>
                        <a:lnTo>
                          <a:pt x="1248" y="334"/>
                        </a:lnTo>
                        <a:lnTo>
                          <a:pt x="1281" y="345"/>
                        </a:lnTo>
                        <a:lnTo>
                          <a:pt x="1315" y="356"/>
                        </a:lnTo>
                        <a:lnTo>
                          <a:pt x="1337" y="356"/>
                        </a:lnTo>
                        <a:lnTo>
                          <a:pt x="1371" y="368"/>
                        </a:lnTo>
                        <a:lnTo>
                          <a:pt x="1404" y="379"/>
                        </a:lnTo>
                        <a:lnTo>
                          <a:pt x="1426" y="390"/>
                        </a:lnTo>
                        <a:lnTo>
                          <a:pt x="1449" y="390"/>
                        </a:lnTo>
                        <a:lnTo>
                          <a:pt x="1482" y="412"/>
                        </a:lnTo>
                        <a:lnTo>
                          <a:pt x="1504" y="423"/>
                        </a:lnTo>
                        <a:lnTo>
                          <a:pt x="1527" y="435"/>
                        </a:lnTo>
                        <a:lnTo>
                          <a:pt x="1538" y="457"/>
                        </a:lnTo>
                        <a:lnTo>
                          <a:pt x="1560" y="490"/>
                        </a:lnTo>
                        <a:lnTo>
                          <a:pt x="1571" y="513"/>
                        </a:lnTo>
                        <a:lnTo>
                          <a:pt x="1582" y="546"/>
                        </a:lnTo>
                        <a:lnTo>
                          <a:pt x="1594" y="591"/>
                        </a:lnTo>
                        <a:lnTo>
                          <a:pt x="1594" y="635"/>
                        </a:lnTo>
                        <a:lnTo>
                          <a:pt x="1594" y="657"/>
                        </a:lnTo>
                        <a:lnTo>
                          <a:pt x="1582" y="680"/>
                        </a:lnTo>
                        <a:lnTo>
                          <a:pt x="1582" y="691"/>
                        </a:lnTo>
                        <a:lnTo>
                          <a:pt x="1571" y="713"/>
                        </a:lnTo>
                        <a:lnTo>
                          <a:pt x="1560" y="735"/>
                        </a:lnTo>
                        <a:lnTo>
                          <a:pt x="1549" y="758"/>
                        </a:lnTo>
                        <a:lnTo>
                          <a:pt x="1538" y="780"/>
                        </a:lnTo>
                        <a:lnTo>
                          <a:pt x="1527" y="791"/>
                        </a:lnTo>
                        <a:lnTo>
                          <a:pt x="1504" y="813"/>
                        </a:lnTo>
                        <a:lnTo>
                          <a:pt x="1482" y="825"/>
                        </a:lnTo>
                        <a:lnTo>
                          <a:pt x="1471" y="847"/>
                        </a:lnTo>
                        <a:lnTo>
                          <a:pt x="1438" y="858"/>
                        </a:lnTo>
                        <a:lnTo>
                          <a:pt x="1415" y="869"/>
                        </a:lnTo>
                        <a:lnTo>
                          <a:pt x="1393" y="880"/>
                        </a:lnTo>
                        <a:lnTo>
                          <a:pt x="1359" y="880"/>
                        </a:lnTo>
                        <a:lnTo>
                          <a:pt x="1326" y="880"/>
                        </a:lnTo>
                        <a:lnTo>
                          <a:pt x="1315" y="947"/>
                        </a:lnTo>
                        <a:lnTo>
                          <a:pt x="1293" y="1003"/>
                        </a:lnTo>
                        <a:lnTo>
                          <a:pt x="1270" y="1059"/>
                        </a:lnTo>
                        <a:lnTo>
                          <a:pt x="1248" y="1114"/>
                        </a:lnTo>
                        <a:lnTo>
                          <a:pt x="1215" y="1170"/>
                        </a:lnTo>
                        <a:lnTo>
                          <a:pt x="1181" y="1215"/>
                        </a:lnTo>
                        <a:lnTo>
                          <a:pt x="1148" y="1259"/>
                        </a:lnTo>
                        <a:lnTo>
                          <a:pt x="1114" y="1304"/>
                        </a:lnTo>
                        <a:lnTo>
                          <a:pt x="1070" y="1337"/>
                        </a:lnTo>
                        <a:lnTo>
                          <a:pt x="1025" y="1371"/>
                        </a:lnTo>
                        <a:lnTo>
                          <a:pt x="981" y="1404"/>
                        </a:lnTo>
                        <a:lnTo>
                          <a:pt x="936" y="1426"/>
                        </a:lnTo>
                        <a:lnTo>
                          <a:pt x="891" y="1438"/>
                        </a:lnTo>
                        <a:lnTo>
                          <a:pt x="847" y="1460"/>
                        </a:lnTo>
                        <a:lnTo>
                          <a:pt x="791" y="1460"/>
                        </a:lnTo>
                        <a:lnTo>
                          <a:pt x="747" y="1471"/>
                        </a:lnTo>
                        <a:lnTo>
                          <a:pt x="668" y="1460"/>
                        </a:lnTo>
                        <a:lnTo>
                          <a:pt x="613" y="1449"/>
                        </a:lnTo>
                        <a:lnTo>
                          <a:pt x="546" y="1426"/>
                        </a:lnTo>
                        <a:lnTo>
                          <a:pt x="490" y="1404"/>
                        </a:lnTo>
                        <a:lnTo>
                          <a:pt x="446" y="1371"/>
                        </a:lnTo>
                        <a:lnTo>
                          <a:pt x="401" y="1337"/>
                        </a:lnTo>
                        <a:lnTo>
                          <a:pt x="356" y="1293"/>
                        </a:lnTo>
                        <a:lnTo>
                          <a:pt x="323" y="1248"/>
                        </a:lnTo>
                        <a:lnTo>
                          <a:pt x="290" y="1192"/>
                        </a:lnTo>
                        <a:lnTo>
                          <a:pt x="267" y="1137"/>
                        </a:lnTo>
                        <a:lnTo>
                          <a:pt x="245" y="1081"/>
                        </a:lnTo>
                        <a:lnTo>
                          <a:pt x="234" y="1025"/>
                        </a:lnTo>
                        <a:lnTo>
                          <a:pt x="223" y="958"/>
                        </a:lnTo>
                        <a:lnTo>
                          <a:pt x="223" y="891"/>
                        </a:lnTo>
                        <a:lnTo>
                          <a:pt x="223" y="825"/>
                        </a:lnTo>
                        <a:lnTo>
                          <a:pt x="234" y="758"/>
                        </a:lnTo>
                        <a:lnTo>
                          <a:pt x="200" y="758"/>
                        </a:lnTo>
                        <a:lnTo>
                          <a:pt x="167" y="747"/>
                        </a:lnTo>
                        <a:lnTo>
                          <a:pt x="134" y="735"/>
                        </a:lnTo>
                        <a:lnTo>
                          <a:pt x="111" y="724"/>
                        </a:lnTo>
                        <a:lnTo>
                          <a:pt x="78" y="702"/>
                        </a:lnTo>
                        <a:lnTo>
                          <a:pt x="56" y="680"/>
                        </a:lnTo>
                        <a:lnTo>
                          <a:pt x="33" y="657"/>
                        </a:lnTo>
                        <a:lnTo>
                          <a:pt x="22" y="624"/>
                        </a:lnTo>
                        <a:lnTo>
                          <a:pt x="11" y="602"/>
                        </a:lnTo>
                        <a:lnTo>
                          <a:pt x="0" y="568"/>
                        </a:lnTo>
                        <a:lnTo>
                          <a:pt x="0" y="535"/>
                        </a:lnTo>
                        <a:lnTo>
                          <a:pt x="0" y="501"/>
                        </a:lnTo>
                        <a:lnTo>
                          <a:pt x="0" y="468"/>
                        </a:lnTo>
                        <a:lnTo>
                          <a:pt x="22" y="435"/>
                        </a:lnTo>
                        <a:lnTo>
                          <a:pt x="33" y="412"/>
                        </a:lnTo>
                        <a:lnTo>
                          <a:pt x="67" y="379"/>
                        </a:lnTo>
                        <a:lnTo>
                          <a:pt x="78" y="368"/>
                        </a:lnTo>
                        <a:lnTo>
                          <a:pt x="89" y="368"/>
                        </a:lnTo>
                        <a:lnTo>
                          <a:pt x="111" y="368"/>
                        </a:lnTo>
                        <a:lnTo>
                          <a:pt x="122" y="368"/>
                        </a:lnTo>
                        <a:lnTo>
                          <a:pt x="134" y="368"/>
                        </a:lnTo>
                        <a:lnTo>
                          <a:pt x="145" y="368"/>
                        </a:lnTo>
                        <a:lnTo>
                          <a:pt x="167" y="368"/>
                        </a:lnTo>
                        <a:lnTo>
                          <a:pt x="178" y="368"/>
                        </a:lnTo>
                        <a:lnTo>
                          <a:pt x="189" y="368"/>
                        </a:lnTo>
                        <a:lnTo>
                          <a:pt x="212" y="368"/>
                        </a:lnTo>
                        <a:lnTo>
                          <a:pt x="223" y="368"/>
                        </a:lnTo>
                        <a:lnTo>
                          <a:pt x="245" y="379"/>
                        </a:lnTo>
                        <a:lnTo>
                          <a:pt x="256" y="379"/>
                        </a:lnTo>
                        <a:lnTo>
                          <a:pt x="278" y="379"/>
                        </a:lnTo>
                        <a:lnTo>
                          <a:pt x="290" y="379"/>
                        </a:lnTo>
                        <a:lnTo>
                          <a:pt x="301" y="368"/>
                        </a:lnTo>
                        <a:lnTo>
                          <a:pt x="323" y="345"/>
                        </a:lnTo>
                        <a:lnTo>
                          <a:pt x="345" y="323"/>
                        </a:lnTo>
                        <a:lnTo>
                          <a:pt x="368" y="290"/>
                        </a:lnTo>
                        <a:lnTo>
                          <a:pt x="390" y="267"/>
                        </a:lnTo>
                        <a:lnTo>
                          <a:pt x="423" y="234"/>
                        </a:lnTo>
                        <a:lnTo>
                          <a:pt x="446" y="200"/>
                        </a:lnTo>
                        <a:lnTo>
                          <a:pt x="479" y="167"/>
                        </a:lnTo>
                        <a:lnTo>
                          <a:pt x="512" y="134"/>
                        </a:lnTo>
                        <a:lnTo>
                          <a:pt x="546" y="100"/>
                        </a:lnTo>
                        <a:lnTo>
                          <a:pt x="579" y="78"/>
                        </a:lnTo>
                        <a:lnTo>
                          <a:pt x="624" y="56"/>
                        </a:lnTo>
                        <a:lnTo>
                          <a:pt x="657" y="33"/>
                        </a:lnTo>
                        <a:lnTo>
                          <a:pt x="691" y="11"/>
                        </a:lnTo>
                        <a:lnTo>
                          <a:pt x="735" y="11"/>
                        </a:lnTo>
                        <a:lnTo>
                          <a:pt x="769" y="0"/>
                        </a:lnTo>
                        <a:close/>
                      </a:path>
                    </a:pathLst>
                  </a:custGeom>
                  <a:solidFill>
                    <a:srgbClr val="ffd6a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Freeform 948"/>
                  <p:cNvSpPr/>
                  <p:nvPr/>
                </p:nvSpPr>
                <p:spPr>
                  <a:xfrm rot="111600">
                    <a:off x="1194480" y="643680"/>
                    <a:ext cx="47880" cy="45720"/>
                  </a:xfrm>
                  <a:custGeom>
                    <a:avLst/>
                    <a:gdLst>
                      <a:gd name="textAreaLeft" fmla="*/ 0 w 47880"/>
                      <a:gd name="textAreaRight" fmla="*/ 48240 w 47880"/>
                      <a:gd name="textAreaTop" fmla="*/ 0 h 45720"/>
                      <a:gd name="textAreaBottom" fmla="*/ 46080 h 45720"/>
                    </a:gdLst>
                    <a:ahLst/>
                    <a:rect l="textAreaLeft" t="textAreaTop" r="textAreaRight" b="textAreaBottom"/>
                    <a:pathLst>
                      <a:path w="490" h="345">
                        <a:moveTo>
                          <a:pt x="479" y="334"/>
                        </a:moveTo>
                        <a:lnTo>
                          <a:pt x="490" y="334"/>
                        </a:lnTo>
                        <a:lnTo>
                          <a:pt x="468" y="301"/>
                        </a:lnTo>
                        <a:lnTo>
                          <a:pt x="446" y="256"/>
                        </a:lnTo>
                        <a:lnTo>
                          <a:pt x="423" y="223"/>
                        </a:lnTo>
                        <a:lnTo>
                          <a:pt x="401" y="200"/>
                        </a:lnTo>
                        <a:lnTo>
                          <a:pt x="368" y="167"/>
                        </a:lnTo>
                        <a:lnTo>
                          <a:pt x="345" y="134"/>
                        </a:lnTo>
                        <a:lnTo>
                          <a:pt x="312" y="111"/>
                        </a:lnTo>
                        <a:lnTo>
                          <a:pt x="278" y="89"/>
                        </a:lnTo>
                        <a:lnTo>
                          <a:pt x="256" y="67"/>
                        </a:lnTo>
                        <a:lnTo>
                          <a:pt x="223" y="44"/>
                        </a:lnTo>
                        <a:lnTo>
                          <a:pt x="189" y="33"/>
                        </a:lnTo>
                        <a:lnTo>
                          <a:pt x="145" y="22"/>
                        </a:lnTo>
                        <a:lnTo>
                          <a:pt x="111" y="11"/>
                        </a:lnTo>
                        <a:lnTo>
                          <a:pt x="78" y="0"/>
                        </a:lnTo>
                        <a:lnTo>
                          <a:pt x="44" y="0"/>
                        </a:lnTo>
                        <a:lnTo>
                          <a:pt x="0" y="0"/>
                        </a:lnTo>
                        <a:lnTo>
                          <a:pt x="0" y="11"/>
                        </a:lnTo>
                        <a:lnTo>
                          <a:pt x="44" y="11"/>
                        </a:lnTo>
                        <a:lnTo>
                          <a:pt x="78" y="11"/>
                        </a:lnTo>
                        <a:lnTo>
                          <a:pt x="111" y="22"/>
                        </a:lnTo>
                        <a:lnTo>
                          <a:pt x="145" y="33"/>
                        </a:lnTo>
                        <a:lnTo>
                          <a:pt x="178" y="44"/>
                        </a:lnTo>
                        <a:lnTo>
                          <a:pt x="212" y="67"/>
                        </a:lnTo>
                        <a:lnTo>
                          <a:pt x="245" y="78"/>
                        </a:lnTo>
                        <a:lnTo>
                          <a:pt x="278" y="100"/>
                        </a:lnTo>
                        <a:lnTo>
                          <a:pt x="301" y="122"/>
                        </a:lnTo>
                        <a:lnTo>
                          <a:pt x="334" y="145"/>
                        </a:lnTo>
                        <a:lnTo>
                          <a:pt x="356" y="178"/>
                        </a:lnTo>
                        <a:lnTo>
                          <a:pt x="390" y="200"/>
                        </a:lnTo>
                        <a:lnTo>
                          <a:pt x="412" y="234"/>
                        </a:lnTo>
                        <a:lnTo>
                          <a:pt x="434" y="267"/>
                        </a:lnTo>
                        <a:lnTo>
                          <a:pt x="457" y="301"/>
                        </a:lnTo>
                        <a:lnTo>
                          <a:pt x="479" y="345"/>
                        </a:lnTo>
                        <a:lnTo>
                          <a:pt x="479" y="334"/>
                        </a:lnTo>
                        <a:close/>
                      </a:path>
                    </a:pathLst>
                  </a:custGeom>
                  <a:solidFill>
                    <a:srgbClr val="000000"/>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Freeform 947"/>
                  <p:cNvSpPr/>
                  <p:nvPr/>
                </p:nvSpPr>
                <p:spPr>
                  <a:xfrm rot="111600">
                    <a:off x="1240200" y="689400"/>
                    <a:ext cx="34560" cy="39960"/>
                  </a:xfrm>
                  <a:custGeom>
                    <a:avLst/>
                    <a:gdLst>
                      <a:gd name="textAreaLeft" fmla="*/ 0 w 34560"/>
                      <a:gd name="textAreaRight" fmla="*/ 34560 w 34560"/>
                      <a:gd name="textAreaTop" fmla="*/ 0 h 39960"/>
                      <a:gd name="textAreaBottom" fmla="*/ 40320 h 39960"/>
                    </a:gdLst>
                    <a:ahLst/>
                    <a:rect l="textAreaLeft" t="textAreaTop" r="textAreaRight" b="textAreaBottom"/>
                    <a:pathLst>
                      <a:path w="357" h="301">
                        <a:moveTo>
                          <a:pt x="357" y="301"/>
                        </a:moveTo>
                        <a:lnTo>
                          <a:pt x="357" y="301"/>
                        </a:lnTo>
                        <a:lnTo>
                          <a:pt x="346" y="257"/>
                        </a:lnTo>
                        <a:lnTo>
                          <a:pt x="346" y="212"/>
                        </a:lnTo>
                        <a:lnTo>
                          <a:pt x="334" y="179"/>
                        </a:lnTo>
                        <a:lnTo>
                          <a:pt x="312" y="145"/>
                        </a:lnTo>
                        <a:lnTo>
                          <a:pt x="301" y="123"/>
                        </a:lnTo>
                        <a:lnTo>
                          <a:pt x="279" y="101"/>
                        </a:lnTo>
                        <a:lnTo>
                          <a:pt x="256" y="78"/>
                        </a:lnTo>
                        <a:lnTo>
                          <a:pt x="234" y="67"/>
                        </a:lnTo>
                        <a:lnTo>
                          <a:pt x="212" y="56"/>
                        </a:lnTo>
                        <a:lnTo>
                          <a:pt x="178" y="45"/>
                        </a:lnTo>
                        <a:lnTo>
                          <a:pt x="156" y="34"/>
                        </a:lnTo>
                        <a:lnTo>
                          <a:pt x="123" y="22"/>
                        </a:lnTo>
                        <a:lnTo>
                          <a:pt x="89" y="22"/>
                        </a:lnTo>
                        <a:lnTo>
                          <a:pt x="67" y="11"/>
                        </a:lnTo>
                        <a:lnTo>
                          <a:pt x="33" y="11"/>
                        </a:lnTo>
                        <a:lnTo>
                          <a:pt x="0" y="0"/>
                        </a:lnTo>
                        <a:lnTo>
                          <a:pt x="0" y="11"/>
                        </a:lnTo>
                        <a:lnTo>
                          <a:pt x="33" y="22"/>
                        </a:lnTo>
                        <a:lnTo>
                          <a:pt x="56" y="22"/>
                        </a:lnTo>
                        <a:lnTo>
                          <a:pt x="89" y="34"/>
                        </a:lnTo>
                        <a:lnTo>
                          <a:pt x="123" y="45"/>
                        </a:lnTo>
                        <a:lnTo>
                          <a:pt x="145" y="45"/>
                        </a:lnTo>
                        <a:lnTo>
                          <a:pt x="178" y="56"/>
                        </a:lnTo>
                        <a:lnTo>
                          <a:pt x="201" y="67"/>
                        </a:lnTo>
                        <a:lnTo>
                          <a:pt x="223" y="78"/>
                        </a:lnTo>
                        <a:lnTo>
                          <a:pt x="245" y="89"/>
                        </a:lnTo>
                        <a:lnTo>
                          <a:pt x="268" y="112"/>
                        </a:lnTo>
                        <a:lnTo>
                          <a:pt x="290" y="134"/>
                        </a:lnTo>
                        <a:lnTo>
                          <a:pt x="301" y="156"/>
                        </a:lnTo>
                        <a:lnTo>
                          <a:pt x="312" y="190"/>
                        </a:lnTo>
                        <a:lnTo>
                          <a:pt x="323" y="223"/>
                        </a:lnTo>
                        <a:lnTo>
                          <a:pt x="334" y="257"/>
                        </a:lnTo>
                        <a:lnTo>
                          <a:pt x="346" y="301"/>
                        </a:lnTo>
                        <a:lnTo>
                          <a:pt x="357" y="301"/>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Freeform 946"/>
                  <p:cNvSpPr/>
                  <p:nvPr/>
                </p:nvSpPr>
                <p:spPr>
                  <a:xfrm rot="111600">
                    <a:off x="1246680" y="729720"/>
                    <a:ext cx="27000" cy="33840"/>
                  </a:xfrm>
                  <a:custGeom>
                    <a:avLst/>
                    <a:gdLst>
                      <a:gd name="textAreaLeft" fmla="*/ 0 w 27000"/>
                      <a:gd name="textAreaRight" fmla="*/ 27360 w 27000"/>
                      <a:gd name="textAreaTop" fmla="*/ 0 h 33840"/>
                      <a:gd name="textAreaBottom" fmla="*/ 34200 h 33840"/>
                    </a:gdLst>
                    <a:ahLst/>
                    <a:rect l="textAreaLeft" t="textAreaTop" r="textAreaRight" b="textAreaBottom"/>
                    <a:pathLst>
                      <a:path w="279" h="256">
                        <a:moveTo>
                          <a:pt x="11" y="256"/>
                        </a:moveTo>
                        <a:lnTo>
                          <a:pt x="0" y="256"/>
                        </a:lnTo>
                        <a:lnTo>
                          <a:pt x="33" y="256"/>
                        </a:lnTo>
                        <a:lnTo>
                          <a:pt x="67" y="245"/>
                        </a:lnTo>
                        <a:lnTo>
                          <a:pt x="89" y="245"/>
                        </a:lnTo>
                        <a:lnTo>
                          <a:pt x="123" y="234"/>
                        </a:lnTo>
                        <a:lnTo>
                          <a:pt x="145" y="212"/>
                        </a:lnTo>
                        <a:lnTo>
                          <a:pt x="167" y="201"/>
                        </a:lnTo>
                        <a:lnTo>
                          <a:pt x="190" y="190"/>
                        </a:lnTo>
                        <a:lnTo>
                          <a:pt x="201" y="167"/>
                        </a:lnTo>
                        <a:lnTo>
                          <a:pt x="212" y="145"/>
                        </a:lnTo>
                        <a:lnTo>
                          <a:pt x="234" y="123"/>
                        </a:lnTo>
                        <a:lnTo>
                          <a:pt x="245" y="100"/>
                        </a:lnTo>
                        <a:lnTo>
                          <a:pt x="256" y="89"/>
                        </a:lnTo>
                        <a:lnTo>
                          <a:pt x="256" y="56"/>
                        </a:lnTo>
                        <a:lnTo>
                          <a:pt x="268" y="45"/>
                        </a:lnTo>
                        <a:lnTo>
                          <a:pt x="279" y="22"/>
                        </a:lnTo>
                        <a:lnTo>
                          <a:pt x="279" y="0"/>
                        </a:lnTo>
                        <a:lnTo>
                          <a:pt x="268" y="0"/>
                        </a:lnTo>
                        <a:lnTo>
                          <a:pt x="256" y="22"/>
                        </a:lnTo>
                        <a:lnTo>
                          <a:pt x="256" y="34"/>
                        </a:lnTo>
                        <a:lnTo>
                          <a:pt x="245" y="56"/>
                        </a:lnTo>
                        <a:lnTo>
                          <a:pt x="245" y="78"/>
                        </a:lnTo>
                        <a:lnTo>
                          <a:pt x="234" y="100"/>
                        </a:lnTo>
                        <a:lnTo>
                          <a:pt x="223" y="123"/>
                        </a:lnTo>
                        <a:lnTo>
                          <a:pt x="212" y="134"/>
                        </a:lnTo>
                        <a:lnTo>
                          <a:pt x="190" y="156"/>
                        </a:lnTo>
                        <a:lnTo>
                          <a:pt x="178" y="178"/>
                        </a:lnTo>
                        <a:lnTo>
                          <a:pt x="156" y="190"/>
                        </a:lnTo>
                        <a:lnTo>
                          <a:pt x="134" y="201"/>
                        </a:lnTo>
                        <a:lnTo>
                          <a:pt x="112" y="212"/>
                        </a:lnTo>
                        <a:lnTo>
                          <a:pt x="89" y="223"/>
                        </a:lnTo>
                        <a:lnTo>
                          <a:pt x="67" y="234"/>
                        </a:lnTo>
                        <a:lnTo>
                          <a:pt x="33" y="245"/>
                        </a:lnTo>
                        <a:lnTo>
                          <a:pt x="0" y="245"/>
                        </a:lnTo>
                        <a:lnTo>
                          <a:pt x="11" y="25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Freeform 945"/>
                  <p:cNvSpPr/>
                  <p:nvPr/>
                </p:nvSpPr>
                <p:spPr>
                  <a:xfrm rot="111600">
                    <a:off x="1188000" y="761040"/>
                    <a:ext cx="57600" cy="78480"/>
                  </a:xfrm>
                  <a:custGeom>
                    <a:avLst/>
                    <a:gdLst>
                      <a:gd name="textAreaLeft" fmla="*/ 0 w 57600"/>
                      <a:gd name="textAreaRight" fmla="*/ 57600 w 57600"/>
                      <a:gd name="textAreaTop" fmla="*/ 0 h 78480"/>
                      <a:gd name="textAreaBottom" fmla="*/ 78840 h 78480"/>
                    </a:gdLst>
                    <a:ahLst/>
                    <a:rect l="textAreaLeft" t="textAreaTop" r="textAreaRight" b="textAreaBottom"/>
                    <a:pathLst>
                      <a:path w="590" h="591">
                        <a:moveTo>
                          <a:pt x="0" y="591"/>
                        </a:moveTo>
                        <a:lnTo>
                          <a:pt x="0" y="591"/>
                        </a:lnTo>
                        <a:lnTo>
                          <a:pt x="44" y="591"/>
                        </a:lnTo>
                        <a:lnTo>
                          <a:pt x="100" y="580"/>
                        </a:lnTo>
                        <a:lnTo>
                          <a:pt x="144" y="569"/>
                        </a:lnTo>
                        <a:lnTo>
                          <a:pt x="189" y="546"/>
                        </a:lnTo>
                        <a:lnTo>
                          <a:pt x="245" y="524"/>
                        </a:lnTo>
                        <a:lnTo>
                          <a:pt x="289" y="491"/>
                        </a:lnTo>
                        <a:lnTo>
                          <a:pt x="323" y="457"/>
                        </a:lnTo>
                        <a:lnTo>
                          <a:pt x="367" y="424"/>
                        </a:lnTo>
                        <a:lnTo>
                          <a:pt x="412" y="379"/>
                        </a:lnTo>
                        <a:lnTo>
                          <a:pt x="445" y="335"/>
                        </a:lnTo>
                        <a:lnTo>
                          <a:pt x="479" y="290"/>
                        </a:lnTo>
                        <a:lnTo>
                          <a:pt x="501" y="234"/>
                        </a:lnTo>
                        <a:lnTo>
                          <a:pt x="534" y="179"/>
                        </a:lnTo>
                        <a:lnTo>
                          <a:pt x="557" y="123"/>
                        </a:lnTo>
                        <a:lnTo>
                          <a:pt x="568" y="67"/>
                        </a:lnTo>
                        <a:lnTo>
                          <a:pt x="590" y="11"/>
                        </a:lnTo>
                        <a:lnTo>
                          <a:pt x="579" y="0"/>
                        </a:lnTo>
                        <a:lnTo>
                          <a:pt x="557" y="67"/>
                        </a:lnTo>
                        <a:lnTo>
                          <a:pt x="546" y="123"/>
                        </a:lnTo>
                        <a:lnTo>
                          <a:pt x="523" y="179"/>
                        </a:lnTo>
                        <a:lnTo>
                          <a:pt x="490" y="234"/>
                        </a:lnTo>
                        <a:lnTo>
                          <a:pt x="468" y="279"/>
                        </a:lnTo>
                        <a:lnTo>
                          <a:pt x="434" y="335"/>
                        </a:lnTo>
                        <a:lnTo>
                          <a:pt x="401" y="379"/>
                        </a:lnTo>
                        <a:lnTo>
                          <a:pt x="356" y="413"/>
                        </a:lnTo>
                        <a:lnTo>
                          <a:pt x="323" y="457"/>
                        </a:lnTo>
                        <a:lnTo>
                          <a:pt x="278" y="480"/>
                        </a:lnTo>
                        <a:lnTo>
                          <a:pt x="234" y="513"/>
                        </a:lnTo>
                        <a:lnTo>
                          <a:pt x="189" y="535"/>
                        </a:lnTo>
                        <a:lnTo>
                          <a:pt x="144" y="558"/>
                        </a:lnTo>
                        <a:lnTo>
                          <a:pt x="89" y="569"/>
                        </a:lnTo>
                        <a:lnTo>
                          <a:pt x="44" y="580"/>
                        </a:lnTo>
                        <a:lnTo>
                          <a:pt x="0" y="580"/>
                        </a:lnTo>
                        <a:lnTo>
                          <a:pt x="0" y="591"/>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Freeform 944"/>
                  <p:cNvSpPr/>
                  <p:nvPr/>
                </p:nvSpPr>
                <p:spPr>
                  <a:xfrm rot="111600">
                    <a:off x="1136160" y="741240"/>
                    <a:ext cx="52200" cy="96120"/>
                  </a:xfrm>
                  <a:custGeom>
                    <a:avLst/>
                    <a:gdLst>
                      <a:gd name="textAreaLeft" fmla="*/ 0 w 52200"/>
                      <a:gd name="textAreaRight" fmla="*/ 52560 w 52200"/>
                      <a:gd name="textAreaTop" fmla="*/ 0 h 96120"/>
                      <a:gd name="textAreaBottom" fmla="*/ 96480 h 96120"/>
                    </a:gdLst>
                    <a:ahLst/>
                    <a:rect l="textAreaLeft" t="textAreaTop" r="textAreaRight" b="textAreaBottom"/>
                    <a:pathLst>
                      <a:path w="535" h="724">
                        <a:moveTo>
                          <a:pt x="22" y="11"/>
                        </a:moveTo>
                        <a:lnTo>
                          <a:pt x="11" y="11"/>
                        </a:lnTo>
                        <a:lnTo>
                          <a:pt x="0" y="78"/>
                        </a:lnTo>
                        <a:lnTo>
                          <a:pt x="0" y="144"/>
                        </a:lnTo>
                        <a:lnTo>
                          <a:pt x="0" y="211"/>
                        </a:lnTo>
                        <a:lnTo>
                          <a:pt x="11" y="278"/>
                        </a:lnTo>
                        <a:lnTo>
                          <a:pt x="22" y="334"/>
                        </a:lnTo>
                        <a:lnTo>
                          <a:pt x="44" y="401"/>
                        </a:lnTo>
                        <a:lnTo>
                          <a:pt x="66" y="457"/>
                        </a:lnTo>
                        <a:lnTo>
                          <a:pt x="100" y="501"/>
                        </a:lnTo>
                        <a:lnTo>
                          <a:pt x="133" y="546"/>
                        </a:lnTo>
                        <a:lnTo>
                          <a:pt x="178" y="590"/>
                        </a:lnTo>
                        <a:lnTo>
                          <a:pt x="222" y="624"/>
                        </a:lnTo>
                        <a:lnTo>
                          <a:pt x="278" y="657"/>
                        </a:lnTo>
                        <a:lnTo>
                          <a:pt x="334" y="691"/>
                        </a:lnTo>
                        <a:lnTo>
                          <a:pt x="390" y="702"/>
                        </a:lnTo>
                        <a:lnTo>
                          <a:pt x="456" y="724"/>
                        </a:lnTo>
                        <a:lnTo>
                          <a:pt x="535" y="724"/>
                        </a:lnTo>
                        <a:lnTo>
                          <a:pt x="535" y="713"/>
                        </a:lnTo>
                        <a:lnTo>
                          <a:pt x="456" y="702"/>
                        </a:lnTo>
                        <a:lnTo>
                          <a:pt x="401" y="691"/>
                        </a:lnTo>
                        <a:lnTo>
                          <a:pt x="334" y="668"/>
                        </a:lnTo>
                        <a:lnTo>
                          <a:pt x="278" y="646"/>
                        </a:lnTo>
                        <a:lnTo>
                          <a:pt x="234" y="613"/>
                        </a:lnTo>
                        <a:lnTo>
                          <a:pt x="189" y="579"/>
                        </a:lnTo>
                        <a:lnTo>
                          <a:pt x="144" y="535"/>
                        </a:lnTo>
                        <a:lnTo>
                          <a:pt x="111" y="490"/>
                        </a:lnTo>
                        <a:lnTo>
                          <a:pt x="89" y="445"/>
                        </a:lnTo>
                        <a:lnTo>
                          <a:pt x="55" y="390"/>
                        </a:lnTo>
                        <a:lnTo>
                          <a:pt x="44" y="334"/>
                        </a:lnTo>
                        <a:lnTo>
                          <a:pt x="22" y="278"/>
                        </a:lnTo>
                        <a:lnTo>
                          <a:pt x="22" y="211"/>
                        </a:lnTo>
                        <a:lnTo>
                          <a:pt x="11" y="144"/>
                        </a:lnTo>
                        <a:lnTo>
                          <a:pt x="22" y="78"/>
                        </a:lnTo>
                        <a:lnTo>
                          <a:pt x="22" y="11"/>
                        </a:lnTo>
                        <a:lnTo>
                          <a:pt x="22" y="0"/>
                        </a:lnTo>
                        <a:lnTo>
                          <a:pt x="22"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943"/>
                  <p:cNvSpPr/>
                  <p:nvPr/>
                </p:nvSpPr>
                <p:spPr>
                  <a:xfrm rot="111600">
                    <a:off x="1116360" y="691200"/>
                    <a:ext cx="23760" cy="50400"/>
                  </a:xfrm>
                  <a:custGeom>
                    <a:avLst/>
                    <a:gdLst>
                      <a:gd name="textAreaLeft" fmla="*/ 0 w 23760"/>
                      <a:gd name="textAreaRight" fmla="*/ 24120 w 23760"/>
                      <a:gd name="textAreaTop" fmla="*/ 0 h 50400"/>
                      <a:gd name="textAreaBottom" fmla="*/ 50760 h 50400"/>
                    </a:gdLst>
                    <a:ahLst/>
                    <a:rect l="textAreaLeft" t="textAreaTop" r="textAreaRight" b="textAreaBottom"/>
                    <a:pathLst>
                      <a:path w="245" h="379">
                        <a:moveTo>
                          <a:pt x="67" y="0"/>
                        </a:moveTo>
                        <a:lnTo>
                          <a:pt x="67" y="0"/>
                        </a:lnTo>
                        <a:lnTo>
                          <a:pt x="44" y="22"/>
                        </a:lnTo>
                        <a:lnTo>
                          <a:pt x="22" y="56"/>
                        </a:lnTo>
                        <a:lnTo>
                          <a:pt x="11" y="89"/>
                        </a:lnTo>
                        <a:lnTo>
                          <a:pt x="0" y="122"/>
                        </a:lnTo>
                        <a:lnTo>
                          <a:pt x="0" y="156"/>
                        </a:lnTo>
                        <a:lnTo>
                          <a:pt x="11" y="189"/>
                        </a:lnTo>
                        <a:lnTo>
                          <a:pt x="11" y="223"/>
                        </a:lnTo>
                        <a:lnTo>
                          <a:pt x="22" y="245"/>
                        </a:lnTo>
                        <a:lnTo>
                          <a:pt x="44" y="278"/>
                        </a:lnTo>
                        <a:lnTo>
                          <a:pt x="67" y="301"/>
                        </a:lnTo>
                        <a:lnTo>
                          <a:pt x="89" y="334"/>
                        </a:lnTo>
                        <a:lnTo>
                          <a:pt x="111" y="345"/>
                        </a:lnTo>
                        <a:lnTo>
                          <a:pt x="145" y="368"/>
                        </a:lnTo>
                        <a:lnTo>
                          <a:pt x="178" y="379"/>
                        </a:lnTo>
                        <a:lnTo>
                          <a:pt x="211" y="379"/>
                        </a:lnTo>
                        <a:lnTo>
                          <a:pt x="245" y="379"/>
                        </a:lnTo>
                        <a:lnTo>
                          <a:pt x="245" y="368"/>
                        </a:lnTo>
                        <a:lnTo>
                          <a:pt x="211" y="368"/>
                        </a:lnTo>
                        <a:lnTo>
                          <a:pt x="178" y="368"/>
                        </a:lnTo>
                        <a:lnTo>
                          <a:pt x="145" y="356"/>
                        </a:lnTo>
                        <a:lnTo>
                          <a:pt x="122" y="334"/>
                        </a:lnTo>
                        <a:lnTo>
                          <a:pt x="100" y="323"/>
                        </a:lnTo>
                        <a:lnTo>
                          <a:pt x="78" y="301"/>
                        </a:lnTo>
                        <a:lnTo>
                          <a:pt x="55" y="267"/>
                        </a:lnTo>
                        <a:lnTo>
                          <a:pt x="44" y="245"/>
                        </a:lnTo>
                        <a:lnTo>
                          <a:pt x="22" y="212"/>
                        </a:lnTo>
                        <a:lnTo>
                          <a:pt x="22" y="189"/>
                        </a:lnTo>
                        <a:lnTo>
                          <a:pt x="11" y="156"/>
                        </a:lnTo>
                        <a:lnTo>
                          <a:pt x="11" y="122"/>
                        </a:lnTo>
                        <a:lnTo>
                          <a:pt x="22" y="89"/>
                        </a:lnTo>
                        <a:lnTo>
                          <a:pt x="33" y="67"/>
                        </a:lnTo>
                        <a:lnTo>
                          <a:pt x="55" y="33"/>
                        </a:lnTo>
                        <a:lnTo>
                          <a:pt x="78" y="11"/>
                        </a:lnTo>
                        <a:lnTo>
                          <a:pt x="67" y="0"/>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942"/>
                  <p:cNvSpPr/>
                  <p:nvPr/>
                </p:nvSpPr>
                <p:spPr>
                  <a:xfrm rot="111600">
                    <a:off x="1124280" y="688680"/>
                    <a:ext cx="23760" cy="4320"/>
                  </a:xfrm>
                  <a:custGeom>
                    <a:avLst/>
                    <a:gdLst>
                      <a:gd name="textAreaLeft" fmla="*/ 0 w 23760"/>
                      <a:gd name="textAreaRight" fmla="*/ 24120 w 23760"/>
                      <a:gd name="textAreaTop" fmla="*/ 0 h 4320"/>
                      <a:gd name="textAreaBottom" fmla="*/ 4680 h 4320"/>
                    </a:gdLst>
                    <a:ahLst/>
                    <a:rect l="textAreaLeft" t="textAreaTop" r="textAreaRight" b="textAreaBottom"/>
                    <a:pathLst>
                      <a:path w="245" h="34">
                        <a:moveTo>
                          <a:pt x="234" y="23"/>
                        </a:moveTo>
                        <a:lnTo>
                          <a:pt x="234" y="23"/>
                        </a:lnTo>
                        <a:lnTo>
                          <a:pt x="222" y="23"/>
                        </a:lnTo>
                        <a:lnTo>
                          <a:pt x="200" y="12"/>
                        </a:lnTo>
                        <a:lnTo>
                          <a:pt x="189" y="12"/>
                        </a:lnTo>
                        <a:lnTo>
                          <a:pt x="167" y="12"/>
                        </a:lnTo>
                        <a:lnTo>
                          <a:pt x="156" y="12"/>
                        </a:lnTo>
                        <a:lnTo>
                          <a:pt x="133" y="0"/>
                        </a:lnTo>
                        <a:lnTo>
                          <a:pt x="122" y="0"/>
                        </a:lnTo>
                        <a:lnTo>
                          <a:pt x="111" y="0"/>
                        </a:lnTo>
                        <a:lnTo>
                          <a:pt x="89" y="0"/>
                        </a:lnTo>
                        <a:lnTo>
                          <a:pt x="78" y="0"/>
                        </a:lnTo>
                        <a:lnTo>
                          <a:pt x="66" y="0"/>
                        </a:lnTo>
                        <a:lnTo>
                          <a:pt x="55" y="0"/>
                        </a:lnTo>
                        <a:lnTo>
                          <a:pt x="33" y="0"/>
                        </a:lnTo>
                        <a:lnTo>
                          <a:pt x="22" y="12"/>
                        </a:lnTo>
                        <a:lnTo>
                          <a:pt x="11" y="12"/>
                        </a:lnTo>
                        <a:lnTo>
                          <a:pt x="0" y="23"/>
                        </a:lnTo>
                        <a:lnTo>
                          <a:pt x="11" y="34"/>
                        </a:lnTo>
                        <a:lnTo>
                          <a:pt x="22" y="23"/>
                        </a:lnTo>
                        <a:lnTo>
                          <a:pt x="33" y="23"/>
                        </a:lnTo>
                        <a:lnTo>
                          <a:pt x="44" y="23"/>
                        </a:lnTo>
                        <a:lnTo>
                          <a:pt x="55" y="12"/>
                        </a:lnTo>
                        <a:lnTo>
                          <a:pt x="66" y="12"/>
                        </a:lnTo>
                        <a:lnTo>
                          <a:pt x="78" y="12"/>
                        </a:lnTo>
                        <a:lnTo>
                          <a:pt x="89" y="12"/>
                        </a:lnTo>
                        <a:lnTo>
                          <a:pt x="111" y="12"/>
                        </a:lnTo>
                        <a:lnTo>
                          <a:pt x="122" y="12"/>
                        </a:lnTo>
                        <a:lnTo>
                          <a:pt x="133" y="23"/>
                        </a:lnTo>
                        <a:lnTo>
                          <a:pt x="156" y="23"/>
                        </a:lnTo>
                        <a:lnTo>
                          <a:pt x="167" y="23"/>
                        </a:lnTo>
                        <a:lnTo>
                          <a:pt x="189" y="23"/>
                        </a:lnTo>
                        <a:lnTo>
                          <a:pt x="200" y="34"/>
                        </a:lnTo>
                        <a:lnTo>
                          <a:pt x="222" y="34"/>
                        </a:lnTo>
                        <a:lnTo>
                          <a:pt x="234" y="34"/>
                        </a:lnTo>
                        <a:lnTo>
                          <a:pt x="245" y="34"/>
                        </a:lnTo>
                        <a:lnTo>
                          <a:pt x="234" y="23"/>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Freeform 941"/>
                  <p:cNvSpPr/>
                  <p:nvPr/>
                </p:nvSpPr>
                <p:spPr>
                  <a:xfrm rot="111600">
                    <a:off x="1147680" y="642240"/>
                    <a:ext cx="46800" cy="51840"/>
                  </a:xfrm>
                  <a:custGeom>
                    <a:avLst/>
                    <a:gdLst>
                      <a:gd name="textAreaLeft" fmla="*/ 0 w 46800"/>
                      <a:gd name="textAreaRight" fmla="*/ 47160 w 46800"/>
                      <a:gd name="textAreaTop" fmla="*/ 0 h 51840"/>
                      <a:gd name="textAreaBottom" fmla="*/ 52200 h 51840"/>
                    </a:gdLst>
                    <a:ahLst/>
                    <a:rect l="textAreaLeft" t="textAreaTop" r="textAreaRight" b="textAreaBottom"/>
                    <a:pathLst>
                      <a:path w="479" h="390">
                        <a:moveTo>
                          <a:pt x="479" y="0"/>
                        </a:moveTo>
                        <a:lnTo>
                          <a:pt x="479" y="0"/>
                        </a:lnTo>
                        <a:lnTo>
                          <a:pt x="445" y="0"/>
                        </a:lnTo>
                        <a:lnTo>
                          <a:pt x="401" y="11"/>
                        </a:lnTo>
                        <a:lnTo>
                          <a:pt x="367" y="22"/>
                        </a:lnTo>
                        <a:lnTo>
                          <a:pt x="323" y="44"/>
                        </a:lnTo>
                        <a:lnTo>
                          <a:pt x="289" y="67"/>
                        </a:lnTo>
                        <a:lnTo>
                          <a:pt x="256" y="100"/>
                        </a:lnTo>
                        <a:lnTo>
                          <a:pt x="222" y="134"/>
                        </a:lnTo>
                        <a:lnTo>
                          <a:pt x="189" y="156"/>
                        </a:lnTo>
                        <a:lnTo>
                          <a:pt x="156" y="189"/>
                        </a:lnTo>
                        <a:lnTo>
                          <a:pt x="122" y="223"/>
                        </a:lnTo>
                        <a:lnTo>
                          <a:pt x="100" y="256"/>
                        </a:lnTo>
                        <a:lnTo>
                          <a:pt x="66" y="290"/>
                        </a:lnTo>
                        <a:lnTo>
                          <a:pt x="44" y="312"/>
                        </a:lnTo>
                        <a:lnTo>
                          <a:pt x="33" y="345"/>
                        </a:lnTo>
                        <a:lnTo>
                          <a:pt x="11" y="356"/>
                        </a:lnTo>
                        <a:lnTo>
                          <a:pt x="0" y="379"/>
                        </a:lnTo>
                        <a:lnTo>
                          <a:pt x="11" y="390"/>
                        </a:lnTo>
                        <a:lnTo>
                          <a:pt x="22" y="368"/>
                        </a:lnTo>
                        <a:lnTo>
                          <a:pt x="44" y="345"/>
                        </a:lnTo>
                        <a:lnTo>
                          <a:pt x="55" y="323"/>
                        </a:lnTo>
                        <a:lnTo>
                          <a:pt x="78" y="301"/>
                        </a:lnTo>
                        <a:lnTo>
                          <a:pt x="111" y="267"/>
                        </a:lnTo>
                        <a:lnTo>
                          <a:pt x="133" y="234"/>
                        </a:lnTo>
                        <a:lnTo>
                          <a:pt x="167" y="200"/>
                        </a:lnTo>
                        <a:lnTo>
                          <a:pt x="200" y="167"/>
                        </a:lnTo>
                        <a:lnTo>
                          <a:pt x="222" y="145"/>
                        </a:lnTo>
                        <a:lnTo>
                          <a:pt x="256" y="111"/>
                        </a:lnTo>
                        <a:lnTo>
                          <a:pt x="300" y="78"/>
                        </a:lnTo>
                        <a:lnTo>
                          <a:pt x="334" y="56"/>
                        </a:lnTo>
                        <a:lnTo>
                          <a:pt x="367" y="33"/>
                        </a:lnTo>
                        <a:lnTo>
                          <a:pt x="412" y="22"/>
                        </a:lnTo>
                        <a:lnTo>
                          <a:pt x="445" y="11"/>
                        </a:lnTo>
                        <a:lnTo>
                          <a:pt x="479" y="11"/>
                        </a:lnTo>
                        <a:lnTo>
                          <a:pt x="479" y="0"/>
                        </a:lnTo>
                        <a:close/>
                      </a:path>
                    </a:pathLst>
                  </a:custGeom>
                  <a:solidFill>
                    <a:srgbClr val="0000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940"/>
                  <p:cNvSpPr/>
                  <p:nvPr/>
                </p:nvSpPr>
                <p:spPr>
                  <a:xfrm rot="111600">
                    <a:off x="1171800" y="76680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22" y="11"/>
                        </a:moveTo>
                        <a:lnTo>
                          <a:pt x="11" y="11"/>
                        </a:lnTo>
                        <a:lnTo>
                          <a:pt x="11" y="0"/>
                        </a:lnTo>
                        <a:lnTo>
                          <a:pt x="11" y="11"/>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939"/>
                  <p:cNvSpPr/>
                  <p:nvPr/>
                </p:nvSpPr>
                <p:spPr>
                  <a:xfrm rot="111600">
                    <a:off x="1159560" y="767880"/>
                    <a:ext cx="14040" cy="13320"/>
                  </a:xfrm>
                  <a:custGeom>
                    <a:avLst/>
                    <a:gdLst>
                      <a:gd name="textAreaLeft" fmla="*/ 0 w 14040"/>
                      <a:gd name="textAreaRight" fmla="*/ 14400 w 14040"/>
                      <a:gd name="textAreaTop" fmla="*/ 0 h 13320"/>
                      <a:gd name="textAreaBottom" fmla="*/ 13680 h 13320"/>
                    </a:gdLst>
                    <a:ahLst/>
                    <a:rect l="textAreaLeft" t="textAreaTop" r="textAreaRight" b="textAreaBottom"/>
                    <a:pathLst>
                      <a:path w="144" h="101">
                        <a:moveTo>
                          <a:pt x="0" y="101"/>
                        </a:moveTo>
                        <a:lnTo>
                          <a:pt x="22" y="101"/>
                        </a:lnTo>
                        <a:lnTo>
                          <a:pt x="44" y="89"/>
                        </a:lnTo>
                        <a:lnTo>
                          <a:pt x="66" y="89"/>
                        </a:lnTo>
                        <a:lnTo>
                          <a:pt x="89" y="78"/>
                        </a:lnTo>
                        <a:lnTo>
                          <a:pt x="100" y="67"/>
                        </a:lnTo>
                        <a:lnTo>
                          <a:pt x="122" y="45"/>
                        </a:lnTo>
                        <a:lnTo>
                          <a:pt x="133" y="22"/>
                        </a:lnTo>
                        <a:lnTo>
                          <a:pt x="144" y="0"/>
                        </a:lnTo>
                        <a:lnTo>
                          <a:pt x="122" y="0"/>
                        </a:lnTo>
                        <a:lnTo>
                          <a:pt x="122" y="22"/>
                        </a:lnTo>
                        <a:lnTo>
                          <a:pt x="111" y="34"/>
                        </a:lnTo>
                        <a:lnTo>
                          <a:pt x="89" y="56"/>
                        </a:lnTo>
                        <a:lnTo>
                          <a:pt x="78" y="67"/>
                        </a:lnTo>
                        <a:lnTo>
                          <a:pt x="55" y="67"/>
                        </a:lnTo>
                        <a:lnTo>
                          <a:pt x="44" y="78"/>
                        </a:lnTo>
                        <a:lnTo>
                          <a:pt x="22" y="78"/>
                        </a:lnTo>
                        <a:lnTo>
                          <a:pt x="0" y="89"/>
                        </a:lnTo>
                        <a:lnTo>
                          <a:pt x="0" y="101"/>
                        </a:lnTo>
                        <a:close/>
                      </a:path>
                    </a:pathLst>
                  </a:custGeom>
                  <a:solidFill>
                    <a:srgbClr val="000000"/>
                  </a:solidFill>
                  <a:ln w="0">
                    <a:no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938"/>
                  <p:cNvSpPr/>
                  <p:nvPr/>
                </p:nvSpPr>
                <p:spPr>
                  <a:xfrm rot="111600">
                    <a:off x="1171800" y="766800"/>
                    <a:ext cx="1080" cy="2880"/>
                  </a:xfrm>
                  <a:custGeom>
                    <a:avLst/>
                    <a:gdLst>
                      <a:gd name="textAreaLeft" fmla="*/ 0 w 1080"/>
                      <a:gd name="textAreaRight" fmla="*/ 1440 w 1080"/>
                      <a:gd name="textAreaTop" fmla="*/ 0 h 2880"/>
                      <a:gd name="textAreaBottom" fmla="*/ 3240 h 2880"/>
                    </a:gdLst>
                    <a:ahLst/>
                    <a:rect l="textAreaLeft" t="textAreaTop" r="textAreaRight" b="textAreaBottom"/>
                    <a:pathLst>
                      <a:path w="11" h="22">
                        <a:moveTo>
                          <a:pt x="11" y="0"/>
                        </a:moveTo>
                        <a:lnTo>
                          <a:pt x="11" y="11"/>
                        </a:lnTo>
                        <a:lnTo>
                          <a:pt x="0" y="11"/>
                        </a:lnTo>
                        <a:lnTo>
                          <a:pt x="11" y="11"/>
                        </a:lnTo>
                        <a:lnTo>
                          <a:pt x="11" y="22"/>
                        </a:lnTo>
                        <a:lnTo>
                          <a:pt x="11"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937"/>
                  <p:cNvSpPr/>
                  <p:nvPr/>
                </p:nvSpPr>
                <p:spPr>
                  <a:xfrm rot="111600">
                    <a:off x="1215000" y="771120"/>
                    <a:ext cx="1800" cy="360"/>
                  </a:xfrm>
                  <a:custGeom>
                    <a:avLst/>
                    <a:gdLst>
                      <a:gd name="textAreaLeft" fmla="*/ 0 w 1800"/>
                      <a:gd name="textAreaRight" fmla="*/ 2160 w 1800"/>
                      <a:gd name="textAreaTop" fmla="*/ 0 h 360"/>
                      <a:gd name="textAreaBottom" fmla="*/ 720 h 360"/>
                    </a:gdLst>
                    <a:ahLst/>
                    <a:rect l="textAreaLeft" t="textAreaTop" r="textAreaRight" b="textAreaBottom"/>
                    <a:pathLst>
                      <a:path w="22" h="1">
                        <a:moveTo>
                          <a:pt x="22" y="0"/>
                        </a:moveTo>
                        <a:lnTo>
                          <a:pt x="11" y="0"/>
                        </a:lnTo>
                        <a:lnTo>
                          <a:pt x="0" y="0"/>
                        </a:lnTo>
                        <a:lnTo>
                          <a:pt x="22"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936"/>
                  <p:cNvSpPr/>
                  <p:nvPr/>
                </p:nvSpPr>
                <p:spPr>
                  <a:xfrm rot="111600">
                    <a:off x="1215000" y="771120"/>
                    <a:ext cx="14040" cy="14760"/>
                  </a:xfrm>
                  <a:custGeom>
                    <a:avLst/>
                    <a:gdLst>
                      <a:gd name="textAreaLeft" fmla="*/ 0 w 14040"/>
                      <a:gd name="textAreaRight" fmla="*/ 14400 w 14040"/>
                      <a:gd name="textAreaTop" fmla="*/ 0 h 14760"/>
                      <a:gd name="textAreaBottom" fmla="*/ 15120 h 14760"/>
                    </a:gdLst>
                    <a:ahLst/>
                    <a:rect l="textAreaLeft" t="textAreaTop" r="textAreaRight" b="textAreaBottom"/>
                    <a:pathLst>
                      <a:path w="145" h="112">
                        <a:moveTo>
                          <a:pt x="145" y="101"/>
                        </a:moveTo>
                        <a:lnTo>
                          <a:pt x="111" y="101"/>
                        </a:lnTo>
                        <a:lnTo>
                          <a:pt x="89" y="101"/>
                        </a:lnTo>
                        <a:lnTo>
                          <a:pt x="67" y="90"/>
                        </a:lnTo>
                        <a:lnTo>
                          <a:pt x="45" y="90"/>
                        </a:lnTo>
                        <a:lnTo>
                          <a:pt x="33" y="78"/>
                        </a:lnTo>
                        <a:lnTo>
                          <a:pt x="22" y="56"/>
                        </a:lnTo>
                        <a:lnTo>
                          <a:pt x="22" y="34"/>
                        </a:lnTo>
                        <a:lnTo>
                          <a:pt x="22" y="0"/>
                        </a:lnTo>
                        <a:lnTo>
                          <a:pt x="0" y="0"/>
                        </a:lnTo>
                        <a:lnTo>
                          <a:pt x="11" y="34"/>
                        </a:lnTo>
                        <a:lnTo>
                          <a:pt x="11" y="67"/>
                        </a:lnTo>
                        <a:lnTo>
                          <a:pt x="22" y="90"/>
                        </a:lnTo>
                        <a:lnTo>
                          <a:pt x="45" y="101"/>
                        </a:lnTo>
                        <a:lnTo>
                          <a:pt x="67" y="112"/>
                        </a:lnTo>
                        <a:lnTo>
                          <a:pt x="89" y="112"/>
                        </a:lnTo>
                        <a:lnTo>
                          <a:pt x="111" y="112"/>
                        </a:lnTo>
                        <a:lnTo>
                          <a:pt x="145" y="112"/>
                        </a:lnTo>
                        <a:lnTo>
                          <a:pt x="145" y="101"/>
                        </a:lnTo>
                        <a:close/>
                      </a:path>
                    </a:pathLst>
                  </a:custGeom>
                  <a:solidFill>
                    <a:srgbClr val="000000"/>
                  </a:solidFill>
                  <a:ln w="0">
                    <a:noFill/>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935"/>
                  <p:cNvSpPr/>
                  <p:nvPr/>
                </p:nvSpPr>
                <p:spPr>
                  <a:xfrm rot="111600">
                    <a:off x="1216080" y="771120"/>
                    <a:ext cx="720" cy="1440"/>
                  </a:xfrm>
                  <a:custGeom>
                    <a:avLst/>
                    <a:gdLst>
                      <a:gd name="textAreaLeft" fmla="*/ 0 w 720"/>
                      <a:gd name="textAreaRight" fmla="*/ 1080 w 720"/>
                      <a:gd name="textAreaTop" fmla="*/ 0 h 1440"/>
                      <a:gd name="textAreaBottom" fmla="*/ 1800 h 1440"/>
                    </a:gdLst>
                    <a:ahLst/>
                    <a:rect l="textAreaLeft" t="textAreaTop" r="textAreaRight" b="textAreaBottom"/>
                    <a:pathLst>
                      <a:path w="11" h="11">
                        <a:moveTo>
                          <a:pt x="0" y="11"/>
                        </a:moveTo>
                        <a:lnTo>
                          <a:pt x="0" y="0"/>
                        </a:lnTo>
                        <a:lnTo>
                          <a:pt x="11" y="0"/>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934"/>
                  <p:cNvSpPr/>
                  <p:nvPr/>
                </p:nvSpPr>
                <p:spPr>
                  <a:xfrm rot="111600">
                    <a:off x="1182600" y="693000"/>
                    <a:ext cx="3240" cy="2880"/>
                  </a:xfrm>
                  <a:custGeom>
                    <a:avLst/>
                    <a:gdLst>
                      <a:gd name="textAreaLeft" fmla="*/ 0 w 3240"/>
                      <a:gd name="textAreaRight" fmla="*/ 3600 w 3240"/>
                      <a:gd name="textAreaTop" fmla="*/ 0 h 2880"/>
                      <a:gd name="textAreaBottom" fmla="*/ 3240 h 2880"/>
                    </a:gdLst>
                    <a:ahLst/>
                    <a:rect l="textAreaLeft" t="textAreaTop" r="textAreaRight" b="textAreaBottom"/>
                    <a:pathLst>
                      <a:path w="34" h="22">
                        <a:moveTo>
                          <a:pt x="34" y="22"/>
                        </a:moveTo>
                        <a:lnTo>
                          <a:pt x="34" y="0"/>
                        </a:lnTo>
                        <a:lnTo>
                          <a:pt x="11" y="0"/>
                        </a:lnTo>
                        <a:lnTo>
                          <a:pt x="0" y="0"/>
                        </a:lnTo>
                        <a:lnTo>
                          <a:pt x="0" y="22"/>
                        </a:lnTo>
                        <a:lnTo>
                          <a:pt x="34" y="22"/>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933"/>
                  <p:cNvSpPr/>
                  <p:nvPr/>
                </p:nvSpPr>
                <p:spPr>
                  <a:xfrm rot="111600">
                    <a:off x="1179360" y="695880"/>
                    <a:ext cx="6480" cy="12960"/>
                  </a:xfrm>
                  <a:custGeom>
                    <a:avLst/>
                    <a:gdLst>
                      <a:gd name="textAreaLeft" fmla="*/ 0 w 6480"/>
                      <a:gd name="textAreaRight" fmla="*/ 6840 w 6480"/>
                      <a:gd name="textAreaTop" fmla="*/ 0 h 12960"/>
                      <a:gd name="textAreaBottom" fmla="*/ 13320 h 12960"/>
                    </a:gdLst>
                    <a:ahLst/>
                    <a:rect l="textAreaLeft" t="textAreaTop" r="textAreaRight" b="textAreaBottom"/>
                    <a:pathLst>
                      <a:path w="67" h="100">
                        <a:moveTo>
                          <a:pt x="44" y="100"/>
                        </a:moveTo>
                        <a:lnTo>
                          <a:pt x="44" y="78"/>
                        </a:lnTo>
                        <a:lnTo>
                          <a:pt x="56" y="56"/>
                        </a:lnTo>
                        <a:lnTo>
                          <a:pt x="67" y="22"/>
                        </a:lnTo>
                        <a:lnTo>
                          <a:pt x="67" y="0"/>
                        </a:lnTo>
                        <a:lnTo>
                          <a:pt x="33" y="0"/>
                        </a:lnTo>
                        <a:lnTo>
                          <a:pt x="22" y="22"/>
                        </a:lnTo>
                        <a:lnTo>
                          <a:pt x="22" y="45"/>
                        </a:lnTo>
                        <a:lnTo>
                          <a:pt x="11" y="67"/>
                        </a:lnTo>
                        <a:lnTo>
                          <a:pt x="0" y="100"/>
                        </a:lnTo>
                        <a:lnTo>
                          <a:pt x="44" y="10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932"/>
                  <p:cNvSpPr/>
                  <p:nvPr/>
                </p:nvSpPr>
                <p:spPr>
                  <a:xfrm rot="111600">
                    <a:off x="1182600" y="695880"/>
                    <a:ext cx="3240" cy="1440"/>
                  </a:xfrm>
                  <a:custGeom>
                    <a:avLst/>
                    <a:gdLst>
                      <a:gd name="textAreaLeft" fmla="*/ 0 w 3240"/>
                      <a:gd name="textAreaRight" fmla="*/ 3600 w 3240"/>
                      <a:gd name="textAreaTop" fmla="*/ 0 h 1440"/>
                      <a:gd name="textAreaBottom" fmla="*/ 1800 h 1440"/>
                    </a:gdLst>
                    <a:ahLst/>
                    <a:rect l="textAreaLeft" t="textAreaTop" r="textAreaRight" b="textAreaBottom"/>
                    <a:pathLst>
                      <a:path w="34" h="11">
                        <a:moveTo>
                          <a:pt x="0" y="0"/>
                        </a:moveTo>
                        <a:lnTo>
                          <a:pt x="0" y="11"/>
                        </a:lnTo>
                        <a:lnTo>
                          <a:pt x="11" y="11"/>
                        </a:lnTo>
                        <a:lnTo>
                          <a:pt x="34" y="11"/>
                        </a:lnTo>
                        <a:lnTo>
                          <a:pt x="34"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931"/>
                  <p:cNvSpPr/>
                  <p:nvPr/>
                </p:nvSpPr>
                <p:spPr>
                  <a:xfrm rot="111600">
                    <a:off x="1209960" y="69696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33" h="22">
                        <a:moveTo>
                          <a:pt x="33" y="11"/>
                        </a:moveTo>
                        <a:lnTo>
                          <a:pt x="22" y="11"/>
                        </a:lnTo>
                        <a:lnTo>
                          <a:pt x="22" y="0"/>
                        </a:lnTo>
                        <a:lnTo>
                          <a:pt x="11" y="0"/>
                        </a:lnTo>
                        <a:lnTo>
                          <a:pt x="0" y="0"/>
                        </a:lnTo>
                        <a:lnTo>
                          <a:pt x="0" y="11"/>
                        </a:lnTo>
                        <a:lnTo>
                          <a:pt x="0" y="22"/>
                        </a:lnTo>
                        <a:lnTo>
                          <a:pt x="33"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930"/>
                  <p:cNvSpPr/>
                  <p:nvPr/>
                </p:nvSpPr>
                <p:spPr>
                  <a:xfrm rot="111600">
                    <a:off x="1209960" y="698760"/>
                    <a:ext cx="6480" cy="16200"/>
                  </a:xfrm>
                  <a:custGeom>
                    <a:avLst/>
                    <a:gdLst>
                      <a:gd name="textAreaLeft" fmla="*/ 0 w 6480"/>
                      <a:gd name="textAreaRight" fmla="*/ 6840 w 6480"/>
                      <a:gd name="textAreaTop" fmla="*/ 0 h 16200"/>
                      <a:gd name="textAreaBottom" fmla="*/ 16560 h 16200"/>
                    </a:gdLst>
                    <a:ahLst/>
                    <a:rect l="textAreaLeft" t="textAreaTop" r="textAreaRight" b="textAreaBottom"/>
                    <a:pathLst>
                      <a:path w="67" h="123">
                        <a:moveTo>
                          <a:pt x="67" y="112"/>
                        </a:moveTo>
                        <a:lnTo>
                          <a:pt x="56" y="78"/>
                        </a:lnTo>
                        <a:lnTo>
                          <a:pt x="45" y="56"/>
                        </a:lnTo>
                        <a:lnTo>
                          <a:pt x="45" y="34"/>
                        </a:lnTo>
                        <a:lnTo>
                          <a:pt x="33" y="0"/>
                        </a:lnTo>
                        <a:lnTo>
                          <a:pt x="0" y="11"/>
                        </a:lnTo>
                        <a:lnTo>
                          <a:pt x="0" y="45"/>
                        </a:lnTo>
                        <a:lnTo>
                          <a:pt x="11" y="67"/>
                        </a:lnTo>
                        <a:lnTo>
                          <a:pt x="22" y="89"/>
                        </a:lnTo>
                        <a:lnTo>
                          <a:pt x="33" y="123"/>
                        </a:lnTo>
                        <a:lnTo>
                          <a:pt x="67" y="11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Freeform 929"/>
                  <p:cNvSpPr/>
                  <p:nvPr/>
                </p:nvSpPr>
                <p:spPr>
                  <a:xfrm rot="111600">
                    <a:off x="1209960" y="69876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33" h="23">
                        <a:moveTo>
                          <a:pt x="0" y="11"/>
                        </a:moveTo>
                        <a:lnTo>
                          <a:pt x="0" y="23"/>
                        </a:lnTo>
                        <a:lnTo>
                          <a:pt x="11" y="23"/>
                        </a:lnTo>
                        <a:lnTo>
                          <a:pt x="22" y="23"/>
                        </a:lnTo>
                        <a:lnTo>
                          <a:pt x="33" y="11"/>
                        </a:lnTo>
                        <a:lnTo>
                          <a:pt x="33" y="0"/>
                        </a:lnTo>
                        <a:lnTo>
                          <a:pt x="0"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Freeform 928"/>
                  <p:cNvSpPr/>
                  <p:nvPr/>
                </p:nvSpPr>
                <p:spPr>
                  <a:xfrm rot="111600">
                    <a:off x="1206360" y="738360"/>
                    <a:ext cx="1080" cy="360"/>
                  </a:xfrm>
                  <a:custGeom>
                    <a:avLst/>
                    <a:gdLst>
                      <a:gd name="textAreaLeft" fmla="*/ 0 w 1080"/>
                      <a:gd name="textAreaRight" fmla="*/ 1440 w 1080"/>
                      <a:gd name="textAreaTop" fmla="*/ 0 h 360"/>
                      <a:gd name="textAreaBottom" fmla="*/ 720 h 360"/>
                    </a:gdLst>
                    <a:ahLst/>
                    <a:rect l="textAreaLeft" t="textAreaTop" r="textAreaRight" b="textAreaBottom"/>
                    <a:pathLst>
                      <a:path w="11" h="1">
                        <a:moveTo>
                          <a:pt x="0" y="0"/>
                        </a:moveTo>
                        <a:lnTo>
                          <a:pt x="0" y="0"/>
                        </a:lnTo>
                        <a:lnTo>
                          <a:pt x="11"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Freeform 927"/>
                  <p:cNvSpPr/>
                  <p:nvPr/>
                </p:nvSpPr>
                <p:spPr>
                  <a:xfrm rot="111600">
                    <a:off x="1197000" y="721800"/>
                    <a:ext cx="10800" cy="16200"/>
                  </a:xfrm>
                  <a:custGeom>
                    <a:avLst/>
                    <a:gdLst>
                      <a:gd name="textAreaLeft" fmla="*/ 0 w 10800"/>
                      <a:gd name="textAreaRight" fmla="*/ 11160 w 10800"/>
                      <a:gd name="textAreaTop" fmla="*/ 0 h 16200"/>
                      <a:gd name="textAreaBottom" fmla="*/ 16560 h 16200"/>
                    </a:gdLst>
                    <a:ahLst/>
                    <a:rect l="textAreaLeft" t="textAreaTop" r="textAreaRight" b="textAreaBottom"/>
                    <a:pathLst>
                      <a:path w="112" h="122">
                        <a:moveTo>
                          <a:pt x="0" y="22"/>
                        </a:moveTo>
                        <a:lnTo>
                          <a:pt x="0" y="22"/>
                        </a:lnTo>
                        <a:lnTo>
                          <a:pt x="12" y="22"/>
                        </a:lnTo>
                        <a:lnTo>
                          <a:pt x="34" y="33"/>
                        </a:lnTo>
                        <a:lnTo>
                          <a:pt x="45" y="44"/>
                        </a:lnTo>
                        <a:lnTo>
                          <a:pt x="56" y="55"/>
                        </a:lnTo>
                        <a:lnTo>
                          <a:pt x="78" y="66"/>
                        </a:lnTo>
                        <a:lnTo>
                          <a:pt x="90" y="89"/>
                        </a:lnTo>
                        <a:lnTo>
                          <a:pt x="90" y="100"/>
                        </a:lnTo>
                        <a:lnTo>
                          <a:pt x="101" y="122"/>
                        </a:lnTo>
                        <a:lnTo>
                          <a:pt x="112" y="122"/>
                        </a:lnTo>
                        <a:lnTo>
                          <a:pt x="112" y="100"/>
                        </a:lnTo>
                        <a:lnTo>
                          <a:pt x="101" y="78"/>
                        </a:lnTo>
                        <a:lnTo>
                          <a:pt x="90" y="55"/>
                        </a:lnTo>
                        <a:lnTo>
                          <a:pt x="67" y="44"/>
                        </a:lnTo>
                        <a:lnTo>
                          <a:pt x="56" y="33"/>
                        </a:lnTo>
                        <a:lnTo>
                          <a:pt x="34" y="11"/>
                        </a:lnTo>
                        <a:lnTo>
                          <a:pt x="23" y="11"/>
                        </a:lnTo>
                        <a:lnTo>
                          <a:pt x="0" y="0"/>
                        </a:lnTo>
                        <a:lnTo>
                          <a:pt x="0" y="2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Freeform 926"/>
                  <p:cNvSpPr/>
                  <p:nvPr/>
                </p:nvSpPr>
                <p:spPr>
                  <a:xfrm rot="111600">
                    <a:off x="1182960" y="721440"/>
                    <a:ext cx="14040" cy="16200"/>
                  </a:xfrm>
                  <a:custGeom>
                    <a:avLst/>
                    <a:gdLst>
                      <a:gd name="textAreaLeft" fmla="*/ 0 w 14040"/>
                      <a:gd name="textAreaRight" fmla="*/ 14400 w 14040"/>
                      <a:gd name="textAreaTop" fmla="*/ 0 h 16200"/>
                      <a:gd name="textAreaBottom" fmla="*/ 16560 h 16200"/>
                    </a:gdLst>
                    <a:ahLst/>
                    <a:rect l="textAreaLeft" t="textAreaTop" r="textAreaRight" b="textAreaBottom"/>
                    <a:pathLst>
                      <a:path w="145" h="122">
                        <a:moveTo>
                          <a:pt x="12" y="122"/>
                        </a:moveTo>
                        <a:lnTo>
                          <a:pt x="23" y="100"/>
                        </a:lnTo>
                        <a:lnTo>
                          <a:pt x="34" y="89"/>
                        </a:lnTo>
                        <a:lnTo>
                          <a:pt x="45" y="66"/>
                        </a:lnTo>
                        <a:lnTo>
                          <a:pt x="56" y="44"/>
                        </a:lnTo>
                        <a:lnTo>
                          <a:pt x="79" y="33"/>
                        </a:lnTo>
                        <a:lnTo>
                          <a:pt x="101" y="22"/>
                        </a:lnTo>
                        <a:lnTo>
                          <a:pt x="123" y="22"/>
                        </a:lnTo>
                        <a:lnTo>
                          <a:pt x="145" y="22"/>
                        </a:lnTo>
                        <a:lnTo>
                          <a:pt x="145" y="0"/>
                        </a:lnTo>
                        <a:lnTo>
                          <a:pt x="123" y="0"/>
                        </a:lnTo>
                        <a:lnTo>
                          <a:pt x="90" y="11"/>
                        </a:lnTo>
                        <a:lnTo>
                          <a:pt x="67" y="22"/>
                        </a:lnTo>
                        <a:lnTo>
                          <a:pt x="56" y="33"/>
                        </a:lnTo>
                        <a:lnTo>
                          <a:pt x="34" y="55"/>
                        </a:lnTo>
                        <a:lnTo>
                          <a:pt x="23" y="78"/>
                        </a:lnTo>
                        <a:lnTo>
                          <a:pt x="0" y="100"/>
                        </a:lnTo>
                        <a:lnTo>
                          <a:pt x="0" y="122"/>
                        </a:lnTo>
                        <a:lnTo>
                          <a:pt x="12" y="12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Freeform 925"/>
                  <p:cNvSpPr/>
                  <p:nvPr/>
                </p:nvSpPr>
                <p:spPr>
                  <a:xfrm rot="111600">
                    <a:off x="1195920" y="723240"/>
                    <a:ext cx="1080" cy="360"/>
                  </a:xfrm>
                  <a:custGeom>
                    <a:avLst/>
                    <a:gdLst>
                      <a:gd name="textAreaLeft" fmla="*/ 0 w 1080"/>
                      <a:gd name="textAreaRight" fmla="*/ 1440 w 1080"/>
                      <a:gd name="textAreaTop" fmla="*/ 0 h 360"/>
                      <a:gd name="textAreaBottom" fmla="*/ 720 h 360"/>
                    </a:gdLst>
                    <a:ahLst/>
                    <a:rect l="textAreaLeft" t="textAreaTop" r="textAreaRight" b="textAreaBottom"/>
                    <a:pathLst>
                      <a:path w="11" h="1">
                        <a:moveTo>
                          <a:pt x="0" y="0"/>
                        </a:moveTo>
                        <a:lnTo>
                          <a:pt x="0" y="0"/>
                        </a:lnTo>
                        <a:lnTo>
                          <a:pt x="11"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Freeform 924"/>
                  <p:cNvSpPr/>
                  <p:nvPr/>
                </p:nvSpPr>
                <p:spPr>
                  <a:xfrm rot="111600">
                    <a:off x="1165680" y="77868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2" h="11">
                        <a:moveTo>
                          <a:pt x="12" y="0"/>
                        </a:moveTo>
                        <a:lnTo>
                          <a:pt x="0" y="0"/>
                        </a:lnTo>
                        <a:lnTo>
                          <a:pt x="0" y="11"/>
                        </a:lnTo>
                        <a:lnTo>
                          <a:pt x="12"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Freeform 923"/>
                  <p:cNvSpPr/>
                  <p:nvPr/>
                </p:nvSpPr>
                <p:spPr>
                  <a:xfrm rot="111600">
                    <a:off x="1165680" y="778680"/>
                    <a:ext cx="4320" cy="10080"/>
                  </a:xfrm>
                  <a:custGeom>
                    <a:avLst/>
                    <a:gdLst>
                      <a:gd name="textAreaLeft" fmla="*/ 0 w 4320"/>
                      <a:gd name="textAreaRight" fmla="*/ 4320 w 4320"/>
                      <a:gd name="textAreaTop" fmla="*/ 0 h 10080"/>
                      <a:gd name="textAreaBottom" fmla="*/ 10440 h 10080"/>
                    </a:gdLst>
                    <a:ahLst/>
                    <a:rect l="textAreaLeft" t="textAreaTop" r="textAreaRight" b="textAreaBottom"/>
                    <a:pathLst>
                      <a:path w="45" h="78">
                        <a:moveTo>
                          <a:pt x="45" y="67"/>
                        </a:moveTo>
                        <a:lnTo>
                          <a:pt x="45" y="67"/>
                        </a:lnTo>
                        <a:lnTo>
                          <a:pt x="34" y="56"/>
                        </a:lnTo>
                        <a:lnTo>
                          <a:pt x="34" y="34"/>
                        </a:lnTo>
                        <a:lnTo>
                          <a:pt x="23" y="11"/>
                        </a:lnTo>
                        <a:lnTo>
                          <a:pt x="12" y="0"/>
                        </a:lnTo>
                        <a:lnTo>
                          <a:pt x="0" y="11"/>
                        </a:lnTo>
                        <a:lnTo>
                          <a:pt x="12" y="23"/>
                        </a:lnTo>
                        <a:lnTo>
                          <a:pt x="23" y="45"/>
                        </a:lnTo>
                        <a:lnTo>
                          <a:pt x="23" y="56"/>
                        </a:lnTo>
                        <a:lnTo>
                          <a:pt x="34" y="78"/>
                        </a:lnTo>
                        <a:lnTo>
                          <a:pt x="45" y="67"/>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Freeform 922"/>
                  <p:cNvSpPr/>
                  <p:nvPr/>
                </p:nvSpPr>
                <p:spPr>
                  <a:xfrm rot="111600">
                    <a:off x="1168920" y="788040"/>
                    <a:ext cx="33480" cy="17640"/>
                  </a:xfrm>
                  <a:custGeom>
                    <a:avLst/>
                    <a:gdLst>
                      <a:gd name="textAreaLeft" fmla="*/ 0 w 33480"/>
                      <a:gd name="textAreaRight" fmla="*/ 33840 w 33480"/>
                      <a:gd name="textAreaTop" fmla="*/ 0 h 17640"/>
                      <a:gd name="textAreaBottom" fmla="*/ 18000 h 17640"/>
                    </a:gdLst>
                    <a:ahLst/>
                    <a:rect l="textAreaLeft" t="textAreaTop" r="textAreaRight" b="textAreaBottom"/>
                    <a:pathLst>
                      <a:path w="345" h="134">
                        <a:moveTo>
                          <a:pt x="345" y="100"/>
                        </a:moveTo>
                        <a:lnTo>
                          <a:pt x="345" y="100"/>
                        </a:lnTo>
                        <a:lnTo>
                          <a:pt x="323" y="112"/>
                        </a:lnTo>
                        <a:lnTo>
                          <a:pt x="290" y="123"/>
                        </a:lnTo>
                        <a:lnTo>
                          <a:pt x="267" y="123"/>
                        </a:lnTo>
                        <a:lnTo>
                          <a:pt x="245" y="123"/>
                        </a:lnTo>
                        <a:lnTo>
                          <a:pt x="223" y="123"/>
                        </a:lnTo>
                        <a:lnTo>
                          <a:pt x="201" y="123"/>
                        </a:lnTo>
                        <a:lnTo>
                          <a:pt x="178" y="112"/>
                        </a:lnTo>
                        <a:lnTo>
                          <a:pt x="156" y="112"/>
                        </a:lnTo>
                        <a:lnTo>
                          <a:pt x="145" y="100"/>
                        </a:lnTo>
                        <a:lnTo>
                          <a:pt x="122" y="89"/>
                        </a:lnTo>
                        <a:lnTo>
                          <a:pt x="100" y="78"/>
                        </a:lnTo>
                        <a:lnTo>
                          <a:pt x="78" y="67"/>
                        </a:lnTo>
                        <a:lnTo>
                          <a:pt x="67" y="56"/>
                        </a:lnTo>
                        <a:lnTo>
                          <a:pt x="44" y="45"/>
                        </a:lnTo>
                        <a:lnTo>
                          <a:pt x="33" y="22"/>
                        </a:lnTo>
                        <a:lnTo>
                          <a:pt x="11" y="0"/>
                        </a:lnTo>
                        <a:lnTo>
                          <a:pt x="0" y="11"/>
                        </a:lnTo>
                        <a:lnTo>
                          <a:pt x="22" y="34"/>
                        </a:lnTo>
                        <a:lnTo>
                          <a:pt x="33" y="56"/>
                        </a:lnTo>
                        <a:lnTo>
                          <a:pt x="56" y="67"/>
                        </a:lnTo>
                        <a:lnTo>
                          <a:pt x="78" y="78"/>
                        </a:lnTo>
                        <a:lnTo>
                          <a:pt x="89" y="100"/>
                        </a:lnTo>
                        <a:lnTo>
                          <a:pt x="111" y="112"/>
                        </a:lnTo>
                        <a:lnTo>
                          <a:pt x="134" y="112"/>
                        </a:lnTo>
                        <a:lnTo>
                          <a:pt x="156" y="123"/>
                        </a:lnTo>
                        <a:lnTo>
                          <a:pt x="178" y="134"/>
                        </a:lnTo>
                        <a:lnTo>
                          <a:pt x="201" y="134"/>
                        </a:lnTo>
                        <a:lnTo>
                          <a:pt x="223" y="134"/>
                        </a:lnTo>
                        <a:lnTo>
                          <a:pt x="245" y="134"/>
                        </a:lnTo>
                        <a:lnTo>
                          <a:pt x="267" y="134"/>
                        </a:lnTo>
                        <a:lnTo>
                          <a:pt x="301" y="134"/>
                        </a:lnTo>
                        <a:lnTo>
                          <a:pt x="323" y="123"/>
                        </a:lnTo>
                        <a:lnTo>
                          <a:pt x="345" y="112"/>
                        </a:lnTo>
                        <a:lnTo>
                          <a:pt x="345" y="100"/>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921"/>
                  <p:cNvSpPr/>
                  <p:nvPr/>
                </p:nvSpPr>
                <p:spPr>
                  <a:xfrm rot="111600">
                    <a:off x="1202400" y="783000"/>
                    <a:ext cx="16200" cy="20520"/>
                  </a:xfrm>
                  <a:custGeom>
                    <a:avLst/>
                    <a:gdLst>
                      <a:gd name="textAreaLeft" fmla="*/ 0 w 16200"/>
                      <a:gd name="textAreaRight" fmla="*/ 16560 w 16200"/>
                      <a:gd name="textAreaTop" fmla="*/ 0 h 20520"/>
                      <a:gd name="textAreaBottom" fmla="*/ 20880 h 20520"/>
                    </a:gdLst>
                    <a:ahLst/>
                    <a:rect l="textAreaLeft" t="textAreaTop" r="textAreaRight" b="textAreaBottom"/>
                    <a:pathLst>
                      <a:path w="168" h="156">
                        <a:moveTo>
                          <a:pt x="156" y="0"/>
                        </a:moveTo>
                        <a:lnTo>
                          <a:pt x="145" y="22"/>
                        </a:lnTo>
                        <a:lnTo>
                          <a:pt x="123" y="44"/>
                        </a:lnTo>
                        <a:lnTo>
                          <a:pt x="101" y="66"/>
                        </a:lnTo>
                        <a:lnTo>
                          <a:pt x="90" y="89"/>
                        </a:lnTo>
                        <a:lnTo>
                          <a:pt x="67" y="100"/>
                        </a:lnTo>
                        <a:lnTo>
                          <a:pt x="45" y="122"/>
                        </a:lnTo>
                        <a:lnTo>
                          <a:pt x="23" y="133"/>
                        </a:lnTo>
                        <a:lnTo>
                          <a:pt x="0" y="144"/>
                        </a:lnTo>
                        <a:lnTo>
                          <a:pt x="0" y="156"/>
                        </a:lnTo>
                        <a:lnTo>
                          <a:pt x="34" y="144"/>
                        </a:lnTo>
                        <a:lnTo>
                          <a:pt x="56" y="133"/>
                        </a:lnTo>
                        <a:lnTo>
                          <a:pt x="78" y="111"/>
                        </a:lnTo>
                        <a:lnTo>
                          <a:pt x="101" y="89"/>
                        </a:lnTo>
                        <a:lnTo>
                          <a:pt x="112" y="66"/>
                        </a:lnTo>
                        <a:lnTo>
                          <a:pt x="134" y="44"/>
                        </a:lnTo>
                        <a:lnTo>
                          <a:pt x="156" y="22"/>
                        </a:lnTo>
                        <a:lnTo>
                          <a:pt x="168" y="0"/>
                        </a:lnTo>
                        <a:lnTo>
                          <a:pt x="156" y="0"/>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Freeform 920"/>
                  <p:cNvSpPr/>
                  <p:nvPr/>
                </p:nvSpPr>
                <p:spPr>
                  <a:xfrm rot="111600">
                    <a:off x="1201680" y="80208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2" h="12">
                        <a:moveTo>
                          <a:pt x="12" y="12"/>
                        </a:moveTo>
                        <a:lnTo>
                          <a:pt x="12" y="12"/>
                        </a:lnTo>
                        <a:lnTo>
                          <a:pt x="12" y="0"/>
                        </a:lnTo>
                        <a:lnTo>
                          <a:pt x="0" y="0"/>
                        </a:lnTo>
                        <a:lnTo>
                          <a:pt x="0" y="12"/>
                        </a:lnTo>
                        <a:lnTo>
                          <a:pt x="12" y="12"/>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Freeform 919"/>
                  <p:cNvSpPr/>
                  <p:nvPr/>
                </p:nvSpPr>
                <p:spPr>
                  <a:xfrm rot="111600">
                    <a:off x="1114560" y="574920"/>
                    <a:ext cx="171000" cy="149760"/>
                  </a:xfrm>
                  <a:custGeom>
                    <a:avLst/>
                    <a:gdLst>
                      <a:gd name="textAreaLeft" fmla="*/ 0 w 171000"/>
                      <a:gd name="textAreaRight" fmla="*/ 171360 w 171000"/>
                      <a:gd name="textAreaTop" fmla="*/ 0 h 149760"/>
                      <a:gd name="textAreaBottom" fmla="*/ 150120 h 149760"/>
                    </a:gdLst>
                    <a:ahLst/>
                    <a:rect l="textAreaLeft" t="textAreaTop" r="textAreaRight" b="textAreaBottom"/>
                    <a:pathLst>
                      <a:path w="1750" h="1126">
                        <a:moveTo>
                          <a:pt x="914" y="190"/>
                        </a:moveTo>
                        <a:lnTo>
                          <a:pt x="903" y="178"/>
                        </a:lnTo>
                        <a:lnTo>
                          <a:pt x="892" y="156"/>
                        </a:lnTo>
                        <a:lnTo>
                          <a:pt x="881" y="123"/>
                        </a:lnTo>
                        <a:lnTo>
                          <a:pt x="869" y="89"/>
                        </a:lnTo>
                        <a:lnTo>
                          <a:pt x="847" y="67"/>
                        </a:lnTo>
                        <a:lnTo>
                          <a:pt x="814" y="45"/>
                        </a:lnTo>
                        <a:lnTo>
                          <a:pt x="780" y="45"/>
                        </a:lnTo>
                        <a:lnTo>
                          <a:pt x="736" y="56"/>
                        </a:lnTo>
                        <a:lnTo>
                          <a:pt x="724" y="45"/>
                        </a:lnTo>
                        <a:lnTo>
                          <a:pt x="713" y="34"/>
                        </a:lnTo>
                        <a:lnTo>
                          <a:pt x="702" y="22"/>
                        </a:lnTo>
                        <a:lnTo>
                          <a:pt x="691" y="22"/>
                        </a:lnTo>
                        <a:lnTo>
                          <a:pt x="680" y="11"/>
                        </a:lnTo>
                        <a:lnTo>
                          <a:pt x="658" y="11"/>
                        </a:lnTo>
                        <a:lnTo>
                          <a:pt x="646" y="11"/>
                        </a:lnTo>
                        <a:lnTo>
                          <a:pt x="635" y="11"/>
                        </a:lnTo>
                        <a:lnTo>
                          <a:pt x="613" y="22"/>
                        </a:lnTo>
                        <a:lnTo>
                          <a:pt x="591" y="34"/>
                        </a:lnTo>
                        <a:lnTo>
                          <a:pt x="568" y="56"/>
                        </a:lnTo>
                        <a:lnTo>
                          <a:pt x="546" y="67"/>
                        </a:lnTo>
                        <a:lnTo>
                          <a:pt x="535" y="89"/>
                        </a:lnTo>
                        <a:lnTo>
                          <a:pt x="524" y="112"/>
                        </a:lnTo>
                        <a:lnTo>
                          <a:pt x="524" y="134"/>
                        </a:lnTo>
                        <a:lnTo>
                          <a:pt x="513" y="156"/>
                        </a:lnTo>
                        <a:lnTo>
                          <a:pt x="502" y="167"/>
                        </a:lnTo>
                        <a:lnTo>
                          <a:pt x="490" y="178"/>
                        </a:lnTo>
                        <a:lnTo>
                          <a:pt x="479" y="190"/>
                        </a:lnTo>
                        <a:lnTo>
                          <a:pt x="468" y="201"/>
                        </a:lnTo>
                        <a:lnTo>
                          <a:pt x="457" y="212"/>
                        </a:lnTo>
                        <a:lnTo>
                          <a:pt x="457" y="223"/>
                        </a:lnTo>
                        <a:lnTo>
                          <a:pt x="446" y="234"/>
                        </a:lnTo>
                        <a:lnTo>
                          <a:pt x="435" y="245"/>
                        </a:lnTo>
                        <a:lnTo>
                          <a:pt x="424" y="279"/>
                        </a:lnTo>
                        <a:lnTo>
                          <a:pt x="424" y="301"/>
                        </a:lnTo>
                        <a:lnTo>
                          <a:pt x="424" y="335"/>
                        </a:lnTo>
                        <a:lnTo>
                          <a:pt x="412" y="368"/>
                        </a:lnTo>
                        <a:lnTo>
                          <a:pt x="390" y="346"/>
                        </a:lnTo>
                        <a:lnTo>
                          <a:pt x="368" y="346"/>
                        </a:lnTo>
                        <a:lnTo>
                          <a:pt x="334" y="346"/>
                        </a:lnTo>
                        <a:lnTo>
                          <a:pt x="312" y="346"/>
                        </a:lnTo>
                        <a:lnTo>
                          <a:pt x="290" y="357"/>
                        </a:lnTo>
                        <a:lnTo>
                          <a:pt x="268" y="379"/>
                        </a:lnTo>
                        <a:lnTo>
                          <a:pt x="256" y="401"/>
                        </a:lnTo>
                        <a:lnTo>
                          <a:pt x="245" y="424"/>
                        </a:lnTo>
                        <a:lnTo>
                          <a:pt x="223" y="413"/>
                        </a:lnTo>
                        <a:lnTo>
                          <a:pt x="190" y="401"/>
                        </a:lnTo>
                        <a:lnTo>
                          <a:pt x="167" y="401"/>
                        </a:lnTo>
                        <a:lnTo>
                          <a:pt x="145" y="401"/>
                        </a:lnTo>
                        <a:lnTo>
                          <a:pt x="123" y="413"/>
                        </a:lnTo>
                        <a:lnTo>
                          <a:pt x="100" y="424"/>
                        </a:lnTo>
                        <a:lnTo>
                          <a:pt x="89" y="424"/>
                        </a:lnTo>
                        <a:lnTo>
                          <a:pt x="67" y="446"/>
                        </a:lnTo>
                        <a:lnTo>
                          <a:pt x="56" y="457"/>
                        </a:lnTo>
                        <a:lnTo>
                          <a:pt x="45" y="479"/>
                        </a:lnTo>
                        <a:lnTo>
                          <a:pt x="45" y="502"/>
                        </a:lnTo>
                        <a:lnTo>
                          <a:pt x="45" y="513"/>
                        </a:lnTo>
                        <a:lnTo>
                          <a:pt x="45" y="535"/>
                        </a:lnTo>
                        <a:lnTo>
                          <a:pt x="45" y="557"/>
                        </a:lnTo>
                        <a:lnTo>
                          <a:pt x="56" y="580"/>
                        </a:lnTo>
                        <a:lnTo>
                          <a:pt x="67" y="602"/>
                        </a:lnTo>
                        <a:lnTo>
                          <a:pt x="33" y="635"/>
                        </a:lnTo>
                        <a:lnTo>
                          <a:pt x="22" y="658"/>
                        </a:lnTo>
                        <a:lnTo>
                          <a:pt x="11" y="691"/>
                        </a:lnTo>
                        <a:lnTo>
                          <a:pt x="0" y="725"/>
                        </a:lnTo>
                        <a:lnTo>
                          <a:pt x="11" y="747"/>
                        </a:lnTo>
                        <a:lnTo>
                          <a:pt x="22" y="769"/>
                        </a:lnTo>
                        <a:lnTo>
                          <a:pt x="33" y="803"/>
                        </a:lnTo>
                        <a:lnTo>
                          <a:pt x="67" y="814"/>
                        </a:lnTo>
                        <a:lnTo>
                          <a:pt x="67" y="847"/>
                        </a:lnTo>
                        <a:lnTo>
                          <a:pt x="67" y="869"/>
                        </a:lnTo>
                        <a:lnTo>
                          <a:pt x="78" y="881"/>
                        </a:lnTo>
                        <a:lnTo>
                          <a:pt x="89" y="892"/>
                        </a:lnTo>
                        <a:lnTo>
                          <a:pt x="123" y="903"/>
                        </a:lnTo>
                        <a:lnTo>
                          <a:pt x="156" y="903"/>
                        </a:lnTo>
                        <a:lnTo>
                          <a:pt x="178" y="903"/>
                        </a:lnTo>
                        <a:lnTo>
                          <a:pt x="201" y="903"/>
                        </a:lnTo>
                        <a:lnTo>
                          <a:pt x="212" y="903"/>
                        </a:lnTo>
                        <a:lnTo>
                          <a:pt x="223" y="892"/>
                        </a:lnTo>
                        <a:lnTo>
                          <a:pt x="234" y="892"/>
                        </a:lnTo>
                        <a:lnTo>
                          <a:pt x="256" y="892"/>
                        </a:lnTo>
                        <a:lnTo>
                          <a:pt x="245" y="903"/>
                        </a:lnTo>
                        <a:lnTo>
                          <a:pt x="245" y="925"/>
                        </a:lnTo>
                        <a:lnTo>
                          <a:pt x="245" y="936"/>
                        </a:lnTo>
                        <a:lnTo>
                          <a:pt x="245" y="948"/>
                        </a:lnTo>
                        <a:lnTo>
                          <a:pt x="245" y="959"/>
                        </a:lnTo>
                        <a:lnTo>
                          <a:pt x="256" y="970"/>
                        </a:lnTo>
                        <a:lnTo>
                          <a:pt x="279" y="981"/>
                        </a:lnTo>
                        <a:lnTo>
                          <a:pt x="301" y="992"/>
                        </a:lnTo>
                        <a:lnTo>
                          <a:pt x="290" y="1014"/>
                        </a:lnTo>
                        <a:lnTo>
                          <a:pt x="290" y="1048"/>
                        </a:lnTo>
                        <a:lnTo>
                          <a:pt x="290" y="1070"/>
                        </a:lnTo>
                        <a:lnTo>
                          <a:pt x="301" y="1104"/>
                        </a:lnTo>
                        <a:lnTo>
                          <a:pt x="323" y="1115"/>
                        </a:lnTo>
                        <a:lnTo>
                          <a:pt x="357" y="1115"/>
                        </a:lnTo>
                        <a:lnTo>
                          <a:pt x="379" y="1104"/>
                        </a:lnTo>
                        <a:lnTo>
                          <a:pt x="401" y="1092"/>
                        </a:lnTo>
                        <a:lnTo>
                          <a:pt x="412" y="1059"/>
                        </a:lnTo>
                        <a:lnTo>
                          <a:pt x="424" y="1037"/>
                        </a:lnTo>
                        <a:lnTo>
                          <a:pt x="435" y="1003"/>
                        </a:lnTo>
                        <a:lnTo>
                          <a:pt x="424" y="981"/>
                        </a:lnTo>
                        <a:lnTo>
                          <a:pt x="457" y="970"/>
                        </a:lnTo>
                        <a:lnTo>
                          <a:pt x="490" y="948"/>
                        </a:lnTo>
                        <a:lnTo>
                          <a:pt x="502" y="925"/>
                        </a:lnTo>
                        <a:lnTo>
                          <a:pt x="513" y="892"/>
                        </a:lnTo>
                        <a:lnTo>
                          <a:pt x="524" y="858"/>
                        </a:lnTo>
                        <a:lnTo>
                          <a:pt x="524" y="825"/>
                        </a:lnTo>
                        <a:lnTo>
                          <a:pt x="524" y="791"/>
                        </a:lnTo>
                        <a:lnTo>
                          <a:pt x="513" y="758"/>
                        </a:lnTo>
                        <a:lnTo>
                          <a:pt x="535" y="758"/>
                        </a:lnTo>
                        <a:lnTo>
                          <a:pt x="546" y="747"/>
                        </a:lnTo>
                        <a:lnTo>
                          <a:pt x="568" y="736"/>
                        </a:lnTo>
                        <a:lnTo>
                          <a:pt x="580" y="736"/>
                        </a:lnTo>
                        <a:lnTo>
                          <a:pt x="591" y="725"/>
                        </a:lnTo>
                        <a:lnTo>
                          <a:pt x="613" y="725"/>
                        </a:lnTo>
                        <a:lnTo>
                          <a:pt x="624" y="713"/>
                        </a:lnTo>
                        <a:lnTo>
                          <a:pt x="635" y="702"/>
                        </a:lnTo>
                        <a:lnTo>
                          <a:pt x="658" y="691"/>
                        </a:lnTo>
                        <a:lnTo>
                          <a:pt x="669" y="680"/>
                        </a:lnTo>
                        <a:lnTo>
                          <a:pt x="680" y="669"/>
                        </a:lnTo>
                        <a:lnTo>
                          <a:pt x="691" y="658"/>
                        </a:lnTo>
                        <a:lnTo>
                          <a:pt x="702" y="647"/>
                        </a:lnTo>
                        <a:lnTo>
                          <a:pt x="713" y="635"/>
                        </a:lnTo>
                        <a:lnTo>
                          <a:pt x="724" y="624"/>
                        </a:lnTo>
                        <a:lnTo>
                          <a:pt x="736" y="602"/>
                        </a:lnTo>
                        <a:lnTo>
                          <a:pt x="758" y="635"/>
                        </a:lnTo>
                        <a:lnTo>
                          <a:pt x="780" y="647"/>
                        </a:lnTo>
                        <a:lnTo>
                          <a:pt x="814" y="647"/>
                        </a:lnTo>
                        <a:lnTo>
                          <a:pt x="836" y="647"/>
                        </a:lnTo>
                        <a:lnTo>
                          <a:pt x="869" y="635"/>
                        </a:lnTo>
                        <a:lnTo>
                          <a:pt x="892" y="613"/>
                        </a:lnTo>
                        <a:lnTo>
                          <a:pt x="914" y="591"/>
                        </a:lnTo>
                        <a:lnTo>
                          <a:pt x="925" y="569"/>
                        </a:lnTo>
                        <a:lnTo>
                          <a:pt x="947" y="602"/>
                        </a:lnTo>
                        <a:lnTo>
                          <a:pt x="970" y="624"/>
                        </a:lnTo>
                        <a:lnTo>
                          <a:pt x="992" y="647"/>
                        </a:lnTo>
                        <a:lnTo>
                          <a:pt x="1014" y="658"/>
                        </a:lnTo>
                        <a:lnTo>
                          <a:pt x="1037" y="669"/>
                        </a:lnTo>
                        <a:lnTo>
                          <a:pt x="1059" y="680"/>
                        </a:lnTo>
                        <a:lnTo>
                          <a:pt x="1092" y="669"/>
                        </a:lnTo>
                        <a:lnTo>
                          <a:pt x="1126" y="669"/>
                        </a:lnTo>
                        <a:lnTo>
                          <a:pt x="1126" y="680"/>
                        </a:lnTo>
                        <a:lnTo>
                          <a:pt x="1126" y="702"/>
                        </a:lnTo>
                        <a:lnTo>
                          <a:pt x="1126" y="725"/>
                        </a:lnTo>
                        <a:lnTo>
                          <a:pt x="1137" y="747"/>
                        </a:lnTo>
                        <a:lnTo>
                          <a:pt x="1148" y="769"/>
                        </a:lnTo>
                        <a:lnTo>
                          <a:pt x="1159" y="791"/>
                        </a:lnTo>
                        <a:lnTo>
                          <a:pt x="1181" y="814"/>
                        </a:lnTo>
                        <a:lnTo>
                          <a:pt x="1204" y="836"/>
                        </a:lnTo>
                        <a:lnTo>
                          <a:pt x="1215" y="836"/>
                        </a:lnTo>
                        <a:lnTo>
                          <a:pt x="1226" y="836"/>
                        </a:lnTo>
                        <a:lnTo>
                          <a:pt x="1237" y="836"/>
                        </a:lnTo>
                        <a:lnTo>
                          <a:pt x="1259" y="825"/>
                        </a:lnTo>
                        <a:lnTo>
                          <a:pt x="1271" y="825"/>
                        </a:lnTo>
                        <a:lnTo>
                          <a:pt x="1282" y="825"/>
                        </a:lnTo>
                        <a:lnTo>
                          <a:pt x="1282" y="847"/>
                        </a:lnTo>
                        <a:lnTo>
                          <a:pt x="1282" y="881"/>
                        </a:lnTo>
                        <a:lnTo>
                          <a:pt x="1282" y="903"/>
                        </a:lnTo>
                        <a:lnTo>
                          <a:pt x="1282" y="925"/>
                        </a:lnTo>
                        <a:lnTo>
                          <a:pt x="1293" y="936"/>
                        </a:lnTo>
                        <a:lnTo>
                          <a:pt x="1304" y="959"/>
                        </a:lnTo>
                        <a:lnTo>
                          <a:pt x="1315" y="970"/>
                        </a:lnTo>
                        <a:lnTo>
                          <a:pt x="1326" y="970"/>
                        </a:lnTo>
                        <a:lnTo>
                          <a:pt x="1326" y="981"/>
                        </a:lnTo>
                        <a:lnTo>
                          <a:pt x="1337" y="992"/>
                        </a:lnTo>
                        <a:lnTo>
                          <a:pt x="1349" y="992"/>
                        </a:lnTo>
                        <a:lnTo>
                          <a:pt x="1360" y="1003"/>
                        </a:lnTo>
                        <a:lnTo>
                          <a:pt x="1360" y="1037"/>
                        </a:lnTo>
                        <a:lnTo>
                          <a:pt x="1360" y="1070"/>
                        </a:lnTo>
                        <a:lnTo>
                          <a:pt x="1360" y="1104"/>
                        </a:lnTo>
                        <a:lnTo>
                          <a:pt x="1382" y="1126"/>
                        </a:lnTo>
                        <a:lnTo>
                          <a:pt x="1404" y="1126"/>
                        </a:lnTo>
                        <a:lnTo>
                          <a:pt x="1427" y="1126"/>
                        </a:lnTo>
                        <a:lnTo>
                          <a:pt x="1438" y="1126"/>
                        </a:lnTo>
                        <a:lnTo>
                          <a:pt x="1460" y="1115"/>
                        </a:lnTo>
                        <a:lnTo>
                          <a:pt x="1471" y="1092"/>
                        </a:lnTo>
                        <a:lnTo>
                          <a:pt x="1471" y="1070"/>
                        </a:lnTo>
                        <a:lnTo>
                          <a:pt x="1482" y="1048"/>
                        </a:lnTo>
                        <a:lnTo>
                          <a:pt x="1482" y="1014"/>
                        </a:lnTo>
                        <a:lnTo>
                          <a:pt x="1494" y="1003"/>
                        </a:lnTo>
                        <a:lnTo>
                          <a:pt x="1505" y="992"/>
                        </a:lnTo>
                        <a:lnTo>
                          <a:pt x="1505" y="981"/>
                        </a:lnTo>
                        <a:lnTo>
                          <a:pt x="1516" y="970"/>
                        </a:lnTo>
                        <a:lnTo>
                          <a:pt x="1516" y="959"/>
                        </a:lnTo>
                        <a:lnTo>
                          <a:pt x="1527" y="948"/>
                        </a:lnTo>
                        <a:lnTo>
                          <a:pt x="1527" y="936"/>
                        </a:lnTo>
                        <a:lnTo>
                          <a:pt x="1527" y="914"/>
                        </a:lnTo>
                        <a:lnTo>
                          <a:pt x="1527" y="925"/>
                        </a:lnTo>
                        <a:lnTo>
                          <a:pt x="1538" y="936"/>
                        </a:lnTo>
                        <a:lnTo>
                          <a:pt x="1549" y="936"/>
                        </a:lnTo>
                        <a:lnTo>
                          <a:pt x="1560" y="948"/>
                        </a:lnTo>
                        <a:lnTo>
                          <a:pt x="1572" y="959"/>
                        </a:lnTo>
                        <a:lnTo>
                          <a:pt x="1583" y="970"/>
                        </a:lnTo>
                        <a:lnTo>
                          <a:pt x="1594" y="970"/>
                        </a:lnTo>
                        <a:lnTo>
                          <a:pt x="1605" y="970"/>
                        </a:lnTo>
                        <a:lnTo>
                          <a:pt x="1650" y="970"/>
                        </a:lnTo>
                        <a:lnTo>
                          <a:pt x="1694" y="959"/>
                        </a:lnTo>
                        <a:lnTo>
                          <a:pt x="1716" y="936"/>
                        </a:lnTo>
                        <a:lnTo>
                          <a:pt x="1739" y="903"/>
                        </a:lnTo>
                        <a:lnTo>
                          <a:pt x="1750" y="869"/>
                        </a:lnTo>
                        <a:lnTo>
                          <a:pt x="1750" y="825"/>
                        </a:lnTo>
                        <a:lnTo>
                          <a:pt x="1750" y="791"/>
                        </a:lnTo>
                        <a:lnTo>
                          <a:pt x="1728" y="769"/>
                        </a:lnTo>
                        <a:lnTo>
                          <a:pt x="1728" y="758"/>
                        </a:lnTo>
                        <a:lnTo>
                          <a:pt x="1716" y="758"/>
                        </a:lnTo>
                        <a:lnTo>
                          <a:pt x="1705" y="747"/>
                        </a:lnTo>
                        <a:lnTo>
                          <a:pt x="1694" y="736"/>
                        </a:lnTo>
                        <a:lnTo>
                          <a:pt x="1683" y="736"/>
                        </a:lnTo>
                        <a:lnTo>
                          <a:pt x="1672" y="725"/>
                        </a:lnTo>
                        <a:lnTo>
                          <a:pt x="1683" y="702"/>
                        </a:lnTo>
                        <a:lnTo>
                          <a:pt x="1694" y="680"/>
                        </a:lnTo>
                        <a:lnTo>
                          <a:pt x="1694" y="658"/>
                        </a:lnTo>
                        <a:lnTo>
                          <a:pt x="1694" y="635"/>
                        </a:lnTo>
                        <a:lnTo>
                          <a:pt x="1694" y="624"/>
                        </a:lnTo>
                        <a:lnTo>
                          <a:pt x="1683" y="602"/>
                        </a:lnTo>
                        <a:lnTo>
                          <a:pt x="1661" y="591"/>
                        </a:lnTo>
                        <a:lnTo>
                          <a:pt x="1638" y="569"/>
                        </a:lnTo>
                        <a:lnTo>
                          <a:pt x="1661" y="546"/>
                        </a:lnTo>
                        <a:lnTo>
                          <a:pt x="1672" y="524"/>
                        </a:lnTo>
                        <a:lnTo>
                          <a:pt x="1683" y="502"/>
                        </a:lnTo>
                        <a:lnTo>
                          <a:pt x="1683" y="479"/>
                        </a:lnTo>
                        <a:lnTo>
                          <a:pt x="1683" y="457"/>
                        </a:lnTo>
                        <a:lnTo>
                          <a:pt x="1672" y="435"/>
                        </a:lnTo>
                        <a:lnTo>
                          <a:pt x="1661" y="413"/>
                        </a:lnTo>
                        <a:lnTo>
                          <a:pt x="1650" y="390"/>
                        </a:lnTo>
                        <a:lnTo>
                          <a:pt x="1627" y="368"/>
                        </a:lnTo>
                        <a:lnTo>
                          <a:pt x="1605" y="357"/>
                        </a:lnTo>
                        <a:lnTo>
                          <a:pt x="1583" y="346"/>
                        </a:lnTo>
                        <a:lnTo>
                          <a:pt x="1560" y="335"/>
                        </a:lnTo>
                        <a:lnTo>
                          <a:pt x="1527" y="335"/>
                        </a:lnTo>
                        <a:lnTo>
                          <a:pt x="1505" y="335"/>
                        </a:lnTo>
                        <a:lnTo>
                          <a:pt x="1482" y="335"/>
                        </a:lnTo>
                        <a:lnTo>
                          <a:pt x="1460" y="346"/>
                        </a:lnTo>
                        <a:lnTo>
                          <a:pt x="1471" y="301"/>
                        </a:lnTo>
                        <a:lnTo>
                          <a:pt x="1471" y="268"/>
                        </a:lnTo>
                        <a:lnTo>
                          <a:pt x="1471" y="223"/>
                        </a:lnTo>
                        <a:lnTo>
                          <a:pt x="1471" y="201"/>
                        </a:lnTo>
                        <a:lnTo>
                          <a:pt x="1460" y="167"/>
                        </a:lnTo>
                        <a:lnTo>
                          <a:pt x="1438" y="145"/>
                        </a:lnTo>
                        <a:lnTo>
                          <a:pt x="1415" y="134"/>
                        </a:lnTo>
                        <a:lnTo>
                          <a:pt x="1382" y="134"/>
                        </a:lnTo>
                        <a:lnTo>
                          <a:pt x="1371" y="134"/>
                        </a:lnTo>
                        <a:lnTo>
                          <a:pt x="1360" y="112"/>
                        </a:lnTo>
                        <a:lnTo>
                          <a:pt x="1349" y="89"/>
                        </a:lnTo>
                        <a:lnTo>
                          <a:pt x="1326" y="78"/>
                        </a:lnTo>
                        <a:lnTo>
                          <a:pt x="1315" y="56"/>
                        </a:lnTo>
                        <a:lnTo>
                          <a:pt x="1293" y="45"/>
                        </a:lnTo>
                        <a:lnTo>
                          <a:pt x="1271" y="22"/>
                        </a:lnTo>
                        <a:lnTo>
                          <a:pt x="1248" y="22"/>
                        </a:lnTo>
                        <a:lnTo>
                          <a:pt x="1226" y="11"/>
                        </a:lnTo>
                        <a:lnTo>
                          <a:pt x="1204" y="0"/>
                        </a:lnTo>
                        <a:lnTo>
                          <a:pt x="1181" y="0"/>
                        </a:lnTo>
                        <a:lnTo>
                          <a:pt x="1159" y="0"/>
                        </a:lnTo>
                        <a:lnTo>
                          <a:pt x="1137" y="0"/>
                        </a:lnTo>
                        <a:lnTo>
                          <a:pt x="1103" y="0"/>
                        </a:lnTo>
                        <a:lnTo>
                          <a:pt x="1081" y="0"/>
                        </a:lnTo>
                        <a:lnTo>
                          <a:pt x="1059" y="11"/>
                        </a:lnTo>
                        <a:lnTo>
                          <a:pt x="1037" y="22"/>
                        </a:lnTo>
                        <a:lnTo>
                          <a:pt x="1025" y="34"/>
                        </a:lnTo>
                        <a:lnTo>
                          <a:pt x="1003" y="45"/>
                        </a:lnTo>
                        <a:lnTo>
                          <a:pt x="992" y="67"/>
                        </a:lnTo>
                        <a:lnTo>
                          <a:pt x="970" y="89"/>
                        </a:lnTo>
                        <a:lnTo>
                          <a:pt x="959" y="112"/>
                        </a:lnTo>
                        <a:lnTo>
                          <a:pt x="947" y="134"/>
                        </a:lnTo>
                        <a:lnTo>
                          <a:pt x="925" y="156"/>
                        </a:lnTo>
                        <a:lnTo>
                          <a:pt x="914" y="190"/>
                        </a:lnTo>
                        <a:close/>
                      </a:path>
                    </a:pathLst>
                  </a:custGeom>
                  <a:solidFill>
                    <a:srgbClr val="a6591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Freeform 918"/>
                  <p:cNvSpPr/>
                  <p:nvPr/>
                </p:nvSpPr>
                <p:spPr>
                  <a:xfrm rot="111600">
                    <a:off x="1187640" y="578880"/>
                    <a:ext cx="18360" cy="20520"/>
                  </a:xfrm>
                  <a:custGeom>
                    <a:avLst/>
                    <a:gdLst>
                      <a:gd name="textAreaLeft" fmla="*/ 0 w 18360"/>
                      <a:gd name="textAreaRight" fmla="*/ 18720 w 18360"/>
                      <a:gd name="textAreaTop" fmla="*/ 0 h 20520"/>
                      <a:gd name="textAreaBottom" fmla="*/ 20880 h 20520"/>
                    </a:gdLst>
                    <a:ahLst/>
                    <a:rect l="textAreaLeft" t="textAreaTop" r="textAreaRight" b="textAreaBottom"/>
                    <a:pathLst>
                      <a:path w="190" h="156">
                        <a:moveTo>
                          <a:pt x="0" y="22"/>
                        </a:moveTo>
                        <a:lnTo>
                          <a:pt x="12" y="22"/>
                        </a:lnTo>
                        <a:lnTo>
                          <a:pt x="56" y="11"/>
                        </a:lnTo>
                        <a:lnTo>
                          <a:pt x="90" y="22"/>
                        </a:lnTo>
                        <a:lnTo>
                          <a:pt x="112" y="33"/>
                        </a:lnTo>
                        <a:lnTo>
                          <a:pt x="134" y="66"/>
                        </a:lnTo>
                        <a:lnTo>
                          <a:pt x="157" y="89"/>
                        </a:lnTo>
                        <a:lnTo>
                          <a:pt x="168" y="122"/>
                        </a:lnTo>
                        <a:lnTo>
                          <a:pt x="179" y="144"/>
                        </a:lnTo>
                        <a:lnTo>
                          <a:pt x="179" y="156"/>
                        </a:lnTo>
                        <a:lnTo>
                          <a:pt x="190" y="156"/>
                        </a:lnTo>
                        <a:lnTo>
                          <a:pt x="190" y="144"/>
                        </a:lnTo>
                        <a:lnTo>
                          <a:pt x="179" y="122"/>
                        </a:lnTo>
                        <a:lnTo>
                          <a:pt x="168" y="89"/>
                        </a:lnTo>
                        <a:lnTo>
                          <a:pt x="145" y="55"/>
                        </a:lnTo>
                        <a:lnTo>
                          <a:pt x="123" y="22"/>
                        </a:lnTo>
                        <a:lnTo>
                          <a:pt x="90" y="11"/>
                        </a:lnTo>
                        <a:lnTo>
                          <a:pt x="56" y="0"/>
                        </a:lnTo>
                        <a:lnTo>
                          <a:pt x="12" y="11"/>
                        </a:lnTo>
                        <a:lnTo>
                          <a:pt x="0" y="22"/>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Freeform 917"/>
                  <p:cNvSpPr/>
                  <p:nvPr/>
                </p:nvSpPr>
                <p:spPr>
                  <a:xfrm rot="111600">
                    <a:off x="1179000" y="574560"/>
                    <a:ext cx="9720" cy="7200"/>
                  </a:xfrm>
                  <a:custGeom>
                    <a:avLst/>
                    <a:gdLst>
                      <a:gd name="textAreaLeft" fmla="*/ 0 w 9720"/>
                      <a:gd name="textAreaRight" fmla="*/ 10080 w 9720"/>
                      <a:gd name="textAreaTop" fmla="*/ 0 h 7200"/>
                      <a:gd name="textAreaBottom" fmla="*/ 7560 h 7200"/>
                    </a:gdLst>
                    <a:ahLst/>
                    <a:rect l="textAreaLeft" t="textAreaTop" r="textAreaRight" b="textAreaBottom"/>
                    <a:pathLst>
                      <a:path w="101" h="56">
                        <a:moveTo>
                          <a:pt x="0" y="22"/>
                        </a:moveTo>
                        <a:lnTo>
                          <a:pt x="0" y="22"/>
                        </a:lnTo>
                        <a:lnTo>
                          <a:pt x="11" y="22"/>
                        </a:lnTo>
                        <a:lnTo>
                          <a:pt x="23" y="22"/>
                        </a:lnTo>
                        <a:lnTo>
                          <a:pt x="45" y="22"/>
                        </a:lnTo>
                        <a:lnTo>
                          <a:pt x="56" y="22"/>
                        </a:lnTo>
                        <a:lnTo>
                          <a:pt x="56" y="34"/>
                        </a:lnTo>
                        <a:lnTo>
                          <a:pt x="67" y="34"/>
                        </a:lnTo>
                        <a:lnTo>
                          <a:pt x="78" y="45"/>
                        </a:lnTo>
                        <a:lnTo>
                          <a:pt x="89" y="56"/>
                        </a:lnTo>
                        <a:lnTo>
                          <a:pt x="101" y="45"/>
                        </a:lnTo>
                        <a:lnTo>
                          <a:pt x="89" y="34"/>
                        </a:lnTo>
                        <a:lnTo>
                          <a:pt x="78" y="22"/>
                        </a:lnTo>
                        <a:lnTo>
                          <a:pt x="67" y="22"/>
                        </a:lnTo>
                        <a:lnTo>
                          <a:pt x="56" y="11"/>
                        </a:lnTo>
                        <a:lnTo>
                          <a:pt x="45" y="11"/>
                        </a:lnTo>
                        <a:lnTo>
                          <a:pt x="23" y="0"/>
                        </a:lnTo>
                        <a:lnTo>
                          <a:pt x="11" y="0"/>
                        </a:lnTo>
                        <a:lnTo>
                          <a:pt x="0" y="11"/>
                        </a:lnTo>
                        <a:lnTo>
                          <a:pt x="0" y="22"/>
                        </a:lnTo>
                        <a:close/>
                      </a:path>
                    </a:pathLst>
                  </a:custGeom>
                  <a:solidFill>
                    <a:srgbClr val="000000"/>
                  </a:solidFill>
                  <a:ln w="0">
                    <a:noFill/>
                  </a:ln>
                </p:spPr>
                <p:style>
                  <a:lnRef idx="0"/>
                  <a:fillRef idx="0"/>
                  <a:effectRef idx="0"/>
                  <a:fontRef idx="minor"/>
                </p:style>
                <p:txBody>
                  <a:bodyPr lIns="90000" rIns="90000" tIns="-39240" bIns="-39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Freeform 916"/>
                  <p:cNvSpPr/>
                  <p:nvPr/>
                </p:nvSpPr>
                <p:spPr>
                  <a:xfrm rot="111600">
                    <a:off x="1166040" y="57528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133" h="145">
                        <a:moveTo>
                          <a:pt x="11" y="145"/>
                        </a:moveTo>
                        <a:lnTo>
                          <a:pt x="11" y="145"/>
                        </a:lnTo>
                        <a:lnTo>
                          <a:pt x="22" y="123"/>
                        </a:lnTo>
                        <a:lnTo>
                          <a:pt x="33" y="101"/>
                        </a:lnTo>
                        <a:lnTo>
                          <a:pt x="44" y="78"/>
                        </a:lnTo>
                        <a:lnTo>
                          <a:pt x="55" y="67"/>
                        </a:lnTo>
                        <a:lnTo>
                          <a:pt x="66" y="45"/>
                        </a:lnTo>
                        <a:lnTo>
                          <a:pt x="89" y="34"/>
                        </a:lnTo>
                        <a:lnTo>
                          <a:pt x="111" y="23"/>
                        </a:lnTo>
                        <a:lnTo>
                          <a:pt x="133" y="11"/>
                        </a:lnTo>
                        <a:lnTo>
                          <a:pt x="133" y="0"/>
                        </a:lnTo>
                        <a:lnTo>
                          <a:pt x="100" y="11"/>
                        </a:lnTo>
                        <a:lnTo>
                          <a:pt x="78" y="23"/>
                        </a:lnTo>
                        <a:lnTo>
                          <a:pt x="55" y="34"/>
                        </a:lnTo>
                        <a:lnTo>
                          <a:pt x="44" y="56"/>
                        </a:lnTo>
                        <a:lnTo>
                          <a:pt x="33" y="78"/>
                        </a:lnTo>
                        <a:lnTo>
                          <a:pt x="22" y="101"/>
                        </a:lnTo>
                        <a:lnTo>
                          <a:pt x="11" y="123"/>
                        </a:lnTo>
                        <a:lnTo>
                          <a:pt x="0" y="145"/>
                        </a:lnTo>
                        <a:lnTo>
                          <a:pt x="11" y="145"/>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Freeform 915"/>
                  <p:cNvSpPr/>
                  <p:nvPr/>
                </p:nvSpPr>
                <p:spPr>
                  <a:xfrm rot="111600">
                    <a:off x="1158480" y="594360"/>
                    <a:ext cx="7560" cy="11520"/>
                  </a:xfrm>
                  <a:custGeom>
                    <a:avLst/>
                    <a:gdLst>
                      <a:gd name="textAreaLeft" fmla="*/ 0 w 7560"/>
                      <a:gd name="textAreaRight" fmla="*/ 7920 w 7560"/>
                      <a:gd name="textAreaTop" fmla="*/ 0 h 11520"/>
                      <a:gd name="textAreaBottom" fmla="*/ 11880 h 11520"/>
                    </a:gdLst>
                    <a:ahLst/>
                    <a:rect l="textAreaLeft" t="textAreaTop" r="textAreaRight" b="textAreaBottom"/>
                    <a:pathLst>
                      <a:path w="78" h="89">
                        <a:moveTo>
                          <a:pt x="11" y="89"/>
                        </a:moveTo>
                        <a:lnTo>
                          <a:pt x="11" y="89"/>
                        </a:lnTo>
                        <a:lnTo>
                          <a:pt x="11" y="78"/>
                        </a:lnTo>
                        <a:lnTo>
                          <a:pt x="22" y="67"/>
                        </a:lnTo>
                        <a:lnTo>
                          <a:pt x="33" y="56"/>
                        </a:lnTo>
                        <a:lnTo>
                          <a:pt x="44" y="45"/>
                        </a:lnTo>
                        <a:lnTo>
                          <a:pt x="55" y="45"/>
                        </a:lnTo>
                        <a:lnTo>
                          <a:pt x="55" y="34"/>
                        </a:lnTo>
                        <a:lnTo>
                          <a:pt x="67" y="11"/>
                        </a:lnTo>
                        <a:lnTo>
                          <a:pt x="78" y="0"/>
                        </a:lnTo>
                        <a:lnTo>
                          <a:pt x="67" y="0"/>
                        </a:lnTo>
                        <a:lnTo>
                          <a:pt x="55" y="11"/>
                        </a:lnTo>
                        <a:lnTo>
                          <a:pt x="55" y="22"/>
                        </a:lnTo>
                        <a:lnTo>
                          <a:pt x="44" y="34"/>
                        </a:lnTo>
                        <a:lnTo>
                          <a:pt x="33" y="45"/>
                        </a:lnTo>
                        <a:lnTo>
                          <a:pt x="22" y="56"/>
                        </a:lnTo>
                        <a:lnTo>
                          <a:pt x="11" y="67"/>
                        </a:lnTo>
                        <a:lnTo>
                          <a:pt x="0" y="78"/>
                        </a:lnTo>
                        <a:lnTo>
                          <a:pt x="0" y="89"/>
                        </a:lnTo>
                        <a:lnTo>
                          <a:pt x="11"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Freeform 914"/>
                  <p:cNvSpPr/>
                  <p:nvPr/>
                </p:nvSpPr>
                <p:spPr>
                  <a:xfrm rot="111600">
                    <a:off x="1155960" y="606240"/>
                    <a:ext cx="3240" cy="16200"/>
                  </a:xfrm>
                  <a:custGeom>
                    <a:avLst/>
                    <a:gdLst>
                      <a:gd name="textAreaLeft" fmla="*/ 0 w 3240"/>
                      <a:gd name="textAreaRight" fmla="*/ 3600 w 3240"/>
                      <a:gd name="textAreaTop" fmla="*/ 0 h 16200"/>
                      <a:gd name="textAreaBottom" fmla="*/ 16560 h 16200"/>
                    </a:gdLst>
                    <a:ahLst/>
                    <a:rect l="textAreaLeft" t="textAreaTop" r="textAreaRight" b="textAreaBottom"/>
                    <a:pathLst>
                      <a:path w="34" h="123">
                        <a:moveTo>
                          <a:pt x="0" y="123"/>
                        </a:moveTo>
                        <a:lnTo>
                          <a:pt x="12" y="123"/>
                        </a:lnTo>
                        <a:lnTo>
                          <a:pt x="12" y="90"/>
                        </a:lnTo>
                        <a:lnTo>
                          <a:pt x="12" y="56"/>
                        </a:lnTo>
                        <a:lnTo>
                          <a:pt x="23" y="34"/>
                        </a:lnTo>
                        <a:lnTo>
                          <a:pt x="34" y="0"/>
                        </a:lnTo>
                        <a:lnTo>
                          <a:pt x="23" y="0"/>
                        </a:lnTo>
                        <a:lnTo>
                          <a:pt x="12" y="34"/>
                        </a:lnTo>
                        <a:lnTo>
                          <a:pt x="0" y="56"/>
                        </a:lnTo>
                        <a:lnTo>
                          <a:pt x="0" y="90"/>
                        </a:lnTo>
                        <a:lnTo>
                          <a:pt x="0" y="123"/>
                        </a:lnTo>
                        <a:lnTo>
                          <a:pt x="12" y="112"/>
                        </a:lnTo>
                        <a:lnTo>
                          <a:pt x="0" y="123"/>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Freeform 913"/>
                  <p:cNvSpPr/>
                  <p:nvPr/>
                </p:nvSpPr>
                <p:spPr>
                  <a:xfrm rot="111600">
                    <a:off x="1139400" y="617400"/>
                    <a:ext cx="17280" cy="11520"/>
                  </a:xfrm>
                  <a:custGeom>
                    <a:avLst/>
                    <a:gdLst>
                      <a:gd name="textAreaLeft" fmla="*/ 0 w 17280"/>
                      <a:gd name="textAreaRight" fmla="*/ 17640 w 17280"/>
                      <a:gd name="textAreaTop" fmla="*/ 0 h 11520"/>
                      <a:gd name="textAreaBottom" fmla="*/ 11880 h 11520"/>
                    </a:gdLst>
                    <a:ahLst/>
                    <a:rect l="textAreaLeft" t="textAreaTop" r="textAreaRight" b="textAreaBottom"/>
                    <a:pathLst>
                      <a:path w="179" h="89">
                        <a:moveTo>
                          <a:pt x="0" y="89"/>
                        </a:moveTo>
                        <a:lnTo>
                          <a:pt x="11" y="89"/>
                        </a:lnTo>
                        <a:lnTo>
                          <a:pt x="11" y="66"/>
                        </a:lnTo>
                        <a:lnTo>
                          <a:pt x="34" y="44"/>
                        </a:lnTo>
                        <a:lnTo>
                          <a:pt x="45" y="33"/>
                        </a:lnTo>
                        <a:lnTo>
                          <a:pt x="67" y="22"/>
                        </a:lnTo>
                        <a:lnTo>
                          <a:pt x="89" y="11"/>
                        </a:lnTo>
                        <a:lnTo>
                          <a:pt x="123" y="11"/>
                        </a:lnTo>
                        <a:lnTo>
                          <a:pt x="145" y="22"/>
                        </a:lnTo>
                        <a:lnTo>
                          <a:pt x="167" y="33"/>
                        </a:lnTo>
                        <a:lnTo>
                          <a:pt x="179" y="22"/>
                        </a:lnTo>
                        <a:lnTo>
                          <a:pt x="145" y="11"/>
                        </a:lnTo>
                        <a:lnTo>
                          <a:pt x="123" y="0"/>
                        </a:lnTo>
                        <a:lnTo>
                          <a:pt x="89" y="0"/>
                        </a:lnTo>
                        <a:lnTo>
                          <a:pt x="67" y="11"/>
                        </a:lnTo>
                        <a:lnTo>
                          <a:pt x="34" y="22"/>
                        </a:lnTo>
                        <a:lnTo>
                          <a:pt x="23" y="44"/>
                        </a:lnTo>
                        <a:lnTo>
                          <a:pt x="0" y="55"/>
                        </a:lnTo>
                        <a:lnTo>
                          <a:pt x="0" y="89"/>
                        </a:lnTo>
                        <a:lnTo>
                          <a:pt x="11" y="78"/>
                        </a:lnTo>
                        <a:lnTo>
                          <a:pt x="0"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Freeform 912"/>
                  <p:cNvSpPr/>
                  <p:nvPr/>
                </p:nvSpPr>
                <p:spPr>
                  <a:xfrm rot="111600">
                    <a:off x="1117800" y="624240"/>
                    <a:ext cx="21600" cy="29520"/>
                  </a:xfrm>
                  <a:custGeom>
                    <a:avLst/>
                    <a:gdLst>
                      <a:gd name="textAreaLeft" fmla="*/ 0 w 21600"/>
                      <a:gd name="textAreaRight" fmla="*/ 21960 w 21600"/>
                      <a:gd name="textAreaTop" fmla="*/ 0 h 29520"/>
                      <a:gd name="textAreaBottom" fmla="*/ 29880 h 29520"/>
                    </a:gdLst>
                    <a:ahLst/>
                    <a:rect l="textAreaLeft" t="textAreaTop" r="textAreaRight" b="textAreaBottom"/>
                    <a:pathLst>
                      <a:path w="223" h="223">
                        <a:moveTo>
                          <a:pt x="34" y="223"/>
                        </a:moveTo>
                        <a:lnTo>
                          <a:pt x="34" y="212"/>
                        </a:lnTo>
                        <a:lnTo>
                          <a:pt x="23" y="190"/>
                        </a:lnTo>
                        <a:lnTo>
                          <a:pt x="23" y="167"/>
                        </a:lnTo>
                        <a:lnTo>
                          <a:pt x="12" y="145"/>
                        </a:lnTo>
                        <a:lnTo>
                          <a:pt x="12" y="123"/>
                        </a:lnTo>
                        <a:lnTo>
                          <a:pt x="23" y="112"/>
                        </a:lnTo>
                        <a:lnTo>
                          <a:pt x="23" y="89"/>
                        </a:lnTo>
                        <a:lnTo>
                          <a:pt x="34" y="78"/>
                        </a:lnTo>
                        <a:lnTo>
                          <a:pt x="45" y="56"/>
                        </a:lnTo>
                        <a:lnTo>
                          <a:pt x="56" y="45"/>
                        </a:lnTo>
                        <a:lnTo>
                          <a:pt x="67" y="34"/>
                        </a:lnTo>
                        <a:lnTo>
                          <a:pt x="90" y="23"/>
                        </a:lnTo>
                        <a:lnTo>
                          <a:pt x="112" y="23"/>
                        </a:lnTo>
                        <a:lnTo>
                          <a:pt x="134" y="23"/>
                        </a:lnTo>
                        <a:lnTo>
                          <a:pt x="157" y="23"/>
                        </a:lnTo>
                        <a:lnTo>
                          <a:pt x="190" y="23"/>
                        </a:lnTo>
                        <a:lnTo>
                          <a:pt x="212" y="34"/>
                        </a:lnTo>
                        <a:lnTo>
                          <a:pt x="223" y="23"/>
                        </a:lnTo>
                        <a:lnTo>
                          <a:pt x="190" y="11"/>
                        </a:lnTo>
                        <a:lnTo>
                          <a:pt x="157" y="11"/>
                        </a:lnTo>
                        <a:lnTo>
                          <a:pt x="134" y="0"/>
                        </a:lnTo>
                        <a:lnTo>
                          <a:pt x="112" y="11"/>
                        </a:lnTo>
                        <a:lnTo>
                          <a:pt x="90" y="11"/>
                        </a:lnTo>
                        <a:lnTo>
                          <a:pt x="67" y="23"/>
                        </a:lnTo>
                        <a:lnTo>
                          <a:pt x="45" y="34"/>
                        </a:lnTo>
                        <a:lnTo>
                          <a:pt x="34" y="45"/>
                        </a:lnTo>
                        <a:lnTo>
                          <a:pt x="23" y="67"/>
                        </a:lnTo>
                        <a:lnTo>
                          <a:pt x="12" y="89"/>
                        </a:lnTo>
                        <a:lnTo>
                          <a:pt x="0" y="101"/>
                        </a:lnTo>
                        <a:lnTo>
                          <a:pt x="0" y="123"/>
                        </a:lnTo>
                        <a:lnTo>
                          <a:pt x="0" y="145"/>
                        </a:lnTo>
                        <a:lnTo>
                          <a:pt x="0" y="167"/>
                        </a:lnTo>
                        <a:lnTo>
                          <a:pt x="12" y="190"/>
                        </a:lnTo>
                        <a:lnTo>
                          <a:pt x="23" y="212"/>
                        </a:lnTo>
                        <a:lnTo>
                          <a:pt x="34" y="223"/>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Freeform 911"/>
                  <p:cNvSpPr/>
                  <p:nvPr/>
                </p:nvSpPr>
                <p:spPr>
                  <a:xfrm rot="111600">
                    <a:off x="1113840" y="652320"/>
                    <a:ext cx="6480" cy="29520"/>
                  </a:xfrm>
                  <a:custGeom>
                    <a:avLst/>
                    <a:gdLst>
                      <a:gd name="textAreaLeft" fmla="*/ 0 w 6480"/>
                      <a:gd name="textAreaRight" fmla="*/ 6840 w 6480"/>
                      <a:gd name="textAreaTop" fmla="*/ 0 h 29520"/>
                      <a:gd name="textAreaBottom" fmla="*/ 29880 h 29520"/>
                    </a:gdLst>
                    <a:ahLst/>
                    <a:rect l="textAreaLeft" t="textAreaTop" r="textAreaRight" b="textAreaBottom"/>
                    <a:pathLst>
                      <a:path w="67" h="223">
                        <a:moveTo>
                          <a:pt x="67" y="212"/>
                        </a:moveTo>
                        <a:lnTo>
                          <a:pt x="67" y="201"/>
                        </a:lnTo>
                        <a:lnTo>
                          <a:pt x="45" y="189"/>
                        </a:lnTo>
                        <a:lnTo>
                          <a:pt x="22" y="167"/>
                        </a:lnTo>
                        <a:lnTo>
                          <a:pt x="11" y="145"/>
                        </a:lnTo>
                        <a:lnTo>
                          <a:pt x="11" y="123"/>
                        </a:lnTo>
                        <a:lnTo>
                          <a:pt x="11" y="89"/>
                        </a:lnTo>
                        <a:lnTo>
                          <a:pt x="22" y="67"/>
                        </a:lnTo>
                        <a:lnTo>
                          <a:pt x="45" y="33"/>
                        </a:lnTo>
                        <a:lnTo>
                          <a:pt x="67" y="11"/>
                        </a:lnTo>
                        <a:lnTo>
                          <a:pt x="56" y="0"/>
                        </a:lnTo>
                        <a:lnTo>
                          <a:pt x="33" y="22"/>
                        </a:lnTo>
                        <a:lnTo>
                          <a:pt x="11" y="56"/>
                        </a:lnTo>
                        <a:lnTo>
                          <a:pt x="0" y="89"/>
                        </a:lnTo>
                        <a:lnTo>
                          <a:pt x="0" y="123"/>
                        </a:lnTo>
                        <a:lnTo>
                          <a:pt x="0" y="145"/>
                        </a:lnTo>
                        <a:lnTo>
                          <a:pt x="11" y="178"/>
                        </a:lnTo>
                        <a:lnTo>
                          <a:pt x="33" y="201"/>
                        </a:lnTo>
                        <a:lnTo>
                          <a:pt x="56" y="223"/>
                        </a:lnTo>
                        <a:lnTo>
                          <a:pt x="56" y="212"/>
                        </a:lnTo>
                        <a:lnTo>
                          <a:pt x="67" y="212"/>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Freeform 910"/>
                  <p:cNvSpPr/>
                  <p:nvPr/>
                </p:nvSpPr>
                <p:spPr>
                  <a:xfrm rot="111600">
                    <a:off x="1118880" y="680400"/>
                    <a:ext cx="3960" cy="11520"/>
                  </a:xfrm>
                  <a:custGeom>
                    <a:avLst/>
                    <a:gdLst>
                      <a:gd name="textAreaLeft" fmla="*/ 0 w 3960"/>
                      <a:gd name="textAreaRight" fmla="*/ 4320 w 3960"/>
                      <a:gd name="textAreaTop" fmla="*/ 0 h 11520"/>
                      <a:gd name="textAreaBottom" fmla="*/ 11880 h 11520"/>
                    </a:gdLst>
                    <a:ahLst/>
                    <a:rect l="textAreaLeft" t="textAreaTop" r="textAreaRight" b="textAreaBottom"/>
                    <a:pathLst>
                      <a:path w="44" h="89">
                        <a:moveTo>
                          <a:pt x="33" y="78"/>
                        </a:moveTo>
                        <a:lnTo>
                          <a:pt x="44" y="78"/>
                        </a:lnTo>
                        <a:lnTo>
                          <a:pt x="33" y="67"/>
                        </a:lnTo>
                        <a:lnTo>
                          <a:pt x="22" y="55"/>
                        </a:lnTo>
                        <a:lnTo>
                          <a:pt x="11" y="33"/>
                        </a:lnTo>
                        <a:lnTo>
                          <a:pt x="11" y="0"/>
                        </a:lnTo>
                        <a:lnTo>
                          <a:pt x="0" y="0"/>
                        </a:lnTo>
                        <a:lnTo>
                          <a:pt x="0" y="33"/>
                        </a:lnTo>
                        <a:lnTo>
                          <a:pt x="11" y="55"/>
                        </a:lnTo>
                        <a:lnTo>
                          <a:pt x="22" y="67"/>
                        </a:lnTo>
                        <a:lnTo>
                          <a:pt x="33" y="89"/>
                        </a:lnTo>
                        <a:lnTo>
                          <a:pt x="33" y="78"/>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Freeform 909"/>
                  <p:cNvSpPr/>
                  <p:nvPr/>
                </p:nvSpPr>
                <p:spPr>
                  <a:xfrm rot="111600">
                    <a:off x="1121400" y="689760"/>
                    <a:ext cx="16200" cy="4320"/>
                  </a:xfrm>
                  <a:custGeom>
                    <a:avLst/>
                    <a:gdLst>
                      <a:gd name="textAreaLeft" fmla="*/ 0 w 16200"/>
                      <a:gd name="textAreaRight" fmla="*/ 16560 w 16200"/>
                      <a:gd name="textAreaTop" fmla="*/ 0 h 4320"/>
                      <a:gd name="textAreaBottom" fmla="*/ 4680 h 4320"/>
                    </a:gdLst>
                    <a:ahLst/>
                    <a:rect l="textAreaLeft" t="textAreaTop" r="textAreaRight" b="textAreaBottom"/>
                    <a:pathLst>
                      <a:path w="167" h="33">
                        <a:moveTo>
                          <a:pt x="167" y="11"/>
                        </a:moveTo>
                        <a:lnTo>
                          <a:pt x="167" y="0"/>
                        </a:lnTo>
                        <a:lnTo>
                          <a:pt x="145" y="0"/>
                        </a:lnTo>
                        <a:lnTo>
                          <a:pt x="134" y="0"/>
                        </a:lnTo>
                        <a:lnTo>
                          <a:pt x="123" y="11"/>
                        </a:lnTo>
                        <a:lnTo>
                          <a:pt x="112" y="11"/>
                        </a:lnTo>
                        <a:lnTo>
                          <a:pt x="89" y="22"/>
                        </a:lnTo>
                        <a:lnTo>
                          <a:pt x="67" y="22"/>
                        </a:lnTo>
                        <a:lnTo>
                          <a:pt x="34" y="11"/>
                        </a:lnTo>
                        <a:lnTo>
                          <a:pt x="0" y="11"/>
                        </a:lnTo>
                        <a:lnTo>
                          <a:pt x="0" y="22"/>
                        </a:lnTo>
                        <a:lnTo>
                          <a:pt x="34" y="22"/>
                        </a:lnTo>
                        <a:lnTo>
                          <a:pt x="67" y="33"/>
                        </a:lnTo>
                        <a:lnTo>
                          <a:pt x="89" y="33"/>
                        </a:lnTo>
                        <a:lnTo>
                          <a:pt x="112" y="22"/>
                        </a:lnTo>
                        <a:lnTo>
                          <a:pt x="123" y="22"/>
                        </a:lnTo>
                        <a:lnTo>
                          <a:pt x="134" y="22"/>
                        </a:lnTo>
                        <a:lnTo>
                          <a:pt x="156" y="11"/>
                        </a:lnTo>
                        <a:lnTo>
                          <a:pt x="167" y="11"/>
                        </a:lnTo>
                        <a:lnTo>
                          <a:pt x="156" y="0"/>
                        </a:lnTo>
                        <a:lnTo>
                          <a:pt x="167"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Freeform 908"/>
                  <p:cNvSpPr/>
                  <p:nvPr/>
                </p:nvSpPr>
                <p:spPr>
                  <a:xfrm rot="111600">
                    <a:off x="1135800" y="690120"/>
                    <a:ext cx="7560" cy="16200"/>
                  </a:xfrm>
                  <a:custGeom>
                    <a:avLst/>
                    <a:gdLst>
                      <a:gd name="textAreaLeft" fmla="*/ 0 w 7560"/>
                      <a:gd name="textAreaRight" fmla="*/ 7920 w 7560"/>
                      <a:gd name="textAreaTop" fmla="*/ 0 h 16200"/>
                      <a:gd name="textAreaBottom" fmla="*/ 16560 h 16200"/>
                    </a:gdLst>
                    <a:ahLst/>
                    <a:rect l="textAreaLeft" t="textAreaTop" r="textAreaRight" b="textAreaBottom"/>
                    <a:pathLst>
                      <a:path w="78" h="122">
                        <a:moveTo>
                          <a:pt x="78" y="122"/>
                        </a:moveTo>
                        <a:lnTo>
                          <a:pt x="67" y="111"/>
                        </a:lnTo>
                        <a:lnTo>
                          <a:pt x="45" y="100"/>
                        </a:lnTo>
                        <a:lnTo>
                          <a:pt x="22" y="89"/>
                        </a:lnTo>
                        <a:lnTo>
                          <a:pt x="22" y="78"/>
                        </a:lnTo>
                        <a:lnTo>
                          <a:pt x="11" y="67"/>
                        </a:lnTo>
                        <a:lnTo>
                          <a:pt x="11" y="55"/>
                        </a:lnTo>
                        <a:lnTo>
                          <a:pt x="11" y="44"/>
                        </a:lnTo>
                        <a:lnTo>
                          <a:pt x="22" y="22"/>
                        </a:lnTo>
                        <a:lnTo>
                          <a:pt x="22" y="11"/>
                        </a:lnTo>
                        <a:lnTo>
                          <a:pt x="11" y="0"/>
                        </a:lnTo>
                        <a:lnTo>
                          <a:pt x="11" y="22"/>
                        </a:lnTo>
                        <a:lnTo>
                          <a:pt x="0" y="44"/>
                        </a:lnTo>
                        <a:lnTo>
                          <a:pt x="0" y="55"/>
                        </a:lnTo>
                        <a:lnTo>
                          <a:pt x="0" y="67"/>
                        </a:lnTo>
                        <a:lnTo>
                          <a:pt x="11" y="89"/>
                        </a:lnTo>
                        <a:lnTo>
                          <a:pt x="22" y="100"/>
                        </a:lnTo>
                        <a:lnTo>
                          <a:pt x="34" y="111"/>
                        </a:lnTo>
                        <a:lnTo>
                          <a:pt x="67" y="122"/>
                        </a:lnTo>
                        <a:lnTo>
                          <a:pt x="67" y="111"/>
                        </a:lnTo>
                        <a:lnTo>
                          <a:pt x="78" y="12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907"/>
                  <p:cNvSpPr/>
                  <p:nvPr/>
                </p:nvSpPr>
                <p:spPr>
                  <a:xfrm rot="111600">
                    <a:off x="1139760" y="704880"/>
                    <a:ext cx="2880" cy="14760"/>
                  </a:xfrm>
                  <a:custGeom>
                    <a:avLst/>
                    <a:gdLst>
                      <a:gd name="textAreaLeft" fmla="*/ 0 w 2880"/>
                      <a:gd name="textAreaRight" fmla="*/ 3240 w 2880"/>
                      <a:gd name="textAreaTop" fmla="*/ 0 h 14760"/>
                      <a:gd name="textAreaBottom" fmla="*/ 15120 h 14760"/>
                    </a:gdLst>
                    <a:ahLst/>
                    <a:rect l="textAreaLeft" t="textAreaTop" r="textAreaRight" b="textAreaBottom"/>
                    <a:pathLst>
                      <a:path w="33" h="112">
                        <a:moveTo>
                          <a:pt x="22" y="100"/>
                        </a:moveTo>
                        <a:lnTo>
                          <a:pt x="33" y="100"/>
                        </a:lnTo>
                        <a:lnTo>
                          <a:pt x="22" y="78"/>
                        </a:lnTo>
                        <a:lnTo>
                          <a:pt x="11" y="56"/>
                        </a:lnTo>
                        <a:lnTo>
                          <a:pt x="22" y="22"/>
                        </a:lnTo>
                        <a:lnTo>
                          <a:pt x="33" y="11"/>
                        </a:lnTo>
                        <a:lnTo>
                          <a:pt x="22" y="0"/>
                        </a:lnTo>
                        <a:lnTo>
                          <a:pt x="11" y="22"/>
                        </a:lnTo>
                        <a:lnTo>
                          <a:pt x="0" y="56"/>
                        </a:lnTo>
                        <a:lnTo>
                          <a:pt x="0" y="89"/>
                        </a:lnTo>
                        <a:lnTo>
                          <a:pt x="22" y="112"/>
                        </a:lnTo>
                        <a:lnTo>
                          <a:pt x="22" y="100"/>
                        </a:lnTo>
                        <a:close/>
                      </a:path>
                    </a:pathLst>
                  </a:custGeom>
                  <a:solidFill>
                    <a:srgbClr val="000000"/>
                  </a:solidFill>
                  <a:ln w="0">
                    <a:noFill/>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Freeform 906"/>
                  <p:cNvSpPr/>
                  <p:nvPr/>
                </p:nvSpPr>
                <p:spPr>
                  <a:xfrm rot="111600">
                    <a:off x="1141920" y="702360"/>
                    <a:ext cx="12960" cy="20520"/>
                  </a:xfrm>
                  <a:custGeom>
                    <a:avLst/>
                    <a:gdLst>
                      <a:gd name="textAreaLeft" fmla="*/ 0 w 12960"/>
                      <a:gd name="textAreaRight" fmla="*/ 13320 w 12960"/>
                      <a:gd name="textAreaTop" fmla="*/ 0 h 20520"/>
                      <a:gd name="textAreaBottom" fmla="*/ 20880 h 20520"/>
                    </a:gdLst>
                    <a:ahLst/>
                    <a:rect l="textAreaLeft" t="textAreaTop" r="textAreaRight" b="textAreaBottom"/>
                    <a:pathLst>
                      <a:path w="134" h="156">
                        <a:moveTo>
                          <a:pt x="123" y="0"/>
                        </a:moveTo>
                        <a:lnTo>
                          <a:pt x="123" y="11"/>
                        </a:lnTo>
                        <a:lnTo>
                          <a:pt x="123" y="33"/>
                        </a:lnTo>
                        <a:lnTo>
                          <a:pt x="123" y="67"/>
                        </a:lnTo>
                        <a:lnTo>
                          <a:pt x="111" y="89"/>
                        </a:lnTo>
                        <a:lnTo>
                          <a:pt x="89" y="111"/>
                        </a:lnTo>
                        <a:lnTo>
                          <a:pt x="78" y="134"/>
                        </a:lnTo>
                        <a:lnTo>
                          <a:pt x="56" y="134"/>
                        </a:lnTo>
                        <a:lnTo>
                          <a:pt x="22" y="134"/>
                        </a:lnTo>
                        <a:lnTo>
                          <a:pt x="0" y="122"/>
                        </a:lnTo>
                        <a:lnTo>
                          <a:pt x="0" y="134"/>
                        </a:lnTo>
                        <a:lnTo>
                          <a:pt x="22" y="145"/>
                        </a:lnTo>
                        <a:lnTo>
                          <a:pt x="56" y="156"/>
                        </a:lnTo>
                        <a:lnTo>
                          <a:pt x="78" y="145"/>
                        </a:lnTo>
                        <a:lnTo>
                          <a:pt x="100" y="122"/>
                        </a:lnTo>
                        <a:lnTo>
                          <a:pt x="123" y="100"/>
                        </a:lnTo>
                        <a:lnTo>
                          <a:pt x="134" y="67"/>
                        </a:lnTo>
                        <a:lnTo>
                          <a:pt x="134" y="33"/>
                        </a:lnTo>
                        <a:lnTo>
                          <a:pt x="134" y="11"/>
                        </a:lnTo>
                        <a:lnTo>
                          <a:pt x="123" y="22"/>
                        </a:lnTo>
                        <a:lnTo>
                          <a:pt x="123" y="0"/>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905"/>
                  <p:cNvSpPr/>
                  <p:nvPr/>
                </p:nvSpPr>
                <p:spPr>
                  <a:xfrm rot="111600">
                    <a:off x="1154520" y="673200"/>
                    <a:ext cx="9720" cy="32400"/>
                  </a:xfrm>
                  <a:custGeom>
                    <a:avLst/>
                    <a:gdLst>
                      <a:gd name="textAreaLeft" fmla="*/ 0 w 9720"/>
                      <a:gd name="textAreaRight" fmla="*/ 10080 w 9720"/>
                      <a:gd name="textAreaTop" fmla="*/ 0 h 32400"/>
                      <a:gd name="textAreaBottom" fmla="*/ 32760 h 32400"/>
                    </a:gdLst>
                    <a:ahLst/>
                    <a:rect l="textAreaLeft" t="textAreaTop" r="textAreaRight" b="textAreaBottom"/>
                    <a:pathLst>
                      <a:path w="100" h="245">
                        <a:moveTo>
                          <a:pt x="89" y="0"/>
                        </a:moveTo>
                        <a:lnTo>
                          <a:pt x="89" y="11"/>
                        </a:lnTo>
                        <a:lnTo>
                          <a:pt x="89" y="44"/>
                        </a:lnTo>
                        <a:lnTo>
                          <a:pt x="89" y="78"/>
                        </a:lnTo>
                        <a:lnTo>
                          <a:pt x="89" y="111"/>
                        </a:lnTo>
                        <a:lnTo>
                          <a:pt x="89" y="145"/>
                        </a:lnTo>
                        <a:lnTo>
                          <a:pt x="78" y="167"/>
                        </a:lnTo>
                        <a:lnTo>
                          <a:pt x="55" y="189"/>
                        </a:lnTo>
                        <a:lnTo>
                          <a:pt x="33" y="212"/>
                        </a:lnTo>
                        <a:lnTo>
                          <a:pt x="0" y="223"/>
                        </a:lnTo>
                        <a:lnTo>
                          <a:pt x="0" y="245"/>
                        </a:lnTo>
                        <a:lnTo>
                          <a:pt x="44" y="223"/>
                        </a:lnTo>
                        <a:lnTo>
                          <a:pt x="66" y="201"/>
                        </a:lnTo>
                        <a:lnTo>
                          <a:pt x="89" y="178"/>
                        </a:lnTo>
                        <a:lnTo>
                          <a:pt x="100" y="145"/>
                        </a:lnTo>
                        <a:lnTo>
                          <a:pt x="100" y="111"/>
                        </a:lnTo>
                        <a:lnTo>
                          <a:pt x="100" y="78"/>
                        </a:lnTo>
                        <a:lnTo>
                          <a:pt x="100" y="44"/>
                        </a:lnTo>
                        <a:lnTo>
                          <a:pt x="100" y="11"/>
                        </a:lnTo>
                        <a:lnTo>
                          <a:pt x="89" y="22"/>
                        </a:lnTo>
                        <a:lnTo>
                          <a:pt x="89" y="0"/>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Freeform 904"/>
                  <p:cNvSpPr/>
                  <p:nvPr/>
                </p:nvSpPr>
                <p:spPr>
                  <a:xfrm rot="111600">
                    <a:off x="1164240" y="653760"/>
                    <a:ext cx="21600" cy="21960"/>
                  </a:xfrm>
                  <a:custGeom>
                    <a:avLst/>
                    <a:gdLst>
                      <a:gd name="textAreaLeft" fmla="*/ 0 w 21600"/>
                      <a:gd name="textAreaRight" fmla="*/ 21960 w 21600"/>
                      <a:gd name="textAreaTop" fmla="*/ 0 h 21960"/>
                      <a:gd name="textAreaBottom" fmla="*/ 22320 h 21960"/>
                    </a:gdLst>
                    <a:ahLst/>
                    <a:rect l="textAreaLeft" t="textAreaTop" r="textAreaRight" b="textAreaBottom"/>
                    <a:pathLst>
                      <a:path w="223" h="167">
                        <a:moveTo>
                          <a:pt x="223" y="0"/>
                        </a:moveTo>
                        <a:lnTo>
                          <a:pt x="211" y="0"/>
                        </a:lnTo>
                        <a:lnTo>
                          <a:pt x="211" y="22"/>
                        </a:lnTo>
                        <a:lnTo>
                          <a:pt x="200" y="33"/>
                        </a:lnTo>
                        <a:lnTo>
                          <a:pt x="189" y="45"/>
                        </a:lnTo>
                        <a:lnTo>
                          <a:pt x="178" y="56"/>
                        </a:lnTo>
                        <a:lnTo>
                          <a:pt x="167" y="67"/>
                        </a:lnTo>
                        <a:lnTo>
                          <a:pt x="145" y="78"/>
                        </a:lnTo>
                        <a:lnTo>
                          <a:pt x="133" y="89"/>
                        </a:lnTo>
                        <a:lnTo>
                          <a:pt x="122" y="100"/>
                        </a:lnTo>
                        <a:lnTo>
                          <a:pt x="111" y="100"/>
                        </a:lnTo>
                        <a:lnTo>
                          <a:pt x="100" y="111"/>
                        </a:lnTo>
                        <a:lnTo>
                          <a:pt x="78" y="123"/>
                        </a:lnTo>
                        <a:lnTo>
                          <a:pt x="67" y="123"/>
                        </a:lnTo>
                        <a:lnTo>
                          <a:pt x="44" y="134"/>
                        </a:lnTo>
                        <a:lnTo>
                          <a:pt x="33" y="134"/>
                        </a:lnTo>
                        <a:lnTo>
                          <a:pt x="11" y="145"/>
                        </a:lnTo>
                        <a:lnTo>
                          <a:pt x="0" y="145"/>
                        </a:lnTo>
                        <a:lnTo>
                          <a:pt x="0" y="167"/>
                        </a:lnTo>
                        <a:lnTo>
                          <a:pt x="22" y="156"/>
                        </a:lnTo>
                        <a:lnTo>
                          <a:pt x="33" y="156"/>
                        </a:lnTo>
                        <a:lnTo>
                          <a:pt x="55" y="145"/>
                        </a:lnTo>
                        <a:lnTo>
                          <a:pt x="67" y="134"/>
                        </a:lnTo>
                        <a:lnTo>
                          <a:pt x="89" y="134"/>
                        </a:lnTo>
                        <a:lnTo>
                          <a:pt x="100" y="123"/>
                        </a:lnTo>
                        <a:lnTo>
                          <a:pt x="111" y="111"/>
                        </a:lnTo>
                        <a:lnTo>
                          <a:pt x="133" y="111"/>
                        </a:lnTo>
                        <a:lnTo>
                          <a:pt x="145" y="100"/>
                        </a:lnTo>
                        <a:lnTo>
                          <a:pt x="156" y="89"/>
                        </a:lnTo>
                        <a:lnTo>
                          <a:pt x="167" y="78"/>
                        </a:lnTo>
                        <a:lnTo>
                          <a:pt x="189" y="67"/>
                        </a:lnTo>
                        <a:lnTo>
                          <a:pt x="200" y="56"/>
                        </a:lnTo>
                        <a:lnTo>
                          <a:pt x="211" y="33"/>
                        </a:lnTo>
                        <a:lnTo>
                          <a:pt x="211" y="22"/>
                        </a:lnTo>
                        <a:lnTo>
                          <a:pt x="223" y="11"/>
                        </a:lnTo>
                        <a:lnTo>
                          <a:pt x="211" y="11"/>
                        </a:lnTo>
                        <a:lnTo>
                          <a:pt x="223"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Freeform 903"/>
                  <p:cNvSpPr/>
                  <p:nvPr/>
                </p:nvSpPr>
                <p:spPr>
                  <a:xfrm rot="111600">
                    <a:off x="1185120" y="650160"/>
                    <a:ext cx="20520" cy="11520"/>
                  </a:xfrm>
                  <a:custGeom>
                    <a:avLst/>
                    <a:gdLst>
                      <a:gd name="textAreaLeft" fmla="*/ 0 w 20520"/>
                      <a:gd name="textAreaRight" fmla="*/ 20880 w 20520"/>
                      <a:gd name="textAreaTop" fmla="*/ 0 h 11520"/>
                      <a:gd name="textAreaBottom" fmla="*/ 11880 h 11520"/>
                    </a:gdLst>
                    <a:ahLst/>
                    <a:rect l="textAreaLeft" t="textAreaTop" r="textAreaRight" b="textAreaBottom"/>
                    <a:pathLst>
                      <a:path w="212" h="89">
                        <a:moveTo>
                          <a:pt x="212" y="0"/>
                        </a:moveTo>
                        <a:lnTo>
                          <a:pt x="201" y="0"/>
                        </a:lnTo>
                        <a:lnTo>
                          <a:pt x="179" y="22"/>
                        </a:lnTo>
                        <a:lnTo>
                          <a:pt x="168" y="44"/>
                        </a:lnTo>
                        <a:lnTo>
                          <a:pt x="134" y="55"/>
                        </a:lnTo>
                        <a:lnTo>
                          <a:pt x="112" y="66"/>
                        </a:lnTo>
                        <a:lnTo>
                          <a:pt x="90" y="78"/>
                        </a:lnTo>
                        <a:lnTo>
                          <a:pt x="56" y="66"/>
                        </a:lnTo>
                        <a:lnTo>
                          <a:pt x="34" y="55"/>
                        </a:lnTo>
                        <a:lnTo>
                          <a:pt x="12" y="33"/>
                        </a:lnTo>
                        <a:lnTo>
                          <a:pt x="0" y="44"/>
                        </a:lnTo>
                        <a:lnTo>
                          <a:pt x="34" y="66"/>
                        </a:lnTo>
                        <a:lnTo>
                          <a:pt x="56" y="89"/>
                        </a:lnTo>
                        <a:lnTo>
                          <a:pt x="90" y="89"/>
                        </a:lnTo>
                        <a:lnTo>
                          <a:pt x="112" y="78"/>
                        </a:lnTo>
                        <a:lnTo>
                          <a:pt x="145" y="66"/>
                        </a:lnTo>
                        <a:lnTo>
                          <a:pt x="168" y="55"/>
                        </a:lnTo>
                        <a:lnTo>
                          <a:pt x="190" y="33"/>
                        </a:lnTo>
                        <a:lnTo>
                          <a:pt x="212" y="11"/>
                        </a:lnTo>
                        <a:lnTo>
                          <a:pt x="201" y="11"/>
                        </a:lnTo>
                        <a:lnTo>
                          <a:pt x="212" y="0"/>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Freeform 902"/>
                  <p:cNvSpPr/>
                  <p:nvPr/>
                </p:nvSpPr>
                <p:spPr>
                  <a:xfrm rot="111600">
                    <a:off x="1204560" y="650880"/>
                    <a:ext cx="20520" cy="14400"/>
                  </a:xfrm>
                  <a:custGeom>
                    <a:avLst/>
                    <a:gdLst>
                      <a:gd name="textAreaLeft" fmla="*/ 0 w 20520"/>
                      <a:gd name="textAreaRight" fmla="*/ 20880 w 20520"/>
                      <a:gd name="textAreaTop" fmla="*/ 0 h 14400"/>
                      <a:gd name="textAreaBottom" fmla="*/ 14760 h 14400"/>
                    </a:gdLst>
                    <a:ahLst/>
                    <a:rect l="textAreaLeft" t="textAreaTop" r="textAreaRight" b="textAreaBottom"/>
                    <a:pathLst>
                      <a:path w="212" h="111">
                        <a:moveTo>
                          <a:pt x="212" y="100"/>
                        </a:moveTo>
                        <a:lnTo>
                          <a:pt x="201" y="89"/>
                        </a:lnTo>
                        <a:lnTo>
                          <a:pt x="167" y="100"/>
                        </a:lnTo>
                        <a:lnTo>
                          <a:pt x="134" y="100"/>
                        </a:lnTo>
                        <a:lnTo>
                          <a:pt x="112" y="100"/>
                        </a:lnTo>
                        <a:lnTo>
                          <a:pt x="89" y="89"/>
                        </a:lnTo>
                        <a:lnTo>
                          <a:pt x="67" y="66"/>
                        </a:lnTo>
                        <a:lnTo>
                          <a:pt x="45" y="44"/>
                        </a:lnTo>
                        <a:lnTo>
                          <a:pt x="34" y="22"/>
                        </a:lnTo>
                        <a:lnTo>
                          <a:pt x="11" y="0"/>
                        </a:lnTo>
                        <a:lnTo>
                          <a:pt x="0" y="11"/>
                        </a:lnTo>
                        <a:lnTo>
                          <a:pt x="22" y="33"/>
                        </a:lnTo>
                        <a:lnTo>
                          <a:pt x="34" y="55"/>
                        </a:lnTo>
                        <a:lnTo>
                          <a:pt x="67" y="78"/>
                        </a:lnTo>
                        <a:lnTo>
                          <a:pt x="89" y="100"/>
                        </a:lnTo>
                        <a:lnTo>
                          <a:pt x="112" y="111"/>
                        </a:lnTo>
                        <a:lnTo>
                          <a:pt x="134" y="111"/>
                        </a:lnTo>
                        <a:lnTo>
                          <a:pt x="167" y="111"/>
                        </a:lnTo>
                        <a:lnTo>
                          <a:pt x="201" y="100"/>
                        </a:lnTo>
                        <a:lnTo>
                          <a:pt x="201" y="89"/>
                        </a:lnTo>
                        <a:lnTo>
                          <a:pt x="212" y="100"/>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Freeform 901"/>
                  <p:cNvSpPr/>
                  <p:nvPr/>
                </p:nvSpPr>
                <p:spPr>
                  <a:xfrm rot="111600">
                    <a:off x="1222560" y="663480"/>
                    <a:ext cx="8640" cy="23400"/>
                  </a:xfrm>
                  <a:custGeom>
                    <a:avLst/>
                    <a:gdLst>
                      <a:gd name="textAreaLeft" fmla="*/ 0 w 8640"/>
                      <a:gd name="textAreaRight" fmla="*/ 9000 w 8640"/>
                      <a:gd name="textAreaTop" fmla="*/ 0 h 23400"/>
                      <a:gd name="textAreaBottom" fmla="*/ 23760 h 23400"/>
                    </a:gdLst>
                    <a:ahLst/>
                    <a:rect l="textAreaLeft" t="textAreaTop" r="textAreaRight" b="textAreaBottom"/>
                    <a:pathLst>
                      <a:path w="89" h="178">
                        <a:moveTo>
                          <a:pt x="89" y="167"/>
                        </a:moveTo>
                        <a:lnTo>
                          <a:pt x="89" y="167"/>
                        </a:lnTo>
                        <a:lnTo>
                          <a:pt x="66" y="156"/>
                        </a:lnTo>
                        <a:lnTo>
                          <a:pt x="55" y="133"/>
                        </a:lnTo>
                        <a:lnTo>
                          <a:pt x="33" y="111"/>
                        </a:lnTo>
                        <a:lnTo>
                          <a:pt x="22" y="89"/>
                        </a:lnTo>
                        <a:lnTo>
                          <a:pt x="22" y="67"/>
                        </a:lnTo>
                        <a:lnTo>
                          <a:pt x="11" y="44"/>
                        </a:lnTo>
                        <a:lnTo>
                          <a:pt x="11" y="22"/>
                        </a:lnTo>
                        <a:lnTo>
                          <a:pt x="22" y="11"/>
                        </a:lnTo>
                        <a:lnTo>
                          <a:pt x="11" y="0"/>
                        </a:lnTo>
                        <a:lnTo>
                          <a:pt x="0" y="22"/>
                        </a:lnTo>
                        <a:lnTo>
                          <a:pt x="0" y="44"/>
                        </a:lnTo>
                        <a:lnTo>
                          <a:pt x="11" y="67"/>
                        </a:lnTo>
                        <a:lnTo>
                          <a:pt x="11" y="100"/>
                        </a:lnTo>
                        <a:lnTo>
                          <a:pt x="22" y="122"/>
                        </a:lnTo>
                        <a:lnTo>
                          <a:pt x="44" y="145"/>
                        </a:lnTo>
                        <a:lnTo>
                          <a:pt x="55" y="167"/>
                        </a:lnTo>
                        <a:lnTo>
                          <a:pt x="89" y="178"/>
                        </a:lnTo>
                        <a:lnTo>
                          <a:pt x="89" y="167"/>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Freeform 900"/>
                  <p:cNvSpPr/>
                  <p:nvPr/>
                </p:nvSpPr>
                <p:spPr>
                  <a:xfrm rot="111600">
                    <a:off x="1230840" y="684360"/>
                    <a:ext cx="8640" cy="2880"/>
                  </a:xfrm>
                  <a:custGeom>
                    <a:avLst/>
                    <a:gdLst>
                      <a:gd name="textAreaLeft" fmla="*/ 0 w 8640"/>
                      <a:gd name="textAreaRight" fmla="*/ 9000 w 8640"/>
                      <a:gd name="textAreaTop" fmla="*/ 0 h 2880"/>
                      <a:gd name="textAreaBottom" fmla="*/ 3240 h 2880"/>
                    </a:gdLst>
                    <a:ahLst/>
                    <a:rect l="textAreaLeft" t="textAreaTop" r="textAreaRight" b="textAreaBottom"/>
                    <a:pathLst>
                      <a:path w="89" h="22">
                        <a:moveTo>
                          <a:pt x="89" y="11"/>
                        </a:moveTo>
                        <a:lnTo>
                          <a:pt x="78" y="0"/>
                        </a:lnTo>
                        <a:lnTo>
                          <a:pt x="67" y="0"/>
                        </a:lnTo>
                        <a:lnTo>
                          <a:pt x="44" y="11"/>
                        </a:lnTo>
                        <a:lnTo>
                          <a:pt x="33" y="11"/>
                        </a:lnTo>
                        <a:lnTo>
                          <a:pt x="22" y="11"/>
                        </a:lnTo>
                        <a:lnTo>
                          <a:pt x="11" y="11"/>
                        </a:lnTo>
                        <a:lnTo>
                          <a:pt x="0" y="11"/>
                        </a:lnTo>
                        <a:lnTo>
                          <a:pt x="0" y="22"/>
                        </a:lnTo>
                        <a:lnTo>
                          <a:pt x="11" y="22"/>
                        </a:lnTo>
                        <a:lnTo>
                          <a:pt x="22" y="22"/>
                        </a:lnTo>
                        <a:lnTo>
                          <a:pt x="44" y="22"/>
                        </a:lnTo>
                        <a:lnTo>
                          <a:pt x="55" y="22"/>
                        </a:lnTo>
                        <a:lnTo>
                          <a:pt x="67" y="22"/>
                        </a:lnTo>
                        <a:lnTo>
                          <a:pt x="78" y="22"/>
                        </a:lnTo>
                        <a:lnTo>
                          <a:pt x="78" y="11"/>
                        </a:lnTo>
                        <a:lnTo>
                          <a:pt x="89"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Freeform 899"/>
                  <p:cNvSpPr/>
                  <p:nvPr/>
                </p:nvSpPr>
                <p:spPr>
                  <a:xfrm rot="111600">
                    <a:off x="1237320" y="686160"/>
                    <a:ext cx="1800" cy="14400"/>
                  </a:xfrm>
                  <a:custGeom>
                    <a:avLst/>
                    <a:gdLst>
                      <a:gd name="textAreaLeft" fmla="*/ 0 w 1800"/>
                      <a:gd name="textAreaRight" fmla="*/ 2160 w 1800"/>
                      <a:gd name="textAreaTop" fmla="*/ 0 h 14400"/>
                      <a:gd name="textAreaBottom" fmla="*/ 14760 h 14400"/>
                    </a:gdLst>
                    <a:ahLst/>
                    <a:rect l="textAreaLeft" t="textAreaTop" r="textAreaRight" b="textAreaBottom"/>
                    <a:pathLst>
                      <a:path w="22" h="111">
                        <a:moveTo>
                          <a:pt x="22" y="100"/>
                        </a:moveTo>
                        <a:lnTo>
                          <a:pt x="22" y="100"/>
                        </a:lnTo>
                        <a:lnTo>
                          <a:pt x="11" y="78"/>
                        </a:lnTo>
                        <a:lnTo>
                          <a:pt x="11" y="56"/>
                        </a:lnTo>
                        <a:lnTo>
                          <a:pt x="22" y="22"/>
                        </a:lnTo>
                        <a:lnTo>
                          <a:pt x="22" y="0"/>
                        </a:lnTo>
                        <a:lnTo>
                          <a:pt x="11" y="0"/>
                        </a:lnTo>
                        <a:lnTo>
                          <a:pt x="0" y="22"/>
                        </a:lnTo>
                        <a:lnTo>
                          <a:pt x="0" y="56"/>
                        </a:lnTo>
                        <a:lnTo>
                          <a:pt x="0" y="78"/>
                        </a:lnTo>
                        <a:lnTo>
                          <a:pt x="11" y="111"/>
                        </a:lnTo>
                        <a:lnTo>
                          <a:pt x="22" y="100"/>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Freeform 898"/>
                  <p:cNvSpPr/>
                  <p:nvPr/>
                </p:nvSpPr>
                <p:spPr>
                  <a:xfrm rot="111600">
                    <a:off x="1238040" y="699480"/>
                    <a:ext cx="7560" cy="10080"/>
                  </a:xfrm>
                  <a:custGeom>
                    <a:avLst/>
                    <a:gdLst>
                      <a:gd name="textAreaLeft" fmla="*/ 0 w 7560"/>
                      <a:gd name="textAreaRight" fmla="*/ 7920 w 7560"/>
                      <a:gd name="textAreaTop" fmla="*/ 0 h 10080"/>
                      <a:gd name="textAreaBottom" fmla="*/ 10440 h 10080"/>
                    </a:gdLst>
                    <a:ahLst/>
                    <a:rect l="textAreaLeft" t="textAreaTop" r="textAreaRight" b="textAreaBottom"/>
                    <a:pathLst>
                      <a:path w="78" h="78">
                        <a:moveTo>
                          <a:pt x="78" y="78"/>
                        </a:moveTo>
                        <a:lnTo>
                          <a:pt x="78" y="67"/>
                        </a:lnTo>
                        <a:lnTo>
                          <a:pt x="67" y="67"/>
                        </a:lnTo>
                        <a:lnTo>
                          <a:pt x="67" y="56"/>
                        </a:lnTo>
                        <a:lnTo>
                          <a:pt x="55" y="56"/>
                        </a:lnTo>
                        <a:lnTo>
                          <a:pt x="44" y="45"/>
                        </a:lnTo>
                        <a:lnTo>
                          <a:pt x="33" y="34"/>
                        </a:lnTo>
                        <a:lnTo>
                          <a:pt x="33" y="23"/>
                        </a:lnTo>
                        <a:lnTo>
                          <a:pt x="22" y="11"/>
                        </a:lnTo>
                        <a:lnTo>
                          <a:pt x="11" y="0"/>
                        </a:lnTo>
                        <a:lnTo>
                          <a:pt x="0" y="11"/>
                        </a:lnTo>
                        <a:lnTo>
                          <a:pt x="11" y="23"/>
                        </a:lnTo>
                        <a:lnTo>
                          <a:pt x="22" y="34"/>
                        </a:lnTo>
                        <a:lnTo>
                          <a:pt x="22" y="45"/>
                        </a:lnTo>
                        <a:lnTo>
                          <a:pt x="33" y="56"/>
                        </a:lnTo>
                        <a:lnTo>
                          <a:pt x="44" y="67"/>
                        </a:lnTo>
                        <a:lnTo>
                          <a:pt x="55" y="67"/>
                        </a:lnTo>
                        <a:lnTo>
                          <a:pt x="67" y="78"/>
                        </a:lnTo>
                        <a:lnTo>
                          <a:pt x="78" y="78"/>
                        </a:lnTo>
                        <a:lnTo>
                          <a:pt x="67" y="78"/>
                        </a:lnTo>
                        <a:lnTo>
                          <a:pt x="78" y="78"/>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Freeform 897"/>
                  <p:cNvSpPr/>
                  <p:nvPr/>
                </p:nvSpPr>
                <p:spPr>
                  <a:xfrm rot="111600">
                    <a:off x="1244520" y="709920"/>
                    <a:ext cx="2880" cy="17640"/>
                  </a:xfrm>
                  <a:custGeom>
                    <a:avLst/>
                    <a:gdLst>
                      <a:gd name="textAreaLeft" fmla="*/ 0 w 2880"/>
                      <a:gd name="textAreaRight" fmla="*/ 3240 w 2880"/>
                      <a:gd name="textAreaTop" fmla="*/ 0 h 17640"/>
                      <a:gd name="textAreaBottom" fmla="*/ 18000 h 17640"/>
                    </a:gdLst>
                    <a:ahLst/>
                    <a:rect l="textAreaLeft" t="textAreaTop" r="textAreaRight" b="textAreaBottom"/>
                    <a:pathLst>
                      <a:path w="33" h="134">
                        <a:moveTo>
                          <a:pt x="33" y="112"/>
                        </a:moveTo>
                        <a:lnTo>
                          <a:pt x="33" y="112"/>
                        </a:lnTo>
                        <a:lnTo>
                          <a:pt x="22" y="89"/>
                        </a:lnTo>
                        <a:lnTo>
                          <a:pt x="11" y="67"/>
                        </a:lnTo>
                        <a:lnTo>
                          <a:pt x="11" y="34"/>
                        </a:lnTo>
                        <a:lnTo>
                          <a:pt x="11" y="0"/>
                        </a:lnTo>
                        <a:lnTo>
                          <a:pt x="0" y="0"/>
                        </a:lnTo>
                        <a:lnTo>
                          <a:pt x="0" y="34"/>
                        </a:lnTo>
                        <a:lnTo>
                          <a:pt x="0" y="67"/>
                        </a:lnTo>
                        <a:lnTo>
                          <a:pt x="11" y="101"/>
                        </a:lnTo>
                        <a:lnTo>
                          <a:pt x="22" y="123"/>
                        </a:lnTo>
                        <a:lnTo>
                          <a:pt x="33" y="134"/>
                        </a:lnTo>
                        <a:lnTo>
                          <a:pt x="33" y="112"/>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Freeform 896"/>
                  <p:cNvSpPr/>
                  <p:nvPr/>
                </p:nvSpPr>
                <p:spPr>
                  <a:xfrm rot="111600">
                    <a:off x="1247760" y="709920"/>
                    <a:ext cx="9720" cy="17640"/>
                  </a:xfrm>
                  <a:custGeom>
                    <a:avLst/>
                    <a:gdLst>
                      <a:gd name="textAreaLeft" fmla="*/ 0 w 9720"/>
                      <a:gd name="textAreaRight" fmla="*/ 10080 w 9720"/>
                      <a:gd name="textAreaTop" fmla="*/ 0 h 17640"/>
                      <a:gd name="textAreaBottom" fmla="*/ 18000 h 17640"/>
                    </a:gdLst>
                    <a:ahLst/>
                    <a:rect l="textAreaLeft" t="textAreaTop" r="textAreaRight" b="textAreaBottom"/>
                    <a:pathLst>
                      <a:path w="100" h="134">
                        <a:moveTo>
                          <a:pt x="89" y="0"/>
                        </a:moveTo>
                        <a:lnTo>
                          <a:pt x="89" y="11"/>
                        </a:lnTo>
                        <a:lnTo>
                          <a:pt x="89" y="45"/>
                        </a:lnTo>
                        <a:lnTo>
                          <a:pt x="89" y="67"/>
                        </a:lnTo>
                        <a:lnTo>
                          <a:pt x="78" y="89"/>
                        </a:lnTo>
                        <a:lnTo>
                          <a:pt x="67" y="101"/>
                        </a:lnTo>
                        <a:lnTo>
                          <a:pt x="56" y="112"/>
                        </a:lnTo>
                        <a:lnTo>
                          <a:pt x="45" y="123"/>
                        </a:lnTo>
                        <a:lnTo>
                          <a:pt x="22" y="123"/>
                        </a:lnTo>
                        <a:lnTo>
                          <a:pt x="0" y="112"/>
                        </a:lnTo>
                        <a:lnTo>
                          <a:pt x="0" y="134"/>
                        </a:lnTo>
                        <a:lnTo>
                          <a:pt x="22" y="134"/>
                        </a:lnTo>
                        <a:lnTo>
                          <a:pt x="45" y="134"/>
                        </a:lnTo>
                        <a:lnTo>
                          <a:pt x="56" y="123"/>
                        </a:lnTo>
                        <a:lnTo>
                          <a:pt x="78" y="112"/>
                        </a:lnTo>
                        <a:lnTo>
                          <a:pt x="89" y="101"/>
                        </a:lnTo>
                        <a:lnTo>
                          <a:pt x="100" y="67"/>
                        </a:lnTo>
                        <a:lnTo>
                          <a:pt x="100" y="45"/>
                        </a:lnTo>
                        <a:lnTo>
                          <a:pt x="100" y="11"/>
                        </a:lnTo>
                        <a:lnTo>
                          <a:pt x="89" y="0"/>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Freeform 895"/>
                  <p:cNvSpPr/>
                  <p:nvPr/>
                </p:nvSpPr>
                <p:spPr>
                  <a:xfrm rot="111600">
                    <a:off x="1256760" y="698400"/>
                    <a:ext cx="5400" cy="12960"/>
                  </a:xfrm>
                  <a:custGeom>
                    <a:avLst/>
                    <a:gdLst>
                      <a:gd name="textAreaLeft" fmla="*/ 0 w 5400"/>
                      <a:gd name="textAreaRight" fmla="*/ 5760 w 5400"/>
                      <a:gd name="textAreaTop" fmla="*/ 0 h 12960"/>
                      <a:gd name="textAreaBottom" fmla="*/ 13320 h 12960"/>
                    </a:gdLst>
                    <a:ahLst/>
                    <a:rect l="textAreaLeft" t="textAreaTop" r="textAreaRight" b="textAreaBottom"/>
                    <a:pathLst>
                      <a:path w="56" h="100">
                        <a:moveTo>
                          <a:pt x="56" y="0"/>
                        </a:moveTo>
                        <a:lnTo>
                          <a:pt x="45" y="0"/>
                        </a:lnTo>
                        <a:lnTo>
                          <a:pt x="45" y="22"/>
                        </a:lnTo>
                        <a:lnTo>
                          <a:pt x="45" y="34"/>
                        </a:lnTo>
                        <a:lnTo>
                          <a:pt x="45" y="45"/>
                        </a:lnTo>
                        <a:lnTo>
                          <a:pt x="34" y="56"/>
                        </a:lnTo>
                        <a:lnTo>
                          <a:pt x="34" y="67"/>
                        </a:lnTo>
                        <a:lnTo>
                          <a:pt x="23" y="67"/>
                        </a:lnTo>
                        <a:lnTo>
                          <a:pt x="11" y="78"/>
                        </a:lnTo>
                        <a:lnTo>
                          <a:pt x="0" y="89"/>
                        </a:lnTo>
                        <a:lnTo>
                          <a:pt x="11" y="100"/>
                        </a:lnTo>
                        <a:lnTo>
                          <a:pt x="23" y="89"/>
                        </a:lnTo>
                        <a:lnTo>
                          <a:pt x="34" y="78"/>
                        </a:lnTo>
                        <a:lnTo>
                          <a:pt x="45" y="67"/>
                        </a:lnTo>
                        <a:lnTo>
                          <a:pt x="45" y="56"/>
                        </a:lnTo>
                        <a:lnTo>
                          <a:pt x="56" y="45"/>
                        </a:lnTo>
                        <a:lnTo>
                          <a:pt x="56" y="34"/>
                        </a:lnTo>
                        <a:lnTo>
                          <a:pt x="56" y="22"/>
                        </a:lnTo>
                        <a:lnTo>
                          <a:pt x="56" y="0"/>
                        </a:lnTo>
                        <a:lnTo>
                          <a:pt x="45" y="0"/>
                        </a:lnTo>
                        <a:lnTo>
                          <a:pt x="56" y="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Freeform 894"/>
                  <p:cNvSpPr/>
                  <p:nvPr/>
                </p:nvSpPr>
                <p:spPr>
                  <a:xfrm rot="111600">
                    <a:off x="1261080" y="698400"/>
                    <a:ext cx="8640" cy="8640"/>
                  </a:xfrm>
                  <a:custGeom>
                    <a:avLst/>
                    <a:gdLst>
                      <a:gd name="textAreaLeft" fmla="*/ 0 w 8640"/>
                      <a:gd name="textAreaRight" fmla="*/ 9000 w 8640"/>
                      <a:gd name="textAreaTop" fmla="*/ 0 h 8640"/>
                      <a:gd name="textAreaBottom" fmla="*/ 9000 h 8640"/>
                    </a:gdLst>
                    <a:ahLst/>
                    <a:rect l="textAreaLeft" t="textAreaTop" r="textAreaRight" b="textAreaBottom"/>
                    <a:pathLst>
                      <a:path w="89" h="67">
                        <a:moveTo>
                          <a:pt x="89" y="56"/>
                        </a:moveTo>
                        <a:lnTo>
                          <a:pt x="89" y="56"/>
                        </a:lnTo>
                        <a:lnTo>
                          <a:pt x="78" y="56"/>
                        </a:lnTo>
                        <a:lnTo>
                          <a:pt x="67" y="45"/>
                        </a:lnTo>
                        <a:lnTo>
                          <a:pt x="56" y="45"/>
                        </a:lnTo>
                        <a:lnTo>
                          <a:pt x="44" y="34"/>
                        </a:lnTo>
                        <a:lnTo>
                          <a:pt x="33" y="22"/>
                        </a:lnTo>
                        <a:lnTo>
                          <a:pt x="22" y="11"/>
                        </a:lnTo>
                        <a:lnTo>
                          <a:pt x="22" y="0"/>
                        </a:lnTo>
                        <a:lnTo>
                          <a:pt x="11" y="0"/>
                        </a:lnTo>
                        <a:lnTo>
                          <a:pt x="0" y="0"/>
                        </a:lnTo>
                        <a:lnTo>
                          <a:pt x="11" y="11"/>
                        </a:lnTo>
                        <a:lnTo>
                          <a:pt x="11" y="22"/>
                        </a:lnTo>
                        <a:lnTo>
                          <a:pt x="22" y="34"/>
                        </a:lnTo>
                        <a:lnTo>
                          <a:pt x="44" y="45"/>
                        </a:lnTo>
                        <a:lnTo>
                          <a:pt x="56" y="56"/>
                        </a:lnTo>
                        <a:lnTo>
                          <a:pt x="67" y="56"/>
                        </a:lnTo>
                        <a:lnTo>
                          <a:pt x="78" y="67"/>
                        </a:lnTo>
                        <a:lnTo>
                          <a:pt x="89" y="67"/>
                        </a:lnTo>
                        <a:lnTo>
                          <a:pt x="89" y="56"/>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Freeform 893"/>
                  <p:cNvSpPr/>
                  <p:nvPr/>
                </p:nvSpPr>
                <p:spPr>
                  <a:xfrm rot="111600">
                    <a:off x="1270080" y="678240"/>
                    <a:ext cx="15120" cy="29520"/>
                  </a:xfrm>
                  <a:custGeom>
                    <a:avLst/>
                    <a:gdLst>
                      <a:gd name="textAreaLeft" fmla="*/ 0 w 15120"/>
                      <a:gd name="textAreaRight" fmla="*/ 15480 w 15120"/>
                      <a:gd name="textAreaTop" fmla="*/ 0 h 29520"/>
                      <a:gd name="textAreaBottom" fmla="*/ 29880 h 29520"/>
                    </a:gdLst>
                    <a:ahLst/>
                    <a:rect l="textAreaLeft" t="textAreaTop" r="textAreaRight" b="textAreaBottom"/>
                    <a:pathLst>
                      <a:path w="156" h="223">
                        <a:moveTo>
                          <a:pt x="123" y="11"/>
                        </a:moveTo>
                        <a:lnTo>
                          <a:pt x="123" y="11"/>
                        </a:lnTo>
                        <a:lnTo>
                          <a:pt x="134" y="33"/>
                        </a:lnTo>
                        <a:lnTo>
                          <a:pt x="145" y="67"/>
                        </a:lnTo>
                        <a:lnTo>
                          <a:pt x="145" y="111"/>
                        </a:lnTo>
                        <a:lnTo>
                          <a:pt x="134" y="145"/>
                        </a:lnTo>
                        <a:lnTo>
                          <a:pt x="111" y="167"/>
                        </a:lnTo>
                        <a:lnTo>
                          <a:pt x="78" y="190"/>
                        </a:lnTo>
                        <a:lnTo>
                          <a:pt x="45" y="212"/>
                        </a:lnTo>
                        <a:lnTo>
                          <a:pt x="0" y="212"/>
                        </a:lnTo>
                        <a:lnTo>
                          <a:pt x="0" y="223"/>
                        </a:lnTo>
                        <a:lnTo>
                          <a:pt x="45" y="223"/>
                        </a:lnTo>
                        <a:lnTo>
                          <a:pt x="89" y="212"/>
                        </a:lnTo>
                        <a:lnTo>
                          <a:pt x="123" y="178"/>
                        </a:lnTo>
                        <a:lnTo>
                          <a:pt x="145" y="145"/>
                        </a:lnTo>
                        <a:lnTo>
                          <a:pt x="156" y="111"/>
                        </a:lnTo>
                        <a:lnTo>
                          <a:pt x="156" y="67"/>
                        </a:lnTo>
                        <a:lnTo>
                          <a:pt x="145" y="33"/>
                        </a:lnTo>
                        <a:lnTo>
                          <a:pt x="134" y="0"/>
                        </a:lnTo>
                        <a:lnTo>
                          <a:pt x="123" y="11"/>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Freeform 892"/>
                  <p:cNvSpPr/>
                  <p:nvPr/>
                </p:nvSpPr>
                <p:spPr>
                  <a:xfrm rot="111600">
                    <a:off x="1275840" y="674280"/>
                    <a:ext cx="7560" cy="5760"/>
                  </a:xfrm>
                  <a:custGeom>
                    <a:avLst/>
                    <a:gdLst>
                      <a:gd name="textAreaLeft" fmla="*/ 0 w 7560"/>
                      <a:gd name="textAreaRight" fmla="*/ 7920 w 7560"/>
                      <a:gd name="textAreaTop" fmla="*/ 0 h 5760"/>
                      <a:gd name="textAreaBottom" fmla="*/ 6120 h 5760"/>
                    </a:gdLst>
                    <a:ahLst/>
                    <a:rect l="textAreaLeft" t="textAreaTop" r="textAreaRight" b="textAreaBottom"/>
                    <a:pathLst>
                      <a:path w="78" h="44">
                        <a:moveTo>
                          <a:pt x="0" y="0"/>
                        </a:moveTo>
                        <a:lnTo>
                          <a:pt x="11" y="11"/>
                        </a:lnTo>
                        <a:lnTo>
                          <a:pt x="22" y="22"/>
                        </a:lnTo>
                        <a:lnTo>
                          <a:pt x="33" y="22"/>
                        </a:lnTo>
                        <a:lnTo>
                          <a:pt x="44" y="33"/>
                        </a:lnTo>
                        <a:lnTo>
                          <a:pt x="55" y="33"/>
                        </a:lnTo>
                        <a:lnTo>
                          <a:pt x="55" y="44"/>
                        </a:lnTo>
                        <a:lnTo>
                          <a:pt x="67" y="44"/>
                        </a:lnTo>
                        <a:lnTo>
                          <a:pt x="78" y="33"/>
                        </a:lnTo>
                        <a:lnTo>
                          <a:pt x="67" y="33"/>
                        </a:lnTo>
                        <a:lnTo>
                          <a:pt x="67" y="22"/>
                        </a:lnTo>
                        <a:lnTo>
                          <a:pt x="55" y="22"/>
                        </a:lnTo>
                        <a:lnTo>
                          <a:pt x="44" y="11"/>
                        </a:lnTo>
                        <a:lnTo>
                          <a:pt x="33" y="11"/>
                        </a:lnTo>
                        <a:lnTo>
                          <a:pt x="22" y="0"/>
                        </a:lnTo>
                        <a:lnTo>
                          <a:pt x="11" y="0"/>
                        </a:lnTo>
                        <a:lnTo>
                          <a:pt x="22" y="11"/>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Freeform 891"/>
                  <p:cNvSpPr/>
                  <p:nvPr/>
                </p:nvSpPr>
                <p:spPr>
                  <a:xfrm rot="111600">
                    <a:off x="1274400" y="653040"/>
                    <a:ext cx="6480" cy="21960"/>
                  </a:xfrm>
                  <a:custGeom>
                    <a:avLst/>
                    <a:gdLst>
                      <a:gd name="textAreaLeft" fmla="*/ 0 w 6480"/>
                      <a:gd name="textAreaRight" fmla="*/ 6840 w 6480"/>
                      <a:gd name="textAreaTop" fmla="*/ 0 h 21960"/>
                      <a:gd name="textAreaBottom" fmla="*/ 22320 h 21960"/>
                    </a:gdLst>
                    <a:ahLst/>
                    <a:rect l="textAreaLeft" t="textAreaTop" r="textAreaRight" b="textAreaBottom"/>
                    <a:pathLst>
                      <a:path w="67" h="167">
                        <a:moveTo>
                          <a:pt x="0" y="0"/>
                        </a:moveTo>
                        <a:lnTo>
                          <a:pt x="0" y="11"/>
                        </a:lnTo>
                        <a:lnTo>
                          <a:pt x="23" y="22"/>
                        </a:lnTo>
                        <a:lnTo>
                          <a:pt x="34" y="44"/>
                        </a:lnTo>
                        <a:lnTo>
                          <a:pt x="45" y="55"/>
                        </a:lnTo>
                        <a:lnTo>
                          <a:pt x="56" y="66"/>
                        </a:lnTo>
                        <a:lnTo>
                          <a:pt x="56" y="89"/>
                        </a:lnTo>
                        <a:lnTo>
                          <a:pt x="45" y="111"/>
                        </a:lnTo>
                        <a:lnTo>
                          <a:pt x="45" y="133"/>
                        </a:lnTo>
                        <a:lnTo>
                          <a:pt x="23" y="156"/>
                        </a:lnTo>
                        <a:lnTo>
                          <a:pt x="45" y="167"/>
                        </a:lnTo>
                        <a:lnTo>
                          <a:pt x="56" y="133"/>
                        </a:lnTo>
                        <a:lnTo>
                          <a:pt x="67" y="111"/>
                        </a:lnTo>
                        <a:lnTo>
                          <a:pt x="67" y="89"/>
                        </a:lnTo>
                        <a:lnTo>
                          <a:pt x="67" y="66"/>
                        </a:lnTo>
                        <a:lnTo>
                          <a:pt x="56" y="55"/>
                        </a:lnTo>
                        <a:lnTo>
                          <a:pt x="45" y="33"/>
                        </a:lnTo>
                        <a:lnTo>
                          <a:pt x="23" y="11"/>
                        </a:lnTo>
                        <a:lnTo>
                          <a:pt x="0" y="0"/>
                        </a:lnTo>
                        <a:lnTo>
                          <a:pt x="0" y="11"/>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Freeform 890"/>
                  <p:cNvSpPr/>
                  <p:nvPr/>
                </p:nvSpPr>
                <p:spPr>
                  <a:xfrm rot="111600">
                    <a:off x="1256760" y="620280"/>
                    <a:ext cx="23760" cy="33840"/>
                  </a:xfrm>
                  <a:custGeom>
                    <a:avLst/>
                    <a:gdLst>
                      <a:gd name="textAreaLeft" fmla="*/ 0 w 23760"/>
                      <a:gd name="textAreaRight" fmla="*/ 24120 w 23760"/>
                      <a:gd name="textAreaTop" fmla="*/ 0 h 33840"/>
                      <a:gd name="textAreaBottom" fmla="*/ 34200 h 33840"/>
                    </a:gdLst>
                    <a:ahLst/>
                    <a:rect l="textAreaLeft" t="textAreaTop" r="textAreaRight" b="textAreaBottom"/>
                    <a:pathLst>
                      <a:path w="245" h="257">
                        <a:moveTo>
                          <a:pt x="0" y="23"/>
                        </a:moveTo>
                        <a:lnTo>
                          <a:pt x="11" y="23"/>
                        </a:lnTo>
                        <a:lnTo>
                          <a:pt x="33" y="23"/>
                        </a:lnTo>
                        <a:lnTo>
                          <a:pt x="56" y="12"/>
                        </a:lnTo>
                        <a:lnTo>
                          <a:pt x="78" y="12"/>
                        </a:lnTo>
                        <a:lnTo>
                          <a:pt x="111" y="23"/>
                        </a:lnTo>
                        <a:lnTo>
                          <a:pt x="134" y="34"/>
                        </a:lnTo>
                        <a:lnTo>
                          <a:pt x="156" y="45"/>
                        </a:lnTo>
                        <a:lnTo>
                          <a:pt x="178" y="56"/>
                        </a:lnTo>
                        <a:lnTo>
                          <a:pt x="189" y="67"/>
                        </a:lnTo>
                        <a:lnTo>
                          <a:pt x="212" y="90"/>
                        </a:lnTo>
                        <a:lnTo>
                          <a:pt x="223" y="112"/>
                        </a:lnTo>
                        <a:lnTo>
                          <a:pt x="223" y="134"/>
                        </a:lnTo>
                        <a:lnTo>
                          <a:pt x="234" y="156"/>
                        </a:lnTo>
                        <a:lnTo>
                          <a:pt x="223" y="179"/>
                        </a:lnTo>
                        <a:lnTo>
                          <a:pt x="223" y="201"/>
                        </a:lnTo>
                        <a:lnTo>
                          <a:pt x="201" y="223"/>
                        </a:lnTo>
                        <a:lnTo>
                          <a:pt x="189" y="246"/>
                        </a:lnTo>
                        <a:lnTo>
                          <a:pt x="189" y="257"/>
                        </a:lnTo>
                        <a:lnTo>
                          <a:pt x="212" y="234"/>
                        </a:lnTo>
                        <a:lnTo>
                          <a:pt x="234" y="201"/>
                        </a:lnTo>
                        <a:lnTo>
                          <a:pt x="245" y="179"/>
                        </a:lnTo>
                        <a:lnTo>
                          <a:pt x="245" y="156"/>
                        </a:lnTo>
                        <a:lnTo>
                          <a:pt x="245" y="134"/>
                        </a:lnTo>
                        <a:lnTo>
                          <a:pt x="234" y="101"/>
                        </a:lnTo>
                        <a:lnTo>
                          <a:pt x="223" y="78"/>
                        </a:lnTo>
                        <a:lnTo>
                          <a:pt x="201" y="56"/>
                        </a:lnTo>
                        <a:lnTo>
                          <a:pt x="178" y="45"/>
                        </a:lnTo>
                        <a:lnTo>
                          <a:pt x="156" y="23"/>
                        </a:lnTo>
                        <a:lnTo>
                          <a:pt x="134" y="12"/>
                        </a:lnTo>
                        <a:lnTo>
                          <a:pt x="111" y="0"/>
                        </a:lnTo>
                        <a:lnTo>
                          <a:pt x="78" y="0"/>
                        </a:lnTo>
                        <a:lnTo>
                          <a:pt x="56" y="0"/>
                        </a:lnTo>
                        <a:lnTo>
                          <a:pt x="33" y="0"/>
                        </a:lnTo>
                        <a:lnTo>
                          <a:pt x="0" y="12"/>
                        </a:lnTo>
                        <a:lnTo>
                          <a:pt x="11" y="23"/>
                        </a:lnTo>
                        <a:lnTo>
                          <a:pt x="0" y="23"/>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Freeform 889"/>
                  <p:cNvSpPr/>
                  <p:nvPr/>
                </p:nvSpPr>
                <p:spPr>
                  <a:xfrm rot="111600">
                    <a:off x="1251000" y="592920"/>
                    <a:ext cx="9720" cy="29520"/>
                  </a:xfrm>
                  <a:custGeom>
                    <a:avLst/>
                    <a:gdLst>
                      <a:gd name="textAreaLeft" fmla="*/ 0 w 9720"/>
                      <a:gd name="textAreaRight" fmla="*/ 10080 w 9720"/>
                      <a:gd name="textAreaTop" fmla="*/ 0 h 29520"/>
                      <a:gd name="textAreaBottom" fmla="*/ 29880 h 29520"/>
                    </a:gdLst>
                    <a:ahLst/>
                    <a:rect l="textAreaLeft" t="textAreaTop" r="textAreaRight" b="textAreaBottom"/>
                    <a:pathLst>
                      <a:path w="100" h="223">
                        <a:moveTo>
                          <a:pt x="0" y="11"/>
                        </a:moveTo>
                        <a:lnTo>
                          <a:pt x="0" y="11"/>
                        </a:lnTo>
                        <a:lnTo>
                          <a:pt x="33" y="22"/>
                        </a:lnTo>
                        <a:lnTo>
                          <a:pt x="56" y="33"/>
                        </a:lnTo>
                        <a:lnTo>
                          <a:pt x="78" y="55"/>
                        </a:lnTo>
                        <a:lnTo>
                          <a:pt x="78" y="78"/>
                        </a:lnTo>
                        <a:lnTo>
                          <a:pt x="89" y="100"/>
                        </a:lnTo>
                        <a:lnTo>
                          <a:pt x="89" y="145"/>
                        </a:lnTo>
                        <a:lnTo>
                          <a:pt x="78" y="178"/>
                        </a:lnTo>
                        <a:lnTo>
                          <a:pt x="67" y="223"/>
                        </a:lnTo>
                        <a:lnTo>
                          <a:pt x="78" y="223"/>
                        </a:lnTo>
                        <a:lnTo>
                          <a:pt x="89" y="178"/>
                        </a:lnTo>
                        <a:lnTo>
                          <a:pt x="100" y="145"/>
                        </a:lnTo>
                        <a:lnTo>
                          <a:pt x="100" y="100"/>
                        </a:lnTo>
                        <a:lnTo>
                          <a:pt x="100" y="67"/>
                        </a:lnTo>
                        <a:lnTo>
                          <a:pt x="89" y="44"/>
                        </a:lnTo>
                        <a:lnTo>
                          <a:pt x="67" y="22"/>
                        </a:lnTo>
                        <a:lnTo>
                          <a:pt x="33" y="11"/>
                        </a:lnTo>
                        <a:lnTo>
                          <a:pt x="0" y="0"/>
                        </a:lnTo>
                        <a:lnTo>
                          <a:pt x="0" y="11"/>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Freeform 888"/>
                  <p:cNvSpPr/>
                  <p:nvPr/>
                </p:nvSpPr>
                <p:spPr>
                  <a:xfrm rot="111600">
                    <a:off x="1249200" y="59292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0" y="11"/>
                        </a:moveTo>
                        <a:lnTo>
                          <a:pt x="11" y="11"/>
                        </a:lnTo>
                        <a:lnTo>
                          <a:pt x="22" y="11"/>
                        </a:lnTo>
                        <a:lnTo>
                          <a:pt x="22" y="0"/>
                        </a:lnTo>
                        <a:lnTo>
                          <a:pt x="11" y="0"/>
                        </a:lnTo>
                        <a:lnTo>
                          <a:pt x="11" y="11"/>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Freeform 887"/>
                  <p:cNvSpPr/>
                  <p:nvPr/>
                </p:nvSpPr>
                <p:spPr>
                  <a:xfrm rot="111600">
                    <a:off x="1218240" y="574560"/>
                    <a:ext cx="32400" cy="19080"/>
                  </a:xfrm>
                  <a:custGeom>
                    <a:avLst/>
                    <a:gdLst>
                      <a:gd name="textAreaLeft" fmla="*/ 0 w 32400"/>
                      <a:gd name="textAreaRight" fmla="*/ 32760 w 32400"/>
                      <a:gd name="textAreaTop" fmla="*/ 0 h 19080"/>
                      <a:gd name="textAreaBottom" fmla="*/ 19440 h 19080"/>
                    </a:gdLst>
                    <a:ahLst/>
                    <a:rect l="textAreaLeft" t="textAreaTop" r="textAreaRight" b="textAreaBottom"/>
                    <a:pathLst>
                      <a:path w="334" h="145">
                        <a:moveTo>
                          <a:pt x="0" y="33"/>
                        </a:moveTo>
                        <a:lnTo>
                          <a:pt x="0" y="45"/>
                        </a:lnTo>
                        <a:lnTo>
                          <a:pt x="22" y="33"/>
                        </a:lnTo>
                        <a:lnTo>
                          <a:pt x="44" y="22"/>
                        </a:lnTo>
                        <a:lnTo>
                          <a:pt x="66" y="11"/>
                        </a:lnTo>
                        <a:lnTo>
                          <a:pt x="100" y="11"/>
                        </a:lnTo>
                        <a:lnTo>
                          <a:pt x="122" y="11"/>
                        </a:lnTo>
                        <a:lnTo>
                          <a:pt x="144" y="11"/>
                        </a:lnTo>
                        <a:lnTo>
                          <a:pt x="167" y="22"/>
                        </a:lnTo>
                        <a:lnTo>
                          <a:pt x="189" y="22"/>
                        </a:lnTo>
                        <a:lnTo>
                          <a:pt x="211" y="33"/>
                        </a:lnTo>
                        <a:lnTo>
                          <a:pt x="234" y="45"/>
                        </a:lnTo>
                        <a:lnTo>
                          <a:pt x="256" y="56"/>
                        </a:lnTo>
                        <a:lnTo>
                          <a:pt x="267" y="67"/>
                        </a:lnTo>
                        <a:lnTo>
                          <a:pt x="289" y="89"/>
                        </a:lnTo>
                        <a:lnTo>
                          <a:pt x="300" y="100"/>
                        </a:lnTo>
                        <a:lnTo>
                          <a:pt x="312" y="123"/>
                        </a:lnTo>
                        <a:lnTo>
                          <a:pt x="323" y="145"/>
                        </a:lnTo>
                        <a:lnTo>
                          <a:pt x="334" y="145"/>
                        </a:lnTo>
                        <a:lnTo>
                          <a:pt x="323" y="123"/>
                        </a:lnTo>
                        <a:lnTo>
                          <a:pt x="312" y="100"/>
                        </a:lnTo>
                        <a:lnTo>
                          <a:pt x="300" y="78"/>
                        </a:lnTo>
                        <a:lnTo>
                          <a:pt x="278" y="67"/>
                        </a:lnTo>
                        <a:lnTo>
                          <a:pt x="256" y="45"/>
                        </a:lnTo>
                        <a:lnTo>
                          <a:pt x="234" y="33"/>
                        </a:lnTo>
                        <a:lnTo>
                          <a:pt x="211" y="22"/>
                        </a:lnTo>
                        <a:lnTo>
                          <a:pt x="189" y="11"/>
                        </a:lnTo>
                        <a:lnTo>
                          <a:pt x="167" y="11"/>
                        </a:lnTo>
                        <a:lnTo>
                          <a:pt x="144" y="0"/>
                        </a:lnTo>
                        <a:lnTo>
                          <a:pt x="122" y="0"/>
                        </a:lnTo>
                        <a:lnTo>
                          <a:pt x="100" y="0"/>
                        </a:lnTo>
                        <a:lnTo>
                          <a:pt x="66" y="0"/>
                        </a:lnTo>
                        <a:lnTo>
                          <a:pt x="44" y="11"/>
                        </a:lnTo>
                        <a:lnTo>
                          <a:pt x="22" y="11"/>
                        </a:lnTo>
                        <a:lnTo>
                          <a:pt x="0" y="22"/>
                        </a:lnTo>
                        <a:lnTo>
                          <a:pt x="0" y="33"/>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Freeform 886"/>
                  <p:cNvSpPr/>
                  <p:nvPr/>
                </p:nvSpPr>
                <p:spPr>
                  <a:xfrm rot="111600">
                    <a:off x="1204560" y="578160"/>
                    <a:ext cx="12960" cy="22320"/>
                  </a:xfrm>
                  <a:custGeom>
                    <a:avLst/>
                    <a:gdLst>
                      <a:gd name="textAreaLeft" fmla="*/ 0 w 12960"/>
                      <a:gd name="textAreaRight" fmla="*/ 13320 w 12960"/>
                      <a:gd name="textAreaTop" fmla="*/ 0 h 22320"/>
                      <a:gd name="textAreaBottom" fmla="*/ 22680 h 22320"/>
                    </a:gdLst>
                    <a:ahLst/>
                    <a:rect l="textAreaLeft" t="textAreaTop" r="textAreaRight" b="textAreaBottom"/>
                    <a:pathLst>
                      <a:path w="134" h="168">
                        <a:moveTo>
                          <a:pt x="0" y="168"/>
                        </a:moveTo>
                        <a:lnTo>
                          <a:pt x="11" y="168"/>
                        </a:lnTo>
                        <a:lnTo>
                          <a:pt x="33" y="145"/>
                        </a:lnTo>
                        <a:lnTo>
                          <a:pt x="44" y="112"/>
                        </a:lnTo>
                        <a:lnTo>
                          <a:pt x="56" y="90"/>
                        </a:lnTo>
                        <a:lnTo>
                          <a:pt x="78" y="67"/>
                        </a:lnTo>
                        <a:lnTo>
                          <a:pt x="89" y="45"/>
                        </a:lnTo>
                        <a:lnTo>
                          <a:pt x="111" y="34"/>
                        </a:lnTo>
                        <a:lnTo>
                          <a:pt x="122" y="23"/>
                        </a:lnTo>
                        <a:lnTo>
                          <a:pt x="134" y="0"/>
                        </a:lnTo>
                        <a:lnTo>
                          <a:pt x="111" y="12"/>
                        </a:lnTo>
                        <a:lnTo>
                          <a:pt x="100" y="23"/>
                        </a:lnTo>
                        <a:lnTo>
                          <a:pt x="78" y="34"/>
                        </a:lnTo>
                        <a:lnTo>
                          <a:pt x="67" y="56"/>
                        </a:lnTo>
                        <a:lnTo>
                          <a:pt x="56" y="78"/>
                        </a:lnTo>
                        <a:lnTo>
                          <a:pt x="33" y="112"/>
                        </a:lnTo>
                        <a:lnTo>
                          <a:pt x="22" y="134"/>
                        </a:lnTo>
                        <a:lnTo>
                          <a:pt x="0" y="168"/>
                        </a:lnTo>
                        <a:lnTo>
                          <a:pt x="11" y="168"/>
                        </a:lnTo>
                        <a:lnTo>
                          <a:pt x="0" y="168"/>
                        </a:lnTo>
                        <a:close/>
                      </a:path>
                    </a:pathLst>
                  </a:custGeom>
                  <a:solidFill>
                    <a:srgbClr val="000000"/>
                  </a:solidFill>
                  <a:ln w="0">
                    <a:noFill/>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Freeform 885"/>
                  <p:cNvSpPr/>
                  <p:nvPr/>
                </p:nvSpPr>
                <p:spPr>
                  <a:xfrm rot="111600">
                    <a:off x="986040" y="1004040"/>
                    <a:ext cx="174240" cy="228240"/>
                  </a:xfrm>
                  <a:custGeom>
                    <a:avLst/>
                    <a:gdLst>
                      <a:gd name="textAreaLeft" fmla="*/ 0 w 174240"/>
                      <a:gd name="textAreaRight" fmla="*/ 174600 w 174240"/>
                      <a:gd name="textAreaTop" fmla="*/ 0 h 228240"/>
                      <a:gd name="textAreaBottom" fmla="*/ 228600 h 228240"/>
                    </a:gdLst>
                    <a:ahLst/>
                    <a:rect l="textAreaLeft" t="textAreaTop" r="textAreaRight" b="textAreaBottom"/>
                    <a:pathLst>
                      <a:path w="1783" h="1716">
                        <a:moveTo>
                          <a:pt x="658" y="22"/>
                        </a:moveTo>
                        <a:lnTo>
                          <a:pt x="680" y="11"/>
                        </a:lnTo>
                        <a:lnTo>
                          <a:pt x="713" y="11"/>
                        </a:lnTo>
                        <a:lnTo>
                          <a:pt x="747" y="0"/>
                        </a:lnTo>
                        <a:lnTo>
                          <a:pt x="780" y="0"/>
                        </a:lnTo>
                        <a:lnTo>
                          <a:pt x="802" y="0"/>
                        </a:lnTo>
                        <a:lnTo>
                          <a:pt x="836" y="0"/>
                        </a:lnTo>
                        <a:lnTo>
                          <a:pt x="869" y="0"/>
                        </a:lnTo>
                        <a:lnTo>
                          <a:pt x="903" y="0"/>
                        </a:lnTo>
                        <a:lnTo>
                          <a:pt x="936" y="11"/>
                        </a:lnTo>
                        <a:lnTo>
                          <a:pt x="958" y="11"/>
                        </a:lnTo>
                        <a:lnTo>
                          <a:pt x="992" y="22"/>
                        </a:lnTo>
                        <a:lnTo>
                          <a:pt x="1025" y="33"/>
                        </a:lnTo>
                        <a:lnTo>
                          <a:pt x="1059" y="44"/>
                        </a:lnTo>
                        <a:lnTo>
                          <a:pt x="1081" y="55"/>
                        </a:lnTo>
                        <a:lnTo>
                          <a:pt x="1114" y="67"/>
                        </a:lnTo>
                        <a:lnTo>
                          <a:pt x="1148" y="78"/>
                        </a:lnTo>
                        <a:lnTo>
                          <a:pt x="1170" y="89"/>
                        </a:lnTo>
                        <a:lnTo>
                          <a:pt x="1204" y="111"/>
                        </a:lnTo>
                        <a:lnTo>
                          <a:pt x="1237" y="122"/>
                        </a:lnTo>
                        <a:lnTo>
                          <a:pt x="1259" y="145"/>
                        </a:lnTo>
                        <a:lnTo>
                          <a:pt x="1293" y="156"/>
                        </a:lnTo>
                        <a:lnTo>
                          <a:pt x="1315" y="178"/>
                        </a:lnTo>
                        <a:lnTo>
                          <a:pt x="1337" y="200"/>
                        </a:lnTo>
                        <a:lnTo>
                          <a:pt x="1371" y="223"/>
                        </a:lnTo>
                        <a:lnTo>
                          <a:pt x="1393" y="245"/>
                        </a:lnTo>
                        <a:lnTo>
                          <a:pt x="1415" y="267"/>
                        </a:lnTo>
                        <a:lnTo>
                          <a:pt x="1438" y="301"/>
                        </a:lnTo>
                        <a:lnTo>
                          <a:pt x="1460" y="323"/>
                        </a:lnTo>
                        <a:lnTo>
                          <a:pt x="1482" y="345"/>
                        </a:lnTo>
                        <a:lnTo>
                          <a:pt x="1505" y="379"/>
                        </a:lnTo>
                        <a:lnTo>
                          <a:pt x="1516" y="412"/>
                        </a:lnTo>
                        <a:lnTo>
                          <a:pt x="1538" y="434"/>
                        </a:lnTo>
                        <a:lnTo>
                          <a:pt x="1560" y="445"/>
                        </a:lnTo>
                        <a:lnTo>
                          <a:pt x="1583" y="445"/>
                        </a:lnTo>
                        <a:lnTo>
                          <a:pt x="1605" y="457"/>
                        </a:lnTo>
                        <a:lnTo>
                          <a:pt x="1627" y="457"/>
                        </a:lnTo>
                        <a:lnTo>
                          <a:pt x="1649" y="468"/>
                        </a:lnTo>
                        <a:lnTo>
                          <a:pt x="1672" y="479"/>
                        </a:lnTo>
                        <a:lnTo>
                          <a:pt x="1683" y="490"/>
                        </a:lnTo>
                        <a:lnTo>
                          <a:pt x="1705" y="501"/>
                        </a:lnTo>
                        <a:lnTo>
                          <a:pt x="1716" y="512"/>
                        </a:lnTo>
                        <a:lnTo>
                          <a:pt x="1727" y="523"/>
                        </a:lnTo>
                        <a:lnTo>
                          <a:pt x="1739" y="535"/>
                        </a:lnTo>
                        <a:lnTo>
                          <a:pt x="1750" y="546"/>
                        </a:lnTo>
                        <a:lnTo>
                          <a:pt x="1761" y="557"/>
                        </a:lnTo>
                        <a:lnTo>
                          <a:pt x="1772" y="568"/>
                        </a:lnTo>
                        <a:lnTo>
                          <a:pt x="1783" y="590"/>
                        </a:lnTo>
                        <a:lnTo>
                          <a:pt x="1783" y="601"/>
                        </a:lnTo>
                        <a:lnTo>
                          <a:pt x="1783" y="635"/>
                        </a:lnTo>
                        <a:lnTo>
                          <a:pt x="1783" y="668"/>
                        </a:lnTo>
                        <a:lnTo>
                          <a:pt x="1772" y="702"/>
                        </a:lnTo>
                        <a:lnTo>
                          <a:pt x="1761" y="724"/>
                        </a:lnTo>
                        <a:lnTo>
                          <a:pt x="1739" y="758"/>
                        </a:lnTo>
                        <a:lnTo>
                          <a:pt x="1716" y="780"/>
                        </a:lnTo>
                        <a:lnTo>
                          <a:pt x="1683" y="802"/>
                        </a:lnTo>
                        <a:lnTo>
                          <a:pt x="1649" y="824"/>
                        </a:lnTo>
                        <a:lnTo>
                          <a:pt x="1661" y="902"/>
                        </a:lnTo>
                        <a:lnTo>
                          <a:pt x="1661" y="969"/>
                        </a:lnTo>
                        <a:lnTo>
                          <a:pt x="1661" y="1047"/>
                        </a:lnTo>
                        <a:lnTo>
                          <a:pt x="1649" y="1114"/>
                        </a:lnTo>
                        <a:lnTo>
                          <a:pt x="1627" y="1192"/>
                        </a:lnTo>
                        <a:lnTo>
                          <a:pt x="1605" y="1259"/>
                        </a:lnTo>
                        <a:lnTo>
                          <a:pt x="1571" y="1315"/>
                        </a:lnTo>
                        <a:lnTo>
                          <a:pt x="1538" y="1382"/>
                        </a:lnTo>
                        <a:lnTo>
                          <a:pt x="1493" y="1437"/>
                        </a:lnTo>
                        <a:lnTo>
                          <a:pt x="1449" y="1493"/>
                        </a:lnTo>
                        <a:lnTo>
                          <a:pt x="1404" y="1538"/>
                        </a:lnTo>
                        <a:lnTo>
                          <a:pt x="1349" y="1582"/>
                        </a:lnTo>
                        <a:lnTo>
                          <a:pt x="1282" y="1616"/>
                        </a:lnTo>
                        <a:lnTo>
                          <a:pt x="1226" y="1649"/>
                        </a:lnTo>
                        <a:lnTo>
                          <a:pt x="1159" y="1683"/>
                        </a:lnTo>
                        <a:lnTo>
                          <a:pt x="1092" y="1705"/>
                        </a:lnTo>
                        <a:lnTo>
                          <a:pt x="1059" y="1705"/>
                        </a:lnTo>
                        <a:lnTo>
                          <a:pt x="1025" y="1716"/>
                        </a:lnTo>
                        <a:lnTo>
                          <a:pt x="992" y="1716"/>
                        </a:lnTo>
                        <a:lnTo>
                          <a:pt x="958" y="1716"/>
                        </a:lnTo>
                        <a:lnTo>
                          <a:pt x="925" y="1716"/>
                        </a:lnTo>
                        <a:lnTo>
                          <a:pt x="892" y="1716"/>
                        </a:lnTo>
                        <a:lnTo>
                          <a:pt x="858" y="1716"/>
                        </a:lnTo>
                        <a:lnTo>
                          <a:pt x="825" y="1705"/>
                        </a:lnTo>
                        <a:lnTo>
                          <a:pt x="791" y="1705"/>
                        </a:lnTo>
                        <a:lnTo>
                          <a:pt x="758" y="1694"/>
                        </a:lnTo>
                        <a:lnTo>
                          <a:pt x="724" y="1683"/>
                        </a:lnTo>
                        <a:lnTo>
                          <a:pt x="691" y="1671"/>
                        </a:lnTo>
                        <a:lnTo>
                          <a:pt x="658" y="1660"/>
                        </a:lnTo>
                        <a:lnTo>
                          <a:pt x="635" y="1649"/>
                        </a:lnTo>
                        <a:lnTo>
                          <a:pt x="602" y="1638"/>
                        </a:lnTo>
                        <a:lnTo>
                          <a:pt x="568" y="1616"/>
                        </a:lnTo>
                        <a:lnTo>
                          <a:pt x="535" y="1593"/>
                        </a:lnTo>
                        <a:lnTo>
                          <a:pt x="513" y="1582"/>
                        </a:lnTo>
                        <a:lnTo>
                          <a:pt x="479" y="1560"/>
                        </a:lnTo>
                        <a:lnTo>
                          <a:pt x="457" y="1538"/>
                        </a:lnTo>
                        <a:lnTo>
                          <a:pt x="423" y="1504"/>
                        </a:lnTo>
                        <a:lnTo>
                          <a:pt x="401" y="1482"/>
                        </a:lnTo>
                        <a:lnTo>
                          <a:pt x="379" y="1460"/>
                        </a:lnTo>
                        <a:lnTo>
                          <a:pt x="357" y="1426"/>
                        </a:lnTo>
                        <a:lnTo>
                          <a:pt x="334" y="1404"/>
                        </a:lnTo>
                        <a:lnTo>
                          <a:pt x="312" y="1371"/>
                        </a:lnTo>
                        <a:lnTo>
                          <a:pt x="290" y="1337"/>
                        </a:lnTo>
                        <a:lnTo>
                          <a:pt x="267" y="1304"/>
                        </a:lnTo>
                        <a:lnTo>
                          <a:pt x="256" y="1270"/>
                        </a:lnTo>
                        <a:lnTo>
                          <a:pt x="234" y="1237"/>
                        </a:lnTo>
                        <a:lnTo>
                          <a:pt x="223" y="1192"/>
                        </a:lnTo>
                        <a:lnTo>
                          <a:pt x="201" y="1159"/>
                        </a:lnTo>
                        <a:lnTo>
                          <a:pt x="167" y="1159"/>
                        </a:lnTo>
                        <a:lnTo>
                          <a:pt x="145" y="1148"/>
                        </a:lnTo>
                        <a:lnTo>
                          <a:pt x="111" y="1136"/>
                        </a:lnTo>
                        <a:lnTo>
                          <a:pt x="78" y="1125"/>
                        </a:lnTo>
                        <a:lnTo>
                          <a:pt x="56" y="1103"/>
                        </a:lnTo>
                        <a:lnTo>
                          <a:pt x="33" y="1081"/>
                        </a:lnTo>
                        <a:lnTo>
                          <a:pt x="22" y="1058"/>
                        </a:lnTo>
                        <a:lnTo>
                          <a:pt x="11" y="1025"/>
                        </a:lnTo>
                        <a:lnTo>
                          <a:pt x="0" y="980"/>
                        </a:lnTo>
                        <a:lnTo>
                          <a:pt x="0" y="936"/>
                        </a:lnTo>
                        <a:lnTo>
                          <a:pt x="11" y="902"/>
                        </a:lnTo>
                        <a:lnTo>
                          <a:pt x="22" y="869"/>
                        </a:lnTo>
                        <a:lnTo>
                          <a:pt x="45" y="824"/>
                        </a:lnTo>
                        <a:lnTo>
                          <a:pt x="78" y="791"/>
                        </a:lnTo>
                        <a:lnTo>
                          <a:pt x="111" y="758"/>
                        </a:lnTo>
                        <a:lnTo>
                          <a:pt x="156" y="724"/>
                        </a:lnTo>
                        <a:lnTo>
                          <a:pt x="156" y="668"/>
                        </a:lnTo>
                        <a:lnTo>
                          <a:pt x="167" y="601"/>
                        </a:lnTo>
                        <a:lnTo>
                          <a:pt x="189" y="546"/>
                        </a:lnTo>
                        <a:lnTo>
                          <a:pt x="201" y="490"/>
                        </a:lnTo>
                        <a:lnTo>
                          <a:pt x="223" y="423"/>
                        </a:lnTo>
                        <a:lnTo>
                          <a:pt x="245" y="379"/>
                        </a:lnTo>
                        <a:lnTo>
                          <a:pt x="279" y="323"/>
                        </a:lnTo>
                        <a:lnTo>
                          <a:pt x="312" y="278"/>
                        </a:lnTo>
                        <a:lnTo>
                          <a:pt x="345" y="223"/>
                        </a:lnTo>
                        <a:lnTo>
                          <a:pt x="379" y="189"/>
                        </a:lnTo>
                        <a:lnTo>
                          <a:pt x="412" y="145"/>
                        </a:lnTo>
                        <a:lnTo>
                          <a:pt x="457" y="111"/>
                        </a:lnTo>
                        <a:lnTo>
                          <a:pt x="501" y="78"/>
                        </a:lnTo>
                        <a:lnTo>
                          <a:pt x="546" y="55"/>
                        </a:lnTo>
                        <a:lnTo>
                          <a:pt x="602" y="33"/>
                        </a:lnTo>
                        <a:lnTo>
                          <a:pt x="658" y="22"/>
                        </a:lnTo>
                        <a:close/>
                      </a:path>
                    </a:pathLst>
                  </a:custGeom>
                  <a:solidFill>
                    <a:srgbClr val="ffd6a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Freeform 884"/>
                  <p:cNvSpPr/>
                  <p:nvPr/>
                </p:nvSpPr>
                <p:spPr>
                  <a:xfrm rot="111600">
                    <a:off x="1051920" y="1002960"/>
                    <a:ext cx="88200" cy="60480"/>
                  </a:xfrm>
                  <a:custGeom>
                    <a:avLst/>
                    <a:gdLst>
                      <a:gd name="textAreaLeft" fmla="*/ 0 w 88200"/>
                      <a:gd name="textAreaRight" fmla="*/ 88560 w 88200"/>
                      <a:gd name="textAreaTop" fmla="*/ 0 h 60480"/>
                      <a:gd name="textAreaBottom" fmla="*/ 60840 h 60480"/>
                    </a:gdLst>
                    <a:ahLst/>
                    <a:rect l="textAreaLeft" t="textAreaTop" r="textAreaRight" b="textAreaBottom"/>
                    <a:pathLst>
                      <a:path w="903" h="457">
                        <a:moveTo>
                          <a:pt x="892" y="435"/>
                        </a:moveTo>
                        <a:lnTo>
                          <a:pt x="903" y="446"/>
                        </a:lnTo>
                        <a:lnTo>
                          <a:pt x="881" y="413"/>
                        </a:lnTo>
                        <a:lnTo>
                          <a:pt x="870" y="379"/>
                        </a:lnTo>
                        <a:lnTo>
                          <a:pt x="847" y="357"/>
                        </a:lnTo>
                        <a:lnTo>
                          <a:pt x="825" y="324"/>
                        </a:lnTo>
                        <a:lnTo>
                          <a:pt x="803" y="301"/>
                        </a:lnTo>
                        <a:lnTo>
                          <a:pt x="781" y="279"/>
                        </a:lnTo>
                        <a:lnTo>
                          <a:pt x="747" y="257"/>
                        </a:lnTo>
                        <a:lnTo>
                          <a:pt x="725" y="223"/>
                        </a:lnTo>
                        <a:lnTo>
                          <a:pt x="703" y="212"/>
                        </a:lnTo>
                        <a:lnTo>
                          <a:pt x="669" y="190"/>
                        </a:lnTo>
                        <a:lnTo>
                          <a:pt x="647" y="168"/>
                        </a:lnTo>
                        <a:lnTo>
                          <a:pt x="625" y="145"/>
                        </a:lnTo>
                        <a:lnTo>
                          <a:pt x="591" y="123"/>
                        </a:lnTo>
                        <a:lnTo>
                          <a:pt x="558" y="112"/>
                        </a:lnTo>
                        <a:lnTo>
                          <a:pt x="535" y="90"/>
                        </a:lnTo>
                        <a:lnTo>
                          <a:pt x="502" y="79"/>
                        </a:lnTo>
                        <a:lnTo>
                          <a:pt x="468" y="67"/>
                        </a:lnTo>
                        <a:lnTo>
                          <a:pt x="446" y="56"/>
                        </a:lnTo>
                        <a:lnTo>
                          <a:pt x="413" y="45"/>
                        </a:lnTo>
                        <a:lnTo>
                          <a:pt x="379" y="34"/>
                        </a:lnTo>
                        <a:lnTo>
                          <a:pt x="346" y="23"/>
                        </a:lnTo>
                        <a:lnTo>
                          <a:pt x="312" y="23"/>
                        </a:lnTo>
                        <a:lnTo>
                          <a:pt x="290" y="12"/>
                        </a:lnTo>
                        <a:lnTo>
                          <a:pt x="257" y="0"/>
                        </a:lnTo>
                        <a:lnTo>
                          <a:pt x="223" y="0"/>
                        </a:lnTo>
                        <a:lnTo>
                          <a:pt x="190" y="0"/>
                        </a:lnTo>
                        <a:lnTo>
                          <a:pt x="156" y="0"/>
                        </a:lnTo>
                        <a:lnTo>
                          <a:pt x="123" y="0"/>
                        </a:lnTo>
                        <a:lnTo>
                          <a:pt x="101" y="0"/>
                        </a:lnTo>
                        <a:lnTo>
                          <a:pt x="67" y="12"/>
                        </a:lnTo>
                        <a:lnTo>
                          <a:pt x="34" y="12"/>
                        </a:lnTo>
                        <a:lnTo>
                          <a:pt x="0" y="23"/>
                        </a:lnTo>
                        <a:lnTo>
                          <a:pt x="12" y="45"/>
                        </a:lnTo>
                        <a:lnTo>
                          <a:pt x="45" y="34"/>
                        </a:lnTo>
                        <a:lnTo>
                          <a:pt x="67" y="23"/>
                        </a:lnTo>
                        <a:lnTo>
                          <a:pt x="101" y="23"/>
                        </a:lnTo>
                        <a:lnTo>
                          <a:pt x="134" y="23"/>
                        </a:lnTo>
                        <a:lnTo>
                          <a:pt x="168" y="23"/>
                        </a:lnTo>
                        <a:lnTo>
                          <a:pt x="190" y="23"/>
                        </a:lnTo>
                        <a:lnTo>
                          <a:pt x="223" y="23"/>
                        </a:lnTo>
                        <a:lnTo>
                          <a:pt x="257" y="23"/>
                        </a:lnTo>
                        <a:lnTo>
                          <a:pt x="279" y="34"/>
                        </a:lnTo>
                        <a:lnTo>
                          <a:pt x="312" y="34"/>
                        </a:lnTo>
                        <a:lnTo>
                          <a:pt x="346" y="45"/>
                        </a:lnTo>
                        <a:lnTo>
                          <a:pt x="379" y="56"/>
                        </a:lnTo>
                        <a:lnTo>
                          <a:pt x="402" y="67"/>
                        </a:lnTo>
                        <a:lnTo>
                          <a:pt x="435" y="79"/>
                        </a:lnTo>
                        <a:lnTo>
                          <a:pt x="468" y="90"/>
                        </a:lnTo>
                        <a:lnTo>
                          <a:pt x="491" y="101"/>
                        </a:lnTo>
                        <a:lnTo>
                          <a:pt x="524" y="112"/>
                        </a:lnTo>
                        <a:lnTo>
                          <a:pt x="558" y="123"/>
                        </a:lnTo>
                        <a:lnTo>
                          <a:pt x="580" y="145"/>
                        </a:lnTo>
                        <a:lnTo>
                          <a:pt x="613" y="157"/>
                        </a:lnTo>
                        <a:lnTo>
                          <a:pt x="636" y="179"/>
                        </a:lnTo>
                        <a:lnTo>
                          <a:pt x="669" y="201"/>
                        </a:lnTo>
                        <a:lnTo>
                          <a:pt x="691" y="223"/>
                        </a:lnTo>
                        <a:lnTo>
                          <a:pt x="714" y="246"/>
                        </a:lnTo>
                        <a:lnTo>
                          <a:pt x="736" y="268"/>
                        </a:lnTo>
                        <a:lnTo>
                          <a:pt x="758" y="290"/>
                        </a:lnTo>
                        <a:lnTo>
                          <a:pt x="781" y="313"/>
                        </a:lnTo>
                        <a:lnTo>
                          <a:pt x="803" y="335"/>
                        </a:lnTo>
                        <a:lnTo>
                          <a:pt x="825" y="368"/>
                        </a:lnTo>
                        <a:lnTo>
                          <a:pt x="847" y="391"/>
                        </a:lnTo>
                        <a:lnTo>
                          <a:pt x="870" y="424"/>
                        </a:lnTo>
                        <a:lnTo>
                          <a:pt x="881" y="457"/>
                        </a:lnTo>
                        <a:lnTo>
                          <a:pt x="892" y="457"/>
                        </a:lnTo>
                        <a:lnTo>
                          <a:pt x="892" y="435"/>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Freeform 883"/>
                  <p:cNvSpPr/>
                  <p:nvPr/>
                </p:nvSpPr>
                <p:spPr>
                  <a:xfrm rot="111600">
                    <a:off x="1137600" y="1063080"/>
                    <a:ext cx="24840" cy="23400"/>
                  </a:xfrm>
                  <a:custGeom>
                    <a:avLst/>
                    <a:gdLst>
                      <a:gd name="textAreaLeft" fmla="*/ 0 w 24840"/>
                      <a:gd name="textAreaRight" fmla="*/ 25200 w 24840"/>
                      <a:gd name="textAreaTop" fmla="*/ 0 h 23400"/>
                      <a:gd name="textAreaBottom" fmla="*/ 23760 h 23400"/>
                    </a:gdLst>
                    <a:ahLst/>
                    <a:rect l="textAreaLeft" t="textAreaTop" r="textAreaRight" b="textAreaBottom"/>
                    <a:pathLst>
                      <a:path w="256" h="178">
                        <a:moveTo>
                          <a:pt x="256" y="178"/>
                        </a:moveTo>
                        <a:lnTo>
                          <a:pt x="256" y="178"/>
                        </a:lnTo>
                        <a:lnTo>
                          <a:pt x="245" y="156"/>
                        </a:lnTo>
                        <a:lnTo>
                          <a:pt x="245" y="145"/>
                        </a:lnTo>
                        <a:lnTo>
                          <a:pt x="234" y="134"/>
                        </a:lnTo>
                        <a:lnTo>
                          <a:pt x="223" y="123"/>
                        </a:lnTo>
                        <a:lnTo>
                          <a:pt x="212" y="100"/>
                        </a:lnTo>
                        <a:lnTo>
                          <a:pt x="201" y="89"/>
                        </a:lnTo>
                        <a:lnTo>
                          <a:pt x="178" y="78"/>
                        </a:lnTo>
                        <a:lnTo>
                          <a:pt x="167" y="67"/>
                        </a:lnTo>
                        <a:lnTo>
                          <a:pt x="145" y="56"/>
                        </a:lnTo>
                        <a:lnTo>
                          <a:pt x="134" y="45"/>
                        </a:lnTo>
                        <a:lnTo>
                          <a:pt x="111" y="34"/>
                        </a:lnTo>
                        <a:lnTo>
                          <a:pt x="89" y="34"/>
                        </a:lnTo>
                        <a:lnTo>
                          <a:pt x="67" y="22"/>
                        </a:lnTo>
                        <a:lnTo>
                          <a:pt x="45" y="11"/>
                        </a:lnTo>
                        <a:lnTo>
                          <a:pt x="22" y="11"/>
                        </a:lnTo>
                        <a:lnTo>
                          <a:pt x="0" y="0"/>
                        </a:lnTo>
                        <a:lnTo>
                          <a:pt x="0" y="22"/>
                        </a:lnTo>
                        <a:lnTo>
                          <a:pt x="22" y="34"/>
                        </a:lnTo>
                        <a:lnTo>
                          <a:pt x="45" y="34"/>
                        </a:lnTo>
                        <a:lnTo>
                          <a:pt x="67" y="45"/>
                        </a:lnTo>
                        <a:lnTo>
                          <a:pt x="89" y="45"/>
                        </a:lnTo>
                        <a:lnTo>
                          <a:pt x="111" y="56"/>
                        </a:lnTo>
                        <a:lnTo>
                          <a:pt x="123" y="67"/>
                        </a:lnTo>
                        <a:lnTo>
                          <a:pt x="145" y="78"/>
                        </a:lnTo>
                        <a:lnTo>
                          <a:pt x="156" y="78"/>
                        </a:lnTo>
                        <a:lnTo>
                          <a:pt x="178" y="100"/>
                        </a:lnTo>
                        <a:lnTo>
                          <a:pt x="189" y="100"/>
                        </a:lnTo>
                        <a:lnTo>
                          <a:pt x="201" y="112"/>
                        </a:lnTo>
                        <a:lnTo>
                          <a:pt x="212" y="134"/>
                        </a:lnTo>
                        <a:lnTo>
                          <a:pt x="212" y="145"/>
                        </a:lnTo>
                        <a:lnTo>
                          <a:pt x="223" y="156"/>
                        </a:lnTo>
                        <a:lnTo>
                          <a:pt x="234" y="167"/>
                        </a:lnTo>
                        <a:lnTo>
                          <a:pt x="234" y="178"/>
                        </a:lnTo>
                        <a:lnTo>
                          <a:pt x="256" y="178"/>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Freeform 882"/>
                  <p:cNvSpPr/>
                  <p:nvPr/>
                </p:nvSpPr>
                <p:spPr>
                  <a:xfrm rot="111600">
                    <a:off x="1146600" y="1086840"/>
                    <a:ext cx="15120" cy="30960"/>
                  </a:xfrm>
                  <a:custGeom>
                    <a:avLst/>
                    <a:gdLst>
                      <a:gd name="textAreaLeft" fmla="*/ 0 w 15120"/>
                      <a:gd name="textAreaRight" fmla="*/ 15480 w 15120"/>
                      <a:gd name="textAreaTop" fmla="*/ 0 h 30960"/>
                      <a:gd name="textAreaBottom" fmla="*/ 31320 h 30960"/>
                    </a:gdLst>
                    <a:ahLst/>
                    <a:rect l="textAreaLeft" t="textAreaTop" r="textAreaRight" b="textAreaBottom"/>
                    <a:pathLst>
                      <a:path w="156" h="235">
                        <a:moveTo>
                          <a:pt x="23" y="223"/>
                        </a:moveTo>
                        <a:lnTo>
                          <a:pt x="11" y="235"/>
                        </a:lnTo>
                        <a:lnTo>
                          <a:pt x="56" y="212"/>
                        </a:lnTo>
                        <a:lnTo>
                          <a:pt x="89" y="190"/>
                        </a:lnTo>
                        <a:lnTo>
                          <a:pt x="112" y="157"/>
                        </a:lnTo>
                        <a:lnTo>
                          <a:pt x="134" y="134"/>
                        </a:lnTo>
                        <a:lnTo>
                          <a:pt x="145" y="101"/>
                        </a:lnTo>
                        <a:lnTo>
                          <a:pt x="156" y="67"/>
                        </a:lnTo>
                        <a:lnTo>
                          <a:pt x="156" y="34"/>
                        </a:lnTo>
                        <a:lnTo>
                          <a:pt x="156" y="0"/>
                        </a:lnTo>
                        <a:lnTo>
                          <a:pt x="134" y="0"/>
                        </a:lnTo>
                        <a:lnTo>
                          <a:pt x="134" y="34"/>
                        </a:lnTo>
                        <a:lnTo>
                          <a:pt x="134" y="67"/>
                        </a:lnTo>
                        <a:lnTo>
                          <a:pt x="123" y="90"/>
                        </a:lnTo>
                        <a:lnTo>
                          <a:pt x="112" y="123"/>
                        </a:lnTo>
                        <a:lnTo>
                          <a:pt x="101" y="145"/>
                        </a:lnTo>
                        <a:lnTo>
                          <a:pt x="67" y="168"/>
                        </a:lnTo>
                        <a:lnTo>
                          <a:pt x="45" y="190"/>
                        </a:lnTo>
                        <a:lnTo>
                          <a:pt x="0" y="212"/>
                        </a:lnTo>
                        <a:lnTo>
                          <a:pt x="0" y="223"/>
                        </a:lnTo>
                        <a:lnTo>
                          <a:pt x="23" y="223"/>
                        </a:lnTo>
                        <a:close/>
                      </a:path>
                    </a:pathLst>
                  </a:custGeom>
                  <a:solidFill>
                    <a:srgbClr val="000000"/>
                  </a:solidFill>
                  <a:ln w="0">
                    <a:noFill/>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Freeform 881"/>
                  <p:cNvSpPr/>
                  <p:nvPr/>
                </p:nvSpPr>
                <p:spPr>
                  <a:xfrm rot="111600">
                    <a:off x="1090800" y="1115640"/>
                    <a:ext cx="56520" cy="117000"/>
                  </a:xfrm>
                  <a:custGeom>
                    <a:avLst/>
                    <a:gdLst>
                      <a:gd name="textAreaLeft" fmla="*/ 0 w 56520"/>
                      <a:gd name="textAreaRight" fmla="*/ 56880 w 56520"/>
                      <a:gd name="textAreaTop" fmla="*/ 0 h 117000"/>
                      <a:gd name="textAreaBottom" fmla="*/ 117360 h 117000"/>
                    </a:gdLst>
                    <a:ahLst/>
                    <a:rect l="textAreaLeft" t="textAreaTop" r="textAreaRight" b="textAreaBottom"/>
                    <a:pathLst>
                      <a:path w="580" h="881">
                        <a:moveTo>
                          <a:pt x="0" y="881"/>
                        </a:moveTo>
                        <a:lnTo>
                          <a:pt x="0" y="881"/>
                        </a:lnTo>
                        <a:lnTo>
                          <a:pt x="67" y="870"/>
                        </a:lnTo>
                        <a:lnTo>
                          <a:pt x="134" y="836"/>
                        </a:lnTo>
                        <a:lnTo>
                          <a:pt x="201" y="803"/>
                        </a:lnTo>
                        <a:lnTo>
                          <a:pt x="257" y="769"/>
                        </a:lnTo>
                        <a:lnTo>
                          <a:pt x="312" y="725"/>
                        </a:lnTo>
                        <a:lnTo>
                          <a:pt x="368" y="669"/>
                        </a:lnTo>
                        <a:lnTo>
                          <a:pt x="413" y="613"/>
                        </a:lnTo>
                        <a:lnTo>
                          <a:pt x="457" y="558"/>
                        </a:lnTo>
                        <a:lnTo>
                          <a:pt x="491" y="502"/>
                        </a:lnTo>
                        <a:lnTo>
                          <a:pt x="524" y="435"/>
                        </a:lnTo>
                        <a:lnTo>
                          <a:pt x="546" y="368"/>
                        </a:lnTo>
                        <a:lnTo>
                          <a:pt x="557" y="301"/>
                        </a:lnTo>
                        <a:lnTo>
                          <a:pt x="580" y="223"/>
                        </a:lnTo>
                        <a:lnTo>
                          <a:pt x="580" y="145"/>
                        </a:lnTo>
                        <a:lnTo>
                          <a:pt x="580" y="78"/>
                        </a:lnTo>
                        <a:lnTo>
                          <a:pt x="569" y="0"/>
                        </a:lnTo>
                        <a:lnTo>
                          <a:pt x="546" y="0"/>
                        </a:lnTo>
                        <a:lnTo>
                          <a:pt x="557" y="78"/>
                        </a:lnTo>
                        <a:lnTo>
                          <a:pt x="557" y="145"/>
                        </a:lnTo>
                        <a:lnTo>
                          <a:pt x="557" y="223"/>
                        </a:lnTo>
                        <a:lnTo>
                          <a:pt x="546" y="290"/>
                        </a:lnTo>
                        <a:lnTo>
                          <a:pt x="524" y="357"/>
                        </a:lnTo>
                        <a:lnTo>
                          <a:pt x="502" y="424"/>
                        </a:lnTo>
                        <a:lnTo>
                          <a:pt x="468" y="491"/>
                        </a:lnTo>
                        <a:lnTo>
                          <a:pt x="435" y="547"/>
                        </a:lnTo>
                        <a:lnTo>
                          <a:pt x="390" y="602"/>
                        </a:lnTo>
                        <a:lnTo>
                          <a:pt x="346" y="658"/>
                        </a:lnTo>
                        <a:lnTo>
                          <a:pt x="301" y="703"/>
                        </a:lnTo>
                        <a:lnTo>
                          <a:pt x="245" y="747"/>
                        </a:lnTo>
                        <a:lnTo>
                          <a:pt x="190" y="781"/>
                        </a:lnTo>
                        <a:lnTo>
                          <a:pt x="123" y="814"/>
                        </a:lnTo>
                        <a:lnTo>
                          <a:pt x="67" y="847"/>
                        </a:lnTo>
                        <a:lnTo>
                          <a:pt x="0" y="870"/>
                        </a:lnTo>
                        <a:lnTo>
                          <a:pt x="0" y="88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Freeform 880"/>
                  <p:cNvSpPr/>
                  <p:nvPr/>
                </p:nvSpPr>
                <p:spPr>
                  <a:xfrm rot="111600">
                    <a:off x="1002960" y="1155960"/>
                    <a:ext cx="86760" cy="77040"/>
                  </a:xfrm>
                  <a:custGeom>
                    <a:avLst/>
                    <a:gdLst>
                      <a:gd name="textAreaLeft" fmla="*/ 0 w 86760"/>
                      <a:gd name="textAreaRight" fmla="*/ 87120 w 86760"/>
                      <a:gd name="textAreaTop" fmla="*/ 0 h 77040"/>
                      <a:gd name="textAreaBottom" fmla="*/ 77400 h 77040"/>
                    </a:gdLst>
                    <a:ahLst/>
                    <a:rect l="textAreaLeft" t="textAreaTop" r="textAreaRight" b="textAreaBottom"/>
                    <a:pathLst>
                      <a:path w="891" h="579">
                        <a:moveTo>
                          <a:pt x="11" y="22"/>
                        </a:moveTo>
                        <a:lnTo>
                          <a:pt x="0" y="11"/>
                        </a:lnTo>
                        <a:lnTo>
                          <a:pt x="11" y="55"/>
                        </a:lnTo>
                        <a:lnTo>
                          <a:pt x="22" y="89"/>
                        </a:lnTo>
                        <a:lnTo>
                          <a:pt x="44" y="122"/>
                        </a:lnTo>
                        <a:lnTo>
                          <a:pt x="55" y="156"/>
                        </a:lnTo>
                        <a:lnTo>
                          <a:pt x="78" y="189"/>
                        </a:lnTo>
                        <a:lnTo>
                          <a:pt x="100" y="223"/>
                        </a:lnTo>
                        <a:lnTo>
                          <a:pt x="122" y="256"/>
                        </a:lnTo>
                        <a:lnTo>
                          <a:pt x="144" y="289"/>
                        </a:lnTo>
                        <a:lnTo>
                          <a:pt x="167" y="312"/>
                        </a:lnTo>
                        <a:lnTo>
                          <a:pt x="200" y="345"/>
                        </a:lnTo>
                        <a:lnTo>
                          <a:pt x="222" y="367"/>
                        </a:lnTo>
                        <a:lnTo>
                          <a:pt x="245" y="390"/>
                        </a:lnTo>
                        <a:lnTo>
                          <a:pt x="278" y="412"/>
                        </a:lnTo>
                        <a:lnTo>
                          <a:pt x="300" y="434"/>
                        </a:lnTo>
                        <a:lnTo>
                          <a:pt x="334" y="457"/>
                        </a:lnTo>
                        <a:lnTo>
                          <a:pt x="367" y="479"/>
                        </a:lnTo>
                        <a:lnTo>
                          <a:pt x="390" y="490"/>
                        </a:lnTo>
                        <a:lnTo>
                          <a:pt x="423" y="512"/>
                        </a:lnTo>
                        <a:lnTo>
                          <a:pt x="457" y="523"/>
                        </a:lnTo>
                        <a:lnTo>
                          <a:pt x="490" y="535"/>
                        </a:lnTo>
                        <a:lnTo>
                          <a:pt x="523" y="546"/>
                        </a:lnTo>
                        <a:lnTo>
                          <a:pt x="557" y="557"/>
                        </a:lnTo>
                        <a:lnTo>
                          <a:pt x="590" y="568"/>
                        </a:lnTo>
                        <a:lnTo>
                          <a:pt x="624" y="568"/>
                        </a:lnTo>
                        <a:lnTo>
                          <a:pt x="657" y="579"/>
                        </a:lnTo>
                        <a:lnTo>
                          <a:pt x="691" y="579"/>
                        </a:lnTo>
                        <a:lnTo>
                          <a:pt x="724" y="579"/>
                        </a:lnTo>
                        <a:lnTo>
                          <a:pt x="757" y="579"/>
                        </a:lnTo>
                        <a:lnTo>
                          <a:pt x="791" y="579"/>
                        </a:lnTo>
                        <a:lnTo>
                          <a:pt x="824" y="579"/>
                        </a:lnTo>
                        <a:lnTo>
                          <a:pt x="858" y="568"/>
                        </a:lnTo>
                        <a:lnTo>
                          <a:pt x="891" y="557"/>
                        </a:lnTo>
                        <a:lnTo>
                          <a:pt x="891" y="546"/>
                        </a:lnTo>
                        <a:lnTo>
                          <a:pt x="858" y="546"/>
                        </a:lnTo>
                        <a:lnTo>
                          <a:pt x="824" y="557"/>
                        </a:lnTo>
                        <a:lnTo>
                          <a:pt x="791" y="557"/>
                        </a:lnTo>
                        <a:lnTo>
                          <a:pt x="757" y="557"/>
                        </a:lnTo>
                        <a:lnTo>
                          <a:pt x="724" y="557"/>
                        </a:lnTo>
                        <a:lnTo>
                          <a:pt x="691" y="557"/>
                        </a:lnTo>
                        <a:lnTo>
                          <a:pt x="657" y="557"/>
                        </a:lnTo>
                        <a:lnTo>
                          <a:pt x="624" y="557"/>
                        </a:lnTo>
                        <a:lnTo>
                          <a:pt x="590" y="546"/>
                        </a:lnTo>
                        <a:lnTo>
                          <a:pt x="557" y="535"/>
                        </a:lnTo>
                        <a:lnTo>
                          <a:pt x="523" y="523"/>
                        </a:lnTo>
                        <a:lnTo>
                          <a:pt x="490" y="512"/>
                        </a:lnTo>
                        <a:lnTo>
                          <a:pt x="468" y="501"/>
                        </a:lnTo>
                        <a:lnTo>
                          <a:pt x="434" y="490"/>
                        </a:lnTo>
                        <a:lnTo>
                          <a:pt x="401" y="479"/>
                        </a:lnTo>
                        <a:lnTo>
                          <a:pt x="367" y="457"/>
                        </a:lnTo>
                        <a:lnTo>
                          <a:pt x="345" y="445"/>
                        </a:lnTo>
                        <a:lnTo>
                          <a:pt x="312" y="423"/>
                        </a:lnTo>
                        <a:lnTo>
                          <a:pt x="289" y="401"/>
                        </a:lnTo>
                        <a:lnTo>
                          <a:pt x="256" y="379"/>
                        </a:lnTo>
                        <a:lnTo>
                          <a:pt x="234" y="356"/>
                        </a:lnTo>
                        <a:lnTo>
                          <a:pt x="211" y="323"/>
                        </a:lnTo>
                        <a:lnTo>
                          <a:pt x="178" y="301"/>
                        </a:lnTo>
                        <a:lnTo>
                          <a:pt x="167" y="278"/>
                        </a:lnTo>
                        <a:lnTo>
                          <a:pt x="144" y="245"/>
                        </a:lnTo>
                        <a:lnTo>
                          <a:pt x="122" y="211"/>
                        </a:lnTo>
                        <a:lnTo>
                          <a:pt x="100" y="178"/>
                        </a:lnTo>
                        <a:lnTo>
                          <a:pt x="78" y="145"/>
                        </a:lnTo>
                        <a:lnTo>
                          <a:pt x="55" y="111"/>
                        </a:lnTo>
                        <a:lnTo>
                          <a:pt x="44" y="78"/>
                        </a:lnTo>
                        <a:lnTo>
                          <a:pt x="33" y="44"/>
                        </a:lnTo>
                        <a:lnTo>
                          <a:pt x="11" y="11"/>
                        </a:lnTo>
                        <a:lnTo>
                          <a:pt x="0" y="0"/>
                        </a:lnTo>
                        <a:lnTo>
                          <a:pt x="11" y="22"/>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Freeform 879"/>
                  <p:cNvSpPr/>
                  <p:nvPr/>
                </p:nvSpPr>
                <p:spPr>
                  <a:xfrm rot="111600">
                    <a:off x="985320" y="1137960"/>
                    <a:ext cx="20520" cy="19080"/>
                  </a:xfrm>
                  <a:custGeom>
                    <a:avLst/>
                    <a:gdLst>
                      <a:gd name="textAreaLeft" fmla="*/ 0 w 20520"/>
                      <a:gd name="textAreaRight" fmla="*/ 20880 w 20520"/>
                      <a:gd name="textAreaTop" fmla="*/ 0 h 19080"/>
                      <a:gd name="textAreaBottom" fmla="*/ 19440 h 19080"/>
                    </a:gdLst>
                    <a:ahLst/>
                    <a:rect l="textAreaLeft" t="textAreaTop" r="textAreaRight" b="textAreaBottom"/>
                    <a:pathLst>
                      <a:path w="212" h="145">
                        <a:moveTo>
                          <a:pt x="0" y="0"/>
                        </a:moveTo>
                        <a:lnTo>
                          <a:pt x="0" y="0"/>
                        </a:lnTo>
                        <a:lnTo>
                          <a:pt x="11" y="33"/>
                        </a:lnTo>
                        <a:lnTo>
                          <a:pt x="33" y="67"/>
                        </a:lnTo>
                        <a:lnTo>
                          <a:pt x="45" y="89"/>
                        </a:lnTo>
                        <a:lnTo>
                          <a:pt x="78" y="100"/>
                        </a:lnTo>
                        <a:lnTo>
                          <a:pt x="100" y="123"/>
                        </a:lnTo>
                        <a:lnTo>
                          <a:pt x="134" y="134"/>
                        </a:lnTo>
                        <a:lnTo>
                          <a:pt x="167" y="134"/>
                        </a:lnTo>
                        <a:lnTo>
                          <a:pt x="212" y="145"/>
                        </a:lnTo>
                        <a:lnTo>
                          <a:pt x="201" y="123"/>
                        </a:lnTo>
                        <a:lnTo>
                          <a:pt x="178" y="123"/>
                        </a:lnTo>
                        <a:lnTo>
                          <a:pt x="145" y="111"/>
                        </a:lnTo>
                        <a:lnTo>
                          <a:pt x="111" y="100"/>
                        </a:lnTo>
                        <a:lnTo>
                          <a:pt x="89" y="89"/>
                        </a:lnTo>
                        <a:lnTo>
                          <a:pt x="67" y="67"/>
                        </a:lnTo>
                        <a:lnTo>
                          <a:pt x="45" y="56"/>
                        </a:lnTo>
                        <a:lnTo>
                          <a:pt x="33" y="22"/>
                        </a:lnTo>
                        <a:lnTo>
                          <a:pt x="11"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Freeform 878"/>
                  <p:cNvSpPr/>
                  <p:nvPr/>
                </p:nvSpPr>
                <p:spPr>
                  <a:xfrm rot="111600">
                    <a:off x="984960" y="1098000"/>
                    <a:ext cx="17280" cy="39960"/>
                  </a:xfrm>
                  <a:custGeom>
                    <a:avLst/>
                    <a:gdLst>
                      <a:gd name="textAreaLeft" fmla="*/ 0 w 17280"/>
                      <a:gd name="textAreaRight" fmla="*/ 17640 w 17280"/>
                      <a:gd name="textAreaTop" fmla="*/ 0 h 39960"/>
                      <a:gd name="textAreaBottom" fmla="*/ 40320 h 39960"/>
                    </a:gdLst>
                    <a:ahLst/>
                    <a:rect l="textAreaLeft" t="textAreaTop" r="textAreaRight" b="textAreaBottom"/>
                    <a:pathLst>
                      <a:path w="178" h="301">
                        <a:moveTo>
                          <a:pt x="156" y="0"/>
                        </a:moveTo>
                        <a:lnTo>
                          <a:pt x="156" y="0"/>
                        </a:lnTo>
                        <a:lnTo>
                          <a:pt x="122" y="34"/>
                        </a:lnTo>
                        <a:lnTo>
                          <a:pt x="78" y="67"/>
                        </a:lnTo>
                        <a:lnTo>
                          <a:pt x="56" y="100"/>
                        </a:lnTo>
                        <a:lnTo>
                          <a:pt x="22" y="134"/>
                        </a:lnTo>
                        <a:lnTo>
                          <a:pt x="0" y="178"/>
                        </a:lnTo>
                        <a:lnTo>
                          <a:pt x="0" y="212"/>
                        </a:lnTo>
                        <a:lnTo>
                          <a:pt x="0" y="256"/>
                        </a:lnTo>
                        <a:lnTo>
                          <a:pt x="11" y="301"/>
                        </a:lnTo>
                        <a:lnTo>
                          <a:pt x="22" y="301"/>
                        </a:lnTo>
                        <a:lnTo>
                          <a:pt x="22" y="256"/>
                        </a:lnTo>
                        <a:lnTo>
                          <a:pt x="22" y="223"/>
                        </a:lnTo>
                        <a:lnTo>
                          <a:pt x="33" y="178"/>
                        </a:lnTo>
                        <a:lnTo>
                          <a:pt x="44" y="145"/>
                        </a:lnTo>
                        <a:lnTo>
                          <a:pt x="67" y="112"/>
                        </a:lnTo>
                        <a:lnTo>
                          <a:pt x="100" y="78"/>
                        </a:lnTo>
                        <a:lnTo>
                          <a:pt x="134" y="45"/>
                        </a:lnTo>
                        <a:lnTo>
                          <a:pt x="167" y="11"/>
                        </a:lnTo>
                        <a:lnTo>
                          <a:pt x="178" y="0"/>
                        </a:lnTo>
                        <a:lnTo>
                          <a:pt x="156" y="0"/>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Freeform 877"/>
                  <p:cNvSpPr/>
                  <p:nvPr/>
                </p:nvSpPr>
                <p:spPr>
                  <a:xfrm rot="111600">
                    <a:off x="1002240" y="1004040"/>
                    <a:ext cx="50040" cy="94680"/>
                  </a:xfrm>
                  <a:custGeom>
                    <a:avLst/>
                    <a:gdLst>
                      <a:gd name="textAreaLeft" fmla="*/ 0 w 50040"/>
                      <a:gd name="textAreaRight" fmla="*/ 50400 w 50040"/>
                      <a:gd name="textAreaTop" fmla="*/ 0 h 94680"/>
                      <a:gd name="textAreaBottom" fmla="*/ 95040 h 94680"/>
                    </a:gdLst>
                    <a:ahLst/>
                    <a:rect l="textAreaLeft" t="textAreaTop" r="textAreaRight" b="textAreaBottom"/>
                    <a:pathLst>
                      <a:path w="513" h="713">
                        <a:moveTo>
                          <a:pt x="501" y="0"/>
                        </a:moveTo>
                        <a:lnTo>
                          <a:pt x="501" y="0"/>
                        </a:lnTo>
                        <a:lnTo>
                          <a:pt x="457" y="11"/>
                        </a:lnTo>
                        <a:lnTo>
                          <a:pt x="401" y="33"/>
                        </a:lnTo>
                        <a:lnTo>
                          <a:pt x="356" y="56"/>
                        </a:lnTo>
                        <a:lnTo>
                          <a:pt x="301" y="89"/>
                        </a:lnTo>
                        <a:lnTo>
                          <a:pt x="267" y="122"/>
                        </a:lnTo>
                        <a:lnTo>
                          <a:pt x="223" y="167"/>
                        </a:lnTo>
                        <a:lnTo>
                          <a:pt x="189" y="212"/>
                        </a:lnTo>
                        <a:lnTo>
                          <a:pt x="156" y="256"/>
                        </a:lnTo>
                        <a:lnTo>
                          <a:pt x="122" y="301"/>
                        </a:lnTo>
                        <a:lnTo>
                          <a:pt x="89" y="356"/>
                        </a:lnTo>
                        <a:lnTo>
                          <a:pt x="67" y="412"/>
                        </a:lnTo>
                        <a:lnTo>
                          <a:pt x="44" y="468"/>
                        </a:lnTo>
                        <a:lnTo>
                          <a:pt x="33" y="524"/>
                        </a:lnTo>
                        <a:lnTo>
                          <a:pt x="11" y="590"/>
                        </a:lnTo>
                        <a:lnTo>
                          <a:pt x="0" y="657"/>
                        </a:lnTo>
                        <a:lnTo>
                          <a:pt x="0" y="713"/>
                        </a:lnTo>
                        <a:lnTo>
                          <a:pt x="22" y="713"/>
                        </a:lnTo>
                        <a:lnTo>
                          <a:pt x="22" y="657"/>
                        </a:lnTo>
                        <a:lnTo>
                          <a:pt x="33" y="590"/>
                        </a:lnTo>
                        <a:lnTo>
                          <a:pt x="56" y="535"/>
                        </a:lnTo>
                        <a:lnTo>
                          <a:pt x="67" y="479"/>
                        </a:lnTo>
                        <a:lnTo>
                          <a:pt x="89" y="423"/>
                        </a:lnTo>
                        <a:lnTo>
                          <a:pt x="111" y="368"/>
                        </a:lnTo>
                        <a:lnTo>
                          <a:pt x="145" y="323"/>
                        </a:lnTo>
                        <a:lnTo>
                          <a:pt x="167" y="267"/>
                        </a:lnTo>
                        <a:lnTo>
                          <a:pt x="200" y="223"/>
                        </a:lnTo>
                        <a:lnTo>
                          <a:pt x="245" y="178"/>
                        </a:lnTo>
                        <a:lnTo>
                          <a:pt x="278" y="145"/>
                        </a:lnTo>
                        <a:lnTo>
                          <a:pt x="323" y="111"/>
                        </a:lnTo>
                        <a:lnTo>
                          <a:pt x="368" y="78"/>
                        </a:lnTo>
                        <a:lnTo>
                          <a:pt x="412" y="56"/>
                        </a:lnTo>
                        <a:lnTo>
                          <a:pt x="457" y="33"/>
                        </a:lnTo>
                        <a:lnTo>
                          <a:pt x="513" y="22"/>
                        </a:lnTo>
                        <a:lnTo>
                          <a:pt x="50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Freeform 876"/>
                  <p:cNvSpPr/>
                  <p:nvPr/>
                </p:nvSpPr>
                <p:spPr>
                  <a:xfrm rot="111600">
                    <a:off x="1111680" y="1143360"/>
                    <a:ext cx="1800" cy="2880"/>
                  </a:xfrm>
                  <a:custGeom>
                    <a:avLst/>
                    <a:gdLst>
                      <a:gd name="textAreaLeft" fmla="*/ 0 w 1800"/>
                      <a:gd name="textAreaRight" fmla="*/ 2160 w 1800"/>
                      <a:gd name="textAreaTop" fmla="*/ 0 h 2880"/>
                      <a:gd name="textAreaBottom" fmla="*/ 3240 h 2880"/>
                    </a:gdLst>
                    <a:ahLst/>
                    <a:rect l="textAreaLeft" t="textAreaTop" r="textAreaRight" b="textAreaBottom"/>
                    <a:pathLst>
                      <a:path w="22" h="22">
                        <a:moveTo>
                          <a:pt x="22" y="11"/>
                        </a:moveTo>
                        <a:lnTo>
                          <a:pt x="11" y="0"/>
                        </a:lnTo>
                        <a:lnTo>
                          <a:pt x="0" y="0"/>
                        </a:lnTo>
                        <a:lnTo>
                          <a:pt x="0" y="11"/>
                        </a:lnTo>
                        <a:lnTo>
                          <a:pt x="0" y="22"/>
                        </a:lnTo>
                        <a:lnTo>
                          <a:pt x="22"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Freeform 875"/>
                  <p:cNvSpPr/>
                  <p:nvPr/>
                </p:nvSpPr>
                <p:spPr>
                  <a:xfrm rot="111600">
                    <a:off x="1111320" y="1144800"/>
                    <a:ext cx="18360" cy="16200"/>
                  </a:xfrm>
                  <a:custGeom>
                    <a:avLst/>
                    <a:gdLst>
                      <a:gd name="textAreaLeft" fmla="*/ 0 w 18360"/>
                      <a:gd name="textAreaRight" fmla="*/ 18720 w 18360"/>
                      <a:gd name="textAreaTop" fmla="*/ 0 h 16200"/>
                      <a:gd name="textAreaBottom" fmla="*/ 16560 h 16200"/>
                    </a:gdLst>
                    <a:ahLst/>
                    <a:rect l="textAreaLeft" t="textAreaTop" r="textAreaRight" b="textAreaBottom"/>
                    <a:pathLst>
                      <a:path w="189" h="123">
                        <a:moveTo>
                          <a:pt x="189" y="112"/>
                        </a:moveTo>
                        <a:lnTo>
                          <a:pt x="167" y="101"/>
                        </a:lnTo>
                        <a:lnTo>
                          <a:pt x="134" y="89"/>
                        </a:lnTo>
                        <a:lnTo>
                          <a:pt x="111" y="89"/>
                        </a:lnTo>
                        <a:lnTo>
                          <a:pt x="89" y="78"/>
                        </a:lnTo>
                        <a:lnTo>
                          <a:pt x="67" y="56"/>
                        </a:lnTo>
                        <a:lnTo>
                          <a:pt x="56" y="45"/>
                        </a:lnTo>
                        <a:lnTo>
                          <a:pt x="33" y="23"/>
                        </a:lnTo>
                        <a:lnTo>
                          <a:pt x="22" y="0"/>
                        </a:lnTo>
                        <a:lnTo>
                          <a:pt x="0" y="11"/>
                        </a:lnTo>
                        <a:lnTo>
                          <a:pt x="22" y="34"/>
                        </a:lnTo>
                        <a:lnTo>
                          <a:pt x="33" y="56"/>
                        </a:lnTo>
                        <a:lnTo>
                          <a:pt x="56" y="78"/>
                        </a:lnTo>
                        <a:lnTo>
                          <a:pt x="78" y="89"/>
                        </a:lnTo>
                        <a:lnTo>
                          <a:pt x="111" y="101"/>
                        </a:lnTo>
                        <a:lnTo>
                          <a:pt x="134" y="112"/>
                        </a:lnTo>
                        <a:lnTo>
                          <a:pt x="156" y="123"/>
                        </a:lnTo>
                        <a:lnTo>
                          <a:pt x="189" y="123"/>
                        </a:lnTo>
                        <a:lnTo>
                          <a:pt x="189" y="11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Freeform 874"/>
                  <p:cNvSpPr/>
                  <p:nvPr/>
                </p:nvSpPr>
                <p:spPr>
                  <a:xfrm rot="111600">
                    <a:off x="1112400" y="114516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0" y="11"/>
                        </a:moveTo>
                        <a:lnTo>
                          <a:pt x="0" y="11"/>
                        </a:lnTo>
                        <a:lnTo>
                          <a:pt x="11" y="11"/>
                        </a:lnTo>
                        <a:lnTo>
                          <a:pt x="11" y="0"/>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Freeform 873"/>
                  <p:cNvSpPr/>
                  <p:nvPr/>
                </p:nvSpPr>
                <p:spPr>
                  <a:xfrm rot="111600">
                    <a:off x="1048680" y="115956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22" y="11"/>
                        </a:moveTo>
                        <a:lnTo>
                          <a:pt x="22" y="11"/>
                        </a:lnTo>
                        <a:lnTo>
                          <a:pt x="11" y="0"/>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Freeform 872"/>
                  <p:cNvSpPr/>
                  <p:nvPr/>
                </p:nvSpPr>
                <p:spPr>
                  <a:xfrm rot="111600">
                    <a:off x="1044360" y="1160640"/>
                    <a:ext cx="6480" cy="17640"/>
                  </a:xfrm>
                  <a:custGeom>
                    <a:avLst/>
                    <a:gdLst>
                      <a:gd name="textAreaLeft" fmla="*/ 0 w 6480"/>
                      <a:gd name="textAreaRight" fmla="*/ 6840 w 6480"/>
                      <a:gd name="textAreaTop" fmla="*/ 0 h 17640"/>
                      <a:gd name="textAreaBottom" fmla="*/ 18000 h 17640"/>
                    </a:gdLst>
                    <a:ahLst/>
                    <a:rect l="textAreaLeft" t="textAreaTop" r="textAreaRight" b="textAreaBottom"/>
                    <a:pathLst>
                      <a:path w="67" h="134">
                        <a:moveTo>
                          <a:pt x="22" y="134"/>
                        </a:moveTo>
                        <a:lnTo>
                          <a:pt x="22" y="123"/>
                        </a:lnTo>
                        <a:lnTo>
                          <a:pt x="33" y="112"/>
                        </a:lnTo>
                        <a:lnTo>
                          <a:pt x="33" y="100"/>
                        </a:lnTo>
                        <a:lnTo>
                          <a:pt x="45" y="89"/>
                        </a:lnTo>
                        <a:lnTo>
                          <a:pt x="56" y="67"/>
                        </a:lnTo>
                        <a:lnTo>
                          <a:pt x="56" y="56"/>
                        </a:lnTo>
                        <a:lnTo>
                          <a:pt x="67" y="45"/>
                        </a:lnTo>
                        <a:lnTo>
                          <a:pt x="67" y="22"/>
                        </a:lnTo>
                        <a:lnTo>
                          <a:pt x="67" y="0"/>
                        </a:lnTo>
                        <a:lnTo>
                          <a:pt x="45" y="0"/>
                        </a:lnTo>
                        <a:lnTo>
                          <a:pt x="45" y="22"/>
                        </a:lnTo>
                        <a:lnTo>
                          <a:pt x="45" y="33"/>
                        </a:lnTo>
                        <a:lnTo>
                          <a:pt x="33" y="45"/>
                        </a:lnTo>
                        <a:lnTo>
                          <a:pt x="33" y="56"/>
                        </a:lnTo>
                        <a:lnTo>
                          <a:pt x="22" y="78"/>
                        </a:lnTo>
                        <a:lnTo>
                          <a:pt x="22" y="89"/>
                        </a:lnTo>
                        <a:lnTo>
                          <a:pt x="11" y="100"/>
                        </a:lnTo>
                        <a:lnTo>
                          <a:pt x="0" y="112"/>
                        </a:lnTo>
                        <a:lnTo>
                          <a:pt x="22" y="134"/>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Freeform 871"/>
                  <p:cNvSpPr/>
                  <p:nvPr/>
                </p:nvSpPr>
                <p:spPr>
                  <a:xfrm rot="111600">
                    <a:off x="1035360" y="1175400"/>
                    <a:ext cx="10800" cy="5760"/>
                  </a:xfrm>
                  <a:custGeom>
                    <a:avLst/>
                    <a:gdLst>
                      <a:gd name="textAreaLeft" fmla="*/ 0 w 10800"/>
                      <a:gd name="textAreaRight" fmla="*/ 10800 w 10800"/>
                      <a:gd name="textAreaTop" fmla="*/ 0 h 5760"/>
                      <a:gd name="textAreaBottom" fmla="*/ 6120 h 5760"/>
                    </a:gdLst>
                    <a:ahLst/>
                    <a:rect l="textAreaLeft" t="textAreaTop" r="textAreaRight" b="textAreaBottom"/>
                    <a:pathLst>
                      <a:path w="111" h="44">
                        <a:moveTo>
                          <a:pt x="0" y="44"/>
                        </a:moveTo>
                        <a:lnTo>
                          <a:pt x="22" y="44"/>
                        </a:lnTo>
                        <a:lnTo>
                          <a:pt x="33" y="44"/>
                        </a:lnTo>
                        <a:lnTo>
                          <a:pt x="56" y="33"/>
                        </a:lnTo>
                        <a:lnTo>
                          <a:pt x="67" y="33"/>
                        </a:lnTo>
                        <a:lnTo>
                          <a:pt x="89" y="33"/>
                        </a:lnTo>
                        <a:lnTo>
                          <a:pt x="89" y="22"/>
                        </a:lnTo>
                        <a:lnTo>
                          <a:pt x="100" y="22"/>
                        </a:lnTo>
                        <a:lnTo>
                          <a:pt x="111" y="22"/>
                        </a:lnTo>
                        <a:lnTo>
                          <a:pt x="89" y="0"/>
                        </a:lnTo>
                        <a:lnTo>
                          <a:pt x="78" y="11"/>
                        </a:lnTo>
                        <a:lnTo>
                          <a:pt x="67" y="11"/>
                        </a:lnTo>
                        <a:lnTo>
                          <a:pt x="44" y="22"/>
                        </a:lnTo>
                        <a:lnTo>
                          <a:pt x="33" y="22"/>
                        </a:lnTo>
                        <a:lnTo>
                          <a:pt x="11" y="22"/>
                        </a:lnTo>
                        <a:lnTo>
                          <a:pt x="0" y="22"/>
                        </a:lnTo>
                        <a:lnTo>
                          <a:pt x="0" y="44"/>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Freeform 870"/>
                  <p:cNvSpPr/>
                  <p:nvPr/>
                </p:nvSpPr>
                <p:spPr>
                  <a:xfrm rot="111600">
                    <a:off x="1044000" y="1175400"/>
                    <a:ext cx="720" cy="2880"/>
                  </a:xfrm>
                  <a:custGeom>
                    <a:avLst/>
                    <a:gdLst>
                      <a:gd name="textAreaLeft" fmla="*/ 0 w 720"/>
                      <a:gd name="textAreaRight" fmla="*/ 1080 w 720"/>
                      <a:gd name="textAreaTop" fmla="*/ 0 h 2880"/>
                      <a:gd name="textAreaBottom" fmla="*/ 3240 h 2880"/>
                    </a:gdLst>
                    <a:ahLst/>
                    <a:rect l="textAreaLeft" t="textAreaTop" r="textAreaRight" b="textAreaBottom"/>
                    <a:pathLst>
                      <a:path w="11" h="22">
                        <a:moveTo>
                          <a:pt x="11" y="0"/>
                        </a:moveTo>
                        <a:lnTo>
                          <a:pt x="0" y="0"/>
                        </a:lnTo>
                        <a:lnTo>
                          <a:pt x="0" y="11"/>
                        </a:lnTo>
                        <a:lnTo>
                          <a:pt x="11" y="22"/>
                        </a:lnTo>
                        <a:lnTo>
                          <a:pt x="11"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Freeform 869"/>
                  <p:cNvSpPr/>
                  <p:nvPr/>
                </p:nvSpPr>
                <p:spPr>
                  <a:xfrm rot="111600">
                    <a:off x="987480" y="960840"/>
                    <a:ext cx="163440" cy="170640"/>
                  </a:xfrm>
                  <a:custGeom>
                    <a:avLst/>
                    <a:gdLst>
                      <a:gd name="textAreaLeft" fmla="*/ 0 w 163440"/>
                      <a:gd name="textAreaRight" fmla="*/ 163800 w 163440"/>
                      <a:gd name="textAreaTop" fmla="*/ 0 h 170640"/>
                      <a:gd name="textAreaBottom" fmla="*/ 171000 h 170640"/>
                    </a:gdLst>
                    <a:ahLst/>
                    <a:rect l="textAreaLeft" t="textAreaTop" r="textAreaRight" b="textAreaBottom"/>
                    <a:pathLst>
                      <a:path w="1672" h="1282">
                        <a:moveTo>
                          <a:pt x="680" y="223"/>
                        </a:moveTo>
                        <a:lnTo>
                          <a:pt x="635" y="223"/>
                        </a:lnTo>
                        <a:lnTo>
                          <a:pt x="591" y="223"/>
                        </a:lnTo>
                        <a:lnTo>
                          <a:pt x="546" y="223"/>
                        </a:lnTo>
                        <a:lnTo>
                          <a:pt x="490" y="234"/>
                        </a:lnTo>
                        <a:lnTo>
                          <a:pt x="446" y="246"/>
                        </a:lnTo>
                        <a:lnTo>
                          <a:pt x="390" y="257"/>
                        </a:lnTo>
                        <a:lnTo>
                          <a:pt x="345" y="268"/>
                        </a:lnTo>
                        <a:lnTo>
                          <a:pt x="290" y="290"/>
                        </a:lnTo>
                        <a:lnTo>
                          <a:pt x="245" y="324"/>
                        </a:lnTo>
                        <a:lnTo>
                          <a:pt x="200" y="346"/>
                        </a:lnTo>
                        <a:lnTo>
                          <a:pt x="156" y="379"/>
                        </a:lnTo>
                        <a:lnTo>
                          <a:pt x="122" y="413"/>
                        </a:lnTo>
                        <a:lnTo>
                          <a:pt x="89" y="446"/>
                        </a:lnTo>
                        <a:lnTo>
                          <a:pt x="67" y="491"/>
                        </a:lnTo>
                        <a:lnTo>
                          <a:pt x="44" y="535"/>
                        </a:lnTo>
                        <a:lnTo>
                          <a:pt x="22" y="580"/>
                        </a:lnTo>
                        <a:lnTo>
                          <a:pt x="11" y="636"/>
                        </a:lnTo>
                        <a:lnTo>
                          <a:pt x="0" y="703"/>
                        </a:lnTo>
                        <a:lnTo>
                          <a:pt x="0" y="769"/>
                        </a:lnTo>
                        <a:lnTo>
                          <a:pt x="0" y="836"/>
                        </a:lnTo>
                        <a:lnTo>
                          <a:pt x="0" y="903"/>
                        </a:lnTo>
                        <a:lnTo>
                          <a:pt x="22" y="970"/>
                        </a:lnTo>
                        <a:lnTo>
                          <a:pt x="44" y="1037"/>
                        </a:lnTo>
                        <a:lnTo>
                          <a:pt x="78" y="1093"/>
                        </a:lnTo>
                        <a:lnTo>
                          <a:pt x="100" y="1104"/>
                        </a:lnTo>
                        <a:lnTo>
                          <a:pt x="122" y="1104"/>
                        </a:lnTo>
                        <a:lnTo>
                          <a:pt x="145" y="1093"/>
                        </a:lnTo>
                        <a:lnTo>
                          <a:pt x="167" y="1093"/>
                        </a:lnTo>
                        <a:lnTo>
                          <a:pt x="200" y="1082"/>
                        </a:lnTo>
                        <a:lnTo>
                          <a:pt x="223" y="1070"/>
                        </a:lnTo>
                        <a:lnTo>
                          <a:pt x="245" y="1059"/>
                        </a:lnTo>
                        <a:lnTo>
                          <a:pt x="267" y="1070"/>
                        </a:lnTo>
                        <a:lnTo>
                          <a:pt x="278" y="1082"/>
                        </a:lnTo>
                        <a:lnTo>
                          <a:pt x="290" y="1104"/>
                        </a:lnTo>
                        <a:lnTo>
                          <a:pt x="312" y="1137"/>
                        </a:lnTo>
                        <a:lnTo>
                          <a:pt x="312" y="1171"/>
                        </a:lnTo>
                        <a:lnTo>
                          <a:pt x="323" y="1204"/>
                        </a:lnTo>
                        <a:lnTo>
                          <a:pt x="334" y="1238"/>
                        </a:lnTo>
                        <a:lnTo>
                          <a:pt x="345" y="1260"/>
                        </a:lnTo>
                        <a:lnTo>
                          <a:pt x="356" y="1282"/>
                        </a:lnTo>
                        <a:lnTo>
                          <a:pt x="379" y="1260"/>
                        </a:lnTo>
                        <a:lnTo>
                          <a:pt x="412" y="1226"/>
                        </a:lnTo>
                        <a:lnTo>
                          <a:pt x="434" y="1193"/>
                        </a:lnTo>
                        <a:lnTo>
                          <a:pt x="446" y="1148"/>
                        </a:lnTo>
                        <a:lnTo>
                          <a:pt x="457" y="1115"/>
                        </a:lnTo>
                        <a:lnTo>
                          <a:pt x="457" y="1070"/>
                        </a:lnTo>
                        <a:lnTo>
                          <a:pt x="457" y="1037"/>
                        </a:lnTo>
                        <a:lnTo>
                          <a:pt x="457" y="992"/>
                        </a:lnTo>
                        <a:lnTo>
                          <a:pt x="535" y="881"/>
                        </a:lnTo>
                        <a:lnTo>
                          <a:pt x="557" y="859"/>
                        </a:lnTo>
                        <a:lnTo>
                          <a:pt x="568" y="825"/>
                        </a:lnTo>
                        <a:lnTo>
                          <a:pt x="591" y="803"/>
                        </a:lnTo>
                        <a:lnTo>
                          <a:pt x="602" y="769"/>
                        </a:lnTo>
                        <a:lnTo>
                          <a:pt x="624" y="747"/>
                        </a:lnTo>
                        <a:lnTo>
                          <a:pt x="635" y="714"/>
                        </a:lnTo>
                        <a:lnTo>
                          <a:pt x="657" y="691"/>
                        </a:lnTo>
                        <a:lnTo>
                          <a:pt x="669" y="669"/>
                        </a:lnTo>
                        <a:lnTo>
                          <a:pt x="691" y="636"/>
                        </a:lnTo>
                        <a:lnTo>
                          <a:pt x="702" y="613"/>
                        </a:lnTo>
                        <a:lnTo>
                          <a:pt x="713" y="591"/>
                        </a:lnTo>
                        <a:lnTo>
                          <a:pt x="724" y="569"/>
                        </a:lnTo>
                        <a:lnTo>
                          <a:pt x="735" y="535"/>
                        </a:lnTo>
                        <a:lnTo>
                          <a:pt x="747" y="513"/>
                        </a:lnTo>
                        <a:lnTo>
                          <a:pt x="758" y="491"/>
                        </a:lnTo>
                        <a:lnTo>
                          <a:pt x="769" y="457"/>
                        </a:lnTo>
                        <a:lnTo>
                          <a:pt x="780" y="625"/>
                        </a:lnTo>
                        <a:lnTo>
                          <a:pt x="791" y="613"/>
                        </a:lnTo>
                        <a:lnTo>
                          <a:pt x="813" y="591"/>
                        </a:lnTo>
                        <a:lnTo>
                          <a:pt x="836" y="569"/>
                        </a:lnTo>
                        <a:lnTo>
                          <a:pt x="847" y="547"/>
                        </a:lnTo>
                        <a:lnTo>
                          <a:pt x="858" y="513"/>
                        </a:lnTo>
                        <a:lnTo>
                          <a:pt x="869" y="491"/>
                        </a:lnTo>
                        <a:lnTo>
                          <a:pt x="869" y="457"/>
                        </a:lnTo>
                        <a:lnTo>
                          <a:pt x="869" y="435"/>
                        </a:lnTo>
                        <a:lnTo>
                          <a:pt x="936" y="569"/>
                        </a:lnTo>
                        <a:lnTo>
                          <a:pt x="958" y="591"/>
                        </a:lnTo>
                        <a:lnTo>
                          <a:pt x="969" y="625"/>
                        </a:lnTo>
                        <a:lnTo>
                          <a:pt x="992" y="647"/>
                        </a:lnTo>
                        <a:lnTo>
                          <a:pt x="1014" y="669"/>
                        </a:lnTo>
                        <a:lnTo>
                          <a:pt x="1025" y="691"/>
                        </a:lnTo>
                        <a:lnTo>
                          <a:pt x="1059" y="714"/>
                        </a:lnTo>
                        <a:lnTo>
                          <a:pt x="1081" y="736"/>
                        </a:lnTo>
                        <a:lnTo>
                          <a:pt x="1103" y="747"/>
                        </a:lnTo>
                        <a:lnTo>
                          <a:pt x="1125" y="769"/>
                        </a:lnTo>
                        <a:lnTo>
                          <a:pt x="1148" y="781"/>
                        </a:lnTo>
                        <a:lnTo>
                          <a:pt x="1181" y="803"/>
                        </a:lnTo>
                        <a:lnTo>
                          <a:pt x="1215" y="814"/>
                        </a:lnTo>
                        <a:lnTo>
                          <a:pt x="1237" y="814"/>
                        </a:lnTo>
                        <a:lnTo>
                          <a:pt x="1270" y="825"/>
                        </a:lnTo>
                        <a:lnTo>
                          <a:pt x="1304" y="836"/>
                        </a:lnTo>
                        <a:lnTo>
                          <a:pt x="1337" y="836"/>
                        </a:lnTo>
                        <a:lnTo>
                          <a:pt x="1337" y="870"/>
                        </a:lnTo>
                        <a:lnTo>
                          <a:pt x="1348" y="903"/>
                        </a:lnTo>
                        <a:lnTo>
                          <a:pt x="1360" y="937"/>
                        </a:lnTo>
                        <a:lnTo>
                          <a:pt x="1382" y="959"/>
                        </a:lnTo>
                        <a:lnTo>
                          <a:pt x="1404" y="992"/>
                        </a:lnTo>
                        <a:lnTo>
                          <a:pt x="1426" y="1015"/>
                        </a:lnTo>
                        <a:lnTo>
                          <a:pt x="1460" y="1026"/>
                        </a:lnTo>
                        <a:lnTo>
                          <a:pt x="1493" y="1026"/>
                        </a:lnTo>
                        <a:lnTo>
                          <a:pt x="1482" y="981"/>
                        </a:lnTo>
                        <a:lnTo>
                          <a:pt x="1471" y="903"/>
                        </a:lnTo>
                        <a:lnTo>
                          <a:pt x="1482" y="836"/>
                        </a:lnTo>
                        <a:lnTo>
                          <a:pt x="1493" y="792"/>
                        </a:lnTo>
                        <a:lnTo>
                          <a:pt x="1504" y="781"/>
                        </a:lnTo>
                        <a:lnTo>
                          <a:pt x="1527" y="781"/>
                        </a:lnTo>
                        <a:lnTo>
                          <a:pt x="1549" y="781"/>
                        </a:lnTo>
                        <a:lnTo>
                          <a:pt x="1571" y="781"/>
                        </a:lnTo>
                        <a:lnTo>
                          <a:pt x="1594" y="792"/>
                        </a:lnTo>
                        <a:lnTo>
                          <a:pt x="1627" y="792"/>
                        </a:lnTo>
                        <a:lnTo>
                          <a:pt x="1638" y="792"/>
                        </a:lnTo>
                        <a:lnTo>
                          <a:pt x="1660" y="781"/>
                        </a:lnTo>
                        <a:lnTo>
                          <a:pt x="1672" y="758"/>
                        </a:lnTo>
                        <a:lnTo>
                          <a:pt x="1672" y="703"/>
                        </a:lnTo>
                        <a:lnTo>
                          <a:pt x="1672" y="636"/>
                        </a:lnTo>
                        <a:lnTo>
                          <a:pt x="1660" y="558"/>
                        </a:lnTo>
                        <a:lnTo>
                          <a:pt x="1638" y="491"/>
                        </a:lnTo>
                        <a:lnTo>
                          <a:pt x="1627" y="413"/>
                        </a:lnTo>
                        <a:lnTo>
                          <a:pt x="1605" y="368"/>
                        </a:lnTo>
                        <a:lnTo>
                          <a:pt x="1594" y="335"/>
                        </a:lnTo>
                        <a:lnTo>
                          <a:pt x="1582" y="312"/>
                        </a:lnTo>
                        <a:lnTo>
                          <a:pt x="1571" y="290"/>
                        </a:lnTo>
                        <a:lnTo>
                          <a:pt x="1549" y="268"/>
                        </a:lnTo>
                        <a:lnTo>
                          <a:pt x="1527" y="246"/>
                        </a:lnTo>
                        <a:lnTo>
                          <a:pt x="1516" y="223"/>
                        </a:lnTo>
                        <a:lnTo>
                          <a:pt x="1493" y="201"/>
                        </a:lnTo>
                        <a:lnTo>
                          <a:pt x="1460" y="179"/>
                        </a:lnTo>
                        <a:lnTo>
                          <a:pt x="1438" y="168"/>
                        </a:lnTo>
                        <a:lnTo>
                          <a:pt x="1415" y="145"/>
                        </a:lnTo>
                        <a:lnTo>
                          <a:pt x="1393" y="134"/>
                        </a:lnTo>
                        <a:lnTo>
                          <a:pt x="1360" y="123"/>
                        </a:lnTo>
                        <a:lnTo>
                          <a:pt x="1337" y="112"/>
                        </a:lnTo>
                        <a:lnTo>
                          <a:pt x="1315" y="101"/>
                        </a:lnTo>
                        <a:lnTo>
                          <a:pt x="1293" y="90"/>
                        </a:lnTo>
                        <a:lnTo>
                          <a:pt x="1259" y="90"/>
                        </a:lnTo>
                        <a:lnTo>
                          <a:pt x="1237" y="90"/>
                        </a:lnTo>
                        <a:lnTo>
                          <a:pt x="1226" y="78"/>
                        </a:lnTo>
                        <a:lnTo>
                          <a:pt x="1203" y="78"/>
                        </a:lnTo>
                        <a:lnTo>
                          <a:pt x="1192" y="90"/>
                        </a:lnTo>
                        <a:lnTo>
                          <a:pt x="1170" y="90"/>
                        </a:lnTo>
                        <a:lnTo>
                          <a:pt x="1159" y="90"/>
                        </a:lnTo>
                        <a:lnTo>
                          <a:pt x="1137" y="90"/>
                        </a:lnTo>
                        <a:lnTo>
                          <a:pt x="1125" y="101"/>
                        </a:lnTo>
                        <a:lnTo>
                          <a:pt x="1103" y="101"/>
                        </a:lnTo>
                        <a:lnTo>
                          <a:pt x="1081" y="112"/>
                        </a:lnTo>
                        <a:lnTo>
                          <a:pt x="1070" y="112"/>
                        </a:lnTo>
                        <a:lnTo>
                          <a:pt x="1047" y="112"/>
                        </a:lnTo>
                        <a:lnTo>
                          <a:pt x="1036" y="123"/>
                        </a:lnTo>
                        <a:lnTo>
                          <a:pt x="1014" y="123"/>
                        </a:lnTo>
                        <a:lnTo>
                          <a:pt x="1003" y="134"/>
                        </a:lnTo>
                        <a:lnTo>
                          <a:pt x="981" y="134"/>
                        </a:lnTo>
                        <a:lnTo>
                          <a:pt x="969" y="145"/>
                        </a:lnTo>
                        <a:lnTo>
                          <a:pt x="969" y="101"/>
                        </a:lnTo>
                        <a:lnTo>
                          <a:pt x="981" y="67"/>
                        </a:lnTo>
                        <a:lnTo>
                          <a:pt x="992" y="34"/>
                        </a:lnTo>
                        <a:lnTo>
                          <a:pt x="1003" y="0"/>
                        </a:lnTo>
                        <a:lnTo>
                          <a:pt x="969" y="23"/>
                        </a:lnTo>
                        <a:lnTo>
                          <a:pt x="947" y="34"/>
                        </a:lnTo>
                        <a:lnTo>
                          <a:pt x="925" y="56"/>
                        </a:lnTo>
                        <a:lnTo>
                          <a:pt x="903" y="67"/>
                        </a:lnTo>
                        <a:lnTo>
                          <a:pt x="891" y="90"/>
                        </a:lnTo>
                        <a:lnTo>
                          <a:pt x="880" y="112"/>
                        </a:lnTo>
                        <a:lnTo>
                          <a:pt x="869" y="134"/>
                        </a:lnTo>
                        <a:lnTo>
                          <a:pt x="858" y="156"/>
                        </a:lnTo>
                        <a:lnTo>
                          <a:pt x="847" y="145"/>
                        </a:lnTo>
                        <a:lnTo>
                          <a:pt x="836" y="145"/>
                        </a:lnTo>
                        <a:lnTo>
                          <a:pt x="813" y="134"/>
                        </a:lnTo>
                        <a:lnTo>
                          <a:pt x="791" y="123"/>
                        </a:lnTo>
                        <a:lnTo>
                          <a:pt x="780" y="123"/>
                        </a:lnTo>
                        <a:lnTo>
                          <a:pt x="758" y="123"/>
                        </a:lnTo>
                        <a:lnTo>
                          <a:pt x="747" y="112"/>
                        </a:lnTo>
                        <a:lnTo>
                          <a:pt x="735" y="112"/>
                        </a:lnTo>
                        <a:lnTo>
                          <a:pt x="735" y="123"/>
                        </a:lnTo>
                        <a:lnTo>
                          <a:pt x="747" y="134"/>
                        </a:lnTo>
                        <a:lnTo>
                          <a:pt x="758" y="134"/>
                        </a:lnTo>
                        <a:lnTo>
                          <a:pt x="758" y="145"/>
                        </a:lnTo>
                        <a:lnTo>
                          <a:pt x="769" y="156"/>
                        </a:lnTo>
                        <a:lnTo>
                          <a:pt x="780" y="168"/>
                        </a:lnTo>
                        <a:lnTo>
                          <a:pt x="791" y="179"/>
                        </a:lnTo>
                        <a:lnTo>
                          <a:pt x="769" y="179"/>
                        </a:lnTo>
                        <a:lnTo>
                          <a:pt x="758" y="168"/>
                        </a:lnTo>
                        <a:lnTo>
                          <a:pt x="747" y="168"/>
                        </a:lnTo>
                        <a:lnTo>
                          <a:pt x="735" y="156"/>
                        </a:lnTo>
                        <a:lnTo>
                          <a:pt x="724" y="156"/>
                        </a:lnTo>
                        <a:lnTo>
                          <a:pt x="702" y="156"/>
                        </a:lnTo>
                        <a:lnTo>
                          <a:pt x="691" y="145"/>
                        </a:lnTo>
                        <a:lnTo>
                          <a:pt x="680" y="145"/>
                        </a:lnTo>
                        <a:lnTo>
                          <a:pt x="669" y="145"/>
                        </a:lnTo>
                        <a:lnTo>
                          <a:pt x="657" y="134"/>
                        </a:lnTo>
                        <a:lnTo>
                          <a:pt x="635" y="134"/>
                        </a:lnTo>
                        <a:lnTo>
                          <a:pt x="624" y="134"/>
                        </a:lnTo>
                        <a:lnTo>
                          <a:pt x="613" y="134"/>
                        </a:lnTo>
                        <a:lnTo>
                          <a:pt x="591" y="123"/>
                        </a:lnTo>
                        <a:lnTo>
                          <a:pt x="579" y="123"/>
                        </a:lnTo>
                        <a:lnTo>
                          <a:pt x="568" y="123"/>
                        </a:lnTo>
                        <a:lnTo>
                          <a:pt x="579" y="134"/>
                        </a:lnTo>
                        <a:lnTo>
                          <a:pt x="591" y="145"/>
                        </a:lnTo>
                        <a:lnTo>
                          <a:pt x="613" y="168"/>
                        </a:lnTo>
                        <a:lnTo>
                          <a:pt x="624" y="179"/>
                        </a:lnTo>
                        <a:lnTo>
                          <a:pt x="635" y="190"/>
                        </a:lnTo>
                        <a:lnTo>
                          <a:pt x="657" y="201"/>
                        </a:lnTo>
                        <a:lnTo>
                          <a:pt x="669" y="212"/>
                        </a:lnTo>
                        <a:lnTo>
                          <a:pt x="680" y="223"/>
                        </a:lnTo>
                        <a:close/>
                      </a:path>
                    </a:pathLst>
                  </a:custGeom>
                  <a:solidFill>
                    <a:srgbClr val="6b4c1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Freeform 868"/>
                  <p:cNvSpPr/>
                  <p:nvPr/>
                </p:nvSpPr>
                <p:spPr>
                  <a:xfrm rot="111600">
                    <a:off x="989280" y="987480"/>
                    <a:ext cx="65160" cy="48960"/>
                  </a:xfrm>
                  <a:custGeom>
                    <a:avLst/>
                    <a:gdLst>
                      <a:gd name="textAreaLeft" fmla="*/ 0 w 65160"/>
                      <a:gd name="textAreaRight" fmla="*/ 65520 w 65160"/>
                      <a:gd name="textAreaTop" fmla="*/ 0 h 48960"/>
                      <a:gd name="textAreaBottom" fmla="*/ 49320 h 48960"/>
                    </a:gdLst>
                    <a:ahLst/>
                    <a:rect l="textAreaLeft" t="textAreaTop" r="textAreaRight" b="textAreaBottom"/>
                    <a:pathLst>
                      <a:path w="669" h="368">
                        <a:moveTo>
                          <a:pt x="22" y="368"/>
                        </a:moveTo>
                        <a:lnTo>
                          <a:pt x="22" y="368"/>
                        </a:lnTo>
                        <a:lnTo>
                          <a:pt x="45" y="323"/>
                        </a:lnTo>
                        <a:lnTo>
                          <a:pt x="67" y="279"/>
                        </a:lnTo>
                        <a:lnTo>
                          <a:pt x="89" y="245"/>
                        </a:lnTo>
                        <a:lnTo>
                          <a:pt x="123" y="212"/>
                        </a:lnTo>
                        <a:lnTo>
                          <a:pt x="156" y="179"/>
                        </a:lnTo>
                        <a:lnTo>
                          <a:pt x="201" y="145"/>
                        </a:lnTo>
                        <a:lnTo>
                          <a:pt x="245" y="123"/>
                        </a:lnTo>
                        <a:lnTo>
                          <a:pt x="290" y="89"/>
                        </a:lnTo>
                        <a:lnTo>
                          <a:pt x="334" y="67"/>
                        </a:lnTo>
                        <a:lnTo>
                          <a:pt x="379" y="56"/>
                        </a:lnTo>
                        <a:lnTo>
                          <a:pt x="435" y="45"/>
                        </a:lnTo>
                        <a:lnTo>
                          <a:pt x="479" y="34"/>
                        </a:lnTo>
                        <a:lnTo>
                          <a:pt x="535" y="22"/>
                        </a:lnTo>
                        <a:lnTo>
                          <a:pt x="580" y="22"/>
                        </a:lnTo>
                        <a:lnTo>
                          <a:pt x="624" y="22"/>
                        </a:lnTo>
                        <a:lnTo>
                          <a:pt x="669" y="22"/>
                        </a:lnTo>
                        <a:lnTo>
                          <a:pt x="669" y="11"/>
                        </a:lnTo>
                        <a:lnTo>
                          <a:pt x="624" y="0"/>
                        </a:lnTo>
                        <a:lnTo>
                          <a:pt x="580" y="0"/>
                        </a:lnTo>
                        <a:lnTo>
                          <a:pt x="524" y="0"/>
                        </a:lnTo>
                        <a:lnTo>
                          <a:pt x="479" y="11"/>
                        </a:lnTo>
                        <a:lnTo>
                          <a:pt x="423" y="22"/>
                        </a:lnTo>
                        <a:lnTo>
                          <a:pt x="379" y="34"/>
                        </a:lnTo>
                        <a:lnTo>
                          <a:pt x="323" y="56"/>
                        </a:lnTo>
                        <a:lnTo>
                          <a:pt x="279" y="67"/>
                        </a:lnTo>
                        <a:lnTo>
                          <a:pt x="223" y="100"/>
                        </a:lnTo>
                        <a:lnTo>
                          <a:pt x="178" y="123"/>
                        </a:lnTo>
                        <a:lnTo>
                          <a:pt x="145" y="156"/>
                        </a:lnTo>
                        <a:lnTo>
                          <a:pt x="100" y="190"/>
                        </a:lnTo>
                        <a:lnTo>
                          <a:pt x="67" y="234"/>
                        </a:lnTo>
                        <a:lnTo>
                          <a:pt x="45" y="268"/>
                        </a:lnTo>
                        <a:lnTo>
                          <a:pt x="22" y="312"/>
                        </a:lnTo>
                        <a:lnTo>
                          <a:pt x="0" y="357"/>
                        </a:lnTo>
                        <a:lnTo>
                          <a:pt x="22" y="368"/>
                        </a:lnTo>
                        <a:close/>
                      </a:path>
                    </a:pathLst>
                  </a:custGeom>
                  <a:solidFill>
                    <a:srgbClr val="000000"/>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Freeform 867"/>
                  <p:cNvSpPr/>
                  <p:nvPr/>
                </p:nvSpPr>
                <p:spPr>
                  <a:xfrm rot="111600">
                    <a:off x="985320" y="1034280"/>
                    <a:ext cx="9720" cy="70920"/>
                  </a:xfrm>
                  <a:custGeom>
                    <a:avLst/>
                    <a:gdLst>
                      <a:gd name="textAreaLeft" fmla="*/ 0 w 9720"/>
                      <a:gd name="textAreaRight" fmla="*/ 10080 w 9720"/>
                      <a:gd name="textAreaTop" fmla="*/ 0 h 70920"/>
                      <a:gd name="textAreaBottom" fmla="*/ 71280 h 70920"/>
                    </a:gdLst>
                    <a:ahLst/>
                    <a:rect l="textAreaLeft" t="textAreaTop" r="textAreaRight" b="textAreaBottom"/>
                    <a:pathLst>
                      <a:path w="100" h="535">
                        <a:moveTo>
                          <a:pt x="100" y="513"/>
                        </a:moveTo>
                        <a:lnTo>
                          <a:pt x="100" y="513"/>
                        </a:lnTo>
                        <a:lnTo>
                          <a:pt x="67" y="457"/>
                        </a:lnTo>
                        <a:lnTo>
                          <a:pt x="44" y="401"/>
                        </a:lnTo>
                        <a:lnTo>
                          <a:pt x="33" y="334"/>
                        </a:lnTo>
                        <a:lnTo>
                          <a:pt x="22" y="267"/>
                        </a:lnTo>
                        <a:lnTo>
                          <a:pt x="22" y="200"/>
                        </a:lnTo>
                        <a:lnTo>
                          <a:pt x="22" y="134"/>
                        </a:lnTo>
                        <a:lnTo>
                          <a:pt x="33" y="67"/>
                        </a:lnTo>
                        <a:lnTo>
                          <a:pt x="44" y="11"/>
                        </a:lnTo>
                        <a:lnTo>
                          <a:pt x="22" y="0"/>
                        </a:lnTo>
                        <a:lnTo>
                          <a:pt x="11" y="67"/>
                        </a:lnTo>
                        <a:lnTo>
                          <a:pt x="0" y="122"/>
                        </a:lnTo>
                        <a:lnTo>
                          <a:pt x="0" y="200"/>
                        </a:lnTo>
                        <a:lnTo>
                          <a:pt x="0" y="267"/>
                        </a:lnTo>
                        <a:lnTo>
                          <a:pt x="0" y="334"/>
                        </a:lnTo>
                        <a:lnTo>
                          <a:pt x="22" y="401"/>
                        </a:lnTo>
                        <a:lnTo>
                          <a:pt x="44" y="468"/>
                        </a:lnTo>
                        <a:lnTo>
                          <a:pt x="89" y="524"/>
                        </a:lnTo>
                        <a:lnTo>
                          <a:pt x="78" y="535"/>
                        </a:lnTo>
                        <a:lnTo>
                          <a:pt x="100" y="513"/>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Freeform 866"/>
                  <p:cNvSpPr/>
                  <p:nvPr/>
                </p:nvSpPr>
                <p:spPr>
                  <a:xfrm rot="111600">
                    <a:off x="991800" y="1098360"/>
                    <a:ext cx="19440" cy="8640"/>
                  </a:xfrm>
                  <a:custGeom>
                    <a:avLst/>
                    <a:gdLst>
                      <a:gd name="textAreaLeft" fmla="*/ 0 w 19440"/>
                      <a:gd name="textAreaRight" fmla="*/ 19800 w 19440"/>
                      <a:gd name="textAreaTop" fmla="*/ 0 h 8640"/>
                      <a:gd name="textAreaBottom" fmla="*/ 9000 h 8640"/>
                    </a:gdLst>
                    <a:ahLst/>
                    <a:rect l="textAreaLeft" t="textAreaTop" r="textAreaRight" b="textAreaBottom"/>
                    <a:pathLst>
                      <a:path w="200" h="67">
                        <a:moveTo>
                          <a:pt x="200" y="11"/>
                        </a:moveTo>
                        <a:lnTo>
                          <a:pt x="200" y="11"/>
                        </a:lnTo>
                        <a:lnTo>
                          <a:pt x="178" y="0"/>
                        </a:lnTo>
                        <a:lnTo>
                          <a:pt x="156" y="11"/>
                        </a:lnTo>
                        <a:lnTo>
                          <a:pt x="122" y="22"/>
                        </a:lnTo>
                        <a:lnTo>
                          <a:pt x="100" y="34"/>
                        </a:lnTo>
                        <a:lnTo>
                          <a:pt x="67" y="34"/>
                        </a:lnTo>
                        <a:lnTo>
                          <a:pt x="44" y="45"/>
                        </a:lnTo>
                        <a:lnTo>
                          <a:pt x="33" y="45"/>
                        </a:lnTo>
                        <a:lnTo>
                          <a:pt x="22" y="34"/>
                        </a:lnTo>
                        <a:lnTo>
                          <a:pt x="0" y="56"/>
                        </a:lnTo>
                        <a:lnTo>
                          <a:pt x="22" y="67"/>
                        </a:lnTo>
                        <a:lnTo>
                          <a:pt x="55" y="67"/>
                        </a:lnTo>
                        <a:lnTo>
                          <a:pt x="78" y="56"/>
                        </a:lnTo>
                        <a:lnTo>
                          <a:pt x="111" y="56"/>
                        </a:lnTo>
                        <a:lnTo>
                          <a:pt x="133" y="45"/>
                        </a:lnTo>
                        <a:lnTo>
                          <a:pt x="167" y="34"/>
                        </a:lnTo>
                        <a:lnTo>
                          <a:pt x="189" y="22"/>
                        </a:lnTo>
                        <a:lnTo>
                          <a:pt x="200" y="11"/>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Freeform 865"/>
                  <p:cNvSpPr/>
                  <p:nvPr/>
                </p:nvSpPr>
                <p:spPr>
                  <a:xfrm rot="111600">
                    <a:off x="1009800" y="1100160"/>
                    <a:ext cx="9720" cy="30960"/>
                  </a:xfrm>
                  <a:custGeom>
                    <a:avLst/>
                    <a:gdLst>
                      <a:gd name="textAreaLeft" fmla="*/ 0 w 9720"/>
                      <a:gd name="textAreaRight" fmla="*/ 10080 w 9720"/>
                      <a:gd name="textAreaTop" fmla="*/ 0 h 30960"/>
                      <a:gd name="textAreaBottom" fmla="*/ 31320 h 30960"/>
                    </a:gdLst>
                    <a:ahLst/>
                    <a:rect l="textAreaLeft" t="textAreaTop" r="textAreaRight" b="textAreaBottom"/>
                    <a:pathLst>
                      <a:path w="100" h="234">
                        <a:moveTo>
                          <a:pt x="89" y="212"/>
                        </a:moveTo>
                        <a:lnTo>
                          <a:pt x="100" y="223"/>
                        </a:lnTo>
                        <a:lnTo>
                          <a:pt x="100" y="201"/>
                        </a:lnTo>
                        <a:lnTo>
                          <a:pt x="89" y="179"/>
                        </a:lnTo>
                        <a:lnTo>
                          <a:pt x="78" y="145"/>
                        </a:lnTo>
                        <a:lnTo>
                          <a:pt x="67" y="112"/>
                        </a:lnTo>
                        <a:lnTo>
                          <a:pt x="56" y="78"/>
                        </a:lnTo>
                        <a:lnTo>
                          <a:pt x="45" y="45"/>
                        </a:lnTo>
                        <a:lnTo>
                          <a:pt x="34" y="11"/>
                        </a:lnTo>
                        <a:lnTo>
                          <a:pt x="11" y="0"/>
                        </a:lnTo>
                        <a:lnTo>
                          <a:pt x="0" y="11"/>
                        </a:lnTo>
                        <a:lnTo>
                          <a:pt x="22" y="23"/>
                        </a:lnTo>
                        <a:lnTo>
                          <a:pt x="34" y="45"/>
                        </a:lnTo>
                        <a:lnTo>
                          <a:pt x="45" y="78"/>
                        </a:lnTo>
                        <a:lnTo>
                          <a:pt x="56" y="112"/>
                        </a:lnTo>
                        <a:lnTo>
                          <a:pt x="56" y="145"/>
                        </a:lnTo>
                        <a:lnTo>
                          <a:pt x="67" y="179"/>
                        </a:lnTo>
                        <a:lnTo>
                          <a:pt x="78" y="212"/>
                        </a:lnTo>
                        <a:lnTo>
                          <a:pt x="89" y="234"/>
                        </a:lnTo>
                        <a:lnTo>
                          <a:pt x="100" y="234"/>
                        </a:lnTo>
                        <a:lnTo>
                          <a:pt x="89" y="212"/>
                        </a:lnTo>
                        <a:close/>
                      </a:path>
                    </a:pathLst>
                  </a:custGeom>
                  <a:solidFill>
                    <a:srgbClr val="000000"/>
                  </a:solidFill>
                  <a:ln w="0">
                    <a:noFill/>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Freeform 864"/>
                  <p:cNvSpPr/>
                  <p:nvPr/>
                </p:nvSpPr>
                <p:spPr>
                  <a:xfrm rot="111600">
                    <a:off x="1018800" y="1091520"/>
                    <a:ext cx="11880" cy="39960"/>
                  </a:xfrm>
                  <a:custGeom>
                    <a:avLst/>
                    <a:gdLst>
                      <a:gd name="textAreaLeft" fmla="*/ 0 w 11880"/>
                      <a:gd name="textAreaRight" fmla="*/ 12240 w 11880"/>
                      <a:gd name="textAreaTop" fmla="*/ 0 h 39960"/>
                      <a:gd name="textAreaBottom" fmla="*/ 40320 h 39960"/>
                    </a:gdLst>
                    <a:ahLst/>
                    <a:rect l="textAreaLeft" t="textAreaTop" r="textAreaRight" b="textAreaBottom"/>
                    <a:pathLst>
                      <a:path w="123" h="301">
                        <a:moveTo>
                          <a:pt x="101" y="0"/>
                        </a:moveTo>
                        <a:lnTo>
                          <a:pt x="101" y="12"/>
                        </a:lnTo>
                        <a:lnTo>
                          <a:pt x="101" y="45"/>
                        </a:lnTo>
                        <a:lnTo>
                          <a:pt x="101" y="78"/>
                        </a:lnTo>
                        <a:lnTo>
                          <a:pt x="101" y="123"/>
                        </a:lnTo>
                        <a:lnTo>
                          <a:pt x="89" y="156"/>
                        </a:lnTo>
                        <a:lnTo>
                          <a:pt x="78" y="190"/>
                        </a:lnTo>
                        <a:lnTo>
                          <a:pt x="56" y="223"/>
                        </a:lnTo>
                        <a:lnTo>
                          <a:pt x="34" y="257"/>
                        </a:lnTo>
                        <a:lnTo>
                          <a:pt x="0" y="279"/>
                        </a:lnTo>
                        <a:lnTo>
                          <a:pt x="11" y="301"/>
                        </a:lnTo>
                        <a:lnTo>
                          <a:pt x="45" y="268"/>
                        </a:lnTo>
                        <a:lnTo>
                          <a:pt x="78" y="246"/>
                        </a:lnTo>
                        <a:lnTo>
                          <a:pt x="101" y="201"/>
                        </a:lnTo>
                        <a:lnTo>
                          <a:pt x="112" y="168"/>
                        </a:lnTo>
                        <a:lnTo>
                          <a:pt x="123" y="123"/>
                        </a:lnTo>
                        <a:lnTo>
                          <a:pt x="123" y="78"/>
                        </a:lnTo>
                        <a:lnTo>
                          <a:pt x="123" y="45"/>
                        </a:lnTo>
                        <a:lnTo>
                          <a:pt x="123" y="0"/>
                        </a:lnTo>
                        <a:lnTo>
                          <a:pt x="123" y="12"/>
                        </a:lnTo>
                        <a:lnTo>
                          <a:pt x="101" y="0"/>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Freeform 863"/>
                  <p:cNvSpPr/>
                  <p:nvPr/>
                </p:nvSpPr>
                <p:spPr>
                  <a:xfrm rot="111600">
                    <a:off x="1029960" y="1075680"/>
                    <a:ext cx="9720" cy="17640"/>
                  </a:xfrm>
                  <a:custGeom>
                    <a:avLst/>
                    <a:gdLst>
                      <a:gd name="textAreaLeft" fmla="*/ 0 w 9720"/>
                      <a:gd name="textAreaRight" fmla="*/ 10080 w 9720"/>
                      <a:gd name="textAreaTop" fmla="*/ 0 h 17640"/>
                      <a:gd name="textAreaBottom" fmla="*/ 18000 h 17640"/>
                    </a:gdLst>
                    <a:ahLst/>
                    <a:rect l="textAreaLeft" t="textAreaTop" r="textAreaRight" b="textAreaBottom"/>
                    <a:pathLst>
                      <a:path w="100" h="134">
                        <a:moveTo>
                          <a:pt x="89" y="0"/>
                        </a:moveTo>
                        <a:lnTo>
                          <a:pt x="89" y="0"/>
                        </a:lnTo>
                        <a:lnTo>
                          <a:pt x="0" y="122"/>
                        </a:lnTo>
                        <a:lnTo>
                          <a:pt x="22" y="134"/>
                        </a:lnTo>
                        <a:lnTo>
                          <a:pt x="100" y="11"/>
                        </a:lnTo>
                        <a:lnTo>
                          <a:pt x="89" y="0"/>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Freeform 862"/>
                  <p:cNvSpPr/>
                  <p:nvPr/>
                </p:nvSpPr>
                <p:spPr>
                  <a:xfrm rot="111600">
                    <a:off x="1038960" y="1047600"/>
                    <a:ext cx="14040" cy="29520"/>
                  </a:xfrm>
                  <a:custGeom>
                    <a:avLst/>
                    <a:gdLst>
                      <a:gd name="textAreaLeft" fmla="*/ 0 w 14040"/>
                      <a:gd name="textAreaRight" fmla="*/ 14400 w 14040"/>
                      <a:gd name="textAreaTop" fmla="*/ 0 h 29520"/>
                      <a:gd name="textAreaBottom" fmla="*/ 29880 h 29520"/>
                    </a:gdLst>
                    <a:ahLst/>
                    <a:rect l="textAreaLeft" t="textAreaTop" r="textAreaRight" b="textAreaBottom"/>
                    <a:pathLst>
                      <a:path w="145" h="223">
                        <a:moveTo>
                          <a:pt x="122" y="0"/>
                        </a:moveTo>
                        <a:lnTo>
                          <a:pt x="122" y="0"/>
                        </a:lnTo>
                        <a:lnTo>
                          <a:pt x="111" y="22"/>
                        </a:lnTo>
                        <a:lnTo>
                          <a:pt x="89" y="56"/>
                        </a:lnTo>
                        <a:lnTo>
                          <a:pt x="78" y="78"/>
                        </a:lnTo>
                        <a:lnTo>
                          <a:pt x="56" y="111"/>
                        </a:lnTo>
                        <a:lnTo>
                          <a:pt x="44" y="134"/>
                        </a:lnTo>
                        <a:lnTo>
                          <a:pt x="33" y="167"/>
                        </a:lnTo>
                        <a:lnTo>
                          <a:pt x="11" y="189"/>
                        </a:lnTo>
                        <a:lnTo>
                          <a:pt x="0" y="212"/>
                        </a:lnTo>
                        <a:lnTo>
                          <a:pt x="11" y="223"/>
                        </a:lnTo>
                        <a:lnTo>
                          <a:pt x="33" y="201"/>
                        </a:lnTo>
                        <a:lnTo>
                          <a:pt x="44" y="178"/>
                        </a:lnTo>
                        <a:lnTo>
                          <a:pt x="67" y="145"/>
                        </a:lnTo>
                        <a:lnTo>
                          <a:pt x="78" y="123"/>
                        </a:lnTo>
                        <a:lnTo>
                          <a:pt x="100" y="89"/>
                        </a:lnTo>
                        <a:lnTo>
                          <a:pt x="111" y="67"/>
                        </a:lnTo>
                        <a:lnTo>
                          <a:pt x="134" y="33"/>
                        </a:lnTo>
                        <a:lnTo>
                          <a:pt x="145" y="11"/>
                        </a:lnTo>
                        <a:lnTo>
                          <a:pt x="122" y="0"/>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Freeform 861"/>
                  <p:cNvSpPr/>
                  <p:nvPr/>
                </p:nvSpPr>
                <p:spPr>
                  <a:xfrm rot="111600">
                    <a:off x="1051560" y="1021320"/>
                    <a:ext cx="11880" cy="28080"/>
                  </a:xfrm>
                  <a:custGeom>
                    <a:avLst/>
                    <a:gdLst>
                      <a:gd name="textAreaLeft" fmla="*/ 0 w 11880"/>
                      <a:gd name="textAreaRight" fmla="*/ 12240 w 11880"/>
                      <a:gd name="textAreaTop" fmla="*/ 0 h 28080"/>
                      <a:gd name="textAreaBottom" fmla="*/ 28440 h 28080"/>
                    </a:gdLst>
                    <a:ahLst/>
                    <a:rect l="textAreaLeft" t="textAreaTop" r="textAreaRight" b="textAreaBottom"/>
                    <a:pathLst>
                      <a:path w="123" h="212">
                        <a:moveTo>
                          <a:pt x="123" y="0"/>
                        </a:moveTo>
                        <a:lnTo>
                          <a:pt x="101" y="0"/>
                        </a:lnTo>
                        <a:lnTo>
                          <a:pt x="90" y="23"/>
                        </a:lnTo>
                        <a:lnTo>
                          <a:pt x="78" y="56"/>
                        </a:lnTo>
                        <a:lnTo>
                          <a:pt x="67" y="78"/>
                        </a:lnTo>
                        <a:lnTo>
                          <a:pt x="56" y="101"/>
                        </a:lnTo>
                        <a:lnTo>
                          <a:pt x="45" y="123"/>
                        </a:lnTo>
                        <a:lnTo>
                          <a:pt x="34" y="156"/>
                        </a:lnTo>
                        <a:lnTo>
                          <a:pt x="23" y="179"/>
                        </a:lnTo>
                        <a:lnTo>
                          <a:pt x="0" y="201"/>
                        </a:lnTo>
                        <a:lnTo>
                          <a:pt x="23" y="212"/>
                        </a:lnTo>
                        <a:lnTo>
                          <a:pt x="34" y="190"/>
                        </a:lnTo>
                        <a:lnTo>
                          <a:pt x="56" y="168"/>
                        </a:lnTo>
                        <a:lnTo>
                          <a:pt x="67" y="134"/>
                        </a:lnTo>
                        <a:lnTo>
                          <a:pt x="78" y="112"/>
                        </a:lnTo>
                        <a:lnTo>
                          <a:pt x="90" y="90"/>
                        </a:lnTo>
                        <a:lnTo>
                          <a:pt x="101" y="67"/>
                        </a:lnTo>
                        <a:lnTo>
                          <a:pt x="112" y="34"/>
                        </a:lnTo>
                        <a:lnTo>
                          <a:pt x="123" y="12"/>
                        </a:lnTo>
                        <a:lnTo>
                          <a:pt x="101" y="0"/>
                        </a:lnTo>
                        <a:lnTo>
                          <a:pt x="123" y="0"/>
                        </a:lnTo>
                        <a:close/>
                      </a:path>
                    </a:pathLst>
                  </a:custGeom>
                  <a:solidFill>
                    <a:srgbClr val="0000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Freeform 860"/>
                  <p:cNvSpPr/>
                  <p:nvPr/>
                </p:nvSpPr>
                <p:spPr>
                  <a:xfrm rot="111600">
                    <a:off x="1061280" y="1021680"/>
                    <a:ext cx="2880" cy="23760"/>
                  </a:xfrm>
                  <a:custGeom>
                    <a:avLst/>
                    <a:gdLst>
                      <a:gd name="textAreaLeft" fmla="*/ 0 w 2880"/>
                      <a:gd name="textAreaRight" fmla="*/ 3240 w 2880"/>
                      <a:gd name="textAreaTop" fmla="*/ 0 h 23760"/>
                      <a:gd name="textAreaBottom" fmla="*/ 24120 h 23760"/>
                    </a:gdLst>
                    <a:ahLst/>
                    <a:rect l="textAreaLeft" t="textAreaTop" r="textAreaRight" b="textAreaBottom"/>
                    <a:pathLst>
                      <a:path w="33" h="179">
                        <a:moveTo>
                          <a:pt x="11" y="156"/>
                        </a:moveTo>
                        <a:lnTo>
                          <a:pt x="33" y="168"/>
                        </a:lnTo>
                        <a:lnTo>
                          <a:pt x="22" y="0"/>
                        </a:lnTo>
                        <a:lnTo>
                          <a:pt x="0" y="0"/>
                        </a:lnTo>
                        <a:lnTo>
                          <a:pt x="11" y="168"/>
                        </a:lnTo>
                        <a:lnTo>
                          <a:pt x="22" y="179"/>
                        </a:lnTo>
                        <a:lnTo>
                          <a:pt x="11" y="156"/>
                        </a:lnTo>
                        <a:close/>
                      </a:path>
                    </a:pathLst>
                  </a:custGeom>
                  <a:solidFill>
                    <a:srgbClr val="00000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Freeform 859"/>
                  <p:cNvSpPr/>
                  <p:nvPr/>
                </p:nvSpPr>
                <p:spPr>
                  <a:xfrm rot="111600">
                    <a:off x="1062720" y="1018800"/>
                    <a:ext cx="11880" cy="26640"/>
                  </a:xfrm>
                  <a:custGeom>
                    <a:avLst/>
                    <a:gdLst>
                      <a:gd name="textAreaLeft" fmla="*/ 0 w 11880"/>
                      <a:gd name="textAreaRight" fmla="*/ 12240 w 11880"/>
                      <a:gd name="textAreaTop" fmla="*/ 0 h 26640"/>
                      <a:gd name="textAreaBottom" fmla="*/ 27000 h 26640"/>
                    </a:gdLst>
                    <a:ahLst/>
                    <a:rect l="textAreaLeft" t="textAreaTop" r="textAreaRight" b="textAreaBottom"/>
                    <a:pathLst>
                      <a:path w="122" h="201">
                        <a:moveTo>
                          <a:pt x="111" y="0"/>
                        </a:moveTo>
                        <a:lnTo>
                          <a:pt x="89" y="0"/>
                        </a:lnTo>
                        <a:lnTo>
                          <a:pt x="89" y="22"/>
                        </a:lnTo>
                        <a:lnTo>
                          <a:pt x="89" y="56"/>
                        </a:lnTo>
                        <a:lnTo>
                          <a:pt x="78" y="78"/>
                        </a:lnTo>
                        <a:lnTo>
                          <a:pt x="67" y="100"/>
                        </a:lnTo>
                        <a:lnTo>
                          <a:pt x="56" y="123"/>
                        </a:lnTo>
                        <a:lnTo>
                          <a:pt x="33" y="145"/>
                        </a:lnTo>
                        <a:lnTo>
                          <a:pt x="22" y="167"/>
                        </a:lnTo>
                        <a:lnTo>
                          <a:pt x="0" y="178"/>
                        </a:lnTo>
                        <a:lnTo>
                          <a:pt x="11" y="201"/>
                        </a:lnTo>
                        <a:lnTo>
                          <a:pt x="33" y="178"/>
                        </a:lnTo>
                        <a:lnTo>
                          <a:pt x="56" y="167"/>
                        </a:lnTo>
                        <a:lnTo>
                          <a:pt x="67" y="134"/>
                        </a:lnTo>
                        <a:lnTo>
                          <a:pt x="89" y="112"/>
                        </a:lnTo>
                        <a:lnTo>
                          <a:pt x="100" y="89"/>
                        </a:lnTo>
                        <a:lnTo>
                          <a:pt x="111" y="56"/>
                        </a:lnTo>
                        <a:lnTo>
                          <a:pt x="122" y="22"/>
                        </a:lnTo>
                        <a:lnTo>
                          <a:pt x="122" y="0"/>
                        </a:lnTo>
                        <a:lnTo>
                          <a:pt x="100" y="0"/>
                        </a:lnTo>
                        <a:lnTo>
                          <a:pt x="111" y="0"/>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Freeform 858"/>
                  <p:cNvSpPr/>
                  <p:nvPr/>
                </p:nvSpPr>
                <p:spPr>
                  <a:xfrm rot="111600">
                    <a:off x="1073160" y="1019160"/>
                    <a:ext cx="7560" cy="17640"/>
                  </a:xfrm>
                  <a:custGeom>
                    <a:avLst/>
                    <a:gdLst>
                      <a:gd name="textAreaLeft" fmla="*/ 0 w 7560"/>
                      <a:gd name="textAreaRight" fmla="*/ 7920 w 7560"/>
                      <a:gd name="textAreaTop" fmla="*/ 0 h 17640"/>
                      <a:gd name="textAreaBottom" fmla="*/ 18000 h 17640"/>
                    </a:gdLst>
                    <a:ahLst/>
                    <a:rect l="textAreaLeft" t="textAreaTop" r="textAreaRight" b="textAreaBottom"/>
                    <a:pathLst>
                      <a:path w="78" h="134">
                        <a:moveTo>
                          <a:pt x="78" y="123"/>
                        </a:moveTo>
                        <a:lnTo>
                          <a:pt x="78" y="123"/>
                        </a:lnTo>
                        <a:lnTo>
                          <a:pt x="11" y="0"/>
                        </a:lnTo>
                        <a:lnTo>
                          <a:pt x="0" y="0"/>
                        </a:lnTo>
                        <a:lnTo>
                          <a:pt x="56" y="134"/>
                        </a:lnTo>
                        <a:lnTo>
                          <a:pt x="78" y="123"/>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Freeform 857"/>
                  <p:cNvSpPr/>
                  <p:nvPr/>
                </p:nvSpPr>
                <p:spPr>
                  <a:xfrm rot="111600">
                    <a:off x="1077480" y="1035720"/>
                    <a:ext cx="41040" cy="38160"/>
                  </a:xfrm>
                  <a:custGeom>
                    <a:avLst/>
                    <a:gdLst>
                      <a:gd name="textAreaLeft" fmla="*/ 0 w 41040"/>
                      <a:gd name="textAreaRight" fmla="*/ 41400 w 41040"/>
                      <a:gd name="textAreaTop" fmla="*/ 0 h 38160"/>
                      <a:gd name="textAreaBottom" fmla="*/ 38520 h 38160"/>
                    </a:gdLst>
                    <a:ahLst/>
                    <a:rect l="textAreaLeft" t="textAreaTop" r="textAreaRight" b="textAreaBottom"/>
                    <a:pathLst>
                      <a:path w="423" h="289">
                        <a:moveTo>
                          <a:pt x="423" y="278"/>
                        </a:moveTo>
                        <a:lnTo>
                          <a:pt x="412" y="267"/>
                        </a:lnTo>
                        <a:lnTo>
                          <a:pt x="379" y="267"/>
                        </a:lnTo>
                        <a:lnTo>
                          <a:pt x="345" y="256"/>
                        </a:lnTo>
                        <a:lnTo>
                          <a:pt x="312" y="256"/>
                        </a:lnTo>
                        <a:lnTo>
                          <a:pt x="290" y="245"/>
                        </a:lnTo>
                        <a:lnTo>
                          <a:pt x="256" y="234"/>
                        </a:lnTo>
                        <a:lnTo>
                          <a:pt x="234" y="223"/>
                        </a:lnTo>
                        <a:lnTo>
                          <a:pt x="200" y="200"/>
                        </a:lnTo>
                        <a:lnTo>
                          <a:pt x="178" y="189"/>
                        </a:lnTo>
                        <a:lnTo>
                          <a:pt x="156" y="167"/>
                        </a:lnTo>
                        <a:lnTo>
                          <a:pt x="134" y="156"/>
                        </a:lnTo>
                        <a:lnTo>
                          <a:pt x="111" y="133"/>
                        </a:lnTo>
                        <a:lnTo>
                          <a:pt x="89" y="111"/>
                        </a:lnTo>
                        <a:lnTo>
                          <a:pt x="78" y="78"/>
                        </a:lnTo>
                        <a:lnTo>
                          <a:pt x="56" y="55"/>
                        </a:lnTo>
                        <a:lnTo>
                          <a:pt x="44" y="33"/>
                        </a:lnTo>
                        <a:lnTo>
                          <a:pt x="22" y="0"/>
                        </a:lnTo>
                        <a:lnTo>
                          <a:pt x="0" y="11"/>
                        </a:lnTo>
                        <a:lnTo>
                          <a:pt x="22" y="44"/>
                        </a:lnTo>
                        <a:lnTo>
                          <a:pt x="33" y="67"/>
                        </a:lnTo>
                        <a:lnTo>
                          <a:pt x="56" y="100"/>
                        </a:lnTo>
                        <a:lnTo>
                          <a:pt x="78" y="122"/>
                        </a:lnTo>
                        <a:lnTo>
                          <a:pt x="100" y="145"/>
                        </a:lnTo>
                        <a:lnTo>
                          <a:pt x="122" y="167"/>
                        </a:lnTo>
                        <a:lnTo>
                          <a:pt x="145" y="189"/>
                        </a:lnTo>
                        <a:lnTo>
                          <a:pt x="167" y="200"/>
                        </a:lnTo>
                        <a:lnTo>
                          <a:pt x="200" y="223"/>
                        </a:lnTo>
                        <a:lnTo>
                          <a:pt x="223" y="234"/>
                        </a:lnTo>
                        <a:lnTo>
                          <a:pt x="256" y="245"/>
                        </a:lnTo>
                        <a:lnTo>
                          <a:pt x="278" y="267"/>
                        </a:lnTo>
                        <a:lnTo>
                          <a:pt x="312" y="267"/>
                        </a:lnTo>
                        <a:lnTo>
                          <a:pt x="345" y="278"/>
                        </a:lnTo>
                        <a:lnTo>
                          <a:pt x="379" y="289"/>
                        </a:lnTo>
                        <a:lnTo>
                          <a:pt x="412" y="289"/>
                        </a:lnTo>
                        <a:lnTo>
                          <a:pt x="401" y="289"/>
                        </a:lnTo>
                        <a:lnTo>
                          <a:pt x="423" y="278"/>
                        </a:lnTo>
                        <a:close/>
                      </a:path>
                    </a:pathLst>
                  </a:custGeom>
                  <a:solidFill>
                    <a:srgbClr val="0000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Freeform 856"/>
                  <p:cNvSpPr/>
                  <p:nvPr/>
                </p:nvSpPr>
                <p:spPr>
                  <a:xfrm rot="111600">
                    <a:off x="1115640" y="1073880"/>
                    <a:ext cx="17280" cy="26640"/>
                  </a:xfrm>
                  <a:custGeom>
                    <a:avLst/>
                    <a:gdLst>
                      <a:gd name="textAreaLeft" fmla="*/ 0 w 17280"/>
                      <a:gd name="textAreaRight" fmla="*/ 17640 w 17280"/>
                      <a:gd name="textAreaTop" fmla="*/ 0 h 26640"/>
                      <a:gd name="textAreaBottom" fmla="*/ 27000 h 26640"/>
                    </a:gdLst>
                    <a:ahLst/>
                    <a:rect l="textAreaLeft" t="textAreaTop" r="textAreaRight" b="textAreaBottom"/>
                    <a:pathLst>
                      <a:path w="178" h="201">
                        <a:moveTo>
                          <a:pt x="156" y="201"/>
                        </a:moveTo>
                        <a:lnTo>
                          <a:pt x="167" y="179"/>
                        </a:lnTo>
                        <a:lnTo>
                          <a:pt x="134" y="179"/>
                        </a:lnTo>
                        <a:lnTo>
                          <a:pt x="112" y="168"/>
                        </a:lnTo>
                        <a:lnTo>
                          <a:pt x="78" y="145"/>
                        </a:lnTo>
                        <a:lnTo>
                          <a:pt x="67" y="123"/>
                        </a:lnTo>
                        <a:lnTo>
                          <a:pt x="45" y="89"/>
                        </a:lnTo>
                        <a:lnTo>
                          <a:pt x="34" y="67"/>
                        </a:lnTo>
                        <a:lnTo>
                          <a:pt x="34" y="34"/>
                        </a:lnTo>
                        <a:lnTo>
                          <a:pt x="22" y="0"/>
                        </a:lnTo>
                        <a:lnTo>
                          <a:pt x="0" y="11"/>
                        </a:lnTo>
                        <a:lnTo>
                          <a:pt x="0" y="34"/>
                        </a:lnTo>
                        <a:lnTo>
                          <a:pt x="11" y="67"/>
                        </a:lnTo>
                        <a:lnTo>
                          <a:pt x="22" y="101"/>
                        </a:lnTo>
                        <a:lnTo>
                          <a:pt x="45" y="134"/>
                        </a:lnTo>
                        <a:lnTo>
                          <a:pt x="67" y="156"/>
                        </a:lnTo>
                        <a:lnTo>
                          <a:pt x="100" y="179"/>
                        </a:lnTo>
                        <a:lnTo>
                          <a:pt x="134" y="201"/>
                        </a:lnTo>
                        <a:lnTo>
                          <a:pt x="167" y="201"/>
                        </a:lnTo>
                        <a:lnTo>
                          <a:pt x="178" y="190"/>
                        </a:lnTo>
                        <a:lnTo>
                          <a:pt x="156" y="201"/>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Freeform 855"/>
                  <p:cNvSpPr/>
                  <p:nvPr/>
                </p:nvSpPr>
                <p:spPr>
                  <a:xfrm rot="111600">
                    <a:off x="1128600" y="1067040"/>
                    <a:ext cx="3960" cy="33840"/>
                  </a:xfrm>
                  <a:custGeom>
                    <a:avLst/>
                    <a:gdLst>
                      <a:gd name="textAreaLeft" fmla="*/ 0 w 3960"/>
                      <a:gd name="textAreaRight" fmla="*/ 4320 w 3960"/>
                      <a:gd name="textAreaTop" fmla="*/ 0 h 33840"/>
                      <a:gd name="textAreaBottom" fmla="*/ 34200 h 33840"/>
                    </a:gdLst>
                    <a:ahLst/>
                    <a:rect l="textAreaLeft" t="textAreaTop" r="textAreaRight" b="textAreaBottom"/>
                    <a:pathLst>
                      <a:path w="44" h="256">
                        <a:moveTo>
                          <a:pt x="22" y="0"/>
                        </a:moveTo>
                        <a:lnTo>
                          <a:pt x="22" y="0"/>
                        </a:lnTo>
                        <a:lnTo>
                          <a:pt x="0" y="55"/>
                        </a:lnTo>
                        <a:lnTo>
                          <a:pt x="0" y="133"/>
                        </a:lnTo>
                        <a:lnTo>
                          <a:pt x="11" y="200"/>
                        </a:lnTo>
                        <a:lnTo>
                          <a:pt x="22" y="256"/>
                        </a:lnTo>
                        <a:lnTo>
                          <a:pt x="44" y="245"/>
                        </a:lnTo>
                        <a:lnTo>
                          <a:pt x="33" y="200"/>
                        </a:lnTo>
                        <a:lnTo>
                          <a:pt x="33" y="122"/>
                        </a:lnTo>
                        <a:lnTo>
                          <a:pt x="33" y="55"/>
                        </a:lnTo>
                        <a:lnTo>
                          <a:pt x="33" y="22"/>
                        </a:lnTo>
                        <a:lnTo>
                          <a:pt x="2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Freeform 854"/>
                  <p:cNvSpPr/>
                  <p:nvPr/>
                </p:nvSpPr>
                <p:spPr>
                  <a:xfrm rot="111600">
                    <a:off x="1131480" y="1065240"/>
                    <a:ext cx="17280" cy="4320"/>
                  </a:xfrm>
                  <a:custGeom>
                    <a:avLst/>
                    <a:gdLst>
                      <a:gd name="textAreaLeft" fmla="*/ 0 w 17280"/>
                      <a:gd name="textAreaRight" fmla="*/ 17640 w 17280"/>
                      <a:gd name="textAreaTop" fmla="*/ 0 h 4320"/>
                      <a:gd name="textAreaBottom" fmla="*/ 4680 h 4320"/>
                    </a:gdLst>
                    <a:ahLst/>
                    <a:rect l="textAreaLeft" t="textAreaTop" r="textAreaRight" b="textAreaBottom"/>
                    <a:pathLst>
                      <a:path w="178" h="34">
                        <a:moveTo>
                          <a:pt x="167" y="12"/>
                        </a:moveTo>
                        <a:lnTo>
                          <a:pt x="167" y="12"/>
                        </a:lnTo>
                        <a:lnTo>
                          <a:pt x="156" y="12"/>
                        </a:lnTo>
                        <a:lnTo>
                          <a:pt x="134" y="12"/>
                        </a:lnTo>
                        <a:lnTo>
                          <a:pt x="112" y="12"/>
                        </a:lnTo>
                        <a:lnTo>
                          <a:pt x="89" y="0"/>
                        </a:lnTo>
                        <a:lnTo>
                          <a:pt x="67" y="0"/>
                        </a:lnTo>
                        <a:lnTo>
                          <a:pt x="45" y="0"/>
                        </a:lnTo>
                        <a:lnTo>
                          <a:pt x="22" y="0"/>
                        </a:lnTo>
                        <a:lnTo>
                          <a:pt x="0" y="12"/>
                        </a:lnTo>
                        <a:lnTo>
                          <a:pt x="11" y="34"/>
                        </a:lnTo>
                        <a:lnTo>
                          <a:pt x="22" y="23"/>
                        </a:lnTo>
                        <a:lnTo>
                          <a:pt x="45" y="23"/>
                        </a:lnTo>
                        <a:lnTo>
                          <a:pt x="67" y="23"/>
                        </a:lnTo>
                        <a:lnTo>
                          <a:pt x="89" y="23"/>
                        </a:lnTo>
                        <a:lnTo>
                          <a:pt x="112" y="34"/>
                        </a:lnTo>
                        <a:lnTo>
                          <a:pt x="145" y="34"/>
                        </a:lnTo>
                        <a:lnTo>
                          <a:pt x="167" y="34"/>
                        </a:lnTo>
                        <a:lnTo>
                          <a:pt x="178" y="23"/>
                        </a:lnTo>
                        <a:lnTo>
                          <a:pt x="167" y="1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Freeform 853"/>
                  <p:cNvSpPr/>
                  <p:nvPr/>
                </p:nvSpPr>
                <p:spPr>
                  <a:xfrm rot="111600">
                    <a:off x="1143360" y="1008000"/>
                    <a:ext cx="8640" cy="60480"/>
                  </a:xfrm>
                  <a:custGeom>
                    <a:avLst/>
                    <a:gdLst>
                      <a:gd name="textAreaLeft" fmla="*/ 0 w 8640"/>
                      <a:gd name="textAreaRight" fmla="*/ 9000 w 8640"/>
                      <a:gd name="textAreaTop" fmla="*/ 0 h 60480"/>
                      <a:gd name="textAreaBottom" fmla="*/ 60840 h 60480"/>
                    </a:gdLst>
                    <a:ahLst/>
                    <a:rect l="textAreaLeft" t="textAreaTop" r="textAreaRight" b="textAreaBottom"/>
                    <a:pathLst>
                      <a:path w="89" h="457">
                        <a:moveTo>
                          <a:pt x="0" y="0"/>
                        </a:moveTo>
                        <a:lnTo>
                          <a:pt x="0" y="0"/>
                        </a:lnTo>
                        <a:lnTo>
                          <a:pt x="11" y="33"/>
                        </a:lnTo>
                        <a:lnTo>
                          <a:pt x="22" y="89"/>
                        </a:lnTo>
                        <a:lnTo>
                          <a:pt x="33" y="156"/>
                        </a:lnTo>
                        <a:lnTo>
                          <a:pt x="44" y="234"/>
                        </a:lnTo>
                        <a:lnTo>
                          <a:pt x="66" y="301"/>
                        </a:lnTo>
                        <a:lnTo>
                          <a:pt x="66" y="368"/>
                        </a:lnTo>
                        <a:lnTo>
                          <a:pt x="66" y="423"/>
                        </a:lnTo>
                        <a:lnTo>
                          <a:pt x="55" y="446"/>
                        </a:lnTo>
                        <a:lnTo>
                          <a:pt x="66" y="457"/>
                        </a:lnTo>
                        <a:lnTo>
                          <a:pt x="89" y="423"/>
                        </a:lnTo>
                        <a:lnTo>
                          <a:pt x="89" y="368"/>
                        </a:lnTo>
                        <a:lnTo>
                          <a:pt x="89" y="301"/>
                        </a:lnTo>
                        <a:lnTo>
                          <a:pt x="78" y="223"/>
                        </a:lnTo>
                        <a:lnTo>
                          <a:pt x="55" y="145"/>
                        </a:lnTo>
                        <a:lnTo>
                          <a:pt x="44" y="78"/>
                        </a:lnTo>
                        <a:lnTo>
                          <a:pt x="22" y="22"/>
                        </a:lnTo>
                        <a:lnTo>
                          <a:pt x="11" y="0"/>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Freeform 852"/>
                  <p:cNvSpPr/>
                  <p:nvPr/>
                </p:nvSpPr>
                <p:spPr>
                  <a:xfrm rot="111600">
                    <a:off x="1109880" y="973080"/>
                    <a:ext cx="35640" cy="34200"/>
                  </a:xfrm>
                  <a:custGeom>
                    <a:avLst/>
                    <a:gdLst>
                      <a:gd name="textAreaLeft" fmla="*/ 0 w 35640"/>
                      <a:gd name="textAreaRight" fmla="*/ 36000 w 35640"/>
                      <a:gd name="textAreaTop" fmla="*/ 0 h 34200"/>
                      <a:gd name="textAreaBottom" fmla="*/ 34560 h 34200"/>
                    </a:gdLst>
                    <a:ahLst/>
                    <a:rect l="textAreaLeft" t="textAreaTop" r="textAreaRight" b="textAreaBottom"/>
                    <a:pathLst>
                      <a:path w="368" h="257">
                        <a:moveTo>
                          <a:pt x="0" y="23"/>
                        </a:moveTo>
                        <a:lnTo>
                          <a:pt x="0" y="23"/>
                        </a:lnTo>
                        <a:lnTo>
                          <a:pt x="22" y="23"/>
                        </a:lnTo>
                        <a:lnTo>
                          <a:pt x="45" y="23"/>
                        </a:lnTo>
                        <a:lnTo>
                          <a:pt x="78" y="34"/>
                        </a:lnTo>
                        <a:lnTo>
                          <a:pt x="100" y="45"/>
                        </a:lnTo>
                        <a:lnTo>
                          <a:pt x="123" y="56"/>
                        </a:lnTo>
                        <a:lnTo>
                          <a:pt x="145" y="67"/>
                        </a:lnTo>
                        <a:lnTo>
                          <a:pt x="178" y="78"/>
                        </a:lnTo>
                        <a:lnTo>
                          <a:pt x="201" y="101"/>
                        </a:lnTo>
                        <a:lnTo>
                          <a:pt x="223" y="112"/>
                        </a:lnTo>
                        <a:lnTo>
                          <a:pt x="245" y="134"/>
                        </a:lnTo>
                        <a:lnTo>
                          <a:pt x="267" y="156"/>
                        </a:lnTo>
                        <a:lnTo>
                          <a:pt x="290" y="168"/>
                        </a:lnTo>
                        <a:lnTo>
                          <a:pt x="301" y="190"/>
                        </a:lnTo>
                        <a:lnTo>
                          <a:pt x="323" y="212"/>
                        </a:lnTo>
                        <a:lnTo>
                          <a:pt x="334" y="234"/>
                        </a:lnTo>
                        <a:lnTo>
                          <a:pt x="357" y="257"/>
                        </a:lnTo>
                        <a:lnTo>
                          <a:pt x="368" y="257"/>
                        </a:lnTo>
                        <a:lnTo>
                          <a:pt x="357" y="223"/>
                        </a:lnTo>
                        <a:lnTo>
                          <a:pt x="334" y="201"/>
                        </a:lnTo>
                        <a:lnTo>
                          <a:pt x="323" y="179"/>
                        </a:lnTo>
                        <a:lnTo>
                          <a:pt x="301" y="156"/>
                        </a:lnTo>
                        <a:lnTo>
                          <a:pt x="279" y="134"/>
                        </a:lnTo>
                        <a:lnTo>
                          <a:pt x="256" y="123"/>
                        </a:lnTo>
                        <a:lnTo>
                          <a:pt x="234" y="101"/>
                        </a:lnTo>
                        <a:lnTo>
                          <a:pt x="212" y="78"/>
                        </a:lnTo>
                        <a:lnTo>
                          <a:pt x="189" y="67"/>
                        </a:lnTo>
                        <a:lnTo>
                          <a:pt x="156" y="45"/>
                        </a:lnTo>
                        <a:lnTo>
                          <a:pt x="134" y="34"/>
                        </a:lnTo>
                        <a:lnTo>
                          <a:pt x="111" y="23"/>
                        </a:lnTo>
                        <a:lnTo>
                          <a:pt x="78" y="12"/>
                        </a:lnTo>
                        <a:lnTo>
                          <a:pt x="56" y="0"/>
                        </a:lnTo>
                        <a:lnTo>
                          <a:pt x="22" y="0"/>
                        </a:lnTo>
                        <a:lnTo>
                          <a:pt x="0" y="0"/>
                        </a:lnTo>
                        <a:lnTo>
                          <a:pt x="0" y="23"/>
                        </a:lnTo>
                        <a:close/>
                      </a:path>
                    </a:pathLst>
                  </a:custGeom>
                  <a:solidFill>
                    <a:srgbClr val="000000"/>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Freeform 851"/>
                  <p:cNvSpPr/>
                  <p:nvPr/>
                </p:nvSpPr>
                <p:spPr>
                  <a:xfrm rot="111600">
                    <a:off x="1083240" y="970920"/>
                    <a:ext cx="27000" cy="11520"/>
                  </a:xfrm>
                  <a:custGeom>
                    <a:avLst/>
                    <a:gdLst>
                      <a:gd name="textAreaLeft" fmla="*/ 0 w 27000"/>
                      <a:gd name="textAreaRight" fmla="*/ 27360 w 27000"/>
                      <a:gd name="textAreaTop" fmla="*/ 0 h 11520"/>
                      <a:gd name="textAreaBottom" fmla="*/ 11880 h 11520"/>
                    </a:gdLst>
                    <a:ahLst/>
                    <a:rect l="textAreaLeft" t="textAreaTop" r="textAreaRight" b="textAreaBottom"/>
                    <a:pathLst>
                      <a:path w="279" h="89">
                        <a:moveTo>
                          <a:pt x="0" y="78"/>
                        </a:moveTo>
                        <a:lnTo>
                          <a:pt x="11" y="89"/>
                        </a:lnTo>
                        <a:lnTo>
                          <a:pt x="34" y="78"/>
                        </a:lnTo>
                        <a:lnTo>
                          <a:pt x="45" y="78"/>
                        </a:lnTo>
                        <a:lnTo>
                          <a:pt x="56" y="67"/>
                        </a:lnTo>
                        <a:lnTo>
                          <a:pt x="78" y="67"/>
                        </a:lnTo>
                        <a:lnTo>
                          <a:pt x="101" y="56"/>
                        </a:lnTo>
                        <a:lnTo>
                          <a:pt x="112" y="56"/>
                        </a:lnTo>
                        <a:lnTo>
                          <a:pt x="134" y="56"/>
                        </a:lnTo>
                        <a:lnTo>
                          <a:pt x="145" y="45"/>
                        </a:lnTo>
                        <a:lnTo>
                          <a:pt x="167" y="45"/>
                        </a:lnTo>
                        <a:lnTo>
                          <a:pt x="190" y="34"/>
                        </a:lnTo>
                        <a:lnTo>
                          <a:pt x="201" y="34"/>
                        </a:lnTo>
                        <a:lnTo>
                          <a:pt x="223" y="34"/>
                        </a:lnTo>
                        <a:lnTo>
                          <a:pt x="234" y="34"/>
                        </a:lnTo>
                        <a:lnTo>
                          <a:pt x="245" y="23"/>
                        </a:lnTo>
                        <a:lnTo>
                          <a:pt x="268" y="23"/>
                        </a:lnTo>
                        <a:lnTo>
                          <a:pt x="279" y="34"/>
                        </a:lnTo>
                        <a:lnTo>
                          <a:pt x="279" y="11"/>
                        </a:lnTo>
                        <a:lnTo>
                          <a:pt x="257" y="0"/>
                        </a:lnTo>
                        <a:lnTo>
                          <a:pt x="245" y="0"/>
                        </a:lnTo>
                        <a:lnTo>
                          <a:pt x="234" y="11"/>
                        </a:lnTo>
                        <a:lnTo>
                          <a:pt x="212" y="11"/>
                        </a:lnTo>
                        <a:lnTo>
                          <a:pt x="190" y="11"/>
                        </a:lnTo>
                        <a:lnTo>
                          <a:pt x="179" y="11"/>
                        </a:lnTo>
                        <a:lnTo>
                          <a:pt x="156" y="23"/>
                        </a:lnTo>
                        <a:lnTo>
                          <a:pt x="145" y="23"/>
                        </a:lnTo>
                        <a:lnTo>
                          <a:pt x="123" y="34"/>
                        </a:lnTo>
                        <a:lnTo>
                          <a:pt x="101" y="34"/>
                        </a:lnTo>
                        <a:lnTo>
                          <a:pt x="89" y="34"/>
                        </a:lnTo>
                        <a:lnTo>
                          <a:pt x="67" y="45"/>
                        </a:lnTo>
                        <a:lnTo>
                          <a:pt x="56" y="45"/>
                        </a:lnTo>
                        <a:lnTo>
                          <a:pt x="34" y="56"/>
                        </a:lnTo>
                        <a:lnTo>
                          <a:pt x="23" y="56"/>
                        </a:lnTo>
                        <a:lnTo>
                          <a:pt x="0" y="67"/>
                        </a:lnTo>
                        <a:lnTo>
                          <a:pt x="23" y="78"/>
                        </a:lnTo>
                        <a:lnTo>
                          <a:pt x="0" y="78"/>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Freeform 850"/>
                  <p:cNvSpPr/>
                  <p:nvPr/>
                </p:nvSpPr>
                <p:spPr>
                  <a:xfrm rot="111600">
                    <a:off x="1083600" y="960120"/>
                    <a:ext cx="5400" cy="20520"/>
                  </a:xfrm>
                  <a:custGeom>
                    <a:avLst/>
                    <a:gdLst>
                      <a:gd name="textAreaLeft" fmla="*/ 0 w 5400"/>
                      <a:gd name="textAreaRight" fmla="*/ 5760 w 5400"/>
                      <a:gd name="textAreaTop" fmla="*/ 0 h 20520"/>
                      <a:gd name="textAreaBottom" fmla="*/ 20880 h 20520"/>
                    </a:gdLst>
                    <a:ahLst/>
                    <a:rect l="textAreaLeft" t="textAreaTop" r="textAreaRight" b="textAreaBottom"/>
                    <a:pathLst>
                      <a:path w="56" h="156">
                        <a:moveTo>
                          <a:pt x="45" y="23"/>
                        </a:moveTo>
                        <a:lnTo>
                          <a:pt x="34" y="11"/>
                        </a:lnTo>
                        <a:lnTo>
                          <a:pt x="11" y="45"/>
                        </a:lnTo>
                        <a:lnTo>
                          <a:pt x="11" y="78"/>
                        </a:lnTo>
                        <a:lnTo>
                          <a:pt x="0" y="112"/>
                        </a:lnTo>
                        <a:lnTo>
                          <a:pt x="0" y="156"/>
                        </a:lnTo>
                        <a:lnTo>
                          <a:pt x="23" y="156"/>
                        </a:lnTo>
                        <a:lnTo>
                          <a:pt x="23" y="112"/>
                        </a:lnTo>
                        <a:lnTo>
                          <a:pt x="34" y="89"/>
                        </a:lnTo>
                        <a:lnTo>
                          <a:pt x="45" y="56"/>
                        </a:lnTo>
                        <a:lnTo>
                          <a:pt x="56" y="23"/>
                        </a:lnTo>
                        <a:lnTo>
                          <a:pt x="34" y="0"/>
                        </a:lnTo>
                        <a:lnTo>
                          <a:pt x="45" y="23"/>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Freeform 849"/>
                  <p:cNvSpPr/>
                  <p:nvPr/>
                </p:nvSpPr>
                <p:spPr>
                  <a:xfrm rot="111600">
                    <a:off x="1072440" y="959760"/>
                    <a:ext cx="15120" cy="23760"/>
                  </a:xfrm>
                  <a:custGeom>
                    <a:avLst/>
                    <a:gdLst>
                      <a:gd name="textAreaLeft" fmla="*/ 0 w 15120"/>
                      <a:gd name="textAreaRight" fmla="*/ 15480 w 15120"/>
                      <a:gd name="textAreaTop" fmla="*/ 0 h 23760"/>
                      <a:gd name="textAreaBottom" fmla="*/ 24120 h 23760"/>
                    </a:gdLst>
                    <a:ahLst/>
                    <a:rect l="textAreaLeft" t="textAreaTop" r="textAreaRight" b="textAreaBottom"/>
                    <a:pathLst>
                      <a:path w="156" h="179">
                        <a:moveTo>
                          <a:pt x="11" y="179"/>
                        </a:moveTo>
                        <a:lnTo>
                          <a:pt x="22" y="167"/>
                        </a:lnTo>
                        <a:lnTo>
                          <a:pt x="33" y="156"/>
                        </a:lnTo>
                        <a:lnTo>
                          <a:pt x="44" y="134"/>
                        </a:lnTo>
                        <a:lnTo>
                          <a:pt x="56" y="112"/>
                        </a:lnTo>
                        <a:lnTo>
                          <a:pt x="67" y="89"/>
                        </a:lnTo>
                        <a:lnTo>
                          <a:pt x="89" y="78"/>
                        </a:lnTo>
                        <a:lnTo>
                          <a:pt x="111" y="56"/>
                        </a:lnTo>
                        <a:lnTo>
                          <a:pt x="134" y="45"/>
                        </a:lnTo>
                        <a:lnTo>
                          <a:pt x="156" y="23"/>
                        </a:lnTo>
                        <a:lnTo>
                          <a:pt x="145" y="0"/>
                        </a:lnTo>
                        <a:lnTo>
                          <a:pt x="111" y="23"/>
                        </a:lnTo>
                        <a:lnTo>
                          <a:pt x="89" y="34"/>
                        </a:lnTo>
                        <a:lnTo>
                          <a:pt x="67" y="56"/>
                        </a:lnTo>
                        <a:lnTo>
                          <a:pt x="44" y="78"/>
                        </a:lnTo>
                        <a:lnTo>
                          <a:pt x="33" y="101"/>
                        </a:lnTo>
                        <a:lnTo>
                          <a:pt x="22" y="123"/>
                        </a:lnTo>
                        <a:lnTo>
                          <a:pt x="11" y="145"/>
                        </a:lnTo>
                        <a:lnTo>
                          <a:pt x="0" y="167"/>
                        </a:lnTo>
                        <a:lnTo>
                          <a:pt x="22" y="156"/>
                        </a:lnTo>
                        <a:lnTo>
                          <a:pt x="11" y="179"/>
                        </a:lnTo>
                        <a:close/>
                      </a:path>
                    </a:pathLst>
                  </a:custGeom>
                  <a:solidFill>
                    <a:srgbClr val="00000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Freeform 848"/>
                  <p:cNvSpPr/>
                  <p:nvPr/>
                </p:nvSpPr>
                <p:spPr>
                  <a:xfrm rot="111600">
                    <a:off x="1060200" y="974520"/>
                    <a:ext cx="14040" cy="8640"/>
                  </a:xfrm>
                  <a:custGeom>
                    <a:avLst/>
                    <a:gdLst>
                      <a:gd name="textAreaLeft" fmla="*/ 0 w 14040"/>
                      <a:gd name="textAreaRight" fmla="*/ 14400 w 14040"/>
                      <a:gd name="textAreaTop" fmla="*/ 0 h 8640"/>
                      <a:gd name="textAreaBottom" fmla="*/ 9000 h 8640"/>
                    </a:gdLst>
                    <a:ahLst/>
                    <a:rect l="textAreaLeft" t="textAreaTop" r="textAreaRight" b="textAreaBottom"/>
                    <a:pathLst>
                      <a:path w="145" h="67">
                        <a:moveTo>
                          <a:pt x="11" y="0"/>
                        </a:moveTo>
                        <a:lnTo>
                          <a:pt x="11" y="22"/>
                        </a:lnTo>
                        <a:lnTo>
                          <a:pt x="23" y="22"/>
                        </a:lnTo>
                        <a:lnTo>
                          <a:pt x="34" y="33"/>
                        </a:lnTo>
                        <a:lnTo>
                          <a:pt x="56" y="33"/>
                        </a:lnTo>
                        <a:lnTo>
                          <a:pt x="67" y="33"/>
                        </a:lnTo>
                        <a:lnTo>
                          <a:pt x="89" y="44"/>
                        </a:lnTo>
                        <a:lnTo>
                          <a:pt x="101" y="44"/>
                        </a:lnTo>
                        <a:lnTo>
                          <a:pt x="112" y="55"/>
                        </a:lnTo>
                        <a:lnTo>
                          <a:pt x="134" y="67"/>
                        </a:lnTo>
                        <a:lnTo>
                          <a:pt x="145" y="44"/>
                        </a:lnTo>
                        <a:lnTo>
                          <a:pt x="123" y="44"/>
                        </a:lnTo>
                        <a:lnTo>
                          <a:pt x="112" y="33"/>
                        </a:lnTo>
                        <a:lnTo>
                          <a:pt x="89" y="22"/>
                        </a:lnTo>
                        <a:lnTo>
                          <a:pt x="78" y="11"/>
                        </a:lnTo>
                        <a:lnTo>
                          <a:pt x="56" y="11"/>
                        </a:lnTo>
                        <a:lnTo>
                          <a:pt x="45" y="11"/>
                        </a:lnTo>
                        <a:lnTo>
                          <a:pt x="23" y="0"/>
                        </a:lnTo>
                        <a:lnTo>
                          <a:pt x="11" y="0"/>
                        </a:lnTo>
                        <a:lnTo>
                          <a:pt x="0" y="11"/>
                        </a:lnTo>
                        <a:lnTo>
                          <a:pt x="11" y="0"/>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Freeform 847"/>
                  <p:cNvSpPr/>
                  <p:nvPr/>
                </p:nvSpPr>
                <p:spPr>
                  <a:xfrm rot="111600">
                    <a:off x="1060200" y="974520"/>
                    <a:ext cx="6480" cy="11520"/>
                  </a:xfrm>
                  <a:custGeom>
                    <a:avLst/>
                    <a:gdLst>
                      <a:gd name="textAreaLeft" fmla="*/ 0 w 6480"/>
                      <a:gd name="textAreaRight" fmla="*/ 6840 w 6480"/>
                      <a:gd name="textAreaTop" fmla="*/ 0 h 11520"/>
                      <a:gd name="textAreaBottom" fmla="*/ 11880 h 11520"/>
                    </a:gdLst>
                    <a:ahLst/>
                    <a:rect l="textAreaLeft" t="textAreaTop" r="textAreaRight" b="textAreaBottom"/>
                    <a:pathLst>
                      <a:path w="67" h="89">
                        <a:moveTo>
                          <a:pt x="56" y="89"/>
                        </a:moveTo>
                        <a:lnTo>
                          <a:pt x="67" y="78"/>
                        </a:lnTo>
                        <a:lnTo>
                          <a:pt x="67" y="67"/>
                        </a:lnTo>
                        <a:lnTo>
                          <a:pt x="56" y="55"/>
                        </a:lnTo>
                        <a:lnTo>
                          <a:pt x="45" y="44"/>
                        </a:lnTo>
                        <a:lnTo>
                          <a:pt x="45" y="33"/>
                        </a:lnTo>
                        <a:lnTo>
                          <a:pt x="34" y="22"/>
                        </a:lnTo>
                        <a:lnTo>
                          <a:pt x="23" y="11"/>
                        </a:lnTo>
                        <a:lnTo>
                          <a:pt x="11" y="0"/>
                        </a:lnTo>
                        <a:lnTo>
                          <a:pt x="0" y="11"/>
                        </a:lnTo>
                        <a:lnTo>
                          <a:pt x="11" y="22"/>
                        </a:lnTo>
                        <a:lnTo>
                          <a:pt x="23" y="33"/>
                        </a:lnTo>
                        <a:lnTo>
                          <a:pt x="23" y="44"/>
                        </a:lnTo>
                        <a:lnTo>
                          <a:pt x="34" y="55"/>
                        </a:lnTo>
                        <a:lnTo>
                          <a:pt x="34" y="67"/>
                        </a:lnTo>
                        <a:lnTo>
                          <a:pt x="45" y="67"/>
                        </a:lnTo>
                        <a:lnTo>
                          <a:pt x="45" y="78"/>
                        </a:lnTo>
                        <a:lnTo>
                          <a:pt x="56" y="89"/>
                        </a:lnTo>
                        <a:lnTo>
                          <a:pt x="67" y="67"/>
                        </a:lnTo>
                        <a:lnTo>
                          <a:pt x="56"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Freeform 846"/>
                  <p:cNvSpPr/>
                  <p:nvPr/>
                </p:nvSpPr>
                <p:spPr>
                  <a:xfrm rot="111600">
                    <a:off x="1044000" y="975600"/>
                    <a:ext cx="22680" cy="10080"/>
                  </a:xfrm>
                  <a:custGeom>
                    <a:avLst/>
                    <a:gdLst>
                      <a:gd name="textAreaLeft" fmla="*/ 0 w 22680"/>
                      <a:gd name="textAreaRight" fmla="*/ 23040 w 22680"/>
                      <a:gd name="textAreaTop" fmla="*/ 0 h 10080"/>
                      <a:gd name="textAreaBottom" fmla="*/ 10440 h 10080"/>
                    </a:gdLst>
                    <a:ahLst/>
                    <a:rect l="textAreaLeft" t="textAreaTop" r="textAreaRight" b="textAreaBottom"/>
                    <a:pathLst>
                      <a:path w="234" h="78">
                        <a:moveTo>
                          <a:pt x="11" y="0"/>
                        </a:moveTo>
                        <a:lnTo>
                          <a:pt x="0" y="22"/>
                        </a:lnTo>
                        <a:lnTo>
                          <a:pt x="22" y="22"/>
                        </a:lnTo>
                        <a:lnTo>
                          <a:pt x="34" y="22"/>
                        </a:lnTo>
                        <a:lnTo>
                          <a:pt x="56" y="22"/>
                        </a:lnTo>
                        <a:lnTo>
                          <a:pt x="67" y="33"/>
                        </a:lnTo>
                        <a:lnTo>
                          <a:pt x="78" y="33"/>
                        </a:lnTo>
                        <a:lnTo>
                          <a:pt x="89" y="33"/>
                        </a:lnTo>
                        <a:lnTo>
                          <a:pt x="112" y="33"/>
                        </a:lnTo>
                        <a:lnTo>
                          <a:pt x="123" y="44"/>
                        </a:lnTo>
                        <a:lnTo>
                          <a:pt x="134" y="44"/>
                        </a:lnTo>
                        <a:lnTo>
                          <a:pt x="145" y="56"/>
                        </a:lnTo>
                        <a:lnTo>
                          <a:pt x="156" y="56"/>
                        </a:lnTo>
                        <a:lnTo>
                          <a:pt x="167" y="56"/>
                        </a:lnTo>
                        <a:lnTo>
                          <a:pt x="190" y="67"/>
                        </a:lnTo>
                        <a:lnTo>
                          <a:pt x="201" y="67"/>
                        </a:lnTo>
                        <a:lnTo>
                          <a:pt x="212" y="78"/>
                        </a:lnTo>
                        <a:lnTo>
                          <a:pt x="223" y="78"/>
                        </a:lnTo>
                        <a:lnTo>
                          <a:pt x="234" y="56"/>
                        </a:lnTo>
                        <a:lnTo>
                          <a:pt x="223" y="56"/>
                        </a:lnTo>
                        <a:lnTo>
                          <a:pt x="212" y="44"/>
                        </a:lnTo>
                        <a:lnTo>
                          <a:pt x="190" y="44"/>
                        </a:lnTo>
                        <a:lnTo>
                          <a:pt x="178" y="33"/>
                        </a:lnTo>
                        <a:lnTo>
                          <a:pt x="167" y="33"/>
                        </a:lnTo>
                        <a:lnTo>
                          <a:pt x="156" y="33"/>
                        </a:lnTo>
                        <a:lnTo>
                          <a:pt x="134" y="22"/>
                        </a:lnTo>
                        <a:lnTo>
                          <a:pt x="123" y="22"/>
                        </a:lnTo>
                        <a:lnTo>
                          <a:pt x="112" y="22"/>
                        </a:lnTo>
                        <a:lnTo>
                          <a:pt x="100" y="11"/>
                        </a:lnTo>
                        <a:lnTo>
                          <a:pt x="78" y="11"/>
                        </a:lnTo>
                        <a:lnTo>
                          <a:pt x="67" y="11"/>
                        </a:lnTo>
                        <a:lnTo>
                          <a:pt x="56" y="11"/>
                        </a:lnTo>
                        <a:lnTo>
                          <a:pt x="34" y="0"/>
                        </a:lnTo>
                        <a:lnTo>
                          <a:pt x="22" y="0"/>
                        </a:lnTo>
                        <a:lnTo>
                          <a:pt x="11" y="0"/>
                        </a:lnTo>
                        <a:lnTo>
                          <a:pt x="0" y="11"/>
                        </a:lnTo>
                        <a:lnTo>
                          <a:pt x="11" y="0"/>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Freeform 845"/>
                  <p:cNvSpPr/>
                  <p:nvPr/>
                </p:nvSpPr>
                <p:spPr>
                  <a:xfrm rot="111600">
                    <a:off x="1044000" y="975240"/>
                    <a:ext cx="12960" cy="16200"/>
                  </a:xfrm>
                  <a:custGeom>
                    <a:avLst/>
                    <a:gdLst>
                      <a:gd name="textAreaLeft" fmla="*/ 0 w 12960"/>
                      <a:gd name="textAreaRight" fmla="*/ 13320 w 12960"/>
                      <a:gd name="textAreaTop" fmla="*/ 0 h 16200"/>
                      <a:gd name="textAreaBottom" fmla="*/ 16560 h 16200"/>
                    </a:gdLst>
                    <a:ahLst/>
                    <a:rect l="textAreaLeft" t="textAreaTop" r="textAreaRight" b="textAreaBottom"/>
                    <a:pathLst>
                      <a:path w="134" h="122">
                        <a:moveTo>
                          <a:pt x="123" y="122"/>
                        </a:moveTo>
                        <a:lnTo>
                          <a:pt x="134" y="111"/>
                        </a:lnTo>
                        <a:lnTo>
                          <a:pt x="112" y="100"/>
                        </a:lnTo>
                        <a:lnTo>
                          <a:pt x="100" y="89"/>
                        </a:lnTo>
                        <a:lnTo>
                          <a:pt x="89" y="78"/>
                        </a:lnTo>
                        <a:lnTo>
                          <a:pt x="67" y="56"/>
                        </a:lnTo>
                        <a:lnTo>
                          <a:pt x="56" y="44"/>
                        </a:lnTo>
                        <a:lnTo>
                          <a:pt x="45" y="33"/>
                        </a:lnTo>
                        <a:lnTo>
                          <a:pt x="34" y="22"/>
                        </a:lnTo>
                        <a:lnTo>
                          <a:pt x="11" y="0"/>
                        </a:lnTo>
                        <a:lnTo>
                          <a:pt x="0" y="11"/>
                        </a:lnTo>
                        <a:lnTo>
                          <a:pt x="11" y="33"/>
                        </a:lnTo>
                        <a:lnTo>
                          <a:pt x="34" y="44"/>
                        </a:lnTo>
                        <a:lnTo>
                          <a:pt x="45" y="56"/>
                        </a:lnTo>
                        <a:lnTo>
                          <a:pt x="56" y="78"/>
                        </a:lnTo>
                        <a:lnTo>
                          <a:pt x="78" y="89"/>
                        </a:lnTo>
                        <a:lnTo>
                          <a:pt x="89" y="100"/>
                        </a:lnTo>
                        <a:lnTo>
                          <a:pt x="100" y="111"/>
                        </a:lnTo>
                        <a:lnTo>
                          <a:pt x="123" y="122"/>
                        </a:lnTo>
                        <a:lnTo>
                          <a:pt x="123" y="111"/>
                        </a:lnTo>
                        <a:lnTo>
                          <a:pt x="123" y="12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Freeform 844"/>
                  <p:cNvSpPr/>
                  <p:nvPr/>
                </p:nvSpPr>
                <p:spPr>
                  <a:xfrm rot="111600">
                    <a:off x="1061280" y="1067760"/>
                    <a:ext cx="3960" cy="4320"/>
                  </a:xfrm>
                  <a:custGeom>
                    <a:avLst/>
                    <a:gdLst>
                      <a:gd name="textAreaLeft" fmla="*/ 0 w 3960"/>
                      <a:gd name="textAreaRight" fmla="*/ 4320 w 3960"/>
                      <a:gd name="textAreaTop" fmla="*/ 0 h 4320"/>
                      <a:gd name="textAreaBottom" fmla="*/ 4680 h 4320"/>
                    </a:gdLst>
                    <a:ahLst/>
                    <a:rect l="textAreaLeft" t="textAreaTop" r="textAreaRight" b="textAreaBottom"/>
                    <a:pathLst>
                      <a:path w="44" h="33">
                        <a:moveTo>
                          <a:pt x="44" y="33"/>
                        </a:moveTo>
                        <a:lnTo>
                          <a:pt x="44" y="22"/>
                        </a:lnTo>
                        <a:lnTo>
                          <a:pt x="44" y="11"/>
                        </a:lnTo>
                        <a:lnTo>
                          <a:pt x="33" y="0"/>
                        </a:lnTo>
                        <a:lnTo>
                          <a:pt x="22" y="0"/>
                        </a:lnTo>
                        <a:lnTo>
                          <a:pt x="11" y="0"/>
                        </a:lnTo>
                        <a:lnTo>
                          <a:pt x="0" y="11"/>
                        </a:lnTo>
                        <a:lnTo>
                          <a:pt x="44" y="33"/>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3" name="Freeform 842"/>
                <p:cNvSpPr/>
                <p:nvPr/>
              </p:nvSpPr>
              <p:spPr>
                <a:xfrm rot="111600">
                  <a:off x="1056960" y="1068840"/>
                  <a:ext cx="8640" cy="21960"/>
                </a:xfrm>
                <a:custGeom>
                  <a:avLst/>
                  <a:gdLst>
                    <a:gd name="textAreaLeft" fmla="*/ 0 w 8640"/>
                    <a:gd name="textAreaRight" fmla="*/ 9000 w 8640"/>
                    <a:gd name="textAreaTop" fmla="*/ 0 h 21960"/>
                    <a:gd name="textAreaBottom" fmla="*/ 22320 h 21960"/>
                  </a:gdLst>
                  <a:ahLst/>
                  <a:rect l="textAreaLeft" t="textAreaTop" r="textAreaRight" b="textAreaBottom"/>
                  <a:pathLst>
                    <a:path w="89" h="167">
                      <a:moveTo>
                        <a:pt x="45" y="167"/>
                      </a:moveTo>
                      <a:lnTo>
                        <a:pt x="45" y="145"/>
                      </a:lnTo>
                      <a:lnTo>
                        <a:pt x="45" y="134"/>
                      </a:lnTo>
                      <a:lnTo>
                        <a:pt x="56" y="111"/>
                      </a:lnTo>
                      <a:lnTo>
                        <a:pt x="56" y="89"/>
                      </a:lnTo>
                      <a:lnTo>
                        <a:pt x="67" y="78"/>
                      </a:lnTo>
                      <a:lnTo>
                        <a:pt x="67" y="56"/>
                      </a:lnTo>
                      <a:lnTo>
                        <a:pt x="78" y="33"/>
                      </a:lnTo>
                      <a:lnTo>
                        <a:pt x="89" y="22"/>
                      </a:lnTo>
                      <a:lnTo>
                        <a:pt x="45" y="0"/>
                      </a:lnTo>
                      <a:lnTo>
                        <a:pt x="34" y="22"/>
                      </a:lnTo>
                      <a:lnTo>
                        <a:pt x="34" y="33"/>
                      </a:lnTo>
                      <a:lnTo>
                        <a:pt x="23" y="56"/>
                      </a:lnTo>
                      <a:lnTo>
                        <a:pt x="11" y="78"/>
                      </a:lnTo>
                      <a:lnTo>
                        <a:pt x="11" y="100"/>
                      </a:lnTo>
                      <a:lnTo>
                        <a:pt x="0" y="123"/>
                      </a:lnTo>
                      <a:lnTo>
                        <a:pt x="0" y="145"/>
                      </a:lnTo>
                      <a:lnTo>
                        <a:pt x="0" y="167"/>
                      </a:lnTo>
                      <a:lnTo>
                        <a:pt x="45" y="167"/>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Freeform 841"/>
                <p:cNvSpPr/>
                <p:nvPr/>
              </p:nvSpPr>
              <p:spPr>
                <a:xfrm rot="111600">
                  <a:off x="1061280" y="1070640"/>
                  <a:ext cx="3960" cy="2880"/>
                </a:xfrm>
                <a:custGeom>
                  <a:avLst/>
                  <a:gdLst>
                    <a:gd name="textAreaLeft" fmla="*/ 0 w 3960"/>
                    <a:gd name="textAreaRight" fmla="*/ 4320 w 3960"/>
                    <a:gd name="textAreaTop" fmla="*/ 0 h 2880"/>
                    <a:gd name="textAreaBottom" fmla="*/ 3240 h 2880"/>
                  </a:gdLst>
                  <a:ahLst/>
                  <a:rect l="textAreaLeft" t="textAreaTop" r="textAreaRight" b="textAreaBottom"/>
                  <a:pathLst>
                    <a:path w="44" h="22">
                      <a:moveTo>
                        <a:pt x="0" y="0"/>
                      </a:moveTo>
                      <a:lnTo>
                        <a:pt x="0" y="11"/>
                      </a:lnTo>
                      <a:lnTo>
                        <a:pt x="11" y="22"/>
                      </a:lnTo>
                      <a:lnTo>
                        <a:pt x="22" y="22"/>
                      </a:lnTo>
                      <a:lnTo>
                        <a:pt x="33" y="22"/>
                      </a:lnTo>
                      <a:lnTo>
                        <a:pt x="44" y="22"/>
                      </a:lnTo>
                      <a:lnTo>
                        <a:pt x="44" y="11"/>
                      </a:lnTo>
                      <a:lnTo>
                        <a:pt x="44"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Freeform 840"/>
                <p:cNvSpPr/>
                <p:nvPr/>
              </p:nvSpPr>
              <p:spPr>
                <a:xfrm rot="111600">
                  <a:off x="1080360" y="1059120"/>
                  <a:ext cx="3240" cy="4320"/>
                </a:xfrm>
                <a:custGeom>
                  <a:avLst/>
                  <a:gdLst>
                    <a:gd name="textAreaLeft" fmla="*/ 0 w 3240"/>
                    <a:gd name="textAreaRight" fmla="*/ 3600 w 3240"/>
                    <a:gd name="textAreaTop" fmla="*/ 0 h 4320"/>
                    <a:gd name="textAreaBottom" fmla="*/ 4680 h 4320"/>
                  </a:gdLst>
                  <a:ahLst/>
                  <a:rect l="textAreaLeft" t="textAreaTop" r="textAreaRight" b="textAreaBottom"/>
                  <a:pathLst>
                    <a:path w="34" h="33">
                      <a:moveTo>
                        <a:pt x="34" y="0"/>
                      </a:moveTo>
                      <a:lnTo>
                        <a:pt x="23" y="0"/>
                      </a:lnTo>
                      <a:lnTo>
                        <a:pt x="11" y="0"/>
                      </a:lnTo>
                      <a:lnTo>
                        <a:pt x="0" y="0"/>
                      </a:lnTo>
                      <a:lnTo>
                        <a:pt x="0" y="11"/>
                      </a:lnTo>
                      <a:lnTo>
                        <a:pt x="0" y="22"/>
                      </a:lnTo>
                      <a:lnTo>
                        <a:pt x="0" y="33"/>
                      </a:lnTo>
                      <a:lnTo>
                        <a:pt x="34" y="0"/>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Freeform 839"/>
                <p:cNvSpPr/>
                <p:nvPr/>
              </p:nvSpPr>
              <p:spPr>
                <a:xfrm rot="111600">
                  <a:off x="1080000" y="1059120"/>
                  <a:ext cx="14040" cy="23400"/>
                </a:xfrm>
                <a:custGeom>
                  <a:avLst/>
                  <a:gdLst>
                    <a:gd name="textAreaLeft" fmla="*/ 0 w 14040"/>
                    <a:gd name="textAreaRight" fmla="*/ 14400 w 14040"/>
                    <a:gd name="textAreaTop" fmla="*/ 0 h 23400"/>
                    <a:gd name="textAreaBottom" fmla="*/ 23760 h 23400"/>
                  </a:gdLst>
                  <a:ahLst/>
                  <a:rect l="textAreaLeft" t="textAreaTop" r="textAreaRight" b="textAreaBottom"/>
                  <a:pathLst>
                    <a:path w="145" h="178">
                      <a:moveTo>
                        <a:pt x="145" y="167"/>
                      </a:moveTo>
                      <a:lnTo>
                        <a:pt x="134" y="145"/>
                      </a:lnTo>
                      <a:lnTo>
                        <a:pt x="123" y="123"/>
                      </a:lnTo>
                      <a:lnTo>
                        <a:pt x="112" y="100"/>
                      </a:lnTo>
                      <a:lnTo>
                        <a:pt x="101" y="78"/>
                      </a:lnTo>
                      <a:lnTo>
                        <a:pt x="78" y="56"/>
                      </a:lnTo>
                      <a:lnTo>
                        <a:pt x="67" y="33"/>
                      </a:lnTo>
                      <a:lnTo>
                        <a:pt x="45" y="11"/>
                      </a:lnTo>
                      <a:lnTo>
                        <a:pt x="34" y="0"/>
                      </a:lnTo>
                      <a:lnTo>
                        <a:pt x="0" y="33"/>
                      </a:lnTo>
                      <a:lnTo>
                        <a:pt x="23" y="45"/>
                      </a:lnTo>
                      <a:lnTo>
                        <a:pt x="34" y="67"/>
                      </a:lnTo>
                      <a:lnTo>
                        <a:pt x="45" y="78"/>
                      </a:lnTo>
                      <a:lnTo>
                        <a:pt x="67" y="100"/>
                      </a:lnTo>
                      <a:lnTo>
                        <a:pt x="78" y="123"/>
                      </a:lnTo>
                      <a:lnTo>
                        <a:pt x="89" y="145"/>
                      </a:lnTo>
                      <a:lnTo>
                        <a:pt x="101" y="156"/>
                      </a:lnTo>
                      <a:lnTo>
                        <a:pt x="112" y="178"/>
                      </a:lnTo>
                      <a:lnTo>
                        <a:pt x="145" y="167"/>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Freeform 838"/>
                <p:cNvSpPr/>
                <p:nvPr/>
              </p:nvSpPr>
              <p:spPr>
                <a:xfrm rot="111600">
                  <a:off x="1080360" y="1060560"/>
                  <a:ext cx="4320" cy="4320"/>
                </a:xfrm>
                <a:custGeom>
                  <a:avLst/>
                  <a:gdLst>
                    <a:gd name="textAreaLeft" fmla="*/ 0 w 4320"/>
                    <a:gd name="textAreaRight" fmla="*/ 4320 w 4320"/>
                    <a:gd name="textAreaTop" fmla="*/ 0 h 4320"/>
                    <a:gd name="textAreaBottom" fmla="*/ 4680 h 4320"/>
                  </a:gdLst>
                  <a:ahLst/>
                  <a:rect l="textAreaLeft" t="textAreaTop" r="textAreaRight" b="textAreaBottom"/>
                  <a:pathLst>
                    <a:path w="45" h="34">
                      <a:moveTo>
                        <a:pt x="0" y="22"/>
                      </a:moveTo>
                      <a:lnTo>
                        <a:pt x="0" y="22"/>
                      </a:lnTo>
                      <a:lnTo>
                        <a:pt x="11" y="34"/>
                      </a:lnTo>
                      <a:lnTo>
                        <a:pt x="23" y="34"/>
                      </a:lnTo>
                      <a:lnTo>
                        <a:pt x="34" y="34"/>
                      </a:lnTo>
                      <a:lnTo>
                        <a:pt x="34" y="22"/>
                      </a:lnTo>
                      <a:lnTo>
                        <a:pt x="45" y="11"/>
                      </a:lnTo>
                      <a:lnTo>
                        <a:pt x="34" y="0"/>
                      </a:lnTo>
                      <a:lnTo>
                        <a:pt x="0" y="2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Freeform 837"/>
                <p:cNvSpPr/>
                <p:nvPr/>
              </p:nvSpPr>
              <p:spPr>
                <a:xfrm rot="111600">
                  <a:off x="1095840" y="112068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0" y="11"/>
                      </a:moveTo>
                      <a:lnTo>
                        <a:pt x="11" y="11"/>
                      </a:lnTo>
                      <a:lnTo>
                        <a:pt x="22" y="11"/>
                      </a:lnTo>
                      <a:lnTo>
                        <a:pt x="22"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Freeform 836"/>
                <p:cNvSpPr/>
                <p:nvPr/>
              </p:nvSpPr>
              <p:spPr>
                <a:xfrm rot="111600">
                  <a:off x="1077840" y="1105200"/>
                  <a:ext cx="20520" cy="16200"/>
                </a:xfrm>
                <a:custGeom>
                  <a:avLst/>
                  <a:gdLst>
                    <a:gd name="textAreaLeft" fmla="*/ 0 w 20520"/>
                    <a:gd name="textAreaRight" fmla="*/ 20880 w 20520"/>
                    <a:gd name="textAreaTop" fmla="*/ 0 h 16200"/>
                    <a:gd name="textAreaBottom" fmla="*/ 16560 h 16200"/>
                  </a:gdLst>
                  <a:ahLst/>
                  <a:rect l="textAreaLeft" t="textAreaTop" r="textAreaRight" b="textAreaBottom"/>
                  <a:pathLst>
                    <a:path w="212" h="122">
                      <a:moveTo>
                        <a:pt x="11" y="22"/>
                      </a:moveTo>
                      <a:lnTo>
                        <a:pt x="11" y="22"/>
                      </a:lnTo>
                      <a:lnTo>
                        <a:pt x="34" y="22"/>
                      </a:lnTo>
                      <a:lnTo>
                        <a:pt x="67" y="22"/>
                      </a:lnTo>
                      <a:lnTo>
                        <a:pt x="100" y="22"/>
                      </a:lnTo>
                      <a:lnTo>
                        <a:pt x="123" y="33"/>
                      </a:lnTo>
                      <a:lnTo>
                        <a:pt x="145" y="55"/>
                      </a:lnTo>
                      <a:lnTo>
                        <a:pt x="167" y="66"/>
                      </a:lnTo>
                      <a:lnTo>
                        <a:pt x="178" y="100"/>
                      </a:lnTo>
                      <a:lnTo>
                        <a:pt x="190" y="122"/>
                      </a:lnTo>
                      <a:lnTo>
                        <a:pt x="212" y="111"/>
                      </a:lnTo>
                      <a:lnTo>
                        <a:pt x="201" y="89"/>
                      </a:lnTo>
                      <a:lnTo>
                        <a:pt x="178" y="55"/>
                      </a:lnTo>
                      <a:lnTo>
                        <a:pt x="156" y="33"/>
                      </a:lnTo>
                      <a:lnTo>
                        <a:pt x="134" y="22"/>
                      </a:lnTo>
                      <a:lnTo>
                        <a:pt x="100" y="0"/>
                      </a:lnTo>
                      <a:lnTo>
                        <a:pt x="67" y="0"/>
                      </a:lnTo>
                      <a:lnTo>
                        <a:pt x="34" y="0"/>
                      </a:lnTo>
                      <a:lnTo>
                        <a:pt x="0" y="0"/>
                      </a:lnTo>
                      <a:lnTo>
                        <a:pt x="11" y="22"/>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Freeform 835"/>
                <p:cNvSpPr/>
                <p:nvPr/>
              </p:nvSpPr>
              <p:spPr>
                <a:xfrm rot="111600">
                  <a:off x="1068840" y="1105200"/>
                  <a:ext cx="9720" cy="26280"/>
                </a:xfrm>
                <a:custGeom>
                  <a:avLst/>
                  <a:gdLst>
                    <a:gd name="textAreaLeft" fmla="*/ 0 w 9720"/>
                    <a:gd name="textAreaRight" fmla="*/ 10080 w 9720"/>
                    <a:gd name="textAreaTop" fmla="*/ 0 h 26280"/>
                    <a:gd name="textAreaBottom" fmla="*/ 26640 h 26280"/>
                  </a:gdLst>
                  <a:ahLst/>
                  <a:rect l="textAreaLeft" t="textAreaTop" r="textAreaRight" b="textAreaBottom"/>
                  <a:pathLst>
                    <a:path w="100" h="200">
                      <a:moveTo>
                        <a:pt x="22" y="189"/>
                      </a:moveTo>
                      <a:lnTo>
                        <a:pt x="22" y="167"/>
                      </a:lnTo>
                      <a:lnTo>
                        <a:pt x="22" y="144"/>
                      </a:lnTo>
                      <a:lnTo>
                        <a:pt x="22" y="111"/>
                      </a:lnTo>
                      <a:lnTo>
                        <a:pt x="33" y="89"/>
                      </a:lnTo>
                      <a:lnTo>
                        <a:pt x="45" y="66"/>
                      </a:lnTo>
                      <a:lnTo>
                        <a:pt x="56" y="55"/>
                      </a:lnTo>
                      <a:lnTo>
                        <a:pt x="78" y="33"/>
                      </a:lnTo>
                      <a:lnTo>
                        <a:pt x="100" y="22"/>
                      </a:lnTo>
                      <a:lnTo>
                        <a:pt x="89" y="0"/>
                      </a:lnTo>
                      <a:lnTo>
                        <a:pt x="67" y="11"/>
                      </a:lnTo>
                      <a:lnTo>
                        <a:pt x="45" y="33"/>
                      </a:lnTo>
                      <a:lnTo>
                        <a:pt x="22" y="55"/>
                      </a:lnTo>
                      <a:lnTo>
                        <a:pt x="11" y="78"/>
                      </a:lnTo>
                      <a:lnTo>
                        <a:pt x="0" y="111"/>
                      </a:lnTo>
                      <a:lnTo>
                        <a:pt x="0" y="133"/>
                      </a:lnTo>
                      <a:lnTo>
                        <a:pt x="0" y="167"/>
                      </a:lnTo>
                      <a:lnTo>
                        <a:pt x="0" y="200"/>
                      </a:lnTo>
                      <a:lnTo>
                        <a:pt x="22" y="189"/>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Freeform 834"/>
                <p:cNvSpPr/>
                <p:nvPr/>
              </p:nvSpPr>
              <p:spPr>
                <a:xfrm rot="111600">
                  <a:off x="1076760" y="110664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0" y="0"/>
                      </a:moveTo>
                      <a:lnTo>
                        <a:pt x="11" y="11"/>
                      </a:lnTo>
                      <a:lnTo>
                        <a:pt x="22" y="11"/>
                      </a:lnTo>
                      <a:lnTo>
                        <a:pt x="22"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Freeform 833"/>
                <p:cNvSpPr/>
                <p:nvPr/>
              </p:nvSpPr>
              <p:spPr>
                <a:xfrm rot="111600">
                  <a:off x="1116720" y="115272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22" y="11"/>
                      </a:moveTo>
                      <a:lnTo>
                        <a:pt x="11" y="11"/>
                      </a:lnTo>
                      <a:lnTo>
                        <a:pt x="11" y="0"/>
                      </a:lnTo>
                      <a:lnTo>
                        <a:pt x="0" y="0"/>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Freeform 832"/>
                <p:cNvSpPr/>
                <p:nvPr/>
              </p:nvSpPr>
              <p:spPr>
                <a:xfrm rot="111600">
                  <a:off x="1100880" y="1153440"/>
                  <a:ext cx="17280" cy="33840"/>
                </a:xfrm>
                <a:custGeom>
                  <a:avLst/>
                  <a:gdLst>
                    <a:gd name="textAreaLeft" fmla="*/ 0 w 17280"/>
                    <a:gd name="textAreaRight" fmla="*/ 17640 w 17280"/>
                    <a:gd name="textAreaTop" fmla="*/ 0 h 33840"/>
                    <a:gd name="textAreaBottom" fmla="*/ 34200 h 33840"/>
                  </a:gdLst>
                  <a:ahLst/>
                  <a:rect l="textAreaLeft" t="textAreaTop" r="textAreaRight" b="textAreaBottom"/>
                  <a:pathLst>
                    <a:path w="179" h="257">
                      <a:moveTo>
                        <a:pt x="12" y="257"/>
                      </a:moveTo>
                      <a:lnTo>
                        <a:pt x="12" y="257"/>
                      </a:lnTo>
                      <a:lnTo>
                        <a:pt x="34" y="234"/>
                      </a:lnTo>
                      <a:lnTo>
                        <a:pt x="56" y="212"/>
                      </a:lnTo>
                      <a:lnTo>
                        <a:pt x="90" y="179"/>
                      </a:lnTo>
                      <a:lnTo>
                        <a:pt x="112" y="156"/>
                      </a:lnTo>
                      <a:lnTo>
                        <a:pt x="134" y="123"/>
                      </a:lnTo>
                      <a:lnTo>
                        <a:pt x="145" y="89"/>
                      </a:lnTo>
                      <a:lnTo>
                        <a:pt x="168" y="45"/>
                      </a:lnTo>
                      <a:lnTo>
                        <a:pt x="179" y="0"/>
                      </a:lnTo>
                      <a:lnTo>
                        <a:pt x="157" y="0"/>
                      </a:lnTo>
                      <a:lnTo>
                        <a:pt x="145" y="45"/>
                      </a:lnTo>
                      <a:lnTo>
                        <a:pt x="123" y="78"/>
                      </a:lnTo>
                      <a:lnTo>
                        <a:pt x="112" y="112"/>
                      </a:lnTo>
                      <a:lnTo>
                        <a:pt x="90" y="145"/>
                      </a:lnTo>
                      <a:lnTo>
                        <a:pt x="67" y="167"/>
                      </a:lnTo>
                      <a:lnTo>
                        <a:pt x="45" y="190"/>
                      </a:lnTo>
                      <a:lnTo>
                        <a:pt x="23" y="212"/>
                      </a:lnTo>
                      <a:lnTo>
                        <a:pt x="0" y="245"/>
                      </a:lnTo>
                      <a:lnTo>
                        <a:pt x="12" y="257"/>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Freeform 831"/>
                <p:cNvSpPr/>
                <p:nvPr/>
              </p:nvSpPr>
              <p:spPr>
                <a:xfrm rot="111600">
                  <a:off x="1052280" y="1185120"/>
                  <a:ext cx="48960" cy="13320"/>
                </a:xfrm>
                <a:custGeom>
                  <a:avLst/>
                  <a:gdLst>
                    <a:gd name="textAreaLeft" fmla="*/ 0 w 48960"/>
                    <a:gd name="textAreaRight" fmla="*/ 49320 w 48960"/>
                    <a:gd name="textAreaTop" fmla="*/ 0 h 13320"/>
                    <a:gd name="textAreaBottom" fmla="*/ 13680 h 13320"/>
                  </a:gdLst>
                  <a:ahLst/>
                  <a:rect l="textAreaLeft" t="textAreaTop" r="textAreaRight" b="textAreaBottom"/>
                  <a:pathLst>
                    <a:path w="502" h="101">
                      <a:moveTo>
                        <a:pt x="0" y="23"/>
                      </a:moveTo>
                      <a:lnTo>
                        <a:pt x="0" y="23"/>
                      </a:lnTo>
                      <a:lnTo>
                        <a:pt x="34" y="45"/>
                      </a:lnTo>
                      <a:lnTo>
                        <a:pt x="67" y="67"/>
                      </a:lnTo>
                      <a:lnTo>
                        <a:pt x="100" y="78"/>
                      </a:lnTo>
                      <a:lnTo>
                        <a:pt x="134" y="78"/>
                      </a:lnTo>
                      <a:lnTo>
                        <a:pt x="167" y="90"/>
                      </a:lnTo>
                      <a:lnTo>
                        <a:pt x="212" y="101"/>
                      </a:lnTo>
                      <a:lnTo>
                        <a:pt x="245" y="101"/>
                      </a:lnTo>
                      <a:lnTo>
                        <a:pt x="279" y="90"/>
                      </a:lnTo>
                      <a:lnTo>
                        <a:pt x="312" y="90"/>
                      </a:lnTo>
                      <a:lnTo>
                        <a:pt x="346" y="90"/>
                      </a:lnTo>
                      <a:lnTo>
                        <a:pt x="379" y="78"/>
                      </a:lnTo>
                      <a:lnTo>
                        <a:pt x="401" y="67"/>
                      </a:lnTo>
                      <a:lnTo>
                        <a:pt x="435" y="56"/>
                      </a:lnTo>
                      <a:lnTo>
                        <a:pt x="457" y="45"/>
                      </a:lnTo>
                      <a:lnTo>
                        <a:pt x="479" y="34"/>
                      </a:lnTo>
                      <a:lnTo>
                        <a:pt x="502" y="12"/>
                      </a:lnTo>
                      <a:lnTo>
                        <a:pt x="490" y="0"/>
                      </a:lnTo>
                      <a:lnTo>
                        <a:pt x="468" y="12"/>
                      </a:lnTo>
                      <a:lnTo>
                        <a:pt x="446" y="23"/>
                      </a:lnTo>
                      <a:lnTo>
                        <a:pt x="424" y="34"/>
                      </a:lnTo>
                      <a:lnTo>
                        <a:pt x="401" y="45"/>
                      </a:lnTo>
                      <a:lnTo>
                        <a:pt x="368" y="56"/>
                      </a:lnTo>
                      <a:lnTo>
                        <a:pt x="334" y="67"/>
                      </a:lnTo>
                      <a:lnTo>
                        <a:pt x="312" y="67"/>
                      </a:lnTo>
                      <a:lnTo>
                        <a:pt x="268" y="78"/>
                      </a:lnTo>
                      <a:lnTo>
                        <a:pt x="234" y="78"/>
                      </a:lnTo>
                      <a:lnTo>
                        <a:pt x="201" y="78"/>
                      </a:lnTo>
                      <a:lnTo>
                        <a:pt x="167" y="67"/>
                      </a:lnTo>
                      <a:lnTo>
                        <a:pt x="134" y="67"/>
                      </a:lnTo>
                      <a:lnTo>
                        <a:pt x="100" y="56"/>
                      </a:lnTo>
                      <a:lnTo>
                        <a:pt x="78" y="45"/>
                      </a:lnTo>
                      <a:lnTo>
                        <a:pt x="45" y="23"/>
                      </a:lnTo>
                      <a:lnTo>
                        <a:pt x="11" y="12"/>
                      </a:lnTo>
                      <a:lnTo>
                        <a:pt x="0" y="23"/>
                      </a:lnTo>
                      <a:close/>
                    </a:path>
                  </a:pathLst>
                </a:custGeom>
                <a:solidFill>
                  <a:srgbClr val="000000"/>
                </a:solidFill>
                <a:ln w="0">
                  <a:no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Freeform 830"/>
                <p:cNvSpPr/>
                <p:nvPr/>
              </p:nvSpPr>
              <p:spPr>
                <a:xfrm rot="111600">
                  <a:off x="1045080" y="1175400"/>
                  <a:ext cx="8640" cy="11520"/>
                </a:xfrm>
                <a:custGeom>
                  <a:avLst/>
                  <a:gdLst>
                    <a:gd name="textAreaLeft" fmla="*/ 0 w 8640"/>
                    <a:gd name="textAreaRight" fmla="*/ 9000 w 8640"/>
                    <a:gd name="textAreaTop" fmla="*/ 0 h 11520"/>
                    <a:gd name="textAreaBottom" fmla="*/ 11880 h 11520"/>
                  </a:gdLst>
                  <a:ahLst/>
                  <a:rect l="textAreaLeft" t="textAreaTop" r="textAreaRight" b="textAreaBottom"/>
                  <a:pathLst>
                    <a:path w="89" h="89">
                      <a:moveTo>
                        <a:pt x="0" y="11"/>
                      </a:moveTo>
                      <a:lnTo>
                        <a:pt x="11" y="22"/>
                      </a:lnTo>
                      <a:lnTo>
                        <a:pt x="11" y="33"/>
                      </a:lnTo>
                      <a:lnTo>
                        <a:pt x="22" y="44"/>
                      </a:lnTo>
                      <a:lnTo>
                        <a:pt x="34" y="55"/>
                      </a:lnTo>
                      <a:lnTo>
                        <a:pt x="45" y="66"/>
                      </a:lnTo>
                      <a:lnTo>
                        <a:pt x="56" y="66"/>
                      </a:lnTo>
                      <a:lnTo>
                        <a:pt x="67" y="78"/>
                      </a:lnTo>
                      <a:lnTo>
                        <a:pt x="78" y="89"/>
                      </a:lnTo>
                      <a:lnTo>
                        <a:pt x="89" y="78"/>
                      </a:lnTo>
                      <a:lnTo>
                        <a:pt x="78" y="66"/>
                      </a:lnTo>
                      <a:lnTo>
                        <a:pt x="67" y="55"/>
                      </a:lnTo>
                      <a:lnTo>
                        <a:pt x="56" y="44"/>
                      </a:lnTo>
                      <a:lnTo>
                        <a:pt x="45" y="33"/>
                      </a:lnTo>
                      <a:lnTo>
                        <a:pt x="34" y="33"/>
                      </a:lnTo>
                      <a:lnTo>
                        <a:pt x="34" y="22"/>
                      </a:lnTo>
                      <a:lnTo>
                        <a:pt x="22" y="11"/>
                      </a:lnTo>
                      <a:lnTo>
                        <a:pt x="11" y="0"/>
                      </a:lnTo>
                      <a:lnTo>
                        <a:pt x="0" y="11"/>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Freeform 829"/>
                <p:cNvSpPr/>
                <p:nvPr/>
              </p:nvSpPr>
              <p:spPr>
                <a:xfrm rot="111600">
                  <a:off x="1052280" y="1186200"/>
                  <a:ext cx="1080" cy="1440"/>
                </a:xfrm>
                <a:custGeom>
                  <a:avLst/>
                  <a:gdLst>
                    <a:gd name="textAreaLeft" fmla="*/ 0 w 1080"/>
                    <a:gd name="textAreaRight" fmla="*/ 1440 w 1080"/>
                    <a:gd name="textAreaTop" fmla="*/ 0 h 1440"/>
                    <a:gd name="textAreaBottom" fmla="*/ 1800 h 1440"/>
                  </a:gdLst>
                  <a:ahLst/>
                  <a:rect l="textAreaLeft" t="textAreaTop" r="textAreaRight" b="textAreaBottom"/>
                  <a:pathLst>
                    <a:path w="11" h="11">
                      <a:moveTo>
                        <a:pt x="11" y="0"/>
                      </a:moveTo>
                      <a:lnTo>
                        <a:pt x="0" y="0"/>
                      </a:lnTo>
                      <a:lnTo>
                        <a:pt x="0" y="11"/>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Freeform 828"/>
                <p:cNvSpPr/>
                <p:nvPr/>
              </p:nvSpPr>
              <p:spPr>
                <a:xfrm rot="111600">
                  <a:off x="1071720" y="1260720"/>
                  <a:ext cx="169560" cy="268200"/>
                </a:xfrm>
                <a:custGeom>
                  <a:avLst/>
                  <a:gdLst>
                    <a:gd name="textAreaLeft" fmla="*/ 0 w 169560"/>
                    <a:gd name="textAreaRight" fmla="*/ 169560 w 169560"/>
                    <a:gd name="textAreaTop" fmla="*/ 0 h 268200"/>
                    <a:gd name="textAreaBottom" fmla="*/ 268560 h 268200"/>
                  </a:gdLst>
                  <a:ahLst/>
                  <a:rect l="textAreaLeft" t="textAreaTop" r="textAreaRight" b="textAreaBottom"/>
                  <a:pathLst>
                    <a:path w="1738" h="2017">
                      <a:moveTo>
                        <a:pt x="289" y="122"/>
                      </a:moveTo>
                      <a:lnTo>
                        <a:pt x="323" y="100"/>
                      </a:lnTo>
                      <a:lnTo>
                        <a:pt x="356" y="89"/>
                      </a:lnTo>
                      <a:lnTo>
                        <a:pt x="390" y="78"/>
                      </a:lnTo>
                      <a:lnTo>
                        <a:pt x="434" y="66"/>
                      </a:lnTo>
                      <a:lnTo>
                        <a:pt x="468" y="55"/>
                      </a:lnTo>
                      <a:lnTo>
                        <a:pt x="512" y="44"/>
                      </a:lnTo>
                      <a:lnTo>
                        <a:pt x="546" y="33"/>
                      </a:lnTo>
                      <a:lnTo>
                        <a:pt x="579" y="22"/>
                      </a:lnTo>
                      <a:lnTo>
                        <a:pt x="624" y="22"/>
                      </a:lnTo>
                      <a:lnTo>
                        <a:pt x="657" y="11"/>
                      </a:lnTo>
                      <a:lnTo>
                        <a:pt x="702" y="11"/>
                      </a:lnTo>
                      <a:lnTo>
                        <a:pt x="735" y="0"/>
                      </a:lnTo>
                      <a:lnTo>
                        <a:pt x="780" y="0"/>
                      </a:lnTo>
                      <a:lnTo>
                        <a:pt x="813" y="0"/>
                      </a:lnTo>
                      <a:lnTo>
                        <a:pt x="858" y="0"/>
                      </a:lnTo>
                      <a:lnTo>
                        <a:pt x="902" y="0"/>
                      </a:lnTo>
                      <a:lnTo>
                        <a:pt x="936" y="0"/>
                      </a:lnTo>
                      <a:lnTo>
                        <a:pt x="980" y="0"/>
                      </a:lnTo>
                      <a:lnTo>
                        <a:pt x="1014" y="0"/>
                      </a:lnTo>
                      <a:lnTo>
                        <a:pt x="1058" y="11"/>
                      </a:lnTo>
                      <a:lnTo>
                        <a:pt x="1092" y="11"/>
                      </a:lnTo>
                      <a:lnTo>
                        <a:pt x="1136" y="11"/>
                      </a:lnTo>
                      <a:lnTo>
                        <a:pt x="1181" y="22"/>
                      </a:lnTo>
                      <a:lnTo>
                        <a:pt x="1214" y="33"/>
                      </a:lnTo>
                      <a:lnTo>
                        <a:pt x="1248" y="33"/>
                      </a:lnTo>
                      <a:lnTo>
                        <a:pt x="1292" y="44"/>
                      </a:lnTo>
                      <a:lnTo>
                        <a:pt x="1337" y="55"/>
                      </a:lnTo>
                      <a:lnTo>
                        <a:pt x="1370" y="66"/>
                      </a:lnTo>
                      <a:lnTo>
                        <a:pt x="1415" y="78"/>
                      </a:lnTo>
                      <a:lnTo>
                        <a:pt x="1448" y="89"/>
                      </a:lnTo>
                      <a:lnTo>
                        <a:pt x="1482" y="100"/>
                      </a:lnTo>
                      <a:lnTo>
                        <a:pt x="1526" y="122"/>
                      </a:lnTo>
                      <a:lnTo>
                        <a:pt x="1515" y="167"/>
                      </a:lnTo>
                      <a:lnTo>
                        <a:pt x="1504" y="211"/>
                      </a:lnTo>
                      <a:lnTo>
                        <a:pt x="1493" y="267"/>
                      </a:lnTo>
                      <a:lnTo>
                        <a:pt x="1482" y="323"/>
                      </a:lnTo>
                      <a:lnTo>
                        <a:pt x="1482" y="378"/>
                      </a:lnTo>
                      <a:lnTo>
                        <a:pt x="1482" y="456"/>
                      </a:lnTo>
                      <a:lnTo>
                        <a:pt x="1493" y="546"/>
                      </a:lnTo>
                      <a:lnTo>
                        <a:pt x="1526" y="646"/>
                      </a:lnTo>
                      <a:lnTo>
                        <a:pt x="1560" y="646"/>
                      </a:lnTo>
                      <a:lnTo>
                        <a:pt x="1582" y="635"/>
                      </a:lnTo>
                      <a:lnTo>
                        <a:pt x="1616" y="635"/>
                      </a:lnTo>
                      <a:lnTo>
                        <a:pt x="1638" y="635"/>
                      </a:lnTo>
                      <a:lnTo>
                        <a:pt x="1660" y="635"/>
                      </a:lnTo>
                      <a:lnTo>
                        <a:pt x="1683" y="635"/>
                      </a:lnTo>
                      <a:lnTo>
                        <a:pt x="1705" y="646"/>
                      </a:lnTo>
                      <a:lnTo>
                        <a:pt x="1716" y="668"/>
                      </a:lnTo>
                      <a:lnTo>
                        <a:pt x="1727" y="702"/>
                      </a:lnTo>
                      <a:lnTo>
                        <a:pt x="1738" y="746"/>
                      </a:lnTo>
                      <a:lnTo>
                        <a:pt x="1738" y="802"/>
                      </a:lnTo>
                      <a:lnTo>
                        <a:pt x="1738" y="858"/>
                      </a:lnTo>
                      <a:lnTo>
                        <a:pt x="1738" y="913"/>
                      </a:lnTo>
                      <a:lnTo>
                        <a:pt x="1727" y="969"/>
                      </a:lnTo>
                      <a:lnTo>
                        <a:pt x="1727" y="1025"/>
                      </a:lnTo>
                      <a:lnTo>
                        <a:pt x="1716" y="1069"/>
                      </a:lnTo>
                      <a:lnTo>
                        <a:pt x="1705" y="1081"/>
                      </a:lnTo>
                      <a:lnTo>
                        <a:pt x="1694" y="1092"/>
                      </a:lnTo>
                      <a:lnTo>
                        <a:pt x="1683" y="1092"/>
                      </a:lnTo>
                      <a:lnTo>
                        <a:pt x="1671" y="1103"/>
                      </a:lnTo>
                      <a:lnTo>
                        <a:pt x="1660" y="1103"/>
                      </a:lnTo>
                      <a:lnTo>
                        <a:pt x="1649" y="1114"/>
                      </a:lnTo>
                      <a:lnTo>
                        <a:pt x="1627" y="1114"/>
                      </a:lnTo>
                      <a:lnTo>
                        <a:pt x="1616" y="1125"/>
                      </a:lnTo>
                      <a:lnTo>
                        <a:pt x="1593" y="1125"/>
                      </a:lnTo>
                      <a:lnTo>
                        <a:pt x="1582" y="1136"/>
                      </a:lnTo>
                      <a:lnTo>
                        <a:pt x="1560" y="1136"/>
                      </a:lnTo>
                      <a:lnTo>
                        <a:pt x="1549" y="1136"/>
                      </a:lnTo>
                      <a:lnTo>
                        <a:pt x="1538" y="1148"/>
                      </a:lnTo>
                      <a:lnTo>
                        <a:pt x="1515" y="1148"/>
                      </a:lnTo>
                      <a:lnTo>
                        <a:pt x="1504" y="1148"/>
                      </a:lnTo>
                      <a:lnTo>
                        <a:pt x="1493" y="1148"/>
                      </a:lnTo>
                      <a:lnTo>
                        <a:pt x="1504" y="1226"/>
                      </a:lnTo>
                      <a:lnTo>
                        <a:pt x="1515" y="1292"/>
                      </a:lnTo>
                      <a:lnTo>
                        <a:pt x="1515" y="1359"/>
                      </a:lnTo>
                      <a:lnTo>
                        <a:pt x="1526" y="1415"/>
                      </a:lnTo>
                      <a:lnTo>
                        <a:pt x="1526" y="1471"/>
                      </a:lnTo>
                      <a:lnTo>
                        <a:pt x="1538" y="1538"/>
                      </a:lnTo>
                      <a:lnTo>
                        <a:pt x="1538" y="1593"/>
                      </a:lnTo>
                      <a:lnTo>
                        <a:pt x="1538" y="1638"/>
                      </a:lnTo>
                      <a:lnTo>
                        <a:pt x="1538" y="1694"/>
                      </a:lnTo>
                      <a:lnTo>
                        <a:pt x="1538" y="1738"/>
                      </a:lnTo>
                      <a:lnTo>
                        <a:pt x="1538" y="1772"/>
                      </a:lnTo>
                      <a:lnTo>
                        <a:pt x="1526" y="1805"/>
                      </a:lnTo>
                      <a:lnTo>
                        <a:pt x="1526" y="1839"/>
                      </a:lnTo>
                      <a:lnTo>
                        <a:pt x="1515" y="1861"/>
                      </a:lnTo>
                      <a:lnTo>
                        <a:pt x="1504" y="1883"/>
                      </a:lnTo>
                      <a:lnTo>
                        <a:pt x="1493" y="1894"/>
                      </a:lnTo>
                      <a:lnTo>
                        <a:pt x="1493" y="1905"/>
                      </a:lnTo>
                      <a:lnTo>
                        <a:pt x="1482" y="1917"/>
                      </a:lnTo>
                      <a:lnTo>
                        <a:pt x="1460" y="1928"/>
                      </a:lnTo>
                      <a:lnTo>
                        <a:pt x="1437" y="1928"/>
                      </a:lnTo>
                      <a:lnTo>
                        <a:pt x="1415" y="1939"/>
                      </a:lnTo>
                      <a:lnTo>
                        <a:pt x="1393" y="1950"/>
                      </a:lnTo>
                      <a:lnTo>
                        <a:pt x="1359" y="1961"/>
                      </a:lnTo>
                      <a:lnTo>
                        <a:pt x="1337" y="1972"/>
                      </a:lnTo>
                      <a:lnTo>
                        <a:pt x="1304" y="1972"/>
                      </a:lnTo>
                      <a:lnTo>
                        <a:pt x="1259" y="1983"/>
                      </a:lnTo>
                      <a:lnTo>
                        <a:pt x="1226" y="1995"/>
                      </a:lnTo>
                      <a:lnTo>
                        <a:pt x="1181" y="1995"/>
                      </a:lnTo>
                      <a:lnTo>
                        <a:pt x="1148" y="2006"/>
                      </a:lnTo>
                      <a:lnTo>
                        <a:pt x="1103" y="2006"/>
                      </a:lnTo>
                      <a:lnTo>
                        <a:pt x="1058" y="2006"/>
                      </a:lnTo>
                      <a:lnTo>
                        <a:pt x="1014" y="2017"/>
                      </a:lnTo>
                      <a:lnTo>
                        <a:pt x="969" y="2017"/>
                      </a:lnTo>
                      <a:lnTo>
                        <a:pt x="913" y="2017"/>
                      </a:lnTo>
                      <a:lnTo>
                        <a:pt x="869" y="2017"/>
                      </a:lnTo>
                      <a:lnTo>
                        <a:pt x="824" y="2017"/>
                      </a:lnTo>
                      <a:lnTo>
                        <a:pt x="780" y="2017"/>
                      </a:lnTo>
                      <a:lnTo>
                        <a:pt x="724" y="2017"/>
                      </a:lnTo>
                      <a:lnTo>
                        <a:pt x="679" y="2017"/>
                      </a:lnTo>
                      <a:lnTo>
                        <a:pt x="635" y="2017"/>
                      </a:lnTo>
                      <a:lnTo>
                        <a:pt x="579" y="2006"/>
                      </a:lnTo>
                      <a:lnTo>
                        <a:pt x="535" y="2006"/>
                      </a:lnTo>
                      <a:lnTo>
                        <a:pt x="490" y="2006"/>
                      </a:lnTo>
                      <a:lnTo>
                        <a:pt x="445" y="1995"/>
                      </a:lnTo>
                      <a:lnTo>
                        <a:pt x="401" y="1995"/>
                      </a:lnTo>
                      <a:lnTo>
                        <a:pt x="367" y="1983"/>
                      </a:lnTo>
                      <a:lnTo>
                        <a:pt x="323" y="1972"/>
                      </a:lnTo>
                      <a:lnTo>
                        <a:pt x="289" y="1961"/>
                      </a:lnTo>
                      <a:lnTo>
                        <a:pt x="245" y="1939"/>
                      </a:lnTo>
                      <a:lnTo>
                        <a:pt x="211" y="1894"/>
                      </a:lnTo>
                      <a:lnTo>
                        <a:pt x="200" y="1805"/>
                      </a:lnTo>
                      <a:lnTo>
                        <a:pt x="189" y="1705"/>
                      </a:lnTo>
                      <a:lnTo>
                        <a:pt x="200" y="1582"/>
                      </a:lnTo>
                      <a:lnTo>
                        <a:pt x="211" y="1437"/>
                      </a:lnTo>
                      <a:lnTo>
                        <a:pt x="222" y="1281"/>
                      </a:lnTo>
                      <a:lnTo>
                        <a:pt x="245" y="1114"/>
                      </a:lnTo>
                      <a:lnTo>
                        <a:pt x="222" y="1114"/>
                      </a:lnTo>
                      <a:lnTo>
                        <a:pt x="211" y="1103"/>
                      </a:lnTo>
                      <a:lnTo>
                        <a:pt x="200" y="1103"/>
                      </a:lnTo>
                      <a:lnTo>
                        <a:pt x="178" y="1103"/>
                      </a:lnTo>
                      <a:lnTo>
                        <a:pt x="167" y="1103"/>
                      </a:lnTo>
                      <a:lnTo>
                        <a:pt x="144" y="1103"/>
                      </a:lnTo>
                      <a:lnTo>
                        <a:pt x="133" y="1103"/>
                      </a:lnTo>
                      <a:lnTo>
                        <a:pt x="111" y="1103"/>
                      </a:lnTo>
                      <a:lnTo>
                        <a:pt x="100" y="1092"/>
                      </a:lnTo>
                      <a:lnTo>
                        <a:pt x="89" y="1092"/>
                      </a:lnTo>
                      <a:lnTo>
                        <a:pt x="78" y="1092"/>
                      </a:lnTo>
                      <a:lnTo>
                        <a:pt x="55" y="1092"/>
                      </a:lnTo>
                      <a:lnTo>
                        <a:pt x="44" y="1081"/>
                      </a:lnTo>
                      <a:lnTo>
                        <a:pt x="33" y="1081"/>
                      </a:lnTo>
                      <a:lnTo>
                        <a:pt x="22" y="1069"/>
                      </a:lnTo>
                      <a:lnTo>
                        <a:pt x="22" y="1058"/>
                      </a:lnTo>
                      <a:lnTo>
                        <a:pt x="11" y="1014"/>
                      </a:lnTo>
                      <a:lnTo>
                        <a:pt x="0" y="947"/>
                      </a:lnTo>
                      <a:lnTo>
                        <a:pt x="0" y="880"/>
                      </a:lnTo>
                      <a:lnTo>
                        <a:pt x="0" y="802"/>
                      </a:lnTo>
                      <a:lnTo>
                        <a:pt x="11" y="724"/>
                      </a:lnTo>
                      <a:lnTo>
                        <a:pt x="11" y="657"/>
                      </a:lnTo>
                      <a:lnTo>
                        <a:pt x="22" y="601"/>
                      </a:lnTo>
                      <a:lnTo>
                        <a:pt x="33" y="568"/>
                      </a:lnTo>
                      <a:lnTo>
                        <a:pt x="44" y="557"/>
                      </a:lnTo>
                      <a:lnTo>
                        <a:pt x="55" y="557"/>
                      </a:lnTo>
                      <a:lnTo>
                        <a:pt x="66" y="546"/>
                      </a:lnTo>
                      <a:lnTo>
                        <a:pt x="78" y="546"/>
                      </a:lnTo>
                      <a:lnTo>
                        <a:pt x="89" y="546"/>
                      </a:lnTo>
                      <a:lnTo>
                        <a:pt x="100" y="546"/>
                      </a:lnTo>
                      <a:lnTo>
                        <a:pt x="122" y="535"/>
                      </a:lnTo>
                      <a:lnTo>
                        <a:pt x="133" y="535"/>
                      </a:lnTo>
                      <a:lnTo>
                        <a:pt x="144" y="535"/>
                      </a:lnTo>
                      <a:lnTo>
                        <a:pt x="167" y="546"/>
                      </a:lnTo>
                      <a:lnTo>
                        <a:pt x="178" y="546"/>
                      </a:lnTo>
                      <a:lnTo>
                        <a:pt x="189" y="546"/>
                      </a:lnTo>
                      <a:lnTo>
                        <a:pt x="211" y="546"/>
                      </a:lnTo>
                      <a:lnTo>
                        <a:pt x="222" y="546"/>
                      </a:lnTo>
                      <a:lnTo>
                        <a:pt x="245" y="546"/>
                      </a:lnTo>
                      <a:lnTo>
                        <a:pt x="256" y="546"/>
                      </a:lnTo>
                      <a:lnTo>
                        <a:pt x="267" y="434"/>
                      </a:lnTo>
                      <a:lnTo>
                        <a:pt x="278" y="323"/>
                      </a:lnTo>
                      <a:lnTo>
                        <a:pt x="278" y="211"/>
                      </a:lnTo>
                      <a:lnTo>
                        <a:pt x="289" y="122"/>
                      </a:lnTo>
                      <a:close/>
                    </a:path>
                  </a:pathLst>
                </a:custGeom>
                <a:solidFill>
                  <a:srgbClr val="ffebb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Freeform 827"/>
                <p:cNvSpPr/>
                <p:nvPr/>
              </p:nvSpPr>
              <p:spPr>
                <a:xfrm rot="111600">
                  <a:off x="1103040" y="1259280"/>
                  <a:ext cx="123120" cy="17640"/>
                </a:xfrm>
                <a:custGeom>
                  <a:avLst/>
                  <a:gdLst>
                    <a:gd name="textAreaLeft" fmla="*/ 0 w 123120"/>
                    <a:gd name="textAreaRight" fmla="*/ 123120 w 123120"/>
                    <a:gd name="textAreaTop" fmla="*/ 0 h 17640"/>
                    <a:gd name="textAreaBottom" fmla="*/ 18000 h 17640"/>
                  </a:gdLst>
                  <a:ahLst/>
                  <a:rect l="textAreaLeft" t="textAreaTop" r="textAreaRight" b="textAreaBottom"/>
                  <a:pathLst>
                    <a:path w="1260" h="134">
                      <a:moveTo>
                        <a:pt x="1260" y="134"/>
                      </a:moveTo>
                      <a:lnTo>
                        <a:pt x="1248" y="123"/>
                      </a:lnTo>
                      <a:lnTo>
                        <a:pt x="1215" y="101"/>
                      </a:lnTo>
                      <a:lnTo>
                        <a:pt x="1170" y="90"/>
                      </a:lnTo>
                      <a:lnTo>
                        <a:pt x="1137" y="78"/>
                      </a:lnTo>
                      <a:lnTo>
                        <a:pt x="1092" y="67"/>
                      </a:lnTo>
                      <a:lnTo>
                        <a:pt x="1059" y="56"/>
                      </a:lnTo>
                      <a:lnTo>
                        <a:pt x="1014" y="45"/>
                      </a:lnTo>
                      <a:lnTo>
                        <a:pt x="981" y="45"/>
                      </a:lnTo>
                      <a:lnTo>
                        <a:pt x="936" y="34"/>
                      </a:lnTo>
                      <a:lnTo>
                        <a:pt x="903" y="23"/>
                      </a:lnTo>
                      <a:lnTo>
                        <a:pt x="858" y="23"/>
                      </a:lnTo>
                      <a:lnTo>
                        <a:pt x="814" y="12"/>
                      </a:lnTo>
                      <a:lnTo>
                        <a:pt x="780" y="12"/>
                      </a:lnTo>
                      <a:lnTo>
                        <a:pt x="736" y="0"/>
                      </a:lnTo>
                      <a:lnTo>
                        <a:pt x="702" y="0"/>
                      </a:lnTo>
                      <a:lnTo>
                        <a:pt x="658" y="0"/>
                      </a:lnTo>
                      <a:lnTo>
                        <a:pt x="624" y="0"/>
                      </a:lnTo>
                      <a:lnTo>
                        <a:pt x="580" y="0"/>
                      </a:lnTo>
                      <a:lnTo>
                        <a:pt x="535" y="0"/>
                      </a:lnTo>
                      <a:lnTo>
                        <a:pt x="502" y="0"/>
                      </a:lnTo>
                      <a:lnTo>
                        <a:pt x="457" y="12"/>
                      </a:lnTo>
                      <a:lnTo>
                        <a:pt x="424" y="12"/>
                      </a:lnTo>
                      <a:lnTo>
                        <a:pt x="379" y="12"/>
                      </a:lnTo>
                      <a:lnTo>
                        <a:pt x="346" y="23"/>
                      </a:lnTo>
                      <a:lnTo>
                        <a:pt x="301" y="34"/>
                      </a:lnTo>
                      <a:lnTo>
                        <a:pt x="268" y="34"/>
                      </a:lnTo>
                      <a:lnTo>
                        <a:pt x="223" y="45"/>
                      </a:lnTo>
                      <a:lnTo>
                        <a:pt x="190" y="56"/>
                      </a:lnTo>
                      <a:lnTo>
                        <a:pt x="156" y="67"/>
                      </a:lnTo>
                      <a:lnTo>
                        <a:pt x="112" y="78"/>
                      </a:lnTo>
                      <a:lnTo>
                        <a:pt x="78" y="90"/>
                      </a:lnTo>
                      <a:lnTo>
                        <a:pt x="45" y="101"/>
                      </a:lnTo>
                      <a:lnTo>
                        <a:pt x="0" y="123"/>
                      </a:lnTo>
                      <a:lnTo>
                        <a:pt x="11" y="134"/>
                      </a:lnTo>
                      <a:lnTo>
                        <a:pt x="45" y="123"/>
                      </a:lnTo>
                      <a:lnTo>
                        <a:pt x="78" y="112"/>
                      </a:lnTo>
                      <a:lnTo>
                        <a:pt x="123" y="101"/>
                      </a:lnTo>
                      <a:lnTo>
                        <a:pt x="156" y="90"/>
                      </a:lnTo>
                      <a:lnTo>
                        <a:pt x="190" y="78"/>
                      </a:lnTo>
                      <a:lnTo>
                        <a:pt x="234" y="67"/>
                      </a:lnTo>
                      <a:lnTo>
                        <a:pt x="268" y="56"/>
                      </a:lnTo>
                      <a:lnTo>
                        <a:pt x="312" y="45"/>
                      </a:lnTo>
                      <a:lnTo>
                        <a:pt x="346" y="45"/>
                      </a:lnTo>
                      <a:lnTo>
                        <a:pt x="390" y="34"/>
                      </a:lnTo>
                      <a:lnTo>
                        <a:pt x="424" y="34"/>
                      </a:lnTo>
                      <a:lnTo>
                        <a:pt x="457" y="23"/>
                      </a:lnTo>
                      <a:lnTo>
                        <a:pt x="502" y="23"/>
                      </a:lnTo>
                      <a:lnTo>
                        <a:pt x="535" y="23"/>
                      </a:lnTo>
                      <a:lnTo>
                        <a:pt x="580" y="23"/>
                      </a:lnTo>
                      <a:lnTo>
                        <a:pt x="624" y="23"/>
                      </a:lnTo>
                      <a:lnTo>
                        <a:pt x="658" y="23"/>
                      </a:lnTo>
                      <a:lnTo>
                        <a:pt x="702" y="23"/>
                      </a:lnTo>
                      <a:lnTo>
                        <a:pt x="736" y="23"/>
                      </a:lnTo>
                      <a:lnTo>
                        <a:pt x="780" y="23"/>
                      </a:lnTo>
                      <a:lnTo>
                        <a:pt x="814" y="34"/>
                      </a:lnTo>
                      <a:lnTo>
                        <a:pt x="858" y="34"/>
                      </a:lnTo>
                      <a:lnTo>
                        <a:pt x="892" y="45"/>
                      </a:lnTo>
                      <a:lnTo>
                        <a:pt x="936" y="45"/>
                      </a:lnTo>
                      <a:lnTo>
                        <a:pt x="970" y="56"/>
                      </a:lnTo>
                      <a:lnTo>
                        <a:pt x="1014" y="67"/>
                      </a:lnTo>
                      <a:lnTo>
                        <a:pt x="1048" y="78"/>
                      </a:lnTo>
                      <a:lnTo>
                        <a:pt x="1092" y="90"/>
                      </a:lnTo>
                      <a:lnTo>
                        <a:pt x="1126" y="101"/>
                      </a:lnTo>
                      <a:lnTo>
                        <a:pt x="1170" y="112"/>
                      </a:lnTo>
                      <a:lnTo>
                        <a:pt x="1204" y="123"/>
                      </a:lnTo>
                      <a:lnTo>
                        <a:pt x="1237" y="134"/>
                      </a:lnTo>
                      <a:lnTo>
                        <a:pt x="1260" y="134"/>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Freeform 826"/>
                <p:cNvSpPr/>
                <p:nvPr/>
              </p:nvSpPr>
              <p:spPr>
                <a:xfrm rot="111600">
                  <a:off x="1217880" y="1279080"/>
                  <a:ext cx="6480" cy="70920"/>
                </a:xfrm>
                <a:custGeom>
                  <a:avLst/>
                  <a:gdLst>
                    <a:gd name="textAreaLeft" fmla="*/ 0 w 6480"/>
                    <a:gd name="textAreaRight" fmla="*/ 6840 w 6480"/>
                    <a:gd name="textAreaTop" fmla="*/ 0 h 70920"/>
                    <a:gd name="textAreaBottom" fmla="*/ 71280 h 70920"/>
                  </a:gdLst>
                  <a:ahLst/>
                  <a:rect l="textAreaLeft" t="textAreaTop" r="textAreaRight" b="textAreaBottom"/>
                  <a:pathLst>
                    <a:path w="67" h="535">
                      <a:moveTo>
                        <a:pt x="55" y="513"/>
                      </a:moveTo>
                      <a:lnTo>
                        <a:pt x="67" y="524"/>
                      </a:lnTo>
                      <a:lnTo>
                        <a:pt x="33" y="424"/>
                      </a:lnTo>
                      <a:lnTo>
                        <a:pt x="22" y="334"/>
                      </a:lnTo>
                      <a:lnTo>
                        <a:pt x="11" y="256"/>
                      </a:lnTo>
                      <a:lnTo>
                        <a:pt x="22" y="201"/>
                      </a:lnTo>
                      <a:lnTo>
                        <a:pt x="33" y="145"/>
                      </a:lnTo>
                      <a:lnTo>
                        <a:pt x="44" y="100"/>
                      </a:lnTo>
                      <a:lnTo>
                        <a:pt x="55" y="45"/>
                      </a:lnTo>
                      <a:lnTo>
                        <a:pt x="67" y="0"/>
                      </a:lnTo>
                      <a:lnTo>
                        <a:pt x="44" y="0"/>
                      </a:lnTo>
                      <a:lnTo>
                        <a:pt x="44" y="45"/>
                      </a:lnTo>
                      <a:lnTo>
                        <a:pt x="33" y="89"/>
                      </a:lnTo>
                      <a:lnTo>
                        <a:pt x="11" y="145"/>
                      </a:lnTo>
                      <a:lnTo>
                        <a:pt x="0" y="201"/>
                      </a:lnTo>
                      <a:lnTo>
                        <a:pt x="0" y="256"/>
                      </a:lnTo>
                      <a:lnTo>
                        <a:pt x="0" y="334"/>
                      </a:lnTo>
                      <a:lnTo>
                        <a:pt x="11" y="424"/>
                      </a:lnTo>
                      <a:lnTo>
                        <a:pt x="44" y="524"/>
                      </a:lnTo>
                      <a:lnTo>
                        <a:pt x="55" y="535"/>
                      </a:lnTo>
                      <a:lnTo>
                        <a:pt x="55" y="513"/>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Freeform 825"/>
                <p:cNvSpPr/>
                <p:nvPr/>
              </p:nvSpPr>
              <p:spPr>
                <a:xfrm rot="111600">
                  <a:off x="1222200" y="1346040"/>
                  <a:ext cx="19440" cy="5760"/>
                </a:xfrm>
                <a:custGeom>
                  <a:avLst/>
                  <a:gdLst>
                    <a:gd name="textAreaLeft" fmla="*/ 0 w 19440"/>
                    <a:gd name="textAreaRight" fmla="*/ 19440 w 19440"/>
                    <a:gd name="textAreaTop" fmla="*/ 0 h 5760"/>
                    <a:gd name="textAreaBottom" fmla="*/ 6120 h 5760"/>
                  </a:gdLst>
                  <a:ahLst/>
                  <a:rect l="textAreaLeft" t="textAreaTop" r="textAreaRight" b="textAreaBottom"/>
                  <a:pathLst>
                    <a:path w="201" h="44">
                      <a:moveTo>
                        <a:pt x="190" y="33"/>
                      </a:moveTo>
                      <a:lnTo>
                        <a:pt x="201" y="44"/>
                      </a:lnTo>
                      <a:lnTo>
                        <a:pt x="179" y="22"/>
                      </a:lnTo>
                      <a:lnTo>
                        <a:pt x="157" y="0"/>
                      </a:lnTo>
                      <a:lnTo>
                        <a:pt x="134" y="0"/>
                      </a:lnTo>
                      <a:lnTo>
                        <a:pt x="112" y="0"/>
                      </a:lnTo>
                      <a:lnTo>
                        <a:pt x="90" y="0"/>
                      </a:lnTo>
                      <a:lnTo>
                        <a:pt x="56" y="0"/>
                      </a:lnTo>
                      <a:lnTo>
                        <a:pt x="34" y="11"/>
                      </a:lnTo>
                      <a:lnTo>
                        <a:pt x="0" y="11"/>
                      </a:lnTo>
                      <a:lnTo>
                        <a:pt x="0" y="33"/>
                      </a:lnTo>
                      <a:lnTo>
                        <a:pt x="34" y="22"/>
                      </a:lnTo>
                      <a:lnTo>
                        <a:pt x="56" y="22"/>
                      </a:lnTo>
                      <a:lnTo>
                        <a:pt x="90" y="22"/>
                      </a:lnTo>
                      <a:lnTo>
                        <a:pt x="112" y="22"/>
                      </a:lnTo>
                      <a:lnTo>
                        <a:pt x="134" y="22"/>
                      </a:lnTo>
                      <a:lnTo>
                        <a:pt x="157" y="22"/>
                      </a:lnTo>
                      <a:lnTo>
                        <a:pt x="168" y="33"/>
                      </a:lnTo>
                      <a:lnTo>
                        <a:pt x="179" y="44"/>
                      </a:lnTo>
                      <a:lnTo>
                        <a:pt x="190" y="33"/>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Freeform 824"/>
                <p:cNvSpPr/>
                <p:nvPr/>
              </p:nvSpPr>
              <p:spPr>
                <a:xfrm rot="111600">
                  <a:off x="1239120" y="1351080"/>
                  <a:ext cx="3960" cy="56160"/>
                </a:xfrm>
                <a:custGeom>
                  <a:avLst/>
                  <a:gdLst>
                    <a:gd name="textAreaLeft" fmla="*/ 0 w 3960"/>
                    <a:gd name="textAreaRight" fmla="*/ 4320 w 3960"/>
                    <a:gd name="textAreaTop" fmla="*/ 0 h 56160"/>
                    <a:gd name="textAreaBottom" fmla="*/ 56520 h 56160"/>
                  </a:gdLst>
                  <a:ahLst/>
                  <a:rect l="textAreaLeft" t="textAreaTop" r="textAreaRight" b="textAreaBottom"/>
                  <a:pathLst>
                    <a:path w="44" h="424">
                      <a:moveTo>
                        <a:pt x="11" y="424"/>
                      </a:moveTo>
                      <a:lnTo>
                        <a:pt x="22" y="412"/>
                      </a:lnTo>
                      <a:lnTo>
                        <a:pt x="22" y="368"/>
                      </a:lnTo>
                      <a:lnTo>
                        <a:pt x="33" y="312"/>
                      </a:lnTo>
                      <a:lnTo>
                        <a:pt x="44" y="256"/>
                      </a:lnTo>
                      <a:lnTo>
                        <a:pt x="44" y="201"/>
                      </a:lnTo>
                      <a:lnTo>
                        <a:pt x="44" y="145"/>
                      </a:lnTo>
                      <a:lnTo>
                        <a:pt x="44" y="89"/>
                      </a:lnTo>
                      <a:lnTo>
                        <a:pt x="33" y="45"/>
                      </a:lnTo>
                      <a:lnTo>
                        <a:pt x="11" y="0"/>
                      </a:lnTo>
                      <a:lnTo>
                        <a:pt x="0" y="11"/>
                      </a:lnTo>
                      <a:lnTo>
                        <a:pt x="11" y="45"/>
                      </a:lnTo>
                      <a:lnTo>
                        <a:pt x="22" y="89"/>
                      </a:lnTo>
                      <a:lnTo>
                        <a:pt x="22" y="145"/>
                      </a:lnTo>
                      <a:lnTo>
                        <a:pt x="22" y="201"/>
                      </a:lnTo>
                      <a:lnTo>
                        <a:pt x="22" y="256"/>
                      </a:lnTo>
                      <a:lnTo>
                        <a:pt x="11" y="312"/>
                      </a:lnTo>
                      <a:lnTo>
                        <a:pt x="11" y="368"/>
                      </a:lnTo>
                      <a:lnTo>
                        <a:pt x="0" y="412"/>
                      </a:lnTo>
                      <a:lnTo>
                        <a:pt x="11" y="424"/>
                      </a:lnTo>
                      <a:close/>
                    </a:path>
                  </a:pathLst>
                </a:custGeom>
                <a:solidFill>
                  <a:srgbClr val="000000"/>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823"/>
                <p:cNvSpPr/>
                <p:nvPr/>
              </p:nvSpPr>
              <p:spPr>
                <a:xfrm rot="111600">
                  <a:off x="1217160" y="1405080"/>
                  <a:ext cx="21600" cy="11880"/>
                </a:xfrm>
                <a:custGeom>
                  <a:avLst/>
                  <a:gdLst>
                    <a:gd name="textAreaLeft" fmla="*/ 0 w 21600"/>
                    <a:gd name="textAreaRight" fmla="*/ 21960 w 21600"/>
                    <a:gd name="textAreaTop" fmla="*/ 0 h 11880"/>
                    <a:gd name="textAreaBottom" fmla="*/ 12240 h 11880"/>
                  </a:gdLst>
                  <a:ahLst/>
                  <a:rect l="textAreaLeft" t="textAreaTop" r="textAreaRight" b="textAreaBottom"/>
                  <a:pathLst>
                    <a:path w="223" h="90">
                      <a:moveTo>
                        <a:pt x="11" y="79"/>
                      </a:moveTo>
                      <a:lnTo>
                        <a:pt x="0" y="90"/>
                      </a:lnTo>
                      <a:lnTo>
                        <a:pt x="11" y="90"/>
                      </a:lnTo>
                      <a:lnTo>
                        <a:pt x="22" y="90"/>
                      </a:lnTo>
                      <a:lnTo>
                        <a:pt x="45" y="79"/>
                      </a:lnTo>
                      <a:lnTo>
                        <a:pt x="56" y="79"/>
                      </a:lnTo>
                      <a:lnTo>
                        <a:pt x="78" y="79"/>
                      </a:lnTo>
                      <a:lnTo>
                        <a:pt x="89" y="79"/>
                      </a:lnTo>
                      <a:lnTo>
                        <a:pt x="111" y="67"/>
                      </a:lnTo>
                      <a:lnTo>
                        <a:pt x="123" y="67"/>
                      </a:lnTo>
                      <a:lnTo>
                        <a:pt x="134" y="56"/>
                      </a:lnTo>
                      <a:lnTo>
                        <a:pt x="156" y="56"/>
                      </a:lnTo>
                      <a:lnTo>
                        <a:pt x="167" y="45"/>
                      </a:lnTo>
                      <a:lnTo>
                        <a:pt x="190" y="45"/>
                      </a:lnTo>
                      <a:lnTo>
                        <a:pt x="201" y="34"/>
                      </a:lnTo>
                      <a:lnTo>
                        <a:pt x="212" y="23"/>
                      </a:lnTo>
                      <a:lnTo>
                        <a:pt x="223" y="12"/>
                      </a:lnTo>
                      <a:lnTo>
                        <a:pt x="212" y="0"/>
                      </a:lnTo>
                      <a:lnTo>
                        <a:pt x="201" y="12"/>
                      </a:lnTo>
                      <a:lnTo>
                        <a:pt x="190" y="12"/>
                      </a:lnTo>
                      <a:lnTo>
                        <a:pt x="178" y="23"/>
                      </a:lnTo>
                      <a:lnTo>
                        <a:pt x="167" y="23"/>
                      </a:lnTo>
                      <a:lnTo>
                        <a:pt x="145" y="34"/>
                      </a:lnTo>
                      <a:lnTo>
                        <a:pt x="134" y="45"/>
                      </a:lnTo>
                      <a:lnTo>
                        <a:pt x="123" y="45"/>
                      </a:lnTo>
                      <a:lnTo>
                        <a:pt x="100" y="45"/>
                      </a:lnTo>
                      <a:lnTo>
                        <a:pt x="89" y="56"/>
                      </a:lnTo>
                      <a:lnTo>
                        <a:pt x="67" y="56"/>
                      </a:lnTo>
                      <a:lnTo>
                        <a:pt x="56" y="67"/>
                      </a:lnTo>
                      <a:lnTo>
                        <a:pt x="45" y="67"/>
                      </a:lnTo>
                      <a:lnTo>
                        <a:pt x="22" y="67"/>
                      </a:lnTo>
                      <a:lnTo>
                        <a:pt x="11" y="67"/>
                      </a:lnTo>
                      <a:lnTo>
                        <a:pt x="0" y="67"/>
                      </a:lnTo>
                      <a:lnTo>
                        <a:pt x="0" y="79"/>
                      </a:lnTo>
                      <a:lnTo>
                        <a:pt x="11" y="79"/>
                      </a:lnTo>
                      <a:close/>
                    </a:path>
                  </a:pathLst>
                </a:cu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Freeform 822"/>
                <p:cNvSpPr/>
                <p:nvPr/>
              </p:nvSpPr>
              <p:spPr>
                <a:xfrm rot="111600">
                  <a:off x="1216080" y="1415520"/>
                  <a:ext cx="5400" cy="65160"/>
                </a:xfrm>
                <a:custGeom>
                  <a:avLst/>
                  <a:gdLst>
                    <a:gd name="textAreaLeft" fmla="*/ 0 w 5400"/>
                    <a:gd name="textAreaRight" fmla="*/ 5760 w 5400"/>
                    <a:gd name="textAreaTop" fmla="*/ 0 h 65160"/>
                    <a:gd name="textAreaBottom" fmla="*/ 65520 h 65160"/>
                  </a:gdLst>
                  <a:ahLst/>
                  <a:rect l="textAreaLeft" t="textAreaTop" r="textAreaRight" b="textAreaBottom"/>
                  <a:pathLst>
                    <a:path w="56" h="490">
                      <a:moveTo>
                        <a:pt x="56" y="490"/>
                      </a:moveTo>
                      <a:lnTo>
                        <a:pt x="56" y="490"/>
                      </a:lnTo>
                      <a:lnTo>
                        <a:pt x="56" y="445"/>
                      </a:lnTo>
                      <a:lnTo>
                        <a:pt x="45" y="390"/>
                      </a:lnTo>
                      <a:lnTo>
                        <a:pt x="45" y="323"/>
                      </a:lnTo>
                      <a:lnTo>
                        <a:pt x="45" y="267"/>
                      </a:lnTo>
                      <a:lnTo>
                        <a:pt x="33" y="211"/>
                      </a:lnTo>
                      <a:lnTo>
                        <a:pt x="22" y="144"/>
                      </a:lnTo>
                      <a:lnTo>
                        <a:pt x="22" y="78"/>
                      </a:lnTo>
                      <a:lnTo>
                        <a:pt x="11" y="0"/>
                      </a:lnTo>
                      <a:lnTo>
                        <a:pt x="0" y="0"/>
                      </a:lnTo>
                      <a:lnTo>
                        <a:pt x="0" y="78"/>
                      </a:lnTo>
                      <a:lnTo>
                        <a:pt x="11" y="144"/>
                      </a:lnTo>
                      <a:lnTo>
                        <a:pt x="11" y="211"/>
                      </a:lnTo>
                      <a:lnTo>
                        <a:pt x="22" y="267"/>
                      </a:lnTo>
                      <a:lnTo>
                        <a:pt x="22" y="323"/>
                      </a:lnTo>
                      <a:lnTo>
                        <a:pt x="33" y="390"/>
                      </a:lnTo>
                      <a:lnTo>
                        <a:pt x="33" y="445"/>
                      </a:lnTo>
                      <a:lnTo>
                        <a:pt x="33" y="490"/>
                      </a:lnTo>
                      <a:lnTo>
                        <a:pt x="56" y="490"/>
                      </a:lnTo>
                      <a:close/>
                    </a:path>
                  </a:pathLst>
                </a:custGeom>
                <a:solidFill>
                  <a:srgbClr val="000000"/>
                </a:solidFill>
                <a:ln w="0">
                  <a:noFill/>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Freeform 821"/>
                <p:cNvSpPr/>
                <p:nvPr/>
              </p:nvSpPr>
              <p:spPr>
                <a:xfrm rot="111600">
                  <a:off x="1214280" y="1480680"/>
                  <a:ext cx="5400" cy="33840"/>
                </a:xfrm>
                <a:custGeom>
                  <a:avLst/>
                  <a:gdLst>
                    <a:gd name="textAreaLeft" fmla="*/ 0 w 5400"/>
                    <a:gd name="textAreaRight" fmla="*/ 5760 w 5400"/>
                    <a:gd name="textAreaTop" fmla="*/ 0 h 33840"/>
                    <a:gd name="textAreaBottom" fmla="*/ 34200 h 33840"/>
                  </a:gdLst>
                  <a:ahLst/>
                  <a:rect l="textAreaLeft" t="textAreaTop" r="textAreaRight" b="textAreaBottom"/>
                  <a:pathLst>
                    <a:path w="56" h="256">
                      <a:moveTo>
                        <a:pt x="11" y="256"/>
                      </a:moveTo>
                      <a:lnTo>
                        <a:pt x="11" y="256"/>
                      </a:lnTo>
                      <a:lnTo>
                        <a:pt x="22" y="245"/>
                      </a:lnTo>
                      <a:lnTo>
                        <a:pt x="33" y="223"/>
                      </a:lnTo>
                      <a:lnTo>
                        <a:pt x="33" y="201"/>
                      </a:lnTo>
                      <a:lnTo>
                        <a:pt x="45" y="167"/>
                      </a:lnTo>
                      <a:lnTo>
                        <a:pt x="56" y="134"/>
                      </a:lnTo>
                      <a:lnTo>
                        <a:pt x="56" y="100"/>
                      </a:lnTo>
                      <a:lnTo>
                        <a:pt x="56" y="56"/>
                      </a:lnTo>
                      <a:lnTo>
                        <a:pt x="56" y="0"/>
                      </a:lnTo>
                      <a:lnTo>
                        <a:pt x="33" y="0"/>
                      </a:lnTo>
                      <a:lnTo>
                        <a:pt x="33" y="56"/>
                      </a:lnTo>
                      <a:lnTo>
                        <a:pt x="33" y="100"/>
                      </a:lnTo>
                      <a:lnTo>
                        <a:pt x="33" y="134"/>
                      </a:lnTo>
                      <a:lnTo>
                        <a:pt x="22" y="167"/>
                      </a:lnTo>
                      <a:lnTo>
                        <a:pt x="22" y="201"/>
                      </a:lnTo>
                      <a:lnTo>
                        <a:pt x="11" y="223"/>
                      </a:lnTo>
                      <a:lnTo>
                        <a:pt x="0" y="234"/>
                      </a:lnTo>
                      <a:lnTo>
                        <a:pt x="0" y="245"/>
                      </a:lnTo>
                      <a:lnTo>
                        <a:pt x="11" y="25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Freeform 820"/>
                <p:cNvSpPr/>
                <p:nvPr/>
              </p:nvSpPr>
              <p:spPr>
                <a:xfrm rot="111600">
                  <a:off x="1095120" y="1511280"/>
                  <a:ext cx="119520" cy="19080"/>
                </a:xfrm>
                <a:custGeom>
                  <a:avLst/>
                  <a:gdLst>
                    <a:gd name="textAreaLeft" fmla="*/ 0 w 119520"/>
                    <a:gd name="textAreaRight" fmla="*/ 119880 w 119520"/>
                    <a:gd name="textAreaTop" fmla="*/ 0 h 19080"/>
                    <a:gd name="textAreaBottom" fmla="*/ 19440 h 19080"/>
                  </a:gdLst>
                  <a:ahLst/>
                  <a:rect l="textAreaLeft" t="textAreaTop" r="textAreaRight" b="textAreaBottom"/>
                  <a:pathLst>
                    <a:path w="1226" h="145">
                      <a:moveTo>
                        <a:pt x="11" y="89"/>
                      </a:moveTo>
                      <a:lnTo>
                        <a:pt x="0" y="89"/>
                      </a:lnTo>
                      <a:lnTo>
                        <a:pt x="45" y="100"/>
                      </a:lnTo>
                      <a:lnTo>
                        <a:pt x="78" y="112"/>
                      </a:lnTo>
                      <a:lnTo>
                        <a:pt x="123" y="112"/>
                      </a:lnTo>
                      <a:lnTo>
                        <a:pt x="167" y="123"/>
                      </a:lnTo>
                      <a:lnTo>
                        <a:pt x="212" y="123"/>
                      </a:lnTo>
                      <a:lnTo>
                        <a:pt x="257" y="134"/>
                      </a:lnTo>
                      <a:lnTo>
                        <a:pt x="301" y="134"/>
                      </a:lnTo>
                      <a:lnTo>
                        <a:pt x="357" y="145"/>
                      </a:lnTo>
                      <a:lnTo>
                        <a:pt x="401" y="145"/>
                      </a:lnTo>
                      <a:lnTo>
                        <a:pt x="446" y="145"/>
                      </a:lnTo>
                      <a:lnTo>
                        <a:pt x="502" y="145"/>
                      </a:lnTo>
                      <a:lnTo>
                        <a:pt x="546" y="145"/>
                      </a:lnTo>
                      <a:lnTo>
                        <a:pt x="591" y="145"/>
                      </a:lnTo>
                      <a:lnTo>
                        <a:pt x="635" y="145"/>
                      </a:lnTo>
                      <a:lnTo>
                        <a:pt x="691" y="145"/>
                      </a:lnTo>
                      <a:lnTo>
                        <a:pt x="736" y="134"/>
                      </a:lnTo>
                      <a:lnTo>
                        <a:pt x="780" y="134"/>
                      </a:lnTo>
                      <a:lnTo>
                        <a:pt x="825" y="134"/>
                      </a:lnTo>
                      <a:lnTo>
                        <a:pt x="870" y="123"/>
                      </a:lnTo>
                      <a:lnTo>
                        <a:pt x="903" y="123"/>
                      </a:lnTo>
                      <a:lnTo>
                        <a:pt x="948" y="112"/>
                      </a:lnTo>
                      <a:lnTo>
                        <a:pt x="981" y="112"/>
                      </a:lnTo>
                      <a:lnTo>
                        <a:pt x="1026" y="100"/>
                      </a:lnTo>
                      <a:lnTo>
                        <a:pt x="1059" y="100"/>
                      </a:lnTo>
                      <a:lnTo>
                        <a:pt x="1092" y="89"/>
                      </a:lnTo>
                      <a:lnTo>
                        <a:pt x="1115" y="78"/>
                      </a:lnTo>
                      <a:lnTo>
                        <a:pt x="1137" y="67"/>
                      </a:lnTo>
                      <a:lnTo>
                        <a:pt x="1170" y="56"/>
                      </a:lnTo>
                      <a:lnTo>
                        <a:pt x="1182" y="45"/>
                      </a:lnTo>
                      <a:lnTo>
                        <a:pt x="1204" y="34"/>
                      </a:lnTo>
                      <a:lnTo>
                        <a:pt x="1215" y="22"/>
                      </a:lnTo>
                      <a:lnTo>
                        <a:pt x="1226" y="11"/>
                      </a:lnTo>
                      <a:lnTo>
                        <a:pt x="1215" y="0"/>
                      </a:lnTo>
                      <a:lnTo>
                        <a:pt x="1204" y="11"/>
                      </a:lnTo>
                      <a:lnTo>
                        <a:pt x="1193" y="22"/>
                      </a:lnTo>
                      <a:lnTo>
                        <a:pt x="1182" y="34"/>
                      </a:lnTo>
                      <a:lnTo>
                        <a:pt x="1159" y="45"/>
                      </a:lnTo>
                      <a:lnTo>
                        <a:pt x="1137" y="45"/>
                      </a:lnTo>
                      <a:lnTo>
                        <a:pt x="1115" y="56"/>
                      </a:lnTo>
                      <a:lnTo>
                        <a:pt x="1081" y="67"/>
                      </a:lnTo>
                      <a:lnTo>
                        <a:pt x="1048" y="78"/>
                      </a:lnTo>
                      <a:lnTo>
                        <a:pt x="1014" y="78"/>
                      </a:lnTo>
                      <a:lnTo>
                        <a:pt x="981" y="89"/>
                      </a:lnTo>
                      <a:lnTo>
                        <a:pt x="948" y="100"/>
                      </a:lnTo>
                      <a:lnTo>
                        <a:pt x="903" y="100"/>
                      </a:lnTo>
                      <a:lnTo>
                        <a:pt x="870" y="112"/>
                      </a:lnTo>
                      <a:lnTo>
                        <a:pt x="825" y="112"/>
                      </a:lnTo>
                      <a:lnTo>
                        <a:pt x="780" y="112"/>
                      </a:lnTo>
                      <a:lnTo>
                        <a:pt x="736" y="123"/>
                      </a:lnTo>
                      <a:lnTo>
                        <a:pt x="691" y="123"/>
                      </a:lnTo>
                      <a:lnTo>
                        <a:pt x="635" y="123"/>
                      </a:lnTo>
                      <a:lnTo>
                        <a:pt x="591" y="123"/>
                      </a:lnTo>
                      <a:lnTo>
                        <a:pt x="546" y="123"/>
                      </a:lnTo>
                      <a:lnTo>
                        <a:pt x="502" y="123"/>
                      </a:lnTo>
                      <a:lnTo>
                        <a:pt x="446" y="123"/>
                      </a:lnTo>
                      <a:lnTo>
                        <a:pt x="401" y="123"/>
                      </a:lnTo>
                      <a:lnTo>
                        <a:pt x="357" y="123"/>
                      </a:lnTo>
                      <a:lnTo>
                        <a:pt x="301" y="123"/>
                      </a:lnTo>
                      <a:lnTo>
                        <a:pt x="257" y="112"/>
                      </a:lnTo>
                      <a:lnTo>
                        <a:pt x="212" y="112"/>
                      </a:lnTo>
                      <a:lnTo>
                        <a:pt x="167" y="100"/>
                      </a:lnTo>
                      <a:lnTo>
                        <a:pt x="123" y="100"/>
                      </a:lnTo>
                      <a:lnTo>
                        <a:pt x="89" y="89"/>
                      </a:lnTo>
                      <a:lnTo>
                        <a:pt x="45" y="78"/>
                      </a:lnTo>
                      <a:lnTo>
                        <a:pt x="11" y="67"/>
                      </a:lnTo>
                      <a:lnTo>
                        <a:pt x="11" y="89"/>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Freeform 819"/>
                <p:cNvSpPr/>
                <p:nvPr/>
              </p:nvSpPr>
              <p:spPr>
                <a:xfrm rot="111600">
                  <a:off x="1087920" y="1405440"/>
                  <a:ext cx="9720" cy="115560"/>
                </a:xfrm>
                <a:custGeom>
                  <a:avLst/>
                  <a:gdLst>
                    <a:gd name="textAreaLeft" fmla="*/ 0 w 9720"/>
                    <a:gd name="textAreaRight" fmla="*/ 10080 w 9720"/>
                    <a:gd name="textAreaTop" fmla="*/ 0 h 115560"/>
                    <a:gd name="textAreaBottom" fmla="*/ 115920 h 115560"/>
                  </a:gdLst>
                  <a:ahLst/>
                  <a:rect l="textAreaLeft" t="textAreaTop" r="textAreaRight" b="textAreaBottom"/>
                  <a:pathLst>
                    <a:path w="100" h="869">
                      <a:moveTo>
                        <a:pt x="56" y="22"/>
                      </a:moveTo>
                      <a:lnTo>
                        <a:pt x="45" y="11"/>
                      </a:lnTo>
                      <a:lnTo>
                        <a:pt x="22" y="178"/>
                      </a:lnTo>
                      <a:lnTo>
                        <a:pt x="11" y="334"/>
                      </a:lnTo>
                      <a:lnTo>
                        <a:pt x="0" y="479"/>
                      </a:lnTo>
                      <a:lnTo>
                        <a:pt x="0" y="602"/>
                      </a:lnTo>
                      <a:lnTo>
                        <a:pt x="0" y="702"/>
                      </a:lnTo>
                      <a:lnTo>
                        <a:pt x="11" y="791"/>
                      </a:lnTo>
                      <a:lnTo>
                        <a:pt x="45" y="847"/>
                      </a:lnTo>
                      <a:lnTo>
                        <a:pt x="100" y="869"/>
                      </a:lnTo>
                      <a:lnTo>
                        <a:pt x="100" y="847"/>
                      </a:lnTo>
                      <a:lnTo>
                        <a:pt x="56" y="836"/>
                      </a:lnTo>
                      <a:lnTo>
                        <a:pt x="33" y="791"/>
                      </a:lnTo>
                      <a:lnTo>
                        <a:pt x="22" y="702"/>
                      </a:lnTo>
                      <a:lnTo>
                        <a:pt x="11" y="602"/>
                      </a:lnTo>
                      <a:lnTo>
                        <a:pt x="22" y="479"/>
                      </a:lnTo>
                      <a:lnTo>
                        <a:pt x="33" y="334"/>
                      </a:lnTo>
                      <a:lnTo>
                        <a:pt x="45" y="178"/>
                      </a:lnTo>
                      <a:lnTo>
                        <a:pt x="67" y="11"/>
                      </a:lnTo>
                      <a:lnTo>
                        <a:pt x="56" y="0"/>
                      </a:ln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Freeform 818"/>
                <p:cNvSpPr/>
                <p:nvPr/>
              </p:nvSpPr>
              <p:spPr>
                <a:xfrm rot="111600">
                  <a:off x="1072440" y="1399320"/>
                  <a:ext cx="22680" cy="8640"/>
                </a:xfrm>
                <a:custGeom>
                  <a:avLst/>
                  <a:gdLst>
                    <a:gd name="textAreaLeft" fmla="*/ 0 w 22680"/>
                    <a:gd name="textAreaRight" fmla="*/ 23040 w 22680"/>
                    <a:gd name="textAreaTop" fmla="*/ 0 h 8640"/>
                    <a:gd name="textAreaBottom" fmla="*/ 9000 h 8640"/>
                  </a:gdLst>
                  <a:ahLst/>
                  <a:rect l="textAreaLeft" t="textAreaTop" r="textAreaRight" b="textAreaBottom"/>
                  <a:pathLst>
                    <a:path w="234" h="67">
                      <a:moveTo>
                        <a:pt x="0" y="0"/>
                      </a:moveTo>
                      <a:lnTo>
                        <a:pt x="0" y="11"/>
                      </a:lnTo>
                      <a:lnTo>
                        <a:pt x="11" y="23"/>
                      </a:lnTo>
                      <a:lnTo>
                        <a:pt x="22" y="23"/>
                      </a:lnTo>
                      <a:lnTo>
                        <a:pt x="33" y="34"/>
                      </a:lnTo>
                      <a:lnTo>
                        <a:pt x="44" y="34"/>
                      </a:lnTo>
                      <a:lnTo>
                        <a:pt x="55" y="45"/>
                      </a:lnTo>
                      <a:lnTo>
                        <a:pt x="78" y="45"/>
                      </a:lnTo>
                      <a:lnTo>
                        <a:pt x="89" y="45"/>
                      </a:lnTo>
                      <a:lnTo>
                        <a:pt x="100" y="45"/>
                      </a:lnTo>
                      <a:lnTo>
                        <a:pt x="122" y="56"/>
                      </a:lnTo>
                      <a:lnTo>
                        <a:pt x="133" y="56"/>
                      </a:lnTo>
                      <a:lnTo>
                        <a:pt x="156" y="56"/>
                      </a:lnTo>
                      <a:lnTo>
                        <a:pt x="167" y="56"/>
                      </a:lnTo>
                      <a:lnTo>
                        <a:pt x="189" y="56"/>
                      </a:lnTo>
                      <a:lnTo>
                        <a:pt x="200" y="56"/>
                      </a:lnTo>
                      <a:lnTo>
                        <a:pt x="211" y="56"/>
                      </a:lnTo>
                      <a:lnTo>
                        <a:pt x="234" y="67"/>
                      </a:lnTo>
                      <a:lnTo>
                        <a:pt x="234" y="45"/>
                      </a:lnTo>
                      <a:lnTo>
                        <a:pt x="223" y="45"/>
                      </a:lnTo>
                      <a:lnTo>
                        <a:pt x="200" y="34"/>
                      </a:lnTo>
                      <a:lnTo>
                        <a:pt x="189" y="34"/>
                      </a:lnTo>
                      <a:lnTo>
                        <a:pt x="167" y="34"/>
                      </a:lnTo>
                      <a:lnTo>
                        <a:pt x="156" y="34"/>
                      </a:lnTo>
                      <a:lnTo>
                        <a:pt x="133" y="34"/>
                      </a:lnTo>
                      <a:lnTo>
                        <a:pt x="122" y="34"/>
                      </a:lnTo>
                      <a:lnTo>
                        <a:pt x="100" y="34"/>
                      </a:lnTo>
                      <a:lnTo>
                        <a:pt x="89" y="34"/>
                      </a:lnTo>
                      <a:lnTo>
                        <a:pt x="78" y="23"/>
                      </a:lnTo>
                      <a:lnTo>
                        <a:pt x="67" y="23"/>
                      </a:lnTo>
                      <a:lnTo>
                        <a:pt x="55" y="23"/>
                      </a:lnTo>
                      <a:lnTo>
                        <a:pt x="44" y="11"/>
                      </a:lnTo>
                      <a:lnTo>
                        <a:pt x="33" y="11"/>
                      </a:lnTo>
                      <a:lnTo>
                        <a:pt x="22" y="0"/>
                      </a:lnTo>
                      <a:lnTo>
                        <a:pt x="11" y="0"/>
                      </a:lnTo>
                      <a:lnTo>
                        <a:pt x="0" y="0"/>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Freeform 817"/>
                <p:cNvSpPr/>
                <p:nvPr/>
              </p:nvSpPr>
              <p:spPr>
                <a:xfrm rot="111600">
                  <a:off x="1071360" y="1332360"/>
                  <a:ext cx="5400" cy="66600"/>
                </a:xfrm>
                <a:custGeom>
                  <a:avLst/>
                  <a:gdLst>
                    <a:gd name="textAreaLeft" fmla="*/ 0 w 5400"/>
                    <a:gd name="textAreaRight" fmla="*/ 5760 w 5400"/>
                    <a:gd name="textAreaTop" fmla="*/ 0 h 66600"/>
                    <a:gd name="textAreaBottom" fmla="*/ 66960 h 66600"/>
                  </a:gdLst>
                  <a:ahLst/>
                  <a:rect l="textAreaLeft" t="textAreaTop" r="textAreaRight" b="textAreaBottom"/>
                  <a:pathLst>
                    <a:path w="56" h="501">
                      <a:moveTo>
                        <a:pt x="45" y="0"/>
                      </a:moveTo>
                      <a:lnTo>
                        <a:pt x="34" y="0"/>
                      </a:lnTo>
                      <a:lnTo>
                        <a:pt x="23" y="44"/>
                      </a:lnTo>
                      <a:lnTo>
                        <a:pt x="23" y="100"/>
                      </a:lnTo>
                      <a:lnTo>
                        <a:pt x="12" y="167"/>
                      </a:lnTo>
                      <a:lnTo>
                        <a:pt x="0" y="245"/>
                      </a:lnTo>
                      <a:lnTo>
                        <a:pt x="0" y="323"/>
                      </a:lnTo>
                      <a:lnTo>
                        <a:pt x="0" y="390"/>
                      </a:lnTo>
                      <a:lnTo>
                        <a:pt x="12" y="457"/>
                      </a:lnTo>
                      <a:lnTo>
                        <a:pt x="23" y="501"/>
                      </a:lnTo>
                      <a:lnTo>
                        <a:pt x="34" y="501"/>
                      </a:lnTo>
                      <a:lnTo>
                        <a:pt x="23" y="457"/>
                      </a:lnTo>
                      <a:lnTo>
                        <a:pt x="23" y="390"/>
                      </a:lnTo>
                      <a:lnTo>
                        <a:pt x="23" y="323"/>
                      </a:lnTo>
                      <a:lnTo>
                        <a:pt x="23" y="245"/>
                      </a:lnTo>
                      <a:lnTo>
                        <a:pt x="23" y="167"/>
                      </a:lnTo>
                      <a:lnTo>
                        <a:pt x="34" y="100"/>
                      </a:lnTo>
                      <a:lnTo>
                        <a:pt x="45" y="44"/>
                      </a:lnTo>
                      <a:lnTo>
                        <a:pt x="56" y="11"/>
                      </a:lnTo>
                      <a:lnTo>
                        <a:pt x="45" y="0"/>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Freeform 816"/>
                <p:cNvSpPr/>
                <p:nvPr/>
              </p:nvSpPr>
              <p:spPr>
                <a:xfrm rot="111600">
                  <a:off x="1077120" y="1329840"/>
                  <a:ext cx="22680" cy="4320"/>
                </a:xfrm>
                <a:custGeom>
                  <a:avLst/>
                  <a:gdLst>
                    <a:gd name="textAreaLeft" fmla="*/ 0 w 22680"/>
                    <a:gd name="textAreaRight" fmla="*/ 23040 w 22680"/>
                    <a:gd name="textAreaTop" fmla="*/ 0 h 4320"/>
                    <a:gd name="textAreaBottom" fmla="*/ 4680 h 4320"/>
                  </a:gdLst>
                  <a:ahLst/>
                  <a:rect l="textAreaLeft" t="textAreaTop" r="textAreaRight" b="textAreaBottom"/>
                  <a:pathLst>
                    <a:path w="234" h="33">
                      <a:moveTo>
                        <a:pt x="223" y="11"/>
                      </a:moveTo>
                      <a:lnTo>
                        <a:pt x="223" y="11"/>
                      </a:lnTo>
                      <a:lnTo>
                        <a:pt x="212" y="0"/>
                      </a:lnTo>
                      <a:lnTo>
                        <a:pt x="189" y="0"/>
                      </a:lnTo>
                      <a:lnTo>
                        <a:pt x="178" y="0"/>
                      </a:lnTo>
                      <a:lnTo>
                        <a:pt x="156" y="0"/>
                      </a:lnTo>
                      <a:lnTo>
                        <a:pt x="145" y="0"/>
                      </a:lnTo>
                      <a:lnTo>
                        <a:pt x="134" y="0"/>
                      </a:lnTo>
                      <a:lnTo>
                        <a:pt x="111" y="0"/>
                      </a:lnTo>
                      <a:lnTo>
                        <a:pt x="100" y="0"/>
                      </a:lnTo>
                      <a:lnTo>
                        <a:pt x="89" y="0"/>
                      </a:lnTo>
                      <a:lnTo>
                        <a:pt x="67" y="0"/>
                      </a:lnTo>
                      <a:lnTo>
                        <a:pt x="56" y="0"/>
                      </a:lnTo>
                      <a:lnTo>
                        <a:pt x="45" y="0"/>
                      </a:lnTo>
                      <a:lnTo>
                        <a:pt x="33" y="0"/>
                      </a:lnTo>
                      <a:lnTo>
                        <a:pt x="22" y="11"/>
                      </a:lnTo>
                      <a:lnTo>
                        <a:pt x="11" y="11"/>
                      </a:lnTo>
                      <a:lnTo>
                        <a:pt x="0" y="22"/>
                      </a:lnTo>
                      <a:lnTo>
                        <a:pt x="11" y="33"/>
                      </a:lnTo>
                      <a:lnTo>
                        <a:pt x="22" y="22"/>
                      </a:lnTo>
                      <a:lnTo>
                        <a:pt x="33" y="22"/>
                      </a:lnTo>
                      <a:lnTo>
                        <a:pt x="45" y="22"/>
                      </a:lnTo>
                      <a:lnTo>
                        <a:pt x="56" y="11"/>
                      </a:lnTo>
                      <a:lnTo>
                        <a:pt x="67" y="11"/>
                      </a:lnTo>
                      <a:lnTo>
                        <a:pt x="89" y="11"/>
                      </a:lnTo>
                      <a:lnTo>
                        <a:pt x="100" y="11"/>
                      </a:lnTo>
                      <a:lnTo>
                        <a:pt x="111" y="11"/>
                      </a:lnTo>
                      <a:lnTo>
                        <a:pt x="134" y="11"/>
                      </a:lnTo>
                      <a:lnTo>
                        <a:pt x="145" y="11"/>
                      </a:lnTo>
                      <a:lnTo>
                        <a:pt x="156" y="22"/>
                      </a:lnTo>
                      <a:lnTo>
                        <a:pt x="178" y="22"/>
                      </a:lnTo>
                      <a:lnTo>
                        <a:pt x="189" y="22"/>
                      </a:lnTo>
                      <a:lnTo>
                        <a:pt x="212" y="22"/>
                      </a:lnTo>
                      <a:lnTo>
                        <a:pt x="223" y="22"/>
                      </a:lnTo>
                      <a:lnTo>
                        <a:pt x="234" y="11"/>
                      </a:lnTo>
                      <a:lnTo>
                        <a:pt x="223"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Freeform 815"/>
                <p:cNvSpPr/>
                <p:nvPr/>
              </p:nvSpPr>
              <p:spPr>
                <a:xfrm rot="111600">
                  <a:off x="1099800" y="1274040"/>
                  <a:ext cx="2880" cy="57600"/>
                </a:xfrm>
                <a:custGeom>
                  <a:avLst/>
                  <a:gdLst>
                    <a:gd name="textAreaLeft" fmla="*/ 0 w 2880"/>
                    <a:gd name="textAreaRight" fmla="*/ 3240 w 2880"/>
                    <a:gd name="textAreaTop" fmla="*/ 0 h 57600"/>
                    <a:gd name="textAreaBottom" fmla="*/ 57960 h 57600"/>
                  </a:gdLst>
                  <a:ahLst/>
                  <a:rect l="textAreaLeft" t="textAreaTop" r="textAreaRight" b="textAreaBottom"/>
                  <a:pathLst>
                    <a:path w="33" h="435">
                      <a:moveTo>
                        <a:pt x="22" y="0"/>
                      </a:moveTo>
                      <a:lnTo>
                        <a:pt x="22" y="11"/>
                      </a:lnTo>
                      <a:lnTo>
                        <a:pt x="22" y="100"/>
                      </a:lnTo>
                      <a:lnTo>
                        <a:pt x="11" y="212"/>
                      </a:lnTo>
                      <a:lnTo>
                        <a:pt x="0" y="323"/>
                      </a:lnTo>
                      <a:lnTo>
                        <a:pt x="0" y="435"/>
                      </a:lnTo>
                      <a:lnTo>
                        <a:pt x="11" y="435"/>
                      </a:lnTo>
                      <a:lnTo>
                        <a:pt x="22" y="323"/>
                      </a:lnTo>
                      <a:lnTo>
                        <a:pt x="33" y="212"/>
                      </a:lnTo>
                      <a:lnTo>
                        <a:pt x="33" y="100"/>
                      </a:lnTo>
                      <a:lnTo>
                        <a:pt x="33" y="11"/>
                      </a:lnTo>
                      <a:lnTo>
                        <a:pt x="22" y="0"/>
                      </a:lnTo>
                      <a:close/>
                    </a:path>
                  </a:pathLst>
                </a:custGeom>
                <a:solidFill>
                  <a:srgbClr val="00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Freeform 814"/>
                <p:cNvSpPr/>
                <p:nvPr/>
              </p:nvSpPr>
              <p:spPr>
                <a:xfrm rot="111600">
                  <a:off x="1173600" y="140796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23" h="11">
                      <a:moveTo>
                        <a:pt x="0" y="0"/>
                      </a:moveTo>
                      <a:lnTo>
                        <a:pt x="0" y="11"/>
                      </a:lnTo>
                      <a:lnTo>
                        <a:pt x="11" y="11"/>
                      </a:lnTo>
                      <a:lnTo>
                        <a:pt x="23"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Freeform 813"/>
                <p:cNvSpPr/>
                <p:nvPr/>
              </p:nvSpPr>
              <p:spPr>
                <a:xfrm rot="111600">
                  <a:off x="1166400" y="1384560"/>
                  <a:ext cx="9720" cy="23400"/>
                </a:xfrm>
                <a:custGeom>
                  <a:avLst/>
                  <a:gdLst>
                    <a:gd name="textAreaLeft" fmla="*/ 0 w 9720"/>
                    <a:gd name="textAreaRight" fmla="*/ 10080 w 9720"/>
                    <a:gd name="textAreaTop" fmla="*/ 0 h 23400"/>
                    <a:gd name="textAreaBottom" fmla="*/ 23760 h 23400"/>
                  </a:gdLst>
                  <a:ahLst/>
                  <a:rect l="textAreaLeft" t="textAreaTop" r="textAreaRight" b="textAreaBottom"/>
                  <a:pathLst>
                    <a:path w="101" h="178">
                      <a:moveTo>
                        <a:pt x="0" y="22"/>
                      </a:moveTo>
                      <a:lnTo>
                        <a:pt x="0" y="22"/>
                      </a:lnTo>
                      <a:lnTo>
                        <a:pt x="11" y="33"/>
                      </a:lnTo>
                      <a:lnTo>
                        <a:pt x="23" y="44"/>
                      </a:lnTo>
                      <a:lnTo>
                        <a:pt x="34" y="66"/>
                      </a:lnTo>
                      <a:lnTo>
                        <a:pt x="45" y="89"/>
                      </a:lnTo>
                      <a:lnTo>
                        <a:pt x="56" y="111"/>
                      </a:lnTo>
                      <a:lnTo>
                        <a:pt x="67" y="133"/>
                      </a:lnTo>
                      <a:lnTo>
                        <a:pt x="78" y="156"/>
                      </a:lnTo>
                      <a:lnTo>
                        <a:pt x="78" y="178"/>
                      </a:lnTo>
                      <a:lnTo>
                        <a:pt x="101" y="178"/>
                      </a:lnTo>
                      <a:lnTo>
                        <a:pt x="89" y="156"/>
                      </a:lnTo>
                      <a:lnTo>
                        <a:pt x="89" y="122"/>
                      </a:lnTo>
                      <a:lnTo>
                        <a:pt x="78" y="100"/>
                      </a:lnTo>
                      <a:lnTo>
                        <a:pt x="67" y="78"/>
                      </a:lnTo>
                      <a:lnTo>
                        <a:pt x="56" y="55"/>
                      </a:lnTo>
                      <a:lnTo>
                        <a:pt x="34" y="33"/>
                      </a:lnTo>
                      <a:lnTo>
                        <a:pt x="23" y="22"/>
                      </a:lnTo>
                      <a:lnTo>
                        <a:pt x="11" y="0"/>
                      </a:lnTo>
                      <a:lnTo>
                        <a:pt x="0" y="22"/>
                      </a:lnTo>
                      <a:close/>
                    </a:path>
                  </a:pathLst>
                </a:custGeom>
                <a:solidFill>
                  <a:srgbClr val="000000"/>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Freeform 812"/>
                <p:cNvSpPr/>
                <p:nvPr/>
              </p:nvSpPr>
              <p:spPr>
                <a:xfrm rot="111600">
                  <a:off x="1139400" y="1380600"/>
                  <a:ext cx="28080" cy="25200"/>
                </a:xfrm>
                <a:custGeom>
                  <a:avLst/>
                  <a:gdLst>
                    <a:gd name="textAreaLeft" fmla="*/ 0 w 28080"/>
                    <a:gd name="textAreaRight" fmla="*/ 28440 w 28080"/>
                    <a:gd name="textAreaTop" fmla="*/ 0 h 25200"/>
                    <a:gd name="textAreaBottom" fmla="*/ 25560 h 25200"/>
                  </a:gdLst>
                  <a:ahLst/>
                  <a:rect l="textAreaLeft" t="textAreaTop" r="textAreaRight" b="textAreaBottom"/>
                  <a:pathLst>
                    <a:path w="289" h="190">
                      <a:moveTo>
                        <a:pt x="22" y="190"/>
                      </a:moveTo>
                      <a:lnTo>
                        <a:pt x="22" y="167"/>
                      </a:lnTo>
                      <a:lnTo>
                        <a:pt x="22" y="145"/>
                      </a:lnTo>
                      <a:lnTo>
                        <a:pt x="33" y="134"/>
                      </a:lnTo>
                      <a:lnTo>
                        <a:pt x="44" y="112"/>
                      </a:lnTo>
                      <a:lnTo>
                        <a:pt x="55" y="89"/>
                      </a:lnTo>
                      <a:lnTo>
                        <a:pt x="66" y="78"/>
                      </a:lnTo>
                      <a:lnTo>
                        <a:pt x="78" y="56"/>
                      </a:lnTo>
                      <a:lnTo>
                        <a:pt x="89" y="45"/>
                      </a:lnTo>
                      <a:lnTo>
                        <a:pt x="111" y="45"/>
                      </a:lnTo>
                      <a:lnTo>
                        <a:pt x="133" y="34"/>
                      </a:lnTo>
                      <a:lnTo>
                        <a:pt x="156" y="23"/>
                      </a:lnTo>
                      <a:lnTo>
                        <a:pt x="167" y="23"/>
                      </a:lnTo>
                      <a:lnTo>
                        <a:pt x="200" y="23"/>
                      </a:lnTo>
                      <a:lnTo>
                        <a:pt x="222" y="23"/>
                      </a:lnTo>
                      <a:lnTo>
                        <a:pt x="245" y="34"/>
                      </a:lnTo>
                      <a:lnTo>
                        <a:pt x="278" y="45"/>
                      </a:lnTo>
                      <a:lnTo>
                        <a:pt x="289" y="23"/>
                      </a:lnTo>
                      <a:lnTo>
                        <a:pt x="256" y="11"/>
                      </a:lnTo>
                      <a:lnTo>
                        <a:pt x="222" y="11"/>
                      </a:lnTo>
                      <a:lnTo>
                        <a:pt x="200" y="0"/>
                      </a:lnTo>
                      <a:lnTo>
                        <a:pt x="167" y="0"/>
                      </a:lnTo>
                      <a:lnTo>
                        <a:pt x="144" y="11"/>
                      </a:lnTo>
                      <a:lnTo>
                        <a:pt x="122" y="11"/>
                      </a:lnTo>
                      <a:lnTo>
                        <a:pt x="100" y="23"/>
                      </a:lnTo>
                      <a:lnTo>
                        <a:pt x="89" y="34"/>
                      </a:lnTo>
                      <a:lnTo>
                        <a:pt x="66" y="45"/>
                      </a:lnTo>
                      <a:lnTo>
                        <a:pt x="44" y="67"/>
                      </a:lnTo>
                      <a:lnTo>
                        <a:pt x="33" y="78"/>
                      </a:lnTo>
                      <a:lnTo>
                        <a:pt x="22" y="101"/>
                      </a:lnTo>
                      <a:lnTo>
                        <a:pt x="11" y="123"/>
                      </a:lnTo>
                      <a:lnTo>
                        <a:pt x="11" y="145"/>
                      </a:lnTo>
                      <a:lnTo>
                        <a:pt x="0" y="167"/>
                      </a:lnTo>
                      <a:lnTo>
                        <a:pt x="0" y="190"/>
                      </a:lnTo>
                      <a:lnTo>
                        <a:pt x="22" y="19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Freeform 811"/>
                <p:cNvSpPr/>
                <p:nvPr/>
              </p:nvSpPr>
              <p:spPr>
                <a:xfrm rot="111600">
                  <a:off x="1165680" y="138600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0" y="0"/>
                      </a:moveTo>
                      <a:lnTo>
                        <a:pt x="11" y="11"/>
                      </a:lnTo>
                      <a:lnTo>
                        <a:pt x="22" y="11"/>
                      </a:lnTo>
                      <a:lnTo>
                        <a:pt x="22"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Freeform 810"/>
                <p:cNvSpPr/>
                <p:nvPr/>
              </p:nvSpPr>
              <p:spPr>
                <a:xfrm rot="111600">
                  <a:off x="1123200" y="1454040"/>
                  <a:ext cx="1800" cy="2880"/>
                </a:xfrm>
                <a:custGeom>
                  <a:avLst/>
                  <a:gdLst>
                    <a:gd name="textAreaLeft" fmla="*/ 0 w 1800"/>
                    <a:gd name="textAreaRight" fmla="*/ 2160 w 1800"/>
                    <a:gd name="textAreaTop" fmla="*/ 0 h 2880"/>
                    <a:gd name="textAreaBottom" fmla="*/ 3240 h 2880"/>
                  </a:gdLst>
                  <a:ahLst/>
                  <a:rect l="textAreaLeft" t="textAreaTop" r="textAreaRight" b="textAreaBottom"/>
                  <a:pathLst>
                    <a:path w="22" h="22">
                      <a:moveTo>
                        <a:pt x="22" y="11"/>
                      </a:moveTo>
                      <a:lnTo>
                        <a:pt x="11" y="0"/>
                      </a:lnTo>
                      <a:lnTo>
                        <a:pt x="0" y="11"/>
                      </a:lnTo>
                      <a:lnTo>
                        <a:pt x="0" y="22"/>
                      </a:lnTo>
                      <a:lnTo>
                        <a:pt x="22"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Freeform 809"/>
                <p:cNvSpPr/>
                <p:nvPr/>
              </p:nvSpPr>
              <p:spPr>
                <a:xfrm rot="111600">
                  <a:off x="1122840" y="1455840"/>
                  <a:ext cx="6480" cy="12960"/>
                </a:xfrm>
                <a:custGeom>
                  <a:avLst/>
                  <a:gdLst>
                    <a:gd name="textAreaLeft" fmla="*/ 0 w 6480"/>
                    <a:gd name="textAreaRight" fmla="*/ 6840 w 6480"/>
                    <a:gd name="textAreaTop" fmla="*/ 0 h 12960"/>
                    <a:gd name="textAreaBottom" fmla="*/ 13320 h 12960"/>
                  </a:gdLst>
                  <a:ahLst/>
                  <a:rect l="textAreaLeft" t="textAreaTop" r="textAreaRight" b="textAreaBottom"/>
                  <a:pathLst>
                    <a:path w="67" h="100">
                      <a:moveTo>
                        <a:pt x="67" y="89"/>
                      </a:moveTo>
                      <a:lnTo>
                        <a:pt x="67" y="89"/>
                      </a:lnTo>
                      <a:lnTo>
                        <a:pt x="67" y="78"/>
                      </a:lnTo>
                      <a:lnTo>
                        <a:pt x="55" y="67"/>
                      </a:lnTo>
                      <a:lnTo>
                        <a:pt x="44" y="55"/>
                      </a:lnTo>
                      <a:lnTo>
                        <a:pt x="44" y="44"/>
                      </a:lnTo>
                      <a:lnTo>
                        <a:pt x="33" y="33"/>
                      </a:lnTo>
                      <a:lnTo>
                        <a:pt x="33" y="22"/>
                      </a:lnTo>
                      <a:lnTo>
                        <a:pt x="22" y="11"/>
                      </a:lnTo>
                      <a:lnTo>
                        <a:pt x="22" y="0"/>
                      </a:lnTo>
                      <a:lnTo>
                        <a:pt x="0" y="11"/>
                      </a:lnTo>
                      <a:lnTo>
                        <a:pt x="11" y="22"/>
                      </a:lnTo>
                      <a:lnTo>
                        <a:pt x="11" y="33"/>
                      </a:lnTo>
                      <a:lnTo>
                        <a:pt x="22" y="44"/>
                      </a:lnTo>
                      <a:lnTo>
                        <a:pt x="22" y="55"/>
                      </a:lnTo>
                      <a:lnTo>
                        <a:pt x="33" y="67"/>
                      </a:lnTo>
                      <a:lnTo>
                        <a:pt x="44" y="78"/>
                      </a:lnTo>
                      <a:lnTo>
                        <a:pt x="44" y="89"/>
                      </a:lnTo>
                      <a:lnTo>
                        <a:pt x="55" y="100"/>
                      </a:lnTo>
                      <a:lnTo>
                        <a:pt x="67" y="89"/>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Freeform 808"/>
                <p:cNvSpPr/>
                <p:nvPr/>
              </p:nvSpPr>
              <p:spPr>
                <a:xfrm rot="111600">
                  <a:off x="1127880" y="1467360"/>
                  <a:ext cx="8640" cy="10080"/>
                </a:xfrm>
                <a:custGeom>
                  <a:avLst/>
                  <a:gdLst>
                    <a:gd name="textAreaLeft" fmla="*/ 0 w 8640"/>
                    <a:gd name="textAreaRight" fmla="*/ 9000 w 8640"/>
                    <a:gd name="textAreaTop" fmla="*/ 0 h 10080"/>
                    <a:gd name="textAreaBottom" fmla="*/ 10440 h 10080"/>
                  </a:gdLst>
                  <a:ahLst/>
                  <a:rect l="textAreaLeft" t="textAreaTop" r="textAreaRight" b="textAreaBottom"/>
                  <a:pathLst>
                    <a:path w="90" h="78">
                      <a:moveTo>
                        <a:pt x="90" y="56"/>
                      </a:moveTo>
                      <a:lnTo>
                        <a:pt x="90" y="56"/>
                      </a:lnTo>
                      <a:lnTo>
                        <a:pt x="78" y="56"/>
                      </a:lnTo>
                      <a:lnTo>
                        <a:pt x="67" y="44"/>
                      </a:lnTo>
                      <a:lnTo>
                        <a:pt x="56" y="44"/>
                      </a:lnTo>
                      <a:lnTo>
                        <a:pt x="45" y="33"/>
                      </a:lnTo>
                      <a:lnTo>
                        <a:pt x="34" y="22"/>
                      </a:lnTo>
                      <a:lnTo>
                        <a:pt x="23" y="11"/>
                      </a:lnTo>
                      <a:lnTo>
                        <a:pt x="12" y="0"/>
                      </a:lnTo>
                      <a:lnTo>
                        <a:pt x="0" y="11"/>
                      </a:lnTo>
                      <a:lnTo>
                        <a:pt x="12" y="22"/>
                      </a:lnTo>
                      <a:lnTo>
                        <a:pt x="23" y="33"/>
                      </a:lnTo>
                      <a:lnTo>
                        <a:pt x="34" y="44"/>
                      </a:lnTo>
                      <a:lnTo>
                        <a:pt x="45" y="56"/>
                      </a:lnTo>
                      <a:lnTo>
                        <a:pt x="56" y="67"/>
                      </a:lnTo>
                      <a:lnTo>
                        <a:pt x="67" y="67"/>
                      </a:lnTo>
                      <a:lnTo>
                        <a:pt x="78" y="78"/>
                      </a:lnTo>
                      <a:lnTo>
                        <a:pt x="90" y="56"/>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Freeform 807"/>
                <p:cNvSpPr/>
                <p:nvPr/>
              </p:nvSpPr>
              <p:spPr>
                <a:xfrm rot="111600">
                  <a:off x="1135440" y="1474200"/>
                  <a:ext cx="36720" cy="8640"/>
                </a:xfrm>
                <a:custGeom>
                  <a:avLst/>
                  <a:gdLst>
                    <a:gd name="textAreaLeft" fmla="*/ 0 w 36720"/>
                    <a:gd name="textAreaRight" fmla="*/ 37080 w 36720"/>
                    <a:gd name="textAreaTop" fmla="*/ 0 h 8640"/>
                    <a:gd name="textAreaBottom" fmla="*/ 9000 h 8640"/>
                  </a:gdLst>
                  <a:ahLst/>
                  <a:rect l="textAreaLeft" t="textAreaTop" r="textAreaRight" b="textAreaBottom"/>
                  <a:pathLst>
                    <a:path w="379" h="67">
                      <a:moveTo>
                        <a:pt x="368" y="0"/>
                      </a:moveTo>
                      <a:lnTo>
                        <a:pt x="368" y="0"/>
                      </a:lnTo>
                      <a:lnTo>
                        <a:pt x="346" y="12"/>
                      </a:lnTo>
                      <a:lnTo>
                        <a:pt x="324" y="23"/>
                      </a:lnTo>
                      <a:lnTo>
                        <a:pt x="301" y="34"/>
                      </a:lnTo>
                      <a:lnTo>
                        <a:pt x="279" y="34"/>
                      </a:lnTo>
                      <a:lnTo>
                        <a:pt x="257" y="45"/>
                      </a:lnTo>
                      <a:lnTo>
                        <a:pt x="234" y="45"/>
                      </a:lnTo>
                      <a:lnTo>
                        <a:pt x="212" y="45"/>
                      </a:lnTo>
                      <a:lnTo>
                        <a:pt x="190" y="45"/>
                      </a:lnTo>
                      <a:lnTo>
                        <a:pt x="168" y="45"/>
                      </a:lnTo>
                      <a:lnTo>
                        <a:pt x="145" y="45"/>
                      </a:lnTo>
                      <a:lnTo>
                        <a:pt x="112" y="45"/>
                      </a:lnTo>
                      <a:lnTo>
                        <a:pt x="101" y="45"/>
                      </a:lnTo>
                      <a:lnTo>
                        <a:pt x="67" y="34"/>
                      </a:lnTo>
                      <a:lnTo>
                        <a:pt x="56" y="34"/>
                      </a:lnTo>
                      <a:lnTo>
                        <a:pt x="34" y="23"/>
                      </a:lnTo>
                      <a:lnTo>
                        <a:pt x="12" y="12"/>
                      </a:lnTo>
                      <a:lnTo>
                        <a:pt x="0" y="34"/>
                      </a:lnTo>
                      <a:lnTo>
                        <a:pt x="23" y="45"/>
                      </a:lnTo>
                      <a:lnTo>
                        <a:pt x="45" y="45"/>
                      </a:lnTo>
                      <a:lnTo>
                        <a:pt x="67" y="56"/>
                      </a:lnTo>
                      <a:lnTo>
                        <a:pt x="90" y="56"/>
                      </a:lnTo>
                      <a:lnTo>
                        <a:pt x="112" y="67"/>
                      </a:lnTo>
                      <a:lnTo>
                        <a:pt x="145" y="67"/>
                      </a:lnTo>
                      <a:lnTo>
                        <a:pt x="168" y="67"/>
                      </a:lnTo>
                      <a:lnTo>
                        <a:pt x="190" y="67"/>
                      </a:lnTo>
                      <a:lnTo>
                        <a:pt x="212" y="67"/>
                      </a:lnTo>
                      <a:lnTo>
                        <a:pt x="234" y="67"/>
                      </a:lnTo>
                      <a:lnTo>
                        <a:pt x="268" y="56"/>
                      </a:lnTo>
                      <a:lnTo>
                        <a:pt x="290" y="56"/>
                      </a:lnTo>
                      <a:lnTo>
                        <a:pt x="313" y="45"/>
                      </a:lnTo>
                      <a:lnTo>
                        <a:pt x="335" y="45"/>
                      </a:lnTo>
                      <a:lnTo>
                        <a:pt x="357" y="34"/>
                      </a:lnTo>
                      <a:lnTo>
                        <a:pt x="379" y="23"/>
                      </a:lnTo>
                      <a:lnTo>
                        <a:pt x="368" y="0"/>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Freeform 806"/>
                <p:cNvSpPr/>
                <p:nvPr/>
              </p:nvSpPr>
              <p:spPr>
                <a:xfrm rot="111600">
                  <a:off x="1171800" y="14587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134" h="145">
                      <a:moveTo>
                        <a:pt x="112" y="0"/>
                      </a:moveTo>
                      <a:lnTo>
                        <a:pt x="101" y="22"/>
                      </a:lnTo>
                      <a:lnTo>
                        <a:pt x="78" y="56"/>
                      </a:lnTo>
                      <a:lnTo>
                        <a:pt x="56" y="78"/>
                      </a:lnTo>
                      <a:lnTo>
                        <a:pt x="34" y="89"/>
                      </a:lnTo>
                      <a:lnTo>
                        <a:pt x="23" y="111"/>
                      </a:lnTo>
                      <a:lnTo>
                        <a:pt x="11" y="122"/>
                      </a:lnTo>
                      <a:lnTo>
                        <a:pt x="0" y="122"/>
                      </a:lnTo>
                      <a:lnTo>
                        <a:pt x="11" y="145"/>
                      </a:lnTo>
                      <a:lnTo>
                        <a:pt x="11" y="134"/>
                      </a:lnTo>
                      <a:lnTo>
                        <a:pt x="23" y="134"/>
                      </a:lnTo>
                      <a:lnTo>
                        <a:pt x="34" y="122"/>
                      </a:lnTo>
                      <a:lnTo>
                        <a:pt x="45" y="100"/>
                      </a:lnTo>
                      <a:lnTo>
                        <a:pt x="67" y="89"/>
                      </a:lnTo>
                      <a:lnTo>
                        <a:pt x="89" y="67"/>
                      </a:lnTo>
                      <a:lnTo>
                        <a:pt x="112" y="33"/>
                      </a:lnTo>
                      <a:lnTo>
                        <a:pt x="134" y="11"/>
                      </a:lnTo>
                      <a:lnTo>
                        <a:pt x="112" y="0"/>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Freeform 805"/>
                <p:cNvSpPr/>
                <p:nvPr/>
              </p:nvSpPr>
              <p:spPr>
                <a:xfrm rot="111600">
                  <a:off x="1171440" y="1474920"/>
                  <a:ext cx="1080" cy="2880"/>
                </a:xfrm>
                <a:custGeom>
                  <a:avLst/>
                  <a:gdLst>
                    <a:gd name="textAreaLeft" fmla="*/ 0 w 1080"/>
                    <a:gd name="textAreaRight" fmla="*/ 1440 w 1080"/>
                    <a:gd name="textAreaTop" fmla="*/ 0 h 2880"/>
                    <a:gd name="textAreaBottom" fmla="*/ 3240 h 2880"/>
                  </a:gdLst>
                  <a:ahLst/>
                  <a:rect l="textAreaLeft" t="textAreaTop" r="textAreaRight" b="textAreaBottom"/>
                  <a:pathLst>
                    <a:path w="11" h="23">
                      <a:moveTo>
                        <a:pt x="11" y="23"/>
                      </a:moveTo>
                      <a:lnTo>
                        <a:pt x="11" y="12"/>
                      </a:lnTo>
                      <a:lnTo>
                        <a:pt x="11" y="0"/>
                      </a:lnTo>
                      <a:lnTo>
                        <a:pt x="0" y="0"/>
                      </a:lnTo>
                      <a:lnTo>
                        <a:pt x="0" y="12"/>
                      </a:lnTo>
                      <a:lnTo>
                        <a:pt x="11" y="23"/>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Freeform 804"/>
                <p:cNvSpPr/>
                <p:nvPr/>
              </p:nvSpPr>
              <p:spPr>
                <a:xfrm rot="111600">
                  <a:off x="1130400" y="143208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2">
                      <a:moveTo>
                        <a:pt x="22" y="12"/>
                      </a:moveTo>
                      <a:lnTo>
                        <a:pt x="22" y="0"/>
                      </a:lnTo>
                      <a:lnTo>
                        <a:pt x="11" y="0"/>
                      </a:lnTo>
                      <a:lnTo>
                        <a:pt x="0" y="12"/>
                      </a:lnTo>
                      <a:lnTo>
                        <a:pt x="22" y="12"/>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Freeform 803"/>
                <p:cNvSpPr/>
                <p:nvPr/>
              </p:nvSpPr>
              <p:spPr>
                <a:xfrm rot="111600">
                  <a:off x="1111320" y="1433160"/>
                  <a:ext cx="20520" cy="38160"/>
                </a:xfrm>
                <a:custGeom>
                  <a:avLst/>
                  <a:gdLst>
                    <a:gd name="textAreaLeft" fmla="*/ 0 w 20520"/>
                    <a:gd name="textAreaRight" fmla="*/ 20880 w 20520"/>
                    <a:gd name="textAreaTop" fmla="*/ 0 h 38160"/>
                    <a:gd name="textAreaBottom" fmla="*/ 38520 h 38160"/>
                  </a:gdLst>
                  <a:ahLst/>
                  <a:rect l="textAreaLeft" t="textAreaTop" r="textAreaRight" b="textAreaBottom"/>
                  <a:pathLst>
                    <a:path w="212" h="289">
                      <a:moveTo>
                        <a:pt x="0" y="289"/>
                      </a:moveTo>
                      <a:lnTo>
                        <a:pt x="56" y="256"/>
                      </a:lnTo>
                      <a:lnTo>
                        <a:pt x="100" y="222"/>
                      </a:lnTo>
                      <a:lnTo>
                        <a:pt x="134" y="189"/>
                      </a:lnTo>
                      <a:lnTo>
                        <a:pt x="156" y="144"/>
                      </a:lnTo>
                      <a:lnTo>
                        <a:pt x="178" y="100"/>
                      </a:lnTo>
                      <a:lnTo>
                        <a:pt x="190" y="66"/>
                      </a:lnTo>
                      <a:lnTo>
                        <a:pt x="201" y="33"/>
                      </a:lnTo>
                      <a:lnTo>
                        <a:pt x="212" y="0"/>
                      </a:lnTo>
                      <a:lnTo>
                        <a:pt x="190" y="0"/>
                      </a:lnTo>
                      <a:lnTo>
                        <a:pt x="190" y="22"/>
                      </a:lnTo>
                      <a:lnTo>
                        <a:pt x="178" y="55"/>
                      </a:lnTo>
                      <a:lnTo>
                        <a:pt x="156" y="100"/>
                      </a:lnTo>
                      <a:lnTo>
                        <a:pt x="145" y="133"/>
                      </a:lnTo>
                      <a:lnTo>
                        <a:pt x="123" y="178"/>
                      </a:lnTo>
                      <a:lnTo>
                        <a:pt x="89" y="211"/>
                      </a:lnTo>
                      <a:lnTo>
                        <a:pt x="45" y="245"/>
                      </a:lnTo>
                      <a:lnTo>
                        <a:pt x="0" y="267"/>
                      </a:lnTo>
                      <a:lnTo>
                        <a:pt x="0" y="289"/>
                      </a:lnTo>
                      <a:close/>
                    </a:path>
                  </a:pathLst>
                </a:custGeom>
                <a:solidFill>
                  <a:srgbClr val="0000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Freeform 802"/>
                <p:cNvSpPr/>
                <p:nvPr/>
              </p:nvSpPr>
              <p:spPr>
                <a:xfrm rot="111600">
                  <a:off x="1130400" y="1432080"/>
                  <a:ext cx="1080" cy="2880"/>
                </a:xfrm>
                <a:custGeom>
                  <a:avLst/>
                  <a:gdLst>
                    <a:gd name="textAreaLeft" fmla="*/ 0 w 1080"/>
                    <a:gd name="textAreaRight" fmla="*/ 1440 w 1080"/>
                    <a:gd name="textAreaTop" fmla="*/ 0 h 2880"/>
                    <a:gd name="textAreaBottom" fmla="*/ 3240 h 2880"/>
                  </a:gdLst>
                  <a:ahLst/>
                  <a:rect l="textAreaLeft" t="textAreaTop" r="textAreaRight" b="textAreaBottom"/>
                  <a:pathLst>
                    <a:path w="11" h="23">
                      <a:moveTo>
                        <a:pt x="11" y="0"/>
                      </a:moveTo>
                      <a:lnTo>
                        <a:pt x="0" y="0"/>
                      </a:lnTo>
                      <a:lnTo>
                        <a:pt x="0" y="12"/>
                      </a:lnTo>
                      <a:lnTo>
                        <a:pt x="11" y="23"/>
                      </a:lnTo>
                      <a:lnTo>
                        <a:pt x="11"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Freeform 801"/>
                <p:cNvSpPr/>
                <p:nvPr/>
              </p:nvSpPr>
              <p:spPr>
                <a:xfrm rot="111600">
                  <a:off x="1179000" y="144252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22" h="11">
                      <a:moveTo>
                        <a:pt x="22" y="11"/>
                      </a:moveTo>
                      <a:lnTo>
                        <a:pt x="11" y="0"/>
                      </a:lnTo>
                      <a:lnTo>
                        <a:pt x="0" y="0"/>
                      </a:lnTo>
                      <a:lnTo>
                        <a:pt x="0" y="11"/>
                      </a:lnTo>
                      <a:lnTo>
                        <a:pt x="22" y="11"/>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Freeform 800"/>
                <p:cNvSpPr/>
                <p:nvPr/>
              </p:nvSpPr>
              <p:spPr>
                <a:xfrm rot="111600">
                  <a:off x="1178640" y="1443960"/>
                  <a:ext cx="16200" cy="26640"/>
                </a:xfrm>
                <a:custGeom>
                  <a:avLst/>
                  <a:gdLst>
                    <a:gd name="textAreaLeft" fmla="*/ 0 w 16200"/>
                    <a:gd name="textAreaRight" fmla="*/ 16560 w 16200"/>
                    <a:gd name="textAreaTop" fmla="*/ 0 h 26640"/>
                    <a:gd name="textAreaBottom" fmla="*/ 27000 h 26640"/>
                  </a:gdLst>
                  <a:ahLst/>
                  <a:rect l="textAreaLeft" t="textAreaTop" r="textAreaRight" b="textAreaBottom"/>
                  <a:pathLst>
                    <a:path w="167" h="201">
                      <a:moveTo>
                        <a:pt x="167" y="190"/>
                      </a:moveTo>
                      <a:lnTo>
                        <a:pt x="134" y="168"/>
                      </a:lnTo>
                      <a:lnTo>
                        <a:pt x="112" y="156"/>
                      </a:lnTo>
                      <a:lnTo>
                        <a:pt x="89" y="134"/>
                      </a:lnTo>
                      <a:lnTo>
                        <a:pt x="67" y="112"/>
                      </a:lnTo>
                      <a:lnTo>
                        <a:pt x="56" y="78"/>
                      </a:lnTo>
                      <a:lnTo>
                        <a:pt x="34" y="56"/>
                      </a:lnTo>
                      <a:lnTo>
                        <a:pt x="22" y="23"/>
                      </a:lnTo>
                      <a:lnTo>
                        <a:pt x="22" y="0"/>
                      </a:lnTo>
                      <a:lnTo>
                        <a:pt x="0" y="0"/>
                      </a:lnTo>
                      <a:lnTo>
                        <a:pt x="11" y="34"/>
                      </a:lnTo>
                      <a:lnTo>
                        <a:pt x="22" y="67"/>
                      </a:lnTo>
                      <a:lnTo>
                        <a:pt x="34" y="90"/>
                      </a:lnTo>
                      <a:lnTo>
                        <a:pt x="56" y="123"/>
                      </a:lnTo>
                      <a:lnTo>
                        <a:pt x="78" y="145"/>
                      </a:lnTo>
                      <a:lnTo>
                        <a:pt x="100" y="168"/>
                      </a:lnTo>
                      <a:lnTo>
                        <a:pt x="134" y="190"/>
                      </a:lnTo>
                      <a:lnTo>
                        <a:pt x="167" y="201"/>
                      </a:lnTo>
                      <a:lnTo>
                        <a:pt x="167" y="190"/>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Freeform 799"/>
                <p:cNvSpPr/>
                <p:nvPr/>
              </p:nvSpPr>
              <p:spPr>
                <a:xfrm rot="111600">
                  <a:off x="1179000" y="1442520"/>
                  <a:ext cx="1800" cy="2880"/>
                </a:xfrm>
                <a:custGeom>
                  <a:avLst/>
                  <a:gdLst>
                    <a:gd name="textAreaLeft" fmla="*/ 0 w 1800"/>
                    <a:gd name="textAreaRight" fmla="*/ 2160 w 1800"/>
                    <a:gd name="textAreaTop" fmla="*/ 0 h 2880"/>
                    <a:gd name="textAreaBottom" fmla="*/ 3240 h 2880"/>
                  </a:gdLst>
                  <a:ahLst/>
                  <a:rect l="textAreaLeft" t="textAreaTop" r="textAreaRight" b="textAreaBottom"/>
                  <a:pathLst>
                    <a:path w="22" h="23">
                      <a:moveTo>
                        <a:pt x="0" y="23"/>
                      </a:moveTo>
                      <a:lnTo>
                        <a:pt x="11" y="11"/>
                      </a:lnTo>
                      <a:lnTo>
                        <a:pt x="22" y="11"/>
                      </a:lnTo>
                      <a:lnTo>
                        <a:pt x="11" y="0"/>
                      </a:lnTo>
                      <a:lnTo>
                        <a:pt x="0" y="23"/>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Freeform 798"/>
                <p:cNvSpPr/>
                <p:nvPr/>
              </p:nvSpPr>
              <p:spPr>
                <a:xfrm rot="111600">
                  <a:off x="1170360" y="1341360"/>
                  <a:ext cx="3960" cy="4320"/>
                </a:xfrm>
                <a:custGeom>
                  <a:avLst/>
                  <a:gdLst>
                    <a:gd name="textAreaLeft" fmla="*/ 0 w 3960"/>
                    <a:gd name="textAreaRight" fmla="*/ 4320 w 3960"/>
                    <a:gd name="textAreaTop" fmla="*/ 0 h 4320"/>
                    <a:gd name="textAreaBottom" fmla="*/ 4680 h 4320"/>
                  </a:gdLst>
                  <a:ahLst/>
                  <a:rect l="textAreaLeft" t="textAreaTop" r="textAreaRight" b="textAreaBottom"/>
                  <a:pathLst>
                    <a:path w="44" h="34">
                      <a:moveTo>
                        <a:pt x="44" y="12"/>
                      </a:moveTo>
                      <a:lnTo>
                        <a:pt x="33" y="12"/>
                      </a:lnTo>
                      <a:lnTo>
                        <a:pt x="22" y="0"/>
                      </a:lnTo>
                      <a:lnTo>
                        <a:pt x="11" y="12"/>
                      </a:lnTo>
                      <a:lnTo>
                        <a:pt x="0" y="12"/>
                      </a:lnTo>
                      <a:lnTo>
                        <a:pt x="0" y="23"/>
                      </a:lnTo>
                      <a:lnTo>
                        <a:pt x="0" y="34"/>
                      </a:lnTo>
                      <a:lnTo>
                        <a:pt x="44" y="1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Freeform 797"/>
                <p:cNvSpPr/>
                <p:nvPr/>
              </p:nvSpPr>
              <p:spPr>
                <a:xfrm rot="111600">
                  <a:off x="1170000" y="1342800"/>
                  <a:ext cx="10800" cy="26280"/>
                </a:xfrm>
                <a:custGeom>
                  <a:avLst/>
                  <a:gdLst>
                    <a:gd name="textAreaLeft" fmla="*/ 0 w 10800"/>
                    <a:gd name="textAreaRight" fmla="*/ 10800 w 10800"/>
                    <a:gd name="textAreaTop" fmla="*/ 0 h 26280"/>
                    <a:gd name="textAreaBottom" fmla="*/ 26640 h 26280"/>
                  </a:gdLst>
                  <a:ahLst/>
                  <a:rect l="textAreaLeft" t="textAreaTop" r="textAreaRight" b="textAreaBottom"/>
                  <a:pathLst>
                    <a:path w="111" h="200">
                      <a:moveTo>
                        <a:pt x="111" y="200"/>
                      </a:moveTo>
                      <a:lnTo>
                        <a:pt x="111" y="167"/>
                      </a:lnTo>
                      <a:lnTo>
                        <a:pt x="100" y="144"/>
                      </a:lnTo>
                      <a:lnTo>
                        <a:pt x="89" y="122"/>
                      </a:lnTo>
                      <a:lnTo>
                        <a:pt x="78" y="100"/>
                      </a:lnTo>
                      <a:lnTo>
                        <a:pt x="66" y="78"/>
                      </a:lnTo>
                      <a:lnTo>
                        <a:pt x="55" y="44"/>
                      </a:lnTo>
                      <a:lnTo>
                        <a:pt x="55" y="22"/>
                      </a:lnTo>
                      <a:lnTo>
                        <a:pt x="44" y="0"/>
                      </a:lnTo>
                      <a:lnTo>
                        <a:pt x="0" y="22"/>
                      </a:lnTo>
                      <a:lnTo>
                        <a:pt x="11" y="44"/>
                      </a:lnTo>
                      <a:lnTo>
                        <a:pt x="22" y="66"/>
                      </a:lnTo>
                      <a:lnTo>
                        <a:pt x="33" y="89"/>
                      </a:lnTo>
                      <a:lnTo>
                        <a:pt x="44" y="111"/>
                      </a:lnTo>
                      <a:lnTo>
                        <a:pt x="55" y="133"/>
                      </a:lnTo>
                      <a:lnTo>
                        <a:pt x="55" y="156"/>
                      </a:lnTo>
                      <a:lnTo>
                        <a:pt x="66" y="178"/>
                      </a:lnTo>
                      <a:lnTo>
                        <a:pt x="78" y="200"/>
                      </a:lnTo>
                      <a:lnTo>
                        <a:pt x="111" y="200"/>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Freeform 796"/>
                <p:cNvSpPr/>
                <p:nvPr/>
              </p:nvSpPr>
              <p:spPr>
                <a:xfrm rot="111600">
                  <a:off x="1170360" y="1344240"/>
                  <a:ext cx="3960" cy="2880"/>
                </a:xfrm>
                <a:custGeom>
                  <a:avLst/>
                  <a:gdLst>
                    <a:gd name="textAreaLeft" fmla="*/ 0 w 3960"/>
                    <a:gd name="textAreaRight" fmla="*/ 4320 w 3960"/>
                    <a:gd name="textAreaTop" fmla="*/ 0 h 2880"/>
                    <a:gd name="textAreaBottom" fmla="*/ 3240 h 2880"/>
                  </a:gdLst>
                  <a:ahLst/>
                  <a:rect l="textAreaLeft" t="textAreaTop" r="textAreaRight" b="textAreaBottom"/>
                  <a:pathLst>
                    <a:path w="44" h="22">
                      <a:moveTo>
                        <a:pt x="0" y="11"/>
                      </a:moveTo>
                      <a:lnTo>
                        <a:pt x="11" y="11"/>
                      </a:lnTo>
                      <a:lnTo>
                        <a:pt x="11" y="22"/>
                      </a:lnTo>
                      <a:lnTo>
                        <a:pt x="22" y="22"/>
                      </a:lnTo>
                      <a:lnTo>
                        <a:pt x="33" y="22"/>
                      </a:lnTo>
                      <a:lnTo>
                        <a:pt x="44" y="11"/>
                      </a:lnTo>
                      <a:lnTo>
                        <a:pt x="44" y="0"/>
                      </a:lnTo>
                      <a:lnTo>
                        <a:pt x="0" y="1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Freeform 795"/>
                <p:cNvSpPr/>
                <p:nvPr/>
              </p:nvSpPr>
              <p:spPr>
                <a:xfrm rot="111600">
                  <a:off x="1148760" y="134064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33" h="23">
                      <a:moveTo>
                        <a:pt x="33" y="23"/>
                      </a:moveTo>
                      <a:lnTo>
                        <a:pt x="33" y="12"/>
                      </a:lnTo>
                      <a:lnTo>
                        <a:pt x="33" y="0"/>
                      </a:lnTo>
                      <a:lnTo>
                        <a:pt x="22" y="0"/>
                      </a:lnTo>
                      <a:lnTo>
                        <a:pt x="11" y="0"/>
                      </a:lnTo>
                      <a:lnTo>
                        <a:pt x="0" y="0"/>
                      </a:lnTo>
                      <a:lnTo>
                        <a:pt x="0" y="12"/>
                      </a:lnTo>
                      <a:lnTo>
                        <a:pt x="33" y="23"/>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Freeform 794"/>
                <p:cNvSpPr/>
                <p:nvPr/>
              </p:nvSpPr>
              <p:spPr>
                <a:xfrm rot="111600">
                  <a:off x="1141200" y="1341720"/>
                  <a:ext cx="10800" cy="21960"/>
                </a:xfrm>
                <a:custGeom>
                  <a:avLst/>
                  <a:gdLst>
                    <a:gd name="textAreaLeft" fmla="*/ 0 w 10800"/>
                    <a:gd name="textAreaRight" fmla="*/ 10800 w 10800"/>
                    <a:gd name="textAreaTop" fmla="*/ 0 h 21960"/>
                    <a:gd name="textAreaBottom" fmla="*/ 22320 h 21960"/>
                  </a:gdLst>
                  <a:ahLst/>
                  <a:rect l="textAreaLeft" t="textAreaTop" r="textAreaRight" b="textAreaBottom"/>
                  <a:pathLst>
                    <a:path w="111" h="167">
                      <a:moveTo>
                        <a:pt x="33" y="167"/>
                      </a:moveTo>
                      <a:lnTo>
                        <a:pt x="44" y="144"/>
                      </a:lnTo>
                      <a:lnTo>
                        <a:pt x="55" y="122"/>
                      </a:lnTo>
                      <a:lnTo>
                        <a:pt x="66" y="111"/>
                      </a:lnTo>
                      <a:lnTo>
                        <a:pt x="78" y="89"/>
                      </a:lnTo>
                      <a:lnTo>
                        <a:pt x="89" y="66"/>
                      </a:lnTo>
                      <a:lnTo>
                        <a:pt x="89" y="44"/>
                      </a:lnTo>
                      <a:lnTo>
                        <a:pt x="100" y="33"/>
                      </a:lnTo>
                      <a:lnTo>
                        <a:pt x="111" y="11"/>
                      </a:lnTo>
                      <a:lnTo>
                        <a:pt x="78" y="0"/>
                      </a:lnTo>
                      <a:lnTo>
                        <a:pt x="66" y="11"/>
                      </a:lnTo>
                      <a:lnTo>
                        <a:pt x="55" y="33"/>
                      </a:lnTo>
                      <a:lnTo>
                        <a:pt x="44" y="55"/>
                      </a:lnTo>
                      <a:lnTo>
                        <a:pt x="33" y="66"/>
                      </a:lnTo>
                      <a:lnTo>
                        <a:pt x="22" y="89"/>
                      </a:lnTo>
                      <a:lnTo>
                        <a:pt x="22" y="111"/>
                      </a:lnTo>
                      <a:lnTo>
                        <a:pt x="11" y="133"/>
                      </a:lnTo>
                      <a:lnTo>
                        <a:pt x="0" y="144"/>
                      </a:lnTo>
                      <a:lnTo>
                        <a:pt x="33" y="167"/>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Freeform 793"/>
                <p:cNvSpPr/>
                <p:nvPr/>
              </p:nvSpPr>
              <p:spPr>
                <a:xfrm rot="111600">
                  <a:off x="1148760" y="134208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33" h="22">
                      <a:moveTo>
                        <a:pt x="0" y="0"/>
                      </a:moveTo>
                      <a:lnTo>
                        <a:pt x="0" y="0"/>
                      </a:lnTo>
                      <a:lnTo>
                        <a:pt x="0" y="11"/>
                      </a:lnTo>
                      <a:lnTo>
                        <a:pt x="0" y="22"/>
                      </a:lnTo>
                      <a:lnTo>
                        <a:pt x="11" y="22"/>
                      </a:lnTo>
                      <a:lnTo>
                        <a:pt x="22" y="22"/>
                      </a:lnTo>
                      <a:lnTo>
                        <a:pt x="33" y="22"/>
                      </a:lnTo>
                      <a:lnTo>
                        <a:pt x="33" y="11"/>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Freeform 792"/>
                <p:cNvSpPr/>
                <p:nvPr/>
              </p:nvSpPr>
              <p:spPr>
                <a:xfrm rot="111600">
                  <a:off x="1078560" y="1207440"/>
                  <a:ext cx="165240" cy="173520"/>
                </a:xfrm>
                <a:custGeom>
                  <a:avLst/>
                  <a:gdLst>
                    <a:gd name="textAreaLeft" fmla="*/ 0 w 165240"/>
                    <a:gd name="textAreaRight" fmla="*/ 165600 w 165240"/>
                    <a:gd name="textAreaTop" fmla="*/ 0 h 173520"/>
                    <a:gd name="textAreaBottom" fmla="*/ 173880 h 173520"/>
                  </a:gdLst>
                  <a:ahLst/>
                  <a:rect l="textAreaLeft" t="textAreaTop" r="textAreaRight" b="textAreaBottom"/>
                  <a:pathLst>
                    <a:path w="1694" h="1304">
                      <a:moveTo>
                        <a:pt x="892" y="535"/>
                      </a:moveTo>
                      <a:lnTo>
                        <a:pt x="892" y="558"/>
                      </a:lnTo>
                      <a:lnTo>
                        <a:pt x="880" y="580"/>
                      </a:lnTo>
                      <a:lnTo>
                        <a:pt x="880" y="602"/>
                      </a:lnTo>
                      <a:lnTo>
                        <a:pt x="869" y="624"/>
                      </a:lnTo>
                      <a:lnTo>
                        <a:pt x="858" y="647"/>
                      </a:lnTo>
                      <a:lnTo>
                        <a:pt x="847" y="669"/>
                      </a:lnTo>
                      <a:lnTo>
                        <a:pt x="825" y="691"/>
                      </a:lnTo>
                      <a:lnTo>
                        <a:pt x="802" y="714"/>
                      </a:lnTo>
                      <a:lnTo>
                        <a:pt x="780" y="736"/>
                      </a:lnTo>
                      <a:lnTo>
                        <a:pt x="758" y="769"/>
                      </a:lnTo>
                      <a:lnTo>
                        <a:pt x="747" y="792"/>
                      </a:lnTo>
                      <a:lnTo>
                        <a:pt x="724" y="803"/>
                      </a:lnTo>
                      <a:lnTo>
                        <a:pt x="713" y="825"/>
                      </a:lnTo>
                      <a:lnTo>
                        <a:pt x="691" y="836"/>
                      </a:lnTo>
                      <a:lnTo>
                        <a:pt x="680" y="836"/>
                      </a:lnTo>
                      <a:lnTo>
                        <a:pt x="669" y="836"/>
                      </a:lnTo>
                      <a:lnTo>
                        <a:pt x="658" y="836"/>
                      </a:lnTo>
                      <a:lnTo>
                        <a:pt x="646" y="836"/>
                      </a:lnTo>
                      <a:lnTo>
                        <a:pt x="624" y="825"/>
                      </a:lnTo>
                      <a:lnTo>
                        <a:pt x="613" y="814"/>
                      </a:lnTo>
                      <a:lnTo>
                        <a:pt x="580" y="836"/>
                      </a:lnTo>
                      <a:lnTo>
                        <a:pt x="557" y="858"/>
                      </a:lnTo>
                      <a:lnTo>
                        <a:pt x="535" y="881"/>
                      </a:lnTo>
                      <a:lnTo>
                        <a:pt x="524" y="914"/>
                      </a:lnTo>
                      <a:lnTo>
                        <a:pt x="513" y="937"/>
                      </a:lnTo>
                      <a:lnTo>
                        <a:pt x="502" y="959"/>
                      </a:lnTo>
                      <a:lnTo>
                        <a:pt x="479" y="992"/>
                      </a:lnTo>
                      <a:lnTo>
                        <a:pt x="446" y="1026"/>
                      </a:lnTo>
                      <a:lnTo>
                        <a:pt x="435" y="1015"/>
                      </a:lnTo>
                      <a:lnTo>
                        <a:pt x="424" y="1003"/>
                      </a:lnTo>
                      <a:lnTo>
                        <a:pt x="424" y="981"/>
                      </a:lnTo>
                      <a:lnTo>
                        <a:pt x="412" y="981"/>
                      </a:lnTo>
                      <a:lnTo>
                        <a:pt x="412" y="970"/>
                      </a:lnTo>
                      <a:lnTo>
                        <a:pt x="401" y="959"/>
                      </a:lnTo>
                      <a:lnTo>
                        <a:pt x="401" y="948"/>
                      </a:lnTo>
                      <a:lnTo>
                        <a:pt x="379" y="992"/>
                      </a:lnTo>
                      <a:lnTo>
                        <a:pt x="368" y="1037"/>
                      </a:lnTo>
                      <a:lnTo>
                        <a:pt x="357" y="1070"/>
                      </a:lnTo>
                      <a:lnTo>
                        <a:pt x="334" y="1104"/>
                      </a:lnTo>
                      <a:lnTo>
                        <a:pt x="312" y="1137"/>
                      </a:lnTo>
                      <a:lnTo>
                        <a:pt x="290" y="1171"/>
                      </a:lnTo>
                      <a:lnTo>
                        <a:pt x="256" y="1204"/>
                      </a:lnTo>
                      <a:lnTo>
                        <a:pt x="212" y="1226"/>
                      </a:lnTo>
                      <a:lnTo>
                        <a:pt x="212" y="1159"/>
                      </a:lnTo>
                      <a:lnTo>
                        <a:pt x="201" y="1104"/>
                      </a:lnTo>
                      <a:lnTo>
                        <a:pt x="201" y="1037"/>
                      </a:lnTo>
                      <a:lnTo>
                        <a:pt x="201" y="959"/>
                      </a:lnTo>
                      <a:lnTo>
                        <a:pt x="178" y="959"/>
                      </a:lnTo>
                      <a:lnTo>
                        <a:pt x="167" y="970"/>
                      </a:lnTo>
                      <a:lnTo>
                        <a:pt x="145" y="970"/>
                      </a:lnTo>
                      <a:lnTo>
                        <a:pt x="134" y="970"/>
                      </a:lnTo>
                      <a:lnTo>
                        <a:pt x="111" y="970"/>
                      </a:lnTo>
                      <a:lnTo>
                        <a:pt x="89" y="959"/>
                      </a:lnTo>
                      <a:lnTo>
                        <a:pt x="78" y="959"/>
                      </a:lnTo>
                      <a:lnTo>
                        <a:pt x="56" y="937"/>
                      </a:lnTo>
                      <a:lnTo>
                        <a:pt x="45" y="914"/>
                      </a:lnTo>
                      <a:lnTo>
                        <a:pt x="22" y="881"/>
                      </a:lnTo>
                      <a:lnTo>
                        <a:pt x="11" y="847"/>
                      </a:lnTo>
                      <a:lnTo>
                        <a:pt x="11" y="814"/>
                      </a:lnTo>
                      <a:lnTo>
                        <a:pt x="0" y="792"/>
                      </a:lnTo>
                      <a:lnTo>
                        <a:pt x="0" y="758"/>
                      </a:lnTo>
                      <a:lnTo>
                        <a:pt x="11" y="725"/>
                      </a:lnTo>
                      <a:lnTo>
                        <a:pt x="11" y="702"/>
                      </a:lnTo>
                      <a:lnTo>
                        <a:pt x="22" y="691"/>
                      </a:lnTo>
                      <a:lnTo>
                        <a:pt x="33" y="680"/>
                      </a:lnTo>
                      <a:lnTo>
                        <a:pt x="45" y="680"/>
                      </a:lnTo>
                      <a:lnTo>
                        <a:pt x="45" y="669"/>
                      </a:lnTo>
                      <a:lnTo>
                        <a:pt x="56" y="602"/>
                      </a:lnTo>
                      <a:lnTo>
                        <a:pt x="56" y="535"/>
                      </a:lnTo>
                      <a:lnTo>
                        <a:pt x="56" y="468"/>
                      </a:lnTo>
                      <a:lnTo>
                        <a:pt x="78" y="402"/>
                      </a:lnTo>
                      <a:lnTo>
                        <a:pt x="78" y="379"/>
                      </a:lnTo>
                      <a:lnTo>
                        <a:pt x="100" y="357"/>
                      </a:lnTo>
                      <a:lnTo>
                        <a:pt x="111" y="335"/>
                      </a:lnTo>
                      <a:lnTo>
                        <a:pt x="123" y="312"/>
                      </a:lnTo>
                      <a:lnTo>
                        <a:pt x="145" y="301"/>
                      </a:lnTo>
                      <a:lnTo>
                        <a:pt x="167" y="279"/>
                      </a:lnTo>
                      <a:lnTo>
                        <a:pt x="178" y="257"/>
                      </a:lnTo>
                      <a:lnTo>
                        <a:pt x="201" y="245"/>
                      </a:lnTo>
                      <a:lnTo>
                        <a:pt x="223" y="234"/>
                      </a:lnTo>
                      <a:lnTo>
                        <a:pt x="245" y="212"/>
                      </a:lnTo>
                      <a:lnTo>
                        <a:pt x="279" y="201"/>
                      </a:lnTo>
                      <a:lnTo>
                        <a:pt x="301" y="201"/>
                      </a:lnTo>
                      <a:lnTo>
                        <a:pt x="323" y="190"/>
                      </a:lnTo>
                      <a:lnTo>
                        <a:pt x="346" y="179"/>
                      </a:lnTo>
                      <a:lnTo>
                        <a:pt x="368" y="179"/>
                      </a:lnTo>
                      <a:lnTo>
                        <a:pt x="401" y="179"/>
                      </a:lnTo>
                      <a:lnTo>
                        <a:pt x="401" y="167"/>
                      </a:lnTo>
                      <a:lnTo>
                        <a:pt x="401" y="134"/>
                      </a:lnTo>
                      <a:lnTo>
                        <a:pt x="412" y="112"/>
                      </a:lnTo>
                      <a:lnTo>
                        <a:pt x="424" y="101"/>
                      </a:lnTo>
                      <a:lnTo>
                        <a:pt x="435" y="101"/>
                      </a:lnTo>
                      <a:lnTo>
                        <a:pt x="457" y="101"/>
                      </a:lnTo>
                      <a:lnTo>
                        <a:pt x="490" y="101"/>
                      </a:lnTo>
                      <a:lnTo>
                        <a:pt x="535" y="89"/>
                      </a:lnTo>
                      <a:lnTo>
                        <a:pt x="568" y="89"/>
                      </a:lnTo>
                      <a:lnTo>
                        <a:pt x="602" y="89"/>
                      </a:lnTo>
                      <a:lnTo>
                        <a:pt x="624" y="89"/>
                      </a:lnTo>
                      <a:lnTo>
                        <a:pt x="635" y="89"/>
                      </a:lnTo>
                      <a:lnTo>
                        <a:pt x="635" y="67"/>
                      </a:lnTo>
                      <a:lnTo>
                        <a:pt x="624" y="56"/>
                      </a:lnTo>
                      <a:lnTo>
                        <a:pt x="624" y="23"/>
                      </a:lnTo>
                      <a:lnTo>
                        <a:pt x="613" y="0"/>
                      </a:lnTo>
                      <a:lnTo>
                        <a:pt x="624" y="0"/>
                      </a:lnTo>
                      <a:lnTo>
                        <a:pt x="646" y="0"/>
                      </a:lnTo>
                      <a:lnTo>
                        <a:pt x="658" y="0"/>
                      </a:lnTo>
                      <a:lnTo>
                        <a:pt x="680" y="0"/>
                      </a:lnTo>
                      <a:lnTo>
                        <a:pt x="702" y="11"/>
                      </a:lnTo>
                      <a:lnTo>
                        <a:pt x="724" y="11"/>
                      </a:lnTo>
                      <a:lnTo>
                        <a:pt x="736" y="23"/>
                      </a:lnTo>
                      <a:lnTo>
                        <a:pt x="758" y="34"/>
                      </a:lnTo>
                      <a:lnTo>
                        <a:pt x="780" y="45"/>
                      </a:lnTo>
                      <a:lnTo>
                        <a:pt x="802" y="45"/>
                      </a:lnTo>
                      <a:lnTo>
                        <a:pt x="814" y="56"/>
                      </a:lnTo>
                      <a:lnTo>
                        <a:pt x="836" y="67"/>
                      </a:lnTo>
                      <a:lnTo>
                        <a:pt x="847" y="78"/>
                      </a:lnTo>
                      <a:lnTo>
                        <a:pt x="869" y="89"/>
                      </a:lnTo>
                      <a:lnTo>
                        <a:pt x="880" y="101"/>
                      </a:lnTo>
                      <a:lnTo>
                        <a:pt x="892" y="112"/>
                      </a:lnTo>
                      <a:lnTo>
                        <a:pt x="914" y="101"/>
                      </a:lnTo>
                      <a:lnTo>
                        <a:pt x="925" y="89"/>
                      </a:lnTo>
                      <a:lnTo>
                        <a:pt x="936" y="89"/>
                      </a:lnTo>
                      <a:lnTo>
                        <a:pt x="959" y="78"/>
                      </a:lnTo>
                      <a:lnTo>
                        <a:pt x="970" y="67"/>
                      </a:lnTo>
                      <a:lnTo>
                        <a:pt x="992" y="56"/>
                      </a:lnTo>
                      <a:lnTo>
                        <a:pt x="1003" y="56"/>
                      </a:lnTo>
                      <a:lnTo>
                        <a:pt x="1025" y="45"/>
                      </a:lnTo>
                      <a:lnTo>
                        <a:pt x="1037" y="45"/>
                      </a:lnTo>
                      <a:lnTo>
                        <a:pt x="1059" y="34"/>
                      </a:lnTo>
                      <a:lnTo>
                        <a:pt x="1070" y="34"/>
                      </a:lnTo>
                      <a:lnTo>
                        <a:pt x="1092" y="34"/>
                      </a:lnTo>
                      <a:lnTo>
                        <a:pt x="1115" y="34"/>
                      </a:lnTo>
                      <a:lnTo>
                        <a:pt x="1126" y="23"/>
                      </a:lnTo>
                      <a:lnTo>
                        <a:pt x="1148" y="23"/>
                      </a:lnTo>
                      <a:lnTo>
                        <a:pt x="1170" y="34"/>
                      </a:lnTo>
                      <a:lnTo>
                        <a:pt x="1170" y="45"/>
                      </a:lnTo>
                      <a:lnTo>
                        <a:pt x="1159" y="56"/>
                      </a:lnTo>
                      <a:lnTo>
                        <a:pt x="1148" y="67"/>
                      </a:lnTo>
                      <a:lnTo>
                        <a:pt x="1137" y="89"/>
                      </a:lnTo>
                      <a:lnTo>
                        <a:pt x="1159" y="89"/>
                      </a:lnTo>
                      <a:lnTo>
                        <a:pt x="1170" y="89"/>
                      </a:lnTo>
                      <a:lnTo>
                        <a:pt x="1193" y="89"/>
                      </a:lnTo>
                      <a:lnTo>
                        <a:pt x="1215" y="89"/>
                      </a:lnTo>
                      <a:lnTo>
                        <a:pt x="1237" y="89"/>
                      </a:lnTo>
                      <a:lnTo>
                        <a:pt x="1259" y="89"/>
                      </a:lnTo>
                      <a:lnTo>
                        <a:pt x="1271" y="89"/>
                      </a:lnTo>
                      <a:lnTo>
                        <a:pt x="1293" y="89"/>
                      </a:lnTo>
                      <a:lnTo>
                        <a:pt x="1326" y="101"/>
                      </a:lnTo>
                      <a:lnTo>
                        <a:pt x="1349" y="101"/>
                      </a:lnTo>
                      <a:lnTo>
                        <a:pt x="1371" y="112"/>
                      </a:lnTo>
                      <a:lnTo>
                        <a:pt x="1382" y="123"/>
                      </a:lnTo>
                      <a:lnTo>
                        <a:pt x="1393" y="134"/>
                      </a:lnTo>
                      <a:lnTo>
                        <a:pt x="1415" y="156"/>
                      </a:lnTo>
                      <a:lnTo>
                        <a:pt x="1427" y="179"/>
                      </a:lnTo>
                      <a:lnTo>
                        <a:pt x="1449" y="201"/>
                      </a:lnTo>
                      <a:lnTo>
                        <a:pt x="1449" y="212"/>
                      </a:lnTo>
                      <a:lnTo>
                        <a:pt x="1471" y="223"/>
                      </a:lnTo>
                      <a:lnTo>
                        <a:pt x="1493" y="234"/>
                      </a:lnTo>
                      <a:lnTo>
                        <a:pt x="1516" y="245"/>
                      </a:lnTo>
                      <a:lnTo>
                        <a:pt x="1538" y="257"/>
                      </a:lnTo>
                      <a:lnTo>
                        <a:pt x="1560" y="279"/>
                      </a:lnTo>
                      <a:lnTo>
                        <a:pt x="1571" y="290"/>
                      </a:lnTo>
                      <a:lnTo>
                        <a:pt x="1583" y="312"/>
                      </a:lnTo>
                      <a:lnTo>
                        <a:pt x="1594" y="346"/>
                      </a:lnTo>
                      <a:lnTo>
                        <a:pt x="1594" y="379"/>
                      </a:lnTo>
                      <a:lnTo>
                        <a:pt x="1583" y="424"/>
                      </a:lnTo>
                      <a:lnTo>
                        <a:pt x="1583" y="457"/>
                      </a:lnTo>
                      <a:lnTo>
                        <a:pt x="1594" y="457"/>
                      </a:lnTo>
                      <a:lnTo>
                        <a:pt x="1605" y="468"/>
                      </a:lnTo>
                      <a:lnTo>
                        <a:pt x="1605" y="480"/>
                      </a:lnTo>
                      <a:lnTo>
                        <a:pt x="1616" y="480"/>
                      </a:lnTo>
                      <a:lnTo>
                        <a:pt x="1638" y="535"/>
                      </a:lnTo>
                      <a:lnTo>
                        <a:pt x="1661" y="580"/>
                      </a:lnTo>
                      <a:lnTo>
                        <a:pt x="1683" y="647"/>
                      </a:lnTo>
                      <a:lnTo>
                        <a:pt x="1683" y="702"/>
                      </a:lnTo>
                      <a:lnTo>
                        <a:pt x="1694" y="769"/>
                      </a:lnTo>
                      <a:lnTo>
                        <a:pt x="1683" y="836"/>
                      </a:lnTo>
                      <a:lnTo>
                        <a:pt x="1683" y="892"/>
                      </a:lnTo>
                      <a:lnTo>
                        <a:pt x="1672" y="948"/>
                      </a:lnTo>
                      <a:lnTo>
                        <a:pt x="1661" y="981"/>
                      </a:lnTo>
                      <a:lnTo>
                        <a:pt x="1661" y="1003"/>
                      </a:lnTo>
                      <a:lnTo>
                        <a:pt x="1650" y="1015"/>
                      </a:lnTo>
                      <a:lnTo>
                        <a:pt x="1638" y="1026"/>
                      </a:lnTo>
                      <a:lnTo>
                        <a:pt x="1627" y="1037"/>
                      </a:lnTo>
                      <a:lnTo>
                        <a:pt x="1616" y="1037"/>
                      </a:lnTo>
                      <a:lnTo>
                        <a:pt x="1605" y="1037"/>
                      </a:lnTo>
                      <a:lnTo>
                        <a:pt x="1594" y="1037"/>
                      </a:lnTo>
                      <a:lnTo>
                        <a:pt x="1583" y="1037"/>
                      </a:lnTo>
                      <a:lnTo>
                        <a:pt x="1549" y="1048"/>
                      </a:lnTo>
                      <a:lnTo>
                        <a:pt x="1516" y="1070"/>
                      </a:lnTo>
                      <a:lnTo>
                        <a:pt x="1493" y="1104"/>
                      </a:lnTo>
                      <a:lnTo>
                        <a:pt x="1471" y="1148"/>
                      </a:lnTo>
                      <a:lnTo>
                        <a:pt x="1460" y="1182"/>
                      </a:lnTo>
                      <a:lnTo>
                        <a:pt x="1449" y="1226"/>
                      </a:lnTo>
                      <a:lnTo>
                        <a:pt x="1438" y="1271"/>
                      </a:lnTo>
                      <a:lnTo>
                        <a:pt x="1415" y="1304"/>
                      </a:lnTo>
                      <a:lnTo>
                        <a:pt x="1404" y="1282"/>
                      </a:lnTo>
                      <a:lnTo>
                        <a:pt x="1393" y="1260"/>
                      </a:lnTo>
                      <a:lnTo>
                        <a:pt x="1382" y="1237"/>
                      </a:lnTo>
                      <a:lnTo>
                        <a:pt x="1382" y="1226"/>
                      </a:lnTo>
                      <a:lnTo>
                        <a:pt x="1371" y="1171"/>
                      </a:lnTo>
                      <a:lnTo>
                        <a:pt x="1371" y="1115"/>
                      </a:lnTo>
                      <a:lnTo>
                        <a:pt x="1360" y="1081"/>
                      </a:lnTo>
                      <a:lnTo>
                        <a:pt x="1349" y="1037"/>
                      </a:lnTo>
                      <a:lnTo>
                        <a:pt x="1326" y="1003"/>
                      </a:lnTo>
                      <a:lnTo>
                        <a:pt x="1315" y="970"/>
                      </a:lnTo>
                      <a:lnTo>
                        <a:pt x="1282" y="948"/>
                      </a:lnTo>
                      <a:lnTo>
                        <a:pt x="1259" y="925"/>
                      </a:lnTo>
                      <a:lnTo>
                        <a:pt x="1237" y="903"/>
                      </a:lnTo>
                      <a:lnTo>
                        <a:pt x="1215" y="892"/>
                      </a:lnTo>
                      <a:lnTo>
                        <a:pt x="1204" y="881"/>
                      </a:lnTo>
                      <a:lnTo>
                        <a:pt x="1181" y="870"/>
                      </a:lnTo>
                      <a:lnTo>
                        <a:pt x="1170" y="858"/>
                      </a:lnTo>
                      <a:lnTo>
                        <a:pt x="1148" y="858"/>
                      </a:lnTo>
                      <a:lnTo>
                        <a:pt x="1126" y="858"/>
                      </a:lnTo>
                      <a:lnTo>
                        <a:pt x="1115" y="858"/>
                      </a:lnTo>
                      <a:lnTo>
                        <a:pt x="1103" y="858"/>
                      </a:lnTo>
                      <a:lnTo>
                        <a:pt x="1081" y="847"/>
                      </a:lnTo>
                      <a:lnTo>
                        <a:pt x="1070" y="836"/>
                      </a:lnTo>
                      <a:lnTo>
                        <a:pt x="1048" y="825"/>
                      </a:lnTo>
                      <a:lnTo>
                        <a:pt x="1037" y="814"/>
                      </a:lnTo>
                      <a:lnTo>
                        <a:pt x="1025" y="792"/>
                      </a:lnTo>
                      <a:lnTo>
                        <a:pt x="1025" y="769"/>
                      </a:lnTo>
                      <a:lnTo>
                        <a:pt x="1025" y="747"/>
                      </a:lnTo>
                      <a:lnTo>
                        <a:pt x="1014" y="747"/>
                      </a:lnTo>
                      <a:lnTo>
                        <a:pt x="1003" y="747"/>
                      </a:lnTo>
                      <a:lnTo>
                        <a:pt x="992" y="747"/>
                      </a:lnTo>
                      <a:lnTo>
                        <a:pt x="981" y="747"/>
                      </a:lnTo>
                      <a:lnTo>
                        <a:pt x="970" y="758"/>
                      </a:lnTo>
                      <a:lnTo>
                        <a:pt x="959" y="758"/>
                      </a:lnTo>
                      <a:lnTo>
                        <a:pt x="947" y="736"/>
                      </a:lnTo>
                      <a:lnTo>
                        <a:pt x="936" y="714"/>
                      </a:lnTo>
                      <a:lnTo>
                        <a:pt x="925" y="691"/>
                      </a:lnTo>
                      <a:lnTo>
                        <a:pt x="914" y="658"/>
                      </a:lnTo>
                      <a:lnTo>
                        <a:pt x="903" y="636"/>
                      </a:lnTo>
                      <a:lnTo>
                        <a:pt x="903" y="602"/>
                      </a:lnTo>
                      <a:lnTo>
                        <a:pt x="892" y="569"/>
                      </a:lnTo>
                      <a:lnTo>
                        <a:pt x="892" y="535"/>
                      </a:lnTo>
                      <a:close/>
                    </a:path>
                  </a:pathLst>
                </a:custGeom>
                <a:solidFill>
                  <a:srgbClr val="f5b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Freeform 791"/>
                <p:cNvSpPr/>
                <p:nvPr/>
              </p:nvSpPr>
              <p:spPr>
                <a:xfrm rot="111600">
                  <a:off x="1163520" y="1278720"/>
                  <a:ext cx="3240" cy="11520"/>
                </a:xfrm>
                <a:custGeom>
                  <a:avLst/>
                  <a:gdLst>
                    <a:gd name="textAreaLeft" fmla="*/ 0 w 3240"/>
                    <a:gd name="textAreaRight" fmla="*/ 3600 w 3240"/>
                    <a:gd name="textAreaTop" fmla="*/ 0 h 11520"/>
                    <a:gd name="textAreaBottom" fmla="*/ 11880 h 11520"/>
                  </a:gdLst>
                  <a:ahLst/>
                  <a:rect l="textAreaLeft" t="textAreaTop" r="textAreaRight" b="textAreaBottom"/>
                  <a:pathLst>
                    <a:path w="34" h="89">
                      <a:moveTo>
                        <a:pt x="11" y="89"/>
                      </a:moveTo>
                      <a:lnTo>
                        <a:pt x="11" y="89"/>
                      </a:lnTo>
                      <a:lnTo>
                        <a:pt x="23" y="67"/>
                      </a:lnTo>
                      <a:lnTo>
                        <a:pt x="23" y="45"/>
                      </a:lnTo>
                      <a:lnTo>
                        <a:pt x="34" y="23"/>
                      </a:lnTo>
                      <a:lnTo>
                        <a:pt x="34" y="0"/>
                      </a:lnTo>
                      <a:lnTo>
                        <a:pt x="11" y="0"/>
                      </a:lnTo>
                      <a:lnTo>
                        <a:pt x="11" y="23"/>
                      </a:lnTo>
                      <a:lnTo>
                        <a:pt x="11" y="45"/>
                      </a:lnTo>
                      <a:lnTo>
                        <a:pt x="0" y="67"/>
                      </a:lnTo>
                      <a:lnTo>
                        <a:pt x="0" y="78"/>
                      </a:lnTo>
                      <a:lnTo>
                        <a:pt x="11"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Freeform 790"/>
                <p:cNvSpPr/>
                <p:nvPr/>
              </p:nvSpPr>
              <p:spPr>
                <a:xfrm rot="111600">
                  <a:off x="1148040" y="1288800"/>
                  <a:ext cx="16200" cy="26640"/>
                </a:xfrm>
                <a:custGeom>
                  <a:avLst/>
                  <a:gdLst>
                    <a:gd name="textAreaLeft" fmla="*/ 0 w 16200"/>
                    <a:gd name="textAreaRight" fmla="*/ 16560 w 16200"/>
                    <a:gd name="textAreaTop" fmla="*/ 0 h 26640"/>
                    <a:gd name="textAreaBottom" fmla="*/ 27000 h 26640"/>
                  </a:gdLst>
                  <a:ahLst/>
                  <a:rect l="textAreaLeft" t="textAreaTop" r="textAreaRight" b="textAreaBottom"/>
                  <a:pathLst>
                    <a:path w="167" h="201">
                      <a:moveTo>
                        <a:pt x="23" y="201"/>
                      </a:moveTo>
                      <a:lnTo>
                        <a:pt x="23" y="201"/>
                      </a:lnTo>
                      <a:lnTo>
                        <a:pt x="34" y="179"/>
                      </a:lnTo>
                      <a:lnTo>
                        <a:pt x="56" y="156"/>
                      </a:lnTo>
                      <a:lnTo>
                        <a:pt x="78" y="134"/>
                      </a:lnTo>
                      <a:lnTo>
                        <a:pt x="101" y="112"/>
                      </a:lnTo>
                      <a:lnTo>
                        <a:pt x="123" y="89"/>
                      </a:lnTo>
                      <a:lnTo>
                        <a:pt x="134" y="67"/>
                      </a:lnTo>
                      <a:lnTo>
                        <a:pt x="156" y="34"/>
                      </a:lnTo>
                      <a:lnTo>
                        <a:pt x="167" y="11"/>
                      </a:lnTo>
                      <a:lnTo>
                        <a:pt x="156" y="0"/>
                      </a:lnTo>
                      <a:lnTo>
                        <a:pt x="134" y="23"/>
                      </a:lnTo>
                      <a:lnTo>
                        <a:pt x="123" y="56"/>
                      </a:lnTo>
                      <a:lnTo>
                        <a:pt x="101" y="78"/>
                      </a:lnTo>
                      <a:lnTo>
                        <a:pt x="89" y="101"/>
                      </a:lnTo>
                      <a:lnTo>
                        <a:pt x="67" y="123"/>
                      </a:lnTo>
                      <a:lnTo>
                        <a:pt x="45" y="145"/>
                      </a:lnTo>
                      <a:lnTo>
                        <a:pt x="23" y="167"/>
                      </a:lnTo>
                      <a:lnTo>
                        <a:pt x="0" y="190"/>
                      </a:lnTo>
                      <a:lnTo>
                        <a:pt x="23" y="201"/>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Freeform 789"/>
                <p:cNvSpPr/>
                <p:nvPr/>
              </p:nvSpPr>
              <p:spPr>
                <a:xfrm rot="111600">
                  <a:off x="1136160" y="1313640"/>
                  <a:ext cx="12960" cy="5760"/>
                </a:xfrm>
                <a:custGeom>
                  <a:avLst/>
                  <a:gdLst>
                    <a:gd name="textAreaLeft" fmla="*/ 0 w 12960"/>
                    <a:gd name="textAreaRight" fmla="*/ 13320 w 12960"/>
                    <a:gd name="textAreaTop" fmla="*/ 0 h 5760"/>
                    <a:gd name="textAreaBottom" fmla="*/ 6120 h 5760"/>
                  </a:gdLst>
                  <a:ahLst/>
                  <a:rect l="textAreaLeft" t="textAreaTop" r="textAreaRight" b="textAreaBottom"/>
                  <a:pathLst>
                    <a:path w="134" h="44">
                      <a:moveTo>
                        <a:pt x="11" y="22"/>
                      </a:moveTo>
                      <a:lnTo>
                        <a:pt x="0" y="22"/>
                      </a:lnTo>
                      <a:lnTo>
                        <a:pt x="22" y="33"/>
                      </a:lnTo>
                      <a:lnTo>
                        <a:pt x="33" y="44"/>
                      </a:lnTo>
                      <a:lnTo>
                        <a:pt x="56" y="44"/>
                      </a:lnTo>
                      <a:lnTo>
                        <a:pt x="67" y="44"/>
                      </a:lnTo>
                      <a:lnTo>
                        <a:pt x="78" y="44"/>
                      </a:lnTo>
                      <a:lnTo>
                        <a:pt x="100" y="33"/>
                      </a:lnTo>
                      <a:lnTo>
                        <a:pt x="111" y="22"/>
                      </a:lnTo>
                      <a:lnTo>
                        <a:pt x="134" y="11"/>
                      </a:lnTo>
                      <a:lnTo>
                        <a:pt x="111" y="0"/>
                      </a:lnTo>
                      <a:lnTo>
                        <a:pt x="100" y="11"/>
                      </a:lnTo>
                      <a:lnTo>
                        <a:pt x="89" y="22"/>
                      </a:lnTo>
                      <a:lnTo>
                        <a:pt x="78" y="22"/>
                      </a:lnTo>
                      <a:lnTo>
                        <a:pt x="67" y="33"/>
                      </a:lnTo>
                      <a:lnTo>
                        <a:pt x="56" y="33"/>
                      </a:lnTo>
                      <a:lnTo>
                        <a:pt x="44" y="22"/>
                      </a:lnTo>
                      <a:lnTo>
                        <a:pt x="33" y="22"/>
                      </a:lnTo>
                      <a:lnTo>
                        <a:pt x="11" y="11"/>
                      </a:lnTo>
                      <a:lnTo>
                        <a:pt x="0" y="11"/>
                      </a:lnTo>
                      <a:lnTo>
                        <a:pt x="11" y="22"/>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Freeform 788"/>
                <p:cNvSpPr/>
                <p:nvPr/>
              </p:nvSpPr>
              <p:spPr>
                <a:xfrm rot="111600">
                  <a:off x="1120680" y="1314720"/>
                  <a:ext cx="16200" cy="29520"/>
                </a:xfrm>
                <a:custGeom>
                  <a:avLst/>
                  <a:gdLst>
                    <a:gd name="textAreaLeft" fmla="*/ 0 w 16200"/>
                    <a:gd name="textAreaRight" fmla="*/ 16560 w 16200"/>
                    <a:gd name="textAreaTop" fmla="*/ 0 h 29520"/>
                    <a:gd name="textAreaBottom" fmla="*/ 29880 h 29520"/>
                  </a:gdLst>
                  <a:ahLst/>
                  <a:rect l="textAreaLeft" t="textAreaTop" r="textAreaRight" b="textAreaBottom"/>
                  <a:pathLst>
                    <a:path w="167" h="223">
                      <a:moveTo>
                        <a:pt x="0" y="223"/>
                      </a:moveTo>
                      <a:lnTo>
                        <a:pt x="11" y="223"/>
                      </a:lnTo>
                      <a:lnTo>
                        <a:pt x="44" y="189"/>
                      </a:lnTo>
                      <a:lnTo>
                        <a:pt x="67" y="156"/>
                      </a:lnTo>
                      <a:lnTo>
                        <a:pt x="78" y="123"/>
                      </a:lnTo>
                      <a:lnTo>
                        <a:pt x="89" y="100"/>
                      </a:lnTo>
                      <a:lnTo>
                        <a:pt x="100" y="78"/>
                      </a:lnTo>
                      <a:lnTo>
                        <a:pt x="111" y="56"/>
                      </a:lnTo>
                      <a:lnTo>
                        <a:pt x="134" y="33"/>
                      </a:lnTo>
                      <a:lnTo>
                        <a:pt x="167" y="11"/>
                      </a:lnTo>
                      <a:lnTo>
                        <a:pt x="156" y="0"/>
                      </a:lnTo>
                      <a:lnTo>
                        <a:pt x="122" y="22"/>
                      </a:lnTo>
                      <a:lnTo>
                        <a:pt x="100" y="44"/>
                      </a:lnTo>
                      <a:lnTo>
                        <a:pt x="89" y="67"/>
                      </a:lnTo>
                      <a:lnTo>
                        <a:pt x="78" y="89"/>
                      </a:lnTo>
                      <a:lnTo>
                        <a:pt x="56" y="111"/>
                      </a:lnTo>
                      <a:lnTo>
                        <a:pt x="44" y="145"/>
                      </a:lnTo>
                      <a:lnTo>
                        <a:pt x="22" y="178"/>
                      </a:lnTo>
                      <a:lnTo>
                        <a:pt x="0" y="212"/>
                      </a:lnTo>
                      <a:lnTo>
                        <a:pt x="11" y="212"/>
                      </a:lnTo>
                      <a:lnTo>
                        <a:pt x="0" y="223"/>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Freeform 787"/>
                <p:cNvSpPr/>
                <p:nvPr/>
              </p:nvSpPr>
              <p:spPr>
                <a:xfrm rot="111600">
                  <a:off x="1115280" y="1330560"/>
                  <a:ext cx="6480" cy="12960"/>
                </a:xfrm>
                <a:custGeom>
                  <a:avLst/>
                  <a:gdLst>
                    <a:gd name="textAreaLeft" fmla="*/ 0 w 6480"/>
                    <a:gd name="textAreaRight" fmla="*/ 6840 w 6480"/>
                    <a:gd name="textAreaTop" fmla="*/ 0 h 12960"/>
                    <a:gd name="textAreaBottom" fmla="*/ 13320 h 12960"/>
                  </a:gdLst>
                  <a:ahLst/>
                  <a:rect l="textAreaLeft" t="textAreaTop" r="textAreaRight" b="textAreaBottom"/>
                  <a:pathLst>
                    <a:path w="67" h="100">
                      <a:moveTo>
                        <a:pt x="22" y="11"/>
                      </a:moveTo>
                      <a:lnTo>
                        <a:pt x="0" y="22"/>
                      </a:lnTo>
                      <a:lnTo>
                        <a:pt x="11" y="22"/>
                      </a:lnTo>
                      <a:lnTo>
                        <a:pt x="11" y="33"/>
                      </a:lnTo>
                      <a:lnTo>
                        <a:pt x="22" y="44"/>
                      </a:lnTo>
                      <a:lnTo>
                        <a:pt x="22" y="55"/>
                      </a:lnTo>
                      <a:lnTo>
                        <a:pt x="34" y="66"/>
                      </a:lnTo>
                      <a:lnTo>
                        <a:pt x="34" y="78"/>
                      </a:lnTo>
                      <a:lnTo>
                        <a:pt x="45" y="89"/>
                      </a:lnTo>
                      <a:lnTo>
                        <a:pt x="56" y="100"/>
                      </a:lnTo>
                      <a:lnTo>
                        <a:pt x="67" y="89"/>
                      </a:lnTo>
                      <a:lnTo>
                        <a:pt x="56" y="78"/>
                      </a:lnTo>
                      <a:lnTo>
                        <a:pt x="56" y="66"/>
                      </a:lnTo>
                      <a:lnTo>
                        <a:pt x="45" y="55"/>
                      </a:lnTo>
                      <a:lnTo>
                        <a:pt x="45" y="44"/>
                      </a:lnTo>
                      <a:lnTo>
                        <a:pt x="34" y="33"/>
                      </a:lnTo>
                      <a:lnTo>
                        <a:pt x="34" y="22"/>
                      </a:lnTo>
                      <a:lnTo>
                        <a:pt x="22" y="11"/>
                      </a:lnTo>
                      <a:lnTo>
                        <a:pt x="11" y="0"/>
                      </a:lnTo>
                      <a:lnTo>
                        <a:pt x="0" y="11"/>
                      </a:lnTo>
                      <a:lnTo>
                        <a:pt x="22" y="11"/>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Freeform 786"/>
                <p:cNvSpPr/>
                <p:nvPr/>
              </p:nvSpPr>
              <p:spPr>
                <a:xfrm rot="111600">
                  <a:off x="1097640" y="1331640"/>
                  <a:ext cx="19440" cy="38160"/>
                </a:xfrm>
                <a:custGeom>
                  <a:avLst/>
                  <a:gdLst>
                    <a:gd name="textAreaLeft" fmla="*/ 0 w 19440"/>
                    <a:gd name="textAreaRight" fmla="*/ 19800 w 19440"/>
                    <a:gd name="textAreaTop" fmla="*/ 0 h 38160"/>
                    <a:gd name="textAreaBottom" fmla="*/ 38520 h 38160"/>
                  </a:gdLst>
                  <a:ahLst/>
                  <a:rect l="textAreaLeft" t="textAreaTop" r="textAreaRight" b="textAreaBottom"/>
                  <a:pathLst>
                    <a:path w="200" h="289">
                      <a:moveTo>
                        <a:pt x="0" y="278"/>
                      </a:moveTo>
                      <a:lnTo>
                        <a:pt x="11" y="289"/>
                      </a:lnTo>
                      <a:lnTo>
                        <a:pt x="56" y="256"/>
                      </a:lnTo>
                      <a:lnTo>
                        <a:pt x="89" y="234"/>
                      </a:lnTo>
                      <a:lnTo>
                        <a:pt x="111" y="200"/>
                      </a:lnTo>
                      <a:lnTo>
                        <a:pt x="134" y="167"/>
                      </a:lnTo>
                      <a:lnTo>
                        <a:pt x="156" y="122"/>
                      </a:lnTo>
                      <a:lnTo>
                        <a:pt x="167" y="89"/>
                      </a:lnTo>
                      <a:lnTo>
                        <a:pt x="178" y="44"/>
                      </a:lnTo>
                      <a:lnTo>
                        <a:pt x="200" y="0"/>
                      </a:lnTo>
                      <a:lnTo>
                        <a:pt x="178" y="0"/>
                      </a:lnTo>
                      <a:lnTo>
                        <a:pt x="167" y="44"/>
                      </a:lnTo>
                      <a:lnTo>
                        <a:pt x="145" y="78"/>
                      </a:lnTo>
                      <a:lnTo>
                        <a:pt x="134" y="122"/>
                      </a:lnTo>
                      <a:lnTo>
                        <a:pt x="122" y="156"/>
                      </a:lnTo>
                      <a:lnTo>
                        <a:pt x="100" y="189"/>
                      </a:lnTo>
                      <a:lnTo>
                        <a:pt x="67" y="211"/>
                      </a:lnTo>
                      <a:lnTo>
                        <a:pt x="44" y="245"/>
                      </a:lnTo>
                      <a:lnTo>
                        <a:pt x="0" y="278"/>
                      </a:lnTo>
                      <a:lnTo>
                        <a:pt x="11" y="278"/>
                      </a:lnTo>
                      <a:lnTo>
                        <a:pt x="0" y="278"/>
                      </a:lnTo>
                      <a:close/>
                    </a:path>
                  </a:pathLst>
                </a:custGeom>
                <a:solidFill>
                  <a:srgbClr val="0000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Freeform 785"/>
                <p:cNvSpPr/>
                <p:nvPr/>
              </p:nvSpPr>
              <p:spPr>
                <a:xfrm rot="111600">
                  <a:off x="1095120" y="1331640"/>
                  <a:ext cx="3240" cy="36720"/>
                </a:xfrm>
                <a:custGeom>
                  <a:avLst/>
                  <a:gdLst>
                    <a:gd name="textAreaLeft" fmla="*/ 0 w 3240"/>
                    <a:gd name="textAreaRight" fmla="*/ 3600 w 3240"/>
                    <a:gd name="textAreaTop" fmla="*/ 0 h 36720"/>
                    <a:gd name="textAreaBottom" fmla="*/ 36720 h 36720"/>
                  </a:gdLst>
                  <a:ahLst/>
                  <a:rect l="textAreaLeft" t="textAreaTop" r="textAreaRight" b="textAreaBottom"/>
                  <a:pathLst>
                    <a:path w="34" h="278">
                      <a:moveTo>
                        <a:pt x="12" y="22"/>
                      </a:moveTo>
                      <a:lnTo>
                        <a:pt x="0" y="11"/>
                      </a:lnTo>
                      <a:lnTo>
                        <a:pt x="0" y="89"/>
                      </a:lnTo>
                      <a:lnTo>
                        <a:pt x="0" y="156"/>
                      </a:lnTo>
                      <a:lnTo>
                        <a:pt x="12" y="211"/>
                      </a:lnTo>
                      <a:lnTo>
                        <a:pt x="23" y="278"/>
                      </a:lnTo>
                      <a:lnTo>
                        <a:pt x="34" y="278"/>
                      </a:lnTo>
                      <a:lnTo>
                        <a:pt x="23" y="211"/>
                      </a:lnTo>
                      <a:lnTo>
                        <a:pt x="23" y="156"/>
                      </a:lnTo>
                      <a:lnTo>
                        <a:pt x="12" y="89"/>
                      </a:lnTo>
                      <a:lnTo>
                        <a:pt x="23" y="11"/>
                      </a:lnTo>
                      <a:lnTo>
                        <a:pt x="12" y="0"/>
                      </a:lnTo>
                      <a:lnTo>
                        <a:pt x="12" y="22"/>
                      </a:lnTo>
                      <a:close/>
                    </a:path>
                  </a:pathLst>
                </a:custGeom>
                <a:solidFill>
                  <a:srgbClr val="0000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Freeform 784"/>
                <p:cNvSpPr/>
                <p:nvPr/>
              </p:nvSpPr>
              <p:spPr>
                <a:xfrm rot="111600">
                  <a:off x="1081440" y="1329480"/>
                  <a:ext cx="15120" cy="5760"/>
                </a:xfrm>
                <a:custGeom>
                  <a:avLst/>
                  <a:gdLst>
                    <a:gd name="textAreaLeft" fmla="*/ 0 w 15120"/>
                    <a:gd name="textAreaRight" fmla="*/ 15480 w 15120"/>
                    <a:gd name="textAreaTop" fmla="*/ 0 h 5760"/>
                    <a:gd name="textAreaBottom" fmla="*/ 6120 h 5760"/>
                  </a:gdLst>
                  <a:ahLst/>
                  <a:rect l="textAreaLeft" t="textAreaTop" r="textAreaRight" b="textAreaBottom"/>
                  <a:pathLst>
                    <a:path w="156" h="44">
                      <a:moveTo>
                        <a:pt x="0" y="11"/>
                      </a:moveTo>
                      <a:lnTo>
                        <a:pt x="0" y="11"/>
                      </a:lnTo>
                      <a:lnTo>
                        <a:pt x="22" y="22"/>
                      </a:lnTo>
                      <a:lnTo>
                        <a:pt x="44" y="33"/>
                      </a:lnTo>
                      <a:lnTo>
                        <a:pt x="66" y="44"/>
                      </a:lnTo>
                      <a:lnTo>
                        <a:pt x="89" y="44"/>
                      </a:lnTo>
                      <a:lnTo>
                        <a:pt x="100" y="44"/>
                      </a:lnTo>
                      <a:lnTo>
                        <a:pt x="122" y="33"/>
                      </a:lnTo>
                      <a:lnTo>
                        <a:pt x="133" y="33"/>
                      </a:lnTo>
                      <a:lnTo>
                        <a:pt x="156" y="33"/>
                      </a:lnTo>
                      <a:lnTo>
                        <a:pt x="156" y="11"/>
                      </a:lnTo>
                      <a:lnTo>
                        <a:pt x="133" y="22"/>
                      </a:lnTo>
                      <a:lnTo>
                        <a:pt x="122" y="22"/>
                      </a:lnTo>
                      <a:lnTo>
                        <a:pt x="100" y="22"/>
                      </a:lnTo>
                      <a:lnTo>
                        <a:pt x="89" y="22"/>
                      </a:lnTo>
                      <a:lnTo>
                        <a:pt x="66" y="22"/>
                      </a:lnTo>
                      <a:lnTo>
                        <a:pt x="44" y="22"/>
                      </a:lnTo>
                      <a:lnTo>
                        <a:pt x="33" y="11"/>
                      </a:lnTo>
                      <a:lnTo>
                        <a:pt x="22" y="0"/>
                      </a:lnTo>
                      <a:lnTo>
                        <a:pt x="0" y="11"/>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Freeform 783"/>
                <p:cNvSpPr/>
                <p:nvPr/>
              </p:nvSpPr>
              <p:spPr>
                <a:xfrm rot="111600">
                  <a:off x="1076760" y="1296720"/>
                  <a:ext cx="7560" cy="34200"/>
                </a:xfrm>
                <a:custGeom>
                  <a:avLst/>
                  <a:gdLst>
                    <a:gd name="textAreaLeft" fmla="*/ 0 w 7560"/>
                    <a:gd name="textAreaRight" fmla="*/ 7920 w 7560"/>
                    <a:gd name="textAreaTop" fmla="*/ 0 h 34200"/>
                    <a:gd name="textAreaBottom" fmla="*/ 34560 h 34200"/>
                  </a:gdLst>
                  <a:ahLst/>
                  <a:rect l="textAreaLeft" t="textAreaTop" r="textAreaRight" b="textAreaBottom"/>
                  <a:pathLst>
                    <a:path w="78" h="257">
                      <a:moveTo>
                        <a:pt x="22" y="11"/>
                      </a:moveTo>
                      <a:lnTo>
                        <a:pt x="22" y="0"/>
                      </a:lnTo>
                      <a:lnTo>
                        <a:pt x="11" y="34"/>
                      </a:lnTo>
                      <a:lnTo>
                        <a:pt x="0" y="67"/>
                      </a:lnTo>
                      <a:lnTo>
                        <a:pt x="0" y="101"/>
                      </a:lnTo>
                      <a:lnTo>
                        <a:pt x="11" y="134"/>
                      </a:lnTo>
                      <a:lnTo>
                        <a:pt x="22" y="167"/>
                      </a:lnTo>
                      <a:lnTo>
                        <a:pt x="22" y="190"/>
                      </a:lnTo>
                      <a:lnTo>
                        <a:pt x="44" y="223"/>
                      </a:lnTo>
                      <a:lnTo>
                        <a:pt x="56" y="257"/>
                      </a:lnTo>
                      <a:lnTo>
                        <a:pt x="78" y="246"/>
                      </a:lnTo>
                      <a:lnTo>
                        <a:pt x="56" y="223"/>
                      </a:lnTo>
                      <a:lnTo>
                        <a:pt x="44" y="190"/>
                      </a:lnTo>
                      <a:lnTo>
                        <a:pt x="33" y="156"/>
                      </a:lnTo>
                      <a:lnTo>
                        <a:pt x="22" y="123"/>
                      </a:lnTo>
                      <a:lnTo>
                        <a:pt x="22" y="101"/>
                      </a:lnTo>
                      <a:lnTo>
                        <a:pt x="22" y="67"/>
                      </a:lnTo>
                      <a:lnTo>
                        <a:pt x="22" y="34"/>
                      </a:lnTo>
                      <a:lnTo>
                        <a:pt x="33" y="11"/>
                      </a:lnTo>
                      <a:lnTo>
                        <a:pt x="22" y="11"/>
                      </a:lnTo>
                      <a:close/>
                    </a:path>
                  </a:pathLst>
                </a:custGeom>
                <a:solidFill>
                  <a:srgbClr val="000000"/>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Freeform 782"/>
                <p:cNvSpPr/>
                <p:nvPr/>
              </p:nvSpPr>
              <p:spPr>
                <a:xfrm rot="111600">
                  <a:off x="1079280" y="1293840"/>
                  <a:ext cx="4320" cy="4320"/>
                </a:xfrm>
                <a:custGeom>
                  <a:avLst/>
                  <a:gdLst>
                    <a:gd name="textAreaLeft" fmla="*/ 0 w 4320"/>
                    <a:gd name="textAreaRight" fmla="*/ 4320 w 4320"/>
                    <a:gd name="textAreaTop" fmla="*/ 0 h 4320"/>
                    <a:gd name="textAreaBottom" fmla="*/ 4680 h 4320"/>
                  </a:gdLst>
                  <a:ahLst/>
                  <a:rect l="textAreaLeft" t="textAreaTop" r="textAreaRight" b="textAreaBottom"/>
                  <a:pathLst>
                    <a:path w="45" h="33">
                      <a:moveTo>
                        <a:pt x="22" y="0"/>
                      </a:moveTo>
                      <a:lnTo>
                        <a:pt x="22" y="0"/>
                      </a:lnTo>
                      <a:lnTo>
                        <a:pt x="11" y="11"/>
                      </a:lnTo>
                      <a:lnTo>
                        <a:pt x="0" y="22"/>
                      </a:lnTo>
                      <a:lnTo>
                        <a:pt x="0" y="33"/>
                      </a:lnTo>
                      <a:lnTo>
                        <a:pt x="11" y="33"/>
                      </a:lnTo>
                      <a:lnTo>
                        <a:pt x="22" y="33"/>
                      </a:lnTo>
                      <a:lnTo>
                        <a:pt x="22" y="22"/>
                      </a:lnTo>
                      <a:lnTo>
                        <a:pt x="34" y="11"/>
                      </a:lnTo>
                      <a:lnTo>
                        <a:pt x="45" y="0"/>
                      </a:lnTo>
                      <a:lnTo>
                        <a:pt x="22" y="0"/>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Freeform 781"/>
                <p:cNvSpPr/>
                <p:nvPr/>
              </p:nvSpPr>
              <p:spPr>
                <a:xfrm rot="111600">
                  <a:off x="1082160" y="1258560"/>
                  <a:ext cx="4320" cy="35280"/>
                </a:xfrm>
                <a:custGeom>
                  <a:avLst/>
                  <a:gdLst>
                    <a:gd name="textAreaLeft" fmla="*/ 0 w 4320"/>
                    <a:gd name="textAreaRight" fmla="*/ 4320 w 4320"/>
                    <a:gd name="textAreaTop" fmla="*/ 0 h 35280"/>
                    <a:gd name="textAreaBottom" fmla="*/ 35640 h 35280"/>
                  </a:gdLst>
                  <a:ahLst/>
                  <a:rect l="textAreaLeft" t="textAreaTop" r="textAreaRight" b="textAreaBottom"/>
                  <a:pathLst>
                    <a:path w="45" h="267">
                      <a:moveTo>
                        <a:pt x="34" y="0"/>
                      </a:moveTo>
                      <a:lnTo>
                        <a:pt x="34" y="0"/>
                      </a:lnTo>
                      <a:lnTo>
                        <a:pt x="12" y="66"/>
                      </a:lnTo>
                      <a:lnTo>
                        <a:pt x="12" y="133"/>
                      </a:lnTo>
                      <a:lnTo>
                        <a:pt x="12" y="200"/>
                      </a:lnTo>
                      <a:lnTo>
                        <a:pt x="0" y="267"/>
                      </a:lnTo>
                      <a:lnTo>
                        <a:pt x="23" y="267"/>
                      </a:lnTo>
                      <a:lnTo>
                        <a:pt x="34" y="200"/>
                      </a:lnTo>
                      <a:lnTo>
                        <a:pt x="34" y="133"/>
                      </a:lnTo>
                      <a:lnTo>
                        <a:pt x="34" y="66"/>
                      </a:lnTo>
                      <a:lnTo>
                        <a:pt x="45" y="0"/>
                      </a:lnTo>
                      <a:lnTo>
                        <a:pt x="34" y="0"/>
                      </a:lnTo>
                      <a:close/>
                    </a:path>
                  </a:pathLst>
                </a:custGeom>
                <a:solidFill>
                  <a:srgbClr val="00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Freeform 780"/>
                <p:cNvSpPr/>
                <p:nvPr/>
              </p:nvSpPr>
              <p:spPr>
                <a:xfrm rot="111600">
                  <a:off x="1086480" y="1227600"/>
                  <a:ext cx="32400" cy="30960"/>
                </a:xfrm>
                <a:custGeom>
                  <a:avLst/>
                  <a:gdLst>
                    <a:gd name="textAreaLeft" fmla="*/ 0 w 32400"/>
                    <a:gd name="textAreaRight" fmla="*/ 32760 w 32400"/>
                    <a:gd name="textAreaTop" fmla="*/ 0 h 30960"/>
                    <a:gd name="textAreaBottom" fmla="*/ 31320 h 30960"/>
                  </a:gdLst>
                  <a:ahLst/>
                  <a:rect l="textAreaLeft" t="textAreaTop" r="textAreaRight" b="textAreaBottom"/>
                  <a:pathLst>
                    <a:path w="334" h="235">
                      <a:moveTo>
                        <a:pt x="323" y="12"/>
                      </a:moveTo>
                      <a:lnTo>
                        <a:pt x="334" y="0"/>
                      </a:lnTo>
                      <a:lnTo>
                        <a:pt x="301" y="0"/>
                      </a:lnTo>
                      <a:lnTo>
                        <a:pt x="279" y="0"/>
                      </a:lnTo>
                      <a:lnTo>
                        <a:pt x="256" y="12"/>
                      </a:lnTo>
                      <a:lnTo>
                        <a:pt x="234" y="23"/>
                      </a:lnTo>
                      <a:lnTo>
                        <a:pt x="201" y="34"/>
                      </a:lnTo>
                      <a:lnTo>
                        <a:pt x="178" y="45"/>
                      </a:lnTo>
                      <a:lnTo>
                        <a:pt x="156" y="56"/>
                      </a:lnTo>
                      <a:lnTo>
                        <a:pt x="134" y="67"/>
                      </a:lnTo>
                      <a:lnTo>
                        <a:pt x="111" y="90"/>
                      </a:lnTo>
                      <a:lnTo>
                        <a:pt x="89" y="101"/>
                      </a:lnTo>
                      <a:lnTo>
                        <a:pt x="67" y="123"/>
                      </a:lnTo>
                      <a:lnTo>
                        <a:pt x="56" y="145"/>
                      </a:lnTo>
                      <a:lnTo>
                        <a:pt x="33" y="168"/>
                      </a:lnTo>
                      <a:lnTo>
                        <a:pt x="22" y="190"/>
                      </a:lnTo>
                      <a:lnTo>
                        <a:pt x="11" y="212"/>
                      </a:lnTo>
                      <a:lnTo>
                        <a:pt x="0" y="235"/>
                      </a:lnTo>
                      <a:lnTo>
                        <a:pt x="11" y="235"/>
                      </a:lnTo>
                      <a:lnTo>
                        <a:pt x="22" y="212"/>
                      </a:lnTo>
                      <a:lnTo>
                        <a:pt x="33" y="201"/>
                      </a:lnTo>
                      <a:lnTo>
                        <a:pt x="44" y="179"/>
                      </a:lnTo>
                      <a:lnTo>
                        <a:pt x="67" y="156"/>
                      </a:lnTo>
                      <a:lnTo>
                        <a:pt x="78" y="134"/>
                      </a:lnTo>
                      <a:lnTo>
                        <a:pt x="100" y="123"/>
                      </a:lnTo>
                      <a:lnTo>
                        <a:pt x="122" y="101"/>
                      </a:lnTo>
                      <a:lnTo>
                        <a:pt x="145" y="90"/>
                      </a:lnTo>
                      <a:lnTo>
                        <a:pt x="167" y="67"/>
                      </a:lnTo>
                      <a:lnTo>
                        <a:pt x="189" y="56"/>
                      </a:lnTo>
                      <a:lnTo>
                        <a:pt x="212" y="45"/>
                      </a:lnTo>
                      <a:lnTo>
                        <a:pt x="234" y="34"/>
                      </a:lnTo>
                      <a:lnTo>
                        <a:pt x="256" y="34"/>
                      </a:lnTo>
                      <a:lnTo>
                        <a:pt x="279" y="23"/>
                      </a:lnTo>
                      <a:lnTo>
                        <a:pt x="301" y="23"/>
                      </a:lnTo>
                      <a:lnTo>
                        <a:pt x="334" y="23"/>
                      </a:lnTo>
                      <a:lnTo>
                        <a:pt x="334" y="12"/>
                      </a:lnTo>
                      <a:lnTo>
                        <a:pt x="323" y="12"/>
                      </a:lnTo>
                      <a:close/>
                    </a:path>
                  </a:pathLst>
                </a:custGeom>
                <a:solidFill>
                  <a:srgbClr val="000000"/>
                </a:solidFill>
                <a:ln w="0">
                  <a:noFill/>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Freeform 779"/>
                <p:cNvSpPr/>
                <p:nvPr/>
              </p:nvSpPr>
              <p:spPr>
                <a:xfrm rot="111600">
                  <a:off x="1118880" y="1217880"/>
                  <a:ext cx="3240" cy="11880"/>
                </a:xfrm>
                <a:custGeom>
                  <a:avLst/>
                  <a:gdLst>
                    <a:gd name="textAreaLeft" fmla="*/ 0 w 3240"/>
                    <a:gd name="textAreaRight" fmla="*/ 3600 w 3240"/>
                    <a:gd name="textAreaTop" fmla="*/ 0 h 11880"/>
                    <a:gd name="textAreaBottom" fmla="*/ 12240 h 11880"/>
                  </a:gdLst>
                  <a:ahLst/>
                  <a:rect l="textAreaLeft" t="textAreaTop" r="textAreaRight" b="textAreaBottom"/>
                  <a:pathLst>
                    <a:path w="34" h="90">
                      <a:moveTo>
                        <a:pt x="34" y="0"/>
                      </a:moveTo>
                      <a:lnTo>
                        <a:pt x="22" y="0"/>
                      </a:lnTo>
                      <a:lnTo>
                        <a:pt x="11" y="23"/>
                      </a:lnTo>
                      <a:lnTo>
                        <a:pt x="0" y="45"/>
                      </a:lnTo>
                      <a:lnTo>
                        <a:pt x="0" y="67"/>
                      </a:lnTo>
                      <a:lnTo>
                        <a:pt x="0" y="90"/>
                      </a:lnTo>
                      <a:lnTo>
                        <a:pt x="11" y="90"/>
                      </a:lnTo>
                      <a:lnTo>
                        <a:pt x="22" y="78"/>
                      </a:lnTo>
                      <a:lnTo>
                        <a:pt x="22" y="56"/>
                      </a:lnTo>
                      <a:lnTo>
                        <a:pt x="34" y="34"/>
                      </a:lnTo>
                      <a:lnTo>
                        <a:pt x="34" y="23"/>
                      </a:lnTo>
                      <a:lnTo>
                        <a:pt x="34" y="0"/>
                      </a:lnTo>
                      <a:close/>
                    </a:path>
                  </a:pathLst>
                </a:cu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Freeform 778"/>
                <p:cNvSpPr/>
                <p:nvPr/>
              </p:nvSpPr>
              <p:spPr>
                <a:xfrm rot="111600">
                  <a:off x="1122120" y="1216440"/>
                  <a:ext cx="21600" cy="4320"/>
                </a:xfrm>
                <a:custGeom>
                  <a:avLst/>
                  <a:gdLst>
                    <a:gd name="textAreaLeft" fmla="*/ 0 w 21600"/>
                    <a:gd name="textAreaRight" fmla="*/ 21960 w 21600"/>
                    <a:gd name="textAreaTop" fmla="*/ 0 h 4320"/>
                    <a:gd name="textAreaBottom" fmla="*/ 4680 h 4320"/>
                  </a:gdLst>
                  <a:ahLst/>
                  <a:rect l="textAreaLeft" t="textAreaTop" r="textAreaRight" b="textAreaBottom"/>
                  <a:pathLst>
                    <a:path w="222" h="34">
                      <a:moveTo>
                        <a:pt x="200" y="11"/>
                      </a:moveTo>
                      <a:lnTo>
                        <a:pt x="200" y="0"/>
                      </a:lnTo>
                      <a:lnTo>
                        <a:pt x="178" y="0"/>
                      </a:lnTo>
                      <a:lnTo>
                        <a:pt x="144" y="0"/>
                      </a:lnTo>
                      <a:lnTo>
                        <a:pt x="111" y="11"/>
                      </a:lnTo>
                      <a:lnTo>
                        <a:pt x="66" y="11"/>
                      </a:lnTo>
                      <a:lnTo>
                        <a:pt x="33" y="11"/>
                      </a:lnTo>
                      <a:lnTo>
                        <a:pt x="11" y="11"/>
                      </a:lnTo>
                      <a:lnTo>
                        <a:pt x="0" y="11"/>
                      </a:lnTo>
                      <a:lnTo>
                        <a:pt x="0" y="34"/>
                      </a:lnTo>
                      <a:lnTo>
                        <a:pt x="11" y="34"/>
                      </a:lnTo>
                      <a:lnTo>
                        <a:pt x="33" y="23"/>
                      </a:lnTo>
                      <a:lnTo>
                        <a:pt x="66" y="23"/>
                      </a:lnTo>
                      <a:lnTo>
                        <a:pt x="111" y="23"/>
                      </a:lnTo>
                      <a:lnTo>
                        <a:pt x="144" y="23"/>
                      </a:lnTo>
                      <a:lnTo>
                        <a:pt x="178" y="23"/>
                      </a:lnTo>
                      <a:lnTo>
                        <a:pt x="200" y="23"/>
                      </a:lnTo>
                      <a:lnTo>
                        <a:pt x="211" y="23"/>
                      </a:lnTo>
                      <a:lnTo>
                        <a:pt x="222" y="11"/>
                      </a:lnTo>
                      <a:lnTo>
                        <a:pt x="200" y="11"/>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Freeform 777"/>
                <p:cNvSpPr/>
                <p:nvPr/>
              </p:nvSpPr>
              <p:spPr>
                <a:xfrm rot="111600">
                  <a:off x="1139760" y="1205280"/>
                  <a:ext cx="3960" cy="12960"/>
                </a:xfrm>
                <a:custGeom>
                  <a:avLst/>
                  <a:gdLst>
                    <a:gd name="textAreaLeft" fmla="*/ 0 w 3960"/>
                    <a:gd name="textAreaRight" fmla="*/ 4320 w 3960"/>
                    <a:gd name="textAreaTop" fmla="*/ 0 h 12960"/>
                    <a:gd name="textAreaBottom" fmla="*/ 13320 h 12960"/>
                  </a:gdLst>
                  <a:ahLst/>
                  <a:rect l="textAreaLeft" t="textAreaTop" r="textAreaRight" b="textAreaBottom"/>
                  <a:pathLst>
                    <a:path w="44" h="100">
                      <a:moveTo>
                        <a:pt x="11" y="0"/>
                      </a:moveTo>
                      <a:lnTo>
                        <a:pt x="0" y="11"/>
                      </a:lnTo>
                      <a:lnTo>
                        <a:pt x="11" y="45"/>
                      </a:lnTo>
                      <a:lnTo>
                        <a:pt x="11" y="67"/>
                      </a:lnTo>
                      <a:lnTo>
                        <a:pt x="22" y="78"/>
                      </a:lnTo>
                      <a:lnTo>
                        <a:pt x="22" y="100"/>
                      </a:lnTo>
                      <a:lnTo>
                        <a:pt x="44" y="100"/>
                      </a:lnTo>
                      <a:lnTo>
                        <a:pt x="44" y="78"/>
                      </a:lnTo>
                      <a:lnTo>
                        <a:pt x="33" y="56"/>
                      </a:lnTo>
                      <a:lnTo>
                        <a:pt x="33" y="34"/>
                      </a:lnTo>
                      <a:lnTo>
                        <a:pt x="11" y="0"/>
                      </a:lnTo>
                      <a:lnTo>
                        <a:pt x="11" y="11"/>
                      </a:lnTo>
                      <a:lnTo>
                        <a:pt x="11" y="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Freeform 776"/>
                <p:cNvSpPr/>
                <p:nvPr/>
              </p:nvSpPr>
              <p:spPr>
                <a:xfrm rot="111600">
                  <a:off x="1140840" y="1205640"/>
                  <a:ext cx="28080" cy="17640"/>
                </a:xfrm>
                <a:custGeom>
                  <a:avLst/>
                  <a:gdLst>
                    <a:gd name="textAreaLeft" fmla="*/ 0 w 28080"/>
                    <a:gd name="textAreaRight" fmla="*/ 28440 w 28080"/>
                    <a:gd name="textAreaTop" fmla="*/ 0 h 17640"/>
                    <a:gd name="textAreaBottom" fmla="*/ 18000 h 17640"/>
                  </a:gdLst>
                  <a:ahLst/>
                  <a:rect l="textAreaLeft" t="textAreaTop" r="textAreaRight" b="textAreaBottom"/>
                  <a:pathLst>
                    <a:path w="290" h="134">
                      <a:moveTo>
                        <a:pt x="279" y="112"/>
                      </a:moveTo>
                      <a:lnTo>
                        <a:pt x="290" y="112"/>
                      </a:lnTo>
                      <a:lnTo>
                        <a:pt x="267" y="100"/>
                      </a:lnTo>
                      <a:lnTo>
                        <a:pt x="256" y="89"/>
                      </a:lnTo>
                      <a:lnTo>
                        <a:pt x="245" y="78"/>
                      </a:lnTo>
                      <a:lnTo>
                        <a:pt x="223" y="67"/>
                      </a:lnTo>
                      <a:lnTo>
                        <a:pt x="212" y="56"/>
                      </a:lnTo>
                      <a:lnTo>
                        <a:pt x="189" y="45"/>
                      </a:lnTo>
                      <a:lnTo>
                        <a:pt x="167" y="45"/>
                      </a:lnTo>
                      <a:lnTo>
                        <a:pt x="145" y="34"/>
                      </a:lnTo>
                      <a:lnTo>
                        <a:pt x="134" y="22"/>
                      </a:lnTo>
                      <a:lnTo>
                        <a:pt x="111" y="22"/>
                      </a:lnTo>
                      <a:lnTo>
                        <a:pt x="89" y="11"/>
                      </a:lnTo>
                      <a:lnTo>
                        <a:pt x="67" y="11"/>
                      </a:lnTo>
                      <a:lnTo>
                        <a:pt x="56" y="0"/>
                      </a:lnTo>
                      <a:lnTo>
                        <a:pt x="33" y="0"/>
                      </a:lnTo>
                      <a:lnTo>
                        <a:pt x="11" y="0"/>
                      </a:lnTo>
                      <a:lnTo>
                        <a:pt x="0" y="0"/>
                      </a:lnTo>
                      <a:lnTo>
                        <a:pt x="0" y="11"/>
                      </a:lnTo>
                      <a:lnTo>
                        <a:pt x="11" y="11"/>
                      </a:lnTo>
                      <a:lnTo>
                        <a:pt x="33" y="22"/>
                      </a:lnTo>
                      <a:lnTo>
                        <a:pt x="45" y="22"/>
                      </a:lnTo>
                      <a:lnTo>
                        <a:pt x="67" y="22"/>
                      </a:lnTo>
                      <a:lnTo>
                        <a:pt x="89" y="34"/>
                      </a:lnTo>
                      <a:lnTo>
                        <a:pt x="100" y="34"/>
                      </a:lnTo>
                      <a:lnTo>
                        <a:pt x="123" y="45"/>
                      </a:lnTo>
                      <a:lnTo>
                        <a:pt x="145" y="56"/>
                      </a:lnTo>
                      <a:lnTo>
                        <a:pt x="167" y="56"/>
                      </a:lnTo>
                      <a:lnTo>
                        <a:pt x="178" y="67"/>
                      </a:lnTo>
                      <a:lnTo>
                        <a:pt x="201" y="78"/>
                      </a:lnTo>
                      <a:lnTo>
                        <a:pt x="212" y="89"/>
                      </a:lnTo>
                      <a:lnTo>
                        <a:pt x="234" y="100"/>
                      </a:lnTo>
                      <a:lnTo>
                        <a:pt x="245" y="112"/>
                      </a:lnTo>
                      <a:lnTo>
                        <a:pt x="256" y="123"/>
                      </a:lnTo>
                      <a:lnTo>
                        <a:pt x="267" y="134"/>
                      </a:lnTo>
                      <a:lnTo>
                        <a:pt x="279" y="134"/>
                      </a:lnTo>
                      <a:lnTo>
                        <a:pt x="279" y="112"/>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Freeform 775"/>
                <p:cNvSpPr/>
                <p:nvPr/>
              </p:nvSpPr>
              <p:spPr>
                <a:xfrm rot="111600">
                  <a:off x="1168200" y="1211400"/>
                  <a:ext cx="28080" cy="12960"/>
                </a:xfrm>
                <a:custGeom>
                  <a:avLst/>
                  <a:gdLst>
                    <a:gd name="textAreaLeft" fmla="*/ 0 w 28080"/>
                    <a:gd name="textAreaRight" fmla="*/ 28440 w 28080"/>
                    <a:gd name="textAreaTop" fmla="*/ 0 h 12960"/>
                    <a:gd name="textAreaBottom" fmla="*/ 13320 h 12960"/>
                  </a:gdLst>
                  <a:ahLst/>
                  <a:rect l="textAreaLeft" t="textAreaTop" r="textAreaRight" b="textAreaBottom"/>
                  <a:pathLst>
                    <a:path w="289" h="100">
                      <a:moveTo>
                        <a:pt x="289" y="11"/>
                      </a:moveTo>
                      <a:lnTo>
                        <a:pt x="278" y="0"/>
                      </a:lnTo>
                      <a:lnTo>
                        <a:pt x="256" y="0"/>
                      </a:lnTo>
                      <a:lnTo>
                        <a:pt x="234" y="0"/>
                      </a:lnTo>
                      <a:lnTo>
                        <a:pt x="223" y="0"/>
                      </a:lnTo>
                      <a:lnTo>
                        <a:pt x="200" y="0"/>
                      </a:lnTo>
                      <a:lnTo>
                        <a:pt x="178" y="0"/>
                      </a:lnTo>
                      <a:lnTo>
                        <a:pt x="167" y="11"/>
                      </a:lnTo>
                      <a:lnTo>
                        <a:pt x="145" y="11"/>
                      </a:lnTo>
                      <a:lnTo>
                        <a:pt x="122" y="11"/>
                      </a:lnTo>
                      <a:lnTo>
                        <a:pt x="111" y="22"/>
                      </a:lnTo>
                      <a:lnTo>
                        <a:pt x="89" y="33"/>
                      </a:lnTo>
                      <a:lnTo>
                        <a:pt x="78" y="33"/>
                      </a:lnTo>
                      <a:lnTo>
                        <a:pt x="55" y="44"/>
                      </a:lnTo>
                      <a:lnTo>
                        <a:pt x="44" y="55"/>
                      </a:lnTo>
                      <a:lnTo>
                        <a:pt x="33" y="66"/>
                      </a:lnTo>
                      <a:lnTo>
                        <a:pt x="11" y="78"/>
                      </a:lnTo>
                      <a:lnTo>
                        <a:pt x="0" y="78"/>
                      </a:lnTo>
                      <a:lnTo>
                        <a:pt x="0" y="100"/>
                      </a:lnTo>
                      <a:lnTo>
                        <a:pt x="22" y="89"/>
                      </a:lnTo>
                      <a:lnTo>
                        <a:pt x="33" y="78"/>
                      </a:lnTo>
                      <a:lnTo>
                        <a:pt x="55" y="66"/>
                      </a:lnTo>
                      <a:lnTo>
                        <a:pt x="67" y="55"/>
                      </a:lnTo>
                      <a:lnTo>
                        <a:pt x="89" y="55"/>
                      </a:lnTo>
                      <a:lnTo>
                        <a:pt x="100" y="44"/>
                      </a:lnTo>
                      <a:lnTo>
                        <a:pt x="122" y="44"/>
                      </a:lnTo>
                      <a:lnTo>
                        <a:pt x="133" y="33"/>
                      </a:lnTo>
                      <a:lnTo>
                        <a:pt x="156" y="33"/>
                      </a:lnTo>
                      <a:lnTo>
                        <a:pt x="167" y="22"/>
                      </a:lnTo>
                      <a:lnTo>
                        <a:pt x="189" y="22"/>
                      </a:lnTo>
                      <a:lnTo>
                        <a:pt x="200" y="22"/>
                      </a:lnTo>
                      <a:lnTo>
                        <a:pt x="223" y="11"/>
                      </a:lnTo>
                      <a:lnTo>
                        <a:pt x="234" y="11"/>
                      </a:lnTo>
                      <a:lnTo>
                        <a:pt x="256" y="11"/>
                      </a:lnTo>
                      <a:lnTo>
                        <a:pt x="278" y="11"/>
                      </a:lnTo>
                      <a:lnTo>
                        <a:pt x="267" y="11"/>
                      </a:lnTo>
                      <a:lnTo>
                        <a:pt x="289" y="11"/>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Freeform 774"/>
                <p:cNvSpPr/>
                <p:nvPr/>
              </p:nvSpPr>
              <p:spPr>
                <a:xfrm rot="111600">
                  <a:off x="1191960" y="1213200"/>
                  <a:ext cx="3960" cy="8640"/>
                </a:xfrm>
                <a:custGeom>
                  <a:avLst/>
                  <a:gdLst>
                    <a:gd name="textAreaLeft" fmla="*/ 0 w 3960"/>
                    <a:gd name="textAreaRight" fmla="*/ 4320 w 3960"/>
                    <a:gd name="textAreaTop" fmla="*/ 0 h 8640"/>
                    <a:gd name="textAreaBottom" fmla="*/ 9000 h 8640"/>
                  </a:gdLst>
                  <a:ahLst/>
                  <a:rect l="textAreaLeft" t="textAreaTop" r="textAreaRight" b="textAreaBottom"/>
                  <a:pathLst>
                    <a:path w="44" h="67">
                      <a:moveTo>
                        <a:pt x="0" y="44"/>
                      </a:moveTo>
                      <a:lnTo>
                        <a:pt x="11" y="55"/>
                      </a:lnTo>
                      <a:lnTo>
                        <a:pt x="22" y="44"/>
                      </a:lnTo>
                      <a:lnTo>
                        <a:pt x="33" y="22"/>
                      </a:lnTo>
                      <a:lnTo>
                        <a:pt x="44" y="11"/>
                      </a:lnTo>
                      <a:lnTo>
                        <a:pt x="44" y="0"/>
                      </a:lnTo>
                      <a:lnTo>
                        <a:pt x="22" y="0"/>
                      </a:lnTo>
                      <a:lnTo>
                        <a:pt x="11" y="11"/>
                      </a:lnTo>
                      <a:lnTo>
                        <a:pt x="0" y="33"/>
                      </a:lnTo>
                      <a:lnTo>
                        <a:pt x="0" y="55"/>
                      </a:lnTo>
                      <a:lnTo>
                        <a:pt x="0" y="67"/>
                      </a:lnTo>
                      <a:lnTo>
                        <a:pt x="0" y="44"/>
                      </a:lnTo>
                      <a:close/>
                    </a:path>
                  </a:pathLst>
                </a:cu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Freeform 773"/>
                <p:cNvSpPr/>
                <p:nvPr/>
              </p:nvSpPr>
              <p:spPr>
                <a:xfrm rot="111600">
                  <a:off x="1191960" y="1218960"/>
                  <a:ext cx="15120" cy="2880"/>
                </a:xfrm>
                <a:custGeom>
                  <a:avLst/>
                  <a:gdLst>
                    <a:gd name="textAreaLeft" fmla="*/ 0 w 15120"/>
                    <a:gd name="textAreaRight" fmla="*/ 15480 w 15120"/>
                    <a:gd name="textAreaTop" fmla="*/ 0 h 2880"/>
                    <a:gd name="textAreaBottom" fmla="*/ 3240 h 2880"/>
                  </a:gdLst>
                  <a:ahLst/>
                  <a:rect l="textAreaLeft" t="textAreaTop" r="textAreaRight" b="textAreaBottom"/>
                  <a:pathLst>
                    <a:path w="156" h="23">
                      <a:moveTo>
                        <a:pt x="156" y="0"/>
                      </a:moveTo>
                      <a:lnTo>
                        <a:pt x="156" y="0"/>
                      </a:lnTo>
                      <a:lnTo>
                        <a:pt x="134" y="0"/>
                      </a:lnTo>
                      <a:lnTo>
                        <a:pt x="122" y="0"/>
                      </a:lnTo>
                      <a:lnTo>
                        <a:pt x="100" y="0"/>
                      </a:lnTo>
                      <a:lnTo>
                        <a:pt x="78" y="0"/>
                      </a:lnTo>
                      <a:lnTo>
                        <a:pt x="56" y="0"/>
                      </a:lnTo>
                      <a:lnTo>
                        <a:pt x="33" y="0"/>
                      </a:lnTo>
                      <a:lnTo>
                        <a:pt x="22" y="0"/>
                      </a:lnTo>
                      <a:lnTo>
                        <a:pt x="0" y="0"/>
                      </a:lnTo>
                      <a:lnTo>
                        <a:pt x="0" y="23"/>
                      </a:lnTo>
                      <a:lnTo>
                        <a:pt x="22" y="23"/>
                      </a:lnTo>
                      <a:lnTo>
                        <a:pt x="33" y="23"/>
                      </a:lnTo>
                      <a:lnTo>
                        <a:pt x="56" y="23"/>
                      </a:lnTo>
                      <a:lnTo>
                        <a:pt x="78" y="23"/>
                      </a:lnTo>
                      <a:lnTo>
                        <a:pt x="100" y="23"/>
                      </a:lnTo>
                      <a:lnTo>
                        <a:pt x="122" y="23"/>
                      </a:lnTo>
                      <a:lnTo>
                        <a:pt x="134" y="23"/>
                      </a:lnTo>
                      <a:lnTo>
                        <a:pt x="156" y="23"/>
                      </a:lnTo>
                      <a:lnTo>
                        <a:pt x="156"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3" name="Freeform 772"/>
                <p:cNvSpPr/>
                <p:nvPr/>
              </p:nvSpPr>
              <p:spPr>
                <a:xfrm rot="111600">
                  <a:off x="1207080" y="1219320"/>
                  <a:ext cx="15120" cy="17640"/>
                </a:xfrm>
                <a:custGeom>
                  <a:avLst/>
                  <a:gdLst>
                    <a:gd name="textAreaLeft" fmla="*/ 0 w 15120"/>
                    <a:gd name="textAreaRight" fmla="*/ 15480 w 15120"/>
                    <a:gd name="textAreaTop" fmla="*/ 0 h 17640"/>
                    <a:gd name="textAreaBottom" fmla="*/ 18000 h 17640"/>
                  </a:gdLst>
                  <a:ahLst/>
                  <a:rect l="textAreaLeft" t="textAreaTop" r="textAreaRight" b="textAreaBottom"/>
                  <a:pathLst>
                    <a:path w="156" h="134">
                      <a:moveTo>
                        <a:pt x="156" y="123"/>
                      </a:moveTo>
                      <a:lnTo>
                        <a:pt x="156" y="123"/>
                      </a:lnTo>
                      <a:lnTo>
                        <a:pt x="145" y="89"/>
                      </a:lnTo>
                      <a:lnTo>
                        <a:pt x="122" y="67"/>
                      </a:lnTo>
                      <a:lnTo>
                        <a:pt x="111" y="56"/>
                      </a:lnTo>
                      <a:lnTo>
                        <a:pt x="89" y="34"/>
                      </a:lnTo>
                      <a:lnTo>
                        <a:pt x="78" y="23"/>
                      </a:lnTo>
                      <a:lnTo>
                        <a:pt x="56" y="23"/>
                      </a:lnTo>
                      <a:lnTo>
                        <a:pt x="33" y="11"/>
                      </a:lnTo>
                      <a:lnTo>
                        <a:pt x="0" y="0"/>
                      </a:lnTo>
                      <a:lnTo>
                        <a:pt x="0" y="23"/>
                      </a:lnTo>
                      <a:lnTo>
                        <a:pt x="22" y="34"/>
                      </a:lnTo>
                      <a:lnTo>
                        <a:pt x="56" y="34"/>
                      </a:lnTo>
                      <a:lnTo>
                        <a:pt x="67" y="45"/>
                      </a:lnTo>
                      <a:lnTo>
                        <a:pt x="89" y="56"/>
                      </a:lnTo>
                      <a:lnTo>
                        <a:pt x="100" y="67"/>
                      </a:lnTo>
                      <a:lnTo>
                        <a:pt x="111" y="78"/>
                      </a:lnTo>
                      <a:lnTo>
                        <a:pt x="122" y="101"/>
                      </a:lnTo>
                      <a:lnTo>
                        <a:pt x="145" y="134"/>
                      </a:lnTo>
                      <a:lnTo>
                        <a:pt x="156" y="123"/>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Freeform 771"/>
                <p:cNvSpPr/>
                <p:nvPr/>
              </p:nvSpPr>
              <p:spPr>
                <a:xfrm rot="111600">
                  <a:off x="1220400" y="1235880"/>
                  <a:ext cx="15120" cy="14400"/>
                </a:xfrm>
                <a:custGeom>
                  <a:avLst/>
                  <a:gdLst>
                    <a:gd name="textAreaLeft" fmla="*/ 0 w 15120"/>
                    <a:gd name="textAreaRight" fmla="*/ 15480 w 15120"/>
                    <a:gd name="textAreaTop" fmla="*/ 0 h 14400"/>
                    <a:gd name="textAreaBottom" fmla="*/ 14760 h 14400"/>
                  </a:gdLst>
                  <a:ahLst/>
                  <a:rect l="textAreaLeft" t="textAreaTop" r="textAreaRight" b="textAreaBottom"/>
                  <a:pathLst>
                    <a:path w="156" h="111">
                      <a:moveTo>
                        <a:pt x="156" y="100"/>
                      </a:moveTo>
                      <a:lnTo>
                        <a:pt x="156" y="100"/>
                      </a:lnTo>
                      <a:lnTo>
                        <a:pt x="145" y="89"/>
                      </a:lnTo>
                      <a:lnTo>
                        <a:pt x="122" y="67"/>
                      </a:lnTo>
                      <a:lnTo>
                        <a:pt x="100" y="56"/>
                      </a:lnTo>
                      <a:lnTo>
                        <a:pt x="78" y="33"/>
                      </a:lnTo>
                      <a:lnTo>
                        <a:pt x="55" y="22"/>
                      </a:lnTo>
                      <a:lnTo>
                        <a:pt x="33" y="11"/>
                      </a:lnTo>
                      <a:lnTo>
                        <a:pt x="22" y="11"/>
                      </a:lnTo>
                      <a:lnTo>
                        <a:pt x="11" y="0"/>
                      </a:lnTo>
                      <a:lnTo>
                        <a:pt x="0" y="11"/>
                      </a:lnTo>
                      <a:lnTo>
                        <a:pt x="11" y="22"/>
                      </a:lnTo>
                      <a:lnTo>
                        <a:pt x="22" y="33"/>
                      </a:lnTo>
                      <a:lnTo>
                        <a:pt x="44" y="44"/>
                      </a:lnTo>
                      <a:lnTo>
                        <a:pt x="67" y="56"/>
                      </a:lnTo>
                      <a:lnTo>
                        <a:pt x="100" y="67"/>
                      </a:lnTo>
                      <a:lnTo>
                        <a:pt x="111" y="78"/>
                      </a:lnTo>
                      <a:lnTo>
                        <a:pt x="133" y="100"/>
                      </a:lnTo>
                      <a:lnTo>
                        <a:pt x="145" y="111"/>
                      </a:lnTo>
                      <a:lnTo>
                        <a:pt x="156" y="100"/>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Freeform 770"/>
                <p:cNvSpPr/>
                <p:nvPr/>
              </p:nvSpPr>
              <p:spPr>
                <a:xfrm rot="111600">
                  <a:off x="1233000" y="1249920"/>
                  <a:ext cx="3240" cy="21960"/>
                </a:xfrm>
                <a:custGeom>
                  <a:avLst/>
                  <a:gdLst>
                    <a:gd name="textAreaLeft" fmla="*/ 0 w 3240"/>
                    <a:gd name="textAreaRight" fmla="*/ 3600 w 3240"/>
                    <a:gd name="textAreaTop" fmla="*/ 0 h 21960"/>
                    <a:gd name="textAreaBottom" fmla="*/ 22320 h 21960"/>
                  </a:gdLst>
                  <a:ahLst/>
                  <a:rect l="textAreaLeft" t="textAreaTop" r="textAreaRight" b="textAreaBottom"/>
                  <a:pathLst>
                    <a:path w="34" h="167">
                      <a:moveTo>
                        <a:pt x="12" y="145"/>
                      </a:moveTo>
                      <a:lnTo>
                        <a:pt x="23" y="156"/>
                      </a:lnTo>
                      <a:lnTo>
                        <a:pt x="23" y="123"/>
                      </a:lnTo>
                      <a:lnTo>
                        <a:pt x="34" y="78"/>
                      </a:lnTo>
                      <a:lnTo>
                        <a:pt x="34" y="45"/>
                      </a:lnTo>
                      <a:lnTo>
                        <a:pt x="23" y="0"/>
                      </a:lnTo>
                      <a:lnTo>
                        <a:pt x="12" y="11"/>
                      </a:lnTo>
                      <a:lnTo>
                        <a:pt x="12" y="45"/>
                      </a:lnTo>
                      <a:lnTo>
                        <a:pt x="12" y="78"/>
                      </a:lnTo>
                      <a:lnTo>
                        <a:pt x="0" y="123"/>
                      </a:lnTo>
                      <a:lnTo>
                        <a:pt x="0" y="156"/>
                      </a:lnTo>
                      <a:lnTo>
                        <a:pt x="12" y="167"/>
                      </a:lnTo>
                      <a:lnTo>
                        <a:pt x="12" y="145"/>
                      </a:lnTo>
                      <a:close/>
                    </a:path>
                  </a:pathLst>
                </a:custGeom>
                <a:solidFill>
                  <a:srgbClr val="000000"/>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Freeform 769"/>
                <p:cNvSpPr/>
                <p:nvPr/>
              </p:nvSpPr>
              <p:spPr>
                <a:xfrm rot="111600">
                  <a:off x="1233720" y="1269360"/>
                  <a:ext cx="3960" cy="5760"/>
                </a:xfrm>
                <a:custGeom>
                  <a:avLst/>
                  <a:gdLst>
                    <a:gd name="textAreaLeft" fmla="*/ 0 w 3960"/>
                    <a:gd name="textAreaRight" fmla="*/ 4320 w 3960"/>
                    <a:gd name="textAreaTop" fmla="*/ 0 h 5760"/>
                    <a:gd name="textAreaBottom" fmla="*/ 6120 h 5760"/>
                  </a:gdLst>
                  <a:ahLst/>
                  <a:rect l="textAreaLeft" t="textAreaTop" r="textAreaRight" b="textAreaBottom"/>
                  <a:pathLst>
                    <a:path w="44" h="45">
                      <a:moveTo>
                        <a:pt x="44" y="34"/>
                      </a:moveTo>
                      <a:lnTo>
                        <a:pt x="33" y="34"/>
                      </a:lnTo>
                      <a:lnTo>
                        <a:pt x="33" y="22"/>
                      </a:lnTo>
                      <a:lnTo>
                        <a:pt x="22" y="11"/>
                      </a:lnTo>
                      <a:lnTo>
                        <a:pt x="11" y="11"/>
                      </a:lnTo>
                      <a:lnTo>
                        <a:pt x="0" y="0"/>
                      </a:lnTo>
                      <a:lnTo>
                        <a:pt x="0" y="22"/>
                      </a:lnTo>
                      <a:lnTo>
                        <a:pt x="11" y="34"/>
                      </a:lnTo>
                      <a:lnTo>
                        <a:pt x="22" y="34"/>
                      </a:lnTo>
                      <a:lnTo>
                        <a:pt x="22" y="45"/>
                      </a:lnTo>
                      <a:lnTo>
                        <a:pt x="44" y="34"/>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Freeform 768"/>
                <p:cNvSpPr/>
                <p:nvPr/>
              </p:nvSpPr>
              <p:spPr>
                <a:xfrm rot="111600">
                  <a:off x="1235160" y="1273680"/>
                  <a:ext cx="8640" cy="62280"/>
                </a:xfrm>
                <a:custGeom>
                  <a:avLst/>
                  <a:gdLst>
                    <a:gd name="textAreaLeft" fmla="*/ 0 w 8640"/>
                    <a:gd name="textAreaRight" fmla="*/ 9000 w 8640"/>
                    <a:gd name="textAreaTop" fmla="*/ 0 h 62280"/>
                    <a:gd name="textAreaBottom" fmla="*/ 62640 h 62280"/>
                  </a:gdLst>
                  <a:ahLst/>
                  <a:rect l="textAreaLeft" t="textAreaTop" r="textAreaRight" b="textAreaBottom"/>
                  <a:pathLst>
                    <a:path w="89" h="468">
                      <a:moveTo>
                        <a:pt x="78" y="468"/>
                      </a:moveTo>
                      <a:lnTo>
                        <a:pt x="78" y="468"/>
                      </a:lnTo>
                      <a:lnTo>
                        <a:pt x="89" y="412"/>
                      </a:lnTo>
                      <a:lnTo>
                        <a:pt x="89" y="356"/>
                      </a:lnTo>
                      <a:lnTo>
                        <a:pt x="89" y="289"/>
                      </a:lnTo>
                      <a:lnTo>
                        <a:pt x="89" y="222"/>
                      </a:lnTo>
                      <a:lnTo>
                        <a:pt x="78" y="156"/>
                      </a:lnTo>
                      <a:lnTo>
                        <a:pt x="67" y="100"/>
                      </a:lnTo>
                      <a:lnTo>
                        <a:pt x="45" y="44"/>
                      </a:lnTo>
                      <a:lnTo>
                        <a:pt x="22" y="0"/>
                      </a:lnTo>
                      <a:lnTo>
                        <a:pt x="0" y="11"/>
                      </a:lnTo>
                      <a:lnTo>
                        <a:pt x="33" y="55"/>
                      </a:lnTo>
                      <a:lnTo>
                        <a:pt x="45" y="100"/>
                      </a:lnTo>
                      <a:lnTo>
                        <a:pt x="67" y="167"/>
                      </a:lnTo>
                      <a:lnTo>
                        <a:pt x="78" y="222"/>
                      </a:lnTo>
                      <a:lnTo>
                        <a:pt x="78" y="289"/>
                      </a:lnTo>
                      <a:lnTo>
                        <a:pt x="78" y="356"/>
                      </a:lnTo>
                      <a:lnTo>
                        <a:pt x="67" y="412"/>
                      </a:lnTo>
                      <a:lnTo>
                        <a:pt x="56" y="468"/>
                      </a:lnTo>
                      <a:lnTo>
                        <a:pt x="78" y="468"/>
                      </a:lnTo>
                      <a:close/>
                    </a:path>
                  </a:pathLst>
                </a:custGeom>
                <a:solidFill>
                  <a:srgbClr val="000000"/>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Freeform 767"/>
                <p:cNvSpPr/>
                <p:nvPr/>
              </p:nvSpPr>
              <p:spPr>
                <a:xfrm rot="111600">
                  <a:off x="1236960" y="1336320"/>
                  <a:ext cx="4320" cy="11520"/>
                </a:xfrm>
                <a:custGeom>
                  <a:avLst/>
                  <a:gdLst>
                    <a:gd name="textAreaLeft" fmla="*/ 0 w 4320"/>
                    <a:gd name="textAreaRight" fmla="*/ 4320 w 4320"/>
                    <a:gd name="textAreaTop" fmla="*/ 0 h 11520"/>
                    <a:gd name="textAreaBottom" fmla="*/ 11880 h 11520"/>
                  </a:gdLst>
                  <a:ahLst/>
                  <a:rect l="textAreaLeft" t="textAreaTop" r="textAreaRight" b="textAreaBottom"/>
                  <a:pathLst>
                    <a:path w="45" h="89">
                      <a:moveTo>
                        <a:pt x="0" y="89"/>
                      </a:moveTo>
                      <a:lnTo>
                        <a:pt x="12" y="89"/>
                      </a:lnTo>
                      <a:lnTo>
                        <a:pt x="23" y="78"/>
                      </a:lnTo>
                      <a:lnTo>
                        <a:pt x="34" y="55"/>
                      </a:lnTo>
                      <a:lnTo>
                        <a:pt x="34" y="33"/>
                      </a:lnTo>
                      <a:lnTo>
                        <a:pt x="45" y="0"/>
                      </a:lnTo>
                      <a:lnTo>
                        <a:pt x="23" y="0"/>
                      </a:lnTo>
                      <a:lnTo>
                        <a:pt x="23" y="33"/>
                      </a:lnTo>
                      <a:lnTo>
                        <a:pt x="12" y="44"/>
                      </a:lnTo>
                      <a:lnTo>
                        <a:pt x="12" y="67"/>
                      </a:lnTo>
                      <a:lnTo>
                        <a:pt x="0" y="78"/>
                      </a:lnTo>
                      <a:lnTo>
                        <a:pt x="0" y="89"/>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Freeform 766"/>
                <p:cNvSpPr/>
                <p:nvPr/>
              </p:nvSpPr>
              <p:spPr>
                <a:xfrm rot="111600">
                  <a:off x="1231200" y="1346400"/>
                  <a:ext cx="5040" cy="2880"/>
                </a:xfrm>
                <a:custGeom>
                  <a:avLst/>
                  <a:gdLst>
                    <a:gd name="textAreaLeft" fmla="*/ 0 w 5040"/>
                    <a:gd name="textAreaRight" fmla="*/ 5040 w 5040"/>
                    <a:gd name="textAreaTop" fmla="*/ 0 h 2880"/>
                    <a:gd name="textAreaBottom" fmla="*/ 3240 h 2880"/>
                  </a:gdLst>
                  <a:ahLst/>
                  <a:rect l="textAreaLeft" t="textAreaTop" r="textAreaRight" b="textAreaBottom"/>
                  <a:pathLst>
                    <a:path w="55" h="22">
                      <a:moveTo>
                        <a:pt x="0" y="22"/>
                      </a:moveTo>
                      <a:lnTo>
                        <a:pt x="0" y="22"/>
                      </a:lnTo>
                      <a:lnTo>
                        <a:pt x="11" y="22"/>
                      </a:lnTo>
                      <a:lnTo>
                        <a:pt x="22" y="22"/>
                      </a:lnTo>
                      <a:lnTo>
                        <a:pt x="33" y="22"/>
                      </a:lnTo>
                      <a:lnTo>
                        <a:pt x="44" y="22"/>
                      </a:lnTo>
                      <a:lnTo>
                        <a:pt x="44" y="11"/>
                      </a:lnTo>
                      <a:lnTo>
                        <a:pt x="55" y="11"/>
                      </a:lnTo>
                      <a:lnTo>
                        <a:pt x="55" y="0"/>
                      </a:lnTo>
                      <a:lnTo>
                        <a:pt x="44" y="0"/>
                      </a:lnTo>
                      <a:lnTo>
                        <a:pt x="33" y="0"/>
                      </a:lnTo>
                      <a:lnTo>
                        <a:pt x="22" y="0"/>
                      </a:lnTo>
                      <a:lnTo>
                        <a:pt x="11" y="0"/>
                      </a:lnTo>
                      <a:lnTo>
                        <a:pt x="0" y="0"/>
                      </a:lnTo>
                      <a:lnTo>
                        <a:pt x="0" y="22"/>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Freeform 765"/>
                <p:cNvSpPr/>
                <p:nvPr/>
              </p:nvSpPr>
              <p:spPr>
                <a:xfrm rot="111600">
                  <a:off x="1213200" y="1345680"/>
                  <a:ext cx="17280" cy="36720"/>
                </a:xfrm>
                <a:custGeom>
                  <a:avLst/>
                  <a:gdLst>
                    <a:gd name="textAreaLeft" fmla="*/ 0 w 17280"/>
                    <a:gd name="textAreaRight" fmla="*/ 17640 w 17280"/>
                    <a:gd name="textAreaTop" fmla="*/ 0 h 36720"/>
                    <a:gd name="textAreaBottom" fmla="*/ 36720 h 36720"/>
                  </a:gdLst>
                  <a:ahLst/>
                  <a:rect l="textAreaLeft" t="textAreaTop" r="textAreaRight" b="textAreaBottom"/>
                  <a:pathLst>
                    <a:path w="179" h="278">
                      <a:moveTo>
                        <a:pt x="0" y="278"/>
                      </a:moveTo>
                      <a:lnTo>
                        <a:pt x="23" y="278"/>
                      </a:lnTo>
                      <a:lnTo>
                        <a:pt x="34" y="245"/>
                      </a:lnTo>
                      <a:lnTo>
                        <a:pt x="56" y="200"/>
                      </a:lnTo>
                      <a:lnTo>
                        <a:pt x="67" y="167"/>
                      </a:lnTo>
                      <a:lnTo>
                        <a:pt x="78" y="122"/>
                      </a:lnTo>
                      <a:lnTo>
                        <a:pt x="101" y="89"/>
                      </a:lnTo>
                      <a:lnTo>
                        <a:pt x="123" y="55"/>
                      </a:lnTo>
                      <a:lnTo>
                        <a:pt x="145" y="33"/>
                      </a:lnTo>
                      <a:lnTo>
                        <a:pt x="179" y="22"/>
                      </a:lnTo>
                      <a:lnTo>
                        <a:pt x="179" y="0"/>
                      </a:lnTo>
                      <a:lnTo>
                        <a:pt x="134" y="11"/>
                      </a:lnTo>
                      <a:lnTo>
                        <a:pt x="101" y="44"/>
                      </a:lnTo>
                      <a:lnTo>
                        <a:pt x="78" y="78"/>
                      </a:lnTo>
                      <a:lnTo>
                        <a:pt x="67" y="111"/>
                      </a:lnTo>
                      <a:lnTo>
                        <a:pt x="45" y="156"/>
                      </a:lnTo>
                      <a:lnTo>
                        <a:pt x="34" y="200"/>
                      </a:lnTo>
                      <a:lnTo>
                        <a:pt x="23" y="234"/>
                      </a:lnTo>
                      <a:lnTo>
                        <a:pt x="0" y="267"/>
                      </a:lnTo>
                      <a:lnTo>
                        <a:pt x="23" y="267"/>
                      </a:lnTo>
                      <a:lnTo>
                        <a:pt x="0" y="278"/>
                      </a:lnTo>
                      <a:close/>
                    </a:path>
                  </a:pathLst>
                </a:custGeom>
                <a:solidFill>
                  <a:srgbClr val="0000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Freeform 764"/>
                <p:cNvSpPr/>
                <p:nvPr/>
              </p:nvSpPr>
              <p:spPr>
                <a:xfrm rot="111600">
                  <a:off x="1209600" y="1370880"/>
                  <a:ext cx="5400" cy="11520"/>
                </a:xfrm>
                <a:custGeom>
                  <a:avLst/>
                  <a:gdLst>
                    <a:gd name="textAreaLeft" fmla="*/ 0 w 5400"/>
                    <a:gd name="textAreaRight" fmla="*/ 5760 w 5400"/>
                    <a:gd name="textAreaTop" fmla="*/ 0 h 11520"/>
                    <a:gd name="textAreaBottom" fmla="*/ 11880 h 11520"/>
                  </a:gdLst>
                  <a:ahLst/>
                  <a:rect l="textAreaLeft" t="textAreaTop" r="textAreaRight" b="textAreaBottom"/>
                  <a:pathLst>
                    <a:path w="56" h="89">
                      <a:moveTo>
                        <a:pt x="0" y="11"/>
                      </a:moveTo>
                      <a:lnTo>
                        <a:pt x="0" y="11"/>
                      </a:lnTo>
                      <a:lnTo>
                        <a:pt x="11" y="34"/>
                      </a:lnTo>
                      <a:lnTo>
                        <a:pt x="11" y="45"/>
                      </a:lnTo>
                      <a:lnTo>
                        <a:pt x="22" y="67"/>
                      </a:lnTo>
                      <a:lnTo>
                        <a:pt x="33" y="89"/>
                      </a:lnTo>
                      <a:lnTo>
                        <a:pt x="56" y="78"/>
                      </a:lnTo>
                      <a:lnTo>
                        <a:pt x="44" y="67"/>
                      </a:lnTo>
                      <a:lnTo>
                        <a:pt x="33" y="45"/>
                      </a:lnTo>
                      <a:lnTo>
                        <a:pt x="22" y="22"/>
                      </a:lnTo>
                      <a:lnTo>
                        <a:pt x="22" y="0"/>
                      </a:lnTo>
                      <a:lnTo>
                        <a:pt x="0" y="11"/>
                      </a:lnTo>
                      <a:close/>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Freeform 763"/>
                <p:cNvSpPr/>
                <p:nvPr/>
              </p:nvSpPr>
              <p:spPr>
                <a:xfrm rot="111600">
                  <a:off x="1198800" y="1330560"/>
                  <a:ext cx="14040" cy="41400"/>
                </a:xfrm>
                <a:custGeom>
                  <a:avLst/>
                  <a:gdLst>
                    <a:gd name="textAreaLeft" fmla="*/ 0 w 14040"/>
                    <a:gd name="textAreaRight" fmla="*/ 14400 w 14040"/>
                    <a:gd name="textAreaTop" fmla="*/ 0 h 41400"/>
                    <a:gd name="textAreaBottom" fmla="*/ 41760 h 41400"/>
                  </a:gdLst>
                  <a:ahLst/>
                  <a:rect l="textAreaLeft" t="textAreaTop" r="textAreaRight" b="textAreaBottom"/>
                  <a:pathLst>
                    <a:path w="145" h="312">
                      <a:moveTo>
                        <a:pt x="0" y="11"/>
                      </a:moveTo>
                      <a:lnTo>
                        <a:pt x="0" y="11"/>
                      </a:lnTo>
                      <a:lnTo>
                        <a:pt x="34" y="34"/>
                      </a:lnTo>
                      <a:lnTo>
                        <a:pt x="56" y="67"/>
                      </a:lnTo>
                      <a:lnTo>
                        <a:pt x="67" y="89"/>
                      </a:lnTo>
                      <a:lnTo>
                        <a:pt x="89" y="123"/>
                      </a:lnTo>
                      <a:lnTo>
                        <a:pt x="101" y="167"/>
                      </a:lnTo>
                      <a:lnTo>
                        <a:pt x="112" y="212"/>
                      </a:lnTo>
                      <a:lnTo>
                        <a:pt x="112" y="257"/>
                      </a:lnTo>
                      <a:lnTo>
                        <a:pt x="123" y="312"/>
                      </a:lnTo>
                      <a:lnTo>
                        <a:pt x="145" y="301"/>
                      </a:lnTo>
                      <a:lnTo>
                        <a:pt x="134" y="257"/>
                      </a:lnTo>
                      <a:lnTo>
                        <a:pt x="123" y="201"/>
                      </a:lnTo>
                      <a:lnTo>
                        <a:pt x="123" y="156"/>
                      </a:lnTo>
                      <a:lnTo>
                        <a:pt x="101" y="123"/>
                      </a:lnTo>
                      <a:lnTo>
                        <a:pt x="89" y="89"/>
                      </a:lnTo>
                      <a:lnTo>
                        <a:pt x="67" y="56"/>
                      </a:lnTo>
                      <a:lnTo>
                        <a:pt x="45" y="23"/>
                      </a:lnTo>
                      <a:lnTo>
                        <a:pt x="11" y="0"/>
                      </a:lnTo>
                      <a:lnTo>
                        <a:pt x="0" y="11"/>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Freeform 762"/>
                <p:cNvSpPr/>
                <p:nvPr/>
              </p:nvSpPr>
              <p:spPr>
                <a:xfrm rot="111600">
                  <a:off x="1186560" y="1320840"/>
                  <a:ext cx="14040" cy="10080"/>
                </a:xfrm>
                <a:custGeom>
                  <a:avLst/>
                  <a:gdLst>
                    <a:gd name="textAreaLeft" fmla="*/ 0 w 14040"/>
                    <a:gd name="textAreaRight" fmla="*/ 14400 w 14040"/>
                    <a:gd name="textAreaTop" fmla="*/ 0 h 10080"/>
                    <a:gd name="textAreaBottom" fmla="*/ 10440 h 10080"/>
                  </a:gdLst>
                  <a:ahLst/>
                  <a:rect l="textAreaLeft" t="textAreaTop" r="textAreaRight" b="textAreaBottom"/>
                  <a:pathLst>
                    <a:path w="144" h="78">
                      <a:moveTo>
                        <a:pt x="0" y="23"/>
                      </a:moveTo>
                      <a:lnTo>
                        <a:pt x="0" y="23"/>
                      </a:lnTo>
                      <a:lnTo>
                        <a:pt x="11" y="11"/>
                      </a:lnTo>
                      <a:lnTo>
                        <a:pt x="33" y="23"/>
                      </a:lnTo>
                      <a:lnTo>
                        <a:pt x="44" y="23"/>
                      </a:lnTo>
                      <a:lnTo>
                        <a:pt x="66" y="34"/>
                      </a:lnTo>
                      <a:lnTo>
                        <a:pt x="78" y="45"/>
                      </a:lnTo>
                      <a:lnTo>
                        <a:pt x="100" y="56"/>
                      </a:lnTo>
                      <a:lnTo>
                        <a:pt x="122" y="67"/>
                      </a:lnTo>
                      <a:lnTo>
                        <a:pt x="133" y="78"/>
                      </a:lnTo>
                      <a:lnTo>
                        <a:pt x="144" y="67"/>
                      </a:lnTo>
                      <a:lnTo>
                        <a:pt x="133" y="56"/>
                      </a:lnTo>
                      <a:lnTo>
                        <a:pt x="111" y="45"/>
                      </a:lnTo>
                      <a:lnTo>
                        <a:pt x="89" y="23"/>
                      </a:lnTo>
                      <a:lnTo>
                        <a:pt x="66" y="11"/>
                      </a:lnTo>
                      <a:lnTo>
                        <a:pt x="55" y="11"/>
                      </a:lnTo>
                      <a:lnTo>
                        <a:pt x="33" y="0"/>
                      </a:lnTo>
                      <a:lnTo>
                        <a:pt x="11" y="0"/>
                      </a:lnTo>
                      <a:lnTo>
                        <a:pt x="0" y="0"/>
                      </a:lnTo>
                      <a:lnTo>
                        <a:pt x="0" y="23"/>
                      </a:lnTo>
                      <a:close/>
                    </a:path>
                  </a:pathLst>
                </a:custGeom>
                <a:solidFill>
                  <a:srgbClr val="000000"/>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Freeform 761"/>
                <p:cNvSpPr/>
                <p:nvPr/>
              </p:nvSpPr>
              <p:spPr>
                <a:xfrm rot="111600">
                  <a:off x="1176840" y="1306080"/>
                  <a:ext cx="9720" cy="17640"/>
                </a:xfrm>
                <a:custGeom>
                  <a:avLst/>
                  <a:gdLst>
                    <a:gd name="textAreaLeft" fmla="*/ 0 w 9720"/>
                    <a:gd name="textAreaRight" fmla="*/ 10080 w 9720"/>
                    <a:gd name="textAreaTop" fmla="*/ 0 h 17640"/>
                    <a:gd name="textAreaBottom" fmla="*/ 18000 h 17640"/>
                  </a:gdLst>
                  <a:ahLst/>
                  <a:rect l="textAreaLeft" t="textAreaTop" r="textAreaRight" b="textAreaBottom"/>
                  <a:pathLst>
                    <a:path w="101" h="134">
                      <a:moveTo>
                        <a:pt x="11" y="11"/>
                      </a:moveTo>
                      <a:lnTo>
                        <a:pt x="0" y="11"/>
                      </a:lnTo>
                      <a:lnTo>
                        <a:pt x="0" y="33"/>
                      </a:lnTo>
                      <a:lnTo>
                        <a:pt x="11" y="56"/>
                      </a:lnTo>
                      <a:lnTo>
                        <a:pt x="23" y="78"/>
                      </a:lnTo>
                      <a:lnTo>
                        <a:pt x="34" y="100"/>
                      </a:lnTo>
                      <a:lnTo>
                        <a:pt x="45" y="111"/>
                      </a:lnTo>
                      <a:lnTo>
                        <a:pt x="67" y="122"/>
                      </a:lnTo>
                      <a:lnTo>
                        <a:pt x="78" y="134"/>
                      </a:lnTo>
                      <a:lnTo>
                        <a:pt x="101" y="134"/>
                      </a:lnTo>
                      <a:lnTo>
                        <a:pt x="101" y="111"/>
                      </a:lnTo>
                      <a:lnTo>
                        <a:pt x="89" y="111"/>
                      </a:lnTo>
                      <a:lnTo>
                        <a:pt x="67" y="100"/>
                      </a:lnTo>
                      <a:lnTo>
                        <a:pt x="56" y="100"/>
                      </a:lnTo>
                      <a:lnTo>
                        <a:pt x="45" y="89"/>
                      </a:lnTo>
                      <a:lnTo>
                        <a:pt x="34" y="67"/>
                      </a:lnTo>
                      <a:lnTo>
                        <a:pt x="23" y="56"/>
                      </a:lnTo>
                      <a:lnTo>
                        <a:pt x="23" y="33"/>
                      </a:lnTo>
                      <a:lnTo>
                        <a:pt x="23" y="11"/>
                      </a:lnTo>
                      <a:lnTo>
                        <a:pt x="11" y="0"/>
                      </a:lnTo>
                      <a:lnTo>
                        <a:pt x="11" y="11"/>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Freeform 760"/>
                <p:cNvSpPr/>
                <p:nvPr/>
              </p:nvSpPr>
              <p:spPr>
                <a:xfrm rot="111600">
                  <a:off x="1170360" y="1305720"/>
                  <a:ext cx="7560" cy="4320"/>
                </a:xfrm>
                <a:custGeom>
                  <a:avLst/>
                  <a:gdLst>
                    <a:gd name="textAreaLeft" fmla="*/ 0 w 7560"/>
                    <a:gd name="textAreaRight" fmla="*/ 7920 w 7560"/>
                    <a:gd name="textAreaTop" fmla="*/ 0 h 4320"/>
                    <a:gd name="textAreaBottom" fmla="*/ 4680 h 4320"/>
                  </a:gdLst>
                  <a:ahLst/>
                  <a:rect l="textAreaLeft" t="textAreaTop" r="textAreaRight" b="textAreaBottom"/>
                  <a:pathLst>
                    <a:path w="78" h="33">
                      <a:moveTo>
                        <a:pt x="0" y="22"/>
                      </a:moveTo>
                      <a:lnTo>
                        <a:pt x="12" y="33"/>
                      </a:lnTo>
                      <a:lnTo>
                        <a:pt x="23" y="22"/>
                      </a:lnTo>
                      <a:lnTo>
                        <a:pt x="34" y="22"/>
                      </a:lnTo>
                      <a:lnTo>
                        <a:pt x="45" y="22"/>
                      </a:lnTo>
                      <a:lnTo>
                        <a:pt x="56" y="22"/>
                      </a:lnTo>
                      <a:lnTo>
                        <a:pt x="67" y="22"/>
                      </a:lnTo>
                      <a:lnTo>
                        <a:pt x="78" y="11"/>
                      </a:lnTo>
                      <a:lnTo>
                        <a:pt x="78" y="0"/>
                      </a:lnTo>
                      <a:lnTo>
                        <a:pt x="67" y="0"/>
                      </a:lnTo>
                      <a:lnTo>
                        <a:pt x="56" y="0"/>
                      </a:lnTo>
                      <a:lnTo>
                        <a:pt x="45" y="0"/>
                      </a:lnTo>
                      <a:lnTo>
                        <a:pt x="34" y="11"/>
                      </a:lnTo>
                      <a:lnTo>
                        <a:pt x="23" y="11"/>
                      </a:lnTo>
                      <a:lnTo>
                        <a:pt x="12" y="11"/>
                      </a:lnTo>
                      <a:lnTo>
                        <a:pt x="23" y="11"/>
                      </a:lnTo>
                      <a:lnTo>
                        <a:pt x="0" y="2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Freeform 759"/>
                <p:cNvSpPr/>
                <p:nvPr/>
              </p:nvSpPr>
              <p:spPr>
                <a:xfrm rot="111600">
                  <a:off x="1164240" y="1278720"/>
                  <a:ext cx="8640" cy="29520"/>
                </a:xfrm>
                <a:custGeom>
                  <a:avLst/>
                  <a:gdLst>
                    <a:gd name="textAreaLeft" fmla="*/ 0 w 8640"/>
                    <a:gd name="textAreaRight" fmla="*/ 9000 w 8640"/>
                    <a:gd name="textAreaTop" fmla="*/ 0 h 29520"/>
                    <a:gd name="textAreaBottom" fmla="*/ 29880 h 29520"/>
                  </a:gdLst>
                  <a:ahLst/>
                  <a:rect l="textAreaLeft" t="textAreaTop" r="textAreaRight" b="textAreaBottom"/>
                  <a:pathLst>
                    <a:path w="90" h="223">
                      <a:moveTo>
                        <a:pt x="23" y="0"/>
                      </a:moveTo>
                      <a:lnTo>
                        <a:pt x="0" y="0"/>
                      </a:lnTo>
                      <a:lnTo>
                        <a:pt x="0" y="34"/>
                      </a:lnTo>
                      <a:lnTo>
                        <a:pt x="12" y="67"/>
                      </a:lnTo>
                      <a:lnTo>
                        <a:pt x="23" y="101"/>
                      </a:lnTo>
                      <a:lnTo>
                        <a:pt x="23" y="134"/>
                      </a:lnTo>
                      <a:lnTo>
                        <a:pt x="34" y="156"/>
                      </a:lnTo>
                      <a:lnTo>
                        <a:pt x="45" y="190"/>
                      </a:lnTo>
                      <a:lnTo>
                        <a:pt x="56" y="201"/>
                      </a:lnTo>
                      <a:lnTo>
                        <a:pt x="67" y="223"/>
                      </a:lnTo>
                      <a:lnTo>
                        <a:pt x="90" y="212"/>
                      </a:lnTo>
                      <a:lnTo>
                        <a:pt x="79" y="201"/>
                      </a:lnTo>
                      <a:lnTo>
                        <a:pt x="67" y="179"/>
                      </a:lnTo>
                      <a:lnTo>
                        <a:pt x="56" y="156"/>
                      </a:lnTo>
                      <a:lnTo>
                        <a:pt x="45" y="123"/>
                      </a:lnTo>
                      <a:lnTo>
                        <a:pt x="34" y="89"/>
                      </a:lnTo>
                      <a:lnTo>
                        <a:pt x="34" y="67"/>
                      </a:lnTo>
                      <a:lnTo>
                        <a:pt x="23" y="34"/>
                      </a:lnTo>
                      <a:lnTo>
                        <a:pt x="23" y="0"/>
                      </a:lnTo>
                      <a:lnTo>
                        <a:pt x="0" y="0"/>
                      </a:lnTo>
                      <a:lnTo>
                        <a:pt x="23" y="0"/>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7" name="AutoShape 757"/>
              <p:cNvSpPr/>
              <p:nvPr/>
            </p:nvSpPr>
            <p:spPr>
              <a:xfrm>
                <a:off x="1184040" y="816840"/>
                <a:ext cx="299880" cy="522720"/>
              </a:xfrm>
              <a:custGeom>
                <a:avLst/>
                <a:gdLst>
                  <a:gd name="textAreaLeft" fmla="*/ 39960 w 299880"/>
                  <a:gd name="textAreaRight" fmla="*/ 259920 w 299880"/>
                  <a:gd name="textAreaTop" fmla="*/ 99000 h 522720"/>
                  <a:gd name="textAreaBottom" fmla="*/ 371520 h 522720"/>
                </a:gdLst>
                <a:ahLst/>
                <a:rect l="textAreaLeft" t="textAreaTop" r="textAreaRight" b="textAreaBottom"/>
                <a:pathLst>
                  <a:path w="21600" h="21600">
                    <a:moveTo>
                      <a:pt x="21600" y="0"/>
                    </a:moveTo>
                    <a:arcTo wR="21600" hR="8196" stAng="-5400000" swAng="-5400000"/>
                    <a:lnTo>
                      <a:pt x="0" y="11245"/>
                    </a:lnTo>
                    <a:arcTo wR="21600" hR="8196" stAng="10800000" swAng="-2878634"/>
                    <a:lnTo>
                      <a:pt x="14612" y="21159"/>
                    </a:lnTo>
                    <a:lnTo>
                      <a:pt x="21600" y="17916"/>
                    </a:lnTo>
                    <a:lnTo>
                      <a:pt x="14612" y="13790"/>
                    </a:lnTo>
                    <a:lnTo>
                      <a:pt x="14612" y="15950"/>
                    </a:lnTo>
                    <a:arcTo wR="21600" hR="8196" stAng="7921366" swAng="2632116"/>
                    <a:lnTo>
                      <a:pt x="377" y="9720"/>
                    </a:lnTo>
                    <a:arcTo wR="21600" hR="8196" stAng="-10553482" swAng="5153482"/>
                    <a:close/>
                  </a:path>
                  <a:path fill="darkenLess" w="21600" h="21600">
                    <a:moveTo>
                      <a:pt x="21600" y="0"/>
                    </a:moveTo>
                    <a:arcTo wR="21600" hR="8196" stAng="-5400000" swAng="-5400000"/>
                    <a:lnTo>
                      <a:pt x="0" y="8196"/>
                    </a:lnTo>
                    <a:arcTo wR="21600" hR="8196" stAng="10800000" swAng="-246518"/>
                    <a:lnTo>
                      <a:pt x="377" y="9720"/>
                    </a:lnTo>
                    <a:arcTo wR="21600" hR="8196" stAng="-10553482" swAng="5153482"/>
                    <a:close/>
                  </a:path>
                </a:pathLst>
              </a:custGeom>
              <a:solidFill>
                <a:srgbClr val="ff0000"/>
              </a:solidFill>
              <a:ln w="9360">
                <a:solidFill>
                  <a:srgbClr val="ff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38" name="صورة 1173" descr=""/>
            <p:cNvPicPr/>
            <p:nvPr/>
          </p:nvPicPr>
          <p:blipFill>
            <a:blip r:embed="rId8"/>
            <a:stretch/>
          </p:blipFill>
          <p:spPr>
            <a:xfrm>
              <a:off x="-180360" y="765000"/>
              <a:ext cx="709920" cy="630000"/>
            </a:xfrm>
            <a:prstGeom prst="rect">
              <a:avLst/>
            </a:prstGeom>
            <a:ln w="0">
              <a:noFill/>
            </a:ln>
          </p:spPr>
        </p:pic>
        <p:grpSp>
          <p:nvGrpSpPr>
            <p:cNvPr id="1539" name="Group 210"/>
            <p:cNvGrpSpPr/>
            <p:nvPr/>
          </p:nvGrpSpPr>
          <p:grpSpPr>
            <a:xfrm>
              <a:off x="-360" y="1122840"/>
              <a:ext cx="933480" cy="942480"/>
              <a:chOff x="-360" y="1122840"/>
              <a:chExt cx="933480" cy="942480"/>
            </a:xfrm>
          </p:grpSpPr>
          <p:grpSp>
            <p:nvGrpSpPr>
              <p:cNvPr id="1540" name="Group 554"/>
              <p:cNvGrpSpPr/>
              <p:nvPr/>
            </p:nvGrpSpPr>
            <p:grpSpPr>
              <a:xfrm>
                <a:off x="109440" y="1380600"/>
                <a:ext cx="823680" cy="684720"/>
                <a:chOff x="109440" y="1380600"/>
                <a:chExt cx="823680" cy="684720"/>
              </a:xfrm>
            </p:grpSpPr>
            <p:sp>
              <p:nvSpPr>
                <p:cNvPr id="1541" name="Freeform 754"/>
                <p:cNvSpPr/>
                <p:nvPr/>
              </p:nvSpPr>
              <p:spPr>
                <a:xfrm flipH="1">
                  <a:off x="360720" y="2007720"/>
                  <a:ext cx="155160" cy="50040"/>
                </a:xfrm>
                <a:custGeom>
                  <a:avLst/>
                  <a:gdLst>
                    <a:gd name="textAreaLeft" fmla="*/ -360 w 155160"/>
                    <a:gd name="textAreaRight" fmla="*/ 155160 w 155160"/>
                    <a:gd name="textAreaTop" fmla="*/ 0 h 50040"/>
                    <a:gd name="textAreaBottom" fmla="*/ 50400 h 50040"/>
                  </a:gdLst>
                  <a:ahLst/>
                  <a:rect l="textAreaLeft" t="textAreaTop" r="textAreaRight" b="textAreaBottom"/>
                  <a:pathLst>
                    <a:path w="778" h="239">
                      <a:moveTo>
                        <a:pt x="778" y="115"/>
                      </a:moveTo>
                      <a:lnTo>
                        <a:pt x="778" y="139"/>
                      </a:lnTo>
                      <a:lnTo>
                        <a:pt x="778" y="162"/>
                      </a:lnTo>
                      <a:lnTo>
                        <a:pt x="778" y="185"/>
                      </a:lnTo>
                      <a:lnTo>
                        <a:pt x="761" y="215"/>
                      </a:lnTo>
                      <a:lnTo>
                        <a:pt x="752" y="215"/>
                      </a:lnTo>
                      <a:lnTo>
                        <a:pt x="736" y="215"/>
                      </a:lnTo>
                      <a:lnTo>
                        <a:pt x="719" y="223"/>
                      </a:lnTo>
                      <a:lnTo>
                        <a:pt x="702" y="223"/>
                      </a:lnTo>
                      <a:lnTo>
                        <a:pt x="686" y="223"/>
                      </a:lnTo>
                      <a:lnTo>
                        <a:pt x="661" y="231"/>
                      </a:lnTo>
                      <a:lnTo>
                        <a:pt x="644" y="231"/>
                      </a:lnTo>
                      <a:lnTo>
                        <a:pt x="627" y="231"/>
                      </a:lnTo>
                      <a:lnTo>
                        <a:pt x="602" y="231"/>
                      </a:lnTo>
                      <a:lnTo>
                        <a:pt x="585" y="231"/>
                      </a:lnTo>
                      <a:lnTo>
                        <a:pt x="560" y="231"/>
                      </a:lnTo>
                      <a:lnTo>
                        <a:pt x="544" y="239"/>
                      </a:lnTo>
                      <a:lnTo>
                        <a:pt x="518" y="239"/>
                      </a:lnTo>
                      <a:lnTo>
                        <a:pt x="502" y="239"/>
                      </a:lnTo>
                      <a:lnTo>
                        <a:pt x="485" y="239"/>
                      </a:lnTo>
                      <a:lnTo>
                        <a:pt x="460" y="231"/>
                      </a:lnTo>
                      <a:lnTo>
                        <a:pt x="427" y="231"/>
                      </a:lnTo>
                      <a:lnTo>
                        <a:pt x="393" y="231"/>
                      </a:lnTo>
                      <a:lnTo>
                        <a:pt x="360" y="223"/>
                      </a:lnTo>
                      <a:lnTo>
                        <a:pt x="318" y="223"/>
                      </a:lnTo>
                      <a:lnTo>
                        <a:pt x="284" y="215"/>
                      </a:lnTo>
                      <a:lnTo>
                        <a:pt x="259" y="208"/>
                      </a:lnTo>
                      <a:lnTo>
                        <a:pt x="226" y="200"/>
                      </a:lnTo>
                      <a:lnTo>
                        <a:pt x="193" y="192"/>
                      </a:lnTo>
                      <a:lnTo>
                        <a:pt x="167" y="185"/>
                      </a:lnTo>
                      <a:lnTo>
                        <a:pt x="142" y="177"/>
                      </a:lnTo>
                      <a:lnTo>
                        <a:pt x="109" y="162"/>
                      </a:lnTo>
                      <a:lnTo>
                        <a:pt x="84" y="154"/>
                      </a:lnTo>
                      <a:lnTo>
                        <a:pt x="59" y="146"/>
                      </a:lnTo>
                      <a:lnTo>
                        <a:pt x="42" y="131"/>
                      </a:lnTo>
                      <a:lnTo>
                        <a:pt x="17" y="123"/>
                      </a:lnTo>
                      <a:lnTo>
                        <a:pt x="0" y="108"/>
                      </a:lnTo>
                      <a:lnTo>
                        <a:pt x="0" y="85"/>
                      </a:lnTo>
                      <a:lnTo>
                        <a:pt x="0" y="54"/>
                      </a:lnTo>
                      <a:lnTo>
                        <a:pt x="0" y="23"/>
                      </a:lnTo>
                      <a:lnTo>
                        <a:pt x="0" y="0"/>
                      </a:lnTo>
                      <a:lnTo>
                        <a:pt x="17" y="8"/>
                      </a:lnTo>
                      <a:lnTo>
                        <a:pt x="34" y="23"/>
                      </a:lnTo>
                      <a:lnTo>
                        <a:pt x="59" y="31"/>
                      </a:lnTo>
                      <a:lnTo>
                        <a:pt x="76" y="46"/>
                      </a:lnTo>
                      <a:lnTo>
                        <a:pt x="101" y="54"/>
                      </a:lnTo>
                      <a:lnTo>
                        <a:pt x="126" y="62"/>
                      </a:lnTo>
                      <a:lnTo>
                        <a:pt x="151" y="69"/>
                      </a:lnTo>
                      <a:lnTo>
                        <a:pt x="176" y="77"/>
                      </a:lnTo>
                      <a:lnTo>
                        <a:pt x="201" y="85"/>
                      </a:lnTo>
                      <a:lnTo>
                        <a:pt x="226" y="92"/>
                      </a:lnTo>
                      <a:lnTo>
                        <a:pt x="251" y="100"/>
                      </a:lnTo>
                      <a:lnTo>
                        <a:pt x="276" y="108"/>
                      </a:lnTo>
                      <a:lnTo>
                        <a:pt x="310" y="108"/>
                      </a:lnTo>
                      <a:lnTo>
                        <a:pt x="335" y="115"/>
                      </a:lnTo>
                      <a:lnTo>
                        <a:pt x="360" y="115"/>
                      </a:lnTo>
                      <a:lnTo>
                        <a:pt x="385" y="123"/>
                      </a:lnTo>
                      <a:lnTo>
                        <a:pt x="410" y="123"/>
                      </a:lnTo>
                      <a:lnTo>
                        <a:pt x="435" y="131"/>
                      </a:lnTo>
                      <a:lnTo>
                        <a:pt x="460" y="131"/>
                      </a:lnTo>
                      <a:lnTo>
                        <a:pt x="485" y="131"/>
                      </a:lnTo>
                      <a:lnTo>
                        <a:pt x="510" y="131"/>
                      </a:lnTo>
                      <a:lnTo>
                        <a:pt x="535" y="131"/>
                      </a:lnTo>
                      <a:lnTo>
                        <a:pt x="560" y="131"/>
                      </a:lnTo>
                      <a:lnTo>
                        <a:pt x="585" y="131"/>
                      </a:lnTo>
                      <a:lnTo>
                        <a:pt x="610" y="131"/>
                      </a:lnTo>
                      <a:lnTo>
                        <a:pt x="635" y="131"/>
                      </a:lnTo>
                      <a:lnTo>
                        <a:pt x="661" y="123"/>
                      </a:lnTo>
                      <a:lnTo>
                        <a:pt x="686" y="123"/>
                      </a:lnTo>
                      <a:lnTo>
                        <a:pt x="702" y="123"/>
                      </a:lnTo>
                      <a:lnTo>
                        <a:pt x="727" y="115"/>
                      </a:lnTo>
                      <a:lnTo>
                        <a:pt x="752" y="115"/>
                      </a:lnTo>
                      <a:lnTo>
                        <a:pt x="778" y="115"/>
                      </a:lnTo>
                      <a:close/>
                    </a:path>
                  </a:pathLst>
                </a:custGeom>
                <a:solidFill>
                  <a:srgbClr val="ffffff"/>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Freeform 753"/>
                <p:cNvSpPr/>
                <p:nvPr/>
              </p:nvSpPr>
              <p:spPr>
                <a:xfrm flipH="1">
                  <a:off x="360720" y="2007720"/>
                  <a:ext cx="155160" cy="50040"/>
                </a:xfrm>
                <a:custGeom>
                  <a:avLst/>
                  <a:gdLst>
                    <a:gd name="textAreaLeft" fmla="*/ -360 w 155160"/>
                    <a:gd name="textAreaRight" fmla="*/ 155160 w 155160"/>
                    <a:gd name="textAreaTop" fmla="*/ 0 h 50040"/>
                    <a:gd name="textAreaBottom" fmla="*/ 50400 h 50040"/>
                  </a:gdLst>
                  <a:ahLst/>
                  <a:rect l="textAreaLeft" t="textAreaTop" r="textAreaRight" b="textAreaBottom"/>
                  <a:pathLst>
                    <a:path w="778" h="239">
                      <a:moveTo>
                        <a:pt x="778" y="115"/>
                      </a:moveTo>
                      <a:lnTo>
                        <a:pt x="778" y="139"/>
                      </a:lnTo>
                      <a:lnTo>
                        <a:pt x="778" y="162"/>
                      </a:lnTo>
                      <a:lnTo>
                        <a:pt x="778" y="185"/>
                      </a:lnTo>
                      <a:lnTo>
                        <a:pt x="761" y="215"/>
                      </a:lnTo>
                      <a:lnTo>
                        <a:pt x="752" y="215"/>
                      </a:lnTo>
                      <a:lnTo>
                        <a:pt x="736" y="215"/>
                      </a:lnTo>
                      <a:lnTo>
                        <a:pt x="719" y="223"/>
                      </a:lnTo>
                      <a:lnTo>
                        <a:pt x="702" y="223"/>
                      </a:lnTo>
                      <a:lnTo>
                        <a:pt x="686" y="223"/>
                      </a:lnTo>
                      <a:lnTo>
                        <a:pt x="661" y="231"/>
                      </a:lnTo>
                      <a:lnTo>
                        <a:pt x="644" y="231"/>
                      </a:lnTo>
                      <a:lnTo>
                        <a:pt x="627" y="231"/>
                      </a:lnTo>
                      <a:lnTo>
                        <a:pt x="602" y="231"/>
                      </a:lnTo>
                      <a:lnTo>
                        <a:pt x="585" y="231"/>
                      </a:lnTo>
                      <a:lnTo>
                        <a:pt x="560" y="231"/>
                      </a:lnTo>
                      <a:lnTo>
                        <a:pt x="544" y="239"/>
                      </a:lnTo>
                      <a:lnTo>
                        <a:pt x="518" y="239"/>
                      </a:lnTo>
                      <a:lnTo>
                        <a:pt x="502" y="239"/>
                      </a:lnTo>
                      <a:lnTo>
                        <a:pt x="485" y="239"/>
                      </a:lnTo>
                      <a:lnTo>
                        <a:pt x="460" y="231"/>
                      </a:lnTo>
                      <a:lnTo>
                        <a:pt x="427" y="231"/>
                      </a:lnTo>
                      <a:lnTo>
                        <a:pt x="393" y="231"/>
                      </a:lnTo>
                      <a:lnTo>
                        <a:pt x="360" y="223"/>
                      </a:lnTo>
                      <a:lnTo>
                        <a:pt x="318" y="223"/>
                      </a:lnTo>
                      <a:lnTo>
                        <a:pt x="284" y="215"/>
                      </a:lnTo>
                      <a:lnTo>
                        <a:pt x="259" y="208"/>
                      </a:lnTo>
                      <a:lnTo>
                        <a:pt x="226" y="200"/>
                      </a:lnTo>
                      <a:lnTo>
                        <a:pt x="193" y="192"/>
                      </a:lnTo>
                      <a:lnTo>
                        <a:pt x="167" y="185"/>
                      </a:lnTo>
                      <a:lnTo>
                        <a:pt x="142" y="177"/>
                      </a:lnTo>
                      <a:lnTo>
                        <a:pt x="109" y="162"/>
                      </a:lnTo>
                      <a:lnTo>
                        <a:pt x="84" y="154"/>
                      </a:lnTo>
                      <a:lnTo>
                        <a:pt x="59" y="146"/>
                      </a:lnTo>
                      <a:lnTo>
                        <a:pt x="42" y="131"/>
                      </a:lnTo>
                      <a:lnTo>
                        <a:pt x="17" y="123"/>
                      </a:lnTo>
                      <a:lnTo>
                        <a:pt x="0" y="108"/>
                      </a:lnTo>
                      <a:lnTo>
                        <a:pt x="0" y="85"/>
                      </a:lnTo>
                      <a:lnTo>
                        <a:pt x="0" y="54"/>
                      </a:lnTo>
                      <a:lnTo>
                        <a:pt x="0" y="23"/>
                      </a:lnTo>
                      <a:lnTo>
                        <a:pt x="0" y="0"/>
                      </a:lnTo>
                      <a:lnTo>
                        <a:pt x="17" y="8"/>
                      </a:lnTo>
                      <a:lnTo>
                        <a:pt x="34" y="23"/>
                      </a:lnTo>
                      <a:lnTo>
                        <a:pt x="59" y="31"/>
                      </a:lnTo>
                      <a:lnTo>
                        <a:pt x="76" y="46"/>
                      </a:lnTo>
                      <a:lnTo>
                        <a:pt x="101" y="54"/>
                      </a:lnTo>
                      <a:lnTo>
                        <a:pt x="126" y="62"/>
                      </a:lnTo>
                      <a:lnTo>
                        <a:pt x="151" y="69"/>
                      </a:lnTo>
                      <a:lnTo>
                        <a:pt x="176" y="77"/>
                      </a:lnTo>
                      <a:lnTo>
                        <a:pt x="201" y="85"/>
                      </a:lnTo>
                      <a:lnTo>
                        <a:pt x="226" y="92"/>
                      </a:lnTo>
                      <a:lnTo>
                        <a:pt x="251" y="100"/>
                      </a:lnTo>
                      <a:lnTo>
                        <a:pt x="276" y="108"/>
                      </a:lnTo>
                      <a:lnTo>
                        <a:pt x="310" y="108"/>
                      </a:lnTo>
                      <a:lnTo>
                        <a:pt x="335" y="115"/>
                      </a:lnTo>
                      <a:lnTo>
                        <a:pt x="360" y="115"/>
                      </a:lnTo>
                      <a:lnTo>
                        <a:pt x="385" y="123"/>
                      </a:lnTo>
                      <a:lnTo>
                        <a:pt x="410" y="123"/>
                      </a:lnTo>
                      <a:lnTo>
                        <a:pt x="435" y="131"/>
                      </a:lnTo>
                      <a:lnTo>
                        <a:pt x="460" y="131"/>
                      </a:lnTo>
                      <a:lnTo>
                        <a:pt x="485" y="131"/>
                      </a:lnTo>
                      <a:lnTo>
                        <a:pt x="510" y="131"/>
                      </a:lnTo>
                      <a:lnTo>
                        <a:pt x="535" y="131"/>
                      </a:lnTo>
                      <a:lnTo>
                        <a:pt x="560" y="131"/>
                      </a:lnTo>
                      <a:lnTo>
                        <a:pt x="585" y="131"/>
                      </a:lnTo>
                      <a:lnTo>
                        <a:pt x="610" y="131"/>
                      </a:lnTo>
                      <a:lnTo>
                        <a:pt x="635" y="131"/>
                      </a:lnTo>
                      <a:lnTo>
                        <a:pt x="661" y="123"/>
                      </a:lnTo>
                      <a:lnTo>
                        <a:pt x="686" y="123"/>
                      </a:lnTo>
                      <a:lnTo>
                        <a:pt x="702" y="123"/>
                      </a:lnTo>
                      <a:lnTo>
                        <a:pt x="727" y="115"/>
                      </a:lnTo>
                      <a:lnTo>
                        <a:pt x="752" y="115"/>
                      </a:lnTo>
                      <a:lnTo>
                        <a:pt x="778" y="115"/>
                      </a:lnTo>
                    </a:path>
                  </a:pathLst>
                </a:custGeom>
                <a:noFill/>
                <a:ln w="0">
                  <a:solidFill>
                    <a:srgbClr val="000000"/>
                  </a:solid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Freeform 752"/>
                <p:cNvSpPr/>
                <p:nvPr/>
              </p:nvSpPr>
              <p:spPr>
                <a:xfrm flipH="1">
                  <a:off x="360720" y="1964160"/>
                  <a:ext cx="155160" cy="70920"/>
                </a:xfrm>
                <a:custGeom>
                  <a:avLst/>
                  <a:gdLst>
                    <a:gd name="textAreaLeft" fmla="*/ -360 w 155160"/>
                    <a:gd name="textAreaRight" fmla="*/ 155160 w 155160"/>
                    <a:gd name="textAreaTop" fmla="*/ 0 h 70920"/>
                    <a:gd name="textAreaBottom" fmla="*/ 71280 h 70920"/>
                  </a:gdLst>
                  <a:ahLst/>
                  <a:rect l="textAreaLeft" t="textAreaTop" r="textAreaRight" b="textAreaBottom"/>
                  <a:pathLst>
                    <a:path w="778" h="339">
                      <a:moveTo>
                        <a:pt x="778" y="323"/>
                      </a:moveTo>
                      <a:lnTo>
                        <a:pt x="769" y="308"/>
                      </a:lnTo>
                      <a:lnTo>
                        <a:pt x="752" y="300"/>
                      </a:lnTo>
                      <a:lnTo>
                        <a:pt x="744" y="293"/>
                      </a:lnTo>
                      <a:lnTo>
                        <a:pt x="727" y="277"/>
                      </a:lnTo>
                      <a:lnTo>
                        <a:pt x="719" y="270"/>
                      </a:lnTo>
                      <a:lnTo>
                        <a:pt x="702" y="254"/>
                      </a:lnTo>
                      <a:lnTo>
                        <a:pt x="694" y="247"/>
                      </a:lnTo>
                      <a:lnTo>
                        <a:pt x="677" y="239"/>
                      </a:lnTo>
                      <a:lnTo>
                        <a:pt x="669" y="223"/>
                      </a:lnTo>
                      <a:lnTo>
                        <a:pt x="652" y="216"/>
                      </a:lnTo>
                      <a:lnTo>
                        <a:pt x="635" y="208"/>
                      </a:lnTo>
                      <a:lnTo>
                        <a:pt x="627" y="200"/>
                      </a:lnTo>
                      <a:lnTo>
                        <a:pt x="610" y="185"/>
                      </a:lnTo>
                      <a:lnTo>
                        <a:pt x="594" y="177"/>
                      </a:lnTo>
                      <a:lnTo>
                        <a:pt x="585" y="170"/>
                      </a:lnTo>
                      <a:lnTo>
                        <a:pt x="569" y="162"/>
                      </a:lnTo>
                      <a:lnTo>
                        <a:pt x="552" y="147"/>
                      </a:lnTo>
                      <a:lnTo>
                        <a:pt x="527" y="139"/>
                      </a:lnTo>
                      <a:lnTo>
                        <a:pt x="510" y="123"/>
                      </a:lnTo>
                      <a:lnTo>
                        <a:pt x="493" y="116"/>
                      </a:lnTo>
                      <a:lnTo>
                        <a:pt x="468" y="100"/>
                      </a:lnTo>
                      <a:lnTo>
                        <a:pt x="452" y="93"/>
                      </a:lnTo>
                      <a:lnTo>
                        <a:pt x="435" y="85"/>
                      </a:lnTo>
                      <a:lnTo>
                        <a:pt x="410" y="70"/>
                      </a:lnTo>
                      <a:lnTo>
                        <a:pt x="393" y="62"/>
                      </a:lnTo>
                      <a:lnTo>
                        <a:pt x="376" y="54"/>
                      </a:lnTo>
                      <a:lnTo>
                        <a:pt x="351" y="47"/>
                      </a:lnTo>
                      <a:lnTo>
                        <a:pt x="335" y="31"/>
                      </a:lnTo>
                      <a:lnTo>
                        <a:pt x="310" y="23"/>
                      </a:lnTo>
                      <a:lnTo>
                        <a:pt x="293" y="16"/>
                      </a:lnTo>
                      <a:lnTo>
                        <a:pt x="276" y="8"/>
                      </a:lnTo>
                      <a:lnTo>
                        <a:pt x="251" y="0"/>
                      </a:lnTo>
                      <a:lnTo>
                        <a:pt x="234" y="0"/>
                      </a:lnTo>
                      <a:lnTo>
                        <a:pt x="226" y="0"/>
                      </a:lnTo>
                      <a:lnTo>
                        <a:pt x="209" y="0"/>
                      </a:lnTo>
                      <a:lnTo>
                        <a:pt x="193" y="8"/>
                      </a:lnTo>
                      <a:lnTo>
                        <a:pt x="176" y="8"/>
                      </a:lnTo>
                      <a:lnTo>
                        <a:pt x="159" y="8"/>
                      </a:lnTo>
                      <a:lnTo>
                        <a:pt x="142" y="8"/>
                      </a:lnTo>
                      <a:lnTo>
                        <a:pt x="126" y="8"/>
                      </a:lnTo>
                      <a:lnTo>
                        <a:pt x="109" y="8"/>
                      </a:lnTo>
                      <a:lnTo>
                        <a:pt x="92" y="8"/>
                      </a:lnTo>
                      <a:lnTo>
                        <a:pt x="84" y="16"/>
                      </a:lnTo>
                      <a:lnTo>
                        <a:pt x="67" y="16"/>
                      </a:lnTo>
                      <a:lnTo>
                        <a:pt x="50" y="16"/>
                      </a:lnTo>
                      <a:lnTo>
                        <a:pt x="34" y="16"/>
                      </a:lnTo>
                      <a:lnTo>
                        <a:pt x="17" y="16"/>
                      </a:lnTo>
                      <a:lnTo>
                        <a:pt x="0" y="16"/>
                      </a:lnTo>
                      <a:lnTo>
                        <a:pt x="0" y="62"/>
                      </a:lnTo>
                      <a:lnTo>
                        <a:pt x="0" y="108"/>
                      </a:lnTo>
                      <a:lnTo>
                        <a:pt x="0" y="162"/>
                      </a:lnTo>
                      <a:lnTo>
                        <a:pt x="0" y="208"/>
                      </a:lnTo>
                      <a:lnTo>
                        <a:pt x="17" y="216"/>
                      </a:lnTo>
                      <a:lnTo>
                        <a:pt x="34" y="231"/>
                      </a:lnTo>
                      <a:lnTo>
                        <a:pt x="59" y="239"/>
                      </a:lnTo>
                      <a:lnTo>
                        <a:pt x="76" y="254"/>
                      </a:lnTo>
                      <a:lnTo>
                        <a:pt x="101" y="262"/>
                      </a:lnTo>
                      <a:lnTo>
                        <a:pt x="126" y="270"/>
                      </a:lnTo>
                      <a:lnTo>
                        <a:pt x="151" y="277"/>
                      </a:lnTo>
                      <a:lnTo>
                        <a:pt x="176" y="285"/>
                      </a:lnTo>
                      <a:lnTo>
                        <a:pt x="201" y="293"/>
                      </a:lnTo>
                      <a:lnTo>
                        <a:pt x="226" y="300"/>
                      </a:lnTo>
                      <a:lnTo>
                        <a:pt x="251" y="308"/>
                      </a:lnTo>
                      <a:lnTo>
                        <a:pt x="276" y="316"/>
                      </a:lnTo>
                      <a:lnTo>
                        <a:pt x="310" y="316"/>
                      </a:lnTo>
                      <a:lnTo>
                        <a:pt x="335" y="323"/>
                      </a:lnTo>
                      <a:lnTo>
                        <a:pt x="360" y="323"/>
                      </a:lnTo>
                      <a:lnTo>
                        <a:pt x="385" y="331"/>
                      </a:lnTo>
                      <a:lnTo>
                        <a:pt x="393" y="331"/>
                      </a:lnTo>
                      <a:lnTo>
                        <a:pt x="401" y="331"/>
                      </a:lnTo>
                      <a:lnTo>
                        <a:pt x="410" y="331"/>
                      </a:lnTo>
                      <a:lnTo>
                        <a:pt x="418" y="331"/>
                      </a:lnTo>
                      <a:lnTo>
                        <a:pt x="427" y="339"/>
                      </a:lnTo>
                      <a:lnTo>
                        <a:pt x="443" y="339"/>
                      </a:lnTo>
                      <a:lnTo>
                        <a:pt x="452" y="339"/>
                      </a:lnTo>
                      <a:lnTo>
                        <a:pt x="460" y="339"/>
                      </a:lnTo>
                      <a:lnTo>
                        <a:pt x="477" y="339"/>
                      </a:lnTo>
                      <a:lnTo>
                        <a:pt x="502" y="339"/>
                      </a:lnTo>
                      <a:lnTo>
                        <a:pt x="518" y="339"/>
                      </a:lnTo>
                      <a:lnTo>
                        <a:pt x="535" y="339"/>
                      </a:lnTo>
                      <a:lnTo>
                        <a:pt x="560" y="339"/>
                      </a:lnTo>
                      <a:lnTo>
                        <a:pt x="577" y="339"/>
                      </a:lnTo>
                      <a:lnTo>
                        <a:pt x="602" y="339"/>
                      </a:lnTo>
                      <a:lnTo>
                        <a:pt x="619" y="339"/>
                      </a:lnTo>
                      <a:lnTo>
                        <a:pt x="644" y="339"/>
                      </a:lnTo>
                      <a:lnTo>
                        <a:pt x="661" y="331"/>
                      </a:lnTo>
                      <a:lnTo>
                        <a:pt x="677" y="331"/>
                      </a:lnTo>
                      <a:lnTo>
                        <a:pt x="702" y="331"/>
                      </a:lnTo>
                      <a:lnTo>
                        <a:pt x="719" y="331"/>
                      </a:lnTo>
                      <a:lnTo>
                        <a:pt x="736" y="323"/>
                      </a:lnTo>
                      <a:lnTo>
                        <a:pt x="761" y="323"/>
                      </a:lnTo>
                      <a:lnTo>
                        <a:pt x="778" y="323"/>
                      </a:lnTo>
                      <a:close/>
                    </a:path>
                  </a:pathLst>
                </a:custGeom>
                <a:solidFill>
                  <a:srgbClr val="ffffff"/>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Freeform 751"/>
                <p:cNvSpPr/>
                <p:nvPr/>
              </p:nvSpPr>
              <p:spPr>
                <a:xfrm flipH="1">
                  <a:off x="360720" y="1964160"/>
                  <a:ext cx="155160" cy="70920"/>
                </a:xfrm>
                <a:custGeom>
                  <a:avLst/>
                  <a:gdLst>
                    <a:gd name="textAreaLeft" fmla="*/ -360 w 155160"/>
                    <a:gd name="textAreaRight" fmla="*/ 155160 w 155160"/>
                    <a:gd name="textAreaTop" fmla="*/ 0 h 70920"/>
                    <a:gd name="textAreaBottom" fmla="*/ 71280 h 70920"/>
                  </a:gdLst>
                  <a:ahLst/>
                  <a:rect l="textAreaLeft" t="textAreaTop" r="textAreaRight" b="textAreaBottom"/>
                  <a:pathLst>
                    <a:path w="778" h="339">
                      <a:moveTo>
                        <a:pt x="778" y="323"/>
                      </a:moveTo>
                      <a:lnTo>
                        <a:pt x="769" y="308"/>
                      </a:lnTo>
                      <a:lnTo>
                        <a:pt x="752" y="300"/>
                      </a:lnTo>
                      <a:lnTo>
                        <a:pt x="744" y="293"/>
                      </a:lnTo>
                      <a:lnTo>
                        <a:pt x="727" y="277"/>
                      </a:lnTo>
                      <a:lnTo>
                        <a:pt x="719" y="270"/>
                      </a:lnTo>
                      <a:lnTo>
                        <a:pt x="702" y="254"/>
                      </a:lnTo>
                      <a:lnTo>
                        <a:pt x="694" y="247"/>
                      </a:lnTo>
                      <a:lnTo>
                        <a:pt x="677" y="239"/>
                      </a:lnTo>
                      <a:lnTo>
                        <a:pt x="669" y="223"/>
                      </a:lnTo>
                      <a:lnTo>
                        <a:pt x="652" y="216"/>
                      </a:lnTo>
                      <a:lnTo>
                        <a:pt x="635" y="208"/>
                      </a:lnTo>
                      <a:lnTo>
                        <a:pt x="627" y="200"/>
                      </a:lnTo>
                      <a:lnTo>
                        <a:pt x="610" y="185"/>
                      </a:lnTo>
                      <a:lnTo>
                        <a:pt x="594" y="177"/>
                      </a:lnTo>
                      <a:lnTo>
                        <a:pt x="585" y="170"/>
                      </a:lnTo>
                      <a:lnTo>
                        <a:pt x="569" y="162"/>
                      </a:lnTo>
                      <a:lnTo>
                        <a:pt x="552" y="147"/>
                      </a:lnTo>
                      <a:lnTo>
                        <a:pt x="527" y="139"/>
                      </a:lnTo>
                      <a:lnTo>
                        <a:pt x="510" y="123"/>
                      </a:lnTo>
                      <a:lnTo>
                        <a:pt x="493" y="116"/>
                      </a:lnTo>
                      <a:lnTo>
                        <a:pt x="468" y="100"/>
                      </a:lnTo>
                      <a:lnTo>
                        <a:pt x="452" y="93"/>
                      </a:lnTo>
                      <a:lnTo>
                        <a:pt x="435" y="85"/>
                      </a:lnTo>
                      <a:lnTo>
                        <a:pt x="410" y="70"/>
                      </a:lnTo>
                      <a:lnTo>
                        <a:pt x="393" y="62"/>
                      </a:lnTo>
                      <a:lnTo>
                        <a:pt x="376" y="54"/>
                      </a:lnTo>
                      <a:lnTo>
                        <a:pt x="351" y="47"/>
                      </a:lnTo>
                      <a:lnTo>
                        <a:pt x="335" y="31"/>
                      </a:lnTo>
                      <a:lnTo>
                        <a:pt x="310" y="23"/>
                      </a:lnTo>
                      <a:lnTo>
                        <a:pt x="293" y="16"/>
                      </a:lnTo>
                      <a:lnTo>
                        <a:pt x="276" y="8"/>
                      </a:lnTo>
                      <a:lnTo>
                        <a:pt x="251" y="0"/>
                      </a:lnTo>
                      <a:lnTo>
                        <a:pt x="234" y="0"/>
                      </a:lnTo>
                      <a:lnTo>
                        <a:pt x="226" y="0"/>
                      </a:lnTo>
                      <a:lnTo>
                        <a:pt x="209" y="0"/>
                      </a:lnTo>
                      <a:lnTo>
                        <a:pt x="193" y="8"/>
                      </a:lnTo>
                      <a:lnTo>
                        <a:pt x="176" y="8"/>
                      </a:lnTo>
                      <a:lnTo>
                        <a:pt x="159" y="8"/>
                      </a:lnTo>
                      <a:lnTo>
                        <a:pt x="142" y="8"/>
                      </a:lnTo>
                      <a:lnTo>
                        <a:pt x="126" y="8"/>
                      </a:lnTo>
                      <a:lnTo>
                        <a:pt x="109" y="8"/>
                      </a:lnTo>
                      <a:lnTo>
                        <a:pt x="92" y="8"/>
                      </a:lnTo>
                      <a:lnTo>
                        <a:pt x="84" y="16"/>
                      </a:lnTo>
                      <a:lnTo>
                        <a:pt x="67" y="16"/>
                      </a:lnTo>
                      <a:lnTo>
                        <a:pt x="50" y="16"/>
                      </a:lnTo>
                      <a:lnTo>
                        <a:pt x="34" y="16"/>
                      </a:lnTo>
                      <a:lnTo>
                        <a:pt x="17" y="16"/>
                      </a:lnTo>
                      <a:lnTo>
                        <a:pt x="0" y="16"/>
                      </a:lnTo>
                      <a:lnTo>
                        <a:pt x="0" y="62"/>
                      </a:lnTo>
                      <a:lnTo>
                        <a:pt x="0" y="108"/>
                      </a:lnTo>
                      <a:lnTo>
                        <a:pt x="0" y="162"/>
                      </a:lnTo>
                      <a:lnTo>
                        <a:pt x="0" y="208"/>
                      </a:lnTo>
                      <a:lnTo>
                        <a:pt x="17" y="216"/>
                      </a:lnTo>
                      <a:lnTo>
                        <a:pt x="34" y="231"/>
                      </a:lnTo>
                      <a:lnTo>
                        <a:pt x="59" y="239"/>
                      </a:lnTo>
                      <a:lnTo>
                        <a:pt x="76" y="254"/>
                      </a:lnTo>
                      <a:lnTo>
                        <a:pt x="101" y="262"/>
                      </a:lnTo>
                      <a:lnTo>
                        <a:pt x="126" y="270"/>
                      </a:lnTo>
                      <a:lnTo>
                        <a:pt x="151" y="277"/>
                      </a:lnTo>
                      <a:lnTo>
                        <a:pt x="176" y="285"/>
                      </a:lnTo>
                      <a:lnTo>
                        <a:pt x="201" y="293"/>
                      </a:lnTo>
                      <a:lnTo>
                        <a:pt x="226" y="300"/>
                      </a:lnTo>
                      <a:lnTo>
                        <a:pt x="251" y="308"/>
                      </a:lnTo>
                      <a:lnTo>
                        <a:pt x="276" y="316"/>
                      </a:lnTo>
                      <a:lnTo>
                        <a:pt x="310" y="316"/>
                      </a:lnTo>
                      <a:lnTo>
                        <a:pt x="335" y="323"/>
                      </a:lnTo>
                      <a:lnTo>
                        <a:pt x="360" y="323"/>
                      </a:lnTo>
                      <a:lnTo>
                        <a:pt x="385" y="331"/>
                      </a:lnTo>
                      <a:lnTo>
                        <a:pt x="393" y="331"/>
                      </a:lnTo>
                      <a:lnTo>
                        <a:pt x="401" y="331"/>
                      </a:lnTo>
                      <a:lnTo>
                        <a:pt x="410" y="331"/>
                      </a:lnTo>
                      <a:lnTo>
                        <a:pt x="418" y="331"/>
                      </a:lnTo>
                      <a:lnTo>
                        <a:pt x="427" y="339"/>
                      </a:lnTo>
                      <a:lnTo>
                        <a:pt x="443" y="339"/>
                      </a:lnTo>
                      <a:lnTo>
                        <a:pt x="452" y="339"/>
                      </a:lnTo>
                      <a:lnTo>
                        <a:pt x="460" y="339"/>
                      </a:lnTo>
                      <a:lnTo>
                        <a:pt x="477" y="339"/>
                      </a:lnTo>
                      <a:lnTo>
                        <a:pt x="502" y="339"/>
                      </a:lnTo>
                      <a:lnTo>
                        <a:pt x="518" y="339"/>
                      </a:lnTo>
                      <a:lnTo>
                        <a:pt x="535" y="339"/>
                      </a:lnTo>
                      <a:lnTo>
                        <a:pt x="560" y="339"/>
                      </a:lnTo>
                      <a:lnTo>
                        <a:pt x="577" y="339"/>
                      </a:lnTo>
                      <a:lnTo>
                        <a:pt x="602" y="339"/>
                      </a:lnTo>
                      <a:lnTo>
                        <a:pt x="619" y="339"/>
                      </a:lnTo>
                      <a:lnTo>
                        <a:pt x="644" y="339"/>
                      </a:lnTo>
                      <a:lnTo>
                        <a:pt x="661" y="331"/>
                      </a:lnTo>
                      <a:lnTo>
                        <a:pt x="677" y="331"/>
                      </a:lnTo>
                      <a:lnTo>
                        <a:pt x="702" y="331"/>
                      </a:lnTo>
                      <a:lnTo>
                        <a:pt x="719" y="331"/>
                      </a:lnTo>
                      <a:lnTo>
                        <a:pt x="736" y="323"/>
                      </a:lnTo>
                      <a:lnTo>
                        <a:pt x="761" y="323"/>
                      </a:lnTo>
                      <a:lnTo>
                        <a:pt x="778" y="323"/>
                      </a:lnTo>
                    </a:path>
                  </a:pathLst>
                </a:custGeom>
                <a:noFill/>
                <a:ln w="0">
                  <a:solidFill>
                    <a:srgbClr val="000000"/>
                  </a:solid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Freeform 750"/>
                <p:cNvSpPr/>
                <p:nvPr/>
              </p:nvSpPr>
              <p:spPr>
                <a:xfrm flipH="1">
                  <a:off x="361440" y="1998000"/>
                  <a:ext cx="64800" cy="37080"/>
                </a:xfrm>
                <a:custGeom>
                  <a:avLst/>
                  <a:gdLst>
                    <a:gd name="textAreaLeft" fmla="*/ 360 w 64800"/>
                    <a:gd name="textAreaRight" fmla="*/ 65520 w 64800"/>
                    <a:gd name="textAreaTop" fmla="*/ 0 h 37080"/>
                    <a:gd name="textAreaBottom" fmla="*/ 37440 h 37080"/>
                  </a:gdLst>
                  <a:ahLst/>
                  <a:rect l="textAreaLeft" t="textAreaTop" r="textAreaRight" b="textAreaBottom"/>
                  <a:pathLst>
                    <a:path w="326" h="177">
                      <a:moveTo>
                        <a:pt x="326" y="161"/>
                      </a:moveTo>
                      <a:lnTo>
                        <a:pt x="317" y="146"/>
                      </a:lnTo>
                      <a:lnTo>
                        <a:pt x="300" y="138"/>
                      </a:lnTo>
                      <a:lnTo>
                        <a:pt x="292" y="131"/>
                      </a:lnTo>
                      <a:lnTo>
                        <a:pt x="275" y="115"/>
                      </a:lnTo>
                      <a:lnTo>
                        <a:pt x="267" y="108"/>
                      </a:lnTo>
                      <a:lnTo>
                        <a:pt x="250" y="92"/>
                      </a:lnTo>
                      <a:lnTo>
                        <a:pt x="242" y="85"/>
                      </a:lnTo>
                      <a:lnTo>
                        <a:pt x="225" y="77"/>
                      </a:lnTo>
                      <a:lnTo>
                        <a:pt x="217" y="61"/>
                      </a:lnTo>
                      <a:lnTo>
                        <a:pt x="200" y="54"/>
                      </a:lnTo>
                      <a:lnTo>
                        <a:pt x="183" y="46"/>
                      </a:lnTo>
                      <a:lnTo>
                        <a:pt x="175" y="38"/>
                      </a:lnTo>
                      <a:lnTo>
                        <a:pt x="158" y="23"/>
                      </a:lnTo>
                      <a:lnTo>
                        <a:pt x="142" y="15"/>
                      </a:lnTo>
                      <a:lnTo>
                        <a:pt x="133" y="8"/>
                      </a:lnTo>
                      <a:lnTo>
                        <a:pt x="117" y="0"/>
                      </a:lnTo>
                      <a:lnTo>
                        <a:pt x="100" y="0"/>
                      </a:lnTo>
                      <a:lnTo>
                        <a:pt x="92" y="0"/>
                      </a:lnTo>
                      <a:lnTo>
                        <a:pt x="75" y="8"/>
                      </a:lnTo>
                      <a:lnTo>
                        <a:pt x="66" y="23"/>
                      </a:lnTo>
                      <a:lnTo>
                        <a:pt x="50" y="31"/>
                      </a:lnTo>
                      <a:lnTo>
                        <a:pt x="41" y="46"/>
                      </a:lnTo>
                      <a:lnTo>
                        <a:pt x="33" y="54"/>
                      </a:lnTo>
                      <a:lnTo>
                        <a:pt x="25" y="69"/>
                      </a:lnTo>
                      <a:lnTo>
                        <a:pt x="16" y="85"/>
                      </a:lnTo>
                      <a:lnTo>
                        <a:pt x="16" y="100"/>
                      </a:lnTo>
                      <a:lnTo>
                        <a:pt x="8" y="115"/>
                      </a:lnTo>
                      <a:lnTo>
                        <a:pt x="8" y="131"/>
                      </a:lnTo>
                      <a:lnTo>
                        <a:pt x="8" y="138"/>
                      </a:lnTo>
                      <a:lnTo>
                        <a:pt x="0" y="154"/>
                      </a:lnTo>
                      <a:lnTo>
                        <a:pt x="8" y="169"/>
                      </a:lnTo>
                      <a:lnTo>
                        <a:pt x="8" y="177"/>
                      </a:lnTo>
                      <a:lnTo>
                        <a:pt x="25" y="177"/>
                      </a:lnTo>
                      <a:lnTo>
                        <a:pt x="50" y="177"/>
                      </a:lnTo>
                      <a:lnTo>
                        <a:pt x="66" y="177"/>
                      </a:lnTo>
                      <a:lnTo>
                        <a:pt x="83" y="177"/>
                      </a:lnTo>
                      <a:lnTo>
                        <a:pt x="108" y="177"/>
                      </a:lnTo>
                      <a:lnTo>
                        <a:pt x="125" y="177"/>
                      </a:lnTo>
                      <a:lnTo>
                        <a:pt x="150" y="177"/>
                      </a:lnTo>
                      <a:lnTo>
                        <a:pt x="167" y="177"/>
                      </a:lnTo>
                      <a:lnTo>
                        <a:pt x="192" y="177"/>
                      </a:lnTo>
                      <a:lnTo>
                        <a:pt x="209" y="169"/>
                      </a:lnTo>
                      <a:lnTo>
                        <a:pt x="225" y="169"/>
                      </a:lnTo>
                      <a:lnTo>
                        <a:pt x="250" y="169"/>
                      </a:lnTo>
                      <a:lnTo>
                        <a:pt x="267" y="169"/>
                      </a:lnTo>
                      <a:lnTo>
                        <a:pt x="284" y="161"/>
                      </a:lnTo>
                      <a:lnTo>
                        <a:pt x="309" y="161"/>
                      </a:lnTo>
                      <a:lnTo>
                        <a:pt x="326" y="161"/>
                      </a:lnTo>
                      <a:close/>
                    </a:path>
                  </a:pathLst>
                </a:custGeom>
                <a:solidFill>
                  <a:srgbClr val="ffffff"/>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Freeform 749"/>
                <p:cNvSpPr/>
                <p:nvPr/>
              </p:nvSpPr>
              <p:spPr>
                <a:xfrm flipH="1">
                  <a:off x="361440" y="1998000"/>
                  <a:ext cx="64800" cy="37080"/>
                </a:xfrm>
                <a:custGeom>
                  <a:avLst/>
                  <a:gdLst>
                    <a:gd name="textAreaLeft" fmla="*/ 360 w 64800"/>
                    <a:gd name="textAreaRight" fmla="*/ 65520 w 64800"/>
                    <a:gd name="textAreaTop" fmla="*/ 0 h 37080"/>
                    <a:gd name="textAreaBottom" fmla="*/ 37440 h 37080"/>
                  </a:gdLst>
                  <a:ahLst/>
                  <a:rect l="textAreaLeft" t="textAreaTop" r="textAreaRight" b="textAreaBottom"/>
                  <a:pathLst>
                    <a:path w="326" h="177">
                      <a:moveTo>
                        <a:pt x="326" y="161"/>
                      </a:moveTo>
                      <a:lnTo>
                        <a:pt x="317" y="146"/>
                      </a:lnTo>
                      <a:lnTo>
                        <a:pt x="300" y="138"/>
                      </a:lnTo>
                      <a:lnTo>
                        <a:pt x="292" y="131"/>
                      </a:lnTo>
                      <a:lnTo>
                        <a:pt x="275" y="115"/>
                      </a:lnTo>
                      <a:lnTo>
                        <a:pt x="267" y="108"/>
                      </a:lnTo>
                      <a:lnTo>
                        <a:pt x="250" y="92"/>
                      </a:lnTo>
                      <a:lnTo>
                        <a:pt x="242" y="85"/>
                      </a:lnTo>
                      <a:lnTo>
                        <a:pt x="225" y="77"/>
                      </a:lnTo>
                      <a:lnTo>
                        <a:pt x="217" y="61"/>
                      </a:lnTo>
                      <a:lnTo>
                        <a:pt x="200" y="54"/>
                      </a:lnTo>
                      <a:lnTo>
                        <a:pt x="183" y="46"/>
                      </a:lnTo>
                      <a:lnTo>
                        <a:pt x="175" y="38"/>
                      </a:lnTo>
                      <a:lnTo>
                        <a:pt x="158" y="23"/>
                      </a:lnTo>
                      <a:lnTo>
                        <a:pt x="142" y="15"/>
                      </a:lnTo>
                      <a:lnTo>
                        <a:pt x="133" y="8"/>
                      </a:lnTo>
                      <a:lnTo>
                        <a:pt x="117" y="0"/>
                      </a:lnTo>
                      <a:lnTo>
                        <a:pt x="100" y="0"/>
                      </a:lnTo>
                      <a:lnTo>
                        <a:pt x="92" y="0"/>
                      </a:lnTo>
                      <a:lnTo>
                        <a:pt x="75" y="8"/>
                      </a:lnTo>
                      <a:lnTo>
                        <a:pt x="66" y="23"/>
                      </a:lnTo>
                      <a:lnTo>
                        <a:pt x="50" y="31"/>
                      </a:lnTo>
                      <a:lnTo>
                        <a:pt x="41" y="46"/>
                      </a:lnTo>
                      <a:lnTo>
                        <a:pt x="33" y="54"/>
                      </a:lnTo>
                      <a:lnTo>
                        <a:pt x="25" y="69"/>
                      </a:lnTo>
                      <a:lnTo>
                        <a:pt x="16" y="85"/>
                      </a:lnTo>
                      <a:lnTo>
                        <a:pt x="16" y="100"/>
                      </a:lnTo>
                      <a:lnTo>
                        <a:pt x="8" y="115"/>
                      </a:lnTo>
                      <a:lnTo>
                        <a:pt x="8" y="131"/>
                      </a:lnTo>
                      <a:lnTo>
                        <a:pt x="8" y="138"/>
                      </a:lnTo>
                      <a:lnTo>
                        <a:pt x="0" y="154"/>
                      </a:lnTo>
                      <a:lnTo>
                        <a:pt x="8" y="169"/>
                      </a:lnTo>
                      <a:lnTo>
                        <a:pt x="8" y="177"/>
                      </a:lnTo>
                      <a:lnTo>
                        <a:pt x="25" y="177"/>
                      </a:lnTo>
                      <a:lnTo>
                        <a:pt x="50" y="177"/>
                      </a:lnTo>
                      <a:lnTo>
                        <a:pt x="66" y="177"/>
                      </a:lnTo>
                      <a:lnTo>
                        <a:pt x="83" y="177"/>
                      </a:lnTo>
                      <a:lnTo>
                        <a:pt x="108" y="177"/>
                      </a:lnTo>
                      <a:lnTo>
                        <a:pt x="125" y="177"/>
                      </a:lnTo>
                      <a:lnTo>
                        <a:pt x="150" y="177"/>
                      </a:lnTo>
                      <a:lnTo>
                        <a:pt x="167" y="177"/>
                      </a:lnTo>
                      <a:lnTo>
                        <a:pt x="192" y="177"/>
                      </a:lnTo>
                      <a:lnTo>
                        <a:pt x="209" y="169"/>
                      </a:lnTo>
                      <a:lnTo>
                        <a:pt x="225" y="169"/>
                      </a:lnTo>
                      <a:lnTo>
                        <a:pt x="250" y="169"/>
                      </a:lnTo>
                      <a:lnTo>
                        <a:pt x="267" y="169"/>
                      </a:lnTo>
                      <a:lnTo>
                        <a:pt x="284" y="161"/>
                      </a:lnTo>
                      <a:lnTo>
                        <a:pt x="309" y="161"/>
                      </a:lnTo>
                      <a:lnTo>
                        <a:pt x="326" y="161"/>
                      </a:lnTo>
                    </a:path>
                  </a:pathLst>
                </a:custGeom>
                <a:noFill/>
                <a:ln w="0">
                  <a:solidFill>
                    <a:srgbClr val="000000"/>
                  </a:solid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Freeform 748"/>
                <p:cNvSpPr/>
                <p:nvPr/>
              </p:nvSpPr>
              <p:spPr>
                <a:xfrm flipH="1">
                  <a:off x="510480" y="2010960"/>
                  <a:ext cx="360" cy="22320"/>
                </a:xfrm>
                <a:custGeom>
                  <a:avLst/>
                  <a:gdLst>
                    <a:gd name="textAreaLeft" fmla="*/ -360 w 360"/>
                    <a:gd name="textAreaRight" fmla="*/ 360 w 360"/>
                    <a:gd name="textAreaTop" fmla="*/ 0 h 22320"/>
                    <a:gd name="textAreaBottom" fmla="*/ 22680 h 22320"/>
                  </a:gdLst>
                  <a:ahLst/>
                  <a:rect l="textAreaLeft" t="textAreaTop" r="textAreaRight" b="textAreaBottom"/>
                  <a:pathLst>
                    <a:path w="1" h="108">
                      <a:moveTo>
                        <a:pt x="0" y="0"/>
                      </a:moveTo>
                      <a:lnTo>
                        <a:pt x="0" y="31"/>
                      </a:lnTo>
                      <a:lnTo>
                        <a:pt x="0" y="54"/>
                      </a:lnTo>
                      <a:lnTo>
                        <a:pt x="0" y="77"/>
                      </a:lnTo>
                      <a:lnTo>
                        <a:pt x="0" y="108"/>
                      </a:lnTo>
                    </a:path>
                  </a:pathLst>
                </a:custGeom>
                <a:noFill/>
                <a:ln w="0">
                  <a:solidFill>
                    <a:srgbClr val="000000"/>
                  </a:solidFill>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Freeform 747"/>
                <p:cNvSpPr/>
                <p:nvPr/>
              </p:nvSpPr>
              <p:spPr>
                <a:xfrm flipH="1">
                  <a:off x="498960" y="2019240"/>
                  <a:ext cx="360" cy="19080"/>
                </a:xfrm>
                <a:custGeom>
                  <a:avLst/>
                  <a:gdLst>
                    <a:gd name="textAreaLeft" fmla="*/ -360 w 360"/>
                    <a:gd name="textAreaRight" fmla="*/ 360 w 360"/>
                    <a:gd name="textAreaTop" fmla="*/ 0 h 19080"/>
                    <a:gd name="textAreaBottom" fmla="*/ 19440 h 19080"/>
                  </a:gdLst>
                  <a:ahLst/>
                  <a:rect l="textAreaLeft" t="textAreaTop" r="textAreaRight" b="textAreaBottom"/>
                  <a:pathLst>
                    <a:path w="1" h="92">
                      <a:moveTo>
                        <a:pt x="0" y="0"/>
                      </a:moveTo>
                      <a:lnTo>
                        <a:pt x="0" y="23"/>
                      </a:lnTo>
                      <a:lnTo>
                        <a:pt x="0" y="46"/>
                      </a:lnTo>
                      <a:lnTo>
                        <a:pt x="0" y="69"/>
                      </a:lnTo>
                      <a:lnTo>
                        <a:pt x="0" y="92"/>
                      </a:lnTo>
                    </a:path>
                  </a:pathLst>
                </a:custGeom>
                <a:noFill/>
                <a:ln w="0">
                  <a:solidFill>
                    <a:srgbClr val="000000"/>
                  </a:solid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Freeform 746"/>
                <p:cNvSpPr/>
                <p:nvPr/>
              </p:nvSpPr>
              <p:spPr>
                <a:xfrm flipH="1">
                  <a:off x="487080" y="2023920"/>
                  <a:ext cx="360" cy="20880"/>
                </a:xfrm>
                <a:custGeom>
                  <a:avLst/>
                  <a:gdLst>
                    <a:gd name="textAreaLeft" fmla="*/ -360 w 360"/>
                    <a:gd name="textAreaRight" fmla="*/ 360 w 360"/>
                    <a:gd name="textAreaTop" fmla="*/ 0 h 20880"/>
                    <a:gd name="textAreaBottom" fmla="*/ 21240 h 20880"/>
                  </a:gdLst>
                  <a:ahLst/>
                  <a:rect l="textAreaLeft" t="textAreaTop" r="textAreaRight" b="textAreaBottom"/>
                  <a:pathLst>
                    <a:path w="1" h="100">
                      <a:moveTo>
                        <a:pt x="0" y="0"/>
                      </a:moveTo>
                      <a:lnTo>
                        <a:pt x="0" y="23"/>
                      </a:lnTo>
                      <a:lnTo>
                        <a:pt x="0" y="46"/>
                      </a:lnTo>
                      <a:lnTo>
                        <a:pt x="0" y="69"/>
                      </a:lnTo>
                      <a:lnTo>
                        <a:pt x="0" y="100"/>
                      </a:lnTo>
                    </a:path>
                  </a:pathLst>
                </a:custGeom>
                <a:noFill/>
                <a:ln w="0">
                  <a:solidFill>
                    <a:srgbClr val="000000"/>
                  </a:solid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Freeform 745"/>
                <p:cNvSpPr/>
                <p:nvPr/>
              </p:nvSpPr>
              <p:spPr>
                <a:xfrm flipH="1">
                  <a:off x="470520" y="2027160"/>
                  <a:ext cx="360" cy="20880"/>
                </a:xfrm>
                <a:custGeom>
                  <a:avLst/>
                  <a:gdLst>
                    <a:gd name="textAreaLeft" fmla="*/ -360 w 360"/>
                    <a:gd name="textAreaRight" fmla="*/ 360 w 360"/>
                    <a:gd name="textAreaTop" fmla="*/ 0 h 20880"/>
                    <a:gd name="textAreaBottom" fmla="*/ 21240 h 20880"/>
                  </a:gdLst>
                  <a:ahLst/>
                  <a:rect l="textAreaLeft" t="textAreaTop" r="textAreaRight" b="textAreaBottom"/>
                  <a:pathLst>
                    <a:path w="1" h="100">
                      <a:moveTo>
                        <a:pt x="0" y="0"/>
                      </a:moveTo>
                      <a:lnTo>
                        <a:pt x="0" y="31"/>
                      </a:lnTo>
                      <a:lnTo>
                        <a:pt x="0" y="54"/>
                      </a:lnTo>
                      <a:lnTo>
                        <a:pt x="0" y="77"/>
                      </a:lnTo>
                      <a:lnTo>
                        <a:pt x="0" y="100"/>
                      </a:lnTo>
                    </a:path>
                  </a:pathLst>
                </a:custGeom>
                <a:noFill/>
                <a:ln w="0">
                  <a:solidFill>
                    <a:srgbClr val="000000"/>
                  </a:solid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Freeform 744"/>
                <p:cNvSpPr/>
                <p:nvPr/>
              </p:nvSpPr>
              <p:spPr>
                <a:xfrm flipH="1">
                  <a:off x="455400" y="2030400"/>
                  <a:ext cx="360" cy="22320"/>
                </a:xfrm>
                <a:custGeom>
                  <a:avLst/>
                  <a:gdLst>
                    <a:gd name="textAreaLeft" fmla="*/ -360 w 360"/>
                    <a:gd name="textAreaRight" fmla="*/ 360 w 360"/>
                    <a:gd name="textAreaTop" fmla="*/ 0 h 22320"/>
                    <a:gd name="textAreaBottom" fmla="*/ 22320 h 22320"/>
                  </a:gdLst>
                  <a:ahLst/>
                  <a:rect l="textAreaLeft" t="textAreaTop" r="textAreaRight" b="textAreaBottom"/>
                  <a:pathLst>
                    <a:path w="1" h="107">
                      <a:moveTo>
                        <a:pt x="0" y="0"/>
                      </a:moveTo>
                      <a:lnTo>
                        <a:pt x="0" y="31"/>
                      </a:lnTo>
                      <a:lnTo>
                        <a:pt x="0" y="54"/>
                      </a:lnTo>
                      <a:lnTo>
                        <a:pt x="0" y="77"/>
                      </a:lnTo>
                      <a:lnTo>
                        <a:pt x="0" y="107"/>
                      </a:lnTo>
                    </a:path>
                  </a:pathLst>
                </a:custGeom>
                <a:noFill/>
                <a:ln w="0">
                  <a:solidFill>
                    <a:srgbClr val="000000"/>
                  </a:solid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Freeform 743"/>
                <p:cNvSpPr/>
                <p:nvPr/>
              </p:nvSpPr>
              <p:spPr>
                <a:xfrm flipH="1">
                  <a:off x="443160" y="2033640"/>
                  <a:ext cx="1440" cy="20880"/>
                </a:xfrm>
                <a:custGeom>
                  <a:avLst/>
                  <a:gdLst>
                    <a:gd name="textAreaLeft" fmla="*/ 360 w 1440"/>
                    <a:gd name="textAreaRight" fmla="*/ 2160 w 1440"/>
                    <a:gd name="textAreaTop" fmla="*/ 0 h 20880"/>
                    <a:gd name="textAreaBottom" fmla="*/ 21240 h 20880"/>
                  </a:gdLst>
                  <a:ahLst/>
                  <a:rect l="textAreaLeft" t="textAreaTop" r="textAreaRight" b="textAreaBottom"/>
                  <a:pathLst>
                    <a:path w="8" h="100">
                      <a:moveTo>
                        <a:pt x="8" y="0"/>
                      </a:moveTo>
                      <a:lnTo>
                        <a:pt x="0" y="23"/>
                      </a:lnTo>
                      <a:lnTo>
                        <a:pt x="0" y="54"/>
                      </a:lnTo>
                      <a:lnTo>
                        <a:pt x="0" y="77"/>
                      </a:lnTo>
                      <a:lnTo>
                        <a:pt x="0" y="100"/>
                      </a:lnTo>
                    </a:path>
                  </a:pathLst>
                </a:custGeom>
                <a:noFill/>
                <a:ln w="0">
                  <a:solidFill>
                    <a:srgbClr val="000000"/>
                  </a:solid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Freeform 742"/>
                <p:cNvSpPr/>
                <p:nvPr/>
              </p:nvSpPr>
              <p:spPr>
                <a:xfrm flipH="1">
                  <a:off x="428040" y="2033640"/>
                  <a:ext cx="1440" cy="22320"/>
                </a:xfrm>
                <a:custGeom>
                  <a:avLst/>
                  <a:gdLst>
                    <a:gd name="textAreaLeft" fmla="*/ 360 w 1440"/>
                    <a:gd name="textAreaRight" fmla="*/ 2160 w 1440"/>
                    <a:gd name="textAreaTop" fmla="*/ 0 h 22320"/>
                    <a:gd name="textAreaBottom" fmla="*/ 22680 h 22320"/>
                  </a:gdLst>
                  <a:ahLst/>
                  <a:rect l="textAreaLeft" t="textAreaTop" r="textAreaRight" b="textAreaBottom"/>
                  <a:pathLst>
                    <a:path w="8" h="108">
                      <a:moveTo>
                        <a:pt x="8" y="0"/>
                      </a:moveTo>
                      <a:lnTo>
                        <a:pt x="8" y="31"/>
                      </a:lnTo>
                      <a:lnTo>
                        <a:pt x="8" y="54"/>
                      </a:lnTo>
                      <a:lnTo>
                        <a:pt x="0" y="85"/>
                      </a:lnTo>
                      <a:lnTo>
                        <a:pt x="0" y="108"/>
                      </a:lnTo>
                    </a:path>
                  </a:pathLst>
                </a:custGeom>
                <a:noFill/>
                <a:ln w="0">
                  <a:solidFill>
                    <a:srgbClr val="000000"/>
                  </a:solidFill>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Freeform 741"/>
                <p:cNvSpPr/>
                <p:nvPr/>
              </p:nvSpPr>
              <p:spPr>
                <a:xfrm flipH="1">
                  <a:off x="414720" y="2036880"/>
                  <a:ext cx="1440" cy="17280"/>
                </a:xfrm>
                <a:custGeom>
                  <a:avLst/>
                  <a:gdLst>
                    <a:gd name="textAreaLeft" fmla="*/ 360 w 1440"/>
                    <a:gd name="textAreaRight" fmla="*/ 2160 w 1440"/>
                    <a:gd name="textAreaTop" fmla="*/ 0 h 17280"/>
                    <a:gd name="textAreaBottom" fmla="*/ 17640 h 17280"/>
                  </a:gdLst>
                  <a:ahLst/>
                  <a:rect l="textAreaLeft" t="textAreaTop" r="textAreaRight" b="textAreaBottom"/>
                  <a:pathLst>
                    <a:path w="8" h="84">
                      <a:moveTo>
                        <a:pt x="8" y="0"/>
                      </a:moveTo>
                      <a:lnTo>
                        <a:pt x="0" y="23"/>
                      </a:lnTo>
                      <a:lnTo>
                        <a:pt x="0" y="46"/>
                      </a:lnTo>
                      <a:lnTo>
                        <a:pt x="0" y="61"/>
                      </a:lnTo>
                      <a:lnTo>
                        <a:pt x="0" y="84"/>
                      </a:lnTo>
                    </a:path>
                  </a:pathLst>
                </a:custGeom>
                <a:noFill/>
                <a:ln w="0">
                  <a:solidFill>
                    <a:srgbClr val="000000"/>
                  </a:solid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Freeform 740"/>
                <p:cNvSpPr/>
                <p:nvPr/>
              </p:nvSpPr>
              <p:spPr>
                <a:xfrm flipH="1">
                  <a:off x="402120" y="2035080"/>
                  <a:ext cx="360" cy="19080"/>
                </a:xfrm>
                <a:custGeom>
                  <a:avLst/>
                  <a:gdLst>
                    <a:gd name="textAreaLeft" fmla="*/ -360 w 360"/>
                    <a:gd name="textAreaRight" fmla="*/ 360 w 360"/>
                    <a:gd name="textAreaTop" fmla="*/ 0 h 19080"/>
                    <a:gd name="textAreaBottom" fmla="*/ 19440 h 19080"/>
                  </a:gdLst>
                  <a:ahLst/>
                  <a:rect l="textAreaLeft" t="textAreaTop" r="textAreaRight" b="textAreaBottom"/>
                  <a:pathLst>
                    <a:path w="1" h="92">
                      <a:moveTo>
                        <a:pt x="0" y="0"/>
                      </a:moveTo>
                      <a:lnTo>
                        <a:pt x="0" y="23"/>
                      </a:lnTo>
                      <a:lnTo>
                        <a:pt x="0" y="46"/>
                      </a:lnTo>
                      <a:lnTo>
                        <a:pt x="0" y="69"/>
                      </a:lnTo>
                      <a:lnTo>
                        <a:pt x="0" y="92"/>
                      </a:lnTo>
                    </a:path>
                  </a:pathLst>
                </a:custGeom>
                <a:noFill/>
                <a:ln w="0">
                  <a:solidFill>
                    <a:srgbClr val="000000"/>
                  </a:solid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Freeform 739"/>
                <p:cNvSpPr/>
                <p:nvPr/>
              </p:nvSpPr>
              <p:spPr>
                <a:xfrm flipH="1">
                  <a:off x="388800" y="2036880"/>
                  <a:ext cx="360" cy="15840"/>
                </a:xfrm>
                <a:custGeom>
                  <a:avLst/>
                  <a:gdLst>
                    <a:gd name="textAreaLeft" fmla="*/ -360 w 360"/>
                    <a:gd name="textAreaRight" fmla="*/ 360 w 360"/>
                    <a:gd name="textAreaTop" fmla="*/ 0 h 15840"/>
                    <a:gd name="textAreaBottom" fmla="*/ 16200 h 15840"/>
                  </a:gdLst>
                  <a:ahLst/>
                  <a:rect l="textAreaLeft" t="textAreaTop" r="textAreaRight" b="textAreaBottom"/>
                  <a:pathLst>
                    <a:path w="1" h="76">
                      <a:moveTo>
                        <a:pt x="0" y="0"/>
                      </a:moveTo>
                      <a:lnTo>
                        <a:pt x="0" y="23"/>
                      </a:lnTo>
                      <a:lnTo>
                        <a:pt x="0" y="38"/>
                      </a:lnTo>
                      <a:lnTo>
                        <a:pt x="0" y="61"/>
                      </a:lnTo>
                      <a:lnTo>
                        <a:pt x="0" y="76"/>
                      </a:lnTo>
                    </a:path>
                  </a:pathLst>
                </a:custGeom>
                <a:noFill/>
                <a:ln w="0">
                  <a:solidFill>
                    <a:srgbClr val="000000"/>
                  </a:solid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Freeform 738"/>
                <p:cNvSpPr/>
                <p:nvPr/>
              </p:nvSpPr>
              <p:spPr>
                <a:xfrm flipH="1">
                  <a:off x="375480" y="2033640"/>
                  <a:ext cx="360" cy="19080"/>
                </a:xfrm>
                <a:custGeom>
                  <a:avLst/>
                  <a:gdLst>
                    <a:gd name="textAreaLeft" fmla="*/ -360 w 360"/>
                    <a:gd name="textAreaRight" fmla="*/ 360 w 360"/>
                    <a:gd name="textAreaTop" fmla="*/ 0 h 19080"/>
                    <a:gd name="textAreaBottom" fmla="*/ 19440 h 19080"/>
                  </a:gdLst>
                  <a:ahLst/>
                  <a:rect l="textAreaLeft" t="textAreaTop" r="textAreaRight" b="textAreaBottom"/>
                  <a:pathLst>
                    <a:path w="1" h="92">
                      <a:moveTo>
                        <a:pt x="0" y="0"/>
                      </a:moveTo>
                      <a:lnTo>
                        <a:pt x="0" y="23"/>
                      </a:lnTo>
                      <a:lnTo>
                        <a:pt x="0" y="46"/>
                      </a:lnTo>
                      <a:lnTo>
                        <a:pt x="0" y="69"/>
                      </a:lnTo>
                      <a:lnTo>
                        <a:pt x="0" y="92"/>
                      </a:lnTo>
                    </a:path>
                  </a:pathLst>
                </a:custGeom>
                <a:noFill/>
                <a:ln w="0">
                  <a:solidFill>
                    <a:srgbClr val="000000"/>
                  </a:solid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Freeform 737"/>
                <p:cNvSpPr/>
                <p:nvPr/>
              </p:nvSpPr>
              <p:spPr>
                <a:xfrm flipH="1">
                  <a:off x="456120" y="1968840"/>
                  <a:ext cx="19800" cy="25920"/>
                </a:xfrm>
                <a:custGeom>
                  <a:avLst/>
                  <a:gdLst>
                    <a:gd name="textAreaLeft" fmla="*/ -360 w 19800"/>
                    <a:gd name="textAreaRight" fmla="*/ 19800 w 19800"/>
                    <a:gd name="textAreaTop" fmla="*/ 0 h 25920"/>
                    <a:gd name="textAreaBottom" fmla="*/ 26280 h 25920"/>
                  </a:gdLst>
                  <a:ahLst/>
                  <a:rect l="textAreaLeft" t="textAreaTop" r="textAreaRight" b="textAreaBottom"/>
                  <a:pathLst>
                    <a:path w="100" h="124">
                      <a:moveTo>
                        <a:pt x="0" y="124"/>
                      </a:moveTo>
                      <a:lnTo>
                        <a:pt x="0" y="108"/>
                      </a:lnTo>
                      <a:lnTo>
                        <a:pt x="8" y="85"/>
                      </a:lnTo>
                      <a:lnTo>
                        <a:pt x="25" y="70"/>
                      </a:lnTo>
                      <a:lnTo>
                        <a:pt x="33" y="54"/>
                      </a:lnTo>
                      <a:lnTo>
                        <a:pt x="50" y="39"/>
                      </a:lnTo>
                      <a:lnTo>
                        <a:pt x="67" y="24"/>
                      </a:lnTo>
                      <a:lnTo>
                        <a:pt x="83" y="8"/>
                      </a:lnTo>
                      <a:lnTo>
                        <a:pt x="100" y="0"/>
                      </a:lnTo>
                    </a:path>
                  </a:pathLst>
                </a:custGeom>
                <a:noFill/>
                <a:ln w="0">
                  <a:solidFill>
                    <a:srgbClr val="000000"/>
                  </a:solid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Freeform 736"/>
                <p:cNvSpPr/>
                <p:nvPr/>
              </p:nvSpPr>
              <p:spPr>
                <a:xfrm flipH="1">
                  <a:off x="443160" y="1975320"/>
                  <a:ext cx="21600" cy="20880"/>
                </a:xfrm>
                <a:custGeom>
                  <a:avLst/>
                  <a:gdLst>
                    <a:gd name="textAreaLeft" fmla="*/ 360 w 21600"/>
                    <a:gd name="textAreaRight" fmla="*/ 22320 w 21600"/>
                    <a:gd name="textAreaTop" fmla="*/ 0 h 20880"/>
                    <a:gd name="textAreaBottom" fmla="*/ 21240 h 20880"/>
                  </a:gdLst>
                  <a:ahLst/>
                  <a:rect l="textAreaLeft" t="textAreaTop" r="textAreaRight" b="textAreaBottom"/>
                  <a:pathLst>
                    <a:path w="109" h="100">
                      <a:moveTo>
                        <a:pt x="0" y="100"/>
                      </a:moveTo>
                      <a:lnTo>
                        <a:pt x="9" y="85"/>
                      </a:lnTo>
                      <a:lnTo>
                        <a:pt x="17" y="69"/>
                      </a:lnTo>
                      <a:lnTo>
                        <a:pt x="25" y="54"/>
                      </a:lnTo>
                      <a:lnTo>
                        <a:pt x="42" y="39"/>
                      </a:lnTo>
                      <a:lnTo>
                        <a:pt x="59" y="23"/>
                      </a:lnTo>
                      <a:lnTo>
                        <a:pt x="76" y="16"/>
                      </a:lnTo>
                      <a:lnTo>
                        <a:pt x="92" y="8"/>
                      </a:lnTo>
                      <a:lnTo>
                        <a:pt x="109" y="0"/>
                      </a:lnTo>
                    </a:path>
                  </a:pathLst>
                </a:custGeom>
                <a:noFill/>
                <a:ln w="0">
                  <a:solidFill>
                    <a:srgbClr val="000000"/>
                  </a:solid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Freeform 735"/>
                <p:cNvSpPr/>
                <p:nvPr/>
              </p:nvSpPr>
              <p:spPr>
                <a:xfrm flipH="1">
                  <a:off x="427680" y="1981800"/>
                  <a:ext cx="21240" cy="22680"/>
                </a:xfrm>
                <a:custGeom>
                  <a:avLst/>
                  <a:gdLst>
                    <a:gd name="textAreaLeft" fmla="*/ -360 w 21240"/>
                    <a:gd name="textAreaRight" fmla="*/ 21240 w 21240"/>
                    <a:gd name="textAreaTop" fmla="*/ 0 h 22680"/>
                    <a:gd name="textAreaBottom" fmla="*/ 23040 h 22680"/>
                  </a:gdLst>
                  <a:ahLst/>
                  <a:rect l="textAreaLeft" t="textAreaTop" r="textAreaRight" b="textAreaBottom"/>
                  <a:pathLst>
                    <a:path w="108" h="108">
                      <a:moveTo>
                        <a:pt x="0" y="108"/>
                      </a:moveTo>
                      <a:lnTo>
                        <a:pt x="8" y="77"/>
                      </a:lnTo>
                      <a:lnTo>
                        <a:pt x="16" y="62"/>
                      </a:lnTo>
                      <a:lnTo>
                        <a:pt x="33" y="38"/>
                      </a:lnTo>
                      <a:lnTo>
                        <a:pt x="41" y="31"/>
                      </a:lnTo>
                      <a:lnTo>
                        <a:pt x="58" y="15"/>
                      </a:lnTo>
                      <a:lnTo>
                        <a:pt x="75" y="8"/>
                      </a:lnTo>
                      <a:lnTo>
                        <a:pt x="92" y="8"/>
                      </a:lnTo>
                      <a:lnTo>
                        <a:pt x="108" y="0"/>
                      </a:lnTo>
                    </a:path>
                  </a:pathLst>
                </a:custGeom>
                <a:noFill/>
                <a:ln w="0">
                  <a:solidFill>
                    <a:srgbClr val="000000"/>
                  </a:solidFill>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Freeform 734"/>
                <p:cNvSpPr/>
                <p:nvPr/>
              </p:nvSpPr>
              <p:spPr>
                <a:xfrm flipH="1">
                  <a:off x="479520" y="2003040"/>
                  <a:ext cx="4680" cy="2880"/>
                </a:xfrm>
                <a:custGeom>
                  <a:avLst/>
                  <a:gdLst>
                    <a:gd name="textAreaLeft" fmla="*/ -360 w 4680"/>
                    <a:gd name="textAreaRight" fmla="*/ 4680 w 4680"/>
                    <a:gd name="textAreaTop" fmla="*/ 0 h 2880"/>
                    <a:gd name="textAreaBottom" fmla="*/ 3240 h 2880"/>
                  </a:gdLst>
                  <a:ahLst/>
                  <a:rect l="textAreaLeft" t="textAreaTop" r="textAreaRight" b="textAreaBottom"/>
                  <a:pathLst>
                    <a:path w="25" h="15">
                      <a:moveTo>
                        <a:pt x="0" y="0"/>
                      </a:moveTo>
                      <a:lnTo>
                        <a:pt x="0" y="0"/>
                      </a:lnTo>
                      <a:lnTo>
                        <a:pt x="8" y="8"/>
                      </a:lnTo>
                      <a:lnTo>
                        <a:pt x="8" y="15"/>
                      </a:lnTo>
                      <a:lnTo>
                        <a:pt x="17" y="15"/>
                      </a:lnTo>
                      <a:lnTo>
                        <a:pt x="25"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Freeform 733"/>
                <p:cNvSpPr/>
                <p:nvPr/>
              </p:nvSpPr>
              <p:spPr>
                <a:xfrm flipH="1">
                  <a:off x="461160" y="2007720"/>
                  <a:ext cx="6480" cy="2880"/>
                </a:xfrm>
                <a:custGeom>
                  <a:avLst/>
                  <a:gdLst>
                    <a:gd name="textAreaLeft" fmla="*/ 360 w 6480"/>
                    <a:gd name="textAreaRight" fmla="*/ 7200 w 6480"/>
                    <a:gd name="textAreaTop" fmla="*/ 0 h 2880"/>
                    <a:gd name="textAreaBottom" fmla="*/ 3240 h 2880"/>
                  </a:gdLst>
                  <a:ahLst/>
                  <a:rect l="textAreaLeft" t="textAreaTop" r="textAreaRight" b="textAreaBottom"/>
                  <a:pathLst>
                    <a:path w="33" h="15">
                      <a:moveTo>
                        <a:pt x="0" y="0"/>
                      </a:moveTo>
                      <a:lnTo>
                        <a:pt x="0" y="0"/>
                      </a:lnTo>
                      <a:lnTo>
                        <a:pt x="8" y="8"/>
                      </a:lnTo>
                      <a:lnTo>
                        <a:pt x="16" y="15"/>
                      </a:lnTo>
                      <a:lnTo>
                        <a:pt x="25" y="15"/>
                      </a:lnTo>
                      <a:lnTo>
                        <a:pt x="33" y="8"/>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Freeform 732"/>
                <p:cNvSpPr/>
                <p:nvPr/>
              </p:nvSpPr>
              <p:spPr>
                <a:xfrm flipH="1">
                  <a:off x="515880" y="2004480"/>
                  <a:ext cx="181800" cy="60840"/>
                </a:xfrm>
                <a:custGeom>
                  <a:avLst/>
                  <a:gdLst>
                    <a:gd name="textAreaLeft" fmla="*/ -360 w 181800"/>
                    <a:gd name="textAreaRight" fmla="*/ 181800 w 181800"/>
                    <a:gd name="textAreaTop" fmla="*/ 0 h 60840"/>
                    <a:gd name="textAreaBottom" fmla="*/ 61200 h 60840"/>
                  </a:gdLst>
                  <a:ahLst/>
                  <a:rect l="textAreaLeft" t="textAreaTop" r="textAreaRight" b="textAreaBottom"/>
                  <a:pathLst>
                    <a:path w="911" h="292">
                      <a:moveTo>
                        <a:pt x="911" y="0"/>
                      </a:moveTo>
                      <a:lnTo>
                        <a:pt x="911" y="30"/>
                      </a:lnTo>
                      <a:lnTo>
                        <a:pt x="911" y="61"/>
                      </a:lnTo>
                      <a:lnTo>
                        <a:pt x="911" y="92"/>
                      </a:lnTo>
                      <a:lnTo>
                        <a:pt x="911" y="123"/>
                      </a:lnTo>
                      <a:lnTo>
                        <a:pt x="895" y="130"/>
                      </a:lnTo>
                      <a:lnTo>
                        <a:pt x="870" y="138"/>
                      </a:lnTo>
                      <a:lnTo>
                        <a:pt x="853" y="154"/>
                      </a:lnTo>
                      <a:lnTo>
                        <a:pt x="828" y="161"/>
                      </a:lnTo>
                      <a:lnTo>
                        <a:pt x="803" y="177"/>
                      </a:lnTo>
                      <a:lnTo>
                        <a:pt x="769" y="184"/>
                      </a:lnTo>
                      <a:lnTo>
                        <a:pt x="744" y="200"/>
                      </a:lnTo>
                      <a:lnTo>
                        <a:pt x="719" y="207"/>
                      </a:lnTo>
                      <a:lnTo>
                        <a:pt x="686" y="223"/>
                      </a:lnTo>
                      <a:lnTo>
                        <a:pt x="661" y="230"/>
                      </a:lnTo>
                      <a:lnTo>
                        <a:pt x="627" y="238"/>
                      </a:lnTo>
                      <a:lnTo>
                        <a:pt x="602" y="246"/>
                      </a:lnTo>
                      <a:lnTo>
                        <a:pt x="569" y="254"/>
                      </a:lnTo>
                      <a:lnTo>
                        <a:pt x="535" y="261"/>
                      </a:lnTo>
                      <a:lnTo>
                        <a:pt x="510" y="269"/>
                      </a:lnTo>
                      <a:lnTo>
                        <a:pt x="477" y="269"/>
                      </a:lnTo>
                      <a:lnTo>
                        <a:pt x="452" y="277"/>
                      </a:lnTo>
                      <a:lnTo>
                        <a:pt x="427" y="277"/>
                      </a:lnTo>
                      <a:lnTo>
                        <a:pt x="393" y="284"/>
                      </a:lnTo>
                      <a:lnTo>
                        <a:pt x="360" y="284"/>
                      </a:lnTo>
                      <a:lnTo>
                        <a:pt x="326" y="292"/>
                      </a:lnTo>
                      <a:lnTo>
                        <a:pt x="301" y="292"/>
                      </a:lnTo>
                      <a:lnTo>
                        <a:pt x="268" y="292"/>
                      </a:lnTo>
                      <a:lnTo>
                        <a:pt x="234" y="292"/>
                      </a:lnTo>
                      <a:lnTo>
                        <a:pt x="209" y="292"/>
                      </a:lnTo>
                      <a:lnTo>
                        <a:pt x="176" y="292"/>
                      </a:lnTo>
                      <a:lnTo>
                        <a:pt x="142" y="284"/>
                      </a:lnTo>
                      <a:lnTo>
                        <a:pt x="117" y="284"/>
                      </a:lnTo>
                      <a:lnTo>
                        <a:pt x="92" y="277"/>
                      </a:lnTo>
                      <a:lnTo>
                        <a:pt x="59" y="269"/>
                      </a:lnTo>
                      <a:lnTo>
                        <a:pt x="34" y="261"/>
                      </a:lnTo>
                      <a:lnTo>
                        <a:pt x="9" y="246"/>
                      </a:lnTo>
                      <a:lnTo>
                        <a:pt x="9" y="230"/>
                      </a:lnTo>
                      <a:lnTo>
                        <a:pt x="9" y="207"/>
                      </a:lnTo>
                      <a:lnTo>
                        <a:pt x="0" y="184"/>
                      </a:lnTo>
                      <a:lnTo>
                        <a:pt x="0" y="161"/>
                      </a:lnTo>
                      <a:lnTo>
                        <a:pt x="25" y="177"/>
                      </a:lnTo>
                      <a:lnTo>
                        <a:pt x="51" y="184"/>
                      </a:lnTo>
                      <a:lnTo>
                        <a:pt x="76" y="192"/>
                      </a:lnTo>
                      <a:lnTo>
                        <a:pt x="109" y="200"/>
                      </a:lnTo>
                      <a:lnTo>
                        <a:pt x="134" y="200"/>
                      </a:lnTo>
                      <a:lnTo>
                        <a:pt x="159" y="207"/>
                      </a:lnTo>
                      <a:lnTo>
                        <a:pt x="193" y="207"/>
                      </a:lnTo>
                      <a:lnTo>
                        <a:pt x="226" y="215"/>
                      </a:lnTo>
                      <a:lnTo>
                        <a:pt x="251" y="215"/>
                      </a:lnTo>
                      <a:lnTo>
                        <a:pt x="285" y="215"/>
                      </a:lnTo>
                      <a:lnTo>
                        <a:pt x="310" y="215"/>
                      </a:lnTo>
                      <a:lnTo>
                        <a:pt x="343" y="215"/>
                      </a:lnTo>
                      <a:lnTo>
                        <a:pt x="368" y="215"/>
                      </a:lnTo>
                      <a:lnTo>
                        <a:pt x="402" y="207"/>
                      </a:lnTo>
                      <a:lnTo>
                        <a:pt x="427" y="207"/>
                      </a:lnTo>
                      <a:lnTo>
                        <a:pt x="460" y="200"/>
                      </a:lnTo>
                      <a:lnTo>
                        <a:pt x="485" y="200"/>
                      </a:lnTo>
                      <a:lnTo>
                        <a:pt x="519" y="192"/>
                      </a:lnTo>
                      <a:lnTo>
                        <a:pt x="552" y="184"/>
                      </a:lnTo>
                      <a:lnTo>
                        <a:pt x="577" y="177"/>
                      </a:lnTo>
                      <a:lnTo>
                        <a:pt x="610" y="169"/>
                      </a:lnTo>
                      <a:lnTo>
                        <a:pt x="636" y="161"/>
                      </a:lnTo>
                      <a:lnTo>
                        <a:pt x="669" y="154"/>
                      </a:lnTo>
                      <a:lnTo>
                        <a:pt x="694" y="138"/>
                      </a:lnTo>
                      <a:lnTo>
                        <a:pt x="719" y="130"/>
                      </a:lnTo>
                      <a:lnTo>
                        <a:pt x="753" y="115"/>
                      </a:lnTo>
                      <a:lnTo>
                        <a:pt x="778" y="100"/>
                      </a:lnTo>
                      <a:lnTo>
                        <a:pt x="803" y="84"/>
                      </a:lnTo>
                      <a:lnTo>
                        <a:pt x="828" y="69"/>
                      </a:lnTo>
                      <a:lnTo>
                        <a:pt x="861" y="46"/>
                      </a:lnTo>
                      <a:lnTo>
                        <a:pt x="886" y="23"/>
                      </a:lnTo>
                      <a:lnTo>
                        <a:pt x="911" y="0"/>
                      </a:lnTo>
                      <a:close/>
                    </a:path>
                  </a:pathLst>
                </a:custGeom>
                <a:solidFill>
                  <a:srgbClr val="ffffff"/>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Freeform 731"/>
                <p:cNvSpPr/>
                <p:nvPr/>
              </p:nvSpPr>
              <p:spPr>
                <a:xfrm flipH="1">
                  <a:off x="515880" y="2004480"/>
                  <a:ext cx="181800" cy="60840"/>
                </a:xfrm>
                <a:custGeom>
                  <a:avLst/>
                  <a:gdLst>
                    <a:gd name="textAreaLeft" fmla="*/ -360 w 181800"/>
                    <a:gd name="textAreaRight" fmla="*/ 181800 w 181800"/>
                    <a:gd name="textAreaTop" fmla="*/ 0 h 60840"/>
                    <a:gd name="textAreaBottom" fmla="*/ 61200 h 60840"/>
                  </a:gdLst>
                  <a:ahLst/>
                  <a:rect l="textAreaLeft" t="textAreaTop" r="textAreaRight" b="textAreaBottom"/>
                  <a:pathLst>
                    <a:path w="911" h="292">
                      <a:moveTo>
                        <a:pt x="911" y="0"/>
                      </a:moveTo>
                      <a:lnTo>
                        <a:pt x="911" y="30"/>
                      </a:lnTo>
                      <a:lnTo>
                        <a:pt x="911" y="61"/>
                      </a:lnTo>
                      <a:lnTo>
                        <a:pt x="911" y="92"/>
                      </a:lnTo>
                      <a:lnTo>
                        <a:pt x="911" y="123"/>
                      </a:lnTo>
                      <a:lnTo>
                        <a:pt x="895" y="130"/>
                      </a:lnTo>
                      <a:lnTo>
                        <a:pt x="870" y="138"/>
                      </a:lnTo>
                      <a:lnTo>
                        <a:pt x="853" y="154"/>
                      </a:lnTo>
                      <a:lnTo>
                        <a:pt x="828" y="161"/>
                      </a:lnTo>
                      <a:lnTo>
                        <a:pt x="803" y="177"/>
                      </a:lnTo>
                      <a:lnTo>
                        <a:pt x="769" y="184"/>
                      </a:lnTo>
                      <a:lnTo>
                        <a:pt x="744" y="200"/>
                      </a:lnTo>
                      <a:lnTo>
                        <a:pt x="719" y="207"/>
                      </a:lnTo>
                      <a:lnTo>
                        <a:pt x="686" y="223"/>
                      </a:lnTo>
                      <a:lnTo>
                        <a:pt x="661" y="230"/>
                      </a:lnTo>
                      <a:lnTo>
                        <a:pt x="627" y="238"/>
                      </a:lnTo>
                      <a:lnTo>
                        <a:pt x="602" y="246"/>
                      </a:lnTo>
                      <a:lnTo>
                        <a:pt x="569" y="254"/>
                      </a:lnTo>
                      <a:lnTo>
                        <a:pt x="535" y="261"/>
                      </a:lnTo>
                      <a:lnTo>
                        <a:pt x="510" y="269"/>
                      </a:lnTo>
                      <a:lnTo>
                        <a:pt x="477" y="269"/>
                      </a:lnTo>
                      <a:lnTo>
                        <a:pt x="452" y="277"/>
                      </a:lnTo>
                      <a:lnTo>
                        <a:pt x="427" y="277"/>
                      </a:lnTo>
                      <a:lnTo>
                        <a:pt x="393" y="284"/>
                      </a:lnTo>
                      <a:lnTo>
                        <a:pt x="360" y="284"/>
                      </a:lnTo>
                      <a:lnTo>
                        <a:pt x="326" y="292"/>
                      </a:lnTo>
                      <a:lnTo>
                        <a:pt x="301" y="292"/>
                      </a:lnTo>
                      <a:lnTo>
                        <a:pt x="268" y="292"/>
                      </a:lnTo>
                      <a:lnTo>
                        <a:pt x="234" y="292"/>
                      </a:lnTo>
                      <a:lnTo>
                        <a:pt x="209" y="292"/>
                      </a:lnTo>
                      <a:lnTo>
                        <a:pt x="176" y="292"/>
                      </a:lnTo>
                      <a:lnTo>
                        <a:pt x="142" y="284"/>
                      </a:lnTo>
                      <a:lnTo>
                        <a:pt x="117" y="284"/>
                      </a:lnTo>
                      <a:lnTo>
                        <a:pt x="92" y="277"/>
                      </a:lnTo>
                      <a:lnTo>
                        <a:pt x="59" y="269"/>
                      </a:lnTo>
                      <a:lnTo>
                        <a:pt x="34" y="261"/>
                      </a:lnTo>
                      <a:lnTo>
                        <a:pt x="9" y="246"/>
                      </a:lnTo>
                      <a:lnTo>
                        <a:pt x="9" y="230"/>
                      </a:lnTo>
                      <a:lnTo>
                        <a:pt x="9" y="207"/>
                      </a:lnTo>
                      <a:lnTo>
                        <a:pt x="0" y="184"/>
                      </a:lnTo>
                      <a:lnTo>
                        <a:pt x="0" y="161"/>
                      </a:lnTo>
                      <a:lnTo>
                        <a:pt x="25" y="177"/>
                      </a:lnTo>
                      <a:lnTo>
                        <a:pt x="51" y="184"/>
                      </a:lnTo>
                      <a:lnTo>
                        <a:pt x="76" y="192"/>
                      </a:lnTo>
                      <a:lnTo>
                        <a:pt x="109" y="200"/>
                      </a:lnTo>
                      <a:lnTo>
                        <a:pt x="134" y="200"/>
                      </a:lnTo>
                      <a:lnTo>
                        <a:pt x="159" y="207"/>
                      </a:lnTo>
                      <a:lnTo>
                        <a:pt x="193" y="207"/>
                      </a:lnTo>
                      <a:lnTo>
                        <a:pt x="226" y="215"/>
                      </a:lnTo>
                      <a:lnTo>
                        <a:pt x="251" y="215"/>
                      </a:lnTo>
                      <a:lnTo>
                        <a:pt x="285" y="215"/>
                      </a:lnTo>
                      <a:lnTo>
                        <a:pt x="310" y="215"/>
                      </a:lnTo>
                      <a:lnTo>
                        <a:pt x="343" y="215"/>
                      </a:lnTo>
                      <a:lnTo>
                        <a:pt x="368" y="215"/>
                      </a:lnTo>
                      <a:lnTo>
                        <a:pt x="402" y="207"/>
                      </a:lnTo>
                      <a:lnTo>
                        <a:pt x="427" y="207"/>
                      </a:lnTo>
                      <a:lnTo>
                        <a:pt x="460" y="200"/>
                      </a:lnTo>
                      <a:lnTo>
                        <a:pt x="485" y="200"/>
                      </a:lnTo>
                      <a:lnTo>
                        <a:pt x="519" y="192"/>
                      </a:lnTo>
                      <a:lnTo>
                        <a:pt x="552" y="184"/>
                      </a:lnTo>
                      <a:lnTo>
                        <a:pt x="577" y="177"/>
                      </a:lnTo>
                      <a:lnTo>
                        <a:pt x="610" y="169"/>
                      </a:lnTo>
                      <a:lnTo>
                        <a:pt x="636" y="161"/>
                      </a:lnTo>
                      <a:lnTo>
                        <a:pt x="669" y="154"/>
                      </a:lnTo>
                      <a:lnTo>
                        <a:pt x="694" y="138"/>
                      </a:lnTo>
                      <a:lnTo>
                        <a:pt x="719" y="130"/>
                      </a:lnTo>
                      <a:lnTo>
                        <a:pt x="753" y="115"/>
                      </a:lnTo>
                      <a:lnTo>
                        <a:pt x="778" y="100"/>
                      </a:lnTo>
                      <a:lnTo>
                        <a:pt x="803" y="84"/>
                      </a:lnTo>
                      <a:lnTo>
                        <a:pt x="828" y="69"/>
                      </a:lnTo>
                      <a:lnTo>
                        <a:pt x="861" y="46"/>
                      </a:lnTo>
                      <a:lnTo>
                        <a:pt x="886" y="23"/>
                      </a:lnTo>
                      <a:lnTo>
                        <a:pt x="911" y="0"/>
                      </a:lnTo>
                    </a:path>
                  </a:pathLst>
                </a:custGeom>
                <a:noFill/>
                <a:ln w="0">
                  <a:solidFill>
                    <a:srgbClr val="000000"/>
                  </a:solid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Freeform 730"/>
                <p:cNvSpPr/>
                <p:nvPr/>
              </p:nvSpPr>
              <p:spPr>
                <a:xfrm flipH="1">
                  <a:off x="514440" y="1968840"/>
                  <a:ext cx="183600" cy="80640"/>
                </a:xfrm>
                <a:custGeom>
                  <a:avLst/>
                  <a:gdLst>
                    <a:gd name="textAreaLeft" fmla="*/ 0 w 183600"/>
                    <a:gd name="textAreaRight" fmla="*/ 183600 w 183600"/>
                    <a:gd name="textAreaTop" fmla="*/ 0 h 80640"/>
                    <a:gd name="textAreaBottom" fmla="*/ 81000 h 80640"/>
                  </a:gdLst>
                  <a:ahLst/>
                  <a:rect l="textAreaLeft" t="textAreaTop" r="textAreaRight" b="textAreaBottom"/>
                  <a:pathLst>
                    <a:path w="920" h="385">
                      <a:moveTo>
                        <a:pt x="911" y="170"/>
                      </a:moveTo>
                      <a:lnTo>
                        <a:pt x="911" y="131"/>
                      </a:lnTo>
                      <a:lnTo>
                        <a:pt x="911" y="85"/>
                      </a:lnTo>
                      <a:lnTo>
                        <a:pt x="911" y="47"/>
                      </a:lnTo>
                      <a:lnTo>
                        <a:pt x="920" y="0"/>
                      </a:lnTo>
                      <a:lnTo>
                        <a:pt x="903" y="8"/>
                      </a:lnTo>
                      <a:lnTo>
                        <a:pt x="878" y="8"/>
                      </a:lnTo>
                      <a:lnTo>
                        <a:pt x="861" y="8"/>
                      </a:lnTo>
                      <a:lnTo>
                        <a:pt x="844" y="8"/>
                      </a:lnTo>
                      <a:lnTo>
                        <a:pt x="828" y="8"/>
                      </a:lnTo>
                      <a:lnTo>
                        <a:pt x="811" y="8"/>
                      </a:lnTo>
                      <a:lnTo>
                        <a:pt x="794" y="8"/>
                      </a:lnTo>
                      <a:lnTo>
                        <a:pt x="778" y="8"/>
                      </a:lnTo>
                      <a:lnTo>
                        <a:pt x="761" y="8"/>
                      </a:lnTo>
                      <a:lnTo>
                        <a:pt x="744" y="8"/>
                      </a:lnTo>
                      <a:lnTo>
                        <a:pt x="727" y="8"/>
                      </a:lnTo>
                      <a:lnTo>
                        <a:pt x="711" y="8"/>
                      </a:lnTo>
                      <a:lnTo>
                        <a:pt x="694" y="8"/>
                      </a:lnTo>
                      <a:lnTo>
                        <a:pt x="677" y="8"/>
                      </a:lnTo>
                      <a:lnTo>
                        <a:pt x="661" y="8"/>
                      </a:lnTo>
                      <a:lnTo>
                        <a:pt x="644" y="8"/>
                      </a:lnTo>
                      <a:lnTo>
                        <a:pt x="619" y="16"/>
                      </a:lnTo>
                      <a:lnTo>
                        <a:pt x="594" y="24"/>
                      </a:lnTo>
                      <a:lnTo>
                        <a:pt x="569" y="31"/>
                      </a:lnTo>
                      <a:lnTo>
                        <a:pt x="552" y="39"/>
                      </a:lnTo>
                      <a:lnTo>
                        <a:pt x="527" y="47"/>
                      </a:lnTo>
                      <a:lnTo>
                        <a:pt x="502" y="54"/>
                      </a:lnTo>
                      <a:lnTo>
                        <a:pt x="477" y="62"/>
                      </a:lnTo>
                      <a:lnTo>
                        <a:pt x="452" y="70"/>
                      </a:lnTo>
                      <a:lnTo>
                        <a:pt x="427" y="77"/>
                      </a:lnTo>
                      <a:lnTo>
                        <a:pt x="402" y="85"/>
                      </a:lnTo>
                      <a:lnTo>
                        <a:pt x="376" y="93"/>
                      </a:lnTo>
                      <a:lnTo>
                        <a:pt x="351" y="108"/>
                      </a:lnTo>
                      <a:lnTo>
                        <a:pt x="335" y="116"/>
                      </a:lnTo>
                      <a:lnTo>
                        <a:pt x="310" y="131"/>
                      </a:lnTo>
                      <a:lnTo>
                        <a:pt x="285" y="139"/>
                      </a:lnTo>
                      <a:lnTo>
                        <a:pt x="259" y="154"/>
                      </a:lnTo>
                      <a:lnTo>
                        <a:pt x="243" y="162"/>
                      </a:lnTo>
                      <a:lnTo>
                        <a:pt x="226" y="170"/>
                      </a:lnTo>
                      <a:lnTo>
                        <a:pt x="201" y="177"/>
                      </a:lnTo>
                      <a:lnTo>
                        <a:pt x="184" y="193"/>
                      </a:lnTo>
                      <a:lnTo>
                        <a:pt x="168" y="200"/>
                      </a:lnTo>
                      <a:lnTo>
                        <a:pt x="151" y="208"/>
                      </a:lnTo>
                      <a:lnTo>
                        <a:pt x="134" y="224"/>
                      </a:lnTo>
                      <a:lnTo>
                        <a:pt x="117" y="231"/>
                      </a:lnTo>
                      <a:lnTo>
                        <a:pt x="101" y="247"/>
                      </a:lnTo>
                      <a:lnTo>
                        <a:pt x="84" y="254"/>
                      </a:lnTo>
                      <a:lnTo>
                        <a:pt x="67" y="270"/>
                      </a:lnTo>
                      <a:lnTo>
                        <a:pt x="51" y="285"/>
                      </a:lnTo>
                      <a:lnTo>
                        <a:pt x="42" y="293"/>
                      </a:lnTo>
                      <a:lnTo>
                        <a:pt x="25" y="308"/>
                      </a:lnTo>
                      <a:lnTo>
                        <a:pt x="17" y="324"/>
                      </a:lnTo>
                      <a:lnTo>
                        <a:pt x="0" y="331"/>
                      </a:lnTo>
                      <a:lnTo>
                        <a:pt x="25" y="339"/>
                      </a:lnTo>
                      <a:lnTo>
                        <a:pt x="42" y="347"/>
                      </a:lnTo>
                      <a:lnTo>
                        <a:pt x="59" y="354"/>
                      </a:lnTo>
                      <a:lnTo>
                        <a:pt x="84" y="362"/>
                      </a:lnTo>
                      <a:lnTo>
                        <a:pt x="101" y="370"/>
                      </a:lnTo>
                      <a:lnTo>
                        <a:pt x="126" y="370"/>
                      </a:lnTo>
                      <a:lnTo>
                        <a:pt x="142" y="377"/>
                      </a:lnTo>
                      <a:lnTo>
                        <a:pt x="159" y="377"/>
                      </a:lnTo>
                      <a:lnTo>
                        <a:pt x="184" y="377"/>
                      </a:lnTo>
                      <a:lnTo>
                        <a:pt x="201" y="385"/>
                      </a:lnTo>
                      <a:lnTo>
                        <a:pt x="226" y="385"/>
                      </a:lnTo>
                      <a:lnTo>
                        <a:pt x="243" y="385"/>
                      </a:lnTo>
                      <a:lnTo>
                        <a:pt x="268" y="385"/>
                      </a:lnTo>
                      <a:lnTo>
                        <a:pt x="285" y="385"/>
                      </a:lnTo>
                      <a:lnTo>
                        <a:pt x="310" y="385"/>
                      </a:lnTo>
                      <a:lnTo>
                        <a:pt x="326" y="385"/>
                      </a:lnTo>
                      <a:lnTo>
                        <a:pt x="335" y="385"/>
                      </a:lnTo>
                      <a:lnTo>
                        <a:pt x="343" y="385"/>
                      </a:lnTo>
                      <a:lnTo>
                        <a:pt x="351" y="385"/>
                      </a:lnTo>
                      <a:lnTo>
                        <a:pt x="360" y="385"/>
                      </a:lnTo>
                      <a:lnTo>
                        <a:pt x="368" y="385"/>
                      </a:lnTo>
                      <a:lnTo>
                        <a:pt x="376" y="385"/>
                      </a:lnTo>
                      <a:lnTo>
                        <a:pt x="385" y="385"/>
                      </a:lnTo>
                      <a:lnTo>
                        <a:pt x="393" y="377"/>
                      </a:lnTo>
                      <a:lnTo>
                        <a:pt x="402" y="377"/>
                      </a:lnTo>
                      <a:lnTo>
                        <a:pt x="410" y="377"/>
                      </a:lnTo>
                      <a:lnTo>
                        <a:pt x="418" y="377"/>
                      </a:lnTo>
                      <a:lnTo>
                        <a:pt x="427" y="377"/>
                      </a:lnTo>
                      <a:lnTo>
                        <a:pt x="435" y="377"/>
                      </a:lnTo>
                      <a:lnTo>
                        <a:pt x="443" y="377"/>
                      </a:lnTo>
                      <a:lnTo>
                        <a:pt x="452" y="370"/>
                      </a:lnTo>
                      <a:lnTo>
                        <a:pt x="460" y="370"/>
                      </a:lnTo>
                      <a:lnTo>
                        <a:pt x="485" y="370"/>
                      </a:lnTo>
                      <a:lnTo>
                        <a:pt x="519" y="362"/>
                      </a:lnTo>
                      <a:lnTo>
                        <a:pt x="552" y="354"/>
                      </a:lnTo>
                      <a:lnTo>
                        <a:pt x="577" y="347"/>
                      </a:lnTo>
                      <a:lnTo>
                        <a:pt x="610" y="339"/>
                      </a:lnTo>
                      <a:lnTo>
                        <a:pt x="636" y="331"/>
                      </a:lnTo>
                      <a:lnTo>
                        <a:pt x="669" y="324"/>
                      </a:lnTo>
                      <a:lnTo>
                        <a:pt x="694" y="308"/>
                      </a:lnTo>
                      <a:lnTo>
                        <a:pt x="719" y="300"/>
                      </a:lnTo>
                      <a:lnTo>
                        <a:pt x="753" y="285"/>
                      </a:lnTo>
                      <a:lnTo>
                        <a:pt x="778" y="270"/>
                      </a:lnTo>
                      <a:lnTo>
                        <a:pt x="803" y="254"/>
                      </a:lnTo>
                      <a:lnTo>
                        <a:pt x="828" y="239"/>
                      </a:lnTo>
                      <a:lnTo>
                        <a:pt x="861" y="216"/>
                      </a:lnTo>
                      <a:lnTo>
                        <a:pt x="886" y="193"/>
                      </a:lnTo>
                      <a:lnTo>
                        <a:pt x="911" y="170"/>
                      </a:lnTo>
                      <a:close/>
                    </a:path>
                  </a:pathLst>
                </a:custGeom>
                <a:solidFill>
                  <a:srgbClr val="ffffff"/>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Freeform 729"/>
                <p:cNvSpPr/>
                <p:nvPr/>
              </p:nvSpPr>
              <p:spPr>
                <a:xfrm flipH="1">
                  <a:off x="514440" y="1968840"/>
                  <a:ext cx="183600" cy="80640"/>
                </a:xfrm>
                <a:custGeom>
                  <a:avLst/>
                  <a:gdLst>
                    <a:gd name="textAreaLeft" fmla="*/ 0 w 183600"/>
                    <a:gd name="textAreaRight" fmla="*/ 183600 w 183600"/>
                    <a:gd name="textAreaTop" fmla="*/ 0 h 80640"/>
                    <a:gd name="textAreaBottom" fmla="*/ 81000 h 80640"/>
                  </a:gdLst>
                  <a:ahLst/>
                  <a:rect l="textAreaLeft" t="textAreaTop" r="textAreaRight" b="textAreaBottom"/>
                  <a:pathLst>
                    <a:path w="920" h="385">
                      <a:moveTo>
                        <a:pt x="911" y="170"/>
                      </a:moveTo>
                      <a:lnTo>
                        <a:pt x="911" y="131"/>
                      </a:lnTo>
                      <a:lnTo>
                        <a:pt x="911" y="85"/>
                      </a:lnTo>
                      <a:lnTo>
                        <a:pt x="911" y="47"/>
                      </a:lnTo>
                      <a:lnTo>
                        <a:pt x="920" y="0"/>
                      </a:lnTo>
                      <a:lnTo>
                        <a:pt x="903" y="8"/>
                      </a:lnTo>
                      <a:lnTo>
                        <a:pt x="878" y="8"/>
                      </a:lnTo>
                      <a:lnTo>
                        <a:pt x="861" y="8"/>
                      </a:lnTo>
                      <a:lnTo>
                        <a:pt x="844" y="8"/>
                      </a:lnTo>
                      <a:lnTo>
                        <a:pt x="828" y="8"/>
                      </a:lnTo>
                      <a:lnTo>
                        <a:pt x="811" y="8"/>
                      </a:lnTo>
                      <a:lnTo>
                        <a:pt x="794" y="8"/>
                      </a:lnTo>
                      <a:lnTo>
                        <a:pt x="778" y="8"/>
                      </a:lnTo>
                      <a:lnTo>
                        <a:pt x="761" y="8"/>
                      </a:lnTo>
                      <a:lnTo>
                        <a:pt x="744" y="8"/>
                      </a:lnTo>
                      <a:lnTo>
                        <a:pt x="727" y="8"/>
                      </a:lnTo>
                      <a:lnTo>
                        <a:pt x="711" y="8"/>
                      </a:lnTo>
                      <a:lnTo>
                        <a:pt x="694" y="8"/>
                      </a:lnTo>
                      <a:lnTo>
                        <a:pt x="677" y="8"/>
                      </a:lnTo>
                      <a:lnTo>
                        <a:pt x="661" y="8"/>
                      </a:lnTo>
                      <a:lnTo>
                        <a:pt x="644" y="8"/>
                      </a:lnTo>
                      <a:lnTo>
                        <a:pt x="619" y="16"/>
                      </a:lnTo>
                      <a:lnTo>
                        <a:pt x="594" y="24"/>
                      </a:lnTo>
                      <a:lnTo>
                        <a:pt x="569" y="31"/>
                      </a:lnTo>
                      <a:lnTo>
                        <a:pt x="552" y="39"/>
                      </a:lnTo>
                      <a:lnTo>
                        <a:pt x="527" y="47"/>
                      </a:lnTo>
                      <a:lnTo>
                        <a:pt x="502" y="54"/>
                      </a:lnTo>
                      <a:lnTo>
                        <a:pt x="477" y="62"/>
                      </a:lnTo>
                      <a:lnTo>
                        <a:pt x="452" y="70"/>
                      </a:lnTo>
                      <a:lnTo>
                        <a:pt x="427" y="77"/>
                      </a:lnTo>
                      <a:lnTo>
                        <a:pt x="402" y="85"/>
                      </a:lnTo>
                      <a:lnTo>
                        <a:pt x="376" y="93"/>
                      </a:lnTo>
                      <a:lnTo>
                        <a:pt x="351" y="108"/>
                      </a:lnTo>
                      <a:lnTo>
                        <a:pt x="335" y="116"/>
                      </a:lnTo>
                      <a:lnTo>
                        <a:pt x="310" y="131"/>
                      </a:lnTo>
                      <a:lnTo>
                        <a:pt x="285" y="139"/>
                      </a:lnTo>
                      <a:lnTo>
                        <a:pt x="259" y="154"/>
                      </a:lnTo>
                      <a:lnTo>
                        <a:pt x="243" y="162"/>
                      </a:lnTo>
                      <a:lnTo>
                        <a:pt x="226" y="170"/>
                      </a:lnTo>
                      <a:lnTo>
                        <a:pt x="201" y="177"/>
                      </a:lnTo>
                      <a:lnTo>
                        <a:pt x="184" y="193"/>
                      </a:lnTo>
                      <a:lnTo>
                        <a:pt x="168" y="200"/>
                      </a:lnTo>
                      <a:lnTo>
                        <a:pt x="151" y="208"/>
                      </a:lnTo>
                      <a:lnTo>
                        <a:pt x="134" y="224"/>
                      </a:lnTo>
                      <a:lnTo>
                        <a:pt x="117" y="231"/>
                      </a:lnTo>
                      <a:lnTo>
                        <a:pt x="101" y="247"/>
                      </a:lnTo>
                      <a:lnTo>
                        <a:pt x="84" y="254"/>
                      </a:lnTo>
                      <a:lnTo>
                        <a:pt x="67" y="270"/>
                      </a:lnTo>
                      <a:lnTo>
                        <a:pt x="51" y="285"/>
                      </a:lnTo>
                      <a:lnTo>
                        <a:pt x="42" y="293"/>
                      </a:lnTo>
                      <a:lnTo>
                        <a:pt x="25" y="308"/>
                      </a:lnTo>
                      <a:lnTo>
                        <a:pt x="17" y="324"/>
                      </a:lnTo>
                      <a:lnTo>
                        <a:pt x="0" y="331"/>
                      </a:lnTo>
                      <a:lnTo>
                        <a:pt x="25" y="339"/>
                      </a:lnTo>
                      <a:lnTo>
                        <a:pt x="42" y="347"/>
                      </a:lnTo>
                      <a:lnTo>
                        <a:pt x="59" y="354"/>
                      </a:lnTo>
                      <a:lnTo>
                        <a:pt x="84" y="362"/>
                      </a:lnTo>
                      <a:lnTo>
                        <a:pt x="101" y="370"/>
                      </a:lnTo>
                      <a:lnTo>
                        <a:pt x="126" y="370"/>
                      </a:lnTo>
                      <a:lnTo>
                        <a:pt x="142" y="377"/>
                      </a:lnTo>
                      <a:lnTo>
                        <a:pt x="159" y="377"/>
                      </a:lnTo>
                      <a:lnTo>
                        <a:pt x="184" y="377"/>
                      </a:lnTo>
                      <a:lnTo>
                        <a:pt x="201" y="385"/>
                      </a:lnTo>
                      <a:lnTo>
                        <a:pt x="226" y="385"/>
                      </a:lnTo>
                      <a:lnTo>
                        <a:pt x="243" y="385"/>
                      </a:lnTo>
                      <a:lnTo>
                        <a:pt x="268" y="385"/>
                      </a:lnTo>
                      <a:lnTo>
                        <a:pt x="285" y="385"/>
                      </a:lnTo>
                      <a:lnTo>
                        <a:pt x="310" y="385"/>
                      </a:lnTo>
                      <a:lnTo>
                        <a:pt x="326" y="385"/>
                      </a:lnTo>
                      <a:lnTo>
                        <a:pt x="335" y="385"/>
                      </a:lnTo>
                      <a:lnTo>
                        <a:pt x="343" y="385"/>
                      </a:lnTo>
                      <a:lnTo>
                        <a:pt x="351" y="385"/>
                      </a:lnTo>
                      <a:lnTo>
                        <a:pt x="360" y="385"/>
                      </a:lnTo>
                      <a:lnTo>
                        <a:pt x="368" y="385"/>
                      </a:lnTo>
                      <a:lnTo>
                        <a:pt x="376" y="385"/>
                      </a:lnTo>
                      <a:lnTo>
                        <a:pt x="385" y="385"/>
                      </a:lnTo>
                      <a:lnTo>
                        <a:pt x="393" y="377"/>
                      </a:lnTo>
                      <a:lnTo>
                        <a:pt x="402" y="377"/>
                      </a:lnTo>
                      <a:lnTo>
                        <a:pt x="410" y="377"/>
                      </a:lnTo>
                      <a:lnTo>
                        <a:pt x="418" y="377"/>
                      </a:lnTo>
                      <a:lnTo>
                        <a:pt x="427" y="377"/>
                      </a:lnTo>
                      <a:lnTo>
                        <a:pt x="435" y="377"/>
                      </a:lnTo>
                      <a:lnTo>
                        <a:pt x="443" y="377"/>
                      </a:lnTo>
                      <a:lnTo>
                        <a:pt x="452" y="370"/>
                      </a:lnTo>
                      <a:lnTo>
                        <a:pt x="460" y="370"/>
                      </a:lnTo>
                      <a:lnTo>
                        <a:pt x="485" y="370"/>
                      </a:lnTo>
                      <a:lnTo>
                        <a:pt x="519" y="362"/>
                      </a:lnTo>
                      <a:lnTo>
                        <a:pt x="552" y="354"/>
                      </a:lnTo>
                      <a:lnTo>
                        <a:pt x="577" y="347"/>
                      </a:lnTo>
                      <a:lnTo>
                        <a:pt x="610" y="339"/>
                      </a:lnTo>
                      <a:lnTo>
                        <a:pt x="636" y="331"/>
                      </a:lnTo>
                      <a:lnTo>
                        <a:pt x="669" y="324"/>
                      </a:lnTo>
                      <a:lnTo>
                        <a:pt x="694" y="308"/>
                      </a:lnTo>
                      <a:lnTo>
                        <a:pt x="719" y="300"/>
                      </a:lnTo>
                      <a:lnTo>
                        <a:pt x="753" y="285"/>
                      </a:lnTo>
                      <a:lnTo>
                        <a:pt x="778" y="270"/>
                      </a:lnTo>
                      <a:lnTo>
                        <a:pt x="803" y="254"/>
                      </a:lnTo>
                      <a:lnTo>
                        <a:pt x="828" y="239"/>
                      </a:lnTo>
                      <a:lnTo>
                        <a:pt x="861" y="216"/>
                      </a:lnTo>
                      <a:lnTo>
                        <a:pt x="886" y="193"/>
                      </a:lnTo>
                      <a:lnTo>
                        <a:pt x="911" y="170"/>
                      </a:lnTo>
                    </a:path>
                  </a:pathLst>
                </a:custGeom>
                <a:noFill/>
                <a:ln w="0">
                  <a:solidFill>
                    <a:srgbClr val="000000"/>
                  </a:solid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Freeform 728"/>
                <p:cNvSpPr/>
                <p:nvPr/>
              </p:nvSpPr>
              <p:spPr>
                <a:xfrm flipH="1">
                  <a:off x="633240" y="2001240"/>
                  <a:ext cx="64800" cy="48240"/>
                </a:xfrm>
                <a:custGeom>
                  <a:avLst/>
                  <a:gdLst>
                    <a:gd name="textAreaLeft" fmla="*/ 360 w 64800"/>
                    <a:gd name="textAreaRight" fmla="*/ 65520 w 64800"/>
                    <a:gd name="textAreaTop" fmla="*/ 0 h 48240"/>
                    <a:gd name="textAreaBottom" fmla="*/ 48600 h 48240"/>
                  </a:gdLst>
                  <a:ahLst/>
                  <a:rect l="textAreaLeft" t="textAreaTop" r="textAreaRight" b="textAreaBottom"/>
                  <a:pathLst>
                    <a:path w="326" h="231">
                      <a:moveTo>
                        <a:pt x="259" y="0"/>
                      </a:moveTo>
                      <a:lnTo>
                        <a:pt x="243" y="8"/>
                      </a:lnTo>
                      <a:lnTo>
                        <a:pt x="226" y="16"/>
                      </a:lnTo>
                      <a:lnTo>
                        <a:pt x="201" y="23"/>
                      </a:lnTo>
                      <a:lnTo>
                        <a:pt x="184" y="39"/>
                      </a:lnTo>
                      <a:lnTo>
                        <a:pt x="168" y="46"/>
                      </a:lnTo>
                      <a:lnTo>
                        <a:pt x="151" y="54"/>
                      </a:lnTo>
                      <a:lnTo>
                        <a:pt x="134" y="70"/>
                      </a:lnTo>
                      <a:lnTo>
                        <a:pt x="117" y="77"/>
                      </a:lnTo>
                      <a:lnTo>
                        <a:pt x="101" y="93"/>
                      </a:lnTo>
                      <a:lnTo>
                        <a:pt x="84" y="100"/>
                      </a:lnTo>
                      <a:lnTo>
                        <a:pt x="67" y="116"/>
                      </a:lnTo>
                      <a:lnTo>
                        <a:pt x="51" y="131"/>
                      </a:lnTo>
                      <a:lnTo>
                        <a:pt x="42" y="139"/>
                      </a:lnTo>
                      <a:lnTo>
                        <a:pt x="25" y="154"/>
                      </a:lnTo>
                      <a:lnTo>
                        <a:pt x="17" y="170"/>
                      </a:lnTo>
                      <a:lnTo>
                        <a:pt x="0" y="177"/>
                      </a:lnTo>
                      <a:lnTo>
                        <a:pt x="25" y="185"/>
                      </a:lnTo>
                      <a:lnTo>
                        <a:pt x="42" y="193"/>
                      </a:lnTo>
                      <a:lnTo>
                        <a:pt x="59" y="200"/>
                      </a:lnTo>
                      <a:lnTo>
                        <a:pt x="84" y="208"/>
                      </a:lnTo>
                      <a:lnTo>
                        <a:pt x="101" y="216"/>
                      </a:lnTo>
                      <a:lnTo>
                        <a:pt x="126" y="216"/>
                      </a:lnTo>
                      <a:lnTo>
                        <a:pt x="142" y="223"/>
                      </a:lnTo>
                      <a:lnTo>
                        <a:pt x="159" y="223"/>
                      </a:lnTo>
                      <a:lnTo>
                        <a:pt x="184" y="223"/>
                      </a:lnTo>
                      <a:lnTo>
                        <a:pt x="201" y="231"/>
                      </a:lnTo>
                      <a:lnTo>
                        <a:pt x="226" y="231"/>
                      </a:lnTo>
                      <a:lnTo>
                        <a:pt x="243" y="231"/>
                      </a:lnTo>
                      <a:lnTo>
                        <a:pt x="268" y="231"/>
                      </a:lnTo>
                      <a:lnTo>
                        <a:pt x="285" y="231"/>
                      </a:lnTo>
                      <a:lnTo>
                        <a:pt x="310" y="231"/>
                      </a:lnTo>
                      <a:lnTo>
                        <a:pt x="326" y="231"/>
                      </a:lnTo>
                      <a:lnTo>
                        <a:pt x="326" y="193"/>
                      </a:lnTo>
                      <a:lnTo>
                        <a:pt x="318" y="162"/>
                      </a:lnTo>
                      <a:lnTo>
                        <a:pt x="318" y="123"/>
                      </a:lnTo>
                      <a:lnTo>
                        <a:pt x="310" y="93"/>
                      </a:lnTo>
                      <a:lnTo>
                        <a:pt x="301" y="62"/>
                      </a:lnTo>
                      <a:lnTo>
                        <a:pt x="293" y="39"/>
                      </a:lnTo>
                      <a:lnTo>
                        <a:pt x="276" y="16"/>
                      </a:lnTo>
                      <a:lnTo>
                        <a:pt x="259" y="0"/>
                      </a:lnTo>
                      <a:close/>
                    </a:path>
                  </a:pathLst>
                </a:custGeom>
                <a:solidFill>
                  <a:srgbClr val="ffffff"/>
                </a:solidFill>
                <a:ln w="0">
                  <a:noFill/>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Freeform 727"/>
                <p:cNvSpPr/>
                <p:nvPr/>
              </p:nvSpPr>
              <p:spPr>
                <a:xfrm flipH="1">
                  <a:off x="633240" y="2001240"/>
                  <a:ext cx="64800" cy="48240"/>
                </a:xfrm>
                <a:custGeom>
                  <a:avLst/>
                  <a:gdLst>
                    <a:gd name="textAreaLeft" fmla="*/ 360 w 64800"/>
                    <a:gd name="textAreaRight" fmla="*/ 65520 w 64800"/>
                    <a:gd name="textAreaTop" fmla="*/ 0 h 48240"/>
                    <a:gd name="textAreaBottom" fmla="*/ 48600 h 48240"/>
                  </a:gdLst>
                  <a:ahLst/>
                  <a:rect l="textAreaLeft" t="textAreaTop" r="textAreaRight" b="textAreaBottom"/>
                  <a:pathLst>
                    <a:path w="326" h="231">
                      <a:moveTo>
                        <a:pt x="259" y="0"/>
                      </a:moveTo>
                      <a:lnTo>
                        <a:pt x="243" y="8"/>
                      </a:lnTo>
                      <a:lnTo>
                        <a:pt x="226" y="16"/>
                      </a:lnTo>
                      <a:lnTo>
                        <a:pt x="201" y="23"/>
                      </a:lnTo>
                      <a:lnTo>
                        <a:pt x="184" y="39"/>
                      </a:lnTo>
                      <a:lnTo>
                        <a:pt x="168" y="46"/>
                      </a:lnTo>
                      <a:lnTo>
                        <a:pt x="151" y="54"/>
                      </a:lnTo>
                      <a:lnTo>
                        <a:pt x="134" y="70"/>
                      </a:lnTo>
                      <a:lnTo>
                        <a:pt x="117" y="77"/>
                      </a:lnTo>
                      <a:lnTo>
                        <a:pt x="101" y="93"/>
                      </a:lnTo>
                      <a:lnTo>
                        <a:pt x="84" y="100"/>
                      </a:lnTo>
                      <a:lnTo>
                        <a:pt x="67" y="116"/>
                      </a:lnTo>
                      <a:lnTo>
                        <a:pt x="51" y="131"/>
                      </a:lnTo>
                      <a:lnTo>
                        <a:pt x="42" y="139"/>
                      </a:lnTo>
                      <a:lnTo>
                        <a:pt x="25" y="154"/>
                      </a:lnTo>
                      <a:lnTo>
                        <a:pt x="17" y="170"/>
                      </a:lnTo>
                      <a:lnTo>
                        <a:pt x="0" y="177"/>
                      </a:lnTo>
                      <a:lnTo>
                        <a:pt x="25" y="185"/>
                      </a:lnTo>
                      <a:lnTo>
                        <a:pt x="42" y="193"/>
                      </a:lnTo>
                      <a:lnTo>
                        <a:pt x="59" y="200"/>
                      </a:lnTo>
                      <a:lnTo>
                        <a:pt x="84" y="208"/>
                      </a:lnTo>
                      <a:lnTo>
                        <a:pt x="101" y="216"/>
                      </a:lnTo>
                      <a:lnTo>
                        <a:pt x="126" y="216"/>
                      </a:lnTo>
                      <a:lnTo>
                        <a:pt x="142" y="223"/>
                      </a:lnTo>
                      <a:lnTo>
                        <a:pt x="159" y="223"/>
                      </a:lnTo>
                      <a:lnTo>
                        <a:pt x="184" y="223"/>
                      </a:lnTo>
                      <a:lnTo>
                        <a:pt x="201" y="231"/>
                      </a:lnTo>
                      <a:lnTo>
                        <a:pt x="226" y="231"/>
                      </a:lnTo>
                      <a:lnTo>
                        <a:pt x="243" y="231"/>
                      </a:lnTo>
                      <a:lnTo>
                        <a:pt x="268" y="231"/>
                      </a:lnTo>
                      <a:lnTo>
                        <a:pt x="285" y="231"/>
                      </a:lnTo>
                      <a:lnTo>
                        <a:pt x="310" y="231"/>
                      </a:lnTo>
                      <a:lnTo>
                        <a:pt x="326" y="231"/>
                      </a:lnTo>
                      <a:lnTo>
                        <a:pt x="326" y="193"/>
                      </a:lnTo>
                      <a:lnTo>
                        <a:pt x="318" y="162"/>
                      </a:lnTo>
                      <a:lnTo>
                        <a:pt x="318" y="123"/>
                      </a:lnTo>
                      <a:lnTo>
                        <a:pt x="310" y="93"/>
                      </a:lnTo>
                      <a:lnTo>
                        <a:pt x="301" y="62"/>
                      </a:lnTo>
                      <a:lnTo>
                        <a:pt x="293" y="39"/>
                      </a:lnTo>
                      <a:lnTo>
                        <a:pt x="276" y="16"/>
                      </a:lnTo>
                      <a:lnTo>
                        <a:pt x="259" y="0"/>
                      </a:lnTo>
                    </a:path>
                  </a:pathLst>
                </a:custGeom>
                <a:noFill/>
                <a:ln w="0">
                  <a:solidFill>
                    <a:srgbClr val="000000"/>
                  </a:solidFill>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Freeform 726"/>
                <p:cNvSpPr/>
                <p:nvPr/>
              </p:nvSpPr>
              <p:spPr>
                <a:xfrm flipH="1">
                  <a:off x="569520" y="1977120"/>
                  <a:ext cx="19800" cy="22320"/>
                </a:xfrm>
                <a:custGeom>
                  <a:avLst/>
                  <a:gdLst>
                    <a:gd name="textAreaLeft" fmla="*/ -360 w 19800"/>
                    <a:gd name="textAreaRight" fmla="*/ 19800 w 19800"/>
                    <a:gd name="textAreaTop" fmla="*/ 0 h 22320"/>
                    <a:gd name="textAreaBottom" fmla="*/ 22680 h 22320"/>
                  </a:gdLst>
                  <a:ahLst/>
                  <a:rect l="textAreaLeft" t="textAreaTop" r="textAreaRight" b="textAreaBottom"/>
                  <a:pathLst>
                    <a:path w="100" h="108">
                      <a:moveTo>
                        <a:pt x="100" y="108"/>
                      </a:moveTo>
                      <a:lnTo>
                        <a:pt x="100" y="92"/>
                      </a:lnTo>
                      <a:lnTo>
                        <a:pt x="100" y="69"/>
                      </a:lnTo>
                      <a:lnTo>
                        <a:pt x="92" y="54"/>
                      </a:lnTo>
                      <a:lnTo>
                        <a:pt x="75" y="38"/>
                      </a:lnTo>
                      <a:lnTo>
                        <a:pt x="58" y="23"/>
                      </a:lnTo>
                      <a:lnTo>
                        <a:pt x="41" y="15"/>
                      </a:lnTo>
                      <a:lnTo>
                        <a:pt x="16" y="8"/>
                      </a:lnTo>
                      <a:lnTo>
                        <a:pt x="0" y="0"/>
                      </a:lnTo>
                    </a:path>
                  </a:pathLst>
                </a:custGeom>
                <a:noFill/>
                <a:ln w="0">
                  <a:solidFill>
                    <a:srgbClr val="000000"/>
                  </a:solidFill>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Freeform 725"/>
                <p:cNvSpPr/>
                <p:nvPr/>
              </p:nvSpPr>
              <p:spPr>
                <a:xfrm flipH="1">
                  <a:off x="584640" y="1980360"/>
                  <a:ext cx="16560" cy="25560"/>
                </a:xfrm>
                <a:custGeom>
                  <a:avLst/>
                  <a:gdLst>
                    <a:gd name="textAreaLeft" fmla="*/ 360 w 16560"/>
                    <a:gd name="textAreaRight" fmla="*/ 17280 w 16560"/>
                    <a:gd name="textAreaTop" fmla="*/ 0 h 25560"/>
                    <a:gd name="textAreaBottom" fmla="*/ 25920 h 25560"/>
                  </a:gdLst>
                  <a:ahLst/>
                  <a:rect l="textAreaLeft" t="textAreaTop" r="textAreaRight" b="textAreaBottom"/>
                  <a:pathLst>
                    <a:path w="84" h="123">
                      <a:moveTo>
                        <a:pt x="84" y="123"/>
                      </a:moveTo>
                      <a:lnTo>
                        <a:pt x="84" y="100"/>
                      </a:lnTo>
                      <a:lnTo>
                        <a:pt x="75" y="77"/>
                      </a:lnTo>
                      <a:lnTo>
                        <a:pt x="67" y="62"/>
                      </a:lnTo>
                      <a:lnTo>
                        <a:pt x="59" y="39"/>
                      </a:lnTo>
                      <a:lnTo>
                        <a:pt x="50" y="31"/>
                      </a:lnTo>
                      <a:lnTo>
                        <a:pt x="34" y="16"/>
                      </a:lnTo>
                      <a:lnTo>
                        <a:pt x="17" y="8"/>
                      </a:lnTo>
                      <a:lnTo>
                        <a:pt x="0" y="0"/>
                      </a:lnTo>
                    </a:path>
                  </a:pathLst>
                </a:custGeom>
                <a:noFill/>
                <a:ln w="0">
                  <a:solidFill>
                    <a:srgbClr val="000000"/>
                  </a:solid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Freeform 724"/>
                <p:cNvSpPr/>
                <p:nvPr/>
              </p:nvSpPr>
              <p:spPr>
                <a:xfrm flipH="1">
                  <a:off x="601560" y="1986840"/>
                  <a:ext cx="11520" cy="17640"/>
                </a:xfrm>
                <a:custGeom>
                  <a:avLst/>
                  <a:gdLst>
                    <a:gd name="textAreaLeft" fmla="*/ 360 w 11520"/>
                    <a:gd name="textAreaRight" fmla="*/ 12240 w 11520"/>
                    <a:gd name="textAreaTop" fmla="*/ 0 h 17640"/>
                    <a:gd name="textAreaBottom" fmla="*/ 18000 h 17640"/>
                  </a:gdLst>
                  <a:ahLst/>
                  <a:rect l="textAreaLeft" t="textAreaTop" r="textAreaRight" b="textAreaBottom"/>
                  <a:pathLst>
                    <a:path w="58" h="85">
                      <a:moveTo>
                        <a:pt x="58" y="85"/>
                      </a:moveTo>
                      <a:lnTo>
                        <a:pt x="58" y="69"/>
                      </a:lnTo>
                      <a:lnTo>
                        <a:pt x="50" y="54"/>
                      </a:lnTo>
                      <a:lnTo>
                        <a:pt x="50" y="39"/>
                      </a:lnTo>
                      <a:lnTo>
                        <a:pt x="41" y="31"/>
                      </a:lnTo>
                      <a:lnTo>
                        <a:pt x="25" y="15"/>
                      </a:lnTo>
                      <a:lnTo>
                        <a:pt x="16" y="8"/>
                      </a:lnTo>
                      <a:lnTo>
                        <a:pt x="8" y="0"/>
                      </a:lnTo>
                      <a:lnTo>
                        <a:pt x="0" y="0"/>
                      </a:lnTo>
                    </a:path>
                  </a:pathLst>
                </a:custGeom>
                <a:noFill/>
                <a:ln w="0">
                  <a:solidFill>
                    <a:srgbClr val="000000"/>
                  </a:solid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Freeform 723"/>
                <p:cNvSpPr/>
                <p:nvPr/>
              </p:nvSpPr>
              <p:spPr>
                <a:xfrm flipH="1">
                  <a:off x="597600" y="2019240"/>
                  <a:ext cx="8280" cy="2880"/>
                </a:xfrm>
                <a:custGeom>
                  <a:avLst/>
                  <a:gdLst>
                    <a:gd name="textAreaLeft" fmla="*/ -360 w 8280"/>
                    <a:gd name="textAreaRight" fmla="*/ 8280 w 8280"/>
                    <a:gd name="textAreaTop" fmla="*/ 0 h 2880"/>
                    <a:gd name="textAreaBottom" fmla="*/ 3240 h 2880"/>
                  </a:gdLst>
                  <a:ahLst/>
                  <a:rect l="textAreaLeft" t="textAreaTop" r="textAreaRight" b="textAreaBottom"/>
                  <a:pathLst>
                    <a:path w="42" h="15">
                      <a:moveTo>
                        <a:pt x="42" y="0"/>
                      </a:moveTo>
                      <a:lnTo>
                        <a:pt x="42" y="8"/>
                      </a:lnTo>
                      <a:lnTo>
                        <a:pt x="33" y="15"/>
                      </a:lnTo>
                      <a:lnTo>
                        <a:pt x="25" y="15"/>
                      </a:lnTo>
                      <a:lnTo>
                        <a:pt x="17" y="15"/>
                      </a:lnTo>
                      <a:lnTo>
                        <a:pt x="8" y="8"/>
                      </a:lnTo>
                      <a:lnTo>
                        <a:pt x="0" y="8"/>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Freeform 722"/>
                <p:cNvSpPr/>
                <p:nvPr/>
              </p:nvSpPr>
              <p:spPr>
                <a:xfrm flipH="1">
                  <a:off x="579960" y="2012400"/>
                  <a:ext cx="6480" cy="3240"/>
                </a:xfrm>
                <a:custGeom>
                  <a:avLst/>
                  <a:gdLst>
                    <a:gd name="textAreaLeft" fmla="*/ 360 w 6480"/>
                    <a:gd name="textAreaRight" fmla="*/ 7200 w 6480"/>
                    <a:gd name="textAreaTop" fmla="*/ 0 h 3240"/>
                    <a:gd name="textAreaBottom" fmla="*/ 3600 h 3240"/>
                  </a:gdLst>
                  <a:ahLst/>
                  <a:rect l="textAreaLeft" t="textAreaTop" r="textAreaRight" b="textAreaBottom"/>
                  <a:pathLst>
                    <a:path w="34" h="16">
                      <a:moveTo>
                        <a:pt x="34" y="0"/>
                      </a:moveTo>
                      <a:lnTo>
                        <a:pt x="34" y="0"/>
                      </a:lnTo>
                      <a:lnTo>
                        <a:pt x="34" y="8"/>
                      </a:lnTo>
                      <a:lnTo>
                        <a:pt x="25" y="8"/>
                      </a:lnTo>
                      <a:lnTo>
                        <a:pt x="25" y="16"/>
                      </a:lnTo>
                      <a:lnTo>
                        <a:pt x="17" y="16"/>
                      </a:lnTo>
                      <a:lnTo>
                        <a:pt x="9" y="16"/>
                      </a:lnTo>
                      <a:lnTo>
                        <a:pt x="0" y="8"/>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Freeform 721"/>
                <p:cNvSpPr/>
                <p:nvPr/>
              </p:nvSpPr>
              <p:spPr>
                <a:xfrm flipH="1">
                  <a:off x="568080" y="2010960"/>
                  <a:ext cx="6480" cy="1440"/>
                </a:xfrm>
                <a:custGeom>
                  <a:avLst/>
                  <a:gdLst>
                    <a:gd name="textAreaLeft" fmla="*/ 360 w 6480"/>
                    <a:gd name="textAreaRight" fmla="*/ 7200 w 6480"/>
                    <a:gd name="textAreaTop" fmla="*/ 0 h 1440"/>
                    <a:gd name="textAreaBottom" fmla="*/ 1800 h 1440"/>
                  </a:gdLst>
                  <a:ahLst/>
                  <a:rect l="textAreaLeft" t="textAreaTop" r="textAreaRight" b="textAreaBottom"/>
                  <a:pathLst>
                    <a:path w="33" h="8">
                      <a:moveTo>
                        <a:pt x="33" y="0"/>
                      </a:moveTo>
                      <a:lnTo>
                        <a:pt x="33" y="0"/>
                      </a:lnTo>
                      <a:lnTo>
                        <a:pt x="25" y="8"/>
                      </a:lnTo>
                      <a:lnTo>
                        <a:pt x="17" y="8"/>
                      </a:lnTo>
                      <a:lnTo>
                        <a:pt x="8" y="8"/>
                      </a:lnTo>
                      <a:lnTo>
                        <a:pt x="0"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Freeform 720"/>
                <p:cNvSpPr/>
                <p:nvPr/>
              </p:nvSpPr>
              <p:spPr>
                <a:xfrm flipH="1">
                  <a:off x="522360" y="2014200"/>
                  <a:ext cx="360" cy="15840"/>
                </a:xfrm>
                <a:custGeom>
                  <a:avLst/>
                  <a:gdLst>
                    <a:gd name="textAreaLeft" fmla="*/ -360 w 360"/>
                    <a:gd name="textAreaRight" fmla="*/ 360 w 360"/>
                    <a:gd name="textAreaTop" fmla="*/ 0 h 15840"/>
                    <a:gd name="textAreaBottom" fmla="*/ 16200 h 15840"/>
                  </a:gdLst>
                  <a:ahLst/>
                  <a:rect l="textAreaLeft" t="textAreaTop" r="textAreaRight" b="textAreaBottom"/>
                  <a:pathLst>
                    <a:path w="1" h="77">
                      <a:moveTo>
                        <a:pt x="0" y="0"/>
                      </a:moveTo>
                      <a:lnTo>
                        <a:pt x="0" y="15"/>
                      </a:lnTo>
                      <a:lnTo>
                        <a:pt x="0" y="38"/>
                      </a:lnTo>
                      <a:lnTo>
                        <a:pt x="0" y="54"/>
                      </a:lnTo>
                      <a:lnTo>
                        <a:pt x="0" y="77"/>
                      </a:lnTo>
                    </a:path>
                  </a:pathLst>
                </a:custGeom>
                <a:noFill/>
                <a:ln w="0">
                  <a:solidFill>
                    <a:srgbClr val="000000"/>
                  </a:solid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Freeform 719"/>
                <p:cNvSpPr/>
                <p:nvPr/>
              </p:nvSpPr>
              <p:spPr>
                <a:xfrm flipH="1">
                  <a:off x="687600" y="2041560"/>
                  <a:ext cx="1800" cy="17640"/>
                </a:xfrm>
                <a:custGeom>
                  <a:avLst/>
                  <a:gdLst>
                    <a:gd name="textAreaLeft" fmla="*/ -360 w 1800"/>
                    <a:gd name="textAreaRight" fmla="*/ 1800 w 1800"/>
                    <a:gd name="textAreaTop" fmla="*/ 0 h 17640"/>
                    <a:gd name="textAreaBottom" fmla="*/ 18000 h 17640"/>
                  </a:gdLst>
                  <a:ahLst/>
                  <a:rect l="textAreaLeft" t="textAreaTop" r="textAreaRight" b="textAreaBottom"/>
                  <a:pathLst>
                    <a:path w="9" h="84">
                      <a:moveTo>
                        <a:pt x="0" y="0"/>
                      </a:moveTo>
                      <a:lnTo>
                        <a:pt x="0" y="23"/>
                      </a:lnTo>
                      <a:lnTo>
                        <a:pt x="0" y="46"/>
                      </a:lnTo>
                      <a:lnTo>
                        <a:pt x="9" y="61"/>
                      </a:lnTo>
                      <a:lnTo>
                        <a:pt x="9" y="84"/>
                      </a:lnTo>
                    </a:path>
                  </a:pathLst>
                </a:custGeom>
                <a:noFill/>
                <a:ln w="0">
                  <a:solidFill>
                    <a:srgbClr val="000000"/>
                  </a:solid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Freeform 718"/>
                <p:cNvSpPr/>
                <p:nvPr/>
              </p:nvSpPr>
              <p:spPr>
                <a:xfrm flipH="1">
                  <a:off x="675720" y="2046600"/>
                  <a:ext cx="360" cy="15840"/>
                </a:xfrm>
                <a:custGeom>
                  <a:avLst/>
                  <a:gdLst>
                    <a:gd name="textAreaLeft" fmla="*/ -360 w 360"/>
                    <a:gd name="textAreaRight" fmla="*/ 360 w 360"/>
                    <a:gd name="textAreaTop" fmla="*/ 0 h 15840"/>
                    <a:gd name="textAreaBottom" fmla="*/ 16200 h 15840"/>
                  </a:gdLst>
                  <a:ahLst/>
                  <a:rect l="textAreaLeft" t="textAreaTop" r="textAreaRight" b="textAreaBottom"/>
                  <a:pathLst>
                    <a:path w="1" h="77">
                      <a:moveTo>
                        <a:pt x="0" y="0"/>
                      </a:moveTo>
                      <a:lnTo>
                        <a:pt x="0" y="23"/>
                      </a:lnTo>
                      <a:lnTo>
                        <a:pt x="0" y="38"/>
                      </a:lnTo>
                      <a:lnTo>
                        <a:pt x="0" y="54"/>
                      </a:lnTo>
                      <a:lnTo>
                        <a:pt x="0" y="77"/>
                      </a:lnTo>
                    </a:path>
                  </a:pathLst>
                </a:custGeom>
                <a:noFill/>
                <a:ln w="0">
                  <a:solidFill>
                    <a:srgbClr val="000000"/>
                  </a:solid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Freeform 717"/>
                <p:cNvSpPr/>
                <p:nvPr/>
              </p:nvSpPr>
              <p:spPr>
                <a:xfrm flipH="1">
                  <a:off x="661680" y="2048040"/>
                  <a:ext cx="1440" cy="14400"/>
                </a:xfrm>
                <a:custGeom>
                  <a:avLst/>
                  <a:gdLst>
                    <a:gd name="textAreaLeft" fmla="*/ 360 w 1440"/>
                    <a:gd name="textAreaRight" fmla="*/ 2160 w 1440"/>
                    <a:gd name="textAreaTop" fmla="*/ 0 h 14400"/>
                    <a:gd name="textAreaBottom" fmla="*/ 14760 h 14400"/>
                  </a:gdLst>
                  <a:ahLst/>
                  <a:rect l="textAreaLeft" t="textAreaTop" r="textAreaRight" b="textAreaBottom"/>
                  <a:pathLst>
                    <a:path w="8" h="70">
                      <a:moveTo>
                        <a:pt x="0" y="0"/>
                      </a:moveTo>
                      <a:lnTo>
                        <a:pt x="0" y="23"/>
                      </a:lnTo>
                      <a:lnTo>
                        <a:pt x="0" y="39"/>
                      </a:lnTo>
                      <a:lnTo>
                        <a:pt x="0" y="54"/>
                      </a:lnTo>
                      <a:lnTo>
                        <a:pt x="8" y="70"/>
                      </a:lnTo>
                    </a:path>
                  </a:pathLst>
                </a:custGeom>
                <a:noFill/>
                <a:ln w="0">
                  <a:solidFill>
                    <a:srgbClr val="000000"/>
                  </a:solid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Freeform 716"/>
                <p:cNvSpPr/>
                <p:nvPr/>
              </p:nvSpPr>
              <p:spPr>
                <a:xfrm flipH="1">
                  <a:off x="644040" y="2051280"/>
                  <a:ext cx="360" cy="12600"/>
                </a:xfrm>
                <a:custGeom>
                  <a:avLst/>
                  <a:gdLst>
                    <a:gd name="textAreaLeft" fmla="*/ -360 w 360"/>
                    <a:gd name="textAreaRight" fmla="*/ 360 w 360"/>
                    <a:gd name="textAreaTop" fmla="*/ 0 h 12600"/>
                    <a:gd name="textAreaBottom" fmla="*/ 12960 h 12600"/>
                  </a:gdLst>
                  <a:ahLst/>
                  <a:rect l="textAreaLeft" t="textAreaTop" r="textAreaRight" b="textAreaBottom"/>
                  <a:pathLst>
                    <a:path w="1" h="61">
                      <a:moveTo>
                        <a:pt x="0" y="0"/>
                      </a:moveTo>
                      <a:lnTo>
                        <a:pt x="0" y="15"/>
                      </a:lnTo>
                      <a:lnTo>
                        <a:pt x="0" y="31"/>
                      </a:lnTo>
                      <a:lnTo>
                        <a:pt x="0" y="46"/>
                      </a:lnTo>
                      <a:lnTo>
                        <a:pt x="0" y="61"/>
                      </a:lnTo>
                    </a:path>
                  </a:pathLst>
                </a:custGeom>
                <a:noFill/>
                <a:ln w="0">
                  <a:solidFill>
                    <a:srgbClr val="000000"/>
                  </a:solid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Freeform 715"/>
                <p:cNvSpPr/>
                <p:nvPr/>
              </p:nvSpPr>
              <p:spPr>
                <a:xfrm flipH="1">
                  <a:off x="631800" y="2051280"/>
                  <a:ext cx="1440" cy="11160"/>
                </a:xfrm>
                <a:custGeom>
                  <a:avLst/>
                  <a:gdLst>
                    <a:gd name="textAreaLeft" fmla="*/ 360 w 1440"/>
                    <a:gd name="textAreaRight" fmla="*/ 2160 w 1440"/>
                    <a:gd name="textAreaTop" fmla="*/ 0 h 11160"/>
                    <a:gd name="textAreaBottom" fmla="*/ 11520 h 11160"/>
                  </a:gdLst>
                  <a:ahLst/>
                  <a:rect l="textAreaLeft" t="textAreaTop" r="textAreaRight" b="textAreaBottom"/>
                  <a:pathLst>
                    <a:path w="9" h="54">
                      <a:moveTo>
                        <a:pt x="9" y="0"/>
                      </a:moveTo>
                      <a:lnTo>
                        <a:pt x="0" y="7"/>
                      </a:lnTo>
                      <a:lnTo>
                        <a:pt x="0" y="23"/>
                      </a:lnTo>
                      <a:lnTo>
                        <a:pt x="0" y="38"/>
                      </a:lnTo>
                      <a:lnTo>
                        <a:pt x="0" y="54"/>
                      </a:lnTo>
                    </a:path>
                  </a:pathLst>
                </a:custGeom>
                <a:noFill/>
                <a:ln w="0">
                  <a:solidFill>
                    <a:srgbClr val="000000"/>
                  </a:solid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Freeform 714"/>
                <p:cNvSpPr/>
                <p:nvPr/>
              </p:nvSpPr>
              <p:spPr>
                <a:xfrm flipH="1">
                  <a:off x="616320" y="2048040"/>
                  <a:ext cx="1440" cy="14400"/>
                </a:xfrm>
                <a:custGeom>
                  <a:avLst/>
                  <a:gdLst>
                    <a:gd name="textAreaLeft" fmla="*/ 360 w 1440"/>
                    <a:gd name="textAreaRight" fmla="*/ 2160 w 1440"/>
                    <a:gd name="textAreaTop" fmla="*/ 0 h 14400"/>
                    <a:gd name="textAreaBottom" fmla="*/ 14760 h 14400"/>
                  </a:gdLst>
                  <a:ahLst/>
                  <a:rect l="textAreaLeft" t="textAreaTop" r="textAreaRight" b="textAreaBottom"/>
                  <a:pathLst>
                    <a:path w="8" h="70">
                      <a:moveTo>
                        <a:pt x="8" y="0"/>
                      </a:moveTo>
                      <a:lnTo>
                        <a:pt x="0" y="23"/>
                      </a:lnTo>
                      <a:lnTo>
                        <a:pt x="0" y="39"/>
                      </a:lnTo>
                      <a:lnTo>
                        <a:pt x="0" y="54"/>
                      </a:lnTo>
                      <a:lnTo>
                        <a:pt x="0" y="70"/>
                      </a:lnTo>
                    </a:path>
                  </a:pathLst>
                </a:custGeom>
                <a:noFill/>
                <a:ln w="0">
                  <a:solidFill>
                    <a:srgbClr val="000000"/>
                  </a:solid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Freeform 713"/>
                <p:cNvSpPr/>
                <p:nvPr/>
              </p:nvSpPr>
              <p:spPr>
                <a:xfrm flipH="1">
                  <a:off x="604080" y="2046600"/>
                  <a:ext cx="360" cy="12600"/>
                </a:xfrm>
                <a:custGeom>
                  <a:avLst/>
                  <a:gdLst>
                    <a:gd name="textAreaLeft" fmla="*/ -360 w 360"/>
                    <a:gd name="textAreaRight" fmla="*/ 360 w 360"/>
                    <a:gd name="textAreaTop" fmla="*/ 0 h 12600"/>
                    <a:gd name="textAreaBottom" fmla="*/ 12960 h 12600"/>
                  </a:gdLst>
                  <a:ahLst/>
                  <a:rect l="textAreaLeft" t="textAreaTop" r="textAreaRight" b="textAreaBottom"/>
                  <a:pathLst>
                    <a:path w="1" h="61">
                      <a:moveTo>
                        <a:pt x="0" y="0"/>
                      </a:moveTo>
                      <a:lnTo>
                        <a:pt x="0" y="15"/>
                      </a:lnTo>
                      <a:lnTo>
                        <a:pt x="0" y="30"/>
                      </a:lnTo>
                      <a:lnTo>
                        <a:pt x="0" y="46"/>
                      </a:lnTo>
                      <a:lnTo>
                        <a:pt x="0" y="61"/>
                      </a:lnTo>
                    </a:path>
                  </a:pathLst>
                </a:custGeom>
                <a:noFill/>
                <a:ln w="0">
                  <a:solidFill>
                    <a:srgbClr val="000000"/>
                  </a:solid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Freeform 712"/>
                <p:cNvSpPr/>
                <p:nvPr/>
              </p:nvSpPr>
              <p:spPr>
                <a:xfrm flipH="1">
                  <a:off x="585000" y="2043360"/>
                  <a:ext cx="1440" cy="12960"/>
                </a:xfrm>
                <a:custGeom>
                  <a:avLst/>
                  <a:gdLst>
                    <a:gd name="textAreaLeft" fmla="*/ 360 w 1440"/>
                    <a:gd name="textAreaRight" fmla="*/ 2160 w 1440"/>
                    <a:gd name="textAreaTop" fmla="*/ 0 h 12960"/>
                    <a:gd name="textAreaBottom" fmla="*/ 13320 h 12960"/>
                  </a:gdLst>
                  <a:ahLst/>
                  <a:rect l="textAreaLeft" t="textAreaTop" r="textAreaRight" b="textAreaBottom"/>
                  <a:pathLst>
                    <a:path w="9" h="62">
                      <a:moveTo>
                        <a:pt x="9" y="0"/>
                      </a:moveTo>
                      <a:lnTo>
                        <a:pt x="0" y="16"/>
                      </a:lnTo>
                      <a:lnTo>
                        <a:pt x="0" y="31"/>
                      </a:lnTo>
                      <a:lnTo>
                        <a:pt x="0" y="46"/>
                      </a:lnTo>
                      <a:lnTo>
                        <a:pt x="0" y="62"/>
                      </a:lnTo>
                    </a:path>
                  </a:pathLst>
                </a:custGeom>
                <a:noFill/>
                <a:ln w="0">
                  <a:solidFill>
                    <a:srgbClr val="000000"/>
                  </a:solid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Freeform 711"/>
                <p:cNvSpPr/>
                <p:nvPr/>
              </p:nvSpPr>
              <p:spPr>
                <a:xfrm flipH="1">
                  <a:off x="567360" y="2038320"/>
                  <a:ext cx="360" cy="12960"/>
                </a:xfrm>
                <a:custGeom>
                  <a:avLst/>
                  <a:gdLst>
                    <a:gd name="textAreaLeft" fmla="*/ -360 w 360"/>
                    <a:gd name="textAreaRight" fmla="*/ 360 w 360"/>
                    <a:gd name="textAreaTop" fmla="*/ 0 h 12960"/>
                    <a:gd name="textAreaBottom" fmla="*/ 13320 h 12960"/>
                  </a:gdLst>
                  <a:ahLst/>
                  <a:rect l="textAreaLeft" t="textAreaTop" r="textAreaRight" b="textAreaBottom"/>
                  <a:pathLst>
                    <a:path w="1" h="62">
                      <a:moveTo>
                        <a:pt x="0" y="0"/>
                      </a:moveTo>
                      <a:lnTo>
                        <a:pt x="0" y="16"/>
                      </a:lnTo>
                      <a:lnTo>
                        <a:pt x="0" y="31"/>
                      </a:lnTo>
                      <a:lnTo>
                        <a:pt x="0" y="46"/>
                      </a:lnTo>
                      <a:lnTo>
                        <a:pt x="0" y="62"/>
                      </a:lnTo>
                    </a:path>
                  </a:pathLst>
                </a:custGeom>
                <a:noFill/>
                <a:ln w="0">
                  <a:solidFill>
                    <a:srgbClr val="000000"/>
                  </a:solid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Freeform 710"/>
                <p:cNvSpPr/>
                <p:nvPr/>
              </p:nvSpPr>
              <p:spPr>
                <a:xfrm flipH="1">
                  <a:off x="549720" y="2030400"/>
                  <a:ext cx="1440" cy="14400"/>
                </a:xfrm>
                <a:custGeom>
                  <a:avLst/>
                  <a:gdLst>
                    <a:gd name="textAreaLeft" fmla="*/ 360 w 1440"/>
                    <a:gd name="textAreaRight" fmla="*/ 2160 w 1440"/>
                    <a:gd name="textAreaTop" fmla="*/ 0 h 14400"/>
                    <a:gd name="textAreaBottom" fmla="*/ 14760 h 14400"/>
                  </a:gdLst>
                  <a:ahLst/>
                  <a:rect l="textAreaLeft" t="textAreaTop" r="textAreaRight" b="textAreaBottom"/>
                  <a:pathLst>
                    <a:path w="8" h="69">
                      <a:moveTo>
                        <a:pt x="0" y="0"/>
                      </a:moveTo>
                      <a:lnTo>
                        <a:pt x="8" y="15"/>
                      </a:lnTo>
                      <a:lnTo>
                        <a:pt x="8" y="31"/>
                      </a:lnTo>
                      <a:lnTo>
                        <a:pt x="8" y="46"/>
                      </a:lnTo>
                      <a:lnTo>
                        <a:pt x="8" y="69"/>
                      </a:lnTo>
                    </a:path>
                  </a:pathLst>
                </a:custGeom>
                <a:noFill/>
                <a:ln w="0">
                  <a:solidFill>
                    <a:srgbClr val="000000"/>
                  </a:solid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Freeform 709"/>
                <p:cNvSpPr/>
                <p:nvPr/>
              </p:nvSpPr>
              <p:spPr>
                <a:xfrm flipH="1">
                  <a:off x="535680" y="2023920"/>
                  <a:ext cx="360" cy="14400"/>
                </a:xfrm>
                <a:custGeom>
                  <a:avLst/>
                  <a:gdLst>
                    <a:gd name="textAreaLeft" fmla="*/ -360 w 360"/>
                    <a:gd name="textAreaRight" fmla="*/ 360 w 360"/>
                    <a:gd name="textAreaTop" fmla="*/ 0 h 14400"/>
                    <a:gd name="textAreaBottom" fmla="*/ 14760 h 14400"/>
                  </a:gdLst>
                  <a:ahLst/>
                  <a:rect l="textAreaLeft" t="textAreaTop" r="textAreaRight" b="textAreaBottom"/>
                  <a:pathLst>
                    <a:path w="1" h="69">
                      <a:moveTo>
                        <a:pt x="0" y="0"/>
                      </a:moveTo>
                      <a:lnTo>
                        <a:pt x="0" y="15"/>
                      </a:lnTo>
                      <a:lnTo>
                        <a:pt x="0" y="31"/>
                      </a:lnTo>
                      <a:lnTo>
                        <a:pt x="0" y="46"/>
                      </a:lnTo>
                      <a:lnTo>
                        <a:pt x="0" y="69"/>
                      </a:lnTo>
                    </a:path>
                  </a:pathLst>
                </a:custGeom>
                <a:noFill/>
                <a:ln w="0">
                  <a:solidFill>
                    <a:srgbClr val="000000"/>
                  </a:solid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Freeform 708"/>
                <p:cNvSpPr/>
                <p:nvPr/>
              </p:nvSpPr>
              <p:spPr>
                <a:xfrm flipH="1">
                  <a:off x="464760" y="1935360"/>
                  <a:ext cx="53280" cy="37080"/>
                </a:xfrm>
                <a:custGeom>
                  <a:avLst/>
                  <a:gdLst>
                    <a:gd name="textAreaLeft" fmla="*/ 360 w 53280"/>
                    <a:gd name="textAreaRight" fmla="*/ 54000 w 53280"/>
                    <a:gd name="textAreaTop" fmla="*/ 0 h 37080"/>
                    <a:gd name="textAreaBottom" fmla="*/ 37440 h 37080"/>
                  </a:gdLst>
                  <a:ahLst/>
                  <a:rect l="textAreaLeft" t="textAreaTop" r="textAreaRight" b="textAreaBottom"/>
                  <a:pathLst>
                    <a:path w="267" h="177">
                      <a:moveTo>
                        <a:pt x="0" y="0"/>
                      </a:moveTo>
                      <a:lnTo>
                        <a:pt x="8" y="38"/>
                      </a:lnTo>
                      <a:lnTo>
                        <a:pt x="8" y="77"/>
                      </a:lnTo>
                      <a:lnTo>
                        <a:pt x="8" y="115"/>
                      </a:lnTo>
                      <a:lnTo>
                        <a:pt x="8" y="154"/>
                      </a:lnTo>
                      <a:lnTo>
                        <a:pt x="25" y="161"/>
                      </a:lnTo>
                      <a:lnTo>
                        <a:pt x="42" y="169"/>
                      </a:lnTo>
                      <a:lnTo>
                        <a:pt x="58" y="169"/>
                      </a:lnTo>
                      <a:lnTo>
                        <a:pt x="75" y="177"/>
                      </a:lnTo>
                      <a:lnTo>
                        <a:pt x="92" y="177"/>
                      </a:lnTo>
                      <a:lnTo>
                        <a:pt x="109" y="177"/>
                      </a:lnTo>
                      <a:lnTo>
                        <a:pt x="125" y="177"/>
                      </a:lnTo>
                      <a:lnTo>
                        <a:pt x="142" y="177"/>
                      </a:lnTo>
                      <a:lnTo>
                        <a:pt x="159" y="177"/>
                      </a:lnTo>
                      <a:lnTo>
                        <a:pt x="175" y="177"/>
                      </a:lnTo>
                      <a:lnTo>
                        <a:pt x="192" y="169"/>
                      </a:lnTo>
                      <a:lnTo>
                        <a:pt x="209" y="169"/>
                      </a:lnTo>
                      <a:lnTo>
                        <a:pt x="226" y="161"/>
                      </a:lnTo>
                      <a:lnTo>
                        <a:pt x="234" y="154"/>
                      </a:lnTo>
                      <a:lnTo>
                        <a:pt x="251" y="146"/>
                      </a:lnTo>
                      <a:lnTo>
                        <a:pt x="267" y="146"/>
                      </a:lnTo>
                      <a:lnTo>
                        <a:pt x="267" y="131"/>
                      </a:lnTo>
                      <a:lnTo>
                        <a:pt x="267" y="115"/>
                      </a:lnTo>
                      <a:lnTo>
                        <a:pt x="259" y="92"/>
                      </a:lnTo>
                      <a:lnTo>
                        <a:pt x="259" y="77"/>
                      </a:lnTo>
                      <a:lnTo>
                        <a:pt x="259" y="61"/>
                      </a:lnTo>
                      <a:lnTo>
                        <a:pt x="251" y="46"/>
                      </a:lnTo>
                      <a:lnTo>
                        <a:pt x="242" y="31"/>
                      </a:lnTo>
                      <a:lnTo>
                        <a:pt x="234" y="15"/>
                      </a:lnTo>
                      <a:lnTo>
                        <a:pt x="226" y="8"/>
                      </a:lnTo>
                      <a:lnTo>
                        <a:pt x="209" y="8"/>
                      </a:lnTo>
                      <a:lnTo>
                        <a:pt x="192" y="8"/>
                      </a:lnTo>
                      <a:lnTo>
                        <a:pt x="175" y="8"/>
                      </a:lnTo>
                      <a:lnTo>
                        <a:pt x="167" y="8"/>
                      </a:lnTo>
                      <a:lnTo>
                        <a:pt x="150" y="8"/>
                      </a:lnTo>
                      <a:lnTo>
                        <a:pt x="134" y="8"/>
                      </a:lnTo>
                      <a:lnTo>
                        <a:pt x="125" y="8"/>
                      </a:lnTo>
                      <a:lnTo>
                        <a:pt x="109" y="8"/>
                      </a:lnTo>
                      <a:lnTo>
                        <a:pt x="92" y="8"/>
                      </a:lnTo>
                      <a:lnTo>
                        <a:pt x="75" y="8"/>
                      </a:lnTo>
                      <a:lnTo>
                        <a:pt x="58" y="0"/>
                      </a:lnTo>
                      <a:lnTo>
                        <a:pt x="50" y="0"/>
                      </a:lnTo>
                      <a:lnTo>
                        <a:pt x="33" y="0"/>
                      </a:lnTo>
                      <a:lnTo>
                        <a:pt x="17" y="0"/>
                      </a:lnTo>
                      <a:lnTo>
                        <a:pt x="0" y="0"/>
                      </a:lnTo>
                      <a:close/>
                    </a:path>
                  </a:pathLst>
                </a:custGeom>
                <a:solidFill>
                  <a:srgbClr val="99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Freeform 707"/>
                <p:cNvSpPr/>
                <p:nvPr/>
              </p:nvSpPr>
              <p:spPr>
                <a:xfrm flipH="1">
                  <a:off x="464760" y="1935360"/>
                  <a:ext cx="53280" cy="37080"/>
                </a:xfrm>
                <a:custGeom>
                  <a:avLst/>
                  <a:gdLst>
                    <a:gd name="textAreaLeft" fmla="*/ 360 w 53280"/>
                    <a:gd name="textAreaRight" fmla="*/ 54000 w 53280"/>
                    <a:gd name="textAreaTop" fmla="*/ 0 h 37080"/>
                    <a:gd name="textAreaBottom" fmla="*/ 37440 h 37080"/>
                  </a:gdLst>
                  <a:ahLst/>
                  <a:rect l="textAreaLeft" t="textAreaTop" r="textAreaRight" b="textAreaBottom"/>
                  <a:pathLst>
                    <a:path w="267" h="177">
                      <a:moveTo>
                        <a:pt x="0" y="0"/>
                      </a:moveTo>
                      <a:lnTo>
                        <a:pt x="8" y="38"/>
                      </a:lnTo>
                      <a:lnTo>
                        <a:pt x="8" y="77"/>
                      </a:lnTo>
                      <a:lnTo>
                        <a:pt x="8" y="115"/>
                      </a:lnTo>
                      <a:lnTo>
                        <a:pt x="8" y="154"/>
                      </a:lnTo>
                      <a:lnTo>
                        <a:pt x="25" y="161"/>
                      </a:lnTo>
                      <a:lnTo>
                        <a:pt x="42" y="169"/>
                      </a:lnTo>
                      <a:lnTo>
                        <a:pt x="58" y="169"/>
                      </a:lnTo>
                      <a:lnTo>
                        <a:pt x="75" y="177"/>
                      </a:lnTo>
                      <a:lnTo>
                        <a:pt x="92" y="177"/>
                      </a:lnTo>
                      <a:lnTo>
                        <a:pt x="109" y="177"/>
                      </a:lnTo>
                      <a:lnTo>
                        <a:pt x="125" y="177"/>
                      </a:lnTo>
                      <a:lnTo>
                        <a:pt x="142" y="177"/>
                      </a:lnTo>
                      <a:lnTo>
                        <a:pt x="159" y="177"/>
                      </a:lnTo>
                      <a:lnTo>
                        <a:pt x="175" y="177"/>
                      </a:lnTo>
                      <a:lnTo>
                        <a:pt x="192" y="169"/>
                      </a:lnTo>
                      <a:lnTo>
                        <a:pt x="209" y="169"/>
                      </a:lnTo>
                      <a:lnTo>
                        <a:pt x="226" y="161"/>
                      </a:lnTo>
                      <a:lnTo>
                        <a:pt x="234" y="154"/>
                      </a:lnTo>
                      <a:lnTo>
                        <a:pt x="251" y="146"/>
                      </a:lnTo>
                      <a:lnTo>
                        <a:pt x="267" y="146"/>
                      </a:lnTo>
                      <a:lnTo>
                        <a:pt x="267" y="131"/>
                      </a:lnTo>
                      <a:lnTo>
                        <a:pt x="267" y="115"/>
                      </a:lnTo>
                      <a:lnTo>
                        <a:pt x="259" y="92"/>
                      </a:lnTo>
                      <a:lnTo>
                        <a:pt x="259" y="77"/>
                      </a:lnTo>
                      <a:lnTo>
                        <a:pt x="259" y="61"/>
                      </a:lnTo>
                      <a:lnTo>
                        <a:pt x="251" y="46"/>
                      </a:lnTo>
                      <a:lnTo>
                        <a:pt x="242" y="31"/>
                      </a:lnTo>
                      <a:lnTo>
                        <a:pt x="234" y="15"/>
                      </a:lnTo>
                      <a:lnTo>
                        <a:pt x="226" y="8"/>
                      </a:lnTo>
                      <a:lnTo>
                        <a:pt x="209" y="8"/>
                      </a:lnTo>
                      <a:lnTo>
                        <a:pt x="192" y="8"/>
                      </a:lnTo>
                      <a:lnTo>
                        <a:pt x="175" y="8"/>
                      </a:lnTo>
                      <a:lnTo>
                        <a:pt x="167" y="8"/>
                      </a:lnTo>
                      <a:lnTo>
                        <a:pt x="150" y="8"/>
                      </a:lnTo>
                      <a:lnTo>
                        <a:pt x="134" y="8"/>
                      </a:lnTo>
                      <a:lnTo>
                        <a:pt x="125" y="8"/>
                      </a:lnTo>
                      <a:lnTo>
                        <a:pt x="109" y="8"/>
                      </a:lnTo>
                      <a:lnTo>
                        <a:pt x="92" y="8"/>
                      </a:lnTo>
                      <a:lnTo>
                        <a:pt x="75" y="8"/>
                      </a:lnTo>
                      <a:lnTo>
                        <a:pt x="58" y="0"/>
                      </a:lnTo>
                      <a:lnTo>
                        <a:pt x="50" y="0"/>
                      </a:lnTo>
                      <a:lnTo>
                        <a:pt x="33" y="0"/>
                      </a:lnTo>
                      <a:lnTo>
                        <a:pt x="17" y="0"/>
                      </a:lnTo>
                      <a:lnTo>
                        <a:pt x="0" y="0"/>
                      </a:lnTo>
                    </a:path>
                  </a:pathLst>
                </a:custGeom>
                <a:noFill/>
                <a:ln w="0">
                  <a:solidFill>
                    <a:srgbClr val="000000"/>
                  </a:solid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Freeform 706"/>
                <p:cNvSpPr/>
                <p:nvPr/>
              </p:nvSpPr>
              <p:spPr>
                <a:xfrm flipH="1">
                  <a:off x="514440" y="1938240"/>
                  <a:ext cx="56520" cy="40320"/>
                </a:xfrm>
                <a:custGeom>
                  <a:avLst/>
                  <a:gdLst>
                    <a:gd name="textAreaLeft" fmla="*/ -360 w 56520"/>
                    <a:gd name="textAreaRight" fmla="*/ 56520 w 56520"/>
                    <a:gd name="textAreaTop" fmla="*/ 0 h 40320"/>
                    <a:gd name="textAreaBottom" fmla="*/ 40680 h 40320"/>
                  </a:gdLst>
                  <a:ahLst/>
                  <a:rect l="textAreaLeft" t="textAreaTop" r="textAreaRight" b="textAreaBottom"/>
                  <a:pathLst>
                    <a:path w="284" h="193">
                      <a:moveTo>
                        <a:pt x="25" y="16"/>
                      </a:moveTo>
                      <a:lnTo>
                        <a:pt x="16" y="31"/>
                      </a:lnTo>
                      <a:lnTo>
                        <a:pt x="16" y="46"/>
                      </a:lnTo>
                      <a:lnTo>
                        <a:pt x="8" y="70"/>
                      </a:lnTo>
                      <a:lnTo>
                        <a:pt x="8" y="93"/>
                      </a:lnTo>
                      <a:lnTo>
                        <a:pt x="8" y="108"/>
                      </a:lnTo>
                      <a:lnTo>
                        <a:pt x="0" y="131"/>
                      </a:lnTo>
                      <a:lnTo>
                        <a:pt x="0" y="146"/>
                      </a:lnTo>
                      <a:lnTo>
                        <a:pt x="8" y="154"/>
                      </a:lnTo>
                      <a:lnTo>
                        <a:pt x="16" y="162"/>
                      </a:lnTo>
                      <a:lnTo>
                        <a:pt x="25" y="170"/>
                      </a:lnTo>
                      <a:lnTo>
                        <a:pt x="41" y="177"/>
                      </a:lnTo>
                      <a:lnTo>
                        <a:pt x="50" y="185"/>
                      </a:lnTo>
                      <a:lnTo>
                        <a:pt x="75" y="193"/>
                      </a:lnTo>
                      <a:lnTo>
                        <a:pt x="91" y="193"/>
                      </a:lnTo>
                      <a:lnTo>
                        <a:pt x="117" y="193"/>
                      </a:lnTo>
                      <a:lnTo>
                        <a:pt x="133" y="193"/>
                      </a:lnTo>
                      <a:lnTo>
                        <a:pt x="158" y="193"/>
                      </a:lnTo>
                      <a:lnTo>
                        <a:pt x="175" y="193"/>
                      </a:lnTo>
                      <a:lnTo>
                        <a:pt x="200" y="193"/>
                      </a:lnTo>
                      <a:lnTo>
                        <a:pt x="217" y="185"/>
                      </a:lnTo>
                      <a:lnTo>
                        <a:pt x="242" y="177"/>
                      </a:lnTo>
                      <a:lnTo>
                        <a:pt x="259" y="170"/>
                      </a:lnTo>
                      <a:lnTo>
                        <a:pt x="267" y="162"/>
                      </a:lnTo>
                      <a:lnTo>
                        <a:pt x="284" y="154"/>
                      </a:lnTo>
                      <a:lnTo>
                        <a:pt x="275" y="116"/>
                      </a:lnTo>
                      <a:lnTo>
                        <a:pt x="275" y="77"/>
                      </a:lnTo>
                      <a:lnTo>
                        <a:pt x="275" y="39"/>
                      </a:lnTo>
                      <a:lnTo>
                        <a:pt x="275" y="0"/>
                      </a:lnTo>
                      <a:lnTo>
                        <a:pt x="259" y="0"/>
                      </a:lnTo>
                      <a:lnTo>
                        <a:pt x="242" y="0"/>
                      </a:lnTo>
                      <a:lnTo>
                        <a:pt x="225" y="0"/>
                      </a:lnTo>
                      <a:lnTo>
                        <a:pt x="208" y="0"/>
                      </a:lnTo>
                      <a:lnTo>
                        <a:pt x="192" y="0"/>
                      </a:lnTo>
                      <a:lnTo>
                        <a:pt x="183" y="0"/>
                      </a:lnTo>
                      <a:lnTo>
                        <a:pt x="167" y="8"/>
                      </a:lnTo>
                      <a:lnTo>
                        <a:pt x="150" y="8"/>
                      </a:lnTo>
                      <a:lnTo>
                        <a:pt x="133" y="8"/>
                      </a:lnTo>
                      <a:lnTo>
                        <a:pt x="117" y="8"/>
                      </a:lnTo>
                      <a:lnTo>
                        <a:pt x="100" y="8"/>
                      </a:lnTo>
                      <a:lnTo>
                        <a:pt x="83" y="8"/>
                      </a:lnTo>
                      <a:lnTo>
                        <a:pt x="66" y="8"/>
                      </a:lnTo>
                      <a:lnTo>
                        <a:pt x="50" y="16"/>
                      </a:lnTo>
                      <a:lnTo>
                        <a:pt x="41" y="16"/>
                      </a:lnTo>
                      <a:lnTo>
                        <a:pt x="25" y="16"/>
                      </a:lnTo>
                      <a:close/>
                    </a:path>
                  </a:pathLst>
                </a:custGeom>
                <a:solidFill>
                  <a:srgbClr val="990000"/>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Freeform 705"/>
                <p:cNvSpPr/>
                <p:nvPr/>
              </p:nvSpPr>
              <p:spPr>
                <a:xfrm flipH="1">
                  <a:off x="514440" y="1938240"/>
                  <a:ext cx="56520" cy="40320"/>
                </a:xfrm>
                <a:custGeom>
                  <a:avLst/>
                  <a:gdLst>
                    <a:gd name="textAreaLeft" fmla="*/ -360 w 56520"/>
                    <a:gd name="textAreaRight" fmla="*/ 56520 w 56520"/>
                    <a:gd name="textAreaTop" fmla="*/ 0 h 40320"/>
                    <a:gd name="textAreaBottom" fmla="*/ 40680 h 40320"/>
                  </a:gdLst>
                  <a:ahLst/>
                  <a:rect l="textAreaLeft" t="textAreaTop" r="textAreaRight" b="textAreaBottom"/>
                  <a:pathLst>
                    <a:path w="284" h="193">
                      <a:moveTo>
                        <a:pt x="25" y="16"/>
                      </a:moveTo>
                      <a:lnTo>
                        <a:pt x="16" y="31"/>
                      </a:lnTo>
                      <a:lnTo>
                        <a:pt x="16" y="46"/>
                      </a:lnTo>
                      <a:lnTo>
                        <a:pt x="8" y="70"/>
                      </a:lnTo>
                      <a:lnTo>
                        <a:pt x="8" y="93"/>
                      </a:lnTo>
                      <a:lnTo>
                        <a:pt x="8" y="108"/>
                      </a:lnTo>
                      <a:lnTo>
                        <a:pt x="0" y="131"/>
                      </a:lnTo>
                      <a:lnTo>
                        <a:pt x="0" y="146"/>
                      </a:lnTo>
                      <a:lnTo>
                        <a:pt x="8" y="154"/>
                      </a:lnTo>
                      <a:lnTo>
                        <a:pt x="16" y="162"/>
                      </a:lnTo>
                      <a:lnTo>
                        <a:pt x="25" y="170"/>
                      </a:lnTo>
                      <a:lnTo>
                        <a:pt x="41" y="177"/>
                      </a:lnTo>
                      <a:lnTo>
                        <a:pt x="50" y="185"/>
                      </a:lnTo>
                      <a:lnTo>
                        <a:pt x="75" y="193"/>
                      </a:lnTo>
                      <a:lnTo>
                        <a:pt x="91" y="193"/>
                      </a:lnTo>
                      <a:lnTo>
                        <a:pt x="117" y="193"/>
                      </a:lnTo>
                      <a:lnTo>
                        <a:pt x="133" y="193"/>
                      </a:lnTo>
                      <a:lnTo>
                        <a:pt x="158" y="193"/>
                      </a:lnTo>
                      <a:lnTo>
                        <a:pt x="175" y="193"/>
                      </a:lnTo>
                      <a:lnTo>
                        <a:pt x="200" y="193"/>
                      </a:lnTo>
                      <a:lnTo>
                        <a:pt x="217" y="185"/>
                      </a:lnTo>
                      <a:lnTo>
                        <a:pt x="242" y="177"/>
                      </a:lnTo>
                      <a:lnTo>
                        <a:pt x="259" y="170"/>
                      </a:lnTo>
                      <a:lnTo>
                        <a:pt x="267" y="162"/>
                      </a:lnTo>
                      <a:lnTo>
                        <a:pt x="284" y="154"/>
                      </a:lnTo>
                      <a:lnTo>
                        <a:pt x="275" y="116"/>
                      </a:lnTo>
                      <a:lnTo>
                        <a:pt x="275" y="77"/>
                      </a:lnTo>
                      <a:lnTo>
                        <a:pt x="275" y="39"/>
                      </a:lnTo>
                      <a:lnTo>
                        <a:pt x="275" y="0"/>
                      </a:lnTo>
                      <a:lnTo>
                        <a:pt x="259" y="0"/>
                      </a:lnTo>
                      <a:lnTo>
                        <a:pt x="242" y="0"/>
                      </a:lnTo>
                      <a:lnTo>
                        <a:pt x="225" y="0"/>
                      </a:lnTo>
                      <a:lnTo>
                        <a:pt x="208" y="0"/>
                      </a:lnTo>
                      <a:lnTo>
                        <a:pt x="192" y="0"/>
                      </a:lnTo>
                      <a:lnTo>
                        <a:pt x="183" y="0"/>
                      </a:lnTo>
                      <a:lnTo>
                        <a:pt x="167" y="8"/>
                      </a:lnTo>
                      <a:lnTo>
                        <a:pt x="150" y="8"/>
                      </a:lnTo>
                      <a:lnTo>
                        <a:pt x="133" y="8"/>
                      </a:lnTo>
                      <a:lnTo>
                        <a:pt x="117" y="8"/>
                      </a:lnTo>
                      <a:lnTo>
                        <a:pt x="100" y="8"/>
                      </a:lnTo>
                      <a:lnTo>
                        <a:pt x="83" y="8"/>
                      </a:lnTo>
                      <a:lnTo>
                        <a:pt x="66" y="8"/>
                      </a:lnTo>
                      <a:lnTo>
                        <a:pt x="50" y="16"/>
                      </a:lnTo>
                      <a:lnTo>
                        <a:pt x="41" y="16"/>
                      </a:lnTo>
                      <a:lnTo>
                        <a:pt x="25" y="16"/>
                      </a:lnTo>
                    </a:path>
                  </a:pathLst>
                </a:custGeom>
                <a:noFill/>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Freeform 704"/>
                <p:cNvSpPr/>
                <p:nvPr/>
              </p:nvSpPr>
              <p:spPr>
                <a:xfrm flipH="1">
                  <a:off x="477720" y="1938240"/>
                  <a:ext cx="3240" cy="30600"/>
                </a:xfrm>
                <a:custGeom>
                  <a:avLst/>
                  <a:gdLst>
                    <a:gd name="textAreaLeft" fmla="*/ -360 w 3240"/>
                    <a:gd name="textAreaRight" fmla="*/ 3240 w 3240"/>
                    <a:gd name="textAreaTop" fmla="*/ 0 h 30600"/>
                    <a:gd name="textAreaBottom" fmla="*/ 30960 h 30600"/>
                  </a:gdLst>
                  <a:ahLst/>
                  <a:rect l="textAreaLeft" t="textAreaTop" r="textAreaRight" b="textAreaBottom"/>
                  <a:pathLst>
                    <a:path w="17" h="146">
                      <a:moveTo>
                        <a:pt x="0" y="0"/>
                      </a:moveTo>
                      <a:lnTo>
                        <a:pt x="8" y="31"/>
                      </a:lnTo>
                      <a:lnTo>
                        <a:pt x="8" y="70"/>
                      </a:lnTo>
                      <a:lnTo>
                        <a:pt x="8" y="108"/>
                      </a:lnTo>
                      <a:lnTo>
                        <a:pt x="17" y="146"/>
                      </a:lnTo>
                    </a:path>
                  </a:pathLst>
                </a:custGeom>
                <a:noFill/>
                <a:ln w="0">
                  <a:solidFill>
                    <a:srgbClr val="000000"/>
                  </a:solid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Freeform 703"/>
                <p:cNvSpPr/>
                <p:nvPr/>
              </p:nvSpPr>
              <p:spPr>
                <a:xfrm flipH="1">
                  <a:off x="486000" y="1938240"/>
                  <a:ext cx="4680" cy="33840"/>
                </a:xfrm>
                <a:custGeom>
                  <a:avLst/>
                  <a:gdLst>
                    <a:gd name="textAreaLeft" fmla="*/ -360 w 4680"/>
                    <a:gd name="textAreaRight" fmla="*/ 4680 w 4680"/>
                    <a:gd name="textAreaTop" fmla="*/ 0 h 33840"/>
                    <a:gd name="textAreaBottom" fmla="*/ 34200 h 33840"/>
                  </a:gdLst>
                  <a:ahLst/>
                  <a:rect l="textAreaLeft" t="textAreaTop" r="textAreaRight" b="textAreaBottom"/>
                  <a:pathLst>
                    <a:path w="25" h="162">
                      <a:moveTo>
                        <a:pt x="0" y="0"/>
                      </a:moveTo>
                      <a:lnTo>
                        <a:pt x="8" y="39"/>
                      </a:lnTo>
                      <a:lnTo>
                        <a:pt x="8" y="77"/>
                      </a:lnTo>
                      <a:lnTo>
                        <a:pt x="16" y="123"/>
                      </a:lnTo>
                      <a:lnTo>
                        <a:pt x="25" y="162"/>
                      </a:lnTo>
                    </a:path>
                  </a:pathLst>
                </a:custGeom>
                <a:noFill/>
                <a:ln w="0">
                  <a:solidFill>
                    <a:srgbClr val="000000"/>
                  </a:solid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Freeform 702"/>
                <p:cNvSpPr/>
                <p:nvPr/>
              </p:nvSpPr>
              <p:spPr>
                <a:xfrm flipH="1">
                  <a:off x="494640" y="1936800"/>
                  <a:ext cx="4680" cy="35280"/>
                </a:xfrm>
                <a:custGeom>
                  <a:avLst/>
                  <a:gdLst>
                    <a:gd name="textAreaLeft" fmla="*/ -360 w 4680"/>
                    <a:gd name="textAreaRight" fmla="*/ 4680 w 4680"/>
                    <a:gd name="textAreaTop" fmla="*/ 0 h 35280"/>
                    <a:gd name="textAreaBottom" fmla="*/ 35640 h 35280"/>
                  </a:gdLst>
                  <a:ahLst/>
                  <a:rect l="textAreaLeft" t="textAreaTop" r="textAreaRight" b="textAreaBottom"/>
                  <a:pathLst>
                    <a:path w="25" h="169">
                      <a:moveTo>
                        <a:pt x="0" y="0"/>
                      </a:moveTo>
                      <a:lnTo>
                        <a:pt x="0" y="23"/>
                      </a:lnTo>
                      <a:lnTo>
                        <a:pt x="8" y="46"/>
                      </a:lnTo>
                      <a:lnTo>
                        <a:pt x="8" y="61"/>
                      </a:lnTo>
                      <a:lnTo>
                        <a:pt x="8" y="84"/>
                      </a:lnTo>
                      <a:lnTo>
                        <a:pt x="17" y="107"/>
                      </a:lnTo>
                      <a:lnTo>
                        <a:pt x="17" y="123"/>
                      </a:lnTo>
                      <a:lnTo>
                        <a:pt x="17" y="146"/>
                      </a:lnTo>
                      <a:lnTo>
                        <a:pt x="25" y="169"/>
                      </a:lnTo>
                    </a:path>
                  </a:pathLst>
                </a:custGeom>
                <a:noFill/>
                <a:ln w="0">
                  <a:solidFill>
                    <a:srgbClr val="000000"/>
                  </a:solid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Freeform 701"/>
                <p:cNvSpPr/>
                <p:nvPr/>
              </p:nvSpPr>
              <p:spPr>
                <a:xfrm flipH="1">
                  <a:off x="506160" y="1936800"/>
                  <a:ext cx="4680" cy="33480"/>
                </a:xfrm>
                <a:custGeom>
                  <a:avLst/>
                  <a:gdLst>
                    <a:gd name="textAreaLeft" fmla="*/ -360 w 4680"/>
                    <a:gd name="textAreaRight" fmla="*/ 4680 w 4680"/>
                    <a:gd name="textAreaTop" fmla="*/ 0 h 33480"/>
                    <a:gd name="textAreaBottom" fmla="*/ 33840 h 33480"/>
                  </a:gdLst>
                  <a:ahLst/>
                  <a:rect l="textAreaLeft" t="textAreaTop" r="textAreaRight" b="textAreaBottom"/>
                  <a:pathLst>
                    <a:path w="25" h="161">
                      <a:moveTo>
                        <a:pt x="0" y="0"/>
                      </a:moveTo>
                      <a:lnTo>
                        <a:pt x="0" y="23"/>
                      </a:lnTo>
                      <a:lnTo>
                        <a:pt x="9" y="38"/>
                      </a:lnTo>
                      <a:lnTo>
                        <a:pt x="9" y="61"/>
                      </a:lnTo>
                      <a:lnTo>
                        <a:pt x="17" y="77"/>
                      </a:lnTo>
                      <a:lnTo>
                        <a:pt x="17" y="100"/>
                      </a:lnTo>
                      <a:lnTo>
                        <a:pt x="17" y="115"/>
                      </a:lnTo>
                      <a:lnTo>
                        <a:pt x="25" y="138"/>
                      </a:lnTo>
                      <a:lnTo>
                        <a:pt x="25" y="161"/>
                      </a:lnTo>
                    </a:path>
                  </a:pathLst>
                </a:custGeom>
                <a:noFill/>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Freeform 700"/>
                <p:cNvSpPr/>
                <p:nvPr/>
              </p:nvSpPr>
              <p:spPr>
                <a:xfrm flipH="1">
                  <a:off x="471240" y="1936800"/>
                  <a:ext cx="1440" cy="30600"/>
                </a:xfrm>
                <a:custGeom>
                  <a:avLst/>
                  <a:gdLst>
                    <a:gd name="textAreaLeft" fmla="*/ 360 w 1440"/>
                    <a:gd name="textAreaRight" fmla="*/ 2160 w 1440"/>
                    <a:gd name="textAreaTop" fmla="*/ 0 h 30600"/>
                    <a:gd name="textAreaBottom" fmla="*/ 30960 h 30600"/>
                  </a:gdLst>
                  <a:ahLst/>
                  <a:rect l="textAreaLeft" t="textAreaTop" r="textAreaRight" b="textAreaBottom"/>
                  <a:pathLst>
                    <a:path w="8" h="146">
                      <a:moveTo>
                        <a:pt x="0" y="0"/>
                      </a:moveTo>
                      <a:lnTo>
                        <a:pt x="0" y="38"/>
                      </a:lnTo>
                      <a:lnTo>
                        <a:pt x="8" y="77"/>
                      </a:lnTo>
                      <a:lnTo>
                        <a:pt x="8" y="107"/>
                      </a:lnTo>
                      <a:lnTo>
                        <a:pt x="8" y="146"/>
                      </a:lnTo>
                    </a:path>
                  </a:pathLst>
                </a:custGeom>
                <a:noFill/>
                <a:ln w="0">
                  <a:solidFill>
                    <a:srgbClr val="000000"/>
                  </a:solid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Freeform 699"/>
                <p:cNvSpPr/>
                <p:nvPr/>
              </p:nvSpPr>
              <p:spPr>
                <a:xfrm flipH="1">
                  <a:off x="527760" y="193680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7"/>
                      </a:lnTo>
                      <a:lnTo>
                        <a:pt x="8" y="0"/>
                      </a:lnTo>
                      <a:lnTo>
                        <a:pt x="0" y="7"/>
                      </a:lnTo>
                      <a:lnTo>
                        <a:pt x="0" y="15"/>
                      </a:lnTo>
                      <a:lnTo>
                        <a:pt x="17"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Freeform 698"/>
                <p:cNvSpPr/>
                <p:nvPr/>
              </p:nvSpPr>
              <p:spPr>
                <a:xfrm flipH="1">
                  <a:off x="527760" y="193680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7"/>
                      </a:lnTo>
                      <a:lnTo>
                        <a:pt x="8" y="0"/>
                      </a:lnTo>
                      <a:lnTo>
                        <a:pt x="0" y="7"/>
                      </a:lnTo>
                      <a:lnTo>
                        <a:pt x="0" y="15"/>
                      </a:lnTo>
                      <a:lnTo>
                        <a:pt x="17"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Freeform 697"/>
                <p:cNvSpPr/>
                <p:nvPr/>
              </p:nvSpPr>
              <p:spPr>
                <a:xfrm flipH="1">
                  <a:off x="524880" y="1940040"/>
                  <a:ext cx="6480" cy="35280"/>
                </a:xfrm>
                <a:custGeom>
                  <a:avLst/>
                  <a:gdLst>
                    <a:gd name="textAreaLeft" fmla="*/ 360 w 6480"/>
                    <a:gd name="textAreaRight" fmla="*/ 7200 w 6480"/>
                    <a:gd name="textAreaTop" fmla="*/ 0 h 35280"/>
                    <a:gd name="textAreaBottom" fmla="*/ 35640 h 35280"/>
                  </a:gdLst>
                  <a:ahLst/>
                  <a:rect l="textAreaLeft" t="textAreaTop" r="textAreaRight" b="textAreaBottom"/>
                  <a:pathLst>
                    <a:path w="34" h="169">
                      <a:moveTo>
                        <a:pt x="34" y="169"/>
                      </a:moveTo>
                      <a:lnTo>
                        <a:pt x="34" y="162"/>
                      </a:lnTo>
                      <a:lnTo>
                        <a:pt x="34" y="146"/>
                      </a:lnTo>
                      <a:lnTo>
                        <a:pt x="34" y="138"/>
                      </a:lnTo>
                      <a:lnTo>
                        <a:pt x="25" y="131"/>
                      </a:lnTo>
                      <a:lnTo>
                        <a:pt x="25" y="115"/>
                      </a:lnTo>
                      <a:lnTo>
                        <a:pt x="25" y="108"/>
                      </a:lnTo>
                      <a:lnTo>
                        <a:pt x="25" y="92"/>
                      </a:lnTo>
                      <a:lnTo>
                        <a:pt x="25" y="85"/>
                      </a:lnTo>
                      <a:lnTo>
                        <a:pt x="25" y="69"/>
                      </a:lnTo>
                      <a:lnTo>
                        <a:pt x="25" y="62"/>
                      </a:lnTo>
                      <a:lnTo>
                        <a:pt x="25" y="54"/>
                      </a:lnTo>
                      <a:lnTo>
                        <a:pt x="25" y="38"/>
                      </a:lnTo>
                      <a:lnTo>
                        <a:pt x="25" y="31"/>
                      </a:lnTo>
                      <a:lnTo>
                        <a:pt x="25" y="15"/>
                      </a:lnTo>
                      <a:lnTo>
                        <a:pt x="17" y="8"/>
                      </a:lnTo>
                      <a:lnTo>
                        <a:pt x="17" y="0"/>
                      </a:lnTo>
                      <a:lnTo>
                        <a:pt x="0" y="0"/>
                      </a:lnTo>
                      <a:lnTo>
                        <a:pt x="0" y="8"/>
                      </a:lnTo>
                      <a:lnTo>
                        <a:pt x="0" y="23"/>
                      </a:lnTo>
                      <a:lnTo>
                        <a:pt x="0" y="31"/>
                      </a:lnTo>
                      <a:lnTo>
                        <a:pt x="0" y="38"/>
                      </a:lnTo>
                      <a:lnTo>
                        <a:pt x="0" y="54"/>
                      </a:lnTo>
                      <a:lnTo>
                        <a:pt x="0" y="62"/>
                      </a:lnTo>
                      <a:lnTo>
                        <a:pt x="8" y="77"/>
                      </a:lnTo>
                      <a:lnTo>
                        <a:pt x="8" y="85"/>
                      </a:lnTo>
                      <a:lnTo>
                        <a:pt x="8" y="92"/>
                      </a:lnTo>
                      <a:lnTo>
                        <a:pt x="8" y="108"/>
                      </a:lnTo>
                      <a:lnTo>
                        <a:pt x="8" y="115"/>
                      </a:lnTo>
                      <a:lnTo>
                        <a:pt x="8" y="131"/>
                      </a:lnTo>
                      <a:lnTo>
                        <a:pt x="8" y="138"/>
                      </a:lnTo>
                      <a:lnTo>
                        <a:pt x="8" y="154"/>
                      </a:lnTo>
                      <a:lnTo>
                        <a:pt x="8" y="162"/>
                      </a:lnTo>
                      <a:lnTo>
                        <a:pt x="8" y="169"/>
                      </a:lnTo>
                      <a:lnTo>
                        <a:pt x="34" y="169"/>
                      </a:lnTo>
                      <a:close/>
                    </a:path>
                  </a:pathLst>
                </a:custGeom>
                <a:solidFill>
                  <a:srgbClr val="00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Freeform 696"/>
                <p:cNvSpPr/>
                <p:nvPr/>
              </p:nvSpPr>
              <p:spPr>
                <a:xfrm flipH="1">
                  <a:off x="524880" y="1940040"/>
                  <a:ext cx="6480" cy="35280"/>
                </a:xfrm>
                <a:custGeom>
                  <a:avLst/>
                  <a:gdLst>
                    <a:gd name="textAreaLeft" fmla="*/ 360 w 6480"/>
                    <a:gd name="textAreaRight" fmla="*/ 7200 w 6480"/>
                    <a:gd name="textAreaTop" fmla="*/ 0 h 35280"/>
                    <a:gd name="textAreaBottom" fmla="*/ 35640 h 35280"/>
                  </a:gdLst>
                  <a:ahLst/>
                  <a:rect l="textAreaLeft" t="textAreaTop" r="textAreaRight" b="textAreaBottom"/>
                  <a:pathLst>
                    <a:path w="34" h="169">
                      <a:moveTo>
                        <a:pt x="34" y="169"/>
                      </a:moveTo>
                      <a:lnTo>
                        <a:pt x="34" y="162"/>
                      </a:lnTo>
                      <a:lnTo>
                        <a:pt x="34" y="146"/>
                      </a:lnTo>
                      <a:lnTo>
                        <a:pt x="34" y="138"/>
                      </a:lnTo>
                      <a:lnTo>
                        <a:pt x="25" y="131"/>
                      </a:lnTo>
                      <a:lnTo>
                        <a:pt x="25" y="115"/>
                      </a:lnTo>
                      <a:lnTo>
                        <a:pt x="25" y="108"/>
                      </a:lnTo>
                      <a:lnTo>
                        <a:pt x="25" y="92"/>
                      </a:lnTo>
                      <a:lnTo>
                        <a:pt x="25" y="85"/>
                      </a:lnTo>
                      <a:lnTo>
                        <a:pt x="25" y="69"/>
                      </a:lnTo>
                      <a:lnTo>
                        <a:pt x="25" y="62"/>
                      </a:lnTo>
                      <a:lnTo>
                        <a:pt x="25" y="54"/>
                      </a:lnTo>
                      <a:lnTo>
                        <a:pt x="25" y="38"/>
                      </a:lnTo>
                      <a:lnTo>
                        <a:pt x="25" y="31"/>
                      </a:lnTo>
                      <a:lnTo>
                        <a:pt x="25" y="15"/>
                      </a:lnTo>
                      <a:lnTo>
                        <a:pt x="17" y="8"/>
                      </a:lnTo>
                      <a:lnTo>
                        <a:pt x="17" y="0"/>
                      </a:lnTo>
                      <a:lnTo>
                        <a:pt x="0" y="0"/>
                      </a:lnTo>
                      <a:lnTo>
                        <a:pt x="0" y="8"/>
                      </a:lnTo>
                      <a:lnTo>
                        <a:pt x="0" y="23"/>
                      </a:lnTo>
                      <a:lnTo>
                        <a:pt x="0" y="31"/>
                      </a:lnTo>
                      <a:lnTo>
                        <a:pt x="0" y="38"/>
                      </a:lnTo>
                      <a:lnTo>
                        <a:pt x="0" y="54"/>
                      </a:lnTo>
                      <a:lnTo>
                        <a:pt x="0" y="62"/>
                      </a:lnTo>
                      <a:lnTo>
                        <a:pt x="8" y="77"/>
                      </a:lnTo>
                      <a:lnTo>
                        <a:pt x="8" y="85"/>
                      </a:lnTo>
                      <a:lnTo>
                        <a:pt x="8" y="92"/>
                      </a:lnTo>
                      <a:lnTo>
                        <a:pt x="8" y="108"/>
                      </a:lnTo>
                      <a:lnTo>
                        <a:pt x="8" y="115"/>
                      </a:lnTo>
                      <a:lnTo>
                        <a:pt x="8" y="131"/>
                      </a:lnTo>
                      <a:lnTo>
                        <a:pt x="8" y="138"/>
                      </a:lnTo>
                      <a:lnTo>
                        <a:pt x="8" y="154"/>
                      </a:lnTo>
                      <a:lnTo>
                        <a:pt x="8" y="162"/>
                      </a:lnTo>
                      <a:lnTo>
                        <a:pt x="8" y="169"/>
                      </a:lnTo>
                      <a:lnTo>
                        <a:pt x="34" y="169"/>
                      </a:lnTo>
                    </a:path>
                  </a:pathLst>
                </a:custGeom>
                <a:noFill/>
                <a:ln w="0">
                  <a:solidFill>
                    <a:srgbClr val="000000"/>
                  </a:solid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Freeform 695"/>
                <p:cNvSpPr/>
                <p:nvPr/>
              </p:nvSpPr>
              <p:spPr>
                <a:xfrm flipH="1">
                  <a:off x="527760" y="19400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8"/>
                      </a:lnTo>
                      <a:lnTo>
                        <a:pt x="8" y="8"/>
                      </a:lnTo>
                      <a:lnTo>
                        <a:pt x="17"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Freeform 694"/>
                <p:cNvSpPr/>
                <p:nvPr/>
              </p:nvSpPr>
              <p:spPr>
                <a:xfrm flipH="1">
                  <a:off x="527760" y="19400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8"/>
                      </a:lnTo>
                      <a:lnTo>
                        <a:pt x="8" y="8"/>
                      </a:lnTo>
                      <a:lnTo>
                        <a:pt x="17"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Freeform 693"/>
                <p:cNvSpPr/>
                <p:nvPr/>
              </p:nvSpPr>
              <p:spPr>
                <a:xfrm flipH="1">
                  <a:off x="519480" y="193680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7">
                      <a:moveTo>
                        <a:pt x="17" y="7"/>
                      </a:moveTo>
                      <a:lnTo>
                        <a:pt x="17" y="0"/>
                      </a:lnTo>
                      <a:lnTo>
                        <a:pt x="8" y="0"/>
                      </a:lnTo>
                      <a:lnTo>
                        <a:pt x="0" y="0"/>
                      </a:lnTo>
                      <a:lnTo>
                        <a:pt x="0" y="7"/>
                      </a:lnTo>
                      <a:lnTo>
                        <a:pt x="17" y="7"/>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Freeform 692"/>
                <p:cNvSpPr/>
                <p:nvPr/>
              </p:nvSpPr>
              <p:spPr>
                <a:xfrm flipH="1">
                  <a:off x="519480" y="193680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7">
                      <a:moveTo>
                        <a:pt x="17" y="7"/>
                      </a:moveTo>
                      <a:lnTo>
                        <a:pt x="17" y="0"/>
                      </a:lnTo>
                      <a:lnTo>
                        <a:pt x="8" y="0"/>
                      </a:lnTo>
                      <a:lnTo>
                        <a:pt x="0" y="0"/>
                      </a:lnTo>
                      <a:lnTo>
                        <a:pt x="0" y="7"/>
                      </a:lnTo>
                      <a:lnTo>
                        <a:pt x="17" y="7"/>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Freeform 691"/>
                <p:cNvSpPr/>
                <p:nvPr/>
              </p:nvSpPr>
              <p:spPr>
                <a:xfrm flipH="1">
                  <a:off x="518040" y="1938240"/>
                  <a:ext cx="4680" cy="33840"/>
                </a:xfrm>
                <a:custGeom>
                  <a:avLst/>
                  <a:gdLst>
                    <a:gd name="textAreaLeft" fmla="*/ -360 w 4680"/>
                    <a:gd name="textAreaRight" fmla="*/ 4680 w 4680"/>
                    <a:gd name="textAreaTop" fmla="*/ 0 h 33840"/>
                    <a:gd name="textAreaBottom" fmla="*/ 34200 h 33840"/>
                  </a:gdLst>
                  <a:ahLst/>
                  <a:rect l="textAreaLeft" t="textAreaTop" r="textAreaRight" b="textAreaBottom"/>
                  <a:pathLst>
                    <a:path w="25" h="162">
                      <a:moveTo>
                        <a:pt x="25" y="162"/>
                      </a:moveTo>
                      <a:lnTo>
                        <a:pt x="25" y="154"/>
                      </a:lnTo>
                      <a:lnTo>
                        <a:pt x="25" y="146"/>
                      </a:lnTo>
                      <a:lnTo>
                        <a:pt x="25" y="131"/>
                      </a:lnTo>
                      <a:lnTo>
                        <a:pt x="25" y="123"/>
                      </a:lnTo>
                      <a:lnTo>
                        <a:pt x="25" y="116"/>
                      </a:lnTo>
                      <a:lnTo>
                        <a:pt x="25" y="100"/>
                      </a:lnTo>
                      <a:lnTo>
                        <a:pt x="25" y="93"/>
                      </a:lnTo>
                      <a:lnTo>
                        <a:pt x="25" y="85"/>
                      </a:lnTo>
                      <a:lnTo>
                        <a:pt x="25" y="70"/>
                      </a:lnTo>
                      <a:lnTo>
                        <a:pt x="25" y="62"/>
                      </a:lnTo>
                      <a:lnTo>
                        <a:pt x="25" y="54"/>
                      </a:lnTo>
                      <a:lnTo>
                        <a:pt x="25" y="39"/>
                      </a:lnTo>
                      <a:lnTo>
                        <a:pt x="25" y="31"/>
                      </a:lnTo>
                      <a:lnTo>
                        <a:pt x="25" y="23"/>
                      </a:lnTo>
                      <a:lnTo>
                        <a:pt x="17" y="8"/>
                      </a:lnTo>
                      <a:lnTo>
                        <a:pt x="17" y="0"/>
                      </a:lnTo>
                      <a:lnTo>
                        <a:pt x="0" y="0"/>
                      </a:lnTo>
                      <a:lnTo>
                        <a:pt x="0" y="8"/>
                      </a:lnTo>
                      <a:lnTo>
                        <a:pt x="0" y="23"/>
                      </a:lnTo>
                      <a:lnTo>
                        <a:pt x="0" y="31"/>
                      </a:lnTo>
                      <a:lnTo>
                        <a:pt x="0" y="39"/>
                      </a:lnTo>
                      <a:lnTo>
                        <a:pt x="0" y="54"/>
                      </a:lnTo>
                      <a:lnTo>
                        <a:pt x="0" y="62"/>
                      </a:lnTo>
                      <a:lnTo>
                        <a:pt x="0" y="70"/>
                      </a:lnTo>
                      <a:lnTo>
                        <a:pt x="0" y="85"/>
                      </a:lnTo>
                      <a:lnTo>
                        <a:pt x="0" y="93"/>
                      </a:lnTo>
                      <a:lnTo>
                        <a:pt x="0" y="100"/>
                      </a:lnTo>
                      <a:lnTo>
                        <a:pt x="0" y="116"/>
                      </a:lnTo>
                      <a:lnTo>
                        <a:pt x="0" y="123"/>
                      </a:lnTo>
                      <a:lnTo>
                        <a:pt x="0" y="131"/>
                      </a:lnTo>
                      <a:lnTo>
                        <a:pt x="0" y="146"/>
                      </a:lnTo>
                      <a:lnTo>
                        <a:pt x="0" y="154"/>
                      </a:lnTo>
                      <a:lnTo>
                        <a:pt x="8" y="162"/>
                      </a:lnTo>
                      <a:lnTo>
                        <a:pt x="25" y="162"/>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Freeform 690"/>
                <p:cNvSpPr/>
                <p:nvPr/>
              </p:nvSpPr>
              <p:spPr>
                <a:xfrm flipH="1">
                  <a:off x="518040" y="1938240"/>
                  <a:ext cx="4680" cy="33840"/>
                </a:xfrm>
                <a:custGeom>
                  <a:avLst/>
                  <a:gdLst>
                    <a:gd name="textAreaLeft" fmla="*/ -360 w 4680"/>
                    <a:gd name="textAreaRight" fmla="*/ 4680 w 4680"/>
                    <a:gd name="textAreaTop" fmla="*/ 0 h 33840"/>
                    <a:gd name="textAreaBottom" fmla="*/ 34200 h 33840"/>
                  </a:gdLst>
                  <a:ahLst/>
                  <a:rect l="textAreaLeft" t="textAreaTop" r="textAreaRight" b="textAreaBottom"/>
                  <a:pathLst>
                    <a:path w="25" h="162">
                      <a:moveTo>
                        <a:pt x="25" y="162"/>
                      </a:moveTo>
                      <a:lnTo>
                        <a:pt x="25" y="154"/>
                      </a:lnTo>
                      <a:lnTo>
                        <a:pt x="25" y="146"/>
                      </a:lnTo>
                      <a:lnTo>
                        <a:pt x="25" y="131"/>
                      </a:lnTo>
                      <a:lnTo>
                        <a:pt x="25" y="123"/>
                      </a:lnTo>
                      <a:lnTo>
                        <a:pt x="25" y="116"/>
                      </a:lnTo>
                      <a:lnTo>
                        <a:pt x="25" y="100"/>
                      </a:lnTo>
                      <a:lnTo>
                        <a:pt x="25" y="93"/>
                      </a:lnTo>
                      <a:lnTo>
                        <a:pt x="25" y="85"/>
                      </a:lnTo>
                      <a:lnTo>
                        <a:pt x="25" y="70"/>
                      </a:lnTo>
                      <a:lnTo>
                        <a:pt x="25" y="62"/>
                      </a:lnTo>
                      <a:lnTo>
                        <a:pt x="25" y="54"/>
                      </a:lnTo>
                      <a:lnTo>
                        <a:pt x="25" y="39"/>
                      </a:lnTo>
                      <a:lnTo>
                        <a:pt x="25" y="31"/>
                      </a:lnTo>
                      <a:lnTo>
                        <a:pt x="25" y="23"/>
                      </a:lnTo>
                      <a:lnTo>
                        <a:pt x="17" y="8"/>
                      </a:lnTo>
                      <a:lnTo>
                        <a:pt x="17" y="0"/>
                      </a:lnTo>
                      <a:lnTo>
                        <a:pt x="0" y="0"/>
                      </a:lnTo>
                      <a:lnTo>
                        <a:pt x="0" y="8"/>
                      </a:lnTo>
                      <a:lnTo>
                        <a:pt x="0" y="23"/>
                      </a:lnTo>
                      <a:lnTo>
                        <a:pt x="0" y="31"/>
                      </a:lnTo>
                      <a:lnTo>
                        <a:pt x="0" y="39"/>
                      </a:lnTo>
                      <a:lnTo>
                        <a:pt x="0" y="54"/>
                      </a:lnTo>
                      <a:lnTo>
                        <a:pt x="0" y="62"/>
                      </a:lnTo>
                      <a:lnTo>
                        <a:pt x="0" y="70"/>
                      </a:lnTo>
                      <a:lnTo>
                        <a:pt x="0" y="85"/>
                      </a:lnTo>
                      <a:lnTo>
                        <a:pt x="0" y="93"/>
                      </a:lnTo>
                      <a:lnTo>
                        <a:pt x="0" y="100"/>
                      </a:lnTo>
                      <a:lnTo>
                        <a:pt x="0" y="116"/>
                      </a:lnTo>
                      <a:lnTo>
                        <a:pt x="0" y="123"/>
                      </a:lnTo>
                      <a:lnTo>
                        <a:pt x="0" y="131"/>
                      </a:lnTo>
                      <a:lnTo>
                        <a:pt x="0" y="146"/>
                      </a:lnTo>
                      <a:lnTo>
                        <a:pt x="0" y="154"/>
                      </a:lnTo>
                      <a:lnTo>
                        <a:pt x="8" y="162"/>
                      </a:lnTo>
                      <a:lnTo>
                        <a:pt x="25" y="162"/>
                      </a:lnTo>
                    </a:path>
                  </a:pathLst>
                </a:custGeom>
                <a:noFill/>
                <a:ln w="0">
                  <a:solidFill>
                    <a:srgbClr val="000000"/>
                  </a:solid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Freeform 689"/>
                <p:cNvSpPr/>
                <p:nvPr/>
              </p:nvSpPr>
              <p:spPr>
                <a:xfrm flipH="1">
                  <a:off x="519480" y="19382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8"/>
                      </a:lnTo>
                      <a:lnTo>
                        <a:pt x="8" y="8"/>
                      </a:lnTo>
                      <a:lnTo>
                        <a:pt x="17" y="8"/>
                      </a:lnTo>
                      <a:lnTo>
                        <a:pt x="17"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Freeform 688"/>
                <p:cNvSpPr/>
                <p:nvPr/>
              </p:nvSpPr>
              <p:spPr>
                <a:xfrm flipH="1">
                  <a:off x="519480" y="19382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8"/>
                      </a:lnTo>
                      <a:lnTo>
                        <a:pt x="8" y="8"/>
                      </a:lnTo>
                      <a:lnTo>
                        <a:pt x="17" y="8"/>
                      </a:lnTo>
                      <a:lnTo>
                        <a:pt x="17"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Freeform 687"/>
                <p:cNvSpPr/>
                <p:nvPr/>
              </p:nvSpPr>
              <p:spPr>
                <a:xfrm flipH="1">
                  <a:off x="536040" y="19382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8"/>
                      </a:moveTo>
                      <a:lnTo>
                        <a:pt x="17" y="0"/>
                      </a:lnTo>
                      <a:lnTo>
                        <a:pt x="9" y="0"/>
                      </a:lnTo>
                      <a:lnTo>
                        <a:pt x="0" y="0"/>
                      </a:lnTo>
                      <a:lnTo>
                        <a:pt x="0" y="8"/>
                      </a:lnTo>
                      <a:lnTo>
                        <a:pt x="17"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Freeform 686"/>
                <p:cNvSpPr/>
                <p:nvPr/>
              </p:nvSpPr>
              <p:spPr>
                <a:xfrm flipH="1">
                  <a:off x="536040" y="19382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8"/>
                      </a:moveTo>
                      <a:lnTo>
                        <a:pt x="17" y="0"/>
                      </a:lnTo>
                      <a:lnTo>
                        <a:pt x="9" y="0"/>
                      </a:lnTo>
                      <a:lnTo>
                        <a:pt x="0" y="0"/>
                      </a:lnTo>
                      <a:lnTo>
                        <a:pt x="0" y="8"/>
                      </a:lnTo>
                      <a:lnTo>
                        <a:pt x="17"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Freeform 685"/>
                <p:cNvSpPr/>
                <p:nvPr/>
              </p:nvSpPr>
              <p:spPr>
                <a:xfrm flipH="1">
                  <a:off x="533160" y="1940040"/>
                  <a:ext cx="6480" cy="37080"/>
                </a:xfrm>
                <a:custGeom>
                  <a:avLst/>
                  <a:gdLst>
                    <a:gd name="textAreaLeft" fmla="*/ 360 w 6480"/>
                    <a:gd name="textAreaRight" fmla="*/ 7200 w 6480"/>
                    <a:gd name="textAreaTop" fmla="*/ 0 h 37080"/>
                    <a:gd name="textAreaBottom" fmla="*/ 37440 h 37080"/>
                  </a:gdLst>
                  <a:ahLst/>
                  <a:rect l="textAreaLeft" t="textAreaTop" r="textAreaRight" b="textAreaBottom"/>
                  <a:pathLst>
                    <a:path w="34" h="177">
                      <a:moveTo>
                        <a:pt x="34" y="177"/>
                      </a:moveTo>
                      <a:lnTo>
                        <a:pt x="25" y="169"/>
                      </a:lnTo>
                      <a:lnTo>
                        <a:pt x="25" y="154"/>
                      </a:lnTo>
                      <a:lnTo>
                        <a:pt x="25" y="146"/>
                      </a:lnTo>
                      <a:lnTo>
                        <a:pt x="25" y="131"/>
                      </a:lnTo>
                      <a:lnTo>
                        <a:pt x="25" y="123"/>
                      </a:lnTo>
                      <a:lnTo>
                        <a:pt x="25" y="108"/>
                      </a:lnTo>
                      <a:lnTo>
                        <a:pt x="25" y="100"/>
                      </a:lnTo>
                      <a:lnTo>
                        <a:pt x="25" y="92"/>
                      </a:lnTo>
                      <a:lnTo>
                        <a:pt x="25" y="77"/>
                      </a:lnTo>
                      <a:lnTo>
                        <a:pt x="25" y="69"/>
                      </a:lnTo>
                      <a:lnTo>
                        <a:pt x="25" y="54"/>
                      </a:lnTo>
                      <a:lnTo>
                        <a:pt x="17" y="46"/>
                      </a:lnTo>
                      <a:lnTo>
                        <a:pt x="17" y="31"/>
                      </a:lnTo>
                      <a:lnTo>
                        <a:pt x="17" y="23"/>
                      </a:lnTo>
                      <a:lnTo>
                        <a:pt x="17" y="8"/>
                      </a:lnTo>
                      <a:lnTo>
                        <a:pt x="17" y="0"/>
                      </a:lnTo>
                      <a:lnTo>
                        <a:pt x="0" y="0"/>
                      </a:lnTo>
                      <a:lnTo>
                        <a:pt x="0" y="8"/>
                      </a:lnTo>
                      <a:lnTo>
                        <a:pt x="0" y="23"/>
                      </a:lnTo>
                      <a:lnTo>
                        <a:pt x="0" y="31"/>
                      </a:lnTo>
                      <a:lnTo>
                        <a:pt x="0" y="46"/>
                      </a:lnTo>
                      <a:lnTo>
                        <a:pt x="0" y="54"/>
                      </a:lnTo>
                      <a:lnTo>
                        <a:pt x="0" y="69"/>
                      </a:lnTo>
                      <a:lnTo>
                        <a:pt x="0" y="77"/>
                      </a:lnTo>
                      <a:lnTo>
                        <a:pt x="0" y="92"/>
                      </a:lnTo>
                      <a:lnTo>
                        <a:pt x="9" y="100"/>
                      </a:lnTo>
                      <a:lnTo>
                        <a:pt x="9" y="115"/>
                      </a:lnTo>
                      <a:lnTo>
                        <a:pt x="9" y="123"/>
                      </a:lnTo>
                      <a:lnTo>
                        <a:pt x="9" y="131"/>
                      </a:lnTo>
                      <a:lnTo>
                        <a:pt x="9" y="146"/>
                      </a:lnTo>
                      <a:lnTo>
                        <a:pt x="9" y="154"/>
                      </a:lnTo>
                      <a:lnTo>
                        <a:pt x="9" y="169"/>
                      </a:lnTo>
                      <a:lnTo>
                        <a:pt x="9" y="177"/>
                      </a:lnTo>
                      <a:lnTo>
                        <a:pt x="34" y="177"/>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Freeform 684"/>
                <p:cNvSpPr/>
                <p:nvPr/>
              </p:nvSpPr>
              <p:spPr>
                <a:xfrm flipH="1">
                  <a:off x="533160" y="1940040"/>
                  <a:ext cx="6480" cy="37080"/>
                </a:xfrm>
                <a:custGeom>
                  <a:avLst/>
                  <a:gdLst>
                    <a:gd name="textAreaLeft" fmla="*/ 360 w 6480"/>
                    <a:gd name="textAreaRight" fmla="*/ 7200 w 6480"/>
                    <a:gd name="textAreaTop" fmla="*/ 0 h 37080"/>
                    <a:gd name="textAreaBottom" fmla="*/ 37440 h 37080"/>
                  </a:gdLst>
                  <a:ahLst/>
                  <a:rect l="textAreaLeft" t="textAreaTop" r="textAreaRight" b="textAreaBottom"/>
                  <a:pathLst>
                    <a:path w="34" h="177">
                      <a:moveTo>
                        <a:pt x="34" y="177"/>
                      </a:moveTo>
                      <a:lnTo>
                        <a:pt x="25" y="169"/>
                      </a:lnTo>
                      <a:lnTo>
                        <a:pt x="25" y="154"/>
                      </a:lnTo>
                      <a:lnTo>
                        <a:pt x="25" y="146"/>
                      </a:lnTo>
                      <a:lnTo>
                        <a:pt x="25" y="131"/>
                      </a:lnTo>
                      <a:lnTo>
                        <a:pt x="25" y="123"/>
                      </a:lnTo>
                      <a:lnTo>
                        <a:pt x="25" y="108"/>
                      </a:lnTo>
                      <a:lnTo>
                        <a:pt x="25" y="100"/>
                      </a:lnTo>
                      <a:lnTo>
                        <a:pt x="25" y="92"/>
                      </a:lnTo>
                      <a:lnTo>
                        <a:pt x="25" y="77"/>
                      </a:lnTo>
                      <a:lnTo>
                        <a:pt x="25" y="69"/>
                      </a:lnTo>
                      <a:lnTo>
                        <a:pt x="25" y="54"/>
                      </a:lnTo>
                      <a:lnTo>
                        <a:pt x="17" y="46"/>
                      </a:lnTo>
                      <a:lnTo>
                        <a:pt x="17" y="31"/>
                      </a:lnTo>
                      <a:lnTo>
                        <a:pt x="17" y="23"/>
                      </a:lnTo>
                      <a:lnTo>
                        <a:pt x="17" y="8"/>
                      </a:lnTo>
                      <a:lnTo>
                        <a:pt x="17" y="0"/>
                      </a:lnTo>
                      <a:lnTo>
                        <a:pt x="0" y="0"/>
                      </a:lnTo>
                      <a:lnTo>
                        <a:pt x="0" y="8"/>
                      </a:lnTo>
                      <a:lnTo>
                        <a:pt x="0" y="23"/>
                      </a:lnTo>
                      <a:lnTo>
                        <a:pt x="0" y="31"/>
                      </a:lnTo>
                      <a:lnTo>
                        <a:pt x="0" y="46"/>
                      </a:lnTo>
                      <a:lnTo>
                        <a:pt x="0" y="54"/>
                      </a:lnTo>
                      <a:lnTo>
                        <a:pt x="0" y="69"/>
                      </a:lnTo>
                      <a:lnTo>
                        <a:pt x="0" y="77"/>
                      </a:lnTo>
                      <a:lnTo>
                        <a:pt x="0" y="92"/>
                      </a:lnTo>
                      <a:lnTo>
                        <a:pt x="9" y="100"/>
                      </a:lnTo>
                      <a:lnTo>
                        <a:pt x="9" y="115"/>
                      </a:lnTo>
                      <a:lnTo>
                        <a:pt x="9" y="123"/>
                      </a:lnTo>
                      <a:lnTo>
                        <a:pt x="9" y="131"/>
                      </a:lnTo>
                      <a:lnTo>
                        <a:pt x="9" y="146"/>
                      </a:lnTo>
                      <a:lnTo>
                        <a:pt x="9" y="154"/>
                      </a:lnTo>
                      <a:lnTo>
                        <a:pt x="9" y="169"/>
                      </a:lnTo>
                      <a:lnTo>
                        <a:pt x="9" y="177"/>
                      </a:lnTo>
                      <a:lnTo>
                        <a:pt x="34" y="177"/>
                      </a:lnTo>
                    </a:path>
                  </a:pathLst>
                </a:custGeom>
                <a:noFill/>
                <a:ln w="0">
                  <a:solidFill>
                    <a:srgbClr val="000000"/>
                  </a:solid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Freeform 683"/>
                <p:cNvSpPr/>
                <p:nvPr/>
              </p:nvSpPr>
              <p:spPr>
                <a:xfrm flipH="1">
                  <a:off x="536040" y="19400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8"/>
                      </a:lnTo>
                      <a:lnTo>
                        <a:pt x="9" y="8"/>
                      </a:lnTo>
                      <a:lnTo>
                        <a:pt x="17" y="8"/>
                      </a:lnTo>
                      <a:lnTo>
                        <a:pt x="17"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Freeform 682"/>
                <p:cNvSpPr/>
                <p:nvPr/>
              </p:nvSpPr>
              <p:spPr>
                <a:xfrm flipH="1">
                  <a:off x="536040" y="19400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8"/>
                      </a:lnTo>
                      <a:lnTo>
                        <a:pt x="9" y="8"/>
                      </a:lnTo>
                      <a:lnTo>
                        <a:pt x="17" y="8"/>
                      </a:lnTo>
                      <a:lnTo>
                        <a:pt x="17"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Freeform 681"/>
                <p:cNvSpPr/>
                <p:nvPr/>
              </p:nvSpPr>
              <p:spPr>
                <a:xfrm flipH="1">
                  <a:off x="541080" y="1936800"/>
                  <a:ext cx="4680" cy="2880"/>
                </a:xfrm>
                <a:custGeom>
                  <a:avLst/>
                  <a:gdLst>
                    <a:gd name="textAreaLeft" fmla="*/ -360 w 4680"/>
                    <a:gd name="textAreaRight" fmla="*/ 4680 w 4680"/>
                    <a:gd name="textAreaTop" fmla="*/ 0 h 2880"/>
                    <a:gd name="textAreaBottom" fmla="*/ 3240 h 2880"/>
                  </a:gdLst>
                  <a:ahLst/>
                  <a:rect l="textAreaLeft" t="textAreaTop" r="textAreaRight" b="textAreaBottom"/>
                  <a:pathLst>
                    <a:path w="25" h="15">
                      <a:moveTo>
                        <a:pt x="25" y="15"/>
                      </a:moveTo>
                      <a:lnTo>
                        <a:pt x="17" y="7"/>
                      </a:lnTo>
                      <a:lnTo>
                        <a:pt x="17" y="0"/>
                      </a:lnTo>
                      <a:lnTo>
                        <a:pt x="8" y="0"/>
                      </a:lnTo>
                      <a:lnTo>
                        <a:pt x="0" y="7"/>
                      </a:lnTo>
                      <a:lnTo>
                        <a:pt x="25"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Freeform 680"/>
                <p:cNvSpPr/>
                <p:nvPr/>
              </p:nvSpPr>
              <p:spPr>
                <a:xfrm flipH="1">
                  <a:off x="541080" y="1936800"/>
                  <a:ext cx="4680" cy="2880"/>
                </a:xfrm>
                <a:custGeom>
                  <a:avLst/>
                  <a:gdLst>
                    <a:gd name="textAreaLeft" fmla="*/ -360 w 4680"/>
                    <a:gd name="textAreaRight" fmla="*/ 4680 w 4680"/>
                    <a:gd name="textAreaTop" fmla="*/ 0 h 2880"/>
                    <a:gd name="textAreaBottom" fmla="*/ 3240 h 2880"/>
                  </a:gdLst>
                  <a:ahLst/>
                  <a:rect l="textAreaLeft" t="textAreaTop" r="textAreaRight" b="textAreaBottom"/>
                  <a:pathLst>
                    <a:path w="25" h="15">
                      <a:moveTo>
                        <a:pt x="25" y="15"/>
                      </a:moveTo>
                      <a:lnTo>
                        <a:pt x="17" y="7"/>
                      </a:lnTo>
                      <a:lnTo>
                        <a:pt x="17" y="0"/>
                      </a:lnTo>
                      <a:lnTo>
                        <a:pt x="8" y="0"/>
                      </a:lnTo>
                      <a:lnTo>
                        <a:pt x="0" y="7"/>
                      </a:lnTo>
                      <a:lnTo>
                        <a:pt x="25"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Freeform 679"/>
                <p:cNvSpPr/>
                <p:nvPr/>
              </p:nvSpPr>
              <p:spPr>
                <a:xfrm flipH="1">
                  <a:off x="541440" y="1938240"/>
                  <a:ext cx="6480" cy="38520"/>
                </a:xfrm>
                <a:custGeom>
                  <a:avLst/>
                  <a:gdLst>
                    <a:gd name="textAreaLeft" fmla="*/ 360 w 6480"/>
                    <a:gd name="textAreaRight" fmla="*/ 7200 w 6480"/>
                    <a:gd name="textAreaTop" fmla="*/ 0 h 38520"/>
                    <a:gd name="textAreaBottom" fmla="*/ 38880 h 38520"/>
                  </a:gdLst>
                  <a:ahLst/>
                  <a:rect l="textAreaLeft" t="textAreaTop" r="textAreaRight" b="textAreaBottom"/>
                  <a:pathLst>
                    <a:path w="33" h="185">
                      <a:moveTo>
                        <a:pt x="16" y="185"/>
                      </a:moveTo>
                      <a:lnTo>
                        <a:pt x="25" y="170"/>
                      </a:lnTo>
                      <a:lnTo>
                        <a:pt x="25" y="162"/>
                      </a:lnTo>
                      <a:lnTo>
                        <a:pt x="25" y="154"/>
                      </a:lnTo>
                      <a:lnTo>
                        <a:pt x="25" y="139"/>
                      </a:lnTo>
                      <a:lnTo>
                        <a:pt x="25" y="131"/>
                      </a:lnTo>
                      <a:lnTo>
                        <a:pt x="25" y="116"/>
                      </a:lnTo>
                      <a:lnTo>
                        <a:pt x="25" y="108"/>
                      </a:lnTo>
                      <a:lnTo>
                        <a:pt x="25" y="93"/>
                      </a:lnTo>
                      <a:lnTo>
                        <a:pt x="25" y="85"/>
                      </a:lnTo>
                      <a:lnTo>
                        <a:pt x="25" y="70"/>
                      </a:lnTo>
                      <a:lnTo>
                        <a:pt x="25" y="62"/>
                      </a:lnTo>
                      <a:lnTo>
                        <a:pt x="25" y="46"/>
                      </a:lnTo>
                      <a:lnTo>
                        <a:pt x="33" y="39"/>
                      </a:lnTo>
                      <a:lnTo>
                        <a:pt x="33" y="23"/>
                      </a:lnTo>
                      <a:lnTo>
                        <a:pt x="33" y="16"/>
                      </a:lnTo>
                      <a:lnTo>
                        <a:pt x="33" y="8"/>
                      </a:lnTo>
                      <a:lnTo>
                        <a:pt x="8" y="0"/>
                      </a:lnTo>
                      <a:lnTo>
                        <a:pt x="8" y="16"/>
                      </a:lnTo>
                      <a:lnTo>
                        <a:pt x="8" y="23"/>
                      </a:lnTo>
                      <a:lnTo>
                        <a:pt x="8" y="39"/>
                      </a:lnTo>
                      <a:lnTo>
                        <a:pt x="8" y="46"/>
                      </a:lnTo>
                      <a:lnTo>
                        <a:pt x="8" y="62"/>
                      </a:lnTo>
                      <a:lnTo>
                        <a:pt x="8" y="70"/>
                      </a:lnTo>
                      <a:lnTo>
                        <a:pt x="8" y="85"/>
                      </a:lnTo>
                      <a:lnTo>
                        <a:pt x="8" y="93"/>
                      </a:lnTo>
                      <a:lnTo>
                        <a:pt x="8" y="100"/>
                      </a:lnTo>
                      <a:lnTo>
                        <a:pt x="0" y="116"/>
                      </a:lnTo>
                      <a:lnTo>
                        <a:pt x="0" y="123"/>
                      </a:lnTo>
                      <a:lnTo>
                        <a:pt x="0" y="139"/>
                      </a:lnTo>
                      <a:lnTo>
                        <a:pt x="0" y="146"/>
                      </a:lnTo>
                      <a:lnTo>
                        <a:pt x="0" y="162"/>
                      </a:lnTo>
                      <a:lnTo>
                        <a:pt x="0" y="170"/>
                      </a:lnTo>
                      <a:lnTo>
                        <a:pt x="0" y="185"/>
                      </a:lnTo>
                      <a:lnTo>
                        <a:pt x="16" y="185"/>
                      </a:lnTo>
                      <a:close/>
                    </a:path>
                  </a:pathLst>
                </a:custGeom>
                <a:solidFill>
                  <a:srgbClr val="000000"/>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Freeform 678"/>
                <p:cNvSpPr/>
                <p:nvPr/>
              </p:nvSpPr>
              <p:spPr>
                <a:xfrm flipH="1">
                  <a:off x="541440" y="1938240"/>
                  <a:ext cx="6480" cy="38520"/>
                </a:xfrm>
                <a:custGeom>
                  <a:avLst/>
                  <a:gdLst>
                    <a:gd name="textAreaLeft" fmla="*/ 360 w 6480"/>
                    <a:gd name="textAreaRight" fmla="*/ 7200 w 6480"/>
                    <a:gd name="textAreaTop" fmla="*/ 0 h 38520"/>
                    <a:gd name="textAreaBottom" fmla="*/ 38880 h 38520"/>
                  </a:gdLst>
                  <a:ahLst/>
                  <a:rect l="textAreaLeft" t="textAreaTop" r="textAreaRight" b="textAreaBottom"/>
                  <a:pathLst>
                    <a:path w="33" h="185">
                      <a:moveTo>
                        <a:pt x="16" y="185"/>
                      </a:moveTo>
                      <a:lnTo>
                        <a:pt x="25" y="170"/>
                      </a:lnTo>
                      <a:lnTo>
                        <a:pt x="25" y="162"/>
                      </a:lnTo>
                      <a:lnTo>
                        <a:pt x="25" y="154"/>
                      </a:lnTo>
                      <a:lnTo>
                        <a:pt x="25" y="139"/>
                      </a:lnTo>
                      <a:lnTo>
                        <a:pt x="25" y="131"/>
                      </a:lnTo>
                      <a:lnTo>
                        <a:pt x="25" y="116"/>
                      </a:lnTo>
                      <a:lnTo>
                        <a:pt x="25" y="108"/>
                      </a:lnTo>
                      <a:lnTo>
                        <a:pt x="25" y="93"/>
                      </a:lnTo>
                      <a:lnTo>
                        <a:pt x="25" y="85"/>
                      </a:lnTo>
                      <a:lnTo>
                        <a:pt x="25" y="70"/>
                      </a:lnTo>
                      <a:lnTo>
                        <a:pt x="25" y="62"/>
                      </a:lnTo>
                      <a:lnTo>
                        <a:pt x="25" y="46"/>
                      </a:lnTo>
                      <a:lnTo>
                        <a:pt x="33" y="39"/>
                      </a:lnTo>
                      <a:lnTo>
                        <a:pt x="33" y="23"/>
                      </a:lnTo>
                      <a:lnTo>
                        <a:pt x="33" y="16"/>
                      </a:lnTo>
                      <a:lnTo>
                        <a:pt x="33" y="8"/>
                      </a:lnTo>
                      <a:lnTo>
                        <a:pt x="8" y="0"/>
                      </a:lnTo>
                      <a:lnTo>
                        <a:pt x="8" y="16"/>
                      </a:lnTo>
                      <a:lnTo>
                        <a:pt x="8" y="23"/>
                      </a:lnTo>
                      <a:lnTo>
                        <a:pt x="8" y="39"/>
                      </a:lnTo>
                      <a:lnTo>
                        <a:pt x="8" y="46"/>
                      </a:lnTo>
                      <a:lnTo>
                        <a:pt x="8" y="62"/>
                      </a:lnTo>
                      <a:lnTo>
                        <a:pt x="8" y="70"/>
                      </a:lnTo>
                      <a:lnTo>
                        <a:pt x="8" y="85"/>
                      </a:lnTo>
                      <a:lnTo>
                        <a:pt x="8" y="93"/>
                      </a:lnTo>
                      <a:lnTo>
                        <a:pt x="8" y="100"/>
                      </a:lnTo>
                      <a:lnTo>
                        <a:pt x="0" y="116"/>
                      </a:lnTo>
                      <a:lnTo>
                        <a:pt x="0" y="123"/>
                      </a:lnTo>
                      <a:lnTo>
                        <a:pt x="0" y="139"/>
                      </a:lnTo>
                      <a:lnTo>
                        <a:pt x="0" y="146"/>
                      </a:lnTo>
                      <a:lnTo>
                        <a:pt x="0" y="162"/>
                      </a:lnTo>
                      <a:lnTo>
                        <a:pt x="0" y="170"/>
                      </a:lnTo>
                      <a:lnTo>
                        <a:pt x="0" y="185"/>
                      </a:lnTo>
                      <a:lnTo>
                        <a:pt x="16" y="185"/>
                      </a:lnTo>
                    </a:path>
                  </a:pathLst>
                </a:custGeom>
                <a:noFill/>
                <a:ln w="0">
                  <a:solidFill>
                    <a:srgbClr val="000000"/>
                  </a:solid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Freeform 677"/>
                <p:cNvSpPr/>
                <p:nvPr/>
              </p:nvSpPr>
              <p:spPr>
                <a:xfrm flipH="1">
                  <a:off x="541080" y="1938240"/>
                  <a:ext cx="4680" cy="3240"/>
                </a:xfrm>
                <a:custGeom>
                  <a:avLst/>
                  <a:gdLst>
                    <a:gd name="textAreaLeft" fmla="*/ -360 w 4680"/>
                    <a:gd name="textAreaRight" fmla="*/ 4680 w 4680"/>
                    <a:gd name="textAreaTop" fmla="*/ 0 h 3240"/>
                    <a:gd name="textAreaBottom" fmla="*/ 3600 h 3240"/>
                  </a:gdLst>
                  <a:ahLst/>
                  <a:rect l="textAreaLeft" t="textAreaTop" r="textAreaRight" b="textAreaBottom"/>
                  <a:pathLst>
                    <a:path w="25" h="16">
                      <a:moveTo>
                        <a:pt x="0" y="0"/>
                      </a:moveTo>
                      <a:lnTo>
                        <a:pt x="8" y="8"/>
                      </a:lnTo>
                      <a:lnTo>
                        <a:pt x="17" y="16"/>
                      </a:lnTo>
                      <a:lnTo>
                        <a:pt x="17" y="8"/>
                      </a:lnTo>
                      <a:lnTo>
                        <a:pt x="25" y="8"/>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Freeform 676"/>
                <p:cNvSpPr/>
                <p:nvPr/>
              </p:nvSpPr>
              <p:spPr>
                <a:xfrm flipH="1">
                  <a:off x="541080" y="1938240"/>
                  <a:ext cx="4680" cy="3240"/>
                </a:xfrm>
                <a:custGeom>
                  <a:avLst/>
                  <a:gdLst>
                    <a:gd name="textAreaLeft" fmla="*/ -360 w 4680"/>
                    <a:gd name="textAreaRight" fmla="*/ 4680 w 4680"/>
                    <a:gd name="textAreaTop" fmla="*/ 0 h 3240"/>
                    <a:gd name="textAreaBottom" fmla="*/ 3600 h 3240"/>
                  </a:gdLst>
                  <a:ahLst/>
                  <a:rect l="textAreaLeft" t="textAreaTop" r="textAreaRight" b="textAreaBottom"/>
                  <a:pathLst>
                    <a:path w="25" h="16">
                      <a:moveTo>
                        <a:pt x="0" y="0"/>
                      </a:moveTo>
                      <a:lnTo>
                        <a:pt x="8" y="8"/>
                      </a:lnTo>
                      <a:lnTo>
                        <a:pt x="17" y="16"/>
                      </a:lnTo>
                      <a:lnTo>
                        <a:pt x="17" y="8"/>
                      </a:lnTo>
                      <a:lnTo>
                        <a:pt x="25" y="8"/>
                      </a:lnTo>
                      <a:lnTo>
                        <a:pt x="0" y="0"/>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Freeform 675"/>
                <p:cNvSpPr/>
                <p:nvPr/>
              </p:nvSpPr>
              <p:spPr>
                <a:xfrm flipH="1">
                  <a:off x="549360" y="193824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17" y="16"/>
                      </a:moveTo>
                      <a:lnTo>
                        <a:pt x="17" y="8"/>
                      </a:lnTo>
                      <a:lnTo>
                        <a:pt x="9" y="0"/>
                      </a:lnTo>
                      <a:lnTo>
                        <a:pt x="0" y="8"/>
                      </a:lnTo>
                      <a:lnTo>
                        <a:pt x="17"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Freeform 674"/>
                <p:cNvSpPr/>
                <p:nvPr/>
              </p:nvSpPr>
              <p:spPr>
                <a:xfrm flipH="1">
                  <a:off x="549360" y="193824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17" y="16"/>
                      </a:moveTo>
                      <a:lnTo>
                        <a:pt x="17" y="8"/>
                      </a:lnTo>
                      <a:lnTo>
                        <a:pt x="9" y="0"/>
                      </a:lnTo>
                      <a:lnTo>
                        <a:pt x="0" y="8"/>
                      </a:lnTo>
                      <a:lnTo>
                        <a:pt x="17" y="16"/>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Freeform 673"/>
                <p:cNvSpPr/>
                <p:nvPr/>
              </p:nvSpPr>
              <p:spPr>
                <a:xfrm flipH="1">
                  <a:off x="549720" y="1940040"/>
                  <a:ext cx="6480" cy="37080"/>
                </a:xfrm>
                <a:custGeom>
                  <a:avLst/>
                  <a:gdLst>
                    <a:gd name="textAreaLeft" fmla="*/ 360 w 6480"/>
                    <a:gd name="textAreaRight" fmla="*/ 7200 w 6480"/>
                    <a:gd name="textAreaTop" fmla="*/ 0 h 37080"/>
                    <a:gd name="textAreaBottom" fmla="*/ 37440 h 37080"/>
                  </a:gdLst>
                  <a:ahLst/>
                  <a:rect l="textAreaLeft" t="textAreaTop" r="textAreaRight" b="textAreaBottom"/>
                  <a:pathLst>
                    <a:path w="33" h="177">
                      <a:moveTo>
                        <a:pt x="16" y="177"/>
                      </a:moveTo>
                      <a:lnTo>
                        <a:pt x="16" y="162"/>
                      </a:lnTo>
                      <a:lnTo>
                        <a:pt x="16" y="154"/>
                      </a:lnTo>
                      <a:lnTo>
                        <a:pt x="16" y="146"/>
                      </a:lnTo>
                      <a:lnTo>
                        <a:pt x="25" y="131"/>
                      </a:lnTo>
                      <a:lnTo>
                        <a:pt x="25" y="123"/>
                      </a:lnTo>
                      <a:lnTo>
                        <a:pt x="25" y="115"/>
                      </a:lnTo>
                      <a:lnTo>
                        <a:pt x="25" y="100"/>
                      </a:lnTo>
                      <a:lnTo>
                        <a:pt x="25" y="92"/>
                      </a:lnTo>
                      <a:lnTo>
                        <a:pt x="25" y="77"/>
                      </a:lnTo>
                      <a:lnTo>
                        <a:pt x="33" y="69"/>
                      </a:lnTo>
                      <a:lnTo>
                        <a:pt x="33" y="62"/>
                      </a:lnTo>
                      <a:lnTo>
                        <a:pt x="33" y="46"/>
                      </a:lnTo>
                      <a:lnTo>
                        <a:pt x="33" y="38"/>
                      </a:lnTo>
                      <a:lnTo>
                        <a:pt x="33" y="23"/>
                      </a:lnTo>
                      <a:lnTo>
                        <a:pt x="33" y="15"/>
                      </a:lnTo>
                      <a:lnTo>
                        <a:pt x="33" y="8"/>
                      </a:lnTo>
                      <a:lnTo>
                        <a:pt x="16" y="0"/>
                      </a:lnTo>
                      <a:lnTo>
                        <a:pt x="16" y="15"/>
                      </a:lnTo>
                      <a:lnTo>
                        <a:pt x="16" y="23"/>
                      </a:lnTo>
                      <a:lnTo>
                        <a:pt x="8" y="38"/>
                      </a:lnTo>
                      <a:lnTo>
                        <a:pt x="8" y="46"/>
                      </a:lnTo>
                      <a:lnTo>
                        <a:pt x="8" y="54"/>
                      </a:lnTo>
                      <a:lnTo>
                        <a:pt x="8" y="69"/>
                      </a:lnTo>
                      <a:lnTo>
                        <a:pt x="8" y="77"/>
                      </a:lnTo>
                      <a:lnTo>
                        <a:pt x="8" y="92"/>
                      </a:lnTo>
                      <a:lnTo>
                        <a:pt x="8" y="100"/>
                      </a:lnTo>
                      <a:lnTo>
                        <a:pt x="0" y="108"/>
                      </a:lnTo>
                      <a:lnTo>
                        <a:pt x="0" y="123"/>
                      </a:lnTo>
                      <a:lnTo>
                        <a:pt x="0" y="131"/>
                      </a:lnTo>
                      <a:lnTo>
                        <a:pt x="0" y="138"/>
                      </a:lnTo>
                      <a:lnTo>
                        <a:pt x="0" y="154"/>
                      </a:lnTo>
                      <a:lnTo>
                        <a:pt x="0" y="162"/>
                      </a:lnTo>
                      <a:lnTo>
                        <a:pt x="0" y="177"/>
                      </a:lnTo>
                      <a:lnTo>
                        <a:pt x="16" y="177"/>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Freeform 672"/>
                <p:cNvSpPr/>
                <p:nvPr/>
              </p:nvSpPr>
              <p:spPr>
                <a:xfrm flipH="1">
                  <a:off x="549720" y="1940040"/>
                  <a:ext cx="6480" cy="37080"/>
                </a:xfrm>
                <a:custGeom>
                  <a:avLst/>
                  <a:gdLst>
                    <a:gd name="textAreaLeft" fmla="*/ 360 w 6480"/>
                    <a:gd name="textAreaRight" fmla="*/ 7200 w 6480"/>
                    <a:gd name="textAreaTop" fmla="*/ 0 h 37080"/>
                    <a:gd name="textAreaBottom" fmla="*/ 37440 h 37080"/>
                  </a:gdLst>
                  <a:ahLst/>
                  <a:rect l="textAreaLeft" t="textAreaTop" r="textAreaRight" b="textAreaBottom"/>
                  <a:pathLst>
                    <a:path w="33" h="177">
                      <a:moveTo>
                        <a:pt x="16" y="177"/>
                      </a:moveTo>
                      <a:lnTo>
                        <a:pt x="16" y="162"/>
                      </a:lnTo>
                      <a:lnTo>
                        <a:pt x="16" y="154"/>
                      </a:lnTo>
                      <a:lnTo>
                        <a:pt x="16" y="146"/>
                      </a:lnTo>
                      <a:lnTo>
                        <a:pt x="25" y="131"/>
                      </a:lnTo>
                      <a:lnTo>
                        <a:pt x="25" y="123"/>
                      </a:lnTo>
                      <a:lnTo>
                        <a:pt x="25" y="115"/>
                      </a:lnTo>
                      <a:lnTo>
                        <a:pt x="25" y="100"/>
                      </a:lnTo>
                      <a:lnTo>
                        <a:pt x="25" y="92"/>
                      </a:lnTo>
                      <a:lnTo>
                        <a:pt x="25" y="77"/>
                      </a:lnTo>
                      <a:lnTo>
                        <a:pt x="33" y="69"/>
                      </a:lnTo>
                      <a:lnTo>
                        <a:pt x="33" y="62"/>
                      </a:lnTo>
                      <a:lnTo>
                        <a:pt x="33" y="46"/>
                      </a:lnTo>
                      <a:lnTo>
                        <a:pt x="33" y="38"/>
                      </a:lnTo>
                      <a:lnTo>
                        <a:pt x="33" y="23"/>
                      </a:lnTo>
                      <a:lnTo>
                        <a:pt x="33" y="15"/>
                      </a:lnTo>
                      <a:lnTo>
                        <a:pt x="33" y="8"/>
                      </a:lnTo>
                      <a:lnTo>
                        <a:pt x="16" y="0"/>
                      </a:lnTo>
                      <a:lnTo>
                        <a:pt x="16" y="15"/>
                      </a:lnTo>
                      <a:lnTo>
                        <a:pt x="16" y="23"/>
                      </a:lnTo>
                      <a:lnTo>
                        <a:pt x="8" y="38"/>
                      </a:lnTo>
                      <a:lnTo>
                        <a:pt x="8" y="46"/>
                      </a:lnTo>
                      <a:lnTo>
                        <a:pt x="8" y="54"/>
                      </a:lnTo>
                      <a:lnTo>
                        <a:pt x="8" y="69"/>
                      </a:lnTo>
                      <a:lnTo>
                        <a:pt x="8" y="77"/>
                      </a:lnTo>
                      <a:lnTo>
                        <a:pt x="8" y="92"/>
                      </a:lnTo>
                      <a:lnTo>
                        <a:pt x="8" y="100"/>
                      </a:lnTo>
                      <a:lnTo>
                        <a:pt x="0" y="108"/>
                      </a:lnTo>
                      <a:lnTo>
                        <a:pt x="0" y="123"/>
                      </a:lnTo>
                      <a:lnTo>
                        <a:pt x="0" y="131"/>
                      </a:lnTo>
                      <a:lnTo>
                        <a:pt x="0" y="138"/>
                      </a:lnTo>
                      <a:lnTo>
                        <a:pt x="0" y="154"/>
                      </a:lnTo>
                      <a:lnTo>
                        <a:pt x="0" y="162"/>
                      </a:lnTo>
                      <a:lnTo>
                        <a:pt x="0" y="177"/>
                      </a:lnTo>
                      <a:lnTo>
                        <a:pt x="16" y="177"/>
                      </a:lnTo>
                    </a:path>
                  </a:pathLst>
                </a:custGeom>
                <a:noFill/>
                <a:ln w="0">
                  <a:solidFill>
                    <a:srgbClr val="000000"/>
                  </a:solid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Freeform 671"/>
                <p:cNvSpPr/>
                <p:nvPr/>
              </p:nvSpPr>
              <p:spPr>
                <a:xfrm flipH="1">
                  <a:off x="549360" y="19400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8"/>
                      </a:lnTo>
                      <a:lnTo>
                        <a:pt x="9" y="15"/>
                      </a:lnTo>
                      <a:lnTo>
                        <a:pt x="17" y="8"/>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Freeform 670"/>
                <p:cNvSpPr/>
                <p:nvPr/>
              </p:nvSpPr>
              <p:spPr>
                <a:xfrm flipH="1">
                  <a:off x="549360" y="19400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8"/>
                      </a:lnTo>
                      <a:lnTo>
                        <a:pt x="9" y="15"/>
                      </a:lnTo>
                      <a:lnTo>
                        <a:pt x="17" y="8"/>
                      </a:lnTo>
                      <a:lnTo>
                        <a:pt x="0" y="0"/>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Freeform 669"/>
                <p:cNvSpPr/>
                <p:nvPr/>
              </p:nvSpPr>
              <p:spPr>
                <a:xfrm flipH="1">
                  <a:off x="558000" y="1938240"/>
                  <a:ext cx="4680" cy="3240"/>
                </a:xfrm>
                <a:custGeom>
                  <a:avLst/>
                  <a:gdLst>
                    <a:gd name="textAreaLeft" fmla="*/ -360 w 4680"/>
                    <a:gd name="textAreaRight" fmla="*/ 4680 w 4680"/>
                    <a:gd name="textAreaTop" fmla="*/ 0 h 3240"/>
                    <a:gd name="textAreaBottom" fmla="*/ 3600 h 3240"/>
                  </a:gdLst>
                  <a:ahLst/>
                  <a:rect l="textAreaLeft" t="textAreaTop" r="textAreaRight" b="textAreaBottom"/>
                  <a:pathLst>
                    <a:path w="25" h="16">
                      <a:moveTo>
                        <a:pt x="25" y="16"/>
                      </a:moveTo>
                      <a:lnTo>
                        <a:pt x="25" y="8"/>
                      </a:lnTo>
                      <a:lnTo>
                        <a:pt x="17" y="8"/>
                      </a:lnTo>
                      <a:lnTo>
                        <a:pt x="17" y="0"/>
                      </a:lnTo>
                      <a:lnTo>
                        <a:pt x="9" y="0"/>
                      </a:lnTo>
                      <a:lnTo>
                        <a:pt x="9" y="8"/>
                      </a:lnTo>
                      <a:lnTo>
                        <a:pt x="0" y="8"/>
                      </a:lnTo>
                      <a:lnTo>
                        <a:pt x="25"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Freeform 668"/>
                <p:cNvSpPr/>
                <p:nvPr/>
              </p:nvSpPr>
              <p:spPr>
                <a:xfrm flipH="1">
                  <a:off x="558000" y="1938240"/>
                  <a:ext cx="4680" cy="3240"/>
                </a:xfrm>
                <a:custGeom>
                  <a:avLst/>
                  <a:gdLst>
                    <a:gd name="textAreaLeft" fmla="*/ -360 w 4680"/>
                    <a:gd name="textAreaRight" fmla="*/ 4680 w 4680"/>
                    <a:gd name="textAreaTop" fmla="*/ 0 h 3240"/>
                    <a:gd name="textAreaBottom" fmla="*/ 3600 h 3240"/>
                  </a:gdLst>
                  <a:ahLst/>
                  <a:rect l="textAreaLeft" t="textAreaTop" r="textAreaRight" b="textAreaBottom"/>
                  <a:pathLst>
                    <a:path w="25" h="16">
                      <a:moveTo>
                        <a:pt x="25" y="16"/>
                      </a:moveTo>
                      <a:lnTo>
                        <a:pt x="25" y="8"/>
                      </a:lnTo>
                      <a:lnTo>
                        <a:pt x="17" y="8"/>
                      </a:lnTo>
                      <a:lnTo>
                        <a:pt x="17" y="0"/>
                      </a:lnTo>
                      <a:lnTo>
                        <a:pt x="9" y="0"/>
                      </a:lnTo>
                      <a:lnTo>
                        <a:pt x="9" y="8"/>
                      </a:lnTo>
                      <a:lnTo>
                        <a:pt x="0" y="8"/>
                      </a:lnTo>
                      <a:lnTo>
                        <a:pt x="25" y="16"/>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Freeform 667"/>
                <p:cNvSpPr/>
                <p:nvPr/>
              </p:nvSpPr>
              <p:spPr>
                <a:xfrm flipH="1">
                  <a:off x="558000" y="1940040"/>
                  <a:ext cx="9720" cy="33840"/>
                </a:xfrm>
                <a:custGeom>
                  <a:avLst/>
                  <a:gdLst>
                    <a:gd name="textAreaLeft" fmla="*/ -360 w 9720"/>
                    <a:gd name="textAreaRight" fmla="*/ 9720 w 9720"/>
                    <a:gd name="textAreaTop" fmla="*/ 0 h 33840"/>
                    <a:gd name="textAreaBottom" fmla="*/ 34200 h 33840"/>
                  </a:gdLst>
                  <a:ahLst/>
                  <a:rect l="textAreaLeft" t="textAreaTop" r="textAreaRight" b="textAreaBottom"/>
                  <a:pathLst>
                    <a:path w="50" h="162">
                      <a:moveTo>
                        <a:pt x="17" y="162"/>
                      </a:moveTo>
                      <a:lnTo>
                        <a:pt x="25" y="146"/>
                      </a:lnTo>
                      <a:lnTo>
                        <a:pt x="25" y="138"/>
                      </a:lnTo>
                      <a:lnTo>
                        <a:pt x="25" y="131"/>
                      </a:lnTo>
                      <a:lnTo>
                        <a:pt x="25" y="123"/>
                      </a:lnTo>
                      <a:lnTo>
                        <a:pt x="25" y="108"/>
                      </a:lnTo>
                      <a:lnTo>
                        <a:pt x="34" y="100"/>
                      </a:lnTo>
                      <a:lnTo>
                        <a:pt x="34" y="92"/>
                      </a:lnTo>
                      <a:lnTo>
                        <a:pt x="34" y="85"/>
                      </a:lnTo>
                      <a:lnTo>
                        <a:pt x="34" y="69"/>
                      </a:lnTo>
                      <a:lnTo>
                        <a:pt x="34" y="62"/>
                      </a:lnTo>
                      <a:lnTo>
                        <a:pt x="42" y="54"/>
                      </a:lnTo>
                      <a:lnTo>
                        <a:pt x="42" y="46"/>
                      </a:lnTo>
                      <a:lnTo>
                        <a:pt x="42" y="31"/>
                      </a:lnTo>
                      <a:lnTo>
                        <a:pt x="42" y="23"/>
                      </a:lnTo>
                      <a:lnTo>
                        <a:pt x="50" y="15"/>
                      </a:lnTo>
                      <a:lnTo>
                        <a:pt x="50" y="8"/>
                      </a:lnTo>
                      <a:lnTo>
                        <a:pt x="25" y="0"/>
                      </a:lnTo>
                      <a:lnTo>
                        <a:pt x="25" y="15"/>
                      </a:lnTo>
                      <a:lnTo>
                        <a:pt x="25" y="23"/>
                      </a:lnTo>
                      <a:lnTo>
                        <a:pt x="25" y="31"/>
                      </a:lnTo>
                      <a:lnTo>
                        <a:pt x="25" y="38"/>
                      </a:lnTo>
                      <a:lnTo>
                        <a:pt x="17" y="46"/>
                      </a:lnTo>
                      <a:lnTo>
                        <a:pt x="17" y="62"/>
                      </a:lnTo>
                      <a:lnTo>
                        <a:pt x="17" y="69"/>
                      </a:lnTo>
                      <a:lnTo>
                        <a:pt x="17" y="77"/>
                      </a:lnTo>
                      <a:lnTo>
                        <a:pt x="9" y="92"/>
                      </a:lnTo>
                      <a:lnTo>
                        <a:pt x="9" y="100"/>
                      </a:lnTo>
                      <a:lnTo>
                        <a:pt x="9" y="108"/>
                      </a:lnTo>
                      <a:lnTo>
                        <a:pt x="9" y="115"/>
                      </a:lnTo>
                      <a:lnTo>
                        <a:pt x="9" y="123"/>
                      </a:lnTo>
                      <a:lnTo>
                        <a:pt x="0" y="138"/>
                      </a:lnTo>
                      <a:lnTo>
                        <a:pt x="0" y="146"/>
                      </a:lnTo>
                      <a:lnTo>
                        <a:pt x="0" y="154"/>
                      </a:lnTo>
                      <a:lnTo>
                        <a:pt x="17" y="162"/>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Freeform 666"/>
                <p:cNvSpPr/>
                <p:nvPr/>
              </p:nvSpPr>
              <p:spPr>
                <a:xfrm flipH="1">
                  <a:off x="558000" y="1940040"/>
                  <a:ext cx="9720" cy="33840"/>
                </a:xfrm>
                <a:custGeom>
                  <a:avLst/>
                  <a:gdLst>
                    <a:gd name="textAreaLeft" fmla="*/ -360 w 9720"/>
                    <a:gd name="textAreaRight" fmla="*/ 9720 w 9720"/>
                    <a:gd name="textAreaTop" fmla="*/ 0 h 33840"/>
                    <a:gd name="textAreaBottom" fmla="*/ 34200 h 33840"/>
                  </a:gdLst>
                  <a:ahLst/>
                  <a:rect l="textAreaLeft" t="textAreaTop" r="textAreaRight" b="textAreaBottom"/>
                  <a:pathLst>
                    <a:path w="50" h="162">
                      <a:moveTo>
                        <a:pt x="17" y="162"/>
                      </a:moveTo>
                      <a:lnTo>
                        <a:pt x="25" y="146"/>
                      </a:lnTo>
                      <a:lnTo>
                        <a:pt x="25" y="138"/>
                      </a:lnTo>
                      <a:lnTo>
                        <a:pt x="25" y="131"/>
                      </a:lnTo>
                      <a:lnTo>
                        <a:pt x="25" y="123"/>
                      </a:lnTo>
                      <a:lnTo>
                        <a:pt x="25" y="108"/>
                      </a:lnTo>
                      <a:lnTo>
                        <a:pt x="34" y="100"/>
                      </a:lnTo>
                      <a:lnTo>
                        <a:pt x="34" y="92"/>
                      </a:lnTo>
                      <a:lnTo>
                        <a:pt x="34" y="85"/>
                      </a:lnTo>
                      <a:lnTo>
                        <a:pt x="34" y="69"/>
                      </a:lnTo>
                      <a:lnTo>
                        <a:pt x="34" y="62"/>
                      </a:lnTo>
                      <a:lnTo>
                        <a:pt x="42" y="54"/>
                      </a:lnTo>
                      <a:lnTo>
                        <a:pt x="42" y="46"/>
                      </a:lnTo>
                      <a:lnTo>
                        <a:pt x="42" y="31"/>
                      </a:lnTo>
                      <a:lnTo>
                        <a:pt x="42" y="23"/>
                      </a:lnTo>
                      <a:lnTo>
                        <a:pt x="50" y="15"/>
                      </a:lnTo>
                      <a:lnTo>
                        <a:pt x="50" y="8"/>
                      </a:lnTo>
                      <a:lnTo>
                        <a:pt x="25" y="0"/>
                      </a:lnTo>
                      <a:lnTo>
                        <a:pt x="25" y="15"/>
                      </a:lnTo>
                      <a:lnTo>
                        <a:pt x="25" y="23"/>
                      </a:lnTo>
                      <a:lnTo>
                        <a:pt x="25" y="31"/>
                      </a:lnTo>
                      <a:lnTo>
                        <a:pt x="25" y="38"/>
                      </a:lnTo>
                      <a:lnTo>
                        <a:pt x="17" y="46"/>
                      </a:lnTo>
                      <a:lnTo>
                        <a:pt x="17" y="62"/>
                      </a:lnTo>
                      <a:lnTo>
                        <a:pt x="17" y="69"/>
                      </a:lnTo>
                      <a:lnTo>
                        <a:pt x="17" y="77"/>
                      </a:lnTo>
                      <a:lnTo>
                        <a:pt x="9" y="92"/>
                      </a:lnTo>
                      <a:lnTo>
                        <a:pt x="9" y="100"/>
                      </a:lnTo>
                      <a:lnTo>
                        <a:pt x="9" y="108"/>
                      </a:lnTo>
                      <a:lnTo>
                        <a:pt x="9" y="115"/>
                      </a:lnTo>
                      <a:lnTo>
                        <a:pt x="9" y="123"/>
                      </a:lnTo>
                      <a:lnTo>
                        <a:pt x="0" y="138"/>
                      </a:lnTo>
                      <a:lnTo>
                        <a:pt x="0" y="146"/>
                      </a:lnTo>
                      <a:lnTo>
                        <a:pt x="0" y="154"/>
                      </a:lnTo>
                      <a:lnTo>
                        <a:pt x="17" y="162"/>
                      </a:lnTo>
                    </a:path>
                  </a:pathLst>
                </a:custGeom>
                <a:noFill/>
                <a:ln w="0">
                  <a:solidFill>
                    <a:srgbClr val="000000"/>
                  </a:solid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Freeform 665"/>
                <p:cNvSpPr/>
                <p:nvPr/>
              </p:nvSpPr>
              <p:spPr>
                <a:xfrm flipH="1">
                  <a:off x="558000" y="1940040"/>
                  <a:ext cx="4680" cy="2880"/>
                </a:xfrm>
                <a:custGeom>
                  <a:avLst/>
                  <a:gdLst>
                    <a:gd name="textAreaLeft" fmla="*/ -360 w 4680"/>
                    <a:gd name="textAreaRight" fmla="*/ 4680 w 4680"/>
                    <a:gd name="textAreaTop" fmla="*/ 0 h 2880"/>
                    <a:gd name="textAreaBottom" fmla="*/ 3240 h 2880"/>
                  </a:gdLst>
                  <a:ahLst/>
                  <a:rect l="textAreaLeft" t="textAreaTop" r="textAreaRight" b="textAreaBottom"/>
                  <a:pathLst>
                    <a:path w="25" h="15">
                      <a:moveTo>
                        <a:pt x="0" y="0"/>
                      </a:moveTo>
                      <a:lnTo>
                        <a:pt x="0" y="8"/>
                      </a:lnTo>
                      <a:lnTo>
                        <a:pt x="9" y="8"/>
                      </a:lnTo>
                      <a:lnTo>
                        <a:pt x="9" y="15"/>
                      </a:lnTo>
                      <a:lnTo>
                        <a:pt x="17" y="15"/>
                      </a:lnTo>
                      <a:lnTo>
                        <a:pt x="17" y="8"/>
                      </a:lnTo>
                      <a:lnTo>
                        <a:pt x="25" y="8"/>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Freeform 664"/>
                <p:cNvSpPr/>
                <p:nvPr/>
              </p:nvSpPr>
              <p:spPr>
                <a:xfrm flipH="1">
                  <a:off x="558000" y="1940040"/>
                  <a:ext cx="4680" cy="2880"/>
                </a:xfrm>
                <a:custGeom>
                  <a:avLst/>
                  <a:gdLst>
                    <a:gd name="textAreaLeft" fmla="*/ -360 w 4680"/>
                    <a:gd name="textAreaRight" fmla="*/ 4680 w 4680"/>
                    <a:gd name="textAreaTop" fmla="*/ 0 h 2880"/>
                    <a:gd name="textAreaBottom" fmla="*/ 3240 h 2880"/>
                  </a:gdLst>
                  <a:ahLst/>
                  <a:rect l="textAreaLeft" t="textAreaTop" r="textAreaRight" b="textAreaBottom"/>
                  <a:pathLst>
                    <a:path w="25" h="15">
                      <a:moveTo>
                        <a:pt x="0" y="0"/>
                      </a:moveTo>
                      <a:lnTo>
                        <a:pt x="0" y="8"/>
                      </a:lnTo>
                      <a:lnTo>
                        <a:pt x="9" y="8"/>
                      </a:lnTo>
                      <a:lnTo>
                        <a:pt x="9" y="15"/>
                      </a:lnTo>
                      <a:lnTo>
                        <a:pt x="17" y="15"/>
                      </a:lnTo>
                      <a:lnTo>
                        <a:pt x="17" y="8"/>
                      </a:lnTo>
                      <a:lnTo>
                        <a:pt x="25" y="8"/>
                      </a:lnTo>
                      <a:lnTo>
                        <a:pt x="0" y="0"/>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Freeform 663"/>
                <p:cNvSpPr/>
                <p:nvPr/>
              </p:nvSpPr>
              <p:spPr>
                <a:xfrm flipH="1">
                  <a:off x="405000" y="1616040"/>
                  <a:ext cx="208080" cy="336960"/>
                </a:xfrm>
                <a:custGeom>
                  <a:avLst/>
                  <a:gdLst>
                    <a:gd name="textAreaLeft" fmla="*/ 360 w 208080"/>
                    <a:gd name="textAreaRight" fmla="*/ 208800 w 208080"/>
                    <a:gd name="textAreaTop" fmla="*/ 0 h 336960"/>
                    <a:gd name="textAreaBottom" fmla="*/ 337320 h 336960"/>
                  </a:gdLst>
                  <a:ahLst/>
                  <a:rect l="textAreaLeft" t="textAreaTop" r="textAreaRight" b="textAreaBottom"/>
                  <a:pathLst>
                    <a:path w="1044" h="1608">
                      <a:moveTo>
                        <a:pt x="593" y="0"/>
                      </a:moveTo>
                      <a:lnTo>
                        <a:pt x="610" y="8"/>
                      </a:lnTo>
                      <a:lnTo>
                        <a:pt x="626" y="8"/>
                      </a:lnTo>
                      <a:lnTo>
                        <a:pt x="635" y="15"/>
                      </a:lnTo>
                      <a:lnTo>
                        <a:pt x="651" y="15"/>
                      </a:lnTo>
                      <a:lnTo>
                        <a:pt x="660" y="23"/>
                      </a:lnTo>
                      <a:lnTo>
                        <a:pt x="677" y="23"/>
                      </a:lnTo>
                      <a:lnTo>
                        <a:pt x="685" y="31"/>
                      </a:lnTo>
                      <a:lnTo>
                        <a:pt x="693" y="31"/>
                      </a:lnTo>
                      <a:lnTo>
                        <a:pt x="710" y="38"/>
                      </a:lnTo>
                      <a:lnTo>
                        <a:pt x="718" y="38"/>
                      </a:lnTo>
                      <a:lnTo>
                        <a:pt x="727" y="46"/>
                      </a:lnTo>
                      <a:lnTo>
                        <a:pt x="743" y="46"/>
                      </a:lnTo>
                      <a:lnTo>
                        <a:pt x="752" y="54"/>
                      </a:lnTo>
                      <a:lnTo>
                        <a:pt x="768" y="61"/>
                      </a:lnTo>
                      <a:lnTo>
                        <a:pt x="777" y="61"/>
                      </a:lnTo>
                      <a:lnTo>
                        <a:pt x="785" y="69"/>
                      </a:lnTo>
                      <a:lnTo>
                        <a:pt x="802" y="77"/>
                      </a:lnTo>
                      <a:lnTo>
                        <a:pt x="819" y="84"/>
                      </a:lnTo>
                      <a:lnTo>
                        <a:pt x="835" y="92"/>
                      </a:lnTo>
                      <a:lnTo>
                        <a:pt x="844" y="108"/>
                      </a:lnTo>
                      <a:lnTo>
                        <a:pt x="860" y="115"/>
                      </a:lnTo>
                      <a:lnTo>
                        <a:pt x="877" y="123"/>
                      </a:lnTo>
                      <a:lnTo>
                        <a:pt x="885" y="131"/>
                      </a:lnTo>
                      <a:lnTo>
                        <a:pt x="902" y="146"/>
                      </a:lnTo>
                      <a:lnTo>
                        <a:pt x="911" y="154"/>
                      </a:lnTo>
                      <a:lnTo>
                        <a:pt x="927" y="161"/>
                      </a:lnTo>
                      <a:lnTo>
                        <a:pt x="944" y="177"/>
                      </a:lnTo>
                      <a:lnTo>
                        <a:pt x="952" y="184"/>
                      </a:lnTo>
                      <a:lnTo>
                        <a:pt x="961" y="200"/>
                      </a:lnTo>
                      <a:lnTo>
                        <a:pt x="969" y="215"/>
                      </a:lnTo>
                      <a:lnTo>
                        <a:pt x="986" y="223"/>
                      </a:lnTo>
                      <a:lnTo>
                        <a:pt x="994" y="238"/>
                      </a:lnTo>
                      <a:lnTo>
                        <a:pt x="1002" y="261"/>
                      </a:lnTo>
                      <a:lnTo>
                        <a:pt x="1019" y="284"/>
                      </a:lnTo>
                      <a:lnTo>
                        <a:pt x="1028" y="308"/>
                      </a:lnTo>
                      <a:lnTo>
                        <a:pt x="1036" y="338"/>
                      </a:lnTo>
                      <a:lnTo>
                        <a:pt x="1044" y="361"/>
                      </a:lnTo>
                      <a:lnTo>
                        <a:pt x="1044" y="392"/>
                      </a:lnTo>
                      <a:lnTo>
                        <a:pt x="1044" y="415"/>
                      </a:lnTo>
                      <a:lnTo>
                        <a:pt x="1044" y="446"/>
                      </a:lnTo>
                      <a:lnTo>
                        <a:pt x="1019" y="515"/>
                      </a:lnTo>
                      <a:lnTo>
                        <a:pt x="994" y="584"/>
                      </a:lnTo>
                      <a:lnTo>
                        <a:pt x="977" y="646"/>
                      </a:lnTo>
                      <a:lnTo>
                        <a:pt x="961" y="715"/>
                      </a:lnTo>
                      <a:lnTo>
                        <a:pt x="944" y="777"/>
                      </a:lnTo>
                      <a:lnTo>
                        <a:pt x="919" y="846"/>
                      </a:lnTo>
                      <a:lnTo>
                        <a:pt x="902" y="915"/>
                      </a:lnTo>
                      <a:lnTo>
                        <a:pt x="885" y="977"/>
                      </a:lnTo>
                      <a:lnTo>
                        <a:pt x="869" y="1038"/>
                      </a:lnTo>
                      <a:lnTo>
                        <a:pt x="852" y="1108"/>
                      </a:lnTo>
                      <a:lnTo>
                        <a:pt x="835" y="1177"/>
                      </a:lnTo>
                      <a:lnTo>
                        <a:pt x="819" y="1246"/>
                      </a:lnTo>
                      <a:lnTo>
                        <a:pt x="802" y="1308"/>
                      </a:lnTo>
                      <a:lnTo>
                        <a:pt x="777" y="1384"/>
                      </a:lnTo>
                      <a:lnTo>
                        <a:pt x="760" y="1454"/>
                      </a:lnTo>
                      <a:lnTo>
                        <a:pt x="743" y="1523"/>
                      </a:lnTo>
                      <a:lnTo>
                        <a:pt x="735" y="1538"/>
                      </a:lnTo>
                      <a:lnTo>
                        <a:pt x="727" y="1546"/>
                      </a:lnTo>
                      <a:lnTo>
                        <a:pt x="718" y="1554"/>
                      </a:lnTo>
                      <a:lnTo>
                        <a:pt x="710" y="1561"/>
                      </a:lnTo>
                      <a:lnTo>
                        <a:pt x="702" y="1569"/>
                      </a:lnTo>
                      <a:lnTo>
                        <a:pt x="693" y="1577"/>
                      </a:lnTo>
                      <a:lnTo>
                        <a:pt x="677" y="1584"/>
                      </a:lnTo>
                      <a:lnTo>
                        <a:pt x="668" y="1584"/>
                      </a:lnTo>
                      <a:lnTo>
                        <a:pt x="651" y="1584"/>
                      </a:lnTo>
                      <a:lnTo>
                        <a:pt x="635" y="1584"/>
                      </a:lnTo>
                      <a:lnTo>
                        <a:pt x="626" y="1584"/>
                      </a:lnTo>
                      <a:lnTo>
                        <a:pt x="610" y="1584"/>
                      </a:lnTo>
                      <a:lnTo>
                        <a:pt x="601" y="1584"/>
                      </a:lnTo>
                      <a:lnTo>
                        <a:pt x="585" y="1584"/>
                      </a:lnTo>
                      <a:lnTo>
                        <a:pt x="568" y="1577"/>
                      </a:lnTo>
                      <a:lnTo>
                        <a:pt x="551" y="1577"/>
                      </a:lnTo>
                      <a:lnTo>
                        <a:pt x="543" y="1577"/>
                      </a:lnTo>
                      <a:lnTo>
                        <a:pt x="534" y="1569"/>
                      </a:lnTo>
                      <a:lnTo>
                        <a:pt x="526" y="1569"/>
                      </a:lnTo>
                      <a:lnTo>
                        <a:pt x="526" y="1561"/>
                      </a:lnTo>
                      <a:lnTo>
                        <a:pt x="518" y="1554"/>
                      </a:lnTo>
                      <a:lnTo>
                        <a:pt x="509" y="1546"/>
                      </a:lnTo>
                      <a:lnTo>
                        <a:pt x="501" y="1538"/>
                      </a:lnTo>
                      <a:lnTo>
                        <a:pt x="493" y="1546"/>
                      </a:lnTo>
                      <a:lnTo>
                        <a:pt x="484" y="1554"/>
                      </a:lnTo>
                      <a:lnTo>
                        <a:pt x="468" y="1561"/>
                      </a:lnTo>
                      <a:lnTo>
                        <a:pt x="459" y="1569"/>
                      </a:lnTo>
                      <a:lnTo>
                        <a:pt x="451" y="1569"/>
                      </a:lnTo>
                      <a:lnTo>
                        <a:pt x="443" y="1577"/>
                      </a:lnTo>
                      <a:lnTo>
                        <a:pt x="434" y="1584"/>
                      </a:lnTo>
                      <a:lnTo>
                        <a:pt x="417" y="1584"/>
                      </a:lnTo>
                      <a:lnTo>
                        <a:pt x="409" y="1592"/>
                      </a:lnTo>
                      <a:lnTo>
                        <a:pt x="401" y="1592"/>
                      </a:lnTo>
                      <a:lnTo>
                        <a:pt x="392" y="1592"/>
                      </a:lnTo>
                      <a:lnTo>
                        <a:pt x="376" y="1600"/>
                      </a:lnTo>
                      <a:lnTo>
                        <a:pt x="367" y="1600"/>
                      </a:lnTo>
                      <a:lnTo>
                        <a:pt x="359" y="1600"/>
                      </a:lnTo>
                      <a:lnTo>
                        <a:pt x="342" y="1608"/>
                      </a:lnTo>
                      <a:lnTo>
                        <a:pt x="334" y="1608"/>
                      </a:lnTo>
                      <a:lnTo>
                        <a:pt x="326" y="1608"/>
                      </a:lnTo>
                      <a:lnTo>
                        <a:pt x="309" y="1608"/>
                      </a:lnTo>
                      <a:lnTo>
                        <a:pt x="300" y="1608"/>
                      </a:lnTo>
                      <a:lnTo>
                        <a:pt x="292" y="1608"/>
                      </a:lnTo>
                      <a:lnTo>
                        <a:pt x="275" y="1608"/>
                      </a:lnTo>
                      <a:lnTo>
                        <a:pt x="267" y="1608"/>
                      </a:lnTo>
                      <a:lnTo>
                        <a:pt x="259" y="1608"/>
                      </a:lnTo>
                      <a:lnTo>
                        <a:pt x="250" y="1608"/>
                      </a:lnTo>
                      <a:lnTo>
                        <a:pt x="225" y="1600"/>
                      </a:lnTo>
                      <a:lnTo>
                        <a:pt x="209" y="1592"/>
                      </a:lnTo>
                      <a:lnTo>
                        <a:pt x="192" y="1577"/>
                      </a:lnTo>
                      <a:lnTo>
                        <a:pt x="175" y="1561"/>
                      </a:lnTo>
                      <a:lnTo>
                        <a:pt x="158" y="1546"/>
                      </a:lnTo>
                      <a:lnTo>
                        <a:pt x="150" y="1531"/>
                      </a:lnTo>
                      <a:lnTo>
                        <a:pt x="133" y="1515"/>
                      </a:lnTo>
                      <a:lnTo>
                        <a:pt x="133" y="1500"/>
                      </a:lnTo>
                      <a:lnTo>
                        <a:pt x="117" y="1431"/>
                      </a:lnTo>
                      <a:lnTo>
                        <a:pt x="108" y="1361"/>
                      </a:lnTo>
                      <a:lnTo>
                        <a:pt x="92" y="1292"/>
                      </a:lnTo>
                      <a:lnTo>
                        <a:pt x="83" y="1223"/>
                      </a:lnTo>
                      <a:lnTo>
                        <a:pt x="75" y="1154"/>
                      </a:lnTo>
                      <a:lnTo>
                        <a:pt x="66" y="1084"/>
                      </a:lnTo>
                      <a:lnTo>
                        <a:pt x="58" y="1015"/>
                      </a:lnTo>
                      <a:lnTo>
                        <a:pt x="50" y="946"/>
                      </a:lnTo>
                      <a:lnTo>
                        <a:pt x="41" y="877"/>
                      </a:lnTo>
                      <a:lnTo>
                        <a:pt x="33" y="808"/>
                      </a:lnTo>
                      <a:lnTo>
                        <a:pt x="25" y="738"/>
                      </a:lnTo>
                      <a:lnTo>
                        <a:pt x="25" y="669"/>
                      </a:lnTo>
                      <a:lnTo>
                        <a:pt x="16" y="600"/>
                      </a:lnTo>
                      <a:lnTo>
                        <a:pt x="8" y="531"/>
                      </a:lnTo>
                      <a:lnTo>
                        <a:pt x="0" y="461"/>
                      </a:lnTo>
                      <a:lnTo>
                        <a:pt x="0" y="392"/>
                      </a:lnTo>
                      <a:lnTo>
                        <a:pt x="0" y="377"/>
                      </a:lnTo>
                      <a:lnTo>
                        <a:pt x="0" y="354"/>
                      </a:lnTo>
                      <a:lnTo>
                        <a:pt x="0" y="331"/>
                      </a:lnTo>
                      <a:lnTo>
                        <a:pt x="8" y="308"/>
                      </a:lnTo>
                      <a:lnTo>
                        <a:pt x="16" y="284"/>
                      </a:lnTo>
                      <a:lnTo>
                        <a:pt x="25" y="261"/>
                      </a:lnTo>
                      <a:lnTo>
                        <a:pt x="33" y="246"/>
                      </a:lnTo>
                      <a:lnTo>
                        <a:pt x="41" y="223"/>
                      </a:lnTo>
                      <a:lnTo>
                        <a:pt x="50" y="208"/>
                      </a:lnTo>
                      <a:lnTo>
                        <a:pt x="58" y="200"/>
                      </a:lnTo>
                      <a:lnTo>
                        <a:pt x="75" y="184"/>
                      </a:lnTo>
                      <a:lnTo>
                        <a:pt x="83" y="169"/>
                      </a:lnTo>
                      <a:lnTo>
                        <a:pt x="92" y="154"/>
                      </a:lnTo>
                      <a:lnTo>
                        <a:pt x="100" y="146"/>
                      </a:lnTo>
                      <a:lnTo>
                        <a:pt x="117" y="131"/>
                      </a:lnTo>
                      <a:lnTo>
                        <a:pt x="125" y="123"/>
                      </a:lnTo>
                      <a:lnTo>
                        <a:pt x="133" y="108"/>
                      </a:lnTo>
                      <a:lnTo>
                        <a:pt x="150" y="100"/>
                      </a:lnTo>
                      <a:lnTo>
                        <a:pt x="158" y="84"/>
                      </a:lnTo>
                      <a:lnTo>
                        <a:pt x="167" y="77"/>
                      </a:lnTo>
                      <a:lnTo>
                        <a:pt x="183" y="69"/>
                      </a:lnTo>
                      <a:lnTo>
                        <a:pt x="192" y="54"/>
                      </a:lnTo>
                      <a:lnTo>
                        <a:pt x="200" y="46"/>
                      </a:lnTo>
                      <a:lnTo>
                        <a:pt x="217" y="31"/>
                      </a:lnTo>
                      <a:lnTo>
                        <a:pt x="234" y="31"/>
                      </a:lnTo>
                      <a:lnTo>
                        <a:pt x="250" y="31"/>
                      </a:lnTo>
                      <a:lnTo>
                        <a:pt x="267" y="31"/>
                      </a:lnTo>
                      <a:lnTo>
                        <a:pt x="284" y="23"/>
                      </a:lnTo>
                      <a:lnTo>
                        <a:pt x="300" y="23"/>
                      </a:lnTo>
                      <a:lnTo>
                        <a:pt x="326" y="23"/>
                      </a:lnTo>
                      <a:lnTo>
                        <a:pt x="342" y="23"/>
                      </a:lnTo>
                      <a:lnTo>
                        <a:pt x="359" y="23"/>
                      </a:lnTo>
                      <a:lnTo>
                        <a:pt x="376" y="15"/>
                      </a:lnTo>
                      <a:lnTo>
                        <a:pt x="392" y="15"/>
                      </a:lnTo>
                      <a:lnTo>
                        <a:pt x="409" y="15"/>
                      </a:lnTo>
                      <a:lnTo>
                        <a:pt x="426" y="15"/>
                      </a:lnTo>
                      <a:lnTo>
                        <a:pt x="451" y="15"/>
                      </a:lnTo>
                      <a:lnTo>
                        <a:pt x="468" y="15"/>
                      </a:lnTo>
                      <a:lnTo>
                        <a:pt x="484" y="8"/>
                      </a:lnTo>
                      <a:lnTo>
                        <a:pt x="501" y="8"/>
                      </a:lnTo>
                      <a:lnTo>
                        <a:pt x="509" y="8"/>
                      </a:lnTo>
                      <a:lnTo>
                        <a:pt x="526" y="8"/>
                      </a:lnTo>
                      <a:lnTo>
                        <a:pt x="534" y="8"/>
                      </a:lnTo>
                      <a:lnTo>
                        <a:pt x="551" y="8"/>
                      </a:lnTo>
                      <a:lnTo>
                        <a:pt x="560" y="8"/>
                      </a:lnTo>
                      <a:lnTo>
                        <a:pt x="576" y="8"/>
                      </a:lnTo>
                      <a:lnTo>
                        <a:pt x="585" y="0"/>
                      </a:lnTo>
                      <a:lnTo>
                        <a:pt x="593" y="0"/>
                      </a:lnTo>
                      <a:close/>
                    </a:path>
                  </a:pathLst>
                </a:custGeom>
                <a:solidFill>
                  <a:srgbClr val="00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Freeform 662"/>
                <p:cNvSpPr/>
                <p:nvPr/>
              </p:nvSpPr>
              <p:spPr>
                <a:xfrm flipH="1">
                  <a:off x="405000" y="1616040"/>
                  <a:ext cx="208080" cy="336960"/>
                </a:xfrm>
                <a:custGeom>
                  <a:avLst/>
                  <a:gdLst>
                    <a:gd name="textAreaLeft" fmla="*/ 360 w 208080"/>
                    <a:gd name="textAreaRight" fmla="*/ 208800 w 208080"/>
                    <a:gd name="textAreaTop" fmla="*/ 0 h 336960"/>
                    <a:gd name="textAreaBottom" fmla="*/ 337320 h 336960"/>
                  </a:gdLst>
                  <a:ahLst/>
                  <a:rect l="textAreaLeft" t="textAreaTop" r="textAreaRight" b="textAreaBottom"/>
                  <a:pathLst>
                    <a:path w="1044" h="1608">
                      <a:moveTo>
                        <a:pt x="593" y="0"/>
                      </a:moveTo>
                      <a:lnTo>
                        <a:pt x="610" y="8"/>
                      </a:lnTo>
                      <a:lnTo>
                        <a:pt x="626" y="8"/>
                      </a:lnTo>
                      <a:lnTo>
                        <a:pt x="635" y="15"/>
                      </a:lnTo>
                      <a:lnTo>
                        <a:pt x="651" y="15"/>
                      </a:lnTo>
                      <a:lnTo>
                        <a:pt x="660" y="23"/>
                      </a:lnTo>
                      <a:lnTo>
                        <a:pt x="677" y="23"/>
                      </a:lnTo>
                      <a:lnTo>
                        <a:pt x="685" y="31"/>
                      </a:lnTo>
                      <a:lnTo>
                        <a:pt x="693" y="31"/>
                      </a:lnTo>
                      <a:lnTo>
                        <a:pt x="710" y="38"/>
                      </a:lnTo>
                      <a:lnTo>
                        <a:pt x="718" y="38"/>
                      </a:lnTo>
                      <a:lnTo>
                        <a:pt x="727" y="46"/>
                      </a:lnTo>
                      <a:lnTo>
                        <a:pt x="743" y="46"/>
                      </a:lnTo>
                      <a:lnTo>
                        <a:pt x="752" y="54"/>
                      </a:lnTo>
                      <a:lnTo>
                        <a:pt x="768" y="61"/>
                      </a:lnTo>
                      <a:lnTo>
                        <a:pt x="777" y="61"/>
                      </a:lnTo>
                      <a:lnTo>
                        <a:pt x="785" y="69"/>
                      </a:lnTo>
                      <a:lnTo>
                        <a:pt x="802" y="77"/>
                      </a:lnTo>
                      <a:lnTo>
                        <a:pt x="819" y="84"/>
                      </a:lnTo>
                      <a:lnTo>
                        <a:pt x="835" y="92"/>
                      </a:lnTo>
                      <a:lnTo>
                        <a:pt x="844" y="108"/>
                      </a:lnTo>
                      <a:lnTo>
                        <a:pt x="860" y="115"/>
                      </a:lnTo>
                      <a:lnTo>
                        <a:pt x="877" y="123"/>
                      </a:lnTo>
                      <a:lnTo>
                        <a:pt x="885" y="131"/>
                      </a:lnTo>
                      <a:lnTo>
                        <a:pt x="902" y="146"/>
                      </a:lnTo>
                      <a:lnTo>
                        <a:pt x="911" y="154"/>
                      </a:lnTo>
                      <a:lnTo>
                        <a:pt x="927" y="161"/>
                      </a:lnTo>
                      <a:lnTo>
                        <a:pt x="944" y="177"/>
                      </a:lnTo>
                      <a:lnTo>
                        <a:pt x="952" y="184"/>
                      </a:lnTo>
                      <a:lnTo>
                        <a:pt x="961" y="200"/>
                      </a:lnTo>
                      <a:lnTo>
                        <a:pt x="969" y="215"/>
                      </a:lnTo>
                      <a:lnTo>
                        <a:pt x="986" y="223"/>
                      </a:lnTo>
                      <a:lnTo>
                        <a:pt x="994" y="238"/>
                      </a:lnTo>
                      <a:lnTo>
                        <a:pt x="1002" y="261"/>
                      </a:lnTo>
                      <a:lnTo>
                        <a:pt x="1019" y="284"/>
                      </a:lnTo>
                      <a:lnTo>
                        <a:pt x="1028" y="308"/>
                      </a:lnTo>
                      <a:lnTo>
                        <a:pt x="1036" y="338"/>
                      </a:lnTo>
                      <a:lnTo>
                        <a:pt x="1044" y="361"/>
                      </a:lnTo>
                      <a:lnTo>
                        <a:pt x="1044" y="392"/>
                      </a:lnTo>
                      <a:lnTo>
                        <a:pt x="1044" y="415"/>
                      </a:lnTo>
                      <a:lnTo>
                        <a:pt x="1044" y="446"/>
                      </a:lnTo>
                      <a:lnTo>
                        <a:pt x="1019" y="515"/>
                      </a:lnTo>
                      <a:lnTo>
                        <a:pt x="994" y="584"/>
                      </a:lnTo>
                      <a:lnTo>
                        <a:pt x="977" y="646"/>
                      </a:lnTo>
                      <a:lnTo>
                        <a:pt x="961" y="715"/>
                      </a:lnTo>
                      <a:lnTo>
                        <a:pt x="944" y="777"/>
                      </a:lnTo>
                      <a:lnTo>
                        <a:pt x="919" y="846"/>
                      </a:lnTo>
                      <a:lnTo>
                        <a:pt x="902" y="915"/>
                      </a:lnTo>
                      <a:lnTo>
                        <a:pt x="885" y="977"/>
                      </a:lnTo>
                      <a:lnTo>
                        <a:pt x="869" y="1038"/>
                      </a:lnTo>
                      <a:lnTo>
                        <a:pt x="852" y="1108"/>
                      </a:lnTo>
                      <a:lnTo>
                        <a:pt x="835" y="1177"/>
                      </a:lnTo>
                      <a:lnTo>
                        <a:pt x="819" y="1246"/>
                      </a:lnTo>
                      <a:lnTo>
                        <a:pt x="802" y="1308"/>
                      </a:lnTo>
                      <a:lnTo>
                        <a:pt x="777" y="1384"/>
                      </a:lnTo>
                      <a:lnTo>
                        <a:pt x="760" y="1454"/>
                      </a:lnTo>
                      <a:lnTo>
                        <a:pt x="743" y="1523"/>
                      </a:lnTo>
                      <a:lnTo>
                        <a:pt x="735" y="1538"/>
                      </a:lnTo>
                      <a:lnTo>
                        <a:pt x="727" y="1546"/>
                      </a:lnTo>
                      <a:lnTo>
                        <a:pt x="718" y="1554"/>
                      </a:lnTo>
                      <a:lnTo>
                        <a:pt x="710" y="1561"/>
                      </a:lnTo>
                      <a:lnTo>
                        <a:pt x="702" y="1569"/>
                      </a:lnTo>
                      <a:lnTo>
                        <a:pt x="693" y="1577"/>
                      </a:lnTo>
                      <a:lnTo>
                        <a:pt x="677" y="1584"/>
                      </a:lnTo>
                      <a:lnTo>
                        <a:pt x="668" y="1584"/>
                      </a:lnTo>
                      <a:lnTo>
                        <a:pt x="651" y="1584"/>
                      </a:lnTo>
                      <a:lnTo>
                        <a:pt x="635" y="1584"/>
                      </a:lnTo>
                      <a:lnTo>
                        <a:pt x="626" y="1584"/>
                      </a:lnTo>
                      <a:lnTo>
                        <a:pt x="610" y="1584"/>
                      </a:lnTo>
                      <a:lnTo>
                        <a:pt x="601" y="1584"/>
                      </a:lnTo>
                      <a:lnTo>
                        <a:pt x="585" y="1584"/>
                      </a:lnTo>
                      <a:lnTo>
                        <a:pt x="568" y="1577"/>
                      </a:lnTo>
                      <a:lnTo>
                        <a:pt x="551" y="1577"/>
                      </a:lnTo>
                      <a:lnTo>
                        <a:pt x="543" y="1577"/>
                      </a:lnTo>
                      <a:lnTo>
                        <a:pt x="534" y="1569"/>
                      </a:lnTo>
                      <a:lnTo>
                        <a:pt x="526" y="1569"/>
                      </a:lnTo>
                      <a:lnTo>
                        <a:pt x="526" y="1561"/>
                      </a:lnTo>
                      <a:lnTo>
                        <a:pt x="518" y="1554"/>
                      </a:lnTo>
                      <a:lnTo>
                        <a:pt x="509" y="1546"/>
                      </a:lnTo>
                      <a:lnTo>
                        <a:pt x="501" y="1538"/>
                      </a:lnTo>
                      <a:lnTo>
                        <a:pt x="493" y="1546"/>
                      </a:lnTo>
                      <a:lnTo>
                        <a:pt x="484" y="1554"/>
                      </a:lnTo>
                      <a:lnTo>
                        <a:pt x="468" y="1561"/>
                      </a:lnTo>
                      <a:lnTo>
                        <a:pt x="459" y="1569"/>
                      </a:lnTo>
                      <a:lnTo>
                        <a:pt x="451" y="1569"/>
                      </a:lnTo>
                      <a:lnTo>
                        <a:pt x="443" y="1577"/>
                      </a:lnTo>
                      <a:lnTo>
                        <a:pt x="434" y="1584"/>
                      </a:lnTo>
                      <a:lnTo>
                        <a:pt x="417" y="1584"/>
                      </a:lnTo>
                      <a:lnTo>
                        <a:pt x="409" y="1592"/>
                      </a:lnTo>
                      <a:lnTo>
                        <a:pt x="401" y="1592"/>
                      </a:lnTo>
                      <a:lnTo>
                        <a:pt x="392" y="1592"/>
                      </a:lnTo>
                      <a:lnTo>
                        <a:pt x="376" y="1600"/>
                      </a:lnTo>
                      <a:lnTo>
                        <a:pt x="367" y="1600"/>
                      </a:lnTo>
                      <a:lnTo>
                        <a:pt x="359" y="1600"/>
                      </a:lnTo>
                      <a:lnTo>
                        <a:pt x="342" y="1608"/>
                      </a:lnTo>
                      <a:lnTo>
                        <a:pt x="334" y="1608"/>
                      </a:lnTo>
                      <a:lnTo>
                        <a:pt x="326" y="1608"/>
                      </a:lnTo>
                      <a:lnTo>
                        <a:pt x="309" y="1608"/>
                      </a:lnTo>
                      <a:lnTo>
                        <a:pt x="300" y="1608"/>
                      </a:lnTo>
                      <a:lnTo>
                        <a:pt x="292" y="1608"/>
                      </a:lnTo>
                      <a:lnTo>
                        <a:pt x="275" y="1608"/>
                      </a:lnTo>
                      <a:lnTo>
                        <a:pt x="267" y="1608"/>
                      </a:lnTo>
                      <a:lnTo>
                        <a:pt x="259" y="1608"/>
                      </a:lnTo>
                      <a:lnTo>
                        <a:pt x="250" y="1608"/>
                      </a:lnTo>
                      <a:lnTo>
                        <a:pt x="225" y="1600"/>
                      </a:lnTo>
                      <a:lnTo>
                        <a:pt x="209" y="1592"/>
                      </a:lnTo>
                      <a:lnTo>
                        <a:pt x="192" y="1577"/>
                      </a:lnTo>
                      <a:lnTo>
                        <a:pt x="175" y="1561"/>
                      </a:lnTo>
                      <a:lnTo>
                        <a:pt x="158" y="1546"/>
                      </a:lnTo>
                      <a:lnTo>
                        <a:pt x="150" y="1531"/>
                      </a:lnTo>
                      <a:lnTo>
                        <a:pt x="133" y="1515"/>
                      </a:lnTo>
                      <a:lnTo>
                        <a:pt x="133" y="1500"/>
                      </a:lnTo>
                      <a:lnTo>
                        <a:pt x="117" y="1431"/>
                      </a:lnTo>
                      <a:lnTo>
                        <a:pt x="108" y="1361"/>
                      </a:lnTo>
                      <a:lnTo>
                        <a:pt x="92" y="1292"/>
                      </a:lnTo>
                      <a:lnTo>
                        <a:pt x="83" y="1223"/>
                      </a:lnTo>
                      <a:lnTo>
                        <a:pt x="75" y="1154"/>
                      </a:lnTo>
                      <a:lnTo>
                        <a:pt x="66" y="1084"/>
                      </a:lnTo>
                      <a:lnTo>
                        <a:pt x="58" y="1015"/>
                      </a:lnTo>
                      <a:lnTo>
                        <a:pt x="50" y="946"/>
                      </a:lnTo>
                      <a:lnTo>
                        <a:pt x="41" y="877"/>
                      </a:lnTo>
                      <a:lnTo>
                        <a:pt x="33" y="808"/>
                      </a:lnTo>
                      <a:lnTo>
                        <a:pt x="25" y="738"/>
                      </a:lnTo>
                      <a:lnTo>
                        <a:pt x="25" y="669"/>
                      </a:lnTo>
                      <a:lnTo>
                        <a:pt x="16" y="600"/>
                      </a:lnTo>
                      <a:lnTo>
                        <a:pt x="8" y="531"/>
                      </a:lnTo>
                      <a:lnTo>
                        <a:pt x="0" y="461"/>
                      </a:lnTo>
                      <a:lnTo>
                        <a:pt x="0" y="392"/>
                      </a:lnTo>
                      <a:lnTo>
                        <a:pt x="0" y="377"/>
                      </a:lnTo>
                      <a:lnTo>
                        <a:pt x="0" y="354"/>
                      </a:lnTo>
                      <a:lnTo>
                        <a:pt x="0" y="331"/>
                      </a:lnTo>
                      <a:lnTo>
                        <a:pt x="8" y="308"/>
                      </a:lnTo>
                      <a:lnTo>
                        <a:pt x="16" y="284"/>
                      </a:lnTo>
                      <a:lnTo>
                        <a:pt x="25" y="261"/>
                      </a:lnTo>
                      <a:lnTo>
                        <a:pt x="33" y="246"/>
                      </a:lnTo>
                      <a:lnTo>
                        <a:pt x="41" y="223"/>
                      </a:lnTo>
                      <a:lnTo>
                        <a:pt x="50" y="208"/>
                      </a:lnTo>
                      <a:lnTo>
                        <a:pt x="58" y="200"/>
                      </a:lnTo>
                      <a:lnTo>
                        <a:pt x="75" y="184"/>
                      </a:lnTo>
                      <a:lnTo>
                        <a:pt x="83" y="169"/>
                      </a:lnTo>
                      <a:lnTo>
                        <a:pt x="92" y="154"/>
                      </a:lnTo>
                      <a:lnTo>
                        <a:pt x="100" y="146"/>
                      </a:lnTo>
                      <a:lnTo>
                        <a:pt x="117" y="131"/>
                      </a:lnTo>
                      <a:lnTo>
                        <a:pt x="125" y="123"/>
                      </a:lnTo>
                      <a:lnTo>
                        <a:pt x="133" y="108"/>
                      </a:lnTo>
                      <a:lnTo>
                        <a:pt x="150" y="100"/>
                      </a:lnTo>
                      <a:lnTo>
                        <a:pt x="158" y="84"/>
                      </a:lnTo>
                      <a:lnTo>
                        <a:pt x="167" y="77"/>
                      </a:lnTo>
                      <a:lnTo>
                        <a:pt x="183" y="69"/>
                      </a:lnTo>
                      <a:lnTo>
                        <a:pt x="192" y="54"/>
                      </a:lnTo>
                      <a:lnTo>
                        <a:pt x="200" y="46"/>
                      </a:lnTo>
                      <a:lnTo>
                        <a:pt x="217" y="31"/>
                      </a:lnTo>
                      <a:lnTo>
                        <a:pt x="234" y="31"/>
                      </a:lnTo>
                      <a:lnTo>
                        <a:pt x="250" y="31"/>
                      </a:lnTo>
                      <a:lnTo>
                        <a:pt x="267" y="31"/>
                      </a:lnTo>
                      <a:lnTo>
                        <a:pt x="284" y="23"/>
                      </a:lnTo>
                      <a:lnTo>
                        <a:pt x="300" y="23"/>
                      </a:lnTo>
                      <a:lnTo>
                        <a:pt x="326" y="23"/>
                      </a:lnTo>
                      <a:lnTo>
                        <a:pt x="342" y="23"/>
                      </a:lnTo>
                      <a:lnTo>
                        <a:pt x="359" y="23"/>
                      </a:lnTo>
                      <a:lnTo>
                        <a:pt x="376" y="15"/>
                      </a:lnTo>
                      <a:lnTo>
                        <a:pt x="392" y="15"/>
                      </a:lnTo>
                      <a:lnTo>
                        <a:pt x="409" y="15"/>
                      </a:lnTo>
                      <a:lnTo>
                        <a:pt x="426" y="15"/>
                      </a:lnTo>
                      <a:lnTo>
                        <a:pt x="451" y="15"/>
                      </a:lnTo>
                      <a:lnTo>
                        <a:pt x="468" y="15"/>
                      </a:lnTo>
                      <a:lnTo>
                        <a:pt x="484" y="8"/>
                      </a:lnTo>
                      <a:lnTo>
                        <a:pt x="501" y="8"/>
                      </a:lnTo>
                      <a:lnTo>
                        <a:pt x="509" y="8"/>
                      </a:lnTo>
                      <a:lnTo>
                        <a:pt x="526" y="8"/>
                      </a:lnTo>
                      <a:lnTo>
                        <a:pt x="534" y="8"/>
                      </a:lnTo>
                      <a:lnTo>
                        <a:pt x="551" y="8"/>
                      </a:lnTo>
                      <a:lnTo>
                        <a:pt x="560" y="8"/>
                      </a:lnTo>
                      <a:lnTo>
                        <a:pt x="576" y="8"/>
                      </a:lnTo>
                      <a:lnTo>
                        <a:pt x="585" y="0"/>
                      </a:lnTo>
                      <a:lnTo>
                        <a:pt x="593"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Freeform 661"/>
                <p:cNvSpPr/>
                <p:nvPr/>
              </p:nvSpPr>
              <p:spPr>
                <a:xfrm flipH="1">
                  <a:off x="404280" y="1616040"/>
                  <a:ext cx="108360" cy="331920"/>
                </a:xfrm>
                <a:custGeom>
                  <a:avLst/>
                  <a:gdLst>
                    <a:gd name="textAreaLeft" fmla="*/ -360 w 108360"/>
                    <a:gd name="textAreaRight" fmla="*/ 108360 w 108360"/>
                    <a:gd name="textAreaTop" fmla="*/ 0 h 331920"/>
                    <a:gd name="textAreaBottom" fmla="*/ 332280 h 331920"/>
                  </a:gdLst>
                  <a:ahLst/>
                  <a:rect l="textAreaLeft" t="textAreaTop" r="textAreaRight" b="textAreaBottom"/>
                  <a:pathLst>
                    <a:path w="543" h="1584">
                      <a:moveTo>
                        <a:pt x="92" y="0"/>
                      </a:moveTo>
                      <a:lnTo>
                        <a:pt x="109" y="8"/>
                      </a:lnTo>
                      <a:lnTo>
                        <a:pt x="125" y="8"/>
                      </a:lnTo>
                      <a:lnTo>
                        <a:pt x="134" y="15"/>
                      </a:lnTo>
                      <a:lnTo>
                        <a:pt x="150" y="15"/>
                      </a:lnTo>
                      <a:lnTo>
                        <a:pt x="159" y="23"/>
                      </a:lnTo>
                      <a:lnTo>
                        <a:pt x="176" y="23"/>
                      </a:lnTo>
                      <a:lnTo>
                        <a:pt x="184" y="31"/>
                      </a:lnTo>
                      <a:lnTo>
                        <a:pt x="192" y="31"/>
                      </a:lnTo>
                      <a:lnTo>
                        <a:pt x="209" y="38"/>
                      </a:lnTo>
                      <a:lnTo>
                        <a:pt x="217" y="38"/>
                      </a:lnTo>
                      <a:lnTo>
                        <a:pt x="226" y="46"/>
                      </a:lnTo>
                      <a:lnTo>
                        <a:pt x="242" y="46"/>
                      </a:lnTo>
                      <a:lnTo>
                        <a:pt x="251" y="54"/>
                      </a:lnTo>
                      <a:lnTo>
                        <a:pt x="267" y="61"/>
                      </a:lnTo>
                      <a:lnTo>
                        <a:pt x="276" y="61"/>
                      </a:lnTo>
                      <a:lnTo>
                        <a:pt x="284" y="69"/>
                      </a:lnTo>
                      <a:lnTo>
                        <a:pt x="301" y="77"/>
                      </a:lnTo>
                      <a:lnTo>
                        <a:pt x="318" y="84"/>
                      </a:lnTo>
                      <a:lnTo>
                        <a:pt x="334" y="92"/>
                      </a:lnTo>
                      <a:lnTo>
                        <a:pt x="343" y="108"/>
                      </a:lnTo>
                      <a:lnTo>
                        <a:pt x="359" y="115"/>
                      </a:lnTo>
                      <a:lnTo>
                        <a:pt x="376" y="123"/>
                      </a:lnTo>
                      <a:lnTo>
                        <a:pt x="384" y="131"/>
                      </a:lnTo>
                      <a:lnTo>
                        <a:pt x="401" y="146"/>
                      </a:lnTo>
                      <a:lnTo>
                        <a:pt x="410" y="154"/>
                      </a:lnTo>
                      <a:lnTo>
                        <a:pt x="426" y="161"/>
                      </a:lnTo>
                      <a:lnTo>
                        <a:pt x="443" y="177"/>
                      </a:lnTo>
                      <a:lnTo>
                        <a:pt x="451" y="184"/>
                      </a:lnTo>
                      <a:lnTo>
                        <a:pt x="460" y="200"/>
                      </a:lnTo>
                      <a:lnTo>
                        <a:pt x="468" y="215"/>
                      </a:lnTo>
                      <a:lnTo>
                        <a:pt x="485" y="223"/>
                      </a:lnTo>
                      <a:lnTo>
                        <a:pt x="493" y="238"/>
                      </a:lnTo>
                      <a:lnTo>
                        <a:pt x="501" y="261"/>
                      </a:lnTo>
                      <a:lnTo>
                        <a:pt x="518" y="284"/>
                      </a:lnTo>
                      <a:lnTo>
                        <a:pt x="527" y="308"/>
                      </a:lnTo>
                      <a:lnTo>
                        <a:pt x="535" y="338"/>
                      </a:lnTo>
                      <a:lnTo>
                        <a:pt x="543" y="361"/>
                      </a:lnTo>
                      <a:lnTo>
                        <a:pt x="543" y="392"/>
                      </a:lnTo>
                      <a:lnTo>
                        <a:pt x="543" y="415"/>
                      </a:lnTo>
                      <a:lnTo>
                        <a:pt x="543" y="446"/>
                      </a:lnTo>
                      <a:lnTo>
                        <a:pt x="518" y="515"/>
                      </a:lnTo>
                      <a:lnTo>
                        <a:pt x="493" y="584"/>
                      </a:lnTo>
                      <a:lnTo>
                        <a:pt x="476" y="646"/>
                      </a:lnTo>
                      <a:lnTo>
                        <a:pt x="460" y="715"/>
                      </a:lnTo>
                      <a:lnTo>
                        <a:pt x="443" y="777"/>
                      </a:lnTo>
                      <a:lnTo>
                        <a:pt x="418" y="846"/>
                      </a:lnTo>
                      <a:lnTo>
                        <a:pt x="401" y="915"/>
                      </a:lnTo>
                      <a:lnTo>
                        <a:pt x="384" y="977"/>
                      </a:lnTo>
                      <a:lnTo>
                        <a:pt x="368" y="1038"/>
                      </a:lnTo>
                      <a:lnTo>
                        <a:pt x="351" y="1108"/>
                      </a:lnTo>
                      <a:lnTo>
                        <a:pt x="334" y="1177"/>
                      </a:lnTo>
                      <a:lnTo>
                        <a:pt x="318" y="1246"/>
                      </a:lnTo>
                      <a:lnTo>
                        <a:pt x="301" y="1308"/>
                      </a:lnTo>
                      <a:lnTo>
                        <a:pt x="276" y="1384"/>
                      </a:lnTo>
                      <a:lnTo>
                        <a:pt x="259" y="1454"/>
                      </a:lnTo>
                      <a:lnTo>
                        <a:pt x="242" y="1523"/>
                      </a:lnTo>
                      <a:lnTo>
                        <a:pt x="234" y="1538"/>
                      </a:lnTo>
                      <a:lnTo>
                        <a:pt x="226" y="1546"/>
                      </a:lnTo>
                      <a:lnTo>
                        <a:pt x="217" y="1554"/>
                      </a:lnTo>
                      <a:lnTo>
                        <a:pt x="209" y="1561"/>
                      </a:lnTo>
                      <a:lnTo>
                        <a:pt x="201" y="1569"/>
                      </a:lnTo>
                      <a:lnTo>
                        <a:pt x="192" y="1577"/>
                      </a:lnTo>
                      <a:lnTo>
                        <a:pt x="176" y="1584"/>
                      </a:lnTo>
                      <a:lnTo>
                        <a:pt x="167" y="1584"/>
                      </a:lnTo>
                      <a:lnTo>
                        <a:pt x="184" y="1546"/>
                      </a:lnTo>
                      <a:lnTo>
                        <a:pt x="201" y="1508"/>
                      </a:lnTo>
                      <a:lnTo>
                        <a:pt x="209" y="1469"/>
                      </a:lnTo>
                      <a:lnTo>
                        <a:pt x="226" y="1431"/>
                      </a:lnTo>
                      <a:lnTo>
                        <a:pt x="234" y="1392"/>
                      </a:lnTo>
                      <a:lnTo>
                        <a:pt x="242" y="1354"/>
                      </a:lnTo>
                      <a:lnTo>
                        <a:pt x="251" y="1315"/>
                      </a:lnTo>
                      <a:lnTo>
                        <a:pt x="259" y="1284"/>
                      </a:lnTo>
                      <a:lnTo>
                        <a:pt x="267" y="1246"/>
                      </a:lnTo>
                      <a:lnTo>
                        <a:pt x="276" y="1208"/>
                      </a:lnTo>
                      <a:lnTo>
                        <a:pt x="284" y="1169"/>
                      </a:lnTo>
                      <a:lnTo>
                        <a:pt x="293" y="1131"/>
                      </a:lnTo>
                      <a:lnTo>
                        <a:pt x="301" y="1092"/>
                      </a:lnTo>
                      <a:lnTo>
                        <a:pt x="309" y="1061"/>
                      </a:lnTo>
                      <a:lnTo>
                        <a:pt x="318" y="1023"/>
                      </a:lnTo>
                      <a:lnTo>
                        <a:pt x="326" y="984"/>
                      </a:lnTo>
                      <a:lnTo>
                        <a:pt x="334" y="954"/>
                      </a:lnTo>
                      <a:lnTo>
                        <a:pt x="343" y="923"/>
                      </a:lnTo>
                      <a:lnTo>
                        <a:pt x="351" y="900"/>
                      </a:lnTo>
                      <a:lnTo>
                        <a:pt x="359" y="869"/>
                      </a:lnTo>
                      <a:lnTo>
                        <a:pt x="368" y="838"/>
                      </a:lnTo>
                      <a:lnTo>
                        <a:pt x="384" y="808"/>
                      </a:lnTo>
                      <a:lnTo>
                        <a:pt x="393" y="777"/>
                      </a:lnTo>
                      <a:lnTo>
                        <a:pt x="401" y="746"/>
                      </a:lnTo>
                      <a:lnTo>
                        <a:pt x="418" y="715"/>
                      </a:lnTo>
                      <a:lnTo>
                        <a:pt x="426" y="684"/>
                      </a:lnTo>
                      <a:lnTo>
                        <a:pt x="435" y="654"/>
                      </a:lnTo>
                      <a:lnTo>
                        <a:pt x="443" y="623"/>
                      </a:lnTo>
                      <a:lnTo>
                        <a:pt x="451" y="592"/>
                      </a:lnTo>
                      <a:lnTo>
                        <a:pt x="460" y="561"/>
                      </a:lnTo>
                      <a:lnTo>
                        <a:pt x="468" y="538"/>
                      </a:lnTo>
                      <a:lnTo>
                        <a:pt x="476" y="508"/>
                      </a:lnTo>
                      <a:lnTo>
                        <a:pt x="476" y="477"/>
                      </a:lnTo>
                      <a:lnTo>
                        <a:pt x="476" y="446"/>
                      </a:lnTo>
                      <a:lnTo>
                        <a:pt x="476" y="415"/>
                      </a:lnTo>
                      <a:lnTo>
                        <a:pt x="476" y="384"/>
                      </a:lnTo>
                      <a:lnTo>
                        <a:pt x="476" y="361"/>
                      </a:lnTo>
                      <a:lnTo>
                        <a:pt x="468" y="331"/>
                      </a:lnTo>
                      <a:lnTo>
                        <a:pt x="451" y="308"/>
                      </a:lnTo>
                      <a:lnTo>
                        <a:pt x="435" y="284"/>
                      </a:lnTo>
                      <a:lnTo>
                        <a:pt x="410" y="261"/>
                      </a:lnTo>
                      <a:lnTo>
                        <a:pt x="384" y="238"/>
                      </a:lnTo>
                      <a:lnTo>
                        <a:pt x="368" y="215"/>
                      </a:lnTo>
                      <a:lnTo>
                        <a:pt x="343" y="192"/>
                      </a:lnTo>
                      <a:lnTo>
                        <a:pt x="318" y="177"/>
                      </a:lnTo>
                      <a:lnTo>
                        <a:pt x="293" y="154"/>
                      </a:lnTo>
                      <a:lnTo>
                        <a:pt x="267" y="138"/>
                      </a:lnTo>
                      <a:lnTo>
                        <a:pt x="242" y="115"/>
                      </a:lnTo>
                      <a:lnTo>
                        <a:pt x="209" y="100"/>
                      </a:lnTo>
                      <a:lnTo>
                        <a:pt x="184" y="84"/>
                      </a:lnTo>
                      <a:lnTo>
                        <a:pt x="159" y="69"/>
                      </a:lnTo>
                      <a:lnTo>
                        <a:pt x="125" y="54"/>
                      </a:lnTo>
                      <a:lnTo>
                        <a:pt x="100" y="46"/>
                      </a:lnTo>
                      <a:lnTo>
                        <a:pt x="67" y="31"/>
                      </a:lnTo>
                      <a:lnTo>
                        <a:pt x="33" y="23"/>
                      </a:lnTo>
                      <a:lnTo>
                        <a:pt x="0" y="8"/>
                      </a:lnTo>
                      <a:lnTo>
                        <a:pt x="8" y="8"/>
                      </a:lnTo>
                      <a:lnTo>
                        <a:pt x="25" y="8"/>
                      </a:lnTo>
                      <a:lnTo>
                        <a:pt x="33" y="8"/>
                      </a:lnTo>
                      <a:lnTo>
                        <a:pt x="50" y="8"/>
                      </a:lnTo>
                      <a:lnTo>
                        <a:pt x="59" y="8"/>
                      </a:lnTo>
                      <a:lnTo>
                        <a:pt x="75" y="8"/>
                      </a:lnTo>
                      <a:lnTo>
                        <a:pt x="84" y="0"/>
                      </a:lnTo>
                      <a:lnTo>
                        <a:pt x="92" y="0"/>
                      </a:lnTo>
                      <a:close/>
                    </a:path>
                  </a:pathLst>
                </a:custGeom>
                <a:solidFill>
                  <a:srgbClr val="99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Freeform 660"/>
                <p:cNvSpPr/>
                <p:nvPr/>
              </p:nvSpPr>
              <p:spPr>
                <a:xfrm flipH="1">
                  <a:off x="404280" y="1616040"/>
                  <a:ext cx="108360" cy="331920"/>
                </a:xfrm>
                <a:custGeom>
                  <a:avLst/>
                  <a:gdLst>
                    <a:gd name="textAreaLeft" fmla="*/ -360 w 108360"/>
                    <a:gd name="textAreaRight" fmla="*/ 108360 w 108360"/>
                    <a:gd name="textAreaTop" fmla="*/ 0 h 331920"/>
                    <a:gd name="textAreaBottom" fmla="*/ 332280 h 331920"/>
                  </a:gdLst>
                  <a:ahLst/>
                  <a:rect l="textAreaLeft" t="textAreaTop" r="textAreaRight" b="textAreaBottom"/>
                  <a:pathLst>
                    <a:path w="543" h="1584">
                      <a:moveTo>
                        <a:pt x="92" y="0"/>
                      </a:moveTo>
                      <a:lnTo>
                        <a:pt x="109" y="8"/>
                      </a:lnTo>
                      <a:lnTo>
                        <a:pt x="125" y="8"/>
                      </a:lnTo>
                      <a:lnTo>
                        <a:pt x="134" y="15"/>
                      </a:lnTo>
                      <a:lnTo>
                        <a:pt x="150" y="15"/>
                      </a:lnTo>
                      <a:lnTo>
                        <a:pt x="159" y="23"/>
                      </a:lnTo>
                      <a:lnTo>
                        <a:pt x="176" y="23"/>
                      </a:lnTo>
                      <a:lnTo>
                        <a:pt x="184" y="31"/>
                      </a:lnTo>
                      <a:lnTo>
                        <a:pt x="192" y="31"/>
                      </a:lnTo>
                      <a:lnTo>
                        <a:pt x="209" y="38"/>
                      </a:lnTo>
                      <a:lnTo>
                        <a:pt x="217" y="38"/>
                      </a:lnTo>
                      <a:lnTo>
                        <a:pt x="226" y="46"/>
                      </a:lnTo>
                      <a:lnTo>
                        <a:pt x="242" y="46"/>
                      </a:lnTo>
                      <a:lnTo>
                        <a:pt x="251" y="54"/>
                      </a:lnTo>
                      <a:lnTo>
                        <a:pt x="267" y="61"/>
                      </a:lnTo>
                      <a:lnTo>
                        <a:pt x="276" y="61"/>
                      </a:lnTo>
                      <a:lnTo>
                        <a:pt x="284" y="69"/>
                      </a:lnTo>
                      <a:lnTo>
                        <a:pt x="301" y="77"/>
                      </a:lnTo>
                      <a:lnTo>
                        <a:pt x="318" y="84"/>
                      </a:lnTo>
                      <a:lnTo>
                        <a:pt x="334" y="92"/>
                      </a:lnTo>
                      <a:lnTo>
                        <a:pt x="343" y="108"/>
                      </a:lnTo>
                      <a:lnTo>
                        <a:pt x="359" y="115"/>
                      </a:lnTo>
                      <a:lnTo>
                        <a:pt x="376" y="123"/>
                      </a:lnTo>
                      <a:lnTo>
                        <a:pt x="384" y="131"/>
                      </a:lnTo>
                      <a:lnTo>
                        <a:pt x="401" y="146"/>
                      </a:lnTo>
                      <a:lnTo>
                        <a:pt x="410" y="154"/>
                      </a:lnTo>
                      <a:lnTo>
                        <a:pt x="426" y="161"/>
                      </a:lnTo>
                      <a:lnTo>
                        <a:pt x="443" y="177"/>
                      </a:lnTo>
                      <a:lnTo>
                        <a:pt x="451" y="184"/>
                      </a:lnTo>
                      <a:lnTo>
                        <a:pt x="460" y="200"/>
                      </a:lnTo>
                      <a:lnTo>
                        <a:pt x="468" y="215"/>
                      </a:lnTo>
                      <a:lnTo>
                        <a:pt x="485" y="223"/>
                      </a:lnTo>
                      <a:lnTo>
                        <a:pt x="493" y="238"/>
                      </a:lnTo>
                      <a:lnTo>
                        <a:pt x="501" y="261"/>
                      </a:lnTo>
                      <a:lnTo>
                        <a:pt x="518" y="284"/>
                      </a:lnTo>
                      <a:lnTo>
                        <a:pt x="527" y="308"/>
                      </a:lnTo>
                      <a:lnTo>
                        <a:pt x="535" y="338"/>
                      </a:lnTo>
                      <a:lnTo>
                        <a:pt x="543" y="361"/>
                      </a:lnTo>
                      <a:lnTo>
                        <a:pt x="543" y="392"/>
                      </a:lnTo>
                      <a:lnTo>
                        <a:pt x="543" y="415"/>
                      </a:lnTo>
                      <a:lnTo>
                        <a:pt x="543" y="446"/>
                      </a:lnTo>
                      <a:lnTo>
                        <a:pt x="518" y="515"/>
                      </a:lnTo>
                      <a:lnTo>
                        <a:pt x="493" y="584"/>
                      </a:lnTo>
                      <a:lnTo>
                        <a:pt x="476" y="646"/>
                      </a:lnTo>
                      <a:lnTo>
                        <a:pt x="460" y="715"/>
                      </a:lnTo>
                      <a:lnTo>
                        <a:pt x="443" y="777"/>
                      </a:lnTo>
                      <a:lnTo>
                        <a:pt x="418" y="846"/>
                      </a:lnTo>
                      <a:lnTo>
                        <a:pt x="401" y="915"/>
                      </a:lnTo>
                      <a:lnTo>
                        <a:pt x="384" y="977"/>
                      </a:lnTo>
                      <a:lnTo>
                        <a:pt x="368" y="1038"/>
                      </a:lnTo>
                      <a:lnTo>
                        <a:pt x="351" y="1108"/>
                      </a:lnTo>
                      <a:lnTo>
                        <a:pt x="334" y="1177"/>
                      </a:lnTo>
                      <a:lnTo>
                        <a:pt x="318" y="1246"/>
                      </a:lnTo>
                      <a:lnTo>
                        <a:pt x="301" y="1308"/>
                      </a:lnTo>
                      <a:lnTo>
                        <a:pt x="276" y="1384"/>
                      </a:lnTo>
                      <a:lnTo>
                        <a:pt x="259" y="1454"/>
                      </a:lnTo>
                      <a:lnTo>
                        <a:pt x="242" y="1523"/>
                      </a:lnTo>
                      <a:lnTo>
                        <a:pt x="234" y="1538"/>
                      </a:lnTo>
                      <a:lnTo>
                        <a:pt x="226" y="1546"/>
                      </a:lnTo>
                      <a:lnTo>
                        <a:pt x="217" y="1554"/>
                      </a:lnTo>
                      <a:lnTo>
                        <a:pt x="209" y="1561"/>
                      </a:lnTo>
                      <a:lnTo>
                        <a:pt x="201" y="1569"/>
                      </a:lnTo>
                      <a:lnTo>
                        <a:pt x="192" y="1577"/>
                      </a:lnTo>
                      <a:lnTo>
                        <a:pt x="176" y="1584"/>
                      </a:lnTo>
                      <a:lnTo>
                        <a:pt x="167" y="1584"/>
                      </a:lnTo>
                      <a:lnTo>
                        <a:pt x="184" y="1546"/>
                      </a:lnTo>
                      <a:lnTo>
                        <a:pt x="201" y="1508"/>
                      </a:lnTo>
                      <a:lnTo>
                        <a:pt x="209" y="1469"/>
                      </a:lnTo>
                      <a:lnTo>
                        <a:pt x="226" y="1431"/>
                      </a:lnTo>
                      <a:lnTo>
                        <a:pt x="234" y="1392"/>
                      </a:lnTo>
                      <a:lnTo>
                        <a:pt x="242" y="1354"/>
                      </a:lnTo>
                      <a:lnTo>
                        <a:pt x="251" y="1315"/>
                      </a:lnTo>
                      <a:lnTo>
                        <a:pt x="259" y="1284"/>
                      </a:lnTo>
                      <a:lnTo>
                        <a:pt x="267" y="1246"/>
                      </a:lnTo>
                      <a:lnTo>
                        <a:pt x="276" y="1208"/>
                      </a:lnTo>
                      <a:lnTo>
                        <a:pt x="284" y="1169"/>
                      </a:lnTo>
                      <a:lnTo>
                        <a:pt x="293" y="1131"/>
                      </a:lnTo>
                      <a:lnTo>
                        <a:pt x="301" y="1092"/>
                      </a:lnTo>
                      <a:lnTo>
                        <a:pt x="309" y="1061"/>
                      </a:lnTo>
                      <a:lnTo>
                        <a:pt x="318" y="1023"/>
                      </a:lnTo>
                      <a:lnTo>
                        <a:pt x="326" y="984"/>
                      </a:lnTo>
                      <a:lnTo>
                        <a:pt x="334" y="954"/>
                      </a:lnTo>
                      <a:lnTo>
                        <a:pt x="343" y="923"/>
                      </a:lnTo>
                      <a:lnTo>
                        <a:pt x="351" y="900"/>
                      </a:lnTo>
                      <a:lnTo>
                        <a:pt x="359" y="869"/>
                      </a:lnTo>
                      <a:lnTo>
                        <a:pt x="368" y="838"/>
                      </a:lnTo>
                      <a:lnTo>
                        <a:pt x="384" y="808"/>
                      </a:lnTo>
                      <a:lnTo>
                        <a:pt x="393" y="777"/>
                      </a:lnTo>
                      <a:lnTo>
                        <a:pt x="401" y="746"/>
                      </a:lnTo>
                      <a:lnTo>
                        <a:pt x="418" y="715"/>
                      </a:lnTo>
                      <a:lnTo>
                        <a:pt x="426" y="684"/>
                      </a:lnTo>
                      <a:lnTo>
                        <a:pt x="435" y="654"/>
                      </a:lnTo>
                      <a:lnTo>
                        <a:pt x="443" y="623"/>
                      </a:lnTo>
                      <a:lnTo>
                        <a:pt x="451" y="592"/>
                      </a:lnTo>
                      <a:lnTo>
                        <a:pt x="460" y="561"/>
                      </a:lnTo>
                      <a:lnTo>
                        <a:pt x="468" y="538"/>
                      </a:lnTo>
                      <a:lnTo>
                        <a:pt x="476" y="508"/>
                      </a:lnTo>
                      <a:lnTo>
                        <a:pt x="476" y="477"/>
                      </a:lnTo>
                      <a:lnTo>
                        <a:pt x="476" y="446"/>
                      </a:lnTo>
                      <a:lnTo>
                        <a:pt x="476" y="415"/>
                      </a:lnTo>
                      <a:lnTo>
                        <a:pt x="476" y="384"/>
                      </a:lnTo>
                      <a:lnTo>
                        <a:pt x="476" y="361"/>
                      </a:lnTo>
                      <a:lnTo>
                        <a:pt x="468" y="331"/>
                      </a:lnTo>
                      <a:lnTo>
                        <a:pt x="451" y="308"/>
                      </a:lnTo>
                      <a:lnTo>
                        <a:pt x="435" y="284"/>
                      </a:lnTo>
                      <a:lnTo>
                        <a:pt x="410" y="261"/>
                      </a:lnTo>
                      <a:lnTo>
                        <a:pt x="384" y="238"/>
                      </a:lnTo>
                      <a:lnTo>
                        <a:pt x="368" y="215"/>
                      </a:lnTo>
                      <a:lnTo>
                        <a:pt x="343" y="192"/>
                      </a:lnTo>
                      <a:lnTo>
                        <a:pt x="318" y="177"/>
                      </a:lnTo>
                      <a:lnTo>
                        <a:pt x="293" y="154"/>
                      </a:lnTo>
                      <a:lnTo>
                        <a:pt x="267" y="138"/>
                      </a:lnTo>
                      <a:lnTo>
                        <a:pt x="242" y="115"/>
                      </a:lnTo>
                      <a:lnTo>
                        <a:pt x="209" y="100"/>
                      </a:lnTo>
                      <a:lnTo>
                        <a:pt x="184" y="84"/>
                      </a:lnTo>
                      <a:lnTo>
                        <a:pt x="159" y="69"/>
                      </a:lnTo>
                      <a:lnTo>
                        <a:pt x="125" y="54"/>
                      </a:lnTo>
                      <a:lnTo>
                        <a:pt x="100" y="46"/>
                      </a:lnTo>
                      <a:lnTo>
                        <a:pt x="67" y="31"/>
                      </a:lnTo>
                      <a:lnTo>
                        <a:pt x="33" y="23"/>
                      </a:lnTo>
                      <a:lnTo>
                        <a:pt x="0" y="8"/>
                      </a:lnTo>
                      <a:lnTo>
                        <a:pt x="8" y="8"/>
                      </a:lnTo>
                      <a:lnTo>
                        <a:pt x="25" y="8"/>
                      </a:lnTo>
                      <a:lnTo>
                        <a:pt x="33" y="8"/>
                      </a:lnTo>
                      <a:lnTo>
                        <a:pt x="50" y="8"/>
                      </a:lnTo>
                      <a:lnTo>
                        <a:pt x="59" y="8"/>
                      </a:lnTo>
                      <a:lnTo>
                        <a:pt x="75" y="8"/>
                      </a:lnTo>
                      <a:lnTo>
                        <a:pt x="84" y="0"/>
                      </a:lnTo>
                      <a:lnTo>
                        <a:pt x="92"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Freeform 659"/>
                <p:cNvSpPr/>
                <p:nvPr/>
              </p:nvSpPr>
              <p:spPr>
                <a:xfrm flipH="1">
                  <a:off x="512640" y="1727280"/>
                  <a:ext cx="8280" cy="212760"/>
                </a:xfrm>
                <a:custGeom>
                  <a:avLst/>
                  <a:gdLst>
                    <a:gd name="textAreaLeft" fmla="*/ -360 w 8280"/>
                    <a:gd name="textAreaRight" fmla="*/ 8280 w 8280"/>
                    <a:gd name="textAreaTop" fmla="*/ 0 h 212760"/>
                    <a:gd name="textAreaBottom" fmla="*/ 213120 h 212760"/>
                  </a:gdLst>
                  <a:ahLst/>
                  <a:rect l="textAreaLeft" t="textAreaTop" r="textAreaRight" b="textAreaBottom"/>
                  <a:pathLst>
                    <a:path w="42" h="1015">
                      <a:moveTo>
                        <a:pt x="42" y="1015"/>
                      </a:moveTo>
                      <a:lnTo>
                        <a:pt x="34" y="884"/>
                      </a:lnTo>
                      <a:lnTo>
                        <a:pt x="34" y="761"/>
                      </a:lnTo>
                      <a:lnTo>
                        <a:pt x="25" y="630"/>
                      </a:lnTo>
                      <a:lnTo>
                        <a:pt x="25" y="507"/>
                      </a:lnTo>
                      <a:lnTo>
                        <a:pt x="17" y="384"/>
                      </a:lnTo>
                      <a:lnTo>
                        <a:pt x="17" y="253"/>
                      </a:lnTo>
                      <a:lnTo>
                        <a:pt x="9" y="13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Freeform 658"/>
                <p:cNvSpPr/>
                <p:nvPr/>
              </p:nvSpPr>
              <p:spPr>
                <a:xfrm flipH="1">
                  <a:off x="483120" y="1711080"/>
                  <a:ext cx="74880" cy="15840"/>
                </a:xfrm>
                <a:custGeom>
                  <a:avLst/>
                  <a:gdLst>
                    <a:gd name="textAreaLeft" fmla="*/ 360 w 74880"/>
                    <a:gd name="textAreaRight" fmla="*/ 75600 w 74880"/>
                    <a:gd name="textAreaTop" fmla="*/ 0 h 15840"/>
                    <a:gd name="textAreaBottom" fmla="*/ 16200 h 15840"/>
                  </a:gdLst>
                  <a:ahLst/>
                  <a:rect l="textAreaLeft" t="textAreaTop" r="textAreaRight" b="textAreaBottom"/>
                  <a:pathLst>
                    <a:path w="376" h="77">
                      <a:moveTo>
                        <a:pt x="376" y="0"/>
                      </a:moveTo>
                      <a:lnTo>
                        <a:pt x="368" y="15"/>
                      </a:lnTo>
                      <a:lnTo>
                        <a:pt x="351" y="30"/>
                      </a:lnTo>
                      <a:lnTo>
                        <a:pt x="335" y="38"/>
                      </a:lnTo>
                      <a:lnTo>
                        <a:pt x="310" y="54"/>
                      </a:lnTo>
                      <a:lnTo>
                        <a:pt x="285" y="61"/>
                      </a:lnTo>
                      <a:lnTo>
                        <a:pt x="259" y="69"/>
                      </a:lnTo>
                      <a:lnTo>
                        <a:pt x="234" y="69"/>
                      </a:lnTo>
                      <a:lnTo>
                        <a:pt x="209" y="77"/>
                      </a:lnTo>
                      <a:lnTo>
                        <a:pt x="184" y="77"/>
                      </a:lnTo>
                      <a:lnTo>
                        <a:pt x="151" y="77"/>
                      </a:lnTo>
                      <a:lnTo>
                        <a:pt x="126" y="77"/>
                      </a:lnTo>
                      <a:lnTo>
                        <a:pt x="101" y="77"/>
                      </a:lnTo>
                      <a:lnTo>
                        <a:pt x="76" y="69"/>
                      </a:lnTo>
                      <a:lnTo>
                        <a:pt x="51" y="61"/>
                      </a:lnTo>
                      <a:lnTo>
                        <a:pt x="25" y="54"/>
                      </a:lnTo>
                      <a:lnTo>
                        <a:pt x="0" y="38"/>
                      </a:lnTo>
                    </a:path>
                  </a:pathLst>
                </a:custGeom>
                <a:noFill/>
                <a:ln w="0">
                  <a:solidFill>
                    <a:srgbClr val="000000"/>
                  </a:solid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8" name="Freeform 657"/>
                <p:cNvSpPr/>
                <p:nvPr/>
              </p:nvSpPr>
              <p:spPr>
                <a:xfrm flipH="1">
                  <a:off x="479520" y="1598040"/>
                  <a:ext cx="93240" cy="35280"/>
                </a:xfrm>
                <a:custGeom>
                  <a:avLst/>
                  <a:gdLst>
                    <a:gd name="textAreaLeft" fmla="*/ -360 w 93240"/>
                    <a:gd name="textAreaRight" fmla="*/ 93240 w 93240"/>
                    <a:gd name="textAreaTop" fmla="*/ 0 h 35280"/>
                    <a:gd name="textAreaBottom" fmla="*/ 35640 h 35280"/>
                  </a:gdLst>
                  <a:ahLst/>
                  <a:rect l="textAreaLeft" t="textAreaTop" r="textAreaRight" b="textAreaBottom"/>
                  <a:pathLst>
                    <a:path w="468" h="169">
                      <a:moveTo>
                        <a:pt x="9" y="0"/>
                      </a:moveTo>
                      <a:lnTo>
                        <a:pt x="0" y="39"/>
                      </a:lnTo>
                      <a:lnTo>
                        <a:pt x="0" y="69"/>
                      </a:lnTo>
                      <a:lnTo>
                        <a:pt x="0" y="108"/>
                      </a:lnTo>
                      <a:lnTo>
                        <a:pt x="0" y="139"/>
                      </a:lnTo>
                      <a:lnTo>
                        <a:pt x="34" y="154"/>
                      </a:lnTo>
                      <a:lnTo>
                        <a:pt x="67" y="162"/>
                      </a:lnTo>
                      <a:lnTo>
                        <a:pt x="100" y="169"/>
                      </a:lnTo>
                      <a:lnTo>
                        <a:pt x="134" y="169"/>
                      </a:lnTo>
                      <a:lnTo>
                        <a:pt x="159" y="169"/>
                      </a:lnTo>
                      <a:lnTo>
                        <a:pt x="192" y="169"/>
                      </a:lnTo>
                      <a:lnTo>
                        <a:pt x="226" y="169"/>
                      </a:lnTo>
                      <a:lnTo>
                        <a:pt x="251" y="169"/>
                      </a:lnTo>
                      <a:lnTo>
                        <a:pt x="284" y="162"/>
                      </a:lnTo>
                      <a:lnTo>
                        <a:pt x="309" y="154"/>
                      </a:lnTo>
                      <a:lnTo>
                        <a:pt x="343" y="146"/>
                      </a:lnTo>
                      <a:lnTo>
                        <a:pt x="368" y="146"/>
                      </a:lnTo>
                      <a:lnTo>
                        <a:pt x="393" y="131"/>
                      </a:lnTo>
                      <a:lnTo>
                        <a:pt x="418" y="123"/>
                      </a:lnTo>
                      <a:lnTo>
                        <a:pt x="443" y="116"/>
                      </a:lnTo>
                      <a:lnTo>
                        <a:pt x="468" y="108"/>
                      </a:lnTo>
                      <a:lnTo>
                        <a:pt x="460" y="100"/>
                      </a:lnTo>
                      <a:lnTo>
                        <a:pt x="460" y="85"/>
                      </a:lnTo>
                      <a:lnTo>
                        <a:pt x="460" y="69"/>
                      </a:lnTo>
                      <a:lnTo>
                        <a:pt x="451" y="54"/>
                      </a:lnTo>
                      <a:lnTo>
                        <a:pt x="451" y="46"/>
                      </a:lnTo>
                      <a:lnTo>
                        <a:pt x="451" y="31"/>
                      </a:lnTo>
                      <a:lnTo>
                        <a:pt x="443" y="16"/>
                      </a:lnTo>
                      <a:lnTo>
                        <a:pt x="443" y="8"/>
                      </a:lnTo>
                      <a:lnTo>
                        <a:pt x="418" y="8"/>
                      </a:lnTo>
                      <a:lnTo>
                        <a:pt x="385" y="8"/>
                      </a:lnTo>
                      <a:lnTo>
                        <a:pt x="360" y="8"/>
                      </a:lnTo>
                      <a:lnTo>
                        <a:pt x="334" y="8"/>
                      </a:lnTo>
                      <a:lnTo>
                        <a:pt x="309" y="8"/>
                      </a:lnTo>
                      <a:lnTo>
                        <a:pt x="276" y="8"/>
                      </a:lnTo>
                      <a:lnTo>
                        <a:pt x="251" y="8"/>
                      </a:lnTo>
                      <a:lnTo>
                        <a:pt x="226" y="8"/>
                      </a:lnTo>
                      <a:lnTo>
                        <a:pt x="201" y="8"/>
                      </a:lnTo>
                      <a:lnTo>
                        <a:pt x="167" y="0"/>
                      </a:lnTo>
                      <a:lnTo>
                        <a:pt x="142" y="0"/>
                      </a:lnTo>
                      <a:lnTo>
                        <a:pt x="117" y="0"/>
                      </a:lnTo>
                      <a:lnTo>
                        <a:pt x="84" y="0"/>
                      </a:lnTo>
                      <a:lnTo>
                        <a:pt x="59" y="0"/>
                      </a:lnTo>
                      <a:lnTo>
                        <a:pt x="34" y="0"/>
                      </a:lnTo>
                      <a:lnTo>
                        <a:pt x="9" y="0"/>
                      </a:lnTo>
                      <a:close/>
                    </a:path>
                  </a:pathLst>
                </a:custGeom>
                <a:solidFill>
                  <a:srgbClr val="99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Freeform 656"/>
                <p:cNvSpPr/>
                <p:nvPr/>
              </p:nvSpPr>
              <p:spPr>
                <a:xfrm flipH="1">
                  <a:off x="479520" y="1598040"/>
                  <a:ext cx="93240" cy="35280"/>
                </a:xfrm>
                <a:custGeom>
                  <a:avLst/>
                  <a:gdLst>
                    <a:gd name="textAreaLeft" fmla="*/ -360 w 93240"/>
                    <a:gd name="textAreaRight" fmla="*/ 93240 w 93240"/>
                    <a:gd name="textAreaTop" fmla="*/ 0 h 35280"/>
                    <a:gd name="textAreaBottom" fmla="*/ 35640 h 35280"/>
                  </a:gdLst>
                  <a:ahLst/>
                  <a:rect l="textAreaLeft" t="textAreaTop" r="textAreaRight" b="textAreaBottom"/>
                  <a:pathLst>
                    <a:path w="468" h="169">
                      <a:moveTo>
                        <a:pt x="9" y="0"/>
                      </a:moveTo>
                      <a:lnTo>
                        <a:pt x="0" y="39"/>
                      </a:lnTo>
                      <a:lnTo>
                        <a:pt x="0" y="69"/>
                      </a:lnTo>
                      <a:lnTo>
                        <a:pt x="0" y="108"/>
                      </a:lnTo>
                      <a:lnTo>
                        <a:pt x="0" y="139"/>
                      </a:lnTo>
                      <a:lnTo>
                        <a:pt x="34" y="154"/>
                      </a:lnTo>
                      <a:lnTo>
                        <a:pt x="67" y="162"/>
                      </a:lnTo>
                      <a:lnTo>
                        <a:pt x="100" y="169"/>
                      </a:lnTo>
                      <a:lnTo>
                        <a:pt x="134" y="169"/>
                      </a:lnTo>
                      <a:lnTo>
                        <a:pt x="159" y="169"/>
                      </a:lnTo>
                      <a:lnTo>
                        <a:pt x="192" y="169"/>
                      </a:lnTo>
                      <a:lnTo>
                        <a:pt x="226" y="169"/>
                      </a:lnTo>
                      <a:lnTo>
                        <a:pt x="251" y="169"/>
                      </a:lnTo>
                      <a:lnTo>
                        <a:pt x="284" y="162"/>
                      </a:lnTo>
                      <a:lnTo>
                        <a:pt x="309" y="154"/>
                      </a:lnTo>
                      <a:lnTo>
                        <a:pt x="343" y="146"/>
                      </a:lnTo>
                      <a:lnTo>
                        <a:pt x="368" y="146"/>
                      </a:lnTo>
                      <a:lnTo>
                        <a:pt x="393" y="131"/>
                      </a:lnTo>
                      <a:lnTo>
                        <a:pt x="418" y="123"/>
                      </a:lnTo>
                      <a:lnTo>
                        <a:pt x="443" y="116"/>
                      </a:lnTo>
                      <a:lnTo>
                        <a:pt x="468" y="108"/>
                      </a:lnTo>
                      <a:lnTo>
                        <a:pt x="460" y="100"/>
                      </a:lnTo>
                      <a:lnTo>
                        <a:pt x="460" y="85"/>
                      </a:lnTo>
                      <a:lnTo>
                        <a:pt x="460" y="69"/>
                      </a:lnTo>
                      <a:lnTo>
                        <a:pt x="451" y="54"/>
                      </a:lnTo>
                      <a:lnTo>
                        <a:pt x="451" y="46"/>
                      </a:lnTo>
                      <a:lnTo>
                        <a:pt x="451" y="31"/>
                      </a:lnTo>
                      <a:lnTo>
                        <a:pt x="443" y="16"/>
                      </a:lnTo>
                      <a:lnTo>
                        <a:pt x="443" y="8"/>
                      </a:lnTo>
                      <a:lnTo>
                        <a:pt x="418" y="8"/>
                      </a:lnTo>
                      <a:lnTo>
                        <a:pt x="385" y="8"/>
                      </a:lnTo>
                      <a:lnTo>
                        <a:pt x="360" y="8"/>
                      </a:lnTo>
                      <a:lnTo>
                        <a:pt x="334" y="8"/>
                      </a:lnTo>
                      <a:lnTo>
                        <a:pt x="309" y="8"/>
                      </a:lnTo>
                      <a:lnTo>
                        <a:pt x="276" y="8"/>
                      </a:lnTo>
                      <a:lnTo>
                        <a:pt x="251" y="8"/>
                      </a:lnTo>
                      <a:lnTo>
                        <a:pt x="226" y="8"/>
                      </a:lnTo>
                      <a:lnTo>
                        <a:pt x="201" y="8"/>
                      </a:lnTo>
                      <a:lnTo>
                        <a:pt x="167" y="0"/>
                      </a:lnTo>
                      <a:lnTo>
                        <a:pt x="142" y="0"/>
                      </a:lnTo>
                      <a:lnTo>
                        <a:pt x="117" y="0"/>
                      </a:lnTo>
                      <a:lnTo>
                        <a:pt x="84" y="0"/>
                      </a:lnTo>
                      <a:lnTo>
                        <a:pt x="59" y="0"/>
                      </a:lnTo>
                      <a:lnTo>
                        <a:pt x="34" y="0"/>
                      </a:lnTo>
                      <a:lnTo>
                        <a:pt x="9" y="0"/>
                      </a:lnTo>
                    </a:path>
                  </a:pathLst>
                </a:custGeom>
                <a:noFill/>
                <a:ln w="0">
                  <a:solidFill>
                    <a:srgbClr val="000000"/>
                  </a:solid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Freeform 655"/>
                <p:cNvSpPr/>
                <p:nvPr/>
              </p:nvSpPr>
              <p:spPr>
                <a:xfrm flipH="1">
                  <a:off x="560880" y="15980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8"/>
                      </a:moveTo>
                      <a:lnTo>
                        <a:pt x="17" y="0"/>
                      </a:lnTo>
                      <a:lnTo>
                        <a:pt x="8" y="0"/>
                      </a:lnTo>
                      <a:lnTo>
                        <a:pt x="0" y="0"/>
                      </a:lnTo>
                      <a:lnTo>
                        <a:pt x="0" y="8"/>
                      </a:lnTo>
                      <a:lnTo>
                        <a:pt x="17"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Freeform 654"/>
                <p:cNvSpPr/>
                <p:nvPr/>
              </p:nvSpPr>
              <p:spPr>
                <a:xfrm flipH="1">
                  <a:off x="560880" y="15980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8"/>
                      </a:moveTo>
                      <a:lnTo>
                        <a:pt x="17" y="0"/>
                      </a:lnTo>
                      <a:lnTo>
                        <a:pt x="8" y="0"/>
                      </a:lnTo>
                      <a:lnTo>
                        <a:pt x="0" y="0"/>
                      </a:lnTo>
                      <a:lnTo>
                        <a:pt x="0" y="8"/>
                      </a:lnTo>
                      <a:lnTo>
                        <a:pt x="17"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Freeform 653"/>
                <p:cNvSpPr/>
                <p:nvPr/>
              </p:nvSpPr>
              <p:spPr>
                <a:xfrm flipH="1">
                  <a:off x="561240" y="1599840"/>
                  <a:ext cx="4680" cy="30600"/>
                </a:xfrm>
                <a:custGeom>
                  <a:avLst/>
                  <a:gdLst>
                    <a:gd name="textAreaLeft" fmla="*/ -360 w 4680"/>
                    <a:gd name="textAreaRight" fmla="*/ 4680 w 4680"/>
                    <a:gd name="textAreaTop" fmla="*/ 0 h 30600"/>
                    <a:gd name="textAreaBottom" fmla="*/ 30960 h 30600"/>
                  </a:gdLst>
                  <a:ahLst/>
                  <a:rect l="textAreaLeft" t="textAreaTop" r="textAreaRight" b="textAreaBottom"/>
                  <a:pathLst>
                    <a:path w="25" h="146">
                      <a:moveTo>
                        <a:pt x="16" y="146"/>
                      </a:moveTo>
                      <a:lnTo>
                        <a:pt x="16" y="131"/>
                      </a:lnTo>
                      <a:lnTo>
                        <a:pt x="16" y="123"/>
                      </a:lnTo>
                      <a:lnTo>
                        <a:pt x="16" y="115"/>
                      </a:lnTo>
                      <a:lnTo>
                        <a:pt x="16" y="108"/>
                      </a:lnTo>
                      <a:lnTo>
                        <a:pt x="16" y="100"/>
                      </a:lnTo>
                      <a:lnTo>
                        <a:pt x="16" y="92"/>
                      </a:lnTo>
                      <a:lnTo>
                        <a:pt x="25" y="77"/>
                      </a:lnTo>
                      <a:lnTo>
                        <a:pt x="25" y="69"/>
                      </a:lnTo>
                      <a:lnTo>
                        <a:pt x="25" y="61"/>
                      </a:lnTo>
                      <a:lnTo>
                        <a:pt x="25" y="54"/>
                      </a:lnTo>
                      <a:lnTo>
                        <a:pt x="25" y="46"/>
                      </a:lnTo>
                      <a:lnTo>
                        <a:pt x="25" y="38"/>
                      </a:lnTo>
                      <a:lnTo>
                        <a:pt x="25" y="23"/>
                      </a:lnTo>
                      <a:lnTo>
                        <a:pt x="25" y="15"/>
                      </a:lnTo>
                      <a:lnTo>
                        <a:pt x="25" y="8"/>
                      </a:lnTo>
                      <a:lnTo>
                        <a:pt x="25" y="0"/>
                      </a:lnTo>
                      <a:lnTo>
                        <a:pt x="8" y="0"/>
                      </a:lnTo>
                      <a:lnTo>
                        <a:pt x="8" y="8"/>
                      </a:lnTo>
                      <a:lnTo>
                        <a:pt x="0" y="15"/>
                      </a:lnTo>
                      <a:lnTo>
                        <a:pt x="0" y="23"/>
                      </a:lnTo>
                      <a:lnTo>
                        <a:pt x="0" y="38"/>
                      </a:lnTo>
                      <a:lnTo>
                        <a:pt x="0" y="46"/>
                      </a:lnTo>
                      <a:lnTo>
                        <a:pt x="0" y="54"/>
                      </a:lnTo>
                      <a:lnTo>
                        <a:pt x="0" y="61"/>
                      </a:lnTo>
                      <a:lnTo>
                        <a:pt x="0" y="69"/>
                      </a:lnTo>
                      <a:lnTo>
                        <a:pt x="0" y="77"/>
                      </a:lnTo>
                      <a:lnTo>
                        <a:pt x="0" y="92"/>
                      </a:lnTo>
                      <a:lnTo>
                        <a:pt x="0" y="100"/>
                      </a:lnTo>
                      <a:lnTo>
                        <a:pt x="0" y="108"/>
                      </a:lnTo>
                      <a:lnTo>
                        <a:pt x="0" y="115"/>
                      </a:lnTo>
                      <a:lnTo>
                        <a:pt x="0" y="123"/>
                      </a:lnTo>
                      <a:lnTo>
                        <a:pt x="0" y="131"/>
                      </a:lnTo>
                      <a:lnTo>
                        <a:pt x="0" y="146"/>
                      </a:lnTo>
                      <a:lnTo>
                        <a:pt x="16" y="146"/>
                      </a:lnTo>
                      <a:close/>
                    </a:path>
                  </a:pathLst>
                </a:custGeom>
                <a:solidFill>
                  <a:srgbClr val="000000"/>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Freeform 652"/>
                <p:cNvSpPr/>
                <p:nvPr/>
              </p:nvSpPr>
              <p:spPr>
                <a:xfrm flipH="1">
                  <a:off x="561240" y="1599840"/>
                  <a:ext cx="4680" cy="30600"/>
                </a:xfrm>
                <a:custGeom>
                  <a:avLst/>
                  <a:gdLst>
                    <a:gd name="textAreaLeft" fmla="*/ -360 w 4680"/>
                    <a:gd name="textAreaRight" fmla="*/ 4680 w 4680"/>
                    <a:gd name="textAreaTop" fmla="*/ 0 h 30600"/>
                    <a:gd name="textAreaBottom" fmla="*/ 30960 h 30600"/>
                  </a:gdLst>
                  <a:ahLst/>
                  <a:rect l="textAreaLeft" t="textAreaTop" r="textAreaRight" b="textAreaBottom"/>
                  <a:pathLst>
                    <a:path w="25" h="146">
                      <a:moveTo>
                        <a:pt x="16" y="146"/>
                      </a:moveTo>
                      <a:lnTo>
                        <a:pt x="16" y="131"/>
                      </a:lnTo>
                      <a:lnTo>
                        <a:pt x="16" y="123"/>
                      </a:lnTo>
                      <a:lnTo>
                        <a:pt x="16" y="115"/>
                      </a:lnTo>
                      <a:lnTo>
                        <a:pt x="16" y="108"/>
                      </a:lnTo>
                      <a:lnTo>
                        <a:pt x="16" y="100"/>
                      </a:lnTo>
                      <a:lnTo>
                        <a:pt x="16" y="92"/>
                      </a:lnTo>
                      <a:lnTo>
                        <a:pt x="25" y="77"/>
                      </a:lnTo>
                      <a:lnTo>
                        <a:pt x="25" y="69"/>
                      </a:lnTo>
                      <a:lnTo>
                        <a:pt x="25" y="61"/>
                      </a:lnTo>
                      <a:lnTo>
                        <a:pt x="25" y="54"/>
                      </a:lnTo>
                      <a:lnTo>
                        <a:pt x="25" y="46"/>
                      </a:lnTo>
                      <a:lnTo>
                        <a:pt x="25" y="38"/>
                      </a:lnTo>
                      <a:lnTo>
                        <a:pt x="25" y="23"/>
                      </a:lnTo>
                      <a:lnTo>
                        <a:pt x="25" y="15"/>
                      </a:lnTo>
                      <a:lnTo>
                        <a:pt x="25" y="8"/>
                      </a:lnTo>
                      <a:lnTo>
                        <a:pt x="25" y="0"/>
                      </a:lnTo>
                      <a:lnTo>
                        <a:pt x="8" y="0"/>
                      </a:lnTo>
                      <a:lnTo>
                        <a:pt x="8" y="8"/>
                      </a:lnTo>
                      <a:lnTo>
                        <a:pt x="0" y="15"/>
                      </a:lnTo>
                      <a:lnTo>
                        <a:pt x="0" y="23"/>
                      </a:lnTo>
                      <a:lnTo>
                        <a:pt x="0" y="38"/>
                      </a:lnTo>
                      <a:lnTo>
                        <a:pt x="0" y="46"/>
                      </a:lnTo>
                      <a:lnTo>
                        <a:pt x="0" y="54"/>
                      </a:lnTo>
                      <a:lnTo>
                        <a:pt x="0" y="61"/>
                      </a:lnTo>
                      <a:lnTo>
                        <a:pt x="0" y="69"/>
                      </a:lnTo>
                      <a:lnTo>
                        <a:pt x="0" y="77"/>
                      </a:lnTo>
                      <a:lnTo>
                        <a:pt x="0" y="92"/>
                      </a:lnTo>
                      <a:lnTo>
                        <a:pt x="0" y="100"/>
                      </a:lnTo>
                      <a:lnTo>
                        <a:pt x="0" y="108"/>
                      </a:lnTo>
                      <a:lnTo>
                        <a:pt x="0" y="115"/>
                      </a:lnTo>
                      <a:lnTo>
                        <a:pt x="0" y="123"/>
                      </a:lnTo>
                      <a:lnTo>
                        <a:pt x="0" y="131"/>
                      </a:lnTo>
                      <a:lnTo>
                        <a:pt x="0" y="146"/>
                      </a:lnTo>
                      <a:lnTo>
                        <a:pt x="16" y="146"/>
                      </a:lnTo>
                    </a:path>
                  </a:pathLst>
                </a:custGeom>
                <a:noFill/>
                <a:ln w="0">
                  <a:solidFill>
                    <a:srgbClr val="000000"/>
                  </a:solid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Freeform 651"/>
                <p:cNvSpPr/>
                <p:nvPr/>
              </p:nvSpPr>
              <p:spPr>
                <a:xfrm flipH="1">
                  <a:off x="560880" y="15998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8"/>
                      </a:lnTo>
                      <a:lnTo>
                        <a:pt x="8" y="8"/>
                      </a:lnTo>
                      <a:lnTo>
                        <a:pt x="17"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Freeform 650"/>
                <p:cNvSpPr/>
                <p:nvPr/>
              </p:nvSpPr>
              <p:spPr>
                <a:xfrm flipH="1">
                  <a:off x="560880" y="15998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8"/>
                      </a:lnTo>
                      <a:lnTo>
                        <a:pt x="8" y="8"/>
                      </a:lnTo>
                      <a:lnTo>
                        <a:pt x="17"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Freeform 649"/>
                <p:cNvSpPr/>
                <p:nvPr/>
              </p:nvSpPr>
              <p:spPr>
                <a:xfrm flipH="1">
                  <a:off x="549720" y="15980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25" y="8"/>
                      </a:moveTo>
                      <a:lnTo>
                        <a:pt x="17" y="0"/>
                      </a:lnTo>
                      <a:lnTo>
                        <a:pt x="8" y="0"/>
                      </a:lnTo>
                      <a:lnTo>
                        <a:pt x="0" y="8"/>
                      </a:lnTo>
                      <a:lnTo>
                        <a:pt x="25"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Freeform 648"/>
                <p:cNvSpPr/>
                <p:nvPr/>
              </p:nvSpPr>
              <p:spPr>
                <a:xfrm flipH="1">
                  <a:off x="549720" y="15980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25" y="8"/>
                      </a:moveTo>
                      <a:lnTo>
                        <a:pt x="17" y="0"/>
                      </a:lnTo>
                      <a:lnTo>
                        <a:pt x="8" y="0"/>
                      </a:lnTo>
                      <a:lnTo>
                        <a:pt x="0" y="8"/>
                      </a:lnTo>
                      <a:lnTo>
                        <a:pt x="25"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Freeform 647"/>
                <p:cNvSpPr/>
                <p:nvPr/>
              </p:nvSpPr>
              <p:spPr>
                <a:xfrm flipH="1">
                  <a:off x="549720" y="1599840"/>
                  <a:ext cx="4680" cy="32040"/>
                </a:xfrm>
                <a:custGeom>
                  <a:avLst/>
                  <a:gdLst>
                    <a:gd name="textAreaLeft" fmla="*/ -360 w 4680"/>
                    <a:gd name="textAreaRight" fmla="*/ 4680 w 4680"/>
                    <a:gd name="textAreaTop" fmla="*/ 0 h 32040"/>
                    <a:gd name="textAreaBottom" fmla="*/ 32400 h 32040"/>
                  </a:gdLst>
                  <a:ahLst/>
                  <a:rect l="textAreaLeft" t="textAreaTop" r="textAreaRight" b="textAreaBottom"/>
                  <a:pathLst>
                    <a:path w="25" h="154">
                      <a:moveTo>
                        <a:pt x="25" y="154"/>
                      </a:moveTo>
                      <a:lnTo>
                        <a:pt x="25" y="146"/>
                      </a:lnTo>
                      <a:lnTo>
                        <a:pt x="25" y="138"/>
                      </a:lnTo>
                      <a:lnTo>
                        <a:pt x="25" y="123"/>
                      </a:lnTo>
                      <a:lnTo>
                        <a:pt x="25" y="115"/>
                      </a:lnTo>
                      <a:lnTo>
                        <a:pt x="25" y="108"/>
                      </a:lnTo>
                      <a:lnTo>
                        <a:pt x="25" y="100"/>
                      </a:lnTo>
                      <a:lnTo>
                        <a:pt x="25" y="85"/>
                      </a:lnTo>
                      <a:lnTo>
                        <a:pt x="25" y="77"/>
                      </a:lnTo>
                      <a:lnTo>
                        <a:pt x="25" y="69"/>
                      </a:lnTo>
                      <a:lnTo>
                        <a:pt x="25" y="61"/>
                      </a:lnTo>
                      <a:lnTo>
                        <a:pt x="25" y="46"/>
                      </a:lnTo>
                      <a:lnTo>
                        <a:pt x="25" y="38"/>
                      </a:lnTo>
                      <a:lnTo>
                        <a:pt x="25" y="31"/>
                      </a:lnTo>
                      <a:lnTo>
                        <a:pt x="25" y="23"/>
                      </a:lnTo>
                      <a:lnTo>
                        <a:pt x="25" y="8"/>
                      </a:lnTo>
                      <a:lnTo>
                        <a:pt x="25" y="0"/>
                      </a:lnTo>
                      <a:lnTo>
                        <a:pt x="0" y="0"/>
                      </a:lnTo>
                      <a:lnTo>
                        <a:pt x="0" y="8"/>
                      </a:lnTo>
                      <a:lnTo>
                        <a:pt x="0" y="23"/>
                      </a:lnTo>
                      <a:lnTo>
                        <a:pt x="0" y="31"/>
                      </a:lnTo>
                      <a:lnTo>
                        <a:pt x="0" y="38"/>
                      </a:lnTo>
                      <a:lnTo>
                        <a:pt x="0" y="46"/>
                      </a:lnTo>
                      <a:lnTo>
                        <a:pt x="0" y="61"/>
                      </a:lnTo>
                      <a:lnTo>
                        <a:pt x="0" y="69"/>
                      </a:lnTo>
                      <a:lnTo>
                        <a:pt x="0" y="77"/>
                      </a:lnTo>
                      <a:lnTo>
                        <a:pt x="0" y="85"/>
                      </a:lnTo>
                      <a:lnTo>
                        <a:pt x="0" y="100"/>
                      </a:lnTo>
                      <a:lnTo>
                        <a:pt x="0" y="108"/>
                      </a:lnTo>
                      <a:lnTo>
                        <a:pt x="0" y="115"/>
                      </a:lnTo>
                      <a:lnTo>
                        <a:pt x="0" y="123"/>
                      </a:lnTo>
                      <a:lnTo>
                        <a:pt x="0" y="138"/>
                      </a:lnTo>
                      <a:lnTo>
                        <a:pt x="0" y="146"/>
                      </a:lnTo>
                      <a:lnTo>
                        <a:pt x="0" y="154"/>
                      </a:lnTo>
                      <a:lnTo>
                        <a:pt x="25" y="154"/>
                      </a:lnTo>
                      <a:close/>
                    </a:path>
                  </a:pathLst>
                </a:custGeom>
                <a:solidFill>
                  <a:srgbClr val="00000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Freeform 646"/>
                <p:cNvSpPr/>
                <p:nvPr/>
              </p:nvSpPr>
              <p:spPr>
                <a:xfrm flipH="1">
                  <a:off x="549720" y="1599840"/>
                  <a:ext cx="4680" cy="32040"/>
                </a:xfrm>
                <a:custGeom>
                  <a:avLst/>
                  <a:gdLst>
                    <a:gd name="textAreaLeft" fmla="*/ -360 w 4680"/>
                    <a:gd name="textAreaRight" fmla="*/ 4680 w 4680"/>
                    <a:gd name="textAreaTop" fmla="*/ 0 h 32040"/>
                    <a:gd name="textAreaBottom" fmla="*/ 32400 h 32040"/>
                  </a:gdLst>
                  <a:ahLst/>
                  <a:rect l="textAreaLeft" t="textAreaTop" r="textAreaRight" b="textAreaBottom"/>
                  <a:pathLst>
                    <a:path w="25" h="154">
                      <a:moveTo>
                        <a:pt x="25" y="154"/>
                      </a:moveTo>
                      <a:lnTo>
                        <a:pt x="25" y="146"/>
                      </a:lnTo>
                      <a:lnTo>
                        <a:pt x="25" y="138"/>
                      </a:lnTo>
                      <a:lnTo>
                        <a:pt x="25" y="123"/>
                      </a:lnTo>
                      <a:lnTo>
                        <a:pt x="25" y="115"/>
                      </a:lnTo>
                      <a:lnTo>
                        <a:pt x="25" y="108"/>
                      </a:lnTo>
                      <a:lnTo>
                        <a:pt x="25" y="100"/>
                      </a:lnTo>
                      <a:lnTo>
                        <a:pt x="25" y="85"/>
                      </a:lnTo>
                      <a:lnTo>
                        <a:pt x="25" y="77"/>
                      </a:lnTo>
                      <a:lnTo>
                        <a:pt x="25" y="69"/>
                      </a:lnTo>
                      <a:lnTo>
                        <a:pt x="25" y="61"/>
                      </a:lnTo>
                      <a:lnTo>
                        <a:pt x="25" y="46"/>
                      </a:lnTo>
                      <a:lnTo>
                        <a:pt x="25" y="38"/>
                      </a:lnTo>
                      <a:lnTo>
                        <a:pt x="25" y="31"/>
                      </a:lnTo>
                      <a:lnTo>
                        <a:pt x="25" y="23"/>
                      </a:lnTo>
                      <a:lnTo>
                        <a:pt x="25" y="8"/>
                      </a:lnTo>
                      <a:lnTo>
                        <a:pt x="25" y="0"/>
                      </a:lnTo>
                      <a:lnTo>
                        <a:pt x="0" y="0"/>
                      </a:lnTo>
                      <a:lnTo>
                        <a:pt x="0" y="8"/>
                      </a:lnTo>
                      <a:lnTo>
                        <a:pt x="0" y="23"/>
                      </a:lnTo>
                      <a:lnTo>
                        <a:pt x="0" y="31"/>
                      </a:lnTo>
                      <a:lnTo>
                        <a:pt x="0" y="38"/>
                      </a:lnTo>
                      <a:lnTo>
                        <a:pt x="0" y="46"/>
                      </a:lnTo>
                      <a:lnTo>
                        <a:pt x="0" y="61"/>
                      </a:lnTo>
                      <a:lnTo>
                        <a:pt x="0" y="69"/>
                      </a:lnTo>
                      <a:lnTo>
                        <a:pt x="0" y="77"/>
                      </a:lnTo>
                      <a:lnTo>
                        <a:pt x="0" y="85"/>
                      </a:lnTo>
                      <a:lnTo>
                        <a:pt x="0" y="100"/>
                      </a:lnTo>
                      <a:lnTo>
                        <a:pt x="0" y="108"/>
                      </a:lnTo>
                      <a:lnTo>
                        <a:pt x="0" y="115"/>
                      </a:lnTo>
                      <a:lnTo>
                        <a:pt x="0" y="123"/>
                      </a:lnTo>
                      <a:lnTo>
                        <a:pt x="0" y="138"/>
                      </a:lnTo>
                      <a:lnTo>
                        <a:pt x="0" y="146"/>
                      </a:lnTo>
                      <a:lnTo>
                        <a:pt x="0" y="154"/>
                      </a:lnTo>
                      <a:lnTo>
                        <a:pt x="25" y="154"/>
                      </a:lnTo>
                    </a:path>
                  </a:pathLst>
                </a:custGeom>
                <a:noFill/>
                <a:ln w="0">
                  <a:solidFill>
                    <a:srgbClr val="000000"/>
                  </a:solid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0" name="Freeform 645"/>
                <p:cNvSpPr/>
                <p:nvPr/>
              </p:nvSpPr>
              <p:spPr>
                <a:xfrm flipH="1">
                  <a:off x="549720" y="15998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0"/>
                      </a:moveTo>
                      <a:lnTo>
                        <a:pt x="8" y="8"/>
                      </a:lnTo>
                      <a:lnTo>
                        <a:pt x="17" y="8"/>
                      </a:lnTo>
                      <a:lnTo>
                        <a:pt x="25"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Freeform 644"/>
                <p:cNvSpPr/>
                <p:nvPr/>
              </p:nvSpPr>
              <p:spPr>
                <a:xfrm flipH="1">
                  <a:off x="549720" y="15998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0"/>
                      </a:moveTo>
                      <a:lnTo>
                        <a:pt x="8" y="8"/>
                      </a:lnTo>
                      <a:lnTo>
                        <a:pt x="17" y="8"/>
                      </a:lnTo>
                      <a:lnTo>
                        <a:pt x="25"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Freeform 643"/>
                <p:cNvSpPr/>
                <p:nvPr/>
              </p:nvSpPr>
              <p:spPr>
                <a:xfrm flipH="1">
                  <a:off x="540000" y="159804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6" h="8">
                      <a:moveTo>
                        <a:pt x="16" y="8"/>
                      </a:moveTo>
                      <a:lnTo>
                        <a:pt x="16" y="0"/>
                      </a:lnTo>
                      <a:lnTo>
                        <a:pt x="8" y="0"/>
                      </a:lnTo>
                      <a:lnTo>
                        <a:pt x="0" y="0"/>
                      </a:lnTo>
                      <a:lnTo>
                        <a:pt x="0" y="8"/>
                      </a:lnTo>
                      <a:lnTo>
                        <a:pt x="16"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Freeform 642"/>
                <p:cNvSpPr/>
                <p:nvPr/>
              </p:nvSpPr>
              <p:spPr>
                <a:xfrm flipH="1">
                  <a:off x="540000" y="159804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6" h="8">
                      <a:moveTo>
                        <a:pt x="16" y="8"/>
                      </a:moveTo>
                      <a:lnTo>
                        <a:pt x="16" y="0"/>
                      </a:lnTo>
                      <a:lnTo>
                        <a:pt x="8" y="0"/>
                      </a:lnTo>
                      <a:lnTo>
                        <a:pt x="0" y="0"/>
                      </a:lnTo>
                      <a:lnTo>
                        <a:pt x="0" y="8"/>
                      </a:lnTo>
                      <a:lnTo>
                        <a:pt x="16"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Freeform 641"/>
                <p:cNvSpPr/>
                <p:nvPr/>
              </p:nvSpPr>
              <p:spPr>
                <a:xfrm flipH="1">
                  <a:off x="540000" y="1599840"/>
                  <a:ext cx="2880" cy="33480"/>
                </a:xfrm>
                <a:custGeom>
                  <a:avLst/>
                  <a:gdLst>
                    <a:gd name="textAreaLeft" fmla="*/ 360 w 2880"/>
                    <a:gd name="textAreaRight" fmla="*/ 3600 w 2880"/>
                    <a:gd name="textAreaTop" fmla="*/ 0 h 33480"/>
                    <a:gd name="textAreaBottom" fmla="*/ 33840 h 33480"/>
                  </a:gdLst>
                  <a:ahLst/>
                  <a:rect l="textAreaLeft" t="textAreaTop" r="textAreaRight" b="textAreaBottom"/>
                  <a:pathLst>
                    <a:path w="16" h="161">
                      <a:moveTo>
                        <a:pt x="16" y="161"/>
                      </a:moveTo>
                      <a:lnTo>
                        <a:pt x="16" y="154"/>
                      </a:lnTo>
                      <a:lnTo>
                        <a:pt x="16" y="138"/>
                      </a:lnTo>
                      <a:lnTo>
                        <a:pt x="16" y="131"/>
                      </a:lnTo>
                      <a:lnTo>
                        <a:pt x="16" y="123"/>
                      </a:lnTo>
                      <a:lnTo>
                        <a:pt x="16" y="108"/>
                      </a:lnTo>
                      <a:lnTo>
                        <a:pt x="16" y="100"/>
                      </a:lnTo>
                      <a:lnTo>
                        <a:pt x="16" y="92"/>
                      </a:lnTo>
                      <a:lnTo>
                        <a:pt x="16" y="77"/>
                      </a:lnTo>
                      <a:lnTo>
                        <a:pt x="16" y="69"/>
                      </a:lnTo>
                      <a:lnTo>
                        <a:pt x="16" y="61"/>
                      </a:lnTo>
                      <a:lnTo>
                        <a:pt x="16" y="46"/>
                      </a:lnTo>
                      <a:lnTo>
                        <a:pt x="16" y="38"/>
                      </a:lnTo>
                      <a:lnTo>
                        <a:pt x="16" y="31"/>
                      </a:lnTo>
                      <a:lnTo>
                        <a:pt x="16" y="23"/>
                      </a:lnTo>
                      <a:lnTo>
                        <a:pt x="16" y="8"/>
                      </a:lnTo>
                      <a:lnTo>
                        <a:pt x="16" y="0"/>
                      </a:lnTo>
                      <a:lnTo>
                        <a:pt x="0" y="0"/>
                      </a:lnTo>
                      <a:lnTo>
                        <a:pt x="0" y="8"/>
                      </a:lnTo>
                      <a:lnTo>
                        <a:pt x="0" y="23"/>
                      </a:lnTo>
                      <a:lnTo>
                        <a:pt x="0" y="31"/>
                      </a:lnTo>
                      <a:lnTo>
                        <a:pt x="0" y="38"/>
                      </a:lnTo>
                      <a:lnTo>
                        <a:pt x="0" y="46"/>
                      </a:lnTo>
                      <a:lnTo>
                        <a:pt x="0" y="61"/>
                      </a:lnTo>
                      <a:lnTo>
                        <a:pt x="0" y="69"/>
                      </a:lnTo>
                      <a:lnTo>
                        <a:pt x="0" y="77"/>
                      </a:lnTo>
                      <a:lnTo>
                        <a:pt x="0" y="92"/>
                      </a:lnTo>
                      <a:lnTo>
                        <a:pt x="0" y="100"/>
                      </a:lnTo>
                      <a:lnTo>
                        <a:pt x="0" y="108"/>
                      </a:lnTo>
                      <a:lnTo>
                        <a:pt x="0" y="123"/>
                      </a:lnTo>
                      <a:lnTo>
                        <a:pt x="0" y="131"/>
                      </a:lnTo>
                      <a:lnTo>
                        <a:pt x="0" y="138"/>
                      </a:lnTo>
                      <a:lnTo>
                        <a:pt x="0" y="154"/>
                      </a:lnTo>
                      <a:lnTo>
                        <a:pt x="0" y="161"/>
                      </a:lnTo>
                      <a:lnTo>
                        <a:pt x="16" y="161"/>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Freeform 640"/>
                <p:cNvSpPr/>
                <p:nvPr/>
              </p:nvSpPr>
              <p:spPr>
                <a:xfrm flipH="1">
                  <a:off x="540000" y="1599840"/>
                  <a:ext cx="2880" cy="33480"/>
                </a:xfrm>
                <a:custGeom>
                  <a:avLst/>
                  <a:gdLst>
                    <a:gd name="textAreaLeft" fmla="*/ 360 w 2880"/>
                    <a:gd name="textAreaRight" fmla="*/ 3600 w 2880"/>
                    <a:gd name="textAreaTop" fmla="*/ 0 h 33480"/>
                    <a:gd name="textAreaBottom" fmla="*/ 33840 h 33480"/>
                  </a:gdLst>
                  <a:ahLst/>
                  <a:rect l="textAreaLeft" t="textAreaTop" r="textAreaRight" b="textAreaBottom"/>
                  <a:pathLst>
                    <a:path w="16" h="161">
                      <a:moveTo>
                        <a:pt x="16" y="161"/>
                      </a:moveTo>
                      <a:lnTo>
                        <a:pt x="16" y="154"/>
                      </a:lnTo>
                      <a:lnTo>
                        <a:pt x="16" y="138"/>
                      </a:lnTo>
                      <a:lnTo>
                        <a:pt x="16" y="131"/>
                      </a:lnTo>
                      <a:lnTo>
                        <a:pt x="16" y="123"/>
                      </a:lnTo>
                      <a:lnTo>
                        <a:pt x="16" y="108"/>
                      </a:lnTo>
                      <a:lnTo>
                        <a:pt x="16" y="100"/>
                      </a:lnTo>
                      <a:lnTo>
                        <a:pt x="16" y="92"/>
                      </a:lnTo>
                      <a:lnTo>
                        <a:pt x="16" y="77"/>
                      </a:lnTo>
                      <a:lnTo>
                        <a:pt x="16" y="69"/>
                      </a:lnTo>
                      <a:lnTo>
                        <a:pt x="16" y="61"/>
                      </a:lnTo>
                      <a:lnTo>
                        <a:pt x="16" y="46"/>
                      </a:lnTo>
                      <a:lnTo>
                        <a:pt x="16" y="38"/>
                      </a:lnTo>
                      <a:lnTo>
                        <a:pt x="16" y="31"/>
                      </a:lnTo>
                      <a:lnTo>
                        <a:pt x="16" y="23"/>
                      </a:lnTo>
                      <a:lnTo>
                        <a:pt x="16" y="8"/>
                      </a:lnTo>
                      <a:lnTo>
                        <a:pt x="16" y="0"/>
                      </a:lnTo>
                      <a:lnTo>
                        <a:pt x="0" y="0"/>
                      </a:lnTo>
                      <a:lnTo>
                        <a:pt x="0" y="8"/>
                      </a:lnTo>
                      <a:lnTo>
                        <a:pt x="0" y="23"/>
                      </a:lnTo>
                      <a:lnTo>
                        <a:pt x="0" y="31"/>
                      </a:lnTo>
                      <a:lnTo>
                        <a:pt x="0" y="38"/>
                      </a:lnTo>
                      <a:lnTo>
                        <a:pt x="0" y="46"/>
                      </a:lnTo>
                      <a:lnTo>
                        <a:pt x="0" y="61"/>
                      </a:lnTo>
                      <a:lnTo>
                        <a:pt x="0" y="69"/>
                      </a:lnTo>
                      <a:lnTo>
                        <a:pt x="0" y="77"/>
                      </a:lnTo>
                      <a:lnTo>
                        <a:pt x="0" y="92"/>
                      </a:lnTo>
                      <a:lnTo>
                        <a:pt x="0" y="100"/>
                      </a:lnTo>
                      <a:lnTo>
                        <a:pt x="0" y="108"/>
                      </a:lnTo>
                      <a:lnTo>
                        <a:pt x="0" y="123"/>
                      </a:lnTo>
                      <a:lnTo>
                        <a:pt x="0" y="131"/>
                      </a:lnTo>
                      <a:lnTo>
                        <a:pt x="0" y="138"/>
                      </a:lnTo>
                      <a:lnTo>
                        <a:pt x="0" y="154"/>
                      </a:lnTo>
                      <a:lnTo>
                        <a:pt x="0" y="161"/>
                      </a:lnTo>
                      <a:lnTo>
                        <a:pt x="16" y="161"/>
                      </a:lnTo>
                    </a:path>
                  </a:pathLst>
                </a:custGeom>
                <a:noFill/>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6" name="Freeform 639"/>
                <p:cNvSpPr/>
                <p:nvPr/>
              </p:nvSpPr>
              <p:spPr>
                <a:xfrm flipH="1">
                  <a:off x="540000" y="159984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6" h="8">
                      <a:moveTo>
                        <a:pt x="0" y="0"/>
                      </a:moveTo>
                      <a:lnTo>
                        <a:pt x="0" y="8"/>
                      </a:lnTo>
                      <a:lnTo>
                        <a:pt x="8" y="8"/>
                      </a:lnTo>
                      <a:lnTo>
                        <a:pt x="16" y="8"/>
                      </a:lnTo>
                      <a:lnTo>
                        <a:pt x="16"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7" name="Freeform 638"/>
                <p:cNvSpPr/>
                <p:nvPr/>
              </p:nvSpPr>
              <p:spPr>
                <a:xfrm flipH="1">
                  <a:off x="540000" y="159984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6" h="8">
                      <a:moveTo>
                        <a:pt x="0" y="0"/>
                      </a:moveTo>
                      <a:lnTo>
                        <a:pt x="0" y="8"/>
                      </a:lnTo>
                      <a:lnTo>
                        <a:pt x="8" y="8"/>
                      </a:lnTo>
                      <a:lnTo>
                        <a:pt x="16" y="8"/>
                      </a:lnTo>
                      <a:lnTo>
                        <a:pt x="16"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Freeform 637"/>
                <p:cNvSpPr/>
                <p:nvPr/>
              </p:nvSpPr>
              <p:spPr>
                <a:xfrm flipH="1">
                  <a:off x="527760" y="15980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25" y="8"/>
                      </a:moveTo>
                      <a:lnTo>
                        <a:pt x="16" y="0"/>
                      </a:lnTo>
                      <a:lnTo>
                        <a:pt x="8" y="0"/>
                      </a:lnTo>
                      <a:lnTo>
                        <a:pt x="0" y="0"/>
                      </a:lnTo>
                      <a:lnTo>
                        <a:pt x="0" y="8"/>
                      </a:lnTo>
                      <a:lnTo>
                        <a:pt x="25"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9" name="Freeform 636"/>
                <p:cNvSpPr/>
                <p:nvPr/>
              </p:nvSpPr>
              <p:spPr>
                <a:xfrm flipH="1">
                  <a:off x="527760" y="15980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25" y="8"/>
                      </a:moveTo>
                      <a:lnTo>
                        <a:pt x="16" y="0"/>
                      </a:lnTo>
                      <a:lnTo>
                        <a:pt x="8" y="0"/>
                      </a:lnTo>
                      <a:lnTo>
                        <a:pt x="0" y="0"/>
                      </a:lnTo>
                      <a:lnTo>
                        <a:pt x="0" y="8"/>
                      </a:lnTo>
                      <a:lnTo>
                        <a:pt x="25"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0" name="Freeform 635"/>
                <p:cNvSpPr/>
                <p:nvPr/>
              </p:nvSpPr>
              <p:spPr>
                <a:xfrm flipH="1">
                  <a:off x="527760" y="1599840"/>
                  <a:ext cx="4680" cy="28800"/>
                </a:xfrm>
                <a:custGeom>
                  <a:avLst/>
                  <a:gdLst>
                    <a:gd name="textAreaLeft" fmla="*/ -360 w 4680"/>
                    <a:gd name="textAreaRight" fmla="*/ 4680 w 4680"/>
                    <a:gd name="textAreaTop" fmla="*/ 0 h 28800"/>
                    <a:gd name="textAreaBottom" fmla="*/ 29160 h 28800"/>
                  </a:gdLst>
                  <a:ahLst/>
                  <a:rect l="textAreaLeft" t="textAreaTop" r="textAreaRight" b="textAreaBottom"/>
                  <a:pathLst>
                    <a:path w="25" h="138">
                      <a:moveTo>
                        <a:pt x="25" y="138"/>
                      </a:moveTo>
                      <a:lnTo>
                        <a:pt x="25" y="131"/>
                      </a:lnTo>
                      <a:lnTo>
                        <a:pt x="25" y="123"/>
                      </a:lnTo>
                      <a:lnTo>
                        <a:pt x="25" y="115"/>
                      </a:lnTo>
                      <a:lnTo>
                        <a:pt x="25" y="108"/>
                      </a:lnTo>
                      <a:lnTo>
                        <a:pt x="25" y="92"/>
                      </a:lnTo>
                      <a:lnTo>
                        <a:pt x="25" y="85"/>
                      </a:lnTo>
                      <a:lnTo>
                        <a:pt x="25" y="77"/>
                      </a:lnTo>
                      <a:lnTo>
                        <a:pt x="25" y="69"/>
                      </a:lnTo>
                      <a:lnTo>
                        <a:pt x="25" y="61"/>
                      </a:lnTo>
                      <a:lnTo>
                        <a:pt x="25" y="54"/>
                      </a:lnTo>
                      <a:lnTo>
                        <a:pt x="25" y="46"/>
                      </a:lnTo>
                      <a:lnTo>
                        <a:pt x="25" y="31"/>
                      </a:lnTo>
                      <a:lnTo>
                        <a:pt x="25" y="23"/>
                      </a:lnTo>
                      <a:lnTo>
                        <a:pt x="25" y="15"/>
                      </a:lnTo>
                      <a:lnTo>
                        <a:pt x="25" y="8"/>
                      </a:lnTo>
                      <a:lnTo>
                        <a:pt x="25" y="0"/>
                      </a:lnTo>
                      <a:lnTo>
                        <a:pt x="0" y="0"/>
                      </a:lnTo>
                      <a:lnTo>
                        <a:pt x="0" y="8"/>
                      </a:lnTo>
                      <a:lnTo>
                        <a:pt x="0" y="15"/>
                      </a:lnTo>
                      <a:lnTo>
                        <a:pt x="0" y="23"/>
                      </a:lnTo>
                      <a:lnTo>
                        <a:pt x="0" y="31"/>
                      </a:lnTo>
                      <a:lnTo>
                        <a:pt x="0" y="46"/>
                      </a:lnTo>
                      <a:lnTo>
                        <a:pt x="0" y="54"/>
                      </a:lnTo>
                      <a:lnTo>
                        <a:pt x="0" y="61"/>
                      </a:lnTo>
                      <a:lnTo>
                        <a:pt x="0" y="69"/>
                      </a:lnTo>
                      <a:lnTo>
                        <a:pt x="0" y="77"/>
                      </a:lnTo>
                      <a:lnTo>
                        <a:pt x="0" y="85"/>
                      </a:lnTo>
                      <a:lnTo>
                        <a:pt x="0" y="92"/>
                      </a:lnTo>
                      <a:lnTo>
                        <a:pt x="0" y="108"/>
                      </a:lnTo>
                      <a:lnTo>
                        <a:pt x="0" y="115"/>
                      </a:lnTo>
                      <a:lnTo>
                        <a:pt x="0" y="123"/>
                      </a:lnTo>
                      <a:lnTo>
                        <a:pt x="0" y="131"/>
                      </a:lnTo>
                      <a:lnTo>
                        <a:pt x="0" y="138"/>
                      </a:lnTo>
                      <a:lnTo>
                        <a:pt x="25" y="138"/>
                      </a:lnTo>
                      <a:close/>
                    </a:path>
                  </a:pathLst>
                </a:custGeom>
                <a:solidFill>
                  <a:srgbClr val="000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Freeform 634"/>
                <p:cNvSpPr/>
                <p:nvPr/>
              </p:nvSpPr>
              <p:spPr>
                <a:xfrm flipH="1">
                  <a:off x="527760" y="1599840"/>
                  <a:ext cx="4680" cy="28800"/>
                </a:xfrm>
                <a:custGeom>
                  <a:avLst/>
                  <a:gdLst>
                    <a:gd name="textAreaLeft" fmla="*/ -360 w 4680"/>
                    <a:gd name="textAreaRight" fmla="*/ 4680 w 4680"/>
                    <a:gd name="textAreaTop" fmla="*/ 0 h 28800"/>
                    <a:gd name="textAreaBottom" fmla="*/ 29160 h 28800"/>
                  </a:gdLst>
                  <a:ahLst/>
                  <a:rect l="textAreaLeft" t="textAreaTop" r="textAreaRight" b="textAreaBottom"/>
                  <a:pathLst>
                    <a:path w="25" h="138">
                      <a:moveTo>
                        <a:pt x="25" y="138"/>
                      </a:moveTo>
                      <a:lnTo>
                        <a:pt x="25" y="131"/>
                      </a:lnTo>
                      <a:lnTo>
                        <a:pt x="25" y="123"/>
                      </a:lnTo>
                      <a:lnTo>
                        <a:pt x="25" y="115"/>
                      </a:lnTo>
                      <a:lnTo>
                        <a:pt x="25" y="108"/>
                      </a:lnTo>
                      <a:lnTo>
                        <a:pt x="25" y="92"/>
                      </a:lnTo>
                      <a:lnTo>
                        <a:pt x="25" y="85"/>
                      </a:lnTo>
                      <a:lnTo>
                        <a:pt x="25" y="77"/>
                      </a:lnTo>
                      <a:lnTo>
                        <a:pt x="25" y="69"/>
                      </a:lnTo>
                      <a:lnTo>
                        <a:pt x="25" y="61"/>
                      </a:lnTo>
                      <a:lnTo>
                        <a:pt x="25" y="54"/>
                      </a:lnTo>
                      <a:lnTo>
                        <a:pt x="25" y="46"/>
                      </a:lnTo>
                      <a:lnTo>
                        <a:pt x="25" y="31"/>
                      </a:lnTo>
                      <a:lnTo>
                        <a:pt x="25" y="23"/>
                      </a:lnTo>
                      <a:lnTo>
                        <a:pt x="25" y="15"/>
                      </a:lnTo>
                      <a:lnTo>
                        <a:pt x="25" y="8"/>
                      </a:lnTo>
                      <a:lnTo>
                        <a:pt x="25" y="0"/>
                      </a:lnTo>
                      <a:lnTo>
                        <a:pt x="0" y="0"/>
                      </a:lnTo>
                      <a:lnTo>
                        <a:pt x="0" y="8"/>
                      </a:lnTo>
                      <a:lnTo>
                        <a:pt x="0" y="15"/>
                      </a:lnTo>
                      <a:lnTo>
                        <a:pt x="0" y="23"/>
                      </a:lnTo>
                      <a:lnTo>
                        <a:pt x="0" y="31"/>
                      </a:lnTo>
                      <a:lnTo>
                        <a:pt x="0" y="46"/>
                      </a:lnTo>
                      <a:lnTo>
                        <a:pt x="0" y="54"/>
                      </a:lnTo>
                      <a:lnTo>
                        <a:pt x="0" y="61"/>
                      </a:lnTo>
                      <a:lnTo>
                        <a:pt x="0" y="69"/>
                      </a:lnTo>
                      <a:lnTo>
                        <a:pt x="0" y="77"/>
                      </a:lnTo>
                      <a:lnTo>
                        <a:pt x="0" y="85"/>
                      </a:lnTo>
                      <a:lnTo>
                        <a:pt x="0" y="92"/>
                      </a:lnTo>
                      <a:lnTo>
                        <a:pt x="0" y="108"/>
                      </a:lnTo>
                      <a:lnTo>
                        <a:pt x="0" y="115"/>
                      </a:lnTo>
                      <a:lnTo>
                        <a:pt x="0" y="123"/>
                      </a:lnTo>
                      <a:lnTo>
                        <a:pt x="0" y="131"/>
                      </a:lnTo>
                      <a:lnTo>
                        <a:pt x="0" y="138"/>
                      </a:lnTo>
                      <a:lnTo>
                        <a:pt x="25" y="138"/>
                      </a:lnTo>
                    </a:path>
                  </a:pathLst>
                </a:custGeom>
                <a:noFill/>
                <a:ln w="0">
                  <a:solidFill>
                    <a:srgbClr val="000000"/>
                  </a:solid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Freeform 633"/>
                <p:cNvSpPr/>
                <p:nvPr/>
              </p:nvSpPr>
              <p:spPr>
                <a:xfrm flipH="1">
                  <a:off x="527760" y="15998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0"/>
                      </a:moveTo>
                      <a:lnTo>
                        <a:pt x="0" y="8"/>
                      </a:lnTo>
                      <a:lnTo>
                        <a:pt x="8" y="8"/>
                      </a:lnTo>
                      <a:lnTo>
                        <a:pt x="16" y="8"/>
                      </a:lnTo>
                      <a:lnTo>
                        <a:pt x="25"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Freeform 632"/>
                <p:cNvSpPr/>
                <p:nvPr/>
              </p:nvSpPr>
              <p:spPr>
                <a:xfrm flipH="1">
                  <a:off x="527760" y="15998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0"/>
                      </a:moveTo>
                      <a:lnTo>
                        <a:pt x="0" y="8"/>
                      </a:lnTo>
                      <a:lnTo>
                        <a:pt x="8" y="8"/>
                      </a:lnTo>
                      <a:lnTo>
                        <a:pt x="16" y="8"/>
                      </a:lnTo>
                      <a:lnTo>
                        <a:pt x="25"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Freeform 631"/>
                <p:cNvSpPr/>
                <p:nvPr/>
              </p:nvSpPr>
              <p:spPr>
                <a:xfrm flipH="1">
                  <a:off x="521640" y="1596600"/>
                  <a:ext cx="2880" cy="2880"/>
                </a:xfrm>
                <a:custGeom>
                  <a:avLst/>
                  <a:gdLst>
                    <a:gd name="textAreaLeft" fmla="*/ 360 w 2880"/>
                    <a:gd name="textAreaRight" fmla="*/ 3600 w 2880"/>
                    <a:gd name="textAreaTop" fmla="*/ 0 h 2880"/>
                    <a:gd name="textAreaBottom" fmla="*/ 3240 h 2880"/>
                  </a:gdLst>
                  <a:ahLst/>
                  <a:rect l="textAreaLeft" t="textAreaTop" r="textAreaRight" b="textAreaBottom"/>
                  <a:pathLst>
                    <a:path w="16" h="15">
                      <a:moveTo>
                        <a:pt x="16" y="7"/>
                      </a:moveTo>
                      <a:lnTo>
                        <a:pt x="16" y="7"/>
                      </a:lnTo>
                      <a:lnTo>
                        <a:pt x="8" y="0"/>
                      </a:lnTo>
                      <a:lnTo>
                        <a:pt x="0" y="7"/>
                      </a:lnTo>
                      <a:lnTo>
                        <a:pt x="0" y="15"/>
                      </a:lnTo>
                      <a:lnTo>
                        <a:pt x="16" y="7"/>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Freeform 630"/>
                <p:cNvSpPr/>
                <p:nvPr/>
              </p:nvSpPr>
              <p:spPr>
                <a:xfrm flipH="1">
                  <a:off x="521640" y="1596600"/>
                  <a:ext cx="2880" cy="2880"/>
                </a:xfrm>
                <a:custGeom>
                  <a:avLst/>
                  <a:gdLst>
                    <a:gd name="textAreaLeft" fmla="*/ 360 w 2880"/>
                    <a:gd name="textAreaRight" fmla="*/ 3600 w 2880"/>
                    <a:gd name="textAreaTop" fmla="*/ 0 h 2880"/>
                    <a:gd name="textAreaBottom" fmla="*/ 3240 h 2880"/>
                  </a:gdLst>
                  <a:ahLst/>
                  <a:rect l="textAreaLeft" t="textAreaTop" r="textAreaRight" b="textAreaBottom"/>
                  <a:pathLst>
                    <a:path w="16" h="15">
                      <a:moveTo>
                        <a:pt x="16" y="7"/>
                      </a:moveTo>
                      <a:lnTo>
                        <a:pt x="16" y="7"/>
                      </a:lnTo>
                      <a:lnTo>
                        <a:pt x="8" y="0"/>
                      </a:lnTo>
                      <a:lnTo>
                        <a:pt x="0" y="7"/>
                      </a:lnTo>
                      <a:lnTo>
                        <a:pt x="0" y="15"/>
                      </a:lnTo>
                      <a:lnTo>
                        <a:pt x="16" y="7"/>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Freeform 629"/>
                <p:cNvSpPr/>
                <p:nvPr/>
              </p:nvSpPr>
              <p:spPr>
                <a:xfrm flipH="1">
                  <a:off x="519480" y="1598040"/>
                  <a:ext cx="4680" cy="32040"/>
                </a:xfrm>
                <a:custGeom>
                  <a:avLst/>
                  <a:gdLst>
                    <a:gd name="textAreaLeft" fmla="*/ -360 w 4680"/>
                    <a:gd name="textAreaRight" fmla="*/ 4680 w 4680"/>
                    <a:gd name="textAreaTop" fmla="*/ 0 h 32040"/>
                    <a:gd name="textAreaBottom" fmla="*/ 32400 h 32040"/>
                  </a:gdLst>
                  <a:ahLst/>
                  <a:rect l="textAreaLeft" t="textAreaTop" r="textAreaRight" b="textAreaBottom"/>
                  <a:pathLst>
                    <a:path w="25" h="154">
                      <a:moveTo>
                        <a:pt x="25" y="154"/>
                      </a:moveTo>
                      <a:lnTo>
                        <a:pt x="25" y="146"/>
                      </a:lnTo>
                      <a:lnTo>
                        <a:pt x="25" y="139"/>
                      </a:lnTo>
                      <a:lnTo>
                        <a:pt x="25" y="123"/>
                      </a:lnTo>
                      <a:lnTo>
                        <a:pt x="25" y="116"/>
                      </a:lnTo>
                      <a:lnTo>
                        <a:pt x="25" y="108"/>
                      </a:lnTo>
                      <a:lnTo>
                        <a:pt x="25" y="100"/>
                      </a:lnTo>
                      <a:lnTo>
                        <a:pt x="25" y="85"/>
                      </a:lnTo>
                      <a:lnTo>
                        <a:pt x="25" y="77"/>
                      </a:lnTo>
                      <a:lnTo>
                        <a:pt x="16" y="69"/>
                      </a:lnTo>
                      <a:lnTo>
                        <a:pt x="16" y="62"/>
                      </a:lnTo>
                      <a:lnTo>
                        <a:pt x="16" y="54"/>
                      </a:lnTo>
                      <a:lnTo>
                        <a:pt x="16" y="39"/>
                      </a:lnTo>
                      <a:lnTo>
                        <a:pt x="16" y="31"/>
                      </a:lnTo>
                      <a:lnTo>
                        <a:pt x="16" y="23"/>
                      </a:lnTo>
                      <a:lnTo>
                        <a:pt x="16" y="16"/>
                      </a:lnTo>
                      <a:lnTo>
                        <a:pt x="16" y="0"/>
                      </a:lnTo>
                      <a:lnTo>
                        <a:pt x="0" y="8"/>
                      </a:lnTo>
                      <a:lnTo>
                        <a:pt x="0" y="16"/>
                      </a:lnTo>
                      <a:lnTo>
                        <a:pt x="0" y="23"/>
                      </a:lnTo>
                      <a:lnTo>
                        <a:pt x="0" y="31"/>
                      </a:lnTo>
                      <a:lnTo>
                        <a:pt x="0" y="39"/>
                      </a:lnTo>
                      <a:lnTo>
                        <a:pt x="0" y="54"/>
                      </a:lnTo>
                      <a:lnTo>
                        <a:pt x="0" y="62"/>
                      </a:lnTo>
                      <a:lnTo>
                        <a:pt x="0" y="69"/>
                      </a:lnTo>
                      <a:lnTo>
                        <a:pt x="0" y="77"/>
                      </a:lnTo>
                      <a:lnTo>
                        <a:pt x="0" y="93"/>
                      </a:lnTo>
                      <a:lnTo>
                        <a:pt x="0" y="100"/>
                      </a:lnTo>
                      <a:lnTo>
                        <a:pt x="0" y="108"/>
                      </a:lnTo>
                      <a:lnTo>
                        <a:pt x="0" y="116"/>
                      </a:lnTo>
                      <a:lnTo>
                        <a:pt x="8" y="131"/>
                      </a:lnTo>
                      <a:lnTo>
                        <a:pt x="8" y="139"/>
                      </a:lnTo>
                      <a:lnTo>
                        <a:pt x="8" y="146"/>
                      </a:lnTo>
                      <a:lnTo>
                        <a:pt x="8" y="154"/>
                      </a:lnTo>
                      <a:lnTo>
                        <a:pt x="25" y="154"/>
                      </a:lnTo>
                      <a:close/>
                    </a:path>
                  </a:pathLst>
                </a:custGeom>
                <a:solidFill>
                  <a:srgbClr val="000000"/>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7" name="Freeform 628"/>
                <p:cNvSpPr/>
                <p:nvPr/>
              </p:nvSpPr>
              <p:spPr>
                <a:xfrm flipH="1">
                  <a:off x="519480" y="1598040"/>
                  <a:ext cx="4680" cy="32040"/>
                </a:xfrm>
                <a:custGeom>
                  <a:avLst/>
                  <a:gdLst>
                    <a:gd name="textAreaLeft" fmla="*/ -360 w 4680"/>
                    <a:gd name="textAreaRight" fmla="*/ 4680 w 4680"/>
                    <a:gd name="textAreaTop" fmla="*/ 0 h 32040"/>
                    <a:gd name="textAreaBottom" fmla="*/ 32400 h 32040"/>
                  </a:gdLst>
                  <a:ahLst/>
                  <a:rect l="textAreaLeft" t="textAreaTop" r="textAreaRight" b="textAreaBottom"/>
                  <a:pathLst>
                    <a:path w="25" h="154">
                      <a:moveTo>
                        <a:pt x="25" y="154"/>
                      </a:moveTo>
                      <a:lnTo>
                        <a:pt x="25" y="146"/>
                      </a:lnTo>
                      <a:lnTo>
                        <a:pt x="25" y="139"/>
                      </a:lnTo>
                      <a:lnTo>
                        <a:pt x="25" y="123"/>
                      </a:lnTo>
                      <a:lnTo>
                        <a:pt x="25" y="116"/>
                      </a:lnTo>
                      <a:lnTo>
                        <a:pt x="25" y="108"/>
                      </a:lnTo>
                      <a:lnTo>
                        <a:pt x="25" y="100"/>
                      </a:lnTo>
                      <a:lnTo>
                        <a:pt x="25" y="85"/>
                      </a:lnTo>
                      <a:lnTo>
                        <a:pt x="25" y="77"/>
                      </a:lnTo>
                      <a:lnTo>
                        <a:pt x="16" y="69"/>
                      </a:lnTo>
                      <a:lnTo>
                        <a:pt x="16" y="62"/>
                      </a:lnTo>
                      <a:lnTo>
                        <a:pt x="16" y="54"/>
                      </a:lnTo>
                      <a:lnTo>
                        <a:pt x="16" y="39"/>
                      </a:lnTo>
                      <a:lnTo>
                        <a:pt x="16" y="31"/>
                      </a:lnTo>
                      <a:lnTo>
                        <a:pt x="16" y="23"/>
                      </a:lnTo>
                      <a:lnTo>
                        <a:pt x="16" y="16"/>
                      </a:lnTo>
                      <a:lnTo>
                        <a:pt x="16" y="0"/>
                      </a:lnTo>
                      <a:lnTo>
                        <a:pt x="0" y="8"/>
                      </a:lnTo>
                      <a:lnTo>
                        <a:pt x="0" y="16"/>
                      </a:lnTo>
                      <a:lnTo>
                        <a:pt x="0" y="23"/>
                      </a:lnTo>
                      <a:lnTo>
                        <a:pt x="0" y="31"/>
                      </a:lnTo>
                      <a:lnTo>
                        <a:pt x="0" y="39"/>
                      </a:lnTo>
                      <a:lnTo>
                        <a:pt x="0" y="54"/>
                      </a:lnTo>
                      <a:lnTo>
                        <a:pt x="0" y="62"/>
                      </a:lnTo>
                      <a:lnTo>
                        <a:pt x="0" y="69"/>
                      </a:lnTo>
                      <a:lnTo>
                        <a:pt x="0" y="77"/>
                      </a:lnTo>
                      <a:lnTo>
                        <a:pt x="0" y="93"/>
                      </a:lnTo>
                      <a:lnTo>
                        <a:pt x="0" y="100"/>
                      </a:lnTo>
                      <a:lnTo>
                        <a:pt x="0" y="108"/>
                      </a:lnTo>
                      <a:lnTo>
                        <a:pt x="0" y="116"/>
                      </a:lnTo>
                      <a:lnTo>
                        <a:pt x="8" y="131"/>
                      </a:lnTo>
                      <a:lnTo>
                        <a:pt x="8" y="139"/>
                      </a:lnTo>
                      <a:lnTo>
                        <a:pt x="8" y="146"/>
                      </a:lnTo>
                      <a:lnTo>
                        <a:pt x="8" y="154"/>
                      </a:lnTo>
                      <a:lnTo>
                        <a:pt x="25" y="154"/>
                      </a:lnTo>
                    </a:path>
                  </a:pathLst>
                </a:custGeom>
                <a:noFill/>
                <a:ln w="0">
                  <a:solidFill>
                    <a:srgbClr val="000000"/>
                  </a:solid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Freeform 627"/>
                <p:cNvSpPr/>
                <p:nvPr/>
              </p:nvSpPr>
              <p:spPr>
                <a:xfrm flipH="1">
                  <a:off x="521640" y="159804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6" h="16">
                      <a:moveTo>
                        <a:pt x="0" y="8"/>
                      </a:moveTo>
                      <a:lnTo>
                        <a:pt x="0" y="8"/>
                      </a:lnTo>
                      <a:lnTo>
                        <a:pt x="8" y="16"/>
                      </a:lnTo>
                      <a:lnTo>
                        <a:pt x="16" y="8"/>
                      </a:lnTo>
                      <a:lnTo>
                        <a:pt x="16" y="0"/>
                      </a:lnTo>
                      <a:lnTo>
                        <a:pt x="0"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Freeform 626"/>
                <p:cNvSpPr/>
                <p:nvPr/>
              </p:nvSpPr>
              <p:spPr>
                <a:xfrm flipH="1">
                  <a:off x="521640" y="159804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6" h="16">
                      <a:moveTo>
                        <a:pt x="0" y="8"/>
                      </a:moveTo>
                      <a:lnTo>
                        <a:pt x="0" y="8"/>
                      </a:lnTo>
                      <a:lnTo>
                        <a:pt x="8" y="16"/>
                      </a:lnTo>
                      <a:lnTo>
                        <a:pt x="16" y="8"/>
                      </a:lnTo>
                      <a:lnTo>
                        <a:pt x="16" y="0"/>
                      </a:lnTo>
                      <a:lnTo>
                        <a:pt x="0" y="8"/>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Freeform 625"/>
                <p:cNvSpPr/>
                <p:nvPr/>
              </p:nvSpPr>
              <p:spPr>
                <a:xfrm flipH="1">
                  <a:off x="511200" y="15980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25" y="8"/>
                      </a:moveTo>
                      <a:lnTo>
                        <a:pt x="17" y="0"/>
                      </a:lnTo>
                      <a:lnTo>
                        <a:pt x="9" y="0"/>
                      </a:lnTo>
                      <a:lnTo>
                        <a:pt x="0" y="8"/>
                      </a:lnTo>
                      <a:lnTo>
                        <a:pt x="25"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Freeform 624"/>
                <p:cNvSpPr/>
                <p:nvPr/>
              </p:nvSpPr>
              <p:spPr>
                <a:xfrm flipH="1">
                  <a:off x="511200" y="15980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25" y="8"/>
                      </a:moveTo>
                      <a:lnTo>
                        <a:pt x="17" y="0"/>
                      </a:lnTo>
                      <a:lnTo>
                        <a:pt x="9" y="0"/>
                      </a:lnTo>
                      <a:lnTo>
                        <a:pt x="0" y="8"/>
                      </a:lnTo>
                      <a:lnTo>
                        <a:pt x="25"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Freeform 623"/>
                <p:cNvSpPr/>
                <p:nvPr/>
              </p:nvSpPr>
              <p:spPr>
                <a:xfrm flipH="1">
                  <a:off x="509760" y="1599840"/>
                  <a:ext cx="6480" cy="25560"/>
                </a:xfrm>
                <a:custGeom>
                  <a:avLst/>
                  <a:gdLst>
                    <a:gd name="textAreaLeft" fmla="*/ 360 w 6480"/>
                    <a:gd name="textAreaRight" fmla="*/ 7200 w 6480"/>
                    <a:gd name="textAreaTop" fmla="*/ 0 h 25560"/>
                    <a:gd name="textAreaBottom" fmla="*/ 25920 h 25560"/>
                  </a:gdLst>
                  <a:ahLst/>
                  <a:rect l="textAreaLeft" t="textAreaTop" r="textAreaRight" b="textAreaBottom"/>
                  <a:pathLst>
                    <a:path w="34" h="123">
                      <a:moveTo>
                        <a:pt x="34" y="123"/>
                      </a:moveTo>
                      <a:lnTo>
                        <a:pt x="34" y="115"/>
                      </a:lnTo>
                      <a:lnTo>
                        <a:pt x="34" y="108"/>
                      </a:lnTo>
                      <a:lnTo>
                        <a:pt x="34" y="100"/>
                      </a:lnTo>
                      <a:lnTo>
                        <a:pt x="34" y="92"/>
                      </a:lnTo>
                      <a:lnTo>
                        <a:pt x="34" y="85"/>
                      </a:lnTo>
                      <a:lnTo>
                        <a:pt x="34" y="77"/>
                      </a:lnTo>
                      <a:lnTo>
                        <a:pt x="34" y="69"/>
                      </a:lnTo>
                      <a:lnTo>
                        <a:pt x="25" y="61"/>
                      </a:lnTo>
                      <a:lnTo>
                        <a:pt x="25" y="54"/>
                      </a:lnTo>
                      <a:lnTo>
                        <a:pt x="25" y="46"/>
                      </a:lnTo>
                      <a:lnTo>
                        <a:pt x="25" y="38"/>
                      </a:lnTo>
                      <a:lnTo>
                        <a:pt x="25" y="31"/>
                      </a:lnTo>
                      <a:lnTo>
                        <a:pt x="25" y="23"/>
                      </a:lnTo>
                      <a:lnTo>
                        <a:pt x="25" y="15"/>
                      </a:lnTo>
                      <a:lnTo>
                        <a:pt x="25" y="8"/>
                      </a:lnTo>
                      <a:lnTo>
                        <a:pt x="25" y="0"/>
                      </a:lnTo>
                      <a:lnTo>
                        <a:pt x="0" y="0"/>
                      </a:lnTo>
                      <a:lnTo>
                        <a:pt x="0" y="8"/>
                      </a:lnTo>
                      <a:lnTo>
                        <a:pt x="0" y="15"/>
                      </a:lnTo>
                      <a:lnTo>
                        <a:pt x="9" y="23"/>
                      </a:lnTo>
                      <a:lnTo>
                        <a:pt x="9" y="31"/>
                      </a:lnTo>
                      <a:lnTo>
                        <a:pt x="9" y="38"/>
                      </a:lnTo>
                      <a:lnTo>
                        <a:pt x="9" y="46"/>
                      </a:lnTo>
                      <a:lnTo>
                        <a:pt x="9" y="54"/>
                      </a:lnTo>
                      <a:lnTo>
                        <a:pt x="9" y="61"/>
                      </a:lnTo>
                      <a:lnTo>
                        <a:pt x="9" y="69"/>
                      </a:lnTo>
                      <a:lnTo>
                        <a:pt x="9" y="77"/>
                      </a:lnTo>
                      <a:lnTo>
                        <a:pt x="9" y="85"/>
                      </a:lnTo>
                      <a:lnTo>
                        <a:pt x="9" y="92"/>
                      </a:lnTo>
                      <a:lnTo>
                        <a:pt x="17" y="100"/>
                      </a:lnTo>
                      <a:lnTo>
                        <a:pt x="17" y="108"/>
                      </a:lnTo>
                      <a:lnTo>
                        <a:pt x="17" y="115"/>
                      </a:lnTo>
                      <a:lnTo>
                        <a:pt x="17" y="123"/>
                      </a:lnTo>
                      <a:lnTo>
                        <a:pt x="34" y="123"/>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3" name="Freeform 622"/>
                <p:cNvSpPr/>
                <p:nvPr/>
              </p:nvSpPr>
              <p:spPr>
                <a:xfrm flipH="1">
                  <a:off x="509760" y="1599840"/>
                  <a:ext cx="6480" cy="25560"/>
                </a:xfrm>
                <a:custGeom>
                  <a:avLst/>
                  <a:gdLst>
                    <a:gd name="textAreaLeft" fmla="*/ 360 w 6480"/>
                    <a:gd name="textAreaRight" fmla="*/ 7200 w 6480"/>
                    <a:gd name="textAreaTop" fmla="*/ 0 h 25560"/>
                    <a:gd name="textAreaBottom" fmla="*/ 25920 h 25560"/>
                  </a:gdLst>
                  <a:ahLst/>
                  <a:rect l="textAreaLeft" t="textAreaTop" r="textAreaRight" b="textAreaBottom"/>
                  <a:pathLst>
                    <a:path w="34" h="123">
                      <a:moveTo>
                        <a:pt x="34" y="123"/>
                      </a:moveTo>
                      <a:lnTo>
                        <a:pt x="34" y="115"/>
                      </a:lnTo>
                      <a:lnTo>
                        <a:pt x="34" y="108"/>
                      </a:lnTo>
                      <a:lnTo>
                        <a:pt x="34" y="100"/>
                      </a:lnTo>
                      <a:lnTo>
                        <a:pt x="34" y="92"/>
                      </a:lnTo>
                      <a:lnTo>
                        <a:pt x="34" y="85"/>
                      </a:lnTo>
                      <a:lnTo>
                        <a:pt x="34" y="77"/>
                      </a:lnTo>
                      <a:lnTo>
                        <a:pt x="34" y="69"/>
                      </a:lnTo>
                      <a:lnTo>
                        <a:pt x="25" y="61"/>
                      </a:lnTo>
                      <a:lnTo>
                        <a:pt x="25" y="54"/>
                      </a:lnTo>
                      <a:lnTo>
                        <a:pt x="25" y="46"/>
                      </a:lnTo>
                      <a:lnTo>
                        <a:pt x="25" y="38"/>
                      </a:lnTo>
                      <a:lnTo>
                        <a:pt x="25" y="31"/>
                      </a:lnTo>
                      <a:lnTo>
                        <a:pt x="25" y="23"/>
                      </a:lnTo>
                      <a:lnTo>
                        <a:pt x="25" y="15"/>
                      </a:lnTo>
                      <a:lnTo>
                        <a:pt x="25" y="8"/>
                      </a:lnTo>
                      <a:lnTo>
                        <a:pt x="25" y="0"/>
                      </a:lnTo>
                      <a:lnTo>
                        <a:pt x="0" y="0"/>
                      </a:lnTo>
                      <a:lnTo>
                        <a:pt x="0" y="8"/>
                      </a:lnTo>
                      <a:lnTo>
                        <a:pt x="0" y="15"/>
                      </a:lnTo>
                      <a:lnTo>
                        <a:pt x="9" y="23"/>
                      </a:lnTo>
                      <a:lnTo>
                        <a:pt x="9" y="31"/>
                      </a:lnTo>
                      <a:lnTo>
                        <a:pt x="9" y="38"/>
                      </a:lnTo>
                      <a:lnTo>
                        <a:pt x="9" y="46"/>
                      </a:lnTo>
                      <a:lnTo>
                        <a:pt x="9" y="54"/>
                      </a:lnTo>
                      <a:lnTo>
                        <a:pt x="9" y="61"/>
                      </a:lnTo>
                      <a:lnTo>
                        <a:pt x="9" y="69"/>
                      </a:lnTo>
                      <a:lnTo>
                        <a:pt x="9" y="77"/>
                      </a:lnTo>
                      <a:lnTo>
                        <a:pt x="9" y="85"/>
                      </a:lnTo>
                      <a:lnTo>
                        <a:pt x="9" y="92"/>
                      </a:lnTo>
                      <a:lnTo>
                        <a:pt x="17" y="100"/>
                      </a:lnTo>
                      <a:lnTo>
                        <a:pt x="17" y="108"/>
                      </a:lnTo>
                      <a:lnTo>
                        <a:pt x="17" y="115"/>
                      </a:lnTo>
                      <a:lnTo>
                        <a:pt x="17" y="123"/>
                      </a:lnTo>
                      <a:lnTo>
                        <a:pt x="34" y="123"/>
                      </a:lnTo>
                    </a:path>
                  </a:pathLst>
                </a:custGeom>
                <a:noFill/>
                <a:ln w="0">
                  <a:solidFill>
                    <a:srgbClr val="000000"/>
                  </a:solid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Freeform 621"/>
                <p:cNvSpPr/>
                <p:nvPr/>
              </p:nvSpPr>
              <p:spPr>
                <a:xfrm flipH="1">
                  <a:off x="511200" y="15998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0"/>
                      </a:moveTo>
                      <a:lnTo>
                        <a:pt x="9" y="8"/>
                      </a:lnTo>
                      <a:lnTo>
                        <a:pt x="17" y="8"/>
                      </a:lnTo>
                      <a:lnTo>
                        <a:pt x="17" y="0"/>
                      </a:lnTo>
                      <a:lnTo>
                        <a:pt x="25"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Freeform 620"/>
                <p:cNvSpPr/>
                <p:nvPr/>
              </p:nvSpPr>
              <p:spPr>
                <a:xfrm flipH="1">
                  <a:off x="511200" y="15998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0"/>
                      </a:moveTo>
                      <a:lnTo>
                        <a:pt x="9" y="8"/>
                      </a:lnTo>
                      <a:lnTo>
                        <a:pt x="17" y="8"/>
                      </a:lnTo>
                      <a:lnTo>
                        <a:pt x="17" y="0"/>
                      </a:lnTo>
                      <a:lnTo>
                        <a:pt x="25"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Freeform 619"/>
                <p:cNvSpPr/>
                <p:nvPr/>
              </p:nvSpPr>
              <p:spPr>
                <a:xfrm flipH="1">
                  <a:off x="497880" y="15980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25" y="8"/>
                      </a:moveTo>
                      <a:lnTo>
                        <a:pt x="17" y="0"/>
                      </a:lnTo>
                      <a:lnTo>
                        <a:pt x="9" y="0"/>
                      </a:lnTo>
                      <a:lnTo>
                        <a:pt x="0" y="8"/>
                      </a:lnTo>
                      <a:lnTo>
                        <a:pt x="25"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7" name="Freeform 618"/>
                <p:cNvSpPr/>
                <p:nvPr/>
              </p:nvSpPr>
              <p:spPr>
                <a:xfrm flipH="1">
                  <a:off x="497880" y="15980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25" y="8"/>
                      </a:moveTo>
                      <a:lnTo>
                        <a:pt x="17" y="0"/>
                      </a:lnTo>
                      <a:lnTo>
                        <a:pt x="9" y="0"/>
                      </a:lnTo>
                      <a:lnTo>
                        <a:pt x="0" y="8"/>
                      </a:lnTo>
                      <a:lnTo>
                        <a:pt x="25"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8" name="Freeform 617"/>
                <p:cNvSpPr/>
                <p:nvPr/>
              </p:nvSpPr>
              <p:spPr>
                <a:xfrm flipH="1">
                  <a:off x="496440" y="1599840"/>
                  <a:ext cx="6480" cy="27360"/>
                </a:xfrm>
                <a:custGeom>
                  <a:avLst/>
                  <a:gdLst>
                    <a:gd name="textAreaLeft" fmla="*/ 360 w 6480"/>
                    <a:gd name="textAreaRight" fmla="*/ 7200 w 6480"/>
                    <a:gd name="textAreaTop" fmla="*/ 0 h 27360"/>
                    <a:gd name="textAreaBottom" fmla="*/ 27720 h 27360"/>
                  </a:gdLst>
                  <a:ahLst/>
                  <a:rect l="textAreaLeft" t="textAreaTop" r="textAreaRight" b="textAreaBottom"/>
                  <a:pathLst>
                    <a:path w="34" h="131">
                      <a:moveTo>
                        <a:pt x="34" y="123"/>
                      </a:moveTo>
                      <a:lnTo>
                        <a:pt x="34" y="115"/>
                      </a:lnTo>
                      <a:lnTo>
                        <a:pt x="34" y="108"/>
                      </a:lnTo>
                      <a:lnTo>
                        <a:pt x="34" y="100"/>
                      </a:lnTo>
                      <a:lnTo>
                        <a:pt x="34" y="92"/>
                      </a:lnTo>
                      <a:lnTo>
                        <a:pt x="34" y="85"/>
                      </a:lnTo>
                      <a:lnTo>
                        <a:pt x="34" y="77"/>
                      </a:lnTo>
                      <a:lnTo>
                        <a:pt x="25" y="69"/>
                      </a:lnTo>
                      <a:lnTo>
                        <a:pt x="25" y="61"/>
                      </a:lnTo>
                      <a:lnTo>
                        <a:pt x="25" y="54"/>
                      </a:lnTo>
                      <a:lnTo>
                        <a:pt x="25" y="46"/>
                      </a:lnTo>
                      <a:lnTo>
                        <a:pt x="25" y="38"/>
                      </a:lnTo>
                      <a:lnTo>
                        <a:pt x="25" y="31"/>
                      </a:lnTo>
                      <a:lnTo>
                        <a:pt x="25" y="23"/>
                      </a:lnTo>
                      <a:lnTo>
                        <a:pt x="25" y="15"/>
                      </a:lnTo>
                      <a:lnTo>
                        <a:pt x="25" y="8"/>
                      </a:lnTo>
                      <a:lnTo>
                        <a:pt x="25" y="0"/>
                      </a:lnTo>
                      <a:lnTo>
                        <a:pt x="0" y="0"/>
                      </a:lnTo>
                      <a:lnTo>
                        <a:pt x="0" y="8"/>
                      </a:lnTo>
                      <a:lnTo>
                        <a:pt x="0" y="15"/>
                      </a:lnTo>
                      <a:lnTo>
                        <a:pt x="9" y="23"/>
                      </a:lnTo>
                      <a:lnTo>
                        <a:pt x="9" y="31"/>
                      </a:lnTo>
                      <a:lnTo>
                        <a:pt x="9" y="38"/>
                      </a:lnTo>
                      <a:lnTo>
                        <a:pt x="9" y="46"/>
                      </a:lnTo>
                      <a:lnTo>
                        <a:pt x="9" y="54"/>
                      </a:lnTo>
                      <a:lnTo>
                        <a:pt x="9" y="61"/>
                      </a:lnTo>
                      <a:lnTo>
                        <a:pt x="9" y="69"/>
                      </a:lnTo>
                      <a:lnTo>
                        <a:pt x="9" y="77"/>
                      </a:lnTo>
                      <a:lnTo>
                        <a:pt x="9" y="85"/>
                      </a:lnTo>
                      <a:lnTo>
                        <a:pt x="9" y="92"/>
                      </a:lnTo>
                      <a:lnTo>
                        <a:pt x="9" y="108"/>
                      </a:lnTo>
                      <a:lnTo>
                        <a:pt x="17" y="115"/>
                      </a:lnTo>
                      <a:lnTo>
                        <a:pt x="17" y="123"/>
                      </a:lnTo>
                      <a:lnTo>
                        <a:pt x="17" y="131"/>
                      </a:lnTo>
                      <a:lnTo>
                        <a:pt x="34" y="123"/>
                      </a:lnTo>
                      <a:close/>
                    </a:path>
                  </a:pathLst>
                </a:custGeom>
                <a:solidFill>
                  <a:srgbClr val="000000"/>
                </a:solidFill>
                <a:ln w="0">
                  <a:noFill/>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Freeform 616"/>
                <p:cNvSpPr/>
                <p:nvPr/>
              </p:nvSpPr>
              <p:spPr>
                <a:xfrm flipH="1">
                  <a:off x="496440" y="1599840"/>
                  <a:ext cx="6480" cy="27360"/>
                </a:xfrm>
                <a:custGeom>
                  <a:avLst/>
                  <a:gdLst>
                    <a:gd name="textAreaLeft" fmla="*/ 360 w 6480"/>
                    <a:gd name="textAreaRight" fmla="*/ 7200 w 6480"/>
                    <a:gd name="textAreaTop" fmla="*/ 0 h 27360"/>
                    <a:gd name="textAreaBottom" fmla="*/ 27720 h 27360"/>
                  </a:gdLst>
                  <a:ahLst/>
                  <a:rect l="textAreaLeft" t="textAreaTop" r="textAreaRight" b="textAreaBottom"/>
                  <a:pathLst>
                    <a:path w="34" h="131">
                      <a:moveTo>
                        <a:pt x="34" y="123"/>
                      </a:moveTo>
                      <a:lnTo>
                        <a:pt x="34" y="115"/>
                      </a:lnTo>
                      <a:lnTo>
                        <a:pt x="34" y="108"/>
                      </a:lnTo>
                      <a:lnTo>
                        <a:pt x="34" y="100"/>
                      </a:lnTo>
                      <a:lnTo>
                        <a:pt x="34" y="92"/>
                      </a:lnTo>
                      <a:lnTo>
                        <a:pt x="34" y="85"/>
                      </a:lnTo>
                      <a:lnTo>
                        <a:pt x="34" y="77"/>
                      </a:lnTo>
                      <a:lnTo>
                        <a:pt x="25" y="69"/>
                      </a:lnTo>
                      <a:lnTo>
                        <a:pt x="25" y="61"/>
                      </a:lnTo>
                      <a:lnTo>
                        <a:pt x="25" y="54"/>
                      </a:lnTo>
                      <a:lnTo>
                        <a:pt x="25" y="46"/>
                      </a:lnTo>
                      <a:lnTo>
                        <a:pt x="25" y="38"/>
                      </a:lnTo>
                      <a:lnTo>
                        <a:pt x="25" y="31"/>
                      </a:lnTo>
                      <a:lnTo>
                        <a:pt x="25" y="23"/>
                      </a:lnTo>
                      <a:lnTo>
                        <a:pt x="25" y="15"/>
                      </a:lnTo>
                      <a:lnTo>
                        <a:pt x="25" y="8"/>
                      </a:lnTo>
                      <a:lnTo>
                        <a:pt x="25" y="0"/>
                      </a:lnTo>
                      <a:lnTo>
                        <a:pt x="0" y="0"/>
                      </a:lnTo>
                      <a:lnTo>
                        <a:pt x="0" y="8"/>
                      </a:lnTo>
                      <a:lnTo>
                        <a:pt x="0" y="15"/>
                      </a:lnTo>
                      <a:lnTo>
                        <a:pt x="9" y="23"/>
                      </a:lnTo>
                      <a:lnTo>
                        <a:pt x="9" y="31"/>
                      </a:lnTo>
                      <a:lnTo>
                        <a:pt x="9" y="38"/>
                      </a:lnTo>
                      <a:lnTo>
                        <a:pt x="9" y="46"/>
                      </a:lnTo>
                      <a:lnTo>
                        <a:pt x="9" y="54"/>
                      </a:lnTo>
                      <a:lnTo>
                        <a:pt x="9" y="61"/>
                      </a:lnTo>
                      <a:lnTo>
                        <a:pt x="9" y="69"/>
                      </a:lnTo>
                      <a:lnTo>
                        <a:pt x="9" y="77"/>
                      </a:lnTo>
                      <a:lnTo>
                        <a:pt x="9" y="85"/>
                      </a:lnTo>
                      <a:lnTo>
                        <a:pt x="9" y="92"/>
                      </a:lnTo>
                      <a:lnTo>
                        <a:pt x="9" y="108"/>
                      </a:lnTo>
                      <a:lnTo>
                        <a:pt x="17" y="115"/>
                      </a:lnTo>
                      <a:lnTo>
                        <a:pt x="17" y="123"/>
                      </a:lnTo>
                      <a:lnTo>
                        <a:pt x="17" y="131"/>
                      </a:lnTo>
                      <a:lnTo>
                        <a:pt x="34" y="123"/>
                      </a:lnTo>
                    </a:path>
                  </a:pathLst>
                </a:custGeom>
                <a:noFill/>
                <a:ln w="0">
                  <a:solidFill>
                    <a:srgbClr val="000000"/>
                  </a:solidFill>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Freeform 615"/>
                <p:cNvSpPr/>
                <p:nvPr/>
              </p:nvSpPr>
              <p:spPr>
                <a:xfrm flipH="1">
                  <a:off x="497880" y="15998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0"/>
                      </a:moveTo>
                      <a:lnTo>
                        <a:pt x="9" y="8"/>
                      </a:lnTo>
                      <a:lnTo>
                        <a:pt x="17" y="8"/>
                      </a:lnTo>
                      <a:lnTo>
                        <a:pt x="25"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Freeform 614"/>
                <p:cNvSpPr/>
                <p:nvPr/>
              </p:nvSpPr>
              <p:spPr>
                <a:xfrm flipH="1">
                  <a:off x="497880" y="15998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0"/>
                      </a:moveTo>
                      <a:lnTo>
                        <a:pt x="9" y="8"/>
                      </a:lnTo>
                      <a:lnTo>
                        <a:pt x="17" y="8"/>
                      </a:lnTo>
                      <a:lnTo>
                        <a:pt x="25"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Freeform 613"/>
                <p:cNvSpPr/>
                <p:nvPr/>
              </p:nvSpPr>
              <p:spPr>
                <a:xfrm flipH="1">
                  <a:off x="491040" y="15980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8"/>
                      </a:moveTo>
                      <a:lnTo>
                        <a:pt x="17" y="0"/>
                      </a:lnTo>
                      <a:lnTo>
                        <a:pt x="8" y="0"/>
                      </a:lnTo>
                      <a:lnTo>
                        <a:pt x="0" y="0"/>
                      </a:lnTo>
                      <a:lnTo>
                        <a:pt x="0" y="8"/>
                      </a:lnTo>
                      <a:lnTo>
                        <a:pt x="17"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Freeform 612"/>
                <p:cNvSpPr/>
                <p:nvPr/>
              </p:nvSpPr>
              <p:spPr>
                <a:xfrm flipH="1">
                  <a:off x="491040" y="15980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8"/>
                      </a:moveTo>
                      <a:lnTo>
                        <a:pt x="17" y="0"/>
                      </a:lnTo>
                      <a:lnTo>
                        <a:pt x="8" y="0"/>
                      </a:lnTo>
                      <a:lnTo>
                        <a:pt x="0" y="0"/>
                      </a:lnTo>
                      <a:lnTo>
                        <a:pt x="0" y="8"/>
                      </a:lnTo>
                      <a:lnTo>
                        <a:pt x="17"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Freeform 611"/>
                <p:cNvSpPr/>
                <p:nvPr/>
              </p:nvSpPr>
              <p:spPr>
                <a:xfrm flipH="1">
                  <a:off x="488160" y="1599840"/>
                  <a:ext cx="6480" cy="22680"/>
                </a:xfrm>
                <a:custGeom>
                  <a:avLst/>
                  <a:gdLst>
                    <a:gd name="textAreaLeft" fmla="*/ 360 w 6480"/>
                    <a:gd name="textAreaRight" fmla="*/ 7200 w 6480"/>
                    <a:gd name="textAreaTop" fmla="*/ 0 h 22680"/>
                    <a:gd name="textAreaBottom" fmla="*/ 23040 h 22680"/>
                  </a:gdLst>
                  <a:ahLst/>
                  <a:rect l="textAreaLeft" t="textAreaTop" r="textAreaRight" b="textAreaBottom"/>
                  <a:pathLst>
                    <a:path w="33" h="108">
                      <a:moveTo>
                        <a:pt x="33" y="108"/>
                      </a:moveTo>
                      <a:lnTo>
                        <a:pt x="33" y="100"/>
                      </a:lnTo>
                      <a:lnTo>
                        <a:pt x="33" y="92"/>
                      </a:lnTo>
                      <a:lnTo>
                        <a:pt x="33" y="85"/>
                      </a:lnTo>
                      <a:lnTo>
                        <a:pt x="25" y="77"/>
                      </a:lnTo>
                      <a:lnTo>
                        <a:pt x="25" y="69"/>
                      </a:lnTo>
                      <a:lnTo>
                        <a:pt x="25" y="61"/>
                      </a:lnTo>
                      <a:lnTo>
                        <a:pt x="25" y="54"/>
                      </a:lnTo>
                      <a:lnTo>
                        <a:pt x="25" y="46"/>
                      </a:lnTo>
                      <a:lnTo>
                        <a:pt x="25" y="38"/>
                      </a:lnTo>
                      <a:lnTo>
                        <a:pt x="25" y="31"/>
                      </a:lnTo>
                      <a:lnTo>
                        <a:pt x="25" y="23"/>
                      </a:lnTo>
                      <a:lnTo>
                        <a:pt x="17" y="15"/>
                      </a:lnTo>
                      <a:lnTo>
                        <a:pt x="17" y="8"/>
                      </a:lnTo>
                      <a:lnTo>
                        <a:pt x="17" y="0"/>
                      </a:lnTo>
                      <a:lnTo>
                        <a:pt x="0" y="0"/>
                      </a:lnTo>
                      <a:lnTo>
                        <a:pt x="0" y="8"/>
                      </a:lnTo>
                      <a:lnTo>
                        <a:pt x="0" y="15"/>
                      </a:lnTo>
                      <a:lnTo>
                        <a:pt x="0" y="23"/>
                      </a:lnTo>
                      <a:lnTo>
                        <a:pt x="0" y="31"/>
                      </a:lnTo>
                      <a:lnTo>
                        <a:pt x="0" y="38"/>
                      </a:lnTo>
                      <a:lnTo>
                        <a:pt x="0" y="46"/>
                      </a:lnTo>
                      <a:lnTo>
                        <a:pt x="8" y="54"/>
                      </a:lnTo>
                      <a:lnTo>
                        <a:pt x="8" y="61"/>
                      </a:lnTo>
                      <a:lnTo>
                        <a:pt x="8" y="69"/>
                      </a:lnTo>
                      <a:lnTo>
                        <a:pt x="8" y="77"/>
                      </a:lnTo>
                      <a:lnTo>
                        <a:pt x="8" y="85"/>
                      </a:lnTo>
                      <a:lnTo>
                        <a:pt x="8" y="92"/>
                      </a:lnTo>
                      <a:lnTo>
                        <a:pt x="8" y="100"/>
                      </a:lnTo>
                      <a:lnTo>
                        <a:pt x="17" y="108"/>
                      </a:lnTo>
                      <a:lnTo>
                        <a:pt x="33" y="108"/>
                      </a:lnTo>
                      <a:close/>
                    </a:path>
                  </a:pathLst>
                </a:custGeom>
                <a:solidFill>
                  <a:srgbClr val="000000"/>
                </a:solidFill>
                <a:ln w="0">
                  <a:noFill/>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Freeform 610"/>
                <p:cNvSpPr/>
                <p:nvPr/>
              </p:nvSpPr>
              <p:spPr>
                <a:xfrm flipH="1">
                  <a:off x="488160" y="1599840"/>
                  <a:ext cx="6480" cy="22680"/>
                </a:xfrm>
                <a:custGeom>
                  <a:avLst/>
                  <a:gdLst>
                    <a:gd name="textAreaLeft" fmla="*/ 360 w 6480"/>
                    <a:gd name="textAreaRight" fmla="*/ 7200 w 6480"/>
                    <a:gd name="textAreaTop" fmla="*/ 0 h 22680"/>
                    <a:gd name="textAreaBottom" fmla="*/ 23040 h 22680"/>
                  </a:gdLst>
                  <a:ahLst/>
                  <a:rect l="textAreaLeft" t="textAreaTop" r="textAreaRight" b="textAreaBottom"/>
                  <a:pathLst>
                    <a:path w="33" h="108">
                      <a:moveTo>
                        <a:pt x="33" y="108"/>
                      </a:moveTo>
                      <a:lnTo>
                        <a:pt x="33" y="100"/>
                      </a:lnTo>
                      <a:lnTo>
                        <a:pt x="33" y="92"/>
                      </a:lnTo>
                      <a:lnTo>
                        <a:pt x="33" y="85"/>
                      </a:lnTo>
                      <a:lnTo>
                        <a:pt x="25" y="77"/>
                      </a:lnTo>
                      <a:lnTo>
                        <a:pt x="25" y="69"/>
                      </a:lnTo>
                      <a:lnTo>
                        <a:pt x="25" y="61"/>
                      </a:lnTo>
                      <a:lnTo>
                        <a:pt x="25" y="54"/>
                      </a:lnTo>
                      <a:lnTo>
                        <a:pt x="25" y="46"/>
                      </a:lnTo>
                      <a:lnTo>
                        <a:pt x="25" y="38"/>
                      </a:lnTo>
                      <a:lnTo>
                        <a:pt x="25" y="31"/>
                      </a:lnTo>
                      <a:lnTo>
                        <a:pt x="25" y="23"/>
                      </a:lnTo>
                      <a:lnTo>
                        <a:pt x="17" y="15"/>
                      </a:lnTo>
                      <a:lnTo>
                        <a:pt x="17" y="8"/>
                      </a:lnTo>
                      <a:lnTo>
                        <a:pt x="17" y="0"/>
                      </a:lnTo>
                      <a:lnTo>
                        <a:pt x="0" y="0"/>
                      </a:lnTo>
                      <a:lnTo>
                        <a:pt x="0" y="8"/>
                      </a:lnTo>
                      <a:lnTo>
                        <a:pt x="0" y="15"/>
                      </a:lnTo>
                      <a:lnTo>
                        <a:pt x="0" y="23"/>
                      </a:lnTo>
                      <a:lnTo>
                        <a:pt x="0" y="31"/>
                      </a:lnTo>
                      <a:lnTo>
                        <a:pt x="0" y="38"/>
                      </a:lnTo>
                      <a:lnTo>
                        <a:pt x="0" y="46"/>
                      </a:lnTo>
                      <a:lnTo>
                        <a:pt x="8" y="54"/>
                      </a:lnTo>
                      <a:lnTo>
                        <a:pt x="8" y="61"/>
                      </a:lnTo>
                      <a:lnTo>
                        <a:pt x="8" y="69"/>
                      </a:lnTo>
                      <a:lnTo>
                        <a:pt x="8" y="77"/>
                      </a:lnTo>
                      <a:lnTo>
                        <a:pt x="8" y="85"/>
                      </a:lnTo>
                      <a:lnTo>
                        <a:pt x="8" y="92"/>
                      </a:lnTo>
                      <a:lnTo>
                        <a:pt x="8" y="100"/>
                      </a:lnTo>
                      <a:lnTo>
                        <a:pt x="17" y="108"/>
                      </a:lnTo>
                      <a:lnTo>
                        <a:pt x="33" y="108"/>
                      </a:lnTo>
                    </a:path>
                  </a:pathLst>
                </a:custGeom>
                <a:noFill/>
                <a:ln w="0">
                  <a:solidFill>
                    <a:srgbClr val="000000"/>
                  </a:solidFill>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Freeform 609"/>
                <p:cNvSpPr/>
                <p:nvPr/>
              </p:nvSpPr>
              <p:spPr>
                <a:xfrm flipH="1">
                  <a:off x="491040" y="15998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0"/>
                      </a:lnTo>
                      <a:lnTo>
                        <a:pt x="0" y="8"/>
                      </a:lnTo>
                      <a:lnTo>
                        <a:pt x="8" y="8"/>
                      </a:lnTo>
                      <a:lnTo>
                        <a:pt x="17"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Freeform 608"/>
                <p:cNvSpPr/>
                <p:nvPr/>
              </p:nvSpPr>
              <p:spPr>
                <a:xfrm flipH="1">
                  <a:off x="491040" y="15998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0"/>
                      </a:lnTo>
                      <a:lnTo>
                        <a:pt x="0" y="8"/>
                      </a:lnTo>
                      <a:lnTo>
                        <a:pt x="8" y="8"/>
                      </a:lnTo>
                      <a:lnTo>
                        <a:pt x="17"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Freeform 607"/>
                <p:cNvSpPr/>
                <p:nvPr/>
              </p:nvSpPr>
              <p:spPr>
                <a:xfrm flipH="1">
                  <a:off x="801360" y="1380600"/>
                  <a:ext cx="131400" cy="102960"/>
                </a:xfrm>
                <a:custGeom>
                  <a:avLst/>
                  <a:gdLst>
                    <a:gd name="textAreaLeft" fmla="*/ -360 w 131400"/>
                    <a:gd name="textAreaRight" fmla="*/ 131400 w 131400"/>
                    <a:gd name="textAreaTop" fmla="*/ 0 h 102960"/>
                    <a:gd name="textAreaBottom" fmla="*/ 103320 h 102960"/>
                  </a:gdLst>
                  <a:ahLst/>
                  <a:rect l="textAreaLeft" t="textAreaTop" r="textAreaRight" b="textAreaBottom"/>
                  <a:pathLst>
                    <a:path w="660" h="492">
                      <a:moveTo>
                        <a:pt x="660" y="246"/>
                      </a:moveTo>
                      <a:lnTo>
                        <a:pt x="652" y="231"/>
                      </a:lnTo>
                      <a:lnTo>
                        <a:pt x="635" y="215"/>
                      </a:lnTo>
                      <a:lnTo>
                        <a:pt x="618" y="200"/>
                      </a:lnTo>
                      <a:lnTo>
                        <a:pt x="610" y="184"/>
                      </a:lnTo>
                      <a:lnTo>
                        <a:pt x="593" y="169"/>
                      </a:lnTo>
                      <a:lnTo>
                        <a:pt x="577" y="154"/>
                      </a:lnTo>
                      <a:lnTo>
                        <a:pt x="568" y="138"/>
                      </a:lnTo>
                      <a:lnTo>
                        <a:pt x="552" y="123"/>
                      </a:lnTo>
                      <a:lnTo>
                        <a:pt x="535" y="107"/>
                      </a:lnTo>
                      <a:lnTo>
                        <a:pt x="527" y="92"/>
                      </a:lnTo>
                      <a:lnTo>
                        <a:pt x="510" y="84"/>
                      </a:lnTo>
                      <a:lnTo>
                        <a:pt x="493" y="69"/>
                      </a:lnTo>
                      <a:lnTo>
                        <a:pt x="476" y="54"/>
                      </a:lnTo>
                      <a:lnTo>
                        <a:pt x="460" y="38"/>
                      </a:lnTo>
                      <a:lnTo>
                        <a:pt x="451" y="23"/>
                      </a:lnTo>
                      <a:lnTo>
                        <a:pt x="435" y="15"/>
                      </a:lnTo>
                      <a:lnTo>
                        <a:pt x="426" y="7"/>
                      </a:lnTo>
                      <a:lnTo>
                        <a:pt x="418" y="7"/>
                      </a:lnTo>
                      <a:lnTo>
                        <a:pt x="410" y="0"/>
                      </a:lnTo>
                      <a:lnTo>
                        <a:pt x="401" y="0"/>
                      </a:lnTo>
                      <a:lnTo>
                        <a:pt x="393" y="0"/>
                      </a:lnTo>
                      <a:lnTo>
                        <a:pt x="384" y="7"/>
                      </a:lnTo>
                      <a:lnTo>
                        <a:pt x="376" y="7"/>
                      </a:lnTo>
                      <a:lnTo>
                        <a:pt x="368" y="15"/>
                      </a:lnTo>
                      <a:lnTo>
                        <a:pt x="351" y="31"/>
                      </a:lnTo>
                      <a:lnTo>
                        <a:pt x="326" y="46"/>
                      </a:lnTo>
                      <a:lnTo>
                        <a:pt x="309" y="69"/>
                      </a:lnTo>
                      <a:lnTo>
                        <a:pt x="284" y="84"/>
                      </a:lnTo>
                      <a:lnTo>
                        <a:pt x="259" y="107"/>
                      </a:lnTo>
                      <a:lnTo>
                        <a:pt x="234" y="131"/>
                      </a:lnTo>
                      <a:lnTo>
                        <a:pt x="209" y="154"/>
                      </a:lnTo>
                      <a:lnTo>
                        <a:pt x="184" y="177"/>
                      </a:lnTo>
                      <a:lnTo>
                        <a:pt x="159" y="192"/>
                      </a:lnTo>
                      <a:lnTo>
                        <a:pt x="134" y="215"/>
                      </a:lnTo>
                      <a:lnTo>
                        <a:pt x="109" y="231"/>
                      </a:lnTo>
                      <a:lnTo>
                        <a:pt x="84" y="254"/>
                      </a:lnTo>
                      <a:lnTo>
                        <a:pt x="59" y="269"/>
                      </a:lnTo>
                      <a:lnTo>
                        <a:pt x="42" y="277"/>
                      </a:lnTo>
                      <a:lnTo>
                        <a:pt x="17" y="292"/>
                      </a:lnTo>
                      <a:lnTo>
                        <a:pt x="0" y="300"/>
                      </a:lnTo>
                      <a:lnTo>
                        <a:pt x="0" y="307"/>
                      </a:lnTo>
                      <a:lnTo>
                        <a:pt x="8" y="307"/>
                      </a:lnTo>
                      <a:lnTo>
                        <a:pt x="17" y="315"/>
                      </a:lnTo>
                      <a:lnTo>
                        <a:pt x="25" y="315"/>
                      </a:lnTo>
                      <a:lnTo>
                        <a:pt x="33" y="315"/>
                      </a:lnTo>
                      <a:lnTo>
                        <a:pt x="42" y="323"/>
                      </a:lnTo>
                      <a:lnTo>
                        <a:pt x="50" y="323"/>
                      </a:lnTo>
                      <a:lnTo>
                        <a:pt x="59" y="323"/>
                      </a:lnTo>
                      <a:lnTo>
                        <a:pt x="67" y="323"/>
                      </a:lnTo>
                      <a:lnTo>
                        <a:pt x="75" y="323"/>
                      </a:lnTo>
                      <a:lnTo>
                        <a:pt x="92" y="323"/>
                      </a:lnTo>
                      <a:lnTo>
                        <a:pt x="100" y="323"/>
                      </a:lnTo>
                      <a:lnTo>
                        <a:pt x="109" y="323"/>
                      </a:lnTo>
                      <a:lnTo>
                        <a:pt x="125" y="323"/>
                      </a:lnTo>
                      <a:lnTo>
                        <a:pt x="134" y="323"/>
                      </a:lnTo>
                      <a:lnTo>
                        <a:pt x="125" y="331"/>
                      </a:lnTo>
                      <a:lnTo>
                        <a:pt x="117" y="338"/>
                      </a:lnTo>
                      <a:lnTo>
                        <a:pt x="100" y="354"/>
                      </a:lnTo>
                      <a:lnTo>
                        <a:pt x="92" y="361"/>
                      </a:lnTo>
                      <a:lnTo>
                        <a:pt x="75" y="369"/>
                      </a:lnTo>
                      <a:lnTo>
                        <a:pt x="67" y="384"/>
                      </a:lnTo>
                      <a:lnTo>
                        <a:pt x="50" y="392"/>
                      </a:lnTo>
                      <a:lnTo>
                        <a:pt x="42" y="400"/>
                      </a:lnTo>
                      <a:lnTo>
                        <a:pt x="33" y="415"/>
                      </a:lnTo>
                      <a:lnTo>
                        <a:pt x="25" y="423"/>
                      </a:lnTo>
                      <a:lnTo>
                        <a:pt x="25" y="438"/>
                      </a:lnTo>
                      <a:lnTo>
                        <a:pt x="25" y="446"/>
                      </a:lnTo>
                      <a:lnTo>
                        <a:pt x="33" y="454"/>
                      </a:lnTo>
                      <a:lnTo>
                        <a:pt x="42" y="454"/>
                      </a:lnTo>
                      <a:lnTo>
                        <a:pt x="50" y="454"/>
                      </a:lnTo>
                      <a:lnTo>
                        <a:pt x="59" y="454"/>
                      </a:lnTo>
                      <a:lnTo>
                        <a:pt x="67" y="454"/>
                      </a:lnTo>
                      <a:lnTo>
                        <a:pt x="75" y="454"/>
                      </a:lnTo>
                      <a:lnTo>
                        <a:pt x="84" y="454"/>
                      </a:lnTo>
                      <a:lnTo>
                        <a:pt x="100" y="446"/>
                      </a:lnTo>
                      <a:lnTo>
                        <a:pt x="109" y="446"/>
                      </a:lnTo>
                      <a:lnTo>
                        <a:pt x="125" y="446"/>
                      </a:lnTo>
                      <a:lnTo>
                        <a:pt x="134" y="438"/>
                      </a:lnTo>
                      <a:lnTo>
                        <a:pt x="142" y="438"/>
                      </a:lnTo>
                      <a:lnTo>
                        <a:pt x="159" y="431"/>
                      </a:lnTo>
                      <a:lnTo>
                        <a:pt x="167" y="431"/>
                      </a:lnTo>
                      <a:lnTo>
                        <a:pt x="159" y="438"/>
                      </a:lnTo>
                      <a:lnTo>
                        <a:pt x="159" y="446"/>
                      </a:lnTo>
                      <a:lnTo>
                        <a:pt x="150" y="454"/>
                      </a:lnTo>
                      <a:lnTo>
                        <a:pt x="150" y="461"/>
                      </a:lnTo>
                      <a:lnTo>
                        <a:pt x="142" y="469"/>
                      </a:lnTo>
                      <a:lnTo>
                        <a:pt x="150" y="477"/>
                      </a:lnTo>
                      <a:lnTo>
                        <a:pt x="150" y="484"/>
                      </a:lnTo>
                      <a:lnTo>
                        <a:pt x="150" y="492"/>
                      </a:lnTo>
                      <a:lnTo>
                        <a:pt x="159" y="492"/>
                      </a:lnTo>
                      <a:lnTo>
                        <a:pt x="167" y="492"/>
                      </a:lnTo>
                      <a:lnTo>
                        <a:pt x="176" y="492"/>
                      </a:lnTo>
                      <a:lnTo>
                        <a:pt x="184" y="492"/>
                      </a:lnTo>
                      <a:lnTo>
                        <a:pt x="192" y="492"/>
                      </a:lnTo>
                      <a:lnTo>
                        <a:pt x="201" y="492"/>
                      </a:lnTo>
                      <a:lnTo>
                        <a:pt x="209" y="484"/>
                      </a:lnTo>
                      <a:lnTo>
                        <a:pt x="226" y="484"/>
                      </a:lnTo>
                      <a:lnTo>
                        <a:pt x="234" y="477"/>
                      </a:lnTo>
                      <a:lnTo>
                        <a:pt x="251" y="469"/>
                      </a:lnTo>
                      <a:lnTo>
                        <a:pt x="259" y="461"/>
                      </a:lnTo>
                      <a:lnTo>
                        <a:pt x="276" y="454"/>
                      </a:lnTo>
                      <a:lnTo>
                        <a:pt x="284" y="446"/>
                      </a:lnTo>
                      <a:lnTo>
                        <a:pt x="301" y="438"/>
                      </a:lnTo>
                      <a:lnTo>
                        <a:pt x="318" y="438"/>
                      </a:lnTo>
                      <a:lnTo>
                        <a:pt x="326" y="431"/>
                      </a:lnTo>
                      <a:lnTo>
                        <a:pt x="343" y="415"/>
                      </a:lnTo>
                      <a:lnTo>
                        <a:pt x="351" y="415"/>
                      </a:lnTo>
                      <a:lnTo>
                        <a:pt x="368" y="407"/>
                      </a:lnTo>
                      <a:lnTo>
                        <a:pt x="376" y="400"/>
                      </a:lnTo>
                      <a:lnTo>
                        <a:pt x="393" y="392"/>
                      </a:lnTo>
                      <a:lnTo>
                        <a:pt x="401" y="384"/>
                      </a:lnTo>
                      <a:lnTo>
                        <a:pt x="418" y="377"/>
                      </a:lnTo>
                      <a:lnTo>
                        <a:pt x="435" y="377"/>
                      </a:lnTo>
                      <a:lnTo>
                        <a:pt x="443" y="384"/>
                      </a:lnTo>
                      <a:lnTo>
                        <a:pt x="460" y="392"/>
                      </a:lnTo>
                      <a:lnTo>
                        <a:pt x="468" y="392"/>
                      </a:lnTo>
                      <a:lnTo>
                        <a:pt x="485" y="392"/>
                      </a:lnTo>
                      <a:lnTo>
                        <a:pt x="493" y="400"/>
                      </a:lnTo>
                      <a:lnTo>
                        <a:pt x="510" y="400"/>
                      </a:lnTo>
                      <a:lnTo>
                        <a:pt x="518" y="400"/>
                      </a:lnTo>
                      <a:lnTo>
                        <a:pt x="535" y="407"/>
                      </a:lnTo>
                      <a:lnTo>
                        <a:pt x="543" y="407"/>
                      </a:lnTo>
                      <a:lnTo>
                        <a:pt x="560" y="407"/>
                      </a:lnTo>
                      <a:lnTo>
                        <a:pt x="568" y="407"/>
                      </a:lnTo>
                      <a:lnTo>
                        <a:pt x="585" y="407"/>
                      </a:lnTo>
                      <a:lnTo>
                        <a:pt x="602" y="407"/>
                      </a:lnTo>
                      <a:lnTo>
                        <a:pt x="610" y="415"/>
                      </a:lnTo>
                      <a:lnTo>
                        <a:pt x="627" y="415"/>
                      </a:lnTo>
                      <a:lnTo>
                        <a:pt x="627" y="392"/>
                      </a:lnTo>
                      <a:lnTo>
                        <a:pt x="635" y="369"/>
                      </a:lnTo>
                      <a:lnTo>
                        <a:pt x="644" y="346"/>
                      </a:lnTo>
                      <a:lnTo>
                        <a:pt x="644" y="331"/>
                      </a:lnTo>
                      <a:lnTo>
                        <a:pt x="652" y="307"/>
                      </a:lnTo>
                      <a:lnTo>
                        <a:pt x="652" y="284"/>
                      </a:lnTo>
                      <a:lnTo>
                        <a:pt x="660" y="269"/>
                      </a:lnTo>
                      <a:lnTo>
                        <a:pt x="660" y="246"/>
                      </a:lnTo>
                      <a:close/>
                    </a:path>
                  </a:pathLst>
                </a:custGeom>
                <a:solidFill>
                  <a:srgbClr val="ffe8c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Freeform 606"/>
                <p:cNvSpPr/>
                <p:nvPr/>
              </p:nvSpPr>
              <p:spPr>
                <a:xfrm flipH="1">
                  <a:off x="801360" y="1380600"/>
                  <a:ext cx="131400" cy="102960"/>
                </a:xfrm>
                <a:custGeom>
                  <a:avLst/>
                  <a:gdLst>
                    <a:gd name="textAreaLeft" fmla="*/ -360 w 131400"/>
                    <a:gd name="textAreaRight" fmla="*/ 131400 w 131400"/>
                    <a:gd name="textAreaTop" fmla="*/ 0 h 102960"/>
                    <a:gd name="textAreaBottom" fmla="*/ 103320 h 102960"/>
                  </a:gdLst>
                  <a:ahLst/>
                  <a:rect l="textAreaLeft" t="textAreaTop" r="textAreaRight" b="textAreaBottom"/>
                  <a:pathLst>
                    <a:path w="660" h="492">
                      <a:moveTo>
                        <a:pt x="660" y="246"/>
                      </a:moveTo>
                      <a:lnTo>
                        <a:pt x="652" y="231"/>
                      </a:lnTo>
                      <a:lnTo>
                        <a:pt x="635" y="215"/>
                      </a:lnTo>
                      <a:lnTo>
                        <a:pt x="618" y="200"/>
                      </a:lnTo>
                      <a:lnTo>
                        <a:pt x="610" y="184"/>
                      </a:lnTo>
                      <a:lnTo>
                        <a:pt x="593" y="169"/>
                      </a:lnTo>
                      <a:lnTo>
                        <a:pt x="577" y="154"/>
                      </a:lnTo>
                      <a:lnTo>
                        <a:pt x="568" y="138"/>
                      </a:lnTo>
                      <a:lnTo>
                        <a:pt x="552" y="123"/>
                      </a:lnTo>
                      <a:lnTo>
                        <a:pt x="535" y="107"/>
                      </a:lnTo>
                      <a:lnTo>
                        <a:pt x="527" y="92"/>
                      </a:lnTo>
                      <a:lnTo>
                        <a:pt x="510" y="84"/>
                      </a:lnTo>
                      <a:lnTo>
                        <a:pt x="493" y="69"/>
                      </a:lnTo>
                      <a:lnTo>
                        <a:pt x="476" y="54"/>
                      </a:lnTo>
                      <a:lnTo>
                        <a:pt x="460" y="38"/>
                      </a:lnTo>
                      <a:lnTo>
                        <a:pt x="451" y="23"/>
                      </a:lnTo>
                      <a:lnTo>
                        <a:pt x="435" y="15"/>
                      </a:lnTo>
                      <a:lnTo>
                        <a:pt x="426" y="7"/>
                      </a:lnTo>
                      <a:lnTo>
                        <a:pt x="418" y="7"/>
                      </a:lnTo>
                      <a:lnTo>
                        <a:pt x="410" y="0"/>
                      </a:lnTo>
                      <a:lnTo>
                        <a:pt x="401" y="0"/>
                      </a:lnTo>
                      <a:lnTo>
                        <a:pt x="393" y="0"/>
                      </a:lnTo>
                      <a:lnTo>
                        <a:pt x="384" y="7"/>
                      </a:lnTo>
                      <a:lnTo>
                        <a:pt x="376" y="7"/>
                      </a:lnTo>
                      <a:lnTo>
                        <a:pt x="368" y="15"/>
                      </a:lnTo>
                      <a:lnTo>
                        <a:pt x="351" y="31"/>
                      </a:lnTo>
                      <a:lnTo>
                        <a:pt x="326" y="46"/>
                      </a:lnTo>
                      <a:lnTo>
                        <a:pt x="309" y="69"/>
                      </a:lnTo>
                      <a:lnTo>
                        <a:pt x="284" y="84"/>
                      </a:lnTo>
                      <a:lnTo>
                        <a:pt x="259" y="107"/>
                      </a:lnTo>
                      <a:lnTo>
                        <a:pt x="234" y="131"/>
                      </a:lnTo>
                      <a:lnTo>
                        <a:pt x="209" y="154"/>
                      </a:lnTo>
                      <a:lnTo>
                        <a:pt x="184" y="177"/>
                      </a:lnTo>
                      <a:lnTo>
                        <a:pt x="159" y="192"/>
                      </a:lnTo>
                      <a:lnTo>
                        <a:pt x="134" y="215"/>
                      </a:lnTo>
                      <a:lnTo>
                        <a:pt x="109" y="231"/>
                      </a:lnTo>
                      <a:lnTo>
                        <a:pt x="84" y="254"/>
                      </a:lnTo>
                      <a:lnTo>
                        <a:pt x="59" y="269"/>
                      </a:lnTo>
                      <a:lnTo>
                        <a:pt x="42" y="277"/>
                      </a:lnTo>
                      <a:lnTo>
                        <a:pt x="17" y="292"/>
                      </a:lnTo>
                      <a:lnTo>
                        <a:pt x="0" y="300"/>
                      </a:lnTo>
                      <a:lnTo>
                        <a:pt x="0" y="307"/>
                      </a:lnTo>
                      <a:lnTo>
                        <a:pt x="8" y="307"/>
                      </a:lnTo>
                      <a:lnTo>
                        <a:pt x="17" y="315"/>
                      </a:lnTo>
                      <a:lnTo>
                        <a:pt x="25" y="315"/>
                      </a:lnTo>
                      <a:lnTo>
                        <a:pt x="33" y="315"/>
                      </a:lnTo>
                      <a:lnTo>
                        <a:pt x="42" y="323"/>
                      </a:lnTo>
                      <a:lnTo>
                        <a:pt x="50" y="323"/>
                      </a:lnTo>
                      <a:lnTo>
                        <a:pt x="59" y="323"/>
                      </a:lnTo>
                      <a:lnTo>
                        <a:pt x="67" y="323"/>
                      </a:lnTo>
                      <a:lnTo>
                        <a:pt x="75" y="323"/>
                      </a:lnTo>
                      <a:lnTo>
                        <a:pt x="92" y="323"/>
                      </a:lnTo>
                      <a:lnTo>
                        <a:pt x="100" y="323"/>
                      </a:lnTo>
                      <a:lnTo>
                        <a:pt x="109" y="323"/>
                      </a:lnTo>
                      <a:lnTo>
                        <a:pt x="125" y="323"/>
                      </a:lnTo>
                      <a:lnTo>
                        <a:pt x="134" y="323"/>
                      </a:lnTo>
                      <a:lnTo>
                        <a:pt x="125" y="331"/>
                      </a:lnTo>
                      <a:lnTo>
                        <a:pt x="117" y="338"/>
                      </a:lnTo>
                      <a:lnTo>
                        <a:pt x="100" y="354"/>
                      </a:lnTo>
                      <a:lnTo>
                        <a:pt x="92" y="361"/>
                      </a:lnTo>
                      <a:lnTo>
                        <a:pt x="75" y="369"/>
                      </a:lnTo>
                      <a:lnTo>
                        <a:pt x="67" y="384"/>
                      </a:lnTo>
                      <a:lnTo>
                        <a:pt x="50" y="392"/>
                      </a:lnTo>
                      <a:lnTo>
                        <a:pt x="42" y="400"/>
                      </a:lnTo>
                      <a:lnTo>
                        <a:pt x="33" y="415"/>
                      </a:lnTo>
                      <a:lnTo>
                        <a:pt x="25" y="423"/>
                      </a:lnTo>
                      <a:lnTo>
                        <a:pt x="25" y="438"/>
                      </a:lnTo>
                      <a:lnTo>
                        <a:pt x="25" y="446"/>
                      </a:lnTo>
                      <a:lnTo>
                        <a:pt x="33" y="454"/>
                      </a:lnTo>
                      <a:lnTo>
                        <a:pt x="42" y="454"/>
                      </a:lnTo>
                      <a:lnTo>
                        <a:pt x="50" y="454"/>
                      </a:lnTo>
                      <a:lnTo>
                        <a:pt x="59" y="454"/>
                      </a:lnTo>
                      <a:lnTo>
                        <a:pt x="67" y="454"/>
                      </a:lnTo>
                      <a:lnTo>
                        <a:pt x="75" y="454"/>
                      </a:lnTo>
                      <a:lnTo>
                        <a:pt x="84" y="454"/>
                      </a:lnTo>
                      <a:lnTo>
                        <a:pt x="100" y="446"/>
                      </a:lnTo>
                      <a:lnTo>
                        <a:pt x="109" y="446"/>
                      </a:lnTo>
                      <a:lnTo>
                        <a:pt x="125" y="446"/>
                      </a:lnTo>
                      <a:lnTo>
                        <a:pt x="134" y="438"/>
                      </a:lnTo>
                      <a:lnTo>
                        <a:pt x="142" y="438"/>
                      </a:lnTo>
                      <a:lnTo>
                        <a:pt x="159" y="431"/>
                      </a:lnTo>
                      <a:lnTo>
                        <a:pt x="167" y="431"/>
                      </a:lnTo>
                      <a:lnTo>
                        <a:pt x="159" y="438"/>
                      </a:lnTo>
                      <a:lnTo>
                        <a:pt x="159" y="446"/>
                      </a:lnTo>
                      <a:lnTo>
                        <a:pt x="150" y="454"/>
                      </a:lnTo>
                      <a:lnTo>
                        <a:pt x="150" y="461"/>
                      </a:lnTo>
                      <a:lnTo>
                        <a:pt x="142" y="469"/>
                      </a:lnTo>
                      <a:lnTo>
                        <a:pt x="150" y="477"/>
                      </a:lnTo>
                      <a:lnTo>
                        <a:pt x="150" y="484"/>
                      </a:lnTo>
                      <a:lnTo>
                        <a:pt x="150" y="492"/>
                      </a:lnTo>
                      <a:lnTo>
                        <a:pt x="159" y="492"/>
                      </a:lnTo>
                      <a:lnTo>
                        <a:pt x="167" y="492"/>
                      </a:lnTo>
                      <a:lnTo>
                        <a:pt x="176" y="492"/>
                      </a:lnTo>
                      <a:lnTo>
                        <a:pt x="184" y="492"/>
                      </a:lnTo>
                      <a:lnTo>
                        <a:pt x="192" y="492"/>
                      </a:lnTo>
                      <a:lnTo>
                        <a:pt x="201" y="492"/>
                      </a:lnTo>
                      <a:lnTo>
                        <a:pt x="209" y="484"/>
                      </a:lnTo>
                      <a:lnTo>
                        <a:pt x="226" y="484"/>
                      </a:lnTo>
                      <a:lnTo>
                        <a:pt x="234" y="477"/>
                      </a:lnTo>
                      <a:lnTo>
                        <a:pt x="251" y="469"/>
                      </a:lnTo>
                      <a:lnTo>
                        <a:pt x="259" y="461"/>
                      </a:lnTo>
                      <a:lnTo>
                        <a:pt x="276" y="454"/>
                      </a:lnTo>
                      <a:lnTo>
                        <a:pt x="284" y="446"/>
                      </a:lnTo>
                      <a:lnTo>
                        <a:pt x="301" y="438"/>
                      </a:lnTo>
                      <a:lnTo>
                        <a:pt x="318" y="438"/>
                      </a:lnTo>
                      <a:lnTo>
                        <a:pt x="326" y="431"/>
                      </a:lnTo>
                      <a:lnTo>
                        <a:pt x="343" y="415"/>
                      </a:lnTo>
                      <a:lnTo>
                        <a:pt x="351" y="415"/>
                      </a:lnTo>
                      <a:lnTo>
                        <a:pt x="368" y="407"/>
                      </a:lnTo>
                      <a:lnTo>
                        <a:pt x="376" y="400"/>
                      </a:lnTo>
                      <a:lnTo>
                        <a:pt x="393" y="392"/>
                      </a:lnTo>
                      <a:lnTo>
                        <a:pt x="401" y="384"/>
                      </a:lnTo>
                      <a:lnTo>
                        <a:pt x="418" y="377"/>
                      </a:lnTo>
                      <a:lnTo>
                        <a:pt x="435" y="377"/>
                      </a:lnTo>
                      <a:lnTo>
                        <a:pt x="443" y="384"/>
                      </a:lnTo>
                      <a:lnTo>
                        <a:pt x="460" y="392"/>
                      </a:lnTo>
                      <a:lnTo>
                        <a:pt x="468" y="392"/>
                      </a:lnTo>
                      <a:lnTo>
                        <a:pt x="485" y="392"/>
                      </a:lnTo>
                      <a:lnTo>
                        <a:pt x="493" y="400"/>
                      </a:lnTo>
                      <a:lnTo>
                        <a:pt x="510" y="400"/>
                      </a:lnTo>
                      <a:lnTo>
                        <a:pt x="518" y="400"/>
                      </a:lnTo>
                      <a:lnTo>
                        <a:pt x="535" y="407"/>
                      </a:lnTo>
                      <a:lnTo>
                        <a:pt x="543" y="407"/>
                      </a:lnTo>
                      <a:lnTo>
                        <a:pt x="560" y="407"/>
                      </a:lnTo>
                      <a:lnTo>
                        <a:pt x="568" y="407"/>
                      </a:lnTo>
                      <a:lnTo>
                        <a:pt x="585" y="407"/>
                      </a:lnTo>
                      <a:lnTo>
                        <a:pt x="602" y="407"/>
                      </a:lnTo>
                      <a:lnTo>
                        <a:pt x="610" y="415"/>
                      </a:lnTo>
                      <a:lnTo>
                        <a:pt x="627" y="415"/>
                      </a:lnTo>
                      <a:lnTo>
                        <a:pt x="627" y="392"/>
                      </a:lnTo>
                      <a:lnTo>
                        <a:pt x="635" y="369"/>
                      </a:lnTo>
                      <a:lnTo>
                        <a:pt x="644" y="346"/>
                      </a:lnTo>
                      <a:lnTo>
                        <a:pt x="644" y="331"/>
                      </a:lnTo>
                      <a:lnTo>
                        <a:pt x="652" y="307"/>
                      </a:lnTo>
                      <a:lnTo>
                        <a:pt x="652" y="284"/>
                      </a:lnTo>
                      <a:lnTo>
                        <a:pt x="660" y="269"/>
                      </a:lnTo>
                      <a:lnTo>
                        <a:pt x="660" y="246"/>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Freeform 605"/>
                <p:cNvSpPr/>
                <p:nvPr/>
              </p:nvSpPr>
              <p:spPr>
                <a:xfrm flipH="1">
                  <a:off x="884880" y="1444680"/>
                  <a:ext cx="21240" cy="3240"/>
                </a:xfrm>
                <a:custGeom>
                  <a:avLst/>
                  <a:gdLst>
                    <a:gd name="textAreaLeft" fmla="*/ -360 w 21240"/>
                    <a:gd name="textAreaRight" fmla="*/ 21240 w 21240"/>
                    <a:gd name="textAreaTop" fmla="*/ 0 h 3240"/>
                    <a:gd name="textAreaBottom" fmla="*/ 3600 h 3240"/>
                  </a:gdLst>
                  <a:ahLst/>
                  <a:rect l="textAreaLeft" t="textAreaTop" r="textAreaRight" b="textAreaBottom"/>
                  <a:pathLst>
                    <a:path w="108" h="16">
                      <a:moveTo>
                        <a:pt x="108" y="0"/>
                      </a:moveTo>
                      <a:lnTo>
                        <a:pt x="100" y="0"/>
                      </a:lnTo>
                      <a:lnTo>
                        <a:pt x="83" y="0"/>
                      </a:lnTo>
                      <a:lnTo>
                        <a:pt x="75" y="8"/>
                      </a:lnTo>
                      <a:lnTo>
                        <a:pt x="58" y="8"/>
                      </a:lnTo>
                      <a:lnTo>
                        <a:pt x="42" y="8"/>
                      </a:lnTo>
                      <a:lnTo>
                        <a:pt x="33" y="8"/>
                      </a:lnTo>
                      <a:lnTo>
                        <a:pt x="16" y="16"/>
                      </a:lnTo>
                      <a:lnTo>
                        <a:pt x="0" y="16"/>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Freeform 604"/>
                <p:cNvSpPr/>
                <p:nvPr/>
              </p:nvSpPr>
              <p:spPr>
                <a:xfrm flipH="1">
                  <a:off x="866880" y="1451160"/>
                  <a:ext cx="33120" cy="19440"/>
                </a:xfrm>
                <a:custGeom>
                  <a:avLst/>
                  <a:gdLst>
                    <a:gd name="textAreaLeft" fmla="*/ 0 w 33120"/>
                    <a:gd name="textAreaRight" fmla="*/ 33120 w 33120"/>
                    <a:gd name="textAreaTop" fmla="*/ 0 h 19440"/>
                    <a:gd name="textAreaBottom" fmla="*/ 19800 h 19440"/>
                  </a:gdLst>
                  <a:ahLst/>
                  <a:rect l="textAreaLeft" t="textAreaTop" r="textAreaRight" b="textAreaBottom"/>
                  <a:pathLst>
                    <a:path w="167" h="93">
                      <a:moveTo>
                        <a:pt x="167" y="0"/>
                      </a:moveTo>
                      <a:lnTo>
                        <a:pt x="159" y="8"/>
                      </a:lnTo>
                      <a:lnTo>
                        <a:pt x="142" y="16"/>
                      </a:lnTo>
                      <a:lnTo>
                        <a:pt x="134" y="23"/>
                      </a:lnTo>
                      <a:lnTo>
                        <a:pt x="126" y="31"/>
                      </a:lnTo>
                      <a:lnTo>
                        <a:pt x="117" y="31"/>
                      </a:lnTo>
                      <a:lnTo>
                        <a:pt x="109" y="39"/>
                      </a:lnTo>
                      <a:lnTo>
                        <a:pt x="100" y="46"/>
                      </a:lnTo>
                      <a:lnTo>
                        <a:pt x="92" y="54"/>
                      </a:lnTo>
                      <a:lnTo>
                        <a:pt x="84" y="54"/>
                      </a:lnTo>
                      <a:lnTo>
                        <a:pt x="67" y="62"/>
                      </a:lnTo>
                      <a:lnTo>
                        <a:pt x="59" y="69"/>
                      </a:lnTo>
                      <a:lnTo>
                        <a:pt x="50" y="69"/>
                      </a:lnTo>
                      <a:lnTo>
                        <a:pt x="34" y="77"/>
                      </a:lnTo>
                      <a:lnTo>
                        <a:pt x="25" y="85"/>
                      </a:lnTo>
                      <a:lnTo>
                        <a:pt x="17" y="85"/>
                      </a:lnTo>
                      <a:lnTo>
                        <a:pt x="0" y="93"/>
                      </a:lnTo>
                    </a:path>
                  </a:pathLst>
                </a:custGeom>
                <a:noFill/>
                <a:ln w="0">
                  <a:solidFill>
                    <a:srgbClr val="000000"/>
                  </a:solidFill>
                </a:ln>
              </p:spPr>
              <p:style>
                <a:lnRef idx="0"/>
                <a:fillRef idx="0"/>
                <a:effectRef idx="0"/>
                <a:fontRef idx="minor"/>
              </p:style>
              <p:txBody>
                <a:bodyPr lIns="90000" rIns="90000" tIns="-27000" bIns="-27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Freeform 603"/>
                <p:cNvSpPr/>
                <p:nvPr/>
              </p:nvSpPr>
              <p:spPr>
                <a:xfrm flipH="1">
                  <a:off x="826920" y="1414080"/>
                  <a:ext cx="59760" cy="37080"/>
                </a:xfrm>
                <a:custGeom>
                  <a:avLst/>
                  <a:gdLst>
                    <a:gd name="textAreaLeft" fmla="*/ 360 w 59760"/>
                    <a:gd name="textAreaRight" fmla="*/ 60480 w 59760"/>
                    <a:gd name="textAreaTop" fmla="*/ 0 h 37080"/>
                    <a:gd name="textAreaBottom" fmla="*/ 37440 h 37080"/>
                  </a:gdLst>
                  <a:ahLst/>
                  <a:rect l="textAreaLeft" t="textAreaTop" r="textAreaRight" b="textAreaBottom"/>
                  <a:pathLst>
                    <a:path w="301" h="177">
                      <a:moveTo>
                        <a:pt x="176" y="0"/>
                      </a:moveTo>
                      <a:lnTo>
                        <a:pt x="167" y="8"/>
                      </a:lnTo>
                      <a:lnTo>
                        <a:pt x="159" y="16"/>
                      </a:lnTo>
                      <a:lnTo>
                        <a:pt x="150" y="16"/>
                      </a:lnTo>
                      <a:lnTo>
                        <a:pt x="142" y="23"/>
                      </a:lnTo>
                      <a:lnTo>
                        <a:pt x="125" y="31"/>
                      </a:lnTo>
                      <a:lnTo>
                        <a:pt x="117" y="39"/>
                      </a:lnTo>
                      <a:lnTo>
                        <a:pt x="109" y="39"/>
                      </a:lnTo>
                      <a:lnTo>
                        <a:pt x="100" y="46"/>
                      </a:lnTo>
                      <a:lnTo>
                        <a:pt x="92" y="54"/>
                      </a:lnTo>
                      <a:lnTo>
                        <a:pt x="84" y="54"/>
                      </a:lnTo>
                      <a:lnTo>
                        <a:pt x="67" y="62"/>
                      </a:lnTo>
                      <a:lnTo>
                        <a:pt x="59" y="70"/>
                      </a:lnTo>
                      <a:lnTo>
                        <a:pt x="50" y="70"/>
                      </a:lnTo>
                      <a:lnTo>
                        <a:pt x="42" y="77"/>
                      </a:lnTo>
                      <a:lnTo>
                        <a:pt x="25" y="85"/>
                      </a:lnTo>
                      <a:lnTo>
                        <a:pt x="17" y="85"/>
                      </a:lnTo>
                      <a:lnTo>
                        <a:pt x="8" y="100"/>
                      </a:lnTo>
                      <a:lnTo>
                        <a:pt x="0" y="116"/>
                      </a:lnTo>
                      <a:lnTo>
                        <a:pt x="8" y="139"/>
                      </a:lnTo>
                      <a:lnTo>
                        <a:pt x="17" y="154"/>
                      </a:lnTo>
                      <a:lnTo>
                        <a:pt x="17" y="162"/>
                      </a:lnTo>
                      <a:lnTo>
                        <a:pt x="25" y="162"/>
                      </a:lnTo>
                      <a:lnTo>
                        <a:pt x="42" y="170"/>
                      </a:lnTo>
                      <a:lnTo>
                        <a:pt x="50" y="170"/>
                      </a:lnTo>
                      <a:lnTo>
                        <a:pt x="59" y="177"/>
                      </a:lnTo>
                      <a:lnTo>
                        <a:pt x="67" y="177"/>
                      </a:lnTo>
                      <a:lnTo>
                        <a:pt x="84" y="177"/>
                      </a:lnTo>
                      <a:lnTo>
                        <a:pt x="92" y="177"/>
                      </a:lnTo>
                      <a:lnTo>
                        <a:pt x="109" y="170"/>
                      </a:lnTo>
                      <a:lnTo>
                        <a:pt x="125" y="170"/>
                      </a:lnTo>
                      <a:lnTo>
                        <a:pt x="134" y="162"/>
                      </a:lnTo>
                      <a:lnTo>
                        <a:pt x="150" y="154"/>
                      </a:lnTo>
                      <a:lnTo>
                        <a:pt x="167" y="146"/>
                      </a:lnTo>
                      <a:lnTo>
                        <a:pt x="176" y="139"/>
                      </a:lnTo>
                      <a:lnTo>
                        <a:pt x="192" y="131"/>
                      </a:lnTo>
                      <a:lnTo>
                        <a:pt x="201" y="131"/>
                      </a:lnTo>
                      <a:lnTo>
                        <a:pt x="217" y="131"/>
                      </a:lnTo>
                      <a:lnTo>
                        <a:pt x="226" y="139"/>
                      </a:lnTo>
                      <a:lnTo>
                        <a:pt x="234" y="146"/>
                      </a:lnTo>
                      <a:lnTo>
                        <a:pt x="242" y="146"/>
                      </a:lnTo>
                      <a:lnTo>
                        <a:pt x="259" y="154"/>
                      </a:lnTo>
                      <a:lnTo>
                        <a:pt x="267" y="154"/>
                      </a:lnTo>
                      <a:lnTo>
                        <a:pt x="284" y="154"/>
                      </a:lnTo>
                      <a:lnTo>
                        <a:pt x="301" y="154"/>
                      </a:lnTo>
                    </a:path>
                  </a:pathLst>
                </a:custGeom>
                <a:noFill/>
                <a:ln w="0">
                  <a:solidFill>
                    <a:srgbClr val="000000"/>
                  </a:solid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Freeform 602"/>
                <p:cNvSpPr/>
                <p:nvPr/>
              </p:nvSpPr>
              <p:spPr>
                <a:xfrm flipH="1">
                  <a:off x="773280" y="1412640"/>
                  <a:ext cx="41400" cy="62640"/>
                </a:xfrm>
                <a:custGeom>
                  <a:avLst/>
                  <a:gdLst>
                    <a:gd name="textAreaLeft" fmla="*/ -360 w 41400"/>
                    <a:gd name="textAreaRight" fmla="*/ 41400 w 41400"/>
                    <a:gd name="textAreaTop" fmla="*/ 0 h 62640"/>
                    <a:gd name="textAreaBottom" fmla="*/ 63000 h 62640"/>
                  </a:gdLst>
                  <a:ahLst/>
                  <a:rect l="textAreaLeft" t="textAreaTop" r="textAreaRight" b="textAreaBottom"/>
                  <a:pathLst>
                    <a:path w="209" h="300">
                      <a:moveTo>
                        <a:pt x="209" y="38"/>
                      </a:moveTo>
                      <a:lnTo>
                        <a:pt x="201" y="30"/>
                      </a:lnTo>
                      <a:lnTo>
                        <a:pt x="193" y="30"/>
                      </a:lnTo>
                      <a:lnTo>
                        <a:pt x="184" y="30"/>
                      </a:lnTo>
                      <a:lnTo>
                        <a:pt x="176" y="30"/>
                      </a:lnTo>
                      <a:lnTo>
                        <a:pt x="168" y="23"/>
                      </a:lnTo>
                      <a:lnTo>
                        <a:pt x="159" y="23"/>
                      </a:lnTo>
                      <a:lnTo>
                        <a:pt x="151" y="23"/>
                      </a:lnTo>
                      <a:lnTo>
                        <a:pt x="142" y="15"/>
                      </a:lnTo>
                      <a:lnTo>
                        <a:pt x="126" y="15"/>
                      </a:lnTo>
                      <a:lnTo>
                        <a:pt x="117" y="15"/>
                      </a:lnTo>
                      <a:lnTo>
                        <a:pt x="109" y="7"/>
                      </a:lnTo>
                      <a:lnTo>
                        <a:pt x="101" y="7"/>
                      </a:lnTo>
                      <a:lnTo>
                        <a:pt x="92" y="7"/>
                      </a:lnTo>
                      <a:lnTo>
                        <a:pt x="84" y="0"/>
                      </a:lnTo>
                      <a:lnTo>
                        <a:pt x="76" y="0"/>
                      </a:lnTo>
                      <a:lnTo>
                        <a:pt x="67" y="0"/>
                      </a:lnTo>
                      <a:lnTo>
                        <a:pt x="51" y="30"/>
                      </a:lnTo>
                      <a:lnTo>
                        <a:pt x="42" y="61"/>
                      </a:lnTo>
                      <a:lnTo>
                        <a:pt x="34" y="92"/>
                      </a:lnTo>
                      <a:lnTo>
                        <a:pt x="25" y="130"/>
                      </a:lnTo>
                      <a:lnTo>
                        <a:pt x="17" y="161"/>
                      </a:lnTo>
                      <a:lnTo>
                        <a:pt x="9" y="200"/>
                      </a:lnTo>
                      <a:lnTo>
                        <a:pt x="9" y="238"/>
                      </a:lnTo>
                      <a:lnTo>
                        <a:pt x="0" y="277"/>
                      </a:lnTo>
                      <a:lnTo>
                        <a:pt x="9" y="284"/>
                      </a:lnTo>
                      <a:lnTo>
                        <a:pt x="17" y="292"/>
                      </a:lnTo>
                      <a:lnTo>
                        <a:pt x="34" y="292"/>
                      </a:lnTo>
                      <a:lnTo>
                        <a:pt x="42" y="292"/>
                      </a:lnTo>
                      <a:lnTo>
                        <a:pt x="51" y="292"/>
                      </a:lnTo>
                      <a:lnTo>
                        <a:pt x="67" y="292"/>
                      </a:lnTo>
                      <a:lnTo>
                        <a:pt x="76" y="300"/>
                      </a:lnTo>
                      <a:lnTo>
                        <a:pt x="92" y="300"/>
                      </a:lnTo>
                      <a:lnTo>
                        <a:pt x="109" y="292"/>
                      </a:lnTo>
                      <a:lnTo>
                        <a:pt x="117" y="292"/>
                      </a:lnTo>
                      <a:lnTo>
                        <a:pt x="134" y="292"/>
                      </a:lnTo>
                      <a:lnTo>
                        <a:pt x="151" y="292"/>
                      </a:lnTo>
                      <a:lnTo>
                        <a:pt x="159" y="292"/>
                      </a:lnTo>
                      <a:lnTo>
                        <a:pt x="176" y="292"/>
                      </a:lnTo>
                      <a:lnTo>
                        <a:pt x="184" y="292"/>
                      </a:lnTo>
                      <a:lnTo>
                        <a:pt x="184" y="253"/>
                      </a:lnTo>
                      <a:lnTo>
                        <a:pt x="193" y="223"/>
                      </a:lnTo>
                      <a:lnTo>
                        <a:pt x="193" y="192"/>
                      </a:lnTo>
                      <a:lnTo>
                        <a:pt x="201" y="161"/>
                      </a:lnTo>
                      <a:lnTo>
                        <a:pt x="201" y="130"/>
                      </a:lnTo>
                      <a:lnTo>
                        <a:pt x="201" y="100"/>
                      </a:lnTo>
                      <a:lnTo>
                        <a:pt x="209" y="69"/>
                      </a:lnTo>
                      <a:lnTo>
                        <a:pt x="209" y="38"/>
                      </a:lnTo>
                      <a:close/>
                    </a:path>
                  </a:pathLst>
                </a:custGeom>
                <a:solidFill>
                  <a:srgbClr val="990000"/>
                </a:solidFill>
                <a:ln w="0">
                  <a:no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Freeform 601"/>
                <p:cNvSpPr/>
                <p:nvPr/>
              </p:nvSpPr>
              <p:spPr>
                <a:xfrm flipH="1">
                  <a:off x="773280" y="1412640"/>
                  <a:ext cx="41400" cy="62640"/>
                </a:xfrm>
                <a:custGeom>
                  <a:avLst/>
                  <a:gdLst>
                    <a:gd name="textAreaLeft" fmla="*/ -360 w 41400"/>
                    <a:gd name="textAreaRight" fmla="*/ 41400 w 41400"/>
                    <a:gd name="textAreaTop" fmla="*/ 0 h 62640"/>
                    <a:gd name="textAreaBottom" fmla="*/ 63000 h 62640"/>
                  </a:gdLst>
                  <a:ahLst/>
                  <a:rect l="textAreaLeft" t="textAreaTop" r="textAreaRight" b="textAreaBottom"/>
                  <a:pathLst>
                    <a:path w="209" h="300">
                      <a:moveTo>
                        <a:pt x="209" y="38"/>
                      </a:moveTo>
                      <a:lnTo>
                        <a:pt x="201" y="30"/>
                      </a:lnTo>
                      <a:lnTo>
                        <a:pt x="193" y="30"/>
                      </a:lnTo>
                      <a:lnTo>
                        <a:pt x="184" y="30"/>
                      </a:lnTo>
                      <a:lnTo>
                        <a:pt x="176" y="30"/>
                      </a:lnTo>
                      <a:lnTo>
                        <a:pt x="168" y="23"/>
                      </a:lnTo>
                      <a:lnTo>
                        <a:pt x="159" y="23"/>
                      </a:lnTo>
                      <a:lnTo>
                        <a:pt x="151" y="23"/>
                      </a:lnTo>
                      <a:lnTo>
                        <a:pt x="142" y="15"/>
                      </a:lnTo>
                      <a:lnTo>
                        <a:pt x="126" y="15"/>
                      </a:lnTo>
                      <a:lnTo>
                        <a:pt x="117" y="15"/>
                      </a:lnTo>
                      <a:lnTo>
                        <a:pt x="109" y="7"/>
                      </a:lnTo>
                      <a:lnTo>
                        <a:pt x="101" y="7"/>
                      </a:lnTo>
                      <a:lnTo>
                        <a:pt x="92" y="7"/>
                      </a:lnTo>
                      <a:lnTo>
                        <a:pt x="84" y="0"/>
                      </a:lnTo>
                      <a:lnTo>
                        <a:pt x="76" y="0"/>
                      </a:lnTo>
                      <a:lnTo>
                        <a:pt x="67" y="0"/>
                      </a:lnTo>
                      <a:lnTo>
                        <a:pt x="51" y="30"/>
                      </a:lnTo>
                      <a:lnTo>
                        <a:pt x="42" y="61"/>
                      </a:lnTo>
                      <a:lnTo>
                        <a:pt x="34" y="92"/>
                      </a:lnTo>
                      <a:lnTo>
                        <a:pt x="25" y="130"/>
                      </a:lnTo>
                      <a:lnTo>
                        <a:pt x="17" y="161"/>
                      </a:lnTo>
                      <a:lnTo>
                        <a:pt x="9" y="200"/>
                      </a:lnTo>
                      <a:lnTo>
                        <a:pt x="9" y="238"/>
                      </a:lnTo>
                      <a:lnTo>
                        <a:pt x="0" y="277"/>
                      </a:lnTo>
                      <a:lnTo>
                        <a:pt x="9" y="284"/>
                      </a:lnTo>
                      <a:lnTo>
                        <a:pt x="17" y="292"/>
                      </a:lnTo>
                      <a:lnTo>
                        <a:pt x="34" y="292"/>
                      </a:lnTo>
                      <a:lnTo>
                        <a:pt x="42" y="292"/>
                      </a:lnTo>
                      <a:lnTo>
                        <a:pt x="51" y="292"/>
                      </a:lnTo>
                      <a:lnTo>
                        <a:pt x="67" y="292"/>
                      </a:lnTo>
                      <a:lnTo>
                        <a:pt x="76" y="300"/>
                      </a:lnTo>
                      <a:lnTo>
                        <a:pt x="92" y="300"/>
                      </a:lnTo>
                      <a:lnTo>
                        <a:pt x="109" y="292"/>
                      </a:lnTo>
                      <a:lnTo>
                        <a:pt x="117" y="292"/>
                      </a:lnTo>
                      <a:lnTo>
                        <a:pt x="134" y="292"/>
                      </a:lnTo>
                      <a:lnTo>
                        <a:pt x="151" y="292"/>
                      </a:lnTo>
                      <a:lnTo>
                        <a:pt x="159" y="292"/>
                      </a:lnTo>
                      <a:lnTo>
                        <a:pt x="176" y="292"/>
                      </a:lnTo>
                      <a:lnTo>
                        <a:pt x="184" y="292"/>
                      </a:lnTo>
                      <a:lnTo>
                        <a:pt x="184" y="253"/>
                      </a:lnTo>
                      <a:lnTo>
                        <a:pt x="193" y="223"/>
                      </a:lnTo>
                      <a:lnTo>
                        <a:pt x="193" y="192"/>
                      </a:lnTo>
                      <a:lnTo>
                        <a:pt x="201" y="161"/>
                      </a:lnTo>
                      <a:lnTo>
                        <a:pt x="201" y="130"/>
                      </a:lnTo>
                      <a:lnTo>
                        <a:pt x="201" y="100"/>
                      </a:lnTo>
                      <a:lnTo>
                        <a:pt x="209" y="69"/>
                      </a:lnTo>
                      <a:lnTo>
                        <a:pt x="209" y="38"/>
                      </a:lnTo>
                    </a:path>
                  </a:pathLst>
                </a:custGeom>
                <a:noFill/>
                <a:ln w="0">
                  <a:solidFill>
                    <a:srgbClr val="000000"/>
                  </a:solid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Freeform 600"/>
                <p:cNvSpPr/>
                <p:nvPr/>
              </p:nvSpPr>
              <p:spPr>
                <a:xfrm flipH="1">
                  <a:off x="774720" y="1423800"/>
                  <a:ext cx="3240" cy="5040"/>
                </a:xfrm>
                <a:custGeom>
                  <a:avLst/>
                  <a:gdLst>
                    <a:gd name="textAreaLeft" fmla="*/ -360 w 3240"/>
                    <a:gd name="textAreaRight" fmla="*/ 3240 w 3240"/>
                    <a:gd name="textAreaTop" fmla="*/ 0 h 5040"/>
                    <a:gd name="textAreaBottom" fmla="*/ 5400 h 5040"/>
                  </a:gdLst>
                  <a:ahLst/>
                  <a:rect l="textAreaLeft" t="textAreaTop" r="textAreaRight" b="textAreaBottom"/>
                  <a:pathLst>
                    <a:path w="17" h="24">
                      <a:moveTo>
                        <a:pt x="0" y="24"/>
                      </a:moveTo>
                      <a:lnTo>
                        <a:pt x="9" y="24"/>
                      </a:lnTo>
                      <a:lnTo>
                        <a:pt x="17" y="16"/>
                      </a:lnTo>
                      <a:lnTo>
                        <a:pt x="17" y="8"/>
                      </a:lnTo>
                      <a:lnTo>
                        <a:pt x="9" y="0"/>
                      </a:lnTo>
                      <a:lnTo>
                        <a:pt x="0" y="24"/>
                      </a:lnTo>
                      <a:close/>
                    </a:path>
                  </a:pathLst>
                </a:custGeom>
                <a:solidFill>
                  <a:srgbClr val="000000"/>
                </a:solidFill>
                <a:ln w="0">
                  <a:no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Freeform 599"/>
                <p:cNvSpPr/>
                <p:nvPr/>
              </p:nvSpPr>
              <p:spPr>
                <a:xfrm flipH="1">
                  <a:off x="774720" y="1423800"/>
                  <a:ext cx="3240" cy="5040"/>
                </a:xfrm>
                <a:custGeom>
                  <a:avLst/>
                  <a:gdLst>
                    <a:gd name="textAreaLeft" fmla="*/ -360 w 3240"/>
                    <a:gd name="textAreaRight" fmla="*/ 3240 w 3240"/>
                    <a:gd name="textAreaTop" fmla="*/ 0 h 5040"/>
                    <a:gd name="textAreaBottom" fmla="*/ 5400 h 5040"/>
                  </a:gdLst>
                  <a:ahLst/>
                  <a:rect l="textAreaLeft" t="textAreaTop" r="textAreaRight" b="textAreaBottom"/>
                  <a:pathLst>
                    <a:path w="17" h="24">
                      <a:moveTo>
                        <a:pt x="0" y="24"/>
                      </a:moveTo>
                      <a:lnTo>
                        <a:pt x="9" y="24"/>
                      </a:lnTo>
                      <a:lnTo>
                        <a:pt x="17" y="16"/>
                      </a:lnTo>
                      <a:lnTo>
                        <a:pt x="17" y="8"/>
                      </a:lnTo>
                      <a:lnTo>
                        <a:pt x="9" y="0"/>
                      </a:lnTo>
                      <a:lnTo>
                        <a:pt x="0" y="24"/>
                      </a:lnTo>
                    </a:path>
                  </a:pathLst>
                </a:custGeom>
                <a:noFill/>
                <a:ln w="0">
                  <a:solidFill>
                    <a:srgbClr val="000000"/>
                  </a:solid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Freeform 598"/>
                <p:cNvSpPr/>
                <p:nvPr/>
              </p:nvSpPr>
              <p:spPr>
                <a:xfrm flipH="1">
                  <a:off x="776520" y="1415880"/>
                  <a:ext cx="26640" cy="12960"/>
                </a:xfrm>
                <a:custGeom>
                  <a:avLst/>
                  <a:gdLst>
                    <a:gd name="textAreaLeft" fmla="*/ 360 w 26640"/>
                    <a:gd name="textAreaRight" fmla="*/ 27360 w 26640"/>
                    <a:gd name="textAreaTop" fmla="*/ 0 h 12960"/>
                    <a:gd name="textAreaBottom" fmla="*/ 13320 h 12960"/>
                  </a:gdLst>
                  <a:ahLst/>
                  <a:rect l="textAreaLeft" t="textAreaTop" r="textAreaRight" b="textAreaBottom"/>
                  <a:pathLst>
                    <a:path w="134" h="62">
                      <a:moveTo>
                        <a:pt x="0" y="23"/>
                      </a:moveTo>
                      <a:lnTo>
                        <a:pt x="8" y="23"/>
                      </a:lnTo>
                      <a:lnTo>
                        <a:pt x="17" y="23"/>
                      </a:lnTo>
                      <a:lnTo>
                        <a:pt x="25" y="31"/>
                      </a:lnTo>
                      <a:lnTo>
                        <a:pt x="33" y="31"/>
                      </a:lnTo>
                      <a:lnTo>
                        <a:pt x="42" y="31"/>
                      </a:lnTo>
                      <a:lnTo>
                        <a:pt x="50" y="38"/>
                      </a:lnTo>
                      <a:lnTo>
                        <a:pt x="58" y="38"/>
                      </a:lnTo>
                      <a:lnTo>
                        <a:pt x="67" y="38"/>
                      </a:lnTo>
                      <a:lnTo>
                        <a:pt x="75" y="38"/>
                      </a:lnTo>
                      <a:lnTo>
                        <a:pt x="83" y="46"/>
                      </a:lnTo>
                      <a:lnTo>
                        <a:pt x="92" y="46"/>
                      </a:lnTo>
                      <a:lnTo>
                        <a:pt x="100" y="46"/>
                      </a:lnTo>
                      <a:lnTo>
                        <a:pt x="109" y="54"/>
                      </a:lnTo>
                      <a:lnTo>
                        <a:pt x="117" y="54"/>
                      </a:lnTo>
                      <a:lnTo>
                        <a:pt x="125" y="54"/>
                      </a:lnTo>
                      <a:lnTo>
                        <a:pt x="125" y="62"/>
                      </a:lnTo>
                      <a:lnTo>
                        <a:pt x="134" y="38"/>
                      </a:lnTo>
                      <a:lnTo>
                        <a:pt x="125" y="38"/>
                      </a:lnTo>
                      <a:lnTo>
                        <a:pt x="117" y="38"/>
                      </a:lnTo>
                      <a:lnTo>
                        <a:pt x="109" y="31"/>
                      </a:lnTo>
                      <a:lnTo>
                        <a:pt x="100" y="31"/>
                      </a:lnTo>
                      <a:lnTo>
                        <a:pt x="92" y="31"/>
                      </a:lnTo>
                      <a:lnTo>
                        <a:pt x="83" y="23"/>
                      </a:lnTo>
                      <a:lnTo>
                        <a:pt x="75" y="23"/>
                      </a:lnTo>
                      <a:lnTo>
                        <a:pt x="67" y="23"/>
                      </a:lnTo>
                      <a:lnTo>
                        <a:pt x="58" y="15"/>
                      </a:lnTo>
                      <a:lnTo>
                        <a:pt x="50" y="15"/>
                      </a:lnTo>
                      <a:lnTo>
                        <a:pt x="42" y="15"/>
                      </a:lnTo>
                      <a:lnTo>
                        <a:pt x="33" y="8"/>
                      </a:lnTo>
                      <a:lnTo>
                        <a:pt x="25" y="8"/>
                      </a:lnTo>
                      <a:lnTo>
                        <a:pt x="17" y="8"/>
                      </a:lnTo>
                      <a:lnTo>
                        <a:pt x="8" y="0"/>
                      </a:lnTo>
                      <a:lnTo>
                        <a:pt x="0" y="23"/>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Freeform 597"/>
                <p:cNvSpPr/>
                <p:nvPr/>
              </p:nvSpPr>
              <p:spPr>
                <a:xfrm flipH="1">
                  <a:off x="776520" y="1415880"/>
                  <a:ext cx="26640" cy="12960"/>
                </a:xfrm>
                <a:custGeom>
                  <a:avLst/>
                  <a:gdLst>
                    <a:gd name="textAreaLeft" fmla="*/ 360 w 26640"/>
                    <a:gd name="textAreaRight" fmla="*/ 27360 w 26640"/>
                    <a:gd name="textAreaTop" fmla="*/ 0 h 12960"/>
                    <a:gd name="textAreaBottom" fmla="*/ 13320 h 12960"/>
                  </a:gdLst>
                  <a:ahLst/>
                  <a:rect l="textAreaLeft" t="textAreaTop" r="textAreaRight" b="textAreaBottom"/>
                  <a:pathLst>
                    <a:path w="134" h="62">
                      <a:moveTo>
                        <a:pt x="0" y="23"/>
                      </a:moveTo>
                      <a:lnTo>
                        <a:pt x="8" y="23"/>
                      </a:lnTo>
                      <a:lnTo>
                        <a:pt x="17" y="23"/>
                      </a:lnTo>
                      <a:lnTo>
                        <a:pt x="25" y="31"/>
                      </a:lnTo>
                      <a:lnTo>
                        <a:pt x="33" y="31"/>
                      </a:lnTo>
                      <a:lnTo>
                        <a:pt x="42" y="31"/>
                      </a:lnTo>
                      <a:lnTo>
                        <a:pt x="50" y="38"/>
                      </a:lnTo>
                      <a:lnTo>
                        <a:pt x="58" y="38"/>
                      </a:lnTo>
                      <a:lnTo>
                        <a:pt x="67" y="38"/>
                      </a:lnTo>
                      <a:lnTo>
                        <a:pt x="75" y="38"/>
                      </a:lnTo>
                      <a:lnTo>
                        <a:pt x="83" y="46"/>
                      </a:lnTo>
                      <a:lnTo>
                        <a:pt x="92" y="46"/>
                      </a:lnTo>
                      <a:lnTo>
                        <a:pt x="100" y="46"/>
                      </a:lnTo>
                      <a:lnTo>
                        <a:pt x="109" y="54"/>
                      </a:lnTo>
                      <a:lnTo>
                        <a:pt x="117" y="54"/>
                      </a:lnTo>
                      <a:lnTo>
                        <a:pt x="125" y="54"/>
                      </a:lnTo>
                      <a:lnTo>
                        <a:pt x="125" y="62"/>
                      </a:lnTo>
                      <a:lnTo>
                        <a:pt x="134" y="38"/>
                      </a:lnTo>
                      <a:lnTo>
                        <a:pt x="125" y="38"/>
                      </a:lnTo>
                      <a:lnTo>
                        <a:pt x="117" y="38"/>
                      </a:lnTo>
                      <a:lnTo>
                        <a:pt x="109" y="31"/>
                      </a:lnTo>
                      <a:lnTo>
                        <a:pt x="100" y="31"/>
                      </a:lnTo>
                      <a:lnTo>
                        <a:pt x="92" y="31"/>
                      </a:lnTo>
                      <a:lnTo>
                        <a:pt x="83" y="23"/>
                      </a:lnTo>
                      <a:lnTo>
                        <a:pt x="75" y="23"/>
                      </a:lnTo>
                      <a:lnTo>
                        <a:pt x="67" y="23"/>
                      </a:lnTo>
                      <a:lnTo>
                        <a:pt x="58" y="15"/>
                      </a:lnTo>
                      <a:lnTo>
                        <a:pt x="50" y="15"/>
                      </a:lnTo>
                      <a:lnTo>
                        <a:pt x="42" y="15"/>
                      </a:lnTo>
                      <a:lnTo>
                        <a:pt x="33" y="8"/>
                      </a:lnTo>
                      <a:lnTo>
                        <a:pt x="25" y="8"/>
                      </a:lnTo>
                      <a:lnTo>
                        <a:pt x="17" y="8"/>
                      </a:lnTo>
                      <a:lnTo>
                        <a:pt x="8" y="0"/>
                      </a:lnTo>
                      <a:lnTo>
                        <a:pt x="0" y="23"/>
                      </a:lnTo>
                    </a:path>
                  </a:pathLst>
                </a:custGeom>
                <a:noFill/>
                <a:ln w="0">
                  <a:solidFill>
                    <a:srgbClr val="000000"/>
                  </a:solid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9" name="Freeform 596"/>
                <p:cNvSpPr/>
                <p:nvPr/>
              </p:nvSpPr>
              <p:spPr>
                <a:xfrm flipH="1">
                  <a:off x="776160" y="1423800"/>
                  <a:ext cx="1800" cy="5040"/>
                </a:xfrm>
                <a:custGeom>
                  <a:avLst/>
                  <a:gdLst>
                    <a:gd name="textAreaLeft" fmla="*/ -360 w 1800"/>
                    <a:gd name="textAreaRight" fmla="*/ 1800 w 1800"/>
                    <a:gd name="textAreaTop" fmla="*/ 0 h 5040"/>
                    <a:gd name="textAreaBottom" fmla="*/ 5400 h 5040"/>
                  </a:gdLst>
                  <a:ahLst/>
                  <a:rect l="textAreaLeft" t="textAreaTop" r="textAreaRight" b="textAreaBottom"/>
                  <a:pathLst>
                    <a:path w="9" h="24">
                      <a:moveTo>
                        <a:pt x="9" y="0"/>
                      </a:moveTo>
                      <a:lnTo>
                        <a:pt x="9" y="0"/>
                      </a:lnTo>
                      <a:lnTo>
                        <a:pt x="0" y="0"/>
                      </a:lnTo>
                      <a:lnTo>
                        <a:pt x="0" y="8"/>
                      </a:lnTo>
                      <a:lnTo>
                        <a:pt x="0" y="16"/>
                      </a:lnTo>
                      <a:lnTo>
                        <a:pt x="0" y="24"/>
                      </a:lnTo>
                      <a:lnTo>
                        <a:pt x="9" y="0"/>
                      </a:lnTo>
                      <a:close/>
                    </a:path>
                  </a:pathLst>
                </a:custGeom>
                <a:solidFill>
                  <a:srgbClr val="000000"/>
                </a:solidFill>
                <a:ln w="0">
                  <a:no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Freeform 595"/>
                <p:cNvSpPr/>
                <p:nvPr/>
              </p:nvSpPr>
              <p:spPr>
                <a:xfrm flipH="1">
                  <a:off x="776160" y="1423800"/>
                  <a:ext cx="1800" cy="5040"/>
                </a:xfrm>
                <a:custGeom>
                  <a:avLst/>
                  <a:gdLst>
                    <a:gd name="textAreaLeft" fmla="*/ -360 w 1800"/>
                    <a:gd name="textAreaRight" fmla="*/ 1800 w 1800"/>
                    <a:gd name="textAreaTop" fmla="*/ 0 h 5040"/>
                    <a:gd name="textAreaBottom" fmla="*/ 5400 h 5040"/>
                  </a:gdLst>
                  <a:ahLst/>
                  <a:rect l="textAreaLeft" t="textAreaTop" r="textAreaRight" b="textAreaBottom"/>
                  <a:pathLst>
                    <a:path w="9" h="24">
                      <a:moveTo>
                        <a:pt x="9" y="0"/>
                      </a:moveTo>
                      <a:lnTo>
                        <a:pt x="9" y="0"/>
                      </a:lnTo>
                      <a:lnTo>
                        <a:pt x="0" y="0"/>
                      </a:lnTo>
                      <a:lnTo>
                        <a:pt x="0" y="8"/>
                      </a:lnTo>
                      <a:lnTo>
                        <a:pt x="0" y="16"/>
                      </a:lnTo>
                      <a:lnTo>
                        <a:pt x="0" y="24"/>
                      </a:lnTo>
                      <a:lnTo>
                        <a:pt x="9" y="0"/>
                      </a:lnTo>
                    </a:path>
                  </a:pathLst>
                </a:custGeom>
                <a:noFill/>
                <a:ln w="0">
                  <a:solidFill>
                    <a:srgbClr val="000000"/>
                  </a:solid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1" name="Freeform 594"/>
                <p:cNvSpPr/>
                <p:nvPr/>
              </p:nvSpPr>
              <p:spPr>
                <a:xfrm flipH="1">
                  <a:off x="776160" y="1433520"/>
                  <a:ext cx="3240" cy="4680"/>
                </a:xfrm>
                <a:custGeom>
                  <a:avLst/>
                  <a:gdLst>
                    <a:gd name="textAreaLeft" fmla="*/ -360 w 3240"/>
                    <a:gd name="textAreaRight" fmla="*/ 3240 w 3240"/>
                    <a:gd name="textAreaTop" fmla="*/ 0 h 4680"/>
                    <a:gd name="textAreaBottom" fmla="*/ 5040 h 4680"/>
                  </a:gdLst>
                  <a:ahLst/>
                  <a:rect l="textAreaLeft" t="textAreaTop" r="textAreaRight" b="textAreaBottom"/>
                  <a:pathLst>
                    <a:path w="17" h="23">
                      <a:moveTo>
                        <a:pt x="0" y="23"/>
                      </a:moveTo>
                      <a:lnTo>
                        <a:pt x="8" y="23"/>
                      </a:lnTo>
                      <a:lnTo>
                        <a:pt x="8" y="15"/>
                      </a:lnTo>
                      <a:lnTo>
                        <a:pt x="17" y="15"/>
                      </a:lnTo>
                      <a:lnTo>
                        <a:pt x="17" y="7"/>
                      </a:lnTo>
                      <a:lnTo>
                        <a:pt x="8" y="7"/>
                      </a:lnTo>
                      <a:lnTo>
                        <a:pt x="8" y="0"/>
                      </a:lnTo>
                      <a:lnTo>
                        <a:pt x="0" y="23"/>
                      </a:lnTo>
                      <a:close/>
                    </a:path>
                  </a:pathLst>
                </a:custGeom>
                <a:solidFill>
                  <a:srgbClr val="000000"/>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Freeform 593"/>
                <p:cNvSpPr/>
                <p:nvPr/>
              </p:nvSpPr>
              <p:spPr>
                <a:xfrm flipH="1">
                  <a:off x="776160" y="1433520"/>
                  <a:ext cx="3240" cy="4680"/>
                </a:xfrm>
                <a:custGeom>
                  <a:avLst/>
                  <a:gdLst>
                    <a:gd name="textAreaLeft" fmla="*/ -360 w 3240"/>
                    <a:gd name="textAreaRight" fmla="*/ 3240 w 3240"/>
                    <a:gd name="textAreaTop" fmla="*/ 0 h 4680"/>
                    <a:gd name="textAreaBottom" fmla="*/ 5040 h 4680"/>
                  </a:gdLst>
                  <a:ahLst/>
                  <a:rect l="textAreaLeft" t="textAreaTop" r="textAreaRight" b="textAreaBottom"/>
                  <a:pathLst>
                    <a:path w="17" h="23">
                      <a:moveTo>
                        <a:pt x="0" y="23"/>
                      </a:moveTo>
                      <a:lnTo>
                        <a:pt x="8" y="23"/>
                      </a:lnTo>
                      <a:lnTo>
                        <a:pt x="8" y="15"/>
                      </a:lnTo>
                      <a:lnTo>
                        <a:pt x="17" y="15"/>
                      </a:lnTo>
                      <a:lnTo>
                        <a:pt x="17" y="7"/>
                      </a:lnTo>
                      <a:lnTo>
                        <a:pt x="8" y="7"/>
                      </a:lnTo>
                      <a:lnTo>
                        <a:pt x="8" y="0"/>
                      </a:lnTo>
                      <a:lnTo>
                        <a:pt x="0" y="23"/>
                      </a:lnTo>
                    </a:path>
                  </a:pathLst>
                </a:custGeom>
                <a:noFill/>
                <a:ln w="0">
                  <a:solidFill>
                    <a:srgbClr val="000000"/>
                  </a:solid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3" name="Freeform 592"/>
                <p:cNvSpPr/>
                <p:nvPr/>
              </p:nvSpPr>
              <p:spPr>
                <a:xfrm flipH="1">
                  <a:off x="778320" y="1427040"/>
                  <a:ext cx="28080" cy="11160"/>
                </a:xfrm>
                <a:custGeom>
                  <a:avLst/>
                  <a:gdLst>
                    <a:gd name="textAreaLeft" fmla="*/ 360 w 28080"/>
                    <a:gd name="textAreaRight" fmla="*/ 28800 w 28080"/>
                    <a:gd name="textAreaTop" fmla="*/ 0 h 11160"/>
                    <a:gd name="textAreaBottom" fmla="*/ 11520 h 11160"/>
                  </a:gdLst>
                  <a:ahLst/>
                  <a:rect l="textAreaLeft" t="textAreaTop" r="textAreaRight" b="textAreaBottom"/>
                  <a:pathLst>
                    <a:path w="142" h="54">
                      <a:moveTo>
                        <a:pt x="0" y="15"/>
                      </a:moveTo>
                      <a:lnTo>
                        <a:pt x="9" y="23"/>
                      </a:lnTo>
                      <a:lnTo>
                        <a:pt x="17" y="23"/>
                      </a:lnTo>
                      <a:lnTo>
                        <a:pt x="25" y="23"/>
                      </a:lnTo>
                      <a:lnTo>
                        <a:pt x="34" y="23"/>
                      </a:lnTo>
                      <a:lnTo>
                        <a:pt x="42" y="31"/>
                      </a:lnTo>
                      <a:lnTo>
                        <a:pt x="50" y="31"/>
                      </a:lnTo>
                      <a:lnTo>
                        <a:pt x="59" y="31"/>
                      </a:lnTo>
                      <a:lnTo>
                        <a:pt x="67" y="31"/>
                      </a:lnTo>
                      <a:lnTo>
                        <a:pt x="75" y="38"/>
                      </a:lnTo>
                      <a:lnTo>
                        <a:pt x="84" y="38"/>
                      </a:lnTo>
                      <a:lnTo>
                        <a:pt x="92" y="38"/>
                      </a:lnTo>
                      <a:lnTo>
                        <a:pt x="100" y="46"/>
                      </a:lnTo>
                      <a:lnTo>
                        <a:pt x="109" y="46"/>
                      </a:lnTo>
                      <a:lnTo>
                        <a:pt x="117" y="46"/>
                      </a:lnTo>
                      <a:lnTo>
                        <a:pt x="126" y="54"/>
                      </a:lnTo>
                      <a:lnTo>
                        <a:pt x="134" y="54"/>
                      </a:lnTo>
                      <a:lnTo>
                        <a:pt x="142" y="31"/>
                      </a:lnTo>
                      <a:lnTo>
                        <a:pt x="134" y="31"/>
                      </a:lnTo>
                      <a:lnTo>
                        <a:pt x="126" y="31"/>
                      </a:lnTo>
                      <a:lnTo>
                        <a:pt x="117" y="31"/>
                      </a:lnTo>
                      <a:lnTo>
                        <a:pt x="109" y="23"/>
                      </a:lnTo>
                      <a:lnTo>
                        <a:pt x="100" y="23"/>
                      </a:lnTo>
                      <a:lnTo>
                        <a:pt x="92" y="23"/>
                      </a:lnTo>
                      <a:lnTo>
                        <a:pt x="84" y="15"/>
                      </a:lnTo>
                      <a:lnTo>
                        <a:pt x="75" y="15"/>
                      </a:lnTo>
                      <a:lnTo>
                        <a:pt x="67" y="15"/>
                      </a:lnTo>
                      <a:lnTo>
                        <a:pt x="59" y="15"/>
                      </a:lnTo>
                      <a:lnTo>
                        <a:pt x="50" y="8"/>
                      </a:lnTo>
                      <a:lnTo>
                        <a:pt x="42" y="8"/>
                      </a:lnTo>
                      <a:lnTo>
                        <a:pt x="34" y="8"/>
                      </a:lnTo>
                      <a:lnTo>
                        <a:pt x="25" y="0"/>
                      </a:lnTo>
                      <a:lnTo>
                        <a:pt x="17" y="0"/>
                      </a:lnTo>
                      <a:lnTo>
                        <a:pt x="9" y="0"/>
                      </a:lnTo>
                      <a:lnTo>
                        <a:pt x="0" y="15"/>
                      </a:lnTo>
                      <a:close/>
                    </a:path>
                  </a:pathLst>
                </a:custGeom>
                <a:solidFill>
                  <a:srgbClr val="000000"/>
                </a:soli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Freeform 591"/>
                <p:cNvSpPr/>
                <p:nvPr/>
              </p:nvSpPr>
              <p:spPr>
                <a:xfrm flipH="1">
                  <a:off x="778320" y="1427040"/>
                  <a:ext cx="28080" cy="11160"/>
                </a:xfrm>
                <a:custGeom>
                  <a:avLst/>
                  <a:gdLst>
                    <a:gd name="textAreaLeft" fmla="*/ 360 w 28080"/>
                    <a:gd name="textAreaRight" fmla="*/ 28800 w 28080"/>
                    <a:gd name="textAreaTop" fmla="*/ 0 h 11160"/>
                    <a:gd name="textAreaBottom" fmla="*/ 11520 h 11160"/>
                  </a:gdLst>
                  <a:ahLst/>
                  <a:rect l="textAreaLeft" t="textAreaTop" r="textAreaRight" b="textAreaBottom"/>
                  <a:pathLst>
                    <a:path w="142" h="54">
                      <a:moveTo>
                        <a:pt x="0" y="15"/>
                      </a:moveTo>
                      <a:lnTo>
                        <a:pt x="9" y="23"/>
                      </a:lnTo>
                      <a:lnTo>
                        <a:pt x="17" y="23"/>
                      </a:lnTo>
                      <a:lnTo>
                        <a:pt x="25" y="23"/>
                      </a:lnTo>
                      <a:lnTo>
                        <a:pt x="34" y="23"/>
                      </a:lnTo>
                      <a:lnTo>
                        <a:pt x="42" y="31"/>
                      </a:lnTo>
                      <a:lnTo>
                        <a:pt x="50" y="31"/>
                      </a:lnTo>
                      <a:lnTo>
                        <a:pt x="59" y="31"/>
                      </a:lnTo>
                      <a:lnTo>
                        <a:pt x="67" y="31"/>
                      </a:lnTo>
                      <a:lnTo>
                        <a:pt x="75" y="38"/>
                      </a:lnTo>
                      <a:lnTo>
                        <a:pt x="84" y="38"/>
                      </a:lnTo>
                      <a:lnTo>
                        <a:pt x="92" y="38"/>
                      </a:lnTo>
                      <a:lnTo>
                        <a:pt x="100" y="46"/>
                      </a:lnTo>
                      <a:lnTo>
                        <a:pt x="109" y="46"/>
                      </a:lnTo>
                      <a:lnTo>
                        <a:pt x="117" y="46"/>
                      </a:lnTo>
                      <a:lnTo>
                        <a:pt x="126" y="54"/>
                      </a:lnTo>
                      <a:lnTo>
                        <a:pt x="134" y="54"/>
                      </a:lnTo>
                      <a:lnTo>
                        <a:pt x="142" y="31"/>
                      </a:lnTo>
                      <a:lnTo>
                        <a:pt x="134" y="31"/>
                      </a:lnTo>
                      <a:lnTo>
                        <a:pt x="126" y="31"/>
                      </a:lnTo>
                      <a:lnTo>
                        <a:pt x="117" y="31"/>
                      </a:lnTo>
                      <a:lnTo>
                        <a:pt x="109" y="23"/>
                      </a:lnTo>
                      <a:lnTo>
                        <a:pt x="100" y="23"/>
                      </a:lnTo>
                      <a:lnTo>
                        <a:pt x="92" y="23"/>
                      </a:lnTo>
                      <a:lnTo>
                        <a:pt x="84" y="15"/>
                      </a:lnTo>
                      <a:lnTo>
                        <a:pt x="75" y="15"/>
                      </a:lnTo>
                      <a:lnTo>
                        <a:pt x="67" y="15"/>
                      </a:lnTo>
                      <a:lnTo>
                        <a:pt x="59" y="15"/>
                      </a:lnTo>
                      <a:lnTo>
                        <a:pt x="50" y="8"/>
                      </a:lnTo>
                      <a:lnTo>
                        <a:pt x="42" y="8"/>
                      </a:lnTo>
                      <a:lnTo>
                        <a:pt x="34" y="8"/>
                      </a:lnTo>
                      <a:lnTo>
                        <a:pt x="25" y="0"/>
                      </a:lnTo>
                      <a:lnTo>
                        <a:pt x="17" y="0"/>
                      </a:lnTo>
                      <a:lnTo>
                        <a:pt x="9" y="0"/>
                      </a:lnTo>
                      <a:lnTo>
                        <a:pt x="0" y="15"/>
                      </a:lnTo>
                    </a:path>
                  </a:pathLst>
                </a:custGeom>
                <a:noFill/>
                <a:ln w="0">
                  <a:solidFill>
                    <a:srgbClr val="000000"/>
                  </a:solid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Freeform 590"/>
                <p:cNvSpPr/>
                <p:nvPr/>
              </p:nvSpPr>
              <p:spPr>
                <a:xfrm flipH="1">
                  <a:off x="778680" y="1433520"/>
                  <a:ext cx="2880" cy="4680"/>
                </a:xfrm>
                <a:custGeom>
                  <a:avLst/>
                  <a:gdLst>
                    <a:gd name="textAreaLeft" fmla="*/ 360 w 2880"/>
                    <a:gd name="textAreaRight" fmla="*/ 3600 w 2880"/>
                    <a:gd name="textAreaTop" fmla="*/ 0 h 4680"/>
                    <a:gd name="textAreaBottom" fmla="*/ 5040 h 4680"/>
                  </a:gdLst>
                  <a:ahLst/>
                  <a:rect l="textAreaLeft" t="textAreaTop" r="textAreaRight" b="textAreaBottom"/>
                  <a:pathLst>
                    <a:path w="16" h="23">
                      <a:moveTo>
                        <a:pt x="16" y="0"/>
                      </a:moveTo>
                      <a:lnTo>
                        <a:pt x="8" y="0"/>
                      </a:lnTo>
                      <a:lnTo>
                        <a:pt x="8" y="7"/>
                      </a:lnTo>
                      <a:lnTo>
                        <a:pt x="0" y="7"/>
                      </a:lnTo>
                      <a:lnTo>
                        <a:pt x="0" y="15"/>
                      </a:lnTo>
                      <a:lnTo>
                        <a:pt x="8" y="15"/>
                      </a:lnTo>
                      <a:lnTo>
                        <a:pt x="8" y="23"/>
                      </a:lnTo>
                      <a:lnTo>
                        <a:pt x="16" y="0"/>
                      </a:lnTo>
                      <a:close/>
                    </a:path>
                  </a:pathLst>
                </a:custGeom>
                <a:solidFill>
                  <a:srgbClr val="000000"/>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Freeform 589"/>
                <p:cNvSpPr/>
                <p:nvPr/>
              </p:nvSpPr>
              <p:spPr>
                <a:xfrm flipH="1">
                  <a:off x="778680" y="1433520"/>
                  <a:ext cx="2880" cy="4680"/>
                </a:xfrm>
                <a:custGeom>
                  <a:avLst/>
                  <a:gdLst>
                    <a:gd name="textAreaLeft" fmla="*/ 360 w 2880"/>
                    <a:gd name="textAreaRight" fmla="*/ 3600 w 2880"/>
                    <a:gd name="textAreaTop" fmla="*/ 0 h 4680"/>
                    <a:gd name="textAreaBottom" fmla="*/ 5040 h 4680"/>
                  </a:gdLst>
                  <a:ahLst/>
                  <a:rect l="textAreaLeft" t="textAreaTop" r="textAreaRight" b="textAreaBottom"/>
                  <a:pathLst>
                    <a:path w="16" h="23">
                      <a:moveTo>
                        <a:pt x="16" y="0"/>
                      </a:moveTo>
                      <a:lnTo>
                        <a:pt x="8" y="0"/>
                      </a:lnTo>
                      <a:lnTo>
                        <a:pt x="8" y="7"/>
                      </a:lnTo>
                      <a:lnTo>
                        <a:pt x="0" y="7"/>
                      </a:lnTo>
                      <a:lnTo>
                        <a:pt x="0" y="15"/>
                      </a:lnTo>
                      <a:lnTo>
                        <a:pt x="8" y="15"/>
                      </a:lnTo>
                      <a:lnTo>
                        <a:pt x="8" y="23"/>
                      </a:lnTo>
                      <a:lnTo>
                        <a:pt x="16" y="0"/>
                      </a:lnTo>
                    </a:path>
                  </a:pathLst>
                </a:custGeom>
                <a:noFill/>
                <a:ln w="0">
                  <a:solidFill>
                    <a:srgbClr val="000000"/>
                  </a:solid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Freeform 588"/>
                <p:cNvSpPr/>
                <p:nvPr/>
              </p:nvSpPr>
              <p:spPr>
                <a:xfrm flipH="1">
                  <a:off x="778320" y="1444680"/>
                  <a:ext cx="1440" cy="3240"/>
                </a:xfrm>
                <a:custGeom>
                  <a:avLst/>
                  <a:gdLst>
                    <a:gd name="textAreaLeft" fmla="*/ 360 w 1440"/>
                    <a:gd name="textAreaRight" fmla="*/ 2160 w 1440"/>
                    <a:gd name="textAreaTop" fmla="*/ 0 h 3240"/>
                    <a:gd name="textAreaBottom" fmla="*/ 3600 h 3240"/>
                  </a:gdLst>
                  <a:ahLst/>
                  <a:rect l="textAreaLeft" t="textAreaTop" r="textAreaRight" b="textAreaBottom"/>
                  <a:pathLst>
                    <a:path w="8" h="16">
                      <a:moveTo>
                        <a:pt x="0" y="16"/>
                      </a:moveTo>
                      <a:lnTo>
                        <a:pt x="8" y="16"/>
                      </a:lnTo>
                      <a:lnTo>
                        <a:pt x="8" y="8"/>
                      </a:lnTo>
                      <a:lnTo>
                        <a:pt x="8" y="0"/>
                      </a:lnTo>
                      <a:lnTo>
                        <a:pt x="0"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Freeform 587"/>
                <p:cNvSpPr/>
                <p:nvPr/>
              </p:nvSpPr>
              <p:spPr>
                <a:xfrm flipH="1">
                  <a:off x="778320" y="1444680"/>
                  <a:ext cx="1440" cy="3240"/>
                </a:xfrm>
                <a:custGeom>
                  <a:avLst/>
                  <a:gdLst>
                    <a:gd name="textAreaLeft" fmla="*/ 360 w 1440"/>
                    <a:gd name="textAreaRight" fmla="*/ 2160 w 1440"/>
                    <a:gd name="textAreaTop" fmla="*/ 0 h 3240"/>
                    <a:gd name="textAreaBottom" fmla="*/ 3600 h 3240"/>
                  </a:gdLst>
                  <a:ahLst/>
                  <a:rect l="textAreaLeft" t="textAreaTop" r="textAreaRight" b="textAreaBottom"/>
                  <a:pathLst>
                    <a:path w="8" h="16">
                      <a:moveTo>
                        <a:pt x="0" y="16"/>
                      </a:moveTo>
                      <a:lnTo>
                        <a:pt x="8" y="16"/>
                      </a:lnTo>
                      <a:lnTo>
                        <a:pt x="8" y="8"/>
                      </a:lnTo>
                      <a:lnTo>
                        <a:pt x="8" y="0"/>
                      </a:lnTo>
                      <a:lnTo>
                        <a:pt x="0" y="16"/>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Freeform 586"/>
                <p:cNvSpPr/>
                <p:nvPr/>
              </p:nvSpPr>
              <p:spPr>
                <a:xfrm flipH="1">
                  <a:off x="778320" y="1435320"/>
                  <a:ext cx="31680" cy="12960"/>
                </a:xfrm>
                <a:custGeom>
                  <a:avLst/>
                  <a:gdLst>
                    <a:gd name="textAreaLeft" fmla="*/ 360 w 31680"/>
                    <a:gd name="textAreaRight" fmla="*/ 32400 w 31680"/>
                    <a:gd name="textAreaTop" fmla="*/ 0 h 12960"/>
                    <a:gd name="textAreaBottom" fmla="*/ 13320 h 12960"/>
                  </a:gdLst>
                  <a:ahLst/>
                  <a:rect l="textAreaLeft" t="textAreaTop" r="textAreaRight" b="textAreaBottom"/>
                  <a:pathLst>
                    <a:path w="159" h="62">
                      <a:moveTo>
                        <a:pt x="0" y="16"/>
                      </a:moveTo>
                      <a:lnTo>
                        <a:pt x="9" y="23"/>
                      </a:lnTo>
                      <a:lnTo>
                        <a:pt x="26" y="23"/>
                      </a:lnTo>
                      <a:lnTo>
                        <a:pt x="34" y="23"/>
                      </a:lnTo>
                      <a:lnTo>
                        <a:pt x="42" y="31"/>
                      </a:lnTo>
                      <a:lnTo>
                        <a:pt x="51" y="31"/>
                      </a:lnTo>
                      <a:lnTo>
                        <a:pt x="59" y="31"/>
                      </a:lnTo>
                      <a:lnTo>
                        <a:pt x="67" y="39"/>
                      </a:lnTo>
                      <a:lnTo>
                        <a:pt x="76" y="39"/>
                      </a:lnTo>
                      <a:lnTo>
                        <a:pt x="84" y="39"/>
                      </a:lnTo>
                      <a:lnTo>
                        <a:pt x="92" y="46"/>
                      </a:lnTo>
                      <a:lnTo>
                        <a:pt x="101" y="46"/>
                      </a:lnTo>
                      <a:lnTo>
                        <a:pt x="117" y="54"/>
                      </a:lnTo>
                      <a:lnTo>
                        <a:pt x="126" y="54"/>
                      </a:lnTo>
                      <a:lnTo>
                        <a:pt x="134" y="54"/>
                      </a:lnTo>
                      <a:lnTo>
                        <a:pt x="143" y="62"/>
                      </a:lnTo>
                      <a:lnTo>
                        <a:pt x="151" y="62"/>
                      </a:lnTo>
                      <a:lnTo>
                        <a:pt x="159" y="46"/>
                      </a:lnTo>
                      <a:lnTo>
                        <a:pt x="151" y="39"/>
                      </a:lnTo>
                      <a:lnTo>
                        <a:pt x="134" y="39"/>
                      </a:lnTo>
                      <a:lnTo>
                        <a:pt x="126" y="39"/>
                      </a:lnTo>
                      <a:lnTo>
                        <a:pt x="117" y="31"/>
                      </a:lnTo>
                      <a:lnTo>
                        <a:pt x="109" y="31"/>
                      </a:lnTo>
                      <a:lnTo>
                        <a:pt x="101" y="31"/>
                      </a:lnTo>
                      <a:lnTo>
                        <a:pt x="92" y="23"/>
                      </a:lnTo>
                      <a:lnTo>
                        <a:pt x="84" y="23"/>
                      </a:lnTo>
                      <a:lnTo>
                        <a:pt x="76" y="23"/>
                      </a:lnTo>
                      <a:lnTo>
                        <a:pt x="67" y="16"/>
                      </a:lnTo>
                      <a:lnTo>
                        <a:pt x="59" y="16"/>
                      </a:lnTo>
                      <a:lnTo>
                        <a:pt x="42" y="16"/>
                      </a:lnTo>
                      <a:lnTo>
                        <a:pt x="34" y="8"/>
                      </a:lnTo>
                      <a:lnTo>
                        <a:pt x="26" y="8"/>
                      </a:lnTo>
                      <a:lnTo>
                        <a:pt x="17" y="0"/>
                      </a:lnTo>
                      <a:lnTo>
                        <a:pt x="9" y="0"/>
                      </a:lnTo>
                      <a:lnTo>
                        <a:pt x="0" y="16"/>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Freeform 585"/>
                <p:cNvSpPr/>
                <p:nvPr/>
              </p:nvSpPr>
              <p:spPr>
                <a:xfrm flipH="1">
                  <a:off x="778320" y="1435320"/>
                  <a:ext cx="31680" cy="12960"/>
                </a:xfrm>
                <a:custGeom>
                  <a:avLst/>
                  <a:gdLst>
                    <a:gd name="textAreaLeft" fmla="*/ 360 w 31680"/>
                    <a:gd name="textAreaRight" fmla="*/ 32400 w 31680"/>
                    <a:gd name="textAreaTop" fmla="*/ 0 h 12960"/>
                    <a:gd name="textAreaBottom" fmla="*/ 13320 h 12960"/>
                  </a:gdLst>
                  <a:ahLst/>
                  <a:rect l="textAreaLeft" t="textAreaTop" r="textAreaRight" b="textAreaBottom"/>
                  <a:pathLst>
                    <a:path w="159" h="62">
                      <a:moveTo>
                        <a:pt x="0" y="16"/>
                      </a:moveTo>
                      <a:lnTo>
                        <a:pt x="9" y="23"/>
                      </a:lnTo>
                      <a:lnTo>
                        <a:pt x="26" y="23"/>
                      </a:lnTo>
                      <a:lnTo>
                        <a:pt x="34" y="23"/>
                      </a:lnTo>
                      <a:lnTo>
                        <a:pt x="42" y="31"/>
                      </a:lnTo>
                      <a:lnTo>
                        <a:pt x="51" y="31"/>
                      </a:lnTo>
                      <a:lnTo>
                        <a:pt x="59" y="31"/>
                      </a:lnTo>
                      <a:lnTo>
                        <a:pt x="67" y="39"/>
                      </a:lnTo>
                      <a:lnTo>
                        <a:pt x="76" y="39"/>
                      </a:lnTo>
                      <a:lnTo>
                        <a:pt x="84" y="39"/>
                      </a:lnTo>
                      <a:lnTo>
                        <a:pt x="92" y="46"/>
                      </a:lnTo>
                      <a:lnTo>
                        <a:pt x="101" y="46"/>
                      </a:lnTo>
                      <a:lnTo>
                        <a:pt x="117" y="54"/>
                      </a:lnTo>
                      <a:lnTo>
                        <a:pt x="126" y="54"/>
                      </a:lnTo>
                      <a:lnTo>
                        <a:pt x="134" y="54"/>
                      </a:lnTo>
                      <a:lnTo>
                        <a:pt x="143" y="62"/>
                      </a:lnTo>
                      <a:lnTo>
                        <a:pt x="151" y="62"/>
                      </a:lnTo>
                      <a:lnTo>
                        <a:pt x="159" y="46"/>
                      </a:lnTo>
                      <a:lnTo>
                        <a:pt x="151" y="39"/>
                      </a:lnTo>
                      <a:lnTo>
                        <a:pt x="134" y="39"/>
                      </a:lnTo>
                      <a:lnTo>
                        <a:pt x="126" y="39"/>
                      </a:lnTo>
                      <a:lnTo>
                        <a:pt x="117" y="31"/>
                      </a:lnTo>
                      <a:lnTo>
                        <a:pt x="109" y="31"/>
                      </a:lnTo>
                      <a:lnTo>
                        <a:pt x="101" y="31"/>
                      </a:lnTo>
                      <a:lnTo>
                        <a:pt x="92" y="23"/>
                      </a:lnTo>
                      <a:lnTo>
                        <a:pt x="84" y="23"/>
                      </a:lnTo>
                      <a:lnTo>
                        <a:pt x="76" y="23"/>
                      </a:lnTo>
                      <a:lnTo>
                        <a:pt x="67" y="16"/>
                      </a:lnTo>
                      <a:lnTo>
                        <a:pt x="59" y="16"/>
                      </a:lnTo>
                      <a:lnTo>
                        <a:pt x="42" y="16"/>
                      </a:lnTo>
                      <a:lnTo>
                        <a:pt x="34" y="8"/>
                      </a:lnTo>
                      <a:lnTo>
                        <a:pt x="26" y="8"/>
                      </a:lnTo>
                      <a:lnTo>
                        <a:pt x="17" y="0"/>
                      </a:lnTo>
                      <a:lnTo>
                        <a:pt x="9" y="0"/>
                      </a:lnTo>
                      <a:lnTo>
                        <a:pt x="0" y="16"/>
                      </a:lnTo>
                    </a:path>
                  </a:pathLst>
                </a:custGeom>
                <a:noFill/>
                <a:ln w="0">
                  <a:solidFill>
                    <a:srgbClr val="000000"/>
                  </a:solid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1" name="Freeform 584"/>
                <p:cNvSpPr/>
                <p:nvPr/>
              </p:nvSpPr>
              <p:spPr>
                <a:xfrm flipH="1">
                  <a:off x="778680" y="144468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6" h="16">
                      <a:moveTo>
                        <a:pt x="16" y="0"/>
                      </a:moveTo>
                      <a:lnTo>
                        <a:pt x="8" y="0"/>
                      </a:lnTo>
                      <a:lnTo>
                        <a:pt x="0" y="0"/>
                      </a:lnTo>
                      <a:lnTo>
                        <a:pt x="0" y="8"/>
                      </a:lnTo>
                      <a:lnTo>
                        <a:pt x="8" y="16"/>
                      </a:lnTo>
                      <a:lnTo>
                        <a:pt x="16"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Freeform 583"/>
                <p:cNvSpPr/>
                <p:nvPr/>
              </p:nvSpPr>
              <p:spPr>
                <a:xfrm flipH="1">
                  <a:off x="778680" y="144468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6" h="16">
                      <a:moveTo>
                        <a:pt x="16" y="0"/>
                      </a:moveTo>
                      <a:lnTo>
                        <a:pt x="8" y="0"/>
                      </a:lnTo>
                      <a:lnTo>
                        <a:pt x="0" y="0"/>
                      </a:lnTo>
                      <a:lnTo>
                        <a:pt x="0" y="8"/>
                      </a:lnTo>
                      <a:lnTo>
                        <a:pt x="8" y="16"/>
                      </a:lnTo>
                      <a:lnTo>
                        <a:pt x="16" y="0"/>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Freeform 582"/>
                <p:cNvSpPr/>
                <p:nvPr/>
              </p:nvSpPr>
              <p:spPr>
                <a:xfrm flipH="1">
                  <a:off x="776160" y="1454760"/>
                  <a:ext cx="1800" cy="2880"/>
                </a:xfrm>
                <a:custGeom>
                  <a:avLst/>
                  <a:gdLst>
                    <a:gd name="textAreaLeft" fmla="*/ -360 w 1800"/>
                    <a:gd name="textAreaRight" fmla="*/ 1800 w 1800"/>
                    <a:gd name="textAreaTop" fmla="*/ 0 h 2880"/>
                    <a:gd name="textAreaBottom" fmla="*/ 3240 h 2880"/>
                  </a:gdLst>
                  <a:ahLst/>
                  <a:rect l="textAreaLeft" t="textAreaTop" r="textAreaRight" b="textAreaBottom"/>
                  <a:pathLst>
                    <a:path w="9" h="15">
                      <a:moveTo>
                        <a:pt x="0" y="15"/>
                      </a:moveTo>
                      <a:lnTo>
                        <a:pt x="0" y="15"/>
                      </a:lnTo>
                      <a:lnTo>
                        <a:pt x="9" y="15"/>
                      </a:lnTo>
                      <a:lnTo>
                        <a:pt x="9" y="7"/>
                      </a:lnTo>
                      <a:lnTo>
                        <a:pt x="9" y="0"/>
                      </a:lnTo>
                      <a:lnTo>
                        <a:pt x="0"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Freeform 581"/>
                <p:cNvSpPr/>
                <p:nvPr/>
              </p:nvSpPr>
              <p:spPr>
                <a:xfrm flipH="1">
                  <a:off x="776160" y="1454760"/>
                  <a:ext cx="1800" cy="2880"/>
                </a:xfrm>
                <a:custGeom>
                  <a:avLst/>
                  <a:gdLst>
                    <a:gd name="textAreaLeft" fmla="*/ -360 w 1800"/>
                    <a:gd name="textAreaRight" fmla="*/ 1800 w 1800"/>
                    <a:gd name="textAreaTop" fmla="*/ 0 h 2880"/>
                    <a:gd name="textAreaBottom" fmla="*/ 3240 h 2880"/>
                  </a:gdLst>
                  <a:ahLst/>
                  <a:rect l="textAreaLeft" t="textAreaTop" r="textAreaRight" b="textAreaBottom"/>
                  <a:pathLst>
                    <a:path w="9" h="15">
                      <a:moveTo>
                        <a:pt x="0" y="15"/>
                      </a:moveTo>
                      <a:lnTo>
                        <a:pt x="0" y="15"/>
                      </a:lnTo>
                      <a:lnTo>
                        <a:pt x="9" y="15"/>
                      </a:lnTo>
                      <a:lnTo>
                        <a:pt x="9" y="7"/>
                      </a:lnTo>
                      <a:lnTo>
                        <a:pt x="9" y="0"/>
                      </a:lnTo>
                      <a:lnTo>
                        <a:pt x="0" y="0"/>
                      </a:lnTo>
                      <a:lnTo>
                        <a:pt x="0"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Freeform 580"/>
                <p:cNvSpPr/>
                <p:nvPr/>
              </p:nvSpPr>
              <p:spPr>
                <a:xfrm flipH="1">
                  <a:off x="778320" y="1446480"/>
                  <a:ext cx="33120" cy="11160"/>
                </a:xfrm>
                <a:custGeom>
                  <a:avLst/>
                  <a:gdLst>
                    <a:gd name="textAreaLeft" fmla="*/ 0 w 33120"/>
                    <a:gd name="textAreaRight" fmla="*/ 33120 w 33120"/>
                    <a:gd name="textAreaTop" fmla="*/ 0 h 11160"/>
                    <a:gd name="textAreaBottom" fmla="*/ 11520 h 11160"/>
                  </a:gdLst>
                  <a:ahLst/>
                  <a:rect l="textAreaLeft" t="textAreaTop" r="textAreaRight" b="textAreaBottom"/>
                  <a:pathLst>
                    <a:path w="167" h="54">
                      <a:moveTo>
                        <a:pt x="0" y="16"/>
                      </a:moveTo>
                      <a:lnTo>
                        <a:pt x="8" y="16"/>
                      </a:lnTo>
                      <a:lnTo>
                        <a:pt x="25" y="23"/>
                      </a:lnTo>
                      <a:lnTo>
                        <a:pt x="34" y="23"/>
                      </a:lnTo>
                      <a:lnTo>
                        <a:pt x="42" y="23"/>
                      </a:lnTo>
                      <a:lnTo>
                        <a:pt x="50" y="31"/>
                      </a:lnTo>
                      <a:lnTo>
                        <a:pt x="67" y="31"/>
                      </a:lnTo>
                      <a:lnTo>
                        <a:pt x="75" y="31"/>
                      </a:lnTo>
                      <a:lnTo>
                        <a:pt x="84" y="31"/>
                      </a:lnTo>
                      <a:lnTo>
                        <a:pt x="92" y="39"/>
                      </a:lnTo>
                      <a:lnTo>
                        <a:pt x="100" y="39"/>
                      </a:lnTo>
                      <a:lnTo>
                        <a:pt x="117" y="39"/>
                      </a:lnTo>
                      <a:lnTo>
                        <a:pt x="125" y="46"/>
                      </a:lnTo>
                      <a:lnTo>
                        <a:pt x="134" y="46"/>
                      </a:lnTo>
                      <a:lnTo>
                        <a:pt x="142" y="46"/>
                      </a:lnTo>
                      <a:lnTo>
                        <a:pt x="151" y="54"/>
                      </a:lnTo>
                      <a:lnTo>
                        <a:pt x="167" y="54"/>
                      </a:lnTo>
                      <a:lnTo>
                        <a:pt x="167" y="39"/>
                      </a:lnTo>
                      <a:lnTo>
                        <a:pt x="159" y="31"/>
                      </a:lnTo>
                      <a:lnTo>
                        <a:pt x="151" y="31"/>
                      </a:lnTo>
                      <a:lnTo>
                        <a:pt x="142" y="31"/>
                      </a:lnTo>
                      <a:lnTo>
                        <a:pt x="125" y="23"/>
                      </a:lnTo>
                      <a:lnTo>
                        <a:pt x="117" y="23"/>
                      </a:lnTo>
                      <a:lnTo>
                        <a:pt x="109" y="23"/>
                      </a:lnTo>
                      <a:lnTo>
                        <a:pt x="100" y="16"/>
                      </a:lnTo>
                      <a:lnTo>
                        <a:pt x="92" y="16"/>
                      </a:lnTo>
                      <a:lnTo>
                        <a:pt x="75" y="16"/>
                      </a:lnTo>
                      <a:lnTo>
                        <a:pt x="67" y="8"/>
                      </a:lnTo>
                      <a:lnTo>
                        <a:pt x="59" y="8"/>
                      </a:lnTo>
                      <a:lnTo>
                        <a:pt x="50" y="8"/>
                      </a:lnTo>
                      <a:lnTo>
                        <a:pt x="34" y="8"/>
                      </a:lnTo>
                      <a:lnTo>
                        <a:pt x="25" y="0"/>
                      </a:lnTo>
                      <a:lnTo>
                        <a:pt x="17" y="0"/>
                      </a:lnTo>
                      <a:lnTo>
                        <a:pt x="8" y="0"/>
                      </a:lnTo>
                      <a:lnTo>
                        <a:pt x="0" y="16"/>
                      </a:lnTo>
                      <a:close/>
                    </a:path>
                  </a:pathLst>
                </a:custGeom>
                <a:solidFill>
                  <a:srgbClr val="000000"/>
                </a:soli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Freeform 579"/>
                <p:cNvSpPr/>
                <p:nvPr/>
              </p:nvSpPr>
              <p:spPr>
                <a:xfrm flipH="1">
                  <a:off x="778320" y="1446480"/>
                  <a:ext cx="33120" cy="11160"/>
                </a:xfrm>
                <a:custGeom>
                  <a:avLst/>
                  <a:gdLst>
                    <a:gd name="textAreaLeft" fmla="*/ 0 w 33120"/>
                    <a:gd name="textAreaRight" fmla="*/ 33120 w 33120"/>
                    <a:gd name="textAreaTop" fmla="*/ 0 h 11160"/>
                    <a:gd name="textAreaBottom" fmla="*/ 11520 h 11160"/>
                  </a:gdLst>
                  <a:ahLst/>
                  <a:rect l="textAreaLeft" t="textAreaTop" r="textAreaRight" b="textAreaBottom"/>
                  <a:pathLst>
                    <a:path w="167" h="54">
                      <a:moveTo>
                        <a:pt x="0" y="16"/>
                      </a:moveTo>
                      <a:lnTo>
                        <a:pt x="8" y="16"/>
                      </a:lnTo>
                      <a:lnTo>
                        <a:pt x="25" y="23"/>
                      </a:lnTo>
                      <a:lnTo>
                        <a:pt x="34" y="23"/>
                      </a:lnTo>
                      <a:lnTo>
                        <a:pt x="42" y="23"/>
                      </a:lnTo>
                      <a:lnTo>
                        <a:pt x="50" y="31"/>
                      </a:lnTo>
                      <a:lnTo>
                        <a:pt x="67" y="31"/>
                      </a:lnTo>
                      <a:lnTo>
                        <a:pt x="75" y="31"/>
                      </a:lnTo>
                      <a:lnTo>
                        <a:pt x="84" y="31"/>
                      </a:lnTo>
                      <a:lnTo>
                        <a:pt x="92" y="39"/>
                      </a:lnTo>
                      <a:lnTo>
                        <a:pt x="100" y="39"/>
                      </a:lnTo>
                      <a:lnTo>
                        <a:pt x="117" y="39"/>
                      </a:lnTo>
                      <a:lnTo>
                        <a:pt x="125" y="46"/>
                      </a:lnTo>
                      <a:lnTo>
                        <a:pt x="134" y="46"/>
                      </a:lnTo>
                      <a:lnTo>
                        <a:pt x="142" y="46"/>
                      </a:lnTo>
                      <a:lnTo>
                        <a:pt x="151" y="54"/>
                      </a:lnTo>
                      <a:lnTo>
                        <a:pt x="167" y="54"/>
                      </a:lnTo>
                      <a:lnTo>
                        <a:pt x="167" y="39"/>
                      </a:lnTo>
                      <a:lnTo>
                        <a:pt x="159" y="31"/>
                      </a:lnTo>
                      <a:lnTo>
                        <a:pt x="151" y="31"/>
                      </a:lnTo>
                      <a:lnTo>
                        <a:pt x="142" y="31"/>
                      </a:lnTo>
                      <a:lnTo>
                        <a:pt x="125" y="23"/>
                      </a:lnTo>
                      <a:lnTo>
                        <a:pt x="117" y="23"/>
                      </a:lnTo>
                      <a:lnTo>
                        <a:pt x="109" y="23"/>
                      </a:lnTo>
                      <a:lnTo>
                        <a:pt x="100" y="16"/>
                      </a:lnTo>
                      <a:lnTo>
                        <a:pt x="92" y="16"/>
                      </a:lnTo>
                      <a:lnTo>
                        <a:pt x="75" y="16"/>
                      </a:lnTo>
                      <a:lnTo>
                        <a:pt x="67" y="8"/>
                      </a:lnTo>
                      <a:lnTo>
                        <a:pt x="59" y="8"/>
                      </a:lnTo>
                      <a:lnTo>
                        <a:pt x="50" y="8"/>
                      </a:lnTo>
                      <a:lnTo>
                        <a:pt x="34" y="8"/>
                      </a:lnTo>
                      <a:lnTo>
                        <a:pt x="25" y="0"/>
                      </a:lnTo>
                      <a:lnTo>
                        <a:pt x="17" y="0"/>
                      </a:lnTo>
                      <a:lnTo>
                        <a:pt x="8" y="0"/>
                      </a:lnTo>
                      <a:lnTo>
                        <a:pt x="0" y="16"/>
                      </a:lnTo>
                    </a:path>
                  </a:pathLst>
                </a:custGeom>
                <a:noFill/>
                <a:ln w="0">
                  <a:solidFill>
                    <a:srgbClr val="000000"/>
                  </a:solid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Freeform 578"/>
                <p:cNvSpPr/>
                <p:nvPr/>
              </p:nvSpPr>
              <p:spPr>
                <a:xfrm flipH="1">
                  <a:off x="778320" y="145476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8" y="0"/>
                      </a:moveTo>
                      <a:lnTo>
                        <a:pt x="8" y="0"/>
                      </a:lnTo>
                      <a:lnTo>
                        <a:pt x="0" y="0"/>
                      </a:lnTo>
                      <a:lnTo>
                        <a:pt x="0" y="7"/>
                      </a:lnTo>
                      <a:lnTo>
                        <a:pt x="0" y="15"/>
                      </a:lnTo>
                      <a:lnTo>
                        <a:pt x="8" y="15"/>
                      </a:lnTo>
                      <a:lnTo>
                        <a:pt x="8"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8" name="Freeform 577"/>
                <p:cNvSpPr/>
                <p:nvPr/>
              </p:nvSpPr>
              <p:spPr>
                <a:xfrm flipH="1">
                  <a:off x="778320" y="145476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8" y="0"/>
                      </a:moveTo>
                      <a:lnTo>
                        <a:pt x="8" y="0"/>
                      </a:lnTo>
                      <a:lnTo>
                        <a:pt x="0" y="0"/>
                      </a:lnTo>
                      <a:lnTo>
                        <a:pt x="0" y="7"/>
                      </a:lnTo>
                      <a:lnTo>
                        <a:pt x="0" y="15"/>
                      </a:lnTo>
                      <a:lnTo>
                        <a:pt x="8" y="15"/>
                      </a:lnTo>
                      <a:lnTo>
                        <a:pt x="8" y="0"/>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Freeform 576"/>
                <p:cNvSpPr/>
                <p:nvPr/>
              </p:nvSpPr>
              <p:spPr>
                <a:xfrm flipH="1">
                  <a:off x="778320" y="145944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0" y="15"/>
                      </a:moveTo>
                      <a:lnTo>
                        <a:pt x="0" y="15"/>
                      </a:lnTo>
                      <a:lnTo>
                        <a:pt x="8" y="15"/>
                      </a:lnTo>
                      <a:lnTo>
                        <a:pt x="8" y="7"/>
                      </a:lnTo>
                      <a:lnTo>
                        <a:pt x="8" y="0"/>
                      </a:lnTo>
                      <a:lnTo>
                        <a:pt x="0"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Freeform 575"/>
                <p:cNvSpPr/>
                <p:nvPr/>
              </p:nvSpPr>
              <p:spPr>
                <a:xfrm flipH="1">
                  <a:off x="778320" y="145944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0" y="15"/>
                      </a:moveTo>
                      <a:lnTo>
                        <a:pt x="0" y="15"/>
                      </a:lnTo>
                      <a:lnTo>
                        <a:pt x="8" y="15"/>
                      </a:lnTo>
                      <a:lnTo>
                        <a:pt x="8" y="7"/>
                      </a:lnTo>
                      <a:lnTo>
                        <a:pt x="8" y="0"/>
                      </a:lnTo>
                      <a:lnTo>
                        <a:pt x="0" y="0"/>
                      </a:lnTo>
                      <a:lnTo>
                        <a:pt x="0"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Freeform 574"/>
                <p:cNvSpPr/>
                <p:nvPr/>
              </p:nvSpPr>
              <p:spPr>
                <a:xfrm flipH="1">
                  <a:off x="779760" y="1454760"/>
                  <a:ext cx="29880" cy="7920"/>
                </a:xfrm>
                <a:custGeom>
                  <a:avLst/>
                  <a:gdLst>
                    <a:gd name="textAreaLeft" fmla="*/ -360 w 29880"/>
                    <a:gd name="textAreaRight" fmla="*/ 29880 w 29880"/>
                    <a:gd name="textAreaTop" fmla="*/ 0 h 7920"/>
                    <a:gd name="textAreaBottom" fmla="*/ 8280 h 7920"/>
                  </a:gdLst>
                  <a:ahLst/>
                  <a:rect l="textAreaLeft" t="textAreaTop" r="textAreaRight" b="textAreaBottom"/>
                  <a:pathLst>
                    <a:path w="151" h="38">
                      <a:moveTo>
                        <a:pt x="0" y="15"/>
                      </a:moveTo>
                      <a:lnTo>
                        <a:pt x="9" y="15"/>
                      </a:lnTo>
                      <a:lnTo>
                        <a:pt x="17" y="15"/>
                      </a:lnTo>
                      <a:lnTo>
                        <a:pt x="26" y="15"/>
                      </a:lnTo>
                      <a:lnTo>
                        <a:pt x="34" y="23"/>
                      </a:lnTo>
                      <a:lnTo>
                        <a:pt x="42" y="23"/>
                      </a:lnTo>
                      <a:lnTo>
                        <a:pt x="51" y="23"/>
                      </a:lnTo>
                      <a:lnTo>
                        <a:pt x="67" y="23"/>
                      </a:lnTo>
                      <a:lnTo>
                        <a:pt x="76" y="23"/>
                      </a:lnTo>
                      <a:lnTo>
                        <a:pt x="84" y="30"/>
                      </a:lnTo>
                      <a:lnTo>
                        <a:pt x="92" y="30"/>
                      </a:lnTo>
                      <a:lnTo>
                        <a:pt x="101" y="30"/>
                      </a:lnTo>
                      <a:lnTo>
                        <a:pt x="109" y="30"/>
                      </a:lnTo>
                      <a:lnTo>
                        <a:pt x="117" y="30"/>
                      </a:lnTo>
                      <a:lnTo>
                        <a:pt x="126" y="38"/>
                      </a:lnTo>
                      <a:lnTo>
                        <a:pt x="143" y="38"/>
                      </a:lnTo>
                      <a:lnTo>
                        <a:pt x="151" y="38"/>
                      </a:lnTo>
                      <a:lnTo>
                        <a:pt x="151" y="23"/>
                      </a:lnTo>
                      <a:lnTo>
                        <a:pt x="143" y="15"/>
                      </a:lnTo>
                      <a:lnTo>
                        <a:pt x="134" y="15"/>
                      </a:lnTo>
                      <a:lnTo>
                        <a:pt x="126" y="15"/>
                      </a:lnTo>
                      <a:lnTo>
                        <a:pt x="117" y="15"/>
                      </a:lnTo>
                      <a:lnTo>
                        <a:pt x="101" y="15"/>
                      </a:lnTo>
                      <a:lnTo>
                        <a:pt x="92" y="15"/>
                      </a:lnTo>
                      <a:lnTo>
                        <a:pt x="84" y="7"/>
                      </a:lnTo>
                      <a:lnTo>
                        <a:pt x="76" y="7"/>
                      </a:lnTo>
                      <a:lnTo>
                        <a:pt x="67" y="7"/>
                      </a:lnTo>
                      <a:lnTo>
                        <a:pt x="59" y="7"/>
                      </a:lnTo>
                      <a:lnTo>
                        <a:pt x="51" y="7"/>
                      </a:lnTo>
                      <a:lnTo>
                        <a:pt x="42" y="0"/>
                      </a:lnTo>
                      <a:lnTo>
                        <a:pt x="26" y="0"/>
                      </a:lnTo>
                      <a:lnTo>
                        <a:pt x="17" y="0"/>
                      </a:lnTo>
                      <a:lnTo>
                        <a:pt x="9" y="0"/>
                      </a:lnTo>
                      <a:lnTo>
                        <a:pt x="0" y="0"/>
                      </a:lnTo>
                      <a:lnTo>
                        <a:pt x="0" y="15"/>
                      </a:lnTo>
                      <a:close/>
                    </a:path>
                  </a:pathLst>
                </a:custGeom>
                <a:solidFill>
                  <a:srgbClr val="000000"/>
                </a:solidFill>
                <a:ln w="0">
                  <a:no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Freeform 573"/>
                <p:cNvSpPr/>
                <p:nvPr/>
              </p:nvSpPr>
              <p:spPr>
                <a:xfrm flipH="1">
                  <a:off x="779760" y="1454760"/>
                  <a:ext cx="29880" cy="7920"/>
                </a:xfrm>
                <a:custGeom>
                  <a:avLst/>
                  <a:gdLst>
                    <a:gd name="textAreaLeft" fmla="*/ -360 w 29880"/>
                    <a:gd name="textAreaRight" fmla="*/ 29880 w 29880"/>
                    <a:gd name="textAreaTop" fmla="*/ 0 h 7920"/>
                    <a:gd name="textAreaBottom" fmla="*/ 8280 h 7920"/>
                  </a:gdLst>
                  <a:ahLst/>
                  <a:rect l="textAreaLeft" t="textAreaTop" r="textAreaRight" b="textAreaBottom"/>
                  <a:pathLst>
                    <a:path w="151" h="38">
                      <a:moveTo>
                        <a:pt x="0" y="15"/>
                      </a:moveTo>
                      <a:lnTo>
                        <a:pt x="9" y="15"/>
                      </a:lnTo>
                      <a:lnTo>
                        <a:pt x="17" y="15"/>
                      </a:lnTo>
                      <a:lnTo>
                        <a:pt x="26" y="15"/>
                      </a:lnTo>
                      <a:lnTo>
                        <a:pt x="34" y="23"/>
                      </a:lnTo>
                      <a:lnTo>
                        <a:pt x="42" y="23"/>
                      </a:lnTo>
                      <a:lnTo>
                        <a:pt x="51" y="23"/>
                      </a:lnTo>
                      <a:lnTo>
                        <a:pt x="67" y="23"/>
                      </a:lnTo>
                      <a:lnTo>
                        <a:pt x="76" y="23"/>
                      </a:lnTo>
                      <a:lnTo>
                        <a:pt x="84" y="30"/>
                      </a:lnTo>
                      <a:lnTo>
                        <a:pt x="92" y="30"/>
                      </a:lnTo>
                      <a:lnTo>
                        <a:pt x="101" y="30"/>
                      </a:lnTo>
                      <a:lnTo>
                        <a:pt x="109" y="30"/>
                      </a:lnTo>
                      <a:lnTo>
                        <a:pt x="117" y="30"/>
                      </a:lnTo>
                      <a:lnTo>
                        <a:pt x="126" y="38"/>
                      </a:lnTo>
                      <a:lnTo>
                        <a:pt x="143" y="38"/>
                      </a:lnTo>
                      <a:lnTo>
                        <a:pt x="151" y="38"/>
                      </a:lnTo>
                      <a:lnTo>
                        <a:pt x="151" y="23"/>
                      </a:lnTo>
                      <a:lnTo>
                        <a:pt x="143" y="15"/>
                      </a:lnTo>
                      <a:lnTo>
                        <a:pt x="134" y="15"/>
                      </a:lnTo>
                      <a:lnTo>
                        <a:pt x="126" y="15"/>
                      </a:lnTo>
                      <a:lnTo>
                        <a:pt x="117" y="15"/>
                      </a:lnTo>
                      <a:lnTo>
                        <a:pt x="101" y="15"/>
                      </a:lnTo>
                      <a:lnTo>
                        <a:pt x="92" y="15"/>
                      </a:lnTo>
                      <a:lnTo>
                        <a:pt x="84" y="7"/>
                      </a:lnTo>
                      <a:lnTo>
                        <a:pt x="76" y="7"/>
                      </a:lnTo>
                      <a:lnTo>
                        <a:pt x="67" y="7"/>
                      </a:lnTo>
                      <a:lnTo>
                        <a:pt x="59" y="7"/>
                      </a:lnTo>
                      <a:lnTo>
                        <a:pt x="51" y="7"/>
                      </a:lnTo>
                      <a:lnTo>
                        <a:pt x="42" y="0"/>
                      </a:lnTo>
                      <a:lnTo>
                        <a:pt x="26" y="0"/>
                      </a:lnTo>
                      <a:lnTo>
                        <a:pt x="17" y="0"/>
                      </a:lnTo>
                      <a:lnTo>
                        <a:pt x="9" y="0"/>
                      </a:lnTo>
                      <a:lnTo>
                        <a:pt x="0" y="0"/>
                      </a:lnTo>
                      <a:lnTo>
                        <a:pt x="0" y="15"/>
                      </a:lnTo>
                    </a:path>
                  </a:pathLst>
                </a:custGeom>
                <a:noFill/>
                <a:ln w="0">
                  <a:solidFill>
                    <a:srgbClr val="000000"/>
                  </a:solid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Freeform 572"/>
                <p:cNvSpPr/>
                <p:nvPr/>
              </p:nvSpPr>
              <p:spPr>
                <a:xfrm flipH="1">
                  <a:off x="780120" y="145944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8" y="0"/>
                      </a:moveTo>
                      <a:lnTo>
                        <a:pt x="8" y="0"/>
                      </a:lnTo>
                      <a:lnTo>
                        <a:pt x="0" y="0"/>
                      </a:lnTo>
                      <a:lnTo>
                        <a:pt x="0" y="7"/>
                      </a:lnTo>
                      <a:lnTo>
                        <a:pt x="0" y="15"/>
                      </a:lnTo>
                      <a:lnTo>
                        <a:pt x="8" y="15"/>
                      </a:lnTo>
                      <a:lnTo>
                        <a:pt x="8"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Freeform 571"/>
                <p:cNvSpPr/>
                <p:nvPr/>
              </p:nvSpPr>
              <p:spPr>
                <a:xfrm flipH="1">
                  <a:off x="780120" y="145944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8" y="0"/>
                      </a:moveTo>
                      <a:lnTo>
                        <a:pt x="8" y="0"/>
                      </a:lnTo>
                      <a:lnTo>
                        <a:pt x="0" y="0"/>
                      </a:lnTo>
                      <a:lnTo>
                        <a:pt x="0" y="7"/>
                      </a:lnTo>
                      <a:lnTo>
                        <a:pt x="0" y="15"/>
                      </a:lnTo>
                      <a:lnTo>
                        <a:pt x="8" y="15"/>
                      </a:lnTo>
                      <a:lnTo>
                        <a:pt x="8" y="0"/>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Freeform 570"/>
                <p:cNvSpPr/>
                <p:nvPr/>
              </p:nvSpPr>
              <p:spPr>
                <a:xfrm flipH="1">
                  <a:off x="778320" y="146412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0" y="15"/>
                      </a:moveTo>
                      <a:lnTo>
                        <a:pt x="8" y="15"/>
                      </a:lnTo>
                      <a:lnTo>
                        <a:pt x="8" y="7"/>
                      </a:lnTo>
                      <a:lnTo>
                        <a:pt x="8" y="0"/>
                      </a:lnTo>
                      <a:lnTo>
                        <a:pt x="0"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Freeform 569"/>
                <p:cNvSpPr/>
                <p:nvPr/>
              </p:nvSpPr>
              <p:spPr>
                <a:xfrm flipH="1">
                  <a:off x="778320" y="146412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0" y="15"/>
                      </a:moveTo>
                      <a:lnTo>
                        <a:pt x="8" y="15"/>
                      </a:lnTo>
                      <a:lnTo>
                        <a:pt x="8" y="7"/>
                      </a:lnTo>
                      <a:lnTo>
                        <a:pt x="8" y="0"/>
                      </a:lnTo>
                      <a:lnTo>
                        <a:pt x="0" y="0"/>
                      </a:lnTo>
                      <a:lnTo>
                        <a:pt x="0"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Freeform 568"/>
                <p:cNvSpPr/>
                <p:nvPr/>
              </p:nvSpPr>
              <p:spPr>
                <a:xfrm flipH="1">
                  <a:off x="780120" y="1460880"/>
                  <a:ext cx="33120" cy="6480"/>
                </a:xfrm>
                <a:custGeom>
                  <a:avLst/>
                  <a:gdLst>
                    <a:gd name="textAreaLeft" fmla="*/ 0 w 33120"/>
                    <a:gd name="textAreaRight" fmla="*/ 33120 w 33120"/>
                    <a:gd name="textAreaTop" fmla="*/ 0 h 6480"/>
                    <a:gd name="textAreaBottom" fmla="*/ 6840 h 6480"/>
                  </a:gdLst>
                  <a:ahLst/>
                  <a:rect l="textAreaLeft" t="textAreaTop" r="textAreaRight" b="textAreaBottom"/>
                  <a:pathLst>
                    <a:path w="167" h="31">
                      <a:moveTo>
                        <a:pt x="0" y="23"/>
                      </a:moveTo>
                      <a:lnTo>
                        <a:pt x="8" y="23"/>
                      </a:lnTo>
                      <a:lnTo>
                        <a:pt x="25" y="23"/>
                      </a:lnTo>
                      <a:lnTo>
                        <a:pt x="33" y="23"/>
                      </a:lnTo>
                      <a:lnTo>
                        <a:pt x="42" y="23"/>
                      </a:lnTo>
                      <a:lnTo>
                        <a:pt x="50" y="23"/>
                      </a:lnTo>
                      <a:lnTo>
                        <a:pt x="67" y="23"/>
                      </a:lnTo>
                      <a:lnTo>
                        <a:pt x="75" y="23"/>
                      </a:lnTo>
                      <a:lnTo>
                        <a:pt x="83" y="31"/>
                      </a:lnTo>
                      <a:lnTo>
                        <a:pt x="92" y="31"/>
                      </a:lnTo>
                      <a:lnTo>
                        <a:pt x="100" y="31"/>
                      </a:lnTo>
                      <a:lnTo>
                        <a:pt x="117" y="31"/>
                      </a:lnTo>
                      <a:lnTo>
                        <a:pt x="125" y="31"/>
                      </a:lnTo>
                      <a:lnTo>
                        <a:pt x="133" y="31"/>
                      </a:lnTo>
                      <a:lnTo>
                        <a:pt x="142" y="31"/>
                      </a:lnTo>
                      <a:lnTo>
                        <a:pt x="159" y="31"/>
                      </a:lnTo>
                      <a:lnTo>
                        <a:pt x="167" y="31"/>
                      </a:lnTo>
                      <a:lnTo>
                        <a:pt x="167" y="16"/>
                      </a:lnTo>
                      <a:lnTo>
                        <a:pt x="159" y="16"/>
                      </a:lnTo>
                      <a:lnTo>
                        <a:pt x="150" y="16"/>
                      </a:lnTo>
                      <a:lnTo>
                        <a:pt x="133" y="16"/>
                      </a:lnTo>
                      <a:lnTo>
                        <a:pt x="125" y="8"/>
                      </a:lnTo>
                      <a:lnTo>
                        <a:pt x="117" y="8"/>
                      </a:lnTo>
                      <a:lnTo>
                        <a:pt x="108" y="8"/>
                      </a:lnTo>
                      <a:lnTo>
                        <a:pt x="100" y="8"/>
                      </a:lnTo>
                      <a:lnTo>
                        <a:pt x="83" y="8"/>
                      </a:lnTo>
                      <a:lnTo>
                        <a:pt x="75" y="8"/>
                      </a:lnTo>
                      <a:lnTo>
                        <a:pt x="67" y="8"/>
                      </a:lnTo>
                      <a:lnTo>
                        <a:pt x="50" y="8"/>
                      </a:lnTo>
                      <a:lnTo>
                        <a:pt x="42" y="8"/>
                      </a:lnTo>
                      <a:lnTo>
                        <a:pt x="33" y="8"/>
                      </a:lnTo>
                      <a:lnTo>
                        <a:pt x="25" y="0"/>
                      </a:lnTo>
                      <a:lnTo>
                        <a:pt x="16" y="0"/>
                      </a:lnTo>
                      <a:lnTo>
                        <a:pt x="0" y="0"/>
                      </a:lnTo>
                      <a:lnTo>
                        <a:pt x="0" y="23"/>
                      </a:lnTo>
                      <a:close/>
                    </a:path>
                  </a:pathLst>
                </a:custGeom>
                <a:solidFill>
                  <a:srgbClr val="000000"/>
                </a:solidFill>
                <a:ln w="0">
                  <a:noFill/>
                </a:ln>
              </p:spPr>
              <p:style>
                <a:lnRef idx="0"/>
                <a:fillRef idx="0"/>
                <a:effectRef idx="0"/>
                <a:fontRef idx="minor"/>
              </p:style>
              <p:txBody>
                <a:bodyPr lIns="90000" rIns="90000" tIns="-39960" bIns="-39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8" name="Freeform 567"/>
                <p:cNvSpPr/>
                <p:nvPr/>
              </p:nvSpPr>
              <p:spPr>
                <a:xfrm flipH="1">
                  <a:off x="780120" y="1460880"/>
                  <a:ext cx="33120" cy="6480"/>
                </a:xfrm>
                <a:custGeom>
                  <a:avLst/>
                  <a:gdLst>
                    <a:gd name="textAreaLeft" fmla="*/ 0 w 33120"/>
                    <a:gd name="textAreaRight" fmla="*/ 33120 w 33120"/>
                    <a:gd name="textAreaTop" fmla="*/ 0 h 6480"/>
                    <a:gd name="textAreaBottom" fmla="*/ 6840 h 6480"/>
                  </a:gdLst>
                  <a:ahLst/>
                  <a:rect l="textAreaLeft" t="textAreaTop" r="textAreaRight" b="textAreaBottom"/>
                  <a:pathLst>
                    <a:path w="167" h="31">
                      <a:moveTo>
                        <a:pt x="0" y="23"/>
                      </a:moveTo>
                      <a:lnTo>
                        <a:pt x="8" y="23"/>
                      </a:lnTo>
                      <a:lnTo>
                        <a:pt x="25" y="23"/>
                      </a:lnTo>
                      <a:lnTo>
                        <a:pt x="33" y="23"/>
                      </a:lnTo>
                      <a:lnTo>
                        <a:pt x="42" y="23"/>
                      </a:lnTo>
                      <a:lnTo>
                        <a:pt x="50" y="23"/>
                      </a:lnTo>
                      <a:lnTo>
                        <a:pt x="67" y="23"/>
                      </a:lnTo>
                      <a:lnTo>
                        <a:pt x="75" y="23"/>
                      </a:lnTo>
                      <a:lnTo>
                        <a:pt x="83" y="31"/>
                      </a:lnTo>
                      <a:lnTo>
                        <a:pt x="92" y="31"/>
                      </a:lnTo>
                      <a:lnTo>
                        <a:pt x="100" y="31"/>
                      </a:lnTo>
                      <a:lnTo>
                        <a:pt x="117" y="31"/>
                      </a:lnTo>
                      <a:lnTo>
                        <a:pt x="125" y="31"/>
                      </a:lnTo>
                      <a:lnTo>
                        <a:pt x="133" y="31"/>
                      </a:lnTo>
                      <a:lnTo>
                        <a:pt x="142" y="31"/>
                      </a:lnTo>
                      <a:lnTo>
                        <a:pt x="159" y="31"/>
                      </a:lnTo>
                      <a:lnTo>
                        <a:pt x="167" y="31"/>
                      </a:lnTo>
                      <a:lnTo>
                        <a:pt x="167" y="16"/>
                      </a:lnTo>
                      <a:lnTo>
                        <a:pt x="159" y="16"/>
                      </a:lnTo>
                      <a:lnTo>
                        <a:pt x="150" y="16"/>
                      </a:lnTo>
                      <a:lnTo>
                        <a:pt x="133" y="16"/>
                      </a:lnTo>
                      <a:lnTo>
                        <a:pt x="125" y="8"/>
                      </a:lnTo>
                      <a:lnTo>
                        <a:pt x="117" y="8"/>
                      </a:lnTo>
                      <a:lnTo>
                        <a:pt x="108" y="8"/>
                      </a:lnTo>
                      <a:lnTo>
                        <a:pt x="100" y="8"/>
                      </a:lnTo>
                      <a:lnTo>
                        <a:pt x="83" y="8"/>
                      </a:lnTo>
                      <a:lnTo>
                        <a:pt x="75" y="8"/>
                      </a:lnTo>
                      <a:lnTo>
                        <a:pt x="67" y="8"/>
                      </a:lnTo>
                      <a:lnTo>
                        <a:pt x="50" y="8"/>
                      </a:lnTo>
                      <a:lnTo>
                        <a:pt x="42" y="8"/>
                      </a:lnTo>
                      <a:lnTo>
                        <a:pt x="33" y="8"/>
                      </a:lnTo>
                      <a:lnTo>
                        <a:pt x="25" y="0"/>
                      </a:lnTo>
                      <a:lnTo>
                        <a:pt x="16" y="0"/>
                      </a:lnTo>
                      <a:lnTo>
                        <a:pt x="0" y="0"/>
                      </a:lnTo>
                      <a:lnTo>
                        <a:pt x="0" y="23"/>
                      </a:lnTo>
                    </a:path>
                  </a:pathLst>
                </a:custGeom>
                <a:noFill/>
                <a:ln w="0">
                  <a:solidFill>
                    <a:srgbClr val="000000"/>
                  </a:solidFill>
                </a:ln>
              </p:spPr>
              <p:style>
                <a:lnRef idx="0"/>
                <a:fillRef idx="0"/>
                <a:effectRef idx="0"/>
                <a:fontRef idx="minor"/>
              </p:style>
              <p:txBody>
                <a:bodyPr lIns="90000" rIns="90000" tIns="-39960" bIns="-39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Freeform 566"/>
                <p:cNvSpPr/>
                <p:nvPr/>
              </p:nvSpPr>
              <p:spPr>
                <a:xfrm flipH="1">
                  <a:off x="780120" y="146412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8" y="0"/>
                      </a:moveTo>
                      <a:lnTo>
                        <a:pt x="0" y="0"/>
                      </a:lnTo>
                      <a:lnTo>
                        <a:pt x="0" y="7"/>
                      </a:lnTo>
                      <a:lnTo>
                        <a:pt x="0" y="15"/>
                      </a:lnTo>
                      <a:lnTo>
                        <a:pt x="8" y="15"/>
                      </a:lnTo>
                      <a:lnTo>
                        <a:pt x="8"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Freeform 565"/>
                <p:cNvSpPr/>
                <p:nvPr/>
              </p:nvSpPr>
              <p:spPr>
                <a:xfrm flipH="1">
                  <a:off x="780120" y="146412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8" y="0"/>
                      </a:moveTo>
                      <a:lnTo>
                        <a:pt x="0" y="0"/>
                      </a:lnTo>
                      <a:lnTo>
                        <a:pt x="0" y="7"/>
                      </a:lnTo>
                      <a:lnTo>
                        <a:pt x="0" y="15"/>
                      </a:lnTo>
                      <a:lnTo>
                        <a:pt x="8" y="15"/>
                      </a:lnTo>
                      <a:lnTo>
                        <a:pt x="8" y="0"/>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1" name="Freeform 564"/>
                <p:cNvSpPr/>
                <p:nvPr/>
              </p:nvSpPr>
              <p:spPr>
                <a:xfrm flipH="1">
                  <a:off x="137520" y="1440000"/>
                  <a:ext cx="83160" cy="32040"/>
                </a:xfrm>
                <a:custGeom>
                  <a:avLst/>
                  <a:gdLst>
                    <a:gd name="textAreaLeft" fmla="*/ -360 w 83160"/>
                    <a:gd name="textAreaRight" fmla="*/ 83160 w 83160"/>
                    <a:gd name="textAreaTop" fmla="*/ 0 h 32040"/>
                    <a:gd name="textAreaBottom" fmla="*/ 32400 h 32040"/>
                  </a:gdLst>
                  <a:ahLst/>
                  <a:rect l="textAreaLeft" t="textAreaTop" r="textAreaRight" b="textAreaBottom"/>
                  <a:pathLst>
                    <a:path w="417" h="154">
                      <a:moveTo>
                        <a:pt x="0" y="8"/>
                      </a:moveTo>
                      <a:lnTo>
                        <a:pt x="16" y="23"/>
                      </a:lnTo>
                      <a:lnTo>
                        <a:pt x="33" y="31"/>
                      </a:lnTo>
                      <a:lnTo>
                        <a:pt x="50" y="47"/>
                      </a:lnTo>
                      <a:lnTo>
                        <a:pt x="66" y="54"/>
                      </a:lnTo>
                      <a:lnTo>
                        <a:pt x="83" y="62"/>
                      </a:lnTo>
                      <a:lnTo>
                        <a:pt x="100" y="77"/>
                      </a:lnTo>
                      <a:lnTo>
                        <a:pt x="117" y="85"/>
                      </a:lnTo>
                      <a:lnTo>
                        <a:pt x="133" y="93"/>
                      </a:lnTo>
                      <a:lnTo>
                        <a:pt x="150" y="100"/>
                      </a:lnTo>
                      <a:lnTo>
                        <a:pt x="175" y="108"/>
                      </a:lnTo>
                      <a:lnTo>
                        <a:pt x="192" y="116"/>
                      </a:lnTo>
                      <a:lnTo>
                        <a:pt x="217" y="123"/>
                      </a:lnTo>
                      <a:lnTo>
                        <a:pt x="234" y="131"/>
                      </a:lnTo>
                      <a:lnTo>
                        <a:pt x="259" y="139"/>
                      </a:lnTo>
                      <a:lnTo>
                        <a:pt x="284" y="147"/>
                      </a:lnTo>
                      <a:lnTo>
                        <a:pt x="309" y="154"/>
                      </a:lnTo>
                      <a:lnTo>
                        <a:pt x="317" y="154"/>
                      </a:lnTo>
                      <a:lnTo>
                        <a:pt x="325" y="154"/>
                      </a:lnTo>
                      <a:lnTo>
                        <a:pt x="334" y="154"/>
                      </a:lnTo>
                      <a:lnTo>
                        <a:pt x="342" y="154"/>
                      </a:lnTo>
                      <a:lnTo>
                        <a:pt x="359" y="154"/>
                      </a:lnTo>
                      <a:lnTo>
                        <a:pt x="367" y="147"/>
                      </a:lnTo>
                      <a:lnTo>
                        <a:pt x="376" y="147"/>
                      </a:lnTo>
                      <a:lnTo>
                        <a:pt x="384" y="139"/>
                      </a:lnTo>
                      <a:lnTo>
                        <a:pt x="392" y="131"/>
                      </a:lnTo>
                      <a:lnTo>
                        <a:pt x="401" y="123"/>
                      </a:lnTo>
                      <a:lnTo>
                        <a:pt x="401" y="116"/>
                      </a:lnTo>
                      <a:lnTo>
                        <a:pt x="409" y="108"/>
                      </a:lnTo>
                      <a:lnTo>
                        <a:pt x="417" y="100"/>
                      </a:lnTo>
                      <a:lnTo>
                        <a:pt x="417" y="93"/>
                      </a:lnTo>
                      <a:lnTo>
                        <a:pt x="401" y="85"/>
                      </a:lnTo>
                      <a:lnTo>
                        <a:pt x="392" y="77"/>
                      </a:lnTo>
                      <a:lnTo>
                        <a:pt x="376" y="70"/>
                      </a:lnTo>
                      <a:lnTo>
                        <a:pt x="359" y="70"/>
                      </a:lnTo>
                      <a:lnTo>
                        <a:pt x="351" y="62"/>
                      </a:lnTo>
                      <a:lnTo>
                        <a:pt x="334" y="54"/>
                      </a:lnTo>
                      <a:lnTo>
                        <a:pt x="317" y="54"/>
                      </a:lnTo>
                      <a:lnTo>
                        <a:pt x="309" y="47"/>
                      </a:lnTo>
                      <a:lnTo>
                        <a:pt x="292" y="39"/>
                      </a:lnTo>
                      <a:lnTo>
                        <a:pt x="284" y="39"/>
                      </a:lnTo>
                      <a:lnTo>
                        <a:pt x="267" y="31"/>
                      </a:lnTo>
                      <a:lnTo>
                        <a:pt x="250" y="23"/>
                      </a:lnTo>
                      <a:lnTo>
                        <a:pt x="242" y="16"/>
                      </a:lnTo>
                      <a:lnTo>
                        <a:pt x="225" y="16"/>
                      </a:lnTo>
                      <a:lnTo>
                        <a:pt x="208" y="8"/>
                      </a:lnTo>
                      <a:lnTo>
                        <a:pt x="200" y="0"/>
                      </a:lnTo>
                      <a:lnTo>
                        <a:pt x="183" y="0"/>
                      </a:lnTo>
                      <a:lnTo>
                        <a:pt x="175" y="0"/>
                      </a:lnTo>
                      <a:lnTo>
                        <a:pt x="158" y="0"/>
                      </a:lnTo>
                      <a:lnTo>
                        <a:pt x="150" y="0"/>
                      </a:lnTo>
                      <a:lnTo>
                        <a:pt x="133" y="0"/>
                      </a:lnTo>
                      <a:lnTo>
                        <a:pt x="125" y="0"/>
                      </a:lnTo>
                      <a:lnTo>
                        <a:pt x="108" y="8"/>
                      </a:lnTo>
                      <a:lnTo>
                        <a:pt x="100" y="8"/>
                      </a:lnTo>
                      <a:lnTo>
                        <a:pt x="83" y="8"/>
                      </a:lnTo>
                      <a:lnTo>
                        <a:pt x="75" y="8"/>
                      </a:lnTo>
                      <a:lnTo>
                        <a:pt x="58" y="8"/>
                      </a:lnTo>
                      <a:lnTo>
                        <a:pt x="50" y="8"/>
                      </a:lnTo>
                      <a:lnTo>
                        <a:pt x="33" y="8"/>
                      </a:lnTo>
                      <a:lnTo>
                        <a:pt x="25" y="8"/>
                      </a:lnTo>
                      <a:lnTo>
                        <a:pt x="8" y="8"/>
                      </a:lnTo>
                      <a:lnTo>
                        <a:pt x="0" y="8"/>
                      </a:lnTo>
                      <a:close/>
                    </a:path>
                  </a:pathLst>
                </a:custGeom>
                <a:solidFill>
                  <a:srgbClr val="ffe8c7"/>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2" name="Freeform 563"/>
                <p:cNvSpPr/>
                <p:nvPr/>
              </p:nvSpPr>
              <p:spPr>
                <a:xfrm flipH="1">
                  <a:off x="137520" y="1440000"/>
                  <a:ext cx="83160" cy="32040"/>
                </a:xfrm>
                <a:custGeom>
                  <a:avLst/>
                  <a:gdLst>
                    <a:gd name="textAreaLeft" fmla="*/ -360 w 83160"/>
                    <a:gd name="textAreaRight" fmla="*/ 83160 w 83160"/>
                    <a:gd name="textAreaTop" fmla="*/ 0 h 32040"/>
                    <a:gd name="textAreaBottom" fmla="*/ 32400 h 32040"/>
                  </a:gdLst>
                  <a:ahLst/>
                  <a:rect l="textAreaLeft" t="textAreaTop" r="textAreaRight" b="textAreaBottom"/>
                  <a:pathLst>
                    <a:path w="417" h="154">
                      <a:moveTo>
                        <a:pt x="0" y="8"/>
                      </a:moveTo>
                      <a:lnTo>
                        <a:pt x="16" y="23"/>
                      </a:lnTo>
                      <a:lnTo>
                        <a:pt x="33" y="31"/>
                      </a:lnTo>
                      <a:lnTo>
                        <a:pt x="50" y="47"/>
                      </a:lnTo>
                      <a:lnTo>
                        <a:pt x="66" y="54"/>
                      </a:lnTo>
                      <a:lnTo>
                        <a:pt x="83" y="62"/>
                      </a:lnTo>
                      <a:lnTo>
                        <a:pt x="100" y="77"/>
                      </a:lnTo>
                      <a:lnTo>
                        <a:pt x="117" y="85"/>
                      </a:lnTo>
                      <a:lnTo>
                        <a:pt x="133" y="93"/>
                      </a:lnTo>
                      <a:lnTo>
                        <a:pt x="150" y="100"/>
                      </a:lnTo>
                      <a:lnTo>
                        <a:pt x="175" y="108"/>
                      </a:lnTo>
                      <a:lnTo>
                        <a:pt x="192" y="116"/>
                      </a:lnTo>
                      <a:lnTo>
                        <a:pt x="217" y="123"/>
                      </a:lnTo>
                      <a:lnTo>
                        <a:pt x="234" y="131"/>
                      </a:lnTo>
                      <a:lnTo>
                        <a:pt x="259" y="139"/>
                      </a:lnTo>
                      <a:lnTo>
                        <a:pt x="284" y="147"/>
                      </a:lnTo>
                      <a:lnTo>
                        <a:pt x="309" y="154"/>
                      </a:lnTo>
                      <a:lnTo>
                        <a:pt x="317" y="154"/>
                      </a:lnTo>
                      <a:lnTo>
                        <a:pt x="325" y="154"/>
                      </a:lnTo>
                      <a:lnTo>
                        <a:pt x="334" y="154"/>
                      </a:lnTo>
                      <a:lnTo>
                        <a:pt x="342" y="154"/>
                      </a:lnTo>
                      <a:lnTo>
                        <a:pt x="359" y="154"/>
                      </a:lnTo>
                      <a:lnTo>
                        <a:pt x="367" y="147"/>
                      </a:lnTo>
                      <a:lnTo>
                        <a:pt x="376" y="147"/>
                      </a:lnTo>
                      <a:lnTo>
                        <a:pt x="384" y="139"/>
                      </a:lnTo>
                      <a:lnTo>
                        <a:pt x="392" y="131"/>
                      </a:lnTo>
                      <a:lnTo>
                        <a:pt x="401" y="123"/>
                      </a:lnTo>
                      <a:lnTo>
                        <a:pt x="401" y="116"/>
                      </a:lnTo>
                      <a:lnTo>
                        <a:pt x="409" y="108"/>
                      </a:lnTo>
                      <a:lnTo>
                        <a:pt x="417" y="100"/>
                      </a:lnTo>
                      <a:lnTo>
                        <a:pt x="417" y="93"/>
                      </a:lnTo>
                      <a:lnTo>
                        <a:pt x="401" y="85"/>
                      </a:lnTo>
                      <a:lnTo>
                        <a:pt x="392" y="77"/>
                      </a:lnTo>
                      <a:lnTo>
                        <a:pt x="376" y="70"/>
                      </a:lnTo>
                      <a:lnTo>
                        <a:pt x="359" y="70"/>
                      </a:lnTo>
                      <a:lnTo>
                        <a:pt x="351" y="62"/>
                      </a:lnTo>
                      <a:lnTo>
                        <a:pt x="334" y="54"/>
                      </a:lnTo>
                      <a:lnTo>
                        <a:pt x="317" y="54"/>
                      </a:lnTo>
                      <a:lnTo>
                        <a:pt x="309" y="47"/>
                      </a:lnTo>
                      <a:lnTo>
                        <a:pt x="292" y="39"/>
                      </a:lnTo>
                      <a:lnTo>
                        <a:pt x="284" y="39"/>
                      </a:lnTo>
                      <a:lnTo>
                        <a:pt x="267" y="31"/>
                      </a:lnTo>
                      <a:lnTo>
                        <a:pt x="250" y="23"/>
                      </a:lnTo>
                      <a:lnTo>
                        <a:pt x="242" y="16"/>
                      </a:lnTo>
                      <a:lnTo>
                        <a:pt x="225" y="16"/>
                      </a:lnTo>
                      <a:lnTo>
                        <a:pt x="208" y="8"/>
                      </a:lnTo>
                      <a:lnTo>
                        <a:pt x="200" y="0"/>
                      </a:lnTo>
                      <a:lnTo>
                        <a:pt x="183" y="0"/>
                      </a:lnTo>
                      <a:lnTo>
                        <a:pt x="175" y="0"/>
                      </a:lnTo>
                      <a:lnTo>
                        <a:pt x="158" y="0"/>
                      </a:lnTo>
                      <a:lnTo>
                        <a:pt x="150" y="0"/>
                      </a:lnTo>
                      <a:lnTo>
                        <a:pt x="133" y="0"/>
                      </a:lnTo>
                      <a:lnTo>
                        <a:pt x="125" y="0"/>
                      </a:lnTo>
                      <a:lnTo>
                        <a:pt x="108" y="8"/>
                      </a:lnTo>
                      <a:lnTo>
                        <a:pt x="100" y="8"/>
                      </a:lnTo>
                      <a:lnTo>
                        <a:pt x="83" y="8"/>
                      </a:lnTo>
                      <a:lnTo>
                        <a:pt x="75" y="8"/>
                      </a:lnTo>
                      <a:lnTo>
                        <a:pt x="58" y="8"/>
                      </a:lnTo>
                      <a:lnTo>
                        <a:pt x="50" y="8"/>
                      </a:lnTo>
                      <a:lnTo>
                        <a:pt x="33" y="8"/>
                      </a:lnTo>
                      <a:lnTo>
                        <a:pt x="25" y="8"/>
                      </a:lnTo>
                      <a:lnTo>
                        <a:pt x="8" y="8"/>
                      </a:lnTo>
                      <a:lnTo>
                        <a:pt x="0" y="8"/>
                      </a:lnTo>
                    </a:path>
                  </a:pathLst>
                </a:custGeom>
                <a:noFill/>
                <a:ln w="0">
                  <a:solidFill>
                    <a:srgbClr val="000000"/>
                  </a:solid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Freeform 562"/>
                <p:cNvSpPr/>
                <p:nvPr/>
              </p:nvSpPr>
              <p:spPr>
                <a:xfrm flipH="1">
                  <a:off x="119160" y="1422360"/>
                  <a:ext cx="66600" cy="41760"/>
                </a:xfrm>
                <a:custGeom>
                  <a:avLst/>
                  <a:gdLst>
                    <a:gd name="textAreaLeft" fmla="*/ 0 w 66600"/>
                    <a:gd name="textAreaRight" fmla="*/ 66600 w 66600"/>
                    <a:gd name="textAreaTop" fmla="*/ 0 h 41760"/>
                    <a:gd name="textAreaBottom" fmla="*/ 42120 h 41760"/>
                  </a:gdLst>
                  <a:ahLst/>
                  <a:rect l="textAreaLeft" t="textAreaTop" r="textAreaRight" b="textAreaBottom"/>
                  <a:pathLst>
                    <a:path w="334" h="200">
                      <a:moveTo>
                        <a:pt x="0" y="100"/>
                      </a:moveTo>
                      <a:lnTo>
                        <a:pt x="17" y="107"/>
                      </a:lnTo>
                      <a:lnTo>
                        <a:pt x="33" y="115"/>
                      </a:lnTo>
                      <a:lnTo>
                        <a:pt x="42" y="123"/>
                      </a:lnTo>
                      <a:lnTo>
                        <a:pt x="59" y="131"/>
                      </a:lnTo>
                      <a:lnTo>
                        <a:pt x="67" y="138"/>
                      </a:lnTo>
                      <a:lnTo>
                        <a:pt x="84" y="146"/>
                      </a:lnTo>
                      <a:lnTo>
                        <a:pt x="92" y="154"/>
                      </a:lnTo>
                      <a:lnTo>
                        <a:pt x="109" y="161"/>
                      </a:lnTo>
                      <a:lnTo>
                        <a:pt x="117" y="161"/>
                      </a:lnTo>
                      <a:lnTo>
                        <a:pt x="134" y="169"/>
                      </a:lnTo>
                      <a:lnTo>
                        <a:pt x="150" y="177"/>
                      </a:lnTo>
                      <a:lnTo>
                        <a:pt x="159" y="177"/>
                      </a:lnTo>
                      <a:lnTo>
                        <a:pt x="176" y="184"/>
                      </a:lnTo>
                      <a:lnTo>
                        <a:pt x="192" y="184"/>
                      </a:lnTo>
                      <a:lnTo>
                        <a:pt x="209" y="192"/>
                      </a:lnTo>
                      <a:lnTo>
                        <a:pt x="226" y="192"/>
                      </a:lnTo>
                      <a:lnTo>
                        <a:pt x="242" y="192"/>
                      </a:lnTo>
                      <a:lnTo>
                        <a:pt x="259" y="200"/>
                      </a:lnTo>
                      <a:lnTo>
                        <a:pt x="276" y="200"/>
                      </a:lnTo>
                      <a:lnTo>
                        <a:pt x="293" y="200"/>
                      </a:lnTo>
                      <a:lnTo>
                        <a:pt x="309" y="192"/>
                      </a:lnTo>
                      <a:lnTo>
                        <a:pt x="318" y="192"/>
                      </a:lnTo>
                      <a:lnTo>
                        <a:pt x="326" y="192"/>
                      </a:lnTo>
                      <a:lnTo>
                        <a:pt x="334" y="184"/>
                      </a:lnTo>
                      <a:lnTo>
                        <a:pt x="334" y="169"/>
                      </a:lnTo>
                      <a:lnTo>
                        <a:pt x="334" y="161"/>
                      </a:lnTo>
                      <a:lnTo>
                        <a:pt x="326" y="146"/>
                      </a:lnTo>
                      <a:lnTo>
                        <a:pt x="326" y="138"/>
                      </a:lnTo>
                      <a:lnTo>
                        <a:pt x="318" y="131"/>
                      </a:lnTo>
                      <a:lnTo>
                        <a:pt x="309" y="115"/>
                      </a:lnTo>
                      <a:lnTo>
                        <a:pt x="301" y="107"/>
                      </a:lnTo>
                      <a:lnTo>
                        <a:pt x="293" y="100"/>
                      </a:lnTo>
                      <a:lnTo>
                        <a:pt x="276" y="92"/>
                      </a:lnTo>
                      <a:lnTo>
                        <a:pt x="259" y="84"/>
                      </a:lnTo>
                      <a:lnTo>
                        <a:pt x="242" y="77"/>
                      </a:lnTo>
                      <a:lnTo>
                        <a:pt x="226" y="69"/>
                      </a:lnTo>
                      <a:lnTo>
                        <a:pt x="209" y="61"/>
                      </a:lnTo>
                      <a:lnTo>
                        <a:pt x="192" y="54"/>
                      </a:lnTo>
                      <a:lnTo>
                        <a:pt x="176" y="46"/>
                      </a:lnTo>
                      <a:lnTo>
                        <a:pt x="159" y="46"/>
                      </a:lnTo>
                      <a:lnTo>
                        <a:pt x="134" y="38"/>
                      </a:lnTo>
                      <a:lnTo>
                        <a:pt x="117" y="31"/>
                      </a:lnTo>
                      <a:lnTo>
                        <a:pt x="100" y="23"/>
                      </a:lnTo>
                      <a:lnTo>
                        <a:pt x="84" y="23"/>
                      </a:lnTo>
                      <a:lnTo>
                        <a:pt x="67" y="15"/>
                      </a:lnTo>
                      <a:lnTo>
                        <a:pt x="50" y="7"/>
                      </a:lnTo>
                      <a:lnTo>
                        <a:pt x="33" y="7"/>
                      </a:lnTo>
                      <a:lnTo>
                        <a:pt x="17" y="0"/>
                      </a:lnTo>
                      <a:lnTo>
                        <a:pt x="17" y="23"/>
                      </a:lnTo>
                      <a:lnTo>
                        <a:pt x="8" y="54"/>
                      </a:lnTo>
                      <a:lnTo>
                        <a:pt x="8" y="77"/>
                      </a:lnTo>
                      <a:lnTo>
                        <a:pt x="0" y="100"/>
                      </a:lnTo>
                      <a:close/>
                    </a:path>
                  </a:pathLst>
                </a:custGeom>
                <a:solidFill>
                  <a:srgbClr val="ffe8c7"/>
                </a:solidFill>
                <a:ln w="0">
                  <a:noFill/>
                </a:ln>
              </p:spPr>
              <p:style>
                <a:lnRef idx="0"/>
                <a:fillRef idx="0"/>
                <a:effectRef idx="0"/>
                <a:fontRef idx="minor"/>
              </p:style>
              <p:txBody>
                <a:bodyPr lIns="90000" rIns="90000" tIns="-4680" bIns="-4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Freeform 561"/>
                <p:cNvSpPr/>
                <p:nvPr/>
              </p:nvSpPr>
              <p:spPr>
                <a:xfrm flipH="1">
                  <a:off x="119160" y="1422360"/>
                  <a:ext cx="66600" cy="41760"/>
                </a:xfrm>
                <a:custGeom>
                  <a:avLst/>
                  <a:gdLst>
                    <a:gd name="textAreaLeft" fmla="*/ 0 w 66600"/>
                    <a:gd name="textAreaRight" fmla="*/ 66600 w 66600"/>
                    <a:gd name="textAreaTop" fmla="*/ 0 h 41760"/>
                    <a:gd name="textAreaBottom" fmla="*/ 42120 h 41760"/>
                  </a:gdLst>
                  <a:ahLst/>
                  <a:rect l="textAreaLeft" t="textAreaTop" r="textAreaRight" b="textAreaBottom"/>
                  <a:pathLst>
                    <a:path w="334" h="200">
                      <a:moveTo>
                        <a:pt x="0" y="100"/>
                      </a:moveTo>
                      <a:lnTo>
                        <a:pt x="17" y="107"/>
                      </a:lnTo>
                      <a:lnTo>
                        <a:pt x="33" y="115"/>
                      </a:lnTo>
                      <a:lnTo>
                        <a:pt x="42" y="123"/>
                      </a:lnTo>
                      <a:lnTo>
                        <a:pt x="59" y="131"/>
                      </a:lnTo>
                      <a:lnTo>
                        <a:pt x="67" y="138"/>
                      </a:lnTo>
                      <a:lnTo>
                        <a:pt x="84" y="146"/>
                      </a:lnTo>
                      <a:lnTo>
                        <a:pt x="92" y="154"/>
                      </a:lnTo>
                      <a:lnTo>
                        <a:pt x="109" y="161"/>
                      </a:lnTo>
                      <a:lnTo>
                        <a:pt x="117" y="161"/>
                      </a:lnTo>
                      <a:lnTo>
                        <a:pt x="134" y="169"/>
                      </a:lnTo>
                      <a:lnTo>
                        <a:pt x="150" y="177"/>
                      </a:lnTo>
                      <a:lnTo>
                        <a:pt x="159" y="177"/>
                      </a:lnTo>
                      <a:lnTo>
                        <a:pt x="176" y="184"/>
                      </a:lnTo>
                      <a:lnTo>
                        <a:pt x="192" y="184"/>
                      </a:lnTo>
                      <a:lnTo>
                        <a:pt x="209" y="192"/>
                      </a:lnTo>
                      <a:lnTo>
                        <a:pt x="226" y="192"/>
                      </a:lnTo>
                      <a:lnTo>
                        <a:pt x="242" y="192"/>
                      </a:lnTo>
                      <a:lnTo>
                        <a:pt x="259" y="200"/>
                      </a:lnTo>
                      <a:lnTo>
                        <a:pt x="276" y="200"/>
                      </a:lnTo>
                      <a:lnTo>
                        <a:pt x="293" y="200"/>
                      </a:lnTo>
                      <a:lnTo>
                        <a:pt x="309" y="192"/>
                      </a:lnTo>
                      <a:lnTo>
                        <a:pt x="318" y="192"/>
                      </a:lnTo>
                      <a:lnTo>
                        <a:pt x="326" y="192"/>
                      </a:lnTo>
                      <a:lnTo>
                        <a:pt x="334" y="184"/>
                      </a:lnTo>
                      <a:lnTo>
                        <a:pt x="334" y="169"/>
                      </a:lnTo>
                      <a:lnTo>
                        <a:pt x="334" y="161"/>
                      </a:lnTo>
                      <a:lnTo>
                        <a:pt x="326" y="146"/>
                      </a:lnTo>
                      <a:lnTo>
                        <a:pt x="326" y="138"/>
                      </a:lnTo>
                      <a:lnTo>
                        <a:pt x="318" y="131"/>
                      </a:lnTo>
                      <a:lnTo>
                        <a:pt x="309" y="115"/>
                      </a:lnTo>
                      <a:lnTo>
                        <a:pt x="301" y="107"/>
                      </a:lnTo>
                      <a:lnTo>
                        <a:pt x="293" y="100"/>
                      </a:lnTo>
                      <a:lnTo>
                        <a:pt x="276" y="92"/>
                      </a:lnTo>
                      <a:lnTo>
                        <a:pt x="259" y="84"/>
                      </a:lnTo>
                      <a:lnTo>
                        <a:pt x="242" y="77"/>
                      </a:lnTo>
                      <a:lnTo>
                        <a:pt x="226" y="69"/>
                      </a:lnTo>
                      <a:lnTo>
                        <a:pt x="209" y="61"/>
                      </a:lnTo>
                      <a:lnTo>
                        <a:pt x="192" y="54"/>
                      </a:lnTo>
                      <a:lnTo>
                        <a:pt x="176" y="46"/>
                      </a:lnTo>
                      <a:lnTo>
                        <a:pt x="159" y="46"/>
                      </a:lnTo>
                      <a:lnTo>
                        <a:pt x="134" y="38"/>
                      </a:lnTo>
                      <a:lnTo>
                        <a:pt x="117" y="31"/>
                      </a:lnTo>
                      <a:lnTo>
                        <a:pt x="100" y="23"/>
                      </a:lnTo>
                      <a:lnTo>
                        <a:pt x="84" y="23"/>
                      </a:lnTo>
                      <a:lnTo>
                        <a:pt x="67" y="15"/>
                      </a:lnTo>
                      <a:lnTo>
                        <a:pt x="50" y="7"/>
                      </a:lnTo>
                      <a:lnTo>
                        <a:pt x="33" y="7"/>
                      </a:lnTo>
                      <a:lnTo>
                        <a:pt x="17" y="0"/>
                      </a:lnTo>
                      <a:lnTo>
                        <a:pt x="17" y="23"/>
                      </a:lnTo>
                      <a:lnTo>
                        <a:pt x="8" y="54"/>
                      </a:lnTo>
                      <a:lnTo>
                        <a:pt x="8" y="77"/>
                      </a:lnTo>
                      <a:lnTo>
                        <a:pt x="0" y="100"/>
                      </a:lnTo>
                    </a:path>
                  </a:pathLst>
                </a:custGeom>
                <a:noFill/>
                <a:ln w="0">
                  <a:solidFill>
                    <a:srgbClr val="000000"/>
                  </a:solidFill>
                </a:ln>
              </p:spPr>
              <p:style>
                <a:lnRef idx="0"/>
                <a:fillRef idx="0"/>
                <a:effectRef idx="0"/>
                <a:fontRef idx="minor"/>
              </p:style>
              <p:txBody>
                <a:bodyPr lIns="90000" rIns="90000" tIns="-4680" bIns="-4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5" name="Freeform 560"/>
                <p:cNvSpPr/>
                <p:nvPr/>
              </p:nvSpPr>
              <p:spPr>
                <a:xfrm flipH="1">
                  <a:off x="109080" y="1391760"/>
                  <a:ext cx="151560" cy="69120"/>
                </a:xfrm>
                <a:custGeom>
                  <a:avLst/>
                  <a:gdLst>
                    <a:gd name="textAreaLeft" fmla="*/ 0 w 151560"/>
                    <a:gd name="textAreaRight" fmla="*/ 151560 w 151560"/>
                    <a:gd name="textAreaTop" fmla="*/ 0 h 69120"/>
                    <a:gd name="textAreaBottom" fmla="*/ 69480 h 69120"/>
                  </a:gdLst>
                  <a:ahLst/>
                  <a:rect l="textAreaLeft" t="textAreaTop" r="textAreaRight" b="textAreaBottom"/>
                  <a:pathLst>
                    <a:path w="760" h="330">
                      <a:moveTo>
                        <a:pt x="8" y="277"/>
                      </a:moveTo>
                      <a:lnTo>
                        <a:pt x="17" y="284"/>
                      </a:lnTo>
                      <a:lnTo>
                        <a:pt x="25" y="292"/>
                      </a:lnTo>
                      <a:lnTo>
                        <a:pt x="42" y="300"/>
                      </a:lnTo>
                      <a:lnTo>
                        <a:pt x="50" y="300"/>
                      </a:lnTo>
                      <a:lnTo>
                        <a:pt x="67" y="307"/>
                      </a:lnTo>
                      <a:lnTo>
                        <a:pt x="75" y="315"/>
                      </a:lnTo>
                      <a:lnTo>
                        <a:pt x="92" y="323"/>
                      </a:lnTo>
                      <a:lnTo>
                        <a:pt x="100" y="323"/>
                      </a:lnTo>
                      <a:lnTo>
                        <a:pt x="109" y="330"/>
                      </a:lnTo>
                      <a:lnTo>
                        <a:pt x="117" y="330"/>
                      </a:lnTo>
                      <a:lnTo>
                        <a:pt x="125" y="330"/>
                      </a:lnTo>
                      <a:lnTo>
                        <a:pt x="134" y="330"/>
                      </a:lnTo>
                      <a:lnTo>
                        <a:pt x="142" y="330"/>
                      </a:lnTo>
                      <a:lnTo>
                        <a:pt x="150" y="330"/>
                      </a:lnTo>
                      <a:lnTo>
                        <a:pt x="159" y="330"/>
                      </a:lnTo>
                      <a:lnTo>
                        <a:pt x="159" y="323"/>
                      </a:lnTo>
                      <a:lnTo>
                        <a:pt x="167" y="323"/>
                      </a:lnTo>
                      <a:lnTo>
                        <a:pt x="175" y="315"/>
                      </a:lnTo>
                      <a:lnTo>
                        <a:pt x="192" y="307"/>
                      </a:lnTo>
                      <a:lnTo>
                        <a:pt x="201" y="300"/>
                      </a:lnTo>
                      <a:lnTo>
                        <a:pt x="209" y="292"/>
                      </a:lnTo>
                      <a:lnTo>
                        <a:pt x="217" y="284"/>
                      </a:lnTo>
                      <a:lnTo>
                        <a:pt x="226" y="269"/>
                      </a:lnTo>
                      <a:lnTo>
                        <a:pt x="234" y="261"/>
                      </a:lnTo>
                      <a:lnTo>
                        <a:pt x="242" y="269"/>
                      </a:lnTo>
                      <a:lnTo>
                        <a:pt x="251" y="269"/>
                      </a:lnTo>
                      <a:lnTo>
                        <a:pt x="259" y="277"/>
                      </a:lnTo>
                      <a:lnTo>
                        <a:pt x="267" y="277"/>
                      </a:lnTo>
                      <a:lnTo>
                        <a:pt x="276" y="277"/>
                      </a:lnTo>
                      <a:lnTo>
                        <a:pt x="284" y="277"/>
                      </a:lnTo>
                      <a:lnTo>
                        <a:pt x="292" y="284"/>
                      </a:lnTo>
                      <a:lnTo>
                        <a:pt x="301" y="284"/>
                      </a:lnTo>
                      <a:lnTo>
                        <a:pt x="309" y="284"/>
                      </a:lnTo>
                      <a:lnTo>
                        <a:pt x="318" y="284"/>
                      </a:lnTo>
                      <a:lnTo>
                        <a:pt x="326" y="284"/>
                      </a:lnTo>
                      <a:lnTo>
                        <a:pt x="334" y="284"/>
                      </a:lnTo>
                      <a:lnTo>
                        <a:pt x="343" y="284"/>
                      </a:lnTo>
                      <a:lnTo>
                        <a:pt x="351" y="284"/>
                      </a:lnTo>
                      <a:lnTo>
                        <a:pt x="359" y="284"/>
                      </a:lnTo>
                      <a:lnTo>
                        <a:pt x="376" y="284"/>
                      </a:lnTo>
                      <a:lnTo>
                        <a:pt x="384" y="284"/>
                      </a:lnTo>
                      <a:lnTo>
                        <a:pt x="393" y="277"/>
                      </a:lnTo>
                      <a:lnTo>
                        <a:pt x="409" y="269"/>
                      </a:lnTo>
                      <a:lnTo>
                        <a:pt x="418" y="269"/>
                      </a:lnTo>
                      <a:lnTo>
                        <a:pt x="426" y="261"/>
                      </a:lnTo>
                      <a:lnTo>
                        <a:pt x="426" y="253"/>
                      </a:lnTo>
                      <a:lnTo>
                        <a:pt x="435" y="246"/>
                      </a:lnTo>
                      <a:lnTo>
                        <a:pt x="435" y="238"/>
                      </a:lnTo>
                      <a:lnTo>
                        <a:pt x="435" y="230"/>
                      </a:lnTo>
                      <a:lnTo>
                        <a:pt x="435" y="223"/>
                      </a:lnTo>
                      <a:lnTo>
                        <a:pt x="435" y="207"/>
                      </a:lnTo>
                      <a:lnTo>
                        <a:pt x="426" y="200"/>
                      </a:lnTo>
                      <a:lnTo>
                        <a:pt x="418" y="192"/>
                      </a:lnTo>
                      <a:lnTo>
                        <a:pt x="409" y="184"/>
                      </a:lnTo>
                      <a:lnTo>
                        <a:pt x="426" y="184"/>
                      </a:lnTo>
                      <a:lnTo>
                        <a:pt x="435" y="192"/>
                      </a:lnTo>
                      <a:lnTo>
                        <a:pt x="451" y="192"/>
                      </a:lnTo>
                      <a:lnTo>
                        <a:pt x="460" y="200"/>
                      </a:lnTo>
                      <a:lnTo>
                        <a:pt x="468" y="200"/>
                      </a:lnTo>
                      <a:lnTo>
                        <a:pt x="485" y="200"/>
                      </a:lnTo>
                      <a:lnTo>
                        <a:pt x="493" y="207"/>
                      </a:lnTo>
                      <a:lnTo>
                        <a:pt x="501" y="207"/>
                      </a:lnTo>
                      <a:lnTo>
                        <a:pt x="510" y="215"/>
                      </a:lnTo>
                      <a:lnTo>
                        <a:pt x="526" y="215"/>
                      </a:lnTo>
                      <a:lnTo>
                        <a:pt x="535" y="223"/>
                      </a:lnTo>
                      <a:lnTo>
                        <a:pt x="543" y="223"/>
                      </a:lnTo>
                      <a:lnTo>
                        <a:pt x="560" y="223"/>
                      </a:lnTo>
                      <a:lnTo>
                        <a:pt x="568" y="230"/>
                      </a:lnTo>
                      <a:lnTo>
                        <a:pt x="577" y="230"/>
                      </a:lnTo>
                      <a:lnTo>
                        <a:pt x="593" y="230"/>
                      </a:lnTo>
                      <a:lnTo>
                        <a:pt x="602" y="230"/>
                      </a:lnTo>
                      <a:lnTo>
                        <a:pt x="610" y="230"/>
                      </a:lnTo>
                      <a:lnTo>
                        <a:pt x="627" y="230"/>
                      </a:lnTo>
                      <a:lnTo>
                        <a:pt x="635" y="230"/>
                      </a:lnTo>
                      <a:lnTo>
                        <a:pt x="643" y="230"/>
                      </a:lnTo>
                      <a:lnTo>
                        <a:pt x="652" y="230"/>
                      </a:lnTo>
                      <a:lnTo>
                        <a:pt x="660" y="230"/>
                      </a:lnTo>
                      <a:lnTo>
                        <a:pt x="677" y="230"/>
                      </a:lnTo>
                      <a:lnTo>
                        <a:pt x="685" y="230"/>
                      </a:lnTo>
                      <a:lnTo>
                        <a:pt x="694" y="230"/>
                      </a:lnTo>
                      <a:lnTo>
                        <a:pt x="702" y="223"/>
                      </a:lnTo>
                      <a:lnTo>
                        <a:pt x="710" y="223"/>
                      </a:lnTo>
                      <a:lnTo>
                        <a:pt x="727" y="223"/>
                      </a:lnTo>
                      <a:lnTo>
                        <a:pt x="735" y="215"/>
                      </a:lnTo>
                      <a:lnTo>
                        <a:pt x="744" y="215"/>
                      </a:lnTo>
                      <a:lnTo>
                        <a:pt x="752" y="207"/>
                      </a:lnTo>
                      <a:lnTo>
                        <a:pt x="760" y="200"/>
                      </a:lnTo>
                      <a:lnTo>
                        <a:pt x="760" y="192"/>
                      </a:lnTo>
                      <a:lnTo>
                        <a:pt x="752" y="184"/>
                      </a:lnTo>
                      <a:lnTo>
                        <a:pt x="752" y="177"/>
                      </a:lnTo>
                      <a:lnTo>
                        <a:pt x="744" y="169"/>
                      </a:lnTo>
                      <a:lnTo>
                        <a:pt x="710" y="161"/>
                      </a:lnTo>
                      <a:lnTo>
                        <a:pt x="677" y="153"/>
                      </a:lnTo>
                      <a:lnTo>
                        <a:pt x="652" y="146"/>
                      </a:lnTo>
                      <a:lnTo>
                        <a:pt x="618" y="138"/>
                      </a:lnTo>
                      <a:lnTo>
                        <a:pt x="593" y="130"/>
                      </a:lnTo>
                      <a:lnTo>
                        <a:pt x="560" y="123"/>
                      </a:lnTo>
                      <a:lnTo>
                        <a:pt x="535" y="107"/>
                      </a:lnTo>
                      <a:lnTo>
                        <a:pt x="510" y="100"/>
                      </a:lnTo>
                      <a:lnTo>
                        <a:pt x="485" y="92"/>
                      </a:lnTo>
                      <a:lnTo>
                        <a:pt x="460" y="84"/>
                      </a:lnTo>
                      <a:lnTo>
                        <a:pt x="435" y="69"/>
                      </a:lnTo>
                      <a:lnTo>
                        <a:pt x="409" y="61"/>
                      </a:lnTo>
                      <a:lnTo>
                        <a:pt x="376" y="46"/>
                      </a:lnTo>
                      <a:lnTo>
                        <a:pt x="351" y="30"/>
                      </a:lnTo>
                      <a:lnTo>
                        <a:pt x="326" y="15"/>
                      </a:lnTo>
                      <a:lnTo>
                        <a:pt x="301" y="0"/>
                      </a:lnTo>
                      <a:lnTo>
                        <a:pt x="292" y="0"/>
                      </a:lnTo>
                      <a:lnTo>
                        <a:pt x="284" y="0"/>
                      </a:lnTo>
                      <a:lnTo>
                        <a:pt x="276" y="0"/>
                      </a:lnTo>
                      <a:lnTo>
                        <a:pt x="267" y="0"/>
                      </a:lnTo>
                      <a:lnTo>
                        <a:pt x="259" y="0"/>
                      </a:lnTo>
                      <a:lnTo>
                        <a:pt x="251" y="0"/>
                      </a:lnTo>
                      <a:lnTo>
                        <a:pt x="242" y="7"/>
                      </a:lnTo>
                      <a:lnTo>
                        <a:pt x="226" y="23"/>
                      </a:lnTo>
                      <a:lnTo>
                        <a:pt x="209" y="30"/>
                      </a:lnTo>
                      <a:lnTo>
                        <a:pt x="192" y="46"/>
                      </a:lnTo>
                      <a:lnTo>
                        <a:pt x="175" y="61"/>
                      </a:lnTo>
                      <a:lnTo>
                        <a:pt x="159" y="69"/>
                      </a:lnTo>
                      <a:lnTo>
                        <a:pt x="142" y="84"/>
                      </a:lnTo>
                      <a:lnTo>
                        <a:pt x="125" y="92"/>
                      </a:lnTo>
                      <a:lnTo>
                        <a:pt x="117" y="107"/>
                      </a:lnTo>
                      <a:lnTo>
                        <a:pt x="100" y="115"/>
                      </a:lnTo>
                      <a:lnTo>
                        <a:pt x="84" y="130"/>
                      </a:lnTo>
                      <a:lnTo>
                        <a:pt x="67" y="138"/>
                      </a:lnTo>
                      <a:lnTo>
                        <a:pt x="58" y="146"/>
                      </a:lnTo>
                      <a:lnTo>
                        <a:pt x="42" y="153"/>
                      </a:lnTo>
                      <a:lnTo>
                        <a:pt x="25" y="161"/>
                      </a:lnTo>
                      <a:lnTo>
                        <a:pt x="8" y="169"/>
                      </a:lnTo>
                      <a:lnTo>
                        <a:pt x="0" y="177"/>
                      </a:lnTo>
                      <a:lnTo>
                        <a:pt x="0" y="200"/>
                      </a:lnTo>
                      <a:lnTo>
                        <a:pt x="0" y="223"/>
                      </a:lnTo>
                      <a:lnTo>
                        <a:pt x="0" y="253"/>
                      </a:lnTo>
                      <a:lnTo>
                        <a:pt x="8" y="277"/>
                      </a:lnTo>
                      <a:close/>
                    </a:path>
                  </a:pathLst>
                </a:custGeom>
                <a:solidFill>
                  <a:srgbClr val="ffe8c7"/>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Freeform 559"/>
                <p:cNvSpPr/>
                <p:nvPr/>
              </p:nvSpPr>
              <p:spPr>
                <a:xfrm flipH="1">
                  <a:off x="109080" y="1391760"/>
                  <a:ext cx="151560" cy="69120"/>
                </a:xfrm>
                <a:custGeom>
                  <a:avLst/>
                  <a:gdLst>
                    <a:gd name="textAreaLeft" fmla="*/ 0 w 151560"/>
                    <a:gd name="textAreaRight" fmla="*/ 151560 w 151560"/>
                    <a:gd name="textAreaTop" fmla="*/ 0 h 69120"/>
                    <a:gd name="textAreaBottom" fmla="*/ 69480 h 69120"/>
                  </a:gdLst>
                  <a:ahLst/>
                  <a:rect l="textAreaLeft" t="textAreaTop" r="textAreaRight" b="textAreaBottom"/>
                  <a:pathLst>
                    <a:path w="760" h="330">
                      <a:moveTo>
                        <a:pt x="8" y="277"/>
                      </a:moveTo>
                      <a:lnTo>
                        <a:pt x="17" y="284"/>
                      </a:lnTo>
                      <a:lnTo>
                        <a:pt x="25" y="292"/>
                      </a:lnTo>
                      <a:lnTo>
                        <a:pt x="42" y="300"/>
                      </a:lnTo>
                      <a:lnTo>
                        <a:pt x="50" y="300"/>
                      </a:lnTo>
                      <a:lnTo>
                        <a:pt x="67" y="307"/>
                      </a:lnTo>
                      <a:lnTo>
                        <a:pt x="75" y="315"/>
                      </a:lnTo>
                      <a:lnTo>
                        <a:pt x="92" y="323"/>
                      </a:lnTo>
                      <a:lnTo>
                        <a:pt x="100" y="323"/>
                      </a:lnTo>
                      <a:lnTo>
                        <a:pt x="109" y="330"/>
                      </a:lnTo>
                      <a:lnTo>
                        <a:pt x="117" y="330"/>
                      </a:lnTo>
                      <a:lnTo>
                        <a:pt x="125" y="330"/>
                      </a:lnTo>
                      <a:lnTo>
                        <a:pt x="134" y="330"/>
                      </a:lnTo>
                      <a:lnTo>
                        <a:pt x="142" y="330"/>
                      </a:lnTo>
                      <a:lnTo>
                        <a:pt x="150" y="330"/>
                      </a:lnTo>
                      <a:lnTo>
                        <a:pt x="159" y="330"/>
                      </a:lnTo>
                      <a:lnTo>
                        <a:pt x="159" y="323"/>
                      </a:lnTo>
                      <a:lnTo>
                        <a:pt x="167" y="323"/>
                      </a:lnTo>
                      <a:lnTo>
                        <a:pt x="175" y="315"/>
                      </a:lnTo>
                      <a:lnTo>
                        <a:pt x="192" y="307"/>
                      </a:lnTo>
                      <a:lnTo>
                        <a:pt x="201" y="300"/>
                      </a:lnTo>
                      <a:lnTo>
                        <a:pt x="209" y="292"/>
                      </a:lnTo>
                      <a:lnTo>
                        <a:pt x="217" y="284"/>
                      </a:lnTo>
                      <a:lnTo>
                        <a:pt x="226" y="269"/>
                      </a:lnTo>
                      <a:lnTo>
                        <a:pt x="234" y="261"/>
                      </a:lnTo>
                      <a:lnTo>
                        <a:pt x="242" y="269"/>
                      </a:lnTo>
                      <a:lnTo>
                        <a:pt x="251" y="269"/>
                      </a:lnTo>
                      <a:lnTo>
                        <a:pt x="259" y="277"/>
                      </a:lnTo>
                      <a:lnTo>
                        <a:pt x="267" y="277"/>
                      </a:lnTo>
                      <a:lnTo>
                        <a:pt x="276" y="277"/>
                      </a:lnTo>
                      <a:lnTo>
                        <a:pt x="284" y="277"/>
                      </a:lnTo>
                      <a:lnTo>
                        <a:pt x="292" y="284"/>
                      </a:lnTo>
                      <a:lnTo>
                        <a:pt x="301" y="284"/>
                      </a:lnTo>
                      <a:lnTo>
                        <a:pt x="309" y="284"/>
                      </a:lnTo>
                      <a:lnTo>
                        <a:pt x="318" y="284"/>
                      </a:lnTo>
                      <a:lnTo>
                        <a:pt x="326" y="284"/>
                      </a:lnTo>
                      <a:lnTo>
                        <a:pt x="334" y="284"/>
                      </a:lnTo>
                      <a:lnTo>
                        <a:pt x="343" y="284"/>
                      </a:lnTo>
                      <a:lnTo>
                        <a:pt x="351" y="284"/>
                      </a:lnTo>
                      <a:lnTo>
                        <a:pt x="359" y="284"/>
                      </a:lnTo>
                      <a:lnTo>
                        <a:pt x="376" y="284"/>
                      </a:lnTo>
                      <a:lnTo>
                        <a:pt x="384" y="284"/>
                      </a:lnTo>
                      <a:lnTo>
                        <a:pt x="393" y="277"/>
                      </a:lnTo>
                      <a:lnTo>
                        <a:pt x="409" y="269"/>
                      </a:lnTo>
                      <a:lnTo>
                        <a:pt x="418" y="269"/>
                      </a:lnTo>
                      <a:lnTo>
                        <a:pt x="426" y="261"/>
                      </a:lnTo>
                      <a:lnTo>
                        <a:pt x="426" y="253"/>
                      </a:lnTo>
                      <a:lnTo>
                        <a:pt x="435" y="246"/>
                      </a:lnTo>
                      <a:lnTo>
                        <a:pt x="435" y="238"/>
                      </a:lnTo>
                      <a:lnTo>
                        <a:pt x="435" y="230"/>
                      </a:lnTo>
                      <a:lnTo>
                        <a:pt x="435" y="223"/>
                      </a:lnTo>
                      <a:lnTo>
                        <a:pt x="435" y="207"/>
                      </a:lnTo>
                      <a:lnTo>
                        <a:pt x="426" y="200"/>
                      </a:lnTo>
                      <a:lnTo>
                        <a:pt x="418" y="192"/>
                      </a:lnTo>
                      <a:lnTo>
                        <a:pt x="409" y="184"/>
                      </a:lnTo>
                      <a:lnTo>
                        <a:pt x="426" y="184"/>
                      </a:lnTo>
                      <a:lnTo>
                        <a:pt x="435" y="192"/>
                      </a:lnTo>
                      <a:lnTo>
                        <a:pt x="451" y="192"/>
                      </a:lnTo>
                      <a:lnTo>
                        <a:pt x="460" y="200"/>
                      </a:lnTo>
                      <a:lnTo>
                        <a:pt x="468" y="200"/>
                      </a:lnTo>
                      <a:lnTo>
                        <a:pt x="485" y="200"/>
                      </a:lnTo>
                      <a:lnTo>
                        <a:pt x="493" y="207"/>
                      </a:lnTo>
                      <a:lnTo>
                        <a:pt x="501" y="207"/>
                      </a:lnTo>
                      <a:lnTo>
                        <a:pt x="510" y="215"/>
                      </a:lnTo>
                      <a:lnTo>
                        <a:pt x="526" y="215"/>
                      </a:lnTo>
                      <a:lnTo>
                        <a:pt x="535" y="223"/>
                      </a:lnTo>
                      <a:lnTo>
                        <a:pt x="543" y="223"/>
                      </a:lnTo>
                      <a:lnTo>
                        <a:pt x="560" y="223"/>
                      </a:lnTo>
                      <a:lnTo>
                        <a:pt x="568" y="230"/>
                      </a:lnTo>
                      <a:lnTo>
                        <a:pt x="577" y="230"/>
                      </a:lnTo>
                      <a:lnTo>
                        <a:pt x="593" y="230"/>
                      </a:lnTo>
                      <a:lnTo>
                        <a:pt x="602" y="230"/>
                      </a:lnTo>
                      <a:lnTo>
                        <a:pt x="610" y="230"/>
                      </a:lnTo>
                      <a:lnTo>
                        <a:pt x="627" y="230"/>
                      </a:lnTo>
                      <a:lnTo>
                        <a:pt x="635" y="230"/>
                      </a:lnTo>
                      <a:lnTo>
                        <a:pt x="643" y="230"/>
                      </a:lnTo>
                      <a:lnTo>
                        <a:pt x="652" y="230"/>
                      </a:lnTo>
                      <a:lnTo>
                        <a:pt x="660" y="230"/>
                      </a:lnTo>
                      <a:lnTo>
                        <a:pt x="677" y="230"/>
                      </a:lnTo>
                      <a:lnTo>
                        <a:pt x="685" y="230"/>
                      </a:lnTo>
                      <a:lnTo>
                        <a:pt x="694" y="230"/>
                      </a:lnTo>
                      <a:lnTo>
                        <a:pt x="702" y="223"/>
                      </a:lnTo>
                      <a:lnTo>
                        <a:pt x="710" y="223"/>
                      </a:lnTo>
                      <a:lnTo>
                        <a:pt x="727" y="223"/>
                      </a:lnTo>
                      <a:lnTo>
                        <a:pt x="735" y="215"/>
                      </a:lnTo>
                      <a:lnTo>
                        <a:pt x="744" y="215"/>
                      </a:lnTo>
                      <a:lnTo>
                        <a:pt x="752" y="207"/>
                      </a:lnTo>
                      <a:lnTo>
                        <a:pt x="760" y="200"/>
                      </a:lnTo>
                      <a:lnTo>
                        <a:pt x="760" y="192"/>
                      </a:lnTo>
                      <a:lnTo>
                        <a:pt x="752" y="184"/>
                      </a:lnTo>
                      <a:lnTo>
                        <a:pt x="752" y="177"/>
                      </a:lnTo>
                      <a:lnTo>
                        <a:pt x="744" y="169"/>
                      </a:lnTo>
                      <a:lnTo>
                        <a:pt x="710" y="161"/>
                      </a:lnTo>
                      <a:lnTo>
                        <a:pt x="677" y="153"/>
                      </a:lnTo>
                      <a:lnTo>
                        <a:pt x="652" y="146"/>
                      </a:lnTo>
                      <a:lnTo>
                        <a:pt x="618" y="138"/>
                      </a:lnTo>
                      <a:lnTo>
                        <a:pt x="593" y="130"/>
                      </a:lnTo>
                      <a:lnTo>
                        <a:pt x="560" y="123"/>
                      </a:lnTo>
                      <a:lnTo>
                        <a:pt x="535" y="107"/>
                      </a:lnTo>
                      <a:lnTo>
                        <a:pt x="510" y="100"/>
                      </a:lnTo>
                      <a:lnTo>
                        <a:pt x="485" y="92"/>
                      </a:lnTo>
                      <a:lnTo>
                        <a:pt x="460" y="84"/>
                      </a:lnTo>
                      <a:lnTo>
                        <a:pt x="435" y="69"/>
                      </a:lnTo>
                      <a:lnTo>
                        <a:pt x="409" y="61"/>
                      </a:lnTo>
                      <a:lnTo>
                        <a:pt x="376" y="46"/>
                      </a:lnTo>
                      <a:lnTo>
                        <a:pt x="351" y="30"/>
                      </a:lnTo>
                      <a:lnTo>
                        <a:pt x="326" y="15"/>
                      </a:lnTo>
                      <a:lnTo>
                        <a:pt x="301" y="0"/>
                      </a:lnTo>
                      <a:lnTo>
                        <a:pt x="292" y="0"/>
                      </a:lnTo>
                      <a:lnTo>
                        <a:pt x="284" y="0"/>
                      </a:lnTo>
                      <a:lnTo>
                        <a:pt x="276" y="0"/>
                      </a:lnTo>
                      <a:lnTo>
                        <a:pt x="267" y="0"/>
                      </a:lnTo>
                      <a:lnTo>
                        <a:pt x="259" y="0"/>
                      </a:lnTo>
                      <a:lnTo>
                        <a:pt x="251" y="0"/>
                      </a:lnTo>
                      <a:lnTo>
                        <a:pt x="242" y="7"/>
                      </a:lnTo>
                      <a:lnTo>
                        <a:pt x="226" y="23"/>
                      </a:lnTo>
                      <a:lnTo>
                        <a:pt x="209" y="30"/>
                      </a:lnTo>
                      <a:lnTo>
                        <a:pt x="192" y="46"/>
                      </a:lnTo>
                      <a:lnTo>
                        <a:pt x="175" y="61"/>
                      </a:lnTo>
                      <a:lnTo>
                        <a:pt x="159" y="69"/>
                      </a:lnTo>
                      <a:lnTo>
                        <a:pt x="142" y="84"/>
                      </a:lnTo>
                      <a:lnTo>
                        <a:pt x="125" y="92"/>
                      </a:lnTo>
                      <a:lnTo>
                        <a:pt x="117" y="107"/>
                      </a:lnTo>
                      <a:lnTo>
                        <a:pt x="100" y="115"/>
                      </a:lnTo>
                      <a:lnTo>
                        <a:pt x="84" y="130"/>
                      </a:lnTo>
                      <a:lnTo>
                        <a:pt x="67" y="138"/>
                      </a:lnTo>
                      <a:lnTo>
                        <a:pt x="58" y="146"/>
                      </a:lnTo>
                      <a:lnTo>
                        <a:pt x="42" y="153"/>
                      </a:lnTo>
                      <a:lnTo>
                        <a:pt x="25" y="161"/>
                      </a:lnTo>
                      <a:lnTo>
                        <a:pt x="8" y="169"/>
                      </a:lnTo>
                      <a:lnTo>
                        <a:pt x="0" y="177"/>
                      </a:lnTo>
                      <a:lnTo>
                        <a:pt x="0" y="200"/>
                      </a:lnTo>
                      <a:lnTo>
                        <a:pt x="0" y="223"/>
                      </a:lnTo>
                      <a:lnTo>
                        <a:pt x="0" y="253"/>
                      </a:lnTo>
                      <a:lnTo>
                        <a:pt x="8" y="277"/>
                      </a:lnTo>
                    </a:path>
                  </a:pathLst>
                </a:custGeom>
                <a:noFill/>
                <a:ln w="0">
                  <a:solidFill>
                    <a:srgbClr val="000000"/>
                  </a:solid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Freeform 558"/>
                <p:cNvSpPr/>
                <p:nvPr/>
              </p:nvSpPr>
              <p:spPr>
                <a:xfrm flipH="1">
                  <a:off x="179280" y="1422360"/>
                  <a:ext cx="19800" cy="7920"/>
                </a:xfrm>
                <a:custGeom>
                  <a:avLst/>
                  <a:gdLst>
                    <a:gd name="textAreaLeft" fmla="*/ -360 w 19800"/>
                    <a:gd name="textAreaRight" fmla="*/ 19800 w 19800"/>
                    <a:gd name="textAreaTop" fmla="*/ 0 h 7920"/>
                    <a:gd name="textAreaBottom" fmla="*/ 8280 h 7920"/>
                  </a:gdLst>
                  <a:ahLst/>
                  <a:rect l="textAreaLeft" t="textAreaTop" r="textAreaRight" b="textAreaBottom"/>
                  <a:pathLst>
                    <a:path w="100" h="38">
                      <a:moveTo>
                        <a:pt x="0" y="0"/>
                      </a:moveTo>
                      <a:lnTo>
                        <a:pt x="17" y="0"/>
                      </a:lnTo>
                      <a:lnTo>
                        <a:pt x="34" y="7"/>
                      </a:lnTo>
                      <a:lnTo>
                        <a:pt x="42" y="7"/>
                      </a:lnTo>
                      <a:lnTo>
                        <a:pt x="59" y="15"/>
                      </a:lnTo>
                      <a:lnTo>
                        <a:pt x="67" y="15"/>
                      </a:lnTo>
                      <a:lnTo>
                        <a:pt x="75" y="23"/>
                      </a:lnTo>
                      <a:lnTo>
                        <a:pt x="92" y="31"/>
                      </a:lnTo>
                      <a:lnTo>
                        <a:pt x="100" y="38"/>
                      </a:lnTo>
                    </a:path>
                  </a:pathLst>
                </a:custGeom>
                <a:noFill/>
                <a:ln w="0">
                  <a:solidFill>
                    <a:srgbClr val="000000"/>
                  </a:solid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Freeform 557"/>
                <p:cNvSpPr/>
                <p:nvPr/>
              </p:nvSpPr>
              <p:spPr>
                <a:xfrm flipH="1">
                  <a:off x="250920" y="1412640"/>
                  <a:ext cx="50040" cy="67680"/>
                </a:xfrm>
                <a:custGeom>
                  <a:avLst/>
                  <a:gdLst>
                    <a:gd name="textAreaLeft" fmla="*/ -360 w 50040"/>
                    <a:gd name="textAreaRight" fmla="*/ 50040 w 50040"/>
                    <a:gd name="textAreaTop" fmla="*/ 0 h 67680"/>
                    <a:gd name="textAreaBottom" fmla="*/ 68040 h 67680"/>
                  </a:gdLst>
                  <a:ahLst/>
                  <a:rect l="textAreaLeft" t="textAreaTop" r="textAreaRight" b="textAreaBottom"/>
                  <a:pathLst>
                    <a:path w="251" h="323">
                      <a:moveTo>
                        <a:pt x="17" y="23"/>
                      </a:moveTo>
                      <a:lnTo>
                        <a:pt x="25" y="23"/>
                      </a:lnTo>
                      <a:lnTo>
                        <a:pt x="34" y="23"/>
                      </a:lnTo>
                      <a:lnTo>
                        <a:pt x="51" y="23"/>
                      </a:lnTo>
                      <a:lnTo>
                        <a:pt x="59" y="15"/>
                      </a:lnTo>
                      <a:lnTo>
                        <a:pt x="67" y="15"/>
                      </a:lnTo>
                      <a:lnTo>
                        <a:pt x="76" y="15"/>
                      </a:lnTo>
                      <a:lnTo>
                        <a:pt x="84" y="15"/>
                      </a:lnTo>
                      <a:lnTo>
                        <a:pt x="101" y="15"/>
                      </a:lnTo>
                      <a:lnTo>
                        <a:pt x="109" y="15"/>
                      </a:lnTo>
                      <a:lnTo>
                        <a:pt x="117" y="7"/>
                      </a:lnTo>
                      <a:lnTo>
                        <a:pt x="126" y="7"/>
                      </a:lnTo>
                      <a:lnTo>
                        <a:pt x="134" y="7"/>
                      </a:lnTo>
                      <a:lnTo>
                        <a:pt x="142" y="7"/>
                      </a:lnTo>
                      <a:lnTo>
                        <a:pt x="159" y="7"/>
                      </a:lnTo>
                      <a:lnTo>
                        <a:pt x="168" y="7"/>
                      </a:lnTo>
                      <a:lnTo>
                        <a:pt x="176" y="0"/>
                      </a:lnTo>
                      <a:lnTo>
                        <a:pt x="201" y="30"/>
                      </a:lnTo>
                      <a:lnTo>
                        <a:pt x="218" y="53"/>
                      </a:lnTo>
                      <a:lnTo>
                        <a:pt x="234" y="92"/>
                      </a:lnTo>
                      <a:lnTo>
                        <a:pt x="243" y="138"/>
                      </a:lnTo>
                      <a:lnTo>
                        <a:pt x="251" y="177"/>
                      </a:lnTo>
                      <a:lnTo>
                        <a:pt x="243" y="223"/>
                      </a:lnTo>
                      <a:lnTo>
                        <a:pt x="234" y="269"/>
                      </a:lnTo>
                      <a:lnTo>
                        <a:pt x="209" y="315"/>
                      </a:lnTo>
                      <a:lnTo>
                        <a:pt x="201" y="315"/>
                      </a:lnTo>
                      <a:lnTo>
                        <a:pt x="184" y="315"/>
                      </a:lnTo>
                      <a:lnTo>
                        <a:pt x="168" y="315"/>
                      </a:lnTo>
                      <a:lnTo>
                        <a:pt x="159" y="315"/>
                      </a:lnTo>
                      <a:lnTo>
                        <a:pt x="142" y="315"/>
                      </a:lnTo>
                      <a:lnTo>
                        <a:pt x="134" y="315"/>
                      </a:lnTo>
                      <a:lnTo>
                        <a:pt x="117" y="315"/>
                      </a:lnTo>
                      <a:lnTo>
                        <a:pt x="101" y="315"/>
                      </a:lnTo>
                      <a:lnTo>
                        <a:pt x="92" y="323"/>
                      </a:lnTo>
                      <a:lnTo>
                        <a:pt x="76" y="323"/>
                      </a:lnTo>
                      <a:lnTo>
                        <a:pt x="67" y="323"/>
                      </a:lnTo>
                      <a:lnTo>
                        <a:pt x="51" y="323"/>
                      </a:lnTo>
                      <a:lnTo>
                        <a:pt x="34" y="323"/>
                      </a:lnTo>
                      <a:lnTo>
                        <a:pt x="25" y="323"/>
                      </a:lnTo>
                      <a:lnTo>
                        <a:pt x="9" y="323"/>
                      </a:lnTo>
                      <a:lnTo>
                        <a:pt x="0" y="323"/>
                      </a:lnTo>
                      <a:lnTo>
                        <a:pt x="0" y="246"/>
                      </a:lnTo>
                      <a:lnTo>
                        <a:pt x="9" y="169"/>
                      </a:lnTo>
                      <a:lnTo>
                        <a:pt x="9" y="100"/>
                      </a:lnTo>
                      <a:lnTo>
                        <a:pt x="17" y="23"/>
                      </a:lnTo>
                      <a:close/>
                    </a:path>
                  </a:pathLst>
                </a:custGeom>
                <a:solidFill>
                  <a:srgbClr val="99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Freeform 556"/>
                <p:cNvSpPr/>
                <p:nvPr/>
              </p:nvSpPr>
              <p:spPr>
                <a:xfrm flipH="1">
                  <a:off x="250920" y="1412640"/>
                  <a:ext cx="50040" cy="67680"/>
                </a:xfrm>
                <a:custGeom>
                  <a:avLst/>
                  <a:gdLst>
                    <a:gd name="textAreaLeft" fmla="*/ -360 w 50040"/>
                    <a:gd name="textAreaRight" fmla="*/ 50040 w 50040"/>
                    <a:gd name="textAreaTop" fmla="*/ 0 h 67680"/>
                    <a:gd name="textAreaBottom" fmla="*/ 68040 h 67680"/>
                  </a:gdLst>
                  <a:ahLst/>
                  <a:rect l="textAreaLeft" t="textAreaTop" r="textAreaRight" b="textAreaBottom"/>
                  <a:pathLst>
                    <a:path w="251" h="323">
                      <a:moveTo>
                        <a:pt x="17" y="23"/>
                      </a:moveTo>
                      <a:lnTo>
                        <a:pt x="25" y="23"/>
                      </a:lnTo>
                      <a:lnTo>
                        <a:pt x="34" y="23"/>
                      </a:lnTo>
                      <a:lnTo>
                        <a:pt x="51" y="23"/>
                      </a:lnTo>
                      <a:lnTo>
                        <a:pt x="59" y="15"/>
                      </a:lnTo>
                      <a:lnTo>
                        <a:pt x="67" y="15"/>
                      </a:lnTo>
                      <a:lnTo>
                        <a:pt x="76" y="15"/>
                      </a:lnTo>
                      <a:lnTo>
                        <a:pt x="84" y="15"/>
                      </a:lnTo>
                      <a:lnTo>
                        <a:pt x="101" y="15"/>
                      </a:lnTo>
                      <a:lnTo>
                        <a:pt x="109" y="15"/>
                      </a:lnTo>
                      <a:lnTo>
                        <a:pt x="117" y="7"/>
                      </a:lnTo>
                      <a:lnTo>
                        <a:pt x="126" y="7"/>
                      </a:lnTo>
                      <a:lnTo>
                        <a:pt x="134" y="7"/>
                      </a:lnTo>
                      <a:lnTo>
                        <a:pt x="142" y="7"/>
                      </a:lnTo>
                      <a:lnTo>
                        <a:pt x="159" y="7"/>
                      </a:lnTo>
                      <a:lnTo>
                        <a:pt x="168" y="7"/>
                      </a:lnTo>
                      <a:lnTo>
                        <a:pt x="176" y="0"/>
                      </a:lnTo>
                      <a:lnTo>
                        <a:pt x="201" y="30"/>
                      </a:lnTo>
                      <a:lnTo>
                        <a:pt x="218" y="53"/>
                      </a:lnTo>
                      <a:lnTo>
                        <a:pt x="234" y="92"/>
                      </a:lnTo>
                      <a:lnTo>
                        <a:pt x="243" y="138"/>
                      </a:lnTo>
                      <a:lnTo>
                        <a:pt x="251" y="177"/>
                      </a:lnTo>
                      <a:lnTo>
                        <a:pt x="243" y="223"/>
                      </a:lnTo>
                      <a:lnTo>
                        <a:pt x="234" y="269"/>
                      </a:lnTo>
                      <a:lnTo>
                        <a:pt x="209" y="315"/>
                      </a:lnTo>
                      <a:lnTo>
                        <a:pt x="201" y="315"/>
                      </a:lnTo>
                      <a:lnTo>
                        <a:pt x="184" y="315"/>
                      </a:lnTo>
                      <a:lnTo>
                        <a:pt x="168" y="315"/>
                      </a:lnTo>
                      <a:lnTo>
                        <a:pt x="159" y="315"/>
                      </a:lnTo>
                      <a:lnTo>
                        <a:pt x="142" y="315"/>
                      </a:lnTo>
                      <a:lnTo>
                        <a:pt x="134" y="315"/>
                      </a:lnTo>
                      <a:lnTo>
                        <a:pt x="117" y="315"/>
                      </a:lnTo>
                      <a:lnTo>
                        <a:pt x="101" y="315"/>
                      </a:lnTo>
                      <a:lnTo>
                        <a:pt x="92" y="323"/>
                      </a:lnTo>
                      <a:lnTo>
                        <a:pt x="76" y="323"/>
                      </a:lnTo>
                      <a:lnTo>
                        <a:pt x="67" y="323"/>
                      </a:lnTo>
                      <a:lnTo>
                        <a:pt x="51" y="323"/>
                      </a:lnTo>
                      <a:lnTo>
                        <a:pt x="34" y="323"/>
                      </a:lnTo>
                      <a:lnTo>
                        <a:pt x="25" y="323"/>
                      </a:lnTo>
                      <a:lnTo>
                        <a:pt x="9" y="323"/>
                      </a:lnTo>
                      <a:lnTo>
                        <a:pt x="0" y="323"/>
                      </a:lnTo>
                      <a:lnTo>
                        <a:pt x="0" y="246"/>
                      </a:lnTo>
                      <a:lnTo>
                        <a:pt x="9" y="169"/>
                      </a:lnTo>
                      <a:lnTo>
                        <a:pt x="9" y="100"/>
                      </a:lnTo>
                      <a:lnTo>
                        <a:pt x="17" y="23"/>
                      </a:lnTo>
                    </a:path>
                  </a:pathLst>
                </a:custGeom>
                <a:noFill/>
                <a:ln w="0">
                  <a:solidFill>
                    <a:srgbClr val="000000"/>
                  </a:solid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0" name="Freeform 555"/>
                <p:cNvSpPr/>
                <p:nvPr/>
              </p:nvSpPr>
              <p:spPr>
                <a:xfrm flipH="1">
                  <a:off x="259560" y="1419120"/>
                  <a:ext cx="1440" cy="3240"/>
                </a:xfrm>
                <a:custGeom>
                  <a:avLst/>
                  <a:gdLst>
                    <a:gd name="textAreaLeft" fmla="*/ 360 w 1440"/>
                    <a:gd name="textAreaRight" fmla="*/ 2160 w 1440"/>
                    <a:gd name="textAreaTop" fmla="*/ 0 h 3240"/>
                    <a:gd name="textAreaBottom" fmla="*/ 3600 h 3240"/>
                  </a:gdLst>
                  <a:ahLst/>
                  <a:rect l="textAreaLeft" t="textAreaTop" r="textAreaRight" b="textAreaBottom"/>
                  <a:pathLst>
                    <a:path w="8" h="16">
                      <a:moveTo>
                        <a:pt x="0" y="16"/>
                      </a:moveTo>
                      <a:lnTo>
                        <a:pt x="8" y="16"/>
                      </a:lnTo>
                      <a:lnTo>
                        <a:pt x="8" y="8"/>
                      </a:lnTo>
                      <a:lnTo>
                        <a:pt x="8" y="0"/>
                      </a:lnTo>
                      <a:lnTo>
                        <a:pt x="0" y="0"/>
                      </a:lnTo>
                      <a:lnTo>
                        <a:pt x="0"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1" name="Group 353"/>
              <p:cNvGrpSpPr/>
              <p:nvPr/>
            </p:nvGrpSpPr>
            <p:grpSpPr>
              <a:xfrm>
                <a:off x="-360" y="1411200"/>
                <a:ext cx="788760" cy="588600"/>
                <a:chOff x="-360" y="1411200"/>
                <a:chExt cx="788760" cy="588600"/>
              </a:xfrm>
            </p:grpSpPr>
            <p:sp>
              <p:nvSpPr>
                <p:cNvPr id="1742" name="Freeform 553"/>
                <p:cNvSpPr/>
                <p:nvPr/>
              </p:nvSpPr>
              <p:spPr>
                <a:xfrm flipH="1">
                  <a:off x="259920" y="1419120"/>
                  <a:ext cx="1440" cy="3240"/>
                </a:xfrm>
                <a:custGeom>
                  <a:avLst/>
                  <a:gdLst>
                    <a:gd name="textAreaLeft" fmla="*/ 360 w 1440"/>
                    <a:gd name="textAreaRight" fmla="*/ 2160 w 1440"/>
                    <a:gd name="textAreaTop" fmla="*/ 0 h 3240"/>
                    <a:gd name="textAreaBottom" fmla="*/ 3600 h 3240"/>
                  </a:gdLst>
                  <a:ahLst/>
                  <a:rect l="textAreaLeft" t="textAreaTop" r="textAreaRight" b="textAreaBottom"/>
                  <a:pathLst>
                    <a:path w="8" h="16">
                      <a:moveTo>
                        <a:pt x="0" y="16"/>
                      </a:moveTo>
                      <a:lnTo>
                        <a:pt x="8" y="16"/>
                      </a:lnTo>
                      <a:lnTo>
                        <a:pt x="8" y="8"/>
                      </a:lnTo>
                      <a:lnTo>
                        <a:pt x="8" y="0"/>
                      </a:lnTo>
                      <a:lnTo>
                        <a:pt x="0" y="0"/>
                      </a:lnTo>
                      <a:lnTo>
                        <a:pt x="0" y="16"/>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Freeform 552"/>
                <p:cNvSpPr/>
                <p:nvPr/>
              </p:nvSpPr>
              <p:spPr>
                <a:xfrm flipH="1">
                  <a:off x="261720" y="1419120"/>
                  <a:ext cx="33120" cy="7920"/>
                </a:xfrm>
                <a:custGeom>
                  <a:avLst/>
                  <a:gdLst>
                    <a:gd name="textAreaLeft" fmla="*/ 0 w 33120"/>
                    <a:gd name="textAreaRight" fmla="*/ 33120 w 33120"/>
                    <a:gd name="textAreaTop" fmla="*/ 0 h 7920"/>
                    <a:gd name="textAreaBottom" fmla="*/ 8280 h 7920"/>
                  </a:gdLst>
                  <a:ahLst/>
                  <a:rect l="textAreaLeft" t="textAreaTop" r="textAreaRight" b="textAreaBottom"/>
                  <a:pathLst>
                    <a:path w="167" h="39">
                      <a:moveTo>
                        <a:pt x="0" y="39"/>
                      </a:moveTo>
                      <a:lnTo>
                        <a:pt x="17" y="39"/>
                      </a:lnTo>
                      <a:lnTo>
                        <a:pt x="25" y="39"/>
                      </a:lnTo>
                      <a:lnTo>
                        <a:pt x="33" y="39"/>
                      </a:lnTo>
                      <a:lnTo>
                        <a:pt x="42" y="31"/>
                      </a:lnTo>
                      <a:lnTo>
                        <a:pt x="58" y="31"/>
                      </a:lnTo>
                      <a:lnTo>
                        <a:pt x="67" y="31"/>
                      </a:lnTo>
                      <a:lnTo>
                        <a:pt x="75" y="31"/>
                      </a:lnTo>
                      <a:lnTo>
                        <a:pt x="83" y="31"/>
                      </a:lnTo>
                      <a:lnTo>
                        <a:pt x="100" y="23"/>
                      </a:lnTo>
                      <a:lnTo>
                        <a:pt x="108" y="23"/>
                      </a:lnTo>
                      <a:lnTo>
                        <a:pt x="117" y="23"/>
                      </a:lnTo>
                      <a:lnTo>
                        <a:pt x="125" y="23"/>
                      </a:lnTo>
                      <a:lnTo>
                        <a:pt x="134" y="23"/>
                      </a:lnTo>
                      <a:lnTo>
                        <a:pt x="150" y="23"/>
                      </a:lnTo>
                      <a:lnTo>
                        <a:pt x="159" y="23"/>
                      </a:lnTo>
                      <a:lnTo>
                        <a:pt x="167" y="16"/>
                      </a:lnTo>
                      <a:lnTo>
                        <a:pt x="167" y="0"/>
                      </a:lnTo>
                      <a:lnTo>
                        <a:pt x="159" y="0"/>
                      </a:lnTo>
                      <a:lnTo>
                        <a:pt x="142" y="0"/>
                      </a:lnTo>
                      <a:lnTo>
                        <a:pt x="134" y="0"/>
                      </a:lnTo>
                      <a:lnTo>
                        <a:pt x="125" y="8"/>
                      </a:lnTo>
                      <a:lnTo>
                        <a:pt x="117" y="8"/>
                      </a:lnTo>
                      <a:lnTo>
                        <a:pt x="100" y="8"/>
                      </a:lnTo>
                      <a:lnTo>
                        <a:pt x="92" y="8"/>
                      </a:lnTo>
                      <a:lnTo>
                        <a:pt x="83" y="8"/>
                      </a:lnTo>
                      <a:lnTo>
                        <a:pt x="75" y="16"/>
                      </a:lnTo>
                      <a:lnTo>
                        <a:pt x="58" y="16"/>
                      </a:lnTo>
                      <a:lnTo>
                        <a:pt x="50" y="16"/>
                      </a:lnTo>
                      <a:lnTo>
                        <a:pt x="42" y="16"/>
                      </a:lnTo>
                      <a:lnTo>
                        <a:pt x="33" y="16"/>
                      </a:lnTo>
                      <a:lnTo>
                        <a:pt x="25" y="16"/>
                      </a:lnTo>
                      <a:lnTo>
                        <a:pt x="8" y="23"/>
                      </a:lnTo>
                      <a:lnTo>
                        <a:pt x="0" y="23"/>
                      </a:lnTo>
                      <a:lnTo>
                        <a:pt x="0" y="39"/>
                      </a:lnTo>
                      <a:close/>
                    </a:path>
                  </a:pathLst>
                </a:custGeom>
                <a:solidFill>
                  <a:srgbClr val="000000"/>
                </a:solidFill>
                <a:ln w="0">
                  <a:no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Freeform 551"/>
                <p:cNvSpPr/>
                <p:nvPr/>
              </p:nvSpPr>
              <p:spPr>
                <a:xfrm flipH="1">
                  <a:off x="261720" y="1419120"/>
                  <a:ext cx="33120" cy="7920"/>
                </a:xfrm>
                <a:custGeom>
                  <a:avLst/>
                  <a:gdLst>
                    <a:gd name="textAreaLeft" fmla="*/ 0 w 33120"/>
                    <a:gd name="textAreaRight" fmla="*/ 33120 w 33120"/>
                    <a:gd name="textAreaTop" fmla="*/ 0 h 7920"/>
                    <a:gd name="textAreaBottom" fmla="*/ 8280 h 7920"/>
                  </a:gdLst>
                  <a:ahLst/>
                  <a:rect l="textAreaLeft" t="textAreaTop" r="textAreaRight" b="textAreaBottom"/>
                  <a:pathLst>
                    <a:path w="167" h="39">
                      <a:moveTo>
                        <a:pt x="0" y="39"/>
                      </a:moveTo>
                      <a:lnTo>
                        <a:pt x="17" y="39"/>
                      </a:lnTo>
                      <a:lnTo>
                        <a:pt x="25" y="39"/>
                      </a:lnTo>
                      <a:lnTo>
                        <a:pt x="33" y="39"/>
                      </a:lnTo>
                      <a:lnTo>
                        <a:pt x="42" y="31"/>
                      </a:lnTo>
                      <a:lnTo>
                        <a:pt x="58" y="31"/>
                      </a:lnTo>
                      <a:lnTo>
                        <a:pt x="67" y="31"/>
                      </a:lnTo>
                      <a:lnTo>
                        <a:pt x="75" y="31"/>
                      </a:lnTo>
                      <a:lnTo>
                        <a:pt x="83" y="31"/>
                      </a:lnTo>
                      <a:lnTo>
                        <a:pt x="100" y="23"/>
                      </a:lnTo>
                      <a:lnTo>
                        <a:pt x="108" y="23"/>
                      </a:lnTo>
                      <a:lnTo>
                        <a:pt x="117" y="23"/>
                      </a:lnTo>
                      <a:lnTo>
                        <a:pt x="125" y="23"/>
                      </a:lnTo>
                      <a:lnTo>
                        <a:pt x="134" y="23"/>
                      </a:lnTo>
                      <a:lnTo>
                        <a:pt x="150" y="23"/>
                      </a:lnTo>
                      <a:lnTo>
                        <a:pt x="159" y="23"/>
                      </a:lnTo>
                      <a:lnTo>
                        <a:pt x="167" y="16"/>
                      </a:lnTo>
                      <a:lnTo>
                        <a:pt x="167" y="0"/>
                      </a:lnTo>
                      <a:lnTo>
                        <a:pt x="159" y="0"/>
                      </a:lnTo>
                      <a:lnTo>
                        <a:pt x="142" y="0"/>
                      </a:lnTo>
                      <a:lnTo>
                        <a:pt x="134" y="0"/>
                      </a:lnTo>
                      <a:lnTo>
                        <a:pt x="125" y="8"/>
                      </a:lnTo>
                      <a:lnTo>
                        <a:pt x="117" y="8"/>
                      </a:lnTo>
                      <a:lnTo>
                        <a:pt x="100" y="8"/>
                      </a:lnTo>
                      <a:lnTo>
                        <a:pt x="92" y="8"/>
                      </a:lnTo>
                      <a:lnTo>
                        <a:pt x="83" y="8"/>
                      </a:lnTo>
                      <a:lnTo>
                        <a:pt x="75" y="16"/>
                      </a:lnTo>
                      <a:lnTo>
                        <a:pt x="58" y="16"/>
                      </a:lnTo>
                      <a:lnTo>
                        <a:pt x="50" y="16"/>
                      </a:lnTo>
                      <a:lnTo>
                        <a:pt x="42" y="16"/>
                      </a:lnTo>
                      <a:lnTo>
                        <a:pt x="33" y="16"/>
                      </a:lnTo>
                      <a:lnTo>
                        <a:pt x="25" y="16"/>
                      </a:lnTo>
                      <a:lnTo>
                        <a:pt x="8" y="23"/>
                      </a:lnTo>
                      <a:lnTo>
                        <a:pt x="0" y="23"/>
                      </a:lnTo>
                      <a:lnTo>
                        <a:pt x="0" y="39"/>
                      </a:lnTo>
                    </a:path>
                  </a:pathLst>
                </a:custGeom>
                <a:noFill/>
                <a:ln w="0">
                  <a:solidFill>
                    <a:srgbClr val="000000"/>
                  </a:solid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Freeform 550"/>
                <p:cNvSpPr/>
                <p:nvPr/>
              </p:nvSpPr>
              <p:spPr>
                <a:xfrm flipH="1">
                  <a:off x="261720" y="1419120"/>
                  <a:ext cx="1440" cy="3240"/>
                </a:xfrm>
                <a:custGeom>
                  <a:avLst/>
                  <a:gdLst>
                    <a:gd name="textAreaLeft" fmla="*/ 360 w 1440"/>
                    <a:gd name="textAreaRight" fmla="*/ 2160 w 1440"/>
                    <a:gd name="textAreaTop" fmla="*/ 0 h 3240"/>
                    <a:gd name="textAreaBottom" fmla="*/ 3600 h 3240"/>
                  </a:gdLst>
                  <a:ahLst/>
                  <a:rect l="textAreaLeft" t="textAreaTop" r="textAreaRight" b="textAreaBottom"/>
                  <a:pathLst>
                    <a:path w="8" h="16">
                      <a:moveTo>
                        <a:pt x="8" y="0"/>
                      </a:moveTo>
                      <a:lnTo>
                        <a:pt x="0" y="0"/>
                      </a:lnTo>
                      <a:lnTo>
                        <a:pt x="0" y="8"/>
                      </a:lnTo>
                      <a:lnTo>
                        <a:pt x="0" y="16"/>
                      </a:lnTo>
                      <a:lnTo>
                        <a:pt x="8" y="16"/>
                      </a:lnTo>
                      <a:lnTo>
                        <a:pt x="8"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Freeform 549"/>
                <p:cNvSpPr/>
                <p:nvPr/>
              </p:nvSpPr>
              <p:spPr>
                <a:xfrm flipH="1">
                  <a:off x="261720" y="1419120"/>
                  <a:ext cx="1440" cy="3240"/>
                </a:xfrm>
                <a:custGeom>
                  <a:avLst/>
                  <a:gdLst>
                    <a:gd name="textAreaLeft" fmla="*/ 360 w 1440"/>
                    <a:gd name="textAreaRight" fmla="*/ 2160 w 1440"/>
                    <a:gd name="textAreaTop" fmla="*/ 0 h 3240"/>
                    <a:gd name="textAreaBottom" fmla="*/ 3600 h 3240"/>
                  </a:gdLst>
                  <a:ahLst/>
                  <a:rect l="textAreaLeft" t="textAreaTop" r="textAreaRight" b="textAreaBottom"/>
                  <a:pathLst>
                    <a:path w="8" h="16">
                      <a:moveTo>
                        <a:pt x="8" y="0"/>
                      </a:moveTo>
                      <a:lnTo>
                        <a:pt x="0" y="0"/>
                      </a:lnTo>
                      <a:lnTo>
                        <a:pt x="0" y="8"/>
                      </a:lnTo>
                      <a:lnTo>
                        <a:pt x="0" y="16"/>
                      </a:lnTo>
                      <a:lnTo>
                        <a:pt x="8" y="16"/>
                      </a:lnTo>
                      <a:lnTo>
                        <a:pt x="8" y="0"/>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Freeform 548"/>
                <p:cNvSpPr/>
                <p:nvPr/>
              </p:nvSpPr>
              <p:spPr>
                <a:xfrm flipH="1">
                  <a:off x="254880" y="1428840"/>
                  <a:ext cx="1440" cy="4680"/>
                </a:xfrm>
                <a:custGeom>
                  <a:avLst/>
                  <a:gdLst>
                    <a:gd name="textAreaLeft" fmla="*/ 360 w 1440"/>
                    <a:gd name="textAreaRight" fmla="*/ 2160 w 1440"/>
                    <a:gd name="textAreaTop" fmla="*/ 0 h 4680"/>
                    <a:gd name="textAreaBottom" fmla="*/ 5040 h 4680"/>
                  </a:gdLst>
                  <a:ahLst/>
                  <a:rect l="textAreaLeft" t="textAreaTop" r="textAreaRight" b="textAreaBottom"/>
                  <a:pathLst>
                    <a:path w="8" h="23">
                      <a:moveTo>
                        <a:pt x="0" y="23"/>
                      </a:moveTo>
                      <a:lnTo>
                        <a:pt x="8" y="15"/>
                      </a:lnTo>
                      <a:lnTo>
                        <a:pt x="8" y="7"/>
                      </a:lnTo>
                      <a:lnTo>
                        <a:pt x="8" y="0"/>
                      </a:lnTo>
                      <a:lnTo>
                        <a:pt x="0" y="0"/>
                      </a:lnTo>
                      <a:lnTo>
                        <a:pt x="0" y="23"/>
                      </a:lnTo>
                      <a:close/>
                    </a:path>
                  </a:pathLst>
                </a:custGeom>
                <a:solidFill>
                  <a:srgbClr val="000000"/>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8" name="Freeform 547"/>
                <p:cNvSpPr/>
                <p:nvPr/>
              </p:nvSpPr>
              <p:spPr>
                <a:xfrm flipH="1">
                  <a:off x="254880" y="1428840"/>
                  <a:ext cx="1440" cy="4680"/>
                </a:xfrm>
                <a:custGeom>
                  <a:avLst/>
                  <a:gdLst>
                    <a:gd name="textAreaLeft" fmla="*/ 360 w 1440"/>
                    <a:gd name="textAreaRight" fmla="*/ 2160 w 1440"/>
                    <a:gd name="textAreaTop" fmla="*/ 0 h 4680"/>
                    <a:gd name="textAreaBottom" fmla="*/ 5040 h 4680"/>
                  </a:gdLst>
                  <a:ahLst/>
                  <a:rect l="textAreaLeft" t="textAreaTop" r="textAreaRight" b="textAreaBottom"/>
                  <a:pathLst>
                    <a:path w="8" h="23">
                      <a:moveTo>
                        <a:pt x="0" y="23"/>
                      </a:moveTo>
                      <a:lnTo>
                        <a:pt x="8" y="15"/>
                      </a:lnTo>
                      <a:lnTo>
                        <a:pt x="8" y="7"/>
                      </a:lnTo>
                      <a:lnTo>
                        <a:pt x="8" y="0"/>
                      </a:lnTo>
                      <a:lnTo>
                        <a:pt x="0" y="0"/>
                      </a:lnTo>
                      <a:lnTo>
                        <a:pt x="0" y="23"/>
                      </a:lnTo>
                    </a:path>
                  </a:pathLst>
                </a:custGeom>
                <a:noFill/>
                <a:ln w="0">
                  <a:solidFill>
                    <a:srgbClr val="000000"/>
                  </a:solid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Freeform 546"/>
                <p:cNvSpPr/>
                <p:nvPr/>
              </p:nvSpPr>
              <p:spPr>
                <a:xfrm flipH="1">
                  <a:off x="256320" y="1428840"/>
                  <a:ext cx="39960" cy="6120"/>
                </a:xfrm>
                <a:custGeom>
                  <a:avLst/>
                  <a:gdLst>
                    <a:gd name="textAreaLeft" fmla="*/ -360 w 39960"/>
                    <a:gd name="textAreaRight" fmla="*/ 39960 w 39960"/>
                    <a:gd name="textAreaTop" fmla="*/ 0 h 6120"/>
                    <a:gd name="textAreaBottom" fmla="*/ 6480 h 6120"/>
                  </a:gdLst>
                  <a:ahLst/>
                  <a:rect l="textAreaLeft" t="textAreaTop" r="textAreaRight" b="textAreaBottom"/>
                  <a:pathLst>
                    <a:path w="201" h="30">
                      <a:moveTo>
                        <a:pt x="9" y="30"/>
                      </a:moveTo>
                      <a:lnTo>
                        <a:pt x="17" y="30"/>
                      </a:lnTo>
                      <a:lnTo>
                        <a:pt x="34" y="30"/>
                      </a:lnTo>
                      <a:lnTo>
                        <a:pt x="42" y="30"/>
                      </a:lnTo>
                      <a:lnTo>
                        <a:pt x="59" y="30"/>
                      </a:lnTo>
                      <a:lnTo>
                        <a:pt x="67" y="30"/>
                      </a:lnTo>
                      <a:lnTo>
                        <a:pt x="76" y="23"/>
                      </a:lnTo>
                      <a:lnTo>
                        <a:pt x="92" y="23"/>
                      </a:lnTo>
                      <a:lnTo>
                        <a:pt x="101" y="23"/>
                      </a:lnTo>
                      <a:lnTo>
                        <a:pt x="117" y="23"/>
                      </a:lnTo>
                      <a:lnTo>
                        <a:pt x="126" y="23"/>
                      </a:lnTo>
                      <a:lnTo>
                        <a:pt x="143" y="23"/>
                      </a:lnTo>
                      <a:lnTo>
                        <a:pt x="151" y="23"/>
                      </a:lnTo>
                      <a:lnTo>
                        <a:pt x="168" y="23"/>
                      </a:lnTo>
                      <a:lnTo>
                        <a:pt x="176" y="23"/>
                      </a:lnTo>
                      <a:lnTo>
                        <a:pt x="184" y="23"/>
                      </a:lnTo>
                      <a:lnTo>
                        <a:pt x="201" y="23"/>
                      </a:lnTo>
                      <a:lnTo>
                        <a:pt x="201" y="0"/>
                      </a:lnTo>
                      <a:lnTo>
                        <a:pt x="184" y="0"/>
                      </a:lnTo>
                      <a:lnTo>
                        <a:pt x="176" y="0"/>
                      </a:lnTo>
                      <a:lnTo>
                        <a:pt x="159" y="0"/>
                      </a:lnTo>
                      <a:lnTo>
                        <a:pt x="151" y="7"/>
                      </a:lnTo>
                      <a:lnTo>
                        <a:pt x="134" y="7"/>
                      </a:lnTo>
                      <a:lnTo>
                        <a:pt x="126" y="7"/>
                      </a:lnTo>
                      <a:lnTo>
                        <a:pt x="117" y="7"/>
                      </a:lnTo>
                      <a:lnTo>
                        <a:pt x="101" y="7"/>
                      </a:lnTo>
                      <a:lnTo>
                        <a:pt x="92" y="7"/>
                      </a:lnTo>
                      <a:lnTo>
                        <a:pt x="76" y="7"/>
                      </a:lnTo>
                      <a:lnTo>
                        <a:pt x="67" y="7"/>
                      </a:lnTo>
                      <a:lnTo>
                        <a:pt x="51" y="7"/>
                      </a:lnTo>
                      <a:lnTo>
                        <a:pt x="42" y="7"/>
                      </a:lnTo>
                      <a:lnTo>
                        <a:pt x="26" y="15"/>
                      </a:lnTo>
                      <a:lnTo>
                        <a:pt x="17" y="15"/>
                      </a:lnTo>
                      <a:lnTo>
                        <a:pt x="0" y="15"/>
                      </a:lnTo>
                      <a:lnTo>
                        <a:pt x="9" y="30"/>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Freeform 545"/>
                <p:cNvSpPr/>
                <p:nvPr/>
              </p:nvSpPr>
              <p:spPr>
                <a:xfrm flipH="1">
                  <a:off x="256320" y="1428840"/>
                  <a:ext cx="39960" cy="6120"/>
                </a:xfrm>
                <a:custGeom>
                  <a:avLst/>
                  <a:gdLst>
                    <a:gd name="textAreaLeft" fmla="*/ -360 w 39960"/>
                    <a:gd name="textAreaRight" fmla="*/ 39960 w 39960"/>
                    <a:gd name="textAreaTop" fmla="*/ 0 h 6120"/>
                    <a:gd name="textAreaBottom" fmla="*/ 6480 h 6120"/>
                  </a:gdLst>
                  <a:ahLst/>
                  <a:rect l="textAreaLeft" t="textAreaTop" r="textAreaRight" b="textAreaBottom"/>
                  <a:pathLst>
                    <a:path w="201" h="30">
                      <a:moveTo>
                        <a:pt x="9" y="30"/>
                      </a:moveTo>
                      <a:lnTo>
                        <a:pt x="17" y="30"/>
                      </a:lnTo>
                      <a:lnTo>
                        <a:pt x="34" y="30"/>
                      </a:lnTo>
                      <a:lnTo>
                        <a:pt x="42" y="30"/>
                      </a:lnTo>
                      <a:lnTo>
                        <a:pt x="59" y="30"/>
                      </a:lnTo>
                      <a:lnTo>
                        <a:pt x="67" y="30"/>
                      </a:lnTo>
                      <a:lnTo>
                        <a:pt x="76" y="23"/>
                      </a:lnTo>
                      <a:lnTo>
                        <a:pt x="92" y="23"/>
                      </a:lnTo>
                      <a:lnTo>
                        <a:pt x="101" y="23"/>
                      </a:lnTo>
                      <a:lnTo>
                        <a:pt x="117" y="23"/>
                      </a:lnTo>
                      <a:lnTo>
                        <a:pt x="126" y="23"/>
                      </a:lnTo>
                      <a:lnTo>
                        <a:pt x="143" y="23"/>
                      </a:lnTo>
                      <a:lnTo>
                        <a:pt x="151" y="23"/>
                      </a:lnTo>
                      <a:lnTo>
                        <a:pt x="168" y="23"/>
                      </a:lnTo>
                      <a:lnTo>
                        <a:pt x="176" y="23"/>
                      </a:lnTo>
                      <a:lnTo>
                        <a:pt x="184" y="23"/>
                      </a:lnTo>
                      <a:lnTo>
                        <a:pt x="201" y="23"/>
                      </a:lnTo>
                      <a:lnTo>
                        <a:pt x="201" y="0"/>
                      </a:lnTo>
                      <a:lnTo>
                        <a:pt x="184" y="0"/>
                      </a:lnTo>
                      <a:lnTo>
                        <a:pt x="176" y="0"/>
                      </a:lnTo>
                      <a:lnTo>
                        <a:pt x="159" y="0"/>
                      </a:lnTo>
                      <a:lnTo>
                        <a:pt x="151" y="7"/>
                      </a:lnTo>
                      <a:lnTo>
                        <a:pt x="134" y="7"/>
                      </a:lnTo>
                      <a:lnTo>
                        <a:pt x="126" y="7"/>
                      </a:lnTo>
                      <a:lnTo>
                        <a:pt x="117" y="7"/>
                      </a:lnTo>
                      <a:lnTo>
                        <a:pt x="101" y="7"/>
                      </a:lnTo>
                      <a:lnTo>
                        <a:pt x="92" y="7"/>
                      </a:lnTo>
                      <a:lnTo>
                        <a:pt x="76" y="7"/>
                      </a:lnTo>
                      <a:lnTo>
                        <a:pt x="67" y="7"/>
                      </a:lnTo>
                      <a:lnTo>
                        <a:pt x="51" y="7"/>
                      </a:lnTo>
                      <a:lnTo>
                        <a:pt x="42" y="7"/>
                      </a:lnTo>
                      <a:lnTo>
                        <a:pt x="26" y="15"/>
                      </a:lnTo>
                      <a:lnTo>
                        <a:pt x="17" y="15"/>
                      </a:lnTo>
                      <a:lnTo>
                        <a:pt x="0" y="15"/>
                      </a:lnTo>
                      <a:lnTo>
                        <a:pt x="9" y="30"/>
                      </a:lnTo>
                    </a:path>
                  </a:pathLst>
                </a:custGeom>
                <a:noFill/>
                <a:ln w="0">
                  <a:solidFill>
                    <a:srgbClr val="000000"/>
                  </a:solid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Freeform 544"/>
                <p:cNvSpPr/>
                <p:nvPr/>
              </p:nvSpPr>
              <p:spPr>
                <a:xfrm flipH="1">
                  <a:off x="256680" y="1428840"/>
                  <a:ext cx="1440" cy="4680"/>
                </a:xfrm>
                <a:custGeom>
                  <a:avLst/>
                  <a:gdLst>
                    <a:gd name="textAreaLeft" fmla="*/ 360 w 1440"/>
                    <a:gd name="textAreaRight" fmla="*/ 2160 w 1440"/>
                    <a:gd name="textAreaTop" fmla="*/ 0 h 4680"/>
                    <a:gd name="textAreaBottom" fmla="*/ 5040 h 4680"/>
                  </a:gdLst>
                  <a:ahLst/>
                  <a:rect l="textAreaLeft" t="textAreaTop" r="textAreaRight" b="textAreaBottom"/>
                  <a:pathLst>
                    <a:path w="8" h="23">
                      <a:moveTo>
                        <a:pt x="8" y="0"/>
                      </a:moveTo>
                      <a:lnTo>
                        <a:pt x="0" y="7"/>
                      </a:lnTo>
                      <a:lnTo>
                        <a:pt x="0" y="15"/>
                      </a:lnTo>
                      <a:lnTo>
                        <a:pt x="8" y="23"/>
                      </a:lnTo>
                      <a:lnTo>
                        <a:pt x="8" y="0"/>
                      </a:lnTo>
                      <a:close/>
                    </a:path>
                  </a:pathLst>
                </a:custGeom>
                <a:solidFill>
                  <a:srgbClr val="000000"/>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Freeform 543"/>
                <p:cNvSpPr/>
                <p:nvPr/>
              </p:nvSpPr>
              <p:spPr>
                <a:xfrm flipH="1">
                  <a:off x="256680" y="1428840"/>
                  <a:ext cx="1440" cy="4680"/>
                </a:xfrm>
                <a:custGeom>
                  <a:avLst/>
                  <a:gdLst>
                    <a:gd name="textAreaLeft" fmla="*/ 360 w 1440"/>
                    <a:gd name="textAreaRight" fmla="*/ 2160 w 1440"/>
                    <a:gd name="textAreaTop" fmla="*/ 0 h 4680"/>
                    <a:gd name="textAreaBottom" fmla="*/ 5040 h 4680"/>
                  </a:gdLst>
                  <a:ahLst/>
                  <a:rect l="textAreaLeft" t="textAreaTop" r="textAreaRight" b="textAreaBottom"/>
                  <a:pathLst>
                    <a:path w="8" h="23">
                      <a:moveTo>
                        <a:pt x="8" y="0"/>
                      </a:moveTo>
                      <a:lnTo>
                        <a:pt x="0" y="7"/>
                      </a:lnTo>
                      <a:lnTo>
                        <a:pt x="0" y="15"/>
                      </a:lnTo>
                      <a:lnTo>
                        <a:pt x="8" y="23"/>
                      </a:lnTo>
                      <a:lnTo>
                        <a:pt x="8" y="0"/>
                      </a:lnTo>
                    </a:path>
                  </a:pathLst>
                </a:custGeom>
                <a:noFill/>
                <a:ln w="0">
                  <a:solidFill>
                    <a:srgbClr val="000000"/>
                  </a:solid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Freeform 542"/>
                <p:cNvSpPr/>
                <p:nvPr/>
              </p:nvSpPr>
              <p:spPr>
                <a:xfrm flipH="1">
                  <a:off x="254880" y="143856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0" y="15"/>
                      </a:moveTo>
                      <a:lnTo>
                        <a:pt x="8" y="15"/>
                      </a:lnTo>
                      <a:lnTo>
                        <a:pt x="8" y="7"/>
                      </a:lnTo>
                      <a:lnTo>
                        <a:pt x="8" y="0"/>
                      </a:lnTo>
                      <a:lnTo>
                        <a:pt x="0"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Freeform 541"/>
                <p:cNvSpPr/>
                <p:nvPr/>
              </p:nvSpPr>
              <p:spPr>
                <a:xfrm flipH="1">
                  <a:off x="254880" y="143856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0" y="15"/>
                      </a:moveTo>
                      <a:lnTo>
                        <a:pt x="8" y="15"/>
                      </a:lnTo>
                      <a:lnTo>
                        <a:pt x="8" y="7"/>
                      </a:lnTo>
                      <a:lnTo>
                        <a:pt x="8" y="0"/>
                      </a:lnTo>
                      <a:lnTo>
                        <a:pt x="0" y="0"/>
                      </a:lnTo>
                      <a:lnTo>
                        <a:pt x="0"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5" name="Freeform 540"/>
                <p:cNvSpPr/>
                <p:nvPr/>
              </p:nvSpPr>
              <p:spPr>
                <a:xfrm flipH="1">
                  <a:off x="256680" y="1438560"/>
                  <a:ext cx="38160" cy="4680"/>
                </a:xfrm>
                <a:custGeom>
                  <a:avLst/>
                  <a:gdLst>
                    <a:gd name="textAreaLeft" fmla="*/ 360 w 38160"/>
                    <a:gd name="textAreaRight" fmla="*/ 38880 w 38160"/>
                    <a:gd name="textAreaTop" fmla="*/ 0 h 4680"/>
                    <a:gd name="textAreaBottom" fmla="*/ 5040 h 4680"/>
                  </a:gdLst>
                  <a:ahLst/>
                  <a:rect l="textAreaLeft" t="textAreaTop" r="textAreaRight" b="textAreaBottom"/>
                  <a:pathLst>
                    <a:path w="192" h="23">
                      <a:moveTo>
                        <a:pt x="0" y="23"/>
                      </a:moveTo>
                      <a:lnTo>
                        <a:pt x="17" y="23"/>
                      </a:lnTo>
                      <a:lnTo>
                        <a:pt x="25" y="23"/>
                      </a:lnTo>
                      <a:lnTo>
                        <a:pt x="42" y="23"/>
                      </a:lnTo>
                      <a:lnTo>
                        <a:pt x="50" y="23"/>
                      </a:lnTo>
                      <a:lnTo>
                        <a:pt x="58" y="23"/>
                      </a:lnTo>
                      <a:lnTo>
                        <a:pt x="75" y="23"/>
                      </a:lnTo>
                      <a:lnTo>
                        <a:pt x="83" y="15"/>
                      </a:lnTo>
                      <a:lnTo>
                        <a:pt x="100" y="15"/>
                      </a:lnTo>
                      <a:lnTo>
                        <a:pt x="108" y="15"/>
                      </a:lnTo>
                      <a:lnTo>
                        <a:pt x="125" y="15"/>
                      </a:lnTo>
                      <a:lnTo>
                        <a:pt x="134" y="15"/>
                      </a:lnTo>
                      <a:lnTo>
                        <a:pt x="142" y="15"/>
                      </a:lnTo>
                      <a:lnTo>
                        <a:pt x="159" y="15"/>
                      </a:lnTo>
                      <a:lnTo>
                        <a:pt x="167" y="15"/>
                      </a:lnTo>
                      <a:lnTo>
                        <a:pt x="175" y="15"/>
                      </a:lnTo>
                      <a:lnTo>
                        <a:pt x="192" y="15"/>
                      </a:lnTo>
                      <a:lnTo>
                        <a:pt x="192" y="0"/>
                      </a:lnTo>
                      <a:lnTo>
                        <a:pt x="175" y="0"/>
                      </a:lnTo>
                      <a:lnTo>
                        <a:pt x="167" y="0"/>
                      </a:lnTo>
                      <a:lnTo>
                        <a:pt x="159" y="0"/>
                      </a:lnTo>
                      <a:lnTo>
                        <a:pt x="142" y="0"/>
                      </a:lnTo>
                      <a:lnTo>
                        <a:pt x="134" y="0"/>
                      </a:lnTo>
                      <a:lnTo>
                        <a:pt x="125" y="0"/>
                      </a:lnTo>
                      <a:lnTo>
                        <a:pt x="108" y="0"/>
                      </a:lnTo>
                      <a:lnTo>
                        <a:pt x="100" y="0"/>
                      </a:lnTo>
                      <a:lnTo>
                        <a:pt x="83" y="0"/>
                      </a:lnTo>
                      <a:lnTo>
                        <a:pt x="75" y="0"/>
                      </a:lnTo>
                      <a:lnTo>
                        <a:pt x="58" y="0"/>
                      </a:lnTo>
                      <a:lnTo>
                        <a:pt x="50" y="0"/>
                      </a:lnTo>
                      <a:lnTo>
                        <a:pt x="42" y="0"/>
                      </a:lnTo>
                      <a:lnTo>
                        <a:pt x="25" y="0"/>
                      </a:lnTo>
                      <a:lnTo>
                        <a:pt x="17" y="0"/>
                      </a:lnTo>
                      <a:lnTo>
                        <a:pt x="0" y="0"/>
                      </a:lnTo>
                      <a:lnTo>
                        <a:pt x="0" y="23"/>
                      </a:lnTo>
                      <a:close/>
                    </a:path>
                  </a:pathLst>
                </a:custGeom>
                <a:solidFill>
                  <a:srgbClr val="000000"/>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6" name="Freeform 539"/>
                <p:cNvSpPr/>
                <p:nvPr/>
              </p:nvSpPr>
              <p:spPr>
                <a:xfrm flipH="1">
                  <a:off x="256680" y="1438560"/>
                  <a:ext cx="38160" cy="4680"/>
                </a:xfrm>
                <a:custGeom>
                  <a:avLst/>
                  <a:gdLst>
                    <a:gd name="textAreaLeft" fmla="*/ 360 w 38160"/>
                    <a:gd name="textAreaRight" fmla="*/ 38880 w 38160"/>
                    <a:gd name="textAreaTop" fmla="*/ 0 h 4680"/>
                    <a:gd name="textAreaBottom" fmla="*/ 5040 h 4680"/>
                  </a:gdLst>
                  <a:ahLst/>
                  <a:rect l="textAreaLeft" t="textAreaTop" r="textAreaRight" b="textAreaBottom"/>
                  <a:pathLst>
                    <a:path w="192" h="23">
                      <a:moveTo>
                        <a:pt x="0" y="23"/>
                      </a:moveTo>
                      <a:lnTo>
                        <a:pt x="17" y="23"/>
                      </a:lnTo>
                      <a:lnTo>
                        <a:pt x="25" y="23"/>
                      </a:lnTo>
                      <a:lnTo>
                        <a:pt x="42" y="23"/>
                      </a:lnTo>
                      <a:lnTo>
                        <a:pt x="50" y="23"/>
                      </a:lnTo>
                      <a:lnTo>
                        <a:pt x="58" y="23"/>
                      </a:lnTo>
                      <a:lnTo>
                        <a:pt x="75" y="23"/>
                      </a:lnTo>
                      <a:lnTo>
                        <a:pt x="83" y="15"/>
                      </a:lnTo>
                      <a:lnTo>
                        <a:pt x="100" y="15"/>
                      </a:lnTo>
                      <a:lnTo>
                        <a:pt x="108" y="15"/>
                      </a:lnTo>
                      <a:lnTo>
                        <a:pt x="125" y="15"/>
                      </a:lnTo>
                      <a:lnTo>
                        <a:pt x="134" y="15"/>
                      </a:lnTo>
                      <a:lnTo>
                        <a:pt x="142" y="15"/>
                      </a:lnTo>
                      <a:lnTo>
                        <a:pt x="159" y="15"/>
                      </a:lnTo>
                      <a:lnTo>
                        <a:pt x="167" y="15"/>
                      </a:lnTo>
                      <a:lnTo>
                        <a:pt x="175" y="15"/>
                      </a:lnTo>
                      <a:lnTo>
                        <a:pt x="192" y="15"/>
                      </a:lnTo>
                      <a:lnTo>
                        <a:pt x="192" y="0"/>
                      </a:lnTo>
                      <a:lnTo>
                        <a:pt x="175" y="0"/>
                      </a:lnTo>
                      <a:lnTo>
                        <a:pt x="167" y="0"/>
                      </a:lnTo>
                      <a:lnTo>
                        <a:pt x="159" y="0"/>
                      </a:lnTo>
                      <a:lnTo>
                        <a:pt x="142" y="0"/>
                      </a:lnTo>
                      <a:lnTo>
                        <a:pt x="134" y="0"/>
                      </a:lnTo>
                      <a:lnTo>
                        <a:pt x="125" y="0"/>
                      </a:lnTo>
                      <a:lnTo>
                        <a:pt x="108" y="0"/>
                      </a:lnTo>
                      <a:lnTo>
                        <a:pt x="100" y="0"/>
                      </a:lnTo>
                      <a:lnTo>
                        <a:pt x="83" y="0"/>
                      </a:lnTo>
                      <a:lnTo>
                        <a:pt x="75" y="0"/>
                      </a:lnTo>
                      <a:lnTo>
                        <a:pt x="58" y="0"/>
                      </a:lnTo>
                      <a:lnTo>
                        <a:pt x="50" y="0"/>
                      </a:lnTo>
                      <a:lnTo>
                        <a:pt x="42" y="0"/>
                      </a:lnTo>
                      <a:lnTo>
                        <a:pt x="25" y="0"/>
                      </a:lnTo>
                      <a:lnTo>
                        <a:pt x="17" y="0"/>
                      </a:lnTo>
                      <a:lnTo>
                        <a:pt x="0" y="0"/>
                      </a:lnTo>
                      <a:lnTo>
                        <a:pt x="0" y="23"/>
                      </a:lnTo>
                    </a:path>
                  </a:pathLst>
                </a:custGeom>
                <a:noFill/>
                <a:ln w="0">
                  <a:solidFill>
                    <a:srgbClr val="000000"/>
                  </a:solid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Freeform 538"/>
                <p:cNvSpPr/>
                <p:nvPr/>
              </p:nvSpPr>
              <p:spPr>
                <a:xfrm flipH="1">
                  <a:off x="256680" y="143856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8" y="0"/>
                      </a:moveTo>
                      <a:lnTo>
                        <a:pt x="0" y="0"/>
                      </a:lnTo>
                      <a:lnTo>
                        <a:pt x="0" y="7"/>
                      </a:lnTo>
                      <a:lnTo>
                        <a:pt x="0" y="15"/>
                      </a:lnTo>
                      <a:lnTo>
                        <a:pt x="8" y="15"/>
                      </a:lnTo>
                      <a:lnTo>
                        <a:pt x="8"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Freeform 537"/>
                <p:cNvSpPr/>
                <p:nvPr/>
              </p:nvSpPr>
              <p:spPr>
                <a:xfrm flipH="1">
                  <a:off x="256680" y="143856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8" y="0"/>
                      </a:moveTo>
                      <a:lnTo>
                        <a:pt x="0" y="0"/>
                      </a:lnTo>
                      <a:lnTo>
                        <a:pt x="0" y="7"/>
                      </a:lnTo>
                      <a:lnTo>
                        <a:pt x="0" y="15"/>
                      </a:lnTo>
                      <a:lnTo>
                        <a:pt x="8" y="15"/>
                      </a:lnTo>
                      <a:lnTo>
                        <a:pt x="8" y="0"/>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Freeform 536"/>
                <p:cNvSpPr/>
                <p:nvPr/>
              </p:nvSpPr>
              <p:spPr>
                <a:xfrm flipH="1">
                  <a:off x="254880" y="144828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0" y="15"/>
                      </a:moveTo>
                      <a:lnTo>
                        <a:pt x="8" y="15"/>
                      </a:lnTo>
                      <a:lnTo>
                        <a:pt x="8" y="8"/>
                      </a:lnTo>
                      <a:lnTo>
                        <a:pt x="8" y="0"/>
                      </a:lnTo>
                      <a:lnTo>
                        <a:pt x="0"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Freeform 535"/>
                <p:cNvSpPr/>
                <p:nvPr/>
              </p:nvSpPr>
              <p:spPr>
                <a:xfrm flipH="1">
                  <a:off x="254880" y="144828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0" y="15"/>
                      </a:moveTo>
                      <a:lnTo>
                        <a:pt x="8" y="15"/>
                      </a:lnTo>
                      <a:lnTo>
                        <a:pt x="8" y="8"/>
                      </a:lnTo>
                      <a:lnTo>
                        <a:pt x="8" y="0"/>
                      </a:lnTo>
                      <a:lnTo>
                        <a:pt x="0" y="0"/>
                      </a:lnTo>
                      <a:lnTo>
                        <a:pt x="0"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Freeform 534"/>
                <p:cNvSpPr/>
                <p:nvPr/>
              </p:nvSpPr>
              <p:spPr>
                <a:xfrm flipH="1">
                  <a:off x="256320" y="1448280"/>
                  <a:ext cx="36720" cy="2880"/>
                </a:xfrm>
                <a:custGeom>
                  <a:avLst/>
                  <a:gdLst>
                    <a:gd name="textAreaLeft" fmla="*/ 360 w 36720"/>
                    <a:gd name="textAreaRight" fmla="*/ 37440 w 36720"/>
                    <a:gd name="textAreaTop" fmla="*/ 0 h 2880"/>
                    <a:gd name="textAreaBottom" fmla="*/ 3240 h 2880"/>
                  </a:gdLst>
                  <a:ahLst/>
                  <a:rect l="textAreaLeft" t="textAreaTop" r="textAreaRight" b="textAreaBottom"/>
                  <a:pathLst>
                    <a:path w="184" h="15">
                      <a:moveTo>
                        <a:pt x="0" y="15"/>
                      </a:moveTo>
                      <a:lnTo>
                        <a:pt x="17" y="15"/>
                      </a:lnTo>
                      <a:lnTo>
                        <a:pt x="25" y="15"/>
                      </a:lnTo>
                      <a:lnTo>
                        <a:pt x="34" y="15"/>
                      </a:lnTo>
                      <a:lnTo>
                        <a:pt x="50" y="15"/>
                      </a:lnTo>
                      <a:lnTo>
                        <a:pt x="59" y="15"/>
                      </a:lnTo>
                      <a:lnTo>
                        <a:pt x="67" y="15"/>
                      </a:lnTo>
                      <a:lnTo>
                        <a:pt x="84" y="15"/>
                      </a:lnTo>
                      <a:lnTo>
                        <a:pt x="92" y="15"/>
                      </a:lnTo>
                      <a:lnTo>
                        <a:pt x="100" y="15"/>
                      </a:lnTo>
                      <a:lnTo>
                        <a:pt x="117" y="15"/>
                      </a:lnTo>
                      <a:lnTo>
                        <a:pt x="126" y="15"/>
                      </a:lnTo>
                      <a:lnTo>
                        <a:pt x="142" y="15"/>
                      </a:lnTo>
                      <a:lnTo>
                        <a:pt x="151" y="15"/>
                      </a:lnTo>
                      <a:lnTo>
                        <a:pt x="159" y="15"/>
                      </a:lnTo>
                      <a:lnTo>
                        <a:pt x="167" y="15"/>
                      </a:lnTo>
                      <a:lnTo>
                        <a:pt x="184" y="15"/>
                      </a:lnTo>
                      <a:lnTo>
                        <a:pt x="184" y="0"/>
                      </a:lnTo>
                      <a:lnTo>
                        <a:pt x="167" y="0"/>
                      </a:lnTo>
                      <a:lnTo>
                        <a:pt x="159" y="0"/>
                      </a:lnTo>
                      <a:lnTo>
                        <a:pt x="151" y="0"/>
                      </a:lnTo>
                      <a:lnTo>
                        <a:pt x="142" y="0"/>
                      </a:lnTo>
                      <a:lnTo>
                        <a:pt x="126" y="0"/>
                      </a:lnTo>
                      <a:lnTo>
                        <a:pt x="117" y="0"/>
                      </a:lnTo>
                      <a:lnTo>
                        <a:pt x="100" y="0"/>
                      </a:lnTo>
                      <a:lnTo>
                        <a:pt x="92" y="0"/>
                      </a:lnTo>
                      <a:lnTo>
                        <a:pt x="84" y="0"/>
                      </a:lnTo>
                      <a:lnTo>
                        <a:pt x="67" y="0"/>
                      </a:lnTo>
                      <a:lnTo>
                        <a:pt x="59" y="0"/>
                      </a:lnTo>
                      <a:lnTo>
                        <a:pt x="50" y="0"/>
                      </a:lnTo>
                      <a:lnTo>
                        <a:pt x="34" y="0"/>
                      </a:lnTo>
                      <a:lnTo>
                        <a:pt x="25" y="0"/>
                      </a:lnTo>
                      <a:lnTo>
                        <a:pt x="17" y="0"/>
                      </a:lnTo>
                      <a:lnTo>
                        <a:pt x="0"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Freeform 533"/>
                <p:cNvSpPr/>
                <p:nvPr/>
              </p:nvSpPr>
              <p:spPr>
                <a:xfrm flipH="1">
                  <a:off x="256320" y="1448280"/>
                  <a:ext cx="36720" cy="2880"/>
                </a:xfrm>
                <a:custGeom>
                  <a:avLst/>
                  <a:gdLst>
                    <a:gd name="textAreaLeft" fmla="*/ 360 w 36720"/>
                    <a:gd name="textAreaRight" fmla="*/ 37440 w 36720"/>
                    <a:gd name="textAreaTop" fmla="*/ 0 h 2880"/>
                    <a:gd name="textAreaBottom" fmla="*/ 3240 h 2880"/>
                  </a:gdLst>
                  <a:ahLst/>
                  <a:rect l="textAreaLeft" t="textAreaTop" r="textAreaRight" b="textAreaBottom"/>
                  <a:pathLst>
                    <a:path w="184" h="15">
                      <a:moveTo>
                        <a:pt x="0" y="15"/>
                      </a:moveTo>
                      <a:lnTo>
                        <a:pt x="17" y="15"/>
                      </a:lnTo>
                      <a:lnTo>
                        <a:pt x="25" y="15"/>
                      </a:lnTo>
                      <a:lnTo>
                        <a:pt x="34" y="15"/>
                      </a:lnTo>
                      <a:lnTo>
                        <a:pt x="50" y="15"/>
                      </a:lnTo>
                      <a:lnTo>
                        <a:pt x="59" y="15"/>
                      </a:lnTo>
                      <a:lnTo>
                        <a:pt x="67" y="15"/>
                      </a:lnTo>
                      <a:lnTo>
                        <a:pt x="84" y="15"/>
                      </a:lnTo>
                      <a:lnTo>
                        <a:pt x="92" y="15"/>
                      </a:lnTo>
                      <a:lnTo>
                        <a:pt x="100" y="15"/>
                      </a:lnTo>
                      <a:lnTo>
                        <a:pt x="117" y="15"/>
                      </a:lnTo>
                      <a:lnTo>
                        <a:pt x="126" y="15"/>
                      </a:lnTo>
                      <a:lnTo>
                        <a:pt x="142" y="15"/>
                      </a:lnTo>
                      <a:lnTo>
                        <a:pt x="151" y="15"/>
                      </a:lnTo>
                      <a:lnTo>
                        <a:pt x="159" y="15"/>
                      </a:lnTo>
                      <a:lnTo>
                        <a:pt x="167" y="15"/>
                      </a:lnTo>
                      <a:lnTo>
                        <a:pt x="184" y="15"/>
                      </a:lnTo>
                      <a:lnTo>
                        <a:pt x="184" y="0"/>
                      </a:lnTo>
                      <a:lnTo>
                        <a:pt x="167" y="0"/>
                      </a:lnTo>
                      <a:lnTo>
                        <a:pt x="159" y="0"/>
                      </a:lnTo>
                      <a:lnTo>
                        <a:pt x="151" y="0"/>
                      </a:lnTo>
                      <a:lnTo>
                        <a:pt x="142" y="0"/>
                      </a:lnTo>
                      <a:lnTo>
                        <a:pt x="126" y="0"/>
                      </a:lnTo>
                      <a:lnTo>
                        <a:pt x="117" y="0"/>
                      </a:lnTo>
                      <a:lnTo>
                        <a:pt x="100" y="0"/>
                      </a:lnTo>
                      <a:lnTo>
                        <a:pt x="92" y="0"/>
                      </a:lnTo>
                      <a:lnTo>
                        <a:pt x="84" y="0"/>
                      </a:lnTo>
                      <a:lnTo>
                        <a:pt x="67" y="0"/>
                      </a:lnTo>
                      <a:lnTo>
                        <a:pt x="59" y="0"/>
                      </a:lnTo>
                      <a:lnTo>
                        <a:pt x="50" y="0"/>
                      </a:lnTo>
                      <a:lnTo>
                        <a:pt x="34" y="0"/>
                      </a:lnTo>
                      <a:lnTo>
                        <a:pt x="25" y="0"/>
                      </a:lnTo>
                      <a:lnTo>
                        <a:pt x="17" y="0"/>
                      </a:lnTo>
                      <a:lnTo>
                        <a:pt x="0" y="0"/>
                      </a:lnTo>
                      <a:lnTo>
                        <a:pt x="0"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Freeform 532"/>
                <p:cNvSpPr/>
                <p:nvPr/>
              </p:nvSpPr>
              <p:spPr>
                <a:xfrm flipH="1">
                  <a:off x="256680" y="144828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8" y="0"/>
                      </a:moveTo>
                      <a:lnTo>
                        <a:pt x="0" y="0"/>
                      </a:lnTo>
                      <a:lnTo>
                        <a:pt x="0" y="8"/>
                      </a:lnTo>
                      <a:lnTo>
                        <a:pt x="0" y="15"/>
                      </a:lnTo>
                      <a:lnTo>
                        <a:pt x="8" y="15"/>
                      </a:lnTo>
                      <a:lnTo>
                        <a:pt x="8"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Freeform 531"/>
                <p:cNvSpPr/>
                <p:nvPr/>
              </p:nvSpPr>
              <p:spPr>
                <a:xfrm flipH="1">
                  <a:off x="256680" y="144828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8" y="0"/>
                      </a:moveTo>
                      <a:lnTo>
                        <a:pt x="0" y="0"/>
                      </a:lnTo>
                      <a:lnTo>
                        <a:pt x="0" y="8"/>
                      </a:lnTo>
                      <a:lnTo>
                        <a:pt x="0" y="15"/>
                      </a:lnTo>
                      <a:lnTo>
                        <a:pt x="8" y="15"/>
                      </a:lnTo>
                      <a:lnTo>
                        <a:pt x="8" y="0"/>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Freeform 530"/>
                <p:cNvSpPr/>
                <p:nvPr/>
              </p:nvSpPr>
              <p:spPr>
                <a:xfrm flipH="1">
                  <a:off x="254880" y="145764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0" y="15"/>
                      </a:moveTo>
                      <a:lnTo>
                        <a:pt x="8" y="15"/>
                      </a:lnTo>
                      <a:lnTo>
                        <a:pt x="8" y="8"/>
                      </a:lnTo>
                      <a:lnTo>
                        <a:pt x="8" y="0"/>
                      </a:lnTo>
                      <a:lnTo>
                        <a:pt x="0"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Freeform 529"/>
                <p:cNvSpPr/>
                <p:nvPr/>
              </p:nvSpPr>
              <p:spPr>
                <a:xfrm flipH="1">
                  <a:off x="254880" y="145764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0" y="15"/>
                      </a:moveTo>
                      <a:lnTo>
                        <a:pt x="8" y="15"/>
                      </a:lnTo>
                      <a:lnTo>
                        <a:pt x="8" y="8"/>
                      </a:lnTo>
                      <a:lnTo>
                        <a:pt x="8" y="0"/>
                      </a:lnTo>
                      <a:lnTo>
                        <a:pt x="0" y="0"/>
                      </a:lnTo>
                      <a:lnTo>
                        <a:pt x="0"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Freeform 528"/>
                <p:cNvSpPr/>
                <p:nvPr/>
              </p:nvSpPr>
              <p:spPr>
                <a:xfrm flipH="1">
                  <a:off x="256680" y="1457640"/>
                  <a:ext cx="38160" cy="2880"/>
                </a:xfrm>
                <a:custGeom>
                  <a:avLst/>
                  <a:gdLst>
                    <a:gd name="textAreaLeft" fmla="*/ 360 w 38160"/>
                    <a:gd name="textAreaRight" fmla="*/ 38880 w 38160"/>
                    <a:gd name="textAreaTop" fmla="*/ 0 h 2880"/>
                    <a:gd name="textAreaBottom" fmla="*/ 3240 h 2880"/>
                  </a:gdLst>
                  <a:ahLst/>
                  <a:rect l="textAreaLeft" t="textAreaTop" r="textAreaRight" b="textAreaBottom"/>
                  <a:pathLst>
                    <a:path w="192" h="15">
                      <a:moveTo>
                        <a:pt x="0" y="15"/>
                      </a:moveTo>
                      <a:lnTo>
                        <a:pt x="17" y="15"/>
                      </a:lnTo>
                      <a:lnTo>
                        <a:pt x="25" y="15"/>
                      </a:lnTo>
                      <a:lnTo>
                        <a:pt x="42" y="15"/>
                      </a:lnTo>
                      <a:lnTo>
                        <a:pt x="50" y="15"/>
                      </a:lnTo>
                      <a:lnTo>
                        <a:pt x="58" y="15"/>
                      </a:lnTo>
                      <a:lnTo>
                        <a:pt x="75" y="15"/>
                      </a:lnTo>
                      <a:lnTo>
                        <a:pt x="83" y="15"/>
                      </a:lnTo>
                      <a:lnTo>
                        <a:pt x="100" y="15"/>
                      </a:lnTo>
                      <a:lnTo>
                        <a:pt x="108" y="15"/>
                      </a:lnTo>
                      <a:lnTo>
                        <a:pt x="125" y="15"/>
                      </a:lnTo>
                      <a:lnTo>
                        <a:pt x="134" y="15"/>
                      </a:lnTo>
                      <a:lnTo>
                        <a:pt x="142" y="15"/>
                      </a:lnTo>
                      <a:lnTo>
                        <a:pt x="159" y="15"/>
                      </a:lnTo>
                      <a:lnTo>
                        <a:pt x="167" y="15"/>
                      </a:lnTo>
                      <a:lnTo>
                        <a:pt x="175" y="15"/>
                      </a:lnTo>
                      <a:lnTo>
                        <a:pt x="192" y="15"/>
                      </a:lnTo>
                      <a:lnTo>
                        <a:pt x="192" y="0"/>
                      </a:lnTo>
                      <a:lnTo>
                        <a:pt x="175" y="0"/>
                      </a:lnTo>
                      <a:lnTo>
                        <a:pt x="167" y="0"/>
                      </a:lnTo>
                      <a:lnTo>
                        <a:pt x="159" y="0"/>
                      </a:lnTo>
                      <a:lnTo>
                        <a:pt x="142" y="0"/>
                      </a:lnTo>
                      <a:lnTo>
                        <a:pt x="134" y="0"/>
                      </a:lnTo>
                      <a:lnTo>
                        <a:pt x="125" y="0"/>
                      </a:lnTo>
                      <a:lnTo>
                        <a:pt x="108" y="0"/>
                      </a:lnTo>
                      <a:lnTo>
                        <a:pt x="100" y="0"/>
                      </a:lnTo>
                      <a:lnTo>
                        <a:pt x="83" y="0"/>
                      </a:lnTo>
                      <a:lnTo>
                        <a:pt x="75" y="0"/>
                      </a:lnTo>
                      <a:lnTo>
                        <a:pt x="58" y="0"/>
                      </a:lnTo>
                      <a:lnTo>
                        <a:pt x="50" y="0"/>
                      </a:lnTo>
                      <a:lnTo>
                        <a:pt x="42" y="0"/>
                      </a:lnTo>
                      <a:lnTo>
                        <a:pt x="25" y="0"/>
                      </a:lnTo>
                      <a:lnTo>
                        <a:pt x="17" y="0"/>
                      </a:lnTo>
                      <a:lnTo>
                        <a:pt x="0"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Freeform 527"/>
                <p:cNvSpPr/>
                <p:nvPr/>
              </p:nvSpPr>
              <p:spPr>
                <a:xfrm flipH="1">
                  <a:off x="256680" y="1457640"/>
                  <a:ext cx="38160" cy="2880"/>
                </a:xfrm>
                <a:custGeom>
                  <a:avLst/>
                  <a:gdLst>
                    <a:gd name="textAreaLeft" fmla="*/ 360 w 38160"/>
                    <a:gd name="textAreaRight" fmla="*/ 38880 w 38160"/>
                    <a:gd name="textAreaTop" fmla="*/ 0 h 2880"/>
                    <a:gd name="textAreaBottom" fmla="*/ 3240 h 2880"/>
                  </a:gdLst>
                  <a:ahLst/>
                  <a:rect l="textAreaLeft" t="textAreaTop" r="textAreaRight" b="textAreaBottom"/>
                  <a:pathLst>
                    <a:path w="192" h="15">
                      <a:moveTo>
                        <a:pt x="0" y="15"/>
                      </a:moveTo>
                      <a:lnTo>
                        <a:pt x="17" y="15"/>
                      </a:lnTo>
                      <a:lnTo>
                        <a:pt x="25" y="15"/>
                      </a:lnTo>
                      <a:lnTo>
                        <a:pt x="42" y="15"/>
                      </a:lnTo>
                      <a:lnTo>
                        <a:pt x="50" y="15"/>
                      </a:lnTo>
                      <a:lnTo>
                        <a:pt x="58" y="15"/>
                      </a:lnTo>
                      <a:lnTo>
                        <a:pt x="75" y="15"/>
                      </a:lnTo>
                      <a:lnTo>
                        <a:pt x="83" y="15"/>
                      </a:lnTo>
                      <a:lnTo>
                        <a:pt x="100" y="15"/>
                      </a:lnTo>
                      <a:lnTo>
                        <a:pt x="108" y="15"/>
                      </a:lnTo>
                      <a:lnTo>
                        <a:pt x="125" y="15"/>
                      </a:lnTo>
                      <a:lnTo>
                        <a:pt x="134" y="15"/>
                      </a:lnTo>
                      <a:lnTo>
                        <a:pt x="142" y="15"/>
                      </a:lnTo>
                      <a:lnTo>
                        <a:pt x="159" y="15"/>
                      </a:lnTo>
                      <a:lnTo>
                        <a:pt x="167" y="15"/>
                      </a:lnTo>
                      <a:lnTo>
                        <a:pt x="175" y="15"/>
                      </a:lnTo>
                      <a:lnTo>
                        <a:pt x="192" y="15"/>
                      </a:lnTo>
                      <a:lnTo>
                        <a:pt x="192" y="0"/>
                      </a:lnTo>
                      <a:lnTo>
                        <a:pt x="175" y="0"/>
                      </a:lnTo>
                      <a:lnTo>
                        <a:pt x="167" y="0"/>
                      </a:lnTo>
                      <a:lnTo>
                        <a:pt x="159" y="0"/>
                      </a:lnTo>
                      <a:lnTo>
                        <a:pt x="142" y="0"/>
                      </a:lnTo>
                      <a:lnTo>
                        <a:pt x="134" y="0"/>
                      </a:lnTo>
                      <a:lnTo>
                        <a:pt x="125" y="0"/>
                      </a:lnTo>
                      <a:lnTo>
                        <a:pt x="108" y="0"/>
                      </a:lnTo>
                      <a:lnTo>
                        <a:pt x="100" y="0"/>
                      </a:lnTo>
                      <a:lnTo>
                        <a:pt x="83" y="0"/>
                      </a:lnTo>
                      <a:lnTo>
                        <a:pt x="75" y="0"/>
                      </a:lnTo>
                      <a:lnTo>
                        <a:pt x="58" y="0"/>
                      </a:lnTo>
                      <a:lnTo>
                        <a:pt x="50" y="0"/>
                      </a:lnTo>
                      <a:lnTo>
                        <a:pt x="42" y="0"/>
                      </a:lnTo>
                      <a:lnTo>
                        <a:pt x="25" y="0"/>
                      </a:lnTo>
                      <a:lnTo>
                        <a:pt x="17" y="0"/>
                      </a:lnTo>
                      <a:lnTo>
                        <a:pt x="0" y="0"/>
                      </a:lnTo>
                      <a:lnTo>
                        <a:pt x="0"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9" name="Freeform 526"/>
                <p:cNvSpPr/>
                <p:nvPr/>
              </p:nvSpPr>
              <p:spPr>
                <a:xfrm flipH="1">
                  <a:off x="256680" y="145764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8" y="0"/>
                      </a:moveTo>
                      <a:lnTo>
                        <a:pt x="0" y="0"/>
                      </a:lnTo>
                      <a:lnTo>
                        <a:pt x="0" y="8"/>
                      </a:lnTo>
                      <a:lnTo>
                        <a:pt x="0" y="15"/>
                      </a:lnTo>
                      <a:lnTo>
                        <a:pt x="8" y="15"/>
                      </a:lnTo>
                      <a:lnTo>
                        <a:pt x="8"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Freeform 525"/>
                <p:cNvSpPr/>
                <p:nvPr/>
              </p:nvSpPr>
              <p:spPr>
                <a:xfrm flipH="1">
                  <a:off x="256680" y="145764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8" y="0"/>
                      </a:moveTo>
                      <a:lnTo>
                        <a:pt x="0" y="0"/>
                      </a:lnTo>
                      <a:lnTo>
                        <a:pt x="0" y="8"/>
                      </a:lnTo>
                      <a:lnTo>
                        <a:pt x="0" y="15"/>
                      </a:lnTo>
                      <a:lnTo>
                        <a:pt x="8" y="15"/>
                      </a:lnTo>
                      <a:lnTo>
                        <a:pt x="8" y="0"/>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Freeform 524"/>
                <p:cNvSpPr/>
                <p:nvPr/>
              </p:nvSpPr>
              <p:spPr>
                <a:xfrm flipH="1">
                  <a:off x="259920" y="146916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0" y="15"/>
                      </a:moveTo>
                      <a:lnTo>
                        <a:pt x="0" y="15"/>
                      </a:lnTo>
                      <a:lnTo>
                        <a:pt x="8" y="8"/>
                      </a:lnTo>
                      <a:lnTo>
                        <a:pt x="0"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Freeform 523"/>
                <p:cNvSpPr/>
                <p:nvPr/>
              </p:nvSpPr>
              <p:spPr>
                <a:xfrm flipH="1">
                  <a:off x="259920" y="1469160"/>
                  <a:ext cx="1440" cy="2880"/>
                </a:xfrm>
                <a:custGeom>
                  <a:avLst/>
                  <a:gdLst>
                    <a:gd name="textAreaLeft" fmla="*/ 360 w 1440"/>
                    <a:gd name="textAreaRight" fmla="*/ 2160 w 1440"/>
                    <a:gd name="textAreaTop" fmla="*/ 0 h 2880"/>
                    <a:gd name="textAreaBottom" fmla="*/ 3240 h 2880"/>
                  </a:gdLst>
                  <a:ahLst/>
                  <a:rect l="textAreaLeft" t="textAreaTop" r="textAreaRight" b="textAreaBottom"/>
                  <a:pathLst>
                    <a:path w="8" h="15">
                      <a:moveTo>
                        <a:pt x="0" y="15"/>
                      </a:moveTo>
                      <a:lnTo>
                        <a:pt x="0" y="15"/>
                      </a:lnTo>
                      <a:lnTo>
                        <a:pt x="8" y="8"/>
                      </a:lnTo>
                      <a:lnTo>
                        <a:pt x="0" y="0"/>
                      </a:lnTo>
                      <a:lnTo>
                        <a:pt x="0"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Freeform 522"/>
                <p:cNvSpPr/>
                <p:nvPr/>
              </p:nvSpPr>
              <p:spPr>
                <a:xfrm flipH="1">
                  <a:off x="261360" y="1469160"/>
                  <a:ext cx="31680" cy="2880"/>
                </a:xfrm>
                <a:custGeom>
                  <a:avLst/>
                  <a:gdLst>
                    <a:gd name="textAreaLeft" fmla="*/ 360 w 31680"/>
                    <a:gd name="textAreaRight" fmla="*/ 32400 w 31680"/>
                    <a:gd name="textAreaTop" fmla="*/ 0 h 2880"/>
                    <a:gd name="textAreaBottom" fmla="*/ 3240 h 2880"/>
                  </a:gdLst>
                  <a:ahLst/>
                  <a:rect l="textAreaLeft" t="textAreaTop" r="textAreaRight" b="textAreaBottom"/>
                  <a:pathLst>
                    <a:path w="159" h="15">
                      <a:moveTo>
                        <a:pt x="0" y="15"/>
                      </a:moveTo>
                      <a:lnTo>
                        <a:pt x="9" y="15"/>
                      </a:lnTo>
                      <a:lnTo>
                        <a:pt x="17" y="15"/>
                      </a:lnTo>
                      <a:lnTo>
                        <a:pt x="25" y="15"/>
                      </a:lnTo>
                      <a:lnTo>
                        <a:pt x="34" y="15"/>
                      </a:lnTo>
                      <a:lnTo>
                        <a:pt x="42" y="15"/>
                      </a:lnTo>
                      <a:lnTo>
                        <a:pt x="59" y="15"/>
                      </a:lnTo>
                      <a:lnTo>
                        <a:pt x="67" y="15"/>
                      </a:lnTo>
                      <a:lnTo>
                        <a:pt x="75" y="15"/>
                      </a:lnTo>
                      <a:lnTo>
                        <a:pt x="84" y="15"/>
                      </a:lnTo>
                      <a:lnTo>
                        <a:pt x="92" y="15"/>
                      </a:lnTo>
                      <a:lnTo>
                        <a:pt x="109" y="15"/>
                      </a:lnTo>
                      <a:lnTo>
                        <a:pt x="117" y="15"/>
                      </a:lnTo>
                      <a:lnTo>
                        <a:pt x="126" y="15"/>
                      </a:lnTo>
                      <a:lnTo>
                        <a:pt x="134" y="15"/>
                      </a:lnTo>
                      <a:lnTo>
                        <a:pt x="142" y="15"/>
                      </a:lnTo>
                      <a:lnTo>
                        <a:pt x="159" y="15"/>
                      </a:lnTo>
                      <a:lnTo>
                        <a:pt x="159" y="0"/>
                      </a:lnTo>
                      <a:lnTo>
                        <a:pt x="142" y="0"/>
                      </a:lnTo>
                      <a:lnTo>
                        <a:pt x="134" y="0"/>
                      </a:lnTo>
                      <a:lnTo>
                        <a:pt x="126" y="0"/>
                      </a:lnTo>
                      <a:lnTo>
                        <a:pt x="117" y="0"/>
                      </a:lnTo>
                      <a:lnTo>
                        <a:pt x="109" y="0"/>
                      </a:lnTo>
                      <a:lnTo>
                        <a:pt x="92" y="0"/>
                      </a:lnTo>
                      <a:lnTo>
                        <a:pt x="84" y="0"/>
                      </a:lnTo>
                      <a:lnTo>
                        <a:pt x="75" y="0"/>
                      </a:lnTo>
                      <a:lnTo>
                        <a:pt x="67" y="0"/>
                      </a:lnTo>
                      <a:lnTo>
                        <a:pt x="59" y="0"/>
                      </a:lnTo>
                      <a:lnTo>
                        <a:pt x="42" y="0"/>
                      </a:lnTo>
                      <a:lnTo>
                        <a:pt x="34" y="0"/>
                      </a:lnTo>
                      <a:lnTo>
                        <a:pt x="25" y="0"/>
                      </a:lnTo>
                      <a:lnTo>
                        <a:pt x="17" y="0"/>
                      </a:lnTo>
                      <a:lnTo>
                        <a:pt x="9" y="0"/>
                      </a:lnTo>
                      <a:lnTo>
                        <a:pt x="0"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Freeform 521"/>
                <p:cNvSpPr/>
                <p:nvPr/>
              </p:nvSpPr>
              <p:spPr>
                <a:xfrm flipH="1">
                  <a:off x="261360" y="1469160"/>
                  <a:ext cx="31680" cy="2880"/>
                </a:xfrm>
                <a:custGeom>
                  <a:avLst/>
                  <a:gdLst>
                    <a:gd name="textAreaLeft" fmla="*/ 360 w 31680"/>
                    <a:gd name="textAreaRight" fmla="*/ 32400 w 31680"/>
                    <a:gd name="textAreaTop" fmla="*/ 0 h 2880"/>
                    <a:gd name="textAreaBottom" fmla="*/ 3240 h 2880"/>
                  </a:gdLst>
                  <a:ahLst/>
                  <a:rect l="textAreaLeft" t="textAreaTop" r="textAreaRight" b="textAreaBottom"/>
                  <a:pathLst>
                    <a:path w="159" h="15">
                      <a:moveTo>
                        <a:pt x="0" y="15"/>
                      </a:moveTo>
                      <a:lnTo>
                        <a:pt x="9" y="15"/>
                      </a:lnTo>
                      <a:lnTo>
                        <a:pt x="17" y="15"/>
                      </a:lnTo>
                      <a:lnTo>
                        <a:pt x="25" y="15"/>
                      </a:lnTo>
                      <a:lnTo>
                        <a:pt x="34" y="15"/>
                      </a:lnTo>
                      <a:lnTo>
                        <a:pt x="42" y="15"/>
                      </a:lnTo>
                      <a:lnTo>
                        <a:pt x="59" y="15"/>
                      </a:lnTo>
                      <a:lnTo>
                        <a:pt x="67" y="15"/>
                      </a:lnTo>
                      <a:lnTo>
                        <a:pt x="75" y="15"/>
                      </a:lnTo>
                      <a:lnTo>
                        <a:pt x="84" y="15"/>
                      </a:lnTo>
                      <a:lnTo>
                        <a:pt x="92" y="15"/>
                      </a:lnTo>
                      <a:lnTo>
                        <a:pt x="109" y="15"/>
                      </a:lnTo>
                      <a:lnTo>
                        <a:pt x="117" y="15"/>
                      </a:lnTo>
                      <a:lnTo>
                        <a:pt x="126" y="15"/>
                      </a:lnTo>
                      <a:lnTo>
                        <a:pt x="134" y="15"/>
                      </a:lnTo>
                      <a:lnTo>
                        <a:pt x="142" y="15"/>
                      </a:lnTo>
                      <a:lnTo>
                        <a:pt x="159" y="15"/>
                      </a:lnTo>
                      <a:lnTo>
                        <a:pt x="159" y="0"/>
                      </a:lnTo>
                      <a:lnTo>
                        <a:pt x="142" y="0"/>
                      </a:lnTo>
                      <a:lnTo>
                        <a:pt x="134" y="0"/>
                      </a:lnTo>
                      <a:lnTo>
                        <a:pt x="126" y="0"/>
                      </a:lnTo>
                      <a:lnTo>
                        <a:pt x="117" y="0"/>
                      </a:lnTo>
                      <a:lnTo>
                        <a:pt x="109" y="0"/>
                      </a:lnTo>
                      <a:lnTo>
                        <a:pt x="92" y="0"/>
                      </a:lnTo>
                      <a:lnTo>
                        <a:pt x="84" y="0"/>
                      </a:lnTo>
                      <a:lnTo>
                        <a:pt x="75" y="0"/>
                      </a:lnTo>
                      <a:lnTo>
                        <a:pt x="67" y="0"/>
                      </a:lnTo>
                      <a:lnTo>
                        <a:pt x="59" y="0"/>
                      </a:lnTo>
                      <a:lnTo>
                        <a:pt x="42" y="0"/>
                      </a:lnTo>
                      <a:lnTo>
                        <a:pt x="34" y="0"/>
                      </a:lnTo>
                      <a:lnTo>
                        <a:pt x="25" y="0"/>
                      </a:lnTo>
                      <a:lnTo>
                        <a:pt x="17" y="0"/>
                      </a:lnTo>
                      <a:lnTo>
                        <a:pt x="9" y="0"/>
                      </a:lnTo>
                      <a:lnTo>
                        <a:pt x="0" y="0"/>
                      </a:lnTo>
                      <a:lnTo>
                        <a:pt x="0"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Freeform 520"/>
                <p:cNvSpPr/>
                <p:nvPr/>
              </p:nvSpPr>
              <p:spPr>
                <a:xfrm flipH="1">
                  <a:off x="261360" y="146916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0"/>
                      </a:moveTo>
                      <a:lnTo>
                        <a:pt x="9" y="0"/>
                      </a:lnTo>
                      <a:lnTo>
                        <a:pt x="0" y="8"/>
                      </a:lnTo>
                      <a:lnTo>
                        <a:pt x="9" y="15"/>
                      </a:lnTo>
                      <a:lnTo>
                        <a:pt x="17" y="15"/>
                      </a:lnTo>
                      <a:lnTo>
                        <a:pt x="17"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Freeform 519"/>
                <p:cNvSpPr/>
                <p:nvPr/>
              </p:nvSpPr>
              <p:spPr>
                <a:xfrm flipH="1">
                  <a:off x="261360" y="146916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0"/>
                      </a:moveTo>
                      <a:lnTo>
                        <a:pt x="9" y="0"/>
                      </a:lnTo>
                      <a:lnTo>
                        <a:pt x="0" y="8"/>
                      </a:lnTo>
                      <a:lnTo>
                        <a:pt x="9" y="15"/>
                      </a:lnTo>
                      <a:lnTo>
                        <a:pt x="17" y="15"/>
                      </a:lnTo>
                      <a:lnTo>
                        <a:pt x="17" y="0"/>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Freeform 518"/>
                <p:cNvSpPr/>
                <p:nvPr/>
              </p:nvSpPr>
              <p:spPr>
                <a:xfrm flipH="1">
                  <a:off x="285840" y="1411200"/>
                  <a:ext cx="502200" cy="203040"/>
                </a:xfrm>
                <a:custGeom>
                  <a:avLst/>
                  <a:gdLst>
                    <a:gd name="textAreaLeft" fmla="*/ 0 w 502200"/>
                    <a:gd name="textAreaRight" fmla="*/ 502200 w 502200"/>
                    <a:gd name="textAreaTop" fmla="*/ 0 h 203040"/>
                    <a:gd name="textAreaBottom" fmla="*/ 203400 h 203040"/>
                  </a:gdLst>
                  <a:ahLst/>
                  <a:rect l="textAreaLeft" t="textAreaTop" r="textAreaRight" b="textAreaBottom"/>
                  <a:pathLst>
                    <a:path w="2516" h="969">
                      <a:moveTo>
                        <a:pt x="2491" y="0"/>
                      </a:moveTo>
                      <a:lnTo>
                        <a:pt x="2499" y="15"/>
                      </a:lnTo>
                      <a:lnTo>
                        <a:pt x="2499" y="23"/>
                      </a:lnTo>
                      <a:lnTo>
                        <a:pt x="2507" y="38"/>
                      </a:lnTo>
                      <a:lnTo>
                        <a:pt x="2507" y="54"/>
                      </a:lnTo>
                      <a:lnTo>
                        <a:pt x="2516" y="92"/>
                      </a:lnTo>
                      <a:lnTo>
                        <a:pt x="2516" y="131"/>
                      </a:lnTo>
                      <a:lnTo>
                        <a:pt x="2516" y="177"/>
                      </a:lnTo>
                      <a:lnTo>
                        <a:pt x="2516" y="223"/>
                      </a:lnTo>
                      <a:lnTo>
                        <a:pt x="2507" y="261"/>
                      </a:lnTo>
                      <a:lnTo>
                        <a:pt x="2491" y="308"/>
                      </a:lnTo>
                      <a:lnTo>
                        <a:pt x="2474" y="346"/>
                      </a:lnTo>
                      <a:lnTo>
                        <a:pt x="2449" y="385"/>
                      </a:lnTo>
                      <a:lnTo>
                        <a:pt x="2424" y="385"/>
                      </a:lnTo>
                      <a:lnTo>
                        <a:pt x="2390" y="385"/>
                      </a:lnTo>
                      <a:lnTo>
                        <a:pt x="2365" y="385"/>
                      </a:lnTo>
                      <a:lnTo>
                        <a:pt x="2340" y="385"/>
                      </a:lnTo>
                      <a:lnTo>
                        <a:pt x="2307" y="385"/>
                      </a:lnTo>
                      <a:lnTo>
                        <a:pt x="2282" y="385"/>
                      </a:lnTo>
                      <a:lnTo>
                        <a:pt x="2257" y="385"/>
                      </a:lnTo>
                      <a:lnTo>
                        <a:pt x="2231" y="385"/>
                      </a:lnTo>
                      <a:lnTo>
                        <a:pt x="2206" y="385"/>
                      </a:lnTo>
                      <a:lnTo>
                        <a:pt x="2181" y="385"/>
                      </a:lnTo>
                      <a:lnTo>
                        <a:pt x="2156" y="377"/>
                      </a:lnTo>
                      <a:lnTo>
                        <a:pt x="2131" y="377"/>
                      </a:lnTo>
                      <a:lnTo>
                        <a:pt x="2106" y="377"/>
                      </a:lnTo>
                      <a:lnTo>
                        <a:pt x="2073" y="377"/>
                      </a:lnTo>
                      <a:lnTo>
                        <a:pt x="2048" y="377"/>
                      </a:lnTo>
                      <a:lnTo>
                        <a:pt x="2023" y="377"/>
                      </a:lnTo>
                      <a:lnTo>
                        <a:pt x="1997" y="377"/>
                      </a:lnTo>
                      <a:lnTo>
                        <a:pt x="1981" y="377"/>
                      </a:lnTo>
                      <a:lnTo>
                        <a:pt x="1956" y="385"/>
                      </a:lnTo>
                      <a:lnTo>
                        <a:pt x="1939" y="392"/>
                      </a:lnTo>
                      <a:lnTo>
                        <a:pt x="1914" y="392"/>
                      </a:lnTo>
                      <a:lnTo>
                        <a:pt x="1897" y="400"/>
                      </a:lnTo>
                      <a:lnTo>
                        <a:pt x="1872" y="408"/>
                      </a:lnTo>
                      <a:lnTo>
                        <a:pt x="1855" y="415"/>
                      </a:lnTo>
                      <a:lnTo>
                        <a:pt x="1830" y="431"/>
                      </a:lnTo>
                      <a:lnTo>
                        <a:pt x="1814" y="438"/>
                      </a:lnTo>
                      <a:lnTo>
                        <a:pt x="1789" y="446"/>
                      </a:lnTo>
                      <a:lnTo>
                        <a:pt x="1763" y="454"/>
                      </a:lnTo>
                      <a:lnTo>
                        <a:pt x="1747" y="461"/>
                      </a:lnTo>
                      <a:lnTo>
                        <a:pt x="1722" y="469"/>
                      </a:lnTo>
                      <a:lnTo>
                        <a:pt x="1697" y="469"/>
                      </a:lnTo>
                      <a:lnTo>
                        <a:pt x="1672" y="477"/>
                      </a:lnTo>
                      <a:lnTo>
                        <a:pt x="1663" y="508"/>
                      </a:lnTo>
                      <a:lnTo>
                        <a:pt x="1646" y="538"/>
                      </a:lnTo>
                      <a:lnTo>
                        <a:pt x="1646" y="569"/>
                      </a:lnTo>
                      <a:lnTo>
                        <a:pt x="1630" y="592"/>
                      </a:lnTo>
                      <a:lnTo>
                        <a:pt x="1621" y="623"/>
                      </a:lnTo>
                      <a:lnTo>
                        <a:pt x="1613" y="654"/>
                      </a:lnTo>
                      <a:lnTo>
                        <a:pt x="1605" y="685"/>
                      </a:lnTo>
                      <a:lnTo>
                        <a:pt x="1596" y="708"/>
                      </a:lnTo>
                      <a:lnTo>
                        <a:pt x="1588" y="738"/>
                      </a:lnTo>
                      <a:lnTo>
                        <a:pt x="1580" y="761"/>
                      </a:lnTo>
                      <a:lnTo>
                        <a:pt x="1563" y="792"/>
                      </a:lnTo>
                      <a:lnTo>
                        <a:pt x="1555" y="823"/>
                      </a:lnTo>
                      <a:lnTo>
                        <a:pt x="1546" y="846"/>
                      </a:lnTo>
                      <a:lnTo>
                        <a:pt x="1538" y="877"/>
                      </a:lnTo>
                      <a:lnTo>
                        <a:pt x="1529" y="908"/>
                      </a:lnTo>
                      <a:lnTo>
                        <a:pt x="1521" y="931"/>
                      </a:lnTo>
                      <a:lnTo>
                        <a:pt x="1496" y="938"/>
                      </a:lnTo>
                      <a:lnTo>
                        <a:pt x="1471" y="946"/>
                      </a:lnTo>
                      <a:lnTo>
                        <a:pt x="1446" y="954"/>
                      </a:lnTo>
                      <a:lnTo>
                        <a:pt x="1421" y="954"/>
                      </a:lnTo>
                      <a:lnTo>
                        <a:pt x="1396" y="961"/>
                      </a:lnTo>
                      <a:lnTo>
                        <a:pt x="1371" y="961"/>
                      </a:lnTo>
                      <a:lnTo>
                        <a:pt x="1346" y="961"/>
                      </a:lnTo>
                      <a:lnTo>
                        <a:pt x="1321" y="969"/>
                      </a:lnTo>
                      <a:lnTo>
                        <a:pt x="1295" y="969"/>
                      </a:lnTo>
                      <a:lnTo>
                        <a:pt x="1270" y="969"/>
                      </a:lnTo>
                      <a:lnTo>
                        <a:pt x="1245" y="969"/>
                      </a:lnTo>
                      <a:lnTo>
                        <a:pt x="1220" y="961"/>
                      </a:lnTo>
                      <a:lnTo>
                        <a:pt x="1195" y="961"/>
                      </a:lnTo>
                      <a:lnTo>
                        <a:pt x="1178" y="961"/>
                      </a:lnTo>
                      <a:lnTo>
                        <a:pt x="1153" y="954"/>
                      </a:lnTo>
                      <a:lnTo>
                        <a:pt x="1128" y="954"/>
                      </a:lnTo>
                      <a:lnTo>
                        <a:pt x="1120" y="946"/>
                      </a:lnTo>
                      <a:lnTo>
                        <a:pt x="1112" y="946"/>
                      </a:lnTo>
                      <a:lnTo>
                        <a:pt x="1095" y="938"/>
                      </a:lnTo>
                      <a:lnTo>
                        <a:pt x="1078" y="931"/>
                      </a:lnTo>
                      <a:lnTo>
                        <a:pt x="1070" y="923"/>
                      </a:lnTo>
                      <a:lnTo>
                        <a:pt x="1061" y="915"/>
                      </a:lnTo>
                      <a:lnTo>
                        <a:pt x="1053" y="900"/>
                      </a:lnTo>
                      <a:lnTo>
                        <a:pt x="1045" y="892"/>
                      </a:lnTo>
                      <a:lnTo>
                        <a:pt x="1028" y="877"/>
                      </a:lnTo>
                      <a:lnTo>
                        <a:pt x="1020" y="854"/>
                      </a:lnTo>
                      <a:lnTo>
                        <a:pt x="1011" y="831"/>
                      </a:lnTo>
                      <a:lnTo>
                        <a:pt x="995" y="815"/>
                      </a:lnTo>
                      <a:lnTo>
                        <a:pt x="986" y="792"/>
                      </a:lnTo>
                      <a:lnTo>
                        <a:pt x="970" y="777"/>
                      </a:lnTo>
                      <a:lnTo>
                        <a:pt x="961" y="754"/>
                      </a:lnTo>
                      <a:lnTo>
                        <a:pt x="953" y="731"/>
                      </a:lnTo>
                      <a:lnTo>
                        <a:pt x="944" y="715"/>
                      </a:lnTo>
                      <a:lnTo>
                        <a:pt x="936" y="692"/>
                      </a:lnTo>
                      <a:lnTo>
                        <a:pt x="919" y="677"/>
                      </a:lnTo>
                      <a:lnTo>
                        <a:pt x="919" y="654"/>
                      </a:lnTo>
                      <a:lnTo>
                        <a:pt x="911" y="631"/>
                      </a:lnTo>
                      <a:lnTo>
                        <a:pt x="903" y="608"/>
                      </a:lnTo>
                      <a:lnTo>
                        <a:pt x="894" y="592"/>
                      </a:lnTo>
                      <a:lnTo>
                        <a:pt x="886" y="561"/>
                      </a:lnTo>
                      <a:lnTo>
                        <a:pt x="878" y="569"/>
                      </a:lnTo>
                      <a:lnTo>
                        <a:pt x="869" y="569"/>
                      </a:lnTo>
                      <a:lnTo>
                        <a:pt x="853" y="569"/>
                      </a:lnTo>
                      <a:lnTo>
                        <a:pt x="844" y="577"/>
                      </a:lnTo>
                      <a:lnTo>
                        <a:pt x="827" y="577"/>
                      </a:lnTo>
                      <a:lnTo>
                        <a:pt x="819" y="577"/>
                      </a:lnTo>
                      <a:lnTo>
                        <a:pt x="802" y="577"/>
                      </a:lnTo>
                      <a:lnTo>
                        <a:pt x="786" y="577"/>
                      </a:lnTo>
                      <a:lnTo>
                        <a:pt x="777" y="577"/>
                      </a:lnTo>
                      <a:lnTo>
                        <a:pt x="761" y="577"/>
                      </a:lnTo>
                      <a:lnTo>
                        <a:pt x="752" y="577"/>
                      </a:lnTo>
                      <a:lnTo>
                        <a:pt x="736" y="569"/>
                      </a:lnTo>
                      <a:lnTo>
                        <a:pt x="727" y="569"/>
                      </a:lnTo>
                      <a:lnTo>
                        <a:pt x="710" y="569"/>
                      </a:lnTo>
                      <a:lnTo>
                        <a:pt x="702" y="561"/>
                      </a:lnTo>
                      <a:lnTo>
                        <a:pt x="685" y="561"/>
                      </a:lnTo>
                      <a:lnTo>
                        <a:pt x="677" y="554"/>
                      </a:lnTo>
                      <a:lnTo>
                        <a:pt x="669" y="554"/>
                      </a:lnTo>
                      <a:lnTo>
                        <a:pt x="652" y="546"/>
                      </a:lnTo>
                      <a:lnTo>
                        <a:pt x="644" y="538"/>
                      </a:lnTo>
                      <a:lnTo>
                        <a:pt x="635" y="531"/>
                      </a:lnTo>
                      <a:lnTo>
                        <a:pt x="627" y="531"/>
                      </a:lnTo>
                      <a:lnTo>
                        <a:pt x="619" y="523"/>
                      </a:lnTo>
                      <a:lnTo>
                        <a:pt x="610" y="515"/>
                      </a:lnTo>
                      <a:lnTo>
                        <a:pt x="602" y="508"/>
                      </a:lnTo>
                      <a:lnTo>
                        <a:pt x="593" y="500"/>
                      </a:lnTo>
                      <a:lnTo>
                        <a:pt x="585" y="492"/>
                      </a:lnTo>
                      <a:lnTo>
                        <a:pt x="577" y="485"/>
                      </a:lnTo>
                      <a:lnTo>
                        <a:pt x="577" y="469"/>
                      </a:lnTo>
                      <a:lnTo>
                        <a:pt x="568" y="461"/>
                      </a:lnTo>
                      <a:lnTo>
                        <a:pt x="560" y="454"/>
                      </a:lnTo>
                      <a:lnTo>
                        <a:pt x="552" y="438"/>
                      </a:lnTo>
                      <a:lnTo>
                        <a:pt x="535" y="438"/>
                      </a:lnTo>
                      <a:lnTo>
                        <a:pt x="518" y="438"/>
                      </a:lnTo>
                      <a:lnTo>
                        <a:pt x="502" y="438"/>
                      </a:lnTo>
                      <a:lnTo>
                        <a:pt x="485" y="438"/>
                      </a:lnTo>
                      <a:lnTo>
                        <a:pt x="468" y="438"/>
                      </a:lnTo>
                      <a:lnTo>
                        <a:pt x="451" y="438"/>
                      </a:lnTo>
                      <a:lnTo>
                        <a:pt x="435" y="438"/>
                      </a:lnTo>
                      <a:lnTo>
                        <a:pt x="418" y="431"/>
                      </a:lnTo>
                      <a:lnTo>
                        <a:pt x="401" y="431"/>
                      </a:lnTo>
                      <a:lnTo>
                        <a:pt x="385" y="431"/>
                      </a:lnTo>
                      <a:lnTo>
                        <a:pt x="368" y="431"/>
                      </a:lnTo>
                      <a:lnTo>
                        <a:pt x="351" y="423"/>
                      </a:lnTo>
                      <a:lnTo>
                        <a:pt x="334" y="423"/>
                      </a:lnTo>
                      <a:lnTo>
                        <a:pt x="318" y="415"/>
                      </a:lnTo>
                      <a:lnTo>
                        <a:pt x="301" y="415"/>
                      </a:lnTo>
                      <a:lnTo>
                        <a:pt x="284" y="415"/>
                      </a:lnTo>
                      <a:lnTo>
                        <a:pt x="268" y="408"/>
                      </a:lnTo>
                      <a:lnTo>
                        <a:pt x="251" y="408"/>
                      </a:lnTo>
                      <a:lnTo>
                        <a:pt x="234" y="400"/>
                      </a:lnTo>
                      <a:lnTo>
                        <a:pt x="226" y="400"/>
                      </a:lnTo>
                      <a:lnTo>
                        <a:pt x="201" y="392"/>
                      </a:lnTo>
                      <a:lnTo>
                        <a:pt x="184" y="392"/>
                      </a:lnTo>
                      <a:lnTo>
                        <a:pt x="176" y="385"/>
                      </a:lnTo>
                      <a:lnTo>
                        <a:pt x="159" y="385"/>
                      </a:lnTo>
                      <a:lnTo>
                        <a:pt x="142" y="377"/>
                      </a:lnTo>
                      <a:lnTo>
                        <a:pt x="125" y="377"/>
                      </a:lnTo>
                      <a:lnTo>
                        <a:pt x="109" y="369"/>
                      </a:lnTo>
                      <a:lnTo>
                        <a:pt x="92" y="361"/>
                      </a:lnTo>
                      <a:lnTo>
                        <a:pt x="75" y="361"/>
                      </a:lnTo>
                      <a:lnTo>
                        <a:pt x="59" y="354"/>
                      </a:lnTo>
                      <a:lnTo>
                        <a:pt x="42" y="354"/>
                      </a:lnTo>
                      <a:lnTo>
                        <a:pt x="25" y="346"/>
                      </a:lnTo>
                      <a:lnTo>
                        <a:pt x="8" y="308"/>
                      </a:lnTo>
                      <a:lnTo>
                        <a:pt x="8" y="277"/>
                      </a:lnTo>
                      <a:lnTo>
                        <a:pt x="0" y="238"/>
                      </a:lnTo>
                      <a:lnTo>
                        <a:pt x="8" y="208"/>
                      </a:lnTo>
                      <a:lnTo>
                        <a:pt x="8" y="169"/>
                      </a:lnTo>
                      <a:lnTo>
                        <a:pt x="17" y="138"/>
                      </a:lnTo>
                      <a:lnTo>
                        <a:pt x="17" y="100"/>
                      </a:lnTo>
                      <a:lnTo>
                        <a:pt x="25" y="61"/>
                      </a:lnTo>
                      <a:lnTo>
                        <a:pt x="34" y="54"/>
                      </a:lnTo>
                      <a:lnTo>
                        <a:pt x="34" y="46"/>
                      </a:lnTo>
                      <a:lnTo>
                        <a:pt x="42" y="38"/>
                      </a:lnTo>
                      <a:lnTo>
                        <a:pt x="50" y="23"/>
                      </a:lnTo>
                      <a:lnTo>
                        <a:pt x="50" y="15"/>
                      </a:lnTo>
                      <a:lnTo>
                        <a:pt x="59" y="15"/>
                      </a:lnTo>
                      <a:lnTo>
                        <a:pt x="75" y="8"/>
                      </a:lnTo>
                      <a:lnTo>
                        <a:pt x="84" y="8"/>
                      </a:lnTo>
                      <a:lnTo>
                        <a:pt x="100" y="8"/>
                      </a:lnTo>
                      <a:lnTo>
                        <a:pt x="125" y="8"/>
                      </a:lnTo>
                      <a:lnTo>
                        <a:pt x="142" y="8"/>
                      </a:lnTo>
                      <a:lnTo>
                        <a:pt x="167" y="15"/>
                      </a:lnTo>
                      <a:lnTo>
                        <a:pt x="192" y="15"/>
                      </a:lnTo>
                      <a:lnTo>
                        <a:pt x="209" y="15"/>
                      </a:lnTo>
                      <a:lnTo>
                        <a:pt x="234" y="23"/>
                      </a:lnTo>
                      <a:lnTo>
                        <a:pt x="259" y="23"/>
                      </a:lnTo>
                      <a:lnTo>
                        <a:pt x="276" y="31"/>
                      </a:lnTo>
                      <a:lnTo>
                        <a:pt x="301" y="31"/>
                      </a:lnTo>
                      <a:lnTo>
                        <a:pt x="326" y="31"/>
                      </a:lnTo>
                      <a:lnTo>
                        <a:pt x="343" y="38"/>
                      </a:lnTo>
                      <a:lnTo>
                        <a:pt x="368" y="38"/>
                      </a:lnTo>
                      <a:lnTo>
                        <a:pt x="385" y="38"/>
                      </a:lnTo>
                      <a:lnTo>
                        <a:pt x="410" y="38"/>
                      </a:lnTo>
                      <a:lnTo>
                        <a:pt x="426" y="38"/>
                      </a:lnTo>
                      <a:lnTo>
                        <a:pt x="451" y="38"/>
                      </a:lnTo>
                      <a:lnTo>
                        <a:pt x="468" y="46"/>
                      </a:lnTo>
                      <a:lnTo>
                        <a:pt x="485" y="46"/>
                      </a:lnTo>
                      <a:lnTo>
                        <a:pt x="502" y="46"/>
                      </a:lnTo>
                      <a:lnTo>
                        <a:pt x="518" y="46"/>
                      </a:lnTo>
                      <a:lnTo>
                        <a:pt x="535" y="46"/>
                      </a:lnTo>
                      <a:lnTo>
                        <a:pt x="552" y="46"/>
                      </a:lnTo>
                      <a:lnTo>
                        <a:pt x="568" y="38"/>
                      </a:lnTo>
                      <a:lnTo>
                        <a:pt x="585" y="38"/>
                      </a:lnTo>
                      <a:lnTo>
                        <a:pt x="602" y="38"/>
                      </a:lnTo>
                      <a:lnTo>
                        <a:pt x="619" y="38"/>
                      </a:lnTo>
                      <a:lnTo>
                        <a:pt x="635" y="38"/>
                      </a:lnTo>
                      <a:lnTo>
                        <a:pt x="660" y="38"/>
                      </a:lnTo>
                      <a:lnTo>
                        <a:pt x="677" y="38"/>
                      </a:lnTo>
                      <a:lnTo>
                        <a:pt x="694" y="38"/>
                      </a:lnTo>
                      <a:lnTo>
                        <a:pt x="710" y="38"/>
                      </a:lnTo>
                      <a:lnTo>
                        <a:pt x="727" y="38"/>
                      </a:lnTo>
                      <a:lnTo>
                        <a:pt x="744" y="38"/>
                      </a:lnTo>
                      <a:lnTo>
                        <a:pt x="761" y="38"/>
                      </a:lnTo>
                      <a:lnTo>
                        <a:pt x="777" y="38"/>
                      </a:lnTo>
                      <a:lnTo>
                        <a:pt x="794" y="38"/>
                      </a:lnTo>
                      <a:lnTo>
                        <a:pt x="811" y="31"/>
                      </a:lnTo>
                      <a:lnTo>
                        <a:pt x="827" y="31"/>
                      </a:lnTo>
                      <a:lnTo>
                        <a:pt x="844" y="31"/>
                      </a:lnTo>
                      <a:lnTo>
                        <a:pt x="861" y="31"/>
                      </a:lnTo>
                      <a:lnTo>
                        <a:pt x="878" y="31"/>
                      </a:lnTo>
                      <a:lnTo>
                        <a:pt x="903" y="31"/>
                      </a:lnTo>
                      <a:lnTo>
                        <a:pt x="919" y="31"/>
                      </a:lnTo>
                      <a:lnTo>
                        <a:pt x="936" y="31"/>
                      </a:lnTo>
                      <a:lnTo>
                        <a:pt x="953" y="31"/>
                      </a:lnTo>
                      <a:lnTo>
                        <a:pt x="970" y="31"/>
                      </a:lnTo>
                      <a:lnTo>
                        <a:pt x="986" y="31"/>
                      </a:lnTo>
                      <a:lnTo>
                        <a:pt x="1011" y="31"/>
                      </a:lnTo>
                      <a:lnTo>
                        <a:pt x="1036" y="23"/>
                      </a:lnTo>
                      <a:lnTo>
                        <a:pt x="1070" y="23"/>
                      </a:lnTo>
                      <a:lnTo>
                        <a:pt x="1095" y="23"/>
                      </a:lnTo>
                      <a:lnTo>
                        <a:pt x="1120" y="23"/>
                      </a:lnTo>
                      <a:lnTo>
                        <a:pt x="1153" y="23"/>
                      </a:lnTo>
                      <a:lnTo>
                        <a:pt x="1178" y="23"/>
                      </a:lnTo>
                      <a:lnTo>
                        <a:pt x="1204" y="15"/>
                      </a:lnTo>
                      <a:lnTo>
                        <a:pt x="1237" y="15"/>
                      </a:lnTo>
                      <a:lnTo>
                        <a:pt x="1262" y="15"/>
                      </a:lnTo>
                      <a:lnTo>
                        <a:pt x="1287" y="15"/>
                      </a:lnTo>
                      <a:lnTo>
                        <a:pt x="1321" y="15"/>
                      </a:lnTo>
                      <a:lnTo>
                        <a:pt x="1346" y="15"/>
                      </a:lnTo>
                      <a:lnTo>
                        <a:pt x="1371" y="15"/>
                      </a:lnTo>
                      <a:lnTo>
                        <a:pt x="1404" y="15"/>
                      </a:lnTo>
                      <a:lnTo>
                        <a:pt x="1429" y="15"/>
                      </a:lnTo>
                      <a:lnTo>
                        <a:pt x="1446" y="15"/>
                      </a:lnTo>
                      <a:lnTo>
                        <a:pt x="1471" y="23"/>
                      </a:lnTo>
                      <a:lnTo>
                        <a:pt x="1496" y="23"/>
                      </a:lnTo>
                      <a:lnTo>
                        <a:pt x="1513" y="23"/>
                      </a:lnTo>
                      <a:lnTo>
                        <a:pt x="1538" y="31"/>
                      </a:lnTo>
                      <a:lnTo>
                        <a:pt x="1563" y="31"/>
                      </a:lnTo>
                      <a:lnTo>
                        <a:pt x="1580" y="38"/>
                      </a:lnTo>
                      <a:lnTo>
                        <a:pt x="1605" y="38"/>
                      </a:lnTo>
                      <a:lnTo>
                        <a:pt x="1621" y="46"/>
                      </a:lnTo>
                      <a:lnTo>
                        <a:pt x="1646" y="46"/>
                      </a:lnTo>
                      <a:lnTo>
                        <a:pt x="1672" y="54"/>
                      </a:lnTo>
                      <a:lnTo>
                        <a:pt x="1697" y="54"/>
                      </a:lnTo>
                      <a:lnTo>
                        <a:pt x="1713" y="54"/>
                      </a:lnTo>
                      <a:lnTo>
                        <a:pt x="1738" y="54"/>
                      </a:lnTo>
                      <a:lnTo>
                        <a:pt x="1755" y="61"/>
                      </a:lnTo>
                      <a:lnTo>
                        <a:pt x="1780" y="61"/>
                      </a:lnTo>
                      <a:lnTo>
                        <a:pt x="1805" y="54"/>
                      </a:lnTo>
                      <a:lnTo>
                        <a:pt x="1822" y="54"/>
                      </a:lnTo>
                      <a:lnTo>
                        <a:pt x="1847" y="54"/>
                      </a:lnTo>
                      <a:lnTo>
                        <a:pt x="1872" y="54"/>
                      </a:lnTo>
                      <a:lnTo>
                        <a:pt x="1897" y="54"/>
                      </a:lnTo>
                      <a:lnTo>
                        <a:pt x="1914" y="54"/>
                      </a:lnTo>
                      <a:lnTo>
                        <a:pt x="1939" y="54"/>
                      </a:lnTo>
                      <a:lnTo>
                        <a:pt x="1964" y="54"/>
                      </a:lnTo>
                      <a:lnTo>
                        <a:pt x="1981" y="46"/>
                      </a:lnTo>
                      <a:lnTo>
                        <a:pt x="2006" y="46"/>
                      </a:lnTo>
                      <a:lnTo>
                        <a:pt x="2023" y="46"/>
                      </a:lnTo>
                      <a:lnTo>
                        <a:pt x="2048" y="46"/>
                      </a:lnTo>
                      <a:lnTo>
                        <a:pt x="2073" y="38"/>
                      </a:lnTo>
                      <a:lnTo>
                        <a:pt x="2089" y="38"/>
                      </a:lnTo>
                      <a:lnTo>
                        <a:pt x="2114" y="38"/>
                      </a:lnTo>
                      <a:lnTo>
                        <a:pt x="2140" y="38"/>
                      </a:lnTo>
                      <a:lnTo>
                        <a:pt x="2156" y="31"/>
                      </a:lnTo>
                      <a:lnTo>
                        <a:pt x="2181" y="31"/>
                      </a:lnTo>
                      <a:lnTo>
                        <a:pt x="2206" y="31"/>
                      </a:lnTo>
                      <a:lnTo>
                        <a:pt x="2223" y="31"/>
                      </a:lnTo>
                      <a:lnTo>
                        <a:pt x="2248" y="23"/>
                      </a:lnTo>
                      <a:lnTo>
                        <a:pt x="2273" y="23"/>
                      </a:lnTo>
                      <a:lnTo>
                        <a:pt x="2290" y="23"/>
                      </a:lnTo>
                      <a:lnTo>
                        <a:pt x="2315" y="15"/>
                      </a:lnTo>
                      <a:lnTo>
                        <a:pt x="2340" y="15"/>
                      </a:lnTo>
                      <a:lnTo>
                        <a:pt x="2357" y="15"/>
                      </a:lnTo>
                      <a:lnTo>
                        <a:pt x="2382" y="15"/>
                      </a:lnTo>
                      <a:lnTo>
                        <a:pt x="2399" y="8"/>
                      </a:lnTo>
                      <a:lnTo>
                        <a:pt x="2424" y="8"/>
                      </a:lnTo>
                      <a:lnTo>
                        <a:pt x="2449" y="8"/>
                      </a:lnTo>
                      <a:lnTo>
                        <a:pt x="2474" y="8"/>
                      </a:lnTo>
                      <a:lnTo>
                        <a:pt x="2491" y="0"/>
                      </a:lnTo>
                      <a:close/>
                    </a:path>
                  </a:pathLst>
                </a:custGeom>
                <a:solidFill>
                  <a:srgbClr val="00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Freeform 517"/>
                <p:cNvSpPr/>
                <p:nvPr/>
              </p:nvSpPr>
              <p:spPr>
                <a:xfrm flipH="1">
                  <a:off x="285840" y="1411200"/>
                  <a:ext cx="502200" cy="203040"/>
                </a:xfrm>
                <a:custGeom>
                  <a:avLst/>
                  <a:gdLst>
                    <a:gd name="textAreaLeft" fmla="*/ 0 w 502200"/>
                    <a:gd name="textAreaRight" fmla="*/ 502200 w 502200"/>
                    <a:gd name="textAreaTop" fmla="*/ 0 h 203040"/>
                    <a:gd name="textAreaBottom" fmla="*/ 203400 h 203040"/>
                  </a:gdLst>
                  <a:ahLst/>
                  <a:rect l="textAreaLeft" t="textAreaTop" r="textAreaRight" b="textAreaBottom"/>
                  <a:pathLst>
                    <a:path w="2516" h="969">
                      <a:moveTo>
                        <a:pt x="2491" y="0"/>
                      </a:moveTo>
                      <a:lnTo>
                        <a:pt x="2499" y="15"/>
                      </a:lnTo>
                      <a:lnTo>
                        <a:pt x="2499" y="23"/>
                      </a:lnTo>
                      <a:lnTo>
                        <a:pt x="2507" y="38"/>
                      </a:lnTo>
                      <a:lnTo>
                        <a:pt x="2507" y="54"/>
                      </a:lnTo>
                      <a:lnTo>
                        <a:pt x="2516" y="92"/>
                      </a:lnTo>
                      <a:lnTo>
                        <a:pt x="2516" y="131"/>
                      </a:lnTo>
                      <a:lnTo>
                        <a:pt x="2516" y="177"/>
                      </a:lnTo>
                      <a:lnTo>
                        <a:pt x="2516" y="223"/>
                      </a:lnTo>
                      <a:lnTo>
                        <a:pt x="2507" y="261"/>
                      </a:lnTo>
                      <a:lnTo>
                        <a:pt x="2491" y="308"/>
                      </a:lnTo>
                      <a:lnTo>
                        <a:pt x="2474" y="346"/>
                      </a:lnTo>
                      <a:lnTo>
                        <a:pt x="2449" y="385"/>
                      </a:lnTo>
                      <a:lnTo>
                        <a:pt x="2424" y="385"/>
                      </a:lnTo>
                      <a:lnTo>
                        <a:pt x="2390" y="385"/>
                      </a:lnTo>
                      <a:lnTo>
                        <a:pt x="2365" y="385"/>
                      </a:lnTo>
                      <a:lnTo>
                        <a:pt x="2340" y="385"/>
                      </a:lnTo>
                      <a:lnTo>
                        <a:pt x="2307" y="385"/>
                      </a:lnTo>
                      <a:lnTo>
                        <a:pt x="2282" y="385"/>
                      </a:lnTo>
                      <a:lnTo>
                        <a:pt x="2257" y="385"/>
                      </a:lnTo>
                      <a:lnTo>
                        <a:pt x="2231" y="385"/>
                      </a:lnTo>
                      <a:lnTo>
                        <a:pt x="2206" y="385"/>
                      </a:lnTo>
                      <a:lnTo>
                        <a:pt x="2181" y="385"/>
                      </a:lnTo>
                      <a:lnTo>
                        <a:pt x="2156" y="377"/>
                      </a:lnTo>
                      <a:lnTo>
                        <a:pt x="2131" y="377"/>
                      </a:lnTo>
                      <a:lnTo>
                        <a:pt x="2106" y="377"/>
                      </a:lnTo>
                      <a:lnTo>
                        <a:pt x="2073" y="377"/>
                      </a:lnTo>
                      <a:lnTo>
                        <a:pt x="2048" y="377"/>
                      </a:lnTo>
                      <a:lnTo>
                        <a:pt x="2023" y="377"/>
                      </a:lnTo>
                      <a:lnTo>
                        <a:pt x="1997" y="377"/>
                      </a:lnTo>
                      <a:lnTo>
                        <a:pt x="1981" y="377"/>
                      </a:lnTo>
                      <a:lnTo>
                        <a:pt x="1956" y="385"/>
                      </a:lnTo>
                      <a:lnTo>
                        <a:pt x="1939" y="392"/>
                      </a:lnTo>
                      <a:lnTo>
                        <a:pt x="1914" y="392"/>
                      </a:lnTo>
                      <a:lnTo>
                        <a:pt x="1897" y="400"/>
                      </a:lnTo>
                      <a:lnTo>
                        <a:pt x="1872" y="408"/>
                      </a:lnTo>
                      <a:lnTo>
                        <a:pt x="1855" y="415"/>
                      </a:lnTo>
                      <a:lnTo>
                        <a:pt x="1830" y="431"/>
                      </a:lnTo>
                      <a:lnTo>
                        <a:pt x="1814" y="438"/>
                      </a:lnTo>
                      <a:lnTo>
                        <a:pt x="1789" y="446"/>
                      </a:lnTo>
                      <a:lnTo>
                        <a:pt x="1763" y="454"/>
                      </a:lnTo>
                      <a:lnTo>
                        <a:pt x="1747" y="461"/>
                      </a:lnTo>
                      <a:lnTo>
                        <a:pt x="1722" y="469"/>
                      </a:lnTo>
                      <a:lnTo>
                        <a:pt x="1697" y="469"/>
                      </a:lnTo>
                      <a:lnTo>
                        <a:pt x="1672" y="477"/>
                      </a:lnTo>
                      <a:lnTo>
                        <a:pt x="1663" y="508"/>
                      </a:lnTo>
                      <a:lnTo>
                        <a:pt x="1646" y="538"/>
                      </a:lnTo>
                      <a:lnTo>
                        <a:pt x="1646" y="569"/>
                      </a:lnTo>
                      <a:lnTo>
                        <a:pt x="1630" y="592"/>
                      </a:lnTo>
                      <a:lnTo>
                        <a:pt x="1621" y="623"/>
                      </a:lnTo>
                      <a:lnTo>
                        <a:pt x="1613" y="654"/>
                      </a:lnTo>
                      <a:lnTo>
                        <a:pt x="1605" y="685"/>
                      </a:lnTo>
                      <a:lnTo>
                        <a:pt x="1596" y="708"/>
                      </a:lnTo>
                      <a:lnTo>
                        <a:pt x="1588" y="738"/>
                      </a:lnTo>
                      <a:lnTo>
                        <a:pt x="1580" y="761"/>
                      </a:lnTo>
                      <a:lnTo>
                        <a:pt x="1563" y="792"/>
                      </a:lnTo>
                      <a:lnTo>
                        <a:pt x="1555" y="823"/>
                      </a:lnTo>
                      <a:lnTo>
                        <a:pt x="1546" y="846"/>
                      </a:lnTo>
                      <a:lnTo>
                        <a:pt x="1538" y="877"/>
                      </a:lnTo>
                      <a:lnTo>
                        <a:pt x="1529" y="908"/>
                      </a:lnTo>
                      <a:lnTo>
                        <a:pt x="1521" y="931"/>
                      </a:lnTo>
                      <a:lnTo>
                        <a:pt x="1496" y="938"/>
                      </a:lnTo>
                      <a:lnTo>
                        <a:pt x="1471" y="946"/>
                      </a:lnTo>
                      <a:lnTo>
                        <a:pt x="1446" y="954"/>
                      </a:lnTo>
                      <a:lnTo>
                        <a:pt x="1421" y="954"/>
                      </a:lnTo>
                      <a:lnTo>
                        <a:pt x="1396" y="961"/>
                      </a:lnTo>
                      <a:lnTo>
                        <a:pt x="1371" y="961"/>
                      </a:lnTo>
                      <a:lnTo>
                        <a:pt x="1346" y="961"/>
                      </a:lnTo>
                      <a:lnTo>
                        <a:pt x="1321" y="969"/>
                      </a:lnTo>
                      <a:lnTo>
                        <a:pt x="1295" y="969"/>
                      </a:lnTo>
                      <a:lnTo>
                        <a:pt x="1270" y="969"/>
                      </a:lnTo>
                      <a:lnTo>
                        <a:pt x="1245" y="969"/>
                      </a:lnTo>
                      <a:lnTo>
                        <a:pt x="1220" y="961"/>
                      </a:lnTo>
                      <a:lnTo>
                        <a:pt x="1195" y="961"/>
                      </a:lnTo>
                      <a:lnTo>
                        <a:pt x="1178" y="961"/>
                      </a:lnTo>
                      <a:lnTo>
                        <a:pt x="1153" y="954"/>
                      </a:lnTo>
                      <a:lnTo>
                        <a:pt x="1128" y="954"/>
                      </a:lnTo>
                      <a:lnTo>
                        <a:pt x="1120" y="946"/>
                      </a:lnTo>
                      <a:lnTo>
                        <a:pt x="1112" y="946"/>
                      </a:lnTo>
                      <a:lnTo>
                        <a:pt x="1095" y="938"/>
                      </a:lnTo>
                      <a:lnTo>
                        <a:pt x="1078" y="931"/>
                      </a:lnTo>
                      <a:lnTo>
                        <a:pt x="1070" y="923"/>
                      </a:lnTo>
                      <a:lnTo>
                        <a:pt x="1061" y="915"/>
                      </a:lnTo>
                      <a:lnTo>
                        <a:pt x="1053" y="900"/>
                      </a:lnTo>
                      <a:lnTo>
                        <a:pt x="1045" y="892"/>
                      </a:lnTo>
                      <a:lnTo>
                        <a:pt x="1028" y="877"/>
                      </a:lnTo>
                      <a:lnTo>
                        <a:pt x="1020" y="854"/>
                      </a:lnTo>
                      <a:lnTo>
                        <a:pt x="1011" y="831"/>
                      </a:lnTo>
                      <a:lnTo>
                        <a:pt x="995" y="815"/>
                      </a:lnTo>
                      <a:lnTo>
                        <a:pt x="986" y="792"/>
                      </a:lnTo>
                      <a:lnTo>
                        <a:pt x="970" y="777"/>
                      </a:lnTo>
                      <a:lnTo>
                        <a:pt x="961" y="754"/>
                      </a:lnTo>
                      <a:lnTo>
                        <a:pt x="953" y="731"/>
                      </a:lnTo>
                      <a:lnTo>
                        <a:pt x="944" y="715"/>
                      </a:lnTo>
                      <a:lnTo>
                        <a:pt x="936" y="692"/>
                      </a:lnTo>
                      <a:lnTo>
                        <a:pt x="919" y="677"/>
                      </a:lnTo>
                      <a:lnTo>
                        <a:pt x="919" y="654"/>
                      </a:lnTo>
                      <a:lnTo>
                        <a:pt x="911" y="631"/>
                      </a:lnTo>
                      <a:lnTo>
                        <a:pt x="903" y="608"/>
                      </a:lnTo>
                      <a:lnTo>
                        <a:pt x="894" y="592"/>
                      </a:lnTo>
                      <a:lnTo>
                        <a:pt x="886" y="561"/>
                      </a:lnTo>
                      <a:lnTo>
                        <a:pt x="878" y="569"/>
                      </a:lnTo>
                      <a:lnTo>
                        <a:pt x="869" y="569"/>
                      </a:lnTo>
                      <a:lnTo>
                        <a:pt x="853" y="569"/>
                      </a:lnTo>
                      <a:lnTo>
                        <a:pt x="844" y="577"/>
                      </a:lnTo>
                      <a:lnTo>
                        <a:pt x="827" y="577"/>
                      </a:lnTo>
                      <a:lnTo>
                        <a:pt x="819" y="577"/>
                      </a:lnTo>
                      <a:lnTo>
                        <a:pt x="802" y="577"/>
                      </a:lnTo>
                      <a:lnTo>
                        <a:pt x="786" y="577"/>
                      </a:lnTo>
                      <a:lnTo>
                        <a:pt x="777" y="577"/>
                      </a:lnTo>
                      <a:lnTo>
                        <a:pt x="761" y="577"/>
                      </a:lnTo>
                      <a:lnTo>
                        <a:pt x="752" y="577"/>
                      </a:lnTo>
                      <a:lnTo>
                        <a:pt x="736" y="569"/>
                      </a:lnTo>
                      <a:lnTo>
                        <a:pt x="727" y="569"/>
                      </a:lnTo>
                      <a:lnTo>
                        <a:pt x="710" y="569"/>
                      </a:lnTo>
                      <a:lnTo>
                        <a:pt x="702" y="561"/>
                      </a:lnTo>
                      <a:lnTo>
                        <a:pt x="685" y="561"/>
                      </a:lnTo>
                      <a:lnTo>
                        <a:pt x="677" y="554"/>
                      </a:lnTo>
                      <a:lnTo>
                        <a:pt x="669" y="554"/>
                      </a:lnTo>
                      <a:lnTo>
                        <a:pt x="652" y="546"/>
                      </a:lnTo>
                      <a:lnTo>
                        <a:pt x="644" y="538"/>
                      </a:lnTo>
                      <a:lnTo>
                        <a:pt x="635" y="531"/>
                      </a:lnTo>
                      <a:lnTo>
                        <a:pt x="627" y="531"/>
                      </a:lnTo>
                      <a:lnTo>
                        <a:pt x="619" y="523"/>
                      </a:lnTo>
                      <a:lnTo>
                        <a:pt x="610" y="515"/>
                      </a:lnTo>
                      <a:lnTo>
                        <a:pt x="602" y="508"/>
                      </a:lnTo>
                      <a:lnTo>
                        <a:pt x="593" y="500"/>
                      </a:lnTo>
                      <a:lnTo>
                        <a:pt x="585" y="492"/>
                      </a:lnTo>
                      <a:lnTo>
                        <a:pt x="577" y="485"/>
                      </a:lnTo>
                      <a:lnTo>
                        <a:pt x="577" y="469"/>
                      </a:lnTo>
                      <a:lnTo>
                        <a:pt x="568" y="461"/>
                      </a:lnTo>
                      <a:lnTo>
                        <a:pt x="560" y="454"/>
                      </a:lnTo>
                      <a:lnTo>
                        <a:pt x="552" y="438"/>
                      </a:lnTo>
                      <a:lnTo>
                        <a:pt x="535" y="438"/>
                      </a:lnTo>
                      <a:lnTo>
                        <a:pt x="518" y="438"/>
                      </a:lnTo>
                      <a:lnTo>
                        <a:pt x="502" y="438"/>
                      </a:lnTo>
                      <a:lnTo>
                        <a:pt x="485" y="438"/>
                      </a:lnTo>
                      <a:lnTo>
                        <a:pt x="468" y="438"/>
                      </a:lnTo>
                      <a:lnTo>
                        <a:pt x="451" y="438"/>
                      </a:lnTo>
                      <a:lnTo>
                        <a:pt x="435" y="438"/>
                      </a:lnTo>
                      <a:lnTo>
                        <a:pt x="418" y="431"/>
                      </a:lnTo>
                      <a:lnTo>
                        <a:pt x="401" y="431"/>
                      </a:lnTo>
                      <a:lnTo>
                        <a:pt x="385" y="431"/>
                      </a:lnTo>
                      <a:lnTo>
                        <a:pt x="368" y="431"/>
                      </a:lnTo>
                      <a:lnTo>
                        <a:pt x="351" y="423"/>
                      </a:lnTo>
                      <a:lnTo>
                        <a:pt x="334" y="423"/>
                      </a:lnTo>
                      <a:lnTo>
                        <a:pt x="318" y="415"/>
                      </a:lnTo>
                      <a:lnTo>
                        <a:pt x="301" y="415"/>
                      </a:lnTo>
                      <a:lnTo>
                        <a:pt x="284" y="415"/>
                      </a:lnTo>
                      <a:lnTo>
                        <a:pt x="268" y="408"/>
                      </a:lnTo>
                      <a:lnTo>
                        <a:pt x="251" y="408"/>
                      </a:lnTo>
                      <a:lnTo>
                        <a:pt x="234" y="400"/>
                      </a:lnTo>
                      <a:lnTo>
                        <a:pt x="226" y="400"/>
                      </a:lnTo>
                      <a:lnTo>
                        <a:pt x="201" y="392"/>
                      </a:lnTo>
                      <a:lnTo>
                        <a:pt x="184" y="392"/>
                      </a:lnTo>
                      <a:lnTo>
                        <a:pt x="176" y="385"/>
                      </a:lnTo>
                      <a:lnTo>
                        <a:pt x="159" y="385"/>
                      </a:lnTo>
                      <a:lnTo>
                        <a:pt x="142" y="377"/>
                      </a:lnTo>
                      <a:lnTo>
                        <a:pt x="125" y="377"/>
                      </a:lnTo>
                      <a:lnTo>
                        <a:pt x="109" y="369"/>
                      </a:lnTo>
                      <a:lnTo>
                        <a:pt x="92" y="361"/>
                      </a:lnTo>
                      <a:lnTo>
                        <a:pt x="75" y="361"/>
                      </a:lnTo>
                      <a:lnTo>
                        <a:pt x="59" y="354"/>
                      </a:lnTo>
                      <a:lnTo>
                        <a:pt x="42" y="354"/>
                      </a:lnTo>
                      <a:lnTo>
                        <a:pt x="25" y="346"/>
                      </a:lnTo>
                      <a:lnTo>
                        <a:pt x="8" y="308"/>
                      </a:lnTo>
                      <a:lnTo>
                        <a:pt x="8" y="277"/>
                      </a:lnTo>
                      <a:lnTo>
                        <a:pt x="0" y="238"/>
                      </a:lnTo>
                      <a:lnTo>
                        <a:pt x="8" y="208"/>
                      </a:lnTo>
                      <a:lnTo>
                        <a:pt x="8" y="169"/>
                      </a:lnTo>
                      <a:lnTo>
                        <a:pt x="17" y="138"/>
                      </a:lnTo>
                      <a:lnTo>
                        <a:pt x="17" y="100"/>
                      </a:lnTo>
                      <a:lnTo>
                        <a:pt x="25" y="61"/>
                      </a:lnTo>
                      <a:lnTo>
                        <a:pt x="34" y="54"/>
                      </a:lnTo>
                      <a:lnTo>
                        <a:pt x="34" y="46"/>
                      </a:lnTo>
                      <a:lnTo>
                        <a:pt x="42" y="38"/>
                      </a:lnTo>
                      <a:lnTo>
                        <a:pt x="50" y="23"/>
                      </a:lnTo>
                      <a:lnTo>
                        <a:pt x="50" y="15"/>
                      </a:lnTo>
                      <a:lnTo>
                        <a:pt x="59" y="15"/>
                      </a:lnTo>
                      <a:lnTo>
                        <a:pt x="75" y="8"/>
                      </a:lnTo>
                      <a:lnTo>
                        <a:pt x="84" y="8"/>
                      </a:lnTo>
                      <a:lnTo>
                        <a:pt x="100" y="8"/>
                      </a:lnTo>
                      <a:lnTo>
                        <a:pt x="125" y="8"/>
                      </a:lnTo>
                      <a:lnTo>
                        <a:pt x="142" y="8"/>
                      </a:lnTo>
                      <a:lnTo>
                        <a:pt x="167" y="15"/>
                      </a:lnTo>
                      <a:lnTo>
                        <a:pt x="192" y="15"/>
                      </a:lnTo>
                      <a:lnTo>
                        <a:pt x="209" y="15"/>
                      </a:lnTo>
                      <a:lnTo>
                        <a:pt x="234" y="23"/>
                      </a:lnTo>
                      <a:lnTo>
                        <a:pt x="259" y="23"/>
                      </a:lnTo>
                      <a:lnTo>
                        <a:pt x="276" y="31"/>
                      </a:lnTo>
                      <a:lnTo>
                        <a:pt x="301" y="31"/>
                      </a:lnTo>
                      <a:lnTo>
                        <a:pt x="326" y="31"/>
                      </a:lnTo>
                      <a:lnTo>
                        <a:pt x="343" y="38"/>
                      </a:lnTo>
                      <a:lnTo>
                        <a:pt x="368" y="38"/>
                      </a:lnTo>
                      <a:lnTo>
                        <a:pt x="385" y="38"/>
                      </a:lnTo>
                      <a:lnTo>
                        <a:pt x="410" y="38"/>
                      </a:lnTo>
                      <a:lnTo>
                        <a:pt x="426" y="38"/>
                      </a:lnTo>
                      <a:lnTo>
                        <a:pt x="451" y="38"/>
                      </a:lnTo>
                      <a:lnTo>
                        <a:pt x="468" y="46"/>
                      </a:lnTo>
                      <a:lnTo>
                        <a:pt x="485" y="46"/>
                      </a:lnTo>
                      <a:lnTo>
                        <a:pt x="502" y="46"/>
                      </a:lnTo>
                      <a:lnTo>
                        <a:pt x="518" y="46"/>
                      </a:lnTo>
                      <a:lnTo>
                        <a:pt x="535" y="46"/>
                      </a:lnTo>
                      <a:lnTo>
                        <a:pt x="552" y="46"/>
                      </a:lnTo>
                      <a:lnTo>
                        <a:pt x="568" y="38"/>
                      </a:lnTo>
                      <a:lnTo>
                        <a:pt x="585" y="38"/>
                      </a:lnTo>
                      <a:lnTo>
                        <a:pt x="602" y="38"/>
                      </a:lnTo>
                      <a:lnTo>
                        <a:pt x="619" y="38"/>
                      </a:lnTo>
                      <a:lnTo>
                        <a:pt x="635" y="38"/>
                      </a:lnTo>
                      <a:lnTo>
                        <a:pt x="660" y="38"/>
                      </a:lnTo>
                      <a:lnTo>
                        <a:pt x="677" y="38"/>
                      </a:lnTo>
                      <a:lnTo>
                        <a:pt x="694" y="38"/>
                      </a:lnTo>
                      <a:lnTo>
                        <a:pt x="710" y="38"/>
                      </a:lnTo>
                      <a:lnTo>
                        <a:pt x="727" y="38"/>
                      </a:lnTo>
                      <a:lnTo>
                        <a:pt x="744" y="38"/>
                      </a:lnTo>
                      <a:lnTo>
                        <a:pt x="761" y="38"/>
                      </a:lnTo>
                      <a:lnTo>
                        <a:pt x="777" y="38"/>
                      </a:lnTo>
                      <a:lnTo>
                        <a:pt x="794" y="38"/>
                      </a:lnTo>
                      <a:lnTo>
                        <a:pt x="811" y="31"/>
                      </a:lnTo>
                      <a:lnTo>
                        <a:pt x="827" y="31"/>
                      </a:lnTo>
                      <a:lnTo>
                        <a:pt x="844" y="31"/>
                      </a:lnTo>
                      <a:lnTo>
                        <a:pt x="861" y="31"/>
                      </a:lnTo>
                      <a:lnTo>
                        <a:pt x="878" y="31"/>
                      </a:lnTo>
                      <a:lnTo>
                        <a:pt x="903" y="31"/>
                      </a:lnTo>
                      <a:lnTo>
                        <a:pt x="919" y="31"/>
                      </a:lnTo>
                      <a:lnTo>
                        <a:pt x="936" y="31"/>
                      </a:lnTo>
                      <a:lnTo>
                        <a:pt x="953" y="31"/>
                      </a:lnTo>
                      <a:lnTo>
                        <a:pt x="970" y="31"/>
                      </a:lnTo>
                      <a:lnTo>
                        <a:pt x="986" y="31"/>
                      </a:lnTo>
                      <a:lnTo>
                        <a:pt x="1011" y="31"/>
                      </a:lnTo>
                      <a:lnTo>
                        <a:pt x="1036" y="23"/>
                      </a:lnTo>
                      <a:lnTo>
                        <a:pt x="1070" y="23"/>
                      </a:lnTo>
                      <a:lnTo>
                        <a:pt x="1095" y="23"/>
                      </a:lnTo>
                      <a:lnTo>
                        <a:pt x="1120" y="23"/>
                      </a:lnTo>
                      <a:lnTo>
                        <a:pt x="1153" y="23"/>
                      </a:lnTo>
                      <a:lnTo>
                        <a:pt x="1178" y="23"/>
                      </a:lnTo>
                      <a:lnTo>
                        <a:pt x="1204" y="15"/>
                      </a:lnTo>
                      <a:lnTo>
                        <a:pt x="1237" y="15"/>
                      </a:lnTo>
                      <a:lnTo>
                        <a:pt x="1262" y="15"/>
                      </a:lnTo>
                      <a:lnTo>
                        <a:pt x="1287" y="15"/>
                      </a:lnTo>
                      <a:lnTo>
                        <a:pt x="1321" y="15"/>
                      </a:lnTo>
                      <a:lnTo>
                        <a:pt x="1346" y="15"/>
                      </a:lnTo>
                      <a:lnTo>
                        <a:pt x="1371" y="15"/>
                      </a:lnTo>
                      <a:lnTo>
                        <a:pt x="1404" y="15"/>
                      </a:lnTo>
                      <a:lnTo>
                        <a:pt x="1429" y="15"/>
                      </a:lnTo>
                      <a:lnTo>
                        <a:pt x="1446" y="15"/>
                      </a:lnTo>
                      <a:lnTo>
                        <a:pt x="1471" y="23"/>
                      </a:lnTo>
                      <a:lnTo>
                        <a:pt x="1496" y="23"/>
                      </a:lnTo>
                      <a:lnTo>
                        <a:pt x="1513" y="23"/>
                      </a:lnTo>
                      <a:lnTo>
                        <a:pt x="1538" y="31"/>
                      </a:lnTo>
                      <a:lnTo>
                        <a:pt x="1563" y="31"/>
                      </a:lnTo>
                      <a:lnTo>
                        <a:pt x="1580" y="38"/>
                      </a:lnTo>
                      <a:lnTo>
                        <a:pt x="1605" y="38"/>
                      </a:lnTo>
                      <a:lnTo>
                        <a:pt x="1621" y="46"/>
                      </a:lnTo>
                      <a:lnTo>
                        <a:pt x="1646" y="46"/>
                      </a:lnTo>
                      <a:lnTo>
                        <a:pt x="1672" y="54"/>
                      </a:lnTo>
                      <a:lnTo>
                        <a:pt x="1697" y="54"/>
                      </a:lnTo>
                      <a:lnTo>
                        <a:pt x="1713" y="54"/>
                      </a:lnTo>
                      <a:lnTo>
                        <a:pt x="1738" y="54"/>
                      </a:lnTo>
                      <a:lnTo>
                        <a:pt x="1755" y="61"/>
                      </a:lnTo>
                      <a:lnTo>
                        <a:pt x="1780" y="61"/>
                      </a:lnTo>
                      <a:lnTo>
                        <a:pt x="1805" y="54"/>
                      </a:lnTo>
                      <a:lnTo>
                        <a:pt x="1822" y="54"/>
                      </a:lnTo>
                      <a:lnTo>
                        <a:pt x="1847" y="54"/>
                      </a:lnTo>
                      <a:lnTo>
                        <a:pt x="1872" y="54"/>
                      </a:lnTo>
                      <a:lnTo>
                        <a:pt x="1897" y="54"/>
                      </a:lnTo>
                      <a:lnTo>
                        <a:pt x="1914" y="54"/>
                      </a:lnTo>
                      <a:lnTo>
                        <a:pt x="1939" y="54"/>
                      </a:lnTo>
                      <a:lnTo>
                        <a:pt x="1964" y="54"/>
                      </a:lnTo>
                      <a:lnTo>
                        <a:pt x="1981" y="46"/>
                      </a:lnTo>
                      <a:lnTo>
                        <a:pt x="2006" y="46"/>
                      </a:lnTo>
                      <a:lnTo>
                        <a:pt x="2023" y="46"/>
                      </a:lnTo>
                      <a:lnTo>
                        <a:pt x="2048" y="46"/>
                      </a:lnTo>
                      <a:lnTo>
                        <a:pt x="2073" y="38"/>
                      </a:lnTo>
                      <a:lnTo>
                        <a:pt x="2089" y="38"/>
                      </a:lnTo>
                      <a:lnTo>
                        <a:pt x="2114" y="38"/>
                      </a:lnTo>
                      <a:lnTo>
                        <a:pt x="2140" y="38"/>
                      </a:lnTo>
                      <a:lnTo>
                        <a:pt x="2156" y="31"/>
                      </a:lnTo>
                      <a:lnTo>
                        <a:pt x="2181" y="31"/>
                      </a:lnTo>
                      <a:lnTo>
                        <a:pt x="2206" y="31"/>
                      </a:lnTo>
                      <a:lnTo>
                        <a:pt x="2223" y="31"/>
                      </a:lnTo>
                      <a:lnTo>
                        <a:pt x="2248" y="23"/>
                      </a:lnTo>
                      <a:lnTo>
                        <a:pt x="2273" y="23"/>
                      </a:lnTo>
                      <a:lnTo>
                        <a:pt x="2290" y="23"/>
                      </a:lnTo>
                      <a:lnTo>
                        <a:pt x="2315" y="15"/>
                      </a:lnTo>
                      <a:lnTo>
                        <a:pt x="2340" y="15"/>
                      </a:lnTo>
                      <a:lnTo>
                        <a:pt x="2357" y="15"/>
                      </a:lnTo>
                      <a:lnTo>
                        <a:pt x="2382" y="15"/>
                      </a:lnTo>
                      <a:lnTo>
                        <a:pt x="2399" y="8"/>
                      </a:lnTo>
                      <a:lnTo>
                        <a:pt x="2424" y="8"/>
                      </a:lnTo>
                      <a:lnTo>
                        <a:pt x="2449" y="8"/>
                      </a:lnTo>
                      <a:lnTo>
                        <a:pt x="2474" y="8"/>
                      </a:lnTo>
                      <a:lnTo>
                        <a:pt x="2491"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Freeform 516"/>
                <p:cNvSpPr/>
                <p:nvPr/>
              </p:nvSpPr>
              <p:spPr>
                <a:xfrm flipH="1">
                  <a:off x="288360" y="1411200"/>
                  <a:ext cx="495360" cy="20880"/>
                </a:xfrm>
                <a:custGeom>
                  <a:avLst/>
                  <a:gdLst>
                    <a:gd name="textAreaLeft" fmla="*/ 360 w 495360"/>
                    <a:gd name="textAreaRight" fmla="*/ 496080 w 495360"/>
                    <a:gd name="textAreaTop" fmla="*/ 0 h 20880"/>
                    <a:gd name="textAreaBottom" fmla="*/ 21240 h 20880"/>
                  </a:gdLst>
                  <a:ahLst/>
                  <a:rect l="textAreaLeft" t="textAreaTop" r="textAreaRight" b="textAreaBottom"/>
                  <a:pathLst>
                    <a:path w="2482" h="100">
                      <a:moveTo>
                        <a:pt x="2466" y="0"/>
                      </a:moveTo>
                      <a:lnTo>
                        <a:pt x="2474" y="15"/>
                      </a:lnTo>
                      <a:lnTo>
                        <a:pt x="2474" y="23"/>
                      </a:lnTo>
                      <a:lnTo>
                        <a:pt x="2482" y="38"/>
                      </a:lnTo>
                      <a:lnTo>
                        <a:pt x="2482" y="54"/>
                      </a:lnTo>
                      <a:lnTo>
                        <a:pt x="2466" y="54"/>
                      </a:lnTo>
                      <a:lnTo>
                        <a:pt x="2449" y="61"/>
                      </a:lnTo>
                      <a:lnTo>
                        <a:pt x="2424" y="61"/>
                      </a:lnTo>
                      <a:lnTo>
                        <a:pt x="2407" y="61"/>
                      </a:lnTo>
                      <a:lnTo>
                        <a:pt x="2390" y="69"/>
                      </a:lnTo>
                      <a:lnTo>
                        <a:pt x="2365" y="69"/>
                      </a:lnTo>
                      <a:lnTo>
                        <a:pt x="2349" y="77"/>
                      </a:lnTo>
                      <a:lnTo>
                        <a:pt x="2323" y="77"/>
                      </a:lnTo>
                      <a:lnTo>
                        <a:pt x="2307" y="77"/>
                      </a:lnTo>
                      <a:lnTo>
                        <a:pt x="2282" y="85"/>
                      </a:lnTo>
                      <a:lnTo>
                        <a:pt x="2265" y="85"/>
                      </a:lnTo>
                      <a:lnTo>
                        <a:pt x="2248" y="85"/>
                      </a:lnTo>
                      <a:lnTo>
                        <a:pt x="2223" y="92"/>
                      </a:lnTo>
                      <a:lnTo>
                        <a:pt x="2206" y="92"/>
                      </a:lnTo>
                      <a:lnTo>
                        <a:pt x="2181" y="92"/>
                      </a:lnTo>
                      <a:lnTo>
                        <a:pt x="2165" y="92"/>
                      </a:lnTo>
                      <a:lnTo>
                        <a:pt x="2140" y="92"/>
                      </a:lnTo>
                      <a:lnTo>
                        <a:pt x="2115" y="92"/>
                      </a:lnTo>
                      <a:lnTo>
                        <a:pt x="2081" y="100"/>
                      </a:lnTo>
                      <a:lnTo>
                        <a:pt x="2056" y="100"/>
                      </a:lnTo>
                      <a:lnTo>
                        <a:pt x="2031" y="100"/>
                      </a:lnTo>
                      <a:lnTo>
                        <a:pt x="2006" y="100"/>
                      </a:lnTo>
                      <a:lnTo>
                        <a:pt x="1981" y="100"/>
                      </a:lnTo>
                      <a:lnTo>
                        <a:pt x="1956" y="100"/>
                      </a:lnTo>
                      <a:lnTo>
                        <a:pt x="1931" y="100"/>
                      </a:lnTo>
                      <a:lnTo>
                        <a:pt x="1906" y="100"/>
                      </a:lnTo>
                      <a:lnTo>
                        <a:pt x="1872" y="100"/>
                      </a:lnTo>
                      <a:lnTo>
                        <a:pt x="1847" y="100"/>
                      </a:lnTo>
                      <a:lnTo>
                        <a:pt x="1822" y="100"/>
                      </a:lnTo>
                      <a:lnTo>
                        <a:pt x="1797" y="92"/>
                      </a:lnTo>
                      <a:lnTo>
                        <a:pt x="1772" y="92"/>
                      </a:lnTo>
                      <a:lnTo>
                        <a:pt x="1747" y="92"/>
                      </a:lnTo>
                      <a:lnTo>
                        <a:pt x="1722" y="92"/>
                      </a:lnTo>
                      <a:lnTo>
                        <a:pt x="1705" y="92"/>
                      </a:lnTo>
                      <a:lnTo>
                        <a:pt x="1688" y="92"/>
                      </a:lnTo>
                      <a:lnTo>
                        <a:pt x="1663" y="85"/>
                      </a:lnTo>
                      <a:lnTo>
                        <a:pt x="1647" y="85"/>
                      </a:lnTo>
                      <a:lnTo>
                        <a:pt x="1621" y="85"/>
                      </a:lnTo>
                      <a:lnTo>
                        <a:pt x="1605" y="85"/>
                      </a:lnTo>
                      <a:lnTo>
                        <a:pt x="1580" y="77"/>
                      </a:lnTo>
                      <a:lnTo>
                        <a:pt x="1563" y="77"/>
                      </a:lnTo>
                      <a:lnTo>
                        <a:pt x="1538" y="77"/>
                      </a:lnTo>
                      <a:lnTo>
                        <a:pt x="1521" y="77"/>
                      </a:lnTo>
                      <a:lnTo>
                        <a:pt x="1496" y="69"/>
                      </a:lnTo>
                      <a:lnTo>
                        <a:pt x="1479" y="69"/>
                      </a:lnTo>
                      <a:lnTo>
                        <a:pt x="1454" y="69"/>
                      </a:lnTo>
                      <a:lnTo>
                        <a:pt x="1438" y="61"/>
                      </a:lnTo>
                      <a:lnTo>
                        <a:pt x="1413" y="61"/>
                      </a:lnTo>
                      <a:lnTo>
                        <a:pt x="1396" y="61"/>
                      </a:lnTo>
                      <a:lnTo>
                        <a:pt x="1371" y="61"/>
                      </a:lnTo>
                      <a:lnTo>
                        <a:pt x="1354" y="54"/>
                      </a:lnTo>
                      <a:lnTo>
                        <a:pt x="1329" y="54"/>
                      </a:lnTo>
                      <a:lnTo>
                        <a:pt x="1312" y="54"/>
                      </a:lnTo>
                      <a:lnTo>
                        <a:pt x="1287" y="54"/>
                      </a:lnTo>
                      <a:lnTo>
                        <a:pt x="1270" y="54"/>
                      </a:lnTo>
                      <a:lnTo>
                        <a:pt x="1245" y="46"/>
                      </a:lnTo>
                      <a:lnTo>
                        <a:pt x="1229" y="46"/>
                      </a:lnTo>
                      <a:lnTo>
                        <a:pt x="1204" y="46"/>
                      </a:lnTo>
                      <a:lnTo>
                        <a:pt x="1187" y="46"/>
                      </a:lnTo>
                      <a:lnTo>
                        <a:pt x="1162" y="54"/>
                      </a:lnTo>
                      <a:lnTo>
                        <a:pt x="1145" y="54"/>
                      </a:lnTo>
                      <a:lnTo>
                        <a:pt x="1120" y="54"/>
                      </a:lnTo>
                      <a:lnTo>
                        <a:pt x="1103" y="54"/>
                      </a:lnTo>
                      <a:lnTo>
                        <a:pt x="1087" y="54"/>
                      </a:lnTo>
                      <a:lnTo>
                        <a:pt x="1062" y="61"/>
                      </a:lnTo>
                      <a:lnTo>
                        <a:pt x="1045" y="61"/>
                      </a:lnTo>
                      <a:lnTo>
                        <a:pt x="1028" y="61"/>
                      </a:lnTo>
                      <a:lnTo>
                        <a:pt x="1011" y="69"/>
                      </a:lnTo>
                      <a:lnTo>
                        <a:pt x="986" y="69"/>
                      </a:lnTo>
                      <a:lnTo>
                        <a:pt x="970" y="69"/>
                      </a:lnTo>
                      <a:lnTo>
                        <a:pt x="953" y="69"/>
                      </a:lnTo>
                      <a:lnTo>
                        <a:pt x="936" y="77"/>
                      </a:lnTo>
                      <a:lnTo>
                        <a:pt x="919" y="77"/>
                      </a:lnTo>
                      <a:lnTo>
                        <a:pt x="903" y="77"/>
                      </a:lnTo>
                      <a:lnTo>
                        <a:pt x="886" y="77"/>
                      </a:lnTo>
                      <a:lnTo>
                        <a:pt x="861" y="77"/>
                      </a:lnTo>
                      <a:lnTo>
                        <a:pt x="844" y="85"/>
                      </a:lnTo>
                      <a:lnTo>
                        <a:pt x="828" y="85"/>
                      </a:lnTo>
                      <a:lnTo>
                        <a:pt x="811" y="85"/>
                      </a:lnTo>
                      <a:lnTo>
                        <a:pt x="794" y="85"/>
                      </a:lnTo>
                      <a:lnTo>
                        <a:pt x="777" y="85"/>
                      </a:lnTo>
                      <a:lnTo>
                        <a:pt x="761" y="85"/>
                      </a:lnTo>
                      <a:lnTo>
                        <a:pt x="744" y="85"/>
                      </a:lnTo>
                      <a:lnTo>
                        <a:pt x="727" y="92"/>
                      </a:lnTo>
                      <a:lnTo>
                        <a:pt x="711" y="92"/>
                      </a:lnTo>
                      <a:lnTo>
                        <a:pt x="685" y="92"/>
                      </a:lnTo>
                      <a:lnTo>
                        <a:pt x="669" y="92"/>
                      </a:lnTo>
                      <a:lnTo>
                        <a:pt x="652" y="92"/>
                      </a:lnTo>
                      <a:lnTo>
                        <a:pt x="635" y="92"/>
                      </a:lnTo>
                      <a:lnTo>
                        <a:pt x="619" y="92"/>
                      </a:lnTo>
                      <a:lnTo>
                        <a:pt x="602" y="92"/>
                      </a:lnTo>
                      <a:lnTo>
                        <a:pt x="577" y="92"/>
                      </a:lnTo>
                      <a:lnTo>
                        <a:pt x="560" y="92"/>
                      </a:lnTo>
                      <a:lnTo>
                        <a:pt x="543" y="92"/>
                      </a:lnTo>
                      <a:lnTo>
                        <a:pt x="527" y="92"/>
                      </a:lnTo>
                      <a:lnTo>
                        <a:pt x="502" y="92"/>
                      </a:lnTo>
                      <a:lnTo>
                        <a:pt x="485" y="92"/>
                      </a:lnTo>
                      <a:lnTo>
                        <a:pt x="460" y="92"/>
                      </a:lnTo>
                      <a:lnTo>
                        <a:pt x="435" y="92"/>
                      </a:lnTo>
                      <a:lnTo>
                        <a:pt x="410" y="92"/>
                      </a:lnTo>
                      <a:lnTo>
                        <a:pt x="393" y="85"/>
                      </a:lnTo>
                      <a:lnTo>
                        <a:pt x="368" y="85"/>
                      </a:lnTo>
                      <a:lnTo>
                        <a:pt x="343" y="85"/>
                      </a:lnTo>
                      <a:lnTo>
                        <a:pt x="318" y="77"/>
                      </a:lnTo>
                      <a:lnTo>
                        <a:pt x="293" y="77"/>
                      </a:lnTo>
                      <a:lnTo>
                        <a:pt x="268" y="69"/>
                      </a:lnTo>
                      <a:lnTo>
                        <a:pt x="243" y="69"/>
                      </a:lnTo>
                      <a:lnTo>
                        <a:pt x="217" y="69"/>
                      </a:lnTo>
                      <a:lnTo>
                        <a:pt x="192" y="61"/>
                      </a:lnTo>
                      <a:lnTo>
                        <a:pt x="176" y="61"/>
                      </a:lnTo>
                      <a:lnTo>
                        <a:pt x="151" y="61"/>
                      </a:lnTo>
                      <a:lnTo>
                        <a:pt x="126" y="54"/>
                      </a:lnTo>
                      <a:lnTo>
                        <a:pt x="117" y="54"/>
                      </a:lnTo>
                      <a:lnTo>
                        <a:pt x="109" y="54"/>
                      </a:lnTo>
                      <a:lnTo>
                        <a:pt x="100" y="54"/>
                      </a:lnTo>
                      <a:lnTo>
                        <a:pt x="92" y="54"/>
                      </a:lnTo>
                      <a:lnTo>
                        <a:pt x="84" y="54"/>
                      </a:lnTo>
                      <a:lnTo>
                        <a:pt x="75" y="54"/>
                      </a:lnTo>
                      <a:lnTo>
                        <a:pt x="67" y="54"/>
                      </a:lnTo>
                      <a:lnTo>
                        <a:pt x="59" y="54"/>
                      </a:lnTo>
                      <a:lnTo>
                        <a:pt x="50" y="61"/>
                      </a:lnTo>
                      <a:lnTo>
                        <a:pt x="42" y="61"/>
                      </a:lnTo>
                      <a:lnTo>
                        <a:pt x="34" y="61"/>
                      </a:lnTo>
                      <a:lnTo>
                        <a:pt x="25" y="61"/>
                      </a:lnTo>
                      <a:lnTo>
                        <a:pt x="17" y="61"/>
                      </a:lnTo>
                      <a:lnTo>
                        <a:pt x="9" y="61"/>
                      </a:lnTo>
                      <a:lnTo>
                        <a:pt x="0" y="61"/>
                      </a:lnTo>
                      <a:lnTo>
                        <a:pt x="9" y="54"/>
                      </a:lnTo>
                      <a:lnTo>
                        <a:pt x="9" y="46"/>
                      </a:lnTo>
                      <a:lnTo>
                        <a:pt x="17" y="38"/>
                      </a:lnTo>
                      <a:lnTo>
                        <a:pt x="25" y="23"/>
                      </a:lnTo>
                      <a:lnTo>
                        <a:pt x="25" y="15"/>
                      </a:lnTo>
                      <a:lnTo>
                        <a:pt x="42" y="15"/>
                      </a:lnTo>
                      <a:lnTo>
                        <a:pt x="50" y="8"/>
                      </a:lnTo>
                      <a:lnTo>
                        <a:pt x="59" y="8"/>
                      </a:lnTo>
                      <a:lnTo>
                        <a:pt x="75" y="8"/>
                      </a:lnTo>
                      <a:lnTo>
                        <a:pt x="100" y="8"/>
                      </a:lnTo>
                      <a:lnTo>
                        <a:pt x="117" y="8"/>
                      </a:lnTo>
                      <a:lnTo>
                        <a:pt x="142" y="15"/>
                      </a:lnTo>
                      <a:lnTo>
                        <a:pt x="167" y="15"/>
                      </a:lnTo>
                      <a:lnTo>
                        <a:pt x="184" y="15"/>
                      </a:lnTo>
                      <a:lnTo>
                        <a:pt x="209" y="23"/>
                      </a:lnTo>
                      <a:lnTo>
                        <a:pt x="234" y="23"/>
                      </a:lnTo>
                      <a:lnTo>
                        <a:pt x="251" y="31"/>
                      </a:lnTo>
                      <a:lnTo>
                        <a:pt x="276" y="31"/>
                      </a:lnTo>
                      <a:lnTo>
                        <a:pt x="301" y="31"/>
                      </a:lnTo>
                      <a:lnTo>
                        <a:pt x="318" y="38"/>
                      </a:lnTo>
                      <a:lnTo>
                        <a:pt x="343" y="38"/>
                      </a:lnTo>
                      <a:lnTo>
                        <a:pt x="360" y="38"/>
                      </a:lnTo>
                      <a:lnTo>
                        <a:pt x="385" y="38"/>
                      </a:lnTo>
                      <a:lnTo>
                        <a:pt x="401" y="38"/>
                      </a:lnTo>
                      <a:lnTo>
                        <a:pt x="426" y="38"/>
                      </a:lnTo>
                      <a:lnTo>
                        <a:pt x="443" y="46"/>
                      </a:lnTo>
                      <a:lnTo>
                        <a:pt x="460" y="46"/>
                      </a:lnTo>
                      <a:lnTo>
                        <a:pt x="477" y="46"/>
                      </a:lnTo>
                      <a:lnTo>
                        <a:pt x="493" y="46"/>
                      </a:lnTo>
                      <a:lnTo>
                        <a:pt x="510" y="46"/>
                      </a:lnTo>
                      <a:lnTo>
                        <a:pt x="527" y="46"/>
                      </a:lnTo>
                      <a:lnTo>
                        <a:pt x="543" y="38"/>
                      </a:lnTo>
                      <a:lnTo>
                        <a:pt x="560" y="38"/>
                      </a:lnTo>
                      <a:lnTo>
                        <a:pt x="577" y="38"/>
                      </a:lnTo>
                      <a:lnTo>
                        <a:pt x="594" y="38"/>
                      </a:lnTo>
                      <a:lnTo>
                        <a:pt x="610" y="38"/>
                      </a:lnTo>
                      <a:lnTo>
                        <a:pt x="635" y="38"/>
                      </a:lnTo>
                      <a:lnTo>
                        <a:pt x="652" y="38"/>
                      </a:lnTo>
                      <a:lnTo>
                        <a:pt x="669" y="38"/>
                      </a:lnTo>
                      <a:lnTo>
                        <a:pt x="685" y="38"/>
                      </a:lnTo>
                      <a:lnTo>
                        <a:pt x="702" y="38"/>
                      </a:lnTo>
                      <a:lnTo>
                        <a:pt x="719" y="38"/>
                      </a:lnTo>
                      <a:lnTo>
                        <a:pt x="736" y="38"/>
                      </a:lnTo>
                      <a:lnTo>
                        <a:pt x="752" y="38"/>
                      </a:lnTo>
                      <a:lnTo>
                        <a:pt x="769" y="38"/>
                      </a:lnTo>
                      <a:lnTo>
                        <a:pt x="786" y="31"/>
                      </a:lnTo>
                      <a:lnTo>
                        <a:pt x="802" y="31"/>
                      </a:lnTo>
                      <a:lnTo>
                        <a:pt x="819" y="31"/>
                      </a:lnTo>
                      <a:lnTo>
                        <a:pt x="836" y="31"/>
                      </a:lnTo>
                      <a:lnTo>
                        <a:pt x="853" y="31"/>
                      </a:lnTo>
                      <a:lnTo>
                        <a:pt x="878" y="31"/>
                      </a:lnTo>
                      <a:lnTo>
                        <a:pt x="894" y="31"/>
                      </a:lnTo>
                      <a:lnTo>
                        <a:pt x="911" y="31"/>
                      </a:lnTo>
                      <a:lnTo>
                        <a:pt x="928" y="31"/>
                      </a:lnTo>
                      <a:lnTo>
                        <a:pt x="945" y="31"/>
                      </a:lnTo>
                      <a:lnTo>
                        <a:pt x="961" y="31"/>
                      </a:lnTo>
                      <a:lnTo>
                        <a:pt x="986" y="31"/>
                      </a:lnTo>
                      <a:lnTo>
                        <a:pt x="1011" y="23"/>
                      </a:lnTo>
                      <a:lnTo>
                        <a:pt x="1045" y="23"/>
                      </a:lnTo>
                      <a:lnTo>
                        <a:pt x="1070" y="23"/>
                      </a:lnTo>
                      <a:lnTo>
                        <a:pt x="1095" y="23"/>
                      </a:lnTo>
                      <a:lnTo>
                        <a:pt x="1128" y="23"/>
                      </a:lnTo>
                      <a:lnTo>
                        <a:pt x="1153" y="23"/>
                      </a:lnTo>
                      <a:lnTo>
                        <a:pt x="1179" y="15"/>
                      </a:lnTo>
                      <a:lnTo>
                        <a:pt x="1212" y="15"/>
                      </a:lnTo>
                      <a:lnTo>
                        <a:pt x="1237" y="15"/>
                      </a:lnTo>
                      <a:lnTo>
                        <a:pt x="1262" y="15"/>
                      </a:lnTo>
                      <a:lnTo>
                        <a:pt x="1296" y="15"/>
                      </a:lnTo>
                      <a:lnTo>
                        <a:pt x="1321" y="15"/>
                      </a:lnTo>
                      <a:lnTo>
                        <a:pt x="1346" y="15"/>
                      </a:lnTo>
                      <a:lnTo>
                        <a:pt x="1379" y="15"/>
                      </a:lnTo>
                      <a:lnTo>
                        <a:pt x="1404" y="15"/>
                      </a:lnTo>
                      <a:lnTo>
                        <a:pt x="1421" y="15"/>
                      </a:lnTo>
                      <a:lnTo>
                        <a:pt x="1446" y="23"/>
                      </a:lnTo>
                      <a:lnTo>
                        <a:pt x="1471" y="23"/>
                      </a:lnTo>
                      <a:lnTo>
                        <a:pt x="1488" y="23"/>
                      </a:lnTo>
                      <a:lnTo>
                        <a:pt x="1513" y="31"/>
                      </a:lnTo>
                      <a:lnTo>
                        <a:pt x="1538" y="31"/>
                      </a:lnTo>
                      <a:lnTo>
                        <a:pt x="1555" y="38"/>
                      </a:lnTo>
                      <a:lnTo>
                        <a:pt x="1580" y="38"/>
                      </a:lnTo>
                      <a:lnTo>
                        <a:pt x="1596" y="46"/>
                      </a:lnTo>
                      <a:lnTo>
                        <a:pt x="1621" y="46"/>
                      </a:lnTo>
                      <a:lnTo>
                        <a:pt x="1647" y="54"/>
                      </a:lnTo>
                      <a:lnTo>
                        <a:pt x="1672" y="54"/>
                      </a:lnTo>
                      <a:lnTo>
                        <a:pt x="1688" y="54"/>
                      </a:lnTo>
                      <a:lnTo>
                        <a:pt x="1713" y="54"/>
                      </a:lnTo>
                      <a:lnTo>
                        <a:pt x="1730" y="61"/>
                      </a:lnTo>
                      <a:lnTo>
                        <a:pt x="1755" y="61"/>
                      </a:lnTo>
                      <a:lnTo>
                        <a:pt x="1780" y="54"/>
                      </a:lnTo>
                      <a:lnTo>
                        <a:pt x="1797" y="54"/>
                      </a:lnTo>
                      <a:lnTo>
                        <a:pt x="1822" y="54"/>
                      </a:lnTo>
                      <a:lnTo>
                        <a:pt x="1847" y="54"/>
                      </a:lnTo>
                      <a:lnTo>
                        <a:pt x="1872" y="54"/>
                      </a:lnTo>
                      <a:lnTo>
                        <a:pt x="1889" y="54"/>
                      </a:lnTo>
                      <a:lnTo>
                        <a:pt x="1914" y="54"/>
                      </a:lnTo>
                      <a:lnTo>
                        <a:pt x="1939" y="54"/>
                      </a:lnTo>
                      <a:lnTo>
                        <a:pt x="1956" y="46"/>
                      </a:lnTo>
                      <a:lnTo>
                        <a:pt x="1981" y="46"/>
                      </a:lnTo>
                      <a:lnTo>
                        <a:pt x="1998" y="46"/>
                      </a:lnTo>
                      <a:lnTo>
                        <a:pt x="2023" y="46"/>
                      </a:lnTo>
                      <a:lnTo>
                        <a:pt x="2048" y="38"/>
                      </a:lnTo>
                      <a:lnTo>
                        <a:pt x="2064" y="38"/>
                      </a:lnTo>
                      <a:lnTo>
                        <a:pt x="2089" y="38"/>
                      </a:lnTo>
                      <a:lnTo>
                        <a:pt x="2115" y="38"/>
                      </a:lnTo>
                      <a:lnTo>
                        <a:pt x="2131" y="31"/>
                      </a:lnTo>
                      <a:lnTo>
                        <a:pt x="2156" y="31"/>
                      </a:lnTo>
                      <a:lnTo>
                        <a:pt x="2181" y="31"/>
                      </a:lnTo>
                      <a:lnTo>
                        <a:pt x="2198" y="31"/>
                      </a:lnTo>
                      <a:lnTo>
                        <a:pt x="2223" y="23"/>
                      </a:lnTo>
                      <a:lnTo>
                        <a:pt x="2248" y="23"/>
                      </a:lnTo>
                      <a:lnTo>
                        <a:pt x="2265" y="23"/>
                      </a:lnTo>
                      <a:lnTo>
                        <a:pt x="2290" y="15"/>
                      </a:lnTo>
                      <a:lnTo>
                        <a:pt x="2315" y="15"/>
                      </a:lnTo>
                      <a:lnTo>
                        <a:pt x="2332" y="15"/>
                      </a:lnTo>
                      <a:lnTo>
                        <a:pt x="2357" y="15"/>
                      </a:lnTo>
                      <a:lnTo>
                        <a:pt x="2374" y="8"/>
                      </a:lnTo>
                      <a:lnTo>
                        <a:pt x="2399" y="8"/>
                      </a:lnTo>
                      <a:lnTo>
                        <a:pt x="2424" y="8"/>
                      </a:lnTo>
                      <a:lnTo>
                        <a:pt x="2449" y="8"/>
                      </a:lnTo>
                      <a:lnTo>
                        <a:pt x="2466" y="0"/>
                      </a:lnTo>
                      <a:close/>
                    </a:path>
                  </a:pathLst>
                </a:custGeom>
                <a:solidFill>
                  <a:srgbClr val="990000"/>
                </a:solidFill>
                <a:ln w="0">
                  <a:no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Freeform 515"/>
                <p:cNvSpPr/>
                <p:nvPr/>
              </p:nvSpPr>
              <p:spPr>
                <a:xfrm flipH="1">
                  <a:off x="288360" y="1411200"/>
                  <a:ext cx="495360" cy="20880"/>
                </a:xfrm>
                <a:custGeom>
                  <a:avLst/>
                  <a:gdLst>
                    <a:gd name="textAreaLeft" fmla="*/ 360 w 495360"/>
                    <a:gd name="textAreaRight" fmla="*/ 496080 w 495360"/>
                    <a:gd name="textAreaTop" fmla="*/ 0 h 20880"/>
                    <a:gd name="textAreaBottom" fmla="*/ 21240 h 20880"/>
                  </a:gdLst>
                  <a:ahLst/>
                  <a:rect l="textAreaLeft" t="textAreaTop" r="textAreaRight" b="textAreaBottom"/>
                  <a:pathLst>
                    <a:path w="2482" h="100">
                      <a:moveTo>
                        <a:pt x="2466" y="0"/>
                      </a:moveTo>
                      <a:lnTo>
                        <a:pt x="2474" y="15"/>
                      </a:lnTo>
                      <a:lnTo>
                        <a:pt x="2474" y="23"/>
                      </a:lnTo>
                      <a:lnTo>
                        <a:pt x="2482" y="38"/>
                      </a:lnTo>
                      <a:lnTo>
                        <a:pt x="2482" y="54"/>
                      </a:lnTo>
                      <a:lnTo>
                        <a:pt x="2466" y="54"/>
                      </a:lnTo>
                      <a:lnTo>
                        <a:pt x="2449" y="61"/>
                      </a:lnTo>
                      <a:lnTo>
                        <a:pt x="2424" y="61"/>
                      </a:lnTo>
                      <a:lnTo>
                        <a:pt x="2407" y="61"/>
                      </a:lnTo>
                      <a:lnTo>
                        <a:pt x="2390" y="69"/>
                      </a:lnTo>
                      <a:lnTo>
                        <a:pt x="2365" y="69"/>
                      </a:lnTo>
                      <a:lnTo>
                        <a:pt x="2349" y="77"/>
                      </a:lnTo>
                      <a:lnTo>
                        <a:pt x="2323" y="77"/>
                      </a:lnTo>
                      <a:lnTo>
                        <a:pt x="2307" y="77"/>
                      </a:lnTo>
                      <a:lnTo>
                        <a:pt x="2282" y="85"/>
                      </a:lnTo>
                      <a:lnTo>
                        <a:pt x="2265" y="85"/>
                      </a:lnTo>
                      <a:lnTo>
                        <a:pt x="2248" y="85"/>
                      </a:lnTo>
                      <a:lnTo>
                        <a:pt x="2223" y="92"/>
                      </a:lnTo>
                      <a:lnTo>
                        <a:pt x="2206" y="92"/>
                      </a:lnTo>
                      <a:lnTo>
                        <a:pt x="2181" y="92"/>
                      </a:lnTo>
                      <a:lnTo>
                        <a:pt x="2165" y="92"/>
                      </a:lnTo>
                      <a:lnTo>
                        <a:pt x="2140" y="92"/>
                      </a:lnTo>
                      <a:lnTo>
                        <a:pt x="2115" y="92"/>
                      </a:lnTo>
                      <a:lnTo>
                        <a:pt x="2081" y="100"/>
                      </a:lnTo>
                      <a:lnTo>
                        <a:pt x="2056" y="100"/>
                      </a:lnTo>
                      <a:lnTo>
                        <a:pt x="2031" y="100"/>
                      </a:lnTo>
                      <a:lnTo>
                        <a:pt x="2006" y="100"/>
                      </a:lnTo>
                      <a:lnTo>
                        <a:pt x="1981" y="100"/>
                      </a:lnTo>
                      <a:lnTo>
                        <a:pt x="1956" y="100"/>
                      </a:lnTo>
                      <a:lnTo>
                        <a:pt x="1931" y="100"/>
                      </a:lnTo>
                      <a:lnTo>
                        <a:pt x="1906" y="100"/>
                      </a:lnTo>
                      <a:lnTo>
                        <a:pt x="1872" y="100"/>
                      </a:lnTo>
                      <a:lnTo>
                        <a:pt x="1847" y="100"/>
                      </a:lnTo>
                      <a:lnTo>
                        <a:pt x="1822" y="100"/>
                      </a:lnTo>
                      <a:lnTo>
                        <a:pt x="1797" y="92"/>
                      </a:lnTo>
                      <a:lnTo>
                        <a:pt x="1772" y="92"/>
                      </a:lnTo>
                      <a:lnTo>
                        <a:pt x="1747" y="92"/>
                      </a:lnTo>
                      <a:lnTo>
                        <a:pt x="1722" y="92"/>
                      </a:lnTo>
                      <a:lnTo>
                        <a:pt x="1705" y="92"/>
                      </a:lnTo>
                      <a:lnTo>
                        <a:pt x="1688" y="92"/>
                      </a:lnTo>
                      <a:lnTo>
                        <a:pt x="1663" y="85"/>
                      </a:lnTo>
                      <a:lnTo>
                        <a:pt x="1647" y="85"/>
                      </a:lnTo>
                      <a:lnTo>
                        <a:pt x="1621" y="85"/>
                      </a:lnTo>
                      <a:lnTo>
                        <a:pt x="1605" y="85"/>
                      </a:lnTo>
                      <a:lnTo>
                        <a:pt x="1580" y="77"/>
                      </a:lnTo>
                      <a:lnTo>
                        <a:pt x="1563" y="77"/>
                      </a:lnTo>
                      <a:lnTo>
                        <a:pt x="1538" y="77"/>
                      </a:lnTo>
                      <a:lnTo>
                        <a:pt x="1521" y="77"/>
                      </a:lnTo>
                      <a:lnTo>
                        <a:pt x="1496" y="69"/>
                      </a:lnTo>
                      <a:lnTo>
                        <a:pt x="1479" y="69"/>
                      </a:lnTo>
                      <a:lnTo>
                        <a:pt x="1454" y="69"/>
                      </a:lnTo>
                      <a:lnTo>
                        <a:pt x="1438" y="61"/>
                      </a:lnTo>
                      <a:lnTo>
                        <a:pt x="1413" y="61"/>
                      </a:lnTo>
                      <a:lnTo>
                        <a:pt x="1396" y="61"/>
                      </a:lnTo>
                      <a:lnTo>
                        <a:pt x="1371" y="61"/>
                      </a:lnTo>
                      <a:lnTo>
                        <a:pt x="1354" y="54"/>
                      </a:lnTo>
                      <a:lnTo>
                        <a:pt x="1329" y="54"/>
                      </a:lnTo>
                      <a:lnTo>
                        <a:pt x="1312" y="54"/>
                      </a:lnTo>
                      <a:lnTo>
                        <a:pt x="1287" y="54"/>
                      </a:lnTo>
                      <a:lnTo>
                        <a:pt x="1270" y="54"/>
                      </a:lnTo>
                      <a:lnTo>
                        <a:pt x="1245" y="46"/>
                      </a:lnTo>
                      <a:lnTo>
                        <a:pt x="1229" y="46"/>
                      </a:lnTo>
                      <a:lnTo>
                        <a:pt x="1204" y="46"/>
                      </a:lnTo>
                      <a:lnTo>
                        <a:pt x="1187" y="46"/>
                      </a:lnTo>
                      <a:lnTo>
                        <a:pt x="1162" y="54"/>
                      </a:lnTo>
                      <a:lnTo>
                        <a:pt x="1145" y="54"/>
                      </a:lnTo>
                      <a:lnTo>
                        <a:pt x="1120" y="54"/>
                      </a:lnTo>
                      <a:lnTo>
                        <a:pt x="1103" y="54"/>
                      </a:lnTo>
                      <a:lnTo>
                        <a:pt x="1087" y="54"/>
                      </a:lnTo>
                      <a:lnTo>
                        <a:pt x="1062" y="61"/>
                      </a:lnTo>
                      <a:lnTo>
                        <a:pt x="1045" y="61"/>
                      </a:lnTo>
                      <a:lnTo>
                        <a:pt x="1028" y="61"/>
                      </a:lnTo>
                      <a:lnTo>
                        <a:pt x="1011" y="69"/>
                      </a:lnTo>
                      <a:lnTo>
                        <a:pt x="986" y="69"/>
                      </a:lnTo>
                      <a:lnTo>
                        <a:pt x="970" y="69"/>
                      </a:lnTo>
                      <a:lnTo>
                        <a:pt x="953" y="69"/>
                      </a:lnTo>
                      <a:lnTo>
                        <a:pt x="936" y="77"/>
                      </a:lnTo>
                      <a:lnTo>
                        <a:pt x="919" y="77"/>
                      </a:lnTo>
                      <a:lnTo>
                        <a:pt x="903" y="77"/>
                      </a:lnTo>
                      <a:lnTo>
                        <a:pt x="886" y="77"/>
                      </a:lnTo>
                      <a:lnTo>
                        <a:pt x="861" y="77"/>
                      </a:lnTo>
                      <a:lnTo>
                        <a:pt x="844" y="85"/>
                      </a:lnTo>
                      <a:lnTo>
                        <a:pt x="828" y="85"/>
                      </a:lnTo>
                      <a:lnTo>
                        <a:pt x="811" y="85"/>
                      </a:lnTo>
                      <a:lnTo>
                        <a:pt x="794" y="85"/>
                      </a:lnTo>
                      <a:lnTo>
                        <a:pt x="777" y="85"/>
                      </a:lnTo>
                      <a:lnTo>
                        <a:pt x="761" y="85"/>
                      </a:lnTo>
                      <a:lnTo>
                        <a:pt x="744" y="85"/>
                      </a:lnTo>
                      <a:lnTo>
                        <a:pt x="727" y="92"/>
                      </a:lnTo>
                      <a:lnTo>
                        <a:pt x="711" y="92"/>
                      </a:lnTo>
                      <a:lnTo>
                        <a:pt x="685" y="92"/>
                      </a:lnTo>
                      <a:lnTo>
                        <a:pt x="669" y="92"/>
                      </a:lnTo>
                      <a:lnTo>
                        <a:pt x="652" y="92"/>
                      </a:lnTo>
                      <a:lnTo>
                        <a:pt x="635" y="92"/>
                      </a:lnTo>
                      <a:lnTo>
                        <a:pt x="619" y="92"/>
                      </a:lnTo>
                      <a:lnTo>
                        <a:pt x="602" y="92"/>
                      </a:lnTo>
                      <a:lnTo>
                        <a:pt x="577" y="92"/>
                      </a:lnTo>
                      <a:lnTo>
                        <a:pt x="560" y="92"/>
                      </a:lnTo>
                      <a:lnTo>
                        <a:pt x="543" y="92"/>
                      </a:lnTo>
                      <a:lnTo>
                        <a:pt x="527" y="92"/>
                      </a:lnTo>
                      <a:lnTo>
                        <a:pt x="502" y="92"/>
                      </a:lnTo>
                      <a:lnTo>
                        <a:pt x="485" y="92"/>
                      </a:lnTo>
                      <a:lnTo>
                        <a:pt x="460" y="92"/>
                      </a:lnTo>
                      <a:lnTo>
                        <a:pt x="435" y="92"/>
                      </a:lnTo>
                      <a:lnTo>
                        <a:pt x="410" y="92"/>
                      </a:lnTo>
                      <a:lnTo>
                        <a:pt x="393" y="85"/>
                      </a:lnTo>
                      <a:lnTo>
                        <a:pt x="368" y="85"/>
                      </a:lnTo>
                      <a:lnTo>
                        <a:pt x="343" y="85"/>
                      </a:lnTo>
                      <a:lnTo>
                        <a:pt x="318" y="77"/>
                      </a:lnTo>
                      <a:lnTo>
                        <a:pt x="293" y="77"/>
                      </a:lnTo>
                      <a:lnTo>
                        <a:pt x="268" y="69"/>
                      </a:lnTo>
                      <a:lnTo>
                        <a:pt x="243" y="69"/>
                      </a:lnTo>
                      <a:lnTo>
                        <a:pt x="217" y="69"/>
                      </a:lnTo>
                      <a:lnTo>
                        <a:pt x="192" y="61"/>
                      </a:lnTo>
                      <a:lnTo>
                        <a:pt x="176" y="61"/>
                      </a:lnTo>
                      <a:lnTo>
                        <a:pt x="151" y="61"/>
                      </a:lnTo>
                      <a:lnTo>
                        <a:pt x="126" y="54"/>
                      </a:lnTo>
                      <a:lnTo>
                        <a:pt x="117" y="54"/>
                      </a:lnTo>
                      <a:lnTo>
                        <a:pt x="109" y="54"/>
                      </a:lnTo>
                      <a:lnTo>
                        <a:pt x="100" y="54"/>
                      </a:lnTo>
                      <a:lnTo>
                        <a:pt x="92" y="54"/>
                      </a:lnTo>
                      <a:lnTo>
                        <a:pt x="84" y="54"/>
                      </a:lnTo>
                      <a:lnTo>
                        <a:pt x="75" y="54"/>
                      </a:lnTo>
                      <a:lnTo>
                        <a:pt x="67" y="54"/>
                      </a:lnTo>
                      <a:lnTo>
                        <a:pt x="59" y="54"/>
                      </a:lnTo>
                      <a:lnTo>
                        <a:pt x="50" y="61"/>
                      </a:lnTo>
                      <a:lnTo>
                        <a:pt x="42" y="61"/>
                      </a:lnTo>
                      <a:lnTo>
                        <a:pt x="34" y="61"/>
                      </a:lnTo>
                      <a:lnTo>
                        <a:pt x="25" y="61"/>
                      </a:lnTo>
                      <a:lnTo>
                        <a:pt x="17" y="61"/>
                      </a:lnTo>
                      <a:lnTo>
                        <a:pt x="9" y="61"/>
                      </a:lnTo>
                      <a:lnTo>
                        <a:pt x="0" y="61"/>
                      </a:lnTo>
                      <a:lnTo>
                        <a:pt x="9" y="54"/>
                      </a:lnTo>
                      <a:lnTo>
                        <a:pt x="9" y="46"/>
                      </a:lnTo>
                      <a:lnTo>
                        <a:pt x="17" y="38"/>
                      </a:lnTo>
                      <a:lnTo>
                        <a:pt x="25" y="23"/>
                      </a:lnTo>
                      <a:lnTo>
                        <a:pt x="25" y="15"/>
                      </a:lnTo>
                      <a:lnTo>
                        <a:pt x="42" y="15"/>
                      </a:lnTo>
                      <a:lnTo>
                        <a:pt x="50" y="8"/>
                      </a:lnTo>
                      <a:lnTo>
                        <a:pt x="59" y="8"/>
                      </a:lnTo>
                      <a:lnTo>
                        <a:pt x="75" y="8"/>
                      </a:lnTo>
                      <a:lnTo>
                        <a:pt x="100" y="8"/>
                      </a:lnTo>
                      <a:lnTo>
                        <a:pt x="117" y="8"/>
                      </a:lnTo>
                      <a:lnTo>
                        <a:pt x="142" y="15"/>
                      </a:lnTo>
                      <a:lnTo>
                        <a:pt x="167" y="15"/>
                      </a:lnTo>
                      <a:lnTo>
                        <a:pt x="184" y="15"/>
                      </a:lnTo>
                      <a:lnTo>
                        <a:pt x="209" y="23"/>
                      </a:lnTo>
                      <a:lnTo>
                        <a:pt x="234" y="23"/>
                      </a:lnTo>
                      <a:lnTo>
                        <a:pt x="251" y="31"/>
                      </a:lnTo>
                      <a:lnTo>
                        <a:pt x="276" y="31"/>
                      </a:lnTo>
                      <a:lnTo>
                        <a:pt x="301" y="31"/>
                      </a:lnTo>
                      <a:lnTo>
                        <a:pt x="318" y="38"/>
                      </a:lnTo>
                      <a:lnTo>
                        <a:pt x="343" y="38"/>
                      </a:lnTo>
                      <a:lnTo>
                        <a:pt x="360" y="38"/>
                      </a:lnTo>
                      <a:lnTo>
                        <a:pt x="385" y="38"/>
                      </a:lnTo>
                      <a:lnTo>
                        <a:pt x="401" y="38"/>
                      </a:lnTo>
                      <a:lnTo>
                        <a:pt x="426" y="38"/>
                      </a:lnTo>
                      <a:lnTo>
                        <a:pt x="443" y="46"/>
                      </a:lnTo>
                      <a:lnTo>
                        <a:pt x="460" y="46"/>
                      </a:lnTo>
                      <a:lnTo>
                        <a:pt x="477" y="46"/>
                      </a:lnTo>
                      <a:lnTo>
                        <a:pt x="493" y="46"/>
                      </a:lnTo>
                      <a:lnTo>
                        <a:pt x="510" y="46"/>
                      </a:lnTo>
                      <a:lnTo>
                        <a:pt x="527" y="46"/>
                      </a:lnTo>
                      <a:lnTo>
                        <a:pt x="543" y="38"/>
                      </a:lnTo>
                      <a:lnTo>
                        <a:pt x="560" y="38"/>
                      </a:lnTo>
                      <a:lnTo>
                        <a:pt x="577" y="38"/>
                      </a:lnTo>
                      <a:lnTo>
                        <a:pt x="594" y="38"/>
                      </a:lnTo>
                      <a:lnTo>
                        <a:pt x="610" y="38"/>
                      </a:lnTo>
                      <a:lnTo>
                        <a:pt x="635" y="38"/>
                      </a:lnTo>
                      <a:lnTo>
                        <a:pt x="652" y="38"/>
                      </a:lnTo>
                      <a:lnTo>
                        <a:pt x="669" y="38"/>
                      </a:lnTo>
                      <a:lnTo>
                        <a:pt x="685" y="38"/>
                      </a:lnTo>
                      <a:lnTo>
                        <a:pt x="702" y="38"/>
                      </a:lnTo>
                      <a:lnTo>
                        <a:pt x="719" y="38"/>
                      </a:lnTo>
                      <a:lnTo>
                        <a:pt x="736" y="38"/>
                      </a:lnTo>
                      <a:lnTo>
                        <a:pt x="752" y="38"/>
                      </a:lnTo>
                      <a:lnTo>
                        <a:pt x="769" y="38"/>
                      </a:lnTo>
                      <a:lnTo>
                        <a:pt x="786" y="31"/>
                      </a:lnTo>
                      <a:lnTo>
                        <a:pt x="802" y="31"/>
                      </a:lnTo>
                      <a:lnTo>
                        <a:pt x="819" y="31"/>
                      </a:lnTo>
                      <a:lnTo>
                        <a:pt x="836" y="31"/>
                      </a:lnTo>
                      <a:lnTo>
                        <a:pt x="853" y="31"/>
                      </a:lnTo>
                      <a:lnTo>
                        <a:pt x="878" y="31"/>
                      </a:lnTo>
                      <a:lnTo>
                        <a:pt x="894" y="31"/>
                      </a:lnTo>
                      <a:lnTo>
                        <a:pt x="911" y="31"/>
                      </a:lnTo>
                      <a:lnTo>
                        <a:pt x="928" y="31"/>
                      </a:lnTo>
                      <a:lnTo>
                        <a:pt x="945" y="31"/>
                      </a:lnTo>
                      <a:lnTo>
                        <a:pt x="961" y="31"/>
                      </a:lnTo>
                      <a:lnTo>
                        <a:pt x="986" y="31"/>
                      </a:lnTo>
                      <a:lnTo>
                        <a:pt x="1011" y="23"/>
                      </a:lnTo>
                      <a:lnTo>
                        <a:pt x="1045" y="23"/>
                      </a:lnTo>
                      <a:lnTo>
                        <a:pt x="1070" y="23"/>
                      </a:lnTo>
                      <a:lnTo>
                        <a:pt x="1095" y="23"/>
                      </a:lnTo>
                      <a:lnTo>
                        <a:pt x="1128" y="23"/>
                      </a:lnTo>
                      <a:lnTo>
                        <a:pt x="1153" y="23"/>
                      </a:lnTo>
                      <a:lnTo>
                        <a:pt x="1179" y="15"/>
                      </a:lnTo>
                      <a:lnTo>
                        <a:pt x="1212" y="15"/>
                      </a:lnTo>
                      <a:lnTo>
                        <a:pt x="1237" y="15"/>
                      </a:lnTo>
                      <a:lnTo>
                        <a:pt x="1262" y="15"/>
                      </a:lnTo>
                      <a:lnTo>
                        <a:pt x="1296" y="15"/>
                      </a:lnTo>
                      <a:lnTo>
                        <a:pt x="1321" y="15"/>
                      </a:lnTo>
                      <a:lnTo>
                        <a:pt x="1346" y="15"/>
                      </a:lnTo>
                      <a:lnTo>
                        <a:pt x="1379" y="15"/>
                      </a:lnTo>
                      <a:lnTo>
                        <a:pt x="1404" y="15"/>
                      </a:lnTo>
                      <a:lnTo>
                        <a:pt x="1421" y="15"/>
                      </a:lnTo>
                      <a:lnTo>
                        <a:pt x="1446" y="23"/>
                      </a:lnTo>
                      <a:lnTo>
                        <a:pt x="1471" y="23"/>
                      </a:lnTo>
                      <a:lnTo>
                        <a:pt x="1488" y="23"/>
                      </a:lnTo>
                      <a:lnTo>
                        <a:pt x="1513" y="31"/>
                      </a:lnTo>
                      <a:lnTo>
                        <a:pt x="1538" y="31"/>
                      </a:lnTo>
                      <a:lnTo>
                        <a:pt x="1555" y="38"/>
                      </a:lnTo>
                      <a:lnTo>
                        <a:pt x="1580" y="38"/>
                      </a:lnTo>
                      <a:lnTo>
                        <a:pt x="1596" y="46"/>
                      </a:lnTo>
                      <a:lnTo>
                        <a:pt x="1621" y="46"/>
                      </a:lnTo>
                      <a:lnTo>
                        <a:pt x="1647" y="54"/>
                      </a:lnTo>
                      <a:lnTo>
                        <a:pt x="1672" y="54"/>
                      </a:lnTo>
                      <a:lnTo>
                        <a:pt x="1688" y="54"/>
                      </a:lnTo>
                      <a:lnTo>
                        <a:pt x="1713" y="54"/>
                      </a:lnTo>
                      <a:lnTo>
                        <a:pt x="1730" y="61"/>
                      </a:lnTo>
                      <a:lnTo>
                        <a:pt x="1755" y="61"/>
                      </a:lnTo>
                      <a:lnTo>
                        <a:pt x="1780" y="54"/>
                      </a:lnTo>
                      <a:lnTo>
                        <a:pt x="1797" y="54"/>
                      </a:lnTo>
                      <a:lnTo>
                        <a:pt x="1822" y="54"/>
                      </a:lnTo>
                      <a:lnTo>
                        <a:pt x="1847" y="54"/>
                      </a:lnTo>
                      <a:lnTo>
                        <a:pt x="1872" y="54"/>
                      </a:lnTo>
                      <a:lnTo>
                        <a:pt x="1889" y="54"/>
                      </a:lnTo>
                      <a:lnTo>
                        <a:pt x="1914" y="54"/>
                      </a:lnTo>
                      <a:lnTo>
                        <a:pt x="1939" y="54"/>
                      </a:lnTo>
                      <a:lnTo>
                        <a:pt x="1956" y="46"/>
                      </a:lnTo>
                      <a:lnTo>
                        <a:pt x="1981" y="46"/>
                      </a:lnTo>
                      <a:lnTo>
                        <a:pt x="1998" y="46"/>
                      </a:lnTo>
                      <a:lnTo>
                        <a:pt x="2023" y="46"/>
                      </a:lnTo>
                      <a:lnTo>
                        <a:pt x="2048" y="38"/>
                      </a:lnTo>
                      <a:lnTo>
                        <a:pt x="2064" y="38"/>
                      </a:lnTo>
                      <a:lnTo>
                        <a:pt x="2089" y="38"/>
                      </a:lnTo>
                      <a:lnTo>
                        <a:pt x="2115" y="38"/>
                      </a:lnTo>
                      <a:lnTo>
                        <a:pt x="2131" y="31"/>
                      </a:lnTo>
                      <a:lnTo>
                        <a:pt x="2156" y="31"/>
                      </a:lnTo>
                      <a:lnTo>
                        <a:pt x="2181" y="31"/>
                      </a:lnTo>
                      <a:lnTo>
                        <a:pt x="2198" y="31"/>
                      </a:lnTo>
                      <a:lnTo>
                        <a:pt x="2223" y="23"/>
                      </a:lnTo>
                      <a:lnTo>
                        <a:pt x="2248" y="23"/>
                      </a:lnTo>
                      <a:lnTo>
                        <a:pt x="2265" y="23"/>
                      </a:lnTo>
                      <a:lnTo>
                        <a:pt x="2290" y="15"/>
                      </a:lnTo>
                      <a:lnTo>
                        <a:pt x="2315" y="15"/>
                      </a:lnTo>
                      <a:lnTo>
                        <a:pt x="2332" y="15"/>
                      </a:lnTo>
                      <a:lnTo>
                        <a:pt x="2357" y="15"/>
                      </a:lnTo>
                      <a:lnTo>
                        <a:pt x="2374" y="8"/>
                      </a:lnTo>
                      <a:lnTo>
                        <a:pt x="2399" y="8"/>
                      </a:lnTo>
                      <a:lnTo>
                        <a:pt x="2424" y="8"/>
                      </a:lnTo>
                      <a:lnTo>
                        <a:pt x="2449" y="8"/>
                      </a:lnTo>
                      <a:lnTo>
                        <a:pt x="2466" y="0"/>
                      </a:lnTo>
                    </a:path>
                  </a:pathLst>
                </a:custGeom>
                <a:noFill/>
                <a:ln w="0">
                  <a:solidFill>
                    <a:srgbClr val="000000"/>
                  </a:solid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1" name="Freeform 514"/>
                <p:cNvSpPr/>
                <p:nvPr/>
              </p:nvSpPr>
              <p:spPr>
                <a:xfrm flipH="1">
                  <a:off x="454680" y="1503000"/>
                  <a:ext cx="24840" cy="7920"/>
                </a:xfrm>
                <a:custGeom>
                  <a:avLst/>
                  <a:gdLst>
                    <a:gd name="textAreaLeft" fmla="*/ -360 w 24840"/>
                    <a:gd name="textAreaRight" fmla="*/ 24840 w 24840"/>
                    <a:gd name="textAreaTop" fmla="*/ 0 h 7920"/>
                    <a:gd name="textAreaBottom" fmla="*/ 8280 h 7920"/>
                  </a:gdLst>
                  <a:ahLst/>
                  <a:rect l="textAreaLeft" t="textAreaTop" r="textAreaRight" b="textAreaBottom"/>
                  <a:pathLst>
                    <a:path w="126" h="39">
                      <a:moveTo>
                        <a:pt x="0" y="0"/>
                      </a:moveTo>
                      <a:lnTo>
                        <a:pt x="9" y="8"/>
                      </a:lnTo>
                      <a:lnTo>
                        <a:pt x="17" y="8"/>
                      </a:lnTo>
                      <a:lnTo>
                        <a:pt x="17" y="16"/>
                      </a:lnTo>
                      <a:lnTo>
                        <a:pt x="25" y="16"/>
                      </a:lnTo>
                      <a:lnTo>
                        <a:pt x="34" y="16"/>
                      </a:lnTo>
                      <a:lnTo>
                        <a:pt x="42" y="23"/>
                      </a:lnTo>
                      <a:lnTo>
                        <a:pt x="50" y="23"/>
                      </a:lnTo>
                      <a:lnTo>
                        <a:pt x="59" y="31"/>
                      </a:lnTo>
                      <a:lnTo>
                        <a:pt x="67" y="31"/>
                      </a:lnTo>
                      <a:lnTo>
                        <a:pt x="75" y="31"/>
                      </a:lnTo>
                      <a:lnTo>
                        <a:pt x="84" y="39"/>
                      </a:lnTo>
                      <a:lnTo>
                        <a:pt x="92" y="39"/>
                      </a:lnTo>
                      <a:lnTo>
                        <a:pt x="100" y="39"/>
                      </a:lnTo>
                      <a:lnTo>
                        <a:pt x="109" y="39"/>
                      </a:lnTo>
                      <a:lnTo>
                        <a:pt x="126" y="39"/>
                      </a:lnTo>
                    </a:path>
                  </a:pathLst>
                </a:custGeom>
                <a:noFill/>
                <a:ln w="0">
                  <a:solidFill>
                    <a:srgbClr val="000000"/>
                  </a:solid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Freeform 513"/>
                <p:cNvSpPr/>
                <p:nvPr/>
              </p:nvSpPr>
              <p:spPr>
                <a:xfrm flipH="1">
                  <a:off x="614880" y="1443240"/>
                  <a:ext cx="63000" cy="59400"/>
                </a:xfrm>
                <a:custGeom>
                  <a:avLst/>
                  <a:gdLst>
                    <a:gd name="textAreaLeft" fmla="*/ -360 w 63000"/>
                    <a:gd name="textAreaRight" fmla="*/ 63000 w 63000"/>
                    <a:gd name="textAreaTop" fmla="*/ 0 h 59400"/>
                    <a:gd name="textAreaBottom" fmla="*/ 59760 h 59400"/>
                  </a:gdLst>
                  <a:ahLst/>
                  <a:rect l="textAreaLeft" t="textAreaTop" r="textAreaRight" b="textAreaBottom"/>
                  <a:pathLst>
                    <a:path w="317" h="284">
                      <a:moveTo>
                        <a:pt x="317" y="0"/>
                      </a:moveTo>
                      <a:lnTo>
                        <a:pt x="301" y="31"/>
                      </a:lnTo>
                      <a:lnTo>
                        <a:pt x="275" y="54"/>
                      </a:lnTo>
                      <a:lnTo>
                        <a:pt x="242" y="77"/>
                      </a:lnTo>
                      <a:lnTo>
                        <a:pt x="217" y="100"/>
                      </a:lnTo>
                      <a:lnTo>
                        <a:pt x="192" y="123"/>
                      </a:lnTo>
                      <a:lnTo>
                        <a:pt x="158" y="138"/>
                      </a:lnTo>
                      <a:lnTo>
                        <a:pt x="133" y="161"/>
                      </a:lnTo>
                      <a:lnTo>
                        <a:pt x="100" y="177"/>
                      </a:lnTo>
                      <a:lnTo>
                        <a:pt x="75" y="192"/>
                      </a:lnTo>
                      <a:lnTo>
                        <a:pt x="58" y="207"/>
                      </a:lnTo>
                      <a:lnTo>
                        <a:pt x="33" y="223"/>
                      </a:lnTo>
                      <a:lnTo>
                        <a:pt x="16" y="238"/>
                      </a:lnTo>
                      <a:lnTo>
                        <a:pt x="8" y="254"/>
                      </a:lnTo>
                      <a:lnTo>
                        <a:pt x="0" y="261"/>
                      </a:lnTo>
                      <a:lnTo>
                        <a:pt x="0" y="277"/>
                      </a:lnTo>
                      <a:lnTo>
                        <a:pt x="0" y="284"/>
                      </a:lnTo>
                    </a:path>
                  </a:pathLst>
                </a:custGeom>
                <a:noFill/>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3" name="Line 512"/>
                <p:cNvSpPr/>
                <p:nvPr/>
              </p:nvSpPr>
              <p:spPr>
                <a:xfrm flipH="1" flipV="1">
                  <a:off x="593280" y="1520640"/>
                  <a:ext cx="18360" cy="7920"/>
                </a:xfrm>
                <a:prstGeom prst="line">
                  <a:avLst/>
                </a:prstGeom>
                <a:ln w="0">
                  <a:solidFill>
                    <a:srgbClr val="000000"/>
                  </a:solid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Freeform 511"/>
                <p:cNvSpPr/>
                <p:nvPr/>
              </p:nvSpPr>
              <p:spPr>
                <a:xfrm flipH="1">
                  <a:off x="536400" y="1478880"/>
                  <a:ext cx="56520" cy="45000"/>
                </a:xfrm>
                <a:custGeom>
                  <a:avLst/>
                  <a:gdLst>
                    <a:gd name="textAreaLeft" fmla="*/ -360 w 56520"/>
                    <a:gd name="textAreaRight" fmla="*/ 56520 w 56520"/>
                    <a:gd name="textAreaTop" fmla="*/ 0 h 45000"/>
                    <a:gd name="textAreaBottom" fmla="*/ 45360 h 45000"/>
                  </a:gdLst>
                  <a:ahLst/>
                  <a:rect l="textAreaLeft" t="textAreaTop" r="textAreaRight" b="textAreaBottom"/>
                  <a:pathLst>
                    <a:path w="284" h="215">
                      <a:moveTo>
                        <a:pt x="0" y="0"/>
                      </a:moveTo>
                      <a:lnTo>
                        <a:pt x="0" y="31"/>
                      </a:lnTo>
                      <a:lnTo>
                        <a:pt x="0" y="54"/>
                      </a:lnTo>
                      <a:lnTo>
                        <a:pt x="8" y="85"/>
                      </a:lnTo>
                      <a:lnTo>
                        <a:pt x="17" y="108"/>
                      </a:lnTo>
                      <a:lnTo>
                        <a:pt x="25" y="131"/>
                      </a:lnTo>
                      <a:lnTo>
                        <a:pt x="42" y="146"/>
                      </a:lnTo>
                      <a:lnTo>
                        <a:pt x="50" y="169"/>
                      </a:lnTo>
                      <a:lnTo>
                        <a:pt x="67" y="185"/>
                      </a:lnTo>
                      <a:lnTo>
                        <a:pt x="92" y="192"/>
                      </a:lnTo>
                      <a:lnTo>
                        <a:pt x="109" y="200"/>
                      </a:lnTo>
                      <a:lnTo>
                        <a:pt x="134" y="208"/>
                      </a:lnTo>
                      <a:lnTo>
                        <a:pt x="159" y="215"/>
                      </a:lnTo>
                      <a:lnTo>
                        <a:pt x="192" y="208"/>
                      </a:lnTo>
                      <a:lnTo>
                        <a:pt x="217" y="208"/>
                      </a:lnTo>
                      <a:lnTo>
                        <a:pt x="251" y="200"/>
                      </a:lnTo>
                      <a:lnTo>
                        <a:pt x="284" y="185"/>
                      </a:lnTo>
                    </a:path>
                  </a:pathLst>
                </a:custGeom>
                <a:noFill/>
                <a:ln w="0">
                  <a:solidFill>
                    <a:srgbClr val="000000"/>
                  </a:solid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Freeform 510"/>
                <p:cNvSpPr/>
                <p:nvPr/>
              </p:nvSpPr>
              <p:spPr>
                <a:xfrm flipH="1">
                  <a:off x="134640" y="1770840"/>
                  <a:ext cx="136440" cy="83880"/>
                </a:xfrm>
                <a:custGeom>
                  <a:avLst/>
                  <a:gdLst>
                    <a:gd name="textAreaLeft" fmla="*/ -360 w 136440"/>
                    <a:gd name="textAreaRight" fmla="*/ 136440 w 136440"/>
                    <a:gd name="textAreaTop" fmla="*/ 0 h 83880"/>
                    <a:gd name="textAreaBottom" fmla="*/ 84240 h 83880"/>
                  </a:gdLst>
                  <a:ahLst/>
                  <a:rect l="textAreaLeft" t="textAreaTop" r="textAreaRight" b="textAreaBottom"/>
                  <a:pathLst>
                    <a:path w="685" h="400">
                      <a:moveTo>
                        <a:pt x="593" y="400"/>
                      </a:moveTo>
                      <a:lnTo>
                        <a:pt x="602" y="385"/>
                      </a:lnTo>
                      <a:lnTo>
                        <a:pt x="610" y="377"/>
                      </a:lnTo>
                      <a:lnTo>
                        <a:pt x="618" y="362"/>
                      </a:lnTo>
                      <a:lnTo>
                        <a:pt x="627" y="354"/>
                      </a:lnTo>
                      <a:lnTo>
                        <a:pt x="635" y="346"/>
                      </a:lnTo>
                      <a:lnTo>
                        <a:pt x="643" y="331"/>
                      </a:lnTo>
                      <a:lnTo>
                        <a:pt x="660" y="323"/>
                      </a:lnTo>
                      <a:lnTo>
                        <a:pt x="660" y="308"/>
                      </a:lnTo>
                      <a:lnTo>
                        <a:pt x="652" y="300"/>
                      </a:lnTo>
                      <a:lnTo>
                        <a:pt x="643" y="293"/>
                      </a:lnTo>
                      <a:lnTo>
                        <a:pt x="635" y="285"/>
                      </a:lnTo>
                      <a:lnTo>
                        <a:pt x="627" y="277"/>
                      </a:lnTo>
                      <a:lnTo>
                        <a:pt x="618" y="277"/>
                      </a:lnTo>
                      <a:lnTo>
                        <a:pt x="635" y="246"/>
                      </a:lnTo>
                      <a:lnTo>
                        <a:pt x="643" y="231"/>
                      </a:lnTo>
                      <a:lnTo>
                        <a:pt x="652" y="208"/>
                      </a:lnTo>
                      <a:lnTo>
                        <a:pt x="660" y="185"/>
                      </a:lnTo>
                      <a:lnTo>
                        <a:pt x="668" y="162"/>
                      </a:lnTo>
                      <a:lnTo>
                        <a:pt x="668" y="139"/>
                      </a:lnTo>
                      <a:lnTo>
                        <a:pt x="677" y="116"/>
                      </a:lnTo>
                      <a:lnTo>
                        <a:pt x="685" y="85"/>
                      </a:lnTo>
                      <a:lnTo>
                        <a:pt x="677" y="77"/>
                      </a:lnTo>
                      <a:lnTo>
                        <a:pt x="668" y="70"/>
                      </a:lnTo>
                      <a:lnTo>
                        <a:pt x="660" y="62"/>
                      </a:lnTo>
                      <a:lnTo>
                        <a:pt x="652" y="54"/>
                      </a:lnTo>
                      <a:lnTo>
                        <a:pt x="643" y="46"/>
                      </a:lnTo>
                      <a:lnTo>
                        <a:pt x="635" y="46"/>
                      </a:lnTo>
                      <a:lnTo>
                        <a:pt x="627" y="39"/>
                      </a:lnTo>
                      <a:lnTo>
                        <a:pt x="618" y="31"/>
                      </a:lnTo>
                      <a:lnTo>
                        <a:pt x="602" y="31"/>
                      </a:lnTo>
                      <a:lnTo>
                        <a:pt x="593" y="23"/>
                      </a:lnTo>
                      <a:lnTo>
                        <a:pt x="585" y="23"/>
                      </a:lnTo>
                      <a:lnTo>
                        <a:pt x="576" y="16"/>
                      </a:lnTo>
                      <a:lnTo>
                        <a:pt x="560" y="16"/>
                      </a:lnTo>
                      <a:lnTo>
                        <a:pt x="551" y="16"/>
                      </a:lnTo>
                      <a:lnTo>
                        <a:pt x="543" y="8"/>
                      </a:lnTo>
                      <a:lnTo>
                        <a:pt x="526" y="8"/>
                      </a:lnTo>
                      <a:lnTo>
                        <a:pt x="518" y="8"/>
                      </a:lnTo>
                      <a:lnTo>
                        <a:pt x="501" y="0"/>
                      </a:lnTo>
                      <a:lnTo>
                        <a:pt x="493" y="0"/>
                      </a:lnTo>
                      <a:lnTo>
                        <a:pt x="476" y="0"/>
                      </a:lnTo>
                      <a:lnTo>
                        <a:pt x="459" y="0"/>
                      </a:lnTo>
                      <a:lnTo>
                        <a:pt x="451" y="0"/>
                      </a:lnTo>
                      <a:lnTo>
                        <a:pt x="434" y="0"/>
                      </a:lnTo>
                      <a:lnTo>
                        <a:pt x="418" y="0"/>
                      </a:lnTo>
                      <a:lnTo>
                        <a:pt x="401" y="0"/>
                      </a:lnTo>
                      <a:lnTo>
                        <a:pt x="393" y="0"/>
                      </a:lnTo>
                      <a:lnTo>
                        <a:pt x="376" y="0"/>
                      </a:lnTo>
                      <a:lnTo>
                        <a:pt x="359" y="0"/>
                      </a:lnTo>
                      <a:lnTo>
                        <a:pt x="342" y="0"/>
                      </a:lnTo>
                      <a:lnTo>
                        <a:pt x="334" y="8"/>
                      </a:lnTo>
                      <a:lnTo>
                        <a:pt x="317" y="8"/>
                      </a:lnTo>
                      <a:lnTo>
                        <a:pt x="309" y="8"/>
                      </a:lnTo>
                      <a:lnTo>
                        <a:pt x="284" y="16"/>
                      </a:lnTo>
                      <a:lnTo>
                        <a:pt x="267" y="23"/>
                      </a:lnTo>
                      <a:lnTo>
                        <a:pt x="242" y="31"/>
                      </a:lnTo>
                      <a:lnTo>
                        <a:pt x="217" y="31"/>
                      </a:lnTo>
                      <a:lnTo>
                        <a:pt x="200" y="39"/>
                      </a:lnTo>
                      <a:lnTo>
                        <a:pt x="184" y="46"/>
                      </a:lnTo>
                      <a:lnTo>
                        <a:pt x="159" y="54"/>
                      </a:lnTo>
                      <a:lnTo>
                        <a:pt x="142" y="62"/>
                      </a:lnTo>
                      <a:lnTo>
                        <a:pt x="125" y="70"/>
                      </a:lnTo>
                      <a:lnTo>
                        <a:pt x="100" y="85"/>
                      </a:lnTo>
                      <a:lnTo>
                        <a:pt x="83" y="93"/>
                      </a:lnTo>
                      <a:lnTo>
                        <a:pt x="67" y="100"/>
                      </a:lnTo>
                      <a:lnTo>
                        <a:pt x="50" y="108"/>
                      </a:lnTo>
                      <a:lnTo>
                        <a:pt x="33" y="123"/>
                      </a:lnTo>
                      <a:lnTo>
                        <a:pt x="17" y="131"/>
                      </a:lnTo>
                      <a:lnTo>
                        <a:pt x="0" y="146"/>
                      </a:lnTo>
                      <a:lnTo>
                        <a:pt x="0" y="193"/>
                      </a:lnTo>
                      <a:lnTo>
                        <a:pt x="0" y="239"/>
                      </a:lnTo>
                      <a:lnTo>
                        <a:pt x="0" y="285"/>
                      </a:lnTo>
                      <a:lnTo>
                        <a:pt x="8" y="331"/>
                      </a:lnTo>
                      <a:lnTo>
                        <a:pt x="17" y="331"/>
                      </a:lnTo>
                      <a:lnTo>
                        <a:pt x="25" y="331"/>
                      </a:lnTo>
                      <a:lnTo>
                        <a:pt x="33" y="323"/>
                      </a:lnTo>
                      <a:lnTo>
                        <a:pt x="42" y="323"/>
                      </a:lnTo>
                      <a:lnTo>
                        <a:pt x="50" y="323"/>
                      </a:lnTo>
                      <a:lnTo>
                        <a:pt x="58" y="323"/>
                      </a:lnTo>
                      <a:lnTo>
                        <a:pt x="75" y="323"/>
                      </a:lnTo>
                      <a:lnTo>
                        <a:pt x="67" y="293"/>
                      </a:lnTo>
                      <a:lnTo>
                        <a:pt x="67" y="262"/>
                      </a:lnTo>
                      <a:lnTo>
                        <a:pt x="67" y="239"/>
                      </a:lnTo>
                      <a:lnTo>
                        <a:pt x="75" y="208"/>
                      </a:lnTo>
                      <a:lnTo>
                        <a:pt x="75" y="200"/>
                      </a:lnTo>
                      <a:lnTo>
                        <a:pt x="83" y="185"/>
                      </a:lnTo>
                      <a:lnTo>
                        <a:pt x="83" y="177"/>
                      </a:lnTo>
                      <a:lnTo>
                        <a:pt x="92" y="162"/>
                      </a:lnTo>
                      <a:lnTo>
                        <a:pt x="108" y="154"/>
                      </a:lnTo>
                      <a:lnTo>
                        <a:pt x="117" y="146"/>
                      </a:lnTo>
                      <a:lnTo>
                        <a:pt x="125" y="139"/>
                      </a:lnTo>
                      <a:lnTo>
                        <a:pt x="134" y="131"/>
                      </a:lnTo>
                      <a:lnTo>
                        <a:pt x="159" y="123"/>
                      </a:lnTo>
                      <a:lnTo>
                        <a:pt x="175" y="116"/>
                      </a:lnTo>
                      <a:lnTo>
                        <a:pt x="192" y="116"/>
                      </a:lnTo>
                      <a:lnTo>
                        <a:pt x="209" y="108"/>
                      </a:lnTo>
                      <a:lnTo>
                        <a:pt x="225" y="100"/>
                      </a:lnTo>
                      <a:lnTo>
                        <a:pt x="242" y="100"/>
                      </a:lnTo>
                      <a:lnTo>
                        <a:pt x="259" y="93"/>
                      </a:lnTo>
                      <a:lnTo>
                        <a:pt x="276" y="93"/>
                      </a:lnTo>
                      <a:lnTo>
                        <a:pt x="292" y="85"/>
                      </a:lnTo>
                      <a:lnTo>
                        <a:pt x="309" y="85"/>
                      </a:lnTo>
                      <a:lnTo>
                        <a:pt x="326" y="85"/>
                      </a:lnTo>
                      <a:lnTo>
                        <a:pt x="342" y="77"/>
                      </a:lnTo>
                      <a:lnTo>
                        <a:pt x="359" y="77"/>
                      </a:lnTo>
                      <a:lnTo>
                        <a:pt x="384" y="77"/>
                      </a:lnTo>
                      <a:lnTo>
                        <a:pt x="401" y="77"/>
                      </a:lnTo>
                      <a:lnTo>
                        <a:pt x="418" y="70"/>
                      </a:lnTo>
                      <a:lnTo>
                        <a:pt x="426" y="70"/>
                      </a:lnTo>
                      <a:lnTo>
                        <a:pt x="434" y="70"/>
                      </a:lnTo>
                      <a:lnTo>
                        <a:pt x="451" y="70"/>
                      </a:lnTo>
                      <a:lnTo>
                        <a:pt x="459" y="70"/>
                      </a:lnTo>
                      <a:lnTo>
                        <a:pt x="468" y="70"/>
                      </a:lnTo>
                      <a:lnTo>
                        <a:pt x="476" y="70"/>
                      </a:lnTo>
                      <a:lnTo>
                        <a:pt x="485" y="70"/>
                      </a:lnTo>
                      <a:lnTo>
                        <a:pt x="501" y="70"/>
                      </a:lnTo>
                      <a:lnTo>
                        <a:pt x="510" y="70"/>
                      </a:lnTo>
                      <a:lnTo>
                        <a:pt x="518" y="70"/>
                      </a:lnTo>
                      <a:lnTo>
                        <a:pt x="535" y="77"/>
                      </a:lnTo>
                      <a:lnTo>
                        <a:pt x="543" y="77"/>
                      </a:lnTo>
                      <a:lnTo>
                        <a:pt x="551" y="77"/>
                      </a:lnTo>
                      <a:lnTo>
                        <a:pt x="560" y="77"/>
                      </a:lnTo>
                      <a:lnTo>
                        <a:pt x="568" y="85"/>
                      </a:lnTo>
                      <a:lnTo>
                        <a:pt x="576" y="85"/>
                      </a:lnTo>
                      <a:lnTo>
                        <a:pt x="568" y="116"/>
                      </a:lnTo>
                      <a:lnTo>
                        <a:pt x="568" y="154"/>
                      </a:lnTo>
                      <a:lnTo>
                        <a:pt x="560" y="185"/>
                      </a:lnTo>
                      <a:lnTo>
                        <a:pt x="551" y="223"/>
                      </a:lnTo>
                      <a:lnTo>
                        <a:pt x="543" y="254"/>
                      </a:lnTo>
                      <a:lnTo>
                        <a:pt x="535" y="293"/>
                      </a:lnTo>
                      <a:lnTo>
                        <a:pt x="526" y="323"/>
                      </a:lnTo>
                      <a:lnTo>
                        <a:pt x="518" y="354"/>
                      </a:lnTo>
                      <a:lnTo>
                        <a:pt x="526" y="362"/>
                      </a:lnTo>
                      <a:lnTo>
                        <a:pt x="535" y="370"/>
                      </a:lnTo>
                      <a:lnTo>
                        <a:pt x="543" y="370"/>
                      </a:lnTo>
                      <a:lnTo>
                        <a:pt x="551" y="377"/>
                      </a:lnTo>
                      <a:lnTo>
                        <a:pt x="568" y="385"/>
                      </a:lnTo>
                      <a:lnTo>
                        <a:pt x="576" y="385"/>
                      </a:lnTo>
                      <a:lnTo>
                        <a:pt x="585" y="393"/>
                      </a:lnTo>
                      <a:lnTo>
                        <a:pt x="593" y="400"/>
                      </a:lnTo>
                      <a:close/>
                    </a:path>
                  </a:pathLst>
                </a:custGeom>
                <a:solidFill>
                  <a:srgbClr val="e8e8e8"/>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Freeform 509"/>
                <p:cNvSpPr/>
                <p:nvPr/>
              </p:nvSpPr>
              <p:spPr>
                <a:xfrm flipH="1">
                  <a:off x="134640" y="1770840"/>
                  <a:ext cx="136440" cy="83880"/>
                </a:xfrm>
                <a:custGeom>
                  <a:avLst/>
                  <a:gdLst>
                    <a:gd name="textAreaLeft" fmla="*/ -360 w 136440"/>
                    <a:gd name="textAreaRight" fmla="*/ 136440 w 136440"/>
                    <a:gd name="textAreaTop" fmla="*/ 0 h 83880"/>
                    <a:gd name="textAreaBottom" fmla="*/ 84240 h 83880"/>
                  </a:gdLst>
                  <a:ahLst/>
                  <a:rect l="textAreaLeft" t="textAreaTop" r="textAreaRight" b="textAreaBottom"/>
                  <a:pathLst>
                    <a:path w="685" h="400">
                      <a:moveTo>
                        <a:pt x="593" y="400"/>
                      </a:moveTo>
                      <a:lnTo>
                        <a:pt x="602" y="385"/>
                      </a:lnTo>
                      <a:lnTo>
                        <a:pt x="610" y="377"/>
                      </a:lnTo>
                      <a:lnTo>
                        <a:pt x="618" y="362"/>
                      </a:lnTo>
                      <a:lnTo>
                        <a:pt x="627" y="354"/>
                      </a:lnTo>
                      <a:lnTo>
                        <a:pt x="635" y="346"/>
                      </a:lnTo>
                      <a:lnTo>
                        <a:pt x="643" y="331"/>
                      </a:lnTo>
                      <a:lnTo>
                        <a:pt x="660" y="323"/>
                      </a:lnTo>
                      <a:lnTo>
                        <a:pt x="660" y="308"/>
                      </a:lnTo>
                      <a:lnTo>
                        <a:pt x="652" y="300"/>
                      </a:lnTo>
                      <a:lnTo>
                        <a:pt x="643" y="293"/>
                      </a:lnTo>
                      <a:lnTo>
                        <a:pt x="635" y="285"/>
                      </a:lnTo>
                      <a:lnTo>
                        <a:pt x="627" y="277"/>
                      </a:lnTo>
                      <a:lnTo>
                        <a:pt x="618" y="277"/>
                      </a:lnTo>
                      <a:lnTo>
                        <a:pt x="635" y="246"/>
                      </a:lnTo>
                      <a:lnTo>
                        <a:pt x="643" y="231"/>
                      </a:lnTo>
                      <a:lnTo>
                        <a:pt x="652" y="208"/>
                      </a:lnTo>
                      <a:lnTo>
                        <a:pt x="660" y="185"/>
                      </a:lnTo>
                      <a:lnTo>
                        <a:pt x="668" y="162"/>
                      </a:lnTo>
                      <a:lnTo>
                        <a:pt x="668" y="139"/>
                      </a:lnTo>
                      <a:lnTo>
                        <a:pt x="677" y="116"/>
                      </a:lnTo>
                      <a:lnTo>
                        <a:pt x="685" y="85"/>
                      </a:lnTo>
                      <a:lnTo>
                        <a:pt x="677" y="77"/>
                      </a:lnTo>
                      <a:lnTo>
                        <a:pt x="668" y="70"/>
                      </a:lnTo>
                      <a:lnTo>
                        <a:pt x="660" y="62"/>
                      </a:lnTo>
                      <a:lnTo>
                        <a:pt x="652" y="54"/>
                      </a:lnTo>
                      <a:lnTo>
                        <a:pt x="643" y="46"/>
                      </a:lnTo>
                      <a:lnTo>
                        <a:pt x="635" y="46"/>
                      </a:lnTo>
                      <a:lnTo>
                        <a:pt x="627" y="39"/>
                      </a:lnTo>
                      <a:lnTo>
                        <a:pt x="618" y="31"/>
                      </a:lnTo>
                      <a:lnTo>
                        <a:pt x="602" y="31"/>
                      </a:lnTo>
                      <a:lnTo>
                        <a:pt x="593" y="23"/>
                      </a:lnTo>
                      <a:lnTo>
                        <a:pt x="585" y="23"/>
                      </a:lnTo>
                      <a:lnTo>
                        <a:pt x="576" y="16"/>
                      </a:lnTo>
                      <a:lnTo>
                        <a:pt x="560" y="16"/>
                      </a:lnTo>
                      <a:lnTo>
                        <a:pt x="551" y="16"/>
                      </a:lnTo>
                      <a:lnTo>
                        <a:pt x="543" y="8"/>
                      </a:lnTo>
                      <a:lnTo>
                        <a:pt x="526" y="8"/>
                      </a:lnTo>
                      <a:lnTo>
                        <a:pt x="518" y="8"/>
                      </a:lnTo>
                      <a:lnTo>
                        <a:pt x="501" y="0"/>
                      </a:lnTo>
                      <a:lnTo>
                        <a:pt x="493" y="0"/>
                      </a:lnTo>
                      <a:lnTo>
                        <a:pt x="476" y="0"/>
                      </a:lnTo>
                      <a:lnTo>
                        <a:pt x="459" y="0"/>
                      </a:lnTo>
                      <a:lnTo>
                        <a:pt x="451" y="0"/>
                      </a:lnTo>
                      <a:lnTo>
                        <a:pt x="434" y="0"/>
                      </a:lnTo>
                      <a:lnTo>
                        <a:pt x="418" y="0"/>
                      </a:lnTo>
                      <a:lnTo>
                        <a:pt x="401" y="0"/>
                      </a:lnTo>
                      <a:lnTo>
                        <a:pt x="393" y="0"/>
                      </a:lnTo>
                      <a:lnTo>
                        <a:pt x="376" y="0"/>
                      </a:lnTo>
                      <a:lnTo>
                        <a:pt x="359" y="0"/>
                      </a:lnTo>
                      <a:lnTo>
                        <a:pt x="342" y="0"/>
                      </a:lnTo>
                      <a:lnTo>
                        <a:pt x="334" y="8"/>
                      </a:lnTo>
                      <a:lnTo>
                        <a:pt x="317" y="8"/>
                      </a:lnTo>
                      <a:lnTo>
                        <a:pt x="309" y="8"/>
                      </a:lnTo>
                      <a:lnTo>
                        <a:pt x="284" y="16"/>
                      </a:lnTo>
                      <a:lnTo>
                        <a:pt x="267" y="23"/>
                      </a:lnTo>
                      <a:lnTo>
                        <a:pt x="242" y="31"/>
                      </a:lnTo>
                      <a:lnTo>
                        <a:pt x="217" y="31"/>
                      </a:lnTo>
                      <a:lnTo>
                        <a:pt x="200" y="39"/>
                      </a:lnTo>
                      <a:lnTo>
                        <a:pt x="184" y="46"/>
                      </a:lnTo>
                      <a:lnTo>
                        <a:pt x="159" y="54"/>
                      </a:lnTo>
                      <a:lnTo>
                        <a:pt x="142" y="62"/>
                      </a:lnTo>
                      <a:lnTo>
                        <a:pt x="125" y="70"/>
                      </a:lnTo>
                      <a:lnTo>
                        <a:pt x="100" y="85"/>
                      </a:lnTo>
                      <a:lnTo>
                        <a:pt x="83" y="93"/>
                      </a:lnTo>
                      <a:lnTo>
                        <a:pt x="67" y="100"/>
                      </a:lnTo>
                      <a:lnTo>
                        <a:pt x="50" y="108"/>
                      </a:lnTo>
                      <a:lnTo>
                        <a:pt x="33" y="123"/>
                      </a:lnTo>
                      <a:lnTo>
                        <a:pt x="17" y="131"/>
                      </a:lnTo>
                      <a:lnTo>
                        <a:pt x="0" y="146"/>
                      </a:lnTo>
                      <a:lnTo>
                        <a:pt x="0" y="193"/>
                      </a:lnTo>
                      <a:lnTo>
                        <a:pt x="0" y="239"/>
                      </a:lnTo>
                      <a:lnTo>
                        <a:pt x="0" y="285"/>
                      </a:lnTo>
                      <a:lnTo>
                        <a:pt x="8" y="331"/>
                      </a:lnTo>
                      <a:lnTo>
                        <a:pt x="17" y="331"/>
                      </a:lnTo>
                      <a:lnTo>
                        <a:pt x="25" y="331"/>
                      </a:lnTo>
                      <a:lnTo>
                        <a:pt x="33" y="323"/>
                      </a:lnTo>
                      <a:lnTo>
                        <a:pt x="42" y="323"/>
                      </a:lnTo>
                      <a:lnTo>
                        <a:pt x="50" y="323"/>
                      </a:lnTo>
                      <a:lnTo>
                        <a:pt x="58" y="323"/>
                      </a:lnTo>
                      <a:lnTo>
                        <a:pt x="75" y="323"/>
                      </a:lnTo>
                      <a:lnTo>
                        <a:pt x="67" y="293"/>
                      </a:lnTo>
                      <a:lnTo>
                        <a:pt x="67" y="262"/>
                      </a:lnTo>
                      <a:lnTo>
                        <a:pt x="67" y="239"/>
                      </a:lnTo>
                      <a:lnTo>
                        <a:pt x="75" y="208"/>
                      </a:lnTo>
                      <a:lnTo>
                        <a:pt x="75" y="200"/>
                      </a:lnTo>
                      <a:lnTo>
                        <a:pt x="83" y="185"/>
                      </a:lnTo>
                      <a:lnTo>
                        <a:pt x="83" y="177"/>
                      </a:lnTo>
                      <a:lnTo>
                        <a:pt x="92" y="162"/>
                      </a:lnTo>
                      <a:lnTo>
                        <a:pt x="108" y="154"/>
                      </a:lnTo>
                      <a:lnTo>
                        <a:pt x="117" y="146"/>
                      </a:lnTo>
                      <a:lnTo>
                        <a:pt x="125" y="139"/>
                      </a:lnTo>
                      <a:lnTo>
                        <a:pt x="134" y="131"/>
                      </a:lnTo>
                      <a:lnTo>
                        <a:pt x="159" y="123"/>
                      </a:lnTo>
                      <a:lnTo>
                        <a:pt x="175" y="116"/>
                      </a:lnTo>
                      <a:lnTo>
                        <a:pt x="192" y="116"/>
                      </a:lnTo>
                      <a:lnTo>
                        <a:pt x="209" y="108"/>
                      </a:lnTo>
                      <a:lnTo>
                        <a:pt x="225" y="100"/>
                      </a:lnTo>
                      <a:lnTo>
                        <a:pt x="242" y="100"/>
                      </a:lnTo>
                      <a:lnTo>
                        <a:pt x="259" y="93"/>
                      </a:lnTo>
                      <a:lnTo>
                        <a:pt x="276" y="93"/>
                      </a:lnTo>
                      <a:lnTo>
                        <a:pt x="292" y="85"/>
                      </a:lnTo>
                      <a:lnTo>
                        <a:pt x="309" y="85"/>
                      </a:lnTo>
                      <a:lnTo>
                        <a:pt x="326" y="85"/>
                      </a:lnTo>
                      <a:lnTo>
                        <a:pt x="342" y="77"/>
                      </a:lnTo>
                      <a:lnTo>
                        <a:pt x="359" y="77"/>
                      </a:lnTo>
                      <a:lnTo>
                        <a:pt x="384" y="77"/>
                      </a:lnTo>
                      <a:lnTo>
                        <a:pt x="401" y="77"/>
                      </a:lnTo>
                      <a:lnTo>
                        <a:pt x="418" y="70"/>
                      </a:lnTo>
                      <a:lnTo>
                        <a:pt x="426" y="70"/>
                      </a:lnTo>
                      <a:lnTo>
                        <a:pt x="434" y="70"/>
                      </a:lnTo>
                      <a:lnTo>
                        <a:pt x="451" y="70"/>
                      </a:lnTo>
                      <a:lnTo>
                        <a:pt x="459" y="70"/>
                      </a:lnTo>
                      <a:lnTo>
                        <a:pt x="468" y="70"/>
                      </a:lnTo>
                      <a:lnTo>
                        <a:pt x="476" y="70"/>
                      </a:lnTo>
                      <a:lnTo>
                        <a:pt x="485" y="70"/>
                      </a:lnTo>
                      <a:lnTo>
                        <a:pt x="501" y="70"/>
                      </a:lnTo>
                      <a:lnTo>
                        <a:pt x="510" y="70"/>
                      </a:lnTo>
                      <a:lnTo>
                        <a:pt x="518" y="70"/>
                      </a:lnTo>
                      <a:lnTo>
                        <a:pt x="535" y="77"/>
                      </a:lnTo>
                      <a:lnTo>
                        <a:pt x="543" y="77"/>
                      </a:lnTo>
                      <a:lnTo>
                        <a:pt x="551" y="77"/>
                      </a:lnTo>
                      <a:lnTo>
                        <a:pt x="560" y="77"/>
                      </a:lnTo>
                      <a:lnTo>
                        <a:pt x="568" y="85"/>
                      </a:lnTo>
                      <a:lnTo>
                        <a:pt x="576" y="85"/>
                      </a:lnTo>
                      <a:lnTo>
                        <a:pt x="568" y="116"/>
                      </a:lnTo>
                      <a:lnTo>
                        <a:pt x="568" y="154"/>
                      </a:lnTo>
                      <a:lnTo>
                        <a:pt x="560" y="185"/>
                      </a:lnTo>
                      <a:lnTo>
                        <a:pt x="551" y="223"/>
                      </a:lnTo>
                      <a:lnTo>
                        <a:pt x="543" y="254"/>
                      </a:lnTo>
                      <a:lnTo>
                        <a:pt x="535" y="293"/>
                      </a:lnTo>
                      <a:lnTo>
                        <a:pt x="526" y="323"/>
                      </a:lnTo>
                      <a:lnTo>
                        <a:pt x="518" y="354"/>
                      </a:lnTo>
                      <a:lnTo>
                        <a:pt x="526" y="362"/>
                      </a:lnTo>
                      <a:lnTo>
                        <a:pt x="535" y="370"/>
                      </a:lnTo>
                      <a:lnTo>
                        <a:pt x="543" y="370"/>
                      </a:lnTo>
                      <a:lnTo>
                        <a:pt x="551" y="377"/>
                      </a:lnTo>
                      <a:lnTo>
                        <a:pt x="568" y="385"/>
                      </a:lnTo>
                      <a:lnTo>
                        <a:pt x="576" y="385"/>
                      </a:lnTo>
                      <a:lnTo>
                        <a:pt x="585" y="393"/>
                      </a:lnTo>
                      <a:lnTo>
                        <a:pt x="593" y="400"/>
                      </a:lnTo>
                    </a:path>
                  </a:pathLst>
                </a:custGeom>
                <a:noFill/>
                <a:ln w="0">
                  <a:solidFill>
                    <a:srgbClr val="000000"/>
                  </a:solid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Freeform 508"/>
                <p:cNvSpPr/>
                <p:nvPr/>
              </p:nvSpPr>
              <p:spPr>
                <a:xfrm flipH="1">
                  <a:off x="52560" y="1854720"/>
                  <a:ext cx="83160" cy="145080"/>
                </a:xfrm>
                <a:custGeom>
                  <a:avLst/>
                  <a:gdLst>
                    <a:gd name="textAreaLeft" fmla="*/ -360 w 83160"/>
                    <a:gd name="textAreaRight" fmla="*/ 83160 w 83160"/>
                    <a:gd name="textAreaTop" fmla="*/ 0 h 145080"/>
                    <a:gd name="textAreaBottom" fmla="*/ 145080 h 145080"/>
                  </a:gdLst>
                  <a:ahLst/>
                  <a:rect l="textAreaLeft" t="textAreaTop" r="textAreaRight" b="textAreaBottom"/>
                  <a:pathLst>
                    <a:path w="418" h="693">
                      <a:moveTo>
                        <a:pt x="0" y="0"/>
                      </a:moveTo>
                      <a:lnTo>
                        <a:pt x="16" y="8"/>
                      </a:lnTo>
                      <a:lnTo>
                        <a:pt x="33" y="23"/>
                      </a:lnTo>
                      <a:lnTo>
                        <a:pt x="50" y="31"/>
                      </a:lnTo>
                      <a:lnTo>
                        <a:pt x="58" y="39"/>
                      </a:lnTo>
                      <a:lnTo>
                        <a:pt x="75" y="54"/>
                      </a:lnTo>
                      <a:lnTo>
                        <a:pt x="92" y="62"/>
                      </a:lnTo>
                      <a:lnTo>
                        <a:pt x="108" y="77"/>
                      </a:lnTo>
                      <a:lnTo>
                        <a:pt x="125" y="85"/>
                      </a:lnTo>
                      <a:lnTo>
                        <a:pt x="142" y="100"/>
                      </a:lnTo>
                      <a:lnTo>
                        <a:pt x="159" y="108"/>
                      </a:lnTo>
                      <a:lnTo>
                        <a:pt x="167" y="116"/>
                      </a:lnTo>
                      <a:lnTo>
                        <a:pt x="184" y="131"/>
                      </a:lnTo>
                      <a:lnTo>
                        <a:pt x="200" y="139"/>
                      </a:lnTo>
                      <a:lnTo>
                        <a:pt x="209" y="154"/>
                      </a:lnTo>
                      <a:lnTo>
                        <a:pt x="225" y="170"/>
                      </a:lnTo>
                      <a:lnTo>
                        <a:pt x="242" y="177"/>
                      </a:lnTo>
                      <a:lnTo>
                        <a:pt x="250" y="193"/>
                      </a:lnTo>
                      <a:lnTo>
                        <a:pt x="259" y="200"/>
                      </a:lnTo>
                      <a:lnTo>
                        <a:pt x="267" y="208"/>
                      </a:lnTo>
                      <a:lnTo>
                        <a:pt x="276" y="223"/>
                      </a:lnTo>
                      <a:lnTo>
                        <a:pt x="276" y="231"/>
                      </a:lnTo>
                      <a:lnTo>
                        <a:pt x="284" y="246"/>
                      </a:lnTo>
                      <a:lnTo>
                        <a:pt x="284" y="262"/>
                      </a:lnTo>
                      <a:lnTo>
                        <a:pt x="284" y="270"/>
                      </a:lnTo>
                      <a:lnTo>
                        <a:pt x="284" y="293"/>
                      </a:lnTo>
                      <a:lnTo>
                        <a:pt x="276" y="316"/>
                      </a:lnTo>
                      <a:lnTo>
                        <a:pt x="276" y="339"/>
                      </a:lnTo>
                      <a:lnTo>
                        <a:pt x="267" y="362"/>
                      </a:lnTo>
                      <a:lnTo>
                        <a:pt x="259" y="385"/>
                      </a:lnTo>
                      <a:lnTo>
                        <a:pt x="250" y="408"/>
                      </a:lnTo>
                      <a:lnTo>
                        <a:pt x="242" y="431"/>
                      </a:lnTo>
                      <a:lnTo>
                        <a:pt x="242" y="454"/>
                      </a:lnTo>
                      <a:lnTo>
                        <a:pt x="234" y="477"/>
                      </a:lnTo>
                      <a:lnTo>
                        <a:pt x="225" y="500"/>
                      </a:lnTo>
                      <a:lnTo>
                        <a:pt x="209" y="523"/>
                      </a:lnTo>
                      <a:lnTo>
                        <a:pt x="200" y="546"/>
                      </a:lnTo>
                      <a:lnTo>
                        <a:pt x="192" y="570"/>
                      </a:lnTo>
                      <a:lnTo>
                        <a:pt x="184" y="593"/>
                      </a:lnTo>
                      <a:lnTo>
                        <a:pt x="167" y="616"/>
                      </a:lnTo>
                      <a:lnTo>
                        <a:pt x="159" y="639"/>
                      </a:lnTo>
                      <a:lnTo>
                        <a:pt x="159" y="646"/>
                      </a:lnTo>
                      <a:lnTo>
                        <a:pt x="150" y="646"/>
                      </a:lnTo>
                      <a:lnTo>
                        <a:pt x="150" y="654"/>
                      </a:lnTo>
                      <a:lnTo>
                        <a:pt x="150" y="662"/>
                      </a:lnTo>
                      <a:lnTo>
                        <a:pt x="142" y="662"/>
                      </a:lnTo>
                      <a:lnTo>
                        <a:pt x="142" y="670"/>
                      </a:lnTo>
                      <a:lnTo>
                        <a:pt x="133" y="670"/>
                      </a:lnTo>
                      <a:lnTo>
                        <a:pt x="125" y="677"/>
                      </a:lnTo>
                      <a:lnTo>
                        <a:pt x="117" y="677"/>
                      </a:lnTo>
                      <a:lnTo>
                        <a:pt x="108" y="677"/>
                      </a:lnTo>
                      <a:lnTo>
                        <a:pt x="100" y="677"/>
                      </a:lnTo>
                      <a:lnTo>
                        <a:pt x="92" y="685"/>
                      </a:lnTo>
                      <a:lnTo>
                        <a:pt x="83" y="685"/>
                      </a:lnTo>
                      <a:lnTo>
                        <a:pt x="67" y="685"/>
                      </a:lnTo>
                      <a:lnTo>
                        <a:pt x="58" y="685"/>
                      </a:lnTo>
                      <a:lnTo>
                        <a:pt x="75" y="685"/>
                      </a:lnTo>
                      <a:lnTo>
                        <a:pt x="83" y="685"/>
                      </a:lnTo>
                      <a:lnTo>
                        <a:pt x="100" y="685"/>
                      </a:lnTo>
                      <a:lnTo>
                        <a:pt x="108" y="685"/>
                      </a:lnTo>
                      <a:lnTo>
                        <a:pt x="125" y="685"/>
                      </a:lnTo>
                      <a:lnTo>
                        <a:pt x="133" y="685"/>
                      </a:lnTo>
                      <a:lnTo>
                        <a:pt x="150" y="693"/>
                      </a:lnTo>
                      <a:lnTo>
                        <a:pt x="159" y="693"/>
                      </a:lnTo>
                      <a:lnTo>
                        <a:pt x="175" y="693"/>
                      </a:lnTo>
                      <a:lnTo>
                        <a:pt x="184" y="693"/>
                      </a:lnTo>
                      <a:lnTo>
                        <a:pt x="200" y="693"/>
                      </a:lnTo>
                      <a:lnTo>
                        <a:pt x="209" y="685"/>
                      </a:lnTo>
                      <a:lnTo>
                        <a:pt x="225" y="685"/>
                      </a:lnTo>
                      <a:lnTo>
                        <a:pt x="234" y="685"/>
                      </a:lnTo>
                      <a:lnTo>
                        <a:pt x="250" y="685"/>
                      </a:lnTo>
                      <a:lnTo>
                        <a:pt x="267" y="685"/>
                      </a:lnTo>
                      <a:lnTo>
                        <a:pt x="276" y="685"/>
                      </a:lnTo>
                      <a:lnTo>
                        <a:pt x="284" y="685"/>
                      </a:lnTo>
                      <a:lnTo>
                        <a:pt x="292" y="677"/>
                      </a:lnTo>
                      <a:lnTo>
                        <a:pt x="301" y="677"/>
                      </a:lnTo>
                      <a:lnTo>
                        <a:pt x="309" y="670"/>
                      </a:lnTo>
                      <a:lnTo>
                        <a:pt x="309" y="662"/>
                      </a:lnTo>
                      <a:lnTo>
                        <a:pt x="317" y="662"/>
                      </a:lnTo>
                      <a:lnTo>
                        <a:pt x="326" y="654"/>
                      </a:lnTo>
                      <a:lnTo>
                        <a:pt x="334" y="616"/>
                      </a:lnTo>
                      <a:lnTo>
                        <a:pt x="351" y="585"/>
                      </a:lnTo>
                      <a:lnTo>
                        <a:pt x="367" y="554"/>
                      </a:lnTo>
                      <a:lnTo>
                        <a:pt x="376" y="516"/>
                      </a:lnTo>
                      <a:lnTo>
                        <a:pt x="393" y="485"/>
                      </a:lnTo>
                      <a:lnTo>
                        <a:pt x="401" y="446"/>
                      </a:lnTo>
                      <a:lnTo>
                        <a:pt x="409" y="408"/>
                      </a:lnTo>
                      <a:lnTo>
                        <a:pt x="418" y="377"/>
                      </a:lnTo>
                      <a:lnTo>
                        <a:pt x="418" y="362"/>
                      </a:lnTo>
                      <a:lnTo>
                        <a:pt x="418" y="354"/>
                      </a:lnTo>
                      <a:lnTo>
                        <a:pt x="418" y="339"/>
                      </a:lnTo>
                      <a:lnTo>
                        <a:pt x="418" y="323"/>
                      </a:lnTo>
                      <a:lnTo>
                        <a:pt x="418" y="316"/>
                      </a:lnTo>
                      <a:lnTo>
                        <a:pt x="409" y="300"/>
                      </a:lnTo>
                      <a:lnTo>
                        <a:pt x="409" y="293"/>
                      </a:lnTo>
                      <a:lnTo>
                        <a:pt x="401" y="285"/>
                      </a:lnTo>
                      <a:lnTo>
                        <a:pt x="359" y="254"/>
                      </a:lnTo>
                      <a:lnTo>
                        <a:pt x="334" y="231"/>
                      </a:lnTo>
                      <a:lnTo>
                        <a:pt x="301" y="200"/>
                      </a:lnTo>
                      <a:lnTo>
                        <a:pt x="276" y="177"/>
                      </a:lnTo>
                      <a:lnTo>
                        <a:pt x="250" y="162"/>
                      </a:lnTo>
                      <a:lnTo>
                        <a:pt x="225" y="139"/>
                      </a:lnTo>
                      <a:lnTo>
                        <a:pt x="200" y="123"/>
                      </a:lnTo>
                      <a:lnTo>
                        <a:pt x="175" y="100"/>
                      </a:lnTo>
                      <a:lnTo>
                        <a:pt x="159" y="85"/>
                      </a:lnTo>
                      <a:lnTo>
                        <a:pt x="133" y="77"/>
                      </a:lnTo>
                      <a:lnTo>
                        <a:pt x="108" y="62"/>
                      </a:lnTo>
                      <a:lnTo>
                        <a:pt x="92" y="46"/>
                      </a:lnTo>
                      <a:lnTo>
                        <a:pt x="67" y="31"/>
                      </a:lnTo>
                      <a:lnTo>
                        <a:pt x="50" y="23"/>
                      </a:lnTo>
                      <a:lnTo>
                        <a:pt x="25" y="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Freeform 507"/>
                <p:cNvSpPr/>
                <p:nvPr/>
              </p:nvSpPr>
              <p:spPr>
                <a:xfrm flipH="1">
                  <a:off x="52560" y="1854720"/>
                  <a:ext cx="83160" cy="145080"/>
                </a:xfrm>
                <a:custGeom>
                  <a:avLst/>
                  <a:gdLst>
                    <a:gd name="textAreaLeft" fmla="*/ -360 w 83160"/>
                    <a:gd name="textAreaRight" fmla="*/ 83160 w 83160"/>
                    <a:gd name="textAreaTop" fmla="*/ 0 h 145080"/>
                    <a:gd name="textAreaBottom" fmla="*/ 145080 h 145080"/>
                  </a:gdLst>
                  <a:ahLst/>
                  <a:rect l="textAreaLeft" t="textAreaTop" r="textAreaRight" b="textAreaBottom"/>
                  <a:pathLst>
                    <a:path w="418" h="693">
                      <a:moveTo>
                        <a:pt x="0" y="0"/>
                      </a:moveTo>
                      <a:lnTo>
                        <a:pt x="16" y="8"/>
                      </a:lnTo>
                      <a:lnTo>
                        <a:pt x="33" y="23"/>
                      </a:lnTo>
                      <a:lnTo>
                        <a:pt x="50" y="31"/>
                      </a:lnTo>
                      <a:lnTo>
                        <a:pt x="58" y="39"/>
                      </a:lnTo>
                      <a:lnTo>
                        <a:pt x="75" y="54"/>
                      </a:lnTo>
                      <a:lnTo>
                        <a:pt x="92" y="62"/>
                      </a:lnTo>
                      <a:lnTo>
                        <a:pt x="108" y="77"/>
                      </a:lnTo>
                      <a:lnTo>
                        <a:pt x="125" y="85"/>
                      </a:lnTo>
                      <a:lnTo>
                        <a:pt x="142" y="100"/>
                      </a:lnTo>
                      <a:lnTo>
                        <a:pt x="159" y="108"/>
                      </a:lnTo>
                      <a:lnTo>
                        <a:pt x="167" y="116"/>
                      </a:lnTo>
                      <a:lnTo>
                        <a:pt x="184" y="131"/>
                      </a:lnTo>
                      <a:lnTo>
                        <a:pt x="200" y="139"/>
                      </a:lnTo>
                      <a:lnTo>
                        <a:pt x="209" y="154"/>
                      </a:lnTo>
                      <a:lnTo>
                        <a:pt x="225" y="170"/>
                      </a:lnTo>
                      <a:lnTo>
                        <a:pt x="242" y="177"/>
                      </a:lnTo>
                      <a:lnTo>
                        <a:pt x="250" y="193"/>
                      </a:lnTo>
                      <a:lnTo>
                        <a:pt x="259" y="200"/>
                      </a:lnTo>
                      <a:lnTo>
                        <a:pt x="267" y="208"/>
                      </a:lnTo>
                      <a:lnTo>
                        <a:pt x="276" y="223"/>
                      </a:lnTo>
                      <a:lnTo>
                        <a:pt x="276" y="231"/>
                      </a:lnTo>
                      <a:lnTo>
                        <a:pt x="284" y="246"/>
                      </a:lnTo>
                      <a:lnTo>
                        <a:pt x="284" y="262"/>
                      </a:lnTo>
                      <a:lnTo>
                        <a:pt x="284" y="270"/>
                      </a:lnTo>
                      <a:lnTo>
                        <a:pt x="284" y="293"/>
                      </a:lnTo>
                      <a:lnTo>
                        <a:pt x="276" y="316"/>
                      </a:lnTo>
                      <a:lnTo>
                        <a:pt x="276" y="339"/>
                      </a:lnTo>
                      <a:lnTo>
                        <a:pt x="267" y="362"/>
                      </a:lnTo>
                      <a:lnTo>
                        <a:pt x="259" y="385"/>
                      </a:lnTo>
                      <a:lnTo>
                        <a:pt x="250" y="408"/>
                      </a:lnTo>
                      <a:lnTo>
                        <a:pt x="242" y="431"/>
                      </a:lnTo>
                      <a:lnTo>
                        <a:pt x="242" y="454"/>
                      </a:lnTo>
                      <a:lnTo>
                        <a:pt x="234" y="477"/>
                      </a:lnTo>
                      <a:lnTo>
                        <a:pt x="225" y="500"/>
                      </a:lnTo>
                      <a:lnTo>
                        <a:pt x="209" y="523"/>
                      </a:lnTo>
                      <a:lnTo>
                        <a:pt x="200" y="546"/>
                      </a:lnTo>
                      <a:lnTo>
                        <a:pt x="192" y="570"/>
                      </a:lnTo>
                      <a:lnTo>
                        <a:pt x="184" y="593"/>
                      </a:lnTo>
                      <a:lnTo>
                        <a:pt x="167" y="616"/>
                      </a:lnTo>
                      <a:lnTo>
                        <a:pt x="159" y="639"/>
                      </a:lnTo>
                      <a:lnTo>
                        <a:pt x="159" y="646"/>
                      </a:lnTo>
                      <a:lnTo>
                        <a:pt x="150" y="646"/>
                      </a:lnTo>
                      <a:lnTo>
                        <a:pt x="150" y="654"/>
                      </a:lnTo>
                      <a:lnTo>
                        <a:pt x="150" y="662"/>
                      </a:lnTo>
                      <a:lnTo>
                        <a:pt x="142" y="662"/>
                      </a:lnTo>
                      <a:lnTo>
                        <a:pt x="142" y="670"/>
                      </a:lnTo>
                      <a:lnTo>
                        <a:pt x="133" y="670"/>
                      </a:lnTo>
                      <a:lnTo>
                        <a:pt x="125" y="677"/>
                      </a:lnTo>
                      <a:lnTo>
                        <a:pt x="117" y="677"/>
                      </a:lnTo>
                      <a:lnTo>
                        <a:pt x="108" y="677"/>
                      </a:lnTo>
                      <a:lnTo>
                        <a:pt x="100" y="677"/>
                      </a:lnTo>
                      <a:lnTo>
                        <a:pt x="92" y="685"/>
                      </a:lnTo>
                      <a:lnTo>
                        <a:pt x="83" y="685"/>
                      </a:lnTo>
                      <a:lnTo>
                        <a:pt x="67" y="685"/>
                      </a:lnTo>
                      <a:lnTo>
                        <a:pt x="58" y="685"/>
                      </a:lnTo>
                      <a:lnTo>
                        <a:pt x="75" y="685"/>
                      </a:lnTo>
                      <a:lnTo>
                        <a:pt x="83" y="685"/>
                      </a:lnTo>
                      <a:lnTo>
                        <a:pt x="100" y="685"/>
                      </a:lnTo>
                      <a:lnTo>
                        <a:pt x="108" y="685"/>
                      </a:lnTo>
                      <a:lnTo>
                        <a:pt x="125" y="685"/>
                      </a:lnTo>
                      <a:lnTo>
                        <a:pt x="133" y="685"/>
                      </a:lnTo>
                      <a:lnTo>
                        <a:pt x="150" y="693"/>
                      </a:lnTo>
                      <a:lnTo>
                        <a:pt x="159" y="693"/>
                      </a:lnTo>
                      <a:lnTo>
                        <a:pt x="175" y="693"/>
                      </a:lnTo>
                      <a:lnTo>
                        <a:pt x="184" y="693"/>
                      </a:lnTo>
                      <a:lnTo>
                        <a:pt x="200" y="693"/>
                      </a:lnTo>
                      <a:lnTo>
                        <a:pt x="209" y="685"/>
                      </a:lnTo>
                      <a:lnTo>
                        <a:pt x="225" y="685"/>
                      </a:lnTo>
                      <a:lnTo>
                        <a:pt x="234" y="685"/>
                      </a:lnTo>
                      <a:lnTo>
                        <a:pt x="250" y="685"/>
                      </a:lnTo>
                      <a:lnTo>
                        <a:pt x="267" y="685"/>
                      </a:lnTo>
                      <a:lnTo>
                        <a:pt x="276" y="685"/>
                      </a:lnTo>
                      <a:lnTo>
                        <a:pt x="284" y="685"/>
                      </a:lnTo>
                      <a:lnTo>
                        <a:pt x="292" y="677"/>
                      </a:lnTo>
                      <a:lnTo>
                        <a:pt x="301" y="677"/>
                      </a:lnTo>
                      <a:lnTo>
                        <a:pt x="309" y="670"/>
                      </a:lnTo>
                      <a:lnTo>
                        <a:pt x="309" y="662"/>
                      </a:lnTo>
                      <a:lnTo>
                        <a:pt x="317" y="662"/>
                      </a:lnTo>
                      <a:lnTo>
                        <a:pt x="326" y="654"/>
                      </a:lnTo>
                      <a:lnTo>
                        <a:pt x="334" y="616"/>
                      </a:lnTo>
                      <a:lnTo>
                        <a:pt x="351" y="585"/>
                      </a:lnTo>
                      <a:lnTo>
                        <a:pt x="367" y="554"/>
                      </a:lnTo>
                      <a:lnTo>
                        <a:pt x="376" y="516"/>
                      </a:lnTo>
                      <a:lnTo>
                        <a:pt x="393" y="485"/>
                      </a:lnTo>
                      <a:lnTo>
                        <a:pt x="401" y="446"/>
                      </a:lnTo>
                      <a:lnTo>
                        <a:pt x="409" y="408"/>
                      </a:lnTo>
                      <a:lnTo>
                        <a:pt x="418" y="377"/>
                      </a:lnTo>
                      <a:lnTo>
                        <a:pt x="418" y="362"/>
                      </a:lnTo>
                      <a:lnTo>
                        <a:pt x="418" y="354"/>
                      </a:lnTo>
                      <a:lnTo>
                        <a:pt x="418" y="339"/>
                      </a:lnTo>
                      <a:lnTo>
                        <a:pt x="418" y="323"/>
                      </a:lnTo>
                      <a:lnTo>
                        <a:pt x="418" y="316"/>
                      </a:lnTo>
                      <a:lnTo>
                        <a:pt x="409" y="300"/>
                      </a:lnTo>
                      <a:lnTo>
                        <a:pt x="409" y="293"/>
                      </a:lnTo>
                      <a:lnTo>
                        <a:pt x="401" y="285"/>
                      </a:lnTo>
                      <a:lnTo>
                        <a:pt x="359" y="254"/>
                      </a:lnTo>
                      <a:lnTo>
                        <a:pt x="334" y="231"/>
                      </a:lnTo>
                      <a:lnTo>
                        <a:pt x="301" y="200"/>
                      </a:lnTo>
                      <a:lnTo>
                        <a:pt x="276" y="177"/>
                      </a:lnTo>
                      <a:lnTo>
                        <a:pt x="250" y="162"/>
                      </a:lnTo>
                      <a:lnTo>
                        <a:pt x="225" y="139"/>
                      </a:lnTo>
                      <a:lnTo>
                        <a:pt x="200" y="123"/>
                      </a:lnTo>
                      <a:lnTo>
                        <a:pt x="175" y="100"/>
                      </a:lnTo>
                      <a:lnTo>
                        <a:pt x="159" y="85"/>
                      </a:lnTo>
                      <a:lnTo>
                        <a:pt x="133" y="77"/>
                      </a:lnTo>
                      <a:lnTo>
                        <a:pt x="108" y="62"/>
                      </a:lnTo>
                      <a:lnTo>
                        <a:pt x="92" y="46"/>
                      </a:lnTo>
                      <a:lnTo>
                        <a:pt x="67" y="31"/>
                      </a:lnTo>
                      <a:lnTo>
                        <a:pt x="50" y="23"/>
                      </a:lnTo>
                      <a:lnTo>
                        <a:pt x="25" y="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Freeform 506"/>
                <p:cNvSpPr/>
                <p:nvPr/>
              </p:nvSpPr>
              <p:spPr>
                <a:xfrm flipH="1">
                  <a:off x="79200" y="1854720"/>
                  <a:ext cx="71640" cy="143640"/>
                </a:xfrm>
                <a:custGeom>
                  <a:avLst/>
                  <a:gdLst>
                    <a:gd name="textAreaLeft" fmla="*/ -360 w 71640"/>
                    <a:gd name="textAreaRight" fmla="*/ 71640 w 71640"/>
                    <a:gd name="textAreaTop" fmla="*/ 0 h 143640"/>
                    <a:gd name="textAreaBottom" fmla="*/ 143640 h 143640"/>
                  </a:gdLst>
                  <a:ahLst/>
                  <a:rect l="textAreaLeft" t="textAreaTop" r="textAreaRight" b="textAreaBottom"/>
                  <a:pathLst>
                    <a:path w="359" h="685">
                      <a:moveTo>
                        <a:pt x="75" y="0"/>
                      </a:moveTo>
                      <a:lnTo>
                        <a:pt x="91" y="8"/>
                      </a:lnTo>
                      <a:lnTo>
                        <a:pt x="108" y="23"/>
                      </a:lnTo>
                      <a:lnTo>
                        <a:pt x="125" y="31"/>
                      </a:lnTo>
                      <a:lnTo>
                        <a:pt x="133" y="39"/>
                      </a:lnTo>
                      <a:lnTo>
                        <a:pt x="150" y="54"/>
                      </a:lnTo>
                      <a:lnTo>
                        <a:pt x="167" y="62"/>
                      </a:lnTo>
                      <a:lnTo>
                        <a:pt x="183" y="77"/>
                      </a:lnTo>
                      <a:lnTo>
                        <a:pt x="200" y="85"/>
                      </a:lnTo>
                      <a:lnTo>
                        <a:pt x="217" y="100"/>
                      </a:lnTo>
                      <a:lnTo>
                        <a:pt x="234" y="108"/>
                      </a:lnTo>
                      <a:lnTo>
                        <a:pt x="242" y="116"/>
                      </a:lnTo>
                      <a:lnTo>
                        <a:pt x="259" y="131"/>
                      </a:lnTo>
                      <a:lnTo>
                        <a:pt x="275" y="139"/>
                      </a:lnTo>
                      <a:lnTo>
                        <a:pt x="284" y="154"/>
                      </a:lnTo>
                      <a:lnTo>
                        <a:pt x="300" y="170"/>
                      </a:lnTo>
                      <a:lnTo>
                        <a:pt x="317" y="177"/>
                      </a:lnTo>
                      <a:lnTo>
                        <a:pt x="325" y="193"/>
                      </a:lnTo>
                      <a:lnTo>
                        <a:pt x="334" y="200"/>
                      </a:lnTo>
                      <a:lnTo>
                        <a:pt x="342" y="208"/>
                      </a:lnTo>
                      <a:lnTo>
                        <a:pt x="351" y="223"/>
                      </a:lnTo>
                      <a:lnTo>
                        <a:pt x="351" y="231"/>
                      </a:lnTo>
                      <a:lnTo>
                        <a:pt x="359" y="246"/>
                      </a:lnTo>
                      <a:lnTo>
                        <a:pt x="359" y="262"/>
                      </a:lnTo>
                      <a:lnTo>
                        <a:pt x="359" y="270"/>
                      </a:lnTo>
                      <a:lnTo>
                        <a:pt x="359" y="293"/>
                      </a:lnTo>
                      <a:lnTo>
                        <a:pt x="351" y="316"/>
                      </a:lnTo>
                      <a:lnTo>
                        <a:pt x="351" y="339"/>
                      </a:lnTo>
                      <a:lnTo>
                        <a:pt x="342" y="362"/>
                      </a:lnTo>
                      <a:lnTo>
                        <a:pt x="334" y="385"/>
                      </a:lnTo>
                      <a:lnTo>
                        <a:pt x="325" y="408"/>
                      </a:lnTo>
                      <a:lnTo>
                        <a:pt x="317" y="431"/>
                      </a:lnTo>
                      <a:lnTo>
                        <a:pt x="317" y="454"/>
                      </a:lnTo>
                      <a:lnTo>
                        <a:pt x="309" y="477"/>
                      </a:lnTo>
                      <a:lnTo>
                        <a:pt x="300" y="500"/>
                      </a:lnTo>
                      <a:lnTo>
                        <a:pt x="284" y="523"/>
                      </a:lnTo>
                      <a:lnTo>
                        <a:pt x="275" y="546"/>
                      </a:lnTo>
                      <a:lnTo>
                        <a:pt x="267" y="570"/>
                      </a:lnTo>
                      <a:lnTo>
                        <a:pt x="259" y="593"/>
                      </a:lnTo>
                      <a:lnTo>
                        <a:pt x="242" y="616"/>
                      </a:lnTo>
                      <a:lnTo>
                        <a:pt x="234" y="639"/>
                      </a:lnTo>
                      <a:lnTo>
                        <a:pt x="234" y="646"/>
                      </a:lnTo>
                      <a:lnTo>
                        <a:pt x="225" y="646"/>
                      </a:lnTo>
                      <a:lnTo>
                        <a:pt x="225" y="654"/>
                      </a:lnTo>
                      <a:lnTo>
                        <a:pt x="225" y="662"/>
                      </a:lnTo>
                      <a:lnTo>
                        <a:pt x="217" y="662"/>
                      </a:lnTo>
                      <a:lnTo>
                        <a:pt x="217" y="670"/>
                      </a:lnTo>
                      <a:lnTo>
                        <a:pt x="208" y="670"/>
                      </a:lnTo>
                      <a:lnTo>
                        <a:pt x="200" y="677"/>
                      </a:lnTo>
                      <a:lnTo>
                        <a:pt x="192" y="677"/>
                      </a:lnTo>
                      <a:lnTo>
                        <a:pt x="183" y="677"/>
                      </a:lnTo>
                      <a:lnTo>
                        <a:pt x="175" y="677"/>
                      </a:lnTo>
                      <a:lnTo>
                        <a:pt x="167" y="685"/>
                      </a:lnTo>
                      <a:lnTo>
                        <a:pt x="158" y="685"/>
                      </a:lnTo>
                      <a:lnTo>
                        <a:pt x="142" y="685"/>
                      </a:lnTo>
                      <a:lnTo>
                        <a:pt x="133" y="685"/>
                      </a:lnTo>
                      <a:lnTo>
                        <a:pt x="125" y="677"/>
                      </a:lnTo>
                      <a:lnTo>
                        <a:pt x="117" y="677"/>
                      </a:lnTo>
                      <a:lnTo>
                        <a:pt x="108" y="677"/>
                      </a:lnTo>
                      <a:lnTo>
                        <a:pt x="100" y="677"/>
                      </a:lnTo>
                      <a:lnTo>
                        <a:pt x="91" y="677"/>
                      </a:lnTo>
                      <a:lnTo>
                        <a:pt x="83" y="670"/>
                      </a:lnTo>
                      <a:lnTo>
                        <a:pt x="75" y="670"/>
                      </a:lnTo>
                      <a:lnTo>
                        <a:pt x="66" y="670"/>
                      </a:lnTo>
                      <a:lnTo>
                        <a:pt x="58" y="670"/>
                      </a:lnTo>
                      <a:lnTo>
                        <a:pt x="50" y="670"/>
                      </a:lnTo>
                      <a:lnTo>
                        <a:pt x="41" y="662"/>
                      </a:lnTo>
                      <a:lnTo>
                        <a:pt x="33" y="662"/>
                      </a:lnTo>
                      <a:lnTo>
                        <a:pt x="25" y="662"/>
                      </a:lnTo>
                      <a:lnTo>
                        <a:pt x="16" y="662"/>
                      </a:lnTo>
                      <a:lnTo>
                        <a:pt x="8" y="662"/>
                      </a:lnTo>
                      <a:lnTo>
                        <a:pt x="0" y="654"/>
                      </a:lnTo>
                      <a:lnTo>
                        <a:pt x="16" y="654"/>
                      </a:lnTo>
                      <a:lnTo>
                        <a:pt x="33" y="654"/>
                      </a:lnTo>
                      <a:lnTo>
                        <a:pt x="41" y="654"/>
                      </a:lnTo>
                      <a:lnTo>
                        <a:pt x="58" y="654"/>
                      </a:lnTo>
                      <a:lnTo>
                        <a:pt x="66" y="654"/>
                      </a:lnTo>
                      <a:lnTo>
                        <a:pt x="83" y="654"/>
                      </a:lnTo>
                      <a:lnTo>
                        <a:pt x="100" y="654"/>
                      </a:lnTo>
                      <a:lnTo>
                        <a:pt x="108" y="646"/>
                      </a:lnTo>
                      <a:lnTo>
                        <a:pt x="117" y="646"/>
                      </a:lnTo>
                      <a:lnTo>
                        <a:pt x="125" y="639"/>
                      </a:lnTo>
                      <a:lnTo>
                        <a:pt x="133" y="631"/>
                      </a:lnTo>
                      <a:lnTo>
                        <a:pt x="142" y="631"/>
                      </a:lnTo>
                      <a:lnTo>
                        <a:pt x="150" y="623"/>
                      </a:lnTo>
                      <a:lnTo>
                        <a:pt x="150" y="616"/>
                      </a:lnTo>
                      <a:lnTo>
                        <a:pt x="158" y="608"/>
                      </a:lnTo>
                      <a:lnTo>
                        <a:pt x="167" y="593"/>
                      </a:lnTo>
                      <a:lnTo>
                        <a:pt x="175" y="570"/>
                      </a:lnTo>
                      <a:lnTo>
                        <a:pt x="192" y="546"/>
                      </a:lnTo>
                      <a:lnTo>
                        <a:pt x="200" y="531"/>
                      </a:lnTo>
                      <a:lnTo>
                        <a:pt x="208" y="508"/>
                      </a:lnTo>
                      <a:lnTo>
                        <a:pt x="217" y="485"/>
                      </a:lnTo>
                      <a:lnTo>
                        <a:pt x="225" y="462"/>
                      </a:lnTo>
                      <a:lnTo>
                        <a:pt x="234" y="439"/>
                      </a:lnTo>
                      <a:lnTo>
                        <a:pt x="242" y="416"/>
                      </a:lnTo>
                      <a:lnTo>
                        <a:pt x="250" y="393"/>
                      </a:lnTo>
                      <a:lnTo>
                        <a:pt x="259" y="370"/>
                      </a:lnTo>
                      <a:lnTo>
                        <a:pt x="259" y="339"/>
                      </a:lnTo>
                      <a:lnTo>
                        <a:pt x="267" y="323"/>
                      </a:lnTo>
                      <a:lnTo>
                        <a:pt x="275" y="300"/>
                      </a:lnTo>
                      <a:lnTo>
                        <a:pt x="284" y="277"/>
                      </a:lnTo>
                      <a:lnTo>
                        <a:pt x="284" y="254"/>
                      </a:lnTo>
                      <a:lnTo>
                        <a:pt x="284" y="246"/>
                      </a:lnTo>
                      <a:lnTo>
                        <a:pt x="284" y="231"/>
                      </a:lnTo>
                      <a:lnTo>
                        <a:pt x="284" y="216"/>
                      </a:lnTo>
                      <a:lnTo>
                        <a:pt x="284" y="208"/>
                      </a:lnTo>
                      <a:lnTo>
                        <a:pt x="284" y="193"/>
                      </a:lnTo>
                      <a:lnTo>
                        <a:pt x="275" y="185"/>
                      </a:lnTo>
                      <a:lnTo>
                        <a:pt x="275" y="177"/>
                      </a:lnTo>
                      <a:lnTo>
                        <a:pt x="267" y="162"/>
                      </a:lnTo>
                      <a:lnTo>
                        <a:pt x="259" y="154"/>
                      </a:lnTo>
                      <a:lnTo>
                        <a:pt x="242" y="139"/>
                      </a:lnTo>
                      <a:lnTo>
                        <a:pt x="234" y="131"/>
                      </a:lnTo>
                      <a:lnTo>
                        <a:pt x="225" y="123"/>
                      </a:lnTo>
                      <a:lnTo>
                        <a:pt x="217" y="108"/>
                      </a:lnTo>
                      <a:lnTo>
                        <a:pt x="200" y="100"/>
                      </a:lnTo>
                      <a:lnTo>
                        <a:pt x="192" y="93"/>
                      </a:lnTo>
                      <a:lnTo>
                        <a:pt x="175" y="77"/>
                      </a:lnTo>
                      <a:lnTo>
                        <a:pt x="167" y="70"/>
                      </a:lnTo>
                      <a:lnTo>
                        <a:pt x="158" y="62"/>
                      </a:lnTo>
                      <a:lnTo>
                        <a:pt x="142" y="46"/>
                      </a:lnTo>
                      <a:lnTo>
                        <a:pt x="133" y="39"/>
                      </a:lnTo>
                      <a:lnTo>
                        <a:pt x="117" y="31"/>
                      </a:lnTo>
                      <a:lnTo>
                        <a:pt x="100" y="23"/>
                      </a:lnTo>
                      <a:lnTo>
                        <a:pt x="91" y="8"/>
                      </a:lnTo>
                      <a:lnTo>
                        <a:pt x="75" y="0"/>
                      </a:lnTo>
                      <a:close/>
                    </a:path>
                  </a:pathLst>
                </a:custGeom>
                <a:solidFill>
                  <a:srgbClr val="e8e8e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0" name="Freeform 505"/>
                <p:cNvSpPr/>
                <p:nvPr/>
              </p:nvSpPr>
              <p:spPr>
                <a:xfrm flipH="1">
                  <a:off x="79200" y="1854720"/>
                  <a:ext cx="71640" cy="143640"/>
                </a:xfrm>
                <a:custGeom>
                  <a:avLst/>
                  <a:gdLst>
                    <a:gd name="textAreaLeft" fmla="*/ -360 w 71640"/>
                    <a:gd name="textAreaRight" fmla="*/ 71640 w 71640"/>
                    <a:gd name="textAreaTop" fmla="*/ 0 h 143640"/>
                    <a:gd name="textAreaBottom" fmla="*/ 143640 h 143640"/>
                  </a:gdLst>
                  <a:ahLst/>
                  <a:rect l="textAreaLeft" t="textAreaTop" r="textAreaRight" b="textAreaBottom"/>
                  <a:pathLst>
                    <a:path w="359" h="685">
                      <a:moveTo>
                        <a:pt x="75" y="0"/>
                      </a:moveTo>
                      <a:lnTo>
                        <a:pt x="91" y="8"/>
                      </a:lnTo>
                      <a:lnTo>
                        <a:pt x="108" y="23"/>
                      </a:lnTo>
                      <a:lnTo>
                        <a:pt x="125" y="31"/>
                      </a:lnTo>
                      <a:lnTo>
                        <a:pt x="133" y="39"/>
                      </a:lnTo>
                      <a:lnTo>
                        <a:pt x="150" y="54"/>
                      </a:lnTo>
                      <a:lnTo>
                        <a:pt x="167" y="62"/>
                      </a:lnTo>
                      <a:lnTo>
                        <a:pt x="183" y="77"/>
                      </a:lnTo>
                      <a:lnTo>
                        <a:pt x="200" y="85"/>
                      </a:lnTo>
                      <a:lnTo>
                        <a:pt x="217" y="100"/>
                      </a:lnTo>
                      <a:lnTo>
                        <a:pt x="234" y="108"/>
                      </a:lnTo>
                      <a:lnTo>
                        <a:pt x="242" y="116"/>
                      </a:lnTo>
                      <a:lnTo>
                        <a:pt x="259" y="131"/>
                      </a:lnTo>
                      <a:lnTo>
                        <a:pt x="275" y="139"/>
                      </a:lnTo>
                      <a:lnTo>
                        <a:pt x="284" y="154"/>
                      </a:lnTo>
                      <a:lnTo>
                        <a:pt x="300" y="170"/>
                      </a:lnTo>
                      <a:lnTo>
                        <a:pt x="317" y="177"/>
                      </a:lnTo>
                      <a:lnTo>
                        <a:pt x="325" y="193"/>
                      </a:lnTo>
                      <a:lnTo>
                        <a:pt x="334" y="200"/>
                      </a:lnTo>
                      <a:lnTo>
                        <a:pt x="342" y="208"/>
                      </a:lnTo>
                      <a:lnTo>
                        <a:pt x="351" y="223"/>
                      </a:lnTo>
                      <a:lnTo>
                        <a:pt x="351" y="231"/>
                      </a:lnTo>
                      <a:lnTo>
                        <a:pt x="359" y="246"/>
                      </a:lnTo>
                      <a:lnTo>
                        <a:pt x="359" y="262"/>
                      </a:lnTo>
                      <a:lnTo>
                        <a:pt x="359" y="270"/>
                      </a:lnTo>
                      <a:lnTo>
                        <a:pt x="359" y="293"/>
                      </a:lnTo>
                      <a:lnTo>
                        <a:pt x="351" y="316"/>
                      </a:lnTo>
                      <a:lnTo>
                        <a:pt x="351" y="339"/>
                      </a:lnTo>
                      <a:lnTo>
                        <a:pt x="342" y="362"/>
                      </a:lnTo>
                      <a:lnTo>
                        <a:pt x="334" y="385"/>
                      </a:lnTo>
                      <a:lnTo>
                        <a:pt x="325" y="408"/>
                      </a:lnTo>
                      <a:lnTo>
                        <a:pt x="317" y="431"/>
                      </a:lnTo>
                      <a:lnTo>
                        <a:pt x="317" y="454"/>
                      </a:lnTo>
                      <a:lnTo>
                        <a:pt x="309" y="477"/>
                      </a:lnTo>
                      <a:lnTo>
                        <a:pt x="300" y="500"/>
                      </a:lnTo>
                      <a:lnTo>
                        <a:pt x="284" y="523"/>
                      </a:lnTo>
                      <a:lnTo>
                        <a:pt x="275" y="546"/>
                      </a:lnTo>
                      <a:lnTo>
                        <a:pt x="267" y="570"/>
                      </a:lnTo>
                      <a:lnTo>
                        <a:pt x="259" y="593"/>
                      </a:lnTo>
                      <a:lnTo>
                        <a:pt x="242" y="616"/>
                      </a:lnTo>
                      <a:lnTo>
                        <a:pt x="234" y="639"/>
                      </a:lnTo>
                      <a:lnTo>
                        <a:pt x="234" y="646"/>
                      </a:lnTo>
                      <a:lnTo>
                        <a:pt x="225" y="646"/>
                      </a:lnTo>
                      <a:lnTo>
                        <a:pt x="225" y="654"/>
                      </a:lnTo>
                      <a:lnTo>
                        <a:pt x="225" y="662"/>
                      </a:lnTo>
                      <a:lnTo>
                        <a:pt x="217" y="662"/>
                      </a:lnTo>
                      <a:lnTo>
                        <a:pt x="217" y="670"/>
                      </a:lnTo>
                      <a:lnTo>
                        <a:pt x="208" y="670"/>
                      </a:lnTo>
                      <a:lnTo>
                        <a:pt x="200" y="677"/>
                      </a:lnTo>
                      <a:lnTo>
                        <a:pt x="192" y="677"/>
                      </a:lnTo>
                      <a:lnTo>
                        <a:pt x="183" y="677"/>
                      </a:lnTo>
                      <a:lnTo>
                        <a:pt x="175" y="677"/>
                      </a:lnTo>
                      <a:lnTo>
                        <a:pt x="167" y="685"/>
                      </a:lnTo>
                      <a:lnTo>
                        <a:pt x="158" y="685"/>
                      </a:lnTo>
                      <a:lnTo>
                        <a:pt x="142" y="685"/>
                      </a:lnTo>
                      <a:lnTo>
                        <a:pt x="133" y="685"/>
                      </a:lnTo>
                      <a:lnTo>
                        <a:pt x="125" y="677"/>
                      </a:lnTo>
                      <a:lnTo>
                        <a:pt x="117" y="677"/>
                      </a:lnTo>
                      <a:lnTo>
                        <a:pt x="108" y="677"/>
                      </a:lnTo>
                      <a:lnTo>
                        <a:pt x="100" y="677"/>
                      </a:lnTo>
                      <a:lnTo>
                        <a:pt x="91" y="677"/>
                      </a:lnTo>
                      <a:lnTo>
                        <a:pt x="83" y="670"/>
                      </a:lnTo>
                      <a:lnTo>
                        <a:pt x="75" y="670"/>
                      </a:lnTo>
                      <a:lnTo>
                        <a:pt x="66" y="670"/>
                      </a:lnTo>
                      <a:lnTo>
                        <a:pt x="58" y="670"/>
                      </a:lnTo>
                      <a:lnTo>
                        <a:pt x="50" y="670"/>
                      </a:lnTo>
                      <a:lnTo>
                        <a:pt x="41" y="662"/>
                      </a:lnTo>
                      <a:lnTo>
                        <a:pt x="33" y="662"/>
                      </a:lnTo>
                      <a:lnTo>
                        <a:pt x="25" y="662"/>
                      </a:lnTo>
                      <a:lnTo>
                        <a:pt x="16" y="662"/>
                      </a:lnTo>
                      <a:lnTo>
                        <a:pt x="8" y="662"/>
                      </a:lnTo>
                      <a:lnTo>
                        <a:pt x="0" y="654"/>
                      </a:lnTo>
                      <a:lnTo>
                        <a:pt x="16" y="654"/>
                      </a:lnTo>
                      <a:lnTo>
                        <a:pt x="33" y="654"/>
                      </a:lnTo>
                      <a:lnTo>
                        <a:pt x="41" y="654"/>
                      </a:lnTo>
                      <a:lnTo>
                        <a:pt x="58" y="654"/>
                      </a:lnTo>
                      <a:lnTo>
                        <a:pt x="66" y="654"/>
                      </a:lnTo>
                      <a:lnTo>
                        <a:pt x="83" y="654"/>
                      </a:lnTo>
                      <a:lnTo>
                        <a:pt x="100" y="654"/>
                      </a:lnTo>
                      <a:lnTo>
                        <a:pt x="108" y="646"/>
                      </a:lnTo>
                      <a:lnTo>
                        <a:pt x="117" y="646"/>
                      </a:lnTo>
                      <a:lnTo>
                        <a:pt x="125" y="639"/>
                      </a:lnTo>
                      <a:lnTo>
                        <a:pt x="133" y="631"/>
                      </a:lnTo>
                      <a:lnTo>
                        <a:pt x="142" y="631"/>
                      </a:lnTo>
                      <a:lnTo>
                        <a:pt x="150" y="623"/>
                      </a:lnTo>
                      <a:lnTo>
                        <a:pt x="150" y="616"/>
                      </a:lnTo>
                      <a:lnTo>
                        <a:pt x="158" y="608"/>
                      </a:lnTo>
                      <a:lnTo>
                        <a:pt x="167" y="593"/>
                      </a:lnTo>
                      <a:lnTo>
                        <a:pt x="175" y="570"/>
                      </a:lnTo>
                      <a:lnTo>
                        <a:pt x="192" y="546"/>
                      </a:lnTo>
                      <a:lnTo>
                        <a:pt x="200" y="531"/>
                      </a:lnTo>
                      <a:lnTo>
                        <a:pt x="208" y="508"/>
                      </a:lnTo>
                      <a:lnTo>
                        <a:pt x="217" y="485"/>
                      </a:lnTo>
                      <a:lnTo>
                        <a:pt x="225" y="462"/>
                      </a:lnTo>
                      <a:lnTo>
                        <a:pt x="234" y="439"/>
                      </a:lnTo>
                      <a:lnTo>
                        <a:pt x="242" y="416"/>
                      </a:lnTo>
                      <a:lnTo>
                        <a:pt x="250" y="393"/>
                      </a:lnTo>
                      <a:lnTo>
                        <a:pt x="259" y="370"/>
                      </a:lnTo>
                      <a:lnTo>
                        <a:pt x="259" y="339"/>
                      </a:lnTo>
                      <a:lnTo>
                        <a:pt x="267" y="323"/>
                      </a:lnTo>
                      <a:lnTo>
                        <a:pt x="275" y="300"/>
                      </a:lnTo>
                      <a:lnTo>
                        <a:pt x="284" y="277"/>
                      </a:lnTo>
                      <a:lnTo>
                        <a:pt x="284" y="254"/>
                      </a:lnTo>
                      <a:lnTo>
                        <a:pt x="284" y="246"/>
                      </a:lnTo>
                      <a:lnTo>
                        <a:pt x="284" y="231"/>
                      </a:lnTo>
                      <a:lnTo>
                        <a:pt x="284" y="216"/>
                      </a:lnTo>
                      <a:lnTo>
                        <a:pt x="284" y="208"/>
                      </a:lnTo>
                      <a:lnTo>
                        <a:pt x="284" y="193"/>
                      </a:lnTo>
                      <a:lnTo>
                        <a:pt x="275" y="185"/>
                      </a:lnTo>
                      <a:lnTo>
                        <a:pt x="275" y="177"/>
                      </a:lnTo>
                      <a:lnTo>
                        <a:pt x="267" y="162"/>
                      </a:lnTo>
                      <a:lnTo>
                        <a:pt x="259" y="154"/>
                      </a:lnTo>
                      <a:lnTo>
                        <a:pt x="242" y="139"/>
                      </a:lnTo>
                      <a:lnTo>
                        <a:pt x="234" y="131"/>
                      </a:lnTo>
                      <a:lnTo>
                        <a:pt x="225" y="123"/>
                      </a:lnTo>
                      <a:lnTo>
                        <a:pt x="217" y="108"/>
                      </a:lnTo>
                      <a:lnTo>
                        <a:pt x="200" y="100"/>
                      </a:lnTo>
                      <a:lnTo>
                        <a:pt x="192" y="93"/>
                      </a:lnTo>
                      <a:lnTo>
                        <a:pt x="175" y="77"/>
                      </a:lnTo>
                      <a:lnTo>
                        <a:pt x="167" y="70"/>
                      </a:lnTo>
                      <a:lnTo>
                        <a:pt x="158" y="62"/>
                      </a:lnTo>
                      <a:lnTo>
                        <a:pt x="142" y="46"/>
                      </a:lnTo>
                      <a:lnTo>
                        <a:pt x="133" y="39"/>
                      </a:lnTo>
                      <a:lnTo>
                        <a:pt x="117" y="31"/>
                      </a:lnTo>
                      <a:lnTo>
                        <a:pt x="100" y="23"/>
                      </a:lnTo>
                      <a:lnTo>
                        <a:pt x="91" y="8"/>
                      </a:lnTo>
                      <a:lnTo>
                        <a:pt x="75"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Freeform 504"/>
                <p:cNvSpPr/>
                <p:nvPr/>
              </p:nvSpPr>
              <p:spPr>
                <a:xfrm flipH="1">
                  <a:off x="94320" y="1825560"/>
                  <a:ext cx="256680" cy="165960"/>
                </a:xfrm>
                <a:custGeom>
                  <a:avLst/>
                  <a:gdLst>
                    <a:gd name="textAreaLeft" fmla="*/ -360 w 256680"/>
                    <a:gd name="textAreaRight" fmla="*/ 256680 w 256680"/>
                    <a:gd name="textAreaTop" fmla="*/ 0 h 165960"/>
                    <a:gd name="textAreaBottom" fmla="*/ 166320 h 165960"/>
                  </a:gdLst>
                  <a:ahLst/>
                  <a:rect l="textAreaLeft" t="textAreaTop" r="textAreaRight" b="textAreaBottom"/>
                  <a:pathLst>
                    <a:path w="1287" h="792">
                      <a:moveTo>
                        <a:pt x="1078" y="138"/>
                      </a:moveTo>
                      <a:lnTo>
                        <a:pt x="1061" y="131"/>
                      </a:lnTo>
                      <a:lnTo>
                        <a:pt x="1044" y="123"/>
                      </a:lnTo>
                      <a:lnTo>
                        <a:pt x="1028" y="108"/>
                      </a:lnTo>
                      <a:lnTo>
                        <a:pt x="1011" y="100"/>
                      </a:lnTo>
                      <a:lnTo>
                        <a:pt x="994" y="100"/>
                      </a:lnTo>
                      <a:lnTo>
                        <a:pt x="986" y="92"/>
                      </a:lnTo>
                      <a:lnTo>
                        <a:pt x="969" y="84"/>
                      </a:lnTo>
                      <a:lnTo>
                        <a:pt x="952" y="77"/>
                      </a:lnTo>
                      <a:lnTo>
                        <a:pt x="936" y="69"/>
                      </a:lnTo>
                      <a:lnTo>
                        <a:pt x="919" y="61"/>
                      </a:lnTo>
                      <a:lnTo>
                        <a:pt x="902" y="54"/>
                      </a:lnTo>
                      <a:lnTo>
                        <a:pt x="886" y="46"/>
                      </a:lnTo>
                      <a:lnTo>
                        <a:pt x="869" y="46"/>
                      </a:lnTo>
                      <a:lnTo>
                        <a:pt x="852" y="38"/>
                      </a:lnTo>
                      <a:lnTo>
                        <a:pt x="835" y="31"/>
                      </a:lnTo>
                      <a:lnTo>
                        <a:pt x="819" y="23"/>
                      </a:lnTo>
                      <a:lnTo>
                        <a:pt x="802" y="15"/>
                      </a:lnTo>
                      <a:lnTo>
                        <a:pt x="777" y="8"/>
                      </a:lnTo>
                      <a:lnTo>
                        <a:pt x="752" y="8"/>
                      </a:lnTo>
                      <a:lnTo>
                        <a:pt x="735" y="0"/>
                      </a:lnTo>
                      <a:lnTo>
                        <a:pt x="702" y="0"/>
                      </a:lnTo>
                      <a:lnTo>
                        <a:pt x="677" y="0"/>
                      </a:lnTo>
                      <a:lnTo>
                        <a:pt x="652" y="0"/>
                      </a:lnTo>
                      <a:lnTo>
                        <a:pt x="618" y="0"/>
                      </a:lnTo>
                      <a:lnTo>
                        <a:pt x="593" y="8"/>
                      </a:lnTo>
                      <a:lnTo>
                        <a:pt x="560" y="8"/>
                      </a:lnTo>
                      <a:lnTo>
                        <a:pt x="535" y="15"/>
                      </a:lnTo>
                      <a:lnTo>
                        <a:pt x="501" y="23"/>
                      </a:lnTo>
                      <a:lnTo>
                        <a:pt x="468" y="31"/>
                      </a:lnTo>
                      <a:lnTo>
                        <a:pt x="443" y="38"/>
                      </a:lnTo>
                      <a:lnTo>
                        <a:pt x="409" y="46"/>
                      </a:lnTo>
                      <a:lnTo>
                        <a:pt x="376" y="54"/>
                      </a:lnTo>
                      <a:lnTo>
                        <a:pt x="359" y="61"/>
                      </a:lnTo>
                      <a:lnTo>
                        <a:pt x="342" y="69"/>
                      </a:lnTo>
                      <a:lnTo>
                        <a:pt x="317" y="77"/>
                      </a:lnTo>
                      <a:lnTo>
                        <a:pt x="301" y="84"/>
                      </a:lnTo>
                      <a:lnTo>
                        <a:pt x="284" y="92"/>
                      </a:lnTo>
                      <a:lnTo>
                        <a:pt x="267" y="92"/>
                      </a:lnTo>
                      <a:lnTo>
                        <a:pt x="250" y="100"/>
                      </a:lnTo>
                      <a:lnTo>
                        <a:pt x="234" y="108"/>
                      </a:lnTo>
                      <a:lnTo>
                        <a:pt x="217" y="115"/>
                      </a:lnTo>
                      <a:lnTo>
                        <a:pt x="200" y="123"/>
                      </a:lnTo>
                      <a:lnTo>
                        <a:pt x="184" y="131"/>
                      </a:lnTo>
                      <a:lnTo>
                        <a:pt x="167" y="138"/>
                      </a:lnTo>
                      <a:lnTo>
                        <a:pt x="150" y="138"/>
                      </a:lnTo>
                      <a:lnTo>
                        <a:pt x="133" y="146"/>
                      </a:lnTo>
                      <a:lnTo>
                        <a:pt x="117" y="154"/>
                      </a:lnTo>
                      <a:lnTo>
                        <a:pt x="100" y="169"/>
                      </a:lnTo>
                      <a:lnTo>
                        <a:pt x="92" y="169"/>
                      </a:lnTo>
                      <a:lnTo>
                        <a:pt x="83" y="177"/>
                      </a:lnTo>
                      <a:lnTo>
                        <a:pt x="67" y="184"/>
                      </a:lnTo>
                      <a:lnTo>
                        <a:pt x="58" y="192"/>
                      </a:lnTo>
                      <a:lnTo>
                        <a:pt x="50" y="208"/>
                      </a:lnTo>
                      <a:lnTo>
                        <a:pt x="50" y="215"/>
                      </a:lnTo>
                      <a:lnTo>
                        <a:pt x="41" y="223"/>
                      </a:lnTo>
                      <a:lnTo>
                        <a:pt x="41" y="238"/>
                      </a:lnTo>
                      <a:lnTo>
                        <a:pt x="33" y="261"/>
                      </a:lnTo>
                      <a:lnTo>
                        <a:pt x="25" y="292"/>
                      </a:lnTo>
                      <a:lnTo>
                        <a:pt x="16" y="331"/>
                      </a:lnTo>
                      <a:lnTo>
                        <a:pt x="16" y="361"/>
                      </a:lnTo>
                      <a:lnTo>
                        <a:pt x="8" y="400"/>
                      </a:lnTo>
                      <a:lnTo>
                        <a:pt x="8" y="431"/>
                      </a:lnTo>
                      <a:lnTo>
                        <a:pt x="0" y="469"/>
                      </a:lnTo>
                      <a:lnTo>
                        <a:pt x="8" y="508"/>
                      </a:lnTo>
                      <a:lnTo>
                        <a:pt x="8" y="523"/>
                      </a:lnTo>
                      <a:lnTo>
                        <a:pt x="8" y="538"/>
                      </a:lnTo>
                      <a:lnTo>
                        <a:pt x="16" y="546"/>
                      </a:lnTo>
                      <a:lnTo>
                        <a:pt x="25" y="561"/>
                      </a:lnTo>
                      <a:lnTo>
                        <a:pt x="33" y="569"/>
                      </a:lnTo>
                      <a:lnTo>
                        <a:pt x="50" y="577"/>
                      </a:lnTo>
                      <a:lnTo>
                        <a:pt x="67" y="584"/>
                      </a:lnTo>
                      <a:lnTo>
                        <a:pt x="83" y="592"/>
                      </a:lnTo>
                      <a:lnTo>
                        <a:pt x="92" y="592"/>
                      </a:lnTo>
                      <a:lnTo>
                        <a:pt x="108" y="600"/>
                      </a:lnTo>
                      <a:lnTo>
                        <a:pt x="125" y="600"/>
                      </a:lnTo>
                      <a:lnTo>
                        <a:pt x="142" y="608"/>
                      </a:lnTo>
                      <a:lnTo>
                        <a:pt x="158" y="615"/>
                      </a:lnTo>
                      <a:lnTo>
                        <a:pt x="184" y="623"/>
                      </a:lnTo>
                      <a:lnTo>
                        <a:pt x="209" y="623"/>
                      </a:lnTo>
                      <a:lnTo>
                        <a:pt x="234" y="631"/>
                      </a:lnTo>
                      <a:lnTo>
                        <a:pt x="259" y="638"/>
                      </a:lnTo>
                      <a:lnTo>
                        <a:pt x="284" y="646"/>
                      </a:lnTo>
                      <a:lnTo>
                        <a:pt x="317" y="654"/>
                      </a:lnTo>
                      <a:lnTo>
                        <a:pt x="342" y="661"/>
                      </a:lnTo>
                      <a:lnTo>
                        <a:pt x="376" y="669"/>
                      </a:lnTo>
                      <a:lnTo>
                        <a:pt x="409" y="677"/>
                      </a:lnTo>
                      <a:lnTo>
                        <a:pt x="443" y="684"/>
                      </a:lnTo>
                      <a:lnTo>
                        <a:pt x="476" y="692"/>
                      </a:lnTo>
                      <a:lnTo>
                        <a:pt x="509" y="700"/>
                      </a:lnTo>
                      <a:lnTo>
                        <a:pt x="543" y="708"/>
                      </a:lnTo>
                      <a:lnTo>
                        <a:pt x="576" y="715"/>
                      </a:lnTo>
                      <a:lnTo>
                        <a:pt x="610" y="723"/>
                      </a:lnTo>
                      <a:lnTo>
                        <a:pt x="643" y="731"/>
                      </a:lnTo>
                      <a:lnTo>
                        <a:pt x="677" y="738"/>
                      </a:lnTo>
                      <a:lnTo>
                        <a:pt x="710" y="746"/>
                      </a:lnTo>
                      <a:lnTo>
                        <a:pt x="743" y="746"/>
                      </a:lnTo>
                      <a:lnTo>
                        <a:pt x="785" y="754"/>
                      </a:lnTo>
                      <a:lnTo>
                        <a:pt x="810" y="761"/>
                      </a:lnTo>
                      <a:lnTo>
                        <a:pt x="852" y="769"/>
                      </a:lnTo>
                      <a:lnTo>
                        <a:pt x="877" y="777"/>
                      </a:lnTo>
                      <a:lnTo>
                        <a:pt x="911" y="777"/>
                      </a:lnTo>
                      <a:lnTo>
                        <a:pt x="944" y="784"/>
                      </a:lnTo>
                      <a:lnTo>
                        <a:pt x="969" y="792"/>
                      </a:lnTo>
                      <a:lnTo>
                        <a:pt x="1003" y="792"/>
                      </a:lnTo>
                      <a:lnTo>
                        <a:pt x="1019" y="792"/>
                      </a:lnTo>
                      <a:lnTo>
                        <a:pt x="1036" y="792"/>
                      </a:lnTo>
                      <a:lnTo>
                        <a:pt x="1044" y="792"/>
                      </a:lnTo>
                      <a:lnTo>
                        <a:pt x="1061" y="792"/>
                      </a:lnTo>
                      <a:lnTo>
                        <a:pt x="1069" y="792"/>
                      </a:lnTo>
                      <a:lnTo>
                        <a:pt x="1086" y="792"/>
                      </a:lnTo>
                      <a:lnTo>
                        <a:pt x="1103" y="792"/>
                      </a:lnTo>
                      <a:lnTo>
                        <a:pt x="1111" y="784"/>
                      </a:lnTo>
                      <a:lnTo>
                        <a:pt x="1120" y="784"/>
                      </a:lnTo>
                      <a:lnTo>
                        <a:pt x="1128" y="777"/>
                      </a:lnTo>
                      <a:lnTo>
                        <a:pt x="1136" y="769"/>
                      </a:lnTo>
                      <a:lnTo>
                        <a:pt x="1145" y="769"/>
                      </a:lnTo>
                      <a:lnTo>
                        <a:pt x="1153" y="761"/>
                      </a:lnTo>
                      <a:lnTo>
                        <a:pt x="1153" y="754"/>
                      </a:lnTo>
                      <a:lnTo>
                        <a:pt x="1161" y="746"/>
                      </a:lnTo>
                      <a:lnTo>
                        <a:pt x="1170" y="731"/>
                      </a:lnTo>
                      <a:lnTo>
                        <a:pt x="1178" y="708"/>
                      </a:lnTo>
                      <a:lnTo>
                        <a:pt x="1195" y="684"/>
                      </a:lnTo>
                      <a:lnTo>
                        <a:pt x="1203" y="669"/>
                      </a:lnTo>
                      <a:lnTo>
                        <a:pt x="1211" y="646"/>
                      </a:lnTo>
                      <a:lnTo>
                        <a:pt x="1220" y="623"/>
                      </a:lnTo>
                      <a:lnTo>
                        <a:pt x="1228" y="600"/>
                      </a:lnTo>
                      <a:lnTo>
                        <a:pt x="1237" y="577"/>
                      </a:lnTo>
                      <a:lnTo>
                        <a:pt x="1245" y="554"/>
                      </a:lnTo>
                      <a:lnTo>
                        <a:pt x="1253" y="531"/>
                      </a:lnTo>
                      <a:lnTo>
                        <a:pt x="1262" y="508"/>
                      </a:lnTo>
                      <a:lnTo>
                        <a:pt x="1262" y="477"/>
                      </a:lnTo>
                      <a:lnTo>
                        <a:pt x="1270" y="461"/>
                      </a:lnTo>
                      <a:lnTo>
                        <a:pt x="1278" y="438"/>
                      </a:lnTo>
                      <a:lnTo>
                        <a:pt x="1287" y="415"/>
                      </a:lnTo>
                      <a:lnTo>
                        <a:pt x="1287" y="392"/>
                      </a:lnTo>
                      <a:lnTo>
                        <a:pt x="1287" y="384"/>
                      </a:lnTo>
                      <a:lnTo>
                        <a:pt x="1287" y="369"/>
                      </a:lnTo>
                      <a:lnTo>
                        <a:pt x="1287" y="354"/>
                      </a:lnTo>
                      <a:lnTo>
                        <a:pt x="1287" y="346"/>
                      </a:lnTo>
                      <a:lnTo>
                        <a:pt x="1287" y="331"/>
                      </a:lnTo>
                      <a:lnTo>
                        <a:pt x="1278" y="323"/>
                      </a:lnTo>
                      <a:lnTo>
                        <a:pt x="1278" y="315"/>
                      </a:lnTo>
                      <a:lnTo>
                        <a:pt x="1270" y="300"/>
                      </a:lnTo>
                      <a:lnTo>
                        <a:pt x="1262" y="292"/>
                      </a:lnTo>
                      <a:lnTo>
                        <a:pt x="1245" y="277"/>
                      </a:lnTo>
                      <a:lnTo>
                        <a:pt x="1237" y="269"/>
                      </a:lnTo>
                      <a:lnTo>
                        <a:pt x="1228" y="261"/>
                      </a:lnTo>
                      <a:lnTo>
                        <a:pt x="1220" y="246"/>
                      </a:lnTo>
                      <a:lnTo>
                        <a:pt x="1203" y="238"/>
                      </a:lnTo>
                      <a:lnTo>
                        <a:pt x="1195" y="231"/>
                      </a:lnTo>
                      <a:lnTo>
                        <a:pt x="1178" y="215"/>
                      </a:lnTo>
                      <a:lnTo>
                        <a:pt x="1170" y="208"/>
                      </a:lnTo>
                      <a:lnTo>
                        <a:pt x="1161" y="200"/>
                      </a:lnTo>
                      <a:lnTo>
                        <a:pt x="1145" y="184"/>
                      </a:lnTo>
                      <a:lnTo>
                        <a:pt x="1136" y="177"/>
                      </a:lnTo>
                      <a:lnTo>
                        <a:pt x="1120" y="169"/>
                      </a:lnTo>
                      <a:lnTo>
                        <a:pt x="1103" y="161"/>
                      </a:lnTo>
                      <a:lnTo>
                        <a:pt x="1094" y="146"/>
                      </a:lnTo>
                      <a:lnTo>
                        <a:pt x="1078" y="138"/>
                      </a:lnTo>
                      <a:close/>
                    </a:path>
                  </a:pathLst>
                </a:custGeom>
                <a:solidFill>
                  <a:srgbClr val="b5b5b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Freeform 503"/>
                <p:cNvSpPr/>
                <p:nvPr/>
              </p:nvSpPr>
              <p:spPr>
                <a:xfrm flipH="1">
                  <a:off x="94320" y="1825560"/>
                  <a:ext cx="256680" cy="165960"/>
                </a:xfrm>
                <a:custGeom>
                  <a:avLst/>
                  <a:gdLst>
                    <a:gd name="textAreaLeft" fmla="*/ -360 w 256680"/>
                    <a:gd name="textAreaRight" fmla="*/ 256680 w 256680"/>
                    <a:gd name="textAreaTop" fmla="*/ 0 h 165960"/>
                    <a:gd name="textAreaBottom" fmla="*/ 166320 h 165960"/>
                  </a:gdLst>
                  <a:ahLst/>
                  <a:rect l="textAreaLeft" t="textAreaTop" r="textAreaRight" b="textAreaBottom"/>
                  <a:pathLst>
                    <a:path w="1287" h="792">
                      <a:moveTo>
                        <a:pt x="1078" y="138"/>
                      </a:moveTo>
                      <a:lnTo>
                        <a:pt x="1061" y="131"/>
                      </a:lnTo>
                      <a:lnTo>
                        <a:pt x="1044" y="123"/>
                      </a:lnTo>
                      <a:lnTo>
                        <a:pt x="1028" y="108"/>
                      </a:lnTo>
                      <a:lnTo>
                        <a:pt x="1011" y="100"/>
                      </a:lnTo>
                      <a:lnTo>
                        <a:pt x="994" y="100"/>
                      </a:lnTo>
                      <a:lnTo>
                        <a:pt x="986" y="92"/>
                      </a:lnTo>
                      <a:lnTo>
                        <a:pt x="969" y="84"/>
                      </a:lnTo>
                      <a:lnTo>
                        <a:pt x="952" y="77"/>
                      </a:lnTo>
                      <a:lnTo>
                        <a:pt x="936" y="69"/>
                      </a:lnTo>
                      <a:lnTo>
                        <a:pt x="919" y="61"/>
                      </a:lnTo>
                      <a:lnTo>
                        <a:pt x="902" y="54"/>
                      </a:lnTo>
                      <a:lnTo>
                        <a:pt x="886" y="46"/>
                      </a:lnTo>
                      <a:lnTo>
                        <a:pt x="869" y="46"/>
                      </a:lnTo>
                      <a:lnTo>
                        <a:pt x="852" y="38"/>
                      </a:lnTo>
                      <a:lnTo>
                        <a:pt x="835" y="31"/>
                      </a:lnTo>
                      <a:lnTo>
                        <a:pt x="819" y="23"/>
                      </a:lnTo>
                      <a:lnTo>
                        <a:pt x="802" y="15"/>
                      </a:lnTo>
                      <a:lnTo>
                        <a:pt x="777" y="8"/>
                      </a:lnTo>
                      <a:lnTo>
                        <a:pt x="752" y="8"/>
                      </a:lnTo>
                      <a:lnTo>
                        <a:pt x="735" y="0"/>
                      </a:lnTo>
                      <a:lnTo>
                        <a:pt x="702" y="0"/>
                      </a:lnTo>
                      <a:lnTo>
                        <a:pt x="677" y="0"/>
                      </a:lnTo>
                      <a:lnTo>
                        <a:pt x="652" y="0"/>
                      </a:lnTo>
                      <a:lnTo>
                        <a:pt x="618" y="0"/>
                      </a:lnTo>
                      <a:lnTo>
                        <a:pt x="593" y="8"/>
                      </a:lnTo>
                      <a:lnTo>
                        <a:pt x="560" y="8"/>
                      </a:lnTo>
                      <a:lnTo>
                        <a:pt x="535" y="15"/>
                      </a:lnTo>
                      <a:lnTo>
                        <a:pt x="501" y="23"/>
                      </a:lnTo>
                      <a:lnTo>
                        <a:pt x="468" y="31"/>
                      </a:lnTo>
                      <a:lnTo>
                        <a:pt x="443" y="38"/>
                      </a:lnTo>
                      <a:lnTo>
                        <a:pt x="409" y="46"/>
                      </a:lnTo>
                      <a:lnTo>
                        <a:pt x="376" y="54"/>
                      </a:lnTo>
                      <a:lnTo>
                        <a:pt x="359" y="61"/>
                      </a:lnTo>
                      <a:lnTo>
                        <a:pt x="342" y="69"/>
                      </a:lnTo>
                      <a:lnTo>
                        <a:pt x="317" y="77"/>
                      </a:lnTo>
                      <a:lnTo>
                        <a:pt x="301" y="84"/>
                      </a:lnTo>
                      <a:lnTo>
                        <a:pt x="284" y="92"/>
                      </a:lnTo>
                      <a:lnTo>
                        <a:pt x="267" y="92"/>
                      </a:lnTo>
                      <a:lnTo>
                        <a:pt x="250" y="100"/>
                      </a:lnTo>
                      <a:lnTo>
                        <a:pt x="234" y="108"/>
                      </a:lnTo>
                      <a:lnTo>
                        <a:pt x="217" y="115"/>
                      </a:lnTo>
                      <a:lnTo>
                        <a:pt x="200" y="123"/>
                      </a:lnTo>
                      <a:lnTo>
                        <a:pt x="184" y="131"/>
                      </a:lnTo>
                      <a:lnTo>
                        <a:pt x="167" y="138"/>
                      </a:lnTo>
                      <a:lnTo>
                        <a:pt x="150" y="138"/>
                      </a:lnTo>
                      <a:lnTo>
                        <a:pt x="133" y="146"/>
                      </a:lnTo>
                      <a:lnTo>
                        <a:pt x="117" y="154"/>
                      </a:lnTo>
                      <a:lnTo>
                        <a:pt x="100" y="169"/>
                      </a:lnTo>
                      <a:lnTo>
                        <a:pt x="92" y="169"/>
                      </a:lnTo>
                      <a:lnTo>
                        <a:pt x="83" y="177"/>
                      </a:lnTo>
                      <a:lnTo>
                        <a:pt x="67" y="184"/>
                      </a:lnTo>
                      <a:lnTo>
                        <a:pt x="58" y="192"/>
                      </a:lnTo>
                      <a:lnTo>
                        <a:pt x="50" y="208"/>
                      </a:lnTo>
                      <a:lnTo>
                        <a:pt x="50" y="215"/>
                      </a:lnTo>
                      <a:lnTo>
                        <a:pt x="41" y="223"/>
                      </a:lnTo>
                      <a:lnTo>
                        <a:pt x="41" y="238"/>
                      </a:lnTo>
                      <a:lnTo>
                        <a:pt x="33" y="261"/>
                      </a:lnTo>
                      <a:lnTo>
                        <a:pt x="25" y="292"/>
                      </a:lnTo>
                      <a:lnTo>
                        <a:pt x="16" y="331"/>
                      </a:lnTo>
                      <a:lnTo>
                        <a:pt x="16" y="361"/>
                      </a:lnTo>
                      <a:lnTo>
                        <a:pt x="8" y="400"/>
                      </a:lnTo>
                      <a:lnTo>
                        <a:pt x="8" y="431"/>
                      </a:lnTo>
                      <a:lnTo>
                        <a:pt x="0" y="469"/>
                      </a:lnTo>
                      <a:lnTo>
                        <a:pt x="8" y="508"/>
                      </a:lnTo>
                      <a:lnTo>
                        <a:pt x="8" y="523"/>
                      </a:lnTo>
                      <a:lnTo>
                        <a:pt x="8" y="538"/>
                      </a:lnTo>
                      <a:lnTo>
                        <a:pt x="16" y="546"/>
                      </a:lnTo>
                      <a:lnTo>
                        <a:pt x="25" y="561"/>
                      </a:lnTo>
                      <a:lnTo>
                        <a:pt x="33" y="569"/>
                      </a:lnTo>
                      <a:lnTo>
                        <a:pt x="50" y="577"/>
                      </a:lnTo>
                      <a:lnTo>
                        <a:pt x="67" y="584"/>
                      </a:lnTo>
                      <a:lnTo>
                        <a:pt x="83" y="592"/>
                      </a:lnTo>
                      <a:lnTo>
                        <a:pt x="92" y="592"/>
                      </a:lnTo>
                      <a:lnTo>
                        <a:pt x="108" y="600"/>
                      </a:lnTo>
                      <a:lnTo>
                        <a:pt x="125" y="600"/>
                      </a:lnTo>
                      <a:lnTo>
                        <a:pt x="142" y="608"/>
                      </a:lnTo>
                      <a:lnTo>
                        <a:pt x="158" y="615"/>
                      </a:lnTo>
                      <a:lnTo>
                        <a:pt x="184" y="623"/>
                      </a:lnTo>
                      <a:lnTo>
                        <a:pt x="209" y="623"/>
                      </a:lnTo>
                      <a:lnTo>
                        <a:pt x="234" y="631"/>
                      </a:lnTo>
                      <a:lnTo>
                        <a:pt x="259" y="638"/>
                      </a:lnTo>
                      <a:lnTo>
                        <a:pt x="284" y="646"/>
                      </a:lnTo>
                      <a:lnTo>
                        <a:pt x="317" y="654"/>
                      </a:lnTo>
                      <a:lnTo>
                        <a:pt x="342" y="661"/>
                      </a:lnTo>
                      <a:lnTo>
                        <a:pt x="376" y="669"/>
                      </a:lnTo>
                      <a:lnTo>
                        <a:pt x="409" y="677"/>
                      </a:lnTo>
                      <a:lnTo>
                        <a:pt x="443" y="684"/>
                      </a:lnTo>
                      <a:lnTo>
                        <a:pt x="476" y="692"/>
                      </a:lnTo>
                      <a:lnTo>
                        <a:pt x="509" y="700"/>
                      </a:lnTo>
                      <a:lnTo>
                        <a:pt x="543" y="708"/>
                      </a:lnTo>
                      <a:lnTo>
                        <a:pt x="576" y="715"/>
                      </a:lnTo>
                      <a:lnTo>
                        <a:pt x="610" y="723"/>
                      </a:lnTo>
                      <a:lnTo>
                        <a:pt x="643" y="731"/>
                      </a:lnTo>
                      <a:lnTo>
                        <a:pt x="677" y="738"/>
                      </a:lnTo>
                      <a:lnTo>
                        <a:pt x="710" y="746"/>
                      </a:lnTo>
                      <a:lnTo>
                        <a:pt x="743" y="746"/>
                      </a:lnTo>
                      <a:lnTo>
                        <a:pt x="785" y="754"/>
                      </a:lnTo>
                      <a:lnTo>
                        <a:pt x="810" y="761"/>
                      </a:lnTo>
                      <a:lnTo>
                        <a:pt x="852" y="769"/>
                      </a:lnTo>
                      <a:lnTo>
                        <a:pt x="877" y="777"/>
                      </a:lnTo>
                      <a:lnTo>
                        <a:pt x="911" y="777"/>
                      </a:lnTo>
                      <a:lnTo>
                        <a:pt x="944" y="784"/>
                      </a:lnTo>
                      <a:lnTo>
                        <a:pt x="969" y="792"/>
                      </a:lnTo>
                      <a:lnTo>
                        <a:pt x="1003" y="792"/>
                      </a:lnTo>
                      <a:lnTo>
                        <a:pt x="1019" y="792"/>
                      </a:lnTo>
                      <a:lnTo>
                        <a:pt x="1036" y="792"/>
                      </a:lnTo>
                      <a:lnTo>
                        <a:pt x="1044" y="792"/>
                      </a:lnTo>
                      <a:lnTo>
                        <a:pt x="1061" y="792"/>
                      </a:lnTo>
                      <a:lnTo>
                        <a:pt x="1069" y="792"/>
                      </a:lnTo>
                      <a:lnTo>
                        <a:pt x="1086" y="792"/>
                      </a:lnTo>
                      <a:lnTo>
                        <a:pt x="1103" y="792"/>
                      </a:lnTo>
                      <a:lnTo>
                        <a:pt x="1111" y="784"/>
                      </a:lnTo>
                      <a:lnTo>
                        <a:pt x="1120" y="784"/>
                      </a:lnTo>
                      <a:lnTo>
                        <a:pt x="1128" y="777"/>
                      </a:lnTo>
                      <a:lnTo>
                        <a:pt x="1136" y="769"/>
                      </a:lnTo>
                      <a:lnTo>
                        <a:pt x="1145" y="769"/>
                      </a:lnTo>
                      <a:lnTo>
                        <a:pt x="1153" y="761"/>
                      </a:lnTo>
                      <a:lnTo>
                        <a:pt x="1153" y="754"/>
                      </a:lnTo>
                      <a:lnTo>
                        <a:pt x="1161" y="746"/>
                      </a:lnTo>
                      <a:lnTo>
                        <a:pt x="1170" y="731"/>
                      </a:lnTo>
                      <a:lnTo>
                        <a:pt x="1178" y="708"/>
                      </a:lnTo>
                      <a:lnTo>
                        <a:pt x="1195" y="684"/>
                      </a:lnTo>
                      <a:lnTo>
                        <a:pt x="1203" y="669"/>
                      </a:lnTo>
                      <a:lnTo>
                        <a:pt x="1211" y="646"/>
                      </a:lnTo>
                      <a:lnTo>
                        <a:pt x="1220" y="623"/>
                      </a:lnTo>
                      <a:lnTo>
                        <a:pt x="1228" y="600"/>
                      </a:lnTo>
                      <a:lnTo>
                        <a:pt x="1237" y="577"/>
                      </a:lnTo>
                      <a:lnTo>
                        <a:pt x="1245" y="554"/>
                      </a:lnTo>
                      <a:lnTo>
                        <a:pt x="1253" y="531"/>
                      </a:lnTo>
                      <a:lnTo>
                        <a:pt x="1262" y="508"/>
                      </a:lnTo>
                      <a:lnTo>
                        <a:pt x="1262" y="477"/>
                      </a:lnTo>
                      <a:lnTo>
                        <a:pt x="1270" y="461"/>
                      </a:lnTo>
                      <a:lnTo>
                        <a:pt x="1278" y="438"/>
                      </a:lnTo>
                      <a:lnTo>
                        <a:pt x="1287" y="415"/>
                      </a:lnTo>
                      <a:lnTo>
                        <a:pt x="1287" y="392"/>
                      </a:lnTo>
                      <a:lnTo>
                        <a:pt x="1287" y="384"/>
                      </a:lnTo>
                      <a:lnTo>
                        <a:pt x="1287" y="369"/>
                      </a:lnTo>
                      <a:lnTo>
                        <a:pt x="1287" y="354"/>
                      </a:lnTo>
                      <a:lnTo>
                        <a:pt x="1287" y="346"/>
                      </a:lnTo>
                      <a:lnTo>
                        <a:pt x="1287" y="331"/>
                      </a:lnTo>
                      <a:lnTo>
                        <a:pt x="1278" y="323"/>
                      </a:lnTo>
                      <a:lnTo>
                        <a:pt x="1278" y="315"/>
                      </a:lnTo>
                      <a:lnTo>
                        <a:pt x="1270" y="300"/>
                      </a:lnTo>
                      <a:lnTo>
                        <a:pt x="1262" y="292"/>
                      </a:lnTo>
                      <a:lnTo>
                        <a:pt x="1245" y="277"/>
                      </a:lnTo>
                      <a:lnTo>
                        <a:pt x="1237" y="269"/>
                      </a:lnTo>
                      <a:lnTo>
                        <a:pt x="1228" y="261"/>
                      </a:lnTo>
                      <a:lnTo>
                        <a:pt x="1220" y="246"/>
                      </a:lnTo>
                      <a:lnTo>
                        <a:pt x="1203" y="238"/>
                      </a:lnTo>
                      <a:lnTo>
                        <a:pt x="1195" y="231"/>
                      </a:lnTo>
                      <a:lnTo>
                        <a:pt x="1178" y="215"/>
                      </a:lnTo>
                      <a:lnTo>
                        <a:pt x="1170" y="208"/>
                      </a:lnTo>
                      <a:lnTo>
                        <a:pt x="1161" y="200"/>
                      </a:lnTo>
                      <a:lnTo>
                        <a:pt x="1145" y="184"/>
                      </a:lnTo>
                      <a:lnTo>
                        <a:pt x="1136" y="177"/>
                      </a:lnTo>
                      <a:lnTo>
                        <a:pt x="1120" y="169"/>
                      </a:lnTo>
                      <a:lnTo>
                        <a:pt x="1103" y="161"/>
                      </a:lnTo>
                      <a:lnTo>
                        <a:pt x="1094" y="146"/>
                      </a:lnTo>
                      <a:lnTo>
                        <a:pt x="1078" y="138"/>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Freeform 502"/>
                <p:cNvSpPr/>
                <p:nvPr/>
              </p:nvSpPr>
              <p:spPr>
                <a:xfrm flipH="1">
                  <a:off x="186120" y="195480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17" y="8"/>
                      </a:moveTo>
                      <a:lnTo>
                        <a:pt x="17" y="0"/>
                      </a:lnTo>
                      <a:lnTo>
                        <a:pt x="9" y="0"/>
                      </a:lnTo>
                      <a:lnTo>
                        <a:pt x="0" y="8"/>
                      </a:lnTo>
                      <a:lnTo>
                        <a:pt x="0" y="16"/>
                      </a:lnTo>
                      <a:lnTo>
                        <a:pt x="17"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4" name="Freeform 501"/>
                <p:cNvSpPr/>
                <p:nvPr/>
              </p:nvSpPr>
              <p:spPr>
                <a:xfrm flipH="1">
                  <a:off x="163080" y="1956240"/>
                  <a:ext cx="26640" cy="35280"/>
                </a:xfrm>
                <a:custGeom>
                  <a:avLst/>
                  <a:gdLst>
                    <a:gd name="textAreaLeft" fmla="*/ 360 w 26640"/>
                    <a:gd name="textAreaRight" fmla="*/ 27360 w 26640"/>
                    <a:gd name="textAreaTop" fmla="*/ 0 h 35280"/>
                    <a:gd name="textAreaBottom" fmla="*/ 35640 h 35280"/>
                  </a:gdLst>
                  <a:ahLst/>
                  <a:rect l="textAreaLeft" t="textAreaTop" r="textAreaRight" b="textAreaBottom"/>
                  <a:pathLst>
                    <a:path w="134" h="169">
                      <a:moveTo>
                        <a:pt x="134" y="154"/>
                      </a:moveTo>
                      <a:lnTo>
                        <a:pt x="126" y="146"/>
                      </a:lnTo>
                      <a:lnTo>
                        <a:pt x="126" y="138"/>
                      </a:lnTo>
                      <a:lnTo>
                        <a:pt x="117" y="131"/>
                      </a:lnTo>
                      <a:lnTo>
                        <a:pt x="109" y="115"/>
                      </a:lnTo>
                      <a:lnTo>
                        <a:pt x="101" y="108"/>
                      </a:lnTo>
                      <a:lnTo>
                        <a:pt x="92" y="100"/>
                      </a:lnTo>
                      <a:lnTo>
                        <a:pt x="84" y="85"/>
                      </a:lnTo>
                      <a:lnTo>
                        <a:pt x="76" y="77"/>
                      </a:lnTo>
                      <a:lnTo>
                        <a:pt x="67" y="69"/>
                      </a:lnTo>
                      <a:lnTo>
                        <a:pt x="67" y="54"/>
                      </a:lnTo>
                      <a:lnTo>
                        <a:pt x="59" y="46"/>
                      </a:lnTo>
                      <a:lnTo>
                        <a:pt x="50" y="38"/>
                      </a:lnTo>
                      <a:lnTo>
                        <a:pt x="42" y="31"/>
                      </a:lnTo>
                      <a:lnTo>
                        <a:pt x="34" y="15"/>
                      </a:lnTo>
                      <a:lnTo>
                        <a:pt x="25" y="8"/>
                      </a:lnTo>
                      <a:lnTo>
                        <a:pt x="17" y="0"/>
                      </a:lnTo>
                      <a:lnTo>
                        <a:pt x="0" y="8"/>
                      </a:lnTo>
                      <a:lnTo>
                        <a:pt x="9" y="15"/>
                      </a:lnTo>
                      <a:lnTo>
                        <a:pt x="17" y="31"/>
                      </a:lnTo>
                      <a:lnTo>
                        <a:pt x="25" y="38"/>
                      </a:lnTo>
                      <a:lnTo>
                        <a:pt x="34" y="46"/>
                      </a:lnTo>
                      <a:lnTo>
                        <a:pt x="42" y="54"/>
                      </a:lnTo>
                      <a:lnTo>
                        <a:pt x="50" y="69"/>
                      </a:lnTo>
                      <a:lnTo>
                        <a:pt x="50" y="77"/>
                      </a:lnTo>
                      <a:lnTo>
                        <a:pt x="59" y="85"/>
                      </a:lnTo>
                      <a:lnTo>
                        <a:pt x="67" y="100"/>
                      </a:lnTo>
                      <a:lnTo>
                        <a:pt x="76" y="108"/>
                      </a:lnTo>
                      <a:lnTo>
                        <a:pt x="84" y="115"/>
                      </a:lnTo>
                      <a:lnTo>
                        <a:pt x="92" y="131"/>
                      </a:lnTo>
                      <a:lnTo>
                        <a:pt x="101" y="138"/>
                      </a:lnTo>
                      <a:lnTo>
                        <a:pt x="101" y="146"/>
                      </a:lnTo>
                      <a:lnTo>
                        <a:pt x="109" y="154"/>
                      </a:lnTo>
                      <a:lnTo>
                        <a:pt x="117" y="169"/>
                      </a:lnTo>
                      <a:lnTo>
                        <a:pt x="134" y="154"/>
                      </a:lnTo>
                      <a:close/>
                    </a:path>
                  </a:pathLst>
                </a:custGeom>
                <a:solidFill>
                  <a:srgbClr val="00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5" name="Freeform 500"/>
                <p:cNvSpPr/>
                <p:nvPr/>
              </p:nvSpPr>
              <p:spPr>
                <a:xfrm flipH="1">
                  <a:off x="184680" y="1956240"/>
                  <a:ext cx="4680" cy="2880"/>
                </a:xfrm>
                <a:custGeom>
                  <a:avLst/>
                  <a:gdLst>
                    <a:gd name="textAreaLeft" fmla="*/ -360 w 4680"/>
                    <a:gd name="textAreaRight" fmla="*/ 4680 w 4680"/>
                    <a:gd name="textAreaTop" fmla="*/ 0 h 2880"/>
                    <a:gd name="textAreaBottom" fmla="*/ 3240 h 2880"/>
                  </a:gdLst>
                  <a:ahLst/>
                  <a:rect l="textAreaLeft" t="textAreaTop" r="textAreaRight" b="textAreaBottom"/>
                  <a:pathLst>
                    <a:path w="25" h="15">
                      <a:moveTo>
                        <a:pt x="0" y="8"/>
                      </a:moveTo>
                      <a:lnTo>
                        <a:pt x="9" y="15"/>
                      </a:lnTo>
                      <a:lnTo>
                        <a:pt x="17" y="15"/>
                      </a:lnTo>
                      <a:lnTo>
                        <a:pt x="17" y="8"/>
                      </a:lnTo>
                      <a:lnTo>
                        <a:pt x="25" y="8"/>
                      </a:lnTo>
                      <a:lnTo>
                        <a:pt x="25" y="0"/>
                      </a:lnTo>
                      <a:lnTo>
                        <a:pt x="17" y="0"/>
                      </a:lnTo>
                      <a:lnTo>
                        <a:pt x="0" y="8"/>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6" name="Freeform 499"/>
                <p:cNvSpPr/>
                <p:nvPr/>
              </p:nvSpPr>
              <p:spPr>
                <a:xfrm flipH="1">
                  <a:off x="185040" y="1932120"/>
                  <a:ext cx="2880" cy="2880"/>
                </a:xfrm>
                <a:custGeom>
                  <a:avLst/>
                  <a:gdLst>
                    <a:gd name="textAreaLeft" fmla="*/ 360 w 2880"/>
                    <a:gd name="textAreaRight" fmla="*/ 3600 w 2880"/>
                    <a:gd name="textAreaTop" fmla="*/ 0 h 2880"/>
                    <a:gd name="textAreaBottom" fmla="*/ 3240 h 2880"/>
                  </a:gdLst>
                  <a:ahLst/>
                  <a:rect l="textAreaLeft" t="textAreaTop" r="textAreaRight" b="textAreaBottom"/>
                  <a:pathLst>
                    <a:path w="16" h="15">
                      <a:moveTo>
                        <a:pt x="16" y="7"/>
                      </a:moveTo>
                      <a:lnTo>
                        <a:pt x="16" y="7"/>
                      </a:lnTo>
                      <a:lnTo>
                        <a:pt x="16" y="0"/>
                      </a:lnTo>
                      <a:lnTo>
                        <a:pt x="8" y="7"/>
                      </a:lnTo>
                      <a:lnTo>
                        <a:pt x="0" y="7"/>
                      </a:lnTo>
                      <a:lnTo>
                        <a:pt x="0" y="15"/>
                      </a:lnTo>
                      <a:lnTo>
                        <a:pt x="16" y="7"/>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7" name="Freeform 498"/>
                <p:cNvSpPr/>
                <p:nvPr/>
              </p:nvSpPr>
              <p:spPr>
                <a:xfrm flipH="1">
                  <a:off x="144720" y="1933560"/>
                  <a:ext cx="43200" cy="59400"/>
                </a:xfrm>
                <a:custGeom>
                  <a:avLst/>
                  <a:gdLst>
                    <a:gd name="textAreaLeft" fmla="*/ 360 w 43200"/>
                    <a:gd name="textAreaRight" fmla="*/ 43920 w 43200"/>
                    <a:gd name="textAreaTop" fmla="*/ 0 h 59400"/>
                    <a:gd name="textAreaBottom" fmla="*/ 59760 h 59400"/>
                  </a:gdLst>
                  <a:ahLst/>
                  <a:rect l="textAreaLeft" t="textAreaTop" r="textAreaRight" b="textAreaBottom"/>
                  <a:pathLst>
                    <a:path w="217" h="285">
                      <a:moveTo>
                        <a:pt x="217" y="269"/>
                      </a:moveTo>
                      <a:lnTo>
                        <a:pt x="200" y="254"/>
                      </a:lnTo>
                      <a:lnTo>
                        <a:pt x="192" y="239"/>
                      </a:lnTo>
                      <a:lnTo>
                        <a:pt x="175" y="223"/>
                      </a:lnTo>
                      <a:lnTo>
                        <a:pt x="167" y="208"/>
                      </a:lnTo>
                      <a:lnTo>
                        <a:pt x="158" y="185"/>
                      </a:lnTo>
                      <a:lnTo>
                        <a:pt x="142" y="169"/>
                      </a:lnTo>
                      <a:lnTo>
                        <a:pt x="133" y="154"/>
                      </a:lnTo>
                      <a:lnTo>
                        <a:pt x="117" y="139"/>
                      </a:lnTo>
                      <a:lnTo>
                        <a:pt x="108" y="123"/>
                      </a:lnTo>
                      <a:lnTo>
                        <a:pt x="92" y="100"/>
                      </a:lnTo>
                      <a:lnTo>
                        <a:pt x="83" y="85"/>
                      </a:lnTo>
                      <a:lnTo>
                        <a:pt x="67" y="69"/>
                      </a:lnTo>
                      <a:lnTo>
                        <a:pt x="58" y="54"/>
                      </a:lnTo>
                      <a:lnTo>
                        <a:pt x="41" y="31"/>
                      </a:lnTo>
                      <a:lnTo>
                        <a:pt x="33" y="16"/>
                      </a:lnTo>
                      <a:lnTo>
                        <a:pt x="16" y="0"/>
                      </a:lnTo>
                      <a:lnTo>
                        <a:pt x="0" y="8"/>
                      </a:lnTo>
                      <a:lnTo>
                        <a:pt x="16" y="31"/>
                      </a:lnTo>
                      <a:lnTo>
                        <a:pt x="25" y="46"/>
                      </a:lnTo>
                      <a:lnTo>
                        <a:pt x="41" y="62"/>
                      </a:lnTo>
                      <a:lnTo>
                        <a:pt x="50" y="77"/>
                      </a:lnTo>
                      <a:lnTo>
                        <a:pt x="67" y="100"/>
                      </a:lnTo>
                      <a:lnTo>
                        <a:pt x="75" y="116"/>
                      </a:lnTo>
                      <a:lnTo>
                        <a:pt x="92" y="131"/>
                      </a:lnTo>
                      <a:lnTo>
                        <a:pt x="100" y="146"/>
                      </a:lnTo>
                      <a:lnTo>
                        <a:pt x="117" y="162"/>
                      </a:lnTo>
                      <a:lnTo>
                        <a:pt x="125" y="185"/>
                      </a:lnTo>
                      <a:lnTo>
                        <a:pt x="133" y="200"/>
                      </a:lnTo>
                      <a:lnTo>
                        <a:pt x="150" y="216"/>
                      </a:lnTo>
                      <a:lnTo>
                        <a:pt x="158" y="231"/>
                      </a:lnTo>
                      <a:lnTo>
                        <a:pt x="175" y="246"/>
                      </a:lnTo>
                      <a:lnTo>
                        <a:pt x="184" y="269"/>
                      </a:lnTo>
                      <a:lnTo>
                        <a:pt x="200" y="285"/>
                      </a:lnTo>
                      <a:lnTo>
                        <a:pt x="217" y="269"/>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Freeform 497"/>
                <p:cNvSpPr/>
                <p:nvPr/>
              </p:nvSpPr>
              <p:spPr>
                <a:xfrm flipH="1">
                  <a:off x="182880" y="1933560"/>
                  <a:ext cx="4680" cy="3240"/>
                </a:xfrm>
                <a:custGeom>
                  <a:avLst/>
                  <a:gdLst>
                    <a:gd name="textAreaLeft" fmla="*/ -360 w 4680"/>
                    <a:gd name="textAreaRight" fmla="*/ 4680 w 4680"/>
                    <a:gd name="textAreaTop" fmla="*/ 0 h 3240"/>
                    <a:gd name="textAreaBottom" fmla="*/ 3600 h 3240"/>
                  </a:gdLst>
                  <a:ahLst/>
                  <a:rect l="textAreaLeft" t="textAreaTop" r="textAreaRight" b="textAreaBottom"/>
                  <a:pathLst>
                    <a:path w="25" h="16">
                      <a:moveTo>
                        <a:pt x="0" y="8"/>
                      </a:moveTo>
                      <a:lnTo>
                        <a:pt x="8" y="16"/>
                      </a:lnTo>
                      <a:lnTo>
                        <a:pt x="16" y="16"/>
                      </a:lnTo>
                      <a:lnTo>
                        <a:pt x="16" y="8"/>
                      </a:lnTo>
                      <a:lnTo>
                        <a:pt x="25" y="8"/>
                      </a:lnTo>
                      <a:lnTo>
                        <a:pt x="16" y="0"/>
                      </a:lnTo>
                      <a:lnTo>
                        <a:pt x="0"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9" name="Freeform 496"/>
                <p:cNvSpPr/>
                <p:nvPr/>
              </p:nvSpPr>
              <p:spPr>
                <a:xfrm flipH="1">
                  <a:off x="182880" y="191592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7"/>
                      </a:moveTo>
                      <a:lnTo>
                        <a:pt x="17" y="0"/>
                      </a:lnTo>
                      <a:lnTo>
                        <a:pt x="8" y="0"/>
                      </a:lnTo>
                      <a:lnTo>
                        <a:pt x="0" y="0"/>
                      </a:lnTo>
                      <a:lnTo>
                        <a:pt x="0" y="7"/>
                      </a:lnTo>
                      <a:lnTo>
                        <a:pt x="0" y="15"/>
                      </a:lnTo>
                      <a:lnTo>
                        <a:pt x="17" y="7"/>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0" name="Freeform 495"/>
                <p:cNvSpPr/>
                <p:nvPr/>
              </p:nvSpPr>
              <p:spPr>
                <a:xfrm flipH="1">
                  <a:off x="134640" y="1917360"/>
                  <a:ext cx="51480" cy="75600"/>
                </a:xfrm>
                <a:custGeom>
                  <a:avLst/>
                  <a:gdLst>
                    <a:gd name="textAreaLeft" fmla="*/ -360 w 51480"/>
                    <a:gd name="textAreaRight" fmla="*/ 51480 w 51480"/>
                    <a:gd name="textAreaTop" fmla="*/ 0 h 75600"/>
                    <a:gd name="textAreaBottom" fmla="*/ 75960 h 75600"/>
                  </a:gdLst>
                  <a:ahLst/>
                  <a:rect l="textAreaLeft" t="textAreaTop" r="textAreaRight" b="textAreaBottom"/>
                  <a:pathLst>
                    <a:path w="259" h="362">
                      <a:moveTo>
                        <a:pt x="259" y="354"/>
                      </a:moveTo>
                      <a:lnTo>
                        <a:pt x="242" y="331"/>
                      </a:lnTo>
                      <a:lnTo>
                        <a:pt x="234" y="308"/>
                      </a:lnTo>
                      <a:lnTo>
                        <a:pt x="217" y="285"/>
                      </a:lnTo>
                      <a:lnTo>
                        <a:pt x="201" y="262"/>
                      </a:lnTo>
                      <a:lnTo>
                        <a:pt x="184" y="239"/>
                      </a:lnTo>
                      <a:lnTo>
                        <a:pt x="167" y="216"/>
                      </a:lnTo>
                      <a:lnTo>
                        <a:pt x="150" y="200"/>
                      </a:lnTo>
                      <a:lnTo>
                        <a:pt x="142" y="170"/>
                      </a:lnTo>
                      <a:lnTo>
                        <a:pt x="125" y="154"/>
                      </a:lnTo>
                      <a:lnTo>
                        <a:pt x="109" y="131"/>
                      </a:lnTo>
                      <a:lnTo>
                        <a:pt x="92" y="108"/>
                      </a:lnTo>
                      <a:lnTo>
                        <a:pt x="75" y="85"/>
                      </a:lnTo>
                      <a:lnTo>
                        <a:pt x="59" y="62"/>
                      </a:lnTo>
                      <a:lnTo>
                        <a:pt x="50" y="39"/>
                      </a:lnTo>
                      <a:lnTo>
                        <a:pt x="33" y="16"/>
                      </a:lnTo>
                      <a:lnTo>
                        <a:pt x="17" y="0"/>
                      </a:lnTo>
                      <a:lnTo>
                        <a:pt x="0" y="8"/>
                      </a:lnTo>
                      <a:lnTo>
                        <a:pt x="17" y="31"/>
                      </a:lnTo>
                      <a:lnTo>
                        <a:pt x="33" y="46"/>
                      </a:lnTo>
                      <a:lnTo>
                        <a:pt x="42" y="70"/>
                      </a:lnTo>
                      <a:lnTo>
                        <a:pt x="59" y="93"/>
                      </a:lnTo>
                      <a:lnTo>
                        <a:pt x="75" y="116"/>
                      </a:lnTo>
                      <a:lnTo>
                        <a:pt x="92" y="139"/>
                      </a:lnTo>
                      <a:lnTo>
                        <a:pt x="109" y="162"/>
                      </a:lnTo>
                      <a:lnTo>
                        <a:pt x="117" y="185"/>
                      </a:lnTo>
                      <a:lnTo>
                        <a:pt x="134" y="208"/>
                      </a:lnTo>
                      <a:lnTo>
                        <a:pt x="150" y="231"/>
                      </a:lnTo>
                      <a:lnTo>
                        <a:pt x="167" y="246"/>
                      </a:lnTo>
                      <a:lnTo>
                        <a:pt x="184" y="270"/>
                      </a:lnTo>
                      <a:lnTo>
                        <a:pt x="201" y="293"/>
                      </a:lnTo>
                      <a:lnTo>
                        <a:pt x="209" y="316"/>
                      </a:lnTo>
                      <a:lnTo>
                        <a:pt x="226" y="339"/>
                      </a:lnTo>
                      <a:lnTo>
                        <a:pt x="242" y="362"/>
                      </a:lnTo>
                      <a:lnTo>
                        <a:pt x="259" y="354"/>
                      </a:lnTo>
                      <a:close/>
                    </a:path>
                  </a:pathLst>
                </a:custGeom>
                <a:solidFill>
                  <a:srgbClr val="000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1" name="Freeform 494"/>
                <p:cNvSpPr/>
                <p:nvPr/>
              </p:nvSpPr>
              <p:spPr>
                <a:xfrm flipH="1">
                  <a:off x="182880" y="191736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8"/>
                      </a:moveTo>
                      <a:lnTo>
                        <a:pt x="0" y="8"/>
                      </a:lnTo>
                      <a:lnTo>
                        <a:pt x="8" y="8"/>
                      </a:lnTo>
                      <a:lnTo>
                        <a:pt x="17" y="8"/>
                      </a:lnTo>
                      <a:lnTo>
                        <a:pt x="17" y="0"/>
                      </a:lnTo>
                      <a:lnTo>
                        <a:pt x="0"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Freeform 493"/>
                <p:cNvSpPr/>
                <p:nvPr/>
              </p:nvSpPr>
              <p:spPr>
                <a:xfrm flipH="1">
                  <a:off x="180000" y="190152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6" h="16">
                      <a:moveTo>
                        <a:pt x="16" y="0"/>
                      </a:moveTo>
                      <a:lnTo>
                        <a:pt x="16" y="0"/>
                      </a:lnTo>
                      <a:lnTo>
                        <a:pt x="8" y="0"/>
                      </a:lnTo>
                      <a:lnTo>
                        <a:pt x="0" y="8"/>
                      </a:lnTo>
                      <a:lnTo>
                        <a:pt x="0" y="16"/>
                      </a:lnTo>
                      <a:lnTo>
                        <a:pt x="16"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3" name="Freeform 492"/>
                <p:cNvSpPr/>
                <p:nvPr/>
              </p:nvSpPr>
              <p:spPr>
                <a:xfrm flipH="1">
                  <a:off x="124560" y="1901520"/>
                  <a:ext cx="57960" cy="87120"/>
                </a:xfrm>
                <a:custGeom>
                  <a:avLst/>
                  <a:gdLst>
                    <a:gd name="textAreaLeft" fmla="*/ -360 w 57960"/>
                    <a:gd name="textAreaRight" fmla="*/ 57960 w 57960"/>
                    <a:gd name="textAreaTop" fmla="*/ 0 h 87120"/>
                    <a:gd name="textAreaBottom" fmla="*/ 87480 h 87120"/>
                  </a:gdLst>
                  <a:ahLst/>
                  <a:rect l="textAreaLeft" t="textAreaTop" r="textAreaRight" b="textAreaBottom"/>
                  <a:pathLst>
                    <a:path w="292" h="416">
                      <a:moveTo>
                        <a:pt x="292" y="408"/>
                      </a:moveTo>
                      <a:lnTo>
                        <a:pt x="276" y="385"/>
                      </a:lnTo>
                      <a:lnTo>
                        <a:pt x="259" y="354"/>
                      </a:lnTo>
                      <a:lnTo>
                        <a:pt x="242" y="331"/>
                      </a:lnTo>
                      <a:lnTo>
                        <a:pt x="225" y="308"/>
                      </a:lnTo>
                      <a:lnTo>
                        <a:pt x="209" y="285"/>
                      </a:lnTo>
                      <a:lnTo>
                        <a:pt x="192" y="254"/>
                      </a:lnTo>
                      <a:lnTo>
                        <a:pt x="175" y="231"/>
                      </a:lnTo>
                      <a:lnTo>
                        <a:pt x="159" y="208"/>
                      </a:lnTo>
                      <a:lnTo>
                        <a:pt x="142" y="177"/>
                      </a:lnTo>
                      <a:lnTo>
                        <a:pt x="125" y="154"/>
                      </a:lnTo>
                      <a:lnTo>
                        <a:pt x="108" y="131"/>
                      </a:lnTo>
                      <a:lnTo>
                        <a:pt x="92" y="108"/>
                      </a:lnTo>
                      <a:lnTo>
                        <a:pt x="75" y="77"/>
                      </a:lnTo>
                      <a:lnTo>
                        <a:pt x="58" y="54"/>
                      </a:lnTo>
                      <a:lnTo>
                        <a:pt x="42" y="31"/>
                      </a:lnTo>
                      <a:lnTo>
                        <a:pt x="16" y="0"/>
                      </a:lnTo>
                      <a:lnTo>
                        <a:pt x="0" y="16"/>
                      </a:lnTo>
                      <a:lnTo>
                        <a:pt x="16" y="39"/>
                      </a:lnTo>
                      <a:lnTo>
                        <a:pt x="42" y="62"/>
                      </a:lnTo>
                      <a:lnTo>
                        <a:pt x="58" y="93"/>
                      </a:lnTo>
                      <a:lnTo>
                        <a:pt x="75" y="116"/>
                      </a:lnTo>
                      <a:lnTo>
                        <a:pt x="92" y="139"/>
                      </a:lnTo>
                      <a:lnTo>
                        <a:pt x="108" y="162"/>
                      </a:lnTo>
                      <a:lnTo>
                        <a:pt x="125" y="193"/>
                      </a:lnTo>
                      <a:lnTo>
                        <a:pt x="142" y="216"/>
                      </a:lnTo>
                      <a:lnTo>
                        <a:pt x="159" y="239"/>
                      </a:lnTo>
                      <a:lnTo>
                        <a:pt x="175" y="270"/>
                      </a:lnTo>
                      <a:lnTo>
                        <a:pt x="192" y="293"/>
                      </a:lnTo>
                      <a:lnTo>
                        <a:pt x="209" y="316"/>
                      </a:lnTo>
                      <a:lnTo>
                        <a:pt x="225" y="339"/>
                      </a:lnTo>
                      <a:lnTo>
                        <a:pt x="242" y="370"/>
                      </a:lnTo>
                      <a:lnTo>
                        <a:pt x="259" y="393"/>
                      </a:lnTo>
                      <a:lnTo>
                        <a:pt x="276" y="416"/>
                      </a:lnTo>
                      <a:lnTo>
                        <a:pt x="292" y="408"/>
                      </a:lnTo>
                      <a:close/>
                    </a:path>
                  </a:pathLst>
                </a:custGeom>
                <a:solidFill>
                  <a:srgbClr val="0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Freeform 491"/>
                <p:cNvSpPr/>
                <p:nvPr/>
              </p:nvSpPr>
              <p:spPr>
                <a:xfrm flipH="1">
                  <a:off x="177840" y="1901520"/>
                  <a:ext cx="4680" cy="3240"/>
                </a:xfrm>
                <a:custGeom>
                  <a:avLst/>
                  <a:gdLst>
                    <a:gd name="textAreaLeft" fmla="*/ -360 w 4680"/>
                    <a:gd name="textAreaRight" fmla="*/ 4680 w 4680"/>
                    <a:gd name="textAreaTop" fmla="*/ 0 h 3240"/>
                    <a:gd name="textAreaBottom" fmla="*/ 3600 h 3240"/>
                  </a:gdLst>
                  <a:ahLst/>
                  <a:rect l="textAreaLeft" t="textAreaTop" r="textAreaRight" b="textAreaBottom"/>
                  <a:pathLst>
                    <a:path w="25" h="16">
                      <a:moveTo>
                        <a:pt x="0" y="16"/>
                      </a:moveTo>
                      <a:lnTo>
                        <a:pt x="8" y="16"/>
                      </a:lnTo>
                      <a:lnTo>
                        <a:pt x="16" y="16"/>
                      </a:lnTo>
                      <a:lnTo>
                        <a:pt x="25" y="8"/>
                      </a:lnTo>
                      <a:lnTo>
                        <a:pt x="16" y="0"/>
                      </a:lnTo>
                      <a:lnTo>
                        <a:pt x="0"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Freeform 490"/>
                <p:cNvSpPr/>
                <p:nvPr/>
              </p:nvSpPr>
              <p:spPr>
                <a:xfrm flipH="1">
                  <a:off x="172800" y="188388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0"/>
                      </a:moveTo>
                      <a:lnTo>
                        <a:pt x="17" y="0"/>
                      </a:lnTo>
                      <a:lnTo>
                        <a:pt x="9" y="0"/>
                      </a:lnTo>
                      <a:lnTo>
                        <a:pt x="0" y="0"/>
                      </a:lnTo>
                      <a:lnTo>
                        <a:pt x="0" y="7"/>
                      </a:lnTo>
                      <a:lnTo>
                        <a:pt x="0" y="15"/>
                      </a:lnTo>
                      <a:lnTo>
                        <a:pt x="17"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6" name="Freeform 489"/>
                <p:cNvSpPr/>
                <p:nvPr/>
              </p:nvSpPr>
              <p:spPr>
                <a:xfrm flipH="1">
                  <a:off x="116640" y="1883880"/>
                  <a:ext cx="59760" cy="95040"/>
                </a:xfrm>
                <a:custGeom>
                  <a:avLst/>
                  <a:gdLst>
                    <a:gd name="textAreaLeft" fmla="*/ 360 w 59760"/>
                    <a:gd name="textAreaRight" fmla="*/ 60480 w 59760"/>
                    <a:gd name="textAreaTop" fmla="*/ 0 h 95040"/>
                    <a:gd name="textAreaBottom" fmla="*/ 95400 h 95040"/>
                  </a:gdLst>
                  <a:ahLst/>
                  <a:rect l="textAreaLeft" t="textAreaTop" r="textAreaRight" b="textAreaBottom"/>
                  <a:pathLst>
                    <a:path w="301" h="454">
                      <a:moveTo>
                        <a:pt x="301" y="446"/>
                      </a:moveTo>
                      <a:lnTo>
                        <a:pt x="293" y="431"/>
                      </a:lnTo>
                      <a:lnTo>
                        <a:pt x="284" y="423"/>
                      </a:lnTo>
                      <a:lnTo>
                        <a:pt x="276" y="407"/>
                      </a:lnTo>
                      <a:lnTo>
                        <a:pt x="268" y="392"/>
                      </a:lnTo>
                      <a:lnTo>
                        <a:pt x="259" y="377"/>
                      </a:lnTo>
                      <a:lnTo>
                        <a:pt x="251" y="361"/>
                      </a:lnTo>
                      <a:lnTo>
                        <a:pt x="243" y="354"/>
                      </a:lnTo>
                      <a:lnTo>
                        <a:pt x="234" y="338"/>
                      </a:lnTo>
                      <a:lnTo>
                        <a:pt x="226" y="323"/>
                      </a:lnTo>
                      <a:lnTo>
                        <a:pt x="209" y="307"/>
                      </a:lnTo>
                      <a:lnTo>
                        <a:pt x="201" y="292"/>
                      </a:lnTo>
                      <a:lnTo>
                        <a:pt x="192" y="284"/>
                      </a:lnTo>
                      <a:lnTo>
                        <a:pt x="184" y="269"/>
                      </a:lnTo>
                      <a:lnTo>
                        <a:pt x="176" y="254"/>
                      </a:lnTo>
                      <a:lnTo>
                        <a:pt x="167" y="238"/>
                      </a:lnTo>
                      <a:lnTo>
                        <a:pt x="159" y="223"/>
                      </a:lnTo>
                      <a:lnTo>
                        <a:pt x="151" y="215"/>
                      </a:lnTo>
                      <a:lnTo>
                        <a:pt x="142" y="200"/>
                      </a:lnTo>
                      <a:lnTo>
                        <a:pt x="134" y="184"/>
                      </a:lnTo>
                      <a:lnTo>
                        <a:pt x="126" y="169"/>
                      </a:lnTo>
                      <a:lnTo>
                        <a:pt x="117" y="154"/>
                      </a:lnTo>
                      <a:lnTo>
                        <a:pt x="109" y="146"/>
                      </a:lnTo>
                      <a:lnTo>
                        <a:pt x="100" y="131"/>
                      </a:lnTo>
                      <a:lnTo>
                        <a:pt x="84" y="115"/>
                      </a:lnTo>
                      <a:lnTo>
                        <a:pt x="75" y="100"/>
                      </a:lnTo>
                      <a:lnTo>
                        <a:pt x="67" y="84"/>
                      </a:lnTo>
                      <a:lnTo>
                        <a:pt x="59" y="69"/>
                      </a:lnTo>
                      <a:lnTo>
                        <a:pt x="50" y="61"/>
                      </a:lnTo>
                      <a:lnTo>
                        <a:pt x="42" y="46"/>
                      </a:lnTo>
                      <a:lnTo>
                        <a:pt x="34" y="31"/>
                      </a:lnTo>
                      <a:lnTo>
                        <a:pt x="25" y="15"/>
                      </a:lnTo>
                      <a:lnTo>
                        <a:pt x="17" y="0"/>
                      </a:lnTo>
                      <a:lnTo>
                        <a:pt x="0" y="15"/>
                      </a:lnTo>
                      <a:lnTo>
                        <a:pt x="9" y="23"/>
                      </a:lnTo>
                      <a:lnTo>
                        <a:pt x="17" y="38"/>
                      </a:lnTo>
                      <a:lnTo>
                        <a:pt x="25" y="54"/>
                      </a:lnTo>
                      <a:lnTo>
                        <a:pt x="34" y="69"/>
                      </a:lnTo>
                      <a:lnTo>
                        <a:pt x="42" y="84"/>
                      </a:lnTo>
                      <a:lnTo>
                        <a:pt x="50" y="92"/>
                      </a:lnTo>
                      <a:lnTo>
                        <a:pt x="59" y="107"/>
                      </a:lnTo>
                      <a:lnTo>
                        <a:pt x="67" y="123"/>
                      </a:lnTo>
                      <a:lnTo>
                        <a:pt x="75" y="138"/>
                      </a:lnTo>
                      <a:lnTo>
                        <a:pt x="84" y="154"/>
                      </a:lnTo>
                      <a:lnTo>
                        <a:pt x="100" y="169"/>
                      </a:lnTo>
                      <a:lnTo>
                        <a:pt x="109" y="177"/>
                      </a:lnTo>
                      <a:lnTo>
                        <a:pt x="117" y="192"/>
                      </a:lnTo>
                      <a:lnTo>
                        <a:pt x="126" y="207"/>
                      </a:lnTo>
                      <a:lnTo>
                        <a:pt x="134" y="223"/>
                      </a:lnTo>
                      <a:lnTo>
                        <a:pt x="142" y="238"/>
                      </a:lnTo>
                      <a:lnTo>
                        <a:pt x="151" y="246"/>
                      </a:lnTo>
                      <a:lnTo>
                        <a:pt x="159" y="261"/>
                      </a:lnTo>
                      <a:lnTo>
                        <a:pt x="167" y="277"/>
                      </a:lnTo>
                      <a:lnTo>
                        <a:pt x="176" y="292"/>
                      </a:lnTo>
                      <a:lnTo>
                        <a:pt x="184" y="307"/>
                      </a:lnTo>
                      <a:lnTo>
                        <a:pt x="192" y="315"/>
                      </a:lnTo>
                      <a:lnTo>
                        <a:pt x="201" y="331"/>
                      </a:lnTo>
                      <a:lnTo>
                        <a:pt x="209" y="346"/>
                      </a:lnTo>
                      <a:lnTo>
                        <a:pt x="226" y="361"/>
                      </a:lnTo>
                      <a:lnTo>
                        <a:pt x="234" y="377"/>
                      </a:lnTo>
                      <a:lnTo>
                        <a:pt x="243" y="384"/>
                      </a:lnTo>
                      <a:lnTo>
                        <a:pt x="251" y="400"/>
                      </a:lnTo>
                      <a:lnTo>
                        <a:pt x="259" y="415"/>
                      </a:lnTo>
                      <a:lnTo>
                        <a:pt x="268" y="431"/>
                      </a:lnTo>
                      <a:lnTo>
                        <a:pt x="276" y="446"/>
                      </a:lnTo>
                      <a:lnTo>
                        <a:pt x="284" y="454"/>
                      </a:lnTo>
                      <a:lnTo>
                        <a:pt x="301" y="44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Freeform 488"/>
                <p:cNvSpPr/>
                <p:nvPr/>
              </p:nvSpPr>
              <p:spPr>
                <a:xfrm flipH="1">
                  <a:off x="172800" y="188388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15"/>
                      </a:moveTo>
                      <a:lnTo>
                        <a:pt x="0" y="15"/>
                      </a:lnTo>
                      <a:lnTo>
                        <a:pt x="9" y="15"/>
                      </a:lnTo>
                      <a:lnTo>
                        <a:pt x="17" y="15"/>
                      </a:lnTo>
                      <a:lnTo>
                        <a:pt x="17" y="7"/>
                      </a:lnTo>
                      <a:lnTo>
                        <a:pt x="17"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Freeform 487"/>
                <p:cNvSpPr/>
                <p:nvPr/>
              </p:nvSpPr>
              <p:spPr>
                <a:xfrm flipH="1">
                  <a:off x="166320" y="1865880"/>
                  <a:ext cx="4680" cy="3240"/>
                </a:xfrm>
                <a:custGeom>
                  <a:avLst/>
                  <a:gdLst>
                    <a:gd name="textAreaLeft" fmla="*/ -360 w 4680"/>
                    <a:gd name="textAreaRight" fmla="*/ 4680 w 4680"/>
                    <a:gd name="textAreaTop" fmla="*/ 0 h 3240"/>
                    <a:gd name="textAreaBottom" fmla="*/ 3600 h 3240"/>
                  </a:gdLst>
                  <a:ahLst/>
                  <a:rect l="textAreaLeft" t="textAreaTop" r="textAreaRight" b="textAreaBottom"/>
                  <a:pathLst>
                    <a:path w="25" h="16">
                      <a:moveTo>
                        <a:pt x="25" y="8"/>
                      </a:moveTo>
                      <a:lnTo>
                        <a:pt x="17" y="0"/>
                      </a:lnTo>
                      <a:lnTo>
                        <a:pt x="9" y="0"/>
                      </a:lnTo>
                      <a:lnTo>
                        <a:pt x="9" y="8"/>
                      </a:lnTo>
                      <a:lnTo>
                        <a:pt x="0" y="8"/>
                      </a:lnTo>
                      <a:lnTo>
                        <a:pt x="0" y="16"/>
                      </a:lnTo>
                      <a:lnTo>
                        <a:pt x="9" y="16"/>
                      </a:lnTo>
                      <a:lnTo>
                        <a:pt x="25"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9" name="Freeform 486"/>
                <p:cNvSpPr/>
                <p:nvPr/>
              </p:nvSpPr>
              <p:spPr>
                <a:xfrm flipH="1">
                  <a:off x="109800" y="1867680"/>
                  <a:ext cx="59760" cy="96480"/>
                </a:xfrm>
                <a:custGeom>
                  <a:avLst/>
                  <a:gdLst>
                    <a:gd name="textAreaLeft" fmla="*/ 360 w 59760"/>
                    <a:gd name="textAreaRight" fmla="*/ 60480 w 59760"/>
                    <a:gd name="textAreaTop" fmla="*/ 0 h 96480"/>
                    <a:gd name="textAreaBottom" fmla="*/ 96840 h 96480"/>
                  </a:gdLst>
                  <a:ahLst/>
                  <a:rect l="textAreaLeft" t="textAreaTop" r="textAreaRight" b="textAreaBottom"/>
                  <a:pathLst>
                    <a:path w="300" h="461">
                      <a:moveTo>
                        <a:pt x="300" y="454"/>
                      </a:moveTo>
                      <a:lnTo>
                        <a:pt x="292" y="438"/>
                      </a:lnTo>
                      <a:lnTo>
                        <a:pt x="284" y="423"/>
                      </a:lnTo>
                      <a:lnTo>
                        <a:pt x="275" y="408"/>
                      </a:lnTo>
                      <a:lnTo>
                        <a:pt x="267" y="392"/>
                      </a:lnTo>
                      <a:lnTo>
                        <a:pt x="259" y="384"/>
                      </a:lnTo>
                      <a:lnTo>
                        <a:pt x="250" y="369"/>
                      </a:lnTo>
                      <a:lnTo>
                        <a:pt x="242" y="354"/>
                      </a:lnTo>
                      <a:lnTo>
                        <a:pt x="234" y="338"/>
                      </a:lnTo>
                      <a:lnTo>
                        <a:pt x="225" y="323"/>
                      </a:lnTo>
                      <a:lnTo>
                        <a:pt x="209" y="308"/>
                      </a:lnTo>
                      <a:lnTo>
                        <a:pt x="200" y="300"/>
                      </a:lnTo>
                      <a:lnTo>
                        <a:pt x="192" y="284"/>
                      </a:lnTo>
                      <a:lnTo>
                        <a:pt x="183" y="269"/>
                      </a:lnTo>
                      <a:lnTo>
                        <a:pt x="175" y="254"/>
                      </a:lnTo>
                      <a:lnTo>
                        <a:pt x="167" y="238"/>
                      </a:lnTo>
                      <a:lnTo>
                        <a:pt x="158" y="223"/>
                      </a:lnTo>
                      <a:lnTo>
                        <a:pt x="150" y="208"/>
                      </a:lnTo>
                      <a:lnTo>
                        <a:pt x="142" y="200"/>
                      </a:lnTo>
                      <a:lnTo>
                        <a:pt x="133" y="184"/>
                      </a:lnTo>
                      <a:lnTo>
                        <a:pt x="125" y="169"/>
                      </a:lnTo>
                      <a:lnTo>
                        <a:pt x="108" y="154"/>
                      </a:lnTo>
                      <a:lnTo>
                        <a:pt x="100" y="138"/>
                      </a:lnTo>
                      <a:lnTo>
                        <a:pt x="92" y="131"/>
                      </a:lnTo>
                      <a:lnTo>
                        <a:pt x="83" y="115"/>
                      </a:lnTo>
                      <a:lnTo>
                        <a:pt x="75" y="100"/>
                      </a:lnTo>
                      <a:lnTo>
                        <a:pt x="66" y="84"/>
                      </a:lnTo>
                      <a:lnTo>
                        <a:pt x="58" y="69"/>
                      </a:lnTo>
                      <a:lnTo>
                        <a:pt x="50" y="54"/>
                      </a:lnTo>
                      <a:lnTo>
                        <a:pt x="41" y="38"/>
                      </a:lnTo>
                      <a:lnTo>
                        <a:pt x="33" y="31"/>
                      </a:lnTo>
                      <a:lnTo>
                        <a:pt x="25" y="15"/>
                      </a:lnTo>
                      <a:lnTo>
                        <a:pt x="16" y="0"/>
                      </a:lnTo>
                      <a:lnTo>
                        <a:pt x="0" y="8"/>
                      </a:lnTo>
                      <a:lnTo>
                        <a:pt x="8" y="23"/>
                      </a:lnTo>
                      <a:lnTo>
                        <a:pt x="16" y="38"/>
                      </a:lnTo>
                      <a:lnTo>
                        <a:pt x="25" y="54"/>
                      </a:lnTo>
                      <a:lnTo>
                        <a:pt x="33" y="61"/>
                      </a:lnTo>
                      <a:lnTo>
                        <a:pt x="41" y="77"/>
                      </a:lnTo>
                      <a:lnTo>
                        <a:pt x="50" y="92"/>
                      </a:lnTo>
                      <a:lnTo>
                        <a:pt x="58" y="108"/>
                      </a:lnTo>
                      <a:lnTo>
                        <a:pt x="66" y="123"/>
                      </a:lnTo>
                      <a:lnTo>
                        <a:pt x="75" y="138"/>
                      </a:lnTo>
                      <a:lnTo>
                        <a:pt x="83" y="154"/>
                      </a:lnTo>
                      <a:lnTo>
                        <a:pt x="92" y="161"/>
                      </a:lnTo>
                      <a:lnTo>
                        <a:pt x="108" y="177"/>
                      </a:lnTo>
                      <a:lnTo>
                        <a:pt x="117" y="192"/>
                      </a:lnTo>
                      <a:lnTo>
                        <a:pt x="125" y="208"/>
                      </a:lnTo>
                      <a:lnTo>
                        <a:pt x="133" y="223"/>
                      </a:lnTo>
                      <a:lnTo>
                        <a:pt x="142" y="238"/>
                      </a:lnTo>
                      <a:lnTo>
                        <a:pt x="150" y="246"/>
                      </a:lnTo>
                      <a:lnTo>
                        <a:pt x="158" y="261"/>
                      </a:lnTo>
                      <a:lnTo>
                        <a:pt x="167" y="277"/>
                      </a:lnTo>
                      <a:lnTo>
                        <a:pt x="175" y="292"/>
                      </a:lnTo>
                      <a:lnTo>
                        <a:pt x="183" y="308"/>
                      </a:lnTo>
                      <a:lnTo>
                        <a:pt x="192" y="323"/>
                      </a:lnTo>
                      <a:lnTo>
                        <a:pt x="200" y="331"/>
                      </a:lnTo>
                      <a:lnTo>
                        <a:pt x="217" y="346"/>
                      </a:lnTo>
                      <a:lnTo>
                        <a:pt x="225" y="361"/>
                      </a:lnTo>
                      <a:lnTo>
                        <a:pt x="234" y="377"/>
                      </a:lnTo>
                      <a:lnTo>
                        <a:pt x="242" y="392"/>
                      </a:lnTo>
                      <a:lnTo>
                        <a:pt x="250" y="408"/>
                      </a:lnTo>
                      <a:lnTo>
                        <a:pt x="259" y="415"/>
                      </a:lnTo>
                      <a:lnTo>
                        <a:pt x="267" y="431"/>
                      </a:lnTo>
                      <a:lnTo>
                        <a:pt x="275" y="446"/>
                      </a:lnTo>
                      <a:lnTo>
                        <a:pt x="284" y="461"/>
                      </a:lnTo>
                      <a:lnTo>
                        <a:pt x="300" y="45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0" name="Freeform 485"/>
                <p:cNvSpPr/>
                <p:nvPr/>
              </p:nvSpPr>
              <p:spPr>
                <a:xfrm flipH="1">
                  <a:off x="166680" y="1867680"/>
                  <a:ext cx="2880" cy="2880"/>
                </a:xfrm>
                <a:custGeom>
                  <a:avLst/>
                  <a:gdLst>
                    <a:gd name="textAreaLeft" fmla="*/ 360 w 2880"/>
                    <a:gd name="textAreaRight" fmla="*/ 3600 w 2880"/>
                    <a:gd name="textAreaTop" fmla="*/ 0 h 2880"/>
                    <a:gd name="textAreaBottom" fmla="*/ 3240 h 2880"/>
                  </a:gdLst>
                  <a:ahLst/>
                  <a:rect l="textAreaLeft" t="textAreaTop" r="textAreaRight" b="textAreaBottom"/>
                  <a:pathLst>
                    <a:path w="16" h="15">
                      <a:moveTo>
                        <a:pt x="0" y="8"/>
                      </a:moveTo>
                      <a:lnTo>
                        <a:pt x="0" y="15"/>
                      </a:lnTo>
                      <a:lnTo>
                        <a:pt x="8" y="15"/>
                      </a:lnTo>
                      <a:lnTo>
                        <a:pt x="16" y="8"/>
                      </a:lnTo>
                      <a:lnTo>
                        <a:pt x="16" y="0"/>
                      </a:lnTo>
                      <a:lnTo>
                        <a:pt x="0" y="8"/>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Freeform 484"/>
                <p:cNvSpPr/>
                <p:nvPr/>
              </p:nvSpPr>
              <p:spPr>
                <a:xfrm flipH="1">
                  <a:off x="162720" y="185328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7"/>
                      </a:moveTo>
                      <a:lnTo>
                        <a:pt x="17" y="0"/>
                      </a:lnTo>
                      <a:lnTo>
                        <a:pt x="9" y="0"/>
                      </a:lnTo>
                      <a:lnTo>
                        <a:pt x="0" y="0"/>
                      </a:lnTo>
                      <a:lnTo>
                        <a:pt x="0" y="7"/>
                      </a:lnTo>
                      <a:lnTo>
                        <a:pt x="0" y="15"/>
                      </a:lnTo>
                      <a:lnTo>
                        <a:pt x="17" y="7"/>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Freeform 483"/>
                <p:cNvSpPr/>
                <p:nvPr/>
              </p:nvSpPr>
              <p:spPr>
                <a:xfrm flipH="1">
                  <a:off x="104400" y="1854720"/>
                  <a:ext cx="61560" cy="96840"/>
                </a:xfrm>
                <a:custGeom>
                  <a:avLst/>
                  <a:gdLst>
                    <a:gd name="textAreaLeft" fmla="*/ -360 w 61560"/>
                    <a:gd name="textAreaRight" fmla="*/ 61560 w 61560"/>
                    <a:gd name="textAreaTop" fmla="*/ 0 h 96840"/>
                    <a:gd name="textAreaBottom" fmla="*/ 97200 h 96840"/>
                  </a:gdLst>
                  <a:ahLst/>
                  <a:rect l="textAreaLeft" t="textAreaTop" r="textAreaRight" b="textAreaBottom"/>
                  <a:pathLst>
                    <a:path w="310" h="462">
                      <a:moveTo>
                        <a:pt x="310" y="454"/>
                      </a:moveTo>
                      <a:lnTo>
                        <a:pt x="301" y="439"/>
                      </a:lnTo>
                      <a:lnTo>
                        <a:pt x="293" y="423"/>
                      </a:lnTo>
                      <a:lnTo>
                        <a:pt x="284" y="408"/>
                      </a:lnTo>
                      <a:lnTo>
                        <a:pt x="276" y="393"/>
                      </a:lnTo>
                      <a:lnTo>
                        <a:pt x="268" y="377"/>
                      </a:lnTo>
                      <a:lnTo>
                        <a:pt x="259" y="362"/>
                      </a:lnTo>
                      <a:lnTo>
                        <a:pt x="251" y="354"/>
                      </a:lnTo>
                      <a:lnTo>
                        <a:pt x="234" y="339"/>
                      </a:lnTo>
                      <a:lnTo>
                        <a:pt x="226" y="323"/>
                      </a:lnTo>
                      <a:lnTo>
                        <a:pt x="218" y="308"/>
                      </a:lnTo>
                      <a:lnTo>
                        <a:pt x="209" y="293"/>
                      </a:lnTo>
                      <a:lnTo>
                        <a:pt x="201" y="277"/>
                      </a:lnTo>
                      <a:lnTo>
                        <a:pt x="193" y="270"/>
                      </a:lnTo>
                      <a:lnTo>
                        <a:pt x="184" y="254"/>
                      </a:lnTo>
                      <a:lnTo>
                        <a:pt x="176" y="239"/>
                      </a:lnTo>
                      <a:lnTo>
                        <a:pt x="167" y="223"/>
                      </a:lnTo>
                      <a:lnTo>
                        <a:pt x="159" y="208"/>
                      </a:lnTo>
                      <a:lnTo>
                        <a:pt x="151" y="193"/>
                      </a:lnTo>
                      <a:lnTo>
                        <a:pt x="134" y="185"/>
                      </a:lnTo>
                      <a:lnTo>
                        <a:pt x="126" y="170"/>
                      </a:lnTo>
                      <a:lnTo>
                        <a:pt x="117" y="154"/>
                      </a:lnTo>
                      <a:lnTo>
                        <a:pt x="109" y="139"/>
                      </a:lnTo>
                      <a:lnTo>
                        <a:pt x="101" y="123"/>
                      </a:lnTo>
                      <a:lnTo>
                        <a:pt x="92" y="108"/>
                      </a:lnTo>
                      <a:lnTo>
                        <a:pt x="84" y="93"/>
                      </a:lnTo>
                      <a:lnTo>
                        <a:pt x="76" y="85"/>
                      </a:lnTo>
                      <a:lnTo>
                        <a:pt x="67" y="70"/>
                      </a:lnTo>
                      <a:lnTo>
                        <a:pt x="59" y="54"/>
                      </a:lnTo>
                      <a:lnTo>
                        <a:pt x="50" y="39"/>
                      </a:lnTo>
                      <a:lnTo>
                        <a:pt x="34" y="23"/>
                      </a:lnTo>
                      <a:lnTo>
                        <a:pt x="25" y="8"/>
                      </a:lnTo>
                      <a:lnTo>
                        <a:pt x="17" y="0"/>
                      </a:lnTo>
                      <a:lnTo>
                        <a:pt x="0" y="8"/>
                      </a:lnTo>
                      <a:lnTo>
                        <a:pt x="9" y="23"/>
                      </a:lnTo>
                      <a:lnTo>
                        <a:pt x="17" y="31"/>
                      </a:lnTo>
                      <a:lnTo>
                        <a:pt x="34" y="46"/>
                      </a:lnTo>
                      <a:lnTo>
                        <a:pt x="42" y="62"/>
                      </a:lnTo>
                      <a:lnTo>
                        <a:pt x="50" y="77"/>
                      </a:lnTo>
                      <a:lnTo>
                        <a:pt x="59" y="93"/>
                      </a:lnTo>
                      <a:lnTo>
                        <a:pt x="67" y="108"/>
                      </a:lnTo>
                      <a:lnTo>
                        <a:pt x="76" y="116"/>
                      </a:lnTo>
                      <a:lnTo>
                        <a:pt x="84" y="131"/>
                      </a:lnTo>
                      <a:lnTo>
                        <a:pt x="92" y="146"/>
                      </a:lnTo>
                      <a:lnTo>
                        <a:pt x="101" y="162"/>
                      </a:lnTo>
                      <a:lnTo>
                        <a:pt x="109" y="177"/>
                      </a:lnTo>
                      <a:lnTo>
                        <a:pt x="117" y="193"/>
                      </a:lnTo>
                      <a:lnTo>
                        <a:pt x="134" y="208"/>
                      </a:lnTo>
                      <a:lnTo>
                        <a:pt x="142" y="216"/>
                      </a:lnTo>
                      <a:lnTo>
                        <a:pt x="151" y="231"/>
                      </a:lnTo>
                      <a:lnTo>
                        <a:pt x="159" y="246"/>
                      </a:lnTo>
                      <a:lnTo>
                        <a:pt x="167" y="262"/>
                      </a:lnTo>
                      <a:lnTo>
                        <a:pt x="176" y="277"/>
                      </a:lnTo>
                      <a:lnTo>
                        <a:pt x="184" y="293"/>
                      </a:lnTo>
                      <a:lnTo>
                        <a:pt x="193" y="308"/>
                      </a:lnTo>
                      <a:lnTo>
                        <a:pt x="201" y="316"/>
                      </a:lnTo>
                      <a:lnTo>
                        <a:pt x="209" y="331"/>
                      </a:lnTo>
                      <a:lnTo>
                        <a:pt x="218" y="346"/>
                      </a:lnTo>
                      <a:lnTo>
                        <a:pt x="234" y="362"/>
                      </a:lnTo>
                      <a:lnTo>
                        <a:pt x="243" y="377"/>
                      </a:lnTo>
                      <a:lnTo>
                        <a:pt x="251" y="393"/>
                      </a:lnTo>
                      <a:lnTo>
                        <a:pt x="259" y="400"/>
                      </a:lnTo>
                      <a:lnTo>
                        <a:pt x="268" y="416"/>
                      </a:lnTo>
                      <a:lnTo>
                        <a:pt x="276" y="431"/>
                      </a:lnTo>
                      <a:lnTo>
                        <a:pt x="284" y="446"/>
                      </a:lnTo>
                      <a:lnTo>
                        <a:pt x="293" y="462"/>
                      </a:lnTo>
                      <a:lnTo>
                        <a:pt x="310" y="45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3" name="Freeform 482"/>
                <p:cNvSpPr/>
                <p:nvPr/>
              </p:nvSpPr>
              <p:spPr>
                <a:xfrm flipH="1">
                  <a:off x="162720" y="185472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8"/>
                      </a:moveTo>
                      <a:lnTo>
                        <a:pt x="9" y="8"/>
                      </a:lnTo>
                      <a:lnTo>
                        <a:pt x="17" y="8"/>
                      </a:lnTo>
                      <a:lnTo>
                        <a:pt x="17" y="0"/>
                      </a:lnTo>
                      <a:lnTo>
                        <a:pt x="0"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Freeform 481"/>
                <p:cNvSpPr/>
                <p:nvPr/>
              </p:nvSpPr>
              <p:spPr>
                <a:xfrm flipH="1">
                  <a:off x="157680" y="184176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7"/>
                      </a:moveTo>
                      <a:lnTo>
                        <a:pt x="17" y="7"/>
                      </a:lnTo>
                      <a:lnTo>
                        <a:pt x="9" y="0"/>
                      </a:lnTo>
                      <a:lnTo>
                        <a:pt x="0" y="7"/>
                      </a:lnTo>
                      <a:lnTo>
                        <a:pt x="0" y="15"/>
                      </a:lnTo>
                      <a:lnTo>
                        <a:pt x="17" y="7"/>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Freeform 480"/>
                <p:cNvSpPr/>
                <p:nvPr/>
              </p:nvSpPr>
              <p:spPr>
                <a:xfrm flipH="1">
                  <a:off x="99360" y="1843200"/>
                  <a:ext cx="61560" cy="95040"/>
                </a:xfrm>
                <a:custGeom>
                  <a:avLst/>
                  <a:gdLst>
                    <a:gd name="textAreaLeft" fmla="*/ -360 w 61560"/>
                    <a:gd name="textAreaRight" fmla="*/ 61560 w 61560"/>
                    <a:gd name="textAreaTop" fmla="*/ 0 h 95040"/>
                    <a:gd name="textAreaBottom" fmla="*/ 95400 h 95040"/>
                  </a:gdLst>
                  <a:ahLst/>
                  <a:rect l="textAreaLeft" t="textAreaTop" r="textAreaRight" b="textAreaBottom"/>
                  <a:pathLst>
                    <a:path w="310" h="454">
                      <a:moveTo>
                        <a:pt x="310" y="447"/>
                      </a:moveTo>
                      <a:lnTo>
                        <a:pt x="301" y="431"/>
                      </a:lnTo>
                      <a:lnTo>
                        <a:pt x="293" y="416"/>
                      </a:lnTo>
                      <a:lnTo>
                        <a:pt x="285" y="400"/>
                      </a:lnTo>
                      <a:lnTo>
                        <a:pt x="276" y="385"/>
                      </a:lnTo>
                      <a:lnTo>
                        <a:pt x="259" y="377"/>
                      </a:lnTo>
                      <a:lnTo>
                        <a:pt x="251" y="362"/>
                      </a:lnTo>
                      <a:lnTo>
                        <a:pt x="243" y="347"/>
                      </a:lnTo>
                      <a:lnTo>
                        <a:pt x="234" y="331"/>
                      </a:lnTo>
                      <a:lnTo>
                        <a:pt x="226" y="324"/>
                      </a:lnTo>
                      <a:lnTo>
                        <a:pt x="218" y="308"/>
                      </a:lnTo>
                      <a:lnTo>
                        <a:pt x="209" y="293"/>
                      </a:lnTo>
                      <a:lnTo>
                        <a:pt x="201" y="277"/>
                      </a:lnTo>
                      <a:lnTo>
                        <a:pt x="193" y="262"/>
                      </a:lnTo>
                      <a:lnTo>
                        <a:pt x="184" y="247"/>
                      </a:lnTo>
                      <a:lnTo>
                        <a:pt x="168" y="239"/>
                      </a:lnTo>
                      <a:lnTo>
                        <a:pt x="159" y="224"/>
                      </a:lnTo>
                      <a:lnTo>
                        <a:pt x="151" y="208"/>
                      </a:lnTo>
                      <a:lnTo>
                        <a:pt x="142" y="193"/>
                      </a:lnTo>
                      <a:lnTo>
                        <a:pt x="134" y="177"/>
                      </a:lnTo>
                      <a:lnTo>
                        <a:pt x="126" y="170"/>
                      </a:lnTo>
                      <a:lnTo>
                        <a:pt x="117" y="154"/>
                      </a:lnTo>
                      <a:lnTo>
                        <a:pt x="109" y="139"/>
                      </a:lnTo>
                      <a:lnTo>
                        <a:pt x="101" y="124"/>
                      </a:lnTo>
                      <a:lnTo>
                        <a:pt x="92" y="108"/>
                      </a:lnTo>
                      <a:lnTo>
                        <a:pt x="84" y="100"/>
                      </a:lnTo>
                      <a:lnTo>
                        <a:pt x="67" y="85"/>
                      </a:lnTo>
                      <a:lnTo>
                        <a:pt x="59" y="70"/>
                      </a:lnTo>
                      <a:lnTo>
                        <a:pt x="51" y="54"/>
                      </a:lnTo>
                      <a:lnTo>
                        <a:pt x="42" y="39"/>
                      </a:lnTo>
                      <a:lnTo>
                        <a:pt x="34" y="31"/>
                      </a:lnTo>
                      <a:lnTo>
                        <a:pt x="25" y="16"/>
                      </a:lnTo>
                      <a:lnTo>
                        <a:pt x="17" y="0"/>
                      </a:lnTo>
                      <a:lnTo>
                        <a:pt x="0" y="8"/>
                      </a:lnTo>
                      <a:lnTo>
                        <a:pt x="9" y="24"/>
                      </a:lnTo>
                      <a:lnTo>
                        <a:pt x="17" y="39"/>
                      </a:lnTo>
                      <a:lnTo>
                        <a:pt x="25" y="54"/>
                      </a:lnTo>
                      <a:lnTo>
                        <a:pt x="34" y="62"/>
                      </a:lnTo>
                      <a:lnTo>
                        <a:pt x="42" y="77"/>
                      </a:lnTo>
                      <a:lnTo>
                        <a:pt x="51" y="93"/>
                      </a:lnTo>
                      <a:lnTo>
                        <a:pt x="59" y="108"/>
                      </a:lnTo>
                      <a:lnTo>
                        <a:pt x="76" y="124"/>
                      </a:lnTo>
                      <a:lnTo>
                        <a:pt x="84" y="131"/>
                      </a:lnTo>
                      <a:lnTo>
                        <a:pt x="92" y="147"/>
                      </a:lnTo>
                      <a:lnTo>
                        <a:pt x="101" y="162"/>
                      </a:lnTo>
                      <a:lnTo>
                        <a:pt x="109" y="177"/>
                      </a:lnTo>
                      <a:lnTo>
                        <a:pt x="117" y="193"/>
                      </a:lnTo>
                      <a:lnTo>
                        <a:pt x="126" y="200"/>
                      </a:lnTo>
                      <a:lnTo>
                        <a:pt x="134" y="216"/>
                      </a:lnTo>
                      <a:lnTo>
                        <a:pt x="142" y="231"/>
                      </a:lnTo>
                      <a:lnTo>
                        <a:pt x="151" y="247"/>
                      </a:lnTo>
                      <a:lnTo>
                        <a:pt x="159" y="262"/>
                      </a:lnTo>
                      <a:lnTo>
                        <a:pt x="176" y="270"/>
                      </a:lnTo>
                      <a:lnTo>
                        <a:pt x="184" y="285"/>
                      </a:lnTo>
                      <a:lnTo>
                        <a:pt x="193" y="300"/>
                      </a:lnTo>
                      <a:lnTo>
                        <a:pt x="201" y="316"/>
                      </a:lnTo>
                      <a:lnTo>
                        <a:pt x="209" y="331"/>
                      </a:lnTo>
                      <a:lnTo>
                        <a:pt x="218" y="339"/>
                      </a:lnTo>
                      <a:lnTo>
                        <a:pt x="226" y="354"/>
                      </a:lnTo>
                      <a:lnTo>
                        <a:pt x="234" y="370"/>
                      </a:lnTo>
                      <a:lnTo>
                        <a:pt x="243" y="385"/>
                      </a:lnTo>
                      <a:lnTo>
                        <a:pt x="251" y="400"/>
                      </a:lnTo>
                      <a:lnTo>
                        <a:pt x="268" y="408"/>
                      </a:lnTo>
                      <a:lnTo>
                        <a:pt x="276" y="424"/>
                      </a:lnTo>
                      <a:lnTo>
                        <a:pt x="285" y="439"/>
                      </a:lnTo>
                      <a:lnTo>
                        <a:pt x="293" y="454"/>
                      </a:lnTo>
                      <a:lnTo>
                        <a:pt x="310" y="44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Freeform 479"/>
                <p:cNvSpPr/>
                <p:nvPr/>
              </p:nvSpPr>
              <p:spPr>
                <a:xfrm flipH="1">
                  <a:off x="157680" y="184320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0" y="8"/>
                      </a:moveTo>
                      <a:lnTo>
                        <a:pt x="0" y="16"/>
                      </a:lnTo>
                      <a:lnTo>
                        <a:pt x="9" y="16"/>
                      </a:lnTo>
                      <a:lnTo>
                        <a:pt x="17" y="16"/>
                      </a:lnTo>
                      <a:lnTo>
                        <a:pt x="17" y="8"/>
                      </a:lnTo>
                      <a:lnTo>
                        <a:pt x="17" y="0"/>
                      </a:lnTo>
                      <a:lnTo>
                        <a:pt x="0"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Freeform 478"/>
                <p:cNvSpPr/>
                <p:nvPr/>
              </p:nvSpPr>
              <p:spPr>
                <a:xfrm flipH="1">
                  <a:off x="146160" y="1845000"/>
                  <a:ext cx="4680" cy="3240"/>
                </a:xfrm>
                <a:custGeom>
                  <a:avLst/>
                  <a:gdLst>
                    <a:gd name="textAreaLeft" fmla="*/ -360 w 4680"/>
                    <a:gd name="textAreaRight" fmla="*/ 4680 w 4680"/>
                    <a:gd name="textAreaTop" fmla="*/ 0 h 3240"/>
                    <a:gd name="textAreaBottom" fmla="*/ 3600 h 3240"/>
                  </a:gdLst>
                  <a:ahLst/>
                  <a:rect l="textAreaLeft" t="textAreaTop" r="textAreaRight" b="textAreaBottom"/>
                  <a:pathLst>
                    <a:path w="25" h="16">
                      <a:moveTo>
                        <a:pt x="25" y="8"/>
                      </a:moveTo>
                      <a:lnTo>
                        <a:pt x="16" y="0"/>
                      </a:lnTo>
                      <a:lnTo>
                        <a:pt x="8" y="0"/>
                      </a:lnTo>
                      <a:lnTo>
                        <a:pt x="8" y="8"/>
                      </a:lnTo>
                      <a:lnTo>
                        <a:pt x="0" y="8"/>
                      </a:lnTo>
                      <a:lnTo>
                        <a:pt x="8" y="16"/>
                      </a:lnTo>
                      <a:lnTo>
                        <a:pt x="25"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Freeform 477"/>
                <p:cNvSpPr/>
                <p:nvPr/>
              </p:nvSpPr>
              <p:spPr>
                <a:xfrm flipH="1">
                  <a:off x="96480" y="1846800"/>
                  <a:ext cx="52920" cy="75600"/>
                </a:xfrm>
                <a:custGeom>
                  <a:avLst/>
                  <a:gdLst>
                    <a:gd name="textAreaLeft" fmla="*/ -360 w 52920"/>
                    <a:gd name="textAreaRight" fmla="*/ 52920 w 52920"/>
                    <a:gd name="textAreaTop" fmla="*/ 0 h 75600"/>
                    <a:gd name="textAreaBottom" fmla="*/ 75960 h 75600"/>
                  </a:gdLst>
                  <a:ahLst/>
                  <a:rect l="textAreaLeft" t="textAreaTop" r="textAreaRight" b="textAreaBottom"/>
                  <a:pathLst>
                    <a:path w="267" h="361">
                      <a:moveTo>
                        <a:pt x="267" y="346"/>
                      </a:moveTo>
                      <a:lnTo>
                        <a:pt x="251" y="323"/>
                      </a:lnTo>
                      <a:lnTo>
                        <a:pt x="234" y="308"/>
                      </a:lnTo>
                      <a:lnTo>
                        <a:pt x="226" y="284"/>
                      </a:lnTo>
                      <a:lnTo>
                        <a:pt x="209" y="261"/>
                      </a:lnTo>
                      <a:lnTo>
                        <a:pt x="192" y="238"/>
                      </a:lnTo>
                      <a:lnTo>
                        <a:pt x="175" y="215"/>
                      </a:lnTo>
                      <a:lnTo>
                        <a:pt x="159" y="192"/>
                      </a:lnTo>
                      <a:lnTo>
                        <a:pt x="142" y="169"/>
                      </a:lnTo>
                      <a:lnTo>
                        <a:pt x="125" y="154"/>
                      </a:lnTo>
                      <a:lnTo>
                        <a:pt x="109" y="131"/>
                      </a:lnTo>
                      <a:lnTo>
                        <a:pt x="92" y="108"/>
                      </a:lnTo>
                      <a:lnTo>
                        <a:pt x="75" y="84"/>
                      </a:lnTo>
                      <a:lnTo>
                        <a:pt x="58" y="61"/>
                      </a:lnTo>
                      <a:lnTo>
                        <a:pt x="50" y="38"/>
                      </a:lnTo>
                      <a:lnTo>
                        <a:pt x="33" y="15"/>
                      </a:lnTo>
                      <a:lnTo>
                        <a:pt x="17" y="0"/>
                      </a:lnTo>
                      <a:lnTo>
                        <a:pt x="0" y="8"/>
                      </a:lnTo>
                      <a:lnTo>
                        <a:pt x="8" y="31"/>
                      </a:lnTo>
                      <a:lnTo>
                        <a:pt x="25" y="54"/>
                      </a:lnTo>
                      <a:lnTo>
                        <a:pt x="42" y="69"/>
                      </a:lnTo>
                      <a:lnTo>
                        <a:pt x="58" y="92"/>
                      </a:lnTo>
                      <a:lnTo>
                        <a:pt x="75" y="115"/>
                      </a:lnTo>
                      <a:lnTo>
                        <a:pt x="92" y="138"/>
                      </a:lnTo>
                      <a:lnTo>
                        <a:pt x="109" y="161"/>
                      </a:lnTo>
                      <a:lnTo>
                        <a:pt x="125" y="184"/>
                      </a:lnTo>
                      <a:lnTo>
                        <a:pt x="142" y="208"/>
                      </a:lnTo>
                      <a:lnTo>
                        <a:pt x="159" y="231"/>
                      </a:lnTo>
                      <a:lnTo>
                        <a:pt x="175" y="246"/>
                      </a:lnTo>
                      <a:lnTo>
                        <a:pt x="184" y="269"/>
                      </a:lnTo>
                      <a:lnTo>
                        <a:pt x="200" y="292"/>
                      </a:lnTo>
                      <a:lnTo>
                        <a:pt x="217" y="315"/>
                      </a:lnTo>
                      <a:lnTo>
                        <a:pt x="234" y="338"/>
                      </a:lnTo>
                      <a:lnTo>
                        <a:pt x="251" y="361"/>
                      </a:lnTo>
                      <a:lnTo>
                        <a:pt x="267" y="346"/>
                      </a:lnTo>
                      <a:close/>
                    </a:path>
                  </a:pathLst>
                </a:custGeom>
                <a:solidFill>
                  <a:srgbClr val="000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9" name="Freeform 476"/>
                <p:cNvSpPr/>
                <p:nvPr/>
              </p:nvSpPr>
              <p:spPr>
                <a:xfrm flipH="1">
                  <a:off x="146160" y="184680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8"/>
                      </a:moveTo>
                      <a:lnTo>
                        <a:pt x="0" y="8"/>
                      </a:lnTo>
                      <a:lnTo>
                        <a:pt x="8" y="8"/>
                      </a:lnTo>
                      <a:lnTo>
                        <a:pt x="17" y="8"/>
                      </a:lnTo>
                      <a:lnTo>
                        <a:pt x="17" y="0"/>
                      </a:lnTo>
                      <a:lnTo>
                        <a:pt x="0"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0" name="Freeform 475"/>
                <p:cNvSpPr/>
                <p:nvPr/>
              </p:nvSpPr>
              <p:spPr>
                <a:xfrm flipH="1">
                  <a:off x="129600" y="185616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0"/>
                      </a:moveTo>
                      <a:lnTo>
                        <a:pt x="17" y="0"/>
                      </a:lnTo>
                      <a:lnTo>
                        <a:pt x="9" y="0"/>
                      </a:lnTo>
                      <a:lnTo>
                        <a:pt x="0" y="8"/>
                      </a:lnTo>
                      <a:lnTo>
                        <a:pt x="9" y="15"/>
                      </a:lnTo>
                      <a:lnTo>
                        <a:pt x="17"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Freeform 474"/>
                <p:cNvSpPr/>
                <p:nvPr/>
              </p:nvSpPr>
              <p:spPr>
                <a:xfrm flipH="1">
                  <a:off x="93240" y="1856160"/>
                  <a:ext cx="38160" cy="51480"/>
                </a:xfrm>
                <a:custGeom>
                  <a:avLst/>
                  <a:gdLst>
                    <a:gd name="textAreaLeft" fmla="*/ 360 w 38160"/>
                    <a:gd name="textAreaRight" fmla="*/ 38880 w 38160"/>
                    <a:gd name="textAreaTop" fmla="*/ 0 h 51480"/>
                    <a:gd name="textAreaBottom" fmla="*/ 51840 h 51480"/>
                  </a:gdLst>
                  <a:ahLst/>
                  <a:rect l="textAreaLeft" t="textAreaTop" r="textAreaRight" b="textAreaBottom"/>
                  <a:pathLst>
                    <a:path w="192" h="246">
                      <a:moveTo>
                        <a:pt x="192" y="231"/>
                      </a:moveTo>
                      <a:lnTo>
                        <a:pt x="184" y="215"/>
                      </a:lnTo>
                      <a:lnTo>
                        <a:pt x="167" y="208"/>
                      </a:lnTo>
                      <a:lnTo>
                        <a:pt x="159" y="192"/>
                      </a:lnTo>
                      <a:lnTo>
                        <a:pt x="150" y="177"/>
                      </a:lnTo>
                      <a:lnTo>
                        <a:pt x="134" y="162"/>
                      </a:lnTo>
                      <a:lnTo>
                        <a:pt x="125" y="146"/>
                      </a:lnTo>
                      <a:lnTo>
                        <a:pt x="117" y="131"/>
                      </a:lnTo>
                      <a:lnTo>
                        <a:pt x="100" y="115"/>
                      </a:lnTo>
                      <a:lnTo>
                        <a:pt x="92" y="100"/>
                      </a:lnTo>
                      <a:lnTo>
                        <a:pt x="83" y="92"/>
                      </a:lnTo>
                      <a:lnTo>
                        <a:pt x="67" y="77"/>
                      </a:lnTo>
                      <a:lnTo>
                        <a:pt x="58" y="62"/>
                      </a:lnTo>
                      <a:lnTo>
                        <a:pt x="42" y="46"/>
                      </a:lnTo>
                      <a:lnTo>
                        <a:pt x="33" y="31"/>
                      </a:lnTo>
                      <a:lnTo>
                        <a:pt x="25" y="15"/>
                      </a:lnTo>
                      <a:lnTo>
                        <a:pt x="8" y="0"/>
                      </a:lnTo>
                      <a:lnTo>
                        <a:pt x="0" y="15"/>
                      </a:lnTo>
                      <a:lnTo>
                        <a:pt x="8" y="31"/>
                      </a:lnTo>
                      <a:lnTo>
                        <a:pt x="17" y="38"/>
                      </a:lnTo>
                      <a:lnTo>
                        <a:pt x="33" y="54"/>
                      </a:lnTo>
                      <a:lnTo>
                        <a:pt x="42" y="69"/>
                      </a:lnTo>
                      <a:lnTo>
                        <a:pt x="50" y="85"/>
                      </a:lnTo>
                      <a:lnTo>
                        <a:pt x="67" y="100"/>
                      </a:lnTo>
                      <a:lnTo>
                        <a:pt x="75" y="115"/>
                      </a:lnTo>
                      <a:lnTo>
                        <a:pt x="83" y="131"/>
                      </a:lnTo>
                      <a:lnTo>
                        <a:pt x="100" y="138"/>
                      </a:lnTo>
                      <a:lnTo>
                        <a:pt x="108" y="154"/>
                      </a:lnTo>
                      <a:lnTo>
                        <a:pt x="117" y="169"/>
                      </a:lnTo>
                      <a:lnTo>
                        <a:pt x="134" y="185"/>
                      </a:lnTo>
                      <a:lnTo>
                        <a:pt x="142" y="200"/>
                      </a:lnTo>
                      <a:lnTo>
                        <a:pt x="150" y="215"/>
                      </a:lnTo>
                      <a:lnTo>
                        <a:pt x="167" y="231"/>
                      </a:lnTo>
                      <a:lnTo>
                        <a:pt x="175" y="246"/>
                      </a:lnTo>
                      <a:lnTo>
                        <a:pt x="192" y="231"/>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Freeform 473"/>
                <p:cNvSpPr/>
                <p:nvPr/>
              </p:nvSpPr>
              <p:spPr>
                <a:xfrm flipH="1">
                  <a:off x="127800" y="185616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15"/>
                      </a:moveTo>
                      <a:lnTo>
                        <a:pt x="0" y="15"/>
                      </a:lnTo>
                      <a:lnTo>
                        <a:pt x="8" y="15"/>
                      </a:lnTo>
                      <a:lnTo>
                        <a:pt x="17" y="8"/>
                      </a:lnTo>
                      <a:lnTo>
                        <a:pt x="8"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Freeform 472"/>
                <p:cNvSpPr/>
                <p:nvPr/>
              </p:nvSpPr>
              <p:spPr>
                <a:xfrm flipH="1">
                  <a:off x="157680" y="199008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0" y="0"/>
                      </a:moveTo>
                      <a:lnTo>
                        <a:pt x="0" y="0"/>
                      </a:lnTo>
                      <a:lnTo>
                        <a:pt x="0" y="8"/>
                      </a:lnTo>
                      <a:lnTo>
                        <a:pt x="0" y="16"/>
                      </a:lnTo>
                      <a:lnTo>
                        <a:pt x="9" y="16"/>
                      </a:lnTo>
                      <a:lnTo>
                        <a:pt x="17" y="8"/>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Freeform 471"/>
                <p:cNvSpPr/>
                <p:nvPr/>
              </p:nvSpPr>
              <p:spPr>
                <a:xfrm flipH="1">
                  <a:off x="99360" y="1932120"/>
                  <a:ext cx="61560" cy="59400"/>
                </a:xfrm>
                <a:custGeom>
                  <a:avLst/>
                  <a:gdLst>
                    <a:gd name="textAreaLeft" fmla="*/ -360 w 61560"/>
                    <a:gd name="textAreaRight" fmla="*/ 61560 w 61560"/>
                    <a:gd name="textAreaTop" fmla="*/ 0 h 59400"/>
                    <a:gd name="textAreaBottom" fmla="*/ 59760 h 59400"/>
                  </a:gdLst>
                  <a:ahLst/>
                  <a:rect l="textAreaLeft" t="textAreaTop" r="textAreaRight" b="textAreaBottom"/>
                  <a:pathLst>
                    <a:path w="310" h="284">
                      <a:moveTo>
                        <a:pt x="293" y="0"/>
                      </a:moveTo>
                      <a:lnTo>
                        <a:pt x="276" y="23"/>
                      </a:lnTo>
                      <a:lnTo>
                        <a:pt x="259" y="38"/>
                      </a:lnTo>
                      <a:lnTo>
                        <a:pt x="243" y="53"/>
                      </a:lnTo>
                      <a:lnTo>
                        <a:pt x="226" y="69"/>
                      </a:lnTo>
                      <a:lnTo>
                        <a:pt x="201" y="84"/>
                      </a:lnTo>
                      <a:lnTo>
                        <a:pt x="184" y="107"/>
                      </a:lnTo>
                      <a:lnTo>
                        <a:pt x="168" y="123"/>
                      </a:lnTo>
                      <a:lnTo>
                        <a:pt x="151" y="138"/>
                      </a:lnTo>
                      <a:lnTo>
                        <a:pt x="134" y="153"/>
                      </a:lnTo>
                      <a:lnTo>
                        <a:pt x="109" y="169"/>
                      </a:lnTo>
                      <a:lnTo>
                        <a:pt x="92" y="192"/>
                      </a:lnTo>
                      <a:lnTo>
                        <a:pt x="76" y="207"/>
                      </a:lnTo>
                      <a:lnTo>
                        <a:pt x="59" y="223"/>
                      </a:lnTo>
                      <a:lnTo>
                        <a:pt x="34" y="238"/>
                      </a:lnTo>
                      <a:lnTo>
                        <a:pt x="17" y="253"/>
                      </a:lnTo>
                      <a:lnTo>
                        <a:pt x="0" y="276"/>
                      </a:lnTo>
                      <a:lnTo>
                        <a:pt x="17" y="284"/>
                      </a:lnTo>
                      <a:lnTo>
                        <a:pt x="34" y="269"/>
                      </a:lnTo>
                      <a:lnTo>
                        <a:pt x="51" y="253"/>
                      </a:lnTo>
                      <a:lnTo>
                        <a:pt x="67" y="238"/>
                      </a:lnTo>
                      <a:lnTo>
                        <a:pt x="92" y="223"/>
                      </a:lnTo>
                      <a:lnTo>
                        <a:pt x="109" y="200"/>
                      </a:lnTo>
                      <a:lnTo>
                        <a:pt x="126" y="184"/>
                      </a:lnTo>
                      <a:lnTo>
                        <a:pt x="142" y="169"/>
                      </a:lnTo>
                      <a:lnTo>
                        <a:pt x="159" y="153"/>
                      </a:lnTo>
                      <a:lnTo>
                        <a:pt x="184" y="138"/>
                      </a:lnTo>
                      <a:lnTo>
                        <a:pt x="201" y="115"/>
                      </a:lnTo>
                      <a:lnTo>
                        <a:pt x="218" y="100"/>
                      </a:lnTo>
                      <a:lnTo>
                        <a:pt x="234" y="84"/>
                      </a:lnTo>
                      <a:lnTo>
                        <a:pt x="259" y="69"/>
                      </a:lnTo>
                      <a:lnTo>
                        <a:pt x="276" y="53"/>
                      </a:lnTo>
                      <a:lnTo>
                        <a:pt x="293" y="30"/>
                      </a:lnTo>
                      <a:lnTo>
                        <a:pt x="310" y="15"/>
                      </a:lnTo>
                      <a:lnTo>
                        <a:pt x="293"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5" name="Freeform 470"/>
                <p:cNvSpPr/>
                <p:nvPr/>
              </p:nvSpPr>
              <p:spPr>
                <a:xfrm flipH="1">
                  <a:off x="157680" y="19886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15"/>
                      </a:lnTo>
                      <a:lnTo>
                        <a:pt x="17" y="7"/>
                      </a:lnTo>
                      <a:lnTo>
                        <a:pt x="9" y="0"/>
                      </a:lnTo>
                      <a:lnTo>
                        <a:pt x="0" y="0"/>
                      </a:lnTo>
                      <a:lnTo>
                        <a:pt x="0" y="7"/>
                      </a:lnTo>
                      <a:lnTo>
                        <a:pt x="17"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6" name="Freeform 469"/>
                <p:cNvSpPr/>
                <p:nvPr/>
              </p:nvSpPr>
              <p:spPr>
                <a:xfrm flipH="1">
                  <a:off x="172800" y="19868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8"/>
                      </a:lnTo>
                      <a:lnTo>
                        <a:pt x="0" y="15"/>
                      </a:lnTo>
                      <a:lnTo>
                        <a:pt x="9" y="15"/>
                      </a:lnTo>
                      <a:lnTo>
                        <a:pt x="17" y="15"/>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Freeform 468"/>
                <p:cNvSpPr/>
                <p:nvPr/>
              </p:nvSpPr>
              <p:spPr>
                <a:xfrm flipH="1">
                  <a:off x="94320" y="1912680"/>
                  <a:ext cx="81720" cy="77040"/>
                </a:xfrm>
                <a:custGeom>
                  <a:avLst/>
                  <a:gdLst>
                    <a:gd name="textAreaLeft" fmla="*/ -360 w 81720"/>
                    <a:gd name="textAreaRight" fmla="*/ 81720 w 81720"/>
                    <a:gd name="textAreaTop" fmla="*/ 0 h 77040"/>
                    <a:gd name="textAreaBottom" fmla="*/ 77040 h 77040"/>
                  </a:gdLst>
                  <a:ahLst/>
                  <a:rect l="textAreaLeft" t="textAreaTop" r="textAreaRight" b="textAreaBottom"/>
                  <a:pathLst>
                    <a:path w="410" h="369">
                      <a:moveTo>
                        <a:pt x="393" y="0"/>
                      </a:moveTo>
                      <a:lnTo>
                        <a:pt x="368" y="23"/>
                      </a:lnTo>
                      <a:lnTo>
                        <a:pt x="343" y="46"/>
                      </a:lnTo>
                      <a:lnTo>
                        <a:pt x="318" y="69"/>
                      </a:lnTo>
                      <a:lnTo>
                        <a:pt x="293" y="93"/>
                      </a:lnTo>
                      <a:lnTo>
                        <a:pt x="268" y="116"/>
                      </a:lnTo>
                      <a:lnTo>
                        <a:pt x="251" y="139"/>
                      </a:lnTo>
                      <a:lnTo>
                        <a:pt x="226" y="154"/>
                      </a:lnTo>
                      <a:lnTo>
                        <a:pt x="201" y="177"/>
                      </a:lnTo>
                      <a:lnTo>
                        <a:pt x="176" y="200"/>
                      </a:lnTo>
                      <a:lnTo>
                        <a:pt x="151" y="223"/>
                      </a:lnTo>
                      <a:lnTo>
                        <a:pt x="126" y="246"/>
                      </a:lnTo>
                      <a:lnTo>
                        <a:pt x="100" y="269"/>
                      </a:lnTo>
                      <a:lnTo>
                        <a:pt x="75" y="293"/>
                      </a:lnTo>
                      <a:lnTo>
                        <a:pt x="50" y="308"/>
                      </a:lnTo>
                      <a:lnTo>
                        <a:pt x="25" y="331"/>
                      </a:lnTo>
                      <a:lnTo>
                        <a:pt x="0" y="354"/>
                      </a:lnTo>
                      <a:lnTo>
                        <a:pt x="17" y="369"/>
                      </a:lnTo>
                      <a:lnTo>
                        <a:pt x="42" y="346"/>
                      </a:lnTo>
                      <a:lnTo>
                        <a:pt x="67" y="323"/>
                      </a:lnTo>
                      <a:lnTo>
                        <a:pt x="92" y="300"/>
                      </a:lnTo>
                      <a:lnTo>
                        <a:pt x="117" y="277"/>
                      </a:lnTo>
                      <a:lnTo>
                        <a:pt x="142" y="254"/>
                      </a:lnTo>
                      <a:lnTo>
                        <a:pt x="167" y="239"/>
                      </a:lnTo>
                      <a:lnTo>
                        <a:pt x="184" y="216"/>
                      </a:lnTo>
                      <a:lnTo>
                        <a:pt x="209" y="193"/>
                      </a:lnTo>
                      <a:lnTo>
                        <a:pt x="234" y="169"/>
                      </a:lnTo>
                      <a:lnTo>
                        <a:pt x="259" y="146"/>
                      </a:lnTo>
                      <a:lnTo>
                        <a:pt x="284" y="123"/>
                      </a:lnTo>
                      <a:lnTo>
                        <a:pt x="309" y="108"/>
                      </a:lnTo>
                      <a:lnTo>
                        <a:pt x="334" y="85"/>
                      </a:lnTo>
                      <a:lnTo>
                        <a:pt x="360" y="62"/>
                      </a:lnTo>
                      <a:lnTo>
                        <a:pt x="385" y="39"/>
                      </a:lnTo>
                      <a:lnTo>
                        <a:pt x="410" y="16"/>
                      </a:lnTo>
                      <a:lnTo>
                        <a:pt x="393" y="0"/>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Freeform 467"/>
                <p:cNvSpPr/>
                <p:nvPr/>
              </p:nvSpPr>
              <p:spPr>
                <a:xfrm flipH="1">
                  <a:off x="172800" y="19868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8"/>
                      </a:lnTo>
                      <a:lnTo>
                        <a:pt x="17" y="0"/>
                      </a:lnTo>
                      <a:lnTo>
                        <a:pt x="9" y="0"/>
                      </a:lnTo>
                      <a:lnTo>
                        <a:pt x="0" y="0"/>
                      </a:lnTo>
                      <a:lnTo>
                        <a:pt x="17"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Freeform 466"/>
                <p:cNvSpPr/>
                <p:nvPr/>
              </p:nvSpPr>
              <p:spPr>
                <a:xfrm flipH="1">
                  <a:off x="182880" y="198216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8"/>
                      </a:lnTo>
                      <a:lnTo>
                        <a:pt x="0" y="15"/>
                      </a:lnTo>
                      <a:lnTo>
                        <a:pt x="8" y="15"/>
                      </a:lnTo>
                      <a:lnTo>
                        <a:pt x="17" y="15"/>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Freeform 465"/>
                <p:cNvSpPr/>
                <p:nvPr/>
              </p:nvSpPr>
              <p:spPr>
                <a:xfrm flipH="1">
                  <a:off x="95040" y="1893240"/>
                  <a:ext cx="91440" cy="91800"/>
                </a:xfrm>
                <a:custGeom>
                  <a:avLst/>
                  <a:gdLst>
                    <a:gd name="textAreaLeft" fmla="*/ 360 w 91440"/>
                    <a:gd name="textAreaRight" fmla="*/ 92160 w 91440"/>
                    <a:gd name="textAreaTop" fmla="*/ 0 h 91800"/>
                    <a:gd name="textAreaBottom" fmla="*/ 92160 h 91800"/>
                  </a:gdLst>
                  <a:ahLst/>
                  <a:rect l="textAreaLeft" t="textAreaTop" r="textAreaRight" b="textAreaBottom"/>
                  <a:pathLst>
                    <a:path w="460" h="438">
                      <a:moveTo>
                        <a:pt x="443" y="0"/>
                      </a:moveTo>
                      <a:lnTo>
                        <a:pt x="418" y="23"/>
                      </a:lnTo>
                      <a:lnTo>
                        <a:pt x="393" y="46"/>
                      </a:lnTo>
                      <a:lnTo>
                        <a:pt x="359" y="77"/>
                      </a:lnTo>
                      <a:lnTo>
                        <a:pt x="334" y="100"/>
                      </a:lnTo>
                      <a:lnTo>
                        <a:pt x="309" y="131"/>
                      </a:lnTo>
                      <a:lnTo>
                        <a:pt x="276" y="154"/>
                      </a:lnTo>
                      <a:lnTo>
                        <a:pt x="251" y="185"/>
                      </a:lnTo>
                      <a:lnTo>
                        <a:pt x="226" y="208"/>
                      </a:lnTo>
                      <a:lnTo>
                        <a:pt x="192" y="238"/>
                      </a:lnTo>
                      <a:lnTo>
                        <a:pt x="167" y="261"/>
                      </a:lnTo>
                      <a:lnTo>
                        <a:pt x="142" y="292"/>
                      </a:lnTo>
                      <a:lnTo>
                        <a:pt x="109" y="315"/>
                      </a:lnTo>
                      <a:lnTo>
                        <a:pt x="84" y="346"/>
                      </a:lnTo>
                      <a:lnTo>
                        <a:pt x="59" y="369"/>
                      </a:lnTo>
                      <a:lnTo>
                        <a:pt x="25" y="400"/>
                      </a:lnTo>
                      <a:lnTo>
                        <a:pt x="0" y="423"/>
                      </a:lnTo>
                      <a:lnTo>
                        <a:pt x="17" y="438"/>
                      </a:lnTo>
                      <a:lnTo>
                        <a:pt x="42" y="408"/>
                      </a:lnTo>
                      <a:lnTo>
                        <a:pt x="67" y="385"/>
                      </a:lnTo>
                      <a:lnTo>
                        <a:pt x="100" y="354"/>
                      </a:lnTo>
                      <a:lnTo>
                        <a:pt x="125" y="331"/>
                      </a:lnTo>
                      <a:lnTo>
                        <a:pt x="150" y="300"/>
                      </a:lnTo>
                      <a:lnTo>
                        <a:pt x="184" y="277"/>
                      </a:lnTo>
                      <a:lnTo>
                        <a:pt x="209" y="246"/>
                      </a:lnTo>
                      <a:lnTo>
                        <a:pt x="234" y="223"/>
                      </a:lnTo>
                      <a:lnTo>
                        <a:pt x="267" y="200"/>
                      </a:lnTo>
                      <a:lnTo>
                        <a:pt x="293" y="169"/>
                      </a:lnTo>
                      <a:lnTo>
                        <a:pt x="318" y="146"/>
                      </a:lnTo>
                      <a:lnTo>
                        <a:pt x="351" y="115"/>
                      </a:lnTo>
                      <a:lnTo>
                        <a:pt x="376" y="92"/>
                      </a:lnTo>
                      <a:lnTo>
                        <a:pt x="410" y="61"/>
                      </a:lnTo>
                      <a:lnTo>
                        <a:pt x="435" y="38"/>
                      </a:lnTo>
                      <a:lnTo>
                        <a:pt x="460" y="8"/>
                      </a:lnTo>
                      <a:lnTo>
                        <a:pt x="443" y="0"/>
                      </a:lnTo>
                      <a:close/>
                    </a:path>
                  </a:pathLst>
                </a:custGeom>
                <a:solidFill>
                  <a:srgbClr val="000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1" name="Freeform 464"/>
                <p:cNvSpPr/>
                <p:nvPr/>
              </p:nvSpPr>
              <p:spPr>
                <a:xfrm flipH="1">
                  <a:off x="182880" y="198216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8"/>
                      </a:lnTo>
                      <a:lnTo>
                        <a:pt x="17" y="0"/>
                      </a:lnTo>
                      <a:lnTo>
                        <a:pt x="8" y="0"/>
                      </a:lnTo>
                      <a:lnTo>
                        <a:pt x="0" y="0"/>
                      </a:lnTo>
                      <a:lnTo>
                        <a:pt x="17"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Freeform 463"/>
                <p:cNvSpPr/>
                <p:nvPr/>
              </p:nvSpPr>
              <p:spPr>
                <a:xfrm flipH="1">
                  <a:off x="184680" y="1969200"/>
                  <a:ext cx="4680" cy="5040"/>
                </a:xfrm>
                <a:custGeom>
                  <a:avLst/>
                  <a:gdLst>
                    <a:gd name="textAreaLeft" fmla="*/ -360 w 4680"/>
                    <a:gd name="textAreaRight" fmla="*/ 4680 w 4680"/>
                    <a:gd name="textAreaTop" fmla="*/ 0 h 5040"/>
                    <a:gd name="textAreaBottom" fmla="*/ 5400 h 5040"/>
                  </a:gdLst>
                  <a:ahLst/>
                  <a:rect l="textAreaLeft" t="textAreaTop" r="textAreaRight" b="textAreaBottom"/>
                  <a:pathLst>
                    <a:path w="25" h="24">
                      <a:moveTo>
                        <a:pt x="9" y="0"/>
                      </a:moveTo>
                      <a:lnTo>
                        <a:pt x="9" y="8"/>
                      </a:lnTo>
                      <a:lnTo>
                        <a:pt x="0" y="8"/>
                      </a:lnTo>
                      <a:lnTo>
                        <a:pt x="9" y="16"/>
                      </a:lnTo>
                      <a:lnTo>
                        <a:pt x="9" y="24"/>
                      </a:lnTo>
                      <a:lnTo>
                        <a:pt x="17" y="24"/>
                      </a:lnTo>
                      <a:lnTo>
                        <a:pt x="25" y="16"/>
                      </a:lnTo>
                      <a:lnTo>
                        <a:pt x="9" y="0"/>
                      </a:lnTo>
                      <a:close/>
                    </a:path>
                  </a:pathLst>
                </a:custGeom>
                <a:solidFill>
                  <a:srgbClr val="000000"/>
                </a:solidFill>
                <a:ln w="0">
                  <a:no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3" name="Freeform 462"/>
                <p:cNvSpPr/>
                <p:nvPr/>
              </p:nvSpPr>
              <p:spPr>
                <a:xfrm flipH="1">
                  <a:off x="99360" y="1883880"/>
                  <a:ext cx="88200" cy="88560"/>
                </a:xfrm>
                <a:custGeom>
                  <a:avLst/>
                  <a:gdLst/>
                  <a:ahLst/>
                  <a:rect l="l" t="t" r="r" b="b"/>
                  <a:pathLst>
                    <a:path w="443" h="423">
                      <a:moveTo>
                        <a:pt x="426" y="0"/>
                      </a:moveTo>
                      <a:lnTo>
                        <a:pt x="401" y="23"/>
                      </a:lnTo>
                      <a:lnTo>
                        <a:pt x="376" y="54"/>
                      </a:lnTo>
                      <a:lnTo>
                        <a:pt x="342" y="77"/>
                      </a:lnTo>
                      <a:lnTo>
                        <a:pt x="317" y="100"/>
                      </a:lnTo>
                      <a:lnTo>
                        <a:pt x="292" y="131"/>
                      </a:lnTo>
                      <a:lnTo>
                        <a:pt x="267" y="154"/>
                      </a:lnTo>
                      <a:lnTo>
                        <a:pt x="242" y="177"/>
                      </a:lnTo>
                      <a:lnTo>
                        <a:pt x="209" y="207"/>
                      </a:lnTo>
                      <a:lnTo>
                        <a:pt x="184" y="231"/>
                      </a:lnTo>
                      <a:lnTo>
                        <a:pt x="158" y="254"/>
                      </a:lnTo>
                      <a:lnTo>
                        <a:pt x="133" y="284"/>
                      </a:lnTo>
                      <a:lnTo>
                        <a:pt x="108" y="307"/>
                      </a:lnTo>
                      <a:lnTo>
                        <a:pt x="75" y="338"/>
                      </a:lnTo>
                      <a:lnTo>
                        <a:pt x="50" y="361"/>
                      </a:lnTo>
                      <a:lnTo>
                        <a:pt x="25" y="384"/>
                      </a:lnTo>
                      <a:lnTo>
                        <a:pt x="0" y="407"/>
                      </a:lnTo>
                      <a:lnTo>
                        <a:pt x="16" y="423"/>
                      </a:lnTo>
                      <a:lnTo>
                        <a:pt x="41" y="400"/>
                      </a:lnTo>
                      <a:lnTo>
                        <a:pt x="67" y="377"/>
                      </a:lnTo>
                      <a:lnTo>
                        <a:pt x="92" y="346"/>
                      </a:lnTo>
                      <a:lnTo>
                        <a:pt x="117" y="323"/>
                      </a:lnTo>
                      <a:lnTo>
                        <a:pt x="150" y="300"/>
                      </a:lnTo>
                      <a:lnTo>
                        <a:pt x="175" y="269"/>
                      </a:lnTo>
                      <a:lnTo>
                        <a:pt x="200" y="246"/>
                      </a:lnTo>
                      <a:lnTo>
                        <a:pt x="225" y="223"/>
                      </a:lnTo>
                      <a:lnTo>
                        <a:pt x="250" y="192"/>
                      </a:lnTo>
                      <a:lnTo>
                        <a:pt x="284" y="169"/>
                      </a:lnTo>
                      <a:lnTo>
                        <a:pt x="309" y="146"/>
                      </a:lnTo>
                      <a:lnTo>
                        <a:pt x="334" y="115"/>
                      </a:lnTo>
                      <a:lnTo>
                        <a:pt x="359" y="92"/>
                      </a:lnTo>
                      <a:lnTo>
                        <a:pt x="384" y="69"/>
                      </a:lnTo>
                      <a:lnTo>
                        <a:pt x="418" y="38"/>
                      </a:lnTo>
                      <a:lnTo>
                        <a:pt x="443" y="15"/>
                      </a:lnTo>
                      <a:lnTo>
                        <a:pt x="426" y="0"/>
                      </a:lnTo>
                      <a:close/>
                    </a:path>
                  </a:pathLst>
                </a:custGeom>
                <a:solidFill>
                  <a:srgbClr val="000000"/>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Freeform 461"/>
                <p:cNvSpPr/>
                <p:nvPr/>
              </p:nvSpPr>
              <p:spPr>
                <a:xfrm flipH="1">
                  <a:off x="185040" y="196920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6" h="16">
                      <a:moveTo>
                        <a:pt x="16" y="16"/>
                      </a:moveTo>
                      <a:lnTo>
                        <a:pt x="16" y="16"/>
                      </a:lnTo>
                      <a:lnTo>
                        <a:pt x="16" y="8"/>
                      </a:lnTo>
                      <a:lnTo>
                        <a:pt x="16" y="0"/>
                      </a:lnTo>
                      <a:lnTo>
                        <a:pt x="8" y="0"/>
                      </a:lnTo>
                      <a:lnTo>
                        <a:pt x="0" y="0"/>
                      </a:lnTo>
                      <a:lnTo>
                        <a:pt x="16"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5" name="Freeform 460"/>
                <p:cNvSpPr/>
                <p:nvPr/>
              </p:nvSpPr>
              <p:spPr>
                <a:xfrm flipH="1">
                  <a:off x="185040" y="194976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6" h="16">
                      <a:moveTo>
                        <a:pt x="8" y="0"/>
                      </a:moveTo>
                      <a:lnTo>
                        <a:pt x="0" y="0"/>
                      </a:lnTo>
                      <a:lnTo>
                        <a:pt x="0" y="8"/>
                      </a:lnTo>
                      <a:lnTo>
                        <a:pt x="8" y="8"/>
                      </a:lnTo>
                      <a:lnTo>
                        <a:pt x="8" y="16"/>
                      </a:lnTo>
                      <a:lnTo>
                        <a:pt x="16" y="16"/>
                      </a:lnTo>
                      <a:lnTo>
                        <a:pt x="16" y="8"/>
                      </a:lnTo>
                      <a:lnTo>
                        <a:pt x="8"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6" name="Freeform 459"/>
                <p:cNvSpPr/>
                <p:nvPr/>
              </p:nvSpPr>
              <p:spPr>
                <a:xfrm flipH="1">
                  <a:off x="110160" y="1875600"/>
                  <a:ext cx="76320" cy="75600"/>
                </a:xfrm>
                <a:custGeom>
                  <a:avLst/>
                  <a:gdLst>
                    <a:gd name="textAreaLeft" fmla="*/ 360 w 76320"/>
                    <a:gd name="textAreaRight" fmla="*/ 77040 w 76320"/>
                    <a:gd name="textAreaTop" fmla="*/ 0 h 75600"/>
                    <a:gd name="textAreaBottom" fmla="*/ 75960 h 75600"/>
                  </a:gdLst>
                  <a:ahLst/>
                  <a:rect l="textAreaLeft" t="textAreaTop" r="textAreaRight" b="textAreaBottom"/>
                  <a:pathLst>
                    <a:path w="384" h="362">
                      <a:moveTo>
                        <a:pt x="368" y="0"/>
                      </a:moveTo>
                      <a:lnTo>
                        <a:pt x="351" y="23"/>
                      </a:lnTo>
                      <a:lnTo>
                        <a:pt x="326" y="46"/>
                      </a:lnTo>
                      <a:lnTo>
                        <a:pt x="301" y="62"/>
                      </a:lnTo>
                      <a:lnTo>
                        <a:pt x="276" y="85"/>
                      </a:lnTo>
                      <a:lnTo>
                        <a:pt x="251" y="108"/>
                      </a:lnTo>
                      <a:lnTo>
                        <a:pt x="234" y="131"/>
                      </a:lnTo>
                      <a:lnTo>
                        <a:pt x="209" y="154"/>
                      </a:lnTo>
                      <a:lnTo>
                        <a:pt x="184" y="177"/>
                      </a:lnTo>
                      <a:lnTo>
                        <a:pt x="159" y="200"/>
                      </a:lnTo>
                      <a:lnTo>
                        <a:pt x="134" y="216"/>
                      </a:lnTo>
                      <a:lnTo>
                        <a:pt x="109" y="239"/>
                      </a:lnTo>
                      <a:lnTo>
                        <a:pt x="92" y="262"/>
                      </a:lnTo>
                      <a:lnTo>
                        <a:pt x="67" y="285"/>
                      </a:lnTo>
                      <a:lnTo>
                        <a:pt x="42" y="308"/>
                      </a:lnTo>
                      <a:lnTo>
                        <a:pt x="17" y="331"/>
                      </a:lnTo>
                      <a:lnTo>
                        <a:pt x="0" y="354"/>
                      </a:lnTo>
                      <a:lnTo>
                        <a:pt x="8" y="362"/>
                      </a:lnTo>
                      <a:lnTo>
                        <a:pt x="33" y="346"/>
                      </a:lnTo>
                      <a:lnTo>
                        <a:pt x="59" y="323"/>
                      </a:lnTo>
                      <a:lnTo>
                        <a:pt x="84" y="300"/>
                      </a:lnTo>
                      <a:lnTo>
                        <a:pt x="109" y="277"/>
                      </a:lnTo>
                      <a:lnTo>
                        <a:pt x="125" y="254"/>
                      </a:lnTo>
                      <a:lnTo>
                        <a:pt x="150" y="231"/>
                      </a:lnTo>
                      <a:lnTo>
                        <a:pt x="176" y="208"/>
                      </a:lnTo>
                      <a:lnTo>
                        <a:pt x="201" y="193"/>
                      </a:lnTo>
                      <a:lnTo>
                        <a:pt x="217" y="170"/>
                      </a:lnTo>
                      <a:lnTo>
                        <a:pt x="242" y="146"/>
                      </a:lnTo>
                      <a:lnTo>
                        <a:pt x="267" y="123"/>
                      </a:lnTo>
                      <a:lnTo>
                        <a:pt x="293" y="100"/>
                      </a:lnTo>
                      <a:lnTo>
                        <a:pt x="318" y="77"/>
                      </a:lnTo>
                      <a:lnTo>
                        <a:pt x="334" y="54"/>
                      </a:lnTo>
                      <a:lnTo>
                        <a:pt x="359" y="31"/>
                      </a:lnTo>
                      <a:lnTo>
                        <a:pt x="384" y="16"/>
                      </a:lnTo>
                      <a:lnTo>
                        <a:pt x="368" y="0"/>
                      </a:lnTo>
                      <a:close/>
                    </a:path>
                  </a:pathLst>
                </a:custGeom>
                <a:solidFill>
                  <a:srgbClr val="000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Freeform 458"/>
                <p:cNvSpPr/>
                <p:nvPr/>
              </p:nvSpPr>
              <p:spPr>
                <a:xfrm flipH="1">
                  <a:off x="182880" y="194796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8" y="16"/>
                      </a:moveTo>
                      <a:lnTo>
                        <a:pt x="17" y="16"/>
                      </a:lnTo>
                      <a:lnTo>
                        <a:pt x="17" y="8"/>
                      </a:lnTo>
                      <a:lnTo>
                        <a:pt x="8" y="8"/>
                      </a:lnTo>
                      <a:lnTo>
                        <a:pt x="8" y="0"/>
                      </a:lnTo>
                      <a:lnTo>
                        <a:pt x="0" y="0"/>
                      </a:lnTo>
                      <a:lnTo>
                        <a:pt x="0" y="8"/>
                      </a:lnTo>
                      <a:lnTo>
                        <a:pt x="8"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Freeform 457"/>
                <p:cNvSpPr/>
                <p:nvPr/>
              </p:nvSpPr>
              <p:spPr>
                <a:xfrm flipH="1">
                  <a:off x="182880" y="192888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0" y="0"/>
                      </a:moveTo>
                      <a:lnTo>
                        <a:pt x="0" y="8"/>
                      </a:lnTo>
                      <a:lnTo>
                        <a:pt x="0" y="16"/>
                      </a:lnTo>
                      <a:lnTo>
                        <a:pt x="8" y="16"/>
                      </a:lnTo>
                      <a:lnTo>
                        <a:pt x="17" y="16"/>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Freeform 456"/>
                <p:cNvSpPr/>
                <p:nvPr/>
              </p:nvSpPr>
              <p:spPr>
                <a:xfrm flipH="1">
                  <a:off x="119520" y="1865880"/>
                  <a:ext cx="66600" cy="66240"/>
                </a:xfrm>
                <a:custGeom>
                  <a:avLst/>
                  <a:gdLst>
                    <a:gd name="textAreaLeft" fmla="*/ 0 w 66600"/>
                    <a:gd name="textAreaRight" fmla="*/ 66600 w 66600"/>
                    <a:gd name="textAreaTop" fmla="*/ 0 h 66240"/>
                    <a:gd name="textAreaBottom" fmla="*/ 66600 h 66240"/>
                  </a:gdLst>
                  <a:ahLst/>
                  <a:rect l="textAreaLeft" t="textAreaTop" r="textAreaRight" b="textAreaBottom"/>
                  <a:pathLst>
                    <a:path w="334" h="316">
                      <a:moveTo>
                        <a:pt x="318" y="0"/>
                      </a:moveTo>
                      <a:lnTo>
                        <a:pt x="301" y="23"/>
                      </a:lnTo>
                      <a:lnTo>
                        <a:pt x="276" y="39"/>
                      </a:lnTo>
                      <a:lnTo>
                        <a:pt x="259" y="54"/>
                      </a:lnTo>
                      <a:lnTo>
                        <a:pt x="234" y="77"/>
                      </a:lnTo>
                      <a:lnTo>
                        <a:pt x="217" y="92"/>
                      </a:lnTo>
                      <a:lnTo>
                        <a:pt x="201" y="116"/>
                      </a:lnTo>
                      <a:lnTo>
                        <a:pt x="176" y="131"/>
                      </a:lnTo>
                      <a:lnTo>
                        <a:pt x="159" y="154"/>
                      </a:lnTo>
                      <a:lnTo>
                        <a:pt x="142" y="169"/>
                      </a:lnTo>
                      <a:lnTo>
                        <a:pt x="117" y="192"/>
                      </a:lnTo>
                      <a:lnTo>
                        <a:pt x="100" y="208"/>
                      </a:lnTo>
                      <a:lnTo>
                        <a:pt x="84" y="223"/>
                      </a:lnTo>
                      <a:lnTo>
                        <a:pt x="59" y="246"/>
                      </a:lnTo>
                      <a:lnTo>
                        <a:pt x="42" y="262"/>
                      </a:lnTo>
                      <a:lnTo>
                        <a:pt x="17" y="285"/>
                      </a:lnTo>
                      <a:lnTo>
                        <a:pt x="0" y="300"/>
                      </a:lnTo>
                      <a:lnTo>
                        <a:pt x="17" y="316"/>
                      </a:lnTo>
                      <a:lnTo>
                        <a:pt x="33" y="292"/>
                      </a:lnTo>
                      <a:lnTo>
                        <a:pt x="59" y="277"/>
                      </a:lnTo>
                      <a:lnTo>
                        <a:pt x="75" y="262"/>
                      </a:lnTo>
                      <a:lnTo>
                        <a:pt x="92" y="239"/>
                      </a:lnTo>
                      <a:lnTo>
                        <a:pt x="117" y="223"/>
                      </a:lnTo>
                      <a:lnTo>
                        <a:pt x="134" y="200"/>
                      </a:lnTo>
                      <a:lnTo>
                        <a:pt x="150" y="185"/>
                      </a:lnTo>
                      <a:lnTo>
                        <a:pt x="176" y="162"/>
                      </a:lnTo>
                      <a:lnTo>
                        <a:pt x="192" y="146"/>
                      </a:lnTo>
                      <a:lnTo>
                        <a:pt x="209" y="131"/>
                      </a:lnTo>
                      <a:lnTo>
                        <a:pt x="234" y="108"/>
                      </a:lnTo>
                      <a:lnTo>
                        <a:pt x="251" y="92"/>
                      </a:lnTo>
                      <a:lnTo>
                        <a:pt x="276" y="69"/>
                      </a:lnTo>
                      <a:lnTo>
                        <a:pt x="293" y="54"/>
                      </a:lnTo>
                      <a:lnTo>
                        <a:pt x="309" y="31"/>
                      </a:lnTo>
                      <a:lnTo>
                        <a:pt x="334" y="16"/>
                      </a:lnTo>
                      <a:lnTo>
                        <a:pt x="318" y="0"/>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Freeform 455"/>
                <p:cNvSpPr/>
                <p:nvPr/>
              </p:nvSpPr>
              <p:spPr>
                <a:xfrm flipH="1">
                  <a:off x="182880" y="192888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17" y="16"/>
                      </a:moveTo>
                      <a:lnTo>
                        <a:pt x="17" y="8"/>
                      </a:lnTo>
                      <a:lnTo>
                        <a:pt x="17" y="0"/>
                      </a:lnTo>
                      <a:lnTo>
                        <a:pt x="8" y="0"/>
                      </a:lnTo>
                      <a:lnTo>
                        <a:pt x="0" y="0"/>
                      </a:lnTo>
                      <a:lnTo>
                        <a:pt x="17"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Freeform 454"/>
                <p:cNvSpPr/>
                <p:nvPr/>
              </p:nvSpPr>
              <p:spPr>
                <a:xfrm flipH="1">
                  <a:off x="181080" y="19112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7"/>
                      </a:lnTo>
                      <a:lnTo>
                        <a:pt x="0" y="15"/>
                      </a:lnTo>
                      <a:lnTo>
                        <a:pt x="9" y="15"/>
                      </a:lnTo>
                      <a:lnTo>
                        <a:pt x="17" y="15"/>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2" name="Freeform 453"/>
                <p:cNvSpPr/>
                <p:nvPr/>
              </p:nvSpPr>
              <p:spPr>
                <a:xfrm flipH="1">
                  <a:off x="129240" y="1857960"/>
                  <a:ext cx="55080" cy="56160"/>
                </a:xfrm>
                <a:custGeom>
                  <a:avLst/>
                  <a:gdLst>
                    <a:gd name="textAreaLeft" fmla="*/ -360 w 55080"/>
                    <a:gd name="textAreaRight" fmla="*/ 55080 w 55080"/>
                    <a:gd name="textAreaTop" fmla="*/ 0 h 56160"/>
                    <a:gd name="textAreaBottom" fmla="*/ 56520 h 56160"/>
                  </a:gdLst>
                  <a:ahLst/>
                  <a:rect l="textAreaLeft" t="textAreaTop" r="textAreaRight" b="textAreaBottom"/>
                  <a:pathLst>
                    <a:path w="276" h="269">
                      <a:moveTo>
                        <a:pt x="268" y="0"/>
                      </a:moveTo>
                      <a:lnTo>
                        <a:pt x="251" y="15"/>
                      </a:lnTo>
                      <a:lnTo>
                        <a:pt x="234" y="30"/>
                      </a:lnTo>
                      <a:lnTo>
                        <a:pt x="218" y="46"/>
                      </a:lnTo>
                      <a:lnTo>
                        <a:pt x="201" y="61"/>
                      </a:lnTo>
                      <a:lnTo>
                        <a:pt x="184" y="84"/>
                      </a:lnTo>
                      <a:lnTo>
                        <a:pt x="168" y="100"/>
                      </a:lnTo>
                      <a:lnTo>
                        <a:pt x="151" y="115"/>
                      </a:lnTo>
                      <a:lnTo>
                        <a:pt x="134" y="130"/>
                      </a:lnTo>
                      <a:lnTo>
                        <a:pt x="117" y="146"/>
                      </a:lnTo>
                      <a:lnTo>
                        <a:pt x="101" y="161"/>
                      </a:lnTo>
                      <a:lnTo>
                        <a:pt x="84" y="177"/>
                      </a:lnTo>
                      <a:lnTo>
                        <a:pt x="67" y="192"/>
                      </a:lnTo>
                      <a:lnTo>
                        <a:pt x="51" y="207"/>
                      </a:lnTo>
                      <a:lnTo>
                        <a:pt x="34" y="223"/>
                      </a:lnTo>
                      <a:lnTo>
                        <a:pt x="17" y="238"/>
                      </a:lnTo>
                      <a:lnTo>
                        <a:pt x="0" y="254"/>
                      </a:lnTo>
                      <a:lnTo>
                        <a:pt x="17" y="269"/>
                      </a:lnTo>
                      <a:lnTo>
                        <a:pt x="34" y="254"/>
                      </a:lnTo>
                      <a:lnTo>
                        <a:pt x="51" y="238"/>
                      </a:lnTo>
                      <a:lnTo>
                        <a:pt x="67" y="223"/>
                      </a:lnTo>
                      <a:lnTo>
                        <a:pt x="84" y="207"/>
                      </a:lnTo>
                      <a:lnTo>
                        <a:pt x="101" y="192"/>
                      </a:lnTo>
                      <a:lnTo>
                        <a:pt x="117" y="177"/>
                      </a:lnTo>
                      <a:lnTo>
                        <a:pt x="134" y="161"/>
                      </a:lnTo>
                      <a:lnTo>
                        <a:pt x="151" y="138"/>
                      </a:lnTo>
                      <a:lnTo>
                        <a:pt x="168" y="130"/>
                      </a:lnTo>
                      <a:lnTo>
                        <a:pt x="184" y="107"/>
                      </a:lnTo>
                      <a:lnTo>
                        <a:pt x="201" y="92"/>
                      </a:lnTo>
                      <a:lnTo>
                        <a:pt x="218" y="77"/>
                      </a:lnTo>
                      <a:lnTo>
                        <a:pt x="226" y="61"/>
                      </a:lnTo>
                      <a:lnTo>
                        <a:pt x="243" y="46"/>
                      </a:lnTo>
                      <a:lnTo>
                        <a:pt x="259" y="30"/>
                      </a:lnTo>
                      <a:lnTo>
                        <a:pt x="276" y="15"/>
                      </a:lnTo>
                      <a:lnTo>
                        <a:pt x="268" y="0"/>
                      </a:lnTo>
                      <a:close/>
                    </a:path>
                  </a:pathLst>
                </a:custGeom>
                <a:solidFill>
                  <a:srgbClr val="000000"/>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Freeform 452"/>
                <p:cNvSpPr/>
                <p:nvPr/>
              </p:nvSpPr>
              <p:spPr>
                <a:xfrm flipH="1">
                  <a:off x="181080" y="19112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15"/>
                      </a:lnTo>
                      <a:lnTo>
                        <a:pt x="17" y="7"/>
                      </a:lnTo>
                      <a:lnTo>
                        <a:pt x="17" y="0"/>
                      </a:lnTo>
                      <a:lnTo>
                        <a:pt x="9" y="0"/>
                      </a:lnTo>
                      <a:lnTo>
                        <a:pt x="0" y="0"/>
                      </a:lnTo>
                      <a:lnTo>
                        <a:pt x="17"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Freeform 451"/>
                <p:cNvSpPr/>
                <p:nvPr/>
              </p:nvSpPr>
              <p:spPr>
                <a:xfrm flipH="1">
                  <a:off x="174240" y="188388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7"/>
                      </a:lnTo>
                      <a:lnTo>
                        <a:pt x="0" y="15"/>
                      </a:lnTo>
                      <a:lnTo>
                        <a:pt x="8" y="15"/>
                      </a:lnTo>
                      <a:lnTo>
                        <a:pt x="17" y="15"/>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5" name="Freeform 450"/>
                <p:cNvSpPr/>
                <p:nvPr/>
              </p:nvSpPr>
              <p:spPr>
                <a:xfrm flipH="1">
                  <a:off x="138240" y="1851480"/>
                  <a:ext cx="39600" cy="35280"/>
                </a:xfrm>
                <a:custGeom>
                  <a:avLst/>
                  <a:gdLst>
                    <a:gd name="textAreaLeft" fmla="*/ 360 w 39600"/>
                    <a:gd name="textAreaRight" fmla="*/ 40320 w 39600"/>
                    <a:gd name="textAreaTop" fmla="*/ 0 h 35280"/>
                    <a:gd name="textAreaBottom" fmla="*/ 35640 h 35280"/>
                  </a:gdLst>
                  <a:ahLst/>
                  <a:rect l="textAreaLeft" t="textAreaTop" r="textAreaRight" b="textAreaBottom"/>
                  <a:pathLst>
                    <a:path w="200" h="169">
                      <a:moveTo>
                        <a:pt x="192" y="0"/>
                      </a:moveTo>
                      <a:lnTo>
                        <a:pt x="175" y="8"/>
                      </a:lnTo>
                      <a:lnTo>
                        <a:pt x="167" y="23"/>
                      </a:lnTo>
                      <a:lnTo>
                        <a:pt x="150" y="31"/>
                      </a:lnTo>
                      <a:lnTo>
                        <a:pt x="142" y="38"/>
                      </a:lnTo>
                      <a:lnTo>
                        <a:pt x="125" y="46"/>
                      </a:lnTo>
                      <a:lnTo>
                        <a:pt x="117" y="61"/>
                      </a:lnTo>
                      <a:lnTo>
                        <a:pt x="108" y="69"/>
                      </a:lnTo>
                      <a:lnTo>
                        <a:pt x="92" y="77"/>
                      </a:lnTo>
                      <a:lnTo>
                        <a:pt x="83" y="85"/>
                      </a:lnTo>
                      <a:lnTo>
                        <a:pt x="67" y="100"/>
                      </a:lnTo>
                      <a:lnTo>
                        <a:pt x="58" y="108"/>
                      </a:lnTo>
                      <a:lnTo>
                        <a:pt x="50" y="115"/>
                      </a:lnTo>
                      <a:lnTo>
                        <a:pt x="33" y="123"/>
                      </a:lnTo>
                      <a:lnTo>
                        <a:pt x="25" y="138"/>
                      </a:lnTo>
                      <a:lnTo>
                        <a:pt x="8" y="146"/>
                      </a:lnTo>
                      <a:lnTo>
                        <a:pt x="0" y="154"/>
                      </a:lnTo>
                      <a:lnTo>
                        <a:pt x="17" y="169"/>
                      </a:lnTo>
                      <a:lnTo>
                        <a:pt x="25" y="161"/>
                      </a:lnTo>
                      <a:lnTo>
                        <a:pt x="33" y="146"/>
                      </a:lnTo>
                      <a:lnTo>
                        <a:pt x="50" y="138"/>
                      </a:lnTo>
                      <a:lnTo>
                        <a:pt x="58" y="131"/>
                      </a:lnTo>
                      <a:lnTo>
                        <a:pt x="67" y="123"/>
                      </a:lnTo>
                      <a:lnTo>
                        <a:pt x="83" y="108"/>
                      </a:lnTo>
                      <a:lnTo>
                        <a:pt x="92" y="100"/>
                      </a:lnTo>
                      <a:lnTo>
                        <a:pt x="108" y="92"/>
                      </a:lnTo>
                      <a:lnTo>
                        <a:pt x="117" y="85"/>
                      </a:lnTo>
                      <a:lnTo>
                        <a:pt x="134" y="69"/>
                      </a:lnTo>
                      <a:lnTo>
                        <a:pt x="142" y="61"/>
                      </a:lnTo>
                      <a:lnTo>
                        <a:pt x="150" y="54"/>
                      </a:lnTo>
                      <a:lnTo>
                        <a:pt x="167" y="46"/>
                      </a:lnTo>
                      <a:lnTo>
                        <a:pt x="175" y="31"/>
                      </a:lnTo>
                      <a:lnTo>
                        <a:pt x="192" y="23"/>
                      </a:lnTo>
                      <a:lnTo>
                        <a:pt x="200" y="15"/>
                      </a:lnTo>
                      <a:lnTo>
                        <a:pt x="192" y="0"/>
                      </a:lnTo>
                      <a:close/>
                    </a:path>
                  </a:pathLst>
                </a:custGeom>
                <a:solidFill>
                  <a:srgbClr val="00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Freeform 449"/>
                <p:cNvSpPr/>
                <p:nvPr/>
              </p:nvSpPr>
              <p:spPr>
                <a:xfrm flipH="1">
                  <a:off x="174240" y="188388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7"/>
                      </a:lnTo>
                      <a:lnTo>
                        <a:pt x="17" y="0"/>
                      </a:lnTo>
                      <a:lnTo>
                        <a:pt x="8" y="0"/>
                      </a:lnTo>
                      <a:lnTo>
                        <a:pt x="0" y="0"/>
                      </a:lnTo>
                      <a:lnTo>
                        <a:pt x="17"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Freeform 448"/>
                <p:cNvSpPr/>
                <p:nvPr/>
              </p:nvSpPr>
              <p:spPr>
                <a:xfrm flipH="1">
                  <a:off x="348120" y="1914480"/>
                  <a:ext cx="4680" cy="2880"/>
                </a:xfrm>
                <a:custGeom>
                  <a:avLst/>
                  <a:gdLst>
                    <a:gd name="textAreaLeft" fmla="*/ -360 w 4680"/>
                    <a:gd name="textAreaRight" fmla="*/ 4680 w 4680"/>
                    <a:gd name="textAreaTop" fmla="*/ 0 h 2880"/>
                    <a:gd name="textAreaBottom" fmla="*/ 3240 h 2880"/>
                  </a:gdLst>
                  <a:ahLst/>
                  <a:rect l="textAreaLeft" t="textAreaTop" r="textAreaRight" b="textAreaBottom"/>
                  <a:pathLst>
                    <a:path w="25" h="15">
                      <a:moveTo>
                        <a:pt x="25" y="0"/>
                      </a:moveTo>
                      <a:lnTo>
                        <a:pt x="17" y="0"/>
                      </a:lnTo>
                      <a:lnTo>
                        <a:pt x="9" y="0"/>
                      </a:lnTo>
                      <a:lnTo>
                        <a:pt x="0" y="8"/>
                      </a:lnTo>
                      <a:lnTo>
                        <a:pt x="9" y="15"/>
                      </a:lnTo>
                      <a:lnTo>
                        <a:pt x="25"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Freeform 447"/>
                <p:cNvSpPr/>
                <p:nvPr/>
              </p:nvSpPr>
              <p:spPr>
                <a:xfrm flipH="1">
                  <a:off x="329760" y="1914480"/>
                  <a:ext cx="21240" cy="37080"/>
                </a:xfrm>
                <a:custGeom>
                  <a:avLst/>
                  <a:gdLst>
                    <a:gd name="textAreaLeft" fmla="*/ -360 w 21240"/>
                    <a:gd name="textAreaRight" fmla="*/ 21240 w 21240"/>
                    <a:gd name="textAreaTop" fmla="*/ 0 h 37080"/>
                    <a:gd name="textAreaBottom" fmla="*/ 37440 h 37080"/>
                  </a:gdLst>
                  <a:ahLst/>
                  <a:rect l="textAreaLeft" t="textAreaTop" r="textAreaRight" b="textAreaBottom"/>
                  <a:pathLst>
                    <a:path w="108" h="177">
                      <a:moveTo>
                        <a:pt x="108" y="169"/>
                      </a:moveTo>
                      <a:lnTo>
                        <a:pt x="108" y="154"/>
                      </a:lnTo>
                      <a:lnTo>
                        <a:pt x="100" y="146"/>
                      </a:lnTo>
                      <a:lnTo>
                        <a:pt x="92" y="138"/>
                      </a:lnTo>
                      <a:lnTo>
                        <a:pt x="83" y="123"/>
                      </a:lnTo>
                      <a:lnTo>
                        <a:pt x="83" y="115"/>
                      </a:lnTo>
                      <a:lnTo>
                        <a:pt x="75" y="108"/>
                      </a:lnTo>
                      <a:lnTo>
                        <a:pt x="67" y="92"/>
                      </a:lnTo>
                      <a:lnTo>
                        <a:pt x="58" y="85"/>
                      </a:lnTo>
                      <a:lnTo>
                        <a:pt x="58" y="77"/>
                      </a:lnTo>
                      <a:lnTo>
                        <a:pt x="50" y="61"/>
                      </a:lnTo>
                      <a:lnTo>
                        <a:pt x="41" y="54"/>
                      </a:lnTo>
                      <a:lnTo>
                        <a:pt x="33" y="46"/>
                      </a:lnTo>
                      <a:lnTo>
                        <a:pt x="33" y="31"/>
                      </a:lnTo>
                      <a:lnTo>
                        <a:pt x="25" y="23"/>
                      </a:lnTo>
                      <a:lnTo>
                        <a:pt x="16" y="15"/>
                      </a:lnTo>
                      <a:lnTo>
                        <a:pt x="16" y="0"/>
                      </a:lnTo>
                      <a:lnTo>
                        <a:pt x="0" y="15"/>
                      </a:lnTo>
                      <a:lnTo>
                        <a:pt x="0" y="23"/>
                      </a:lnTo>
                      <a:lnTo>
                        <a:pt x="8" y="31"/>
                      </a:lnTo>
                      <a:lnTo>
                        <a:pt x="16" y="46"/>
                      </a:lnTo>
                      <a:lnTo>
                        <a:pt x="16" y="54"/>
                      </a:lnTo>
                      <a:lnTo>
                        <a:pt x="25" y="61"/>
                      </a:lnTo>
                      <a:lnTo>
                        <a:pt x="33" y="77"/>
                      </a:lnTo>
                      <a:lnTo>
                        <a:pt x="33" y="85"/>
                      </a:lnTo>
                      <a:lnTo>
                        <a:pt x="41" y="92"/>
                      </a:lnTo>
                      <a:lnTo>
                        <a:pt x="50" y="100"/>
                      </a:lnTo>
                      <a:lnTo>
                        <a:pt x="58" y="115"/>
                      </a:lnTo>
                      <a:lnTo>
                        <a:pt x="58" y="123"/>
                      </a:lnTo>
                      <a:lnTo>
                        <a:pt x="67" y="131"/>
                      </a:lnTo>
                      <a:lnTo>
                        <a:pt x="75" y="146"/>
                      </a:lnTo>
                      <a:lnTo>
                        <a:pt x="83" y="154"/>
                      </a:lnTo>
                      <a:lnTo>
                        <a:pt x="83" y="169"/>
                      </a:lnTo>
                      <a:lnTo>
                        <a:pt x="92" y="177"/>
                      </a:lnTo>
                      <a:lnTo>
                        <a:pt x="108" y="169"/>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9" name="Freeform 446"/>
                <p:cNvSpPr/>
                <p:nvPr/>
              </p:nvSpPr>
              <p:spPr>
                <a:xfrm flipH="1">
                  <a:off x="348480" y="1914480"/>
                  <a:ext cx="2880" cy="2880"/>
                </a:xfrm>
                <a:custGeom>
                  <a:avLst/>
                  <a:gdLst>
                    <a:gd name="textAreaLeft" fmla="*/ 360 w 2880"/>
                    <a:gd name="textAreaRight" fmla="*/ 3600 w 2880"/>
                    <a:gd name="textAreaTop" fmla="*/ 0 h 2880"/>
                    <a:gd name="textAreaBottom" fmla="*/ 3240 h 2880"/>
                  </a:gdLst>
                  <a:ahLst/>
                  <a:rect l="textAreaLeft" t="textAreaTop" r="textAreaRight" b="textAreaBottom"/>
                  <a:pathLst>
                    <a:path w="16" h="15">
                      <a:moveTo>
                        <a:pt x="0" y="15"/>
                      </a:moveTo>
                      <a:lnTo>
                        <a:pt x="0" y="15"/>
                      </a:lnTo>
                      <a:lnTo>
                        <a:pt x="8" y="15"/>
                      </a:lnTo>
                      <a:lnTo>
                        <a:pt x="16" y="8"/>
                      </a:lnTo>
                      <a:lnTo>
                        <a:pt x="16"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0" name="Freeform 445"/>
                <p:cNvSpPr/>
                <p:nvPr/>
              </p:nvSpPr>
              <p:spPr>
                <a:xfrm flipH="1">
                  <a:off x="346320" y="1901520"/>
                  <a:ext cx="4680" cy="3240"/>
                </a:xfrm>
                <a:custGeom>
                  <a:avLst/>
                  <a:gdLst>
                    <a:gd name="textAreaLeft" fmla="*/ -360 w 4680"/>
                    <a:gd name="textAreaRight" fmla="*/ 4680 w 4680"/>
                    <a:gd name="textAreaTop" fmla="*/ 0 h 3240"/>
                    <a:gd name="textAreaBottom" fmla="*/ 3600 h 3240"/>
                  </a:gdLst>
                  <a:ahLst/>
                  <a:rect l="textAreaLeft" t="textAreaTop" r="textAreaRight" b="textAreaBottom"/>
                  <a:pathLst>
                    <a:path w="25" h="16">
                      <a:moveTo>
                        <a:pt x="25" y="0"/>
                      </a:moveTo>
                      <a:lnTo>
                        <a:pt x="16" y="0"/>
                      </a:lnTo>
                      <a:lnTo>
                        <a:pt x="8" y="0"/>
                      </a:lnTo>
                      <a:lnTo>
                        <a:pt x="8" y="8"/>
                      </a:lnTo>
                      <a:lnTo>
                        <a:pt x="0" y="8"/>
                      </a:lnTo>
                      <a:lnTo>
                        <a:pt x="8" y="16"/>
                      </a:lnTo>
                      <a:lnTo>
                        <a:pt x="25"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Freeform 444"/>
                <p:cNvSpPr/>
                <p:nvPr/>
              </p:nvSpPr>
              <p:spPr>
                <a:xfrm flipH="1">
                  <a:off x="318240" y="1901520"/>
                  <a:ext cx="31680" cy="52920"/>
                </a:xfrm>
                <a:custGeom>
                  <a:avLst/>
                  <a:gdLst>
                    <a:gd name="textAreaLeft" fmla="*/ 360 w 31680"/>
                    <a:gd name="textAreaRight" fmla="*/ 32400 w 31680"/>
                    <a:gd name="textAreaTop" fmla="*/ 0 h 52920"/>
                    <a:gd name="textAreaBottom" fmla="*/ 53280 h 52920"/>
                  </a:gdLst>
                  <a:ahLst/>
                  <a:rect l="textAreaLeft" t="textAreaTop" r="textAreaRight" b="textAreaBottom"/>
                  <a:pathLst>
                    <a:path w="159" h="254">
                      <a:moveTo>
                        <a:pt x="159" y="239"/>
                      </a:moveTo>
                      <a:lnTo>
                        <a:pt x="150" y="231"/>
                      </a:lnTo>
                      <a:lnTo>
                        <a:pt x="142" y="216"/>
                      </a:lnTo>
                      <a:lnTo>
                        <a:pt x="134" y="200"/>
                      </a:lnTo>
                      <a:lnTo>
                        <a:pt x="125" y="185"/>
                      </a:lnTo>
                      <a:lnTo>
                        <a:pt x="117" y="170"/>
                      </a:lnTo>
                      <a:lnTo>
                        <a:pt x="109" y="154"/>
                      </a:lnTo>
                      <a:lnTo>
                        <a:pt x="100" y="139"/>
                      </a:lnTo>
                      <a:lnTo>
                        <a:pt x="92" y="123"/>
                      </a:lnTo>
                      <a:lnTo>
                        <a:pt x="75" y="108"/>
                      </a:lnTo>
                      <a:lnTo>
                        <a:pt x="67" y="93"/>
                      </a:lnTo>
                      <a:lnTo>
                        <a:pt x="59" y="77"/>
                      </a:lnTo>
                      <a:lnTo>
                        <a:pt x="50" y="62"/>
                      </a:lnTo>
                      <a:lnTo>
                        <a:pt x="42" y="47"/>
                      </a:lnTo>
                      <a:lnTo>
                        <a:pt x="33" y="31"/>
                      </a:lnTo>
                      <a:lnTo>
                        <a:pt x="25" y="16"/>
                      </a:lnTo>
                      <a:lnTo>
                        <a:pt x="17" y="0"/>
                      </a:lnTo>
                      <a:lnTo>
                        <a:pt x="0" y="16"/>
                      </a:lnTo>
                      <a:lnTo>
                        <a:pt x="8" y="31"/>
                      </a:lnTo>
                      <a:lnTo>
                        <a:pt x="17" y="47"/>
                      </a:lnTo>
                      <a:lnTo>
                        <a:pt x="25" y="54"/>
                      </a:lnTo>
                      <a:lnTo>
                        <a:pt x="33" y="70"/>
                      </a:lnTo>
                      <a:lnTo>
                        <a:pt x="42" y="85"/>
                      </a:lnTo>
                      <a:lnTo>
                        <a:pt x="50" y="100"/>
                      </a:lnTo>
                      <a:lnTo>
                        <a:pt x="59" y="116"/>
                      </a:lnTo>
                      <a:lnTo>
                        <a:pt x="75" y="131"/>
                      </a:lnTo>
                      <a:lnTo>
                        <a:pt x="84" y="147"/>
                      </a:lnTo>
                      <a:lnTo>
                        <a:pt x="92" y="162"/>
                      </a:lnTo>
                      <a:lnTo>
                        <a:pt x="100" y="177"/>
                      </a:lnTo>
                      <a:lnTo>
                        <a:pt x="109" y="193"/>
                      </a:lnTo>
                      <a:lnTo>
                        <a:pt x="117" y="208"/>
                      </a:lnTo>
                      <a:lnTo>
                        <a:pt x="125" y="223"/>
                      </a:lnTo>
                      <a:lnTo>
                        <a:pt x="134" y="239"/>
                      </a:lnTo>
                      <a:lnTo>
                        <a:pt x="142" y="254"/>
                      </a:lnTo>
                      <a:lnTo>
                        <a:pt x="159" y="239"/>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Freeform 443"/>
                <p:cNvSpPr/>
                <p:nvPr/>
              </p:nvSpPr>
              <p:spPr>
                <a:xfrm flipH="1">
                  <a:off x="346320" y="190152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0" y="16"/>
                      </a:moveTo>
                      <a:lnTo>
                        <a:pt x="0" y="16"/>
                      </a:lnTo>
                      <a:lnTo>
                        <a:pt x="8" y="16"/>
                      </a:lnTo>
                      <a:lnTo>
                        <a:pt x="17" y="16"/>
                      </a:lnTo>
                      <a:lnTo>
                        <a:pt x="17" y="8"/>
                      </a:lnTo>
                      <a:lnTo>
                        <a:pt x="17" y="0"/>
                      </a:lnTo>
                      <a:lnTo>
                        <a:pt x="0"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Freeform 442"/>
                <p:cNvSpPr/>
                <p:nvPr/>
              </p:nvSpPr>
              <p:spPr>
                <a:xfrm flipH="1">
                  <a:off x="344520" y="188856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8"/>
                      </a:moveTo>
                      <a:lnTo>
                        <a:pt x="17" y="0"/>
                      </a:lnTo>
                      <a:lnTo>
                        <a:pt x="9" y="0"/>
                      </a:lnTo>
                      <a:lnTo>
                        <a:pt x="0" y="0"/>
                      </a:lnTo>
                      <a:lnTo>
                        <a:pt x="0" y="8"/>
                      </a:lnTo>
                      <a:lnTo>
                        <a:pt x="0" y="15"/>
                      </a:lnTo>
                      <a:lnTo>
                        <a:pt x="17" y="8"/>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Freeform 441"/>
                <p:cNvSpPr/>
                <p:nvPr/>
              </p:nvSpPr>
              <p:spPr>
                <a:xfrm flipH="1">
                  <a:off x="302760" y="1890360"/>
                  <a:ext cx="45000" cy="67680"/>
                </a:xfrm>
                <a:custGeom>
                  <a:avLst/>
                  <a:gdLst>
                    <a:gd name="textAreaLeft" fmla="*/ -360 w 45000"/>
                    <a:gd name="textAreaRight" fmla="*/ 45000 w 45000"/>
                    <a:gd name="textAreaTop" fmla="*/ 0 h 67680"/>
                    <a:gd name="textAreaBottom" fmla="*/ 68040 h 67680"/>
                  </a:gdLst>
                  <a:ahLst/>
                  <a:rect l="textAreaLeft" t="textAreaTop" r="textAreaRight" b="textAreaBottom"/>
                  <a:pathLst>
                    <a:path w="226" h="323">
                      <a:moveTo>
                        <a:pt x="226" y="315"/>
                      </a:moveTo>
                      <a:lnTo>
                        <a:pt x="218" y="292"/>
                      </a:lnTo>
                      <a:lnTo>
                        <a:pt x="201" y="276"/>
                      </a:lnTo>
                      <a:lnTo>
                        <a:pt x="184" y="253"/>
                      </a:lnTo>
                      <a:lnTo>
                        <a:pt x="176" y="238"/>
                      </a:lnTo>
                      <a:lnTo>
                        <a:pt x="159" y="215"/>
                      </a:lnTo>
                      <a:lnTo>
                        <a:pt x="151" y="192"/>
                      </a:lnTo>
                      <a:lnTo>
                        <a:pt x="134" y="176"/>
                      </a:lnTo>
                      <a:lnTo>
                        <a:pt x="126" y="153"/>
                      </a:lnTo>
                      <a:lnTo>
                        <a:pt x="109" y="138"/>
                      </a:lnTo>
                      <a:lnTo>
                        <a:pt x="92" y="115"/>
                      </a:lnTo>
                      <a:lnTo>
                        <a:pt x="84" y="100"/>
                      </a:lnTo>
                      <a:lnTo>
                        <a:pt x="67" y="76"/>
                      </a:lnTo>
                      <a:lnTo>
                        <a:pt x="59" y="53"/>
                      </a:lnTo>
                      <a:lnTo>
                        <a:pt x="42" y="38"/>
                      </a:lnTo>
                      <a:lnTo>
                        <a:pt x="34" y="15"/>
                      </a:lnTo>
                      <a:lnTo>
                        <a:pt x="17" y="0"/>
                      </a:lnTo>
                      <a:lnTo>
                        <a:pt x="0" y="7"/>
                      </a:lnTo>
                      <a:lnTo>
                        <a:pt x="17" y="23"/>
                      </a:lnTo>
                      <a:lnTo>
                        <a:pt x="25" y="46"/>
                      </a:lnTo>
                      <a:lnTo>
                        <a:pt x="42" y="69"/>
                      </a:lnTo>
                      <a:lnTo>
                        <a:pt x="51" y="84"/>
                      </a:lnTo>
                      <a:lnTo>
                        <a:pt x="67" y="107"/>
                      </a:lnTo>
                      <a:lnTo>
                        <a:pt x="76" y="123"/>
                      </a:lnTo>
                      <a:lnTo>
                        <a:pt x="92" y="146"/>
                      </a:lnTo>
                      <a:lnTo>
                        <a:pt x="101" y="169"/>
                      </a:lnTo>
                      <a:lnTo>
                        <a:pt x="117" y="184"/>
                      </a:lnTo>
                      <a:lnTo>
                        <a:pt x="134" y="207"/>
                      </a:lnTo>
                      <a:lnTo>
                        <a:pt x="142" y="223"/>
                      </a:lnTo>
                      <a:lnTo>
                        <a:pt x="159" y="246"/>
                      </a:lnTo>
                      <a:lnTo>
                        <a:pt x="168" y="261"/>
                      </a:lnTo>
                      <a:lnTo>
                        <a:pt x="184" y="284"/>
                      </a:lnTo>
                      <a:lnTo>
                        <a:pt x="193" y="307"/>
                      </a:lnTo>
                      <a:lnTo>
                        <a:pt x="209" y="323"/>
                      </a:lnTo>
                      <a:lnTo>
                        <a:pt x="226" y="315"/>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5" name="Freeform 440"/>
                <p:cNvSpPr/>
                <p:nvPr/>
              </p:nvSpPr>
              <p:spPr>
                <a:xfrm flipH="1">
                  <a:off x="344520" y="189036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7">
                      <a:moveTo>
                        <a:pt x="0" y="7"/>
                      </a:moveTo>
                      <a:lnTo>
                        <a:pt x="0" y="7"/>
                      </a:lnTo>
                      <a:lnTo>
                        <a:pt x="9" y="7"/>
                      </a:lnTo>
                      <a:lnTo>
                        <a:pt x="17" y="7"/>
                      </a:lnTo>
                      <a:lnTo>
                        <a:pt x="17" y="0"/>
                      </a:lnTo>
                      <a:lnTo>
                        <a:pt x="0" y="7"/>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Freeform 439"/>
                <p:cNvSpPr/>
                <p:nvPr/>
              </p:nvSpPr>
              <p:spPr>
                <a:xfrm flipH="1">
                  <a:off x="341280" y="187416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7"/>
                      </a:moveTo>
                      <a:lnTo>
                        <a:pt x="17" y="0"/>
                      </a:lnTo>
                      <a:lnTo>
                        <a:pt x="8" y="0"/>
                      </a:lnTo>
                      <a:lnTo>
                        <a:pt x="0" y="7"/>
                      </a:lnTo>
                      <a:lnTo>
                        <a:pt x="0" y="15"/>
                      </a:lnTo>
                      <a:lnTo>
                        <a:pt x="17" y="7"/>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Freeform 438"/>
                <p:cNvSpPr/>
                <p:nvPr/>
              </p:nvSpPr>
              <p:spPr>
                <a:xfrm flipH="1">
                  <a:off x="291600" y="1875600"/>
                  <a:ext cx="53280" cy="83880"/>
                </a:xfrm>
                <a:custGeom>
                  <a:avLst/>
                  <a:gdLst>
                    <a:gd name="textAreaLeft" fmla="*/ 360 w 53280"/>
                    <a:gd name="textAreaRight" fmla="*/ 54000 w 53280"/>
                    <a:gd name="textAreaTop" fmla="*/ 0 h 83880"/>
                    <a:gd name="textAreaBottom" fmla="*/ 84240 h 83880"/>
                  </a:gdLst>
                  <a:ahLst/>
                  <a:rect l="textAreaLeft" t="textAreaTop" r="textAreaRight" b="textAreaBottom"/>
                  <a:pathLst>
                    <a:path w="268" h="400">
                      <a:moveTo>
                        <a:pt x="268" y="393"/>
                      </a:moveTo>
                      <a:lnTo>
                        <a:pt x="251" y="370"/>
                      </a:lnTo>
                      <a:lnTo>
                        <a:pt x="234" y="346"/>
                      </a:lnTo>
                      <a:lnTo>
                        <a:pt x="217" y="323"/>
                      </a:lnTo>
                      <a:lnTo>
                        <a:pt x="201" y="293"/>
                      </a:lnTo>
                      <a:lnTo>
                        <a:pt x="192" y="270"/>
                      </a:lnTo>
                      <a:lnTo>
                        <a:pt x="176" y="246"/>
                      </a:lnTo>
                      <a:lnTo>
                        <a:pt x="159" y="223"/>
                      </a:lnTo>
                      <a:lnTo>
                        <a:pt x="142" y="193"/>
                      </a:lnTo>
                      <a:lnTo>
                        <a:pt x="125" y="170"/>
                      </a:lnTo>
                      <a:lnTo>
                        <a:pt x="109" y="146"/>
                      </a:lnTo>
                      <a:lnTo>
                        <a:pt x="100" y="123"/>
                      </a:lnTo>
                      <a:lnTo>
                        <a:pt x="84" y="100"/>
                      </a:lnTo>
                      <a:lnTo>
                        <a:pt x="67" y="70"/>
                      </a:lnTo>
                      <a:lnTo>
                        <a:pt x="50" y="46"/>
                      </a:lnTo>
                      <a:lnTo>
                        <a:pt x="34" y="23"/>
                      </a:lnTo>
                      <a:lnTo>
                        <a:pt x="17" y="0"/>
                      </a:lnTo>
                      <a:lnTo>
                        <a:pt x="0" y="8"/>
                      </a:lnTo>
                      <a:lnTo>
                        <a:pt x="17" y="31"/>
                      </a:lnTo>
                      <a:lnTo>
                        <a:pt x="34" y="54"/>
                      </a:lnTo>
                      <a:lnTo>
                        <a:pt x="50" y="85"/>
                      </a:lnTo>
                      <a:lnTo>
                        <a:pt x="67" y="108"/>
                      </a:lnTo>
                      <a:lnTo>
                        <a:pt x="84" y="131"/>
                      </a:lnTo>
                      <a:lnTo>
                        <a:pt x="92" y="154"/>
                      </a:lnTo>
                      <a:lnTo>
                        <a:pt x="109" y="177"/>
                      </a:lnTo>
                      <a:lnTo>
                        <a:pt x="125" y="208"/>
                      </a:lnTo>
                      <a:lnTo>
                        <a:pt x="142" y="231"/>
                      </a:lnTo>
                      <a:lnTo>
                        <a:pt x="159" y="254"/>
                      </a:lnTo>
                      <a:lnTo>
                        <a:pt x="176" y="277"/>
                      </a:lnTo>
                      <a:lnTo>
                        <a:pt x="184" y="308"/>
                      </a:lnTo>
                      <a:lnTo>
                        <a:pt x="201" y="331"/>
                      </a:lnTo>
                      <a:lnTo>
                        <a:pt x="217" y="354"/>
                      </a:lnTo>
                      <a:lnTo>
                        <a:pt x="234" y="377"/>
                      </a:lnTo>
                      <a:lnTo>
                        <a:pt x="251" y="400"/>
                      </a:lnTo>
                      <a:lnTo>
                        <a:pt x="268" y="393"/>
                      </a:lnTo>
                      <a:close/>
                    </a:path>
                  </a:pathLst>
                </a:custGeom>
                <a:solidFill>
                  <a:srgbClr val="000000"/>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Freeform 437"/>
                <p:cNvSpPr/>
                <p:nvPr/>
              </p:nvSpPr>
              <p:spPr>
                <a:xfrm flipH="1">
                  <a:off x="339840" y="1875600"/>
                  <a:ext cx="4680" cy="3240"/>
                </a:xfrm>
                <a:custGeom>
                  <a:avLst/>
                  <a:gdLst>
                    <a:gd name="textAreaLeft" fmla="*/ -360 w 4680"/>
                    <a:gd name="textAreaRight" fmla="*/ 4680 w 4680"/>
                    <a:gd name="textAreaTop" fmla="*/ 0 h 3240"/>
                    <a:gd name="textAreaBottom" fmla="*/ 3600 h 3240"/>
                  </a:gdLst>
                  <a:ahLst/>
                  <a:rect l="textAreaLeft" t="textAreaTop" r="textAreaRight" b="textAreaBottom"/>
                  <a:pathLst>
                    <a:path w="25" h="16">
                      <a:moveTo>
                        <a:pt x="0" y="8"/>
                      </a:moveTo>
                      <a:lnTo>
                        <a:pt x="8" y="8"/>
                      </a:lnTo>
                      <a:lnTo>
                        <a:pt x="8" y="16"/>
                      </a:lnTo>
                      <a:lnTo>
                        <a:pt x="17" y="16"/>
                      </a:lnTo>
                      <a:lnTo>
                        <a:pt x="17" y="8"/>
                      </a:lnTo>
                      <a:lnTo>
                        <a:pt x="25" y="8"/>
                      </a:lnTo>
                      <a:lnTo>
                        <a:pt x="25" y="0"/>
                      </a:lnTo>
                      <a:lnTo>
                        <a:pt x="17" y="0"/>
                      </a:lnTo>
                      <a:lnTo>
                        <a:pt x="0"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Freeform 436"/>
                <p:cNvSpPr/>
                <p:nvPr/>
              </p:nvSpPr>
              <p:spPr>
                <a:xfrm flipH="1">
                  <a:off x="336240" y="1864080"/>
                  <a:ext cx="4680" cy="3240"/>
                </a:xfrm>
                <a:custGeom>
                  <a:avLst/>
                  <a:gdLst>
                    <a:gd name="textAreaLeft" fmla="*/ -360 w 4680"/>
                    <a:gd name="textAreaRight" fmla="*/ 4680 w 4680"/>
                    <a:gd name="textAreaTop" fmla="*/ 0 h 3240"/>
                    <a:gd name="textAreaBottom" fmla="*/ 3600 h 3240"/>
                  </a:gdLst>
                  <a:ahLst/>
                  <a:rect l="textAreaLeft" t="textAreaTop" r="textAreaRight" b="textAreaBottom"/>
                  <a:pathLst>
                    <a:path w="25" h="16">
                      <a:moveTo>
                        <a:pt x="25" y="8"/>
                      </a:moveTo>
                      <a:lnTo>
                        <a:pt x="17" y="0"/>
                      </a:lnTo>
                      <a:lnTo>
                        <a:pt x="8" y="0"/>
                      </a:lnTo>
                      <a:lnTo>
                        <a:pt x="8" y="8"/>
                      </a:lnTo>
                      <a:lnTo>
                        <a:pt x="0" y="8"/>
                      </a:lnTo>
                      <a:lnTo>
                        <a:pt x="8" y="16"/>
                      </a:lnTo>
                      <a:lnTo>
                        <a:pt x="25"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Freeform 435"/>
                <p:cNvSpPr/>
                <p:nvPr/>
              </p:nvSpPr>
              <p:spPr>
                <a:xfrm flipH="1">
                  <a:off x="289440" y="1865880"/>
                  <a:ext cx="50040" cy="78840"/>
                </a:xfrm>
                <a:custGeom>
                  <a:avLst/>
                  <a:gdLst>
                    <a:gd name="textAreaLeft" fmla="*/ -360 w 50040"/>
                    <a:gd name="textAreaRight" fmla="*/ 50040 w 50040"/>
                    <a:gd name="textAreaTop" fmla="*/ 0 h 78840"/>
                    <a:gd name="textAreaBottom" fmla="*/ 79200 h 78840"/>
                  </a:gdLst>
                  <a:ahLst/>
                  <a:rect l="textAreaLeft" t="textAreaTop" r="textAreaRight" b="textAreaBottom"/>
                  <a:pathLst>
                    <a:path w="251" h="377">
                      <a:moveTo>
                        <a:pt x="251" y="369"/>
                      </a:moveTo>
                      <a:lnTo>
                        <a:pt x="234" y="346"/>
                      </a:lnTo>
                      <a:lnTo>
                        <a:pt x="217" y="323"/>
                      </a:lnTo>
                      <a:lnTo>
                        <a:pt x="209" y="300"/>
                      </a:lnTo>
                      <a:lnTo>
                        <a:pt x="192" y="277"/>
                      </a:lnTo>
                      <a:lnTo>
                        <a:pt x="176" y="254"/>
                      </a:lnTo>
                      <a:lnTo>
                        <a:pt x="159" y="231"/>
                      </a:lnTo>
                      <a:lnTo>
                        <a:pt x="151" y="208"/>
                      </a:lnTo>
                      <a:lnTo>
                        <a:pt x="134" y="185"/>
                      </a:lnTo>
                      <a:lnTo>
                        <a:pt x="117" y="162"/>
                      </a:lnTo>
                      <a:lnTo>
                        <a:pt x="100" y="139"/>
                      </a:lnTo>
                      <a:lnTo>
                        <a:pt x="92" y="116"/>
                      </a:lnTo>
                      <a:lnTo>
                        <a:pt x="75" y="92"/>
                      </a:lnTo>
                      <a:lnTo>
                        <a:pt x="59" y="69"/>
                      </a:lnTo>
                      <a:lnTo>
                        <a:pt x="42" y="46"/>
                      </a:lnTo>
                      <a:lnTo>
                        <a:pt x="25" y="23"/>
                      </a:lnTo>
                      <a:lnTo>
                        <a:pt x="17" y="0"/>
                      </a:lnTo>
                      <a:lnTo>
                        <a:pt x="0" y="8"/>
                      </a:lnTo>
                      <a:lnTo>
                        <a:pt x="9" y="31"/>
                      </a:lnTo>
                      <a:lnTo>
                        <a:pt x="25" y="54"/>
                      </a:lnTo>
                      <a:lnTo>
                        <a:pt x="42" y="77"/>
                      </a:lnTo>
                      <a:lnTo>
                        <a:pt x="59" y="100"/>
                      </a:lnTo>
                      <a:lnTo>
                        <a:pt x="67" y="123"/>
                      </a:lnTo>
                      <a:lnTo>
                        <a:pt x="84" y="146"/>
                      </a:lnTo>
                      <a:lnTo>
                        <a:pt x="100" y="169"/>
                      </a:lnTo>
                      <a:lnTo>
                        <a:pt x="117" y="192"/>
                      </a:lnTo>
                      <a:lnTo>
                        <a:pt x="126" y="216"/>
                      </a:lnTo>
                      <a:lnTo>
                        <a:pt x="142" y="239"/>
                      </a:lnTo>
                      <a:lnTo>
                        <a:pt x="159" y="262"/>
                      </a:lnTo>
                      <a:lnTo>
                        <a:pt x="176" y="285"/>
                      </a:lnTo>
                      <a:lnTo>
                        <a:pt x="192" y="308"/>
                      </a:lnTo>
                      <a:lnTo>
                        <a:pt x="201" y="331"/>
                      </a:lnTo>
                      <a:lnTo>
                        <a:pt x="217" y="354"/>
                      </a:lnTo>
                      <a:lnTo>
                        <a:pt x="234" y="377"/>
                      </a:lnTo>
                      <a:lnTo>
                        <a:pt x="251" y="369"/>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Freeform 434"/>
                <p:cNvSpPr/>
                <p:nvPr/>
              </p:nvSpPr>
              <p:spPr>
                <a:xfrm flipH="1">
                  <a:off x="336240" y="186588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0" y="8"/>
                      </a:moveTo>
                      <a:lnTo>
                        <a:pt x="0" y="8"/>
                      </a:lnTo>
                      <a:lnTo>
                        <a:pt x="0" y="16"/>
                      </a:lnTo>
                      <a:lnTo>
                        <a:pt x="9" y="16"/>
                      </a:lnTo>
                      <a:lnTo>
                        <a:pt x="9" y="8"/>
                      </a:lnTo>
                      <a:lnTo>
                        <a:pt x="17" y="8"/>
                      </a:lnTo>
                      <a:lnTo>
                        <a:pt x="17" y="0"/>
                      </a:lnTo>
                      <a:lnTo>
                        <a:pt x="0"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Freeform 433"/>
                <p:cNvSpPr/>
                <p:nvPr/>
              </p:nvSpPr>
              <p:spPr>
                <a:xfrm flipH="1">
                  <a:off x="327960" y="185796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7"/>
                      </a:moveTo>
                      <a:lnTo>
                        <a:pt x="17" y="7"/>
                      </a:lnTo>
                      <a:lnTo>
                        <a:pt x="8" y="0"/>
                      </a:lnTo>
                      <a:lnTo>
                        <a:pt x="0" y="7"/>
                      </a:lnTo>
                      <a:lnTo>
                        <a:pt x="0" y="15"/>
                      </a:lnTo>
                      <a:lnTo>
                        <a:pt x="17" y="7"/>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Freeform 432"/>
                <p:cNvSpPr/>
                <p:nvPr/>
              </p:nvSpPr>
              <p:spPr>
                <a:xfrm flipH="1">
                  <a:off x="289800" y="1859400"/>
                  <a:ext cx="41400" cy="67680"/>
                </a:xfrm>
                <a:custGeom>
                  <a:avLst/>
                  <a:gdLst>
                    <a:gd name="textAreaLeft" fmla="*/ -360 w 41400"/>
                    <a:gd name="textAreaRight" fmla="*/ 41400 w 41400"/>
                    <a:gd name="textAreaTop" fmla="*/ 0 h 67680"/>
                    <a:gd name="textAreaBottom" fmla="*/ 68040 h 67680"/>
                  </a:gdLst>
                  <a:ahLst/>
                  <a:rect l="textAreaLeft" t="textAreaTop" r="textAreaRight" b="textAreaBottom"/>
                  <a:pathLst>
                    <a:path w="209" h="323">
                      <a:moveTo>
                        <a:pt x="209" y="316"/>
                      </a:moveTo>
                      <a:lnTo>
                        <a:pt x="192" y="300"/>
                      </a:lnTo>
                      <a:lnTo>
                        <a:pt x="184" y="277"/>
                      </a:lnTo>
                      <a:lnTo>
                        <a:pt x="175" y="254"/>
                      </a:lnTo>
                      <a:lnTo>
                        <a:pt x="159" y="239"/>
                      </a:lnTo>
                      <a:lnTo>
                        <a:pt x="150" y="216"/>
                      </a:lnTo>
                      <a:lnTo>
                        <a:pt x="134" y="200"/>
                      </a:lnTo>
                      <a:lnTo>
                        <a:pt x="125" y="177"/>
                      </a:lnTo>
                      <a:lnTo>
                        <a:pt x="109" y="162"/>
                      </a:lnTo>
                      <a:lnTo>
                        <a:pt x="100" y="139"/>
                      </a:lnTo>
                      <a:lnTo>
                        <a:pt x="92" y="123"/>
                      </a:lnTo>
                      <a:lnTo>
                        <a:pt x="75" y="100"/>
                      </a:lnTo>
                      <a:lnTo>
                        <a:pt x="67" y="77"/>
                      </a:lnTo>
                      <a:lnTo>
                        <a:pt x="50" y="62"/>
                      </a:lnTo>
                      <a:lnTo>
                        <a:pt x="42" y="39"/>
                      </a:lnTo>
                      <a:lnTo>
                        <a:pt x="25" y="23"/>
                      </a:lnTo>
                      <a:lnTo>
                        <a:pt x="17" y="0"/>
                      </a:lnTo>
                      <a:lnTo>
                        <a:pt x="0" y="8"/>
                      </a:lnTo>
                      <a:lnTo>
                        <a:pt x="8" y="31"/>
                      </a:lnTo>
                      <a:lnTo>
                        <a:pt x="25" y="47"/>
                      </a:lnTo>
                      <a:lnTo>
                        <a:pt x="33" y="70"/>
                      </a:lnTo>
                      <a:lnTo>
                        <a:pt x="50" y="85"/>
                      </a:lnTo>
                      <a:lnTo>
                        <a:pt x="58" y="108"/>
                      </a:lnTo>
                      <a:lnTo>
                        <a:pt x="67" y="131"/>
                      </a:lnTo>
                      <a:lnTo>
                        <a:pt x="84" y="147"/>
                      </a:lnTo>
                      <a:lnTo>
                        <a:pt x="92" y="170"/>
                      </a:lnTo>
                      <a:lnTo>
                        <a:pt x="109" y="185"/>
                      </a:lnTo>
                      <a:lnTo>
                        <a:pt x="117" y="208"/>
                      </a:lnTo>
                      <a:lnTo>
                        <a:pt x="134" y="231"/>
                      </a:lnTo>
                      <a:lnTo>
                        <a:pt x="142" y="247"/>
                      </a:lnTo>
                      <a:lnTo>
                        <a:pt x="159" y="270"/>
                      </a:lnTo>
                      <a:lnTo>
                        <a:pt x="167" y="285"/>
                      </a:lnTo>
                      <a:lnTo>
                        <a:pt x="175" y="308"/>
                      </a:lnTo>
                      <a:lnTo>
                        <a:pt x="192" y="323"/>
                      </a:lnTo>
                      <a:lnTo>
                        <a:pt x="209" y="316"/>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Freeform 431"/>
                <p:cNvSpPr/>
                <p:nvPr/>
              </p:nvSpPr>
              <p:spPr>
                <a:xfrm flipH="1">
                  <a:off x="327960" y="185940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0" y="8"/>
                      </a:moveTo>
                      <a:lnTo>
                        <a:pt x="0" y="16"/>
                      </a:lnTo>
                      <a:lnTo>
                        <a:pt x="8" y="16"/>
                      </a:lnTo>
                      <a:lnTo>
                        <a:pt x="17" y="16"/>
                      </a:lnTo>
                      <a:lnTo>
                        <a:pt x="17" y="8"/>
                      </a:lnTo>
                      <a:lnTo>
                        <a:pt x="17" y="0"/>
                      </a:lnTo>
                      <a:lnTo>
                        <a:pt x="0"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Freeform 430"/>
                <p:cNvSpPr/>
                <p:nvPr/>
              </p:nvSpPr>
              <p:spPr>
                <a:xfrm flipH="1">
                  <a:off x="320040" y="1853280"/>
                  <a:ext cx="2880" cy="2880"/>
                </a:xfrm>
                <a:custGeom>
                  <a:avLst/>
                  <a:gdLst>
                    <a:gd name="textAreaLeft" fmla="*/ 360 w 2880"/>
                    <a:gd name="textAreaRight" fmla="*/ 3600 w 2880"/>
                    <a:gd name="textAreaTop" fmla="*/ 0 h 2880"/>
                    <a:gd name="textAreaBottom" fmla="*/ 3240 h 2880"/>
                  </a:gdLst>
                  <a:ahLst/>
                  <a:rect l="textAreaLeft" t="textAreaTop" r="textAreaRight" b="textAreaBottom"/>
                  <a:pathLst>
                    <a:path w="16" h="15">
                      <a:moveTo>
                        <a:pt x="16" y="7"/>
                      </a:moveTo>
                      <a:lnTo>
                        <a:pt x="16" y="7"/>
                      </a:lnTo>
                      <a:lnTo>
                        <a:pt x="16" y="0"/>
                      </a:lnTo>
                      <a:lnTo>
                        <a:pt x="8" y="0"/>
                      </a:lnTo>
                      <a:lnTo>
                        <a:pt x="8" y="7"/>
                      </a:lnTo>
                      <a:lnTo>
                        <a:pt x="0" y="7"/>
                      </a:lnTo>
                      <a:lnTo>
                        <a:pt x="0" y="15"/>
                      </a:lnTo>
                      <a:lnTo>
                        <a:pt x="16" y="7"/>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Freeform 429"/>
                <p:cNvSpPr/>
                <p:nvPr/>
              </p:nvSpPr>
              <p:spPr>
                <a:xfrm flipH="1">
                  <a:off x="289800" y="1854720"/>
                  <a:ext cx="33120" cy="51480"/>
                </a:xfrm>
                <a:custGeom>
                  <a:avLst/>
                  <a:gdLst>
                    <a:gd name="textAreaLeft" fmla="*/ 0 w 33120"/>
                    <a:gd name="textAreaRight" fmla="*/ 33120 w 33120"/>
                    <a:gd name="textAreaTop" fmla="*/ 0 h 51480"/>
                    <a:gd name="textAreaBottom" fmla="*/ 51840 h 51480"/>
                  </a:gdLst>
                  <a:ahLst/>
                  <a:rect l="textAreaLeft" t="textAreaTop" r="textAreaRight" b="textAreaBottom"/>
                  <a:pathLst>
                    <a:path w="167" h="246">
                      <a:moveTo>
                        <a:pt x="167" y="239"/>
                      </a:moveTo>
                      <a:lnTo>
                        <a:pt x="159" y="223"/>
                      </a:lnTo>
                      <a:lnTo>
                        <a:pt x="150" y="208"/>
                      </a:lnTo>
                      <a:lnTo>
                        <a:pt x="142" y="193"/>
                      </a:lnTo>
                      <a:lnTo>
                        <a:pt x="133" y="177"/>
                      </a:lnTo>
                      <a:lnTo>
                        <a:pt x="125" y="162"/>
                      </a:lnTo>
                      <a:lnTo>
                        <a:pt x="117" y="146"/>
                      </a:lnTo>
                      <a:lnTo>
                        <a:pt x="100" y="131"/>
                      </a:lnTo>
                      <a:lnTo>
                        <a:pt x="92" y="116"/>
                      </a:lnTo>
                      <a:lnTo>
                        <a:pt x="83" y="108"/>
                      </a:lnTo>
                      <a:lnTo>
                        <a:pt x="75" y="93"/>
                      </a:lnTo>
                      <a:lnTo>
                        <a:pt x="67" y="77"/>
                      </a:lnTo>
                      <a:lnTo>
                        <a:pt x="58" y="62"/>
                      </a:lnTo>
                      <a:lnTo>
                        <a:pt x="50" y="46"/>
                      </a:lnTo>
                      <a:lnTo>
                        <a:pt x="42" y="31"/>
                      </a:lnTo>
                      <a:lnTo>
                        <a:pt x="25" y="16"/>
                      </a:lnTo>
                      <a:lnTo>
                        <a:pt x="16" y="0"/>
                      </a:lnTo>
                      <a:lnTo>
                        <a:pt x="0" y="8"/>
                      </a:lnTo>
                      <a:lnTo>
                        <a:pt x="8" y="23"/>
                      </a:lnTo>
                      <a:lnTo>
                        <a:pt x="16" y="39"/>
                      </a:lnTo>
                      <a:lnTo>
                        <a:pt x="33" y="54"/>
                      </a:lnTo>
                      <a:lnTo>
                        <a:pt x="42" y="70"/>
                      </a:lnTo>
                      <a:lnTo>
                        <a:pt x="50" y="85"/>
                      </a:lnTo>
                      <a:lnTo>
                        <a:pt x="58" y="100"/>
                      </a:lnTo>
                      <a:lnTo>
                        <a:pt x="67" y="116"/>
                      </a:lnTo>
                      <a:lnTo>
                        <a:pt x="75" y="131"/>
                      </a:lnTo>
                      <a:lnTo>
                        <a:pt x="83" y="146"/>
                      </a:lnTo>
                      <a:lnTo>
                        <a:pt x="92" y="162"/>
                      </a:lnTo>
                      <a:lnTo>
                        <a:pt x="108" y="170"/>
                      </a:lnTo>
                      <a:lnTo>
                        <a:pt x="117" y="193"/>
                      </a:lnTo>
                      <a:lnTo>
                        <a:pt x="125" y="200"/>
                      </a:lnTo>
                      <a:lnTo>
                        <a:pt x="133" y="216"/>
                      </a:lnTo>
                      <a:lnTo>
                        <a:pt x="142" y="231"/>
                      </a:lnTo>
                      <a:lnTo>
                        <a:pt x="150" y="246"/>
                      </a:lnTo>
                      <a:lnTo>
                        <a:pt x="167" y="239"/>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Freeform 428"/>
                <p:cNvSpPr/>
                <p:nvPr/>
              </p:nvSpPr>
              <p:spPr>
                <a:xfrm flipH="1">
                  <a:off x="320040" y="185472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6" h="16">
                      <a:moveTo>
                        <a:pt x="0" y="8"/>
                      </a:moveTo>
                      <a:lnTo>
                        <a:pt x="8" y="16"/>
                      </a:lnTo>
                      <a:lnTo>
                        <a:pt x="16" y="16"/>
                      </a:lnTo>
                      <a:lnTo>
                        <a:pt x="16" y="8"/>
                      </a:lnTo>
                      <a:lnTo>
                        <a:pt x="16" y="0"/>
                      </a:lnTo>
                      <a:lnTo>
                        <a:pt x="0"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Freeform 427"/>
                <p:cNvSpPr/>
                <p:nvPr/>
              </p:nvSpPr>
              <p:spPr>
                <a:xfrm flipH="1">
                  <a:off x="309600" y="184968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17" y="8"/>
                      </a:moveTo>
                      <a:lnTo>
                        <a:pt x="17" y="0"/>
                      </a:lnTo>
                      <a:lnTo>
                        <a:pt x="8" y="0"/>
                      </a:lnTo>
                      <a:lnTo>
                        <a:pt x="0" y="8"/>
                      </a:lnTo>
                      <a:lnTo>
                        <a:pt x="0" y="16"/>
                      </a:lnTo>
                      <a:lnTo>
                        <a:pt x="17"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Freeform 426"/>
                <p:cNvSpPr/>
                <p:nvPr/>
              </p:nvSpPr>
              <p:spPr>
                <a:xfrm flipH="1">
                  <a:off x="288000" y="1851480"/>
                  <a:ext cx="24840" cy="37080"/>
                </a:xfrm>
                <a:custGeom>
                  <a:avLst/>
                  <a:gdLst>
                    <a:gd name="textAreaLeft" fmla="*/ -360 w 24840"/>
                    <a:gd name="textAreaRight" fmla="*/ 24840 w 24840"/>
                    <a:gd name="textAreaTop" fmla="*/ 0 h 37080"/>
                    <a:gd name="textAreaBottom" fmla="*/ 37440 h 37080"/>
                  </a:gdLst>
                  <a:ahLst/>
                  <a:rect l="textAreaLeft" t="textAreaTop" r="textAreaRight" b="textAreaBottom"/>
                  <a:pathLst>
                    <a:path w="125" h="177">
                      <a:moveTo>
                        <a:pt x="125" y="169"/>
                      </a:moveTo>
                      <a:lnTo>
                        <a:pt x="125" y="161"/>
                      </a:lnTo>
                      <a:lnTo>
                        <a:pt x="117" y="146"/>
                      </a:lnTo>
                      <a:lnTo>
                        <a:pt x="109" y="138"/>
                      </a:lnTo>
                      <a:lnTo>
                        <a:pt x="100" y="123"/>
                      </a:lnTo>
                      <a:lnTo>
                        <a:pt x="92" y="115"/>
                      </a:lnTo>
                      <a:lnTo>
                        <a:pt x="92" y="108"/>
                      </a:lnTo>
                      <a:lnTo>
                        <a:pt x="83" y="92"/>
                      </a:lnTo>
                      <a:lnTo>
                        <a:pt x="75" y="85"/>
                      </a:lnTo>
                      <a:lnTo>
                        <a:pt x="67" y="69"/>
                      </a:lnTo>
                      <a:lnTo>
                        <a:pt x="58" y="61"/>
                      </a:lnTo>
                      <a:lnTo>
                        <a:pt x="50" y="54"/>
                      </a:lnTo>
                      <a:lnTo>
                        <a:pt x="42" y="38"/>
                      </a:lnTo>
                      <a:lnTo>
                        <a:pt x="42" y="31"/>
                      </a:lnTo>
                      <a:lnTo>
                        <a:pt x="33" y="15"/>
                      </a:lnTo>
                      <a:lnTo>
                        <a:pt x="25" y="8"/>
                      </a:lnTo>
                      <a:lnTo>
                        <a:pt x="17" y="0"/>
                      </a:lnTo>
                      <a:lnTo>
                        <a:pt x="0" y="8"/>
                      </a:lnTo>
                      <a:lnTo>
                        <a:pt x="8" y="15"/>
                      </a:lnTo>
                      <a:lnTo>
                        <a:pt x="17" y="31"/>
                      </a:lnTo>
                      <a:lnTo>
                        <a:pt x="25" y="38"/>
                      </a:lnTo>
                      <a:lnTo>
                        <a:pt x="25" y="46"/>
                      </a:lnTo>
                      <a:lnTo>
                        <a:pt x="33" y="61"/>
                      </a:lnTo>
                      <a:lnTo>
                        <a:pt x="42" y="69"/>
                      </a:lnTo>
                      <a:lnTo>
                        <a:pt x="50" y="85"/>
                      </a:lnTo>
                      <a:lnTo>
                        <a:pt x="58" y="92"/>
                      </a:lnTo>
                      <a:lnTo>
                        <a:pt x="67" y="100"/>
                      </a:lnTo>
                      <a:lnTo>
                        <a:pt x="67" y="115"/>
                      </a:lnTo>
                      <a:lnTo>
                        <a:pt x="75" y="123"/>
                      </a:lnTo>
                      <a:lnTo>
                        <a:pt x="83" y="138"/>
                      </a:lnTo>
                      <a:lnTo>
                        <a:pt x="92" y="146"/>
                      </a:lnTo>
                      <a:lnTo>
                        <a:pt x="100" y="154"/>
                      </a:lnTo>
                      <a:lnTo>
                        <a:pt x="100" y="169"/>
                      </a:lnTo>
                      <a:lnTo>
                        <a:pt x="109" y="177"/>
                      </a:lnTo>
                      <a:lnTo>
                        <a:pt x="125" y="169"/>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Freeform 425"/>
                <p:cNvSpPr/>
                <p:nvPr/>
              </p:nvSpPr>
              <p:spPr>
                <a:xfrm flipH="1">
                  <a:off x="288000" y="1851480"/>
                  <a:ext cx="24840" cy="37080"/>
                </a:xfrm>
                <a:custGeom>
                  <a:avLst/>
                  <a:gdLst>
                    <a:gd name="textAreaLeft" fmla="*/ -360 w 24840"/>
                    <a:gd name="textAreaRight" fmla="*/ 24840 w 24840"/>
                    <a:gd name="textAreaTop" fmla="*/ 0 h 37080"/>
                    <a:gd name="textAreaBottom" fmla="*/ 37440 h 37080"/>
                  </a:gdLst>
                  <a:ahLst/>
                  <a:rect l="textAreaLeft" t="textAreaTop" r="textAreaRight" b="textAreaBottom"/>
                  <a:pathLst>
                    <a:path w="125" h="177">
                      <a:moveTo>
                        <a:pt x="125" y="169"/>
                      </a:moveTo>
                      <a:lnTo>
                        <a:pt x="125" y="161"/>
                      </a:lnTo>
                      <a:lnTo>
                        <a:pt x="117" y="146"/>
                      </a:lnTo>
                      <a:lnTo>
                        <a:pt x="109" y="138"/>
                      </a:lnTo>
                      <a:lnTo>
                        <a:pt x="100" y="123"/>
                      </a:lnTo>
                      <a:lnTo>
                        <a:pt x="92" y="115"/>
                      </a:lnTo>
                      <a:lnTo>
                        <a:pt x="92" y="108"/>
                      </a:lnTo>
                      <a:lnTo>
                        <a:pt x="83" y="92"/>
                      </a:lnTo>
                      <a:lnTo>
                        <a:pt x="75" y="85"/>
                      </a:lnTo>
                      <a:lnTo>
                        <a:pt x="67" y="69"/>
                      </a:lnTo>
                      <a:lnTo>
                        <a:pt x="58" y="61"/>
                      </a:lnTo>
                      <a:lnTo>
                        <a:pt x="50" y="54"/>
                      </a:lnTo>
                      <a:lnTo>
                        <a:pt x="42" y="38"/>
                      </a:lnTo>
                      <a:lnTo>
                        <a:pt x="42" y="31"/>
                      </a:lnTo>
                      <a:lnTo>
                        <a:pt x="33" y="15"/>
                      </a:lnTo>
                      <a:lnTo>
                        <a:pt x="25" y="8"/>
                      </a:lnTo>
                      <a:lnTo>
                        <a:pt x="17" y="0"/>
                      </a:lnTo>
                      <a:lnTo>
                        <a:pt x="0" y="8"/>
                      </a:lnTo>
                      <a:lnTo>
                        <a:pt x="8" y="15"/>
                      </a:lnTo>
                      <a:lnTo>
                        <a:pt x="17" y="31"/>
                      </a:lnTo>
                      <a:lnTo>
                        <a:pt x="25" y="38"/>
                      </a:lnTo>
                      <a:lnTo>
                        <a:pt x="25" y="46"/>
                      </a:lnTo>
                      <a:lnTo>
                        <a:pt x="33" y="61"/>
                      </a:lnTo>
                      <a:lnTo>
                        <a:pt x="42" y="69"/>
                      </a:lnTo>
                      <a:lnTo>
                        <a:pt x="50" y="85"/>
                      </a:lnTo>
                      <a:lnTo>
                        <a:pt x="58" y="92"/>
                      </a:lnTo>
                      <a:lnTo>
                        <a:pt x="67" y="100"/>
                      </a:lnTo>
                      <a:lnTo>
                        <a:pt x="67" y="115"/>
                      </a:lnTo>
                      <a:lnTo>
                        <a:pt x="75" y="123"/>
                      </a:lnTo>
                      <a:lnTo>
                        <a:pt x="83" y="138"/>
                      </a:lnTo>
                      <a:lnTo>
                        <a:pt x="92" y="146"/>
                      </a:lnTo>
                      <a:lnTo>
                        <a:pt x="100" y="154"/>
                      </a:lnTo>
                      <a:lnTo>
                        <a:pt x="100" y="169"/>
                      </a:lnTo>
                      <a:lnTo>
                        <a:pt x="109" y="177"/>
                      </a:lnTo>
                      <a:lnTo>
                        <a:pt x="125" y="169"/>
                      </a:lnTo>
                    </a:path>
                  </a:pathLst>
                </a:custGeom>
                <a:noFill/>
                <a:ln w="0">
                  <a:solidFill>
                    <a:srgbClr val="000000"/>
                  </a:solid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1" name="Freeform 424"/>
                <p:cNvSpPr/>
                <p:nvPr/>
              </p:nvSpPr>
              <p:spPr>
                <a:xfrm flipH="1">
                  <a:off x="309600" y="185148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8"/>
                      </a:moveTo>
                      <a:lnTo>
                        <a:pt x="8" y="8"/>
                      </a:lnTo>
                      <a:lnTo>
                        <a:pt x="8" y="15"/>
                      </a:lnTo>
                      <a:lnTo>
                        <a:pt x="17" y="8"/>
                      </a:lnTo>
                      <a:lnTo>
                        <a:pt x="17" y="0"/>
                      </a:lnTo>
                      <a:lnTo>
                        <a:pt x="0" y="8"/>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Freeform 423"/>
                <p:cNvSpPr/>
                <p:nvPr/>
              </p:nvSpPr>
              <p:spPr>
                <a:xfrm flipH="1">
                  <a:off x="299520" y="184500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17" y="8"/>
                      </a:moveTo>
                      <a:lnTo>
                        <a:pt x="17" y="0"/>
                      </a:lnTo>
                      <a:lnTo>
                        <a:pt x="8" y="0"/>
                      </a:lnTo>
                      <a:lnTo>
                        <a:pt x="0" y="0"/>
                      </a:lnTo>
                      <a:lnTo>
                        <a:pt x="0" y="8"/>
                      </a:lnTo>
                      <a:lnTo>
                        <a:pt x="0" y="16"/>
                      </a:lnTo>
                      <a:lnTo>
                        <a:pt x="17"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3" name="Freeform 422"/>
                <p:cNvSpPr/>
                <p:nvPr/>
              </p:nvSpPr>
              <p:spPr>
                <a:xfrm flipH="1">
                  <a:off x="282960" y="1846800"/>
                  <a:ext cx="19800" cy="28800"/>
                </a:xfrm>
                <a:custGeom>
                  <a:avLst/>
                  <a:gdLst>
                    <a:gd name="textAreaLeft" fmla="*/ -360 w 19800"/>
                    <a:gd name="textAreaRight" fmla="*/ 19800 w 19800"/>
                    <a:gd name="textAreaTop" fmla="*/ 0 h 28800"/>
                    <a:gd name="textAreaBottom" fmla="*/ 29160 h 28800"/>
                  </a:gdLst>
                  <a:ahLst/>
                  <a:rect l="textAreaLeft" t="textAreaTop" r="textAreaRight" b="textAreaBottom"/>
                  <a:pathLst>
                    <a:path w="100" h="138">
                      <a:moveTo>
                        <a:pt x="100" y="123"/>
                      </a:moveTo>
                      <a:lnTo>
                        <a:pt x="92" y="115"/>
                      </a:lnTo>
                      <a:lnTo>
                        <a:pt x="92" y="108"/>
                      </a:lnTo>
                      <a:lnTo>
                        <a:pt x="84" y="100"/>
                      </a:lnTo>
                      <a:lnTo>
                        <a:pt x="84" y="92"/>
                      </a:lnTo>
                      <a:lnTo>
                        <a:pt x="75" y="84"/>
                      </a:lnTo>
                      <a:lnTo>
                        <a:pt x="67" y="77"/>
                      </a:lnTo>
                      <a:lnTo>
                        <a:pt x="67" y="69"/>
                      </a:lnTo>
                      <a:lnTo>
                        <a:pt x="59" y="61"/>
                      </a:lnTo>
                      <a:lnTo>
                        <a:pt x="50" y="54"/>
                      </a:lnTo>
                      <a:lnTo>
                        <a:pt x="50" y="46"/>
                      </a:lnTo>
                      <a:lnTo>
                        <a:pt x="42" y="38"/>
                      </a:lnTo>
                      <a:lnTo>
                        <a:pt x="33" y="31"/>
                      </a:lnTo>
                      <a:lnTo>
                        <a:pt x="33" y="23"/>
                      </a:lnTo>
                      <a:lnTo>
                        <a:pt x="25" y="15"/>
                      </a:lnTo>
                      <a:lnTo>
                        <a:pt x="17" y="8"/>
                      </a:lnTo>
                      <a:lnTo>
                        <a:pt x="17" y="0"/>
                      </a:lnTo>
                      <a:lnTo>
                        <a:pt x="0" y="8"/>
                      </a:lnTo>
                      <a:lnTo>
                        <a:pt x="0" y="15"/>
                      </a:lnTo>
                      <a:lnTo>
                        <a:pt x="8" y="23"/>
                      </a:lnTo>
                      <a:lnTo>
                        <a:pt x="17" y="31"/>
                      </a:lnTo>
                      <a:lnTo>
                        <a:pt x="17" y="38"/>
                      </a:lnTo>
                      <a:lnTo>
                        <a:pt x="25" y="46"/>
                      </a:lnTo>
                      <a:lnTo>
                        <a:pt x="33" y="54"/>
                      </a:lnTo>
                      <a:lnTo>
                        <a:pt x="33" y="61"/>
                      </a:lnTo>
                      <a:lnTo>
                        <a:pt x="42" y="69"/>
                      </a:lnTo>
                      <a:lnTo>
                        <a:pt x="42" y="77"/>
                      </a:lnTo>
                      <a:lnTo>
                        <a:pt x="50" y="84"/>
                      </a:lnTo>
                      <a:lnTo>
                        <a:pt x="59" y="92"/>
                      </a:lnTo>
                      <a:lnTo>
                        <a:pt x="59" y="100"/>
                      </a:lnTo>
                      <a:lnTo>
                        <a:pt x="67" y="108"/>
                      </a:lnTo>
                      <a:lnTo>
                        <a:pt x="75" y="115"/>
                      </a:lnTo>
                      <a:lnTo>
                        <a:pt x="75" y="123"/>
                      </a:lnTo>
                      <a:lnTo>
                        <a:pt x="84" y="138"/>
                      </a:lnTo>
                      <a:lnTo>
                        <a:pt x="100" y="123"/>
                      </a:lnTo>
                      <a:close/>
                    </a:path>
                  </a:pathLst>
                </a:custGeom>
                <a:solidFill>
                  <a:srgbClr val="000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4" name="Freeform 421"/>
                <p:cNvSpPr/>
                <p:nvPr/>
              </p:nvSpPr>
              <p:spPr>
                <a:xfrm flipH="1">
                  <a:off x="282960" y="1846800"/>
                  <a:ext cx="19800" cy="28800"/>
                </a:xfrm>
                <a:custGeom>
                  <a:avLst/>
                  <a:gdLst>
                    <a:gd name="textAreaLeft" fmla="*/ -360 w 19800"/>
                    <a:gd name="textAreaRight" fmla="*/ 19800 w 19800"/>
                    <a:gd name="textAreaTop" fmla="*/ 0 h 28800"/>
                    <a:gd name="textAreaBottom" fmla="*/ 29160 h 28800"/>
                  </a:gdLst>
                  <a:ahLst/>
                  <a:rect l="textAreaLeft" t="textAreaTop" r="textAreaRight" b="textAreaBottom"/>
                  <a:pathLst>
                    <a:path w="100" h="138">
                      <a:moveTo>
                        <a:pt x="100" y="123"/>
                      </a:moveTo>
                      <a:lnTo>
                        <a:pt x="92" y="115"/>
                      </a:lnTo>
                      <a:lnTo>
                        <a:pt x="92" y="108"/>
                      </a:lnTo>
                      <a:lnTo>
                        <a:pt x="84" y="100"/>
                      </a:lnTo>
                      <a:lnTo>
                        <a:pt x="84" y="92"/>
                      </a:lnTo>
                      <a:lnTo>
                        <a:pt x="75" y="84"/>
                      </a:lnTo>
                      <a:lnTo>
                        <a:pt x="67" y="77"/>
                      </a:lnTo>
                      <a:lnTo>
                        <a:pt x="67" y="69"/>
                      </a:lnTo>
                      <a:lnTo>
                        <a:pt x="59" y="61"/>
                      </a:lnTo>
                      <a:lnTo>
                        <a:pt x="50" y="54"/>
                      </a:lnTo>
                      <a:lnTo>
                        <a:pt x="50" y="46"/>
                      </a:lnTo>
                      <a:lnTo>
                        <a:pt x="42" y="38"/>
                      </a:lnTo>
                      <a:lnTo>
                        <a:pt x="33" y="31"/>
                      </a:lnTo>
                      <a:lnTo>
                        <a:pt x="33" y="23"/>
                      </a:lnTo>
                      <a:lnTo>
                        <a:pt x="25" y="15"/>
                      </a:lnTo>
                      <a:lnTo>
                        <a:pt x="17" y="8"/>
                      </a:lnTo>
                      <a:lnTo>
                        <a:pt x="17" y="0"/>
                      </a:lnTo>
                      <a:lnTo>
                        <a:pt x="0" y="8"/>
                      </a:lnTo>
                      <a:lnTo>
                        <a:pt x="0" y="15"/>
                      </a:lnTo>
                      <a:lnTo>
                        <a:pt x="8" y="23"/>
                      </a:lnTo>
                      <a:lnTo>
                        <a:pt x="17" y="31"/>
                      </a:lnTo>
                      <a:lnTo>
                        <a:pt x="17" y="38"/>
                      </a:lnTo>
                      <a:lnTo>
                        <a:pt x="25" y="46"/>
                      </a:lnTo>
                      <a:lnTo>
                        <a:pt x="33" y="54"/>
                      </a:lnTo>
                      <a:lnTo>
                        <a:pt x="33" y="61"/>
                      </a:lnTo>
                      <a:lnTo>
                        <a:pt x="42" y="69"/>
                      </a:lnTo>
                      <a:lnTo>
                        <a:pt x="42" y="77"/>
                      </a:lnTo>
                      <a:lnTo>
                        <a:pt x="50" y="84"/>
                      </a:lnTo>
                      <a:lnTo>
                        <a:pt x="59" y="92"/>
                      </a:lnTo>
                      <a:lnTo>
                        <a:pt x="59" y="100"/>
                      </a:lnTo>
                      <a:lnTo>
                        <a:pt x="67" y="108"/>
                      </a:lnTo>
                      <a:lnTo>
                        <a:pt x="75" y="115"/>
                      </a:lnTo>
                      <a:lnTo>
                        <a:pt x="75" y="123"/>
                      </a:lnTo>
                      <a:lnTo>
                        <a:pt x="84" y="138"/>
                      </a:lnTo>
                      <a:lnTo>
                        <a:pt x="100" y="123"/>
                      </a:lnTo>
                    </a:path>
                  </a:pathLst>
                </a:custGeom>
                <a:noFill/>
                <a:ln w="0">
                  <a:solidFill>
                    <a:srgbClr val="000000"/>
                  </a:solid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5" name="Freeform 420"/>
                <p:cNvSpPr/>
                <p:nvPr/>
              </p:nvSpPr>
              <p:spPr>
                <a:xfrm flipH="1">
                  <a:off x="299520" y="184680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8"/>
                      </a:moveTo>
                      <a:lnTo>
                        <a:pt x="0" y="8"/>
                      </a:lnTo>
                      <a:lnTo>
                        <a:pt x="8" y="8"/>
                      </a:lnTo>
                      <a:lnTo>
                        <a:pt x="17" y="8"/>
                      </a:lnTo>
                      <a:lnTo>
                        <a:pt x="17" y="0"/>
                      </a:lnTo>
                      <a:lnTo>
                        <a:pt x="0"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Freeform 419"/>
                <p:cNvSpPr/>
                <p:nvPr/>
              </p:nvSpPr>
              <p:spPr>
                <a:xfrm flipH="1">
                  <a:off x="289440" y="184176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7"/>
                      </a:moveTo>
                      <a:lnTo>
                        <a:pt x="17" y="0"/>
                      </a:lnTo>
                      <a:lnTo>
                        <a:pt x="9" y="0"/>
                      </a:lnTo>
                      <a:lnTo>
                        <a:pt x="0" y="0"/>
                      </a:lnTo>
                      <a:lnTo>
                        <a:pt x="0" y="7"/>
                      </a:lnTo>
                      <a:lnTo>
                        <a:pt x="0" y="15"/>
                      </a:lnTo>
                      <a:lnTo>
                        <a:pt x="17" y="7"/>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7" name="Freeform 418"/>
                <p:cNvSpPr/>
                <p:nvPr/>
              </p:nvSpPr>
              <p:spPr>
                <a:xfrm flipH="1">
                  <a:off x="279360" y="18432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67" h="77">
                      <a:moveTo>
                        <a:pt x="67" y="62"/>
                      </a:moveTo>
                      <a:lnTo>
                        <a:pt x="59" y="54"/>
                      </a:lnTo>
                      <a:lnTo>
                        <a:pt x="50" y="47"/>
                      </a:lnTo>
                      <a:lnTo>
                        <a:pt x="50" y="39"/>
                      </a:lnTo>
                      <a:lnTo>
                        <a:pt x="42" y="31"/>
                      </a:lnTo>
                      <a:lnTo>
                        <a:pt x="34" y="24"/>
                      </a:lnTo>
                      <a:lnTo>
                        <a:pt x="25" y="16"/>
                      </a:lnTo>
                      <a:lnTo>
                        <a:pt x="25" y="8"/>
                      </a:lnTo>
                      <a:lnTo>
                        <a:pt x="17" y="0"/>
                      </a:lnTo>
                      <a:lnTo>
                        <a:pt x="0" y="8"/>
                      </a:lnTo>
                      <a:lnTo>
                        <a:pt x="9" y="16"/>
                      </a:lnTo>
                      <a:lnTo>
                        <a:pt x="9" y="24"/>
                      </a:lnTo>
                      <a:lnTo>
                        <a:pt x="17" y="31"/>
                      </a:lnTo>
                      <a:lnTo>
                        <a:pt x="25" y="39"/>
                      </a:lnTo>
                      <a:lnTo>
                        <a:pt x="34" y="54"/>
                      </a:lnTo>
                      <a:lnTo>
                        <a:pt x="34" y="62"/>
                      </a:lnTo>
                      <a:lnTo>
                        <a:pt x="42" y="70"/>
                      </a:lnTo>
                      <a:lnTo>
                        <a:pt x="50" y="77"/>
                      </a:lnTo>
                      <a:lnTo>
                        <a:pt x="67" y="62"/>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8" name="Freeform 417"/>
                <p:cNvSpPr/>
                <p:nvPr/>
              </p:nvSpPr>
              <p:spPr>
                <a:xfrm flipH="1">
                  <a:off x="279360" y="18432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67" h="77">
                      <a:moveTo>
                        <a:pt x="67" y="62"/>
                      </a:moveTo>
                      <a:lnTo>
                        <a:pt x="59" y="54"/>
                      </a:lnTo>
                      <a:lnTo>
                        <a:pt x="50" y="47"/>
                      </a:lnTo>
                      <a:lnTo>
                        <a:pt x="50" y="39"/>
                      </a:lnTo>
                      <a:lnTo>
                        <a:pt x="42" y="31"/>
                      </a:lnTo>
                      <a:lnTo>
                        <a:pt x="34" y="24"/>
                      </a:lnTo>
                      <a:lnTo>
                        <a:pt x="25" y="16"/>
                      </a:lnTo>
                      <a:lnTo>
                        <a:pt x="25" y="8"/>
                      </a:lnTo>
                      <a:lnTo>
                        <a:pt x="17" y="0"/>
                      </a:lnTo>
                      <a:lnTo>
                        <a:pt x="0" y="8"/>
                      </a:lnTo>
                      <a:lnTo>
                        <a:pt x="9" y="16"/>
                      </a:lnTo>
                      <a:lnTo>
                        <a:pt x="9" y="24"/>
                      </a:lnTo>
                      <a:lnTo>
                        <a:pt x="17" y="31"/>
                      </a:lnTo>
                      <a:lnTo>
                        <a:pt x="25" y="39"/>
                      </a:lnTo>
                      <a:lnTo>
                        <a:pt x="34" y="54"/>
                      </a:lnTo>
                      <a:lnTo>
                        <a:pt x="34" y="62"/>
                      </a:lnTo>
                      <a:lnTo>
                        <a:pt x="42" y="70"/>
                      </a:lnTo>
                      <a:lnTo>
                        <a:pt x="50" y="77"/>
                      </a:lnTo>
                      <a:lnTo>
                        <a:pt x="67" y="62"/>
                      </a:lnTo>
                    </a:path>
                  </a:pathLst>
                </a:custGeom>
                <a:noFill/>
                <a:ln w="0">
                  <a:solidFill>
                    <a:srgbClr val="000000"/>
                  </a:solid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Freeform 416"/>
                <p:cNvSpPr/>
                <p:nvPr/>
              </p:nvSpPr>
              <p:spPr>
                <a:xfrm flipH="1">
                  <a:off x="289440" y="184320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0" y="8"/>
                      </a:moveTo>
                      <a:lnTo>
                        <a:pt x="0" y="8"/>
                      </a:lnTo>
                      <a:lnTo>
                        <a:pt x="9" y="16"/>
                      </a:lnTo>
                      <a:lnTo>
                        <a:pt x="17" y="8"/>
                      </a:lnTo>
                      <a:lnTo>
                        <a:pt x="17" y="0"/>
                      </a:lnTo>
                      <a:lnTo>
                        <a:pt x="0"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Freeform 415"/>
                <p:cNvSpPr/>
                <p:nvPr/>
              </p:nvSpPr>
              <p:spPr>
                <a:xfrm flipH="1">
                  <a:off x="304560" y="19562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0"/>
                      </a:lnTo>
                      <a:lnTo>
                        <a:pt x="0" y="8"/>
                      </a:lnTo>
                      <a:lnTo>
                        <a:pt x="0" y="15"/>
                      </a:lnTo>
                      <a:lnTo>
                        <a:pt x="8" y="15"/>
                      </a:lnTo>
                      <a:lnTo>
                        <a:pt x="17" y="15"/>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1" name="Freeform 414"/>
                <p:cNvSpPr/>
                <p:nvPr/>
              </p:nvSpPr>
              <p:spPr>
                <a:xfrm flipH="1">
                  <a:off x="290160" y="1940040"/>
                  <a:ext cx="18000" cy="19080"/>
                </a:xfrm>
                <a:custGeom>
                  <a:avLst/>
                  <a:gdLst>
                    <a:gd name="textAreaLeft" fmla="*/ 360 w 18000"/>
                    <a:gd name="textAreaRight" fmla="*/ 18720 w 18000"/>
                    <a:gd name="textAreaTop" fmla="*/ 0 h 19080"/>
                    <a:gd name="textAreaBottom" fmla="*/ 19440 h 19080"/>
                  </a:gdLst>
                  <a:ahLst/>
                  <a:rect l="textAreaLeft" t="textAreaTop" r="textAreaRight" b="textAreaBottom"/>
                  <a:pathLst>
                    <a:path w="92" h="92">
                      <a:moveTo>
                        <a:pt x="75" y="0"/>
                      </a:moveTo>
                      <a:lnTo>
                        <a:pt x="67" y="15"/>
                      </a:lnTo>
                      <a:lnTo>
                        <a:pt x="58" y="23"/>
                      </a:lnTo>
                      <a:lnTo>
                        <a:pt x="50" y="31"/>
                      </a:lnTo>
                      <a:lnTo>
                        <a:pt x="42" y="38"/>
                      </a:lnTo>
                      <a:lnTo>
                        <a:pt x="25" y="46"/>
                      </a:lnTo>
                      <a:lnTo>
                        <a:pt x="17" y="54"/>
                      </a:lnTo>
                      <a:lnTo>
                        <a:pt x="8" y="69"/>
                      </a:lnTo>
                      <a:lnTo>
                        <a:pt x="0" y="77"/>
                      </a:lnTo>
                      <a:lnTo>
                        <a:pt x="17" y="92"/>
                      </a:lnTo>
                      <a:lnTo>
                        <a:pt x="25" y="77"/>
                      </a:lnTo>
                      <a:lnTo>
                        <a:pt x="33" y="69"/>
                      </a:lnTo>
                      <a:lnTo>
                        <a:pt x="42" y="62"/>
                      </a:lnTo>
                      <a:lnTo>
                        <a:pt x="50" y="54"/>
                      </a:lnTo>
                      <a:lnTo>
                        <a:pt x="58" y="46"/>
                      </a:lnTo>
                      <a:lnTo>
                        <a:pt x="67" y="31"/>
                      </a:lnTo>
                      <a:lnTo>
                        <a:pt x="84" y="23"/>
                      </a:lnTo>
                      <a:lnTo>
                        <a:pt x="92" y="15"/>
                      </a:lnTo>
                      <a:lnTo>
                        <a:pt x="75" y="0"/>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2" name="Freeform 413"/>
                <p:cNvSpPr/>
                <p:nvPr/>
              </p:nvSpPr>
              <p:spPr>
                <a:xfrm flipH="1">
                  <a:off x="304560" y="1954800"/>
                  <a:ext cx="3240" cy="4680"/>
                </a:xfrm>
                <a:custGeom>
                  <a:avLst/>
                  <a:gdLst>
                    <a:gd name="textAreaLeft" fmla="*/ -360 w 3240"/>
                    <a:gd name="textAreaRight" fmla="*/ 3240 w 3240"/>
                    <a:gd name="textAreaTop" fmla="*/ 0 h 4680"/>
                    <a:gd name="textAreaBottom" fmla="*/ 5040 h 4680"/>
                  </a:gdLst>
                  <a:ahLst/>
                  <a:rect l="textAreaLeft" t="textAreaTop" r="textAreaRight" b="textAreaBottom"/>
                  <a:pathLst>
                    <a:path w="17" h="23">
                      <a:moveTo>
                        <a:pt x="17" y="23"/>
                      </a:moveTo>
                      <a:lnTo>
                        <a:pt x="17" y="16"/>
                      </a:lnTo>
                      <a:lnTo>
                        <a:pt x="17" y="8"/>
                      </a:lnTo>
                      <a:lnTo>
                        <a:pt x="8" y="8"/>
                      </a:lnTo>
                      <a:lnTo>
                        <a:pt x="8" y="0"/>
                      </a:lnTo>
                      <a:lnTo>
                        <a:pt x="0" y="8"/>
                      </a:lnTo>
                      <a:lnTo>
                        <a:pt x="17" y="23"/>
                      </a:lnTo>
                      <a:close/>
                    </a:path>
                  </a:pathLst>
                </a:custGeom>
                <a:solidFill>
                  <a:srgbClr val="000000"/>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3" name="Freeform 412"/>
                <p:cNvSpPr/>
                <p:nvPr/>
              </p:nvSpPr>
              <p:spPr>
                <a:xfrm flipH="1">
                  <a:off x="316440" y="195300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0"/>
                      </a:lnTo>
                      <a:lnTo>
                        <a:pt x="0" y="7"/>
                      </a:lnTo>
                      <a:lnTo>
                        <a:pt x="0" y="15"/>
                      </a:lnTo>
                      <a:lnTo>
                        <a:pt x="9" y="15"/>
                      </a:lnTo>
                      <a:lnTo>
                        <a:pt x="17" y="15"/>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4" name="Freeform 411"/>
                <p:cNvSpPr/>
                <p:nvPr/>
              </p:nvSpPr>
              <p:spPr>
                <a:xfrm flipH="1">
                  <a:off x="289800" y="1919160"/>
                  <a:ext cx="29880" cy="37080"/>
                </a:xfrm>
                <a:custGeom>
                  <a:avLst/>
                  <a:gdLst>
                    <a:gd name="textAreaLeft" fmla="*/ -360 w 29880"/>
                    <a:gd name="textAreaRight" fmla="*/ 29880 w 29880"/>
                    <a:gd name="textAreaTop" fmla="*/ 0 h 37080"/>
                    <a:gd name="textAreaBottom" fmla="*/ 37440 h 37080"/>
                  </a:gdLst>
                  <a:ahLst/>
                  <a:rect l="textAreaLeft" t="textAreaTop" r="textAreaRight" b="textAreaBottom"/>
                  <a:pathLst>
                    <a:path w="151" h="177">
                      <a:moveTo>
                        <a:pt x="134" y="0"/>
                      </a:moveTo>
                      <a:lnTo>
                        <a:pt x="126" y="15"/>
                      </a:lnTo>
                      <a:lnTo>
                        <a:pt x="117" y="23"/>
                      </a:lnTo>
                      <a:lnTo>
                        <a:pt x="109" y="31"/>
                      </a:lnTo>
                      <a:lnTo>
                        <a:pt x="101" y="38"/>
                      </a:lnTo>
                      <a:lnTo>
                        <a:pt x="92" y="54"/>
                      </a:lnTo>
                      <a:lnTo>
                        <a:pt x="84" y="62"/>
                      </a:lnTo>
                      <a:lnTo>
                        <a:pt x="76" y="69"/>
                      </a:lnTo>
                      <a:lnTo>
                        <a:pt x="67" y="85"/>
                      </a:lnTo>
                      <a:lnTo>
                        <a:pt x="59" y="92"/>
                      </a:lnTo>
                      <a:lnTo>
                        <a:pt x="51" y="100"/>
                      </a:lnTo>
                      <a:lnTo>
                        <a:pt x="42" y="115"/>
                      </a:lnTo>
                      <a:lnTo>
                        <a:pt x="34" y="123"/>
                      </a:lnTo>
                      <a:lnTo>
                        <a:pt x="26" y="131"/>
                      </a:lnTo>
                      <a:lnTo>
                        <a:pt x="17" y="146"/>
                      </a:lnTo>
                      <a:lnTo>
                        <a:pt x="9" y="154"/>
                      </a:lnTo>
                      <a:lnTo>
                        <a:pt x="0" y="162"/>
                      </a:lnTo>
                      <a:lnTo>
                        <a:pt x="17" y="177"/>
                      </a:lnTo>
                      <a:lnTo>
                        <a:pt x="26" y="162"/>
                      </a:lnTo>
                      <a:lnTo>
                        <a:pt x="34" y="154"/>
                      </a:lnTo>
                      <a:lnTo>
                        <a:pt x="42" y="146"/>
                      </a:lnTo>
                      <a:lnTo>
                        <a:pt x="51" y="131"/>
                      </a:lnTo>
                      <a:lnTo>
                        <a:pt x="59" y="123"/>
                      </a:lnTo>
                      <a:lnTo>
                        <a:pt x="67" y="115"/>
                      </a:lnTo>
                      <a:lnTo>
                        <a:pt x="76" y="100"/>
                      </a:lnTo>
                      <a:lnTo>
                        <a:pt x="84" y="92"/>
                      </a:lnTo>
                      <a:lnTo>
                        <a:pt x="92" y="85"/>
                      </a:lnTo>
                      <a:lnTo>
                        <a:pt x="101" y="77"/>
                      </a:lnTo>
                      <a:lnTo>
                        <a:pt x="109" y="62"/>
                      </a:lnTo>
                      <a:lnTo>
                        <a:pt x="117" y="54"/>
                      </a:lnTo>
                      <a:lnTo>
                        <a:pt x="126" y="46"/>
                      </a:lnTo>
                      <a:lnTo>
                        <a:pt x="134" y="31"/>
                      </a:lnTo>
                      <a:lnTo>
                        <a:pt x="143" y="23"/>
                      </a:lnTo>
                      <a:lnTo>
                        <a:pt x="151" y="15"/>
                      </a:lnTo>
                      <a:lnTo>
                        <a:pt x="134" y="0"/>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5" name="Freeform 410"/>
                <p:cNvSpPr/>
                <p:nvPr/>
              </p:nvSpPr>
              <p:spPr>
                <a:xfrm flipH="1">
                  <a:off x="316440" y="195300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7"/>
                      </a:lnTo>
                      <a:lnTo>
                        <a:pt x="17" y="0"/>
                      </a:lnTo>
                      <a:lnTo>
                        <a:pt x="9" y="0"/>
                      </a:lnTo>
                      <a:lnTo>
                        <a:pt x="0" y="0"/>
                      </a:lnTo>
                      <a:lnTo>
                        <a:pt x="17"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6" name="Freeform 409"/>
                <p:cNvSpPr/>
                <p:nvPr/>
              </p:nvSpPr>
              <p:spPr>
                <a:xfrm flipH="1">
                  <a:off x="326160" y="194976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0" y="0"/>
                      </a:moveTo>
                      <a:lnTo>
                        <a:pt x="0" y="8"/>
                      </a:lnTo>
                      <a:lnTo>
                        <a:pt x="0" y="16"/>
                      </a:lnTo>
                      <a:lnTo>
                        <a:pt x="9" y="16"/>
                      </a:lnTo>
                      <a:lnTo>
                        <a:pt x="17" y="16"/>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Freeform 408"/>
                <p:cNvSpPr/>
                <p:nvPr/>
              </p:nvSpPr>
              <p:spPr>
                <a:xfrm flipH="1">
                  <a:off x="289440" y="1901520"/>
                  <a:ext cx="39960" cy="51480"/>
                </a:xfrm>
                <a:custGeom>
                  <a:avLst/>
                  <a:gdLst>
                    <a:gd name="textAreaLeft" fmla="*/ -360 w 39960"/>
                    <a:gd name="textAreaRight" fmla="*/ 39960 w 39960"/>
                    <a:gd name="textAreaTop" fmla="*/ 0 h 51480"/>
                    <a:gd name="textAreaBottom" fmla="*/ 51840 h 51480"/>
                  </a:gdLst>
                  <a:ahLst/>
                  <a:rect l="textAreaLeft" t="textAreaTop" r="textAreaRight" b="textAreaBottom"/>
                  <a:pathLst>
                    <a:path w="201" h="247">
                      <a:moveTo>
                        <a:pt x="193" y="0"/>
                      </a:moveTo>
                      <a:lnTo>
                        <a:pt x="176" y="16"/>
                      </a:lnTo>
                      <a:lnTo>
                        <a:pt x="159" y="31"/>
                      </a:lnTo>
                      <a:lnTo>
                        <a:pt x="151" y="47"/>
                      </a:lnTo>
                      <a:lnTo>
                        <a:pt x="134" y="54"/>
                      </a:lnTo>
                      <a:lnTo>
                        <a:pt x="126" y="70"/>
                      </a:lnTo>
                      <a:lnTo>
                        <a:pt x="109" y="85"/>
                      </a:lnTo>
                      <a:lnTo>
                        <a:pt x="101" y="100"/>
                      </a:lnTo>
                      <a:lnTo>
                        <a:pt x="92" y="116"/>
                      </a:lnTo>
                      <a:lnTo>
                        <a:pt x="76" y="123"/>
                      </a:lnTo>
                      <a:lnTo>
                        <a:pt x="67" y="139"/>
                      </a:lnTo>
                      <a:lnTo>
                        <a:pt x="59" y="154"/>
                      </a:lnTo>
                      <a:lnTo>
                        <a:pt x="42" y="170"/>
                      </a:lnTo>
                      <a:lnTo>
                        <a:pt x="34" y="185"/>
                      </a:lnTo>
                      <a:lnTo>
                        <a:pt x="25" y="200"/>
                      </a:lnTo>
                      <a:lnTo>
                        <a:pt x="17" y="216"/>
                      </a:lnTo>
                      <a:lnTo>
                        <a:pt x="0" y="231"/>
                      </a:lnTo>
                      <a:lnTo>
                        <a:pt x="17" y="247"/>
                      </a:lnTo>
                      <a:lnTo>
                        <a:pt x="34" y="223"/>
                      </a:lnTo>
                      <a:lnTo>
                        <a:pt x="42" y="208"/>
                      </a:lnTo>
                      <a:lnTo>
                        <a:pt x="50" y="193"/>
                      </a:lnTo>
                      <a:lnTo>
                        <a:pt x="59" y="177"/>
                      </a:lnTo>
                      <a:lnTo>
                        <a:pt x="76" y="162"/>
                      </a:lnTo>
                      <a:lnTo>
                        <a:pt x="84" y="154"/>
                      </a:lnTo>
                      <a:lnTo>
                        <a:pt x="92" y="139"/>
                      </a:lnTo>
                      <a:lnTo>
                        <a:pt x="101" y="123"/>
                      </a:lnTo>
                      <a:lnTo>
                        <a:pt x="117" y="108"/>
                      </a:lnTo>
                      <a:lnTo>
                        <a:pt x="126" y="93"/>
                      </a:lnTo>
                      <a:lnTo>
                        <a:pt x="142" y="85"/>
                      </a:lnTo>
                      <a:lnTo>
                        <a:pt x="151" y="70"/>
                      </a:lnTo>
                      <a:lnTo>
                        <a:pt x="167" y="54"/>
                      </a:lnTo>
                      <a:lnTo>
                        <a:pt x="176" y="39"/>
                      </a:lnTo>
                      <a:lnTo>
                        <a:pt x="193" y="31"/>
                      </a:lnTo>
                      <a:lnTo>
                        <a:pt x="201" y="16"/>
                      </a:lnTo>
                      <a:lnTo>
                        <a:pt x="193" y="0"/>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Freeform 407"/>
                <p:cNvSpPr/>
                <p:nvPr/>
              </p:nvSpPr>
              <p:spPr>
                <a:xfrm flipH="1">
                  <a:off x="325080" y="194976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6" h="16">
                      <a:moveTo>
                        <a:pt x="8" y="16"/>
                      </a:moveTo>
                      <a:lnTo>
                        <a:pt x="16" y="8"/>
                      </a:lnTo>
                      <a:lnTo>
                        <a:pt x="16" y="0"/>
                      </a:lnTo>
                      <a:lnTo>
                        <a:pt x="8" y="0"/>
                      </a:lnTo>
                      <a:lnTo>
                        <a:pt x="0" y="0"/>
                      </a:lnTo>
                      <a:lnTo>
                        <a:pt x="8"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Freeform 406"/>
                <p:cNvSpPr/>
                <p:nvPr/>
              </p:nvSpPr>
              <p:spPr>
                <a:xfrm flipH="1">
                  <a:off x="337680" y="194652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0"/>
                      </a:lnTo>
                      <a:lnTo>
                        <a:pt x="0" y="7"/>
                      </a:lnTo>
                      <a:lnTo>
                        <a:pt x="8" y="7"/>
                      </a:lnTo>
                      <a:lnTo>
                        <a:pt x="8" y="15"/>
                      </a:lnTo>
                      <a:lnTo>
                        <a:pt x="17" y="15"/>
                      </a:lnTo>
                      <a:lnTo>
                        <a:pt x="17" y="7"/>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Freeform 405"/>
                <p:cNvSpPr/>
                <p:nvPr/>
              </p:nvSpPr>
              <p:spPr>
                <a:xfrm flipH="1">
                  <a:off x="285840" y="1878840"/>
                  <a:ext cx="55080" cy="69120"/>
                </a:xfrm>
                <a:custGeom>
                  <a:avLst/>
                  <a:gdLst>
                    <a:gd name="textAreaLeft" fmla="*/ -360 w 55080"/>
                    <a:gd name="textAreaRight" fmla="*/ 55080 w 55080"/>
                    <a:gd name="textAreaTop" fmla="*/ 0 h 69120"/>
                    <a:gd name="textAreaBottom" fmla="*/ 69480 h 69120"/>
                  </a:gdLst>
                  <a:ahLst/>
                  <a:rect l="textAreaLeft" t="textAreaTop" r="textAreaRight" b="textAreaBottom"/>
                  <a:pathLst>
                    <a:path w="276" h="330">
                      <a:moveTo>
                        <a:pt x="267" y="0"/>
                      </a:moveTo>
                      <a:lnTo>
                        <a:pt x="242" y="23"/>
                      </a:lnTo>
                      <a:lnTo>
                        <a:pt x="225" y="38"/>
                      </a:lnTo>
                      <a:lnTo>
                        <a:pt x="209" y="61"/>
                      </a:lnTo>
                      <a:lnTo>
                        <a:pt x="192" y="77"/>
                      </a:lnTo>
                      <a:lnTo>
                        <a:pt x="175" y="100"/>
                      </a:lnTo>
                      <a:lnTo>
                        <a:pt x="159" y="115"/>
                      </a:lnTo>
                      <a:lnTo>
                        <a:pt x="142" y="138"/>
                      </a:lnTo>
                      <a:lnTo>
                        <a:pt x="125" y="154"/>
                      </a:lnTo>
                      <a:lnTo>
                        <a:pt x="108" y="177"/>
                      </a:lnTo>
                      <a:lnTo>
                        <a:pt x="92" y="192"/>
                      </a:lnTo>
                      <a:lnTo>
                        <a:pt x="75" y="215"/>
                      </a:lnTo>
                      <a:lnTo>
                        <a:pt x="58" y="238"/>
                      </a:lnTo>
                      <a:lnTo>
                        <a:pt x="50" y="254"/>
                      </a:lnTo>
                      <a:lnTo>
                        <a:pt x="33" y="277"/>
                      </a:lnTo>
                      <a:lnTo>
                        <a:pt x="17" y="300"/>
                      </a:lnTo>
                      <a:lnTo>
                        <a:pt x="0" y="323"/>
                      </a:lnTo>
                      <a:lnTo>
                        <a:pt x="17" y="330"/>
                      </a:lnTo>
                      <a:lnTo>
                        <a:pt x="33" y="307"/>
                      </a:lnTo>
                      <a:lnTo>
                        <a:pt x="50" y="292"/>
                      </a:lnTo>
                      <a:lnTo>
                        <a:pt x="67" y="269"/>
                      </a:lnTo>
                      <a:lnTo>
                        <a:pt x="75" y="246"/>
                      </a:lnTo>
                      <a:lnTo>
                        <a:pt x="92" y="223"/>
                      </a:lnTo>
                      <a:lnTo>
                        <a:pt x="108" y="207"/>
                      </a:lnTo>
                      <a:lnTo>
                        <a:pt x="125" y="184"/>
                      </a:lnTo>
                      <a:lnTo>
                        <a:pt x="142" y="169"/>
                      </a:lnTo>
                      <a:lnTo>
                        <a:pt x="159" y="146"/>
                      </a:lnTo>
                      <a:lnTo>
                        <a:pt x="175" y="130"/>
                      </a:lnTo>
                      <a:lnTo>
                        <a:pt x="192" y="107"/>
                      </a:lnTo>
                      <a:lnTo>
                        <a:pt x="209" y="92"/>
                      </a:lnTo>
                      <a:lnTo>
                        <a:pt x="225" y="69"/>
                      </a:lnTo>
                      <a:lnTo>
                        <a:pt x="242" y="54"/>
                      </a:lnTo>
                      <a:lnTo>
                        <a:pt x="259" y="30"/>
                      </a:lnTo>
                      <a:lnTo>
                        <a:pt x="276" y="15"/>
                      </a:lnTo>
                      <a:lnTo>
                        <a:pt x="267" y="0"/>
                      </a:lnTo>
                      <a:close/>
                    </a:path>
                  </a:pathLst>
                </a:custGeom>
                <a:solidFill>
                  <a:srgbClr val="00000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1" name="Freeform 404"/>
                <p:cNvSpPr/>
                <p:nvPr/>
              </p:nvSpPr>
              <p:spPr>
                <a:xfrm flipH="1">
                  <a:off x="285840" y="1878840"/>
                  <a:ext cx="55080" cy="69120"/>
                </a:xfrm>
                <a:custGeom>
                  <a:avLst/>
                  <a:gdLst>
                    <a:gd name="textAreaLeft" fmla="*/ -360 w 55080"/>
                    <a:gd name="textAreaRight" fmla="*/ 55080 w 55080"/>
                    <a:gd name="textAreaTop" fmla="*/ 0 h 69120"/>
                    <a:gd name="textAreaBottom" fmla="*/ 69480 h 69120"/>
                  </a:gdLst>
                  <a:ahLst/>
                  <a:rect l="textAreaLeft" t="textAreaTop" r="textAreaRight" b="textAreaBottom"/>
                  <a:pathLst>
                    <a:path w="276" h="330">
                      <a:moveTo>
                        <a:pt x="267" y="0"/>
                      </a:moveTo>
                      <a:lnTo>
                        <a:pt x="242" y="23"/>
                      </a:lnTo>
                      <a:lnTo>
                        <a:pt x="225" y="38"/>
                      </a:lnTo>
                      <a:lnTo>
                        <a:pt x="209" y="61"/>
                      </a:lnTo>
                      <a:lnTo>
                        <a:pt x="192" y="77"/>
                      </a:lnTo>
                      <a:lnTo>
                        <a:pt x="175" y="100"/>
                      </a:lnTo>
                      <a:lnTo>
                        <a:pt x="159" y="115"/>
                      </a:lnTo>
                      <a:lnTo>
                        <a:pt x="142" y="138"/>
                      </a:lnTo>
                      <a:lnTo>
                        <a:pt x="125" y="154"/>
                      </a:lnTo>
                      <a:lnTo>
                        <a:pt x="108" y="177"/>
                      </a:lnTo>
                      <a:lnTo>
                        <a:pt x="92" y="192"/>
                      </a:lnTo>
                      <a:lnTo>
                        <a:pt x="75" y="215"/>
                      </a:lnTo>
                      <a:lnTo>
                        <a:pt x="58" y="238"/>
                      </a:lnTo>
                      <a:lnTo>
                        <a:pt x="50" y="254"/>
                      </a:lnTo>
                      <a:lnTo>
                        <a:pt x="33" y="277"/>
                      </a:lnTo>
                      <a:lnTo>
                        <a:pt x="17" y="300"/>
                      </a:lnTo>
                      <a:lnTo>
                        <a:pt x="0" y="323"/>
                      </a:lnTo>
                      <a:lnTo>
                        <a:pt x="17" y="330"/>
                      </a:lnTo>
                      <a:lnTo>
                        <a:pt x="33" y="307"/>
                      </a:lnTo>
                      <a:lnTo>
                        <a:pt x="50" y="292"/>
                      </a:lnTo>
                      <a:lnTo>
                        <a:pt x="67" y="269"/>
                      </a:lnTo>
                      <a:lnTo>
                        <a:pt x="75" y="246"/>
                      </a:lnTo>
                      <a:lnTo>
                        <a:pt x="92" y="223"/>
                      </a:lnTo>
                      <a:lnTo>
                        <a:pt x="108" y="207"/>
                      </a:lnTo>
                      <a:lnTo>
                        <a:pt x="125" y="184"/>
                      </a:lnTo>
                      <a:lnTo>
                        <a:pt x="142" y="169"/>
                      </a:lnTo>
                      <a:lnTo>
                        <a:pt x="159" y="146"/>
                      </a:lnTo>
                      <a:lnTo>
                        <a:pt x="175" y="130"/>
                      </a:lnTo>
                      <a:lnTo>
                        <a:pt x="192" y="107"/>
                      </a:lnTo>
                      <a:lnTo>
                        <a:pt x="209" y="92"/>
                      </a:lnTo>
                      <a:lnTo>
                        <a:pt x="225" y="69"/>
                      </a:lnTo>
                      <a:lnTo>
                        <a:pt x="242" y="54"/>
                      </a:lnTo>
                      <a:lnTo>
                        <a:pt x="259" y="30"/>
                      </a:lnTo>
                      <a:lnTo>
                        <a:pt x="276" y="15"/>
                      </a:lnTo>
                      <a:lnTo>
                        <a:pt x="267" y="0"/>
                      </a:lnTo>
                    </a:path>
                  </a:pathLst>
                </a:custGeom>
                <a:noFill/>
                <a:ln w="0">
                  <a:solidFill>
                    <a:srgbClr val="000000"/>
                  </a:solid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Freeform 403"/>
                <p:cNvSpPr/>
                <p:nvPr/>
              </p:nvSpPr>
              <p:spPr>
                <a:xfrm flipH="1">
                  <a:off x="336240" y="1945080"/>
                  <a:ext cx="4680" cy="2880"/>
                </a:xfrm>
                <a:custGeom>
                  <a:avLst/>
                  <a:gdLst>
                    <a:gd name="textAreaLeft" fmla="*/ -360 w 4680"/>
                    <a:gd name="textAreaRight" fmla="*/ 4680 w 4680"/>
                    <a:gd name="textAreaTop" fmla="*/ 0 h 2880"/>
                    <a:gd name="textAreaBottom" fmla="*/ 3240 h 2880"/>
                  </a:gdLst>
                  <a:ahLst/>
                  <a:rect l="textAreaLeft" t="textAreaTop" r="textAreaRight" b="textAreaBottom"/>
                  <a:pathLst>
                    <a:path w="25" h="15">
                      <a:moveTo>
                        <a:pt x="17" y="15"/>
                      </a:moveTo>
                      <a:lnTo>
                        <a:pt x="17" y="15"/>
                      </a:lnTo>
                      <a:lnTo>
                        <a:pt x="25" y="8"/>
                      </a:lnTo>
                      <a:lnTo>
                        <a:pt x="17" y="8"/>
                      </a:lnTo>
                      <a:lnTo>
                        <a:pt x="17" y="0"/>
                      </a:lnTo>
                      <a:lnTo>
                        <a:pt x="8" y="0"/>
                      </a:lnTo>
                      <a:lnTo>
                        <a:pt x="0" y="0"/>
                      </a:lnTo>
                      <a:lnTo>
                        <a:pt x="17"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Freeform 402"/>
                <p:cNvSpPr/>
                <p:nvPr/>
              </p:nvSpPr>
              <p:spPr>
                <a:xfrm flipH="1">
                  <a:off x="344520" y="19400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8"/>
                      </a:lnTo>
                      <a:lnTo>
                        <a:pt x="0" y="15"/>
                      </a:lnTo>
                      <a:lnTo>
                        <a:pt x="9" y="15"/>
                      </a:lnTo>
                      <a:lnTo>
                        <a:pt x="17" y="15"/>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Freeform 401"/>
                <p:cNvSpPr/>
                <p:nvPr/>
              </p:nvSpPr>
              <p:spPr>
                <a:xfrm flipH="1">
                  <a:off x="281160" y="1859400"/>
                  <a:ext cx="66600" cy="83880"/>
                </a:xfrm>
                <a:custGeom>
                  <a:avLst/>
                  <a:gdLst>
                    <a:gd name="textAreaLeft" fmla="*/ -360 w 66600"/>
                    <a:gd name="textAreaRight" fmla="*/ 66600 w 66600"/>
                    <a:gd name="textAreaTop" fmla="*/ 0 h 83880"/>
                    <a:gd name="textAreaBottom" fmla="*/ 84240 h 83880"/>
                  </a:gdLst>
                  <a:ahLst/>
                  <a:rect l="textAreaLeft" t="textAreaTop" r="textAreaRight" b="textAreaBottom"/>
                  <a:pathLst>
                    <a:path w="335" h="400">
                      <a:moveTo>
                        <a:pt x="318" y="0"/>
                      </a:moveTo>
                      <a:lnTo>
                        <a:pt x="293" y="23"/>
                      </a:lnTo>
                      <a:lnTo>
                        <a:pt x="268" y="47"/>
                      </a:lnTo>
                      <a:lnTo>
                        <a:pt x="243" y="70"/>
                      </a:lnTo>
                      <a:lnTo>
                        <a:pt x="226" y="93"/>
                      </a:lnTo>
                      <a:lnTo>
                        <a:pt x="201" y="116"/>
                      </a:lnTo>
                      <a:lnTo>
                        <a:pt x="184" y="139"/>
                      </a:lnTo>
                      <a:lnTo>
                        <a:pt x="168" y="162"/>
                      </a:lnTo>
                      <a:lnTo>
                        <a:pt x="142" y="185"/>
                      </a:lnTo>
                      <a:lnTo>
                        <a:pt x="126" y="208"/>
                      </a:lnTo>
                      <a:lnTo>
                        <a:pt x="109" y="231"/>
                      </a:lnTo>
                      <a:lnTo>
                        <a:pt x="92" y="254"/>
                      </a:lnTo>
                      <a:lnTo>
                        <a:pt x="76" y="285"/>
                      </a:lnTo>
                      <a:lnTo>
                        <a:pt x="59" y="308"/>
                      </a:lnTo>
                      <a:lnTo>
                        <a:pt x="34" y="331"/>
                      </a:lnTo>
                      <a:lnTo>
                        <a:pt x="17" y="362"/>
                      </a:lnTo>
                      <a:lnTo>
                        <a:pt x="0" y="385"/>
                      </a:lnTo>
                      <a:lnTo>
                        <a:pt x="17" y="400"/>
                      </a:lnTo>
                      <a:lnTo>
                        <a:pt x="34" y="370"/>
                      </a:lnTo>
                      <a:lnTo>
                        <a:pt x="51" y="347"/>
                      </a:lnTo>
                      <a:lnTo>
                        <a:pt x="76" y="316"/>
                      </a:lnTo>
                      <a:lnTo>
                        <a:pt x="92" y="293"/>
                      </a:lnTo>
                      <a:lnTo>
                        <a:pt x="109" y="270"/>
                      </a:lnTo>
                      <a:lnTo>
                        <a:pt x="126" y="247"/>
                      </a:lnTo>
                      <a:lnTo>
                        <a:pt x="142" y="216"/>
                      </a:lnTo>
                      <a:lnTo>
                        <a:pt x="159" y="193"/>
                      </a:lnTo>
                      <a:lnTo>
                        <a:pt x="184" y="170"/>
                      </a:lnTo>
                      <a:lnTo>
                        <a:pt x="201" y="147"/>
                      </a:lnTo>
                      <a:lnTo>
                        <a:pt x="218" y="123"/>
                      </a:lnTo>
                      <a:lnTo>
                        <a:pt x="243" y="100"/>
                      </a:lnTo>
                      <a:lnTo>
                        <a:pt x="259" y="77"/>
                      </a:lnTo>
                      <a:lnTo>
                        <a:pt x="285" y="62"/>
                      </a:lnTo>
                      <a:lnTo>
                        <a:pt x="310" y="39"/>
                      </a:lnTo>
                      <a:lnTo>
                        <a:pt x="335" y="16"/>
                      </a:lnTo>
                      <a:lnTo>
                        <a:pt x="318" y="0"/>
                      </a:lnTo>
                      <a:close/>
                    </a:path>
                  </a:pathLst>
                </a:custGeom>
                <a:solidFill>
                  <a:srgbClr val="000000"/>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5" name="Freeform 400"/>
                <p:cNvSpPr/>
                <p:nvPr/>
              </p:nvSpPr>
              <p:spPr>
                <a:xfrm flipH="1">
                  <a:off x="281160" y="1859400"/>
                  <a:ext cx="66600" cy="83880"/>
                </a:xfrm>
                <a:custGeom>
                  <a:avLst/>
                  <a:gdLst>
                    <a:gd name="textAreaLeft" fmla="*/ -360 w 66600"/>
                    <a:gd name="textAreaRight" fmla="*/ 66600 w 66600"/>
                    <a:gd name="textAreaTop" fmla="*/ 0 h 83880"/>
                    <a:gd name="textAreaBottom" fmla="*/ 84240 h 83880"/>
                  </a:gdLst>
                  <a:ahLst/>
                  <a:rect l="textAreaLeft" t="textAreaTop" r="textAreaRight" b="textAreaBottom"/>
                  <a:pathLst>
                    <a:path w="335" h="400">
                      <a:moveTo>
                        <a:pt x="318" y="0"/>
                      </a:moveTo>
                      <a:lnTo>
                        <a:pt x="293" y="23"/>
                      </a:lnTo>
                      <a:lnTo>
                        <a:pt x="268" y="47"/>
                      </a:lnTo>
                      <a:lnTo>
                        <a:pt x="243" y="70"/>
                      </a:lnTo>
                      <a:lnTo>
                        <a:pt x="226" y="93"/>
                      </a:lnTo>
                      <a:lnTo>
                        <a:pt x="201" y="116"/>
                      </a:lnTo>
                      <a:lnTo>
                        <a:pt x="184" y="139"/>
                      </a:lnTo>
                      <a:lnTo>
                        <a:pt x="168" y="162"/>
                      </a:lnTo>
                      <a:lnTo>
                        <a:pt x="142" y="185"/>
                      </a:lnTo>
                      <a:lnTo>
                        <a:pt x="126" y="208"/>
                      </a:lnTo>
                      <a:lnTo>
                        <a:pt x="109" y="231"/>
                      </a:lnTo>
                      <a:lnTo>
                        <a:pt x="92" y="254"/>
                      </a:lnTo>
                      <a:lnTo>
                        <a:pt x="76" y="285"/>
                      </a:lnTo>
                      <a:lnTo>
                        <a:pt x="59" y="308"/>
                      </a:lnTo>
                      <a:lnTo>
                        <a:pt x="34" y="331"/>
                      </a:lnTo>
                      <a:lnTo>
                        <a:pt x="17" y="362"/>
                      </a:lnTo>
                      <a:lnTo>
                        <a:pt x="0" y="385"/>
                      </a:lnTo>
                      <a:lnTo>
                        <a:pt x="17" y="400"/>
                      </a:lnTo>
                      <a:lnTo>
                        <a:pt x="34" y="370"/>
                      </a:lnTo>
                      <a:lnTo>
                        <a:pt x="51" y="347"/>
                      </a:lnTo>
                      <a:lnTo>
                        <a:pt x="76" y="316"/>
                      </a:lnTo>
                      <a:lnTo>
                        <a:pt x="92" y="293"/>
                      </a:lnTo>
                      <a:lnTo>
                        <a:pt x="109" y="270"/>
                      </a:lnTo>
                      <a:lnTo>
                        <a:pt x="126" y="247"/>
                      </a:lnTo>
                      <a:lnTo>
                        <a:pt x="142" y="216"/>
                      </a:lnTo>
                      <a:lnTo>
                        <a:pt x="159" y="193"/>
                      </a:lnTo>
                      <a:lnTo>
                        <a:pt x="184" y="170"/>
                      </a:lnTo>
                      <a:lnTo>
                        <a:pt x="201" y="147"/>
                      </a:lnTo>
                      <a:lnTo>
                        <a:pt x="218" y="123"/>
                      </a:lnTo>
                      <a:lnTo>
                        <a:pt x="243" y="100"/>
                      </a:lnTo>
                      <a:lnTo>
                        <a:pt x="259" y="77"/>
                      </a:lnTo>
                      <a:lnTo>
                        <a:pt x="285" y="62"/>
                      </a:lnTo>
                      <a:lnTo>
                        <a:pt x="310" y="39"/>
                      </a:lnTo>
                      <a:lnTo>
                        <a:pt x="335" y="16"/>
                      </a:lnTo>
                      <a:lnTo>
                        <a:pt x="318" y="0"/>
                      </a:lnTo>
                    </a:path>
                  </a:pathLst>
                </a:custGeom>
                <a:noFill/>
                <a:ln w="0">
                  <a:solidFill>
                    <a:srgbClr val="000000"/>
                  </a:solid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Freeform 399"/>
                <p:cNvSpPr/>
                <p:nvPr/>
              </p:nvSpPr>
              <p:spPr>
                <a:xfrm flipH="1">
                  <a:off x="344520" y="19400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8"/>
                      </a:lnTo>
                      <a:lnTo>
                        <a:pt x="17" y="0"/>
                      </a:lnTo>
                      <a:lnTo>
                        <a:pt x="9" y="0"/>
                      </a:lnTo>
                      <a:lnTo>
                        <a:pt x="0" y="0"/>
                      </a:lnTo>
                      <a:lnTo>
                        <a:pt x="17"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Freeform 398"/>
                <p:cNvSpPr/>
                <p:nvPr/>
              </p:nvSpPr>
              <p:spPr>
                <a:xfrm flipH="1">
                  <a:off x="348120" y="1930680"/>
                  <a:ext cx="4680" cy="2880"/>
                </a:xfrm>
                <a:custGeom>
                  <a:avLst/>
                  <a:gdLst>
                    <a:gd name="textAreaLeft" fmla="*/ -360 w 4680"/>
                    <a:gd name="textAreaRight" fmla="*/ 4680 w 4680"/>
                    <a:gd name="textAreaTop" fmla="*/ 0 h 2880"/>
                    <a:gd name="textAreaBottom" fmla="*/ 3240 h 2880"/>
                  </a:gdLst>
                  <a:ahLst/>
                  <a:rect l="textAreaLeft" t="textAreaTop" r="textAreaRight" b="textAreaBottom"/>
                  <a:pathLst>
                    <a:path w="25" h="15">
                      <a:moveTo>
                        <a:pt x="9" y="0"/>
                      </a:moveTo>
                      <a:lnTo>
                        <a:pt x="0" y="0"/>
                      </a:lnTo>
                      <a:lnTo>
                        <a:pt x="0" y="8"/>
                      </a:lnTo>
                      <a:lnTo>
                        <a:pt x="9" y="8"/>
                      </a:lnTo>
                      <a:lnTo>
                        <a:pt x="9" y="15"/>
                      </a:lnTo>
                      <a:lnTo>
                        <a:pt x="17" y="15"/>
                      </a:lnTo>
                      <a:lnTo>
                        <a:pt x="25" y="8"/>
                      </a:lnTo>
                      <a:lnTo>
                        <a:pt x="9"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Freeform 397"/>
                <p:cNvSpPr/>
                <p:nvPr/>
              </p:nvSpPr>
              <p:spPr>
                <a:xfrm flipH="1">
                  <a:off x="276480" y="1841760"/>
                  <a:ext cx="74880" cy="90360"/>
                </a:xfrm>
                <a:custGeom>
                  <a:avLst/>
                  <a:gdLst>
                    <a:gd name="textAreaLeft" fmla="*/ 360 w 74880"/>
                    <a:gd name="textAreaRight" fmla="*/ 75600 w 74880"/>
                    <a:gd name="textAreaTop" fmla="*/ 0 h 90360"/>
                    <a:gd name="textAreaBottom" fmla="*/ 90720 h 90360"/>
                  </a:gdLst>
                  <a:ahLst/>
                  <a:rect l="textAreaLeft" t="textAreaTop" r="textAreaRight" b="textAreaBottom"/>
                  <a:pathLst>
                    <a:path w="376" h="431">
                      <a:moveTo>
                        <a:pt x="359" y="0"/>
                      </a:moveTo>
                      <a:lnTo>
                        <a:pt x="334" y="23"/>
                      </a:lnTo>
                      <a:lnTo>
                        <a:pt x="309" y="46"/>
                      </a:lnTo>
                      <a:lnTo>
                        <a:pt x="284" y="69"/>
                      </a:lnTo>
                      <a:lnTo>
                        <a:pt x="259" y="92"/>
                      </a:lnTo>
                      <a:lnTo>
                        <a:pt x="234" y="115"/>
                      </a:lnTo>
                      <a:lnTo>
                        <a:pt x="209" y="138"/>
                      </a:lnTo>
                      <a:lnTo>
                        <a:pt x="184" y="169"/>
                      </a:lnTo>
                      <a:lnTo>
                        <a:pt x="158" y="192"/>
                      </a:lnTo>
                      <a:lnTo>
                        <a:pt x="142" y="223"/>
                      </a:lnTo>
                      <a:lnTo>
                        <a:pt x="117" y="246"/>
                      </a:lnTo>
                      <a:lnTo>
                        <a:pt x="100" y="277"/>
                      </a:lnTo>
                      <a:lnTo>
                        <a:pt x="75" y="307"/>
                      </a:lnTo>
                      <a:lnTo>
                        <a:pt x="58" y="331"/>
                      </a:lnTo>
                      <a:lnTo>
                        <a:pt x="33" y="361"/>
                      </a:lnTo>
                      <a:lnTo>
                        <a:pt x="16" y="392"/>
                      </a:lnTo>
                      <a:lnTo>
                        <a:pt x="0" y="423"/>
                      </a:lnTo>
                      <a:lnTo>
                        <a:pt x="16" y="431"/>
                      </a:lnTo>
                      <a:lnTo>
                        <a:pt x="33" y="400"/>
                      </a:lnTo>
                      <a:lnTo>
                        <a:pt x="50" y="369"/>
                      </a:lnTo>
                      <a:lnTo>
                        <a:pt x="75" y="346"/>
                      </a:lnTo>
                      <a:lnTo>
                        <a:pt x="92" y="315"/>
                      </a:lnTo>
                      <a:lnTo>
                        <a:pt x="117" y="284"/>
                      </a:lnTo>
                      <a:lnTo>
                        <a:pt x="133" y="261"/>
                      </a:lnTo>
                      <a:lnTo>
                        <a:pt x="158" y="231"/>
                      </a:lnTo>
                      <a:lnTo>
                        <a:pt x="175" y="207"/>
                      </a:lnTo>
                      <a:lnTo>
                        <a:pt x="200" y="177"/>
                      </a:lnTo>
                      <a:lnTo>
                        <a:pt x="225" y="154"/>
                      </a:lnTo>
                      <a:lnTo>
                        <a:pt x="242" y="131"/>
                      </a:lnTo>
                      <a:lnTo>
                        <a:pt x="267" y="107"/>
                      </a:lnTo>
                      <a:lnTo>
                        <a:pt x="292" y="84"/>
                      </a:lnTo>
                      <a:lnTo>
                        <a:pt x="317" y="61"/>
                      </a:lnTo>
                      <a:lnTo>
                        <a:pt x="342" y="38"/>
                      </a:lnTo>
                      <a:lnTo>
                        <a:pt x="376" y="15"/>
                      </a:lnTo>
                      <a:lnTo>
                        <a:pt x="359" y="0"/>
                      </a:lnTo>
                      <a:close/>
                    </a:path>
                  </a:pathLst>
                </a:custGeom>
                <a:solidFill>
                  <a:srgbClr val="000000"/>
                </a:solidFill>
                <a:ln w="0">
                  <a:noFill/>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9" name="Freeform 396"/>
                <p:cNvSpPr/>
                <p:nvPr/>
              </p:nvSpPr>
              <p:spPr>
                <a:xfrm flipH="1">
                  <a:off x="276480" y="1841760"/>
                  <a:ext cx="74880" cy="90360"/>
                </a:xfrm>
                <a:custGeom>
                  <a:avLst/>
                  <a:gdLst>
                    <a:gd name="textAreaLeft" fmla="*/ 360 w 74880"/>
                    <a:gd name="textAreaRight" fmla="*/ 75600 w 74880"/>
                    <a:gd name="textAreaTop" fmla="*/ 0 h 90360"/>
                    <a:gd name="textAreaBottom" fmla="*/ 90720 h 90360"/>
                  </a:gdLst>
                  <a:ahLst/>
                  <a:rect l="textAreaLeft" t="textAreaTop" r="textAreaRight" b="textAreaBottom"/>
                  <a:pathLst>
                    <a:path w="376" h="431">
                      <a:moveTo>
                        <a:pt x="359" y="0"/>
                      </a:moveTo>
                      <a:lnTo>
                        <a:pt x="334" y="23"/>
                      </a:lnTo>
                      <a:lnTo>
                        <a:pt x="309" y="46"/>
                      </a:lnTo>
                      <a:lnTo>
                        <a:pt x="284" y="69"/>
                      </a:lnTo>
                      <a:lnTo>
                        <a:pt x="259" y="92"/>
                      </a:lnTo>
                      <a:lnTo>
                        <a:pt x="234" y="115"/>
                      </a:lnTo>
                      <a:lnTo>
                        <a:pt x="209" y="138"/>
                      </a:lnTo>
                      <a:lnTo>
                        <a:pt x="184" y="169"/>
                      </a:lnTo>
                      <a:lnTo>
                        <a:pt x="158" y="192"/>
                      </a:lnTo>
                      <a:lnTo>
                        <a:pt x="142" y="223"/>
                      </a:lnTo>
                      <a:lnTo>
                        <a:pt x="117" y="246"/>
                      </a:lnTo>
                      <a:lnTo>
                        <a:pt x="100" y="277"/>
                      </a:lnTo>
                      <a:lnTo>
                        <a:pt x="75" y="307"/>
                      </a:lnTo>
                      <a:lnTo>
                        <a:pt x="58" y="331"/>
                      </a:lnTo>
                      <a:lnTo>
                        <a:pt x="33" y="361"/>
                      </a:lnTo>
                      <a:lnTo>
                        <a:pt x="16" y="392"/>
                      </a:lnTo>
                      <a:lnTo>
                        <a:pt x="0" y="423"/>
                      </a:lnTo>
                      <a:lnTo>
                        <a:pt x="16" y="431"/>
                      </a:lnTo>
                      <a:lnTo>
                        <a:pt x="33" y="400"/>
                      </a:lnTo>
                      <a:lnTo>
                        <a:pt x="50" y="369"/>
                      </a:lnTo>
                      <a:lnTo>
                        <a:pt x="75" y="346"/>
                      </a:lnTo>
                      <a:lnTo>
                        <a:pt x="92" y="315"/>
                      </a:lnTo>
                      <a:lnTo>
                        <a:pt x="117" y="284"/>
                      </a:lnTo>
                      <a:lnTo>
                        <a:pt x="133" y="261"/>
                      </a:lnTo>
                      <a:lnTo>
                        <a:pt x="158" y="231"/>
                      </a:lnTo>
                      <a:lnTo>
                        <a:pt x="175" y="207"/>
                      </a:lnTo>
                      <a:lnTo>
                        <a:pt x="200" y="177"/>
                      </a:lnTo>
                      <a:lnTo>
                        <a:pt x="225" y="154"/>
                      </a:lnTo>
                      <a:lnTo>
                        <a:pt x="242" y="131"/>
                      </a:lnTo>
                      <a:lnTo>
                        <a:pt x="267" y="107"/>
                      </a:lnTo>
                      <a:lnTo>
                        <a:pt x="292" y="84"/>
                      </a:lnTo>
                      <a:lnTo>
                        <a:pt x="317" y="61"/>
                      </a:lnTo>
                      <a:lnTo>
                        <a:pt x="342" y="38"/>
                      </a:lnTo>
                      <a:lnTo>
                        <a:pt x="376" y="15"/>
                      </a:lnTo>
                      <a:lnTo>
                        <a:pt x="359" y="0"/>
                      </a:lnTo>
                    </a:path>
                  </a:pathLst>
                </a:custGeom>
                <a:noFill/>
                <a:ln w="0">
                  <a:solidFill>
                    <a:srgbClr val="000000"/>
                  </a:solidFill>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Freeform 395"/>
                <p:cNvSpPr/>
                <p:nvPr/>
              </p:nvSpPr>
              <p:spPr>
                <a:xfrm flipH="1">
                  <a:off x="348480" y="192888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6" h="16">
                      <a:moveTo>
                        <a:pt x="8" y="16"/>
                      </a:moveTo>
                      <a:lnTo>
                        <a:pt x="16" y="16"/>
                      </a:lnTo>
                      <a:lnTo>
                        <a:pt x="16" y="8"/>
                      </a:lnTo>
                      <a:lnTo>
                        <a:pt x="8" y="8"/>
                      </a:lnTo>
                      <a:lnTo>
                        <a:pt x="8" y="0"/>
                      </a:lnTo>
                      <a:lnTo>
                        <a:pt x="0" y="0"/>
                      </a:lnTo>
                      <a:lnTo>
                        <a:pt x="0" y="8"/>
                      </a:lnTo>
                      <a:lnTo>
                        <a:pt x="8"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Freeform 394"/>
                <p:cNvSpPr/>
                <p:nvPr/>
              </p:nvSpPr>
              <p:spPr>
                <a:xfrm flipH="1">
                  <a:off x="349560" y="19112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0"/>
                      </a:lnTo>
                      <a:lnTo>
                        <a:pt x="0" y="7"/>
                      </a:lnTo>
                      <a:lnTo>
                        <a:pt x="9" y="15"/>
                      </a:lnTo>
                      <a:lnTo>
                        <a:pt x="17" y="15"/>
                      </a:lnTo>
                      <a:lnTo>
                        <a:pt x="17" y="7"/>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2" name="Freeform 393"/>
                <p:cNvSpPr/>
                <p:nvPr/>
              </p:nvSpPr>
              <p:spPr>
                <a:xfrm flipH="1">
                  <a:off x="289800" y="1841760"/>
                  <a:ext cx="63360" cy="70560"/>
                </a:xfrm>
                <a:custGeom>
                  <a:avLst/>
                  <a:gdLst>
                    <a:gd name="textAreaLeft" fmla="*/ 360 w 63360"/>
                    <a:gd name="textAreaRight" fmla="*/ 64080 w 63360"/>
                    <a:gd name="textAreaTop" fmla="*/ 0 h 70560"/>
                    <a:gd name="textAreaBottom" fmla="*/ 70920 h 70560"/>
                  </a:gdLst>
                  <a:ahLst/>
                  <a:rect l="textAreaLeft" t="textAreaTop" r="textAreaRight" b="textAreaBottom"/>
                  <a:pathLst>
                    <a:path w="318" h="338">
                      <a:moveTo>
                        <a:pt x="301" y="0"/>
                      </a:moveTo>
                      <a:lnTo>
                        <a:pt x="284" y="23"/>
                      </a:lnTo>
                      <a:lnTo>
                        <a:pt x="259" y="38"/>
                      </a:lnTo>
                      <a:lnTo>
                        <a:pt x="234" y="61"/>
                      </a:lnTo>
                      <a:lnTo>
                        <a:pt x="218" y="77"/>
                      </a:lnTo>
                      <a:lnTo>
                        <a:pt x="193" y="100"/>
                      </a:lnTo>
                      <a:lnTo>
                        <a:pt x="176" y="115"/>
                      </a:lnTo>
                      <a:lnTo>
                        <a:pt x="159" y="138"/>
                      </a:lnTo>
                      <a:lnTo>
                        <a:pt x="142" y="154"/>
                      </a:lnTo>
                      <a:lnTo>
                        <a:pt x="117" y="177"/>
                      </a:lnTo>
                      <a:lnTo>
                        <a:pt x="101" y="200"/>
                      </a:lnTo>
                      <a:lnTo>
                        <a:pt x="92" y="223"/>
                      </a:lnTo>
                      <a:lnTo>
                        <a:pt x="67" y="246"/>
                      </a:lnTo>
                      <a:lnTo>
                        <a:pt x="50" y="261"/>
                      </a:lnTo>
                      <a:lnTo>
                        <a:pt x="34" y="284"/>
                      </a:lnTo>
                      <a:lnTo>
                        <a:pt x="17" y="307"/>
                      </a:lnTo>
                      <a:lnTo>
                        <a:pt x="0" y="331"/>
                      </a:lnTo>
                      <a:lnTo>
                        <a:pt x="17" y="338"/>
                      </a:lnTo>
                      <a:lnTo>
                        <a:pt x="34" y="323"/>
                      </a:lnTo>
                      <a:lnTo>
                        <a:pt x="50" y="300"/>
                      </a:lnTo>
                      <a:lnTo>
                        <a:pt x="67" y="277"/>
                      </a:lnTo>
                      <a:lnTo>
                        <a:pt x="84" y="254"/>
                      </a:lnTo>
                      <a:lnTo>
                        <a:pt x="101" y="231"/>
                      </a:lnTo>
                      <a:lnTo>
                        <a:pt x="117" y="207"/>
                      </a:lnTo>
                      <a:lnTo>
                        <a:pt x="134" y="192"/>
                      </a:lnTo>
                      <a:lnTo>
                        <a:pt x="151" y="169"/>
                      </a:lnTo>
                      <a:lnTo>
                        <a:pt x="167" y="146"/>
                      </a:lnTo>
                      <a:lnTo>
                        <a:pt x="193" y="131"/>
                      </a:lnTo>
                      <a:lnTo>
                        <a:pt x="209" y="107"/>
                      </a:lnTo>
                      <a:lnTo>
                        <a:pt x="226" y="92"/>
                      </a:lnTo>
                      <a:lnTo>
                        <a:pt x="251" y="69"/>
                      </a:lnTo>
                      <a:lnTo>
                        <a:pt x="268" y="54"/>
                      </a:lnTo>
                      <a:lnTo>
                        <a:pt x="293" y="31"/>
                      </a:lnTo>
                      <a:lnTo>
                        <a:pt x="318" y="15"/>
                      </a:lnTo>
                      <a:lnTo>
                        <a:pt x="301" y="0"/>
                      </a:lnTo>
                      <a:close/>
                    </a:path>
                  </a:pathLst>
                </a:custGeom>
                <a:solidFill>
                  <a:srgbClr val="000000"/>
                </a:solidFill>
                <a:ln w="0">
                  <a:noFill/>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3" name="Freeform 392"/>
                <p:cNvSpPr/>
                <p:nvPr/>
              </p:nvSpPr>
              <p:spPr>
                <a:xfrm flipH="1">
                  <a:off x="349560" y="19112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7"/>
                      </a:lnTo>
                      <a:lnTo>
                        <a:pt x="17" y="0"/>
                      </a:lnTo>
                      <a:lnTo>
                        <a:pt x="9" y="0"/>
                      </a:lnTo>
                      <a:lnTo>
                        <a:pt x="0" y="0"/>
                      </a:lnTo>
                      <a:lnTo>
                        <a:pt x="17"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4" name="Freeform 391"/>
                <p:cNvSpPr/>
                <p:nvPr/>
              </p:nvSpPr>
              <p:spPr>
                <a:xfrm flipH="1">
                  <a:off x="344520" y="188856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0"/>
                      </a:lnTo>
                      <a:lnTo>
                        <a:pt x="0" y="8"/>
                      </a:lnTo>
                      <a:lnTo>
                        <a:pt x="9" y="8"/>
                      </a:lnTo>
                      <a:lnTo>
                        <a:pt x="9" y="15"/>
                      </a:lnTo>
                      <a:lnTo>
                        <a:pt x="17" y="8"/>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5" name="Freeform 390"/>
                <p:cNvSpPr/>
                <p:nvPr/>
              </p:nvSpPr>
              <p:spPr>
                <a:xfrm flipH="1">
                  <a:off x="314280" y="1853280"/>
                  <a:ext cx="33480" cy="37080"/>
                </a:xfrm>
                <a:custGeom>
                  <a:avLst/>
                  <a:gdLst>
                    <a:gd name="textAreaLeft" fmla="*/ -360 w 33480"/>
                    <a:gd name="textAreaRight" fmla="*/ 33480 w 33480"/>
                    <a:gd name="textAreaTop" fmla="*/ 0 h 37080"/>
                    <a:gd name="textAreaBottom" fmla="*/ 37440 h 37080"/>
                  </a:gdLst>
                  <a:ahLst/>
                  <a:rect l="textAreaLeft" t="textAreaTop" r="textAreaRight" b="textAreaBottom"/>
                  <a:pathLst>
                    <a:path w="168" h="177">
                      <a:moveTo>
                        <a:pt x="159" y="0"/>
                      </a:moveTo>
                      <a:lnTo>
                        <a:pt x="142" y="7"/>
                      </a:lnTo>
                      <a:lnTo>
                        <a:pt x="134" y="15"/>
                      </a:lnTo>
                      <a:lnTo>
                        <a:pt x="126" y="30"/>
                      </a:lnTo>
                      <a:lnTo>
                        <a:pt x="117" y="38"/>
                      </a:lnTo>
                      <a:lnTo>
                        <a:pt x="101" y="46"/>
                      </a:lnTo>
                      <a:lnTo>
                        <a:pt x="92" y="53"/>
                      </a:lnTo>
                      <a:lnTo>
                        <a:pt x="84" y="69"/>
                      </a:lnTo>
                      <a:lnTo>
                        <a:pt x="76" y="77"/>
                      </a:lnTo>
                      <a:lnTo>
                        <a:pt x="67" y="84"/>
                      </a:lnTo>
                      <a:lnTo>
                        <a:pt x="51" y="100"/>
                      </a:lnTo>
                      <a:lnTo>
                        <a:pt x="42" y="107"/>
                      </a:lnTo>
                      <a:lnTo>
                        <a:pt x="34" y="123"/>
                      </a:lnTo>
                      <a:lnTo>
                        <a:pt x="25" y="130"/>
                      </a:lnTo>
                      <a:lnTo>
                        <a:pt x="17" y="146"/>
                      </a:lnTo>
                      <a:lnTo>
                        <a:pt x="9" y="153"/>
                      </a:lnTo>
                      <a:lnTo>
                        <a:pt x="0" y="169"/>
                      </a:lnTo>
                      <a:lnTo>
                        <a:pt x="17" y="177"/>
                      </a:lnTo>
                      <a:lnTo>
                        <a:pt x="25" y="161"/>
                      </a:lnTo>
                      <a:lnTo>
                        <a:pt x="34" y="153"/>
                      </a:lnTo>
                      <a:lnTo>
                        <a:pt x="42" y="146"/>
                      </a:lnTo>
                      <a:lnTo>
                        <a:pt x="51" y="130"/>
                      </a:lnTo>
                      <a:lnTo>
                        <a:pt x="59" y="123"/>
                      </a:lnTo>
                      <a:lnTo>
                        <a:pt x="67" y="107"/>
                      </a:lnTo>
                      <a:lnTo>
                        <a:pt x="76" y="100"/>
                      </a:lnTo>
                      <a:lnTo>
                        <a:pt x="92" y="92"/>
                      </a:lnTo>
                      <a:lnTo>
                        <a:pt x="101" y="77"/>
                      </a:lnTo>
                      <a:lnTo>
                        <a:pt x="109" y="69"/>
                      </a:lnTo>
                      <a:lnTo>
                        <a:pt x="117" y="61"/>
                      </a:lnTo>
                      <a:lnTo>
                        <a:pt x="126" y="53"/>
                      </a:lnTo>
                      <a:lnTo>
                        <a:pt x="142" y="38"/>
                      </a:lnTo>
                      <a:lnTo>
                        <a:pt x="151" y="30"/>
                      </a:lnTo>
                      <a:lnTo>
                        <a:pt x="159" y="23"/>
                      </a:lnTo>
                      <a:lnTo>
                        <a:pt x="168" y="15"/>
                      </a:lnTo>
                      <a:lnTo>
                        <a:pt x="159" y="0"/>
                      </a:lnTo>
                      <a:close/>
                    </a:path>
                  </a:pathLst>
                </a:custGeom>
                <a:solidFill>
                  <a:srgbClr val="0000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6" name="Freeform 389"/>
                <p:cNvSpPr/>
                <p:nvPr/>
              </p:nvSpPr>
              <p:spPr>
                <a:xfrm flipH="1">
                  <a:off x="344520" y="188676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17" y="16"/>
                      </a:moveTo>
                      <a:lnTo>
                        <a:pt x="17" y="16"/>
                      </a:lnTo>
                      <a:lnTo>
                        <a:pt x="17" y="8"/>
                      </a:lnTo>
                      <a:lnTo>
                        <a:pt x="17" y="0"/>
                      </a:lnTo>
                      <a:lnTo>
                        <a:pt x="9" y="0"/>
                      </a:lnTo>
                      <a:lnTo>
                        <a:pt x="0" y="0"/>
                      </a:lnTo>
                      <a:lnTo>
                        <a:pt x="17"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7" name="Freeform 388"/>
                <p:cNvSpPr/>
                <p:nvPr/>
              </p:nvSpPr>
              <p:spPr>
                <a:xfrm flipH="1">
                  <a:off x="152640" y="1825560"/>
                  <a:ext cx="145080" cy="161280"/>
                </a:xfrm>
                <a:custGeom>
                  <a:avLst/>
                  <a:gdLst>
                    <a:gd name="textAreaLeft" fmla="*/ -360 w 145080"/>
                    <a:gd name="textAreaRight" fmla="*/ 145080 w 145080"/>
                    <a:gd name="textAreaTop" fmla="*/ 0 h 161280"/>
                    <a:gd name="textAreaBottom" fmla="*/ 161640 h 161280"/>
                  </a:gdLst>
                  <a:ahLst/>
                  <a:rect l="textAreaLeft" t="textAreaTop" r="textAreaRight" b="textAreaBottom"/>
                  <a:pathLst>
                    <a:path w="727" h="769">
                      <a:moveTo>
                        <a:pt x="92" y="61"/>
                      </a:moveTo>
                      <a:lnTo>
                        <a:pt x="67" y="131"/>
                      </a:lnTo>
                      <a:lnTo>
                        <a:pt x="42" y="192"/>
                      </a:lnTo>
                      <a:lnTo>
                        <a:pt x="25" y="261"/>
                      </a:lnTo>
                      <a:lnTo>
                        <a:pt x="17" y="331"/>
                      </a:lnTo>
                      <a:lnTo>
                        <a:pt x="8" y="400"/>
                      </a:lnTo>
                      <a:lnTo>
                        <a:pt x="0" y="477"/>
                      </a:lnTo>
                      <a:lnTo>
                        <a:pt x="8" y="554"/>
                      </a:lnTo>
                      <a:lnTo>
                        <a:pt x="17" y="646"/>
                      </a:lnTo>
                      <a:lnTo>
                        <a:pt x="34" y="654"/>
                      </a:lnTo>
                      <a:lnTo>
                        <a:pt x="50" y="654"/>
                      </a:lnTo>
                      <a:lnTo>
                        <a:pt x="67" y="661"/>
                      </a:lnTo>
                      <a:lnTo>
                        <a:pt x="92" y="661"/>
                      </a:lnTo>
                      <a:lnTo>
                        <a:pt x="109" y="669"/>
                      </a:lnTo>
                      <a:lnTo>
                        <a:pt x="125" y="669"/>
                      </a:lnTo>
                      <a:lnTo>
                        <a:pt x="142" y="677"/>
                      </a:lnTo>
                      <a:lnTo>
                        <a:pt x="159" y="684"/>
                      </a:lnTo>
                      <a:lnTo>
                        <a:pt x="184" y="684"/>
                      </a:lnTo>
                      <a:lnTo>
                        <a:pt x="201" y="692"/>
                      </a:lnTo>
                      <a:lnTo>
                        <a:pt x="217" y="692"/>
                      </a:lnTo>
                      <a:lnTo>
                        <a:pt x="234" y="700"/>
                      </a:lnTo>
                      <a:lnTo>
                        <a:pt x="251" y="700"/>
                      </a:lnTo>
                      <a:lnTo>
                        <a:pt x="268" y="708"/>
                      </a:lnTo>
                      <a:lnTo>
                        <a:pt x="284" y="708"/>
                      </a:lnTo>
                      <a:lnTo>
                        <a:pt x="301" y="715"/>
                      </a:lnTo>
                      <a:lnTo>
                        <a:pt x="318" y="715"/>
                      </a:lnTo>
                      <a:lnTo>
                        <a:pt x="343" y="723"/>
                      </a:lnTo>
                      <a:lnTo>
                        <a:pt x="359" y="723"/>
                      </a:lnTo>
                      <a:lnTo>
                        <a:pt x="376" y="731"/>
                      </a:lnTo>
                      <a:lnTo>
                        <a:pt x="393" y="731"/>
                      </a:lnTo>
                      <a:lnTo>
                        <a:pt x="410" y="738"/>
                      </a:lnTo>
                      <a:lnTo>
                        <a:pt x="426" y="738"/>
                      </a:lnTo>
                      <a:lnTo>
                        <a:pt x="443" y="746"/>
                      </a:lnTo>
                      <a:lnTo>
                        <a:pt x="460" y="746"/>
                      </a:lnTo>
                      <a:lnTo>
                        <a:pt x="485" y="754"/>
                      </a:lnTo>
                      <a:lnTo>
                        <a:pt x="502" y="754"/>
                      </a:lnTo>
                      <a:lnTo>
                        <a:pt x="518" y="754"/>
                      </a:lnTo>
                      <a:lnTo>
                        <a:pt x="535" y="761"/>
                      </a:lnTo>
                      <a:lnTo>
                        <a:pt x="552" y="761"/>
                      </a:lnTo>
                      <a:lnTo>
                        <a:pt x="577" y="769"/>
                      </a:lnTo>
                      <a:lnTo>
                        <a:pt x="593" y="769"/>
                      </a:lnTo>
                      <a:lnTo>
                        <a:pt x="593" y="715"/>
                      </a:lnTo>
                      <a:lnTo>
                        <a:pt x="593" y="669"/>
                      </a:lnTo>
                      <a:lnTo>
                        <a:pt x="593" y="615"/>
                      </a:lnTo>
                      <a:lnTo>
                        <a:pt x="593" y="569"/>
                      </a:lnTo>
                      <a:lnTo>
                        <a:pt x="593" y="531"/>
                      </a:lnTo>
                      <a:lnTo>
                        <a:pt x="602" y="484"/>
                      </a:lnTo>
                      <a:lnTo>
                        <a:pt x="610" y="446"/>
                      </a:lnTo>
                      <a:lnTo>
                        <a:pt x="610" y="408"/>
                      </a:lnTo>
                      <a:lnTo>
                        <a:pt x="627" y="361"/>
                      </a:lnTo>
                      <a:lnTo>
                        <a:pt x="635" y="331"/>
                      </a:lnTo>
                      <a:lnTo>
                        <a:pt x="644" y="284"/>
                      </a:lnTo>
                      <a:lnTo>
                        <a:pt x="660" y="246"/>
                      </a:lnTo>
                      <a:lnTo>
                        <a:pt x="677" y="215"/>
                      </a:lnTo>
                      <a:lnTo>
                        <a:pt x="694" y="169"/>
                      </a:lnTo>
                      <a:lnTo>
                        <a:pt x="710" y="131"/>
                      </a:lnTo>
                      <a:lnTo>
                        <a:pt x="727" y="92"/>
                      </a:lnTo>
                      <a:lnTo>
                        <a:pt x="702" y="84"/>
                      </a:lnTo>
                      <a:lnTo>
                        <a:pt x="685" y="69"/>
                      </a:lnTo>
                      <a:lnTo>
                        <a:pt x="660" y="61"/>
                      </a:lnTo>
                      <a:lnTo>
                        <a:pt x="644" y="54"/>
                      </a:lnTo>
                      <a:lnTo>
                        <a:pt x="627" y="46"/>
                      </a:lnTo>
                      <a:lnTo>
                        <a:pt x="602" y="38"/>
                      </a:lnTo>
                      <a:lnTo>
                        <a:pt x="585" y="38"/>
                      </a:lnTo>
                      <a:lnTo>
                        <a:pt x="568" y="31"/>
                      </a:lnTo>
                      <a:lnTo>
                        <a:pt x="552" y="23"/>
                      </a:lnTo>
                      <a:lnTo>
                        <a:pt x="535" y="15"/>
                      </a:lnTo>
                      <a:lnTo>
                        <a:pt x="518" y="15"/>
                      </a:lnTo>
                      <a:lnTo>
                        <a:pt x="493" y="8"/>
                      </a:lnTo>
                      <a:lnTo>
                        <a:pt x="476" y="8"/>
                      </a:lnTo>
                      <a:lnTo>
                        <a:pt x="460" y="8"/>
                      </a:lnTo>
                      <a:lnTo>
                        <a:pt x="443" y="0"/>
                      </a:lnTo>
                      <a:lnTo>
                        <a:pt x="418" y="0"/>
                      </a:lnTo>
                      <a:lnTo>
                        <a:pt x="401" y="0"/>
                      </a:lnTo>
                      <a:lnTo>
                        <a:pt x="376" y="0"/>
                      </a:lnTo>
                      <a:lnTo>
                        <a:pt x="351" y="0"/>
                      </a:lnTo>
                      <a:lnTo>
                        <a:pt x="334" y="8"/>
                      </a:lnTo>
                      <a:lnTo>
                        <a:pt x="309" y="8"/>
                      </a:lnTo>
                      <a:lnTo>
                        <a:pt x="293" y="8"/>
                      </a:lnTo>
                      <a:lnTo>
                        <a:pt x="268" y="15"/>
                      </a:lnTo>
                      <a:lnTo>
                        <a:pt x="242" y="15"/>
                      </a:lnTo>
                      <a:lnTo>
                        <a:pt x="226" y="23"/>
                      </a:lnTo>
                      <a:lnTo>
                        <a:pt x="201" y="31"/>
                      </a:lnTo>
                      <a:lnTo>
                        <a:pt x="184" y="31"/>
                      </a:lnTo>
                      <a:lnTo>
                        <a:pt x="159" y="38"/>
                      </a:lnTo>
                      <a:lnTo>
                        <a:pt x="142" y="46"/>
                      </a:lnTo>
                      <a:lnTo>
                        <a:pt x="125" y="54"/>
                      </a:lnTo>
                      <a:lnTo>
                        <a:pt x="109" y="54"/>
                      </a:lnTo>
                      <a:lnTo>
                        <a:pt x="92" y="61"/>
                      </a:lnTo>
                      <a:close/>
                    </a:path>
                  </a:pathLst>
                </a:custGeom>
                <a:solidFill>
                  <a:srgbClr val="e8e8e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Freeform 387"/>
                <p:cNvSpPr/>
                <p:nvPr/>
              </p:nvSpPr>
              <p:spPr>
                <a:xfrm flipH="1">
                  <a:off x="152640" y="1825560"/>
                  <a:ext cx="145080" cy="161280"/>
                </a:xfrm>
                <a:custGeom>
                  <a:avLst/>
                  <a:gdLst>
                    <a:gd name="textAreaLeft" fmla="*/ -360 w 145080"/>
                    <a:gd name="textAreaRight" fmla="*/ 145080 w 145080"/>
                    <a:gd name="textAreaTop" fmla="*/ 0 h 161280"/>
                    <a:gd name="textAreaBottom" fmla="*/ 161640 h 161280"/>
                  </a:gdLst>
                  <a:ahLst/>
                  <a:rect l="textAreaLeft" t="textAreaTop" r="textAreaRight" b="textAreaBottom"/>
                  <a:pathLst>
                    <a:path w="727" h="769">
                      <a:moveTo>
                        <a:pt x="92" y="61"/>
                      </a:moveTo>
                      <a:lnTo>
                        <a:pt x="67" y="131"/>
                      </a:lnTo>
                      <a:lnTo>
                        <a:pt x="42" y="192"/>
                      </a:lnTo>
                      <a:lnTo>
                        <a:pt x="25" y="261"/>
                      </a:lnTo>
                      <a:lnTo>
                        <a:pt x="17" y="331"/>
                      </a:lnTo>
                      <a:lnTo>
                        <a:pt x="8" y="400"/>
                      </a:lnTo>
                      <a:lnTo>
                        <a:pt x="0" y="477"/>
                      </a:lnTo>
                      <a:lnTo>
                        <a:pt x="8" y="554"/>
                      </a:lnTo>
                      <a:lnTo>
                        <a:pt x="17" y="646"/>
                      </a:lnTo>
                      <a:lnTo>
                        <a:pt x="34" y="654"/>
                      </a:lnTo>
                      <a:lnTo>
                        <a:pt x="50" y="654"/>
                      </a:lnTo>
                      <a:lnTo>
                        <a:pt x="67" y="661"/>
                      </a:lnTo>
                      <a:lnTo>
                        <a:pt x="92" y="661"/>
                      </a:lnTo>
                      <a:lnTo>
                        <a:pt x="109" y="669"/>
                      </a:lnTo>
                      <a:lnTo>
                        <a:pt x="125" y="669"/>
                      </a:lnTo>
                      <a:lnTo>
                        <a:pt x="142" y="677"/>
                      </a:lnTo>
                      <a:lnTo>
                        <a:pt x="159" y="684"/>
                      </a:lnTo>
                      <a:lnTo>
                        <a:pt x="184" y="684"/>
                      </a:lnTo>
                      <a:lnTo>
                        <a:pt x="201" y="692"/>
                      </a:lnTo>
                      <a:lnTo>
                        <a:pt x="217" y="692"/>
                      </a:lnTo>
                      <a:lnTo>
                        <a:pt x="234" y="700"/>
                      </a:lnTo>
                      <a:lnTo>
                        <a:pt x="251" y="700"/>
                      </a:lnTo>
                      <a:lnTo>
                        <a:pt x="268" y="708"/>
                      </a:lnTo>
                      <a:lnTo>
                        <a:pt x="284" y="708"/>
                      </a:lnTo>
                      <a:lnTo>
                        <a:pt x="301" y="715"/>
                      </a:lnTo>
                      <a:lnTo>
                        <a:pt x="318" y="715"/>
                      </a:lnTo>
                      <a:lnTo>
                        <a:pt x="343" y="723"/>
                      </a:lnTo>
                      <a:lnTo>
                        <a:pt x="359" y="723"/>
                      </a:lnTo>
                      <a:lnTo>
                        <a:pt x="376" y="731"/>
                      </a:lnTo>
                      <a:lnTo>
                        <a:pt x="393" y="731"/>
                      </a:lnTo>
                      <a:lnTo>
                        <a:pt x="410" y="738"/>
                      </a:lnTo>
                      <a:lnTo>
                        <a:pt x="426" y="738"/>
                      </a:lnTo>
                      <a:lnTo>
                        <a:pt x="443" y="746"/>
                      </a:lnTo>
                      <a:lnTo>
                        <a:pt x="460" y="746"/>
                      </a:lnTo>
                      <a:lnTo>
                        <a:pt x="485" y="754"/>
                      </a:lnTo>
                      <a:lnTo>
                        <a:pt x="502" y="754"/>
                      </a:lnTo>
                      <a:lnTo>
                        <a:pt x="518" y="754"/>
                      </a:lnTo>
                      <a:lnTo>
                        <a:pt x="535" y="761"/>
                      </a:lnTo>
                      <a:lnTo>
                        <a:pt x="552" y="761"/>
                      </a:lnTo>
                      <a:lnTo>
                        <a:pt x="577" y="769"/>
                      </a:lnTo>
                      <a:lnTo>
                        <a:pt x="593" y="769"/>
                      </a:lnTo>
                      <a:lnTo>
                        <a:pt x="593" y="715"/>
                      </a:lnTo>
                      <a:lnTo>
                        <a:pt x="593" y="669"/>
                      </a:lnTo>
                      <a:lnTo>
                        <a:pt x="593" y="615"/>
                      </a:lnTo>
                      <a:lnTo>
                        <a:pt x="593" y="569"/>
                      </a:lnTo>
                      <a:lnTo>
                        <a:pt x="593" y="531"/>
                      </a:lnTo>
                      <a:lnTo>
                        <a:pt x="602" y="484"/>
                      </a:lnTo>
                      <a:lnTo>
                        <a:pt x="610" y="446"/>
                      </a:lnTo>
                      <a:lnTo>
                        <a:pt x="610" y="408"/>
                      </a:lnTo>
                      <a:lnTo>
                        <a:pt x="627" y="361"/>
                      </a:lnTo>
                      <a:lnTo>
                        <a:pt x="635" y="331"/>
                      </a:lnTo>
                      <a:lnTo>
                        <a:pt x="644" y="284"/>
                      </a:lnTo>
                      <a:lnTo>
                        <a:pt x="660" y="246"/>
                      </a:lnTo>
                      <a:lnTo>
                        <a:pt x="677" y="215"/>
                      </a:lnTo>
                      <a:lnTo>
                        <a:pt x="694" y="169"/>
                      </a:lnTo>
                      <a:lnTo>
                        <a:pt x="710" y="131"/>
                      </a:lnTo>
                      <a:lnTo>
                        <a:pt x="727" y="92"/>
                      </a:lnTo>
                      <a:lnTo>
                        <a:pt x="702" y="84"/>
                      </a:lnTo>
                      <a:lnTo>
                        <a:pt x="685" y="69"/>
                      </a:lnTo>
                      <a:lnTo>
                        <a:pt x="660" y="61"/>
                      </a:lnTo>
                      <a:lnTo>
                        <a:pt x="644" y="54"/>
                      </a:lnTo>
                      <a:lnTo>
                        <a:pt x="627" y="46"/>
                      </a:lnTo>
                      <a:lnTo>
                        <a:pt x="602" y="38"/>
                      </a:lnTo>
                      <a:lnTo>
                        <a:pt x="585" y="38"/>
                      </a:lnTo>
                      <a:lnTo>
                        <a:pt x="568" y="31"/>
                      </a:lnTo>
                      <a:lnTo>
                        <a:pt x="552" y="23"/>
                      </a:lnTo>
                      <a:lnTo>
                        <a:pt x="535" y="15"/>
                      </a:lnTo>
                      <a:lnTo>
                        <a:pt x="518" y="15"/>
                      </a:lnTo>
                      <a:lnTo>
                        <a:pt x="493" y="8"/>
                      </a:lnTo>
                      <a:lnTo>
                        <a:pt x="476" y="8"/>
                      </a:lnTo>
                      <a:lnTo>
                        <a:pt x="460" y="8"/>
                      </a:lnTo>
                      <a:lnTo>
                        <a:pt x="443" y="0"/>
                      </a:lnTo>
                      <a:lnTo>
                        <a:pt x="418" y="0"/>
                      </a:lnTo>
                      <a:lnTo>
                        <a:pt x="401" y="0"/>
                      </a:lnTo>
                      <a:lnTo>
                        <a:pt x="376" y="0"/>
                      </a:lnTo>
                      <a:lnTo>
                        <a:pt x="351" y="0"/>
                      </a:lnTo>
                      <a:lnTo>
                        <a:pt x="334" y="8"/>
                      </a:lnTo>
                      <a:lnTo>
                        <a:pt x="309" y="8"/>
                      </a:lnTo>
                      <a:lnTo>
                        <a:pt x="293" y="8"/>
                      </a:lnTo>
                      <a:lnTo>
                        <a:pt x="268" y="15"/>
                      </a:lnTo>
                      <a:lnTo>
                        <a:pt x="242" y="15"/>
                      </a:lnTo>
                      <a:lnTo>
                        <a:pt x="226" y="23"/>
                      </a:lnTo>
                      <a:lnTo>
                        <a:pt x="201" y="31"/>
                      </a:lnTo>
                      <a:lnTo>
                        <a:pt x="184" y="31"/>
                      </a:lnTo>
                      <a:lnTo>
                        <a:pt x="159" y="38"/>
                      </a:lnTo>
                      <a:lnTo>
                        <a:pt x="142" y="46"/>
                      </a:lnTo>
                      <a:lnTo>
                        <a:pt x="125" y="54"/>
                      </a:lnTo>
                      <a:lnTo>
                        <a:pt x="109" y="54"/>
                      </a:lnTo>
                      <a:lnTo>
                        <a:pt x="92" y="6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Freeform 386"/>
                <p:cNvSpPr/>
                <p:nvPr/>
              </p:nvSpPr>
              <p:spPr>
                <a:xfrm flipH="1">
                  <a:off x="184680" y="1845000"/>
                  <a:ext cx="90000" cy="64440"/>
                </a:xfrm>
                <a:custGeom>
                  <a:avLst/>
                  <a:gdLst>
                    <a:gd name="textAreaLeft" fmla="*/ 360 w 90000"/>
                    <a:gd name="textAreaRight" fmla="*/ 90720 w 90000"/>
                    <a:gd name="textAreaTop" fmla="*/ 0 h 64440"/>
                    <a:gd name="textAreaBottom" fmla="*/ 64800 h 64440"/>
                  </a:gdLst>
                  <a:ahLst/>
                  <a:rect l="textAreaLeft" t="textAreaTop" r="textAreaRight" b="textAreaBottom"/>
                  <a:pathLst>
                    <a:path w="451" h="308">
                      <a:moveTo>
                        <a:pt x="451" y="54"/>
                      </a:moveTo>
                      <a:lnTo>
                        <a:pt x="426" y="46"/>
                      </a:lnTo>
                      <a:lnTo>
                        <a:pt x="401" y="39"/>
                      </a:lnTo>
                      <a:lnTo>
                        <a:pt x="385" y="39"/>
                      </a:lnTo>
                      <a:lnTo>
                        <a:pt x="359" y="31"/>
                      </a:lnTo>
                      <a:lnTo>
                        <a:pt x="334" y="23"/>
                      </a:lnTo>
                      <a:lnTo>
                        <a:pt x="309" y="23"/>
                      </a:lnTo>
                      <a:lnTo>
                        <a:pt x="293" y="16"/>
                      </a:lnTo>
                      <a:lnTo>
                        <a:pt x="268" y="16"/>
                      </a:lnTo>
                      <a:lnTo>
                        <a:pt x="242" y="8"/>
                      </a:lnTo>
                      <a:lnTo>
                        <a:pt x="217" y="8"/>
                      </a:lnTo>
                      <a:lnTo>
                        <a:pt x="192" y="8"/>
                      </a:lnTo>
                      <a:lnTo>
                        <a:pt x="176" y="0"/>
                      </a:lnTo>
                      <a:lnTo>
                        <a:pt x="151" y="0"/>
                      </a:lnTo>
                      <a:lnTo>
                        <a:pt x="125" y="0"/>
                      </a:lnTo>
                      <a:lnTo>
                        <a:pt x="100" y="0"/>
                      </a:lnTo>
                      <a:lnTo>
                        <a:pt x="84" y="0"/>
                      </a:lnTo>
                      <a:lnTo>
                        <a:pt x="59" y="31"/>
                      </a:lnTo>
                      <a:lnTo>
                        <a:pt x="42" y="69"/>
                      </a:lnTo>
                      <a:lnTo>
                        <a:pt x="25" y="108"/>
                      </a:lnTo>
                      <a:lnTo>
                        <a:pt x="17" y="139"/>
                      </a:lnTo>
                      <a:lnTo>
                        <a:pt x="8" y="177"/>
                      </a:lnTo>
                      <a:lnTo>
                        <a:pt x="0" y="216"/>
                      </a:lnTo>
                      <a:lnTo>
                        <a:pt x="0" y="254"/>
                      </a:lnTo>
                      <a:lnTo>
                        <a:pt x="8" y="285"/>
                      </a:lnTo>
                      <a:lnTo>
                        <a:pt x="34" y="285"/>
                      </a:lnTo>
                      <a:lnTo>
                        <a:pt x="59" y="285"/>
                      </a:lnTo>
                      <a:lnTo>
                        <a:pt x="84" y="277"/>
                      </a:lnTo>
                      <a:lnTo>
                        <a:pt x="109" y="277"/>
                      </a:lnTo>
                      <a:lnTo>
                        <a:pt x="134" y="277"/>
                      </a:lnTo>
                      <a:lnTo>
                        <a:pt x="159" y="277"/>
                      </a:lnTo>
                      <a:lnTo>
                        <a:pt x="184" y="277"/>
                      </a:lnTo>
                      <a:lnTo>
                        <a:pt x="209" y="277"/>
                      </a:lnTo>
                      <a:lnTo>
                        <a:pt x="234" y="285"/>
                      </a:lnTo>
                      <a:lnTo>
                        <a:pt x="251" y="285"/>
                      </a:lnTo>
                      <a:lnTo>
                        <a:pt x="276" y="285"/>
                      </a:lnTo>
                      <a:lnTo>
                        <a:pt x="301" y="285"/>
                      </a:lnTo>
                      <a:lnTo>
                        <a:pt x="318" y="292"/>
                      </a:lnTo>
                      <a:lnTo>
                        <a:pt x="343" y="292"/>
                      </a:lnTo>
                      <a:lnTo>
                        <a:pt x="359" y="300"/>
                      </a:lnTo>
                      <a:lnTo>
                        <a:pt x="376" y="308"/>
                      </a:lnTo>
                      <a:lnTo>
                        <a:pt x="385" y="277"/>
                      </a:lnTo>
                      <a:lnTo>
                        <a:pt x="393" y="239"/>
                      </a:lnTo>
                      <a:lnTo>
                        <a:pt x="401" y="208"/>
                      </a:lnTo>
                      <a:lnTo>
                        <a:pt x="410" y="177"/>
                      </a:lnTo>
                      <a:lnTo>
                        <a:pt x="418" y="146"/>
                      </a:lnTo>
                      <a:lnTo>
                        <a:pt x="426" y="116"/>
                      </a:lnTo>
                      <a:lnTo>
                        <a:pt x="435" y="85"/>
                      </a:lnTo>
                      <a:lnTo>
                        <a:pt x="451" y="54"/>
                      </a:lnTo>
                      <a:close/>
                    </a:path>
                  </a:pathLst>
                </a:custGeom>
                <a:solidFill>
                  <a:srgbClr val="cccccc"/>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Freeform 385"/>
                <p:cNvSpPr/>
                <p:nvPr/>
              </p:nvSpPr>
              <p:spPr>
                <a:xfrm flipH="1">
                  <a:off x="184680" y="1845000"/>
                  <a:ext cx="90000" cy="64440"/>
                </a:xfrm>
                <a:custGeom>
                  <a:avLst/>
                  <a:gdLst>
                    <a:gd name="textAreaLeft" fmla="*/ 360 w 90000"/>
                    <a:gd name="textAreaRight" fmla="*/ 90720 w 90000"/>
                    <a:gd name="textAreaTop" fmla="*/ 0 h 64440"/>
                    <a:gd name="textAreaBottom" fmla="*/ 64800 h 64440"/>
                  </a:gdLst>
                  <a:ahLst/>
                  <a:rect l="textAreaLeft" t="textAreaTop" r="textAreaRight" b="textAreaBottom"/>
                  <a:pathLst>
                    <a:path w="451" h="308">
                      <a:moveTo>
                        <a:pt x="451" y="54"/>
                      </a:moveTo>
                      <a:lnTo>
                        <a:pt x="426" y="46"/>
                      </a:lnTo>
                      <a:lnTo>
                        <a:pt x="401" y="39"/>
                      </a:lnTo>
                      <a:lnTo>
                        <a:pt x="385" y="39"/>
                      </a:lnTo>
                      <a:lnTo>
                        <a:pt x="359" y="31"/>
                      </a:lnTo>
                      <a:lnTo>
                        <a:pt x="334" y="23"/>
                      </a:lnTo>
                      <a:lnTo>
                        <a:pt x="309" y="23"/>
                      </a:lnTo>
                      <a:lnTo>
                        <a:pt x="293" y="16"/>
                      </a:lnTo>
                      <a:lnTo>
                        <a:pt x="268" y="16"/>
                      </a:lnTo>
                      <a:lnTo>
                        <a:pt x="242" y="8"/>
                      </a:lnTo>
                      <a:lnTo>
                        <a:pt x="217" y="8"/>
                      </a:lnTo>
                      <a:lnTo>
                        <a:pt x="192" y="8"/>
                      </a:lnTo>
                      <a:lnTo>
                        <a:pt x="176" y="0"/>
                      </a:lnTo>
                      <a:lnTo>
                        <a:pt x="151" y="0"/>
                      </a:lnTo>
                      <a:lnTo>
                        <a:pt x="125" y="0"/>
                      </a:lnTo>
                      <a:lnTo>
                        <a:pt x="100" y="0"/>
                      </a:lnTo>
                      <a:lnTo>
                        <a:pt x="84" y="0"/>
                      </a:lnTo>
                      <a:lnTo>
                        <a:pt x="59" y="31"/>
                      </a:lnTo>
                      <a:lnTo>
                        <a:pt x="42" y="69"/>
                      </a:lnTo>
                      <a:lnTo>
                        <a:pt x="25" y="108"/>
                      </a:lnTo>
                      <a:lnTo>
                        <a:pt x="17" y="139"/>
                      </a:lnTo>
                      <a:lnTo>
                        <a:pt x="8" y="177"/>
                      </a:lnTo>
                      <a:lnTo>
                        <a:pt x="0" y="216"/>
                      </a:lnTo>
                      <a:lnTo>
                        <a:pt x="0" y="254"/>
                      </a:lnTo>
                      <a:lnTo>
                        <a:pt x="8" y="285"/>
                      </a:lnTo>
                      <a:lnTo>
                        <a:pt x="34" y="285"/>
                      </a:lnTo>
                      <a:lnTo>
                        <a:pt x="59" y="285"/>
                      </a:lnTo>
                      <a:lnTo>
                        <a:pt x="84" y="277"/>
                      </a:lnTo>
                      <a:lnTo>
                        <a:pt x="109" y="277"/>
                      </a:lnTo>
                      <a:lnTo>
                        <a:pt x="134" y="277"/>
                      </a:lnTo>
                      <a:lnTo>
                        <a:pt x="159" y="277"/>
                      </a:lnTo>
                      <a:lnTo>
                        <a:pt x="184" y="277"/>
                      </a:lnTo>
                      <a:lnTo>
                        <a:pt x="209" y="277"/>
                      </a:lnTo>
                      <a:lnTo>
                        <a:pt x="234" y="285"/>
                      </a:lnTo>
                      <a:lnTo>
                        <a:pt x="251" y="285"/>
                      </a:lnTo>
                      <a:lnTo>
                        <a:pt x="276" y="285"/>
                      </a:lnTo>
                      <a:lnTo>
                        <a:pt x="301" y="285"/>
                      </a:lnTo>
                      <a:lnTo>
                        <a:pt x="318" y="292"/>
                      </a:lnTo>
                      <a:lnTo>
                        <a:pt x="343" y="292"/>
                      </a:lnTo>
                      <a:lnTo>
                        <a:pt x="359" y="300"/>
                      </a:lnTo>
                      <a:lnTo>
                        <a:pt x="376" y="308"/>
                      </a:lnTo>
                      <a:lnTo>
                        <a:pt x="385" y="277"/>
                      </a:lnTo>
                      <a:lnTo>
                        <a:pt x="393" y="239"/>
                      </a:lnTo>
                      <a:lnTo>
                        <a:pt x="401" y="208"/>
                      </a:lnTo>
                      <a:lnTo>
                        <a:pt x="410" y="177"/>
                      </a:lnTo>
                      <a:lnTo>
                        <a:pt x="418" y="146"/>
                      </a:lnTo>
                      <a:lnTo>
                        <a:pt x="426" y="116"/>
                      </a:lnTo>
                      <a:lnTo>
                        <a:pt x="435" y="85"/>
                      </a:lnTo>
                      <a:lnTo>
                        <a:pt x="451" y="54"/>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Freeform 384"/>
                <p:cNvSpPr/>
                <p:nvPr/>
              </p:nvSpPr>
              <p:spPr>
                <a:xfrm flipH="1">
                  <a:off x="201600" y="1861200"/>
                  <a:ext cx="58320" cy="32040"/>
                </a:xfrm>
                <a:custGeom>
                  <a:avLst/>
                  <a:gdLst>
                    <a:gd name="textAreaLeft" fmla="*/ 0 w 58320"/>
                    <a:gd name="textAreaRight" fmla="*/ 58320 w 58320"/>
                    <a:gd name="textAreaTop" fmla="*/ 0 h 32040"/>
                    <a:gd name="textAreaBottom" fmla="*/ 32400 h 32040"/>
                  </a:gdLst>
                  <a:ahLst/>
                  <a:rect l="textAreaLeft" t="textAreaTop" r="textAreaRight" b="textAreaBottom"/>
                  <a:pathLst>
                    <a:path w="293" h="154">
                      <a:moveTo>
                        <a:pt x="101" y="31"/>
                      </a:moveTo>
                      <a:lnTo>
                        <a:pt x="109" y="31"/>
                      </a:lnTo>
                      <a:lnTo>
                        <a:pt x="126" y="31"/>
                      </a:lnTo>
                      <a:lnTo>
                        <a:pt x="142" y="31"/>
                      </a:lnTo>
                      <a:lnTo>
                        <a:pt x="151" y="39"/>
                      </a:lnTo>
                      <a:lnTo>
                        <a:pt x="159" y="39"/>
                      </a:lnTo>
                      <a:lnTo>
                        <a:pt x="176" y="39"/>
                      </a:lnTo>
                      <a:lnTo>
                        <a:pt x="184" y="39"/>
                      </a:lnTo>
                      <a:lnTo>
                        <a:pt x="201" y="46"/>
                      </a:lnTo>
                      <a:lnTo>
                        <a:pt x="201" y="39"/>
                      </a:lnTo>
                      <a:lnTo>
                        <a:pt x="201" y="31"/>
                      </a:lnTo>
                      <a:lnTo>
                        <a:pt x="209" y="31"/>
                      </a:lnTo>
                      <a:lnTo>
                        <a:pt x="209" y="23"/>
                      </a:lnTo>
                      <a:lnTo>
                        <a:pt x="218" y="23"/>
                      </a:lnTo>
                      <a:lnTo>
                        <a:pt x="226" y="15"/>
                      </a:lnTo>
                      <a:lnTo>
                        <a:pt x="234" y="15"/>
                      </a:lnTo>
                      <a:lnTo>
                        <a:pt x="243" y="15"/>
                      </a:lnTo>
                      <a:lnTo>
                        <a:pt x="251" y="15"/>
                      </a:lnTo>
                      <a:lnTo>
                        <a:pt x="259" y="15"/>
                      </a:lnTo>
                      <a:lnTo>
                        <a:pt x="268" y="15"/>
                      </a:lnTo>
                      <a:lnTo>
                        <a:pt x="276" y="15"/>
                      </a:lnTo>
                      <a:lnTo>
                        <a:pt x="276" y="23"/>
                      </a:lnTo>
                      <a:lnTo>
                        <a:pt x="293" y="39"/>
                      </a:lnTo>
                      <a:lnTo>
                        <a:pt x="293" y="54"/>
                      </a:lnTo>
                      <a:lnTo>
                        <a:pt x="293" y="69"/>
                      </a:lnTo>
                      <a:lnTo>
                        <a:pt x="293" y="85"/>
                      </a:lnTo>
                      <a:lnTo>
                        <a:pt x="293" y="92"/>
                      </a:lnTo>
                      <a:lnTo>
                        <a:pt x="293" y="100"/>
                      </a:lnTo>
                      <a:lnTo>
                        <a:pt x="284" y="108"/>
                      </a:lnTo>
                      <a:lnTo>
                        <a:pt x="284" y="115"/>
                      </a:lnTo>
                      <a:lnTo>
                        <a:pt x="276" y="123"/>
                      </a:lnTo>
                      <a:lnTo>
                        <a:pt x="276" y="131"/>
                      </a:lnTo>
                      <a:lnTo>
                        <a:pt x="268" y="139"/>
                      </a:lnTo>
                      <a:lnTo>
                        <a:pt x="259" y="139"/>
                      </a:lnTo>
                      <a:lnTo>
                        <a:pt x="259" y="146"/>
                      </a:lnTo>
                      <a:lnTo>
                        <a:pt x="251" y="146"/>
                      </a:lnTo>
                      <a:lnTo>
                        <a:pt x="243" y="146"/>
                      </a:lnTo>
                      <a:lnTo>
                        <a:pt x="234" y="154"/>
                      </a:lnTo>
                      <a:lnTo>
                        <a:pt x="226" y="154"/>
                      </a:lnTo>
                      <a:lnTo>
                        <a:pt x="226" y="146"/>
                      </a:lnTo>
                      <a:lnTo>
                        <a:pt x="218" y="146"/>
                      </a:lnTo>
                      <a:lnTo>
                        <a:pt x="209" y="146"/>
                      </a:lnTo>
                      <a:lnTo>
                        <a:pt x="201" y="131"/>
                      </a:lnTo>
                      <a:lnTo>
                        <a:pt x="201" y="115"/>
                      </a:lnTo>
                      <a:lnTo>
                        <a:pt x="201" y="108"/>
                      </a:lnTo>
                      <a:lnTo>
                        <a:pt x="201" y="92"/>
                      </a:lnTo>
                      <a:lnTo>
                        <a:pt x="184" y="92"/>
                      </a:lnTo>
                      <a:lnTo>
                        <a:pt x="176" y="92"/>
                      </a:lnTo>
                      <a:lnTo>
                        <a:pt x="167" y="92"/>
                      </a:lnTo>
                      <a:lnTo>
                        <a:pt x="151" y="92"/>
                      </a:lnTo>
                      <a:lnTo>
                        <a:pt x="142" y="92"/>
                      </a:lnTo>
                      <a:lnTo>
                        <a:pt x="134" y="92"/>
                      </a:lnTo>
                      <a:lnTo>
                        <a:pt x="117" y="92"/>
                      </a:lnTo>
                      <a:lnTo>
                        <a:pt x="109" y="92"/>
                      </a:lnTo>
                      <a:lnTo>
                        <a:pt x="101" y="100"/>
                      </a:lnTo>
                      <a:lnTo>
                        <a:pt x="101" y="108"/>
                      </a:lnTo>
                      <a:lnTo>
                        <a:pt x="92" y="108"/>
                      </a:lnTo>
                      <a:lnTo>
                        <a:pt x="92" y="115"/>
                      </a:lnTo>
                      <a:lnTo>
                        <a:pt x="84" y="123"/>
                      </a:lnTo>
                      <a:lnTo>
                        <a:pt x="76" y="131"/>
                      </a:lnTo>
                      <a:lnTo>
                        <a:pt x="67" y="131"/>
                      </a:lnTo>
                      <a:lnTo>
                        <a:pt x="59" y="139"/>
                      </a:lnTo>
                      <a:lnTo>
                        <a:pt x="50" y="139"/>
                      </a:lnTo>
                      <a:lnTo>
                        <a:pt x="42" y="139"/>
                      </a:lnTo>
                      <a:lnTo>
                        <a:pt x="34" y="131"/>
                      </a:lnTo>
                      <a:lnTo>
                        <a:pt x="25" y="131"/>
                      </a:lnTo>
                      <a:lnTo>
                        <a:pt x="17" y="123"/>
                      </a:lnTo>
                      <a:lnTo>
                        <a:pt x="9" y="115"/>
                      </a:lnTo>
                      <a:lnTo>
                        <a:pt x="0" y="100"/>
                      </a:lnTo>
                      <a:lnTo>
                        <a:pt x="0" y="85"/>
                      </a:lnTo>
                      <a:lnTo>
                        <a:pt x="0" y="69"/>
                      </a:lnTo>
                      <a:lnTo>
                        <a:pt x="9" y="62"/>
                      </a:lnTo>
                      <a:lnTo>
                        <a:pt x="9" y="54"/>
                      </a:lnTo>
                      <a:lnTo>
                        <a:pt x="9" y="46"/>
                      </a:lnTo>
                      <a:lnTo>
                        <a:pt x="9" y="39"/>
                      </a:lnTo>
                      <a:lnTo>
                        <a:pt x="17" y="31"/>
                      </a:lnTo>
                      <a:lnTo>
                        <a:pt x="17" y="23"/>
                      </a:lnTo>
                      <a:lnTo>
                        <a:pt x="25" y="23"/>
                      </a:lnTo>
                      <a:lnTo>
                        <a:pt x="34" y="15"/>
                      </a:lnTo>
                      <a:lnTo>
                        <a:pt x="34" y="8"/>
                      </a:lnTo>
                      <a:lnTo>
                        <a:pt x="42" y="8"/>
                      </a:lnTo>
                      <a:lnTo>
                        <a:pt x="50" y="0"/>
                      </a:lnTo>
                      <a:lnTo>
                        <a:pt x="59" y="0"/>
                      </a:lnTo>
                      <a:lnTo>
                        <a:pt x="67" y="0"/>
                      </a:lnTo>
                      <a:lnTo>
                        <a:pt x="76" y="0"/>
                      </a:lnTo>
                      <a:lnTo>
                        <a:pt x="84" y="8"/>
                      </a:lnTo>
                      <a:lnTo>
                        <a:pt x="92" y="8"/>
                      </a:lnTo>
                      <a:lnTo>
                        <a:pt x="92" y="15"/>
                      </a:lnTo>
                      <a:lnTo>
                        <a:pt x="101" y="15"/>
                      </a:lnTo>
                      <a:lnTo>
                        <a:pt x="101" y="23"/>
                      </a:lnTo>
                      <a:lnTo>
                        <a:pt x="101" y="31"/>
                      </a:lnTo>
                      <a:close/>
                    </a:path>
                  </a:pathLst>
                </a:custGeom>
                <a:solidFill>
                  <a:srgbClr val="e8e8e8"/>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Freeform 383"/>
                <p:cNvSpPr/>
                <p:nvPr/>
              </p:nvSpPr>
              <p:spPr>
                <a:xfrm flipH="1">
                  <a:off x="201600" y="1861200"/>
                  <a:ext cx="58320" cy="32040"/>
                </a:xfrm>
                <a:custGeom>
                  <a:avLst/>
                  <a:gdLst>
                    <a:gd name="textAreaLeft" fmla="*/ 0 w 58320"/>
                    <a:gd name="textAreaRight" fmla="*/ 58320 w 58320"/>
                    <a:gd name="textAreaTop" fmla="*/ 0 h 32040"/>
                    <a:gd name="textAreaBottom" fmla="*/ 32400 h 32040"/>
                  </a:gdLst>
                  <a:ahLst/>
                  <a:rect l="textAreaLeft" t="textAreaTop" r="textAreaRight" b="textAreaBottom"/>
                  <a:pathLst>
                    <a:path w="293" h="154">
                      <a:moveTo>
                        <a:pt x="101" y="31"/>
                      </a:moveTo>
                      <a:lnTo>
                        <a:pt x="109" y="31"/>
                      </a:lnTo>
                      <a:lnTo>
                        <a:pt x="126" y="31"/>
                      </a:lnTo>
                      <a:lnTo>
                        <a:pt x="142" y="31"/>
                      </a:lnTo>
                      <a:lnTo>
                        <a:pt x="151" y="39"/>
                      </a:lnTo>
                      <a:lnTo>
                        <a:pt x="159" y="39"/>
                      </a:lnTo>
                      <a:lnTo>
                        <a:pt x="176" y="39"/>
                      </a:lnTo>
                      <a:lnTo>
                        <a:pt x="184" y="39"/>
                      </a:lnTo>
                      <a:lnTo>
                        <a:pt x="201" y="46"/>
                      </a:lnTo>
                      <a:lnTo>
                        <a:pt x="201" y="39"/>
                      </a:lnTo>
                      <a:lnTo>
                        <a:pt x="201" y="31"/>
                      </a:lnTo>
                      <a:lnTo>
                        <a:pt x="209" y="31"/>
                      </a:lnTo>
                      <a:lnTo>
                        <a:pt x="209" y="23"/>
                      </a:lnTo>
                      <a:lnTo>
                        <a:pt x="218" y="23"/>
                      </a:lnTo>
                      <a:lnTo>
                        <a:pt x="226" y="15"/>
                      </a:lnTo>
                      <a:lnTo>
                        <a:pt x="234" y="15"/>
                      </a:lnTo>
                      <a:lnTo>
                        <a:pt x="243" y="15"/>
                      </a:lnTo>
                      <a:lnTo>
                        <a:pt x="251" y="15"/>
                      </a:lnTo>
                      <a:lnTo>
                        <a:pt x="259" y="15"/>
                      </a:lnTo>
                      <a:lnTo>
                        <a:pt x="268" y="15"/>
                      </a:lnTo>
                      <a:lnTo>
                        <a:pt x="276" y="15"/>
                      </a:lnTo>
                      <a:lnTo>
                        <a:pt x="276" y="23"/>
                      </a:lnTo>
                      <a:lnTo>
                        <a:pt x="293" y="39"/>
                      </a:lnTo>
                      <a:lnTo>
                        <a:pt x="293" y="54"/>
                      </a:lnTo>
                      <a:lnTo>
                        <a:pt x="293" y="69"/>
                      </a:lnTo>
                      <a:lnTo>
                        <a:pt x="293" y="85"/>
                      </a:lnTo>
                      <a:lnTo>
                        <a:pt x="293" y="92"/>
                      </a:lnTo>
                      <a:lnTo>
                        <a:pt x="293" y="100"/>
                      </a:lnTo>
                      <a:lnTo>
                        <a:pt x="284" y="108"/>
                      </a:lnTo>
                      <a:lnTo>
                        <a:pt x="284" y="115"/>
                      </a:lnTo>
                      <a:lnTo>
                        <a:pt x="276" y="123"/>
                      </a:lnTo>
                      <a:lnTo>
                        <a:pt x="276" y="131"/>
                      </a:lnTo>
                      <a:lnTo>
                        <a:pt x="268" y="139"/>
                      </a:lnTo>
                      <a:lnTo>
                        <a:pt x="259" y="139"/>
                      </a:lnTo>
                      <a:lnTo>
                        <a:pt x="259" y="146"/>
                      </a:lnTo>
                      <a:lnTo>
                        <a:pt x="251" y="146"/>
                      </a:lnTo>
                      <a:lnTo>
                        <a:pt x="243" y="146"/>
                      </a:lnTo>
                      <a:lnTo>
                        <a:pt x="234" y="154"/>
                      </a:lnTo>
                      <a:lnTo>
                        <a:pt x="226" y="154"/>
                      </a:lnTo>
                      <a:lnTo>
                        <a:pt x="226" y="146"/>
                      </a:lnTo>
                      <a:lnTo>
                        <a:pt x="218" y="146"/>
                      </a:lnTo>
                      <a:lnTo>
                        <a:pt x="209" y="146"/>
                      </a:lnTo>
                      <a:lnTo>
                        <a:pt x="201" y="131"/>
                      </a:lnTo>
                      <a:lnTo>
                        <a:pt x="201" y="115"/>
                      </a:lnTo>
                      <a:lnTo>
                        <a:pt x="201" y="108"/>
                      </a:lnTo>
                      <a:lnTo>
                        <a:pt x="201" y="92"/>
                      </a:lnTo>
                      <a:lnTo>
                        <a:pt x="184" y="92"/>
                      </a:lnTo>
                      <a:lnTo>
                        <a:pt x="176" y="92"/>
                      </a:lnTo>
                      <a:lnTo>
                        <a:pt x="167" y="92"/>
                      </a:lnTo>
                      <a:lnTo>
                        <a:pt x="151" y="92"/>
                      </a:lnTo>
                      <a:lnTo>
                        <a:pt x="142" y="92"/>
                      </a:lnTo>
                      <a:lnTo>
                        <a:pt x="134" y="92"/>
                      </a:lnTo>
                      <a:lnTo>
                        <a:pt x="117" y="92"/>
                      </a:lnTo>
                      <a:lnTo>
                        <a:pt x="109" y="92"/>
                      </a:lnTo>
                      <a:lnTo>
                        <a:pt x="101" y="100"/>
                      </a:lnTo>
                      <a:lnTo>
                        <a:pt x="101" y="108"/>
                      </a:lnTo>
                      <a:lnTo>
                        <a:pt x="92" y="108"/>
                      </a:lnTo>
                      <a:lnTo>
                        <a:pt x="92" y="115"/>
                      </a:lnTo>
                      <a:lnTo>
                        <a:pt x="84" y="123"/>
                      </a:lnTo>
                      <a:lnTo>
                        <a:pt x="76" y="131"/>
                      </a:lnTo>
                      <a:lnTo>
                        <a:pt x="67" y="131"/>
                      </a:lnTo>
                      <a:lnTo>
                        <a:pt x="59" y="139"/>
                      </a:lnTo>
                      <a:lnTo>
                        <a:pt x="50" y="139"/>
                      </a:lnTo>
                      <a:lnTo>
                        <a:pt x="42" y="139"/>
                      </a:lnTo>
                      <a:lnTo>
                        <a:pt x="34" y="131"/>
                      </a:lnTo>
                      <a:lnTo>
                        <a:pt x="25" y="131"/>
                      </a:lnTo>
                      <a:lnTo>
                        <a:pt x="17" y="123"/>
                      </a:lnTo>
                      <a:lnTo>
                        <a:pt x="9" y="115"/>
                      </a:lnTo>
                      <a:lnTo>
                        <a:pt x="0" y="100"/>
                      </a:lnTo>
                      <a:lnTo>
                        <a:pt x="0" y="85"/>
                      </a:lnTo>
                      <a:lnTo>
                        <a:pt x="0" y="69"/>
                      </a:lnTo>
                      <a:lnTo>
                        <a:pt x="9" y="62"/>
                      </a:lnTo>
                      <a:lnTo>
                        <a:pt x="9" y="54"/>
                      </a:lnTo>
                      <a:lnTo>
                        <a:pt x="9" y="46"/>
                      </a:lnTo>
                      <a:lnTo>
                        <a:pt x="9" y="39"/>
                      </a:lnTo>
                      <a:lnTo>
                        <a:pt x="17" y="31"/>
                      </a:lnTo>
                      <a:lnTo>
                        <a:pt x="17" y="23"/>
                      </a:lnTo>
                      <a:lnTo>
                        <a:pt x="25" y="23"/>
                      </a:lnTo>
                      <a:lnTo>
                        <a:pt x="34" y="15"/>
                      </a:lnTo>
                      <a:lnTo>
                        <a:pt x="34" y="8"/>
                      </a:lnTo>
                      <a:lnTo>
                        <a:pt x="42" y="8"/>
                      </a:lnTo>
                      <a:lnTo>
                        <a:pt x="50" y="0"/>
                      </a:lnTo>
                      <a:lnTo>
                        <a:pt x="59" y="0"/>
                      </a:lnTo>
                      <a:lnTo>
                        <a:pt x="67" y="0"/>
                      </a:lnTo>
                      <a:lnTo>
                        <a:pt x="76" y="0"/>
                      </a:lnTo>
                      <a:lnTo>
                        <a:pt x="84" y="8"/>
                      </a:lnTo>
                      <a:lnTo>
                        <a:pt x="92" y="8"/>
                      </a:lnTo>
                      <a:lnTo>
                        <a:pt x="92" y="15"/>
                      </a:lnTo>
                      <a:lnTo>
                        <a:pt x="101" y="15"/>
                      </a:lnTo>
                      <a:lnTo>
                        <a:pt x="101" y="23"/>
                      </a:lnTo>
                      <a:lnTo>
                        <a:pt x="101" y="31"/>
                      </a:lnTo>
                    </a:path>
                  </a:pathLst>
                </a:custGeom>
                <a:noFill/>
                <a:ln w="0">
                  <a:solidFill>
                    <a:srgbClr val="000000"/>
                  </a:solid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Freeform 382"/>
                <p:cNvSpPr/>
                <p:nvPr/>
              </p:nvSpPr>
              <p:spPr>
                <a:xfrm flipH="1">
                  <a:off x="206280" y="1920960"/>
                  <a:ext cx="68400" cy="23760"/>
                </a:xfrm>
                <a:custGeom>
                  <a:avLst/>
                  <a:gdLst>
                    <a:gd name="textAreaLeft" fmla="*/ 360 w 68400"/>
                    <a:gd name="textAreaRight" fmla="*/ 69120 w 68400"/>
                    <a:gd name="textAreaTop" fmla="*/ 0 h 23760"/>
                    <a:gd name="textAreaBottom" fmla="*/ 24120 h 23760"/>
                  </a:gdLst>
                  <a:ahLst/>
                  <a:rect l="textAreaLeft" t="textAreaTop" r="textAreaRight" b="textAreaBottom"/>
                  <a:pathLst>
                    <a:path w="343" h="115">
                      <a:moveTo>
                        <a:pt x="343" y="30"/>
                      </a:moveTo>
                      <a:lnTo>
                        <a:pt x="318" y="23"/>
                      </a:lnTo>
                      <a:lnTo>
                        <a:pt x="301" y="23"/>
                      </a:lnTo>
                      <a:lnTo>
                        <a:pt x="276" y="15"/>
                      </a:lnTo>
                      <a:lnTo>
                        <a:pt x="251" y="15"/>
                      </a:lnTo>
                      <a:lnTo>
                        <a:pt x="234" y="7"/>
                      </a:lnTo>
                      <a:lnTo>
                        <a:pt x="209" y="7"/>
                      </a:lnTo>
                      <a:lnTo>
                        <a:pt x="192" y="0"/>
                      </a:lnTo>
                      <a:lnTo>
                        <a:pt x="167" y="0"/>
                      </a:lnTo>
                      <a:lnTo>
                        <a:pt x="151" y="0"/>
                      </a:lnTo>
                      <a:lnTo>
                        <a:pt x="125" y="0"/>
                      </a:lnTo>
                      <a:lnTo>
                        <a:pt x="100" y="0"/>
                      </a:lnTo>
                      <a:lnTo>
                        <a:pt x="84" y="0"/>
                      </a:lnTo>
                      <a:lnTo>
                        <a:pt x="67" y="0"/>
                      </a:lnTo>
                      <a:lnTo>
                        <a:pt x="42" y="7"/>
                      </a:lnTo>
                      <a:lnTo>
                        <a:pt x="25" y="7"/>
                      </a:lnTo>
                      <a:lnTo>
                        <a:pt x="8" y="7"/>
                      </a:lnTo>
                      <a:lnTo>
                        <a:pt x="0" y="38"/>
                      </a:lnTo>
                      <a:lnTo>
                        <a:pt x="0" y="61"/>
                      </a:lnTo>
                      <a:lnTo>
                        <a:pt x="0" y="92"/>
                      </a:lnTo>
                      <a:lnTo>
                        <a:pt x="0" y="115"/>
                      </a:lnTo>
                    </a:path>
                  </a:pathLst>
                </a:custGeom>
                <a:noFill/>
                <a:ln w="0">
                  <a:solidFill>
                    <a:srgbClr val="000000"/>
                  </a:solid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Freeform 381"/>
                <p:cNvSpPr/>
                <p:nvPr/>
              </p:nvSpPr>
              <p:spPr>
                <a:xfrm flipH="1">
                  <a:off x="224280" y="1820880"/>
                  <a:ext cx="18360" cy="14400"/>
                </a:xfrm>
                <a:custGeom>
                  <a:avLst/>
                  <a:gdLst>
                    <a:gd name="textAreaLeft" fmla="*/ 0 w 18360"/>
                    <a:gd name="textAreaRight" fmla="*/ 18360 w 18360"/>
                    <a:gd name="textAreaTop" fmla="*/ 0 h 14400"/>
                    <a:gd name="textAreaBottom" fmla="*/ 14760 h 14400"/>
                  </a:gdLst>
                  <a:ahLst/>
                  <a:rect l="textAreaLeft" t="textAreaTop" r="textAreaRight" b="textAreaBottom"/>
                  <a:pathLst>
                    <a:path w="92" h="69">
                      <a:moveTo>
                        <a:pt x="17" y="7"/>
                      </a:moveTo>
                      <a:lnTo>
                        <a:pt x="25" y="0"/>
                      </a:lnTo>
                      <a:lnTo>
                        <a:pt x="33" y="0"/>
                      </a:lnTo>
                      <a:lnTo>
                        <a:pt x="42" y="0"/>
                      </a:lnTo>
                      <a:lnTo>
                        <a:pt x="50" y="0"/>
                      </a:lnTo>
                      <a:lnTo>
                        <a:pt x="67" y="0"/>
                      </a:lnTo>
                      <a:lnTo>
                        <a:pt x="75" y="0"/>
                      </a:lnTo>
                      <a:lnTo>
                        <a:pt x="83" y="0"/>
                      </a:lnTo>
                      <a:lnTo>
                        <a:pt x="92" y="0"/>
                      </a:lnTo>
                      <a:lnTo>
                        <a:pt x="92" y="15"/>
                      </a:lnTo>
                      <a:lnTo>
                        <a:pt x="92" y="31"/>
                      </a:lnTo>
                      <a:lnTo>
                        <a:pt x="92" y="54"/>
                      </a:lnTo>
                      <a:lnTo>
                        <a:pt x="92" y="69"/>
                      </a:lnTo>
                      <a:lnTo>
                        <a:pt x="83" y="69"/>
                      </a:lnTo>
                      <a:lnTo>
                        <a:pt x="75" y="69"/>
                      </a:lnTo>
                      <a:lnTo>
                        <a:pt x="58" y="69"/>
                      </a:lnTo>
                      <a:lnTo>
                        <a:pt x="50" y="69"/>
                      </a:lnTo>
                      <a:lnTo>
                        <a:pt x="42" y="69"/>
                      </a:lnTo>
                      <a:lnTo>
                        <a:pt x="25" y="69"/>
                      </a:lnTo>
                      <a:lnTo>
                        <a:pt x="17" y="69"/>
                      </a:lnTo>
                      <a:lnTo>
                        <a:pt x="8" y="69"/>
                      </a:lnTo>
                      <a:lnTo>
                        <a:pt x="8" y="54"/>
                      </a:lnTo>
                      <a:lnTo>
                        <a:pt x="0" y="31"/>
                      </a:lnTo>
                      <a:lnTo>
                        <a:pt x="8" y="15"/>
                      </a:lnTo>
                      <a:lnTo>
                        <a:pt x="17" y="7"/>
                      </a:lnTo>
                      <a:close/>
                    </a:path>
                  </a:pathLst>
                </a:custGeom>
                <a:solidFill>
                  <a:srgbClr val="999999"/>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Freeform 380"/>
                <p:cNvSpPr/>
                <p:nvPr/>
              </p:nvSpPr>
              <p:spPr>
                <a:xfrm flipH="1">
                  <a:off x="224280" y="1820880"/>
                  <a:ext cx="18360" cy="14400"/>
                </a:xfrm>
                <a:custGeom>
                  <a:avLst/>
                  <a:gdLst>
                    <a:gd name="textAreaLeft" fmla="*/ 0 w 18360"/>
                    <a:gd name="textAreaRight" fmla="*/ 18360 w 18360"/>
                    <a:gd name="textAreaTop" fmla="*/ 0 h 14400"/>
                    <a:gd name="textAreaBottom" fmla="*/ 14760 h 14400"/>
                  </a:gdLst>
                  <a:ahLst/>
                  <a:rect l="textAreaLeft" t="textAreaTop" r="textAreaRight" b="textAreaBottom"/>
                  <a:pathLst>
                    <a:path w="92" h="69">
                      <a:moveTo>
                        <a:pt x="17" y="7"/>
                      </a:moveTo>
                      <a:lnTo>
                        <a:pt x="25" y="0"/>
                      </a:lnTo>
                      <a:lnTo>
                        <a:pt x="33" y="0"/>
                      </a:lnTo>
                      <a:lnTo>
                        <a:pt x="42" y="0"/>
                      </a:lnTo>
                      <a:lnTo>
                        <a:pt x="50" y="0"/>
                      </a:lnTo>
                      <a:lnTo>
                        <a:pt x="67" y="0"/>
                      </a:lnTo>
                      <a:lnTo>
                        <a:pt x="75" y="0"/>
                      </a:lnTo>
                      <a:lnTo>
                        <a:pt x="83" y="0"/>
                      </a:lnTo>
                      <a:lnTo>
                        <a:pt x="92" y="0"/>
                      </a:lnTo>
                      <a:lnTo>
                        <a:pt x="92" y="15"/>
                      </a:lnTo>
                      <a:lnTo>
                        <a:pt x="92" y="31"/>
                      </a:lnTo>
                      <a:lnTo>
                        <a:pt x="92" y="54"/>
                      </a:lnTo>
                      <a:lnTo>
                        <a:pt x="92" y="69"/>
                      </a:lnTo>
                      <a:lnTo>
                        <a:pt x="83" y="69"/>
                      </a:lnTo>
                      <a:lnTo>
                        <a:pt x="75" y="69"/>
                      </a:lnTo>
                      <a:lnTo>
                        <a:pt x="58" y="69"/>
                      </a:lnTo>
                      <a:lnTo>
                        <a:pt x="50" y="69"/>
                      </a:lnTo>
                      <a:lnTo>
                        <a:pt x="42" y="69"/>
                      </a:lnTo>
                      <a:lnTo>
                        <a:pt x="25" y="69"/>
                      </a:lnTo>
                      <a:lnTo>
                        <a:pt x="17" y="69"/>
                      </a:lnTo>
                      <a:lnTo>
                        <a:pt x="8" y="69"/>
                      </a:lnTo>
                      <a:lnTo>
                        <a:pt x="8" y="54"/>
                      </a:lnTo>
                      <a:lnTo>
                        <a:pt x="0" y="31"/>
                      </a:lnTo>
                      <a:lnTo>
                        <a:pt x="8" y="15"/>
                      </a:lnTo>
                      <a:lnTo>
                        <a:pt x="17" y="7"/>
                      </a:lnTo>
                    </a:path>
                  </a:pathLst>
                </a:custGeom>
                <a:noFill/>
                <a:ln w="0">
                  <a:solidFill>
                    <a:srgbClr val="000000"/>
                  </a:solid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Freeform 379"/>
                <p:cNvSpPr/>
                <p:nvPr/>
              </p:nvSpPr>
              <p:spPr>
                <a:xfrm flipH="1">
                  <a:off x="205920" y="1819080"/>
                  <a:ext cx="18360" cy="17640"/>
                </a:xfrm>
                <a:custGeom>
                  <a:avLst/>
                  <a:gdLst>
                    <a:gd name="textAreaLeft" fmla="*/ 0 w 18360"/>
                    <a:gd name="textAreaRight" fmla="*/ 18360 w 18360"/>
                    <a:gd name="textAreaTop" fmla="*/ 0 h 17640"/>
                    <a:gd name="textAreaBottom" fmla="*/ 18000 h 17640"/>
                  </a:gdLst>
                  <a:ahLst/>
                  <a:rect l="textAreaLeft" t="textAreaTop" r="textAreaRight" b="textAreaBottom"/>
                  <a:pathLst>
                    <a:path w="92" h="85">
                      <a:moveTo>
                        <a:pt x="92" y="8"/>
                      </a:moveTo>
                      <a:lnTo>
                        <a:pt x="83" y="8"/>
                      </a:lnTo>
                      <a:lnTo>
                        <a:pt x="75" y="0"/>
                      </a:lnTo>
                      <a:lnTo>
                        <a:pt x="58" y="0"/>
                      </a:lnTo>
                      <a:lnTo>
                        <a:pt x="50" y="0"/>
                      </a:lnTo>
                      <a:lnTo>
                        <a:pt x="42" y="0"/>
                      </a:lnTo>
                      <a:lnTo>
                        <a:pt x="25" y="0"/>
                      </a:lnTo>
                      <a:lnTo>
                        <a:pt x="17" y="8"/>
                      </a:lnTo>
                      <a:lnTo>
                        <a:pt x="0" y="8"/>
                      </a:lnTo>
                      <a:lnTo>
                        <a:pt x="0" y="23"/>
                      </a:lnTo>
                      <a:lnTo>
                        <a:pt x="0" y="39"/>
                      </a:lnTo>
                      <a:lnTo>
                        <a:pt x="0" y="62"/>
                      </a:lnTo>
                      <a:lnTo>
                        <a:pt x="0" y="77"/>
                      </a:lnTo>
                      <a:lnTo>
                        <a:pt x="8" y="77"/>
                      </a:lnTo>
                      <a:lnTo>
                        <a:pt x="25" y="77"/>
                      </a:lnTo>
                      <a:lnTo>
                        <a:pt x="33" y="85"/>
                      </a:lnTo>
                      <a:lnTo>
                        <a:pt x="42" y="85"/>
                      </a:lnTo>
                      <a:lnTo>
                        <a:pt x="50" y="85"/>
                      </a:lnTo>
                      <a:lnTo>
                        <a:pt x="67" y="85"/>
                      </a:lnTo>
                      <a:lnTo>
                        <a:pt x="75" y="85"/>
                      </a:lnTo>
                      <a:lnTo>
                        <a:pt x="83" y="85"/>
                      </a:lnTo>
                      <a:lnTo>
                        <a:pt x="83" y="62"/>
                      </a:lnTo>
                      <a:lnTo>
                        <a:pt x="83" y="46"/>
                      </a:lnTo>
                      <a:lnTo>
                        <a:pt x="92" y="23"/>
                      </a:lnTo>
                      <a:lnTo>
                        <a:pt x="92" y="8"/>
                      </a:lnTo>
                      <a:close/>
                    </a:path>
                  </a:pathLst>
                </a:custGeom>
                <a:solidFill>
                  <a:srgbClr val="999999"/>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Freeform 378"/>
                <p:cNvSpPr/>
                <p:nvPr/>
              </p:nvSpPr>
              <p:spPr>
                <a:xfrm flipH="1">
                  <a:off x="205920" y="1819080"/>
                  <a:ext cx="18360" cy="17640"/>
                </a:xfrm>
                <a:custGeom>
                  <a:avLst/>
                  <a:gdLst>
                    <a:gd name="textAreaLeft" fmla="*/ 0 w 18360"/>
                    <a:gd name="textAreaRight" fmla="*/ 18360 w 18360"/>
                    <a:gd name="textAreaTop" fmla="*/ 0 h 17640"/>
                    <a:gd name="textAreaBottom" fmla="*/ 18000 h 17640"/>
                  </a:gdLst>
                  <a:ahLst/>
                  <a:rect l="textAreaLeft" t="textAreaTop" r="textAreaRight" b="textAreaBottom"/>
                  <a:pathLst>
                    <a:path w="92" h="85">
                      <a:moveTo>
                        <a:pt x="92" y="8"/>
                      </a:moveTo>
                      <a:lnTo>
                        <a:pt x="83" y="8"/>
                      </a:lnTo>
                      <a:lnTo>
                        <a:pt x="75" y="0"/>
                      </a:lnTo>
                      <a:lnTo>
                        <a:pt x="58" y="0"/>
                      </a:lnTo>
                      <a:lnTo>
                        <a:pt x="50" y="0"/>
                      </a:lnTo>
                      <a:lnTo>
                        <a:pt x="42" y="0"/>
                      </a:lnTo>
                      <a:lnTo>
                        <a:pt x="25" y="0"/>
                      </a:lnTo>
                      <a:lnTo>
                        <a:pt x="17" y="8"/>
                      </a:lnTo>
                      <a:lnTo>
                        <a:pt x="0" y="8"/>
                      </a:lnTo>
                      <a:lnTo>
                        <a:pt x="0" y="23"/>
                      </a:lnTo>
                      <a:lnTo>
                        <a:pt x="0" y="39"/>
                      </a:lnTo>
                      <a:lnTo>
                        <a:pt x="0" y="62"/>
                      </a:lnTo>
                      <a:lnTo>
                        <a:pt x="0" y="77"/>
                      </a:lnTo>
                      <a:lnTo>
                        <a:pt x="8" y="77"/>
                      </a:lnTo>
                      <a:lnTo>
                        <a:pt x="25" y="77"/>
                      </a:lnTo>
                      <a:lnTo>
                        <a:pt x="33" y="85"/>
                      </a:lnTo>
                      <a:lnTo>
                        <a:pt x="42" y="85"/>
                      </a:lnTo>
                      <a:lnTo>
                        <a:pt x="50" y="85"/>
                      </a:lnTo>
                      <a:lnTo>
                        <a:pt x="67" y="85"/>
                      </a:lnTo>
                      <a:lnTo>
                        <a:pt x="75" y="85"/>
                      </a:lnTo>
                      <a:lnTo>
                        <a:pt x="83" y="85"/>
                      </a:lnTo>
                      <a:lnTo>
                        <a:pt x="83" y="62"/>
                      </a:lnTo>
                      <a:lnTo>
                        <a:pt x="83" y="46"/>
                      </a:lnTo>
                      <a:lnTo>
                        <a:pt x="92" y="23"/>
                      </a:lnTo>
                      <a:lnTo>
                        <a:pt x="92" y="8"/>
                      </a:lnTo>
                    </a:path>
                  </a:pathLst>
                </a:custGeom>
                <a:noFill/>
                <a:ln w="0">
                  <a:solidFill>
                    <a:srgbClr val="000000"/>
                  </a:solid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Freeform 377"/>
                <p:cNvSpPr/>
                <p:nvPr/>
              </p:nvSpPr>
              <p:spPr>
                <a:xfrm flipH="1">
                  <a:off x="191520" y="1820880"/>
                  <a:ext cx="16560" cy="17640"/>
                </a:xfrm>
                <a:custGeom>
                  <a:avLst/>
                  <a:gdLst>
                    <a:gd name="textAreaLeft" fmla="*/ 360 w 16560"/>
                    <a:gd name="textAreaRight" fmla="*/ 17280 w 16560"/>
                    <a:gd name="textAreaTop" fmla="*/ 0 h 17640"/>
                    <a:gd name="textAreaBottom" fmla="*/ 18000 h 17640"/>
                  </a:gdLst>
                  <a:ahLst/>
                  <a:rect l="textAreaLeft" t="textAreaTop" r="textAreaRight" b="textAreaBottom"/>
                  <a:pathLst>
                    <a:path w="84" h="84">
                      <a:moveTo>
                        <a:pt x="9" y="0"/>
                      </a:moveTo>
                      <a:lnTo>
                        <a:pt x="17" y="0"/>
                      </a:lnTo>
                      <a:lnTo>
                        <a:pt x="25" y="0"/>
                      </a:lnTo>
                      <a:lnTo>
                        <a:pt x="42" y="0"/>
                      </a:lnTo>
                      <a:lnTo>
                        <a:pt x="51" y="0"/>
                      </a:lnTo>
                      <a:lnTo>
                        <a:pt x="59" y="7"/>
                      </a:lnTo>
                      <a:lnTo>
                        <a:pt x="67" y="7"/>
                      </a:lnTo>
                      <a:lnTo>
                        <a:pt x="84" y="15"/>
                      </a:lnTo>
                      <a:lnTo>
                        <a:pt x="84" y="31"/>
                      </a:lnTo>
                      <a:lnTo>
                        <a:pt x="84" y="54"/>
                      </a:lnTo>
                      <a:lnTo>
                        <a:pt x="76" y="69"/>
                      </a:lnTo>
                      <a:lnTo>
                        <a:pt x="67" y="84"/>
                      </a:lnTo>
                      <a:lnTo>
                        <a:pt x="59" y="84"/>
                      </a:lnTo>
                      <a:lnTo>
                        <a:pt x="51" y="84"/>
                      </a:lnTo>
                      <a:lnTo>
                        <a:pt x="42" y="84"/>
                      </a:lnTo>
                      <a:lnTo>
                        <a:pt x="34" y="84"/>
                      </a:lnTo>
                      <a:lnTo>
                        <a:pt x="25" y="77"/>
                      </a:lnTo>
                      <a:lnTo>
                        <a:pt x="17" y="77"/>
                      </a:lnTo>
                      <a:lnTo>
                        <a:pt x="9" y="77"/>
                      </a:lnTo>
                      <a:lnTo>
                        <a:pt x="0" y="77"/>
                      </a:lnTo>
                      <a:lnTo>
                        <a:pt x="0" y="54"/>
                      </a:lnTo>
                      <a:lnTo>
                        <a:pt x="0" y="38"/>
                      </a:lnTo>
                      <a:lnTo>
                        <a:pt x="9" y="15"/>
                      </a:lnTo>
                      <a:lnTo>
                        <a:pt x="9" y="0"/>
                      </a:lnTo>
                      <a:close/>
                    </a:path>
                  </a:pathLst>
                </a:custGeom>
                <a:solidFill>
                  <a:srgbClr val="999999"/>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9" name="Freeform 376"/>
                <p:cNvSpPr/>
                <p:nvPr/>
              </p:nvSpPr>
              <p:spPr>
                <a:xfrm flipH="1">
                  <a:off x="191520" y="1820880"/>
                  <a:ext cx="16560" cy="17640"/>
                </a:xfrm>
                <a:custGeom>
                  <a:avLst/>
                  <a:gdLst>
                    <a:gd name="textAreaLeft" fmla="*/ 360 w 16560"/>
                    <a:gd name="textAreaRight" fmla="*/ 17280 w 16560"/>
                    <a:gd name="textAreaTop" fmla="*/ 0 h 17640"/>
                    <a:gd name="textAreaBottom" fmla="*/ 18000 h 17640"/>
                  </a:gdLst>
                  <a:ahLst/>
                  <a:rect l="textAreaLeft" t="textAreaTop" r="textAreaRight" b="textAreaBottom"/>
                  <a:pathLst>
                    <a:path w="84" h="84">
                      <a:moveTo>
                        <a:pt x="9" y="0"/>
                      </a:moveTo>
                      <a:lnTo>
                        <a:pt x="17" y="0"/>
                      </a:lnTo>
                      <a:lnTo>
                        <a:pt x="25" y="0"/>
                      </a:lnTo>
                      <a:lnTo>
                        <a:pt x="42" y="0"/>
                      </a:lnTo>
                      <a:lnTo>
                        <a:pt x="51" y="0"/>
                      </a:lnTo>
                      <a:lnTo>
                        <a:pt x="59" y="7"/>
                      </a:lnTo>
                      <a:lnTo>
                        <a:pt x="67" y="7"/>
                      </a:lnTo>
                      <a:lnTo>
                        <a:pt x="84" y="15"/>
                      </a:lnTo>
                      <a:lnTo>
                        <a:pt x="84" y="31"/>
                      </a:lnTo>
                      <a:lnTo>
                        <a:pt x="84" y="54"/>
                      </a:lnTo>
                      <a:lnTo>
                        <a:pt x="76" y="69"/>
                      </a:lnTo>
                      <a:lnTo>
                        <a:pt x="67" y="84"/>
                      </a:lnTo>
                      <a:lnTo>
                        <a:pt x="59" y="84"/>
                      </a:lnTo>
                      <a:lnTo>
                        <a:pt x="51" y="84"/>
                      </a:lnTo>
                      <a:lnTo>
                        <a:pt x="42" y="84"/>
                      </a:lnTo>
                      <a:lnTo>
                        <a:pt x="34" y="84"/>
                      </a:lnTo>
                      <a:lnTo>
                        <a:pt x="25" y="77"/>
                      </a:lnTo>
                      <a:lnTo>
                        <a:pt x="17" y="77"/>
                      </a:lnTo>
                      <a:lnTo>
                        <a:pt x="9" y="77"/>
                      </a:lnTo>
                      <a:lnTo>
                        <a:pt x="0" y="77"/>
                      </a:lnTo>
                      <a:lnTo>
                        <a:pt x="0" y="54"/>
                      </a:lnTo>
                      <a:lnTo>
                        <a:pt x="0" y="38"/>
                      </a:lnTo>
                      <a:lnTo>
                        <a:pt x="9" y="15"/>
                      </a:lnTo>
                      <a:lnTo>
                        <a:pt x="9" y="0"/>
                      </a:lnTo>
                    </a:path>
                  </a:pathLst>
                </a:custGeom>
                <a:noFill/>
                <a:ln w="0">
                  <a:solidFill>
                    <a:srgbClr val="000000"/>
                  </a:solid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Freeform 375"/>
                <p:cNvSpPr/>
                <p:nvPr/>
              </p:nvSpPr>
              <p:spPr>
                <a:xfrm flipH="1">
                  <a:off x="37800" y="18014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8"/>
                      </a:lnTo>
                      <a:lnTo>
                        <a:pt x="8" y="8"/>
                      </a:lnTo>
                      <a:lnTo>
                        <a:pt x="17" y="8"/>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Freeform 374"/>
                <p:cNvSpPr/>
                <p:nvPr/>
              </p:nvSpPr>
              <p:spPr>
                <a:xfrm flipH="1">
                  <a:off x="29880" y="1733760"/>
                  <a:ext cx="11520" cy="69120"/>
                </a:xfrm>
                <a:custGeom>
                  <a:avLst/>
                  <a:gdLst>
                    <a:gd name="textAreaLeft" fmla="*/ 360 w 11520"/>
                    <a:gd name="textAreaRight" fmla="*/ 12240 w 11520"/>
                    <a:gd name="textAreaTop" fmla="*/ 0 h 69120"/>
                    <a:gd name="textAreaBottom" fmla="*/ 69480 h 69120"/>
                  </a:gdLst>
                  <a:ahLst/>
                  <a:rect l="textAreaLeft" t="textAreaTop" r="textAreaRight" b="textAreaBottom"/>
                  <a:pathLst>
                    <a:path w="59" h="331">
                      <a:moveTo>
                        <a:pt x="42" y="23"/>
                      </a:moveTo>
                      <a:lnTo>
                        <a:pt x="34" y="8"/>
                      </a:lnTo>
                      <a:lnTo>
                        <a:pt x="34" y="31"/>
                      </a:lnTo>
                      <a:lnTo>
                        <a:pt x="34" y="54"/>
                      </a:lnTo>
                      <a:lnTo>
                        <a:pt x="34" y="70"/>
                      </a:lnTo>
                      <a:lnTo>
                        <a:pt x="25" y="93"/>
                      </a:lnTo>
                      <a:lnTo>
                        <a:pt x="25" y="108"/>
                      </a:lnTo>
                      <a:lnTo>
                        <a:pt x="25" y="123"/>
                      </a:lnTo>
                      <a:lnTo>
                        <a:pt x="25" y="147"/>
                      </a:lnTo>
                      <a:lnTo>
                        <a:pt x="17" y="162"/>
                      </a:lnTo>
                      <a:lnTo>
                        <a:pt x="17" y="185"/>
                      </a:lnTo>
                      <a:lnTo>
                        <a:pt x="17" y="200"/>
                      </a:lnTo>
                      <a:lnTo>
                        <a:pt x="8" y="223"/>
                      </a:lnTo>
                      <a:lnTo>
                        <a:pt x="8" y="239"/>
                      </a:lnTo>
                      <a:lnTo>
                        <a:pt x="8" y="262"/>
                      </a:lnTo>
                      <a:lnTo>
                        <a:pt x="0" y="285"/>
                      </a:lnTo>
                      <a:lnTo>
                        <a:pt x="0" y="300"/>
                      </a:lnTo>
                      <a:lnTo>
                        <a:pt x="0" y="323"/>
                      </a:lnTo>
                      <a:lnTo>
                        <a:pt x="17" y="331"/>
                      </a:lnTo>
                      <a:lnTo>
                        <a:pt x="17" y="308"/>
                      </a:lnTo>
                      <a:lnTo>
                        <a:pt x="25" y="285"/>
                      </a:lnTo>
                      <a:lnTo>
                        <a:pt x="25" y="262"/>
                      </a:lnTo>
                      <a:lnTo>
                        <a:pt x="25" y="247"/>
                      </a:lnTo>
                      <a:lnTo>
                        <a:pt x="34" y="223"/>
                      </a:lnTo>
                      <a:lnTo>
                        <a:pt x="34" y="208"/>
                      </a:lnTo>
                      <a:lnTo>
                        <a:pt x="34" y="185"/>
                      </a:lnTo>
                      <a:lnTo>
                        <a:pt x="42" y="170"/>
                      </a:lnTo>
                      <a:lnTo>
                        <a:pt x="42" y="147"/>
                      </a:lnTo>
                      <a:lnTo>
                        <a:pt x="42" y="131"/>
                      </a:lnTo>
                      <a:lnTo>
                        <a:pt x="50" y="108"/>
                      </a:lnTo>
                      <a:lnTo>
                        <a:pt x="50" y="93"/>
                      </a:lnTo>
                      <a:lnTo>
                        <a:pt x="50" y="70"/>
                      </a:lnTo>
                      <a:lnTo>
                        <a:pt x="50" y="54"/>
                      </a:lnTo>
                      <a:lnTo>
                        <a:pt x="59" y="31"/>
                      </a:lnTo>
                      <a:lnTo>
                        <a:pt x="59" y="8"/>
                      </a:lnTo>
                      <a:lnTo>
                        <a:pt x="50" y="0"/>
                      </a:lnTo>
                      <a:lnTo>
                        <a:pt x="42" y="23"/>
                      </a:lnTo>
                      <a:close/>
                    </a:path>
                  </a:pathLst>
                </a:custGeom>
                <a:solidFill>
                  <a:srgbClr val="00000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Freeform 373"/>
                <p:cNvSpPr/>
                <p:nvPr/>
              </p:nvSpPr>
              <p:spPr>
                <a:xfrm flipH="1">
                  <a:off x="31320" y="1724040"/>
                  <a:ext cx="46440" cy="14400"/>
                </a:xfrm>
                <a:custGeom>
                  <a:avLst/>
                  <a:gdLst>
                    <a:gd name="textAreaLeft" fmla="*/ -360 w 46440"/>
                    <a:gd name="textAreaRight" fmla="*/ 46440 w 46440"/>
                    <a:gd name="textAreaTop" fmla="*/ 0 h 14400"/>
                    <a:gd name="textAreaBottom" fmla="*/ 14760 h 14400"/>
                  </a:gdLst>
                  <a:ahLst/>
                  <a:rect l="textAreaLeft" t="textAreaTop" r="textAreaRight" b="textAreaBottom"/>
                  <a:pathLst>
                    <a:path w="234" h="69">
                      <a:moveTo>
                        <a:pt x="17" y="16"/>
                      </a:moveTo>
                      <a:lnTo>
                        <a:pt x="9" y="23"/>
                      </a:lnTo>
                      <a:lnTo>
                        <a:pt x="25" y="23"/>
                      </a:lnTo>
                      <a:lnTo>
                        <a:pt x="42" y="23"/>
                      </a:lnTo>
                      <a:lnTo>
                        <a:pt x="50" y="23"/>
                      </a:lnTo>
                      <a:lnTo>
                        <a:pt x="67" y="31"/>
                      </a:lnTo>
                      <a:lnTo>
                        <a:pt x="84" y="31"/>
                      </a:lnTo>
                      <a:lnTo>
                        <a:pt x="92" y="31"/>
                      </a:lnTo>
                      <a:lnTo>
                        <a:pt x="109" y="39"/>
                      </a:lnTo>
                      <a:lnTo>
                        <a:pt x="126" y="39"/>
                      </a:lnTo>
                      <a:lnTo>
                        <a:pt x="142" y="46"/>
                      </a:lnTo>
                      <a:lnTo>
                        <a:pt x="151" y="46"/>
                      </a:lnTo>
                      <a:lnTo>
                        <a:pt x="167" y="46"/>
                      </a:lnTo>
                      <a:lnTo>
                        <a:pt x="176" y="54"/>
                      </a:lnTo>
                      <a:lnTo>
                        <a:pt x="192" y="54"/>
                      </a:lnTo>
                      <a:lnTo>
                        <a:pt x="201" y="62"/>
                      </a:lnTo>
                      <a:lnTo>
                        <a:pt x="218" y="62"/>
                      </a:lnTo>
                      <a:lnTo>
                        <a:pt x="226" y="69"/>
                      </a:lnTo>
                      <a:lnTo>
                        <a:pt x="234" y="46"/>
                      </a:lnTo>
                      <a:lnTo>
                        <a:pt x="226" y="46"/>
                      </a:lnTo>
                      <a:lnTo>
                        <a:pt x="209" y="39"/>
                      </a:lnTo>
                      <a:lnTo>
                        <a:pt x="201" y="39"/>
                      </a:lnTo>
                      <a:lnTo>
                        <a:pt x="184" y="31"/>
                      </a:lnTo>
                      <a:lnTo>
                        <a:pt x="167" y="31"/>
                      </a:lnTo>
                      <a:lnTo>
                        <a:pt x="159" y="31"/>
                      </a:lnTo>
                      <a:lnTo>
                        <a:pt x="142" y="23"/>
                      </a:lnTo>
                      <a:lnTo>
                        <a:pt x="126" y="23"/>
                      </a:lnTo>
                      <a:lnTo>
                        <a:pt x="117" y="16"/>
                      </a:lnTo>
                      <a:lnTo>
                        <a:pt x="101" y="16"/>
                      </a:lnTo>
                      <a:lnTo>
                        <a:pt x="84" y="16"/>
                      </a:lnTo>
                      <a:lnTo>
                        <a:pt x="67" y="8"/>
                      </a:lnTo>
                      <a:lnTo>
                        <a:pt x="59" y="8"/>
                      </a:lnTo>
                      <a:lnTo>
                        <a:pt x="42" y="8"/>
                      </a:lnTo>
                      <a:lnTo>
                        <a:pt x="25" y="8"/>
                      </a:lnTo>
                      <a:lnTo>
                        <a:pt x="9" y="0"/>
                      </a:lnTo>
                      <a:lnTo>
                        <a:pt x="0" y="8"/>
                      </a:lnTo>
                      <a:lnTo>
                        <a:pt x="17" y="16"/>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Freeform 372"/>
                <p:cNvSpPr/>
                <p:nvPr/>
              </p:nvSpPr>
              <p:spPr>
                <a:xfrm flipH="1">
                  <a:off x="74520" y="1725480"/>
                  <a:ext cx="26640" cy="88560"/>
                </a:xfrm>
                <a:custGeom>
                  <a:avLst/>
                  <a:gdLst>
                    <a:gd name="textAreaLeft" fmla="*/ 360 w 26640"/>
                    <a:gd name="textAreaRight" fmla="*/ 27360 w 26640"/>
                    <a:gd name="textAreaTop" fmla="*/ 0 h 88560"/>
                    <a:gd name="textAreaBottom" fmla="*/ 88560 h 88560"/>
                  </a:gdLst>
                  <a:ahLst/>
                  <a:rect l="textAreaLeft" t="textAreaTop" r="textAreaRight" b="textAreaBottom"/>
                  <a:pathLst>
                    <a:path w="134" h="423">
                      <a:moveTo>
                        <a:pt x="25" y="423"/>
                      </a:moveTo>
                      <a:lnTo>
                        <a:pt x="34" y="392"/>
                      </a:lnTo>
                      <a:lnTo>
                        <a:pt x="42" y="369"/>
                      </a:lnTo>
                      <a:lnTo>
                        <a:pt x="50" y="346"/>
                      </a:lnTo>
                      <a:lnTo>
                        <a:pt x="59" y="323"/>
                      </a:lnTo>
                      <a:lnTo>
                        <a:pt x="67" y="292"/>
                      </a:lnTo>
                      <a:lnTo>
                        <a:pt x="67" y="269"/>
                      </a:lnTo>
                      <a:lnTo>
                        <a:pt x="75" y="238"/>
                      </a:lnTo>
                      <a:lnTo>
                        <a:pt x="84" y="215"/>
                      </a:lnTo>
                      <a:lnTo>
                        <a:pt x="92" y="192"/>
                      </a:lnTo>
                      <a:lnTo>
                        <a:pt x="101" y="161"/>
                      </a:lnTo>
                      <a:lnTo>
                        <a:pt x="101" y="138"/>
                      </a:lnTo>
                      <a:lnTo>
                        <a:pt x="109" y="108"/>
                      </a:lnTo>
                      <a:lnTo>
                        <a:pt x="117" y="85"/>
                      </a:lnTo>
                      <a:lnTo>
                        <a:pt x="126" y="61"/>
                      </a:lnTo>
                      <a:lnTo>
                        <a:pt x="134" y="31"/>
                      </a:lnTo>
                      <a:lnTo>
                        <a:pt x="134" y="8"/>
                      </a:lnTo>
                      <a:lnTo>
                        <a:pt x="117" y="0"/>
                      </a:lnTo>
                      <a:lnTo>
                        <a:pt x="109" y="31"/>
                      </a:lnTo>
                      <a:lnTo>
                        <a:pt x="101" y="54"/>
                      </a:lnTo>
                      <a:lnTo>
                        <a:pt x="101" y="77"/>
                      </a:lnTo>
                      <a:lnTo>
                        <a:pt x="92" y="108"/>
                      </a:lnTo>
                      <a:lnTo>
                        <a:pt x="84" y="131"/>
                      </a:lnTo>
                      <a:lnTo>
                        <a:pt x="75" y="161"/>
                      </a:lnTo>
                      <a:lnTo>
                        <a:pt x="67" y="185"/>
                      </a:lnTo>
                      <a:lnTo>
                        <a:pt x="67" y="208"/>
                      </a:lnTo>
                      <a:lnTo>
                        <a:pt x="59" y="238"/>
                      </a:lnTo>
                      <a:lnTo>
                        <a:pt x="50" y="261"/>
                      </a:lnTo>
                      <a:lnTo>
                        <a:pt x="42" y="292"/>
                      </a:lnTo>
                      <a:lnTo>
                        <a:pt x="34" y="315"/>
                      </a:lnTo>
                      <a:lnTo>
                        <a:pt x="25" y="338"/>
                      </a:lnTo>
                      <a:lnTo>
                        <a:pt x="17" y="361"/>
                      </a:lnTo>
                      <a:lnTo>
                        <a:pt x="9" y="392"/>
                      </a:lnTo>
                      <a:lnTo>
                        <a:pt x="0" y="415"/>
                      </a:lnTo>
                      <a:lnTo>
                        <a:pt x="25" y="423"/>
                      </a:lnTo>
                      <a:close/>
                    </a:path>
                  </a:pathLst>
                </a:custGeom>
                <a:solidFill>
                  <a:srgbClr val="000000"/>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Freeform 371"/>
                <p:cNvSpPr/>
                <p:nvPr/>
              </p:nvSpPr>
              <p:spPr>
                <a:xfrm flipH="1">
                  <a:off x="74520" y="172548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8"/>
                      </a:lnTo>
                      <a:lnTo>
                        <a:pt x="9" y="15"/>
                      </a:lnTo>
                      <a:lnTo>
                        <a:pt x="17" y="15"/>
                      </a:lnTo>
                      <a:lnTo>
                        <a:pt x="17" y="8"/>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Freeform 370"/>
                <p:cNvSpPr/>
                <p:nvPr/>
              </p:nvSpPr>
              <p:spPr>
                <a:xfrm flipH="1">
                  <a:off x="12600" y="182232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9" y="16"/>
                      </a:moveTo>
                      <a:lnTo>
                        <a:pt x="17" y="16"/>
                      </a:lnTo>
                      <a:lnTo>
                        <a:pt x="17" y="8"/>
                      </a:lnTo>
                      <a:lnTo>
                        <a:pt x="9" y="0"/>
                      </a:lnTo>
                      <a:lnTo>
                        <a:pt x="0" y="0"/>
                      </a:lnTo>
                      <a:lnTo>
                        <a:pt x="9"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Freeform 369"/>
                <p:cNvSpPr/>
                <p:nvPr/>
              </p:nvSpPr>
              <p:spPr>
                <a:xfrm flipH="1">
                  <a:off x="14040" y="1822320"/>
                  <a:ext cx="45000" cy="46800"/>
                </a:xfrm>
                <a:custGeom>
                  <a:avLst/>
                  <a:gdLst>
                    <a:gd name="textAreaLeft" fmla="*/ -360 w 45000"/>
                    <a:gd name="textAreaRight" fmla="*/ 45000 w 45000"/>
                    <a:gd name="textAreaTop" fmla="*/ 0 h 46800"/>
                    <a:gd name="textAreaBottom" fmla="*/ 47160 h 46800"/>
                  </a:gdLst>
                  <a:ahLst/>
                  <a:rect l="textAreaLeft" t="textAreaTop" r="textAreaRight" b="textAreaBottom"/>
                  <a:pathLst>
                    <a:path w="226" h="224">
                      <a:moveTo>
                        <a:pt x="9" y="224"/>
                      </a:moveTo>
                      <a:lnTo>
                        <a:pt x="25" y="208"/>
                      </a:lnTo>
                      <a:lnTo>
                        <a:pt x="42" y="200"/>
                      </a:lnTo>
                      <a:lnTo>
                        <a:pt x="50" y="185"/>
                      </a:lnTo>
                      <a:lnTo>
                        <a:pt x="67" y="170"/>
                      </a:lnTo>
                      <a:lnTo>
                        <a:pt x="75" y="154"/>
                      </a:lnTo>
                      <a:lnTo>
                        <a:pt x="92" y="147"/>
                      </a:lnTo>
                      <a:lnTo>
                        <a:pt x="100" y="131"/>
                      </a:lnTo>
                      <a:lnTo>
                        <a:pt x="117" y="116"/>
                      </a:lnTo>
                      <a:lnTo>
                        <a:pt x="126" y="108"/>
                      </a:lnTo>
                      <a:lnTo>
                        <a:pt x="142" y="93"/>
                      </a:lnTo>
                      <a:lnTo>
                        <a:pt x="151" y="77"/>
                      </a:lnTo>
                      <a:lnTo>
                        <a:pt x="167" y="70"/>
                      </a:lnTo>
                      <a:lnTo>
                        <a:pt x="184" y="54"/>
                      </a:lnTo>
                      <a:lnTo>
                        <a:pt x="201" y="39"/>
                      </a:lnTo>
                      <a:lnTo>
                        <a:pt x="209" y="31"/>
                      </a:lnTo>
                      <a:lnTo>
                        <a:pt x="226" y="16"/>
                      </a:lnTo>
                      <a:lnTo>
                        <a:pt x="217" y="0"/>
                      </a:lnTo>
                      <a:lnTo>
                        <a:pt x="201" y="16"/>
                      </a:lnTo>
                      <a:lnTo>
                        <a:pt x="184" y="31"/>
                      </a:lnTo>
                      <a:lnTo>
                        <a:pt x="167" y="39"/>
                      </a:lnTo>
                      <a:lnTo>
                        <a:pt x="151" y="54"/>
                      </a:lnTo>
                      <a:lnTo>
                        <a:pt x="142" y="70"/>
                      </a:lnTo>
                      <a:lnTo>
                        <a:pt x="126" y="77"/>
                      </a:lnTo>
                      <a:lnTo>
                        <a:pt x="117" y="93"/>
                      </a:lnTo>
                      <a:lnTo>
                        <a:pt x="100" y="108"/>
                      </a:lnTo>
                      <a:lnTo>
                        <a:pt x="84" y="116"/>
                      </a:lnTo>
                      <a:lnTo>
                        <a:pt x="75" y="131"/>
                      </a:lnTo>
                      <a:lnTo>
                        <a:pt x="59" y="147"/>
                      </a:lnTo>
                      <a:lnTo>
                        <a:pt x="50" y="162"/>
                      </a:lnTo>
                      <a:lnTo>
                        <a:pt x="34" y="170"/>
                      </a:lnTo>
                      <a:lnTo>
                        <a:pt x="25" y="185"/>
                      </a:lnTo>
                      <a:lnTo>
                        <a:pt x="9" y="200"/>
                      </a:lnTo>
                      <a:lnTo>
                        <a:pt x="0" y="208"/>
                      </a:lnTo>
                      <a:lnTo>
                        <a:pt x="9" y="224"/>
                      </a:lnTo>
                      <a:close/>
                    </a:path>
                  </a:pathLst>
                </a:custGeom>
                <a:solidFill>
                  <a:srgbClr val="000000"/>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Freeform 368"/>
                <p:cNvSpPr/>
                <p:nvPr/>
              </p:nvSpPr>
              <p:spPr>
                <a:xfrm flipH="1">
                  <a:off x="14040" y="1822320"/>
                  <a:ext cx="45000" cy="46800"/>
                </a:xfrm>
                <a:custGeom>
                  <a:avLst/>
                  <a:gdLst>
                    <a:gd name="textAreaLeft" fmla="*/ -360 w 45000"/>
                    <a:gd name="textAreaRight" fmla="*/ 45000 w 45000"/>
                    <a:gd name="textAreaTop" fmla="*/ 0 h 46800"/>
                    <a:gd name="textAreaBottom" fmla="*/ 47160 h 46800"/>
                  </a:gdLst>
                  <a:ahLst/>
                  <a:rect l="textAreaLeft" t="textAreaTop" r="textAreaRight" b="textAreaBottom"/>
                  <a:pathLst>
                    <a:path w="226" h="224">
                      <a:moveTo>
                        <a:pt x="9" y="224"/>
                      </a:moveTo>
                      <a:lnTo>
                        <a:pt x="25" y="208"/>
                      </a:lnTo>
                      <a:lnTo>
                        <a:pt x="42" y="200"/>
                      </a:lnTo>
                      <a:lnTo>
                        <a:pt x="50" y="185"/>
                      </a:lnTo>
                      <a:lnTo>
                        <a:pt x="67" y="170"/>
                      </a:lnTo>
                      <a:lnTo>
                        <a:pt x="75" y="154"/>
                      </a:lnTo>
                      <a:lnTo>
                        <a:pt x="92" y="147"/>
                      </a:lnTo>
                      <a:lnTo>
                        <a:pt x="100" y="131"/>
                      </a:lnTo>
                      <a:lnTo>
                        <a:pt x="117" y="116"/>
                      </a:lnTo>
                      <a:lnTo>
                        <a:pt x="126" y="108"/>
                      </a:lnTo>
                      <a:lnTo>
                        <a:pt x="142" y="93"/>
                      </a:lnTo>
                      <a:lnTo>
                        <a:pt x="151" y="77"/>
                      </a:lnTo>
                      <a:lnTo>
                        <a:pt x="167" y="70"/>
                      </a:lnTo>
                      <a:lnTo>
                        <a:pt x="184" y="54"/>
                      </a:lnTo>
                      <a:lnTo>
                        <a:pt x="201" y="39"/>
                      </a:lnTo>
                      <a:lnTo>
                        <a:pt x="209" y="31"/>
                      </a:lnTo>
                      <a:lnTo>
                        <a:pt x="226" y="16"/>
                      </a:lnTo>
                      <a:lnTo>
                        <a:pt x="217" y="0"/>
                      </a:lnTo>
                      <a:lnTo>
                        <a:pt x="201" y="16"/>
                      </a:lnTo>
                      <a:lnTo>
                        <a:pt x="184" y="31"/>
                      </a:lnTo>
                      <a:lnTo>
                        <a:pt x="167" y="39"/>
                      </a:lnTo>
                      <a:lnTo>
                        <a:pt x="151" y="54"/>
                      </a:lnTo>
                      <a:lnTo>
                        <a:pt x="142" y="70"/>
                      </a:lnTo>
                      <a:lnTo>
                        <a:pt x="126" y="77"/>
                      </a:lnTo>
                      <a:lnTo>
                        <a:pt x="117" y="93"/>
                      </a:lnTo>
                      <a:lnTo>
                        <a:pt x="100" y="108"/>
                      </a:lnTo>
                      <a:lnTo>
                        <a:pt x="84" y="116"/>
                      </a:lnTo>
                      <a:lnTo>
                        <a:pt x="75" y="131"/>
                      </a:lnTo>
                      <a:lnTo>
                        <a:pt x="59" y="147"/>
                      </a:lnTo>
                      <a:lnTo>
                        <a:pt x="50" y="162"/>
                      </a:lnTo>
                      <a:lnTo>
                        <a:pt x="34" y="170"/>
                      </a:lnTo>
                      <a:lnTo>
                        <a:pt x="25" y="185"/>
                      </a:lnTo>
                      <a:lnTo>
                        <a:pt x="9" y="200"/>
                      </a:lnTo>
                      <a:lnTo>
                        <a:pt x="0" y="208"/>
                      </a:lnTo>
                      <a:lnTo>
                        <a:pt x="9" y="224"/>
                      </a:lnTo>
                    </a:path>
                  </a:pathLst>
                </a:custGeom>
                <a:noFill/>
                <a:ln w="0">
                  <a:solidFill>
                    <a:srgbClr val="000000"/>
                  </a:solid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Freeform 367"/>
                <p:cNvSpPr/>
                <p:nvPr/>
              </p:nvSpPr>
              <p:spPr>
                <a:xfrm flipH="1">
                  <a:off x="14400" y="182232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8" y="0"/>
                      </a:moveTo>
                      <a:lnTo>
                        <a:pt x="0" y="8"/>
                      </a:lnTo>
                      <a:lnTo>
                        <a:pt x="0" y="16"/>
                      </a:lnTo>
                      <a:lnTo>
                        <a:pt x="8" y="16"/>
                      </a:lnTo>
                      <a:lnTo>
                        <a:pt x="17" y="16"/>
                      </a:lnTo>
                      <a:lnTo>
                        <a:pt x="8"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Freeform 366"/>
                <p:cNvSpPr/>
                <p:nvPr/>
              </p:nvSpPr>
              <p:spPr>
                <a:xfrm flipH="1">
                  <a:off x="-720" y="184968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9" y="16"/>
                      </a:moveTo>
                      <a:lnTo>
                        <a:pt x="17" y="16"/>
                      </a:lnTo>
                      <a:lnTo>
                        <a:pt x="17" y="8"/>
                      </a:lnTo>
                      <a:lnTo>
                        <a:pt x="17" y="0"/>
                      </a:lnTo>
                      <a:lnTo>
                        <a:pt x="9" y="0"/>
                      </a:lnTo>
                      <a:lnTo>
                        <a:pt x="0" y="0"/>
                      </a:lnTo>
                      <a:lnTo>
                        <a:pt x="9"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Freeform 365"/>
                <p:cNvSpPr/>
                <p:nvPr/>
              </p:nvSpPr>
              <p:spPr>
                <a:xfrm flipH="1">
                  <a:off x="-720" y="184968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9" y="16"/>
                      </a:moveTo>
                      <a:lnTo>
                        <a:pt x="17" y="16"/>
                      </a:lnTo>
                      <a:lnTo>
                        <a:pt x="17" y="8"/>
                      </a:lnTo>
                      <a:lnTo>
                        <a:pt x="17" y="0"/>
                      </a:lnTo>
                      <a:lnTo>
                        <a:pt x="9" y="0"/>
                      </a:lnTo>
                      <a:lnTo>
                        <a:pt x="0" y="0"/>
                      </a:lnTo>
                      <a:lnTo>
                        <a:pt x="9" y="16"/>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Freeform 364"/>
                <p:cNvSpPr/>
                <p:nvPr/>
              </p:nvSpPr>
              <p:spPr>
                <a:xfrm flipH="1">
                  <a:off x="1080" y="1849680"/>
                  <a:ext cx="41400" cy="28800"/>
                </a:xfrm>
                <a:custGeom>
                  <a:avLst/>
                  <a:gdLst>
                    <a:gd name="textAreaLeft" fmla="*/ -360 w 41400"/>
                    <a:gd name="textAreaRight" fmla="*/ 41400 w 41400"/>
                    <a:gd name="textAreaTop" fmla="*/ 0 h 28800"/>
                    <a:gd name="textAreaBottom" fmla="*/ 29160 h 28800"/>
                  </a:gdLst>
                  <a:ahLst/>
                  <a:rect l="textAreaLeft" t="textAreaTop" r="textAreaRight" b="textAreaBottom"/>
                  <a:pathLst>
                    <a:path w="209" h="139">
                      <a:moveTo>
                        <a:pt x="8" y="139"/>
                      </a:moveTo>
                      <a:lnTo>
                        <a:pt x="16" y="131"/>
                      </a:lnTo>
                      <a:lnTo>
                        <a:pt x="33" y="123"/>
                      </a:lnTo>
                      <a:lnTo>
                        <a:pt x="50" y="116"/>
                      </a:lnTo>
                      <a:lnTo>
                        <a:pt x="58" y="108"/>
                      </a:lnTo>
                      <a:lnTo>
                        <a:pt x="75" y="100"/>
                      </a:lnTo>
                      <a:lnTo>
                        <a:pt x="83" y="93"/>
                      </a:lnTo>
                      <a:lnTo>
                        <a:pt x="100" y="85"/>
                      </a:lnTo>
                      <a:lnTo>
                        <a:pt x="108" y="77"/>
                      </a:lnTo>
                      <a:lnTo>
                        <a:pt x="125" y="69"/>
                      </a:lnTo>
                      <a:lnTo>
                        <a:pt x="133" y="62"/>
                      </a:lnTo>
                      <a:lnTo>
                        <a:pt x="150" y="54"/>
                      </a:lnTo>
                      <a:lnTo>
                        <a:pt x="159" y="46"/>
                      </a:lnTo>
                      <a:lnTo>
                        <a:pt x="175" y="39"/>
                      </a:lnTo>
                      <a:lnTo>
                        <a:pt x="184" y="31"/>
                      </a:lnTo>
                      <a:lnTo>
                        <a:pt x="200" y="23"/>
                      </a:lnTo>
                      <a:lnTo>
                        <a:pt x="209" y="16"/>
                      </a:lnTo>
                      <a:lnTo>
                        <a:pt x="200" y="0"/>
                      </a:lnTo>
                      <a:lnTo>
                        <a:pt x="192" y="8"/>
                      </a:lnTo>
                      <a:lnTo>
                        <a:pt x="175" y="16"/>
                      </a:lnTo>
                      <a:lnTo>
                        <a:pt x="167" y="23"/>
                      </a:lnTo>
                      <a:lnTo>
                        <a:pt x="150" y="31"/>
                      </a:lnTo>
                      <a:lnTo>
                        <a:pt x="142" y="39"/>
                      </a:lnTo>
                      <a:lnTo>
                        <a:pt x="125" y="46"/>
                      </a:lnTo>
                      <a:lnTo>
                        <a:pt x="108" y="54"/>
                      </a:lnTo>
                      <a:lnTo>
                        <a:pt x="100" y="62"/>
                      </a:lnTo>
                      <a:lnTo>
                        <a:pt x="83" y="69"/>
                      </a:lnTo>
                      <a:lnTo>
                        <a:pt x="75" y="77"/>
                      </a:lnTo>
                      <a:lnTo>
                        <a:pt x="58" y="85"/>
                      </a:lnTo>
                      <a:lnTo>
                        <a:pt x="50" y="93"/>
                      </a:lnTo>
                      <a:lnTo>
                        <a:pt x="33" y="100"/>
                      </a:lnTo>
                      <a:lnTo>
                        <a:pt x="25" y="108"/>
                      </a:lnTo>
                      <a:lnTo>
                        <a:pt x="8" y="116"/>
                      </a:lnTo>
                      <a:lnTo>
                        <a:pt x="0" y="123"/>
                      </a:lnTo>
                      <a:lnTo>
                        <a:pt x="8" y="139"/>
                      </a:lnTo>
                      <a:close/>
                    </a:path>
                  </a:pathLst>
                </a:custGeom>
                <a:solidFill>
                  <a:srgbClr val="000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Freeform 363"/>
                <p:cNvSpPr/>
                <p:nvPr/>
              </p:nvSpPr>
              <p:spPr>
                <a:xfrm flipH="1">
                  <a:off x="1080" y="1849680"/>
                  <a:ext cx="41400" cy="28800"/>
                </a:xfrm>
                <a:custGeom>
                  <a:avLst/>
                  <a:gdLst>
                    <a:gd name="textAreaLeft" fmla="*/ -360 w 41400"/>
                    <a:gd name="textAreaRight" fmla="*/ 41400 w 41400"/>
                    <a:gd name="textAreaTop" fmla="*/ 0 h 28800"/>
                    <a:gd name="textAreaBottom" fmla="*/ 29160 h 28800"/>
                  </a:gdLst>
                  <a:ahLst/>
                  <a:rect l="textAreaLeft" t="textAreaTop" r="textAreaRight" b="textAreaBottom"/>
                  <a:pathLst>
                    <a:path w="209" h="139">
                      <a:moveTo>
                        <a:pt x="8" y="139"/>
                      </a:moveTo>
                      <a:lnTo>
                        <a:pt x="16" y="131"/>
                      </a:lnTo>
                      <a:lnTo>
                        <a:pt x="33" y="123"/>
                      </a:lnTo>
                      <a:lnTo>
                        <a:pt x="50" y="116"/>
                      </a:lnTo>
                      <a:lnTo>
                        <a:pt x="58" y="108"/>
                      </a:lnTo>
                      <a:lnTo>
                        <a:pt x="75" y="100"/>
                      </a:lnTo>
                      <a:lnTo>
                        <a:pt x="83" y="93"/>
                      </a:lnTo>
                      <a:lnTo>
                        <a:pt x="100" y="85"/>
                      </a:lnTo>
                      <a:lnTo>
                        <a:pt x="108" y="77"/>
                      </a:lnTo>
                      <a:lnTo>
                        <a:pt x="125" y="69"/>
                      </a:lnTo>
                      <a:lnTo>
                        <a:pt x="133" y="62"/>
                      </a:lnTo>
                      <a:lnTo>
                        <a:pt x="150" y="54"/>
                      </a:lnTo>
                      <a:lnTo>
                        <a:pt x="159" y="46"/>
                      </a:lnTo>
                      <a:lnTo>
                        <a:pt x="175" y="39"/>
                      </a:lnTo>
                      <a:lnTo>
                        <a:pt x="184" y="31"/>
                      </a:lnTo>
                      <a:lnTo>
                        <a:pt x="200" y="23"/>
                      </a:lnTo>
                      <a:lnTo>
                        <a:pt x="209" y="16"/>
                      </a:lnTo>
                      <a:lnTo>
                        <a:pt x="200" y="0"/>
                      </a:lnTo>
                      <a:lnTo>
                        <a:pt x="192" y="8"/>
                      </a:lnTo>
                      <a:lnTo>
                        <a:pt x="175" y="16"/>
                      </a:lnTo>
                      <a:lnTo>
                        <a:pt x="167" y="23"/>
                      </a:lnTo>
                      <a:lnTo>
                        <a:pt x="150" y="31"/>
                      </a:lnTo>
                      <a:lnTo>
                        <a:pt x="142" y="39"/>
                      </a:lnTo>
                      <a:lnTo>
                        <a:pt x="125" y="46"/>
                      </a:lnTo>
                      <a:lnTo>
                        <a:pt x="108" y="54"/>
                      </a:lnTo>
                      <a:lnTo>
                        <a:pt x="100" y="62"/>
                      </a:lnTo>
                      <a:lnTo>
                        <a:pt x="83" y="69"/>
                      </a:lnTo>
                      <a:lnTo>
                        <a:pt x="75" y="77"/>
                      </a:lnTo>
                      <a:lnTo>
                        <a:pt x="58" y="85"/>
                      </a:lnTo>
                      <a:lnTo>
                        <a:pt x="50" y="93"/>
                      </a:lnTo>
                      <a:lnTo>
                        <a:pt x="33" y="100"/>
                      </a:lnTo>
                      <a:lnTo>
                        <a:pt x="25" y="108"/>
                      </a:lnTo>
                      <a:lnTo>
                        <a:pt x="8" y="116"/>
                      </a:lnTo>
                      <a:lnTo>
                        <a:pt x="0" y="123"/>
                      </a:lnTo>
                      <a:lnTo>
                        <a:pt x="8" y="139"/>
                      </a:lnTo>
                    </a:path>
                  </a:pathLst>
                </a:custGeom>
                <a:noFill/>
                <a:ln w="0">
                  <a:solidFill>
                    <a:srgbClr val="000000"/>
                  </a:solid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Freeform 362"/>
                <p:cNvSpPr/>
                <p:nvPr/>
              </p:nvSpPr>
              <p:spPr>
                <a:xfrm flipH="1">
                  <a:off x="-720" y="1849680"/>
                  <a:ext cx="3240" cy="4680"/>
                </a:xfrm>
                <a:custGeom>
                  <a:avLst/>
                  <a:gdLst>
                    <a:gd name="textAreaLeft" fmla="*/ -360 w 3240"/>
                    <a:gd name="textAreaRight" fmla="*/ 3240 w 3240"/>
                    <a:gd name="textAreaTop" fmla="*/ 0 h 4680"/>
                    <a:gd name="textAreaBottom" fmla="*/ 5040 h 4680"/>
                  </a:gdLst>
                  <a:ahLst/>
                  <a:rect l="textAreaLeft" t="textAreaTop" r="textAreaRight" b="textAreaBottom"/>
                  <a:pathLst>
                    <a:path w="17" h="23">
                      <a:moveTo>
                        <a:pt x="0" y="0"/>
                      </a:moveTo>
                      <a:lnTo>
                        <a:pt x="0" y="8"/>
                      </a:lnTo>
                      <a:lnTo>
                        <a:pt x="0" y="16"/>
                      </a:lnTo>
                      <a:lnTo>
                        <a:pt x="9" y="23"/>
                      </a:lnTo>
                      <a:lnTo>
                        <a:pt x="17" y="16"/>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4" name="Freeform 361"/>
                <p:cNvSpPr/>
                <p:nvPr/>
              </p:nvSpPr>
              <p:spPr>
                <a:xfrm flipH="1">
                  <a:off x="-720" y="1849680"/>
                  <a:ext cx="3240" cy="4680"/>
                </a:xfrm>
                <a:custGeom>
                  <a:avLst/>
                  <a:gdLst>
                    <a:gd name="textAreaLeft" fmla="*/ -360 w 3240"/>
                    <a:gd name="textAreaRight" fmla="*/ 3240 w 3240"/>
                    <a:gd name="textAreaTop" fmla="*/ 0 h 4680"/>
                    <a:gd name="textAreaBottom" fmla="*/ 5040 h 4680"/>
                  </a:gdLst>
                  <a:ahLst/>
                  <a:rect l="textAreaLeft" t="textAreaTop" r="textAreaRight" b="textAreaBottom"/>
                  <a:pathLst>
                    <a:path w="17" h="23">
                      <a:moveTo>
                        <a:pt x="0" y="0"/>
                      </a:moveTo>
                      <a:lnTo>
                        <a:pt x="0" y="8"/>
                      </a:lnTo>
                      <a:lnTo>
                        <a:pt x="0" y="16"/>
                      </a:lnTo>
                      <a:lnTo>
                        <a:pt x="9" y="23"/>
                      </a:lnTo>
                      <a:lnTo>
                        <a:pt x="17" y="16"/>
                      </a:lnTo>
                      <a:lnTo>
                        <a:pt x="0" y="0"/>
                      </a:lnTo>
                    </a:path>
                  </a:pathLst>
                </a:custGeom>
                <a:noFill/>
                <a:ln w="0">
                  <a:solidFill>
                    <a:srgbClr val="000000"/>
                  </a:solid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5" name="Freeform 360"/>
                <p:cNvSpPr/>
                <p:nvPr/>
              </p:nvSpPr>
              <p:spPr>
                <a:xfrm flipH="1">
                  <a:off x="79560" y="168840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17" y="8"/>
                      </a:moveTo>
                      <a:lnTo>
                        <a:pt x="25" y="8"/>
                      </a:lnTo>
                      <a:lnTo>
                        <a:pt x="17" y="0"/>
                      </a:lnTo>
                      <a:lnTo>
                        <a:pt x="8" y="0"/>
                      </a:lnTo>
                      <a:lnTo>
                        <a:pt x="0" y="0"/>
                      </a:lnTo>
                      <a:lnTo>
                        <a:pt x="17"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Freeform 359"/>
                <p:cNvSpPr/>
                <p:nvPr/>
              </p:nvSpPr>
              <p:spPr>
                <a:xfrm flipH="1">
                  <a:off x="81360" y="1688400"/>
                  <a:ext cx="31680" cy="64440"/>
                </a:xfrm>
                <a:custGeom>
                  <a:avLst/>
                  <a:gdLst>
                    <a:gd name="textAreaLeft" fmla="*/ 360 w 31680"/>
                    <a:gd name="textAreaRight" fmla="*/ 32400 w 31680"/>
                    <a:gd name="textAreaTop" fmla="*/ 0 h 64440"/>
                    <a:gd name="textAreaBottom" fmla="*/ 64800 h 64440"/>
                  </a:gdLst>
                  <a:ahLst/>
                  <a:rect l="textAreaLeft" t="textAreaTop" r="textAreaRight" b="textAreaBottom"/>
                  <a:pathLst>
                    <a:path w="159" h="308">
                      <a:moveTo>
                        <a:pt x="16" y="308"/>
                      </a:moveTo>
                      <a:lnTo>
                        <a:pt x="25" y="285"/>
                      </a:lnTo>
                      <a:lnTo>
                        <a:pt x="33" y="269"/>
                      </a:lnTo>
                      <a:lnTo>
                        <a:pt x="42" y="246"/>
                      </a:lnTo>
                      <a:lnTo>
                        <a:pt x="50" y="231"/>
                      </a:lnTo>
                      <a:lnTo>
                        <a:pt x="58" y="208"/>
                      </a:lnTo>
                      <a:lnTo>
                        <a:pt x="67" y="192"/>
                      </a:lnTo>
                      <a:lnTo>
                        <a:pt x="75" y="177"/>
                      </a:lnTo>
                      <a:lnTo>
                        <a:pt x="92" y="154"/>
                      </a:lnTo>
                      <a:lnTo>
                        <a:pt x="100" y="138"/>
                      </a:lnTo>
                      <a:lnTo>
                        <a:pt x="108" y="123"/>
                      </a:lnTo>
                      <a:lnTo>
                        <a:pt x="117" y="100"/>
                      </a:lnTo>
                      <a:lnTo>
                        <a:pt x="125" y="85"/>
                      </a:lnTo>
                      <a:lnTo>
                        <a:pt x="133" y="69"/>
                      </a:lnTo>
                      <a:lnTo>
                        <a:pt x="142" y="46"/>
                      </a:lnTo>
                      <a:lnTo>
                        <a:pt x="150" y="31"/>
                      </a:lnTo>
                      <a:lnTo>
                        <a:pt x="159" y="8"/>
                      </a:lnTo>
                      <a:lnTo>
                        <a:pt x="142" y="0"/>
                      </a:lnTo>
                      <a:lnTo>
                        <a:pt x="133" y="23"/>
                      </a:lnTo>
                      <a:lnTo>
                        <a:pt x="125" y="38"/>
                      </a:lnTo>
                      <a:lnTo>
                        <a:pt x="117" y="62"/>
                      </a:lnTo>
                      <a:lnTo>
                        <a:pt x="108" y="77"/>
                      </a:lnTo>
                      <a:lnTo>
                        <a:pt x="100" y="92"/>
                      </a:lnTo>
                      <a:lnTo>
                        <a:pt x="83" y="108"/>
                      </a:lnTo>
                      <a:lnTo>
                        <a:pt x="75" y="131"/>
                      </a:lnTo>
                      <a:lnTo>
                        <a:pt x="67" y="146"/>
                      </a:lnTo>
                      <a:lnTo>
                        <a:pt x="58" y="169"/>
                      </a:lnTo>
                      <a:lnTo>
                        <a:pt x="50" y="185"/>
                      </a:lnTo>
                      <a:lnTo>
                        <a:pt x="42" y="200"/>
                      </a:lnTo>
                      <a:lnTo>
                        <a:pt x="33" y="223"/>
                      </a:lnTo>
                      <a:lnTo>
                        <a:pt x="25" y="238"/>
                      </a:lnTo>
                      <a:lnTo>
                        <a:pt x="16" y="262"/>
                      </a:lnTo>
                      <a:lnTo>
                        <a:pt x="8" y="277"/>
                      </a:lnTo>
                      <a:lnTo>
                        <a:pt x="0" y="300"/>
                      </a:lnTo>
                      <a:lnTo>
                        <a:pt x="16" y="308"/>
                      </a:lnTo>
                      <a:close/>
                    </a:path>
                  </a:pathLst>
                </a:custGeom>
                <a:solidFill>
                  <a:srgbClr val="000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Freeform 358"/>
                <p:cNvSpPr/>
                <p:nvPr/>
              </p:nvSpPr>
              <p:spPr>
                <a:xfrm flipH="1">
                  <a:off x="81000" y="168840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8"/>
                      </a:lnTo>
                      <a:lnTo>
                        <a:pt x="0" y="15"/>
                      </a:lnTo>
                      <a:lnTo>
                        <a:pt x="8" y="15"/>
                      </a:lnTo>
                      <a:lnTo>
                        <a:pt x="17" y="15"/>
                      </a:lnTo>
                      <a:lnTo>
                        <a:pt x="17" y="8"/>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8" name="Freeform 357"/>
                <p:cNvSpPr/>
                <p:nvPr/>
              </p:nvSpPr>
              <p:spPr>
                <a:xfrm flipH="1">
                  <a:off x="124920" y="165456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6" h="8">
                      <a:moveTo>
                        <a:pt x="16" y="8"/>
                      </a:moveTo>
                      <a:lnTo>
                        <a:pt x="16" y="8"/>
                      </a:lnTo>
                      <a:lnTo>
                        <a:pt x="16" y="0"/>
                      </a:lnTo>
                      <a:lnTo>
                        <a:pt x="8" y="0"/>
                      </a:lnTo>
                      <a:lnTo>
                        <a:pt x="0" y="0"/>
                      </a:lnTo>
                      <a:lnTo>
                        <a:pt x="0" y="8"/>
                      </a:lnTo>
                      <a:lnTo>
                        <a:pt x="16"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Freeform 356"/>
                <p:cNvSpPr/>
                <p:nvPr/>
              </p:nvSpPr>
              <p:spPr>
                <a:xfrm flipH="1">
                  <a:off x="124920" y="1656360"/>
                  <a:ext cx="23040" cy="72360"/>
                </a:xfrm>
                <a:custGeom>
                  <a:avLst/>
                  <a:gdLst>
                    <a:gd name="textAreaLeft" fmla="*/ 360 w 23040"/>
                    <a:gd name="textAreaRight" fmla="*/ 23760 w 23040"/>
                    <a:gd name="textAreaTop" fmla="*/ 0 h 72360"/>
                    <a:gd name="textAreaBottom" fmla="*/ 72720 h 72360"/>
                  </a:gdLst>
                  <a:ahLst/>
                  <a:rect l="textAreaLeft" t="textAreaTop" r="textAreaRight" b="textAreaBottom"/>
                  <a:pathLst>
                    <a:path w="117" h="346">
                      <a:moveTo>
                        <a:pt x="17" y="346"/>
                      </a:moveTo>
                      <a:lnTo>
                        <a:pt x="25" y="331"/>
                      </a:lnTo>
                      <a:lnTo>
                        <a:pt x="34" y="308"/>
                      </a:lnTo>
                      <a:lnTo>
                        <a:pt x="34" y="285"/>
                      </a:lnTo>
                      <a:lnTo>
                        <a:pt x="42" y="262"/>
                      </a:lnTo>
                      <a:lnTo>
                        <a:pt x="50" y="239"/>
                      </a:lnTo>
                      <a:lnTo>
                        <a:pt x="59" y="216"/>
                      </a:lnTo>
                      <a:lnTo>
                        <a:pt x="67" y="192"/>
                      </a:lnTo>
                      <a:lnTo>
                        <a:pt x="67" y="177"/>
                      </a:lnTo>
                      <a:lnTo>
                        <a:pt x="75" y="154"/>
                      </a:lnTo>
                      <a:lnTo>
                        <a:pt x="84" y="131"/>
                      </a:lnTo>
                      <a:lnTo>
                        <a:pt x="92" y="108"/>
                      </a:lnTo>
                      <a:lnTo>
                        <a:pt x="92" y="85"/>
                      </a:lnTo>
                      <a:lnTo>
                        <a:pt x="101" y="62"/>
                      </a:lnTo>
                      <a:lnTo>
                        <a:pt x="109" y="46"/>
                      </a:lnTo>
                      <a:lnTo>
                        <a:pt x="109" y="23"/>
                      </a:lnTo>
                      <a:lnTo>
                        <a:pt x="117" y="0"/>
                      </a:lnTo>
                      <a:lnTo>
                        <a:pt x="101" y="0"/>
                      </a:lnTo>
                      <a:lnTo>
                        <a:pt x="92" y="23"/>
                      </a:lnTo>
                      <a:lnTo>
                        <a:pt x="84" y="39"/>
                      </a:lnTo>
                      <a:lnTo>
                        <a:pt x="84" y="62"/>
                      </a:lnTo>
                      <a:lnTo>
                        <a:pt x="75" y="85"/>
                      </a:lnTo>
                      <a:lnTo>
                        <a:pt x="67" y="100"/>
                      </a:lnTo>
                      <a:lnTo>
                        <a:pt x="67" y="123"/>
                      </a:lnTo>
                      <a:lnTo>
                        <a:pt x="59" y="146"/>
                      </a:lnTo>
                      <a:lnTo>
                        <a:pt x="50" y="169"/>
                      </a:lnTo>
                      <a:lnTo>
                        <a:pt x="42" y="192"/>
                      </a:lnTo>
                      <a:lnTo>
                        <a:pt x="42" y="216"/>
                      </a:lnTo>
                      <a:lnTo>
                        <a:pt x="34" y="239"/>
                      </a:lnTo>
                      <a:lnTo>
                        <a:pt x="25" y="254"/>
                      </a:lnTo>
                      <a:lnTo>
                        <a:pt x="17" y="277"/>
                      </a:lnTo>
                      <a:lnTo>
                        <a:pt x="9" y="300"/>
                      </a:lnTo>
                      <a:lnTo>
                        <a:pt x="9" y="323"/>
                      </a:lnTo>
                      <a:lnTo>
                        <a:pt x="0" y="346"/>
                      </a:lnTo>
                      <a:lnTo>
                        <a:pt x="17" y="346"/>
                      </a:lnTo>
                      <a:close/>
                    </a:path>
                  </a:pathLst>
                </a:custGeom>
                <a:solidFill>
                  <a:srgbClr val="000000"/>
                </a:solidFill>
                <a:ln w="0">
                  <a:no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Freeform 355"/>
                <p:cNvSpPr/>
                <p:nvPr/>
              </p:nvSpPr>
              <p:spPr>
                <a:xfrm flipH="1">
                  <a:off x="124920" y="165636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6" h="8">
                      <a:moveTo>
                        <a:pt x="0" y="0"/>
                      </a:moveTo>
                      <a:lnTo>
                        <a:pt x="0" y="0"/>
                      </a:lnTo>
                      <a:lnTo>
                        <a:pt x="0" y="8"/>
                      </a:lnTo>
                      <a:lnTo>
                        <a:pt x="8" y="8"/>
                      </a:lnTo>
                      <a:lnTo>
                        <a:pt x="16" y="8"/>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Freeform 354"/>
                <p:cNvSpPr/>
                <p:nvPr/>
              </p:nvSpPr>
              <p:spPr>
                <a:xfrm flipH="1">
                  <a:off x="172800" y="1648080"/>
                  <a:ext cx="4680" cy="2880"/>
                </a:xfrm>
                <a:custGeom>
                  <a:avLst/>
                  <a:gdLst>
                    <a:gd name="textAreaLeft" fmla="*/ -360 w 4680"/>
                    <a:gd name="textAreaRight" fmla="*/ 4680 w 4680"/>
                    <a:gd name="textAreaTop" fmla="*/ 0 h 2880"/>
                    <a:gd name="textAreaBottom" fmla="*/ 3240 h 2880"/>
                  </a:gdLst>
                  <a:ahLst/>
                  <a:rect l="textAreaLeft" t="textAreaTop" r="textAreaRight" b="textAreaBottom"/>
                  <a:pathLst>
                    <a:path w="25" h="15">
                      <a:moveTo>
                        <a:pt x="25" y="15"/>
                      </a:moveTo>
                      <a:lnTo>
                        <a:pt x="17" y="7"/>
                      </a:lnTo>
                      <a:lnTo>
                        <a:pt x="17" y="0"/>
                      </a:lnTo>
                      <a:lnTo>
                        <a:pt x="8" y="7"/>
                      </a:lnTo>
                      <a:lnTo>
                        <a:pt x="0" y="15"/>
                      </a:lnTo>
                      <a:lnTo>
                        <a:pt x="25"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2" name="Freeform 352"/>
              <p:cNvSpPr/>
              <p:nvPr/>
            </p:nvSpPr>
            <p:spPr>
              <a:xfrm flipH="1">
                <a:off x="172800" y="1651680"/>
                <a:ext cx="11520" cy="95040"/>
              </a:xfrm>
              <a:custGeom>
                <a:avLst/>
                <a:gdLst>
                  <a:gd name="textAreaLeft" fmla="*/ 360 w 11520"/>
                  <a:gd name="textAreaRight" fmla="*/ 12240 w 11520"/>
                  <a:gd name="textAreaTop" fmla="*/ 0 h 95040"/>
                  <a:gd name="textAreaBottom" fmla="*/ 95400 h 95040"/>
                </a:gdLst>
                <a:ahLst/>
                <a:rect l="textAreaLeft" t="textAreaTop" r="textAreaRight" b="textAreaBottom"/>
                <a:pathLst>
                  <a:path w="59" h="454">
                    <a:moveTo>
                      <a:pt x="25" y="454"/>
                    </a:moveTo>
                    <a:lnTo>
                      <a:pt x="25" y="439"/>
                    </a:lnTo>
                    <a:lnTo>
                      <a:pt x="25" y="423"/>
                    </a:lnTo>
                    <a:lnTo>
                      <a:pt x="25" y="408"/>
                    </a:lnTo>
                    <a:lnTo>
                      <a:pt x="25" y="392"/>
                    </a:lnTo>
                    <a:lnTo>
                      <a:pt x="25" y="377"/>
                    </a:lnTo>
                    <a:lnTo>
                      <a:pt x="25" y="362"/>
                    </a:lnTo>
                    <a:lnTo>
                      <a:pt x="25" y="354"/>
                    </a:lnTo>
                    <a:lnTo>
                      <a:pt x="25" y="339"/>
                    </a:lnTo>
                    <a:lnTo>
                      <a:pt x="25" y="323"/>
                    </a:lnTo>
                    <a:lnTo>
                      <a:pt x="25" y="308"/>
                    </a:lnTo>
                    <a:lnTo>
                      <a:pt x="25" y="292"/>
                    </a:lnTo>
                    <a:lnTo>
                      <a:pt x="25" y="277"/>
                    </a:lnTo>
                    <a:lnTo>
                      <a:pt x="25" y="262"/>
                    </a:lnTo>
                    <a:lnTo>
                      <a:pt x="34" y="246"/>
                    </a:lnTo>
                    <a:lnTo>
                      <a:pt x="34" y="239"/>
                    </a:lnTo>
                    <a:lnTo>
                      <a:pt x="34" y="223"/>
                    </a:lnTo>
                    <a:lnTo>
                      <a:pt x="34" y="208"/>
                    </a:lnTo>
                    <a:lnTo>
                      <a:pt x="34" y="192"/>
                    </a:lnTo>
                    <a:lnTo>
                      <a:pt x="34" y="177"/>
                    </a:lnTo>
                    <a:lnTo>
                      <a:pt x="34" y="169"/>
                    </a:lnTo>
                    <a:lnTo>
                      <a:pt x="42" y="154"/>
                    </a:lnTo>
                    <a:lnTo>
                      <a:pt x="42" y="139"/>
                    </a:lnTo>
                    <a:lnTo>
                      <a:pt x="42" y="123"/>
                    </a:lnTo>
                    <a:lnTo>
                      <a:pt x="42" y="108"/>
                    </a:lnTo>
                    <a:lnTo>
                      <a:pt x="42" y="100"/>
                    </a:lnTo>
                    <a:lnTo>
                      <a:pt x="51" y="85"/>
                    </a:lnTo>
                    <a:lnTo>
                      <a:pt x="51" y="69"/>
                    </a:lnTo>
                    <a:lnTo>
                      <a:pt x="51" y="54"/>
                    </a:lnTo>
                    <a:lnTo>
                      <a:pt x="51" y="39"/>
                    </a:lnTo>
                    <a:lnTo>
                      <a:pt x="51" y="23"/>
                    </a:lnTo>
                    <a:lnTo>
                      <a:pt x="51" y="15"/>
                    </a:lnTo>
                    <a:lnTo>
                      <a:pt x="59" y="0"/>
                    </a:lnTo>
                    <a:lnTo>
                      <a:pt x="34" y="0"/>
                    </a:lnTo>
                    <a:lnTo>
                      <a:pt x="34" y="8"/>
                    </a:lnTo>
                    <a:lnTo>
                      <a:pt x="34" y="23"/>
                    </a:lnTo>
                    <a:lnTo>
                      <a:pt x="34" y="39"/>
                    </a:lnTo>
                    <a:lnTo>
                      <a:pt x="25" y="54"/>
                    </a:lnTo>
                    <a:lnTo>
                      <a:pt x="25" y="69"/>
                    </a:lnTo>
                    <a:lnTo>
                      <a:pt x="25" y="77"/>
                    </a:lnTo>
                    <a:lnTo>
                      <a:pt x="25" y="92"/>
                    </a:lnTo>
                    <a:lnTo>
                      <a:pt x="25" y="108"/>
                    </a:lnTo>
                    <a:lnTo>
                      <a:pt x="25" y="123"/>
                    </a:lnTo>
                    <a:lnTo>
                      <a:pt x="17" y="139"/>
                    </a:lnTo>
                    <a:lnTo>
                      <a:pt x="17" y="146"/>
                    </a:lnTo>
                    <a:lnTo>
                      <a:pt x="17" y="162"/>
                    </a:lnTo>
                    <a:lnTo>
                      <a:pt x="17" y="177"/>
                    </a:lnTo>
                    <a:lnTo>
                      <a:pt x="17" y="192"/>
                    </a:lnTo>
                    <a:lnTo>
                      <a:pt x="17" y="208"/>
                    </a:lnTo>
                    <a:lnTo>
                      <a:pt x="9" y="223"/>
                    </a:lnTo>
                    <a:lnTo>
                      <a:pt x="9" y="239"/>
                    </a:lnTo>
                    <a:lnTo>
                      <a:pt x="9" y="246"/>
                    </a:lnTo>
                    <a:lnTo>
                      <a:pt x="9" y="262"/>
                    </a:lnTo>
                    <a:lnTo>
                      <a:pt x="9" y="277"/>
                    </a:lnTo>
                    <a:lnTo>
                      <a:pt x="9" y="292"/>
                    </a:lnTo>
                    <a:lnTo>
                      <a:pt x="9" y="308"/>
                    </a:lnTo>
                    <a:lnTo>
                      <a:pt x="9" y="323"/>
                    </a:lnTo>
                    <a:lnTo>
                      <a:pt x="9" y="331"/>
                    </a:lnTo>
                    <a:lnTo>
                      <a:pt x="0" y="346"/>
                    </a:lnTo>
                    <a:lnTo>
                      <a:pt x="0" y="362"/>
                    </a:lnTo>
                    <a:lnTo>
                      <a:pt x="0" y="377"/>
                    </a:lnTo>
                    <a:lnTo>
                      <a:pt x="0" y="392"/>
                    </a:lnTo>
                    <a:lnTo>
                      <a:pt x="0" y="408"/>
                    </a:lnTo>
                    <a:lnTo>
                      <a:pt x="0" y="423"/>
                    </a:lnTo>
                    <a:lnTo>
                      <a:pt x="0" y="439"/>
                    </a:lnTo>
                    <a:lnTo>
                      <a:pt x="0" y="454"/>
                    </a:lnTo>
                    <a:lnTo>
                      <a:pt x="25" y="45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3" name="Freeform 351"/>
              <p:cNvSpPr/>
              <p:nvPr/>
            </p:nvSpPr>
            <p:spPr>
              <a:xfrm flipH="1">
                <a:off x="172440" y="165168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0"/>
                    </a:moveTo>
                    <a:lnTo>
                      <a:pt x="8" y="8"/>
                    </a:lnTo>
                    <a:lnTo>
                      <a:pt x="17" y="8"/>
                    </a:lnTo>
                    <a:lnTo>
                      <a:pt x="25"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4" name="Freeform 350"/>
              <p:cNvSpPr/>
              <p:nvPr/>
            </p:nvSpPr>
            <p:spPr>
              <a:xfrm flipH="1">
                <a:off x="215640" y="169200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8"/>
                    </a:lnTo>
                    <a:lnTo>
                      <a:pt x="8" y="8"/>
                    </a:lnTo>
                    <a:lnTo>
                      <a:pt x="17" y="8"/>
                    </a:lnTo>
                    <a:lnTo>
                      <a:pt x="17"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5" name="Freeform 349"/>
              <p:cNvSpPr/>
              <p:nvPr/>
            </p:nvSpPr>
            <p:spPr>
              <a:xfrm flipH="1">
                <a:off x="216360" y="1643760"/>
                <a:ext cx="6480" cy="47880"/>
              </a:xfrm>
              <a:custGeom>
                <a:avLst/>
                <a:gdLst>
                  <a:gd name="textAreaLeft" fmla="*/ 360 w 6480"/>
                  <a:gd name="textAreaRight" fmla="*/ 7200 w 6480"/>
                  <a:gd name="textAreaTop" fmla="*/ 0 h 47880"/>
                  <a:gd name="textAreaBottom" fmla="*/ 48240 h 47880"/>
                </a:gdLst>
                <a:ahLst/>
                <a:rect l="textAreaLeft" t="textAreaTop" r="textAreaRight" b="textAreaBottom"/>
                <a:pathLst>
                  <a:path w="34" h="230">
                    <a:moveTo>
                      <a:pt x="9" y="23"/>
                    </a:moveTo>
                    <a:lnTo>
                      <a:pt x="0" y="15"/>
                    </a:lnTo>
                    <a:lnTo>
                      <a:pt x="0" y="23"/>
                    </a:lnTo>
                    <a:lnTo>
                      <a:pt x="0" y="38"/>
                    </a:lnTo>
                    <a:lnTo>
                      <a:pt x="0" y="46"/>
                    </a:lnTo>
                    <a:lnTo>
                      <a:pt x="9" y="61"/>
                    </a:lnTo>
                    <a:lnTo>
                      <a:pt x="9" y="77"/>
                    </a:lnTo>
                    <a:lnTo>
                      <a:pt x="9" y="92"/>
                    </a:lnTo>
                    <a:lnTo>
                      <a:pt x="9" y="100"/>
                    </a:lnTo>
                    <a:lnTo>
                      <a:pt x="9" y="115"/>
                    </a:lnTo>
                    <a:lnTo>
                      <a:pt x="9" y="130"/>
                    </a:lnTo>
                    <a:lnTo>
                      <a:pt x="17" y="146"/>
                    </a:lnTo>
                    <a:lnTo>
                      <a:pt x="17" y="161"/>
                    </a:lnTo>
                    <a:lnTo>
                      <a:pt x="17" y="169"/>
                    </a:lnTo>
                    <a:lnTo>
                      <a:pt x="17" y="184"/>
                    </a:lnTo>
                    <a:lnTo>
                      <a:pt x="17" y="200"/>
                    </a:lnTo>
                    <a:lnTo>
                      <a:pt x="17" y="215"/>
                    </a:lnTo>
                    <a:lnTo>
                      <a:pt x="17" y="230"/>
                    </a:lnTo>
                    <a:lnTo>
                      <a:pt x="34" y="230"/>
                    </a:lnTo>
                    <a:lnTo>
                      <a:pt x="34" y="215"/>
                    </a:lnTo>
                    <a:lnTo>
                      <a:pt x="34" y="200"/>
                    </a:lnTo>
                    <a:lnTo>
                      <a:pt x="34" y="184"/>
                    </a:lnTo>
                    <a:lnTo>
                      <a:pt x="34" y="169"/>
                    </a:lnTo>
                    <a:lnTo>
                      <a:pt x="34" y="161"/>
                    </a:lnTo>
                    <a:lnTo>
                      <a:pt x="34" y="146"/>
                    </a:lnTo>
                    <a:lnTo>
                      <a:pt x="34" y="130"/>
                    </a:lnTo>
                    <a:lnTo>
                      <a:pt x="34" y="115"/>
                    </a:lnTo>
                    <a:lnTo>
                      <a:pt x="25" y="100"/>
                    </a:lnTo>
                    <a:lnTo>
                      <a:pt x="25" y="84"/>
                    </a:lnTo>
                    <a:lnTo>
                      <a:pt x="25" y="77"/>
                    </a:lnTo>
                    <a:lnTo>
                      <a:pt x="25" y="61"/>
                    </a:lnTo>
                    <a:lnTo>
                      <a:pt x="25" y="46"/>
                    </a:lnTo>
                    <a:lnTo>
                      <a:pt x="17" y="30"/>
                    </a:lnTo>
                    <a:lnTo>
                      <a:pt x="17" y="23"/>
                    </a:lnTo>
                    <a:lnTo>
                      <a:pt x="17" y="7"/>
                    </a:lnTo>
                    <a:lnTo>
                      <a:pt x="9" y="0"/>
                    </a:lnTo>
                    <a:lnTo>
                      <a:pt x="9" y="23"/>
                    </a:lnTo>
                    <a:close/>
                  </a:path>
                </a:pathLst>
              </a:custGeom>
              <a:solidFill>
                <a:srgbClr val="00000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6" name="Freeform 348"/>
              <p:cNvSpPr/>
              <p:nvPr/>
            </p:nvSpPr>
            <p:spPr>
              <a:xfrm flipH="1">
                <a:off x="220680" y="1643760"/>
                <a:ext cx="46440" cy="20880"/>
              </a:xfrm>
              <a:custGeom>
                <a:avLst/>
                <a:gdLst>
                  <a:gd name="textAreaLeft" fmla="*/ -360 w 46440"/>
                  <a:gd name="textAreaRight" fmla="*/ 46440 w 46440"/>
                  <a:gd name="textAreaTop" fmla="*/ 0 h 20880"/>
                  <a:gd name="textAreaBottom" fmla="*/ 21240 h 20880"/>
                </a:gdLst>
                <a:ahLst/>
                <a:rect l="textAreaLeft" t="textAreaTop" r="textAreaRight" b="textAreaBottom"/>
                <a:pathLst>
                  <a:path w="234" h="100">
                    <a:moveTo>
                      <a:pt x="16" y="92"/>
                    </a:moveTo>
                    <a:lnTo>
                      <a:pt x="16" y="100"/>
                    </a:lnTo>
                    <a:lnTo>
                      <a:pt x="25" y="92"/>
                    </a:lnTo>
                    <a:lnTo>
                      <a:pt x="41" y="84"/>
                    </a:lnTo>
                    <a:lnTo>
                      <a:pt x="50" y="84"/>
                    </a:lnTo>
                    <a:lnTo>
                      <a:pt x="66" y="77"/>
                    </a:lnTo>
                    <a:lnTo>
                      <a:pt x="75" y="69"/>
                    </a:lnTo>
                    <a:lnTo>
                      <a:pt x="91" y="61"/>
                    </a:lnTo>
                    <a:lnTo>
                      <a:pt x="108" y="61"/>
                    </a:lnTo>
                    <a:lnTo>
                      <a:pt x="117" y="53"/>
                    </a:lnTo>
                    <a:lnTo>
                      <a:pt x="133" y="46"/>
                    </a:lnTo>
                    <a:lnTo>
                      <a:pt x="150" y="38"/>
                    </a:lnTo>
                    <a:lnTo>
                      <a:pt x="167" y="38"/>
                    </a:lnTo>
                    <a:lnTo>
                      <a:pt x="183" y="30"/>
                    </a:lnTo>
                    <a:lnTo>
                      <a:pt x="192" y="30"/>
                    </a:lnTo>
                    <a:lnTo>
                      <a:pt x="208" y="23"/>
                    </a:lnTo>
                    <a:lnTo>
                      <a:pt x="225" y="23"/>
                    </a:lnTo>
                    <a:lnTo>
                      <a:pt x="234" y="23"/>
                    </a:lnTo>
                    <a:lnTo>
                      <a:pt x="234" y="0"/>
                    </a:lnTo>
                    <a:lnTo>
                      <a:pt x="217" y="0"/>
                    </a:lnTo>
                    <a:lnTo>
                      <a:pt x="200" y="7"/>
                    </a:lnTo>
                    <a:lnTo>
                      <a:pt x="192" y="15"/>
                    </a:lnTo>
                    <a:lnTo>
                      <a:pt x="175" y="15"/>
                    </a:lnTo>
                    <a:lnTo>
                      <a:pt x="158" y="23"/>
                    </a:lnTo>
                    <a:lnTo>
                      <a:pt x="142" y="23"/>
                    </a:lnTo>
                    <a:lnTo>
                      <a:pt x="125" y="30"/>
                    </a:lnTo>
                    <a:lnTo>
                      <a:pt x="117" y="30"/>
                    </a:lnTo>
                    <a:lnTo>
                      <a:pt x="100" y="38"/>
                    </a:lnTo>
                    <a:lnTo>
                      <a:pt x="83" y="46"/>
                    </a:lnTo>
                    <a:lnTo>
                      <a:pt x="66" y="53"/>
                    </a:lnTo>
                    <a:lnTo>
                      <a:pt x="58" y="61"/>
                    </a:lnTo>
                    <a:lnTo>
                      <a:pt x="41" y="61"/>
                    </a:lnTo>
                    <a:lnTo>
                      <a:pt x="25" y="69"/>
                    </a:lnTo>
                    <a:lnTo>
                      <a:pt x="16" y="77"/>
                    </a:lnTo>
                    <a:lnTo>
                      <a:pt x="0" y="84"/>
                    </a:lnTo>
                    <a:lnTo>
                      <a:pt x="0" y="92"/>
                    </a:lnTo>
                    <a:lnTo>
                      <a:pt x="16" y="92"/>
                    </a:lnTo>
                    <a:close/>
                  </a:path>
                </a:pathLst>
              </a:custGeom>
              <a:solidFill>
                <a:srgbClr val="000000"/>
              </a:solidFill>
              <a:ln w="0">
                <a:no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7" name="Freeform 347"/>
              <p:cNvSpPr/>
              <p:nvPr/>
            </p:nvSpPr>
            <p:spPr>
              <a:xfrm flipH="1">
                <a:off x="257400" y="1662840"/>
                <a:ext cx="9720" cy="62640"/>
              </a:xfrm>
              <a:custGeom>
                <a:avLst/>
                <a:gdLst>
                  <a:gd name="textAreaLeft" fmla="*/ -360 w 9720"/>
                  <a:gd name="textAreaRight" fmla="*/ 9720 w 9720"/>
                  <a:gd name="textAreaTop" fmla="*/ 0 h 62640"/>
                  <a:gd name="textAreaBottom" fmla="*/ 63000 h 62640"/>
                </a:gdLst>
                <a:ahLst/>
                <a:rect l="textAreaLeft" t="textAreaTop" r="textAreaRight" b="textAreaBottom"/>
                <a:pathLst>
                  <a:path w="50" h="300">
                    <a:moveTo>
                      <a:pt x="50" y="300"/>
                    </a:moveTo>
                    <a:lnTo>
                      <a:pt x="50" y="277"/>
                    </a:lnTo>
                    <a:lnTo>
                      <a:pt x="50" y="261"/>
                    </a:lnTo>
                    <a:lnTo>
                      <a:pt x="41" y="246"/>
                    </a:lnTo>
                    <a:lnTo>
                      <a:pt x="41" y="223"/>
                    </a:lnTo>
                    <a:lnTo>
                      <a:pt x="41" y="208"/>
                    </a:lnTo>
                    <a:lnTo>
                      <a:pt x="41" y="185"/>
                    </a:lnTo>
                    <a:lnTo>
                      <a:pt x="33" y="169"/>
                    </a:lnTo>
                    <a:lnTo>
                      <a:pt x="33" y="154"/>
                    </a:lnTo>
                    <a:lnTo>
                      <a:pt x="33" y="131"/>
                    </a:lnTo>
                    <a:lnTo>
                      <a:pt x="33" y="115"/>
                    </a:lnTo>
                    <a:lnTo>
                      <a:pt x="33" y="92"/>
                    </a:lnTo>
                    <a:lnTo>
                      <a:pt x="25" y="77"/>
                    </a:lnTo>
                    <a:lnTo>
                      <a:pt x="25" y="54"/>
                    </a:lnTo>
                    <a:lnTo>
                      <a:pt x="25" y="38"/>
                    </a:lnTo>
                    <a:lnTo>
                      <a:pt x="16" y="23"/>
                    </a:lnTo>
                    <a:lnTo>
                      <a:pt x="16" y="0"/>
                    </a:lnTo>
                    <a:lnTo>
                      <a:pt x="0" y="0"/>
                    </a:lnTo>
                    <a:lnTo>
                      <a:pt x="0" y="23"/>
                    </a:lnTo>
                    <a:lnTo>
                      <a:pt x="0" y="38"/>
                    </a:lnTo>
                    <a:lnTo>
                      <a:pt x="8" y="61"/>
                    </a:lnTo>
                    <a:lnTo>
                      <a:pt x="8" y="77"/>
                    </a:lnTo>
                    <a:lnTo>
                      <a:pt x="8" y="92"/>
                    </a:lnTo>
                    <a:lnTo>
                      <a:pt x="8" y="115"/>
                    </a:lnTo>
                    <a:lnTo>
                      <a:pt x="16" y="131"/>
                    </a:lnTo>
                    <a:lnTo>
                      <a:pt x="16" y="154"/>
                    </a:lnTo>
                    <a:lnTo>
                      <a:pt x="16" y="169"/>
                    </a:lnTo>
                    <a:lnTo>
                      <a:pt x="16" y="192"/>
                    </a:lnTo>
                    <a:lnTo>
                      <a:pt x="16" y="208"/>
                    </a:lnTo>
                    <a:lnTo>
                      <a:pt x="25" y="223"/>
                    </a:lnTo>
                    <a:lnTo>
                      <a:pt x="25" y="246"/>
                    </a:lnTo>
                    <a:lnTo>
                      <a:pt x="25" y="261"/>
                    </a:lnTo>
                    <a:lnTo>
                      <a:pt x="25" y="285"/>
                    </a:lnTo>
                    <a:lnTo>
                      <a:pt x="33" y="300"/>
                    </a:lnTo>
                    <a:lnTo>
                      <a:pt x="50" y="300"/>
                    </a:lnTo>
                    <a:close/>
                  </a:path>
                </a:pathLst>
              </a:custGeom>
              <a:solidFill>
                <a:srgbClr val="000000"/>
              </a:solidFill>
              <a:ln w="0">
                <a:no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8" name="Freeform 346"/>
              <p:cNvSpPr/>
              <p:nvPr/>
            </p:nvSpPr>
            <p:spPr>
              <a:xfrm flipH="1">
                <a:off x="264600" y="166284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6" h="8">
                    <a:moveTo>
                      <a:pt x="0" y="0"/>
                    </a:moveTo>
                    <a:lnTo>
                      <a:pt x="0" y="8"/>
                    </a:lnTo>
                    <a:lnTo>
                      <a:pt x="8" y="8"/>
                    </a:lnTo>
                    <a:lnTo>
                      <a:pt x="16" y="8"/>
                    </a:lnTo>
                    <a:lnTo>
                      <a:pt x="16"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9" name="Freeform 345"/>
              <p:cNvSpPr/>
              <p:nvPr/>
            </p:nvSpPr>
            <p:spPr>
              <a:xfrm flipH="1">
                <a:off x="312480" y="17114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7"/>
                    </a:moveTo>
                    <a:lnTo>
                      <a:pt x="17" y="7"/>
                    </a:lnTo>
                    <a:lnTo>
                      <a:pt x="9" y="0"/>
                    </a:lnTo>
                    <a:lnTo>
                      <a:pt x="0" y="7"/>
                    </a:lnTo>
                    <a:lnTo>
                      <a:pt x="0" y="15"/>
                    </a:lnTo>
                    <a:lnTo>
                      <a:pt x="17" y="7"/>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0" name="Freeform 344"/>
              <p:cNvSpPr/>
              <p:nvPr/>
            </p:nvSpPr>
            <p:spPr>
              <a:xfrm flipH="1">
                <a:off x="284400" y="1712880"/>
                <a:ext cx="31680" cy="91800"/>
              </a:xfrm>
              <a:custGeom>
                <a:avLst/>
                <a:gdLst>
                  <a:gd name="textAreaLeft" fmla="*/ 360 w 31680"/>
                  <a:gd name="textAreaRight" fmla="*/ 32400 w 31680"/>
                  <a:gd name="textAreaTop" fmla="*/ 0 h 91800"/>
                  <a:gd name="textAreaBottom" fmla="*/ 92160 h 91800"/>
                </a:gdLst>
                <a:ahLst/>
                <a:rect l="textAreaLeft" t="textAreaTop" r="textAreaRight" b="textAreaBottom"/>
                <a:pathLst>
                  <a:path w="159" h="439">
                    <a:moveTo>
                      <a:pt x="159" y="431"/>
                    </a:moveTo>
                    <a:lnTo>
                      <a:pt x="151" y="408"/>
                    </a:lnTo>
                    <a:lnTo>
                      <a:pt x="134" y="377"/>
                    </a:lnTo>
                    <a:lnTo>
                      <a:pt x="126" y="354"/>
                    </a:lnTo>
                    <a:lnTo>
                      <a:pt x="117" y="323"/>
                    </a:lnTo>
                    <a:lnTo>
                      <a:pt x="109" y="293"/>
                    </a:lnTo>
                    <a:lnTo>
                      <a:pt x="100" y="270"/>
                    </a:lnTo>
                    <a:lnTo>
                      <a:pt x="92" y="247"/>
                    </a:lnTo>
                    <a:lnTo>
                      <a:pt x="84" y="216"/>
                    </a:lnTo>
                    <a:lnTo>
                      <a:pt x="75" y="193"/>
                    </a:lnTo>
                    <a:lnTo>
                      <a:pt x="67" y="162"/>
                    </a:lnTo>
                    <a:lnTo>
                      <a:pt x="59" y="139"/>
                    </a:lnTo>
                    <a:lnTo>
                      <a:pt x="50" y="108"/>
                    </a:lnTo>
                    <a:lnTo>
                      <a:pt x="42" y="85"/>
                    </a:lnTo>
                    <a:lnTo>
                      <a:pt x="34" y="54"/>
                    </a:lnTo>
                    <a:lnTo>
                      <a:pt x="25" y="31"/>
                    </a:lnTo>
                    <a:lnTo>
                      <a:pt x="17" y="0"/>
                    </a:lnTo>
                    <a:lnTo>
                      <a:pt x="0" y="8"/>
                    </a:lnTo>
                    <a:lnTo>
                      <a:pt x="9" y="39"/>
                    </a:lnTo>
                    <a:lnTo>
                      <a:pt x="17" y="62"/>
                    </a:lnTo>
                    <a:lnTo>
                      <a:pt x="25" y="93"/>
                    </a:lnTo>
                    <a:lnTo>
                      <a:pt x="34" y="116"/>
                    </a:lnTo>
                    <a:lnTo>
                      <a:pt x="42" y="147"/>
                    </a:lnTo>
                    <a:lnTo>
                      <a:pt x="50" y="170"/>
                    </a:lnTo>
                    <a:lnTo>
                      <a:pt x="59" y="193"/>
                    </a:lnTo>
                    <a:lnTo>
                      <a:pt x="67" y="223"/>
                    </a:lnTo>
                    <a:lnTo>
                      <a:pt x="75" y="247"/>
                    </a:lnTo>
                    <a:lnTo>
                      <a:pt x="84" y="277"/>
                    </a:lnTo>
                    <a:lnTo>
                      <a:pt x="92" y="300"/>
                    </a:lnTo>
                    <a:lnTo>
                      <a:pt x="100" y="331"/>
                    </a:lnTo>
                    <a:lnTo>
                      <a:pt x="109" y="354"/>
                    </a:lnTo>
                    <a:lnTo>
                      <a:pt x="117" y="385"/>
                    </a:lnTo>
                    <a:lnTo>
                      <a:pt x="126" y="416"/>
                    </a:lnTo>
                    <a:lnTo>
                      <a:pt x="142" y="439"/>
                    </a:lnTo>
                    <a:lnTo>
                      <a:pt x="159" y="431"/>
                    </a:lnTo>
                    <a:close/>
                  </a:path>
                </a:pathLst>
              </a:custGeom>
              <a:solidFill>
                <a:srgbClr val="000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1" name="Freeform 343"/>
              <p:cNvSpPr/>
              <p:nvPr/>
            </p:nvSpPr>
            <p:spPr>
              <a:xfrm flipH="1">
                <a:off x="312480" y="171288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0" y="8"/>
                    </a:moveTo>
                    <a:lnTo>
                      <a:pt x="0" y="16"/>
                    </a:lnTo>
                    <a:lnTo>
                      <a:pt x="9" y="16"/>
                    </a:lnTo>
                    <a:lnTo>
                      <a:pt x="17" y="16"/>
                    </a:lnTo>
                    <a:lnTo>
                      <a:pt x="17" y="8"/>
                    </a:lnTo>
                    <a:lnTo>
                      <a:pt x="17" y="0"/>
                    </a:lnTo>
                    <a:lnTo>
                      <a:pt x="0"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Freeform 342"/>
              <p:cNvSpPr/>
              <p:nvPr/>
            </p:nvSpPr>
            <p:spPr>
              <a:xfrm flipH="1">
                <a:off x="219240" y="172908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17" y="8"/>
                    </a:moveTo>
                    <a:lnTo>
                      <a:pt x="17" y="8"/>
                    </a:lnTo>
                    <a:lnTo>
                      <a:pt x="9" y="0"/>
                    </a:lnTo>
                    <a:lnTo>
                      <a:pt x="0" y="8"/>
                    </a:lnTo>
                    <a:lnTo>
                      <a:pt x="0" y="16"/>
                    </a:lnTo>
                    <a:lnTo>
                      <a:pt x="17"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Freeform 341"/>
              <p:cNvSpPr/>
              <p:nvPr/>
            </p:nvSpPr>
            <p:spPr>
              <a:xfrm flipH="1">
                <a:off x="216360" y="1730880"/>
                <a:ext cx="6480" cy="23760"/>
              </a:xfrm>
              <a:custGeom>
                <a:avLst/>
                <a:gdLst>
                  <a:gd name="textAreaLeft" fmla="*/ 360 w 6480"/>
                  <a:gd name="textAreaRight" fmla="*/ 7200 w 6480"/>
                  <a:gd name="textAreaTop" fmla="*/ 0 h 23760"/>
                  <a:gd name="textAreaBottom" fmla="*/ 24120 h 23760"/>
                </a:gdLst>
                <a:ahLst/>
                <a:rect l="textAreaLeft" t="textAreaTop" r="textAreaRight" b="textAreaBottom"/>
                <a:pathLst>
                  <a:path w="34" h="115">
                    <a:moveTo>
                      <a:pt x="34" y="115"/>
                    </a:moveTo>
                    <a:lnTo>
                      <a:pt x="34" y="108"/>
                    </a:lnTo>
                    <a:lnTo>
                      <a:pt x="25" y="100"/>
                    </a:lnTo>
                    <a:lnTo>
                      <a:pt x="25" y="92"/>
                    </a:lnTo>
                    <a:lnTo>
                      <a:pt x="25" y="85"/>
                    </a:lnTo>
                    <a:lnTo>
                      <a:pt x="25" y="77"/>
                    </a:lnTo>
                    <a:lnTo>
                      <a:pt x="25" y="69"/>
                    </a:lnTo>
                    <a:lnTo>
                      <a:pt x="25" y="62"/>
                    </a:lnTo>
                    <a:lnTo>
                      <a:pt x="25" y="54"/>
                    </a:lnTo>
                    <a:lnTo>
                      <a:pt x="25" y="46"/>
                    </a:lnTo>
                    <a:lnTo>
                      <a:pt x="25" y="38"/>
                    </a:lnTo>
                    <a:lnTo>
                      <a:pt x="17" y="31"/>
                    </a:lnTo>
                    <a:lnTo>
                      <a:pt x="17" y="23"/>
                    </a:lnTo>
                    <a:lnTo>
                      <a:pt x="17" y="15"/>
                    </a:lnTo>
                    <a:lnTo>
                      <a:pt x="17" y="8"/>
                    </a:lnTo>
                    <a:lnTo>
                      <a:pt x="17" y="0"/>
                    </a:lnTo>
                    <a:lnTo>
                      <a:pt x="0" y="8"/>
                    </a:lnTo>
                    <a:lnTo>
                      <a:pt x="0" y="15"/>
                    </a:lnTo>
                    <a:lnTo>
                      <a:pt x="0" y="23"/>
                    </a:lnTo>
                    <a:lnTo>
                      <a:pt x="0" y="31"/>
                    </a:lnTo>
                    <a:lnTo>
                      <a:pt x="0" y="38"/>
                    </a:lnTo>
                    <a:lnTo>
                      <a:pt x="0" y="46"/>
                    </a:lnTo>
                    <a:lnTo>
                      <a:pt x="0" y="54"/>
                    </a:lnTo>
                    <a:lnTo>
                      <a:pt x="9" y="62"/>
                    </a:lnTo>
                    <a:lnTo>
                      <a:pt x="9" y="69"/>
                    </a:lnTo>
                    <a:lnTo>
                      <a:pt x="9" y="77"/>
                    </a:lnTo>
                    <a:lnTo>
                      <a:pt x="9" y="85"/>
                    </a:lnTo>
                    <a:lnTo>
                      <a:pt x="9" y="92"/>
                    </a:lnTo>
                    <a:lnTo>
                      <a:pt x="9" y="100"/>
                    </a:lnTo>
                    <a:lnTo>
                      <a:pt x="9" y="108"/>
                    </a:lnTo>
                    <a:lnTo>
                      <a:pt x="9" y="115"/>
                    </a:lnTo>
                    <a:lnTo>
                      <a:pt x="34" y="115"/>
                    </a:lnTo>
                    <a:close/>
                  </a:path>
                </a:pathLst>
              </a:custGeom>
              <a:solidFill>
                <a:srgbClr val="00000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4" name="Freeform 340"/>
              <p:cNvSpPr/>
              <p:nvPr/>
            </p:nvSpPr>
            <p:spPr>
              <a:xfrm flipH="1">
                <a:off x="219240" y="173088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8"/>
                    </a:moveTo>
                    <a:lnTo>
                      <a:pt x="0" y="8"/>
                    </a:lnTo>
                    <a:lnTo>
                      <a:pt x="9" y="15"/>
                    </a:lnTo>
                    <a:lnTo>
                      <a:pt x="17" y="8"/>
                    </a:lnTo>
                    <a:lnTo>
                      <a:pt x="17" y="0"/>
                    </a:lnTo>
                    <a:lnTo>
                      <a:pt x="0" y="8"/>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5" name="Freeform 339"/>
              <p:cNvSpPr/>
              <p:nvPr/>
            </p:nvSpPr>
            <p:spPr>
              <a:xfrm flipH="1">
                <a:off x="329400" y="1737360"/>
                <a:ext cx="4680" cy="2880"/>
              </a:xfrm>
              <a:custGeom>
                <a:avLst/>
                <a:gdLst>
                  <a:gd name="textAreaLeft" fmla="*/ -360 w 4680"/>
                  <a:gd name="textAreaRight" fmla="*/ 4680 w 4680"/>
                  <a:gd name="textAreaTop" fmla="*/ 0 h 2880"/>
                  <a:gd name="textAreaBottom" fmla="*/ 3240 h 2880"/>
                </a:gdLst>
                <a:ahLst/>
                <a:rect l="textAreaLeft" t="textAreaTop" r="textAreaRight" b="textAreaBottom"/>
                <a:pathLst>
                  <a:path w="25" h="15">
                    <a:moveTo>
                      <a:pt x="0" y="7"/>
                    </a:moveTo>
                    <a:lnTo>
                      <a:pt x="0" y="7"/>
                    </a:lnTo>
                    <a:lnTo>
                      <a:pt x="9" y="7"/>
                    </a:lnTo>
                    <a:lnTo>
                      <a:pt x="9" y="15"/>
                    </a:lnTo>
                    <a:lnTo>
                      <a:pt x="17" y="15"/>
                    </a:lnTo>
                    <a:lnTo>
                      <a:pt x="17" y="7"/>
                    </a:lnTo>
                    <a:lnTo>
                      <a:pt x="25" y="0"/>
                    </a:lnTo>
                    <a:lnTo>
                      <a:pt x="0" y="7"/>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Freeform 338"/>
              <p:cNvSpPr/>
              <p:nvPr/>
            </p:nvSpPr>
            <p:spPr>
              <a:xfrm flipH="1">
                <a:off x="329400" y="1703160"/>
                <a:ext cx="14760" cy="35280"/>
              </a:xfrm>
              <a:custGeom>
                <a:avLst/>
                <a:gdLst>
                  <a:gd name="textAreaLeft" fmla="*/ -360 w 14760"/>
                  <a:gd name="textAreaRight" fmla="*/ 14760 w 14760"/>
                  <a:gd name="textAreaTop" fmla="*/ 0 h 35280"/>
                  <a:gd name="textAreaBottom" fmla="*/ 35640 h 35280"/>
                </a:gdLst>
                <a:ahLst/>
                <a:rect l="textAreaLeft" t="textAreaTop" r="textAreaRight" b="textAreaBottom"/>
                <a:pathLst>
                  <a:path w="75" h="169">
                    <a:moveTo>
                      <a:pt x="8" y="16"/>
                    </a:moveTo>
                    <a:lnTo>
                      <a:pt x="0" y="8"/>
                    </a:lnTo>
                    <a:lnTo>
                      <a:pt x="0" y="16"/>
                    </a:lnTo>
                    <a:lnTo>
                      <a:pt x="8" y="31"/>
                    </a:lnTo>
                    <a:lnTo>
                      <a:pt x="8" y="39"/>
                    </a:lnTo>
                    <a:lnTo>
                      <a:pt x="8" y="46"/>
                    </a:lnTo>
                    <a:lnTo>
                      <a:pt x="17" y="62"/>
                    </a:lnTo>
                    <a:lnTo>
                      <a:pt x="17" y="69"/>
                    </a:lnTo>
                    <a:lnTo>
                      <a:pt x="25" y="77"/>
                    </a:lnTo>
                    <a:lnTo>
                      <a:pt x="25" y="85"/>
                    </a:lnTo>
                    <a:lnTo>
                      <a:pt x="34" y="100"/>
                    </a:lnTo>
                    <a:lnTo>
                      <a:pt x="34" y="108"/>
                    </a:lnTo>
                    <a:lnTo>
                      <a:pt x="42" y="116"/>
                    </a:lnTo>
                    <a:lnTo>
                      <a:pt x="42" y="131"/>
                    </a:lnTo>
                    <a:lnTo>
                      <a:pt x="42" y="139"/>
                    </a:lnTo>
                    <a:lnTo>
                      <a:pt x="50" y="146"/>
                    </a:lnTo>
                    <a:lnTo>
                      <a:pt x="50" y="154"/>
                    </a:lnTo>
                    <a:lnTo>
                      <a:pt x="50" y="169"/>
                    </a:lnTo>
                    <a:lnTo>
                      <a:pt x="75" y="162"/>
                    </a:lnTo>
                    <a:lnTo>
                      <a:pt x="67" y="154"/>
                    </a:lnTo>
                    <a:lnTo>
                      <a:pt x="67" y="146"/>
                    </a:lnTo>
                    <a:lnTo>
                      <a:pt x="67" y="131"/>
                    </a:lnTo>
                    <a:lnTo>
                      <a:pt x="59" y="123"/>
                    </a:lnTo>
                    <a:lnTo>
                      <a:pt x="59" y="116"/>
                    </a:lnTo>
                    <a:lnTo>
                      <a:pt x="50" y="100"/>
                    </a:lnTo>
                    <a:lnTo>
                      <a:pt x="50" y="93"/>
                    </a:lnTo>
                    <a:lnTo>
                      <a:pt x="50" y="85"/>
                    </a:lnTo>
                    <a:lnTo>
                      <a:pt x="42" y="69"/>
                    </a:lnTo>
                    <a:lnTo>
                      <a:pt x="42" y="62"/>
                    </a:lnTo>
                    <a:lnTo>
                      <a:pt x="34" y="54"/>
                    </a:lnTo>
                    <a:lnTo>
                      <a:pt x="34" y="39"/>
                    </a:lnTo>
                    <a:lnTo>
                      <a:pt x="25" y="31"/>
                    </a:lnTo>
                    <a:lnTo>
                      <a:pt x="25" y="23"/>
                    </a:lnTo>
                    <a:lnTo>
                      <a:pt x="17" y="16"/>
                    </a:lnTo>
                    <a:lnTo>
                      <a:pt x="17" y="0"/>
                    </a:lnTo>
                    <a:lnTo>
                      <a:pt x="0" y="0"/>
                    </a:lnTo>
                    <a:lnTo>
                      <a:pt x="8" y="16"/>
                    </a:lnTo>
                    <a:close/>
                  </a:path>
                </a:pathLst>
              </a:custGeom>
              <a:solidFill>
                <a:srgbClr val="00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7" name="Freeform 337"/>
              <p:cNvSpPr/>
              <p:nvPr/>
            </p:nvSpPr>
            <p:spPr>
              <a:xfrm flipH="1">
                <a:off x="343080" y="1703160"/>
                <a:ext cx="43200" cy="22320"/>
              </a:xfrm>
              <a:custGeom>
                <a:avLst/>
                <a:gdLst>
                  <a:gd name="textAreaLeft" fmla="*/ 360 w 43200"/>
                  <a:gd name="textAreaRight" fmla="*/ 43920 w 43200"/>
                  <a:gd name="textAreaTop" fmla="*/ 0 h 22320"/>
                  <a:gd name="textAreaBottom" fmla="*/ 22680 h 22320"/>
                </a:gdLst>
                <a:ahLst/>
                <a:rect l="textAreaLeft" t="textAreaTop" r="textAreaRight" b="textAreaBottom"/>
                <a:pathLst>
                  <a:path w="217" h="108">
                    <a:moveTo>
                      <a:pt x="17" y="100"/>
                    </a:moveTo>
                    <a:lnTo>
                      <a:pt x="17" y="108"/>
                    </a:lnTo>
                    <a:lnTo>
                      <a:pt x="25" y="100"/>
                    </a:lnTo>
                    <a:lnTo>
                      <a:pt x="42" y="93"/>
                    </a:lnTo>
                    <a:lnTo>
                      <a:pt x="50" y="85"/>
                    </a:lnTo>
                    <a:lnTo>
                      <a:pt x="67" y="77"/>
                    </a:lnTo>
                    <a:lnTo>
                      <a:pt x="84" y="69"/>
                    </a:lnTo>
                    <a:lnTo>
                      <a:pt x="92" y="62"/>
                    </a:lnTo>
                    <a:lnTo>
                      <a:pt x="109" y="54"/>
                    </a:lnTo>
                    <a:lnTo>
                      <a:pt x="126" y="46"/>
                    </a:lnTo>
                    <a:lnTo>
                      <a:pt x="134" y="46"/>
                    </a:lnTo>
                    <a:lnTo>
                      <a:pt x="151" y="39"/>
                    </a:lnTo>
                    <a:lnTo>
                      <a:pt x="159" y="31"/>
                    </a:lnTo>
                    <a:lnTo>
                      <a:pt x="176" y="31"/>
                    </a:lnTo>
                    <a:lnTo>
                      <a:pt x="184" y="23"/>
                    </a:lnTo>
                    <a:lnTo>
                      <a:pt x="201" y="23"/>
                    </a:lnTo>
                    <a:lnTo>
                      <a:pt x="209" y="16"/>
                    </a:lnTo>
                    <a:lnTo>
                      <a:pt x="217" y="16"/>
                    </a:lnTo>
                    <a:lnTo>
                      <a:pt x="209" y="0"/>
                    </a:lnTo>
                    <a:lnTo>
                      <a:pt x="201" y="0"/>
                    </a:lnTo>
                    <a:lnTo>
                      <a:pt x="192" y="0"/>
                    </a:lnTo>
                    <a:lnTo>
                      <a:pt x="184" y="8"/>
                    </a:lnTo>
                    <a:lnTo>
                      <a:pt x="167" y="8"/>
                    </a:lnTo>
                    <a:lnTo>
                      <a:pt x="151" y="16"/>
                    </a:lnTo>
                    <a:lnTo>
                      <a:pt x="142" y="23"/>
                    </a:lnTo>
                    <a:lnTo>
                      <a:pt x="126" y="23"/>
                    </a:lnTo>
                    <a:lnTo>
                      <a:pt x="109" y="31"/>
                    </a:lnTo>
                    <a:lnTo>
                      <a:pt x="100" y="39"/>
                    </a:lnTo>
                    <a:lnTo>
                      <a:pt x="84" y="46"/>
                    </a:lnTo>
                    <a:lnTo>
                      <a:pt x="67" y="54"/>
                    </a:lnTo>
                    <a:lnTo>
                      <a:pt x="59" y="62"/>
                    </a:lnTo>
                    <a:lnTo>
                      <a:pt x="42" y="69"/>
                    </a:lnTo>
                    <a:lnTo>
                      <a:pt x="34" y="77"/>
                    </a:lnTo>
                    <a:lnTo>
                      <a:pt x="17" y="85"/>
                    </a:lnTo>
                    <a:lnTo>
                      <a:pt x="9" y="93"/>
                    </a:lnTo>
                    <a:lnTo>
                      <a:pt x="0" y="100"/>
                    </a:lnTo>
                    <a:lnTo>
                      <a:pt x="17" y="100"/>
                    </a:lnTo>
                    <a:close/>
                  </a:path>
                </a:pathLst>
              </a:custGeom>
              <a:solidFill>
                <a:srgbClr val="000000"/>
              </a:solidFill>
              <a:ln w="0">
                <a:noFill/>
              </a:ln>
            </p:spPr>
            <p:style>
              <a:lnRef idx="0"/>
              <a:fillRef idx="0"/>
              <a:effectRef idx="0"/>
              <a:fontRef idx="minor"/>
            </p:style>
            <p:txBody>
              <a:bodyPr lIns="90000" rIns="90000" tIns="-24120" bIns="-24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8" name="Freeform 336"/>
              <p:cNvSpPr/>
              <p:nvPr/>
            </p:nvSpPr>
            <p:spPr>
              <a:xfrm flipH="1">
                <a:off x="351000" y="1724040"/>
                <a:ext cx="34920" cy="103320"/>
              </a:xfrm>
              <a:custGeom>
                <a:avLst/>
                <a:gdLst>
                  <a:gd name="textAreaLeft" fmla="*/ 0 w 34920"/>
                  <a:gd name="textAreaRight" fmla="*/ 34920 w 34920"/>
                  <a:gd name="textAreaTop" fmla="*/ 0 h 103320"/>
                  <a:gd name="textAreaBottom" fmla="*/ 103680 h 103320"/>
                </a:gdLst>
                <a:ahLst/>
                <a:rect l="textAreaLeft" t="textAreaTop" r="textAreaRight" b="textAreaBottom"/>
                <a:pathLst>
                  <a:path w="176" h="493">
                    <a:moveTo>
                      <a:pt x="176" y="493"/>
                    </a:moveTo>
                    <a:lnTo>
                      <a:pt x="167" y="477"/>
                    </a:lnTo>
                    <a:lnTo>
                      <a:pt x="167" y="462"/>
                    </a:lnTo>
                    <a:lnTo>
                      <a:pt x="159" y="439"/>
                    </a:lnTo>
                    <a:lnTo>
                      <a:pt x="159" y="423"/>
                    </a:lnTo>
                    <a:lnTo>
                      <a:pt x="151" y="408"/>
                    </a:lnTo>
                    <a:lnTo>
                      <a:pt x="151" y="393"/>
                    </a:lnTo>
                    <a:lnTo>
                      <a:pt x="142" y="377"/>
                    </a:lnTo>
                    <a:lnTo>
                      <a:pt x="142" y="362"/>
                    </a:lnTo>
                    <a:lnTo>
                      <a:pt x="134" y="346"/>
                    </a:lnTo>
                    <a:lnTo>
                      <a:pt x="134" y="331"/>
                    </a:lnTo>
                    <a:lnTo>
                      <a:pt x="126" y="316"/>
                    </a:lnTo>
                    <a:lnTo>
                      <a:pt x="126" y="300"/>
                    </a:lnTo>
                    <a:lnTo>
                      <a:pt x="117" y="285"/>
                    </a:lnTo>
                    <a:lnTo>
                      <a:pt x="109" y="269"/>
                    </a:lnTo>
                    <a:lnTo>
                      <a:pt x="109" y="254"/>
                    </a:lnTo>
                    <a:lnTo>
                      <a:pt x="100" y="239"/>
                    </a:lnTo>
                    <a:lnTo>
                      <a:pt x="100" y="223"/>
                    </a:lnTo>
                    <a:lnTo>
                      <a:pt x="92" y="208"/>
                    </a:lnTo>
                    <a:lnTo>
                      <a:pt x="84" y="193"/>
                    </a:lnTo>
                    <a:lnTo>
                      <a:pt x="84" y="177"/>
                    </a:lnTo>
                    <a:lnTo>
                      <a:pt x="75" y="162"/>
                    </a:lnTo>
                    <a:lnTo>
                      <a:pt x="75" y="146"/>
                    </a:lnTo>
                    <a:lnTo>
                      <a:pt x="67" y="131"/>
                    </a:lnTo>
                    <a:lnTo>
                      <a:pt x="59" y="116"/>
                    </a:lnTo>
                    <a:lnTo>
                      <a:pt x="59" y="100"/>
                    </a:lnTo>
                    <a:lnTo>
                      <a:pt x="50" y="85"/>
                    </a:lnTo>
                    <a:lnTo>
                      <a:pt x="50" y="69"/>
                    </a:lnTo>
                    <a:lnTo>
                      <a:pt x="42" y="54"/>
                    </a:lnTo>
                    <a:lnTo>
                      <a:pt x="34" y="39"/>
                    </a:lnTo>
                    <a:lnTo>
                      <a:pt x="34" y="31"/>
                    </a:lnTo>
                    <a:lnTo>
                      <a:pt x="25" y="16"/>
                    </a:lnTo>
                    <a:lnTo>
                      <a:pt x="17" y="0"/>
                    </a:lnTo>
                    <a:lnTo>
                      <a:pt x="0" y="0"/>
                    </a:lnTo>
                    <a:lnTo>
                      <a:pt x="9" y="16"/>
                    </a:lnTo>
                    <a:lnTo>
                      <a:pt x="9" y="31"/>
                    </a:lnTo>
                    <a:lnTo>
                      <a:pt x="17" y="46"/>
                    </a:lnTo>
                    <a:lnTo>
                      <a:pt x="25" y="62"/>
                    </a:lnTo>
                    <a:lnTo>
                      <a:pt x="25" y="77"/>
                    </a:lnTo>
                    <a:lnTo>
                      <a:pt x="34" y="93"/>
                    </a:lnTo>
                    <a:lnTo>
                      <a:pt x="42" y="108"/>
                    </a:lnTo>
                    <a:lnTo>
                      <a:pt x="42" y="123"/>
                    </a:lnTo>
                    <a:lnTo>
                      <a:pt x="50" y="139"/>
                    </a:lnTo>
                    <a:lnTo>
                      <a:pt x="50" y="154"/>
                    </a:lnTo>
                    <a:lnTo>
                      <a:pt x="59" y="169"/>
                    </a:lnTo>
                    <a:lnTo>
                      <a:pt x="67" y="185"/>
                    </a:lnTo>
                    <a:lnTo>
                      <a:pt x="67" y="200"/>
                    </a:lnTo>
                    <a:lnTo>
                      <a:pt x="75" y="216"/>
                    </a:lnTo>
                    <a:lnTo>
                      <a:pt x="75" y="231"/>
                    </a:lnTo>
                    <a:lnTo>
                      <a:pt x="84" y="239"/>
                    </a:lnTo>
                    <a:lnTo>
                      <a:pt x="92" y="262"/>
                    </a:lnTo>
                    <a:lnTo>
                      <a:pt x="92" y="277"/>
                    </a:lnTo>
                    <a:lnTo>
                      <a:pt x="100" y="285"/>
                    </a:lnTo>
                    <a:lnTo>
                      <a:pt x="100" y="300"/>
                    </a:lnTo>
                    <a:lnTo>
                      <a:pt x="109" y="323"/>
                    </a:lnTo>
                    <a:lnTo>
                      <a:pt x="109" y="339"/>
                    </a:lnTo>
                    <a:lnTo>
                      <a:pt x="117" y="354"/>
                    </a:lnTo>
                    <a:lnTo>
                      <a:pt x="117" y="369"/>
                    </a:lnTo>
                    <a:lnTo>
                      <a:pt x="126" y="385"/>
                    </a:lnTo>
                    <a:lnTo>
                      <a:pt x="126" y="400"/>
                    </a:lnTo>
                    <a:lnTo>
                      <a:pt x="134" y="416"/>
                    </a:lnTo>
                    <a:lnTo>
                      <a:pt x="134" y="431"/>
                    </a:lnTo>
                    <a:lnTo>
                      <a:pt x="142" y="446"/>
                    </a:lnTo>
                    <a:lnTo>
                      <a:pt x="142" y="462"/>
                    </a:lnTo>
                    <a:lnTo>
                      <a:pt x="151" y="477"/>
                    </a:lnTo>
                    <a:lnTo>
                      <a:pt x="151" y="493"/>
                    </a:lnTo>
                    <a:lnTo>
                      <a:pt x="176" y="49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Freeform 335"/>
              <p:cNvSpPr/>
              <p:nvPr/>
            </p:nvSpPr>
            <p:spPr>
              <a:xfrm flipH="1">
                <a:off x="381240" y="17240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0"/>
                    </a:moveTo>
                    <a:lnTo>
                      <a:pt x="0" y="8"/>
                    </a:lnTo>
                    <a:lnTo>
                      <a:pt x="9" y="8"/>
                    </a:lnTo>
                    <a:lnTo>
                      <a:pt x="17" y="8"/>
                    </a:lnTo>
                    <a:lnTo>
                      <a:pt x="25"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Freeform 334"/>
              <p:cNvSpPr/>
              <p:nvPr/>
            </p:nvSpPr>
            <p:spPr>
              <a:xfrm flipH="1">
                <a:off x="334800" y="179208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6" h="16">
                    <a:moveTo>
                      <a:pt x="16" y="8"/>
                    </a:moveTo>
                    <a:lnTo>
                      <a:pt x="8" y="0"/>
                    </a:lnTo>
                    <a:lnTo>
                      <a:pt x="0" y="0"/>
                    </a:lnTo>
                    <a:lnTo>
                      <a:pt x="0" y="8"/>
                    </a:lnTo>
                    <a:lnTo>
                      <a:pt x="0" y="16"/>
                    </a:lnTo>
                    <a:lnTo>
                      <a:pt x="16" y="8"/>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Freeform 333"/>
              <p:cNvSpPr/>
              <p:nvPr/>
            </p:nvSpPr>
            <p:spPr>
              <a:xfrm flipH="1">
                <a:off x="316080" y="1793520"/>
                <a:ext cx="21240" cy="27360"/>
              </a:xfrm>
              <a:custGeom>
                <a:avLst/>
                <a:gdLst>
                  <a:gd name="textAreaLeft" fmla="*/ -360 w 21240"/>
                  <a:gd name="textAreaRight" fmla="*/ 21240 w 21240"/>
                  <a:gd name="textAreaTop" fmla="*/ 0 h 27360"/>
                  <a:gd name="textAreaBottom" fmla="*/ 27720 h 27360"/>
                </a:gdLst>
                <a:ahLst/>
                <a:rect l="textAreaLeft" t="textAreaTop" r="textAreaRight" b="textAreaBottom"/>
                <a:pathLst>
                  <a:path w="108" h="131">
                    <a:moveTo>
                      <a:pt x="108" y="115"/>
                    </a:moveTo>
                    <a:lnTo>
                      <a:pt x="100" y="108"/>
                    </a:lnTo>
                    <a:lnTo>
                      <a:pt x="91" y="100"/>
                    </a:lnTo>
                    <a:lnTo>
                      <a:pt x="91" y="92"/>
                    </a:lnTo>
                    <a:lnTo>
                      <a:pt x="83" y="85"/>
                    </a:lnTo>
                    <a:lnTo>
                      <a:pt x="75" y="77"/>
                    </a:lnTo>
                    <a:lnTo>
                      <a:pt x="66" y="69"/>
                    </a:lnTo>
                    <a:lnTo>
                      <a:pt x="66" y="62"/>
                    </a:lnTo>
                    <a:lnTo>
                      <a:pt x="58" y="54"/>
                    </a:lnTo>
                    <a:lnTo>
                      <a:pt x="50" y="46"/>
                    </a:lnTo>
                    <a:lnTo>
                      <a:pt x="41" y="38"/>
                    </a:lnTo>
                    <a:lnTo>
                      <a:pt x="41" y="31"/>
                    </a:lnTo>
                    <a:lnTo>
                      <a:pt x="33" y="23"/>
                    </a:lnTo>
                    <a:lnTo>
                      <a:pt x="25" y="15"/>
                    </a:lnTo>
                    <a:lnTo>
                      <a:pt x="16" y="8"/>
                    </a:lnTo>
                    <a:lnTo>
                      <a:pt x="16" y="0"/>
                    </a:lnTo>
                    <a:lnTo>
                      <a:pt x="0" y="8"/>
                    </a:lnTo>
                    <a:lnTo>
                      <a:pt x="8" y="15"/>
                    </a:lnTo>
                    <a:lnTo>
                      <a:pt x="8" y="23"/>
                    </a:lnTo>
                    <a:lnTo>
                      <a:pt x="16" y="31"/>
                    </a:lnTo>
                    <a:lnTo>
                      <a:pt x="16" y="38"/>
                    </a:lnTo>
                    <a:lnTo>
                      <a:pt x="25" y="46"/>
                    </a:lnTo>
                    <a:lnTo>
                      <a:pt x="33" y="54"/>
                    </a:lnTo>
                    <a:lnTo>
                      <a:pt x="41" y="62"/>
                    </a:lnTo>
                    <a:lnTo>
                      <a:pt x="41" y="69"/>
                    </a:lnTo>
                    <a:lnTo>
                      <a:pt x="50" y="77"/>
                    </a:lnTo>
                    <a:lnTo>
                      <a:pt x="50" y="85"/>
                    </a:lnTo>
                    <a:lnTo>
                      <a:pt x="58" y="92"/>
                    </a:lnTo>
                    <a:lnTo>
                      <a:pt x="66" y="100"/>
                    </a:lnTo>
                    <a:lnTo>
                      <a:pt x="66" y="108"/>
                    </a:lnTo>
                    <a:lnTo>
                      <a:pt x="75" y="115"/>
                    </a:lnTo>
                    <a:lnTo>
                      <a:pt x="83" y="123"/>
                    </a:lnTo>
                    <a:lnTo>
                      <a:pt x="91" y="131"/>
                    </a:lnTo>
                    <a:lnTo>
                      <a:pt x="108" y="115"/>
                    </a:lnTo>
                    <a:close/>
                  </a:path>
                </a:pathLst>
              </a:custGeom>
              <a:solidFill>
                <a:srgbClr val="000000"/>
              </a:solidFill>
              <a:ln w="0">
                <a:noFill/>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Freeform 332"/>
              <p:cNvSpPr/>
              <p:nvPr/>
            </p:nvSpPr>
            <p:spPr>
              <a:xfrm flipH="1">
                <a:off x="334800" y="1793520"/>
                <a:ext cx="2880" cy="2880"/>
              </a:xfrm>
              <a:custGeom>
                <a:avLst/>
                <a:gdLst>
                  <a:gd name="textAreaLeft" fmla="*/ 360 w 2880"/>
                  <a:gd name="textAreaRight" fmla="*/ 3600 w 2880"/>
                  <a:gd name="textAreaTop" fmla="*/ 0 h 2880"/>
                  <a:gd name="textAreaBottom" fmla="*/ 3240 h 2880"/>
                </a:gdLst>
                <a:ahLst/>
                <a:rect l="textAreaLeft" t="textAreaTop" r="textAreaRight" b="textAreaBottom"/>
                <a:pathLst>
                  <a:path w="16" h="15">
                    <a:moveTo>
                      <a:pt x="0" y="8"/>
                    </a:moveTo>
                    <a:lnTo>
                      <a:pt x="0" y="15"/>
                    </a:lnTo>
                    <a:lnTo>
                      <a:pt x="8" y="15"/>
                    </a:lnTo>
                    <a:lnTo>
                      <a:pt x="16" y="8"/>
                    </a:lnTo>
                    <a:lnTo>
                      <a:pt x="16" y="0"/>
                    </a:lnTo>
                    <a:lnTo>
                      <a:pt x="0" y="8"/>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Freeform 331"/>
              <p:cNvSpPr/>
              <p:nvPr/>
            </p:nvSpPr>
            <p:spPr>
              <a:xfrm flipH="1">
                <a:off x="217440" y="1685520"/>
                <a:ext cx="24840" cy="15840"/>
              </a:xfrm>
              <a:custGeom>
                <a:avLst/>
                <a:gdLst>
                  <a:gd name="textAreaLeft" fmla="*/ -360 w 24840"/>
                  <a:gd name="textAreaRight" fmla="*/ 24840 w 24840"/>
                  <a:gd name="textAreaTop" fmla="*/ 0 h 15840"/>
                  <a:gd name="textAreaBottom" fmla="*/ 16200 h 15840"/>
                </a:gdLst>
                <a:ahLst/>
                <a:rect l="textAreaLeft" t="textAreaTop" r="textAreaRight" b="textAreaBottom"/>
                <a:pathLst>
                  <a:path w="125" h="77">
                    <a:moveTo>
                      <a:pt x="58" y="7"/>
                    </a:moveTo>
                    <a:lnTo>
                      <a:pt x="67" y="0"/>
                    </a:lnTo>
                    <a:lnTo>
                      <a:pt x="83" y="0"/>
                    </a:lnTo>
                    <a:lnTo>
                      <a:pt x="92" y="0"/>
                    </a:lnTo>
                    <a:lnTo>
                      <a:pt x="100" y="7"/>
                    </a:lnTo>
                    <a:lnTo>
                      <a:pt x="109" y="7"/>
                    </a:lnTo>
                    <a:lnTo>
                      <a:pt x="117" y="15"/>
                    </a:lnTo>
                    <a:lnTo>
                      <a:pt x="125" y="15"/>
                    </a:lnTo>
                    <a:lnTo>
                      <a:pt x="125" y="23"/>
                    </a:lnTo>
                    <a:lnTo>
                      <a:pt x="125" y="30"/>
                    </a:lnTo>
                    <a:lnTo>
                      <a:pt x="125" y="38"/>
                    </a:lnTo>
                    <a:lnTo>
                      <a:pt x="117" y="46"/>
                    </a:lnTo>
                    <a:lnTo>
                      <a:pt x="117" y="53"/>
                    </a:lnTo>
                    <a:lnTo>
                      <a:pt x="109" y="61"/>
                    </a:lnTo>
                    <a:lnTo>
                      <a:pt x="100" y="69"/>
                    </a:lnTo>
                    <a:lnTo>
                      <a:pt x="83" y="69"/>
                    </a:lnTo>
                    <a:lnTo>
                      <a:pt x="75" y="77"/>
                    </a:lnTo>
                    <a:lnTo>
                      <a:pt x="58" y="77"/>
                    </a:lnTo>
                    <a:lnTo>
                      <a:pt x="50" y="77"/>
                    </a:lnTo>
                    <a:lnTo>
                      <a:pt x="42" y="77"/>
                    </a:lnTo>
                    <a:lnTo>
                      <a:pt x="25" y="77"/>
                    </a:lnTo>
                    <a:lnTo>
                      <a:pt x="17" y="69"/>
                    </a:lnTo>
                    <a:lnTo>
                      <a:pt x="8" y="69"/>
                    </a:lnTo>
                    <a:lnTo>
                      <a:pt x="8" y="61"/>
                    </a:lnTo>
                    <a:lnTo>
                      <a:pt x="0" y="53"/>
                    </a:lnTo>
                    <a:lnTo>
                      <a:pt x="0" y="46"/>
                    </a:lnTo>
                    <a:lnTo>
                      <a:pt x="8" y="38"/>
                    </a:lnTo>
                    <a:lnTo>
                      <a:pt x="8" y="30"/>
                    </a:lnTo>
                    <a:lnTo>
                      <a:pt x="17" y="23"/>
                    </a:lnTo>
                    <a:lnTo>
                      <a:pt x="25" y="15"/>
                    </a:lnTo>
                    <a:lnTo>
                      <a:pt x="33" y="15"/>
                    </a:lnTo>
                    <a:lnTo>
                      <a:pt x="42" y="7"/>
                    </a:lnTo>
                    <a:lnTo>
                      <a:pt x="58" y="7"/>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Freeform 330"/>
              <p:cNvSpPr/>
              <p:nvPr/>
            </p:nvSpPr>
            <p:spPr>
              <a:xfrm flipH="1">
                <a:off x="216000" y="1684080"/>
                <a:ext cx="16560" cy="7920"/>
              </a:xfrm>
              <a:custGeom>
                <a:avLst/>
                <a:gdLst>
                  <a:gd name="textAreaLeft" fmla="*/ 360 w 16560"/>
                  <a:gd name="textAreaRight" fmla="*/ 17280 w 16560"/>
                  <a:gd name="textAreaTop" fmla="*/ 0 h 7920"/>
                  <a:gd name="textAreaBottom" fmla="*/ 8280 h 7920"/>
                </a:gdLst>
                <a:ahLst/>
                <a:rect l="textAreaLeft" t="textAreaTop" r="textAreaRight" b="textAreaBottom"/>
                <a:pathLst>
                  <a:path w="84" h="38">
                    <a:moveTo>
                      <a:pt x="84" y="31"/>
                    </a:moveTo>
                    <a:lnTo>
                      <a:pt x="84" y="31"/>
                    </a:lnTo>
                    <a:lnTo>
                      <a:pt x="84" y="23"/>
                    </a:lnTo>
                    <a:lnTo>
                      <a:pt x="75" y="15"/>
                    </a:lnTo>
                    <a:lnTo>
                      <a:pt x="67" y="8"/>
                    </a:lnTo>
                    <a:lnTo>
                      <a:pt x="59" y="8"/>
                    </a:lnTo>
                    <a:lnTo>
                      <a:pt x="42" y="0"/>
                    </a:lnTo>
                    <a:lnTo>
                      <a:pt x="33" y="0"/>
                    </a:lnTo>
                    <a:lnTo>
                      <a:pt x="17" y="0"/>
                    </a:lnTo>
                    <a:lnTo>
                      <a:pt x="0" y="0"/>
                    </a:lnTo>
                    <a:lnTo>
                      <a:pt x="8" y="23"/>
                    </a:lnTo>
                    <a:lnTo>
                      <a:pt x="17" y="15"/>
                    </a:lnTo>
                    <a:lnTo>
                      <a:pt x="33" y="15"/>
                    </a:lnTo>
                    <a:lnTo>
                      <a:pt x="42" y="23"/>
                    </a:lnTo>
                    <a:lnTo>
                      <a:pt x="50" y="23"/>
                    </a:lnTo>
                    <a:lnTo>
                      <a:pt x="59" y="23"/>
                    </a:lnTo>
                    <a:lnTo>
                      <a:pt x="59" y="31"/>
                    </a:lnTo>
                    <a:lnTo>
                      <a:pt x="67" y="31"/>
                    </a:lnTo>
                    <a:lnTo>
                      <a:pt x="67" y="38"/>
                    </a:lnTo>
                    <a:lnTo>
                      <a:pt x="84" y="31"/>
                    </a:lnTo>
                    <a:close/>
                  </a:path>
                </a:pathLst>
              </a:custGeom>
              <a:solidFill>
                <a:srgbClr val="000000"/>
              </a:solidFill>
              <a:ln w="0">
                <a:no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Freeform 329"/>
              <p:cNvSpPr/>
              <p:nvPr/>
            </p:nvSpPr>
            <p:spPr>
              <a:xfrm flipH="1">
                <a:off x="213840" y="1690560"/>
                <a:ext cx="13320" cy="12600"/>
              </a:xfrm>
              <a:custGeom>
                <a:avLst/>
                <a:gdLst>
                  <a:gd name="textAreaLeft" fmla="*/ -360 w 13320"/>
                  <a:gd name="textAreaRight" fmla="*/ 13320 w 13320"/>
                  <a:gd name="textAreaTop" fmla="*/ 0 h 12600"/>
                  <a:gd name="textAreaBottom" fmla="*/ 12960 h 12600"/>
                </a:gdLst>
                <a:ahLst/>
                <a:rect l="textAreaLeft" t="textAreaTop" r="textAreaRight" b="textAreaBottom"/>
                <a:pathLst>
                  <a:path w="67" h="61">
                    <a:moveTo>
                      <a:pt x="0" y="61"/>
                    </a:moveTo>
                    <a:lnTo>
                      <a:pt x="0" y="61"/>
                    </a:lnTo>
                    <a:lnTo>
                      <a:pt x="17" y="54"/>
                    </a:lnTo>
                    <a:lnTo>
                      <a:pt x="25" y="54"/>
                    </a:lnTo>
                    <a:lnTo>
                      <a:pt x="42" y="46"/>
                    </a:lnTo>
                    <a:lnTo>
                      <a:pt x="50" y="38"/>
                    </a:lnTo>
                    <a:lnTo>
                      <a:pt x="50" y="30"/>
                    </a:lnTo>
                    <a:lnTo>
                      <a:pt x="59" y="23"/>
                    </a:lnTo>
                    <a:lnTo>
                      <a:pt x="67" y="7"/>
                    </a:lnTo>
                    <a:lnTo>
                      <a:pt x="59" y="0"/>
                    </a:lnTo>
                    <a:lnTo>
                      <a:pt x="42" y="7"/>
                    </a:lnTo>
                    <a:lnTo>
                      <a:pt x="42" y="15"/>
                    </a:lnTo>
                    <a:lnTo>
                      <a:pt x="42" y="23"/>
                    </a:lnTo>
                    <a:lnTo>
                      <a:pt x="34" y="23"/>
                    </a:lnTo>
                    <a:lnTo>
                      <a:pt x="25" y="30"/>
                    </a:lnTo>
                    <a:lnTo>
                      <a:pt x="17" y="38"/>
                    </a:lnTo>
                    <a:lnTo>
                      <a:pt x="8" y="38"/>
                    </a:lnTo>
                    <a:lnTo>
                      <a:pt x="0" y="38"/>
                    </a:lnTo>
                    <a:lnTo>
                      <a:pt x="0" y="61"/>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Freeform 328"/>
              <p:cNvSpPr/>
              <p:nvPr/>
            </p:nvSpPr>
            <p:spPr>
              <a:xfrm flipH="1">
                <a:off x="227880" y="1696680"/>
                <a:ext cx="16560" cy="6480"/>
              </a:xfrm>
              <a:custGeom>
                <a:avLst/>
                <a:gdLst>
                  <a:gd name="textAreaLeft" fmla="*/ 360 w 16560"/>
                  <a:gd name="textAreaRight" fmla="*/ 17280 w 16560"/>
                  <a:gd name="textAreaTop" fmla="*/ 0 h 6480"/>
                  <a:gd name="textAreaBottom" fmla="*/ 6840 h 6480"/>
                </a:gdLst>
                <a:ahLst/>
                <a:rect l="textAreaLeft" t="textAreaTop" r="textAreaRight" b="textAreaBottom"/>
                <a:pathLst>
                  <a:path w="83" h="31">
                    <a:moveTo>
                      <a:pt x="0" y="0"/>
                    </a:moveTo>
                    <a:lnTo>
                      <a:pt x="0" y="0"/>
                    </a:lnTo>
                    <a:lnTo>
                      <a:pt x="8" y="8"/>
                    </a:lnTo>
                    <a:lnTo>
                      <a:pt x="16" y="16"/>
                    </a:lnTo>
                    <a:lnTo>
                      <a:pt x="25" y="24"/>
                    </a:lnTo>
                    <a:lnTo>
                      <a:pt x="33" y="31"/>
                    </a:lnTo>
                    <a:lnTo>
                      <a:pt x="41" y="31"/>
                    </a:lnTo>
                    <a:lnTo>
                      <a:pt x="58" y="31"/>
                    </a:lnTo>
                    <a:lnTo>
                      <a:pt x="75" y="31"/>
                    </a:lnTo>
                    <a:lnTo>
                      <a:pt x="83" y="31"/>
                    </a:lnTo>
                    <a:lnTo>
                      <a:pt x="83" y="8"/>
                    </a:lnTo>
                    <a:lnTo>
                      <a:pt x="66" y="16"/>
                    </a:lnTo>
                    <a:lnTo>
                      <a:pt x="58" y="16"/>
                    </a:lnTo>
                    <a:lnTo>
                      <a:pt x="50" y="16"/>
                    </a:lnTo>
                    <a:lnTo>
                      <a:pt x="41" y="8"/>
                    </a:lnTo>
                    <a:lnTo>
                      <a:pt x="33" y="8"/>
                    </a:lnTo>
                    <a:lnTo>
                      <a:pt x="25" y="8"/>
                    </a:lnTo>
                    <a:lnTo>
                      <a:pt x="25" y="0"/>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Freeform 327"/>
              <p:cNvSpPr/>
              <p:nvPr/>
            </p:nvSpPr>
            <p:spPr>
              <a:xfrm flipH="1">
                <a:off x="231480" y="1684080"/>
                <a:ext cx="12960" cy="12600"/>
              </a:xfrm>
              <a:custGeom>
                <a:avLst/>
                <a:gdLst>
                  <a:gd name="textAreaLeft" fmla="*/ 360 w 12960"/>
                  <a:gd name="textAreaRight" fmla="*/ 13680 w 12960"/>
                  <a:gd name="textAreaTop" fmla="*/ 0 h 12600"/>
                  <a:gd name="textAreaBottom" fmla="*/ 12960 h 12600"/>
                </a:gdLst>
                <a:ahLst/>
                <a:rect l="textAreaLeft" t="textAreaTop" r="textAreaRight" b="textAreaBottom"/>
                <a:pathLst>
                  <a:path w="66" h="61">
                    <a:moveTo>
                      <a:pt x="58" y="0"/>
                    </a:moveTo>
                    <a:lnTo>
                      <a:pt x="58" y="0"/>
                    </a:lnTo>
                    <a:lnTo>
                      <a:pt x="50" y="8"/>
                    </a:lnTo>
                    <a:lnTo>
                      <a:pt x="33" y="15"/>
                    </a:lnTo>
                    <a:lnTo>
                      <a:pt x="25" y="15"/>
                    </a:lnTo>
                    <a:lnTo>
                      <a:pt x="16" y="23"/>
                    </a:lnTo>
                    <a:lnTo>
                      <a:pt x="8" y="31"/>
                    </a:lnTo>
                    <a:lnTo>
                      <a:pt x="0" y="46"/>
                    </a:lnTo>
                    <a:lnTo>
                      <a:pt x="0" y="54"/>
                    </a:lnTo>
                    <a:lnTo>
                      <a:pt x="0" y="61"/>
                    </a:lnTo>
                    <a:lnTo>
                      <a:pt x="25" y="61"/>
                    </a:lnTo>
                    <a:lnTo>
                      <a:pt x="25" y="54"/>
                    </a:lnTo>
                    <a:lnTo>
                      <a:pt x="25" y="46"/>
                    </a:lnTo>
                    <a:lnTo>
                      <a:pt x="33" y="38"/>
                    </a:lnTo>
                    <a:lnTo>
                      <a:pt x="33" y="31"/>
                    </a:lnTo>
                    <a:lnTo>
                      <a:pt x="41" y="31"/>
                    </a:lnTo>
                    <a:lnTo>
                      <a:pt x="58" y="23"/>
                    </a:lnTo>
                    <a:lnTo>
                      <a:pt x="66" y="23"/>
                    </a:lnTo>
                    <a:lnTo>
                      <a:pt x="58" y="0"/>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Freeform 326"/>
              <p:cNvSpPr/>
              <p:nvPr/>
            </p:nvSpPr>
            <p:spPr>
              <a:xfrm flipH="1">
                <a:off x="257760" y="1721160"/>
                <a:ext cx="24840" cy="15840"/>
              </a:xfrm>
              <a:custGeom>
                <a:avLst/>
                <a:gdLst>
                  <a:gd name="textAreaLeft" fmla="*/ -360 w 24840"/>
                  <a:gd name="textAreaRight" fmla="*/ 24840 w 24840"/>
                  <a:gd name="textAreaTop" fmla="*/ 0 h 15840"/>
                  <a:gd name="textAreaBottom" fmla="*/ 16200 h 15840"/>
                </a:gdLst>
                <a:ahLst/>
                <a:rect l="textAreaLeft" t="textAreaTop" r="textAreaRight" b="textAreaBottom"/>
                <a:pathLst>
                  <a:path w="126" h="77">
                    <a:moveTo>
                      <a:pt x="50" y="0"/>
                    </a:moveTo>
                    <a:lnTo>
                      <a:pt x="67" y="0"/>
                    </a:lnTo>
                    <a:lnTo>
                      <a:pt x="76" y="0"/>
                    </a:lnTo>
                    <a:lnTo>
                      <a:pt x="92" y="0"/>
                    </a:lnTo>
                    <a:lnTo>
                      <a:pt x="101" y="0"/>
                    </a:lnTo>
                    <a:lnTo>
                      <a:pt x="109" y="8"/>
                    </a:lnTo>
                    <a:lnTo>
                      <a:pt x="117" y="8"/>
                    </a:lnTo>
                    <a:lnTo>
                      <a:pt x="117" y="15"/>
                    </a:lnTo>
                    <a:lnTo>
                      <a:pt x="126" y="23"/>
                    </a:lnTo>
                    <a:lnTo>
                      <a:pt x="126" y="31"/>
                    </a:lnTo>
                    <a:lnTo>
                      <a:pt x="117" y="38"/>
                    </a:lnTo>
                    <a:lnTo>
                      <a:pt x="117" y="46"/>
                    </a:lnTo>
                    <a:lnTo>
                      <a:pt x="109" y="54"/>
                    </a:lnTo>
                    <a:lnTo>
                      <a:pt x="101" y="61"/>
                    </a:lnTo>
                    <a:lnTo>
                      <a:pt x="92" y="61"/>
                    </a:lnTo>
                    <a:lnTo>
                      <a:pt x="84" y="69"/>
                    </a:lnTo>
                    <a:lnTo>
                      <a:pt x="67" y="69"/>
                    </a:lnTo>
                    <a:lnTo>
                      <a:pt x="59" y="77"/>
                    </a:lnTo>
                    <a:lnTo>
                      <a:pt x="42" y="77"/>
                    </a:lnTo>
                    <a:lnTo>
                      <a:pt x="34" y="69"/>
                    </a:lnTo>
                    <a:lnTo>
                      <a:pt x="25" y="69"/>
                    </a:lnTo>
                    <a:lnTo>
                      <a:pt x="17" y="69"/>
                    </a:lnTo>
                    <a:lnTo>
                      <a:pt x="9" y="61"/>
                    </a:lnTo>
                    <a:lnTo>
                      <a:pt x="0" y="54"/>
                    </a:lnTo>
                    <a:lnTo>
                      <a:pt x="0" y="46"/>
                    </a:lnTo>
                    <a:lnTo>
                      <a:pt x="0" y="38"/>
                    </a:lnTo>
                    <a:lnTo>
                      <a:pt x="9" y="31"/>
                    </a:lnTo>
                    <a:lnTo>
                      <a:pt x="9" y="23"/>
                    </a:lnTo>
                    <a:lnTo>
                      <a:pt x="17" y="15"/>
                    </a:lnTo>
                    <a:lnTo>
                      <a:pt x="25" y="8"/>
                    </a:lnTo>
                    <a:lnTo>
                      <a:pt x="42" y="8"/>
                    </a:lnTo>
                    <a:lnTo>
                      <a:pt x="50" y="0"/>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Freeform 325"/>
              <p:cNvSpPr/>
              <p:nvPr/>
            </p:nvSpPr>
            <p:spPr>
              <a:xfrm flipH="1">
                <a:off x="256320" y="1719360"/>
                <a:ext cx="16560" cy="6120"/>
              </a:xfrm>
              <a:custGeom>
                <a:avLst/>
                <a:gdLst>
                  <a:gd name="textAreaLeft" fmla="*/ 360 w 16560"/>
                  <a:gd name="textAreaRight" fmla="*/ 17280 w 16560"/>
                  <a:gd name="textAreaTop" fmla="*/ 0 h 6120"/>
                  <a:gd name="textAreaBottom" fmla="*/ 6480 h 6120"/>
                </a:gdLst>
                <a:ahLst/>
                <a:rect l="textAreaLeft" t="textAreaTop" r="textAreaRight" b="textAreaBottom"/>
                <a:pathLst>
                  <a:path w="84" h="31">
                    <a:moveTo>
                      <a:pt x="84" y="31"/>
                    </a:moveTo>
                    <a:lnTo>
                      <a:pt x="84" y="31"/>
                    </a:lnTo>
                    <a:lnTo>
                      <a:pt x="76" y="23"/>
                    </a:lnTo>
                    <a:lnTo>
                      <a:pt x="67" y="8"/>
                    </a:lnTo>
                    <a:lnTo>
                      <a:pt x="59" y="8"/>
                    </a:lnTo>
                    <a:lnTo>
                      <a:pt x="51" y="0"/>
                    </a:lnTo>
                    <a:lnTo>
                      <a:pt x="42" y="0"/>
                    </a:lnTo>
                    <a:lnTo>
                      <a:pt x="26" y="0"/>
                    </a:lnTo>
                    <a:lnTo>
                      <a:pt x="17" y="0"/>
                    </a:lnTo>
                    <a:lnTo>
                      <a:pt x="0" y="0"/>
                    </a:lnTo>
                    <a:lnTo>
                      <a:pt x="0" y="16"/>
                    </a:lnTo>
                    <a:lnTo>
                      <a:pt x="17" y="16"/>
                    </a:lnTo>
                    <a:lnTo>
                      <a:pt x="26" y="16"/>
                    </a:lnTo>
                    <a:lnTo>
                      <a:pt x="34" y="16"/>
                    </a:lnTo>
                    <a:lnTo>
                      <a:pt x="42" y="16"/>
                    </a:lnTo>
                    <a:lnTo>
                      <a:pt x="51" y="23"/>
                    </a:lnTo>
                    <a:lnTo>
                      <a:pt x="59" y="23"/>
                    </a:lnTo>
                    <a:lnTo>
                      <a:pt x="59" y="31"/>
                    </a:lnTo>
                    <a:lnTo>
                      <a:pt x="84" y="31"/>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Freeform 324"/>
              <p:cNvSpPr/>
              <p:nvPr/>
            </p:nvSpPr>
            <p:spPr>
              <a:xfrm flipH="1">
                <a:off x="255600" y="1725840"/>
                <a:ext cx="13320" cy="12600"/>
              </a:xfrm>
              <a:custGeom>
                <a:avLst/>
                <a:gdLst>
                  <a:gd name="textAreaLeft" fmla="*/ -360 w 13320"/>
                  <a:gd name="textAreaRight" fmla="*/ 13320 w 13320"/>
                  <a:gd name="textAreaTop" fmla="*/ 0 h 12600"/>
                  <a:gd name="textAreaBottom" fmla="*/ 12960 h 12600"/>
                </a:gdLst>
                <a:ahLst/>
                <a:rect l="textAreaLeft" t="textAreaTop" r="textAreaRight" b="textAreaBottom"/>
                <a:pathLst>
                  <a:path w="67" h="61">
                    <a:moveTo>
                      <a:pt x="9" y="61"/>
                    </a:moveTo>
                    <a:lnTo>
                      <a:pt x="9" y="61"/>
                    </a:lnTo>
                    <a:lnTo>
                      <a:pt x="17" y="54"/>
                    </a:lnTo>
                    <a:lnTo>
                      <a:pt x="34" y="46"/>
                    </a:lnTo>
                    <a:lnTo>
                      <a:pt x="42" y="46"/>
                    </a:lnTo>
                    <a:lnTo>
                      <a:pt x="50" y="38"/>
                    </a:lnTo>
                    <a:lnTo>
                      <a:pt x="59" y="31"/>
                    </a:lnTo>
                    <a:lnTo>
                      <a:pt x="67" y="15"/>
                    </a:lnTo>
                    <a:lnTo>
                      <a:pt x="67" y="8"/>
                    </a:lnTo>
                    <a:lnTo>
                      <a:pt x="67" y="0"/>
                    </a:lnTo>
                    <a:lnTo>
                      <a:pt x="42" y="0"/>
                    </a:lnTo>
                    <a:lnTo>
                      <a:pt x="50" y="8"/>
                    </a:lnTo>
                    <a:lnTo>
                      <a:pt x="42" y="8"/>
                    </a:lnTo>
                    <a:lnTo>
                      <a:pt x="42" y="15"/>
                    </a:lnTo>
                    <a:lnTo>
                      <a:pt x="34" y="23"/>
                    </a:lnTo>
                    <a:lnTo>
                      <a:pt x="34" y="31"/>
                    </a:lnTo>
                    <a:lnTo>
                      <a:pt x="25" y="31"/>
                    </a:lnTo>
                    <a:lnTo>
                      <a:pt x="9" y="38"/>
                    </a:lnTo>
                    <a:lnTo>
                      <a:pt x="0" y="38"/>
                    </a:lnTo>
                    <a:lnTo>
                      <a:pt x="9" y="61"/>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Freeform 323"/>
              <p:cNvSpPr/>
              <p:nvPr/>
            </p:nvSpPr>
            <p:spPr>
              <a:xfrm flipH="1">
                <a:off x="267840" y="1730880"/>
                <a:ext cx="16560" cy="7920"/>
              </a:xfrm>
              <a:custGeom>
                <a:avLst/>
                <a:gdLst>
                  <a:gd name="textAreaLeft" fmla="*/ 360 w 16560"/>
                  <a:gd name="textAreaRight" fmla="*/ 17280 w 16560"/>
                  <a:gd name="textAreaTop" fmla="*/ 0 h 7920"/>
                  <a:gd name="textAreaBottom" fmla="*/ 8280 h 7920"/>
                </a:gdLst>
                <a:ahLst/>
                <a:rect l="textAreaLeft" t="textAreaTop" r="textAreaRight" b="textAreaBottom"/>
                <a:pathLst>
                  <a:path w="84" h="38">
                    <a:moveTo>
                      <a:pt x="0" y="8"/>
                    </a:moveTo>
                    <a:lnTo>
                      <a:pt x="0" y="8"/>
                    </a:lnTo>
                    <a:lnTo>
                      <a:pt x="0" y="15"/>
                    </a:lnTo>
                    <a:lnTo>
                      <a:pt x="8" y="23"/>
                    </a:lnTo>
                    <a:lnTo>
                      <a:pt x="17" y="31"/>
                    </a:lnTo>
                    <a:lnTo>
                      <a:pt x="25" y="31"/>
                    </a:lnTo>
                    <a:lnTo>
                      <a:pt x="42" y="38"/>
                    </a:lnTo>
                    <a:lnTo>
                      <a:pt x="50" y="38"/>
                    </a:lnTo>
                    <a:lnTo>
                      <a:pt x="67" y="38"/>
                    </a:lnTo>
                    <a:lnTo>
                      <a:pt x="84" y="38"/>
                    </a:lnTo>
                    <a:lnTo>
                      <a:pt x="75" y="15"/>
                    </a:lnTo>
                    <a:lnTo>
                      <a:pt x="67" y="15"/>
                    </a:lnTo>
                    <a:lnTo>
                      <a:pt x="50" y="23"/>
                    </a:lnTo>
                    <a:lnTo>
                      <a:pt x="42" y="15"/>
                    </a:lnTo>
                    <a:lnTo>
                      <a:pt x="33" y="15"/>
                    </a:lnTo>
                    <a:lnTo>
                      <a:pt x="25" y="15"/>
                    </a:lnTo>
                    <a:lnTo>
                      <a:pt x="25" y="8"/>
                    </a:lnTo>
                    <a:lnTo>
                      <a:pt x="17" y="8"/>
                    </a:lnTo>
                    <a:lnTo>
                      <a:pt x="17" y="0"/>
                    </a:lnTo>
                    <a:lnTo>
                      <a:pt x="0" y="8"/>
                    </a:lnTo>
                    <a:close/>
                  </a:path>
                </a:pathLst>
              </a:custGeom>
              <a:solidFill>
                <a:srgbClr val="000000"/>
              </a:solidFill>
              <a:ln w="0">
                <a:no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Freeform 322"/>
              <p:cNvSpPr/>
              <p:nvPr/>
            </p:nvSpPr>
            <p:spPr>
              <a:xfrm flipH="1">
                <a:off x="272880" y="1719360"/>
                <a:ext cx="11520" cy="12960"/>
              </a:xfrm>
              <a:custGeom>
                <a:avLst/>
                <a:gdLst>
                  <a:gd name="textAreaLeft" fmla="*/ 360 w 11520"/>
                  <a:gd name="textAreaRight" fmla="*/ 12240 w 11520"/>
                  <a:gd name="textAreaTop" fmla="*/ 0 h 12960"/>
                  <a:gd name="textAreaBottom" fmla="*/ 13320 h 12960"/>
                </a:gdLst>
                <a:ahLst/>
                <a:rect l="textAreaLeft" t="textAreaTop" r="textAreaRight" b="textAreaBottom"/>
                <a:pathLst>
                  <a:path w="58" h="62">
                    <a:moveTo>
                      <a:pt x="58" y="0"/>
                    </a:moveTo>
                    <a:lnTo>
                      <a:pt x="58" y="0"/>
                    </a:lnTo>
                    <a:lnTo>
                      <a:pt x="42" y="8"/>
                    </a:lnTo>
                    <a:lnTo>
                      <a:pt x="33" y="8"/>
                    </a:lnTo>
                    <a:lnTo>
                      <a:pt x="25" y="16"/>
                    </a:lnTo>
                    <a:lnTo>
                      <a:pt x="8" y="23"/>
                    </a:lnTo>
                    <a:lnTo>
                      <a:pt x="8" y="31"/>
                    </a:lnTo>
                    <a:lnTo>
                      <a:pt x="0" y="39"/>
                    </a:lnTo>
                    <a:lnTo>
                      <a:pt x="0" y="54"/>
                    </a:lnTo>
                    <a:lnTo>
                      <a:pt x="0" y="62"/>
                    </a:lnTo>
                    <a:lnTo>
                      <a:pt x="17" y="54"/>
                    </a:lnTo>
                    <a:lnTo>
                      <a:pt x="17" y="46"/>
                    </a:lnTo>
                    <a:lnTo>
                      <a:pt x="25" y="39"/>
                    </a:lnTo>
                    <a:lnTo>
                      <a:pt x="33" y="31"/>
                    </a:lnTo>
                    <a:lnTo>
                      <a:pt x="42" y="23"/>
                    </a:lnTo>
                    <a:lnTo>
                      <a:pt x="50" y="23"/>
                    </a:lnTo>
                    <a:lnTo>
                      <a:pt x="58" y="16"/>
                    </a:lnTo>
                    <a:lnTo>
                      <a:pt x="58" y="0"/>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Freeform 321"/>
              <p:cNvSpPr/>
              <p:nvPr/>
            </p:nvSpPr>
            <p:spPr>
              <a:xfrm flipH="1">
                <a:off x="331560" y="1732320"/>
                <a:ext cx="23040" cy="17280"/>
              </a:xfrm>
              <a:custGeom>
                <a:avLst/>
                <a:gdLst>
                  <a:gd name="textAreaLeft" fmla="*/ 360 w 23040"/>
                  <a:gd name="textAreaRight" fmla="*/ 23760 w 23040"/>
                  <a:gd name="textAreaTop" fmla="*/ 0 h 17280"/>
                  <a:gd name="textAreaBottom" fmla="*/ 17640 h 17280"/>
                </a:gdLst>
                <a:ahLst/>
                <a:rect l="textAreaLeft" t="textAreaTop" r="textAreaRight" b="textAreaBottom"/>
                <a:pathLst>
                  <a:path w="117" h="84">
                    <a:moveTo>
                      <a:pt x="42" y="15"/>
                    </a:moveTo>
                    <a:lnTo>
                      <a:pt x="50" y="7"/>
                    </a:lnTo>
                    <a:lnTo>
                      <a:pt x="58" y="0"/>
                    </a:lnTo>
                    <a:lnTo>
                      <a:pt x="75" y="0"/>
                    </a:lnTo>
                    <a:lnTo>
                      <a:pt x="84" y="0"/>
                    </a:lnTo>
                    <a:lnTo>
                      <a:pt x="92" y="0"/>
                    </a:lnTo>
                    <a:lnTo>
                      <a:pt x="100" y="0"/>
                    </a:lnTo>
                    <a:lnTo>
                      <a:pt x="109" y="7"/>
                    </a:lnTo>
                    <a:lnTo>
                      <a:pt x="117" y="15"/>
                    </a:lnTo>
                    <a:lnTo>
                      <a:pt x="117" y="23"/>
                    </a:lnTo>
                    <a:lnTo>
                      <a:pt x="117" y="38"/>
                    </a:lnTo>
                    <a:lnTo>
                      <a:pt x="109" y="46"/>
                    </a:lnTo>
                    <a:lnTo>
                      <a:pt x="109" y="54"/>
                    </a:lnTo>
                    <a:lnTo>
                      <a:pt x="100" y="61"/>
                    </a:lnTo>
                    <a:lnTo>
                      <a:pt x="92" y="69"/>
                    </a:lnTo>
                    <a:lnTo>
                      <a:pt x="84" y="77"/>
                    </a:lnTo>
                    <a:lnTo>
                      <a:pt x="67" y="77"/>
                    </a:lnTo>
                    <a:lnTo>
                      <a:pt x="58" y="84"/>
                    </a:lnTo>
                    <a:lnTo>
                      <a:pt x="50" y="84"/>
                    </a:lnTo>
                    <a:lnTo>
                      <a:pt x="33" y="84"/>
                    </a:lnTo>
                    <a:lnTo>
                      <a:pt x="25" y="84"/>
                    </a:lnTo>
                    <a:lnTo>
                      <a:pt x="17" y="84"/>
                    </a:lnTo>
                    <a:lnTo>
                      <a:pt x="8" y="84"/>
                    </a:lnTo>
                    <a:lnTo>
                      <a:pt x="8" y="77"/>
                    </a:lnTo>
                    <a:lnTo>
                      <a:pt x="0" y="69"/>
                    </a:lnTo>
                    <a:lnTo>
                      <a:pt x="0" y="61"/>
                    </a:lnTo>
                    <a:lnTo>
                      <a:pt x="0" y="54"/>
                    </a:lnTo>
                    <a:lnTo>
                      <a:pt x="8" y="46"/>
                    </a:lnTo>
                    <a:lnTo>
                      <a:pt x="17" y="38"/>
                    </a:lnTo>
                    <a:lnTo>
                      <a:pt x="17" y="30"/>
                    </a:lnTo>
                    <a:lnTo>
                      <a:pt x="25" y="23"/>
                    </a:lnTo>
                    <a:lnTo>
                      <a:pt x="42" y="15"/>
                    </a:lnTo>
                    <a:close/>
                  </a:path>
                </a:pathLst>
              </a:custGeom>
              <a:solidFill>
                <a:srgbClr val="000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Freeform 320"/>
              <p:cNvSpPr/>
              <p:nvPr/>
            </p:nvSpPr>
            <p:spPr>
              <a:xfrm flipH="1">
                <a:off x="353160" y="1822680"/>
                <a:ext cx="23040" cy="17640"/>
              </a:xfrm>
              <a:custGeom>
                <a:avLst/>
                <a:gdLst>
                  <a:gd name="textAreaLeft" fmla="*/ 360 w 23040"/>
                  <a:gd name="textAreaRight" fmla="*/ 23760 w 23040"/>
                  <a:gd name="textAreaTop" fmla="*/ 0 h 17640"/>
                  <a:gd name="textAreaBottom" fmla="*/ 18000 h 17640"/>
                </a:gdLst>
                <a:ahLst/>
                <a:rect l="textAreaLeft" t="textAreaTop" r="textAreaRight" b="textAreaBottom"/>
                <a:pathLst>
                  <a:path w="117" h="85">
                    <a:moveTo>
                      <a:pt x="34" y="8"/>
                    </a:moveTo>
                    <a:lnTo>
                      <a:pt x="50" y="0"/>
                    </a:lnTo>
                    <a:lnTo>
                      <a:pt x="59" y="0"/>
                    </a:lnTo>
                    <a:lnTo>
                      <a:pt x="67" y="0"/>
                    </a:lnTo>
                    <a:lnTo>
                      <a:pt x="84" y="0"/>
                    </a:lnTo>
                    <a:lnTo>
                      <a:pt x="92" y="0"/>
                    </a:lnTo>
                    <a:lnTo>
                      <a:pt x="101" y="0"/>
                    </a:lnTo>
                    <a:lnTo>
                      <a:pt x="109" y="0"/>
                    </a:lnTo>
                    <a:lnTo>
                      <a:pt x="109" y="8"/>
                    </a:lnTo>
                    <a:lnTo>
                      <a:pt x="117" y="16"/>
                    </a:lnTo>
                    <a:lnTo>
                      <a:pt x="117" y="24"/>
                    </a:lnTo>
                    <a:lnTo>
                      <a:pt x="117" y="31"/>
                    </a:lnTo>
                    <a:lnTo>
                      <a:pt x="109" y="39"/>
                    </a:lnTo>
                    <a:lnTo>
                      <a:pt x="109" y="47"/>
                    </a:lnTo>
                    <a:lnTo>
                      <a:pt x="101" y="54"/>
                    </a:lnTo>
                    <a:lnTo>
                      <a:pt x="92" y="62"/>
                    </a:lnTo>
                    <a:lnTo>
                      <a:pt x="84" y="70"/>
                    </a:lnTo>
                    <a:lnTo>
                      <a:pt x="67" y="77"/>
                    </a:lnTo>
                    <a:lnTo>
                      <a:pt x="59" y="77"/>
                    </a:lnTo>
                    <a:lnTo>
                      <a:pt x="50" y="85"/>
                    </a:lnTo>
                    <a:lnTo>
                      <a:pt x="34" y="85"/>
                    </a:lnTo>
                    <a:lnTo>
                      <a:pt x="25" y="85"/>
                    </a:lnTo>
                    <a:lnTo>
                      <a:pt x="17" y="85"/>
                    </a:lnTo>
                    <a:lnTo>
                      <a:pt x="9" y="77"/>
                    </a:lnTo>
                    <a:lnTo>
                      <a:pt x="9" y="70"/>
                    </a:lnTo>
                    <a:lnTo>
                      <a:pt x="0" y="70"/>
                    </a:lnTo>
                    <a:lnTo>
                      <a:pt x="0" y="62"/>
                    </a:lnTo>
                    <a:lnTo>
                      <a:pt x="0" y="47"/>
                    </a:lnTo>
                    <a:lnTo>
                      <a:pt x="9" y="39"/>
                    </a:lnTo>
                    <a:lnTo>
                      <a:pt x="9" y="31"/>
                    </a:lnTo>
                    <a:lnTo>
                      <a:pt x="17" y="24"/>
                    </a:lnTo>
                    <a:lnTo>
                      <a:pt x="25" y="16"/>
                    </a:lnTo>
                    <a:lnTo>
                      <a:pt x="34" y="8"/>
                    </a:lnTo>
                    <a:close/>
                  </a:path>
                </a:pathLst>
              </a:custGeom>
              <a:solidFill>
                <a:srgbClr val="000000"/>
              </a:solidFill>
              <a:ln w="0">
                <a:no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Freeform 319"/>
              <p:cNvSpPr/>
              <p:nvPr/>
            </p:nvSpPr>
            <p:spPr>
              <a:xfrm flipH="1">
                <a:off x="142560" y="1716120"/>
                <a:ext cx="26280" cy="14400"/>
              </a:xfrm>
              <a:custGeom>
                <a:avLst/>
                <a:gdLst>
                  <a:gd name="textAreaLeft" fmla="*/ -360 w 26280"/>
                  <a:gd name="textAreaRight" fmla="*/ 26280 w 26280"/>
                  <a:gd name="textAreaTop" fmla="*/ 0 h 14400"/>
                  <a:gd name="textAreaBottom" fmla="*/ 14760 h 14400"/>
                </a:gdLst>
                <a:ahLst/>
                <a:rect l="textAreaLeft" t="textAreaTop" r="textAreaRight" b="textAreaBottom"/>
                <a:pathLst>
                  <a:path w="133" h="69">
                    <a:moveTo>
                      <a:pt x="66" y="0"/>
                    </a:moveTo>
                    <a:lnTo>
                      <a:pt x="83" y="0"/>
                    </a:lnTo>
                    <a:lnTo>
                      <a:pt x="92" y="0"/>
                    </a:lnTo>
                    <a:lnTo>
                      <a:pt x="100" y="7"/>
                    </a:lnTo>
                    <a:lnTo>
                      <a:pt x="117" y="7"/>
                    </a:lnTo>
                    <a:lnTo>
                      <a:pt x="117" y="15"/>
                    </a:lnTo>
                    <a:lnTo>
                      <a:pt x="125" y="23"/>
                    </a:lnTo>
                    <a:lnTo>
                      <a:pt x="133" y="31"/>
                    </a:lnTo>
                    <a:lnTo>
                      <a:pt x="133" y="38"/>
                    </a:lnTo>
                    <a:lnTo>
                      <a:pt x="125" y="46"/>
                    </a:lnTo>
                    <a:lnTo>
                      <a:pt x="117" y="54"/>
                    </a:lnTo>
                    <a:lnTo>
                      <a:pt x="108" y="61"/>
                    </a:lnTo>
                    <a:lnTo>
                      <a:pt x="100" y="61"/>
                    </a:lnTo>
                    <a:lnTo>
                      <a:pt x="92" y="69"/>
                    </a:lnTo>
                    <a:lnTo>
                      <a:pt x="75" y="69"/>
                    </a:lnTo>
                    <a:lnTo>
                      <a:pt x="66" y="69"/>
                    </a:lnTo>
                    <a:lnTo>
                      <a:pt x="50" y="69"/>
                    </a:lnTo>
                    <a:lnTo>
                      <a:pt x="41" y="61"/>
                    </a:lnTo>
                    <a:lnTo>
                      <a:pt x="25" y="61"/>
                    </a:lnTo>
                    <a:lnTo>
                      <a:pt x="25" y="54"/>
                    </a:lnTo>
                    <a:lnTo>
                      <a:pt x="16" y="46"/>
                    </a:lnTo>
                    <a:lnTo>
                      <a:pt x="8" y="46"/>
                    </a:lnTo>
                    <a:lnTo>
                      <a:pt x="0" y="38"/>
                    </a:lnTo>
                    <a:lnTo>
                      <a:pt x="0" y="31"/>
                    </a:lnTo>
                    <a:lnTo>
                      <a:pt x="8" y="23"/>
                    </a:lnTo>
                    <a:lnTo>
                      <a:pt x="8" y="15"/>
                    </a:lnTo>
                    <a:lnTo>
                      <a:pt x="16" y="7"/>
                    </a:lnTo>
                    <a:lnTo>
                      <a:pt x="25" y="7"/>
                    </a:lnTo>
                    <a:lnTo>
                      <a:pt x="33" y="0"/>
                    </a:lnTo>
                    <a:lnTo>
                      <a:pt x="41" y="0"/>
                    </a:lnTo>
                    <a:lnTo>
                      <a:pt x="58" y="0"/>
                    </a:lnTo>
                    <a:lnTo>
                      <a:pt x="66" y="0"/>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Freeform 318"/>
              <p:cNvSpPr/>
              <p:nvPr/>
            </p:nvSpPr>
            <p:spPr>
              <a:xfrm flipH="1">
                <a:off x="140760" y="1712880"/>
                <a:ext cx="15120" cy="11160"/>
              </a:xfrm>
              <a:custGeom>
                <a:avLst/>
                <a:gdLst>
                  <a:gd name="textAreaLeft" fmla="*/ 360 w 15120"/>
                  <a:gd name="textAreaRight" fmla="*/ 15840 w 15120"/>
                  <a:gd name="textAreaTop" fmla="*/ 0 h 11160"/>
                  <a:gd name="textAreaBottom" fmla="*/ 11520 h 11160"/>
                </a:gdLst>
                <a:ahLst/>
                <a:rect l="textAreaLeft" t="textAreaTop" r="textAreaRight" b="textAreaBottom"/>
                <a:pathLst>
                  <a:path w="76" h="54">
                    <a:moveTo>
                      <a:pt x="76" y="54"/>
                    </a:moveTo>
                    <a:lnTo>
                      <a:pt x="76" y="54"/>
                    </a:lnTo>
                    <a:lnTo>
                      <a:pt x="76" y="39"/>
                    </a:lnTo>
                    <a:lnTo>
                      <a:pt x="67" y="31"/>
                    </a:lnTo>
                    <a:lnTo>
                      <a:pt x="59" y="23"/>
                    </a:lnTo>
                    <a:lnTo>
                      <a:pt x="51" y="16"/>
                    </a:lnTo>
                    <a:lnTo>
                      <a:pt x="42" y="16"/>
                    </a:lnTo>
                    <a:lnTo>
                      <a:pt x="34" y="8"/>
                    </a:lnTo>
                    <a:lnTo>
                      <a:pt x="17" y="8"/>
                    </a:lnTo>
                    <a:lnTo>
                      <a:pt x="0" y="0"/>
                    </a:lnTo>
                    <a:lnTo>
                      <a:pt x="0" y="23"/>
                    </a:lnTo>
                    <a:lnTo>
                      <a:pt x="17" y="23"/>
                    </a:lnTo>
                    <a:lnTo>
                      <a:pt x="26" y="23"/>
                    </a:lnTo>
                    <a:lnTo>
                      <a:pt x="34" y="31"/>
                    </a:lnTo>
                    <a:lnTo>
                      <a:pt x="42" y="31"/>
                    </a:lnTo>
                    <a:lnTo>
                      <a:pt x="51" y="39"/>
                    </a:lnTo>
                    <a:lnTo>
                      <a:pt x="51" y="47"/>
                    </a:lnTo>
                    <a:lnTo>
                      <a:pt x="51" y="54"/>
                    </a:lnTo>
                    <a:lnTo>
                      <a:pt x="76" y="54"/>
                    </a:lnTo>
                    <a:close/>
                  </a:path>
                </a:pathLst>
              </a:custGeom>
              <a:solidFill>
                <a:srgbClr val="000000"/>
              </a:soli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Freeform 317"/>
              <p:cNvSpPr/>
              <p:nvPr/>
            </p:nvSpPr>
            <p:spPr>
              <a:xfrm flipH="1">
                <a:off x="140760" y="1724040"/>
                <a:ext cx="15120" cy="7920"/>
              </a:xfrm>
              <a:custGeom>
                <a:avLst/>
                <a:gdLst>
                  <a:gd name="textAreaLeft" fmla="*/ 360 w 15120"/>
                  <a:gd name="textAreaRight" fmla="*/ 15840 w 15120"/>
                  <a:gd name="textAreaTop" fmla="*/ 0 h 7920"/>
                  <a:gd name="textAreaBottom" fmla="*/ 8280 h 7920"/>
                </a:gdLst>
                <a:ahLst/>
                <a:rect l="textAreaLeft" t="textAreaTop" r="textAreaRight" b="textAreaBottom"/>
                <a:pathLst>
                  <a:path w="76" h="39">
                    <a:moveTo>
                      <a:pt x="0" y="39"/>
                    </a:moveTo>
                    <a:lnTo>
                      <a:pt x="0" y="39"/>
                    </a:lnTo>
                    <a:lnTo>
                      <a:pt x="9" y="39"/>
                    </a:lnTo>
                    <a:lnTo>
                      <a:pt x="26" y="39"/>
                    </a:lnTo>
                    <a:lnTo>
                      <a:pt x="34" y="39"/>
                    </a:lnTo>
                    <a:lnTo>
                      <a:pt x="51" y="31"/>
                    </a:lnTo>
                    <a:lnTo>
                      <a:pt x="59" y="23"/>
                    </a:lnTo>
                    <a:lnTo>
                      <a:pt x="67" y="16"/>
                    </a:lnTo>
                    <a:lnTo>
                      <a:pt x="76" y="8"/>
                    </a:lnTo>
                    <a:lnTo>
                      <a:pt x="76" y="0"/>
                    </a:lnTo>
                    <a:lnTo>
                      <a:pt x="51" y="0"/>
                    </a:lnTo>
                    <a:lnTo>
                      <a:pt x="51" y="8"/>
                    </a:lnTo>
                    <a:lnTo>
                      <a:pt x="42" y="8"/>
                    </a:lnTo>
                    <a:lnTo>
                      <a:pt x="42" y="16"/>
                    </a:lnTo>
                    <a:lnTo>
                      <a:pt x="34" y="16"/>
                    </a:lnTo>
                    <a:lnTo>
                      <a:pt x="17" y="23"/>
                    </a:lnTo>
                    <a:lnTo>
                      <a:pt x="9" y="23"/>
                    </a:lnTo>
                    <a:lnTo>
                      <a:pt x="0" y="23"/>
                    </a:lnTo>
                    <a:lnTo>
                      <a:pt x="0" y="39"/>
                    </a:lnTo>
                    <a:close/>
                  </a:path>
                </a:pathLst>
              </a:custGeom>
              <a:solidFill>
                <a:srgbClr val="000000"/>
              </a:solidFill>
              <a:ln w="0">
                <a:no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Freeform 316"/>
              <p:cNvSpPr/>
              <p:nvPr/>
            </p:nvSpPr>
            <p:spPr>
              <a:xfrm flipH="1">
                <a:off x="155880" y="1722600"/>
                <a:ext cx="14760" cy="9360"/>
              </a:xfrm>
              <a:custGeom>
                <a:avLst/>
                <a:gdLst>
                  <a:gd name="textAreaLeft" fmla="*/ -360 w 14760"/>
                  <a:gd name="textAreaRight" fmla="*/ 14760 w 14760"/>
                  <a:gd name="textAreaTop" fmla="*/ 0 h 9360"/>
                  <a:gd name="textAreaBottom" fmla="*/ 9720 h 9360"/>
                </a:gdLst>
                <a:ahLst/>
                <a:rect l="textAreaLeft" t="textAreaTop" r="textAreaRight" b="textAreaBottom"/>
                <a:pathLst>
                  <a:path w="75" h="46">
                    <a:moveTo>
                      <a:pt x="0" y="0"/>
                    </a:moveTo>
                    <a:lnTo>
                      <a:pt x="0" y="0"/>
                    </a:lnTo>
                    <a:lnTo>
                      <a:pt x="0" y="7"/>
                    </a:lnTo>
                    <a:lnTo>
                      <a:pt x="9" y="15"/>
                    </a:lnTo>
                    <a:lnTo>
                      <a:pt x="17" y="23"/>
                    </a:lnTo>
                    <a:lnTo>
                      <a:pt x="25" y="30"/>
                    </a:lnTo>
                    <a:lnTo>
                      <a:pt x="34" y="38"/>
                    </a:lnTo>
                    <a:lnTo>
                      <a:pt x="42" y="46"/>
                    </a:lnTo>
                    <a:lnTo>
                      <a:pt x="59" y="46"/>
                    </a:lnTo>
                    <a:lnTo>
                      <a:pt x="75" y="46"/>
                    </a:lnTo>
                    <a:lnTo>
                      <a:pt x="75" y="30"/>
                    </a:lnTo>
                    <a:lnTo>
                      <a:pt x="59" y="30"/>
                    </a:lnTo>
                    <a:lnTo>
                      <a:pt x="50" y="23"/>
                    </a:lnTo>
                    <a:lnTo>
                      <a:pt x="42" y="23"/>
                    </a:lnTo>
                    <a:lnTo>
                      <a:pt x="34" y="15"/>
                    </a:lnTo>
                    <a:lnTo>
                      <a:pt x="25" y="15"/>
                    </a:lnTo>
                    <a:lnTo>
                      <a:pt x="25" y="7"/>
                    </a:lnTo>
                    <a:lnTo>
                      <a:pt x="25" y="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Freeform 315"/>
              <p:cNvSpPr/>
              <p:nvPr/>
            </p:nvSpPr>
            <p:spPr>
              <a:xfrm flipH="1">
                <a:off x="155880" y="1712880"/>
                <a:ext cx="14760" cy="9720"/>
              </a:xfrm>
              <a:custGeom>
                <a:avLst/>
                <a:gdLst>
                  <a:gd name="textAreaLeft" fmla="*/ -360 w 14760"/>
                  <a:gd name="textAreaRight" fmla="*/ 14760 w 14760"/>
                  <a:gd name="textAreaTop" fmla="*/ 0 h 9720"/>
                  <a:gd name="textAreaBottom" fmla="*/ 10080 h 9720"/>
                </a:gdLst>
                <a:ahLst/>
                <a:rect l="textAreaLeft" t="textAreaTop" r="textAreaRight" b="textAreaBottom"/>
                <a:pathLst>
                  <a:path w="75" h="47">
                    <a:moveTo>
                      <a:pt x="75" y="0"/>
                    </a:moveTo>
                    <a:lnTo>
                      <a:pt x="75" y="0"/>
                    </a:lnTo>
                    <a:lnTo>
                      <a:pt x="67" y="0"/>
                    </a:lnTo>
                    <a:lnTo>
                      <a:pt x="50" y="8"/>
                    </a:lnTo>
                    <a:lnTo>
                      <a:pt x="42" y="8"/>
                    </a:lnTo>
                    <a:lnTo>
                      <a:pt x="25" y="16"/>
                    </a:lnTo>
                    <a:lnTo>
                      <a:pt x="17" y="16"/>
                    </a:lnTo>
                    <a:lnTo>
                      <a:pt x="9" y="23"/>
                    </a:lnTo>
                    <a:lnTo>
                      <a:pt x="9" y="39"/>
                    </a:lnTo>
                    <a:lnTo>
                      <a:pt x="0" y="47"/>
                    </a:lnTo>
                    <a:lnTo>
                      <a:pt x="25" y="47"/>
                    </a:lnTo>
                    <a:lnTo>
                      <a:pt x="25" y="39"/>
                    </a:lnTo>
                    <a:lnTo>
                      <a:pt x="34" y="31"/>
                    </a:lnTo>
                    <a:lnTo>
                      <a:pt x="42" y="23"/>
                    </a:lnTo>
                    <a:lnTo>
                      <a:pt x="59" y="23"/>
                    </a:lnTo>
                    <a:lnTo>
                      <a:pt x="67" y="23"/>
                    </a:lnTo>
                    <a:lnTo>
                      <a:pt x="75" y="23"/>
                    </a:lnTo>
                    <a:lnTo>
                      <a:pt x="75" y="0"/>
                    </a:lnTo>
                    <a:close/>
                  </a:path>
                </a:pathLst>
              </a:custGeom>
              <a:solidFill>
                <a:srgbClr val="0000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Freeform 314"/>
              <p:cNvSpPr/>
              <p:nvPr/>
            </p:nvSpPr>
            <p:spPr>
              <a:xfrm flipH="1">
                <a:off x="97200" y="1805040"/>
                <a:ext cx="24840" cy="14400"/>
              </a:xfrm>
              <a:custGeom>
                <a:avLst/>
                <a:gdLst>
                  <a:gd name="textAreaLeft" fmla="*/ -360 w 24840"/>
                  <a:gd name="textAreaRight" fmla="*/ 24840 w 24840"/>
                  <a:gd name="textAreaTop" fmla="*/ 0 h 14400"/>
                  <a:gd name="textAreaBottom" fmla="*/ 14760 h 14400"/>
                </a:gdLst>
                <a:ahLst/>
                <a:rect l="textAreaLeft" t="textAreaTop" r="textAreaRight" b="textAreaBottom"/>
                <a:pathLst>
                  <a:path w="125" h="69">
                    <a:moveTo>
                      <a:pt x="58" y="0"/>
                    </a:moveTo>
                    <a:lnTo>
                      <a:pt x="75" y="0"/>
                    </a:lnTo>
                    <a:lnTo>
                      <a:pt x="83" y="0"/>
                    </a:lnTo>
                    <a:lnTo>
                      <a:pt x="92" y="0"/>
                    </a:lnTo>
                    <a:lnTo>
                      <a:pt x="108" y="8"/>
                    </a:lnTo>
                    <a:lnTo>
                      <a:pt x="117" y="8"/>
                    </a:lnTo>
                    <a:lnTo>
                      <a:pt x="117" y="15"/>
                    </a:lnTo>
                    <a:lnTo>
                      <a:pt x="125" y="23"/>
                    </a:lnTo>
                    <a:lnTo>
                      <a:pt x="125" y="31"/>
                    </a:lnTo>
                    <a:lnTo>
                      <a:pt x="125" y="38"/>
                    </a:lnTo>
                    <a:lnTo>
                      <a:pt x="117" y="46"/>
                    </a:lnTo>
                    <a:lnTo>
                      <a:pt x="117" y="54"/>
                    </a:lnTo>
                    <a:lnTo>
                      <a:pt x="100" y="61"/>
                    </a:lnTo>
                    <a:lnTo>
                      <a:pt x="92" y="61"/>
                    </a:lnTo>
                    <a:lnTo>
                      <a:pt x="83" y="69"/>
                    </a:lnTo>
                    <a:lnTo>
                      <a:pt x="66" y="69"/>
                    </a:lnTo>
                    <a:lnTo>
                      <a:pt x="58" y="69"/>
                    </a:lnTo>
                    <a:lnTo>
                      <a:pt x="41" y="69"/>
                    </a:lnTo>
                    <a:lnTo>
                      <a:pt x="33" y="69"/>
                    </a:lnTo>
                    <a:lnTo>
                      <a:pt x="25" y="61"/>
                    </a:lnTo>
                    <a:lnTo>
                      <a:pt x="16" y="61"/>
                    </a:lnTo>
                    <a:lnTo>
                      <a:pt x="8" y="54"/>
                    </a:lnTo>
                    <a:lnTo>
                      <a:pt x="0" y="46"/>
                    </a:lnTo>
                    <a:lnTo>
                      <a:pt x="0" y="38"/>
                    </a:lnTo>
                    <a:lnTo>
                      <a:pt x="0" y="31"/>
                    </a:lnTo>
                    <a:lnTo>
                      <a:pt x="8" y="23"/>
                    </a:lnTo>
                    <a:lnTo>
                      <a:pt x="16" y="15"/>
                    </a:lnTo>
                    <a:lnTo>
                      <a:pt x="25" y="8"/>
                    </a:lnTo>
                    <a:lnTo>
                      <a:pt x="33" y="8"/>
                    </a:lnTo>
                    <a:lnTo>
                      <a:pt x="50" y="0"/>
                    </a:lnTo>
                    <a:lnTo>
                      <a:pt x="58" y="0"/>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Freeform 313"/>
              <p:cNvSpPr/>
              <p:nvPr/>
            </p:nvSpPr>
            <p:spPr>
              <a:xfrm flipH="1">
                <a:off x="95760" y="1803240"/>
                <a:ext cx="14760" cy="7920"/>
              </a:xfrm>
              <a:custGeom>
                <a:avLst/>
                <a:gdLst>
                  <a:gd name="textAreaLeft" fmla="*/ -360 w 14760"/>
                  <a:gd name="textAreaRight" fmla="*/ 14760 w 14760"/>
                  <a:gd name="textAreaTop" fmla="*/ 0 h 7920"/>
                  <a:gd name="textAreaBottom" fmla="*/ 8280 h 7920"/>
                </a:gdLst>
                <a:ahLst/>
                <a:rect l="textAreaLeft" t="textAreaTop" r="textAreaRight" b="textAreaBottom"/>
                <a:pathLst>
                  <a:path w="75" h="39">
                    <a:moveTo>
                      <a:pt x="75" y="31"/>
                    </a:moveTo>
                    <a:lnTo>
                      <a:pt x="75" y="31"/>
                    </a:lnTo>
                    <a:lnTo>
                      <a:pt x="75" y="23"/>
                    </a:lnTo>
                    <a:lnTo>
                      <a:pt x="67" y="16"/>
                    </a:lnTo>
                    <a:lnTo>
                      <a:pt x="59" y="8"/>
                    </a:lnTo>
                    <a:lnTo>
                      <a:pt x="50" y="0"/>
                    </a:lnTo>
                    <a:lnTo>
                      <a:pt x="42" y="0"/>
                    </a:lnTo>
                    <a:lnTo>
                      <a:pt x="25" y="0"/>
                    </a:lnTo>
                    <a:lnTo>
                      <a:pt x="17" y="0"/>
                    </a:lnTo>
                    <a:lnTo>
                      <a:pt x="0" y="0"/>
                    </a:lnTo>
                    <a:lnTo>
                      <a:pt x="0" y="16"/>
                    </a:lnTo>
                    <a:lnTo>
                      <a:pt x="17" y="16"/>
                    </a:lnTo>
                    <a:lnTo>
                      <a:pt x="25" y="16"/>
                    </a:lnTo>
                    <a:lnTo>
                      <a:pt x="34" y="16"/>
                    </a:lnTo>
                    <a:lnTo>
                      <a:pt x="42" y="23"/>
                    </a:lnTo>
                    <a:lnTo>
                      <a:pt x="50" y="23"/>
                    </a:lnTo>
                    <a:lnTo>
                      <a:pt x="59" y="31"/>
                    </a:lnTo>
                    <a:lnTo>
                      <a:pt x="59" y="39"/>
                    </a:lnTo>
                    <a:lnTo>
                      <a:pt x="75" y="31"/>
                    </a:lnTo>
                    <a:close/>
                  </a:path>
                </a:pathLst>
              </a:custGeom>
              <a:solidFill>
                <a:srgbClr val="000000"/>
              </a:solidFill>
              <a:ln w="0">
                <a:no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2" name="Freeform 312"/>
              <p:cNvSpPr/>
              <p:nvPr/>
            </p:nvSpPr>
            <p:spPr>
              <a:xfrm flipH="1">
                <a:off x="95760" y="1809720"/>
                <a:ext cx="13320" cy="11160"/>
              </a:xfrm>
              <a:custGeom>
                <a:avLst/>
                <a:gdLst>
                  <a:gd name="textAreaLeft" fmla="*/ -360 w 13320"/>
                  <a:gd name="textAreaRight" fmla="*/ 13320 w 13320"/>
                  <a:gd name="textAreaTop" fmla="*/ 0 h 11160"/>
                  <a:gd name="textAreaBottom" fmla="*/ 11520 h 11160"/>
                </a:gdLst>
                <a:ahLst/>
                <a:rect l="textAreaLeft" t="textAreaTop" r="textAreaRight" b="textAreaBottom"/>
                <a:pathLst>
                  <a:path w="67" h="54">
                    <a:moveTo>
                      <a:pt x="0" y="54"/>
                    </a:moveTo>
                    <a:lnTo>
                      <a:pt x="0" y="54"/>
                    </a:lnTo>
                    <a:lnTo>
                      <a:pt x="17" y="54"/>
                    </a:lnTo>
                    <a:lnTo>
                      <a:pt x="34" y="54"/>
                    </a:lnTo>
                    <a:lnTo>
                      <a:pt x="42" y="46"/>
                    </a:lnTo>
                    <a:lnTo>
                      <a:pt x="51" y="38"/>
                    </a:lnTo>
                    <a:lnTo>
                      <a:pt x="59" y="31"/>
                    </a:lnTo>
                    <a:lnTo>
                      <a:pt x="67" y="23"/>
                    </a:lnTo>
                    <a:lnTo>
                      <a:pt x="67" y="15"/>
                    </a:lnTo>
                    <a:lnTo>
                      <a:pt x="67" y="0"/>
                    </a:lnTo>
                    <a:lnTo>
                      <a:pt x="51" y="8"/>
                    </a:lnTo>
                    <a:lnTo>
                      <a:pt x="51" y="15"/>
                    </a:lnTo>
                    <a:lnTo>
                      <a:pt x="42" y="15"/>
                    </a:lnTo>
                    <a:lnTo>
                      <a:pt x="42" y="23"/>
                    </a:lnTo>
                    <a:lnTo>
                      <a:pt x="34" y="31"/>
                    </a:lnTo>
                    <a:lnTo>
                      <a:pt x="26" y="31"/>
                    </a:lnTo>
                    <a:lnTo>
                      <a:pt x="17" y="38"/>
                    </a:lnTo>
                    <a:lnTo>
                      <a:pt x="0" y="38"/>
                    </a:lnTo>
                    <a:lnTo>
                      <a:pt x="0" y="54"/>
                    </a:lnTo>
                    <a:close/>
                  </a:path>
                </a:pathLst>
              </a:custGeom>
              <a:solidFill>
                <a:srgbClr val="000000"/>
              </a:soli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Freeform 311"/>
              <p:cNvSpPr/>
              <p:nvPr/>
            </p:nvSpPr>
            <p:spPr>
              <a:xfrm flipH="1">
                <a:off x="109080" y="1812960"/>
                <a:ext cx="14760" cy="9360"/>
              </a:xfrm>
              <a:custGeom>
                <a:avLst/>
                <a:gdLst>
                  <a:gd name="textAreaLeft" fmla="*/ -360 w 14760"/>
                  <a:gd name="textAreaRight" fmla="*/ 14760 w 14760"/>
                  <a:gd name="textAreaTop" fmla="*/ 0 h 9360"/>
                  <a:gd name="textAreaBottom" fmla="*/ 9720 h 9360"/>
                </a:gdLst>
                <a:ahLst/>
                <a:rect l="textAreaLeft" t="textAreaTop" r="textAreaRight" b="textAreaBottom"/>
                <a:pathLst>
                  <a:path w="75" h="46">
                    <a:moveTo>
                      <a:pt x="0" y="8"/>
                    </a:moveTo>
                    <a:lnTo>
                      <a:pt x="0" y="8"/>
                    </a:lnTo>
                    <a:lnTo>
                      <a:pt x="0" y="16"/>
                    </a:lnTo>
                    <a:lnTo>
                      <a:pt x="9" y="23"/>
                    </a:lnTo>
                    <a:lnTo>
                      <a:pt x="17" y="31"/>
                    </a:lnTo>
                    <a:lnTo>
                      <a:pt x="25" y="39"/>
                    </a:lnTo>
                    <a:lnTo>
                      <a:pt x="42" y="39"/>
                    </a:lnTo>
                    <a:lnTo>
                      <a:pt x="50" y="39"/>
                    </a:lnTo>
                    <a:lnTo>
                      <a:pt x="67" y="46"/>
                    </a:lnTo>
                    <a:lnTo>
                      <a:pt x="75" y="39"/>
                    </a:lnTo>
                    <a:lnTo>
                      <a:pt x="75" y="23"/>
                    </a:lnTo>
                    <a:lnTo>
                      <a:pt x="67" y="23"/>
                    </a:lnTo>
                    <a:lnTo>
                      <a:pt x="50" y="23"/>
                    </a:lnTo>
                    <a:lnTo>
                      <a:pt x="42" y="23"/>
                    </a:lnTo>
                    <a:lnTo>
                      <a:pt x="34" y="16"/>
                    </a:lnTo>
                    <a:lnTo>
                      <a:pt x="25" y="16"/>
                    </a:lnTo>
                    <a:lnTo>
                      <a:pt x="25" y="8"/>
                    </a:lnTo>
                    <a:lnTo>
                      <a:pt x="17" y="0"/>
                    </a:lnTo>
                    <a:lnTo>
                      <a:pt x="0" y="8"/>
                    </a:lnTo>
                    <a:close/>
                  </a:path>
                </a:pathLst>
              </a:custGeom>
              <a:solidFill>
                <a:srgbClr val="0000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4" name="Freeform 310"/>
              <p:cNvSpPr/>
              <p:nvPr/>
            </p:nvSpPr>
            <p:spPr>
              <a:xfrm flipH="1">
                <a:off x="110520" y="1803240"/>
                <a:ext cx="13320" cy="11160"/>
              </a:xfrm>
              <a:custGeom>
                <a:avLst/>
                <a:gdLst>
                  <a:gd name="textAreaLeft" fmla="*/ -360 w 13320"/>
                  <a:gd name="textAreaRight" fmla="*/ 13320 w 13320"/>
                  <a:gd name="textAreaTop" fmla="*/ 0 h 11160"/>
                  <a:gd name="textAreaBottom" fmla="*/ 11520 h 11160"/>
                </a:gdLst>
                <a:ahLst/>
                <a:rect l="textAreaLeft" t="textAreaTop" r="textAreaRight" b="textAreaBottom"/>
                <a:pathLst>
                  <a:path w="67" h="54">
                    <a:moveTo>
                      <a:pt x="67" y="0"/>
                    </a:moveTo>
                    <a:lnTo>
                      <a:pt x="67" y="0"/>
                    </a:lnTo>
                    <a:lnTo>
                      <a:pt x="50" y="0"/>
                    </a:lnTo>
                    <a:lnTo>
                      <a:pt x="42" y="0"/>
                    </a:lnTo>
                    <a:lnTo>
                      <a:pt x="25" y="8"/>
                    </a:lnTo>
                    <a:lnTo>
                      <a:pt x="17" y="16"/>
                    </a:lnTo>
                    <a:lnTo>
                      <a:pt x="9" y="23"/>
                    </a:lnTo>
                    <a:lnTo>
                      <a:pt x="0" y="31"/>
                    </a:lnTo>
                    <a:lnTo>
                      <a:pt x="0" y="39"/>
                    </a:lnTo>
                    <a:lnTo>
                      <a:pt x="0" y="54"/>
                    </a:lnTo>
                    <a:lnTo>
                      <a:pt x="17" y="46"/>
                    </a:lnTo>
                    <a:lnTo>
                      <a:pt x="25" y="39"/>
                    </a:lnTo>
                    <a:lnTo>
                      <a:pt x="34" y="31"/>
                    </a:lnTo>
                    <a:lnTo>
                      <a:pt x="42" y="23"/>
                    </a:lnTo>
                    <a:lnTo>
                      <a:pt x="50" y="23"/>
                    </a:lnTo>
                    <a:lnTo>
                      <a:pt x="59" y="16"/>
                    </a:lnTo>
                    <a:lnTo>
                      <a:pt x="67" y="16"/>
                    </a:lnTo>
                    <a:lnTo>
                      <a:pt x="67" y="0"/>
                    </a:lnTo>
                    <a:close/>
                  </a:path>
                </a:pathLst>
              </a:custGeom>
              <a:solidFill>
                <a:srgbClr val="000000"/>
              </a:soli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5" name="Freeform 309"/>
              <p:cNvSpPr/>
              <p:nvPr/>
            </p:nvSpPr>
            <p:spPr>
              <a:xfrm flipH="1">
                <a:off x="38880" y="1793520"/>
                <a:ext cx="24840" cy="15840"/>
              </a:xfrm>
              <a:custGeom>
                <a:avLst/>
                <a:gdLst>
                  <a:gd name="textAreaLeft" fmla="*/ -360 w 24840"/>
                  <a:gd name="textAreaRight" fmla="*/ 24840 w 24840"/>
                  <a:gd name="textAreaTop" fmla="*/ 0 h 15840"/>
                  <a:gd name="textAreaBottom" fmla="*/ 16200 h 15840"/>
                </a:gdLst>
                <a:ahLst/>
                <a:rect l="textAreaLeft" t="textAreaTop" r="textAreaRight" b="textAreaBottom"/>
                <a:pathLst>
                  <a:path w="125" h="77">
                    <a:moveTo>
                      <a:pt x="59" y="0"/>
                    </a:moveTo>
                    <a:lnTo>
                      <a:pt x="75" y="0"/>
                    </a:lnTo>
                    <a:lnTo>
                      <a:pt x="84" y="0"/>
                    </a:lnTo>
                    <a:lnTo>
                      <a:pt x="92" y="8"/>
                    </a:lnTo>
                    <a:lnTo>
                      <a:pt x="109" y="8"/>
                    </a:lnTo>
                    <a:lnTo>
                      <a:pt x="117" y="15"/>
                    </a:lnTo>
                    <a:lnTo>
                      <a:pt x="125" y="23"/>
                    </a:lnTo>
                    <a:lnTo>
                      <a:pt x="125" y="31"/>
                    </a:lnTo>
                    <a:lnTo>
                      <a:pt x="125" y="38"/>
                    </a:lnTo>
                    <a:lnTo>
                      <a:pt x="125" y="46"/>
                    </a:lnTo>
                    <a:lnTo>
                      <a:pt x="117" y="54"/>
                    </a:lnTo>
                    <a:lnTo>
                      <a:pt x="117" y="62"/>
                    </a:lnTo>
                    <a:lnTo>
                      <a:pt x="100" y="62"/>
                    </a:lnTo>
                    <a:lnTo>
                      <a:pt x="92" y="69"/>
                    </a:lnTo>
                    <a:lnTo>
                      <a:pt x="84" y="69"/>
                    </a:lnTo>
                    <a:lnTo>
                      <a:pt x="67" y="77"/>
                    </a:lnTo>
                    <a:lnTo>
                      <a:pt x="59" y="77"/>
                    </a:lnTo>
                    <a:lnTo>
                      <a:pt x="42" y="77"/>
                    </a:lnTo>
                    <a:lnTo>
                      <a:pt x="34" y="69"/>
                    </a:lnTo>
                    <a:lnTo>
                      <a:pt x="25" y="69"/>
                    </a:lnTo>
                    <a:lnTo>
                      <a:pt x="17" y="62"/>
                    </a:lnTo>
                    <a:lnTo>
                      <a:pt x="8" y="62"/>
                    </a:lnTo>
                    <a:lnTo>
                      <a:pt x="0" y="54"/>
                    </a:lnTo>
                    <a:lnTo>
                      <a:pt x="0" y="46"/>
                    </a:lnTo>
                    <a:lnTo>
                      <a:pt x="0" y="38"/>
                    </a:lnTo>
                    <a:lnTo>
                      <a:pt x="0" y="31"/>
                    </a:lnTo>
                    <a:lnTo>
                      <a:pt x="8" y="23"/>
                    </a:lnTo>
                    <a:lnTo>
                      <a:pt x="17" y="15"/>
                    </a:lnTo>
                    <a:lnTo>
                      <a:pt x="25" y="15"/>
                    </a:lnTo>
                    <a:lnTo>
                      <a:pt x="34" y="8"/>
                    </a:lnTo>
                    <a:lnTo>
                      <a:pt x="50" y="8"/>
                    </a:lnTo>
                    <a:lnTo>
                      <a:pt x="59" y="0"/>
                    </a:lnTo>
                    <a:close/>
                  </a:path>
                </a:pathLst>
              </a:custGeom>
              <a:solidFill>
                <a:srgbClr val="000000"/>
              </a:solidFill>
              <a:ln w="0">
                <a:no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6" name="Freeform 308"/>
              <p:cNvSpPr/>
              <p:nvPr/>
            </p:nvSpPr>
            <p:spPr>
              <a:xfrm flipH="1">
                <a:off x="37440" y="1792080"/>
                <a:ext cx="14760" cy="7920"/>
              </a:xfrm>
              <a:custGeom>
                <a:avLst/>
                <a:gdLst>
                  <a:gd name="textAreaLeft" fmla="*/ -360 w 14760"/>
                  <a:gd name="textAreaRight" fmla="*/ 14760 w 14760"/>
                  <a:gd name="textAreaTop" fmla="*/ 0 h 7920"/>
                  <a:gd name="textAreaBottom" fmla="*/ 8280 h 7920"/>
                </a:gdLst>
                <a:ahLst/>
                <a:rect l="textAreaLeft" t="textAreaTop" r="textAreaRight" b="textAreaBottom"/>
                <a:pathLst>
                  <a:path w="75" h="39">
                    <a:moveTo>
                      <a:pt x="75" y="39"/>
                    </a:moveTo>
                    <a:lnTo>
                      <a:pt x="75" y="39"/>
                    </a:lnTo>
                    <a:lnTo>
                      <a:pt x="75" y="31"/>
                    </a:lnTo>
                    <a:lnTo>
                      <a:pt x="66" y="16"/>
                    </a:lnTo>
                    <a:lnTo>
                      <a:pt x="58" y="16"/>
                    </a:lnTo>
                    <a:lnTo>
                      <a:pt x="50" y="8"/>
                    </a:lnTo>
                    <a:lnTo>
                      <a:pt x="41" y="0"/>
                    </a:lnTo>
                    <a:lnTo>
                      <a:pt x="25" y="0"/>
                    </a:lnTo>
                    <a:lnTo>
                      <a:pt x="16" y="0"/>
                    </a:lnTo>
                    <a:lnTo>
                      <a:pt x="0" y="0"/>
                    </a:lnTo>
                    <a:lnTo>
                      <a:pt x="0" y="23"/>
                    </a:lnTo>
                    <a:lnTo>
                      <a:pt x="16" y="16"/>
                    </a:lnTo>
                    <a:lnTo>
                      <a:pt x="25" y="23"/>
                    </a:lnTo>
                    <a:lnTo>
                      <a:pt x="33" y="23"/>
                    </a:lnTo>
                    <a:lnTo>
                      <a:pt x="41" y="23"/>
                    </a:lnTo>
                    <a:lnTo>
                      <a:pt x="50" y="31"/>
                    </a:lnTo>
                    <a:lnTo>
                      <a:pt x="58" y="31"/>
                    </a:lnTo>
                    <a:lnTo>
                      <a:pt x="58" y="39"/>
                    </a:lnTo>
                    <a:lnTo>
                      <a:pt x="75" y="39"/>
                    </a:lnTo>
                    <a:close/>
                  </a:path>
                </a:pathLst>
              </a:custGeom>
              <a:solidFill>
                <a:srgbClr val="000000"/>
              </a:solidFill>
              <a:ln w="0">
                <a:no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7" name="Freeform 307"/>
              <p:cNvSpPr/>
              <p:nvPr/>
            </p:nvSpPr>
            <p:spPr>
              <a:xfrm flipH="1">
                <a:off x="37080" y="1800000"/>
                <a:ext cx="13320" cy="11160"/>
              </a:xfrm>
              <a:custGeom>
                <a:avLst/>
                <a:gdLst>
                  <a:gd name="textAreaLeft" fmla="*/ -360 w 13320"/>
                  <a:gd name="textAreaRight" fmla="*/ 13320 w 13320"/>
                  <a:gd name="textAreaTop" fmla="*/ 0 h 11160"/>
                  <a:gd name="textAreaBottom" fmla="*/ 11520 h 11160"/>
                </a:gdLst>
                <a:ahLst/>
                <a:rect l="textAreaLeft" t="textAreaTop" r="textAreaRight" b="textAreaBottom"/>
                <a:pathLst>
                  <a:path w="67" h="54">
                    <a:moveTo>
                      <a:pt x="8" y="54"/>
                    </a:moveTo>
                    <a:lnTo>
                      <a:pt x="8" y="54"/>
                    </a:lnTo>
                    <a:lnTo>
                      <a:pt x="17" y="54"/>
                    </a:lnTo>
                    <a:lnTo>
                      <a:pt x="33" y="46"/>
                    </a:lnTo>
                    <a:lnTo>
                      <a:pt x="42" y="38"/>
                    </a:lnTo>
                    <a:lnTo>
                      <a:pt x="50" y="38"/>
                    </a:lnTo>
                    <a:lnTo>
                      <a:pt x="58" y="31"/>
                    </a:lnTo>
                    <a:lnTo>
                      <a:pt x="67" y="15"/>
                    </a:lnTo>
                    <a:lnTo>
                      <a:pt x="67" y="7"/>
                    </a:lnTo>
                    <a:lnTo>
                      <a:pt x="67" y="0"/>
                    </a:lnTo>
                    <a:lnTo>
                      <a:pt x="50" y="0"/>
                    </a:lnTo>
                    <a:lnTo>
                      <a:pt x="50" y="7"/>
                    </a:lnTo>
                    <a:lnTo>
                      <a:pt x="42" y="15"/>
                    </a:lnTo>
                    <a:lnTo>
                      <a:pt x="42" y="23"/>
                    </a:lnTo>
                    <a:lnTo>
                      <a:pt x="33" y="23"/>
                    </a:lnTo>
                    <a:lnTo>
                      <a:pt x="25" y="31"/>
                    </a:lnTo>
                    <a:lnTo>
                      <a:pt x="8" y="31"/>
                    </a:lnTo>
                    <a:lnTo>
                      <a:pt x="0" y="31"/>
                    </a:lnTo>
                    <a:lnTo>
                      <a:pt x="8" y="54"/>
                    </a:lnTo>
                    <a:close/>
                  </a:path>
                </a:pathLst>
              </a:custGeom>
              <a:solidFill>
                <a:srgbClr val="000000"/>
              </a:soli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Freeform 306"/>
              <p:cNvSpPr/>
              <p:nvPr/>
            </p:nvSpPr>
            <p:spPr>
              <a:xfrm flipH="1">
                <a:off x="49320" y="1803240"/>
                <a:ext cx="16560" cy="7920"/>
              </a:xfrm>
              <a:custGeom>
                <a:avLst/>
                <a:gdLst>
                  <a:gd name="textAreaLeft" fmla="*/ 360 w 16560"/>
                  <a:gd name="textAreaRight" fmla="*/ 17280 w 16560"/>
                  <a:gd name="textAreaTop" fmla="*/ 0 h 7920"/>
                  <a:gd name="textAreaBottom" fmla="*/ 8280 h 7920"/>
                </a:gdLst>
                <a:ahLst/>
                <a:rect l="textAreaLeft" t="textAreaTop" r="textAreaRight" b="textAreaBottom"/>
                <a:pathLst>
                  <a:path w="83" h="39">
                    <a:moveTo>
                      <a:pt x="0" y="0"/>
                    </a:moveTo>
                    <a:lnTo>
                      <a:pt x="0" y="0"/>
                    </a:lnTo>
                    <a:lnTo>
                      <a:pt x="0" y="8"/>
                    </a:lnTo>
                    <a:lnTo>
                      <a:pt x="8" y="23"/>
                    </a:lnTo>
                    <a:lnTo>
                      <a:pt x="16" y="23"/>
                    </a:lnTo>
                    <a:lnTo>
                      <a:pt x="25" y="31"/>
                    </a:lnTo>
                    <a:lnTo>
                      <a:pt x="42" y="31"/>
                    </a:lnTo>
                    <a:lnTo>
                      <a:pt x="50" y="39"/>
                    </a:lnTo>
                    <a:lnTo>
                      <a:pt x="67" y="39"/>
                    </a:lnTo>
                    <a:lnTo>
                      <a:pt x="83" y="39"/>
                    </a:lnTo>
                    <a:lnTo>
                      <a:pt x="75" y="16"/>
                    </a:lnTo>
                    <a:lnTo>
                      <a:pt x="67" y="23"/>
                    </a:lnTo>
                    <a:lnTo>
                      <a:pt x="58" y="16"/>
                    </a:lnTo>
                    <a:lnTo>
                      <a:pt x="42" y="16"/>
                    </a:lnTo>
                    <a:lnTo>
                      <a:pt x="33" y="16"/>
                    </a:lnTo>
                    <a:lnTo>
                      <a:pt x="33" y="8"/>
                    </a:lnTo>
                    <a:lnTo>
                      <a:pt x="25" y="8"/>
                    </a:lnTo>
                    <a:lnTo>
                      <a:pt x="25" y="0"/>
                    </a:lnTo>
                    <a:lnTo>
                      <a:pt x="16" y="0"/>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Freeform 305"/>
              <p:cNvSpPr/>
              <p:nvPr/>
            </p:nvSpPr>
            <p:spPr>
              <a:xfrm flipH="1">
                <a:off x="52200" y="1792080"/>
                <a:ext cx="13320" cy="11160"/>
              </a:xfrm>
              <a:custGeom>
                <a:avLst/>
                <a:gdLst>
                  <a:gd name="textAreaLeft" fmla="*/ -360 w 13320"/>
                  <a:gd name="textAreaRight" fmla="*/ 13320 w 13320"/>
                  <a:gd name="textAreaTop" fmla="*/ 0 h 11160"/>
                  <a:gd name="textAreaBottom" fmla="*/ 11520 h 11160"/>
                </a:gdLst>
                <a:ahLst/>
                <a:rect l="textAreaLeft" t="textAreaTop" r="textAreaRight" b="textAreaBottom"/>
                <a:pathLst>
                  <a:path w="67" h="54">
                    <a:moveTo>
                      <a:pt x="67" y="0"/>
                    </a:moveTo>
                    <a:lnTo>
                      <a:pt x="67" y="0"/>
                    </a:lnTo>
                    <a:lnTo>
                      <a:pt x="50" y="0"/>
                    </a:lnTo>
                    <a:lnTo>
                      <a:pt x="42" y="8"/>
                    </a:lnTo>
                    <a:lnTo>
                      <a:pt x="25" y="16"/>
                    </a:lnTo>
                    <a:lnTo>
                      <a:pt x="16" y="16"/>
                    </a:lnTo>
                    <a:lnTo>
                      <a:pt x="8" y="23"/>
                    </a:lnTo>
                    <a:lnTo>
                      <a:pt x="8" y="31"/>
                    </a:lnTo>
                    <a:lnTo>
                      <a:pt x="0" y="46"/>
                    </a:lnTo>
                    <a:lnTo>
                      <a:pt x="0" y="54"/>
                    </a:lnTo>
                    <a:lnTo>
                      <a:pt x="16" y="54"/>
                    </a:lnTo>
                    <a:lnTo>
                      <a:pt x="16" y="46"/>
                    </a:lnTo>
                    <a:lnTo>
                      <a:pt x="25" y="46"/>
                    </a:lnTo>
                    <a:lnTo>
                      <a:pt x="25" y="39"/>
                    </a:lnTo>
                    <a:lnTo>
                      <a:pt x="33" y="31"/>
                    </a:lnTo>
                    <a:lnTo>
                      <a:pt x="42" y="31"/>
                    </a:lnTo>
                    <a:lnTo>
                      <a:pt x="50" y="23"/>
                    </a:lnTo>
                    <a:lnTo>
                      <a:pt x="58" y="23"/>
                    </a:lnTo>
                    <a:lnTo>
                      <a:pt x="67" y="23"/>
                    </a:lnTo>
                    <a:lnTo>
                      <a:pt x="67" y="0"/>
                    </a:lnTo>
                    <a:close/>
                  </a:path>
                </a:pathLst>
              </a:custGeom>
              <a:solidFill>
                <a:srgbClr val="000000"/>
              </a:soli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Freeform 304"/>
              <p:cNvSpPr/>
              <p:nvPr/>
            </p:nvSpPr>
            <p:spPr>
              <a:xfrm flipH="1">
                <a:off x="544680" y="1371240"/>
                <a:ext cx="68040" cy="78840"/>
              </a:xfrm>
              <a:custGeom>
                <a:avLst/>
                <a:gdLst>
                  <a:gd name="textAreaLeft" fmla="*/ -360 w 68040"/>
                  <a:gd name="textAreaRight" fmla="*/ 68040 w 68040"/>
                  <a:gd name="textAreaTop" fmla="*/ 0 h 78840"/>
                  <a:gd name="textAreaBottom" fmla="*/ 79200 h 78840"/>
                </a:gdLst>
                <a:ahLst/>
                <a:rect l="textAreaLeft" t="textAreaTop" r="textAreaRight" b="textAreaBottom"/>
                <a:pathLst>
                  <a:path w="342" h="377">
                    <a:moveTo>
                      <a:pt x="292" y="0"/>
                    </a:moveTo>
                    <a:lnTo>
                      <a:pt x="275" y="15"/>
                    </a:lnTo>
                    <a:lnTo>
                      <a:pt x="259" y="30"/>
                    </a:lnTo>
                    <a:lnTo>
                      <a:pt x="242" y="46"/>
                    </a:lnTo>
                    <a:lnTo>
                      <a:pt x="225" y="53"/>
                    </a:lnTo>
                    <a:lnTo>
                      <a:pt x="200" y="69"/>
                    </a:lnTo>
                    <a:lnTo>
                      <a:pt x="183" y="84"/>
                    </a:lnTo>
                    <a:lnTo>
                      <a:pt x="167" y="100"/>
                    </a:lnTo>
                    <a:lnTo>
                      <a:pt x="150" y="107"/>
                    </a:lnTo>
                    <a:lnTo>
                      <a:pt x="133" y="123"/>
                    </a:lnTo>
                    <a:lnTo>
                      <a:pt x="117" y="138"/>
                    </a:lnTo>
                    <a:lnTo>
                      <a:pt x="92" y="153"/>
                    </a:lnTo>
                    <a:lnTo>
                      <a:pt x="75" y="161"/>
                    </a:lnTo>
                    <a:lnTo>
                      <a:pt x="58" y="177"/>
                    </a:lnTo>
                    <a:lnTo>
                      <a:pt x="41" y="192"/>
                    </a:lnTo>
                    <a:lnTo>
                      <a:pt x="16" y="207"/>
                    </a:lnTo>
                    <a:lnTo>
                      <a:pt x="0" y="223"/>
                    </a:lnTo>
                    <a:lnTo>
                      <a:pt x="8" y="230"/>
                    </a:lnTo>
                    <a:lnTo>
                      <a:pt x="16" y="238"/>
                    </a:lnTo>
                    <a:lnTo>
                      <a:pt x="25" y="238"/>
                    </a:lnTo>
                    <a:lnTo>
                      <a:pt x="33" y="246"/>
                    </a:lnTo>
                    <a:lnTo>
                      <a:pt x="41" y="253"/>
                    </a:lnTo>
                    <a:lnTo>
                      <a:pt x="50" y="261"/>
                    </a:lnTo>
                    <a:lnTo>
                      <a:pt x="58" y="261"/>
                    </a:lnTo>
                    <a:lnTo>
                      <a:pt x="66" y="269"/>
                    </a:lnTo>
                    <a:lnTo>
                      <a:pt x="75" y="269"/>
                    </a:lnTo>
                    <a:lnTo>
                      <a:pt x="83" y="261"/>
                    </a:lnTo>
                    <a:lnTo>
                      <a:pt x="100" y="261"/>
                    </a:lnTo>
                    <a:lnTo>
                      <a:pt x="108" y="253"/>
                    </a:lnTo>
                    <a:lnTo>
                      <a:pt x="117" y="253"/>
                    </a:lnTo>
                    <a:lnTo>
                      <a:pt x="125" y="246"/>
                    </a:lnTo>
                    <a:lnTo>
                      <a:pt x="133" y="246"/>
                    </a:lnTo>
                    <a:lnTo>
                      <a:pt x="142" y="238"/>
                    </a:lnTo>
                    <a:lnTo>
                      <a:pt x="150" y="246"/>
                    </a:lnTo>
                    <a:lnTo>
                      <a:pt x="150" y="261"/>
                    </a:lnTo>
                    <a:lnTo>
                      <a:pt x="158" y="269"/>
                    </a:lnTo>
                    <a:lnTo>
                      <a:pt x="158" y="277"/>
                    </a:lnTo>
                    <a:lnTo>
                      <a:pt x="167" y="284"/>
                    </a:lnTo>
                    <a:lnTo>
                      <a:pt x="175" y="292"/>
                    </a:lnTo>
                    <a:lnTo>
                      <a:pt x="183" y="300"/>
                    </a:lnTo>
                    <a:lnTo>
                      <a:pt x="192" y="315"/>
                    </a:lnTo>
                    <a:lnTo>
                      <a:pt x="200" y="323"/>
                    </a:lnTo>
                    <a:lnTo>
                      <a:pt x="200" y="330"/>
                    </a:lnTo>
                    <a:lnTo>
                      <a:pt x="217" y="338"/>
                    </a:lnTo>
                    <a:lnTo>
                      <a:pt x="225" y="346"/>
                    </a:lnTo>
                    <a:lnTo>
                      <a:pt x="234" y="353"/>
                    </a:lnTo>
                    <a:lnTo>
                      <a:pt x="250" y="361"/>
                    </a:lnTo>
                    <a:lnTo>
                      <a:pt x="259" y="369"/>
                    </a:lnTo>
                    <a:lnTo>
                      <a:pt x="275" y="377"/>
                    </a:lnTo>
                    <a:lnTo>
                      <a:pt x="275" y="369"/>
                    </a:lnTo>
                    <a:lnTo>
                      <a:pt x="284" y="353"/>
                    </a:lnTo>
                    <a:lnTo>
                      <a:pt x="292" y="346"/>
                    </a:lnTo>
                    <a:lnTo>
                      <a:pt x="300" y="338"/>
                    </a:lnTo>
                    <a:lnTo>
                      <a:pt x="317" y="330"/>
                    </a:lnTo>
                    <a:lnTo>
                      <a:pt x="326" y="323"/>
                    </a:lnTo>
                    <a:lnTo>
                      <a:pt x="334" y="307"/>
                    </a:lnTo>
                    <a:lnTo>
                      <a:pt x="342" y="300"/>
                    </a:lnTo>
                    <a:lnTo>
                      <a:pt x="334" y="269"/>
                    </a:lnTo>
                    <a:lnTo>
                      <a:pt x="326" y="230"/>
                    </a:lnTo>
                    <a:lnTo>
                      <a:pt x="326" y="192"/>
                    </a:lnTo>
                    <a:lnTo>
                      <a:pt x="317" y="153"/>
                    </a:lnTo>
                    <a:lnTo>
                      <a:pt x="317" y="115"/>
                    </a:lnTo>
                    <a:lnTo>
                      <a:pt x="309" y="77"/>
                    </a:lnTo>
                    <a:lnTo>
                      <a:pt x="300" y="38"/>
                    </a:lnTo>
                    <a:lnTo>
                      <a:pt x="292" y="0"/>
                    </a:lnTo>
                    <a:close/>
                  </a:path>
                </a:pathLst>
              </a:custGeom>
              <a:solidFill>
                <a:srgbClr val="99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Freeform 303"/>
              <p:cNvSpPr/>
              <p:nvPr/>
            </p:nvSpPr>
            <p:spPr>
              <a:xfrm flipH="1">
                <a:off x="544680" y="1371240"/>
                <a:ext cx="68040" cy="78840"/>
              </a:xfrm>
              <a:custGeom>
                <a:avLst/>
                <a:gdLst>
                  <a:gd name="textAreaLeft" fmla="*/ -360 w 68040"/>
                  <a:gd name="textAreaRight" fmla="*/ 68040 w 68040"/>
                  <a:gd name="textAreaTop" fmla="*/ 0 h 78840"/>
                  <a:gd name="textAreaBottom" fmla="*/ 79200 h 78840"/>
                </a:gdLst>
                <a:ahLst/>
                <a:rect l="textAreaLeft" t="textAreaTop" r="textAreaRight" b="textAreaBottom"/>
                <a:pathLst>
                  <a:path w="342" h="377">
                    <a:moveTo>
                      <a:pt x="292" y="0"/>
                    </a:moveTo>
                    <a:lnTo>
                      <a:pt x="275" y="15"/>
                    </a:lnTo>
                    <a:lnTo>
                      <a:pt x="259" y="30"/>
                    </a:lnTo>
                    <a:lnTo>
                      <a:pt x="242" y="46"/>
                    </a:lnTo>
                    <a:lnTo>
                      <a:pt x="225" y="53"/>
                    </a:lnTo>
                    <a:lnTo>
                      <a:pt x="200" y="69"/>
                    </a:lnTo>
                    <a:lnTo>
                      <a:pt x="183" y="84"/>
                    </a:lnTo>
                    <a:lnTo>
                      <a:pt x="167" y="100"/>
                    </a:lnTo>
                    <a:lnTo>
                      <a:pt x="150" y="107"/>
                    </a:lnTo>
                    <a:lnTo>
                      <a:pt x="133" y="123"/>
                    </a:lnTo>
                    <a:lnTo>
                      <a:pt x="117" y="138"/>
                    </a:lnTo>
                    <a:lnTo>
                      <a:pt x="92" y="153"/>
                    </a:lnTo>
                    <a:lnTo>
                      <a:pt x="75" y="161"/>
                    </a:lnTo>
                    <a:lnTo>
                      <a:pt x="58" y="177"/>
                    </a:lnTo>
                    <a:lnTo>
                      <a:pt x="41" y="192"/>
                    </a:lnTo>
                    <a:lnTo>
                      <a:pt x="16" y="207"/>
                    </a:lnTo>
                    <a:lnTo>
                      <a:pt x="0" y="223"/>
                    </a:lnTo>
                    <a:lnTo>
                      <a:pt x="8" y="230"/>
                    </a:lnTo>
                    <a:lnTo>
                      <a:pt x="16" y="238"/>
                    </a:lnTo>
                    <a:lnTo>
                      <a:pt x="25" y="238"/>
                    </a:lnTo>
                    <a:lnTo>
                      <a:pt x="33" y="246"/>
                    </a:lnTo>
                    <a:lnTo>
                      <a:pt x="41" y="253"/>
                    </a:lnTo>
                    <a:lnTo>
                      <a:pt x="50" y="261"/>
                    </a:lnTo>
                    <a:lnTo>
                      <a:pt x="58" y="261"/>
                    </a:lnTo>
                    <a:lnTo>
                      <a:pt x="66" y="269"/>
                    </a:lnTo>
                    <a:lnTo>
                      <a:pt x="75" y="269"/>
                    </a:lnTo>
                    <a:lnTo>
                      <a:pt x="83" y="261"/>
                    </a:lnTo>
                    <a:lnTo>
                      <a:pt x="100" y="261"/>
                    </a:lnTo>
                    <a:lnTo>
                      <a:pt x="108" y="253"/>
                    </a:lnTo>
                    <a:lnTo>
                      <a:pt x="117" y="253"/>
                    </a:lnTo>
                    <a:lnTo>
                      <a:pt x="125" y="246"/>
                    </a:lnTo>
                    <a:lnTo>
                      <a:pt x="133" y="246"/>
                    </a:lnTo>
                    <a:lnTo>
                      <a:pt x="142" y="238"/>
                    </a:lnTo>
                    <a:lnTo>
                      <a:pt x="150" y="246"/>
                    </a:lnTo>
                    <a:lnTo>
                      <a:pt x="150" y="261"/>
                    </a:lnTo>
                    <a:lnTo>
                      <a:pt x="158" y="269"/>
                    </a:lnTo>
                    <a:lnTo>
                      <a:pt x="158" y="277"/>
                    </a:lnTo>
                    <a:lnTo>
                      <a:pt x="167" y="284"/>
                    </a:lnTo>
                    <a:lnTo>
                      <a:pt x="175" y="292"/>
                    </a:lnTo>
                    <a:lnTo>
                      <a:pt x="183" y="300"/>
                    </a:lnTo>
                    <a:lnTo>
                      <a:pt x="192" y="315"/>
                    </a:lnTo>
                    <a:lnTo>
                      <a:pt x="200" y="323"/>
                    </a:lnTo>
                    <a:lnTo>
                      <a:pt x="200" y="330"/>
                    </a:lnTo>
                    <a:lnTo>
                      <a:pt x="217" y="338"/>
                    </a:lnTo>
                    <a:lnTo>
                      <a:pt x="225" y="346"/>
                    </a:lnTo>
                    <a:lnTo>
                      <a:pt x="234" y="353"/>
                    </a:lnTo>
                    <a:lnTo>
                      <a:pt x="250" y="361"/>
                    </a:lnTo>
                    <a:lnTo>
                      <a:pt x="259" y="369"/>
                    </a:lnTo>
                    <a:lnTo>
                      <a:pt x="275" y="377"/>
                    </a:lnTo>
                    <a:lnTo>
                      <a:pt x="275" y="369"/>
                    </a:lnTo>
                    <a:lnTo>
                      <a:pt x="284" y="353"/>
                    </a:lnTo>
                    <a:lnTo>
                      <a:pt x="292" y="346"/>
                    </a:lnTo>
                    <a:lnTo>
                      <a:pt x="300" y="338"/>
                    </a:lnTo>
                    <a:lnTo>
                      <a:pt x="317" y="330"/>
                    </a:lnTo>
                    <a:lnTo>
                      <a:pt x="326" y="323"/>
                    </a:lnTo>
                    <a:lnTo>
                      <a:pt x="334" y="307"/>
                    </a:lnTo>
                    <a:lnTo>
                      <a:pt x="342" y="300"/>
                    </a:lnTo>
                    <a:lnTo>
                      <a:pt x="334" y="269"/>
                    </a:lnTo>
                    <a:lnTo>
                      <a:pt x="326" y="230"/>
                    </a:lnTo>
                    <a:lnTo>
                      <a:pt x="326" y="192"/>
                    </a:lnTo>
                    <a:lnTo>
                      <a:pt x="317" y="153"/>
                    </a:lnTo>
                    <a:lnTo>
                      <a:pt x="317" y="115"/>
                    </a:lnTo>
                    <a:lnTo>
                      <a:pt x="309" y="77"/>
                    </a:lnTo>
                    <a:lnTo>
                      <a:pt x="300" y="38"/>
                    </a:lnTo>
                    <a:lnTo>
                      <a:pt x="292" y="0"/>
                    </a:lnTo>
                  </a:path>
                </a:pathLst>
              </a:custGeom>
              <a:noFill/>
              <a:ln w="0">
                <a:solidFill>
                  <a:srgbClr val="000000"/>
                </a:solid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Freeform 302"/>
              <p:cNvSpPr/>
              <p:nvPr/>
            </p:nvSpPr>
            <p:spPr>
              <a:xfrm flipH="1">
                <a:off x="559440" y="13874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15"/>
                    </a:lnTo>
                    <a:lnTo>
                      <a:pt x="17" y="7"/>
                    </a:lnTo>
                    <a:lnTo>
                      <a:pt x="9" y="7"/>
                    </a:lnTo>
                    <a:lnTo>
                      <a:pt x="9" y="0"/>
                    </a:lnTo>
                    <a:lnTo>
                      <a:pt x="0" y="0"/>
                    </a:lnTo>
                    <a:lnTo>
                      <a:pt x="0" y="7"/>
                    </a:lnTo>
                    <a:lnTo>
                      <a:pt x="17"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Freeform 301"/>
              <p:cNvSpPr/>
              <p:nvPr/>
            </p:nvSpPr>
            <p:spPr>
              <a:xfrm flipH="1">
                <a:off x="559440" y="13874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15"/>
                    </a:lnTo>
                    <a:lnTo>
                      <a:pt x="17" y="7"/>
                    </a:lnTo>
                    <a:lnTo>
                      <a:pt x="9" y="7"/>
                    </a:lnTo>
                    <a:lnTo>
                      <a:pt x="9" y="0"/>
                    </a:lnTo>
                    <a:lnTo>
                      <a:pt x="0" y="0"/>
                    </a:lnTo>
                    <a:lnTo>
                      <a:pt x="0" y="7"/>
                    </a:lnTo>
                    <a:lnTo>
                      <a:pt x="17"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Freeform 300"/>
              <p:cNvSpPr/>
              <p:nvPr/>
            </p:nvSpPr>
            <p:spPr>
              <a:xfrm flipH="1">
                <a:off x="559800" y="1388520"/>
                <a:ext cx="26640" cy="33840"/>
              </a:xfrm>
              <a:custGeom>
                <a:avLst/>
                <a:gdLst>
                  <a:gd name="textAreaLeft" fmla="*/ 360 w 26640"/>
                  <a:gd name="textAreaRight" fmla="*/ 27360 w 26640"/>
                  <a:gd name="textAreaTop" fmla="*/ 0 h 33840"/>
                  <a:gd name="textAreaBottom" fmla="*/ 34200 h 33840"/>
                </a:gdLst>
                <a:ahLst/>
                <a:rect l="textAreaLeft" t="textAreaTop" r="textAreaRight" b="textAreaBottom"/>
                <a:pathLst>
                  <a:path w="134" h="162">
                    <a:moveTo>
                      <a:pt x="17" y="162"/>
                    </a:moveTo>
                    <a:lnTo>
                      <a:pt x="25" y="154"/>
                    </a:lnTo>
                    <a:lnTo>
                      <a:pt x="34" y="146"/>
                    </a:lnTo>
                    <a:lnTo>
                      <a:pt x="42" y="139"/>
                    </a:lnTo>
                    <a:lnTo>
                      <a:pt x="59" y="131"/>
                    </a:lnTo>
                    <a:lnTo>
                      <a:pt x="67" y="116"/>
                    </a:lnTo>
                    <a:lnTo>
                      <a:pt x="67" y="108"/>
                    </a:lnTo>
                    <a:lnTo>
                      <a:pt x="76" y="100"/>
                    </a:lnTo>
                    <a:lnTo>
                      <a:pt x="84" y="93"/>
                    </a:lnTo>
                    <a:lnTo>
                      <a:pt x="92" y="77"/>
                    </a:lnTo>
                    <a:lnTo>
                      <a:pt x="101" y="69"/>
                    </a:lnTo>
                    <a:lnTo>
                      <a:pt x="109" y="62"/>
                    </a:lnTo>
                    <a:lnTo>
                      <a:pt x="109" y="46"/>
                    </a:lnTo>
                    <a:lnTo>
                      <a:pt x="117" y="39"/>
                    </a:lnTo>
                    <a:lnTo>
                      <a:pt x="126" y="31"/>
                    </a:lnTo>
                    <a:lnTo>
                      <a:pt x="126" y="16"/>
                    </a:lnTo>
                    <a:lnTo>
                      <a:pt x="134" y="8"/>
                    </a:lnTo>
                    <a:lnTo>
                      <a:pt x="117" y="0"/>
                    </a:lnTo>
                    <a:lnTo>
                      <a:pt x="109" y="8"/>
                    </a:lnTo>
                    <a:lnTo>
                      <a:pt x="101" y="23"/>
                    </a:lnTo>
                    <a:lnTo>
                      <a:pt x="101" y="31"/>
                    </a:lnTo>
                    <a:lnTo>
                      <a:pt x="92" y="39"/>
                    </a:lnTo>
                    <a:lnTo>
                      <a:pt x="92" y="46"/>
                    </a:lnTo>
                    <a:lnTo>
                      <a:pt x="84" y="62"/>
                    </a:lnTo>
                    <a:lnTo>
                      <a:pt x="76" y="69"/>
                    </a:lnTo>
                    <a:lnTo>
                      <a:pt x="67" y="77"/>
                    </a:lnTo>
                    <a:lnTo>
                      <a:pt x="67" y="93"/>
                    </a:lnTo>
                    <a:lnTo>
                      <a:pt x="59" y="100"/>
                    </a:lnTo>
                    <a:lnTo>
                      <a:pt x="50" y="108"/>
                    </a:lnTo>
                    <a:lnTo>
                      <a:pt x="42" y="116"/>
                    </a:lnTo>
                    <a:lnTo>
                      <a:pt x="34" y="123"/>
                    </a:lnTo>
                    <a:lnTo>
                      <a:pt x="25" y="131"/>
                    </a:lnTo>
                    <a:lnTo>
                      <a:pt x="17" y="139"/>
                    </a:lnTo>
                    <a:lnTo>
                      <a:pt x="0" y="146"/>
                    </a:lnTo>
                    <a:lnTo>
                      <a:pt x="17" y="162"/>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Freeform 299"/>
              <p:cNvSpPr/>
              <p:nvPr/>
            </p:nvSpPr>
            <p:spPr>
              <a:xfrm flipH="1">
                <a:off x="559800" y="1388520"/>
                <a:ext cx="26640" cy="33840"/>
              </a:xfrm>
              <a:custGeom>
                <a:avLst/>
                <a:gdLst>
                  <a:gd name="textAreaLeft" fmla="*/ 360 w 26640"/>
                  <a:gd name="textAreaRight" fmla="*/ 27360 w 26640"/>
                  <a:gd name="textAreaTop" fmla="*/ 0 h 33840"/>
                  <a:gd name="textAreaBottom" fmla="*/ 34200 h 33840"/>
                </a:gdLst>
                <a:ahLst/>
                <a:rect l="textAreaLeft" t="textAreaTop" r="textAreaRight" b="textAreaBottom"/>
                <a:pathLst>
                  <a:path w="134" h="162">
                    <a:moveTo>
                      <a:pt x="17" y="162"/>
                    </a:moveTo>
                    <a:lnTo>
                      <a:pt x="25" y="154"/>
                    </a:lnTo>
                    <a:lnTo>
                      <a:pt x="34" y="146"/>
                    </a:lnTo>
                    <a:lnTo>
                      <a:pt x="42" y="139"/>
                    </a:lnTo>
                    <a:lnTo>
                      <a:pt x="59" y="131"/>
                    </a:lnTo>
                    <a:lnTo>
                      <a:pt x="67" y="116"/>
                    </a:lnTo>
                    <a:lnTo>
                      <a:pt x="67" y="108"/>
                    </a:lnTo>
                    <a:lnTo>
                      <a:pt x="76" y="100"/>
                    </a:lnTo>
                    <a:lnTo>
                      <a:pt x="84" y="93"/>
                    </a:lnTo>
                    <a:lnTo>
                      <a:pt x="92" y="77"/>
                    </a:lnTo>
                    <a:lnTo>
                      <a:pt x="101" y="69"/>
                    </a:lnTo>
                    <a:lnTo>
                      <a:pt x="109" y="62"/>
                    </a:lnTo>
                    <a:lnTo>
                      <a:pt x="109" y="46"/>
                    </a:lnTo>
                    <a:lnTo>
                      <a:pt x="117" y="39"/>
                    </a:lnTo>
                    <a:lnTo>
                      <a:pt x="126" y="31"/>
                    </a:lnTo>
                    <a:lnTo>
                      <a:pt x="126" y="16"/>
                    </a:lnTo>
                    <a:lnTo>
                      <a:pt x="134" y="8"/>
                    </a:lnTo>
                    <a:lnTo>
                      <a:pt x="117" y="0"/>
                    </a:lnTo>
                    <a:lnTo>
                      <a:pt x="109" y="8"/>
                    </a:lnTo>
                    <a:lnTo>
                      <a:pt x="101" y="23"/>
                    </a:lnTo>
                    <a:lnTo>
                      <a:pt x="101" y="31"/>
                    </a:lnTo>
                    <a:lnTo>
                      <a:pt x="92" y="39"/>
                    </a:lnTo>
                    <a:lnTo>
                      <a:pt x="92" y="46"/>
                    </a:lnTo>
                    <a:lnTo>
                      <a:pt x="84" y="62"/>
                    </a:lnTo>
                    <a:lnTo>
                      <a:pt x="76" y="69"/>
                    </a:lnTo>
                    <a:lnTo>
                      <a:pt x="67" y="77"/>
                    </a:lnTo>
                    <a:lnTo>
                      <a:pt x="67" y="93"/>
                    </a:lnTo>
                    <a:lnTo>
                      <a:pt x="59" y="100"/>
                    </a:lnTo>
                    <a:lnTo>
                      <a:pt x="50" y="108"/>
                    </a:lnTo>
                    <a:lnTo>
                      <a:pt x="42" y="116"/>
                    </a:lnTo>
                    <a:lnTo>
                      <a:pt x="34" y="123"/>
                    </a:lnTo>
                    <a:lnTo>
                      <a:pt x="25" y="131"/>
                    </a:lnTo>
                    <a:lnTo>
                      <a:pt x="17" y="139"/>
                    </a:lnTo>
                    <a:lnTo>
                      <a:pt x="0" y="146"/>
                    </a:lnTo>
                    <a:lnTo>
                      <a:pt x="17" y="162"/>
                    </a:lnTo>
                  </a:path>
                </a:pathLst>
              </a:custGeom>
              <a:noFill/>
              <a:ln w="0">
                <a:solidFill>
                  <a:srgbClr val="000000"/>
                </a:solid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Freeform 298"/>
              <p:cNvSpPr/>
              <p:nvPr/>
            </p:nvSpPr>
            <p:spPr>
              <a:xfrm flipH="1">
                <a:off x="560880" y="138852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8" y="0"/>
                    </a:moveTo>
                    <a:lnTo>
                      <a:pt x="8" y="0"/>
                    </a:lnTo>
                    <a:lnTo>
                      <a:pt x="0" y="8"/>
                    </a:lnTo>
                    <a:lnTo>
                      <a:pt x="8" y="8"/>
                    </a:lnTo>
                    <a:lnTo>
                      <a:pt x="8" y="16"/>
                    </a:lnTo>
                    <a:lnTo>
                      <a:pt x="17" y="16"/>
                    </a:lnTo>
                    <a:lnTo>
                      <a:pt x="8"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Freeform 297"/>
              <p:cNvSpPr/>
              <p:nvPr/>
            </p:nvSpPr>
            <p:spPr>
              <a:xfrm flipH="1">
                <a:off x="560880" y="138852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8" y="0"/>
                    </a:moveTo>
                    <a:lnTo>
                      <a:pt x="8" y="0"/>
                    </a:lnTo>
                    <a:lnTo>
                      <a:pt x="0" y="8"/>
                    </a:lnTo>
                    <a:lnTo>
                      <a:pt x="8" y="8"/>
                    </a:lnTo>
                    <a:lnTo>
                      <a:pt x="8" y="16"/>
                    </a:lnTo>
                    <a:lnTo>
                      <a:pt x="17" y="16"/>
                    </a:lnTo>
                    <a:lnTo>
                      <a:pt x="8" y="0"/>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Freeform 296"/>
              <p:cNvSpPr/>
              <p:nvPr/>
            </p:nvSpPr>
            <p:spPr>
              <a:xfrm flipH="1">
                <a:off x="576360" y="14144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25" y="8"/>
                    </a:moveTo>
                    <a:lnTo>
                      <a:pt x="17" y="0"/>
                    </a:lnTo>
                    <a:lnTo>
                      <a:pt x="9" y="0"/>
                    </a:lnTo>
                    <a:lnTo>
                      <a:pt x="0" y="0"/>
                    </a:lnTo>
                    <a:lnTo>
                      <a:pt x="0" y="8"/>
                    </a:lnTo>
                    <a:lnTo>
                      <a:pt x="25"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Freeform 295"/>
              <p:cNvSpPr/>
              <p:nvPr/>
            </p:nvSpPr>
            <p:spPr>
              <a:xfrm flipH="1">
                <a:off x="576360" y="14144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25" y="8"/>
                    </a:moveTo>
                    <a:lnTo>
                      <a:pt x="17" y="0"/>
                    </a:lnTo>
                    <a:lnTo>
                      <a:pt x="9" y="0"/>
                    </a:lnTo>
                    <a:lnTo>
                      <a:pt x="0" y="0"/>
                    </a:lnTo>
                    <a:lnTo>
                      <a:pt x="0" y="8"/>
                    </a:lnTo>
                    <a:lnTo>
                      <a:pt x="25"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0" name="Freeform 294"/>
              <p:cNvSpPr/>
              <p:nvPr/>
            </p:nvSpPr>
            <p:spPr>
              <a:xfrm flipH="1">
                <a:off x="556200" y="1416240"/>
                <a:ext cx="24840" cy="33840"/>
              </a:xfrm>
              <a:custGeom>
                <a:avLst/>
                <a:gdLst>
                  <a:gd name="textAreaLeft" fmla="*/ -360 w 24840"/>
                  <a:gd name="textAreaRight" fmla="*/ 24840 w 24840"/>
                  <a:gd name="textAreaTop" fmla="*/ 0 h 33840"/>
                  <a:gd name="textAreaBottom" fmla="*/ 34200 h 33840"/>
                </a:gdLst>
                <a:ahLst/>
                <a:rect l="textAreaLeft" t="textAreaTop" r="textAreaRight" b="textAreaBottom"/>
                <a:pathLst>
                  <a:path w="126" h="162">
                    <a:moveTo>
                      <a:pt x="126" y="146"/>
                    </a:moveTo>
                    <a:lnTo>
                      <a:pt x="117" y="138"/>
                    </a:lnTo>
                    <a:lnTo>
                      <a:pt x="109" y="131"/>
                    </a:lnTo>
                    <a:lnTo>
                      <a:pt x="92" y="123"/>
                    </a:lnTo>
                    <a:lnTo>
                      <a:pt x="92" y="108"/>
                    </a:lnTo>
                    <a:lnTo>
                      <a:pt x="84" y="100"/>
                    </a:lnTo>
                    <a:lnTo>
                      <a:pt x="76" y="92"/>
                    </a:lnTo>
                    <a:lnTo>
                      <a:pt x="67" y="85"/>
                    </a:lnTo>
                    <a:lnTo>
                      <a:pt x="59" y="77"/>
                    </a:lnTo>
                    <a:lnTo>
                      <a:pt x="51" y="62"/>
                    </a:lnTo>
                    <a:lnTo>
                      <a:pt x="42" y="54"/>
                    </a:lnTo>
                    <a:lnTo>
                      <a:pt x="42" y="46"/>
                    </a:lnTo>
                    <a:lnTo>
                      <a:pt x="34" y="38"/>
                    </a:lnTo>
                    <a:lnTo>
                      <a:pt x="34" y="23"/>
                    </a:lnTo>
                    <a:lnTo>
                      <a:pt x="25" y="15"/>
                    </a:lnTo>
                    <a:lnTo>
                      <a:pt x="25" y="8"/>
                    </a:lnTo>
                    <a:lnTo>
                      <a:pt x="25" y="0"/>
                    </a:lnTo>
                    <a:lnTo>
                      <a:pt x="0" y="0"/>
                    </a:lnTo>
                    <a:lnTo>
                      <a:pt x="9" y="15"/>
                    </a:lnTo>
                    <a:lnTo>
                      <a:pt x="9" y="23"/>
                    </a:lnTo>
                    <a:lnTo>
                      <a:pt x="17" y="31"/>
                    </a:lnTo>
                    <a:lnTo>
                      <a:pt x="17" y="46"/>
                    </a:lnTo>
                    <a:lnTo>
                      <a:pt x="25" y="54"/>
                    </a:lnTo>
                    <a:lnTo>
                      <a:pt x="25" y="62"/>
                    </a:lnTo>
                    <a:lnTo>
                      <a:pt x="34" y="77"/>
                    </a:lnTo>
                    <a:lnTo>
                      <a:pt x="42" y="85"/>
                    </a:lnTo>
                    <a:lnTo>
                      <a:pt x="51" y="92"/>
                    </a:lnTo>
                    <a:lnTo>
                      <a:pt x="59" y="100"/>
                    </a:lnTo>
                    <a:lnTo>
                      <a:pt x="67" y="115"/>
                    </a:lnTo>
                    <a:lnTo>
                      <a:pt x="76" y="123"/>
                    </a:lnTo>
                    <a:lnTo>
                      <a:pt x="84" y="131"/>
                    </a:lnTo>
                    <a:lnTo>
                      <a:pt x="92" y="146"/>
                    </a:lnTo>
                    <a:lnTo>
                      <a:pt x="101" y="154"/>
                    </a:lnTo>
                    <a:lnTo>
                      <a:pt x="109" y="162"/>
                    </a:lnTo>
                    <a:lnTo>
                      <a:pt x="126" y="14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1" name="Freeform 293"/>
              <p:cNvSpPr/>
              <p:nvPr/>
            </p:nvSpPr>
            <p:spPr>
              <a:xfrm flipH="1">
                <a:off x="556200" y="1416240"/>
                <a:ext cx="24840" cy="33840"/>
              </a:xfrm>
              <a:custGeom>
                <a:avLst/>
                <a:gdLst>
                  <a:gd name="textAreaLeft" fmla="*/ -360 w 24840"/>
                  <a:gd name="textAreaRight" fmla="*/ 24840 w 24840"/>
                  <a:gd name="textAreaTop" fmla="*/ 0 h 33840"/>
                  <a:gd name="textAreaBottom" fmla="*/ 34200 h 33840"/>
                </a:gdLst>
                <a:ahLst/>
                <a:rect l="textAreaLeft" t="textAreaTop" r="textAreaRight" b="textAreaBottom"/>
                <a:pathLst>
                  <a:path w="126" h="162">
                    <a:moveTo>
                      <a:pt x="126" y="146"/>
                    </a:moveTo>
                    <a:lnTo>
                      <a:pt x="117" y="138"/>
                    </a:lnTo>
                    <a:lnTo>
                      <a:pt x="109" y="131"/>
                    </a:lnTo>
                    <a:lnTo>
                      <a:pt x="92" y="123"/>
                    </a:lnTo>
                    <a:lnTo>
                      <a:pt x="92" y="108"/>
                    </a:lnTo>
                    <a:lnTo>
                      <a:pt x="84" y="100"/>
                    </a:lnTo>
                    <a:lnTo>
                      <a:pt x="76" y="92"/>
                    </a:lnTo>
                    <a:lnTo>
                      <a:pt x="67" y="85"/>
                    </a:lnTo>
                    <a:lnTo>
                      <a:pt x="59" y="77"/>
                    </a:lnTo>
                    <a:lnTo>
                      <a:pt x="51" y="62"/>
                    </a:lnTo>
                    <a:lnTo>
                      <a:pt x="42" y="54"/>
                    </a:lnTo>
                    <a:lnTo>
                      <a:pt x="42" y="46"/>
                    </a:lnTo>
                    <a:lnTo>
                      <a:pt x="34" y="38"/>
                    </a:lnTo>
                    <a:lnTo>
                      <a:pt x="34" y="23"/>
                    </a:lnTo>
                    <a:lnTo>
                      <a:pt x="25" y="15"/>
                    </a:lnTo>
                    <a:lnTo>
                      <a:pt x="25" y="8"/>
                    </a:lnTo>
                    <a:lnTo>
                      <a:pt x="25" y="0"/>
                    </a:lnTo>
                    <a:lnTo>
                      <a:pt x="0" y="0"/>
                    </a:lnTo>
                    <a:lnTo>
                      <a:pt x="9" y="15"/>
                    </a:lnTo>
                    <a:lnTo>
                      <a:pt x="9" y="23"/>
                    </a:lnTo>
                    <a:lnTo>
                      <a:pt x="17" y="31"/>
                    </a:lnTo>
                    <a:lnTo>
                      <a:pt x="17" y="46"/>
                    </a:lnTo>
                    <a:lnTo>
                      <a:pt x="25" y="54"/>
                    </a:lnTo>
                    <a:lnTo>
                      <a:pt x="25" y="62"/>
                    </a:lnTo>
                    <a:lnTo>
                      <a:pt x="34" y="77"/>
                    </a:lnTo>
                    <a:lnTo>
                      <a:pt x="42" y="85"/>
                    </a:lnTo>
                    <a:lnTo>
                      <a:pt x="51" y="92"/>
                    </a:lnTo>
                    <a:lnTo>
                      <a:pt x="59" y="100"/>
                    </a:lnTo>
                    <a:lnTo>
                      <a:pt x="67" y="115"/>
                    </a:lnTo>
                    <a:lnTo>
                      <a:pt x="76" y="123"/>
                    </a:lnTo>
                    <a:lnTo>
                      <a:pt x="84" y="131"/>
                    </a:lnTo>
                    <a:lnTo>
                      <a:pt x="92" y="146"/>
                    </a:lnTo>
                    <a:lnTo>
                      <a:pt x="101" y="154"/>
                    </a:lnTo>
                    <a:lnTo>
                      <a:pt x="109" y="162"/>
                    </a:lnTo>
                    <a:lnTo>
                      <a:pt x="126" y="146"/>
                    </a:lnTo>
                  </a:path>
                </a:pathLst>
              </a:custGeom>
              <a:noFill/>
              <a:ln w="0">
                <a:solidFill>
                  <a:srgbClr val="000000"/>
                </a:solid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2" name="Freeform 292"/>
              <p:cNvSpPr/>
              <p:nvPr/>
            </p:nvSpPr>
            <p:spPr>
              <a:xfrm flipH="1">
                <a:off x="576720" y="141444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6" h="16">
                    <a:moveTo>
                      <a:pt x="0" y="16"/>
                    </a:moveTo>
                    <a:lnTo>
                      <a:pt x="0" y="16"/>
                    </a:lnTo>
                    <a:lnTo>
                      <a:pt x="8" y="16"/>
                    </a:lnTo>
                    <a:lnTo>
                      <a:pt x="16" y="8"/>
                    </a:lnTo>
                    <a:lnTo>
                      <a:pt x="16" y="0"/>
                    </a:lnTo>
                    <a:lnTo>
                      <a:pt x="8" y="0"/>
                    </a:lnTo>
                    <a:lnTo>
                      <a:pt x="0" y="16"/>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Freeform 291"/>
              <p:cNvSpPr/>
              <p:nvPr/>
            </p:nvSpPr>
            <p:spPr>
              <a:xfrm flipH="1">
                <a:off x="576720" y="141444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6" h="16">
                    <a:moveTo>
                      <a:pt x="0" y="16"/>
                    </a:moveTo>
                    <a:lnTo>
                      <a:pt x="0" y="16"/>
                    </a:lnTo>
                    <a:lnTo>
                      <a:pt x="8" y="16"/>
                    </a:lnTo>
                    <a:lnTo>
                      <a:pt x="16" y="8"/>
                    </a:lnTo>
                    <a:lnTo>
                      <a:pt x="16" y="0"/>
                    </a:lnTo>
                    <a:lnTo>
                      <a:pt x="8" y="0"/>
                    </a:lnTo>
                    <a:lnTo>
                      <a:pt x="0" y="16"/>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4" name="Freeform 290"/>
              <p:cNvSpPr/>
              <p:nvPr/>
            </p:nvSpPr>
            <p:spPr>
              <a:xfrm flipH="1">
                <a:off x="569520" y="140652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0"/>
                    </a:moveTo>
                    <a:lnTo>
                      <a:pt x="17" y="0"/>
                    </a:lnTo>
                    <a:lnTo>
                      <a:pt x="9" y="0"/>
                    </a:lnTo>
                    <a:lnTo>
                      <a:pt x="0" y="0"/>
                    </a:lnTo>
                    <a:lnTo>
                      <a:pt x="0" y="8"/>
                    </a:lnTo>
                    <a:lnTo>
                      <a:pt x="17"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Freeform 289"/>
              <p:cNvSpPr/>
              <p:nvPr/>
            </p:nvSpPr>
            <p:spPr>
              <a:xfrm flipH="1">
                <a:off x="569520" y="140652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0"/>
                    </a:moveTo>
                    <a:lnTo>
                      <a:pt x="17" y="0"/>
                    </a:lnTo>
                    <a:lnTo>
                      <a:pt x="9" y="0"/>
                    </a:lnTo>
                    <a:lnTo>
                      <a:pt x="0" y="0"/>
                    </a:lnTo>
                    <a:lnTo>
                      <a:pt x="0" y="8"/>
                    </a:lnTo>
                    <a:lnTo>
                      <a:pt x="17"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Freeform 288"/>
              <p:cNvSpPr/>
              <p:nvPr/>
            </p:nvSpPr>
            <p:spPr>
              <a:xfrm flipH="1">
                <a:off x="551520" y="1406520"/>
                <a:ext cx="21600" cy="38520"/>
              </a:xfrm>
              <a:custGeom>
                <a:avLst/>
                <a:gdLst>
                  <a:gd name="textAreaLeft" fmla="*/ 360 w 21600"/>
                  <a:gd name="textAreaRight" fmla="*/ 22320 w 21600"/>
                  <a:gd name="textAreaTop" fmla="*/ 0 h 38520"/>
                  <a:gd name="textAreaBottom" fmla="*/ 38880 h 38520"/>
                </a:gdLst>
                <a:ahLst/>
                <a:rect l="textAreaLeft" t="textAreaTop" r="textAreaRight" b="textAreaBottom"/>
                <a:pathLst>
                  <a:path w="109" h="184">
                    <a:moveTo>
                      <a:pt x="109" y="169"/>
                    </a:moveTo>
                    <a:lnTo>
                      <a:pt x="100" y="161"/>
                    </a:lnTo>
                    <a:lnTo>
                      <a:pt x="92" y="146"/>
                    </a:lnTo>
                    <a:lnTo>
                      <a:pt x="84" y="131"/>
                    </a:lnTo>
                    <a:lnTo>
                      <a:pt x="75" y="123"/>
                    </a:lnTo>
                    <a:lnTo>
                      <a:pt x="75" y="115"/>
                    </a:lnTo>
                    <a:lnTo>
                      <a:pt x="67" y="100"/>
                    </a:lnTo>
                    <a:lnTo>
                      <a:pt x="59" y="92"/>
                    </a:lnTo>
                    <a:lnTo>
                      <a:pt x="59" y="84"/>
                    </a:lnTo>
                    <a:lnTo>
                      <a:pt x="50" y="69"/>
                    </a:lnTo>
                    <a:lnTo>
                      <a:pt x="42" y="61"/>
                    </a:lnTo>
                    <a:lnTo>
                      <a:pt x="42" y="54"/>
                    </a:lnTo>
                    <a:lnTo>
                      <a:pt x="34" y="38"/>
                    </a:lnTo>
                    <a:lnTo>
                      <a:pt x="34" y="31"/>
                    </a:lnTo>
                    <a:lnTo>
                      <a:pt x="25" y="23"/>
                    </a:lnTo>
                    <a:lnTo>
                      <a:pt x="17" y="15"/>
                    </a:lnTo>
                    <a:lnTo>
                      <a:pt x="17" y="0"/>
                    </a:lnTo>
                    <a:lnTo>
                      <a:pt x="0" y="8"/>
                    </a:lnTo>
                    <a:lnTo>
                      <a:pt x="0" y="23"/>
                    </a:lnTo>
                    <a:lnTo>
                      <a:pt x="9" y="31"/>
                    </a:lnTo>
                    <a:lnTo>
                      <a:pt x="9" y="38"/>
                    </a:lnTo>
                    <a:lnTo>
                      <a:pt x="17" y="54"/>
                    </a:lnTo>
                    <a:lnTo>
                      <a:pt x="25" y="61"/>
                    </a:lnTo>
                    <a:lnTo>
                      <a:pt x="25" y="69"/>
                    </a:lnTo>
                    <a:lnTo>
                      <a:pt x="34" y="77"/>
                    </a:lnTo>
                    <a:lnTo>
                      <a:pt x="42" y="84"/>
                    </a:lnTo>
                    <a:lnTo>
                      <a:pt x="42" y="100"/>
                    </a:lnTo>
                    <a:lnTo>
                      <a:pt x="50" y="108"/>
                    </a:lnTo>
                    <a:lnTo>
                      <a:pt x="59" y="123"/>
                    </a:lnTo>
                    <a:lnTo>
                      <a:pt x="59" y="131"/>
                    </a:lnTo>
                    <a:lnTo>
                      <a:pt x="67" y="146"/>
                    </a:lnTo>
                    <a:lnTo>
                      <a:pt x="75" y="154"/>
                    </a:lnTo>
                    <a:lnTo>
                      <a:pt x="84" y="169"/>
                    </a:lnTo>
                    <a:lnTo>
                      <a:pt x="92" y="184"/>
                    </a:lnTo>
                    <a:lnTo>
                      <a:pt x="109" y="169"/>
                    </a:lnTo>
                    <a:close/>
                  </a:path>
                </a:pathLst>
              </a:custGeom>
              <a:solidFill>
                <a:srgbClr val="000000"/>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Freeform 287"/>
              <p:cNvSpPr/>
              <p:nvPr/>
            </p:nvSpPr>
            <p:spPr>
              <a:xfrm flipH="1">
                <a:off x="551520" y="1406520"/>
                <a:ext cx="21600" cy="38520"/>
              </a:xfrm>
              <a:custGeom>
                <a:avLst/>
                <a:gdLst>
                  <a:gd name="textAreaLeft" fmla="*/ 360 w 21600"/>
                  <a:gd name="textAreaRight" fmla="*/ 22320 w 21600"/>
                  <a:gd name="textAreaTop" fmla="*/ 0 h 38520"/>
                  <a:gd name="textAreaBottom" fmla="*/ 38880 h 38520"/>
                </a:gdLst>
                <a:ahLst/>
                <a:rect l="textAreaLeft" t="textAreaTop" r="textAreaRight" b="textAreaBottom"/>
                <a:pathLst>
                  <a:path w="109" h="184">
                    <a:moveTo>
                      <a:pt x="109" y="169"/>
                    </a:moveTo>
                    <a:lnTo>
                      <a:pt x="100" y="161"/>
                    </a:lnTo>
                    <a:lnTo>
                      <a:pt x="92" y="146"/>
                    </a:lnTo>
                    <a:lnTo>
                      <a:pt x="84" y="131"/>
                    </a:lnTo>
                    <a:lnTo>
                      <a:pt x="75" y="123"/>
                    </a:lnTo>
                    <a:lnTo>
                      <a:pt x="75" y="115"/>
                    </a:lnTo>
                    <a:lnTo>
                      <a:pt x="67" y="100"/>
                    </a:lnTo>
                    <a:lnTo>
                      <a:pt x="59" y="92"/>
                    </a:lnTo>
                    <a:lnTo>
                      <a:pt x="59" y="84"/>
                    </a:lnTo>
                    <a:lnTo>
                      <a:pt x="50" y="69"/>
                    </a:lnTo>
                    <a:lnTo>
                      <a:pt x="42" y="61"/>
                    </a:lnTo>
                    <a:lnTo>
                      <a:pt x="42" y="54"/>
                    </a:lnTo>
                    <a:lnTo>
                      <a:pt x="34" y="38"/>
                    </a:lnTo>
                    <a:lnTo>
                      <a:pt x="34" y="31"/>
                    </a:lnTo>
                    <a:lnTo>
                      <a:pt x="25" y="23"/>
                    </a:lnTo>
                    <a:lnTo>
                      <a:pt x="17" y="15"/>
                    </a:lnTo>
                    <a:lnTo>
                      <a:pt x="17" y="0"/>
                    </a:lnTo>
                    <a:lnTo>
                      <a:pt x="0" y="8"/>
                    </a:lnTo>
                    <a:lnTo>
                      <a:pt x="0" y="23"/>
                    </a:lnTo>
                    <a:lnTo>
                      <a:pt x="9" y="31"/>
                    </a:lnTo>
                    <a:lnTo>
                      <a:pt x="9" y="38"/>
                    </a:lnTo>
                    <a:lnTo>
                      <a:pt x="17" y="54"/>
                    </a:lnTo>
                    <a:lnTo>
                      <a:pt x="25" y="61"/>
                    </a:lnTo>
                    <a:lnTo>
                      <a:pt x="25" y="69"/>
                    </a:lnTo>
                    <a:lnTo>
                      <a:pt x="34" y="77"/>
                    </a:lnTo>
                    <a:lnTo>
                      <a:pt x="42" y="84"/>
                    </a:lnTo>
                    <a:lnTo>
                      <a:pt x="42" y="100"/>
                    </a:lnTo>
                    <a:lnTo>
                      <a:pt x="50" y="108"/>
                    </a:lnTo>
                    <a:lnTo>
                      <a:pt x="59" y="123"/>
                    </a:lnTo>
                    <a:lnTo>
                      <a:pt x="59" y="131"/>
                    </a:lnTo>
                    <a:lnTo>
                      <a:pt x="67" y="146"/>
                    </a:lnTo>
                    <a:lnTo>
                      <a:pt x="75" y="154"/>
                    </a:lnTo>
                    <a:lnTo>
                      <a:pt x="84" y="169"/>
                    </a:lnTo>
                    <a:lnTo>
                      <a:pt x="92" y="184"/>
                    </a:lnTo>
                    <a:lnTo>
                      <a:pt x="109" y="169"/>
                    </a:lnTo>
                  </a:path>
                </a:pathLst>
              </a:custGeom>
              <a:noFill/>
              <a:ln w="0">
                <a:solidFill>
                  <a:srgbClr val="000000"/>
                </a:solid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Freeform 286"/>
              <p:cNvSpPr/>
              <p:nvPr/>
            </p:nvSpPr>
            <p:spPr>
              <a:xfrm flipH="1">
                <a:off x="569520" y="140652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15"/>
                    </a:moveTo>
                    <a:lnTo>
                      <a:pt x="0" y="15"/>
                    </a:lnTo>
                    <a:lnTo>
                      <a:pt x="9" y="15"/>
                    </a:lnTo>
                    <a:lnTo>
                      <a:pt x="17" y="15"/>
                    </a:lnTo>
                    <a:lnTo>
                      <a:pt x="17" y="8"/>
                    </a:lnTo>
                    <a:lnTo>
                      <a:pt x="17" y="0"/>
                    </a:lnTo>
                    <a:lnTo>
                      <a:pt x="0"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Freeform 285"/>
              <p:cNvSpPr/>
              <p:nvPr/>
            </p:nvSpPr>
            <p:spPr>
              <a:xfrm flipH="1">
                <a:off x="569520" y="140652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15"/>
                    </a:moveTo>
                    <a:lnTo>
                      <a:pt x="0" y="15"/>
                    </a:lnTo>
                    <a:lnTo>
                      <a:pt x="9" y="15"/>
                    </a:lnTo>
                    <a:lnTo>
                      <a:pt x="17" y="15"/>
                    </a:lnTo>
                    <a:lnTo>
                      <a:pt x="17" y="8"/>
                    </a:lnTo>
                    <a:lnTo>
                      <a:pt x="17" y="0"/>
                    </a:lnTo>
                    <a:lnTo>
                      <a:pt x="0"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Freeform 284"/>
              <p:cNvSpPr/>
              <p:nvPr/>
            </p:nvSpPr>
            <p:spPr>
              <a:xfrm flipH="1">
                <a:off x="565920" y="14000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8"/>
                    </a:moveTo>
                    <a:lnTo>
                      <a:pt x="8" y="0"/>
                    </a:lnTo>
                    <a:lnTo>
                      <a:pt x="0" y="8"/>
                    </a:lnTo>
                    <a:lnTo>
                      <a:pt x="0" y="15"/>
                    </a:lnTo>
                    <a:lnTo>
                      <a:pt x="17" y="8"/>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Freeform 283"/>
              <p:cNvSpPr/>
              <p:nvPr/>
            </p:nvSpPr>
            <p:spPr>
              <a:xfrm flipH="1">
                <a:off x="565920" y="14000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8"/>
                    </a:moveTo>
                    <a:lnTo>
                      <a:pt x="8" y="0"/>
                    </a:lnTo>
                    <a:lnTo>
                      <a:pt x="0" y="8"/>
                    </a:lnTo>
                    <a:lnTo>
                      <a:pt x="0" y="15"/>
                    </a:lnTo>
                    <a:lnTo>
                      <a:pt x="17" y="8"/>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Freeform 282"/>
              <p:cNvSpPr/>
              <p:nvPr/>
            </p:nvSpPr>
            <p:spPr>
              <a:xfrm flipH="1">
                <a:off x="544320" y="1401840"/>
                <a:ext cx="24840" cy="35280"/>
              </a:xfrm>
              <a:custGeom>
                <a:avLst/>
                <a:gdLst>
                  <a:gd name="textAreaLeft" fmla="*/ -360 w 24840"/>
                  <a:gd name="textAreaRight" fmla="*/ 24840 w 24840"/>
                  <a:gd name="textAreaTop" fmla="*/ 0 h 35280"/>
                  <a:gd name="textAreaBottom" fmla="*/ 35640 h 35280"/>
                </a:gdLst>
                <a:ahLst/>
                <a:rect l="textAreaLeft" t="textAreaTop" r="textAreaRight" b="textAreaBottom"/>
                <a:pathLst>
                  <a:path w="125" h="169">
                    <a:moveTo>
                      <a:pt x="125" y="161"/>
                    </a:moveTo>
                    <a:lnTo>
                      <a:pt x="117" y="146"/>
                    </a:lnTo>
                    <a:lnTo>
                      <a:pt x="109" y="138"/>
                    </a:lnTo>
                    <a:lnTo>
                      <a:pt x="109" y="123"/>
                    </a:lnTo>
                    <a:lnTo>
                      <a:pt x="100" y="115"/>
                    </a:lnTo>
                    <a:lnTo>
                      <a:pt x="92" y="100"/>
                    </a:lnTo>
                    <a:lnTo>
                      <a:pt x="83" y="92"/>
                    </a:lnTo>
                    <a:lnTo>
                      <a:pt x="75" y="84"/>
                    </a:lnTo>
                    <a:lnTo>
                      <a:pt x="67" y="69"/>
                    </a:lnTo>
                    <a:lnTo>
                      <a:pt x="67" y="61"/>
                    </a:lnTo>
                    <a:lnTo>
                      <a:pt x="58" y="54"/>
                    </a:lnTo>
                    <a:lnTo>
                      <a:pt x="50" y="38"/>
                    </a:lnTo>
                    <a:lnTo>
                      <a:pt x="42" y="31"/>
                    </a:lnTo>
                    <a:lnTo>
                      <a:pt x="33" y="23"/>
                    </a:lnTo>
                    <a:lnTo>
                      <a:pt x="25" y="15"/>
                    </a:lnTo>
                    <a:lnTo>
                      <a:pt x="25" y="7"/>
                    </a:lnTo>
                    <a:lnTo>
                      <a:pt x="17" y="0"/>
                    </a:lnTo>
                    <a:lnTo>
                      <a:pt x="0" y="7"/>
                    </a:lnTo>
                    <a:lnTo>
                      <a:pt x="8" y="15"/>
                    </a:lnTo>
                    <a:lnTo>
                      <a:pt x="8" y="23"/>
                    </a:lnTo>
                    <a:lnTo>
                      <a:pt x="17" y="38"/>
                    </a:lnTo>
                    <a:lnTo>
                      <a:pt x="25" y="46"/>
                    </a:lnTo>
                    <a:lnTo>
                      <a:pt x="33" y="54"/>
                    </a:lnTo>
                    <a:lnTo>
                      <a:pt x="42" y="61"/>
                    </a:lnTo>
                    <a:lnTo>
                      <a:pt x="50" y="69"/>
                    </a:lnTo>
                    <a:lnTo>
                      <a:pt x="58" y="84"/>
                    </a:lnTo>
                    <a:lnTo>
                      <a:pt x="58" y="92"/>
                    </a:lnTo>
                    <a:lnTo>
                      <a:pt x="67" y="100"/>
                    </a:lnTo>
                    <a:lnTo>
                      <a:pt x="75" y="107"/>
                    </a:lnTo>
                    <a:lnTo>
                      <a:pt x="83" y="123"/>
                    </a:lnTo>
                    <a:lnTo>
                      <a:pt x="92" y="131"/>
                    </a:lnTo>
                    <a:lnTo>
                      <a:pt x="92" y="146"/>
                    </a:lnTo>
                    <a:lnTo>
                      <a:pt x="100" y="154"/>
                    </a:lnTo>
                    <a:lnTo>
                      <a:pt x="109" y="169"/>
                    </a:lnTo>
                    <a:lnTo>
                      <a:pt x="125" y="161"/>
                    </a:lnTo>
                    <a:close/>
                  </a:path>
                </a:pathLst>
              </a:custGeom>
              <a:solidFill>
                <a:srgbClr val="00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Freeform 281"/>
              <p:cNvSpPr/>
              <p:nvPr/>
            </p:nvSpPr>
            <p:spPr>
              <a:xfrm flipH="1">
                <a:off x="544320" y="1401840"/>
                <a:ext cx="24840" cy="35280"/>
              </a:xfrm>
              <a:custGeom>
                <a:avLst/>
                <a:gdLst>
                  <a:gd name="textAreaLeft" fmla="*/ -360 w 24840"/>
                  <a:gd name="textAreaRight" fmla="*/ 24840 w 24840"/>
                  <a:gd name="textAreaTop" fmla="*/ 0 h 35280"/>
                  <a:gd name="textAreaBottom" fmla="*/ 35640 h 35280"/>
                </a:gdLst>
                <a:ahLst/>
                <a:rect l="textAreaLeft" t="textAreaTop" r="textAreaRight" b="textAreaBottom"/>
                <a:pathLst>
                  <a:path w="125" h="169">
                    <a:moveTo>
                      <a:pt x="125" y="161"/>
                    </a:moveTo>
                    <a:lnTo>
                      <a:pt x="117" y="146"/>
                    </a:lnTo>
                    <a:lnTo>
                      <a:pt x="109" y="138"/>
                    </a:lnTo>
                    <a:lnTo>
                      <a:pt x="109" y="123"/>
                    </a:lnTo>
                    <a:lnTo>
                      <a:pt x="100" y="115"/>
                    </a:lnTo>
                    <a:lnTo>
                      <a:pt x="92" y="100"/>
                    </a:lnTo>
                    <a:lnTo>
                      <a:pt x="83" y="92"/>
                    </a:lnTo>
                    <a:lnTo>
                      <a:pt x="75" y="84"/>
                    </a:lnTo>
                    <a:lnTo>
                      <a:pt x="67" y="69"/>
                    </a:lnTo>
                    <a:lnTo>
                      <a:pt x="67" y="61"/>
                    </a:lnTo>
                    <a:lnTo>
                      <a:pt x="58" y="54"/>
                    </a:lnTo>
                    <a:lnTo>
                      <a:pt x="50" y="38"/>
                    </a:lnTo>
                    <a:lnTo>
                      <a:pt x="42" y="31"/>
                    </a:lnTo>
                    <a:lnTo>
                      <a:pt x="33" y="23"/>
                    </a:lnTo>
                    <a:lnTo>
                      <a:pt x="25" y="15"/>
                    </a:lnTo>
                    <a:lnTo>
                      <a:pt x="25" y="7"/>
                    </a:lnTo>
                    <a:lnTo>
                      <a:pt x="17" y="0"/>
                    </a:lnTo>
                    <a:lnTo>
                      <a:pt x="0" y="7"/>
                    </a:lnTo>
                    <a:lnTo>
                      <a:pt x="8" y="15"/>
                    </a:lnTo>
                    <a:lnTo>
                      <a:pt x="8" y="23"/>
                    </a:lnTo>
                    <a:lnTo>
                      <a:pt x="17" y="38"/>
                    </a:lnTo>
                    <a:lnTo>
                      <a:pt x="25" y="46"/>
                    </a:lnTo>
                    <a:lnTo>
                      <a:pt x="33" y="54"/>
                    </a:lnTo>
                    <a:lnTo>
                      <a:pt x="42" y="61"/>
                    </a:lnTo>
                    <a:lnTo>
                      <a:pt x="50" y="69"/>
                    </a:lnTo>
                    <a:lnTo>
                      <a:pt x="58" y="84"/>
                    </a:lnTo>
                    <a:lnTo>
                      <a:pt x="58" y="92"/>
                    </a:lnTo>
                    <a:lnTo>
                      <a:pt x="67" y="100"/>
                    </a:lnTo>
                    <a:lnTo>
                      <a:pt x="75" y="107"/>
                    </a:lnTo>
                    <a:lnTo>
                      <a:pt x="83" y="123"/>
                    </a:lnTo>
                    <a:lnTo>
                      <a:pt x="92" y="131"/>
                    </a:lnTo>
                    <a:lnTo>
                      <a:pt x="92" y="146"/>
                    </a:lnTo>
                    <a:lnTo>
                      <a:pt x="100" y="154"/>
                    </a:lnTo>
                    <a:lnTo>
                      <a:pt x="109" y="169"/>
                    </a:lnTo>
                    <a:lnTo>
                      <a:pt x="125" y="161"/>
                    </a:lnTo>
                  </a:path>
                </a:pathLst>
              </a:custGeom>
              <a:noFill/>
              <a:ln w="0">
                <a:solidFill>
                  <a:srgbClr val="000000"/>
                </a:solid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Freeform 280"/>
              <p:cNvSpPr/>
              <p:nvPr/>
            </p:nvSpPr>
            <p:spPr>
              <a:xfrm flipH="1">
                <a:off x="565920" y="14018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7"/>
                    </a:moveTo>
                    <a:lnTo>
                      <a:pt x="0" y="7"/>
                    </a:lnTo>
                    <a:lnTo>
                      <a:pt x="0" y="15"/>
                    </a:lnTo>
                    <a:lnTo>
                      <a:pt x="8" y="15"/>
                    </a:lnTo>
                    <a:lnTo>
                      <a:pt x="17" y="7"/>
                    </a:lnTo>
                    <a:lnTo>
                      <a:pt x="17" y="0"/>
                    </a:lnTo>
                    <a:lnTo>
                      <a:pt x="0" y="7"/>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Freeform 279"/>
              <p:cNvSpPr/>
              <p:nvPr/>
            </p:nvSpPr>
            <p:spPr>
              <a:xfrm flipH="1">
                <a:off x="565920" y="140184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7"/>
                    </a:moveTo>
                    <a:lnTo>
                      <a:pt x="0" y="7"/>
                    </a:lnTo>
                    <a:lnTo>
                      <a:pt x="0" y="15"/>
                    </a:lnTo>
                    <a:lnTo>
                      <a:pt x="8" y="15"/>
                    </a:lnTo>
                    <a:lnTo>
                      <a:pt x="17" y="7"/>
                    </a:lnTo>
                    <a:lnTo>
                      <a:pt x="17" y="0"/>
                    </a:lnTo>
                    <a:lnTo>
                      <a:pt x="0" y="7"/>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Freeform 278"/>
              <p:cNvSpPr/>
              <p:nvPr/>
            </p:nvSpPr>
            <p:spPr>
              <a:xfrm flipH="1">
                <a:off x="602640" y="142272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8" y="0"/>
                    </a:moveTo>
                    <a:lnTo>
                      <a:pt x="8" y="0"/>
                    </a:lnTo>
                    <a:lnTo>
                      <a:pt x="0" y="0"/>
                    </a:lnTo>
                    <a:lnTo>
                      <a:pt x="0" y="7"/>
                    </a:lnTo>
                    <a:lnTo>
                      <a:pt x="8" y="7"/>
                    </a:lnTo>
                    <a:lnTo>
                      <a:pt x="8" y="15"/>
                    </a:lnTo>
                    <a:lnTo>
                      <a:pt x="17" y="15"/>
                    </a:lnTo>
                    <a:lnTo>
                      <a:pt x="8"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Freeform 277"/>
              <p:cNvSpPr/>
              <p:nvPr/>
            </p:nvSpPr>
            <p:spPr>
              <a:xfrm flipH="1">
                <a:off x="602640" y="142272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8" y="0"/>
                    </a:moveTo>
                    <a:lnTo>
                      <a:pt x="8" y="0"/>
                    </a:lnTo>
                    <a:lnTo>
                      <a:pt x="0" y="0"/>
                    </a:lnTo>
                    <a:lnTo>
                      <a:pt x="0" y="7"/>
                    </a:lnTo>
                    <a:lnTo>
                      <a:pt x="8" y="7"/>
                    </a:lnTo>
                    <a:lnTo>
                      <a:pt x="8" y="15"/>
                    </a:lnTo>
                    <a:lnTo>
                      <a:pt x="17" y="15"/>
                    </a:lnTo>
                    <a:lnTo>
                      <a:pt x="8" y="0"/>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8" name="Freeform 276"/>
              <p:cNvSpPr/>
              <p:nvPr/>
            </p:nvSpPr>
            <p:spPr>
              <a:xfrm flipH="1">
                <a:off x="559440" y="1392120"/>
                <a:ext cx="45000" cy="33480"/>
              </a:xfrm>
              <a:custGeom>
                <a:avLst/>
                <a:gdLst>
                  <a:gd name="textAreaLeft" fmla="*/ -360 w 45000"/>
                  <a:gd name="textAreaRight" fmla="*/ 45000 w 45000"/>
                  <a:gd name="textAreaTop" fmla="*/ 0 h 33480"/>
                  <a:gd name="textAreaBottom" fmla="*/ 33840 h 33480"/>
                </a:gdLst>
                <a:ahLst/>
                <a:rect l="textAreaLeft" t="textAreaTop" r="textAreaRight" b="textAreaBottom"/>
                <a:pathLst>
                  <a:path w="226" h="161">
                    <a:moveTo>
                      <a:pt x="209" y="0"/>
                    </a:moveTo>
                    <a:lnTo>
                      <a:pt x="201" y="15"/>
                    </a:lnTo>
                    <a:lnTo>
                      <a:pt x="184" y="23"/>
                    </a:lnTo>
                    <a:lnTo>
                      <a:pt x="176" y="38"/>
                    </a:lnTo>
                    <a:lnTo>
                      <a:pt x="159" y="46"/>
                    </a:lnTo>
                    <a:lnTo>
                      <a:pt x="151" y="61"/>
                    </a:lnTo>
                    <a:lnTo>
                      <a:pt x="134" y="69"/>
                    </a:lnTo>
                    <a:lnTo>
                      <a:pt x="126" y="77"/>
                    </a:lnTo>
                    <a:lnTo>
                      <a:pt x="109" y="84"/>
                    </a:lnTo>
                    <a:lnTo>
                      <a:pt x="101" y="92"/>
                    </a:lnTo>
                    <a:lnTo>
                      <a:pt x="84" y="100"/>
                    </a:lnTo>
                    <a:lnTo>
                      <a:pt x="67" y="107"/>
                    </a:lnTo>
                    <a:lnTo>
                      <a:pt x="59" y="115"/>
                    </a:lnTo>
                    <a:lnTo>
                      <a:pt x="42" y="123"/>
                    </a:lnTo>
                    <a:lnTo>
                      <a:pt x="34" y="130"/>
                    </a:lnTo>
                    <a:lnTo>
                      <a:pt x="17" y="138"/>
                    </a:lnTo>
                    <a:lnTo>
                      <a:pt x="0" y="146"/>
                    </a:lnTo>
                    <a:lnTo>
                      <a:pt x="9" y="161"/>
                    </a:lnTo>
                    <a:lnTo>
                      <a:pt x="25" y="153"/>
                    </a:lnTo>
                    <a:lnTo>
                      <a:pt x="34" y="146"/>
                    </a:lnTo>
                    <a:lnTo>
                      <a:pt x="51" y="138"/>
                    </a:lnTo>
                    <a:lnTo>
                      <a:pt x="67" y="130"/>
                    </a:lnTo>
                    <a:lnTo>
                      <a:pt x="84" y="123"/>
                    </a:lnTo>
                    <a:lnTo>
                      <a:pt x="92" y="115"/>
                    </a:lnTo>
                    <a:lnTo>
                      <a:pt x="109" y="107"/>
                    </a:lnTo>
                    <a:lnTo>
                      <a:pt x="117" y="100"/>
                    </a:lnTo>
                    <a:lnTo>
                      <a:pt x="134" y="92"/>
                    </a:lnTo>
                    <a:lnTo>
                      <a:pt x="151" y="84"/>
                    </a:lnTo>
                    <a:lnTo>
                      <a:pt x="159" y="69"/>
                    </a:lnTo>
                    <a:lnTo>
                      <a:pt x="176" y="61"/>
                    </a:lnTo>
                    <a:lnTo>
                      <a:pt x="193" y="53"/>
                    </a:lnTo>
                    <a:lnTo>
                      <a:pt x="201" y="38"/>
                    </a:lnTo>
                    <a:lnTo>
                      <a:pt x="218" y="30"/>
                    </a:lnTo>
                    <a:lnTo>
                      <a:pt x="226" y="15"/>
                    </a:lnTo>
                    <a:lnTo>
                      <a:pt x="209"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Freeform 275"/>
              <p:cNvSpPr/>
              <p:nvPr/>
            </p:nvSpPr>
            <p:spPr>
              <a:xfrm flipH="1">
                <a:off x="559440" y="1392120"/>
                <a:ext cx="45000" cy="33480"/>
              </a:xfrm>
              <a:custGeom>
                <a:avLst/>
                <a:gdLst>
                  <a:gd name="textAreaLeft" fmla="*/ -360 w 45000"/>
                  <a:gd name="textAreaRight" fmla="*/ 45000 w 45000"/>
                  <a:gd name="textAreaTop" fmla="*/ 0 h 33480"/>
                  <a:gd name="textAreaBottom" fmla="*/ 33840 h 33480"/>
                </a:gdLst>
                <a:ahLst/>
                <a:rect l="textAreaLeft" t="textAreaTop" r="textAreaRight" b="textAreaBottom"/>
                <a:pathLst>
                  <a:path w="226" h="161">
                    <a:moveTo>
                      <a:pt x="209" y="0"/>
                    </a:moveTo>
                    <a:lnTo>
                      <a:pt x="201" y="15"/>
                    </a:lnTo>
                    <a:lnTo>
                      <a:pt x="184" y="23"/>
                    </a:lnTo>
                    <a:lnTo>
                      <a:pt x="176" y="38"/>
                    </a:lnTo>
                    <a:lnTo>
                      <a:pt x="159" y="46"/>
                    </a:lnTo>
                    <a:lnTo>
                      <a:pt x="151" y="61"/>
                    </a:lnTo>
                    <a:lnTo>
                      <a:pt x="134" y="69"/>
                    </a:lnTo>
                    <a:lnTo>
                      <a:pt x="126" y="77"/>
                    </a:lnTo>
                    <a:lnTo>
                      <a:pt x="109" y="84"/>
                    </a:lnTo>
                    <a:lnTo>
                      <a:pt x="101" y="92"/>
                    </a:lnTo>
                    <a:lnTo>
                      <a:pt x="84" y="100"/>
                    </a:lnTo>
                    <a:lnTo>
                      <a:pt x="67" y="107"/>
                    </a:lnTo>
                    <a:lnTo>
                      <a:pt x="59" y="115"/>
                    </a:lnTo>
                    <a:lnTo>
                      <a:pt x="42" y="123"/>
                    </a:lnTo>
                    <a:lnTo>
                      <a:pt x="34" y="130"/>
                    </a:lnTo>
                    <a:lnTo>
                      <a:pt x="17" y="138"/>
                    </a:lnTo>
                    <a:lnTo>
                      <a:pt x="0" y="146"/>
                    </a:lnTo>
                    <a:lnTo>
                      <a:pt x="9" y="161"/>
                    </a:lnTo>
                    <a:lnTo>
                      <a:pt x="25" y="153"/>
                    </a:lnTo>
                    <a:lnTo>
                      <a:pt x="34" y="146"/>
                    </a:lnTo>
                    <a:lnTo>
                      <a:pt x="51" y="138"/>
                    </a:lnTo>
                    <a:lnTo>
                      <a:pt x="67" y="130"/>
                    </a:lnTo>
                    <a:lnTo>
                      <a:pt x="84" y="123"/>
                    </a:lnTo>
                    <a:lnTo>
                      <a:pt x="92" y="115"/>
                    </a:lnTo>
                    <a:lnTo>
                      <a:pt x="109" y="107"/>
                    </a:lnTo>
                    <a:lnTo>
                      <a:pt x="117" y="100"/>
                    </a:lnTo>
                    <a:lnTo>
                      <a:pt x="134" y="92"/>
                    </a:lnTo>
                    <a:lnTo>
                      <a:pt x="151" y="84"/>
                    </a:lnTo>
                    <a:lnTo>
                      <a:pt x="159" y="69"/>
                    </a:lnTo>
                    <a:lnTo>
                      <a:pt x="176" y="61"/>
                    </a:lnTo>
                    <a:lnTo>
                      <a:pt x="193" y="53"/>
                    </a:lnTo>
                    <a:lnTo>
                      <a:pt x="201" y="38"/>
                    </a:lnTo>
                    <a:lnTo>
                      <a:pt x="218" y="30"/>
                    </a:lnTo>
                    <a:lnTo>
                      <a:pt x="226" y="15"/>
                    </a:lnTo>
                    <a:lnTo>
                      <a:pt x="209" y="0"/>
                    </a:lnTo>
                  </a:path>
                </a:pathLst>
              </a:custGeom>
              <a:noFill/>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Freeform 274"/>
              <p:cNvSpPr/>
              <p:nvPr/>
            </p:nvSpPr>
            <p:spPr>
              <a:xfrm flipH="1">
                <a:off x="601200" y="142272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9" y="15"/>
                    </a:moveTo>
                    <a:lnTo>
                      <a:pt x="17" y="7"/>
                    </a:lnTo>
                    <a:lnTo>
                      <a:pt x="17" y="0"/>
                    </a:lnTo>
                    <a:lnTo>
                      <a:pt x="9" y="0"/>
                    </a:lnTo>
                    <a:lnTo>
                      <a:pt x="0" y="0"/>
                    </a:lnTo>
                    <a:lnTo>
                      <a:pt x="9"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Freeform 273"/>
              <p:cNvSpPr/>
              <p:nvPr/>
            </p:nvSpPr>
            <p:spPr>
              <a:xfrm flipH="1">
                <a:off x="601200" y="142272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9" y="15"/>
                    </a:moveTo>
                    <a:lnTo>
                      <a:pt x="17" y="7"/>
                    </a:lnTo>
                    <a:lnTo>
                      <a:pt x="17" y="0"/>
                    </a:lnTo>
                    <a:lnTo>
                      <a:pt x="9" y="0"/>
                    </a:lnTo>
                    <a:lnTo>
                      <a:pt x="0" y="0"/>
                    </a:lnTo>
                    <a:lnTo>
                      <a:pt x="9"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Freeform 272"/>
              <p:cNvSpPr/>
              <p:nvPr/>
            </p:nvSpPr>
            <p:spPr>
              <a:xfrm flipH="1">
                <a:off x="607680" y="141768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0"/>
                    </a:lnTo>
                    <a:lnTo>
                      <a:pt x="0" y="7"/>
                    </a:lnTo>
                    <a:lnTo>
                      <a:pt x="0" y="15"/>
                    </a:lnTo>
                    <a:lnTo>
                      <a:pt x="8" y="15"/>
                    </a:lnTo>
                    <a:lnTo>
                      <a:pt x="17" y="15"/>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3" name="Freeform 271"/>
              <p:cNvSpPr/>
              <p:nvPr/>
            </p:nvSpPr>
            <p:spPr>
              <a:xfrm flipH="1">
                <a:off x="607680" y="141768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0"/>
                    </a:lnTo>
                    <a:lnTo>
                      <a:pt x="0" y="7"/>
                    </a:lnTo>
                    <a:lnTo>
                      <a:pt x="0" y="15"/>
                    </a:lnTo>
                    <a:lnTo>
                      <a:pt x="8" y="15"/>
                    </a:lnTo>
                    <a:lnTo>
                      <a:pt x="17" y="15"/>
                    </a:lnTo>
                    <a:lnTo>
                      <a:pt x="0" y="0"/>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Freeform 270"/>
              <p:cNvSpPr/>
              <p:nvPr/>
            </p:nvSpPr>
            <p:spPr>
              <a:xfrm flipH="1">
                <a:off x="558000" y="1385640"/>
                <a:ext cx="53280" cy="35280"/>
              </a:xfrm>
              <a:custGeom>
                <a:avLst/>
                <a:gdLst>
                  <a:gd name="textAreaLeft" fmla="*/ 360 w 53280"/>
                  <a:gd name="textAreaRight" fmla="*/ 54000 w 53280"/>
                  <a:gd name="textAreaTop" fmla="*/ 0 h 35280"/>
                  <a:gd name="textAreaBottom" fmla="*/ 35640 h 35280"/>
                </a:gdLst>
                <a:ahLst/>
                <a:rect l="textAreaLeft" t="textAreaTop" r="textAreaRight" b="textAreaBottom"/>
                <a:pathLst>
                  <a:path w="267" h="169">
                    <a:moveTo>
                      <a:pt x="251" y="0"/>
                    </a:moveTo>
                    <a:lnTo>
                      <a:pt x="234" y="8"/>
                    </a:lnTo>
                    <a:lnTo>
                      <a:pt x="217" y="23"/>
                    </a:lnTo>
                    <a:lnTo>
                      <a:pt x="201" y="38"/>
                    </a:lnTo>
                    <a:lnTo>
                      <a:pt x="184" y="46"/>
                    </a:lnTo>
                    <a:lnTo>
                      <a:pt x="175" y="54"/>
                    </a:lnTo>
                    <a:lnTo>
                      <a:pt x="159" y="69"/>
                    </a:lnTo>
                    <a:lnTo>
                      <a:pt x="142" y="77"/>
                    </a:lnTo>
                    <a:lnTo>
                      <a:pt x="125" y="84"/>
                    </a:lnTo>
                    <a:lnTo>
                      <a:pt x="117" y="92"/>
                    </a:lnTo>
                    <a:lnTo>
                      <a:pt x="100" y="100"/>
                    </a:lnTo>
                    <a:lnTo>
                      <a:pt x="84" y="115"/>
                    </a:lnTo>
                    <a:lnTo>
                      <a:pt x="67" y="123"/>
                    </a:lnTo>
                    <a:lnTo>
                      <a:pt x="50" y="131"/>
                    </a:lnTo>
                    <a:lnTo>
                      <a:pt x="33" y="138"/>
                    </a:lnTo>
                    <a:lnTo>
                      <a:pt x="17" y="146"/>
                    </a:lnTo>
                    <a:lnTo>
                      <a:pt x="0" y="154"/>
                    </a:lnTo>
                    <a:lnTo>
                      <a:pt x="17" y="169"/>
                    </a:lnTo>
                    <a:lnTo>
                      <a:pt x="33" y="161"/>
                    </a:lnTo>
                    <a:lnTo>
                      <a:pt x="42" y="154"/>
                    </a:lnTo>
                    <a:lnTo>
                      <a:pt x="58" y="146"/>
                    </a:lnTo>
                    <a:lnTo>
                      <a:pt x="75" y="138"/>
                    </a:lnTo>
                    <a:lnTo>
                      <a:pt x="92" y="131"/>
                    </a:lnTo>
                    <a:lnTo>
                      <a:pt x="109" y="115"/>
                    </a:lnTo>
                    <a:lnTo>
                      <a:pt x="125" y="108"/>
                    </a:lnTo>
                    <a:lnTo>
                      <a:pt x="142" y="100"/>
                    </a:lnTo>
                    <a:lnTo>
                      <a:pt x="150" y="92"/>
                    </a:lnTo>
                    <a:lnTo>
                      <a:pt x="167" y="84"/>
                    </a:lnTo>
                    <a:lnTo>
                      <a:pt x="184" y="69"/>
                    </a:lnTo>
                    <a:lnTo>
                      <a:pt x="201" y="61"/>
                    </a:lnTo>
                    <a:lnTo>
                      <a:pt x="217" y="46"/>
                    </a:lnTo>
                    <a:lnTo>
                      <a:pt x="234" y="38"/>
                    </a:lnTo>
                    <a:lnTo>
                      <a:pt x="242" y="23"/>
                    </a:lnTo>
                    <a:lnTo>
                      <a:pt x="267" y="8"/>
                    </a:lnTo>
                    <a:lnTo>
                      <a:pt x="251" y="0"/>
                    </a:lnTo>
                    <a:close/>
                  </a:path>
                </a:pathLst>
              </a:custGeom>
              <a:solidFill>
                <a:srgbClr val="000000"/>
              </a:solidFill>
              <a:ln w="0">
                <a:no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Freeform 269"/>
              <p:cNvSpPr/>
              <p:nvPr/>
            </p:nvSpPr>
            <p:spPr>
              <a:xfrm flipH="1">
                <a:off x="558000" y="1385640"/>
                <a:ext cx="53280" cy="35280"/>
              </a:xfrm>
              <a:custGeom>
                <a:avLst/>
                <a:gdLst>
                  <a:gd name="textAreaLeft" fmla="*/ 360 w 53280"/>
                  <a:gd name="textAreaRight" fmla="*/ 54000 w 53280"/>
                  <a:gd name="textAreaTop" fmla="*/ 0 h 35280"/>
                  <a:gd name="textAreaBottom" fmla="*/ 35640 h 35280"/>
                </a:gdLst>
                <a:ahLst/>
                <a:rect l="textAreaLeft" t="textAreaTop" r="textAreaRight" b="textAreaBottom"/>
                <a:pathLst>
                  <a:path w="267" h="169">
                    <a:moveTo>
                      <a:pt x="251" y="0"/>
                    </a:moveTo>
                    <a:lnTo>
                      <a:pt x="234" y="8"/>
                    </a:lnTo>
                    <a:lnTo>
                      <a:pt x="217" y="23"/>
                    </a:lnTo>
                    <a:lnTo>
                      <a:pt x="201" y="38"/>
                    </a:lnTo>
                    <a:lnTo>
                      <a:pt x="184" y="46"/>
                    </a:lnTo>
                    <a:lnTo>
                      <a:pt x="175" y="54"/>
                    </a:lnTo>
                    <a:lnTo>
                      <a:pt x="159" y="69"/>
                    </a:lnTo>
                    <a:lnTo>
                      <a:pt x="142" y="77"/>
                    </a:lnTo>
                    <a:lnTo>
                      <a:pt x="125" y="84"/>
                    </a:lnTo>
                    <a:lnTo>
                      <a:pt x="117" y="92"/>
                    </a:lnTo>
                    <a:lnTo>
                      <a:pt x="100" y="100"/>
                    </a:lnTo>
                    <a:lnTo>
                      <a:pt x="84" y="115"/>
                    </a:lnTo>
                    <a:lnTo>
                      <a:pt x="67" y="123"/>
                    </a:lnTo>
                    <a:lnTo>
                      <a:pt x="50" y="131"/>
                    </a:lnTo>
                    <a:lnTo>
                      <a:pt x="33" y="138"/>
                    </a:lnTo>
                    <a:lnTo>
                      <a:pt x="17" y="146"/>
                    </a:lnTo>
                    <a:lnTo>
                      <a:pt x="0" y="154"/>
                    </a:lnTo>
                    <a:lnTo>
                      <a:pt x="17" y="169"/>
                    </a:lnTo>
                    <a:lnTo>
                      <a:pt x="33" y="161"/>
                    </a:lnTo>
                    <a:lnTo>
                      <a:pt x="42" y="154"/>
                    </a:lnTo>
                    <a:lnTo>
                      <a:pt x="58" y="146"/>
                    </a:lnTo>
                    <a:lnTo>
                      <a:pt x="75" y="138"/>
                    </a:lnTo>
                    <a:lnTo>
                      <a:pt x="92" y="131"/>
                    </a:lnTo>
                    <a:lnTo>
                      <a:pt x="109" y="115"/>
                    </a:lnTo>
                    <a:lnTo>
                      <a:pt x="125" y="108"/>
                    </a:lnTo>
                    <a:lnTo>
                      <a:pt x="142" y="100"/>
                    </a:lnTo>
                    <a:lnTo>
                      <a:pt x="150" y="92"/>
                    </a:lnTo>
                    <a:lnTo>
                      <a:pt x="167" y="84"/>
                    </a:lnTo>
                    <a:lnTo>
                      <a:pt x="184" y="69"/>
                    </a:lnTo>
                    <a:lnTo>
                      <a:pt x="201" y="61"/>
                    </a:lnTo>
                    <a:lnTo>
                      <a:pt x="217" y="46"/>
                    </a:lnTo>
                    <a:lnTo>
                      <a:pt x="234" y="38"/>
                    </a:lnTo>
                    <a:lnTo>
                      <a:pt x="242" y="23"/>
                    </a:lnTo>
                    <a:lnTo>
                      <a:pt x="267" y="8"/>
                    </a:lnTo>
                    <a:lnTo>
                      <a:pt x="251" y="0"/>
                    </a:lnTo>
                  </a:path>
                </a:pathLst>
              </a:custGeom>
              <a:noFill/>
              <a:ln w="0">
                <a:solidFill>
                  <a:srgbClr val="000000"/>
                </a:solid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Freeform 268"/>
              <p:cNvSpPr/>
              <p:nvPr/>
            </p:nvSpPr>
            <p:spPr>
              <a:xfrm flipH="1">
                <a:off x="607680" y="141768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7"/>
                    </a:lnTo>
                    <a:lnTo>
                      <a:pt x="17" y="0"/>
                    </a:lnTo>
                    <a:lnTo>
                      <a:pt x="8" y="0"/>
                    </a:lnTo>
                    <a:lnTo>
                      <a:pt x="0" y="0"/>
                    </a:lnTo>
                    <a:lnTo>
                      <a:pt x="17" y="1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Freeform 267"/>
              <p:cNvSpPr/>
              <p:nvPr/>
            </p:nvSpPr>
            <p:spPr>
              <a:xfrm flipH="1">
                <a:off x="607680" y="141768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17" y="15"/>
                    </a:moveTo>
                    <a:lnTo>
                      <a:pt x="17" y="7"/>
                    </a:lnTo>
                    <a:lnTo>
                      <a:pt x="17" y="0"/>
                    </a:lnTo>
                    <a:lnTo>
                      <a:pt x="8" y="0"/>
                    </a:lnTo>
                    <a:lnTo>
                      <a:pt x="0" y="0"/>
                    </a:lnTo>
                    <a:lnTo>
                      <a:pt x="17" y="15"/>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Freeform 266"/>
              <p:cNvSpPr/>
              <p:nvPr/>
            </p:nvSpPr>
            <p:spPr>
              <a:xfrm flipH="1">
                <a:off x="532800" y="1208160"/>
                <a:ext cx="126720" cy="217440"/>
              </a:xfrm>
              <a:custGeom>
                <a:avLst/>
                <a:gdLst>
                  <a:gd name="textAreaLeft" fmla="*/ 360 w 126720"/>
                  <a:gd name="textAreaRight" fmla="*/ 127440 w 126720"/>
                  <a:gd name="textAreaTop" fmla="*/ 0 h 217440"/>
                  <a:gd name="textAreaBottom" fmla="*/ 217800 h 217440"/>
                </a:gdLst>
                <a:ahLst/>
                <a:rect l="textAreaLeft" t="textAreaTop" r="textAreaRight" b="textAreaBottom"/>
                <a:pathLst>
                  <a:path w="635" h="1038">
                    <a:moveTo>
                      <a:pt x="342" y="0"/>
                    </a:moveTo>
                    <a:lnTo>
                      <a:pt x="326" y="15"/>
                    </a:lnTo>
                    <a:lnTo>
                      <a:pt x="309" y="38"/>
                    </a:lnTo>
                    <a:lnTo>
                      <a:pt x="292" y="61"/>
                    </a:lnTo>
                    <a:lnTo>
                      <a:pt x="284" y="84"/>
                    </a:lnTo>
                    <a:lnTo>
                      <a:pt x="275" y="115"/>
                    </a:lnTo>
                    <a:lnTo>
                      <a:pt x="267" y="146"/>
                    </a:lnTo>
                    <a:lnTo>
                      <a:pt x="259" y="177"/>
                    </a:lnTo>
                    <a:lnTo>
                      <a:pt x="259" y="207"/>
                    </a:lnTo>
                    <a:lnTo>
                      <a:pt x="242" y="207"/>
                    </a:lnTo>
                    <a:lnTo>
                      <a:pt x="225" y="207"/>
                    </a:lnTo>
                    <a:lnTo>
                      <a:pt x="209" y="207"/>
                    </a:lnTo>
                    <a:lnTo>
                      <a:pt x="192" y="200"/>
                    </a:lnTo>
                    <a:lnTo>
                      <a:pt x="175" y="200"/>
                    </a:lnTo>
                    <a:lnTo>
                      <a:pt x="158" y="200"/>
                    </a:lnTo>
                    <a:lnTo>
                      <a:pt x="142" y="200"/>
                    </a:lnTo>
                    <a:lnTo>
                      <a:pt x="125" y="192"/>
                    </a:lnTo>
                    <a:lnTo>
                      <a:pt x="108" y="192"/>
                    </a:lnTo>
                    <a:lnTo>
                      <a:pt x="92" y="192"/>
                    </a:lnTo>
                    <a:lnTo>
                      <a:pt x="83" y="184"/>
                    </a:lnTo>
                    <a:lnTo>
                      <a:pt x="66" y="184"/>
                    </a:lnTo>
                    <a:lnTo>
                      <a:pt x="50" y="184"/>
                    </a:lnTo>
                    <a:lnTo>
                      <a:pt x="33" y="177"/>
                    </a:lnTo>
                    <a:lnTo>
                      <a:pt x="25" y="169"/>
                    </a:lnTo>
                    <a:lnTo>
                      <a:pt x="8" y="169"/>
                    </a:lnTo>
                    <a:lnTo>
                      <a:pt x="0" y="184"/>
                    </a:lnTo>
                    <a:lnTo>
                      <a:pt x="0" y="200"/>
                    </a:lnTo>
                    <a:lnTo>
                      <a:pt x="0" y="215"/>
                    </a:lnTo>
                    <a:lnTo>
                      <a:pt x="8" y="230"/>
                    </a:lnTo>
                    <a:lnTo>
                      <a:pt x="8" y="246"/>
                    </a:lnTo>
                    <a:lnTo>
                      <a:pt x="16" y="261"/>
                    </a:lnTo>
                    <a:lnTo>
                      <a:pt x="33" y="269"/>
                    </a:lnTo>
                    <a:lnTo>
                      <a:pt x="41" y="284"/>
                    </a:lnTo>
                    <a:lnTo>
                      <a:pt x="50" y="284"/>
                    </a:lnTo>
                    <a:lnTo>
                      <a:pt x="58" y="292"/>
                    </a:lnTo>
                    <a:lnTo>
                      <a:pt x="66" y="300"/>
                    </a:lnTo>
                    <a:lnTo>
                      <a:pt x="75" y="307"/>
                    </a:lnTo>
                    <a:lnTo>
                      <a:pt x="83" y="307"/>
                    </a:lnTo>
                    <a:lnTo>
                      <a:pt x="92" y="315"/>
                    </a:lnTo>
                    <a:lnTo>
                      <a:pt x="100" y="315"/>
                    </a:lnTo>
                    <a:lnTo>
                      <a:pt x="108" y="323"/>
                    </a:lnTo>
                    <a:lnTo>
                      <a:pt x="117" y="323"/>
                    </a:lnTo>
                    <a:lnTo>
                      <a:pt x="133" y="323"/>
                    </a:lnTo>
                    <a:lnTo>
                      <a:pt x="142" y="330"/>
                    </a:lnTo>
                    <a:lnTo>
                      <a:pt x="150" y="330"/>
                    </a:lnTo>
                    <a:lnTo>
                      <a:pt x="158" y="330"/>
                    </a:lnTo>
                    <a:lnTo>
                      <a:pt x="175" y="330"/>
                    </a:lnTo>
                    <a:lnTo>
                      <a:pt x="183" y="330"/>
                    </a:lnTo>
                    <a:lnTo>
                      <a:pt x="200" y="330"/>
                    </a:lnTo>
                    <a:lnTo>
                      <a:pt x="200" y="377"/>
                    </a:lnTo>
                    <a:lnTo>
                      <a:pt x="200" y="415"/>
                    </a:lnTo>
                    <a:lnTo>
                      <a:pt x="200" y="461"/>
                    </a:lnTo>
                    <a:lnTo>
                      <a:pt x="192" y="500"/>
                    </a:lnTo>
                    <a:lnTo>
                      <a:pt x="192" y="523"/>
                    </a:lnTo>
                    <a:lnTo>
                      <a:pt x="183" y="538"/>
                    </a:lnTo>
                    <a:lnTo>
                      <a:pt x="183" y="554"/>
                    </a:lnTo>
                    <a:lnTo>
                      <a:pt x="175" y="569"/>
                    </a:lnTo>
                    <a:lnTo>
                      <a:pt x="167" y="584"/>
                    </a:lnTo>
                    <a:lnTo>
                      <a:pt x="158" y="600"/>
                    </a:lnTo>
                    <a:lnTo>
                      <a:pt x="150" y="615"/>
                    </a:lnTo>
                    <a:lnTo>
                      <a:pt x="142" y="638"/>
                    </a:lnTo>
                    <a:lnTo>
                      <a:pt x="142" y="646"/>
                    </a:lnTo>
                    <a:lnTo>
                      <a:pt x="142" y="654"/>
                    </a:lnTo>
                    <a:lnTo>
                      <a:pt x="142" y="661"/>
                    </a:lnTo>
                    <a:lnTo>
                      <a:pt x="150" y="669"/>
                    </a:lnTo>
                    <a:lnTo>
                      <a:pt x="158" y="677"/>
                    </a:lnTo>
                    <a:lnTo>
                      <a:pt x="158" y="692"/>
                    </a:lnTo>
                    <a:lnTo>
                      <a:pt x="175" y="692"/>
                    </a:lnTo>
                    <a:lnTo>
                      <a:pt x="183" y="700"/>
                    </a:lnTo>
                    <a:lnTo>
                      <a:pt x="192" y="707"/>
                    </a:lnTo>
                    <a:lnTo>
                      <a:pt x="200" y="707"/>
                    </a:lnTo>
                    <a:lnTo>
                      <a:pt x="209" y="707"/>
                    </a:lnTo>
                    <a:lnTo>
                      <a:pt x="217" y="707"/>
                    </a:lnTo>
                    <a:lnTo>
                      <a:pt x="225" y="700"/>
                    </a:lnTo>
                    <a:lnTo>
                      <a:pt x="234" y="692"/>
                    </a:lnTo>
                    <a:lnTo>
                      <a:pt x="250" y="684"/>
                    </a:lnTo>
                    <a:lnTo>
                      <a:pt x="259" y="677"/>
                    </a:lnTo>
                    <a:lnTo>
                      <a:pt x="267" y="684"/>
                    </a:lnTo>
                    <a:lnTo>
                      <a:pt x="267" y="692"/>
                    </a:lnTo>
                    <a:lnTo>
                      <a:pt x="275" y="700"/>
                    </a:lnTo>
                    <a:lnTo>
                      <a:pt x="284" y="707"/>
                    </a:lnTo>
                    <a:lnTo>
                      <a:pt x="292" y="707"/>
                    </a:lnTo>
                    <a:lnTo>
                      <a:pt x="300" y="715"/>
                    </a:lnTo>
                    <a:lnTo>
                      <a:pt x="309" y="715"/>
                    </a:lnTo>
                    <a:lnTo>
                      <a:pt x="317" y="715"/>
                    </a:lnTo>
                    <a:lnTo>
                      <a:pt x="326" y="715"/>
                    </a:lnTo>
                    <a:lnTo>
                      <a:pt x="334" y="715"/>
                    </a:lnTo>
                    <a:lnTo>
                      <a:pt x="351" y="707"/>
                    </a:lnTo>
                    <a:lnTo>
                      <a:pt x="359" y="707"/>
                    </a:lnTo>
                    <a:lnTo>
                      <a:pt x="367" y="700"/>
                    </a:lnTo>
                    <a:lnTo>
                      <a:pt x="384" y="692"/>
                    </a:lnTo>
                    <a:lnTo>
                      <a:pt x="392" y="684"/>
                    </a:lnTo>
                    <a:lnTo>
                      <a:pt x="409" y="677"/>
                    </a:lnTo>
                    <a:lnTo>
                      <a:pt x="409" y="700"/>
                    </a:lnTo>
                    <a:lnTo>
                      <a:pt x="417" y="723"/>
                    </a:lnTo>
                    <a:lnTo>
                      <a:pt x="426" y="746"/>
                    </a:lnTo>
                    <a:lnTo>
                      <a:pt x="426" y="769"/>
                    </a:lnTo>
                    <a:lnTo>
                      <a:pt x="434" y="792"/>
                    </a:lnTo>
                    <a:lnTo>
                      <a:pt x="443" y="807"/>
                    </a:lnTo>
                    <a:lnTo>
                      <a:pt x="451" y="830"/>
                    </a:lnTo>
                    <a:lnTo>
                      <a:pt x="459" y="854"/>
                    </a:lnTo>
                    <a:lnTo>
                      <a:pt x="459" y="877"/>
                    </a:lnTo>
                    <a:lnTo>
                      <a:pt x="468" y="900"/>
                    </a:lnTo>
                    <a:lnTo>
                      <a:pt x="476" y="923"/>
                    </a:lnTo>
                    <a:lnTo>
                      <a:pt x="484" y="946"/>
                    </a:lnTo>
                    <a:lnTo>
                      <a:pt x="501" y="969"/>
                    </a:lnTo>
                    <a:lnTo>
                      <a:pt x="509" y="992"/>
                    </a:lnTo>
                    <a:lnTo>
                      <a:pt x="518" y="1015"/>
                    </a:lnTo>
                    <a:lnTo>
                      <a:pt x="526" y="1038"/>
                    </a:lnTo>
                    <a:lnTo>
                      <a:pt x="543" y="954"/>
                    </a:lnTo>
                    <a:lnTo>
                      <a:pt x="551" y="877"/>
                    </a:lnTo>
                    <a:lnTo>
                      <a:pt x="568" y="792"/>
                    </a:lnTo>
                    <a:lnTo>
                      <a:pt x="576" y="707"/>
                    </a:lnTo>
                    <a:lnTo>
                      <a:pt x="593" y="630"/>
                    </a:lnTo>
                    <a:lnTo>
                      <a:pt x="610" y="546"/>
                    </a:lnTo>
                    <a:lnTo>
                      <a:pt x="618" y="461"/>
                    </a:lnTo>
                    <a:lnTo>
                      <a:pt x="635" y="384"/>
                    </a:lnTo>
                    <a:lnTo>
                      <a:pt x="610" y="354"/>
                    </a:lnTo>
                    <a:lnTo>
                      <a:pt x="593" y="330"/>
                    </a:lnTo>
                    <a:lnTo>
                      <a:pt x="576" y="307"/>
                    </a:lnTo>
                    <a:lnTo>
                      <a:pt x="560" y="284"/>
                    </a:lnTo>
                    <a:lnTo>
                      <a:pt x="543" y="261"/>
                    </a:lnTo>
                    <a:lnTo>
                      <a:pt x="526" y="238"/>
                    </a:lnTo>
                    <a:lnTo>
                      <a:pt x="509" y="215"/>
                    </a:lnTo>
                    <a:lnTo>
                      <a:pt x="484" y="192"/>
                    </a:lnTo>
                    <a:lnTo>
                      <a:pt x="468" y="169"/>
                    </a:lnTo>
                    <a:lnTo>
                      <a:pt x="451" y="146"/>
                    </a:lnTo>
                    <a:lnTo>
                      <a:pt x="434" y="123"/>
                    </a:lnTo>
                    <a:lnTo>
                      <a:pt x="417" y="92"/>
                    </a:lnTo>
                    <a:lnTo>
                      <a:pt x="401" y="69"/>
                    </a:lnTo>
                    <a:lnTo>
                      <a:pt x="384" y="46"/>
                    </a:lnTo>
                    <a:lnTo>
                      <a:pt x="367" y="23"/>
                    </a:lnTo>
                    <a:lnTo>
                      <a:pt x="342" y="0"/>
                    </a:lnTo>
                    <a:close/>
                  </a:path>
                </a:pathLst>
              </a:custGeom>
              <a:solidFill>
                <a:srgbClr val="ffe8c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Freeform 265"/>
              <p:cNvSpPr/>
              <p:nvPr/>
            </p:nvSpPr>
            <p:spPr>
              <a:xfrm flipH="1">
                <a:off x="532800" y="1208160"/>
                <a:ext cx="126720" cy="217440"/>
              </a:xfrm>
              <a:custGeom>
                <a:avLst/>
                <a:gdLst>
                  <a:gd name="textAreaLeft" fmla="*/ 360 w 126720"/>
                  <a:gd name="textAreaRight" fmla="*/ 127440 w 126720"/>
                  <a:gd name="textAreaTop" fmla="*/ 0 h 217440"/>
                  <a:gd name="textAreaBottom" fmla="*/ 217800 h 217440"/>
                </a:gdLst>
                <a:ahLst/>
                <a:rect l="textAreaLeft" t="textAreaTop" r="textAreaRight" b="textAreaBottom"/>
                <a:pathLst>
                  <a:path w="635" h="1038">
                    <a:moveTo>
                      <a:pt x="342" y="0"/>
                    </a:moveTo>
                    <a:lnTo>
                      <a:pt x="326" y="15"/>
                    </a:lnTo>
                    <a:lnTo>
                      <a:pt x="309" y="38"/>
                    </a:lnTo>
                    <a:lnTo>
                      <a:pt x="292" y="61"/>
                    </a:lnTo>
                    <a:lnTo>
                      <a:pt x="284" y="84"/>
                    </a:lnTo>
                    <a:lnTo>
                      <a:pt x="275" y="115"/>
                    </a:lnTo>
                    <a:lnTo>
                      <a:pt x="267" y="146"/>
                    </a:lnTo>
                    <a:lnTo>
                      <a:pt x="259" y="177"/>
                    </a:lnTo>
                    <a:lnTo>
                      <a:pt x="259" y="207"/>
                    </a:lnTo>
                    <a:lnTo>
                      <a:pt x="242" y="207"/>
                    </a:lnTo>
                    <a:lnTo>
                      <a:pt x="225" y="207"/>
                    </a:lnTo>
                    <a:lnTo>
                      <a:pt x="209" y="207"/>
                    </a:lnTo>
                    <a:lnTo>
                      <a:pt x="192" y="200"/>
                    </a:lnTo>
                    <a:lnTo>
                      <a:pt x="175" y="200"/>
                    </a:lnTo>
                    <a:lnTo>
                      <a:pt x="158" y="200"/>
                    </a:lnTo>
                    <a:lnTo>
                      <a:pt x="142" y="200"/>
                    </a:lnTo>
                    <a:lnTo>
                      <a:pt x="125" y="192"/>
                    </a:lnTo>
                    <a:lnTo>
                      <a:pt x="108" y="192"/>
                    </a:lnTo>
                    <a:lnTo>
                      <a:pt x="92" y="192"/>
                    </a:lnTo>
                    <a:lnTo>
                      <a:pt x="83" y="184"/>
                    </a:lnTo>
                    <a:lnTo>
                      <a:pt x="66" y="184"/>
                    </a:lnTo>
                    <a:lnTo>
                      <a:pt x="50" y="184"/>
                    </a:lnTo>
                    <a:lnTo>
                      <a:pt x="33" y="177"/>
                    </a:lnTo>
                    <a:lnTo>
                      <a:pt x="25" y="169"/>
                    </a:lnTo>
                    <a:lnTo>
                      <a:pt x="8" y="169"/>
                    </a:lnTo>
                    <a:lnTo>
                      <a:pt x="0" y="184"/>
                    </a:lnTo>
                    <a:lnTo>
                      <a:pt x="0" y="200"/>
                    </a:lnTo>
                    <a:lnTo>
                      <a:pt x="0" y="215"/>
                    </a:lnTo>
                    <a:lnTo>
                      <a:pt x="8" y="230"/>
                    </a:lnTo>
                    <a:lnTo>
                      <a:pt x="8" y="246"/>
                    </a:lnTo>
                    <a:lnTo>
                      <a:pt x="16" y="261"/>
                    </a:lnTo>
                    <a:lnTo>
                      <a:pt x="33" y="269"/>
                    </a:lnTo>
                    <a:lnTo>
                      <a:pt x="41" y="284"/>
                    </a:lnTo>
                    <a:lnTo>
                      <a:pt x="50" y="284"/>
                    </a:lnTo>
                    <a:lnTo>
                      <a:pt x="58" y="292"/>
                    </a:lnTo>
                    <a:lnTo>
                      <a:pt x="66" y="300"/>
                    </a:lnTo>
                    <a:lnTo>
                      <a:pt x="75" y="307"/>
                    </a:lnTo>
                    <a:lnTo>
                      <a:pt x="83" y="307"/>
                    </a:lnTo>
                    <a:lnTo>
                      <a:pt x="92" y="315"/>
                    </a:lnTo>
                    <a:lnTo>
                      <a:pt x="100" y="315"/>
                    </a:lnTo>
                    <a:lnTo>
                      <a:pt x="108" y="323"/>
                    </a:lnTo>
                    <a:lnTo>
                      <a:pt x="117" y="323"/>
                    </a:lnTo>
                    <a:lnTo>
                      <a:pt x="133" y="323"/>
                    </a:lnTo>
                    <a:lnTo>
                      <a:pt x="142" y="330"/>
                    </a:lnTo>
                    <a:lnTo>
                      <a:pt x="150" y="330"/>
                    </a:lnTo>
                    <a:lnTo>
                      <a:pt x="158" y="330"/>
                    </a:lnTo>
                    <a:lnTo>
                      <a:pt x="175" y="330"/>
                    </a:lnTo>
                    <a:lnTo>
                      <a:pt x="183" y="330"/>
                    </a:lnTo>
                    <a:lnTo>
                      <a:pt x="200" y="330"/>
                    </a:lnTo>
                    <a:lnTo>
                      <a:pt x="200" y="377"/>
                    </a:lnTo>
                    <a:lnTo>
                      <a:pt x="200" y="415"/>
                    </a:lnTo>
                    <a:lnTo>
                      <a:pt x="200" y="461"/>
                    </a:lnTo>
                    <a:lnTo>
                      <a:pt x="192" y="500"/>
                    </a:lnTo>
                    <a:lnTo>
                      <a:pt x="192" y="523"/>
                    </a:lnTo>
                    <a:lnTo>
                      <a:pt x="183" y="538"/>
                    </a:lnTo>
                    <a:lnTo>
                      <a:pt x="183" y="554"/>
                    </a:lnTo>
                    <a:lnTo>
                      <a:pt x="175" y="569"/>
                    </a:lnTo>
                    <a:lnTo>
                      <a:pt x="167" y="584"/>
                    </a:lnTo>
                    <a:lnTo>
                      <a:pt x="158" y="600"/>
                    </a:lnTo>
                    <a:lnTo>
                      <a:pt x="150" y="615"/>
                    </a:lnTo>
                    <a:lnTo>
                      <a:pt x="142" y="638"/>
                    </a:lnTo>
                    <a:lnTo>
                      <a:pt x="142" y="646"/>
                    </a:lnTo>
                    <a:lnTo>
                      <a:pt x="142" y="654"/>
                    </a:lnTo>
                    <a:lnTo>
                      <a:pt x="142" y="661"/>
                    </a:lnTo>
                    <a:lnTo>
                      <a:pt x="150" y="669"/>
                    </a:lnTo>
                    <a:lnTo>
                      <a:pt x="158" y="677"/>
                    </a:lnTo>
                    <a:lnTo>
                      <a:pt x="158" y="692"/>
                    </a:lnTo>
                    <a:lnTo>
                      <a:pt x="175" y="692"/>
                    </a:lnTo>
                    <a:lnTo>
                      <a:pt x="183" y="700"/>
                    </a:lnTo>
                    <a:lnTo>
                      <a:pt x="192" y="707"/>
                    </a:lnTo>
                    <a:lnTo>
                      <a:pt x="200" y="707"/>
                    </a:lnTo>
                    <a:lnTo>
                      <a:pt x="209" y="707"/>
                    </a:lnTo>
                    <a:lnTo>
                      <a:pt x="217" y="707"/>
                    </a:lnTo>
                    <a:lnTo>
                      <a:pt x="225" y="700"/>
                    </a:lnTo>
                    <a:lnTo>
                      <a:pt x="234" y="692"/>
                    </a:lnTo>
                    <a:lnTo>
                      <a:pt x="250" y="684"/>
                    </a:lnTo>
                    <a:lnTo>
                      <a:pt x="259" y="677"/>
                    </a:lnTo>
                    <a:lnTo>
                      <a:pt x="267" y="684"/>
                    </a:lnTo>
                    <a:lnTo>
                      <a:pt x="267" y="692"/>
                    </a:lnTo>
                    <a:lnTo>
                      <a:pt x="275" y="700"/>
                    </a:lnTo>
                    <a:lnTo>
                      <a:pt x="284" y="707"/>
                    </a:lnTo>
                    <a:lnTo>
                      <a:pt x="292" y="707"/>
                    </a:lnTo>
                    <a:lnTo>
                      <a:pt x="300" y="715"/>
                    </a:lnTo>
                    <a:lnTo>
                      <a:pt x="309" y="715"/>
                    </a:lnTo>
                    <a:lnTo>
                      <a:pt x="317" y="715"/>
                    </a:lnTo>
                    <a:lnTo>
                      <a:pt x="326" y="715"/>
                    </a:lnTo>
                    <a:lnTo>
                      <a:pt x="334" y="715"/>
                    </a:lnTo>
                    <a:lnTo>
                      <a:pt x="351" y="707"/>
                    </a:lnTo>
                    <a:lnTo>
                      <a:pt x="359" y="707"/>
                    </a:lnTo>
                    <a:lnTo>
                      <a:pt x="367" y="700"/>
                    </a:lnTo>
                    <a:lnTo>
                      <a:pt x="384" y="692"/>
                    </a:lnTo>
                    <a:lnTo>
                      <a:pt x="392" y="684"/>
                    </a:lnTo>
                    <a:lnTo>
                      <a:pt x="409" y="677"/>
                    </a:lnTo>
                    <a:lnTo>
                      <a:pt x="409" y="700"/>
                    </a:lnTo>
                    <a:lnTo>
                      <a:pt x="417" y="723"/>
                    </a:lnTo>
                    <a:lnTo>
                      <a:pt x="426" y="746"/>
                    </a:lnTo>
                    <a:lnTo>
                      <a:pt x="426" y="769"/>
                    </a:lnTo>
                    <a:lnTo>
                      <a:pt x="434" y="792"/>
                    </a:lnTo>
                    <a:lnTo>
                      <a:pt x="443" y="807"/>
                    </a:lnTo>
                    <a:lnTo>
                      <a:pt x="451" y="830"/>
                    </a:lnTo>
                    <a:lnTo>
                      <a:pt x="459" y="854"/>
                    </a:lnTo>
                    <a:lnTo>
                      <a:pt x="459" y="877"/>
                    </a:lnTo>
                    <a:lnTo>
                      <a:pt x="468" y="900"/>
                    </a:lnTo>
                    <a:lnTo>
                      <a:pt x="476" y="923"/>
                    </a:lnTo>
                    <a:lnTo>
                      <a:pt x="484" y="946"/>
                    </a:lnTo>
                    <a:lnTo>
                      <a:pt x="501" y="969"/>
                    </a:lnTo>
                    <a:lnTo>
                      <a:pt x="509" y="992"/>
                    </a:lnTo>
                    <a:lnTo>
                      <a:pt x="518" y="1015"/>
                    </a:lnTo>
                    <a:lnTo>
                      <a:pt x="526" y="1038"/>
                    </a:lnTo>
                    <a:lnTo>
                      <a:pt x="543" y="954"/>
                    </a:lnTo>
                    <a:lnTo>
                      <a:pt x="551" y="877"/>
                    </a:lnTo>
                    <a:lnTo>
                      <a:pt x="568" y="792"/>
                    </a:lnTo>
                    <a:lnTo>
                      <a:pt x="576" y="707"/>
                    </a:lnTo>
                    <a:lnTo>
                      <a:pt x="593" y="630"/>
                    </a:lnTo>
                    <a:lnTo>
                      <a:pt x="610" y="546"/>
                    </a:lnTo>
                    <a:lnTo>
                      <a:pt x="618" y="461"/>
                    </a:lnTo>
                    <a:lnTo>
                      <a:pt x="635" y="384"/>
                    </a:lnTo>
                    <a:lnTo>
                      <a:pt x="610" y="354"/>
                    </a:lnTo>
                    <a:lnTo>
                      <a:pt x="593" y="330"/>
                    </a:lnTo>
                    <a:lnTo>
                      <a:pt x="576" y="307"/>
                    </a:lnTo>
                    <a:lnTo>
                      <a:pt x="560" y="284"/>
                    </a:lnTo>
                    <a:lnTo>
                      <a:pt x="543" y="261"/>
                    </a:lnTo>
                    <a:lnTo>
                      <a:pt x="526" y="238"/>
                    </a:lnTo>
                    <a:lnTo>
                      <a:pt x="509" y="215"/>
                    </a:lnTo>
                    <a:lnTo>
                      <a:pt x="484" y="192"/>
                    </a:lnTo>
                    <a:lnTo>
                      <a:pt x="468" y="169"/>
                    </a:lnTo>
                    <a:lnTo>
                      <a:pt x="451" y="146"/>
                    </a:lnTo>
                    <a:lnTo>
                      <a:pt x="434" y="123"/>
                    </a:lnTo>
                    <a:lnTo>
                      <a:pt x="417" y="92"/>
                    </a:lnTo>
                    <a:lnTo>
                      <a:pt x="401" y="69"/>
                    </a:lnTo>
                    <a:lnTo>
                      <a:pt x="384" y="46"/>
                    </a:lnTo>
                    <a:lnTo>
                      <a:pt x="367" y="23"/>
                    </a:lnTo>
                    <a:lnTo>
                      <a:pt x="342"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Freeform 264"/>
              <p:cNvSpPr/>
              <p:nvPr/>
            </p:nvSpPr>
            <p:spPr>
              <a:xfrm flipH="1">
                <a:off x="554400" y="1243800"/>
                <a:ext cx="104760" cy="182160"/>
              </a:xfrm>
              <a:custGeom>
                <a:avLst/>
                <a:gdLst>
                  <a:gd name="textAreaLeft" fmla="*/ -360 w 104760"/>
                  <a:gd name="textAreaRight" fmla="*/ 104760 w 104760"/>
                  <a:gd name="textAreaTop" fmla="*/ 0 h 182160"/>
                  <a:gd name="textAreaBottom" fmla="*/ 182520 h 182160"/>
                </a:gdLst>
                <a:ahLst/>
                <a:rect l="textAreaLeft" t="textAreaTop" r="textAreaRight" b="textAreaBottom"/>
                <a:pathLst>
                  <a:path w="526" h="869">
                    <a:moveTo>
                      <a:pt x="259" y="38"/>
                    </a:moveTo>
                    <a:lnTo>
                      <a:pt x="242" y="38"/>
                    </a:lnTo>
                    <a:lnTo>
                      <a:pt x="225" y="38"/>
                    </a:lnTo>
                    <a:lnTo>
                      <a:pt x="209" y="38"/>
                    </a:lnTo>
                    <a:lnTo>
                      <a:pt x="192" y="31"/>
                    </a:lnTo>
                    <a:lnTo>
                      <a:pt x="175" y="31"/>
                    </a:lnTo>
                    <a:lnTo>
                      <a:pt x="158" y="31"/>
                    </a:lnTo>
                    <a:lnTo>
                      <a:pt x="142" y="31"/>
                    </a:lnTo>
                    <a:lnTo>
                      <a:pt x="125" y="23"/>
                    </a:lnTo>
                    <a:lnTo>
                      <a:pt x="108" y="23"/>
                    </a:lnTo>
                    <a:lnTo>
                      <a:pt x="92" y="23"/>
                    </a:lnTo>
                    <a:lnTo>
                      <a:pt x="83" y="15"/>
                    </a:lnTo>
                    <a:lnTo>
                      <a:pt x="66" y="15"/>
                    </a:lnTo>
                    <a:lnTo>
                      <a:pt x="50" y="15"/>
                    </a:lnTo>
                    <a:lnTo>
                      <a:pt x="33" y="8"/>
                    </a:lnTo>
                    <a:lnTo>
                      <a:pt x="25" y="0"/>
                    </a:lnTo>
                    <a:lnTo>
                      <a:pt x="8" y="0"/>
                    </a:lnTo>
                    <a:lnTo>
                      <a:pt x="0" y="15"/>
                    </a:lnTo>
                    <a:lnTo>
                      <a:pt x="0" y="31"/>
                    </a:lnTo>
                    <a:lnTo>
                      <a:pt x="0" y="46"/>
                    </a:lnTo>
                    <a:lnTo>
                      <a:pt x="8" y="61"/>
                    </a:lnTo>
                    <a:lnTo>
                      <a:pt x="8" y="77"/>
                    </a:lnTo>
                    <a:lnTo>
                      <a:pt x="16" y="92"/>
                    </a:lnTo>
                    <a:lnTo>
                      <a:pt x="33" y="100"/>
                    </a:lnTo>
                    <a:lnTo>
                      <a:pt x="41" y="115"/>
                    </a:lnTo>
                    <a:lnTo>
                      <a:pt x="50" y="115"/>
                    </a:lnTo>
                    <a:lnTo>
                      <a:pt x="58" y="123"/>
                    </a:lnTo>
                    <a:lnTo>
                      <a:pt x="66" y="131"/>
                    </a:lnTo>
                    <a:lnTo>
                      <a:pt x="75" y="138"/>
                    </a:lnTo>
                    <a:lnTo>
                      <a:pt x="83" y="138"/>
                    </a:lnTo>
                    <a:lnTo>
                      <a:pt x="92" y="146"/>
                    </a:lnTo>
                    <a:lnTo>
                      <a:pt x="100" y="146"/>
                    </a:lnTo>
                    <a:lnTo>
                      <a:pt x="108" y="154"/>
                    </a:lnTo>
                    <a:lnTo>
                      <a:pt x="117" y="154"/>
                    </a:lnTo>
                    <a:lnTo>
                      <a:pt x="133" y="154"/>
                    </a:lnTo>
                    <a:lnTo>
                      <a:pt x="142" y="161"/>
                    </a:lnTo>
                    <a:lnTo>
                      <a:pt x="150" y="161"/>
                    </a:lnTo>
                    <a:lnTo>
                      <a:pt x="158" y="161"/>
                    </a:lnTo>
                    <a:lnTo>
                      <a:pt x="175" y="161"/>
                    </a:lnTo>
                    <a:lnTo>
                      <a:pt x="183" y="161"/>
                    </a:lnTo>
                    <a:lnTo>
                      <a:pt x="200" y="161"/>
                    </a:lnTo>
                    <a:lnTo>
                      <a:pt x="200" y="208"/>
                    </a:lnTo>
                    <a:lnTo>
                      <a:pt x="200" y="246"/>
                    </a:lnTo>
                    <a:lnTo>
                      <a:pt x="200" y="292"/>
                    </a:lnTo>
                    <a:lnTo>
                      <a:pt x="192" y="331"/>
                    </a:lnTo>
                    <a:lnTo>
                      <a:pt x="192" y="354"/>
                    </a:lnTo>
                    <a:lnTo>
                      <a:pt x="183" y="369"/>
                    </a:lnTo>
                    <a:lnTo>
                      <a:pt x="183" y="385"/>
                    </a:lnTo>
                    <a:lnTo>
                      <a:pt x="175" y="400"/>
                    </a:lnTo>
                    <a:lnTo>
                      <a:pt x="167" y="415"/>
                    </a:lnTo>
                    <a:lnTo>
                      <a:pt x="158" y="431"/>
                    </a:lnTo>
                    <a:lnTo>
                      <a:pt x="150" y="446"/>
                    </a:lnTo>
                    <a:lnTo>
                      <a:pt x="142" y="469"/>
                    </a:lnTo>
                    <a:lnTo>
                      <a:pt x="142" y="477"/>
                    </a:lnTo>
                    <a:lnTo>
                      <a:pt x="142" y="485"/>
                    </a:lnTo>
                    <a:lnTo>
                      <a:pt x="142" y="492"/>
                    </a:lnTo>
                    <a:lnTo>
                      <a:pt x="150" y="500"/>
                    </a:lnTo>
                    <a:lnTo>
                      <a:pt x="158" y="508"/>
                    </a:lnTo>
                    <a:lnTo>
                      <a:pt x="158" y="523"/>
                    </a:lnTo>
                    <a:lnTo>
                      <a:pt x="175" y="523"/>
                    </a:lnTo>
                    <a:lnTo>
                      <a:pt x="183" y="531"/>
                    </a:lnTo>
                    <a:lnTo>
                      <a:pt x="192" y="538"/>
                    </a:lnTo>
                    <a:lnTo>
                      <a:pt x="200" y="538"/>
                    </a:lnTo>
                    <a:lnTo>
                      <a:pt x="209" y="538"/>
                    </a:lnTo>
                    <a:lnTo>
                      <a:pt x="217" y="538"/>
                    </a:lnTo>
                    <a:lnTo>
                      <a:pt x="225" y="531"/>
                    </a:lnTo>
                    <a:lnTo>
                      <a:pt x="234" y="523"/>
                    </a:lnTo>
                    <a:lnTo>
                      <a:pt x="250" y="515"/>
                    </a:lnTo>
                    <a:lnTo>
                      <a:pt x="259" y="508"/>
                    </a:lnTo>
                    <a:lnTo>
                      <a:pt x="267" y="515"/>
                    </a:lnTo>
                    <a:lnTo>
                      <a:pt x="267" y="523"/>
                    </a:lnTo>
                    <a:lnTo>
                      <a:pt x="275" y="531"/>
                    </a:lnTo>
                    <a:lnTo>
                      <a:pt x="284" y="538"/>
                    </a:lnTo>
                    <a:lnTo>
                      <a:pt x="292" y="538"/>
                    </a:lnTo>
                    <a:lnTo>
                      <a:pt x="300" y="546"/>
                    </a:lnTo>
                    <a:lnTo>
                      <a:pt x="309" y="546"/>
                    </a:lnTo>
                    <a:lnTo>
                      <a:pt x="317" y="546"/>
                    </a:lnTo>
                    <a:lnTo>
                      <a:pt x="326" y="546"/>
                    </a:lnTo>
                    <a:lnTo>
                      <a:pt x="334" y="546"/>
                    </a:lnTo>
                    <a:lnTo>
                      <a:pt x="351" y="538"/>
                    </a:lnTo>
                    <a:lnTo>
                      <a:pt x="359" y="538"/>
                    </a:lnTo>
                    <a:lnTo>
                      <a:pt x="367" y="531"/>
                    </a:lnTo>
                    <a:lnTo>
                      <a:pt x="384" y="523"/>
                    </a:lnTo>
                    <a:lnTo>
                      <a:pt x="392" y="515"/>
                    </a:lnTo>
                    <a:lnTo>
                      <a:pt x="409" y="508"/>
                    </a:lnTo>
                    <a:lnTo>
                      <a:pt x="409" y="531"/>
                    </a:lnTo>
                    <a:lnTo>
                      <a:pt x="417" y="554"/>
                    </a:lnTo>
                    <a:lnTo>
                      <a:pt x="426" y="577"/>
                    </a:lnTo>
                    <a:lnTo>
                      <a:pt x="426" y="600"/>
                    </a:lnTo>
                    <a:lnTo>
                      <a:pt x="434" y="623"/>
                    </a:lnTo>
                    <a:lnTo>
                      <a:pt x="443" y="638"/>
                    </a:lnTo>
                    <a:lnTo>
                      <a:pt x="451" y="661"/>
                    </a:lnTo>
                    <a:lnTo>
                      <a:pt x="459" y="685"/>
                    </a:lnTo>
                    <a:lnTo>
                      <a:pt x="459" y="708"/>
                    </a:lnTo>
                    <a:lnTo>
                      <a:pt x="468" y="731"/>
                    </a:lnTo>
                    <a:lnTo>
                      <a:pt x="476" y="754"/>
                    </a:lnTo>
                    <a:lnTo>
                      <a:pt x="484" y="777"/>
                    </a:lnTo>
                    <a:lnTo>
                      <a:pt x="501" y="800"/>
                    </a:lnTo>
                    <a:lnTo>
                      <a:pt x="509" y="823"/>
                    </a:lnTo>
                    <a:lnTo>
                      <a:pt x="518" y="846"/>
                    </a:lnTo>
                    <a:lnTo>
                      <a:pt x="526" y="869"/>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Freeform 263"/>
              <p:cNvSpPr/>
              <p:nvPr/>
            </p:nvSpPr>
            <p:spPr>
              <a:xfrm flipH="1">
                <a:off x="592920" y="1334160"/>
                <a:ext cx="14760" cy="15840"/>
              </a:xfrm>
              <a:custGeom>
                <a:avLst/>
                <a:gdLst>
                  <a:gd name="textAreaLeft" fmla="*/ -360 w 14760"/>
                  <a:gd name="textAreaRight" fmla="*/ 14760 w 14760"/>
                  <a:gd name="textAreaTop" fmla="*/ 0 h 15840"/>
                  <a:gd name="textAreaBottom" fmla="*/ 16200 h 15840"/>
                </a:gdLst>
                <a:ahLst/>
                <a:rect l="textAreaLeft" t="textAreaTop" r="textAreaRight" b="textAreaBottom"/>
                <a:pathLst>
                  <a:path w="75" h="77">
                    <a:moveTo>
                      <a:pt x="75" y="0"/>
                    </a:moveTo>
                    <a:lnTo>
                      <a:pt x="67" y="7"/>
                    </a:lnTo>
                    <a:lnTo>
                      <a:pt x="58" y="23"/>
                    </a:lnTo>
                    <a:lnTo>
                      <a:pt x="50" y="30"/>
                    </a:lnTo>
                    <a:lnTo>
                      <a:pt x="41" y="38"/>
                    </a:lnTo>
                    <a:lnTo>
                      <a:pt x="33" y="46"/>
                    </a:lnTo>
                    <a:lnTo>
                      <a:pt x="25" y="61"/>
                    </a:lnTo>
                    <a:lnTo>
                      <a:pt x="8" y="69"/>
                    </a:lnTo>
                    <a:lnTo>
                      <a:pt x="0" y="77"/>
                    </a:lnTo>
                  </a:path>
                </a:pathLst>
              </a:custGeom>
              <a:noFill/>
              <a:ln w="0">
                <a:solidFill>
                  <a:srgbClr val="000000"/>
                </a:solidFill>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Freeform 262"/>
              <p:cNvSpPr/>
              <p:nvPr/>
            </p:nvSpPr>
            <p:spPr>
              <a:xfrm flipH="1">
                <a:off x="441720" y="1122840"/>
                <a:ext cx="186480" cy="344880"/>
              </a:xfrm>
              <a:custGeom>
                <a:avLst/>
                <a:gdLst>
                  <a:gd name="textAreaLeft" fmla="*/ 360 w 186480"/>
                  <a:gd name="textAreaRight" fmla="*/ 187200 w 186480"/>
                  <a:gd name="textAreaTop" fmla="*/ 0 h 344880"/>
                  <a:gd name="textAreaBottom" fmla="*/ 345240 h 344880"/>
                </a:gdLst>
                <a:ahLst/>
                <a:rect l="textAreaLeft" t="textAreaTop" r="textAreaRight" b="textAreaBottom"/>
                <a:pathLst>
                  <a:path w="936" h="1646">
                    <a:moveTo>
                      <a:pt x="0" y="508"/>
                    </a:moveTo>
                    <a:lnTo>
                      <a:pt x="9" y="492"/>
                    </a:lnTo>
                    <a:lnTo>
                      <a:pt x="9" y="477"/>
                    </a:lnTo>
                    <a:lnTo>
                      <a:pt x="17" y="462"/>
                    </a:lnTo>
                    <a:lnTo>
                      <a:pt x="25" y="454"/>
                    </a:lnTo>
                    <a:lnTo>
                      <a:pt x="34" y="438"/>
                    </a:lnTo>
                    <a:lnTo>
                      <a:pt x="34" y="423"/>
                    </a:lnTo>
                    <a:lnTo>
                      <a:pt x="42" y="408"/>
                    </a:lnTo>
                    <a:lnTo>
                      <a:pt x="51" y="400"/>
                    </a:lnTo>
                    <a:lnTo>
                      <a:pt x="59" y="385"/>
                    </a:lnTo>
                    <a:lnTo>
                      <a:pt x="67" y="369"/>
                    </a:lnTo>
                    <a:lnTo>
                      <a:pt x="76" y="362"/>
                    </a:lnTo>
                    <a:lnTo>
                      <a:pt x="84" y="346"/>
                    </a:lnTo>
                    <a:lnTo>
                      <a:pt x="101" y="338"/>
                    </a:lnTo>
                    <a:lnTo>
                      <a:pt x="109" y="323"/>
                    </a:lnTo>
                    <a:lnTo>
                      <a:pt x="117" y="315"/>
                    </a:lnTo>
                    <a:lnTo>
                      <a:pt x="126" y="300"/>
                    </a:lnTo>
                    <a:lnTo>
                      <a:pt x="109" y="331"/>
                    </a:lnTo>
                    <a:lnTo>
                      <a:pt x="101" y="362"/>
                    </a:lnTo>
                    <a:lnTo>
                      <a:pt x="84" y="392"/>
                    </a:lnTo>
                    <a:lnTo>
                      <a:pt x="84" y="423"/>
                    </a:lnTo>
                    <a:lnTo>
                      <a:pt x="76" y="462"/>
                    </a:lnTo>
                    <a:lnTo>
                      <a:pt x="76" y="492"/>
                    </a:lnTo>
                    <a:lnTo>
                      <a:pt x="84" y="538"/>
                    </a:lnTo>
                    <a:lnTo>
                      <a:pt x="92" y="585"/>
                    </a:lnTo>
                    <a:lnTo>
                      <a:pt x="101" y="554"/>
                    </a:lnTo>
                    <a:lnTo>
                      <a:pt x="109" y="531"/>
                    </a:lnTo>
                    <a:lnTo>
                      <a:pt x="117" y="508"/>
                    </a:lnTo>
                    <a:lnTo>
                      <a:pt x="126" y="485"/>
                    </a:lnTo>
                    <a:lnTo>
                      <a:pt x="134" y="462"/>
                    </a:lnTo>
                    <a:lnTo>
                      <a:pt x="151" y="446"/>
                    </a:lnTo>
                    <a:lnTo>
                      <a:pt x="159" y="431"/>
                    </a:lnTo>
                    <a:lnTo>
                      <a:pt x="176" y="415"/>
                    </a:lnTo>
                    <a:lnTo>
                      <a:pt x="168" y="446"/>
                    </a:lnTo>
                    <a:lnTo>
                      <a:pt x="159" y="469"/>
                    </a:lnTo>
                    <a:lnTo>
                      <a:pt x="159" y="485"/>
                    </a:lnTo>
                    <a:lnTo>
                      <a:pt x="159" y="508"/>
                    </a:lnTo>
                    <a:lnTo>
                      <a:pt x="159" y="531"/>
                    </a:lnTo>
                    <a:lnTo>
                      <a:pt x="159" y="554"/>
                    </a:lnTo>
                    <a:lnTo>
                      <a:pt x="168" y="577"/>
                    </a:lnTo>
                    <a:lnTo>
                      <a:pt x="176" y="600"/>
                    </a:lnTo>
                    <a:lnTo>
                      <a:pt x="176" y="585"/>
                    </a:lnTo>
                    <a:lnTo>
                      <a:pt x="176" y="562"/>
                    </a:lnTo>
                    <a:lnTo>
                      <a:pt x="184" y="546"/>
                    </a:lnTo>
                    <a:lnTo>
                      <a:pt x="193" y="531"/>
                    </a:lnTo>
                    <a:lnTo>
                      <a:pt x="201" y="523"/>
                    </a:lnTo>
                    <a:lnTo>
                      <a:pt x="209" y="508"/>
                    </a:lnTo>
                    <a:lnTo>
                      <a:pt x="218" y="492"/>
                    </a:lnTo>
                    <a:lnTo>
                      <a:pt x="234" y="485"/>
                    </a:lnTo>
                    <a:lnTo>
                      <a:pt x="226" y="492"/>
                    </a:lnTo>
                    <a:lnTo>
                      <a:pt x="218" y="508"/>
                    </a:lnTo>
                    <a:lnTo>
                      <a:pt x="209" y="523"/>
                    </a:lnTo>
                    <a:lnTo>
                      <a:pt x="209" y="546"/>
                    </a:lnTo>
                    <a:lnTo>
                      <a:pt x="201" y="569"/>
                    </a:lnTo>
                    <a:lnTo>
                      <a:pt x="201" y="592"/>
                    </a:lnTo>
                    <a:lnTo>
                      <a:pt x="209" y="608"/>
                    </a:lnTo>
                    <a:lnTo>
                      <a:pt x="218" y="631"/>
                    </a:lnTo>
                    <a:lnTo>
                      <a:pt x="226" y="646"/>
                    </a:lnTo>
                    <a:lnTo>
                      <a:pt x="234" y="669"/>
                    </a:lnTo>
                    <a:lnTo>
                      <a:pt x="251" y="685"/>
                    </a:lnTo>
                    <a:lnTo>
                      <a:pt x="259" y="692"/>
                    </a:lnTo>
                    <a:lnTo>
                      <a:pt x="276" y="708"/>
                    </a:lnTo>
                    <a:lnTo>
                      <a:pt x="293" y="715"/>
                    </a:lnTo>
                    <a:lnTo>
                      <a:pt x="301" y="723"/>
                    </a:lnTo>
                    <a:lnTo>
                      <a:pt x="318" y="738"/>
                    </a:lnTo>
                    <a:lnTo>
                      <a:pt x="326" y="746"/>
                    </a:lnTo>
                    <a:lnTo>
                      <a:pt x="343" y="754"/>
                    </a:lnTo>
                    <a:lnTo>
                      <a:pt x="351" y="762"/>
                    </a:lnTo>
                    <a:lnTo>
                      <a:pt x="368" y="769"/>
                    </a:lnTo>
                    <a:lnTo>
                      <a:pt x="376" y="785"/>
                    </a:lnTo>
                    <a:lnTo>
                      <a:pt x="385" y="792"/>
                    </a:lnTo>
                    <a:lnTo>
                      <a:pt x="385" y="808"/>
                    </a:lnTo>
                    <a:lnTo>
                      <a:pt x="393" y="823"/>
                    </a:lnTo>
                    <a:lnTo>
                      <a:pt x="402" y="892"/>
                    </a:lnTo>
                    <a:lnTo>
                      <a:pt x="393" y="962"/>
                    </a:lnTo>
                    <a:lnTo>
                      <a:pt x="385" y="1031"/>
                    </a:lnTo>
                    <a:lnTo>
                      <a:pt x="376" y="1100"/>
                    </a:lnTo>
                    <a:lnTo>
                      <a:pt x="360" y="1169"/>
                    </a:lnTo>
                    <a:lnTo>
                      <a:pt x="351" y="1238"/>
                    </a:lnTo>
                    <a:lnTo>
                      <a:pt x="343" y="1308"/>
                    </a:lnTo>
                    <a:lnTo>
                      <a:pt x="343" y="1377"/>
                    </a:lnTo>
                    <a:lnTo>
                      <a:pt x="343" y="1408"/>
                    </a:lnTo>
                    <a:lnTo>
                      <a:pt x="351" y="1446"/>
                    </a:lnTo>
                    <a:lnTo>
                      <a:pt x="360" y="1485"/>
                    </a:lnTo>
                    <a:lnTo>
                      <a:pt x="368" y="1515"/>
                    </a:lnTo>
                    <a:lnTo>
                      <a:pt x="385" y="1554"/>
                    </a:lnTo>
                    <a:lnTo>
                      <a:pt x="402" y="1585"/>
                    </a:lnTo>
                    <a:lnTo>
                      <a:pt x="418" y="1615"/>
                    </a:lnTo>
                    <a:lnTo>
                      <a:pt x="435" y="1646"/>
                    </a:lnTo>
                    <a:lnTo>
                      <a:pt x="435" y="1623"/>
                    </a:lnTo>
                    <a:lnTo>
                      <a:pt x="443" y="1608"/>
                    </a:lnTo>
                    <a:lnTo>
                      <a:pt x="443" y="1592"/>
                    </a:lnTo>
                    <a:lnTo>
                      <a:pt x="443" y="1569"/>
                    </a:lnTo>
                    <a:lnTo>
                      <a:pt x="452" y="1554"/>
                    </a:lnTo>
                    <a:lnTo>
                      <a:pt x="452" y="1538"/>
                    </a:lnTo>
                    <a:lnTo>
                      <a:pt x="460" y="1523"/>
                    </a:lnTo>
                    <a:lnTo>
                      <a:pt x="468" y="1508"/>
                    </a:lnTo>
                    <a:lnTo>
                      <a:pt x="477" y="1500"/>
                    </a:lnTo>
                    <a:lnTo>
                      <a:pt x="477" y="1492"/>
                    </a:lnTo>
                    <a:lnTo>
                      <a:pt x="485" y="1485"/>
                    </a:lnTo>
                    <a:lnTo>
                      <a:pt x="493" y="1469"/>
                    </a:lnTo>
                    <a:lnTo>
                      <a:pt x="502" y="1462"/>
                    </a:lnTo>
                    <a:lnTo>
                      <a:pt x="510" y="1454"/>
                    </a:lnTo>
                    <a:lnTo>
                      <a:pt x="527" y="1454"/>
                    </a:lnTo>
                    <a:lnTo>
                      <a:pt x="535" y="1446"/>
                    </a:lnTo>
                    <a:lnTo>
                      <a:pt x="544" y="1438"/>
                    </a:lnTo>
                    <a:lnTo>
                      <a:pt x="552" y="1431"/>
                    </a:lnTo>
                    <a:lnTo>
                      <a:pt x="560" y="1431"/>
                    </a:lnTo>
                    <a:lnTo>
                      <a:pt x="577" y="1423"/>
                    </a:lnTo>
                    <a:lnTo>
                      <a:pt x="585" y="1423"/>
                    </a:lnTo>
                    <a:lnTo>
                      <a:pt x="594" y="1415"/>
                    </a:lnTo>
                    <a:lnTo>
                      <a:pt x="610" y="1415"/>
                    </a:lnTo>
                    <a:lnTo>
                      <a:pt x="619" y="1415"/>
                    </a:lnTo>
                    <a:lnTo>
                      <a:pt x="636" y="1408"/>
                    </a:lnTo>
                    <a:lnTo>
                      <a:pt x="661" y="1408"/>
                    </a:lnTo>
                    <a:lnTo>
                      <a:pt x="677" y="1408"/>
                    </a:lnTo>
                    <a:lnTo>
                      <a:pt x="694" y="1408"/>
                    </a:lnTo>
                    <a:lnTo>
                      <a:pt x="711" y="1408"/>
                    </a:lnTo>
                    <a:lnTo>
                      <a:pt x="736" y="1408"/>
                    </a:lnTo>
                    <a:lnTo>
                      <a:pt x="753" y="1408"/>
                    </a:lnTo>
                    <a:lnTo>
                      <a:pt x="769" y="1415"/>
                    </a:lnTo>
                    <a:lnTo>
                      <a:pt x="794" y="1415"/>
                    </a:lnTo>
                    <a:lnTo>
                      <a:pt x="811" y="1415"/>
                    </a:lnTo>
                    <a:lnTo>
                      <a:pt x="828" y="1423"/>
                    </a:lnTo>
                    <a:lnTo>
                      <a:pt x="844" y="1423"/>
                    </a:lnTo>
                    <a:lnTo>
                      <a:pt x="870" y="1431"/>
                    </a:lnTo>
                    <a:lnTo>
                      <a:pt x="886" y="1431"/>
                    </a:lnTo>
                    <a:lnTo>
                      <a:pt x="903" y="1438"/>
                    </a:lnTo>
                    <a:lnTo>
                      <a:pt x="920" y="1438"/>
                    </a:lnTo>
                    <a:lnTo>
                      <a:pt x="928" y="1392"/>
                    </a:lnTo>
                    <a:lnTo>
                      <a:pt x="936" y="1346"/>
                    </a:lnTo>
                    <a:lnTo>
                      <a:pt x="936" y="1300"/>
                    </a:lnTo>
                    <a:lnTo>
                      <a:pt x="936" y="1254"/>
                    </a:lnTo>
                    <a:lnTo>
                      <a:pt x="936" y="1200"/>
                    </a:lnTo>
                    <a:lnTo>
                      <a:pt x="936" y="1154"/>
                    </a:lnTo>
                    <a:lnTo>
                      <a:pt x="928" y="1108"/>
                    </a:lnTo>
                    <a:lnTo>
                      <a:pt x="920" y="1062"/>
                    </a:lnTo>
                    <a:lnTo>
                      <a:pt x="920" y="1038"/>
                    </a:lnTo>
                    <a:lnTo>
                      <a:pt x="911" y="1015"/>
                    </a:lnTo>
                    <a:lnTo>
                      <a:pt x="903" y="992"/>
                    </a:lnTo>
                    <a:lnTo>
                      <a:pt x="895" y="977"/>
                    </a:lnTo>
                    <a:lnTo>
                      <a:pt x="886" y="954"/>
                    </a:lnTo>
                    <a:lnTo>
                      <a:pt x="878" y="938"/>
                    </a:lnTo>
                    <a:lnTo>
                      <a:pt x="870" y="915"/>
                    </a:lnTo>
                    <a:lnTo>
                      <a:pt x="861" y="900"/>
                    </a:lnTo>
                    <a:lnTo>
                      <a:pt x="853" y="885"/>
                    </a:lnTo>
                    <a:lnTo>
                      <a:pt x="844" y="862"/>
                    </a:lnTo>
                    <a:lnTo>
                      <a:pt x="828" y="846"/>
                    </a:lnTo>
                    <a:lnTo>
                      <a:pt x="819" y="831"/>
                    </a:lnTo>
                    <a:lnTo>
                      <a:pt x="811" y="808"/>
                    </a:lnTo>
                    <a:lnTo>
                      <a:pt x="794" y="792"/>
                    </a:lnTo>
                    <a:lnTo>
                      <a:pt x="786" y="777"/>
                    </a:lnTo>
                    <a:lnTo>
                      <a:pt x="778" y="754"/>
                    </a:lnTo>
                    <a:lnTo>
                      <a:pt x="786" y="731"/>
                    </a:lnTo>
                    <a:lnTo>
                      <a:pt x="794" y="708"/>
                    </a:lnTo>
                    <a:lnTo>
                      <a:pt x="803" y="685"/>
                    </a:lnTo>
                    <a:lnTo>
                      <a:pt x="803" y="662"/>
                    </a:lnTo>
                    <a:lnTo>
                      <a:pt x="811" y="638"/>
                    </a:lnTo>
                    <a:lnTo>
                      <a:pt x="819" y="608"/>
                    </a:lnTo>
                    <a:lnTo>
                      <a:pt x="819" y="585"/>
                    </a:lnTo>
                    <a:lnTo>
                      <a:pt x="819" y="562"/>
                    </a:lnTo>
                    <a:lnTo>
                      <a:pt x="819" y="531"/>
                    </a:lnTo>
                    <a:lnTo>
                      <a:pt x="819" y="500"/>
                    </a:lnTo>
                    <a:lnTo>
                      <a:pt x="819" y="469"/>
                    </a:lnTo>
                    <a:lnTo>
                      <a:pt x="811" y="438"/>
                    </a:lnTo>
                    <a:lnTo>
                      <a:pt x="811" y="408"/>
                    </a:lnTo>
                    <a:lnTo>
                      <a:pt x="803" y="377"/>
                    </a:lnTo>
                    <a:lnTo>
                      <a:pt x="794" y="346"/>
                    </a:lnTo>
                    <a:lnTo>
                      <a:pt x="778" y="315"/>
                    </a:lnTo>
                    <a:lnTo>
                      <a:pt x="778" y="308"/>
                    </a:lnTo>
                    <a:lnTo>
                      <a:pt x="769" y="292"/>
                    </a:lnTo>
                    <a:lnTo>
                      <a:pt x="761" y="285"/>
                    </a:lnTo>
                    <a:lnTo>
                      <a:pt x="744" y="269"/>
                    </a:lnTo>
                    <a:lnTo>
                      <a:pt x="736" y="262"/>
                    </a:lnTo>
                    <a:lnTo>
                      <a:pt x="727" y="246"/>
                    </a:lnTo>
                    <a:lnTo>
                      <a:pt x="719" y="238"/>
                    </a:lnTo>
                    <a:lnTo>
                      <a:pt x="702" y="231"/>
                    </a:lnTo>
                    <a:lnTo>
                      <a:pt x="694" y="223"/>
                    </a:lnTo>
                    <a:lnTo>
                      <a:pt x="677" y="215"/>
                    </a:lnTo>
                    <a:lnTo>
                      <a:pt x="669" y="208"/>
                    </a:lnTo>
                    <a:lnTo>
                      <a:pt x="652" y="200"/>
                    </a:lnTo>
                    <a:lnTo>
                      <a:pt x="636" y="192"/>
                    </a:lnTo>
                    <a:lnTo>
                      <a:pt x="627" y="185"/>
                    </a:lnTo>
                    <a:lnTo>
                      <a:pt x="610" y="185"/>
                    </a:lnTo>
                    <a:lnTo>
                      <a:pt x="594" y="177"/>
                    </a:lnTo>
                    <a:lnTo>
                      <a:pt x="585" y="177"/>
                    </a:lnTo>
                    <a:lnTo>
                      <a:pt x="569" y="177"/>
                    </a:lnTo>
                    <a:lnTo>
                      <a:pt x="560" y="177"/>
                    </a:lnTo>
                    <a:lnTo>
                      <a:pt x="552" y="177"/>
                    </a:lnTo>
                    <a:lnTo>
                      <a:pt x="535" y="177"/>
                    </a:lnTo>
                    <a:lnTo>
                      <a:pt x="527" y="177"/>
                    </a:lnTo>
                    <a:lnTo>
                      <a:pt x="519" y="177"/>
                    </a:lnTo>
                    <a:lnTo>
                      <a:pt x="510" y="177"/>
                    </a:lnTo>
                    <a:lnTo>
                      <a:pt x="493" y="177"/>
                    </a:lnTo>
                    <a:lnTo>
                      <a:pt x="485" y="177"/>
                    </a:lnTo>
                    <a:lnTo>
                      <a:pt x="477" y="185"/>
                    </a:lnTo>
                    <a:lnTo>
                      <a:pt x="468" y="185"/>
                    </a:lnTo>
                    <a:lnTo>
                      <a:pt x="460" y="185"/>
                    </a:lnTo>
                    <a:lnTo>
                      <a:pt x="452" y="185"/>
                    </a:lnTo>
                    <a:lnTo>
                      <a:pt x="443" y="192"/>
                    </a:lnTo>
                    <a:lnTo>
                      <a:pt x="435" y="192"/>
                    </a:lnTo>
                    <a:lnTo>
                      <a:pt x="443" y="177"/>
                    </a:lnTo>
                    <a:lnTo>
                      <a:pt x="443" y="162"/>
                    </a:lnTo>
                    <a:lnTo>
                      <a:pt x="452" y="146"/>
                    </a:lnTo>
                    <a:lnTo>
                      <a:pt x="468" y="138"/>
                    </a:lnTo>
                    <a:lnTo>
                      <a:pt x="477" y="123"/>
                    </a:lnTo>
                    <a:lnTo>
                      <a:pt x="493" y="115"/>
                    </a:lnTo>
                    <a:lnTo>
                      <a:pt x="510" y="100"/>
                    </a:lnTo>
                    <a:lnTo>
                      <a:pt x="527" y="92"/>
                    </a:lnTo>
                    <a:lnTo>
                      <a:pt x="510" y="92"/>
                    </a:lnTo>
                    <a:lnTo>
                      <a:pt x="493" y="92"/>
                    </a:lnTo>
                    <a:lnTo>
                      <a:pt x="477" y="92"/>
                    </a:lnTo>
                    <a:lnTo>
                      <a:pt x="468" y="100"/>
                    </a:lnTo>
                    <a:lnTo>
                      <a:pt x="452" y="100"/>
                    </a:lnTo>
                    <a:lnTo>
                      <a:pt x="443" y="108"/>
                    </a:lnTo>
                    <a:lnTo>
                      <a:pt x="427" y="115"/>
                    </a:lnTo>
                    <a:lnTo>
                      <a:pt x="418" y="115"/>
                    </a:lnTo>
                    <a:lnTo>
                      <a:pt x="410" y="123"/>
                    </a:lnTo>
                    <a:lnTo>
                      <a:pt x="402" y="131"/>
                    </a:lnTo>
                    <a:lnTo>
                      <a:pt x="385" y="138"/>
                    </a:lnTo>
                    <a:lnTo>
                      <a:pt x="376" y="146"/>
                    </a:lnTo>
                    <a:lnTo>
                      <a:pt x="368" y="154"/>
                    </a:lnTo>
                    <a:lnTo>
                      <a:pt x="360" y="162"/>
                    </a:lnTo>
                    <a:lnTo>
                      <a:pt x="351" y="169"/>
                    </a:lnTo>
                    <a:lnTo>
                      <a:pt x="343" y="177"/>
                    </a:lnTo>
                    <a:lnTo>
                      <a:pt x="343" y="154"/>
                    </a:lnTo>
                    <a:lnTo>
                      <a:pt x="343" y="131"/>
                    </a:lnTo>
                    <a:lnTo>
                      <a:pt x="343" y="115"/>
                    </a:lnTo>
                    <a:lnTo>
                      <a:pt x="343" y="92"/>
                    </a:lnTo>
                    <a:lnTo>
                      <a:pt x="351" y="69"/>
                    </a:lnTo>
                    <a:lnTo>
                      <a:pt x="351" y="46"/>
                    </a:lnTo>
                    <a:lnTo>
                      <a:pt x="360" y="23"/>
                    </a:lnTo>
                    <a:lnTo>
                      <a:pt x="368" y="0"/>
                    </a:lnTo>
                    <a:lnTo>
                      <a:pt x="351" y="23"/>
                    </a:lnTo>
                    <a:lnTo>
                      <a:pt x="335" y="38"/>
                    </a:lnTo>
                    <a:lnTo>
                      <a:pt x="326" y="62"/>
                    </a:lnTo>
                    <a:lnTo>
                      <a:pt x="310" y="77"/>
                    </a:lnTo>
                    <a:lnTo>
                      <a:pt x="310" y="100"/>
                    </a:lnTo>
                    <a:lnTo>
                      <a:pt x="301" y="131"/>
                    </a:lnTo>
                    <a:lnTo>
                      <a:pt x="301" y="154"/>
                    </a:lnTo>
                    <a:lnTo>
                      <a:pt x="301" y="192"/>
                    </a:lnTo>
                    <a:lnTo>
                      <a:pt x="293" y="177"/>
                    </a:lnTo>
                    <a:lnTo>
                      <a:pt x="285" y="169"/>
                    </a:lnTo>
                    <a:lnTo>
                      <a:pt x="276" y="154"/>
                    </a:lnTo>
                    <a:lnTo>
                      <a:pt x="259" y="146"/>
                    </a:lnTo>
                    <a:lnTo>
                      <a:pt x="251" y="138"/>
                    </a:lnTo>
                    <a:lnTo>
                      <a:pt x="243" y="123"/>
                    </a:lnTo>
                    <a:lnTo>
                      <a:pt x="226" y="115"/>
                    </a:lnTo>
                    <a:lnTo>
                      <a:pt x="218" y="108"/>
                    </a:lnTo>
                    <a:lnTo>
                      <a:pt x="209" y="108"/>
                    </a:lnTo>
                    <a:lnTo>
                      <a:pt x="193" y="100"/>
                    </a:lnTo>
                    <a:lnTo>
                      <a:pt x="184" y="100"/>
                    </a:lnTo>
                    <a:lnTo>
                      <a:pt x="168" y="92"/>
                    </a:lnTo>
                    <a:lnTo>
                      <a:pt x="159" y="92"/>
                    </a:lnTo>
                    <a:lnTo>
                      <a:pt x="151" y="92"/>
                    </a:lnTo>
                    <a:lnTo>
                      <a:pt x="134" y="100"/>
                    </a:lnTo>
                    <a:lnTo>
                      <a:pt x="126" y="108"/>
                    </a:lnTo>
                    <a:lnTo>
                      <a:pt x="134" y="108"/>
                    </a:lnTo>
                    <a:lnTo>
                      <a:pt x="142" y="108"/>
                    </a:lnTo>
                    <a:lnTo>
                      <a:pt x="151" y="115"/>
                    </a:lnTo>
                    <a:lnTo>
                      <a:pt x="159" y="115"/>
                    </a:lnTo>
                    <a:lnTo>
                      <a:pt x="168" y="123"/>
                    </a:lnTo>
                    <a:lnTo>
                      <a:pt x="176" y="123"/>
                    </a:lnTo>
                    <a:lnTo>
                      <a:pt x="184" y="131"/>
                    </a:lnTo>
                    <a:lnTo>
                      <a:pt x="201" y="138"/>
                    </a:lnTo>
                    <a:lnTo>
                      <a:pt x="201" y="146"/>
                    </a:lnTo>
                    <a:lnTo>
                      <a:pt x="209" y="154"/>
                    </a:lnTo>
                    <a:lnTo>
                      <a:pt x="218" y="162"/>
                    </a:lnTo>
                    <a:lnTo>
                      <a:pt x="226" y="169"/>
                    </a:lnTo>
                    <a:lnTo>
                      <a:pt x="234" y="177"/>
                    </a:lnTo>
                    <a:lnTo>
                      <a:pt x="234" y="185"/>
                    </a:lnTo>
                    <a:lnTo>
                      <a:pt x="243" y="192"/>
                    </a:lnTo>
                    <a:lnTo>
                      <a:pt x="251" y="200"/>
                    </a:lnTo>
                    <a:lnTo>
                      <a:pt x="226" y="200"/>
                    </a:lnTo>
                    <a:lnTo>
                      <a:pt x="201" y="208"/>
                    </a:lnTo>
                    <a:lnTo>
                      <a:pt x="176" y="215"/>
                    </a:lnTo>
                    <a:lnTo>
                      <a:pt x="151" y="231"/>
                    </a:lnTo>
                    <a:lnTo>
                      <a:pt x="126" y="246"/>
                    </a:lnTo>
                    <a:lnTo>
                      <a:pt x="109" y="262"/>
                    </a:lnTo>
                    <a:lnTo>
                      <a:pt x="84" y="285"/>
                    </a:lnTo>
                    <a:lnTo>
                      <a:pt x="67" y="308"/>
                    </a:lnTo>
                    <a:lnTo>
                      <a:pt x="51" y="331"/>
                    </a:lnTo>
                    <a:lnTo>
                      <a:pt x="34" y="354"/>
                    </a:lnTo>
                    <a:lnTo>
                      <a:pt x="17" y="377"/>
                    </a:lnTo>
                    <a:lnTo>
                      <a:pt x="9" y="408"/>
                    </a:lnTo>
                    <a:lnTo>
                      <a:pt x="0" y="431"/>
                    </a:lnTo>
                    <a:lnTo>
                      <a:pt x="0" y="462"/>
                    </a:lnTo>
                    <a:lnTo>
                      <a:pt x="0" y="485"/>
                    </a:lnTo>
                    <a:lnTo>
                      <a:pt x="0" y="508"/>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Freeform 261"/>
              <p:cNvSpPr/>
              <p:nvPr/>
            </p:nvSpPr>
            <p:spPr>
              <a:xfrm flipH="1">
                <a:off x="441720" y="1122840"/>
                <a:ext cx="186480" cy="344880"/>
              </a:xfrm>
              <a:custGeom>
                <a:avLst/>
                <a:gdLst>
                  <a:gd name="textAreaLeft" fmla="*/ 360 w 186480"/>
                  <a:gd name="textAreaRight" fmla="*/ 187200 w 186480"/>
                  <a:gd name="textAreaTop" fmla="*/ 0 h 344880"/>
                  <a:gd name="textAreaBottom" fmla="*/ 345240 h 344880"/>
                </a:gdLst>
                <a:ahLst/>
                <a:rect l="textAreaLeft" t="textAreaTop" r="textAreaRight" b="textAreaBottom"/>
                <a:pathLst>
                  <a:path w="936" h="1646">
                    <a:moveTo>
                      <a:pt x="0" y="508"/>
                    </a:moveTo>
                    <a:lnTo>
                      <a:pt x="9" y="492"/>
                    </a:lnTo>
                    <a:lnTo>
                      <a:pt x="9" y="477"/>
                    </a:lnTo>
                    <a:lnTo>
                      <a:pt x="17" y="462"/>
                    </a:lnTo>
                    <a:lnTo>
                      <a:pt x="25" y="454"/>
                    </a:lnTo>
                    <a:lnTo>
                      <a:pt x="34" y="438"/>
                    </a:lnTo>
                    <a:lnTo>
                      <a:pt x="34" y="423"/>
                    </a:lnTo>
                    <a:lnTo>
                      <a:pt x="42" y="408"/>
                    </a:lnTo>
                    <a:lnTo>
                      <a:pt x="51" y="400"/>
                    </a:lnTo>
                    <a:lnTo>
                      <a:pt x="59" y="385"/>
                    </a:lnTo>
                    <a:lnTo>
                      <a:pt x="67" y="369"/>
                    </a:lnTo>
                    <a:lnTo>
                      <a:pt x="76" y="362"/>
                    </a:lnTo>
                    <a:lnTo>
                      <a:pt x="84" y="346"/>
                    </a:lnTo>
                    <a:lnTo>
                      <a:pt x="101" y="338"/>
                    </a:lnTo>
                    <a:lnTo>
                      <a:pt x="109" y="323"/>
                    </a:lnTo>
                    <a:lnTo>
                      <a:pt x="117" y="315"/>
                    </a:lnTo>
                    <a:lnTo>
                      <a:pt x="126" y="300"/>
                    </a:lnTo>
                    <a:lnTo>
                      <a:pt x="109" y="331"/>
                    </a:lnTo>
                    <a:lnTo>
                      <a:pt x="101" y="362"/>
                    </a:lnTo>
                    <a:lnTo>
                      <a:pt x="84" y="392"/>
                    </a:lnTo>
                    <a:lnTo>
                      <a:pt x="84" y="423"/>
                    </a:lnTo>
                    <a:lnTo>
                      <a:pt x="76" y="462"/>
                    </a:lnTo>
                    <a:lnTo>
                      <a:pt x="76" y="492"/>
                    </a:lnTo>
                    <a:lnTo>
                      <a:pt x="84" y="538"/>
                    </a:lnTo>
                    <a:lnTo>
                      <a:pt x="92" y="585"/>
                    </a:lnTo>
                    <a:lnTo>
                      <a:pt x="101" y="554"/>
                    </a:lnTo>
                    <a:lnTo>
                      <a:pt x="109" y="531"/>
                    </a:lnTo>
                    <a:lnTo>
                      <a:pt x="117" y="508"/>
                    </a:lnTo>
                    <a:lnTo>
                      <a:pt x="126" y="485"/>
                    </a:lnTo>
                    <a:lnTo>
                      <a:pt x="134" y="462"/>
                    </a:lnTo>
                    <a:lnTo>
                      <a:pt x="151" y="446"/>
                    </a:lnTo>
                    <a:lnTo>
                      <a:pt x="159" y="431"/>
                    </a:lnTo>
                    <a:lnTo>
                      <a:pt x="176" y="415"/>
                    </a:lnTo>
                    <a:lnTo>
                      <a:pt x="168" y="446"/>
                    </a:lnTo>
                    <a:lnTo>
                      <a:pt x="159" y="469"/>
                    </a:lnTo>
                    <a:lnTo>
                      <a:pt x="159" y="485"/>
                    </a:lnTo>
                    <a:lnTo>
                      <a:pt x="159" y="508"/>
                    </a:lnTo>
                    <a:lnTo>
                      <a:pt x="159" y="531"/>
                    </a:lnTo>
                    <a:lnTo>
                      <a:pt x="159" y="554"/>
                    </a:lnTo>
                    <a:lnTo>
                      <a:pt x="168" y="577"/>
                    </a:lnTo>
                    <a:lnTo>
                      <a:pt x="176" y="600"/>
                    </a:lnTo>
                    <a:lnTo>
                      <a:pt x="176" y="585"/>
                    </a:lnTo>
                    <a:lnTo>
                      <a:pt x="176" y="562"/>
                    </a:lnTo>
                    <a:lnTo>
                      <a:pt x="184" y="546"/>
                    </a:lnTo>
                    <a:lnTo>
                      <a:pt x="193" y="531"/>
                    </a:lnTo>
                    <a:lnTo>
                      <a:pt x="201" y="523"/>
                    </a:lnTo>
                    <a:lnTo>
                      <a:pt x="209" y="508"/>
                    </a:lnTo>
                    <a:lnTo>
                      <a:pt x="218" y="492"/>
                    </a:lnTo>
                    <a:lnTo>
                      <a:pt x="234" y="485"/>
                    </a:lnTo>
                    <a:lnTo>
                      <a:pt x="226" y="492"/>
                    </a:lnTo>
                    <a:lnTo>
                      <a:pt x="218" y="508"/>
                    </a:lnTo>
                    <a:lnTo>
                      <a:pt x="209" y="523"/>
                    </a:lnTo>
                    <a:lnTo>
                      <a:pt x="209" y="546"/>
                    </a:lnTo>
                    <a:lnTo>
                      <a:pt x="201" y="569"/>
                    </a:lnTo>
                    <a:lnTo>
                      <a:pt x="201" y="592"/>
                    </a:lnTo>
                    <a:lnTo>
                      <a:pt x="209" y="608"/>
                    </a:lnTo>
                    <a:lnTo>
                      <a:pt x="218" y="631"/>
                    </a:lnTo>
                    <a:lnTo>
                      <a:pt x="226" y="646"/>
                    </a:lnTo>
                    <a:lnTo>
                      <a:pt x="234" y="669"/>
                    </a:lnTo>
                    <a:lnTo>
                      <a:pt x="251" y="685"/>
                    </a:lnTo>
                    <a:lnTo>
                      <a:pt x="259" y="692"/>
                    </a:lnTo>
                    <a:lnTo>
                      <a:pt x="276" y="708"/>
                    </a:lnTo>
                    <a:lnTo>
                      <a:pt x="293" y="715"/>
                    </a:lnTo>
                    <a:lnTo>
                      <a:pt x="301" y="723"/>
                    </a:lnTo>
                    <a:lnTo>
                      <a:pt x="318" y="738"/>
                    </a:lnTo>
                    <a:lnTo>
                      <a:pt x="326" y="746"/>
                    </a:lnTo>
                    <a:lnTo>
                      <a:pt x="343" y="754"/>
                    </a:lnTo>
                    <a:lnTo>
                      <a:pt x="351" y="762"/>
                    </a:lnTo>
                    <a:lnTo>
                      <a:pt x="368" y="769"/>
                    </a:lnTo>
                    <a:lnTo>
                      <a:pt x="376" y="785"/>
                    </a:lnTo>
                    <a:lnTo>
                      <a:pt x="385" y="792"/>
                    </a:lnTo>
                    <a:lnTo>
                      <a:pt x="385" y="808"/>
                    </a:lnTo>
                    <a:lnTo>
                      <a:pt x="393" y="823"/>
                    </a:lnTo>
                    <a:lnTo>
                      <a:pt x="402" y="892"/>
                    </a:lnTo>
                    <a:lnTo>
                      <a:pt x="393" y="962"/>
                    </a:lnTo>
                    <a:lnTo>
                      <a:pt x="385" y="1031"/>
                    </a:lnTo>
                    <a:lnTo>
                      <a:pt x="376" y="1100"/>
                    </a:lnTo>
                    <a:lnTo>
                      <a:pt x="360" y="1169"/>
                    </a:lnTo>
                    <a:lnTo>
                      <a:pt x="351" y="1238"/>
                    </a:lnTo>
                    <a:lnTo>
                      <a:pt x="343" y="1308"/>
                    </a:lnTo>
                    <a:lnTo>
                      <a:pt x="343" y="1377"/>
                    </a:lnTo>
                    <a:lnTo>
                      <a:pt x="343" y="1408"/>
                    </a:lnTo>
                    <a:lnTo>
                      <a:pt x="351" y="1446"/>
                    </a:lnTo>
                    <a:lnTo>
                      <a:pt x="360" y="1485"/>
                    </a:lnTo>
                    <a:lnTo>
                      <a:pt x="368" y="1515"/>
                    </a:lnTo>
                    <a:lnTo>
                      <a:pt x="385" y="1554"/>
                    </a:lnTo>
                    <a:lnTo>
                      <a:pt x="402" y="1585"/>
                    </a:lnTo>
                    <a:lnTo>
                      <a:pt x="418" y="1615"/>
                    </a:lnTo>
                    <a:lnTo>
                      <a:pt x="435" y="1646"/>
                    </a:lnTo>
                    <a:lnTo>
                      <a:pt x="435" y="1623"/>
                    </a:lnTo>
                    <a:lnTo>
                      <a:pt x="443" y="1608"/>
                    </a:lnTo>
                    <a:lnTo>
                      <a:pt x="443" y="1592"/>
                    </a:lnTo>
                    <a:lnTo>
                      <a:pt x="443" y="1569"/>
                    </a:lnTo>
                    <a:lnTo>
                      <a:pt x="452" y="1554"/>
                    </a:lnTo>
                    <a:lnTo>
                      <a:pt x="452" y="1538"/>
                    </a:lnTo>
                    <a:lnTo>
                      <a:pt x="460" y="1523"/>
                    </a:lnTo>
                    <a:lnTo>
                      <a:pt x="468" y="1508"/>
                    </a:lnTo>
                    <a:lnTo>
                      <a:pt x="477" y="1500"/>
                    </a:lnTo>
                    <a:lnTo>
                      <a:pt x="477" y="1492"/>
                    </a:lnTo>
                    <a:lnTo>
                      <a:pt x="485" y="1485"/>
                    </a:lnTo>
                    <a:lnTo>
                      <a:pt x="493" y="1469"/>
                    </a:lnTo>
                    <a:lnTo>
                      <a:pt x="502" y="1462"/>
                    </a:lnTo>
                    <a:lnTo>
                      <a:pt x="510" y="1454"/>
                    </a:lnTo>
                    <a:lnTo>
                      <a:pt x="527" y="1454"/>
                    </a:lnTo>
                    <a:lnTo>
                      <a:pt x="535" y="1446"/>
                    </a:lnTo>
                    <a:lnTo>
                      <a:pt x="544" y="1438"/>
                    </a:lnTo>
                    <a:lnTo>
                      <a:pt x="552" y="1431"/>
                    </a:lnTo>
                    <a:lnTo>
                      <a:pt x="560" y="1431"/>
                    </a:lnTo>
                    <a:lnTo>
                      <a:pt x="577" y="1423"/>
                    </a:lnTo>
                    <a:lnTo>
                      <a:pt x="585" y="1423"/>
                    </a:lnTo>
                    <a:lnTo>
                      <a:pt x="594" y="1415"/>
                    </a:lnTo>
                    <a:lnTo>
                      <a:pt x="610" y="1415"/>
                    </a:lnTo>
                    <a:lnTo>
                      <a:pt x="619" y="1415"/>
                    </a:lnTo>
                    <a:lnTo>
                      <a:pt x="636" y="1408"/>
                    </a:lnTo>
                    <a:lnTo>
                      <a:pt x="661" y="1408"/>
                    </a:lnTo>
                    <a:lnTo>
                      <a:pt x="677" y="1408"/>
                    </a:lnTo>
                    <a:lnTo>
                      <a:pt x="694" y="1408"/>
                    </a:lnTo>
                    <a:lnTo>
                      <a:pt x="711" y="1408"/>
                    </a:lnTo>
                    <a:lnTo>
                      <a:pt x="736" y="1408"/>
                    </a:lnTo>
                    <a:lnTo>
                      <a:pt x="753" y="1408"/>
                    </a:lnTo>
                    <a:lnTo>
                      <a:pt x="769" y="1415"/>
                    </a:lnTo>
                    <a:lnTo>
                      <a:pt x="794" y="1415"/>
                    </a:lnTo>
                    <a:lnTo>
                      <a:pt x="811" y="1415"/>
                    </a:lnTo>
                    <a:lnTo>
                      <a:pt x="828" y="1423"/>
                    </a:lnTo>
                    <a:lnTo>
                      <a:pt x="844" y="1423"/>
                    </a:lnTo>
                    <a:lnTo>
                      <a:pt x="870" y="1431"/>
                    </a:lnTo>
                    <a:lnTo>
                      <a:pt x="886" y="1431"/>
                    </a:lnTo>
                    <a:lnTo>
                      <a:pt x="903" y="1438"/>
                    </a:lnTo>
                    <a:lnTo>
                      <a:pt x="920" y="1438"/>
                    </a:lnTo>
                    <a:lnTo>
                      <a:pt x="928" y="1392"/>
                    </a:lnTo>
                    <a:lnTo>
                      <a:pt x="936" y="1346"/>
                    </a:lnTo>
                    <a:lnTo>
                      <a:pt x="936" y="1300"/>
                    </a:lnTo>
                    <a:lnTo>
                      <a:pt x="936" y="1254"/>
                    </a:lnTo>
                    <a:lnTo>
                      <a:pt x="936" y="1200"/>
                    </a:lnTo>
                    <a:lnTo>
                      <a:pt x="936" y="1154"/>
                    </a:lnTo>
                    <a:lnTo>
                      <a:pt x="928" y="1108"/>
                    </a:lnTo>
                    <a:lnTo>
                      <a:pt x="920" y="1062"/>
                    </a:lnTo>
                    <a:lnTo>
                      <a:pt x="920" y="1038"/>
                    </a:lnTo>
                    <a:lnTo>
                      <a:pt x="911" y="1015"/>
                    </a:lnTo>
                    <a:lnTo>
                      <a:pt x="903" y="992"/>
                    </a:lnTo>
                    <a:lnTo>
                      <a:pt x="895" y="977"/>
                    </a:lnTo>
                    <a:lnTo>
                      <a:pt x="886" y="954"/>
                    </a:lnTo>
                    <a:lnTo>
                      <a:pt x="878" y="938"/>
                    </a:lnTo>
                    <a:lnTo>
                      <a:pt x="870" y="915"/>
                    </a:lnTo>
                    <a:lnTo>
                      <a:pt x="861" y="900"/>
                    </a:lnTo>
                    <a:lnTo>
                      <a:pt x="853" y="885"/>
                    </a:lnTo>
                    <a:lnTo>
                      <a:pt x="844" y="862"/>
                    </a:lnTo>
                    <a:lnTo>
                      <a:pt x="828" y="846"/>
                    </a:lnTo>
                    <a:lnTo>
                      <a:pt x="819" y="831"/>
                    </a:lnTo>
                    <a:lnTo>
                      <a:pt x="811" y="808"/>
                    </a:lnTo>
                    <a:lnTo>
                      <a:pt x="794" y="792"/>
                    </a:lnTo>
                    <a:lnTo>
                      <a:pt x="786" y="777"/>
                    </a:lnTo>
                    <a:lnTo>
                      <a:pt x="778" y="754"/>
                    </a:lnTo>
                    <a:lnTo>
                      <a:pt x="786" y="731"/>
                    </a:lnTo>
                    <a:lnTo>
                      <a:pt x="794" y="708"/>
                    </a:lnTo>
                    <a:lnTo>
                      <a:pt x="803" y="685"/>
                    </a:lnTo>
                    <a:lnTo>
                      <a:pt x="803" y="662"/>
                    </a:lnTo>
                    <a:lnTo>
                      <a:pt x="811" y="638"/>
                    </a:lnTo>
                    <a:lnTo>
                      <a:pt x="819" y="608"/>
                    </a:lnTo>
                    <a:lnTo>
                      <a:pt x="819" y="585"/>
                    </a:lnTo>
                    <a:lnTo>
                      <a:pt x="819" y="562"/>
                    </a:lnTo>
                    <a:lnTo>
                      <a:pt x="819" y="531"/>
                    </a:lnTo>
                    <a:lnTo>
                      <a:pt x="819" y="500"/>
                    </a:lnTo>
                    <a:lnTo>
                      <a:pt x="819" y="469"/>
                    </a:lnTo>
                    <a:lnTo>
                      <a:pt x="811" y="438"/>
                    </a:lnTo>
                    <a:lnTo>
                      <a:pt x="811" y="408"/>
                    </a:lnTo>
                    <a:lnTo>
                      <a:pt x="803" y="377"/>
                    </a:lnTo>
                    <a:lnTo>
                      <a:pt x="794" y="346"/>
                    </a:lnTo>
                    <a:lnTo>
                      <a:pt x="778" y="315"/>
                    </a:lnTo>
                    <a:lnTo>
                      <a:pt x="778" y="308"/>
                    </a:lnTo>
                    <a:lnTo>
                      <a:pt x="769" y="292"/>
                    </a:lnTo>
                    <a:lnTo>
                      <a:pt x="761" y="285"/>
                    </a:lnTo>
                    <a:lnTo>
                      <a:pt x="744" y="269"/>
                    </a:lnTo>
                    <a:lnTo>
                      <a:pt x="736" y="262"/>
                    </a:lnTo>
                    <a:lnTo>
                      <a:pt x="727" y="246"/>
                    </a:lnTo>
                    <a:lnTo>
                      <a:pt x="719" y="238"/>
                    </a:lnTo>
                    <a:lnTo>
                      <a:pt x="702" y="231"/>
                    </a:lnTo>
                    <a:lnTo>
                      <a:pt x="694" y="223"/>
                    </a:lnTo>
                    <a:lnTo>
                      <a:pt x="677" y="215"/>
                    </a:lnTo>
                    <a:lnTo>
                      <a:pt x="669" y="208"/>
                    </a:lnTo>
                    <a:lnTo>
                      <a:pt x="652" y="200"/>
                    </a:lnTo>
                    <a:lnTo>
                      <a:pt x="636" y="192"/>
                    </a:lnTo>
                    <a:lnTo>
                      <a:pt x="627" y="185"/>
                    </a:lnTo>
                    <a:lnTo>
                      <a:pt x="610" y="185"/>
                    </a:lnTo>
                    <a:lnTo>
                      <a:pt x="594" y="177"/>
                    </a:lnTo>
                    <a:lnTo>
                      <a:pt x="585" y="177"/>
                    </a:lnTo>
                    <a:lnTo>
                      <a:pt x="569" y="177"/>
                    </a:lnTo>
                    <a:lnTo>
                      <a:pt x="560" y="177"/>
                    </a:lnTo>
                    <a:lnTo>
                      <a:pt x="552" y="177"/>
                    </a:lnTo>
                    <a:lnTo>
                      <a:pt x="535" y="177"/>
                    </a:lnTo>
                    <a:lnTo>
                      <a:pt x="527" y="177"/>
                    </a:lnTo>
                    <a:lnTo>
                      <a:pt x="519" y="177"/>
                    </a:lnTo>
                    <a:lnTo>
                      <a:pt x="510" y="177"/>
                    </a:lnTo>
                    <a:lnTo>
                      <a:pt x="493" y="177"/>
                    </a:lnTo>
                    <a:lnTo>
                      <a:pt x="485" y="177"/>
                    </a:lnTo>
                    <a:lnTo>
                      <a:pt x="477" y="185"/>
                    </a:lnTo>
                    <a:lnTo>
                      <a:pt x="468" y="185"/>
                    </a:lnTo>
                    <a:lnTo>
                      <a:pt x="460" y="185"/>
                    </a:lnTo>
                    <a:lnTo>
                      <a:pt x="452" y="185"/>
                    </a:lnTo>
                    <a:lnTo>
                      <a:pt x="443" y="192"/>
                    </a:lnTo>
                    <a:lnTo>
                      <a:pt x="435" y="192"/>
                    </a:lnTo>
                    <a:lnTo>
                      <a:pt x="443" y="177"/>
                    </a:lnTo>
                    <a:lnTo>
                      <a:pt x="443" y="162"/>
                    </a:lnTo>
                    <a:lnTo>
                      <a:pt x="452" y="146"/>
                    </a:lnTo>
                    <a:lnTo>
                      <a:pt x="468" y="138"/>
                    </a:lnTo>
                    <a:lnTo>
                      <a:pt x="477" y="123"/>
                    </a:lnTo>
                    <a:lnTo>
                      <a:pt x="493" y="115"/>
                    </a:lnTo>
                    <a:lnTo>
                      <a:pt x="510" y="100"/>
                    </a:lnTo>
                    <a:lnTo>
                      <a:pt x="527" y="92"/>
                    </a:lnTo>
                    <a:lnTo>
                      <a:pt x="510" y="92"/>
                    </a:lnTo>
                    <a:lnTo>
                      <a:pt x="493" y="92"/>
                    </a:lnTo>
                    <a:lnTo>
                      <a:pt x="477" y="92"/>
                    </a:lnTo>
                    <a:lnTo>
                      <a:pt x="468" y="100"/>
                    </a:lnTo>
                    <a:lnTo>
                      <a:pt x="452" y="100"/>
                    </a:lnTo>
                    <a:lnTo>
                      <a:pt x="443" y="108"/>
                    </a:lnTo>
                    <a:lnTo>
                      <a:pt x="427" y="115"/>
                    </a:lnTo>
                    <a:lnTo>
                      <a:pt x="418" y="115"/>
                    </a:lnTo>
                    <a:lnTo>
                      <a:pt x="410" y="123"/>
                    </a:lnTo>
                    <a:lnTo>
                      <a:pt x="402" y="131"/>
                    </a:lnTo>
                    <a:lnTo>
                      <a:pt x="385" y="138"/>
                    </a:lnTo>
                    <a:lnTo>
                      <a:pt x="376" y="146"/>
                    </a:lnTo>
                    <a:lnTo>
                      <a:pt x="368" y="154"/>
                    </a:lnTo>
                    <a:lnTo>
                      <a:pt x="360" y="162"/>
                    </a:lnTo>
                    <a:lnTo>
                      <a:pt x="351" y="169"/>
                    </a:lnTo>
                    <a:lnTo>
                      <a:pt x="343" y="177"/>
                    </a:lnTo>
                    <a:lnTo>
                      <a:pt x="343" y="154"/>
                    </a:lnTo>
                    <a:lnTo>
                      <a:pt x="343" y="131"/>
                    </a:lnTo>
                    <a:lnTo>
                      <a:pt x="343" y="115"/>
                    </a:lnTo>
                    <a:lnTo>
                      <a:pt x="343" y="92"/>
                    </a:lnTo>
                    <a:lnTo>
                      <a:pt x="351" y="69"/>
                    </a:lnTo>
                    <a:lnTo>
                      <a:pt x="351" y="46"/>
                    </a:lnTo>
                    <a:lnTo>
                      <a:pt x="360" y="23"/>
                    </a:lnTo>
                    <a:lnTo>
                      <a:pt x="368" y="0"/>
                    </a:lnTo>
                    <a:lnTo>
                      <a:pt x="351" y="23"/>
                    </a:lnTo>
                    <a:lnTo>
                      <a:pt x="335" y="38"/>
                    </a:lnTo>
                    <a:lnTo>
                      <a:pt x="326" y="62"/>
                    </a:lnTo>
                    <a:lnTo>
                      <a:pt x="310" y="77"/>
                    </a:lnTo>
                    <a:lnTo>
                      <a:pt x="310" y="100"/>
                    </a:lnTo>
                    <a:lnTo>
                      <a:pt x="301" y="131"/>
                    </a:lnTo>
                    <a:lnTo>
                      <a:pt x="301" y="154"/>
                    </a:lnTo>
                    <a:lnTo>
                      <a:pt x="301" y="192"/>
                    </a:lnTo>
                    <a:lnTo>
                      <a:pt x="293" y="177"/>
                    </a:lnTo>
                    <a:lnTo>
                      <a:pt x="285" y="169"/>
                    </a:lnTo>
                    <a:lnTo>
                      <a:pt x="276" y="154"/>
                    </a:lnTo>
                    <a:lnTo>
                      <a:pt x="259" y="146"/>
                    </a:lnTo>
                    <a:lnTo>
                      <a:pt x="251" y="138"/>
                    </a:lnTo>
                    <a:lnTo>
                      <a:pt x="243" y="123"/>
                    </a:lnTo>
                    <a:lnTo>
                      <a:pt x="226" y="115"/>
                    </a:lnTo>
                    <a:lnTo>
                      <a:pt x="218" y="108"/>
                    </a:lnTo>
                    <a:lnTo>
                      <a:pt x="209" y="108"/>
                    </a:lnTo>
                    <a:lnTo>
                      <a:pt x="193" y="100"/>
                    </a:lnTo>
                    <a:lnTo>
                      <a:pt x="184" y="100"/>
                    </a:lnTo>
                    <a:lnTo>
                      <a:pt x="168" y="92"/>
                    </a:lnTo>
                    <a:lnTo>
                      <a:pt x="159" y="92"/>
                    </a:lnTo>
                    <a:lnTo>
                      <a:pt x="151" y="92"/>
                    </a:lnTo>
                    <a:lnTo>
                      <a:pt x="134" y="100"/>
                    </a:lnTo>
                    <a:lnTo>
                      <a:pt x="126" y="108"/>
                    </a:lnTo>
                    <a:lnTo>
                      <a:pt x="134" y="108"/>
                    </a:lnTo>
                    <a:lnTo>
                      <a:pt x="142" y="108"/>
                    </a:lnTo>
                    <a:lnTo>
                      <a:pt x="151" y="115"/>
                    </a:lnTo>
                    <a:lnTo>
                      <a:pt x="159" y="115"/>
                    </a:lnTo>
                    <a:lnTo>
                      <a:pt x="168" y="123"/>
                    </a:lnTo>
                    <a:lnTo>
                      <a:pt x="176" y="123"/>
                    </a:lnTo>
                    <a:lnTo>
                      <a:pt x="184" y="131"/>
                    </a:lnTo>
                    <a:lnTo>
                      <a:pt x="201" y="138"/>
                    </a:lnTo>
                    <a:lnTo>
                      <a:pt x="201" y="146"/>
                    </a:lnTo>
                    <a:lnTo>
                      <a:pt x="209" y="154"/>
                    </a:lnTo>
                    <a:lnTo>
                      <a:pt x="218" y="162"/>
                    </a:lnTo>
                    <a:lnTo>
                      <a:pt x="226" y="169"/>
                    </a:lnTo>
                    <a:lnTo>
                      <a:pt x="234" y="177"/>
                    </a:lnTo>
                    <a:lnTo>
                      <a:pt x="234" y="185"/>
                    </a:lnTo>
                    <a:lnTo>
                      <a:pt x="243" y="192"/>
                    </a:lnTo>
                    <a:lnTo>
                      <a:pt x="251" y="200"/>
                    </a:lnTo>
                    <a:lnTo>
                      <a:pt x="226" y="200"/>
                    </a:lnTo>
                    <a:lnTo>
                      <a:pt x="201" y="208"/>
                    </a:lnTo>
                    <a:lnTo>
                      <a:pt x="176" y="215"/>
                    </a:lnTo>
                    <a:lnTo>
                      <a:pt x="151" y="231"/>
                    </a:lnTo>
                    <a:lnTo>
                      <a:pt x="126" y="246"/>
                    </a:lnTo>
                    <a:lnTo>
                      <a:pt x="109" y="262"/>
                    </a:lnTo>
                    <a:lnTo>
                      <a:pt x="84" y="285"/>
                    </a:lnTo>
                    <a:lnTo>
                      <a:pt x="67" y="308"/>
                    </a:lnTo>
                    <a:lnTo>
                      <a:pt x="51" y="331"/>
                    </a:lnTo>
                    <a:lnTo>
                      <a:pt x="34" y="354"/>
                    </a:lnTo>
                    <a:lnTo>
                      <a:pt x="17" y="377"/>
                    </a:lnTo>
                    <a:lnTo>
                      <a:pt x="9" y="408"/>
                    </a:lnTo>
                    <a:lnTo>
                      <a:pt x="0" y="431"/>
                    </a:lnTo>
                    <a:lnTo>
                      <a:pt x="0" y="462"/>
                    </a:lnTo>
                    <a:lnTo>
                      <a:pt x="0" y="485"/>
                    </a:lnTo>
                    <a:lnTo>
                      <a:pt x="0" y="508"/>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Freeform 260"/>
              <p:cNvSpPr/>
              <p:nvPr/>
            </p:nvSpPr>
            <p:spPr>
              <a:xfrm flipH="1">
                <a:off x="577800" y="1164600"/>
                <a:ext cx="50040" cy="64440"/>
              </a:xfrm>
              <a:custGeom>
                <a:avLst/>
                <a:gdLst>
                  <a:gd name="textAreaLeft" fmla="*/ -360 w 50040"/>
                  <a:gd name="textAreaRight" fmla="*/ 50040 w 50040"/>
                  <a:gd name="textAreaTop" fmla="*/ 0 h 64440"/>
                  <a:gd name="textAreaBottom" fmla="*/ 64800 h 64440"/>
                </a:gdLst>
                <a:ahLst/>
                <a:rect l="textAreaLeft" t="textAreaTop" r="textAreaRight" b="textAreaBottom"/>
                <a:pathLst>
                  <a:path w="251" h="308">
                    <a:moveTo>
                      <a:pt x="251" y="0"/>
                    </a:moveTo>
                    <a:lnTo>
                      <a:pt x="226" y="0"/>
                    </a:lnTo>
                    <a:lnTo>
                      <a:pt x="201" y="8"/>
                    </a:lnTo>
                    <a:lnTo>
                      <a:pt x="176" y="15"/>
                    </a:lnTo>
                    <a:lnTo>
                      <a:pt x="151" y="31"/>
                    </a:lnTo>
                    <a:lnTo>
                      <a:pt x="126" y="46"/>
                    </a:lnTo>
                    <a:lnTo>
                      <a:pt x="109" y="62"/>
                    </a:lnTo>
                    <a:lnTo>
                      <a:pt x="84" y="85"/>
                    </a:lnTo>
                    <a:lnTo>
                      <a:pt x="67" y="108"/>
                    </a:lnTo>
                    <a:lnTo>
                      <a:pt x="51" y="131"/>
                    </a:lnTo>
                    <a:lnTo>
                      <a:pt x="34" y="154"/>
                    </a:lnTo>
                    <a:lnTo>
                      <a:pt x="17" y="177"/>
                    </a:lnTo>
                    <a:lnTo>
                      <a:pt x="9" y="208"/>
                    </a:lnTo>
                    <a:lnTo>
                      <a:pt x="0" y="231"/>
                    </a:lnTo>
                    <a:lnTo>
                      <a:pt x="0" y="262"/>
                    </a:lnTo>
                    <a:lnTo>
                      <a:pt x="0" y="285"/>
                    </a:lnTo>
                    <a:lnTo>
                      <a:pt x="0" y="308"/>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Freeform 259"/>
              <p:cNvSpPr/>
              <p:nvPr/>
            </p:nvSpPr>
            <p:spPr>
              <a:xfrm flipH="1">
                <a:off x="554760" y="1122840"/>
                <a:ext cx="48240" cy="39960"/>
              </a:xfrm>
              <a:custGeom>
                <a:avLst/>
                <a:gdLst>
                  <a:gd name="textAreaLeft" fmla="*/ 360 w 48240"/>
                  <a:gd name="textAreaRight" fmla="*/ 48960 w 48240"/>
                  <a:gd name="textAreaTop" fmla="*/ 0 h 39960"/>
                  <a:gd name="textAreaBottom" fmla="*/ 40320 h 39960"/>
                </a:gdLst>
                <a:ahLst/>
                <a:rect l="textAreaLeft" t="textAreaTop" r="textAreaRight" b="textAreaBottom"/>
                <a:pathLst>
                  <a:path w="242" h="192">
                    <a:moveTo>
                      <a:pt x="242" y="0"/>
                    </a:moveTo>
                    <a:lnTo>
                      <a:pt x="225" y="23"/>
                    </a:lnTo>
                    <a:lnTo>
                      <a:pt x="209" y="38"/>
                    </a:lnTo>
                    <a:lnTo>
                      <a:pt x="200" y="62"/>
                    </a:lnTo>
                    <a:lnTo>
                      <a:pt x="184" y="77"/>
                    </a:lnTo>
                    <a:lnTo>
                      <a:pt x="184" y="100"/>
                    </a:lnTo>
                    <a:lnTo>
                      <a:pt x="175" y="131"/>
                    </a:lnTo>
                    <a:lnTo>
                      <a:pt x="175" y="154"/>
                    </a:lnTo>
                    <a:lnTo>
                      <a:pt x="175" y="192"/>
                    </a:lnTo>
                    <a:lnTo>
                      <a:pt x="167" y="177"/>
                    </a:lnTo>
                    <a:lnTo>
                      <a:pt x="159" y="169"/>
                    </a:lnTo>
                    <a:lnTo>
                      <a:pt x="150" y="154"/>
                    </a:lnTo>
                    <a:lnTo>
                      <a:pt x="133" y="146"/>
                    </a:lnTo>
                    <a:lnTo>
                      <a:pt x="125" y="138"/>
                    </a:lnTo>
                    <a:lnTo>
                      <a:pt x="117" y="123"/>
                    </a:lnTo>
                    <a:lnTo>
                      <a:pt x="100" y="115"/>
                    </a:lnTo>
                    <a:lnTo>
                      <a:pt x="92" y="108"/>
                    </a:lnTo>
                    <a:lnTo>
                      <a:pt x="83" y="108"/>
                    </a:lnTo>
                    <a:lnTo>
                      <a:pt x="67" y="100"/>
                    </a:lnTo>
                    <a:lnTo>
                      <a:pt x="58" y="100"/>
                    </a:lnTo>
                    <a:lnTo>
                      <a:pt x="42" y="92"/>
                    </a:lnTo>
                    <a:lnTo>
                      <a:pt x="33" y="92"/>
                    </a:lnTo>
                    <a:lnTo>
                      <a:pt x="25" y="92"/>
                    </a:lnTo>
                    <a:lnTo>
                      <a:pt x="8" y="100"/>
                    </a:lnTo>
                    <a:lnTo>
                      <a:pt x="0" y="108"/>
                    </a:lnTo>
                  </a:path>
                </a:pathLst>
              </a:custGeom>
              <a:noFill/>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Freeform 258"/>
              <p:cNvSpPr/>
              <p:nvPr/>
            </p:nvSpPr>
            <p:spPr>
              <a:xfrm flipH="1">
                <a:off x="523080" y="1141920"/>
                <a:ext cx="36360" cy="17640"/>
              </a:xfrm>
              <a:custGeom>
                <a:avLst/>
                <a:gdLst>
                  <a:gd name="textAreaLeft" fmla="*/ -360 w 36360"/>
                  <a:gd name="textAreaRight" fmla="*/ 36360 w 36360"/>
                  <a:gd name="textAreaTop" fmla="*/ 0 h 17640"/>
                  <a:gd name="textAreaBottom" fmla="*/ 18000 h 17640"/>
                </a:gdLst>
                <a:ahLst/>
                <a:rect l="textAreaLeft" t="textAreaTop" r="textAreaRight" b="textAreaBottom"/>
                <a:pathLst>
                  <a:path w="184" h="85">
                    <a:moveTo>
                      <a:pt x="184" y="0"/>
                    </a:moveTo>
                    <a:lnTo>
                      <a:pt x="167" y="0"/>
                    </a:lnTo>
                    <a:lnTo>
                      <a:pt x="150" y="0"/>
                    </a:lnTo>
                    <a:lnTo>
                      <a:pt x="134" y="0"/>
                    </a:lnTo>
                    <a:lnTo>
                      <a:pt x="125" y="8"/>
                    </a:lnTo>
                    <a:lnTo>
                      <a:pt x="109" y="8"/>
                    </a:lnTo>
                    <a:lnTo>
                      <a:pt x="100" y="16"/>
                    </a:lnTo>
                    <a:lnTo>
                      <a:pt x="84" y="23"/>
                    </a:lnTo>
                    <a:lnTo>
                      <a:pt x="75" y="23"/>
                    </a:lnTo>
                    <a:lnTo>
                      <a:pt x="67" y="31"/>
                    </a:lnTo>
                    <a:lnTo>
                      <a:pt x="59" y="39"/>
                    </a:lnTo>
                    <a:lnTo>
                      <a:pt x="42" y="46"/>
                    </a:lnTo>
                    <a:lnTo>
                      <a:pt x="33" y="54"/>
                    </a:lnTo>
                    <a:lnTo>
                      <a:pt x="25" y="62"/>
                    </a:lnTo>
                    <a:lnTo>
                      <a:pt x="17" y="70"/>
                    </a:lnTo>
                    <a:lnTo>
                      <a:pt x="8" y="77"/>
                    </a:lnTo>
                    <a:lnTo>
                      <a:pt x="0" y="85"/>
                    </a:lnTo>
                  </a:path>
                </a:pathLst>
              </a:custGeom>
              <a:noFill/>
              <a:ln w="0">
                <a:solidFill>
                  <a:srgbClr val="000000"/>
                </a:solidFill>
              </a:ln>
            </p:spPr>
            <p:style>
              <a:lnRef idx="0"/>
              <a:fillRef idx="0"/>
              <a:effectRef idx="0"/>
              <a:fontRef idx="minor"/>
            </p:style>
            <p:txBody>
              <a:bodyPr lIns="90000" rIns="90000" tIns="-28800" bIns="-28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Freeform 257"/>
              <p:cNvSpPr/>
              <p:nvPr/>
            </p:nvSpPr>
            <p:spPr>
              <a:xfrm flipH="1">
                <a:off x="441000" y="1159920"/>
                <a:ext cx="146520" cy="307800"/>
              </a:xfrm>
              <a:custGeom>
                <a:avLst/>
                <a:gdLst>
                  <a:gd name="textAreaLeft" fmla="*/ -360 w 146520"/>
                  <a:gd name="textAreaRight" fmla="*/ 146520 w 146520"/>
                  <a:gd name="textAreaTop" fmla="*/ 0 h 307800"/>
                  <a:gd name="textAreaBottom" fmla="*/ 308160 h 307800"/>
                </a:gdLst>
                <a:ahLst/>
                <a:rect l="textAreaLeft" t="textAreaTop" r="textAreaRight" b="textAreaBottom"/>
                <a:pathLst>
                  <a:path w="735" h="1469">
                    <a:moveTo>
                      <a:pt x="33" y="308"/>
                    </a:moveTo>
                    <a:lnTo>
                      <a:pt x="25" y="315"/>
                    </a:lnTo>
                    <a:lnTo>
                      <a:pt x="17" y="331"/>
                    </a:lnTo>
                    <a:lnTo>
                      <a:pt x="8" y="346"/>
                    </a:lnTo>
                    <a:lnTo>
                      <a:pt x="8" y="369"/>
                    </a:lnTo>
                    <a:lnTo>
                      <a:pt x="0" y="392"/>
                    </a:lnTo>
                    <a:lnTo>
                      <a:pt x="0" y="415"/>
                    </a:lnTo>
                    <a:lnTo>
                      <a:pt x="8" y="431"/>
                    </a:lnTo>
                    <a:lnTo>
                      <a:pt x="17" y="454"/>
                    </a:lnTo>
                    <a:lnTo>
                      <a:pt x="25" y="469"/>
                    </a:lnTo>
                    <a:lnTo>
                      <a:pt x="33" y="492"/>
                    </a:lnTo>
                    <a:lnTo>
                      <a:pt x="50" y="508"/>
                    </a:lnTo>
                    <a:lnTo>
                      <a:pt x="58" y="515"/>
                    </a:lnTo>
                    <a:lnTo>
                      <a:pt x="75" y="531"/>
                    </a:lnTo>
                    <a:lnTo>
                      <a:pt x="92" y="538"/>
                    </a:lnTo>
                    <a:lnTo>
                      <a:pt x="100" y="546"/>
                    </a:lnTo>
                    <a:lnTo>
                      <a:pt x="117" y="561"/>
                    </a:lnTo>
                    <a:lnTo>
                      <a:pt x="125" y="569"/>
                    </a:lnTo>
                    <a:lnTo>
                      <a:pt x="142" y="577"/>
                    </a:lnTo>
                    <a:lnTo>
                      <a:pt x="150" y="585"/>
                    </a:lnTo>
                    <a:lnTo>
                      <a:pt x="167" y="592"/>
                    </a:lnTo>
                    <a:lnTo>
                      <a:pt x="175" y="608"/>
                    </a:lnTo>
                    <a:lnTo>
                      <a:pt x="184" y="615"/>
                    </a:lnTo>
                    <a:lnTo>
                      <a:pt x="184" y="631"/>
                    </a:lnTo>
                    <a:lnTo>
                      <a:pt x="192" y="646"/>
                    </a:lnTo>
                    <a:lnTo>
                      <a:pt x="201" y="715"/>
                    </a:lnTo>
                    <a:lnTo>
                      <a:pt x="192" y="785"/>
                    </a:lnTo>
                    <a:lnTo>
                      <a:pt x="184" y="854"/>
                    </a:lnTo>
                    <a:lnTo>
                      <a:pt x="175" y="923"/>
                    </a:lnTo>
                    <a:lnTo>
                      <a:pt x="159" y="992"/>
                    </a:lnTo>
                    <a:lnTo>
                      <a:pt x="150" y="1061"/>
                    </a:lnTo>
                    <a:lnTo>
                      <a:pt x="142" y="1131"/>
                    </a:lnTo>
                    <a:lnTo>
                      <a:pt x="142" y="1200"/>
                    </a:lnTo>
                    <a:lnTo>
                      <a:pt x="142" y="1231"/>
                    </a:lnTo>
                    <a:lnTo>
                      <a:pt x="150" y="1269"/>
                    </a:lnTo>
                    <a:lnTo>
                      <a:pt x="159" y="1308"/>
                    </a:lnTo>
                    <a:lnTo>
                      <a:pt x="167" y="1338"/>
                    </a:lnTo>
                    <a:lnTo>
                      <a:pt x="184" y="1377"/>
                    </a:lnTo>
                    <a:lnTo>
                      <a:pt x="201" y="1408"/>
                    </a:lnTo>
                    <a:lnTo>
                      <a:pt x="217" y="1438"/>
                    </a:lnTo>
                    <a:lnTo>
                      <a:pt x="234" y="1469"/>
                    </a:lnTo>
                    <a:lnTo>
                      <a:pt x="234" y="1446"/>
                    </a:lnTo>
                    <a:lnTo>
                      <a:pt x="242" y="1431"/>
                    </a:lnTo>
                    <a:lnTo>
                      <a:pt x="242" y="1415"/>
                    </a:lnTo>
                    <a:lnTo>
                      <a:pt x="242" y="1392"/>
                    </a:lnTo>
                    <a:lnTo>
                      <a:pt x="251" y="1377"/>
                    </a:lnTo>
                    <a:lnTo>
                      <a:pt x="251" y="1361"/>
                    </a:lnTo>
                    <a:lnTo>
                      <a:pt x="259" y="1346"/>
                    </a:lnTo>
                    <a:lnTo>
                      <a:pt x="267" y="1331"/>
                    </a:lnTo>
                    <a:lnTo>
                      <a:pt x="276" y="1323"/>
                    </a:lnTo>
                    <a:lnTo>
                      <a:pt x="276" y="1315"/>
                    </a:lnTo>
                    <a:lnTo>
                      <a:pt x="284" y="1308"/>
                    </a:lnTo>
                    <a:lnTo>
                      <a:pt x="292" y="1292"/>
                    </a:lnTo>
                    <a:lnTo>
                      <a:pt x="301" y="1285"/>
                    </a:lnTo>
                    <a:lnTo>
                      <a:pt x="309" y="1277"/>
                    </a:lnTo>
                    <a:lnTo>
                      <a:pt x="326" y="1277"/>
                    </a:lnTo>
                    <a:lnTo>
                      <a:pt x="334" y="1269"/>
                    </a:lnTo>
                    <a:lnTo>
                      <a:pt x="343" y="1261"/>
                    </a:lnTo>
                    <a:lnTo>
                      <a:pt x="351" y="1254"/>
                    </a:lnTo>
                    <a:lnTo>
                      <a:pt x="359" y="1254"/>
                    </a:lnTo>
                    <a:lnTo>
                      <a:pt x="376" y="1246"/>
                    </a:lnTo>
                    <a:lnTo>
                      <a:pt x="384" y="1246"/>
                    </a:lnTo>
                    <a:lnTo>
                      <a:pt x="393" y="1238"/>
                    </a:lnTo>
                    <a:lnTo>
                      <a:pt x="409" y="1238"/>
                    </a:lnTo>
                    <a:lnTo>
                      <a:pt x="418" y="1238"/>
                    </a:lnTo>
                    <a:lnTo>
                      <a:pt x="435" y="1231"/>
                    </a:lnTo>
                    <a:lnTo>
                      <a:pt x="460" y="1231"/>
                    </a:lnTo>
                    <a:lnTo>
                      <a:pt x="476" y="1231"/>
                    </a:lnTo>
                    <a:lnTo>
                      <a:pt x="493" y="1231"/>
                    </a:lnTo>
                    <a:lnTo>
                      <a:pt x="510" y="1231"/>
                    </a:lnTo>
                    <a:lnTo>
                      <a:pt x="535" y="1231"/>
                    </a:lnTo>
                    <a:lnTo>
                      <a:pt x="552" y="1231"/>
                    </a:lnTo>
                    <a:lnTo>
                      <a:pt x="568" y="1238"/>
                    </a:lnTo>
                    <a:lnTo>
                      <a:pt x="593" y="1238"/>
                    </a:lnTo>
                    <a:lnTo>
                      <a:pt x="610" y="1238"/>
                    </a:lnTo>
                    <a:lnTo>
                      <a:pt x="627" y="1246"/>
                    </a:lnTo>
                    <a:lnTo>
                      <a:pt x="643" y="1246"/>
                    </a:lnTo>
                    <a:lnTo>
                      <a:pt x="669" y="1254"/>
                    </a:lnTo>
                    <a:lnTo>
                      <a:pt x="685" y="1254"/>
                    </a:lnTo>
                    <a:lnTo>
                      <a:pt x="702" y="1261"/>
                    </a:lnTo>
                    <a:lnTo>
                      <a:pt x="719" y="1261"/>
                    </a:lnTo>
                    <a:lnTo>
                      <a:pt x="727" y="1215"/>
                    </a:lnTo>
                    <a:lnTo>
                      <a:pt x="735" y="1169"/>
                    </a:lnTo>
                    <a:lnTo>
                      <a:pt x="735" y="1123"/>
                    </a:lnTo>
                    <a:lnTo>
                      <a:pt x="735" y="1077"/>
                    </a:lnTo>
                    <a:lnTo>
                      <a:pt x="735" y="1023"/>
                    </a:lnTo>
                    <a:lnTo>
                      <a:pt x="735" y="977"/>
                    </a:lnTo>
                    <a:lnTo>
                      <a:pt x="727" y="931"/>
                    </a:lnTo>
                    <a:lnTo>
                      <a:pt x="719" y="885"/>
                    </a:lnTo>
                    <a:lnTo>
                      <a:pt x="719" y="861"/>
                    </a:lnTo>
                    <a:lnTo>
                      <a:pt x="710" y="838"/>
                    </a:lnTo>
                    <a:lnTo>
                      <a:pt x="702" y="815"/>
                    </a:lnTo>
                    <a:lnTo>
                      <a:pt x="694" y="800"/>
                    </a:lnTo>
                    <a:lnTo>
                      <a:pt x="685" y="777"/>
                    </a:lnTo>
                    <a:lnTo>
                      <a:pt x="677" y="761"/>
                    </a:lnTo>
                    <a:lnTo>
                      <a:pt x="669" y="738"/>
                    </a:lnTo>
                    <a:lnTo>
                      <a:pt x="660" y="723"/>
                    </a:lnTo>
                    <a:lnTo>
                      <a:pt x="652" y="708"/>
                    </a:lnTo>
                    <a:lnTo>
                      <a:pt x="643" y="685"/>
                    </a:lnTo>
                    <a:lnTo>
                      <a:pt x="627" y="669"/>
                    </a:lnTo>
                    <a:lnTo>
                      <a:pt x="618" y="654"/>
                    </a:lnTo>
                    <a:lnTo>
                      <a:pt x="610" y="631"/>
                    </a:lnTo>
                    <a:lnTo>
                      <a:pt x="593" y="615"/>
                    </a:lnTo>
                    <a:lnTo>
                      <a:pt x="585" y="600"/>
                    </a:lnTo>
                    <a:lnTo>
                      <a:pt x="577" y="577"/>
                    </a:lnTo>
                    <a:lnTo>
                      <a:pt x="585" y="554"/>
                    </a:lnTo>
                    <a:lnTo>
                      <a:pt x="593" y="531"/>
                    </a:lnTo>
                    <a:lnTo>
                      <a:pt x="602" y="508"/>
                    </a:lnTo>
                    <a:lnTo>
                      <a:pt x="602" y="485"/>
                    </a:lnTo>
                    <a:lnTo>
                      <a:pt x="610" y="461"/>
                    </a:lnTo>
                    <a:lnTo>
                      <a:pt x="618" y="431"/>
                    </a:lnTo>
                    <a:lnTo>
                      <a:pt x="618" y="408"/>
                    </a:lnTo>
                    <a:lnTo>
                      <a:pt x="618" y="385"/>
                    </a:lnTo>
                    <a:lnTo>
                      <a:pt x="618" y="354"/>
                    </a:lnTo>
                    <a:lnTo>
                      <a:pt x="618" y="323"/>
                    </a:lnTo>
                    <a:lnTo>
                      <a:pt x="618" y="292"/>
                    </a:lnTo>
                    <a:lnTo>
                      <a:pt x="610" y="261"/>
                    </a:lnTo>
                    <a:lnTo>
                      <a:pt x="610" y="231"/>
                    </a:lnTo>
                    <a:lnTo>
                      <a:pt x="602" y="200"/>
                    </a:lnTo>
                    <a:lnTo>
                      <a:pt x="593" y="169"/>
                    </a:lnTo>
                    <a:lnTo>
                      <a:pt x="577" y="138"/>
                    </a:lnTo>
                    <a:lnTo>
                      <a:pt x="577" y="131"/>
                    </a:lnTo>
                    <a:lnTo>
                      <a:pt x="568" y="115"/>
                    </a:lnTo>
                    <a:lnTo>
                      <a:pt x="560" y="108"/>
                    </a:lnTo>
                    <a:lnTo>
                      <a:pt x="543" y="92"/>
                    </a:lnTo>
                    <a:lnTo>
                      <a:pt x="535" y="85"/>
                    </a:lnTo>
                    <a:lnTo>
                      <a:pt x="526" y="69"/>
                    </a:lnTo>
                    <a:lnTo>
                      <a:pt x="518" y="61"/>
                    </a:lnTo>
                    <a:lnTo>
                      <a:pt x="501" y="54"/>
                    </a:lnTo>
                    <a:lnTo>
                      <a:pt x="493" y="46"/>
                    </a:lnTo>
                    <a:lnTo>
                      <a:pt x="476" y="38"/>
                    </a:lnTo>
                    <a:lnTo>
                      <a:pt x="468" y="31"/>
                    </a:lnTo>
                    <a:lnTo>
                      <a:pt x="451" y="23"/>
                    </a:lnTo>
                    <a:lnTo>
                      <a:pt x="435" y="15"/>
                    </a:lnTo>
                    <a:lnTo>
                      <a:pt x="426" y="8"/>
                    </a:lnTo>
                    <a:lnTo>
                      <a:pt x="409" y="8"/>
                    </a:lnTo>
                    <a:lnTo>
                      <a:pt x="393" y="0"/>
                    </a:lnTo>
                    <a:lnTo>
                      <a:pt x="384" y="0"/>
                    </a:lnTo>
                    <a:lnTo>
                      <a:pt x="368" y="0"/>
                    </a:lnTo>
                    <a:lnTo>
                      <a:pt x="359" y="0"/>
                    </a:lnTo>
                    <a:lnTo>
                      <a:pt x="351" y="0"/>
                    </a:lnTo>
                    <a:lnTo>
                      <a:pt x="334" y="0"/>
                    </a:lnTo>
                    <a:lnTo>
                      <a:pt x="326" y="0"/>
                    </a:lnTo>
                    <a:lnTo>
                      <a:pt x="318" y="0"/>
                    </a:lnTo>
                    <a:lnTo>
                      <a:pt x="309" y="0"/>
                    </a:lnTo>
                    <a:lnTo>
                      <a:pt x="292" y="0"/>
                    </a:lnTo>
                    <a:lnTo>
                      <a:pt x="284" y="0"/>
                    </a:lnTo>
                    <a:lnTo>
                      <a:pt x="276" y="8"/>
                    </a:lnTo>
                    <a:lnTo>
                      <a:pt x="267" y="8"/>
                    </a:lnTo>
                    <a:lnTo>
                      <a:pt x="259" y="8"/>
                    </a:lnTo>
                    <a:lnTo>
                      <a:pt x="251" y="8"/>
                    </a:lnTo>
                    <a:lnTo>
                      <a:pt x="242" y="15"/>
                    </a:lnTo>
                    <a:lnTo>
                      <a:pt x="234" y="15"/>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Freeform 256"/>
              <p:cNvSpPr/>
              <p:nvPr/>
            </p:nvSpPr>
            <p:spPr>
              <a:xfrm flipH="1">
                <a:off x="592920" y="1209600"/>
                <a:ext cx="3240" cy="38520"/>
              </a:xfrm>
              <a:custGeom>
                <a:avLst/>
                <a:gdLst>
                  <a:gd name="textAreaLeft" fmla="*/ -360 w 3240"/>
                  <a:gd name="textAreaRight" fmla="*/ 3240 w 3240"/>
                  <a:gd name="textAreaTop" fmla="*/ 0 h 38520"/>
                  <a:gd name="textAreaBottom" fmla="*/ 38880 h 38520"/>
                </a:gdLst>
                <a:ahLst/>
                <a:rect l="textAreaLeft" t="textAreaTop" r="textAreaRight" b="textAreaBottom"/>
                <a:pathLst>
                  <a:path w="17" h="185">
                    <a:moveTo>
                      <a:pt x="17" y="0"/>
                    </a:moveTo>
                    <a:lnTo>
                      <a:pt x="9" y="31"/>
                    </a:lnTo>
                    <a:lnTo>
                      <a:pt x="0" y="54"/>
                    </a:lnTo>
                    <a:lnTo>
                      <a:pt x="0" y="70"/>
                    </a:lnTo>
                    <a:lnTo>
                      <a:pt x="0" y="93"/>
                    </a:lnTo>
                    <a:lnTo>
                      <a:pt x="0" y="116"/>
                    </a:lnTo>
                    <a:lnTo>
                      <a:pt x="0" y="139"/>
                    </a:lnTo>
                    <a:lnTo>
                      <a:pt x="9" y="162"/>
                    </a:lnTo>
                    <a:lnTo>
                      <a:pt x="17" y="185"/>
                    </a:lnTo>
                  </a:path>
                </a:pathLst>
              </a:custGeom>
              <a:noFill/>
              <a:ln w="0">
                <a:solidFill>
                  <a:srgbClr val="000000"/>
                </a:solid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Freeform 255"/>
              <p:cNvSpPr/>
              <p:nvPr/>
            </p:nvSpPr>
            <p:spPr>
              <a:xfrm flipH="1">
                <a:off x="603000" y="1185480"/>
                <a:ext cx="9720" cy="59760"/>
              </a:xfrm>
              <a:custGeom>
                <a:avLst/>
                <a:gdLst>
                  <a:gd name="textAreaLeft" fmla="*/ -360 w 9720"/>
                  <a:gd name="textAreaRight" fmla="*/ 9720 w 9720"/>
                  <a:gd name="textAreaTop" fmla="*/ 0 h 59760"/>
                  <a:gd name="textAreaBottom" fmla="*/ 60120 h 59760"/>
                </a:gdLst>
                <a:ahLst/>
                <a:rect l="textAreaLeft" t="textAreaTop" r="textAreaRight" b="textAreaBottom"/>
                <a:pathLst>
                  <a:path w="50" h="285">
                    <a:moveTo>
                      <a:pt x="50" y="0"/>
                    </a:moveTo>
                    <a:lnTo>
                      <a:pt x="33" y="31"/>
                    </a:lnTo>
                    <a:lnTo>
                      <a:pt x="25" y="62"/>
                    </a:lnTo>
                    <a:lnTo>
                      <a:pt x="8" y="92"/>
                    </a:lnTo>
                    <a:lnTo>
                      <a:pt x="8" y="123"/>
                    </a:lnTo>
                    <a:lnTo>
                      <a:pt x="0" y="162"/>
                    </a:lnTo>
                    <a:lnTo>
                      <a:pt x="0" y="192"/>
                    </a:lnTo>
                    <a:lnTo>
                      <a:pt x="8" y="238"/>
                    </a:lnTo>
                    <a:lnTo>
                      <a:pt x="16" y="285"/>
                    </a:lnTo>
                  </a:path>
                </a:pathLst>
              </a:custGeom>
              <a:noFill/>
              <a:ln w="0">
                <a:solidFill>
                  <a:srgbClr val="000000"/>
                </a:solidFill>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Freeform 254"/>
              <p:cNvSpPr/>
              <p:nvPr/>
            </p:nvSpPr>
            <p:spPr>
              <a:xfrm flipH="1">
                <a:off x="581400" y="1198440"/>
                <a:ext cx="9720" cy="9360"/>
              </a:xfrm>
              <a:custGeom>
                <a:avLst/>
                <a:gdLst>
                  <a:gd name="textAreaLeft" fmla="*/ -360 w 9720"/>
                  <a:gd name="textAreaRight" fmla="*/ 9720 w 9720"/>
                  <a:gd name="textAreaTop" fmla="*/ 0 h 9360"/>
                  <a:gd name="textAreaBottom" fmla="*/ 9720 h 9360"/>
                </a:gdLst>
                <a:ahLst/>
                <a:rect l="textAreaLeft" t="textAreaTop" r="textAreaRight" b="textAreaBottom"/>
                <a:pathLst>
                  <a:path w="50" h="46">
                    <a:moveTo>
                      <a:pt x="50" y="0"/>
                    </a:moveTo>
                    <a:lnTo>
                      <a:pt x="42" y="7"/>
                    </a:lnTo>
                    <a:lnTo>
                      <a:pt x="34" y="7"/>
                    </a:lnTo>
                    <a:lnTo>
                      <a:pt x="34" y="15"/>
                    </a:lnTo>
                    <a:lnTo>
                      <a:pt x="25" y="23"/>
                    </a:lnTo>
                    <a:lnTo>
                      <a:pt x="17" y="23"/>
                    </a:lnTo>
                    <a:lnTo>
                      <a:pt x="17" y="30"/>
                    </a:lnTo>
                    <a:lnTo>
                      <a:pt x="9" y="38"/>
                    </a:lnTo>
                    <a:lnTo>
                      <a:pt x="0" y="46"/>
                    </a:lnTo>
                  </a:path>
                </a:pathLst>
              </a:custGeom>
              <a:noFill/>
              <a:ln w="0">
                <a:solidFill>
                  <a:srgbClr val="000000"/>
                </a:solid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1" name="Freeform 253"/>
              <p:cNvSpPr/>
              <p:nvPr/>
            </p:nvSpPr>
            <p:spPr>
              <a:xfrm flipH="1">
                <a:off x="478080" y="1224360"/>
                <a:ext cx="5040" cy="57960"/>
              </a:xfrm>
              <a:custGeom>
                <a:avLst/>
                <a:gdLst>
                  <a:gd name="textAreaLeft" fmla="*/ 0 w 5040"/>
                  <a:gd name="textAreaRight" fmla="*/ 5040 w 5040"/>
                  <a:gd name="textAreaTop" fmla="*/ 0 h 57960"/>
                  <a:gd name="textAreaBottom" fmla="*/ 58320 h 57960"/>
                </a:gdLst>
                <a:ahLst/>
                <a:rect l="textAreaLeft" t="textAreaTop" r="textAreaRight" b="textAreaBottom"/>
                <a:pathLst>
                  <a:path w="26" h="277">
                    <a:moveTo>
                      <a:pt x="0" y="0"/>
                    </a:moveTo>
                    <a:lnTo>
                      <a:pt x="17" y="30"/>
                    </a:lnTo>
                    <a:lnTo>
                      <a:pt x="17" y="61"/>
                    </a:lnTo>
                    <a:lnTo>
                      <a:pt x="26" y="100"/>
                    </a:lnTo>
                    <a:lnTo>
                      <a:pt x="26" y="138"/>
                    </a:lnTo>
                    <a:lnTo>
                      <a:pt x="17" y="177"/>
                    </a:lnTo>
                    <a:lnTo>
                      <a:pt x="9" y="215"/>
                    </a:lnTo>
                    <a:lnTo>
                      <a:pt x="0" y="246"/>
                    </a:lnTo>
                    <a:lnTo>
                      <a:pt x="0" y="277"/>
                    </a:lnTo>
                  </a:path>
                </a:pathLst>
              </a:custGeom>
              <a:noFill/>
              <a:ln w="0">
                <a:solidFill>
                  <a:srgbClr val="000000"/>
                </a:solidFill>
              </a:ln>
            </p:spPr>
            <p:style>
              <a:lnRef idx="0"/>
              <a:fillRef idx="0"/>
              <a:effectRef idx="0"/>
              <a:fontRef idx="minor"/>
            </p:style>
            <p:txBody>
              <a:bodyPr lIns="90000" rIns="90000" tIns="11520" bIns="11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2" name="Freeform 252"/>
              <p:cNvSpPr/>
              <p:nvPr/>
            </p:nvSpPr>
            <p:spPr>
              <a:xfrm flipH="1">
                <a:off x="491400" y="1232280"/>
                <a:ext cx="6480" cy="52920"/>
              </a:xfrm>
              <a:custGeom>
                <a:avLst/>
                <a:gdLst>
                  <a:gd name="textAreaLeft" fmla="*/ 360 w 6480"/>
                  <a:gd name="textAreaRight" fmla="*/ 7200 w 6480"/>
                  <a:gd name="textAreaTop" fmla="*/ 0 h 52920"/>
                  <a:gd name="textAreaBottom" fmla="*/ 53280 h 52920"/>
                </a:gdLst>
                <a:ahLst/>
                <a:rect l="textAreaLeft" t="textAreaTop" r="textAreaRight" b="textAreaBottom"/>
                <a:pathLst>
                  <a:path w="34" h="254">
                    <a:moveTo>
                      <a:pt x="9" y="0"/>
                    </a:moveTo>
                    <a:lnTo>
                      <a:pt x="17" y="31"/>
                    </a:lnTo>
                    <a:lnTo>
                      <a:pt x="25" y="54"/>
                    </a:lnTo>
                    <a:lnTo>
                      <a:pt x="34" y="85"/>
                    </a:lnTo>
                    <a:lnTo>
                      <a:pt x="34" y="115"/>
                    </a:lnTo>
                    <a:lnTo>
                      <a:pt x="25" y="146"/>
                    </a:lnTo>
                    <a:lnTo>
                      <a:pt x="17" y="185"/>
                    </a:lnTo>
                    <a:lnTo>
                      <a:pt x="9" y="215"/>
                    </a:lnTo>
                    <a:lnTo>
                      <a:pt x="0" y="254"/>
                    </a:lnTo>
                  </a:path>
                </a:pathLst>
              </a:custGeom>
              <a:noFill/>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3" name="Freeform 251"/>
              <p:cNvSpPr/>
              <p:nvPr/>
            </p:nvSpPr>
            <p:spPr>
              <a:xfrm flipH="1">
                <a:off x="507960" y="1245240"/>
                <a:ext cx="1440" cy="28800"/>
              </a:xfrm>
              <a:custGeom>
                <a:avLst/>
                <a:gdLst>
                  <a:gd name="textAreaLeft" fmla="*/ 360 w 1440"/>
                  <a:gd name="textAreaRight" fmla="*/ 2160 w 1440"/>
                  <a:gd name="textAreaTop" fmla="*/ 0 h 28800"/>
                  <a:gd name="textAreaBottom" fmla="*/ 29160 h 28800"/>
                </a:gdLst>
                <a:ahLst/>
                <a:rect l="textAreaLeft" t="textAreaTop" r="textAreaRight" b="textAreaBottom"/>
                <a:pathLst>
                  <a:path w="8" h="138">
                    <a:moveTo>
                      <a:pt x="0" y="0"/>
                    </a:moveTo>
                    <a:lnTo>
                      <a:pt x="8" y="38"/>
                    </a:lnTo>
                    <a:lnTo>
                      <a:pt x="8" y="69"/>
                    </a:lnTo>
                    <a:lnTo>
                      <a:pt x="8" y="100"/>
                    </a:lnTo>
                    <a:lnTo>
                      <a:pt x="0" y="138"/>
                    </a:lnTo>
                  </a:path>
                </a:pathLst>
              </a:custGeom>
              <a:noFill/>
              <a:ln w="0">
                <a:solidFill>
                  <a:srgbClr val="000000"/>
                </a:solid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Freeform 250"/>
              <p:cNvSpPr/>
              <p:nvPr/>
            </p:nvSpPr>
            <p:spPr>
              <a:xfrm flipH="1">
                <a:off x="457560" y="137736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8"/>
                    </a:moveTo>
                    <a:lnTo>
                      <a:pt x="17" y="0"/>
                    </a:lnTo>
                    <a:lnTo>
                      <a:pt x="8" y="0"/>
                    </a:lnTo>
                    <a:lnTo>
                      <a:pt x="0" y="0"/>
                    </a:lnTo>
                    <a:lnTo>
                      <a:pt x="0" y="8"/>
                    </a:lnTo>
                    <a:lnTo>
                      <a:pt x="17"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5" name="Freeform 249"/>
              <p:cNvSpPr/>
              <p:nvPr/>
            </p:nvSpPr>
            <p:spPr>
              <a:xfrm flipH="1">
                <a:off x="457560" y="137736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8"/>
                    </a:moveTo>
                    <a:lnTo>
                      <a:pt x="17" y="0"/>
                    </a:lnTo>
                    <a:lnTo>
                      <a:pt x="8" y="0"/>
                    </a:lnTo>
                    <a:lnTo>
                      <a:pt x="0" y="0"/>
                    </a:lnTo>
                    <a:lnTo>
                      <a:pt x="0" y="8"/>
                    </a:lnTo>
                    <a:lnTo>
                      <a:pt x="17"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Freeform 248"/>
              <p:cNvSpPr/>
              <p:nvPr/>
            </p:nvSpPr>
            <p:spPr>
              <a:xfrm flipH="1">
                <a:off x="452880" y="1379160"/>
                <a:ext cx="9720" cy="39960"/>
              </a:xfrm>
              <a:custGeom>
                <a:avLst/>
                <a:gdLst>
                  <a:gd name="textAreaLeft" fmla="*/ -360 w 9720"/>
                  <a:gd name="textAreaRight" fmla="*/ 9720 w 9720"/>
                  <a:gd name="textAreaTop" fmla="*/ 0 h 39960"/>
                  <a:gd name="textAreaBottom" fmla="*/ 40320 h 39960"/>
                </a:gdLst>
                <a:ahLst/>
                <a:rect l="textAreaLeft" t="textAreaTop" r="textAreaRight" b="textAreaBottom"/>
                <a:pathLst>
                  <a:path w="50" h="192">
                    <a:moveTo>
                      <a:pt x="16" y="192"/>
                    </a:moveTo>
                    <a:lnTo>
                      <a:pt x="25" y="185"/>
                    </a:lnTo>
                    <a:lnTo>
                      <a:pt x="33" y="177"/>
                    </a:lnTo>
                    <a:lnTo>
                      <a:pt x="42" y="162"/>
                    </a:lnTo>
                    <a:lnTo>
                      <a:pt x="42" y="154"/>
                    </a:lnTo>
                    <a:lnTo>
                      <a:pt x="42" y="139"/>
                    </a:lnTo>
                    <a:lnTo>
                      <a:pt x="50" y="131"/>
                    </a:lnTo>
                    <a:lnTo>
                      <a:pt x="50" y="115"/>
                    </a:lnTo>
                    <a:lnTo>
                      <a:pt x="50" y="100"/>
                    </a:lnTo>
                    <a:lnTo>
                      <a:pt x="50" y="92"/>
                    </a:lnTo>
                    <a:lnTo>
                      <a:pt x="42" y="77"/>
                    </a:lnTo>
                    <a:lnTo>
                      <a:pt x="42" y="62"/>
                    </a:lnTo>
                    <a:lnTo>
                      <a:pt x="42" y="46"/>
                    </a:lnTo>
                    <a:lnTo>
                      <a:pt x="33" y="31"/>
                    </a:lnTo>
                    <a:lnTo>
                      <a:pt x="33" y="23"/>
                    </a:lnTo>
                    <a:lnTo>
                      <a:pt x="25" y="8"/>
                    </a:lnTo>
                    <a:lnTo>
                      <a:pt x="25" y="0"/>
                    </a:lnTo>
                    <a:lnTo>
                      <a:pt x="8" y="0"/>
                    </a:lnTo>
                    <a:lnTo>
                      <a:pt x="8" y="15"/>
                    </a:lnTo>
                    <a:lnTo>
                      <a:pt x="16" y="31"/>
                    </a:lnTo>
                    <a:lnTo>
                      <a:pt x="16" y="39"/>
                    </a:lnTo>
                    <a:lnTo>
                      <a:pt x="16" y="54"/>
                    </a:lnTo>
                    <a:lnTo>
                      <a:pt x="25" y="62"/>
                    </a:lnTo>
                    <a:lnTo>
                      <a:pt x="25" y="77"/>
                    </a:lnTo>
                    <a:lnTo>
                      <a:pt x="25" y="92"/>
                    </a:lnTo>
                    <a:lnTo>
                      <a:pt x="25" y="100"/>
                    </a:lnTo>
                    <a:lnTo>
                      <a:pt x="25" y="115"/>
                    </a:lnTo>
                    <a:lnTo>
                      <a:pt x="25" y="123"/>
                    </a:lnTo>
                    <a:lnTo>
                      <a:pt x="25" y="139"/>
                    </a:lnTo>
                    <a:lnTo>
                      <a:pt x="25" y="146"/>
                    </a:lnTo>
                    <a:lnTo>
                      <a:pt x="16" y="162"/>
                    </a:lnTo>
                    <a:lnTo>
                      <a:pt x="16" y="169"/>
                    </a:lnTo>
                    <a:lnTo>
                      <a:pt x="8" y="177"/>
                    </a:lnTo>
                    <a:lnTo>
                      <a:pt x="0" y="185"/>
                    </a:lnTo>
                    <a:lnTo>
                      <a:pt x="16" y="192"/>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Freeform 247"/>
              <p:cNvSpPr/>
              <p:nvPr/>
            </p:nvSpPr>
            <p:spPr>
              <a:xfrm flipH="1">
                <a:off x="452880" y="1379160"/>
                <a:ext cx="9720" cy="39960"/>
              </a:xfrm>
              <a:custGeom>
                <a:avLst/>
                <a:gdLst>
                  <a:gd name="textAreaLeft" fmla="*/ -360 w 9720"/>
                  <a:gd name="textAreaRight" fmla="*/ 9720 w 9720"/>
                  <a:gd name="textAreaTop" fmla="*/ 0 h 39960"/>
                  <a:gd name="textAreaBottom" fmla="*/ 40320 h 39960"/>
                </a:gdLst>
                <a:ahLst/>
                <a:rect l="textAreaLeft" t="textAreaTop" r="textAreaRight" b="textAreaBottom"/>
                <a:pathLst>
                  <a:path w="50" h="192">
                    <a:moveTo>
                      <a:pt x="16" y="192"/>
                    </a:moveTo>
                    <a:lnTo>
                      <a:pt x="25" y="185"/>
                    </a:lnTo>
                    <a:lnTo>
                      <a:pt x="33" y="177"/>
                    </a:lnTo>
                    <a:lnTo>
                      <a:pt x="42" y="162"/>
                    </a:lnTo>
                    <a:lnTo>
                      <a:pt x="42" y="154"/>
                    </a:lnTo>
                    <a:lnTo>
                      <a:pt x="42" y="139"/>
                    </a:lnTo>
                    <a:lnTo>
                      <a:pt x="50" y="131"/>
                    </a:lnTo>
                    <a:lnTo>
                      <a:pt x="50" y="115"/>
                    </a:lnTo>
                    <a:lnTo>
                      <a:pt x="50" y="100"/>
                    </a:lnTo>
                    <a:lnTo>
                      <a:pt x="50" y="92"/>
                    </a:lnTo>
                    <a:lnTo>
                      <a:pt x="42" y="77"/>
                    </a:lnTo>
                    <a:lnTo>
                      <a:pt x="42" y="62"/>
                    </a:lnTo>
                    <a:lnTo>
                      <a:pt x="42" y="46"/>
                    </a:lnTo>
                    <a:lnTo>
                      <a:pt x="33" y="31"/>
                    </a:lnTo>
                    <a:lnTo>
                      <a:pt x="33" y="23"/>
                    </a:lnTo>
                    <a:lnTo>
                      <a:pt x="25" y="8"/>
                    </a:lnTo>
                    <a:lnTo>
                      <a:pt x="25" y="0"/>
                    </a:lnTo>
                    <a:lnTo>
                      <a:pt x="8" y="0"/>
                    </a:lnTo>
                    <a:lnTo>
                      <a:pt x="8" y="15"/>
                    </a:lnTo>
                    <a:lnTo>
                      <a:pt x="16" y="31"/>
                    </a:lnTo>
                    <a:lnTo>
                      <a:pt x="16" y="39"/>
                    </a:lnTo>
                    <a:lnTo>
                      <a:pt x="16" y="54"/>
                    </a:lnTo>
                    <a:lnTo>
                      <a:pt x="25" y="62"/>
                    </a:lnTo>
                    <a:lnTo>
                      <a:pt x="25" y="77"/>
                    </a:lnTo>
                    <a:lnTo>
                      <a:pt x="25" y="92"/>
                    </a:lnTo>
                    <a:lnTo>
                      <a:pt x="25" y="100"/>
                    </a:lnTo>
                    <a:lnTo>
                      <a:pt x="25" y="115"/>
                    </a:lnTo>
                    <a:lnTo>
                      <a:pt x="25" y="123"/>
                    </a:lnTo>
                    <a:lnTo>
                      <a:pt x="25" y="139"/>
                    </a:lnTo>
                    <a:lnTo>
                      <a:pt x="25" y="146"/>
                    </a:lnTo>
                    <a:lnTo>
                      <a:pt x="16" y="162"/>
                    </a:lnTo>
                    <a:lnTo>
                      <a:pt x="16" y="169"/>
                    </a:lnTo>
                    <a:lnTo>
                      <a:pt x="8" y="177"/>
                    </a:lnTo>
                    <a:lnTo>
                      <a:pt x="0" y="185"/>
                    </a:lnTo>
                    <a:lnTo>
                      <a:pt x="16" y="192"/>
                    </a:lnTo>
                  </a:path>
                </a:pathLst>
              </a:custGeom>
              <a:noFill/>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8" name="Freeform 246"/>
              <p:cNvSpPr/>
              <p:nvPr/>
            </p:nvSpPr>
            <p:spPr>
              <a:xfrm flipH="1">
                <a:off x="457560" y="137736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0" y="0"/>
                    </a:moveTo>
                    <a:lnTo>
                      <a:pt x="0" y="0"/>
                    </a:lnTo>
                    <a:lnTo>
                      <a:pt x="0" y="8"/>
                    </a:lnTo>
                    <a:lnTo>
                      <a:pt x="0" y="16"/>
                    </a:lnTo>
                    <a:lnTo>
                      <a:pt x="8" y="16"/>
                    </a:lnTo>
                    <a:lnTo>
                      <a:pt x="17" y="16"/>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9" name="Freeform 245"/>
              <p:cNvSpPr/>
              <p:nvPr/>
            </p:nvSpPr>
            <p:spPr>
              <a:xfrm flipH="1">
                <a:off x="457560" y="1377360"/>
                <a:ext cx="3240" cy="3240"/>
              </a:xfrm>
              <a:custGeom>
                <a:avLst/>
                <a:gdLst>
                  <a:gd name="textAreaLeft" fmla="*/ -360 w 3240"/>
                  <a:gd name="textAreaRight" fmla="*/ 3240 w 3240"/>
                  <a:gd name="textAreaTop" fmla="*/ 0 h 3240"/>
                  <a:gd name="textAreaBottom" fmla="*/ 3600 h 3240"/>
                </a:gdLst>
                <a:ahLst/>
                <a:rect l="textAreaLeft" t="textAreaTop" r="textAreaRight" b="textAreaBottom"/>
                <a:pathLst>
                  <a:path w="17" h="16">
                    <a:moveTo>
                      <a:pt x="0" y="0"/>
                    </a:moveTo>
                    <a:lnTo>
                      <a:pt x="0" y="0"/>
                    </a:lnTo>
                    <a:lnTo>
                      <a:pt x="0" y="8"/>
                    </a:lnTo>
                    <a:lnTo>
                      <a:pt x="0" y="16"/>
                    </a:lnTo>
                    <a:lnTo>
                      <a:pt x="8" y="16"/>
                    </a:lnTo>
                    <a:lnTo>
                      <a:pt x="17" y="16"/>
                    </a:lnTo>
                    <a:lnTo>
                      <a:pt x="0" y="0"/>
                    </a:lnTo>
                  </a:path>
                </a:pathLst>
              </a:custGeom>
              <a:noFill/>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Freeform 244"/>
              <p:cNvSpPr/>
              <p:nvPr/>
            </p:nvSpPr>
            <p:spPr>
              <a:xfrm flipH="1">
                <a:off x="472680" y="13514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25" y="8"/>
                    </a:moveTo>
                    <a:lnTo>
                      <a:pt x="16" y="0"/>
                    </a:lnTo>
                    <a:lnTo>
                      <a:pt x="8" y="0"/>
                    </a:lnTo>
                    <a:lnTo>
                      <a:pt x="0" y="0"/>
                    </a:lnTo>
                    <a:lnTo>
                      <a:pt x="0" y="8"/>
                    </a:lnTo>
                    <a:lnTo>
                      <a:pt x="25"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Freeform 243"/>
              <p:cNvSpPr/>
              <p:nvPr/>
            </p:nvSpPr>
            <p:spPr>
              <a:xfrm flipH="1">
                <a:off x="472680" y="13514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25" y="8"/>
                    </a:moveTo>
                    <a:lnTo>
                      <a:pt x="16" y="0"/>
                    </a:lnTo>
                    <a:lnTo>
                      <a:pt x="8" y="0"/>
                    </a:lnTo>
                    <a:lnTo>
                      <a:pt x="0" y="0"/>
                    </a:lnTo>
                    <a:lnTo>
                      <a:pt x="0" y="8"/>
                    </a:lnTo>
                    <a:lnTo>
                      <a:pt x="25"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Freeform 242"/>
              <p:cNvSpPr/>
              <p:nvPr/>
            </p:nvSpPr>
            <p:spPr>
              <a:xfrm flipH="1">
                <a:off x="469440" y="1353240"/>
                <a:ext cx="9720" cy="64440"/>
              </a:xfrm>
              <a:custGeom>
                <a:avLst/>
                <a:gdLst>
                  <a:gd name="textAreaLeft" fmla="*/ -360 w 9720"/>
                  <a:gd name="textAreaRight" fmla="*/ 9720 w 9720"/>
                  <a:gd name="textAreaTop" fmla="*/ 0 h 64440"/>
                  <a:gd name="textAreaBottom" fmla="*/ 64800 h 64440"/>
                </a:gdLst>
                <a:ahLst/>
                <a:rect l="textAreaLeft" t="textAreaTop" r="textAreaRight" b="textAreaBottom"/>
                <a:pathLst>
                  <a:path w="50" h="308">
                    <a:moveTo>
                      <a:pt x="25" y="308"/>
                    </a:moveTo>
                    <a:lnTo>
                      <a:pt x="34" y="285"/>
                    </a:lnTo>
                    <a:lnTo>
                      <a:pt x="34" y="269"/>
                    </a:lnTo>
                    <a:lnTo>
                      <a:pt x="34" y="246"/>
                    </a:lnTo>
                    <a:lnTo>
                      <a:pt x="42" y="231"/>
                    </a:lnTo>
                    <a:lnTo>
                      <a:pt x="42" y="208"/>
                    </a:lnTo>
                    <a:lnTo>
                      <a:pt x="42" y="192"/>
                    </a:lnTo>
                    <a:lnTo>
                      <a:pt x="50" y="177"/>
                    </a:lnTo>
                    <a:lnTo>
                      <a:pt x="50" y="154"/>
                    </a:lnTo>
                    <a:lnTo>
                      <a:pt x="50" y="138"/>
                    </a:lnTo>
                    <a:lnTo>
                      <a:pt x="50" y="115"/>
                    </a:lnTo>
                    <a:lnTo>
                      <a:pt x="42" y="100"/>
                    </a:lnTo>
                    <a:lnTo>
                      <a:pt x="42" y="77"/>
                    </a:lnTo>
                    <a:lnTo>
                      <a:pt x="42" y="62"/>
                    </a:lnTo>
                    <a:lnTo>
                      <a:pt x="42" y="38"/>
                    </a:lnTo>
                    <a:lnTo>
                      <a:pt x="34" y="15"/>
                    </a:lnTo>
                    <a:lnTo>
                      <a:pt x="34" y="0"/>
                    </a:lnTo>
                    <a:lnTo>
                      <a:pt x="9" y="0"/>
                    </a:lnTo>
                    <a:lnTo>
                      <a:pt x="17" y="23"/>
                    </a:lnTo>
                    <a:lnTo>
                      <a:pt x="17" y="46"/>
                    </a:lnTo>
                    <a:lnTo>
                      <a:pt x="25" y="62"/>
                    </a:lnTo>
                    <a:lnTo>
                      <a:pt x="25" y="85"/>
                    </a:lnTo>
                    <a:lnTo>
                      <a:pt x="25" y="100"/>
                    </a:lnTo>
                    <a:lnTo>
                      <a:pt x="25" y="115"/>
                    </a:lnTo>
                    <a:lnTo>
                      <a:pt x="25" y="138"/>
                    </a:lnTo>
                    <a:lnTo>
                      <a:pt x="25" y="154"/>
                    </a:lnTo>
                    <a:lnTo>
                      <a:pt x="25" y="177"/>
                    </a:lnTo>
                    <a:lnTo>
                      <a:pt x="25" y="192"/>
                    </a:lnTo>
                    <a:lnTo>
                      <a:pt x="25" y="208"/>
                    </a:lnTo>
                    <a:lnTo>
                      <a:pt x="17" y="223"/>
                    </a:lnTo>
                    <a:lnTo>
                      <a:pt x="17" y="246"/>
                    </a:lnTo>
                    <a:lnTo>
                      <a:pt x="17" y="262"/>
                    </a:lnTo>
                    <a:lnTo>
                      <a:pt x="9" y="285"/>
                    </a:lnTo>
                    <a:lnTo>
                      <a:pt x="0" y="300"/>
                    </a:lnTo>
                    <a:lnTo>
                      <a:pt x="25" y="308"/>
                    </a:lnTo>
                    <a:close/>
                  </a:path>
                </a:pathLst>
              </a:custGeom>
              <a:solidFill>
                <a:srgbClr val="000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Freeform 241"/>
              <p:cNvSpPr/>
              <p:nvPr/>
            </p:nvSpPr>
            <p:spPr>
              <a:xfrm flipH="1">
                <a:off x="469440" y="1353240"/>
                <a:ext cx="9720" cy="64440"/>
              </a:xfrm>
              <a:custGeom>
                <a:avLst/>
                <a:gdLst>
                  <a:gd name="textAreaLeft" fmla="*/ -360 w 9720"/>
                  <a:gd name="textAreaRight" fmla="*/ 9720 w 9720"/>
                  <a:gd name="textAreaTop" fmla="*/ 0 h 64440"/>
                  <a:gd name="textAreaBottom" fmla="*/ 64800 h 64440"/>
                </a:gdLst>
                <a:ahLst/>
                <a:rect l="textAreaLeft" t="textAreaTop" r="textAreaRight" b="textAreaBottom"/>
                <a:pathLst>
                  <a:path w="50" h="308">
                    <a:moveTo>
                      <a:pt x="25" y="308"/>
                    </a:moveTo>
                    <a:lnTo>
                      <a:pt x="34" y="285"/>
                    </a:lnTo>
                    <a:lnTo>
                      <a:pt x="34" y="269"/>
                    </a:lnTo>
                    <a:lnTo>
                      <a:pt x="34" y="246"/>
                    </a:lnTo>
                    <a:lnTo>
                      <a:pt x="42" y="231"/>
                    </a:lnTo>
                    <a:lnTo>
                      <a:pt x="42" y="208"/>
                    </a:lnTo>
                    <a:lnTo>
                      <a:pt x="42" y="192"/>
                    </a:lnTo>
                    <a:lnTo>
                      <a:pt x="50" y="177"/>
                    </a:lnTo>
                    <a:lnTo>
                      <a:pt x="50" y="154"/>
                    </a:lnTo>
                    <a:lnTo>
                      <a:pt x="50" y="138"/>
                    </a:lnTo>
                    <a:lnTo>
                      <a:pt x="50" y="115"/>
                    </a:lnTo>
                    <a:lnTo>
                      <a:pt x="42" y="100"/>
                    </a:lnTo>
                    <a:lnTo>
                      <a:pt x="42" y="77"/>
                    </a:lnTo>
                    <a:lnTo>
                      <a:pt x="42" y="62"/>
                    </a:lnTo>
                    <a:lnTo>
                      <a:pt x="42" y="38"/>
                    </a:lnTo>
                    <a:lnTo>
                      <a:pt x="34" y="15"/>
                    </a:lnTo>
                    <a:lnTo>
                      <a:pt x="34" y="0"/>
                    </a:lnTo>
                    <a:lnTo>
                      <a:pt x="9" y="0"/>
                    </a:lnTo>
                    <a:lnTo>
                      <a:pt x="17" y="23"/>
                    </a:lnTo>
                    <a:lnTo>
                      <a:pt x="17" y="46"/>
                    </a:lnTo>
                    <a:lnTo>
                      <a:pt x="25" y="62"/>
                    </a:lnTo>
                    <a:lnTo>
                      <a:pt x="25" y="85"/>
                    </a:lnTo>
                    <a:lnTo>
                      <a:pt x="25" y="100"/>
                    </a:lnTo>
                    <a:lnTo>
                      <a:pt x="25" y="115"/>
                    </a:lnTo>
                    <a:lnTo>
                      <a:pt x="25" y="138"/>
                    </a:lnTo>
                    <a:lnTo>
                      <a:pt x="25" y="154"/>
                    </a:lnTo>
                    <a:lnTo>
                      <a:pt x="25" y="177"/>
                    </a:lnTo>
                    <a:lnTo>
                      <a:pt x="25" y="192"/>
                    </a:lnTo>
                    <a:lnTo>
                      <a:pt x="25" y="208"/>
                    </a:lnTo>
                    <a:lnTo>
                      <a:pt x="17" y="223"/>
                    </a:lnTo>
                    <a:lnTo>
                      <a:pt x="17" y="246"/>
                    </a:lnTo>
                    <a:lnTo>
                      <a:pt x="17" y="262"/>
                    </a:lnTo>
                    <a:lnTo>
                      <a:pt x="9" y="285"/>
                    </a:lnTo>
                    <a:lnTo>
                      <a:pt x="0" y="300"/>
                    </a:lnTo>
                    <a:lnTo>
                      <a:pt x="25" y="308"/>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Freeform 240"/>
              <p:cNvSpPr/>
              <p:nvPr/>
            </p:nvSpPr>
            <p:spPr>
              <a:xfrm flipH="1">
                <a:off x="472680" y="13532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0"/>
                    </a:moveTo>
                    <a:lnTo>
                      <a:pt x="0" y="0"/>
                    </a:lnTo>
                    <a:lnTo>
                      <a:pt x="0" y="8"/>
                    </a:lnTo>
                    <a:lnTo>
                      <a:pt x="8" y="8"/>
                    </a:lnTo>
                    <a:lnTo>
                      <a:pt x="16" y="8"/>
                    </a:lnTo>
                    <a:lnTo>
                      <a:pt x="25"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Freeform 239"/>
              <p:cNvSpPr/>
              <p:nvPr/>
            </p:nvSpPr>
            <p:spPr>
              <a:xfrm flipH="1">
                <a:off x="472680" y="135324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0"/>
                    </a:moveTo>
                    <a:lnTo>
                      <a:pt x="0" y="0"/>
                    </a:lnTo>
                    <a:lnTo>
                      <a:pt x="0" y="8"/>
                    </a:lnTo>
                    <a:lnTo>
                      <a:pt x="8" y="8"/>
                    </a:lnTo>
                    <a:lnTo>
                      <a:pt x="16" y="8"/>
                    </a:lnTo>
                    <a:lnTo>
                      <a:pt x="25"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Freeform 238"/>
              <p:cNvSpPr/>
              <p:nvPr/>
            </p:nvSpPr>
            <p:spPr>
              <a:xfrm flipH="1">
                <a:off x="494280" y="137268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8"/>
                    </a:moveTo>
                    <a:lnTo>
                      <a:pt x="17" y="0"/>
                    </a:lnTo>
                    <a:lnTo>
                      <a:pt x="9" y="0"/>
                    </a:lnTo>
                    <a:lnTo>
                      <a:pt x="0" y="0"/>
                    </a:lnTo>
                    <a:lnTo>
                      <a:pt x="0" y="8"/>
                    </a:lnTo>
                    <a:lnTo>
                      <a:pt x="17"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Freeform 237"/>
              <p:cNvSpPr/>
              <p:nvPr/>
            </p:nvSpPr>
            <p:spPr>
              <a:xfrm flipH="1">
                <a:off x="494280" y="137268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8"/>
                    </a:moveTo>
                    <a:lnTo>
                      <a:pt x="17" y="0"/>
                    </a:lnTo>
                    <a:lnTo>
                      <a:pt x="9" y="0"/>
                    </a:lnTo>
                    <a:lnTo>
                      <a:pt x="0" y="0"/>
                    </a:lnTo>
                    <a:lnTo>
                      <a:pt x="0" y="8"/>
                    </a:lnTo>
                    <a:lnTo>
                      <a:pt x="17"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Freeform 236"/>
              <p:cNvSpPr/>
              <p:nvPr/>
            </p:nvSpPr>
            <p:spPr>
              <a:xfrm flipH="1">
                <a:off x="493200" y="1374120"/>
                <a:ext cx="6480" cy="41760"/>
              </a:xfrm>
              <a:custGeom>
                <a:avLst/>
                <a:gdLst>
                  <a:gd name="textAreaLeft" fmla="*/ 360 w 6480"/>
                  <a:gd name="textAreaRight" fmla="*/ 7200 w 6480"/>
                  <a:gd name="textAreaTop" fmla="*/ 0 h 41760"/>
                  <a:gd name="textAreaBottom" fmla="*/ 42120 h 41760"/>
                </a:gdLst>
                <a:ahLst/>
                <a:rect l="textAreaLeft" t="textAreaTop" r="textAreaRight" b="textAreaBottom"/>
                <a:pathLst>
                  <a:path w="33" h="200">
                    <a:moveTo>
                      <a:pt x="17" y="200"/>
                    </a:moveTo>
                    <a:lnTo>
                      <a:pt x="25" y="185"/>
                    </a:lnTo>
                    <a:lnTo>
                      <a:pt x="25" y="177"/>
                    </a:lnTo>
                    <a:lnTo>
                      <a:pt x="25" y="162"/>
                    </a:lnTo>
                    <a:lnTo>
                      <a:pt x="33" y="146"/>
                    </a:lnTo>
                    <a:lnTo>
                      <a:pt x="33" y="138"/>
                    </a:lnTo>
                    <a:lnTo>
                      <a:pt x="33" y="123"/>
                    </a:lnTo>
                    <a:lnTo>
                      <a:pt x="33" y="115"/>
                    </a:lnTo>
                    <a:lnTo>
                      <a:pt x="33" y="100"/>
                    </a:lnTo>
                    <a:lnTo>
                      <a:pt x="33" y="85"/>
                    </a:lnTo>
                    <a:lnTo>
                      <a:pt x="33" y="77"/>
                    </a:lnTo>
                    <a:lnTo>
                      <a:pt x="33" y="62"/>
                    </a:lnTo>
                    <a:lnTo>
                      <a:pt x="33" y="46"/>
                    </a:lnTo>
                    <a:lnTo>
                      <a:pt x="33" y="38"/>
                    </a:lnTo>
                    <a:lnTo>
                      <a:pt x="33" y="23"/>
                    </a:lnTo>
                    <a:lnTo>
                      <a:pt x="25" y="8"/>
                    </a:lnTo>
                    <a:lnTo>
                      <a:pt x="25" y="0"/>
                    </a:lnTo>
                    <a:lnTo>
                      <a:pt x="8" y="0"/>
                    </a:lnTo>
                    <a:lnTo>
                      <a:pt x="8" y="15"/>
                    </a:lnTo>
                    <a:lnTo>
                      <a:pt x="8" y="23"/>
                    </a:lnTo>
                    <a:lnTo>
                      <a:pt x="8" y="38"/>
                    </a:lnTo>
                    <a:lnTo>
                      <a:pt x="8" y="54"/>
                    </a:lnTo>
                    <a:lnTo>
                      <a:pt x="17" y="62"/>
                    </a:lnTo>
                    <a:lnTo>
                      <a:pt x="17" y="77"/>
                    </a:lnTo>
                    <a:lnTo>
                      <a:pt x="17" y="85"/>
                    </a:lnTo>
                    <a:lnTo>
                      <a:pt x="17" y="100"/>
                    </a:lnTo>
                    <a:lnTo>
                      <a:pt x="17" y="108"/>
                    </a:lnTo>
                    <a:lnTo>
                      <a:pt x="8" y="123"/>
                    </a:lnTo>
                    <a:lnTo>
                      <a:pt x="8" y="138"/>
                    </a:lnTo>
                    <a:lnTo>
                      <a:pt x="8" y="146"/>
                    </a:lnTo>
                    <a:lnTo>
                      <a:pt x="8" y="162"/>
                    </a:lnTo>
                    <a:lnTo>
                      <a:pt x="8" y="169"/>
                    </a:lnTo>
                    <a:lnTo>
                      <a:pt x="0" y="185"/>
                    </a:lnTo>
                    <a:lnTo>
                      <a:pt x="0" y="192"/>
                    </a:lnTo>
                    <a:lnTo>
                      <a:pt x="17" y="200"/>
                    </a:lnTo>
                    <a:close/>
                  </a:path>
                </a:pathLst>
              </a:custGeom>
              <a:solidFill>
                <a:srgbClr val="000000"/>
              </a:solidFill>
              <a:ln w="0">
                <a:noFill/>
              </a:ln>
            </p:spPr>
            <p:style>
              <a:lnRef idx="0"/>
              <a:fillRef idx="0"/>
              <a:effectRef idx="0"/>
              <a:fontRef idx="minor"/>
            </p:style>
            <p:txBody>
              <a:bodyPr lIns="90000" rIns="90000" tIns="-4680" bIns="-4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Freeform 235"/>
              <p:cNvSpPr/>
              <p:nvPr/>
            </p:nvSpPr>
            <p:spPr>
              <a:xfrm flipH="1">
                <a:off x="493200" y="1374120"/>
                <a:ext cx="6480" cy="41760"/>
              </a:xfrm>
              <a:custGeom>
                <a:avLst/>
                <a:gdLst>
                  <a:gd name="textAreaLeft" fmla="*/ 360 w 6480"/>
                  <a:gd name="textAreaRight" fmla="*/ 7200 w 6480"/>
                  <a:gd name="textAreaTop" fmla="*/ 0 h 41760"/>
                  <a:gd name="textAreaBottom" fmla="*/ 42120 h 41760"/>
                </a:gdLst>
                <a:ahLst/>
                <a:rect l="textAreaLeft" t="textAreaTop" r="textAreaRight" b="textAreaBottom"/>
                <a:pathLst>
                  <a:path w="33" h="200">
                    <a:moveTo>
                      <a:pt x="17" y="200"/>
                    </a:moveTo>
                    <a:lnTo>
                      <a:pt x="25" y="185"/>
                    </a:lnTo>
                    <a:lnTo>
                      <a:pt x="25" y="177"/>
                    </a:lnTo>
                    <a:lnTo>
                      <a:pt x="25" y="162"/>
                    </a:lnTo>
                    <a:lnTo>
                      <a:pt x="33" y="146"/>
                    </a:lnTo>
                    <a:lnTo>
                      <a:pt x="33" y="138"/>
                    </a:lnTo>
                    <a:lnTo>
                      <a:pt x="33" y="123"/>
                    </a:lnTo>
                    <a:lnTo>
                      <a:pt x="33" y="115"/>
                    </a:lnTo>
                    <a:lnTo>
                      <a:pt x="33" y="100"/>
                    </a:lnTo>
                    <a:lnTo>
                      <a:pt x="33" y="85"/>
                    </a:lnTo>
                    <a:lnTo>
                      <a:pt x="33" y="77"/>
                    </a:lnTo>
                    <a:lnTo>
                      <a:pt x="33" y="62"/>
                    </a:lnTo>
                    <a:lnTo>
                      <a:pt x="33" y="46"/>
                    </a:lnTo>
                    <a:lnTo>
                      <a:pt x="33" y="38"/>
                    </a:lnTo>
                    <a:lnTo>
                      <a:pt x="33" y="23"/>
                    </a:lnTo>
                    <a:lnTo>
                      <a:pt x="25" y="8"/>
                    </a:lnTo>
                    <a:lnTo>
                      <a:pt x="25" y="0"/>
                    </a:lnTo>
                    <a:lnTo>
                      <a:pt x="8" y="0"/>
                    </a:lnTo>
                    <a:lnTo>
                      <a:pt x="8" y="15"/>
                    </a:lnTo>
                    <a:lnTo>
                      <a:pt x="8" y="23"/>
                    </a:lnTo>
                    <a:lnTo>
                      <a:pt x="8" y="38"/>
                    </a:lnTo>
                    <a:lnTo>
                      <a:pt x="8" y="54"/>
                    </a:lnTo>
                    <a:lnTo>
                      <a:pt x="17" y="62"/>
                    </a:lnTo>
                    <a:lnTo>
                      <a:pt x="17" y="77"/>
                    </a:lnTo>
                    <a:lnTo>
                      <a:pt x="17" y="85"/>
                    </a:lnTo>
                    <a:lnTo>
                      <a:pt x="17" y="100"/>
                    </a:lnTo>
                    <a:lnTo>
                      <a:pt x="17" y="108"/>
                    </a:lnTo>
                    <a:lnTo>
                      <a:pt x="8" y="123"/>
                    </a:lnTo>
                    <a:lnTo>
                      <a:pt x="8" y="138"/>
                    </a:lnTo>
                    <a:lnTo>
                      <a:pt x="8" y="146"/>
                    </a:lnTo>
                    <a:lnTo>
                      <a:pt x="8" y="162"/>
                    </a:lnTo>
                    <a:lnTo>
                      <a:pt x="8" y="169"/>
                    </a:lnTo>
                    <a:lnTo>
                      <a:pt x="0" y="185"/>
                    </a:lnTo>
                    <a:lnTo>
                      <a:pt x="0" y="192"/>
                    </a:lnTo>
                    <a:lnTo>
                      <a:pt x="17" y="200"/>
                    </a:lnTo>
                  </a:path>
                </a:pathLst>
              </a:custGeom>
              <a:noFill/>
              <a:ln w="0">
                <a:solidFill>
                  <a:srgbClr val="000000"/>
                </a:solidFill>
              </a:ln>
            </p:spPr>
            <p:style>
              <a:lnRef idx="0"/>
              <a:fillRef idx="0"/>
              <a:effectRef idx="0"/>
              <a:fontRef idx="minor"/>
            </p:style>
            <p:txBody>
              <a:bodyPr lIns="90000" rIns="90000" tIns="-4680" bIns="-4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Freeform 234"/>
              <p:cNvSpPr/>
              <p:nvPr/>
            </p:nvSpPr>
            <p:spPr>
              <a:xfrm flipH="1">
                <a:off x="494280" y="137412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0"/>
                    </a:lnTo>
                    <a:lnTo>
                      <a:pt x="0" y="8"/>
                    </a:lnTo>
                    <a:lnTo>
                      <a:pt x="9" y="8"/>
                    </a:lnTo>
                    <a:lnTo>
                      <a:pt x="17" y="8"/>
                    </a:lnTo>
                    <a:lnTo>
                      <a:pt x="17"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Freeform 233"/>
              <p:cNvSpPr/>
              <p:nvPr/>
            </p:nvSpPr>
            <p:spPr>
              <a:xfrm flipH="1">
                <a:off x="494280" y="137412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0"/>
                    </a:lnTo>
                    <a:lnTo>
                      <a:pt x="0" y="8"/>
                    </a:lnTo>
                    <a:lnTo>
                      <a:pt x="9" y="8"/>
                    </a:lnTo>
                    <a:lnTo>
                      <a:pt x="17" y="8"/>
                    </a:lnTo>
                    <a:lnTo>
                      <a:pt x="17"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Freeform 232"/>
              <p:cNvSpPr/>
              <p:nvPr/>
            </p:nvSpPr>
            <p:spPr>
              <a:xfrm flipH="1">
                <a:off x="513000" y="1395360"/>
                <a:ext cx="4680" cy="2880"/>
              </a:xfrm>
              <a:custGeom>
                <a:avLst/>
                <a:gdLst>
                  <a:gd name="textAreaLeft" fmla="*/ -360 w 4680"/>
                  <a:gd name="textAreaRight" fmla="*/ 4680 w 4680"/>
                  <a:gd name="textAreaTop" fmla="*/ 0 h 2880"/>
                  <a:gd name="textAreaBottom" fmla="*/ 3240 h 2880"/>
                </a:gdLst>
                <a:ahLst/>
                <a:rect l="textAreaLeft" t="textAreaTop" r="textAreaRight" b="textAreaBottom"/>
                <a:pathLst>
                  <a:path w="25" h="15">
                    <a:moveTo>
                      <a:pt x="25" y="8"/>
                    </a:moveTo>
                    <a:lnTo>
                      <a:pt x="17" y="8"/>
                    </a:lnTo>
                    <a:lnTo>
                      <a:pt x="17" y="0"/>
                    </a:lnTo>
                    <a:lnTo>
                      <a:pt x="8" y="0"/>
                    </a:lnTo>
                    <a:lnTo>
                      <a:pt x="0" y="8"/>
                    </a:lnTo>
                    <a:lnTo>
                      <a:pt x="0" y="15"/>
                    </a:lnTo>
                    <a:lnTo>
                      <a:pt x="25" y="8"/>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Freeform 231"/>
              <p:cNvSpPr/>
              <p:nvPr/>
            </p:nvSpPr>
            <p:spPr>
              <a:xfrm flipH="1">
                <a:off x="513000" y="1395360"/>
                <a:ext cx="4680" cy="2880"/>
              </a:xfrm>
              <a:custGeom>
                <a:avLst/>
                <a:gdLst>
                  <a:gd name="textAreaLeft" fmla="*/ -360 w 4680"/>
                  <a:gd name="textAreaRight" fmla="*/ 4680 w 4680"/>
                  <a:gd name="textAreaTop" fmla="*/ 0 h 2880"/>
                  <a:gd name="textAreaBottom" fmla="*/ 3240 h 2880"/>
                </a:gdLst>
                <a:ahLst/>
                <a:rect l="textAreaLeft" t="textAreaTop" r="textAreaRight" b="textAreaBottom"/>
                <a:pathLst>
                  <a:path w="25" h="15">
                    <a:moveTo>
                      <a:pt x="25" y="8"/>
                    </a:moveTo>
                    <a:lnTo>
                      <a:pt x="17" y="8"/>
                    </a:lnTo>
                    <a:lnTo>
                      <a:pt x="17" y="0"/>
                    </a:lnTo>
                    <a:lnTo>
                      <a:pt x="8" y="0"/>
                    </a:lnTo>
                    <a:lnTo>
                      <a:pt x="0" y="8"/>
                    </a:lnTo>
                    <a:lnTo>
                      <a:pt x="0" y="15"/>
                    </a:lnTo>
                    <a:lnTo>
                      <a:pt x="25" y="8"/>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Freeform 230"/>
              <p:cNvSpPr/>
              <p:nvPr/>
            </p:nvSpPr>
            <p:spPr>
              <a:xfrm flipH="1">
                <a:off x="513000" y="1396800"/>
                <a:ext cx="4680" cy="24120"/>
              </a:xfrm>
              <a:custGeom>
                <a:avLst/>
                <a:gdLst>
                  <a:gd name="textAreaLeft" fmla="*/ -360 w 4680"/>
                  <a:gd name="textAreaRight" fmla="*/ 4680 w 4680"/>
                  <a:gd name="textAreaTop" fmla="*/ 0 h 24120"/>
                  <a:gd name="textAreaBottom" fmla="*/ 24480 h 24120"/>
                </a:gdLst>
                <a:ahLst/>
                <a:rect l="textAreaLeft" t="textAreaTop" r="textAreaRight" b="textAreaBottom"/>
                <a:pathLst>
                  <a:path w="25" h="115">
                    <a:moveTo>
                      <a:pt x="17" y="115"/>
                    </a:moveTo>
                    <a:lnTo>
                      <a:pt x="25" y="100"/>
                    </a:lnTo>
                    <a:lnTo>
                      <a:pt x="25" y="84"/>
                    </a:lnTo>
                    <a:lnTo>
                      <a:pt x="25" y="69"/>
                    </a:lnTo>
                    <a:lnTo>
                      <a:pt x="25" y="61"/>
                    </a:lnTo>
                    <a:lnTo>
                      <a:pt x="25" y="46"/>
                    </a:lnTo>
                    <a:lnTo>
                      <a:pt x="25" y="30"/>
                    </a:lnTo>
                    <a:lnTo>
                      <a:pt x="25" y="15"/>
                    </a:lnTo>
                    <a:lnTo>
                      <a:pt x="25" y="0"/>
                    </a:lnTo>
                    <a:lnTo>
                      <a:pt x="0" y="7"/>
                    </a:lnTo>
                    <a:lnTo>
                      <a:pt x="0" y="15"/>
                    </a:lnTo>
                    <a:lnTo>
                      <a:pt x="8" y="30"/>
                    </a:lnTo>
                    <a:lnTo>
                      <a:pt x="8" y="46"/>
                    </a:lnTo>
                    <a:lnTo>
                      <a:pt x="8" y="61"/>
                    </a:lnTo>
                    <a:lnTo>
                      <a:pt x="8" y="69"/>
                    </a:lnTo>
                    <a:lnTo>
                      <a:pt x="8" y="84"/>
                    </a:lnTo>
                    <a:lnTo>
                      <a:pt x="8" y="92"/>
                    </a:lnTo>
                    <a:lnTo>
                      <a:pt x="0" y="107"/>
                    </a:lnTo>
                    <a:lnTo>
                      <a:pt x="17" y="115"/>
                    </a:lnTo>
                    <a:close/>
                  </a:path>
                </a:pathLst>
              </a:custGeom>
              <a:solidFill>
                <a:srgbClr val="000000"/>
              </a:solidFill>
              <a:ln w="0">
                <a:noFill/>
              </a:ln>
            </p:spPr>
            <p:style>
              <a:lnRef idx="0"/>
              <a:fillRef idx="0"/>
              <a:effectRef idx="0"/>
              <a:fontRef idx="minor"/>
            </p:style>
            <p:txBody>
              <a:bodyPr lIns="90000" rIns="90000" tIns="-22320" bIns="-22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Freeform 229"/>
              <p:cNvSpPr/>
              <p:nvPr/>
            </p:nvSpPr>
            <p:spPr>
              <a:xfrm flipH="1">
                <a:off x="513000" y="1396800"/>
                <a:ext cx="4680" cy="24120"/>
              </a:xfrm>
              <a:custGeom>
                <a:avLst/>
                <a:gdLst>
                  <a:gd name="textAreaLeft" fmla="*/ -360 w 4680"/>
                  <a:gd name="textAreaRight" fmla="*/ 4680 w 4680"/>
                  <a:gd name="textAreaTop" fmla="*/ 0 h 24120"/>
                  <a:gd name="textAreaBottom" fmla="*/ 24480 h 24120"/>
                </a:gdLst>
                <a:ahLst/>
                <a:rect l="textAreaLeft" t="textAreaTop" r="textAreaRight" b="textAreaBottom"/>
                <a:pathLst>
                  <a:path w="25" h="115">
                    <a:moveTo>
                      <a:pt x="17" y="115"/>
                    </a:moveTo>
                    <a:lnTo>
                      <a:pt x="25" y="100"/>
                    </a:lnTo>
                    <a:lnTo>
                      <a:pt x="25" y="84"/>
                    </a:lnTo>
                    <a:lnTo>
                      <a:pt x="25" y="69"/>
                    </a:lnTo>
                    <a:lnTo>
                      <a:pt x="25" y="61"/>
                    </a:lnTo>
                    <a:lnTo>
                      <a:pt x="25" y="46"/>
                    </a:lnTo>
                    <a:lnTo>
                      <a:pt x="25" y="30"/>
                    </a:lnTo>
                    <a:lnTo>
                      <a:pt x="25" y="15"/>
                    </a:lnTo>
                    <a:lnTo>
                      <a:pt x="25" y="0"/>
                    </a:lnTo>
                    <a:lnTo>
                      <a:pt x="0" y="7"/>
                    </a:lnTo>
                    <a:lnTo>
                      <a:pt x="0" y="15"/>
                    </a:lnTo>
                    <a:lnTo>
                      <a:pt x="8" y="30"/>
                    </a:lnTo>
                    <a:lnTo>
                      <a:pt x="8" y="46"/>
                    </a:lnTo>
                    <a:lnTo>
                      <a:pt x="8" y="61"/>
                    </a:lnTo>
                    <a:lnTo>
                      <a:pt x="8" y="69"/>
                    </a:lnTo>
                    <a:lnTo>
                      <a:pt x="8" y="84"/>
                    </a:lnTo>
                    <a:lnTo>
                      <a:pt x="8" y="92"/>
                    </a:lnTo>
                    <a:lnTo>
                      <a:pt x="0" y="107"/>
                    </a:lnTo>
                    <a:lnTo>
                      <a:pt x="17" y="115"/>
                    </a:lnTo>
                  </a:path>
                </a:pathLst>
              </a:custGeom>
              <a:noFill/>
              <a:ln w="0">
                <a:solidFill>
                  <a:srgbClr val="000000"/>
                </a:solidFill>
              </a:ln>
            </p:spPr>
            <p:style>
              <a:lnRef idx="0"/>
              <a:fillRef idx="0"/>
              <a:effectRef idx="0"/>
              <a:fontRef idx="minor"/>
            </p:style>
            <p:txBody>
              <a:bodyPr lIns="90000" rIns="90000" tIns="-22320" bIns="-22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Freeform 228"/>
              <p:cNvSpPr/>
              <p:nvPr/>
            </p:nvSpPr>
            <p:spPr>
              <a:xfrm flipH="1">
                <a:off x="514440" y="139680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7"/>
                    </a:lnTo>
                    <a:lnTo>
                      <a:pt x="8" y="7"/>
                    </a:lnTo>
                    <a:lnTo>
                      <a:pt x="8" y="15"/>
                    </a:lnTo>
                    <a:lnTo>
                      <a:pt x="17" y="15"/>
                    </a:lnTo>
                    <a:lnTo>
                      <a:pt x="17" y="7"/>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Freeform 227"/>
              <p:cNvSpPr/>
              <p:nvPr/>
            </p:nvSpPr>
            <p:spPr>
              <a:xfrm flipH="1">
                <a:off x="514440" y="1396800"/>
                <a:ext cx="3240" cy="2880"/>
              </a:xfrm>
              <a:custGeom>
                <a:avLst/>
                <a:gdLst>
                  <a:gd name="textAreaLeft" fmla="*/ -360 w 3240"/>
                  <a:gd name="textAreaRight" fmla="*/ 3240 w 3240"/>
                  <a:gd name="textAreaTop" fmla="*/ 0 h 2880"/>
                  <a:gd name="textAreaBottom" fmla="*/ 3240 h 2880"/>
                </a:gdLst>
                <a:ahLst/>
                <a:rect l="textAreaLeft" t="textAreaTop" r="textAreaRight" b="textAreaBottom"/>
                <a:pathLst>
                  <a:path w="17" h="15">
                    <a:moveTo>
                      <a:pt x="0" y="0"/>
                    </a:moveTo>
                    <a:lnTo>
                      <a:pt x="0" y="7"/>
                    </a:lnTo>
                    <a:lnTo>
                      <a:pt x="8" y="7"/>
                    </a:lnTo>
                    <a:lnTo>
                      <a:pt x="8" y="15"/>
                    </a:lnTo>
                    <a:lnTo>
                      <a:pt x="17" y="15"/>
                    </a:lnTo>
                    <a:lnTo>
                      <a:pt x="17" y="7"/>
                    </a:lnTo>
                    <a:lnTo>
                      <a:pt x="0" y="0"/>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Freeform 226"/>
              <p:cNvSpPr/>
              <p:nvPr/>
            </p:nvSpPr>
            <p:spPr>
              <a:xfrm flipH="1">
                <a:off x="531360" y="1387440"/>
                <a:ext cx="4680" cy="1080"/>
              </a:xfrm>
              <a:custGeom>
                <a:avLst/>
                <a:gdLst>
                  <a:gd name="textAreaLeft" fmla="*/ -360 w 4680"/>
                  <a:gd name="textAreaRight" fmla="*/ 4680 w 4680"/>
                  <a:gd name="textAreaTop" fmla="*/ 0 h 1080"/>
                  <a:gd name="textAreaBottom" fmla="*/ 1440 h 1080"/>
                </a:gdLst>
                <a:ahLst/>
                <a:rect l="textAreaLeft" t="textAreaTop" r="textAreaRight" b="textAreaBottom"/>
                <a:pathLst>
                  <a:path w="25" h="7">
                    <a:moveTo>
                      <a:pt x="25" y="7"/>
                    </a:moveTo>
                    <a:lnTo>
                      <a:pt x="25" y="7"/>
                    </a:lnTo>
                    <a:lnTo>
                      <a:pt x="17" y="0"/>
                    </a:lnTo>
                    <a:lnTo>
                      <a:pt x="8" y="0"/>
                    </a:lnTo>
                    <a:lnTo>
                      <a:pt x="0" y="0"/>
                    </a:lnTo>
                    <a:lnTo>
                      <a:pt x="0" y="7"/>
                    </a:lnTo>
                    <a:lnTo>
                      <a:pt x="25" y="7"/>
                    </a:lnTo>
                    <a:close/>
                  </a:path>
                </a:pathLst>
              </a:custGeom>
              <a:solidFill>
                <a:srgbClr val="000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Freeform 225"/>
              <p:cNvSpPr/>
              <p:nvPr/>
            </p:nvSpPr>
            <p:spPr>
              <a:xfrm flipH="1">
                <a:off x="531360" y="1387440"/>
                <a:ext cx="4680" cy="1080"/>
              </a:xfrm>
              <a:custGeom>
                <a:avLst/>
                <a:gdLst>
                  <a:gd name="textAreaLeft" fmla="*/ -360 w 4680"/>
                  <a:gd name="textAreaRight" fmla="*/ 4680 w 4680"/>
                  <a:gd name="textAreaTop" fmla="*/ 0 h 1080"/>
                  <a:gd name="textAreaBottom" fmla="*/ 1440 h 1080"/>
                </a:gdLst>
                <a:ahLst/>
                <a:rect l="textAreaLeft" t="textAreaTop" r="textAreaRight" b="textAreaBottom"/>
                <a:pathLst>
                  <a:path w="25" h="7">
                    <a:moveTo>
                      <a:pt x="25" y="7"/>
                    </a:moveTo>
                    <a:lnTo>
                      <a:pt x="25" y="7"/>
                    </a:lnTo>
                    <a:lnTo>
                      <a:pt x="17" y="0"/>
                    </a:lnTo>
                    <a:lnTo>
                      <a:pt x="8" y="0"/>
                    </a:lnTo>
                    <a:lnTo>
                      <a:pt x="0" y="0"/>
                    </a:lnTo>
                    <a:lnTo>
                      <a:pt x="0" y="7"/>
                    </a:lnTo>
                    <a:lnTo>
                      <a:pt x="25" y="7"/>
                    </a:lnTo>
                  </a:path>
                </a:pathLst>
              </a:custGeom>
              <a:noFill/>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Freeform 224"/>
              <p:cNvSpPr/>
              <p:nvPr/>
            </p:nvSpPr>
            <p:spPr>
              <a:xfrm flipH="1">
                <a:off x="529920" y="1388520"/>
                <a:ext cx="7920" cy="33840"/>
              </a:xfrm>
              <a:custGeom>
                <a:avLst/>
                <a:gdLst>
                  <a:gd name="textAreaLeft" fmla="*/ 360 w 7920"/>
                  <a:gd name="textAreaRight" fmla="*/ 8640 w 7920"/>
                  <a:gd name="textAreaTop" fmla="*/ 0 h 33840"/>
                  <a:gd name="textAreaBottom" fmla="*/ 34200 h 33840"/>
                </a:gdLst>
                <a:ahLst/>
                <a:rect l="textAreaLeft" t="textAreaTop" r="textAreaRight" b="textAreaBottom"/>
                <a:pathLst>
                  <a:path w="41" h="162">
                    <a:moveTo>
                      <a:pt x="41" y="154"/>
                    </a:moveTo>
                    <a:lnTo>
                      <a:pt x="33" y="146"/>
                    </a:lnTo>
                    <a:lnTo>
                      <a:pt x="33" y="139"/>
                    </a:lnTo>
                    <a:lnTo>
                      <a:pt x="33" y="123"/>
                    </a:lnTo>
                    <a:lnTo>
                      <a:pt x="25" y="116"/>
                    </a:lnTo>
                    <a:lnTo>
                      <a:pt x="25" y="108"/>
                    </a:lnTo>
                    <a:lnTo>
                      <a:pt x="25" y="100"/>
                    </a:lnTo>
                    <a:lnTo>
                      <a:pt x="25" y="93"/>
                    </a:lnTo>
                    <a:lnTo>
                      <a:pt x="25" y="77"/>
                    </a:lnTo>
                    <a:lnTo>
                      <a:pt x="25" y="69"/>
                    </a:lnTo>
                    <a:lnTo>
                      <a:pt x="25" y="62"/>
                    </a:lnTo>
                    <a:lnTo>
                      <a:pt x="25" y="54"/>
                    </a:lnTo>
                    <a:lnTo>
                      <a:pt x="25" y="46"/>
                    </a:lnTo>
                    <a:lnTo>
                      <a:pt x="25" y="31"/>
                    </a:lnTo>
                    <a:lnTo>
                      <a:pt x="25" y="23"/>
                    </a:lnTo>
                    <a:lnTo>
                      <a:pt x="25" y="16"/>
                    </a:lnTo>
                    <a:lnTo>
                      <a:pt x="33" y="0"/>
                    </a:lnTo>
                    <a:lnTo>
                      <a:pt x="8" y="0"/>
                    </a:lnTo>
                    <a:lnTo>
                      <a:pt x="8" y="8"/>
                    </a:lnTo>
                    <a:lnTo>
                      <a:pt x="8" y="23"/>
                    </a:lnTo>
                    <a:lnTo>
                      <a:pt x="8" y="31"/>
                    </a:lnTo>
                    <a:lnTo>
                      <a:pt x="0" y="39"/>
                    </a:lnTo>
                    <a:lnTo>
                      <a:pt x="0" y="54"/>
                    </a:lnTo>
                    <a:lnTo>
                      <a:pt x="0" y="62"/>
                    </a:lnTo>
                    <a:lnTo>
                      <a:pt x="0" y="69"/>
                    </a:lnTo>
                    <a:lnTo>
                      <a:pt x="0" y="77"/>
                    </a:lnTo>
                    <a:lnTo>
                      <a:pt x="0" y="93"/>
                    </a:lnTo>
                    <a:lnTo>
                      <a:pt x="0" y="100"/>
                    </a:lnTo>
                    <a:lnTo>
                      <a:pt x="8" y="108"/>
                    </a:lnTo>
                    <a:lnTo>
                      <a:pt x="8" y="123"/>
                    </a:lnTo>
                    <a:lnTo>
                      <a:pt x="8" y="131"/>
                    </a:lnTo>
                    <a:lnTo>
                      <a:pt x="16" y="139"/>
                    </a:lnTo>
                    <a:lnTo>
                      <a:pt x="16" y="154"/>
                    </a:lnTo>
                    <a:lnTo>
                      <a:pt x="25" y="162"/>
                    </a:lnTo>
                    <a:lnTo>
                      <a:pt x="41" y="154"/>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Freeform 223"/>
              <p:cNvSpPr/>
              <p:nvPr/>
            </p:nvSpPr>
            <p:spPr>
              <a:xfrm flipH="1">
                <a:off x="529920" y="1388520"/>
                <a:ext cx="7920" cy="33840"/>
              </a:xfrm>
              <a:custGeom>
                <a:avLst/>
                <a:gdLst>
                  <a:gd name="textAreaLeft" fmla="*/ 360 w 7920"/>
                  <a:gd name="textAreaRight" fmla="*/ 8640 w 7920"/>
                  <a:gd name="textAreaTop" fmla="*/ 0 h 33840"/>
                  <a:gd name="textAreaBottom" fmla="*/ 34200 h 33840"/>
                </a:gdLst>
                <a:ahLst/>
                <a:rect l="textAreaLeft" t="textAreaTop" r="textAreaRight" b="textAreaBottom"/>
                <a:pathLst>
                  <a:path w="41" h="162">
                    <a:moveTo>
                      <a:pt x="41" y="154"/>
                    </a:moveTo>
                    <a:lnTo>
                      <a:pt x="33" y="146"/>
                    </a:lnTo>
                    <a:lnTo>
                      <a:pt x="33" y="139"/>
                    </a:lnTo>
                    <a:lnTo>
                      <a:pt x="33" y="123"/>
                    </a:lnTo>
                    <a:lnTo>
                      <a:pt x="25" y="116"/>
                    </a:lnTo>
                    <a:lnTo>
                      <a:pt x="25" y="108"/>
                    </a:lnTo>
                    <a:lnTo>
                      <a:pt x="25" y="100"/>
                    </a:lnTo>
                    <a:lnTo>
                      <a:pt x="25" y="93"/>
                    </a:lnTo>
                    <a:lnTo>
                      <a:pt x="25" y="77"/>
                    </a:lnTo>
                    <a:lnTo>
                      <a:pt x="25" y="69"/>
                    </a:lnTo>
                    <a:lnTo>
                      <a:pt x="25" y="62"/>
                    </a:lnTo>
                    <a:lnTo>
                      <a:pt x="25" y="54"/>
                    </a:lnTo>
                    <a:lnTo>
                      <a:pt x="25" y="46"/>
                    </a:lnTo>
                    <a:lnTo>
                      <a:pt x="25" y="31"/>
                    </a:lnTo>
                    <a:lnTo>
                      <a:pt x="25" y="23"/>
                    </a:lnTo>
                    <a:lnTo>
                      <a:pt x="25" y="16"/>
                    </a:lnTo>
                    <a:lnTo>
                      <a:pt x="33" y="0"/>
                    </a:lnTo>
                    <a:lnTo>
                      <a:pt x="8" y="0"/>
                    </a:lnTo>
                    <a:lnTo>
                      <a:pt x="8" y="8"/>
                    </a:lnTo>
                    <a:lnTo>
                      <a:pt x="8" y="23"/>
                    </a:lnTo>
                    <a:lnTo>
                      <a:pt x="8" y="31"/>
                    </a:lnTo>
                    <a:lnTo>
                      <a:pt x="0" y="39"/>
                    </a:lnTo>
                    <a:lnTo>
                      <a:pt x="0" y="54"/>
                    </a:lnTo>
                    <a:lnTo>
                      <a:pt x="0" y="62"/>
                    </a:lnTo>
                    <a:lnTo>
                      <a:pt x="0" y="69"/>
                    </a:lnTo>
                    <a:lnTo>
                      <a:pt x="0" y="77"/>
                    </a:lnTo>
                    <a:lnTo>
                      <a:pt x="0" y="93"/>
                    </a:lnTo>
                    <a:lnTo>
                      <a:pt x="0" y="100"/>
                    </a:lnTo>
                    <a:lnTo>
                      <a:pt x="8" y="108"/>
                    </a:lnTo>
                    <a:lnTo>
                      <a:pt x="8" y="123"/>
                    </a:lnTo>
                    <a:lnTo>
                      <a:pt x="8" y="131"/>
                    </a:lnTo>
                    <a:lnTo>
                      <a:pt x="16" y="139"/>
                    </a:lnTo>
                    <a:lnTo>
                      <a:pt x="16" y="154"/>
                    </a:lnTo>
                    <a:lnTo>
                      <a:pt x="25" y="162"/>
                    </a:lnTo>
                    <a:lnTo>
                      <a:pt x="41" y="154"/>
                    </a:lnTo>
                  </a:path>
                </a:pathLst>
              </a:custGeom>
              <a:noFill/>
              <a:ln w="0">
                <a:solidFill>
                  <a:srgbClr val="000000"/>
                </a:solid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Freeform 222"/>
              <p:cNvSpPr/>
              <p:nvPr/>
            </p:nvSpPr>
            <p:spPr>
              <a:xfrm flipH="1">
                <a:off x="531360" y="138852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8"/>
                    </a:moveTo>
                    <a:lnTo>
                      <a:pt x="8" y="8"/>
                    </a:lnTo>
                    <a:lnTo>
                      <a:pt x="17" y="8"/>
                    </a:lnTo>
                    <a:lnTo>
                      <a:pt x="25" y="0"/>
                    </a:lnTo>
                    <a:lnTo>
                      <a:pt x="17" y="0"/>
                    </a:lnTo>
                    <a:lnTo>
                      <a:pt x="0"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Freeform 221"/>
              <p:cNvSpPr/>
              <p:nvPr/>
            </p:nvSpPr>
            <p:spPr>
              <a:xfrm flipH="1">
                <a:off x="531360" y="1388520"/>
                <a:ext cx="4680" cy="1440"/>
              </a:xfrm>
              <a:custGeom>
                <a:avLst/>
                <a:gdLst>
                  <a:gd name="textAreaLeft" fmla="*/ -360 w 4680"/>
                  <a:gd name="textAreaRight" fmla="*/ 4680 w 4680"/>
                  <a:gd name="textAreaTop" fmla="*/ 0 h 1440"/>
                  <a:gd name="textAreaBottom" fmla="*/ 1800 h 1440"/>
                </a:gdLst>
                <a:ahLst/>
                <a:rect l="textAreaLeft" t="textAreaTop" r="textAreaRight" b="textAreaBottom"/>
                <a:pathLst>
                  <a:path w="25" h="8">
                    <a:moveTo>
                      <a:pt x="0" y="8"/>
                    </a:moveTo>
                    <a:lnTo>
                      <a:pt x="8" y="8"/>
                    </a:lnTo>
                    <a:lnTo>
                      <a:pt x="17" y="8"/>
                    </a:lnTo>
                    <a:lnTo>
                      <a:pt x="25" y="0"/>
                    </a:lnTo>
                    <a:lnTo>
                      <a:pt x="17" y="0"/>
                    </a:lnTo>
                    <a:lnTo>
                      <a:pt x="0"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Freeform 220"/>
              <p:cNvSpPr/>
              <p:nvPr/>
            </p:nvSpPr>
            <p:spPr>
              <a:xfrm flipH="1">
                <a:off x="541080" y="13514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8"/>
                    </a:moveTo>
                    <a:lnTo>
                      <a:pt x="17" y="8"/>
                    </a:lnTo>
                    <a:lnTo>
                      <a:pt x="17" y="0"/>
                    </a:lnTo>
                    <a:lnTo>
                      <a:pt x="9" y="0"/>
                    </a:lnTo>
                    <a:lnTo>
                      <a:pt x="0" y="0"/>
                    </a:lnTo>
                    <a:lnTo>
                      <a:pt x="0" y="8"/>
                    </a:lnTo>
                    <a:lnTo>
                      <a:pt x="17" y="8"/>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Freeform 219"/>
              <p:cNvSpPr/>
              <p:nvPr/>
            </p:nvSpPr>
            <p:spPr>
              <a:xfrm flipH="1">
                <a:off x="541080" y="13514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17" y="8"/>
                    </a:moveTo>
                    <a:lnTo>
                      <a:pt x="17" y="8"/>
                    </a:lnTo>
                    <a:lnTo>
                      <a:pt x="17" y="0"/>
                    </a:lnTo>
                    <a:lnTo>
                      <a:pt x="9" y="0"/>
                    </a:lnTo>
                    <a:lnTo>
                      <a:pt x="0" y="0"/>
                    </a:lnTo>
                    <a:lnTo>
                      <a:pt x="0" y="8"/>
                    </a:lnTo>
                    <a:lnTo>
                      <a:pt x="17" y="8"/>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Freeform 218"/>
              <p:cNvSpPr/>
              <p:nvPr/>
            </p:nvSpPr>
            <p:spPr>
              <a:xfrm flipH="1">
                <a:off x="541080" y="1353240"/>
                <a:ext cx="8280" cy="91800"/>
              </a:xfrm>
              <a:custGeom>
                <a:avLst/>
                <a:gdLst>
                  <a:gd name="textAreaLeft" fmla="*/ -360 w 8280"/>
                  <a:gd name="textAreaRight" fmla="*/ 8280 w 8280"/>
                  <a:gd name="textAreaTop" fmla="*/ 0 h 91800"/>
                  <a:gd name="textAreaBottom" fmla="*/ 92160 h 91800"/>
                </a:gdLst>
                <a:ahLst/>
                <a:rect l="textAreaLeft" t="textAreaTop" r="textAreaRight" b="textAreaBottom"/>
                <a:pathLst>
                  <a:path w="42" h="438">
                    <a:moveTo>
                      <a:pt x="34" y="438"/>
                    </a:moveTo>
                    <a:lnTo>
                      <a:pt x="34" y="423"/>
                    </a:lnTo>
                    <a:lnTo>
                      <a:pt x="34" y="408"/>
                    </a:lnTo>
                    <a:lnTo>
                      <a:pt x="34" y="392"/>
                    </a:lnTo>
                    <a:lnTo>
                      <a:pt x="25" y="385"/>
                    </a:lnTo>
                    <a:lnTo>
                      <a:pt x="25" y="369"/>
                    </a:lnTo>
                    <a:lnTo>
                      <a:pt x="25" y="354"/>
                    </a:lnTo>
                    <a:lnTo>
                      <a:pt x="25" y="338"/>
                    </a:lnTo>
                    <a:lnTo>
                      <a:pt x="25" y="323"/>
                    </a:lnTo>
                    <a:lnTo>
                      <a:pt x="17" y="308"/>
                    </a:lnTo>
                    <a:lnTo>
                      <a:pt x="17" y="292"/>
                    </a:lnTo>
                    <a:lnTo>
                      <a:pt x="17" y="277"/>
                    </a:lnTo>
                    <a:lnTo>
                      <a:pt x="17" y="269"/>
                    </a:lnTo>
                    <a:lnTo>
                      <a:pt x="17" y="254"/>
                    </a:lnTo>
                    <a:lnTo>
                      <a:pt x="17" y="238"/>
                    </a:lnTo>
                    <a:lnTo>
                      <a:pt x="17" y="223"/>
                    </a:lnTo>
                    <a:lnTo>
                      <a:pt x="17" y="208"/>
                    </a:lnTo>
                    <a:lnTo>
                      <a:pt x="17" y="200"/>
                    </a:lnTo>
                    <a:lnTo>
                      <a:pt x="17" y="185"/>
                    </a:lnTo>
                    <a:lnTo>
                      <a:pt x="17" y="169"/>
                    </a:lnTo>
                    <a:lnTo>
                      <a:pt x="17" y="154"/>
                    </a:lnTo>
                    <a:lnTo>
                      <a:pt x="17" y="138"/>
                    </a:lnTo>
                    <a:lnTo>
                      <a:pt x="17" y="131"/>
                    </a:lnTo>
                    <a:lnTo>
                      <a:pt x="25" y="115"/>
                    </a:lnTo>
                    <a:lnTo>
                      <a:pt x="25" y="100"/>
                    </a:lnTo>
                    <a:lnTo>
                      <a:pt x="25" y="92"/>
                    </a:lnTo>
                    <a:lnTo>
                      <a:pt x="25" y="77"/>
                    </a:lnTo>
                    <a:lnTo>
                      <a:pt x="25" y="62"/>
                    </a:lnTo>
                    <a:lnTo>
                      <a:pt x="34" y="54"/>
                    </a:lnTo>
                    <a:lnTo>
                      <a:pt x="34" y="38"/>
                    </a:lnTo>
                    <a:lnTo>
                      <a:pt x="34" y="23"/>
                    </a:lnTo>
                    <a:lnTo>
                      <a:pt x="42" y="15"/>
                    </a:lnTo>
                    <a:lnTo>
                      <a:pt x="42" y="0"/>
                    </a:lnTo>
                    <a:lnTo>
                      <a:pt x="25" y="0"/>
                    </a:lnTo>
                    <a:lnTo>
                      <a:pt x="17" y="8"/>
                    </a:lnTo>
                    <a:lnTo>
                      <a:pt x="17" y="23"/>
                    </a:lnTo>
                    <a:lnTo>
                      <a:pt x="17" y="38"/>
                    </a:lnTo>
                    <a:lnTo>
                      <a:pt x="9" y="46"/>
                    </a:lnTo>
                    <a:lnTo>
                      <a:pt x="9" y="62"/>
                    </a:lnTo>
                    <a:lnTo>
                      <a:pt x="9" y="77"/>
                    </a:lnTo>
                    <a:lnTo>
                      <a:pt x="9" y="85"/>
                    </a:lnTo>
                    <a:lnTo>
                      <a:pt x="0" y="100"/>
                    </a:lnTo>
                    <a:lnTo>
                      <a:pt x="0" y="115"/>
                    </a:lnTo>
                    <a:lnTo>
                      <a:pt x="0" y="131"/>
                    </a:lnTo>
                    <a:lnTo>
                      <a:pt x="0" y="138"/>
                    </a:lnTo>
                    <a:lnTo>
                      <a:pt x="0" y="154"/>
                    </a:lnTo>
                    <a:lnTo>
                      <a:pt x="0" y="169"/>
                    </a:lnTo>
                    <a:lnTo>
                      <a:pt x="0" y="185"/>
                    </a:lnTo>
                    <a:lnTo>
                      <a:pt x="0" y="200"/>
                    </a:lnTo>
                    <a:lnTo>
                      <a:pt x="0" y="208"/>
                    </a:lnTo>
                    <a:lnTo>
                      <a:pt x="0" y="223"/>
                    </a:lnTo>
                    <a:lnTo>
                      <a:pt x="0" y="238"/>
                    </a:lnTo>
                    <a:lnTo>
                      <a:pt x="0" y="254"/>
                    </a:lnTo>
                    <a:lnTo>
                      <a:pt x="0" y="269"/>
                    </a:lnTo>
                    <a:lnTo>
                      <a:pt x="0" y="285"/>
                    </a:lnTo>
                    <a:lnTo>
                      <a:pt x="0" y="300"/>
                    </a:lnTo>
                    <a:lnTo>
                      <a:pt x="0" y="308"/>
                    </a:lnTo>
                    <a:lnTo>
                      <a:pt x="0" y="323"/>
                    </a:lnTo>
                    <a:lnTo>
                      <a:pt x="0" y="338"/>
                    </a:lnTo>
                    <a:lnTo>
                      <a:pt x="9" y="354"/>
                    </a:lnTo>
                    <a:lnTo>
                      <a:pt x="9" y="369"/>
                    </a:lnTo>
                    <a:lnTo>
                      <a:pt x="9" y="385"/>
                    </a:lnTo>
                    <a:lnTo>
                      <a:pt x="9" y="400"/>
                    </a:lnTo>
                    <a:lnTo>
                      <a:pt x="9" y="415"/>
                    </a:lnTo>
                    <a:lnTo>
                      <a:pt x="17" y="423"/>
                    </a:lnTo>
                    <a:lnTo>
                      <a:pt x="17" y="438"/>
                    </a:lnTo>
                    <a:lnTo>
                      <a:pt x="34" y="438"/>
                    </a:lnTo>
                    <a:close/>
                  </a:path>
                </a:pathLst>
              </a:custGeom>
              <a:solidFill>
                <a:srgbClr val="000000"/>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Freeform 217"/>
              <p:cNvSpPr/>
              <p:nvPr/>
            </p:nvSpPr>
            <p:spPr>
              <a:xfrm flipH="1">
                <a:off x="541080" y="1353240"/>
                <a:ext cx="8280" cy="91800"/>
              </a:xfrm>
              <a:custGeom>
                <a:avLst/>
                <a:gdLst>
                  <a:gd name="textAreaLeft" fmla="*/ -360 w 8280"/>
                  <a:gd name="textAreaRight" fmla="*/ 8280 w 8280"/>
                  <a:gd name="textAreaTop" fmla="*/ 0 h 91800"/>
                  <a:gd name="textAreaBottom" fmla="*/ 92160 h 91800"/>
                </a:gdLst>
                <a:ahLst/>
                <a:rect l="textAreaLeft" t="textAreaTop" r="textAreaRight" b="textAreaBottom"/>
                <a:pathLst>
                  <a:path w="42" h="438">
                    <a:moveTo>
                      <a:pt x="34" y="438"/>
                    </a:moveTo>
                    <a:lnTo>
                      <a:pt x="34" y="423"/>
                    </a:lnTo>
                    <a:lnTo>
                      <a:pt x="34" y="408"/>
                    </a:lnTo>
                    <a:lnTo>
                      <a:pt x="34" y="392"/>
                    </a:lnTo>
                    <a:lnTo>
                      <a:pt x="25" y="385"/>
                    </a:lnTo>
                    <a:lnTo>
                      <a:pt x="25" y="369"/>
                    </a:lnTo>
                    <a:lnTo>
                      <a:pt x="25" y="354"/>
                    </a:lnTo>
                    <a:lnTo>
                      <a:pt x="25" y="338"/>
                    </a:lnTo>
                    <a:lnTo>
                      <a:pt x="25" y="323"/>
                    </a:lnTo>
                    <a:lnTo>
                      <a:pt x="17" y="308"/>
                    </a:lnTo>
                    <a:lnTo>
                      <a:pt x="17" y="292"/>
                    </a:lnTo>
                    <a:lnTo>
                      <a:pt x="17" y="277"/>
                    </a:lnTo>
                    <a:lnTo>
                      <a:pt x="17" y="269"/>
                    </a:lnTo>
                    <a:lnTo>
                      <a:pt x="17" y="254"/>
                    </a:lnTo>
                    <a:lnTo>
                      <a:pt x="17" y="238"/>
                    </a:lnTo>
                    <a:lnTo>
                      <a:pt x="17" y="223"/>
                    </a:lnTo>
                    <a:lnTo>
                      <a:pt x="17" y="208"/>
                    </a:lnTo>
                    <a:lnTo>
                      <a:pt x="17" y="200"/>
                    </a:lnTo>
                    <a:lnTo>
                      <a:pt x="17" y="185"/>
                    </a:lnTo>
                    <a:lnTo>
                      <a:pt x="17" y="169"/>
                    </a:lnTo>
                    <a:lnTo>
                      <a:pt x="17" y="154"/>
                    </a:lnTo>
                    <a:lnTo>
                      <a:pt x="17" y="138"/>
                    </a:lnTo>
                    <a:lnTo>
                      <a:pt x="17" y="131"/>
                    </a:lnTo>
                    <a:lnTo>
                      <a:pt x="25" y="115"/>
                    </a:lnTo>
                    <a:lnTo>
                      <a:pt x="25" y="100"/>
                    </a:lnTo>
                    <a:lnTo>
                      <a:pt x="25" y="92"/>
                    </a:lnTo>
                    <a:lnTo>
                      <a:pt x="25" y="77"/>
                    </a:lnTo>
                    <a:lnTo>
                      <a:pt x="25" y="62"/>
                    </a:lnTo>
                    <a:lnTo>
                      <a:pt x="34" y="54"/>
                    </a:lnTo>
                    <a:lnTo>
                      <a:pt x="34" y="38"/>
                    </a:lnTo>
                    <a:lnTo>
                      <a:pt x="34" y="23"/>
                    </a:lnTo>
                    <a:lnTo>
                      <a:pt x="42" y="15"/>
                    </a:lnTo>
                    <a:lnTo>
                      <a:pt x="42" y="0"/>
                    </a:lnTo>
                    <a:lnTo>
                      <a:pt x="25" y="0"/>
                    </a:lnTo>
                    <a:lnTo>
                      <a:pt x="17" y="8"/>
                    </a:lnTo>
                    <a:lnTo>
                      <a:pt x="17" y="23"/>
                    </a:lnTo>
                    <a:lnTo>
                      <a:pt x="17" y="38"/>
                    </a:lnTo>
                    <a:lnTo>
                      <a:pt x="9" y="46"/>
                    </a:lnTo>
                    <a:lnTo>
                      <a:pt x="9" y="62"/>
                    </a:lnTo>
                    <a:lnTo>
                      <a:pt x="9" y="77"/>
                    </a:lnTo>
                    <a:lnTo>
                      <a:pt x="9" y="85"/>
                    </a:lnTo>
                    <a:lnTo>
                      <a:pt x="0" y="100"/>
                    </a:lnTo>
                    <a:lnTo>
                      <a:pt x="0" y="115"/>
                    </a:lnTo>
                    <a:lnTo>
                      <a:pt x="0" y="131"/>
                    </a:lnTo>
                    <a:lnTo>
                      <a:pt x="0" y="138"/>
                    </a:lnTo>
                    <a:lnTo>
                      <a:pt x="0" y="154"/>
                    </a:lnTo>
                    <a:lnTo>
                      <a:pt x="0" y="169"/>
                    </a:lnTo>
                    <a:lnTo>
                      <a:pt x="0" y="185"/>
                    </a:lnTo>
                    <a:lnTo>
                      <a:pt x="0" y="200"/>
                    </a:lnTo>
                    <a:lnTo>
                      <a:pt x="0" y="208"/>
                    </a:lnTo>
                    <a:lnTo>
                      <a:pt x="0" y="223"/>
                    </a:lnTo>
                    <a:lnTo>
                      <a:pt x="0" y="238"/>
                    </a:lnTo>
                    <a:lnTo>
                      <a:pt x="0" y="254"/>
                    </a:lnTo>
                    <a:lnTo>
                      <a:pt x="0" y="269"/>
                    </a:lnTo>
                    <a:lnTo>
                      <a:pt x="0" y="285"/>
                    </a:lnTo>
                    <a:lnTo>
                      <a:pt x="0" y="300"/>
                    </a:lnTo>
                    <a:lnTo>
                      <a:pt x="0" y="308"/>
                    </a:lnTo>
                    <a:lnTo>
                      <a:pt x="0" y="323"/>
                    </a:lnTo>
                    <a:lnTo>
                      <a:pt x="0" y="338"/>
                    </a:lnTo>
                    <a:lnTo>
                      <a:pt x="9" y="354"/>
                    </a:lnTo>
                    <a:lnTo>
                      <a:pt x="9" y="369"/>
                    </a:lnTo>
                    <a:lnTo>
                      <a:pt x="9" y="385"/>
                    </a:lnTo>
                    <a:lnTo>
                      <a:pt x="9" y="400"/>
                    </a:lnTo>
                    <a:lnTo>
                      <a:pt x="9" y="415"/>
                    </a:lnTo>
                    <a:lnTo>
                      <a:pt x="17" y="423"/>
                    </a:lnTo>
                    <a:lnTo>
                      <a:pt x="17" y="438"/>
                    </a:lnTo>
                    <a:lnTo>
                      <a:pt x="34" y="438"/>
                    </a:lnTo>
                  </a:path>
                </a:pathLst>
              </a:custGeom>
              <a:noFill/>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8" name="Freeform 216"/>
              <p:cNvSpPr/>
              <p:nvPr/>
            </p:nvSpPr>
            <p:spPr>
              <a:xfrm flipH="1">
                <a:off x="541080" y="13532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8"/>
                    </a:lnTo>
                    <a:lnTo>
                      <a:pt x="9" y="8"/>
                    </a:lnTo>
                    <a:lnTo>
                      <a:pt x="17" y="8"/>
                    </a:lnTo>
                    <a:lnTo>
                      <a:pt x="17"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Freeform 215"/>
              <p:cNvSpPr/>
              <p:nvPr/>
            </p:nvSpPr>
            <p:spPr>
              <a:xfrm flipH="1">
                <a:off x="541080" y="1353240"/>
                <a:ext cx="3240" cy="1440"/>
              </a:xfrm>
              <a:custGeom>
                <a:avLst/>
                <a:gdLst>
                  <a:gd name="textAreaLeft" fmla="*/ -360 w 3240"/>
                  <a:gd name="textAreaRight" fmla="*/ 3240 w 3240"/>
                  <a:gd name="textAreaTop" fmla="*/ 0 h 1440"/>
                  <a:gd name="textAreaBottom" fmla="*/ 1800 h 1440"/>
                </a:gdLst>
                <a:ahLst/>
                <a:rect l="textAreaLeft" t="textAreaTop" r="textAreaRight" b="textAreaBottom"/>
                <a:pathLst>
                  <a:path w="17" h="8">
                    <a:moveTo>
                      <a:pt x="0" y="0"/>
                    </a:moveTo>
                    <a:lnTo>
                      <a:pt x="0" y="8"/>
                    </a:lnTo>
                    <a:lnTo>
                      <a:pt x="9" y="8"/>
                    </a:lnTo>
                    <a:lnTo>
                      <a:pt x="17" y="8"/>
                    </a:lnTo>
                    <a:lnTo>
                      <a:pt x="17"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Freeform 214"/>
              <p:cNvSpPr/>
              <p:nvPr/>
            </p:nvSpPr>
            <p:spPr>
              <a:xfrm flipH="1">
                <a:off x="698040" y="1527480"/>
                <a:ext cx="57960" cy="141840"/>
              </a:xfrm>
              <a:custGeom>
                <a:avLst/>
                <a:gdLst>
                  <a:gd name="textAreaLeft" fmla="*/ -360 w 57960"/>
                  <a:gd name="textAreaRight" fmla="*/ 57960 w 57960"/>
                  <a:gd name="textAreaTop" fmla="*/ 0 h 141840"/>
                  <a:gd name="textAreaBottom" fmla="*/ 141840 h 141840"/>
                </a:gdLst>
                <a:ahLst/>
                <a:rect l="textAreaLeft" t="textAreaTop" r="textAreaRight" b="textAreaBottom"/>
                <a:pathLst>
                  <a:path w="292" h="677">
                    <a:moveTo>
                      <a:pt x="0" y="0"/>
                    </a:moveTo>
                    <a:lnTo>
                      <a:pt x="0" y="46"/>
                    </a:lnTo>
                    <a:lnTo>
                      <a:pt x="8" y="92"/>
                    </a:lnTo>
                    <a:lnTo>
                      <a:pt x="17" y="138"/>
                    </a:lnTo>
                    <a:lnTo>
                      <a:pt x="25" y="184"/>
                    </a:lnTo>
                    <a:lnTo>
                      <a:pt x="33" y="223"/>
                    </a:lnTo>
                    <a:lnTo>
                      <a:pt x="42" y="269"/>
                    </a:lnTo>
                    <a:lnTo>
                      <a:pt x="58" y="307"/>
                    </a:lnTo>
                    <a:lnTo>
                      <a:pt x="75" y="346"/>
                    </a:lnTo>
                    <a:lnTo>
                      <a:pt x="92" y="392"/>
                    </a:lnTo>
                    <a:lnTo>
                      <a:pt x="109" y="431"/>
                    </a:lnTo>
                    <a:lnTo>
                      <a:pt x="134" y="469"/>
                    </a:lnTo>
                    <a:lnTo>
                      <a:pt x="159" y="507"/>
                    </a:lnTo>
                    <a:lnTo>
                      <a:pt x="192" y="554"/>
                    </a:lnTo>
                    <a:lnTo>
                      <a:pt x="217" y="592"/>
                    </a:lnTo>
                    <a:lnTo>
                      <a:pt x="251" y="631"/>
                    </a:lnTo>
                    <a:lnTo>
                      <a:pt x="292" y="677"/>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Freeform 213"/>
              <p:cNvSpPr/>
              <p:nvPr/>
            </p:nvSpPr>
            <p:spPr>
              <a:xfrm flipH="1">
                <a:off x="756360" y="1533960"/>
                <a:ext cx="41400" cy="117360"/>
              </a:xfrm>
              <a:custGeom>
                <a:avLst/>
                <a:gdLst>
                  <a:gd name="textAreaLeft" fmla="*/ -360 w 41400"/>
                  <a:gd name="textAreaRight" fmla="*/ 41400 w 41400"/>
                  <a:gd name="textAreaTop" fmla="*/ 0 h 117360"/>
                  <a:gd name="textAreaBottom" fmla="*/ 117720 h 117360"/>
                </a:gdLst>
                <a:ahLst/>
                <a:rect l="textAreaLeft" t="textAreaTop" r="textAreaRight" b="textAreaBottom"/>
                <a:pathLst>
                  <a:path w="209" h="561">
                    <a:moveTo>
                      <a:pt x="0" y="0"/>
                    </a:moveTo>
                    <a:lnTo>
                      <a:pt x="8" y="30"/>
                    </a:lnTo>
                    <a:lnTo>
                      <a:pt x="17" y="69"/>
                    </a:lnTo>
                    <a:lnTo>
                      <a:pt x="17" y="107"/>
                    </a:lnTo>
                    <a:lnTo>
                      <a:pt x="25" y="146"/>
                    </a:lnTo>
                    <a:lnTo>
                      <a:pt x="42" y="184"/>
                    </a:lnTo>
                    <a:lnTo>
                      <a:pt x="50" y="223"/>
                    </a:lnTo>
                    <a:lnTo>
                      <a:pt x="58" y="261"/>
                    </a:lnTo>
                    <a:lnTo>
                      <a:pt x="75" y="300"/>
                    </a:lnTo>
                    <a:lnTo>
                      <a:pt x="84" y="338"/>
                    </a:lnTo>
                    <a:lnTo>
                      <a:pt x="100" y="376"/>
                    </a:lnTo>
                    <a:lnTo>
                      <a:pt x="117" y="415"/>
                    </a:lnTo>
                    <a:lnTo>
                      <a:pt x="134" y="446"/>
                    </a:lnTo>
                    <a:lnTo>
                      <a:pt x="150" y="476"/>
                    </a:lnTo>
                    <a:lnTo>
                      <a:pt x="167" y="507"/>
                    </a:lnTo>
                    <a:lnTo>
                      <a:pt x="184" y="538"/>
                    </a:lnTo>
                    <a:lnTo>
                      <a:pt x="209" y="56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Freeform 212"/>
              <p:cNvSpPr/>
              <p:nvPr/>
            </p:nvSpPr>
            <p:spPr>
              <a:xfrm flipH="1">
                <a:off x="280800" y="1517760"/>
                <a:ext cx="24840" cy="72360"/>
              </a:xfrm>
              <a:custGeom>
                <a:avLst/>
                <a:gdLst>
                  <a:gd name="textAreaLeft" fmla="*/ -360 w 24840"/>
                  <a:gd name="textAreaRight" fmla="*/ 24840 w 24840"/>
                  <a:gd name="textAreaTop" fmla="*/ 0 h 72360"/>
                  <a:gd name="textAreaBottom" fmla="*/ 72720 h 72360"/>
                </a:gdLst>
                <a:ahLst/>
                <a:rect l="textAreaLeft" t="textAreaTop" r="textAreaRight" b="textAreaBottom"/>
                <a:pathLst>
                  <a:path w="126" h="346">
                    <a:moveTo>
                      <a:pt x="126" y="0"/>
                    </a:moveTo>
                    <a:lnTo>
                      <a:pt x="117" y="15"/>
                    </a:lnTo>
                    <a:lnTo>
                      <a:pt x="117" y="38"/>
                    </a:lnTo>
                    <a:lnTo>
                      <a:pt x="109" y="61"/>
                    </a:lnTo>
                    <a:lnTo>
                      <a:pt x="109" y="84"/>
                    </a:lnTo>
                    <a:lnTo>
                      <a:pt x="101" y="107"/>
                    </a:lnTo>
                    <a:lnTo>
                      <a:pt x="92" y="130"/>
                    </a:lnTo>
                    <a:lnTo>
                      <a:pt x="84" y="153"/>
                    </a:lnTo>
                    <a:lnTo>
                      <a:pt x="84" y="169"/>
                    </a:lnTo>
                    <a:lnTo>
                      <a:pt x="67" y="192"/>
                    </a:lnTo>
                    <a:lnTo>
                      <a:pt x="59" y="215"/>
                    </a:lnTo>
                    <a:lnTo>
                      <a:pt x="50" y="238"/>
                    </a:lnTo>
                    <a:lnTo>
                      <a:pt x="42" y="261"/>
                    </a:lnTo>
                    <a:lnTo>
                      <a:pt x="34" y="284"/>
                    </a:lnTo>
                    <a:lnTo>
                      <a:pt x="17" y="307"/>
                    </a:lnTo>
                    <a:lnTo>
                      <a:pt x="9" y="330"/>
                    </a:lnTo>
                    <a:lnTo>
                      <a:pt x="0" y="346"/>
                    </a:lnTo>
                  </a:path>
                </a:pathLst>
              </a:custGeom>
              <a:noFill/>
              <a:ln w="0">
                <a:solidFill>
                  <a:srgbClr val="000000"/>
                </a:solidFill>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Freeform 211"/>
              <p:cNvSpPr/>
              <p:nvPr/>
            </p:nvSpPr>
            <p:spPr>
              <a:xfrm flipH="1">
                <a:off x="231120" y="1503360"/>
                <a:ext cx="54720" cy="148320"/>
              </a:xfrm>
              <a:custGeom>
                <a:avLst/>
                <a:gdLst>
                  <a:gd name="textAreaLeft" fmla="*/ 360 w 54720"/>
                  <a:gd name="textAreaRight" fmla="*/ 55440 w 54720"/>
                  <a:gd name="textAreaTop" fmla="*/ 0 h 148320"/>
                  <a:gd name="textAreaBottom" fmla="*/ 148680 h 148320"/>
                </a:gdLst>
                <a:ahLst/>
                <a:rect l="textAreaLeft" t="textAreaTop" r="textAreaRight" b="textAreaBottom"/>
                <a:pathLst>
                  <a:path w="275" h="708">
                    <a:moveTo>
                      <a:pt x="275" y="0"/>
                    </a:moveTo>
                    <a:lnTo>
                      <a:pt x="275" y="47"/>
                    </a:lnTo>
                    <a:lnTo>
                      <a:pt x="275" y="93"/>
                    </a:lnTo>
                    <a:lnTo>
                      <a:pt x="267" y="131"/>
                    </a:lnTo>
                    <a:lnTo>
                      <a:pt x="259" y="177"/>
                    </a:lnTo>
                    <a:lnTo>
                      <a:pt x="250" y="223"/>
                    </a:lnTo>
                    <a:lnTo>
                      <a:pt x="242" y="270"/>
                    </a:lnTo>
                    <a:lnTo>
                      <a:pt x="225" y="308"/>
                    </a:lnTo>
                    <a:lnTo>
                      <a:pt x="209" y="354"/>
                    </a:lnTo>
                    <a:lnTo>
                      <a:pt x="192" y="393"/>
                    </a:lnTo>
                    <a:lnTo>
                      <a:pt x="175" y="439"/>
                    </a:lnTo>
                    <a:lnTo>
                      <a:pt x="150" y="485"/>
                    </a:lnTo>
                    <a:lnTo>
                      <a:pt x="125" y="531"/>
                    </a:lnTo>
                    <a:lnTo>
                      <a:pt x="92" y="577"/>
                    </a:lnTo>
                    <a:lnTo>
                      <a:pt x="66" y="616"/>
                    </a:lnTo>
                    <a:lnTo>
                      <a:pt x="33" y="662"/>
                    </a:lnTo>
                    <a:lnTo>
                      <a:pt x="0" y="708"/>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4" name="Group 2"/>
            <p:cNvGrpSpPr/>
            <p:nvPr/>
          </p:nvGrpSpPr>
          <p:grpSpPr>
            <a:xfrm>
              <a:off x="-372960" y="1488960"/>
              <a:ext cx="626400" cy="587520"/>
              <a:chOff x="-372960" y="1488960"/>
              <a:chExt cx="626400" cy="587520"/>
            </a:xfrm>
          </p:grpSpPr>
          <p:grpSp>
            <p:nvGrpSpPr>
              <p:cNvPr id="2085" name="Group 9"/>
              <p:cNvGrpSpPr/>
              <p:nvPr/>
            </p:nvGrpSpPr>
            <p:grpSpPr>
              <a:xfrm>
                <a:off x="-372960" y="1488960"/>
                <a:ext cx="626400" cy="587520"/>
                <a:chOff x="-372960" y="1488960"/>
                <a:chExt cx="626400" cy="587520"/>
              </a:xfrm>
            </p:grpSpPr>
            <p:sp>
              <p:nvSpPr>
                <p:cNvPr id="2086" name="Freeform 209"/>
                <p:cNvSpPr/>
                <p:nvPr/>
              </p:nvSpPr>
              <p:spPr>
                <a:xfrm flipH="1">
                  <a:off x="-300240" y="1488960"/>
                  <a:ext cx="553320" cy="517680"/>
                </a:xfrm>
                <a:custGeom>
                  <a:avLst/>
                  <a:gdLst>
                    <a:gd name="textAreaLeft" fmla="*/ 0 w 553320"/>
                    <a:gd name="textAreaRight" fmla="*/ 553320 w 553320"/>
                    <a:gd name="textAreaTop" fmla="*/ 0 h 517680"/>
                    <a:gd name="textAreaBottom" fmla="*/ 518040 h 517680"/>
                  </a:gdLst>
                  <a:ahLst/>
                  <a:rect l="textAreaLeft" t="textAreaTop" r="textAreaRight" b="textAreaBottom"/>
                  <a:pathLst>
                    <a:path w="2986" h="2550">
                      <a:moveTo>
                        <a:pt x="1189" y="1969"/>
                      </a:moveTo>
                      <a:lnTo>
                        <a:pt x="1400" y="1927"/>
                      </a:lnTo>
                      <a:lnTo>
                        <a:pt x="1569" y="1885"/>
                      </a:lnTo>
                      <a:lnTo>
                        <a:pt x="1231" y="1860"/>
                      </a:lnTo>
                      <a:lnTo>
                        <a:pt x="1231" y="1826"/>
                      </a:lnTo>
                      <a:lnTo>
                        <a:pt x="1164" y="1818"/>
                      </a:lnTo>
                      <a:lnTo>
                        <a:pt x="1155" y="1750"/>
                      </a:lnTo>
                      <a:lnTo>
                        <a:pt x="1105" y="1683"/>
                      </a:lnTo>
                      <a:lnTo>
                        <a:pt x="860" y="1666"/>
                      </a:lnTo>
                      <a:lnTo>
                        <a:pt x="852" y="1666"/>
                      </a:lnTo>
                      <a:lnTo>
                        <a:pt x="843" y="1658"/>
                      </a:lnTo>
                      <a:lnTo>
                        <a:pt x="843" y="1649"/>
                      </a:lnTo>
                      <a:lnTo>
                        <a:pt x="911" y="126"/>
                      </a:lnTo>
                      <a:lnTo>
                        <a:pt x="911" y="109"/>
                      </a:lnTo>
                      <a:lnTo>
                        <a:pt x="919" y="101"/>
                      </a:lnTo>
                      <a:lnTo>
                        <a:pt x="936" y="93"/>
                      </a:lnTo>
                      <a:lnTo>
                        <a:pt x="944" y="93"/>
                      </a:lnTo>
                      <a:lnTo>
                        <a:pt x="953" y="93"/>
                      </a:lnTo>
                      <a:lnTo>
                        <a:pt x="2572" y="51"/>
                      </a:lnTo>
                      <a:lnTo>
                        <a:pt x="2885" y="84"/>
                      </a:lnTo>
                      <a:lnTo>
                        <a:pt x="2944" y="118"/>
                      </a:lnTo>
                      <a:lnTo>
                        <a:pt x="2986" y="93"/>
                      </a:lnTo>
                      <a:lnTo>
                        <a:pt x="2893" y="42"/>
                      </a:lnTo>
                      <a:lnTo>
                        <a:pt x="2589" y="0"/>
                      </a:lnTo>
                      <a:lnTo>
                        <a:pt x="869" y="42"/>
                      </a:lnTo>
                      <a:lnTo>
                        <a:pt x="793" y="1708"/>
                      </a:lnTo>
                      <a:lnTo>
                        <a:pt x="1096" y="1725"/>
                      </a:lnTo>
                      <a:lnTo>
                        <a:pt x="1122" y="1759"/>
                      </a:lnTo>
                      <a:lnTo>
                        <a:pt x="1122" y="1860"/>
                      </a:lnTo>
                      <a:lnTo>
                        <a:pt x="1206" y="1860"/>
                      </a:lnTo>
                      <a:lnTo>
                        <a:pt x="1206" y="1885"/>
                      </a:lnTo>
                      <a:lnTo>
                        <a:pt x="1366" y="1902"/>
                      </a:lnTo>
                      <a:lnTo>
                        <a:pt x="801" y="2028"/>
                      </a:lnTo>
                      <a:lnTo>
                        <a:pt x="801" y="2239"/>
                      </a:lnTo>
                      <a:lnTo>
                        <a:pt x="565" y="2213"/>
                      </a:lnTo>
                      <a:lnTo>
                        <a:pt x="396" y="2272"/>
                      </a:lnTo>
                      <a:lnTo>
                        <a:pt x="362" y="2297"/>
                      </a:lnTo>
                      <a:lnTo>
                        <a:pt x="320" y="2314"/>
                      </a:lnTo>
                      <a:lnTo>
                        <a:pt x="261" y="2348"/>
                      </a:lnTo>
                      <a:lnTo>
                        <a:pt x="219" y="2365"/>
                      </a:lnTo>
                      <a:lnTo>
                        <a:pt x="160" y="2382"/>
                      </a:lnTo>
                      <a:lnTo>
                        <a:pt x="92" y="2398"/>
                      </a:lnTo>
                      <a:lnTo>
                        <a:pt x="42" y="2407"/>
                      </a:lnTo>
                      <a:lnTo>
                        <a:pt x="8" y="2415"/>
                      </a:lnTo>
                      <a:lnTo>
                        <a:pt x="0" y="2550"/>
                      </a:lnTo>
                      <a:lnTo>
                        <a:pt x="42" y="2516"/>
                      </a:lnTo>
                      <a:lnTo>
                        <a:pt x="42" y="2449"/>
                      </a:lnTo>
                      <a:lnTo>
                        <a:pt x="143" y="2424"/>
                      </a:lnTo>
                      <a:lnTo>
                        <a:pt x="168" y="2415"/>
                      </a:lnTo>
                      <a:lnTo>
                        <a:pt x="202" y="2398"/>
                      </a:lnTo>
                      <a:lnTo>
                        <a:pt x="303" y="2365"/>
                      </a:lnTo>
                      <a:lnTo>
                        <a:pt x="371" y="2323"/>
                      </a:lnTo>
                      <a:lnTo>
                        <a:pt x="421" y="2297"/>
                      </a:lnTo>
                      <a:lnTo>
                        <a:pt x="455" y="2281"/>
                      </a:lnTo>
                      <a:lnTo>
                        <a:pt x="565" y="2247"/>
                      </a:lnTo>
                      <a:lnTo>
                        <a:pt x="843" y="2281"/>
                      </a:lnTo>
                      <a:lnTo>
                        <a:pt x="843" y="2053"/>
                      </a:lnTo>
                      <a:lnTo>
                        <a:pt x="1189" y="1969"/>
                      </a:lnTo>
                      <a:close/>
                    </a:path>
                  </a:pathLst>
                </a:custGeom>
                <a:solidFill>
                  <a:srgbClr val="000000"/>
                </a:solidFill>
                <a:ln w="50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7" name="Freeform 208"/>
                <p:cNvSpPr/>
                <p:nvPr/>
              </p:nvSpPr>
              <p:spPr>
                <a:xfrm flipH="1">
                  <a:off x="-232560" y="1992960"/>
                  <a:ext cx="486000" cy="83520"/>
                </a:xfrm>
                <a:custGeom>
                  <a:avLst/>
                  <a:gdLst>
                    <a:gd name="textAreaLeft" fmla="*/ 360 w 486000"/>
                    <a:gd name="textAreaRight" fmla="*/ 486720 w 486000"/>
                    <a:gd name="textAreaTop" fmla="*/ 0 h 83520"/>
                    <a:gd name="textAreaBottom" fmla="*/ 83880 h 83520"/>
                  </a:gdLst>
                  <a:ahLst/>
                  <a:rect l="textAreaLeft" t="textAreaTop" r="textAreaRight" b="textAreaBottom"/>
                  <a:pathLst>
                    <a:path w="2623" h="412">
                      <a:moveTo>
                        <a:pt x="2007" y="210"/>
                      </a:moveTo>
                      <a:lnTo>
                        <a:pt x="1957" y="244"/>
                      </a:lnTo>
                      <a:lnTo>
                        <a:pt x="1889" y="269"/>
                      </a:lnTo>
                      <a:lnTo>
                        <a:pt x="1847" y="277"/>
                      </a:lnTo>
                      <a:lnTo>
                        <a:pt x="1805" y="294"/>
                      </a:lnTo>
                      <a:lnTo>
                        <a:pt x="42" y="33"/>
                      </a:lnTo>
                      <a:lnTo>
                        <a:pt x="0" y="67"/>
                      </a:lnTo>
                      <a:lnTo>
                        <a:pt x="1805" y="319"/>
                      </a:lnTo>
                      <a:lnTo>
                        <a:pt x="1839" y="319"/>
                      </a:lnTo>
                      <a:lnTo>
                        <a:pt x="1872" y="311"/>
                      </a:lnTo>
                      <a:lnTo>
                        <a:pt x="1906" y="303"/>
                      </a:lnTo>
                      <a:lnTo>
                        <a:pt x="1931" y="286"/>
                      </a:lnTo>
                      <a:lnTo>
                        <a:pt x="1965" y="277"/>
                      </a:lnTo>
                      <a:lnTo>
                        <a:pt x="1982" y="260"/>
                      </a:lnTo>
                      <a:lnTo>
                        <a:pt x="2007" y="252"/>
                      </a:lnTo>
                      <a:lnTo>
                        <a:pt x="1999" y="303"/>
                      </a:lnTo>
                      <a:lnTo>
                        <a:pt x="2024" y="378"/>
                      </a:lnTo>
                      <a:lnTo>
                        <a:pt x="2328" y="412"/>
                      </a:lnTo>
                      <a:lnTo>
                        <a:pt x="2598" y="294"/>
                      </a:lnTo>
                      <a:lnTo>
                        <a:pt x="2598" y="227"/>
                      </a:lnTo>
                      <a:lnTo>
                        <a:pt x="2615" y="210"/>
                      </a:lnTo>
                      <a:lnTo>
                        <a:pt x="2623" y="193"/>
                      </a:lnTo>
                      <a:lnTo>
                        <a:pt x="2623" y="176"/>
                      </a:lnTo>
                      <a:lnTo>
                        <a:pt x="2623" y="159"/>
                      </a:lnTo>
                      <a:lnTo>
                        <a:pt x="2606" y="143"/>
                      </a:lnTo>
                      <a:lnTo>
                        <a:pt x="2598" y="126"/>
                      </a:lnTo>
                      <a:lnTo>
                        <a:pt x="2581" y="109"/>
                      </a:lnTo>
                      <a:lnTo>
                        <a:pt x="2564" y="101"/>
                      </a:lnTo>
                      <a:lnTo>
                        <a:pt x="2530" y="92"/>
                      </a:lnTo>
                      <a:lnTo>
                        <a:pt x="2505" y="84"/>
                      </a:lnTo>
                      <a:lnTo>
                        <a:pt x="2463" y="75"/>
                      </a:lnTo>
                      <a:lnTo>
                        <a:pt x="2429" y="67"/>
                      </a:lnTo>
                      <a:lnTo>
                        <a:pt x="2404" y="58"/>
                      </a:lnTo>
                      <a:lnTo>
                        <a:pt x="2505" y="25"/>
                      </a:lnTo>
                      <a:lnTo>
                        <a:pt x="2471" y="0"/>
                      </a:lnTo>
                      <a:lnTo>
                        <a:pt x="2311" y="50"/>
                      </a:lnTo>
                      <a:lnTo>
                        <a:pt x="2260" y="50"/>
                      </a:lnTo>
                      <a:lnTo>
                        <a:pt x="2244" y="58"/>
                      </a:lnTo>
                      <a:lnTo>
                        <a:pt x="2235" y="67"/>
                      </a:lnTo>
                      <a:lnTo>
                        <a:pt x="2328" y="75"/>
                      </a:lnTo>
                      <a:lnTo>
                        <a:pt x="2404" y="92"/>
                      </a:lnTo>
                      <a:lnTo>
                        <a:pt x="2463" y="101"/>
                      </a:lnTo>
                      <a:lnTo>
                        <a:pt x="2505" y="117"/>
                      </a:lnTo>
                      <a:lnTo>
                        <a:pt x="2530" y="126"/>
                      </a:lnTo>
                      <a:lnTo>
                        <a:pt x="2547" y="134"/>
                      </a:lnTo>
                      <a:lnTo>
                        <a:pt x="2572" y="151"/>
                      </a:lnTo>
                      <a:lnTo>
                        <a:pt x="2581" y="159"/>
                      </a:lnTo>
                      <a:lnTo>
                        <a:pt x="2589" y="168"/>
                      </a:lnTo>
                      <a:lnTo>
                        <a:pt x="2589" y="176"/>
                      </a:lnTo>
                      <a:lnTo>
                        <a:pt x="2589" y="185"/>
                      </a:lnTo>
                      <a:lnTo>
                        <a:pt x="2589" y="193"/>
                      </a:lnTo>
                      <a:lnTo>
                        <a:pt x="2581" y="202"/>
                      </a:lnTo>
                      <a:lnTo>
                        <a:pt x="2581" y="210"/>
                      </a:lnTo>
                      <a:lnTo>
                        <a:pt x="2572" y="210"/>
                      </a:lnTo>
                      <a:lnTo>
                        <a:pt x="2572" y="244"/>
                      </a:lnTo>
                      <a:lnTo>
                        <a:pt x="2572" y="269"/>
                      </a:lnTo>
                      <a:lnTo>
                        <a:pt x="2311" y="378"/>
                      </a:lnTo>
                      <a:lnTo>
                        <a:pt x="2050" y="353"/>
                      </a:lnTo>
                      <a:lnTo>
                        <a:pt x="2033" y="311"/>
                      </a:lnTo>
                      <a:lnTo>
                        <a:pt x="2041" y="227"/>
                      </a:lnTo>
                      <a:lnTo>
                        <a:pt x="2176" y="176"/>
                      </a:lnTo>
                      <a:lnTo>
                        <a:pt x="2303" y="168"/>
                      </a:lnTo>
                      <a:lnTo>
                        <a:pt x="2539" y="202"/>
                      </a:lnTo>
                      <a:lnTo>
                        <a:pt x="2547" y="202"/>
                      </a:lnTo>
                      <a:lnTo>
                        <a:pt x="2556" y="193"/>
                      </a:lnTo>
                      <a:lnTo>
                        <a:pt x="2564" y="193"/>
                      </a:lnTo>
                      <a:lnTo>
                        <a:pt x="2564" y="185"/>
                      </a:lnTo>
                      <a:lnTo>
                        <a:pt x="2564" y="176"/>
                      </a:lnTo>
                      <a:lnTo>
                        <a:pt x="2556" y="168"/>
                      </a:lnTo>
                      <a:lnTo>
                        <a:pt x="2547" y="159"/>
                      </a:lnTo>
                      <a:lnTo>
                        <a:pt x="2530" y="151"/>
                      </a:lnTo>
                      <a:lnTo>
                        <a:pt x="2505" y="134"/>
                      </a:lnTo>
                      <a:lnTo>
                        <a:pt x="2454" y="117"/>
                      </a:lnTo>
                      <a:lnTo>
                        <a:pt x="2370" y="101"/>
                      </a:lnTo>
                      <a:lnTo>
                        <a:pt x="2303" y="92"/>
                      </a:lnTo>
                      <a:lnTo>
                        <a:pt x="2260" y="84"/>
                      </a:lnTo>
                      <a:lnTo>
                        <a:pt x="2218" y="84"/>
                      </a:lnTo>
                      <a:lnTo>
                        <a:pt x="2193" y="84"/>
                      </a:lnTo>
                      <a:lnTo>
                        <a:pt x="2184" y="151"/>
                      </a:lnTo>
                      <a:lnTo>
                        <a:pt x="2218" y="143"/>
                      </a:lnTo>
                      <a:lnTo>
                        <a:pt x="2218" y="117"/>
                      </a:lnTo>
                      <a:lnTo>
                        <a:pt x="2294" y="117"/>
                      </a:lnTo>
                      <a:lnTo>
                        <a:pt x="2319" y="126"/>
                      </a:lnTo>
                      <a:lnTo>
                        <a:pt x="2345" y="126"/>
                      </a:lnTo>
                      <a:lnTo>
                        <a:pt x="2378" y="134"/>
                      </a:lnTo>
                      <a:lnTo>
                        <a:pt x="2404" y="143"/>
                      </a:lnTo>
                      <a:lnTo>
                        <a:pt x="2421" y="143"/>
                      </a:lnTo>
                      <a:lnTo>
                        <a:pt x="2438" y="151"/>
                      </a:lnTo>
                      <a:lnTo>
                        <a:pt x="2454" y="159"/>
                      </a:lnTo>
                      <a:lnTo>
                        <a:pt x="2328" y="134"/>
                      </a:lnTo>
                      <a:lnTo>
                        <a:pt x="2218" y="143"/>
                      </a:lnTo>
                      <a:lnTo>
                        <a:pt x="2184" y="151"/>
                      </a:lnTo>
                      <a:lnTo>
                        <a:pt x="2050" y="193"/>
                      </a:lnTo>
                      <a:lnTo>
                        <a:pt x="2007" y="210"/>
                      </a:lnTo>
                      <a:close/>
                    </a:path>
                  </a:pathLst>
                </a:custGeom>
                <a:solidFill>
                  <a:srgbClr val="000000"/>
                </a:solidFill>
                <a:ln w="5040">
                  <a:solidFill>
                    <a:srgbClr val="000000"/>
                  </a:solidFill>
                  <a:round/>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Freeform 207"/>
                <p:cNvSpPr/>
                <p:nvPr/>
              </p:nvSpPr>
              <p:spPr>
                <a:xfrm flipH="1">
                  <a:off x="-373320" y="1507680"/>
                  <a:ext cx="190440" cy="490320"/>
                </a:xfrm>
                <a:custGeom>
                  <a:avLst/>
                  <a:gdLst>
                    <a:gd name="textAreaLeft" fmla="*/ 360 w 190440"/>
                    <a:gd name="textAreaRight" fmla="*/ 191160 w 190440"/>
                    <a:gd name="textAreaTop" fmla="*/ 0 h 490320"/>
                    <a:gd name="textAreaBottom" fmla="*/ 490680 h 490320"/>
                  </a:gdLst>
                  <a:ahLst/>
                  <a:rect l="textAreaLeft" t="textAreaTop" r="textAreaRight" b="textAreaBottom"/>
                  <a:pathLst>
                    <a:path w="1029" h="2415">
                      <a:moveTo>
                        <a:pt x="329" y="2263"/>
                      </a:moveTo>
                      <a:lnTo>
                        <a:pt x="127" y="2339"/>
                      </a:lnTo>
                      <a:lnTo>
                        <a:pt x="110" y="2339"/>
                      </a:lnTo>
                      <a:lnTo>
                        <a:pt x="118" y="2390"/>
                      </a:lnTo>
                      <a:lnTo>
                        <a:pt x="152" y="2415"/>
                      </a:lnTo>
                      <a:lnTo>
                        <a:pt x="152" y="2373"/>
                      </a:lnTo>
                      <a:lnTo>
                        <a:pt x="574" y="2230"/>
                      </a:lnTo>
                      <a:lnTo>
                        <a:pt x="675" y="2238"/>
                      </a:lnTo>
                      <a:lnTo>
                        <a:pt x="827" y="2179"/>
                      </a:lnTo>
                      <a:lnTo>
                        <a:pt x="827" y="1843"/>
                      </a:lnTo>
                      <a:lnTo>
                        <a:pt x="515" y="1817"/>
                      </a:lnTo>
                      <a:lnTo>
                        <a:pt x="515" y="1784"/>
                      </a:lnTo>
                      <a:lnTo>
                        <a:pt x="135" y="1750"/>
                      </a:lnTo>
                      <a:lnTo>
                        <a:pt x="169" y="1742"/>
                      </a:lnTo>
                      <a:lnTo>
                        <a:pt x="439" y="1758"/>
                      </a:lnTo>
                      <a:lnTo>
                        <a:pt x="557" y="1733"/>
                      </a:lnTo>
                      <a:lnTo>
                        <a:pt x="557" y="1582"/>
                      </a:lnTo>
                      <a:lnTo>
                        <a:pt x="970" y="1531"/>
                      </a:lnTo>
                      <a:lnTo>
                        <a:pt x="1029" y="353"/>
                      </a:lnTo>
                      <a:lnTo>
                        <a:pt x="624" y="218"/>
                      </a:lnTo>
                      <a:lnTo>
                        <a:pt x="633" y="0"/>
                      </a:lnTo>
                      <a:lnTo>
                        <a:pt x="591" y="25"/>
                      </a:lnTo>
                      <a:lnTo>
                        <a:pt x="582" y="244"/>
                      </a:lnTo>
                      <a:lnTo>
                        <a:pt x="979" y="395"/>
                      </a:lnTo>
                      <a:lnTo>
                        <a:pt x="970" y="488"/>
                      </a:lnTo>
                      <a:lnTo>
                        <a:pt x="962" y="648"/>
                      </a:lnTo>
                      <a:lnTo>
                        <a:pt x="937" y="1245"/>
                      </a:lnTo>
                      <a:lnTo>
                        <a:pt x="928" y="1388"/>
                      </a:lnTo>
                      <a:lnTo>
                        <a:pt x="920" y="1489"/>
                      </a:lnTo>
                      <a:lnTo>
                        <a:pt x="506" y="1531"/>
                      </a:lnTo>
                      <a:lnTo>
                        <a:pt x="506" y="1691"/>
                      </a:lnTo>
                      <a:lnTo>
                        <a:pt x="447" y="1700"/>
                      </a:lnTo>
                      <a:lnTo>
                        <a:pt x="219" y="1691"/>
                      </a:lnTo>
                      <a:lnTo>
                        <a:pt x="0" y="1767"/>
                      </a:lnTo>
                      <a:lnTo>
                        <a:pt x="0" y="1784"/>
                      </a:lnTo>
                      <a:lnTo>
                        <a:pt x="481" y="1834"/>
                      </a:lnTo>
                      <a:lnTo>
                        <a:pt x="481" y="1859"/>
                      </a:lnTo>
                      <a:lnTo>
                        <a:pt x="776" y="1885"/>
                      </a:lnTo>
                      <a:lnTo>
                        <a:pt x="768" y="2112"/>
                      </a:lnTo>
                      <a:lnTo>
                        <a:pt x="768" y="2154"/>
                      </a:lnTo>
                      <a:lnTo>
                        <a:pt x="667" y="2188"/>
                      </a:lnTo>
                      <a:lnTo>
                        <a:pt x="582" y="2179"/>
                      </a:lnTo>
                      <a:lnTo>
                        <a:pt x="329" y="2263"/>
                      </a:lnTo>
                      <a:close/>
                    </a:path>
                  </a:pathLst>
                </a:custGeom>
                <a:solidFill>
                  <a:srgbClr val="000000"/>
                </a:solidFill>
                <a:ln w="50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Freeform 206"/>
                <p:cNvSpPr/>
                <p:nvPr/>
              </p:nvSpPr>
              <p:spPr>
                <a:xfrm flipH="1">
                  <a:off x="-226080" y="1499040"/>
                  <a:ext cx="323280" cy="349920"/>
                </a:xfrm>
                <a:custGeom>
                  <a:avLst/>
                  <a:gdLst>
                    <a:gd name="textAreaLeft" fmla="*/ 0 w 323280"/>
                    <a:gd name="textAreaRight" fmla="*/ 323280 w 323280"/>
                    <a:gd name="textAreaTop" fmla="*/ 0 h 349920"/>
                    <a:gd name="textAreaBottom" fmla="*/ 350280 h 349920"/>
                  </a:gdLst>
                  <a:ahLst/>
                  <a:rect l="textAreaLeft" t="textAreaTop" r="textAreaRight" b="textAreaBottom"/>
                  <a:pathLst>
                    <a:path w="1746" h="1725">
                      <a:moveTo>
                        <a:pt x="262" y="1632"/>
                      </a:moveTo>
                      <a:lnTo>
                        <a:pt x="1274" y="1699"/>
                      </a:lnTo>
                      <a:lnTo>
                        <a:pt x="1637" y="1725"/>
                      </a:lnTo>
                      <a:lnTo>
                        <a:pt x="1645" y="1725"/>
                      </a:lnTo>
                      <a:lnTo>
                        <a:pt x="1654" y="1716"/>
                      </a:lnTo>
                      <a:lnTo>
                        <a:pt x="1654" y="1708"/>
                      </a:lnTo>
                      <a:lnTo>
                        <a:pt x="1662" y="1699"/>
                      </a:lnTo>
                      <a:lnTo>
                        <a:pt x="1746" y="16"/>
                      </a:lnTo>
                      <a:lnTo>
                        <a:pt x="1746" y="8"/>
                      </a:lnTo>
                      <a:lnTo>
                        <a:pt x="1738" y="0"/>
                      </a:lnTo>
                      <a:lnTo>
                        <a:pt x="1729" y="0"/>
                      </a:lnTo>
                      <a:lnTo>
                        <a:pt x="110" y="42"/>
                      </a:lnTo>
                      <a:lnTo>
                        <a:pt x="101" y="42"/>
                      </a:lnTo>
                      <a:lnTo>
                        <a:pt x="93" y="42"/>
                      </a:lnTo>
                      <a:lnTo>
                        <a:pt x="76" y="50"/>
                      </a:lnTo>
                      <a:lnTo>
                        <a:pt x="68" y="58"/>
                      </a:lnTo>
                      <a:lnTo>
                        <a:pt x="68" y="75"/>
                      </a:lnTo>
                      <a:lnTo>
                        <a:pt x="0" y="1598"/>
                      </a:lnTo>
                      <a:lnTo>
                        <a:pt x="0" y="1607"/>
                      </a:lnTo>
                      <a:lnTo>
                        <a:pt x="9" y="1615"/>
                      </a:lnTo>
                      <a:lnTo>
                        <a:pt x="17" y="1615"/>
                      </a:lnTo>
                      <a:lnTo>
                        <a:pt x="262" y="1632"/>
                      </a:lnTo>
                      <a:close/>
                    </a:path>
                  </a:pathLst>
                </a:custGeom>
                <a:solidFill>
                  <a:srgbClr val="ffffff"/>
                </a:solidFill>
                <a:ln w="50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0" name="Freeform 205"/>
                <p:cNvSpPr/>
                <p:nvPr/>
              </p:nvSpPr>
              <p:spPr>
                <a:xfrm flipH="1">
                  <a:off x="-192240" y="1538280"/>
                  <a:ext cx="265680" cy="271440"/>
                </a:xfrm>
                <a:custGeom>
                  <a:avLst/>
                  <a:gdLst>
                    <a:gd name="textAreaLeft" fmla="*/ -360 w 265680"/>
                    <a:gd name="textAreaRight" fmla="*/ 265680 w 265680"/>
                    <a:gd name="textAreaTop" fmla="*/ 0 h 271440"/>
                    <a:gd name="textAreaBottom" fmla="*/ 271800 h 271440"/>
                  </a:gdLst>
                  <a:ahLst/>
                  <a:rect l="textAreaLeft" t="textAreaTop" r="textAreaRight" b="textAreaBottom"/>
                  <a:pathLst>
                    <a:path w="1434" h="1338">
                      <a:moveTo>
                        <a:pt x="17" y="1246"/>
                      </a:moveTo>
                      <a:lnTo>
                        <a:pt x="8" y="1246"/>
                      </a:lnTo>
                      <a:lnTo>
                        <a:pt x="0" y="1237"/>
                      </a:lnTo>
                      <a:lnTo>
                        <a:pt x="0" y="1229"/>
                      </a:lnTo>
                      <a:lnTo>
                        <a:pt x="0" y="1220"/>
                      </a:lnTo>
                      <a:lnTo>
                        <a:pt x="59" y="59"/>
                      </a:lnTo>
                      <a:lnTo>
                        <a:pt x="67" y="42"/>
                      </a:lnTo>
                      <a:lnTo>
                        <a:pt x="84" y="34"/>
                      </a:lnTo>
                      <a:lnTo>
                        <a:pt x="1349" y="0"/>
                      </a:lnTo>
                      <a:lnTo>
                        <a:pt x="1392" y="0"/>
                      </a:lnTo>
                      <a:lnTo>
                        <a:pt x="1408" y="0"/>
                      </a:lnTo>
                      <a:lnTo>
                        <a:pt x="1417" y="0"/>
                      </a:lnTo>
                      <a:lnTo>
                        <a:pt x="1434" y="9"/>
                      </a:lnTo>
                      <a:lnTo>
                        <a:pt x="1434" y="17"/>
                      </a:lnTo>
                      <a:lnTo>
                        <a:pt x="1434" y="25"/>
                      </a:lnTo>
                      <a:lnTo>
                        <a:pt x="1434" y="34"/>
                      </a:lnTo>
                      <a:lnTo>
                        <a:pt x="1375" y="1279"/>
                      </a:lnTo>
                      <a:lnTo>
                        <a:pt x="1375" y="1296"/>
                      </a:lnTo>
                      <a:lnTo>
                        <a:pt x="1375" y="1313"/>
                      </a:lnTo>
                      <a:lnTo>
                        <a:pt x="1366" y="1330"/>
                      </a:lnTo>
                      <a:lnTo>
                        <a:pt x="1349" y="1338"/>
                      </a:lnTo>
                      <a:lnTo>
                        <a:pt x="1333" y="1338"/>
                      </a:lnTo>
                      <a:lnTo>
                        <a:pt x="17" y="1246"/>
                      </a:lnTo>
                      <a:close/>
                    </a:path>
                  </a:pathLst>
                </a:custGeom>
                <a:solidFill>
                  <a:srgbClr val="0080ff"/>
                </a:solidFill>
                <a:ln w="50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Freeform 204"/>
                <p:cNvSpPr/>
                <p:nvPr/>
              </p:nvSpPr>
              <p:spPr>
                <a:xfrm flipH="1">
                  <a:off x="-189000" y="1545120"/>
                  <a:ext cx="255960" cy="255960"/>
                </a:xfrm>
                <a:custGeom>
                  <a:avLst/>
                  <a:gdLst>
                    <a:gd name="textAreaLeft" fmla="*/ 360 w 255960"/>
                    <a:gd name="textAreaRight" fmla="*/ 256680 w 255960"/>
                    <a:gd name="textAreaTop" fmla="*/ 0 h 255960"/>
                    <a:gd name="textAreaBottom" fmla="*/ 255960 h 255960"/>
                  </a:gdLst>
                  <a:ahLst/>
                  <a:rect l="textAreaLeft" t="textAreaTop" r="textAreaRight" b="textAreaBottom"/>
                  <a:pathLst>
                    <a:path w="1383" h="1262">
                      <a:moveTo>
                        <a:pt x="1383" y="0"/>
                      </a:moveTo>
                      <a:lnTo>
                        <a:pt x="67" y="25"/>
                      </a:lnTo>
                      <a:lnTo>
                        <a:pt x="0" y="1178"/>
                      </a:lnTo>
                      <a:lnTo>
                        <a:pt x="1307" y="1262"/>
                      </a:lnTo>
                      <a:lnTo>
                        <a:pt x="1383" y="0"/>
                      </a:lnTo>
                      <a:close/>
                    </a:path>
                  </a:pathLst>
                </a:custGeom>
                <a:solidFill>
                  <a:srgbClr val="0000ff"/>
                </a:solidFill>
                <a:ln w="50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Freeform 203"/>
                <p:cNvSpPr/>
                <p:nvPr/>
              </p:nvSpPr>
              <p:spPr>
                <a:xfrm flipH="1">
                  <a:off x="-280800" y="1499040"/>
                  <a:ext cx="74880" cy="353520"/>
                </a:xfrm>
                <a:custGeom>
                  <a:avLst/>
                  <a:gdLst>
                    <a:gd name="textAreaLeft" fmla="*/ -360 w 74880"/>
                    <a:gd name="textAreaRight" fmla="*/ 74880 w 74880"/>
                    <a:gd name="textAreaTop" fmla="*/ 0 h 353520"/>
                    <a:gd name="textAreaBottom" fmla="*/ 353880 h 353520"/>
                  </a:gdLst>
                  <a:ahLst/>
                  <a:rect l="textAreaLeft" t="textAreaTop" r="textAreaRight" b="textAreaBottom"/>
                  <a:pathLst>
                    <a:path w="405" h="1742">
                      <a:moveTo>
                        <a:pt x="92" y="1733"/>
                      </a:moveTo>
                      <a:lnTo>
                        <a:pt x="320" y="1742"/>
                      </a:lnTo>
                      <a:lnTo>
                        <a:pt x="337" y="1253"/>
                      </a:lnTo>
                      <a:lnTo>
                        <a:pt x="371" y="664"/>
                      </a:lnTo>
                      <a:lnTo>
                        <a:pt x="405" y="33"/>
                      </a:lnTo>
                      <a:lnTo>
                        <a:pt x="92" y="0"/>
                      </a:lnTo>
                      <a:lnTo>
                        <a:pt x="101" y="0"/>
                      </a:lnTo>
                      <a:lnTo>
                        <a:pt x="109" y="8"/>
                      </a:lnTo>
                      <a:lnTo>
                        <a:pt x="109" y="16"/>
                      </a:lnTo>
                      <a:lnTo>
                        <a:pt x="25" y="1699"/>
                      </a:lnTo>
                      <a:lnTo>
                        <a:pt x="17" y="1708"/>
                      </a:lnTo>
                      <a:lnTo>
                        <a:pt x="17" y="1716"/>
                      </a:lnTo>
                      <a:lnTo>
                        <a:pt x="8" y="1725"/>
                      </a:lnTo>
                      <a:lnTo>
                        <a:pt x="0" y="1725"/>
                      </a:lnTo>
                      <a:lnTo>
                        <a:pt x="92" y="1733"/>
                      </a:lnTo>
                      <a:close/>
                    </a:path>
                  </a:pathLst>
                </a:custGeom>
                <a:solidFill>
                  <a:srgbClr val="0080ff"/>
                </a:solidFill>
                <a:ln w="50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Freeform 202"/>
                <p:cNvSpPr/>
                <p:nvPr/>
              </p:nvSpPr>
              <p:spPr>
                <a:xfrm flipH="1">
                  <a:off x="-363960" y="1505880"/>
                  <a:ext cx="98280" cy="346680"/>
                </a:xfrm>
                <a:custGeom>
                  <a:avLst/>
                  <a:gdLst>
                    <a:gd name="textAreaLeft" fmla="*/ 360 w 98280"/>
                    <a:gd name="textAreaRight" fmla="*/ 99000 w 98280"/>
                    <a:gd name="textAreaTop" fmla="*/ 0 h 346680"/>
                    <a:gd name="textAreaBottom" fmla="*/ 347040 h 346680"/>
                  </a:gdLst>
                  <a:ahLst/>
                  <a:rect l="textAreaLeft" t="textAreaTop" r="textAreaRight" b="textAreaBottom"/>
                  <a:pathLst>
                    <a:path w="532" h="1709">
                      <a:moveTo>
                        <a:pt x="481" y="1397"/>
                      </a:moveTo>
                      <a:lnTo>
                        <a:pt x="76" y="1397"/>
                      </a:lnTo>
                      <a:lnTo>
                        <a:pt x="76" y="1229"/>
                      </a:lnTo>
                      <a:lnTo>
                        <a:pt x="490" y="1254"/>
                      </a:lnTo>
                      <a:lnTo>
                        <a:pt x="515" y="657"/>
                      </a:lnTo>
                      <a:lnTo>
                        <a:pt x="110" y="572"/>
                      </a:lnTo>
                      <a:lnTo>
                        <a:pt x="118" y="404"/>
                      </a:lnTo>
                      <a:lnTo>
                        <a:pt x="523" y="497"/>
                      </a:lnTo>
                      <a:lnTo>
                        <a:pt x="532" y="404"/>
                      </a:lnTo>
                      <a:lnTo>
                        <a:pt x="135" y="253"/>
                      </a:lnTo>
                      <a:lnTo>
                        <a:pt x="144" y="34"/>
                      </a:lnTo>
                      <a:lnTo>
                        <a:pt x="85" y="0"/>
                      </a:lnTo>
                      <a:lnTo>
                        <a:pt x="51" y="631"/>
                      </a:lnTo>
                      <a:lnTo>
                        <a:pt x="17" y="1220"/>
                      </a:lnTo>
                      <a:lnTo>
                        <a:pt x="0" y="1709"/>
                      </a:lnTo>
                      <a:lnTo>
                        <a:pt x="59" y="1700"/>
                      </a:lnTo>
                      <a:lnTo>
                        <a:pt x="59" y="1540"/>
                      </a:lnTo>
                      <a:lnTo>
                        <a:pt x="473" y="1498"/>
                      </a:lnTo>
                      <a:lnTo>
                        <a:pt x="481" y="1397"/>
                      </a:lnTo>
                      <a:close/>
                    </a:path>
                  </a:pathLst>
                </a:custGeom>
                <a:solidFill>
                  <a:srgbClr val="0080ff"/>
                </a:solidFill>
                <a:ln w="50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Freeform 201"/>
                <p:cNvSpPr/>
                <p:nvPr/>
              </p:nvSpPr>
              <p:spPr>
                <a:xfrm flipH="1">
                  <a:off x="-361800" y="1587960"/>
                  <a:ext cx="76320" cy="51120"/>
                </a:xfrm>
                <a:custGeom>
                  <a:avLst/>
                  <a:gdLst>
                    <a:gd name="textAreaLeft" fmla="*/ -360 w 76320"/>
                    <a:gd name="textAreaRight" fmla="*/ 76320 w 76320"/>
                    <a:gd name="textAreaTop" fmla="*/ 0 h 51120"/>
                    <a:gd name="textAreaBottom" fmla="*/ 51480 h 51120"/>
                  </a:gdLst>
                  <a:ahLst/>
                  <a:rect l="textAreaLeft" t="textAreaTop" r="textAreaRight" b="textAreaBottom"/>
                  <a:pathLst>
                    <a:path w="413" h="253">
                      <a:moveTo>
                        <a:pt x="405" y="253"/>
                      </a:moveTo>
                      <a:lnTo>
                        <a:pt x="413" y="93"/>
                      </a:lnTo>
                      <a:lnTo>
                        <a:pt x="8" y="0"/>
                      </a:lnTo>
                      <a:lnTo>
                        <a:pt x="0" y="168"/>
                      </a:lnTo>
                      <a:lnTo>
                        <a:pt x="405" y="253"/>
                      </a:lnTo>
                      <a:close/>
                    </a:path>
                  </a:pathLst>
                </a:custGeom>
                <a:solidFill>
                  <a:srgbClr val="0080ff"/>
                </a:solidFill>
                <a:ln w="5040">
                  <a:solidFill>
                    <a:srgbClr val="000000"/>
                  </a:solidFill>
                  <a:round/>
                </a:ln>
              </p:spPr>
              <p:style>
                <a:lnRef idx="0"/>
                <a:fillRef idx="0"/>
                <a:effectRef idx="0"/>
                <a:fontRef idx="minor"/>
              </p:style>
              <p:txBody>
                <a:bodyPr lIns="90000" rIns="90000" tIns="4680" bIns="4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Freeform 200"/>
                <p:cNvSpPr/>
                <p:nvPr/>
              </p:nvSpPr>
              <p:spPr>
                <a:xfrm flipH="1">
                  <a:off x="-356400" y="1755360"/>
                  <a:ext cx="76680" cy="33840"/>
                </a:xfrm>
                <a:custGeom>
                  <a:avLst/>
                  <a:gdLst>
                    <a:gd name="textAreaLeft" fmla="*/ 0 w 76680"/>
                    <a:gd name="textAreaRight" fmla="*/ 76680 w 76680"/>
                    <a:gd name="textAreaTop" fmla="*/ 0 h 33840"/>
                    <a:gd name="textAreaBottom" fmla="*/ 34200 h 33840"/>
                  </a:gdLst>
                  <a:ahLst/>
                  <a:rect l="textAreaLeft" t="textAreaTop" r="textAreaRight" b="textAreaBottom"/>
                  <a:pathLst>
                    <a:path w="414" h="168">
                      <a:moveTo>
                        <a:pt x="405" y="168"/>
                      </a:moveTo>
                      <a:lnTo>
                        <a:pt x="414" y="25"/>
                      </a:lnTo>
                      <a:lnTo>
                        <a:pt x="0" y="0"/>
                      </a:lnTo>
                      <a:lnTo>
                        <a:pt x="0" y="168"/>
                      </a:lnTo>
                      <a:lnTo>
                        <a:pt x="405" y="168"/>
                      </a:lnTo>
                      <a:close/>
                    </a:path>
                  </a:pathLst>
                </a:custGeom>
                <a:solidFill>
                  <a:srgbClr val="0080ff"/>
                </a:solidFill>
                <a:ln w="5040">
                  <a:solidFill>
                    <a:srgbClr val="000000"/>
                  </a:solidFill>
                  <a:round/>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6" name="Freeform 199"/>
                <p:cNvSpPr/>
                <p:nvPr/>
              </p:nvSpPr>
              <p:spPr>
                <a:xfrm flipH="1">
                  <a:off x="-222840" y="1844280"/>
                  <a:ext cx="84240" cy="32400"/>
                </a:xfrm>
                <a:custGeom>
                  <a:avLst/>
                  <a:gdLst>
                    <a:gd name="textAreaLeft" fmla="*/ -360 w 84240"/>
                    <a:gd name="textAreaRight" fmla="*/ 84240 w 84240"/>
                    <a:gd name="textAreaTop" fmla="*/ 0 h 32400"/>
                    <a:gd name="textAreaBottom" fmla="*/ 32760 h 32400"/>
                  </a:gdLst>
                  <a:ahLst/>
                  <a:rect l="textAreaLeft" t="textAreaTop" r="textAreaRight" b="textAreaBottom"/>
                  <a:pathLst>
                    <a:path w="455" h="160">
                      <a:moveTo>
                        <a:pt x="143" y="135"/>
                      </a:moveTo>
                      <a:lnTo>
                        <a:pt x="236" y="110"/>
                      </a:lnTo>
                      <a:lnTo>
                        <a:pt x="455" y="34"/>
                      </a:lnTo>
                      <a:lnTo>
                        <a:pt x="363" y="26"/>
                      </a:lnTo>
                      <a:lnTo>
                        <a:pt x="0" y="0"/>
                      </a:lnTo>
                      <a:lnTo>
                        <a:pt x="42" y="93"/>
                      </a:lnTo>
                      <a:lnTo>
                        <a:pt x="42" y="160"/>
                      </a:lnTo>
                      <a:lnTo>
                        <a:pt x="143" y="135"/>
                      </a:lnTo>
                      <a:close/>
                    </a:path>
                  </a:pathLst>
                </a:custGeom>
                <a:solidFill>
                  <a:srgbClr val="0080ff"/>
                </a:solidFill>
                <a:ln w="5040">
                  <a:solidFill>
                    <a:srgbClr val="000000"/>
                  </a:solidFill>
                  <a:round/>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Freeform 198"/>
                <p:cNvSpPr/>
                <p:nvPr/>
              </p:nvSpPr>
              <p:spPr>
                <a:xfrm flipH="1">
                  <a:off x="-146520" y="1844280"/>
                  <a:ext cx="185760" cy="32400"/>
                </a:xfrm>
                <a:custGeom>
                  <a:avLst/>
                  <a:gdLst>
                    <a:gd name="textAreaLeft" fmla="*/ -360 w 185760"/>
                    <a:gd name="textAreaRight" fmla="*/ 185760 w 185760"/>
                    <a:gd name="textAreaTop" fmla="*/ 0 h 32400"/>
                    <a:gd name="textAreaBottom" fmla="*/ 32760 h 32400"/>
                  </a:gdLst>
                  <a:ahLst/>
                  <a:rect l="textAreaLeft" t="textAreaTop" r="textAreaRight" b="textAreaBottom"/>
                  <a:pathLst>
                    <a:path w="1004" h="160">
                      <a:moveTo>
                        <a:pt x="1004" y="160"/>
                      </a:moveTo>
                      <a:lnTo>
                        <a:pt x="1004" y="93"/>
                      </a:lnTo>
                      <a:lnTo>
                        <a:pt x="675" y="59"/>
                      </a:lnTo>
                      <a:lnTo>
                        <a:pt x="667" y="59"/>
                      </a:lnTo>
                      <a:lnTo>
                        <a:pt x="658" y="68"/>
                      </a:lnTo>
                      <a:lnTo>
                        <a:pt x="641" y="68"/>
                      </a:lnTo>
                      <a:lnTo>
                        <a:pt x="616" y="68"/>
                      </a:lnTo>
                      <a:lnTo>
                        <a:pt x="608" y="68"/>
                      </a:lnTo>
                      <a:lnTo>
                        <a:pt x="599" y="59"/>
                      </a:lnTo>
                      <a:lnTo>
                        <a:pt x="599" y="51"/>
                      </a:lnTo>
                      <a:lnTo>
                        <a:pt x="464" y="43"/>
                      </a:lnTo>
                      <a:lnTo>
                        <a:pt x="456" y="51"/>
                      </a:lnTo>
                      <a:lnTo>
                        <a:pt x="447" y="59"/>
                      </a:lnTo>
                      <a:lnTo>
                        <a:pt x="431" y="51"/>
                      </a:lnTo>
                      <a:lnTo>
                        <a:pt x="414" y="51"/>
                      </a:lnTo>
                      <a:lnTo>
                        <a:pt x="405" y="51"/>
                      </a:lnTo>
                      <a:lnTo>
                        <a:pt x="397" y="43"/>
                      </a:lnTo>
                      <a:lnTo>
                        <a:pt x="388" y="34"/>
                      </a:lnTo>
                      <a:lnTo>
                        <a:pt x="355" y="34"/>
                      </a:lnTo>
                      <a:lnTo>
                        <a:pt x="346" y="34"/>
                      </a:lnTo>
                      <a:lnTo>
                        <a:pt x="346" y="43"/>
                      </a:lnTo>
                      <a:lnTo>
                        <a:pt x="338" y="43"/>
                      </a:lnTo>
                      <a:lnTo>
                        <a:pt x="312" y="43"/>
                      </a:lnTo>
                      <a:lnTo>
                        <a:pt x="296" y="43"/>
                      </a:lnTo>
                      <a:lnTo>
                        <a:pt x="287" y="34"/>
                      </a:lnTo>
                      <a:lnTo>
                        <a:pt x="279" y="34"/>
                      </a:lnTo>
                      <a:lnTo>
                        <a:pt x="279" y="26"/>
                      </a:lnTo>
                      <a:lnTo>
                        <a:pt x="253" y="26"/>
                      </a:lnTo>
                      <a:lnTo>
                        <a:pt x="245" y="26"/>
                      </a:lnTo>
                      <a:lnTo>
                        <a:pt x="245" y="34"/>
                      </a:lnTo>
                      <a:lnTo>
                        <a:pt x="228" y="34"/>
                      </a:lnTo>
                      <a:lnTo>
                        <a:pt x="203" y="34"/>
                      </a:lnTo>
                      <a:lnTo>
                        <a:pt x="186" y="26"/>
                      </a:lnTo>
                      <a:lnTo>
                        <a:pt x="177" y="26"/>
                      </a:lnTo>
                      <a:lnTo>
                        <a:pt x="169" y="17"/>
                      </a:lnTo>
                      <a:lnTo>
                        <a:pt x="152" y="17"/>
                      </a:lnTo>
                      <a:lnTo>
                        <a:pt x="144" y="17"/>
                      </a:lnTo>
                      <a:lnTo>
                        <a:pt x="144" y="26"/>
                      </a:lnTo>
                      <a:lnTo>
                        <a:pt x="135" y="26"/>
                      </a:lnTo>
                      <a:lnTo>
                        <a:pt x="118" y="26"/>
                      </a:lnTo>
                      <a:lnTo>
                        <a:pt x="110" y="26"/>
                      </a:lnTo>
                      <a:lnTo>
                        <a:pt x="102" y="26"/>
                      </a:lnTo>
                      <a:lnTo>
                        <a:pt x="93" y="26"/>
                      </a:lnTo>
                      <a:lnTo>
                        <a:pt x="85" y="17"/>
                      </a:lnTo>
                      <a:lnTo>
                        <a:pt x="76" y="9"/>
                      </a:lnTo>
                      <a:lnTo>
                        <a:pt x="68" y="9"/>
                      </a:lnTo>
                      <a:lnTo>
                        <a:pt x="0" y="0"/>
                      </a:lnTo>
                      <a:lnTo>
                        <a:pt x="9" y="68"/>
                      </a:lnTo>
                      <a:lnTo>
                        <a:pt x="76" y="76"/>
                      </a:lnTo>
                      <a:lnTo>
                        <a:pt x="1004" y="160"/>
                      </a:lnTo>
                      <a:close/>
                    </a:path>
                  </a:pathLst>
                </a:custGeom>
                <a:solidFill>
                  <a:srgbClr val="ffffff"/>
                </a:solidFill>
                <a:ln w="5040">
                  <a:solidFill>
                    <a:srgbClr val="000000"/>
                  </a:solidFill>
                  <a:round/>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Freeform 197"/>
                <p:cNvSpPr/>
                <p:nvPr/>
              </p:nvSpPr>
              <p:spPr>
                <a:xfrm flipH="1">
                  <a:off x="-146880" y="1859400"/>
                  <a:ext cx="171720" cy="23760"/>
                </a:xfrm>
                <a:custGeom>
                  <a:avLst/>
                  <a:gdLst>
                    <a:gd name="textAreaLeft" fmla="*/ 360 w 171720"/>
                    <a:gd name="textAreaRight" fmla="*/ 172440 w 171720"/>
                    <a:gd name="textAreaTop" fmla="*/ 0 h 23760"/>
                    <a:gd name="textAreaBottom" fmla="*/ 24120 h 23760"/>
                  </a:gdLst>
                  <a:ahLst/>
                  <a:rect l="textAreaLeft" t="textAreaTop" r="textAreaRight" b="textAreaBottom"/>
                  <a:pathLst>
                    <a:path w="928" h="118">
                      <a:moveTo>
                        <a:pt x="338" y="59"/>
                      </a:moveTo>
                      <a:lnTo>
                        <a:pt x="515" y="76"/>
                      </a:lnTo>
                      <a:lnTo>
                        <a:pt x="928" y="118"/>
                      </a:lnTo>
                      <a:lnTo>
                        <a:pt x="928" y="84"/>
                      </a:lnTo>
                      <a:lnTo>
                        <a:pt x="0" y="0"/>
                      </a:lnTo>
                      <a:lnTo>
                        <a:pt x="0" y="34"/>
                      </a:lnTo>
                      <a:lnTo>
                        <a:pt x="338" y="59"/>
                      </a:lnTo>
                      <a:close/>
                    </a:path>
                  </a:pathLst>
                </a:custGeom>
                <a:solidFill>
                  <a:srgbClr val="ffffff"/>
                </a:solidFill>
                <a:ln w="5040">
                  <a:solidFill>
                    <a:srgbClr val="000000"/>
                  </a:solidFill>
                  <a:round/>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Freeform 196"/>
                <p:cNvSpPr/>
                <p:nvPr/>
              </p:nvSpPr>
              <p:spPr>
                <a:xfrm flipH="1">
                  <a:off x="-182520" y="1866600"/>
                  <a:ext cx="112320" cy="25560"/>
                </a:xfrm>
                <a:custGeom>
                  <a:avLst/>
                  <a:gdLst>
                    <a:gd name="textAreaLeft" fmla="*/ -360 w 112320"/>
                    <a:gd name="textAreaRight" fmla="*/ 112320 w 112320"/>
                    <a:gd name="textAreaTop" fmla="*/ 0 h 25560"/>
                    <a:gd name="textAreaBottom" fmla="*/ 25920 h 25560"/>
                  </a:gdLst>
                  <a:ahLst/>
                  <a:rect l="textAreaLeft" t="textAreaTop" r="textAreaRight" b="textAreaBottom"/>
                  <a:pathLst>
                    <a:path w="607" h="126">
                      <a:moveTo>
                        <a:pt x="607" y="17"/>
                      </a:moveTo>
                      <a:lnTo>
                        <a:pt x="607" y="0"/>
                      </a:lnTo>
                      <a:lnTo>
                        <a:pt x="514" y="25"/>
                      </a:lnTo>
                      <a:lnTo>
                        <a:pt x="514" y="50"/>
                      </a:lnTo>
                      <a:lnTo>
                        <a:pt x="413" y="84"/>
                      </a:lnTo>
                      <a:lnTo>
                        <a:pt x="0" y="42"/>
                      </a:lnTo>
                      <a:lnTo>
                        <a:pt x="0" y="67"/>
                      </a:lnTo>
                      <a:lnTo>
                        <a:pt x="8" y="76"/>
                      </a:lnTo>
                      <a:lnTo>
                        <a:pt x="50" y="92"/>
                      </a:lnTo>
                      <a:lnTo>
                        <a:pt x="84" y="101"/>
                      </a:lnTo>
                      <a:lnTo>
                        <a:pt x="152" y="109"/>
                      </a:lnTo>
                      <a:lnTo>
                        <a:pt x="211" y="126"/>
                      </a:lnTo>
                      <a:lnTo>
                        <a:pt x="270" y="126"/>
                      </a:lnTo>
                      <a:lnTo>
                        <a:pt x="320" y="126"/>
                      </a:lnTo>
                      <a:lnTo>
                        <a:pt x="396" y="126"/>
                      </a:lnTo>
                      <a:lnTo>
                        <a:pt x="472" y="118"/>
                      </a:lnTo>
                      <a:lnTo>
                        <a:pt x="531" y="109"/>
                      </a:lnTo>
                      <a:lnTo>
                        <a:pt x="565" y="101"/>
                      </a:lnTo>
                      <a:lnTo>
                        <a:pt x="590" y="84"/>
                      </a:lnTo>
                      <a:lnTo>
                        <a:pt x="607" y="76"/>
                      </a:lnTo>
                      <a:lnTo>
                        <a:pt x="607" y="17"/>
                      </a:lnTo>
                      <a:close/>
                    </a:path>
                  </a:pathLst>
                </a:custGeom>
                <a:solidFill>
                  <a:srgbClr val="ffffff"/>
                </a:solidFill>
                <a:ln w="504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0" name="Freeform 195"/>
                <p:cNvSpPr/>
                <p:nvPr/>
              </p:nvSpPr>
              <p:spPr>
                <a:xfrm flipH="1">
                  <a:off x="11160" y="1841040"/>
                  <a:ext cx="16920" cy="8280"/>
                </a:xfrm>
                <a:custGeom>
                  <a:avLst/>
                  <a:gdLst>
                    <a:gd name="textAreaLeft" fmla="*/ -360 w 16920"/>
                    <a:gd name="textAreaRight" fmla="*/ 16920 w 16920"/>
                    <a:gd name="textAreaTop" fmla="*/ 0 h 8280"/>
                    <a:gd name="textAreaBottom" fmla="*/ 8640 h 8280"/>
                  </a:gdLst>
                  <a:ahLst/>
                  <a:rect l="textAreaLeft" t="textAreaTop" r="textAreaRight" b="textAreaBottom"/>
                  <a:pathLst>
                    <a:path w="93" h="42">
                      <a:moveTo>
                        <a:pt x="93" y="33"/>
                      </a:moveTo>
                      <a:lnTo>
                        <a:pt x="76" y="8"/>
                      </a:lnTo>
                      <a:lnTo>
                        <a:pt x="0" y="0"/>
                      </a:lnTo>
                      <a:lnTo>
                        <a:pt x="9" y="25"/>
                      </a:lnTo>
                      <a:lnTo>
                        <a:pt x="17" y="25"/>
                      </a:lnTo>
                      <a:lnTo>
                        <a:pt x="26" y="33"/>
                      </a:lnTo>
                      <a:lnTo>
                        <a:pt x="34" y="42"/>
                      </a:lnTo>
                      <a:lnTo>
                        <a:pt x="43" y="42"/>
                      </a:lnTo>
                      <a:lnTo>
                        <a:pt x="51" y="42"/>
                      </a:lnTo>
                      <a:lnTo>
                        <a:pt x="59" y="42"/>
                      </a:lnTo>
                      <a:lnTo>
                        <a:pt x="76" y="42"/>
                      </a:lnTo>
                      <a:lnTo>
                        <a:pt x="85" y="42"/>
                      </a:lnTo>
                      <a:lnTo>
                        <a:pt x="85" y="33"/>
                      </a:lnTo>
                      <a:lnTo>
                        <a:pt x="93" y="33"/>
                      </a:lnTo>
                      <a:close/>
                    </a:path>
                  </a:pathLst>
                </a:custGeom>
                <a:solidFill>
                  <a:srgbClr val="000000"/>
                </a:solidFill>
                <a:ln w="5040">
                  <a:solidFill>
                    <a:srgbClr val="000000"/>
                  </a:solidFill>
                  <a:round/>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1" name="Freeform 194"/>
                <p:cNvSpPr/>
                <p:nvPr/>
              </p:nvSpPr>
              <p:spPr>
                <a:xfrm flipH="1">
                  <a:off x="-7920" y="1842480"/>
                  <a:ext cx="16920" cy="8280"/>
                </a:xfrm>
                <a:custGeom>
                  <a:avLst/>
                  <a:gdLst>
                    <a:gd name="textAreaLeft" fmla="*/ -360 w 16920"/>
                    <a:gd name="textAreaRight" fmla="*/ 16920 w 16920"/>
                    <a:gd name="textAreaTop" fmla="*/ 0 h 8280"/>
                    <a:gd name="textAreaBottom" fmla="*/ 8640 h 8280"/>
                  </a:gdLst>
                  <a:ahLst/>
                  <a:rect l="textAreaLeft" t="textAreaTop" r="textAreaRight" b="textAreaBottom"/>
                  <a:pathLst>
                    <a:path w="92" h="42">
                      <a:moveTo>
                        <a:pt x="92" y="34"/>
                      </a:moveTo>
                      <a:lnTo>
                        <a:pt x="76" y="8"/>
                      </a:lnTo>
                      <a:lnTo>
                        <a:pt x="0" y="0"/>
                      </a:lnTo>
                      <a:lnTo>
                        <a:pt x="8" y="25"/>
                      </a:lnTo>
                      <a:lnTo>
                        <a:pt x="16" y="34"/>
                      </a:lnTo>
                      <a:lnTo>
                        <a:pt x="25" y="34"/>
                      </a:lnTo>
                      <a:lnTo>
                        <a:pt x="42" y="42"/>
                      </a:lnTo>
                      <a:lnTo>
                        <a:pt x="67" y="42"/>
                      </a:lnTo>
                      <a:lnTo>
                        <a:pt x="84" y="42"/>
                      </a:lnTo>
                      <a:lnTo>
                        <a:pt x="84" y="34"/>
                      </a:lnTo>
                      <a:lnTo>
                        <a:pt x="92" y="34"/>
                      </a:lnTo>
                      <a:close/>
                    </a:path>
                  </a:pathLst>
                </a:custGeom>
                <a:solidFill>
                  <a:srgbClr val="000000"/>
                </a:solidFill>
                <a:ln w="5040">
                  <a:solidFill>
                    <a:srgbClr val="000000"/>
                  </a:solidFill>
                  <a:round/>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2" name="Freeform 193"/>
                <p:cNvSpPr/>
                <p:nvPr/>
              </p:nvSpPr>
              <p:spPr>
                <a:xfrm flipH="1">
                  <a:off x="-26640" y="1844280"/>
                  <a:ext cx="15480" cy="8640"/>
                </a:xfrm>
                <a:custGeom>
                  <a:avLst/>
                  <a:gdLst>
                    <a:gd name="textAreaLeft" fmla="*/ 360 w 15480"/>
                    <a:gd name="textAreaRight" fmla="*/ 16200 w 15480"/>
                    <a:gd name="textAreaTop" fmla="*/ 0 h 8640"/>
                    <a:gd name="textAreaBottom" fmla="*/ 9000 h 8640"/>
                  </a:gdLst>
                  <a:ahLst/>
                  <a:rect l="textAreaLeft" t="textAreaTop" r="textAreaRight" b="textAreaBottom"/>
                  <a:pathLst>
                    <a:path w="85" h="43">
                      <a:moveTo>
                        <a:pt x="85" y="34"/>
                      </a:moveTo>
                      <a:lnTo>
                        <a:pt x="68" y="9"/>
                      </a:lnTo>
                      <a:lnTo>
                        <a:pt x="0" y="0"/>
                      </a:lnTo>
                      <a:lnTo>
                        <a:pt x="9" y="26"/>
                      </a:lnTo>
                      <a:lnTo>
                        <a:pt x="9" y="34"/>
                      </a:lnTo>
                      <a:lnTo>
                        <a:pt x="17" y="34"/>
                      </a:lnTo>
                      <a:lnTo>
                        <a:pt x="26" y="43"/>
                      </a:lnTo>
                      <a:lnTo>
                        <a:pt x="42" y="43"/>
                      </a:lnTo>
                      <a:lnTo>
                        <a:pt x="68" y="43"/>
                      </a:lnTo>
                      <a:lnTo>
                        <a:pt x="76" y="43"/>
                      </a:lnTo>
                      <a:lnTo>
                        <a:pt x="76" y="34"/>
                      </a:lnTo>
                      <a:lnTo>
                        <a:pt x="85" y="34"/>
                      </a:lnTo>
                      <a:close/>
                    </a:path>
                  </a:pathLst>
                </a:custGeom>
                <a:solidFill>
                  <a:srgbClr val="000000"/>
                </a:solidFill>
                <a:ln w="5040">
                  <a:solidFill>
                    <a:srgbClr val="000000"/>
                  </a:solidFill>
                  <a:round/>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Freeform 192"/>
                <p:cNvSpPr/>
                <p:nvPr/>
              </p:nvSpPr>
              <p:spPr>
                <a:xfrm flipH="1">
                  <a:off x="-47160" y="1846080"/>
                  <a:ext cx="16920" cy="10080"/>
                </a:xfrm>
                <a:custGeom>
                  <a:avLst/>
                  <a:gdLst>
                    <a:gd name="textAreaLeft" fmla="*/ 360 w 16920"/>
                    <a:gd name="textAreaRight" fmla="*/ 17640 w 16920"/>
                    <a:gd name="textAreaTop" fmla="*/ 0 h 10080"/>
                    <a:gd name="textAreaBottom" fmla="*/ 10080 h 10080"/>
                  </a:gdLst>
                  <a:ahLst/>
                  <a:rect l="textAreaLeft" t="textAreaTop" r="textAreaRight" b="textAreaBottom"/>
                  <a:pathLst>
                    <a:path w="92" h="50">
                      <a:moveTo>
                        <a:pt x="92" y="34"/>
                      </a:moveTo>
                      <a:lnTo>
                        <a:pt x="75" y="8"/>
                      </a:lnTo>
                      <a:lnTo>
                        <a:pt x="0" y="0"/>
                      </a:lnTo>
                      <a:lnTo>
                        <a:pt x="16" y="25"/>
                      </a:lnTo>
                      <a:lnTo>
                        <a:pt x="25" y="34"/>
                      </a:lnTo>
                      <a:lnTo>
                        <a:pt x="33" y="42"/>
                      </a:lnTo>
                      <a:lnTo>
                        <a:pt x="42" y="42"/>
                      </a:lnTo>
                      <a:lnTo>
                        <a:pt x="59" y="42"/>
                      </a:lnTo>
                      <a:lnTo>
                        <a:pt x="75" y="50"/>
                      </a:lnTo>
                      <a:lnTo>
                        <a:pt x="84" y="42"/>
                      </a:lnTo>
                      <a:lnTo>
                        <a:pt x="92" y="34"/>
                      </a:lnTo>
                      <a:close/>
                    </a:path>
                  </a:pathLst>
                </a:custGeom>
                <a:solidFill>
                  <a:srgbClr val="000000"/>
                </a:solidFill>
                <a:ln w="5040">
                  <a:solidFill>
                    <a:srgbClr val="000000"/>
                  </a:solidFill>
                  <a:round/>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4" name="Freeform 191"/>
                <p:cNvSpPr/>
                <p:nvPr/>
              </p:nvSpPr>
              <p:spPr>
                <a:xfrm flipH="1">
                  <a:off x="-86040" y="1849320"/>
                  <a:ext cx="16920" cy="8280"/>
                </a:xfrm>
                <a:custGeom>
                  <a:avLst/>
                  <a:gdLst>
                    <a:gd name="textAreaLeft" fmla="*/ 360 w 16920"/>
                    <a:gd name="textAreaRight" fmla="*/ 17640 w 16920"/>
                    <a:gd name="textAreaTop" fmla="*/ 0 h 8280"/>
                    <a:gd name="textAreaBottom" fmla="*/ 8640 h 8280"/>
                  </a:gdLst>
                  <a:ahLst/>
                  <a:rect l="textAreaLeft" t="textAreaTop" r="textAreaRight" b="textAreaBottom"/>
                  <a:pathLst>
                    <a:path w="93" h="42">
                      <a:moveTo>
                        <a:pt x="17" y="25"/>
                      </a:moveTo>
                      <a:lnTo>
                        <a:pt x="17" y="33"/>
                      </a:lnTo>
                      <a:lnTo>
                        <a:pt x="26" y="42"/>
                      </a:lnTo>
                      <a:lnTo>
                        <a:pt x="34" y="42"/>
                      </a:lnTo>
                      <a:lnTo>
                        <a:pt x="59" y="42"/>
                      </a:lnTo>
                      <a:lnTo>
                        <a:pt x="76" y="42"/>
                      </a:lnTo>
                      <a:lnTo>
                        <a:pt x="85" y="33"/>
                      </a:lnTo>
                      <a:lnTo>
                        <a:pt x="93" y="33"/>
                      </a:lnTo>
                      <a:lnTo>
                        <a:pt x="76" y="8"/>
                      </a:lnTo>
                      <a:lnTo>
                        <a:pt x="0" y="0"/>
                      </a:lnTo>
                      <a:lnTo>
                        <a:pt x="17" y="25"/>
                      </a:lnTo>
                      <a:close/>
                    </a:path>
                  </a:pathLst>
                </a:custGeom>
                <a:solidFill>
                  <a:srgbClr val="000000"/>
                </a:solidFill>
                <a:ln w="5040">
                  <a:solidFill>
                    <a:srgbClr val="000000"/>
                  </a:solidFill>
                  <a:round/>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5" name="Freeform 190"/>
                <p:cNvSpPr/>
                <p:nvPr/>
              </p:nvSpPr>
              <p:spPr>
                <a:xfrm flipH="1">
                  <a:off x="-106560" y="1863000"/>
                  <a:ext cx="7560" cy="3240"/>
                </a:xfrm>
                <a:custGeom>
                  <a:avLst/>
                  <a:gdLst>
                    <a:gd name="textAreaLeft" fmla="*/ 360 w 7560"/>
                    <a:gd name="textAreaRight" fmla="*/ 8280 w 7560"/>
                    <a:gd name="textAreaTop" fmla="*/ 0 h 3240"/>
                    <a:gd name="textAreaBottom" fmla="*/ 3600 h 3240"/>
                  </a:gdLst>
                  <a:ahLst/>
                  <a:rect l="textAreaLeft" t="textAreaTop" r="textAreaRight" b="textAreaBottom"/>
                  <a:pathLst>
                    <a:path w="42" h="17">
                      <a:moveTo>
                        <a:pt x="0" y="17"/>
                      </a:moveTo>
                      <a:lnTo>
                        <a:pt x="0" y="0"/>
                      </a:lnTo>
                      <a:lnTo>
                        <a:pt x="42" y="0"/>
                      </a:lnTo>
                      <a:lnTo>
                        <a:pt x="33" y="17"/>
                      </a:lnTo>
                      <a:lnTo>
                        <a:pt x="0" y="17"/>
                      </a:lnTo>
                      <a:close/>
                    </a:path>
                  </a:pathLst>
                </a:custGeom>
                <a:solidFill>
                  <a:srgbClr val="000000"/>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6" name="Freeform 189"/>
                <p:cNvSpPr/>
                <p:nvPr/>
              </p:nvSpPr>
              <p:spPr>
                <a:xfrm flipH="1">
                  <a:off x="-129600" y="1861560"/>
                  <a:ext cx="20160" cy="8280"/>
                </a:xfrm>
                <a:custGeom>
                  <a:avLst/>
                  <a:gdLst>
                    <a:gd name="textAreaLeft" fmla="*/ -360 w 20160"/>
                    <a:gd name="textAreaRight" fmla="*/ 20160 w 20160"/>
                    <a:gd name="textAreaTop" fmla="*/ 0 h 8280"/>
                    <a:gd name="textAreaBottom" fmla="*/ 8640 h 8280"/>
                  </a:gdLst>
                  <a:ahLst/>
                  <a:rect l="textAreaLeft" t="textAreaTop" r="textAreaRight" b="textAreaBottom"/>
                  <a:pathLst>
                    <a:path w="109" h="42">
                      <a:moveTo>
                        <a:pt x="0" y="33"/>
                      </a:moveTo>
                      <a:lnTo>
                        <a:pt x="0" y="0"/>
                      </a:lnTo>
                      <a:lnTo>
                        <a:pt x="109" y="0"/>
                      </a:lnTo>
                      <a:lnTo>
                        <a:pt x="109" y="42"/>
                      </a:lnTo>
                      <a:lnTo>
                        <a:pt x="0" y="33"/>
                      </a:lnTo>
                      <a:close/>
                    </a:path>
                  </a:pathLst>
                </a:custGeom>
                <a:solidFill>
                  <a:srgbClr val="000000"/>
                </a:solidFill>
                <a:ln w="5040">
                  <a:solidFill>
                    <a:srgbClr val="000000"/>
                  </a:solidFill>
                  <a:round/>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7" name="Freeform 188"/>
                <p:cNvSpPr/>
                <p:nvPr/>
              </p:nvSpPr>
              <p:spPr>
                <a:xfrm flipH="1">
                  <a:off x="-271800" y="1869840"/>
                  <a:ext cx="304560" cy="42480"/>
                </a:xfrm>
                <a:custGeom>
                  <a:avLst/>
                  <a:gdLst>
                    <a:gd name="textAreaLeft" fmla="*/ -360 w 304560"/>
                    <a:gd name="textAreaRight" fmla="*/ 304560 w 304560"/>
                    <a:gd name="textAreaTop" fmla="*/ 0 h 42480"/>
                    <a:gd name="textAreaBottom" fmla="*/ 42840 h 42480"/>
                  </a:gdLst>
                  <a:ahLst/>
                  <a:rect l="textAreaLeft" t="textAreaTop" r="textAreaRight" b="textAreaBottom"/>
                  <a:pathLst>
                    <a:path w="1645" h="210">
                      <a:moveTo>
                        <a:pt x="1645" y="50"/>
                      </a:moveTo>
                      <a:lnTo>
                        <a:pt x="1164" y="0"/>
                      </a:lnTo>
                      <a:lnTo>
                        <a:pt x="1164" y="59"/>
                      </a:lnTo>
                      <a:lnTo>
                        <a:pt x="1147" y="67"/>
                      </a:lnTo>
                      <a:lnTo>
                        <a:pt x="1122" y="84"/>
                      </a:lnTo>
                      <a:lnTo>
                        <a:pt x="1088" y="92"/>
                      </a:lnTo>
                      <a:lnTo>
                        <a:pt x="1029" y="101"/>
                      </a:lnTo>
                      <a:lnTo>
                        <a:pt x="953" y="109"/>
                      </a:lnTo>
                      <a:lnTo>
                        <a:pt x="877" y="109"/>
                      </a:lnTo>
                      <a:lnTo>
                        <a:pt x="827" y="109"/>
                      </a:lnTo>
                      <a:lnTo>
                        <a:pt x="768" y="109"/>
                      </a:lnTo>
                      <a:lnTo>
                        <a:pt x="709" y="92"/>
                      </a:lnTo>
                      <a:lnTo>
                        <a:pt x="641" y="84"/>
                      </a:lnTo>
                      <a:lnTo>
                        <a:pt x="607" y="75"/>
                      </a:lnTo>
                      <a:lnTo>
                        <a:pt x="565" y="59"/>
                      </a:lnTo>
                      <a:lnTo>
                        <a:pt x="557" y="50"/>
                      </a:lnTo>
                      <a:lnTo>
                        <a:pt x="557" y="25"/>
                      </a:lnTo>
                      <a:lnTo>
                        <a:pt x="380" y="8"/>
                      </a:lnTo>
                      <a:lnTo>
                        <a:pt x="211" y="50"/>
                      </a:lnTo>
                      <a:lnTo>
                        <a:pt x="0" y="92"/>
                      </a:lnTo>
                      <a:lnTo>
                        <a:pt x="1071" y="210"/>
                      </a:lnTo>
                      <a:lnTo>
                        <a:pt x="1645" y="50"/>
                      </a:lnTo>
                      <a:close/>
                    </a:path>
                  </a:pathLst>
                </a:custGeom>
                <a:solidFill>
                  <a:srgbClr val="ffffff"/>
                </a:solidFill>
                <a:ln w="5040">
                  <a:solidFill>
                    <a:srgbClr val="000000"/>
                  </a:solidFill>
                  <a:round/>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8" name="Freeform 187"/>
                <p:cNvSpPr/>
                <p:nvPr/>
              </p:nvSpPr>
              <p:spPr>
                <a:xfrm flipH="1">
                  <a:off x="-165240" y="1871640"/>
                  <a:ext cx="18360" cy="11880"/>
                </a:xfrm>
                <a:custGeom>
                  <a:avLst/>
                  <a:gdLst>
                    <a:gd name="textAreaLeft" fmla="*/ 360 w 18360"/>
                    <a:gd name="textAreaRight" fmla="*/ 19080 w 18360"/>
                    <a:gd name="textAreaTop" fmla="*/ 0 h 11880"/>
                    <a:gd name="textAreaBottom" fmla="*/ 12240 h 11880"/>
                  </a:gdLst>
                  <a:ahLst/>
                  <a:rect l="textAreaLeft" t="textAreaTop" r="textAreaRight" b="textAreaBottom"/>
                  <a:pathLst>
                    <a:path w="101" h="59">
                      <a:moveTo>
                        <a:pt x="101" y="0"/>
                      </a:moveTo>
                      <a:lnTo>
                        <a:pt x="0" y="25"/>
                      </a:lnTo>
                      <a:lnTo>
                        <a:pt x="0" y="59"/>
                      </a:lnTo>
                      <a:lnTo>
                        <a:pt x="101" y="25"/>
                      </a:lnTo>
                      <a:lnTo>
                        <a:pt x="101" y="0"/>
                      </a:lnTo>
                      <a:close/>
                    </a:path>
                  </a:pathLst>
                </a:custGeom>
                <a:solidFill>
                  <a:srgbClr val="0080ff"/>
                </a:solidFill>
                <a:ln w="5040">
                  <a:solidFill>
                    <a:srgbClr val="000000"/>
                  </a:solidFill>
                  <a:round/>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Freeform 186"/>
                <p:cNvSpPr/>
                <p:nvPr/>
              </p:nvSpPr>
              <p:spPr>
                <a:xfrm flipH="1">
                  <a:off x="-271800" y="1879920"/>
                  <a:ext cx="106200" cy="47880"/>
                </a:xfrm>
                <a:custGeom>
                  <a:avLst/>
                  <a:gdLst>
                    <a:gd name="textAreaLeft" fmla="*/ 360 w 106200"/>
                    <a:gd name="textAreaRight" fmla="*/ 106920 w 106200"/>
                    <a:gd name="textAreaTop" fmla="*/ 0 h 47880"/>
                    <a:gd name="textAreaBottom" fmla="*/ 48240 h 47880"/>
                  </a:gdLst>
                  <a:ahLst/>
                  <a:rect l="textAreaLeft" t="textAreaTop" r="textAreaRight" b="textAreaBottom"/>
                  <a:pathLst>
                    <a:path w="574" h="236">
                      <a:moveTo>
                        <a:pt x="574" y="25"/>
                      </a:moveTo>
                      <a:lnTo>
                        <a:pt x="574" y="0"/>
                      </a:lnTo>
                      <a:lnTo>
                        <a:pt x="0" y="160"/>
                      </a:lnTo>
                      <a:lnTo>
                        <a:pt x="0" y="236"/>
                      </a:lnTo>
                      <a:lnTo>
                        <a:pt x="574" y="59"/>
                      </a:lnTo>
                      <a:lnTo>
                        <a:pt x="574" y="25"/>
                      </a:lnTo>
                      <a:close/>
                    </a:path>
                  </a:pathLst>
                </a:custGeom>
                <a:solidFill>
                  <a:srgbClr val="0080ff"/>
                </a:solidFill>
                <a:ln w="5040">
                  <a:solidFill>
                    <a:srgbClr val="000000"/>
                  </a:solidFill>
                  <a:round/>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0" name="Freeform 185"/>
                <p:cNvSpPr/>
                <p:nvPr/>
              </p:nvSpPr>
              <p:spPr>
                <a:xfrm flipH="1">
                  <a:off x="-326160" y="1885320"/>
                  <a:ext cx="423360" cy="56160"/>
                </a:xfrm>
                <a:custGeom>
                  <a:avLst/>
                  <a:gdLst>
                    <a:gd name="textAreaLeft" fmla="*/ 0 w 423360"/>
                    <a:gd name="textAreaRight" fmla="*/ 423360 w 423360"/>
                    <a:gd name="textAreaTop" fmla="*/ 0 h 56160"/>
                    <a:gd name="textAreaBottom" fmla="*/ 56520 h 56160"/>
                  </a:gdLst>
                  <a:ahLst/>
                  <a:rect l="textAreaLeft" t="textAreaTop" r="textAreaRight" b="textAreaBottom"/>
                  <a:pathLst>
                    <a:path w="2286" h="278">
                      <a:moveTo>
                        <a:pt x="2286" y="26"/>
                      </a:moveTo>
                      <a:lnTo>
                        <a:pt x="1991" y="0"/>
                      </a:lnTo>
                      <a:lnTo>
                        <a:pt x="1991" y="34"/>
                      </a:lnTo>
                      <a:lnTo>
                        <a:pt x="1417" y="211"/>
                      </a:lnTo>
                      <a:lnTo>
                        <a:pt x="346" y="93"/>
                      </a:lnTo>
                      <a:lnTo>
                        <a:pt x="346" y="17"/>
                      </a:lnTo>
                      <a:lnTo>
                        <a:pt x="0" y="101"/>
                      </a:lnTo>
                      <a:lnTo>
                        <a:pt x="1468" y="278"/>
                      </a:lnTo>
                      <a:lnTo>
                        <a:pt x="1628" y="228"/>
                      </a:lnTo>
                      <a:lnTo>
                        <a:pt x="1839" y="169"/>
                      </a:lnTo>
                      <a:lnTo>
                        <a:pt x="2286" y="26"/>
                      </a:lnTo>
                      <a:close/>
                    </a:path>
                  </a:pathLst>
                </a:custGeom>
                <a:solidFill>
                  <a:srgbClr val="ffffff"/>
                </a:solidFill>
                <a:ln w="5040">
                  <a:solidFill>
                    <a:srgbClr val="000000"/>
                  </a:solidFill>
                  <a:round/>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1" name="Freeform 184"/>
                <p:cNvSpPr/>
                <p:nvPr/>
              </p:nvSpPr>
              <p:spPr>
                <a:xfrm flipH="1">
                  <a:off x="-176400" y="1905840"/>
                  <a:ext cx="273240" cy="87120"/>
                </a:xfrm>
                <a:custGeom>
                  <a:avLst/>
                  <a:gdLst>
                    <a:gd name="textAreaLeft" fmla="*/ 360 w 273240"/>
                    <a:gd name="textAreaRight" fmla="*/ 273960 w 273240"/>
                    <a:gd name="textAreaTop" fmla="*/ 0 h 87120"/>
                    <a:gd name="textAreaBottom" fmla="*/ 87480 h 87120"/>
                  </a:gdLst>
                  <a:ahLst/>
                  <a:rect l="textAreaLeft" t="textAreaTop" r="textAreaRight" b="textAreaBottom"/>
                  <a:pathLst>
                    <a:path w="1476" h="430">
                      <a:moveTo>
                        <a:pt x="1417" y="404"/>
                      </a:moveTo>
                      <a:lnTo>
                        <a:pt x="1417" y="430"/>
                      </a:lnTo>
                      <a:lnTo>
                        <a:pt x="1476" y="430"/>
                      </a:lnTo>
                      <a:lnTo>
                        <a:pt x="1468" y="177"/>
                      </a:lnTo>
                      <a:lnTo>
                        <a:pt x="0" y="0"/>
                      </a:lnTo>
                      <a:lnTo>
                        <a:pt x="0" y="228"/>
                      </a:lnTo>
                      <a:lnTo>
                        <a:pt x="1417" y="404"/>
                      </a:lnTo>
                      <a:close/>
                    </a:path>
                  </a:pathLst>
                </a:custGeom>
                <a:solidFill>
                  <a:srgbClr val="ffffff"/>
                </a:solidFill>
                <a:ln w="5040">
                  <a:solidFill>
                    <a:srgbClr val="000000"/>
                  </a:solidFill>
                  <a:round/>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Freeform 183"/>
                <p:cNvSpPr/>
                <p:nvPr/>
              </p:nvSpPr>
              <p:spPr>
                <a:xfrm flipH="1">
                  <a:off x="-326160" y="1890360"/>
                  <a:ext cx="82800" cy="76680"/>
                </a:xfrm>
                <a:custGeom>
                  <a:avLst/>
                  <a:gdLst>
                    <a:gd name="textAreaLeft" fmla="*/ -360 w 82800"/>
                    <a:gd name="textAreaRight" fmla="*/ 82800 w 82800"/>
                    <a:gd name="textAreaTop" fmla="*/ 0 h 76680"/>
                    <a:gd name="textAreaBottom" fmla="*/ 77040 h 76680"/>
                  </a:gdLst>
                  <a:ahLst/>
                  <a:rect l="textAreaLeft" t="textAreaTop" r="textAreaRight" b="textAreaBottom"/>
                  <a:pathLst>
                    <a:path w="447" h="378">
                      <a:moveTo>
                        <a:pt x="0" y="378"/>
                      </a:moveTo>
                      <a:lnTo>
                        <a:pt x="253" y="294"/>
                      </a:lnTo>
                      <a:lnTo>
                        <a:pt x="338" y="261"/>
                      </a:lnTo>
                      <a:lnTo>
                        <a:pt x="439" y="227"/>
                      </a:lnTo>
                      <a:lnTo>
                        <a:pt x="447" y="0"/>
                      </a:lnTo>
                      <a:lnTo>
                        <a:pt x="0" y="143"/>
                      </a:lnTo>
                      <a:lnTo>
                        <a:pt x="0" y="378"/>
                      </a:lnTo>
                      <a:close/>
                    </a:path>
                  </a:pathLst>
                </a:custGeom>
                <a:solidFill>
                  <a:srgbClr val="0080ff"/>
                </a:solidFill>
                <a:ln w="5040">
                  <a:solidFill>
                    <a:srgbClr val="000000"/>
                  </a:solidFill>
                  <a:round/>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3" name="Freeform 182"/>
                <p:cNvSpPr/>
                <p:nvPr/>
              </p:nvSpPr>
              <p:spPr>
                <a:xfrm flipH="1">
                  <a:off x="-243000" y="1919520"/>
                  <a:ext cx="38880" cy="63000"/>
                </a:xfrm>
                <a:custGeom>
                  <a:avLst/>
                  <a:gdLst>
                    <a:gd name="textAreaLeft" fmla="*/ -360 w 38880"/>
                    <a:gd name="textAreaRight" fmla="*/ 38880 w 38880"/>
                    <a:gd name="textAreaTop" fmla="*/ 0 h 63000"/>
                    <a:gd name="textAreaBottom" fmla="*/ 63360 h 63000"/>
                  </a:gdLst>
                  <a:ahLst/>
                  <a:rect l="textAreaLeft" t="textAreaTop" r="textAreaRight" b="textAreaBottom"/>
                  <a:pathLst>
                    <a:path w="211" h="311">
                      <a:moveTo>
                        <a:pt x="211" y="235"/>
                      </a:moveTo>
                      <a:lnTo>
                        <a:pt x="211" y="0"/>
                      </a:lnTo>
                      <a:lnTo>
                        <a:pt x="0" y="59"/>
                      </a:lnTo>
                      <a:lnTo>
                        <a:pt x="9" y="311"/>
                      </a:lnTo>
                      <a:lnTo>
                        <a:pt x="211" y="235"/>
                      </a:lnTo>
                      <a:close/>
                    </a:path>
                  </a:pathLst>
                </a:custGeom>
                <a:solidFill>
                  <a:srgbClr val="0080ff"/>
                </a:solidFill>
                <a:ln w="5040">
                  <a:solidFill>
                    <a:srgbClr val="000000"/>
                  </a:solidFill>
                  <a:round/>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4" name="Freeform 181"/>
                <p:cNvSpPr/>
                <p:nvPr/>
              </p:nvSpPr>
              <p:spPr>
                <a:xfrm flipH="1">
                  <a:off x="-206280" y="1931400"/>
                  <a:ext cx="31320" cy="61200"/>
                </a:xfrm>
                <a:custGeom>
                  <a:avLst/>
                  <a:gdLst>
                    <a:gd name="textAreaLeft" fmla="*/ 360 w 31320"/>
                    <a:gd name="textAreaRight" fmla="*/ 32040 w 31320"/>
                    <a:gd name="textAreaTop" fmla="*/ 0 h 61200"/>
                    <a:gd name="textAreaBottom" fmla="*/ 61200 h 61200"/>
                  </a:gdLst>
                  <a:ahLst/>
                  <a:rect l="textAreaLeft" t="textAreaTop" r="textAreaRight" b="textAreaBottom"/>
                  <a:pathLst>
                    <a:path w="169" h="303">
                      <a:moveTo>
                        <a:pt x="169" y="252"/>
                      </a:moveTo>
                      <a:lnTo>
                        <a:pt x="160" y="0"/>
                      </a:lnTo>
                      <a:lnTo>
                        <a:pt x="0" y="50"/>
                      </a:lnTo>
                      <a:lnTo>
                        <a:pt x="8" y="303"/>
                      </a:lnTo>
                      <a:lnTo>
                        <a:pt x="152" y="252"/>
                      </a:lnTo>
                      <a:lnTo>
                        <a:pt x="169" y="252"/>
                      </a:lnTo>
                      <a:close/>
                    </a:path>
                  </a:pathLst>
                </a:custGeom>
                <a:solidFill>
                  <a:srgbClr val="0080ff"/>
                </a:solidFill>
                <a:ln w="5040">
                  <a:solidFill>
                    <a:srgbClr val="000000"/>
                  </a:solidFill>
                  <a:round/>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5" name="Freeform 180"/>
                <p:cNvSpPr/>
                <p:nvPr/>
              </p:nvSpPr>
              <p:spPr>
                <a:xfrm flipH="1">
                  <a:off x="-204120" y="1982520"/>
                  <a:ext cx="29520" cy="20160"/>
                </a:xfrm>
                <a:custGeom>
                  <a:avLst/>
                  <a:gdLst>
                    <a:gd name="textAreaLeft" fmla="*/ -360 w 29520"/>
                    <a:gd name="textAreaRight" fmla="*/ 29520 w 29520"/>
                    <a:gd name="textAreaTop" fmla="*/ 0 h 20160"/>
                    <a:gd name="textAreaBottom" fmla="*/ 20160 h 20160"/>
                  </a:gdLst>
                  <a:ahLst/>
                  <a:rect l="textAreaLeft" t="textAreaTop" r="textAreaRight" b="textAreaBottom"/>
                  <a:pathLst>
                    <a:path w="160" h="101">
                      <a:moveTo>
                        <a:pt x="0" y="101"/>
                      </a:moveTo>
                      <a:lnTo>
                        <a:pt x="160" y="51"/>
                      </a:lnTo>
                      <a:lnTo>
                        <a:pt x="152" y="0"/>
                      </a:lnTo>
                      <a:lnTo>
                        <a:pt x="8" y="51"/>
                      </a:lnTo>
                      <a:lnTo>
                        <a:pt x="0" y="101"/>
                      </a:lnTo>
                      <a:close/>
                    </a:path>
                  </a:pathLst>
                </a:custGeom>
                <a:solidFill>
                  <a:srgbClr val="0080ff"/>
                </a:solidFill>
                <a:ln w="5040">
                  <a:solidFill>
                    <a:srgbClr val="000000"/>
                  </a:solidFill>
                  <a:round/>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6" name="Freeform 179"/>
                <p:cNvSpPr/>
                <p:nvPr/>
              </p:nvSpPr>
              <p:spPr>
                <a:xfrm flipH="1">
                  <a:off x="-306000" y="1943280"/>
                  <a:ext cx="15480" cy="8280"/>
                </a:xfrm>
                <a:custGeom>
                  <a:avLst/>
                  <a:gdLst>
                    <a:gd name="textAreaLeft" fmla="*/ 360 w 15480"/>
                    <a:gd name="textAreaRight" fmla="*/ 16200 w 15480"/>
                    <a:gd name="textAreaTop" fmla="*/ 0 h 8280"/>
                    <a:gd name="textAreaBottom" fmla="*/ 8640 h 8280"/>
                  </a:gdLst>
                  <a:ahLst/>
                  <a:rect l="textAreaLeft" t="textAreaTop" r="textAreaRight" b="textAreaBottom"/>
                  <a:pathLst>
                    <a:path w="85" h="42">
                      <a:moveTo>
                        <a:pt x="0" y="33"/>
                      </a:moveTo>
                      <a:lnTo>
                        <a:pt x="85" y="42"/>
                      </a:lnTo>
                      <a:lnTo>
                        <a:pt x="85" y="0"/>
                      </a:lnTo>
                      <a:lnTo>
                        <a:pt x="0" y="33"/>
                      </a:lnTo>
                      <a:close/>
                    </a:path>
                  </a:pathLst>
                </a:custGeom>
                <a:solidFill>
                  <a:srgbClr val="0080ff"/>
                </a:solidFill>
                <a:ln w="5040">
                  <a:solidFill>
                    <a:srgbClr val="000000"/>
                  </a:solidFill>
                  <a:round/>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Freeform 178"/>
                <p:cNvSpPr/>
                <p:nvPr/>
              </p:nvSpPr>
              <p:spPr>
                <a:xfrm flipH="1">
                  <a:off x="-324720" y="1936440"/>
                  <a:ext cx="18360" cy="15120"/>
                </a:xfrm>
                <a:custGeom>
                  <a:avLst/>
                  <a:gdLst>
                    <a:gd name="textAreaLeft" fmla="*/ 360 w 18360"/>
                    <a:gd name="textAreaRight" fmla="*/ 19080 w 18360"/>
                    <a:gd name="textAreaTop" fmla="*/ 0 h 15120"/>
                    <a:gd name="textAreaBottom" fmla="*/ 15480 h 15120"/>
                  </a:gdLst>
                  <a:ahLst/>
                  <a:rect l="textAreaLeft" t="textAreaTop" r="textAreaRight" b="textAreaBottom"/>
                  <a:pathLst>
                    <a:path w="101" h="76">
                      <a:moveTo>
                        <a:pt x="101" y="0"/>
                      </a:moveTo>
                      <a:lnTo>
                        <a:pt x="0" y="34"/>
                      </a:lnTo>
                      <a:lnTo>
                        <a:pt x="0" y="76"/>
                      </a:lnTo>
                      <a:lnTo>
                        <a:pt x="101" y="42"/>
                      </a:lnTo>
                      <a:lnTo>
                        <a:pt x="101" y="0"/>
                      </a:lnTo>
                      <a:close/>
                    </a:path>
                  </a:pathLst>
                </a:custGeom>
                <a:solidFill>
                  <a:srgbClr val="0080ff"/>
                </a:solidFill>
                <a:ln w="5040">
                  <a:solidFill>
                    <a:srgbClr val="000000"/>
                  </a:solidFill>
                  <a:round/>
                </a:ln>
              </p:spPr>
              <p:style>
                <a:lnRef idx="0"/>
                <a:fillRef idx="0"/>
                <a:effectRef idx="0"/>
                <a:fontRef idx="minor"/>
              </p:style>
              <p:txBody>
                <a:bodyPr lIns="90000" rIns="90000" tIns="-31320" bIns="-31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Freeform 177"/>
                <p:cNvSpPr/>
                <p:nvPr/>
              </p:nvSpPr>
              <p:spPr>
                <a:xfrm flipH="1">
                  <a:off x="-176040" y="1992960"/>
                  <a:ext cx="10800" cy="10080"/>
                </a:xfrm>
                <a:custGeom>
                  <a:avLst/>
                  <a:gdLst>
                    <a:gd name="textAreaLeft" fmla="*/ -360 w 10800"/>
                    <a:gd name="textAreaRight" fmla="*/ 10800 w 10800"/>
                    <a:gd name="textAreaTop" fmla="*/ 0 h 10080"/>
                    <a:gd name="textAreaBottom" fmla="*/ 10080 h 10080"/>
                  </a:gdLst>
                  <a:ahLst/>
                  <a:rect l="textAreaLeft" t="textAreaTop" r="textAreaRight" b="textAreaBottom"/>
                  <a:pathLst>
                    <a:path w="59" h="50">
                      <a:moveTo>
                        <a:pt x="51" y="50"/>
                      </a:moveTo>
                      <a:lnTo>
                        <a:pt x="59" y="0"/>
                      </a:lnTo>
                      <a:lnTo>
                        <a:pt x="0" y="0"/>
                      </a:lnTo>
                      <a:lnTo>
                        <a:pt x="0" y="50"/>
                      </a:lnTo>
                      <a:lnTo>
                        <a:pt x="51" y="50"/>
                      </a:lnTo>
                      <a:close/>
                    </a:path>
                  </a:pathLst>
                </a:custGeom>
                <a:solidFill>
                  <a:srgbClr val="0080ff"/>
                </a:solidFill>
                <a:ln w="5040">
                  <a:solidFill>
                    <a:srgbClr val="000000"/>
                  </a:solidFill>
                  <a:round/>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Freeform 176"/>
                <p:cNvSpPr/>
                <p:nvPr/>
              </p:nvSpPr>
              <p:spPr>
                <a:xfrm flipH="1">
                  <a:off x="91080" y="192816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8"/>
                      </a:moveTo>
                      <a:lnTo>
                        <a:pt x="17" y="8"/>
                      </a:lnTo>
                      <a:lnTo>
                        <a:pt x="9" y="0"/>
                      </a:lnTo>
                      <a:lnTo>
                        <a:pt x="0" y="8"/>
                      </a:lnTo>
                      <a:lnTo>
                        <a:pt x="0" y="17"/>
                      </a:lnTo>
                      <a:lnTo>
                        <a:pt x="9" y="17"/>
                      </a:lnTo>
                      <a:lnTo>
                        <a:pt x="17"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0" name="Freeform 175"/>
                <p:cNvSpPr/>
                <p:nvPr/>
              </p:nvSpPr>
              <p:spPr>
                <a:xfrm flipH="1">
                  <a:off x="86400" y="193824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17" y="0"/>
                      </a:lnTo>
                      <a:lnTo>
                        <a:pt x="9" y="0"/>
                      </a:lnTo>
                      <a:lnTo>
                        <a:pt x="0" y="9"/>
                      </a:lnTo>
                      <a:lnTo>
                        <a:pt x="0" y="17"/>
                      </a:lnTo>
                      <a:lnTo>
                        <a:pt x="9"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1" name="Freeform 174"/>
                <p:cNvSpPr/>
                <p:nvPr/>
              </p:nvSpPr>
              <p:spPr>
                <a:xfrm flipH="1">
                  <a:off x="91080" y="194508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8"/>
                      </a:moveTo>
                      <a:lnTo>
                        <a:pt x="9" y="0"/>
                      </a:lnTo>
                      <a:lnTo>
                        <a:pt x="0" y="0"/>
                      </a:lnTo>
                      <a:lnTo>
                        <a:pt x="0" y="8"/>
                      </a:lnTo>
                      <a:lnTo>
                        <a:pt x="9"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2" name="Freeform 173"/>
                <p:cNvSpPr/>
                <p:nvPr/>
              </p:nvSpPr>
              <p:spPr>
                <a:xfrm flipH="1">
                  <a:off x="91080" y="191268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8"/>
                      </a:moveTo>
                      <a:lnTo>
                        <a:pt x="9" y="0"/>
                      </a:lnTo>
                      <a:lnTo>
                        <a:pt x="0" y="0"/>
                      </a:lnTo>
                      <a:lnTo>
                        <a:pt x="0" y="8"/>
                      </a:lnTo>
                      <a:lnTo>
                        <a:pt x="9"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Freeform 172"/>
                <p:cNvSpPr/>
                <p:nvPr/>
              </p:nvSpPr>
              <p:spPr>
                <a:xfrm flipH="1">
                  <a:off x="86400" y="192096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9" y="0"/>
                      </a:lnTo>
                      <a:lnTo>
                        <a:pt x="0" y="0"/>
                      </a:lnTo>
                      <a:lnTo>
                        <a:pt x="0" y="9"/>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4" name="Freeform 171"/>
                <p:cNvSpPr/>
                <p:nvPr/>
              </p:nvSpPr>
              <p:spPr>
                <a:xfrm flipH="1">
                  <a:off x="77040" y="1940040"/>
                  <a:ext cx="1440" cy="3240"/>
                </a:xfrm>
                <a:custGeom>
                  <a:avLst/>
                  <a:gdLst>
                    <a:gd name="textAreaLeft" fmla="*/ 360 w 1440"/>
                    <a:gd name="textAreaRight" fmla="*/ 2160 w 1440"/>
                    <a:gd name="textAreaTop" fmla="*/ 0 h 3240"/>
                    <a:gd name="textAreaBottom" fmla="*/ 3600 h 3240"/>
                  </a:gdLst>
                  <a:ahLst/>
                  <a:rect l="textAreaLeft" t="textAreaTop" r="textAreaRight" b="textAreaBottom"/>
                  <a:pathLst>
                    <a:path w="9" h="17">
                      <a:moveTo>
                        <a:pt x="9" y="8"/>
                      </a:moveTo>
                      <a:lnTo>
                        <a:pt x="9" y="0"/>
                      </a:lnTo>
                      <a:lnTo>
                        <a:pt x="0" y="0"/>
                      </a:lnTo>
                      <a:lnTo>
                        <a:pt x="0" y="8"/>
                      </a:lnTo>
                      <a:lnTo>
                        <a:pt x="0" y="17"/>
                      </a:lnTo>
                      <a:lnTo>
                        <a:pt x="9"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Freeform 170"/>
                <p:cNvSpPr/>
                <p:nvPr/>
              </p:nvSpPr>
              <p:spPr>
                <a:xfrm flipH="1">
                  <a:off x="77040" y="192276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6">
                      <a:moveTo>
                        <a:pt x="17" y="8"/>
                      </a:moveTo>
                      <a:lnTo>
                        <a:pt x="17" y="0"/>
                      </a:lnTo>
                      <a:lnTo>
                        <a:pt x="8" y="0"/>
                      </a:lnTo>
                      <a:lnTo>
                        <a:pt x="0" y="8"/>
                      </a:lnTo>
                      <a:lnTo>
                        <a:pt x="8" y="16"/>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Freeform 169"/>
                <p:cNvSpPr/>
                <p:nvPr/>
              </p:nvSpPr>
              <p:spPr>
                <a:xfrm flipH="1">
                  <a:off x="81360" y="194652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17" y="0"/>
                      </a:lnTo>
                      <a:lnTo>
                        <a:pt x="8" y="0"/>
                      </a:lnTo>
                      <a:lnTo>
                        <a:pt x="0" y="0"/>
                      </a:lnTo>
                      <a:lnTo>
                        <a:pt x="0" y="9"/>
                      </a:lnTo>
                      <a:lnTo>
                        <a:pt x="8"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7" name="Freeform 168"/>
                <p:cNvSpPr/>
                <p:nvPr/>
              </p:nvSpPr>
              <p:spPr>
                <a:xfrm flipH="1">
                  <a:off x="70560" y="1931400"/>
                  <a:ext cx="2880" cy="2880"/>
                </a:xfrm>
                <a:custGeom>
                  <a:avLst/>
                  <a:gdLst>
                    <a:gd name="textAreaLeft" fmla="*/ 360 w 2880"/>
                    <a:gd name="textAreaRight" fmla="*/ 3600 w 2880"/>
                    <a:gd name="textAreaTop" fmla="*/ 0 h 2880"/>
                    <a:gd name="textAreaBottom" fmla="*/ 3240 h 2880"/>
                  </a:gdLst>
                  <a:ahLst/>
                  <a:rect l="textAreaLeft" t="textAreaTop" r="textAreaRight" b="textAreaBottom"/>
                  <a:pathLst>
                    <a:path w="17" h="16">
                      <a:moveTo>
                        <a:pt x="17" y="8"/>
                      </a:moveTo>
                      <a:lnTo>
                        <a:pt x="17" y="0"/>
                      </a:lnTo>
                      <a:lnTo>
                        <a:pt x="8" y="0"/>
                      </a:lnTo>
                      <a:lnTo>
                        <a:pt x="0" y="0"/>
                      </a:lnTo>
                      <a:lnTo>
                        <a:pt x="0" y="8"/>
                      </a:lnTo>
                      <a:lnTo>
                        <a:pt x="8" y="16"/>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Freeform 167"/>
                <p:cNvSpPr/>
                <p:nvPr/>
              </p:nvSpPr>
              <p:spPr>
                <a:xfrm flipH="1">
                  <a:off x="81360" y="192960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17" y="0"/>
                      </a:lnTo>
                      <a:lnTo>
                        <a:pt x="8" y="0"/>
                      </a:lnTo>
                      <a:lnTo>
                        <a:pt x="0" y="9"/>
                      </a:lnTo>
                      <a:lnTo>
                        <a:pt x="0" y="17"/>
                      </a:lnTo>
                      <a:lnTo>
                        <a:pt x="8"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9" name="Freeform 166"/>
                <p:cNvSpPr/>
                <p:nvPr/>
              </p:nvSpPr>
              <p:spPr>
                <a:xfrm flipH="1">
                  <a:off x="81360" y="191412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17" y="0"/>
                      </a:lnTo>
                      <a:lnTo>
                        <a:pt x="8" y="0"/>
                      </a:lnTo>
                      <a:lnTo>
                        <a:pt x="0" y="9"/>
                      </a:lnTo>
                      <a:lnTo>
                        <a:pt x="8"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0" name="Freeform 165"/>
                <p:cNvSpPr/>
                <p:nvPr/>
              </p:nvSpPr>
              <p:spPr>
                <a:xfrm flipH="1">
                  <a:off x="70560" y="191592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8"/>
                      </a:moveTo>
                      <a:lnTo>
                        <a:pt x="8" y="0"/>
                      </a:lnTo>
                      <a:lnTo>
                        <a:pt x="0" y="0"/>
                      </a:lnTo>
                      <a:lnTo>
                        <a:pt x="0" y="8"/>
                      </a:lnTo>
                      <a:lnTo>
                        <a:pt x="8"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1" name="Freeform 164"/>
                <p:cNvSpPr/>
                <p:nvPr/>
              </p:nvSpPr>
              <p:spPr>
                <a:xfrm flipH="1">
                  <a:off x="70560" y="194868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7" h="8">
                      <a:moveTo>
                        <a:pt x="17" y="8"/>
                      </a:moveTo>
                      <a:lnTo>
                        <a:pt x="8" y="0"/>
                      </a:lnTo>
                      <a:lnTo>
                        <a:pt x="0" y="0"/>
                      </a:lnTo>
                      <a:lnTo>
                        <a:pt x="0" y="8"/>
                      </a:lnTo>
                      <a:lnTo>
                        <a:pt x="8" y="8"/>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2" name="Freeform 163"/>
                <p:cNvSpPr/>
                <p:nvPr/>
              </p:nvSpPr>
              <p:spPr>
                <a:xfrm flipH="1">
                  <a:off x="65880" y="194148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17" y="0"/>
                      </a:lnTo>
                      <a:lnTo>
                        <a:pt x="9" y="0"/>
                      </a:lnTo>
                      <a:lnTo>
                        <a:pt x="0" y="0"/>
                      </a:lnTo>
                      <a:lnTo>
                        <a:pt x="0" y="9"/>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3" name="Freeform 162"/>
                <p:cNvSpPr/>
                <p:nvPr/>
              </p:nvSpPr>
              <p:spPr>
                <a:xfrm flipH="1">
                  <a:off x="65880" y="192456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7" h="8">
                      <a:moveTo>
                        <a:pt x="17" y="0"/>
                      </a:moveTo>
                      <a:lnTo>
                        <a:pt x="9" y="0"/>
                      </a:lnTo>
                      <a:lnTo>
                        <a:pt x="0" y="0"/>
                      </a:lnTo>
                      <a:lnTo>
                        <a:pt x="0" y="8"/>
                      </a:lnTo>
                      <a:lnTo>
                        <a:pt x="9" y="8"/>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Freeform 161"/>
                <p:cNvSpPr/>
                <p:nvPr/>
              </p:nvSpPr>
              <p:spPr>
                <a:xfrm flipH="1">
                  <a:off x="-241920" y="1938240"/>
                  <a:ext cx="34200" cy="16920"/>
                </a:xfrm>
                <a:custGeom>
                  <a:avLst/>
                  <a:gdLst>
                    <a:gd name="textAreaLeft" fmla="*/ 360 w 34200"/>
                    <a:gd name="textAreaRight" fmla="*/ 34920 w 34200"/>
                    <a:gd name="textAreaTop" fmla="*/ 0 h 16920"/>
                    <a:gd name="textAreaBottom" fmla="*/ 17280 h 16920"/>
                  </a:gdLst>
                  <a:ahLst/>
                  <a:rect l="textAreaLeft" t="textAreaTop" r="textAreaRight" b="textAreaBottom"/>
                  <a:pathLst>
                    <a:path w="186" h="84">
                      <a:moveTo>
                        <a:pt x="135" y="42"/>
                      </a:moveTo>
                      <a:lnTo>
                        <a:pt x="186" y="26"/>
                      </a:lnTo>
                      <a:lnTo>
                        <a:pt x="186" y="0"/>
                      </a:lnTo>
                      <a:lnTo>
                        <a:pt x="0" y="59"/>
                      </a:lnTo>
                      <a:lnTo>
                        <a:pt x="0" y="84"/>
                      </a:lnTo>
                      <a:lnTo>
                        <a:pt x="68" y="59"/>
                      </a:lnTo>
                      <a:lnTo>
                        <a:pt x="68" y="84"/>
                      </a:lnTo>
                      <a:lnTo>
                        <a:pt x="135" y="59"/>
                      </a:lnTo>
                      <a:lnTo>
                        <a:pt x="135" y="42"/>
                      </a:lnTo>
                      <a:close/>
                    </a:path>
                  </a:pathLst>
                </a:custGeom>
                <a:solidFill>
                  <a:srgbClr val="000000"/>
                </a:solidFill>
                <a:ln w="5040">
                  <a:solidFill>
                    <a:srgbClr val="000000"/>
                  </a:solidFill>
                  <a:round/>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Freeform 160"/>
                <p:cNvSpPr/>
                <p:nvPr/>
              </p:nvSpPr>
              <p:spPr>
                <a:xfrm flipH="1">
                  <a:off x="-165600" y="1945080"/>
                  <a:ext cx="410760" cy="92160"/>
                </a:xfrm>
                <a:custGeom>
                  <a:avLst/>
                  <a:gdLst>
                    <a:gd name="textAreaLeft" fmla="*/ -360 w 410760"/>
                    <a:gd name="textAreaRight" fmla="*/ 410760 w 410760"/>
                    <a:gd name="textAreaTop" fmla="*/ 0 h 92160"/>
                    <a:gd name="textAreaBottom" fmla="*/ 92520 h 92160"/>
                  </a:gdLst>
                  <a:ahLst/>
                  <a:rect l="textAreaLeft" t="textAreaTop" r="textAreaRight" b="textAreaBottom"/>
                  <a:pathLst>
                    <a:path w="2218" h="454">
                      <a:moveTo>
                        <a:pt x="1763" y="454"/>
                      </a:moveTo>
                      <a:lnTo>
                        <a:pt x="1788" y="446"/>
                      </a:lnTo>
                      <a:lnTo>
                        <a:pt x="1847" y="421"/>
                      </a:lnTo>
                      <a:lnTo>
                        <a:pt x="1906" y="395"/>
                      </a:lnTo>
                      <a:lnTo>
                        <a:pt x="1957" y="370"/>
                      </a:lnTo>
                      <a:lnTo>
                        <a:pt x="2016" y="328"/>
                      </a:lnTo>
                      <a:lnTo>
                        <a:pt x="2092" y="278"/>
                      </a:lnTo>
                      <a:lnTo>
                        <a:pt x="2142" y="252"/>
                      </a:lnTo>
                      <a:lnTo>
                        <a:pt x="2185" y="227"/>
                      </a:lnTo>
                      <a:lnTo>
                        <a:pt x="2218" y="210"/>
                      </a:lnTo>
                      <a:lnTo>
                        <a:pt x="801" y="34"/>
                      </a:lnTo>
                      <a:lnTo>
                        <a:pt x="523" y="0"/>
                      </a:lnTo>
                      <a:lnTo>
                        <a:pt x="413" y="34"/>
                      </a:lnTo>
                      <a:lnTo>
                        <a:pt x="379" y="50"/>
                      </a:lnTo>
                      <a:lnTo>
                        <a:pt x="329" y="76"/>
                      </a:lnTo>
                      <a:lnTo>
                        <a:pt x="261" y="118"/>
                      </a:lnTo>
                      <a:lnTo>
                        <a:pt x="160" y="151"/>
                      </a:lnTo>
                      <a:lnTo>
                        <a:pt x="126" y="168"/>
                      </a:lnTo>
                      <a:lnTo>
                        <a:pt x="177" y="168"/>
                      </a:lnTo>
                      <a:lnTo>
                        <a:pt x="211" y="160"/>
                      </a:lnTo>
                      <a:lnTo>
                        <a:pt x="228" y="151"/>
                      </a:lnTo>
                      <a:lnTo>
                        <a:pt x="253" y="151"/>
                      </a:lnTo>
                      <a:lnTo>
                        <a:pt x="261" y="143"/>
                      </a:lnTo>
                      <a:lnTo>
                        <a:pt x="287" y="135"/>
                      </a:lnTo>
                      <a:lnTo>
                        <a:pt x="304" y="135"/>
                      </a:lnTo>
                      <a:lnTo>
                        <a:pt x="304" y="126"/>
                      </a:lnTo>
                      <a:lnTo>
                        <a:pt x="337" y="109"/>
                      </a:lnTo>
                      <a:lnTo>
                        <a:pt x="354" y="109"/>
                      </a:lnTo>
                      <a:lnTo>
                        <a:pt x="354" y="101"/>
                      </a:lnTo>
                      <a:lnTo>
                        <a:pt x="396" y="76"/>
                      </a:lnTo>
                      <a:lnTo>
                        <a:pt x="396" y="67"/>
                      </a:lnTo>
                      <a:lnTo>
                        <a:pt x="447" y="42"/>
                      </a:lnTo>
                      <a:lnTo>
                        <a:pt x="548" y="59"/>
                      </a:lnTo>
                      <a:lnTo>
                        <a:pt x="557" y="76"/>
                      </a:lnTo>
                      <a:lnTo>
                        <a:pt x="540" y="93"/>
                      </a:lnTo>
                      <a:lnTo>
                        <a:pt x="498" y="109"/>
                      </a:lnTo>
                      <a:lnTo>
                        <a:pt x="464" y="135"/>
                      </a:lnTo>
                      <a:lnTo>
                        <a:pt x="422" y="151"/>
                      </a:lnTo>
                      <a:lnTo>
                        <a:pt x="405" y="168"/>
                      </a:lnTo>
                      <a:lnTo>
                        <a:pt x="455" y="160"/>
                      </a:lnTo>
                      <a:lnTo>
                        <a:pt x="464" y="143"/>
                      </a:lnTo>
                      <a:lnTo>
                        <a:pt x="506" y="135"/>
                      </a:lnTo>
                      <a:lnTo>
                        <a:pt x="514" y="126"/>
                      </a:lnTo>
                      <a:lnTo>
                        <a:pt x="514" y="118"/>
                      </a:lnTo>
                      <a:lnTo>
                        <a:pt x="565" y="101"/>
                      </a:lnTo>
                      <a:lnTo>
                        <a:pt x="565" y="84"/>
                      </a:lnTo>
                      <a:lnTo>
                        <a:pt x="607" y="67"/>
                      </a:lnTo>
                      <a:lnTo>
                        <a:pt x="1586" y="185"/>
                      </a:lnTo>
                      <a:lnTo>
                        <a:pt x="1645" y="194"/>
                      </a:lnTo>
                      <a:lnTo>
                        <a:pt x="1662" y="219"/>
                      </a:lnTo>
                      <a:lnTo>
                        <a:pt x="1645" y="236"/>
                      </a:lnTo>
                      <a:lnTo>
                        <a:pt x="1603" y="261"/>
                      </a:lnTo>
                      <a:lnTo>
                        <a:pt x="1544" y="303"/>
                      </a:lnTo>
                      <a:lnTo>
                        <a:pt x="1510" y="320"/>
                      </a:lnTo>
                      <a:lnTo>
                        <a:pt x="1476" y="337"/>
                      </a:lnTo>
                      <a:lnTo>
                        <a:pt x="1459" y="345"/>
                      </a:lnTo>
                      <a:lnTo>
                        <a:pt x="1485" y="345"/>
                      </a:lnTo>
                      <a:lnTo>
                        <a:pt x="1493" y="337"/>
                      </a:lnTo>
                      <a:lnTo>
                        <a:pt x="1527" y="328"/>
                      </a:lnTo>
                      <a:lnTo>
                        <a:pt x="1552" y="337"/>
                      </a:lnTo>
                      <a:lnTo>
                        <a:pt x="1560" y="320"/>
                      </a:lnTo>
                      <a:lnTo>
                        <a:pt x="1594" y="311"/>
                      </a:lnTo>
                      <a:lnTo>
                        <a:pt x="1603" y="294"/>
                      </a:lnTo>
                      <a:lnTo>
                        <a:pt x="1628" y="278"/>
                      </a:lnTo>
                      <a:lnTo>
                        <a:pt x="1645" y="269"/>
                      </a:lnTo>
                      <a:lnTo>
                        <a:pt x="1687" y="244"/>
                      </a:lnTo>
                      <a:lnTo>
                        <a:pt x="1687" y="236"/>
                      </a:lnTo>
                      <a:lnTo>
                        <a:pt x="1729" y="210"/>
                      </a:lnTo>
                      <a:lnTo>
                        <a:pt x="1999" y="244"/>
                      </a:lnTo>
                      <a:lnTo>
                        <a:pt x="2016" y="269"/>
                      </a:lnTo>
                      <a:lnTo>
                        <a:pt x="2008" y="286"/>
                      </a:lnTo>
                      <a:lnTo>
                        <a:pt x="1982" y="303"/>
                      </a:lnTo>
                      <a:lnTo>
                        <a:pt x="1923" y="345"/>
                      </a:lnTo>
                      <a:lnTo>
                        <a:pt x="1864" y="379"/>
                      </a:lnTo>
                      <a:lnTo>
                        <a:pt x="1805" y="404"/>
                      </a:lnTo>
                      <a:lnTo>
                        <a:pt x="1746" y="429"/>
                      </a:lnTo>
                      <a:lnTo>
                        <a:pt x="1417" y="379"/>
                      </a:lnTo>
                      <a:lnTo>
                        <a:pt x="1442" y="353"/>
                      </a:lnTo>
                      <a:lnTo>
                        <a:pt x="1375" y="379"/>
                      </a:lnTo>
                      <a:lnTo>
                        <a:pt x="261" y="219"/>
                      </a:lnTo>
                      <a:lnTo>
                        <a:pt x="287" y="202"/>
                      </a:lnTo>
                      <a:lnTo>
                        <a:pt x="236" y="210"/>
                      </a:lnTo>
                      <a:lnTo>
                        <a:pt x="101" y="194"/>
                      </a:lnTo>
                      <a:lnTo>
                        <a:pt x="126" y="168"/>
                      </a:lnTo>
                      <a:lnTo>
                        <a:pt x="101" y="177"/>
                      </a:lnTo>
                      <a:lnTo>
                        <a:pt x="0" y="202"/>
                      </a:lnTo>
                      <a:lnTo>
                        <a:pt x="1721" y="454"/>
                      </a:lnTo>
                      <a:lnTo>
                        <a:pt x="1763" y="454"/>
                      </a:lnTo>
                      <a:close/>
                    </a:path>
                  </a:pathLst>
                </a:custGeom>
                <a:solidFill>
                  <a:srgbClr val="ffffff"/>
                </a:solidFill>
                <a:ln w="5040">
                  <a:solidFill>
                    <a:srgbClr val="000000"/>
                  </a:solidFill>
                  <a:round/>
                </a:ln>
              </p:spPr>
              <p:style>
                <a:lnRef idx="0"/>
                <a:fillRef idx="0"/>
                <a:effectRef idx="0"/>
                <a:fontRef idx="minor"/>
              </p:style>
              <p: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Freeform 159"/>
                <p:cNvSpPr/>
                <p:nvPr/>
              </p:nvSpPr>
              <p:spPr>
                <a:xfrm flipH="1">
                  <a:off x="-81360" y="1986120"/>
                  <a:ext cx="326520" cy="66240"/>
                </a:xfrm>
                <a:custGeom>
                  <a:avLst/>
                  <a:gdLst/>
                  <a:ahLst/>
                  <a:rect l="l" t="t" r="r" b="b"/>
                  <a:pathLst>
                    <a:path w="1763" h="328">
                      <a:moveTo>
                        <a:pt x="1763" y="328"/>
                      </a:moveTo>
                      <a:lnTo>
                        <a:pt x="1763" y="252"/>
                      </a:lnTo>
                      <a:lnTo>
                        <a:pt x="1721" y="252"/>
                      </a:lnTo>
                      <a:lnTo>
                        <a:pt x="0" y="0"/>
                      </a:lnTo>
                      <a:lnTo>
                        <a:pt x="0" y="67"/>
                      </a:lnTo>
                      <a:lnTo>
                        <a:pt x="1763" y="328"/>
                      </a:lnTo>
                      <a:close/>
                    </a:path>
                  </a:pathLst>
                </a:custGeom>
                <a:solidFill>
                  <a:srgbClr val="ffffff"/>
                </a:solidFill>
                <a:ln w="5040">
                  <a:solidFill>
                    <a:srgbClr val="000000"/>
                  </a:solidFill>
                  <a:round/>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Freeform 158"/>
                <p:cNvSpPr/>
                <p:nvPr/>
              </p:nvSpPr>
              <p:spPr>
                <a:xfrm flipH="1">
                  <a:off x="-63000" y="1962000"/>
                  <a:ext cx="259560" cy="59760"/>
                </a:xfrm>
                <a:custGeom>
                  <a:avLst/>
                  <a:gdLst>
                    <a:gd name="textAreaLeft" fmla="*/ -360 w 259560"/>
                    <a:gd name="textAreaRight" fmla="*/ 259560 w 259560"/>
                    <a:gd name="textAreaTop" fmla="*/ 0 h 59760"/>
                    <a:gd name="textAreaBottom" fmla="*/ 60120 h 59760"/>
                  </a:gdLst>
                  <a:ahLst/>
                  <a:rect l="textAreaLeft" t="textAreaTop" r="textAreaRight" b="textAreaBottom"/>
                  <a:pathLst>
                    <a:path w="1401" h="295">
                      <a:moveTo>
                        <a:pt x="1181" y="269"/>
                      </a:moveTo>
                      <a:lnTo>
                        <a:pt x="1198" y="261"/>
                      </a:lnTo>
                      <a:lnTo>
                        <a:pt x="1215" y="253"/>
                      </a:lnTo>
                      <a:lnTo>
                        <a:pt x="1249" y="236"/>
                      </a:lnTo>
                      <a:lnTo>
                        <a:pt x="1283" y="219"/>
                      </a:lnTo>
                      <a:lnTo>
                        <a:pt x="1342" y="177"/>
                      </a:lnTo>
                      <a:lnTo>
                        <a:pt x="1384" y="152"/>
                      </a:lnTo>
                      <a:lnTo>
                        <a:pt x="1401" y="135"/>
                      </a:lnTo>
                      <a:lnTo>
                        <a:pt x="1384" y="110"/>
                      </a:lnTo>
                      <a:lnTo>
                        <a:pt x="1350" y="135"/>
                      </a:lnTo>
                      <a:lnTo>
                        <a:pt x="1291" y="126"/>
                      </a:lnTo>
                      <a:lnTo>
                        <a:pt x="304" y="0"/>
                      </a:lnTo>
                      <a:lnTo>
                        <a:pt x="304" y="17"/>
                      </a:lnTo>
                      <a:lnTo>
                        <a:pt x="1266" y="143"/>
                      </a:lnTo>
                      <a:lnTo>
                        <a:pt x="1333" y="152"/>
                      </a:lnTo>
                      <a:lnTo>
                        <a:pt x="1299" y="168"/>
                      </a:lnTo>
                      <a:lnTo>
                        <a:pt x="1240" y="160"/>
                      </a:lnTo>
                      <a:lnTo>
                        <a:pt x="253" y="34"/>
                      </a:lnTo>
                      <a:lnTo>
                        <a:pt x="253" y="42"/>
                      </a:lnTo>
                      <a:lnTo>
                        <a:pt x="245" y="51"/>
                      </a:lnTo>
                      <a:lnTo>
                        <a:pt x="1207" y="177"/>
                      </a:lnTo>
                      <a:lnTo>
                        <a:pt x="1274" y="185"/>
                      </a:lnTo>
                      <a:lnTo>
                        <a:pt x="1207" y="219"/>
                      </a:lnTo>
                      <a:lnTo>
                        <a:pt x="1156" y="219"/>
                      </a:lnTo>
                      <a:lnTo>
                        <a:pt x="144" y="84"/>
                      </a:lnTo>
                      <a:lnTo>
                        <a:pt x="144" y="93"/>
                      </a:lnTo>
                      <a:lnTo>
                        <a:pt x="1190" y="227"/>
                      </a:lnTo>
                      <a:lnTo>
                        <a:pt x="1164" y="244"/>
                      </a:lnTo>
                      <a:lnTo>
                        <a:pt x="110" y="101"/>
                      </a:lnTo>
                      <a:lnTo>
                        <a:pt x="93" y="93"/>
                      </a:lnTo>
                      <a:lnTo>
                        <a:pt x="93" y="101"/>
                      </a:lnTo>
                      <a:lnTo>
                        <a:pt x="1122" y="253"/>
                      </a:lnTo>
                      <a:lnTo>
                        <a:pt x="1097" y="261"/>
                      </a:lnTo>
                      <a:lnTo>
                        <a:pt x="667" y="194"/>
                      </a:lnTo>
                      <a:lnTo>
                        <a:pt x="43" y="110"/>
                      </a:lnTo>
                      <a:lnTo>
                        <a:pt x="26" y="118"/>
                      </a:lnTo>
                      <a:lnTo>
                        <a:pt x="0" y="135"/>
                      </a:lnTo>
                      <a:lnTo>
                        <a:pt x="1114" y="295"/>
                      </a:lnTo>
                      <a:lnTo>
                        <a:pt x="1181" y="269"/>
                      </a:lnTo>
                      <a:close/>
                    </a:path>
                  </a:pathLst>
                </a:custGeom>
                <a:solidFill>
                  <a:srgbClr val="000000"/>
                </a:solidFill>
                <a:ln w="5040">
                  <a:solidFill>
                    <a:srgbClr val="000000"/>
                  </a:solidFill>
                  <a:round/>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Freeform 157"/>
                <p:cNvSpPr/>
                <p:nvPr/>
              </p:nvSpPr>
              <p:spPr>
                <a:xfrm flipH="1">
                  <a:off x="-165600" y="1987560"/>
                  <a:ext cx="84240" cy="64800"/>
                </a:xfrm>
                <a:custGeom>
                  <a:avLst/>
                  <a:gdLst>
                    <a:gd name="textAreaLeft" fmla="*/ -360 w 84240"/>
                    <a:gd name="textAreaRight" fmla="*/ 84240 w 84240"/>
                    <a:gd name="textAreaTop" fmla="*/ 0 h 64800"/>
                    <a:gd name="textAreaBottom" fmla="*/ 65160 h 64800"/>
                  </a:gdLst>
                  <a:ahLst/>
                  <a:rect l="textAreaLeft" t="textAreaTop" r="textAreaRight" b="textAreaBottom"/>
                  <a:pathLst>
                    <a:path w="455" h="320">
                      <a:moveTo>
                        <a:pt x="202" y="236"/>
                      </a:moveTo>
                      <a:lnTo>
                        <a:pt x="211" y="228"/>
                      </a:lnTo>
                      <a:lnTo>
                        <a:pt x="236" y="202"/>
                      </a:lnTo>
                      <a:lnTo>
                        <a:pt x="261" y="185"/>
                      </a:lnTo>
                      <a:lnTo>
                        <a:pt x="287" y="169"/>
                      </a:lnTo>
                      <a:lnTo>
                        <a:pt x="312" y="143"/>
                      </a:lnTo>
                      <a:lnTo>
                        <a:pt x="337" y="135"/>
                      </a:lnTo>
                      <a:lnTo>
                        <a:pt x="354" y="118"/>
                      </a:lnTo>
                      <a:lnTo>
                        <a:pt x="388" y="110"/>
                      </a:lnTo>
                      <a:lnTo>
                        <a:pt x="405" y="101"/>
                      </a:lnTo>
                      <a:lnTo>
                        <a:pt x="430" y="93"/>
                      </a:lnTo>
                      <a:lnTo>
                        <a:pt x="439" y="84"/>
                      </a:lnTo>
                      <a:lnTo>
                        <a:pt x="455" y="76"/>
                      </a:lnTo>
                      <a:lnTo>
                        <a:pt x="455" y="26"/>
                      </a:lnTo>
                      <a:lnTo>
                        <a:pt x="455" y="0"/>
                      </a:lnTo>
                      <a:lnTo>
                        <a:pt x="422" y="17"/>
                      </a:lnTo>
                      <a:lnTo>
                        <a:pt x="379" y="42"/>
                      </a:lnTo>
                      <a:lnTo>
                        <a:pt x="329" y="68"/>
                      </a:lnTo>
                      <a:lnTo>
                        <a:pt x="253" y="118"/>
                      </a:lnTo>
                      <a:lnTo>
                        <a:pt x="194" y="160"/>
                      </a:lnTo>
                      <a:lnTo>
                        <a:pt x="143" y="185"/>
                      </a:lnTo>
                      <a:lnTo>
                        <a:pt x="84" y="211"/>
                      </a:lnTo>
                      <a:lnTo>
                        <a:pt x="25" y="236"/>
                      </a:lnTo>
                      <a:lnTo>
                        <a:pt x="0" y="244"/>
                      </a:lnTo>
                      <a:lnTo>
                        <a:pt x="0" y="320"/>
                      </a:lnTo>
                      <a:lnTo>
                        <a:pt x="42" y="303"/>
                      </a:lnTo>
                      <a:lnTo>
                        <a:pt x="84" y="295"/>
                      </a:lnTo>
                      <a:lnTo>
                        <a:pt x="152" y="270"/>
                      </a:lnTo>
                      <a:lnTo>
                        <a:pt x="202" y="236"/>
                      </a:lnTo>
                      <a:close/>
                    </a:path>
                  </a:pathLst>
                </a:custGeom>
                <a:solidFill>
                  <a:srgbClr val="0080ff"/>
                </a:solidFill>
                <a:ln w="5040">
                  <a:solidFill>
                    <a:srgbClr val="000000"/>
                  </a:solidFill>
                  <a:round/>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Freeform 156"/>
                <p:cNvSpPr/>
                <p:nvPr/>
              </p:nvSpPr>
              <p:spPr>
                <a:xfrm flipH="1">
                  <a:off x="-128160" y="1992960"/>
                  <a:ext cx="110880" cy="38880"/>
                </a:xfrm>
                <a:custGeom>
                  <a:avLst/>
                  <a:gdLst>
                    <a:gd name="textAreaLeft" fmla="*/ -360 w 110880"/>
                    <a:gd name="textAreaRight" fmla="*/ 110880 w 110880"/>
                    <a:gd name="textAreaTop" fmla="*/ 0 h 38880"/>
                    <a:gd name="textAreaBottom" fmla="*/ 39240 h 38880"/>
                  </a:gdLst>
                  <a:ahLst/>
                  <a:rect l="textAreaLeft" t="textAreaTop" r="textAreaRight" b="textAreaBottom"/>
                  <a:pathLst>
                    <a:path w="599" h="193">
                      <a:moveTo>
                        <a:pt x="447" y="75"/>
                      </a:moveTo>
                      <a:lnTo>
                        <a:pt x="489" y="84"/>
                      </a:lnTo>
                      <a:lnTo>
                        <a:pt x="422" y="117"/>
                      </a:lnTo>
                      <a:lnTo>
                        <a:pt x="388" y="117"/>
                      </a:lnTo>
                      <a:lnTo>
                        <a:pt x="143" y="84"/>
                      </a:lnTo>
                      <a:lnTo>
                        <a:pt x="135" y="101"/>
                      </a:lnTo>
                      <a:lnTo>
                        <a:pt x="388" y="134"/>
                      </a:lnTo>
                      <a:lnTo>
                        <a:pt x="329" y="151"/>
                      </a:lnTo>
                      <a:lnTo>
                        <a:pt x="287" y="151"/>
                      </a:lnTo>
                      <a:lnTo>
                        <a:pt x="25" y="117"/>
                      </a:lnTo>
                      <a:lnTo>
                        <a:pt x="0" y="143"/>
                      </a:lnTo>
                      <a:lnTo>
                        <a:pt x="329" y="193"/>
                      </a:lnTo>
                      <a:lnTo>
                        <a:pt x="388" y="168"/>
                      </a:lnTo>
                      <a:lnTo>
                        <a:pt x="447" y="143"/>
                      </a:lnTo>
                      <a:lnTo>
                        <a:pt x="506" y="109"/>
                      </a:lnTo>
                      <a:lnTo>
                        <a:pt x="565" y="67"/>
                      </a:lnTo>
                      <a:lnTo>
                        <a:pt x="591" y="50"/>
                      </a:lnTo>
                      <a:lnTo>
                        <a:pt x="599" y="33"/>
                      </a:lnTo>
                      <a:lnTo>
                        <a:pt x="582" y="8"/>
                      </a:lnTo>
                      <a:lnTo>
                        <a:pt x="548" y="33"/>
                      </a:lnTo>
                      <a:lnTo>
                        <a:pt x="270" y="0"/>
                      </a:lnTo>
                      <a:lnTo>
                        <a:pt x="270" y="8"/>
                      </a:lnTo>
                      <a:lnTo>
                        <a:pt x="540" y="42"/>
                      </a:lnTo>
                      <a:lnTo>
                        <a:pt x="506" y="67"/>
                      </a:lnTo>
                      <a:lnTo>
                        <a:pt x="228" y="33"/>
                      </a:lnTo>
                      <a:lnTo>
                        <a:pt x="211" y="42"/>
                      </a:lnTo>
                      <a:lnTo>
                        <a:pt x="447" y="75"/>
                      </a:lnTo>
                      <a:close/>
                    </a:path>
                  </a:pathLst>
                </a:custGeom>
                <a:solidFill>
                  <a:srgbClr val="000000"/>
                </a:solidFill>
                <a:ln w="5040">
                  <a:solidFill>
                    <a:srgbClr val="000000"/>
                  </a:solidFill>
                  <a:round/>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Freeform 155"/>
                <p:cNvSpPr/>
                <p:nvPr/>
              </p:nvSpPr>
              <p:spPr>
                <a:xfrm flipH="1">
                  <a:off x="-88920" y="2011680"/>
                  <a:ext cx="57600" cy="11880"/>
                </a:xfrm>
                <a:custGeom>
                  <a:avLst/>
                  <a:gdLst>
                    <a:gd name="textAreaLeft" fmla="*/ -360 w 57600"/>
                    <a:gd name="textAreaRight" fmla="*/ 57600 w 57600"/>
                    <a:gd name="textAreaTop" fmla="*/ 0 h 11880"/>
                    <a:gd name="textAreaBottom" fmla="*/ 12240 h 11880"/>
                  </a:gdLst>
                  <a:ahLst/>
                  <a:rect l="textAreaLeft" t="textAreaTop" r="textAreaRight" b="textAreaBottom"/>
                  <a:pathLst>
                    <a:path w="312" h="59">
                      <a:moveTo>
                        <a:pt x="211" y="59"/>
                      </a:moveTo>
                      <a:lnTo>
                        <a:pt x="253" y="59"/>
                      </a:lnTo>
                      <a:lnTo>
                        <a:pt x="312" y="42"/>
                      </a:lnTo>
                      <a:lnTo>
                        <a:pt x="59" y="9"/>
                      </a:lnTo>
                      <a:lnTo>
                        <a:pt x="34" y="0"/>
                      </a:lnTo>
                      <a:lnTo>
                        <a:pt x="0" y="9"/>
                      </a:lnTo>
                      <a:lnTo>
                        <a:pt x="253" y="42"/>
                      </a:lnTo>
                      <a:lnTo>
                        <a:pt x="236" y="51"/>
                      </a:lnTo>
                      <a:lnTo>
                        <a:pt x="211" y="59"/>
                      </a:lnTo>
                      <a:close/>
                    </a:path>
                  </a:pathLst>
                </a:custGeom>
                <a:solidFill>
                  <a:srgbClr val="ffffff"/>
                </a:solidFill>
                <a:ln w="5040">
                  <a:solidFill>
                    <a:srgbClr val="000000"/>
                  </a:solidFill>
                  <a:round/>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Freeform 154"/>
                <p:cNvSpPr/>
                <p:nvPr/>
              </p:nvSpPr>
              <p:spPr>
                <a:xfrm flipH="1">
                  <a:off x="-78120" y="2013480"/>
                  <a:ext cx="48240" cy="8280"/>
                </a:xfrm>
                <a:custGeom>
                  <a:avLst/>
                  <a:gdLst>
                    <a:gd name="textAreaLeft" fmla="*/ -360 w 48240"/>
                    <a:gd name="textAreaRight" fmla="*/ 48240 w 48240"/>
                    <a:gd name="textAreaTop" fmla="*/ 0 h 8280"/>
                    <a:gd name="textAreaBottom" fmla="*/ 8640 h 8280"/>
                  </a:gdLst>
                  <a:ahLst/>
                  <a:rect l="textAreaLeft" t="textAreaTop" r="textAreaRight" b="textAreaBottom"/>
                  <a:pathLst>
                    <a:path w="261" h="42">
                      <a:moveTo>
                        <a:pt x="244" y="42"/>
                      </a:moveTo>
                      <a:lnTo>
                        <a:pt x="261" y="33"/>
                      </a:lnTo>
                      <a:lnTo>
                        <a:pt x="8" y="0"/>
                      </a:lnTo>
                      <a:lnTo>
                        <a:pt x="0" y="8"/>
                      </a:lnTo>
                      <a:lnTo>
                        <a:pt x="244" y="42"/>
                      </a:lnTo>
                      <a:close/>
                    </a:path>
                  </a:pathLst>
                </a:custGeom>
                <a:solidFill>
                  <a:srgbClr val="000000"/>
                </a:solidFill>
                <a:ln w="5040">
                  <a:solidFill>
                    <a:srgbClr val="000000"/>
                  </a:solidFill>
                  <a:round/>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Freeform 153"/>
                <p:cNvSpPr/>
                <p:nvPr/>
              </p:nvSpPr>
              <p:spPr>
                <a:xfrm flipH="1">
                  <a:off x="-95400" y="2004840"/>
                  <a:ext cx="45360" cy="8640"/>
                </a:xfrm>
                <a:custGeom>
                  <a:avLst/>
                  <a:gdLst>
                    <a:gd name="textAreaLeft" fmla="*/ -360 w 45360"/>
                    <a:gd name="textAreaRight" fmla="*/ 45360 w 45360"/>
                    <a:gd name="textAreaTop" fmla="*/ 0 h 8640"/>
                    <a:gd name="textAreaBottom" fmla="*/ 9000 h 8640"/>
                  </a:gdLst>
                  <a:ahLst/>
                  <a:rect l="textAreaLeft" t="textAreaTop" r="textAreaRight" b="textAreaBottom"/>
                  <a:pathLst>
                    <a:path w="245" h="43">
                      <a:moveTo>
                        <a:pt x="245" y="34"/>
                      </a:moveTo>
                      <a:lnTo>
                        <a:pt x="9" y="0"/>
                      </a:lnTo>
                      <a:lnTo>
                        <a:pt x="0" y="17"/>
                      </a:lnTo>
                      <a:lnTo>
                        <a:pt x="228" y="43"/>
                      </a:lnTo>
                      <a:lnTo>
                        <a:pt x="245" y="34"/>
                      </a:lnTo>
                      <a:close/>
                    </a:path>
                  </a:pathLst>
                </a:custGeom>
                <a:solidFill>
                  <a:srgbClr val="000000"/>
                </a:solidFill>
                <a:ln w="5040">
                  <a:solidFill>
                    <a:srgbClr val="000000"/>
                  </a:solidFill>
                  <a:round/>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Freeform 152"/>
                <p:cNvSpPr/>
                <p:nvPr/>
              </p:nvSpPr>
              <p:spPr>
                <a:xfrm flipH="1">
                  <a:off x="-124920" y="1987560"/>
                  <a:ext cx="57600" cy="11880"/>
                </a:xfrm>
                <a:custGeom>
                  <a:avLst/>
                  <a:gdLst>
                    <a:gd name="textAreaLeft" fmla="*/ -360 w 57600"/>
                    <a:gd name="textAreaRight" fmla="*/ 57600 w 57600"/>
                    <a:gd name="textAreaTop" fmla="*/ 0 h 11880"/>
                    <a:gd name="textAreaBottom" fmla="*/ 12240 h 11880"/>
                  </a:gdLst>
                  <a:ahLst/>
                  <a:rect l="textAreaLeft" t="textAreaTop" r="textAreaRight" b="textAreaBottom"/>
                  <a:pathLst>
                    <a:path w="312" h="59">
                      <a:moveTo>
                        <a:pt x="312" y="34"/>
                      </a:moveTo>
                      <a:lnTo>
                        <a:pt x="42" y="0"/>
                      </a:lnTo>
                      <a:lnTo>
                        <a:pt x="0" y="26"/>
                      </a:lnTo>
                      <a:lnTo>
                        <a:pt x="278" y="59"/>
                      </a:lnTo>
                      <a:lnTo>
                        <a:pt x="312" y="34"/>
                      </a:lnTo>
                      <a:close/>
                    </a:path>
                  </a:pathLst>
                </a:custGeom>
                <a:solidFill>
                  <a:srgbClr val="ffffff"/>
                </a:solidFill>
                <a:ln w="5040">
                  <a:solidFill>
                    <a:srgbClr val="000000"/>
                  </a:solidFill>
                  <a:round/>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4" name="Freeform 151"/>
                <p:cNvSpPr/>
                <p:nvPr/>
              </p:nvSpPr>
              <p:spPr>
                <a:xfrm flipH="1">
                  <a:off x="-99720" y="2001600"/>
                  <a:ext cx="48240" cy="10080"/>
                </a:xfrm>
                <a:custGeom>
                  <a:avLst/>
                  <a:gdLst>
                    <a:gd name="textAreaLeft" fmla="*/ -360 w 48240"/>
                    <a:gd name="textAreaRight" fmla="*/ 48240 w 48240"/>
                    <a:gd name="textAreaTop" fmla="*/ 0 h 10080"/>
                    <a:gd name="textAreaBottom" fmla="*/ 10080 h 10080"/>
                  </a:gdLst>
                  <a:ahLst/>
                  <a:rect l="textAreaLeft" t="textAreaTop" r="textAreaRight" b="textAreaBottom"/>
                  <a:pathLst>
                    <a:path w="261" h="50">
                      <a:moveTo>
                        <a:pt x="261" y="33"/>
                      </a:moveTo>
                      <a:lnTo>
                        <a:pt x="25" y="0"/>
                      </a:lnTo>
                      <a:lnTo>
                        <a:pt x="0" y="16"/>
                      </a:lnTo>
                      <a:lnTo>
                        <a:pt x="236" y="50"/>
                      </a:lnTo>
                      <a:lnTo>
                        <a:pt x="261" y="33"/>
                      </a:lnTo>
                      <a:close/>
                    </a:path>
                  </a:pathLst>
                </a:custGeom>
                <a:solidFill>
                  <a:srgbClr val="ffffff"/>
                </a:solidFill>
                <a:ln w="5040">
                  <a:solidFill>
                    <a:srgbClr val="000000"/>
                  </a:solidFill>
                  <a:round/>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5" name="Freeform 150"/>
                <p:cNvSpPr/>
                <p:nvPr/>
              </p:nvSpPr>
              <p:spPr>
                <a:xfrm flipH="1">
                  <a:off x="-91800" y="2008080"/>
                  <a:ext cx="48240" cy="8280"/>
                </a:xfrm>
                <a:custGeom>
                  <a:avLst/>
                  <a:gdLst>
                    <a:gd name="textAreaLeft" fmla="*/ -360 w 48240"/>
                    <a:gd name="textAreaRight" fmla="*/ 48240 w 48240"/>
                    <a:gd name="textAreaTop" fmla="*/ 0 h 8280"/>
                    <a:gd name="textAreaBottom" fmla="*/ 8640 h 8280"/>
                  </a:gdLst>
                  <a:ahLst/>
                  <a:rect l="textAreaLeft" t="textAreaTop" r="textAreaRight" b="textAreaBottom"/>
                  <a:pathLst>
                    <a:path w="262" h="42">
                      <a:moveTo>
                        <a:pt x="262" y="26"/>
                      </a:moveTo>
                      <a:lnTo>
                        <a:pt x="34" y="0"/>
                      </a:lnTo>
                      <a:lnTo>
                        <a:pt x="0" y="9"/>
                      </a:lnTo>
                      <a:lnTo>
                        <a:pt x="245" y="42"/>
                      </a:lnTo>
                      <a:lnTo>
                        <a:pt x="262" y="26"/>
                      </a:lnTo>
                      <a:close/>
                    </a:path>
                  </a:pathLst>
                </a:custGeom>
                <a:solidFill>
                  <a:srgbClr val="ffffff"/>
                </a:solidFill>
                <a:ln w="5040">
                  <a:solidFill>
                    <a:srgbClr val="000000"/>
                  </a:solidFill>
                  <a:round/>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Freeform 149"/>
                <p:cNvSpPr/>
                <p:nvPr/>
              </p:nvSpPr>
              <p:spPr>
                <a:xfrm flipH="1">
                  <a:off x="-74880" y="2014920"/>
                  <a:ext cx="52920" cy="8280"/>
                </a:xfrm>
                <a:custGeom>
                  <a:avLst/>
                  <a:gdLst>
                    <a:gd name="textAreaLeft" fmla="*/ 360 w 52920"/>
                    <a:gd name="textAreaRight" fmla="*/ 53640 w 52920"/>
                    <a:gd name="textAreaTop" fmla="*/ 0 h 8280"/>
                    <a:gd name="textAreaBottom" fmla="*/ 8640 h 8280"/>
                  </a:gdLst>
                  <a:ahLst/>
                  <a:rect l="textAreaLeft" t="textAreaTop" r="textAreaRight" b="textAreaBottom"/>
                  <a:pathLst>
                    <a:path w="287" h="42">
                      <a:moveTo>
                        <a:pt x="262" y="42"/>
                      </a:moveTo>
                      <a:lnTo>
                        <a:pt x="287" y="34"/>
                      </a:lnTo>
                      <a:lnTo>
                        <a:pt x="43" y="0"/>
                      </a:lnTo>
                      <a:lnTo>
                        <a:pt x="17" y="0"/>
                      </a:lnTo>
                      <a:lnTo>
                        <a:pt x="0" y="8"/>
                      </a:lnTo>
                      <a:lnTo>
                        <a:pt x="262" y="42"/>
                      </a:lnTo>
                      <a:close/>
                    </a:path>
                  </a:pathLst>
                </a:custGeom>
                <a:solidFill>
                  <a:srgbClr val="ffffff"/>
                </a:solidFill>
                <a:ln w="5040">
                  <a:solidFill>
                    <a:srgbClr val="000000"/>
                  </a:solidFill>
                  <a:round/>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Freeform 148"/>
                <p:cNvSpPr/>
                <p:nvPr/>
              </p:nvSpPr>
              <p:spPr>
                <a:xfrm flipH="1">
                  <a:off x="-107640" y="2008080"/>
                  <a:ext cx="18720" cy="8280"/>
                </a:xfrm>
                <a:custGeom>
                  <a:avLst/>
                  <a:gdLst>
                    <a:gd name="textAreaLeft" fmla="*/ -360 w 18720"/>
                    <a:gd name="textAreaRight" fmla="*/ 18720 w 18720"/>
                    <a:gd name="textAreaTop" fmla="*/ 0 h 8280"/>
                    <a:gd name="textAreaBottom" fmla="*/ 8640 h 8280"/>
                  </a:gdLst>
                  <a:ahLst/>
                  <a:rect l="textAreaLeft" t="textAreaTop" r="textAreaRight" b="textAreaBottom"/>
                  <a:pathLst>
                    <a:path w="101" h="42">
                      <a:moveTo>
                        <a:pt x="59" y="0"/>
                      </a:moveTo>
                      <a:lnTo>
                        <a:pt x="34" y="17"/>
                      </a:lnTo>
                      <a:lnTo>
                        <a:pt x="17" y="26"/>
                      </a:lnTo>
                      <a:lnTo>
                        <a:pt x="0" y="42"/>
                      </a:lnTo>
                      <a:lnTo>
                        <a:pt x="34" y="42"/>
                      </a:lnTo>
                      <a:lnTo>
                        <a:pt x="101" y="9"/>
                      </a:lnTo>
                      <a:lnTo>
                        <a:pt x="59" y="0"/>
                      </a:lnTo>
                      <a:close/>
                    </a:path>
                  </a:pathLst>
                </a:custGeom>
                <a:solidFill>
                  <a:srgbClr val="ffffff"/>
                </a:solidFill>
                <a:ln w="5040">
                  <a:solidFill>
                    <a:srgbClr val="000000"/>
                  </a:solidFill>
                  <a:round/>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Freeform 147"/>
                <p:cNvSpPr/>
                <p:nvPr/>
              </p:nvSpPr>
              <p:spPr>
                <a:xfrm flipH="1">
                  <a:off x="-24480" y="1974240"/>
                  <a:ext cx="185760" cy="28800"/>
                </a:xfrm>
                <a:custGeom>
                  <a:avLst/>
                  <a:gdLst>
                    <a:gd name="textAreaLeft" fmla="*/ 360 w 185760"/>
                    <a:gd name="textAreaRight" fmla="*/ 186480 w 185760"/>
                    <a:gd name="textAreaTop" fmla="*/ 0 h 28800"/>
                    <a:gd name="textAreaBottom" fmla="*/ 29160 h 28800"/>
                  </a:gdLst>
                  <a:ahLst/>
                  <a:rect l="textAreaLeft" t="textAreaTop" r="textAreaRight" b="textAreaBottom"/>
                  <a:pathLst>
                    <a:path w="1004" h="143">
                      <a:moveTo>
                        <a:pt x="0" y="17"/>
                      </a:moveTo>
                      <a:lnTo>
                        <a:pt x="987" y="143"/>
                      </a:lnTo>
                      <a:lnTo>
                        <a:pt x="1004" y="135"/>
                      </a:lnTo>
                      <a:lnTo>
                        <a:pt x="987" y="135"/>
                      </a:lnTo>
                      <a:lnTo>
                        <a:pt x="9" y="0"/>
                      </a:lnTo>
                      <a:lnTo>
                        <a:pt x="0" y="17"/>
                      </a:lnTo>
                      <a:close/>
                    </a:path>
                  </a:pathLst>
                </a:custGeom>
                <a:solidFill>
                  <a:srgbClr val="000000"/>
                </a:solidFill>
                <a:ln w="5040">
                  <a:solidFill>
                    <a:srgbClr val="000000"/>
                  </a:solidFill>
                  <a:round/>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Freeform 146"/>
                <p:cNvSpPr/>
                <p:nvPr/>
              </p:nvSpPr>
              <p:spPr>
                <a:xfrm flipH="1">
                  <a:off x="-11160" y="1982520"/>
                  <a:ext cx="199800" cy="32400"/>
                </a:xfrm>
                <a:custGeom>
                  <a:avLst/>
                  <a:gdLst>
                    <a:gd name="textAreaLeft" fmla="*/ -360 w 199800"/>
                    <a:gd name="textAreaRight" fmla="*/ 199800 w 199800"/>
                    <a:gd name="textAreaTop" fmla="*/ 0 h 32400"/>
                    <a:gd name="textAreaBottom" fmla="*/ 32760 h 32400"/>
                  </a:gdLst>
                  <a:ahLst/>
                  <a:rect l="textAreaLeft" t="textAreaTop" r="textAreaRight" b="textAreaBottom"/>
                  <a:pathLst>
                    <a:path w="1079" h="160">
                      <a:moveTo>
                        <a:pt x="33" y="0"/>
                      </a:moveTo>
                      <a:lnTo>
                        <a:pt x="0" y="9"/>
                      </a:lnTo>
                      <a:lnTo>
                        <a:pt x="624" y="93"/>
                      </a:lnTo>
                      <a:lnTo>
                        <a:pt x="1054" y="160"/>
                      </a:lnTo>
                      <a:lnTo>
                        <a:pt x="1079" y="152"/>
                      </a:lnTo>
                      <a:lnTo>
                        <a:pt x="50" y="0"/>
                      </a:lnTo>
                      <a:lnTo>
                        <a:pt x="33" y="0"/>
                      </a:lnTo>
                      <a:close/>
                    </a:path>
                  </a:pathLst>
                </a:custGeom>
                <a:solidFill>
                  <a:srgbClr val="ffffff"/>
                </a:solidFill>
                <a:ln w="5040">
                  <a:solidFill>
                    <a:srgbClr val="000000"/>
                  </a:solidFill>
                  <a:round/>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Freeform 145"/>
                <p:cNvSpPr/>
                <p:nvPr/>
              </p:nvSpPr>
              <p:spPr>
                <a:xfrm flipH="1">
                  <a:off x="-23040" y="1981080"/>
                  <a:ext cx="203040" cy="30600"/>
                </a:xfrm>
                <a:custGeom>
                  <a:avLst/>
                  <a:gdLst>
                    <a:gd name="textAreaLeft" fmla="*/ 360 w 203040"/>
                    <a:gd name="textAreaRight" fmla="*/ 203760 w 203040"/>
                    <a:gd name="textAreaTop" fmla="*/ 0 h 30600"/>
                    <a:gd name="textAreaBottom" fmla="*/ 30960 h 30600"/>
                  </a:gdLst>
                  <a:ahLst/>
                  <a:rect l="textAreaLeft" t="textAreaTop" r="textAreaRight" b="textAreaBottom"/>
                  <a:pathLst>
                    <a:path w="1097" h="151">
                      <a:moveTo>
                        <a:pt x="0" y="0"/>
                      </a:moveTo>
                      <a:lnTo>
                        <a:pt x="17" y="8"/>
                      </a:lnTo>
                      <a:lnTo>
                        <a:pt x="1071" y="151"/>
                      </a:lnTo>
                      <a:lnTo>
                        <a:pt x="1097" y="134"/>
                      </a:lnTo>
                      <a:lnTo>
                        <a:pt x="51" y="0"/>
                      </a:lnTo>
                      <a:lnTo>
                        <a:pt x="0" y="0"/>
                      </a:lnTo>
                      <a:close/>
                    </a:path>
                  </a:pathLst>
                </a:custGeom>
                <a:solidFill>
                  <a:srgbClr val="ffffff"/>
                </a:solidFill>
                <a:ln w="5040">
                  <a:solidFill>
                    <a:srgbClr val="000000"/>
                  </a:solidFill>
                  <a:round/>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Freeform 144"/>
                <p:cNvSpPr/>
                <p:nvPr/>
              </p:nvSpPr>
              <p:spPr>
                <a:xfrm flipH="1">
                  <a:off x="-21960" y="1977480"/>
                  <a:ext cx="191880" cy="28800"/>
                </a:xfrm>
                <a:custGeom>
                  <a:avLst/>
                  <a:gdLst>
                    <a:gd name="textAreaLeft" fmla="*/ -360 w 191880"/>
                    <a:gd name="textAreaRight" fmla="*/ 191880 w 191880"/>
                    <a:gd name="textAreaTop" fmla="*/ 0 h 28800"/>
                    <a:gd name="textAreaBottom" fmla="*/ 29160 h 28800"/>
                  </a:gdLst>
                  <a:ahLst/>
                  <a:rect l="textAreaLeft" t="textAreaTop" r="textAreaRight" b="textAreaBottom"/>
                  <a:pathLst>
                    <a:path w="1037" h="143">
                      <a:moveTo>
                        <a:pt x="50" y="0"/>
                      </a:moveTo>
                      <a:lnTo>
                        <a:pt x="0" y="8"/>
                      </a:lnTo>
                      <a:lnTo>
                        <a:pt x="1012" y="143"/>
                      </a:lnTo>
                      <a:lnTo>
                        <a:pt x="1037" y="126"/>
                      </a:lnTo>
                      <a:lnTo>
                        <a:pt x="50" y="0"/>
                      </a:lnTo>
                      <a:close/>
                    </a:path>
                  </a:pathLst>
                </a:custGeom>
                <a:solidFill>
                  <a:srgbClr val="ffffff"/>
                </a:solidFill>
                <a:ln w="5040">
                  <a:solidFill>
                    <a:srgbClr val="000000"/>
                  </a:solidFill>
                  <a:round/>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Freeform 143"/>
                <p:cNvSpPr/>
                <p:nvPr/>
              </p:nvSpPr>
              <p:spPr>
                <a:xfrm flipH="1">
                  <a:off x="-38880" y="1998000"/>
                  <a:ext cx="21600" cy="8280"/>
                </a:xfrm>
                <a:custGeom>
                  <a:avLst/>
                  <a:gdLst>
                    <a:gd name="textAreaLeft" fmla="*/ 0 w 21600"/>
                    <a:gd name="textAreaRight" fmla="*/ 21600 w 21600"/>
                    <a:gd name="textAreaTop" fmla="*/ 0 h 8280"/>
                    <a:gd name="textAreaBottom" fmla="*/ 8640 h 8280"/>
                  </a:gdLst>
                  <a:ahLst/>
                  <a:rect l="textAreaLeft" t="textAreaTop" r="textAreaRight" b="textAreaBottom"/>
                  <a:pathLst>
                    <a:path w="118" h="42">
                      <a:moveTo>
                        <a:pt x="25" y="17"/>
                      </a:moveTo>
                      <a:lnTo>
                        <a:pt x="42" y="17"/>
                      </a:lnTo>
                      <a:lnTo>
                        <a:pt x="25" y="25"/>
                      </a:lnTo>
                      <a:lnTo>
                        <a:pt x="0" y="42"/>
                      </a:lnTo>
                      <a:lnTo>
                        <a:pt x="51" y="42"/>
                      </a:lnTo>
                      <a:lnTo>
                        <a:pt x="118" y="8"/>
                      </a:lnTo>
                      <a:lnTo>
                        <a:pt x="51" y="0"/>
                      </a:lnTo>
                      <a:lnTo>
                        <a:pt x="25" y="17"/>
                      </a:lnTo>
                      <a:close/>
                    </a:path>
                  </a:pathLst>
                </a:custGeom>
                <a:solidFill>
                  <a:srgbClr val="ffffff"/>
                </a:solidFill>
                <a:ln w="5040">
                  <a:solidFill>
                    <a:srgbClr val="000000"/>
                  </a:solidFill>
                  <a:round/>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Freeform 142"/>
                <p:cNvSpPr/>
                <p:nvPr/>
              </p:nvSpPr>
              <p:spPr>
                <a:xfrm flipH="1">
                  <a:off x="-26280" y="1972440"/>
                  <a:ext cx="185760" cy="28800"/>
                </a:xfrm>
                <a:custGeom>
                  <a:avLst/>
                  <a:gdLst>
                    <a:gd name="textAreaLeft" fmla="*/ 360 w 185760"/>
                    <a:gd name="textAreaRight" fmla="*/ 186480 w 185760"/>
                    <a:gd name="textAreaTop" fmla="*/ 0 h 28800"/>
                    <a:gd name="textAreaBottom" fmla="*/ 29160 h 28800"/>
                  </a:gdLst>
                  <a:ahLst/>
                  <a:rect l="textAreaLeft" t="textAreaTop" r="textAreaRight" b="textAreaBottom"/>
                  <a:pathLst>
                    <a:path w="1004" h="143">
                      <a:moveTo>
                        <a:pt x="42" y="0"/>
                      </a:moveTo>
                      <a:lnTo>
                        <a:pt x="0" y="8"/>
                      </a:lnTo>
                      <a:lnTo>
                        <a:pt x="978" y="143"/>
                      </a:lnTo>
                      <a:lnTo>
                        <a:pt x="1004" y="126"/>
                      </a:lnTo>
                      <a:lnTo>
                        <a:pt x="42" y="0"/>
                      </a:lnTo>
                      <a:close/>
                    </a:path>
                  </a:pathLst>
                </a:custGeom>
                <a:solidFill>
                  <a:srgbClr val="ffffff"/>
                </a:solidFill>
                <a:ln w="5040">
                  <a:solidFill>
                    <a:srgbClr val="000000"/>
                  </a:solidFill>
                  <a:round/>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Freeform 141"/>
                <p:cNvSpPr/>
                <p:nvPr/>
              </p:nvSpPr>
              <p:spPr>
                <a:xfrm flipH="1">
                  <a:off x="-37800" y="1965600"/>
                  <a:ext cx="187560" cy="28800"/>
                </a:xfrm>
                <a:custGeom>
                  <a:avLst/>
                  <a:gdLst>
                    <a:gd name="textAreaLeft" fmla="*/ -360 w 187560"/>
                    <a:gd name="textAreaRight" fmla="*/ 187560 w 187560"/>
                    <a:gd name="textAreaTop" fmla="*/ 0 h 28800"/>
                    <a:gd name="textAreaBottom" fmla="*/ 29160 h 28800"/>
                  </a:gdLst>
                  <a:ahLst/>
                  <a:rect l="textAreaLeft" t="textAreaTop" r="textAreaRight" b="textAreaBottom"/>
                  <a:pathLst>
                    <a:path w="1013" h="143">
                      <a:moveTo>
                        <a:pt x="0" y="17"/>
                      </a:moveTo>
                      <a:lnTo>
                        <a:pt x="987" y="143"/>
                      </a:lnTo>
                      <a:lnTo>
                        <a:pt x="1013" y="126"/>
                      </a:lnTo>
                      <a:lnTo>
                        <a:pt x="51" y="0"/>
                      </a:lnTo>
                      <a:lnTo>
                        <a:pt x="0" y="17"/>
                      </a:lnTo>
                      <a:close/>
                    </a:path>
                  </a:pathLst>
                </a:custGeom>
                <a:solidFill>
                  <a:srgbClr val="ffffff"/>
                </a:solidFill>
                <a:ln w="5040">
                  <a:solidFill>
                    <a:srgbClr val="000000"/>
                  </a:solidFill>
                  <a:round/>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Freeform 140"/>
                <p:cNvSpPr/>
                <p:nvPr/>
              </p:nvSpPr>
              <p:spPr>
                <a:xfrm flipH="1">
                  <a:off x="-50040" y="1991160"/>
                  <a:ext cx="16920" cy="5040"/>
                </a:xfrm>
                <a:custGeom>
                  <a:avLst/>
                  <a:gdLst>
                    <a:gd name="textAreaLeft" fmla="*/ 360 w 16920"/>
                    <a:gd name="textAreaRight" fmla="*/ 17640 w 16920"/>
                    <a:gd name="textAreaTop" fmla="*/ 0 h 5040"/>
                    <a:gd name="textAreaBottom" fmla="*/ 5400 h 5040"/>
                  </a:gdLst>
                  <a:ahLst/>
                  <a:rect l="textAreaLeft" t="textAreaTop" r="textAreaRight" b="textAreaBottom"/>
                  <a:pathLst>
                    <a:path w="93" h="25">
                      <a:moveTo>
                        <a:pt x="26" y="0"/>
                      </a:moveTo>
                      <a:lnTo>
                        <a:pt x="0" y="17"/>
                      </a:lnTo>
                      <a:lnTo>
                        <a:pt x="59" y="25"/>
                      </a:lnTo>
                      <a:lnTo>
                        <a:pt x="93" y="9"/>
                      </a:lnTo>
                      <a:lnTo>
                        <a:pt x="26" y="0"/>
                      </a:lnTo>
                      <a:close/>
                    </a:path>
                  </a:pathLst>
                </a:custGeom>
                <a:solidFill>
                  <a:srgbClr val="ffffff"/>
                </a:solidFill>
                <a:ln w="5040">
                  <a:solidFill>
                    <a:srgbClr val="000000"/>
                  </a:solidFill>
                  <a:round/>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Freeform 139"/>
                <p:cNvSpPr/>
                <p:nvPr/>
              </p:nvSpPr>
              <p:spPr>
                <a:xfrm flipH="1">
                  <a:off x="-48600" y="1958760"/>
                  <a:ext cx="189000" cy="28800"/>
                </a:xfrm>
                <a:custGeom>
                  <a:avLst/>
                  <a:gdLst>
                    <a:gd name="textAreaLeft" fmla="*/ -360 w 189000"/>
                    <a:gd name="textAreaRight" fmla="*/ 189000 w 189000"/>
                    <a:gd name="textAreaTop" fmla="*/ 0 h 28800"/>
                    <a:gd name="textAreaBottom" fmla="*/ 29160 h 28800"/>
                  </a:gdLst>
                  <a:ahLst/>
                  <a:rect l="textAreaLeft" t="textAreaTop" r="textAreaRight" b="textAreaBottom"/>
                  <a:pathLst>
                    <a:path w="1021" h="143">
                      <a:moveTo>
                        <a:pt x="1021" y="118"/>
                      </a:moveTo>
                      <a:lnTo>
                        <a:pt x="42" y="0"/>
                      </a:lnTo>
                      <a:lnTo>
                        <a:pt x="0" y="17"/>
                      </a:lnTo>
                      <a:lnTo>
                        <a:pt x="987" y="143"/>
                      </a:lnTo>
                      <a:lnTo>
                        <a:pt x="1021" y="118"/>
                      </a:lnTo>
                      <a:close/>
                    </a:path>
                  </a:pathLst>
                </a:custGeom>
                <a:solidFill>
                  <a:srgbClr val="ffffff"/>
                </a:solidFill>
                <a:ln w="5040">
                  <a:solidFill>
                    <a:srgbClr val="000000"/>
                  </a:solidFill>
                  <a:round/>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7" name="Freeform 138"/>
                <p:cNvSpPr/>
                <p:nvPr/>
              </p:nvSpPr>
              <p:spPr>
                <a:xfrm flipH="1">
                  <a:off x="142560" y="1956960"/>
                  <a:ext cx="84240" cy="30600"/>
                </a:xfrm>
                <a:custGeom>
                  <a:avLst/>
                  <a:gdLst>
                    <a:gd name="textAreaLeft" fmla="*/ 360 w 84240"/>
                    <a:gd name="textAreaRight" fmla="*/ 84960 w 84240"/>
                    <a:gd name="textAreaTop" fmla="*/ 0 h 30600"/>
                    <a:gd name="textAreaBottom" fmla="*/ 30960 h 30600"/>
                  </a:gdLst>
                  <a:ahLst/>
                  <a:rect l="textAreaLeft" t="textAreaTop" r="textAreaRight" b="textAreaBottom"/>
                  <a:pathLst>
                    <a:path w="456" h="151">
                      <a:moveTo>
                        <a:pt x="253" y="118"/>
                      </a:moveTo>
                      <a:lnTo>
                        <a:pt x="278" y="109"/>
                      </a:lnTo>
                      <a:lnTo>
                        <a:pt x="304" y="109"/>
                      </a:lnTo>
                      <a:lnTo>
                        <a:pt x="321" y="92"/>
                      </a:lnTo>
                      <a:lnTo>
                        <a:pt x="363" y="76"/>
                      </a:lnTo>
                      <a:lnTo>
                        <a:pt x="397" y="50"/>
                      </a:lnTo>
                      <a:lnTo>
                        <a:pt x="439" y="34"/>
                      </a:lnTo>
                      <a:lnTo>
                        <a:pt x="456" y="17"/>
                      </a:lnTo>
                      <a:lnTo>
                        <a:pt x="447" y="0"/>
                      </a:lnTo>
                      <a:lnTo>
                        <a:pt x="397" y="17"/>
                      </a:lnTo>
                      <a:lnTo>
                        <a:pt x="295" y="8"/>
                      </a:lnTo>
                      <a:lnTo>
                        <a:pt x="295" y="17"/>
                      </a:lnTo>
                      <a:lnTo>
                        <a:pt x="380" y="34"/>
                      </a:lnTo>
                      <a:lnTo>
                        <a:pt x="346" y="50"/>
                      </a:lnTo>
                      <a:lnTo>
                        <a:pt x="253" y="42"/>
                      </a:lnTo>
                      <a:lnTo>
                        <a:pt x="253" y="50"/>
                      </a:lnTo>
                      <a:lnTo>
                        <a:pt x="329" y="67"/>
                      </a:lnTo>
                      <a:lnTo>
                        <a:pt x="295" y="76"/>
                      </a:lnTo>
                      <a:lnTo>
                        <a:pt x="203" y="67"/>
                      </a:lnTo>
                      <a:lnTo>
                        <a:pt x="203" y="76"/>
                      </a:lnTo>
                      <a:lnTo>
                        <a:pt x="270" y="84"/>
                      </a:lnTo>
                      <a:lnTo>
                        <a:pt x="236" y="101"/>
                      </a:lnTo>
                      <a:lnTo>
                        <a:pt x="160" y="84"/>
                      </a:lnTo>
                      <a:lnTo>
                        <a:pt x="152" y="92"/>
                      </a:lnTo>
                      <a:lnTo>
                        <a:pt x="228" y="109"/>
                      </a:lnTo>
                      <a:lnTo>
                        <a:pt x="203" y="109"/>
                      </a:lnTo>
                      <a:lnTo>
                        <a:pt x="110" y="101"/>
                      </a:lnTo>
                      <a:lnTo>
                        <a:pt x="76" y="109"/>
                      </a:lnTo>
                      <a:lnTo>
                        <a:pt x="25" y="109"/>
                      </a:lnTo>
                      <a:lnTo>
                        <a:pt x="0" y="135"/>
                      </a:lnTo>
                      <a:lnTo>
                        <a:pt x="135" y="151"/>
                      </a:lnTo>
                      <a:lnTo>
                        <a:pt x="186" y="143"/>
                      </a:lnTo>
                      <a:lnTo>
                        <a:pt x="203" y="135"/>
                      </a:lnTo>
                      <a:lnTo>
                        <a:pt x="236" y="126"/>
                      </a:lnTo>
                      <a:lnTo>
                        <a:pt x="253" y="118"/>
                      </a:lnTo>
                      <a:close/>
                    </a:path>
                  </a:pathLst>
                </a:custGeom>
                <a:solidFill>
                  <a:srgbClr val="000000"/>
                </a:solidFill>
                <a:ln w="5040">
                  <a:solidFill>
                    <a:srgbClr val="000000"/>
                  </a:solidFill>
                  <a:round/>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8" name="Freeform 137"/>
                <p:cNvSpPr/>
                <p:nvPr/>
              </p:nvSpPr>
              <p:spPr>
                <a:xfrm flipH="1">
                  <a:off x="144000" y="1953720"/>
                  <a:ext cx="28080" cy="6840"/>
                </a:xfrm>
                <a:custGeom>
                  <a:avLst/>
                  <a:gdLst>
                    <a:gd name="textAreaLeft" fmla="*/ 360 w 28080"/>
                    <a:gd name="textAreaRight" fmla="*/ 28800 w 28080"/>
                    <a:gd name="textAreaTop" fmla="*/ 0 h 6840"/>
                    <a:gd name="textAreaBottom" fmla="*/ 7200 h 6840"/>
                  </a:gdLst>
                  <a:ahLst/>
                  <a:rect l="textAreaLeft" t="textAreaTop" r="textAreaRight" b="textAreaBottom"/>
                  <a:pathLst>
                    <a:path w="152" h="34">
                      <a:moveTo>
                        <a:pt x="0" y="25"/>
                      </a:moveTo>
                      <a:lnTo>
                        <a:pt x="102" y="34"/>
                      </a:lnTo>
                      <a:lnTo>
                        <a:pt x="152" y="17"/>
                      </a:lnTo>
                      <a:lnTo>
                        <a:pt x="51" y="0"/>
                      </a:lnTo>
                      <a:lnTo>
                        <a:pt x="0" y="25"/>
                      </a:lnTo>
                      <a:close/>
                    </a:path>
                  </a:pathLst>
                </a:custGeom>
                <a:solidFill>
                  <a:srgbClr val="ffffff"/>
                </a:solidFill>
                <a:ln w="5040">
                  <a:solidFill>
                    <a:srgbClr val="000000"/>
                  </a:solidFill>
                  <a:round/>
                </a:ln>
              </p:spPr>
              <p:style>
                <a:lnRef idx="0"/>
                <a:fillRef idx="0"/>
                <a:effectRef idx="0"/>
                <a:fontRef idx="minor"/>
              </p:style>
              <p:txBody>
                <a:bodyPr lIns="90000" rIns="90000" tIns="-39600" bIns="-39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9" name="Freeform 136"/>
                <p:cNvSpPr/>
                <p:nvPr/>
              </p:nvSpPr>
              <p:spPr>
                <a:xfrm flipH="1">
                  <a:off x="156240" y="1960560"/>
                  <a:ext cx="23400" cy="6480"/>
                </a:xfrm>
                <a:custGeom>
                  <a:avLst/>
                  <a:gdLst>
                    <a:gd name="textAreaLeft" fmla="*/ -360 w 23400"/>
                    <a:gd name="textAreaRight" fmla="*/ 23400 w 23400"/>
                    <a:gd name="textAreaTop" fmla="*/ 0 h 6480"/>
                    <a:gd name="textAreaBottom" fmla="*/ 6840 h 6480"/>
                  </a:gdLst>
                  <a:ahLst/>
                  <a:rect l="textAreaLeft" t="textAreaTop" r="textAreaRight" b="textAreaBottom"/>
                  <a:pathLst>
                    <a:path w="127" h="33">
                      <a:moveTo>
                        <a:pt x="42" y="0"/>
                      </a:moveTo>
                      <a:lnTo>
                        <a:pt x="42" y="0"/>
                      </a:lnTo>
                      <a:lnTo>
                        <a:pt x="0" y="25"/>
                      </a:lnTo>
                      <a:lnTo>
                        <a:pt x="93" y="33"/>
                      </a:lnTo>
                      <a:lnTo>
                        <a:pt x="127" y="17"/>
                      </a:lnTo>
                      <a:lnTo>
                        <a:pt x="42" y="0"/>
                      </a:lnTo>
                      <a:close/>
                    </a:path>
                  </a:pathLst>
                </a:custGeom>
                <a:solidFill>
                  <a:srgbClr val="ffffff"/>
                </a:solidFill>
                <a:ln w="5040">
                  <a:solidFill>
                    <a:srgbClr val="000000"/>
                  </a:solidFill>
                  <a:round/>
                </a:ln>
              </p:spPr>
              <p:style>
                <a:lnRef idx="0"/>
                <a:fillRef idx="0"/>
                <a:effectRef idx="0"/>
                <a:fontRef idx="minor"/>
              </p:style>
              <p:txBody>
                <a:bodyPr lIns="90000" rIns="90000" tIns="-39960" bIns="-39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0" name="Freeform 135"/>
                <p:cNvSpPr/>
                <p:nvPr/>
              </p:nvSpPr>
              <p:spPr>
                <a:xfrm flipH="1">
                  <a:off x="165960" y="1967040"/>
                  <a:ext cx="23040" cy="5040"/>
                </a:xfrm>
                <a:custGeom>
                  <a:avLst/>
                  <a:gdLst>
                    <a:gd name="textAreaLeft" fmla="*/ 360 w 23040"/>
                    <a:gd name="textAreaRight" fmla="*/ 23760 w 23040"/>
                    <a:gd name="textAreaTop" fmla="*/ 0 h 5040"/>
                    <a:gd name="textAreaBottom" fmla="*/ 5040 h 5040"/>
                  </a:gdLst>
                  <a:ahLst/>
                  <a:rect l="textAreaLeft" t="textAreaTop" r="textAreaRight" b="textAreaBottom"/>
                  <a:pathLst>
                    <a:path w="126" h="26">
                      <a:moveTo>
                        <a:pt x="0" y="17"/>
                      </a:moveTo>
                      <a:lnTo>
                        <a:pt x="92" y="26"/>
                      </a:lnTo>
                      <a:lnTo>
                        <a:pt x="126" y="17"/>
                      </a:lnTo>
                      <a:lnTo>
                        <a:pt x="50" y="0"/>
                      </a:lnTo>
                      <a:lnTo>
                        <a:pt x="33" y="0"/>
                      </a:lnTo>
                      <a:lnTo>
                        <a:pt x="0" y="17"/>
                      </a:lnTo>
                      <a:close/>
                    </a:path>
                  </a:pathLst>
                </a:custGeom>
                <a:solidFill>
                  <a:srgbClr val="ffffff"/>
                </a:solidFill>
                <a:ln w="5040">
                  <a:solidFill>
                    <a:srgbClr val="000000"/>
                  </a:solidFill>
                  <a:round/>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1" name="Freeform 134"/>
                <p:cNvSpPr/>
                <p:nvPr/>
              </p:nvSpPr>
              <p:spPr>
                <a:xfrm flipH="1">
                  <a:off x="176760" y="1972440"/>
                  <a:ext cx="20160" cy="5040"/>
                </a:xfrm>
                <a:custGeom>
                  <a:avLst/>
                  <a:gdLst>
                    <a:gd name="textAreaLeft" fmla="*/ 360 w 20160"/>
                    <a:gd name="textAreaRight" fmla="*/ 20880 w 20160"/>
                    <a:gd name="textAreaTop" fmla="*/ 0 h 5040"/>
                    <a:gd name="textAreaBottom" fmla="*/ 5400 h 5040"/>
                  </a:gdLst>
                  <a:ahLst/>
                  <a:rect l="textAreaLeft" t="textAreaTop" r="textAreaRight" b="textAreaBottom"/>
                  <a:pathLst>
                    <a:path w="110" h="25">
                      <a:moveTo>
                        <a:pt x="0" y="8"/>
                      </a:moveTo>
                      <a:lnTo>
                        <a:pt x="76" y="25"/>
                      </a:lnTo>
                      <a:lnTo>
                        <a:pt x="110" y="8"/>
                      </a:lnTo>
                      <a:lnTo>
                        <a:pt x="43" y="0"/>
                      </a:lnTo>
                      <a:lnTo>
                        <a:pt x="26" y="0"/>
                      </a:lnTo>
                      <a:lnTo>
                        <a:pt x="0" y="8"/>
                      </a:lnTo>
                      <a:close/>
                    </a:path>
                  </a:pathLst>
                </a:custGeom>
                <a:solidFill>
                  <a:srgbClr val="ffffff"/>
                </a:solidFill>
                <a:ln w="5040">
                  <a:solidFill>
                    <a:srgbClr val="000000"/>
                  </a:solidFill>
                  <a:round/>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2" name="Freeform 133"/>
                <p:cNvSpPr/>
                <p:nvPr/>
              </p:nvSpPr>
              <p:spPr>
                <a:xfrm flipH="1">
                  <a:off x="184680" y="1975680"/>
                  <a:ext cx="21600" cy="3240"/>
                </a:xfrm>
                <a:custGeom>
                  <a:avLst/>
                  <a:gdLst>
                    <a:gd name="textAreaLeft" fmla="*/ 0 w 21600"/>
                    <a:gd name="textAreaRight" fmla="*/ 21600 w 21600"/>
                    <a:gd name="textAreaTop" fmla="*/ 0 h 3240"/>
                    <a:gd name="textAreaBottom" fmla="*/ 3600 h 3240"/>
                  </a:gdLst>
                  <a:ahLst/>
                  <a:rect l="textAreaLeft" t="textAreaTop" r="textAreaRight" b="textAreaBottom"/>
                  <a:pathLst>
                    <a:path w="118" h="17">
                      <a:moveTo>
                        <a:pt x="42" y="0"/>
                      </a:moveTo>
                      <a:lnTo>
                        <a:pt x="17" y="0"/>
                      </a:lnTo>
                      <a:lnTo>
                        <a:pt x="0" y="9"/>
                      </a:lnTo>
                      <a:lnTo>
                        <a:pt x="93" y="17"/>
                      </a:lnTo>
                      <a:lnTo>
                        <a:pt x="118" y="17"/>
                      </a:lnTo>
                      <a:lnTo>
                        <a:pt x="42" y="0"/>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3" name="Freeform 132"/>
                <p:cNvSpPr/>
                <p:nvPr/>
              </p:nvSpPr>
              <p:spPr>
                <a:xfrm flipH="1">
                  <a:off x="170640" y="1979280"/>
                  <a:ext cx="9360" cy="1800"/>
                </a:xfrm>
                <a:custGeom>
                  <a:avLst/>
                  <a:gdLst>
                    <a:gd name="textAreaLeft" fmla="*/ 360 w 9360"/>
                    <a:gd name="textAreaRight" fmla="*/ 10080 w 9360"/>
                    <a:gd name="textAreaTop" fmla="*/ 0 h 1800"/>
                    <a:gd name="textAreaBottom" fmla="*/ 2160 h 1800"/>
                  </a:gdLst>
                  <a:ahLst/>
                  <a:rect l="textAreaLeft" t="textAreaTop" r="textAreaRight" b="textAreaBottom"/>
                  <a:pathLst>
                    <a:path w="51" h="9">
                      <a:moveTo>
                        <a:pt x="0" y="9"/>
                      </a:moveTo>
                      <a:lnTo>
                        <a:pt x="51" y="9"/>
                      </a:lnTo>
                      <a:lnTo>
                        <a:pt x="51" y="0"/>
                      </a:lnTo>
                      <a:lnTo>
                        <a:pt x="25" y="0"/>
                      </a:lnTo>
                      <a:lnTo>
                        <a:pt x="0" y="9"/>
                      </a:lnTo>
                      <a:close/>
                    </a:path>
                  </a:pathLst>
                </a:custGeom>
                <a:solidFill>
                  <a:srgbClr val="ffffff"/>
                </a:solidFill>
                <a:ln w="504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Freeform 131"/>
                <p:cNvSpPr/>
                <p:nvPr/>
              </p:nvSpPr>
              <p:spPr>
                <a:xfrm flipH="1">
                  <a:off x="180000" y="198108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7" h="8">
                      <a:moveTo>
                        <a:pt x="17" y="0"/>
                      </a:moveTo>
                      <a:lnTo>
                        <a:pt x="0" y="8"/>
                      </a:lnTo>
                      <a:lnTo>
                        <a:pt x="17" y="8"/>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Freeform 130"/>
                <p:cNvSpPr/>
                <p:nvPr/>
              </p:nvSpPr>
              <p:spPr>
                <a:xfrm flipH="1">
                  <a:off x="-153360" y="2009880"/>
                  <a:ext cx="34200" cy="25560"/>
                </a:xfrm>
                <a:custGeom>
                  <a:avLst/>
                  <a:gdLst>
                    <a:gd name="textAreaLeft" fmla="*/ 360 w 34200"/>
                    <a:gd name="textAreaRight" fmla="*/ 34920 w 34200"/>
                    <a:gd name="textAreaTop" fmla="*/ 0 h 25560"/>
                    <a:gd name="textAreaBottom" fmla="*/ 25920 h 25560"/>
                  </a:gdLst>
                  <a:ahLst/>
                  <a:rect l="textAreaLeft" t="textAreaTop" r="textAreaRight" b="textAreaBottom"/>
                  <a:pathLst>
                    <a:path w="186" h="126">
                      <a:moveTo>
                        <a:pt x="177" y="67"/>
                      </a:moveTo>
                      <a:lnTo>
                        <a:pt x="186" y="0"/>
                      </a:lnTo>
                      <a:lnTo>
                        <a:pt x="152" y="8"/>
                      </a:lnTo>
                      <a:lnTo>
                        <a:pt x="135" y="25"/>
                      </a:lnTo>
                      <a:lnTo>
                        <a:pt x="110" y="33"/>
                      </a:lnTo>
                      <a:lnTo>
                        <a:pt x="85" y="59"/>
                      </a:lnTo>
                      <a:lnTo>
                        <a:pt x="59" y="75"/>
                      </a:lnTo>
                      <a:lnTo>
                        <a:pt x="34" y="92"/>
                      </a:lnTo>
                      <a:lnTo>
                        <a:pt x="9" y="118"/>
                      </a:lnTo>
                      <a:lnTo>
                        <a:pt x="0" y="126"/>
                      </a:lnTo>
                      <a:lnTo>
                        <a:pt x="43" y="109"/>
                      </a:lnTo>
                      <a:lnTo>
                        <a:pt x="177" y="67"/>
                      </a:lnTo>
                      <a:close/>
                    </a:path>
                  </a:pathLst>
                </a:custGeom>
                <a:solidFill>
                  <a:srgbClr val="0080ff"/>
                </a:solidFill>
                <a:ln w="504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Freeform 129"/>
                <p:cNvSpPr/>
                <p:nvPr/>
              </p:nvSpPr>
              <p:spPr>
                <a:xfrm flipH="1">
                  <a:off x="-226080" y="2006640"/>
                  <a:ext cx="73080" cy="28800"/>
                </a:xfrm>
                <a:custGeom>
                  <a:avLst/>
                  <a:gdLst>
                    <a:gd name="textAreaLeft" fmla="*/ 360 w 73080"/>
                    <a:gd name="textAreaRight" fmla="*/ 73800 w 73080"/>
                    <a:gd name="textAreaTop" fmla="*/ 0 h 28800"/>
                    <a:gd name="textAreaBottom" fmla="*/ 29160 h 28800"/>
                  </a:gdLst>
                  <a:ahLst/>
                  <a:rect l="textAreaLeft" t="textAreaTop" r="textAreaRight" b="textAreaBottom"/>
                  <a:pathLst>
                    <a:path w="396" h="143">
                      <a:moveTo>
                        <a:pt x="0" y="17"/>
                      </a:moveTo>
                      <a:lnTo>
                        <a:pt x="25" y="17"/>
                      </a:lnTo>
                      <a:lnTo>
                        <a:pt x="67" y="17"/>
                      </a:lnTo>
                      <a:lnTo>
                        <a:pt x="110" y="25"/>
                      </a:lnTo>
                      <a:lnTo>
                        <a:pt x="177" y="34"/>
                      </a:lnTo>
                      <a:lnTo>
                        <a:pt x="261" y="50"/>
                      </a:lnTo>
                      <a:lnTo>
                        <a:pt x="312" y="67"/>
                      </a:lnTo>
                      <a:lnTo>
                        <a:pt x="337" y="84"/>
                      </a:lnTo>
                      <a:lnTo>
                        <a:pt x="354" y="92"/>
                      </a:lnTo>
                      <a:lnTo>
                        <a:pt x="363" y="101"/>
                      </a:lnTo>
                      <a:lnTo>
                        <a:pt x="371" y="109"/>
                      </a:lnTo>
                      <a:lnTo>
                        <a:pt x="371" y="118"/>
                      </a:lnTo>
                      <a:lnTo>
                        <a:pt x="371" y="126"/>
                      </a:lnTo>
                      <a:lnTo>
                        <a:pt x="363" y="126"/>
                      </a:lnTo>
                      <a:lnTo>
                        <a:pt x="354" y="135"/>
                      </a:lnTo>
                      <a:lnTo>
                        <a:pt x="346" y="135"/>
                      </a:lnTo>
                      <a:lnTo>
                        <a:pt x="379" y="135"/>
                      </a:lnTo>
                      <a:lnTo>
                        <a:pt x="379" y="143"/>
                      </a:lnTo>
                      <a:lnTo>
                        <a:pt x="388" y="143"/>
                      </a:lnTo>
                      <a:lnTo>
                        <a:pt x="388" y="135"/>
                      </a:lnTo>
                      <a:lnTo>
                        <a:pt x="396" y="126"/>
                      </a:lnTo>
                      <a:lnTo>
                        <a:pt x="396" y="118"/>
                      </a:lnTo>
                      <a:lnTo>
                        <a:pt x="396" y="109"/>
                      </a:lnTo>
                      <a:lnTo>
                        <a:pt x="396" y="101"/>
                      </a:lnTo>
                      <a:lnTo>
                        <a:pt x="388" y="92"/>
                      </a:lnTo>
                      <a:lnTo>
                        <a:pt x="379" y="84"/>
                      </a:lnTo>
                      <a:lnTo>
                        <a:pt x="354" y="67"/>
                      </a:lnTo>
                      <a:lnTo>
                        <a:pt x="337" y="59"/>
                      </a:lnTo>
                      <a:lnTo>
                        <a:pt x="312" y="50"/>
                      </a:lnTo>
                      <a:lnTo>
                        <a:pt x="270" y="34"/>
                      </a:lnTo>
                      <a:lnTo>
                        <a:pt x="211" y="25"/>
                      </a:lnTo>
                      <a:lnTo>
                        <a:pt x="135" y="8"/>
                      </a:lnTo>
                      <a:lnTo>
                        <a:pt x="42" y="0"/>
                      </a:lnTo>
                      <a:lnTo>
                        <a:pt x="17" y="8"/>
                      </a:lnTo>
                      <a:lnTo>
                        <a:pt x="0" y="17"/>
                      </a:lnTo>
                      <a:close/>
                    </a:path>
                  </a:pathLst>
                </a:custGeom>
                <a:solidFill>
                  <a:srgbClr val="ffffff"/>
                </a:solidFill>
                <a:ln w="5040">
                  <a:solidFill>
                    <a:srgbClr val="000000"/>
                  </a:solidFill>
                  <a:round/>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Freeform 128"/>
                <p:cNvSpPr/>
                <p:nvPr/>
              </p:nvSpPr>
              <p:spPr>
                <a:xfrm flipH="1">
                  <a:off x="-216720" y="2027160"/>
                  <a:ext cx="92160" cy="18360"/>
                </a:xfrm>
                <a:custGeom>
                  <a:avLst/>
                  <a:gdLst>
                    <a:gd name="textAreaLeft" fmla="*/ -360 w 92160"/>
                    <a:gd name="textAreaRight" fmla="*/ 92160 w 92160"/>
                    <a:gd name="textAreaTop" fmla="*/ 0 h 18360"/>
                    <a:gd name="textAreaBottom" fmla="*/ 18360 h 18360"/>
                  </a:gdLst>
                  <a:ahLst/>
                  <a:rect l="textAreaLeft" t="textAreaTop" r="textAreaRight" b="textAreaBottom"/>
                  <a:pathLst>
                    <a:path w="498" h="92">
                      <a:moveTo>
                        <a:pt x="0" y="59"/>
                      </a:moveTo>
                      <a:lnTo>
                        <a:pt x="262" y="92"/>
                      </a:lnTo>
                      <a:lnTo>
                        <a:pt x="278" y="92"/>
                      </a:lnTo>
                      <a:lnTo>
                        <a:pt x="371" y="50"/>
                      </a:lnTo>
                      <a:lnTo>
                        <a:pt x="498" y="34"/>
                      </a:lnTo>
                      <a:lnTo>
                        <a:pt x="262" y="0"/>
                      </a:lnTo>
                      <a:lnTo>
                        <a:pt x="135" y="8"/>
                      </a:lnTo>
                      <a:lnTo>
                        <a:pt x="0" y="59"/>
                      </a:lnTo>
                      <a:close/>
                    </a:path>
                  </a:pathLst>
                </a:custGeom>
                <a:solidFill>
                  <a:srgbClr val="ffffff"/>
                </a:solidFill>
                <a:ln w="5040">
                  <a:solidFill>
                    <a:srgbClr val="000000"/>
                  </a:solidFill>
                  <a:round/>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8" name="Freeform 127"/>
                <p:cNvSpPr/>
                <p:nvPr/>
              </p:nvSpPr>
              <p:spPr>
                <a:xfrm flipH="1">
                  <a:off x="-173520" y="2039040"/>
                  <a:ext cx="50040" cy="21960"/>
                </a:xfrm>
                <a:custGeom>
                  <a:avLst/>
                  <a:gdLst>
                    <a:gd name="textAreaLeft" fmla="*/ 360 w 50040"/>
                    <a:gd name="textAreaRight" fmla="*/ 50760 w 50040"/>
                    <a:gd name="textAreaTop" fmla="*/ 0 h 21960"/>
                    <a:gd name="textAreaBottom" fmla="*/ 22320 h 21960"/>
                  </a:gdLst>
                  <a:ahLst/>
                  <a:rect l="textAreaLeft" t="textAreaTop" r="textAreaRight" b="textAreaBottom"/>
                  <a:pathLst>
                    <a:path w="270" h="109">
                      <a:moveTo>
                        <a:pt x="0" y="84"/>
                      </a:moveTo>
                      <a:lnTo>
                        <a:pt x="270" y="109"/>
                      </a:lnTo>
                      <a:lnTo>
                        <a:pt x="270" y="33"/>
                      </a:lnTo>
                      <a:lnTo>
                        <a:pt x="8" y="0"/>
                      </a:lnTo>
                      <a:lnTo>
                        <a:pt x="0" y="84"/>
                      </a:lnTo>
                      <a:close/>
                    </a:path>
                  </a:pathLst>
                </a:custGeom>
                <a:solidFill>
                  <a:srgbClr val="ffffff"/>
                </a:solidFill>
                <a:ln w="5040">
                  <a:solidFill>
                    <a:srgbClr val="00000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Freeform 126"/>
                <p:cNvSpPr/>
                <p:nvPr/>
              </p:nvSpPr>
              <p:spPr>
                <a:xfrm flipH="1">
                  <a:off x="-174960" y="2055960"/>
                  <a:ext cx="51480" cy="13320"/>
                </a:xfrm>
                <a:custGeom>
                  <a:avLst/>
                  <a:gdLst>
                    <a:gd name="textAreaLeft" fmla="*/ 360 w 51480"/>
                    <a:gd name="textAreaRight" fmla="*/ 52200 w 51480"/>
                    <a:gd name="textAreaTop" fmla="*/ 0 h 13320"/>
                    <a:gd name="textAreaBottom" fmla="*/ 13680 h 13320"/>
                  </a:gdLst>
                  <a:ahLst/>
                  <a:rect l="textAreaLeft" t="textAreaTop" r="textAreaRight" b="textAreaBottom"/>
                  <a:pathLst>
                    <a:path w="278" h="67">
                      <a:moveTo>
                        <a:pt x="0" y="0"/>
                      </a:moveTo>
                      <a:lnTo>
                        <a:pt x="17" y="42"/>
                      </a:lnTo>
                      <a:lnTo>
                        <a:pt x="278" y="67"/>
                      </a:lnTo>
                      <a:lnTo>
                        <a:pt x="270" y="25"/>
                      </a:lnTo>
                      <a:lnTo>
                        <a:pt x="0" y="0"/>
                      </a:lnTo>
                      <a:close/>
                    </a:path>
                  </a:pathLst>
                </a:custGeom>
                <a:solidFill>
                  <a:srgbClr val="ffffff"/>
                </a:solidFill>
                <a:ln w="5040">
                  <a:solidFill>
                    <a:srgbClr val="000000"/>
                  </a:solidFill>
                  <a:round/>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Freeform 125"/>
                <p:cNvSpPr/>
                <p:nvPr/>
              </p:nvSpPr>
              <p:spPr>
                <a:xfrm flipH="1">
                  <a:off x="-222840" y="2034000"/>
                  <a:ext cx="49680" cy="27000"/>
                </a:xfrm>
                <a:custGeom>
                  <a:avLst/>
                  <a:gdLst>
                    <a:gd name="textAreaLeft" fmla="*/ -360 w 49680"/>
                    <a:gd name="textAreaRight" fmla="*/ 49680 w 49680"/>
                    <a:gd name="textAreaTop" fmla="*/ 0 h 27000"/>
                    <a:gd name="textAreaBottom" fmla="*/ 27360 h 27000"/>
                  </a:gdLst>
                  <a:ahLst/>
                  <a:rect l="textAreaLeft" t="textAreaTop" r="textAreaRight" b="textAreaBottom"/>
                  <a:pathLst>
                    <a:path w="269" h="134">
                      <a:moveTo>
                        <a:pt x="0" y="134"/>
                      </a:moveTo>
                      <a:lnTo>
                        <a:pt x="269" y="42"/>
                      </a:lnTo>
                      <a:lnTo>
                        <a:pt x="269" y="8"/>
                      </a:lnTo>
                      <a:lnTo>
                        <a:pt x="269" y="0"/>
                      </a:lnTo>
                      <a:lnTo>
                        <a:pt x="236" y="0"/>
                      </a:lnTo>
                      <a:lnTo>
                        <a:pt x="109" y="16"/>
                      </a:lnTo>
                      <a:lnTo>
                        <a:pt x="16" y="58"/>
                      </a:lnTo>
                      <a:lnTo>
                        <a:pt x="0" y="58"/>
                      </a:lnTo>
                      <a:lnTo>
                        <a:pt x="0" y="134"/>
                      </a:lnTo>
                      <a:close/>
                    </a:path>
                  </a:pathLst>
                </a:custGeom>
                <a:solidFill>
                  <a:srgbClr val="0080ff"/>
                </a:solidFill>
                <a:ln w="5040">
                  <a:solidFill>
                    <a:srgbClr val="000000"/>
                  </a:solidFill>
                  <a:round/>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1" name="Freeform 124"/>
                <p:cNvSpPr/>
                <p:nvPr/>
              </p:nvSpPr>
              <p:spPr>
                <a:xfrm flipH="1">
                  <a:off x="-222840" y="2042640"/>
                  <a:ext cx="49680" cy="27000"/>
                </a:xfrm>
                <a:custGeom>
                  <a:avLst/>
                  <a:gdLst>
                    <a:gd name="textAreaLeft" fmla="*/ -360 w 49680"/>
                    <a:gd name="textAreaRight" fmla="*/ 49680 w 49680"/>
                    <a:gd name="textAreaTop" fmla="*/ 0 h 27000"/>
                    <a:gd name="textAreaBottom" fmla="*/ 27360 h 27000"/>
                  </a:gdLst>
                  <a:ahLst/>
                  <a:rect l="textAreaLeft" t="textAreaTop" r="textAreaRight" b="textAreaBottom"/>
                  <a:pathLst>
                    <a:path w="269" h="134">
                      <a:moveTo>
                        <a:pt x="0" y="92"/>
                      </a:moveTo>
                      <a:lnTo>
                        <a:pt x="8" y="134"/>
                      </a:lnTo>
                      <a:lnTo>
                        <a:pt x="269" y="25"/>
                      </a:lnTo>
                      <a:lnTo>
                        <a:pt x="269" y="0"/>
                      </a:lnTo>
                      <a:lnTo>
                        <a:pt x="0" y="92"/>
                      </a:lnTo>
                      <a:close/>
                    </a:path>
                  </a:pathLst>
                </a:custGeom>
                <a:solidFill>
                  <a:srgbClr val="0080ff"/>
                </a:solidFill>
                <a:ln w="5040">
                  <a:solidFill>
                    <a:srgbClr val="000000"/>
                  </a:solidFill>
                  <a:round/>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2" name="Freeform 123"/>
                <p:cNvSpPr/>
                <p:nvPr/>
              </p:nvSpPr>
              <p:spPr>
                <a:xfrm flipH="1">
                  <a:off x="-117000" y="1994760"/>
                  <a:ext cx="57600" cy="11880"/>
                </a:xfrm>
                <a:custGeom>
                  <a:avLst/>
                  <a:gdLst>
                    <a:gd name="textAreaLeft" fmla="*/ -360 w 57600"/>
                    <a:gd name="textAreaRight" fmla="*/ 57600 w 57600"/>
                    <a:gd name="textAreaTop" fmla="*/ 0 h 11880"/>
                    <a:gd name="textAreaBottom" fmla="*/ 12240 h 11880"/>
                  </a:gdLst>
                  <a:ahLst/>
                  <a:rect l="textAreaLeft" t="textAreaTop" r="textAreaRight" b="textAreaBottom"/>
                  <a:pathLst>
                    <a:path w="312" h="59">
                      <a:moveTo>
                        <a:pt x="0" y="25"/>
                      </a:moveTo>
                      <a:lnTo>
                        <a:pt x="278" y="59"/>
                      </a:lnTo>
                      <a:lnTo>
                        <a:pt x="312" y="34"/>
                      </a:lnTo>
                      <a:lnTo>
                        <a:pt x="42" y="0"/>
                      </a:lnTo>
                      <a:lnTo>
                        <a:pt x="0" y="25"/>
                      </a:lnTo>
                      <a:close/>
                    </a:path>
                  </a:pathLst>
                </a:custGeom>
                <a:solidFill>
                  <a:srgbClr val="ffffff"/>
                </a:solidFill>
                <a:ln w="5040">
                  <a:solidFill>
                    <a:srgbClr val="000000"/>
                  </a:solidFill>
                  <a:round/>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Line 122"/>
                <p:cNvSpPr/>
                <p:nvPr/>
              </p:nvSpPr>
              <p:spPr>
                <a:xfrm flipH="1">
                  <a:off x="195840" y="1979280"/>
                  <a:ext cx="16920" cy="3240"/>
                </a:xfrm>
                <a:prstGeom prst="line">
                  <a:avLst/>
                </a:prstGeom>
                <a:ln w="5040">
                  <a:solidFill>
                    <a:srgbClr val="000000"/>
                  </a:solidFill>
                  <a:miter/>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Freeform 121"/>
                <p:cNvSpPr/>
                <p:nvPr/>
              </p:nvSpPr>
              <p:spPr>
                <a:xfrm flipH="1">
                  <a:off x="61200" y="1950120"/>
                  <a:ext cx="2880" cy="1800"/>
                </a:xfrm>
                <a:custGeom>
                  <a:avLst/>
                  <a:gdLst>
                    <a:gd name="textAreaLeft" fmla="*/ 360 w 2880"/>
                    <a:gd name="textAreaRight" fmla="*/ 3600 w 2880"/>
                    <a:gd name="textAreaTop" fmla="*/ 0 h 1800"/>
                    <a:gd name="textAreaBottom" fmla="*/ 2160 h 1800"/>
                  </a:gdLst>
                  <a:ahLst/>
                  <a:rect l="textAreaLeft" t="textAreaTop" r="textAreaRight" b="textAreaBottom"/>
                  <a:pathLst>
                    <a:path w="17" h="9">
                      <a:moveTo>
                        <a:pt x="17" y="0"/>
                      </a:moveTo>
                      <a:lnTo>
                        <a:pt x="17" y="0"/>
                      </a:lnTo>
                      <a:lnTo>
                        <a:pt x="9" y="0"/>
                      </a:lnTo>
                      <a:lnTo>
                        <a:pt x="0" y="0"/>
                      </a:lnTo>
                      <a:lnTo>
                        <a:pt x="0" y="9"/>
                      </a:lnTo>
                      <a:lnTo>
                        <a:pt x="9" y="9"/>
                      </a:lnTo>
                      <a:lnTo>
                        <a:pt x="17" y="9"/>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5" name="Freeform 120"/>
                <p:cNvSpPr/>
                <p:nvPr/>
              </p:nvSpPr>
              <p:spPr>
                <a:xfrm flipH="1">
                  <a:off x="56520" y="192456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8"/>
                      </a:moveTo>
                      <a:lnTo>
                        <a:pt x="17" y="0"/>
                      </a:lnTo>
                      <a:lnTo>
                        <a:pt x="8" y="0"/>
                      </a:lnTo>
                      <a:lnTo>
                        <a:pt x="0" y="8"/>
                      </a:lnTo>
                      <a:lnTo>
                        <a:pt x="0" y="17"/>
                      </a:lnTo>
                      <a:lnTo>
                        <a:pt x="8"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6" name="Freeform 119"/>
                <p:cNvSpPr/>
                <p:nvPr/>
              </p:nvSpPr>
              <p:spPr>
                <a:xfrm flipH="1">
                  <a:off x="61200" y="193320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8"/>
                      </a:moveTo>
                      <a:lnTo>
                        <a:pt x="17" y="0"/>
                      </a:lnTo>
                      <a:lnTo>
                        <a:pt x="9" y="0"/>
                      </a:lnTo>
                      <a:lnTo>
                        <a:pt x="0" y="0"/>
                      </a:lnTo>
                      <a:lnTo>
                        <a:pt x="0" y="8"/>
                      </a:lnTo>
                      <a:lnTo>
                        <a:pt x="9"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Freeform 118"/>
                <p:cNvSpPr/>
                <p:nvPr/>
              </p:nvSpPr>
              <p:spPr>
                <a:xfrm flipH="1">
                  <a:off x="56520" y="1943280"/>
                  <a:ext cx="1440" cy="1440"/>
                </a:xfrm>
                <a:custGeom>
                  <a:avLst/>
                  <a:gdLst>
                    <a:gd name="textAreaLeft" fmla="*/ 360 w 1440"/>
                    <a:gd name="textAreaRight" fmla="*/ 2160 w 1440"/>
                    <a:gd name="textAreaTop" fmla="*/ 0 h 1440"/>
                    <a:gd name="textAreaBottom" fmla="*/ 1800 h 1440"/>
                  </a:gdLst>
                  <a:ahLst/>
                  <a:rect l="textAreaLeft" t="textAreaTop" r="textAreaRight" b="textAreaBottom"/>
                  <a:pathLst>
                    <a:path w="9" h="8">
                      <a:moveTo>
                        <a:pt x="9" y="8"/>
                      </a:moveTo>
                      <a:lnTo>
                        <a:pt x="9" y="0"/>
                      </a:lnTo>
                      <a:lnTo>
                        <a:pt x="0" y="0"/>
                      </a:lnTo>
                      <a:lnTo>
                        <a:pt x="0" y="8"/>
                      </a:lnTo>
                      <a:lnTo>
                        <a:pt x="9" y="8"/>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Freeform 117"/>
                <p:cNvSpPr/>
                <p:nvPr/>
              </p:nvSpPr>
              <p:spPr>
                <a:xfrm flipH="1">
                  <a:off x="61200" y="191772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7" h="9">
                      <a:moveTo>
                        <a:pt x="17" y="0"/>
                      </a:moveTo>
                      <a:lnTo>
                        <a:pt x="17" y="0"/>
                      </a:lnTo>
                      <a:lnTo>
                        <a:pt x="9" y="0"/>
                      </a:lnTo>
                      <a:lnTo>
                        <a:pt x="0" y="0"/>
                      </a:lnTo>
                      <a:lnTo>
                        <a:pt x="0" y="9"/>
                      </a:lnTo>
                      <a:lnTo>
                        <a:pt x="9" y="9"/>
                      </a:lnTo>
                      <a:lnTo>
                        <a:pt x="17" y="9"/>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Freeform 116"/>
                <p:cNvSpPr/>
                <p:nvPr/>
              </p:nvSpPr>
              <p:spPr>
                <a:xfrm flipH="1">
                  <a:off x="41040" y="1951920"/>
                  <a:ext cx="2880" cy="2880"/>
                </a:xfrm>
                <a:custGeom>
                  <a:avLst/>
                  <a:gdLst>
                    <a:gd name="textAreaLeft" fmla="*/ 360 w 2880"/>
                    <a:gd name="textAreaRight" fmla="*/ 3600 w 2880"/>
                    <a:gd name="textAreaTop" fmla="*/ 0 h 2880"/>
                    <a:gd name="textAreaBottom" fmla="*/ 3240 h 2880"/>
                  </a:gdLst>
                  <a:ahLst/>
                  <a:rect l="textAreaLeft" t="textAreaTop" r="textAreaRight" b="textAreaBottom"/>
                  <a:pathLst>
                    <a:path w="17" h="16">
                      <a:moveTo>
                        <a:pt x="17" y="8"/>
                      </a:moveTo>
                      <a:lnTo>
                        <a:pt x="17" y="0"/>
                      </a:lnTo>
                      <a:lnTo>
                        <a:pt x="8" y="0"/>
                      </a:lnTo>
                      <a:lnTo>
                        <a:pt x="0" y="0"/>
                      </a:lnTo>
                      <a:lnTo>
                        <a:pt x="0" y="8"/>
                      </a:lnTo>
                      <a:lnTo>
                        <a:pt x="8" y="16"/>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Freeform 115"/>
                <p:cNvSpPr/>
                <p:nvPr/>
              </p:nvSpPr>
              <p:spPr>
                <a:xfrm flipH="1">
                  <a:off x="50400" y="195012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17" y="9"/>
                      </a:lnTo>
                      <a:lnTo>
                        <a:pt x="9" y="0"/>
                      </a:lnTo>
                      <a:lnTo>
                        <a:pt x="0" y="0"/>
                      </a:lnTo>
                      <a:lnTo>
                        <a:pt x="0" y="9"/>
                      </a:lnTo>
                      <a:lnTo>
                        <a:pt x="0" y="17"/>
                      </a:lnTo>
                      <a:lnTo>
                        <a:pt x="9"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Freeform 114"/>
                <p:cNvSpPr/>
                <p:nvPr/>
              </p:nvSpPr>
              <p:spPr>
                <a:xfrm flipH="1">
                  <a:off x="36000" y="1945080"/>
                  <a:ext cx="1440" cy="3240"/>
                </a:xfrm>
                <a:custGeom>
                  <a:avLst/>
                  <a:gdLst>
                    <a:gd name="textAreaLeft" fmla="*/ 360 w 1440"/>
                    <a:gd name="textAreaRight" fmla="*/ 2160 w 1440"/>
                    <a:gd name="textAreaTop" fmla="*/ 0 h 3240"/>
                    <a:gd name="textAreaBottom" fmla="*/ 3600 h 3240"/>
                  </a:gdLst>
                  <a:ahLst/>
                  <a:rect l="textAreaLeft" t="textAreaTop" r="textAreaRight" b="textAreaBottom"/>
                  <a:pathLst>
                    <a:path w="8" h="17">
                      <a:moveTo>
                        <a:pt x="8" y="8"/>
                      </a:moveTo>
                      <a:lnTo>
                        <a:pt x="8" y="8"/>
                      </a:lnTo>
                      <a:lnTo>
                        <a:pt x="8" y="0"/>
                      </a:lnTo>
                      <a:lnTo>
                        <a:pt x="0" y="0"/>
                      </a:lnTo>
                      <a:lnTo>
                        <a:pt x="0" y="8"/>
                      </a:lnTo>
                      <a:lnTo>
                        <a:pt x="0" y="17"/>
                      </a:lnTo>
                      <a:lnTo>
                        <a:pt x="8" y="17"/>
                      </a:lnTo>
                      <a:lnTo>
                        <a:pt x="8"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Freeform 113"/>
                <p:cNvSpPr/>
                <p:nvPr/>
              </p:nvSpPr>
              <p:spPr>
                <a:xfrm flipH="1">
                  <a:off x="45720" y="192600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8" y="0"/>
                      </a:lnTo>
                      <a:lnTo>
                        <a:pt x="0" y="0"/>
                      </a:lnTo>
                      <a:lnTo>
                        <a:pt x="0" y="9"/>
                      </a:lnTo>
                      <a:lnTo>
                        <a:pt x="8"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Freeform 112"/>
                <p:cNvSpPr/>
                <p:nvPr/>
              </p:nvSpPr>
              <p:spPr>
                <a:xfrm flipH="1">
                  <a:off x="36360" y="192816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8"/>
                      </a:moveTo>
                      <a:lnTo>
                        <a:pt x="17" y="0"/>
                      </a:lnTo>
                      <a:lnTo>
                        <a:pt x="9" y="0"/>
                      </a:lnTo>
                      <a:lnTo>
                        <a:pt x="0" y="8"/>
                      </a:lnTo>
                      <a:lnTo>
                        <a:pt x="9"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Freeform 111"/>
                <p:cNvSpPr/>
                <p:nvPr/>
              </p:nvSpPr>
              <p:spPr>
                <a:xfrm flipH="1">
                  <a:off x="41040" y="191952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8"/>
                      </a:moveTo>
                      <a:lnTo>
                        <a:pt x="17" y="0"/>
                      </a:lnTo>
                      <a:lnTo>
                        <a:pt x="8" y="0"/>
                      </a:lnTo>
                      <a:lnTo>
                        <a:pt x="0" y="8"/>
                      </a:lnTo>
                      <a:lnTo>
                        <a:pt x="8"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Freeform 110"/>
                <p:cNvSpPr/>
                <p:nvPr/>
              </p:nvSpPr>
              <p:spPr>
                <a:xfrm flipH="1">
                  <a:off x="41040" y="193464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17" y="0"/>
                      </a:lnTo>
                      <a:lnTo>
                        <a:pt x="8" y="0"/>
                      </a:lnTo>
                      <a:lnTo>
                        <a:pt x="0" y="9"/>
                      </a:lnTo>
                      <a:lnTo>
                        <a:pt x="0" y="17"/>
                      </a:lnTo>
                      <a:lnTo>
                        <a:pt x="8"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6" name="Freeform 109"/>
                <p:cNvSpPr/>
                <p:nvPr/>
              </p:nvSpPr>
              <p:spPr>
                <a:xfrm flipH="1">
                  <a:off x="50400" y="191772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9" y="0"/>
                      </a:lnTo>
                      <a:lnTo>
                        <a:pt x="0" y="0"/>
                      </a:lnTo>
                      <a:lnTo>
                        <a:pt x="0" y="9"/>
                      </a:lnTo>
                      <a:lnTo>
                        <a:pt x="0" y="17"/>
                      </a:lnTo>
                      <a:lnTo>
                        <a:pt x="9"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Freeform 108"/>
                <p:cNvSpPr/>
                <p:nvPr/>
              </p:nvSpPr>
              <p:spPr>
                <a:xfrm flipH="1">
                  <a:off x="45720" y="194508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7" h="8">
                      <a:moveTo>
                        <a:pt x="17" y="0"/>
                      </a:moveTo>
                      <a:lnTo>
                        <a:pt x="8" y="0"/>
                      </a:lnTo>
                      <a:lnTo>
                        <a:pt x="0" y="0"/>
                      </a:lnTo>
                      <a:lnTo>
                        <a:pt x="0" y="8"/>
                      </a:lnTo>
                      <a:lnTo>
                        <a:pt x="8" y="8"/>
                      </a:lnTo>
                      <a:lnTo>
                        <a:pt x="17" y="8"/>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Freeform 107"/>
                <p:cNvSpPr/>
                <p:nvPr/>
              </p:nvSpPr>
              <p:spPr>
                <a:xfrm flipH="1">
                  <a:off x="50400" y="1934640"/>
                  <a:ext cx="2880" cy="1800"/>
                </a:xfrm>
                <a:custGeom>
                  <a:avLst/>
                  <a:gdLst>
                    <a:gd name="textAreaLeft" fmla="*/ 360 w 2880"/>
                    <a:gd name="textAreaRight" fmla="*/ 3600 w 2880"/>
                    <a:gd name="textAreaTop" fmla="*/ 0 h 1800"/>
                    <a:gd name="textAreaBottom" fmla="*/ 2160 h 1800"/>
                  </a:gdLst>
                  <a:ahLst/>
                  <a:rect l="textAreaLeft" t="textAreaTop" r="textAreaRight" b="textAreaBottom"/>
                  <a:pathLst>
                    <a:path w="17" h="9">
                      <a:moveTo>
                        <a:pt x="17" y="0"/>
                      </a:moveTo>
                      <a:lnTo>
                        <a:pt x="9" y="0"/>
                      </a:lnTo>
                      <a:lnTo>
                        <a:pt x="0" y="0"/>
                      </a:lnTo>
                      <a:lnTo>
                        <a:pt x="0" y="9"/>
                      </a:lnTo>
                      <a:lnTo>
                        <a:pt x="9" y="9"/>
                      </a:lnTo>
                      <a:lnTo>
                        <a:pt x="17" y="9"/>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Freeform 106"/>
                <p:cNvSpPr/>
                <p:nvPr/>
              </p:nvSpPr>
              <p:spPr>
                <a:xfrm flipH="1">
                  <a:off x="25200" y="1946520"/>
                  <a:ext cx="1440" cy="3240"/>
                </a:xfrm>
                <a:custGeom>
                  <a:avLst/>
                  <a:gdLst>
                    <a:gd name="textAreaLeft" fmla="*/ 360 w 1440"/>
                    <a:gd name="textAreaRight" fmla="*/ 2160 w 1440"/>
                    <a:gd name="textAreaTop" fmla="*/ 0 h 3240"/>
                    <a:gd name="textAreaBottom" fmla="*/ 3600 h 3240"/>
                  </a:gdLst>
                  <a:ahLst/>
                  <a:rect l="textAreaLeft" t="textAreaTop" r="textAreaRight" b="textAreaBottom"/>
                  <a:pathLst>
                    <a:path w="8" h="17">
                      <a:moveTo>
                        <a:pt x="8" y="9"/>
                      </a:moveTo>
                      <a:lnTo>
                        <a:pt x="8" y="0"/>
                      </a:lnTo>
                      <a:lnTo>
                        <a:pt x="0" y="0"/>
                      </a:lnTo>
                      <a:lnTo>
                        <a:pt x="0" y="9"/>
                      </a:lnTo>
                      <a:lnTo>
                        <a:pt x="0" y="17"/>
                      </a:lnTo>
                      <a:lnTo>
                        <a:pt x="8" y="17"/>
                      </a:lnTo>
                      <a:lnTo>
                        <a:pt x="8"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0" name="Freeform 105"/>
                <p:cNvSpPr/>
                <p:nvPr/>
              </p:nvSpPr>
              <p:spPr>
                <a:xfrm flipH="1">
                  <a:off x="14400" y="192960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9" y="0"/>
                      </a:lnTo>
                      <a:lnTo>
                        <a:pt x="0" y="0"/>
                      </a:lnTo>
                      <a:lnTo>
                        <a:pt x="0" y="9"/>
                      </a:lnTo>
                      <a:lnTo>
                        <a:pt x="0" y="17"/>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Freeform 104"/>
                <p:cNvSpPr/>
                <p:nvPr/>
              </p:nvSpPr>
              <p:spPr>
                <a:xfrm flipH="1">
                  <a:off x="25560" y="1929600"/>
                  <a:ext cx="2880" cy="1800"/>
                </a:xfrm>
                <a:custGeom>
                  <a:avLst/>
                  <a:gdLst>
                    <a:gd name="textAreaLeft" fmla="*/ 360 w 2880"/>
                    <a:gd name="textAreaRight" fmla="*/ 3600 w 2880"/>
                    <a:gd name="textAreaTop" fmla="*/ 0 h 1800"/>
                    <a:gd name="textAreaBottom" fmla="*/ 2160 h 1800"/>
                  </a:gdLst>
                  <a:ahLst/>
                  <a:rect l="textAreaLeft" t="textAreaTop" r="textAreaRight" b="textAreaBottom"/>
                  <a:pathLst>
                    <a:path w="17" h="9">
                      <a:moveTo>
                        <a:pt x="17" y="9"/>
                      </a:moveTo>
                      <a:lnTo>
                        <a:pt x="17" y="0"/>
                      </a:lnTo>
                      <a:lnTo>
                        <a:pt x="9" y="0"/>
                      </a:lnTo>
                      <a:lnTo>
                        <a:pt x="0" y="9"/>
                      </a:lnTo>
                      <a:lnTo>
                        <a:pt x="9" y="9"/>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2" name="Freeform 103"/>
                <p:cNvSpPr/>
                <p:nvPr/>
              </p:nvSpPr>
              <p:spPr>
                <a:xfrm flipH="1">
                  <a:off x="14400" y="194868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7" h="8">
                      <a:moveTo>
                        <a:pt x="17" y="8"/>
                      </a:moveTo>
                      <a:lnTo>
                        <a:pt x="17" y="0"/>
                      </a:lnTo>
                      <a:lnTo>
                        <a:pt x="9" y="0"/>
                      </a:lnTo>
                      <a:lnTo>
                        <a:pt x="0" y="0"/>
                      </a:lnTo>
                      <a:lnTo>
                        <a:pt x="0" y="8"/>
                      </a:lnTo>
                      <a:lnTo>
                        <a:pt x="9" y="8"/>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Freeform 102"/>
                <p:cNvSpPr/>
                <p:nvPr/>
              </p:nvSpPr>
              <p:spPr>
                <a:xfrm flipH="1">
                  <a:off x="19080" y="1955160"/>
                  <a:ext cx="2880" cy="1800"/>
                </a:xfrm>
                <a:custGeom>
                  <a:avLst/>
                  <a:gdLst>
                    <a:gd name="textAreaLeft" fmla="*/ 360 w 2880"/>
                    <a:gd name="textAreaRight" fmla="*/ 3600 w 2880"/>
                    <a:gd name="textAreaTop" fmla="*/ 0 h 1800"/>
                    <a:gd name="textAreaBottom" fmla="*/ 2160 h 1800"/>
                  </a:gdLst>
                  <a:ahLst/>
                  <a:rect l="textAreaLeft" t="textAreaTop" r="textAreaRight" b="textAreaBottom"/>
                  <a:pathLst>
                    <a:path w="17" h="9">
                      <a:moveTo>
                        <a:pt x="17" y="0"/>
                      </a:moveTo>
                      <a:lnTo>
                        <a:pt x="9" y="0"/>
                      </a:lnTo>
                      <a:lnTo>
                        <a:pt x="0" y="0"/>
                      </a:lnTo>
                      <a:lnTo>
                        <a:pt x="0" y="9"/>
                      </a:lnTo>
                      <a:lnTo>
                        <a:pt x="9" y="9"/>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Freeform 101"/>
                <p:cNvSpPr/>
                <p:nvPr/>
              </p:nvSpPr>
              <p:spPr>
                <a:xfrm flipH="1">
                  <a:off x="29880" y="192096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17" y="0"/>
                      </a:lnTo>
                      <a:lnTo>
                        <a:pt x="9" y="0"/>
                      </a:lnTo>
                      <a:lnTo>
                        <a:pt x="0" y="0"/>
                      </a:lnTo>
                      <a:lnTo>
                        <a:pt x="0" y="9"/>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Freeform 100"/>
                <p:cNvSpPr/>
                <p:nvPr/>
              </p:nvSpPr>
              <p:spPr>
                <a:xfrm flipH="1">
                  <a:off x="19080" y="192276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6">
                      <a:moveTo>
                        <a:pt x="17" y="8"/>
                      </a:moveTo>
                      <a:lnTo>
                        <a:pt x="9" y="0"/>
                      </a:lnTo>
                      <a:lnTo>
                        <a:pt x="0" y="0"/>
                      </a:lnTo>
                      <a:lnTo>
                        <a:pt x="0" y="8"/>
                      </a:lnTo>
                      <a:lnTo>
                        <a:pt x="9" y="16"/>
                      </a:lnTo>
                      <a:lnTo>
                        <a:pt x="9" y="8"/>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Freeform 99"/>
                <p:cNvSpPr/>
                <p:nvPr/>
              </p:nvSpPr>
              <p:spPr>
                <a:xfrm flipH="1">
                  <a:off x="19080" y="193824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9" y="0"/>
                      </a:lnTo>
                      <a:lnTo>
                        <a:pt x="0" y="0"/>
                      </a:lnTo>
                      <a:lnTo>
                        <a:pt x="0" y="9"/>
                      </a:lnTo>
                      <a:lnTo>
                        <a:pt x="9" y="17"/>
                      </a:lnTo>
                      <a:lnTo>
                        <a:pt x="9" y="9"/>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7" name="Freeform 98"/>
                <p:cNvSpPr/>
                <p:nvPr/>
              </p:nvSpPr>
              <p:spPr>
                <a:xfrm flipH="1">
                  <a:off x="29880" y="193644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8"/>
                      </a:moveTo>
                      <a:lnTo>
                        <a:pt x="17" y="0"/>
                      </a:lnTo>
                      <a:lnTo>
                        <a:pt x="9" y="0"/>
                      </a:lnTo>
                      <a:lnTo>
                        <a:pt x="0" y="8"/>
                      </a:lnTo>
                      <a:lnTo>
                        <a:pt x="0" y="17"/>
                      </a:lnTo>
                      <a:lnTo>
                        <a:pt x="9" y="17"/>
                      </a:lnTo>
                      <a:lnTo>
                        <a:pt x="17"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Freeform 97"/>
                <p:cNvSpPr/>
                <p:nvPr/>
              </p:nvSpPr>
              <p:spPr>
                <a:xfrm flipH="1">
                  <a:off x="29880" y="195372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8"/>
                      </a:moveTo>
                      <a:lnTo>
                        <a:pt x="17" y="0"/>
                      </a:lnTo>
                      <a:lnTo>
                        <a:pt x="9" y="0"/>
                      </a:lnTo>
                      <a:lnTo>
                        <a:pt x="0" y="0"/>
                      </a:lnTo>
                      <a:lnTo>
                        <a:pt x="0" y="8"/>
                      </a:lnTo>
                      <a:lnTo>
                        <a:pt x="9" y="17"/>
                      </a:lnTo>
                      <a:lnTo>
                        <a:pt x="17"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Freeform 96"/>
                <p:cNvSpPr/>
                <p:nvPr/>
              </p:nvSpPr>
              <p:spPr>
                <a:xfrm flipH="1">
                  <a:off x="9720" y="195516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9"/>
                      </a:moveTo>
                      <a:lnTo>
                        <a:pt x="17" y="0"/>
                      </a:lnTo>
                      <a:lnTo>
                        <a:pt x="8" y="0"/>
                      </a:lnTo>
                      <a:lnTo>
                        <a:pt x="0" y="9"/>
                      </a:lnTo>
                      <a:lnTo>
                        <a:pt x="0" y="17"/>
                      </a:lnTo>
                      <a:lnTo>
                        <a:pt x="8"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Freeform 95"/>
                <p:cNvSpPr/>
                <p:nvPr/>
              </p:nvSpPr>
              <p:spPr>
                <a:xfrm flipH="1">
                  <a:off x="-1440" y="1941480"/>
                  <a:ext cx="2880" cy="1800"/>
                </a:xfrm>
                <a:custGeom>
                  <a:avLst/>
                  <a:gdLst>
                    <a:gd name="textAreaLeft" fmla="*/ -360 w 2880"/>
                    <a:gd name="textAreaRight" fmla="*/ 2880 w 2880"/>
                    <a:gd name="textAreaTop" fmla="*/ 0 h 1800"/>
                    <a:gd name="textAreaBottom" fmla="*/ 2160 h 1800"/>
                  </a:gdLst>
                  <a:ahLst/>
                  <a:rect l="textAreaLeft" t="textAreaTop" r="textAreaRight" b="textAreaBottom"/>
                  <a:pathLst>
                    <a:path w="17" h="9">
                      <a:moveTo>
                        <a:pt x="17" y="9"/>
                      </a:moveTo>
                      <a:lnTo>
                        <a:pt x="8" y="0"/>
                      </a:lnTo>
                      <a:lnTo>
                        <a:pt x="0" y="0"/>
                      </a:lnTo>
                      <a:lnTo>
                        <a:pt x="0" y="9"/>
                      </a:lnTo>
                      <a:lnTo>
                        <a:pt x="8" y="9"/>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Freeform 94"/>
                <p:cNvSpPr/>
                <p:nvPr/>
              </p:nvSpPr>
              <p:spPr>
                <a:xfrm flipH="1">
                  <a:off x="-5760" y="193320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9" y="0"/>
                      </a:lnTo>
                      <a:lnTo>
                        <a:pt x="0" y="0"/>
                      </a:lnTo>
                      <a:lnTo>
                        <a:pt x="0" y="8"/>
                      </a:lnTo>
                      <a:lnTo>
                        <a:pt x="0" y="17"/>
                      </a:lnTo>
                      <a:lnTo>
                        <a:pt x="9" y="17"/>
                      </a:lnTo>
                      <a:lnTo>
                        <a:pt x="9" y="8"/>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Freeform 93"/>
                <p:cNvSpPr/>
                <p:nvPr/>
              </p:nvSpPr>
              <p:spPr>
                <a:xfrm flipH="1">
                  <a:off x="5040" y="1950120"/>
                  <a:ext cx="1440" cy="1800"/>
                </a:xfrm>
                <a:custGeom>
                  <a:avLst/>
                  <a:gdLst>
                    <a:gd name="textAreaLeft" fmla="*/ 360 w 1440"/>
                    <a:gd name="textAreaRight" fmla="*/ 2160 w 1440"/>
                    <a:gd name="textAreaTop" fmla="*/ 0 h 1800"/>
                    <a:gd name="textAreaBottom" fmla="*/ 2160 h 1800"/>
                  </a:gdLst>
                  <a:ahLst/>
                  <a:rect l="textAreaLeft" t="textAreaTop" r="textAreaRight" b="textAreaBottom"/>
                  <a:pathLst>
                    <a:path w="9" h="9">
                      <a:moveTo>
                        <a:pt x="9" y="0"/>
                      </a:moveTo>
                      <a:lnTo>
                        <a:pt x="9" y="0"/>
                      </a:lnTo>
                      <a:lnTo>
                        <a:pt x="0" y="0"/>
                      </a:lnTo>
                      <a:lnTo>
                        <a:pt x="0" y="9"/>
                      </a:lnTo>
                      <a:lnTo>
                        <a:pt x="9" y="9"/>
                      </a:lnTo>
                      <a:lnTo>
                        <a:pt x="9" y="0"/>
                      </a:lnTo>
                      <a:close/>
                    </a:path>
                  </a:pathLst>
                </a:custGeom>
                <a:solidFill>
                  <a:srgbClr val="ffffff"/>
                </a:solidFill>
                <a:ln w="504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Freeform 92"/>
                <p:cNvSpPr/>
                <p:nvPr/>
              </p:nvSpPr>
              <p:spPr>
                <a:xfrm flipH="1">
                  <a:off x="-5760" y="195012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9"/>
                      </a:lnTo>
                      <a:lnTo>
                        <a:pt x="9" y="0"/>
                      </a:lnTo>
                      <a:lnTo>
                        <a:pt x="0" y="9"/>
                      </a:lnTo>
                      <a:lnTo>
                        <a:pt x="0" y="17"/>
                      </a:lnTo>
                      <a:lnTo>
                        <a:pt x="9"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4" name="Freeform 91"/>
                <p:cNvSpPr/>
                <p:nvPr/>
              </p:nvSpPr>
              <p:spPr>
                <a:xfrm flipH="1">
                  <a:off x="5040" y="1931400"/>
                  <a:ext cx="2880" cy="2880"/>
                </a:xfrm>
                <a:custGeom>
                  <a:avLst/>
                  <a:gdLst>
                    <a:gd name="textAreaLeft" fmla="*/ 360 w 2880"/>
                    <a:gd name="textAreaRight" fmla="*/ 3600 w 2880"/>
                    <a:gd name="textAreaTop" fmla="*/ 0 h 2880"/>
                    <a:gd name="textAreaBottom" fmla="*/ 3240 h 2880"/>
                  </a:gdLst>
                  <a:ahLst/>
                  <a:rect l="textAreaLeft" t="textAreaTop" r="textAreaRight" b="textAreaBottom"/>
                  <a:pathLst>
                    <a:path w="17" h="16">
                      <a:moveTo>
                        <a:pt x="17" y="8"/>
                      </a:moveTo>
                      <a:lnTo>
                        <a:pt x="17" y="8"/>
                      </a:lnTo>
                      <a:lnTo>
                        <a:pt x="17" y="0"/>
                      </a:lnTo>
                      <a:lnTo>
                        <a:pt x="8" y="0"/>
                      </a:lnTo>
                      <a:lnTo>
                        <a:pt x="0" y="8"/>
                      </a:lnTo>
                      <a:lnTo>
                        <a:pt x="0" y="16"/>
                      </a:lnTo>
                      <a:lnTo>
                        <a:pt x="8" y="16"/>
                      </a:lnTo>
                      <a:lnTo>
                        <a:pt x="17" y="16"/>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5" name="Freeform 90"/>
                <p:cNvSpPr/>
                <p:nvPr/>
              </p:nvSpPr>
              <p:spPr>
                <a:xfrm flipH="1">
                  <a:off x="9720" y="1924560"/>
                  <a:ext cx="2880" cy="1440"/>
                </a:xfrm>
                <a:custGeom>
                  <a:avLst/>
                  <a:gdLst>
                    <a:gd name="textAreaLeft" fmla="*/ 360 w 2880"/>
                    <a:gd name="textAreaRight" fmla="*/ 3600 w 2880"/>
                    <a:gd name="textAreaTop" fmla="*/ 0 h 1440"/>
                    <a:gd name="textAreaBottom" fmla="*/ 1800 h 1440"/>
                  </a:gdLst>
                  <a:ahLst/>
                  <a:rect l="textAreaLeft" t="textAreaTop" r="textAreaRight" b="textAreaBottom"/>
                  <a:pathLst>
                    <a:path w="17" h="8">
                      <a:moveTo>
                        <a:pt x="17" y="0"/>
                      </a:moveTo>
                      <a:lnTo>
                        <a:pt x="17" y="0"/>
                      </a:lnTo>
                      <a:lnTo>
                        <a:pt x="8" y="0"/>
                      </a:lnTo>
                      <a:lnTo>
                        <a:pt x="0" y="0"/>
                      </a:lnTo>
                      <a:lnTo>
                        <a:pt x="0" y="8"/>
                      </a:lnTo>
                      <a:lnTo>
                        <a:pt x="8" y="8"/>
                      </a:lnTo>
                      <a:lnTo>
                        <a:pt x="17" y="8"/>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Freeform 89"/>
                <p:cNvSpPr/>
                <p:nvPr/>
              </p:nvSpPr>
              <p:spPr>
                <a:xfrm flipH="1">
                  <a:off x="9720" y="1940040"/>
                  <a:ext cx="2880" cy="3240"/>
                </a:xfrm>
                <a:custGeom>
                  <a:avLst/>
                  <a:gdLst>
                    <a:gd name="textAreaLeft" fmla="*/ 360 w 2880"/>
                    <a:gd name="textAreaRight" fmla="*/ 3600 w 2880"/>
                    <a:gd name="textAreaTop" fmla="*/ 0 h 3240"/>
                    <a:gd name="textAreaBottom" fmla="*/ 3600 h 3240"/>
                  </a:gdLst>
                  <a:ahLst/>
                  <a:rect l="textAreaLeft" t="textAreaTop" r="textAreaRight" b="textAreaBottom"/>
                  <a:pathLst>
                    <a:path w="17" h="17">
                      <a:moveTo>
                        <a:pt x="17" y="8"/>
                      </a:moveTo>
                      <a:lnTo>
                        <a:pt x="17" y="0"/>
                      </a:lnTo>
                      <a:lnTo>
                        <a:pt x="8" y="0"/>
                      </a:lnTo>
                      <a:lnTo>
                        <a:pt x="0" y="0"/>
                      </a:lnTo>
                      <a:lnTo>
                        <a:pt x="0" y="8"/>
                      </a:lnTo>
                      <a:lnTo>
                        <a:pt x="8"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Freeform 88"/>
                <p:cNvSpPr/>
                <p:nvPr/>
              </p:nvSpPr>
              <p:spPr>
                <a:xfrm flipH="1">
                  <a:off x="-1440" y="192456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8" y="0"/>
                      </a:lnTo>
                      <a:lnTo>
                        <a:pt x="0" y="0"/>
                      </a:lnTo>
                      <a:lnTo>
                        <a:pt x="0" y="8"/>
                      </a:lnTo>
                      <a:lnTo>
                        <a:pt x="0" y="17"/>
                      </a:lnTo>
                      <a:lnTo>
                        <a:pt x="8"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Freeform 87"/>
                <p:cNvSpPr/>
                <p:nvPr/>
              </p:nvSpPr>
              <p:spPr>
                <a:xfrm flipH="1">
                  <a:off x="-1440" y="195696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8" y="0"/>
                      </a:lnTo>
                      <a:lnTo>
                        <a:pt x="0" y="0"/>
                      </a:lnTo>
                      <a:lnTo>
                        <a:pt x="0" y="8"/>
                      </a:lnTo>
                      <a:lnTo>
                        <a:pt x="0" y="17"/>
                      </a:lnTo>
                      <a:lnTo>
                        <a:pt x="8" y="17"/>
                      </a:lnTo>
                      <a:lnTo>
                        <a:pt x="8" y="8"/>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9" name="Freeform 86"/>
                <p:cNvSpPr/>
                <p:nvPr/>
              </p:nvSpPr>
              <p:spPr>
                <a:xfrm flipH="1">
                  <a:off x="-26280" y="19346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9"/>
                      </a:lnTo>
                      <a:lnTo>
                        <a:pt x="8" y="9"/>
                      </a:lnTo>
                      <a:lnTo>
                        <a:pt x="8" y="0"/>
                      </a:lnTo>
                      <a:lnTo>
                        <a:pt x="0" y="9"/>
                      </a:lnTo>
                      <a:lnTo>
                        <a:pt x="0" y="17"/>
                      </a:lnTo>
                      <a:lnTo>
                        <a:pt x="8"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0" name="Freeform 85"/>
                <p:cNvSpPr/>
                <p:nvPr/>
              </p:nvSpPr>
              <p:spPr>
                <a:xfrm flipH="1">
                  <a:off x="-21600" y="196056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17" y="0"/>
                      </a:lnTo>
                      <a:lnTo>
                        <a:pt x="9" y="0"/>
                      </a:lnTo>
                      <a:lnTo>
                        <a:pt x="0" y="0"/>
                      </a:lnTo>
                      <a:lnTo>
                        <a:pt x="0" y="8"/>
                      </a:lnTo>
                      <a:lnTo>
                        <a:pt x="9" y="17"/>
                      </a:lnTo>
                      <a:lnTo>
                        <a:pt x="9" y="8"/>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1" name="Freeform 84"/>
                <p:cNvSpPr/>
                <p:nvPr/>
              </p:nvSpPr>
              <p:spPr>
                <a:xfrm flipH="1">
                  <a:off x="-15480" y="1951920"/>
                  <a:ext cx="2880" cy="2880"/>
                </a:xfrm>
                <a:custGeom>
                  <a:avLst/>
                  <a:gdLst>
                    <a:gd name="textAreaLeft" fmla="*/ -360 w 2880"/>
                    <a:gd name="textAreaRight" fmla="*/ 2880 w 2880"/>
                    <a:gd name="textAreaTop" fmla="*/ 0 h 2880"/>
                    <a:gd name="textAreaBottom" fmla="*/ 3240 h 2880"/>
                  </a:gdLst>
                  <a:ahLst/>
                  <a:rect l="textAreaLeft" t="textAreaTop" r="textAreaRight" b="textAreaBottom"/>
                  <a:pathLst>
                    <a:path w="17" h="16">
                      <a:moveTo>
                        <a:pt x="17" y="8"/>
                      </a:moveTo>
                      <a:lnTo>
                        <a:pt x="17" y="8"/>
                      </a:lnTo>
                      <a:lnTo>
                        <a:pt x="17" y="0"/>
                      </a:lnTo>
                      <a:lnTo>
                        <a:pt x="8" y="0"/>
                      </a:lnTo>
                      <a:lnTo>
                        <a:pt x="8" y="8"/>
                      </a:lnTo>
                      <a:lnTo>
                        <a:pt x="0" y="8"/>
                      </a:lnTo>
                      <a:lnTo>
                        <a:pt x="8" y="8"/>
                      </a:lnTo>
                      <a:lnTo>
                        <a:pt x="8" y="16"/>
                      </a:lnTo>
                      <a:lnTo>
                        <a:pt x="17" y="16"/>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Freeform 83"/>
                <p:cNvSpPr/>
                <p:nvPr/>
              </p:nvSpPr>
              <p:spPr>
                <a:xfrm flipH="1">
                  <a:off x="-26280" y="195372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17" y="0"/>
                      </a:lnTo>
                      <a:lnTo>
                        <a:pt x="8" y="0"/>
                      </a:lnTo>
                      <a:lnTo>
                        <a:pt x="0" y="0"/>
                      </a:lnTo>
                      <a:lnTo>
                        <a:pt x="0" y="8"/>
                      </a:lnTo>
                      <a:lnTo>
                        <a:pt x="8"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3" name="Freeform 82"/>
                <p:cNvSpPr/>
                <p:nvPr/>
              </p:nvSpPr>
              <p:spPr>
                <a:xfrm flipH="1">
                  <a:off x="-15480" y="19346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8" y="0"/>
                      </a:lnTo>
                      <a:lnTo>
                        <a:pt x="0" y="0"/>
                      </a:lnTo>
                      <a:lnTo>
                        <a:pt x="0" y="9"/>
                      </a:lnTo>
                      <a:lnTo>
                        <a:pt x="8" y="9"/>
                      </a:lnTo>
                      <a:lnTo>
                        <a:pt x="8"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4" name="Freeform 81"/>
                <p:cNvSpPr/>
                <p:nvPr/>
              </p:nvSpPr>
              <p:spPr>
                <a:xfrm flipH="1">
                  <a:off x="-10440" y="195876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9" y="0"/>
                      </a:lnTo>
                      <a:lnTo>
                        <a:pt x="0" y="0"/>
                      </a:lnTo>
                      <a:lnTo>
                        <a:pt x="0" y="9"/>
                      </a:lnTo>
                      <a:lnTo>
                        <a:pt x="9"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Freeform 80"/>
                <p:cNvSpPr/>
                <p:nvPr/>
              </p:nvSpPr>
              <p:spPr>
                <a:xfrm flipH="1">
                  <a:off x="-21600" y="192816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9" y="0"/>
                      </a:lnTo>
                      <a:lnTo>
                        <a:pt x="0" y="0"/>
                      </a:lnTo>
                      <a:lnTo>
                        <a:pt x="0" y="8"/>
                      </a:lnTo>
                      <a:lnTo>
                        <a:pt x="9" y="17"/>
                      </a:lnTo>
                      <a:lnTo>
                        <a:pt x="9" y="8"/>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Freeform 79"/>
                <p:cNvSpPr/>
                <p:nvPr/>
              </p:nvSpPr>
              <p:spPr>
                <a:xfrm flipH="1">
                  <a:off x="-21600" y="1943280"/>
                  <a:ext cx="2880" cy="2880"/>
                </a:xfrm>
                <a:custGeom>
                  <a:avLst/>
                  <a:gdLst>
                    <a:gd name="textAreaLeft" fmla="*/ -360 w 2880"/>
                    <a:gd name="textAreaRight" fmla="*/ 2880 w 2880"/>
                    <a:gd name="textAreaTop" fmla="*/ 0 h 2880"/>
                    <a:gd name="textAreaBottom" fmla="*/ 3240 h 2880"/>
                  </a:gdLst>
                  <a:ahLst/>
                  <a:rect l="textAreaLeft" t="textAreaTop" r="textAreaRight" b="textAreaBottom"/>
                  <a:pathLst>
                    <a:path w="17" h="16">
                      <a:moveTo>
                        <a:pt x="17" y="8"/>
                      </a:moveTo>
                      <a:lnTo>
                        <a:pt x="9" y="0"/>
                      </a:lnTo>
                      <a:lnTo>
                        <a:pt x="0" y="0"/>
                      </a:lnTo>
                      <a:lnTo>
                        <a:pt x="0" y="8"/>
                      </a:lnTo>
                      <a:lnTo>
                        <a:pt x="9" y="16"/>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Freeform 78"/>
                <p:cNvSpPr/>
                <p:nvPr/>
              </p:nvSpPr>
              <p:spPr>
                <a:xfrm flipH="1">
                  <a:off x="-10440" y="1943280"/>
                  <a:ext cx="2880" cy="1440"/>
                </a:xfrm>
                <a:custGeom>
                  <a:avLst/>
                  <a:gdLst>
                    <a:gd name="textAreaLeft" fmla="*/ -360 w 2880"/>
                    <a:gd name="textAreaRight" fmla="*/ 2880 w 2880"/>
                    <a:gd name="textAreaTop" fmla="*/ 0 h 1440"/>
                    <a:gd name="textAreaBottom" fmla="*/ 1800 h 1440"/>
                  </a:gdLst>
                  <a:ahLst/>
                  <a:rect l="textAreaLeft" t="textAreaTop" r="textAreaRight" b="textAreaBottom"/>
                  <a:pathLst>
                    <a:path w="17" h="8">
                      <a:moveTo>
                        <a:pt x="17" y="0"/>
                      </a:moveTo>
                      <a:lnTo>
                        <a:pt x="17" y="0"/>
                      </a:lnTo>
                      <a:lnTo>
                        <a:pt x="9" y="0"/>
                      </a:lnTo>
                      <a:lnTo>
                        <a:pt x="0" y="0"/>
                      </a:lnTo>
                      <a:lnTo>
                        <a:pt x="0" y="8"/>
                      </a:lnTo>
                      <a:lnTo>
                        <a:pt x="9" y="8"/>
                      </a:lnTo>
                      <a:lnTo>
                        <a:pt x="17" y="8"/>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8" name="Freeform 77"/>
                <p:cNvSpPr/>
                <p:nvPr/>
              </p:nvSpPr>
              <p:spPr>
                <a:xfrm flipH="1">
                  <a:off x="-10440" y="192600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9" y="0"/>
                      </a:lnTo>
                      <a:lnTo>
                        <a:pt x="0" y="9"/>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Freeform 76"/>
                <p:cNvSpPr/>
                <p:nvPr/>
              </p:nvSpPr>
              <p:spPr>
                <a:xfrm flipH="1">
                  <a:off x="-30960" y="196056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17" y="8"/>
                      </a:lnTo>
                      <a:lnTo>
                        <a:pt x="9" y="0"/>
                      </a:lnTo>
                      <a:lnTo>
                        <a:pt x="9" y="8"/>
                      </a:lnTo>
                      <a:lnTo>
                        <a:pt x="0" y="8"/>
                      </a:lnTo>
                      <a:lnTo>
                        <a:pt x="0" y="17"/>
                      </a:lnTo>
                      <a:lnTo>
                        <a:pt x="9" y="17"/>
                      </a:lnTo>
                      <a:lnTo>
                        <a:pt x="17"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Freeform 75"/>
                <p:cNvSpPr/>
                <p:nvPr/>
              </p:nvSpPr>
              <p:spPr>
                <a:xfrm flipH="1">
                  <a:off x="-35640" y="1955160"/>
                  <a:ext cx="2880" cy="1800"/>
                </a:xfrm>
                <a:custGeom>
                  <a:avLst/>
                  <a:gdLst>
                    <a:gd name="textAreaLeft" fmla="*/ -360 w 2880"/>
                    <a:gd name="textAreaRight" fmla="*/ 2880 w 2880"/>
                    <a:gd name="textAreaTop" fmla="*/ 0 h 1800"/>
                    <a:gd name="textAreaBottom" fmla="*/ 2160 h 1800"/>
                  </a:gdLst>
                  <a:ahLst/>
                  <a:rect l="textAreaLeft" t="textAreaTop" r="textAreaRight" b="textAreaBottom"/>
                  <a:pathLst>
                    <a:path w="17" h="9">
                      <a:moveTo>
                        <a:pt x="17" y="9"/>
                      </a:moveTo>
                      <a:lnTo>
                        <a:pt x="17" y="0"/>
                      </a:lnTo>
                      <a:lnTo>
                        <a:pt x="9" y="0"/>
                      </a:lnTo>
                      <a:lnTo>
                        <a:pt x="0" y="9"/>
                      </a:lnTo>
                      <a:lnTo>
                        <a:pt x="9" y="9"/>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Freeform 74"/>
                <p:cNvSpPr/>
                <p:nvPr/>
              </p:nvSpPr>
              <p:spPr>
                <a:xfrm flipH="1">
                  <a:off x="-51480" y="1931400"/>
                  <a:ext cx="2880" cy="2880"/>
                </a:xfrm>
                <a:custGeom>
                  <a:avLst/>
                  <a:gdLst>
                    <a:gd name="textAreaLeft" fmla="*/ -360 w 2880"/>
                    <a:gd name="textAreaRight" fmla="*/ 2880 w 2880"/>
                    <a:gd name="textAreaTop" fmla="*/ 0 h 2880"/>
                    <a:gd name="textAreaBottom" fmla="*/ 3240 h 2880"/>
                  </a:gdLst>
                  <a:ahLst/>
                  <a:rect l="textAreaLeft" t="textAreaTop" r="textAreaRight" b="textAreaBottom"/>
                  <a:pathLst>
                    <a:path w="17" h="16">
                      <a:moveTo>
                        <a:pt x="17" y="8"/>
                      </a:moveTo>
                      <a:lnTo>
                        <a:pt x="17" y="8"/>
                      </a:lnTo>
                      <a:lnTo>
                        <a:pt x="17" y="0"/>
                      </a:lnTo>
                      <a:lnTo>
                        <a:pt x="8" y="0"/>
                      </a:lnTo>
                      <a:lnTo>
                        <a:pt x="0" y="8"/>
                      </a:lnTo>
                      <a:lnTo>
                        <a:pt x="0" y="16"/>
                      </a:lnTo>
                      <a:lnTo>
                        <a:pt x="8" y="16"/>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Freeform 73"/>
                <p:cNvSpPr/>
                <p:nvPr/>
              </p:nvSpPr>
              <p:spPr>
                <a:xfrm flipH="1">
                  <a:off x="-45000" y="1938240"/>
                  <a:ext cx="1440" cy="3240"/>
                </a:xfrm>
                <a:custGeom>
                  <a:avLst/>
                  <a:gdLst>
                    <a:gd name="textAreaLeft" fmla="*/ -360 w 1440"/>
                    <a:gd name="textAreaRight" fmla="*/ 1440 w 1440"/>
                    <a:gd name="textAreaTop" fmla="*/ 0 h 3240"/>
                    <a:gd name="textAreaBottom" fmla="*/ 3600 h 3240"/>
                  </a:gdLst>
                  <a:ahLst/>
                  <a:rect l="textAreaLeft" t="textAreaTop" r="textAreaRight" b="textAreaBottom"/>
                  <a:pathLst>
                    <a:path w="9" h="17">
                      <a:moveTo>
                        <a:pt x="9" y="9"/>
                      </a:moveTo>
                      <a:lnTo>
                        <a:pt x="9" y="0"/>
                      </a:lnTo>
                      <a:lnTo>
                        <a:pt x="0" y="0"/>
                      </a:lnTo>
                      <a:lnTo>
                        <a:pt x="0" y="9"/>
                      </a:lnTo>
                      <a:lnTo>
                        <a:pt x="9" y="17"/>
                      </a:lnTo>
                      <a:lnTo>
                        <a:pt x="9"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3" name="Freeform 72"/>
                <p:cNvSpPr/>
                <p:nvPr/>
              </p:nvSpPr>
              <p:spPr>
                <a:xfrm flipH="1">
                  <a:off x="-41760" y="1946520"/>
                  <a:ext cx="2880" cy="1800"/>
                </a:xfrm>
                <a:custGeom>
                  <a:avLst/>
                  <a:gdLst>
                    <a:gd name="textAreaLeft" fmla="*/ -360 w 2880"/>
                    <a:gd name="textAreaRight" fmla="*/ 2880 w 2880"/>
                    <a:gd name="textAreaTop" fmla="*/ 0 h 1800"/>
                    <a:gd name="textAreaBottom" fmla="*/ 2160 h 1800"/>
                  </a:gdLst>
                  <a:ahLst/>
                  <a:rect l="textAreaLeft" t="textAreaTop" r="textAreaRight" b="textAreaBottom"/>
                  <a:pathLst>
                    <a:path w="17" h="9">
                      <a:moveTo>
                        <a:pt x="17" y="0"/>
                      </a:moveTo>
                      <a:lnTo>
                        <a:pt x="9" y="0"/>
                      </a:lnTo>
                      <a:lnTo>
                        <a:pt x="0" y="0"/>
                      </a:lnTo>
                      <a:lnTo>
                        <a:pt x="0" y="9"/>
                      </a:lnTo>
                      <a:lnTo>
                        <a:pt x="9" y="9"/>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4" name="Freeform 71"/>
                <p:cNvSpPr/>
                <p:nvPr/>
              </p:nvSpPr>
              <p:spPr>
                <a:xfrm flipH="1">
                  <a:off x="-46440" y="195516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9"/>
                      </a:lnTo>
                      <a:lnTo>
                        <a:pt x="9" y="0"/>
                      </a:lnTo>
                      <a:lnTo>
                        <a:pt x="0" y="0"/>
                      </a:lnTo>
                      <a:lnTo>
                        <a:pt x="0" y="9"/>
                      </a:lnTo>
                      <a:lnTo>
                        <a:pt x="0" y="17"/>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5" name="Freeform 70"/>
                <p:cNvSpPr/>
                <p:nvPr/>
              </p:nvSpPr>
              <p:spPr>
                <a:xfrm flipH="1">
                  <a:off x="-35640" y="19364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17" y="0"/>
                      </a:lnTo>
                      <a:lnTo>
                        <a:pt x="9" y="0"/>
                      </a:lnTo>
                      <a:lnTo>
                        <a:pt x="0" y="8"/>
                      </a:lnTo>
                      <a:lnTo>
                        <a:pt x="0" y="17"/>
                      </a:lnTo>
                      <a:lnTo>
                        <a:pt x="9"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6" name="Freeform 69"/>
                <p:cNvSpPr/>
                <p:nvPr/>
              </p:nvSpPr>
              <p:spPr>
                <a:xfrm flipH="1">
                  <a:off x="-41760" y="196200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9" y="0"/>
                      </a:lnTo>
                      <a:lnTo>
                        <a:pt x="0" y="0"/>
                      </a:lnTo>
                      <a:lnTo>
                        <a:pt x="0" y="9"/>
                      </a:lnTo>
                      <a:lnTo>
                        <a:pt x="0" y="17"/>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7" name="Freeform 68"/>
                <p:cNvSpPr/>
                <p:nvPr/>
              </p:nvSpPr>
              <p:spPr>
                <a:xfrm flipH="1">
                  <a:off x="-51480" y="196380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6">
                      <a:moveTo>
                        <a:pt x="17" y="8"/>
                      </a:moveTo>
                      <a:lnTo>
                        <a:pt x="17" y="0"/>
                      </a:lnTo>
                      <a:lnTo>
                        <a:pt x="8" y="0"/>
                      </a:lnTo>
                      <a:lnTo>
                        <a:pt x="0" y="8"/>
                      </a:lnTo>
                      <a:lnTo>
                        <a:pt x="8" y="16"/>
                      </a:lnTo>
                      <a:lnTo>
                        <a:pt x="17" y="16"/>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Freeform 67"/>
                <p:cNvSpPr/>
                <p:nvPr/>
              </p:nvSpPr>
              <p:spPr>
                <a:xfrm flipH="1">
                  <a:off x="-30960" y="1929600"/>
                  <a:ext cx="2880" cy="1800"/>
                </a:xfrm>
                <a:custGeom>
                  <a:avLst/>
                  <a:gdLst>
                    <a:gd name="textAreaLeft" fmla="*/ -360 w 2880"/>
                    <a:gd name="textAreaRight" fmla="*/ 2880 w 2880"/>
                    <a:gd name="textAreaTop" fmla="*/ 0 h 1800"/>
                    <a:gd name="textAreaBottom" fmla="*/ 2160 h 1800"/>
                  </a:gdLst>
                  <a:ahLst/>
                  <a:rect l="textAreaLeft" t="textAreaTop" r="textAreaRight" b="textAreaBottom"/>
                  <a:pathLst>
                    <a:path w="17" h="9">
                      <a:moveTo>
                        <a:pt x="17" y="9"/>
                      </a:moveTo>
                      <a:lnTo>
                        <a:pt x="17" y="0"/>
                      </a:lnTo>
                      <a:lnTo>
                        <a:pt x="9" y="0"/>
                      </a:lnTo>
                      <a:lnTo>
                        <a:pt x="0" y="0"/>
                      </a:lnTo>
                      <a:lnTo>
                        <a:pt x="0" y="9"/>
                      </a:lnTo>
                      <a:lnTo>
                        <a:pt x="9" y="9"/>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Freeform 66"/>
                <p:cNvSpPr/>
                <p:nvPr/>
              </p:nvSpPr>
              <p:spPr>
                <a:xfrm flipH="1">
                  <a:off x="-40320" y="1929600"/>
                  <a:ext cx="1440" cy="3240"/>
                </a:xfrm>
                <a:custGeom>
                  <a:avLst/>
                  <a:gdLst>
                    <a:gd name="textAreaLeft" fmla="*/ -360 w 1440"/>
                    <a:gd name="textAreaRight" fmla="*/ 1440 w 1440"/>
                    <a:gd name="textAreaTop" fmla="*/ 0 h 3240"/>
                    <a:gd name="textAreaBottom" fmla="*/ 3600 h 3240"/>
                  </a:gdLst>
                  <a:ahLst/>
                  <a:rect l="textAreaLeft" t="textAreaTop" r="textAreaRight" b="textAreaBottom"/>
                  <a:pathLst>
                    <a:path w="9" h="17">
                      <a:moveTo>
                        <a:pt x="9" y="9"/>
                      </a:moveTo>
                      <a:lnTo>
                        <a:pt x="9" y="0"/>
                      </a:lnTo>
                      <a:lnTo>
                        <a:pt x="0" y="0"/>
                      </a:lnTo>
                      <a:lnTo>
                        <a:pt x="0" y="9"/>
                      </a:lnTo>
                      <a:lnTo>
                        <a:pt x="0" y="17"/>
                      </a:lnTo>
                      <a:lnTo>
                        <a:pt x="9" y="17"/>
                      </a:lnTo>
                      <a:lnTo>
                        <a:pt x="9"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Freeform 65"/>
                <p:cNvSpPr/>
                <p:nvPr/>
              </p:nvSpPr>
              <p:spPr>
                <a:xfrm flipH="1">
                  <a:off x="-51480" y="194652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8" y="0"/>
                      </a:lnTo>
                      <a:lnTo>
                        <a:pt x="0" y="9"/>
                      </a:lnTo>
                      <a:lnTo>
                        <a:pt x="0" y="17"/>
                      </a:lnTo>
                      <a:lnTo>
                        <a:pt x="8"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Freeform 64"/>
                <p:cNvSpPr/>
                <p:nvPr/>
              </p:nvSpPr>
              <p:spPr>
                <a:xfrm flipH="1">
                  <a:off x="-30960" y="194508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17" y="0"/>
                      </a:lnTo>
                      <a:lnTo>
                        <a:pt x="9" y="0"/>
                      </a:lnTo>
                      <a:lnTo>
                        <a:pt x="0" y="0"/>
                      </a:lnTo>
                      <a:lnTo>
                        <a:pt x="0" y="8"/>
                      </a:lnTo>
                      <a:lnTo>
                        <a:pt x="9"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2" name="Freeform 63"/>
                <p:cNvSpPr/>
                <p:nvPr/>
              </p:nvSpPr>
              <p:spPr>
                <a:xfrm flipH="1">
                  <a:off x="-66960" y="195876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9" y="0"/>
                      </a:lnTo>
                      <a:lnTo>
                        <a:pt x="0" y="0"/>
                      </a:lnTo>
                      <a:lnTo>
                        <a:pt x="0" y="9"/>
                      </a:lnTo>
                      <a:lnTo>
                        <a:pt x="0" y="17"/>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3" name="Freeform 62"/>
                <p:cNvSpPr/>
                <p:nvPr/>
              </p:nvSpPr>
              <p:spPr>
                <a:xfrm flipH="1">
                  <a:off x="-55800" y="19400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17" y="0"/>
                      </a:lnTo>
                      <a:lnTo>
                        <a:pt x="8" y="0"/>
                      </a:lnTo>
                      <a:lnTo>
                        <a:pt x="0" y="8"/>
                      </a:lnTo>
                      <a:lnTo>
                        <a:pt x="8" y="17"/>
                      </a:lnTo>
                      <a:lnTo>
                        <a:pt x="17"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4" name="Freeform 61"/>
                <p:cNvSpPr/>
                <p:nvPr/>
              </p:nvSpPr>
              <p:spPr>
                <a:xfrm flipH="1">
                  <a:off x="-66960" y="194148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9" y="0"/>
                      </a:lnTo>
                      <a:lnTo>
                        <a:pt x="0" y="0"/>
                      </a:lnTo>
                      <a:lnTo>
                        <a:pt x="0" y="9"/>
                      </a:lnTo>
                      <a:lnTo>
                        <a:pt x="9" y="17"/>
                      </a:lnTo>
                      <a:lnTo>
                        <a:pt x="9" y="9"/>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5" name="Freeform 60"/>
                <p:cNvSpPr/>
                <p:nvPr/>
              </p:nvSpPr>
              <p:spPr>
                <a:xfrm flipH="1">
                  <a:off x="-71640" y="195012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9" y="0"/>
                      </a:lnTo>
                      <a:lnTo>
                        <a:pt x="0" y="0"/>
                      </a:lnTo>
                      <a:lnTo>
                        <a:pt x="0" y="9"/>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6" name="Freeform 59"/>
                <p:cNvSpPr/>
                <p:nvPr/>
              </p:nvSpPr>
              <p:spPr>
                <a:xfrm flipH="1">
                  <a:off x="-76320" y="194148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9"/>
                      </a:lnTo>
                      <a:lnTo>
                        <a:pt x="8" y="9"/>
                      </a:lnTo>
                      <a:lnTo>
                        <a:pt x="8" y="0"/>
                      </a:lnTo>
                      <a:lnTo>
                        <a:pt x="8" y="9"/>
                      </a:lnTo>
                      <a:lnTo>
                        <a:pt x="0" y="9"/>
                      </a:lnTo>
                      <a:lnTo>
                        <a:pt x="0" y="17"/>
                      </a:lnTo>
                      <a:lnTo>
                        <a:pt x="8"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7" name="Freeform 58"/>
                <p:cNvSpPr/>
                <p:nvPr/>
              </p:nvSpPr>
              <p:spPr>
                <a:xfrm flipH="1">
                  <a:off x="-76320" y="196056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17" y="0"/>
                      </a:lnTo>
                      <a:lnTo>
                        <a:pt x="8" y="0"/>
                      </a:lnTo>
                      <a:lnTo>
                        <a:pt x="0" y="8"/>
                      </a:lnTo>
                      <a:lnTo>
                        <a:pt x="8" y="8"/>
                      </a:lnTo>
                      <a:lnTo>
                        <a:pt x="8"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Freeform 57"/>
                <p:cNvSpPr/>
                <p:nvPr/>
              </p:nvSpPr>
              <p:spPr>
                <a:xfrm flipH="1">
                  <a:off x="-56160" y="1956960"/>
                  <a:ext cx="1440" cy="3240"/>
                </a:xfrm>
                <a:custGeom>
                  <a:avLst/>
                  <a:gdLst>
                    <a:gd name="textAreaLeft" fmla="*/ -360 w 1440"/>
                    <a:gd name="textAreaRight" fmla="*/ 1440 w 1440"/>
                    <a:gd name="textAreaTop" fmla="*/ 0 h 3240"/>
                    <a:gd name="textAreaBottom" fmla="*/ 3600 h 3240"/>
                  </a:gdLst>
                  <a:ahLst/>
                  <a:rect l="textAreaLeft" t="textAreaTop" r="textAreaRight" b="textAreaBottom"/>
                  <a:pathLst>
                    <a:path w="9" h="17">
                      <a:moveTo>
                        <a:pt x="9" y="8"/>
                      </a:moveTo>
                      <a:lnTo>
                        <a:pt x="9" y="0"/>
                      </a:lnTo>
                      <a:lnTo>
                        <a:pt x="0" y="0"/>
                      </a:lnTo>
                      <a:lnTo>
                        <a:pt x="0" y="8"/>
                      </a:lnTo>
                      <a:lnTo>
                        <a:pt x="0" y="17"/>
                      </a:lnTo>
                      <a:lnTo>
                        <a:pt x="9" y="17"/>
                      </a:lnTo>
                      <a:lnTo>
                        <a:pt x="9"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9" name="Freeform 56"/>
                <p:cNvSpPr/>
                <p:nvPr/>
              </p:nvSpPr>
              <p:spPr>
                <a:xfrm flipH="1">
                  <a:off x="-71640" y="19346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9" y="0"/>
                      </a:lnTo>
                      <a:lnTo>
                        <a:pt x="0" y="0"/>
                      </a:lnTo>
                      <a:lnTo>
                        <a:pt x="0" y="9"/>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0" name="Freeform 55"/>
                <p:cNvSpPr/>
                <p:nvPr/>
              </p:nvSpPr>
              <p:spPr>
                <a:xfrm flipH="1">
                  <a:off x="-60840" y="1933200"/>
                  <a:ext cx="1440" cy="3240"/>
                </a:xfrm>
                <a:custGeom>
                  <a:avLst/>
                  <a:gdLst>
                    <a:gd name="textAreaLeft" fmla="*/ -360 w 1440"/>
                    <a:gd name="textAreaRight" fmla="*/ 1440 w 1440"/>
                    <a:gd name="textAreaTop" fmla="*/ 0 h 3240"/>
                    <a:gd name="textAreaBottom" fmla="*/ 3600 h 3240"/>
                  </a:gdLst>
                  <a:ahLst/>
                  <a:rect l="textAreaLeft" t="textAreaTop" r="textAreaRight" b="textAreaBottom"/>
                  <a:pathLst>
                    <a:path w="8" h="17">
                      <a:moveTo>
                        <a:pt x="8" y="8"/>
                      </a:moveTo>
                      <a:lnTo>
                        <a:pt x="8" y="0"/>
                      </a:lnTo>
                      <a:lnTo>
                        <a:pt x="0" y="0"/>
                      </a:lnTo>
                      <a:lnTo>
                        <a:pt x="0" y="8"/>
                      </a:lnTo>
                      <a:lnTo>
                        <a:pt x="8" y="17"/>
                      </a:lnTo>
                      <a:lnTo>
                        <a:pt x="8"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1" name="Freeform 54"/>
                <p:cNvSpPr/>
                <p:nvPr/>
              </p:nvSpPr>
              <p:spPr>
                <a:xfrm flipH="1">
                  <a:off x="-62280" y="196560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8" y="0"/>
                      </a:lnTo>
                      <a:lnTo>
                        <a:pt x="0" y="0"/>
                      </a:lnTo>
                      <a:lnTo>
                        <a:pt x="0" y="8"/>
                      </a:lnTo>
                      <a:lnTo>
                        <a:pt x="8" y="17"/>
                      </a:lnTo>
                      <a:lnTo>
                        <a:pt x="8" y="8"/>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2" name="Freeform 53"/>
                <p:cNvSpPr/>
                <p:nvPr/>
              </p:nvSpPr>
              <p:spPr>
                <a:xfrm flipH="1">
                  <a:off x="-62280" y="194868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8" y="0"/>
                      </a:lnTo>
                      <a:lnTo>
                        <a:pt x="0" y="0"/>
                      </a:lnTo>
                      <a:lnTo>
                        <a:pt x="0" y="8"/>
                      </a:lnTo>
                      <a:lnTo>
                        <a:pt x="0" y="17"/>
                      </a:lnTo>
                      <a:lnTo>
                        <a:pt x="8"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3" name="Freeform 52"/>
                <p:cNvSpPr/>
                <p:nvPr/>
              </p:nvSpPr>
              <p:spPr>
                <a:xfrm flipH="1">
                  <a:off x="-71640" y="19670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9" y="0"/>
                      </a:lnTo>
                      <a:lnTo>
                        <a:pt x="0" y="0"/>
                      </a:lnTo>
                      <a:lnTo>
                        <a:pt x="0" y="9"/>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4" name="Freeform 51"/>
                <p:cNvSpPr/>
                <p:nvPr/>
              </p:nvSpPr>
              <p:spPr>
                <a:xfrm flipH="1">
                  <a:off x="-85680" y="1943280"/>
                  <a:ext cx="1440" cy="2880"/>
                </a:xfrm>
                <a:custGeom>
                  <a:avLst/>
                  <a:gdLst>
                    <a:gd name="textAreaLeft" fmla="*/ -360 w 1440"/>
                    <a:gd name="textAreaRight" fmla="*/ 1440 w 1440"/>
                    <a:gd name="textAreaTop" fmla="*/ 0 h 2880"/>
                    <a:gd name="textAreaBottom" fmla="*/ 3240 h 2880"/>
                  </a:gdLst>
                  <a:ahLst/>
                  <a:rect l="textAreaLeft" t="textAreaTop" r="textAreaRight" b="textAreaBottom"/>
                  <a:pathLst>
                    <a:path w="8" h="16">
                      <a:moveTo>
                        <a:pt x="8" y="8"/>
                      </a:moveTo>
                      <a:lnTo>
                        <a:pt x="8" y="8"/>
                      </a:lnTo>
                      <a:lnTo>
                        <a:pt x="8" y="0"/>
                      </a:lnTo>
                      <a:lnTo>
                        <a:pt x="0" y="0"/>
                      </a:lnTo>
                      <a:lnTo>
                        <a:pt x="0" y="8"/>
                      </a:lnTo>
                      <a:lnTo>
                        <a:pt x="0" y="16"/>
                      </a:lnTo>
                      <a:lnTo>
                        <a:pt x="8" y="16"/>
                      </a:lnTo>
                      <a:lnTo>
                        <a:pt x="8" y="8"/>
                      </a:lnTo>
                      <a:close/>
                    </a:path>
                  </a:pathLst>
                </a:custGeom>
                <a:solidFill>
                  <a:srgbClr val="ffffff"/>
                </a:solidFill>
                <a:ln w="5040">
                  <a:solidFill>
                    <a:srgbClr val="000000"/>
                  </a:solidFill>
                  <a:round/>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5" name="Freeform 50"/>
                <p:cNvSpPr/>
                <p:nvPr/>
              </p:nvSpPr>
              <p:spPr>
                <a:xfrm flipH="1">
                  <a:off x="-82440" y="1951920"/>
                  <a:ext cx="2880" cy="2880"/>
                </a:xfrm>
                <a:custGeom>
                  <a:avLst/>
                  <a:gdLst>
                    <a:gd name="textAreaLeft" fmla="*/ -360 w 2880"/>
                    <a:gd name="textAreaRight" fmla="*/ 2880 w 2880"/>
                    <a:gd name="textAreaTop" fmla="*/ 0 h 2880"/>
                    <a:gd name="textAreaBottom" fmla="*/ 3240 h 2880"/>
                  </a:gdLst>
                  <a:ahLst/>
                  <a:rect l="textAreaLeft" t="textAreaTop" r="textAreaRight" b="textAreaBottom"/>
                  <a:pathLst>
                    <a:path w="17" h="16">
                      <a:moveTo>
                        <a:pt x="17" y="8"/>
                      </a:moveTo>
                      <a:lnTo>
                        <a:pt x="9" y="0"/>
                      </a:lnTo>
                      <a:lnTo>
                        <a:pt x="0" y="0"/>
                      </a:lnTo>
                      <a:lnTo>
                        <a:pt x="0" y="8"/>
                      </a:lnTo>
                      <a:lnTo>
                        <a:pt x="9" y="16"/>
                      </a:lnTo>
                      <a:lnTo>
                        <a:pt x="9" y="8"/>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6" name="Freeform 49"/>
                <p:cNvSpPr/>
                <p:nvPr/>
              </p:nvSpPr>
              <p:spPr>
                <a:xfrm flipH="1">
                  <a:off x="-87120" y="196056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17" y="8"/>
                      </a:lnTo>
                      <a:lnTo>
                        <a:pt x="8" y="8"/>
                      </a:lnTo>
                      <a:lnTo>
                        <a:pt x="8" y="0"/>
                      </a:lnTo>
                      <a:lnTo>
                        <a:pt x="0" y="8"/>
                      </a:lnTo>
                      <a:lnTo>
                        <a:pt x="0" y="17"/>
                      </a:lnTo>
                      <a:lnTo>
                        <a:pt x="8" y="17"/>
                      </a:lnTo>
                      <a:lnTo>
                        <a:pt x="17"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7" name="Freeform 48"/>
                <p:cNvSpPr/>
                <p:nvPr/>
              </p:nvSpPr>
              <p:spPr>
                <a:xfrm flipH="1">
                  <a:off x="-98280" y="196200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9"/>
                      </a:lnTo>
                      <a:lnTo>
                        <a:pt x="8" y="0"/>
                      </a:lnTo>
                      <a:lnTo>
                        <a:pt x="0" y="0"/>
                      </a:lnTo>
                      <a:lnTo>
                        <a:pt x="0" y="9"/>
                      </a:lnTo>
                      <a:lnTo>
                        <a:pt x="0" y="17"/>
                      </a:lnTo>
                      <a:lnTo>
                        <a:pt x="8"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8" name="Freeform 47"/>
                <p:cNvSpPr/>
                <p:nvPr/>
              </p:nvSpPr>
              <p:spPr>
                <a:xfrm flipH="1">
                  <a:off x="-96840" y="1945080"/>
                  <a:ext cx="1440" cy="3240"/>
                </a:xfrm>
                <a:custGeom>
                  <a:avLst/>
                  <a:gdLst>
                    <a:gd name="textAreaLeft" fmla="*/ -360 w 1440"/>
                    <a:gd name="textAreaRight" fmla="*/ 1440 w 1440"/>
                    <a:gd name="textAreaTop" fmla="*/ 0 h 3240"/>
                    <a:gd name="textAreaBottom" fmla="*/ 3600 h 3240"/>
                  </a:gdLst>
                  <a:ahLst/>
                  <a:rect l="textAreaLeft" t="textAreaTop" r="textAreaRight" b="textAreaBottom"/>
                  <a:pathLst>
                    <a:path w="8" h="17">
                      <a:moveTo>
                        <a:pt x="8" y="8"/>
                      </a:moveTo>
                      <a:lnTo>
                        <a:pt x="8" y="0"/>
                      </a:lnTo>
                      <a:lnTo>
                        <a:pt x="0" y="0"/>
                      </a:lnTo>
                      <a:lnTo>
                        <a:pt x="0" y="8"/>
                      </a:lnTo>
                      <a:lnTo>
                        <a:pt x="0" y="17"/>
                      </a:lnTo>
                      <a:lnTo>
                        <a:pt x="8" y="17"/>
                      </a:lnTo>
                      <a:lnTo>
                        <a:pt x="8"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9" name="Freeform 46"/>
                <p:cNvSpPr/>
                <p:nvPr/>
              </p:nvSpPr>
              <p:spPr>
                <a:xfrm flipH="1">
                  <a:off x="-82440" y="1968840"/>
                  <a:ext cx="2880" cy="1440"/>
                </a:xfrm>
                <a:custGeom>
                  <a:avLst/>
                  <a:gdLst>
                    <a:gd name="textAreaLeft" fmla="*/ -360 w 2880"/>
                    <a:gd name="textAreaRight" fmla="*/ 2880 w 2880"/>
                    <a:gd name="textAreaTop" fmla="*/ 0 h 1440"/>
                    <a:gd name="textAreaBottom" fmla="*/ 1800 h 1440"/>
                  </a:gdLst>
                  <a:ahLst/>
                  <a:rect l="textAreaLeft" t="textAreaTop" r="textAreaRight" b="textAreaBottom"/>
                  <a:pathLst>
                    <a:path w="17" h="8">
                      <a:moveTo>
                        <a:pt x="17" y="0"/>
                      </a:moveTo>
                      <a:lnTo>
                        <a:pt x="9" y="0"/>
                      </a:lnTo>
                      <a:lnTo>
                        <a:pt x="0" y="0"/>
                      </a:lnTo>
                      <a:lnTo>
                        <a:pt x="0" y="8"/>
                      </a:lnTo>
                      <a:lnTo>
                        <a:pt x="9" y="8"/>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0" name="Freeform 45"/>
                <p:cNvSpPr/>
                <p:nvPr/>
              </p:nvSpPr>
              <p:spPr>
                <a:xfrm flipH="1">
                  <a:off x="-93240" y="19688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9" y="0"/>
                      </a:lnTo>
                      <a:lnTo>
                        <a:pt x="0" y="0"/>
                      </a:lnTo>
                      <a:lnTo>
                        <a:pt x="0" y="8"/>
                      </a:lnTo>
                      <a:lnTo>
                        <a:pt x="0" y="17"/>
                      </a:lnTo>
                      <a:lnTo>
                        <a:pt x="9"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1" name="Freeform 44"/>
                <p:cNvSpPr/>
                <p:nvPr/>
              </p:nvSpPr>
              <p:spPr>
                <a:xfrm flipH="1">
                  <a:off x="-81000" y="1936440"/>
                  <a:ext cx="1440" cy="1440"/>
                </a:xfrm>
                <a:custGeom>
                  <a:avLst/>
                  <a:gdLst>
                    <a:gd name="textAreaLeft" fmla="*/ -360 w 1440"/>
                    <a:gd name="textAreaRight" fmla="*/ 1440 w 1440"/>
                    <a:gd name="textAreaTop" fmla="*/ 0 h 1440"/>
                    <a:gd name="textAreaBottom" fmla="*/ 1800 h 1440"/>
                  </a:gdLst>
                  <a:ahLst/>
                  <a:rect l="textAreaLeft" t="textAreaTop" r="textAreaRight" b="textAreaBottom"/>
                  <a:pathLst>
                    <a:path w="9" h="8">
                      <a:moveTo>
                        <a:pt x="9" y="0"/>
                      </a:moveTo>
                      <a:lnTo>
                        <a:pt x="9" y="0"/>
                      </a:lnTo>
                      <a:lnTo>
                        <a:pt x="0" y="0"/>
                      </a:lnTo>
                      <a:lnTo>
                        <a:pt x="0" y="8"/>
                      </a:lnTo>
                      <a:lnTo>
                        <a:pt x="9" y="8"/>
                      </a:lnTo>
                      <a:lnTo>
                        <a:pt x="9" y="0"/>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Freeform 43"/>
                <p:cNvSpPr/>
                <p:nvPr/>
              </p:nvSpPr>
              <p:spPr>
                <a:xfrm flipH="1">
                  <a:off x="-91800" y="1936440"/>
                  <a:ext cx="1440" cy="3240"/>
                </a:xfrm>
                <a:custGeom>
                  <a:avLst/>
                  <a:gdLst>
                    <a:gd name="textAreaLeft" fmla="*/ -360 w 1440"/>
                    <a:gd name="textAreaRight" fmla="*/ 1440 w 1440"/>
                    <a:gd name="textAreaTop" fmla="*/ 0 h 3240"/>
                    <a:gd name="textAreaBottom" fmla="*/ 3600 h 3240"/>
                  </a:gdLst>
                  <a:ahLst/>
                  <a:rect l="textAreaLeft" t="textAreaTop" r="textAreaRight" b="textAreaBottom"/>
                  <a:pathLst>
                    <a:path w="9" h="17">
                      <a:moveTo>
                        <a:pt x="9" y="8"/>
                      </a:moveTo>
                      <a:lnTo>
                        <a:pt x="9" y="0"/>
                      </a:lnTo>
                      <a:lnTo>
                        <a:pt x="0" y="0"/>
                      </a:lnTo>
                      <a:lnTo>
                        <a:pt x="0" y="8"/>
                      </a:lnTo>
                      <a:lnTo>
                        <a:pt x="0" y="17"/>
                      </a:lnTo>
                      <a:lnTo>
                        <a:pt x="9" y="17"/>
                      </a:lnTo>
                      <a:lnTo>
                        <a:pt x="9"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3" name="Freeform 42"/>
                <p:cNvSpPr/>
                <p:nvPr/>
              </p:nvSpPr>
              <p:spPr>
                <a:xfrm flipH="1">
                  <a:off x="-93240" y="1953720"/>
                  <a:ext cx="2880" cy="1440"/>
                </a:xfrm>
                <a:custGeom>
                  <a:avLst/>
                  <a:gdLst>
                    <a:gd name="textAreaLeft" fmla="*/ -360 w 2880"/>
                    <a:gd name="textAreaRight" fmla="*/ 2880 w 2880"/>
                    <a:gd name="textAreaTop" fmla="*/ 0 h 1440"/>
                    <a:gd name="textAreaBottom" fmla="*/ 1800 h 1440"/>
                  </a:gdLst>
                  <a:ahLst/>
                  <a:rect l="textAreaLeft" t="textAreaTop" r="textAreaRight" b="textAreaBottom"/>
                  <a:pathLst>
                    <a:path w="17" h="8">
                      <a:moveTo>
                        <a:pt x="17" y="0"/>
                      </a:moveTo>
                      <a:lnTo>
                        <a:pt x="9" y="0"/>
                      </a:lnTo>
                      <a:lnTo>
                        <a:pt x="0" y="0"/>
                      </a:lnTo>
                      <a:lnTo>
                        <a:pt x="0" y="8"/>
                      </a:lnTo>
                      <a:lnTo>
                        <a:pt x="9" y="8"/>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Freeform 41"/>
                <p:cNvSpPr/>
                <p:nvPr/>
              </p:nvSpPr>
              <p:spPr>
                <a:xfrm flipH="1">
                  <a:off x="-107640" y="196380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6">
                      <a:moveTo>
                        <a:pt x="17" y="8"/>
                      </a:moveTo>
                      <a:lnTo>
                        <a:pt x="17" y="8"/>
                      </a:lnTo>
                      <a:lnTo>
                        <a:pt x="17" y="0"/>
                      </a:lnTo>
                      <a:lnTo>
                        <a:pt x="9" y="0"/>
                      </a:lnTo>
                      <a:lnTo>
                        <a:pt x="0" y="8"/>
                      </a:lnTo>
                      <a:lnTo>
                        <a:pt x="9" y="16"/>
                      </a:lnTo>
                      <a:lnTo>
                        <a:pt x="17" y="16"/>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Freeform 40"/>
                <p:cNvSpPr/>
                <p:nvPr/>
              </p:nvSpPr>
              <p:spPr>
                <a:xfrm flipH="1">
                  <a:off x="-102960" y="195372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17" y="8"/>
                      </a:lnTo>
                      <a:lnTo>
                        <a:pt x="17" y="0"/>
                      </a:lnTo>
                      <a:lnTo>
                        <a:pt x="9" y="0"/>
                      </a:lnTo>
                      <a:lnTo>
                        <a:pt x="0" y="8"/>
                      </a:lnTo>
                      <a:lnTo>
                        <a:pt x="0" y="17"/>
                      </a:lnTo>
                      <a:lnTo>
                        <a:pt x="9" y="17"/>
                      </a:lnTo>
                      <a:lnTo>
                        <a:pt x="17"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6" name="Freeform 39"/>
                <p:cNvSpPr/>
                <p:nvPr/>
              </p:nvSpPr>
              <p:spPr>
                <a:xfrm flipH="1">
                  <a:off x="-107640" y="194652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9" y="0"/>
                      </a:lnTo>
                      <a:lnTo>
                        <a:pt x="0" y="0"/>
                      </a:lnTo>
                      <a:lnTo>
                        <a:pt x="0" y="9"/>
                      </a:lnTo>
                      <a:lnTo>
                        <a:pt x="9" y="17"/>
                      </a:lnTo>
                      <a:lnTo>
                        <a:pt x="9" y="9"/>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Freeform 38"/>
                <p:cNvSpPr/>
                <p:nvPr/>
              </p:nvSpPr>
              <p:spPr>
                <a:xfrm flipH="1">
                  <a:off x="-117000" y="1946520"/>
                  <a:ext cx="1440" cy="3240"/>
                </a:xfrm>
                <a:custGeom>
                  <a:avLst/>
                  <a:gdLst>
                    <a:gd name="textAreaLeft" fmla="*/ -360 w 1440"/>
                    <a:gd name="textAreaRight" fmla="*/ 1440 w 1440"/>
                    <a:gd name="textAreaTop" fmla="*/ 0 h 3240"/>
                    <a:gd name="textAreaBottom" fmla="*/ 3600 h 3240"/>
                  </a:gdLst>
                  <a:ahLst/>
                  <a:rect l="textAreaLeft" t="textAreaTop" r="textAreaRight" b="textAreaBottom"/>
                  <a:pathLst>
                    <a:path w="9" h="17">
                      <a:moveTo>
                        <a:pt x="9" y="9"/>
                      </a:moveTo>
                      <a:lnTo>
                        <a:pt x="9" y="9"/>
                      </a:lnTo>
                      <a:lnTo>
                        <a:pt x="0" y="0"/>
                      </a:lnTo>
                      <a:lnTo>
                        <a:pt x="0" y="9"/>
                      </a:lnTo>
                      <a:lnTo>
                        <a:pt x="0" y="17"/>
                      </a:lnTo>
                      <a:lnTo>
                        <a:pt x="9" y="17"/>
                      </a:lnTo>
                      <a:lnTo>
                        <a:pt x="9"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Freeform 37"/>
                <p:cNvSpPr/>
                <p:nvPr/>
              </p:nvSpPr>
              <p:spPr>
                <a:xfrm flipH="1">
                  <a:off x="-112320" y="1972440"/>
                  <a:ext cx="1440" cy="3240"/>
                </a:xfrm>
                <a:custGeom>
                  <a:avLst/>
                  <a:gdLst>
                    <a:gd name="textAreaLeft" fmla="*/ -360 w 1440"/>
                    <a:gd name="textAreaRight" fmla="*/ 1440 w 1440"/>
                    <a:gd name="textAreaTop" fmla="*/ 0 h 3240"/>
                    <a:gd name="textAreaBottom" fmla="*/ 3600 h 3240"/>
                  </a:gdLst>
                  <a:ahLst/>
                  <a:rect l="textAreaLeft" t="textAreaTop" r="textAreaRight" b="textAreaBottom"/>
                  <a:pathLst>
                    <a:path w="9" h="16">
                      <a:moveTo>
                        <a:pt x="9" y="8"/>
                      </a:moveTo>
                      <a:lnTo>
                        <a:pt x="9" y="0"/>
                      </a:lnTo>
                      <a:lnTo>
                        <a:pt x="0" y="0"/>
                      </a:lnTo>
                      <a:lnTo>
                        <a:pt x="0" y="8"/>
                      </a:lnTo>
                      <a:lnTo>
                        <a:pt x="0" y="16"/>
                      </a:lnTo>
                      <a:lnTo>
                        <a:pt x="9"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Freeform 36"/>
                <p:cNvSpPr/>
                <p:nvPr/>
              </p:nvSpPr>
              <p:spPr>
                <a:xfrm flipH="1">
                  <a:off x="-102960" y="19706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9" y="0"/>
                      </a:lnTo>
                      <a:lnTo>
                        <a:pt x="0" y="0"/>
                      </a:lnTo>
                      <a:lnTo>
                        <a:pt x="0" y="9"/>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0" name="Freeform 35"/>
                <p:cNvSpPr/>
                <p:nvPr/>
              </p:nvSpPr>
              <p:spPr>
                <a:xfrm flipH="1">
                  <a:off x="-112320" y="1955160"/>
                  <a:ext cx="1440" cy="3240"/>
                </a:xfrm>
                <a:custGeom>
                  <a:avLst/>
                  <a:gdLst>
                    <a:gd name="textAreaLeft" fmla="*/ -360 w 1440"/>
                    <a:gd name="textAreaRight" fmla="*/ 1440 w 1440"/>
                    <a:gd name="textAreaTop" fmla="*/ 0 h 3240"/>
                    <a:gd name="textAreaBottom" fmla="*/ 3600 h 3240"/>
                  </a:gdLst>
                  <a:ahLst/>
                  <a:rect l="textAreaLeft" t="textAreaTop" r="textAreaRight" b="textAreaBottom"/>
                  <a:pathLst>
                    <a:path w="9" h="17">
                      <a:moveTo>
                        <a:pt x="9" y="9"/>
                      </a:moveTo>
                      <a:lnTo>
                        <a:pt x="9" y="0"/>
                      </a:lnTo>
                      <a:lnTo>
                        <a:pt x="0" y="0"/>
                      </a:lnTo>
                      <a:lnTo>
                        <a:pt x="0" y="9"/>
                      </a:lnTo>
                      <a:lnTo>
                        <a:pt x="0" y="17"/>
                      </a:lnTo>
                      <a:lnTo>
                        <a:pt x="9"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Freeform 34"/>
                <p:cNvSpPr/>
                <p:nvPr/>
              </p:nvSpPr>
              <p:spPr>
                <a:xfrm flipH="1">
                  <a:off x="-118440" y="196560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9" y="0"/>
                      </a:lnTo>
                      <a:lnTo>
                        <a:pt x="0" y="0"/>
                      </a:lnTo>
                      <a:lnTo>
                        <a:pt x="0" y="8"/>
                      </a:lnTo>
                      <a:lnTo>
                        <a:pt x="0" y="17"/>
                      </a:lnTo>
                      <a:lnTo>
                        <a:pt x="9"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Freeform 33"/>
                <p:cNvSpPr/>
                <p:nvPr/>
              </p:nvSpPr>
              <p:spPr>
                <a:xfrm flipH="1">
                  <a:off x="-112320" y="1940040"/>
                  <a:ext cx="1440" cy="3240"/>
                </a:xfrm>
                <a:custGeom>
                  <a:avLst/>
                  <a:gdLst>
                    <a:gd name="textAreaLeft" fmla="*/ -360 w 1440"/>
                    <a:gd name="textAreaRight" fmla="*/ 1440 w 1440"/>
                    <a:gd name="textAreaTop" fmla="*/ 0 h 3240"/>
                    <a:gd name="textAreaBottom" fmla="*/ 3600 h 3240"/>
                  </a:gdLst>
                  <a:ahLst/>
                  <a:rect l="textAreaLeft" t="textAreaTop" r="textAreaRight" b="textAreaBottom"/>
                  <a:pathLst>
                    <a:path w="9" h="17">
                      <a:moveTo>
                        <a:pt x="9" y="8"/>
                      </a:moveTo>
                      <a:lnTo>
                        <a:pt x="9" y="0"/>
                      </a:lnTo>
                      <a:lnTo>
                        <a:pt x="0" y="0"/>
                      </a:lnTo>
                      <a:lnTo>
                        <a:pt x="0" y="8"/>
                      </a:lnTo>
                      <a:lnTo>
                        <a:pt x="0" y="17"/>
                      </a:lnTo>
                      <a:lnTo>
                        <a:pt x="9"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3" name="Freeform 32"/>
                <p:cNvSpPr/>
                <p:nvPr/>
              </p:nvSpPr>
              <p:spPr>
                <a:xfrm flipH="1">
                  <a:off x="-102960" y="19382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9" y="0"/>
                      </a:lnTo>
                      <a:lnTo>
                        <a:pt x="0" y="0"/>
                      </a:lnTo>
                      <a:lnTo>
                        <a:pt x="0" y="9"/>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Freeform 31"/>
                <p:cNvSpPr/>
                <p:nvPr/>
              </p:nvSpPr>
              <p:spPr>
                <a:xfrm flipH="1">
                  <a:off x="-127440" y="1967040"/>
                  <a:ext cx="2880" cy="1440"/>
                </a:xfrm>
                <a:custGeom>
                  <a:avLst/>
                  <a:gdLst>
                    <a:gd name="textAreaLeft" fmla="*/ -360 w 2880"/>
                    <a:gd name="textAreaRight" fmla="*/ 2880 w 2880"/>
                    <a:gd name="textAreaTop" fmla="*/ 0 h 1440"/>
                    <a:gd name="textAreaBottom" fmla="*/ 1800 h 1440"/>
                  </a:gdLst>
                  <a:ahLst/>
                  <a:rect l="textAreaLeft" t="textAreaTop" r="textAreaRight" b="textAreaBottom"/>
                  <a:pathLst>
                    <a:path w="17" h="9">
                      <a:moveTo>
                        <a:pt x="17" y="9"/>
                      </a:moveTo>
                      <a:lnTo>
                        <a:pt x="17" y="0"/>
                      </a:lnTo>
                      <a:lnTo>
                        <a:pt x="9" y="0"/>
                      </a:lnTo>
                      <a:lnTo>
                        <a:pt x="0" y="0"/>
                      </a:lnTo>
                      <a:lnTo>
                        <a:pt x="0" y="9"/>
                      </a:lnTo>
                      <a:lnTo>
                        <a:pt x="9" y="9"/>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5" name="Freeform 30"/>
                <p:cNvSpPr/>
                <p:nvPr/>
              </p:nvSpPr>
              <p:spPr>
                <a:xfrm flipH="1">
                  <a:off x="-138600" y="19670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9"/>
                      </a:lnTo>
                      <a:lnTo>
                        <a:pt x="9" y="9"/>
                      </a:lnTo>
                      <a:lnTo>
                        <a:pt x="9" y="0"/>
                      </a:lnTo>
                      <a:lnTo>
                        <a:pt x="0" y="9"/>
                      </a:lnTo>
                      <a:lnTo>
                        <a:pt x="0" y="17"/>
                      </a:lnTo>
                      <a:lnTo>
                        <a:pt x="9"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6" name="Freeform 29"/>
                <p:cNvSpPr/>
                <p:nvPr/>
              </p:nvSpPr>
              <p:spPr>
                <a:xfrm flipH="1">
                  <a:off x="-133920" y="195876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8" y="0"/>
                      </a:lnTo>
                      <a:lnTo>
                        <a:pt x="0" y="0"/>
                      </a:lnTo>
                      <a:lnTo>
                        <a:pt x="0" y="9"/>
                      </a:lnTo>
                      <a:lnTo>
                        <a:pt x="8" y="17"/>
                      </a:lnTo>
                      <a:lnTo>
                        <a:pt x="8" y="9"/>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7" name="Freeform 28"/>
                <p:cNvSpPr/>
                <p:nvPr/>
              </p:nvSpPr>
              <p:spPr>
                <a:xfrm flipH="1">
                  <a:off x="-127440" y="194868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17" y="8"/>
                      </a:lnTo>
                      <a:lnTo>
                        <a:pt x="9" y="0"/>
                      </a:lnTo>
                      <a:lnTo>
                        <a:pt x="0" y="8"/>
                      </a:lnTo>
                      <a:lnTo>
                        <a:pt x="0" y="17"/>
                      </a:lnTo>
                      <a:lnTo>
                        <a:pt x="9" y="17"/>
                      </a:lnTo>
                      <a:lnTo>
                        <a:pt x="17"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8" name="Freeform 27"/>
                <p:cNvSpPr/>
                <p:nvPr/>
              </p:nvSpPr>
              <p:spPr>
                <a:xfrm flipH="1">
                  <a:off x="-137160" y="1950120"/>
                  <a:ext cx="1440" cy="3240"/>
                </a:xfrm>
                <a:custGeom>
                  <a:avLst/>
                  <a:gdLst>
                    <a:gd name="textAreaLeft" fmla="*/ -360 w 1440"/>
                    <a:gd name="textAreaRight" fmla="*/ 1440 w 1440"/>
                    <a:gd name="textAreaTop" fmla="*/ 0 h 3240"/>
                    <a:gd name="textAreaBottom" fmla="*/ 3600 h 3240"/>
                  </a:gdLst>
                  <a:ahLst/>
                  <a:rect l="textAreaLeft" t="textAreaTop" r="textAreaRight" b="textAreaBottom"/>
                  <a:pathLst>
                    <a:path w="9" h="17">
                      <a:moveTo>
                        <a:pt x="9" y="9"/>
                      </a:moveTo>
                      <a:lnTo>
                        <a:pt x="9" y="0"/>
                      </a:lnTo>
                      <a:lnTo>
                        <a:pt x="0" y="0"/>
                      </a:lnTo>
                      <a:lnTo>
                        <a:pt x="0" y="9"/>
                      </a:lnTo>
                      <a:lnTo>
                        <a:pt x="0" y="17"/>
                      </a:lnTo>
                      <a:lnTo>
                        <a:pt x="9" y="17"/>
                      </a:lnTo>
                      <a:lnTo>
                        <a:pt x="9"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9" name="Freeform 26"/>
                <p:cNvSpPr/>
                <p:nvPr/>
              </p:nvSpPr>
              <p:spPr>
                <a:xfrm flipH="1">
                  <a:off x="-122760" y="1974240"/>
                  <a:ext cx="2880" cy="1440"/>
                </a:xfrm>
                <a:custGeom>
                  <a:avLst/>
                  <a:gdLst>
                    <a:gd name="textAreaLeft" fmla="*/ -360 w 2880"/>
                    <a:gd name="textAreaRight" fmla="*/ 2880 w 2880"/>
                    <a:gd name="textAreaTop" fmla="*/ 0 h 1440"/>
                    <a:gd name="textAreaBottom" fmla="*/ 1800 h 1440"/>
                  </a:gdLst>
                  <a:ahLst/>
                  <a:rect l="textAreaLeft" t="textAreaTop" r="textAreaRight" b="textAreaBottom"/>
                  <a:pathLst>
                    <a:path w="17" h="8">
                      <a:moveTo>
                        <a:pt x="17" y="0"/>
                      </a:moveTo>
                      <a:lnTo>
                        <a:pt x="8" y="0"/>
                      </a:lnTo>
                      <a:lnTo>
                        <a:pt x="0" y="0"/>
                      </a:lnTo>
                      <a:lnTo>
                        <a:pt x="0" y="8"/>
                      </a:lnTo>
                      <a:lnTo>
                        <a:pt x="8" y="8"/>
                      </a:lnTo>
                      <a:lnTo>
                        <a:pt x="17" y="8"/>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0" name="Freeform 25"/>
                <p:cNvSpPr/>
                <p:nvPr/>
              </p:nvSpPr>
              <p:spPr>
                <a:xfrm flipH="1">
                  <a:off x="-132480" y="1943280"/>
                  <a:ext cx="1440" cy="1440"/>
                </a:xfrm>
                <a:custGeom>
                  <a:avLst/>
                  <a:gdLst>
                    <a:gd name="textAreaLeft" fmla="*/ -360 w 1440"/>
                    <a:gd name="textAreaRight" fmla="*/ 1440 w 1440"/>
                    <a:gd name="textAreaTop" fmla="*/ 0 h 1440"/>
                    <a:gd name="textAreaBottom" fmla="*/ 1800 h 1440"/>
                  </a:gdLst>
                  <a:ahLst/>
                  <a:rect l="textAreaLeft" t="textAreaTop" r="textAreaRight" b="textAreaBottom"/>
                  <a:pathLst>
                    <a:path w="8" h="8">
                      <a:moveTo>
                        <a:pt x="8" y="0"/>
                      </a:moveTo>
                      <a:lnTo>
                        <a:pt x="8" y="0"/>
                      </a:lnTo>
                      <a:lnTo>
                        <a:pt x="0" y="0"/>
                      </a:lnTo>
                      <a:lnTo>
                        <a:pt x="0" y="8"/>
                      </a:lnTo>
                      <a:lnTo>
                        <a:pt x="8" y="8"/>
                      </a:lnTo>
                      <a:lnTo>
                        <a:pt x="8" y="0"/>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1" name="Freeform 24"/>
                <p:cNvSpPr/>
                <p:nvPr/>
              </p:nvSpPr>
              <p:spPr>
                <a:xfrm flipH="1">
                  <a:off x="-122760" y="194148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8" y="0"/>
                      </a:lnTo>
                      <a:lnTo>
                        <a:pt x="0" y="0"/>
                      </a:lnTo>
                      <a:lnTo>
                        <a:pt x="0" y="9"/>
                      </a:lnTo>
                      <a:lnTo>
                        <a:pt x="8"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2" name="Freeform 23"/>
                <p:cNvSpPr/>
                <p:nvPr/>
              </p:nvSpPr>
              <p:spPr>
                <a:xfrm flipH="1">
                  <a:off x="-122760" y="195696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8" y="0"/>
                      </a:lnTo>
                      <a:lnTo>
                        <a:pt x="0" y="0"/>
                      </a:lnTo>
                      <a:lnTo>
                        <a:pt x="0" y="8"/>
                      </a:lnTo>
                      <a:lnTo>
                        <a:pt x="8"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3" name="Freeform 22"/>
                <p:cNvSpPr/>
                <p:nvPr/>
              </p:nvSpPr>
              <p:spPr>
                <a:xfrm flipH="1">
                  <a:off x="-133920" y="19742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8" y="0"/>
                      </a:lnTo>
                      <a:lnTo>
                        <a:pt x="0" y="0"/>
                      </a:lnTo>
                      <a:lnTo>
                        <a:pt x="0" y="8"/>
                      </a:lnTo>
                      <a:lnTo>
                        <a:pt x="0" y="17"/>
                      </a:lnTo>
                      <a:lnTo>
                        <a:pt x="8"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4" name="Freeform 21"/>
                <p:cNvSpPr/>
                <p:nvPr/>
              </p:nvSpPr>
              <p:spPr>
                <a:xfrm flipH="1">
                  <a:off x="-154080" y="194508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9" y="8"/>
                      </a:lnTo>
                      <a:lnTo>
                        <a:pt x="9" y="0"/>
                      </a:lnTo>
                      <a:lnTo>
                        <a:pt x="0" y="0"/>
                      </a:lnTo>
                      <a:lnTo>
                        <a:pt x="0" y="8"/>
                      </a:lnTo>
                      <a:lnTo>
                        <a:pt x="0" y="17"/>
                      </a:lnTo>
                      <a:lnTo>
                        <a:pt x="9"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5" name="Freeform 20"/>
                <p:cNvSpPr/>
                <p:nvPr/>
              </p:nvSpPr>
              <p:spPr>
                <a:xfrm flipH="1">
                  <a:off x="-158760" y="195372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8" y="0"/>
                      </a:lnTo>
                      <a:lnTo>
                        <a:pt x="0" y="0"/>
                      </a:lnTo>
                      <a:lnTo>
                        <a:pt x="0" y="8"/>
                      </a:lnTo>
                      <a:lnTo>
                        <a:pt x="8" y="17"/>
                      </a:lnTo>
                      <a:lnTo>
                        <a:pt x="8" y="8"/>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6" name="Freeform 19"/>
                <p:cNvSpPr/>
                <p:nvPr/>
              </p:nvSpPr>
              <p:spPr>
                <a:xfrm flipH="1">
                  <a:off x="-147960" y="1951920"/>
                  <a:ext cx="2880" cy="2880"/>
                </a:xfrm>
                <a:custGeom>
                  <a:avLst/>
                  <a:gdLst>
                    <a:gd name="textAreaLeft" fmla="*/ -360 w 2880"/>
                    <a:gd name="textAreaRight" fmla="*/ 2880 w 2880"/>
                    <a:gd name="textAreaTop" fmla="*/ 0 h 2880"/>
                    <a:gd name="textAreaBottom" fmla="*/ 3240 h 2880"/>
                  </a:gdLst>
                  <a:ahLst/>
                  <a:rect l="textAreaLeft" t="textAreaTop" r="textAreaRight" b="textAreaBottom"/>
                  <a:pathLst>
                    <a:path w="17" h="16">
                      <a:moveTo>
                        <a:pt x="17" y="8"/>
                      </a:moveTo>
                      <a:lnTo>
                        <a:pt x="17" y="0"/>
                      </a:lnTo>
                      <a:lnTo>
                        <a:pt x="8" y="0"/>
                      </a:lnTo>
                      <a:lnTo>
                        <a:pt x="0" y="0"/>
                      </a:lnTo>
                      <a:lnTo>
                        <a:pt x="0" y="8"/>
                      </a:lnTo>
                      <a:lnTo>
                        <a:pt x="8" y="16"/>
                      </a:lnTo>
                      <a:lnTo>
                        <a:pt x="17" y="16"/>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7" name="Freeform 18"/>
                <p:cNvSpPr/>
                <p:nvPr/>
              </p:nvSpPr>
              <p:spPr>
                <a:xfrm flipH="1">
                  <a:off x="-142920" y="197568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9" y="0"/>
                      </a:lnTo>
                      <a:lnTo>
                        <a:pt x="0" y="9"/>
                      </a:lnTo>
                      <a:lnTo>
                        <a:pt x="9"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8" name="Freeform 17"/>
                <p:cNvSpPr/>
                <p:nvPr/>
              </p:nvSpPr>
              <p:spPr>
                <a:xfrm flipH="1">
                  <a:off x="-147960" y="19688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17" y="0"/>
                      </a:lnTo>
                      <a:lnTo>
                        <a:pt x="8" y="0"/>
                      </a:lnTo>
                      <a:lnTo>
                        <a:pt x="0" y="8"/>
                      </a:lnTo>
                      <a:lnTo>
                        <a:pt x="8"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9" name="Freeform 16"/>
                <p:cNvSpPr/>
                <p:nvPr/>
              </p:nvSpPr>
              <p:spPr>
                <a:xfrm flipH="1">
                  <a:off x="-158760" y="19706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9"/>
                      </a:lnTo>
                      <a:lnTo>
                        <a:pt x="8" y="0"/>
                      </a:lnTo>
                      <a:lnTo>
                        <a:pt x="0" y="9"/>
                      </a:lnTo>
                      <a:lnTo>
                        <a:pt x="0" y="17"/>
                      </a:lnTo>
                      <a:lnTo>
                        <a:pt x="8"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0" name="Freeform 15"/>
                <p:cNvSpPr/>
                <p:nvPr/>
              </p:nvSpPr>
              <p:spPr>
                <a:xfrm flipH="1">
                  <a:off x="-154080" y="196200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9" y="0"/>
                      </a:lnTo>
                      <a:lnTo>
                        <a:pt x="0" y="0"/>
                      </a:lnTo>
                      <a:lnTo>
                        <a:pt x="0" y="9"/>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1" name="Freeform 14"/>
                <p:cNvSpPr/>
                <p:nvPr/>
              </p:nvSpPr>
              <p:spPr>
                <a:xfrm flipH="1">
                  <a:off x="-154080" y="197748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8"/>
                      </a:moveTo>
                      <a:lnTo>
                        <a:pt x="9" y="0"/>
                      </a:lnTo>
                      <a:lnTo>
                        <a:pt x="0" y="0"/>
                      </a:lnTo>
                      <a:lnTo>
                        <a:pt x="0" y="8"/>
                      </a:lnTo>
                      <a:lnTo>
                        <a:pt x="0" y="17"/>
                      </a:lnTo>
                      <a:lnTo>
                        <a:pt x="9" y="17"/>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2" name="Freeform 13"/>
                <p:cNvSpPr/>
                <p:nvPr/>
              </p:nvSpPr>
              <p:spPr>
                <a:xfrm flipH="1">
                  <a:off x="-142920" y="1943280"/>
                  <a:ext cx="2880" cy="2880"/>
                </a:xfrm>
                <a:custGeom>
                  <a:avLst/>
                  <a:gdLst>
                    <a:gd name="textAreaLeft" fmla="*/ -360 w 2880"/>
                    <a:gd name="textAreaRight" fmla="*/ 2880 w 2880"/>
                    <a:gd name="textAreaTop" fmla="*/ 0 h 2880"/>
                    <a:gd name="textAreaBottom" fmla="*/ 3240 h 2880"/>
                  </a:gdLst>
                  <a:ahLst/>
                  <a:rect l="textAreaLeft" t="textAreaTop" r="textAreaRight" b="textAreaBottom"/>
                  <a:pathLst>
                    <a:path w="17" h="16">
                      <a:moveTo>
                        <a:pt x="17" y="8"/>
                      </a:moveTo>
                      <a:lnTo>
                        <a:pt x="17" y="0"/>
                      </a:lnTo>
                      <a:lnTo>
                        <a:pt x="9" y="0"/>
                      </a:lnTo>
                      <a:lnTo>
                        <a:pt x="0" y="8"/>
                      </a:lnTo>
                      <a:lnTo>
                        <a:pt x="0" y="16"/>
                      </a:lnTo>
                      <a:lnTo>
                        <a:pt x="9" y="16"/>
                      </a:lnTo>
                      <a:lnTo>
                        <a:pt x="17" y="16"/>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3" name="Freeform 12"/>
                <p:cNvSpPr/>
                <p:nvPr/>
              </p:nvSpPr>
              <p:spPr>
                <a:xfrm flipH="1">
                  <a:off x="-142920" y="1960560"/>
                  <a:ext cx="2880" cy="1440"/>
                </a:xfrm>
                <a:custGeom>
                  <a:avLst/>
                  <a:gdLst>
                    <a:gd name="textAreaLeft" fmla="*/ -360 w 2880"/>
                    <a:gd name="textAreaRight" fmla="*/ 2880 w 2880"/>
                    <a:gd name="textAreaTop" fmla="*/ 0 h 1440"/>
                    <a:gd name="textAreaBottom" fmla="*/ 1800 h 1440"/>
                  </a:gdLst>
                  <a:ahLst/>
                  <a:rect l="textAreaLeft" t="textAreaTop" r="textAreaRight" b="textAreaBottom"/>
                  <a:pathLst>
                    <a:path w="17" h="8">
                      <a:moveTo>
                        <a:pt x="17" y="0"/>
                      </a:moveTo>
                      <a:lnTo>
                        <a:pt x="17" y="0"/>
                      </a:lnTo>
                      <a:lnTo>
                        <a:pt x="9" y="0"/>
                      </a:lnTo>
                      <a:lnTo>
                        <a:pt x="0" y="0"/>
                      </a:lnTo>
                      <a:lnTo>
                        <a:pt x="0" y="8"/>
                      </a:lnTo>
                      <a:lnTo>
                        <a:pt x="9" y="8"/>
                      </a:lnTo>
                      <a:lnTo>
                        <a:pt x="17" y="8"/>
                      </a:lnTo>
                      <a:lnTo>
                        <a:pt x="17" y="0"/>
                      </a:lnTo>
                      <a:close/>
                    </a:path>
                  </a:pathLst>
                </a:custGeom>
                <a:solidFill>
                  <a:srgbClr val="ffffff"/>
                </a:solidFill>
                <a:ln w="504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4" name="Freeform 11"/>
                <p:cNvSpPr/>
                <p:nvPr/>
              </p:nvSpPr>
              <p:spPr>
                <a:xfrm flipH="1">
                  <a:off x="-168120" y="197244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6">
                      <a:moveTo>
                        <a:pt x="17" y="8"/>
                      </a:moveTo>
                      <a:lnTo>
                        <a:pt x="17" y="0"/>
                      </a:lnTo>
                      <a:lnTo>
                        <a:pt x="9" y="0"/>
                      </a:lnTo>
                      <a:lnTo>
                        <a:pt x="0" y="8"/>
                      </a:lnTo>
                      <a:lnTo>
                        <a:pt x="9" y="16"/>
                      </a:lnTo>
                      <a:lnTo>
                        <a:pt x="17" y="8"/>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5" name="Freeform 10"/>
                <p:cNvSpPr/>
                <p:nvPr/>
              </p:nvSpPr>
              <p:spPr>
                <a:xfrm flipH="1">
                  <a:off x="-163440" y="196200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9" y="0"/>
                      </a:lnTo>
                      <a:lnTo>
                        <a:pt x="0" y="9"/>
                      </a:lnTo>
                      <a:lnTo>
                        <a:pt x="0" y="17"/>
                      </a:lnTo>
                      <a:lnTo>
                        <a:pt x="9" y="17"/>
                      </a:lnTo>
                      <a:lnTo>
                        <a:pt x="17"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6" name="Freeform 8"/>
              <p:cNvSpPr/>
              <p:nvPr/>
            </p:nvSpPr>
            <p:spPr>
              <a:xfrm flipH="1">
                <a:off x="-168120" y="1955160"/>
                <a:ext cx="2880" cy="1800"/>
              </a:xfrm>
              <a:custGeom>
                <a:avLst/>
                <a:gdLst>
                  <a:gd name="textAreaLeft" fmla="*/ -360 w 2880"/>
                  <a:gd name="textAreaRight" fmla="*/ 2880 w 2880"/>
                  <a:gd name="textAreaTop" fmla="*/ 0 h 1800"/>
                  <a:gd name="textAreaBottom" fmla="*/ 2160 h 1800"/>
                </a:gdLst>
                <a:ahLst/>
                <a:rect l="textAreaLeft" t="textAreaTop" r="textAreaRight" b="textAreaBottom"/>
                <a:pathLst>
                  <a:path w="17" h="9">
                    <a:moveTo>
                      <a:pt x="17" y="9"/>
                    </a:moveTo>
                    <a:lnTo>
                      <a:pt x="17" y="0"/>
                    </a:lnTo>
                    <a:lnTo>
                      <a:pt x="9" y="0"/>
                    </a:lnTo>
                    <a:lnTo>
                      <a:pt x="0" y="0"/>
                    </a:lnTo>
                    <a:lnTo>
                      <a:pt x="0" y="9"/>
                    </a:lnTo>
                    <a:lnTo>
                      <a:pt x="9" y="9"/>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7" name="Freeform 7"/>
              <p:cNvSpPr/>
              <p:nvPr/>
            </p:nvSpPr>
            <p:spPr>
              <a:xfrm flipH="1">
                <a:off x="-163440" y="194652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9" y="0"/>
                    </a:lnTo>
                    <a:lnTo>
                      <a:pt x="0" y="0"/>
                    </a:lnTo>
                    <a:lnTo>
                      <a:pt x="0" y="9"/>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8" name="Freeform 6"/>
              <p:cNvSpPr/>
              <p:nvPr/>
            </p:nvSpPr>
            <p:spPr>
              <a:xfrm flipH="1">
                <a:off x="-163440" y="1979280"/>
                <a:ext cx="2880" cy="3240"/>
              </a:xfrm>
              <a:custGeom>
                <a:avLst/>
                <a:gdLst>
                  <a:gd name="textAreaLeft" fmla="*/ -360 w 2880"/>
                  <a:gd name="textAreaRight" fmla="*/ 2880 w 2880"/>
                  <a:gd name="textAreaTop" fmla="*/ 0 h 3240"/>
                  <a:gd name="textAreaBottom" fmla="*/ 3600 h 3240"/>
                </a:gdLst>
                <a:ahLst/>
                <a:rect l="textAreaLeft" t="textAreaTop" r="textAreaRight" b="textAreaBottom"/>
                <a:pathLst>
                  <a:path w="17" h="17">
                    <a:moveTo>
                      <a:pt x="17" y="9"/>
                    </a:moveTo>
                    <a:lnTo>
                      <a:pt x="17" y="0"/>
                    </a:lnTo>
                    <a:lnTo>
                      <a:pt x="9" y="0"/>
                    </a:lnTo>
                    <a:lnTo>
                      <a:pt x="0" y="0"/>
                    </a:lnTo>
                    <a:lnTo>
                      <a:pt x="0" y="9"/>
                    </a:lnTo>
                    <a:lnTo>
                      <a:pt x="9" y="17"/>
                    </a:lnTo>
                    <a:lnTo>
                      <a:pt x="17" y="9"/>
                    </a:lnTo>
                    <a:close/>
                  </a:path>
                </a:pathLst>
              </a:custGeom>
              <a:solidFill>
                <a:srgbClr val="ffffff"/>
              </a:solidFill>
              <a:ln w="5040">
                <a:solidFill>
                  <a:srgbClr val="000000"/>
                </a:solidFill>
                <a:round/>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Freeform 5"/>
              <p:cNvSpPr/>
              <p:nvPr/>
            </p:nvSpPr>
            <p:spPr>
              <a:xfrm flipH="1">
                <a:off x="-59400" y="1982520"/>
                <a:ext cx="16920" cy="6840"/>
              </a:xfrm>
              <a:custGeom>
                <a:avLst/>
                <a:gdLst>
                  <a:gd name="textAreaLeft" fmla="*/ 360 w 16920"/>
                  <a:gd name="textAreaRight" fmla="*/ 17640 w 16920"/>
                  <a:gd name="textAreaTop" fmla="*/ 0 h 6840"/>
                  <a:gd name="textAreaBottom" fmla="*/ 7200 h 6840"/>
                </a:gdLst>
                <a:ahLst/>
                <a:rect l="textAreaLeft" t="textAreaTop" r="textAreaRight" b="textAreaBottom"/>
                <a:pathLst>
                  <a:path w="93" h="34">
                    <a:moveTo>
                      <a:pt x="93" y="9"/>
                    </a:moveTo>
                    <a:lnTo>
                      <a:pt x="34" y="0"/>
                    </a:lnTo>
                    <a:lnTo>
                      <a:pt x="0" y="25"/>
                    </a:lnTo>
                    <a:lnTo>
                      <a:pt x="59" y="34"/>
                    </a:lnTo>
                    <a:lnTo>
                      <a:pt x="93" y="9"/>
                    </a:lnTo>
                    <a:close/>
                  </a:path>
                </a:pathLst>
              </a:custGeom>
              <a:solidFill>
                <a:srgbClr val="ffffff"/>
              </a:solidFill>
              <a:ln w="5040">
                <a:solidFill>
                  <a:srgbClr val="000000"/>
                </a:solidFill>
                <a:round/>
              </a:ln>
            </p:spPr>
            <p:style>
              <a:lnRef idx="0"/>
              <a:fillRef idx="0"/>
              <a:effectRef idx="0"/>
              <a:fontRef idx="minor"/>
            </p:style>
            <p:txBody>
              <a:bodyPr lIns="90000" rIns="90000" tIns="-39600" bIns="-39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Freeform 4"/>
              <p:cNvSpPr/>
              <p:nvPr/>
            </p:nvSpPr>
            <p:spPr>
              <a:xfrm flipH="1">
                <a:off x="-165600" y="1890360"/>
                <a:ext cx="199800" cy="37440"/>
              </a:xfrm>
              <a:custGeom>
                <a:avLst/>
                <a:gdLst>
                  <a:gd name="textAreaLeft" fmla="*/ 360 w 199800"/>
                  <a:gd name="textAreaRight" fmla="*/ 200520 w 199800"/>
                  <a:gd name="textAreaTop" fmla="*/ 0 h 37440"/>
                  <a:gd name="textAreaBottom" fmla="*/ 37800 h 37440"/>
                </a:gdLst>
                <a:ahLst/>
                <a:rect l="textAreaLeft" t="textAreaTop" r="textAreaRight" b="textAreaBottom"/>
                <a:pathLst>
                  <a:path w="1079" h="185">
                    <a:moveTo>
                      <a:pt x="0" y="67"/>
                    </a:moveTo>
                    <a:lnTo>
                      <a:pt x="0" y="0"/>
                    </a:lnTo>
                    <a:lnTo>
                      <a:pt x="1079" y="109"/>
                    </a:lnTo>
                    <a:lnTo>
                      <a:pt x="1079" y="185"/>
                    </a:lnTo>
                    <a:lnTo>
                      <a:pt x="0" y="67"/>
                    </a:lnTo>
                    <a:close/>
                  </a:path>
                </a:pathLst>
              </a:custGeom>
              <a:solidFill>
                <a:srgbClr val="ffffff"/>
              </a:solidFill>
              <a:ln w="5040">
                <a:solidFill>
                  <a:srgbClr val="000000"/>
                </a:solidFill>
                <a:round/>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Freeform 3"/>
              <p:cNvSpPr/>
              <p:nvPr/>
            </p:nvSpPr>
            <p:spPr>
              <a:xfrm flipH="1">
                <a:off x="-146520" y="1830600"/>
                <a:ext cx="195120" cy="32400"/>
              </a:xfrm>
              <a:custGeom>
                <a:avLst/>
                <a:gdLst>
                  <a:gd name="textAreaLeft" fmla="*/ -360 w 195120"/>
                  <a:gd name="textAreaRight" fmla="*/ 195120 w 195120"/>
                  <a:gd name="textAreaTop" fmla="*/ 0 h 32400"/>
                  <a:gd name="textAreaBottom" fmla="*/ 32760 h 32400"/>
                </a:gdLst>
                <a:ahLst/>
                <a:rect l="textAreaLeft" t="textAreaTop" r="textAreaRight" b="textAreaBottom"/>
                <a:pathLst>
                  <a:path w="1054" h="160">
                    <a:moveTo>
                      <a:pt x="329" y="93"/>
                    </a:moveTo>
                    <a:lnTo>
                      <a:pt x="303" y="93"/>
                    </a:lnTo>
                    <a:lnTo>
                      <a:pt x="287" y="67"/>
                    </a:lnTo>
                    <a:lnTo>
                      <a:pt x="211" y="59"/>
                    </a:lnTo>
                    <a:lnTo>
                      <a:pt x="219" y="84"/>
                    </a:lnTo>
                    <a:lnTo>
                      <a:pt x="202" y="84"/>
                    </a:lnTo>
                    <a:lnTo>
                      <a:pt x="185" y="59"/>
                    </a:lnTo>
                    <a:lnTo>
                      <a:pt x="109" y="51"/>
                    </a:lnTo>
                    <a:lnTo>
                      <a:pt x="118" y="76"/>
                    </a:lnTo>
                    <a:lnTo>
                      <a:pt x="50" y="67"/>
                    </a:lnTo>
                    <a:lnTo>
                      <a:pt x="0" y="0"/>
                    </a:lnTo>
                    <a:lnTo>
                      <a:pt x="1012" y="67"/>
                    </a:lnTo>
                    <a:lnTo>
                      <a:pt x="1054" y="160"/>
                    </a:lnTo>
                    <a:lnTo>
                      <a:pt x="725" y="126"/>
                    </a:lnTo>
                    <a:lnTo>
                      <a:pt x="708" y="101"/>
                    </a:lnTo>
                    <a:lnTo>
                      <a:pt x="632" y="93"/>
                    </a:lnTo>
                    <a:lnTo>
                      <a:pt x="649" y="118"/>
                    </a:lnTo>
                    <a:lnTo>
                      <a:pt x="514" y="110"/>
                    </a:lnTo>
                    <a:lnTo>
                      <a:pt x="497" y="84"/>
                    </a:lnTo>
                    <a:lnTo>
                      <a:pt x="422" y="76"/>
                    </a:lnTo>
                    <a:lnTo>
                      <a:pt x="438" y="101"/>
                    </a:lnTo>
                    <a:lnTo>
                      <a:pt x="405" y="101"/>
                    </a:lnTo>
                    <a:lnTo>
                      <a:pt x="388" y="76"/>
                    </a:lnTo>
                    <a:lnTo>
                      <a:pt x="320" y="67"/>
                    </a:lnTo>
                    <a:lnTo>
                      <a:pt x="329" y="93"/>
                    </a:lnTo>
                    <a:close/>
                  </a:path>
                </a:pathLst>
              </a:custGeom>
              <a:solidFill>
                <a:srgbClr val="ffffff"/>
              </a:solidFill>
              <a:ln w="5040">
                <a:solidFill>
                  <a:srgbClr val="000000"/>
                </a:solidFill>
                <a:round/>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2" name="Picture 2" descr="Picture 007"/>
          <p:cNvPicPr/>
          <p:nvPr/>
        </p:nvPicPr>
        <p:blipFill>
          <a:blip r:embed="rId1"/>
          <a:stretch/>
        </p:blipFill>
        <p:spPr>
          <a:xfrm>
            <a:off x="0" y="620640"/>
            <a:ext cx="8791560" cy="527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775f55"/>
                </a:solidFill>
                <a:latin typeface="Tw Cen MT"/>
              </a:rPr>
              <a:t>تابع</a:t>
            </a:r>
            <a:endParaRPr b="0" lang="en-US" sz="4400" spc="-1" strike="noStrike">
              <a:solidFill>
                <a:srgbClr val="775f55"/>
              </a:solidFill>
              <a:latin typeface="Tw Cen MT"/>
            </a:endParaRPr>
          </a:p>
        </p:txBody>
      </p:sp>
      <p:sp>
        <p:nvSpPr>
          <p:cNvPr id="353" name=""/>
          <p:cNvSpPr txBox="1"/>
          <p:nvPr/>
        </p:nvSpPr>
        <p:spPr>
          <a:xfrm>
            <a:off x="-143280" y="1143000"/>
            <a:ext cx="9286920" cy="4495680"/>
          </a:xfrm>
          <a:prstGeom prst="rect">
            <a:avLst/>
          </a:prstGeom>
          <a:noFill/>
          <a:ln w="0">
            <a:noFill/>
          </a:ln>
        </p:spPr>
        <p:txBody>
          <a:bodyPr anchor="t">
            <a:normAutofit fontScale="76000"/>
          </a:bodyPr>
          <a:p>
            <a:pPr marL="242280" indent="-24228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الإدراك الفردي</a:t>
            </a:r>
            <a:r>
              <a:rPr b="0" lang="ar-SA" sz="2900" spc="-1" strike="noStrike">
                <a:solidFill>
                  <a:srgbClr val="000000"/>
                </a:solidFill>
                <a:latin typeface="Tw Cen MT"/>
              </a:rPr>
              <a:t>/ هو ظاهرة شخصية وذاتية ← كل طفل يعيش في ظروف معينة وهذا الظروف لها معنى خاصة لديه الذي يختلف عن غيره، مثل الطفل ((النشط)) وكثير الحركة هذا سلوك يمثل لفت الانتباه بينما المعلمة تراه أن الطفل قاصد للتشويش لها.</a:t>
            </a:r>
            <a:endParaRPr b="0" lang="en-US" sz="2900" spc="-1" strike="noStrike">
              <a:solidFill>
                <a:srgbClr val="000000"/>
              </a:solidFill>
              <a:latin typeface="Tw Cen MT"/>
            </a:endParaRPr>
          </a:p>
          <a:p>
            <a:pPr marL="242280" indent="-24228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الممارسة العلمية</a:t>
            </a:r>
            <a:r>
              <a:rPr b="0" lang="ar-SA" sz="2900" spc="-1" strike="noStrike">
                <a:solidFill>
                  <a:srgbClr val="000000"/>
                </a:solidFill>
                <a:latin typeface="Tw Cen MT"/>
              </a:rPr>
              <a:t>/ مثال الطفل الذي يسعى إلى مشاركة زملائه في الفصل بجميع طاقاته وقدراته للدخول في المجموعة وتحقيق التكيف مع المجموعة وكذلك نمو لذاته وقدراته. مثال لدى طفلة تحب أن تساعد أصدقائها بما تستطيع مثال على ذلك في كل مرة طفل أو طفلة يعجز عن عمل شيء مثل فتح العصير أو إغلاق أزرار ملابسها تقوم هي بالمبادرة والمشاركة بقولها أنا سأفعل ذلك. مثل أنا استطيع فتح العصير أو إغلاق الازره .. هنا الطفلة تريد مساعدة زملائها للدخول معهم في المجموعة والمشاركة معهم في تحقيق ذاتها وكذلك التكيف مع المجموعة ونمو لقدراتها وذاتها بالدرجة الأولى.</a:t>
            </a:r>
            <a:endParaRPr b="0" lang="en-US" sz="2900" spc="-1" strike="noStrike">
              <a:solidFill>
                <a:srgbClr val="000000"/>
              </a:solidFill>
              <a:latin typeface="Tw Cen MT"/>
            </a:endParaRPr>
          </a:p>
          <a:p>
            <a:pPr marL="242280" indent="-24228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42280" indent="-24228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775f55"/>
                </a:solidFill>
                <a:latin typeface="Tw Cen MT"/>
              </a:rPr>
              <a:t>تابع</a:t>
            </a:r>
            <a:endParaRPr b="0" lang="en-US" sz="44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الرعاية</a:t>
            </a:r>
            <a:r>
              <a:rPr b="0" lang="ar-SA" sz="2900" spc="-1" strike="noStrike">
                <a:solidFill>
                  <a:srgbClr val="000000"/>
                </a:solidFill>
                <a:latin typeface="Tw Cen MT"/>
              </a:rPr>
              <a:t>/ بحكم أن جميع الأطفال يتوقون إلى الحصول على الدعم والقبول والتفهم من الآخرين فالطفل الذي يحرم من مشاعر الحب والقبول سيعاني من الحرمان النفسي لذلك أن الطفل الذي لا يتلقى الرعاية يبدد طاقاته الباحث عنها بدلا من الانجاز وينطبق هذا على الطفلة (ش) التي تظهر العجز عن فتح ازرة ملابسها باحثة عن الرعاية بدلا من الانجاز.</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42560" y="228600"/>
            <a:ext cx="90010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75f55"/>
                </a:solidFill>
                <a:latin typeface="Tw Cen MT"/>
              </a:rPr>
              <a:t>التعبير عن القبول باستخدام اسلوب التعبير عن المشاعرالشخصية </a:t>
            </a:r>
            <a:br>
              <a:rPr sz="3200"/>
            </a:br>
            <a:endParaRPr b="0" lang="en-US" sz="3200" spc="-1" strike="noStrike">
              <a:solidFill>
                <a:srgbClr val="775f55"/>
              </a:solidFill>
              <a:latin typeface="Tw Cen MT"/>
            </a:endParaRPr>
          </a:p>
        </p:txBody>
      </p:sp>
      <p:sp>
        <p:nvSpPr>
          <p:cNvPr id="357" name=""/>
          <p:cNvSpPr txBox="1"/>
          <p:nvPr/>
        </p:nvSpPr>
        <p:spPr>
          <a:xfrm>
            <a:off x="0" y="1600200"/>
            <a:ext cx="9144000" cy="4495680"/>
          </a:xfrm>
          <a:prstGeom prst="rect">
            <a:avLst/>
          </a:prstGeom>
          <a:noFill/>
          <a:ln w="0">
            <a:noFill/>
          </a:ln>
        </p:spPr>
        <p:txBody>
          <a:bodyPr anchor="t">
            <a:normAutofit fontScale="80000"/>
          </a:bodyPr>
          <a:p>
            <a:pPr marL="254880" indent="-25488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يعتقد جوردن ان الأطفال كثيرا مايرسلون لنا رسائل تعبرعن مشاعرالضيق بماحولهم ونحن ككبارعلينا ان نكون على استعداد للاستماع لمثل هذه الرسائل.</a:t>
            </a:r>
            <a:endParaRPr b="0" lang="en-US" sz="2800" spc="-1" strike="noStrike">
              <a:solidFill>
                <a:srgbClr val="000000"/>
              </a:solidFill>
              <a:latin typeface="Tw Cen MT"/>
            </a:endParaRPr>
          </a:p>
          <a:p>
            <a:pPr marL="254880" indent="-25488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مثل: بعد احداث اليابان وسماع اصوالت الرعد واالبرق قام طفلي باغلاق اذنيه والصراخ لكي لايسمع اصوات الرعد فهديت من روعه بان تعبيرات وجهي كانت سعيده وحمدت الله على نعمة المطر فاخذت العب معه بالمطر.</a:t>
            </a:r>
            <a:endParaRPr b="0" lang="en-US" sz="2800" spc="-1" strike="noStrike">
              <a:solidFill>
                <a:srgbClr val="000000"/>
              </a:solidFill>
              <a:latin typeface="Tw Cen MT"/>
            </a:endParaRPr>
          </a:p>
          <a:p>
            <a:pPr marL="254880" indent="-25488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يتطلب الاستماع النشط ان ينصت الكبارالى الطفل دون اللجوء إلى اصداراحكام على مشاعره والاكتفاء باعادة صياغة ماسمعوه على سبيل التغذية الراجعه مثل:</a:t>
            </a:r>
            <a:endParaRPr b="0" lang="en-US" sz="2800" spc="-1" strike="noStrike">
              <a:solidFill>
                <a:srgbClr val="000000"/>
              </a:solidFill>
              <a:latin typeface="Tw Cen MT"/>
            </a:endParaRPr>
          </a:p>
          <a:p>
            <a:pPr marL="254880" indent="-25488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طفل بكى من صوت بالونات وهي تتفجر فجئت اليه وهدئت من روعه واطمئن بعد ذلك قلت: انا اعرف انك خائف من البالون لكن البالون لايؤذي وقمت بحضنه حتى ارتاح.</a:t>
            </a:r>
            <a:endParaRPr b="0" lang="en-US" sz="2800" spc="-1" strike="noStrike">
              <a:solidFill>
                <a:srgbClr val="000000"/>
              </a:solidFill>
              <a:latin typeface="Tw Cen MT"/>
            </a:endParaRPr>
          </a:p>
          <a:p>
            <a:pPr marL="254880" indent="-25488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5f55"/>
                </a:solidFill>
                <a:latin typeface="Tw Cen MT"/>
              </a:rPr>
              <a:t>متى يستخدم الاستماع النشط :</a:t>
            </a:r>
            <a:br>
              <a:rPr sz="4400"/>
            </a:br>
            <a:endParaRPr b="0" lang="en-US" sz="4400" spc="-1" strike="noStrike">
              <a:solidFill>
                <a:srgbClr val="775f55"/>
              </a:solidFill>
              <a:latin typeface="Tw Cen MT"/>
            </a:endParaRPr>
          </a:p>
        </p:txBody>
      </p:sp>
      <p:sp>
        <p:nvSpPr>
          <p:cNvPr id="359" name=""/>
          <p:cNvSpPr txBox="1"/>
          <p:nvPr/>
        </p:nvSpPr>
        <p:spPr>
          <a:xfrm>
            <a:off x="0" y="1600200"/>
            <a:ext cx="9144000" cy="4495680"/>
          </a:xfrm>
          <a:prstGeom prst="rect">
            <a:avLst/>
          </a:prstGeom>
          <a:noFill/>
          <a:ln w="0">
            <a:noFill/>
          </a:ln>
        </p:spPr>
        <p:txBody>
          <a:bodyPr anchor="t">
            <a:normAutofit fontScale="74000"/>
          </a:bodyPr>
          <a:p>
            <a:pPr marL="235800" indent="-2358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الأطفال كثيرا مايرسلون لنا رسائل تعبر عن مشاعر الضيق ويجب علينا نحن الكبار أن نكون على استعداد تام للاستماع إلى مثل هذه الرسائل </a:t>
            </a:r>
            <a:endParaRPr b="0" lang="en-US" sz="2900" spc="-1" strike="noStrike">
              <a:solidFill>
                <a:srgbClr val="000000"/>
              </a:solidFill>
              <a:latin typeface="Tw Cen MT"/>
            </a:endParaRPr>
          </a:p>
          <a:p>
            <a:pPr marL="235800" indent="-2358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مثل (( وقع أحد الأطفال عن دراجته وأصيب بخدوش فيصيح ويجري للمربية ))</a:t>
            </a:r>
            <a:endParaRPr b="0" lang="en-US" sz="2900" spc="-1" strike="noStrike">
              <a:solidFill>
                <a:srgbClr val="000000"/>
              </a:solidFill>
              <a:latin typeface="Tw Cen MT"/>
            </a:endParaRPr>
          </a:p>
          <a:p>
            <a:pPr marL="235800" indent="-2358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مستمعة غير نشطة :  توقف عن الصراخ فإصابتك بسيطة</a:t>
            </a:r>
            <a:endParaRPr b="0" lang="en-US" sz="2900" spc="-1" strike="noStrike">
              <a:solidFill>
                <a:srgbClr val="000000"/>
              </a:solidFill>
              <a:latin typeface="Tw Cen MT"/>
            </a:endParaRPr>
          </a:p>
          <a:p>
            <a:pPr marL="235800" indent="-2358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معلمة مستمعة : لقد جُرحت ركبتك ولاشك أنها تؤلمك </a:t>
            </a:r>
            <a:endParaRPr b="0" lang="en-US" sz="2900" spc="-1" strike="noStrike">
              <a:solidFill>
                <a:srgbClr val="000000"/>
              </a:solidFill>
              <a:latin typeface="Tw Cen MT"/>
            </a:endParaRPr>
          </a:p>
          <a:p>
            <a:pPr marL="235800" indent="-2358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نلاحظ أن المربية الأولى تنكر على الطفل حقه في الشعور بطريقة معينة في حين المربية الأخرى أبدت تفهمها وتقدير مشاعر الطفل </a:t>
            </a:r>
            <a:endParaRPr b="0" lang="en-US" sz="2900" spc="-1" strike="noStrike">
              <a:solidFill>
                <a:srgbClr val="000000"/>
              </a:solidFill>
              <a:latin typeface="Tw Cen MT"/>
            </a:endParaRPr>
          </a:p>
          <a:p>
            <a:pPr marL="235800" indent="-2358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يلجأ الطفل في بعض الأحيان إلى توجيه رسائل معينة أسئلة مباشرة ومثل هذه الأسئلة تخفي عادة مشاعر معينة هذه المشاعر تحتاج إلى انتباه .</a:t>
            </a:r>
            <a:endParaRPr b="0" lang="en-US" sz="2900" spc="-1" strike="noStrike">
              <a:solidFill>
                <a:srgbClr val="000000"/>
              </a:solidFill>
              <a:latin typeface="Tw Cen MT"/>
            </a:endParaRPr>
          </a:p>
          <a:p>
            <a:pPr marL="235800" indent="-2358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775f55"/>
                </a:solidFill>
                <a:latin typeface="Tw Cen MT"/>
              </a:rPr>
              <a:t>مثال على الاستماع اليقظ</a:t>
            </a:r>
            <a:endParaRPr b="0" lang="en-US" sz="4400" spc="-1" strike="noStrike">
              <a:solidFill>
                <a:srgbClr val="775f55"/>
              </a:solidFill>
              <a:latin typeface="Tw Cen MT"/>
            </a:endParaRPr>
          </a:p>
        </p:txBody>
      </p:sp>
      <p:sp>
        <p:nvSpPr>
          <p:cNvPr id="361" name=""/>
          <p:cNvSpPr txBox="1"/>
          <p:nvPr/>
        </p:nvSpPr>
        <p:spPr>
          <a:xfrm>
            <a:off x="0" y="1213920"/>
            <a:ext cx="9144000" cy="4496040"/>
          </a:xfrm>
          <a:prstGeom prst="rect">
            <a:avLst/>
          </a:prstGeom>
          <a:noFill/>
          <a:ln w="0">
            <a:noFill/>
          </a:ln>
        </p:spPr>
        <p:txBody>
          <a:bodyPr anchor="t">
            <a:normAutofit fontScale="74000"/>
          </a:bodyPr>
          <a:p>
            <a:pPr marL="235800" indent="-2358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مثال (( أحد الأطفال شاهد برنامج إخباري على شاشة التلفاز وعلم بحدوث فيضانات في المنطقة المجاورة بسبب تحطم أنابيب المياه ,, كما شاهد حفرة كبيرة حدثت بفعل الفيضان واستمع إلى أن طفلين وقعا في تلك الحفرة وتم أنقذهما ,, في اليوم التالي سأل الطفل مربيته كيف يكون شعور الإنسان عندما يوشك على الغرق </a:t>
            </a:r>
            <a:endParaRPr b="0" lang="en-US" sz="2900" spc="-1" strike="noStrike">
              <a:solidFill>
                <a:srgbClr val="000000"/>
              </a:solidFill>
              <a:latin typeface="Tw Cen MT"/>
            </a:endParaRPr>
          </a:p>
          <a:p>
            <a:pPr marL="235800" indent="-2358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مستمعة غير نشطة : كيف لي أن أعرف ؟ أنت تسأل أسئلة غريبة اذهب والعب مع رفاقك </a:t>
            </a:r>
            <a:endParaRPr b="0" lang="en-US" sz="2900" spc="-1" strike="noStrike">
              <a:solidFill>
                <a:srgbClr val="000000"/>
              </a:solidFill>
              <a:latin typeface="Tw Cen MT"/>
            </a:endParaRPr>
          </a:p>
          <a:p>
            <a:pPr marL="235800" indent="-2358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مستمعة نشطة : يظهر أنك قلق بسبب الفيضان الذي حدث في المنطقة المجاورة </a:t>
            </a:r>
            <a:endParaRPr b="0" lang="en-US" sz="2900" spc="-1" strike="noStrike">
              <a:solidFill>
                <a:srgbClr val="000000"/>
              </a:solidFill>
              <a:latin typeface="Tw Cen MT"/>
            </a:endParaRPr>
          </a:p>
          <a:p>
            <a:pPr marL="235800" indent="-2358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المربية الثانية تدرك أن الطفل يشعر بالخوف من المياه وقد يكون خائفا من فكرة الغرق ,,قد استمعت إلى مشاعره بانتباه ثم صاغت هذه المشاعر بكلماتها وإعادتها على مسامع الطفل .</a:t>
            </a:r>
            <a:endParaRPr b="0" lang="en-US" sz="2900" spc="-1" strike="noStrike">
              <a:solidFill>
                <a:srgbClr val="000000"/>
              </a:solidFill>
              <a:latin typeface="Tw Cen MT"/>
            </a:endParaRPr>
          </a:p>
          <a:p>
            <a:pPr marL="235800" indent="-2358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775f55"/>
                </a:solidFill>
                <a:latin typeface="Tw Cen MT"/>
              </a:rPr>
              <a:t>تابع</a:t>
            </a:r>
            <a:endParaRPr b="0" lang="en-US" sz="44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رغم كون أسلوب الاستماع أسلوب فعال ويعتبر من أساليب الاتصال على انه يتضمن بعض المخاطر</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والذين يستخدمون هذا الأسلوب يبدو عليهم :</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التصنع  ---  عدم الصدق </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والاستماع الصادق والحقيقي يتطلب أن :  يتقبل الطفل وأن يثق فيه .</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5f55"/>
                </a:solidFill>
                <a:latin typeface="Tw Cen MT"/>
              </a:rPr>
              <a:t>شروط الاستماع النشط :</a:t>
            </a:r>
            <a:br>
              <a:rPr sz="4400"/>
            </a:b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أن يكون لدى المربي رغبة كبيرة للاستماع </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أن يكون لدى المربي رغبة كبيرة للمساعدة </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أن يستطيع المربي قبول مشاعر الطفل </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أن يتعامل المربي مع الطفل بصفته مستقل له الحق في إبداء مشاعره </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775f55"/>
                </a:solidFill>
                <a:latin typeface="Tw Cen MT"/>
              </a:rPr>
              <a:t>*اسلوب الغالب والمغلوب</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fontScale="95000"/>
          </a:bodyPr>
          <a:p>
            <a:pPr marL="302760" indent="-3027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تكمن المشكلة الاساسية للاسلوب في ان الناس ينظرون الى الخلاف على انه معركة احد اطرافها منتصر والاخر مهزوم وقد اقترح جوردن بهذه الفكرة اسلوبا ثالثا واسماء في اللاغالب واللامغلوب واعتبره افضل بديل للاسلوب.</a:t>
            </a:r>
            <a:endParaRPr b="0" lang="en-US" sz="2900" spc="-1" strike="noStrike">
              <a:solidFill>
                <a:srgbClr val="000000"/>
              </a:solidFill>
              <a:latin typeface="Tw Cen MT"/>
            </a:endParaRPr>
          </a:p>
          <a:p>
            <a:pPr marL="302760" indent="-302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مثال:</a:t>
            </a:r>
            <a:r>
              <a:rPr b="0" lang="ar-SA" sz="2900" spc="-1" strike="noStrike">
                <a:solidFill>
                  <a:srgbClr val="000000"/>
                </a:solidFill>
                <a:latin typeface="Tw Cen MT"/>
              </a:rPr>
              <a:t>1</a:t>
            </a:r>
            <a:r>
              <a:rPr b="0" lang="ar-SA" sz="2900" spc="-1" strike="noStrike">
                <a:solidFill>
                  <a:srgbClr val="000000"/>
                </a:solidFill>
                <a:latin typeface="Tw Cen MT"/>
              </a:rPr>
              <a:t>-في وقت الوجبة لازم يأكل الطفل بانتظام وبدون فوضى وينظف من بعده بينما في الواقع لايحمل الطفل باقي الطعام من بعده ولايحافظ على نظافة الطاولة.</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2:01:10Z</dcterms:created>
  <dc:creator>WIn7</dc:creator>
  <dc:description/>
  <dc:language>en-US</dc:language>
  <cp:lastModifiedBy>SONY</cp:lastModifiedBy>
  <dcterms:modified xsi:type="dcterms:W3CDTF">2013-11-02T18:05:49Z</dcterms:modified>
  <cp:revision>33</cp:revision>
  <dc:subject/>
  <dc:title>المحاضرة الثالثة</dc:title>
</cp:coreProperties>
</file>