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EA89E-23FE-446E-A7AD-5D4811589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1A41F-0257-4BE0-BC01-5669778D4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4F998-71A2-4EEF-8ED6-7E546AAAD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747B3-3E7E-4B8E-BFEF-0043BF655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FA9CF-E8F7-4CCF-A1AD-60D77F990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D0C8C-80AA-4BA8-9908-3B8CD023E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15873-7FF4-411C-8F8B-B7EB674E8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E5A07-3C53-42AE-878A-D30A34355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81AC1-7C23-46EB-A73B-4399CC023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E88C4-386F-4E12-909F-A7CA2CF48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4D060-DD23-4500-942C-0F8377AA8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15B97-D0B5-4B29-BBDD-24188DC59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3CDE5-6FEE-4E89-8496-6EE1B73ED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EE60C-BA60-45C3-9079-E88C39D51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1C1CB-286E-445B-85A1-18D6223B0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92E930-1E6F-469E-840C-4F644D79FB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72B6E-BC38-4BE2-B6D4-6F938310E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6402D1-4BB8-48B8-8792-BF7A491B51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3D2723-DBC3-43FD-A6B3-353AC781D0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4B5DF5-C260-4DD7-B704-2455820F2A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FF0978-D543-4EC9-95BF-F00DB2608F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B6AD34-27CD-43F9-9966-4309F52432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12026-C4CB-4EE1-9E5D-96CB0A1D4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EE7EDE-825B-4DDA-8D4D-7478F2776C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D3AADB-AFED-4307-A709-0A07879619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42E9A1-8F4D-4012-8AF2-AF2C775893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EB6179-65C2-497D-BF8C-798684752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02EC94-3BF7-4806-8D96-7A88BCF32B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EF413B-A271-46E1-A5D9-24E3BE6250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9FD075-BD91-4E22-B650-D7A1917CD4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D18736-CAB7-4AD3-81FC-66BA9C45D2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A2C759-7AB0-4540-BD78-2F308EDFC2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09560D-5A0E-4EBD-BD32-91D79A610F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4193C-8D5B-4B08-BA47-536D5A124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CF7F3B-F095-4417-B30C-83CB38E1C6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80CACB-E562-4547-A7D6-A16B74A591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148734-89C6-4A6A-B9FC-362E3F87F6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ABD680-8128-4EEC-9E80-7EBB61886B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39BD10-2272-4E98-927B-542D5F1475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24073C-C245-4A99-A850-F294F8FABE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949EE5-8109-48C3-B8E6-9496739645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CE09D9-AACC-444C-A8A4-4AE2881C25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D97C0F-E6A8-4587-9B26-2B2C1E41B2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44FA9-C87E-4A70-BAF1-8F82917F0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A31AD-D05B-49CF-8574-8D4A5081C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3BAAA-56B3-483F-9A13-46979ECBD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33BD6-D2E1-4B5E-A216-E29A3DFFF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DE5FB-CAAC-459D-A244-D8AA219F7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780E-78CC-4B27-8FB3-42F65E52FB51}" type="slidenum">
              <a:rPr b="0" lang="ar-SA"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BF8D-340E-4B11-9DC5-D49FF4A1BEFB}" type="slidenum">
              <a:rPr b="0" lang="ar-SA"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10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10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EADF-2CE7-46A4-A7A3-F90D6693735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04" name=""/>
          <p:cNvGrpSpPr/>
          <p:nvPr/>
        </p:nvGrpSpPr>
        <p:grpSpPr>
          <a:xfrm>
            <a:off x="8153280" y="152280"/>
            <a:ext cx="792000" cy="1295280"/>
            <a:chOff x="8153280" y="152280"/>
            <a:chExt cx="792000" cy="1295280"/>
          </a:xfrm>
        </p:grpSpPr>
        <p:sp>
          <p:nvSpPr>
            <p:cNvPr id="105"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174"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175"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176"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BE8A-DD7A-4BDC-9AF9-49603B2D42F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77" name=""/>
          <p:cNvGrpSpPr/>
          <p:nvPr/>
        </p:nvGrpSpPr>
        <p:grpSpPr>
          <a:xfrm>
            <a:off x="7493040" y="2992320"/>
            <a:ext cx="1337760" cy="2189160"/>
            <a:chOff x="7493040" y="2992320"/>
            <a:chExt cx="1337760" cy="2189160"/>
          </a:xfrm>
        </p:grpSpPr>
        <p:sp>
          <p:nvSpPr>
            <p:cNvPr id="178"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10920" y="2133360"/>
            <a:ext cx="779292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cs typeface="PT Bold Heading"/>
              </a:rPr>
              <a:t>نظرية أر يكسون</a:t>
            </a:r>
            <a:endParaRPr b="0" lang="en-US" sz="4400" spc="-1" strike="noStrike">
              <a:solidFill>
                <a:srgbClr val="333399"/>
              </a:solidFill>
              <a:latin typeface="Tahoma"/>
            </a:endParaRPr>
          </a:p>
        </p:txBody>
      </p:sp>
      <p:sp>
        <p:nvSpPr>
          <p:cNvPr id="247" name=""/>
          <p:cNvSpPr/>
          <p:nvPr/>
        </p:nvSpPr>
        <p:spPr>
          <a:xfrm>
            <a:off x="611280" y="4941720"/>
            <a:ext cx="3816360" cy="16560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250920" y="2099160"/>
            <a:ext cx="8137440" cy="3018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في هذه المرحله يكون المراهق قادر على العطاء والإنتاج والخلق سواء كان ذلك في الزواج  أو الابواة او الابداع والابتكار  في حين أن الاخفاق في تنمية الانتاجية يولد الانغماس في الذات  ويطلب من الاخرين التساهل معه</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87" name=""/>
          <p:cNvSpPr/>
          <p:nvPr/>
        </p:nvSpPr>
        <p:spPr>
          <a:xfrm>
            <a:off x="0" y="836640"/>
            <a:ext cx="792180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Andalus"/>
              </a:rPr>
              <a:t> </a:t>
            </a:r>
            <a:r>
              <a:rPr b="0" lang="ar-SA" sz="2800" spc="-1" strike="noStrike">
                <a:solidFill>
                  <a:srgbClr val="660066"/>
                </a:solidFill>
                <a:latin typeface="Arial"/>
                <a:cs typeface="PT Bold Heading"/>
              </a:rPr>
              <a:t>المرحلة السابعة</a:t>
            </a:r>
            <a:r>
              <a:rPr b="1" lang="ar-SA" sz="2800" spc="-1" strike="noStrike">
                <a:solidFill>
                  <a:srgbClr val="ff0000"/>
                </a:solidFill>
                <a:latin typeface="Arial"/>
                <a:ea typeface="Andalus"/>
              </a:rPr>
              <a:t> الاحساس بالإنتاجية في مقابل استغراق الذات</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Andalus"/>
              </a:rPr>
              <a:t>(</a:t>
            </a:r>
            <a:r>
              <a:rPr b="1" lang="ar-SA" sz="2800" spc="-1" strike="noStrike">
                <a:solidFill>
                  <a:srgbClr val="ff0000"/>
                </a:solidFill>
                <a:latin typeface="Arial"/>
                <a:ea typeface="Andalus"/>
              </a:rPr>
              <a:t>35</a:t>
            </a:r>
            <a:r>
              <a:rPr b="1" lang="ar-SA" sz="2800" spc="-1" strike="noStrike">
                <a:solidFill>
                  <a:srgbClr val="ff0000"/>
                </a:solidFill>
                <a:latin typeface="Arial"/>
                <a:ea typeface="Andalus"/>
              </a:rPr>
              <a:t>-التقاعد)</a:t>
            </a:r>
            <a:endParaRPr b="0" lang="en-US" sz="2800" spc="-1" strike="noStrike">
              <a:solidFill>
                <a:srgbClr val="000000"/>
              </a:solidFill>
              <a:latin typeface="Arial"/>
            </a:endParaRPr>
          </a:p>
        </p:txBody>
      </p:sp>
      <p:sp>
        <p:nvSpPr>
          <p:cNvPr id="288" name=""/>
          <p:cNvSpPr/>
          <p:nvPr/>
        </p:nvSpPr>
        <p:spPr>
          <a:xfrm flipH="1">
            <a:off x="-360" y="476280"/>
            <a:ext cx="5148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5076720" y="189000"/>
            <a:ext cx="23958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800000"/>
                </a:solidFill>
                <a:latin typeface="Arial"/>
              </a:rPr>
              <a:t>علم نفس النمو</a:t>
            </a:r>
            <a:r>
              <a:rPr b="0" lang="en-US" sz="1800" spc="-1" strike="noStrike">
                <a:solidFill>
                  <a:srgbClr val="8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flipH="1">
            <a:off x="7596000" y="476280"/>
            <a:ext cx="154764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0" y="437040"/>
            <a:ext cx="810108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66"/>
                </a:solidFill>
                <a:latin typeface="Arial"/>
                <a:ea typeface="PT Bold Heading"/>
              </a:rPr>
              <a:t> المرحلة الثامنة:</a:t>
            </a:r>
            <a:r>
              <a:rPr b="1" lang="ar-SA" sz="2800" spc="-1" strike="noStrike">
                <a:solidFill>
                  <a:srgbClr val="ff0000"/>
                </a:solidFill>
                <a:latin typeface="Arial"/>
                <a:ea typeface="Andalus"/>
              </a:rPr>
              <a:t> الاحساس بتكامل الذات في مقابل الاحساس باليأس </a:t>
            </a:r>
            <a:endParaRPr b="0" lang="en-US" sz="2800" spc="-1" strike="noStrike">
              <a:solidFill>
                <a:srgbClr val="000000"/>
              </a:solidFill>
              <a:latin typeface="Arial"/>
            </a:endParaRPr>
          </a:p>
          <a:p>
            <a:pPr algn="ct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Andalus"/>
              </a:rPr>
              <a:t>(سنوات التقاعد ---نهاية الحياة)</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2" name=""/>
          <p:cNvSpPr/>
          <p:nvPr/>
        </p:nvSpPr>
        <p:spPr>
          <a:xfrm>
            <a:off x="250920" y="1896120"/>
            <a:ext cx="8354880" cy="4359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يتحقق الاحساس بتكامل مع الذات نتيجة نجاح الفرد في مراحل النمو السابقة فجذور هذه المرحلة تكمن في تحقيق الفرد والثقة والاستقلالية والمبادرة والهوية والإنتاج الخلاق وفي هذه المرحلة يكون الشخص قادر على تحمل المسئولية والزعامة ويقبل دوره في الحياة وينمي في نفسه مفهوما ثابتاً عن ذاته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ويكون فخورا ًبانجازاته وعلى العكس من ذلك نجد اليأس والقنوط يلازم الأفراد الذين فشلوا في اختبار الازمان السابقة</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93" name=""/>
          <p:cNvSpPr/>
          <p:nvPr/>
        </p:nvSpPr>
        <p:spPr>
          <a:xfrm flipH="1">
            <a:off x="107640" y="404640"/>
            <a:ext cx="5148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5184720" y="117360"/>
            <a:ext cx="23954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800000"/>
                </a:solidFill>
                <a:latin typeface="Arial"/>
              </a:rPr>
              <a:t>علم نفس النمو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
          <p:cNvSpPr/>
          <p:nvPr/>
        </p:nvSpPr>
        <p:spPr>
          <a:xfrm flipH="1">
            <a:off x="7704000" y="404640"/>
            <a:ext cx="1548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50920" y="3087720"/>
            <a:ext cx="8675640" cy="15872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hi-IN" sz="4400" spc="-1" strike="noStrike">
                <a:solidFill>
                  <a:srgbClr val="000000"/>
                </a:solidFill>
                <a:latin typeface="Arial"/>
              </a:rPr>
              <a:t>نظرية</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Andalus"/>
              </a:rPr>
              <a:t> </a:t>
            </a:r>
            <a:endParaRPr b="0" lang="en-US" sz="5400" spc="-1" strike="noStrike">
              <a:solidFill>
                <a:srgbClr val="000000"/>
              </a:solidFill>
              <a:latin typeface="Arial"/>
            </a:endParaRPr>
          </a:p>
        </p:txBody>
      </p:sp>
      <p:sp>
        <p:nvSpPr>
          <p:cNvPr id="249" name="PlaceHolder 1"/>
          <p:cNvSpPr>
            <a:spLocks noGrp="1"/>
          </p:cNvSpPr>
          <p:nvPr>
            <p:ph type="title"/>
          </p:nvPr>
        </p:nvSpPr>
        <p:spPr>
          <a:xfrm>
            <a:off x="2987640" y="1125000"/>
            <a:ext cx="3694320" cy="676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Tahoma"/>
                <a:cs typeface="Akhbar MT"/>
              </a:rPr>
              <a:t>بسم الله الرحمن الرحيم</a:t>
            </a:r>
            <a:endParaRPr b="0" lang="en-US" sz="4400" spc="-1" strike="noStrike">
              <a:solidFill>
                <a:srgbClr val="333399"/>
              </a:solidFill>
              <a:latin typeface="Tahoma"/>
            </a:endParaRPr>
          </a:p>
        </p:txBody>
      </p:sp>
      <p:sp>
        <p:nvSpPr>
          <p:cNvPr id="250" name=""/>
          <p:cNvSpPr txBox="1"/>
          <p:nvPr/>
        </p:nvSpPr>
        <p:spPr>
          <a:xfrm>
            <a:off x="1332000" y="3716280"/>
            <a:ext cx="6985080" cy="11988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Farsi Simple Bold"/>
              </a:rPr>
              <a:t>أريكسون (التقسيم النفسي والاجتماعي)</a:t>
            </a:r>
            <a:endParaRPr b="1" lang="en-US" sz="1800" spc="1" strike="noStrike">
              <a:ln w="9360">
                <a:solidFill>
                  <a:srgbClr val="0000ff"/>
                </a:solidFill>
                <a:miter/>
              </a:ln>
              <a:solidFill>
                <a:srgbClr val="0000ff"/>
              </a:solidFill>
              <a:latin typeface="Farsi Simple Bold"/>
              <a:ea typeface="Farsi Simple Bold"/>
            </a:endParaRPr>
          </a:p>
        </p:txBody>
      </p:sp>
      <p:sp>
        <p:nvSpPr>
          <p:cNvPr id="251" name=""/>
          <p:cNvSpPr/>
          <p:nvPr/>
        </p:nvSpPr>
        <p:spPr>
          <a:xfrm>
            <a:off x="395280" y="5157720"/>
            <a:ext cx="3024360" cy="1440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324000" y="-703080"/>
            <a:ext cx="7991280" cy="8137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cs typeface="Arabic Typesetting"/>
              </a:rPr>
              <a:t>قسم أريكسون مراحل النمو الي ثمان مراحل على أساس نفسي واجتماعي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Arabic Typesetting"/>
              </a:rPr>
              <a:t>وقد بني تقسيمه على افتراض وجود أزمات نمو حرجه تظهر في مراحل النمو المختلفة وأعتبر أن الازمات الاجتماعية التي يتعرض لها الفرد أثناء نموه أكثر من الازمات البيولوجية وفيما يلي وصف لهذه المرا حل</a:t>
            </a:r>
            <a:r>
              <a:rPr b="1" lang="ar-SA" sz="4400" spc="-1" strike="noStrike">
                <a:solidFill>
                  <a:srgbClr val="000000"/>
                </a:solidFill>
                <a:latin typeface="Arial"/>
                <a:ea typeface="AdvertisingBold"/>
              </a:rPr>
              <a:t> </a:t>
            </a:r>
            <a:r>
              <a:rPr b="1" lang="ar-SA" sz="4400" spc="-1" strike="noStrike">
                <a:solidFill>
                  <a:srgbClr val="0000ff"/>
                </a:solidFill>
                <a:latin typeface="Arial"/>
                <a:ea typeface="AdvertisingBold"/>
              </a:rPr>
              <a:t>:</a:t>
            </a:r>
            <a:endParaRPr b="0" lang="en-US" sz="4400" spc="-1" strike="noStrike">
              <a:solidFill>
                <a:srgbClr val="000000"/>
              </a:solidFill>
              <a:latin typeface="Arial"/>
            </a:endParaRPr>
          </a:p>
        </p:txBody>
      </p:sp>
      <p:sp>
        <p:nvSpPr>
          <p:cNvPr id="253" name=""/>
          <p:cNvSpPr/>
          <p:nvPr/>
        </p:nvSpPr>
        <p:spPr>
          <a:xfrm flipH="1">
            <a:off x="-360" y="671400"/>
            <a:ext cx="5148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5076720" y="287280"/>
            <a:ext cx="23958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علم نفس النمو</a:t>
            </a:r>
            <a:endParaRPr b="0" lang="en-US" sz="2800" spc="-1" strike="noStrike">
              <a:solidFill>
                <a:srgbClr val="000000"/>
              </a:solidFill>
              <a:latin typeface="Arial"/>
            </a:endParaRPr>
          </a:p>
        </p:txBody>
      </p:sp>
      <p:sp>
        <p:nvSpPr>
          <p:cNvPr id="255" name=""/>
          <p:cNvSpPr/>
          <p:nvPr/>
        </p:nvSpPr>
        <p:spPr>
          <a:xfrm flipH="1">
            <a:off x="7596000" y="671400"/>
            <a:ext cx="154764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1145520"/>
            <a:ext cx="8964720" cy="64306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يعتبر أريكسون الإحساس بالثقة بالنفس والبيئة أول مكونات الشخصية السوية ويظهر هذا الإحساس خلال السنة الأولى من حياة الطفل لأنها أعوام التوكل الكلي علي الاخرين ويتمثل هذا الإحساس في سهولة حصوله على الغذاء والنوم والراحه</a:t>
            </a:r>
            <a:r>
              <a:rPr b="1" lang="en-US" sz="3200" spc="-1" strike="noStrike">
                <a:solidFill>
                  <a:srgbClr val="000000"/>
                </a:solidFill>
                <a:latin typeface="Arial"/>
              </a:rPr>
              <a:t>0</a:t>
            </a:r>
            <a:r>
              <a:rPr b="1" lang="hi-IN" sz="3200" spc="-1" strike="noStrike">
                <a:solidFill>
                  <a:srgbClr val="000000"/>
                </a:solidFill>
                <a:latin typeface="Arial"/>
              </a:rPr>
              <a:t>فاذا ما تحقق لذلك وثق بنفسه والآخرين وتلعب أساليب التربية السليمة والجو العائلي المتماسك دور كبير في تنمية هذه الثقة وبالتالي النمو السليم لشخصية الطفل  وفي مقابل ذلك فان البيئة التي تشعر الطفل بفقدان الثقة بنفسه وبيئته فإنه يجد صعوبة في تكوينها في المراحل التالية</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57" name=""/>
          <p:cNvSpPr/>
          <p:nvPr/>
        </p:nvSpPr>
        <p:spPr>
          <a:xfrm>
            <a:off x="1187280" y="765000"/>
            <a:ext cx="6624720" cy="2022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66"/>
                </a:solidFill>
                <a:latin typeface="Arial"/>
                <a:ea typeface="PT Bold Heading"/>
              </a:rPr>
              <a:t>   المرحلة الاولي</a:t>
            </a:r>
            <a:r>
              <a:rPr b="1" lang="ar-SA" sz="2800" spc="-1" strike="noStrike">
                <a:solidFill>
                  <a:srgbClr val="ff0000"/>
                </a:solidFill>
                <a:latin typeface="Arial"/>
                <a:ea typeface="Andalus"/>
              </a:rPr>
              <a:t> الإحساس بالثقة في مقابل عدم الثق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Andalus"/>
              </a:rPr>
              <a:t>(من الولادة حتى </a:t>
            </a:r>
            <a:r>
              <a:rPr b="1" lang="ar-SA" sz="2800" spc="-1" strike="noStrike">
                <a:solidFill>
                  <a:srgbClr val="ff0000"/>
                </a:solidFill>
                <a:latin typeface="Arial"/>
                <a:ea typeface="Andalus"/>
              </a:rPr>
              <a:t>18</a:t>
            </a:r>
            <a:r>
              <a:rPr b="1" lang="ar-SA" sz="2800" spc="-1" strike="noStrike">
                <a:solidFill>
                  <a:srgbClr val="ff0000"/>
                </a:solidFill>
                <a:latin typeface="Arial"/>
                <a:ea typeface="Andalus"/>
              </a:rPr>
              <a:t> شهر</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
          <p:cNvSpPr/>
          <p:nvPr/>
        </p:nvSpPr>
        <p:spPr>
          <a:xfrm flipH="1">
            <a:off x="-108360" y="404640"/>
            <a:ext cx="5148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4968720" y="117360"/>
            <a:ext cx="23958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علم نفس النمو</a:t>
            </a:r>
            <a:endParaRPr b="0" lang="en-US" sz="2800" spc="-1" strike="noStrike">
              <a:solidFill>
                <a:srgbClr val="000000"/>
              </a:solidFill>
              <a:latin typeface="Arial"/>
            </a:endParaRPr>
          </a:p>
        </p:txBody>
      </p:sp>
      <p:sp>
        <p:nvSpPr>
          <p:cNvPr id="260" name=""/>
          <p:cNvSpPr/>
          <p:nvPr/>
        </p:nvSpPr>
        <p:spPr>
          <a:xfrm flipH="1">
            <a:off x="7488000" y="404640"/>
            <a:ext cx="154764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0" y="827280"/>
            <a:ext cx="9144000" cy="6430680"/>
          </a:xfrm>
          <a:prstGeom prst="rect">
            <a:avLst/>
          </a:prstGeom>
          <a:noFill/>
          <a:ln w="0">
            <a:noFill/>
          </a:ln>
        </p:spPr>
        <p:style>
          <a:lnRef idx="0"/>
          <a:fillRef idx="0"/>
          <a:effectRef idx="0"/>
          <a:fontRef idx="minor"/>
        </p:style>
        <p:txBody>
          <a:bodyPr lIns="90000" rIns="90000" tIns="46800" bIns="46800" anchor="ctr">
            <a:spAutoFit/>
          </a:bodyPr>
          <a:p>
            <a:pPr algn="r" rtl="1">
              <a:buSzPct val="102872"/>
              <a:buBlip>
                <a:blip r:embed="rId1"/>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عد أن تمكن الطفل من زرع بذور الثقة بالنفس في المرحلة الأولي يبداء الانتقال إلي مكون أخر بالشخصية السوية وهو تأكيد الإحساس بالاستقلالية حيث يقوم الطفل بأداء بعض الأفعال بنفسه  دون مساعدة الاخرين  ليثبت قدراته  مهارته الحركية الجديدة في القفز والكلام  ويلعب الجوء الاسري والكبار دورا في تنمية الاستقلالية بإتباع أساليب التنشئة الاجتماعية التي تجمع بين الحزم والتسامح وتجنب الاطفال مشاعر الخجل والشك في قيمته كشخص وفي جدوى أفعاله في حين تولد الأجواء الاستبدادية وأساليب الحماية الزائدة مشاعر الشك.</a:t>
            </a:r>
            <a:endParaRPr b="0" lang="en-US" sz="3200" spc="-1" strike="noStrike">
              <a:solidFill>
                <a:srgbClr val="000000"/>
              </a:solidFill>
              <a:latin typeface="Arial"/>
            </a:endParaRPr>
          </a:p>
        </p:txBody>
      </p:sp>
      <p:sp>
        <p:nvSpPr>
          <p:cNvPr id="262" name=""/>
          <p:cNvSpPr/>
          <p:nvPr/>
        </p:nvSpPr>
        <p:spPr>
          <a:xfrm>
            <a:off x="324000" y="323640"/>
            <a:ext cx="7704000" cy="18612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a:t>
            </a:r>
            <a:r>
              <a:rPr b="0" lang="ar-SA" sz="4400" spc="-1" strike="noStrike">
                <a:solidFill>
                  <a:srgbClr val="000000"/>
                </a:solidFill>
                <a:latin typeface="Arial"/>
              </a:rPr>
              <a:t>- </a:t>
            </a:r>
            <a:r>
              <a:rPr b="0" lang="ar-SA" sz="2800" spc="-1" strike="noStrike">
                <a:solidFill>
                  <a:srgbClr val="660066"/>
                </a:solidFill>
                <a:latin typeface="Arial"/>
                <a:cs typeface="PT Bold Heading"/>
              </a:rPr>
              <a:t>المرحلة الثانية</a:t>
            </a:r>
            <a:r>
              <a:rPr b="0" lang="ar-SA" sz="2800" spc="-1" strike="noStrike">
                <a:solidFill>
                  <a:srgbClr val="000000"/>
                </a:solidFill>
                <a:latin typeface="Arial"/>
              </a:rPr>
              <a:t> </a:t>
            </a:r>
            <a:r>
              <a:rPr b="0" lang="ar-SA" sz="2800" spc="-1" strike="noStrike">
                <a:solidFill>
                  <a:srgbClr val="ff0000"/>
                </a:solidFill>
                <a:latin typeface="Arial"/>
                <a:cs typeface="Andalus"/>
              </a:rPr>
              <a:t>الإحساس بالاستقلال مقابل الشعور بالخجل والشك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a:t>
            </a:r>
            <a:r>
              <a:rPr b="0" lang="ar-SA" sz="2800" spc="-1" strike="noStrike">
                <a:solidFill>
                  <a:srgbClr val="ff0000"/>
                </a:solidFill>
                <a:latin typeface="Arial"/>
              </a:rPr>
              <a:t>18</a:t>
            </a:r>
            <a:r>
              <a:rPr b="0" lang="ar-SA" sz="2800" spc="-1" strike="noStrike">
                <a:solidFill>
                  <a:srgbClr val="ff0000"/>
                </a:solidFill>
                <a:latin typeface="Arial"/>
              </a:rPr>
              <a:t> شهراً الي </a:t>
            </a:r>
            <a:r>
              <a:rPr b="0" lang="ar-SA" sz="2800" spc="-1" strike="noStrike">
                <a:solidFill>
                  <a:srgbClr val="ff0000"/>
                </a:solidFill>
                <a:latin typeface="Arial"/>
              </a:rPr>
              <a:t>3</a:t>
            </a:r>
            <a:r>
              <a:rPr b="0" lang="ar-SA" sz="2800" spc="-1" strike="noStrike">
                <a:solidFill>
                  <a:srgbClr val="ff0000"/>
                </a:solidFill>
                <a:latin typeface="Arial"/>
              </a:rPr>
              <a:t>سن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3" name=""/>
          <p:cNvSpPr/>
          <p:nvPr/>
        </p:nvSpPr>
        <p:spPr>
          <a:xfrm flipH="1">
            <a:off x="-360" y="547560"/>
            <a:ext cx="5148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5076720" y="260280"/>
            <a:ext cx="23958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علم نفس النمو</a:t>
            </a:r>
            <a:r>
              <a:rPr b="0" lang="en-US" sz="1800" spc="-1" strike="noStrike">
                <a:solidFill>
                  <a:srgbClr val="800000"/>
                </a:solidFill>
                <a:latin typeface="Arial"/>
              </a:rPr>
              <a:t> </a:t>
            </a:r>
            <a:endParaRPr b="0" lang="en-US" sz="1800" spc="-1" strike="noStrike">
              <a:solidFill>
                <a:srgbClr val="000000"/>
              </a:solidFill>
              <a:latin typeface="Arial"/>
            </a:endParaRPr>
          </a:p>
        </p:txBody>
      </p:sp>
      <p:sp>
        <p:nvSpPr>
          <p:cNvPr id="265" name=""/>
          <p:cNvSpPr/>
          <p:nvPr/>
        </p:nvSpPr>
        <p:spPr>
          <a:xfrm flipH="1">
            <a:off x="7596000" y="547560"/>
            <a:ext cx="154764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11280" y="1689480"/>
            <a:ext cx="7848360" cy="5943240"/>
          </a:xfrm>
          <a:prstGeom prst="rect">
            <a:avLst/>
          </a:prstGeom>
          <a:noFill/>
          <a:ln w="0">
            <a:noFill/>
          </a:ln>
        </p:spPr>
        <p:style>
          <a:lnRef idx="0"/>
          <a:fillRef idx="0"/>
          <a:effectRef idx="0"/>
          <a:fontRef idx="minor"/>
        </p:style>
        <p:txBody>
          <a:bodyPr lIns="90000" rIns="90000" tIns="46800" bIns="46800" anchor="ctr">
            <a:spAutoFit/>
          </a:bodyPr>
          <a:p>
            <a:pPr algn="r" rtl="1">
              <a:buSzPct val="102872"/>
              <a:buBlip>
                <a:blip r:embed="rId1"/>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عد أن يكتسب الطفل في المرحلة السابقة الاحساس بالاستقلالية فإنه يسعى في هذه المرحلة الي اكتشاف للعالم المحيط به والأشخاص المحيطين به والارتباط معهم والاقتناع بامتلاكه قدرة تمكنه من التأثير في الاشياء والحوادث فيقحم نفسه ونشاطاته في المجال الخارجي أما إذا أعيق نمو الفرد نتيجة الشعور بالذنب  فإنه يصبح أنساناً خائفا متردداً غير قادر على التعبير على استقلاله من خلال ما يدعوه أر كسون سلوك المبادرة</a:t>
            </a:r>
            <a:r>
              <a:rPr b="0" lang="ar-SA" sz="3200" spc="-1" strike="noStrike">
                <a:solidFill>
                  <a:srgbClr val="000000"/>
                </a:solidFill>
                <a:latin typeface="Arial"/>
              </a:rPr>
              <a:t> </a:t>
            </a:r>
            <a:r>
              <a:rPr b="1" lang="ar-SA" sz="3200" spc="-1" strike="noStrike">
                <a:solidFill>
                  <a:srgbClr val="000000"/>
                </a:solidFill>
                <a:latin typeface="Arial"/>
              </a:rPr>
              <a:t>.</a:t>
            </a:r>
            <a:endParaRPr b="0" lang="en-US" sz="3200" spc="-1" strike="noStrike">
              <a:solidFill>
                <a:srgbClr val="000000"/>
              </a:solidFill>
              <a:latin typeface="Arial"/>
            </a:endParaRPr>
          </a:p>
        </p:txBody>
      </p:sp>
      <p:sp>
        <p:nvSpPr>
          <p:cNvPr id="267" name=""/>
          <p:cNvSpPr/>
          <p:nvPr/>
        </p:nvSpPr>
        <p:spPr>
          <a:xfrm>
            <a:off x="-468360" y="767160"/>
            <a:ext cx="8209080" cy="1434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Andalus"/>
              </a:rPr>
              <a:t> </a:t>
            </a:r>
            <a:r>
              <a:rPr b="0" lang="hi-IN" sz="2800" spc="-1" strike="noStrike">
                <a:solidFill>
                  <a:srgbClr val="660066"/>
                </a:solidFill>
                <a:latin typeface="Arial"/>
                <a:cs typeface="PT Bold Heading"/>
              </a:rPr>
              <a:t>المرحلة الثالثة :</a:t>
            </a:r>
            <a:r>
              <a:rPr b="0" lang="en-US" sz="1800" spc="-1" strike="noStrike">
                <a:solidFill>
                  <a:srgbClr val="000000"/>
                </a:solidFill>
                <a:latin typeface="Arial"/>
              </a:rPr>
              <a:t> </a:t>
            </a:r>
            <a:r>
              <a:rPr b="1" lang="hi-IN" sz="2800" spc="-1" strike="noStrike">
                <a:solidFill>
                  <a:srgbClr val="ff0000"/>
                </a:solidFill>
                <a:latin typeface="Arial"/>
                <a:cs typeface="Andalus"/>
              </a:rPr>
              <a:t>الاحساس بالمبادرة في مقابل الاحساس بالذنب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ndalus"/>
              </a:rPr>
              <a:t>(</a:t>
            </a:r>
            <a:r>
              <a:rPr b="1" lang="en-US" sz="2800" spc="-1" strike="noStrike">
                <a:solidFill>
                  <a:srgbClr val="ff0000"/>
                </a:solidFill>
                <a:latin typeface="Arial"/>
                <a:ea typeface="Andalus"/>
              </a:rPr>
              <a:t>3-6</a:t>
            </a:r>
            <a:r>
              <a:rPr b="1" lang="en-US" sz="2800" spc="-1" strike="noStrike">
                <a:solidFill>
                  <a:srgbClr val="ff0000"/>
                </a:solidFill>
                <a:latin typeface="Arial"/>
                <a:ea typeface="Andalus"/>
              </a:rPr>
              <a:t> سنوات</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68" name=""/>
          <p:cNvSpPr/>
          <p:nvPr/>
        </p:nvSpPr>
        <p:spPr>
          <a:xfrm flipH="1">
            <a:off x="-360" y="569880"/>
            <a:ext cx="5148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5076720" y="208080"/>
            <a:ext cx="23958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علم نفس النمو</a:t>
            </a:r>
            <a:r>
              <a:rPr b="0" lang="en-US" sz="1800" spc="-1" strike="noStrike">
                <a:solidFill>
                  <a:srgbClr val="800000"/>
                </a:solidFill>
                <a:latin typeface="Arial"/>
              </a:rPr>
              <a:t> </a:t>
            </a:r>
            <a:endParaRPr b="0" lang="en-US" sz="1800" spc="-1" strike="noStrike">
              <a:solidFill>
                <a:srgbClr val="000000"/>
              </a:solidFill>
              <a:latin typeface="Arial"/>
            </a:endParaRPr>
          </a:p>
        </p:txBody>
      </p:sp>
      <p:sp>
        <p:nvSpPr>
          <p:cNvPr id="270" name=""/>
          <p:cNvSpPr/>
          <p:nvPr/>
        </p:nvSpPr>
        <p:spPr>
          <a:xfrm flipH="1">
            <a:off x="7596000" y="569880"/>
            <a:ext cx="154764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2">
                                  <p:stCondLst>
                                    <p:cond delay="0"/>
                                  </p:stCondLst>
                                  <p:childTnLst>
                                    <p:set>
                                      <p:cBhvr>
                                        <p:cTn id="6" dur="1" fill="hold">
                                          <p:stCondLst>
                                            <p:cond delay="0"/>
                                          </p:stCondLst>
                                        </p:cTn>
                                        <p:tgtEl>
                                          <p:spTgt spid="267">
                                            <p:txEl>
                                              <p:pRg st="0" end="0"/>
                                            </p:txEl>
                                          </p:spTgt>
                                        </p:tgtEl>
                                        <p:attrNameLst>
                                          <p:attrName>style.visibility</p:attrName>
                                        </p:attrNameLst>
                                      </p:cBhvr>
                                      <p:to>
                                        <p:strVal val="visible"/>
                                      </p:to>
                                    </p:set>
                                    <p:animScale>
                                      <p:cBhvr>
                                        <p:cTn id="7" dur="1000" fill="hold">
                                          <p:stCondLst>
                                            <p:cond delay="0"/>
                                          </p:stCondLst>
                                        </p:cTn>
                                        <p:tgtEl>
                                          <p:spTgt spid="26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267">
                                            <p:txEl>
                                              <p:pRg st="0" end="0"/>
                                            </p:txEl>
                                          </p:spTgt>
                                        </p:tgtEl>
                                      </p:cBhvr>
                                    </p:animMotion>
                                    <p:animEffect filter="fade" transition="in">
                                      <p:cBhvr additive="repl">
                                        <p:cTn id="9" dur="1000"/>
                                        <p:tgtEl>
                                          <p:spTgt spid="267">
                                            <p:txEl>
                                              <p:pRg st="0" end="0"/>
                                            </p:txEl>
                                          </p:spTgt>
                                        </p:tgtEl>
                                      </p:cBhvr>
                                    </p:animEffect>
                                  </p:childTnLst>
                                </p:cTn>
                              </p:par>
                            </p:childTnLst>
                          </p:cTn>
                        </p:par>
                        <p:par>
                          <p:cTn id="10" fill="hold">
                            <p:stCondLst>
                              <p:cond delay="1000"/>
                            </p:stCondLst>
                            <p:childTnLst>
                              <p:par>
                                <p:cTn id="11" nodeType="afterEffect" fill="hold" presetClass="entr" presetID="18" presetSubtype="12">
                                  <p:stCondLst>
                                    <p:cond delay="0"/>
                                  </p:stCondLst>
                                  <p:childTnLst>
                                    <p:set>
                                      <p:cBhvr>
                                        <p:cTn id="12" dur="1" fill="hold">
                                          <p:stCondLst>
                                            <p:cond delay="0"/>
                                          </p:stCondLst>
                                        </p:cTn>
                                        <p:tgtEl>
                                          <p:spTgt spid="266"/>
                                        </p:tgtEl>
                                        <p:attrNameLst>
                                          <p:attrName>style.visibility</p:attrName>
                                        </p:attrNameLst>
                                      </p:cBhvr>
                                      <p:to>
                                        <p:strVal val="visible"/>
                                      </p:to>
                                    </p:set>
                                    <p:animEffect filter="strips(downLeft)" transition="in">
                                      <p:cBhvr additive="repl">
                                        <p:cTn id="13"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539640" y="694440"/>
            <a:ext cx="7128000" cy="1373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660066"/>
                </a:solidFill>
                <a:latin typeface="Arial"/>
                <a:cs typeface="PT Bold Heading"/>
              </a:rPr>
              <a:t>المرحلة الرابعة:</a:t>
            </a:r>
            <a:r>
              <a:rPr b="1" lang="en-US" sz="2800" spc="-1" strike="noStrike">
                <a:solidFill>
                  <a:srgbClr val="ff0000"/>
                </a:solidFill>
                <a:latin typeface="Arial"/>
                <a:ea typeface="Andalus"/>
              </a:rPr>
              <a:t> الاحساس بالكفاية مقابل الشعور بالدون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ndalus"/>
              </a:rPr>
              <a:t>(</a:t>
            </a:r>
            <a:r>
              <a:rPr b="1" lang="en-US" sz="2800" spc="-1" strike="noStrike">
                <a:solidFill>
                  <a:srgbClr val="ff0000"/>
                </a:solidFill>
                <a:latin typeface="Arial"/>
                <a:ea typeface="Andalus"/>
              </a:rPr>
              <a:t>6</a:t>
            </a:r>
            <a:r>
              <a:rPr b="1" lang="en-US" sz="2800" spc="-1" strike="noStrike">
                <a:solidFill>
                  <a:srgbClr val="ff0000"/>
                </a:solidFill>
                <a:latin typeface="Arial"/>
                <a:ea typeface="Andalus"/>
              </a:rPr>
              <a:t>- </a:t>
            </a:r>
            <a:r>
              <a:rPr b="1" lang="en-US" sz="2800" spc="-1" strike="noStrike">
                <a:solidFill>
                  <a:srgbClr val="ff0000"/>
                </a:solidFill>
                <a:latin typeface="Arial"/>
                <a:ea typeface="Andalus"/>
              </a:rPr>
              <a:t>12</a:t>
            </a:r>
            <a:r>
              <a:rPr b="1" lang="en-US" sz="2800" spc="-1" strike="noStrike">
                <a:solidFill>
                  <a:srgbClr val="ff0000"/>
                </a:solidFill>
                <a:latin typeface="Arial"/>
                <a:ea typeface="Andalus"/>
              </a:rPr>
              <a:t>):</a:t>
            </a:r>
            <a:endParaRPr b="0" lang="en-US" sz="2800" spc="-1" strike="noStrike">
              <a:solidFill>
                <a:srgbClr val="000000"/>
              </a:solidFill>
              <a:latin typeface="Arial"/>
            </a:endParaRPr>
          </a:p>
        </p:txBody>
      </p:sp>
      <p:sp>
        <p:nvSpPr>
          <p:cNvPr id="272" name=""/>
          <p:cNvSpPr/>
          <p:nvPr/>
        </p:nvSpPr>
        <p:spPr>
          <a:xfrm>
            <a:off x="250920" y="1570320"/>
            <a:ext cx="7732440" cy="4968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نمي الطفل في هذه المرحلة مهاراته الازمة للمشاركة في النشاطات المختلفة تحصيلية كانت أو غير  ذلك  ليصبح فرد منتج قادر على التحصيل والانجاز فإذا حقق الطفل خلال ذلك نجاحات أكثر من الاخفاق  والفشل سواء داخل المدرسة أو المنزل سينمو لديه الشعور بالكفاية وبدون ذلك يشعر الطفل بالدونية وتنمو لديه الاحساس بالنقص.</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3" name=""/>
          <p:cNvSpPr/>
          <p:nvPr/>
        </p:nvSpPr>
        <p:spPr>
          <a:xfrm flipH="1">
            <a:off x="-360" y="404640"/>
            <a:ext cx="5148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5076720" y="117360"/>
            <a:ext cx="23958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علم نفس النمو</a:t>
            </a:r>
            <a:r>
              <a:rPr b="0" lang="en-US" sz="1800" spc="-1" strike="noStrike">
                <a:solidFill>
                  <a:srgbClr val="800000"/>
                </a:solidFill>
                <a:latin typeface="Arial"/>
              </a:rPr>
              <a:t> </a:t>
            </a:r>
            <a:endParaRPr b="0" lang="en-US" sz="1800" spc="-1" strike="noStrike">
              <a:solidFill>
                <a:srgbClr val="000000"/>
              </a:solidFill>
              <a:latin typeface="Arial"/>
            </a:endParaRPr>
          </a:p>
        </p:txBody>
      </p:sp>
      <p:sp>
        <p:nvSpPr>
          <p:cNvPr id="275" name=""/>
          <p:cNvSpPr/>
          <p:nvPr/>
        </p:nvSpPr>
        <p:spPr>
          <a:xfrm flipH="1">
            <a:off x="7596000" y="404640"/>
            <a:ext cx="154764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flipH="1">
            <a:off x="-360" y="620640"/>
            <a:ext cx="5148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76720" y="333360"/>
            <a:ext cx="23958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علم نفس النمو</a:t>
            </a:r>
            <a:endParaRPr b="0" lang="en-US" sz="2800" spc="-1" strike="noStrike">
              <a:solidFill>
                <a:srgbClr val="000000"/>
              </a:solidFill>
              <a:latin typeface="Arial"/>
            </a:endParaRPr>
          </a:p>
        </p:txBody>
      </p:sp>
      <p:sp>
        <p:nvSpPr>
          <p:cNvPr id="278" name=""/>
          <p:cNvSpPr/>
          <p:nvPr/>
        </p:nvSpPr>
        <p:spPr>
          <a:xfrm flipH="1">
            <a:off x="7596000" y="620640"/>
            <a:ext cx="154764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179280" y="836640"/>
            <a:ext cx="7632720" cy="10080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66"/>
                </a:solidFill>
                <a:latin typeface="Arial"/>
                <a:cs typeface="PT Bold Heading"/>
              </a:rPr>
              <a:t>المرحلة الخامسة</a:t>
            </a:r>
            <a:r>
              <a:rPr b="1" lang="ar-SA" sz="3200" spc="-1" strike="noStrike">
                <a:solidFill>
                  <a:srgbClr val="660066"/>
                </a:solidFill>
                <a:latin typeface="Arial"/>
                <a:ea typeface="Andalus"/>
              </a:rPr>
              <a:t> :</a:t>
            </a:r>
            <a:r>
              <a:rPr b="0" lang="ar-SA" sz="1800" spc="-1" strike="noStrike">
                <a:solidFill>
                  <a:srgbClr val="000000"/>
                </a:solidFill>
                <a:latin typeface="Arial"/>
              </a:rPr>
              <a:t> </a:t>
            </a:r>
            <a:r>
              <a:rPr b="1" lang="ar-SA" sz="2800" spc="-1" strike="noStrike">
                <a:solidFill>
                  <a:srgbClr val="ff0000"/>
                </a:solidFill>
                <a:latin typeface="Arial"/>
                <a:cs typeface="Andalus"/>
              </a:rPr>
              <a:t>الاحساس بالهوية مقابل الاحساس باضطراب الدور (</a:t>
            </a:r>
            <a:r>
              <a:rPr b="1" lang="ar-SA" sz="2800" spc="-1" strike="noStrike">
                <a:solidFill>
                  <a:srgbClr val="ff0000"/>
                </a:solidFill>
                <a:latin typeface="Arial"/>
                <a:ea typeface="Andalus"/>
              </a:rPr>
              <a:t>12</a:t>
            </a:r>
            <a:r>
              <a:rPr b="1" lang="ar-SA" sz="2800" spc="-1" strike="noStrike">
                <a:solidFill>
                  <a:srgbClr val="ff0000"/>
                </a:solidFill>
                <a:latin typeface="Arial"/>
                <a:ea typeface="Andalus"/>
              </a:rPr>
              <a:t>-</a:t>
            </a:r>
            <a:r>
              <a:rPr b="1" lang="ar-SA" sz="2800" spc="-1" strike="noStrike">
                <a:solidFill>
                  <a:srgbClr val="ff0000"/>
                </a:solidFill>
                <a:latin typeface="Arial"/>
                <a:ea typeface="Andalus"/>
              </a:rPr>
              <a:t>18</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280" name=""/>
          <p:cNvSpPr/>
          <p:nvPr/>
        </p:nvSpPr>
        <p:spPr>
          <a:xfrm>
            <a:off x="250920" y="1892160"/>
            <a:ext cx="8569080" cy="6430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3200" spc="-1" strike="noStrike">
                <a:solidFill>
                  <a:srgbClr val="000000"/>
                </a:solidFill>
                <a:latin typeface="Arial"/>
              </a:rPr>
              <a:t>وتبداء هذه المرحلة مع بداية المراهقة حيث يكو ن المراهق في شغل شاغل للبحث عن ذاته وهويته أي يحاول جاهدا أن يجيب عل تساؤل من أنا ومن أكون وما دوري في المجتمع  وهل أملك الامكانية لإثبات ذاتي ووجودي فان أستطاع المراهق أن يحدد هويته وأهدافه فانه يتمكن من توجيه إمكانياته وقواه الذاتية لتحقيق أهدافه وحل مشكلاته فإن لم يتمكن من ذلك حدث ما يسميه أريكسون بغموض الدور  حيث لا يتبين المراهق دوره ولا يعرف ذاته ويعجز عن التكيف ويعبر عن ذلك في أضطرابات سلوكية كالعصيان  والتمرد والشك</a:t>
            </a:r>
            <a:r>
              <a:rPr b="0" lang="en-US" sz="2400" spc="-1" strike="noStrike">
                <a:solidFill>
                  <a:srgbClr val="000000"/>
                </a:solidFill>
                <a:latin typeface="Arial"/>
              </a:rPr>
              <a:t> </a:t>
            </a:r>
            <a:r>
              <a:rPr b="0" lang="ar-SA"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52360" y="551520"/>
            <a:ext cx="8064360" cy="1373760"/>
          </a:xfrm>
          <a:prstGeom prst="rect">
            <a:avLst/>
          </a:prstGeom>
          <a:noFill/>
          <a:ln w="0">
            <a:noFill/>
          </a:ln>
        </p:spPr>
        <p:style>
          <a:lnRef idx="0"/>
          <a:fillRef idx="0"/>
          <a:effectRef idx="0"/>
          <a:fontRef idx="minor"/>
        </p:style>
        <p:txBody>
          <a:bodyPr lIns="90000" rIns="90000" tIns="46800" bIns="46800" anchor="ctr">
            <a:spAutoFit/>
          </a:bodyPr>
          <a:p>
            <a:pPr algn="r" rtl="1">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66"/>
                </a:solidFill>
                <a:latin typeface="Arial"/>
                <a:cs typeface="PT Bold Heading"/>
              </a:rPr>
              <a:t>المرحلة السادسة</a:t>
            </a:r>
            <a:r>
              <a:rPr b="1" lang="ar-SA" sz="2800" spc="-1" strike="noStrike">
                <a:solidFill>
                  <a:srgbClr val="ff0000"/>
                </a:solidFill>
                <a:latin typeface="Arial"/>
                <a:ea typeface="Andalus"/>
              </a:rPr>
              <a:t> : الاحساس بالا لفه في مقابل الاحساس بالعزل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Andalus"/>
              </a:rPr>
              <a:t>(</a:t>
            </a:r>
            <a:r>
              <a:rPr b="1" lang="ar-SA" sz="2800" spc="-1" strike="noStrike">
                <a:solidFill>
                  <a:srgbClr val="ff0000"/>
                </a:solidFill>
                <a:latin typeface="Arial"/>
                <a:ea typeface="Andalus"/>
              </a:rPr>
              <a:t>18-35</a:t>
            </a:r>
            <a:r>
              <a:rPr b="1" lang="ar-SA" sz="2800" spc="-1" strike="noStrike">
                <a:solidFill>
                  <a:srgbClr val="ff0000"/>
                </a:solidFill>
                <a:latin typeface="Arial"/>
                <a:ea typeface="Andalus"/>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2" name=""/>
          <p:cNvSpPr/>
          <p:nvPr/>
        </p:nvSpPr>
        <p:spPr>
          <a:xfrm>
            <a:off x="250920" y="1022760"/>
            <a:ext cx="8353440" cy="5455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إن المرحلة السابقة وهي مرحلة البحث عن هوية ذاتية مستقل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فإذا تم ذلك بنجاح فان يدمج هويته مع هوية الاخرين  فهو على استعداد للاحساس بالود والالفه مع الاخرين وأن يشاركهم في حياتهم عندئذ يتمكن من تحقيق الزواج الناجح  أو الصداقة المتينة بينما يقود الفشل في ذلك الي العزلة  ويعتقد أريكسون أن الوصول الي العزلة دليل على فشل الفرد في أختار وتحقيق مطالب النمو في المراحل السابقة</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283" name=""/>
          <p:cNvSpPr/>
          <p:nvPr/>
        </p:nvSpPr>
        <p:spPr>
          <a:xfrm flipH="1">
            <a:off x="-360" y="693720"/>
            <a:ext cx="5148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76720" y="406440"/>
            <a:ext cx="239580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علم نفس النمو</a:t>
            </a:r>
            <a:r>
              <a:rPr b="0" lang="en-US" sz="2800" spc="-1" strike="noStrike">
                <a:solidFill>
                  <a:srgbClr val="8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flipH="1">
            <a:off x="7596000" y="693720"/>
            <a:ext cx="154764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4T09:33:36Z</dcterms:created>
  <dc:creator>alhamdi</dc:creator>
  <dc:description/>
  <dc:language>en-US</dc:language>
  <cp:lastModifiedBy>دكتور أشرف عبده</cp:lastModifiedBy>
  <dcterms:modified xsi:type="dcterms:W3CDTF">2006-10-26T18:56:14Z</dcterms:modified>
  <cp:revision>82</cp:revision>
  <dc:subject/>
  <dc:title>بسم الله الرحمن الرحيم</dc:title>
</cp:coreProperties>
</file>