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9.wmf" ContentType="image/x-wmf"/>
  <Override PartName="/ppt/media/image11.png" ContentType="image/png"/>
  <Override PartName="/ppt/media/image8.wmf" ContentType="image/x-wmf"/>
  <Override PartName="/ppt/media/image13.png" ContentType="image/png"/>
  <Override PartName="/ppt/media/image33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7.wmf" ContentType="image/x-wmf"/>
  <Override PartName="/ppt/media/image12.png" ContentType="image/png"/>
  <Override PartName="/ppt/media/image30.wmf" ContentType="image/x-wmf"/>
  <Override PartName="/ppt/media/image10.wmf" ContentType="image/x-wmf"/>
  <Override PartName="/ppt/media/image25.png" ContentType="image/png"/>
  <Override PartName="/ppt/media/image35.wmf" ContentType="image/x-wmf"/>
  <Override PartName="/ppt/media/image15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32.wmf" ContentType="image/x-wmf"/>
  <Override PartName="/ppt/media/image2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d3e30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1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066680" y="6094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hapter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752480" y="2057400"/>
            <a:ext cx="5943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What Is Organizational Behavior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365040"/>
            <a:ext cx="7772400" cy="685800"/>
          </a:xfrm>
          <a:prstGeom prst="rect">
            <a:avLst/>
          </a:prstGeom>
          <a:solidFill>
            <a:srgbClr val="d3e307"/>
          </a:solidFill>
          <a:ln w="3240">
            <a:solidFill>
              <a:srgbClr val="5f5f5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intzberg’s Managerial 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49160" y="1427040"/>
            <a:ext cx="7632720" cy="34275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34955" dir="2472880" blurRad="0" rotWithShape="0">
              <a:srgbClr val="dddddd"/>
            </a:outerShdw>
          </a:effectLst>
        </p:spPr>
      </p:pic>
      <p:sp>
        <p:nvSpPr>
          <p:cNvPr id="72" name=""/>
          <p:cNvSpPr/>
          <p:nvPr/>
        </p:nvSpPr>
        <p:spPr>
          <a:xfrm>
            <a:off x="7086600" y="6080760"/>
            <a:ext cx="1523880" cy="246240"/>
          </a:xfrm>
          <a:prstGeom prst="rect">
            <a:avLst/>
          </a:prstGeom>
          <a:solidFill>
            <a:srgbClr val="cc6600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 X H I B I T  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–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0958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he Nature of Managerial Wor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y H. Mintzberg. Copyright © 1973 by H. Mintzberg. Reprinted by permission of Pearson Educ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solidFill>
            <a:srgbClr val="d3e307"/>
          </a:solidFill>
          <a:ln w="3240">
            <a:solidFill>
              <a:srgbClr val="5f5f5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intzberg’s Managerial Role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0" r="242" b="442"/>
          <a:stretch/>
        </p:blipFill>
        <p:spPr>
          <a:xfrm>
            <a:off x="785880" y="1409760"/>
            <a:ext cx="7553160" cy="41338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34955" dir="2472880" blurRad="0" rotWithShape="0">
              <a:srgbClr val="dddddd"/>
            </a:outerShdw>
          </a:effectLst>
        </p:spPr>
      </p:pic>
      <p:sp>
        <p:nvSpPr>
          <p:cNvPr id="76" name=""/>
          <p:cNvSpPr/>
          <p:nvPr/>
        </p:nvSpPr>
        <p:spPr>
          <a:xfrm>
            <a:off x="6858000" y="6096600"/>
            <a:ext cx="1752480" cy="246240"/>
          </a:xfrm>
          <a:prstGeom prst="rect">
            <a:avLst/>
          </a:prstGeom>
          <a:solidFill>
            <a:srgbClr val="cc6600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 X H I B I T  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–1 (cont’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61117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he Nature of Managerial Wor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y H. Mintzberg. Copyright © 1973 by H. Mintzberg. Reprinted by permission of Pearson Educ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solidFill>
            <a:srgbClr val="d3e307"/>
          </a:solidFill>
          <a:ln w="3240">
            <a:solidFill>
              <a:srgbClr val="5f5f5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intzberg’s Managerial Role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3045" r="243" b="408"/>
          <a:stretch/>
        </p:blipFill>
        <p:spPr>
          <a:xfrm>
            <a:off x="795240" y="1357200"/>
            <a:ext cx="7532640" cy="43484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34955" dir="2472880" blurRad="0" rotWithShape="0">
              <a:srgbClr val="dddddd"/>
            </a:outerShdw>
          </a:effectLst>
        </p:spPr>
      </p:pic>
      <p:sp>
        <p:nvSpPr>
          <p:cNvPr id="80" name=""/>
          <p:cNvSpPr/>
          <p:nvPr/>
        </p:nvSpPr>
        <p:spPr>
          <a:xfrm>
            <a:off x="6858000" y="6096600"/>
            <a:ext cx="1752480" cy="246240"/>
          </a:xfrm>
          <a:prstGeom prst="rect">
            <a:avLst/>
          </a:prstGeom>
          <a:solidFill>
            <a:srgbClr val="cc6600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 X H I B I T  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–1 (cont’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1117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he Nature of Managerial Wor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y H. Mintzberg. Copyright © 1973 by H. Mintzberg. Reprinted by permission of Pearson Educ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solidFill>
            <a:srgbClr val="d3e307"/>
          </a:solidFill>
          <a:ln w="3240">
            <a:solidFill>
              <a:srgbClr val="5f5f5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anagement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0" y="2873520"/>
            <a:ext cx="4038480" cy="2841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36720" y="1371600"/>
            <a:ext cx="441936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ical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bility to apply specialized knowledge or experti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743200"/>
            <a:ext cx="434340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bility to work with, understand, and motivate other people, both individually and      in grou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4800600"/>
            <a:ext cx="480060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ptual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ntal ability to analyze and diagnose complex situ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d3e307"/>
          </a:solidFill>
          <a:ln w="3240">
            <a:solidFill>
              <a:srgbClr val="5f5f5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Arial"/>
              </a:rPr>
              <a:t>Effective Versus Successful Managerial Activities (Luthan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960" y="1600200"/>
            <a:ext cx="7696080" cy="46483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  <a:effectLst>
            <a:outerShdw dist="134955" dir="247288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457200">
              <a:lnSpc>
                <a:spcPct val="100000"/>
              </a:lnSpc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e307"/>
                </a:solidFill>
                <a:latin typeface="Arial"/>
              </a:rPr>
              <a:t>Traditional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5640" indent="-457200">
              <a:lnSpc>
                <a:spcPct val="100000"/>
              </a:lnSpc>
              <a:spcBef>
                <a:spcPts val="964"/>
              </a:spcBef>
              <a:buClr>
                <a:srgbClr val="cc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cision making, planning, and control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457200">
              <a:lnSpc>
                <a:spcPct val="100000"/>
              </a:lnSpc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e307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5640" indent="-457200">
              <a:lnSpc>
                <a:spcPct val="100000"/>
              </a:lnSpc>
              <a:spcBef>
                <a:spcPts val="964"/>
              </a:spcBef>
              <a:buClr>
                <a:srgbClr val="cc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changing routine information and processing paper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457200">
              <a:lnSpc>
                <a:spcPct val="100000"/>
              </a:lnSpc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e307"/>
                </a:solidFill>
                <a:latin typeface="Arial"/>
              </a:rPr>
              <a:t>Human Resour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5640" indent="-457200">
              <a:lnSpc>
                <a:spcPct val="100000"/>
              </a:lnSpc>
              <a:spcBef>
                <a:spcPts val="964"/>
              </a:spcBef>
              <a:buClr>
                <a:srgbClr val="cc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tivating, disciplining, managing conflict, staffing, and trai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457200">
              <a:lnSpc>
                <a:spcPct val="100000"/>
              </a:lnSpc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e307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5640" indent="-457200">
              <a:lnSpc>
                <a:spcPct val="100000"/>
              </a:lnSpc>
              <a:spcBef>
                <a:spcPts val="964"/>
              </a:spcBef>
              <a:buClr>
                <a:srgbClr val="cc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cializing, politicking, and interacting with ot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solidFill>
            <a:srgbClr val="d3e307"/>
          </a:solidFill>
          <a:ln w="3240">
            <a:solidFill>
              <a:srgbClr val="5f5f5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llocation of Activities by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70080" y="1319040"/>
            <a:ext cx="660384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solidFill>
            <a:srgbClr val="d3e307"/>
          </a:solidFill>
          <a:ln w="3240">
            <a:solidFill>
              <a:srgbClr val="5f5f5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Enter Organizational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1676520"/>
            <a:ext cx="6400800" cy="23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Behavior (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ield of study that investigates the impact that individuals, groups, and structure have on behavior within organizations, for the purpose of applying such knowledge toward improving an organization’s effective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380880"/>
            <a:ext cx="8001000" cy="838440"/>
          </a:xfrm>
          <a:prstGeom prst="rect">
            <a:avLst/>
          </a:prstGeom>
          <a:solidFill>
            <a:srgbClr val="d3e307"/>
          </a:solidFill>
          <a:ln w="3240">
            <a:solidFill>
              <a:srgbClr val="5f5f5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Arial"/>
              </a:rPr>
              <a:t>Complementing Intuition with Systematic Stud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5560" y="3962520"/>
            <a:ext cx="739152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ystematic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ing at relationships, attempting to attribute causes and effects, and drawing conclusions based on scientific evid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means to predict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1600200"/>
            <a:ext cx="76197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u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t” feelings about “why I do what I do” and “what makes others tick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914400" y="2971800"/>
            <a:ext cx="7543800" cy="1096920"/>
            <a:chOff x="914400" y="2971800"/>
            <a:chExt cx="7543800" cy="1096920"/>
          </a:xfrm>
        </p:grpSpPr>
        <p:sp>
          <p:nvSpPr>
            <p:cNvPr id="97" name=""/>
            <p:cNvSpPr/>
            <p:nvPr/>
          </p:nvSpPr>
          <p:spPr>
            <a:xfrm>
              <a:off x="914400" y="3520800"/>
              <a:ext cx="75438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3657600" y="2971800"/>
              <a:ext cx="1827360" cy="109692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238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solidFill>
            <a:srgbClr val="d3e30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ontributing Disciplines to the OB Fiel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036480"/>
            <a:ext cx="1828800" cy="246240"/>
          </a:xfrm>
          <a:prstGeom prst="rect">
            <a:avLst/>
          </a:prstGeom>
          <a:solidFill>
            <a:srgbClr val="cc6600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 X H I B I T  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–3 (cont’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14400" y="2819520"/>
            <a:ext cx="7543080" cy="3657600"/>
            <a:chOff x="914400" y="2819520"/>
            <a:chExt cx="7543080" cy="36576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914400" y="2819520"/>
              <a:ext cx="569412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6366600" y="4341960"/>
              <a:ext cx="271800" cy="25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6354720" y="6182640"/>
              <a:ext cx="271800" cy="9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" name=""/>
            <p:cNvGrpSpPr/>
            <p:nvPr/>
          </p:nvGrpSpPr>
          <p:grpSpPr>
            <a:xfrm>
              <a:off x="6608520" y="4088160"/>
              <a:ext cx="1848960" cy="927360"/>
              <a:chOff x="6608520" y="4088160"/>
              <a:chExt cx="1848960" cy="927360"/>
            </a:xfrm>
          </p:grpSpPr>
          <p:pic>
            <p:nvPicPr>
              <p:cNvPr id="107" name="" descr=""/>
              <p:cNvPicPr/>
              <p:nvPr/>
            </p:nvPicPr>
            <p:blipFill>
              <a:blip r:embed="rId4"/>
              <a:srcRect l="15868" t="0" r="0" b="0"/>
              <a:stretch/>
            </p:blipFill>
            <p:spPr>
              <a:xfrm>
                <a:off x="6608520" y="4088160"/>
                <a:ext cx="1842840" cy="92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5"/>
              <a:srcRect l="0" t="0" r="27387" b="0"/>
              <a:stretch/>
            </p:blipFill>
            <p:spPr>
              <a:xfrm>
                <a:off x="8318520" y="4446720"/>
                <a:ext cx="138960" cy="78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" name=""/>
          <p:cNvSpPr/>
          <p:nvPr/>
        </p:nvSpPr>
        <p:spPr>
          <a:xfrm>
            <a:off x="914400" y="1371600"/>
            <a:ext cx="7086600" cy="16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syc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cience that seeks to measure, explain, and sometimes change the behavior of humans and other anim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990720" y="304920"/>
            <a:ext cx="998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After studying this chapter, you sh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371600" y="1676520"/>
            <a:ext cx="74674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managers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behavior (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value of the systematic study of 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ontributions made by major behavioral science disciplines to 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major challenges and opportunities for managers to use OB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16200000">
            <a:off x="-2934360" y="3086640"/>
            <a:ext cx="6859440" cy="685800"/>
          </a:xfrm>
          <a:prstGeom prst="rect">
            <a:avLst/>
          </a:prstGeom>
          <a:solidFill>
            <a:srgbClr val="d3e307"/>
          </a:solidFill>
          <a:ln w="3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27432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L E A R N I N G    O B J E C T I V E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943600" y="34336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5257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6560" y="4038480"/>
            <a:ext cx="1714680" cy="708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01000" cy="914400"/>
          </a:xfrm>
          <a:prstGeom prst="rect">
            <a:avLst/>
          </a:prstGeom>
          <a:solidFill>
            <a:srgbClr val="d3e30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Arial"/>
              </a:rPr>
              <a:t>Contributing Disciplines to the OB Field (cont’d)</a:t>
            </a:r>
            <a:endParaRPr b="0" lang="en-US" sz="29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814480" y="2443320"/>
            <a:ext cx="3421080" cy="1976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832120" y="4537080"/>
            <a:ext cx="3402000" cy="1406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553080" y="2900520"/>
            <a:ext cx="1981440" cy="1029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52760" y="3429000"/>
            <a:ext cx="304920" cy="1828800"/>
          </a:xfrm>
          <a:custGeom>
            <a:avLst/>
            <a:gdLst>
              <a:gd name="textAreaLeft" fmla="*/ 89640 w 304920"/>
              <a:gd name="textAreaRight" fmla="*/ 305280 w 3049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24160" y="434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553080" y="4729320"/>
            <a:ext cx="1349640" cy="1028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8000" y="6036480"/>
            <a:ext cx="1752480" cy="246240"/>
          </a:xfrm>
          <a:prstGeom prst="rect">
            <a:avLst/>
          </a:prstGeom>
          <a:solidFill>
            <a:srgbClr val="cc6600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 X H I B I T  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–3 (cont’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57240" y="1371600"/>
            <a:ext cx="716292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udy of people in relation to their fellow human be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01000" cy="914400"/>
          </a:xfrm>
          <a:prstGeom prst="rect">
            <a:avLst/>
          </a:prstGeom>
          <a:solidFill>
            <a:srgbClr val="d3e30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Arial"/>
              </a:rPr>
              <a:t>Contributing Disciplines to the OB Field (cont’d)</a:t>
            </a:r>
            <a:endParaRPr b="0" lang="en-US" sz="29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4035600"/>
            <a:ext cx="2560680" cy="731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651720" y="4400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478320" y="3429000"/>
            <a:ext cx="3325680" cy="1943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111480" y="43941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032600" y="3886200"/>
            <a:ext cx="1349280" cy="1028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58000" y="6036480"/>
            <a:ext cx="1752480" cy="246240"/>
          </a:xfrm>
          <a:prstGeom prst="rect">
            <a:avLst/>
          </a:prstGeom>
          <a:solidFill>
            <a:srgbClr val="cc6600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 X H I B I T  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–3 (cont’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47880" y="1371600"/>
            <a:ext cx="7586640" cy="16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al Psyc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rea within psychology that blends concepts from psychology and sociology and that focuses on the influence of people on one an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689880" y="3157560"/>
            <a:ext cx="1371600" cy="1046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30800" y="3654360"/>
            <a:ext cx="635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914400"/>
          </a:xfrm>
          <a:prstGeom prst="rect">
            <a:avLst/>
          </a:prstGeom>
          <a:solidFill>
            <a:srgbClr val="d3e30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Arial"/>
              </a:rPr>
              <a:t>Contributing Disciplines to the OB Field (cont’d)</a:t>
            </a:r>
            <a:endParaRPr b="0" lang="en-US" sz="2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83440" y="487692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016080" y="3048120"/>
            <a:ext cx="3495960" cy="1214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659640" y="4454640"/>
            <a:ext cx="1757160" cy="1031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006720" y="4446720"/>
            <a:ext cx="3505320" cy="1039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778120" y="3581280"/>
            <a:ext cx="304920" cy="1231920"/>
          </a:xfrm>
          <a:custGeom>
            <a:avLst/>
            <a:gdLst>
              <a:gd name="textAreaLeft" fmla="*/ 89640 w 304920"/>
              <a:gd name="textAreaRight" fmla="*/ 305280 w 304920"/>
              <a:gd name="textAreaTop" fmla="*/ 0 h 1231920"/>
              <a:gd name="textAreaBottom" fmla="*/ 1231920 h 123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49520" y="412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09480" y="3787920"/>
            <a:ext cx="2092320" cy="707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58000" y="6036480"/>
            <a:ext cx="1752480" cy="246240"/>
          </a:xfrm>
          <a:prstGeom prst="rect">
            <a:avLst/>
          </a:prstGeom>
          <a:solidFill>
            <a:srgbClr val="cc6600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 X H I B I T  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–3 (cont’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47880" y="1371600"/>
            <a:ext cx="728172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hrop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udy of societies to learn about human beings and their activ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57600" y="3886200"/>
            <a:ext cx="3809880" cy="1371600"/>
          </a:xfrm>
          <a:prstGeom prst="rightArrow">
            <a:avLst>
              <a:gd name="adj1" fmla="val 53704"/>
              <a:gd name="adj2" fmla="val 36110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solidFill>
            <a:srgbClr val="d3e30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re Are Few Absolutes in O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0384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1520" y="40384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523880"/>
            <a:ext cx="647712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gency variables: “It Depends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tuational factors that make the main relationship between two variables chan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, the relationship may hold for one condition but not anoth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419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54864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91520" y="5486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266720" y="5562720"/>
            <a:ext cx="1295640" cy="12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791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4343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related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5791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OT be relat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14400"/>
          </a:xfrm>
          <a:prstGeom prst="rect">
            <a:avLst/>
          </a:prstGeom>
          <a:solidFill>
            <a:srgbClr val="d3e30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hallenges and Opportunities for O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ponding to Globaliza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foreign assignments</a:t>
            </a:r>
            <a:endParaRPr b="0" lang="en-US" sz="2200" spc="-1" strike="noStrike">
              <a:solidFill>
                <a:srgbClr val="cc66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ing with people from different cultures</a:t>
            </a:r>
            <a:endParaRPr b="0" lang="en-US" sz="2200" spc="-1" strike="noStrike">
              <a:solidFill>
                <a:srgbClr val="cc66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ing with anti-capitalism backlash</a:t>
            </a:r>
            <a:endParaRPr b="0" lang="en-US" sz="2200" spc="-1" strike="noStrike">
              <a:solidFill>
                <a:srgbClr val="cc66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ing movement of jobs to countries with       low-cost labor</a:t>
            </a:r>
            <a:endParaRPr b="0" lang="en-US" sz="2200" spc="-1" strike="noStrike">
              <a:solidFill>
                <a:srgbClr val="cc66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people during the war on terror</a:t>
            </a:r>
            <a:endParaRPr b="0" lang="en-US" sz="2200" spc="-1" strike="noStrike">
              <a:solidFill>
                <a:srgbClr val="cc66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ing Workforce Divers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bracing diversity</a:t>
            </a:r>
            <a:endParaRPr b="0" lang="en-US" sz="2200" spc="-1" strike="noStrike">
              <a:solidFill>
                <a:srgbClr val="cc66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ing U.S. demographics</a:t>
            </a:r>
            <a:endParaRPr b="0" lang="en-US" sz="2200" spc="-1" strike="noStrike">
              <a:solidFill>
                <a:srgbClr val="cc66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ications for managers</a:t>
            </a:r>
            <a:endParaRPr b="0" lang="en-US" sz="2200" spc="-1" strike="noStrike">
              <a:solidFill>
                <a:srgbClr val="cc66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ing and responding to dif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191120" y="4572000"/>
            <a:ext cx="1904760" cy="1076400"/>
          </a:xfrm>
          <a:prstGeom prst="rect">
            <a:avLst/>
          </a:prstGeom>
          <a:solidFill>
            <a:srgbClr val="cc6600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esti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38440"/>
          </a:xfrm>
          <a:prstGeom prst="rect">
            <a:avLst/>
          </a:prstGeom>
          <a:solidFill>
            <a:srgbClr val="d3e30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ajor Workforce Diversity Categori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886200"/>
            <a:ext cx="1828800" cy="838080"/>
          </a:xfrm>
          <a:prstGeom prst="rect">
            <a:avLst/>
          </a:prstGeom>
          <a:solidFill>
            <a:srgbClr val="d3e307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581280"/>
            <a:ext cx="2743200" cy="695520"/>
          </a:xfrm>
          <a:prstGeom prst="rect">
            <a:avLst/>
          </a:prstGeom>
          <a:solidFill>
            <a:srgbClr val="d3e307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Non-Christ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2057400"/>
            <a:ext cx="2284560" cy="977760"/>
          </a:xfrm>
          <a:prstGeom prst="rect">
            <a:avLst/>
          </a:prstGeom>
          <a:solidFill>
            <a:srgbClr val="cc6600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tion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2895480"/>
            <a:ext cx="2031840" cy="1067040"/>
          </a:xfrm>
          <a:prstGeom prst="rect">
            <a:avLst/>
          </a:prstGeom>
          <a:solidFill>
            <a:srgbClr val="336699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2209680"/>
            <a:ext cx="2743200" cy="822600"/>
          </a:xfrm>
          <a:prstGeom prst="rect">
            <a:avLst/>
          </a:prstGeom>
          <a:solidFill>
            <a:srgbClr val="d3e307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Dis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6036480"/>
            <a:ext cx="1295280" cy="246240"/>
          </a:xfrm>
          <a:prstGeom prst="rect">
            <a:avLst/>
          </a:prstGeom>
          <a:solidFill>
            <a:srgbClr val="cc6600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 X H I B I T  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–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600200"/>
            <a:ext cx="1447920" cy="914400"/>
          </a:xfrm>
          <a:prstGeom prst="rect">
            <a:avLst/>
          </a:prstGeom>
          <a:solidFill>
            <a:srgbClr val="cc6600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"/>
                            </p:stCondLst>
                            <p:childTnLst>
                              <p:par>
                                <p:cTn id="1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200"/>
                            </p:stCondLst>
                            <p:childTnLst>
                              <p:par>
                                <p:cTn id="1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800"/>
                            </p:stCondLst>
                            <p:childTnLst>
                              <p:par>
                                <p:cTn id="1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100"/>
                            </p:stCondLst>
                            <p:childTnLst>
                              <p:par>
                                <p:cTn id="2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400"/>
                            </p:stCondLst>
                            <p:childTnLst>
                              <p:par>
                                <p:cTn id="2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solidFill>
            <a:srgbClr val="d3e30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Arial"/>
              </a:rPr>
              <a:t>Challenges and Opportunities for OB (cont’d)</a:t>
            </a:r>
            <a:endParaRPr b="0" lang="en-US" sz="2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roving Quality and Productiv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management (QM)</a:t>
            </a:r>
            <a:endParaRPr b="0" lang="en-US" sz="2200" spc="-1" strike="noStrike">
              <a:solidFill>
                <a:srgbClr val="cc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reengineering</a:t>
            </a:r>
            <a:endParaRPr b="0" lang="en-US" sz="22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ponding to the Labor Shortag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ing work force demographics</a:t>
            </a:r>
            <a:endParaRPr b="0" lang="en-US" sz="2200" spc="-1" strike="noStrike">
              <a:solidFill>
                <a:srgbClr val="cc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wer skilled laborers</a:t>
            </a:r>
            <a:endParaRPr b="0" lang="en-US" sz="2200" spc="-1" strike="noStrike">
              <a:solidFill>
                <a:srgbClr val="cc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ly retirements and older workers</a:t>
            </a:r>
            <a:endParaRPr b="0" lang="en-US" sz="22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roving Customer Servi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expectation of service quality</a:t>
            </a:r>
            <a:endParaRPr b="0" lang="en-US" sz="2200" spc="-1" strike="noStrike">
              <a:solidFill>
                <a:srgbClr val="cc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mer-responsive cultures</a:t>
            </a:r>
            <a:endParaRPr b="0" lang="en-US" sz="2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629400" y="3276720"/>
            <a:ext cx="2209680" cy="2174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solidFill>
            <a:srgbClr val="d3e30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at Is Quality Management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se focus on the custome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for continuous improvement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the quality of everything the organization do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measurement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owerment of employees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6036480"/>
            <a:ext cx="1295280" cy="246240"/>
          </a:xfrm>
          <a:prstGeom prst="rect">
            <a:avLst/>
          </a:prstGeom>
          <a:solidFill>
            <a:srgbClr val="cc6600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 X H I B I T  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–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solidFill>
            <a:srgbClr val="d3e30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Arial"/>
              </a:rPr>
              <a:t>Challenges and Opportunity for OB (cont’d)</a:t>
            </a:r>
            <a:endParaRPr b="0" lang="en-US" sz="2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people skill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owering peopl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ing innovation and chang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ing with “temporariness”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in networked organiza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ing employees balance work/life conflic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ethical behavi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people during the war on terrorism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513480" cy="4971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380880"/>
            <a:ext cx="7543800" cy="703440"/>
          </a:xfrm>
          <a:prstGeom prst="rect">
            <a:avLst/>
          </a:prstGeom>
          <a:solidFill>
            <a:srgbClr val="d3e30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 Downside to Empowerment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solidFill>
            <a:srgbClr val="d3e307"/>
          </a:solidFill>
          <a:ln w="3240">
            <a:solidFill>
              <a:srgbClr val="5f5f5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at Managers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124080"/>
            <a:ext cx="4495680" cy="2819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  <a:effectLst>
            <a:outerShdw dist="134955" dir="247288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95280" indent="-1731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e307"/>
                </a:solidFill>
                <a:latin typeface="Arial"/>
              </a:rPr>
              <a:t>Managerial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173160">
              <a:lnSpc>
                <a:spcPct val="100000"/>
              </a:lnSpc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173160">
              <a:lnSpc>
                <a:spcPct val="100000"/>
              </a:lnSpc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cate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173160">
              <a:lnSpc>
                <a:spcPct val="100000"/>
              </a:lnSpc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activities of others to attain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6080" y="1311120"/>
            <a:ext cx="73375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(or </a:t>
            </a:r>
            <a:r>
              <a:rPr b="0" i="1" lang="en-US" sz="2400" spc="-1" strike="noStrike">
                <a:solidFill>
                  <a:srgbClr val="cc6600"/>
                </a:solidFill>
                <a:latin typeface="Arial"/>
              </a:rPr>
              <a:t>Administrator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who achieve goals through other peo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76720" y="2867040"/>
            <a:ext cx="5295960" cy="33051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solidFill>
            <a:srgbClr val="d3e30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Basic OB Model, Stage 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6036480"/>
            <a:ext cx="1295280" cy="246240"/>
          </a:xfrm>
          <a:prstGeom prst="rect">
            <a:avLst/>
          </a:prstGeom>
          <a:solidFill>
            <a:srgbClr val="cc6600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 X H I B I T  1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46080" y="1371600"/>
            <a:ext cx="403884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bstraction of re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ified representation of some real-world phenomen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solidFill>
            <a:srgbClr val="d3e30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 Dependent Variabl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3048120"/>
            <a:ext cx="2971800" cy="2895480"/>
          </a:xfrm>
          <a:custGeom>
            <a:avLst/>
            <a:gdLst/>
            <a:ahLst/>
            <a:rect l="l" t="t" r="r" b="b"/>
            <a:pathLst>
              <a:path w="1872" h="1536">
                <a:moveTo>
                  <a:pt x="0" y="0"/>
                </a:moveTo>
                <a:lnTo>
                  <a:pt x="0" y="1536"/>
                </a:lnTo>
                <a:lnTo>
                  <a:pt x="1872" y="15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048120" y="2514600"/>
            <a:ext cx="4724280" cy="3888000"/>
            <a:chOff x="3048120" y="2514600"/>
            <a:chExt cx="4724280" cy="3888000"/>
          </a:xfrm>
        </p:grpSpPr>
        <p:sp>
          <p:nvSpPr>
            <p:cNvPr id="184" name=""/>
            <p:cNvSpPr/>
            <p:nvPr/>
          </p:nvSpPr>
          <p:spPr>
            <a:xfrm>
              <a:off x="6934320" y="5394240"/>
              <a:ext cx="83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336699"/>
                  </a:solidFill>
                  <a:latin typeface="Arial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2514600"/>
              <a:ext cx="83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cc6600"/>
                  </a:solidFill>
                  <a:latin typeface="Arial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V="1">
            <a:off x="3962520" y="3796920"/>
            <a:ext cx="2895480" cy="213372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371600"/>
            <a:ext cx="76960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esponse that is affected by an independent variable (what organizational behavior researchers try to understan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838440"/>
          </a:xfrm>
          <a:prstGeom prst="rect">
            <a:avLst/>
          </a:prstGeom>
          <a:solidFill>
            <a:srgbClr val="d3e30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 Dependent Variables (cont’d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2895480"/>
            <a:ext cx="50292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4419720"/>
            <a:ext cx="31240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523880"/>
            <a:ext cx="533412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erformance measure that includes effectiveness and effici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3263760"/>
            <a:ext cx="358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ievement of g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4572000"/>
            <a:ext cx="35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ing goals at a low c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95280" y="3048120"/>
            <a:ext cx="2992680" cy="2865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589040" y="3809880"/>
            <a:ext cx="1447920" cy="228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solidFill>
            <a:srgbClr val="d3e30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 Dependent Variables (cont’d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2209680" cy="18334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752480" y="4025880"/>
            <a:ext cx="2743200" cy="2146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033560" y="3048120"/>
            <a:ext cx="396216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6095880"/>
            <a:ext cx="31240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57240" y="1905120"/>
            <a:ext cx="42670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bsentee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ailure to report to 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3886200"/>
            <a:ext cx="380988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urn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oluntary and involuntary permanent withdrawal from an organ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65360" y="4876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solidFill>
            <a:srgbClr val="d3e30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 Dependent Variables (cont’d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1905120"/>
            <a:ext cx="510552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iant Workplace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untary behavior that violates significant organizational norms and thereby threatens the well-being of the organization and/or any of it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715000" y="3124080"/>
            <a:ext cx="3092400" cy="3468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solidFill>
            <a:srgbClr val="d3e30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 Dependent Variables (cont’d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595840" y="2735280"/>
            <a:ext cx="2633760" cy="3589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5800" y="1600200"/>
            <a:ext cx="5105520" cy="26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itizenship Behavior (OC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ionary behavior that is not     part of an employee’s formal job requirements, but that nevertheless promotes the effective functioning of the organ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38440"/>
          </a:xfrm>
          <a:prstGeom prst="rect">
            <a:avLst/>
          </a:prstGeom>
          <a:solidFill>
            <a:srgbClr val="d3e30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 Dependent Variables (cont’d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800600" y="3390840"/>
            <a:ext cx="3056040" cy="2857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09480" y="1828800"/>
            <a:ext cx="7620120" cy="16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eneral attitude (not a behavior) toward one’s job; a positive feeling of one's job resulting from an evaluation of its characteristic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solidFill>
            <a:srgbClr val="d3e30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 Independent Variabl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31956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57400"/>
            <a:ext cx="2895840" cy="825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ndependent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Variables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77880" y="4754520"/>
            <a:ext cx="7826400" cy="1265040"/>
            <a:chOff x="677880" y="4754520"/>
            <a:chExt cx="7826400" cy="1265040"/>
          </a:xfrm>
        </p:grpSpPr>
        <p:sp>
          <p:nvSpPr>
            <p:cNvPr id="217" name=""/>
            <p:cNvSpPr/>
            <p:nvPr/>
          </p:nvSpPr>
          <p:spPr>
            <a:xfrm>
              <a:off x="677880" y="4754520"/>
              <a:ext cx="2332080" cy="1226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dividual-Level Vari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72200" y="4793040"/>
              <a:ext cx="2332080" cy="12265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rganization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ystem-Level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ari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21080" y="4758840"/>
              <a:ext cx="2332080" cy="1228320"/>
            </a:xfrm>
            <a:prstGeom prst="rect">
              <a:avLst/>
            </a:prstGeom>
            <a:solidFill>
              <a:srgbClr val="d3e30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Arial"/>
                </a:rPr>
                <a:t>Group-Level</a:t>
              </a:r>
              <a:br>
                <a:rPr sz="2000"/>
              </a:br>
              <a:r>
                <a:rPr b="0" lang="en-US" sz="2000" spc="-1" strike="noStrike">
                  <a:solidFill>
                    <a:srgbClr val="336699"/>
                  </a:solidFill>
                  <a:latin typeface="Arial"/>
                </a:rPr>
                <a:t>Vari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828800" y="4154400"/>
            <a:ext cx="5486040" cy="625320"/>
            <a:chOff x="1828800" y="4154400"/>
            <a:chExt cx="5486040" cy="625320"/>
          </a:xfrm>
        </p:grpSpPr>
        <p:grpSp>
          <p:nvGrpSpPr>
            <p:cNvPr id="221" name=""/>
            <p:cNvGrpSpPr/>
            <p:nvPr/>
          </p:nvGrpSpPr>
          <p:grpSpPr>
            <a:xfrm>
              <a:off x="1828800" y="4187160"/>
              <a:ext cx="5486040" cy="592560"/>
              <a:chOff x="1828800" y="4187160"/>
              <a:chExt cx="5486040" cy="592560"/>
            </a:xfrm>
          </p:grpSpPr>
          <p:sp>
            <p:nvSpPr>
              <p:cNvPr id="222" name=""/>
              <p:cNvSpPr/>
              <p:nvPr/>
            </p:nvSpPr>
            <p:spPr>
              <a:xfrm rot="5400000">
                <a:off x="2903760" y="3111840"/>
                <a:ext cx="592560" cy="2742840"/>
              </a:xfrm>
              <a:custGeom>
                <a:avLst/>
                <a:gdLst/>
                <a:ahLst/>
                <a:rect l="l" t="t" r="r" b="b"/>
                <a:pathLst>
                  <a:path w="384" h="864">
                    <a:moveTo>
                      <a:pt x="0" y="0"/>
                    </a:moveTo>
                    <a:lnTo>
                      <a:pt x="0" y="864"/>
                    </a:lnTo>
                    <a:lnTo>
                      <a:pt x="384" y="86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lg" type="triangle" w="lg"/>
              </a:ln>
              <a:effectLst>
                <a:outerShdw dist="36147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 rot="5400000">
                <a:off x="5646960" y="3111840"/>
                <a:ext cx="592560" cy="2742840"/>
              </a:xfrm>
              <a:custGeom>
                <a:avLst/>
                <a:gdLst/>
                <a:ahLst/>
                <a:rect l="l" t="t" r="r" b="b"/>
                <a:pathLst>
                  <a:path w="384" h="864">
                    <a:moveTo>
                      <a:pt x="0" y="0"/>
                    </a:moveTo>
                    <a:lnTo>
                      <a:pt x="0" y="864"/>
                    </a:lnTo>
                    <a:lnTo>
                      <a:pt x="384" y="86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lg" type="triangle" w="lg"/>
              </a:ln>
              <a:effectLst>
                <a:outerShdw dist="36147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571640" y="4154400"/>
              <a:ext cx="0" cy="59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09480" y="1447920"/>
            <a:ext cx="76964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esumed cause of some change in the dependent variable; major determinants of a 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934320" y="3809880"/>
            <a:ext cx="2057400" cy="1600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 OB Model, Stag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6249240"/>
            <a:ext cx="1295280" cy="246240"/>
          </a:xfrm>
          <a:prstGeom prst="rect">
            <a:avLst/>
          </a:prstGeom>
          <a:solidFill>
            <a:srgbClr val="cc6600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 X H I B I T  1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01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solidFill>
            <a:srgbClr val="d3e307"/>
          </a:solidFill>
          <a:ln w="3240">
            <a:solidFill>
              <a:srgbClr val="5f5f5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ere Managers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7880" y="1359000"/>
            <a:ext cx="579096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nsciously coordinated social unit, composed of two or more people, that functions on a relatively continuous basis to achieve a common goal or set of g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solidFill>
            <a:srgbClr val="d3e307"/>
          </a:solidFill>
          <a:ln w="3240">
            <a:solidFill>
              <a:srgbClr val="5f5f5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anagement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66680" y="2057400"/>
            <a:ext cx="7010280" cy="2819160"/>
            <a:chOff x="1066680" y="2057400"/>
            <a:chExt cx="7010280" cy="2819160"/>
          </a:xfrm>
        </p:grpSpPr>
        <p:sp>
          <p:nvSpPr>
            <p:cNvPr id="50" name=""/>
            <p:cNvSpPr/>
            <p:nvPr/>
          </p:nvSpPr>
          <p:spPr>
            <a:xfrm>
              <a:off x="2784960" y="2601000"/>
              <a:ext cx="618480" cy="27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5740200" y="2601000"/>
              <a:ext cx="618480" cy="27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2784960" y="4047480"/>
              <a:ext cx="61848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>
              <a:off x="5740200" y="4047480"/>
              <a:ext cx="61848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66680" y="2057400"/>
              <a:ext cx="2543040" cy="718560"/>
            </a:xfrm>
            <a:prstGeom prst="ellipse">
              <a:avLst/>
            </a:prstGeom>
            <a:solidFill>
              <a:srgbClr val="d3e30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6699"/>
                  </a:solidFill>
                  <a:latin typeface="Arial"/>
                </a:rPr>
                <a:t>Plann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33920" y="2057400"/>
              <a:ext cx="2543040" cy="7185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Organiz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33920" y="4158360"/>
              <a:ext cx="2543040" cy="718200"/>
            </a:xfrm>
            <a:prstGeom prst="ellipse">
              <a:avLst/>
            </a:prstGeom>
            <a:solidFill>
              <a:srgbClr val="d3e30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6699"/>
                  </a:solidFill>
                  <a:latin typeface="Arial"/>
                </a:rPr>
                <a:t>Lead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6680" y="4158360"/>
              <a:ext cx="2543040" cy="71820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Controll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429000" y="2870280"/>
            <a:ext cx="2286000" cy="1168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solidFill>
            <a:srgbClr val="d3e307"/>
          </a:solidFill>
          <a:ln w="3240">
            <a:solidFill>
              <a:srgbClr val="5f5f5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anagement Function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3405240" cy="3490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47880" y="1327320"/>
            <a:ext cx="5562360" cy="16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cess that includes defining goals, establishing strategy, and developing plans to coordinate activ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solidFill>
            <a:srgbClr val="d3e307"/>
          </a:solidFill>
          <a:ln w="3240">
            <a:solidFill>
              <a:srgbClr val="5f5f5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anagement Function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46080" y="1343160"/>
            <a:ext cx="594360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termining what tasks are to be done, who is to do them, how the tasks are to be grouped, who reports to whom, and where decisions are to be m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8920" y="3714840"/>
            <a:ext cx="25257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solidFill>
            <a:srgbClr val="d3e307"/>
          </a:solidFill>
          <a:ln w="3240">
            <a:solidFill>
              <a:srgbClr val="5f5f5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anagement Function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267080" y="3406680"/>
            <a:ext cx="4606920" cy="3451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90720" y="1295280"/>
            <a:ext cx="563868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function that includes motivating employees, directing others, selecting the most effective communication channels, and resolving confli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solidFill>
            <a:srgbClr val="d3e307"/>
          </a:solidFill>
          <a:ln w="3240">
            <a:solidFill>
              <a:srgbClr val="5f5f5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anagement Function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47880" y="1327320"/>
            <a:ext cx="7086600" cy="16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nitoring activities to ensure they are being accomplished as planned and correcting any significant devi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7T01:18:40Z</dcterms:created>
  <dc:creator>unknown</dc:creator>
  <dc:description/>
  <dc:language>en-US</dc:language>
  <cp:lastModifiedBy>Susan Gall</cp:lastModifiedBy>
  <dcterms:modified xsi:type="dcterms:W3CDTF">2006-08-08T21:18:00Z</dcterms:modified>
  <cp:revision>24</cp:revision>
  <dc:subject/>
  <dc:title>PowerPoint Presentation</dc:title>
</cp:coreProperties>
</file>