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E6A-577E-4427-BE65-515925DB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722-9FEC-4858-8107-A042A976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F5D-9C85-4114-AE6E-9CB36271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820-EF3E-4373-917F-806128EC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1846-153B-41C2-BF83-47CC2E2F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CCC4-6E86-44C1-9943-F1876D44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815D-656B-4438-9E08-A03FC801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E679-757C-4DA1-A32A-EED57F77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99B0-82FC-4516-B23E-D79E0BA7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855C-8F95-4209-9010-439504F7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163C-89F5-45A4-B34B-E6BDB01A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989-F034-46AC-A570-9C79CE21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9C5F-3D9F-4D80-86BB-544F0291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9F40-CC1A-4C5A-88DD-889CF09C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1D8F-3FC9-45D0-A51C-6FE1EE42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834D-007A-4CCD-9A60-922F1B9A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9F27-A726-42EB-A950-81103BCF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162-BFCE-40BA-9045-DF5777D0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3C5-F442-4EA6-840D-24F20424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D58-29EF-4BBB-9D6C-0B1E0D10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DB8-C8DA-4464-A7F0-6BB970DD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824-5784-41AD-A251-9B5D294A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110-3CAE-44AD-A46B-A9BCDA8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FA9-6F96-4578-AD8E-6F4D5CE3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7FB2-6273-4242-AB73-FDD9DBFFAD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E279-4421-44EC-960B-4D2339692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7240" y="1676160"/>
            <a:ext cx="7769520" cy="20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OCCUPATIONAL HEALTH</a:t>
            </a:r>
            <a:r>
              <a:rPr b="1" lang="pt-BR" sz="5500" spc="-1" strike="noStrike">
                <a:solidFill>
                  <a:srgbClr val="ffffff"/>
                </a:solidFill>
                <a:latin typeface="Arial"/>
              </a:rPr>
              <a:t> NURSING</a:t>
            </a:r>
            <a:br>
              <a:rPr sz="5500"/>
            </a:br>
            <a:r>
              <a:rPr b="1" lang="pt-BR" sz="5500" spc="-1" strike="noStrike">
                <a:solidFill>
                  <a:srgbClr val="ffffff"/>
                </a:solidFill>
                <a:latin typeface="Arial"/>
              </a:rPr>
              <a:t>OH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ope of OHN practi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of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cupational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of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cupational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ng work place haz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ion of worker’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ation of worker’s health (maintenance of worker’s heal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injur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50292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ch as a cut, fracture, sprain, amputation, etc, that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may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results from a single instantaneous exposure or incident in the work department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or during the course of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g0431332"/>
          <p:cNvPicPr/>
          <p:nvPr/>
        </p:nvPicPr>
        <p:blipFill>
          <a:blip r:embed="rId2"/>
          <a:stretch/>
        </p:blipFill>
        <p:spPr>
          <a:xfrm>
            <a:off x="4724280" y="1886040"/>
            <a:ext cx="4343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 abnormal condition or disorder, other than one resulting from an occupational injury caused by exposure to environmental factors associated with employment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It ca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ute or chronic illnesses,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following exposure to the hazards through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inhalation, absorption, ingestion, or direct cont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 and H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to health hazards in the workplace may cause adverse health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development depends o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factors, non-occupational exposure (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festy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hobbies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factor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ent properties of the agent, exposure level, exposure length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ther workplace stresso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1" descr="18126"/>
          <p:cNvPicPr/>
          <p:nvPr/>
        </p:nvPicPr>
        <p:blipFill>
          <a:blip r:embed="rId1"/>
          <a:stretch/>
        </p:blipFill>
        <p:spPr>
          <a:xfrm>
            <a:off x="3048120" y="1287360"/>
            <a:ext cx="2286000" cy="1532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685800" y="304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s influencing our H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09480" y="1523880"/>
            <a:ext cx="356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Determine who you 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Likelihood of contracting dise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85800" y="4302000"/>
            <a:ext cx="289548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fe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Smok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Di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Alcoh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Exerci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250320" y="2666880"/>
            <a:ext cx="27057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Work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Lei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Domestic/living Enviro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496320" y="32004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90" idx="2"/>
            <a:endCxn id="193" idx="1"/>
          </p:cNvCxnSpPr>
          <p:nvPr/>
        </p:nvCxnSpPr>
        <p:spPr>
          <a:xfrm flipH="1" rot="16200000">
            <a:off x="2535840" y="2597400"/>
            <a:ext cx="749880" cy="1037520"/>
          </a:xfrm>
          <a:prstGeom prst="curvedConnector2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5" name="AutoShape 9"/>
          <p:cNvCxnSpPr>
            <a:stCxn id="191" idx="0"/>
            <a:endCxn id="193" idx="2"/>
          </p:cNvCxnSpPr>
          <p:nvPr/>
        </p:nvCxnSpPr>
        <p:spPr>
          <a:xfrm flipH="1" flipV="1" rot="5400000">
            <a:off x="2939760" y="2972880"/>
            <a:ext cx="522720" cy="2135880"/>
          </a:xfrm>
          <a:prstGeom prst="curvedConnector5">
            <a:avLst>
              <a:gd name="adj1" fmla="val 49827"/>
              <a:gd name="adj2" fmla="val 50000"/>
              <a:gd name="adj3" fmla="val 49827"/>
            </a:avLst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6" name="AutoShape 10"/>
          <p:cNvCxnSpPr>
            <a:endCxn id="193" idx="3"/>
          </p:cNvCxnSpPr>
          <p:nvPr/>
        </p:nvCxnSpPr>
        <p:spPr>
          <a:xfrm rot="10800000">
            <a:off x="5107680" y="3490200"/>
            <a:ext cx="988200" cy="624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97" name="Picture 12" descr="P7040055"/>
          <p:cNvPicPr/>
          <p:nvPr/>
        </p:nvPicPr>
        <p:blipFill>
          <a:blip r:embed="rId2"/>
          <a:stretch/>
        </p:blipFill>
        <p:spPr>
          <a:xfrm>
            <a:off x="6294600" y="4267080"/>
            <a:ext cx="2773080" cy="20797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 and 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1320840" y="1825560"/>
            <a:ext cx="1440" cy="3487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320840" y="5308560"/>
            <a:ext cx="66769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78720" y="480060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use 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25360" y="5029200"/>
            <a:ext cx="9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asy to se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02400" y="198108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use 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94040" y="2227320"/>
            <a:ext cx="95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ard to se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685800" y="2438280"/>
            <a:ext cx="0" cy="2362320"/>
          </a:xfrm>
          <a:prstGeom prst="line">
            <a:avLst/>
          </a:prstGeom>
          <a:ln w="49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389960" y="548640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051000" y="548640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4176720" y="5486400"/>
            <a:ext cx="63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844240" y="548640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Ye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7526160" y="5486400"/>
            <a:ext cx="73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c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1406520" y="4896000"/>
            <a:ext cx="1276200" cy="269640"/>
          </a:xfrm>
          <a:prstGeom prst="ellipse">
            <a:avLst/>
          </a:prstGeom>
          <a:solidFill>
            <a:srgbClr val="f766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1604160" y="4915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id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2130480" y="4478400"/>
            <a:ext cx="1677960" cy="4078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300760" y="4568760"/>
            <a:ext cx="125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lder’s Fla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606680" y="3921120"/>
            <a:ext cx="1438200" cy="4777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2022120" y="393372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2003760" y="41562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f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290680" y="2179800"/>
            <a:ext cx="1758960" cy="54756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2616480" y="2338560"/>
            <a:ext cx="105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me fe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3255840" y="3502080"/>
            <a:ext cx="3043440" cy="547560"/>
          </a:xfrm>
          <a:prstGeom prst="ellipse">
            <a:avLst/>
          </a:prstGeom>
          <a:solidFill>
            <a:srgbClr val="789c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3522600" y="3662280"/>
            <a:ext cx="229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ulo-skeletal disor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26"/>
          <p:cNvSpPr/>
          <p:nvPr/>
        </p:nvSpPr>
        <p:spPr>
          <a:xfrm>
            <a:off x="3657600" y="2911320"/>
            <a:ext cx="2239920" cy="476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4328640" y="303516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rmatit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4540320" y="2319480"/>
            <a:ext cx="1839960" cy="4078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5194080" y="240840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30"/>
          <p:cNvSpPr/>
          <p:nvPr/>
        </p:nvSpPr>
        <p:spPr>
          <a:xfrm>
            <a:off x="5827680" y="4129200"/>
            <a:ext cx="1998720" cy="479160"/>
          </a:xfrm>
          <a:prstGeom prst="ellipse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6633720" y="425448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IH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6746760" y="4746600"/>
            <a:ext cx="2000520" cy="409680"/>
          </a:xfrm>
          <a:prstGeom prst="ellipse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7201440" y="4822920"/>
            <a:ext cx="118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othelio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6746760" y="1774800"/>
            <a:ext cx="2000520" cy="407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7213320" y="185112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36"/>
          <p:cNvSpPr/>
          <p:nvPr/>
        </p:nvSpPr>
        <p:spPr>
          <a:xfrm>
            <a:off x="6746760" y="2384280"/>
            <a:ext cx="2000520" cy="4082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7358760" y="246060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uka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Principles of Disease Preven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Diagram 5"/>
          <p:cNvGrpSpPr/>
          <p:nvPr/>
        </p:nvGrpSpPr>
        <p:grpSpPr>
          <a:xfrm>
            <a:off x="1609560" y="1518480"/>
            <a:ext cx="5314680" cy="4807800"/>
            <a:chOff x="1609560" y="1518480"/>
            <a:chExt cx="5314680" cy="4807800"/>
          </a:xfrm>
        </p:grpSpPr>
        <p:sp>
          <p:nvSpPr>
            <p:cNvPr id="236" name="_s1028"/>
            <p:cNvSpPr/>
            <p:nvPr/>
          </p:nvSpPr>
          <p:spPr>
            <a:xfrm flipV="1">
              <a:off x="3381120" y="1518120"/>
              <a:ext cx="1771560" cy="1603080"/>
            </a:xfrm>
            <a:custGeom>
              <a:avLst/>
              <a:gdLst>
                <a:gd name="textAreaLeft" fmla="*/ 635400 w 1771560"/>
                <a:gd name="textAreaRight" fmla="*/ 1136160 w 1771560"/>
                <a:gd name="textAreaTop" fmla="*/ 575280 h 1603080"/>
                <a:gd name="textAreaBottom" fmla="*/ 1027800 h 16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gr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azar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TIAR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V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1029"/>
            <p:cNvSpPr/>
            <p:nvPr/>
          </p:nvSpPr>
          <p:spPr>
            <a:xfrm flipV="1">
              <a:off x="2495160" y="3121560"/>
              <a:ext cx="3543480" cy="1603080"/>
            </a:xfrm>
            <a:custGeom>
              <a:avLst/>
              <a:gdLst>
                <a:gd name="textAreaLeft" fmla="*/ 779040 w 3543480"/>
                <a:gd name="textAreaRight" fmla="*/ 2764440 w 3543480"/>
                <a:gd name="textAreaTop" fmla="*/ 352440 h 1603080"/>
                <a:gd name="textAreaBottom" fmla="*/ 1250640 h 16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of enqui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ONDARY PREV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0"/>
            <p:cNvSpPr/>
            <p:nvPr/>
          </p:nvSpPr>
          <p:spPr>
            <a:xfrm flipV="1">
              <a:off x="1609560" y="4725000"/>
              <a:ext cx="5314680" cy="1600920"/>
            </a:xfrm>
            <a:custGeom>
              <a:avLst/>
              <a:gdLst>
                <a:gd name="textAreaLeft" fmla="*/ 922680 w 5314680"/>
                <a:gd name="textAreaRight" fmla="*/ 4392000 w 5314680"/>
                <a:gd name="textAreaTop" fmla="*/ 277920 h 1600920"/>
                <a:gd name="textAreaBottom" fmla="*/ 1323000 h 160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mited evidence of hazard and exposu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 PREV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10"/>
          <p:cNvSpPr/>
          <p:nvPr/>
        </p:nvSpPr>
        <p:spPr>
          <a:xfrm>
            <a:off x="236520" y="16765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er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surveil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60560" y="51055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er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surveil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 rot="5400000">
            <a:off x="-138240" y="3414600"/>
            <a:ext cx="2438640" cy="486000"/>
          </a:xfrm>
          <a:custGeom>
            <a:avLst/>
            <a:gdLst>
              <a:gd name="textAreaLeft" fmla="*/ 380880 w 2438640"/>
              <a:gd name="textAreaRight" fmla="*/ 2134080 w 24386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100920" y="1523880"/>
            <a:ext cx="281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RSING INTERVEN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7006320" y="1905120"/>
            <a:ext cx="1913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ment / Referr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g Function 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sonal Protec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7032600" y="350532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Scre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rly det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7108920" y="4876920"/>
            <a:ext cx="16556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-line heal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imination o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5486400" y="2286000"/>
            <a:ext cx="1052640" cy="333360"/>
          </a:xfrm>
          <a:prstGeom prst="leftArrow">
            <a:avLst>
              <a:gd name="adj1" fmla="val 50000"/>
              <a:gd name="adj2" fmla="val 7894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5867280" y="365760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9"/>
          <p:cNvSpPr/>
          <p:nvPr/>
        </p:nvSpPr>
        <p:spPr>
          <a:xfrm>
            <a:off x="6629400" y="5257800"/>
            <a:ext cx="442800" cy="333360"/>
          </a:xfrm>
          <a:prstGeom prst="leftArrow">
            <a:avLst>
              <a:gd name="adj1" fmla="val 50000"/>
              <a:gd name="adj2" fmla="val 3320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rkplace Haz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76212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hysic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hemic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iologic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echanic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sychosoci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rgonomic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rkplace Health &amp; Safe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are legally responsible for identif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orrecting health and safety haz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uthorised perso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vi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employers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ed workers fundamental righ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8991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know about hazards in the workplace, how to identify them and how to protect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articipate in health and safety decisions through management’s consultation with occupational health committees and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fuse unusually dangerou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WHAT I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WORK &amp; HEAL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CCU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ssential human activity that occupy a considerable part of a person’s waking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stimulating &amp; rewar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tribut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merely the absence of disease BUT a state of complete physical, mental, social and spiritual well-b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ccupational Health and Safety Act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- OSH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(1993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.everyone in the workplace is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quir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work together to identify and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 and safety hazard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o are the Occupational Health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ealth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ealth 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ealth epidemi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ygie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toxic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9461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gonom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therap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otherap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educ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ty engine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gonom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the workplace and the job to fit the work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eals with designing and changing the workplace to ensure employees are not injured or made unusually uncomfortable when wor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gonom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ing and handling l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hat involves standing for long periods of time, antifatigue mats and foot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s where it is appropriate for workers to be permitted to sit while working, seating requirements and foot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uloskeletal injuries which include muscle injuries or disorders of tendons, ligaments, nerves, joints, bones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gien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ble for recognizing, evaluating and controlling health hazards in the work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this an occupational hygienist will examine the work environment and work activit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5" descr="HazardHygiene"/>
          <p:cNvPicPr/>
          <p:nvPr/>
        </p:nvPicPr>
        <p:blipFill>
          <a:blip r:embed="rId3"/>
          <a:stretch/>
        </p:blipFill>
        <p:spPr>
          <a:xfrm>
            <a:off x="548640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factors influence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e of industry; small, medium or large and its lo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infrastructure of health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ed man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s involvement and employers commi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illance of the working environment by means of epidemiological studies and t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s of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dical treatment, First aid treatment in emerg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education, First ai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d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 employment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dical treatment, First aid treatment in emerg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s of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education, First ai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d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 employment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eriodic med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pecial med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s of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counsel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 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Stress manage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 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Mental heal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And Physical heal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Rehabilitation program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Medical rehabili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 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Social rehabili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 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Educational rehabili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 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Vocational rehabili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1856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s of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dusts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noise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heat rad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rad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What is Occupational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alth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152640" y="1717560"/>
            <a:ext cx="9296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efined Occupational Health a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motion and maintenance of the highest degree of physical, mental and social well-being of workers in all occupation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What is Occupational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lth</a:t>
            </a: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oint international labor organization  committee on Occupational health, 1950 defined  occupational health as  “The highest degree of physical, mental and social well-being of workers in all 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Unicode MS"/>
              </a:rPr>
              <a:t>Cont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-way relationship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to the effects of working conditio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 on health of worker – influence on ability to perform tasks in the work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is better than cure –ensuring work &amp; working condition DO NOT affect the health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at is Occupational Health Nursing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320" y="202716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of nursing principles in conserving the health of workers at the work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ased on principles 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cognition,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prevention 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eatment of illness, inju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ly known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Industrial Nursing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990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ims of O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28600" y="1066680"/>
            <a:ext cx="89154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ion and maintenance of the highest degree of physical,mental and social well-being of workers in all occupations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preventing- departures from health cause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ir working condit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ng the workers in their employment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risks resulting from factors adverse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daptation of work to the worker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s to their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6320" y="1295280"/>
            <a:ext cx="88390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ntenance and promotion of   workers’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and working capacity(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monitori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vement of working environment 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 to become conducive to safety 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(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ksite visit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ment of work organisations 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ing cultures in a direction, which supports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and safety at work(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Educa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 prevent occupational hazards/ dis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 achieve maximum human efficiency and machine effici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 reduce sick absentee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ratrout</dc:creator>
  <dc:description/>
  <dc:language>en-US</dc:language>
  <cp:lastModifiedBy>Yara</cp:lastModifiedBy>
  <dcterms:modified xsi:type="dcterms:W3CDTF">2016-09-27T18:44:15Z</dcterms:modified>
  <cp:revision>10</cp:revision>
  <dc:subject/>
  <dc:title>OCCUPATIONAL HEALTH NURSING</dc:title>
</cp:coreProperties>
</file>