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109-C33A-44E8-8427-8189F774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338-79AD-4785-B58E-111689DE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F66-EAC3-4A0B-AB1E-5FFCF66C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C90-5E3D-4082-9433-69078227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F30-9550-497C-968F-9CCE5B28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5F41-45F6-4CD9-B625-A6EEE385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9AB2-1E85-4C62-A0AD-11C2967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1B8-40D8-42FB-AD3B-8FE8131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BA60-29C3-4ACE-8BA8-59E3842D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CD2-330D-439C-B90D-1BCE2D0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C3A8-D1FC-4B67-8A7E-A714049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FAA-C471-413B-9E09-25E2A8A7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106A-6572-4FF6-8A13-2A677FB5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75D-685E-4545-826A-0BE9967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A4E-BB2A-497D-89F1-668912DE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9910-6B20-47F7-A2FA-F2D595BB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7A22-C99B-4A33-B512-A77120A5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AD5-9172-4374-A8D4-2E68DBA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67E-3478-4600-BDDC-118EB56A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18A-7043-4CB2-8C23-499AE27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29E-26FA-4180-BDA8-0E1C703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C3B-D338-4D74-A13D-45E4AB5F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8B1-13BA-4293-9F30-2D0D131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97F-99CB-454F-B78E-016FB71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ED40-2198-4B07-9A4C-2E0D269AD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56E-4458-4C8F-A215-EB0547EA1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7240" y="1676160"/>
            <a:ext cx="7769520" cy="20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OCCUPATIONAL HEALTH</a:t>
            </a:r>
            <a:r>
              <a:rPr b="1" lang="pt-BR" sz="5500" spc="-1" strike="noStrike">
                <a:solidFill>
                  <a:srgbClr val="ffffff"/>
                </a:solidFill>
                <a:latin typeface="Arial"/>
              </a:rPr>
              <a:t> NURSING</a:t>
            </a:r>
            <a:br>
              <a:rPr sz="5500"/>
            </a:br>
            <a:r>
              <a:rPr b="1" lang="pt-BR" sz="5500" spc="-1" strike="noStrike">
                <a:solidFill>
                  <a:srgbClr val="ffffff"/>
                </a:solidFill>
                <a:latin typeface="Arial"/>
              </a:rPr>
              <a:t>OH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ope of OHN practi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upational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upational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work place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ion of worker’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ation of worker’s health (maintenance of worker’s heal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injur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0292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ch as a cut, fracture, sprain, amputation, etc, that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may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results from a single instantaneous exposure or incident in the work department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or during the course of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g0431332"/>
          <p:cNvPicPr/>
          <p:nvPr/>
        </p:nvPicPr>
        <p:blipFill>
          <a:blip r:embed="rId2"/>
          <a:stretch/>
        </p:blipFill>
        <p:spPr>
          <a:xfrm>
            <a:off x="4724280" y="1886040"/>
            <a:ext cx="4343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 abnormal condition or disorder, other than one resulting from an occupational injury caused by exposure to environmental factors associated with employment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t ca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ute or chronic illnesses,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ollowing exposure to the hazards through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nhalation, absorption, ingestion, or direct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 and 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health hazards in the workplace may cause adverse health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development depends 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factors, non-occupational exposure (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festy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hobbies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factor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ent properties of the agent, exposure level, exposure length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workplace stresso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1" descr="18126"/>
          <p:cNvPicPr/>
          <p:nvPr/>
        </p:nvPicPr>
        <p:blipFill>
          <a:blip r:embed="rId1"/>
          <a:stretch/>
        </p:blipFill>
        <p:spPr>
          <a:xfrm>
            <a:off x="3048120" y="1287360"/>
            <a:ext cx="2286000" cy="1532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685800" y="304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s influencing our 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09480" y="1523880"/>
            <a:ext cx="356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Determine who you 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Likelihood of contracting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5800" y="4302000"/>
            <a:ext cx="28954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fe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Smok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Di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Alcoh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250320" y="2666880"/>
            <a:ext cx="27057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Work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Lei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Domestic/living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496320" y="32004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90" idx="2"/>
            <a:endCxn id="193" idx="1"/>
          </p:cNvCxnSpPr>
          <p:nvPr/>
        </p:nvCxnSpPr>
        <p:spPr>
          <a:xfrm flipH="1" rot="16200000">
            <a:off x="2535840" y="2597400"/>
            <a:ext cx="749880" cy="1037520"/>
          </a:xfrm>
          <a:prstGeom prst="curvedConnector2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5" name="AutoShape 9"/>
          <p:cNvCxnSpPr>
            <a:stCxn id="191" idx="0"/>
            <a:endCxn id="193" idx="2"/>
          </p:cNvCxnSpPr>
          <p:nvPr/>
        </p:nvCxnSpPr>
        <p:spPr>
          <a:xfrm flipH="1" flipV="1" rot="5400000">
            <a:off x="2939760" y="2972880"/>
            <a:ext cx="522720" cy="2135880"/>
          </a:xfrm>
          <a:prstGeom prst="curvedConnector5">
            <a:avLst>
              <a:gd name="adj1" fmla="val 49827"/>
              <a:gd name="adj2" fmla="val 50000"/>
              <a:gd name="adj3" fmla="val 49827"/>
            </a:avLst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AutoShape 10"/>
          <p:cNvCxnSpPr>
            <a:endCxn id="193" idx="3"/>
          </p:cNvCxnSpPr>
          <p:nvPr/>
        </p:nvCxnSpPr>
        <p:spPr>
          <a:xfrm rot="10800000">
            <a:off x="5107680" y="3490200"/>
            <a:ext cx="988200" cy="624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7" name="Picture 12" descr="P7040055"/>
          <p:cNvPicPr/>
          <p:nvPr/>
        </p:nvPicPr>
        <p:blipFill>
          <a:blip r:embed="rId2"/>
          <a:stretch/>
        </p:blipFill>
        <p:spPr>
          <a:xfrm>
            <a:off x="6294600" y="4267080"/>
            <a:ext cx="2773080" cy="20797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 and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1320840" y="1825560"/>
            <a:ext cx="1440" cy="3487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320840" y="5308560"/>
            <a:ext cx="66769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78720" y="480060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use 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25360" y="502920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asy to s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02400" y="19810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use 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94040" y="222732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ard to s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685800" y="2438280"/>
            <a:ext cx="0" cy="2362320"/>
          </a:xfrm>
          <a:prstGeom prst="line">
            <a:avLst/>
          </a:prstGeom>
          <a:ln w="49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389960" y="548640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051000" y="548640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4176720" y="5486400"/>
            <a:ext cx="63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844240" y="548640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Ye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26160" y="548640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c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1406520" y="4896000"/>
            <a:ext cx="1276200" cy="269640"/>
          </a:xfrm>
          <a:prstGeom prst="ellipse">
            <a:avLst/>
          </a:prstGeom>
          <a:solidFill>
            <a:srgbClr val="f766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1604160" y="4915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2130480" y="4478400"/>
            <a:ext cx="1677960" cy="4078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300760" y="4568760"/>
            <a:ext cx="125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lder’s Fla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606680" y="3921120"/>
            <a:ext cx="1438200" cy="4777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2022120" y="39337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2003760" y="4156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f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290680" y="2179800"/>
            <a:ext cx="1758960" cy="54756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2616480" y="2338560"/>
            <a:ext cx="105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me fe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3255840" y="3502080"/>
            <a:ext cx="3043440" cy="547560"/>
          </a:xfrm>
          <a:prstGeom prst="ellipse">
            <a:avLst/>
          </a:prstGeom>
          <a:solidFill>
            <a:srgbClr val="789c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3522600" y="3662280"/>
            <a:ext cx="229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ulo-skeletal disor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26"/>
          <p:cNvSpPr/>
          <p:nvPr/>
        </p:nvSpPr>
        <p:spPr>
          <a:xfrm>
            <a:off x="3657600" y="2911320"/>
            <a:ext cx="2239920" cy="476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4328640" y="303516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4540320" y="2319480"/>
            <a:ext cx="1839960" cy="4078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5194080" y="240840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5827680" y="4129200"/>
            <a:ext cx="1998720" cy="479160"/>
          </a:xfrm>
          <a:prstGeom prst="ellipse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6633720" y="425448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IH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6746760" y="4746600"/>
            <a:ext cx="2000520" cy="409680"/>
          </a:xfrm>
          <a:prstGeom prst="ellipse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7201440" y="4822920"/>
            <a:ext cx="118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othelio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6746760" y="1774800"/>
            <a:ext cx="2000520" cy="407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7213320" y="185112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36"/>
          <p:cNvSpPr/>
          <p:nvPr/>
        </p:nvSpPr>
        <p:spPr>
          <a:xfrm>
            <a:off x="6746760" y="2384280"/>
            <a:ext cx="2000520" cy="4082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7358760" y="246060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uka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Principles of Disease Preven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Diagram 5"/>
          <p:cNvGrpSpPr/>
          <p:nvPr/>
        </p:nvGrpSpPr>
        <p:grpSpPr>
          <a:xfrm>
            <a:off x="1609560" y="1518480"/>
            <a:ext cx="5314680" cy="4807800"/>
            <a:chOff x="1609560" y="1518480"/>
            <a:chExt cx="5314680" cy="4807800"/>
          </a:xfrm>
        </p:grpSpPr>
        <p:sp>
          <p:nvSpPr>
            <p:cNvPr id="236" name="_s1028"/>
            <p:cNvSpPr/>
            <p:nvPr/>
          </p:nvSpPr>
          <p:spPr>
            <a:xfrm flipV="1">
              <a:off x="3381120" y="1518120"/>
              <a:ext cx="1771560" cy="1603080"/>
            </a:xfrm>
            <a:custGeom>
              <a:avLst/>
              <a:gdLst>
                <a:gd name="textAreaLeft" fmla="*/ 635400 w 1771560"/>
                <a:gd name="textAreaRight" fmla="*/ 1136160 w 1771560"/>
                <a:gd name="textAreaTop" fmla="*/ 575280 h 1603080"/>
                <a:gd name="textAreaBottom" fmla="*/ 102780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g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azar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TIAR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1029"/>
            <p:cNvSpPr/>
            <p:nvPr/>
          </p:nvSpPr>
          <p:spPr>
            <a:xfrm flipV="1">
              <a:off x="2495160" y="3121560"/>
              <a:ext cx="3543480" cy="1603080"/>
            </a:xfrm>
            <a:custGeom>
              <a:avLst/>
              <a:gdLst>
                <a:gd name="textAreaLeft" fmla="*/ 779040 w 3543480"/>
                <a:gd name="textAreaRight" fmla="*/ 2764440 w 3543480"/>
                <a:gd name="textAreaTop" fmla="*/ 352440 h 1603080"/>
                <a:gd name="textAreaBottom" fmla="*/ 125064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of enqui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ARY PRE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0"/>
            <p:cNvSpPr/>
            <p:nvPr/>
          </p:nvSpPr>
          <p:spPr>
            <a:xfrm flipV="1">
              <a:off x="1609560" y="4725000"/>
              <a:ext cx="5314680" cy="1600920"/>
            </a:xfrm>
            <a:custGeom>
              <a:avLst/>
              <a:gdLst>
                <a:gd name="textAreaLeft" fmla="*/ 922680 w 5314680"/>
                <a:gd name="textAreaRight" fmla="*/ 4392000 w 5314680"/>
                <a:gd name="textAreaTop" fmla="*/ 277920 h 1600920"/>
                <a:gd name="textAreaBottom" fmla="*/ 1323000 h 160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mited evidence of hazard and expos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 PRE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10"/>
          <p:cNvSpPr/>
          <p:nvPr/>
        </p:nvSpPr>
        <p:spPr>
          <a:xfrm>
            <a:off x="236520" y="16765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r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surveil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60560" y="51055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surveil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 rot="5400000">
            <a:off x="-138240" y="3414600"/>
            <a:ext cx="2438640" cy="486000"/>
          </a:xfrm>
          <a:custGeom>
            <a:avLst/>
            <a:gdLst>
              <a:gd name="textAreaLeft" fmla="*/ 380880 w 2438640"/>
              <a:gd name="textAreaRight" fmla="*/ 2134080 w 24386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100920" y="1523880"/>
            <a:ext cx="281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RSING INTERV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7006320" y="1905120"/>
            <a:ext cx="191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ment / Refer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g Function 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sonal Protec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7032600" y="35053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Scre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rly det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108920" y="4876920"/>
            <a:ext cx="1655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-line heal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mination o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486400" y="2286000"/>
            <a:ext cx="1052640" cy="333360"/>
          </a:xfrm>
          <a:prstGeom prst="leftArrow">
            <a:avLst>
              <a:gd name="adj1" fmla="val 50000"/>
              <a:gd name="adj2" fmla="val 7894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5867280" y="365760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9"/>
          <p:cNvSpPr/>
          <p:nvPr/>
        </p:nvSpPr>
        <p:spPr>
          <a:xfrm>
            <a:off x="6629400" y="5257800"/>
            <a:ext cx="442800" cy="333360"/>
          </a:xfrm>
          <a:prstGeom prst="leftArrow">
            <a:avLst>
              <a:gd name="adj1" fmla="val 50000"/>
              <a:gd name="adj2" fmla="val 3320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rkplace Haz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6212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hys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hem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iolog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echanic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sychosocial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rgonomic Haz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rkplace Health &amp; Saf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are legally responsible for identif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orrecting health and safety haz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thorised perso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v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employers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ed workers fundamental righ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 about hazards in the workplace, how to identify them and how to protect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articipate in health and safety decisions through management’s consultation with occupational health committees and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fuse unusually dangerou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WHAT 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WORK &amp; HEAL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ssential human activity that occupy a considerable part of a person’s waking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stimulating &amp; rewar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tribut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merely the absence of disease BUT a state of complete physical, mental, social and spiritual well-b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ccupational Health and Safety Act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- OSH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1993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.everyone in the workplace is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ir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work together to identify and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 and safety hazard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are the Occupational Health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epidemi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ygie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toxic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9461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gonom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therap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therap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edu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ty engin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gonom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the workplace and the job to fit the work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eals with designing and changing the workplace to ensure employees are not injured or made unusually uncomfortable when wor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g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ing and handling 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hat involves standing for long periods of time, antifatigue mats and foot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s where it is appropriate for workers to be permitted to sit while working, seating requirements and foot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 injuries which include muscle injuries or disorders of tendons, ligaments, nerves, joints, bone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gien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le for recognizing, evaluating and controlling health hazards in the work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this an occupational hygienist will examine the work environment and work activ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HazardHygiene"/>
          <p:cNvPicPr/>
          <p:nvPr/>
        </p:nvPicPr>
        <p:blipFill>
          <a:blip r:embed="rId3"/>
          <a:stretch/>
        </p:blipFill>
        <p:spPr>
          <a:xfrm>
            <a:off x="548640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factors influence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e of industry; small, medium or large and its 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infrastructure of health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ed man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involvement and employers commi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illance of the working environment by means of epidemiological studies and t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treatment, First aid treatment in emer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education, First ai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 employment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treatment, First aid treatment in emer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education, First ai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 employment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riodic 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pecial med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counsel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Stress manag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Mental heal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And Physical heal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Rehabilitation program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Medic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 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Soci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 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Education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62"/>
              </a:spcBef>
              <a:buSzPct val="11856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   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 Vocational rehabili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1856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s of 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dusts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nois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heat rad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rad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What is Occupational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alth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52640" y="1717560"/>
            <a:ext cx="9296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efined Occupational Health a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otion and maintenance of the highest degree of physical, mental and social well-being of workers in all occupation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What is Occupational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lth</a:t>
            </a: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oint international labor organization  committee on Occupational health, 1950 defined  occupational health as  “The highest degree of physical, mental and social well-being of workers in all 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Unicode MS"/>
              </a:rPr>
              <a:t>Cont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-way relationship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to the effects of working conditi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on health of worker – influence on ability to perform tasks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is better than cure –ensuring work &amp; working condition DO NOT affect the health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at is Occupational Health Nursing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202716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of nursing principles in conserving the health of workers at the work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ased on principles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cognition,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prevention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eatment of illness, inju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ly known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Industrial Nursing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ims of O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28600" y="1066680"/>
            <a:ext cx="89154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 and maintenance of the highest degree of physical,mental and social well-being of workers in all occupations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preventing- departures from health cause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ir working condit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ng the workers in their employment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risks resulting from factors advers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daptation of work to the worker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to their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6320" y="1295280"/>
            <a:ext cx="8839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tenance and promotion of   workers’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and working capacity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onitori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vement of working environment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 to become conducive to safety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ksite visi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ment of work organisations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ing cultures in a direction, which supports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and safety at work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Educa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prevent occupational hazards/ dis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achieve maximum human efficiency and machine effici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reduce sick absentee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ratrout</dc:creator>
  <dc:description/>
  <dc:language>en-US</dc:language>
  <cp:lastModifiedBy>Yara</cp:lastModifiedBy>
  <dcterms:modified xsi:type="dcterms:W3CDTF">2016-09-27T18:44:15Z</dcterms:modified>
  <cp:revision>10</cp:revision>
  <dc:subject/>
  <dc:title>OCCUPATIONAL HEALTH NURSING</dc:title>
</cp:coreProperties>
</file>