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F2359-9CC3-432B-99D7-7D167AA73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CFE8-43E0-449E-A683-79744E423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2561-962B-4604-AACA-2A8158C3D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F170F-47B0-4567-A9A5-FC4EED769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0C77B-A76F-4CA1-A7E8-60440E271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CC541-26EF-475C-9795-971838531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6CBC9-98C4-4122-820B-51456F2FF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FA309-34AE-450D-954F-EE22185D9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0A960-EEC9-4CB1-914E-318C001BD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11200-B47F-4726-82D0-BC5A93F85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367C-8FA0-4AB1-A825-D7C320BC2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7C82-01EA-4788-90E7-D7909539D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6856-3F0E-4B44-BE4D-A4A19844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D8F58-3D97-41D1-9BB8-F12BC92F7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1FBB1-EA57-4B89-8710-5F375B055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F9FA8-D444-400C-BF0F-A446196D5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96004-E257-48D2-B3EF-60D175890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85C09-D15A-45F6-A039-307A96896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3F3A-C0D6-4964-9D75-4C96B603B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49AB8-AF93-468C-A7CF-40B65151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E03C8-EC8E-4569-B837-D06DE4659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B773-BC11-4183-8BC4-5E230BBB1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A3249-7900-496E-A0CF-F41CE061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870A-5637-463E-A7E6-754692E36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A6A0-F383-49F1-9EB8-81D4F75481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EEE5-32A3-4EAA-AA29-EC21A91A73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Ãبو روازن</cp:lastModifiedBy>
  <dcterms:modified xsi:type="dcterms:W3CDTF">2010-05-14T20:22:38Z</dcterms:modified>
  <cp:revision>6</cp:revision>
  <dc:subject/>
  <dc:title>الشريحة 1</dc:title>
</cp:coreProperties>
</file>