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5DA0-027B-464E-8CDA-41791E0E0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D320-BC43-49B9-9D9D-05EA80FDE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8F74-DD68-4026-A37F-BE4F91646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3E6C-974B-44DA-B915-0B770E223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BA91-616E-4A1C-BFD3-7AFD6B788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4AA5-FF27-4418-A127-A9361E3D8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4F82-153C-4B65-A75C-65BDBF7DE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A42A-ADEF-4F9C-8386-D2396DC50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EF89-D203-45CB-8D2F-63AFA2B03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E1F4-AAAD-4549-B2BA-B5716307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6378-6885-4A30-9734-52832C18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6AAD-0624-427D-AE45-18B44F50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3BCB2-0295-44C8-AA3C-D3E40BB92FF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l Sea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Stochastic Algorith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to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ll Climb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8487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way to use Hill Climbing to solve N-Queens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4queens-sequence"/>
          <p:cNvPicPr/>
          <p:nvPr/>
        </p:nvPicPr>
        <p:blipFill>
          <a:blip r:embed="rId1"/>
          <a:stretch/>
        </p:blipFill>
        <p:spPr>
          <a:xfrm>
            <a:off x="795240" y="4267080"/>
            <a:ext cx="77392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am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the way to use Beam Search Algorithm to solve TSP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9"/>
          <p:cNvGrpSpPr/>
          <p:nvPr/>
        </p:nvGrpSpPr>
        <p:grpSpPr>
          <a:xfrm>
            <a:off x="533520" y="2971800"/>
            <a:ext cx="8229600" cy="3440160"/>
            <a:chOff x="533520" y="2971800"/>
            <a:chExt cx="8229600" cy="3440160"/>
          </a:xfrm>
        </p:grpSpPr>
        <p:grpSp>
          <p:nvGrpSpPr>
            <p:cNvPr id="49" name="Group 4"/>
            <p:cNvGrpSpPr/>
            <p:nvPr/>
          </p:nvGrpSpPr>
          <p:grpSpPr>
            <a:xfrm>
              <a:off x="533520" y="2971800"/>
              <a:ext cx="8229600" cy="3440160"/>
              <a:chOff x="533520" y="2971800"/>
              <a:chExt cx="8229600" cy="3440160"/>
            </a:xfrm>
          </p:grpSpPr>
          <p:pic>
            <p:nvPicPr>
              <p:cNvPr id="50" name="Pictur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533520" y="3392280"/>
                <a:ext cx="4267440" cy="2219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" name="Pictur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4953240" y="2971800"/>
                <a:ext cx="3809880" cy="3087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Pictur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6324840" y="6059520"/>
                <a:ext cx="1619280" cy="3524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3" name="Text Box 8"/>
            <p:cNvSpPr/>
            <p:nvPr/>
          </p:nvSpPr>
          <p:spPr>
            <a:xfrm>
              <a:off x="1905120" y="5562720"/>
              <a:ext cx="16761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-opt (2-swap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Algorith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ider the following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fitness func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tness (bitstring) = number of 1’s in the bitstring where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jacent bits are 0’s: (010).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, fitness (“010110100”) = 2; fitness (“100011011”) = 0; and fitness (“010101010”)= 4. (Notice that 1’s in the first or last position in the string are not counted in the fitness function, even if adjacent to a 0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ume the design of our genetic algorithm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reate an initial population containing 4 random 9-bit strin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card the 2 least-fit 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 a single-point cross-over using the 2 most fit. The 2 children that result and their parents constitute the next gen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d)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ndomly mutate 1 bit in 1 string in the popu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e)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o to step (b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Algorith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rt with the initial population below and show what the next two (2) generations might look like. Explain your reaso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eneration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 1 1 1 1 0 1 1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 1 1 0 0 1 0 1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 0 1 1 0 1 1 1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 0 0 0 1 0 1 0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eneration 1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eneration 2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Algorith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the way to use Genetic Algorithm to solve TSP Probl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4"/>
          <p:cNvGrpSpPr/>
          <p:nvPr/>
        </p:nvGrpSpPr>
        <p:grpSpPr>
          <a:xfrm>
            <a:off x="533520" y="2971800"/>
            <a:ext cx="8229600" cy="3440160"/>
            <a:chOff x="533520" y="2971800"/>
            <a:chExt cx="8229600" cy="3440160"/>
          </a:xfrm>
        </p:grpSpPr>
        <p:grpSp>
          <p:nvGrpSpPr>
            <p:cNvPr id="61" name="Group 5"/>
            <p:cNvGrpSpPr/>
            <p:nvPr/>
          </p:nvGrpSpPr>
          <p:grpSpPr>
            <a:xfrm>
              <a:off x="533520" y="2971800"/>
              <a:ext cx="8229600" cy="3440160"/>
              <a:chOff x="533520" y="2971800"/>
              <a:chExt cx="8229600" cy="3440160"/>
            </a:xfrm>
          </p:grpSpPr>
          <p:pic>
            <p:nvPicPr>
              <p:cNvPr id="62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533520" y="3392280"/>
                <a:ext cx="4267440" cy="2219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" name="Pictur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4953240" y="2971800"/>
                <a:ext cx="3809880" cy="3087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Pictur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6324840" y="6059520"/>
                <a:ext cx="1619280" cy="3524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5" name="Text Box 9"/>
            <p:cNvSpPr/>
            <p:nvPr/>
          </p:nvSpPr>
          <p:spPr>
            <a:xfrm>
              <a:off x="1905120" y="5562720"/>
              <a:ext cx="16761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-opt (2-swap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06:18:57Z</dcterms:created>
  <dc:creator>mbatouche</dc:creator>
  <dc:description/>
  <dc:language>en-US</dc:language>
  <cp:lastModifiedBy>Dean Ship</cp:lastModifiedBy>
  <dcterms:modified xsi:type="dcterms:W3CDTF">2012-02-13T10:07:37Z</dcterms:modified>
  <cp:revision>15</cp:revision>
  <dc:subject/>
  <dc:title>Informed Search Strateg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