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1DF-256F-45F5-87D5-CDCADF6F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706-E4D9-45BB-AF2A-B9D1DBCA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E42-BE50-4526-AF02-958BBB4E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A63-9E61-4462-9638-EF1F888E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3D1-C754-45FC-BF97-13CB4DD6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68A-F53D-4B21-8B7E-4133E4B0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4A2-247B-40F8-AA97-220F9D75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CED-CACD-4267-AD92-43C439B2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9DF-5F52-458F-B990-274CF4AA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F5F-03CC-4C8B-A1F9-336AF23A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FCD-A42B-42E3-83DA-ACB109C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7A5-13AA-476D-9100-5ADC42F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1421-B3E9-49FE-B9BF-1ECC8B5FF4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Sea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Stochas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lim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way to use Hill Climbing to solve N-Queens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4queens-sequence"/>
          <p:cNvPicPr/>
          <p:nvPr/>
        </p:nvPicPr>
        <p:blipFill>
          <a:blip r:embed="rId1"/>
          <a:stretch/>
        </p:blipFill>
        <p:spPr>
          <a:xfrm>
            <a:off x="795240" y="4267080"/>
            <a:ext cx="7739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m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way to use Beam Search Algorithm to solve TSP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533520" y="2971800"/>
            <a:ext cx="8229600" cy="3440160"/>
            <a:chOff x="533520" y="2971800"/>
            <a:chExt cx="8229600" cy="3440160"/>
          </a:xfrm>
        </p:grpSpPr>
        <p:grpSp>
          <p:nvGrpSpPr>
            <p:cNvPr id="49" name="Group 4"/>
            <p:cNvGrpSpPr/>
            <p:nvPr/>
          </p:nvGrpSpPr>
          <p:grpSpPr>
            <a:xfrm>
              <a:off x="533520" y="2971800"/>
              <a:ext cx="8229600" cy="3440160"/>
              <a:chOff x="533520" y="2971800"/>
              <a:chExt cx="8229600" cy="3440160"/>
            </a:xfrm>
          </p:grpSpPr>
          <p:pic>
            <p:nvPicPr>
              <p:cNvPr id="50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3392280"/>
                <a:ext cx="4267440" cy="22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3240" y="2971800"/>
                <a:ext cx="3809880" cy="308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6324840" y="6059520"/>
                <a:ext cx="1619280" cy="352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Text Box 8"/>
            <p:cNvSpPr/>
            <p:nvPr/>
          </p:nvSpPr>
          <p:spPr>
            <a:xfrm>
              <a:off x="1905120" y="5562720"/>
              <a:ext cx="1676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-opt (2-swa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the follow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tness fun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tness (bitstring) = number of 1’s in the bitstring wher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acent bits are 0’s: (010)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fitness (“010110100”) = 2; fitness (“100011011”) = 0; and fitness (“010101010”)= 4. (Notice that 1’s in the first or last position in the string are not counted in the fitness function, even if adjacent to a 0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 the design of our genetic algorith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n initial population containing 4 random 9-bit st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ard the 2 least-fit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a single-point cross-over using the 2 most fit. The 2 children that result and their parents constitute the next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domly mutate 1 bit in 1 string in th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to step 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 with the initial population below and show what the next two (2) generations might look like. Explain your reaso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tio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1 1 1 1 0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1 1 0 0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0 1 1 0 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0 0 0 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tion 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tion 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way to use Genetic Algorithm to solve TSP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533520" y="2971800"/>
            <a:ext cx="8229600" cy="3440160"/>
            <a:chOff x="533520" y="2971800"/>
            <a:chExt cx="8229600" cy="3440160"/>
          </a:xfrm>
        </p:grpSpPr>
        <p:grpSp>
          <p:nvGrpSpPr>
            <p:cNvPr id="61" name="Group 5"/>
            <p:cNvGrpSpPr/>
            <p:nvPr/>
          </p:nvGrpSpPr>
          <p:grpSpPr>
            <a:xfrm>
              <a:off x="533520" y="2971800"/>
              <a:ext cx="8229600" cy="3440160"/>
              <a:chOff x="533520" y="2971800"/>
              <a:chExt cx="8229600" cy="3440160"/>
            </a:xfrm>
          </p:grpSpPr>
          <p:pic>
            <p:nvPicPr>
              <p:cNvPr id="62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3392280"/>
                <a:ext cx="4267440" cy="22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3240" y="2971800"/>
                <a:ext cx="3809880" cy="308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324840" y="6059520"/>
                <a:ext cx="1619280" cy="352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Text Box 9"/>
            <p:cNvSpPr/>
            <p:nvPr/>
          </p:nvSpPr>
          <p:spPr>
            <a:xfrm>
              <a:off x="1905120" y="5562720"/>
              <a:ext cx="1676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-opt (2-swa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6:18:57Z</dcterms:created>
  <dc:creator>mbatouche</dc:creator>
  <dc:description/>
  <dc:language>en-US</dc:language>
  <cp:lastModifiedBy>Dean Ship</cp:lastModifiedBy>
  <dcterms:modified xsi:type="dcterms:W3CDTF">2012-02-13T10:07:37Z</dcterms:modified>
  <cp:revision>15</cp:revision>
  <dc:subject/>
  <dc:title>Informed Search Strateg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