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0CB3D-A0CD-49A8-9C1F-802B97CCF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0A90-0B5B-4E25-84B6-C6033C6BA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8DAF89-37E6-441A-A9B2-7765972BA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F1BA2-43AD-4A42-97FE-20A641ED38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BAEEF7-A53E-4329-A1DF-66B776ED18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61E0E-FA3F-4969-AD9A-51F12459D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1F80A-89E8-4E87-865B-F84FF1F892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F4A72-9B24-415E-B5E6-77CE9942D1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0C9E61-21ED-432C-82AA-0B2C285C5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4CF8AF-8756-4E09-9C7A-4E56F2B847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4F9F9A-F987-4862-9F9F-D7205A4742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4C4C145-7597-4CF3-ACEC-3E5B08C152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F777E-748B-4E7E-9B34-53B31F421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BE950A-AABB-404B-B812-BBA1A855CC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99F2E2-228D-457E-882F-684995EFD4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10A8D3-62DD-43F9-A1C9-5F0A52890E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84CD75-212A-4B22-AC4C-8D1A6EC13D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BE2B65-3F0D-474B-B5B1-019B56CF1D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39A7B4-DEE8-40CF-A205-AE3FCDD795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7BE847-B684-4A20-AE35-6CD0C05699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B94ECA-397A-4468-80F1-1A4722243C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82BA56-C567-4B79-A8DC-73CCB2DFD4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C2DB4A-6BC0-499B-9832-DEF2F4623B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71613-9433-4CE2-B019-600CD5A38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AAE5BD-C67F-4E9C-BB5B-D4CFC4FB77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A7C38C-AC85-436C-B7F7-2D1A099851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489D65-DD11-4762-B522-A7AB89D699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248202-57BA-4DDE-BC21-5EB2571BCD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EF4954-2627-4574-90C7-4E496AA280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85A43D-47A3-445D-81BE-C51FAAD4AE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A0D64-396B-4841-9ABE-602FA2B6EF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EB3856-BA22-466B-8A1B-4ADF2E095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69204D-14F4-497D-8E1C-7F2E311AD3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9257AB-74D4-4344-ACFA-3D21B14337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72F15-C5AD-44F2-A640-BFBBF9B7F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4EFAB7-7DA3-423E-9E25-3153BD4303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C16510-074A-4A06-84C3-33BE29926C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D153CD-CFAF-4B6C-BA34-AE1FE7AA96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15A321-380C-4D53-8198-66D60F9E21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2C2963-B7DE-4EDC-A5E6-695FA99EC8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5DB756-C1AB-49F2-BE0D-9939A0709C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F18E80-EAEE-4A30-8031-C0E5E872F3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A766AB-53C7-42DD-BDD6-EA4340BE3E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6CBFFA-FAEF-46F9-8E98-C682A90615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47C455-DD54-4C9F-AF34-2BCEAE9C6A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80F65-56AC-461F-8401-ACC2AB60E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8CF430-EAD7-4D78-93AB-F4109F70D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83C634-CED6-4F58-B860-97F191F4B7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2F6C65-53A0-4A55-A0B9-A37724D360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621BA4-D639-43B2-99A0-7EDB9572EA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E55933-A4F8-4145-BA58-353A66EF08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5056D1-8C35-421A-82A3-B2748FC463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D21AE2-9814-48E3-9AA8-BE561091ED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161DB0-2C99-4C4B-8D9A-95DE05E4D1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20BDE7-7C0D-467D-B813-CE5F912AED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2209F5-1FAB-4CD7-B4B8-9BA8DB923A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6571C-27AF-485F-9A8C-F581242E4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CE7A61-94D8-4FC0-893F-287256A1F2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5E04FC-C09D-431D-8CE4-1CB452E674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58F7BD-5F88-4CBC-BC32-DAE5FFECD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5AB9C4-2F8A-42A6-8C66-B9D31A5E15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497723-EBE1-4E03-89BE-03017BFA3E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A412CDF-8013-4AB8-B6BB-E0CCC7A0C79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E4E2B8-89C0-4F69-B6C4-61F7CD94F2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83D319-159D-49F6-9296-CCC4C49E2C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96CEF8-D2A8-4B59-B043-C4B59A9D09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23D0AB-2B56-4C16-A987-570E8C93F9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66593-A073-4859-BC87-2E8D181E1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CB303D-0440-4645-9379-7E216346499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C60D10-9E3F-46B2-933E-137886465E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29EDC0-E436-46BD-874A-647B10D97A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833EE0-CA99-4236-8B4B-2A192DA766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11C9A8-FCD8-43E9-A508-94D7A42AF7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FAB70E-806E-42E5-A8B5-7EDA225A6A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4985A9-3173-41CD-949E-9362CC6281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FF494D-E52B-4AF8-8763-BB812FD366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E3C9EA-46DD-41F5-9F16-48830F75DA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34CC443-E983-47C7-8209-2BD18B6FEA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62F5-241F-4CB1-AC7E-845423023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AF0BE2-F414-4390-92B5-28F0901B73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68B5A3-5321-4E17-867A-C1DECF1E45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10E9CD-757D-4B95-AF75-F4A920E993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2BF217-882D-457F-9780-6F75458AC7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9FAD80-5F60-43B5-B7AB-DB37A3147E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64B649-1AF5-4F4F-BA48-3FB8EA6D35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231860-4C4D-4783-B1BA-77A7A52F682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4750D1-9598-44A4-94E0-87C7DBD1F8C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28EF30-2540-48BB-8B06-0544B4D4290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C4CFD68-C356-4970-AA51-964BC5F888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0E1CC-C812-4131-993A-1C5A2CB24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094D2F2-32EC-4914-930B-84CF0CA5A5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6886B6-E0EB-4D40-B647-5E942A021E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067CF3-A882-4423-89E8-FE5D17CB66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3D331F-5588-4340-9256-6A47172674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A628AE-50E5-4896-B078-34584C7D5E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05B6EE-0709-4C8B-98FA-2987EF9B06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2B0277C-E096-47D8-A12A-D156FDDE75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D25363-BEEF-415A-AE0D-1703D604F3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10B15D-4321-434B-BB94-D0F24FC1FB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229F3E-3112-487F-B89F-6AED4CF48C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87684-526F-4F47-A684-EE432C32D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E3833D-1F31-43F8-A014-9DF6BF76FF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79DFEC-B4F1-43D9-845E-1B762956C5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72E28F2-568F-42B5-A814-9FDEE8002B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D6D36F8-10E1-4F6A-B0AC-05C276AE9F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3D99E5-BA03-4392-9FA2-684CE37D1F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8088E7-FED7-4535-A442-EC736D373A1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D749CC-6F67-48D7-97F3-D0ACAD4276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8102F95-C8BD-4EC8-952B-211BB7A2A3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BCC355-55BD-4B00-829A-562876A6F49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6894891-C902-4A8F-99FF-5D4296D744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DCAE-FE76-461F-BEC9-DFB80FFB6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588D4-1ED3-4CD6-A782-5BE727A94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F78C7E-8F14-4CE0-972B-B46BD89F7A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8A6BA7-29BC-4767-A1E4-E698F68FD1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F978B5-C1BC-44C4-857C-82C2C1B574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E3D3F8D-654B-49CC-9860-BA53501B6EB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91485FA-2A15-46A5-B345-AC04CE78812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ECC2A6A-84CD-4FA3-BB83-F0C043A70D6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3E6C69-B685-4F52-A8E2-D61415CCBC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677BD3-4650-4691-A181-5C4D3B9F483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3040B3-DE55-449F-8CDD-F09A7962E4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39B8D3-C0E7-43FD-B701-868BB1A77F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38A0-6E4C-4131-89FD-27B08614A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60F836-F18F-4C84-8470-6BA24141C4E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AD316E-631F-49E0-BB38-BED16AF2C4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E97995-E97C-49BF-9BC4-F805CC333B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B79FA0-50C2-4302-8AF3-73F21AE1D3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C08926C-A1C5-4DFA-A78C-34465ACE821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6B81113-D232-4468-B75B-A82BFC8D230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B17293B-E680-4F97-A3FA-977610C909A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EC6FB32-C99E-4B25-A74E-49796EE4F5C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32C527-2402-4C4D-B113-B2AF6D4FD4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9CBDF68-2752-44B4-95CD-9ABC996EA19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6F3FC-685D-4F1C-B611-27DF11DBE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606952-69D4-4340-AA77-DD4C7F6552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64113D-BAB1-4A2E-BA69-644C24EA3A4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77B2C33-FE6E-4CEC-BFCC-4A96A7558F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D12637-76A0-440B-8C70-B8CE41EAA3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FDE4CB-42DB-4829-AE51-C5564FF4ED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063660E-58F5-452F-BEC1-F782F737A9A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A31E379-0A50-4846-AD1D-40FA4650354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11A85E-AC81-446F-9DB0-6C64B435B91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6AE366A-48C5-4D54-9213-ADC91CB8F38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7A86D16-5F86-4017-A4DD-FC3AC7E140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05829-5484-40D9-B055-FA940366A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03E4E2-7A22-4205-A647-21A9E0D868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94CB70-D30D-4745-97A3-895F2B13C0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61E0332-34BE-4DF2-A8B3-802E518745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B335AB-FCD7-4551-B142-2C1B6300CAC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E44970A-F6E3-465B-A8F3-27F81101C89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9D75DB6-796E-43C8-8808-A7FA4755D1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F369CA-6447-4493-B11A-ECD815063E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F26492-93FC-474E-B585-5D1AF67905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EBB681-48B5-4017-9A9D-44729A8AF8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C30406B-EF1E-47DA-A7B9-0F5C43753E7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BA37D-40B9-4575-824E-922ABDE05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7E5FCE-88C6-4D85-9543-8B90F95642C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102184E-19AF-4BE4-85D0-5E03BEBC4BC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C22B5AB-EE91-4A08-BBF8-B00EDA506F3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7F4F0E3-2698-4DA3-89AC-88061A2DAE0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4DF05A-1C5D-4F1C-82CA-5569301CF80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5D03CB-2858-4E68-8314-A7E883F6D03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662C1D-EF2F-4485-A500-4A98F3302CE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93505EB-A865-46F2-A67B-4D51A5AD41B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53C8BC-189B-4CCE-9CFD-B7A05BE4C0B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6138062-201F-4004-8E00-B73AD97765E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7C018-E6F3-44EF-A177-BF5D2D335A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C3662AA-BD3F-4A75-B123-E53C4160881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D557A77-6CAD-4ED5-B0E1-6634B5838BD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020220C-BC6E-4C56-8904-4C7927FF50A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2FF7063-3AB8-4120-94DC-A703A0A44DA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CF5CDC9-AA39-49D2-B8A2-192B138489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87EF7C-9A8B-4E98-AE05-AD27EB779DF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47023AC-CC98-4BA4-B784-E3CE048D25D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A0F3106-3CB3-477E-A6E3-84937469AA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F83C79-7D01-4FD7-84D6-F7C77DB199F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F4CB39A-15B9-4D49-865C-8DDA0225623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C3D2B-D8C4-48FD-9C3D-811B454E9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09B3F5-C7E8-4FB2-A1A3-B56697FE4A7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7A4025-0422-4946-A5B0-1E3B5566DE3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3F19DC-EC06-42E6-BE14-70486588877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F08F71F-B36E-4AC1-86CE-DD30062A4EF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D614FB5-DD32-442B-BFAD-6A6DE95EAE3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A556A5B-F216-41B7-A2E9-5CCBB03F707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8F53E8A-83A1-4B5C-977F-CA7A74CEE0B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8E74411-6691-473F-A30E-2C46FFA85A3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2C5BA49-79F2-4A31-B7D9-6A71B254CC8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C5EDBF4-472F-4AE1-88FF-231B5DBFED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1E437-208C-4288-BA85-BF92E84A2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030D211-DAB2-4049-BF05-8B8D44B7117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EB3AC0E-6533-44DF-9A26-DC3D0DB8D8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778BDFD-F6C1-4FEF-BF10-1647C52518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18A8E87-173D-486E-8946-DAC9C9DE571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0AD2998-7E21-47D6-86B2-79F13D93CC6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2012484-FA23-437C-87A9-6698260CB41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620044D-9811-4DFE-93A1-4CD8DAC4DC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3C22935-E073-4A57-A436-21C3095F23D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6E6D4EF-1726-4FBF-824B-4DCE1C7B676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DDF0C9-4288-4F52-BEFA-D5521714D11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FFDBE-6157-4FFE-86BA-76EAA0576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9C52522-2B22-4201-8D63-B919E20DC58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B458C9F-CF69-45C3-AA4A-51A2B58D21C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BAAA839-9615-412C-87ED-A02812B0B5F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DB25912-13A3-4F79-B2DB-7FD0606593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06B852-762A-41D4-916F-D91BAEAD74A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19ECF9-B983-4D34-9F04-0FA18D91BD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3F89F6C-2734-4D75-9F10-56342ED1033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DEA78EE-C14E-412E-BCCD-673A4AB7F9E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932A0DB-1046-4423-97B3-3C34E070D33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4E37461-B5E1-4A8E-B59F-96804AC111E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4A02F-F2E0-4D5F-ACD2-600D0FE29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FC84C71-79FA-4CEC-BA66-22CB12C5A5E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3BC9665-7CF9-411B-9DBC-FACBC79329D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2DB4C72-AA94-47D6-94A8-60A87FB7D13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238938B-1A64-4B9C-AE9B-EC3355665A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64FA7F2-827C-4543-A237-B3EADDA5AF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C2BDC4E-96A8-4795-AC87-3A3B4F02DEE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AD2A6E6-1037-401B-BD92-3CE8713E0B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B56090-2D67-41A6-815B-622823C0C19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EB79BDB-A2BF-49C4-8F78-FA898342340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9541DF7-3F98-43B8-ABA4-7FA509F5BDD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1F43-21B4-40EC-9ED5-1E4B790F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373D8-A2C4-4459-BF8F-49DC3BEB8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792D8BE-23B0-4CE1-88A9-472F96C0ABF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B7D62-09ED-45BB-9D86-ADB54492C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23518-4584-49D0-B11C-6F30BC0F2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543E6-89F5-4E9F-99E5-2C3F57CDB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C98F3-84BE-434F-8DEC-1371C5347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FA05C-D63E-45B7-AF21-9B994C431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42EA9-BC89-4182-97C1-5B075F9CC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A09F5B-081C-4443-8E50-B72789FAB3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7639D-153F-4EF0-9304-81C365C2C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75787-8A9A-46FE-AE3E-DE30988C7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62A4-0E21-4709-AA05-A3CD4095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ED4514-F85B-416E-AC53-9F60843E2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5CCC0-A0E0-4618-B366-91D194097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CBB17-B4AE-41BA-9BFD-CDEA76FE4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E5E8C-9F47-4FD6-96D9-AAB571837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8889F-7FEE-43AF-B7E3-ABA744AB6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5953D-DF97-4E87-99DB-3EE794479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7F0C4-2093-4E85-B23D-78C898E76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4CB33-79FE-4EB3-8216-7832B6FFF5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070FB4-A3AD-46A6-B99E-FE83C4A0BC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46EAF7-BE09-4873-8B7C-7E4C22902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DB7F-0C67-4FE7-BFA5-D98628D7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D781D-6E5E-4472-8E3D-7F52F5E5F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6EA7A-52F1-48E9-AD1A-11FEABE37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11601-EB14-4B33-A42C-8F6B308AA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63BFE-4605-49F1-9DA9-6811AACFB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54EF7-5328-453C-A10A-2ED0BE073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78872-0130-4C4F-A696-3F71CBEDD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9DBE9E-93AC-4BD4-8D3A-3F55520A3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FEA91-507C-41EB-8754-1D6A12DCD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92956-1000-4794-B351-E89AEA91E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B9877E-D398-424C-AE35-2B56564040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0DA1-A038-4E3D-A291-DF8DD66F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1B8D1-3F9B-427F-B0B6-E9F190B6A1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A45CFB-F4C1-4B1A-BC6F-48E56FB592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BE878-69CA-469A-9D67-681B5FC7C5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1C4CF-B2FA-49CB-BEC1-F0B907A40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BD78C-C625-448D-86D6-F22C63927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82731-0527-4324-982C-1ED87DFC6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743E93-AA7B-41BF-B7B0-E3C4145CC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F045A-5E6A-4C29-B3B2-931F144AE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00B36-4A80-4540-B86F-D85F83BDD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D7DFC3-7AE7-4B6F-9AC1-80ED5640C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61D9-8D0F-4BD1-8794-8EF2C9D3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66EB3B-9914-4B31-AD2B-5B4E5690B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ED7E2A-3C1E-40F3-97FD-B0042EE5F5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21A9EA-9C0D-441A-8784-5709177E19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49434A-85FD-47C8-8802-626C51AFF1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B7B506-8CB4-4F76-B080-264BC6F9A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CE18D-2A84-43C7-AF4A-7AF068C058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B48DD-1933-442C-80AC-286F323F7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F50F7-5254-4F02-A488-7797F432B2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69402-668F-4292-9B99-D1F5F25266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AC64F-EFC0-430D-9096-A86E83AE6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D4B6-3379-431C-AC9B-88DF9421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BC9CC-5A0C-446B-871D-A116B53D1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E9E49-6A75-46C6-AA38-ADB00724D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94AD1-5BD0-4479-A324-45AA025C7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988AE-8037-4662-A559-AEE76422F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3CAE05-6D06-4C1F-935C-45733CA6B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308753-D29D-460D-B11B-88F6F58F36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4EA32-0564-4A70-AD37-8BF3233F19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C85CBC-F0FC-4B73-88CD-6D2789D79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0F5BA8-2E50-42F7-B031-1823D10E5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7AA16-AFCB-465E-900A-7EF31A7D1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9C66-4E81-4E8E-BAD4-E89E61D7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14538-6711-498A-ACD9-75ACA081A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3315D-3FBF-4399-8B54-CAB119DEC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D2764-13D0-4BC0-9BCE-AD3345AE8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E4523B-9D20-4C6D-8447-340EE4C3B8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60AE2C-669F-4376-B51A-34D7C5EDD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003FDB-0D1A-4FEE-9E9A-3E6A9773BB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618EF1-8AAB-4D85-8DC1-22BF242C98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3BB1EE-A427-468F-BE67-11B92ED40C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0395E5-64C3-4A7C-9C7B-C8827F473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C1237-6FBE-46DC-8E91-7F6E68E7FC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558E-CB06-4A26-BF3D-B4F26453DF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E225-DFA2-4B52-892D-FB9345A758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F0BD-8B0E-4E65-9E64-5B4CBA4808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6911-AE27-4283-977D-8870739250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15FE-F245-452B-9269-452A3611E1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3917-447D-4D31-9D3B-5C623C5E3C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0D7D-86BB-4773-A5F6-30522782D0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91FC-A0FF-467C-B6C2-EC47FA0C47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618E-CE89-4301-9788-DA784D4CF4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E511-37B1-4193-BAC3-548C65E6F5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A334-99E4-4C8B-A0DC-AC98B09D3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4A34-1B54-446D-A730-05815A006F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92CD-A653-4863-8FC9-7FDE9B28DD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6389-F0DA-4729-AB88-61FA351773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7AD4-EE3F-4128-ADA5-8911829088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D58C-E12F-4F50-99C0-3A5E413585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4158-67FB-4516-9FAB-2FBB31FCAA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F5A5-920A-432D-A3BE-D12F89C4F2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22E1-B863-4705-A547-11FB34926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2F32-CD6B-4B4A-818A-9DB27F9616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90E3-4349-49FD-AB52-1431E4111F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8A11-11C9-44D2-9ECC-7898AFAA33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D2B0-071C-4E7F-9F7E-4F05B7087E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3691-32A2-43F4-BFAB-A7A58D41BB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FABA-BBE3-4956-A705-B5062837D9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hyperlink" Target="http://www.dba-oracle.com/art_karam_oracle_user_security.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ecurity</a:t>
            </a:r>
            <a:endParaRPr b="0" lang="en-US" sz="4400" spc="-1" strike="noStrike">
              <a:solidFill>
                <a:srgbClr val="000000"/>
              </a:solidFill>
              <a:latin typeface="Arial"/>
            </a:endParaRPr>
          </a:p>
        </p:txBody>
      </p:sp>
      <p:sp>
        <p:nvSpPr>
          <p:cNvPr id="10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Users</a:t>
            </a:r>
            <a:br>
              <a:rPr sz="4000"/>
            </a:br>
            <a:endParaRPr b="0" lang="en-US" sz="4000" spc="-1" strike="noStrike">
              <a:solidFill>
                <a:srgbClr val="000000"/>
              </a:solidFill>
              <a:latin typeface="Arial"/>
            </a:endParaRPr>
          </a:p>
        </p:txBody>
      </p:sp>
      <p:sp>
        <p:nvSpPr>
          <p:cNvPr id="10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BA creates the user by executing the CREATE USER stat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does not have any privileges at this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BA can then grant privileges to that us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ivileges determine what the </a:t>
            </a:r>
            <a:br>
              <a:rPr sz="3200"/>
            </a:br>
            <a:r>
              <a:rPr b="0" lang="en-US" sz="3200" spc="-1" strike="noStrike">
                <a:solidFill>
                  <a:srgbClr val="000000"/>
                </a:solidFill>
                <a:latin typeface="Arial"/>
              </a:rPr>
              <a:t>user can do at the database level.</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Users</a:t>
            </a:r>
            <a:br>
              <a:rPr sz="4000"/>
            </a:br>
            <a:endParaRPr b="0" lang="en-US" sz="4000" spc="-1" strike="noStrike">
              <a:solidFill>
                <a:srgbClr val="000000"/>
              </a:solidFill>
              <a:latin typeface="Arial"/>
            </a:endParaRPr>
          </a:p>
        </p:txBody>
      </p:sp>
      <p:sp>
        <p:nvSpPr>
          <p:cNvPr id="1054" name="PlaceHolder 2"/>
          <p:cNvSpPr>
            <a:spLocks noGrp="1"/>
          </p:cNvSpPr>
          <p:nvPr>
            <p:ph/>
          </p:nvPr>
        </p:nvSpPr>
        <p:spPr>
          <a:xfrm>
            <a:off x="457200" y="1600200"/>
            <a:ext cx="8229600" cy="478152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ntax for creating a user is:</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SER </a:t>
            </a:r>
            <a:r>
              <a:rPr b="1" lang="en-US" sz="2000" spc="-1" strike="noStrike">
                <a:solidFill>
                  <a:srgbClr val="333399"/>
                </a:solidFill>
                <a:latin typeface="Arial"/>
              </a:rPr>
              <a:t>user</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a:t>
            </a:r>
            <a:r>
              <a:rPr b="1" lang="en-US" sz="2000" spc="-1" strike="noStrike">
                <a:solidFill>
                  <a:srgbClr val="333399"/>
                </a:solidFill>
                <a:latin typeface="Arial"/>
              </a:rPr>
              <a:t>password</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DEFAULT  </a:t>
            </a:r>
            <a:r>
              <a:rPr b="1" i="1" lang="en-US" sz="2000" spc="-1" strike="noStrike">
                <a:solidFill>
                  <a:srgbClr val="000000"/>
                </a:solidFill>
                <a:latin typeface="Arial"/>
                <a:ea typeface="SimSun"/>
              </a:rPr>
              <a:t> </a:t>
            </a:r>
            <a:r>
              <a:rPr b="1" lang="en-US" sz="2000" spc="-1" strike="noStrike">
                <a:solidFill>
                  <a:srgbClr val="000000"/>
                </a:solidFill>
                <a:latin typeface="Arial"/>
                <a:ea typeface="SimSun"/>
              </a:rPr>
              <a:t>TABLESPACE   </a:t>
            </a:r>
            <a:r>
              <a:rPr b="1" i="1" lang="en-US" sz="2000" spc="-1" strike="noStrike">
                <a:solidFill>
                  <a:srgbClr val="333399"/>
                </a:solidFill>
                <a:latin typeface="Arial"/>
                <a:ea typeface="SimSun"/>
              </a:rPr>
              <a:t>tablespace_name</a:t>
            </a:r>
            <a:r>
              <a:rPr b="1" lang="en-US" sz="2000" spc="-1" strike="noStrike">
                <a:solidFill>
                  <a:srgbClr val="000000"/>
                </a:solidFill>
                <a:latin typeface="Arial"/>
                <a:ea typeface="SimSun"/>
              </a:rPr>
              <a:t> </a:t>
            </a:r>
            <a:r>
              <a:rPr b="0" lang="en-US" sz="2000" spc="-1" strike="noStrike">
                <a:solidFill>
                  <a:srgbClr val="000000"/>
                </a:solidFill>
                <a:latin typeface="Arial"/>
                <a:ea typeface="SimSun"/>
              </a:rPr>
              <a:t>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EMPORARY    TABLESPACE  </a:t>
            </a:r>
            <a:r>
              <a:rPr b="1" i="1" lang="en-US" sz="2000" spc="-1" strike="noStrike">
                <a:solidFill>
                  <a:srgbClr val="333399"/>
                </a:solidFill>
                <a:latin typeface="Arial"/>
                <a:ea typeface="SimSun"/>
              </a:rPr>
              <a:t>tablespace_name</a:t>
            </a:r>
            <a:r>
              <a:rPr b="0" lang="en-US" sz="2000" spc="-1" strike="noStrike">
                <a:solidFill>
                  <a:srgbClr val="000000"/>
                </a:solidFill>
                <a:latin typeface="Arial"/>
                <a:ea typeface="SimSun"/>
              </a:rPr>
              <a:t>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QUOTA [UNLIMITED ] [integer M] on</a:t>
            </a:r>
            <a:r>
              <a:rPr b="1" i="1" lang="en-US" sz="2000" spc="-1" strike="noStrike">
                <a:solidFill>
                  <a:srgbClr val="000000"/>
                </a:solidFill>
                <a:latin typeface="Arial"/>
                <a:ea typeface="SimSun"/>
              </a:rPr>
              <a:t> </a:t>
            </a:r>
            <a:r>
              <a:rPr b="1" i="1" lang="en-US" sz="2000" spc="-1" strike="noStrike">
                <a:solidFill>
                  <a:srgbClr val="333399"/>
                </a:solidFill>
                <a:latin typeface="Arial"/>
                <a:ea typeface="SimSun"/>
              </a:rPr>
              <a:t>tablespace_name</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a:t>
            </a:r>
            <a:r>
              <a:rPr b="1" i="1" lang="en-US" sz="2000" spc="-1" strike="noStrike">
                <a:solidFill>
                  <a:srgbClr val="333399"/>
                </a:solidFill>
                <a:latin typeface="Arial"/>
                <a:ea typeface="SimSun"/>
              </a:rPr>
              <a:t>profile_name</a:t>
            </a:r>
            <a:r>
              <a:rPr b="1" lang="en-US" sz="2000" spc="-1" strike="noStrike">
                <a:solidFill>
                  <a:srgbClr val="000000"/>
                </a:solidFill>
                <a:latin typeface="Arial"/>
              </a:rPr>
              <a:t>;</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SER Scott</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tiger</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TABLESPACE system</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EMPORARY    TABLESPACE temp</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OTA UNLIMITED on system</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managerProfile;</a:t>
            </a:r>
            <a:br>
              <a:rPr sz="2000"/>
            </a:br>
            <a:r>
              <a:rPr b="1" lang="en-US" sz="2000" spc="-1" strike="noStrike">
                <a:solidFill>
                  <a:srgbClr val="000000"/>
                </a:solidFill>
                <a:latin typeface="Arial"/>
              </a:rPr>
              <a:t>User created.</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ileges</a:t>
            </a:r>
            <a:br>
              <a:rPr sz="4000"/>
            </a:br>
            <a:endParaRPr b="0" lang="en-US" sz="4000" spc="-1" strike="noStrike">
              <a:solidFill>
                <a:srgbClr val="000000"/>
              </a:solidFill>
              <a:latin typeface="Arial"/>
            </a:endParaRPr>
          </a:p>
        </p:txBody>
      </p:sp>
      <p:sp>
        <p:nvSpPr>
          <p:cNvPr id="1056" name="PlaceHolder 2"/>
          <p:cNvSpPr>
            <a:spLocks noGrp="1"/>
          </p:cNvSpPr>
          <p:nvPr>
            <p:ph/>
          </p:nvPr>
        </p:nvSpPr>
        <p:spPr>
          <a:xfrm>
            <a:off x="457200" y="1125000"/>
            <a:ext cx="8229600" cy="500076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ileges</a:t>
            </a:r>
            <a:r>
              <a:rPr b="0" lang="en-US" sz="2800" spc="-1" strike="noStrike">
                <a:solidFill>
                  <a:srgbClr val="000000"/>
                </a:solidFill>
                <a:latin typeface="Arial"/>
              </a:rPr>
              <a:t> are the right to execute particular SQL statements. The database administrator (DBA) is a high-level user with the ability to grant users access to the database and its object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nnect to the database</a:t>
            </a:r>
            <a:endParaRPr b="0" lang="en-US" sz="24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reate a user</a:t>
            </a:r>
            <a:endParaRPr b="0" lang="en-US" sz="24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reate a table  </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rivileges: Gaining access to the databas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rivileges: Manipulating the content of the </a:t>
            </a:r>
            <a:br>
              <a:rPr sz="2800"/>
            </a:br>
            <a:r>
              <a:rPr b="1" lang="en-US" sz="2800" spc="-1" strike="noStrike">
                <a:solidFill>
                  <a:srgbClr val="000000"/>
                </a:solidFill>
                <a:latin typeface="Arial"/>
              </a:rPr>
              <a:t>database objects</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a:t>
            </a:r>
            <a:endParaRPr b="0" lang="en-US" sz="4400" spc="-1" strike="noStrike">
              <a:solidFill>
                <a:srgbClr val="000000"/>
              </a:solidFill>
              <a:latin typeface="Arial"/>
            </a:endParaRPr>
          </a:p>
        </p:txBody>
      </p:sp>
      <p:sp>
        <p:nvSpPr>
          <p:cNvPr id="10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ema is a collection of objects, such as tables, views, and sequen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a is owned by a database user who create it and has the same name as that us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stem Privileges</a:t>
            </a:r>
            <a:br>
              <a:rPr sz="4000"/>
            </a:br>
            <a:endParaRPr b="0" lang="en-US" sz="4000" spc="-1" strike="noStrike">
              <a:solidFill>
                <a:srgbClr val="000000"/>
              </a:solidFill>
              <a:latin typeface="Arial"/>
            </a:endParaRPr>
          </a:p>
        </p:txBody>
      </p:sp>
      <p:sp>
        <p:nvSpPr>
          <p:cNvPr id="1060" name="PlaceHolder 2"/>
          <p:cNvSpPr>
            <a:spLocks noGrp="1"/>
          </p:cNvSpPr>
          <p:nvPr>
            <p:ph/>
          </p:nvPr>
        </p:nvSpPr>
        <p:spPr>
          <a:xfrm>
            <a:off x="457200" y="981000"/>
            <a:ext cx="8229600" cy="51451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privileges can be given to a user by another user who has administrator privileges or by a user who has the right to grant a system privilege</a:t>
            </a:r>
            <a:endParaRPr b="0" lang="en-US" sz="20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00 privileges are available such as:</a:t>
            </a:r>
            <a:br>
              <a:rPr sz="2000"/>
            </a:br>
            <a:r>
              <a:rPr b="0" lang="en-US" sz="2000" spc="-1" strike="noStrike">
                <a:solidFill>
                  <a:srgbClr val="000000"/>
                </a:solidFill>
                <a:latin typeface="Arial"/>
              </a:rPr>
              <a:t>– </a:t>
            </a:r>
            <a:r>
              <a:rPr b="0" lang="en-US" sz="1800" spc="-1" strike="noStrike">
                <a:solidFill>
                  <a:srgbClr val="000000"/>
                </a:solidFill>
                <a:latin typeface="Arial"/>
              </a:rPr>
              <a:t>Creating new users</a:t>
            </a:r>
            <a:br>
              <a:rPr sz="1800"/>
            </a:br>
            <a:r>
              <a:rPr b="0" lang="en-US" sz="1800" spc="-1" strike="noStrike">
                <a:solidFill>
                  <a:srgbClr val="000000"/>
                </a:solidFill>
                <a:latin typeface="Arial"/>
              </a:rPr>
              <a:t>– Removing users</a:t>
            </a:r>
            <a:br>
              <a:rPr sz="1800"/>
            </a:br>
            <a:r>
              <a:rPr b="0" lang="en-US" sz="1800" spc="-1" strike="noStrike">
                <a:solidFill>
                  <a:srgbClr val="000000"/>
                </a:solidFill>
                <a:latin typeface="Arial"/>
              </a:rPr>
              <a:t>– Removing tables</a:t>
            </a:r>
            <a:br>
              <a:rPr sz="1800"/>
            </a:br>
            <a:r>
              <a:rPr b="0" lang="en-US" sz="1800" spc="-1" strike="noStrike">
                <a:solidFill>
                  <a:srgbClr val="000000"/>
                </a:solidFill>
                <a:latin typeface="Arial"/>
              </a:rPr>
              <a:t>– Backing up tables</a:t>
            </a:r>
            <a:endParaRPr b="0" lang="en-US" sz="18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Administrative privileges: required for an administrator to perform basic database operations are granted through two special system privileges</a:t>
            </a:r>
            <a:endParaRPr b="0"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DBA privilege: can do anything </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OPER privilege: sub-admin access, can perform:</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recover, startup, shutdown</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cess to data itself </a:t>
            </a:r>
            <a:endParaRPr b="0" lang="en-US" sz="1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1" name=""/>
          <p:cNvGraphicFramePr/>
          <p:nvPr/>
        </p:nvGraphicFramePr>
        <p:xfrm>
          <a:off x="395280" y="189000"/>
          <a:ext cx="8229600" cy="6484680"/>
        </p:xfrm>
        <a:graphic>
          <a:graphicData uri="http://schemas.openxmlformats.org/drawingml/2006/table">
            <a:tbl>
              <a:tblPr/>
              <a:tblGrid>
                <a:gridCol w="4114800"/>
                <a:gridCol w="4114800"/>
              </a:tblGrid>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Privileg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uthorized</a:t>
                      </a:r>
                      <a:r>
                        <a:rPr b="1" lang="en-US" sz="2400" spc="-1" strike="noStrike">
                          <a:solidFill>
                            <a:srgbClr val="000000"/>
                          </a:solidFill>
                          <a:latin typeface="Arial"/>
                        </a:rPr>
                        <a:t> </a:t>
                      </a:r>
                      <a:br>
                        <a:rPr sz="2400"/>
                      </a:b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create other Oracle users (a privilege required </a:t>
                      </a:r>
                      <a:br>
                        <a:rPr sz="2000"/>
                      </a:br>
                      <a:r>
                        <a:rPr b="0" lang="en-US" sz="2000" spc="-1" strike="noStrike">
                          <a:solidFill>
                            <a:srgbClr val="000000"/>
                          </a:solidFill>
                          <a:latin typeface="Arial"/>
                        </a:rPr>
                        <a:t>for a DBA role).</a:t>
                      </a:r>
                      <a:r>
                        <a:rPr b="0" lang="en-US" sz="2800" spc="-1" strike="noStrike">
                          <a:solidFill>
                            <a:srgbClr val="000000"/>
                          </a:solidFill>
                          <a:latin typeface="Arial"/>
                        </a:rPr>
                        <a:t> </a:t>
                      </a:r>
                      <a:br>
                        <a:rPr sz="2800"/>
                      </a:b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S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drop another user</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drop a table in any schema</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back up any table in any schema with the export utility</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create tables in any schema.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query tables, views, or snapshots in any schema</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r System Privileges</a:t>
            </a:r>
            <a:br>
              <a:rPr sz="4000"/>
            </a:br>
            <a:endParaRPr b="0" lang="en-US" sz="40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user is created, the DBA can grant specific </a:t>
            </a:r>
            <a:br>
              <a:rPr sz="2400"/>
            </a:br>
            <a:r>
              <a:rPr b="0" lang="en-US" sz="2400" spc="-1" strike="noStrike">
                <a:solidFill>
                  <a:srgbClr val="000000"/>
                </a:solidFill>
                <a:latin typeface="Arial"/>
              </a:rPr>
              <a:t>system privileges to a user.</a:t>
            </a:r>
            <a:br>
              <a:rPr sz="2400"/>
            </a:br>
            <a:r>
              <a:rPr b="1" lang="en-US" sz="2400" spc="-1" strike="noStrike">
                <a:solidFill>
                  <a:srgbClr val="000000"/>
                </a:solidFill>
                <a:latin typeface="Arial"/>
              </a:rPr>
              <a:t>GRANT </a:t>
            </a:r>
            <a:r>
              <a:rPr b="1" lang="en-US" sz="2400" spc="-1" strike="noStrike">
                <a:solidFill>
                  <a:srgbClr val="333399"/>
                </a:solidFill>
                <a:latin typeface="Arial"/>
              </a:rPr>
              <a:t>privilege </a:t>
            </a:r>
            <a:br>
              <a:rPr sz="2400"/>
            </a:br>
            <a:r>
              <a:rPr b="1" lang="en-US" sz="2400" spc="-1" strike="noStrike">
                <a:solidFill>
                  <a:srgbClr val="000000"/>
                </a:solidFill>
                <a:latin typeface="Arial"/>
              </a:rPr>
              <a:t>TO </a:t>
            </a:r>
            <a:r>
              <a:rPr b="1" lang="en-US" sz="2400" spc="-1" strike="noStrike">
                <a:solidFill>
                  <a:srgbClr val="333399"/>
                </a:solidFill>
                <a:latin typeface="Arial"/>
              </a:rPr>
              <a:t>user </a:t>
            </a:r>
            <a:r>
              <a:rPr b="1" lang="en-US" sz="2400" spc="-1" strike="noStrike">
                <a:solidFill>
                  <a:srgbClr val="000000"/>
                </a:solidFill>
                <a:latin typeface="Arial"/>
              </a:rPr>
              <a:t>[WITH ADMIN OPTION]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DMIN OPTION: </a:t>
            </a:r>
            <a:r>
              <a:rPr b="0" lang="en-US" sz="2400" spc="-1" strike="noStrike">
                <a:solidFill>
                  <a:srgbClr val="000000"/>
                </a:solidFill>
                <a:latin typeface="Arial"/>
              </a:rPr>
              <a:t>it means give grantee </a:t>
            </a:r>
            <a:r>
              <a:rPr b="0" lang="ar-SA" sz="2400" spc="-1" strike="noStrike">
                <a:solidFill>
                  <a:srgbClr val="000000"/>
                </a:solidFill>
                <a:latin typeface="Arial"/>
              </a:rPr>
              <a:t>right to grant the same privileges </a:t>
            </a:r>
            <a:r>
              <a:rPr b="0" lang="en-US" sz="2400" spc="-1" strike="noStrike">
                <a:solidFill>
                  <a:srgbClr val="000000"/>
                </a:solidFill>
                <a:latin typeface="Arial"/>
              </a:rPr>
              <a:t>to other users</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lication developer, for example, may have </a:t>
            </a:r>
            <a:br>
              <a:rPr sz="2400"/>
            </a:br>
            <a:r>
              <a:rPr b="1" lang="en-US" sz="2400" spc="-1" strike="noStrike">
                <a:solidFill>
                  <a:srgbClr val="000000"/>
                </a:solidFill>
                <a:latin typeface="Arial"/>
              </a:rPr>
              <a:t>the following system privileges:</a:t>
            </a:r>
            <a:br>
              <a:rPr sz="2400"/>
            </a:br>
            <a:r>
              <a:rPr b="0" lang="en-US" sz="2400" spc="-1" strike="noStrike">
                <a:solidFill>
                  <a:srgbClr val="000000"/>
                </a:solidFill>
                <a:latin typeface="Arial"/>
              </a:rPr>
              <a:t>– CREATE SESSION</a:t>
            </a:r>
            <a:br>
              <a:rPr sz="2400"/>
            </a:br>
            <a:r>
              <a:rPr b="0" lang="en-US" sz="2400" spc="-1" strike="noStrike">
                <a:solidFill>
                  <a:srgbClr val="000000"/>
                </a:solidFill>
                <a:latin typeface="Arial"/>
              </a:rPr>
              <a:t>– CREATE TABLE</a:t>
            </a:r>
            <a:br>
              <a:rPr sz="2400"/>
            </a:br>
            <a:r>
              <a:rPr b="0" lang="en-US" sz="2400" spc="-1" strike="noStrike">
                <a:solidFill>
                  <a:srgbClr val="000000"/>
                </a:solidFill>
                <a:latin typeface="Arial"/>
              </a:rPr>
              <a:t>– CREATE SEQUENCE</a:t>
            </a:r>
            <a:br>
              <a:rPr sz="2400"/>
            </a:br>
            <a:r>
              <a:rPr b="0" lang="en-US" sz="2400" spc="-1" strike="noStrike">
                <a:solidFill>
                  <a:srgbClr val="000000"/>
                </a:solidFill>
                <a:latin typeface="Arial"/>
              </a:rPr>
              <a:t>– CREATE VIEW</a:t>
            </a:r>
            <a:br>
              <a:rPr sz="2400"/>
            </a:br>
            <a:r>
              <a:rPr b="0" lang="en-US" sz="2400" spc="-1" strike="noStrike">
                <a:solidFill>
                  <a:srgbClr val="000000"/>
                </a:solidFill>
                <a:latin typeface="Arial"/>
              </a:rPr>
              <a:t>– CREATE PROCEDUR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nting System Privileges</a:t>
            </a: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BA can grant a user specific system privileges. </a:t>
            </a:r>
            <a:r>
              <a:rPr b="0"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RANT create session, create table, </a:t>
            </a:r>
            <a:br>
              <a:rPr sz="3200"/>
            </a:br>
            <a:r>
              <a:rPr b="0" lang="en-US" sz="3200" spc="-1" strike="noStrike">
                <a:solidFill>
                  <a:srgbClr val="000000"/>
                </a:solidFill>
                <a:latin typeface="Arial"/>
              </a:rPr>
              <a:t>	</a:t>
            </a:r>
            <a:r>
              <a:rPr b="1" lang="en-US" sz="3200" spc="-1" strike="noStrike">
                <a:solidFill>
                  <a:srgbClr val="000000"/>
                </a:solidFill>
                <a:latin typeface="Arial"/>
              </a:rPr>
              <a:t>create sequence, create view</a:t>
            </a:r>
            <a:br>
              <a:rPr sz="3200"/>
            </a:br>
            <a:r>
              <a:rPr b="0" lang="en-US" sz="3200" spc="-1" strike="noStrike">
                <a:solidFill>
                  <a:srgbClr val="000000"/>
                </a:solidFill>
                <a:latin typeface="Arial"/>
              </a:rPr>
              <a:t>	</a:t>
            </a:r>
            <a:r>
              <a:rPr b="1" lang="en-US" sz="3200" spc="-1" strike="noStrike">
                <a:solidFill>
                  <a:srgbClr val="000000"/>
                </a:solidFill>
                <a:latin typeface="Arial"/>
              </a:rPr>
              <a:t>TO Scott;</a:t>
            </a:r>
            <a:br>
              <a:rPr sz="3200"/>
            </a:br>
            <a:r>
              <a:rPr b="0" lang="en-US" sz="3200" spc="-1" strike="noStrike">
                <a:solidFill>
                  <a:srgbClr val="000000"/>
                </a:solidFill>
                <a:latin typeface="Arial"/>
              </a:rPr>
              <a:t>Grant succeeded</a:t>
            </a:r>
            <a:r>
              <a:rPr b="1" lang="en-US"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 Privileges</a:t>
            </a:r>
            <a:br>
              <a:rPr sz="4000"/>
            </a:br>
            <a:endParaRPr b="0" lang="en-US" sz="4000" spc="-1" strike="noStrike">
              <a:solidFill>
                <a:srgbClr val="000000"/>
              </a:solidFill>
              <a:latin typeface="Arial"/>
            </a:endParaRPr>
          </a:p>
        </p:txBody>
      </p:sp>
      <p:sp>
        <p:nvSpPr>
          <p:cNvPr id="10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privilege is a privilege or right to perform a particular action on a specific (object) table, view, sequence, or procedure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object has a particular set of grantable privileges. The table in the next slide lists the privileges for various object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 Privileges</a:t>
            </a: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0" name="Picture 4" descr="op"/>
          <p:cNvPicPr/>
          <p:nvPr/>
        </p:nvPicPr>
        <p:blipFill>
          <a:blip r:embed="rId1"/>
          <a:stretch/>
        </p:blipFill>
        <p:spPr>
          <a:xfrm>
            <a:off x="468360" y="1557360"/>
            <a:ext cx="8207280" cy="456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ecurity</a:t>
            </a: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user database systems like Oracle include security to control how the database is accessed and used for example security Mechanism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database acces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access to schema objec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isk usage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user a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Object Privileges</a:t>
            </a:r>
            <a:br>
              <a:rPr sz="4400"/>
            </a:br>
            <a:br>
              <a:rPr sz="4000"/>
            </a:br>
            <a:endParaRPr b="0" lang="en-US" sz="4400" spc="-1" strike="noStrike">
              <a:solidFill>
                <a:srgbClr val="000000"/>
              </a:solidFill>
              <a:latin typeface="Arial"/>
            </a:endParaRPr>
          </a:p>
        </p:txBody>
      </p:sp>
      <p:sp>
        <p:nvSpPr>
          <p:cNvPr id="1072" name="PlaceHolder 2"/>
          <p:cNvSpPr>
            <a:spLocks noGrp="1"/>
          </p:cNvSpPr>
          <p:nvPr>
            <p:ph/>
          </p:nvPr>
        </p:nvSpPr>
        <p:spPr>
          <a:xfrm>
            <a:off x="395280" y="1125360"/>
            <a:ext cx="8229600" cy="511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rivileges vary from object to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wner has all the privileges on the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wner can give specific privileges on that </a:t>
            </a:r>
            <a:r>
              <a:rPr b="1" lang="en-US" sz="2800" spc="-1" strike="noStrike">
                <a:solidFill>
                  <a:srgbClr val="000000"/>
                </a:solidFill>
                <a:latin typeface="Arial"/>
              </a:rPr>
              <a:t>owner’s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x:</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T </a:t>
            </a:r>
            <a:r>
              <a:rPr b="1" lang="en-US" sz="2400" spc="-1" strike="noStrike">
                <a:solidFill>
                  <a:srgbClr val="333399"/>
                </a:solidFill>
                <a:latin typeface="Arial"/>
              </a:rPr>
              <a:t>object_privilege</a:t>
            </a:r>
            <a:r>
              <a:rPr b="1" lang="en-US" sz="2400" spc="-1" strike="noStrike">
                <a:solidFill>
                  <a:srgbClr val="000000"/>
                </a:solidFill>
                <a:latin typeface="Arial"/>
              </a:rPr>
              <a:t> </a:t>
            </a:r>
            <a:r>
              <a:rPr b="1" lang="en-US" sz="2400" spc="-1" strike="noStrike">
                <a:solidFill>
                  <a:srgbClr val="333399"/>
                </a:solidFill>
                <a:latin typeface="Arial"/>
              </a:rPr>
              <a:t>[(columns)]</a:t>
            </a:r>
            <a:r>
              <a:rPr b="0" lang="en-US" sz="2400" spc="-1" strike="noStrike">
                <a:solidFill>
                  <a:srgbClr val="333399"/>
                </a:solidFill>
                <a:latin typeface="Arial"/>
              </a:rPr>
              <a:t> </a:t>
            </a:r>
            <a:br>
              <a:rPr sz="2400"/>
            </a:br>
            <a:r>
              <a:rPr b="1" lang="en-US" sz="2400" spc="-1" strike="noStrike">
                <a:solidFill>
                  <a:srgbClr val="000000"/>
                </a:solidFill>
                <a:latin typeface="Arial"/>
              </a:rPr>
              <a:t>ON </a:t>
            </a:r>
            <a:r>
              <a:rPr b="1" lang="en-US" sz="2400" spc="-1" strike="noStrike">
                <a:solidFill>
                  <a:srgbClr val="333399"/>
                </a:solidFill>
                <a:latin typeface="Arial"/>
              </a:rPr>
              <a:t>object</a:t>
            </a:r>
            <a:br>
              <a:rPr sz="2400"/>
            </a:br>
            <a:r>
              <a:rPr b="1" lang="en-US" sz="2400" spc="-1" strike="noStrike">
                <a:solidFill>
                  <a:srgbClr val="000000"/>
                </a:solidFill>
                <a:latin typeface="Arial"/>
              </a:rPr>
              <a:t>TO </a:t>
            </a:r>
            <a:r>
              <a:rPr b="1" lang="en-US" sz="2400" spc="-1" strike="noStrike">
                <a:solidFill>
                  <a:srgbClr val="333399"/>
                </a:solidFill>
                <a:latin typeface="Arial"/>
              </a:rPr>
              <a:t>user</a:t>
            </a:r>
            <a:br>
              <a:rPr sz="2400"/>
            </a:br>
            <a:r>
              <a:rPr b="1" lang="en-US" sz="2400" spc="-1" strike="noStrike">
                <a:solidFill>
                  <a:srgbClr val="000000"/>
                </a:solidFill>
                <a:latin typeface="Arial"/>
              </a:rPr>
              <a:t>[WITH GRANT OP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rant includes WITH GRANT OPTION, then the grantee can further grant the object privilege to other users; otherwise, the grantee can use the privilege but cannot grant it to other use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nting Object Privileges</a:t>
            </a:r>
            <a:br>
              <a:rPr sz="4000"/>
            </a:br>
            <a:endParaRPr b="0" lang="en-US" sz="40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 query privileges on the EMPLOYEES table.</a:t>
            </a:r>
            <a:br>
              <a:rPr sz="2400"/>
            </a:br>
            <a:r>
              <a:rPr b="1" lang="en-US" sz="2400" spc="-1" strike="noStrike">
                <a:solidFill>
                  <a:srgbClr val="000000"/>
                </a:solidFill>
                <a:latin typeface="Arial"/>
              </a:rPr>
              <a:t>GRANT  select</a:t>
            </a:r>
            <a:br>
              <a:rPr sz="2400"/>
            </a:br>
            <a:r>
              <a:rPr b="1" lang="en-US" sz="2400" spc="-1" strike="noStrike">
                <a:solidFill>
                  <a:srgbClr val="000000"/>
                </a:solidFill>
                <a:latin typeface="Arial"/>
              </a:rPr>
              <a:t>ON     employees</a:t>
            </a:r>
            <a:br>
              <a:rPr sz="2400"/>
            </a:br>
            <a:r>
              <a:rPr b="1" lang="en-US" sz="2400" spc="-1" strike="noStrike">
                <a:solidFill>
                  <a:srgbClr val="000000"/>
                </a:solidFill>
                <a:latin typeface="Arial"/>
              </a:rPr>
              <a:t>TO     Norah, Sarah;</a:t>
            </a:r>
            <a:br>
              <a:rPr sz="2400"/>
            </a:br>
            <a:r>
              <a:rPr b="1" lang="en-US" sz="2400" spc="-1" strike="noStrike">
                <a:solidFill>
                  <a:srgbClr val="000000"/>
                </a:solidFill>
                <a:latin typeface="Arial"/>
              </a:rPr>
              <a:t>Grant succeeded.</a:t>
            </a:r>
            <a:br>
              <a:rPr sz="2400"/>
            </a:br>
            <a:r>
              <a:rPr b="0" lang="en-US" sz="2400" spc="-1" strike="noStrike">
                <a:solidFill>
                  <a:srgbClr val="000000"/>
                </a:solidFill>
                <a:latin typeface="Arial"/>
              </a:rPr>
              <a:t>• Grant privileges to update </a:t>
            </a:r>
            <a:r>
              <a:rPr b="0" lang="en-US" sz="2400" spc="-1" strike="noStrike" u="sng">
                <a:solidFill>
                  <a:srgbClr val="000000"/>
                </a:solidFill>
                <a:uFillTx/>
                <a:latin typeface="Arial"/>
              </a:rPr>
              <a:t>specific</a:t>
            </a:r>
            <a:r>
              <a:rPr b="0" lang="en-US" sz="2400" spc="-1" strike="noStrike">
                <a:solidFill>
                  <a:srgbClr val="000000"/>
                </a:solidFill>
                <a:latin typeface="Arial"/>
              </a:rPr>
              <a:t> columns to </a:t>
            </a:r>
            <a:br>
              <a:rPr sz="2400"/>
            </a:br>
            <a:r>
              <a:rPr b="1" lang="en-US" sz="2400" spc="-1" strike="noStrike">
                <a:solidFill>
                  <a:srgbClr val="000000"/>
                </a:solidFill>
                <a:latin typeface="Arial"/>
              </a:rPr>
              <a:t>users and roles. </a:t>
            </a:r>
            <a:br>
              <a:rPr sz="2400"/>
            </a:br>
            <a:r>
              <a:rPr b="1" lang="en-US" sz="2400" spc="-1" strike="noStrike">
                <a:solidFill>
                  <a:srgbClr val="000000"/>
                </a:solidFill>
                <a:latin typeface="Arial"/>
              </a:rPr>
              <a:t>GRANT  update (department_name, location_id)</a:t>
            </a:r>
            <a:br>
              <a:rPr sz="2400"/>
            </a:br>
            <a:r>
              <a:rPr b="1" lang="en-US" sz="2400" spc="-1" strike="noStrike">
                <a:solidFill>
                  <a:srgbClr val="000000"/>
                </a:solidFill>
                <a:latin typeface="Arial"/>
              </a:rPr>
              <a:t>ON     departments</a:t>
            </a:r>
            <a:br>
              <a:rPr sz="2400"/>
            </a:br>
            <a:r>
              <a:rPr b="1" lang="en-US" sz="2400" spc="-1" strike="noStrike">
                <a:solidFill>
                  <a:srgbClr val="000000"/>
                </a:solidFill>
                <a:latin typeface="Arial"/>
              </a:rPr>
              <a:t>TO Scott, manager;</a:t>
            </a:r>
            <a:br>
              <a:rPr sz="2400"/>
            </a:br>
            <a:r>
              <a:rPr b="1" lang="en-US" sz="2400" spc="-1" strike="noStrike">
                <a:solidFill>
                  <a:srgbClr val="000000"/>
                </a:solidFill>
                <a:latin typeface="Arial"/>
              </a:rPr>
              <a:t>Grant succeed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endParaRPr b="0" lang="en-US" sz="3600" spc="-1" strike="noStrike">
              <a:solidFill>
                <a:srgbClr val="000000"/>
              </a:solidFill>
              <a:latin typeface="Arial"/>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privileges granted to other users by using the REVOKE statement. When you use the REVOKE statement you prevent the user from doing specific actions depending on the privileges you revoke from the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475920"/>
            <a:ext cx="8229600" cy="115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br>
              <a:rPr sz="4000"/>
            </a:br>
            <a:endParaRPr b="0" lang="en-US" sz="3600" spc="-1" strike="noStrike">
              <a:solidFill>
                <a:srgbClr val="000000"/>
              </a:solidFill>
              <a:latin typeface="Arial"/>
            </a:endParaRPr>
          </a:p>
        </p:txBody>
      </p:sp>
      <p:sp>
        <p:nvSpPr>
          <p:cNvPr id="107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ntax:</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REVOKE </a:t>
            </a:r>
            <a:r>
              <a:rPr b="1" lang="en-US" sz="4000" spc="-1" strike="noStrike">
                <a:solidFill>
                  <a:srgbClr val="333399"/>
                </a:solidFill>
                <a:latin typeface="Arial"/>
              </a:rPr>
              <a:t>privilege ,ALL</a:t>
            </a:r>
            <a:endParaRPr b="0" lang="en-US" sz="4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N </a:t>
            </a:r>
            <a:r>
              <a:rPr b="1" lang="en-US" sz="4000" spc="-1" strike="noStrike">
                <a:solidFill>
                  <a:srgbClr val="333399"/>
                </a:solidFill>
                <a:latin typeface="Arial"/>
              </a:rPr>
              <a:t>object</a:t>
            </a:r>
            <a:br>
              <a:rPr sz="4000"/>
            </a:br>
            <a:r>
              <a:rPr b="1" lang="en-US" sz="4000" spc="-1" strike="noStrike">
                <a:solidFill>
                  <a:srgbClr val="000000"/>
                </a:solidFill>
                <a:latin typeface="Arial"/>
              </a:rPr>
              <a:t>FROM   </a:t>
            </a:r>
            <a:r>
              <a:rPr b="1" lang="en-US" sz="4000" spc="-1" strike="noStrike">
                <a:solidFill>
                  <a:srgbClr val="333399"/>
                </a:solidFill>
                <a:latin typeface="Arial"/>
              </a:rPr>
              <a:t>user,role,PUBLIC</a:t>
            </a:r>
            <a:r>
              <a:rPr b="1" lang="en-US" sz="4000" spc="-1" strike="noStrike">
                <a:solidFill>
                  <a:srgbClr val="000000"/>
                </a:solidFill>
                <a:latin typeface="Arial"/>
              </a:rPr>
              <a:t>;</a:t>
            </a:r>
            <a:br>
              <a:rPr sz="4000"/>
            </a:b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KE  select, insert</a:t>
            </a:r>
            <a:br>
              <a:rPr sz="2800"/>
            </a:br>
            <a:r>
              <a:rPr b="1" lang="en-US" sz="2800" spc="-1" strike="noStrike">
                <a:solidFill>
                  <a:srgbClr val="000000"/>
                </a:solidFill>
                <a:latin typeface="Arial"/>
              </a:rPr>
              <a:t>ON      departments</a:t>
            </a:r>
            <a:br>
              <a:rPr sz="2800"/>
            </a:br>
            <a:r>
              <a:rPr b="1" lang="en-US" sz="2800" spc="-1" strike="noStrike">
                <a:solidFill>
                  <a:srgbClr val="000000"/>
                </a:solidFill>
                <a:latin typeface="Arial"/>
              </a:rPr>
              <a:t>FROM Scott;</a:t>
            </a:r>
            <a:br>
              <a:rPr sz="2800"/>
            </a:br>
            <a:r>
              <a:rPr b="1" lang="en-US" sz="2800" spc="-1" strike="noStrike">
                <a:solidFill>
                  <a:srgbClr val="000000"/>
                </a:solidFill>
                <a:latin typeface="Arial"/>
              </a:rPr>
              <a:t>Revoke succeeded.</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endParaRPr b="0" lang="en-US" sz="3600" spc="-1" strike="noStrike">
              <a:solidFill>
                <a:srgbClr val="000000"/>
              </a:solidFill>
              <a:latin typeface="Arial"/>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ileges granted to others through the WITH </a:t>
            </a:r>
            <a:r>
              <a:rPr b="1" lang="en-US" sz="2400" spc="-1" strike="noStrike">
                <a:solidFill>
                  <a:srgbClr val="000000"/>
                </a:solidFill>
                <a:latin typeface="Arial"/>
              </a:rPr>
              <a:t>GRANT OPTION clause are also revo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user A grants SELECT privilege on a table to user B including the WITH GRANT OPTION</a:t>
            </a:r>
            <a:br>
              <a:rPr sz="2400"/>
            </a:br>
            <a:r>
              <a:rPr b="0" lang="en-US" sz="2400" spc="-1" strike="noStrike">
                <a:solidFill>
                  <a:srgbClr val="000000"/>
                </a:solidFill>
                <a:latin typeface="Arial"/>
              </a:rPr>
              <a:t>clause, user B can grant to user C the SELECT privilege with the WITH GRANT OPTION clause as well, </a:t>
            </a:r>
            <a:br>
              <a:rPr sz="2400"/>
            </a:br>
            <a:r>
              <a:rPr b="0" lang="en-US" sz="2400" spc="-1" strike="noStrike">
                <a:solidFill>
                  <a:srgbClr val="000000"/>
                </a:solidFill>
                <a:latin typeface="Arial"/>
              </a:rPr>
              <a:t>and user C can then grant to user D the SELECT privilege. If user A revokes privilege from user B, then the privileges granted to users C and D are also revoke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Role</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08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ole is a named group of related privileges that can be granted to the us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makes it easier to revoke and maintain privileg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have access to several roles, and several users can be assigned the same role </a:t>
            </a:r>
            <a:endParaRPr b="0" lang="en-US" sz="2400" spc="-1" strike="noStrike">
              <a:solidFill>
                <a:srgbClr val="000000"/>
              </a:solidFill>
              <a:latin typeface="Arial"/>
            </a:endParaRPr>
          </a:p>
          <a:p>
            <a:pPr marL="335880" indent="-3358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efined rol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 it has all system privileges (which SYS/SYSTEM hav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a:t>
            </a:r>
            <a:r>
              <a:rPr b="0" lang="en-US" sz="2000" spc="-1" strike="noStrike">
                <a:solidFill>
                  <a:srgbClr val="000000"/>
                </a:solidFill>
                <a:latin typeface="Arial"/>
              </a:rPr>
              <a:t>Enables a user to create certain types of objects in his own schem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 </a:t>
            </a:r>
            <a:r>
              <a:rPr b="0" lang="en-US" sz="2000" spc="-1" strike="noStrike">
                <a:solidFill>
                  <a:srgbClr val="000000"/>
                </a:solidFill>
                <a:latin typeface="Arial"/>
              </a:rPr>
              <a:t>Enables a user to connect to the database. Grant this role to any user or application that needs database access.</a:t>
            </a:r>
            <a:endParaRPr b="0" lang="en-US" sz="20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and Assigning a Role</a:t>
            </a:r>
            <a:br>
              <a:rPr sz="4000"/>
            </a:br>
            <a:endParaRPr b="0" lang="en-US" sz="4000" spc="-1" strike="noStrike">
              <a:solidFill>
                <a:srgbClr val="000000"/>
              </a:solidFill>
              <a:latin typeface="Arial"/>
            </a:endParaRPr>
          </a:p>
        </p:txBody>
      </p:sp>
      <p:sp>
        <p:nvSpPr>
          <p:cNvPr id="10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he DBA must create the role. Then the DBA can assign privileges to the role and users to the role.</a:t>
            </a:r>
            <a:br>
              <a:rPr sz="3200"/>
            </a:br>
            <a:r>
              <a:rPr b="1" lang="en-US" sz="3200" spc="-1" strike="noStrike">
                <a:solidFill>
                  <a:srgbClr val="000000"/>
                </a:solidFill>
                <a:latin typeface="Arial"/>
              </a:rPr>
              <a:t>Syntax</a:t>
            </a:r>
            <a:br>
              <a:rPr sz="3200"/>
            </a:br>
            <a:r>
              <a:rPr b="0" lang="en-US" sz="3200" spc="-1" strike="noStrike">
                <a:solidFill>
                  <a:srgbClr val="000000"/>
                </a:solidFill>
                <a:latin typeface="Arial"/>
              </a:rPr>
              <a:t>CREATE   ROLE   </a:t>
            </a:r>
            <a:r>
              <a:rPr b="0" lang="en-US" sz="3200" spc="-1" strike="noStrike">
                <a:solidFill>
                  <a:srgbClr val="333399"/>
                </a:solidFill>
                <a:latin typeface="Arial"/>
              </a:rPr>
              <a:t>role</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and Granting Privileges to a Role</a:t>
            </a:r>
            <a:br>
              <a:rPr sz="4000"/>
            </a:br>
            <a:endParaRPr b="0" lang="en-US" sz="4000" spc="-1" strike="noStrike">
              <a:solidFill>
                <a:srgbClr val="000000"/>
              </a:solidFill>
              <a:latin typeface="Arial"/>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role</a:t>
            </a:r>
            <a:br>
              <a:rPr sz="2800"/>
            </a:br>
            <a:r>
              <a:rPr b="1" lang="en-US" sz="2800" spc="-1" strike="noStrike">
                <a:solidFill>
                  <a:srgbClr val="000000"/>
                </a:solidFill>
                <a:latin typeface="Arial"/>
              </a:rPr>
              <a:t>CREATE ROLE manager;</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system privileges to a role</a:t>
            </a:r>
            <a:br>
              <a:rPr sz="2800"/>
            </a:br>
            <a:r>
              <a:rPr b="1" lang="en-US" sz="2800" spc="-1" strike="noStrike">
                <a:solidFill>
                  <a:srgbClr val="000000"/>
                </a:solidFill>
                <a:latin typeface="Arial"/>
              </a:rPr>
              <a:t>GRANT create table, create view </a:t>
            </a:r>
            <a:br>
              <a:rPr sz="2800"/>
            </a:br>
            <a:r>
              <a:rPr b="1" lang="en-US" sz="2800" spc="-1" strike="noStrike">
                <a:solidFill>
                  <a:srgbClr val="000000"/>
                </a:solidFill>
                <a:latin typeface="Arial"/>
              </a:rPr>
              <a:t>TO manager; </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a role to users</a:t>
            </a:r>
            <a:br>
              <a:rPr sz="2800"/>
            </a:br>
            <a:r>
              <a:rPr b="1" lang="en-US" sz="2800" spc="-1" strike="noStrike">
                <a:solidFill>
                  <a:srgbClr val="000000"/>
                </a:solidFill>
                <a:latin typeface="Arial"/>
              </a:rPr>
              <a:t>GRANT manager TO Maha, Nora;     </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nging Your Password</a:t>
            </a:r>
            <a:br>
              <a:rPr sz="4000"/>
            </a:br>
            <a:endParaRPr b="0" lang="en-US" sz="4000" spc="-1" strike="noStrike">
              <a:solidFill>
                <a:srgbClr val="000000"/>
              </a:solidFill>
              <a:latin typeface="Arial"/>
            </a:endParaRPr>
          </a:p>
        </p:txBody>
      </p:sp>
      <p:sp>
        <p:nvSpPr>
          <p:cNvPr id="10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BA creates your user account and initializes </a:t>
            </a:r>
            <a:r>
              <a:rPr b="1" lang="en-US" sz="2400" spc="-1" strike="noStrike">
                <a:solidFill>
                  <a:srgbClr val="000000"/>
                </a:solidFill>
                <a:latin typeface="Arial"/>
              </a:rPr>
              <a:t>your passwo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your password by using the </a:t>
            </a:r>
            <a:br>
              <a:rPr sz="2400"/>
            </a:br>
            <a:r>
              <a:rPr b="1" lang="en-US" sz="2400" spc="-1" strike="noStrike">
                <a:solidFill>
                  <a:srgbClr val="000000"/>
                </a:solidFill>
                <a:latin typeface="Arial"/>
              </a:rPr>
              <a:t>ALTER USER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a:t>
            </a:r>
            <a:br>
              <a:rPr sz="2400"/>
            </a:br>
            <a:r>
              <a:rPr b="0" lang="en-US" sz="2400" spc="-1" strike="noStrike">
                <a:solidFill>
                  <a:srgbClr val="000000"/>
                </a:solidFill>
                <a:latin typeface="Arial"/>
              </a:rPr>
              <a:t>ALTER USER </a:t>
            </a:r>
            <a:r>
              <a:rPr b="0" lang="en-US" sz="2400" spc="-1" strike="noStrike">
                <a:solidFill>
                  <a:srgbClr val="333399"/>
                </a:solidFill>
                <a:latin typeface="Arial"/>
              </a:rPr>
              <a:t>user</a:t>
            </a:r>
            <a:r>
              <a:rPr b="0" lang="en-US" sz="2400" spc="-1" strike="noStrike">
                <a:solidFill>
                  <a:srgbClr val="000000"/>
                </a:solidFill>
                <a:latin typeface="Arial"/>
              </a:rPr>
              <a:t> IDENTIFIED BY </a:t>
            </a:r>
            <a:r>
              <a:rPr b="0" lang="en-US" sz="2400" spc="-1" strike="noStrike">
                <a:solidFill>
                  <a:srgbClr val="333399"/>
                </a:solidFill>
                <a:latin typeface="Arial"/>
              </a:rPr>
              <a:t>newpasswor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 USER Scott            </a:t>
            </a:r>
            <a:br>
              <a:rPr sz="2400"/>
            </a:br>
            <a:r>
              <a:rPr b="1" lang="en-US" sz="2400" spc="-1" strike="noStrike">
                <a:solidFill>
                  <a:srgbClr val="000000"/>
                </a:solidFill>
                <a:latin typeface="Arial"/>
              </a:rPr>
              <a:t>IDENTIFIED BY lion;</a:t>
            </a:r>
            <a:br>
              <a:rPr sz="2400"/>
            </a:br>
            <a:r>
              <a:rPr b="1" lang="en-US" sz="2400" spc="-1" strike="noStrike">
                <a:solidFill>
                  <a:srgbClr val="000000"/>
                </a:solidFill>
                <a:latin typeface="Arial"/>
              </a:rPr>
              <a:t>User alter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WITH GRANT OPTION and </a:t>
            </a:r>
            <a:br>
              <a:rPr sz="3200"/>
            </a:br>
            <a:r>
              <a:rPr b="1" lang="en-US" sz="3200" spc="-1" strike="noStrike">
                <a:solidFill>
                  <a:srgbClr val="000000"/>
                </a:solidFill>
                <a:latin typeface="Arial"/>
              </a:rPr>
              <a:t>PUBLIC Keywords</a:t>
            </a:r>
            <a:br>
              <a:rPr sz="3200"/>
            </a:br>
            <a:br>
              <a:rPr sz="3200"/>
            </a:br>
            <a:endParaRPr b="0" lang="en-US" sz="3200" spc="-1" strike="noStrike">
              <a:solidFill>
                <a:srgbClr val="000000"/>
              </a:solidFill>
              <a:latin typeface="Arial"/>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 user authority to pass along privileges.</a:t>
            </a:r>
            <a:br>
              <a:rPr sz="2400"/>
            </a:br>
            <a:r>
              <a:rPr b="1" lang="en-US" sz="2400" spc="-1" strike="noStrike">
                <a:solidFill>
                  <a:srgbClr val="000000"/>
                </a:solidFill>
                <a:latin typeface="Arial"/>
              </a:rPr>
              <a:t>GRANT  select, insert</a:t>
            </a:r>
            <a:br>
              <a:rPr sz="2400"/>
            </a:br>
            <a:r>
              <a:rPr b="1" lang="en-US" sz="2400" spc="-1" strike="noStrike">
                <a:solidFill>
                  <a:srgbClr val="000000"/>
                </a:solidFill>
                <a:latin typeface="Arial"/>
              </a:rPr>
              <a:t>ON     departments</a:t>
            </a:r>
            <a:br>
              <a:rPr sz="2400"/>
            </a:br>
            <a:r>
              <a:rPr b="1" lang="en-US" sz="2400" spc="-1" strike="noStrike">
                <a:solidFill>
                  <a:srgbClr val="000000"/>
                </a:solidFill>
                <a:latin typeface="Arial"/>
              </a:rPr>
              <a:t>TO Scott</a:t>
            </a:r>
            <a:br>
              <a:rPr sz="2400"/>
            </a:br>
            <a:r>
              <a:rPr b="1" lang="en-US" sz="2400" spc="-1" strike="noStrike">
                <a:solidFill>
                  <a:srgbClr val="000000"/>
                </a:solidFill>
                <a:latin typeface="Arial"/>
              </a:rPr>
              <a:t>WITH   GRANT OPTION;</a:t>
            </a:r>
            <a:br>
              <a:rPr sz="2400"/>
            </a:br>
            <a:r>
              <a:rPr b="1" lang="en-US" sz="2400" spc="-1" strike="noStrike">
                <a:solidFill>
                  <a:srgbClr val="000000"/>
                </a:solidFill>
                <a:latin typeface="Arial"/>
              </a:rPr>
              <a:t>Grant succeeded.</a:t>
            </a:r>
            <a:br>
              <a:rPr sz="2400"/>
            </a:br>
            <a:r>
              <a:rPr b="0" lang="en-US" sz="2400" spc="-1" strike="noStrike">
                <a:solidFill>
                  <a:srgbClr val="000000"/>
                </a:solidFill>
                <a:latin typeface="Arial"/>
              </a:rPr>
              <a:t>• Allow all users on the system to query data from </a:t>
            </a:r>
            <a:br>
              <a:rPr sz="2400"/>
            </a:br>
            <a:r>
              <a:rPr b="1" lang="en-US" sz="2400" spc="-1" strike="noStrike">
                <a:solidFill>
                  <a:srgbClr val="000000"/>
                </a:solidFill>
                <a:latin typeface="Arial"/>
              </a:rPr>
              <a:t>Alice’s DEPARTMENTS table.</a:t>
            </a:r>
            <a:br>
              <a:rPr sz="2400"/>
            </a:br>
            <a:r>
              <a:rPr b="1" lang="en-US" sz="2400" spc="-1" strike="noStrike">
                <a:solidFill>
                  <a:srgbClr val="000000"/>
                </a:solidFill>
                <a:latin typeface="Arial"/>
              </a:rPr>
              <a:t>GRANT  select</a:t>
            </a:r>
            <a:br>
              <a:rPr sz="2400"/>
            </a:br>
            <a:r>
              <a:rPr b="1" lang="en-US" sz="2400" spc="-1" strike="noStrike">
                <a:solidFill>
                  <a:srgbClr val="000000"/>
                </a:solidFill>
                <a:latin typeface="Arial"/>
              </a:rPr>
              <a:t>ON alice.departments</a:t>
            </a:r>
            <a:br>
              <a:rPr sz="2400"/>
            </a:br>
            <a:r>
              <a:rPr b="1" lang="en-US" sz="2400" spc="-1" strike="noStrike">
                <a:solidFill>
                  <a:srgbClr val="000000"/>
                </a:solidFill>
                <a:latin typeface="Arial"/>
              </a:rPr>
              <a:t>TO PUBLIC;</a:t>
            </a:r>
            <a:br>
              <a:rPr sz="2400"/>
            </a:br>
            <a:r>
              <a:rPr b="1" lang="en-US" sz="2400" spc="-1" strike="noStrike">
                <a:solidFill>
                  <a:srgbClr val="000000"/>
                </a:solidFill>
                <a:latin typeface="Arial"/>
              </a:rPr>
              <a:t>Grant succeed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Rectangle 4"/>
          <p:cNvSpPr/>
          <p:nvPr/>
        </p:nvSpPr>
        <p:spPr>
          <a:xfrm>
            <a:off x="2771640" y="1916280"/>
            <a:ext cx="324036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5"/>
          <p:cNvSpPr/>
          <p:nvPr/>
        </p:nvSpPr>
        <p:spPr>
          <a:xfrm>
            <a:off x="3059280" y="2276640"/>
            <a:ext cx="2592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3" name="Line 6"/>
          <p:cNvSpPr/>
          <p:nvPr/>
        </p:nvSpPr>
        <p:spPr>
          <a:xfrm flipH="1">
            <a:off x="3348000" y="2997360"/>
            <a:ext cx="936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7"/>
          <p:cNvSpPr/>
          <p:nvPr/>
        </p:nvSpPr>
        <p:spPr>
          <a:xfrm>
            <a:off x="4356000" y="2997360"/>
            <a:ext cx="100800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8"/>
          <p:cNvSpPr/>
          <p:nvPr/>
        </p:nvSpPr>
        <p:spPr>
          <a:xfrm>
            <a:off x="4643280" y="4437000"/>
            <a:ext cx="324036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
          <p:cNvSpPr/>
          <p:nvPr/>
        </p:nvSpPr>
        <p:spPr>
          <a:xfrm>
            <a:off x="684360" y="4437000"/>
            <a:ext cx="324000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0"/>
          <p:cNvSpPr/>
          <p:nvPr/>
        </p:nvSpPr>
        <p:spPr>
          <a:xfrm>
            <a:off x="5003640" y="4797360"/>
            <a:ext cx="2592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8" name="Text Box 11"/>
          <p:cNvSpPr/>
          <p:nvPr/>
        </p:nvSpPr>
        <p:spPr>
          <a:xfrm>
            <a:off x="971640" y="4797360"/>
            <a:ext cx="2592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Security Guidelines</a:t>
            </a:r>
            <a:endParaRPr b="0" lang="en-US" sz="4400" spc="-1" strike="noStrike">
              <a:solidFill>
                <a:srgbClr val="000000"/>
              </a:solidFill>
              <a:latin typeface="Arial"/>
            </a:endParaRPr>
          </a:p>
        </p:txBody>
      </p:sp>
      <p:sp>
        <p:nvSpPr>
          <p:cNvPr id="1092" name="PlaceHolder 2"/>
          <p:cNvSpPr>
            <a:spLocks noGrp="1"/>
          </p:cNvSpPr>
          <p:nvPr>
            <p:ph/>
          </p:nvPr>
        </p:nvSpPr>
        <p:spPr>
          <a:xfrm>
            <a:off x="457200" y="1413000"/>
            <a:ext cx="8229600" cy="47131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privileges on an object, the object must be in your own schema, or you must have been granted the object privileges WITH GRANT OPTION .</a:t>
            </a:r>
            <a:br>
              <a:rPr sz="2400"/>
            </a:br>
            <a:r>
              <a:rPr b="0" lang="en-US" sz="2400" spc="-1" strike="noStrike">
                <a:solidFill>
                  <a:srgbClr val="000000"/>
                </a:solidFill>
                <a:latin typeface="Arial"/>
              </a:rPr>
              <a:t>• An object owner can grant any object privilege on the object to any other user or role of the database.</a:t>
            </a:r>
            <a:br>
              <a:rPr sz="2400"/>
            </a:br>
            <a:r>
              <a:rPr b="0" lang="en-US" sz="2400" spc="-1" strike="noStrike">
                <a:solidFill>
                  <a:srgbClr val="000000"/>
                </a:solidFill>
                <a:latin typeface="Arial"/>
              </a:rPr>
              <a:t>• The owner of an object automatically acquires all object privileges on that object.</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ive your users more abilities than they need to get the job don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ire and lock unnecessary user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many user profile, each with different level of security setting then assign each one of them to appropriate group of user based on their privilege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parent Data Encryption</a:t>
            </a:r>
            <a:endParaRPr b="0" lang="en-US" sz="4400" spc="-1" strike="noStrike">
              <a:solidFill>
                <a:srgbClr val="000000"/>
              </a:solidFill>
              <a:latin typeface="Calibri"/>
            </a:endParaRPr>
          </a:p>
        </p:txBody>
      </p:sp>
      <p:sp>
        <p:nvSpPr>
          <p:cNvPr id="10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acle Database 10g uses authentication, authorization, and auditing mechanisms to secure data in the database, but not in the operating system files where the data is stor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protect those files, Oracle Database 10g provides transparent data encryption. This feature enables you to protect sensitive data in database columns stored in operating system files by encrypting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ransparent data encryption enables simple and easy encryption for sensitive data in columns without requiring users or applications to manage the encryption ke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ransparent Data Encryption Works</a:t>
            </a:r>
            <a:endParaRPr b="0" lang="en-US" sz="4000" spc="-1" strike="noStrike">
              <a:solidFill>
                <a:srgbClr val="000000"/>
              </a:solidFill>
              <a:latin typeface="Calibri"/>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ent data encryption is a key-based access control system. Even if the encrypted data is retrieved, it cannot be understood until authorized decryption occurs, which is automatic for users authorized to access the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key is used regardless of the number of encrypted columns for one 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7" name="Picture 2" descr="This illustrationis described in the text."/>
          <p:cNvPicPr/>
          <p:nvPr/>
        </p:nvPicPr>
        <p:blipFill>
          <a:blip r:embed="rId1"/>
          <a:stretch/>
        </p:blipFill>
        <p:spPr>
          <a:xfrm>
            <a:off x="228600" y="228600"/>
            <a:ext cx="8790120" cy="639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eating a New Table with an Encrypted Column </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TABLE employee ( first_name VARCHAR2(128), last_name VARCHAR2(128), empID NUMBER, salary NUMBER(6) ENCRYPT );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ncrypting Unencrypted Columns</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 TABLE employee MODIFY (first_name ENCRYPT);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isabling Encryption on a Column</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 TABLE employee MODIFY (first_name DECRYP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1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ba-oracle.com/art_karam_oracle_user_security.ht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Security</a:t>
            </a: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ccess and use of the database at the system level, such  as</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sername and passwo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isk space allocated to user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ystem operations that users can perform </a:t>
            </a: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curity</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ccess and use of the database objects and the actions that those users can have on the objects such as selecting data from a table or retrieving a value from a sequence</a:t>
            </a: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Security</a:t>
            </a:r>
            <a:endParaRPr b="0" lang="en-US" sz="4400" spc="-1" strike="noStrike">
              <a:solidFill>
                <a:srgbClr val="000000"/>
              </a:solidFill>
              <a:latin typeface="Calibri"/>
            </a:endParaRPr>
          </a:p>
        </p:txBody>
      </p:sp>
      <p:sp>
        <p:nvSpPr>
          <p:cNvPr id="10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AA security model:</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entication: </a:t>
            </a:r>
            <a:r>
              <a:rPr b="0" lang="ar-SA" sz="2600" spc="-1" strike="noStrike">
                <a:solidFill>
                  <a:srgbClr val="000000"/>
                </a:solidFill>
                <a:latin typeface="Calibri"/>
              </a:rPr>
              <a:t>verifying the identity of someone (a user, device, or an entity) who wants to access data, resources, or application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give us initial access &amp; many authentication method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ization: Access limits for authenticated users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st privileges principle: user must be able to access only the information and resources that are necessary for its legitimate purpose and no mor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unting: auditing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Security</a:t>
            </a:r>
            <a:endParaRPr b="0" lang="en-US" sz="4400" spc="-1" strike="noStrike">
              <a:solidFill>
                <a:srgbClr val="000000"/>
              </a:solidFill>
              <a:latin typeface="Calibri"/>
            </a:endParaRPr>
          </a:p>
        </p:txBody>
      </p:sp>
      <p:sp>
        <p:nvSpPr>
          <p:cNvPr id="10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B Accou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ile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Accounts</a:t>
            </a:r>
            <a:endParaRPr b="0" lang="en-US" sz="4400" spc="-1" strike="noStrike">
              <a:solidFill>
                <a:srgbClr val="000000"/>
              </a:solidFill>
              <a:latin typeface="Calibri"/>
            </a:endParaRPr>
          </a:p>
        </p:txBody>
      </p:sp>
      <p:sp>
        <p:nvSpPr>
          <p:cNvPr id="10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ault user accou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administrative user accounts are automatically created when you install Oracle Database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  granted by DBA role, owns Data Dictionar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granted the DBA role. This is the user account that you log in with to perform all administrative functions, except:</a:t>
            </a:r>
            <a:endParaRPr b="0" lang="en-US" sz="2400" spc="-1" strike="noStrike">
              <a:solidFill>
                <a:srgbClr val="000000"/>
              </a:solidFill>
              <a:latin typeface="Calibri"/>
            </a:endParaRPr>
          </a:p>
          <a:p>
            <a:pPr lvl="3" marL="1828800" indent="-457200">
              <a:spcBef>
                <a:spcPts val="499"/>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tup and shutdown database</a:t>
            </a:r>
            <a:endParaRPr b="0" lang="en-US" sz="2000" spc="-1" strike="noStrike">
              <a:solidFill>
                <a:srgbClr val="000000"/>
              </a:solidFill>
              <a:latin typeface="Calibri"/>
            </a:endParaRPr>
          </a:p>
          <a:p>
            <a:pPr lvl="3" marL="1828800" indent="-457200">
              <a:spcBef>
                <a:spcPts val="499"/>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kup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nents of an oracle user account</a:t>
            </a:r>
            <a:endParaRPr b="0" lang="en-US" sz="4000" spc="-1" strike="noStrike">
              <a:solidFill>
                <a:srgbClr val="000000"/>
              </a:solidFill>
              <a:latin typeface="Calibri"/>
            </a:endParaRPr>
          </a:p>
        </p:txBody>
      </p:sp>
      <p:sp>
        <p:nvSpPr>
          <p:cNvPr id="105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ique username </a:t>
            </a:r>
            <a:r>
              <a:rPr b="0" lang="en-US" sz="2400" spc="-1" strike="noStrike">
                <a:solidFill>
                  <a:srgbClr val="000000"/>
                </a:solidFill>
                <a:latin typeface="Calibri"/>
              </a:rPr>
              <a:t>: it should be less than 30 character, contains alphanumeric, $ and _</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not use keyword. E.g. insert, create … etc. </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hentication method</a:t>
            </a:r>
            <a:r>
              <a:rPr b="0" lang="en-US" sz="2400" spc="-1" strike="noStrike">
                <a:solidFill>
                  <a:srgbClr val="000000"/>
                </a:solidFill>
                <a:latin typeface="Calibri"/>
              </a:rPr>
              <a:t>: password, OS or biometrics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ault tablespace </a:t>
            </a:r>
            <a:r>
              <a:rPr b="0" lang="en-US" sz="2400" spc="-1" strike="noStrike">
                <a:solidFill>
                  <a:srgbClr val="000000"/>
                </a:solidFill>
                <a:latin typeface="Calibri"/>
              </a:rPr>
              <a:t>to store data</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ill be set to SYSTEM if not specified </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mporary tablespace </a:t>
            </a:r>
            <a:r>
              <a:rPr b="0" lang="en-US" sz="2400" spc="-1" strike="noStrike">
                <a:solidFill>
                  <a:srgbClr val="000000"/>
                </a:solidFill>
                <a:latin typeface="Calibri"/>
              </a:rPr>
              <a:t>for query processing work spac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le</a:t>
            </a:r>
            <a:r>
              <a:rPr b="0" lang="en-US" sz="2400" spc="-1" strike="noStrike">
                <a:solidFill>
                  <a:srgbClr val="000000"/>
                </a:solidFill>
                <a:latin typeface="Calibri"/>
              </a:rPr>
              <a:t>: It allows you to regulate the amount of resources used by each database user &amp; enforce complexity of password</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pply specific setting to a group of users. First create a profile then assign users to it.</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ccount status </a:t>
            </a:r>
            <a:r>
              <a:rPr b="0" lang="en-US" sz="2400" spc="-1" strike="noStrike">
                <a:solidFill>
                  <a:srgbClr val="000000"/>
                </a:solidFill>
                <a:latin typeface="Calibri"/>
              </a:rPr>
              <a:t>: it can be: open, locked( attempts)  or expired </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8:08:01Z</dcterms:created>
  <dc:creator>accer</dc:creator>
  <dc:description/>
  <dc:language>en-US</dc:language>
  <cp:lastModifiedBy>DELL</cp:lastModifiedBy>
  <dcterms:modified xsi:type="dcterms:W3CDTF">2013-11-02T14:10:20Z</dcterms:modified>
  <cp:revision>54</cp:revision>
  <dc:subject/>
  <dc:title>Database Security</dc:title>
</cp:coreProperties>
</file>