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5B19-5441-4C74-9DEB-76776BF05FF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4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1907-9BC8-4760-B96C-08EF62D0EAAE}"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7421D-EB8E-41D9-BC25-4BFFFAE99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DAD50-E1C9-4B60-AABC-FFB6C2675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3666C22-AC88-4B20-8206-748ED5145B3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84391A7-65B1-4DBD-ABDD-E6C105C69A1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2E49221-CF98-4E01-A840-F677A90D7FD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CEF5399-FE73-408A-9C13-513A8CF4D8E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0912243-9168-4668-A417-684E8040250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A02E838-F2C3-4882-A156-EA01A7AE8F7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BD1CD4C-F25F-4B7A-850E-34A9FDEF938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950E692-7EA9-4CAC-9E8C-98C5EE3FC9B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ACCC9E6-32C8-43C4-9050-C2B7A296511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FBD915A-3167-4887-AA2D-1DDCA04138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6527B-AB5C-43E1-8DBA-BBA5FB913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062A30C-1D60-46C7-93CF-C56A9926E8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1522B3D-5CF8-4DF5-91AF-32738CE12A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018A13F-40C5-475F-BAB5-69D8F4B54B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5480696-F4F3-4661-9130-9F96CF5F958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8CE941B-3837-4A7D-B1BD-82D92626F8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E30A8FB-705D-4E48-8AF3-31C27A5D50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7F33B86-AC15-4971-A868-33BCF974FD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12B8C74-3D31-4539-A9BF-66DAA1395B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DCF7FBE-B0D5-4F52-9E0D-910C88C16A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76A3B05-23CF-42B0-9C9C-9D1F6B3582A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CDF6C-5F9C-407D-A3FE-7F5B386A6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EE7F648-4E05-4303-8B8D-7960DDFFF7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2994485-28DF-43EA-820F-702C0BA6DC4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91C438-36AB-48A5-B4B7-37845DA631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2B2715-43ED-4A95-B451-FD7560657C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ACB33A-130D-4C07-933B-EEEE617692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C55D12-2E78-4D8A-BD15-5F6D966E23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C31294-187B-49BB-9F3C-E61FE920B7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F64633-9DA9-4C85-8491-756156B426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175F69-ABE3-4191-9F81-43F42D89B5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D1756B-CA8B-4995-966C-EC7723389C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4175D9-4128-4DCC-B136-F896E82907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26BCED-DBC0-4EC4-99C2-EE153AF13CD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755F1EE-4E03-46AE-B8E8-E1D0277CB28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D71D8E9-D8DB-4FCC-9993-490E0AC2701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7971796-7410-450E-B543-571A576A37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25B343B-89CB-49BE-B82C-28EE179F16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856B5A0-833F-423A-B3DE-4395B6E50C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9E1D3E3-BBD6-4110-A1FC-A12412C5E6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7BF7A25-D9DE-4C75-BE5B-968AA2F4CC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55D616E-67F1-4028-BE79-E7A617B36E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A763CEF-50BB-4FED-B2E1-695FE84BD1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26FC2-AC76-402A-B07B-CC14970A0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37E6641-6814-468D-989F-4BC50EEED2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3CF26A5-B173-41C0-931C-A566E08111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BE94CC6-93AD-494D-A103-56944EF16F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221E07A-2493-4EE4-B375-023E27A616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1CF9CAB-6F18-4EE5-AF26-AD569308BA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CC54E-6F9A-4E74-94B7-D22F5B817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1E1E1-91B0-409D-99B2-B8B004CEB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0DF4B-DBFA-4C2B-A2B9-0FFAAFDC3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3DEF8-A0FB-44CF-9486-051C668DF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075CC-8BCA-420F-971C-957E5DA65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D0A31-B79B-4415-8417-C5F0F8FAB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9D014-2583-4FBE-B112-AC814DA0E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5A6C8-E75D-42FF-BAD7-D90BDBC4D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4D0D5-8E78-4DFB-A38D-5E51AF11B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C09DE5-13D1-46EF-919C-48C35B5ABD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EC2EBA-2805-4339-BB59-C93D26504C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3F0C35-74CB-422E-9717-672EFCF332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0B4CB0-BC38-4ABF-A69E-B8CF7DEDDA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600897-470D-4C05-8A9D-FE4A502ECD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EB3AB7-5170-4013-B73A-C0BB85C0A8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921E02-DD16-4DBB-A9FE-A0FAF5271F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3426A-205C-4D0C-8B0F-CA7924704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39298E-3A23-4459-B48F-25ABC74809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87712A-80BE-46F8-8E90-7929E7F598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354ACB-E36B-4210-B043-EDFE940A9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EECC8-1666-49FC-A6B2-DCE96DCC70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AC0024-802D-46A1-B489-BE95E7A3EC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51E631-A938-4A3E-9326-9B80E0B482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DAB14A-A982-436E-BD00-AB9CAB7F22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CB05D3D6-2961-4726-82CC-2330544D869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88E3DE8-EBA1-4575-9DE2-E417996F764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418B758-07E3-4837-A697-2E13EC7977E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D1100-09C3-48E8-8EC0-6E764C7E7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48FBF54-6C80-441A-A9B9-F6270E63389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CE27DF9-229E-4495-AD17-281184BDBBD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9FC350C-56B9-4C19-BC9A-F3757525A1E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BA8302E-7B4F-49A1-ABAF-39B4EB880A0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07793C4-C68A-4F69-A6EC-EE337B3CEAD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ECD1182-DC9B-4BD1-AF43-F3E9C91F1BF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935BC36-F5B8-44CA-BF7C-6EC16CC711E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336EA2F-10A4-4976-99DA-E68B906B5C3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D5F0518-B6C0-4D15-A412-1754DE6492D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D4F603-51F8-4C30-9E28-028336182F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6C823-1787-4E95-A816-458D7165F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BEAD19-EE32-4A02-A4BA-9760947B31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14A954-8DB6-48A1-803E-DBE7CF363A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D135DB-0F40-42EC-9E6E-30B4F404D2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9424D7-1130-4E7B-9321-AC126006FF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426829-3975-4285-A382-5B8F1B0754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5F1DB2-4676-442F-8D4D-8673BC5622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1DDBAA-E645-436B-95FD-B21FB445B0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C7A649-EC6F-40BD-BD70-D5F28026ED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DA664A-67A1-4730-89C2-7EC6B801F8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8B137A-029B-4EB7-B8DE-FCCBF1D4C4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F1A33-4055-4E95-8E46-185775828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D9D901-5CE0-47D8-B97D-CDD0191105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889363-03BF-454C-B98F-6F58B699D4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A59604-0DDF-4F55-A7DF-E512368455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394EC8-CB84-429C-8226-6F1F9EAC48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A130A2-E6E7-4997-811A-F1185B82BA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389051-F6E7-4870-8466-72960E4DB1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51B392-A9D1-4A3E-8BE4-AC938D23E1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9E2566-E14B-42B9-B2D2-2A09AB960B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E43F0C-C4B6-4A13-B750-3760FA9297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243235-8FBC-4A41-B4BB-D02EBCD125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23E11-6A23-4CF6-8920-573BACFF6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289098-2110-48D2-8F4B-AA0672B583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5A17E6-F544-45E4-BAAD-62E4F49147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12AFD4-D775-477A-90F7-EDC97D413F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F51C16-18B9-4B84-9001-0CDFABF646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7068B9-434A-46EE-87BE-52CA880A0D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7E6020-F7A5-433F-AC77-843BA2F092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9D95FA-393B-463F-B18A-070DBBFBCC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DD4D55-D425-4FB7-A1D4-48FC7E408A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DFD173-08A8-4207-9AEC-714C39D9E3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F90409-4BF8-4AA7-8616-D38C78FAD1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CAA80-59EE-46E9-A586-406D490E9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1A18DE-20A7-40EF-B3EB-EF995CB9B5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1FB195-96F4-4E5D-80AE-5AEC71CA68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5F05EF-6B44-4F36-BE09-4B21191BC7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035D1E-0E22-4F4F-AB23-2D12EA2A7A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E7D2C2-53DF-43FF-B09D-6B74AEF364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7AA0B7-3D33-4F74-8AFB-FE80BCE518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1047BF-BE78-4844-95FD-AAD8543762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167C9E-EE1E-448A-A20E-5B1048A748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7EED00-E1F6-40EA-834B-BCECCB9821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670A9B-3F43-4713-9B75-CA85A6B102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DC01A-38C0-4A50-AA44-0E6D25C51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AFD526-C864-4CBA-B1CF-3ECAE3FB60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B427F3-6202-41A8-96DD-3B3A22778D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BA78C9-4C53-4B1A-AB3F-4CC3A28FF6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26145B-7CBA-492E-A7E5-157993D5C4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873281-852C-493C-872D-AB79BE18C2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9E4FDC-864A-4944-948B-2FAD0ABD50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8CDE6F-8F00-4D8C-A21C-6256F51267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1BCAED2-7D25-4694-A25D-3AD1CB7BE08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D50F28E-247A-4F87-A712-A483E6D490C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6A97C2E-9CB6-4A0F-97DD-1FDBA9AAD27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7448-11F6-40C5-901D-BE9244917B07}"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B572-9A4C-4784-8DD7-652DA5946A45}"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45C8C-C943-4E23-A1E0-A5AE5B4400F8}"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47C6-2A6E-4A5A-B4C5-3AA84709A11C}"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0372-0F08-4213-BB5F-7AF7ABCF88FC}"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4984-1A2F-445E-8509-33C6712C097C}"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6FF2-95F2-4D84-9824-CCD1F7241D31}"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8CCC-BD3D-4639-AE2A-359F75BA667E}"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B9901-92B2-4924-8380-DD2A5FFF82A8}"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CDA3B-E514-4281-B007-39F86D6BB7F4}"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20226-3F4A-40FA-8FAF-07E284F6F805}" type="slidenum">
              <a:rPr b="0" lang="en-GB"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937B-95E2-4C8D-A475-D3A0D148CAAA}" type="slidenum">
              <a:rPr b="0" lang="en-GB"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chemistryexplained.com/Di-Fa/Equilibrium.html" TargetMode="External"/><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228240" y="2590920"/>
            <a:ext cx="8534520" cy="2071440"/>
          </a:xfrm>
          <a:prstGeom prst="rect">
            <a:avLst/>
          </a:prstGeom>
          <a:noFill/>
          <a:ln w="0">
            <a:noFill/>
          </a:ln>
        </p:spPr>
        <p:txBody>
          <a:bodyPr anchor="t">
            <a:noAutofit/>
          </a:bodyPr>
          <a:p>
            <a:pPr>
              <a:lnSpc>
                <a:spcPct val="10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000000"/>
                </a:solidFill>
                <a:latin typeface="Times New Roman"/>
                <a:ea typeface="Times New Roman"/>
              </a:rPr>
              <a:t>MEASUREMENT OF OSMOLALITY USING A DIGITAL MICRO-OSMOMETER</a:t>
            </a:r>
            <a:endParaRPr b="0" lang="en-US" sz="3700" spc="-1" strike="noStrike">
              <a:solidFill>
                <a:srgbClr val="000000"/>
              </a:solidFill>
              <a:latin typeface="Georgia"/>
            </a:endParaRPr>
          </a:p>
        </p:txBody>
      </p:sp>
      <p:sp>
        <p:nvSpPr>
          <p:cNvPr id="614" name="PlaceHolder 2"/>
          <p:cNvSpPr>
            <a:spLocks noGrp="1"/>
          </p:cNvSpPr>
          <p:nvPr>
            <p:ph type="title"/>
          </p:nvPr>
        </p:nvSpPr>
        <p:spPr>
          <a:xfrm>
            <a:off x="685800" y="714240"/>
            <a:ext cx="7772400" cy="15004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16349"/>
                </a:solidFill>
                <a:latin typeface="Times New Roman"/>
                <a:ea typeface="Times New Roman"/>
              </a:rPr>
              <a:t>Cls 332</a:t>
            </a:r>
            <a:br>
              <a:rPr sz="3600"/>
            </a:br>
            <a:r>
              <a:rPr b="0" lang="en-GB" sz="3600" spc="-1" strike="noStrike">
                <a:solidFill>
                  <a:srgbClr val="d16349"/>
                </a:solidFill>
                <a:latin typeface="Times New Roman"/>
                <a:ea typeface="Times New Roman"/>
              </a:rPr>
              <a:t>lab no.4</a:t>
            </a:r>
            <a:endParaRPr b="0" lang="en-US" sz="36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1"/>
          <p:cNvSpPr/>
          <p:nvPr/>
        </p:nvSpPr>
        <p:spPr>
          <a:xfrm>
            <a:off x="380880" y="1143000"/>
            <a:ext cx="8153640" cy="350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reason that the salt solution has a lower freezing point than the sugar solution is that there are </a:t>
            </a:r>
            <a:r>
              <a:rPr b="1" i="1" lang="en-US" sz="3600" spc="-1" strike="noStrike">
                <a:solidFill>
                  <a:srgbClr val="000000"/>
                </a:solidFill>
                <a:latin typeface="Times New Roman"/>
                <a:ea typeface="Times New Roman"/>
              </a:rPr>
              <a:t>more particles in 10 grams of sodium chloride than in 10 grams of sucrose</a:t>
            </a:r>
            <a:endParaRPr b="0" lang="en-US" sz="3600" spc="-1" strike="noStrike">
              <a:solidFill>
                <a:srgbClr val="000000"/>
              </a:solidFill>
              <a:latin typeface="Calibri"/>
            </a:endParaRPr>
          </a:p>
          <a:p>
            <a:pPr>
              <a:lnSpc>
                <a:spcPct val="100000"/>
              </a:lnSpc>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1"/>
          <p:cNvSpPr/>
          <p:nvPr/>
        </p:nvSpPr>
        <p:spPr>
          <a:xfrm>
            <a:off x="152280" y="304920"/>
            <a:ext cx="8991720" cy="777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Boiling Point Elevatio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imes New Roman"/>
                <a:ea typeface="Times New Roman"/>
              </a:rPr>
              <a:t>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boiling point of a solution is higher than that of the pure solvent.</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f 10 grams of sodium chloride are dissolved in 100  ml of water, the boiling point of the solution is 101.7°C which is 1.7°C higher than the boiling point of pure water.</a:t>
            </a:r>
            <a:br>
              <a:rPr sz="3600"/>
            </a:br>
            <a:br>
              <a:rPr sz="3600"/>
            </a:b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1"/>
          <p:cNvSpPr/>
          <p:nvPr/>
        </p:nvSpPr>
        <p:spPr>
          <a:xfrm>
            <a:off x="152280" y="762120"/>
            <a:ext cx="8839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Vapor Pressure Lowering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vapor pressure of a liquid is the </a:t>
            </a:r>
            <a:r>
              <a:rPr b="0" lang="en-US" sz="3600" spc="-1" strike="noStrike" u="sng">
                <a:solidFill>
                  <a:srgbClr val="00a3d6"/>
                </a:solidFill>
                <a:uFillTx/>
                <a:latin typeface="Times New Roman"/>
                <a:ea typeface="Times New Roman"/>
                <a:hlinkClick r:id="rId1"/>
              </a:rPr>
              <a:t>equilibrium </a:t>
            </a:r>
            <a:r>
              <a:rPr b="0" lang="en-US" sz="3600" spc="-1" strike="noStrike">
                <a:solidFill>
                  <a:srgbClr val="000000"/>
                </a:solidFill>
                <a:latin typeface="Times New Roman"/>
                <a:ea typeface="Times New Roman"/>
              </a:rPr>
              <a:t>pressure of gas molecules from that liquid (i.e., the results of evaporation) above the liquid itself.</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228240" y="53352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Osmotic Pressure    </a:t>
            </a:r>
            <a:br>
              <a:rPr sz="3600"/>
            </a:br>
            <a:endParaRPr b="0" lang="en-US" sz="3600" spc="-1" strike="noStrike">
              <a:solidFill>
                <a:srgbClr val="7b9899"/>
              </a:solidFill>
              <a:latin typeface="Georgia"/>
            </a:endParaRPr>
          </a:p>
        </p:txBody>
      </p:sp>
      <p:sp>
        <p:nvSpPr>
          <p:cNvPr id="630" name=""/>
          <p:cNvSpPr txBox="1"/>
          <p:nvPr/>
        </p:nvSpPr>
        <p:spPr>
          <a:xfrm>
            <a:off x="228600" y="3809520"/>
            <a:ext cx="8686800" cy="2054520"/>
          </a:xfrm>
          <a:prstGeom prst="rect">
            <a:avLst/>
          </a:prstGeom>
          <a:noFill/>
          <a:ln w="0">
            <a:noFill/>
          </a:ln>
        </p:spPr>
        <p:txBody>
          <a:bodyPr anchor="t">
            <a:normAutofit fontScale="86000"/>
          </a:bodyPr>
          <a:p>
            <a:pPr marL="234360" indent="-234360">
              <a:lnSpc>
                <a:spcPct val="10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smosis process would be one that ends with the solute concentrations being equal on both sides of the membrane. </a:t>
            </a:r>
            <a:r>
              <a:rPr b="1" lang="en-US" sz="3200" spc="-1" strike="noStrike">
                <a:solidFill>
                  <a:srgbClr val="000000"/>
                </a:solidFill>
                <a:latin typeface="Times New Roman"/>
                <a:ea typeface="Times New Roman"/>
              </a:rPr>
              <a:t>Osmotic pressure is the pressure that must be applied on the high concentration side to stop osmosis. </a:t>
            </a:r>
            <a:endParaRPr b="0" lang="en-US" sz="3200" spc="-1" strike="noStrike">
              <a:solidFill>
                <a:srgbClr val="000000"/>
              </a:solidFill>
              <a:latin typeface="Georgia"/>
            </a:endParaRPr>
          </a:p>
        </p:txBody>
      </p:sp>
      <p:sp>
        <p:nvSpPr>
          <p:cNvPr id="631" name="Rectangle 3"/>
          <p:cNvSpPr/>
          <p:nvPr/>
        </p:nvSpPr>
        <p:spPr>
          <a:xfrm>
            <a:off x="228600" y="1523880"/>
            <a:ext cx="8686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Osmosis</a:t>
            </a:r>
            <a:r>
              <a:rPr b="0" lang="en-US" sz="3200" spc="-1" strike="noStrike">
                <a:solidFill>
                  <a:srgbClr val="000000"/>
                </a:solidFill>
                <a:latin typeface="Times New Roman"/>
                <a:ea typeface="Times New Roman"/>
              </a:rPr>
              <a:t> is the passage of water from a region of high water concentration through a semi-permeable membrane to a region of low water concentration.</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457200" y="785880"/>
            <a:ext cx="8229600" cy="534024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freezing point and vapor pressure decrease .</a:t>
            </a: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osmotic pressure and boiling point increase.</a:t>
            </a: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b400"/>
                </a:solidFill>
                <a:latin typeface="Times New Roman"/>
                <a:ea typeface="Times New Roman"/>
              </a:rPr>
              <a:t>So </a:t>
            </a:r>
            <a:r>
              <a:rPr b="0" lang="en-GB" sz="3200" spc="-1" strike="noStrike">
                <a:solidFill>
                  <a:srgbClr val="000000"/>
                </a:solidFill>
                <a:latin typeface="Times New Roman"/>
                <a:ea typeface="Times New Roman"/>
              </a:rPr>
              <a:t>in the present commercial  instruments the determination of freezing point lowering is more satisfactory than the other measurement.</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0000"/>
                </a:solidFill>
                <a:latin typeface="Times New Roman"/>
                <a:ea typeface="Times New Roman"/>
              </a:rPr>
              <a:t>Why?</a:t>
            </a:r>
            <a:endParaRPr b="0" lang="en-US" sz="3600" spc="-1" strike="noStrike">
              <a:solidFill>
                <a:srgbClr val="7b9899"/>
              </a:solidFill>
              <a:latin typeface="Georgia"/>
            </a:endParaRPr>
          </a:p>
        </p:txBody>
      </p:sp>
      <p:sp>
        <p:nvSpPr>
          <p:cNvPr id="634" name=""/>
          <p:cNvSpPr txBox="1"/>
          <p:nvPr/>
        </p:nvSpPr>
        <p:spPr>
          <a:xfrm>
            <a:off x="228600" y="1371600"/>
            <a:ext cx="8763120" cy="413712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Using freezing point is:</a:t>
            </a:r>
            <a:endParaRPr b="0" lang="en-US" sz="3600" spc="-1" strike="noStrike">
              <a:solidFill>
                <a:srgbClr val="000000"/>
              </a:solidFill>
              <a:latin typeface="Georg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1- more easier.</a:t>
            </a:r>
            <a:endParaRPr b="0" lang="en-US" sz="3600" spc="-1" strike="noStrike">
              <a:solidFill>
                <a:srgbClr val="000000"/>
              </a:solidFill>
              <a:latin typeface="Georg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2- sample does not destroy.</a:t>
            </a:r>
            <a:endParaRPr b="0" lang="en-US" sz="3600" spc="-1" strike="noStrike">
              <a:solidFill>
                <a:srgbClr val="000000"/>
              </a:solidFill>
              <a:latin typeface="Georg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152280" y="533520"/>
            <a:ext cx="8763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Usually osmolality is expressed as Osm/Kg.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o measure osmolality an instrument known as an osmometer is us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1"/>
          <p:cNvSpPr/>
          <p:nvPr/>
        </p:nvSpPr>
        <p:spPr>
          <a:xfrm>
            <a:off x="0" y="304920"/>
            <a:ext cx="9296280" cy="65048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70c0"/>
                </a:solidFill>
                <a:uFillTx/>
                <a:latin typeface="Times New Roman"/>
                <a:ea typeface="Times New Roman"/>
              </a:rPr>
              <a:t>There are three major types of osmometers:</a:t>
            </a:r>
            <a:endParaRPr b="0" lang="en-US" sz="3600" spc="-1" strike="noStrike">
              <a:solidFill>
                <a:srgbClr val="000000"/>
              </a:solidFill>
              <a:latin typeface="Calibri"/>
            </a:endParaRPr>
          </a:p>
          <a:p>
            <a:pPr marL="272880" indent="-272880">
              <a:lnSpc>
                <a:spcPct val="100000"/>
              </a:lnSpc>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72880" indent="-272880">
              <a:lnSpc>
                <a:spcPct val="100000"/>
              </a:lnSpc>
              <a:spcBef>
                <a:spcPts val="8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Freezing Point Osmometers – measure freezing point depression</a:t>
            </a:r>
            <a:endParaRPr b="0" lang="en-US" sz="3400" spc="-1" strike="noStrike">
              <a:solidFill>
                <a:srgbClr val="000000"/>
              </a:solidFill>
              <a:latin typeface="Calibri"/>
            </a:endParaRPr>
          </a:p>
          <a:p>
            <a:pPr marL="272880" indent="-272880">
              <a:lnSpc>
                <a:spcPct val="100000"/>
              </a:lnSpc>
              <a:spcBef>
                <a:spcPts val="8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272880" indent="-272880">
              <a:lnSpc>
                <a:spcPct val="100000"/>
              </a:lnSpc>
              <a:spcBef>
                <a:spcPts val="8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Vapor Pressure Osmometers – measure  vapor pressure of the solution</a:t>
            </a:r>
            <a:endParaRPr b="0" lang="en-US" sz="3400" spc="-1" strike="noStrike">
              <a:solidFill>
                <a:srgbClr val="000000"/>
              </a:solidFill>
              <a:latin typeface="Calibri"/>
            </a:endParaRPr>
          </a:p>
          <a:p>
            <a:pPr marL="272880" indent="-272880">
              <a:lnSpc>
                <a:spcPct val="100000"/>
              </a:lnSpc>
              <a:spcBef>
                <a:spcPts val="8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marL="272880" indent="-272880">
              <a:lnSpc>
                <a:spcPct val="100000"/>
              </a:lnSpc>
              <a:spcBef>
                <a:spcPts val="8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Membrane Osmometers – measure the osmotic pressure of a solution separated by a semi-permeable membrane</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50920" y="764640"/>
            <a:ext cx="8229600" cy="722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 </a:t>
            </a:r>
            <a:endParaRPr b="0" lang="en-US" sz="3300" spc="-1" strike="noStrike">
              <a:solidFill>
                <a:srgbClr val="7b9899"/>
              </a:solidFill>
              <a:latin typeface="Georgia"/>
            </a:endParaRPr>
          </a:p>
        </p:txBody>
      </p:sp>
      <p:sp>
        <p:nvSpPr>
          <p:cNvPr id="638" name=""/>
          <p:cNvSpPr txBox="1"/>
          <p:nvPr/>
        </p:nvSpPr>
        <p:spPr>
          <a:xfrm>
            <a:off x="152280" y="152280"/>
            <a:ext cx="8839440" cy="6477120"/>
          </a:xfrm>
          <a:prstGeom prst="rect">
            <a:avLst/>
          </a:prstGeom>
          <a:noFill/>
          <a:ln w="0">
            <a:noFill/>
          </a:ln>
        </p:spPr>
        <p:txBody>
          <a:bodyPr anchor="t">
            <a:normAutofit/>
          </a:bodyPr>
          <a:p>
            <a:pPr marL="272880" indent="-272880">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ff0000"/>
                </a:solidFill>
                <a:latin typeface="Times New Roman"/>
                <a:ea typeface="Times New Roman"/>
              </a:rPr>
              <a:t>Osmometer principle:</a:t>
            </a:r>
            <a:endParaRPr b="0" lang="en-US" sz="3900" spc="-1" strike="noStrike">
              <a:solidFill>
                <a:srgbClr val="000000"/>
              </a:solidFill>
              <a:latin typeface="Georgia"/>
            </a:endParaRPr>
          </a:p>
          <a:p>
            <a:pPr marL="272880" indent="-272880">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 Super cooled the sample by bath containing an antifreeze solution that is maintained at about -5° C</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 Inside the sample there will be thermometer to measure FP.</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3- after super cooling we take sample out and the thermometer still inside then we will notice the temp. start getting high .</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4- at some point the temp. will stopped increasing  and give constant value ....this value is FP.</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228240" y="304560"/>
            <a:ext cx="8675640" cy="78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Georgia"/>
              </a:rPr>
              <a:t>Operation of digital micro –osmometer:</a:t>
            </a:r>
            <a:endParaRPr b="0" lang="en-US" sz="3600" spc="-1" strike="noStrike">
              <a:solidFill>
                <a:srgbClr val="7b9899"/>
              </a:solidFill>
              <a:latin typeface="Georgia"/>
            </a:endParaRPr>
          </a:p>
        </p:txBody>
      </p:sp>
      <p:sp>
        <p:nvSpPr>
          <p:cNvPr id="640" name=""/>
          <p:cNvSpPr txBox="1"/>
          <p:nvPr/>
        </p:nvSpPr>
        <p:spPr>
          <a:xfrm>
            <a:off x="151920" y="1371600"/>
            <a:ext cx="8991720" cy="476712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Georgia"/>
              </a:rPr>
              <a:t>Calibration with distalled water:</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Georgia"/>
              </a:rPr>
              <a:t>1- </a:t>
            </a:r>
            <a:r>
              <a:rPr b="0" lang="en-GB" sz="3200" spc="-1" strike="noStrike">
                <a:solidFill>
                  <a:srgbClr val="000000"/>
                </a:solidFill>
                <a:latin typeface="Georgia"/>
              </a:rPr>
              <a:t>Switch on to warm up for 3 mins.</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Georgia"/>
              </a:rPr>
              <a:t>2- </a:t>
            </a:r>
            <a:r>
              <a:rPr b="0" lang="en-GB" sz="3200" spc="-1" strike="noStrike">
                <a:solidFill>
                  <a:srgbClr val="000000"/>
                </a:solidFill>
                <a:latin typeface="Georgia"/>
              </a:rPr>
              <a:t>Fill sample vessel with 10 </a:t>
            </a:r>
            <a:r>
              <a:rPr b="0" lang="el-GR" sz="3200" spc="-1" strike="noStrike">
                <a:solidFill>
                  <a:srgbClr val="000000"/>
                </a:solidFill>
                <a:latin typeface="Georgia"/>
              </a:rPr>
              <a:t>μ</a:t>
            </a:r>
            <a:r>
              <a:rPr b="0" lang="en-GB" sz="3200" spc="-1" strike="noStrike">
                <a:solidFill>
                  <a:srgbClr val="000000"/>
                </a:solidFill>
                <a:latin typeface="Georgia"/>
              </a:rPr>
              <a:t>l disttilled water (volume must be +or – 10 %).</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Georgia"/>
              </a:rPr>
              <a:t>3- </a:t>
            </a:r>
            <a:r>
              <a:rPr b="0" lang="en-GB" sz="3200" spc="-1" strike="noStrike">
                <a:solidFill>
                  <a:srgbClr val="000000"/>
                </a:solidFill>
                <a:latin typeface="Georgia"/>
              </a:rPr>
              <a:t>Attach sample vessel to measuring head.</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Georgia"/>
              </a:rPr>
              <a:t>4-</a:t>
            </a:r>
            <a:r>
              <a:rPr b="0" lang="en-US" sz="3200" spc="-1" strike="noStrike">
                <a:solidFill>
                  <a:srgbClr val="000000"/>
                </a:solidFill>
                <a:latin typeface="Georgia"/>
              </a:rPr>
              <a:t>Slide the measuring head down, insert tube into the cooling cone</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pic>
        <p:nvPicPr>
          <p:cNvPr id="641" name="Picture 4" descr=""/>
          <p:cNvPicPr/>
          <p:nvPr/>
        </p:nvPicPr>
        <p:blipFill>
          <a:blip r:embed="rId1"/>
          <a:stretch/>
        </p:blipFill>
        <p:spPr>
          <a:xfrm>
            <a:off x="6781680" y="5486400"/>
            <a:ext cx="1238400" cy="91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Content Placeholder 3" descr="osmo.bmp"/>
          <p:cNvPicPr/>
          <p:nvPr/>
        </p:nvPicPr>
        <p:blipFill>
          <a:blip r:embed="rId1"/>
          <a:stretch/>
        </p:blipFill>
        <p:spPr>
          <a:xfrm>
            <a:off x="2209680" y="914400"/>
            <a:ext cx="5029200" cy="5486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Picture 2" descr="http://camlablog.files.wordpress.com/2010/08/tp20emzfb.jpg"/>
          <p:cNvPicPr/>
          <p:nvPr/>
        </p:nvPicPr>
        <p:blipFill>
          <a:blip r:embed="rId1"/>
          <a:stretch/>
        </p:blipFill>
        <p:spPr>
          <a:xfrm>
            <a:off x="152280" y="380880"/>
            <a:ext cx="8305920" cy="594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1"/>
          <p:cNvSpPr/>
          <p:nvPr/>
        </p:nvSpPr>
        <p:spPr>
          <a:xfrm>
            <a:off x="152280" y="380880"/>
            <a:ext cx="8610840" cy="47120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Georgia"/>
              </a:rPr>
              <a:t>5- </a:t>
            </a:r>
            <a:r>
              <a:rPr b="0" lang="en-GB" sz="3600" spc="-1" strike="noStrike">
                <a:solidFill>
                  <a:srgbClr val="000000"/>
                </a:solidFill>
                <a:latin typeface="Georgia"/>
              </a:rPr>
              <a:t>Supercooling is reached in about 1.5 mins.</a:t>
            </a:r>
            <a:endParaRPr b="0" lang="en-US" sz="3600" spc="-1" strike="noStrike">
              <a:solidFill>
                <a:srgbClr val="000000"/>
              </a:solidFill>
              <a:latin typeface="Calibri"/>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Georgia"/>
              </a:rPr>
              <a:t>6- </a:t>
            </a:r>
            <a:r>
              <a:rPr b="0" lang="en-GB" sz="3600" spc="-1" strike="noStrike">
                <a:solidFill>
                  <a:srgbClr val="000000"/>
                </a:solidFill>
                <a:latin typeface="Georgia"/>
              </a:rPr>
              <a:t>At (-1000°c) the freezing needle is automatically inserted  into the sample vessel for one second, then its returned back to its original posi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Content Placeholder 2"/>
          <p:cNvSpPr/>
          <p:nvPr/>
        </p:nvSpPr>
        <p:spPr>
          <a:xfrm>
            <a:off x="152280" y="304920"/>
            <a:ext cx="8991720" cy="6172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Georgia"/>
              </a:rPr>
              <a:t>7- </a:t>
            </a:r>
            <a:r>
              <a:rPr b="0" lang="en-GB" sz="2800" spc="-1" strike="noStrike">
                <a:solidFill>
                  <a:srgbClr val="000000"/>
                </a:solidFill>
                <a:latin typeface="Georgia"/>
              </a:rPr>
              <a:t>During the plateau period, set digital display to zero. as soon as the values rise the plateau has ended.</a:t>
            </a:r>
            <a:endParaRPr b="0" lang="en-US" sz="2800" spc="-1" strike="noStrike">
              <a:solidFill>
                <a:srgbClr val="000000"/>
              </a:solidFill>
              <a:latin typeface="Calibri"/>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2d050"/>
                </a:solidFill>
                <a:latin typeface="Georgia"/>
              </a:rPr>
              <a:t>Plateau temperature: </a:t>
            </a:r>
            <a:r>
              <a:rPr b="0" lang="en-GB" sz="2800" spc="-1" strike="noStrike">
                <a:solidFill>
                  <a:srgbClr val="000000"/>
                </a:solidFill>
                <a:latin typeface="Georgia"/>
              </a:rPr>
              <a:t>the temperature at which an equilibrium exists between condensation and evaporation.</a:t>
            </a:r>
            <a:endParaRPr b="0" lang="en-US" sz="2800" spc="-1" strike="noStrike">
              <a:solidFill>
                <a:srgbClr val="000000"/>
              </a:solidFill>
              <a:latin typeface="Calibri"/>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Georgia"/>
              </a:rPr>
              <a:t>8-</a:t>
            </a:r>
            <a:r>
              <a:rPr b="0" lang="en-US" sz="2800" spc="-1" strike="noStrike">
                <a:solidFill>
                  <a:srgbClr val="000000"/>
                </a:solidFill>
                <a:latin typeface="Georgia"/>
              </a:rPr>
              <a:t>The freezing point is determined and osmolality is shown on the digital display. An audible signal indicates the measurement has been completed. The measurement value is stored in the memory</a:t>
            </a:r>
            <a:endParaRPr b="0" lang="en-US" sz="2800" spc="-1" strike="noStrike">
              <a:solidFill>
                <a:srgbClr val="000000"/>
              </a:solidFill>
              <a:latin typeface="Calibri"/>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Georgia"/>
              </a:rPr>
              <a:t>9-</a:t>
            </a:r>
            <a:r>
              <a:rPr b="0" lang="en-US" sz="2800" spc="-1" strike="noStrike">
                <a:solidFill>
                  <a:srgbClr val="000000"/>
                </a:solidFill>
                <a:latin typeface="Georgia"/>
              </a:rPr>
              <a:t> Raise the measuring head, remove sample tube and wipe thermistor with a soft tissue</a:t>
            </a:r>
            <a:endParaRPr b="0" lang="en-US" sz="2800" spc="-1" strike="noStrike">
              <a:solidFill>
                <a:srgbClr val="000000"/>
              </a:solidFill>
              <a:latin typeface="Calibri"/>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ff0000"/>
                </a:solidFill>
                <a:latin typeface="Georgia"/>
              </a:rPr>
              <a:t>Precautions</a:t>
            </a:r>
            <a:endParaRPr b="0" lang="en-US" sz="3300" spc="-1" strike="noStrike">
              <a:solidFill>
                <a:srgbClr val="7b9899"/>
              </a:solidFill>
              <a:latin typeface="Georgia"/>
            </a:endParaRPr>
          </a:p>
        </p:txBody>
      </p:sp>
      <p:sp>
        <p:nvSpPr>
          <p:cNvPr id="646"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Georgia"/>
              </a:rPr>
              <a:t>1-</a:t>
            </a:r>
            <a:r>
              <a:rPr b="0" lang="en-GB" sz="2700" spc="-1" strike="noStrike">
                <a:solidFill>
                  <a:srgbClr val="ccb400"/>
                </a:solidFill>
                <a:latin typeface="Georgia"/>
              </a:rPr>
              <a:t> </a:t>
            </a:r>
            <a:r>
              <a:rPr b="0" lang="en-GB" sz="2700" spc="-1" strike="noStrike">
                <a:solidFill>
                  <a:srgbClr val="000000"/>
                </a:solidFill>
                <a:latin typeface="Georgia"/>
              </a:rPr>
              <a:t>Warm up the instrument 3 mins.</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Georgia"/>
              </a:rPr>
              <a:t>2- </a:t>
            </a:r>
            <a:r>
              <a:rPr b="0" lang="en-GB" sz="2700" spc="-1" strike="noStrike">
                <a:solidFill>
                  <a:srgbClr val="000000"/>
                </a:solidFill>
                <a:latin typeface="Georgia"/>
              </a:rPr>
              <a:t>Always use the recommended sample vessel.</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Georgia"/>
              </a:rPr>
              <a:t>3- </a:t>
            </a:r>
            <a:r>
              <a:rPr b="0" lang="en-GB" sz="2700" spc="-1" strike="noStrike">
                <a:solidFill>
                  <a:srgbClr val="000000"/>
                </a:solidFill>
                <a:latin typeface="Georgia"/>
              </a:rPr>
              <a:t>Make the necessary adjustment in the position of thermistor according to the volume of sample and for high accuracy its better to position the thermister for 100 </a:t>
            </a:r>
            <a:r>
              <a:rPr b="0" lang="el-GR" sz="2700" spc="-1" strike="noStrike">
                <a:solidFill>
                  <a:srgbClr val="000000"/>
                </a:solidFill>
                <a:latin typeface="Georgia"/>
              </a:rPr>
              <a:t>μ</a:t>
            </a:r>
            <a:r>
              <a:rPr b="0" lang="en-GB" sz="2700" spc="-1" strike="noStrike">
                <a:solidFill>
                  <a:srgbClr val="000000"/>
                </a:solidFill>
                <a:latin typeface="Georgia"/>
              </a:rPr>
              <a:t>l volume.</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Georgia"/>
              </a:rPr>
              <a:t>4- </a:t>
            </a:r>
            <a:r>
              <a:rPr b="0" lang="en-GB" sz="2700" spc="-1" strike="noStrike">
                <a:solidFill>
                  <a:srgbClr val="000000"/>
                </a:solidFill>
                <a:latin typeface="Georgia"/>
              </a:rPr>
              <a:t>Before removal of sample vessel, at the end of the measurements its necessary to warm up frozen solution.</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Georgia"/>
              </a:rPr>
              <a:t>5- </a:t>
            </a:r>
            <a:r>
              <a:rPr b="0" lang="en-GB" sz="2700" spc="-1" strike="noStrike">
                <a:solidFill>
                  <a:srgbClr val="000000"/>
                </a:solidFill>
                <a:latin typeface="Georgia"/>
              </a:rPr>
              <a:t>To repeat the measurements on the same sample always use a dry or new vessel.</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4920" y="304920"/>
            <a:ext cx="86868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Times New Roman"/>
                <a:ea typeface="Times New Roman"/>
              </a:rPr>
              <a:t>What is Osmolality??</a:t>
            </a:r>
            <a:endParaRPr b="0" lang="en-US" sz="4400" spc="-1" strike="noStrike">
              <a:solidFill>
                <a:srgbClr val="7b9899"/>
              </a:solidFill>
              <a:latin typeface="Georgia"/>
            </a:endParaRPr>
          </a:p>
        </p:txBody>
      </p:sp>
      <p:sp>
        <p:nvSpPr>
          <p:cNvPr id="617" name=""/>
          <p:cNvSpPr txBox="1"/>
          <p:nvPr/>
        </p:nvSpPr>
        <p:spPr>
          <a:xfrm>
            <a:off x="228600" y="1447920"/>
            <a:ext cx="8686800" cy="452592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Osmolality:</a:t>
            </a:r>
            <a:endParaRPr b="0" lang="en-US" sz="3600" spc="-1" strike="noStrike">
              <a:solidFill>
                <a:srgbClr val="000000"/>
              </a:solidFill>
              <a:latin typeface="Georgia"/>
            </a:endParaRPr>
          </a:p>
          <a:p>
            <a:pPr marL="272880" indent="-272880">
              <a:lnSpc>
                <a:spcPct val="100000"/>
              </a:lnSpc>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imes New Roman"/>
                <a:ea typeface="Times New Roman"/>
              </a:rPr>
              <a:t>Is measurement of concentration: it is the number of moles of particles (solute) per kilogram of water (solvent).</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Osmolality is </a:t>
            </a:r>
            <a:r>
              <a:rPr b="0" i="1" lang="en-US" sz="2700" spc="-1" strike="noStrike" u="sng">
                <a:solidFill>
                  <a:srgbClr val="000000"/>
                </a:solidFill>
                <a:uFillTx/>
                <a:latin typeface="Times New Roman"/>
                <a:ea typeface="Times New Roman"/>
              </a:rPr>
              <a:t>independent</a:t>
            </a:r>
            <a:r>
              <a:rPr b="0" lang="en-US" sz="2700" spc="-1" strike="noStrike">
                <a:solidFill>
                  <a:srgbClr val="000000"/>
                </a:solidFill>
                <a:latin typeface="Times New Roman"/>
                <a:ea typeface="Times New Roman"/>
              </a:rPr>
              <a:t> of the shape, size or weight of the particles. The properties based on the number of particles is measured are known as Colligative properties. The properties are vapour pressure depression, freezing point depression, boiling point elevation, and osmotic pressure.</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1"/>
          <p:cNvSpPr/>
          <p:nvPr/>
        </p:nvSpPr>
        <p:spPr>
          <a:xfrm>
            <a:off x="152280" y="380880"/>
            <a:ext cx="8839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Times New Roman"/>
                <a:ea typeface="Times New Roman"/>
              </a:rPr>
              <a:t>Colligative properties:</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Are those properties of solutions that depend on the number of dissolved particles in solution, but not on the identities of the solutes.)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1"/>
          <p:cNvSpPr/>
          <p:nvPr/>
        </p:nvSpPr>
        <p:spPr>
          <a:xfrm>
            <a:off x="228600" y="533520"/>
            <a:ext cx="8534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Times New Roman"/>
                <a:ea typeface="Times New Roman"/>
              </a:rPr>
              <a:t>For example</a:t>
            </a:r>
            <a:r>
              <a:rPr b="0" lang="en-US" sz="3600" spc="-1" strike="noStrike">
                <a:solidFill>
                  <a:srgbClr val="000000"/>
                </a:solidFill>
                <a:latin typeface="Times New Roman"/>
                <a:ea typeface="Times New Roman"/>
              </a:rPr>
              <a:t>, </a:t>
            </a:r>
            <a:r>
              <a:rPr b="0" lang="en-US" sz="3600" spc="-1" strike="noStrike">
                <a:solidFill>
                  <a:srgbClr val="0070c0"/>
                </a:solidFill>
                <a:latin typeface="Times New Roman"/>
                <a:ea typeface="Times New Roman"/>
              </a:rPr>
              <a:t>the freezing point of salt water is </a:t>
            </a:r>
            <a:r>
              <a:rPr b="1" lang="en-US" sz="3600" spc="-1" strike="noStrike" u="sng">
                <a:solidFill>
                  <a:srgbClr val="0070c0"/>
                </a:solidFill>
                <a:uFillTx/>
                <a:latin typeface="Times New Roman"/>
                <a:ea typeface="Times New Roman"/>
              </a:rPr>
              <a:t>lower</a:t>
            </a:r>
            <a:r>
              <a:rPr b="0" lang="en-US" sz="3600" spc="-1" strike="noStrike">
                <a:solidFill>
                  <a:srgbClr val="0070c0"/>
                </a:solidFill>
                <a:latin typeface="Times New Roman"/>
                <a:ea typeface="Times New Roman"/>
              </a:rPr>
              <a:t> than that of pure water, due to the presence of the salt dissolved in the water.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o a good approximation, it does not matter whether the salt dissolved in water is sodium chloride or potassium nitrate; </a:t>
            </a:r>
            <a:r>
              <a:rPr b="0" i="1" lang="en-US" sz="3600" spc="-1" strike="noStrike">
                <a:solidFill>
                  <a:srgbClr val="000000"/>
                </a:solidFill>
                <a:latin typeface="Times New Roman"/>
                <a:ea typeface="Times New Roman"/>
              </a:rPr>
              <a:t>if the molar amounts of solute are the same and the number of ions are the same,</a:t>
            </a:r>
            <a:r>
              <a:rPr b="0" lang="en-US" sz="3600" spc="-1" strike="noStrike">
                <a:solidFill>
                  <a:srgbClr val="000000"/>
                </a:solidFill>
                <a:latin typeface="Times New Roman"/>
                <a:ea typeface="Times New Roman"/>
              </a:rPr>
              <a:t> the freezing points will be the same</a:t>
            </a:r>
            <a:br>
              <a:rPr sz="3600"/>
            </a:br>
            <a:r>
              <a:rPr b="0" lang="en-US" sz="3600" spc="-1" strike="noStrike">
                <a:solidFill>
                  <a:srgbClr val="000000"/>
                </a:solidFill>
                <a:latin typeface="Times New Roman"/>
                <a:ea typeface="Times New Roman"/>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228240" y="1600200"/>
            <a:ext cx="8504280" cy="4572000"/>
          </a:xfrm>
          <a:prstGeom prst="rect">
            <a:avLst/>
          </a:prstGeom>
          <a:noFill/>
          <a:ln w="0">
            <a:noFill/>
          </a:ln>
        </p:spPr>
        <p:txBody>
          <a:bodyPr anchor="t">
            <a:normAutofit/>
          </a:bodyPr>
          <a:p>
            <a:pPr marL="272880" indent="-272880">
              <a:lnSpc>
                <a:spcPct val="100000"/>
              </a:lnSpc>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Osmolality deals with the </a:t>
            </a:r>
            <a:r>
              <a:rPr b="0" lang="en-US" sz="3600" spc="-1" strike="noStrike">
                <a:solidFill>
                  <a:srgbClr val="0070c0"/>
                </a:solidFill>
                <a:latin typeface="Times New Roman"/>
                <a:ea typeface="Times New Roman"/>
              </a:rPr>
              <a:t>concentration</a:t>
            </a:r>
            <a:r>
              <a:rPr b="0" lang="en-US" sz="3600" spc="-1" strike="noStrike">
                <a:solidFill>
                  <a:srgbClr val="000000"/>
                </a:solidFill>
                <a:latin typeface="Times New Roman"/>
                <a:ea typeface="Times New Roman"/>
              </a:rPr>
              <a:t> of the particles that is dissolved in a fluid. In medical science, osmolality is used to determine several conditions like diabetes, dehydration and shock. For the detection of these conditions, the osmolality of the serum is checked, and is known as plasma osmolalit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ea typeface="Times New Roman"/>
              </a:rPr>
              <a:t>Solutes categories</a:t>
            </a:r>
            <a:endParaRPr b="0" lang="en-US" sz="4000" spc="-1" strike="noStrike">
              <a:solidFill>
                <a:srgbClr val="7b9899"/>
              </a:solidFill>
              <a:latin typeface="Georgia"/>
            </a:endParaRPr>
          </a:p>
        </p:txBody>
      </p:sp>
      <p:sp>
        <p:nvSpPr>
          <p:cNvPr id="622" name=""/>
          <p:cNvSpPr txBox="1"/>
          <p:nvPr/>
        </p:nvSpPr>
        <p:spPr>
          <a:xfrm>
            <a:off x="75960" y="1527120"/>
            <a:ext cx="9296280" cy="457200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ea typeface="Times New Roman"/>
              </a:rPr>
              <a:t>Solutes can be divided into three general categories:</a:t>
            </a: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Times New Roman"/>
                <a:ea typeface="Times New Roman"/>
              </a:rPr>
              <a:t> </a:t>
            </a:r>
            <a:r>
              <a:rPr b="0" lang="en-GB" sz="3200" spc="-1" strike="noStrike">
                <a:solidFill>
                  <a:srgbClr val="002060"/>
                </a:solidFill>
                <a:latin typeface="Times New Roman"/>
                <a:ea typeface="Times New Roman"/>
              </a:rPr>
              <a:t>1- Electrolytes.</a:t>
            </a: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Times New Roman"/>
                <a:ea typeface="Times New Roman"/>
              </a:rPr>
              <a:t> </a:t>
            </a:r>
            <a:r>
              <a:rPr b="0" lang="en-GB" sz="3200" spc="-1" strike="noStrike">
                <a:solidFill>
                  <a:srgbClr val="002060"/>
                </a:solidFill>
                <a:latin typeface="Times New Roman"/>
                <a:ea typeface="Times New Roman"/>
              </a:rPr>
              <a:t>2- Organic solutions of small molecular weight (urea, glucose, creatinine ).</a:t>
            </a:r>
            <a:endParaRPr b="0" lang="en-US" sz="3200" spc="-1" strike="noStrike">
              <a:solidFill>
                <a:srgbClr val="000000"/>
              </a:solidFill>
              <a:latin typeface="Georg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Times New Roman"/>
                <a:ea typeface="Times New Roman"/>
              </a:rPr>
              <a:t> </a:t>
            </a:r>
            <a:r>
              <a:rPr b="0" lang="en-GB" sz="3200" spc="-1" strike="noStrike">
                <a:solidFill>
                  <a:srgbClr val="002060"/>
                </a:solidFill>
                <a:latin typeface="Times New Roman"/>
                <a:ea typeface="Times New Roman"/>
              </a:rPr>
              <a:t>3- Colloids (chiefly protein).</a:t>
            </a:r>
            <a:endParaRPr b="0" lang="en-US" sz="3200" spc="-1" strike="noStrike">
              <a:solidFill>
                <a:srgbClr val="000000"/>
              </a:solidFill>
              <a:latin typeface="Georgia"/>
            </a:endParaRPr>
          </a:p>
          <a:p>
            <a:pPr marL="272880" indent="-272880">
              <a:lnSpc>
                <a:spcPct val="10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lnSpc>
                <a:spcPct val="10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4"/>
          <p:cNvSpPr/>
          <p:nvPr/>
        </p:nvSpPr>
        <p:spPr>
          <a:xfrm>
            <a:off x="304920" y="609480"/>
            <a:ext cx="8686800" cy="454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imes New Roman"/>
                <a:ea typeface="Times New Roman"/>
              </a:rPr>
              <a:t>Principle of measurement:</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are 4 measurement that depend on colligative propertie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 Freezing point.</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Vapor pressur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 Osmotic pressur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4- Boiling poi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Content Placeholder 2"/>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presence of a solute lowers the freezing point of a solution relative to that of the pure solvent. For example, pure water freezes at 0°C (32°F); if one dissolves 10 grams of sodium chloride in 100 ml of water, the freezing point goes down to −5.9°C (21.4°F). </a:t>
            </a:r>
            <a:endParaRPr b="0" lang="en-US" sz="3600" spc="-1" strike="noStrike">
              <a:solidFill>
                <a:srgbClr val="000000"/>
              </a:solidFill>
              <a:latin typeface="Calibri"/>
            </a:endParaRPr>
          </a:p>
        </p:txBody>
      </p:sp>
      <p:sp>
        <p:nvSpPr>
          <p:cNvPr id="625" name="Rectangle 2"/>
          <p:cNvSpPr/>
          <p:nvPr/>
        </p:nvSpPr>
        <p:spPr>
          <a:xfrm>
            <a:off x="158760" y="152280"/>
            <a:ext cx="6781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Freezing Point Depr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Iman</dc:creator>
  <dc:description/>
  <dc:language>en-US</dc:language>
  <cp:lastModifiedBy>USER</cp:lastModifiedBy>
  <dcterms:modified xsi:type="dcterms:W3CDTF">2012-10-13T08:58:37Z</dcterms:modified>
  <cp:revision>31</cp:revision>
  <dc:subject/>
  <dc:title>Cls 332 lab no.4</dc:title>
</cp:coreProperties>
</file>