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9C7-CB1A-46A7-9761-5DD18363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C2B-F890-4333-BDDD-612A7790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712-36F5-4CDA-8E95-ABF9942E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ABD-3CB8-4F04-AB8C-67A86784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8D4-6728-400A-9D1F-A77C7C0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747-C4FB-4849-8590-9A4B3226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DFA-92DA-4714-8AEC-D10CE117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DF7-91ED-42D9-97C7-BBF2E697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F1B-5471-40DD-AFE2-AB4CBBAF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720-8149-46F8-8F8A-CE8868B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70C-37EC-4154-A94D-75E8CDA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148-28D6-483E-B13C-7EFC950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ll,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487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pared by Marcia Zeng for Metadata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492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C97A-7315-4478-ADBB-05B19D8CA9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1. Preparing for the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1. Open a Web broswer (suggesting using Internet Explorer or Firefox, not Safari).  Go to VRA Core site (Google "VRA Core 4 examples" or directly go to: http://www.vraweb.org/projects/vracore4/ ). Find  'Cataloging Examp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2. Select Category of "Paintings".  Choose "Landscape Painting", it should b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umn – On the Hudson R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e direct link is: http://www.vraweb.org/projects/vracore4/example026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top right corner there is a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.  Click on the xml file and save into your desktop or jump drive.  (We will read it from Oxygen later. In other cases, you can always read it using a text editor such as TextEdit (Mac) and Notepad (PC)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3  Google "VRA Core schemas" or directly go to the official VRA Core site http://www.loc.gov/standards/vracore/schemas.html, download (save) two schemas of VRA Core to your own disk. Make sure the file saved with a file extension *.xsd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restricted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pecifies the basic structure of the schem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oc.gov/standards/vracore/vra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tricted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extends the unrestricted schema by adding controlled type lists and date forma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oc.gov/standards/vracore/vra-strict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675800" y="22320"/>
            <a:ext cx="4969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xygen XML Ed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are on SLIS Computer Lab's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7696080" y="62485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62C9-4217-47A0-97D5-B4909672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145440" y="1371600"/>
            <a:ext cx="89575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get a 30 day free-trail version for your computer, go to http://www.oxygenxml.com/regis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a new VRA record' xml file.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new file, clic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list is offered of different file types.  The default is XML, so click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1135080" y="1600200"/>
          <a:ext cx="6872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600200"/>
                    <a:ext cx="6872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Oval 8"/>
          <p:cNvSpPr/>
          <p:nvPr/>
        </p:nvSpPr>
        <p:spPr>
          <a:xfrm>
            <a:off x="380880" y="1676520"/>
            <a:ext cx="38124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8380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67280" y="3200400"/>
            <a:ext cx="3812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0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0D1E-9593-449E-9F08-AE7CB246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3933720" y="380880"/>
            <a:ext cx="5210280" cy="5051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152280" y="304920"/>
            <a:ext cx="3048120" cy="50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ew window will pop-up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URL you can point to the VRA Core 4.0 'restricted' schema xsd f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amespace will automatically be filled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ve the prefix empty for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very important to choos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ot El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ly.  In VRA Core 4.0, it is 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.  (In CDWA Lite, the Root Element is '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wal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.)  These could be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fi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 well.  But for this assignment, we will not be using a prefix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very important to check the box '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d Optional cont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 so all elements (not just the required ones) will show up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505320" y="144792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505320" y="1828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505320" y="236232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505320" y="449568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14E-37DC-47B1-8266-90E77F72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228600" y="228600"/>
            <a:ext cx="86104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3 Work on the XML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r file for use in the fu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From the left-lower box, you will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ork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imag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ck the type that you will NOT need to use (e.g.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re) and DELETE them so that only the elements fo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o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stay in the central work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lements at each level can be seen from the Outline pane at the left lower b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 for this version of software, when you just keep WORK type, the XML record will include both a work and an image. You can either put your two records here together, or separate them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1905120" y="2355840"/>
          <a:ext cx="701028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55840"/>
                    <a:ext cx="70102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11"/>
          <p:cNvSpPr/>
          <p:nvPr/>
        </p:nvSpPr>
        <p:spPr>
          <a:xfrm>
            <a:off x="1523880" y="6172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2533-8160-496F-8929-68B1A140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ave the file after you did edi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Add this file into you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 if your file is in a different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pro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fi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mouse-cli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ubmit your xml file on Black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Print:  If you like to keep a copy, you may directly print the record from SLIS 310A printer. Or, open the file from your text editor and pr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4648320" y="1600200"/>
          <a:ext cx="403848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Oval 9"/>
          <p:cNvSpPr/>
          <p:nvPr/>
        </p:nvSpPr>
        <p:spPr>
          <a:xfrm>
            <a:off x="5105520" y="4267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20280" y="609480"/>
            <a:ext cx="37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t.) 3-3 Work on the XML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9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FD4-CF95-482C-900B-8497FA203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56" name="Oval 5"/>
          <p:cNvSpPr/>
          <p:nvPr/>
        </p:nvSpPr>
        <p:spPr>
          <a:xfrm>
            <a:off x="1447920" y="33526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09480" y="2133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5257800" y="4191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Additional notes] Part 5. Using Tree-editor --- a Non-XML way to edit a rec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ol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Tree Editor</a:t>
            </a:r>
            <a:br>
              <a:rPr sz="1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. Click on the tag (e.g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gent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hat you want to add sub-ordinate element, (e.g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g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2. Choos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Ele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icon or menu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available elements or sub-elem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3. Obtain an element tag from the lower-right box, give the position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fter, first, l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ouble clic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4. =2. Choos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Ele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icon or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9144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685800" y="1523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600200" y="14479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10666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5943600" y="594360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3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F2B0-ADD5-471F-82A4-972E62B8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7315200" y="1066680"/>
            <a:ext cx="1523880" cy="1067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are not confortable with XML, you can try the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5"/>
          <p:cNvSpPr/>
          <p:nvPr/>
        </p:nvSpPr>
        <p:spPr>
          <a:xfrm>
            <a:off x="304920" y="1828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80880" y="228600"/>
            <a:ext cx="8458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Click on an element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choos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attribut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icon or m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Select the attribute you need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click to insert it under the elemen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g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Choos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Edi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con in order to add an attribut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The attribute will be filled in by you.  Find the available attributes on the upper-right b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838080" y="21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838080" y="1600200"/>
          <a:ext cx="7620120" cy="49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201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Line 9"/>
          <p:cNvSpPr/>
          <p:nvPr/>
        </p:nvSpPr>
        <p:spPr>
          <a:xfrm>
            <a:off x="685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1447920" y="17524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04920" y="289548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68580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1828800" y="54864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1600200" y="51814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304920" y="426708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858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724280" y="36576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502920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0292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8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6310-7A19-4665-9BCB-97AF453D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3657600" y="533520"/>
          <a:ext cx="4668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33520"/>
                    <a:ext cx="4668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5"/>
          <p:cNvSpPr/>
          <p:nvPr/>
        </p:nvSpPr>
        <p:spPr>
          <a:xfrm>
            <a:off x="457200" y="685800"/>
            <a:ext cx="28954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order to type a real personal name into the record, click on the element tag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ck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con to obtain a text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w you can type the text into the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809880" y="51814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2971800" y="24382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4191120" y="5562720"/>
            <a:ext cx="3808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1148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34290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0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0ADF-9DE0-4EA0-8876-5809865B4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dditional Notes] Part 6. Grid view of the reco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witch t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vie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2. Click the sign to open up th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315200" cy="480060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1981080" y="5029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2860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380988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85800" y="586728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also use this interface to edit.  For example, right-mouse-click on an element to insert before or after an element, or to append sub-elements, attributes, etc.  You will need to have a clear idea what you want to add and what attributes values are avail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2DD-6B2D-4F83-8BBA-6B61E7FB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2. Reading a VRA XML re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1.  Starting th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Progra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xygen XML Edit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xygen XML Edit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a while for the software to sta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You Know?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creen is bla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7543" t="15608" r="30630" b="17327"/>
          <a:stretch/>
        </p:blipFill>
        <p:spPr>
          <a:xfrm>
            <a:off x="3581280" y="1685880"/>
            <a:ext cx="5067360" cy="41180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DCF-E47F-4B3B-A4E1-2CDEB86F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172200" cy="478152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1371600" y="198108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1676520" y="1828800"/>
            <a:ext cx="3045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1371600" y="449568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6781680" y="44197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2362320" y="3200040"/>
            <a:ext cx="15238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80880" y="152280"/>
            <a:ext cx="8534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2. Element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Choo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open up the XML record example you downloade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Now you can see the XML record in the center part of the scre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. Click on the hierarchy icon to view elements displayed hierarch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28600" y="4800600"/>
            <a:ext cx="15238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Outline view of the recor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rapper      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elemen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sub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924680" y="4495680"/>
            <a:ext cx="106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this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80880" y="6248520"/>
            <a:ext cx="8458200" cy="33732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sub-elements are available for &lt;agent&gt;? (Click on &lt;agent&gt; tag, see in box  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7924680" y="632448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9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532-588B-4D61-ADDA-B52B2F58A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nut 1"/>
          <p:cNvSpPr/>
          <p:nvPr/>
        </p:nvSpPr>
        <p:spPr>
          <a:xfrm>
            <a:off x="6019920" y="2057400"/>
            <a:ext cx="304560" cy="457200"/>
          </a:xfrm>
          <a:custGeom>
            <a:avLst/>
            <a:gdLst/>
            <a:ahLst/>
            <a:rect l="l" t="t" r="r" b="b"/>
            <a:pathLst>
              <a:path w="304800" h="457200">
                <a:moveTo>
                  <a:pt x="0" y="228600"/>
                </a:moveTo>
                <a:cubicBezTo>
                  <a:pt x="0" y="102348"/>
                  <a:pt x="68232" y="0"/>
                  <a:pt x="152400" y="0"/>
                </a:cubicBezTo>
                <a:cubicBezTo>
                  <a:pt x="236568" y="0"/>
                  <a:pt x="304800" y="102348"/>
                  <a:pt x="304800" y="228600"/>
                </a:cubicBezTo>
                <a:cubicBezTo>
                  <a:pt x="304800" y="354852"/>
                  <a:pt x="236568" y="457200"/>
                  <a:pt x="152400" y="457200"/>
                </a:cubicBezTo>
                <a:cubicBezTo>
                  <a:pt x="68232" y="457200"/>
                  <a:pt x="0" y="354852"/>
                  <a:pt x="0" y="228600"/>
                </a:cubicBezTo>
                <a:close/>
                <a:moveTo>
                  <a:pt x="9327" y="228600"/>
                </a:moveTo>
                <a:cubicBezTo>
                  <a:pt x="9327" y="349701"/>
                  <a:pt x="73383" y="447873"/>
                  <a:pt x="152400" y="447873"/>
                </a:cubicBezTo>
                <a:cubicBezTo>
                  <a:pt x="231417" y="447873"/>
                  <a:pt x="295473" y="349701"/>
                  <a:pt x="295473" y="228600"/>
                </a:cubicBezTo>
                <a:cubicBezTo>
                  <a:pt x="295473" y="107499"/>
                  <a:pt x="231417" y="9327"/>
                  <a:pt x="152400" y="9327"/>
                </a:cubicBezTo>
                <a:cubicBezTo>
                  <a:pt x="73383" y="9327"/>
                  <a:pt x="9327" y="107499"/>
                  <a:pt x="9327" y="228600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971800" y="1447920"/>
            <a:ext cx="2971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20"/>
          <p:cNvCxnSpPr/>
          <p:nvPr/>
        </p:nvCxnSpPr>
        <p:spPr>
          <a:xfrm flipH="1" flipV="1">
            <a:off x="7086240" y="4572000"/>
            <a:ext cx="915120" cy="76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Donut 23"/>
          <p:cNvSpPr/>
          <p:nvPr/>
        </p:nvSpPr>
        <p:spPr>
          <a:xfrm>
            <a:off x="6324480" y="58672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228600"/>
                </a:moveTo>
                <a:cubicBezTo>
                  <a:pt x="0" y="102348"/>
                  <a:pt x="102348" y="0"/>
                  <a:pt x="228600" y="0"/>
                </a:cubicBezTo>
                <a:cubicBezTo>
                  <a:pt x="354852" y="0"/>
                  <a:pt x="457200" y="102348"/>
                  <a:pt x="457200" y="228600"/>
                </a:cubicBezTo>
                <a:cubicBezTo>
                  <a:pt x="457200" y="354852"/>
                  <a:pt x="354852" y="457200"/>
                  <a:pt x="228600" y="457200"/>
                </a:cubicBezTo>
                <a:cubicBezTo>
                  <a:pt x="102348" y="457200"/>
                  <a:pt x="0" y="354852"/>
                  <a:pt x="0" y="228600"/>
                </a:cubicBezTo>
                <a:close/>
                <a:moveTo>
                  <a:pt x="13990" y="228600"/>
                </a:moveTo>
                <a:cubicBezTo>
                  <a:pt x="13990" y="347126"/>
                  <a:pt x="110074" y="443210"/>
                  <a:pt x="228600" y="443210"/>
                </a:cubicBezTo>
                <a:cubicBezTo>
                  <a:pt x="347126" y="443210"/>
                  <a:pt x="443210" y="347126"/>
                  <a:pt x="443210" y="228600"/>
                </a:cubicBezTo>
                <a:cubicBezTo>
                  <a:pt x="443210" y="110074"/>
                  <a:pt x="347126" y="13990"/>
                  <a:pt x="228600" y="13990"/>
                </a:cubicBezTo>
                <a:cubicBezTo>
                  <a:pt x="110074" y="13990"/>
                  <a:pt x="13990" y="110074"/>
                  <a:pt x="13990" y="228600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0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5077080"/>
          </a:xfrm>
          <a:prstGeom prst="rect">
            <a:avLst/>
          </a:prstGeom>
          <a:ln w="0">
            <a:noFill/>
          </a:ln>
        </p:spPr>
      </p:pic>
      <p:sp>
        <p:nvSpPr>
          <p:cNvPr id="71" name="Oval 7"/>
          <p:cNvSpPr/>
          <p:nvPr/>
        </p:nvSpPr>
        <p:spPr>
          <a:xfrm>
            <a:off x="6705720" y="251460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848720" y="2438280"/>
            <a:ext cx="1066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ailable for an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838080" y="1066680"/>
            <a:ext cx="8077320" cy="70776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attributes are available for &lt;agent &gt;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attributes have been used fo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is agent?  And fo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3049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80880" y="22860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3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hen clicking on an element, the attributes that are available for it will show on the upper right box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F6BA-CCEC-4B8F-A3CF-C9B1D6869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8"/>
          <p:cNvCxnSpPr/>
          <p:nvPr/>
        </p:nvCxnSpPr>
        <p:spPr>
          <a:xfrm flipH="1">
            <a:off x="7162560" y="2666880"/>
            <a:ext cx="9151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t.) 2-3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other way to find out attribut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ide a ta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 a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a list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op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icking on an attribute, you may see the explanations of the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8686800" cy="2579400"/>
          </a:xfrm>
          <a:prstGeom prst="rect">
            <a:avLst/>
          </a:prstGeom>
          <a:ln w="0">
            <a:noFill/>
          </a:ln>
        </p:spPr>
      </p:pic>
      <p:sp>
        <p:nvSpPr>
          <p:cNvPr id="80" name="Oval 5"/>
          <p:cNvSpPr/>
          <p:nvPr/>
        </p:nvSpPr>
        <p:spPr>
          <a:xfrm>
            <a:off x="5029200" y="1905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809880" y="3657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920" y="1523880"/>
            <a:ext cx="8458200" cy="368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What attributes are available for &lt;name &gt;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0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927-2017-4A77-A4BF-9DB026FB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"/>
          <p:cNvCxnSpPr/>
          <p:nvPr/>
        </p:nvCxnSpPr>
        <p:spPr>
          <a:xfrm flipH="1">
            <a:off x="4114440" y="2057400"/>
            <a:ext cx="915120" cy="381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TextBox 8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609480" y="2612880"/>
          <a:ext cx="746784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12880"/>
                    <a:ext cx="746784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3. Editing an XM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1 Add a new element &lt;agent&gt; and its sub-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"&lt;agent&gt;" after the last set of agent, right below the closing tag"&lt;/agent&gt;"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 new line below &lt;agent&gt; tag in order to add subelements. (Hit a return key between  &lt;agent&gt;&lt;/agent&gt; pair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sub-elements under &lt;agent&gt; by  typing "&lt;name&gt;"; or double click on th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ubelement from the lower-right box to get it onto the rec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other subelements: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recor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 required: For &lt;dates&gt;, it also two sub-subelements.  You can insert them in the &lt;dates&gt;&lt;/dates&gt; se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3809880" y="51055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4572000" y="51055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6934320" y="53341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533376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7160-EC35-4E8E-BC6D-5F91DE5A8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5 Attrib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try your own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ide the &lt;name&gt; tag, before "&gt;", type a space af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get the list of the attribu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tribute. its allowable values will show on the screen like a pop-up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n there is already a list of restricted values, the values will show on the screen like a pop-up list.  If no pre-defined values, there will be no lis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  For #2, this can also be done by clicking on the attribute name on the upper- right box of the scre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457200" y="2362320"/>
            <a:ext cx="8381520" cy="3428640"/>
            <a:chOff x="457200" y="2362320"/>
            <a:chExt cx="8381520" cy="342864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838152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val 5"/>
            <p:cNvSpPr/>
            <p:nvPr/>
          </p:nvSpPr>
          <p:spPr>
            <a:xfrm>
              <a:off x="6044760" y="5177880"/>
              <a:ext cx="314640" cy="27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"/>
            <p:cNvSpPr/>
            <p:nvPr/>
          </p:nvSpPr>
          <p:spPr>
            <a:xfrm>
              <a:off x="4943160" y="4542120"/>
              <a:ext cx="314640" cy="27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7619040" y="3906360"/>
              <a:ext cx="314280" cy="27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9"/>
          <p:cNvSpPr/>
          <p:nvPr/>
        </p:nvSpPr>
        <p:spPr>
          <a:xfrm>
            <a:off x="304920" y="5867280"/>
            <a:ext cx="8458200" cy="70776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s are listed for &lt;name &gt;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s are listed for &lt;dat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3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4AF-199C-4C60-BF6E-12BACF1C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3 Values – use controlle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ers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ame, dates, ro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example provided by the record. Add a pers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ame, dates, rol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practice, make any name and dates you like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'role', go to AAT to find the ter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n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ee if the reference id is the s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t and Architecture Thesaurus.  At AAT site, searc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n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quotation marks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n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nters (artists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pen the record to see the concept ID          and all other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person's refid, back to AAT and switch to ULAN -&gt; Union List of Artist Nam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arch Jasper Francis Cropse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iew record and find out the I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838080" y="3352680"/>
          <a:ext cx="632484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632484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Oval 6"/>
          <p:cNvSpPr/>
          <p:nvPr/>
        </p:nvSpPr>
        <p:spPr>
          <a:xfrm>
            <a:off x="3048120" y="5410080"/>
            <a:ext cx="11430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6172200" y="5638680"/>
            <a:ext cx="9144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886200" y="464832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2438280" y="3505320"/>
            <a:ext cx="4572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219320" y="3124080"/>
            <a:ext cx="64767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Heptagon 12"/>
          <p:cNvSpPr/>
          <p:nvPr/>
        </p:nvSpPr>
        <p:spPr>
          <a:xfrm>
            <a:off x="3657600" y="2286000"/>
            <a:ext cx="38088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Heptagon 13"/>
          <p:cNvSpPr/>
          <p:nvPr/>
        </p:nvSpPr>
        <p:spPr>
          <a:xfrm>
            <a:off x="5410080" y="5486400"/>
            <a:ext cx="38124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eptagon 14"/>
          <p:cNvSpPr/>
          <p:nvPr/>
        </p:nvSpPr>
        <p:spPr>
          <a:xfrm>
            <a:off x="8229600" y="2666880"/>
            <a:ext cx="38088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ptagon 15"/>
          <p:cNvSpPr/>
          <p:nvPr/>
        </p:nvSpPr>
        <p:spPr>
          <a:xfrm>
            <a:off x="6781680" y="3962520"/>
            <a:ext cx="38124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7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D0B-1978-4DA4-A8A7-B3DFD8BCF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704160" y="6324480"/>
            <a:ext cx="4392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 the revised record with another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4. Doing your own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1 Create a 'project'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 the tool bar for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It is like to create a folder for your project.  Your xsd, xml, and other files for the same project can be stored under this projec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3962520" y="2590920"/>
          <a:ext cx="457200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590920"/>
                    <a:ext cx="45720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457200" y="419112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Right-mouse click on "newProject.xpr"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d Fi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ra-4.0-restricted.xs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 you downloaded from VRA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4343400" y="4267080"/>
          <a:ext cx="198108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267080"/>
                    <a:ext cx="19810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Oval 9"/>
          <p:cNvSpPr/>
          <p:nvPr/>
        </p:nvSpPr>
        <p:spPr>
          <a:xfrm>
            <a:off x="4800600" y="2514600"/>
            <a:ext cx="3808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49568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3520" y="624852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ave 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ive a name to the project and save into a place you w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A8C0-F669-41B4-A58B-296AD7A9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35:26Z</dcterms:created>
  <dc:creator>End User Support Services</dc:creator>
  <dc:description/>
  <dc:language>en-US</dc:language>
  <cp:lastModifiedBy>ZENG, MARCIA</cp:lastModifiedBy>
  <cp:lastPrinted>2013-08-16T15:44:44Z</cp:lastPrinted>
  <dcterms:modified xsi:type="dcterms:W3CDTF">2014-04-12T03:20:13Z</dcterms:modified>
  <cp:revision>34</cp:revision>
  <dc:subject/>
  <dc:title>Part 1. Prepare for the exercise</dc:title>
</cp:coreProperties>
</file>