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54838" cy="9240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41AE-12AC-4418-A601-68414649A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8BEB-B017-465A-83D4-1BF4D31D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BFFA-5067-4A3E-B1B8-DA817C627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3931-BD17-482B-9075-FDE85CCD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ADE2-CDC0-44DC-BEE8-58714B942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C73F-6C1C-4737-A7DF-C740EB7A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4993-DF7B-44CA-A6BC-82783FCC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8D57-A2D2-462A-91DB-30E99563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F45-D018-498C-B520-03DDDE0A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052-1622-4A73-898B-298F2A6D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7A4F-9C30-4950-AAA3-1FA0CF00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B8C-2F96-4A24-BC30-B648A66AF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all, 201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4920"/>
            <a:ext cx="4876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epared by Marcia Zeng for Metadata 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543440" y="6244920"/>
            <a:ext cx="1143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1B8C-8B1C-4AAF-87A1-D55439F636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 1. Preparing for the exer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1. Open a Web broswer (suggesting using Internet Explorer or Firefox, not Safari).  Go to VRA Core site (Google "VRA Core 4 examples" or directly go to: http://www.vraweb.org/projects/vracore4/ ). Find  'Cataloging Exampl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2. Select Category of "Paintings".  Choose "Landscape Painting", it should be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umn – On the Hudson Riv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he direct link is: http://www.vraweb.org/projects/vracore4/example026.htm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the top right corner there is a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utton.  Click on the xml file and save into your desktop or jump drive.  (We will read it from Oxygen later. In other cases, you can always read it using a text editor such as TextEdit (Mac) and Notepad (PC)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-3  Google "VRA Core schemas" or directly go to the official VRA Core site http://www.loc.gov/standards/vracore/schemas.html, download (save) two schemas of VRA Core to your own disk. Make sure the file saved with a file extension *.xsd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nrestricted Ver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specifies the basic structure of the schem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oc.gov/standards/vracore/vra.x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stricted Vers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extends the unrestricted schema by adding controlled type lists and date forma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oc.gov/standards/vracore/vra-strict.xs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1675800" y="22320"/>
            <a:ext cx="4969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Oxygen XML Edi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ftware are on SLIS Computer Lab's comp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8"/>
          <p:cNvSpPr/>
          <p:nvPr/>
        </p:nvSpPr>
        <p:spPr>
          <a:xfrm>
            <a:off x="7696080" y="624852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31A2-BA86-4C82-AC56-E7BD3E252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145440" y="1371600"/>
            <a:ext cx="895752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get a 30 day free-trail version for your computer, go to http://www.oxygenxml.com/register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rt a new VRA record' xml file.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reate a new file, click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list is offered of different file types.  The default is XML, so click 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2"/>
          <p:cNvGraphicFramePr/>
          <p:nvPr/>
        </p:nvGraphicFramePr>
        <p:xfrm>
          <a:off x="1135080" y="1600200"/>
          <a:ext cx="68724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5080" y="1600200"/>
                    <a:ext cx="6872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Oval 8"/>
          <p:cNvSpPr/>
          <p:nvPr/>
        </p:nvSpPr>
        <p:spPr>
          <a:xfrm>
            <a:off x="380880" y="1676520"/>
            <a:ext cx="38124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83808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"/>
          <p:cNvSpPr/>
          <p:nvPr/>
        </p:nvSpPr>
        <p:spPr>
          <a:xfrm>
            <a:off x="5867280" y="3200400"/>
            <a:ext cx="38124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10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DEF8-8221-42E3-8FA6-012B59467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3933720" y="380880"/>
            <a:ext cx="5210280" cy="50515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152280" y="304920"/>
            <a:ext cx="3048120" cy="50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ew window will pop-up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the URL you can point to the VRA Core 4.0 'restricted' schema xsd fi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amespace will automatically be filled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ve the prefix empty for n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very important to choose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Root Eleme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ctly.  In VRA Core 4.0, it is '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r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'.  (In CDWA Lite, the Root Element is '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dwal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'.)  These could be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efi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s well.  But for this assignment, we will not be using a prefix n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 is also very important to check the box '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dd Optional conten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' so all elements (not just the required ones) will show up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505320" y="1447920"/>
            <a:ext cx="3045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9"/>
          <p:cNvSpPr/>
          <p:nvPr/>
        </p:nvSpPr>
        <p:spPr>
          <a:xfrm>
            <a:off x="3505320" y="1828800"/>
            <a:ext cx="3045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0"/>
          <p:cNvSpPr/>
          <p:nvPr/>
        </p:nvSpPr>
        <p:spPr>
          <a:xfrm>
            <a:off x="3505320" y="2362320"/>
            <a:ext cx="3045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1"/>
          <p:cNvSpPr/>
          <p:nvPr/>
        </p:nvSpPr>
        <p:spPr>
          <a:xfrm>
            <a:off x="3505320" y="4495680"/>
            <a:ext cx="3045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11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9CEA-68DA-46CD-B408-3B6836108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228600" y="228600"/>
            <a:ext cx="8610480" cy="23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3 Work on the XML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a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our file for use in the fu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From the left-lower box, you will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ll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ork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image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ck the type that you will NOT need to use (e.g.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ll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im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here) and DELETE them so that only the elements for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or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ll stay in the central workspac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elements at each level can be seen from the Outline pane at the left lower box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ote for this version of software, when you just keep WORK type, the XML record will include both a work and an image. You can either put your two records here together, or separate them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2"/>
          <p:cNvGraphicFramePr/>
          <p:nvPr/>
        </p:nvGraphicFramePr>
        <p:xfrm>
          <a:off x="1905120" y="2355840"/>
          <a:ext cx="701028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355840"/>
                    <a:ext cx="701028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Oval 11"/>
          <p:cNvSpPr/>
          <p:nvPr/>
        </p:nvSpPr>
        <p:spPr>
          <a:xfrm>
            <a:off x="1523880" y="61722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8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4F06-1055-4D3D-AE92-9F5C91D5F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Save the file after you did edit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Add this file into you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ace if your file is in a different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pro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fil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ght-mouse-click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d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Submit your xml file on Blackbo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Print:  If you like to keep a copy, you may directly print the record from SLIS 310A printer. Or, open the file from your text editor and pr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4648320" y="1600200"/>
          <a:ext cx="4038480" cy="40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0200"/>
                    <a:ext cx="403848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Oval 9"/>
          <p:cNvSpPr/>
          <p:nvPr/>
        </p:nvSpPr>
        <p:spPr>
          <a:xfrm>
            <a:off x="5105520" y="426708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620280" y="609480"/>
            <a:ext cx="37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nt.) 3-3 Work on the XML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9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0DBE-A134-48CE-A902-F339DEDC1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56" name="Oval 5"/>
          <p:cNvSpPr/>
          <p:nvPr/>
        </p:nvSpPr>
        <p:spPr>
          <a:xfrm>
            <a:off x="1447920" y="3352680"/>
            <a:ext cx="30456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7"/>
          <p:cNvSpPr/>
          <p:nvPr/>
        </p:nvSpPr>
        <p:spPr>
          <a:xfrm>
            <a:off x="609480" y="21337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8"/>
          <p:cNvSpPr/>
          <p:nvPr/>
        </p:nvSpPr>
        <p:spPr>
          <a:xfrm>
            <a:off x="5257800" y="41911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29528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Additional notes] Part 5. Using Tree-editor --- a Non-XML way to edit a rec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ols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Tree Editor</a:t>
            </a:r>
            <a:br>
              <a:rPr sz="14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 A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. Click on the tag (e.g.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gentS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 that you want to add sub-ordinate element, (e.g.,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g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2. Choos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Ele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icon or menu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get the available elements or sub-elements.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tion 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3. Obtain an element tag from the lower-right box, give the position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fter, first, la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, double click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4. =2. Choos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rt Elemen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icon or men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91440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12"/>
          <p:cNvSpPr/>
          <p:nvPr/>
        </p:nvSpPr>
        <p:spPr>
          <a:xfrm>
            <a:off x="685800" y="152388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3"/>
          <p:cNvSpPr/>
          <p:nvPr/>
        </p:nvSpPr>
        <p:spPr>
          <a:xfrm>
            <a:off x="1600200" y="1447920"/>
            <a:ext cx="38088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>
            <a:off x="1066680" y="1676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6"/>
          <p:cNvSpPr/>
          <p:nvPr/>
        </p:nvSpPr>
        <p:spPr>
          <a:xfrm>
            <a:off x="5943600" y="5943600"/>
            <a:ext cx="1676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13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8268-658C-4AB3-B093-CEA14B6AF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"/>
          <p:cNvSpPr/>
          <p:nvPr/>
        </p:nvSpPr>
        <p:spPr>
          <a:xfrm>
            <a:off x="7315200" y="1066680"/>
            <a:ext cx="1523880" cy="10674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you are not confortable with XML, you can try the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Oval 5"/>
          <p:cNvSpPr/>
          <p:nvPr/>
        </p:nvSpPr>
        <p:spPr>
          <a:xfrm>
            <a:off x="304920" y="1828800"/>
            <a:ext cx="3045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380880" y="228600"/>
            <a:ext cx="845820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Click on an element (e.g.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choose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ert attribut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rom the icon or men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. Select the attribute you need (e.g.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and click to insert it under the element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ag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. Choose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Edit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con in order to add an attribut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. The attribute will be filled in by you.  Find the available attributes on the upper-right box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7"/>
          <p:cNvSpPr/>
          <p:nvPr/>
        </p:nvSpPr>
        <p:spPr>
          <a:xfrm>
            <a:off x="838080" y="21337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2"/>
          <p:cNvGraphicFramePr/>
          <p:nvPr/>
        </p:nvGraphicFramePr>
        <p:xfrm>
          <a:off x="838080" y="1600200"/>
          <a:ext cx="7620120" cy="49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62012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Line 9"/>
          <p:cNvSpPr/>
          <p:nvPr/>
        </p:nvSpPr>
        <p:spPr>
          <a:xfrm>
            <a:off x="6858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1447920" y="1752480"/>
            <a:ext cx="4572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04920" y="2895480"/>
            <a:ext cx="3045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>
            <a:off x="685800" y="1981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4"/>
          <p:cNvSpPr/>
          <p:nvPr/>
        </p:nvSpPr>
        <p:spPr>
          <a:xfrm>
            <a:off x="1828800" y="548640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5"/>
          <p:cNvSpPr/>
          <p:nvPr/>
        </p:nvSpPr>
        <p:spPr>
          <a:xfrm>
            <a:off x="1600200" y="518148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6"/>
          <p:cNvSpPr/>
          <p:nvPr/>
        </p:nvSpPr>
        <p:spPr>
          <a:xfrm>
            <a:off x="304920" y="4267080"/>
            <a:ext cx="3045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7"/>
          <p:cNvSpPr/>
          <p:nvPr/>
        </p:nvSpPr>
        <p:spPr>
          <a:xfrm>
            <a:off x="685800" y="4419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724280" y="365760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0"/>
          <p:cNvSpPr/>
          <p:nvPr/>
        </p:nvSpPr>
        <p:spPr>
          <a:xfrm>
            <a:off x="5029200" y="380988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502920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18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61FE-BE36-4B87-80D5-E8CD17AF7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2"/>
          <p:cNvGraphicFramePr/>
          <p:nvPr/>
        </p:nvGraphicFramePr>
        <p:xfrm>
          <a:off x="3657600" y="533520"/>
          <a:ext cx="466884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533520"/>
                    <a:ext cx="466884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5"/>
          <p:cNvSpPr/>
          <p:nvPr/>
        </p:nvSpPr>
        <p:spPr>
          <a:xfrm>
            <a:off x="457200" y="685800"/>
            <a:ext cx="289548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 order to type a real personal name into the record, click on the element tag (e.g.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ick o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icon to obtain a text bo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Now you can type the text into the bo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3809880" y="518148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7"/>
          <p:cNvSpPr/>
          <p:nvPr/>
        </p:nvSpPr>
        <p:spPr>
          <a:xfrm>
            <a:off x="2971800" y="243828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8"/>
          <p:cNvSpPr/>
          <p:nvPr/>
        </p:nvSpPr>
        <p:spPr>
          <a:xfrm>
            <a:off x="4191120" y="5562720"/>
            <a:ext cx="3808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>
            <a:off x="41148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>
            <a:off x="342900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10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CB746-916F-4244-BB0F-79138B2D2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Additional Notes] Part 6. Grid view of the recor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witch to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d view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2. Click the sign to open up the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315200" cy="480060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1981080" y="50292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2286000" y="510552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3809880" y="3124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685800" y="5867280"/>
            <a:ext cx="7467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can also use this interface to edit.  For example, right-mouse-click on an element to insert before or after an element, or to append sub-elements, attributes, etc.  You will need to have a clear idea what you want to add and what attributes values are availab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11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DB8C-6DD9-4649-AA7E-103D8E529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t 2. Reading a VRA XML rec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-1.  Starting the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l Program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xygen XML Editor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xygen XML Edito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take a while for the software to star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the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 You Know?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x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screen is blan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rcRect l="7543" t="15608" r="30630" b="17327"/>
          <a:stretch/>
        </p:blipFill>
        <p:spPr>
          <a:xfrm>
            <a:off x="3581280" y="1685880"/>
            <a:ext cx="5067360" cy="4118040"/>
          </a:xfrm>
          <a:prstGeom prst="rect">
            <a:avLst/>
          </a:prstGeom>
          <a:ln w="0">
            <a:noFill/>
          </a:ln>
        </p:spPr>
      </p:pic>
      <p:sp>
        <p:nvSpPr>
          <p:cNvPr id="49" name="Slide Number Placeholder 8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F15C-C9D7-43D1-BC6B-14527E0A3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7988400" y="0"/>
            <a:ext cx="11430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9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172200" cy="4781520"/>
          </a:xfrm>
          <a:prstGeom prst="rect">
            <a:avLst/>
          </a:prstGeom>
          <a:ln w="0">
            <a:noFill/>
          </a:ln>
        </p:spPr>
      </p:pic>
      <p:sp>
        <p:nvSpPr>
          <p:cNvPr id="52" name="Oval 5"/>
          <p:cNvSpPr/>
          <p:nvPr/>
        </p:nvSpPr>
        <p:spPr>
          <a:xfrm>
            <a:off x="1371600" y="1981080"/>
            <a:ext cx="228600" cy="228600"/>
          </a:xfrm>
          <a:prstGeom prst="ellipse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1676520" y="1828800"/>
            <a:ext cx="3045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7"/>
          <p:cNvSpPr/>
          <p:nvPr/>
        </p:nvSpPr>
        <p:spPr>
          <a:xfrm>
            <a:off x="4343400" y="2514600"/>
            <a:ext cx="228600" cy="228600"/>
          </a:xfrm>
          <a:prstGeom prst="ellipse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8"/>
          <p:cNvSpPr/>
          <p:nvPr/>
        </p:nvSpPr>
        <p:spPr>
          <a:xfrm>
            <a:off x="1371600" y="4495680"/>
            <a:ext cx="228600" cy="228600"/>
          </a:xfrm>
          <a:prstGeom prst="ellipse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0"/>
          <p:cNvSpPr/>
          <p:nvPr/>
        </p:nvSpPr>
        <p:spPr>
          <a:xfrm>
            <a:off x="6781680" y="4419720"/>
            <a:ext cx="228600" cy="228600"/>
          </a:xfrm>
          <a:prstGeom prst="ellipse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 flipV="1">
            <a:off x="2362320" y="3200040"/>
            <a:ext cx="1523880" cy="1523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7"/>
          <p:cNvSpPr/>
          <p:nvPr/>
        </p:nvSpPr>
        <p:spPr>
          <a:xfrm>
            <a:off x="380880" y="152280"/>
            <a:ext cx="85345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2. Element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Choos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P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open up the XML record example you downloade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Now you can see the XML record in the center part of the scree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. Click on the hierarchy icon to view elements displayed hierarchicall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228600" y="4800600"/>
            <a:ext cx="15238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Outline view of the recor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rapper      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element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  subel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7924680" y="4495680"/>
            <a:ext cx="10670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lemen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for this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380880" y="6248520"/>
            <a:ext cx="8458200" cy="33732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 What sub-elements are available for &lt;agent&gt;? (Click on &lt;agent&gt; tag, see in box     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3"/>
          <p:cNvSpPr/>
          <p:nvPr/>
        </p:nvSpPr>
        <p:spPr>
          <a:xfrm>
            <a:off x="7924680" y="6324480"/>
            <a:ext cx="228600" cy="228600"/>
          </a:xfrm>
          <a:prstGeom prst="ellipse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19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ABDB-E3E0-4962-8083-16211BAEB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onut 1"/>
          <p:cNvSpPr/>
          <p:nvPr/>
        </p:nvSpPr>
        <p:spPr>
          <a:xfrm>
            <a:off x="6019920" y="2057400"/>
            <a:ext cx="304560" cy="457200"/>
          </a:xfrm>
          <a:custGeom>
            <a:avLst/>
            <a:gdLst/>
            <a:ahLst/>
            <a:rect l="l" t="t" r="r" b="b"/>
            <a:pathLst>
              <a:path w="304800" h="457200">
                <a:moveTo>
                  <a:pt x="0" y="228600"/>
                </a:moveTo>
                <a:cubicBezTo>
                  <a:pt x="0" y="102348"/>
                  <a:pt x="68232" y="0"/>
                  <a:pt x="152400" y="0"/>
                </a:cubicBezTo>
                <a:cubicBezTo>
                  <a:pt x="236568" y="0"/>
                  <a:pt x="304800" y="102348"/>
                  <a:pt x="304800" y="228600"/>
                </a:cubicBezTo>
                <a:cubicBezTo>
                  <a:pt x="304800" y="354852"/>
                  <a:pt x="236568" y="457200"/>
                  <a:pt x="152400" y="457200"/>
                </a:cubicBezTo>
                <a:cubicBezTo>
                  <a:pt x="68232" y="457200"/>
                  <a:pt x="0" y="354852"/>
                  <a:pt x="0" y="228600"/>
                </a:cubicBezTo>
                <a:close/>
                <a:moveTo>
                  <a:pt x="9327" y="228600"/>
                </a:moveTo>
                <a:cubicBezTo>
                  <a:pt x="9327" y="349701"/>
                  <a:pt x="73383" y="447873"/>
                  <a:pt x="152400" y="447873"/>
                </a:cubicBezTo>
                <a:cubicBezTo>
                  <a:pt x="231417" y="447873"/>
                  <a:pt x="295473" y="349701"/>
                  <a:pt x="295473" y="228600"/>
                </a:cubicBezTo>
                <a:cubicBezTo>
                  <a:pt x="295473" y="107499"/>
                  <a:pt x="231417" y="9327"/>
                  <a:pt x="152400" y="9327"/>
                </a:cubicBezTo>
                <a:cubicBezTo>
                  <a:pt x="73383" y="9327"/>
                  <a:pt x="9327" y="107499"/>
                  <a:pt x="9327" y="228600"/>
                </a:cubicBezTo>
                <a:close/>
              </a:path>
            </a:pathLst>
          </a:custGeom>
          <a:solidFill>
            <a:srgbClr val="c0504d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1"/>
          <p:cNvSpPr/>
          <p:nvPr/>
        </p:nvSpPr>
        <p:spPr>
          <a:xfrm>
            <a:off x="2971800" y="1447920"/>
            <a:ext cx="297180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20"/>
          <p:cNvCxnSpPr/>
          <p:nvPr/>
        </p:nvCxnSpPr>
        <p:spPr>
          <a:xfrm flipH="1" flipV="1">
            <a:off x="7086240" y="4572000"/>
            <a:ext cx="915120" cy="766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Donut 23"/>
          <p:cNvSpPr/>
          <p:nvPr/>
        </p:nvSpPr>
        <p:spPr>
          <a:xfrm>
            <a:off x="6324480" y="586728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228600"/>
                </a:moveTo>
                <a:cubicBezTo>
                  <a:pt x="0" y="102348"/>
                  <a:pt x="102348" y="0"/>
                  <a:pt x="228600" y="0"/>
                </a:cubicBezTo>
                <a:cubicBezTo>
                  <a:pt x="354852" y="0"/>
                  <a:pt x="457200" y="102348"/>
                  <a:pt x="457200" y="228600"/>
                </a:cubicBezTo>
                <a:cubicBezTo>
                  <a:pt x="457200" y="354852"/>
                  <a:pt x="354852" y="457200"/>
                  <a:pt x="228600" y="457200"/>
                </a:cubicBezTo>
                <a:cubicBezTo>
                  <a:pt x="102348" y="457200"/>
                  <a:pt x="0" y="354852"/>
                  <a:pt x="0" y="228600"/>
                </a:cubicBezTo>
                <a:close/>
                <a:moveTo>
                  <a:pt x="13990" y="228600"/>
                </a:moveTo>
                <a:cubicBezTo>
                  <a:pt x="13990" y="347126"/>
                  <a:pt x="110074" y="443210"/>
                  <a:pt x="228600" y="443210"/>
                </a:cubicBezTo>
                <a:cubicBezTo>
                  <a:pt x="347126" y="443210"/>
                  <a:pt x="443210" y="347126"/>
                  <a:pt x="443210" y="228600"/>
                </a:cubicBezTo>
                <a:cubicBezTo>
                  <a:pt x="443210" y="110074"/>
                  <a:pt x="347126" y="13990"/>
                  <a:pt x="228600" y="13990"/>
                </a:cubicBezTo>
                <a:cubicBezTo>
                  <a:pt x="110074" y="13990"/>
                  <a:pt x="13990" y="110074"/>
                  <a:pt x="13990" y="228600"/>
                </a:cubicBezTo>
                <a:close/>
              </a:path>
            </a:pathLst>
          </a:custGeom>
          <a:solidFill>
            <a:srgbClr val="c0504d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7988400" y="0"/>
            <a:ext cx="11430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0"/>
          <p:cNvSpPr/>
          <p:nvPr/>
        </p:nvSpPr>
        <p:spPr>
          <a:xfrm>
            <a:off x="7988400" y="0"/>
            <a:ext cx="11430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553440" cy="5077080"/>
          </a:xfrm>
          <a:prstGeom prst="rect">
            <a:avLst/>
          </a:prstGeom>
          <a:ln w="0">
            <a:noFill/>
          </a:ln>
        </p:spPr>
      </p:pic>
      <p:sp>
        <p:nvSpPr>
          <p:cNvPr id="71" name="Oval 7"/>
          <p:cNvSpPr/>
          <p:nvPr/>
        </p:nvSpPr>
        <p:spPr>
          <a:xfrm>
            <a:off x="6705720" y="2514600"/>
            <a:ext cx="228600" cy="228600"/>
          </a:xfrm>
          <a:prstGeom prst="ellipse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7848720" y="2438280"/>
            <a:ext cx="1066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vailable for an 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838080" y="1066680"/>
            <a:ext cx="8077320" cy="70776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 What attributes are available for &lt;agent &gt;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 What attributes have been used for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is agent?  And for th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a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228600" y="304920"/>
            <a:ext cx="8686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380880" y="228600"/>
            <a:ext cx="83822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-3 Attribu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When clicking on an element, the attributes that are available for it will show on the upper right box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11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0DC9-0EEC-4C5A-924C-296C0EDA27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8"/>
          <p:cNvCxnSpPr/>
          <p:nvPr/>
        </p:nvCxnSpPr>
        <p:spPr>
          <a:xfrm flipH="1">
            <a:off x="7162560" y="2666880"/>
            <a:ext cx="915120" cy="4579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ont.) 2-3 Attribu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other way to find out attribut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Inside a tag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ype a 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a list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ttribu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op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Clicking on an attribute, you may see the explanations of the attribu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228600" y="2171880"/>
            <a:ext cx="8686800" cy="2579400"/>
          </a:xfrm>
          <a:prstGeom prst="rect">
            <a:avLst/>
          </a:prstGeom>
          <a:ln w="0">
            <a:noFill/>
          </a:ln>
        </p:spPr>
      </p:pic>
      <p:sp>
        <p:nvSpPr>
          <p:cNvPr id="80" name="Oval 5"/>
          <p:cNvSpPr/>
          <p:nvPr/>
        </p:nvSpPr>
        <p:spPr>
          <a:xfrm>
            <a:off x="5029200" y="19051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3809880" y="3657600"/>
            <a:ext cx="30492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304920" y="1523880"/>
            <a:ext cx="8458200" cy="36828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 What attributes are available for &lt;name &gt;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10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223B8-A213-4A6F-A4D0-DBB4E332B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2"/>
          <p:cNvCxnSpPr/>
          <p:nvPr/>
        </p:nvCxnSpPr>
        <p:spPr>
          <a:xfrm flipH="1">
            <a:off x="4114440" y="2057400"/>
            <a:ext cx="915120" cy="3816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5" name="TextBox 8"/>
          <p:cNvSpPr/>
          <p:nvPr/>
        </p:nvSpPr>
        <p:spPr>
          <a:xfrm>
            <a:off x="7988400" y="0"/>
            <a:ext cx="1143000" cy="1067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el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attrib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badi MT Condensed Extra Bold"/>
                <a:ea typeface="Abadi MT Condensed Extra Bold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609480" y="2612880"/>
          <a:ext cx="7467840" cy="421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612880"/>
                    <a:ext cx="7467840" cy="42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3. Editing an XM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1 Add a new element &lt;agent&gt; and its sub-el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"&lt;agent&gt;" after the last set of agent, right below the closing tag"&lt;/agent&gt;"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a new line below &lt;agent&gt; tag in order to add subelements. (Hit a return key between  &lt;agent&gt;&lt;/agent&gt; pair 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sub-elements under &lt;agent&gt; by  typing "&lt;name&gt;"; or double click on the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ubelement from the lower-right box to get it onto the rec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wo other subelements: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e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record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ot required: For &lt;dates&gt;, it also two sub-subelements.  You can insert them in the &lt;dates&gt;&lt;/dates&gt; se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5"/>
          <p:cNvSpPr/>
          <p:nvPr/>
        </p:nvSpPr>
        <p:spPr>
          <a:xfrm>
            <a:off x="3809880" y="5105520"/>
            <a:ext cx="228600" cy="228600"/>
          </a:xfrm>
          <a:prstGeom prst="ellipse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"/>
          <p:cNvSpPr/>
          <p:nvPr/>
        </p:nvSpPr>
        <p:spPr>
          <a:xfrm>
            <a:off x="4572000" y="5105520"/>
            <a:ext cx="228600" cy="228600"/>
          </a:xfrm>
          <a:prstGeom prst="ellipse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7"/>
          <p:cNvSpPr/>
          <p:nvPr/>
        </p:nvSpPr>
        <p:spPr>
          <a:xfrm>
            <a:off x="4038480" y="5334120"/>
            <a:ext cx="228600" cy="228600"/>
          </a:xfrm>
          <a:prstGeom prst="ellipse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8"/>
          <p:cNvSpPr/>
          <p:nvPr/>
        </p:nvSpPr>
        <p:spPr>
          <a:xfrm>
            <a:off x="6934320" y="5334120"/>
            <a:ext cx="228600" cy="228600"/>
          </a:xfrm>
          <a:prstGeom prst="ellipse">
            <a:avLst/>
          </a:prstGeom>
          <a:solidFill>
            <a:srgbClr val="e1f2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 flipH="1">
            <a:off x="5333760" y="5410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11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0B25-551B-4C94-8BDB-BA6E75D9B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33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-5 Attribute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4572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w try your own n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ide the &lt;name&gt; tag, before "&gt;", type a space after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get the list of the attribut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ttribute. its allowable values will show on the screen like a pop-up li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hen there is already a list of restricted values, the values will show on the screen like a pop-up list.  If no pre-defined values, there will be no list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   For #2, this can also be done by clicking on the attribute name on the upper- right box of the scree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8"/>
          <p:cNvGrpSpPr/>
          <p:nvPr/>
        </p:nvGrpSpPr>
        <p:grpSpPr>
          <a:xfrm>
            <a:off x="457200" y="2362320"/>
            <a:ext cx="8381520" cy="3428640"/>
            <a:chOff x="457200" y="2362320"/>
            <a:chExt cx="8381520" cy="3428640"/>
          </a:xfrm>
        </p:grpSpPr>
        <p:pic>
          <p:nvPicPr>
            <p:cNvPr id="98" name="Picture 4" descr=""/>
            <p:cNvPicPr/>
            <p:nvPr/>
          </p:nvPicPr>
          <p:blipFill>
            <a:blip r:embed="rId1"/>
            <a:stretch/>
          </p:blipFill>
          <p:spPr>
            <a:xfrm>
              <a:off x="457200" y="2362320"/>
              <a:ext cx="8381520" cy="34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Oval 5"/>
            <p:cNvSpPr/>
            <p:nvPr/>
          </p:nvSpPr>
          <p:spPr>
            <a:xfrm>
              <a:off x="6044760" y="5177880"/>
              <a:ext cx="314640" cy="272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6"/>
            <p:cNvSpPr/>
            <p:nvPr/>
          </p:nvSpPr>
          <p:spPr>
            <a:xfrm>
              <a:off x="4943160" y="4542120"/>
              <a:ext cx="314640" cy="272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7"/>
            <p:cNvSpPr/>
            <p:nvPr/>
          </p:nvSpPr>
          <p:spPr>
            <a:xfrm>
              <a:off x="7619040" y="3906360"/>
              <a:ext cx="314280" cy="272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 Box 9"/>
          <p:cNvSpPr/>
          <p:nvPr/>
        </p:nvSpPr>
        <p:spPr>
          <a:xfrm>
            <a:off x="304920" y="5867280"/>
            <a:ext cx="8458200" cy="707760"/>
          </a:xfrm>
          <a:prstGeom prst="rect">
            <a:avLst/>
          </a:prstGeom>
          <a:solidFill>
            <a:srgbClr val="e1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 Wha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alues are listed for &lt;name &gt;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? What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alues are listed for &lt;dates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13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E029-0521-443F-9290-745297B73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-3 Values – use controlled vocabu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762120"/>
            <a:ext cx="80773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 perso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name, dates, rol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low the example provided by the record. Add a perso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name, dates, role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or practice, make any name and dates you like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'role', go to AAT to find the term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int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see if the reference id is the sa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gle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rt and Architecture Thesaurus.  At AAT site, search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int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with quotation marks)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nd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inters (artists)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open the record to see the concept ID          and all other informati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 person's refid, back to AAT and switch to ULAN -&gt; Union List of Artist Names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arch Jasper Francis Cropsey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view record and find out the I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838080" y="3352680"/>
          <a:ext cx="6324840" cy="28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352680"/>
                    <a:ext cx="6324840" cy="28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Oval 6"/>
          <p:cNvSpPr/>
          <p:nvPr/>
        </p:nvSpPr>
        <p:spPr>
          <a:xfrm>
            <a:off x="3048120" y="5410080"/>
            <a:ext cx="114300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7"/>
          <p:cNvSpPr/>
          <p:nvPr/>
        </p:nvSpPr>
        <p:spPr>
          <a:xfrm>
            <a:off x="6172200" y="5638680"/>
            <a:ext cx="914400" cy="381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3886200" y="4648320"/>
            <a:ext cx="9144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9"/>
          <p:cNvSpPr/>
          <p:nvPr/>
        </p:nvSpPr>
        <p:spPr>
          <a:xfrm>
            <a:off x="2438280" y="3505320"/>
            <a:ext cx="45720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219320" y="3124080"/>
            <a:ext cx="647676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Heptagon 12"/>
          <p:cNvSpPr/>
          <p:nvPr/>
        </p:nvSpPr>
        <p:spPr>
          <a:xfrm>
            <a:off x="3657600" y="2286000"/>
            <a:ext cx="380880" cy="22860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Heptagon 13"/>
          <p:cNvSpPr/>
          <p:nvPr/>
        </p:nvSpPr>
        <p:spPr>
          <a:xfrm>
            <a:off x="5410080" y="5486400"/>
            <a:ext cx="381240" cy="22860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Heptagon 14"/>
          <p:cNvSpPr/>
          <p:nvPr/>
        </p:nvSpPr>
        <p:spPr>
          <a:xfrm>
            <a:off x="8229600" y="2666880"/>
            <a:ext cx="380880" cy="22860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Heptagon 15"/>
          <p:cNvSpPr/>
          <p:nvPr/>
        </p:nvSpPr>
        <p:spPr>
          <a:xfrm>
            <a:off x="6781680" y="3962520"/>
            <a:ext cx="381240" cy="228600"/>
          </a:xfrm>
          <a:prstGeom prst="pi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17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2B07-FF19-4F45-99AB-B169F3D60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704160" y="6324480"/>
            <a:ext cx="43923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ve the revised record with another nam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t 4. Doing your own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6960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-1 Create a 'project'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 the tool bar for 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 proj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 It is like to create a folder for your project.  Your xsd, xml, and other files for the same project can be stored under this project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2"/>
          <p:cNvGraphicFramePr/>
          <p:nvPr/>
        </p:nvGraphicFramePr>
        <p:xfrm>
          <a:off x="3962520" y="2590920"/>
          <a:ext cx="4572000" cy="15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590920"/>
                    <a:ext cx="457200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6"/>
          <p:cNvSpPr/>
          <p:nvPr/>
        </p:nvSpPr>
        <p:spPr>
          <a:xfrm>
            <a:off x="457200" y="4191120"/>
            <a:ext cx="388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Right-mouse click on "newProject.xpr"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dd Fil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th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vra-4.0-restricted.xs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le you downloaded from VRA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3"/>
          <p:cNvGraphicFramePr/>
          <p:nvPr/>
        </p:nvGraphicFramePr>
        <p:xfrm>
          <a:off x="4343400" y="4267080"/>
          <a:ext cx="1981080" cy="19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267080"/>
                    <a:ext cx="198108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Oval 9"/>
          <p:cNvSpPr/>
          <p:nvPr/>
        </p:nvSpPr>
        <p:spPr>
          <a:xfrm>
            <a:off x="4800600" y="2514600"/>
            <a:ext cx="3808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4495680" y="5791320"/>
            <a:ext cx="30492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3520" y="6248520"/>
            <a:ext cx="784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le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ave a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ive a name to the project and save into a place you wa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11"/>
          <p:cNvSpPr/>
          <p:nvPr/>
        </p:nvSpPr>
        <p:spPr>
          <a:xfrm>
            <a:off x="7543800" y="6245280"/>
            <a:ext cx="1143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37AA-ED66-428E-8494-6D4F59B93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8:35:26Z</dcterms:created>
  <dc:creator>End User Support Services</dc:creator>
  <dc:description/>
  <dc:language>en-US</dc:language>
  <cp:lastModifiedBy>ZENG, MARCIA</cp:lastModifiedBy>
  <cp:lastPrinted>2013-08-16T15:44:44Z</cp:lastPrinted>
  <dcterms:modified xsi:type="dcterms:W3CDTF">2014-04-12T03:20:13Z</dcterms:modified>
  <cp:revision>34</cp:revision>
  <dc:subject/>
  <dc:title>Part 1. Prepare for the exercise</dc:title>
</cp:coreProperties>
</file>