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C48-8E39-4E9C-9222-2BE9F827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1D1-B558-4F40-8AAF-96AA42B8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8F7-370A-4171-A79A-025ACC9E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698-EBCE-4A32-8A56-C5DDAAC6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7EB-9261-4CA2-8415-621CD07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8F3-787E-4DD4-AB48-48AFF47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89C-E71F-4A5A-9BED-5340F0A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037-C429-41AF-9036-004A200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6E5-AF6B-417C-8068-6DF5F8C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EBF-5D8A-4FEF-A52C-28426F65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FC1-06D4-457A-98A3-037DD57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054-9000-4AE3-A33A-94F4A95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129-03B6-427B-98FA-1BF152F2F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0464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a50021"/>
                </a:solidFill>
                <a:latin typeface="Arial"/>
                <a:cs typeface="David"/>
              </a:rPr>
              <a:t>עוֹד</a:t>
            </a:r>
            <a:r>
              <a:rPr b="0" lang="he-IL" sz="3200" spc="-1" strike="noStrike">
                <a:solidFill>
                  <a:srgbClr val="a50021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a50021"/>
                </a:solidFill>
                <a:latin typeface="Arial"/>
                <a:cs typeface="David"/>
              </a:rPr>
              <a:t>חֲבֵרִים בְּקִבּוּץ "לַהַב"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שְׁמִי פּאוּלָה . אֲנִי מֵאַרְגֶּנְטִינָה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FrankRuehl"/>
              </a:rPr>
              <a:t>.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עַכְשָׁיו אֲנִי גָּרָה בְּקִבּוּץ לַהַב . בַּקִּבּוּץ  יֵשׁ הַכֹּל : טֶלֶפוֹנִים , טֶלֶוִיזְיוֹת , כֶּסֶף , אֲבָל יֵשׁ גַּם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אִידֵאָלִים , וְזֶה טוֹב מְאוֹד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Arial"/>
                <a:cs typeface="FrankRuehl"/>
              </a:rPr>
              <a:t>שְׁמִי חַנָּה . הַחֲבֵרִים קוֹרְאִים לִי חַנָּה'ל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33"/>
                </a:solidFill>
                <a:latin typeface="Arial"/>
                <a:cs typeface="FrankRuehl"/>
              </a:rPr>
              <a:t>אֲנִי עוֹבֶדֶת בְּבֵית הַיְלָדִים .  אֲנִי אוֹהֶבֶת לַעֲבוֹד עִם יְלָדִים קְטַנִּים. בשבת אני לא עובדת . אני נוסעת לבקר חברים . אני נוסעת לטייל בירושליים , אני קוראת ספרים , אני כותבת מכתבים , יש מה לעשו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שמי גדעון. אני מקנדה . אני מתנדב בקיבוץ . אני בישראל , כי אני רוצה לעבוד בקיבוץ וללמוד על ישראל . אני עובד בחדר האוכל . חדר האוכל בקיבוץ גדול ויפ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חברים בקיבוץ אוכלים ביחד . הם יושבים , אוכלים וגם מדברים. מדברים על העבודה , על הילדים ועל פוליטיקה . הילדים לא אוכלים עם ההורים . הם אוכלים בבית הילדים . כל יום אני לומד עוד על הקיבוץ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46:11Z</dcterms:created>
  <dc:creator>quad</dc:creator>
  <dc:description/>
  <dc:language>en-US</dc:language>
  <cp:lastModifiedBy>quad</cp:lastModifiedBy>
  <dcterms:modified xsi:type="dcterms:W3CDTF">2009-04-20T07:54:26Z</dcterms:modified>
  <cp:revision>2</cp:revision>
  <dc:subject/>
  <dc:title>الشريحة 1</dc:title>
</cp:coreProperties>
</file>