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C43-2569-43EB-A9B3-5464F9ED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2AB-BF95-4FA0-8F83-B7A4C28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63B-093D-4581-B519-5FAA64A3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721-51DA-4D6E-B631-CE55189D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0A0-0997-485D-9236-1F5AC5A6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318-A376-42DD-86C6-362F14C2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97B-29AE-49B9-A0C0-775BA62E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710-81B8-49F3-A273-999A4959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D05-03C6-499E-8DBC-D18E8B81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9F6-37EA-4899-86E9-9BE5ABC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0EF-8497-402F-9055-C39F688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4F8-9304-4613-B24A-2F2937D9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E563-72AD-49AC-8A3D-556024F58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0464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a50021"/>
                </a:solidFill>
                <a:latin typeface="Arial"/>
                <a:cs typeface="David"/>
              </a:rPr>
              <a:t>עוֹד</a:t>
            </a:r>
            <a:r>
              <a:rPr b="0" lang="he-IL" sz="3200" spc="-1" strike="noStrike">
                <a:solidFill>
                  <a:srgbClr val="a50021"/>
                </a:solidFill>
                <a:latin typeface="Arial"/>
                <a:ea typeface="David"/>
              </a:rPr>
              <a:t> </a:t>
            </a:r>
            <a:r>
              <a:rPr b="1" lang="he-IL" sz="3200" spc="-1" strike="noStrike">
                <a:solidFill>
                  <a:srgbClr val="a50021"/>
                </a:solidFill>
                <a:latin typeface="Arial"/>
                <a:cs typeface="David"/>
              </a:rPr>
              <a:t>חֲבֵרִים בְּקִבּוּץ "לַהַב"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שְׁמִי פּאוּלָה . אֲנִי מֵאַרְגֶּנְטִינָה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FrankRuehl"/>
              </a:rPr>
              <a:t>.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עַכְשָׁיו אֲנִי גָּרָה בְּקִבּוּץ לַהַב . בַּקִּבּוּץ  יֵשׁ הַכֹּל : טֶלֶפוֹנִים , טֶלֶוִיזְיוֹת , כֶּסֶף , אֲבָל יֵשׁ גַּם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FrankRuehl"/>
              </a:rPr>
              <a:t> 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אִידֵאָלִים , וְזֶה טוֹב מְאוֹד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800000"/>
                </a:solidFill>
                <a:latin typeface="Arial"/>
                <a:cs typeface="FrankRuehl"/>
              </a:rPr>
              <a:t>שְׁמִי חַנָּה . הַחֲבֵרִים קוֹרְאִים לִי חַנָּה'ל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3333"/>
                </a:solidFill>
                <a:latin typeface="Arial"/>
                <a:cs typeface="FrankRuehl"/>
              </a:rPr>
              <a:t>אֲנִי עוֹבֶדֶת בְּבֵית הַיְלָדִים .  אֲנִי אוֹהֶבֶת לַעֲבוֹד עִם יְלָדִים קְטַנִּים. בשבת אני לא עובדת . אני נוסעת לבקר חברים . אני נוסעת לטייל בירושליים , אני קוראת ספרים , אני כותבת מכתבים , יש מה לעשו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a50021"/>
                </a:solidFill>
                <a:latin typeface="Arial"/>
                <a:cs typeface="FrankRuehl"/>
              </a:rPr>
              <a:t>שמי גדעון. אני מקנדה . אני מתנדב בקיבוץ . אני בישראל , כי אני רוצה לעבוד בקיבוץ וללמוד על ישראל . אני עובד בחדר האוכל . חדר האוכל בקיבוץ גדול ויפ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החברים בקיבוץ אוכלים ביחד . הם יושבים , אוכלים וגם מדברים. מדברים על העבודה , על הילדים ועל פוליטיקה . הילדים לא אוכלים עם ההורים . הם אוכלים בבית הילדים . כל יום אני לומד עוד על הקיבוץ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4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7:46:11Z</dcterms:created>
  <dc:creator>quad</dc:creator>
  <dc:description/>
  <dc:language>en-US</dc:language>
  <cp:lastModifiedBy>quad</cp:lastModifiedBy>
  <dcterms:modified xsi:type="dcterms:W3CDTF">2009-04-20T07:54:26Z</dcterms:modified>
  <cp:revision>2</cp:revision>
  <dc:subject/>
  <dc:title>الشريحة 1</dc:title>
</cp:coreProperties>
</file>