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D70-49F5-4757-BB16-9C897606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EEE-5768-4BCA-80D7-94998550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85A-BEA2-4E9B-9A58-6283F693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FA1-3F43-4CE7-8F06-CD9B544B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32F4-40CC-42C4-A399-6DC6F356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064-5464-41D9-A62F-1DFC6C99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86C-735A-49EC-912A-E9E6043F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A30-6D5F-4B13-8008-96B74E25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2C2-5247-401D-BEC4-0DB2C34A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32A-F05F-4847-9D4E-8809BBF6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D36-7457-434C-9A00-8C9C33EC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A44-719D-4B06-85BF-4FB83615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DDFE-7FFB-41AC-9C63-69653F2D1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589;&#1608;&#1578;%20&#1605;&#1587;&#1580;&#1617;&#1604;" TargetMode="External"/><Relationship Id="rId3" Type="http://schemas.microsoft.com/office/2007/relationships/media" Target="file:///tmp/home/.config/libreoffice/4/user/gallery/&#1589;&#1608;&#1578;%20&#1605;&#1587;&#1580;&#1617;&#1604;" TargetMode="External"/><Relationship Id="rId4" Type="http://schemas.openxmlformats.org/officeDocument/2006/relationships/image" Target="../media/image2.png"/><Relationship Id="rId5" Type="http://schemas.openxmlformats.org/officeDocument/2006/relationships/video" Target="file:///tmp/home/.config/libreoffice/4/user/gallery/&#1589;&#1608;&#1578;%20&#1605;&#1587;&#1580;&#1617;&#1604;" TargetMode="External"/><Relationship Id="rId6" Type="http://schemas.microsoft.com/office/2007/relationships/media" Target="file:///tmp/home/.config/libreoffice/4/user/gallery/&#1589;&#1608;&#1578;%20&#1605;&#1587;&#1580;&#1617;&#1604;" TargetMode="External"/><Relationship Id="rId7" Type="http://schemas.openxmlformats.org/officeDocument/2006/relationships/image" Target="../media/image2.png"/><Relationship Id="rId8" Type="http://schemas.openxmlformats.org/officeDocument/2006/relationships/video" Target="file:///tmp/home/.config/libreoffice/4/user/gallery/&#1589;&#1608;&#1578;%20&#1605;&#1587;&#1580;&#1617;&#1604;" TargetMode="External"/><Relationship Id="rId9" Type="http://schemas.microsoft.com/office/2007/relationships/media" Target="file:///tmp/home/.config/libreoffice/4/user/gallery/&#1589;&#1608;&#1578;%20&#1605;&#1587;&#1580;&#1617;&#1604;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125360"/>
            <a:ext cx="8496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92929"/>
                </a:solidFill>
                <a:latin typeface="Arial"/>
                <a:cs typeface="FrankRuehl"/>
              </a:rPr>
              <a:t>באוניברסיט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a50021"/>
                </a:solidFill>
                <a:latin typeface="Arial"/>
                <a:cs typeface="FrankRuehl"/>
              </a:rPr>
              <a:t>זאת אוניברסיטה . האוניברסיטה בתל אביב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  <a:cs typeface="FrankRuehl"/>
              </a:rPr>
              <a:t>באוניברסיטה יש בניינים , כיתות ומשרדים . באוניברסיטה לומדים סטודנטים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663300"/>
                </a:solidFill>
                <a:latin typeface="Arial"/>
                <a:cs typeface="FrankRuehl"/>
              </a:rPr>
              <a:t>הם לומדים היסטוריה, מתמטיקה, גיאוגרפיה וגם ... עברית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92929"/>
                </a:solidFill>
                <a:latin typeface="Arial"/>
                <a:cs typeface="FrankRuehl"/>
              </a:rPr>
              <a:t>הם לומדים בכיתות . באוניברסיטה יש גם פקידים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006600"/>
                </a:solidFill>
                <a:latin typeface="Arial"/>
                <a:cs typeface="FrankRuehl"/>
              </a:rPr>
              <a:t>הפקידים לא לומדים בכיתות , הם עובדים במשרדים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800080"/>
                </a:solidFill>
                <a:latin typeface="Arial"/>
                <a:cs typeface="FrankRuehl"/>
              </a:rPr>
              <a:t>ואיפה המשרדים והכיתות ? בבניינים . בבניינים באוניברסיטה יש גם קפיטריות , בנק , מוזיאון יפה וגם מעונות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סטודנטים מישראל , מאירופה, מאמריקה ומרוסיה גרים במעונות . והפקידים ? הפקידים לא גרים במעונות , הם גרים בדירות בתל אביב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vide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140328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6891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7:29:44Z</dcterms:created>
  <dc:creator>quad</dc:creator>
  <dc:description/>
  <dc:language>en-US</dc:language>
  <cp:lastModifiedBy>DR-FOUAD</cp:lastModifiedBy>
  <dcterms:modified xsi:type="dcterms:W3CDTF">2008-04-01T16:27:36Z</dcterms:modified>
  <cp:revision>2</cp:revision>
  <dc:subject/>
  <dc:title>الشريحة 1</dc:title>
</cp:coreProperties>
</file>