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74A-4771-49DE-931A-82B66EF5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F8C-86DD-4A27-99F2-E9EF35ED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8DB-8C36-4AB2-BCA2-51095A0A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417-88D9-4EB8-A182-10CF7DAF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6D9-9D3E-4DD4-89E2-429B70CD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F60-A33F-424A-8829-9917C430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4C6-DC2F-4AB4-A74F-5B94322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32A-CC35-4759-8637-E78A951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A6C-CDD4-4E8F-912C-83E56DE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08B-BAC5-40CD-A6A1-CFCC499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5C9-DFAC-4738-8572-741BC04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D94-E6BC-4322-90FF-E8E953D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19a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58B0-65D2-4C25-A142-D15A22F8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19a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9999"/>
                </a:solidFill>
                <a:latin typeface="Arial"/>
                <a:cs typeface="David"/>
              </a:rPr>
              <a:t>ג'וֹן רוֹצֶה חֶדֶר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ג</a:t>
            </a:r>
            <a:r>
              <a:rPr b="0" lang="ar-SA" sz="3200" spc="-1" strike="noStrike">
                <a:solidFill>
                  <a:srgbClr val="cc00cc"/>
                </a:solidFill>
                <a:latin typeface="Arial"/>
                <a:ea typeface="FrankRuehl"/>
              </a:rPr>
              <a:t>'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וֹן מֵאַרְצוֹת הַבְּרִית . עַכְשָׁיו הוּא בְּיִשְׂרָאֵל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3366cc"/>
                </a:solidFill>
                <a:latin typeface="Arial"/>
                <a:cs typeface="FrankRuehl"/>
              </a:rPr>
              <a:t>הוּא רוֹצֶה חֶדֶר בְּמָלוֹן. הוּא מְדַבֵּר עִם הַפָּקִיד בַּמִּשְׂרָד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ג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  <a:ea typeface="FrankRuehl"/>
              </a:rPr>
              <a:t>'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וֹן רוֹצֶה חֶדֶר . הַחֶדֶר עִם טֶלֶפוֹן, עִם טֶלֶוִיזְיָה וְעִם שֵׁרוּתִ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743200"/>
            <a:ext cx="579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ff"/>
                </a:solidFill>
                <a:latin typeface="Arial"/>
              </a:rPr>
              <a:t>הַמִּלִּים הַחֲדָשׁוֹת</a:t>
            </a:r>
            <a:r>
              <a:rPr b="1" lang="he-I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33ff"/>
                </a:solidFill>
                <a:latin typeface="Arial"/>
              </a:rPr>
              <a:t>– </a:t>
            </a:r>
            <a:r>
              <a:rPr b="1" lang="ar-SA" sz="2800" spc="-1" strike="noStrike">
                <a:solidFill>
                  <a:srgbClr val="3333ff"/>
                </a:solidFill>
                <a:latin typeface="Arial"/>
              </a:rPr>
              <a:t>الكلمات الجديدة</a:t>
            </a:r>
            <a:r>
              <a:rPr b="0" lang="ar-SA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9480" y="3505320"/>
          <a:ext cx="7696440" cy="295884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الآ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עַכְשָׁי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من الولايات المتح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מֵאַרְצוֹת הַבְּרִי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م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עִ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غرفة فى فند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חֶדֶר בְּמָלוֹ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فى المكت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בַּמִּשְׂרָ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الموظ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הַפָּקִי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تليفزي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טֶלֶוִיזְיָ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حجرة بالتليف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חֶדֶר עִם טֶלֶפוֹ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3:10:22Z</dcterms:created>
  <dc:creator>DR.FOUAD</dc:creator>
  <dc:description/>
  <dc:language>en-US</dc:language>
  <cp:lastModifiedBy>DR.FOUAD</cp:lastModifiedBy>
  <dcterms:modified xsi:type="dcterms:W3CDTF">2009-04-04T03:25:08Z</dcterms:modified>
  <cp:revision>3</cp:revision>
  <dc:subject/>
  <dc:title>الشريحة 1</dc:title>
</cp:coreProperties>
</file>