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43C-E9F1-489D-8E7A-AA9B69A5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E59-CC53-4091-83CD-13AF820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E28-21B1-49A6-B420-9B1A995A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487-A160-41CB-81F8-08286CFE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203-9400-466B-8C16-08BB9D79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A1F-92E9-4399-BB7A-DEF7303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7DB-BB7D-46C8-80E1-EB371E67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CDB-49BC-4797-91B6-3848C86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1B5-D29D-4EEB-A3CE-DDB2FD9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69F-B1D1-45F3-9CB0-BC9F4A7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6F5-3150-4A7C-B6E4-0FD4FFA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72C-753F-4CE6-A860-784F00B7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19a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D1F-B18F-406B-B2EB-277632CED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19a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9999"/>
                </a:solidFill>
                <a:latin typeface="Arial"/>
                <a:cs typeface="David"/>
              </a:rPr>
              <a:t>ג'וֹן רוֹצֶה חֶדֶר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ג</a:t>
            </a:r>
            <a:r>
              <a:rPr b="0" lang="ar-SA" sz="3200" spc="-1" strike="noStrike">
                <a:solidFill>
                  <a:srgbClr val="cc00cc"/>
                </a:solidFill>
                <a:latin typeface="Arial"/>
                <a:ea typeface="FrankRuehl"/>
              </a:rPr>
              <a:t>'</a:t>
            </a:r>
            <a:r>
              <a:rPr b="0" lang="he-IL" sz="3200" spc="-1" strike="noStrike">
                <a:solidFill>
                  <a:srgbClr val="cc00cc"/>
                </a:solidFill>
                <a:latin typeface="Arial"/>
                <a:cs typeface="FrankRuehl"/>
              </a:rPr>
              <a:t>וֹן מֵאַרְצוֹת הַבְּרִית . עַכְשָׁיו הוּא בְּיִשְׂרָאֵל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3366cc"/>
                </a:solidFill>
                <a:latin typeface="Arial"/>
                <a:cs typeface="FrankRuehl"/>
              </a:rPr>
              <a:t>הוּא רוֹצֶה חֶדֶר בְּמָלוֹן. הוּא מְדַבֵּר עִם הַפָּקִיד בַּמִּשְׂרָד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ג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  <a:ea typeface="FrankRuehl"/>
              </a:rPr>
              <a:t>'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וֹן רוֹצֶה חֶדֶר . הַחֶדֶר עִם טֶלֶפוֹן, עִם טֶלֶוִיזְיָה וְעִם שֵׁרוּתִ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743200"/>
            <a:ext cx="579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33ff"/>
                </a:solidFill>
                <a:latin typeface="Arial"/>
              </a:rPr>
              <a:t>הַמִּלִּים הַחֲדָשׁוֹת</a:t>
            </a:r>
            <a:r>
              <a:rPr b="1" lang="he-I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33ff"/>
                </a:solidFill>
                <a:latin typeface="Arial"/>
              </a:rPr>
              <a:t>– </a:t>
            </a:r>
            <a:r>
              <a:rPr b="1" lang="ar-SA" sz="2800" spc="-1" strike="noStrike">
                <a:solidFill>
                  <a:srgbClr val="3333ff"/>
                </a:solidFill>
                <a:latin typeface="Arial"/>
              </a:rPr>
              <a:t>الكلمات الجديدة</a:t>
            </a:r>
            <a:r>
              <a:rPr b="0" lang="ar-SA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9480" y="3505320"/>
          <a:ext cx="7696440" cy="295884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6600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الآ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עַכְשָׁי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من الولايات المتح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מֵאַרְצוֹת הַבְּרִי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م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עִ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غرفة فى فند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חֶדֶר בְּמָלוֹ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فى المكت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בַּמִּשְׂרָ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الموظ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הַפָּקִי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تليفزي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טֶלֶוִיזְי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ff"/>
                          </a:solidFill>
                          <a:latin typeface="Times New Roman"/>
                          <a:cs typeface="AF_Najed"/>
                        </a:rPr>
                        <a:t>حجرة بالتليف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cc3300"/>
                          </a:solidFill>
                          <a:latin typeface="Times New Roman"/>
                          <a:cs typeface="FrankRuehl"/>
                        </a:rPr>
                        <a:t>חֶדֶר עִם טֶלֶפוֹ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2971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3:10:22Z</dcterms:created>
  <dc:creator>DR.FOUAD</dc:creator>
  <dc:description/>
  <dc:language>en-US</dc:language>
  <cp:lastModifiedBy>DR.FOUAD</cp:lastModifiedBy>
  <dcterms:modified xsi:type="dcterms:W3CDTF">2009-04-04T03:25:08Z</dcterms:modified>
  <cp:revision>3</cp:revision>
  <dc:subject/>
  <dc:title>الشريحة 1</dc:title>
</cp:coreProperties>
</file>