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AEA-2C25-465E-A8D4-51C1A826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E7F-A028-4DC5-803F-29C62FE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E62-59FD-402C-A0B0-2577CD89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8BA-C027-4EA6-A483-8FFB4895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855-0D37-462D-895A-68B63B5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C69-B44F-4AD8-AE69-EFDCB34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9F5-7040-43F7-A4AF-EA3019C5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485-8013-4500-B3C6-8D1460E1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E8E-B1FB-423F-9FBD-64122047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980-1B25-4A85-BC4E-144C1E6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A18-7802-4B04-981F-1D16AE9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915-7D62-4EE8-BF5F-EE93112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FDB-CF67-4230-ACC9-6A4E9212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ְחִידָה ה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מִיכָאֵל רוֹצֶה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לְבַקֵּר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cc00cc"/>
                </a:solidFill>
                <a:latin typeface="Arial"/>
                <a:cs typeface="David"/>
              </a:rPr>
              <a:t>בְּקִבּוּץ "לַהַב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905120"/>
            <a:ext cx="769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אֵיפֹה אַתָּה גָּ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80"/>
                </a:solidFill>
                <a:latin typeface="Arial"/>
                <a:cs typeface="FrankRuehl"/>
              </a:rPr>
              <a:t>אֲנִי גָּר בְּקִבּוּץ לַהַב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זֶה  קִבּוּץ גָּדוֹ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99"/>
                </a:solidFill>
                <a:latin typeface="Arial"/>
                <a:cs typeface="FrankRuehl"/>
              </a:rPr>
              <a:t>לֹא , זֶה לֹא קִבּוּץ גָּדוֹל , זֶה קִבּוּץ קָטָן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3366"/>
                </a:solidFill>
                <a:latin typeface="Arial"/>
                <a:cs typeface="FrankRuehl"/>
              </a:rPr>
              <a:t>בַּקִּבּוּץ יֵשׁ בִּנְיָנִים גְּדוֹלִי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לֹא ,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בַּקִּבּוּץ יֵשׁ רַק בִּנְיָנִים קְטַנִּים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Arial"/>
                <a:cs typeface="FrankRuehl"/>
              </a:rPr>
              <a:t>גַּם אַתָּה  גָּר בְּבִנְיָן קָטָן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לֹא , </a:t>
            </a:r>
            <a:r>
              <a:rPr b="0" lang="ar-SA" sz="3200" spc="-1" strike="noStrike">
                <a:solidFill>
                  <a:srgbClr val="009999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אֲנִי גָּר בְּדִּירָה קְטַנָּה עִם רוּתִי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וְהַיְּלָדִ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3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0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00"/>
                </a:solidFill>
                <a:latin typeface="Arial"/>
                <a:cs typeface="FrankRuehl"/>
              </a:rPr>
              <a:t>הַיְּלָדִים בְּקִבּוּץ לַהַב לֹא גָּרִים עִם הַהוֹר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אֵיפֹה הֵם גָּרִים </a:t>
            </a:r>
            <a:r>
              <a:rPr b="0" lang="ar-SA" sz="3200" spc="-1" strike="noStrike">
                <a:solidFill>
                  <a:srgbClr val="6600cc"/>
                </a:solidFill>
                <a:latin typeface="Arial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80"/>
                </a:solidFill>
                <a:latin typeface="Arial"/>
                <a:cs typeface="FrankRuehl"/>
              </a:rPr>
              <a:t>הַיְּלָדִים גָּרִים בְּבֵית הַיְלָדִים . אֲבָל הֵם בָּאִים לַדִּירָה שֶׁל הַהוֹרִים כָּל יוֹם בְּאַרְבַּע (</a:t>
            </a:r>
            <a:r>
              <a:rPr b="0" lang="he-IL" sz="3200" spc="-1" strike="noStrike">
                <a:solidFill>
                  <a:srgbClr val="008080"/>
                </a:solidFill>
                <a:latin typeface="Arial"/>
                <a:ea typeface="FrankRuehl"/>
              </a:rPr>
              <a:t>16:00</a:t>
            </a:r>
            <a:r>
              <a:rPr b="0" lang="he-IL" sz="3200" spc="-1" strike="noStrike">
                <a:solidFill>
                  <a:srgbClr val="008080"/>
                </a:solidFill>
                <a:latin typeface="Arial"/>
                <a:ea typeface="FrankRueh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9900"/>
                </a:solidFill>
                <a:latin typeface="Arial"/>
                <a:cs typeface="FrankRuehl"/>
              </a:rPr>
              <a:t>וּמָה אַתֶּם עוֹשִׂים עִם הַיּ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אֲנַחְנוּ יוֹשְׁבִים וּמְדַבְּרִים , אֲנַחְנוּ הוֹלְכִים לְטַיֵּל... יֵשׁ מַה לַעֲשׂוֹ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אַתָּה רוֹצֶה לְבַקֵּר בַּקִּבּוּץ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כֵּן, אֲנִי רוֹצֶה מְאוֹ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1932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4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3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6858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בְּבַקָּשָׁה ! אַתָּה יוֹדֵעַ אֵיפֹה קִבּוּץ לַהַב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עַל יָד בְּאֵר שֶׁבַע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כֵּן, וְיֵשׁ אוֹטוֹבּוּס מִבְּאֵר שֶׁבַע כָּל יוֹם בִּשְׁתַּיִם (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ea typeface="FrankRuehl"/>
              </a:rPr>
              <a:t>14:00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ea typeface="FrankRueh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תּוֹדָה רַבָּה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בְּבַקָּשָׁה , לְהִתְרָאוֹת בַּקִּבּוּץ</a:t>
            </a:r>
            <a:r>
              <a:rPr b="0" lang="he-IL" sz="1800" spc="-1" strike="noStrike">
                <a:solidFill>
                  <a:srgbClr val="6600cc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ַמִּלִּים הַחֲדָשׁוֹת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كلمات الجديد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4038480"/>
          <a:ext cx="7925040" cy="2362320"/>
        </p:xfrm>
        <a:graphic>
          <a:graphicData uri="http://schemas.openxmlformats.org/drawingml/2006/table">
            <a:tbl>
              <a:tblPr/>
              <a:tblGrid>
                <a:gridCol w="2163960"/>
                <a:gridCol w="1798560"/>
                <a:gridCol w="1981080"/>
                <a:gridCol w="1981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لايوج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אֵי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كيبوت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קִבּוּ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مبان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בִּנְיָנ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صغ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קָט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فى سكن 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בְּבֵית יְלָד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Arabic Transparent"/>
                        </a:rPr>
                        <a:t>الوالد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3300"/>
                          </a:solidFill>
                          <a:latin typeface="Arial"/>
                          <a:cs typeface="FrankRuehl"/>
                        </a:rPr>
                        <a:t>הַהוֹר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7524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0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380880"/>
          <a:ext cx="8229600" cy="623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شق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דִּירָ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أت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ָא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كل 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ָּל יוֹ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الذى لـ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שֶׁ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فعلون (فعل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וֹשִׂים(עָשָׂה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فى الساعة الراب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ְאַרְבּ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تكلمون (تكلم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ְדַבְּרִים (דִּבֵּ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جلسون (جل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וֹשְׁבִים (יָשַׁב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لنتنزه (تنز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טַיֵּל (טִיֵּל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ذهبون (ذهب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הוֹלְכִים (הָלַך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ريد (أراد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רוֹצֶה(רָצָה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مايمكن عمل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ַה לַעֲשׂ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جــــــد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מְאוֹ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أن يزور (زا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בַקֵּר (בִּקֵּ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بجـــو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ַל יָ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يعرف (عر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וֹדֵעַ (יָדַע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أتوبيس – حاف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וֹטוֹבּוּ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Arabic Transparent"/>
                        </a:rPr>
                        <a:t>(مدينة) بئر سب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ְאֵר שֶׁב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شكرا جزي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תּוֹדָה רַבָּ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فى الساعة الثا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בִּשְׁתַּיִ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6600cc"/>
                          </a:solidFill>
                          <a:latin typeface="Times New Roman"/>
                          <a:cs typeface="Arabic Transparent"/>
                        </a:rPr>
                        <a:t>إلى اللق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לְהִתְרָא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3:56:31Z</dcterms:created>
  <dc:creator>DR.FOUAD</dc:creator>
  <dc:description/>
  <dc:language>en-US</dc:language>
  <cp:lastModifiedBy>DR.FOUAD</cp:lastModifiedBy>
  <dcterms:modified xsi:type="dcterms:W3CDTF">2009-04-05T04:46:55Z</dcterms:modified>
  <cp:revision>3</cp:revision>
  <dc:subject/>
  <dc:title>الشريحة 1</dc:title>
</cp:coreProperties>
</file>