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ABB-FA0B-4B05-869F-43AE91B2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E08-176A-4A99-B666-B3D920C4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F00-A506-4AB4-9CF9-6CAB6442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2D9-C317-4601-B30E-AF9ACB17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DDF-2972-41E6-A2F4-6B901FD2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B23-4C04-4997-A570-E0B43D3A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0E7-27F8-42D7-8EBA-197E4826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3F0-36D0-4B82-A922-D9F1A3E8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8F2-17F0-4D6C-ACE2-CAF8A930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710-F317-4C7E-B780-C36CA08F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314-255E-4FF1-8FD7-BEF76DBD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1094-D7E1-42AF-ADD1-F448D07D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A67D-4B58-40DA-A0C6-51BAE5964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589;&#1608;&#1578;%20&#1605;&#1587;&#1580;&#1617;&#1604;" TargetMode="External"/><Relationship Id="rId3" Type="http://schemas.microsoft.com/office/2007/relationships/media" Target="file:///tmp/home/.config/libreoffice/4/user/gallery/&#1589;&#1608;&#1578;%20&#1605;&#1587;&#1580;&#1617;&#1604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589;&#1608;&#1578;%20&#1605;&#1587;&#1580;&#1617;&#1604;" TargetMode="External"/><Relationship Id="rId3" Type="http://schemas.microsoft.com/office/2007/relationships/media" Target="file:///tmp/home/.config/libreoffice/4/user/gallery/&#1589;&#1608;&#1578;%20&#1605;&#1587;&#1580;&#1617;&#1604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589;&#1608;&#1578;%20&#1605;&#1587;&#1580;&#1617;&#1604;" TargetMode="External"/><Relationship Id="rId3" Type="http://schemas.microsoft.com/office/2007/relationships/media" Target="file:///tmp/home/.config/libreoffice/4/user/gallery/&#1589;&#1608;&#1578;%20&#1605;&#1587;&#1580;&#1617;&#1604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5335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יְחִידָה ה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c00cc"/>
                </a:solidFill>
                <a:latin typeface="Arial"/>
                <a:cs typeface="David"/>
              </a:rPr>
              <a:t>מִיכָאֵל רוֹצֶה</a:t>
            </a:r>
            <a:r>
              <a:rPr b="0" lang="he-IL" sz="3200" spc="-1" strike="noStrike">
                <a:solidFill>
                  <a:srgbClr val="cc00cc"/>
                </a:solidFill>
                <a:latin typeface="Arial"/>
                <a:ea typeface="David"/>
              </a:rPr>
              <a:t> </a:t>
            </a:r>
            <a:r>
              <a:rPr b="1" lang="he-IL" sz="3200" spc="-1" strike="noStrike">
                <a:solidFill>
                  <a:srgbClr val="cc00cc"/>
                </a:solidFill>
                <a:latin typeface="Arial"/>
                <a:cs typeface="David"/>
              </a:rPr>
              <a:t>לְבַקֵּר</a:t>
            </a:r>
            <a:r>
              <a:rPr b="0" lang="he-IL" sz="3200" spc="-1" strike="noStrike">
                <a:solidFill>
                  <a:srgbClr val="cc00cc"/>
                </a:solidFill>
                <a:latin typeface="Arial"/>
                <a:ea typeface="David"/>
              </a:rPr>
              <a:t> </a:t>
            </a:r>
            <a:r>
              <a:rPr b="1" lang="he-IL" sz="3200" spc="-1" strike="noStrike">
                <a:solidFill>
                  <a:srgbClr val="cc00cc"/>
                </a:solidFill>
                <a:latin typeface="Arial"/>
                <a:cs typeface="David"/>
              </a:rPr>
              <a:t>בְּקִבּוּץ "לַהַב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905120"/>
            <a:ext cx="7696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6633"/>
                </a:solidFill>
                <a:latin typeface="Arial"/>
                <a:cs typeface="FrankRuehl"/>
              </a:rPr>
              <a:t>אֵיפֹה אַתָּה גָּ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8080"/>
                </a:solidFill>
                <a:latin typeface="Arial"/>
                <a:cs typeface="FrankRuehl"/>
              </a:rPr>
              <a:t>אֲנִי גָּר בְּקִבּוּץ לַהַב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a50021"/>
                </a:solidFill>
                <a:latin typeface="Arial"/>
                <a:cs typeface="FrankRuehl"/>
              </a:rPr>
              <a:t>זֶה  קִבּוּץ גָּדוֹל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99"/>
                </a:solidFill>
                <a:latin typeface="Arial"/>
                <a:cs typeface="FrankRuehl"/>
              </a:rPr>
              <a:t>לֹא , זֶה לֹא קִבּוּץ גָּדוֹל , זֶה קִבּוּץ קָטָן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3366"/>
                </a:solidFill>
                <a:latin typeface="Arial"/>
                <a:cs typeface="FrankRuehl"/>
              </a:rPr>
              <a:t>בַּקִּבּוּץ יֵשׁ בִּנְיָנִים גְּדוֹלִים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3300"/>
                </a:solidFill>
                <a:latin typeface="Arial"/>
                <a:cs typeface="FrankRuehl"/>
              </a:rPr>
              <a:t>לֹא ,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ea typeface="FrankRuehl"/>
              </a:rPr>
              <a:t> </a:t>
            </a:r>
            <a:r>
              <a:rPr b="0" lang="he-IL" sz="3200" spc="-1" strike="noStrike">
                <a:solidFill>
                  <a:srgbClr val="ff3300"/>
                </a:solidFill>
                <a:latin typeface="Arial"/>
                <a:cs typeface="FrankRuehl"/>
              </a:rPr>
              <a:t>בַּקִּבּוּץ יֵשׁ רַק בִּנְיָנִים קְטַנִּים 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800000"/>
                </a:solidFill>
                <a:latin typeface="Arial"/>
                <a:cs typeface="FrankRuehl"/>
              </a:rPr>
              <a:t>גַּם אַתָּה  גָּר בְּבִנְיָן קָטָן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9999"/>
                </a:solidFill>
                <a:latin typeface="Arial"/>
                <a:cs typeface="FrankRuehl"/>
              </a:rPr>
              <a:t>לֹא , </a:t>
            </a:r>
            <a:r>
              <a:rPr b="0" lang="ar-SA" sz="3200" spc="-1" strike="noStrike">
                <a:solidFill>
                  <a:srgbClr val="009999"/>
                </a:solidFill>
                <a:latin typeface="Arial"/>
                <a:ea typeface="FrankRuehl"/>
              </a:rPr>
              <a:t> </a:t>
            </a:r>
            <a:r>
              <a:rPr b="0" lang="he-IL" sz="3200" spc="-1" strike="noStrike">
                <a:solidFill>
                  <a:srgbClr val="009999"/>
                </a:solidFill>
                <a:latin typeface="Arial"/>
                <a:cs typeface="FrankRuehl"/>
              </a:rPr>
              <a:t>אֲנִי גָּר בְּדִּירָה קְטַנָּה עִם רוּתִי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וְהַיְּלָדִים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5238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40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85800"/>
            <a:ext cx="8458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3300"/>
                </a:solidFill>
                <a:latin typeface="Arial"/>
                <a:cs typeface="FrankRuehl"/>
              </a:rPr>
              <a:t>הַיְּלָדִים בְּקִבּוּץ לַהַב לֹא גָּרִים עִם הַהוֹרִים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6600cc"/>
                </a:solidFill>
                <a:latin typeface="Arial"/>
                <a:cs typeface="FrankRuehl"/>
              </a:rPr>
              <a:t>אֵיפֹה הֵם גָּרִים </a:t>
            </a:r>
            <a:r>
              <a:rPr b="0" lang="ar-SA" sz="3200" spc="-1" strike="noStrike">
                <a:solidFill>
                  <a:srgbClr val="6600cc"/>
                </a:solidFill>
                <a:latin typeface="Arial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8080"/>
                </a:solidFill>
                <a:latin typeface="Arial"/>
                <a:cs typeface="FrankRuehl"/>
              </a:rPr>
              <a:t>הַיְּלָדִים גָּרִים בְּבֵית הַיְלָדִים . אֲבָל הֵם בָּאִים לַדִּירָה שֶׁל הַהוֹרִים כָּל יוֹם בְּאַרְבַּע (</a:t>
            </a:r>
            <a:r>
              <a:rPr b="0" lang="he-IL" sz="3200" spc="-1" strike="noStrike">
                <a:solidFill>
                  <a:srgbClr val="008080"/>
                </a:solidFill>
                <a:latin typeface="Arial"/>
                <a:ea typeface="FrankRuehl"/>
              </a:rPr>
              <a:t>16:00</a:t>
            </a:r>
            <a:r>
              <a:rPr b="0" lang="he-IL" sz="3200" spc="-1" strike="noStrike">
                <a:solidFill>
                  <a:srgbClr val="008080"/>
                </a:solidFill>
                <a:latin typeface="Arial"/>
                <a:ea typeface="FrankRueh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9900"/>
                </a:solidFill>
                <a:latin typeface="Arial"/>
                <a:cs typeface="FrankRuehl"/>
              </a:rPr>
              <a:t>וּמָה אַתֶּם עוֹשִׂים עִם הַיְּלָדִים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6633"/>
                </a:solidFill>
                <a:latin typeface="Arial"/>
                <a:cs typeface="FrankRuehl"/>
              </a:rPr>
              <a:t>אֲנַחְנוּ יוֹשְׁבִים וּמְדַבְּרִים , אֲנַחְנוּ הוֹלְכִים לְטַיֵּל... יֵשׁ מַה לַעֲשׂוֹת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cc00cc"/>
                </a:solidFill>
                <a:latin typeface="Arial"/>
                <a:cs typeface="FrankRuehl"/>
              </a:rPr>
              <a:t>אַתָּה רוֹצֶה לְבַקֵּר בַּקִּבּוּץ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כֵּן, אֲנִי רוֹצֶה מְאוֹד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219320" y="4038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4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3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68580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cc3300"/>
                </a:solidFill>
                <a:latin typeface="Arial"/>
                <a:cs typeface="FrankRuehl"/>
              </a:rPr>
              <a:t>בְּבַקָּשָׁה ! אַתָּה יוֹדֵעַ אֵיפֹה קִבּוּץ לַהַב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6633"/>
                </a:solidFill>
                <a:latin typeface="Arial"/>
                <a:cs typeface="FrankRuehl"/>
              </a:rPr>
              <a:t>עַל יָד בְּאֵר שֶׁבַע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9999"/>
                </a:solidFill>
                <a:latin typeface="Arial"/>
                <a:cs typeface="FrankRuehl"/>
              </a:rPr>
              <a:t>כֵּן, וְיֵשׁ אוֹטוֹבּוּס מִבְּאֵר שֶׁבַע כָּל יוֹם בִּשְׁתַּיִם (</a:t>
            </a:r>
            <a:r>
              <a:rPr b="0" lang="he-IL" sz="3200" spc="-1" strike="noStrike">
                <a:solidFill>
                  <a:srgbClr val="009999"/>
                </a:solidFill>
                <a:latin typeface="Arial"/>
                <a:ea typeface="FrankRuehl"/>
              </a:rPr>
              <a:t>14:00</a:t>
            </a:r>
            <a:r>
              <a:rPr b="0" lang="he-IL" sz="3200" spc="-1" strike="noStrike">
                <a:solidFill>
                  <a:srgbClr val="009999"/>
                </a:solidFill>
                <a:latin typeface="Arial"/>
                <a:ea typeface="FrankRueh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cc00cc"/>
                </a:solidFill>
                <a:latin typeface="Arial"/>
                <a:cs typeface="FrankRuehl"/>
              </a:rPr>
              <a:t>תּוֹדָה רַבָּה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6600cc"/>
                </a:solidFill>
                <a:latin typeface="Arial"/>
                <a:cs typeface="FrankRuehl"/>
              </a:rPr>
              <a:t>בְּבַקָּשָׁה , לְהִתְרָאוֹת בַּקִּבּוּץ</a:t>
            </a:r>
            <a:r>
              <a:rPr b="0" lang="he-IL" sz="1800" spc="-1" strike="noStrike">
                <a:solidFill>
                  <a:srgbClr val="6600cc"/>
                </a:solidFill>
                <a:latin typeface="Arial"/>
              </a:rPr>
              <a:t>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4290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הַמִּלִּים הַחֲדָשׁוֹת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كلمات الجديد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9480" y="4038480"/>
          <a:ext cx="7925040" cy="2362320"/>
        </p:xfrm>
        <a:graphic>
          <a:graphicData uri="http://schemas.openxmlformats.org/drawingml/2006/table">
            <a:tbl>
              <a:tblPr/>
              <a:tblGrid>
                <a:gridCol w="2163960"/>
                <a:gridCol w="1798560"/>
                <a:gridCol w="1981080"/>
                <a:gridCol w="19814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عناه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كلم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عناه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كلم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لايوج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3300"/>
                          </a:solidFill>
                          <a:latin typeface="Arial"/>
                          <a:cs typeface="FrankRuehl"/>
                        </a:rPr>
                        <a:t>אֵי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كيبوتس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3300"/>
                          </a:solidFill>
                          <a:latin typeface="Arial"/>
                          <a:cs typeface="FrankRuehl"/>
                        </a:rPr>
                        <a:t>קִבּוּ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بان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3300"/>
                          </a:solidFill>
                          <a:latin typeface="Arial"/>
                          <a:cs typeface="FrankRuehl"/>
                        </a:rPr>
                        <a:t>בִּנְיָנִי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صغي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3300"/>
                          </a:solidFill>
                          <a:latin typeface="Arial"/>
                          <a:cs typeface="FrankRuehl"/>
                        </a:rPr>
                        <a:t>קָטָ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فى سكن الأطف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3300"/>
                          </a:solidFill>
                          <a:latin typeface="Arial"/>
                          <a:cs typeface="FrankRuehl"/>
                        </a:rPr>
                        <a:t>בְּבֵית יְלָדִי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والدا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3300"/>
                          </a:solidFill>
                          <a:latin typeface="Arial"/>
                          <a:cs typeface="FrankRuehl"/>
                        </a:rPr>
                        <a:t>הַהוֹרִי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75248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20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380880"/>
          <a:ext cx="8229600" cy="623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Times New Roman"/>
                          <a:cs typeface="Arabic Transparent"/>
                        </a:rPr>
                        <a:t>معنا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Times New Roman"/>
                          <a:cs typeface="Arabic Transparent"/>
                        </a:rPr>
                        <a:t>الكل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Times New Roman"/>
                          <a:cs typeface="Arabic Transparent"/>
                        </a:rPr>
                        <a:t>معنا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Times New Roman"/>
                          <a:cs typeface="Arabic Transparent"/>
                        </a:rPr>
                        <a:t>الكل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شق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דִּירָ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يأتو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בָּאִ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كل يو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כָּל יוֹ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الذى لـ 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שֶׁ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يفعلون (فعل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עוֹשִׂים(עָשָׂה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فى الساعة الرابع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בְּאַרְבַּ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يتكلمون (تكلم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מְדַבְּרִים (דִּבֵּר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يجلسون (جلس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יוֹשְׁבִים (יָשַׁב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لنتنزه (تنز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לְטַיֵּל (טִיֵּל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يذهبون (ذهب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הוֹלְכִים (הָלַך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يريد (أراد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רוֹצֶה(רָצָה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مايمكن عمل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מַה לַעֲשׂוֹ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جــــــدا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מְאוֹ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أن يزور (زا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לְבַקֵּר (בִּקֵּר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بجـــو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עַל יָ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يعرف (عرف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יוֹדֵעַ (יָדַע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أتوبيس – حاف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אוֹטוֹבּוּ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ea typeface="Arabic Transparent"/>
                        </a:rPr>
                        <a:t>(مدينة) بئر سب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בְּאֵר שֶׁבַ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شكرا جزيل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תּוֹדָה רַבָּ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فى الساعة الثان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בִּשְׁתַּיִ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إلى اللقا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לְהִתְרָאוֹ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3:56:31Z</dcterms:created>
  <dc:creator>DR.FOUAD</dc:creator>
  <dc:description/>
  <dc:language>en-US</dc:language>
  <cp:lastModifiedBy>DR.FOUAD</cp:lastModifiedBy>
  <dcterms:modified xsi:type="dcterms:W3CDTF">2009-04-05T04:46:55Z</dcterms:modified>
  <cp:revision>3</cp:revision>
  <dc:subject/>
  <dc:title>الشريحة 1</dc:title>
</cp:coreProperties>
</file>