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268-7A12-4F8C-BD15-EFC85C0E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35A-202A-408F-9892-39E39A5B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5AF-5743-4C34-A312-FC397B00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EB0-7E25-451D-904C-E81BF158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A0B-2433-423F-B0B0-E86452A2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E11-B8AF-474A-8E89-0EE859B9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E9A-B17F-46F0-84A4-AD1A005B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3E9-6396-4988-9AA8-F1196778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F59-48DA-4F82-9D98-0747A128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7EA-5536-4D3D-AC1B-CE1E980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E09-80C6-4A60-B9AC-B03A5BA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84B-E645-48A0-AD28-94ACDEE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1d1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D89-D6FC-478D-A1DB-86144E0F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1d1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263160"/>
            <a:ext cx="499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ַמִּסְפָּרִים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2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בִּנְּקֵבָ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8229600" cy="5869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اثنت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תַּיִם - שְׁתֵּ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إحد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חַ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أرب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רְבּ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لا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ָלוֹש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ֵש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خـم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חָמֵש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מוֹנֶ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ب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ֶב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عش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עֶשֶׂ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تس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תֵּשׁ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اثنتا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תֵּים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احدى ع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חַת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أربع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רְבַּע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لاث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לוֹשׁ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ت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ֵשׁ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خـمس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חֲמֵשׁ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مانى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מוֹנֶה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بع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בַע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عشر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עֶשְׂר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تسع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תְּשַׁע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9:56:00Z</dcterms:created>
  <dc:creator>DR.FOUAD</dc:creator>
  <dc:description/>
  <dc:language>en-US</dc:language>
  <cp:lastModifiedBy>DR.FOUAD</cp:lastModifiedBy>
  <dcterms:modified xsi:type="dcterms:W3CDTF">2009-04-10T20:03:09Z</dcterms:modified>
  <cp:revision>2</cp:revision>
  <dc:subject/>
  <dc:title>الشريحة 1</dc:title>
</cp:coreProperties>
</file>