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81E-8C82-441D-9706-72AFCA76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B3D-F6ED-480F-8FE8-A2006267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A67-5C6B-4595-BA60-B702D5FE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BF6-2EE5-4664-8044-12F306B5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D93-B776-457E-A07A-499485B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FA0-F8B8-4756-AAF4-1B9F53D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F80-C38B-48BC-9476-78A00115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708-9E0D-46AC-BEC4-E216F341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325-778C-4A11-A2AD-0EBCB4B4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37B-5093-43C4-A670-DDE3239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C87-D467-4E59-9C0C-061EC81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C89-6AE5-4980-80B3-2F12D67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1d1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FBEF-BFA1-4D7A-BE90-7A59AE58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589;&#1608;&#1578;%20&#1605;&#1587;&#1580;&#1617;&#1604;" TargetMode="External"/><Relationship Id="rId2" Type="http://schemas.microsoft.com/office/2007/relationships/media" Target="file:///tmp/home/.config/libreoffice/4/user/gallery/&#1589;&#1608;&#1578;%20&#1605;&#1587;&#1580;&#1617;&#1604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1d1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263160"/>
            <a:ext cx="499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  <a:cs typeface="David"/>
              </a:rPr>
              <a:t>הַמִּסְפָּרִים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2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  <a:ea typeface="David"/>
              </a:rPr>
              <a:t> בִּנְּקֵבָ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8229600" cy="5869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6666"/>
                          </a:solidFill>
                          <a:latin typeface="Times New Roman"/>
                          <a:cs typeface="Arabic Transparent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اثنت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תַּיִם - שְׁתֵּ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إحد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חַ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أرب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רְבּ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لا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ָלוֹש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ֵש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خـم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חָמֵש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מוֹנֶ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ب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ֶב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عش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עֶשֶׂ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تس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תֵּשַׁ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اثنتا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תֵּים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احدى ع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חַת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أربع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אַרְבַּע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لاث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לוֹשׁ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ت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ֵשׁ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خـمس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חֲמֵשׁ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ثمانى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מוֹנֶה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سبع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שְׁבַע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عشر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עֶשְׂרִ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c3300"/>
                          </a:solidFill>
                          <a:latin typeface="Times New Roman"/>
                          <a:cs typeface="Arabic Transparent"/>
                        </a:rPr>
                        <a:t>تسع عش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800" spc="-1" strike="noStrike">
                          <a:solidFill>
                            <a:srgbClr val="0000cc"/>
                          </a:solidFill>
                          <a:latin typeface="Times New Roman"/>
                          <a:cs typeface="FrankRuehl"/>
                        </a:rPr>
                        <a:t>תְּשַׁע עֶשְׂרֵ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9:56:00Z</dcterms:created>
  <dc:creator>DR.FOUAD</dc:creator>
  <dc:description/>
  <dc:language>en-US</dc:language>
  <cp:lastModifiedBy>DR.FOUAD</cp:lastModifiedBy>
  <dcterms:modified xsi:type="dcterms:W3CDTF">2009-04-10T20:03:09Z</dcterms:modified>
  <cp:revision>2</cp:revision>
  <dc:subject/>
  <dc:title>الشريحة 1</dc:title>
</cp:coreProperties>
</file>