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66CE8-8F8C-4F93-8CB6-2C60FDD7A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685800" y="1143000"/>
            <a:ext cx="5486400" cy="3086280"/>
          </a:xfrm>
          <a:prstGeom prst="rect">
            <a:avLst/>
          </a:prstGeom>
          <a:ln w="0">
            <a:noFill/>
          </a:ln>
        </p:spPr>
      </p:sp>
      <p:sp>
        <p:nvSpPr>
          <p:cNvPr id="3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43794-A272-4004-868E-10A1542F4F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8537A-9581-415C-9893-E7412D395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9ADC-8DFF-4AEE-96CD-7E5B9A497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165FA-65CB-4DFA-8958-B8F051B87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7FEF9-88FF-41E8-936E-9FA3F1486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F0BE1-3ADC-4CF4-A4F3-09C6DD057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A3B17-7E87-43F1-B078-2BFDE5E08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E5452-8FD8-4FA2-ABBD-718C8B904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47BCF-C1E6-4289-9EB1-DEA915E9F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BCF7D-6EE5-44E0-A504-8C400B2F6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C59C-635C-49FC-A137-6F723E4AF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B49A7-8508-47C5-AC75-2C05A539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C81E-175F-4E7B-815E-9BD4482A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694B5-659E-484B-911E-FE233CA13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19266-AA6E-4FB3-96E2-D4345D19B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B8C15-553D-405B-B536-D15EE3E78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DCF20-31C3-4CAE-A409-0D91BA292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0A951-72D1-4B7A-BC2C-5EED88162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ACA64-7AC9-475C-92BC-5A020FB57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92629-7B5E-4443-9BF6-B2910F5D7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89FAF-5034-4CCE-9ECF-251513BFA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F4041-21C8-4573-9D76-1E7D16F4C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03CE9-3126-4B6F-AEB1-D62A8F951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5BB1-393B-4029-927D-09CFA3F5F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C56B3-52DF-4657-BE15-C3CEC80CD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8E87D-163B-4C85-9CB4-E9A2002DC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6CDC1-052A-4130-B76D-1FF713F7B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08885-3D66-48CF-82E9-07459BC28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05FAA-D142-4623-B68C-D1DD3EBF1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DB4652-9433-49FA-A2D1-B0FBD14A15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1340F5-E709-446D-A231-AC945B76C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B5A9C8-09F6-42D0-A45E-9D2F1ED78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F4ED6-4B9A-4C05-A2DE-14961C060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23DE6-464F-45FD-9BE7-97107EE65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F708-86FD-4821-9590-121135A0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8F27E-B6A2-44C5-90B9-0EA1905063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A93C2-2553-42A9-A653-461C11334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05016-0287-4F79-B971-6E97CED6A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4F91A-3F34-49B4-A34D-87E622749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F281E-DD63-4F71-8879-520F2D7EB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ABE7F-3626-40FD-A503-7A8530F48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08436-2E3C-4E82-966B-BF873610B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EB3C0E-982E-44D1-9024-C1E9C79EB6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B179F2-AE3C-4543-8F88-B8A5D144BC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4CBF3-A116-4160-A0CA-AEF09AC4C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B2FB0-DF60-4032-95C2-C21ECBA88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705FF-86E0-4412-8F52-F9C362E4D5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9C4F4-766A-4D6D-A01D-1F44643AE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6E581-AE15-4D1B-888A-D3E5C0669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CE425A-D51B-40C8-B14F-7E20B9372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7B1DF-F79B-405D-88CF-E9476AFB5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56B29-485F-4F48-884C-AA09E49B9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10598-0B4C-4711-9F90-8CFD0D028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ADB5B-55DC-4792-8BE8-802DB6AA0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D9A42-FEE9-49C2-9BFA-38CB0BBF2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62001-FB9C-4A5D-96EA-75E5EF406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87F8F-CE3C-4691-9034-3E4F4736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B6549-10D0-4186-8707-427768E74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50D5D-5854-4F99-95B6-D7354F229B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4673A7-6D4A-4661-8A5D-7E0278233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D8F61-CBB1-47D8-A639-84DF9E2F8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443F1-F7DE-4874-82C9-7A2428A6F6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E5BF98-D72E-4D19-A024-6B4403FB05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AEF42-30CF-40FD-9581-AB8A00730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BC315-AE85-48B8-9FAD-3ABEDB1CF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E4B50-DE99-4CE8-97B2-69082A1ED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FE312-ACB9-4E07-A660-39AF0D46E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D578-07E2-4D08-9EEC-9302ECD1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B8EAD-9476-43B5-BA16-3CAD84919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644060-06F8-49BD-91E8-C4C813C2E7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0D1A19-4633-4A72-AB39-EC9CCF42AA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D129E1-72DD-46A9-9159-0D55130E4B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9E4AB-ABA8-4297-ADC8-44CF14A1F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82A16-D783-4C30-99EB-5C3214475D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EEE35-0DB2-49A2-9C20-3AB9BB526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8DB9B-B86D-4D37-BC3A-D9BB23477D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A5A77-1C6C-497D-9AFB-AE037F044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6FC38-86B8-4D23-8F41-E00A8791A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4D1EC-DA70-4D27-A6E3-CBEB4FF0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353D8-F3C3-428E-86DB-BB3250A63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42079-F2F2-43C1-AE0A-DE02BA078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718BD-58D9-40DE-9F3A-8169A0FC1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98C2E8-B801-4A95-A78E-E7453B42A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8DA43B-BCD8-47C9-B6BD-11A7D766DB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771A2-C050-4638-BB2B-D153C8B5A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4DEDE-E1B1-40DC-9E03-2168F9C0DDA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F281A-5AC7-4CBC-8FD5-2B5F723A51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0B49A-463E-4CB8-94E1-245831AC1EE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5200F-0430-490D-B9B0-01AA709FB22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0E697-3FF9-4232-B564-3A2F26C3C0A1}"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8C0FB-A1B0-48C6-9CCA-773C98F52AF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68689-AF7F-4300-912F-E324A93111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593640"/>
            <a:ext cx="3200400" cy="2286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MANAGEMENT</a:t>
            </a:r>
            <a:endParaRPr b="0" lang="en-US" sz="3600" spc="-1" strike="noStrike">
              <a:solidFill>
                <a:srgbClr val="404040"/>
              </a:solidFill>
              <a:latin typeface="Calibri Light"/>
            </a:endParaRPr>
          </a:p>
        </p:txBody>
      </p:sp>
      <p:pic>
        <p:nvPicPr>
          <p:cNvPr id="312" name="Content Placeholder 8" descr=""/>
          <p:cNvPicPr/>
          <p:nvPr/>
        </p:nvPicPr>
        <p:blipFill>
          <a:blip r:embed="rId1"/>
          <a:stretch/>
        </p:blipFill>
        <p:spPr>
          <a:xfrm>
            <a:off x="4402080" y="123840"/>
            <a:ext cx="7593120" cy="6524640"/>
          </a:xfrm>
          <a:prstGeom prst="rect">
            <a:avLst/>
          </a:prstGeom>
          <a:ln w="0">
            <a:noFill/>
          </a:ln>
        </p:spPr>
      </p:pic>
      <p:sp>
        <p:nvSpPr>
          <p:cNvPr id="313" name="PlaceHolder 2"/>
          <p:cNvSpPr>
            <a:spLocks noGrp="1"/>
          </p:cNvSpPr>
          <p:nvPr>
            <p:ph/>
          </p:nvPr>
        </p:nvSpPr>
        <p:spPr>
          <a:xfrm>
            <a:off x="457200" y="2925720"/>
            <a:ext cx="3200400" cy="3379680"/>
          </a:xfrm>
          <a:prstGeom prst="rect">
            <a:avLst/>
          </a:prstGeom>
          <a:noFill/>
          <a:ln w="0">
            <a:noFill/>
          </a:ln>
        </p:spPr>
        <p:txBody>
          <a:bodyPr anchor="t">
            <a:norm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pic>
        <p:nvPicPr>
          <p:cNvPr id="314" name="Rectangle 6" descr=""/>
          <p:cNvPicPr/>
          <p:nvPr/>
        </p:nvPicPr>
        <p:blipFill>
          <a:blip r:embed="rId2"/>
          <a:stretch/>
        </p:blipFill>
        <p:spPr>
          <a:xfrm>
            <a:off x="847800" y="987480"/>
            <a:ext cx="2419200" cy="1085760"/>
          </a:xfrm>
          <a:prstGeom prst="rect">
            <a:avLst/>
          </a:prstGeom>
          <a:ln w="0">
            <a:noFill/>
          </a:ln>
        </p:spPr>
      </p:pic>
      <p:pic>
        <p:nvPicPr>
          <p:cNvPr id="315" name="Rectangle 7" descr=""/>
          <p:cNvPicPr/>
          <p:nvPr/>
        </p:nvPicPr>
        <p:blipFill>
          <a:blip r:embed="rId3"/>
          <a:stretch/>
        </p:blipFill>
        <p:spPr>
          <a:xfrm>
            <a:off x="768240" y="3492360"/>
            <a:ext cx="2694240" cy="927360"/>
          </a:xfrm>
          <a:prstGeom prst="rect">
            <a:avLst/>
          </a:prstGeom>
          <a:ln w="0">
            <a:noFill/>
          </a:ln>
        </p:spPr>
      </p:pic>
      <p:sp>
        <p:nvSpPr>
          <p:cNvPr id="316" name="TextBox 9"/>
          <p:cNvSpPr/>
          <p:nvPr/>
        </p:nvSpPr>
        <p:spPr>
          <a:xfrm>
            <a:off x="770040" y="5038560"/>
            <a:ext cx="288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r. Isabelita Pandaa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 descr=""/>
          <p:cNvPicPr/>
          <p:nvPr/>
        </p:nvPicPr>
        <p:blipFill>
          <a:blip r:embed="rId1"/>
          <a:stretch/>
        </p:blipFill>
        <p:spPr>
          <a:xfrm>
            <a:off x="352440" y="217440"/>
            <a:ext cx="6434280" cy="6073920"/>
          </a:xfrm>
          <a:prstGeom prst="rect">
            <a:avLst/>
          </a:prstGeom>
          <a:ln w="0">
            <a:noFill/>
          </a:ln>
        </p:spPr>
      </p:pic>
      <p:pic>
        <p:nvPicPr>
          <p:cNvPr id="334" name="Rectangle 4" descr=""/>
          <p:cNvPicPr/>
          <p:nvPr/>
        </p:nvPicPr>
        <p:blipFill>
          <a:blip r:embed="rId2"/>
          <a:stretch/>
        </p:blipFill>
        <p:spPr>
          <a:xfrm>
            <a:off x="6291360" y="500040"/>
            <a:ext cx="6053040" cy="501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0000"/>
                </a:solidFill>
                <a:latin typeface="Calibri Light"/>
              </a:rPr>
              <a:t>Pain Transmission</a:t>
            </a:r>
            <a:endParaRPr b="0" lang="en-US" sz="4800" spc="-1" strike="noStrike">
              <a:solidFill>
                <a:srgbClr val="404040"/>
              </a:solidFill>
              <a:latin typeface="Calibri Light"/>
            </a:endParaRPr>
          </a:p>
        </p:txBody>
      </p:sp>
      <p:sp>
        <p:nvSpPr>
          <p:cNvPr id="33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Nerve mechanisms and structures involved in the transmission of pain perception to and from the area of the brai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A. Nociceptor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B. Pain Receptor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C. Chemical Mediators</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11047320" cy="7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6ec4"/>
                </a:solidFill>
                <a:latin typeface="Verdana"/>
              </a:rPr>
              <a:t>Pathophysiology of Pain</a:t>
            </a:r>
            <a:endParaRPr b="0" lang="en-US" sz="2800" spc="-1" strike="noStrike">
              <a:solidFill>
                <a:srgbClr val="404040"/>
              </a:solidFill>
              <a:latin typeface="Calibri Light"/>
            </a:endParaRPr>
          </a:p>
        </p:txBody>
      </p:sp>
      <p:sp>
        <p:nvSpPr>
          <p:cNvPr id="338" name=""/>
          <p:cNvSpPr txBox="1"/>
          <p:nvPr/>
        </p:nvSpPr>
        <p:spPr>
          <a:xfrm>
            <a:off x="356760" y="1116000"/>
            <a:ext cx="10937880" cy="5067360"/>
          </a:xfrm>
          <a:prstGeom prst="rect">
            <a:avLst/>
          </a:prstGeom>
          <a:noFill/>
          <a:ln w="0">
            <a:noFill/>
          </a:ln>
        </p:spPr>
        <p:txBody>
          <a:bodyPr lIns="0" rIns="0" anchor="t">
            <a:normAutofit fontScale="76000"/>
          </a:bodyPr>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ain begins in the presence of an intense and potentially damaging stimuli. Stimuli can be mechanical, thermal, or chemical in nature.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is triggers a response from the Nociceptors (free nerve endings in the skin). Nociceptors’ nerve fibers branch very near to the origin and sends fibers to the local blood vessels, mast cells, hair follicles and sweat glands.</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When fibers are stimulated, histamine is released from the mast cells causing vasodilation.</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04040"/>
                </a:solidFill>
                <a:latin typeface="Calibri"/>
              </a:rPr>
              <a:t>      </a:t>
            </a:r>
            <a:endParaRPr b="0" lang="en-US" sz="700" spc="-1" strike="noStrike">
              <a:solidFill>
                <a:srgbClr val="404040"/>
              </a:solidFill>
              <a:latin typeface="Calibri"/>
            </a:endParaRPr>
          </a:p>
          <a:p>
            <a:pPr marL="68400" indent="-684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a:p>
            <a:pPr marL="68400" indent="-6840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96920" y="287280"/>
            <a:ext cx="10058400" cy="8841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Chemical Substances</a:t>
            </a:r>
            <a:endParaRPr b="0" lang="en-US" sz="4800" spc="-1" strike="noStrike">
              <a:solidFill>
                <a:srgbClr val="404040"/>
              </a:solidFill>
              <a:latin typeface="Calibri Light"/>
            </a:endParaRPr>
          </a:p>
        </p:txBody>
      </p:sp>
      <p:sp>
        <p:nvSpPr>
          <p:cNvPr id="340" name=""/>
          <p:cNvSpPr txBox="1"/>
          <p:nvPr/>
        </p:nvSpPr>
        <p:spPr>
          <a:xfrm>
            <a:off x="1096920" y="1738440"/>
            <a:ext cx="10058400" cy="4130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lgogenic ( pain – causing) substances affect sensitivity of nociceptors released from the extracellular tissue because of tissue damag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Prostaglandin  - increases the sensitivity of pain receptors by enhancing the pain provoking effect of bradykinin.</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ndorphins, enkephalins (suppress pain reception) -  reduce or inhibit the transmission or perception of pain.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4" descr="E:\Suvarna\Connection\CD\Smeltzer IRDVD\Project SRC\Beta 1\PPT images\figure_13-1.jpg"/>
          <p:cNvPicPr/>
          <p:nvPr/>
        </p:nvPicPr>
        <p:blipFill>
          <a:blip r:embed="rId1"/>
          <a:stretch/>
        </p:blipFill>
        <p:spPr>
          <a:xfrm>
            <a:off x="2041560" y="2011320"/>
            <a:ext cx="7434360" cy="4083120"/>
          </a:xfrm>
          <a:prstGeom prst="rect">
            <a:avLst/>
          </a:prstGeom>
          <a:ln w="0">
            <a:noFill/>
          </a:ln>
        </p:spPr>
      </p:pic>
      <p:pic>
        <p:nvPicPr>
          <p:cNvPr id="342" name="Rectangle 4" descr=""/>
          <p:cNvPicPr/>
          <p:nvPr/>
        </p:nvPicPr>
        <p:blipFill>
          <a:blip r:embed="rId2"/>
          <a:stretch/>
        </p:blipFill>
        <p:spPr>
          <a:xfrm>
            <a:off x="0" y="85680"/>
            <a:ext cx="12045960" cy="227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E:\Suvarna\Connection\CD\Smeltzer IRDVD\Project SRC\Beta 1\PPT images\figure_13-2.jpg"/>
          <p:cNvPicPr/>
          <p:nvPr/>
        </p:nvPicPr>
        <p:blipFill>
          <a:blip r:embed="rId1"/>
          <a:stretch/>
        </p:blipFill>
        <p:spPr>
          <a:xfrm>
            <a:off x="665280" y="647640"/>
            <a:ext cx="5029200" cy="4638600"/>
          </a:xfrm>
          <a:prstGeom prst="rect">
            <a:avLst/>
          </a:prstGeom>
          <a:ln w="0">
            <a:noFill/>
          </a:ln>
        </p:spPr>
      </p:pic>
      <p:pic>
        <p:nvPicPr>
          <p:cNvPr id="344" name="Rectangle 2" descr=""/>
          <p:cNvPicPr/>
          <p:nvPr/>
        </p:nvPicPr>
        <p:blipFill>
          <a:blip r:embed="rId2"/>
          <a:stretch/>
        </p:blipFill>
        <p:spPr>
          <a:xfrm>
            <a:off x="3333600" y="19080"/>
            <a:ext cx="9029880" cy="14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22240" y="1557360"/>
            <a:ext cx="6096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Past experienc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nxiety</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epression</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ultur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ge</a:t>
            </a:r>
            <a:endParaRPr b="0" lang="en-US" sz="4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Gender</a:t>
            </a:r>
            <a:endParaRPr b="0" lang="en-US" sz="4800" spc="-1" strike="noStrike">
              <a:solidFill>
                <a:srgbClr val="000000"/>
              </a:solidFill>
              <a:latin typeface="Calibri"/>
            </a:endParaRPr>
          </a:p>
        </p:txBody>
      </p:sp>
      <p:sp>
        <p:nvSpPr>
          <p:cNvPr id="346" name="Rectangle 2"/>
          <p:cNvSpPr/>
          <p:nvPr/>
        </p:nvSpPr>
        <p:spPr>
          <a:xfrm>
            <a:off x="140760" y="219240"/>
            <a:ext cx="10597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Factors that Influence Pain Response </a:t>
            </a:r>
            <a:endParaRPr b="0" lang="en-US" sz="5400" spc="-1" strike="noStrike">
              <a:solidFill>
                <a:srgbClr val="000000"/>
              </a:solidFill>
              <a:latin typeface="Calibri"/>
            </a:endParaRPr>
          </a:p>
        </p:txBody>
      </p:sp>
      <p:sp>
        <p:nvSpPr>
          <p:cNvPr id="347" name="TextBox 3"/>
          <p:cNvSpPr/>
          <p:nvPr/>
        </p:nvSpPr>
        <p:spPr>
          <a:xfrm>
            <a:off x="6108840" y="1749600"/>
            <a:ext cx="4651200" cy="3506040"/>
          </a:xfrm>
          <a:prstGeom prst="rect">
            <a:avLst/>
          </a:prstGeom>
          <a:solidFill>
            <a:srgbClr val="c1cab6"/>
          </a:solidFill>
          <a:ln w="15840">
            <a:solidFill>
              <a:srgbClr val="bd582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3200" spc="-1" strike="noStrike">
                <a:solidFill>
                  <a:srgbClr val="000000"/>
                </a:solidFill>
                <a:latin typeface="Calibri"/>
              </a:rPr>
              <a:t>****These factors may increase or decrease the person’s perception of pain, increase or decrease tolerance for pain, and affect the responses to p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1" descr=""/>
          <p:cNvPicPr/>
          <p:nvPr/>
        </p:nvPicPr>
        <p:blipFill>
          <a:blip r:embed="rId1"/>
          <a:stretch/>
        </p:blipFill>
        <p:spPr>
          <a:xfrm>
            <a:off x="324000" y="1725480"/>
            <a:ext cx="11307600" cy="216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517680" y="446040"/>
            <a:ext cx="9051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800" spc="-1" strike="noStrike">
                <a:solidFill>
                  <a:srgbClr val="000000"/>
                </a:solidFill>
                <a:latin typeface="Calibri"/>
              </a:rPr>
              <a:t>  </a:t>
            </a:r>
            <a:r>
              <a:rPr b="0" lang="en-PH" sz="4800" spc="-1" strike="noStrike">
                <a:solidFill>
                  <a:srgbClr val="000000"/>
                </a:solidFill>
                <a:latin typeface="AR BLANCA"/>
              </a:rPr>
              <a:t>CHARACTERISTICS OF PAIN</a:t>
            </a:r>
            <a:endParaRPr b="0" lang="en-US" sz="4800" spc="-1" strike="noStrike">
              <a:solidFill>
                <a:srgbClr val="000000"/>
              </a:solidFill>
              <a:latin typeface="Calibri"/>
            </a:endParaRPr>
          </a:p>
        </p:txBody>
      </p:sp>
      <p:sp>
        <p:nvSpPr>
          <p:cNvPr id="350" name="TextBox 6"/>
          <p:cNvSpPr/>
          <p:nvPr/>
        </p:nvSpPr>
        <p:spPr>
          <a:xfrm>
            <a:off x="1236600" y="1278000"/>
            <a:ext cx="41086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Intensity</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Timing</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Location</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Quality</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Personal Meaning</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Aggravating and Alleviating Factors</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PH" sz="4000" spc="-1" strike="noStrike">
                <a:solidFill>
                  <a:srgbClr val="000000"/>
                </a:solidFill>
                <a:latin typeface="Calibri"/>
              </a:rPr>
              <a:t>Pain Behavi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Instruments used for Assessing the Patient’s Perception of Pain</a:t>
            </a:r>
            <a:endParaRPr b="0" lang="en-US" sz="4800" spc="-1" strike="noStrike">
              <a:solidFill>
                <a:srgbClr val="404040"/>
              </a:solidFill>
              <a:latin typeface="Calibri Light"/>
            </a:endParaRPr>
          </a:p>
        </p:txBody>
      </p:sp>
      <p:sp>
        <p:nvSpPr>
          <p:cNvPr id="352" name=""/>
          <p:cNvSpPr txBox="1"/>
          <p:nvPr/>
        </p:nvSpPr>
        <p:spPr>
          <a:xfrm>
            <a:off x="1096920" y="1725120"/>
            <a:ext cx="10058400" cy="40230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Visual Analogue Scal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Faces Pain Scale, Revised</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53" name="Picture 3" descr="E:\Suvarna\Connection\CD\Smeltzer IRDVD\Project SRC\Beta 1\PPT images\figure_13-3.jpg"/>
          <p:cNvPicPr/>
          <p:nvPr/>
        </p:nvPicPr>
        <p:blipFill>
          <a:blip r:embed="rId1"/>
          <a:srcRect l="0" t="67935" r="-5357" b="0"/>
          <a:stretch/>
        </p:blipFill>
        <p:spPr>
          <a:xfrm>
            <a:off x="4754520" y="1903320"/>
            <a:ext cx="6567480" cy="1484280"/>
          </a:xfrm>
          <a:prstGeom prst="rect">
            <a:avLst/>
          </a:prstGeom>
          <a:ln w="0">
            <a:noFill/>
          </a:ln>
        </p:spPr>
      </p:pic>
      <p:pic>
        <p:nvPicPr>
          <p:cNvPr id="354" name="Picture 4" descr=""/>
          <p:cNvPicPr/>
          <p:nvPr/>
        </p:nvPicPr>
        <p:blipFill>
          <a:blip r:embed="rId2"/>
          <a:stretch/>
        </p:blipFill>
        <p:spPr>
          <a:xfrm>
            <a:off x="4356000" y="4149720"/>
            <a:ext cx="55245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Objectives </a:t>
            </a:r>
            <a:endParaRPr b="0" lang="en-US" sz="4800" spc="-1" strike="noStrike">
              <a:solidFill>
                <a:srgbClr val="404040"/>
              </a:solidFill>
              <a:latin typeface="Calibri Light"/>
            </a:endParaRPr>
          </a:p>
        </p:txBody>
      </p:sp>
      <p:sp>
        <p:nvSpPr>
          <p:cNvPr id="318" name=""/>
          <p:cNvSpPr txBox="1"/>
          <p:nvPr/>
        </p:nvSpPr>
        <p:spPr>
          <a:xfrm>
            <a:off x="309240" y="1846440"/>
            <a:ext cx="11255400" cy="4022640"/>
          </a:xfrm>
          <a:prstGeom prst="rect">
            <a:avLst/>
          </a:prstGeom>
          <a:noFill/>
          <a:ln w="0">
            <a:noFill/>
          </a:ln>
        </p:spPr>
        <p:txBody>
          <a:bodyPr lIns="0" rIns="0" anchor="t">
            <a:normAutofit fontScale="94000"/>
          </a:bodyPr>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t the end of an evocative lecture discussion, the learners will be able to acquire the necessary knowledge essential in the care of clients with pain. </a:t>
            </a:r>
            <a:endParaRPr b="0" lang="en-US" sz="2000" spc="-1" strike="noStrike">
              <a:solidFill>
                <a:srgbClr val="404040"/>
              </a:solidFill>
              <a:latin typeface="Calibri"/>
            </a:endParaRPr>
          </a:p>
          <a:p>
            <a:pPr marL="84600" indent="-846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Specifically, the learners will be able to: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1. Define pain.</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2. Identify the basic categories of pain.</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3. Describe the pathophysiology of pain.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4.  Recognize factors influencing pain response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5. Demonstrate appropriate use of pain measurement instrument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6.  Compare pharmacologic, non pharmacologic and neurological methods of pain control.</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7.  Utilize the nursing process as a framework in the care of patients with pain.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Pharmacologic Interventions</a:t>
            </a:r>
            <a:endParaRPr b="0" lang="en-US" sz="4800" spc="-1" strike="noStrike">
              <a:solidFill>
                <a:srgbClr val="404040"/>
              </a:solidFill>
              <a:latin typeface="Calibri Light"/>
            </a:endParaRPr>
          </a:p>
        </p:txBody>
      </p:sp>
      <p:sp>
        <p:nvSpPr>
          <p:cNvPr id="35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pioid analgesics act on CNS to inhibit activity of ascending nocioceptive pathways</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SAIDS decrease pain by inhibiting cyclo-oxygenase (enzyme involved in production of prostaglandin)</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Local anesthetics block nerve conduction when applied to nerve fibers</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Pharmacological Pain relief Interventions </a:t>
            </a:r>
            <a:endParaRPr b="0" lang="en-US" sz="4800" spc="-1" strike="noStrike">
              <a:solidFill>
                <a:srgbClr val="404040"/>
              </a:solidFill>
              <a:latin typeface="Calibri Light"/>
            </a:endParaRPr>
          </a:p>
        </p:txBody>
      </p:sp>
      <p:sp>
        <p:nvSpPr>
          <p:cNvPr id="358" name=""/>
          <p:cNvSpPr txBox="1"/>
          <p:nvPr/>
        </p:nvSpPr>
        <p:spPr>
          <a:xfrm>
            <a:off x="1096920" y="1846440"/>
            <a:ext cx="10058400" cy="430992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alanced anesthe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t>
            </a:r>
            <a:r>
              <a:rPr b="0" lang="en-US" sz="2800" spc="-1" strike="noStrike">
                <a:solidFill>
                  <a:srgbClr val="404040"/>
                </a:solidFill>
                <a:latin typeface="Calibri"/>
              </a:rPr>
              <a:t>PRN” medicatio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outine administration: around the clock (ATC) or preventive approach</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CA: patient-controlled analge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cal anesthetic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picals, patch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traspinal administration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 -  pharmacological Interventions</a:t>
            </a:r>
            <a:endParaRPr b="0" lang="en-US" sz="4800" spc="-1" strike="noStrike">
              <a:solidFill>
                <a:srgbClr val="404040"/>
              </a:solidFill>
              <a:latin typeface="Calibri Light"/>
            </a:endParaRPr>
          </a:p>
        </p:txBody>
      </p:sp>
      <p:sp>
        <p:nvSpPr>
          <p:cNvPr id="360" name=""/>
          <p:cNvSpPr txBox="1"/>
          <p:nvPr/>
        </p:nvSpPr>
        <p:spPr>
          <a:xfrm>
            <a:off x="372600" y="1846440"/>
            <a:ext cx="11463480" cy="45036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1. Cutaneous stimulation, mass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             </a:t>
            </a:r>
            <a:r>
              <a:rPr b="0" lang="en-PH" sz="2400" spc="-1" strike="noStrike">
                <a:solidFill>
                  <a:srgbClr val="404040"/>
                </a:solidFill>
                <a:latin typeface="Calibri"/>
              </a:rPr>
              <a:t>Promotes comfort as it produces muscle relaxation</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2. Thermal therapies ( heat and cold application)</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ce and heat stimulate the non-pain receptors in the same receptor ﬁeld </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as the injury.</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3. Transcutaneous electrical nerve stimulation (TE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       </a:t>
            </a:r>
            <a:r>
              <a:rPr b="0" lang="en-PH" sz="2000" spc="-1" strike="noStrike">
                <a:solidFill>
                  <a:srgbClr val="404040"/>
                </a:solidFill>
                <a:latin typeface="Calibri"/>
              </a:rPr>
              <a:t>This uses a battery-operated unit with electrodes applied to the skin to produce a tingling, vibrating, or buzzing sensation in the area of pain. Decreases pain by stimulating the non-pain receptors in the same area as the ﬁbers that transmit the pai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pharmacological interventions</a:t>
            </a:r>
            <a:endParaRPr b="0" lang="en-US" sz="4800" spc="-1" strike="noStrike">
              <a:solidFill>
                <a:srgbClr val="404040"/>
              </a:solidFill>
              <a:latin typeface="Calibri Light"/>
            </a:endParaRPr>
          </a:p>
        </p:txBody>
      </p:sp>
      <p:sp>
        <p:nvSpPr>
          <p:cNvPr id="362" name=""/>
          <p:cNvSpPr txBox="1"/>
          <p:nvPr/>
        </p:nvSpPr>
        <p:spPr>
          <a:xfrm>
            <a:off x="372960" y="1846440"/>
            <a:ext cx="11668320" cy="450360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4. Distraction</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nvolves focusing the patient’s attention on something other than the pain, may be the mechanism responsible for other effective cognitive techniques. Perception of pain is reduced by stimulating the descending control system, resulting in fewer painful stimuli being transmitted to the brain</a:t>
            </a:r>
            <a:r>
              <a:rPr b="0" lang="en-PH" sz="2800" spc="-1" strike="noStrike">
                <a:solidFill>
                  <a:srgbClr val="404040"/>
                </a:solidFill>
                <a:latin typeface="Calibri"/>
              </a:rPr>
              <a:t>. </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5. Relaxation techniques</a:t>
            </a:r>
            <a:endParaRPr b="0" lang="en-US" sz="2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       </a:t>
            </a:r>
            <a:r>
              <a:rPr b="0" lang="en-PH" sz="2400" spc="-1" strike="noStrike">
                <a:solidFill>
                  <a:srgbClr val="404040"/>
                </a:solidFill>
                <a:latin typeface="Calibri"/>
              </a:rPr>
              <a:t>Relaxing tense muscles reduces pain through abdominal breathing  at a slow, rhythmic rate.</a:t>
            </a:r>
            <a:endParaRPr b="0" lang="en-US" sz="24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404040"/>
                </a:solidFill>
                <a:latin typeface="Calibri"/>
              </a:rPr>
              <a:t>6. Guided imagery – consists of combining slow, </a:t>
            </a:r>
            <a:r>
              <a:rPr b="0" lang="en-PH" sz="2400" spc="-1" strike="noStrike">
                <a:solidFill>
                  <a:srgbClr val="404040"/>
                </a:solidFill>
                <a:latin typeface="Calibri"/>
              </a:rPr>
              <a:t>rhythmic breathing with a mental image of relaxation and comfort. </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on-pharmacological interventions</a:t>
            </a:r>
            <a:endParaRPr b="0" lang="en-US" sz="4800" spc="-1" strike="noStrike">
              <a:solidFill>
                <a:srgbClr val="404040"/>
              </a:solidFill>
              <a:latin typeface="Calibri Light"/>
            </a:endParaRPr>
          </a:p>
        </p:txBody>
      </p:sp>
      <p:sp>
        <p:nvSpPr>
          <p:cNvPr id="364"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7. Hypnosis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       </a:t>
            </a:r>
            <a:r>
              <a:rPr b="0" lang="en-PH" sz="2000" spc="-1" strike="noStrike">
                <a:solidFill>
                  <a:srgbClr val="404040"/>
                </a:solidFill>
                <a:latin typeface="Calibri"/>
              </a:rPr>
              <a:t>Usually, hypnosis must be induced by a specially skilled person (a psychologist or a nurse with specialized training in hypnosis). Its effectiveness depends on the hypnotic susceptibility of the individual.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eurologic and Neurosurgical Methods for Pain Control</a:t>
            </a:r>
            <a:endParaRPr b="0" lang="en-US" sz="4800" spc="-1" strike="noStrike">
              <a:solidFill>
                <a:srgbClr val="404040"/>
              </a:solidFill>
              <a:latin typeface="Calibri Light"/>
            </a:endParaRPr>
          </a:p>
        </p:txBody>
      </p:sp>
      <p:sp>
        <p:nvSpPr>
          <p:cNvPr id="36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 Stimulation procedures</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a. Electrical stimulation – a method of suppressing pain by applying a controlled low voltage electrical pulses to different parts of the nervous system</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b. Spinal cord stimulation – a technique used for relief of chronic, intractable pain, ischemic pain and pain from angina through a surgically implanted device.</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n-US" sz="2000" spc="-1" strike="noStrike">
                <a:solidFill>
                  <a:srgbClr val="404040"/>
                </a:solidFill>
                <a:latin typeface="Calibri"/>
              </a:rPr>
              <a:t>c.  Deep brain stimulation – performed for special pain problems when the patient does not respond to the usual techniques of pain control of pain pathway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B. Interruption </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Cordotomy - </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hizotom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urses Role in Pain Management </a:t>
            </a:r>
            <a:endParaRPr b="0" lang="en-US" sz="4800" spc="-1" strike="noStrike">
              <a:solidFill>
                <a:srgbClr val="404040"/>
              </a:solidFill>
              <a:latin typeface="Calibri Light"/>
            </a:endParaRPr>
          </a:p>
        </p:txBody>
      </p:sp>
      <p:sp>
        <p:nvSpPr>
          <p:cNvPr id="368"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I</a:t>
            </a:r>
            <a:r>
              <a:rPr b="0" lang="en-PH" sz="2400" spc="-1" strike="noStrike">
                <a:solidFill>
                  <a:srgbClr val="404040"/>
                </a:solidFill>
                <a:latin typeface="Calibri"/>
              </a:rPr>
              <a:t>. Help relieve pain by administering pain-relieving interventions ( both pharmacologic and nonpharmacologic  approach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I. Assess effectiveness of intervention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II. Monitoring of adverse effects.</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V. Educate the patient and family to enable them to manage the prescribed intervention themselves when appropriate.</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Nursing Diagnosis </a:t>
            </a:r>
            <a:endParaRPr b="0" lang="en-US" sz="4800" spc="-1" strike="noStrike">
              <a:solidFill>
                <a:srgbClr val="404040"/>
              </a:solidFill>
              <a:latin typeface="Calibri Light"/>
            </a:endParaRPr>
          </a:p>
        </p:txBody>
      </p:sp>
      <p:sp>
        <p:nvSpPr>
          <p:cNvPr id="370" name=""/>
          <p:cNvSpPr txBox="1"/>
          <p:nvPr/>
        </p:nvSpPr>
        <p:spPr>
          <a:xfrm>
            <a:off x="438120" y="1846440"/>
            <a:ext cx="107172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Acute Pain related to physical injury, reduction of blood supply, process of giving birth</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Chronic Pain related to the malignancy</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Anxiety related to pain that is felt</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neffective individual coping</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related to chronic pain </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Impaired physical mobility </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               </a:t>
            </a:r>
            <a:r>
              <a:rPr b="0" lang="en-PH" sz="2400" spc="-1" strike="noStrike">
                <a:solidFill>
                  <a:srgbClr val="404040"/>
                </a:solidFill>
                <a:latin typeface="Calibri"/>
              </a:rPr>
              <a:t>related  to musculoskeletal pain</a:t>
            </a:r>
            <a:endParaRPr b="0" lang="en-US" sz="2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Risk for injury related to lack of perception of pai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Nursing Process Framework for Pain Management</a:t>
            </a:r>
            <a:endParaRPr b="0" lang="en-US" sz="4800" spc="-1" strike="noStrike">
              <a:solidFill>
                <a:srgbClr val="404040"/>
              </a:solidFill>
              <a:latin typeface="Calibri Light"/>
            </a:endParaRPr>
          </a:p>
        </p:txBody>
      </p:sp>
      <p:sp>
        <p:nvSpPr>
          <p:cNvPr id="37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Identify goals for pain manageme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Establish nurse-patient relationship, teaching</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Provide physical care</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Manage anxiety related to pai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Evaluate pain-management strategi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404040"/>
                </a:solidFill>
                <a:latin typeface="Calibri"/>
              </a:rPr>
              <a:t>Reference: Brunner and Suddarth’s Textbook of Medical Surgical Nursing 12</a:t>
            </a:r>
            <a:r>
              <a:rPr b="0" lang="en-PH" sz="2400" spc="-1" strike="noStrike" baseline="30000">
                <a:solidFill>
                  <a:srgbClr val="404040"/>
                </a:solidFill>
                <a:latin typeface="Calibri"/>
              </a:rPr>
              <a:t>th</a:t>
            </a:r>
            <a:r>
              <a:rPr b="0" lang="en-PH" sz="2400" spc="-1" strike="noStrike">
                <a:solidFill>
                  <a:srgbClr val="404040"/>
                </a:solidFill>
                <a:latin typeface="Calibri"/>
              </a:rPr>
              <a:t> Edi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5"/>
          <p:cNvSpPr/>
          <p:nvPr/>
        </p:nvSpPr>
        <p:spPr>
          <a:xfrm>
            <a:off x="106200" y="1224000"/>
            <a:ext cx="10309320" cy="67968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a:t>
            </a:r>
            <a:r>
              <a:rPr b="1" lang="en-US" sz="3200" spc="-1" strike="noStrike">
                <a:solidFill>
                  <a:srgbClr val="000000"/>
                </a:solidFill>
                <a:latin typeface="Calibri"/>
              </a:rPr>
              <a:t>ain </a:t>
            </a:r>
            <a:r>
              <a:rPr b="0" lang="en-US" sz="3200" spc="-1" strike="noStrike">
                <a:solidFill>
                  <a:srgbClr val="000000"/>
                </a:solidFill>
                <a:latin typeface="Calibri"/>
              </a:rPr>
              <a:t>is an unpleasant sensory and emotional experience associated with actual or potential tissue damage. </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t is the most common reason for seeking health care.</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n-US" sz="3200" spc="-1" strike="noStrike">
                <a:solidFill>
                  <a:srgbClr val="000000"/>
                </a:solidFill>
                <a:latin typeface="Calibri"/>
              </a:rPr>
              <a:t>The fifth vital sign”</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Joint Commission (2005) standards: “pain is assessed in all patients,” “patients have the right to appropriate assessment and management of pain.”</a:t>
            </a:r>
            <a:endParaRPr b="0" lang="en-US" sz="3200" spc="-1" strike="noStrike">
              <a:solidFill>
                <a:srgbClr val="000000"/>
              </a:solidFill>
              <a:latin typeface="Calibri"/>
            </a:endParaRPr>
          </a:p>
          <a:p>
            <a:pPr marL="457200" indent="-45720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a:p>
            <a:pPr marL="457200" indent="-45720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Calibri"/>
            </a:endParaRPr>
          </a:p>
        </p:txBody>
      </p:sp>
      <p:sp>
        <p:nvSpPr>
          <p:cNvPr id="320" name="PlaceHolder 1"/>
          <p:cNvSpPr>
            <a:spLocks noGrp="1"/>
          </p:cNvSpPr>
          <p:nvPr>
            <p:ph type="title"/>
          </p:nvPr>
        </p:nvSpPr>
        <p:spPr>
          <a:xfrm>
            <a:off x="-360" y="287280"/>
            <a:ext cx="11155320" cy="936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hat is Pain</a:t>
            </a:r>
            <a:r>
              <a:rPr b="0" lang="en-US" sz="4800" spc="-1" strike="noStrike">
                <a:solidFill>
                  <a:srgbClr val="404040"/>
                </a:solidFill>
                <a:latin typeface="Calibri Light"/>
              </a:rPr>
              <a:t>?</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287280"/>
            <a:ext cx="11155320" cy="890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3 Basic Categories of Pain</a:t>
            </a:r>
            <a:endParaRPr b="0" lang="en-US" sz="4800" spc="-1" strike="noStrike">
              <a:solidFill>
                <a:srgbClr val="404040"/>
              </a:solidFill>
              <a:latin typeface="Calibri Light"/>
            </a:endParaRPr>
          </a:p>
        </p:txBody>
      </p:sp>
      <p:sp>
        <p:nvSpPr>
          <p:cNvPr id="322" name=""/>
          <p:cNvSpPr txBox="1"/>
          <p:nvPr/>
        </p:nvSpPr>
        <p:spPr>
          <a:xfrm>
            <a:off x="185760" y="1846440"/>
            <a:ext cx="1184112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a:t>
            </a:r>
            <a:r>
              <a:rPr b="0" lang="en-US" sz="2800" spc="-1" strike="noStrike">
                <a:solidFill>
                  <a:srgbClr val="000000"/>
                </a:solidFill>
                <a:latin typeface="Calibri"/>
              </a:rPr>
              <a:t>. Acute Pai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 Chronic Pain (nonmalign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I. Cancer related Pain</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I. Acute Pain </a:t>
            </a:r>
            <a:endParaRPr b="0" lang="en-US" sz="4800" spc="-1" strike="noStrike">
              <a:solidFill>
                <a:srgbClr val="404040"/>
              </a:solidFill>
              <a:latin typeface="Calibri Light"/>
            </a:endParaRPr>
          </a:p>
        </p:txBody>
      </p:sp>
      <p:sp>
        <p:nvSpPr>
          <p:cNvPr id="324"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usually recent onset and commonly associated with a specific injury.</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dicates that damage or injury has occurred. If no lasting damage occurs, it usually decreases along with healing.</a:t>
            </a: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can be described as lasting from seconds to 6 months.</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I. Chronic (Nonmalignant) Pain </a:t>
            </a:r>
            <a:endParaRPr b="0" lang="en-US" sz="4800" spc="-1" strike="noStrike">
              <a:solidFill>
                <a:srgbClr val="404040"/>
              </a:solidFill>
              <a:latin typeface="Calibri Light"/>
            </a:endParaRPr>
          </a:p>
        </p:txBody>
      </p:sp>
      <p:sp>
        <p:nvSpPr>
          <p:cNvPr id="32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s constant or intermittent that persists beyond the expected healing time and can seldom be attributed to a specific cause or injury.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may have a poorly defined onset and often difficult to trea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type of pain lasts for 6 months and is usually accompanied by problems related to the pain itself.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II. Cancer-related Pain</a:t>
            </a:r>
            <a:endParaRPr b="0" lang="en-US" sz="4800" spc="-1" strike="noStrike">
              <a:solidFill>
                <a:srgbClr val="404040"/>
              </a:solidFill>
              <a:latin typeface="Calibri Light"/>
            </a:endParaRPr>
          </a:p>
        </p:txBody>
      </p:sp>
      <p:sp>
        <p:nvSpPr>
          <p:cNvPr id="328"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is type of pain is associated with cancer. It may be acute or chronic.</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is is the second most common fear of newly diagnosed cancer patients.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in in the patient suffering from cancer can be directly associated with the cancer (nerve compression), a result of cancer treatment (surgery or radiation) , or not associated with cancer ( trauma)</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404040"/>
                </a:solidFill>
                <a:latin typeface="Calibri Light"/>
              </a:rPr>
              <a:t>EFFECTS OF PAIN</a:t>
            </a:r>
            <a:endParaRPr b="0" lang="en-US" sz="4800" spc="-1" strike="noStrike">
              <a:solidFill>
                <a:srgbClr val="404040"/>
              </a:solidFill>
              <a:latin typeface="Calibri Light"/>
            </a:endParaRPr>
          </a:p>
        </p:txBody>
      </p:sp>
      <p:sp>
        <p:nvSpPr>
          <p:cNvPr id="330" name=""/>
          <p:cNvSpPr txBox="1"/>
          <p:nvPr/>
        </p:nvSpPr>
        <p:spPr>
          <a:xfrm>
            <a:off x="1339920" y="1736640"/>
            <a:ext cx="10058400" cy="4022640"/>
          </a:xfrm>
          <a:prstGeom prst="rect">
            <a:avLst/>
          </a:prstGeom>
          <a:noFill/>
          <a:ln w="0">
            <a:noFill/>
          </a:ln>
        </p:spPr>
        <p:txBody>
          <a:bodyPr lIns="0" rIns="0" anchor="t">
            <a:normAutofit fontScale="95000"/>
          </a:bodyPr>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Impairs the patient’s ability to sleep.</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Acute Pain effects: Endocrine, immunologic and inflammatory changes as a response to stress which includes increased metabolic rate and cardiac output, impaired insulin response, increased production of cortisol, and increased retention of fluids.</a:t>
            </a:r>
            <a:endParaRPr b="0" lang="en-US" sz="2000" spc="-1" strike="noStrike">
              <a:solidFill>
                <a:srgbClr val="404040"/>
              </a:solidFill>
              <a:latin typeface="Calibri"/>
            </a:endParaRPr>
          </a:p>
          <a:p>
            <a:pPr marL="85680" indent="-8568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Unrelieved acute pain may affect the pulmonary, cardiovascular, gastrointestinal, endocrine and immune system</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404040"/>
                </a:solidFill>
                <a:latin typeface="Calibri"/>
              </a:rPr>
              <a:t>Chronic Pain effects:  </a:t>
            </a:r>
            <a:r>
              <a:rPr b="0" i="1" lang="en-US" sz="2000" spc="-1" strike="noStrike">
                <a:solidFill>
                  <a:srgbClr val="000000"/>
                </a:solidFill>
                <a:latin typeface="Calibri"/>
              </a:rPr>
              <a:t>Adverse effects of chronic pain includes the suppression of the immune function which may promote tumor growth.   It can also results in depression and disability.</a:t>
            </a: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0"/>
            <a:ext cx="10953720" cy="1471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Pain Syndromes</a:t>
            </a:r>
            <a:endParaRPr b="0" lang="en-US" sz="4800" spc="-1" strike="noStrike">
              <a:solidFill>
                <a:srgbClr val="404040"/>
              </a:solidFill>
              <a:latin typeface="Calibri Light"/>
            </a:endParaRPr>
          </a:p>
        </p:txBody>
      </p:sp>
      <p:sp>
        <p:nvSpPr>
          <p:cNvPr id="332" name=""/>
          <p:cNvSpPr txBox="1"/>
          <p:nvPr/>
        </p:nvSpPr>
        <p:spPr>
          <a:xfrm>
            <a:off x="201600" y="1890720"/>
            <a:ext cx="11545920" cy="4324320"/>
          </a:xfrm>
          <a:prstGeom prst="rect">
            <a:avLst/>
          </a:prstGeom>
          <a:noFill/>
          <a:ln w="0">
            <a:noFill/>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regional pain syndrom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mastectomy pain syndrom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bromyalgia</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iplegia associated shoulder pain</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associated with sickle cell diseas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S-related pain</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 pain </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llain-Barré syndrome, pain </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ioid tolerance</a:t>
            </a:r>
            <a:endParaRPr b="0" lang="en-US" sz="2800" spc="-1" strike="noStrike">
              <a:solidFill>
                <a:srgbClr val="404040"/>
              </a:solidFill>
              <a:latin typeface="Calibri"/>
            </a:endParaRPr>
          </a:p>
          <a:p>
            <a:pPr marL="90360" indent="-90360">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9T06:19:37Z</dcterms:created>
  <dc:creator>Isabelita Pandaan</dc:creator>
  <dc:description/>
  <dc:language>en-US</dc:language>
  <cp:lastModifiedBy>Isabel issa</cp:lastModifiedBy>
  <dcterms:modified xsi:type="dcterms:W3CDTF">2016-09-29T21:05:20Z</dcterms:modified>
  <cp:revision>40</cp:revision>
  <dc:subject/>
  <dc:title>MANAGEMENT</dc:title>
</cp:coreProperties>
</file>