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AA5-FE6A-4B6E-A6A5-04E6C78F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B56-7CCC-48D0-99B1-290EEDAD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8C8-70F6-4138-B362-A04022C5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650-9B4F-488E-A836-0D8ED592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EB76-11C2-4157-8F1C-AB1EDA3D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9F3D-F647-4B24-9C73-295F7F7F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66BB-5A3C-46BF-959C-BC0747D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F599-424F-4DA7-9CA9-8B972565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75B8-8760-416D-93A9-EB52F903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376F-0CC5-4BF0-8645-22072D3C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96C9-B970-4302-A240-13093D6B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FBF-9C16-4505-9E38-99F5ACC6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E18E-7C64-4B1D-BB0D-47B2F5D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8FA1-D5B3-459A-A842-E32E880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7537-82DD-4E3D-8E92-FE2011E0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9FD9-12B3-4F49-9FEB-65ABEB3C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7EF6-3FE9-43FE-909C-2B2C9E4F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6D8-7591-4F6F-95C3-55F4F714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DAA-6626-44AE-AA4D-070EAB3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A2B-A4E5-48DE-AE5D-05EC2504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E47-E899-4646-80B9-11263554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3A0-C244-422B-9097-FFD2D486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A55-485A-422B-BC6C-FE129FF0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FD9-8D01-4C45-9B1B-A524B7DB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7C48-8ED9-4761-A435-6DB252A4BE4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04A3-6D2F-40AC-9F47-DB90016F40F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B8E5-C308-4CDE-BED0-838BF3A571B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05B0-2FB3-4601-84DD-F2FFD8641C3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alivary Glan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jor salivary gland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e at some distance from the mucosa and communicate with one or more du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ree paired masses of the parotid, submandibular, and sublingual gland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or Salivary gland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e  in the mucosa or submucosa and open directly  or indirectly via many short excretory du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105520" y="2211480"/>
            <a:ext cx="4038480" cy="39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6D60E-062C-4888-8D55-7D11E8EBC512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546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Parotid 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merge from the convex anterior border of the superficial part and pass anteriorly over the masseter mus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anterior border of the muscle it turn medial and pierce the buccal pad fat and buccinator muscle, pass for a short distance under the mucous membrane before it opens opposite the upper second mo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3584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72200" y="457200"/>
            <a:ext cx="2743200" cy="1066680"/>
          </a:xfrm>
          <a:prstGeom prst="cube">
            <a:avLst>
              <a:gd name="adj" fmla="val 25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A9B81-EA30-4674-9174-AE4657F23BA0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539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es within the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Facial ner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the gland from the deep surface and emerge from behind the anterior bor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Retromandibular ve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ep to the branches of the n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499000" y="2057400"/>
            <a:ext cx="349560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95880" y="380880"/>
            <a:ext cx="2743200" cy="1067040"/>
          </a:xfrm>
          <a:prstGeom prst="cube">
            <a:avLst>
              <a:gd name="adj" fmla="val 25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621E6-BE7B-49CA-AD89-B6B8B9BAD6DA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capsu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rived from the deep cervical fascia which split at the lower pole to encase the gl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eep layer pass beneath the gland and ie attached to the skull 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Part is inserted to styloid process and angle of mandible is thickened, stylomandibular ligament separating the gland from the submandibular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superficial layer pass anterior on the masseter muscle and is attached to the lower border of the zygomatic 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ight insertion will lead to sever pain on inflammation and swelling of parot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          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88127-C941-4221-90C7-D8959AA4BC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External carotid artery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its two terminal branches it is the deepest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Periauricular lymph nodes</a:t>
            </a:r>
            <a:r>
              <a:rPr b="0" i="1" lang="en-US" sz="2800" spc="-1" strike="noStrike">
                <a:solidFill>
                  <a:srgbClr val="6600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es within the gland or under the caps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68840" y="2438280"/>
            <a:ext cx="3505320" cy="3645000"/>
          </a:xfrm>
          <a:prstGeom prst="rect">
            <a:avLst/>
          </a:prstGeom>
          <a:ln w="0">
            <a:noFill/>
          </a:ln>
        </p:spPr>
      </p:pic>
      <p:sp>
        <p:nvSpPr>
          <p:cNvPr id="194" name="PubRRectCallout"/>
          <p:cNvSpPr/>
          <p:nvPr/>
        </p:nvSpPr>
        <p:spPr>
          <a:xfrm>
            <a:off x="6248520" y="762120"/>
            <a:ext cx="2590560" cy="838080"/>
          </a:xfrm>
          <a:custGeom>
            <a:avLst/>
            <a:gdLst>
              <a:gd name="textAreaLeft" fmla="*/ 17280 w 2590560"/>
              <a:gd name="textAreaRight" fmla="*/ 2567880 w 2590560"/>
              <a:gd name="textAreaTop" fmla="*/ 5400 h 838080"/>
              <a:gd name="textAreaBottom" fmla="*/ 663840 h 838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12D9F-3BC9-44B0-ACF1-F1BDFC2405B7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lood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ernal carotid artery and retomandibular ve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rve supp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retomotor fib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the inferior salivary nucleus to the glossopharyngeal nerve, tympanic branch, tympanic plexus, lesser superficial petrosal to otic ganglion, to the Auriculotemporal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athetic fi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the superior cervical plexu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soconstri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ory fi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and, auriculotempo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sule, greater auricular (C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ubRRectCallout"/>
          <p:cNvSpPr/>
          <p:nvPr/>
        </p:nvSpPr>
        <p:spPr>
          <a:xfrm>
            <a:off x="6248520" y="762120"/>
            <a:ext cx="2590560" cy="838080"/>
          </a:xfrm>
          <a:custGeom>
            <a:avLst/>
            <a:gdLst>
              <a:gd name="textAreaLeft" fmla="*/ 17280 w 2590560"/>
              <a:gd name="textAreaRight" fmla="*/ 2567880 w 2590560"/>
              <a:gd name="textAreaTop" fmla="*/ 5400 h 838080"/>
              <a:gd name="textAreaBottom" fmla="*/ 663840 h 838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B5EF4-ED58-4E51-B3B8-EADEA124298A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 </a:t>
            </a: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arotid gland</a:t>
            </a: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capsule send septa to the interior of the gland separating it into lobules and making surgical removal difficu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bmandibular gland is loosely enveloped and can be shelled out eas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dially, the capsule is closely related to the pharynx and the great vessels in the carotid she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reak through by tumour or sharp instru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181480" y="1905120"/>
            <a:ext cx="399276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12ABF-F148-4DFB-B956-9EE26D3A2C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Fun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ubrication of food, assisting swallow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istening of the buccal mucosa, essential for spee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vision of an aqueous solvent, necessary for ta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vision of a fluid seal, necessary for suck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cretion of digestive enzymes, amyl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cretion of hormones, Glucagons-like protein and ? seroton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181480" y="2163600"/>
            <a:ext cx="3962520" cy="37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C5C47-6707-40AA-BF68-D4BA0548CE85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Salivary Glands</a:t>
            </a:r>
            <a:r>
              <a:rPr b="1" i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argest of the salivary and is predominantly serous with few scattered mucous acin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lies below the external auditory meatus in a deep hollow between the ramus, the mastoid and the styloid proc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5440" y="2133720"/>
            <a:ext cx="3835440" cy="4190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53352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42621-A307-4596-B4B4-23A1742D815C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474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724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roughly wedge shape, with an upper and lower poles with the base above and the apex below behind the angle of the mandi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also wedge shaped in the horizontal plan with three surfaces, lateral, antero-medial and postero-medial, the base is the lateral and apex lies against the pharyngeal w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19920" y="4349880"/>
            <a:ext cx="3124080" cy="2508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1417680"/>
            <a:ext cx="3124080" cy="2903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172200" y="45720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3E845-CDC8-44AB-9365-2952FAF9162F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715680"/>
            <a:ext cx="532620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8765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parotid sheat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a tough capsule, derived from the investing layer of the deep cervical fas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ficial layer is attached to the zygomatic arch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eep part to the styloid process, the mandible (stylo-mandibular ligament) and the  tympanic part of temporal b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8800" y="1600200"/>
            <a:ext cx="3805200" cy="4343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5880" y="30492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15B01-6A12-41B3-8C62-4A33736007BA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554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upper pol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here to the cartilage of external auditory and the TMJ caps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lower po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rounded and lie below and behind the angle of the mandi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facial ner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 it into superficial and deep parts or lo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40240" y="2057400"/>
            <a:ext cx="3803760" cy="379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248520" y="60948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F1412-AE13-4256-A612-4B9784142025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Lateral surface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flat and covered with skin and superficial fascia containing great auricular nerv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ymph nodes lie within the substance  or under the shea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uct and the five branches of the facial nerve emerge from its anterior b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0492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10364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8494D-B4C2-4465-AA5C-6F928D9A055E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532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nteromedial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urface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-shaped clasping the posterior border of the ramus with masseter laterally and medial pterygoid medially and inferiorly, separated by the stylomandibular ligament from the submandibular salivary gland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68580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307368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74A72-D2C9-487E-B2E2-8BB06B43254B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639360"/>
            <a:ext cx="56847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1906560"/>
            <a:ext cx="35863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The posteromedi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nted by the mastoid process and its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e against the styloid process with its three muscles and two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The accessory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es on the masseter between the duct and the zygomatic 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72200" y="4603680"/>
            <a:ext cx="2743200" cy="225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019920" y="22860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7280" y="1143000"/>
            <a:ext cx="22460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7A2C5-19FB-4740-B199-5734F81AD620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6:25:00Z</dcterms:created>
  <dc:creator>Dr Abdin</dc:creator>
  <dc:description/>
  <dc:language>en-US</dc:language>
  <cp:lastModifiedBy>Helabdin</cp:lastModifiedBy>
  <dcterms:modified xsi:type="dcterms:W3CDTF">2004-12-13T17:24:15Z</dcterms:modified>
  <cp:revision>56</cp:revision>
  <dc:subject/>
  <dc:title>Salivary Glands:</dc:title>
</cp:coreProperties>
</file>