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7E1-FAC9-4486-8DE0-C2FDD755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CB6-1CAB-4131-9870-56B6C050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C84-3755-4E48-B475-F4F9CF81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FB0-619F-4891-8F18-FA5D7FA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714-2EAB-4A40-88DF-F8F0B3E2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675-2508-437A-BCF6-2EAB6F46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41B9-CC5C-423E-AC02-D3027F92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1681-F8EF-43E1-BF26-4303E8E6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FB0-D76D-4050-901F-EE093219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0AA2-5190-4BD2-9028-C8B2583A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858E-B44D-403E-A7B4-1F43600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B69-7B39-460E-A536-8E6B5E68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9551-F972-457D-810C-4F17222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FDBC-492D-47F1-AC40-F171CEBC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4791-DD4F-4825-9E82-168E2CB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42A1-7C95-4EA7-8A82-AE8C4D80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270-C65D-4D2C-AE8B-05D3643D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D1B-BE65-404B-807D-78002BD9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087-3EA1-451A-9E99-8DDFFD9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B09-0371-4088-A609-C0B776A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2D8-F392-4520-8145-D0FB8F4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E20-0D36-4CA1-84ED-EB9A4C5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6F1-EE80-4167-A086-1B7C5D8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1B8-184A-4B84-86AA-48864E4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BA34-9B37-4843-B7D3-401F6D0D460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BBDC-95C4-40DA-99CE-C054F5BCB0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9BF7-6EF4-4378-BD89-6BFAF9ED87D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2D15-5712-4FF4-8C8A-4E520CF0AE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jor salivary glan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e at some distance from the mucosa and communicate with one or more 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ee paired masses of the parotid, submandibular, and sublingual glan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or Salivary glan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e  in the mucosa or submucosa and open directly  or indirectly via many short excretory 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05520" y="2211480"/>
            <a:ext cx="4038480" cy="39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5D98F-1383-4BEE-B80A-D66BB362FE09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46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Parotid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erge from the convex anterior border of the superficial part and pass anteriorly over the masseter mus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 the anterior border of the muscle it turn medial and pierce the buccal pad fat and buccinator muscle, pass for a short distance under the mucous membrane before it opens opposite the upper second mo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267080" cy="3584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72200" y="457200"/>
            <a:ext cx="2743200" cy="1066680"/>
          </a:xfrm>
          <a:prstGeom prst="cube">
            <a:avLst>
              <a:gd name="adj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5C8CC-ACF3-4F53-ACEB-EBAF57C17124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39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within the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Facial ner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 the gland from the deep surface and emerge from behind the anterior b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Retromandibular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 to the branches of the n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499000" y="2057400"/>
            <a:ext cx="349560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5880" y="380880"/>
            <a:ext cx="2743200" cy="1067040"/>
          </a:xfrm>
          <a:prstGeom prst="cube">
            <a:avLst>
              <a:gd name="adj" fmla="val 25000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71CA2-56BF-4F73-A4D5-A9DA18E72935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capsu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rived from the deep cervical fascia which split at the lower pole to encase the gl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eep layer pass beneath the gland and ie attached to the skull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Part is inserted to styloid process and angle of mandible is thickened, stylomandibular ligament separating the gland from the submandibular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superficial layer pass anterior on the masseter muscle and is attached to the lower border of the zygomatic 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ight insertion will lead to sever pain on inflammation and swelling of parot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           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C8EBB-5317-4C95-9363-EF7D11DB5F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External carotid arter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ts two terminal branches it is the deepest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Periauricular lymph nodes</a:t>
            </a:r>
            <a:r>
              <a:rPr b="0" i="1" lang="en-US" sz="2800" spc="-1" strike="noStrike">
                <a:solidFill>
                  <a:srgbClr val="66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es within the gland or under the caps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68840" y="2438280"/>
            <a:ext cx="3505320" cy="3645000"/>
          </a:xfrm>
          <a:prstGeom prst="rect">
            <a:avLst/>
          </a:prstGeom>
          <a:ln w="0">
            <a:noFill/>
          </a:ln>
        </p:spPr>
      </p:pic>
      <p:sp>
        <p:nvSpPr>
          <p:cNvPr id="194" name="PubRRectCallout"/>
          <p:cNvSpPr/>
          <p:nvPr/>
        </p:nvSpPr>
        <p:spPr>
          <a:xfrm>
            <a:off x="6248520" y="762120"/>
            <a:ext cx="2590560" cy="838080"/>
          </a:xfrm>
          <a:custGeom>
            <a:avLst/>
            <a:gdLst>
              <a:gd name="textAreaLeft" fmla="*/ 17280 w 2590560"/>
              <a:gd name="textAreaRight" fmla="*/ 2567880 w 2590560"/>
              <a:gd name="textAreaTop" fmla="*/ 5400 h 838080"/>
              <a:gd name="textAreaBottom" fmla="*/ 663840 h 838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A6423-C646-483F-921E-0E84732E0152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lood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ernal carotid artery and retomandibular ve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omotor fib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the inferior salivary nucleus to the glossopharyngeal nerve, tympanic branch, tympanic plexus, lesser superficial petrosal to otic ganglion, to the Auriculotemporal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athetic fi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the superior cervical plex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soconstri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y fi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and, auriculotempo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sule, greater auricular (C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ubRRectCallout"/>
          <p:cNvSpPr/>
          <p:nvPr/>
        </p:nvSpPr>
        <p:spPr>
          <a:xfrm>
            <a:off x="6248520" y="762120"/>
            <a:ext cx="2590560" cy="838080"/>
          </a:xfrm>
          <a:custGeom>
            <a:avLst/>
            <a:gdLst>
              <a:gd name="textAreaLeft" fmla="*/ 17280 w 2590560"/>
              <a:gd name="textAreaRight" fmla="*/ 2567880 w 2590560"/>
              <a:gd name="textAreaTop" fmla="*/ 5400 h 838080"/>
              <a:gd name="textAreaBottom" fmla="*/ 663840 h 8380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arotid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759A2-EE77-4CFD-9A1A-0C8939F2C3D6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 </a:t>
            </a: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arotid gland</a:t>
            </a: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capsule send septa to the interior of the gland separating it into lobules and making surgical removal difficu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bmandibular gland is loosely enveloped and can be shelled out eas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dially, the capsule is closely related to the pharynx and the great vessels in the carotid she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reak through by tumour or sharp instr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181480" y="1905120"/>
            <a:ext cx="39927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6D077-FA3A-4FDE-8FD1-6EA4299379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nc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ubrication of food, assisting swallow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istening of the buccal mucosa, essential for spee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vision of an aqueous solvent, necessary for ta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vision of a fluid seal, necessary for suck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cretion of digestive enzymes, amyl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cretion of hormones, Glucagons-like protein and ? seroton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81480" y="2163600"/>
            <a:ext cx="3962520" cy="37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80416-DE7E-4217-8C2D-0B06217BFE2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alivary Glands</a:t>
            </a:r>
            <a:r>
              <a:rPr b="1" i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rgest of the salivary and is predominantly serous with few scattered mucous aci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below the external auditory meatus in a deep hollow between the ramus, the mastoid and the styloid proc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5440" y="2133720"/>
            <a:ext cx="3835440" cy="4190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5335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4187A-0177-4326-9B88-E52742B81B2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474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roughly wedge shape, with an upper and lower poles with the base above and the apex below behind the angle of the mand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lso wedge shaped in the horizontal plan with three surfaces, lateral, antero-medial and postero-medial, the base is the lateral and apex lies against the pharyngeal w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19920" y="4349880"/>
            <a:ext cx="3124080" cy="250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1417680"/>
            <a:ext cx="3124080" cy="2903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172200" y="4572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DB51E-0BAB-46EF-A295-AB059CD67F08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715680"/>
            <a:ext cx="532620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8765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parotid sheath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 tough capsule, derived from the investing layer of the deep cervical fas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ficial layer is attached to the zygomatic arch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eep part to the styloid process, the mandible (stylo-mandibular ligament) and the  tympanic part of temporal 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8800" y="1600200"/>
            <a:ext cx="3805200" cy="4343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5880" y="3049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CBA3A-A09F-45D4-BB53-C93183C504EC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upper po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here to the cartilage of external auditory and the TMJ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lower po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rounded and lie below and behind the angle of the mand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facial ner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it into superficial and deep parts or lo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40240" y="2057400"/>
            <a:ext cx="3803760" cy="379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248520" y="60948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6AA59-9A5E-4AB2-9E29-ADD247087C9D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Lateral surfac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flat and covered with skin and superficial fascia containing great auricular nerv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ymph nodes lie within the substance  or under the shea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uct and the five branches of the facial nerve emerge from its anterior b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0492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10364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50EEE-3AB1-4100-BBB7-BEA995DC8720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532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nteromedial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urface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-shaped clasping the posterior border of the ramus with masseter laterally and medial pterygoid medially and inferiorly, separated by the stylomandibular ligament from the submandibular salivary glan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6858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307368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CA645-1C48-40D4-AE15-9C820BB6D1A0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639360"/>
            <a:ext cx="56847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Times New Roman"/>
              </a:rPr>
              <a:t>Salivary Glands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1906560"/>
            <a:ext cx="358632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he posteromedi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nted by the mastoid process and its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 against the styloid process with its three muscles and two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he accessory 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s on the masseter between the duct and the zygomatic 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603680"/>
            <a:ext cx="2743200" cy="225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019920" y="228600"/>
            <a:ext cx="2743200" cy="914400"/>
          </a:xfrm>
          <a:prstGeom prst="flowChartAlternateProcess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00cc"/>
                </a:solidFill>
                <a:uFillTx/>
                <a:latin typeface="Times New Roman"/>
              </a:rPr>
              <a:t>The Parotid gl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7280" y="1143000"/>
            <a:ext cx="22460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BF176-12EB-4486-B8AD-571FC1B75242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25:00Z</dcterms:created>
  <dc:creator>Dr Abdin</dc:creator>
  <dc:description/>
  <dc:language>en-US</dc:language>
  <cp:lastModifiedBy>Helabdin</cp:lastModifiedBy>
  <dcterms:modified xsi:type="dcterms:W3CDTF">2004-12-13T17:24:15Z</dcterms:modified>
  <cp:revision>56</cp:revision>
  <dc:subject/>
  <dc:title>Salivary Glands:</dc:title>
</cp:coreProperties>
</file>