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CA5D-F8F5-4216-B16E-C6DD9425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dder http://www.healthandage.org/html/res/primer/pics/k3bladder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CA04-9758-4BEC-A6B3-AB94A9CB9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http://www.ipmc.cnrs.fr/~duprat/neurophysiology/images/brain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FBA1-9193-4727-AA28-E1E37FAC8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enchephalitis – herpes http://pathology.mc.duke.edu/neuropath/CNSlecture2/hsv.jpg33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30F-480B-4C94-8805-A9EA1C07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6DC4-6476-4CBF-B933-5A186730A5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domen http://swissknifev.files.wordpress.com/2009/01/liver-abdomen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2DA-1BE6-4CBC-8A1D-785A3641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mm.edu/transplant/kidney/images/laparoscopic_instrumen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4D9-6DF1-4CBA-81DB-190DE656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eocities.com/hotsprings/falls/7780/images/dpgn.jpg  lupus nephr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A49-5400-4F0C-9EE3-C0F1D497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vita.com/UploadedImages/Davita_Nephrologist-62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427-8DF1-432B-97EC-F927CB8A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138-A789-4F00-9F34-2BB042B133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nexorablyloved.files.wordpress.com/2007/03/sunny-eyes-012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816B-FF69-42CB-B0C8-CBFC60E2A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0B0-3F4C-4175-B2C1-C73EC452A3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dicineworld.org/images/blogs/10-2006/osteoarthritis-late-618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78C2-7B54-4317-BF88-E0133C7A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B98-3461-4919-8831-468336B9FB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E24C-5321-41A8-9486-B5C4704D3B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B97E-F9C9-4BC6-B07D-20D0FCA412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AA6-FBDE-4BD6-B274-A668EAA974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993D-11EC-46A5-B999-525C625D64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98D-EF6F-44C2-926C-C9F37F6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044-7812-42C9-A793-E8BE714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895-DB80-4191-970D-63AF5FFF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E2F-79F8-4B40-B93B-47FF5752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11E-CBBD-49FE-8EBB-AE96607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484-72D1-449D-AD6C-CC1EDDB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062-86D2-447C-AFA8-FB43B62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404-C531-44BD-BD8D-628B6084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5A9-ED6A-4523-BC38-A374388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ACF-D83E-42AE-BBFC-E3E6659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7AB-2D27-424E-8745-86FE6B4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CB1-29BA-47D7-AB3A-9A325BC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62FA-DF7B-43C3-A4C2-8CFCD1FE47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trvXd-tbJAhUBKpQKHdT0AAYQjRwIBw&amp;url=http%3A%2F%2Fwww.veteranstoday.com%2F2011%2F06%2F06%2Fbasal-cell-and-squamous-cell-skin-carcinomas%2F&amp;psig=AFQjCNE4UuVHU9RMRHM5RcNcQlmLPdTZqw&amp;ust=1450031544950123" TargetMode="External"/><Relationship Id="rId2" Type="http://schemas.openxmlformats.org/officeDocument/2006/relationships/hyperlink" Target="http://www.google.com.sa/url?sa=i&amp;rct=j&amp;q=&amp;esrc=s&amp;source=images&amp;cd=&amp;cad=rja&amp;uact=8&amp;ved=0ahUKEwjtrvXd-tbJAhUBKpQKHdT0AAYQjRwIBw&amp;url=http%3A%2F%2Fwww.veteranstoday.com%2F2011%2F06%2F06%2Fbasal-cell-and-squamous-cell-skin-carcinomas%2F&amp;psig=AFQjCNE4UuVHU9RMRHM5RcNcQlmLPdTZqw&amp;ust=1450031544950123" TargetMode="External"/><Relationship Id="rId3" Type="http://schemas.openxmlformats.org/officeDocument/2006/relationships/hyperlink" Target="http://www.google.com.sa/url?sa=i&amp;rct=j&amp;q=&amp;esrc=s&amp;source=images&amp;cd=&amp;cad=rja&amp;uact=8&amp;ved=0ahUKEwiO_Nzv-tbJAhWJKJQKHblICaEQjRwIBw&amp;url=http%3A%2F%2Fcosmetic-surgery-sydney.net.au%2Fsquamous-cell-carcinoma-skin-cancer-northern-beaches-north-shore-nsw-south-coast.html&amp;psig=AFQjCNE4UuVHU9RMRHM5RcNcQlmLPdTZqw&amp;ust=145003154495012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jtmqGu-9bJAhUFHJQKHfMyCDoQjRwIBw&amp;url=https%3A%2F%2Fquizlet.com%2F23797520%2Fchp3-directional-terms-flash-cards%2F&amp;psig=AFQjCNF42p30rKZMv-TRG4jYHE87JLmUWw&amp;ust=145003169762473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iTmNOl-tbJAhUCHJQKHWJzAmUQjRwIBw&amp;url=https%3A%2F%2Fwww.studyblue.com%2Fnotes%2Fnote%2Fn%2Furinary-tract%2Fdeck%2F4803220&amp;psig=AFQjCNFkewJJ11e2T0nST2Qe7lTQyWwcbQ&amp;ust=1450031437156029" TargetMode="External"/><Relationship Id="rId2" Type="http://schemas.openxmlformats.org/officeDocument/2006/relationships/hyperlink" Target="https://www.google.com.sa/url?sa=i&amp;rct=j&amp;q=&amp;esrc=s&amp;source=images&amp;cd=&amp;cad=rja&amp;uact=8&amp;ved=0ahUKEwiTmNOl-tbJAhUCHJQKHWJzAmUQjRwIBw&amp;url=https%3A%2F%2Fwww.studyblue.com%2Fnotes%2Fnote%2Fn%2Furinary-tract%2Fdeck%2F4803220&amp;psig=AFQjCNFkewJJ11e2T0nST2Qe7lTQyWwcbQ&amp;ust=1450031437156029" TargetMode="External"/><Relationship Id="rId3" Type="http://schemas.openxmlformats.org/officeDocument/2006/relationships/hyperlink" Target="http://www.google.com.sa/url?sa=i&amp;rct=j&amp;q=&amp;esrc=s&amp;source=images&amp;cd=&amp;cad=rja&amp;uact=8&amp;ved=0ahUKEwj1vdCv-tbJAhVEVZQKHaJoA6MQjRwIBw&amp;url=http%3A%2F%2Fwww.slideshare.net%2Fshilpa_prajapati%2Fthe-urinary-bladder-13904802&amp;psig=AFQjCNFkewJJ11e2T0nST2Qe7lTQyWwcbQ&amp;ust=1450031437156029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HnvWD_NbJAhUDspQKHUDNA5cQjRwIBw&amp;url=http%3A%2F%2Fhubpages.com%2Fhealth%2FFlexibleCystoscopy-A-bladder-examination&amp;psig=AFQjCNG4S23RDx4nayupiUF3StnRD6tDlQ&amp;ust=145003182225374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Os5qx_NbJAhVBtZQKHbJUBdwQjRwIBw&amp;url=http%3A%2F%2Fwww.heartcarecentre.co.nz%2Fcore%2Fnode%2F19&amp;psig=AFQjCNF9S_3EonfznGChXGRMwGnucUgCGA&amp;ust=145003200319201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un7n2_dbJAhUEkpQKHYU_C0EQjRwIBw&amp;url=http%3A%2F%2Fwww.seattlechildrens.org%2Fkids-health%2Fparents%2Fgeneral-health%2Fsick-kids%2Feeg-(electroencephalogram)%2F&amp;psig=AFQjCNHl1jiSLjmSaJ1edofFAhe9oQYDeg&amp;ust=1450032352929078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0scPL_tbJAhVEVZQKHaJoA6MQjRwIBw&amp;url=http%3A%2F%2Fwww.dreamstime.com%2Froyalty-free-stock-photography-viral-encephalitis-medical-illustration-virus-image36719767&amp;psig=AFQjCNEC4lZuF6ffB8jBvOhYTwHkJcrWMg&amp;ust=145003259918273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j91cXD_9bJAhUGX5QKHfMUDCEQjRwIBw&amp;url=https%3A%2F%2Fwww.practo.com%2Fpune%2Fgynecologist-obstetrician%2Fbalewadi&amp;psig=AFQjCNGhRTPeeEIy7YL6fJotOpn9Mabv7w&amp;ust=145003270686421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nlm.nih.gov/medlineplus/ency/imagepages/8704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ixuGHgNfJAhWHJJQKHaWaCY0QjRwIBw&amp;url=http%3A%2F%2Fwww.endo-resolved.com%2Flaparoscopy.html&amp;psig=AFQjCNHx7p6RGNzT62tdtF5WW6WgEU83hQ&amp;ust=1450033008528683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Z0ZK6gNfJAhWIipQKHQVHABEQjRwIBw&amp;url=http%3A%2F%2Fphilschatz.com%2Fanatomy-book%2Fcontents%2Fm46429.html&amp;psig=AFQjCNE-jpgaHaGEHfeSQ5EgGmyftepuGQ&amp;ust=1450033097115034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40-mQgdfJAhXBpZQKHfvDB5kQjRwIBw&amp;url=http%3A%2F%2Fwww.clevelandclinicmeded.com%2Fmedicalpubs%2Fdiseasemanagement%2Fnephrology%2Frenal-cell-carcinoma%2F&amp;psig=AFQjCNFIAnD2xl4N3GHx0rxJPQnD-PVomw&amp;ust=1450033213229370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n98CTgtfJAhXFp5QKHX9qDKwQjRwIBw&amp;url=http%3A%2F%2Fwww.blossom-group.org%2Fne2.php&amp;psig=AFQjCNHKx77-EFipANbLd8T8Kn0oZKqFlg&amp;ust=1450033557590183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f1vuohdfJAhVJ2hoKHYJaAAYQjRwIBw&amp;url=http%3A%2F%2Fbrainmadesimple.com%2Fneurologist-career.html&amp;psig=AFQjCNG9G9opisAp_MxkJ5xmltWRyn6-3w&amp;ust=145003440019325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crdyfhtfJAhUHXRoKHTCwCmUQjRwIBw&amp;url=http%3A%2F%2Fwww.eyesightresearch.org%2Fbackground.htm&amp;psig=AFQjCNHTGwK9GahjCkq2_iiES345OMunuA&amp;ust=1450034643423252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jp0YLLhtfJAhUCrxoKHUp7CRwQjRwIBw&amp;url=http%3A%2F%2Fwww.zumaxmedical.cn%2FOphthalmic%2FDM6D.asp&amp;psig=AFQjCNHrMwozwtd6EFEUCURnSSv7Wv4mtg&amp;ust=1450034754692618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X46vyhtfJAhXLiRoKHedvD4IQjRwIBw&amp;url=http%3A%2F%2Fwww.how-to-draw-cartoons-online.com%2Fcartoon-bone.html&amp;psig=AFQjCNEPXaK-fxYlV2JxQ3sTHXpto_bRcg&amp;ust=1450034832391202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1146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Medical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rminology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440" y="4571640"/>
            <a:ext cx="1676160" cy="762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art f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CEC7-752B-4693-9963-026840D0D3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cinom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arcin / 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cin = can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ma = tumor or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Tumor or mass of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ancer, cancer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cin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cin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52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>
            <a:hlinkClick r:id="rId1"/>
          </p:cNvPr>
          <p:cNvSpPr/>
          <p:nvPr/>
        </p:nvSpPr>
        <p:spPr>
          <a:xfrm>
            <a:off x="57240" y="-1371600"/>
            <a:ext cx="4381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>
            <a:hlinkClick r:id="rId2"/>
          </p:cNvPr>
          <p:cNvSpPr/>
          <p:nvPr/>
        </p:nvSpPr>
        <p:spPr>
          <a:xfrm>
            <a:off x="209520" y="-1219320"/>
            <a:ext cx="4381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https://encrypted-tbn2.gstatic.com/images?q=tbn:ANd9GcQ32UuLFkTxczpoDgUO8Zkqd6UmfXqSJnX5G1u6Knun8IZgqpmJT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3352680"/>
            <a:ext cx="3962520" cy="334332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8151-0A01-43F7-BCCC-4C2831CF14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cephal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20" y="19810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epha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04960" y="1905120"/>
            <a:ext cx="4038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ephal / 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ephal = h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c = pertain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taining to the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s://o.quizlet.com/LHYtTzFaooYg5rcrDNX5pA_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971800"/>
            <a:ext cx="198108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FDAE-3940-4047-B690-A0D25F178C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굴림"/>
              </a:rPr>
              <a:t>cyst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urinary/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ystos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8">
            <a:hlinkClick r:id="rId1"/>
          </p:cNvPr>
          <p:cNvSpPr/>
          <p:nvPr/>
        </p:nvSpPr>
        <p:spPr>
          <a:xfrm>
            <a:off x="57240" y="-1866960"/>
            <a:ext cx="516240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>
            <a:hlinkClick r:id="rId2"/>
          </p:cNvPr>
          <p:cNvSpPr/>
          <p:nvPr/>
        </p:nvSpPr>
        <p:spPr>
          <a:xfrm>
            <a:off x="209520" y="-1714680"/>
            <a:ext cx="516276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http://image.slidesharecdn.com/theurinarybladder-120807162121-phpapp02/95/the-urinary-bladder-3-728.jpg?cb=13443565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6000" y="2181240"/>
            <a:ext cx="4736880" cy="46418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031-F898-47D9-90A7-BA465D2DB7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610840" cy="944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Cystosco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ysto / s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yst/o=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y = visual ex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examination of the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نتيجة بحث الصور عن ‪Cystoscopy‬‏"/>
          <p:cNvPicPr/>
          <p:nvPr/>
        </p:nvPicPr>
        <p:blipFill>
          <a:blip r:embed="rId1"/>
          <a:stretch/>
        </p:blipFill>
        <p:spPr>
          <a:xfrm>
            <a:off x="533520" y="2362320"/>
            <a:ext cx="3809880" cy="350496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A22-1255-4F47-9188-13306C3295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Cystoscop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ysto /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yst/o=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e = instrument to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 to view the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https://encrypted-tbn2.gstatic.com/images?q=tbn:ANd9GcQonxY8XlKupnElt1RWPbExIE7ahdC5Ogf1YcfKgCx4CInQM4L02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FBC-EC6D-4F35-9DE6-F24201671E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lectr/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ocardi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https://encrypted-tbn1.gstatic.com/images?q=tbn:ANd9GcSSPNl3-nB4oVaTQsiswSg0f2_DdbEMF6GDJclVmfRuAzn68Fdh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762440" cy="381960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D0F2-489A-4A49-86FB-F0813594C9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lectrocardiogram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ECG or EK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360" y="2361960"/>
            <a:ext cx="411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lectr/o/cardi/o/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/o = elect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Cardi/o = he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gram =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cord of the electricity of the he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C68F-2CAC-4788-B40A-A68282F3B7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ncephal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66720" y="2361960"/>
            <a:ext cx="426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oencephalog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(EE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ncephal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D234-C8D7-4006-B04C-1AA4437F80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lectroencephalogram (EEG)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17680" y="1979280"/>
            <a:ext cx="5025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lectr/o/encephal/o/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lectr/o = electr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ncephal/o = b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gram =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cord of the electricity of the b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2" descr="http://www.seattlechildrens.org/kids-health/image/ial/images/884/884_imag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2960" y="1768320"/>
            <a:ext cx="3810240" cy="33912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1C7-5A90-4F76-8EAE-30A22ACECB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ncephalit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2361960"/>
            <a:ext cx="3882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ncephal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Encephal = b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tis =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ammation of the b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http://thumbs.dreamstime.com/z/viral-encephalitis-medical-illustration-virus-3671976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280" y="2362320"/>
            <a:ext cx="4753080" cy="389556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04A4-1F17-465C-A7A2-E0AE254F28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Parts of Medical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ot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the middle of the word and its central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fix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a syllable at the beginning of the word which usually identifies some subdivision or part of the central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ffix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s at the end of the central meaning and  refers to what or who is interacting or what is happening regarding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0A9-B671-49EA-B1BE-E9B90B39E7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gynec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women, fem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A96E-2408-4741-8333-E3E541D5BA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Gynec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Gynec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/o =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wom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https://encrypted-tbn0.gstatic.com/images?q=tbn:ANd9GcSqTfZ6n5xH9QbJdOx3MVhEKMCSaxQhNbZGOnsKvdSg"/>
          <p:cNvPicPr/>
          <p:nvPr/>
        </p:nvPicPr>
        <p:blipFill>
          <a:blip r:embed="rId1"/>
          <a:stretch/>
        </p:blipFill>
        <p:spPr>
          <a:xfrm>
            <a:off x="457200" y="2819520"/>
            <a:ext cx="3029040" cy="112392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92A-DF75-466C-834D-9EDD1DF491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Gynec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66720" y="2361960"/>
            <a:ext cx="426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Gynec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ynec/o =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(in the study) of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https://images1-fabric.practo.com/dharaskars-clinic-pune-1448858120-565bd2088696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14600"/>
            <a:ext cx="3095640" cy="247644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9CCE-74C8-4427-850E-D812595732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lapar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domen (area between the chest and hi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Laparos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Laparo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https://www.nlm.nih.gov/medlineplus/ency/images/ency/fullsize/87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0B22-646E-4A58-9FA7-C68CCA75F3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Laparoscop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2361960"/>
            <a:ext cx="4035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Lapar / o / s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Lapr/o = abd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e = instrument used to visual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ment used to visualize the abd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http://www.endo-resolved.com/images/280xNxlaparoscopy_visual.jpg.pagespeed.ic.jjCR_Shu-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905120"/>
            <a:ext cx="3657600" cy="37335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B1D-C8FA-4B9D-B0B1-30A4A8BEC9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굴림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ttp://philschatz.com/anatomy-book/resources/2610_The_Kid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4038480" cy="38955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1B3E-D66F-4501-87E5-0AF7FA37D0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ectom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ect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ectomy = removal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moval (cutting out) of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ttp://www.clevelandclinicmeded.com/medicalpubs/diseasemanagement/nephrology/renal-cell-carcinoma/images/figure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7280" y="4010040"/>
            <a:ext cx="5351400" cy="263844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B656-668F-47A9-83AC-BB0F91FC6E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" y="228240"/>
            <a:ext cx="792504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it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itis =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flammation of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D458-B358-4FF2-A5AB-FA74B62FB4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phr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r/o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alist in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نتيجة بحث الصور عن ‪Nephrologist‬‏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4C2E-D3E8-46A3-AE0C-D9A61B2D09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868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r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olog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ologi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alg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Neur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2E3F-6C55-4EF5-BF32-852C0BAC6A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010800" cy="638316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5FA-E2F7-4B88-96A9-DBC9EE3473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/o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www.blossom-group.org/images/neurology-1-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80" y="1676520"/>
            <a:ext cx="3930840" cy="389556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0019-0536-4683-A1CF-9A63ADE931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o / log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/o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in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http://brainmadesimple.com/uploads/7/8/8/5/7885523/_9157069_or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46520"/>
            <a:ext cx="4648320" cy="30909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3C4-E10E-4B6B-A9C2-5F22B2A6AD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al = pertain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ertaining to the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DE94-169A-488B-8188-44964CA1A5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alg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al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algia =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ain of the nerves  (nerve p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69E-880F-488A-AAB0-1B682D0845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Neur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ur / 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ur = ne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sis = abnorma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normal condition of the n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11B-30FD-4769-9021-4F34F522D7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240" y="2285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oscop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http://www.eyesightresearch.org/images/American_Academy_of_Ophthalmolog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2666880"/>
            <a:ext cx="4572000" cy="207648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43A6-18A7-4995-A45A-BED56F65B8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419360" y="2361960"/>
            <a:ext cx="411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phthalm/o/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/o = e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in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A37C-5D20-4EE3-AA7C-0AE6262FA7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phthalm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/o = e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The study of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136-25EC-434A-8CD0-5CAB3727E5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phthalmoscop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phthalmo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phthalm/o = e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scope = instrument to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strument to view the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6" descr="http://www.zumaxmedical.cn/images2011/DM6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1160" y="1600200"/>
            <a:ext cx="4410000" cy="38955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D91-E009-483F-8986-79695AC967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ste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steoarth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6" descr="http://www.how-to-draw-cartoons-online.com/image-files/cartoon-bone-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0"/>
            <a:ext cx="4952880" cy="2476440"/>
          </a:xfrm>
          <a:prstGeom prst="rect">
            <a:avLst/>
          </a:prstGeom>
          <a:ln w="0">
            <a:noFill/>
          </a:ln>
        </p:spPr>
      </p:pic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2B1-516F-45A5-9F34-1DEC8137CA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yocard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oot:  card (referring to the hear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fix:  myo (referring to the musc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ffix:  itis (inflamm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eaning:  inflammation of the muscle layer of the hea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Calibri"/>
              </a:rPr>
              <a:t>Read the meaning of medical terms from the suffix, back to the beginning of the term, and then acro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13C9-AD75-4BC2-8823-72059593BE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steoarthrit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ste / o / arthr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Oste/o = b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rthr = j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tis =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flammation of the bone and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0CC7-C85F-4A61-8D66-5B07B6C554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굴림"/>
              </a:rPr>
              <a:t>path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Pathologi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Patholog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굴림"/>
              </a:rPr>
              <a:t>Psychopath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2DA5-17BB-4B38-8741-321F88D8FC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ath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ath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ath/o =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19D4-B4EA-4FA2-B20B-B4EBB3FE48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ath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ath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ath/o =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5C8-933A-44F2-AB0F-6BEC3E7059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굴림"/>
              </a:rPr>
              <a:t>psych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log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s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AAFB-7C0C-4EEB-906F-CE5A0E5B65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 / o / 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/o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y = study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udy of the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146-1D20-4DBB-90A0-EC1E8C2838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log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 / o / 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/o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logist = speciali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pecialist in the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4E2-27E6-4A22-A536-4797021E7D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 / 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sis = abnorma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normal condition of the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816B-970C-4D4D-B160-3A8C86116E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Psychopathi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sych/o/path/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/o =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ath =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c =condi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 of mind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12C4-3760-441C-8B7F-E3214570F4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en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MS UI Gothic"/>
                <a:ea typeface="MS UI Gothic"/>
              </a:rPr>
              <a:t>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e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214C-8C29-42DE-8815-D804CE8A56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ocard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3B9B-265A-4295-AC16-B0D8E1E019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Rhin/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hin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6" descr="http://www.entmags.org/archive/images/Perennial_Allergic_Rhinitis.jpg"/>
          <p:cNvPicPr/>
          <p:nvPr/>
        </p:nvPicPr>
        <p:blipFill>
          <a:blip r:embed="rId1"/>
          <a:stretch/>
        </p:blipFill>
        <p:spPr>
          <a:xfrm>
            <a:off x="762120" y="3200400"/>
            <a:ext cx="2476440" cy="2790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0" y="2361960"/>
            <a:ext cx="4191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hin / 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hin = n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tis = inflammation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lammation of the 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640-97AA-4745-AE1D-C5AF2E5C76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ctom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utting out, removal, ex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Gastrect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Tonsill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ppend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1C5-4A21-4BAC-97A3-6E742669DF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Anem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n- =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emia = bl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o b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6" descr="http://s3.india.com/wp-content/uploads/2015/05/anemia-2.png"/>
          <p:cNvPicPr/>
          <p:nvPr/>
        </p:nvPicPr>
        <p:blipFill>
          <a:blip r:embed="rId1"/>
          <a:stretch/>
        </p:blipFill>
        <p:spPr>
          <a:xfrm>
            <a:off x="28440" y="3619440"/>
            <a:ext cx="5762880" cy="323856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FD6-48BC-4AD1-A8A8-44B7D5CEC1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normal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sychos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Nephr / 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Nepho = ki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osis = abnormal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bnormal condition of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ACC-8FE2-49BD-9462-1B6053AA41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ndo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side, inner (with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ndocrine glands, endocar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E55A-918A-47FC-9819-53AEE03A24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exo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Ex: exocrine glands, exoskeleton, exorc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2C49-2771-4B29-B849-8DCF7F2D95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sub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below, u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hep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consci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ub / hepat / 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Sub- = be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Hepat =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-ic = pertain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ertaining to below the l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06C-3D53-47B5-B083-F054E758B3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0255-FC24-45BE-A602-525928D97C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http://andliginspiration.files.wordpress.com/2013/02/1zdq2ps.gif?w=529"/>
          <p:cNvPicPr/>
          <p:nvPr/>
        </p:nvPicPr>
        <p:blipFill>
          <a:blip r:embed="rId1"/>
          <a:stretch/>
        </p:blipFill>
        <p:spPr>
          <a:xfrm>
            <a:off x="228600" y="4800600"/>
            <a:ext cx="5105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fix chang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carditis (inflammation of the outer layer of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cartitis (inflammation of the inner lining of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ffix chan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iologist ( a physician specializing in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iomyopathy (damage to heart muscle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diomegaly (enlargement of the hear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B63-3BE0-44AE-946E-55CA1B7972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so: Combining vow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s the letter “O” but may be A, E, I, U or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has no meaning of its own but is used to connect the root and the suffix or two roots and two suf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ELECT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RD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T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TER 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771-1A4B-4BDC-A012-0238933BB9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O ENTER O 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ROOT)                  (ROOT)                    (SUFFI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O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(SUFFI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 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(SUFFI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TR O ENTER  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(ROO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(SUFFIX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E3A-6DB5-4D74-B33C-890AC5A124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u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retain the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e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ertebra - vertebra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agnosis - diagno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ex or i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ex or ix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ice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pex - ap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anglion - gangl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Words ending in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u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o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dd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cterium - bac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ords ending in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u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rip th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u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dd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onchus - bronch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DCAD-5396-4171-9D63-21D1CC2539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20:25:41Z</dcterms:created>
  <dc:creator>HP Authorized Customer</dc:creator>
  <dc:description/>
  <dc:language>en-US</dc:language>
  <cp:lastModifiedBy>Ahmad Rawhi</cp:lastModifiedBy>
  <dcterms:modified xsi:type="dcterms:W3CDTF">2015-12-12T20:31:40Z</dcterms:modified>
  <cp:revision>41</cp:revision>
  <dc:subject/>
  <dc:title>Medical Terminology</dc:title>
</cp:coreProperties>
</file>