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157-0B5A-43F4-B5AC-122B3BD6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dder http://www.healthandage.org/html/res/primer/pics/k3bladder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F70C-C80C-44BD-89EE-1F221E0F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http://www.ipmc.cnrs.fr/~duprat/neurophysiology/images/brain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C5E6-E59A-484B-8622-80E36361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enchephalitis – herpes http://pathology.mc.duke.edu/neuropath/CNSlecture2/hsv.jpg33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FC10-4DC9-4A0B-B677-BB594AE0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2D5-27BB-46BF-B3E0-E1C53CA667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domen http://swissknifev.files.wordpress.com/2009/01/liver-abdomen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BB9-8CF2-424B-8C16-3A1ECFE3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mm.edu/transplant/kidney/images/laparoscopic_instrumen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B02-4E9A-48D9-9459-876367A9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eocities.com/hotsprings/falls/7780/images/dpgn.jpg  lupus nephr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B7E-9BFB-44F4-9151-7D1C0444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vita.com/UploadedImages/Davita_Nephrologist-62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D265-3833-4A52-B090-074DB06F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088-6DF0-4814-A0B9-41B03A39FF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nexorablyloved.files.wordpress.com/2007/03/sunny-eyes-012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3686-BC24-4F2B-A1C9-403843701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CDE-709F-45B7-AE74-B41CA62107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dicineworld.org/images/blogs/10-2006/osteoarthritis-late-618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8585-81CF-4D0B-A992-AAF15CD6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82E2-A7D1-4EA3-8CB9-6E8FF8E5FD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113-1E8B-401B-AE64-54D5CDE2DE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6EE-DE87-40A9-A09F-2EBDADD186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F1F9-4C31-4DC3-B337-D10838E6B0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4F3-412C-41E6-BA73-8C880165BB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660-53E3-4E8E-BBA2-DA39C5E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332-2B0E-47E0-A6BC-40A8925B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31D-EA64-436E-872F-240FFD51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FF-0268-4556-9351-E7ACB2D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5A0-46FA-4A65-B2DD-E05CE794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D2F-9CBF-4E5A-821F-6E6401D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9C7-DAE5-4BAB-9F2E-1A9C0205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933-7DB5-4F16-9540-4EEAB202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E91-D551-4EE9-BB74-94E7235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2E2-1A6A-4EB9-A639-3ABD737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FF1-E048-4E9F-98D9-189DB5C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65B-570D-483D-B56A-1D01106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E2D-729D-46AB-B26A-1A4CF842A4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trvXd-tbJAhUBKpQKHdT0AAYQjRwIBw&amp;url=http%3A%2F%2Fwww.veteranstoday.com%2F2011%2F06%2F06%2Fbasal-cell-and-squamous-cell-skin-carcinomas%2F&amp;psig=AFQjCNE4UuVHU9RMRHM5RcNcQlmLPdTZqw&amp;ust=1450031544950123" TargetMode="External"/><Relationship Id="rId2" Type="http://schemas.openxmlformats.org/officeDocument/2006/relationships/hyperlink" Target="http://www.google.com.sa/url?sa=i&amp;rct=j&amp;q=&amp;esrc=s&amp;source=images&amp;cd=&amp;cad=rja&amp;uact=8&amp;ved=0ahUKEwjtrvXd-tbJAhUBKpQKHdT0AAYQjRwIBw&amp;url=http%3A%2F%2Fwww.veteranstoday.com%2F2011%2F06%2F06%2Fbasal-cell-and-squamous-cell-skin-carcinomas%2F&amp;psig=AFQjCNE4UuVHU9RMRHM5RcNcQlmLPdTZqw&amp;ust=1450031544950123" TargetMode="External"/><Relationship Id="rId3" Type="http://schemas.openxmlformats.org/officeDocument/2006/relationships/hyperlink" Target="http://www.google.com.sa/url?sa=i&amp;rct=j&amp;q=&amp;esrc=s&amp;source=images&amp;cd=&amp;cad=rja&amp;uact=8&amp;ved=0ahUKEwiO_Nzv-tbJAhWJKJQKHblICaEQjRwIBw&amp;url=http%3A%2F%2Fcosmetic-surgery-sydney.net.au%2Fsquamous-cell-carcinoma-skin-cancer-northern-beaches-north-shore-nsw-south-coast.html&amp;psig=AFQjCNE4UuVHU9RMRHM5RcNcQlmLPdTZqw&amp;ust=145003154495012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jtmqGu-9bJAhUFHJQKHfMyCDoQjRwIBw&amp;url=https%3A%2F%2Fquizlet.com%2F23797520%2Fchp3-directional-terms-flash-cards%2F&amp;psig=AFQjCNF42p30rKZMv-TRG4jYHE87JLmUWw&amp;ust=145003169762473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mNOl-tbJAhUCHJQKHWJzAmUQjRwIBw&amp;url=https%3A%2F%2Fwww.studyblue.com%2Fnotes%2Fnote%2Fn%2Furinary-tract%2Fdeck%2F4803220&amp;psig=AFQjCNFkewJJ11e2T0nST2Qe7lTQyWwcbQ&amp;ust=1450031437156029" TargetMode="External"/><Relationship Id="rId2" Type="http://schemas.openxmlformats.org/officeDocument/2006/relationships/hyperlink" Target="https://www.google.com.sa/url?sa=i&amp;rct=j&amp;q=&amp;esrc=s&amp;source=images&amp;cd=&amp;cad=rja&amp;uact=8&amp;ved=0ahUKEwiTmNOl-tbJAhUCHJQKHWJzAmUQjRwIBw&amp;url=https%3A%2F%2Fwww.studyblue.com%2Fnotes%2Fnote%2Fn%2Furinary-tract%2Fdeck%2F4803220&amp;psig=AFQjCNFkewJJ11e2T0nST2Qe7lTQyWwcbQ&amp;ust=1450031437156029" TargetMode="External"/><Relationship Id="rId3" Type="http://schemas.openxmlformats.org/officeDocument/2006/relationships/hyperlink" Target="http://www.google.com.sa/url?sa=i&amp;rct=j&amp;q=&amp;esrc=s&amp;source=images&amp;cd=&amp;cad=rja&amp;uact=8&amp;ved=0ahUKEwj1vdCv-tbJAhVEVZQKHaJoA6MQjRwIBw&amp;url=http%3A%2F%2Fwww.slideshare.net%2Fshilpa_prajapati%2Fthe-urinary-bladder-13904802&amp;psig=AFQjCNFkewJJ11e2T0nST2Qe7lTQyWwcbQ&amp;ust=1450031437156029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HnvWD_NbJAhUDspQKHUDNA5cQjRwIBw&amp;url=http%3A%2F%2Fhubpages.com%2Fhealth%2FFlexibleCystoscopy-A-bladder-examination&amp;psig=AFQjCNG4S23RDx4nayupiUF3StnRD6tDlQ&amp;ust=145003182225374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Os5qx_NbJAhVBtZQKHbJUBdwQjRwIBw&amp;url=http%3A%2F%2Fwww.heartcarecentre.co.nz%2Fcore%2Fnode%2F19&amp;psig=AFQjCNF9S_3EonfznGChXGRMwGnucUgCGA&amp;ust=145003200319201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un7n2_dbJAhUEkpQKHYU_C0EQjRwIBw&amp;url=http%3A%2F%2Fwww.seattlechildrens.org%2Fkids-health%2Fparents%2Fgeneral-health%2Fsick-kids%2Feeg-(electroencephalogram)%2F&amp;psig=AFQjCNHl1jiSLjmSaJ1edofFAhe9oQYDeg&amp;ust=1450032352929078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0scPL_tbJAhVEVZQKHaJoA6MQjRwIBw&amp;url=http%3A%2F%2Fwww.dreamstime.com%2Froyalty-free-stock-photography-viral-encephalitis-medical-illustration-virus-image36719767&amp;psig=AFQjCNEC4lZuF6ffB8jBvOhYTwHkJcrWMg&amp;ust=145003259918273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j91cXD_9bJAhUGX5QKHfMUDCEQjRwIBw&amp;url=https%3A%2F%2Fwww.practo.com%2Fpune%2Fgynecologist-obstetrician%2Fbalewadi&amp;psig=AFQjCNGhRTPeeEIy7YL6fJotOpn9Mabv7w&amp;ust=145003270686421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nlm.nih.gov/medlineplus/ency/imagepages/8704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ixuGHgNfJAhWHJJQKHaWaCY0QjRwIBw&amp;url=http%3A%2F%2Fwww.endo-resolved.com%2Flaparoscopy.html&amp;psig=AFQjCNHx7p6RGNzT62tdtF5WW6WgEU83hQ&amp;ust=1450033008528683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Z0ZK6gNfJAhWIipQKHQVHABEQjRwIBw&amp;url=http%3A%2F%2Fphilschatz.com%2Fanatomy-book%2Fcontents%2Fm46429.html&amp;psig=AFQjCNE-jpgaHaGEHfeSQ5EgGmyftepuGQ&amp;ust=145003309711503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40-mQgdfJAhXBpZQKHfvDB5kQjRwIBw&amp;url=http%3A%2F%2Fwww.clevelandclinicmeded.com%2Fmedicalpubs%2Fdiseasemanagement%2Fnephrology%2Frenal-cell-carcinoma%2F&amp;psig=AFQjCNFIAnD2xl4N3GHx0rxJPQnD-PVomw&amp;ust=145003321322937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n98CTgtfJAhXFp5QKHX9qDKwQjRwIBw&amp;url=http%3A%2F%2Fwww.blossom-group.org%2Fne2.php&amp;psig=AFQjCNHKx77-EFipANbLd8T8Kn0oZKqFlg&amp;ust=145003355759018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f1vuohdfJAhVJ2hoKHYJaAAYQjRwIBw&amp;url=http%3A%2F%2Fbrainmadesimple.com%2Fneurologist-career.html&amp;psig=AFQjCNG9G9opisAp_MxkJ5xmltWRyn6-3w&amp;ust=145003440019325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crdyfhtfJAhUHXRoKHTCwCmUQjRwIBw&amp;url=http%3A%2F%2Fwww.eyesightresearch.org%2Fbackground.htm&amp;psig=AFQjCNHTGwK9GahjCkq2_iiES345OMunuA&amp;ust=1450034643423252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p0YLLhtfJAhUCrxoKHUp7CRwQjRwIBw&amp;url=http%3A%2F%2Fwww.zumaxmedical.cn%2FOphthalmic%2FDM6D.asp&amp;psig=AFQjCNHrMwozwtd6EFEUCURnSSv7Wv4mtg&amp;ust=1450034754692618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X46vyhtfJAhXLiRoKHedvD4IQjRwIBw&amp;url=http%3A%2F%2Fwww.how-to-draw-cartoons-online.com%2Fcartoon-bone.html&amp;psig=AFQjCNEPXaK-fxYlV2JxQ3sTHXpto_bRcg&amp;ust=1450034832391202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1146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Medical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440" y="4571640"/>
            <a:ext cx="1676160" cy="762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t f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D54-47A2-421B-BB59-A5406BC7B9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cinom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arcin / 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 = can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ma = tumor or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umor or mass of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ancer, cancer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52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>
            <a:hlinkClick r:id="rId1"/>
          </p:cNvPr>
          <p:cNvSpPr/>
          <p:nvPr/>
        </p:nvSpPr>
        <p:spPr>
          <a:xfrm>
            <a:off x="57240" y="-1371600"/>
            <a:ext cx="4381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>
            <a:hlinkClick r:id="rId2"/>
          </p:cNvPr>
          <p:cNvSpPr/>
          <p:nvPr/>
        </p:nvSpPr>
        <p:spPr>
          <a:xfrm>
            <a:off x="209520" y="-1219320"/>
            <a:ext cx="4381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https://encrypted-tbn2.gstatic.com/images?q=tbn:ANd9GcQ32UuLFkTxczpoDgUO8Zkqd6UmfXqSJnX5G1u6Knun8IZgqpmJT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352680"/>
            <a:ext cx="3962520" cy="334332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3CE-9B3B-4C72-A9E8-397280EDEA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ephal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20" y="19810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epha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04960" y="1905120"/>
            <a:ext cx="4038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ephal /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ephal = h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taining to the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s://o.quizlet.com/LHYtTzFaooYg5rcrDNX5pA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971800"/>
            <a:ext cx="198108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01F-338E-4A7C-937A-0E01716DC0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cyst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rinary/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os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8">
            <a:hlinkClick r:id="rId1"/>
          </p:cNvPr>
          <p:cNvSpPr/>
          <p:nvPr/>
        </p:nvSpPr>
        <p:spPr>
          <a:xfrm>
            <a:off x="57240" y="-1866960"/>
            <a:ext cx="51624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>
            <a:hlinkClick r:id="rId2"/>
          </p:cNvPr>
          <p:cNvSpPr/>
          <p:nvPr/>
        </p:nvSpPr>
        <p:spPr>
          <a:xfrm>
            <a:off x="209520" y="-1714680"/>
            <a:ext cx="516276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://image.slidesharecdn.com/theurinarybladder-120807162121-phpapp02/95/the-urinary-bladder-3-728.jpg?cb=13443565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6000" y="2181240"/>
            <a:ext cx="4736880" cy="46418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DD94-5FEA-4AFC-97F5-29F3BFF253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610840" cy="94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ystosco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ysto / s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/o=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y = visual ex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examination of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نتيجة بحث الصور عن ‪Cystoscopy‬‏"/>
          <p:cNvPicPr/>
          <p:nvPr/>
        </p:nvPicPr>
        <p:blipFill>
          <a:blip r:embed="rId1"/>
          <a:stretch/>
        </p:blipFill>
        <p:spPr>
          <a:xfrm>
            <a:off x="533520" y="2362320"/>
            <a:ext cx="3809880" cy="35049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5175-ED63-43DA-BBD9-7085DA9E5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yst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ysto /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/o=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to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to view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https://encrypted-tbn2.gstatic.com/images?q=tbn:ANd9GcQonxY8XlKupnElt1RWPbExIE7ahdC5Ogf1YcfKgCx4CInQM4L02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0A97-CB1E-4D48-AA0B-D5595B22F8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/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ocardi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s://encrypted-tbn1.gstatic.com/images?q=tbn:ANd9GcSSPNl3-nB4oVaTQsiswSg0f2_DdbEMF6GDJclVmfRuAzn68Fdh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762440" cy="38196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578B-0685-4F75-BD6D-713071C011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ocardiogram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ECG or EK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360" y="2361960"/>
            <a:ext cx="411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/o/cardi/o/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/o = elect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di/o = 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gram =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cord of the electricity of the he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9588-949C-446C-9198-F3BAD1847B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cephal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66720" y="2361960"/>
            <a:ext cx="426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oencephalog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(EE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DE58-71B8-43F4-9DE1-E03FCF1974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oencephalogram (EEG)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17680" y="1979280"/>
            <a:ext cx="5025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/o/encephal/o/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/o = electr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/o = b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gram =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cord of the electricity of the 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2" descr="http://www.seattlechildrens.org/kids-health/image/ial/images/884/884_imag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2960" y="1768320"/>
            <a:ext cx="3810240" cy="33912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A35-A984-4F2A-BCD5-AC98CA520E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cephal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2361960"/>
            <a:ext cx="3882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ncephal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 = b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ammation of the 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http://thumbs.dreamstime.com/z/viral-encephalitis-medical-illustration-virus-3671976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280" y="2362320"/>
            <a:ext cx="4753080" cy="38955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C18F-64AB-45ED-86CF-CC57FFEFFA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Parts of Medical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t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the middle of the word and its centr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fix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 syllable at the beginning of the word which usually identifies some subdivision or part of the centr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ffix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s at the end of the central meaning and  refers to what or who is interacting or what is happening regard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2D1-BA24-43E2-9B7E-E9AF41B8A1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women, fe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2F4-766D-49A8-8863-F97C646497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ynec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/o =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wom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https://encrypted-tbn0.gstatic.com/images?q=tbn:ANd9GcSqTfZ6n5xH9QbJdOx3MVhEKMCSaxQhNbZGOnsKvdSg"/>
          <p:cNvPicPr/>
          <p:nvPr/>
        </p:nvPicPr>
        <p:blipFill>
          <a:blip r:embed="rId1"/>
          <a:stretch/>
        </p:blipFill>
        <p:spPr>
          <a:xfrm>
            <a:off x="457200" y="2819520"/>
            <a:ext cx="3029040" cy="11239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1E9A-DE81-45C5-A4D4-CA1E872C34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66720" y="2361960"/>
            <a:ext cx="426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ynec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/o =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(in the study) of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https://images1-fabric.practo.com/dharaskars-clinic-pune-1448858120-565bd2088696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14600"/>
            <a:ext cx="3095640" cy="247644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05E-F5AA-4059-918E-9C4B78E938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lapa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domen (area between the chest and hi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aros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aro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https://www.nlm.nih.gov/medlineplus/ency/images/ency/fullsize/87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BE8-792A-45B4-B70E-76FCFE0983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Lapar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2361960"/>
            <a:ext cx="4035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Lapar / o / s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r/o = abd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used to visual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used to visualize the abd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http://www.endo-resolved.com/images/280xNxlaparoscopy_visual.jpg.pagespeed.ic.jjCR_Shu-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905120"/>
            <a:ext cx="3657600" cy="37335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C27-11D2-49EB-8630-72735CC9A1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ttp://philschatz.com/anatomy-book/resources/2610_The_Kid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4038480" cy="38955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655-2AB2-40FA-B791-4E4867AD83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ect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ect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ectomy = removal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moval (cutting out)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ttp://www.clevelandclinicmeded.com/medicalpubs/diseasemanagement/nephrology/renal-cell-carcinoma/images/figure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4010040"/>
            <a:ext cx="5351400" cy="26384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BFC-3F46-45E0-9995-15C81F3B29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" y="228240"/>
            <a:ext cx="7925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flammation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A412-27FA-4667-82F5-FFD4D1F11F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/o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alist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نتيجة بحث الصور عن ‪Nephrologist‬‏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15F-221A-4AB3-BA7C-6EE4DEEAD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868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r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log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logi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alg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2722-1FF3-4FA8-9B13-BE22476B8A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010800" cy="638316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6DB-365A-4ECA-9F3A-EEACF0D499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/o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www.blossom-group.org/images/neurology-1-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80" y="1676520"/>
            <a:ext cx="3930840" cy="389556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483-1C0F-47D0-8A8D-4107022167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 / log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/o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http://brainmadesimple.com/uploads/7/8/8/5/7885523/_9157069_or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46520"/>
            <a:ext cx="4648320" cy="30909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937-8A03-4B27-8F3D-97FC93F08C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al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ertaining to the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1743-58E6-4F78-9823-2FD4389D61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alg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al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algia =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in of the nerves  (nerve p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72BF-33CF-4FE0-9908-A135BB7369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 of the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A68-3F7F-4586-9270-075E44D099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240" y="2285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http://www.eyesightresearch.org/images/American_Academy_of_Ophthalmolog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2666880"/>
            <a:ext cx="457200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2839-6905-47A0-94B4-451FB011AA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419360" y="2361960"/>
            <a:ext cx="411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/o/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A336-6C67-40CA-9BB9-9586DB6926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he study of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BDF7-E72B-46CC-9D59-33507D99E3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to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strument to view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http://www.zumaxmedical.cn/images2011/DM6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1160" y="1600200"/>
            <a:ext cx="4410000" cy="38955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609-3692-400B-8783-A049E77B4D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te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oarth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http://www.how-to-draw-cartoons-online.com/image-files/cartoon-bone-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4952880" cy="2476440"/>
          </a:xfrm>
          <a:prstGeom prst="rect">
            <a:avLst/>
          </a:prstGeom>
          <a:ln w="0">
            <a:noFill/>
          </a:ln>
        </p:spPr>
      </p:pic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099-02F0-49EC-97D8-5D1D8A4209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yocard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oot:  card (referring to the hear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fix:  myo (referring to the musc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ffix:  itis (inflamm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eaning:  inflammation of the muscle layer of the hea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Calibri"/>
              </a:rPr>
              <a:t>Read the meaning of medical terms from the suffix, back to the beginning of the term, and then acro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B58-1B2F-46E2-AE15-A3DEA8B905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teoarthr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ste / o / arthr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/o =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rthr = j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flammation of the bone and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5A5-BEE0-4A13-8ABD-AC2D32293B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path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athologi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atholog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sychopat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AAA-2F54-4230-8B92-3BF7EB223C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ath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th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/o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7B3-E955-4E45-B30C-75138D6AAF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ath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th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/o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39F-6CCC-44A0-88B9-0B2822D386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psych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log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s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69B1-70B0-4DBE-8B88-1F8D4A8DB7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A341-3152-46F1-A817-37DFD813D2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FE29-8D90-4886-B660-E27EEE66F3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normal condition of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8E9-57FF-48DA-ACC3-6FBEA48EED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pathi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/o/path/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 of mind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5604-302F-46B7-AA72-5C83E5EB85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en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e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1EC-F522-4C02-A2EB-316628B6C7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ocard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D7E4-8A82-4FC4-8580-69885F7A19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hin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hin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http://www.entmags.org/archive/images/Perennial_Allergic_Rhinitis.jpg"/>
          <p:cNvPicPr/>
          <p:nvPr/>
        </p:nvPicPr>
        <p:blipFill>
          <a:blip r:embed="rId1"/>
          <a:stretch/>
        </p:blipFill>
        <p:spPr>
          <a:xfrm>
            <a:off x="762120" y="3200400"/>
            <a:ext cx="2476440" cy="2790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0" y="2361960"/>
            <a:ext cx="4191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hin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hin = n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lammation of the 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2DB1-2ECF-4BBB-B268-C0A952E7AC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ct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utting out, removal, ex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astrect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onsill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ppend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16D-2E04-4C68-B70B-D390A43974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Anem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n- =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emia = bl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o b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6" descr="http://s3.india.com/wp-content/uploads/2015/05/anemia-2.png"/>
          <p:cNvPicPr/>
          <p:nvPr/>
        </p:nvPicPr>
        <p:blipFill>
          <a:blip r:embed="rId1"/>
          <a:stretch/>
        </p:blipFill>
        <p:spPr>
          <a:xfrm>
            <a:off x="28440" y="3619440"/>
            <a:ext cx="5762880" cy="323856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CEE-16F9-4C14-88B7-55125078E2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s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o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DFB-0ABC-4E18-BEC2-E15C7FA4FE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do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side, inner (with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ndocrine glands, endocar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32DA-5DD7-4782-9C0F-EE1B502D1A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xo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x: exocrine glands, exoskeleton, exorc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3936-E4BE-4F0E-ABCD-EE5D0C7AA1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sub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elow, u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hep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consci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ub / hepat /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- =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Hepat =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ertaining to below the l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F15-2C26-4F49-9AF4-114A65D1FB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F28-4CDC-45E9-BA98-194B380AEF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http://andliginspiration.files.wordpress.com/2013/02/1zdq2ps.gif?w=529"/>
          <p:cNvPicPr/>
          <p:nvPr/>
        </p:nvPicPr>
        <p:blipFill>
          <a:blip r:embed="rId1"/>
          <a:stretch/>
        </p:blipFill>
        <p:spPr>
          <a:xfrm>
            <a:off x="228600" y="4800600"/>
            <a:ext cx="5105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fix chang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carditis (inflammation of the outer layer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cartitis (inflammation of the inner lining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ffix ch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logist ( a physician specializing in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myopathy (damage to heart musc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megaly (enlargement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79E8-989A-44AE-A165-CDF8E93CCD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so: Combining vow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s the letter “O” but may be A, E, I, U or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has no meaning of its own but is used to connect the root and the suffix or two roots and two suf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ELECT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RD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T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ER 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D43-2903-439B-BC2D-098BD43E7E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ENTER O 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ROOT)                  (ROOT)                    (SUFF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(SUFF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 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(SUFF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ENTER  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(SUFFIX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F1F-1C84-4643-A6A3-A5AFF1C437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retain th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ertebra - vertebra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agnosis - diagno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x or i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x or ix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ice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ex - ap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anglion - gangl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Words ending in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u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cterium - bac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i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onchus - bronch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EA5-E08F-4E94-91D1-5E049F8EFE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25:41Z</dcterms:created>
  <dc:creator>HP Authorized Customer</dc:creator>
  <dc:description/>
  <dc:language>en-US</dc:language>
  <cp:lastModifiedBy>Ahmad Rawhi</cp:lastModifiedBy>
  <dcterms:modified xsi:type="dcterms:W3CDTF">2015-12-12T20:31:40Z</dcterms:modified>
  <cp:revision>41</cp:revision>
  <dc:subject/>
  <dc:title>Medical Terminology</dc:title>
</cp:coreProperties>
</file>