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type.wav" ContentType="audio/x-wav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C7F-AC76-4FB4-B6EB-49EBFF80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219-343F-4BE6-85B4-95EAEBB9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A92-2D63-485E-9C8D-E1A46197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9CE-8B75-4441-9242-0F254580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287A-38D7-4A4A-9A20-B405EE8A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8D0-56E6-48B4-8B6D-4019A78C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DD78-C394-48D8-AD69-5E319F6D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8A40-C5DA-4968-9220-6246454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BBA2-42D5-405C-B60C-028412E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47EA-447B-408E-B62A-94DF9ADD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0673-66EF-4D54-81DD-EF1C35C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92B-3D9D-4DC4-B2FE-EEED2FAE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4AA0-096A-4D03-BB7E-E60879D4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8552-BAFF-4CF9-BB09-47ABA13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DBD-E32F-45D0-B418-343987A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BA2C-21C6-4099-8BBD-92CED19C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6711-C329-45AB-A85D-AD584E2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AC8-1ECF-4AE5-9966-FA56906A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795-DD95-4248-BB99-219BE23C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890-DDDB-4E13-896B-DC57156F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CCA-068A-4E3F-B351-37547C14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396-73FA-4F89-A5D2-2365052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B41-D6CE-4728-BAD0-68BAB60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CBD-6A6E-4E2B-A044-3BDA9734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78A-0550-4A2C-86BD-379785B6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868-CEA9-4520-9D09-29F58A499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080" y="2133360"/>
            <a:ext cx="77216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1304"/>
                </a:solidFill>
                <a:latin typeface="Arial"/>
                <a:ea typeface="Arial"/>
              </a:rPr>
              <a:t>Subject and Predicate/ Parts of Speech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6964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ing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Duration: 4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336852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219320" y="5715000"/>
            <a:ext cx="7238880" cy="825480"/>
          </a:xfrm>
          <a:prstGeom prst="rect">
            <a:avLst/>
          </a:prstGeom>
          <a:noFill/>
          <a:ln w="38160">
            <a:solidFill>
              <a:srgbClr val="e8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eaching materials prepared in collaboration with: CA Unit &amp; Sahar G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Users\User\Desktop\Academic Year 2011-2012\Curriculum Development\CM Logo 07.04.12.jpg"/>
          <p:cNvPicPr/>
          <p:nvPr/>
        </p:nvPicPr>
        <p:blipFill>
          <a:blip r:embed="rId2"/>
          <a:stretch/>
        </p:blipFill>
        <p:spPr>
          <a:xfrm>
            <a:off x="4952880" y="838080"/>
            <a:ext cx="3733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f6d58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cbbd83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dogs 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dogs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in the pen next door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29200" y="1828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867280" y="1523880"/>
            <a:ext cx="28958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d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contai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subject?  A complete subjec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predicate?  A complete predicat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76520" y="5257800"/>
            <a:ext cx="655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775640" cy="5181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10080" y="2362320"/>
            <a:ext cx="221004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ANSWER KE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772400" cy="5407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410080" y="1905120"/>
            <a:ext cx="205740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219320" y="175248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Direction:  Complete the following subject and predicate to make complete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re watching their students reading their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219320" y="175248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is the name of a person, place, thing, or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eople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 farmer, mechanic, father, Professor Haskins, accountant, Ma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lace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cean, Canada, porch, Spain,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Things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scissors, giraffe, pen, jet ski, fridge, skateboard, picture,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Idea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ve, inspiration, courage, anxiety, eagerness, happiness, k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666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adjective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modifies (qualifies or limits the meaning of ) a noun or a pronoun. It answers the questions, What kind? Which one(s)? How many? 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Carrie read an interesting story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at kind of stor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recent article has that information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artic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Kent owns those surfboards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surfboard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Wendy paid fifty dollars for the jacket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any dollar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uch space was devoted to her artwork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uch spac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16765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tells what action (often a physical action) a subject is performing, has performed, or will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y fathe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delivers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packages to department stores each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ui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o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 perfect game las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Suzann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ated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cross the rink in Central P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Tur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t the next corner, No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sca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ill help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Yousuf with the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66680" y="1676520"/>
            <a:ext cx="769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000" spc="-1" strike="noStrike">
                <a:solidFill>
                  <a:srgbClr val="ff0000"/>
                </a:solidFill>
                <a:latin typeface="Times New Roman"/>
              </a:rPr>
              <a:t>adverb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 is a word that modifies (qualifies or limits) a verb, an adjective, or another ad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Many adverbs end in - 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answer any of these four questions: Where? When? How? To what ext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make writing more specific and more ex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Here are some adverbs that do not end in -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640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19320" y="1752480"/>
            <a:ext cx="739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rection:  Write complete sentences using the following parts of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shop assistant (no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sgusting (adje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earn (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mmediately (ad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782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TODAY’S LESSON WILL EXPL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REQUIRED IN EVERY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SUBJ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PRED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172200" y="457200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4114800" y="4440240"/>
            <a:ext cx="450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REQUIRED IN EVERY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Not every group of words is a sentence.  To be a sentence, a group of words must make a complete thought AND con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U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Simpl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Usually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Alway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Tells what or who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Complet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an be several words or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contain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includes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IMPL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lways a verb.  (A verb is a word that tells what the subject is doing or being.)  There are two kinds of ver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tion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run,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jump, sit, sleep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ing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m, is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as, seem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Program Files\Common Files\Microsoft Shared\Clipart\cagcat50\pe01659_.wmf"/>
          <p:cNvPicPr/>
          <p:nvPr/>
        </p:nvPicPr>
        <p:blipFill>
          <a:blip r:embed="rId1"/>
          <a:stretch/>
        </p:blipFill>
        <p:spPr>
          <a:xfrm>
            <a:off x="4952880" y="2149560"/>
            <a:ext cx="37339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OMPLET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Always contains the simple predicate (a ver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an be one word or sev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The sunset is beaut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illiam writes po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ites poems about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ote a poem about flowers an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kind, talented friend William wrote the poem “The Earth’s Paintings” which is about the beauty of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1600" y="5867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248520" y="1828800"/>
            <a:ext cx="2209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YOUR OWN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Write a two-word sentence that contains ONLY a simple subject and simpl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To that sentence, add one or more words to describe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eep that sentence and add one or more words to th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dd more words or phrases to that sentence to make it longer and more descrip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Underline the simple subject and simple predicate in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8951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in the pen next door barked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648320" y="17524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24:32Z</dcterms:created>
  <dc:creator>grimes</dc:creator>
  <dc:description/>
  <dc:language>en-US</dc:language>
  <cp:lastModifiedBy>Amphie Santos</cp:lastModifiedBy>
  <dcterms:modified xsi:type="dcterms:W3CDTF">2014-12-07T22:34:54Z</dcterms:modified>
  <cp:revision>35</cp:revision>
  <dc:subject/>
  <dc:title>WHAT IS A SENTENCE?</dc:title>
</cp:coreProperties>
</file>