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type.wav" ContentType="audio/x-wav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0B0-12EA-4B31-B538-DA4E934C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FE4-0C72-4144-9116-8335D9EE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BA1-A128-4B1C-AF4E-85E97BE1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553-7EF5-4AD2-88AA-0F0EE92D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E4F5-37E7-4055-ADA8-DBAB34EC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0222-C7B3-48CF-ADBB-1E45DC83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F7CB-DFA6-4850-8B98-E309F0C5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8166-D868-46C1-B0BF-F8501413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7726-9820-4B99-A4C1-3D335990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6FAB-C87E-4063-BAC6-322C3739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BC3D-EB2D-4F3E-8813-2FBCD8A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0B7-38E3-4FFA-AC52-DE17EC7E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4186-89AF-4FAE-8631-AE7FDC6D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2379-6ADE-44B9-A1E7-2EE3B7B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FA92-D40C-438C-88C6-67891AFA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21B8-44BC-4DA2-A6B3-F3138647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E3C5-5065-457C-AB23-970AFAA1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809-A367-4B1A-8125-7BCE9E4E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F52-6D22-4521-B8C8-4A405ACE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D59-ABAD-4346-B828-818F2650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2AB-5DE5-4175-ABFE-76C1A9756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BAD-35E7-40DB-9129-0E37F0F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C53-5605-4759-BD48-C0827E11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28E-D70A-44C2-8C46-C728E9CD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DDDD-96BD-43CE-989B-7403798D6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9E4E-4E50-4276-B61E-2AC5C4163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7080" y="2133360"/>
            <a:ext cx="77216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21304"/>
                </a:solidFill>
                <a:latin typeface="Arial"/>
                <a:ea typeface="Arial"/>
              </a:rPr>
              <a:t>Subject and Predicate/ Parts of Speech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6964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ing Cli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Duration: 45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336852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1219320" y="5715000"/>
            <a:ext cx="7238880" cy="825480"/>
          </a:xfrm>
          <a:prstGeom prst="rect">
            <a:avLst/>
          </a:prstGeom>
          <a:noFill/>
          <a:ln w="38160">
            <a:solidFill>
              <a:srgbClr val="e8e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eaching materials prepared in collaboration with: CA Unit &amp; Sahar Ga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Users\User\Desktop\Academic Year 2011-2012\Curriculum Development\CM Logo 07.04.12.jpg"/>
          <p:cNvPicPr/>
          <p:nvPr/>
        </p:nvPicPr>
        <p:blipFill>
          <a:blip r:embed="rId2"/>
          <a:stretch/>
        </p:blipFill>
        <p:spPr>
          <a:xfrm>
            <a:off x="4952880" y="838080"/>
            <a:ext cx="3733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XAMPLE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f6d58"/>
                </a:solidFill>
                <a:uFillTx/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cbbd83"/>
                </a:solidFill>
                <a:uFillTx/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dogs barked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loud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a1bd69"/>
                </a:solidFill>
                <a:uFillTx/>
                <a:latin typeface="Times New Roman"/>
              </a:rPr>
              <a:t>dogs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in the pen next door </a:t>
            </a:r>
            <a:r>
              <a:rPr b="0" lang="en-US" sz="4000" spc="-1" strike="noStrike" u="sng">
                <a:solidFill>
                  <a:srgbClr val="a1bd69"/>
                </a:solidFill>
                <a:uFillTx/>
                <a:latin typeface="Times New Roman"/>
              </a:rPr>
              <a:t>barked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loudly all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029200" y="1828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:\Program Files\Common Files\Microsoft Shared\Clipart\cagcat50\pe02661_.wmf"/>
          <p:cNvPicPr/>
          <p:nvPr/>
        </p:nvPicPr>
        <p:blipFill>
          <a:blip r:embed="rId1"/>
          <a:stretch/>
        </p:blipFill>
        <p:spPr>
          <a:xfrm>
            <a:off x="5867280" y="1523880"/>
            <a:ext cx="28958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A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must it d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must it contai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is a simple subject?  A complete subject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is a simple predicate?  A complete predicat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76520" y="5257800"/>
            <a:ext cx="6553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775640" cy="5181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10080" y="2362320"/>
            <a:ext cx="221004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ANSWER KE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772400" cy="5407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5410080" y="1905120"/>
            <a:ext cx="205740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219320" y="175248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Direction:  Complete the following subject and predicate to make complete sent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h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re watching their students reading their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219320" y="175248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nou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is the name of a person, place, thing, or 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People: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 farmer, mechanic, father, Professor Haskins, accountant, Ma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Places: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ocean, Canada, porch, Spain,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Things: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scissors, giraffe, pen, jet ski, fridge, skateboard, picture, 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Ideas: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love, inspiration, courage, anxiety, eagerness, happiness, ki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066680" y="167652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adjective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modifies (qualifies or limits the meaning of ) a noun or a pronoun. It answers the questions, What kind? Which one(s)? How many? How m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Carrie read an interesting story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at kind of stor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he recent article has that information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ich artic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Kent owns those surfboards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ich surfboard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Wendy paid fifty dollars for the jacket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How many dollar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Much space was devoted to her artwork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How much space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066680" y="167652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verb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tells what action (often a physical action) a subject is performing, has performed, or will per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My father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delivers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packages to department stores each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Louie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wo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 perfect game last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Suzanne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skated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cross the rink in Central P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Tur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t the next corner, No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Oscar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will help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Yousuf with the pro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066680" y="1676520"/>
            <a:ext cx="7696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PH" sz="2000" spc="-1" strike="noStrike">
                <a:solidFill>
                  <a:srgbClr val="ff0000"/>
                </a:solidFill>
                <a:latin typeface="Times New Roman"/>
              </a:rPr>
              <a:t>adverb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 is a word that modifies (qualifies or limits) a verb, an adjective, or another adver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Many adverbs end in - 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dverbs answer any of these four questions: Where? When? How? To what ext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dverbs make writing more specific and more ex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Here are some adverbs that do not end in -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640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219320" y="1752480"/>
            <a:ext cx="739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Direction:  Write complete sentences using the following parts of spee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shop assistant (no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disgusting (adjec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earn (ve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mmediately (adve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A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1676160"/>
            <a:ext cx="6782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TODAY’S LESSON WILL EXPL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REQUIRED IN EVERY SENT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A SUBJ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A PREDIC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172200" y="4572000"/>
            <a:ext cx="182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4114800" y="4440240"/>
            <a:ext cx="45021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REQUIRED IN EVERY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Not every group of words is a sentence.  To be a sentence, a group of words must make a complete thought AND con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6d58"/>
                </a:solidFill>
                <a:latin typeface="Times New Roman"/>
              </a:rPr>
              <a:t>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6d58"/>
                </a:solidFill>
                <a:latin typeface="Times New Roman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U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Simple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Usually only one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Always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Tells what or who the sentence is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Complete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an be several words or only one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ways contains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ways includes the simpl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IMPLE PREDIC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Always a verb.  (A verb is a word that tells what the subject is doing or being.)  There are two kinds of ver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ction verbs: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run,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jump, sit, sleep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Being verbs: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m, is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as, seem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C:\Program Files\Common Files\Microsoft Shared\Clipart\cagcat50\pe01659_.wmf"/>
          <p:cNvPicPr/>
          <p:nvPr/>
        </p:nvPicPr>
        <p:blipFill>
          <a:blip r:embed="rId1"/>
          <a:stretch/>
        </p:blipFill>
        <p:spPr>
          <a:xfrm>
            <a:off x="4952880" y="2149560"/>
            <a:ext cx="373392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OMPLETE PREDIC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Always contains the simple predicate (a ver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an be one word or sever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99"/>
                </a:solidFill>
                <a:latin typeface="Times New Roman"/>
              </a:rPr>
              <a:t>The sunset is beaut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C:\Program Files\Common Files\Microsoft Shared\Clipart\cagcat50\na01062_.wmf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75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75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BUILDING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illiam writes po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friend William writes poems about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friend William wrote a poem about flowers and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kind, talented friend William wrote the poem “The Earth’s Paintings” which is about the beauty of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71600" y="5867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248520" y="1828800"/>
            <a:ext cx="2209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BUILDING YOUR OWN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Write a two-word sentence that contains ONLY a simple subject and simple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To that sentence, add one or more words to describe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eep that sentence and add one or more words to the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Add more words or phrases to that sentence to make it longer and more descrip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Underline the simple subject and simple predicate in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XAMPLE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28951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barked loud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in the pen next door barked loudly all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648320" y="175248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C:\Program Files\Common Files\Microsoft Shared\Clipart\cagcat50\pe02661_.wmf"/>
          <p:cNvPicPr/>
          <p:nvPr/>
        </p:nvPicPr>
        <p:blipFill>
          <a:blip r:embed="rId1"/>
          <a:stretch/>
        </p:blipFill>
        <p:spPr>
          <a:xfrm>
            <a:off x="5715000" y="16002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3:24:32Z</dcterms:created>
  <dc:creator>grimes</dc:creator>
  <dc:description/>
  <dc:language>en-US</dc:language>
  <cp:lastModifiedBy>Amphie Santos</cp:lastModifiedBy>
  <dcterms:modified xsi:type="dcterms:W3CDTF">2014-12-07T22:34:54Z</dcterms:modified>
  <cp:revision>35</cp:revision>
  <dc:subject/>
  <dc:title>WHAT IS A SENTENCE?</dc:title>
</cp:coreProperties>
</file>