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type.wav" ContentType="audio/x-wav"/>
  <Override PartName="/ppt/media/image8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D956-E30C-4232-9CB4-C790C464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EFA-C4FD-46C8-A78F-F8A3116C5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C08-6284-468F-B60F-F112C753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2A4-BE56-492D-8556-3E611D53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8677-0779-4529-B5DE-7AF0EC0B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AEB2-B0D9-4A7B-9489-05EEDEDB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5C4E-2C19-435B-9BC3-B063ED3F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722D-55C5-4D5D-807D-C484FA7A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3655-F132-43FF-A3FF-A1BC7E0C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1782-25B3-4C57-B6D3-FD219F73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413E8-DD77-4B1B-BBC9-CCA04E94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45F-3C35-406E-B62A-D388FE86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FF36-73E9-4547-9892-EA6E284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F39A-95B5-4553-856F-223A3002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1C67-3162-4047-BBE8-DEBB5906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5F21-C0B4-4F44-B8A3-A494DAD66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7CCD-D445-4077-A57A-C304FFFD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11D-6E24-4DDE-A7D5-91F0B686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081-600B-44A2-A840-E9AF85C6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BE74-6B9D-46BF-94FA-752FC63B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D78-642F-4181-A8AA-C0ACA2DD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34D8-419B-4277-8EC1-CC913A10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04E-451E-4BF9-AB19-9C01F89A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2CC-78BA-402C-90E8-7497D959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3198-7787-4F4B-8F09-B35BED7AD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4696-C9EF-4C7D-BA3B-5C5D480A3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7080" y="2133360"/>
            <a:ext cx="77216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21304"/>
                </a:solidFill>
                <a:latin typeface="Arial"/>
                <a:ea typeface="Arial"/>
              </a:rPr>
              <a:t>Subject and Predicate/ Parts of Speech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69644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iting Cli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Duration: 45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336852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1219320" y="5715000"/>
            <a:ext cx="7238880" cy="825480"/>
          </a:xfrm>
          <a:prstGeom prst="rect">
            <a:avLst/>
          </a:prstGeom>
          <a:noFill/>
          <a:ln w="38160">
            <a:solidFill>
              <a:srgbClr val="e8e0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eaching materials prepared in collaboration with: CA Unit &amp; Sahar Ga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C:\Users\User\Desktop\Academic Year 2011-2012\Curriculum Development\CM Logo 07.04.12.jpg"/>
          <p:cNvPicPr/>
          <p:nvPr/>
        </p:nvPicPr>
        <p:blipFill>
          <a:blip r:embed="rId2"/>
          <a:stretch/>
        </p:blipFill>
        <p:spPr>
          <a:xfrm>
            <a:off x="4952880" y="838080"/>
            <a:ext cx="3733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XAMPLE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8f6d58"/>
                </a:solidFill>
                <a:uFillTx/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cbbd83"/>
                </a:solidFill>
                <a:uFillTx/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666699"/>
                </a:solidFill>
                <a:uFillTx/>
                <a:latin typeface="Times New Roman"/>
              </a:rPr>
              <a:t>dogs barked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loud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</a:t>
            </a:r>
            <a:r>
              <a:rPr b="0" lang="en-US" sz="4000" spc="-1" strike="noStrike" u="sng">
                <a:solidFill>
                  <a:srgbClr val="a1bd69"/>
                </a:solidFill>
                <a:uFillTx/>
                <a:latin typeface="Times New Roman"/>
              </a:rPr>
              <a:t>dogs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in the pen next door </a:t>
            </a:r>
            <a:r>
              <a:rPr b="0" lang="en-US" sz="4000" spc="-1" strike="noStrike" u="sng">
                <a:solidFill>
                  <a:srgbClr val="a1bd69"/>
                </a:solidFill>
                <a:uFillTx/>
                <a:latin typeface="Times New Roman"/>
              </a:rPr>
              <a:t>barked</a:t>
            </a: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 loudly all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029200" y="18288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:\Program Files\Common Files\Microsoft Shared\Clipart\cagcat50\pe02661_.wmf"/>
          <p:cNvPicPr/>
          <p:nvPr/>
        </p:nvPicPr>
        <p:blipFill>
          <a:blip r:embed="rId1"/>
          <a:stretch/>
        </p:blipFill>
        <p:spPr>
          <a:xfrm>
            <a:off x="5867280" y="1523880"/>
            <a:ext cx="28958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A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must it do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must it contain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is a simple subject?  A complete subject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694b6"/>
                </a:solidFill>
                <a:latin typeface="Times New Roman"/>
              </a:rPr>
              <a:t>What is a simple predicate?  A complete predicate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676520" y="5257800"/>
            <a:ext cx="6553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775640" cy="51814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10080" y="2362320"/>
            <a:ext cx="221004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ANSWER KE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772400" cy="5407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5410080" y="1905120"/>
            <a:ext cx="2057400" cy="3045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 2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219320" y="1752480"/>
            <a:ext cx="739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Direction:  Complete the following subject and predicate to make complete sente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he stu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re watching their students reading their boo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219320" y="1752480"/>
            <a:ext cx="7391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nou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is the name of a person, place, thing, or id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People: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 farmer, mechanic, father, Professor Haskins, accountant, Ma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Places: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ocean, Canada, porch, Spain, class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Things: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scissors, giraffe, pen, jet ski, fridge, skateboard, picture, pe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PH" sz="2400" spc="-1" strike="noStrike">
                <a:solidFill>
                  <a:srgbClr val="0070c0"/>
                </a:solidFill>
                <a:latin typeface="Times New Roman"/>
              </a:rPr>
              <a:t>Ideas: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love, inspiration, courage, anxiety, eagerness, happiness, kind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066680" y="1676520"/>
            <a:ext cx="769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adjective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modifies (qualifies or limits the meaning of ) a noun or a pronoun. It answers the questions, What kind? Which one(s)? How many? How muc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Carrie read an interesting story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at kind of stor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The recent article has that information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ich artic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Kent owns those surfboards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Which surfboard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Wendy paid fifty dollars for the jacket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How many dollar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Much space was devoted to her artwork. </a:t>
            </a:r>
            <a:r>
              <a:rPr b="0" lang="en-PH" sz="2400" spc="-1" strike="noStrike">
                <a:solidFill>
                  <a:srgbClr val="0070c0"/>
                </a:solidFill>
                <a:latin typeface="Times New Roman"/>
              </a:rPr>
              <a:t>(How much space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1066680" y="167652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PH" sz="2400" spc="-1" strike="noStrike">
                <a:solidFill>
                  <a:srgbClr val="ff0000"/>
                </a:solidFill>
                <a:latin typeface="Times New Roman"/>
              </a:rPr>
              <a:t>verb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tells what action (often a physical action) a subject is performing, has performed, or will per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My father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delivers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packages to department stores each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Louie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wo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 perfect game last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Suzanne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skated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cross the rink in Central Pa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Turn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 at the next corner, No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Oscar </a:t>
            </a:r>
            <a:r>
              <a:rPr b="0" lang="en-PH" sz="2400" spc="-1" strike="noStrike" u="sng">
                <a:solidFill>
                  <a:srgbClr val="0070c0"/>
                </a:solidFill>
                <a:uFillTx/>
                <a:latin typeface="Times New Roman"/>
              </a:rPr>
              <a:t>will help </a:t>
            </a: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Yousuf with the projec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PARTS OF SPEECH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066680" y="1676520"/>
            <a:ext cx="7696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PH" sz="2000" spc="-1" strike="noStrike">
                <a:solidFill>
                  <a:srgbClr val="ff0000"/>
                </a:solidFill>
                <a:latin typeface="Times New Roman"/>
              </a:rPr>
              <a:t>adverb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 is a word that modifies (qualifies or limits) a verb, an adjective, or another adver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Many adverbs end in - 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dverbs answer any of these four questions: Where? When? How? To what ext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Adverbs make writing more specific and more ex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◗ </a:t>
            </a:r>
            <a:r>
              <a:rPr b="0" lang="en-PH" sz="2000" spc="-1" strike="noStrike">
                <a:solidFill>
                  <a:srgbClr val="000000"/>
                </a:solidFill>
                <a:latin typeface="Times New Roman"/>
              </a:rPr>
              <a:t>Here are some adverbs that do not end in -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523880" y="4267080"/>
            <a:ext cx="6400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221304"/>
                </a:solidFill>
                <a:latin typeface="Arial"/>
                <a:ea typeface="Arial"/>
              </a:rPr>
              <a:t>QUICK PRACTICE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1219320" y="1752480"/>
            <a:ext cx="739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Direction:  Write complete sentences using the following parts of spee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shop assistant (nou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disgusting (adjec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earn (ve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imes New Roman"/>
              </a:rPr>
              <a:t>immediately (adver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A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1676160"/>
            <a:ext cx="67820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TODAY’S LESSON WILL EXPL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REQUIRED IN EVERY SENT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A SUBJE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HAT IS A PREDIC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172200" y="4572000"/>
            <a:ext cx="1828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4114800" y="4440240"/>
            <a:ext cx="45021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REQUIRED IN EVERY SENTENCE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Not every group of words is a sentence.  To be a sentence, a group of words must make a complete thought AND conta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6d58"/>
                </a:solidFill>
                <a:latin typeface="Times New Roman"/>
              </a:rPr>
              <a:t>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f6d5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f6d58"/>
                </a:solidFill>
                <a:latin typeface="Times New Roman"/>
              </a:rPr>
              <a:t>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U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Simple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Usually only one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Always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a1bd6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1bd69"/>
                </a:solidFill>
                <a:latin typeface="Times New Roman"/>
              </a:rPr>
              <a:t>Tells what or who the sentence is ab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22130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Complete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Can be several words or only one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lways contains a noun or prono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6666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lways includes the simpl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IMPLE PREDIC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Always a verb.  (A verb is a word that tells what the subject is doing or being.)  There are two kinds of ver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Action verbs: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run,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jump, sit, sleep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Being verbs: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am, is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666699"/>
                </a:solidFill>
                <a:latin typeface="Times New Roman"/>
              </a:rPr>
              <a:t>was, seem</a:t>
            </a: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C:\Program Files\Common Files\Microsoft Shared\Clipart\cagcat50\pe01659_.wmf"/>
          <p:cNvPicPr/>
          <p:nvPr/>
        </p:nvPicPr>
        <p:blipFill>
          <a:blip r:embed="rId1"/>
          <a:stretch/>
        </p:blipFill>
        <p:spPr>
          <a:xfrm>
            <a:off x="4952880" y="2149560"/>
            <a:ext cx="373392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75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75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OMPLETE PREDICAT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Always contains the simple predicate (a ver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an be one word or several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6699"/>
                </a:solidFill>
                <a:latin typeface="Times New Roman"/>
              </a:rPr>
              <a:t>The sunset is beauti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C:\Program Files\Common Files\Microsoft Shared\Clipart\cagcat50\na01062_.wmf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75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75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BUILDING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William writes po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friend William writes poems about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friend William wrote a poem about flowers and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94b6"/>
                </a:solidFill>
                <a:latin typeface="Times New Roman"/>
              </a:rPr>
              <a:t>My kind, talented friend William wrote the poem “The Earth’s Paintings” which is about the beauty of na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71600" y="5867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248520" y="1828800"/>
            <a:ext cx="22096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BUILDING YOUR OWN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Write a two-word sentence that contains ONLY a simple subject and simple pred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To that sentence, add one or more words to describe the su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eep that sentence and add one or more words to the predic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Add more words or phrases to that sentence to make it longer and more descrip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Underline the simple subject and simple predicate in each sent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EXAMPLE SENTEN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28951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bark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barked loudl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694b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94b6"/>
                </a:solidFill>
                <a:latin typeface="Times New Roman"/>
              </a:rPr>
              <a:t>Those big dogs in the pen next door barked loudly all nigh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648320" y="175248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6" descr="C:\Program Files\Common Files\Microsoft Shared\Clipart\cagcat50\pe02661_.wmf"/>
          <p:cNvPicPr/>
          <p:nvPr/>
        </p:nvPicPr>
        <p:blipFill>
          <a:blip r:embed="rId1"/>
          <a:stretch/>
        </p:blipFill>
        <p:spPr>
          <a:xfrm>
            <a:off x="5715000" y="16002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3:24:32Z</dcterms:created>
  <dc:creator>grimes</dc:creator>
  <dc:description/>
  <dc:language>en-US</dc:language>
  <cp:lastModifiedBy>Amphie Santos</cp:lastModifiedBy>
  <dcterms:modified xsi:type="dcterms:W3CDTF">2014-12-07T22:34:54Z</dcterms:modified>
  <cp:revision>35</cp:revision>
  <dc:subject/>
  <dc:title>WHAT IS A SENTENCE?</dc:title>
</cp:coreProperties>
</file>