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laser.wav" ContentType="audio/x-wav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type.wav" ContentType="audio/x-wav"/>
  <Override PartName="/ppt/media/image8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0C5F-3C54-46E7-AB3E-244F7EBC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CD4C-6CAE-474D-B84E-C736F399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BBDF-4292-4886-B560-F9CF674A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E4D4-B61F-41E2-9DB5-644806F2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9B92-140C-4174-B791-05456B13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7B3F-E637-4304-95D1-4CA001BE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2B99-B8C9-4D41-846C-7212E7E0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3C83-EDC8-4841-A96E-FAF176D1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6BCD-4535-46BE-88BB-2C18C2CF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5FAB-DECC-438F-8FB4-0683EC78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5FE7-B0AC-4FFB-B7D0-25A1520E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0E1E-07AD-4FA8-B0FF-05BABD35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07DF-9BBF-424E-845B-52797BC4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C668-AE25-48BA-A3FB-60969684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9D48-BE11-4E27-A582-294F0397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A8F1-B5ED-4658-ADAF-B9D6839C6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653B-65B3-4FFC-809F-1C4DBF0D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8FAC-831C-41C8-8A65-5BB2EF32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39EA-8C58-4D97-BABB-82467F1D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8A5E-3FAB-4498-855E-D065778A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A75B-C3AD-4DE7-9267-F66C8DC1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4B48-4426-4294-8593-47D60517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FC74-7671-4529-96C5-954A1ADC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D807-E53F-4B95-AB04-84E4255C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6C35-FDE9-4A6F-A3C3-5AC13CA65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FA07-30E9-4C1E-9528-074A9B469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7080" y="2133360"/>
            <a:ext cx="77216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21304"/>
                </a:solidFill>
                <a:latin typeface="Arial"/>
                <a:ea typeface="Arial"/>
              </a:rPr>
              <a:t>Subject and Predicate/ Parts of Speech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3885840"/>
            <a:ext cx="769644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riting Clin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Duration: 45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3368520" cy="1143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8"/>
          <p:cNvSpPr/>
          <p:nvPr/>
        </p:nvSpPr>
        <p:spPr>
          <a:xfrm>
            <a:off x="1219320" y="5715000"/>
            <a:ext cx="7238880" cy="825480"/>
          </a:xfrm>
          <a:prstGeom prst="rect">
            <a:avLst/>
          </a:prstGeom>
          <a:noFill/>
          <a:ln w="38160">
            <a:solidFill>
              <a:srgbClr val="e8e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Teaching materials prepared in collaboration with: CA Unit &amp; Sahar Ga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C:\Users\User\Desktop\Academic Year 2011-2012\Curriculum Development\CM Logo 07.04.12.jpg"/>
          <p:cNvPicPr/>
          <p:nvPr/>
        </p:nvPicPr>
        <p:blipFill>
          <a:blip r:embed="rId2"/>
          <a:stretch/>
        </p:blipFill>
        <p:spPr>
          <a:xfrm>
            <a:off x="4952880" y="838080"/>
            <a:ext cx="3733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EXAMPLE SENTEN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1001"/>
              </a:spcBef>
              <a:buClr>
                <a:srgbClr val="8f6d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8f6d58"/>
                </a:solidFill>
                <a:uFillTx/>
                <a:latin typeface="Times New Roman"/>
              </a:rPr>
              <a:t>Dogs bark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1001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Those big </a:t>
            </a:r>
            <a:r>
              <a:rPr b="0" lang="en-US" sz="4000" spc="-1" strike="noStrike" u="sng">
                <a:solidFill>
                  <a:srgbClr val="cbbd83"/>
                </a:solidFill>
                <a:uFillTx/>
                <a:latin typeface="Times New Roman"/>
              </a:rPr>
              <a:t>dogs bark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1001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Those big </a:t>
            </a:r>
            <a:r>
              <a:rPr b="0" lang="en-US" sz="4000" spc="-1" strike="noStrike" u="sng">
                <a:solidFill>
                  <a:srgbClr val="666699"/>
                </a:solidFill>
                <a:uFillTx/>
                <a:latin typeface="Times New Roman"/>
              </a:rPr>
              <a:t>dogs barked</a:t>
            </a: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 loud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1001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Those big </a:t>
            </a:r>
            <a:r>
              <a:rPr b="0" lang="en-US" sz="4000" spc="-1" strike="noStrike" u="sng">
                <a:solidFill>
                  <a:srgbClr val="a1bd69"/>
                </a:solidFill>
                <a:uFillTx/>
                <a:latin typeface="Times New Roman"/>
              </a:rPr>
              <a:t>dogs</a:t>
            </a: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 in the pen next door </a:t>
            </a:r>
            <a:r>
              <a:rPr b="0" lang="en-US" sz="4000" spc="-1" strike="noStrike" u="sng">
                <a:solidFill>
                  <a:srgbClr val="a1bd69"/>
                </a:solidFill>
                <a:uFillTx/>
                <a:latin typeface="Times New Roman"/>
              </a:rPr>
              <a:t>barked</a:t>
            </a: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 loudly all n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029200" y="1828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C:\Program Files\Common Files\Microsoft Shared\Clipart\cagcat50\pe02661_.wmf"/>
          <p:cNvPicPr/>
          <p:nvPr/>
        </p:nvPicPr>
        <p:blipFill>
          <a:blip r:embed="rId1"/>
          <a:stretch/>
        </p:blipFill>
        <p:spPr>
          <a:xfrm>
            <a:off x="5867280" y="1523880"/>
            <a:ext cx="289584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WHAT IS A SENTENCE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694b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94b6"/>
                </a:solidFill>
                <a:latin typeface="Times New Roman"/>
              </a:rPr>
              <a:t>What must it do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694b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94b6"/>
                </a:solidFill>
                <a:latin typeface="Times New Roman"/>
              </a:rPr>
              <a:t>What must it contain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694b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94b6"/>
                </a:solidFill>
                <a:latin typeface="Times New Roman"/>
              </a:rPr>
              <a:t>What is a simple subject?  A complete subject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694b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94b6"/>
                </a:solidFill>
                <a:latin typeface="Times New Roman"/>
              </a:rPr>
              <a:t>What is a simple predicate?  A complete predicate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676520" y="5257800"/>
            <a:ext cx="65530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221304"/>
                </a:solidFill>
                <a:latin typeface="Arial"/>
                <a:ea typeface="Arial"/>
              </a:rPr>
              <a:t>QUICK PRACTI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775640" cy="51814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410080" y="2362320"/>
            <a:ext cx="2210040" cy="3045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221304"/>
                </a:solidFill>
                <a:latin typeface="Arial"/>
                <a:ea typeface="Arial"/>
              </a:rPr>
              <a:t>ANSWER KE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772400" cy="54072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5410080" y="1905120"/>
            <a:ext cx="2057400" cy="3045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221304"/>
                </a:solidFill>
                <a:latin typeface="Arial"/>
                <a:ea typeface="Arial"/>
              </a:rPr>
              <a:t>QUICK PRACTICE 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219320" y="1752480"/>
            <a:ext cx="739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Direction:  Complete the following subject and predicate to make complete sent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The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are watching their students reading their boo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221304"/>
                </a:solidFill>
                <a:latin typeface="Arial"/>
                <a:ea typeface="Arial"/>
              </a:rPr>
              <a:t>PARTS OF SPEEC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1219320" y="1752480"/>
            <a:ext cx="7391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PH" sz="2400" spc="-1" strike="noStrike">
                <a:solidFill>
                  <a:srgbClr val="ff0000"/>
                </a:solidFill>
                <a:latin typeface="Times New Roman"/>
              </a:rPr>
              <a:t>noun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is the name of a person, place, thing, or id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en-PH" sz="2400" spc="-1" strike="noStrike">
                <a:solidFill>
                  <a:srgbClr val="0070c0"/>
                </a:solidFill>
                <a:latin typeface="Times New Roman"/>
              </a:rPr>
              <a:t>People: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 farmer, mechanic, father, Professor Haskins, accountant, Mar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en-PH" sz="2400" spc="-1" strike="noStrike">
                <a:solidFill>
                  <a:srgbClr val="0070c0"/>
                </a:solidFill>
                <a:latin typeface="Times New Roman"/>
              </a:rPr>
              <a:t>Places: 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ocean, Canada, porch, Spain, class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PH" sz="2400" spc="-1" strike="noStrike">
                <a:solidFill>
                  <a:srgbClr val="0070c0"/>
                </a:solidFill>
                <a:latin typeface="Times New Roman"/>
              </a:rPr>
              <a:t>Things: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scissors, giraffe, pen, jet ski, fridge, skateboard, picture, pe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PH" sz="2400" spc="-1" strike="noStrike">
                <a:solidFill>
                  <a:srgbClr val="0070c0"/>
                </a:solidFill>
                <a:latin typeface="Times New Roman"/>
              </a:rPr>
              <a:t>Ideas: 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love, inspiration, courage, anxiety, eagerness, happiness, kind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221304"/>
                </a:solidFill>
                <a:latin typeface="Arial"/>
                <a:ea typeface="Arial"/>
              </a:rPr>
              <a:t>PARTS OF SPEEC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1066680" y="1676520"/>
            <a:ext cx="769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PH" sz="2400" spc="-1" strike="noStrike">
                <a:solidFill>
                  <a:srgbClr val="ff0000"/>
                </a:solidFill>
                <a:latin typeface="Times New Roman"/>
              </a:rPr>
              <a:t>adjective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modifies (qualifies or limits the meaning of ) a noun or a pronoun. It answers the questions, What kind? Which one(s)? How many? How mu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Carrie read an interesting story. </a:t>
            </a:r>
            <a:r>
              <a:rPr b="0" lang="en-PH" sz="2400" spc="-1" strike="noStrike">
                <a:solidFill>
                  <a:srgbClr val="0070c0"/>
                </a:solidFill>
                <a:latin typeface="Times New Roman"/>
              </a:rPr>
              <a:t>(What kind of story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The recent article has that information. </a:t>
            </a:r>
            <a:r>
              <a:rPr b="0" lang="en-PH" sz="2400" spc="-1" strike="noStrike">
                <a:solidFill>
                  <a:srgbClr val="0070c0"/>
                </a:solidFill>
                <a:latin typeface="Times New Roman"/>
              </a:rPr>
              <a:t>(Which articl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Kent owns those surfboards. </a:t>
            </a:r>
            <a:r>
              <a:rPr b="0" lang="en-PH" sz="2400" spc="-1" strike="noStrike">
                <a:solidFill>
                  <a:srgbClr val="0070c0"/>
                </a:solidFill>
                <a:latin typeface="Times New Roman"/>
              </a:rPr>
              <a:t>(Which surfboards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Wendy paid fifty dollars for the jacket. </a:t>
            </a:r>
            <a:r>
              <a:rPr b="0" lang="en-PH" sz="2400" spc="-1" strike="noStrike">
                <a:solidFill>
                  <a:srgbClr val="0070c0"/>
                </a:solidFill>
                <a:latin typeface="Times New Roman"/>
              </a:rPr>
              <a:t>(How many dollars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Much space was devoted to her artwork. </a:t>
            </a:r>
            <a:r>
              <a:rPr b="0" lang="en-PH" sz="2400" spc="-1" strike="noStrike">
                <a:solidFill>
                  <a:srgbClr val="0070c0"/>
                </a:solidFill>
                <a:latin typeface="Times New Roman"/>
              </a:rPr>
              <a:t>(How much space?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221304"/>
                </a:solidFill>
                <a:latin typeface="Arial"/>
                <a:ea typeface="Arial"/>
              </a:rPr>
              <a:t>PARTS OF SPEEC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1066680" y="1676520"/>
            <a:ext cx="7696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PH" sz="2400" spc="-1" strike="noStrike">
                <a:solidFill>
                  <a:srgbClr val="ff0000"/>
                </a:solidFill>
                <a:latin typeface="Times New Roman"/>
              </a:rPr>
              <a:t>verb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tells what action (often a physical action) a subject is performing, has performed, or will per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My father </a:t>
            </a:r>
            <a:r>
              <a:rPr b="0" lang="en-PH" sz="2400" spc="-1" strike="noStrike" u="sng">
                <a:solidFill>
                  <a:srgbClr val="0070c0"/>
                </a:solidFill>
                <a:uFillTx/>
                <a:latin typeface="Times New Roman"/>
              </a:rPr>
              <a:t>delivers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packages to department stores each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Louie </a:t>
            </a:r>
            <a:r>
              <a:rPr b="0" lang="en-PH" sz="2400" spc="-1" strike="noStrike" u="sng">
                <a:solidFill>
                  <a:srgbClr val="0070c0"/>
                </a:solidFill>
                <a:uFillTx/>
                <a:latin typeface="Times New Roman"/>
              </a:rPr>
              <a:t>won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a perfect game last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Suzanne </a:t>
            </a:r>
            <a:r>
              <a:rPr b="0" lang="en-PH" sz="2400" spc="-1" strike="noStrike" u="sng">
                <a:solidFill>
                  <a:srgbClr val="0070c0"/>
                </a:solidFill>
                <a:uFillTx/>
                <a:latin typeface="Times New Roman"/>
              </a:rPr>
              <a:t>skated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across the rink in Central Pa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 u="sng">
                <a:solidFill>
                  <a:srgbClr val="0070c0"/>
                </a:solidFill>
                <a:uFillTx/>
                <a:latin typeface="Times New Roman"/>
              </a:rPr>
              <a:t>Turn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at the next corner, No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Oscar </a:t>
            </a:r>
            <a:r>
              <a:rPr b="0" lang="en-PH" sz="2400" spc="-1" strike="noStrike" u="sng">
                <a:solidFill>
                  <a:srgbClr val="0070c0"/>
                </a:solidFill>
                <a:uFillTx/>
                <a:latin typeface="Times New Roman"/>
              </a:rPr>
              <a:t>will help 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Yousuf with the proje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221304"/>
                </a:solidFill>
                <a:latin typeface="Arial"/>
                <a:ea typeface="Arial"/>
              </a:rPr>
              <a:t>PARTS OF SPEEC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1066680" y="1676520"/>
            <a:ext cx="7696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PH" sz="2000" spc="-1" strike="noStrike">
                <a:solidFill>
                  <a:srgbClr val="ff0000"/>
                </a:solidFill>
                <a:latin typeface="Times New Roman"/>
              </a:rPr>
              <a:t>adverb</a:t>
            </a: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 is a word that modifies (qualifies or limits) a verb, an adjective, or another adver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◗ </a:t>
            </a: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Many adverbs end in - 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◗ </a:t>
            </a: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Adverbs answer any of these four questions: Where? When? How? To what ext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◗ </a:t>
            </a: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Adverbs make writing more specific and more exa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◗ </a:t>
            </a: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Here are some adverbs that do not end in -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523880" y="4267080"/>
            <a:ext cx="6400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221304"/>
                </a:solidFill>
                <a:latin typeface="Arial"/>
                <a:ea typeface="Arial"/>
              </a:rPr>
              <a:t>QUICK PRACTICE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1219320" y="1752480"/>
            <a:ext cx="7391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Direction:  Write complete sentences using the following parts of spee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shop assistant (nou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disgusting (adjec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earn (ver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immediately (adver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WHAT IS A SENTENCE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94920" y="1676160"/>
            <a:ext cx="67820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TODAY’S LESSON WILL EXPLA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WHAT IS REQUIRED IN EVERY SENT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WHAT IS A SUBJE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WHAT IS A PREDIC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172200" y="4572000"/>
            <a:ext cx="1828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4114800" y="4440240"/>
            <a:ext cx="45021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WHAT IS REQUIRED IN EVERY SENTENCE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694b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Not every group of words is a sentence.  To be a sentence, a group of words must make a complete thought AND conta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8f6d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f6d58"/>
                </a:solidFill>
                <a:latin typeface="Times New Roman"/>
              </a:rPr>
              <a:t>SU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8f6d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f6d58"/>
                </a:solidFill>
                <a:latin typeface="Times New Roman"/>
              </a:rPr>
              <a:t>PRED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UBJEC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Simple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1bd6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1bd69"/>
                </a:solidFill>
                <a:latin typeface="Times New Roman"/>
              </a:rPr>
              <a:t>Usually only one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1bd6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1bd69"/>
                </a:solidFill>
                <a:latin typeface="Times New Roman"/>
              </a:rPr>
              <a:t>Always a noun or pro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1bd6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1bd69"/>
                </a:solidFill>
                <a:latin typeface="Times New Roman"/>
              </a:rPr>
              <a:t>Tells what or who the sentence is ab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Complete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66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Can be several words or only one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66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lways contains a noun or pro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66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lways includes the simple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IMPLE PREDICAT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694b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Always a verb.  (A verb is a word that tells what the subject is doing or being.)  There are two kinds of ver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Action verbs:</a:t>
            </a: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run,</a:t>
            </a: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jump, sit, sleep</a:t>
            </a: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Being verbs:</a:t>
            </a: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m, is</a:t>
            </a: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was, seem</a:t>
            </a: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C:\Program Files\Common Files\Microsoft Shared\Clipart\cagcat50\pe01659_.wmf"/>
          <p:cNvPicPr/>
          <p:nvPr/>
        </p:nvPicPr>
        <p:blipFill>
          <a:blip r:embed="rId1"/>
          <a:stretch/>
        </p:blipFill>
        <p:spPr>
          <a:xfrm>
            <a:off x="4952880" y="2149560"/>
            <a:ext cx="373392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75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75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75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OMPLETE PREDICAT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Always contains the simple predicate (a ver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Can be one word or several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6699"/>
                </a:solidFill>
                <a:latin typeface="Times New Roman"/>
              </a:rPr>
              <a:t>The sunset is beaut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C:\Program Files\Common Files\Microsoft Shared\Clipart\cagcat50\na01062_.wmf"/>
          <p:cNvPicPr/>
          <p:nvPr/>
        </p:nvPicPr>
        <p:blipFill>
          <a:blip r:embed="rId1"/>
          <a:stretch/>
        </p:blipFill>
        <p:spPr>
          <a:xfrm>
            <a:off x="4800600" y="1828800"/>
            <a:ext cx="3733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75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75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75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BUILDING SENTEN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William writes po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My friend William writes poems about n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My friend William wrote a poem about flowers and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My kind, talented friend William wrote the poem “The Earth’s Paintings” which is about the beauty of n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71600" y="58672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6248520" y="1828800"/>
            <a:ext cx="22096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BUILDING YOUR OWN SENTEN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Write a two-word sentence that contains ONLY a simple subject and simple predic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To that sentence, add one or more words to describe the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Keep that sentence and add one or more words to the predic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Add more words or phrases to that sentence to make it longer and more descrip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Underline the simple subject and simple predicate in each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EXAMPLE SENTEN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28951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Dogs bark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Those big dogs bark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Those big dogs barked loud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Those big dogs in the pen next door barked loudly all n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4648320" y="1752480"/>
            <a:ext cx="3886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6" descr="C:\Program Files\Common Files\Microsoft Shared\Clipart\cagcat50\pe02661_.wmf"/>
          <p:cNvPicPr/>
          <p:nvPr/>
        </p:nvPicPr>
        <p:blipFill>
          <a:blip r:embed="rId1"/>
          <a:stretch/>
        </p:blipFill>
        <p:spPr>
          <a:xfrm>
            <a:off x="5715000" y="160020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13:24:32Z</dcterms:created>
  <dc:creator>grimes</dc:creator>
  <dc:description/>
  <dc:language>en-US</dc:language>
  <cp:lastModifiedBy>Amphie Santos</cp:lastModifiedBy>
  <dcterms:modified xsi:type="dcterms:W3CDTF">2014-12-07T22:34:54Z</dcterms:modified>
  <cp:revision>35</cp:revision>
  <dc:subject/>
  <dc:title>WHAT IS A SENTENCE?</dc:title>
</cp:coreProperties>
</file>