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FA1-36BB-45B4-BB55-24FF151E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960-5200-4330-850C-30C5E3BE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488-5977-4C36-96F5-07A4BCB0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2A4-2B59-4C3C-84A1-83413855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1655-CC96-4CD5-891D-DDB137D5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EAE3-2042-40FD-82D9-AFCE6710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B91C-F7AF-4590-A657-874F9962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A832-D443-4545-B4F5-92769089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5AB0-BDFF-40DC-8F45-B44ACF1D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6485-6806-4C2B-95F1-E6CECBDD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90C5-AC9D-4907-A39F-15CC62AF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A4E-49A4-4F74-947D-4F618EC8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AC7F-53AF-43FD-96DC-72C0A6B2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56DA-5C39-412F-8430-6E8D598C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538B-A04C-48E6-ABDB-8CA4CBEA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DC6E-8A29-47B7-A679-186EEA1D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9426-CCCD-4FD8-BF7C-90C8D4AB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045B7-1AB4-4A56-8604-A93ECC38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6784-250D-488D-9589-98A68EA0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13DD-7E46-4653-9041-F217572D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B395-F16F-4CBF-9E40-F38578EF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D6D5-BFD7-4726-8620-393C2B58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F50-0057-41BD-84C4-F690ED2F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DFB0-F932-4E7F-AE34-F81171E0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EEF6-38A8-4716-8EE4-074618BE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943B-4F28-4136-B21D-8731700B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4C1D-EE71-4A05-827B-D6B0899E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11344-2FC7-4639-AF85-2CB32D73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E6D99-FFB7-4398-A38B-5851C1D7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9135E-700A-45C5-BD3B-4BDC7E2E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D223-125E-4799-9B10-C2F8D90E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04DB5-389D-4C39-8F34-7D0CBEC5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392B-C088-4667-A312-3E426997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2F3-9D9C-460B-B841-836C2695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AB587-A35F-4081-9ED1-7351D628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215E3-B445-49F8-9338-9B3E4D60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1AF3-0DB4-43EC-8E93-EC5B9948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481B1-2D39-45F9-AFFC-C3BA71C7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8C1B6-9C62-46A9-9FBA-22979F16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38113-8773-4E02-AD9C-A22E1157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C9A2B-095C-488F-8AA8-E6FCCE14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268C9-93EC-4C6D-BD03-EAE7BF0D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90437-112F-47BA-B997-63C14AA6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37733-5650-4E0E-8D42-97AEBA6C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AAA-380F-46C7-A5CA-B8802225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5FD7D-F3FF-417C-B987-22DFD5B2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B8557-D5BC-41D3-BB85-21BDBD0E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F3861-CAB2-463F-8AFD-B75B914F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1F875-D570-42B7-9013-D698218B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A9E68-357E-4EDC-87AA-F394E4C6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26BDB-AAE3-4BD2-855E-782CEBD2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5354D-57C7-4D7D-BFB0-F0A1EA8F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52806-5F83-4B82-B822-301EDFD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62AEB-377F-47AC-90B2-77401818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31B9-04DD-41E7-88A4-C0EBBF96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236-4325-4216-B9A4-6048D1D1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C4B1F-39D1-40F6-BA97-F9B7FE80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517-2E3C-475C-BC20-19CF708F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F97-2098-42E4-B56F-8008EF82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884-9ECA-4755-A763-70898FB6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334D-086E-4249-9354-BEBC5E56780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7DB3-57E6-4F58-A500-CB3C2F59C42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5DB8-A0DD-4CF3-B86E-330644E1BF3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A9AB-209D-4266-BBB9-41D7B8B01C0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3F49-BF2F-456B-BB7C-86F03B9A519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edical_diagnosis" TargetMode="External"/><Relationship Id="rId2" Type="http://schemas.openxmlformats.org/officeDocument/2006/relationships/hyperlink" Target="http://en.wikipedia.org/wiki/Vaccine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physiolog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piratory system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3571920" y="332280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# 6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250920" y="476280"/>
            <a:ext cx="828180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C) Stagnant Hypoxia Or Ischemic Hypoxia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the P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rterial blood is normal and the amount of hemoglobin to carry oxygen is normal, but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lood flow to the tissues is so reduced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attack, heart failure, or cardiac arrest, for example, can slow the circulation of blood 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D) Histotoxic Hypoxia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amount of oxygen delivered to the tissues is normal, but because o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xic ag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y fail to utilize it effectively because the cells are damaged and cannot extract and absorb oxygen from circulating blood. 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50560" y="404280"/>
            <a:ext cx="84978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Effect Of Hypoxia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Times New Roman"/>
              </a:rPr>
              <a:t>A) Severe Hypoxia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→Loss of awareness in about 20 seconds and death within 4 - 5 minu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Times New Roman"/>
              </a:rPr>
              <a:t>B) Less Severe Hypoxia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ke alcoholism → headache, impaired judgment and other symptoms; nausea, vomiting, tachycardia and hyperventilation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I) 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106488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b0f0"/>
                </a:solidFill>
                <a:uFillTx/>
                <a:latin typeface="Times New Roman"/>
              </a:rPr>
              <a:t>Definition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yanosis is defined as a bluish discoloration, especially of the skin and mucous membranes, due to excessive concentration of deoxyhemoglobin in the blood caused by deoxygen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b0f0"/>
                </a:solidFill>
                <a:uFillTx/>
                <a:latin typeface="Times New Roman"/>
              </a:rPr>
              <a:t>Clinical Causes Of Cyanosi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</a:rPr>
              <a:t>Asphyxi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oxygen or excess of carbon dioxide in the body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used by obstruction of respiratory passag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</a:rPr>
              <a:t>2) Some types of hypoxia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ypoxic</a:t>
            </a:r>
            <a:r>
              <a:rPr b="0" lang="en-US" sz="26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ypoxia, and stagnant hypoxi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6516720" y="2276640"/>
            <a:ext cx="246708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II) Dyspnea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052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subjective sensation of uncomfortable breathing, feeling “short of breath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s from mild discomfort after exertion to extreme difficulty breathing at res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erson is not aware of breathing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395280" y="620640"/>
            <a:ext cx="8280360" cy="47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Causes Of Dyspnea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ronchial asthma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that causes the airways of the lungs to swell and narrow, these airways are sensitive to stimulation by a number of things, such as infection, cold air, exercise, pollens, etc. leading to wheezing, shortness of breath, chest tightness, and cough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468360" y="765000"/>
            <a:ext cx="828036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mphysema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type of chronic obstructive pulmonary disease (COPD) involving damage to the air sacs (alveoli) in the lungs., lung fibro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neumonia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fection that inflames the air sacs in one or both lung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468360" y="1484280"/>
            <a:ext cx="849636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eft sided heart failure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idosis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s an increased acidity in the blood and other body tissue 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yrotoxicosis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s a disease caused by excessive concentrations of free thyroid hormones (most often T4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xygen lack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t high altitude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2771640" y="22536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yspnea  (cont. )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108000" y="3333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r>
              <a:rPr b="1" i="1" lang="en-US" sz="4100" spc="-1" strike="noStrike" u="sng">
                <a:solidFill>
                  <a:srgbClr val="ff0000"/>
                </a:solidFill>
                <a:uFillTx/>
                <a:latin typeface="Times New Roman"/>
              </a:rPr>
              <a:t>IV)Orthopnea</a:t>
            </a:r>
            <a:endParaRPr b="0" lang="en-US" sz="4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f0"/>
                </a:solidFill>
                <a:uFillTx/>
                <a:latin typeface="Times New Roman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form of dyspnea in which the person can breathe comfortably only when standing or sitting straigh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occurs in left sided heart failure accompanied with pulmonary congestion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304920" y="380880"/>
            <a:ext cx="86868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V) Clubb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lective bulbous enlargement of the end of a digit (finger or toe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sually painl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monly associated with diseas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 cause decreased oxygen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ung canc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ystic fibrosi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ung absces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genital heart diseas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3183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356000" y="476280"/>
            <a:ext cx="4535640" cy="31240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"/>
          <p:cNvSpPr/>
          <p:nvPr/>
        </p:nvSpPr>
        <p:spPr>
          <a:xfrm>
            <a:off x="2891880" y="49417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Clubbing of the fing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5318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250920" y="476280"/>
            <a:ext cx="86058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the respiratory system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system is made up of the organs in your body that help you to brea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, that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spiration = Brea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of breathing is to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liver oxygen to the body and to take away carbon diox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539640" y="5486400"/>
            <a:ext cx="7632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</a:rPr>
              <a:t>Daily 10,000 liters of air - filtered..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2716920" y="2367000"/>
            <a:ext cx="318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ung disease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79280" y="1890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Obstructive lung disease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with obstructive lung disease have shortness of breath due to difficulty exhaling all the air from the lung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cause of damage to the lungs or narrowing of the airways inside the lungs, exhaled air comes out more slowly than norm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Times New Roman"/>
              </a:rPr>
              <a:t>There are two main forms of COPD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Times New Roman"/>
              </a:rPr>
              <a:t>Chronic bronchit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ich involves a long-term cough with mucu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Times New Roman"/>
              </a:rPr>
              <a:t>Emphysem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ich involves damage to the lungs over ti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people with COPD have a combination of both condition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324000" y="490680"/>
            <a:ext cx="82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 is the main cause of COPD. The more a person smokes, the more likely that person will develop COPD. But some people smoke for years and never 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re cases, nonsmokers who lack a protein cal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-1 antitrypsin can develop emphysem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5334120" y="3776760"/>
            <a:ext cx="3809880" cy="3047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"/>
          <p:cNvSpPr/>
          <p:nvPr/>
        </p:nvSpPr>
        <p:spPr>
          <a:xfrm>
            <a:off x="220680" y="360036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to certain gases or fumes in the workpla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250920" y="18900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 may include any of the fol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, with or without muc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respiratory infec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 that gets worse with mild activ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cure for COPD. But there are many things can do to relieve symptoms and keep the disease from getting wors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2"/>
          <p:cNvSpPr/>
          <p:nvPr/>
        </p:nvSpPr>
        <p:spPr>
          <a:xfrm>
            <a:off x="250920" y="333360"/>
            <a:ext cx="849780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Restrictive lung diseases</a:t>
            </a: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d with a reduced total lung capacity, i.e., the lungs are unable to expand fu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with restrictive lung disease cannot fully fill their lungs with 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ve lung disease most often results from a condition causing stiffness in the lungs themsel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ther cases, stiffness of the chest wall, weak muscles, or damaged nerves may cause the restriction in lung expan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auses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esity, Neuromuscular disease, such as muscular dystrophy or amyotrophic lateral sclerosis (AL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0" y="-24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espiratory failur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79280" y="764640"/>
            <a:ext cx="885672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condition in which the lungs becomes unable to oxygenate blood sufficiently or remove CO2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Times New Roman"/>
              </a:rPr>
              <a:t>Diseases and conditions that affect your breathing can cause respiratory failu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Lung diseases such as COPD: prevents enough air from flowing in and out of the airway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Conditions that affect the nerves and muscles that control breathing, such as spinal cord inju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Damage to the tissues and ribs around the lungs. An injury to the chest can cause this damag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395280" y="692280"/>
            <a:ext cx="83534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rug or alcohol overdos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njuries from inhaling smoke or harmful fume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250920" y="1125360"/>
            <a:ext cx="8569080" cy="49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erculosis (TB) is caused by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bacterium tubercul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low-growing bacteria that thrive in areas of the body that are rich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and oxygen, such as the lu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d through inhalation of infected dropl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 primarily affects the lungs, but it can also affect organs in the central nervous system, lymphatic system, kidney, and circulatory system among other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14000" y="189000"/>
            <a:ext cx="34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uberculosis (TB)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08080" y="260280"/>
            <a:ext cx="8756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ymptoms of active TB in the lu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 of active TB in the lungs begin gradually 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over a period of weeks or month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on symptoms includ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ugh with thick, cloudy, and sometimes bloody mucus from the lungs (sputum) for more than 2 wee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, chills, and night swea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 and weakn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appetite and unexplained weight lo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 and chest 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185760" y="313380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uberculosis, you must take antibiotics for at least six to nine months. The exact drugs and length of treatment depend on your age, overall health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68360" y="549360"/>
            <a:ext cx="68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tes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est X-ray or a CT sc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tum tes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1135080" y="981000"/>
            <a:ext cx="6834240" cy="55911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-3240" y="1764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Organs of the Respiratory Syste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324000" y="47628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Pneumonia</a:t>
            </a:r>
            <a:r>
              <a:rPr b="0" lang="en-US" sz="2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flammatory condition of the lung—affecting the microscopic air sacs known 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o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usually caused by infection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uenza viru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bacter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treptococcus pneumonia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ess commonly other microorganisms, and other conditions such 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immune dise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symptoms include a cough, chest pain, fever and difficulty breath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22320" y="260280"/>
            <a:ext cx="8870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"/>
              </a:rPr>
              <a:t>Diagno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X-ray and culture of the sputum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2"/>
              </a:rPr>
              <a:t>Vacci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event certain types of pneumonia are available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depends on the underlying cause.  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neumonia presumed to be bacterial is treated with antibiotics. If the pneumonia is severe, the affected person is, in general, admitted to hospital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3569400" y="2421000"/>
            <a:ext cx="12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Q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95640" y="-243360"/>
            <a:ext cx="417672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iratory Passages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70c0"/>
                </a:solidFill>
                <a:uFillTx/>
                <a:latin typeface="Times New Roman"/>
              </a:rPr>
              <a:t>I)Upper respiratory passag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clude: nose, nasal cavity, sinuses and pharynx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ey warm and humidify a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70c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70c0"/>
                </a:solidFill>
                <a:latin typeface="Times New Roman"/>
              </a:rPr>
              <a:t>II)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Times New Roman"/>
              </a:rPr>
              <a:t>Lower respiratory passag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)Conductive portio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clude: larynx, trachea, bronchi, bronchiol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Conduct air to respiratory surfaces, also warm and humidify a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)Respiratory portion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clude lungs, respiratory lobules, and alveoli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Undergo gas exchange between air and bl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tions of respiratory system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9280" y="980640"/>
            <a:ext cx="903600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reathing– movement of air in and out of the lung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Inhalation (inspiration) draws gases into the lung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Exhalation (expiration) forces gases out of the lung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Gas Exchan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ody temperature regul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Voice production (Vocalizati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ite for olfactory sensa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Regulation of the pH of the bloo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) Defensive 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This occurs through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Hair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Sneezing reflex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- Cough Reflex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Secretion of immunoglobulin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116000" y="0"/>
            <a:ext cx="5429160" cy="5643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 flipH="1">
            <a:off x="999360" y="5143680"/>
            <a:ext cx="30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Gas Exchange in respiratory syste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920" y="-1004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ocess of respiration is divided into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125000"/>
            <a:ext cx="91440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) External Respira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nsists of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- Pulmonary Ventilation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the exchange of air between the lungs and atmospher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- Pulmonary Perfusion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the flow of blood through the pulmonary capillari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-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he Pulmonary Respiration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exchange of gases between alveolar air and bloo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) Transport of oxygen and carbon dioxide by the blood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) The internal respira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exchange of gases between tissues and systemic blood vessel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mptoms of respiratory disturbances: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8360" y="1341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lude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) Hypoxi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) Cyanosi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) Dyspne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) Orthopne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) Clubb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)Hypox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1125360"/>
            <a:ext cx="8855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Oxygen deficiency at the tissu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Times New Roman"/>
              </a:rPr>
              <a:t>A) Hypoxic Hypoxia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adequate saturation of blood oxyg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o a reduced supply of oxygen in the air, decreased lung ventilation or respiratory diseas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rterial blood is lower than normal→hypoxia of the tissu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Times New Roman"/>
              </a:rPr>
              <a:t>B) Anemic Hypoxia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ich the 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rterial blood is normal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ount of hemoglobin to carry oxygen is decrease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0:12:58Z</dcterms:created>
  <dc:creator>eViLgRin</dc:creator>
  <dc:description/>
  <dc:language>en-US</dc:language>
  <cp:lastModifiedBy>Iman Alajeyan</cp:lastModifiedBy>
  <dcterms:modified xsi:type="dcterms:W3CDTF">2017-03-21T06:00:46Z</dcterms:modified>
  <cp:revision>96</cp:revision>
  <dc:subject/>
  <dc:title>Pathophysiology  of  respiratory system</dc:title>
</cp:coreProperties>
</file>