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D7A-402B-47AA-8816-6D08E30B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C5B-8B9B-4260-B456-B6770458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3529-E735-4FC2-861D-D9754297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B03-FFE0-4946-A6D7-640FCD7C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7CE3-402B-43A7-8458-1DFC1B26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7053-9B56-457E-A035-987ED448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1914-6160-4B35-86F2-81A1C33C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809F-A4E4-475F-8E3D-1AB5CD5D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ECA2-1A8A-4E13-8A9D-0A68DD6F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F41E-A5DE-4632-B730-5D6C46DA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40E7-E96A-4AD9-86C0-1F353562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353-FC1D-4650-9A9F-01BC0760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6114-A57A-4C75-8420-63D892EF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13D5-2E92-419B-88EC-F7B1D97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F099-FD14-4D0B-81F8-772DDCBD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7427-FEE5-495C-B43C-86E51379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FE55-FB0C-490D-A343-F159E946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5B44-773A-41BD-8AE2-D2828EF9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7F7F-33DD-46B0-9D47-E805D9DD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F337-63D8-43E5-B16A-CBE32202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227C-045C-4686-AE42-4B4304E6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35F1-320E-4678-949B-35819818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651-3AE6-4F21-BE02-63247D9D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C440E-70CD-4C17-A0C1-C0785C0B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1666-8D4A-4473-BF3E-8DD4F233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E7AE7-ECA0-4E85-A313-030907C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6F3DF-AC4D-4C0A-8867-6938044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DA94-44AD-4A46-9FB0-54495923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203F-176D-4933-94C0-A5BF2CB1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AA7A-9728-445B-A2E0-7733E897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C9B14-E0D3-4E06-9531-FA3B5A77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FF0D9-7437-483F-91E0-7306F5BF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0E18-C90C-47C9-95D4-4F305C16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145E-661B-4949-9AC5-FADD5D2E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574C-59FB-4654-84A7-892166CA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44EE0-2462-48DB-A468-A4830664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B0E8-B063-41F6-8FD7-5A56DA7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880D-A322-452F-B71E-33D7EE85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7CDBD-81BA-4953-8CD8-AA97DE4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57EB8-7FC5-4893-950D-7868A6BB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189C-C346-4FCD-91B0-CA1247A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41C3-A313-4545-97DA-F2D88E71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43E86-8B48-4BEE-A606-57ADD98A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FC405-033F-4103-AE3F-F2959ACF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D3B-B7DE-4E21-8331-B3B76369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6EF7E-D942-4793-A2F2-C9A91E5D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21693-0697-42F7-8DCD-80661CEA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73202-D3D5-4EBE-A4A9-D5FD503B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1880-9E8F-4913-AE6C-A33689DA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FEF07-117C-47F8-B95F-689C6E59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9730C-4311-46E0-8ED0-2E5F3E12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01900-23AD-4E81-8CA8-8C19F14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278D-80D2-451E-BE7A-A8BFB349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447A8-4B8B-4763-95DF-511AAD16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9269B-A39C-472D-AE4F-AE9D26B9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7E7-7F80-4CF5-B3E5-2C3E99E5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B5F95-EAB3-4CD6-8AF5-363350F1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C5A-EDBB-45E1-87C5-CFF8A67B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18B-8DC8-4E91-A1DE-237B8E3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406F-AC85-4B09-8112-2863C60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2AB3-A7EB-4FBB-B026-FA05FE727E2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7227-D7F9-4E35-8B3D-B02E53C78DB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17B5-C3F1-438F-99D0-7E7E57D5381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DF4F-E046-4B0F-AB1D-83C3D4CD20C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1E65-4C38-4265-8CAF-9FF277D1AB2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Medical_diagnosis" TargetMode="External"/><Relationship Id="rId2" Type="http://schemas.openxmlformats.org/officeDocument/2006/relationships/hyperlink" Target="http://en.wikipedia.org/wiki/Vaccine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physiolog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piratory system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3571920" y="332280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# 6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250920" y="476280"/>
            <a:ext cx="828180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C) Stagnant Hypoxia Or Ischemic Hypoxia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the P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rterial blood is normal and the amount of hemoglobin to carry oxygen is normal, but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ood flow to the tissues is so reduced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t attack, heart failure, or cardiac arrest, for example, can slow the circulation of blood .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D) Histotoxic Hypoxia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amount of oxygen delivered to the tissues is normal, but because of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ag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y fail to utilize it effectively because the cells are damaged and cannot extract and absorb oxygen from circulating blood. 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50560" y="404280"/>
            <a:ext cx="84978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Effect Of Hypoxia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Times New Roman"/>
              </a:rPr>
              <a:t>A) Severe Hypoxia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→Loss of awareness in about 20 seconds and death within 4 - 5 minut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b050"/>
                </a:solidFill>
                <a:uFillTx/>
                <a:latin typeface="Times New Roman"/>
              </a:rPr>
              <a:t>B) Less Severe Hypoxia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ke alcoholism → headache, impaired judgment and other symptoms; nausea, vomiting, tachycardia and hyperventilation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) Cyano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106488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 u="sng">
                <a:solidFill>
                  <a:srgbClr val="00b0f0"/>
                </a:solidFill>
                <a:uFillTx/>
                <a:latin typeface="Times New Roman"/>
              </a:rPr>
              <a:t>Definition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yanosis is defined as a bluish discoloration, especially of the skin and mucous membranes, due to excessive concentration of deoxyhemoglobin in the blood caused by deoxygenation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b0f0"/>
                </a:solidFill>
                <a:uFillTx/>
                <a:latin typeface="Times New Roman"/>
              </a:rPr>
              <a:t>Clinical Causes Of Cyanosi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</a:rPr>
              <a:t>Asphyxi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oxygen or excess of carbon dioxide in the body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used by obstruction of respiratory passag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imes New Roman"/>
              </a:rPr>
              <a:t>2) Some types of hypoxia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ypoxic</a:t>
            </a:r>
            <a:r>
              <a:rPr b="0" lang="en-US" sz="26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ypoxia, and stagnant hypoxi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6516720" y="2276640"/>
            <a:ext cx="246708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I) Dyspnea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052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subjective sensation of uncomfortable breathing, feeling “short of breath”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s from mild discomfort after exertion to extreme difficulty breathing at res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 person is not aware of breathing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395280" y="620640"/>
            <a:ext cx="8280360" cy="47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Causes Of Dyspnea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ronchial asthma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that causes the airways of the lungs to swell and narrow, these airways are sensitive to stimulation by a number of things, such as infection, cold air, exercise, pollens, etc. leading to wheezing, shortness of breath, chest tightness, and cough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468360" y="765000"/>
            <a:ext cx="828036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mphysema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type of chronic obstructive pulmonary disease (COPD) involving damage to the air sacs (alveoli) in the lungs., lung fibro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neumonia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fection that inflames the air sacs in one or both lung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468360" y="1484280"/>
            <a:ext cx="849636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eft sided heart failure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idosis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s an increased acidity in the blood and other body tissue 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yrotoxicosis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s a disease caused by excessive concentrations of free thyroid hormones (most often T4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Oxygen lack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at high altitud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2771640" y="22536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yspnea  (cont. 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108000" y="3333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ar-SA" sz="26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r>
              <a:rPr b="1" i="1" lang="en-US" sz="4100" spc="-1" strike="noStrike" u="sng">
                <a:solidFill>
                  <a:srgbClr val="ff0000"/>
                </a:solidFill>
                <a:uFillTx/>
                <a:latin typeface="Times New Roman"/>
              </a:rPr>
              <a:t>IV)Orthopnea</a:t>
            </a:r>
            <a:endParaRPr b="0" lang="en-US" sz="4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Times New Roman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 form of dyspnea in which the person can breathe comfortably only when standing or sitting straigh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occurs in left sided heart failure accompanied with pulmonary congestion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304920" y="380880"/>
            <a:ext cx="86868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V) Clubbing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he selective bulbous enlargement of the end of a digit (finger or toe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Usually painles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monly associated with diseas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hat  cause decreased oxygen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ung canc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ystic fibrosi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ung absces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genital heart diseas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3183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535640" cy="31240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2891880" y="494172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Arial"/>
              </a:rPr>
              <a:t>Clubbing of the fing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2531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250920" y="476280"/>
            <a:ext cx="8605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the respiratory system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ory system is made up of the organs in your body that help you to brea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, that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spiration = Brea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breathing is to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liver oxygen to the body and to take away carbon diox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Rectangle 1"/>
          <p:cNvSpPr/>
          <p:nvPr/>
        </p:nvSpPr>
        <p:spPr>
          <a:xfrm>
            <a:off x="539640" y="5486400"/>
            <a:ext cx="7632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Daily 10,000 liters of air - filtered..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"/>
          <p:cNvSpPr/>
          <p:nvPr/>
        </p:nvSpPr>
        <p:spPr>
          <a:xfrm>
            <a:off x="2716920" y="2367000"/>
            <a:ext cx="318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ung disease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79280" y="1890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Obstructive lung disease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with obstructive lung disease have shortness of breath due to difficulty exhaling all the air from the lung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of damage to the lungs or narrowing of the airways inside the lungs, exhaled air comes out more slowly than normal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imes New Roman"/>
              </a:rPr>
              <a:t>There are two main forms of COPD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imes New Roman"/>
              </a:rPr>
              <a:t>Chronic bronchit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involves a long-term cough with mucu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030a0"/>
                </a:solidFill>
                <a:latin typeface="Times New Roman"/>
              </a:rPr>
              <a:t>Emphyse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involves damage to the lungs over ti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st people with COPD have a combination of both condition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"/>
          <p:cNvSpPr/>
          <p:nvPr/>
        </p:nvSpPr>
        <p:spPr>
          <a:xfrm>
            <a:off x="324000" y="490680"/>
            <a:ext cx="82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is the main cause of COPD. The more a person smokes, the more likely that person will develop COPD. But some people smoke for years and never g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re cases, nonsmokers who lack a protein call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-1 antitrypsin can develop emphysem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1"/>
          <a:stretch/>
        </p:blipFill>
        <p:spPr>
          <a:xfrm>
            <a:off x="5334120" y="3776760"/>
            <a:ext cx="3809880" cy="3047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"/>
          <p:cNvSpPr/>
          <p:nvPr/>
        </p:nvSpPr>
        <p:spPr>
          <a:xfrm>
            <a:off x="220680" y="360036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to certain gases or fumes in the workplac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"/>
          <p:cNvSpPr/>
          <p:nvPr/>
        </p:nvSpPr>
        <p:spPr>
          <a:xfrm>
            <a:off x="250920" y="189000"/>
            <a:ext cx="8353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ymptom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may include any of the 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, with or without muco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respiratory infec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 that gets worse with mild activity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cure for COPD. But there are many things can do to relieve symptoms and keep the disease from getting wors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2"/>
          <p:cNvSpPr/>
          <p:nvPr/>
        </p:nvSpPr>
        <p:spPr>
          <a:xfrm>
            <a:off x="250920" y="333360"/>
            <a:ext cx="849780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) 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Restrictive lung diseases</a:t>
            </a: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a reduced total lung capacity, i.e., the lungs are unable to expand ful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with restrictive lung disease cannot fully fill their lungs with ai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ve lung disease most often results from a condition causing stiffness in the lungs themsel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cases, stiffness of the chest wall, weak muscles, or damaged nerves may cause the restriction in lung expan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auses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sity, Neuromuscular disease, such as muscular dystrophy or amyotrophic lateral sclerosis (AL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0" y="-24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spiratory failure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79280" y="764640"/>
            <a:ext cx="88567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a condition in which the lungs becomes unable to oxygenate blood sufficiently or remove CO2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b050"/>
                </a:solidFill>
                <a:latin typeface="Times New Roman"/>
              </a:rPr>
              <a:t>Diseases and conditions that affect your breathing can cause respiratory failur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Lung diseases such as COPD: prevents enough air from flowing in and out of the airway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Conditions that affect the nerves and muscles that control breathing, such as spinal cord inju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Damage to the tissues and ribs around the lungs. An injury to the chest can cause this dama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"/>
          <p:cNvSpPr/>
          <p:nvPr/>
        </p:nvSpPr>
        <p:spPr>
          <a:xfrm>
            <a:off x="395280" y="692280"/>
            <a:ext cx="83534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rug or alcohol overdos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njuries from inhaling smoke or harmful fume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"/>
          <p:cNvSpPr/>
          <p:nvPr/>
        </p:nvSpPr>
        <p:spPr>
          <a:xfrm>
            <a:off x="250920" y="1125360"/>
            <a:ext cx="8569080" cy="49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aus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erculosis (TB) is caused by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low-growing bacteria that thrive in areas of the body that are rich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and oxygen, such as the lu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d through inhalation of infected dropl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B primarily affects the lungs, but it can also affect organs in the central nervous system, lymphatic system, kidney, and circulatory system among other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14000" y="189000"/>
            <a:ext cx="34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uberculosis (TB)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08080" y="260280"/>
            <a:ext cx="8756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ymptoms of active TB in the lu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of active TB in the lungs begin gradually 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over a period of weeks or month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on symptoms includ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ugh with thick, cloudy, and sometimes bloody mucus from the lungs (sputum) for more than 2 wee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er, chills, and night swea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igue and weakn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appetite and unexplained weight lo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 and chest 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85760" y="31338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uberculosis, you must take antibiotics for at least six to nine months. The exact drugs and length of treatment depend on your age, overall health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68360" y="549360"/>
            <a:ext cx="684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te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hest X-ray or a CT sc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utum tes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135080" y="981000"/>
            <a:ext cx="6834240" cy="55911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-3240" y="1764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Organs of the Respiratory Syst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24000" y="47628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Pneumonia</a:t>
            </a:r>
            <a:r>
              <a:rPr b="0" lang="en-US" sz="2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flammatory condition of the lung—affecting the microscopic air sacs known 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veo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usually caused by infection wi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uses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uenza viru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bacter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treptococcus pneumonia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less commonly other microorganisms, and other conditions such 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dise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symptoms include a cough, chest pain, fever and difficulty breathi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22320" y="260280"/>
            <a:ext cx="887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"/>
              </a:rPr>
              <a:t>Diagno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X-ray and culture of the sputum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cc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Vacci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prevent certain types of pneumonia are available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depends on the underlying cause.  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neumonia presumed to be bacterial is treated with antibiotics. If the pneumonia is severe, the affected person is, in general, admitted to hospital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569400" y="2421000"/>
            <a:ext cx="127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Q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5640" y="-243360"/>
            <a:ext cx="417672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iratory Passages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Times New Roman"/>
              </a:rPr>
              <a:t>I)Upper respiratory passa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clude: nose, nasal cavity, sinuses and pharynx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They warm and humidify a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70c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70c0"/>
                </a:solidFill>
                <a:latin typeface="Times New Roman"/>
              </a:rPr>
              <a:t>II)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Times New Roman"/>
              </a:rPr>
              <a:t>Lower respiratory passag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)Conductive portio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clude: larynx, trachea, bronchi, bronchiole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Conduct air to respiratory surfaces, also warm and humidify ai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)Respiratory portion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clude lungs, respiratory lobules, and alveoli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Undergo gas exchange between air and bloo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tions of respiratory system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9280" y="980640"/>
            <a:ext cx="903600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reathing– movement of air in and out of the lung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Inhalation (inspiration) draws gases into the lung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Exhalation (expiration) forces gases out of the lung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Gas Exchang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ody temperature regul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Voice production (Vocalizatio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ite for olfactory sens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Regulation of the pH of the bloo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) Defensive 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This occurs through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Hair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Sneezing reflex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- Cough Reflex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Secretion of immunoglobulin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116000" y="0"/>
            <a:ext cx="5429160" cy="5643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 flipH="1">
            <a:off x="999360" y="5143680"/>
            <a:ext cx="30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Gas Exchange in respiratory syste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920" y="-1004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process of respiration is divided into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125000"/>
            <a:ext cx="91440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) External Respira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nsists of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- Pulmonary Ventilation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the exchange of air between the lungs and atmospher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- Pulmonary Perfusion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the flow of blood through the pulmonary capillari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-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he Pulmonary Respiration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exchange of gases between alveolar air and bloo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) Transport of oxygen and carbon dioxide by the blood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) The internal respira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exchange of gases between tissues and systemic blood vessel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ptoms of respiratory disturbances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13413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lude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) Hypoxi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) Cyanos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) Dyspne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) Orthopne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) Clubb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)Hypox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79280" y="1125360"/>
            <a:ext cx="8855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 Oxygen deficiency at the tissu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Times New Roman"/>
              </a:rPr>
              <a:t>A) Hypoxic Hypoxia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fr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adequate saturation of blood oxyg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o a reduced supply of oxygen in the air, decreased lung ventilation or respiratory diseas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rterial blood is lower than normal→hypoxia of the tissu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Times New Roman"/>
              </a:rPr>
              <a:t>B) Anemic Hypoxia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which the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rterial blood is normal, bu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hemoglobin to carry oxygen is decreased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0:12:58Z</dcterms:created>
  <dc:creator>eViLgRin</dc:creator>
  <dc:description/>
  <dc:language>en-US</dc:language>
  <cp:lastModifiedBy>Iman Alajeyan</cp:lastModifiedBy>
  <dcterms:modified xsi:type="dcterms:W3CDTF">2017-03-21T06:00:46Z</dcterms:modified>
  <cp:revision>96</cp:revision>
  <dc:subject/>
  <dc:title>Pathophysiology  of  respiratory system</dc:title>
</cp:coreProperties>
</file>