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32D-FAD2-41F7-9161-4A9C5E4F3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302C-FFDD-4388-A6A2-5DA9E7316AD1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B364-ED43-4F42-BC94-FA8742445BF5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9931-58D0-4940-84BA-58653E94A273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A079-469F-498F-9366-FE175BF90D33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04B2-29F1-4BFF-BF1F-31DFF245678E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AD29-8D63-4FAA-AA26-2B2CCC6DAFFC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504-8EA9-4C86-8B27-5FD9377B0296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E02B-E6EA-431D-BEBA-A010B7F49D6C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B123-6A7A-4119-B0CA-BDF6D53A7361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DEEF-D8B1-4D24-A226-28D9638E1193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3E57-881C-4C9B-AE9D-1B553A2A91B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BD9-B243-4B77-A723-585BF4C6905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4114-0559-4501-8BB7-4B20F622DA7F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5B41-52FC-4CEA-9525-7102352D63BC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726-F4E8-4DB8-ADE6-DD12615F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4BE-2FA8-40D8-8600-644875C1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12F-C7C5-4E4C-A1D5-36A29339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338-7793-4BED-97A6-C10A0B1C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AEA8-C8BA-4532-B6BD-C2647018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686-BB4F-471E-9D83-EFDB1280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692A-BF9F-4BBF-87AA-CA031657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2473-1DC6-4F04-85F0-7A4F80F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4893-63E5-4112-B86D-C9CF272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DD3-AB25-443A-8179-148B9B22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BBE2-84CE-4CC9-98B9-447C5DC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B56-F43B-4221-9CD1-970AB180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6AAB-7180-4319-A139-A585CBB0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F73A-5941-4740-B48B-F6B52A4C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F24B-6893-4DE4-8685-3FC2B018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81B4-F627-4123-95FF-CB7BC665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AA76-5446-4703-9EC9-46B859E1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3D3-BAB0-408F-8BC9-A683EB50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E48-27D9-41A5-B390-0D1BDDB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F04-CCC8-4E4D-B217-7E3E7C00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325-6E34-48B4-A4AD-627CC0F8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EAC-79DB-4690-96FD-A108A1F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08A-7891-484E-A9FB-F7E9E17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89D-8D80-421C-B2D7-43868CB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F4FA-2757-4B2C-A94E-75DF1A996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028A-52C8-401E-B19E-CC9D4F847EDF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97A3-01D5-4ADE-8EFE-D38A21C69907}" type="datetime3">
              <a:rPr b="0" lang="en-GB" sz="2400" spc="-1" strike="noStrike">
                <a:solidFill>
                  <a:srgbClr val="eaeaea"/>
                </a:solidFill>
                <a:latin typeface="Arial"/>
              </a:rPr>
              <a:t>29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Uses of PC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ttp://nobelprize.org/nobel_prizes/chemistry/laureates/1993/illpres/already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pcr"/>
          <p:cNvPicPr/>
          <p:nvPr/>
        </p:nvPicPr>
        <p:blipFill>
          <a:blip r:embed="rId1"/>
          <a:stretch/>
        </p:blipFill>
        <p:spPr>
          <a:xfrm>
            <a:off x="179280" y="115920"/>
            <a:ext cx="9361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TOSHIBA</cp:lastModifiedBy>
  <dcterms:modified xsi:type="dcterms:W3CDTF">2016-11-19T21:41:54Z</dcterms:modified>
  <cp:revision>6</cp:revision>
  <dc:subject/>
  <dc:title>Polymerase Chain Reaction PCR</dc:title>
</cp:coreProperties>
</file>