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16AA-0177-429C-96A8-B5541D523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5A11-3A3C-480D-BE91-E57424DDC6AC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848-CFC4-464C-8EB2-5B0F62D36B5D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35A-692E-49D3-ADF1-7E53AAEE2490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3488-BCFB-48BB-83A1-1C53D7B3557E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5329-AEC4-47DD-8FF4-5774D689887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3E20-41EA-49A6-8978-45E00A67EFE4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5A8F-2990-44A4-85DE-92F418CB9FCD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2397-9C81-4CF3-A21D-80C9105BB1B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363B-184C-4E40-AFAA-C28EDD285828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D871-694A-40ED-9440-B57137530DAB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CE55-36F7-4D0D-9344-1186006C842F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D55A-20D6-45AB-8312-4C324E27A867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FB1E-556E-48BB-981C-AAE0681ABD95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1156-6D32-47BC-89EA-C1A2D0E8BDC5}" type="slidenum">
              <a:rPr b="0" lang="en-GB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990-7465-4FC6-A287-2B318D1D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103-2A8F-4BD9-9416-D7F771F5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18AD-A99F-4A0A-9FF2-C4AC941C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E23-0734-4036-91F1-F6BDA46E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7E7E-5EAE-4EC4-8137-94B43D5A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036A-0166-46BA-A19A-8315E8BD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486-269D-4BCE-B94C-461BAD25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E94C-EBD1-4A95-B9EF-CB4535B0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EA76-639A-4B21-9A3E-CB35961A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9848-65DB-4278-AE1C-10EFF079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0AB5-11C3-42B4-971E-BA17B26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586-FF34-4E6E-92F4-F4A8D7EF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4BDD-B6C1-4283-9E12-0DBC57F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11E9-4828-47EF-AE81-1821D80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3A20-477A-497B-9C2B-18B90806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A5FF-E7E3-47FE-8820-3AF79082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0842-6C9F-491F-BBBD-0619DD4F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F3F-5D84-4D0F-A43A-2F70F377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424-6478-4D85-A617-FBA7898E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A410-53A6-4C74-A3A1-6BE328D6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CDE-B115-462E-ABB6-660E3CB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5F1-7F6C-4744-9E3C-87041EB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EDB-6622-490E-AE6F-ECACD47D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C4D-0B36-47F2-8768-59381571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DB11-BFCA-4CBE-A32A-D6880C1EFC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7627-AD10-4459-A5CE-E3EC09ABE7F1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olymerase Chain Rea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120" y="18284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Aim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To understand the process of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PCR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 and its </a:t>
            </a:r>
            <a:r>
              <a:rPr b="0" lang="en-GB" sz="3600" spc="-1" strike="noStrike">
                <a:solidFill>
                  <a:srgbClr val="ff0000"/>
                </a:solidFill>
                <a:latin typeface="Verdana"/>
              </a:rPr>
              <a:t>uses</a:t>
            </a:r>
            <a:r>
              <a:rPr b="0" lang="en-GB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Verdana"/>
              </a:rPr>
              <a:t>Starter - Match each term with its correct description (work in pairs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864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A9E5-9361-46D4-8711-EF4C3A0C55D4}" type="datetime3">
              <a:rPr b="0" lang="en-GB" sz="2400" spc="-1" strike="noStrike">
                <a:solidFill>
                  <a:srgbClr val="eaeaea"/>
                </a:solidFill>
                <a:latin typeface="Arial"/>
              </a:rPr>
              <a:t>28 July 2026</a:t>
            </a:fld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139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he first step for PCR would be to synthesize "primers" of about 20 letters-lo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ONE primer exactly like the lower left-hand sequence, and ONE primer exactly like the upper right-hand sequence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ATTGCCCCGGGAAATTT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.......................&gt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an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&lt;........................................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...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polymerase must be thermostable (37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– 95</a:t>
            </a:r>
            <a:r>
              <a:rPr b="0" lang="en-GB" sz="32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C used) to avoid fresh enzyme being add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Remember…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Nucleotides used must be very pu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DNA must not be contaminated  - any foreign DNA would also be copied….PCR in legal cases in UK suspended at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Uses of PC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ttp://nobelprize.org/nobel_prizes/chemistry/laureates/1993/illpres/already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pcr"/>
          <p:cNvPicPr/>
          <p:nvPr/>
        </p:nvPicPr>
        <p:blipFill>
          <a:blip r:embed="rId1"/>
          <a:stretch/>
        </p:blipFill>
        <p:spPr>
          <a:xfrm>
            <a:off x="179280" y="115920"/>
            <a:ext cx="9361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ttp://www.dnalc.org/ddnalc/resources/pcr.htm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http://www.maxanim.com/genetics/PCR/pcr.sw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300px-PCR"/>
          <p:cNvPicPr/>
          <p:nvPr/>
        </p:nvPicPr>
        <p:blipFill>
          <a:blip r:embed="rId1"/>
          <a:stretch/>
        </p:blipFill>
        <p:spPr>
          <a:xfrm>
            <a:off x="3071880" y="152280"/>
            <a:ext cx="2844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Pcr"/>
          <p:cNvPicPr/>
          <p:nvPr/>
        </p:nvPicPr>
        <p:blipFill>
          <a:blip r:embed="rId1"/>
          <a:stretch/>
        </p:blipFill>
        <p:spPr>
          <a:xfrm>
            <a:off x="12574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Inform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Polymerase chain reaction enables large amounts of DNA to be produced from very small samples (0.1m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re is a repeating cycl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eparation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double DNA stran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synthesis</a:t>
            </a: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 of a complementary strand for eac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What happen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ample DNA , nucleotides, DNA primers &amp; thermostable DNA polymerase placed in PCR machin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trands of sample DNA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eparated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by heating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95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cool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37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to allow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 to bind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Mixture heated to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72</a:t>
            </a:r>
            <a:r>
              <a:rPr b="0" lang="en-GB" sz="2800" spc="-1" strike="noStrike" baseline="30000">
                <a:solidFill>
                  <a:srgbClr val="ff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 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for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replication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optimum temp of DNA polymerase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ycle repeats many times (~8mins /cycle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Separation achieved by heating to 95</a:t>
            </a:r>
            <a:r>
              <a:rPr b="0" lang="en-GB" sz="2800" spc="-1" strike="noStrike" baseline="30000">
                <a:solidFill>
                  <a:srgbClr val="eaeaea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C – no suitable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helic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DNA polymerase can’t work on completely 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single stranded DNA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– double stranded regions needed at the start of sequence to be copied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primers</a:t>
            </a: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 (short sequences DNA) complementary to bases at start of region to be copied 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Verdana"/>
              </a:rPr>
              <a:t>To synthesize  primers , base sequence at start must be know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582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TTAACGGGGCCCTTTAAA.....…TTTAAACCCGGGTT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AATTGCCCCGGGAAATTT.....…AAATTTGGGCCCAA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Verdana"/>
              </a:rPr>
              <a:t>the sequence of bases which ONLY flank a particular region of a particular organism's DNA, and NO OTHER ORGANISM'S DNA. This region would be a target sequence for PC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9:44:27Z</dcterms:created>
  <dc:creator>Dominic Conrad</dc:creator>
  <dc:description/>
  <dc:language>en-US</dc:language>
  <cp:lastModifiedBy>TOSHIBA</cp:lastModifiedBy>
  <dcterms:modified xsi:type="dcterms:W3CDTF">2016-11-19T21:41:54Z</dcterms:modified>
  <cp:revision>6</cp:revision>
  <dc:subject/>
  <dc:title>Polymerase Chain Reaction PCR</dc:title>
</cp:coreProperties>
</file>