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8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30B8-BFC7-4DCA-841D-FBCBF11D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88E8-F524-4CD0-9705-27F4E6D2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2A3A-7F42-4191-AC0B-76B212F1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9773-9A0A-4A3F-9C2D-B9D91764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F6C-435F-49FF-BD63-43BB5A8B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5C8-0E4B-45DE-A44D-57308AA2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AF00-0BCD-4B07-89FF-8E92966B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1CC-B5E3-41F7-9001-76421D84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FBF-7FBC-47D1-9D7E-9E184775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9AB-DD63-4FCB-B7EE-004CE28A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A6CD-B85F-49D7-9A13-A587AC5E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D7A-4816-4526-BC36-3BA4FAB4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AD42-44D1-401D-84D6-0442E114B24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0.png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4.png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png"/><Relationship Id="rId4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7.png"/><Relationship Id="rId4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8.png"/><Relationship Id="rId4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" Target=""/><Relationship Id="rId38" Type="http://schemas.openxmlformats.org/officeDocument/2006/relationships/slide" Target=""/><Relationship Id="rId39" Type="http://schemas.openxmlformats.org/officeDocument/2006/relationships/slide" Target=""/><Relationship Id="rId40" Type="http://schemas.openxmlformats.org/officeDocument/2006/relationships/slide" Target=""/><Relationship Id="rId41" Type="http://schemas.openxmlformats.org/officeDocument/2006/relationships/slide" Target=""/><Relationship Id="rId42" Type="http://schemas.openxmlformats.org/officeDocument/2006/relationships/slide" Target=""/><Relationship Id="rId43" Type="http://schemas.openxmlformats.org/officeDocument/2006/relationships/slide" Target=""/><Relationship Id="rId44" Type="http://schemas.openxmlformats.org/officeDocument/2006/relationships/slide" Target=""/><Relationship Id="rId45" Type="http://schemas.openxmlformats.org/officeDocument/2006/relationships/slide" Target=""/><Relationship Id="rId46" Type="http://schemas.openxmlformats.org/officeDocument/2006/relationships/slide" Target=""/><Relationship Id="rId47" Type="http://schemas.openxmlformats.org/officeDocument/2006/relationships/slide" Target=""/><Relationship Id="rId48" Type="http://schemas.openxmlformats.org/officeDocument/2006/relationships/slide" Target=""/><Relationship Id="rId49" Type="http://schemas.openxmlformats.org/officeDocument/2006/relationships/slide" Target=""/><Relationship Id="rId50" Type="http://schemas.openxmlformats.org/officeDocument/2006/relationships/slide" Target=""/><Relationship Id="rId51" Type="http://schemas.openxmlformats.org/officeDocument/2006/relationships/slide" Target=""/><Relationship Id="rId52" Type="http://schemas.openxmlformats.org/officeDocument/2006/relationships/slide" Target=""/><Relationship Id="rId53" Type="http://schemas.openxmlformats.org/officeDocument/2006/relationships/slide" Target=""/><Relationship Id="rId54" Type="http://schemas.openxmlformats.org/officeDocument/2006/relationships/slide" Target=""/><Relationship Id="rId55" Type="http://schemas.openxmlformats.org/officeDocument/2006/relationships/slide" Target=""/><Relationship Id="rId56" Type="http://schemas.openxmlformats.org/officeDocument/2006/relationships/slide" Target=""/><Relationship Id="rId57" Type="http://schemas.openxmlformats.org/officeDocument/2006/relationships/slide" Target=""/><Relationship Id="rId58" Type="http://schemas.openxmlformats.org/officeDocument/2006/relationships/slide" Target=""/><Relationship Id="rId59" Type="http://schemas.openxmlformats.org/officeDocument/2006/relationships/slide" Target=""/><Relationship Id="rId60" Type="http://schemas.openxmlformats.org/officeDocument/2006/relationships/slide" Target=""/><Relationship Id="rId61" Type="http://schemas.openxmlformats.org/officeDocument/2006/relationships/slide" Target=""/><Relationship Id="rId62" Type="http://schemas.openxmlformats.org/officeDocument/2006/relationships/slide" Target=""/><Relationship Id="rId63" Type="http://schemas.openxmlformats.org/officeDocument/2006/relationships/slide" Target=""/><Relationship Id="rId64" Type="http://schemas.openxmlformats.org/officeDocument/2006/relationships/slide" Target=""/><Relationship Id="rId65" Type="http://schemas.openxmlformats.org/officeDocument/2006/relationships/slide" Target=""/><Relationship Id="rId66" Type="http://schemas.openxmlformats.org/officeDocument/2006/relationships/slide" Target=""/><Relationship Id="rId67" Type="http://schemas.openxmlformats.org/officeDocument/2006/relationships/slide" Target=""/><Relationship Id="rId68" Type="http://schemas.openxmlformats.org/officeDocument/2006/relationships/slide" Target=""/><Relationship Id="rId69" Type="http://schemas.openxmlformats.org/officeDocument/2006/relationships/slide" Target=""/><Relationship Id="rId70" Type="http://schemas.openxmlformats.org/officeDocument/2006/relationships/slide" Target=""/><Relationship Id="rId71" Type="http://schemas.openxmlformats.org/officeDocument/2006/relationships/slide" Target=""/><Relationship Id="rId72" Type="http://schemas.openxmlformats.org/officeDocument/2006/relationships/slide" Target=""/><Relationship Id="rId73" Type="http://schemas.openxmlformats.org/officeDocument/2006/relationships/slide" Target=""/><Relationship Id="rId74" Type="http://schemas.openxmlformats.org/officeDocument/2006/relationships/slide" Target=""/><Relationship Id="rId75" Type="http://schemas.openxmlformats.org/officeDocument/2006/relationships/slide" Target=""/><Relationship Id="rId76" Type="http://schemas.openxmlformats.org/officeDocument/2006/relationships/slide" Target=""/><Relationship Id="rId77" Type="http://schemas.openxmlformats.org/officeDocument/2006/relationships/slide" Target=""/><Relationship Id="rId78" Type="http://schemas.openxmlformats.org/officeDocument/2006/relationships/slide" Target=""/><Relationship Id="rId79" Type="http://schemas.openxmlformats.org/officeDocument/2006/relationships/slide" Target=""/><Relationship Id="rId80" Type="http://schemas.openxmlformats.org/officeDocument/2006/relationships/slide" Target=""/><Relationship Id="rId81" Type="http://schemas.openxmlformats.org/officeDocument/2006/relationships/slide" Target=""/><Relationship Id="rId82" Type="http://schemas.openxmlformats.org/officeDocument/2006/relationships/slide" Target=""/><Relationship Id="rId83" Type="http://schemas.openxmlformats.org/officeDocument/2006/relationships/slide" Target=""/><Relationship Id="rId84" Type="http://schemas.openxmlformats.org/officeDocument/2006/relationships/slide" Target=""/><Relationship Id="rId85" Type="http://schemas.openxmlformats.org/officeDocument/2006/relationships/slide" Target=""/><Relationship Id="rId86" Type="http://schemas.openxmlformats.org/officeDocument/2006/relationships/slide" Target=""/><Relationship Id="rId87" Type="http://schemas.openxmlformats.org/officeDocument/2006/relationships/slide" Target=""/><Relationship Id="rId88" Type="http://schemas.openxmlformats.org/officeDocument/2006/relationships/slide" Target=""/><Relationship Id="rId8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7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2.png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8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0.png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3.png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4.png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6.png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7.png"/><Relationship Id="rId4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8.png"/><Relationship Id="rId4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292640"/>
            <a:ext cx="77724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جدول الدوري الطوي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9214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xy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.99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8.4 °C (54.750008 °K, -361.1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3.0 °C (90.15 °K, -297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52280" y="152280"/>
          <a:ext cx="8384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1143000" y="2286000"/>
            <a:ext cx="4572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inste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990720" y="2286000"/>
            <a:ext cx="41907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r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1219320" y="2286000"/>
            <a:ext cx="4419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ndelev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1447920" y="2057400"/>
            <a:ext cx="4267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b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1371600" y="2286000"/>
            <a:ext cx="4343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wre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"/>
          <p:cNvSpPr/>
          <p:nvPr/>
        </p:nvSpPr>
        <p:spPr>
          <a:xfrm>
            <a:off x="12193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rfor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ub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"/>
          <p:cNvSpPr/>
          <p:nvPr/>
        </p:nvSpPr>
        <p:spPr>
          <a:xfrm>
            <a:off x="1219320" y="2133720"/>
            <a:ext cx="41907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aborg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"/>
          <p:cNvSpPr/>
          <p:nvPr/>
        </p:nvSpPr>
        <p:spPr>
          <a:xfrm>
            <a:off x="1219320" y="2286000"/>
            <a:ext cx="4038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h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152280" y="228600"/>
          <a:ext cx="83844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2133720"/>
            <a:ext cx="8001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lu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.9984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9.62 °C (53.530006 °K, -363.315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8.14 °C (85.01 °K, -306.65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14479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itn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.179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8.6 °C (24.549994 °K, -415.4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6.1 °C (27.049994 °K, -410.9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286000"/>
            <a:ext cx="7772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.9897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.8 °C (370.95 °K, 208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2.9 °C (826.05005 °K, 1027.2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52280" y="228600"/>
          <a:ext cx="847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gn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.3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0.0 °C (923.15 °K, 12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07.0 °C (1380.15 °K, 20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280" y="152280"/>
          <a:ext cx="828720" cy="106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um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.9815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0.37 °C (933.52 °K, 1220.6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7.0 °C (2740.15 °K, 4472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ic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08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0.0 °C (1683.15 °K, 25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55.0 °C (2628.15 °K, 4271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295280" y="2286000"/>
            <a:ext cx="6629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osphor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.973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1 °C (317.25 °K, 111.3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.0 °C (553.15 °K, 53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1430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lfu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.06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8 °C (385.95 °K, 235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4.6 °C (717.75 °K, 832.2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295280" y="2057400"/>
            <a:ext cx="67820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g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94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9.3 °C (83.85 °K, -308.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6.0 °C (87.15 °K, -302.8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8610480" y="4572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7632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533520" y="1143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6324480" y="1066680"/>
            <a:ext cx="381240" cy="6098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40">
                <a:moveTo>
                  <a:pt x="0" y="0"/>
                </a:moveTo>
                <a:lnTo>
                  <a:pt x="21600" y="0"/>
                </a:lnTo>
                <a:lnTo>
                  <a:pt x="21600" y="34540"/>
                </a:lnTo>
                <a:lnTo>
                  <a:pt x="0" y="34540"/>
                </a:lnTo>
                <a:close/>
              </a:path>
              <a:path fill="lightenLess" w="21600" h="34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0">
                <a:moveTo>
                  <a:pt x="21600" y="0"/>
                </a:moveTo>
                <a:lnTo>
                  <a:pt x="21600" y="34540"/>
                </a:lnTo>
                <a:lnTo>
                  <a:pt x="20200" y="33140"/>
                </a:lnTo>
                <a:lnTo>
                  <a:pt x="20200" y="1400"/>
                </a:lnTo>
                <a:close/>
              </a:path>
              <a:path fill="darkenLess" w="21600" h="34540">
                <a:moveTo>
                  <a:pt x="21600" y="34540"/>
                </a:moveTo>
                <a:lnTo>
                  <a:pt x="0" y="34540"/>
                </a:lnTo>
                <a:lnTo>
                  <a:pt x="1400" y="33140"/>
                </a:lnTo>
                <a:lnTo>
                  <a:pt x="20200" y="33140"/>
                </a:lnTo>
                <a:close/>
              </a:path>
              <a:path fill="lighten" w="21600" h="34540">
                <a:moveTo>
                  <a:pt x="0" y="34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7" action="ppaction://hlinksldjump"/>
          </p:cNvPr>
          <p:cNvSpPr/>
          <p:nvPr/>
        </p:nvSpPr>
        <p:spPr>
          <a:xfrm>
            <a:off x="6858000" y="114300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8" action="ppaction://hlinksldjump"/>
          </p:cNvPr>
          <p:cNvSpPr/>
          <p:nvPr/>
        </p:nvSpPr>
        <p:spPr>
          <a:xfrm>
            <a:off x="7238880" y="1066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9" action="ppaction://hlinksldjump"/>
          </p:cNvPr>
          <p:cNvSpPr/>
          <p:nvPr/>
        </p:nvSpPr>
        <p:spPr>
          <a:xfrm>
            <a:off x="77724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0" action="ppaction://hlinksldjump"/>
          </p:cNvPr>
          <p:cNvSpPr/>
          <p:nvPr/>
        </p:nvSpPr>
        <p:spPr>
          <a:xfrm>
            <a:off x="82296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1" action="ppaction://hlinksldjump"/>
          </p:cNvPr>
          <p:cNvSpPr/>
          <p:nvPr/>
        </p:nvSpPr>
        <p:spPr>
          <a:xfrm>
            <a:off x="868680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2" action="ppaction://hlinksldjump"/>
          </p:cNvPr>
          <p:cNvSpPr/>
          <p:nvPr/>
        </p:nvSpPr>
        <p:spPr>
          <a:xfrm>
            <a:off x="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3" action="ppaction://hlinksldjump"/>
          </p:cNvPr>
          <p:cNvSpPr/>
          <p:nvPr/>
        </p:nvSpPr>
        <p:spPr>
          <a:xfrm>
            <a:off x="53352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4" action="ppaction://hlinksldjump"/>
          </p:cNvPr>
          <p:cNvSpPr/>
          <p:nvPr/>
        </p:nvSpPr>
        <p:spPr>
          <a:xfrm>
            <a:off x="6324480" y="1676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5" action="ppaction://hlinksldjump"/>
          </p:cNvPr>
          <p:cNvSpPr/>
          <p:nvPr/>
        </p:nvSpPr>
        <p:spPr>
          <a:xfrm>
            <a:off x="6781680" y="1676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6" action="ppaction://hlinksldjump"/>
          </p:cNvPr>
          <p:cNvSpPr/>
          <p:nvPr/>
        </p:nvSpPr>
        <p:spPr>
          <a:xfrm>
            <a:off x="72388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7" action="ppaction://hlinksldjump"/>
          </p:cNvPr>
          <p:cNvSpPr/>
          <p:nvPr/>
        </p:nvSpPr>
        <p:spPr>
          <a:xfrm>
            <a:off x="76960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8" action="ppaction://hlinksldjump"/>
          </p:cNvPr>
          <p:cNvSpPr/>
          <p:nvPr/>
        </p:nvSpPr>
        <p:spPr>
          <a:xfrm>
            <a:off x="822960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9" action="ppaction://hlinksldjump"/>
          </p:cNvPr>
          <p:cNvSpPr/>
          <p:nvPr/>
        </p:nvSpPr>
        <p:spPr>
          <a:xfrm>
            <a:off x="8686800" y="17524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0" action="ppaction://hlinksldjump"/>
          </p:cNvPr>
          <p:cNvSpPr/>
          <p:nvPr/>
        </p:nvSpPr>
        <p:spPr>
          <a:xfrm>
            <a:off x="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1" action="ppaction://hlinksldjump"/>
          </p:cNvPr>
          <p:cNvSpPr/>
          <p:nvPr/>
        </p:nvSpPr>
        <p:spPr>
          <a:xfrm>
            <a:off x="533520" y="23623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2" action="ppaction://hlinksldjump"/>
          </p:cNvPr>
          <p:cNvSpPr/>
          <p:nvPr/>
        </p:nvSpPr>
        <p:spPr>
          <a:xfrm>
            <a:off x="12952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3" action="ppaction://hlinksldjump"/>
          </p:cNvPr>
          <p:cNvSpPr/>
          <p:nvPr/>
        </p:nvSpPr>
        <p:spPr>
          <a:xfrm>
            <a:off x="1752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4" action="ppaction://hlinksldjump"/>
          </p:cNvPr>
          <p:cNvSpPr/>
          <p:nvPr/>
        </p:nvSpPr>
        <p:spPr>
          <a:xfrm>
            <a:off x="2209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5" action="ppaction://hlinksldjump"/>
          </p:cNvPr>
          <p:cNvSpPr/>
          <p:nvPr/>
        </p:nvSpPr>
        <p:spPr>
          <a:xfrm>
            <a:off x="26668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6" action="ppaction://hlinksldjump"/>
          </p:cNvPr>
          <p:cNvSpPr/>
          <p:nvPr/>
        </p:nvSpPr>
        <p:spPr>
          <a:xfrm>
            <a:off x="31240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7" action="ppaction://hlinksldjump"/>
          </p:cNvPr>
          <p:cNvSpPr/>
          <p:nvPr/>
        </p:nvSpPr>
        <p:spPr>
          <a:xfrm>
            <a:off x="3657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8" action="ppaction://hlinksldjump"/>
          </p:cNvPr>
          <p:cNvSpPr/>
          <p:nvPr/>
        </p:nvSpPr>
        <p:spPr>
          <a:xfrm>
            <a:off x="4114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9" action="ppaction://hlinksldjump"/>
          </p:cNvPr>
          <p:cNvSpPr/>
          <p:nvPr/>
        </p:nvSpPr>
        <p:spPr>
          <a:xfrm>
            <a:off x="45720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0" action="ppaction://hlinksldjump"/>
          </p:cNvPr>
          <p:cNvSpPr/>
          <p:nvPr/>
        </p:nvSpPr>
        <p:spPr>
          <a:xfrm>
            <a:off x="50292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1" action="ppaction://hlinksldjump"/>
          </p:cNvPr>
          <p:cNvSpPr/>
          <p:nvPr/>
        </p:nvSpPr>
        <p:spPr>
          <a:xfrm>
            <a:off x="548640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2" action="ppaction://hlinksldjump"/>
          </p:cNvPr>
          <p:cNvSpPr/>
          <p:nvPr/>
        </p:nvSpPr>
        <p:spPr>
          <a:xfrm>
            <a:off x="6324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3" action="ppaction://hlinksldjump"/>
          </p:cNvPr>
          <p:cNvSpPr/>
          <p:nvPr/>
        </p:nvSpPr>
        <p:spPr>
          <a:xfrm>
            <a:off x="6781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4" action="ppaction://hlinksldjump"/>
          </p:cNvPr>
          <p:cNvSpPr/>
          <p:nvPr/>
        </p:nvSpPr>
        <p:spPr>
          <a:xfrm>
            <a:off x="72388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5" action="ppaction://hlinksldjump"/>
          </p:cNvPr>
          <p:cNvSpPr/>
          <p:nvPr/>
        </p:nvSpPr>
        <p:spPr>
          <a:xfrm>
            <a:off x="77724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6" action="ppaction://hlinksldjump"/>
          </p:cNvPr>
          <p:cNvSpPr/>
          <p:nvPr/>
        </p:nvSpPr>
        <p:spPr>
          <a:xfrm>
            <a:off x="8229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7" action="ppaction://hlinksldjump"/>
          </p:cNvPr>
          <p:cNvSpPr/>
          <p:nvPr/>
        </p:nvSpPr>
        <p:spPr>
          <a:xfrm>
            <a:off x="8686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8" action="ppaction://hlinksldjump"/>
          </p:cNvPr>
          <p:cNvSpPr/>
          <p:nvPr/>
        </p:nvSpPr>
        <p:spPr>
          <a:xfrm>
            <a:off x="76320" y="29718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39" action="ppaction://hlinksldjump"/>
          </p:cNvPr>
          <p:cNvSpPr/>
          <p:nvPr/>
        </p:nvSpPr>
        <p:spPr>
          <a:xfrm>
            <a:off x="533520" y="29718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40" action="ppaction://hlinksldjump"/>
          </p:cNvPr>
          <p:cNvSpPr/>
          <p:nvPr/>
        </p:nvSpPr>
        <p:spPr>
          <a:xfrm>
            <a:off x="12952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41" action="ppaction://hlinksldjump"/>
          </p:cNvPr>
          <p:cNvSpPr/>
          <p:nvPr/>
        </p:nvSpPr>
        <p:spPr>
          <a:xfrm>
            <a:off x="17524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42" action="ppaction://hlinksldjump"/>
          </p:cNvPr>
          <p:cNvSpPr/>
          <p:nvPr/>
        </p:nvSpPr>
        <p:spPr>
          <a:xfrm>
            <a:off x="2209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43" action="ppaction://hlinksldjump"/>
          </p:cNvPr>
          <p:cNvSpPr/>
          <p:nvPr/>
        </p:nvSpPr>
        <p:spPr>
          <a:xfrm>
            <a:off x="26668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44" action="ppaction://hlinksldjump"/>
          </p:cNvPr>
          <p:cNvSpPr/>
          <p:nvPr/>
        </p:nvSpPr>
        <p:spPr>
          <a:xfrm>
            <a:off x="31240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5" action="ppaction://hlinksldjump"/>
          </p:cNvPr>
          <p:cNvSpPr/>
          <p:nvPr/>
        </p:nvSpPr>
        <p:spPr>
          <a:xfrm>
            <a:off x="3657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46" action="ppaction://hlinksldjump"/>
          </p:cNvPr>
          <p:cNvSpPr/>
          <p:nvPr/>
        </p:nvSpPr>
        <p:spPr>
          <a:xfrm>
            <a:off x="4114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47" action="ppaction://hlinksldjump"/>
          </p:cNvPr>
          <p:cNvSpPr/>
          <p:nvPr/>
        </p:nvSpPr>
        <p:spPr>
          <a:xfrm>
            <a:off x="45720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48" action="ppaction://hlinksldjump"/>
          </p:cNvPr>
          <p:cNvSpPr/>
          <p:nvPr/>
        </p:nvSpPr>
        <p:spPr>
          <a:xfrm>
            <a:off x="50292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49" action="ppaction://hlinksldjump"/>
          </p:cNvPr>
          <p:cNvSpPr/>
          <p:nvPr/>
        </p:nvSpPr>
        <p:spPr>
          <a:xfrm>
            <a:off x="5486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50" action="ppaction://hlinksldjump"/>
          </p:cNvPr>
          <p:cNvSpPr/>
          <p:nvPr/>
        </p:nvSpPr>
        <p:spPr>
          <a:xfrm>
            <a:off x="63244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51" action="ppaction://hlinksldjump"/>
          </p:cNvPr>
          <p:cNvSpPr/>
          <p:nvPr/>
        </p:nvSpPr>
        <p:spPr>
          <a:xfrm>
            <a:off x="6781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52" action="ppaction://hlinksldjump"/>
          </p:cNvPr>
          <p:cNvSpPr/>
          <p:nvPr/>
        </p:nvSpPr>
        <p:spPr>
          <a:xfrm>
            <a:off x="72388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53" action="ppaction://hlinksldjump"/>
          </p:cNvPr>
          <p:cNvSpPr/>
          <p:nvPr/>
        </p:nvSpPr>
        <p:spPr>
          <a:xfrm>
            <a:off x="7772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4" action="ppaction://hlinksldjump"/>
          </p:cNvPr>
          <p:cNvSpPr/>
          <p:nvPr/>
        </p:nvSpPr>
        <p:spPr>
          <a:xfrm>
            <a:off x="8229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55" action="ppaction://hlinksldjump"/>
          </p:cNvPr>
          <p:cNvSpPr/>
          <p:nvPr/>
        </p:nvSpPr>
        <p:spPr>
          <a:xfrm>
            <a:off x="8686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56" action="ppaction://hlinksldjump"/>
          </p:cNvPr>
          <p:cNvSpPr/>
          <p:nvPr/>
        </p:nvSpPr>
        <p:spPr>
          <a:xfrm>
            <a:off x="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57" action="ppaction://hlinksldjump"/>
          </p:cNvPr>
          <p:cNvSpPr/>
          <p:nvPr/>
        </p:nvSpPr>
        <p:spPr>
          <a:xfrm>
            <a:off x="533520" y="36576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58" action="ppaction://hlinksldjump"/>
          </p:cNvPr>
          <p:cNvSpPr/>
          <p:nvPr/>
        </p:nvSpPr>
        <p:spPr>
          <a:xfrm>
            <a:off x="12952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59" action="ppaction://hlinksldjump"/>
          </p:cNvPr>
          <p:cNvSpPr/>
          <p:nvPr/>
        </p:nvSpPr>
        <p:spPr>
          <a:xfrm>
            <a:off x="1752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60" action="ppaction://hlinksldjump"/>
          </p:cNvPr>
          <p:cNvSpPr/>
          <p:nvPr/>
        </p:nvSpPr>
        <p:spPr>
          <a:xfrm>
            <a:off x="2209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61" action="ppaction://hlinksldjump"/>
          </p:cNvPr>
          <p:cNvSpPr/>
          <p:nvPr/>
        </p:nvSpPr>
        <p:spPr>
          <a:xfrm>
            <a:off x="26668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62" action="ppaction://hlinksldjump"/>
          </p:cNvPr>
          <p:cNvSpPr/>
          <p:nvPr/>
        </p:nvSpPr>
        <p:spPr>
          <a:xfrm>
            <a:off x="3124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3" action="ppaction://hlinksldjump"/>
          </p:cNvPr>
          <p:cNvSpPr/>
          <p:nvPr/>
        </p:nvSpPr>
        <p:spPr>
          <a:xfrm>
            <a:off x="3657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64" action="ppaction://hlinksldjump"/>
          </p:cNvPr>
          <p:cNvSpPr/>
          <p:nvPr/>
        </p:nvSpPr>
        <p:spPr>
          <a:xfrm>
            <a:off x="4114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65" action="ppaction://hlinksldjump"/>
          </p:cNvPr>
          <p:cNvSpPr/>
          <p:nvPr/>
        </p:nvSpPr>
        <p:spPr>
          <a:xfrm>
            <a:off x="45720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66" action="ppaction://hlinksldjump"/>
          </p:cNvPr>
          <p:cNvSpPr/>
          <p:nvPr/>
        </p:nvSpPr>
        <p:spPr>
          <a:xfrm>
            <a:off x="50292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67" action="ppaction://hlinksldjump"/>
          </p:cNvPr>
          <p:cNvSpPr/>
          <p:nvPr/>
        </p:nvSpPr>
        <p:spPr>
          <a:xfrm>
            <a:off x="5486400" y="35812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68" action="ppaction://hlinksldjump"/>
          </p:cNvPr>
          <p:cNvSpPr/>
          <p:nvPr/>
        </p:nvSpPr>
        <p:spPr>
          <a:xfrm>
            <a:off x="6324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69" action="ppaction://hlinksldjump"/>
          </p:cNvPr>
          <p:cNvSpPr/>
          <p:nvPr/>
        </p:nvSpPr>
        <p:spPr>
          <a:xfrm>
            <a:off x="6781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70" action="ppaction://hlinksldjump"/>
          </p:cNvPr>
          <p:cNvSpPr/>
          <p:nvPr/>
        </p:nvSpPr>
        <p:spPr>
          <a:xfrm>
            <a:off x="72388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71" action="ppaction://hlinksldjump"/>
          </p:cNvPr>
          <p:cNvSpPr/>
          <p:nvPr/>
        </p:nvSpPr>
        <p:spPr>
          <a:xfrm>
            <a:off x="7696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2" action="ppaction://hlinksldjump"/>
          </p:cNvPr>
          <p:cNvSpPr/>
          <p:nvPr/>
        </p:nvSpPr>
        <p:spPr>
          <a:xfrm>
            <a:off x="8229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73" action="ppaction://hlinksldjump"/>
          </p:cNvPr>
          <p:cNvSpPr/>
          <p:nvPr/>
        </p:nvSpPr>
        <p:spPr>
          <a:xfrm>
            <a:off x="8686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74" action="ppaction://hlinksldjump"/>
          </p:cNvPr>
          <p:cNvSpPr/>
          <p:nvPr/>
        </p:nvSpPr>
        <p:spPr>
          <a:xfrm>
            <a:off x="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75" action="ppaction://hlinksldjump"/>
          </p:cNvPr>
          <p:cNvSpPr/>
          <p:nvPr/>
        </p:nvSpPr>
        <p:spPr>
          <a:xfrm>
            <a:off x="533520" y="42670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76" action="ppaction://hlinksldjump"/>
          </p:cNvPr>
          <p:cNvSpPr/>
          <p:nvPr/>
        </p:nvSpPr>
        <p:spPr>
          <a:xfrm>
            <a:off x="1295280" y="41911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77" action="ppaction://hlinksldjump"/>
          </p:cNvPr>
          <p:cNvSpPr/>
          <p:nvPr/>
        </p:nvSpPr>
        <p:spPr>
          <a:xfrm>
            <a:off x="17524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78" action="ppaction://hlinksldjump"/>
          </p:cNvPr>
          <p:cNvSpPr/>
          <p:nvPr/>
        </p:nvSpPr>
        <p:spPr>
          <a:xfrm>
            <a:off x="22096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79" action="ppaction://hlinksldjump"/>
          </p:cNvPr>
          <p:cNvSpPr/>
          <p:nvPr/>
        </p:nvSpPr>
        <p:spPr>
          <a:xfrm>
            <a:off x="26668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80" action="ppaction://hlinksldjump"/>
          </p:cNvPr>
          <p:cNvSpPr/>
          <p:nvPr/>
        </p:nvSpPr>
        <p:spPr>
          <a:xfrm>
            <a:off x="312408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1" action="ppaction://hlinksldjump"/>
          </p:cNvPr>
          <p:cNvSpPr/>
          <p:nvPr/>
        </p:nvSpPr>
        <p:spPr>
          <a:xfrm>
            <a:off x="3657600" y="41911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82" action="ppaction://hlinksldjump"/>
          </p:cNvPr>
          <p:cNvSpPr/>
          <p:nvPr/>
        </p:nvSpPr>
        <p:spPr>
          <a:xfrm>
            <a:off x="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83" action="ppaction://hlinksldjump"/>
          </p:cNvPr>
          <p:cNvSpPr/>
          <p:nvPr/>
        </p:nvSpPr>
        <p:spPr>
          <a:xfrm>
            <a:off x="5335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84" action="ppaction://hlinksldjump"/>
          </p:cNvPr>
          <p:cNvSpPr/>
          <p:nvPr/>
        </p:nvSpPr>
        <p:spPr>
          <a:xfrm>
            <a:off x="9907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85" action="ppaction://hlinksldjump"/>
          </p:cNvPr>
          <p:cNvSpPr/>
          <p:nvPr/>
        </p:nvSpPr>
        <p:spPr>
          <a:xfrm>
            <a:off x="14479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86" action="ppaction://hlinksldjump"/>
          </p:cNvPr>
          <p:cNvSpPr/>
          <p:nvPr/>
        </p:nvSpPr>
        <p:spPr>
          <a:xfrm>
            <a:off x="19051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7" action="ppaction://hlinksldjump"/>
          </p:cNvPr>
          <p:cNvSpPr/>
          <p:nvPr/>
        </p:nvSpPr>
        <p:spPr>
          <a:xfrm>
            <a:off x="23623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88" action="ppaction://hlinksldjump"/>
          </p:cNvPr>
          <p:cNvSpPr/>
          <p:nvPr/>
        </p:nvSpPr>
        <p:spPr>
          <a:xfrm>
            <a:off x="28195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51814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41911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1600200" y="2209680"/>
            <a:ext cx="6858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t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098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65 °C (336.8 °K, 146.5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4.0 °C (1047.15 °K, 1425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2280" y="152280"/>
          <a:ext cx="84780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2193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9.0 °C (1112.15 °K, 154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84.0 °C (1757.15 °K, 270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2952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a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9559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9.0 °C (1812.15 °K, 280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2.0 °C (3105.15 °K, 5129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t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.8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60.0 °C (1933.15 °K, 302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87.0 °C (3560.15 °K, 594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n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.941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90.0 °C (2163.15 °K, 343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80.0 °C (3653.15 °K, 6116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ro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.99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7.0 °C (2130.15 °K, 3374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72.0 °C (2945.15 °K, 4841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10666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gane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.938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45.0 °C (1518.15 °K, 227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2.0 °C (2235.15 °K, 35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2193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.84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5.0 °C (1808.15 °K, 279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50.0 °C (3023.15 °K, 498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114300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bal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933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95.0 °C (1768.15 °K, 272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70.0 °C (3143.15 °K, 519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9907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ck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69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3.0 °C (1726.15 °K, 2647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32.0 °C (3005.15 °K, 4949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362320"/>
            <a:ext cx="8305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yd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.007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9.14 °C (14.009985 °K, -434.4520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2.87 °C (20.280005 °K, -423.16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990720" y="20574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p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3.0 °C (1356.15 °K, 1981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7.0 °C (2840.15 °K, 4652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1066680" y="2133720"/>
            <a:ext cx="74678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n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.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9.58 °C (692.73 °K, 787.2439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7.0 °C (1180.15 °K, 1664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143000" y="205740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.7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.78 °C (302.93 °K, 85.6040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03.0 °C (2676.15 °K, 4357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914400" y="2286000"/>
            <a:ext cx="75438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rm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.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7.4 °C (1210.55 °K, 1719.32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0.0 °C (3103.15 °K, 512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seni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.92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7.0 °C (1090.15 °K, 150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3.0 °C (886.15 °K, 1135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914400" y="2286000"/>
            <a:ext cx="76960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l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.9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7.0 °C (490.15 °K, 42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4.9 °C (958.05005 °K, 1264.8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1143000" y="213372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o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.9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.2 °C (265.95 °K, 19.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78 °C (331.93 °K, 137.80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8380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ypt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.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7.2 °C (115.950005 °K, -250.95999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3.4 °C (119.75001 °K, -244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762120" y="205740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b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.46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.89 °C (312.04 °K, 102.00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8.0 °C (961.15 °K, 1270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52280" y="228600"/>
          <a:ext cx="85752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9144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ron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.6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9.0 °C (1042.15 °K, 1416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4.0 °C (1657.15 °K, 252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36232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.00260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72.0 °C (1.15 °K, -457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68.6 °C (4.549994 °K, -451.4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.9058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3.0 °C (1796.15 °K, 2773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37.0 °C (3610.15 °K, 60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91440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rc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.2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2.0 °C (2125.15 °K, 336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77.0 °C (4650.15 °K, 791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o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.906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8.0 °C (2741.15 °K, 4474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27.0 °C (5200.15 °K, 890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52280" y="152280"/>
          <a:ext cx="85752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lybde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.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17.0 °C (2890.15 °K, 474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12.0 °C (4885.15 °K, 833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9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00.0 °C (2473.15 °K, 39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77.0 °C (5150.15 °K, 881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7621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.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50.0 °C (2523.15 °K, 40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0.0 °C (4173.15 °K, 70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990720" y="2209680"/>
            <a:ext cx="71625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6.0 °C (2239.15 °K, 3570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27.0 °C (4000.15 °K, 67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52280" y="152280"/>
          <a:ext cx="86688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6688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8380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ll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.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52.0 °C (1825.15 °K, 282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27.0 °C (3200.15 °K, 530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.86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1.93 °C (1235.08 °K, 1763.4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12.0 °C (2485.15 °K, 401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52280" y="228600"/>
          <a:ext cx="838440" cy="110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8384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762120" y="2286000"/>
            <a:ext cx="6858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d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4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.9 °C (594.05 °K, 609.6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5.0 °C (1038.15 °K, 140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52280" y="228600"/>
          <a:ext cx="8478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.94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54 °C (453.69 °K, 356.97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7.0 °C (1620.15 °K, 245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52280" y="152280"/>
          <a:ext cx="86688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668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.81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.61 °C (429.76 °K, 313.8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0.0 °C (2273.15 °K, 363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838080" y="2286000"/>
            <a:ext cx="72392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8.7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9 °C (505.05 °K, 449.4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70.0 °C (2543.15 °K, 4118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timon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1.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0.0 °C (903.15 °K, 116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ll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.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9.5 °C (722.65 °K, 841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9.8 °C (1262.95 °K, 1813.6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990720" y="2286000"/>
            <a:ext cx="6705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d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6.9044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.5 °C (386.65 °K, 236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4.0 °C (457.15 °K, 36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12952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n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.2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11.9 °C (161.25 °K, -169.4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8.1 °C (165.05 °K, -162.5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2.90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5 °C (301.65 °K, 83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8.4 °C (951.55005 °K, 1253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8380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7.3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5.0 °C (998.15 °K, 1337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0.0 °C (1413.15 °K, 208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1143000" y="213372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ntha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0.0 °C (1193.15 °K, 168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69.0 °C (3742.15 °K, 6276.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28600" y="228600"/>
          <a:ext cx="84780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1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5.0 °C (1068.15 °K, 146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57.0 °C (3530.15 °K, 589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228600" y="228600"/>
          <a:ext cx="83808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380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133720"/>
            <a:ext cx="72392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y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.0121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8.0 °C (1551.15 °K, 2332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70.0 °C (3243.15 °K, 537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9907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as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9076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5.0 °C (1208.15 °K, 171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4.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0.0 °C (1283.15 °K, 185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1066680" y="2209680"/>
            <a:ext cx="4572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me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4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m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0.3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2.0 °C (1345.15 °K, 196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0.0 °C (2173.15 °K, 34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7621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rop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1.96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2.0 °C (1095.15 °K, 151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97.0 °C (1870.15 °K, 290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dol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7.2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1.0 °C (1584.15 °K, 2391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3.0 °C (3506.15 °K, 5851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8.925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60.0 °C (1633.15 °K, 248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1.0 °C (3314.15 °K, 5505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spro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2.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2.0 °C (1685.15 °K, 2573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2.0 °C (2835.15 °K, 464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l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4.9303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70.0 °C (1743.15 °K, 267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20.0 °C (2993.15 °K, 492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7.2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2.0 °C (1795.15 °K, 277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10.0 °C (2783.15 °K, 455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.8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00.0 °C (2573.15 °K, 417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50.0 °C (2823.15 °K, 462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u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8.93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45.0 °C (1818.15 °K, 28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27.0 °C (2000.15 °K, 31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52280" y="228600"/>
          <a:ext cx="83844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838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1219320" y="236232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.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4.0 °C (1097.15 °K, 1515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66.0 °C (1739.15 °K, 2670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t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.9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56.0 °C (1929.15 °K, 3012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15.0 °C (3588.15 °K, 599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f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8.4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50.0 °C (2423.15 °K, 39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00.0 °C (5673.15 °K, 97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52280" y="152280"/>
          <a:ext cx="838440" cy="106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ntal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947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96.0 °C (3269.15 °K, 5424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25.0 °C (5698.15 °K, 9797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914400" y="213372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ungst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3.8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10.0 °C (3683.15 °K, 61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60.0 °C (5933.15 °K, 10220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6.2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80.0 °C (3453.15 °K, 575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27.0 °C (5900.15 °K, 101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.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5.0 °C (3318.15 °K, 55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27.0 °C (5300.15 °K, 90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2.21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10.0 °C (2683.15 °K, 43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27.0 °C (4800.15 °K, 81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at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72.0 °C (2045.15 °K, 322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27.0 °C (4100.15 °K, 69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228600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b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.01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00.0 °C (3773.15 °K, 633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27.0 °C (5100.15 °K, 87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6094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o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.966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4.43 °C (1337.5801 °K, 1947.974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7.0 °C (3080.15 °K, 508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152280" y="152280"/>
          <a:ext cx="83844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9144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rcur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.5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8.87 °C (234.28 °K, -37.9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6.58 °C (629.73 °K, 673.8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9907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4.383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3.5 °C (576.65 °K, 578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7.0 °C (1730.15 °K, 265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990720" y="2286000"/>
            <a:ext cx="7162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ea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7.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7.5 °C (600.65 °K, 621.5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0.0 °C (2013.15 °K, 316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>
            <a:off x="762120" y="228600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smu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8.980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1.3 °C (544.45 °K, 520.3399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0.0 °C (1833.15 °K, 284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1066680" y="205740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l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0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4.0 °C (527.15 °K, 489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2.0 °C (1235.15 °K, 17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990720" y="2133720"/>
            <a:ext cx="6629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tat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10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2.0 °C (575.15 °K, 57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7.0 °C (610.15 °K, 6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>
            <a:off x="990720" y="2057400"/>
            <a:ext cx="67053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1.0 °C (202.15 °K, -95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61.8 °C (211.35 °K, -79.2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52280" y="152280"/>
          <a:ext cx="81936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193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6858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a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.0 °C (300.15 °K, 80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7.0 °C (950.15 °K, 125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0.0 °C (973.15 °K, 12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7.0 °C (2010.15 °K, 315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286000"/>
            <a:ext cx="8153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t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.0067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09.9 °C (63.250008 °K, -345.8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95.8 °C (77.35 °K, -320.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0.0 °C (1323.15 °K, 192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0.0 °C (3473.15 °K, 579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8380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o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2.038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90.0 °C (5063.15 °K, 8654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7621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t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0358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00.0 °C (1873.15 °K, 291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762120" y="236232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r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8.028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2.0 °C (1405.15 °K, 2069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18.0 °C (4091.15 °K, 6904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ptu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3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0.0 °C (913.15 °K, 118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2.0 °C (4175.15 °K, 7055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ut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4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9.5 °C (912.65 °K, 1183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5.0 °C (3508.15 °K, 5855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eri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4.0 °C (1267.15 °K, 1821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07.0 °C (2880.15 °K, 47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9144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0.0 °C (1613.15 °K, 244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"/>
          <p:cNvSpPr/>
          <p:nvPr/>
        </p:nvSpPr>
        <p:spPr>
          <a:xfrm>
            <a:off x="1295280" y="2286000"/>
            <a:ext cx="4648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k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1143000" y="2286000"/>
            <a:ext cx="4495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ifor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18:35:15Z</dcterms:created>
  <dc:creator>...</dc:creator>
  <dc:description/>
  <dc:language>en-US</dc:language>
  <cp:lastModifiedBy>***</cp:lastModifiedBy>
  <dcterms:modified xsi:type="dcterms:W3CDTF">2004-03-17T09:19:40Z</dcterms:modified>
  <cp:revision>173</cp:revision>
  <dc:subject/>
  <dc:title>Periodic Table of the Elements</dc:title>
</cp:coreProperties>
</file>