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D4D3-74B0-4EBC-9BEB-83163DD76BB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C3A1-D7E1-47C5-93E4-7F24C75CB8A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3DA0-7E30-4AF1-8F85-ECCCB11589F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81F0-2834-4C1D-9F1F-561EE47FF91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72EF-4430-4A2E-9B1E-80D868B3D23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E017-F9C0-465A-B3FD-A7A5DC57ABF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C119-9A6D-4975-BF76-30DE7E4372D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1919-18D8-456F-934D-1239014F1AC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9DBB-C802-4687-8FAD-711CD8660C6D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8E6D-6F6D-4067-A9B6-310892BA640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1B18-DAEA-4DCE-89F8-D4159342AB1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A934-003E-4DBA-94A7-5CA65A12357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73BC-5719-4CBB-B942-69AC9F05E40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558B-99CB-49CB-A67B-3351CA21022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BE20-545D-44F2-993D-8468DF2A9CF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76F7-CED3-4911-814E-47FFDEFDFC0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A3E2-0E8E-4E3F-BA04-BFADA6E62C9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F41E-8896-4097-AD4F-C00056D7A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9571-794A-4D06-84E8-E16B89F1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7E0F-38C9-4BC8-8D64-D8AB8A056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AFC3-37F5-4DA5-82F4-2530188BE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F7CB-191B-4839-B7D2-062A069B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9266-9126-4CE4-89ED-6E361445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42BB-1FD1-4ECD-981B-B1E9040D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5AE8-FCFF-44E1-9B29-A6978FA9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8424-AB3D-43F9-A44E-F6559570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E091-2150-4A4E-AEDC-3C76D350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4F29-A60D-4B90-8B43-DE4DD2AF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FECC-97B7-42D8-806E-278BA0E7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31DE-54BC-49BF-A6E3-6B78A05CE41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Times New Roman"/>
                <a:ea typeface="Times New Roman"/>
              </a:rPr>
              <a:t>King Saud University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dfd293"/>
                </a:solidFill>
                <a:latin typeface="Times New Roman"/>
                <a:ea typeface="Times New Roman"/>
              </a:rPr>
              <a:t>College of Nursing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dfd293"/>
                </a:solidFill>
                <a:latin typeface="Times New Roman"/>
                <a:ea typeface="Times New Roman"/>
              </a:rPr>
              <a:t>Adult Nursing (NUR 316)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dfd293"/>
                </a:solidFill>
                <a:latin typeface="Times New Roman"/>
                <a:ea typeface="Times New Roman"/>
              </a:rPr>
              <a:t>Pre, Intra and Post Operative Nursing Management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28400" y="1285920"/>
            <a:ext cx="825804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ve colored nail po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st the person in donning a hospital gown, ca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ck for laboratory rec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od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-anesthetic medication given e,g. 1 gram clafora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28548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-operative teach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ep breathing and coughing exercises To prevent pneumo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entive spiromet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rning &amp; moving, leg exercise to prevent  DV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ting out of b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n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3" descr="C:\Users\rtumala\Desktop\117882.jpg"/>
          <p:cNvPicPr/>
          <p:nvPr/>
        </p:nvPicPr>
        <p:blipFill>
          <a:blip r:embed="rId1"/>
          <a:stretch/>
        </p:blipFill>
        <p:spPr>
          <a:xfrm>
            <a:off x="3564000" y="3141720"/>
            <a:ext cx="2425680" cy="3189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C:\Users\rtumala\Desktop\en3016156.jpg"/>
          <p:cNvPicPr/>
          <p:nvPr/>
        </p:nvPicPr>
        <p:blipFill>
          <a:blip r:embed="rId2"/>
          <a:stretch/>
        </p:blipFill>
        <p:spPr>
          <a:xfrm>
            <a:off x="6156360" y="3152880"/>
            <a:ext cx="2768400" cy="3178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C:\Users\rtumala\Desktop\8250325342_1953d0a18f_z.jpg"/>
          <p:cNvPicPr/>
          <p:nvPr/>
        </p:nvPicPr>
        <p:blipFill>
          <a:blip r:embed="rId3"/>
          <a:stretch/>
        </p:blipFill>
        <p:spPr>
          <a:xfrm>
            <a:off x="684360" y="3726000"/>
            <a:ext cx="2660400" cy="26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468360" y="2924280"/>
            <a:ext cx="822960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6" descr="18_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293"/>
                </a:solidFill>
                <a:latin typeface="Arial"/>
              </a:rPr>
              <a:t>Preoperative Preparations</a:t>
            </a: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4" descr="C:\Users\rtumala\Pictures\OR Pictures for Lecture Purposes\preop6.jpg"/>
          <p:cNvPicPr/>
          <p:nvPr/>
        </p:nvPicPr>
        <p:blipFill>
          <a:blip r:embed="rId1"/>
          <a:stretch/>
        </p:blipFill>
        <p:spPr>
          <a:xfrm>
            <a:off x="611280" y="1628640"/>
            <a:ext cx="2933640" cy="1562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C:\Users\rtumala\Pictures\OR Pictures for Lecture Purposes\preop5.jpg"/>
          <p:cNvPicPr/>
          <p:nvPr/>
        </p:nvPicPr>
        <p:blipFill>
          <a:blip r:embed="rId2"/>
          <a:stretch/>
        </p:blipFill>
        <p:spPr>
          <a:xfrm>
            <a:off x="3492360" y="1484280"/>
            <a:ext cx="1981440" cy="2305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C:\Users\rtumala\Pictures\OR Pictures for Lecture Purposes\preop4.jpg"/>
          <p:cNvPicPr/>
          <p:nvPr/>
        </p:nvPicPr>
        <p:blipFill>
          <a:blip r:embed="rId3"/>
          <a:stretch/>
        </p:blipFill>
        <p:spPr>
          <a:xfrm>
            <a:off x="5473800" y="1628640"/>
            <a:ext cx="3058920" cy="2036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C:\Users\rtumala\Pictures\OR Pictures for Lecture Purposes\preop2.jpg"/>
          <p:cNvPicPr/>
          <p:nvPr/>
        </p:nvPicPr>
        <p:blipFill>
          <a:blip r:embed="rId4"/>
          <a:stretch/>
        </p:blipFill>
        <p:spPr>
          <a:xfrm>
            <a:off x="395280" y="3357720"/>
            <a:ext cx="2789280" cy="2087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C:\Users\rtumala\Pictures\OR Pictures for Lecture Purposes\preop1.jpg"/>
          <p:cNvPicPr/>
          <p:nvPr/>
        </p:nvPicPr>
        <p:blipFill>
          <a:blip r:embed="rId5"/>
          <a:stretch/>
        </p:blipFill>
        <p:spPr>
          <a:xfrm>
            <a:off x="3059280" y="3789360"/>
            <a:ext cx="3457440" cy="2095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C:\Users\rtumala\Pictures\OR Pictures for Lecture Purposes\preop3.jpg"/>
          <p:cNvPicPr/>
          <p:nvPr/>
        </p:nvPicPr>
        <p:blipFill>
          <a:blip r:embed="rId6"/>
          <a:stretch/>
        </p:blipFill>
        <p:spPr>
          <a:xfrm>
            <a:off x="6253200" y="3665520"/>
            <a:ext cx="26478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293"/>
                </a:solidFill>
                <a:latin typeface="Arial"/>
              </a:rPr>
              <a:t>Intraoperative Phase</a:t>
            </a: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s when patient is transferred to operating room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for patient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tain aseptic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surgeon with supplies and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293"/>
                </a:solidFill>
                <a:latin typeface="Arial"/>
              </a:rPr>
              <a:t>Surgical Team</a:t>
            </a: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3" descr="C:\Users\rtumala\Pictures\OR Pictures for Lecture Purposes\1.jpg"/>
          <p:cNvPicPr/>
          <p:nvPr/>
        </p:nvPicPr>
        <p:blipFill>
          <a:blip r:embed="rId1"/>
          <a:stretch/>
        </p:blipFill>
        <p:spPr>
          <a:xfrm>
            <a:off x="826920" y="1773360"/>
            <a:ext cx="74901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Arial"/>
              </a:rPr>
              <a:t>Intraoperative nursing management</a:t>
            </a:r>
            <a:r>
              <a:rPr b="1" lang="en-US" sz="4000" spc="-1" strike="noStrike">
                <a:solidFill>
                  <a:srgbClr val="dfd293"/>
                </a:solidFill>
                <a:latin typeface="Arial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24000" y="1484280"/>
            <a:ext cx="8496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-Nurse's roles in the operating room a.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irculating nurse b.            Scrub nurs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-Circulating nur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epares operating room with necessary equipment an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pplies and ensures that equipment is functiona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rrange sterile and nonsterile supplies; opens sterile supplies for       scrub nurs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nds for client at proper tim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isits with client preoperatively; explains role, verifies operative        permit, identifies client, and answers any question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firms client's allergie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hecks medical record for completenes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50920" y="691920"/>
            <a:ext cx="8642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sts in safe transfer of client to operating room tabl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itions client on operating room table in accordance with       type of procedure, and surgeon's prefere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nts sponges, needles, and instruments with scrub nurse       before surge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sts scrub nurse and surgeons by tying gowns and                  preparing client's sk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sts scrub nurse in arranging tables to create sterile fiel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ains continuous observations during sur­gery to                anticipate needs of client, scrub nurse, sur­geons, and             anesthesiologi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supplies to scrub nurse as need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Users\rtumala\Pictures\OR Pictures for Lecture Purposes\Counting of Instruments.jpg"/>
          <p:cNvPicPr/>
          <p:nvPr/>
        </p:nvPicPr>
        <p:blipFill>
          <a:blip r:embed="rId1"/>
          <a:stretch/>
        </p:blipFill>
        <p:spPr>
          <a:xfrm>
            <a:off x="755640" y="40464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rtumala\Pictures\OR Pictures for Lecture Purposes\Major Tray Set-up.jpg"/>
          <p:cNvPicPr/>
          <p:nvPr/>
        </p:nvPicPr>
        <p:blipFill>
          <a:blip r:embed="rId1"/>
          <a:stretch/>
        </p:blipFill>
        <p:spPr>
          <a:xfrm>
            <a:off x="949320" y="692280"/>
            <a:ext cx="7245360" cy="54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fd293"/>
                </a:solidFill>
                <a:latin typeface="Arial"/>
              </a:rPr>
              <a:t>Pre, Intra and Post Operative Nursing Management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0f0"/>
                </a:solidFill>
                <a:latin typeface="Arial"/>
              </a:rPr>
              <a:t>Perioperative Period: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ime that constitute the surgical experience, include the preoperative, intraoperative, postoperative pha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000"/>
                </a:solidFill>
                <a:latin typeface="Arial"/>
              </a:rPr>
              <a:t>Preoperative Phase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The time from when decision for surgical intervention is made to when the patient is transferred to the operating room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000"/>
                </a:solidFill>
                <a:latin typeface="Arial"/>
              </a:rPr>
              <a:t>Intaroperative Phase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eriod of time from when the patient is transferred to the operating room table to when he or she is admitted to the postanesthesia care un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000"/>
                </a:solidFill>
                <a:latin typeface="Arial"/>
              </a:rPr>
              <a:t>Postoperative Phase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eriod of time that begins with the admission of the patient to the postanesthesia care unit and ends after follow-up evaluation in the clinical setting or ho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rtumala\Pictures\OR Pictures for Lecture Purposes\10.jpg"/>
          <p:cNvPicPr/>
          <p:nvPr/>
        </p:nvPicPr>
        <p:blipFill>
          <a:blip r:embed="rId1"/>
          <a:stretch/>
        </p:blipFill>
        <p:spPr>
          <a:xfrm>
            <a:off x="1554120" y="836640"/>
            <a:ext cx="6035760" cy="52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Users\rtumala\Pictures\OR Pictures for Lecture Purposes\11.jpg"/>
          <p:cNvPicPr/>
          <p:nvPr/>
        </p:nvPicPr>
        <p:blipFill>
          <a:blip r:embed="rId1"/>
          <a:stretch/>
        </p:blipFill>
        <p:spPr>
          <a:xfrm>
            <a:off x="1547640" y="620640"/>
            <a:ext cx="6034320" cy="52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Users\rtumala\Pictures\OR Pictures for Lecture Purposes\8.jpg"/>
          <p:cNvPicPr/>
          <p:nvPr/>
        </p:nvPicPr>
        <p:blipFill>
          <a:blip r:embed="rId1"/>
          <a:stretch/>
        </p:blipFill>
        <p:spPr>
          <a:xfrm>
            <a:off x="1258920" y="981000"/>
            <a:ext cx="6553080" cy="478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94920" y="549360"/>
            <a:ext cx="820908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s sterile field closely for any breaks in aseptic technique and repor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es for surgical specim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s operative record and nurses' no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nts sponges, needles, and instruments when closure of         wound begi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fers client to stretcher for transport to recovery are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ompanies client to a recovery room and provides a repor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691920"/>
            <a:ext cx="8229600" cy="56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. Scrub nur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forms surgical hand scru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s sterile gown and gloves asep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ranges sterile supplies and instruments in manner prescribed for procedu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cks instruments for proper function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nts sponges, needles, and instruments with circulating nur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wns and gloves surgeons as they enter operating ro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1104840"/>
            <a:ext cx="822960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sts with surgical draping of clie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ains sterile fiel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gnizes and corrects breaks in aseptic techniqu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s progress of surgical procedu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nds surgeon instruments, sponges, and necessary supplies during procedure"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ies and handles surgical specimens correctl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ches sponges, needles, and instruments so none will be misplaced or lost in woun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C:\Users\rtumala\Pictures\OR Pictures for Lecture Purposes\6.jpg"/>
          <p:cNvPicPr/>
          <p:nvPr/>
        </p:nvPicPr>
        <p:blipFill>
          <a:blip r:embed="rId1"/>
          <a:stretch/>
        </p:blipFill>
        <p:spPr>
          <a:xfrm>
            <a:off x="5959440" y="318960"/>
            <a:ext cx="2819520" cy="3122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:\Users\rtumala\Pictures\OR Pictures for Lecture Purposes\5.jpg"/>
          <p:cNvPicPr/>
          <p:nvPr/>
        </p:nvPicPr>
        <p:blipFill>
          <a:blip r:embed="rId2"/>
          <a:stretch/>
        </p:blipFill>
        <p:spPr>
          <a:xfrm>
            <a:off x="6072120" y="3441600"/>
            <a:ext cx="2592360" cy="2651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C:\Users\rtumala\Pictures\OR Pictures for Lecture Purposes\4.jpg"/>
          <p:cNvPicPr/>
          <p:nvPr/>
        </p:nvPicPr>
        <p:blipFill>
          <a:blip r:embed="rId3"/>
          <a:stretch/>
        </p:blipFill>
        <p:spPr>
          <a:xfrm>
            <a:off x="695160" y="2349360"/>
            <a:ext cx="2940120" cy="3743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rtumala\Pictures\OR Pictures for Lecture Purposes\7.jpg"/>
          <p:cNvPicPr/>
          <p:nvPr/>
        </p:nvPicPr>
        <p:blipFill>
          <a:blip r:embed="rId4"/>
          <a:stretch/>
        </p:blipFill>
        <p:spPr>
          <a:xfrm>
            <a:off x="3780000" y="692280"/>
            <a:ext cx="2600280" cy="2160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C:\Users\rtumala\Pictures\OR Pictures for Lecture Purposes\3.jpg"/>
          <p:cNvPicPr/>
          <p:nvPr/>
        </p:nvPicPr>
        <p:blipFill>
          <a:blip r:embed="rId5"/>
          <a:srcRect l="1220" t="-16661" r="1220" b="10005"/>
          <a:stretch/>
        </p:blipFill>
        <p:spPr>
          <a:xfrm>
            <a:off x="458640" y="-100080"/>
            <a:ext cx="3413160" cy="2927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C:\Users\rtumala\Pictures\OR Pictures for Lecture Purposes\2.JPG"/>
          <p:cNvPicPr/>
          <p:nvPr/>
        </p:nvPicPr>
        <p:blipFill>
          <a:blip r:embed="rId6"/>
          <a:stretch/>
        </p:blipFill>
        <p:spPr>
          <a:xfrm>
            <a:off x="3368520" y="2913120"/>
            <a:ext cx="2787840" cy="33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293"/>
                </a:solidFill>
                <a:latin typeface="Arial"/>
              </a:rPr>
              <a:t>Postoperative Phase</a:t>
            </a: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dmission to the recovery roo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aintain airway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onitor vital sign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ssess effects of anesthesi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ssess for complications of surgery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ovide comfort and pain relief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nds with follow-up evaluation in clinical setting or hom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2" descr="C:\Users\rtumala\Pictures\OR Pictures for Lecture Purposes\postop1.jpg"/>
          <p:cNvPicPr/>
          <p:nvPr/>
        </p:nvPicPr>
        <p:blipFill>
          <a:blip r:embed="rId1"/>
          <a:stretch/>
        </p:blipFill>
        <p:spPr>
          <a:xfrm>
            <a:off x="506520" y="851040"/>
            <a:ext cx="3311280" cy="2073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Users\rtumala\Pictures\OR Pictures for Lecture Purposes\postop2.jpg"/>
          <p:cNvPicPr/>
          <p:nvPr/>
        </p:nvPicPr>
        <p:blipFill>
          <a:blip r:embed="rId2"/>
          <a:stretch/>
        </p:blipFill>
        <p:spPr>
          <a:xfrm>
            <a:off x="3708360" y="830160"/>
            <a:ext cx="1857240" cy="2467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C:\Users\rtumala\Pictures\OR Pictures for Lecture Purposes\postop3.jpg"/>
          <p:cNvPicPr/>
          <p:nvPr/>
        </p:nvPicPr>
        <p:blipFill>
          <a:blip r:embed="rId3"/>
          <a:stretch/>
        </p:blipFill>
        <p:spPr>
          <a:xfrm>
            <a:off x="5565600" y="836640"/>
            <a:ext cx="3110040" cy="2087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C:\Users\rtumala\Pictures\OR Pictures for Lecture Purposes\postop4.jpg"/>
          <p:cNvPicPr/>
          <p:nvPr/>
        </p:nvPicPr>
        <p:blipFill>
          <a:blip r:embed="rId4"/>
          <a:stretch/>
        </p:blipFill>
        <p:spPr>
          <a:xfrm>
            <a:off x="506520" y="3068640"/>
            <a:ext cx="3921120" cy="3156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C:\Users\rtumala\Pictures\OR Pictures for Lecture Purposes\postop5.jpg"/>
          <p:cNvPicPr/>
          <p:nvPr/>
        </p:nvPicPr>
        <p:blipFill>
          <a:blip r:embed="rId5"/>
          <a:stretch/>
        </p:blipFill>
        <p:spPr>
          <a:xfrm>
            <a:off x="4500720" y="3068640"/>
            <a:ext cx="4248000" cy="31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fd293"/>
                </a:solidFill>
                <a:latin typeface="Arial"/>
              </a:rPr>
              <a:t>Nursing management in the post anesthesia care unit</a:t>
            </a:r>
            <a:r>
              <a:rPr b="1" i="1" lang="en-US" sz="4000" spc="-1" strike="noStrike">
                <a:solidFill>
                  <a:srgbClr val="dfd293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-Assessing the pati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quent assessment of the patient oxygen saturation, pulse volume and regularity, depth and nature of respiration, skin color ,depth of consciousn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I- Maintaining a patent airwa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−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imary objectives are to maintain pulmonary ventilation and prevent hypoxia and hypercapen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−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rse applies oxygen, and assesses respiratory rate and  depth, oxygen satur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5840" y="7045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Arial"/>
              </a:rPr>
              <a:t>Purposes of surgery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23640" y="1934640"/>
            <a:ext cx="85690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gnostic→e.g. Biops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­Exploratory→e.g. laparoto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­Curative →e.g. excision of a tumor or an inflamed      appendi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nstructive or cosmetic → e.g.mammoplas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lliative→ relieve of symptoms as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fd293"/>
                </a:solidFill>
                <a:latin typeface="Arial"/>
              </a:rPr>
              <a:t>Nursing management in the post anesthesia care unit</a:t>
            </a:r>
            <a:r>
              <a:rPr b="1" i="1" lang="en-US" sz="4000" spc="-1" strike="noStrike">
                <a:solidFill>
                  <a:srgbClr val="dfd293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III- Maintaining cardiovascular stabilit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−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urse assesses the patient’s mental status, vital signs,  cardiac rhythm, skin temperature, color and urine outp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−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ntral venous pressure, arterial lines and pulmonary artery press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−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imary cardiovascular complications include hypotension, shock, hemorrhage, hypertension and dysarrythmi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fd293"/>
                </a:solidFill>
                <a:latin typeface="Arial"/>
              </a:rPr>
              <a:t>Nursing management in the post anesthesia care unit</a:t>
            </a:r>
            <a:r>
              <a:rPr b="1" i="1" lang="en-US" sz="4000" spc="-1" strike="noStrike">
                <a:solidFill>
                  <a:srgbClr val="dfd293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V- Relieving pain and anxiet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−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ioid analgesi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V- Assessing and managing the surgical si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−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urgical site is observed for bleeding, type and integrity of dressing and drai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VI- Assessing and managing gastrointestinal function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−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usea and vomiting are common after anesthes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−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ck of peristalsis mov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fd293"/>
                </a:solidFill>
                <a:latin typeface="Arial"/>
              </a:rPr>
              <a:t>Nursing management in the post anesthesia care unit</a:t>
            </a:r>
            <a:r>
              <a:rPr b="1" i="1" lang="en-US" sz="4000" spc="-1" strike="noStrike">
                <a:solidFill>
                  <a:srgbClr val="dfd293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II- Assessing and managing voluntary voidi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ine retention after surgery can occur for a verity of reas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ioids and anesthesia interfere with the perception of bladder fullnes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Abdominal, pelvic ,hip may increase the like hood of retention secondary to pa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III- Encourage activ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surgical are encouraged to be out of bed as soon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sible. Early ambulation reduces the incidence of pos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rative complication as ,atelectasis ,pneumonia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astrointestinal discomfort and circulatory probl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dfd293"/>
                </a:solidFill>
                <a:latin typeface="Arial"/>
              </a:rPr>
              <a:t>Post Operative Complication</a:t>
            </a:r>
            <a:r>
              <a:rPr b="1" i="1" lang="en-US" sz="4400" spc="-1" strike="noStrike">
                <a:solidFill>
                  <a:srgbClr val="dfd293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1- Shock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the response of the body to a decrease in the circulating volume of blood, tissue perfusion impaired, cellular hypoxia and deat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2- Hemorrhag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the escape of blood from a blood vess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3- Deep vein thrombosis. (DVT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cur in pelvic vein or in lower extremities, and it’s comm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 hip surger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dfd293"/>
                </a:solidFill>
                <a:latin typeface="Arial"/>
              </a:rPr>
              <a:t>Post Operative Complication</a:t>
            </a:r>
            <a:r>
              <a:rPr b="1" i="1" lang="en-US" sz="4400" spc="-1" strike="noStrike">
                <a:solidFill>
                  <a:srgbClr val="dfd293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4- Pulmonary embolis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’s the obstruction of one or more pulmonary arterioles by an embolus originating some where in the venous system or in the right side of hea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5- Urinary Reten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6- Intestinal obstru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 in partial or complete impairment to the forward flow of intestinal cont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fd293"/>
                </a:solidFill>
                <a:latin typeface="Arial"/>
              </a:rPr>
              <a:t>Potential Intraoperative complication</a:t>
            </a:r>
            <a:r>
              <a:rPr b="0" lang="en-GB" sz="4000" spc="-1" strike="noStrike">
                <a:solidFill>
                  <a:srgbClr val="dfd293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Nausea and vomi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naphylaxis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Hypoxia and other respiratory compl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Hypotherm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4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Arial"/>
              </a:rPr>
              <a:t>Categories of surgery</a:t>
            </a:r>
            <a:br>
              <a:rPr sz="4000"/>
            </a:b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79280" y="1285920"/>
            <a:ext cx="87854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mergency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t be performed immediate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ain lif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ain organ or limb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p hemorrhage (Intestinal obstruction/Gunshot &amp; stab wounds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Urgent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t be performed within 24 to 48 hours(Bleeding of duodenal ulcer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lanned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eduled weeks or months ahead of the proposed operation (cataract removal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lectiv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absolutely necessary (hernia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Optional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ested by the person (Mammoplasty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9680" y="115560"/>
            <a:ext cx="8319960" cy="17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dfd293"/>
                </a:solidFill>
                <a:latin typeface="Arial"/>
              </a:rPr>
              <a:t>Risk factors for surgical complications</a:t>
            </a:r>
            <a:r>
              <a:rPr b="1" lang="en-US" sz="4900" spc="-1" strike="noStrike">
                <a:solidFill>
                  <a:srgbClr val="dfd293"/>
                </a:solidFill>
                <a:latin typeface="Arial"/>
              </a:rPr>
              <a:t>:</a:t>
            </a:r>
            <a:endParaRPr b="0" lang="en-US" sz="49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95280" y="1934640"/>
            <a:ext cx="84247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, obesity, malnutrition, immobility , hypovolemia ,       infection, pregnant, diabetes mellitus, hepatic disease,      </a:t>
            </a:r>
            <a:r>
              <a:rPr b="0" lang="ar-EG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cardiovascular disease, renal disease and pulmonary   disea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ure of condition (Malignant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ion of condition (Heart/Bra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50920" y="26028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V-Nursing inter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- Psychological Aspec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explanations or printed information about health care facility routines &amp; visiting hours &amp; meal ti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in the procedures involved in the upcoming surgery (Complete idea of what the • pre, intra &amp; post operative course entails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e the person who is to undergo a major surgical procedure to people who have successfully recovered from this opera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s to relieve anxie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285840"/>
            <a:ext cx="8229600" cy="60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formed Consent 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nyone undergoing surgery must   sign an operative permit. It protects the health care facility staff from legal ac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hysiologic Aspect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efore the day of surgery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t any dietary deficien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 an obese person's weigh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t fluid &amp; electrolyte imbalanc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ore adequate blood volume with blood transfus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at chronic diseas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e infections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571680"/>
            <a:ext cx="8229600" cy="57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paring the person the evening before surger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gienic care ( bathing or scrubbing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kin preparation( shav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 observation of the surgical site. (note cuts or break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ricting food &amp; fluid eight to ten hours preop. NPO after midn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avenous infusions may receive for debilitated or malnourished pat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mas not routinely ordered except for G.I.T 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G tube sometimes is inserted the evening before or the morning of surg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17:16:41Z</dcterms:created>
  <dc:creator>user</dc:creator>
  <dc:description/>
  <dc:language>en-US</dc:language>
  <cp:lastModifiedBy>Almomani</cp:lastModifiedBy>
  <cp:lastPrinted>2013-02-19T06:29:51Z</cp:lastPrinted>
  <dcterms:modified xsi:type="dcterms:W3CDTF">2015-08-31T04:31:03Z</dcterms:modified>
  <cp:revision>30</cp:revision>
  <dc:subject/>
  <dc:title>Pre and Post Operative Nursing Management</dc:title>
</cp:coreProperties>
</file>