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CAF5-283B-4FBB-A9C4-27D0714B7BA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9F3F-9A6D-4681-ABFD-BC4C4843483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1D6C-58B3-45BA-A728-F171C2FC221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3989-3496-4FFC-B713-1FDDB4E3FE7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AA71-F32D-4D88-BC2D-026805A1F84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C879-787C-4AA0-A67C-56EBCB99B8B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C0EC-9EC5-41E5-BBC8-4A07088785A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7272-308F-4BCA-B010-E76993EDF54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7A4A-3B42-4ADA-9971-0FE6120192F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6628-3CC3-4983-8BC4-0C8179D6907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2398-8C81-4CE4-B68E-6AAF4DEA96D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8080-33C7-4AEF-BB70-A17B45AAB41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6B93-C53C-4759-924F-AA6446E0BE8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62BD-6F14-49D0-8FE5-074865842D0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FA70-39E9-4B21-849C-7462F73A8E3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7539-874E-4B57-906D-51BD847F136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F408-FDEF-4690-B486-E5FAE9B1722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5B3-E1D4-47AD-A072-5152470B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5DF-144B-4863-9AE7-A0102601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EDE-AE5D-4B29-8D60-EE32263F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9816-0394-43E8-AD80-B9444869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444-2152-4E1C-BA4D-D0F4148A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EC7A-5761-4E0D-8E6D-D1F6DA46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8EB-3A4C-47AE-A9CB-DCB9DD61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8E4-8AFC-43E7-B8F0-30322C12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9F16-7C62-40C4-80A8-D07F939F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DEE-972F-4DD4-963F-7F588222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0024-7DA2-45C8-9CA5-90FE351D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644-2A3C-452E-BD96-5BDB5960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1BDA-C12E-409C-ADC8-7EBCB351696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King Saud University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College of Nursing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Adult Nursing (NUR 316)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Pre, Intra and Post Operative Nursing Managemen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400" y="1285920"/>
            <a:ext cx="825804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 colored nail po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 the person in donning a hospital gown, ca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for laboratory 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anesthetic medication given e,g. 1 gram clafora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8548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-operative teach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ep breathing and coughing exercises To prevent pneum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 spirome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ing &amp; moving, leg exercise to prevent  DV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ting out of b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C:\Users\rtumala\Desktop\117882.jpg"/>
          <p:cNvPicPr/>
          <p:nvPr/>
        </p:nvPicPr>
        <p:blipFill>
          <a:blip r:embed="rId1"/>
          <a:stretch/>
        </p:blipFill>
        <p:spPr>
          <a:xfrm>
            <a:off x="3564000" y="3141720"/>
            <a:ext cx="2425680" cy="3189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rtumala\Desktop\en3016156.jpg"/>
          <p:cNvPicPr/>
          <p:nvPr/>
        </p:nvPicPr>
        <p:blipFill>
          <a:blip r:embed="rId2"/>
          <a:stretch/>
        </p:blipFill>
        <p:spPr>
          <a:xfrm>
            <a:off x="6156360" y="3152880"/>
            <a:ext cx="2768400" cy="3178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rtumala\Desktop\8250325342_1953d0a18f_z.jpg"/>
          <p:cNvPicPr/>
          <p:nvPr/>
        </p:nvPicPr>
        <p:blipFill>
          <a:blip r:embed="rId3"/>
          <a:stretch/>
        </p:blipFill>
        <p:spPr>
          <a:xfrm>
            <a:off x="684360" y="3726000"/>
            <a:ext cx="2660400" cy="26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68360" y="2924280"/>
            <a:ext cx="822960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18_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Preoperative Preparations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C:\Users\rtumala\Pictures\OR Pictures for Lecture Purposes\preop6.jpg"/>
          <p:cNvPicPr/>
          <p:nvPr/>
        </p:nvPicPr>
        <p:blipFill>
          <a:blip r:embed="rId1"/>
          <a:stretch/>
        </p:blipFill>
        <p:spPr>
          <a:xfrm>
            <a:off x="611280" y="1628640"/>
            <a:ext cx="2933640" cy="1562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rtumala\Pictures\OR Pictures for Lecture Purposes\preop5.jpg"/>
          <p:cNvPicPr/>
          <p:nvPr/>
        </p:nvPicPr>
        <p:blipFill>
          <a:blip r:embed="rId2"/>
          <a:stretch/>
        </p:blipFill>
        <p:spPr>
          <a:xfrm>
            <a:off x="3492360" y="1484280"/>
            <a:ext cx="1981440" cy="2305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rtumala\Pictures\OR Pictures for Lecture Purposes\preop4.jpg"/>
          <p:cNvPicPr/>
          <p:nvPr/>
        </p:nvPicPr>
        <p:blipFill>
          <a:blip r:embed="rId3"/>
          <a:stretch/>
        </p:blipFill>
        <p:spPr>
          <a:xfrm>
            <a:off x="5473800" y="1628640"/>
            <a:ext cx="3058920" cy="2036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:\Users\rtumala\Pictures\OR Pictures for Lecture Purposes\preop2.jpg"/>
          <p:cNvPicPr/>
          <p:nvPr/>
        </p:nvPicPr>
        <p:blipFill>
          <a:blip r:embed="rId4"/>
          <a:stretch/>
        </p:blipFill>
        <p:spPr>
          <a:xfrm>
            <a:off x="395280" y="3357720"/>
            <a:ext cx="2789280" cy="208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C:\Users\rtumala\Pictures\OR Pictures for Lecture Purposes\preop1.jpg"/>
          <p:cNvPicPr/>
          <p:nvPr/>
        </p:nvPicPr>
        <p:blipFill>
          <a:blip r:embed="rId5"/>
          <a:stretch/>
        </p:blipFill>
        <p:spPr>
          <a:xfrm>
            <a:off x="3059280" y="3789360"/>
            <a:ext cx="3457440" cy="2095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C:\Users\rtumala\Pictures\OR Pictures for Lecture Purposes\preop3.jpg"/>
          <p:cNvPicPr/>
          <p:nvPr/>
        </p:nvPicPr>
        <p:blipFill>
          <a:blip r:embed="rId6"/>
          <a:stretch/>
        </p:blipFill>
        <p:spPr>
          <a:xfrm>
            <a:off x="6253200" y="3665520"/>
            <a:ext cx="2647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Intraoperative Phase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patient is transferred to operating room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for patient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 aseptic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surgeon with supplies and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Surgical Team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C:\Users\rtumala\Pictures\OR Pictures for Lecture Purposes\1.jpg"/>
          <p:cNvPicPr/>
          <p:nvPr/>
        </p:nvPicPr>
        <p:blipFill>
          <a:blip r:embed="rId1"/>
          <a:stretch/>
        </p:blipFill>
        <p:spPr>
          <a:xfrm>
            <a:off x="826920" y="1773360"/>
            <a:ext cx="7490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Intraoperative nursing management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148428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-Nurse's roles in the operating room a.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irculating nurse b.            Scrub nurs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-Circulating nu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pares operating room with necessary equipment 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pplies and ensures that equipment is function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range sterile and nonsterile supplies; opens sterile supplies for       scrub nurs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nds for client at proper tim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sits with client preoperatively; explains role, verifies operative        permit, identifies client, and answers any question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firms client's allergi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cks medical record for completenes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0920" y="69192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in safe transfer of client to operating room t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ons client on operating room table in accordance with       type of procedure, and surgeon's prefer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s sponges, needles, and instruments with scrub nurse       before surge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scrub nurse and surgeons by tying gowns and                  preparing client's sk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scrub nurse in arranging tables to create sterile fie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s continuous observations during sur­gery to                anticipate needs of client, scrub nurse, sur­geons, and             anesthesiolog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supplies to scrub nurse as need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rtumala\Pictures\OR Pictures for Lecture Purposes\Counting of Instruments.jpg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rtumala\Pictures\OR Pictures for Lecture Purposes\Major Tray Set-up.jpg"/>
          <p:cNvPicPr/>
          <p:nvPr/>
        </p:nvPicPr>
        <p:blipFill>
          <a:blip r:embed="rId1"/>
          <a:stretch/>
        </p:blipFill>
        <p:spPr>
          <a:xfrm>
            <a:off x="949320" y="692280"/>
            <a:ext cx="7245360" cy="54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Pre, Intra and Post Operative Nursing Managemen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</a:rPr>
              <a:t>Perioperative Period: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that constitute the surgical experience, include the preoperative, intraoperative, postoperative ph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Arial"/>
              </a:rPr>
              <a:t>Preoperative Phas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he time from when decision for surgical intervention is made to when the patient is transferred to the operating room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Arial"/>
              </a:rPr>
              <a:t>Intaroperative Phas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riod of time from when the patient is transferred to the operating room table to when he or she is admitted to the postanesthesia care un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Arial"/>
              </a:rPr>
              <a:t>Postoperative Phas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riod of time that begins with the admission of the patient to the postanesthesia care unit and ends after follow-up evaluation in the clinical setting or h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rtumala\Pictures\OR Pictures for Lecture Purposes\10.jpg"/>
          <p:cNvPicPr/>
          <p:nvPr/>
        </p:nvPicPr>
        <p:blipFill>
          <a:blip r:embed="rId1"/>
          <a:stretch/>
        </p:blipFill>
        <p:spPr>
          <a:xfrm>
            <a:off x="1554120" y="836640"/>
            <a:ext cx="603576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rtumala\Pictures\OR Pictures for Lecture Purposes\11.jpg"/>
          <p:cNvPicPr/>
          <p:nvPr/>
        </p:nvPicPr>
        <p:blipFill>
          <a:blip r:embed="rId1"/>
          <a:stretch/>
        </p:blipFill>
        <p:spPr>
          <a:xfrm>
            <a:off x="1547640" y="620640"/>
            <a:ext cx="603432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rtumala\Pictures\OR Pictures for Lecture Purposes\8.jpg"/>
          <p:cNvPicPr/>
          <p:nvPr/>
        </p:nvPicPr>
        <p:blipFill>
          <a:blip r:embed="rId1"/>
          <a:stretch/>
        </p:blipFill>
        <p:spPr>
          <a:xfrm>
            <a:off x="1258920" y="981000"/>
            <a:ext cx="6553080" cy="47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94920" y="549360"/>
            <a:ext cx="8209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s sterile field closely for any breaks in aseptic technique and repor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s for surgical specim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s operative record and nurses' no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s sponges, needles, and instruments when closure of         wound begi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s client to stretcher for transport to recovery ar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mpanies client to a recovery room and provides a repor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. Scrub nu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s surgical hand scru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s sterile gown and gloves asep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anges sterile supplies and instruments in manner prescribed for proced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s instruments for proper function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s sponges, needles, and instruments with circulating nur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wns and gloves surgeons as they enter operating ro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10484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with surgical draping of cli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s sterile fiel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es and corrects breaks in aseptic techniqu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s progress of surgical proced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s surgeon instruments, sponges, and necessary supplies during procedure"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s and handles surgical specimens correctl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es sponges, needles, and instruments so none will be misplaced or lost in woun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rtumala\Pictures\OR Pictures for Lecture Purposes\6.jpg"/>
          <p:cNvPicPr/>
          <p:nvPr/>
        </p:nvPicPr>
        <p:blipFill>
          <a:blip r:embed="rId1"/>
          <a:stretch/>
        </p:blipFill>
        <p:spPr>
          <a:xfrm>
            <a:off x="5959440" y="318960"/>
            <a:ext cx="2819520" cy="3122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rtumala\Pictures\OR Pictures for Lecture Purposes\5.jpg"/>
          <p:cNvPicPr/>
          <p:nvPr/>
        </p:nvPicPr>
        <p:blipFill>
          <a:blip r:embed="rId2"/>
          <a:stretch/>
        </p:blipFill>
        <p:spPr>
          <a:xfrm>
            <a:off x="6072120" y="3441600"/>
            <a:ext cx="2592360" cy="2651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rtumala\Pictures\OR Pictures for Lecture Purposes\4.jpg"/>
          <p:cNvPicPr/>
          <p:nvPr/>
        </p:nvPicPr>
        <p:blipFill>
          <a:blip r:embed="rId3"/>
          <a:stretch/>
        </p:blipFill>
        <p:spPr>
          <a:xfrm>
            <a:off x="695160" y="2349360"/>
            <a:ext cx="2940120" cy="374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rtumala\Pictures\OR Pictures for Lecture Purposes\7.jpg"/>
          <p:cNvPicPr/>
          <p:nvPr/>
        </p:nvPicPr>
        <p:blipFill>
          <a:blip r:embed="rId4"/>
          <a:stretch/>
        </p:blipFill>
        <p:spPr>
          <a:xfrm>
            <a:off x="3780000" y="692280"/>
            <a:ext cx="2600280" cy="216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Users\rtumala\Pictures\OR Pictures for Lecture Purposes\3.jpg"/>
          <p:cNvPicPr/>
          <p:nvPr/>
        </p:nvPicPr>
        <p:blipFill>
          <a:blip r:embed="rId5"/>
          <a:srcRect l="1220" t="-16661" r="1220" b="10005"/>
          <a:stretch/>
        </p:blipFill>
        <p:spPr>
          <a:xfrm>
            <a:off x="458640" y="-100080"/>
            <a:ext cx="3413160" cy="2927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:\Users\rtumala\Pictures\OR Pictures for Lecture Purposes\2.JPG"/>
          <p:cNvPicPr/>
          <p:nvPr/>
        </p:nvPicPr>
        <p:blipFill>
          <a:blip r:embed="rId6"/>
          <a:stretch/>
        </p:blipFill>
        <p:spPr>
          <a:xfrm>
            <a:off x="3368520" y="2913120"/>
            <a:ext cx="278784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Postoperative Phase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mission to the recovery roo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intain airwa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nitor vital sig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sess effects of anesthes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sess for complications of surger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vide comfort and pain relief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nds with follow-up evaluation in clinical setting or hom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C:\Users\rtumala\Pictures\OR Pictures for Lecture Purposes\postop1.jpg"/>
          <p:cNvPicPr/>
          <p:nvPr/>
        </p:nvPicPr>
        <p:blipFill>
          <a:blip r:embed="rId1"/>
          <a:stretch/>
        </p:blipFill>
        <p:spPr>
          <a:xfrm>
            <a:off x="506520" y="851040"/>
            <a:ext cx="3311280" cy="2073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rtumala\Pictures\OR Pictures for Lecture Purposes\postop2.jpg"/>
          <p:cNvPicPr/>
          <p:nvPr/>
        </p:nvPicPr>
        <p:blipFill>
          <a:blip r:embed="rId2"/>
          <a:stretch/>
        </p:blipFill>
        <p:spPr>
          <a:xfrm>
            <a:off x="3708360" y="830160"/>
            <a:ext cx="1857240" cy="2467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rtumala\Pictures\OR Pictures for Lecture Purposes\postop3.jpg"/>
          <p:cNvPicPr/>
          <p:nvPr/>
        </p:nvPicPr>
        <p:blipFill>
          <a:blip r:embed="rId3"/>
          <a:stretch/>
        </p:blipFill>
        <p:spPr>
          <a:xfrm>
            <a:off x="5565600" y="836640"/>
            <a:ext cx="3110040" cy="2087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Users\rtumala\Pictures\OR Pictures for Lecture Purposes\postop4.jpg"/>
          <p:cNvPicPr/>
          <p:nvPr/>
        </p:nvPicPr>
        <p:blipFill>
          <a:blip r:embed="rId4"/>
          <a:stretch/>
        </p:blipFill>
        <p:spPr>
          <a:xfrm>
            <a:off x="506520" y="3068640"/>
            <a:ext cx="3921120" cy="3156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rtumala\Pictures\OR Pictures for Lecture Purposes\postop5.jpg"/>
          <p:cNvPicPr/>
          <p:nvPr/>
        </p:nvPicPr>
        <p:blipFill>
          <a:blip r:embed="rId5"/>
          <a:stretch/>
        </p:blipFill>
        <p:spPr>
          <a:xfrm>
            <a:off x="4500720" y="3068640"/>
            <a:ext cx="424800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Nursing management in the post anesthesia care unit</a:t>
            </a: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-Assessing the pati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assessment of the patient oxygen saturation, pulse volume and regularity, depth and nature of respiration, skin color ,depth of conscious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I- Maintaining a patent airwa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imary objectives are to maintain pulmonary ventilation and prevent hypoxia and hypercape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rse applies oxygen, and assesses respiratory rate and  depth, oxygen satu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7045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Purposes of surge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3640" y="1934640"/>
            <a:ext cx="8569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tic→e.g. Biop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­Exploratory→e.g. laparot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­Curative →e.g. excision of a tumor or an inflamed      appendi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structive or cosmetic → e.g.mammopla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liative→ relieve of symptoms as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Nursing management in the post anesthesia care unit</a:t>
            </a: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II- Maintaining cardiovascular stabil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rse assesses the patient’s mental status, vital signs,  cardiac rhythm, skin temperature, color and urine outp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 venous pressure, arterial lines and pulmonary artery pres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mary cardiovascular complications include hypotension, shock, hemorrhage, hypertension and dysarrythm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Nursing management in the post anesthesia care unit</a:t>
            </a: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V- Relieving pain and anxie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ioid analges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- Assessing and managing the surgical si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rgical site is observed for bleeding, type and integrity of dressing and dra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I- Assessing and managing gastrointestinal function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 and vomiting are common after anesthes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of peristalsis mo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Nursing management in the post anesthesia care unit</a:t>
            </a: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I- Assessing and managing voluntary void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ine retention after surgery can occur for a verity of reas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ioids and anesthesia interfere with the perception of bladder fulln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bdominal, pelvic ,hip may increase the like hood of retention secondary to p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II- Encourage activ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surgical are encouraged to be out of bed as soon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. Early ambulation reduces the incidence of po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tive complication as ,atelectasis ,pneumoni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strointestinal discomfort and circulatory probl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dfd293"/>
                </a:solidFill>
                <a:latin typeface="Arial"/>
              </a:rPr>
              <a:t>Post Operative Complication</a:t>
            </a:r>
            <a:r>
              <a:rPr b="1" i="1" lang="en-US" sz="44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1- Shock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response of the body to a decrease in the circulating volume of blood, tissue perfusion impaired, cellular hypoxia and dea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- Hemorrh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escape of blood from a blood vess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- Deep vein thrombosis. (DV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r in pelvic vein or in lower extremities, and it’s comm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hip surg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dfd293"/>
                </a:solidFill>
                <a:latin typeface="Arial"/>
              </a:rPr>
              <a:t>Post Operative Complication</a:t>
            </a:r>
            <a:r>
              <a:rPr b="1" i="1" lang="en-US" sz="44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4- Pulmonary embo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the obstruction of one or more pulmonary arterioles by an embolus originating some where in the venous system or in the right side of hea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5- Urinary Re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6- Intestinal obstr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 in partial or complete impairment to the forward flow of intestinal cont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293"/>
                </a:solidFill>
                <a:latin typeface="Arial"/>
              </a:rPr>
              <a:t>Potential Intraoperative complication</a:t>
            </a:r>
            <a:r>
              <a:rPr b="0" lang="en-GB" sz="40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Nausea and vomi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naphylaxis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ypoxia and other respiratory compl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ypotherm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Categories of surgery</a:t>
            </a:r>
            <a:br>
              <a:rPr sz="4000"/>
            </a:b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1285920"/>
            <a:ext cx="87854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mergency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be performed immediate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 lif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 organ or limb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hemorrhage (Intestinal obstruction/Gunshot &amp; stab wound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rgent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be performed within 24 to 48 hours(Bleeding of duodenal ulcer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lanned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d weeks or months ahead of the proposed operation (cataract removal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lectiv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bsolutely necessary (hernia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ed by the person (Mammoplasty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9680" y="115560"/>
            <a:ext cx="831996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dfd293"/>
                </a:solidFill>
                <a:latin typeface="Arial"/>
              </a:rPr>
              <a:t>Risk factors for surgical complications</a:t>
            </a:r>
            <a:r>
              <a:rPr b="1" lang="en-US" sz="49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9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934640"/>
            <a:ext cx="8424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, obesity, malnutrition, immobility , hypovolemia ,       infection, pregnant, diabetes mellitus, hepatic disease,      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ardiovascular disease, renal disease and pulmonary   dis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e of condition (Malignant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ion of condition (Heart/Bra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920" y="26028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V-Nursing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- Psychological Aspe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explanations or printed information about health care facility routines &amp; visiting hours &amp; meal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the procedures involved in the upcoming surgery (Complete idea of what the • pre, intra &amp; post operative course entail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the person who is to undergo a major surgical procedure to people who have successfully recovered from this oper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s to relieve anxie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285840"/>
            <a:ext cx="8229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formed Consent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yone undergoing surgery must   sign an operative permit. It protects the health care facility staff from legal a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hysiologic Aspect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efore the day of surger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t any dietary defici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an obese person's weigh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t fluid &amp; electrolyte imbalan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ore adequate blood volume with blood transfus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chronic disea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e infections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571680"/>
            <a:ext cx="822960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aring the person the evening before surge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gienic care ( bathing or scrubbing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n preparation( shav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 observation of the surgical site. (note cuts or brea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ing food &amp; fluid eight to ten hours preop. NPO after midn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venous infusions may receive for debilitated or malnourished pat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mas not routinely ordered except for G.I.T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G tube sometimes is inserted the evening before or the morning of surg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7:16:41Z</dcterms:created>
  <dc:creator>user</dc:creator>
  <dc:description/>
  <dc:language>en-US</dc:language>
  <cp:lastModifiedBy>Almomani</cp:lastModifiedBy>
  <cp:lastPrinted>2013-02-19T06:29:51Z</cp:lastPrinted>
  <dcterms:modified xsi:type="dcterms:W3CDTF">2015-08-31T04:31:03Z</dcterms:modified>
  <cp:revision>30</cp:revision>
  <dc:subject/>
  <dc:title>Pre and Post Operative Nursing Management</dc:title>
</cp:coreProperties>
</file>