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717F-29D3-43D9-B6B2-77DB546823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6CC5-129B-47DB-BFFD-B1A0A109769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6187-F39C-43A0-8D15-FF6FA60139B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11B9-8BA0-4628-8D35-2003DF7334E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925C-1D72-4FE7-BB76-9C7777D1530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3EC0-1DA4-460A-92EA-34B1C0C5D16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293D-6266-44D7-BE77-E920C96DB60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7CCD-5D20-4975-BFC3-4C26B554EE7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EE9D-4B38-402C-BA83-C79631D545C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3CA6-FACD-4A4F-9368-B9A617D166F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BAE4-8A85-4391-97CE-8A50846A989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8107-5DBE-431E-BD11-BC6D7E1B3FF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D06A-1B88-4C3D-8C24-64C879A4144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A7DE-4E0B-49F2-BC43-4F5E20D6C1A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5FC7-D818-42F4-A416-9635CB1CDB0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4D9D-3113-4261-9C72-712F0CB7724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4A5A-F7BB-4530-9001-B709386E30B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DD1-CB5D-44DB-9163-9718BE76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9AC-58B4-4CC4-8946-31736F74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B85-677C-4DEA-86B7-A6004A26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210-E920-41AC-8852-7C598DA5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325-7B64-4A1E-AD7D-B4A98516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1E8-0229-4EDB-A183-10074FA9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621-052A-4F7F-94AC-C5EE630B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553-4B87-4716-B61E-18F9C75C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719-8A5B-418C-84BD-D9784ADE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C1D-2B81-4E4D-9B29-8AABB90A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588-AC8A-4B45-9CAC-5DE64FDE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866-7A85-49D6-B88A-0216AA48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3B9B-483F-46FC-9E14-6B15654CC21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King Saud Universit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College of Nursing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Adult Nursing (NUR 316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Pre, Intra and Post Operative Nursing Manageme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1285920"/>
            <a:ext cx="8258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 colored nail po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 the person in donning a hospital gown, ca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for laboratory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anesthetic medication given e,g. 1 gram clafor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8548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-operative teach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 breathing and coughing exercises To prevent 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 spiro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ing &amp; moving, leg exercise to prevent  DV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ting out of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C:\Users\rtumala\Desktop\117882.jpg"/>
          <p:cNvPicPr/>
          <p:nvPr/>
        </p:nvPicPr>
        <p:blipFill>
          <a:blip r:embed="rId1"/>
          <a:stretch/>
        </p:blipFill>
        <p:spPr>
          <a:xfrm>
            <a:off x="3564000" y="3141720"/>
            <a:ext cx="2425680" cy="3189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rtumala\Desktop\en3016156.jpg"/>
          <p:cNvPicPr/>
          <p:nvPr/>
        </p:nvPicPr>
        <p:blipFill>
          <a:blip r:embed="rId2"/>
          <a:stretch/>
        </p:blipFill>
        <p:spPr>
          <a:xfrm>
            <a:off x="6156360" y="3152880"/>
            <a:ext cx="2768400" cy="317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rtumala\Desktop\8250325342_1953d0a18f_z.jpg"/>
          <p:cNvPicPr/>
          <p:nvPr/>
        </p:nvPicPr>
        <p:blipFill>
          <a:blip r:embed="rId3"/>
          <a:stretch/>
        </p:blipFill>
        <p:spPr>
          <a:xfrm>
            <a:off x="684360" y="3726000"/>
            <a:ext cx="266040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68360" y="2924280"/>
            <a:ext cx="82296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18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Preoperative Preparations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C:\Users\rtumala\Pictures\OR Pictures for Lecture Purposes\preop6.jpg"/>
          <p:cNvPicPr/>
          <p:nvPr/>
        </p:nvPicPr>
        <p:blipFill>
          <a:blip r:embed="rId1"/>
          <a:stretch/>
        </p:blipFill>
        <p:spPr>
          <a:xfrm>
            <a:off x="611280" y="1628640"/>
            <a:ext cx="2933640" cy="156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rtumala\Pictures\OR Pictures for Lecture Purposes\preop5.jpg"/>
          <p:cNvPicPr/>
          <p:nvPr/>
        </p:nvPicPr>
        <p:blipFill>
          <a:blip r:embed="rId2"/>
          <a:stretch/>
        </p:blipFill>
        <p:spPr>
          <a:xfrm>
            <a:off x="3492360" y="1484280"/>
            <a:ext cx="198144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rtumala\Pictures\OR Pictures for Lecture Purposes\preop4.jpg"/>
          <p:cNvPicPr/>
          <p:nvPr/>
        </p:nvPicPr>
        <p:blipFill>
          <a:blip r:embed="rId3"/>
          <a:stretch/>
        </p:blipFill>
        <p:spPr>
          <a:xfrm>
            <a:off x="5473800" y="1628640"/>
            <a:ext cx="3058920" cy="2036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rtumala\Pictures\OR Pictures for Lecture Purposes\preop2.jpg"/>
          <p:cNvPicPr/>
          <p:nvPr/>
        </p:nvPicPr>
        <p:blipFill>
          <a:blip r:embed="rId4"/>
          <a:stretch/>
        </p:blipFill>
        <p:spPr>
          <a:xfrm>
            <a:off x="395280" y="3357720"/>
            <a:ext cx="2789280" cy="208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C:\Users\rtumala\Pictures\OR Pictures for Lecture Purposes\preop1.jpg"/>
          <p:cNvPicPr/>
          <p:nvPr/>
        </p:nvPicPr>
        <p:blipFill>
          <a:blip r:embed="rId5"/>
          <a:stretch/>
        </p:blipFill>
        <p:spPr>
          <a:xfrm>
            <a:off x="3059280" y="3789360"/>
            <a:ext cx="3457440" cy="2095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Users\rtumala\Pictures\OR Pictures for Lecture Purposes\preop3.jpg"/>
          <p:cNvPicPr/>
          <p:nvPr/>
        </p:nvPicPr>
        <p:blipFill>
          <a:blip r:embed="rId6"/>
          <a:stretch/>
        </p:blipFill>
        <p:spPr>
          <a:xfrm>
            <a:off x="6253200" y="3665520"/>
            <a:ext cx="2647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Intraoperative Phase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patient is transferred to operating room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or patien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aseptic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surgeon with supplies and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Surgical Team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C:\Users\rtumala\Pictures\OR Pictures for Lecture Purposes\1.jpg"/>
          <p:cNvPicPr/>
          <p:nvPr/>
        </p:nvPicPr>
        <p:blipFill>
          <a:blip r:embed="rId1"/>
          <a:stretch/>
        </p:blipFill>
        <p:spPr>
          <a:xfrm>
            <a:off x="826920" y="1773360"/>
            <a:ext cx="749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ntraoperative nursing management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484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-Nurse's roles in the operating room a.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irculating nurse b.            Scrub nur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-Circulating nu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pares operating room with necessary equipment 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lies and ensures that equipment is function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range sterile and nonsterile supplies; opens sterile supplies for       scrub nur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nds for client at proper tim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sits with client preoperatively; explains role, verifies operative        permit, identifies client, and answers any question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rms client's allergi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s medical record for complet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691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in safe transfer of client to operating room 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s client on operating room table in accordance with       type of procedure, and surgeon's prefe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ith scrub nurse       before surge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scrub nurse and surgeons by tying gowns and                  preparing client's sk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scrub nurse in arranging tables to create sterile fie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continuous observations during sur­gery to                anticipate needs of client, scrub nurse, sur­geons, and             anesthesiolog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supplies to scrub nurse as nee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rtumala\Pictures\OR Pictures for Lecture Purposes\Counting of Instruments.jpg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rtumala\Pictures\OR Pictures for Lecture Purposes\Major Tray Set-up.jpg"/>
          <p:cNvPicPr/>
          <p:nvPr/>
        </p:nvPicPr>
        <p:blipFill>
          <a:blip r:embed="rId1"/>
          <a:stretch/>
        </p:blipFill>
        <p:spPr>
          <a:xfrm>
            <a:off x="949320" y="692280"/>
            <a:ext cx="7245360" cy="54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Pre, Intra and Post Operative Nursing Manageme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</a:rPr>
              <a:t>Perioperative Period: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that constitute the surgical experience, include the preoperative, intraoperative, postoperative ph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Pre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time from when decision for surgical intervention is made to when the patient is transferred to the operating room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Intar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of time from when the patient is transferred to the operating room table to when he or she is admitted to the postanesthesia care un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Post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of time that begins with the admission of the patient to the postanesthesia care unit and ends after follow-up evaluation in the clinical setting or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rtumala\Pictures\OR Pictures for Lecture Purposes\10.jpg"/>
          <p:cNvPicPr/>
          <p:nvPr/>
        </p:nvPicPr>
        <p:blipFill>
          <a:blip r:embed="rId1"/>
          <a:stretch/>
        </p:blipFill>
        <p:spPr>
          <a:xfrm>
            <a:off x="1554120" y="836640"/>
            <a:ext cx="603576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rtumala\Pictures\OR Pictures for Lecture Purposes\11.jpg"/>
          <p:cNvPicPr/>
          <p:nvPr/>
        </p:nvPicPr>
        <p:blipFill>
          <a:blip r:embed="rId1"/>
          <a:stretch/>
        </p:blipFill>
        <p:spPr>
          <a:xfrm>
            <a:off x="1547640" y="620640"/>
            <a:ext cx="603432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rtumala\Pictures\OR Pictures for Lecture Purposes\8.jpg"/>
          <p:cNvPicPr/>
          <p:nvPr/>
        </p:nvPicPr>
        <p:blipFill>
          <a:blip r:embed="rId1"/>
          <a:stretch/>
        </p:blipFill>
        <p:spPr>
          <a:xfrm>
            <a:off x="1258920" y="981000"/>
            <a:ext cx="655308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4920" y="549360"/>
            <a:ext cx="8209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s sterile field closely for any breaks in aseptic technique and repo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s for surgical specim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s operative record and nurses' no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hen closure of         wound beg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s client to stretcher for transport to recovery ar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anies client to a recovery room and provides a re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. Scrub nu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s surgical hand scru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s sterile gown and gloves asep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nges sterile supplies and instruments in manner prescribed for proced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s instruments for proper functio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ith circulating nur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wns and gloves surgeons as they enter operating ro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10484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with surgical draping of cl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sterile fie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es and corrects breaks in aseptic techniqu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s progress of surgical proced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s surgeon instruments, sponges, and necessary supplies during procedure"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and handles surgical specimens correct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es sponges, needles, and instruments so none will be misplaced or lost in woun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rtumala\Pictures\OR Pictures for Lecture Purposes\6.jpg"/>
          <p:cNvPicPr/>
          <p:nvPr/>
        </p:nvPicPr>
        <p:blipFill>
          <a:blip r:embed="rId1"/>
          <a:stretch/>
        </p:blipFill>
        <p:spPr>
          <a:xfrm>
            <a:off x="5959440" y="318960"/>
            <a:ext cx="2819520" cy="3122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rtumala\Pictures\OR Pictures for Lecture Purposes\5.jpg"/>
          <p:cNvPicPr/>
          <p:nvPr/>
        </p:nvPicPr>
        <p:blipFill>
          <a:blip r:embed="rId2"/>
          <a:stretch/>
        </p:blipFill>
        <p:spPr>
          <a:xfrm>
            <a:off x="6072120" y="3441600"/>
            <a:ext cx="2592360" cy="265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rtumala\Pictures\OR Pictures for Lecture Purposes\4.jpg"/>
          <p:cNvPicPr/>
          <p:nvPr/>
        </p:nvPicPr>
        <p:blipFill>
          <a:blip r:embed="rId3"/>
          <a:stretch/>
        </p:blipFill>
        <p:spPr>
          <a:xfrm>
            <a:off x="695160" y="2349360"/>
            <a:ext cx="2940120" cy="374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rtumala\Pictures\OR Pictures for Lecture Purposes\7.jpg"/>
          <p:cNvPicPr/>
          <p:nvPr/>
        </p:nvPicPr>
        <p:blipFill>
          <a:blip r:embed="rId4"/>
          <a:stretch/>
        </p:blipFill>
        <p:spPr>
          <a:xfrm>
            <a:off x="3780000" y="692280"/>
            <a:ext cx="2600280" cy="216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Users\rtumala\Pictures\OR Pictures for Lecture Purposes\3.jpg"/>
          <p:cNvPicPr/>
          <p:nvPr/>
        </p:nvPicPr>
        <p:blipFill>
          <a:blip r:embed="rId5"/>
          <a:srcRect l="1220" t="-16661" r="1220" b="10005"/>
          <a:stretch/>
        </p:blipFill>
        <p:spPr>
          <a:xfrm>
            <a:off x="458640" y="-100080"/>
            <a:ext cx="3413160" cy="2927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Users\rtumala\Pictures\OR Pictures for Lecture Purposes\2.JPG"/>
          <p:cNvPicPr/>
          <p:nvPr/>
        </p:nvPicPr>
        <p:blipFill>
          <a:blip r:embed="rId6"/>
          <a:stretch/>
        </p:blipFill>
        <p:spPr>
          <a:xfrm>
            <a:off x="3368520" y="2913120"/>
            <a:ext cx="27878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Postoperative Phase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mission to the recovery roo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intain airwa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nitor vital sig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ess effects of anesthes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ess for complications of surge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vide comfort and pain relief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ds with follow-up evaluation in clinical setting or hom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C:\Users\rtumala\Pictures\OR Pictures for Lecture Purposes\postop1.jpg"/>
          <p:cNvPicPr/>
          <p:nvPr/>
        </p:nvPicPr>
        <p:blipFill>
          <a:blip r:embed="rId1"/>
          <a:stretch/>
        </p:blipFill>
        <p:spPr>
          <a:xfrm>
            <a:off x="506520" y="851040"/>
            <a:ext cx="3311280" cy="207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rtumala\Pictures\OR Pictures for Lecture Purposes\postop2.jpg"/>
          <p:cNvPicPr/>
          <p:nvPr/>
        </p:nvPicPr>
        <p:blipFill>
          <a:blip r:embed="rId2"/>
          <a:stretch/>
        </p:blipFill>
        <p:spPr>
          <a:xfrm>
            <a:off x="3708360" y="83016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rtumala\Pictures\OR Pictures for Lecture Purposes\postop3.jpg"/>
          <p:cNvPicPr/>
          <p:nvPr/>
        </p:nvPicPr>
        <p:blipFill>
          <a:blip r:embed="rId3"/>
          <a:stretch/>
        </p:blipFill>
        <p:spPr>
          <a:xfrm>
            <a:off x="5565600" y="836640"/>
            <a:ext cx="311004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rtumala\Pictures\OR Pictures for Lecture Purposes\postop4.jpg"/>
          <p:cNvPicPr/>
          <p:nvPr/>
        </p:nvPicPr>
        <p:blipFill>
          <a:blip r:embed="rId4"/>
          <a:stretch/>
        </p:blipFill>
        <p:spPr>
          <a:xfrm>
            <a:off x="506520" y="3068640"/>
            <a:ext cx="3921120" cy="3156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rtumala\Pictures\OR Pictures for Lecture Purposes\postop5.jpg"/>
          <p:cNvPicPr/>
          <p:nvPr/>
        </p:nvPicPr>
        <p:blipFill>
          <a:blip r:embed="rId5"/>
          <a:stretch/>
        </p:blipFill>
        <p:spPr>
          <a:xfrm>
            <a:off x="4500720" y="3068640"/>
            <a:ext cx="42480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-Assessing the pati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assessment of the patient oxygen saturation, pulse volume and regularity, depth and nature of respiration, skin color ,depth of conscious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I- Maintaining a patent airw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imary objectives are to maintain pulmonary ventilation and prevent hypoxia and hypercap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rse applies oxygen, and assesses respiratory rate and  depth, oxygen satu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Purposes of surge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3640" y="1934640"/>
            <a:ext cx="856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→e.g. Biop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­Exploratory→e.g. laparot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­Curative →e.g. excision of a tumor or an inflamed      appendi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ive or cosmetic → e.g.mammopl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→ relieve of symptoms as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II- Maintaining cardiovascular stabil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rse assesses the patient’s mental status, vital signs,  cardiac rhythm, skin temperature, color and urine out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venous pressure, arterial lines and pulmonary artery pres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cardiovascular complications include hypotension, shock, hemorrhage, hypertension and dysarrythm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V- Relieving pain and anxie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oid analge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- Assessing and managing the surgical s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rgical site is observed for bleeding, type and integrity of dressing and dr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I- Assessing and managing gastrointestinal function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 are common after anesthe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of peristalsis m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I- Assessing and managing voluntary void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ine retention after surgery can occur for a verity of reas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ioids and anesthesia interfere with the perception of bladder fulln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bdominal, pelvic ,hip may increase the like hood of retention secondary to 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II- Encourage activ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urgical are encouraged to be out of bed as soon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. Early ambulation reduces the incidence of p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ve complication as ,atelectasis ,pneumon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strointestinal discomfort and circulatory prob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Post Operative Complication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- Shoc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response of the body to a decrease in the circulating volume of blood, tissue perfusion impaired, cellular hypoxia and dea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- Hemorrh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escape of blood from a blood vess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- Deep vein thrombosis. (DV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 in pelvic vein or in lower extremities, and it’s comm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hip surg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Post Operative Complication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- Pulmonary embo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the obstruction of one or more pulmonary arterioles by an embolus originating some where in the venous system or in the right side of he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5- Urinary Re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6- Intestinal obstr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 in partial or complete impairment to the forward flow of intestinal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293"/>
                </a:solidFill>
                <a:latin typeface="Arial"/>
              </a:rPr>
              <a:t>Potential Intraoperative complication</a:t>
            </a:r>
            <a:r>
              <a:rPr b="0" lang="en-GB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aphylaxi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ypoxia and other respiratory compl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ypother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Categories of surgery</a:t>
            </a:r>
            <a:br>
              <a:rPr sz="40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1285920"/>
            <a:ext cx="8785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mergenc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performed immediat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 lif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 organ or limb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hemorrhage (Intestinal obstruction/Gunshot &amp; stab wound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rgen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performed within 24 to 48 hours(Bleeding of duodenal ulcer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lanne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d weeks or months ahead of the proposed operation (cataract removal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ect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bsolutely necessary (hernia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by the person (Mammoplasty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115560"/>
            <a:ext cx="831996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dfd293"/>
                </a:solidFill>
                <a:latin typeface="Arial"/>
              </a:rPr>
              <a:t>Risk factors for surgical complications</a:t>
            </a:r>
            <a:r>
              <a:rPr b="1" lang="en-US" sz="49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9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934640"/>
            <a:ext cx="8424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, obesity, malnutrition, immobility , hypovolemia ,       infection, pregnant, diabetes mellitus, hepatic disease,     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ardiovascular disease, renal disease and pulmonary   dis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e of condition (Malignan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 of condition (Heart/Bra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6028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V-Nursing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- Psychological Asp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explanations or printed information about health care facility routines &amp; visiting hours &amp; mea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he procedures involved in the upcoming surgery (Complete idea of what the • pre, intra &amp; post operative course entail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the person who is to undergo a major surgical procedure to people who have successfully recovered from this op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to relieve anxie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85840"/>
            <a:ext cx="8229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formed Consent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yone undergoing surgery must   sign an operative permit. It protects the health care facility staff from legal a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hysiologic Aspect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fore the day of surger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 any dietary defici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an obese person's weigh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 fluid &amp; electrolyte imbalan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adequate blood volume with blood transfu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chronic dise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e infections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ing the person the evening before surge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gienic care ( bathing or scrubbing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n preparation( shav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 observation of the surgical site. (note cuts or brea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ing food &amp; fluid eight to ten hours preop. NPO after midn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venous infusions may receive for debilitated or malnourished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mas not routinely ordered except for G.I.T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G tube sometimes is inserted the evening before or the morning of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16:41Z</dcterms:created>
  <dc:creator>user</dc:creator>
  <dc:description/>
  <dc:language>en-US</dc:language>
  <cp:lastModifiedBy>Almomani</cp:lastModifiedBy>
  <cp:lastPrinted>2013-02-19T06:29:51Z</cp:lastPrinted>
  <dcterms:modified xsi:type="dcterms:W3CDTF">2015-08-31T04:31:03Z</dcterms:modified>
  <cp:revision>30</cp:revision>
  <dc:subject/>
  <dc:title>Pre and Post Operative Nursing Management</dc:title>
</cp:coreProperties>
</file>