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AE6-4564-447F-BAAB-914BADE7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EEA-D2B0-4016-A67E-48B882E4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CFF-4301-40AB-983E-D8ABD4A0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44B-1378-45F9-950E-0AA6B47A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A79E-CC47-47F8-BB3E-9ED2E39B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C15C-8753-4054-84F5-50AF288B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B752-C1E7-4E0D-94D9-520FC6C0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33D0-40C7-4AA5-936F-E103C730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0604-B39F-430D-8C1B-325765D9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8859-4076-4524-885A-DB668A6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A86A-54A3-4A1A-8CE4-B17ADCED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26B-314E-4A70-A81D-A2F6FBDF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9A64-8A57-477D-A962-AC5E9016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5765-DF6B-4F44-B4E1-040980CC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01D8-0E3F-4B49-BEB4-7266F0B9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6D22-64B2-4C66-8566-248F05DC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69C4-567F-412F-8E9C-91D020B5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5A3-FF11-4868-992B-A2DA2F17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DF0-A7C3-4E8D-A16A-74B0D289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0C4-CFF2-471C-A142-A9597A4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F36-9DC7-4653-A980-AFCABF89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68B-57A4-401D-9462-7429001C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83E-F8F4-44C3-9D93-618F07D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37E-865E-4039-AEF0-18ECF2B0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BB73-F78B-41D4-BCF5-5776F96F5FB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C34B-B81F-4CAD-A3DE-20B0385154D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SYCHOLOG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cal and evolution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i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personality approaches differ according to unconscious v conscious, nature v nurture, freedom v determinism, stability v modifiability of person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t approach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ried to identify the most basic and relatively enduring dimensions along which people differ from one another-dimensions known as tra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kinds of traits (cardinal, central, secondar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 analysis used to identify 16 traits and three dimensions (extraversion, neuroticism, and psychoticis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e on observabl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ty is the sum of learned responses to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trast, cognitive-social approaches concentrate on the role of cognitions in determining person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tion to self-efficacy and reciprocal determinism in determining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cal and evolutionary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how personality are inheri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studies of children’s temperament suggest that there is a distinction between inhibited and uninhibited children, which is reflected in differences both in biological reactivity and in shy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istic approach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basic goodness of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sider the core of personality in terms of a person’s ability to change and impr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 of the need for positive regard suggests that a universal requirement to be loved and respected underlies person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rsonality assess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 tests are standard assessment tools that objectively measu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ust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le, measuring what they are trying to measure consistently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, measuring  what they are supposed to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Types Of Personality Measu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report measures ask people about a sample range of their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reports are used to infer the presence of particular personality characteri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ly used self-report measure is the Minnesota Multiphasic Personality Inventory-2(MMPI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PI-2 designed to differentiate people with specific sorts of psychological difficulties from normal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psychologists define and use the concept of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theories of freud and his successors tell us about the structure and development of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major aspects of trait, learning, biological and evolutionary, and humanistic approaches to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we most accurately assess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major types of personality measur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do psychologists define and use the concept of personality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onality refers to the relatively enduring characteristics t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fferentiate one person from an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them to act in a consistent and predictable man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in different situations and over extended periods of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the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psychoanalysts, much of behavior is caused by parts of personality that are found in the unconscious and of which we are una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ud’s theory suggest that personality is composed of the id, the ego, and the supere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 is the unorganized, inborn part of personality whose purpose is to immediately reduce tensions relating to hunger, sex, aggression, and other primitive impul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go restrains instinctual energy in order to maintain the safety of individual and to help the person to be a member of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perego represents the rights and wrongs of society and consists of conscience and the ego-id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ud’s psychoanalytic theory suggests that personality develops through a series of stages, each of which is associated with a major biological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al stage is the first period, occurring during the first year of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comes the anal stage, lasting from approximately age 1 to age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allic stage follows, with interest focusing on the gen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ge 5 or 6 near the end of the phallic stage, children experience the Oedipal conflict, a process through which they learn to identify with the same-sex parent by acting as much like that parent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follows a latency period lasting until puberty, after which people move into the genital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mechanisms, used for dealing with anxiety relating to impulses from the id, provide people with unconscious strategies to reduce anxiet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defense mechanisms are repression, regression, displacement, rationalization, denial, projection, and subli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ud’s psychoanalytic theory has provoked a number of critic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supportive scientific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ory’s inadequacy in making predi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reliance on a highly restricted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, the theory remains a pivotal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0:53:44Z</dcterms:created>
  <dc:creator>acer</dc:creator>
  <dc:description/>
  <dc:language>en-US</dc:language>
  <cp:lastModifiedBy>A</cp:lastModifiedBy>
  <dcterms:modified xsi:type="dcterms:W3CDTF">2008-04-20T10:52:01Z</dcterms:modified>
  <cp:revision>6</cp:revision>
  <dc:subject/>
  <dc:title> The Theories Of Structure And Development Of Personality</dc:title>
</cp:coreProperties>
</file>