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40D-ADE8-4663-8777-36191507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3C2-AF3F-488E-84DD-5F9FC19D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7C45-92DF-4701-8EB8-1EE3831F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C3CE-AA4C-403C-9F5C-359F8181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BFB2-0F93-4970-90D2-4B09C139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A34F-C8D6-4731-A224-BE5028C8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C21A-384E-4394-AF22-3CBED862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C877-662A-435F-9687-38569835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5422-23C1-4B21-B326-6290E106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EF03-4AB2-4CB0-ACA9-8B96A693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D58D-D3DC-4CB3-A6FA-310E8B62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0F85-EDD0-4DA1-84BB-2996D33A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B890-3BF8-461B-BC15-634458DA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D69A-DABF-42B8-B775-61700560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4E2C-331A-4F73-B30A-7F0727C3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6938-9A2D-4293-9796-47B705C2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173C-9C41-4FB9-B287-DDBD76B0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C4D5-704E-4E3D-A667-4A03E28E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FBA1-25C0-40E6-B24F-CDE09E81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539-21F1-456B-8C5D-CA2381F8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89BF-3B29-4F75-9108-D3EA8AA7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1FF7-80D2-45AC-A980-9606B310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9AC0-2D69-46FC-9C5B-47CB9A65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02E-84FB-4E41-8A01-D15945E4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9E1F-532B-4359-9871-310748194014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D042-050D-4358-886A-57BC4D5CF496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PSYCHOLOG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ajor aspects of personality approach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es ar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ical and evolution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ist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jor personality approaches differ according to unconscious v conscious, nature v nurture, freedom v determinism, stability v modifiability of person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ajor aspects of personality approach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t approache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tried to identify the most basic and relatively enduring dimensions along which people differ from one another-dimensions known as tra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three kinds of traits (cardinal, central, secondar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 analysis used to identify 16 traits and three dimensions (extraversion, neuroticism, and psychoticism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ajor aspects of personality approach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approa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ntrate on observable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ity is the sum of learned responses to the external environ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ntrast, cognitive-social approaches concentrate on the role of cognitions in determining person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tion to self-efficacy and reciprocal determinism in determining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ajor aspects of personality approach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ical and evolutionary approa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how personality are inheri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xample, studies of children’s temperament suggest that there is a distinction between inhibited and uninhibited children, which is reflected in differences both in biological reactivity and in shy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ajor aspects of personality approach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ffff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istic approache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ze the basic goodness of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nsider the core of personality in terms of a person’s ability to change and impro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 of the need for positive regard suggests that a universal requirement to be loved and respected underlies person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ersonality assessme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ychological tests are standard assessment tools that objectively measure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must b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le, measuring what they are trying to measure consistently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, measuring  what they are supposed to mea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Major Types Of Personality Measure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report measures ask people about a sample range of their behavi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reports are used to infer the presence of particular personality characteris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st commonly used self-report measure is the Minnesota Multiphasic Personality Inventory-2(MMPI-2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MPI-2 designed to differentiate people with specific sorts of psychological difficulties from normal individu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psychologists define and use the concept of person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the theories of freud and his successors tell us about the structure and development of person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major aspects of trait, learning, biological and evolutionary, and humanistic approaches to person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an we most accurately assess person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major types of personality measur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How do psychologists define and use the concept of personality</a:t>
            </a: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sonality refers to the relatively enduring characteristics th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fferentiate one person from an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them to act in a consistent and predictable mann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th in different situations and over extended periods of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theories of the structure and development of personal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rding to psychoanalysts, much of behavior is caused by parts of personality that are found in the unconscious and of which we are unaw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ud’s theory suggest that personality is composed of the id, the ego, and the supere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 is the unorganized, inborn part of personality whose purpose is to immediately reduce tensions relating to hunger, sex, aggression, and other primitive impul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Theories Of Structure And Development Of Personal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go restrains instinctual energy in order to maintain the safety of individual and to help the person to be a member of socie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perego represents the rights and wrongs of society and consists of conscience and the ego-id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ud’s psychoanalytic theory suggests that personality develops through a series of stages, each of which is associated with a major biological fun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Theories Of Structure And Development Of Personal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al stage is the first period, occurring during the first year of l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xt comes the anal stage, lasting from approximately age 1 to age 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hallic stage follows, with interest focusing on the genita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Theories Of Structure And Development Of Personal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age 5 or 6 near the end of the phallic stage, children experience the Oedipal conflict, a process through which they learn to identify with the same-sex parent by acting as much like that parent as possi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follows a latency period lasting until puberty, after which people move into the genital st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Theories Of Structure And Development Of Personal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nse mechanisms, used for dealing with anxiety relating to impulses from the id, provide people with unconscious strategies to reduce anxiety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common defense mechanisms are repression, regression, displacement, rationalization, denial, projection, and sublim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The Theories Of Structure And Development Of Personalit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ud’s psychoanalytic theory has provoked a number of criticis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of supportive scientific d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eory’s inadequacy in making predi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reliance on a highly restricted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ll, the theory remains a pivotal 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0:53:44Z</dcterms:created>
  <dc:creator>acer</dc:creator>
  <dc:description/>
  <dc:language>en-US</dc:language>
  <cp:lastModifiedBy>A</cp:lastModifiedBy>
  <dcterms:modified xsi:type="dcterms:W3CDTF">2008-04-20T10:52:01Z</dcterms:modified>
  <cp:revision>6</cp:revision>
  <dc:subject/>
  <dc:title> The Theories Of Structure And Development Of Personality</dc:title>
</cp:coreProperties>
</file>