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08C-8162-41BF-A29D-426BF05B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5E4-4789-493F-9480-6FB61BD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92B-6436-4ADC-827F-AE7E2908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C9D-E371-4464-B164-67918D9A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E77-A4C8-4C8A-AF2D-F3E9AAB2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90C-B1A7-4076-BBF1-9C6791E5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832-8FAB-44B2-815B-42FCCA06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70B-8608-411F-883F-35B62BDC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9DB-024C-48F0-8C22-E67201E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9D5-DBFD-485B-98C0-6AD2ECFC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EB1-C88F-4B68-A2D6-B38921F1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E33-E0C4-4D72-9DE3-A652EE4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8158-5D51-419B-9D1B-C02E15FC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is a unit of measure which describes the degree of acidity or alkalinity (basic) of a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asured on a scale of 0 to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al definition of pH is the negative logarithm of the hydrogen io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-log[H+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value of a substance is directly related to the ratio of the hydrogen ion and hydroxyl ion concent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H+ concentration is higher than OH- the material is aci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OH- concentration is higher than H+ the material is ba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is neutral, &lt; is acidic, &gt;7 is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corresponds to the concentration of hydrogen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take the exponent of the H3O+ concentrations and remove the negative sign you have the pH of the solu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pure water H+ ion concentration is 1 x 10^-7 M, therefore the pH would then be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acid to water increases the concentration of hydrogen ions and reduces the concentration of hydroxyl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a base would increase the concentration of hydroxyl ions and decrease the concentration of hydrogen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can be defined as a proton donor, a chemical that increases the concentration of hydrogen ions in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can be defined as a proton acceptor, a chemical that reduces the concentration of hydrogen ions in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 measurement system consists of three parts: a pH measuring electrode, a reference electrode, and a high input  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measuring electrode is a hydrogen ion sensitive glass bul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erence electrode output does not vary with the activity of the hydrogen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ple is placed in a cup and the glass probe at the end of the retractable arm is plac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e is connected to the main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electrodes inside the probe that measure vol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contained in liquid with fixed 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ther measures the acidity of the sample through the amount of H+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tmeter in the probe measures the difference between the voltages of the two electr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then translates the voltage difference into pH and displays it on the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aking a pH measurement the meter must be calibrated using a solution of known 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and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compensation is contained within the instrument because pH electrodes are temperatur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compensation only corrects for the change in the output of the electrode, not for the change in the actual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s are solutions that have constant pH values and the ability to resist changes in 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used to calibrate the pH 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9:12:01Z</dcterms:created>
  <dc:creator>Li Yang</dc:creator>
  <dc:description/>
  <dc:language>en-US</dc:language>
  <cp:lastModifiedBy>TOSHIBA</cp:lastModifiedBy>
  <dcterms:modified xsi:type="dcterms:W3CDTF">2016-10-01T15:31:20Z</dcterms:modified>
  <cp:revision>5</cp:revision>
  <dc:subject/>
  <dc:title>pH and pH meter</dc:title>
</cp:coreProperties>
</file>