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86E-961F-4440-8346-9BC409B3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E782-819E-40D9-A629-83BB41FC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2A9-7488-4002-8859-63C0DA05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2C15-E609-42E0-AEE8-CFF7E13E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F924-9BA3-47FE-BFA5-C13B265A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002-6161-49A4-ABE6-A206E565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D56-9F2D-4D15-8971-1C74FB47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1B5-9BFA-47B8-8262-A957824D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2FC-F335-43EB-9379-50AC8765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41B-0C8A-4A88-98F8-8CC27AE7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15D-8D3E-4D4B-B9EA-9CB04CD5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B11-A875-49D1-BB2C-7F56DC15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0839-5DB3-4591-BE06-ED2237F4B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is a unit of measure which describes the degree of acidity or alkalinity (basic) of a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measured on a scale of 0 to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al definition of pH is the negative logarithm of the hydrogen io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= -log[H+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value of a substance is directly related to the ratio of the hydrogen ion and hydroxyl ion concent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H+ concentration is higher than OH- the material is aci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OH- concentration is higher than H+ the material is bas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is neutral, &lt; is acidic, &gt;7 is 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corresponds to the concentration of hydrogen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take the exponent of the H3O+ concentrations and remove the negative sign you have the pH of the solu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 pure water H+ ion concentration is 1 x 10^-7 M, therefore the pH would then be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acid to water increases the concentration of hydrogen ions and reduces the concentration of hydroxyl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a base would increase the concentration of hydroxyl ions and decrease the concentration of hydrogen 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can be defined as a proton donor, a chemical that increases the concentration of hydrogen ions in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can be defined as a proton acceptor, a chemical that reduces the concentration of hydrogen ions in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 measurement system consists of three parts: a pH measuring electrode, a reference electrode, and a high input  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measuring electrode is a hydrogen ion sensitive glass bul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erence electrode output does not vary with the activity of the hydrogen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mple is placed in a cup and the glass probe at the end of the retractable arm is place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e is connected to the main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electrodes inside the probe that measure vol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is contained in liquid with fixed 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ther measures the acidity of the sample through the amount of H+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tmeter in the probe measures the difference between the voltages of the two electr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er then translates the voltage difference into pH and displays it on the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aking a pH measurement the meter must be calibrated using a solution of known 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ure and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compensation is contained within the instrument because pH electrodes are temperatur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compensation only corrects for the change in the output of the electrode, not for the change in the actual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s are solutions that have constant pH values and the ability to resist changes in 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used to calibrate the pH 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9:12:01Z</dcterms:created>
  <dc:creator>Li Yang</dc:creator>
  <dc:description/>
  <dc:language>en-US</dc:language>
  <cp:lastModifiedBy>TOSHIBA</cp:lastModifiedBy>
  <dcterms:modified xsi:type="dcterms:W3CDTF">2016-10-01T15:31:20Z</dcterms:modified>
  <cp:revision>5</cp:revision>
  <dc:subject/>
  <dc:title>pH and pH meter</dc:title>
</cp:coreProperties>
</file>