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A5A3-F086-4B3A-8B89-98E6E3134E8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99BB-3D85-4407-8FF4-869C1A10FD4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A36-D58B-47FB-9CFC-4AA94FA3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7967-27FA-48A1-B0E5-B75D75A4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CB1-2B35-40B3-B5FF-A3B3F68D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A4B4-7912-4E9C-87A6-04EE584E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6DCA-A41F-4730-B2E1-4BA4960B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276B-BB4B-471F-8D8D-66C63D31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920D-16FF-4108-8228-4504ED82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5619-E12E-47C7-8014-F3467ACF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C22D-5AE6-482E-8ED0-815CA044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926D-C205-4E0C-AD36-4883D8D9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D18E-5A88-429F-9CAF-E658313E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D2C-0FCC-425B-ADD9-6BFB1F71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3888-545A-4202-8CB3-327ED889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DB64-EC9D-489A-8298-8031C93F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3FFD-3404-4AA0-B8A9-1F6DD8FE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52AF-19B7-4211-807C-1F291C8D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30E6-717B-4D96-BE7F-2C99764F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DB67-E8A2-4C7F-B83C-0ADD2029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396C-1AF4-4F4B-ADFC-7D1AC67E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7244-1167-4E12-8A1F-98F68EF7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49BC-590A-4B7C-9D56-FE9DCB3A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838-F1DE-41B4-924D-2151097B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DB63-DD7E-47EA-B3BB-6BC579B8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5EA3-644A-41EB-9F86-D2ABB7C7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0F31-30C5-48B8-B252-E198D43B5731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0C27-3BC5-4DE9-BA3F-87F8A1C78F3A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1627200" y="811080"/>
            <a:ext cx="5565600" cy="100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2"/>
          <p:cNvGraphicFramePr/>
          <p:nvPr/>
        </p:nvGraphicFramePr>
        <p:xfrm>
          <a:off x="3348000" y="2436840"/>
          <a:ext cx="2143080" cy="271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2436840"/>
                    <a:ext cx="214308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500040" y="571680"/>
          <a:ext cx="8429760" cy="5310000"/>
        </p:xfrm>
        <a:graphic>
          <a:graphicData uri="http://schemas.openxmlformats.org/drawingml/2006/table">
            <a:tbl>
              <a:tblPr/>
              <a:tblGrid>
                <a:gridCol w="2108160"/>
                <a:gridCol w="2106720"/>
                <a:gridCol w="2108160"/>
                <a:gridCol w="2106720"/>
              </a:tblGrid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en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sorcin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techo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16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Structu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38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375bb0"/>
                          </a:solidFill>
                          <a:uFillTx/>
                          <a:latin typeface="Times New Roman"/>
                          <a:ea typeface="Times New Roman"/>
                        </a:rPr>
                        <a:t>Physical propertie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Od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Object 2"/>
          <p:cNvGraphicFramePr/>
          <p:nvPr/>
        </p:nvGraphicFramePr>
        <p:xfrm>
          <a:off x="3274920" y="1465200"/>
          <a:ext cx="93996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4920" y="1465200"/>
                    <a:ext cx="93996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3"/>
          <p:cNvGraphicFramePr/>
          <p:nvPr/>
        </p:nvGraphicFramePr>
        <p:xfrm>
          <a:off x="5072040" y="1447920"/>
          <a:ext cx="1571760" cy="127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2040" y="1447920"/>
                    <a:ext cx="1571760" cy="12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4"/>
          <p:cNvGraphicFramePr/>
          <p:nvPr/>
        </p:nvGraphicFramePr>
        <p:xfrm>
          <a:off x="7234200" y="1433520"/>
          <a:ext cx="1500120" cy="123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4200" y="1433520"/>
                    <a:ext cx="150012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91"/>
          <p:cNvSpPr/>
          <p:nvPr/>
        </p:nvSpPr>
        <p:spPr>
          <a:xfrm>
            <a:off x="2771640" y="3714840"/>
            <a:ext cx="17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, crystalli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92"/>
          <p:cNvSpPr/>
          <p:nvPr/>
        </p:nvSpPr>
        <p:spPr>
          <a:xfrm>
            <a:off x="5086080" y="37544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, flak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3"/>
          <p:cNvSpPr/>
          <p:nvPr/>
        </p:nvSpPr>
        <p:spPr>
          <a:xfrm>
            <a:off x="6876720" y="378936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, fine powd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94"/>
          <p:cNvSpPr/>
          <p:nvPr/>
        </p:nvSpPr>
        <p:spPr>
          <a:xfrm>
            <a:off x="3204360" y="439884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5"/>
          <p:cNvSpPr/>
          <p:nvPr/>
        </p:nvSpPr>
        <p:spPr>
          <a:xfrm>
            <a:off x="5370480" y="44179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96"/>
          <p:cNvSpPr/>
          <p:nvPr/>
        </p:nvSpPr>
        <p:spPr>
          <a:xfrm>
            <a:off x="7492680" y="439884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97"/>
          <p:cNvSpPr/>
          <p:nvPr/>
        </p:nvSpPr>
        <p:spPr>
          <a:xfrm>
            <a:off x="4215240" y="528624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olic o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42960" y="500040"/>
          <a:ext cx="8072280" cy="3119400"/>
        </p:xfrm>
        <a:graphic>
          <a:graphicData uri="http://schemas.openxmlformats.org/drawingml/2006/table">
            <a:tbl>
              <a:tblPr/>
              <a:tblGrid>
                <a:gridCol w="3429000"/>
                <a:gridCol w="4643280"/>
              </a:tblGrid>
              <a:tr h="571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Ignition test (Dry heat test)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Inflammability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Change in appea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Change in od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Residu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375bb0"/>
                          </a:solidFill>
                          <a:uFillTx/>
                          <a:latin typeface="Times New Roman"/>
                          <a:ea typeface="Times New Roman"/>
                        </a:rPr>
                        <a:t>Com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2"/>
          <p:cNvSpPr/>
          <p:nvPr/>
        </p:nvSpPr>
        <p:spPr>
          <a:xfrm>
            <a:off x="1000080" y="4929120"/>
            <a:ext cx="535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oluble in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714240" y="432576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olubil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1000080" y="5429160"/>
            <a:ext cx="53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L.p.: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hange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785880" y="614376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92d050"/>
                </a:solidFill>
                <a:uFillTx/>
                <a:latin typeface="Times New Roman"/>
                <a:ea typeface="Times New Roman"/>
              </a:rPr>
              <a:t>Comment </a:t>
            </a:r>
            <a:r>
              <a:rPr b="0" lang="en-US" sz="1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All the compounds are neutral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34"/>
          <p:cNvSpPr/>
          <p:nvPr/>
        </p:nvSpPr>
        <p:spPr>
          <a:xfrm>
            <a:off x="4100760" y="1125360"/>
            <a:ext cx="33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inflammable, luminous, smo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6"/>
          <p:cNvSpPr/>
          <p:nvPr/>
        </p:nvSpPr>
        <p:spPr>
          <a:xfrm>
            <a:off x="4102200" y="16714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el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8"/>
          <p:cNvSpPr/>
          <p:nvPr/>
        </p:nvSpPr>
        <p:spPr>
          <a:xfrm>
            <a:off x="4101120" y="220500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n change in o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4094280" y="270504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no resid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4118040" y="32050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 the compounds are arom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42920" y="571680"/>
          <a:ext cx="8786880" cy="5891040"/>
        </p:xfrm>
        <a:graphic>
          <a:graphicData uri="http://schemas.openxmlformats.org/drawingml/2006/table">
            <a:tbl>
              <a:tblPr/>
              <a:tblGrid>
                <a:gridCol w="2427120"/>
                <a:gridCol w="1967040"/>
                <a:gridCol w="2195640"/>
                <a:gridCol w="21970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e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sorci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tech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c00000"/>
                          </a:solidFill>
                          <a:uFillTx/>
                          <a:latin typeface="Times New Roman"/>
                          <a:ea typeface="Times New Roman"/>
                        </a:rPr>
                        <a:t>Preliminary test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Soda l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6585cf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6585cf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30%  NaO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6585cf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6585cf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FeCl</a:t>
                      </a:r>
                      <a:r>
                        <a:rPr b="1" i="1" lang="en-US" sz="2000" spc="-1" strike="noStrike" baseline="-25000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6585cf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6585cf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Conc. H</a:t>
                      </a:r>
                      <a:r>
                        <a:rPr b="1" i="1" lang="en-US" sz="2000" spc="-1" strike="noStrike" baseline="-25000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en-US" sz="2000" spc="-1" strike="noStrike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1" i="1" lang="en-US" sz="2000" spc="-1" strike="noStrike" baseline="-25000">
                          <a:solidFill>
                            <a:srgbClr val="9cb084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6585cf"/>
                          </a:solidFill>
                          <a:uFillTx/>
                          <a:latin typeface="Times New Roman"/>
                          <a:ea typeface="Times New Roman"/>
                        </a:rPr>
                        <a:t>On cold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 u="sng">
                          <a:solidFill>
                            <a:srgbClr val="6585cf"/>
                          </a:solidFill>
                          <a:uFillTx/>
                          <a:latin typeface="Times New Roman"/>
                          <a:ea typeface="Times New Roman"/>
                        </a:rPr>
                        <a:t>On ho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Right Arrow 5"/>
          <p:cNvSpPr/>
          <p:nvPr/>
        </p:nvSpPr>
        <p:spPr>
          <a:xfrm flipV="1">
            <a:off x="7162920" y="4004640"/>
            <a:ext cx="571320" cy="214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Object 2"/>
          <p:cNvGraphicFramePr/>
          <p:nvPr/>
        </p:nvGraphicFramePr>
        <p:xfrm>
          <a:off x="2651040" y="3873600"/>
          <a:ext cx="35712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1040" y="3873600"/>
                    <a:ext cx="3571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20" name="Straight Arrow Connector 8"/>
          <p:cNvCxnSpPr/>
          <p:nvPr/>
        </p:nvCxnSpPr>
        <p:spPr>
          <a:xfrm>
            <a:off x="2901600" y="4107960"/>
            <a:ext cx="429480" cy="25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21" name="Rectangle 73"/>
          <p:cNvSpPr/>
          <p:nvPr/>
        </p:nvSpPr>
        <p:spPr>
          <a:xfrm>
            <a:off x="2608920" y="193500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olic o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74"/>
          <p:cNvSpPr/>
          <p:nvPr/>
        </p:nvSpPr>
        <p:spPr>
          <a:xfrm>
            <a:off x="6085080" y="1916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5"/>
          <p:cNvSpPr/>
          <p:nvPr/>
        </p:nvSpPr>
        <p:spPr>
          <a:xfrm>
            <a:off x="2701080" y="232092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76"/>
          <p:cNvSpPr/>
          <p:nvPr/>
        </p:nvSpPr>
        <p:spPr>
          <a:xfrm>
            <a:off x="6031440" y="23209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olic o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77"/>
          <p:cNvSpPr/>
          <p:nvPr/>
        </p:nvSpPr>
        <p:spPr>
          <a:xfrm>
            <a:off x="2607120" y="311292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for 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78"/>
          <p:cNvSpPr/>
          <p:nvPr/>
        </p:nvSpPr>
        <p:spPr>
          <a:xfrm>
            <a:off x="5024880" y="348156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for 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9"/>
          <p:cNvSpPr/>
          <p:nvPr/>
        </p:nvSpPr>
        <p:spPr>
          <a:xfrm>
            <a:off x="3291120" y="3898800"/>
            <a:ext cx="388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diluted phenols + 1– 3 drops FeC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80"/>
          <p:cNvSpPr/>
          <p:nvPr/>
        </p:nvSpPr>
        <p:spPr>
          <a:xfrm>
            <a:off x="3759480" y="43498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olet – blue 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81"/>
          <p:cNvSpPr/>
          <p:nvPr/>
        </p:nvSpPr>
        <p:spPr>
          <a:xfrm>
            <a:off x="6676920" y="42544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n color which rapidly dark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85"/>
          <p:cNvSpPr/>
          <p:nvPr/>
        </p:nvSpPr>
        <p:spPr>
          <a:xfrm>
            <a:off x="4858920" y="48690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one for 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86"/>
          <p:cNvSpPr/>
          <p:nvPr/>
        </p:nvSpPr>
        <p:spPr>
          <a:xfrm>
            <a:off x="2564280" y="564516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for 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87"/>
          <p:cNvSpPr/>
          <p:nvPr/>
        </p:nvSpPr>
        <p:spPr>
          <a:xfrm>
            <a:off x="4815360" y="606744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action for 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428760" y="428760"/>
          <a:ext cx="8358120" cy="5786280"/>
        </p:xfrm>
        <a:graphic>
          <a:graphicData uri="http://schemas.openxmlformats.org/drawingml/2006/table">
            <a:tbl>
              <a:tblPr/>
              <a:tblGrid>
                <a:gridCol w="2428920"/>
                <a:gridCol w="2286000"/>
                <a:gridCol w="3643200"/>
              </a:tblGrid>
              <a:tr h="614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General class group test for phenols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375bb0"/>
                          </a:solidFill>
                          <a:latin typeface="Times New Roman"/>
                          <a:ea typeface="Times New Roman"/>
                        </a:rPr>
                        <a:t>Azo – dye formation test ≡ Diazotization t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3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7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Phe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Resorci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Catech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263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34" name="Right Arrow 4"/>
          <p:cNvSpPr/>
          <p:nvPr/>
        </p:nvSpPr>
        <p:spPr>
          <a:xfrm>
            <a:off x="865080" y="1922400"/>
            <a:ext cx="857520" cy="1890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Object 2"/>
          <p:cNvGraphicFramePr/>
          <p:nvPr/>
        </p:nvGraphicFramePr>
        <p:xfrm>
          <a:off x="571680" y="1643040"/>
          <a:ext cx="291960" cy="59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643040"/>
                    <a:ext cx="29196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3"/>
          <p:cNvGraphicFramePr/>
          <p:nvPr/>
        </p:nvGraphicFramePr>
        <p:xfrm>
          <a:off x="531720" y="2792520"/>
          <a:ext cx="29232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720" y="2792520"/>
                    <a:ext cx="2923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Down Arrow 9"/>
          <p:cNvSpPr/>
          <p:nvPr/>
        </p:nvSpPr>
        <p:spPr>
          <a:xfrm>
            <a:off x="4286160" y="3143160"/>
            <a:ext cx="214560" cy="714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6357960" y="2833560"/>
          <a:ext cx="2143080" cy="166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57960" y="2833560"/>
                    <a:ext cx="2143080" cy="16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29"/>
          <p:cNvSpPr/>
          <p:nvPr/>
        </p:nvSpPr>
        <p:spPr>
          <a:xfrm>
            <a:off x="428760" y="1538280"/>
            <a:ext cx="878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drop aniline (red color) + dil.HCl (until dissolve) + Na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od. Nitrite solu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faint pale yellow col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30"/>
          <p:cNvSpPr/>
          <p:nvPr/>
        </p:nvSpPr>
        <p:spPr>
          <a:xfrm>
            <a:off x="431640" y="20858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1"/>
          <p:cNvSpPr/>
          <p:nvPr/>
        </p:nvSpPr>
        <p:spPr>
          <a:xfrm>
            <a:off x="2832480" y="208584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Diazonium salt formed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2"/>
          <p:cNvSpPr/>
          <p:nvPr/>
        </p:nvSpPr>
        <p:spPr>
          <a:xfrm>
            <a:off x="378000" y="2360520"/>
            <a:ext cx="84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lonna MT"/>
                <a:ea typeface="Times New Roman"/>
              </a:rPr>
              <a:t>It is unstable because that we must put it in ice, without ice it will decomp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3"/>
          <p:cNvSpPr/>
          <p:nvPr/>
        </p:nvSpPr>
        <p:spPr>
          <a:xfrm>
            <a:off x="774720" y="2797200"/>
            <a:ext cx="54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phenol + 10% NaOH (until phenol dissolve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34"/>
          <p:cNvSpPr/>
          <p:nvPr/>
        </p:nvSpPr>
        <p:spPr>
          <a:xfrm>
            <a:off x="433440" y="33577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5"/>
          <p:cNvSpPr/>
          <p:nvPr/>
        </p:nvSpPr>
        <p:spPr>
          <a:xfrm>
            <a:off x="3393720" y="3905280"/>
            <a:ext cx="24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(1) on (2) grad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6"/>
          <p:cNvSpPr/>
          <p:nvPr/>
        </p:nvSpPr>
        <p:spPr>
          <a:xfrm>
            <a:off x="1533600" y="4951440"/>
            <a:ext cx="26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Azo – dye formation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nge – red dy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7"/>
          <p:cNvSpPr/>
          <p:nvPr/>
        </p:nvSpPr>
        <p:spPr>
          <a:xfrm>
            <a:off x="4989600" y="496728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o – dye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Dark purple or brown dye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5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714240" y="571680"/>
          <a:ext cx="7620120" cy="53798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  <a:gridCol w="190512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e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sorci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tech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595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375bb0"/>
                          </a:solidFill>
                          <a:uFillTx/>
                          <a:latin typeface="Times New Roman"/>
                          <a:ea typeface="Times New Roman"/>
                        </a:rPr>
                        <a:t>Specific test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8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  <p:cxnSp>
        <p:nvCxnSpPr>
          <p:cNvPr id="152" name="Straight Arrow Connector 3"/>
          <p:cNvCxnSpPr/>
          <p:nvPr/>
        </p:nvCxnSpPr>
        <p:spPr>
          <a:xfrm>
            <a:off x="6743520" y="2714760"/>
            <a:ext cx="85788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53" name="Isosceles Triangle 4"/>
          <p:cNvSpPr/>
          <p:nvPr/>
        </p:nvSpPr>
        <p:spPr>
          <a:xfrm>
            <a:off x="7101000" y="2486160"/>
            <a:ext cx="285480" cy="142920"/>
          </a:xfrm>
          <a:prstGeom prst="triangle">
            <a:avLst>
              <a:gd name="adj" fmla="val 50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Straight Arrow Connector 6"/>
          <p:cNvCxnSpPr/>
          <p:nvPr/>
        </p:nvCxnSpPr>
        <p:spPr>
          <a:xfrm flipV="1">
            <a:off x="1213920" y="2696400"/>
            <a:ext cx="769320" cy="183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graphicFrame>
        <p:nvGraphicFramePr>
          <p:cNvPr id="155" name="Object 2"/>
          <p:cNvGraphicFramePr/>
          <p:nvPr/>
        </p:nvGraphicFramePr>
        <p:xfrm>
          <a:off x="5929200" y="3090960"/>
          <a:ext cx="1143000" cy="107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9200" y="3090960"/>
                    <a:ext cx="114300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Curved Down Arrow 8"/>
          <p:cNvSpPr/>
          <p:nvPr/>
        </p:nvSpPr>
        <p:spPr>
          <a:xfrm>
            <a:off x="5429160" y="2928960"/>
            <a:ext cx="1146240" cy="357120"/>
          </a:xfrm>
          <a:custGeom>
            <a:avLst/>
            <a:gdLst>
              <a:gd name="textAreaLeft" fmla="*/ 243000 w 1146240"/>
              <a:gd name="textAreaRight" fmla="*/ 818640 w 114624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61" hR="21600" stAng="10800000" swAng="5400000"/>
                <a:lnTo>
                  <a:pt x="10843" y="0"/>
                </a:lnTo>
                <a:arcTo wR="9161" hR="21600" stAng="-5400000" swAng="3519966"/>
                <a:lnTo>
                  <a:pt x="21309" y="16200"/>
                </a:lnTo>
                <a:lnTo>
                  <a:pt x="19162" y="21600"/>
                </a:lnTo>
                <a:lnTo>
                  <a:pt x="16433" y="16200"/>
                </a:lnTo>
                <a:lnTo>
                  <a:pt x="18030" y="16200"/>
                </a:lnTo>
                <a:arcTo wR="9161" hR="21600" stAng="-1880034" swAng="-3385618"/>
                <a:lnTo>
                  <a:pt x="10002" y="91"/>
                </a:lnTo>
                <a:arcTo wR="9161" hR="21600" stAng="-5534349" swAng="-5265651"/>
                <a:close/>
              </a:path>
              <a:path fill="darkenLess" w="21600" h="21600">
                <a:moveTo>
                  <a:pt x="0" y="21600"/>
                </a:moveTo>
                <a:arcTo wR="9161" hR="21600" stAng="10800000" swAng="5400000"/>
                <a:lnTo>
                  <a:pt x="9161" y="0"/>
                </a:lnTo>
                <a:arcTo wR="9161" hR="21600" stAng="-5400000" swAng="134349"/>
                <a:lnTo>
                  <a:pt x="10002" y="91"/>
                </a:lnTo>
                <a:arcTo wR="9161" hR="21600" stAng="-5534349" swAng="-5265651"/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Object 3"/>
          <p:cNvGraphicFramePr/>
          <p:nvPr/>
        </p:nvGraphicFramePr>
        <p:xfrm>
          <a:off x="1025640" y="2328840"/>
          <a:ext cx="30636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5640" y="2328840"/>
                    <a:ext cx="3063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60" name="Straight Arrow Connector 12"/>
          <p:cNvCxnSpPr/>
          <p:nvPr/>
        </p:nvCxnSpPr>
        <p:spPr>
          <a:xfrm>
            <a:off x="2504880" y="2978280"/>
            <a:ext cx="643320" cy="21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61" name="Straight Arrow Connector 33"/>
          <p:cNvCxnSpPr/>
          <p:nvPr/>
        </p:nvCxnSpPr>
        <p:spPr>
          <a:xfrm flipH="1">
            <a:off x="5242680" y="5254560"/>
            <a:ext cx="2520" cy="2865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sp>
        <p:nvSpPr>
          <p:cNvPr id="162" name="Curved Left Arrow 39"/>
          <p:cNvSpPr/>
          <p:nvPr/>
        </p:nvSpPr>
        <p:spPr>
          <a:xfrm>
            <a:off x="6500880" y="4091040"/>
            <a:ext cx="214200" cy="500040"/>
          </a:xfrm>
          <a:custGeom>
            <a:avLst/>
            <a:gdLst>
              <a:gd name="textAreaLeft" fmla="*/ 28440 w 214200"/>
              <a:gd name="textAreaRight" fmla="*/ 185760 w 214200"/>
              <a:gd name="textAreaTop" fmla="*/ 104760 h 500040"/>
              <a:gd name="textAreaBottom" fmla="*/ 3682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4" stAng="-5400000" swAng="5400000"/>
                <a:lnTo>
                  <a:pt x="21600" y="11379"/>
                </a:lnTo>
                <a:arcTo wR="21600" hR="9064" stAng="0" swAng="3503756"/>
                <a:lnTo>
                  <a:pt x="5400" y="21312"/>
                </a:lnTo>
                <a:lnTo>
                  <a:pt x="0" y="19286"/>
                </a:lnTo>
                <a:lnTo>
                  <a:pt x="5400" y="16683"/>
                </a:lnTo>
                <a:lnTo>
                  <a:pt x="5400" y="17840"/>
                </a:lnTo>
                <a:arcTo wR="21600" hR="9064" stAng="3503756" swAng="-3318194"/>
                <a:lnTo>
                  <a:pt x="21423" y="10222"/>
                </a:lnTo>
                <a:arcTo wR="21600" hR="9064" stAng="-185562" swAng="-5214438"/>
                <a:close/>
              </a:path>
              <a:path fill="darkenLess" w="21600" h="21600">
                <a:moveTo>
                  <a:pt x="0" y="0"/>
                </a:moveTo>
                <a:arcTo wR="21600" hR="9064" stAng="-5400000" swAng="5400000"/>
                <a:lnTo>
                  <a:pt x="21600" y="11379"/>
                </a:lnTo>
                <a:arcTo wR="21600" hR="9064" stAng="0" swAng="-185562"/>
                <a:lnTo>
                  <a:pt x="21423" y="10222"/>
                </a:lnTo>
                <a:arcTo wR="21600" hR="9064" stAng="-185562" swAng="-5214438"/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39"/>
          <p:cNvSpPr/>
          <p:nvPr/>
        </p:nvSpPr>
        <p:spPr>
          <a:xfrm>
            <a:off x="650880" y="1835280"/>
            <a:ext cx="17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thalein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40"/>
          <p:cNvSpPr/>
          <p:nvPr/>
        </p:nvSpPr>
        <p:spPr>
          <a:xfrm>
            <a:off x="708120" y="2498760"/>
            <a:ext cx="8064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ol + phthalic anhydride + 4 drops Conc.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cool                                      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y  test tube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in beaker containing                         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fuss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41"/>
          <p:cNvSpPr/>
          <p:nvPr/>
        </p:nvSpPr>
        <p:spPr>
          <a:xfrm>
            <a:off x="5801040" y="33336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l 10% NaO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2"/>
          <p:cNvSpPr/>
          <p:nvPr/>
        </p:nvSpPr>
        <p:spPr>
          <a:xfrm>
            <a:off x="2714760" y="461484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Pink col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lonna MT"/>
                <a:ea typeface="Times New Roman"/>
              </a:rPr>
              <a:t>Due to pheno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lonna MT"/>
                <a:ea typeface="Times New Roman"/>
              </a:rPr>
              <a:t>phthal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indicator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3"/>
          <p:cNvSpPr/>
          <p:nvPr/>
        </p:nvSpPr>
        <p:spPr>
          <a:xfrm>
            <a:off x="4707000" y="4624560"/>
            <a:ext cx="142236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Green fluorescen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oresc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46"/>
          <p:cNvSpPr/>
          <p:nvPr/>
        </p:nvSpPr>
        <p:spPr>
          <a:xfrm>
            <a:off x="6462720" y="4662360"/>
            <a:ext cx="17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Bluish Brown color</a:t>
            </a:r>
            <a:r>
              <a:rPr b="0" lang="en-US" sz="1800" spc="-1" strike="noStrike">
                <a:solidFill>
                  <a:srgbClr val="375bb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lonna MT"/>
                <a:ea typeface="Times New Roman"/>
              </a:rPr>
              <a:t>Due to Alizarin ind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3" descr="C:\Users\admin\Desktop\New folder\pictures\IMG-20140914-WA0031.jpg"/>
          <p:cNvPicPr/>
          <p:nvPr/>
        </p:nvPicPr>
        <p:blipFill>
          <a:blip r:embed="rId5"/>
          <a:stretch/>
        </p:blipFill>
        <p:spPr>
          <a:xfrm>
            <a:off x="3000240" y="2500200"/>
            <a:ext cx="34340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15200" cy="4681800"/>
          </a:xfrm>
          <a:prstGeom prst="rect">
            <a:avLst/>
          </a:prstGeom>
          <a:ln w="0">
            <a:noFill/>
          </a:ln>
        </p:spPr>
      </p:pic>
      <p:sp>
        <p:nvSpPr>
          <p:cNvPr id="171" name="مربع نص 1"/>
          <p:cNvSpPr/>
          <p:nvPr/>
        </p:nvSpPr>
        <p:spPr>
          <a:xfrm>
            <a:off x="2556000" y="5745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us"/>
                <a:ea typeface="Andalus"/>
              </a:rPr>
              <a:t>IR spectrum of phen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11:24:38Z</dcterms:created>
  <dc:creator>admin</dc:creator>
  <dc:description/>
  <dc:language>en-US</dc:language>
  <cp:lastModifiedBy>admin</cp:lastModifiedBy>
  <dcterms:modified xsi:type="dcterms:W3CDTF">2014-09-21T20:42:14Z</dcterms:modified>
  <cp:revision>86</cp:revision>
  <dc:subject/>
  <dc:title>PHENOLS</dc:title>
</cp:coreProperties>
</file>