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5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.jpeg" ContentType="image/jpeg"/>
  <Override PartName="/ppt/media/image70.jpeg" ContentType="image/jpe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AAE-C8E3-4FF1-BCE3-0D29DD44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176B-68B5-49A3-8512-92087FB06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5848-5E1F-49AF-B85F-947F9A03C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AEA-8C17-4D6E-B3B0-320DE776F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2F5-D092-4663-B2D7-8EA51EE11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BC5-D68D-405F-B904-3F1E1D6C6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C78-1BB9-4F3F-8243-549B73779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3A8-8B53-4D2A-B710-2C20EF70D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C79-E80D-4110-8D78-63DC11D2C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01CC-807A-4169-AAF6-BB152C99E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CFE-0972-4663-9784-E37BC29E0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584A-1755-4194-B405-EBAB98852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320-5E02-4CD8-91CF-2C0D70848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EAAB-81A6-487B-9409-323CB3C19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359-F0ED-44E2-9E9C-9F49ACA3CE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86F-0796-4DA6-91D3-CAC7064A4B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1F60-33F4-4D60-AFB2-CB9D97523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7977-E560-4EAE-B8BB-581779C1B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A89C-DCBD-4FF4-A852-27F9F9BDD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B8CD-0995-40FB-86B1-253783066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37CB-D4F0-4683-ACB6-7B5772AFDF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B1B-6CAD-4FBB-9EDE-5119947D36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F71-0F08-44C4-9D95-B88BC7D92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3644-5018-4DC2-A813-7652849EF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FF8F-AD4C-4755-8BE4-66B5B8E29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95C-8651-4AE7-B0D0-C0350D396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4A66-E80D-42A9-BF3C-E4897BDCC7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B90-062A-496C-B9EE-D434D3583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21C-772B-4DE7-BAFB-FE972BD8A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316-FFAB-4682-9329-2BBB0CE02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39C-4A3D-4F2B-8F86-49351DAF9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BE4-1786-4509-94AD-E2B4ECFCE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02B-02C9-4A16-B013-B171F2931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3FAA-D32E-4C21-9E27-8AB77FA74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441-2E8F-47A2-A879-28E39C68F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AFE-AB12-411C-B05B-856611F52B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9BA-F852-4886-B0F8-0F41A565C3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7CE-7EEC-4403-931B-C35B7271C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51A-2B37-4459-AC8A-1C14C89A0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E73-85FA-4779-8543-5E91400A1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1456-E4D5-4795-BA2D-BF8FCDBE4B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346D-07A1-445D-BC34-BE07AE54B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01B5-084E-41AD-9EBF-338BBD252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D77-3DA7-41E0-A3C4-1773A3A43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A4C-D46C-47AA-A627-AE96B5545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6D6-C441-466D-9FBE-FF4B3F314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64D-E390-4C91-8E79-FB2379C2C4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0388-4DD2-4500-BDAA-58DAB1D1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0ED3-44D2-4C7A-ACF5-0395298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43B2-1807-4E66-BA58-BF66F51B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26DE-56DD-4E55-AB31-4330ACC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775-69C5-4BF1-B4EB-CDF3D0B8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1B99-E1FB-4486-A626-5DA4E280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CBF2-DC7C-4F58-9F04-CE5AB0F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300E-D88B-4795-B9A8-ABC4307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731D-C1F7-4931-9688-17BF080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7AD-D4E7-4175-BF85-D924B366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3F0-31D9-44D1-B394-2BDC2A0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D352-A554-4F4B-A064-42E4247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140C-F261-4995-BA53-EC9D4D4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E2B-B60E-42CE-BCC3-B2029CFE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5621-2EDD-4E9C-98B4-FF54156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0B3-B23B-4B4E-BF46-90757059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1572-53FF-441A-9C25-5BF740F4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2D7C-C33E-4C00-8A9C-6B0E49E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3170-B207-4541-92F2-BA1CB20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3D50-1627-4A40-BAF4-9D398EA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F6FC-119D-4645-8471-7BA4B90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C560-E579-456B-A787-785F571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8D10-1BAB-44CE-BAA7-E25EFC23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6305-8140-49E2-ACCD-F8439D2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D96-EA56-4073-9C6E-D88C96732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B2A-7BF2-45FC-9077-C61F46700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21932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0666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Vitamin C, B1, B2 &amp; B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32520" y="0"/>
            <a:ext cx="6078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ter soluble vitamins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545760" y="10152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C in Prevention and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3520" y="855720"/>
            <a:ext cx="81532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e ability to fight infec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stimulates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ty and ability of WBCs to destroy bacteria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cold and flu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doses of 1-2 g, it slightl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body temp.        functions of WBCs and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mmune response and     nasal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al conges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uration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lu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duce risk of cancer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ticularly cancer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T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dder, breast, pancreas, and uter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tioxidant + enhancer for immune defen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ainst cancer and + help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oxify carcinogen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additives e.g. nitrates, pesticides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chemicals and heavy met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7" name="Straight Arrow Connector 4"/>
          <p:cNvCxnSpPr/>
          <p:nvPr/>
        </p:nvCxnSpPr>
        <p:spPr>
          <a:xfrm>
            <a:off x="4572000" y="297180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8" name="Straight Arrow Connector 7"/>
          <p:cNvCxnSpPr/>
          <p:nvPr/>
        </p:nvCxnSpPr>
        <p:spPr>
          <a:xfrm flipH="1">
            <a:off x="1447560" y="3123720"/>
            <a:ext cx="216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Straight Arrow Connector 8"/>
          <p:cNvCxnSpPr/>
          <p:nvPr/>
        </p:nvCxnSpPr>
        <p:spPr>
          <a:xfrm flipV="1">
            <a:off x="5234040" y="2742480"/>
            <a:ext cx="24480" cy="35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Straight Arrow Connector 10"/>
          <p:cNvCxnSpPr/>
          <p:nvPr/>
        </p:nvCxnSpPr>
        <p:spPr>
          <a:xfrm>
            <a:off x="4114800" y="342756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1" name="Straight Arrow Connector 11"/>
          <p:cNvCxnSpPr/>
          <p:nvPr/>
        </p:nvCxnSpPr>
        <p:spPr>
          <a:xfrm flipV="1">
            <a:off x="4572000" y="32000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2" name="Straight Arrow Connector 12"/>
          <p:cNvCxnSpPr/>
          <p:nvPr/>
        </p:nvCxnSpPr>
        <p:spPr>
          <a:xfrm flipH="1">
            <a:off x="7848360" y="3065400"/>
            <a:ext cx="2160" cy="36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3" name="Straight Arrow Connector 13"/>
          <p:cNvCxnSpPr/>
          <p:nvPr/>
        </p:nvCxnSpPr>
        <p:spPr>
          <a:xfrm>
            <a:off x="6172200" y="373392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Straight Arrow Connector 14"/>
          <p:cNvCxnSpPr/>
          <p:nvPr/>
        </p:nvCxnSpPr>
        <p:spPr>
          <a:xfrm flipH="1">
            <a:off x="6705360" y="342900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8"/>
          <p:cNvSpPr/>
          <p:nvPr/>
        </p:nvSpPr>
        <p:spPr>
          <a:xfrm>
            <a:off x="457200" y="380880"/>
            <a:ext cx="815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  platelet aggregati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isk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ts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 the strength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sel walls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se mechanism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fro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onary heart disease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ot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oke, and peripheral vascular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6" name="Straight Arrow Connector 12"/>
          <p:cNvCxnSpPr/>
          <p:nvPr/>
        </p:nvCxnSpPr>
        <p:spPr>
          <a:xfrm>
            <a:off x="6019920" y="692280"/>
            <a:ext cx="457920" cy="21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Straight Arrow Connector 13"/>
          <p:cNvCxnSpPr/>
          <p:nvPr/>
        </p:nvCxnSpPr>
        <p:spPr>
          <a:xfrm flipV="1">
            <a:off x="6477120" y="837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4"/>
          <p:cNvCxnSpPr/>
          <p:nvPr/>
        </p:nvCxnSpPr>
        <p:spPr>
          <a:xfrm flipH="1">
            <a:off x="2741400" y="53928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9" name="Rectangle 15"/>
          <p:cNvSpPr/>
          <p:nvPr/>
        </p:nvSpPr>
        <p:spPr>
          <a:xfrm>
            <a:off x="457200" y="266688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from heavy metal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bsorption and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oxification and     excretion of heavy met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80" name="Straight Arrow Connector 16"/>
          <p:cNvCxnSpPr/>
          <p:nvPr/>
        </p:nvCxnSpPr>
        <p:spPr>
          <a:xfrm flipH="1">
            <a:off x="6171840" y="2819520"/>
            <a:ext cx="216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1" name="Straight Arrow Connector 17"/>
          <p:cNvCxnSpPr/>
          <p:nvPr/>
        </p:nvCxnSpPr>
        <p:spPr>
          <a:xfrm flipV="1">
            <a:off x="1370160" y="3123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Straight Arrow Connector 18"/>
          <p:cNvCxnSpPr/>
          <p:nvPr/>
        </p:nvCxnSpPr>
        <p:spPr>
          <a:xfrm flipV="1">
            <a:off x="4113360" y="3123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Rectangle 21"/>
          <p:cNvSpPr/>
          <p:nvPr/>
        </p:nvSpPr>
        <p:spPr>
          <a:xfrm>
            <a:off x="609480" y="4114800"/>
            <a:ext cx="807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roves healing of wounds and fractu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urn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, and surge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on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iron absorption from me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venting and curing Scurv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851120" y="14479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commended Therapeutic Do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2459160"/>
            <a:ext cx="815328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curvy, 100-250 mg once or twice dai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reating the common cold, 1-3 g dai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cute stress, 1 g (3 times dail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reventing sunburn, 2 g of vitamin C and 1000 IU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has been u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229400" y="15228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57200" y="920880"/>
            <a:ext cx="8305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is general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arded as safe in usu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(up to 1000 mg). Dental erosion may occu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chronically chewing vitamin C tabl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doses of vitamin 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2000 mg/day ma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dney st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vere diarrhea, nausea,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tis. Large doses may precipitate hemolysis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with glucose 6-phosphate dehydrogen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is metabolized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alic ac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ncrea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ption increases the urinary concen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oxalic acid and increases the risk of oxa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ne 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68876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C- Drug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80880" y="768240"/>
            <a:ext cx="830592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   chromium and aluminium absorption. Pati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renal failure who take (Al) compounds shou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vitamin C in doses above the R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an destroy dietary vitamin B12 (so, it must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at least 2 hours after me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ification of the urine by vitamin C could increase re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salicylates by the renal tubules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lasma salicylate levels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0" name="Straight Arrow Connector 3"/>
          <p:cNvCxnSpPr/>
          <p:nvPr/>
        </p:nvCxnSpPr>
        <p:spPr>
          <a:xfrm flipV="1">
            <a:off x="2284560" y="837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685800" y="668160"/>
            <a:ext cx="8077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doses of vitamin C can    the response to warfari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y by causing diarrhea and reducing Warfar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 increases elimination of vitamin C. It reduc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and leukocyte uptake of vitamin C, leav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 the plasma to be excreted into the ur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s can  vitamin C absorption or   i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2" name="Straight Arrow Connector 3"/>
          <p:cNvCxnSpPr/>
          <p:nvPr/>
        </p:nvCxnSpPr>
        <p:spPr>
          <a:xfrm flipH="1">
            <a:off x="5104800" y="1201320"/>
            <a:ext cx="108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4"/>
          <p:cNvCxnSpPr/>
          <p:nvPr/>
        </p:nvCxnSpPr>
        <p:spPr>
          <a:xfrm flipH="1">
            <a:off x="3504600" y="4782960"/>
            <a:ext cx="1080" cy="30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5"/>
          <p:cNvCxnSpPr/>
          <p:nvPr/>
        </p:nvCxnSpPr>
        <p:spPr>
          <a:xfrm flipV="1">
            <a:off x="8001000" y="478224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95280"/>
          <a:ext cx="8305920" cy="51930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832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 B1 (Thiamin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 B6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yridoxine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2 (Riboflav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itamin B7 or Vitamin H      (Biot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3 (Niac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9 or Vitamin M      or (Folic aci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5 (Pantothenic     aci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12      (Cyanocobalam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2"/>
          <p:cNvSpPr/>
          <p:nvPr/>
        </p:nvSpPr>
        <p:spPr>
          <a:xfrm>
            <a:off x="2669400" y="152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 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ounded Rectangle 10"/>
          <p:cNvSpPr/>
          <p:nvPr/>
        </p:nvSpPr>
        <p:spPr>
          <a:xfrm>
            <a:off x="2438280" y="2209680"/>
            <a:ext cx="4038840" cy="6098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ater Soluble Vitami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826360" y="914400"/>
            <a:ext cx="341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 Group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391840" y="2185920"/>
            <a:ext cx="422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 (Thi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http://t2.gstatic.com/images?q=tbn:ANd9GcSqg7KTuRwSKeYkqfmuLoG7Ba7KIAsAlhv9zqvkxM97r8hl1pmLkQ"/>
          <p:cNvPicPr/>
          <p:nvPr/>
        </p:nvPicPr>
        <p:blipFill>
          <a:blip r:embed="rId2"/>
          <a:stretch/>
        </p:blipFill>
        <p:spPr>
          <a:xfrm>
            <a:off x="6553080" y="4572000"/>
            <a:ext cx="2343240" cy="1952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20" descr="http://www.find-croatia.com/photos-croatia/nature-croatia/slides/Croatia213.jpg"/>
          <p:cNvPicPr/>
          <p:nvPr/>
        </p:nvPicPr>
        <p:blipFill>
          <a:blip r:embed="rId3"/>
          <a:stretch/>
        </p:blipFill>
        <p:spPr>
          <a:xfrm>
            <a:off x="380880" y="4572000"/>
            <a:ext cx="2286000" cy="201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http://www.myerscrosstraining.com/storage/Glass-of-milk.png?__SQUARESPACE_CACHEVERSION=1344359272721"/>
          <p:cNvPicPr/>
          <p:nvPr/>
        </p:nvPicPr>
        <p:blipFill>
          <a:blip r:embed="rId4"/>
          <a:stretch/>
        </p:blipFill>
        <p:spPr>
          <a:xfrm>
            <a:off x="228600" y="2209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http://www.reportageonline.com/wp-content/uploads/2012/05/Red-meat.jpg"/>
          <p:cNvPicPr/>
          <p:nvPr/>
        </p:nvPicPr>
        <p:blipFill>
          <a:blip r:embed="rId5"/>
          <a:stretch/>
        </p:blipFill>
        <p:spPr>
          <a:xfrm>
            <a:off x="6705720" y="2209680"/>
            <a:ext cx="2182680" cy="1838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 (Thi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33520" y="838080"/>
            <a:ext cx="815328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-soluble B-vitamin family to be discovered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body reserve of thiamine is small (~30mg), a stead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ary supply of it is important to avoid deficiency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cause of its central role in energy production, most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e is located in the muscl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iamine absorbed, it is rapidly transformed into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 pyrophosphate (TPP)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coenzym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8" descr="http://t3.gstatic.com/images?q=tbn:ANd9GcQEYZLV6FOqKw-YzUyT2lRu8uPZMeWoYSeZh5StM1vmb7GAKtoa&amp;t=1"/>
          <p:cNvPicPr/>
          <p:nvPr/>
        </p:nvPicPr>
        <p:blipFill>
          <a:blip r:embed="rId1"/>
          <a:stretch/>
        </p:blipFill>
        <p:spPr>
          <a:xfrm>
            <a:off x="228600" y="4583160"/>
            <a:ext cx="3314880" cy="1981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0960" y="488628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Pyrimidin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R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2" name="Straight Arrow Connector 8"/>
          <p:cNvCxnSpPr/>
          <p:nvPr/>
        </p:nvCxnSpPr>
        <p:spPr>
          <a:xfrm>
            <a:off x="517320" y="5376600"/>
            <a:ext cx="292680" cy="121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13" name="Picture 4" descr="http://www.mikeblaber.org/oldwine/BCH4053/Lecture33/vitB1.jpg"/>
          <p:cNvPicPr/>
          <p:nvPr/>
        </p:nvPicPr>
        <p:blipFill>
          <a:blip r:embed="rId2"/>
          <a:stretch/>
        </p:blipFill>
        <p:spPr>
          <a:xfrm>
            <a:off x="3613320" y="4514760"/>
            <a:ext cx="5302080" cy="20574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6"/>
          <p:cNvSpPr/>
          <p:nvPr/>
        </p:nvSpPr>
        <p:spPr>
          <a:xfrm>
            <a:off x="1491120" y="449568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Methy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Brid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5" name="Straight Arrow Connector 17"/>
          <p:cNvCxnSpPr/>
          <p:nvPr/>
        </p:nvCxnSpPr>
        <p:spPr>
          <a:xfrm flipH="1">
            <a:off x="1834920" y="4889160"/>
            <a:ext cx="360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6" name="TextBox 21"/>
          <p:cNvSpPr/>
          <p:nvPr/>
        </p:nvSpPr>
        <p:spPr>
          <a:xfrm>
            <a:off x="2370240" y="4735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Thiazole R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7" name="Straight Arrow Connector 22"/>
          <p:cNvCxnSpPr/>
          <p:nvPr/>
        </p:nvCxnSpPr>
        <p:spPr>
          <a:xfrm flipH="1">
            <a:off x="2598120" y="4963680"/>
            <a:ext cx="2293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TextBox 26"/>
          <p:cNvSpPr/>
          <p:nvPr/>
        </p:nvSpPr>
        <p:spPr>
          <a:xfrm>
            <a:off x="272880" y="618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514"/>
                </a:solidFill>
                <a:latin typeface="Garamond"/>
              </a:rPr>
              <a:t>Thiamin or Aneur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6962040" y="6488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(Coenzyme for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b51"/>
                </a:solidFill>
                <a:uFillTx/>
                <a:latin typeface="Times New Roman"/>
                <a:ea typeface="Times New Roman"/>
              </a:rPr>
              <a:t>Daily Required amount and 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14300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457200" y="87156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A (Recommended Dietary Allowa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based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mber of calories in di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ergy require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ult male: 3000 k 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male:        2100 k 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ren :     1700-2000 k 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requirement increases with high carbohydr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ke and for hard worker or athle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334120" y="21337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B1 requir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5 mg/day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1 mg/da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mg/da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129528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water-soluble vitam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nimals are able to synthesize all vitamin C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rom dietary sugars; bu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s are un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nimals are able to increase synthesis of vitamin 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stress bu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s’ strictly depend 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etary sources, increases risk of deficienc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stress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654720" y="45720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3505320" y="6553080"/>
            <a:ext cx="2133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Box 37"/>
          <p:cNvSpPr/>
          <p:nvPr/>
        </p:nvSpPr>
        <p:spPr>
          <a:xfrm>
            <a:off x="2612160" y="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bility of Thiam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09480" y="649440"/>
            <a:ext cx="8153640" cy="57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ble in crystalline form but not so in solu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 by prolonged heat, baking soda (with heating)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fite preservativ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aqueous solutions with pH &gt; 5.0. At pH 8.0 o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ve, thiamine turns yellow and is destroyed by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x series of irreversible reac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trong alkaline solution with the presence of oxidiz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ts, e.g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assium ferricyanide, thiamine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ted to thiochrom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is blue fluoresc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and is used for fluoremetric determin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1 in foods, pharmaceutic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ations, and biological flu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27" descr="http://molpharm.aspetjournals.org/content/65/1/257/F1.large.jpg"/>
          <p:cNvPicPr/>
          <p:nvPr/>
        </p:nvPicPr>
        <p:blipFill>
          <a:blip r:embed="rId1"/>
          <a:stretch/>
        </p:blipFill>
        <p:spPr>
          <a:xfrm>
            <a:off x="5638680" y="5943600"/>
            <a:ext cx="32767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5740560" y="6411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Thiochro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268596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57200" y="533520"/>
            <a:ext cx="822960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act as co-enzyme (TPP)</a:t>
            </a:r>
            <a:r>
              <a:rPr b="1" lang="en-US" sz="2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arbohydrate metabolism (for glycolysis and Kreb’s cycle enzymes: pyruvate dehydrogenase and </a:t>
            </a:r>
            <a:r>
              <a:rPr b="0" lang="el-GR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-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toglutarate dehydrogenase), which enabl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ion of glucose into biological energy through oxidative decarboxylation reaction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role is important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energy to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i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transmission of nerve impulses b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energy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the efficiency of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rt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formation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BC’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 It act as co-enzyme for transketolase which functions in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tose phosphate pathway to synthesiz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DPH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tose sugars: deoxyribose and ribose are involved 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 biosynthesi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618280" y="25560"/>
            <a:ext cx="40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iamine 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09480" y="609480"/>
            <a:ext cx="784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thi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etitive inhibit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group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yrimidine  ring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replaced by hydroxyl group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opyrithiamin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prevents the phosphorila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 ethyl group that is essential for activit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vitamin B1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a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ound in raw fish destroys vitamin B1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701360" y="3557520"/>
            <a:ext cx="55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Thiamine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609480" y="4232160"/>
            <a:ext cx="8077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nutri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et high in thiaminase-rich food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aw freshwate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sh, raw shellfish, fern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 having anti-thiamine factor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ea, coffee etc.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consumption of alcoh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8" descr="http://t3.gstatic.com/images?q=tbn:ANd9GcQEYZLV6FOqKw-YzUyT2lRu8uPZMeWoYSeZh5StM1vmb7GAKtoa&amp;t=1"/>
          <p:cNvPicPr/>
          <p:nvPr/>
        </p:nvPicPr>
        <p:blipFill>
          <a:blip r:embed="rId1"/>
          <a:stretch/>
        </p:blipFill>
        <p:spPr>
          <a:xfrm>
            <a:off x="0" y="2133720"/>
            <a:ext cx="1447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16520" y="228600"/>
            <a:ext cx="69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tic Testing for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457200" y="8380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agnosis test for B1 deficiency can be determined by measuring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ketola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vels of erythrocy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1693800" y="190512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of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04920" y="2666880"/>
            <a:ext cx="8534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riberi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deficiency disease caused by lack of thiamine resulted from malnutrition, alcoholism or other cause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two major types of beriberi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y beriber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the nervous syst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Wet beriberi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diovascular syste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nds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rnicke-Korsakof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 which affect the nerv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57200" y="487440"/>
          <a:ext cx="8458200" cy="5973840"/>
        </p:xfrm>
        <a:graphic>
          <a:graphicData uri="http://schemas.openxmlformats.org/drawingml/2006/table">
            <a:tbl>
              <a:tblPr/>
              <a:tblGrid>
                <a:gridCol w="3846600"/>
                <a:gridCol w="461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y Beri-ber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Wet Beri-ber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3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ymptom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Difficulty in wal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ainful tender mus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oss of sensation in hands and fe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oss of muscle function or paralysis of the lower le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Mental confusion/speech difficul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omiting and anorex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ymptoms 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Dyspn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orthopn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ncreased heart rate, enlarged heart, heart failu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welling of the lower leg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Wernicke–Korsakoff syndrome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Ophthalmoplegia </a:t>
                      </a:r>
                      <a:r>
                        <a:rPr b="1" lang="en-US" sz="2400" spc="-1" strike="noStrike">
                          <a:solidFill>
                            <a:srgbClr val="00007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000079"/>
                          </a:solidFill>
                          <a:latin typeface="Times New Roman"/>
                          <a:ea typeface="Times New Roman"/>
                        </a:rPr>
                        <a:t>paralysis    of  one or more extraocular muscles which are responsible for eye movements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Confu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Co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Death if untreate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24.media.tumblr.com/tumblr_m49399Ugn51r99ahro1_400.jpg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096920" y="76320"/>
            <a:ext cx="74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of Vitamin B1 deficiency (BERI-BER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103760" y="85680"/>
            <a:ext cx="69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380880" y="779400"/>
            <a:ext cx="838224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cohol reduces absorp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and interferes with its conversion to TPP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h consumption of coffee and black te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et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 stores in the body and hinder its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ients hav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 cirrhosis, malabsorption syndrome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es, kidney disease, or hypermetabolim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lderly peopl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poor nutritional statu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ies with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ants who are breastfed by thiamin deficient-mother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apidly develop life-threatening sign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 deficienc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245960" y="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 of Thiamine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57200" y="596880"/>
            <a:ext cx="822960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erve disorder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emental thiamin may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in  inflammatory nerve disorders (such 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eminal neuralgia)  and in diabetic neuropath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entral nervous system disorder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lzheimer’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, anxiety, and depression associated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xie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art failure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in the elderly chronic hear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ure that responds poorly to convention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therap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emia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deficiency produces an anemi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mbling that of folate or vitamin B12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th macrocytosis) that responds to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  Disease caused by heavy alcohol consum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2305440" y="856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-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457200" y="685800"/>
            <a:ext cx="830592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tibiotics, sulfa drugs, and cer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diuretic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lower thiamine levels in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 may intens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omuscular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cker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are used during some surgic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vitamins are best absorbed as a complex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gnesiu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motes the absorption of thi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571560" y="434340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57200" y="495288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is virtually nontoxic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&gt; 200mg may cause drowsiness in some peop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re, but severe, allergic reactions may be happened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jectable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400800" y="914400"/>
            <a:ext cx="2324160" cy="17035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2150280" y="2819520"/>
            <a:ext cx="49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2 (Riboflav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Picture 2" descr="http://www.todayifoundout.com/wp-content/uploads/2010/04/almonds.jpg"/>
          <p:cNvPicPr/>
          <p:nvPr/>
        </p:nvPicPr>
        <p:blipFill>
          <a:blip r:embed="rId2"/>
          <a:stretch/>
        </p:blipFill>
        <p:spPr>
          <a:xfrm>
            <a:off x="304920" y="609480"/>
            <a:ext cx="2307960" cy="1990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www.thedailygreen.com/cm/thedailygreen/images/al/spinach-vitamina-lg.jpg"/>
          <p:cNvPicPr/>
          <p:nvPr/>
        </p:nvPicPr>
        <p:blipFill>
          <a:blip r:embed="rId3"/>
          <a:stretch/>
        </p:blipFill>
        <p:spPr>
          <a:xfrm>
            <a:off x="6248520" y="3809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medimanage.com/Images/fruit-juice-concentrates.jpg"/>
          <p:cNvPicPr/>
          <p:nvPr/>
        </p:nvPicPr>
        <p:blipFill>
          <a:blip r:embed="rId4"/>
          <a:stretch/>
        </p:blipFill>
        <p:spPr>
          <a:xfrm>
            <a:off x="304920" y="3733920"/>
            <a:ext cx="2438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985760" y="10152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atural Source of Vitamin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http://kara.allthingsd.com/files/2009/01/shiny_plum.jpg"/>
          <p:cNvPicPr/>
          <p:nvPr/>
        </p:nvPicPr>
        <p:blipFill>
          <a:blip r:embed="rId1"/>
          <a:stretch/>
        </p:blipFill>
        <p:spPr>
          <a:xfrm>
            <a:off x="533520" y="888840"/>
            <a:ext cx="1676160" cy="1424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066680" y="233676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m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http://www.hearthnkettle.com/chef-recipe-tips/wp-content/uploads/2012/06/red-pepper2.jpg"/>
          <p:cNvPicPr/>
          <p:nvPr/>
        </p:nvPicPr>
        <p:blipFill>
          <a:blip r:embed="rId2"/>
          <a:stretch/>
        </p:blipFill>
        <p:spPr>
          <a:xfrm>
            <a:off x="2819520" y="888840"/>
            <a:ext cx="1854000" cy="1390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979000" y="2260440"/>
            <a:ext cx="177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pepper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http://upload.wikimedia.org/wikipedia/commons/3/30/Jambu_Batu.jpg"/>
          <p:cNvPicPr/>
          <p:nvPr/>
        </p:nvPicPr>
        <p:blipFill>
          <a:blip r:embed="rId3"/>
          <a:stretch/>
        </p:blipFill>
        <p:spPr>
          <a:xfrm>
            <a:off x="5334120" y="88884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5796000" y="218448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v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http://www.defeatdiabetes.org/resource/dynamic/global/food_kiwi_fruit.jpg"/>
          <p:cNvPicPr/>
          <p:nvPr/>
        </p:nvPicPr>
        <p:blipFill>
          <a:blip r:embed="rId4"/>
          <a:stretch/>
        </p:blipFill>
        <p:spPr>
          <a:xfrm>
            <a:off x="7315200" y="888840"/>
            <a:ext cx="1600200" cy="1400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7475760" y="2225520"/>
            <a:ext cx="157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wifrui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0" descr="http://thehealthcareblog.com/files/2012/03/broccoli.jpg"/>
          <p:cNvPicPr/>
          <p:nvPr/>
        </p:nvPicPr>
        <p:blipFill>
          <a:blip r:embed="rId5"/>
          <a:stretch/>
        </p:blipFill>
        <p:spPr>
          <a:xfrm>
            <a:off x="533520" y="2971800"/>
            <a:ext cx="16761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768240" y="4419720"/>
            <a:ext cx="131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cco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2" descr="http://sumokina.com/wp-content/uploads/2012/06/Papaya-fruits1.jpg"/>
          <p:cNvPicPr/>
          <p:nvPr/>
        </p:nvPicPr>
        <p:blipFill>
          <a:blip r:embed="rId6"/>
          <a:stretch/>
        </p:blipFill>
        <p:spPr>
          <a:xfrm>
            <a:off x="2819520" y="2971800"/>
            <a:ext cx="190476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"/>
          <p:cNvSpPr/>
          <p:nvPr/>
        </p:nvSpPr>
        <p:spPr>
          <a:xfrm>
            <a:off x="3436200" y="44197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y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8" descr="http://www.iloveportlandmaine.com/wp-content/uploads/2012/06/straw.jpg"/>
          <p:cNvPicPr/>
          <p:nvPr/>
        </p:nvPicPr>
        <p:blipFill>
          <a:blip r:embed="rId7"/>
          <a:stretch/>
        </p:blipFill>
        <p:spPr>
          <a:xfrm>
            <a:off x="5334120" y="2971800"/>
            <a:ext cx="1676160" cy="1447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8"/>
          <p:cNvSpPr/>
          <p:nvPr/>
        </p:nvSpPr>
        <p:spPr>
          <a:xfrm>
            <a:off x="5493240" y="4308480"/>
            <a:ext cx="164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wberr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0" descr="http://www.robertreeveslaw.com/blog/wp-content/uploads/2012/01/Fungicide-Contaminated-Orange-Juice.jpg"/>
          <p:cNvPicPr/>
          <p:nvPr/>
        </p:nvPicPr>
        <p:blipFill>
          <a:blip r:embed="rId8"/>
          <a:stretch/>
        </p:blipFill>
        <p:spPr>
          <a:xfrm>
            <a:off x="7315200" y="297180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0"/>
          <p:cNvSpPr/>
          <p:nvPr/>
        </p:nvSpPr>
        <p:spPr>
          <a:xfrm>
            <a:off x="7700760" y="4308480"/>
            <a:ext cx="11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2" descr="http://duartefruittrees.com/wp-content/uploads/2010/04/Allen-Eureka-Lemon-1.jpg"/>
          <p:cNvPicPr/>
          <p:nvPr/>
        </p:nvPicPr>
        <p:blipFill>
          <a:blip r:embed="rId9"/>
          <a:stretch/>
        </p:blipFill>
        <p:spPr>
          <a:xfrm>
            <a:off x="1523880" y="50292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2"/>
          <p:cNvSpPr/>
          <p:nvPr/>
        </p:nvSpPr>
        <p:spPr>
          <a:xfrm>
            <a:off x="1757160" y="63658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4" descr="http://susangaer.com/studentprojects/grapefruit.jpg"/>
          <p:cNvPicPr/>
          <p:nvPr/>
        </p:nvPicPr>
        <p:blipFill>
          <a:blip r:embed="rId10"/>
          <a:stretch/>
        </p:blipFill>
        <p:spPr>
          <a:xfrm>
            <a:off x="3962520" y="502920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4"/>
          <p:cNvSpPr/>
          <p:nvPr/>
        </p:nvSpPr>
        <p:spPr>
          <a:xfrm>
            <a:off x="4041720" y="6289560"/>
            <a:ext cx="155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efrui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6" descr="http://www.learningall.com/wp-content/uploads/2012/07/mango.jpg"/>
          <p:cNvPicPr/>
          <p:nvPr/>
        </p:nvPicPr>
        <p:blipFill>
          <a:blip r:embed="rId11"/>
          <a:stretch/>
        </p:blipFill>
        <p:spPr>
          <a:xfrm>
            <a:off x="6095880" y="5029200"/>
            <a:ext cx="1676520" cy="1333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6"/>
          <p:cNvSpPr/>
          <p:nvPr/>
        </p:nvSpPr>
        <p:spPr>
          <a:xfrm>
            <a:off x="6405120" y="628956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g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ed Rectangle 4"/>
          <p:cNvSpPr/>
          <p:nvPr/>
        </p:nvSpPr>
        <p:spPr>
          <a:xfrm>
            <a:off x="914400" y="56386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123840" y="1522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(Riboflav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152280" y="91440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defined chemically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,8-Dimethyl-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-[(2S,3S,4R)-2,3,4,5-tetrahydroxypentyl]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zo [g] pteridine-2,4-di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ellow to orange-yellow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the precursor of phosphorylated coenzymes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MN,  FAD, and flavin coenzy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alently to specific  tissue proteins, at the 8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methyl position of the isoalloxazine 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990720" y="571500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stored mainly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, kidney and hear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is or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D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0- 90%) 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M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www.onestopgate.com/images/pharmaceutical-science/medicinal/250px-Riboflavin.svg.png"/>
          <p:cNvPicPr/>
          <p:nvPr/>
        </p:nvPicPr>
        <p:blipFill>
          <a:blip r:embed="rId1"/>
          <a:stretch/>
        </p:blipFill>
        <p:spPr>
          <a:xfrm>
            <a:off x="281160" y="1901880"/>
            <a:ext cx="2822400" cy="544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ttp://met.fzu.edu.cn/cai/shenghua/resource/biochem/EF/FMN.GIF"/>
          <p:cNvPicPr/>
          <p:nvPr/>
        </p:nvPicPr>
        <p:blipFill>
          <a:blip r:embed="rId2"/>
          <a:stretch/>
        </p:blipFill>
        <p:spPr>
          <a:xfrm>
            <a:off x="5715000" y="838080"/>
            <a:ext cx="2133720" cy="20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http://t3.gstatic.com/images?q=tbn:ANd9GcSUO56A7IVsbCN-090Lgp2whgbn7AWat9aWEVw-vRkb1BXul_6XDg&amp;t=1"/>
          <p:cNvPicPr/>
          <p:nvPr/>
        </p:nvPicPr>
        <p:blipFill>
          <a:blip r:embed="rId3"/>
          <a:stretch/>
        </p:blipFill>
        <p:spPr>
          <a:xfrm>
            <a:off x="4343400" y="3505320"/>
            <a:ext cx="4267080" cy="24476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4971600" y="601992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avin adenine dinucleotide (FAD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68" name="Straight Arrow Connector 6"/>
          <p:cNvCxnSpPr/>
          <p:nvPr/>
        </p:nvCxnSpPr>
        <p:spPr>
          <a:xfrm flipV="1">
            <a:off x="3429000" y="2133000"/>
            <a:ext cx="18295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9" name="Straight Arrow Connector 9"/>
          <p:cNvCxnSpPr/>
          <p:nvPr/>
        </p:nvCxnSpPr>
        <p:spPr>
          <a:xfrm>
            <a:off x="3428640" y="3123720"/>
            <a:ext cx="61020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0" name="TextBox 10"/>
          <p:cNvSpPr/>
          <p:nvPr/>
        </p:nvSpPr>
        <p:spPr>
          <a:xfrm rot="16200000">
            <a:off x="266760" y="36712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Ribose moie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71" name="Straight Arrow Connector 12"/>
          <p:cNvCxnSpPr/>
          <p:nvPr/>
        </p:nvCxnSpPr>
        <p:spPr>
          <a:xfrm flipH="1">
            <a:off x="1445400" y="3200400"/>
            <a:ext cx="2520" cy="137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72" name="TextBox 14"/>
          <p:cNvSpPr/>
          <p:nvPr/>
        </p:nvSpPr>
        <p:spPr>
          <a:xfrm>
            <a:off x="543960" y="1600200"/>
            <a:ext cx="21711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alloxazine moie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73" name="Straight Arrow Connector 16"/>
          <p:cNvCxnSpPr/>
          <p:nvPr/>
        </p:nvCxnSpPr>
        <p:spPr>
          <a:xfrm>
            <a:off x="304560" y="1980720"/>
            <a:ext cx="2515320" cy="2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274" name="TextBox 17"/>
          <p:cNvSpPr/>
          <p:nvPr/>
        </p:nvSpPr>
        <p:spPr>
          <a:xfrm>
            <a:off x="309600" y="4724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= Vitamin B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646240" y="289548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phospha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2514600" y="990720"/>
            <a:ext cx="49528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2073960" y="22860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quired  Daily Amount and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599920" y="990720"/>
            <a:ext cx="488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A is an average of 1.5 mg/ da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2" descr="http://whatscookingamerica.net/Mushrooms.jpg"/>
          <p:cNvPicPr/>
          <p:nvPr/>
        </p:nvPicPr>
        <p:blipFill>
          <a:blip r:embed="rId1"/>
          <a:stretch/>
        </p:blipFill>
        <p:spPr>
          <a:xfrm>
            <a:off x="457200" y="1981080"/>
            <a:ext cx="1835280" cy="16671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39640" y="35053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hroo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4" descr="http://upload.wikimedia.org/wikipedia/commons/thumb/2/23/Cacik-1.jpg/220px-Cacik-1.jpg"/>
          <p:cNvPicPr/>
          <p:nvPr/>
        </p:nvPicPr>
        <p:blipFill>
          <a:blip r:embed="rId2"/>
          <a:stretch/>
        </p:blipFill>
        <p:spPr>
          <a:xfrm>
            <a:off x="3505320" y="19810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4025520" y="3546360"/>
            <a:ext cx="137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ghur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6" descr="http://farmersandartisans.com/wp-content/uploads/et_temp/milk-eggs-78660_184x184.jpg"/>
          <p:cNvPicPr/>
          <p:nvPr/>
        </p:nvPicPr>
        <p:blipFill>
          <a:blip r:embed="rId3"/>
          <a:stretch/>
        </p:blipFill>
        <p:spPr>
          <a:xfrm>
            <a:off x="6629400" y="19810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9"/>
          <p:cNvSpPr/>
          <p:nvPr/>
        </p:nvSpPr>
        <p:spPr>
          <a:xfrm>
            <a:off x="6713640" y="3581280"/>
            <a:ext cx="174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– Eg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http://2.bp.blogspot.com/_Dwex9AQ8IuA/SoSl3AmzJwI/AAAAAAAAL1Y/fCy62-X6__c/s400/soy-beans-green-milk-6.jpg"/>
          <p:cNvPicPr/>
          <p:nvPr/>
        </p:nvPicPr>
        <p:blipFill>
          <a:blip r:embed="rId4"/>
          <a:stretch/>
        </p:blipFill>
        <p:spPr>
          <a:xfrm>
            <a:off x="457200" y="4495680"/>
            <a:ext cx="1947960" cy="17528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2"/>
          <p:cNvSpPr/>
          <p:nvPr/>
        </p:nvSpPr>
        <p:spPr>
          <a:xfrm>
            <a:off x="232560" y="617220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ure Soya be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Picture 12" descr="http://thedbz.com/wp-content/uploads/2012/09/spinach.jpg"/>
          <p:cNvPicPr/>
          <p:nvPr/>
        </p:nvPicPr>
        <p:blipFill>
          <a:blip r:embed="rId5"/>
          <a:stretch/>
        </p:blipFill>
        <p:spPr>
          <a:xfrm>
            <a:off x="3429000" y="4495680"/>
            <a:ext cx="2133720" cy="1704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043520" y="61722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9" name="Picture 14" descr="http://www.jamieoliver.com/core/images/foodwise/upload/large-1198.jpg"/>
          <p:cNvPicPr/>
          <p:nvPr/>
        </p:nvPicPr>
        <p:blipFill>
          <a:blip r:embed="rId6"/>
          <a:stretch/>
        </p:blipFill>
        <p:spPr>
          <a:xfrm>
            <a:off x="6629400" y="44956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6"/>
          <p:cNvSpPr/>
          <p:nvPr/>
        </p:nvSpPr>
        <p:spPr>
          <a:xfrm>
            <a:off x="7167600" y="609588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f li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4"/>
          <p:cNvSpPr/>
          <p:nvPr/>
        </p:nvSpPr>
        <p:spPr>
          <a:xfrm>
            <a:off x="2836440" y="46656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bility of Riboflav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457200" y="1373040"/>
            <a:ext cx="8305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and its coenzymes are sensitive to alkali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 but in the presence of light or UV light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photodegraded to yiel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mi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,8,10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methylisoalloxazine)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 alkaline conditio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michrom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,8-dimethylalloxaz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under acid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itio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these products are biologicall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ctive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phototherapy of neonatal jaundice and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ain skin disorders may promote systemi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05424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304920" y="457200"/>
            <a:ext cx="845820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nergy produc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tive forms of riboflavin are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ylated coenzymes FMN and FAD whic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 central roles in about 150 oxidation-reductio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 and are involved i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abolism of carbohydrates, fat, and prote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adenosine triphosphate (ATP) throug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ular respiration in mitochondr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 of vitamin B12, folate, vitamin B6 and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of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Antioxidant ac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 of glutathione reduct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helps in recycle of oxidized glutathione, whic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s a key role in maintaining proper function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oxidative stress in human cells includ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ythr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2268000" y="380880"/>
            <a:ext cx="49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Riboflavin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380880" y="1219320"/>
            <a:ext cx="8458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nutri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 conditions which affect intestinal absor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of vitamin excretion from the bod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123200" y="3962520"/>
            <a:ext cx="68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tic testing for vitamin B2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066680" y="466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sitive diagnostic test of serum riboflavin is by measur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tathione reductase levels of erythrocyt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642960" y="304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2 deficiency (Ariboflavinos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85800" y="1062000"/>
            <a:ext cx="792468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, scaly, painful, and itchy patches on sensitive sk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round nose, ears, mouth, labia majora (female), and the scrotum (mal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ful fissures and cracks form at the angles of the mouth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gular stomatit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e lip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heilosis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associated with bacterial and fungal infection. The tongue and throat  become purplish and painfu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 ulc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4" descr="http://userfiles.steadyhealth.com/sites/steadyhealth.com/modules/infocenter/data/images/myths_about_angular_stomatitis.jpg"/>
          <p:cNvPicPr/>
          <p:nvPr/>
        </p:nvPicPr>
        <p:blipFill>
          <a:blip r:embed="rId1"/>
          <a:stretch/>
        </p:blipFill>
        <p:spPr>
          <a:xfrm>
            <a:off x="4800600" y="4800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2534040" y="64119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ular stomat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8" descr="http://www.cancer.gov/PublishedContent/Images/images/documents/42ec158c-ba4d-4bfd-a152-26987644af0a/symptom4.jpg"/>
          <p:cNvPicPr/>
          <p:nvPr/>
        </p:nvPicPr>
        <p:blipFill>
          <a:blip r:embed="rId2"/>
          <a:stretch/>
        </p:blipFill>
        <p:spPr>
          <a:xfrm>
            <a:off x="228600" y="4876920"/>
            <a:ext cx="1828800" cy="15811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1"/>
          <p:cNvSpPr/>
          <p:nvPr/>
        </p:nvSpPr>
        <p:spPr>
          <a:xfrm>
            <a:off x="304920" y="6324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, scaly, painful ski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5338440" y="64008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il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6" name="Picture 6" descr="http://mouthsorespictures.com/images/Herpes-Mouth-Sores-Pictures.jpg"/>
          <p:cNvPicPr/>
          <p:nvPr/>
        </p:nvPicPr>
        <p:blipFill>
          <a:blip r:embed="rId3"/>
          <a:stretch/>
        </p:blipFill>
        <p:spPr>
          <a:xfrm>
            <a:off x="7026120" y="4876920"/>
            <a:ext cx="2041560" cy="1523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7109640" y="63244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 ulc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8" name="Picture 12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457200" y="687240"/>
            <a:ext cx="815328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ness, burning, excessive tearing of eye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decreased production of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riboflavin typically produces symptom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vitamin B6 and niacin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2" descr="http://www.docshop.com/assets/images/dry-eye-symptoms.jpg?1333049766"/>
          <p:cNvPicPr/>
          <p:nvPr/>
        </p:nvPicPr>
        <p:blipFill>
          <a:blip r:embed="rId1"/>
          <a:stretch/>
        </p:blipFill>
        <p:spPr>
          <a:xfrm>
            <a:off x="762120" y="4495680"/>
            <a:ext cx="2361960" cy="160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http://www.nephron.com/images/anemia0519.jpg"/>
          <p:cNvPicPr/>
          <p:nvPr/>
        </p:nvPicPr>
        <p:blipFill>
          <a:blip r:embed="rId2"/>
          <a:stretch/>
        </p:blipFill>
        <p:spPr>
          <a:xfrm>
            <a:off x="3733920" y="449568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"/>
          <p:cNvSpPr/>
          <p:nvPr/>
        </p:nvSpPr>
        <p:spPr>
          <a:xfrm>
            <a:off x="1108080" y="617220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ness, burning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ring of ey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461120" y="60199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Picture 6" descr="http://www.blatner.com/adam/consctransf/historyofmedicine/5-deficiencydiseases/pellagrskin.JPG"/>
          <p:cNvPicPr/>
          <p:nvPr/>
        </p:nvPicPr>
        <p:blipFill>
          <a:blip r:embed="rId3"/>
          <a:stretch/>
        </p:blipFill>
        <p:spPr>
          <a:xfrm>
            <a:off x="6629400" y="4495680"/>
            <a:ext cx="2085840" cy="1524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7"/>
          <p:cNvSpPr/>
          <p:nvPr/>
        </p:nvSpPr>
        <p:spPr>
          <a:xfrm>
            <a:off x="6248520" y="6019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of niacin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1177920" y="23796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2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80880" y="995400"/>
            <a:ext cx="8458200" cy="53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, and adolescent, athletes, as well as during pregnanc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lactation (cases with a high-energy output) nee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vitamin B2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under high stres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ics may have low level of riboflavin as a result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d urinary excretion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derly people (nutritional inadequacy and problems with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ients administering thyroid hormones, oral contraceptives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enothiazines, barbiturates, probenacid, and Tricyclic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depressant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242000" y="98280"/>
            <a:ext cx="71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 of Vitamin B2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57200" y="685800"/>
            <a:ext cx="822960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oxification: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boflavin helps liver to detoxify pesticides,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s, and other environmental toxin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pacity throughout the body a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ly for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ns of the ey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le intake of riboflavin help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crease the incidence of cataract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 a cofactor of glutathione reductase, riboflavin with vitamin C increase body's level of glutathione (antioxidant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le riboflavin intake maintain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y skin and mucou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mbran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ay be beneficial 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matitis, cheilosis, and sk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uptions and rash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8"/>
          <p:cNvSpPr/>
          <p:nvPr/>
        </p:nvSpPr>
        <p:spPr>
          <a:xfrm>
            <a:off x="2057400" y="4952880"/>
            <a:ext cx="54864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ounded Rectangle 6"/>
          <p:cNvSpPr/>
          <p:nvPr/>
        </p:nvSpPr>
        <p:spPr>
          <a:xfrm>
            <a:off x="2209680" y="5791320"/>
            <a:ext cx="464832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" descr="vitamin C decomposition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2438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155240" y="3962520"/>
            <a:ext cx="258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 Ascorb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educed Form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109120" y="3962520"/>
            <a:ext cx="374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Dehydroascorbic 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xidised Form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508200" y="38088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09680" y="5827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RDA: Adults: 60 m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Children: 30 m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181240" y="502452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ysiologically active forms for vitamin 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1847520" y="22860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– Drug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906480"/>
            <a:ext cx="83059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eneci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ti-gout)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antheline bromid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tipeptic ulcers) bot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ays and impairs it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enothiazin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tipsychotic drugs)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retion of ribo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us lowering serum leve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als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crease its serum level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interfe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fectivene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nti-malarial (ex. chloroquine)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tracyclin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 and sulfa-containing drug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2213280" y="83808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say of Vitamin B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685800" y="2133720"/>
            <a:ext cx="792468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miflavin metho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solution or biologic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rradiated in alkali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to yielded a chloroform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lumiflavin, measured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ore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ounded Rectangle 7"/>
          <p:cNvSpPr/>
          <p:nvPr/>
        </p:nvSpPr>
        <p:spPr>
          <a:xfrm>
            <a:off x="1828800" y="2438280"/>
            <a:ext cx="5715000" cy="38862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874800" y="762120"/>
            <a:ext cx="7000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3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IACIN &amp; NIACINAMID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6" name="Picture 7" descr="http://1.bp.blogspot.com/-S9KpR3iH5t0/T9rqrVjQ-LI/AAAAAAAAA-A/GJPBnX9YY3w/s1600/Ingredients_Healthy_Food.jpg"/>
          <p:cNvPicPr/>
          <p:nvPr/>
        </p:nvPicPr>
        <p:blipFill>
          <a:blip r:embed="rId1"/>
          <a:stretch/>
        </p:blipFill>
        <p:spPr>
          <a:xfrm>
            <a:off x="2209680" y="2743200"/>
            <a:ext cx="4876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4"/>
          <p:cNvSpPr/>
          <p:nvPr/>
        </p:nvSpPr>
        <p:spPr>
          <a:xfrm>
            <a:off x="2971800" y="6172200"/>
            <a:ext cx="3276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123840" y="2556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3 (Niacin &amp; Niacinamid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609480" y="685800"/>
            <a:ext cx="7772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main forms of Vitamin B3 are found in food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iacin)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ami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iacinamid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can be partially satisfied by intak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is converted by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0 mg of tryptoph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verted in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mg 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ary requirements for niacin are describe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equivalents (NEs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NE = 60mg of tryptophan = 1mg of niac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200400" y="6167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DA: 13- 20 mg/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2744280" y="5335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2" descr="http://t3.gstatic.com/images?q=tbn:ANd9GcSFFOVHQJ1T-RUkTKbzi11X-C_cM6KqiKqgeXL851I5S9X8UFNZtg&amp;t=1"/>
          <p:cNvPicPr/>
          <p:nvPr/>
        </p:nvPicPr>
        <p:blipFill>
          <a:blip r:embed="rId1"/>
          <a:stretch/>
        </p:blipFill>
        <p:spPr>
          <a:xfrm>
            <a:off x="609480" y="228600"/>
            <a:ext cx="1567080" cy="1066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http://www.lookchem.com/300w%5C2010-5%5C17ff163c-9db1-4e2d-a52e-977cf1a86bfb.png"/>
          <p:cNvPicPr/>
          <p:nvPr/>
        </p:nvPicPr>
        <p:blipFill>
          <a:blip r:embed="rId2"/>
          <a:stretch/>
        </p:blipFill>
        <p:spPr>
          <a:xfrm>
            <a:off x="7010280" y="2286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274320" y="126216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id or Niaci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183720" y="130644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amide or Niacinami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2" descr="http://4.bp.blogspot.com/-GEClzTQ1DYs/T6f2IIdbg9I/AAAAAAAAAJM/cjQC_gjleLk/s1600/Meat58.jpg"/>
          <p:cNvPicPr/>
          <p:nvPr/>
        </p:nvPicPr>
        <p:blipFill>
          <a:blip r:embed="rId3"/>
          <a:stretch/>
        </p:blipFill>
        <p:spPr>
          <a:xfrm>
            <a:off x="228600" y="19051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461520" y="3200400"/>
            <a:ext cx="91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8" name="Picture 4" descr="http://www.futurity.org/wp-content/uploads/2010/10/fish_1.jpg"/>
          <p:cNvPicPr/>
          <p:nvPr/>
        </p:nvPicPr>
        <p:blipFill>
          <a:blip r:embed="rId4"/>
          <a:stretch/>
        </p:blipFill>
        <p:spPr>
          <a:xfrm>
            <a:off x="2133720" y="19051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9"/>
          <p:cNvSpPr/>
          <p:nvPr/>
        </p:nvSpPr>
        <p:spPr>
          <a:xfrm>
            <a:off x="2442960" y="3200400"/>
            <a:ext cx="78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s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0" name="Picture 6" descr="http://www.juliuskingdomartisanalfoods.com/store/images/raw-liver.jpg"/>
          <p:cNvPicPr/>
          <p:nvPr/>
        </p:nvPicPr>
        <p:blipFill>
          <a:blip r:embed="rId5"/>
          <a:stretch/>
        </p:blipFill>
        <p:spPr>
          <a:xfrm>
            <a:off x="4038480" y="1905120"/>
            <a:ext cx="1600200" cy="1390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1"/>
          <p:cNvSpPr/>
          <p:nvPr/>
        </p:nvSpPr>
        <p:spPr>
          <a:xfrm>
            <a:off x="3969720" y="32004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ep li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8" descr="http://www.latimes.com/media/photo/2010-03/39579199.jpg"/>
          <p:cNvPicPr/>
          <p:nvPr/>
        </p:nvPicPr>
        <p:blipFill>
          <a:blip r:embed="rId6"/>
          <a:stretch/>
        </p:blipFill>
        <p:spPr>
          <a:xfrm>
            <a:off x="5943600" y="1905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3"/>
          <p:cNvSpPr/>
          <p:nvPr/>
        </p:nvSpPr>
        <p:spPr>
          <a:xfrm>
            <a:off x="6025680" y="3165480"/>
            <a:ext cx="124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w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4" name="Picture 10" descr="http://image.shutterstock.com/display_pic_with_logo/539965/539965,1322464122,1/stock-photo-fresh-cow-milk-contains-vitamins-and-it-is-useful-for-health-89687191.jpg"/>
          <p:cNvPicPr/>
          <p:nvPr/>
        </p:nvPicPr>
        <p:blipFill>
          <a:blip r:embed="rId7"/>
          <a:stretch/>
        </p:blipFill>
        <p:spPr>
          <a:xfrm>
            <a:off x="7697880" y="1905120"/>
            <a:ext cx="1446120" cy="1371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5"/>
          <p:cNvSpPr/>
          <p:nvPr/>
        </p:nvSpPr>
        <p:spPr>
          <a:xfrm>
            <a:off x="7553520" y="31654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w’s mi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6" name="Picture 12" descr="http://1.bp.blogspot.com/_5vaMWuq2uLU/TMBgmsgYA0I/AAAAAAAAAOM/WW5oYtovgjY/s1600/whitericebran.jpg"/>
          <p:cNvPicPr/>
          <p:nvPr/>
        </p:nvPicPr>
        <p:blipFill>
          <a:blip r:embed="rId8"/>
          <a:stretch/>
        </p:blipFill>
        <p:spPr>
          <a:xfrm>
            <a:off x="228600" y="388620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7"/>
          <p:cNvSpPr/>
          <p:nvPr/>
        </p:nvSpPr>
        <p:spPr>
          <a:xfrm>
            <a:off x="312480" y="50292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b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14" descr="http://img.21food.com/20110609/product/1305543365031.jpg"/>
          <p:cNvPicPr/>
          <p:nvPr/>
        </p:nvPicPr>
        <p:blipFill>
          <a:blip r:embed="rId9"/>
          <a:stretch/>
        </p:blipFill>
        <p:spPr>
          <a:xfrm>
            <a:off x="2133720" y="388620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2028600" y="5029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ndnu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0" name="Picture 16" descr="http://chilgoza.net/wp-content/uploads/2011/12/pine-nuts.jpg"/>
          <p:cNvPicPr/>
          <p:nvPr/>
        </p:nvPicPr>
        <p:blipFill>
          <a:blip r:embed="rId10"/>
          <a:stretch/>
        </p:blipFill>
        <p:spPr>
          <a:xfrm>
            <a:off x="4038480" y="388620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1"/>
          <p:cNvSpPr/>
          <p:nvPr/>
        </p:nvSpPr>
        <p:spPr>
          <a:xfrm>
            <a:off x="4122360" y="50292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goz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2" name="Picture 18" descr="http://www.ethicurean.com/wp-content/uploads/2006/12/hpim5141.jpg"/>
          <p:cNvPicPr/>
          <p:nvPr/>
        </p:nvPicPr>
        <p:blipFill>
          <a:blip r:embed="rId11"/>
          <a:stretch/>
        </p:blipFill>
        <p:spPr>
          <a:xfrm>
            <a:off x="6019920" y="388620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3"/>
          <p:cNvSpPr/>
          <p:nvPr/>
        </p:nvSpPr>
        <p:spPr>
          <a:xfrm>
            <a:off x="6240960" y="502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Picture 20" descr="http://4.bp.blogspot.com/_8WgOULWt2bY/TAT9N2GSAyI/AAAAAAAAAhc/6dABeFhFgZQ/s1600/beets-and-greens1.jpg"/>
          <p:cNvPicPr/>
          <p:nvPr/>
        </p:nvPicPr>
        <p:blipFill>
          <a:blip r:embed="rId12"/>
          <a:stretch/>
        </p:blipFill>
        <p:spPr>
          <a:xfrm>
            <a:off x="7696080" y="38862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5"/>
          <p:cNvSpPr/>
          <p:nvPr/>
        </p:nvSpPr>
        <p:spPr>
          <a:xfrm>
            <a:off x="7627320" y="5029200"/>
            <a:ext cx="155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t gree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6" name="Picture 22" descr="http://amuslima.com/wp-content/uploads/2011/09/yeast-spoons.jpg"/>
          <p:cNvPicPr/>
          <p:nvPr/>
        </p:nvPicPr>
        <p:blipFill>
          <a:blip r:embed="rId13"/>
          <a:stretch/>
        </p:blipFill>
        <p:spPr>
          <a:xfrm>
            <a:off x="3124080" y="571500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28"/>
          <p:cNvSpPr/>
          <p:nvPr/>
        </p:nvSpPr>
        <p:spPr>
          <a:xfrm>
            <a:off x="2274480" y="6396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8" name="Picture 26" descr="http://image.made-in-china.com/2f0j00AMsaCpwGfPbI/Wheat-Bran.jpg"/>
          <p:cNvPicPr/>
          <p:nvPr/>
        </p:nvPicPr>
        <p:blipFill>
          <a:blip r:embed="rId14"/>
          <a:stretch/>
        </p:blipFill>
        <p:spPr>
          <a:xfrm>
            <a:off x="5996160" y="5715000"/>
            <a:ext cx="1547640" cy="1066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0"/>
          <p:cNvSpPr/>
          <p:nvPr/>
        </p:nvSpPr>
        <p:spPr>
          <a:xfrm>
            <a:off x="7548840" y="6324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1856160" y="1522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rmacokinetic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57200" y="762120"/>
            <a:ext cx="82296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w concentration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transport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high concentration by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ssive diffu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nsport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Nicotinic acid and Nicotinamide bind t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a proteins for transport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synthesi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ver can synthesize Niacin from the essenti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ino aci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, but the synthesis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ly  slow and requires vitamin B1, B2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6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0 mg of Tryptophan   1mg of niacin)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in the gut may also perform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re ineffici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62" name="Straight Arrow Connector 4"/>
          <p:cNvCxnSpPr/>
          <p:nvPr/>
        </p:nvCxnSpPr>
        <p:spPr>
          <a:xfrm>
            <a:off x="5638680" y="5866920"/>
            <a:ext cx="4579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231984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228600" y="969840"/>
            <a:ext cx="845820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acts as a co-enzyme in oxidation reduction reaction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abolic Rxn: in form of NAD+/NAD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bolic Rxn: in form of NADP+/NADP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it is required for functions of &gt;200 enzym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ling with the biosynthesis of several compoun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ty acids, steroi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abolism of fuel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lecules for energ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DNA replication and repair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vital for synthesis of DNA-bound nuclear prote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n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380880" y="1905120"/>
            <a:ext cx="830592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lood sugar regulatio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component of the glucose tolerance fact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TF), which together with insulin, helps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blood gluco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Fat and cholesterol metabolism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lowers levels of total and LDL cholestero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, while increasing levels of HD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(the healthy, protective form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380880" y="3682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Antioxidant function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plays an important role in antioxidant system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in the li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1844280" y="7632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3 Deficiency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457200" y="838080"/>
            <a:ext cx="8153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Milder deficiency of niacin (as well as tryptophan)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 cause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ssiti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flammation of the tongu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to purplish discoloratio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around the mouth and rash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ilit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appeti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ges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ght los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9" name="Picture 2" descr="http://www.hxbenefit.com/wp-content/uploads/2011/08/Atrophic-Glossitis.jpg"/>
          <p:cNvPicPr/>
          <p:nvPr/>
        </p:nvPicPr>
        <p:blipFill>
          <a:blip r:embed="rId1"/>
          <a:stretch/>
        </p:blipFill>
        <p:spPr>
          <a:xfrm>
            <a:off x="152280" y="5410080"/>
            <a:ext cx="1308240" cy="9288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307800" y="62913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iti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4" descr="http://medical.cdn.patient.co.uk/images/dis9.jpg"/>
          <p:cNvPicPr/>
          <p:nvPr/>
        </p:nvPicPr>
        <p:blipFill>
          <a:blip r:embed="rId2"/>
          <a:stretch/>
        </p:blipFill>
        <p:spPr>
          <a:xfrm>
            <a:off x="1728720" y="541008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1613520" y="6273720"/>
            <a:ext cx="17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around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3" name="Picture 6" descr="http://www.glamour.com/health-fitness/blogs/vitamin-g/0723-headache_vg.jpg"/>
          <p:cNvPicPr/>
          <p:nvPr/>
        </p:nvPicPr>
        <p:blipFill>
          <a:blip r:embed="rId3"/>
          <a:stretch/>
        </p:blipFill>
        <p:spPr>
          <a:xfrm>
            <a:off x="7620120" y="5410080"/>
            <a:ext cx="1295280" cy="857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2"/>
          <p:cNvSpPr/>
          <p:nvPr/>
        </p:nvSpPr>
        <p:spPr>
          <a:xfrm>
            <a:off x="7779960" y="632448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5" name="Picture 10" descr="http://www.alignlife.com/userfiles/Fatigue(7).jpg"/>
          <p:cNvPicPr/>
          <p:nvPr/>
        </p:nvPicPr>
        <p:blipFill>
          <a:blip r:embed="rId4"/>
          <a:stretch/>
        </p:blipFill>
        <p:spPr>
          <a:xfrm>
            <a:off x="3352680" y="5410080"/>
            <a:ext cx="1143000" cy="8654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5"/>
          <p:cNvSpPr/>
          <p:nvPr/>
        </p:nvSpPr>
        <p:spPr>
          <a:xfrm>
            <a:off x="3587760" y="6324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Picture 12" descr="http://1.bp.blogspot.com/-3VzZ_WYBP94/TuyZPOlOy_I/AAAAAAAABq8/y0ajkc72cRs/s320/Child.jpg"/>
          <p:cNvPicPr/>
          <p:nvPr/>
        </p:nvPicPr>
        <p:blipFill>
          <a:blip r:embed="rId5"/>
          <a:stretch/>
        </p:blipFill>
        <p:spPr>
          <a:xfrm>
            <a:off x="4724280" y="5410080"/>
            <a:ext cx="108108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7"/>
          <p:cNvSpPr/>
          <p:nvPr/>
        </p:nvSpPr>
        <p:spPr>
          <a:xfrm>
            <a:off x="4733280" y="632448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appeti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9" name="Picture 14" descr="http://www.mindef.gov.sg/life/newimages/Image50.gif"/>
          <p:cNvPicPr/>
          <p:nvPr/>
        </p:nvPicPr>
        <p:blipFill>
          <a:blip r:embed="rId6"/>
          <a:stretch/>
        </p:blipFill>
        <p:spPr>
          <a:xfrm>
            <a:off x="6248520" y="541008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9"/>
          <p:cNvSpPr/>
          <p:nvPr/>
        </p:nvSpPr>
        <p:spPr>
          <a:xfrm>
            <a:off x="6256080" y="632448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gest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380880"/>
            <a:ext cx="8153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Severe deficiency leads to Pellagr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haracterized b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lamed mou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inful swollen tongue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ssured lips) and GI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rrhe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itis in the exposed skin of hands, face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ck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asal’s necklace)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entia and mental disord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a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-457200" y="35845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very rare now, except in alcoholics, strict vegetarians, and people with very poor nutrition (or niacin or tryptophan- deficient food e.g cor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3" name="Picture 8" descr="http://year9diseases.wikispaces.com/file/view/diarrhea1.jpeg/130167843/diarrhea1.jpeg"/>
          <p:cNvPicPr/>
          <p:nvPr/>
        </p:nvPicPr>
        <p:blipFill>
          <a:blip r:embed="rId1"/>
          <a:stretch/>
        </p:blipFill>
        <p:spPr>
          <a:xfrm>
            <a:off x="2057400" y="5181480"/>
            <a:ext cx="1752480" cy="1236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www.moondragon.org/health/graphics/pellagraface.jpg"/>
          <p:cNvPicPr/>
          <p:nvPr/>
        </p:nvPicPr>
        <p:blipFill>
          <a:blip r:embed="rId2"/>
          <a:stretch/>
        </p:blipFill>
        <p:spPr>
          <a:xfrm>
            <a:off x="228600" y="5181480"/>
            <a:ext cx="1568520" cy="12956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0"/>
          <p:cNvSpPr/>
          <p:nvPr/>
        </p:nvSpPr>
        <p:spPr>
          <a:xfrm>
            <a:off x="239760" y="640080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ed mouth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520720" y="64008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rrhe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Picture 12" descr="http://www.blatner.com/adam/consctransf/historyofmedicine/5-deficiencydiseases/pellagrskin.JPG"/>
          <p:cNvPicPr/>
          <p:nvPr/>
        </p:nvPicPr>
        <p:blipFill>
          <a:blip r:embed="rId3"/>
          <a:stretch/>
        </p:blipFill>
        <p:spPr>
          <a:xfrm>
            <a:off x="4038480" y="5181480"/>
            <a:ext cx="1447920" cy="1231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3"/>
          <p:cNvSpPr/>
          <p:nvPr/>
        </p:nvSpPr>
        <p:spPr>
          <a:xfrm>
            <a:off x="4126320" y="635004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of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d ski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14" descr="http://4.bp.blogspot.com/_R-AhPgfJIeo/TTS1ZOXM3AI/AAAAAAAAMQQ/yOOL5zjmlow/s1600/mentally+ill+in+india.jpg"/>
          <p:cNvPicPr/>
          <p:nvPr/>
        </p:nvPicPr>
        <p:blipFill>
          <a:blip r:embed="rId4"/>
          <a:stretch/>
        </p:blipFill>
        <p:spPr>
          <a:xfrm>
            <a:off x="5791320" y="5181480"/>
            <a:ext cx="1447560" cy="1189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6" descr="http://www.wga.hu/art/s/scheffer/gericaul.jpg"/>
          <p:cNvPicPr/>
          <p:nvPr/>
        </p:nvPicPr>
        <p:blipFill>
          <a:blip r:embed="rId5"/>
          <a:stretch/>
        </p:blipFill>
        <p:spPr>
          <a:xfrm>
            <a:off x="7543800" y="5181480"/>
            <a:ext cx="1371600" cy="1190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6"/>
          <p:cNvSpPr/>
          <p:nvPr/>
        </p:nvSpPr>
        <p:spPr>
          <a:xfrm>
            <a:off x="5802480" y="6367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 disorde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6944760" y="6291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th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848160" y="7776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emistry and Stability of 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a weak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ts salts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kaline pH, high temperature, an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sence of oxygen or metal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D-enantiomer of ascorbic ac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w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logical activ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ic acid is strong reducing ag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rves as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oxid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o-factor in hydroxyl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ic acid is reversibly oxidized to L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hydroascorb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bo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ascorbic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dehydroascorbic acids are physiological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forms for vitamin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943920" y="101520"/>
            <a:ext cx="77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3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04920" y="934920"/>
            <a:ext cx="75438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very poor nutri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niacin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ptophan- deficient food e.g cor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deficiencies in vitamin B6 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version of tryptophan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is reduced           niacin stores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is reduced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inflammatory bowel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digestive disorders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absorptio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eres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and metabolism 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under high stress, chronic illnesses, live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ea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95" name="Straight Arrow Connector 4"/>
          <p:cNvCxnSpPr/>
          <p:nvPr/>
        </p:nvCxnSpPr>
        <p:spPr>
          <a:xfrm>
            <a:off x="4952880" y="411480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6" name="Straight Arrow Connector 5"/>
          <p:cNvCxnSpPr/>
          <p:nvPr/>
        </p:nvCxnSpPr>
        <p:spPr>
          <a:xfrm>
            <a:off x="3962160" y="2895120"/>
            <a:ext cx="6865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7" name="Picture 7" descr="http://www.motherearthnews.com/uploadedImages/articles/issues/2010-04-01/MEN-AM10-gazette-corn.jpg"/>
          <p:cNvPicPr/>
          <p:nvPr/>
        </p:nvPicPr>
        <p:blipFill>
          <a:blip r:embed="rId1"/>
          <a:stretch/>
        </p:blipFill>
        <p:spPr>
          <a:xfrm>
            <a:off x="7921800" y="990720"/>
            <a:ext cx="1145880" cy="85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http://www.umm.edu/graphics/images/en/19219.jpg"/>
          <p:cNvPicPr/>
          <p:nvPr/>
        </p:nvPicPr>
        <p:blipFill>
          <a:blip r:embed="rId2"/>
          <a:stretch/>
        </p:blipFill>
        <p:spPr>
          <a:xfrm>
            <a:off x="7848720" y="350532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http://drugline.org/img/ail/2114_2127_2.jpg"/>
          <p:cNvPicPr/>
          <p:nvPr/>
        </p:nvPicPr>
        <p:blipFill>
          <a:blip r:embed="rId3"/>
          <a:stretch/>
        </p:blipFill>
        <p:spPr>
          <a:xfrm>
            <a:off x="7772400" y="5638680"/>
            <a:ext cx="1371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2288880" y="15228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52280" y="762120"/>
            <a:ext cx="754380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 illne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chizophrenia: Niacinamide 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ffective with traditional medical treatment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 and heart attack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in ver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(2-3 g/day)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total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D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and raising HDL cholestero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Dilates blood vessels 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acin helps in treatment of osteoarthriti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acinamide slow down the developm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nephropathy in diabetes and delay need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lin therapy in juvenile diabe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02" name="Straight Arrow Connector 4"/>
          <p:cNvCxnSpPr/>
          <p:nvPr/>
        </p:nvCxnSpPr>
        <p:spPr>
          <a:xfrm>
            <a:off x="5181120" y="4191120"/>
            <a:ext cx="762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03" name="Picture 6" descr="http://njjewishnews.com/njjn.com/010109/ltMentalIllness.jpg"/>
          <p:cNvPicPr/>
          <p:nvPr/>
        </p:nvPicPr>
        <p:blipFill>
          <a:blip r:embed="rId1"/>
          <a:stretch/>
        </p:blipFill>
        <p:spPr>
          <a:xfrm>
            <a:off x="7772400" y="685800"/>
            <a:ext cx="1181160" cy="1143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ttp://topnews.in/health/files/heart-attack-3.jpg"/>
          <p:cNvPicPr/>
          <p:nvPr/>
        </p:nvPicPr>
        <p:blipFill>
          <a:blip r:embed="rId2"/>
          <a:stretch/>
        </p:blipFill>
        <p:spPr>
          <a:xfrm>
            <a:off x="7772400" y="2438280"/>
            <a:ext cx="1227240" cy="1376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https://ufandshands.org/sites/default/files/graphics/images/en/17130.jpg"/>
          <p:cNvPicPr/>
          <p:nvPr/>
        </p:nvPicPr>
        <p:blipFill>
          <a:blip r:embed="rId3"/>
          <a:stretch/>
        </p:blipFill>
        <p:spPr>
          <a:xfrm>
            <a:off x="7772400" y="43434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howmanyarethere.net/wp-content/uploads/2012/05/diabetes-41.jpg"/>
          <p:cNvPicPr/>
          <p:nvPr/>
        </p:nvPicPr>
        <p:blipFill>
          <a:blip r:embed="rId4"/>
          <a:stretch/>
        </p:blipFill>
        <p:spPr>
          <a:xfrm>
            <a:off x="7772400" y="5638680"/>
            <a:ext cx="12193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80880" y="932040"/>
            <a:ext cx="647712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against environmental toxin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oxidant function of niac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protect liver against damag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esticides, chemicals, alcohol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help in prevention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Pellag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8" name="Picture 2" descr="http://www.energytimes.com/images/deptart/1006/pollution.jpg"/>
          <p:cNvPicPr/>
          <p:nvPr/>
        </p:nvPicPr>
        <p:blipFill>
          <a:blip r:embed="rId1"/>
          <a:stretch/>
        </p:blipFill>
        <p:spPr>
          <a:xfrm>
            <a:off x="7086600" y="1066680"/>
            <a:ext cx="1770120" cy="1524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www.osoyooslakeshorecottage.com/headache.jpg"/>
          <p:cNvPicPr/>
          <p:nvPr/>
        </p:nvPicPr>
        <p:blipFill>
          <a:blip r:embed="rId2"/>
          <a:stretch/>
        </p:blipFill>
        <p:spPr>
          <a:xfrm>
            <a:off x="7086600" y="3117960"/>
            <a:ext cx="16765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713600" y="7632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B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380880" y="68580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(500 mg) of niac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not niacinamide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lation of 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ngling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shing of the sk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ing of the skin is usually worse if nicotin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aken on an empty stomach, therefore it shoul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taken just after mea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in the form of niacinamide does not pro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side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doses of &gt; 2.5 g / day, it can pro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potension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zziness, increased blood sugar and uric acid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ysfunction, and increased risk of pepti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lcer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effects are gradually adopted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and are reversible on withdraw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12" name="Straight Arrow Connector 7"/>
          <p:cNvCxnSpPr/>
          <p:nvPr/>
        </p:nvCxnSpPr>
        <p:spPr>
          <a:xfrm>
            <a:off x="6172200" y="14479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2130480" y="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 B3 –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457200" y="1125360"/>
            <a:ext cx="81532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with antihypertensive drugs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poten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niacin may be required in case of people tak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niazi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hibits biotransformation of tryptoph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niacin ), by women taking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e acid sequesterants e.g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yr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ipo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taken at a different time th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(no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amide) otherwise they wi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its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6705720" y="1371600"/>
            <a:ext cx="8388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685800" y="118440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amazep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ause toxicity with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bination of niacin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u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reat lipid triad (high LDL and TG, 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L) may 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opa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opa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ular disease in which the musc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ers do not function, resulting in muscul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nes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2"/>
          <p:cNvSpPr/>
          <p:nvPr/>
        </p:nvSpPr>
        <p:spPr>
          <a:xfrm>
            <a:off x="2362320" y="1905120"/>
            <a:ext cx="4343400" cy="3504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209760" y="31240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THANX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928520" y="-763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80880" y="673200"/>
            <a:ext cx="838224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 func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helps protect against oxidation b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radical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in detoxification and excretion of drugs 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aintains the enzyme systems in liver that detox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xcrete drugs and toxic polluta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collage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major component of connectiv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in skin, joints, muscles, bones ligament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ons, and cartilag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nit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ynthesi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ong wit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hich is an amino acid required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 of fats for energ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a cofactor in the synthesis of neurotransmitter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nephrine , norepinephrine and seroton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80880" y="228600"/>
            <a:ext cx="838224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ortant for healthy immune func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is essential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timum activity of WBC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produc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 mediators which direct the immune response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seem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ncrease T-lymphocyte activity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e function, leukocyte mobility, and possibl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and interferon produc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cholesterol breakdow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excreti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ero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increase if vitamin C status 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of folate and vitamin E from oxid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control of histamine level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vitamin 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is poor   High levels of histamine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avate allergies, asthma, stomach ulcers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ain psychiatric disorder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3" name="Straight Arrow Connector 2"/>
          <p:cNvCxnSpPr/>
          <p:nvPr/>
        </p:nvCxnSpPr>
        <p:spPr>
          <a:xfrm>
            <a:off x="838080" y="579132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4" name="Straight Arrow Connector 3"/>
          <p:cNvCxnSpPr/>
          <p:nvPr/>
        </p:nvCxnSpPr>
        <p:spPr>
          <a:xfrm>
            <a:off x="3885840" y="5409720"/>
            <a:ext cx="61020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ed Rectangle 5"/>
          <p:cNvSpPr/>
          <p:nvPr/>
        </p:nvSpPr>
        <p:spPr>
          <a:xfrm>
            <a:off x="457200" y="6095880"/>
            <a:ext cx="8534520" cy="7621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1166040" y="0"/>
            <a:ext cx="62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C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85800" y="533520"/>
            <a:ext cx="807732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curvy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onnective tissue synthesi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ragility of blo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ssels causes abnormal bleeding: easy bruising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hemorrhagic spots, inflamed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eeding gums, joint stiffness and pain (due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eeding into joint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wound heal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-up of keratin in hair follic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ng roug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dpaper skin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akness, exhaustion, fatig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impaired carni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immunity with increas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inf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minished antioxidant defense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risk of canc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 disease, stroke, catara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200" y="6019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urvy was common between Sailors, Pirates and others who were on ships for months without eating fresh fruits and vegetab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11" descr="http://www.thebluewaffles.com/wp-content/uploads/2012/06/Piratical-Disease.jpg"/>
          <p:cNvPicPr/>
          <p:nvPr/>
        </p:nvPicPr>
        <p:blipFill>
          <a:blip r:embed="rId1"/>
          <a:stretch/>
        </p:blipFill>
        <p:spPr>
          <a:xfrm>
            <a:off x="5410080" y="2057400"/>
            <a:ext cx="1422360" cy="106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7772400" y="2982960"/>
            <a:ext cx="13716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682560" y="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C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33520" y="68580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d physical str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infection, fever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ns, surgery, trauma to soft tissues or bon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hronic illnesses such as hyperthyroidism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es, rheumatoid arthritis, alcoholism,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failur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use of drugs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 as aspirin and or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eptives impair vitamin 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der people, particular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with chron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ness, and ag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iods of rapid growth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hood, adolescenc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gnancy, and lac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r cigarette smok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increa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 and excretion of vitamin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5:38:32Z</dcterms:created>
  <dc:creator>NUhu</dc:creator>
  <dc:description/>
  <dc:language>en-US</dc:language>
  <cp:lastModifiedBy>Mashal Almutairi</cp:lastModifiedBy>
  <dcterms:modified xsi:type="dcterms:W3CDTF">2015-12-01T07:02:16Z</dcterms:modified>
  <cp:revision>4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