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9.jpeg" ContentType="image/jpeg"/>
  <Override PartName="/ppt/media/image5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16.jpeg" ContentType="image/jpeg"/>
  <Override PartName="/ppt/media/image62.jpeg" ContentType="image/jpeg"/>
  <Override PartName="/ppt/media/image19.png" ContentType="image/png"/>
  <Override PartName="/ppt/media/image79.jpeg" ContentType="image/jpeg"/>
  <Override PartName="/ppt/media/image67.png" ContentType="image/pn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6.jpeg" ContentType="image/jpeg"/>
  <Override PartName="/ppt/media/image70.jpeg" ContentType="image/jpeg"/>
  <Override PartName="/ppt/media/image76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D9FB-B679-4F39-B3B2-483D591F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8385-916C-4026-94F4-9CD1B0072A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1D76-B289-4A25-B94D-6FB23CB79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1951-0788-423F-BA48-BBF33ED268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5476-4B64-4C6F-AD3F-63D8312EE7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861F-C61F-4E62-A5E8-2E5D294354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674A-3DD0-4F6B-8104-A7A855DFF0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F5E4-ADA1-48C3-BC26-FBEB1BF6A8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1133-BB95-40E7-BE67-4AF50D987B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3EBD-E064-4C54-A565-B4D9A8831B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C36E-A080-485E-A43A-BE8F2D20EB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egories of prescription drugs most widely used as illicit intoxicants and broadly recorded in many of the pertinent databases are: opiates, sedatives/ tranquilizers, and stimu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ly misused prescription drugs can be classified into the following 3 cla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oids used to treat pain – some examples include Vicodin, Tylenol with Codeine, OxyContin, and Percoc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S Depressants used to treat sleep disorders and anxiety disorders – some examples include: barbiturates, benzodiazepines, and brands such as Klonopin, Nembutal, Soma, Valium, and Xan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timulants: mainly prescribed to treat ADHD, including amphetamines, methylphenidate, and brands such as Adderall, Concerta, Dexedrine, and Ritalin. weight loss also abuse prescription stimulants such as Dexedrine and fas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668A-DD27-4FD1-AF73-4FBFC73C1E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FF22-83D9-43BD-BD45-575AF1023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E7B7-7401-400C-99FA-53AF54CA4A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6E7E-4296-4B4E-870E-1C0FA6CD27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EC0D-A3B7-42FD-8C6B-55CFAE1DE7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D7CE-F23A-4761-A60B-6A7C05BAEF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2318-0AF2-4392-9E92-D533900F2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9DF5-7058-4403-A205-AEC34C9128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B519-DD86-41E9-89E3-9A7124E4C9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05FF-8288-4F89-BDB9-309ACCF613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3A77-BC21-4B19-B4AD-8F89DF8367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F19-092F-44F9-8FB1-1BA41C8825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785B-5562-4312-AEB1-86FFD0059C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0E2-84DD-4FF5-BA92-00F9DDF1DF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9935-A91B-4AEA-88EE-E9CEE63B2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E1FA-832D-442B-8B92-D1030FBD9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0CD-1252-42DE-A65F-9485E65A07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8225-2847-4251-A0CA-EC0258B73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AE90-D104-4F3D-A016-402074AF3C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x may 200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FF90-D40E-4879-93E4-CF67B9BB72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very delighted to be here today. I will be talking about the nature and trends were seeing with respect to Rx and OTC drug misuse, nationally and lo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9E78-DDF5-41F6-8A82-81DF63385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DD74-042D-4BFA-A992-C6D0559BB7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BB17-F6F6-4CCB-B3B2-8127FDB7EB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6185-D94E-478B-89D7-9C1738973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BAE6-0BE8-4F4F-A3C1-CBFDCED2E3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CCD6-2C22-4FBD-BC22-850AD2C707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19EE-273F-4B57-A698-C5EBFFF41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12E2-C393-4DB4-990A-8250C34292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1513-A166-444F-A74D-C8B5E72A3E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62DA-C578-45BC-9E23-487CE0D2D5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D4F-44D5-46A0-960B-6386918DF5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AB2C-6B9D-4577-83B5-2D0F79B63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AD51-12FD-4D7C-9002-D757219B09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0C8A-8B50-4E57-920E-3C7C490F4E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FE80-6C7B-4A4B-9EE1-25E3D83B3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50D2-1841-4F5B-8AD1-60786738D2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F274-0503-484F-B6FF-BAEE7C16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1048-976E-43F8-927C-0C6CA772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17B6-6F35-4228-8A1C-E6A7E7AA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DA09-6D93-48B7-8D1E-948A261E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5F79-EB2B-44D1-A9CE-DF41B9D9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01AF-A2D5-4CAA-97A3-EA688D1E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F18C-C3C7-4EB3-8B0D-872F9A51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C203-13AA-4026-ABAA-5DFB9F27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C952-683E-4E03-ADC0-C8B74D2A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0E6D-2C45-4D77-894E-D8E1C034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3BB2-3DA0-4EF3-BB10-DAB4433E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A22E-34E1-4D0E-B886-7E800029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B8DF-31DA-4CEE-86CC-401E4025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77F3-BA69-45B0-B6CC-1989A44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2741-BAA4-4808-BADA-DCA9E4C4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D86-DAF7-4778-83CF-0F1F00A1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81E9-F4C9-42F5-867E-592E7822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4C1F-63D7-4461-9C6C-3FD43193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2A2B-3921-4825-9093-0A461875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BBB2-2050-41CB-9FA0-93F24A11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CDFE-CA20-4B93-991D-A274DF74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6FDE-BB75-493A-BA92-5AB4159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56B8-80CE-4605-8495-B140E9B7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46C0-9CA9-45A1-A152-FFE5F1A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0E10-9FF6-4456-B13B-8532440F6B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C80-D2C8-488F-9125-6E77BBCCB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image" Target="../media/image59.jpeg"/><Relationship Id="rId13" Type="http://schemas.openxmlformats.org/officeDocument/2006/relationships/image" Target="../media/image60.jpeg"/><Relationship Id="rId14" Type="http://schemas.openxmlformats.org/officeDocument/2006/relationships/image" Target="../media/image61.jpeg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095880" y="4648320"/>
            <a:ext cx="2552760" cy="1650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://t2.gstatic.com/images?q=tbn:ANd9GcRuBTQrMX4h6yObFroUhzMzvJfomYg8D2XsHXjZUW4t7Mhkge-5"/>
          <p:cNvPicPr/>
          <p:nvPr/>
        </p:nvPicPr>
        <p:blipFill>
          <a:blip r:embed="rId2"/>
          <a:stretch/>
        </p:blipFill>
        <p:spPr>
          <a:xfrm>
            <a:off x="6324480" y="1219320"/>
            <a:ext cx="2362320" cy="156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http://t3.gstatic.com/images?q=tbn:ANd9GcRcfwBdpjqOTRabsWfhz3rjhkRgS-6GLFOW1sq6QSA9OZIaiypkUw"/>
          <p:cNvPicPr/>
          <p:nvPr/>
        </p:nvPicPr>
        <p:blipFill>
          <a:blip r:embed="rId3"/>
          <a:stretch/>
        </p:blipFill>
        <p:spPr>
          <a:xfrm>
            <a:off x="533520" y="10666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http://www.breadoflifevitamins.com/images/vitamins_orange.jpg"/>
          <p:cNvPicPr/>
          <p:nvPr/>
        </p:nvPicPr>
        <p:blipFill>
          <a:blip r:embed="rId4"/>
          <a:stretch/>
        </p:blipFill>
        <p:spPr>
          <a:xfrm>
            <a:off x="609480" y="4419720"/>
            <a:ext cx="2590920" cy="1806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Vitamin C, B1, B2 &amp; B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532520" y="0"/>
            <a:ext cx="6078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ter soluble vitamins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545760" y="10152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of Vitamin C in Prevention and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33520" y="855720"/>
            <a:ext cx="815328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hance ability to fight infec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stimulates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ity and ability of WBCs to destroy bacteria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cold and flu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 doses of 1-2 g, it slightl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body temp.        functions of WBCs and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mmune response and     nasal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al conges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uration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ptoms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lu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duce risk of cancer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ticularly cancers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T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dder, breast, pancreas, and uteru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ntioxidant + enhancer for immune defense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ainst cancer and + help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oxify carcinogenic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additives e.g. nitrates, pesticides,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her chemicals and heavy metal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7" name="Straight Arrow Connector 4"/>
          <p:cNvCxnSpPr/>
          <p:nvPr/>
        </p:nvCxnSpPr>
        <p:spPr>
          <a:xfrm>
            <a:off x="4572000" y="2971800"/>
            <a:ext cx="5342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68" name="Straight Arrow Connector 7"/>
          <p:cNvCxnSpPr/>
          <p:nvPr/>
        </p:nvCxnSpPr>
        <p:spPr>
          <a:xfrm flipH="1">
            <a:off x="1447560" y="3123720"/>
            <a:ext cx="216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Straight Arrow Connector 8"/>
          <p:cNvCxnSpPr/>
          <p:nvPr/>
        </p:nvCxnSpPr>
        <p:spPr>
          <a:xfrm flipV="1">
            <a:off x="5234040" y="2742480"/>
            <a:ext cx="24480" cy="35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0" name="Straight Arrow Connector 10"/>
          <p:cNvCxnSpPr/>
          <p:nvPr/>
        </p:nvCxnSpPr>
        <p:spPr>
          <a:xfrm>
            <a:off x="4114800" y="3427560"/>
            <a:ext cx="4579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1" name="Straight Arrow Connector 11"/>
          <p:cNvCxnSpPr/>
          <p:nvPr/>
        </p:nvCxnSpPr>
        <p:spPr>
          <a:xfrm flipV="1">
            <a:off x="4572000" y="320004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2" name="Straight Arrow Connector 12"/>
          <p:cNvCxnSpPr/>
          <p:nvPr/>
        </p:nvCxnSpPr>
        <p:spPr>
          <a:xfrm flipH="1">
            <a:off x="7848360" y="3065400"/>
            <a:ext cx="2160" cy="364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3" name="Straight Arrow Connector 13"/>
          <p:cNvCxnSpPr/>
          <p:nvPr/>
        </p:nvCxnSpPr>
        <p:spPr>
          <a:xfrm>
            <a:off x="6172200" y="3733920"/>
            <a:ext cx="4579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4" name="Straight Arrow Connector 14"/>
          <p:cNvCxnSpPr/>
          <p:nvPr/>
        </p:nvCxnSpPr>
        <p:spPr>
          <a:xfrm flipH="1">
            <a:off x="6705360" y="3429000"/>
            <a:ext cx="216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8"/>
          <p:cNvSpPr/>
          <p:nvPr/>
        </p:nvSpPr>
        <p:spPr>
          <a:xfrm>
            <a:off x="457200" y="380880"/>
            <a:ext cx="8153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ge doses   platelet aggregation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isk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ts.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ddition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C  the strength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sel walls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these mechanisms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from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ronary heart disease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ombotic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oke, and peripheral vascular diseas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76" name="Straight Arrow Connector 12"/>
          <p:cNvCxnSpPr/>
          <p:nvPr/>
        </p:nvCxnSpPr>
        <p:spPr>
          <a:xfrm>
            <a:off x="6019920" y="692280"/>
            <a:ext cx="457920" cy="216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Straight Arrow Connector 13"/>
          <p:cNvCxnSpPr/>
          <p:nvPr/>
        </p:nvCxnSpPr>
        <p:spPr>
          <a:xfrm flipV="1">
            <a:off x="6477120" y="83736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Straight Arrow Connector 14"/>
          <p:cNvCxnSpPr/>
          <p:nvPr/>
        </p:nvCxnSpPr>
        <p:spPr>
          <a:xfrm flipH="1">
            <a:off x="2741400" y="53928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9" name="Rectangle 15"/>
          <p:cNvSpPr/>
          <p:nvPr/>
        </p:nvSpPr>
        <p:spPr>
          <a:xfrm>
            <a:off x="457200" y="266688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ction from heavy metals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absorption and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oxification and     excretion of heavy meta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80" name="Straight Arrow Connector 16"/>
          <p:cNvCxnSpPr/>
          <p:nvPr/>
        </p:nvCxnSpPr>
        <p:spPr>
          <a:xfrm flipH="1">
            <a:off x="6171840" y="2819520"/>
            <a:ext cx="2160" cy="30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1" name="Straight Arrow Connector 17"/>
          <p:cNvCxnSpPr/>
          <p:nvPr/>
        </p:nvCxnSpPr>
        <p:spPr>
          <a:xfrm flipV="1">
            <a:off x="1370160" y="312336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2" name="Straight Arrow Connector 18"/>
          <p:cNvCxnSpPr/>
          <p:nvPr/>
        </p:nvCxnSpPr>
        <p:spPr>
          <a:xfrm flipV="1">
            <a:off x="4113360" y="312336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3" name="Rectangle 21"/>
          <p:cNvSpPr/>
          <p:nvPr/>
        </p:nvSpPr>
        <p:spPr>
          <a:xfrm>
            <a:off x="609480" y="4114800"/>
            <a:ext cx="807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roves healing of wounds and fractur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burns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uma, and surger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ron deficienc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y iron absorption from meal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venting and curing Scurvy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851120" y="144792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commended Therapeutic Do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2459160"/>
            <a:ext cx="815328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curvy, 100-250 mg once or twice dai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reating the common cold, 1-3 g dail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acute stress, 1 g (3 times daily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preventing sunburn, 2 g of vitamin C and 1000 IU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E has been used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1229400" y="15228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and Side Effects of Vitamin 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457200" y="920880"/>
            <a:ext cx="8305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C is general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arded as safe in usu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es (up to 1000 mg). Dental erosion may occu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chronically chewing vitamin C tabl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gh doses of vitamin 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2000 mg/day ma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c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dney st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evere diarrhea, nausea,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itis. Large doses may precipitate hemolysis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s with glucose 6-phosphate dehydrogen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C is metabolized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alic ac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ncrea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ption increases the urinary concentr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oxalic acid and increases the risk of oxal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ne 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168876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C- Drug Inter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80880" y="768240"/>
            <a:ext cx="830592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   chromium and aluminium absorption. Patien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renal failure who take (Al) compounds shoul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vitamin C in doses above the R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can destroy dietary vitamin B12 (so, it must b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n at least 2 hours after meal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ification of the urine by vitamin C could increase re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 of salicylates by the renal tubules,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plasma salicylate levels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90" name="Straight Arrow Connector 3"/>
          <p:cNvCxnSpPr/>
          <p:nvPr/>
        </p:nvCxnSpPr>
        <p:spPr>
          <a:xfrm flipV="1">
            <a:off x="2284560" y="83736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685800" y="668160"/>
            <a:ext cx="80773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gh doses of vitamin C can    the response to warfarin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sibly by causing diarrhea and reducing Warfari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irin increases elimination of vitamin C. It reduc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and leukocyte uptake of vitamin C, leav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 the plasma to be excreted into the urin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rogens can  vitamin C absorption or   it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dow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92" name="Straight Arrow Connector 3"/>
          <p:cNvCxnSpPr/>
          <p:nvPr/>
        </p:nvCxnSpPr>
        <p:spPr>
          <a:xfrm flipH="1">
            <a:off x="5104800" y="1201320"/>
            <a:ext cx="108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3" name="Straight Arrow Connector 4"/>
          <p:cNvCxnSpPr/>
          <p:nvPr/>
        </p:nvCxnSpPr>
        <p:spPr>
          <a:xfrm flipH="1">
            <a:off x="3504600" y="4782960"/>
            <a:ext cx="1080" cy="30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5"/>
          <p:cNvCxnSpPr/>
          <p:nvPr/>
        </p:nvCxnSpPr>
        <p:spPr>
          <a:xfrm flipV="1">
            <a:off x="8001000" y="4782240"/>
            <a:ext cx="2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95280"/>
          <a:ext cx="8305920" cy="519300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832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 B1 (Thiamine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itamin B6 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yridoxine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2 (Riboflavin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i-FI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fi-FI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itamin B7 or Vitamin H      (Biotin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5462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i-FI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fi-FI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3 (Niacin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9 or Vitamin M      or (Folic acid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5 (Pantothenic     acid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US" sz="2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itamin B12      (Cyanocobalamin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2"/>
          <p:cNvSpPr/>
          <p:nvPr/>
        </p:nvSpPr>
        <p:spPr>
          <a:xfrm>
            <a:off x="2669400" y="15228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 Gro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ounded Rectangle 10"/>
          <p:cNvSpPr/>
          <p:nvPr/>
        </p:nvSpPr>
        <p:spPr>
          <a:xfrm>
            <a:off x="2438280" y="2209680"/>
            <a:ext cx="4038840" cy="6098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Water Soluble Vitami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826360" y="914400"/>
            <a:ext cx="341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 Group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2391840" y="2185920"/>
            <a:ext cx="422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1 (Thiami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14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http://t2.gstatic.com/images?q=tbn:ANd9GcSqg7KTuRwSKeYkqfmuLoG7Ba7KIAsAlhv9zqvkxM97r8hl1pmLkQ"/>
          <p:cNvPicPr/>
          <p:nvPr/>
        </p:nvPicPr>
        <p:blipFill>
          <a:blip r:embed="rId2"/>
          <a:stretch/>
        </p:blipFill>
        <p:spPr>
          <a:xfrm>
            <a:off x="6553080" y="4572000"/>
            <a:ext cx="2343240" cy="19526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1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20" descr="http://www.find-croatia.com/photos-croatia/nature-croatia/slides/Croatia213.jpg"/>
          <p:cNvPicPr/>
          <p:nvPr/>
        </p:nvPicPr>
        <p:blipFill>
          <a:blip r:embed="rId3"/>
          <a:stretch/>
        </p:blipFill>
        <p:spPr>
          <a:xfrm>
            <a:off x="380880" y="4572000"/>
            <a:ext cx="2286000" cy="201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http://www.myerscrosstraining.com/storage/Glass-of-milk.png?__SQUARESPACE_CACHEVERSION=1344359272721"/>
          <p:cNvPicPr/>
          <p:nvPr/>
        </p:nvPicPr>
        <p:blipFill>
          <a:blip r:embed="rId4"/>
          <a:stretch/>
        </p:blipFill>
        <p:spPr>
          <a:xfrm>
            <a:off x="228600" y="220968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http://www.reportageonline.com/wp-content/uploads/2012/05/Red-meat.jpg"/>
          <p:cNvPicPr/>
          <p:nvPr/>
        </p:nvPicPr>
        <p:blipFill>
          <a:blip r:embed="rId5"/>
          <a:stretch/>
        </p:blipFill>
        <p:spPr>
          <a:xfrm>
            <a:off x="6705720" y="2209680"/>
            <a:ext cx="2182680" cy="1838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 (Thiamin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533520" y="838080"/>
            <a:ext cx="815328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-soluble B-vitamin family to be discovered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body reserve of thiamine is small (~30mg), a steady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tary supply of it is important to avoid deficiency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cause of its central role in energy production, most of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amine is located in the muscle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thiamine absorbed, it is rapidly transformed into th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,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amin pyrophosphate (TPP)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s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coenzyme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8" descr="http://t3.gstatic.com/images?q=tbn:ANd9GcQEYZLV6FOqKw-YzUyT2lRu8uPZMeWoYSeZh5StM1vmb7GAKtoa&amp;t=1"/>
          <p:cNvPicPr/>
          <p:nvPr/>
        </p:nvPicPr>
        <p:blipFill>
          <a:blip r:embed="rId1"/>
          <a:stretch/>
        </p:blipFill>
        <p:spPr>
          <a:xfrm>
            <a:off x="228600" y="4583160"/>
            <a:ext cx="3314880" cy="19810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30960" y="4886280"/>
            <a:ext cx="113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Pyrimidin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Rin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12" name="Straight Arrow Connector 8"/>
          <p:cNvCxnSpPr/>
          <p:nvPr/>
        </p:nvCxnSpPr>
        <p:spPr>
          <a:xfrm>
            <a:off x="517320" y="5376600"/>
            <a:ext cx="292680" cy="121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13" name="Picture 4" descr="http://www.mikeblaber.org/oldwine/BCH4053/Lecture33/vitB1.jpg"/>
          <p:cNvPicPr/>
          <p:nvPr/>
        </p:nvPicPr>
        <p:blipFill>
          <a:blip r:embed="rId2"/>
          <a:stretch/>
        </p:blipFill>
        <p:spPr>
          <a:xfrm>
            <a:off x="3613320" y="4514760"/>
            <a:ext cx="5302080" cy="20574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6"/>
          <p:cNvSpPr/>
          <p:nvPr/>
        </p:nvSpPr>
        <p:spPr>
          <a:xfrm>
            <a:off x="1491120" y="4495680"/>
            <a:ext cx="6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aramond"/>
              </a:rPr>
              <a:t>Methy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aramond"/>
              </a:rPr>
              <a:t>Brid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15" name="Straight Arrow Connector 17"/>
          <p:cNvCxnSpPr/>
          <p:nvPr/>
        </p:nvCxnSpPr>
        <p:spPr>
          <a:xfrm flipH="1">
            <a:off x="1834920" y="4889160"/>
            <a:ext cx="360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6" name="TextBox 21"/>
          <p:cNvSpPr/>
          <p:nvPr/>
        </p:nvSpPr>
        <p:spPr>
          <a:xfrm>
            <a:off x="2370240" y="473544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aramond"/>
              </a:rPr>
              <a:t>Thiazole Rin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17" name="Straight Arrow Connector 22"/>
          <p:cNvCxnSpPr/>
          <p:nvPr/>
        </p:nvCxnSpPr>
        <p:spPr>
          <a:xfrm flipH="1">
            <a:off x="2598120" y="4963680"/>
            <a:ext cx="22932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TextBox 26"/>
          <p:cNvSpPr/>
          <p:nvPr/>
        </p:nvSpPr>
        <p:spPr>
          <a:xfrm>
            <a:off x="272880" y="618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514"/>
                </a:solidFill>
                <a:latin typeface="Garamond"/>
              </a:rPr>
              <a:t>Thiamin or Aneur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6962040" y="64882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(Coenzyme for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b51"/>
                </a:solidFill>
                <a:uFillTx/>
                <a:latin typeface="Times New Roman"/>
                <a:ea typeface="Times New Roman"/>
              </a:rPr>
              <a:t>Daily Required amount and 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143000" y="533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457200" y="87156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A (Recommended Dietary Allowanc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based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umber of calories in diet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ergy requirem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ult male: 3000 k c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male:        2100 k 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ildren :     1700-2000 k 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requirement increases with high carbohydra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ake and for hard worker or athle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334120" y="213372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itamin B1 requir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5 mg/day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1 mg/da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mg/da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129528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water-soluble vitam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nimals are able to synthesize all vitamin C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from dietary sugars; bu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umans are unab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nimals are able to increase synthesis of vitamin 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stress but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umans’ strictly depend 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etary sources, increases risk of deficienc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ing stress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654720" y="45720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3505320" y="6553080"/>
            <a:ext cx="2133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Box 37"/>
          <p:cNvSpPr/>
          <p:nvPr/>
        </p:nvSpPr>
        <p:spPr>
          <a:xfrm>
            <a:off x="2612160" y="0"/>
            <a:ext cx="38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bility of Thiam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AutoShape 51"/>
          <p:cNvSpPr/>
          <p:nvPr/>
        </p:nvSpPr>
        <p:spPr>
          <a:xfrm>
            <a:off x="149400" y="-1608120"/>
            <a:ext cx="5733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09480" y="649440"/>
            <a:ext cx="8153640" cy="57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ble in crystalline form but not so in solu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 by prolonged heat, baking soda (with heating)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lfite preservativ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stable in aqueous solutions with pH &gt; 5.0. At pH 8.0 or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ve, thiamine turns yellow and is destroyed by a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x series of irreversible reaction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trong alkaline solution with the presence of oxidiz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ts, e.g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tassium ferricyanide, thiamine i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verted to thiochrom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is blue fluorescen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and is used for fluoremetric determinat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itamin B1 in foods, pharmaceutic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ations, and biological fluid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8" name="Picture 27" descr="http://molpharm.aspetjournals.org/content/65/1/257/F1.large.jpg"/>
          <p:cNvPicPr/>
          <p:nvPr/>
        </p:nvPicPr>
        <p:blipFill>
          <a:blip r:embed="rId1"/>
          <a:stretch/>
        </p:blipFill>
        <p:spPr>
          <a:xfrm>
            <a:off x="5638680" y="5943600"/>
            <a:ext cx="327672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9"/>
          <p:cNvSpPr/>
          <p:nvPr/>
        </p:nvSpPr>
        <p:spPr>
          <a:xfrm>
            <a:off x="5740560" y="641196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Thiochrom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2685960" y="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457200" y="533520"/>
            <a:ext cx="8229600" cy="63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act as co-enzyme (TPP)</a:t>
            </a:r>
            <a:r>
              <a:rPr b="1" lang="en-US" sz="25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arbohydrate metabolism (for glycolysis and Kreb’s cycle enzymes: pyruvate dehydrogenase and </a:t>
            </a:r>
            <a:r>
              <a:rPr b="0" lang="el-GR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-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toglutarate dehydrogenase), which enabl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version of glucose into biological energy through oxidative decarboxylation reaction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is role is important: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ovide energy to th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ain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transmission of nerve impulses by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ing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rve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energy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crease the efficiency of th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rt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formation of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BC’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 It act as co-enzyme for transketolase which functions in: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ntose phosphate pathway to synthesiz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DPH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ntose sugars: deoxyribose and ribose are involved in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ic acids biosynthesi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618280" y="25560"/>
            <a:ext cx="40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iamine Antagoni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609480" y="609480"/>
            <a:ext cx="7848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ythiam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etitive inhibito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ino group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yrimidine  ring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 replaced by hydroxyl group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opyrithiamin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t prevents the phosphorilation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y ethyl group that is essential for activit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vitamin B1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aminas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found in raw fish destroys vitamin B1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701360" y="3557520"/>
            <a:ext cx="553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uses of Thiamine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609480" y="4232160"/>
            <a:ext cx="8077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nutri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et high in thiaminase-rich food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raw freshwater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sh, raw shellfish, fern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s having anti-thiamine factor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tea, coffee etc.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nic consumption of alcoho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Picture 8" descr="http://t3.gstatic.com/images?q=tbn:ANd9GcQEYZLV6FOqKw-YzUyT2lRu8uPZMeWoYSeZh5StM1vmb7GAKtoa&amp;t=1"/>
          <p:cNvPicPr/>
          <p:nvPr/>
        </p:nvPicPr>
        <p:blipFill>
          <a:blip r:embed="rId1"/>
          <a:stretch/>
        </p:blipFill>
        <p:spPr>
          <a:xfrm>
            <a:off x="0" y="2133720"/>
            <a:ext cx="14479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316520" y="228600"/>
            <a:ext cx="69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agnostic Testing for Vitamin B1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457200" y="8380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agnosis test for B1 deficiency can be determined by measuring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ketolas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evels of erythrocy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1693800" y="1905120"/>
            <a:ext cx="52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seases of Vitamin B1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304920" y="2666880"/>
            <a:ext cx="85341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riberi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deficiency disease caused by lack of thiamine resulted from malnutrition, alcoholism or other cause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two major types of beriberi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ry beriber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ffect the nervous syst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3" marL="1886040" indent="-51444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Wet beriberi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diovascular system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ends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rnicke-Korsakoff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drome which affect the nervou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457200" y="487440"/>
          <a:ext cx="8458200" cy="5973840"/>
        </p:xfrm>
        <a:graphic>
          <a:graphicData uri="http://schemas.openxmlformats.org/drawingml/2006/table">
            <a:tbl>
              <a:tblPr/>
              <a:tblGrid>
                <a:gridCol w="3846600"/>
                <a:gridCol w="4611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ry Beri-ber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Wet Beri-ber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3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ymptom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Difficulty in wal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ainful tender mus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oss of sensation in hands and fe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Loss of muscle function or paralysis of the lower leg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Mental confusion/speech difficul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Vomiting and anorexi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ymptoms 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Dyspne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orthopn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Increased heart rate, enlarged heart, heart failu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Swelling of the lower leg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Wernicke–Korsakoff syndrome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Ophthalmoplegia </a:t>
                      </a:r>
                      <a:r>
                        <a:rPr b="1" lang="en-US" sz="2400" spc="-1" strike="noStrike">
                          <a:solidFill>
                            <a:srgbClr val="000079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000079"/>
                          </a:solidFill>
                          <a:latin typeface="Times New Roman"/>
                          <a:ea typeface="Times New Roman"/>
                        </a:rPr>
                        <a:t>paralysis    of  one or more extraocular muscles which are responsible for eye movements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Confu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Co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Death if untreate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24.media.tumblr.com/tumblr_m49399Ugn51r99ahro1_400.jpg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096920" y="76320"/>
            <a:ext cx="74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seases of Vitamin B1 deficiency (BERI-BER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1103760" y="85680"/>
            <a:ext cx="69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1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380880" y="779400"/>
            <a:ext cx="838224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er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lcohol reduces absorption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and interferes with its conversion to TPP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h consumption of coffee and black te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et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 stores in the body and hinder its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ients hav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er cirrhosis, malabsorption syndromes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betes, kidney disease, or hypermetabolim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lderly peopl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poor nutritional status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ies with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late deficienc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s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 of thi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ants who are breastfed by thiamin deficient-mother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apidly develop life-threatening signs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 deficienc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245960" y="0"/>
            <a:ext cx="68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 of Thiamine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57200" y="596880"/>
            <a:ext cx="822960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erve disorders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emental thiamin may b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 in  inflammatory nerve disorders (such a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geminal neuralgia)  and in diabetic neuropath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entral nervous system disorders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lzheimer’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, anxiety, and depression associated 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xie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eart failure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ly in the elderly chronic hear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ure that responds poorly to convention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therap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nemia: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deficiency produces an anemia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mbling that of folate or vitamin B12 deficienc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th macrocytosis) that responds to thi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  Disease caused by heavy alcohol consumptio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2305440" y="8568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1- Drug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457200" y="685800"/>
            <a:ext cx="830592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al contraceptiv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tibiotics, sulfa drugs, and certa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of diuretic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lower thiamine levels in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d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1 may intensif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ffects of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uromuscular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cker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are used during some surgic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ur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vitamins are best absorbed as a complex,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gnesiu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motes the absorption of thiam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571560" y="434340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457200" y="4952880"/>
            <a:ext cx="830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min is virtually nontoxic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es &gt; 200mg may cause drowsiness in some peopl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re, but severe, allergic reactions may be happened wi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jectable thiam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0" descr="http://www.childrenfirst.nhs.uk/teens/images/healthyeating/vitamins.jpg"/>
          <p:cNvPicPr/>
          <p:nvPr/>
        </p:nvPicPr>
        <p:blipFill>
          <a:blip r:embed="rId1"/>
          <a:stretch/>
        </p:blipFill>
        <p:spPr>
          <a:xfrm>
            <a:off x="6400800" y="914400"/>
            <a:ext cx="2324160" cy="17035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8"/>
          <p:cNvSpPr/>
          <p:nvPr/>
        </p:nvSpPr>
        <p:spPr>
          <a:xfrm>
            <a:off x="2150280" y="2819520"/>
            <a:ext cx="49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2 (Riboflavi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Picture 2" descr="http://www.todayifoundout.com/wp-content/uploads/2010/04/almonds.jpg"/>
          <p:cNvPicPr/>
          <p:nvPr/>
        </p:nvPicPr>
        <p:blipFill>
          <a:blip r:embed="rId2"/>
          <a:stretch/>
        </p:blipFill>
        <p:spPr>
          <a:xfrm>
            <a:off x="304920" y="609480"/>
            <a:ext cx="2307960" cy="1990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http://www.thedailygreen.com/cm/thedailygreen/images/al/spinach-vitamina-lg.jpg"/>
          <p:cNvPicPr/>
          <p:nvPr/>
        </p:nvPicPr>
        <p:blipFill>
          <a:blip r:embed="rId3"/>
          <a:stretch/>
        </p:blipFill>
        <p:spPr>
          <a:xfrm>
            <a:off x="6248520" y="3809880"/>
            <a:ext cx="2514600" cy="2210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medimanage.com/Images/fruit-juice-concentrates.jpg"/>
          <p:cNvPicPr/>
          <p:nvPr/>
        </p:nvPicPr>
        <p:blipFill>
          <a:blip r:embed="rId4"/>
          <a:stretch/>
        </p:blipFill>
        <p:spPr>
          <a:xfrm>
            <a:off x="304920" y="3733920"/>
            <a:ext cx="24382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985760" y="10152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atural Source of Vitamin 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2" descr="http://kara.allthingsd.com/files/2009/01/shiny_plum.jpg"/>
          <p:cNvPicPr/>
          <p:nvPr/>
        </p:nvPicPr>
        <p:blipFill>
          <a:blip r:embed="rId1"/>
          <a:stretch/>
        </p:blipFill>
        <p:spPr>
          <a:xfrm>
            <a:off x="533520" y="888840"/>
            <a:ext cx="1676160" cy="1424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066680" y="233676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m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http://www.hearthnkettle.com/chef-recipe-tips/wp-content/uploads/2012/06/red-pepper2.jpg"/>
          <p:cNvPicPr/>
          <p:nvPr/>
        </p:nvPicPr>
        <p:blipFill>
          <a:blip r:embed="rId2"/>
          <a:stretch/>
        </p:blipFill>
        <p:spPr>
          <a:xfrm>
            <a:off x="2819520" y="888840"/>
            <a:ext cx="1854000" cy="1390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2979000" y="2260440"/>
            <a:ext cx="177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 pepper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http://upload.wikimedia.org/wikipedia/commons/3/30/Jambu_Batu.jpg"/>
          <p:cNvPicPr/>
          <p:nvPr/>
        </p:nvPicPr>
        <p:blipFill>
          <a:blip r:embed="rId3"/>
          <a:stretch/>
        </p:blipFill>
        <p:spPr>
          <a:xfrm>
            <a:off x="5334120" y="88884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5796000" y="2184480"/>
            <a:ext cx="10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v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http://www.defeatdiabetes.org/resource/dynamic/global/food_kiwi_fruit.jpg"/>
          <p:cNvPicPr/>
          <p:nvPr/>
        </p:nvPicPr>
        <p:blipFill>
          <a:blip r:embed="rId4"/>
          <a:stretch/>
        </p:blipFill>
        <p:spPr>
          <a:xfrm>
            <a:off x="7315200" y="888840"/>
            <a:ext cx="1600200" cy="1400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7475760" y="2225520"/>
            <a:ext cx="157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wifruit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0" descr="http://thehealthcareblog.com/files/2012/03/broccoli.jpg"/>
          <p:cNvPicPr/>
          <p:nvPr/>
        </p:nvPicPr>
        <p:blipFill>
          <a:blip r:embed="rId5"/>
          <a:stretch/>
        </p:blipFill>
        <p:spPr>
          <a:xfrm>
            <a:off x="533520" y="2971800"/>
            <a:ext cx="16761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768240" y="4419720"/>
            <a:ext cx="131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ccol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2" descr="http://sumokina.com/wp-content/uploads/2012/06/Papaya-fruits1.jpg"/>
          <p:cNvPicPr/>
          <p:nvPr/>
        </p:nvPicPr>
        <p:blipFill>
          <a:blip r:embed="rId6"/>
          <a:stretch/>
        </p:blipFill>
        <p:spPr>
          <a:xfrm>
            <a:off x="2819520" y="2971800"/>
            <a:ext cx="190476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4"/>
          <p:cNvSpPr/>
          <p:nvPr/>
        </p:nvSpPr>
        <p:spPr>
          <a:xfrm>
            <a:off x="3436200" y="441972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y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18" descr="http://www.iloveportlandmaine.com/wp-content/uploads/2012/06/straw.jpg"/>
          <p:cNvPicPr/>
          <p:nvPr/>
        </p:nvPicPr>
        <p:blipFill>
          <a:blip r:embed="rId7"/>
          <a:stretch/>
        </p:blipFill>
        <p:spPr>
          <a:xfrm>
            <a:off x="5334120" y="2971800"/>
            <a:ext cx="1676160" cy="14479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8"/>
          <p:cNvSpPr/>
          <p:nvPr/>
        </p:nvSpPr>
        <p:spPr>
          <a:xfrm>
            <a:off x="5493240" y="4308480"/>
            <a:ext cx="164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wberr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20" descr="http://www.robertreeveslaw.com/blog/wp-content/uploads/2012/01/Fungicide-Contaminated-Orange-Juice.jpg"/>
          <p:cNvPicPr/>
          <p:nvPr/>
        </p:nvPicPr>
        <p:blipFill>
          <a:blip r:embed="rId8"/>
          <a:stretch/>
        </p:blipFill>
        <p:spPr>
          <a:xfrm>
            <a:off x="7315200" y="297180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0"/>
          <p:cNvSpPr/>
          <p:nvPr/>
        </p:nvSpPr>
        <p:spPr>
          <a:xfrm>
            <a:off x="7700760" y="4308480"/>
            <a:ext cx="115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ng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22" descr="http://duartefruittrees.com/wp-content/uploads/2010/04/Allen-Eureka-Lemon-1.jpg"/>
          <p:cNvPicPr/>
          <p:nvPr/>
        </p:nvPicPr>
        <p:blipFill>
          <a:blip r:embed="rId9"/>
          <a:stretch/>
        </p:blipFill>
        <p:spPr>
          <a:xfrm>
            <a:off x="1523880" y="50292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2"/>
          <p:cNvSpPr/>
          <p:nvPr/>
        </p:nvSpPr>
        <p:spPr>
          <a:xfrm>
            <a:off x="1757160" y="636588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m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24" descr="http://susangaer.com/studentprojects/grapefruit.jpg"/>
          <p:cNvPicPr/>
          <p:nvPr/>
        </p:nvPicPr>
        <p:blipFill>
          <a:blip r:embed="rId10"/>
          <a:stretch/>
        </p:blipFill>
        <p:spPr>
          <a:xfrm>
            <a:off x="3962520" y="5029200"/>
            <a:ext cx="1676160" cy="13716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4"/>
          <p:cNvSpPr/>
          <p:nvPr/>
        </p:nvSpPr>
        <p:spPr>
          <a:xfrm>
            <a:off x="4041720" y="6289560"/>
            <a:ext cx="155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efrui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6" descr="http://www.learningall.com/wp-content/uploads/2012/07/mango.jpg"/>
          <p:cNvPicPr/>
          <p:nvPr/>
        </p:nvPicPr>
        <p:blipFill>
          <a:blip r:embed="rId11"/>
          <a:stretch/>
        </p:blipFill>
        <p:spPr>
          <a:xfrm>
            <a:off x="6095880" y="5029200"/>
            <a:ext cx="1676520" cy="13334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6"/>
          <p:cNvSpPr/>
          <p:nvPr/>
        </p:nvSpPr>
        <p:spPr>
          <a:xfrm>
            <a:off x="6405120" y="628956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g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ed Rectangle 4"/>
          <p:cNvSpPr/>
          <p:nvPr/>
        </p:nvSpPr>
        <p:spPr>
          <a:xfrm>
            <a:off x="914400" y="56386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123840" y="1522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2 (Riboflav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152280" y="914400"/>
            <a:ext cx="8610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defined chemically a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,8-Dimethyl-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-[(2S,3S,4R)-2,3,4,5-tetrahydroxypentyl]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nzo [g] pteridine-2,4-di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ellow to orange-yellow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der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b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a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the precursor of phosphorylated coenzymes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MN,  FAD, and flavin coenzym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alently to specific  tissue proteins, at the 8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 methyl position of the isoalloxazine 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990720" y="571500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is stored mainly 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, kidney and heart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is or a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D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70- 90%) or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M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http://www.onestopgate.com/images/pharmaceutical-science/medicinal/250px-Riboflavin.svg.png"/>
          <p:cNvPicPr/>
          <p:nvPr/>
        </p:nvPicPr>
        <p:blipFill>
          <a:blip r:embed="rId1"/>
          <a:stretch/>
        </p:blipFill>
        <p:spPr>
          <a:xfrm>
            <a:off x="281160" y="1901880"/>
            <a:ext cx="2822400" cy="544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http://met.fzu.edu.cn/cai/shenghua/resource/biochem/EF/FMN.GIF"/>
          <p:cNvPicPr/>
          <p:nvPr/>
        </p:nvPicPr>
        <p:blipFill>
          <a:blip r:embed="rId2"/>
          <a:stretch/>
        </p:blipFill>
        <p:spPr>
          <a:xfrm>
            <a:off x="5715000" y="838080"/>
            <a:ext cx="2133720" cy="205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http://t3.gstatic.com/images?q=tbn:ANd9GcSUO56A7IVsbCN-090Lgp2whgbn7AWat9aWEVw-vRkb1BXul_6XDg&amp;t=1"/>
          <p:cNvPicPr/>
          <p:nvPr/>
        </p:nvPicPr>
        <p:blipFill>
          <a:blip r:embed="rId3"/>
          <a:stretch/>
        </p:blipFill>
        <p:spPr>
          <a:xfrm>
            <a:off x="4343400" y="3505320"/>
            <a:ext cx="4267080" cy="24476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4971600" y="601992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avin adenine dinucleotide (FAD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68" name="Straight Arrow Connector 6"/>
          <p:cNvCxnSpPr/>
          <p:nvPr/>
        </p:nvCxnSpPr>
        <p:spPr>
          <a:xfrm flipV="1">
            <a:off x="3429000" y="2133000"/>
            <a:ext cx="1829520" cy="99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9" name="Straight Arrow Connector 9"/>
          <p:cNvCxnSpPr/>
          <p:nvPr/>
        </p:nvCxnSpPr>
        <p:spPr>
          <a:xfrm>
            <a:off x="3428640" y="3123720"/>
            <a:ext cx="61020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0" name="TextBox 10"/>
          <p:cNvSpPr/>
          <p:nvPr/>
        </p:nvSpPr>
        <p:spPr>
          <a:xfrm rot="16200000">
            <a:off x="266760" y="36712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Ribose moie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71" name="Straight Arrow Connector 12"/>
          <p:cNvCxnSpPr/>
          <p:nvPr/>
        </p:nvCxnSpPr>
        <p:spPr>
          <a:xfrm flipH="1">
            <a:off x="1445400" y="3200400"/>
            <a:ext cx="2520" cy="137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72" name="TextBox 14"/>
          <p:cNvSpPr/>
          <p:nvPr/>
        </p:nvSpPr>
        <p:spPr>
          <a:xfrm>
            <a:off x="543960" y="1600200"/>
            <a:ext cx="217116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oalloxazine moie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73" name="Straight Arrow Connector 16"/>
          <p:cNvCxnSpPr/>
          <p:nvPr/>
        </p:nvCxnSpPr>
        <p:spPr>
          <a:xfrm>
            <a:off x="304560" y="1980720"/>
            <a:ext cx="2515320" cy="2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274" name="TextBox 17"/>
          <p:cNvSpPr/>
          <p:nvPr/>
        </p:nvSpPr>
        <p:spPr>
          <a:xfrm>
            <a:off x="309600" y="47242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 = Vitamin B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5646240" y="289548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 phospha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2514600" y="990720"/>
            <a:ext cx="495288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2073960" y="22860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quired  Daily Amount and 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2599920" y="990720"/>
            <a:ext cx="488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A is an average of 1.5 mg/ da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9" name="Picture 2" descr="http://whatscookingamerica.net/Mushrooms.jpg"/>
          <p:cNvPicPr/>
          <p:nvPr/>
        </p:nvPicPr>
        <p:blipFill>
          <a:blip r:embed="rId1"/>
          <a:stretch/>
        </p:blipFill>
        <p:spPr>
          <a:xfrm>
            <a:off x="457200" y="1981080"/>
            <a:ext cx="1835280" cy="16671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539640" y="35053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hroo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1" name="Picture 4" descr="http://upload.wikimedia.org/wikipedia/commons/thumb/2/23/Cacik-1.jpg/220px-Cacik-1.jpg"/>
          <p:cNvPicPr/>
          <p:nvPr/>
        </p:nvPicPr>
        <p:blipFill>
          <a:blip r:embed="rId2"/>
          <a:stretch/>
        </p:blipFill>
        <p:spPr>
          <a:xfrm>
            <a:off x="3505320" y="19810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/>
          <p:cNvSpPr/>
          <p:nvPr/>
        </p:nvSpPr>
        <p:spPr>
          <a:xfrm>
            <a:off x="4025520" y="3546360"/>
            <a:ext cx="137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ghur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6" descr="http://farmersandartisans.com/wp-content/uploads/et_temp/milk-eggs-78660_184x184.jpg"/>
          <p:cNvPicPr/>
          <p:nvPr/>
        </p:nvPicPr>
        <p:blipFill>
          <a:blip r:embed="rId3"/>
          <a:stretch/>
        </p:blipFill>
        <p:spPr>
          <a:xfrm>
            <a:off x="6629400" y="19810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9"/>
          <p:cNvSpPr/>
          <p:nvPr/>
        </p:nvSpPr>
        <p:spPr>
          <a:xfrm>
            <a:off x="6713640" y="3581280"/>
            <a:ext cx="174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k – Eg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Picture 10" descr="http://2.bp.blogspot.com/_Dwex9AQ8IuA/SoSl3AmzJwI/AAAAAAAAL1Y/fCy62-X6__c/s400/soy-beans-green-milk-6.jpg"/>
          <p:cNvPicPr/>
          <p:nvPr/>
        </p:nvPicPr>
        <p:blipFill>
          <a:blip r:embed="rId4"/>
          <a:stretch/>
        </p:blipFill>
        <p:spPr>
          <a:xfrm>
            <a:off x="457200" y="4495680"/>
            <a:ext cx="1947960" cy="17528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2"/>
          <p:cNvSpPr/>
          <p:nvPr/>
        </p:nvSpPr>
        <p:spPr>
          <a:xfrm>
            <a:off x="232560" y="617220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ure Soya bea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7" name="Picture 12" descr="http://thedbz.com/wp-content/uploads/2012/09/spinach.jpg"/>
          <p:cNvPicPr/>
          <p:nvPr/>
        </p:nvPicPr>
        <p:blipFill>
          <a:blip r:embed="rId5"/>
          <a:stretch/>
        </p:blipFill>
        <p:spPr>
          <a:xfrm>
            <a:off x="3429000" y="4495680"/>
            <a:ext cx="2133720" cy="1704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4043520" y="61722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9" name="Picture 14" descr="http://www.jamieoliver.com/core/images/foodwise/upload/large-1198.jpg"/>
          <p:cNvPicPr/>
          <p:nvPr/>
        </p:nvPicPr>
        <p:blipFill>
          <a:blip r:embed="rId6"/>
          <a:stretch/>
        </p:blipFill>
        <p:spPr>
          <a:xfrm>
            <a:off x="6629400" y="44956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6"/>
          <p:cNvSpPr/>
          <p:nvPr/>
        </p:nvSpPr>
        <p:spPr>
          <a:xfrm>
            <a:off x="7167600" y="609588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f li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4"/>
          <p:cNvSpPr/>
          <p:nvPr/>
        </p:nvSpPr>
        <p:spPr>
          <a:xfrm>
            <a:off x="2836440" y="46656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ability of Riboflav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457200" y="1373040"/>
            <a:ext cx="83059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and its coenzymes are sensitive to alkali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 but in the presence of light or UV light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is photodegraded to yiel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miflavi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7,8,10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methylisoalloxazine)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der alkaline conditio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umichrom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7,8-dimethylalloxazin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under acidic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ition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these products are biologicall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active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, phototherapy of neonatal jaundice and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ain skin disorders may promote systemic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3054240" y="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304920" y="457200"/>
            <a:ext cx="845820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.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nergy produc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ctive forms of riboflavin are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ylated coenzymes FMN and FAD whic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 central roles in about 150 oxidation-reductio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tions and are involved i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abolism of carbohydrates, fat, and prote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ion of adenosine triphosphate (ATP) through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ular respiration in mitochondr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 of vitamin B12, folate, vitamin B6 and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of tryptophan to niac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. Antioxidant action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factor of glutathione reduct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i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 helps in recycle of oxidized glutathione, whic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s a key role in maintaining proper function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oxidative stress in human cells includ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rythr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2268000" y="380880"/>
            <a:ext cx="49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uses of Riboflavin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380880" y="1219320"/>
            <a:ext cx="8458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nutri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 conditions which affect intestinal absorptio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of vitamin excretion from the body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123200" y="3962520"/>
            <a:ext cx="68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agnostic testing for vitamin B2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066680" y="4667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sitive diagnostic test of serum riboflavin is by measur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utathione reductase levels of erythrocyt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642960" y="30492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B2 deficiency (Ariboflavinos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685800" y="1062000"/>
            <a:ext cx="792468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, scaly, painful, and itchy patches on sensitive sk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round nose, ears, mouth, labia majora (female), and the scrotum (male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ful fissures and cracks form at the angles of the mouth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ngular stomatiti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 the lips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heilosis)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associated with bacterial and fungal infection. The tongue and throat  become purplish and painfu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uth ulce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1" name="Picture 4" descr="http://userfiles.steadyhealth.com/sites/steadyhealth.com/modules/infocenter/data/images/myths_about_angular_stomatitis.jpg"/>
          <p:cNvPicPr/>
          <p:nvPr/>
        </p:nvPicPr>
        <p:blipFill>
          <a:blip r:embed="rId1"/>
          <a:stretch/>
        </p:blipFill>
        <p:spPr>
          <a:xfrm>
            <a:off x="4800600" y="48006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2534040" y="64119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ular stomatit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8" descr="http://www.cancer.gov/PublishedContent/Images/images/documents/42ec158c-ba4d-4bfd-a152-26987644af0a/symptom4.jpg"/>
          <p:cNvPicPr/>
          <p:nvPr/>
        </p:nvPicPr>
        <p:blipFill>
          <a:blip r:embed="rId2"/>
          <a:stretch/>
        </p:blipFill>
        <p:spPr>
          <a:xfrm>
            <a:off x="228600" y="4876920"/>
            <a:ext cx="1828800" cy="15811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1"/>
          <p:cNvSpPr/>
          <p:nvPr/>
        </p:nvSpPr>
        <p:spPr>
          <a:xfrm>
            <a:off x="304920" y="6324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, scaly, painful ski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5338440" y="64008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il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6" name="Picture 6" descr="http://mouthsorespictures.com/images/Herpes-Mouth-Sores-Pictures.jpg"/>
          <p:cNvPicPr/>
          <p:nvPr/>
        </p:nvPicPr>
        <p:blipFill>
          <a:blip r:embed="rId3"/>
          <a:stretch/>
        </p:blipFill>
        <p:spPr>
          <a:xfrm>
            <a:off x="7026120" y="4876920"/>
            <a:ext cx="2041560" cy="1523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7109640" y="63244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uth ulc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8" name="Picture 12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457200" y="687240"/>
            <a:ext cx="815328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ness, burning, excessive tearing of eye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decreased production of red blood cel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 of riboflavin typically produces symptom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vitamin B6 and niacin deficienc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Picture 2" descr="http://www.docshop.com/assets/images/dry-eye-symptoms.jpg?1333049766"/>
          <p:cNvPicPr/>
          <p:nvPr/>
        </p:nvPicPr>
        <p:blipFill>
          <a:blip r:embed="rId1"/>
          <a:stretch/>
        </p:blipFill>
        <p:spPr>
          <a:xfrm>
            <a:off x="762120" y="4495680"/>
            <a:ext cx="2361960" cy="160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http://www.nephron.com/images/anemia0519.jpg"/>
          <p:cNvPicPr/>
          <p:nvPr/>
        </p:nvPicPr>
        <p:blipFill>
          <a:blip r:embed="rId2"/>
          <a:stretch/>
        </p:blipFill>
        <p:spPr>
          <a:xfrm>
            <a:off x="3733920" y="449568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4"/>
          <p:cNvSpPr/>
          <p:nvPr/>
        </p:nvSpPr>
        <p:spPr>
          <a:xfrm>
            <a:off x="1108080" y="6172200"/>
            <a:ext cx="19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ness, burning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aring of ey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461120" y="60199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em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4" name="Picture 6" descr="http://www.blatner.com/adam/consctransf/historyofmedicine/5-deficiencydiseases/pellagrskin.JPG"/>
          <p:cNvPicPr/>
          <p:nvPr/>
        </p:nvPicPr>
        <p:blipFill>
          <a:blip r:embed="rId3"/>
          <a:stretch/>
        </p:blipFill>
        <p:spPr>
          <a:xfrm>
            <a:off x="6629400" y="4495680"/>
            <a:ext cx="2085840" cy="15242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7"/>
          <p:cNvSpPr/>
          <p:nvPr/>
        </p:nvSpPr>
        <p:spPr>
          <a:xfrm>
            <a:off x="6248520" y="60199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toms of niacin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cienc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1177920" y="23796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2 de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380880" y="995400"/>
            <a:ext cx="8458200" cy="53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, and adolescent, athletes, as well as during pregnancy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lactation (cases with a high-energy output) need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vitamin B2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under high stres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betics may have low level of riboflavin as a result of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reased urinary excretion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lderly people (nutritional inadequacy and problems with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ients administering thyroid hormones, oral contraceptives,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enothiazines, barbiturates, probenacid, and Tricyclic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depressant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242000" y="98280"/>
            <a:ext cx="71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 of Vitamin B2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457200" y="685800"/>
            <a:ext cx="8229600" cy="62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oxification: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boflavin helps liver to detoxify pesticides,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s, and other environmental toxin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the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oxidant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pacity throughout the body and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ly for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ns of the eye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le intake of riboflavin help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crease the incidence of cataract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 a cofactor of glutathione reductase, riboflavin with vitamin C increase body's level of glutathione (antioxidant)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le riboflavin intake maintains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y skin and mucous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mbrane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ay be beneficial in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matitis, cheilosis, and skin 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ruptions and rashes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ounded Rectangle 8"/>
          <p:cNvSpPr/>
          <p:nvPr/>
        </p:nvSpPr>
        <p:spPr>
          <a:xfrm>
            <a:off x="2057400" y="4952880"/>
            <a:ext cx="54864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ounded Rectangle 6"/>
          <p:cNvSpPr/>
          <p:nvPr/>
        </p:nvSpPr>
        <p:spPr>
          <a:xfrm>
            <a:off x="2209680" y="5791320"/>
            <a:ext cx="464832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2" descr="vitamin C decomposition"/>
          <p:cNvPicPr/>
          <p:nvPr/>
        </p:nvPicPr>
        <p:blipFill>
          <a:blip r:embed="rId1"/>
          <a:stretch/>
        </p:blipFill>
        <p:spPr>
          <a:xfrm>
            <a:off x="609480" y="1523880"/>
            <a:ext cx="8077320" cy="2438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1155240" y="3962520"/>
            <a:ext cx="258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- Ascorbic Aci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Reduced Form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109120" y="3962520"/>
            <a:ext cx="374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-Dehydroascorbic  Aci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xidised Form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508200" y="38088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09680" y="5827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RDA: Adults: 60 mg/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2"/>
                </a:solidFill>
                <a:latin typeface="Times New Roman"/>
                <a:ea typeface="Times New Roman"/>
              </a:rPr>
              <a:t>Children: 30 mg/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181240" y="502452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ysiologically active forms for vitamin 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1847520" y="22860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2 – Drug inter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457200" y="906480"/>
            <a:ext cx="830592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beneci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nti-gout)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antheline bromid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ntipeptic ulcers) both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ays and impairs it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enothiazin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ntipsychotic drugs)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rease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retion of riboflavi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hus lowering serum level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al contraceptiv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also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crease its serum level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 interfer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fectivenes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nti-malarial (ex. chloroquine)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tracyclin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ics and sulfa-containing drug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2213280" y="83808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say of Vitamin B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685800" y="2133720"/>
            <a:ext cx="792468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umiflavin metho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oflavin solution or biologic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rradiated in alkali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to yielded a chloroform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ble lumiflavin, measured b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oreme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ounded Rectangle 7"/>
          <p:cNvSpPr/>
          <p:nvPr/>
        </p:nvSpPr>
        <p:spPr>
          <a:xfrm>
            <a:off x="1828800" y="2438280"/>
            <a:ext cx="5715000" cy="38862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874800" y="762120"/>
            <a:ext cx="7000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3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IACIN &amp; NIACINAMID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6" name="Picture 7" descr="http://1.bp.blogspot.com/-S9KpR3iH5t0/T9rqrVjQ-LI/AAAAAAAAA-A/GJPBnX9YY3w/s1600/Ingredients_Healthy_Food.jpg"/>
          <p:cNvPicPr/>
          <p:nvPr/>
        </p:nvPicPr>
        <p:blipFill>
          <a:blip r:embed="rId1"/>
          <a:stretch/>
        </p:blipFill>
        <p:spPr>
          <a:xfrm>
            <a:off x="2209680" y="2743200"/>
            <a:ext cx="48769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4"/>
          <p:cNvSpPr/>
          <p:nvPr/>
        </p:nvSpPr>
        <p:spPr>
          <a:xfrm>
            <a:off x="2971800" y="6172200"/>
            <a:ext cx="3276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123840" y="2556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3 (Niacin &amp; Niacinamid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609480" y="685800"/>
            <a:ext cx="77724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main forms of Vitamin B3 are found in food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iacin)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ami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iacinamid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can be partially satisfied by intak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yptoph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hich is converted by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0 mg of tryptoph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onverted in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u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mg of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tary requirements for niacin are described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s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acin equivalents (NEs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NE = 60mg of tryptophan = 1mg of niac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200400" y="6167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DA: 13- 20 mg/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2744280" y="5335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urces of Vitamin B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2" name="Picture 2" descr="http://t3.gstatic.com/images?q=tbn:ANd9GcSFFOVHQJ1T-RUkTKbzi11X-C_cM6KqiKqgeXL851I5S9X8UFNZtg&amp;t=1"/>
          <p:cNvPicPr/>
          <p:nvPr/>
        </p:nvPicPr>
        <p:blipFill>
          <a:blip r:embed="rId1"/>
          <a:stretch/>
        </p:blipFill>
        <p:spPr>
          <a:xfrm>
            <a:off x="609480" y="228600"/>
            <a:ext cx="1567080" cy="1066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http://www.lookchem.com/300w%5C2010-5%5C17ff163c-9db1-4e2d-a52e-977cf1a86bfb.png"/>
          <p:cNvPicPr/>
          <p:nvPr/>
        </p:nvPicPr>
        <p:blipFill>
          <a:blip r:embed="rId2"/>
          <a:stretch/>
        </p:blipFill>
        <p:spPr>
          <a:xfrm>
            <a:off x="7010280" y="228600"/>
            <a:ext cx="1600200" cy="1066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274320" y="126216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acid or Niaci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6183720" y="130644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amide or Niacinamid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6" name="Picture 2" descr="http://4.bp.blogspot.com/-GEClzTQ1DYs/T6f2IIdbg9I/AAAAAAAAAJM/cjQC_gjleLk/s1600/Meat58.jpg"/>
          <p:cNvPicPr/>
          <p:nvPr/>
        </p:nvPicPr>
        <p:blipFill>
          <a:blip r:embed="rId3"/>
          <a:stretch/>
        </p:blipFill>
        <p:spPr>
          <a:xfrm>
            <a:off x="228600" y="190512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461520" y="3200400"/>
            <a:ext cx="91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8" name="Picture 4" descr="http://www.futurity.org/wp-content/uploads/2010/10/fish_1.jpg"/>
          <p:cNvPicPr/>
          <p:nvPr/>
        </p:nvPicPr>
        <p:blipFill>
          <a:blip r:embed="rId4"/>
          <a:stretch/>
        </p:blipFill>
        <p:spPr>
          <a:xfrm>
            <a:off x="2133720" y="190512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9"/>
          <p:cNvSpPr/>
          <p:nvPr/>
        </p:nvSpPr>
        <p:spPr>
          <a:xfrm>
            <a:off x="2442960" y="3200400"/>
            <a:ext cx="78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s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0" name="Picture 6" descr="http://www.juliuskingdomartisanalfoods.com/store/images/raw-liver.jpg"/>
          <p:cNvPicPr/>
          <p:nvPr/>
        </p:nvPicPr>
        <p:blipFill>
          <a:blip r:embed="rId5"/>
          <a:stretch/>
        </p:blipFill>
        <p:spPr>
          <a:xfrm>
            <a:off x="4038480" y="1905120"/>
            <a:ext cx="1600200" cy="1390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1"/>
          <p:cNvSpPr/>
          <p:nvPr/>
        </p:nvSpPr>
        <p:spPr>
          <a:xfrm>
            <a:off x="3969720" y="32004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ep li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2" name="Picture 8" descr="http://www.latimes.com/media/photo/2010-03/39579199.jpg"/>
          <p:cNvPicPr/>
          <p:nvPr/>
        </p:nvPicPr>
        <p:blipFill>
          <a:blip r:embed="rId6"/>
          <a:stretch/>
        </p:blipFill>
        <p:spPr>
          <a:xfrm>
            <a:off x="5943600" y="190512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3"/>
          <p:cNvSpPr/>
          <p:nvPr/>
        </p:nvSpPr>
        <p:spPr>
          <a:xfrm>
            <a:off x="6025680" y="3165480"/>
            <a:ext cx="124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w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4" name="Picture 10" descr="http://image.shutterstock.com/display_pic_with_logo/539965/539965,1322464122,1/stock-photo-fresh-cow-milk-contains-vitamins-and-it-is-useful-for-health-89687191.jpg"/>
          <p:cNvPicPr/>
          <p:nvPr/>
        </p:nvPicPr>
        <p:blipFill>
          <a:blip r:embed="rId7"/>
          <a:stretch/>
        </p:blipFill>
        <p:spPr>
          <a:xfrm>
            <a:off x="7697880" y="1905120"/>
            <a:ext cx="1446120" cy="13716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5"/>
          <p:cNvSpPr/>
          <p:nvPr/>
        </p:nvSpPr>
        <p:spPr>
          <a:xfrm>
            <a:off x="7553520" y="31654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w’s mil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6" name="Picture 12" descr="http://1.bp.blogspot.com/_5vaMWuq2uLU/TMBgmsgYA0I/AAAAAAAAAOM/WW5oYtovgjY/s1600/whitericebran.jpg"/>
          <p:cNvPicPr/>
          <p:nvPr/>
        </p:nvPicPr>
        <p:blipFill>
          <a:blip r:embed="rId8"/>
          <a:stretch/>
        </p:blipFill>
        <p:spPr>
          <a:xfrm>
            <a:off x="228600" y="3886200"/>
            <a:ext cx="1523880" cy="12193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7"/>
          <p:cNvSpPr/>
          <p:nvPr/>
        </p:nvSpPr>
        <p:spPr>
          <a:xfrm>
            <a:off x="312480" y="502920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e br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8" name="Picture 14" descr="http://img.21food.com/20110609/product/1305543365031.jpg"/>
          <p:cNvPicPr/>
          <p:nvPr/>
        </p:nvPicPr>
        <p:blipFill>
          <a:blip r:embed="rId9"/>
          <a:stretch/>
        </p:blipFill>
        <p:spPr>
          <a:xfrm>
            <a:off x="2133720" y="3886200"/>
            <a:ext cx="1600200" cy="12193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9"/>
          <p:cNvSpPr/>
          <p:nvPr/>
        </p:nvSpPr>
        <p:spPr>
          <a:xfrm>
            <a:off x="2028600" y="5029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ndnu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0" name="Picture 16" descr="http://chilgoza.net/wp-content/uploads/2011/12/pine-nuts.jpg"/>
          <p:cNvPicPr/>
          <p:nvPr/>
        </p:nvPicPr>
        <p:blipFill>
          <a:blip r:embed="rId10"/>
          <a:stretch/>
        </p:blipFill>
        <p:spPr>
          <a:xfrm>
            <a:off x="4038480" y="3886200"/>
            <a:ext cx="1600200" cy="1219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1"/>
          <p:cNvSpPr/>
          <p:nvPr/>
        </p:nvSpPr>
        <p:spPr>
          <a:xfrm>
            <a:off x="4122360" y="50292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goz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2" name="Picture 18" descr="http://www.ethicurean.com/wp-content/uploads/2006/12/hpim5141.jpg"/>
          <p:cNvPicPr/>
          <p:nvPr/>
        </p:nvPicPr>
        <p:blipFill>
          <a:blip r:embed="rId11"/>
          <a:stretch/>
        </p:blipFill>
        <p:spPr>
          <a:xfrm>
            <a:off x="6019920" y="3886200"/>
            <a:ext cx="1447560" cy="12193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3"/>
          <p:cNvSpPr/>
          <p:nvPr/>
        </p:nvSpPr>
        <p:spPr>
          <a:xfrm>
            <a:off x="6240960" y="5029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4" name="Picture 20" descr="http://4.bp.blogspot.com/_8WgOULWt2bY/TAT9N2GSAyI/AAAAAAAAAhc/6dABeFhFgZQ/s1600/beets-and-greens1.jpg"/>
          <p:cNvPicPr/>
          <p:nvPr/>
        </p:nvPicPr>
        <p:blipFill>
          <a:blip r:embed="rId12"/>
          <a:stretch/>
        </p:blipFill>
        <p:spPr>
          <a:xfrm>
            <a:off x="7696080" y="38862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5"/>
          <p:cNvSpPr/>
          <p:nvPr/>
        </p:nvSpPr>
        <p:spPr>
          <a:xfrm>
            <a:off x="7627320" y="5029200"/>
            <a:ext cx="155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t gree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6" name="Picture 22" descr="http://amuslima.com/wp-content/uploads/2011/09/yeast-spoons.jpg"/>
          <p:cNvPicPr/>
          <p:nvPr/>
        </p:nvPicPr>
        <p:blipFill>
          <a:blip r:embed="rId13"/>
          <a:stretch/>
        </p:blipFill>
        <p:spPr>
          <a:xfrm>
            <a:off x="3124080" y="5715000"/>
            <a:ext cx="1676520" cy="10666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28"/>
          <p:cNvSpPr/>
          <p:nvPr/>
        </p:nvSpPr>
        <p:spPr>
          <a:xfrm>
            <a:off x="2274480" y="6396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8" name="Picture 26" descr="http://image.made-in-china.com/2f0j00AMsaCpwGfPbI/Wheat-Bran.jpg"/>
          <p:cNvPicPr/>
          <p:nvPr/>
        </p:nvPicPr>
        <p:blipFill>
          <a:blip r:embed="rId14"/>
          <a:stretch/>
        </p:blipFill>
        <p:spPr>
          <a:xfrm>
            <a:off x="5996160" y="5715000"/>
            <a:ext cx="1547640" cy="10666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0"/>
          <p:cNvSpPr/>
          <p:nvPr/>
        </p:nvSpPr>
        <p:spPr>
          <a:xfrm>
            <a:off x="7548840" y="6324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1856160" y="1522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harmacokinetics of Vitamin B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457200" y="762120"/>
            <a:ext cx="822960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bsorp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w concentration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transporta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high concentration by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assive diffus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ansport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Nicotinic acid and Nicotinamide bind to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a proteins for transporta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iosynthesi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ver can synthesize Niacin from the essentia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ino aci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yptophan, but the synthesis i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tremely  slow and requires vitamin B1, B2, and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6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0 mg of Tryptophan   1mg of niacin)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 in the gut may also perform t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re inefficien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362" name="Straight Arrow Connector 4"/>
          <p:cNvCxnSpPr/>
          <p:nvPr/>
        </p:nvCxnSpPr>
        <p:spPr>
          <a:xfrm>
            <a:off x="5638680" y="5866920"/>
            <a:ext cx="45792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2319840" y="0"/>
            <a:ext cx="44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B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228600" y="969840"/>
            <a:ext cx="845820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acts as a co-enzyme in oxidation reduction reaction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tabolic Rxn: in form of NAD+/NAD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abolic Rxn: in form of NADP+/NADP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, it is required for functions of &gt;200 enzyme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ling with the biosynthesis of several compound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tty acids, steroid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tabolism of fuel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lecules for energ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DNA replication and repair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vital for synthesis of DNA-bound nuclear protein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n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"/>
          <p:cNvSpPr/>
          <p:nvPr/>
        </p:nvSpPr>
        <p:spPr>
          <a:xfrm>
            <a:off x="380880" y="1905120"/>
            <a:ext cx="830592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lood sugar regulatio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component of the glucose tolerance fact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TF), which together with insulin, helps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blood gluco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Fat and cholesterol metabolism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lowers levels of total and LDL cholestero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, while increasing levels of HD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 (the healthy, protective form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380880" y="3682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Antioxidant function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plays an important role in antioxidant system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ly in the liv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>
            <a:off x="1844280" y="7632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B3 Deficiency Dis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457200" y="838080"/>
            <a:ext cx="8153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Milder deficiency of niacin (as well as tryptophan)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 cause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ssiti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nflammation of the tongu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to purplish discoloration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itis around the mouth and rash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igu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ritability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 appetit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ges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ght los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ach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9" name="Picture 2" descr="http://www.hxbenefit.com/wp-content/uploads/2011/08/Atrophic-Glossitis.jpg"/>
          <p:cNvPicPr/>
          <p:nvPr/>
        </p:nvPicPr>
        <p:blipFill>
          <a:blip r:embed="rId1"/>
          <a:stretch/>
        </p:blipFill>
        <p:spPr>
          <a:xfrm>
            <a:off x="152280" y="5410080"/>
            <a:ext cx="1308240" cy="9288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4"/>
          <p:cNvSpPr/>
          <p:nvPr/>
        </p:nvSpPr>
        <p:spPr>
          <a:xfrm>
            <a:off x="307800" y="62913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ssiti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1" name="Picture 4" descr="http://medical.cdn.patient.co.uk/images/dis9.jpg"/>
          <p:cNvPicPr/>
          <p:nvPr/>
        </p:nvPicPr>
        <p:blipFill>
          <a:blip r:embed="rId2"/>
          <a:stretch/>
        </p:blipFill>
        <p:spPr>
          <a:xfrm>
            <a:off x="1728720" y="541008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1613520" y="6273720"/>
            <a:ext cx="170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itis around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uth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3" name="Picture 6" descr="http://www.glamour.com/health-fitness/blogs/vitamin-g/0723-headache_vg.jpg"/>
          <p:cNvPicPr/>
          <p:nvPr/>
        </p:nvPicPr>
        <p:blipFill>
          <a:blip r:embed="rId3"/>
          <a:stretch/>
        </p:blipFill>
        <p:spPr>
          <a:xfrm>
            <a:off x="7620120" y="5410080"/>
            <a:ext cx="1295280" cy="8575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2"/>
          <p:cNvSpPr/>
          <p:nvPr/>
        </p:nvSpPr>
        <p:spPr>
          <a:xfrm>
            <a:off x="7779960" y="632448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ach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5" name="Picture 10" descr="http://www.alignlife.com/userfiles/Fatigue(7).jpg"/>
          <p:cNvPicPr/>
          <p:nvPr/>
        </p:nvPicPr>
        <p:blipFill>
          <a:blip r:embed="rId4"/>
          <a:stretch/>
        </p:blipFill>
        <p:spPr>
          <a:xfrm>
            <a:off x="3352680" y="5410080"/>
            <a:ext cx="1143000" cy="8654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5"/>
          <p:cNvSpPr/>
          <p:nvPr/>
        </p:nvSpPr>
        <p:spPr>
          <a:xfrm>
            <a:off x="3587760" y="6324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igu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7" name="Picture 12" descr="http://1.bp.blogspot.com/-3VzZ_WYBP94/TuyZPOlOy_I/AAAAAAAABq8/y0ajkc72cRs/s320/Child.jpg"/>
          <p:cNvPicPr/>
          <p:nvPr/>
        </p:nvPicPr>
        <p:blipFill>
          <a:blip r:embed="rId5"/>
          <a:stretch/>
        </p:blipFill>
        <p:spPr>
          <a:xfrm>
            <a:off x="4724280" y="5410080"/>
            <a:ext cx="1081080" cy="9144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7"/>
          <p:cNvSpPr/>
          <p:nvPr/>
        </p:nvSpPr>
        <p:spPr>
          <a:xfrm>
            <a:off x="4733280" y="632448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 appeti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9" name="Picture 14" descr="http://www.mindef.gov.sg/life/newimages/Image50.gif"/>
          <p:cNvPicPr/>
          <p:nvPr/>
        </p:nvPicPr>
        <p:blipFill>
          <a:blip r:embed="rId6"/>
          <a:stretch/>
        </p:blipFill>
        <p:spPr>
          <a:xfrm>
            <a:off x="6248520" y="541008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9"/>
          <p:cNvSpPr/>
          <p:nvPr/>
        </p:nvSpPr>
        <p:spPr>
          <a:xfrm>
            <a:off x="6256080" y="6324480"/>
            <a:ext cx="11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gest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380880"/>
            <a:ext cx="81532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Severe deficiency leads to Pellagra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Characterized by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lamed mouth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inful swollen tongue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ssured lips) and GIT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rrhea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rmatitis in the exposed skin of hands, face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ck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asal’s necklace)</a:t>
            </a:r>
            <a:r>
              <a:rPr b="0" i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entia and mental disorde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a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-457200" y="35845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very rare now, except in alcoholics, strict vegetarians, and people with very poor nutrition (or niacin or tryptophan- deficient food e.g corn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3" name="Picture 8" descr="http://year9diseases.wikispaces.com/file/view/diarrhea1.jpeg/130167843/diarrhea1.jpeg"/>
          <p:cNvPicPr/>
          <p:nvPr/>
        </p:nvPicPr>
        <p:blipFill>
          <a:blip r:embed="rId1"/>
          <a:stretch/>
        </p:blipFill>
        <p:spPr>
          <a:xfrm>
            <a:off x="2057400" y="5181480"/>
            <a:ext cx="1752480" cy="1236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http://www.moondragon.org/health/graphics/pellagraface.jpg"/>
          <p:cNvPicPr/>
          <p:nvPr/>
        </p:nvPicPr>
        <p:blipFill>
          <a:blip r:embed="rId2"/>
          <a:stretch/>
        </p:blipFill>
        <p:spPr>
          <a:xfrm>
            <a:off x="228600" y="5181480"/>
            <a:ext cx="1568520" cy="12956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0"/>
          <p:cNvSpPr/>
          <p:nvPr/>
        </p:nvSpPr>
        <p:spPr>
          <a:xfrm>
            <a:off x="239760" y="640080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amed mouth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2520720" y="64008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rrhe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7" name="Picture 12" descr="http://www.blatner.com/adam/consctransf/historyofmedicine/5-deficiencydiseases/pellagrskin.JPG"/>
          <p:cNvPicPr/>
          <p:nvPr/>
        </p:nvPicPr>
        <p:blipFill>
          <a:blip r:embed="rId3"/>
          <a:stretch/>
        </p:blipFill>
        <p:spPr>
          <a:xfrm>
            <a:off x="4038480" y="5181480"/>
            <a:ext cx="1447920" cy="12319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3"/>
          <p:cNvSpPr/>
          <p:nvPr/>
        </p:nvSpPr>
        <p:spPr>
          <a:xfrm>
            <a:off x="4126320" y="635004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itis of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ed ski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9" name="Picture 14" descr="http://4.bp.blogspot.com/_R-AhPgfJIeo/TTS1ZOXM3AI/AAAAAAAAMQQ/yOOL5zjmlow/s1600/mentally+ill+in+india.jpg"/>
          <p:cNvPicPr/>
          <p:nvPr/>
        </p:nvPicPr>
        <p:blipFill>
          <a:blip r:embed="rId4"/>
          <a:stretch/>
        </p:blipFill>
        <p:spPr>
          <a:xfrm>
            <a:off x="5791320" y="5181480"/>
            <a:ext cx="1447560" cy="1189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6" descr="http://www.wga.hu/art/s/scheffer/gericaul.jpg"/>
          <p:cNvPicPr/>
          <p:nvPr/>
        </p:nvPicPr>
        <p:blipFill>
          <a:blip r:embed="rId5"/>
          <a:stretch/>
        </p:blipFill>
        <p:spPr>
          <a:xfrm>
            <a:off x="7543800" y="5181480"/>
            <a:ext cx="1371600" cy="11908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6"/>
          <p:cNvSpPr/>
          <p:nvPr/>
        </p:nvSpPr>
        <p:spPr>
          <a:xfrm>
            <a:off x="5802480" y="6367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 disorde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6944760" y="6291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th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848160" y="7776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emistry and Stability of Vitamin 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3520" y="838080"/>
            <a:ext cx="82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a weak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ts salts c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rb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stable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kaline pH, high temperature, and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esence of oxygen or metal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D-enantiomer of ascorbic ac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w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logical activ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rbic acid is strong reducing ag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erves as 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oxid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co-factor in hydroxyl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rbic acid is reversibly oxidized to L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hydroascorbic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bo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-ascorbic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-dehydroascorbic acids are physiological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forms for vitamin 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943920" y="101520"/>
            <a:ext cx="77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B3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04920" y="934920"/>
            <a:ext cx="75438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very poor nutri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 niacin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ptophan- deficient food e.g cor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deficiencies in vitamin B6 o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boflav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version of tryptophan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is reduced           niacin stores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 is reduced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with inflammatory bowel diseas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digestive disorders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labsorptio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vy alcohol consump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eres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rption and metabolism of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ople under high stress, chronic illnesses, live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ea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395" name="Straight Arrow Connector 4"/>
          <p:cNvCxnSpPr/>
          <p:nvPr/>
        </p:nvCxnSpPr>
        <p:spPr>
          <a:xfrm>
            <a:off x="4952880" y="4114800"/>
            <a:ext cx="5342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6" name="Straight Arrow Connector 5"/>
          <p:cNvCxnSpPr/>
          <p:nvPr/>
        </p:nvCxnSpPr>
        <p:spPr>
          <a:xfrm>
            <a:off x="3962160" y="2895120"/>
            <a:ext cx="68652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7" name="Picture 7" descr="http://www.motherearthnews.com/uploadedImages/articles/issues/2010-04-01/MEN-AM10-gazette-corn.jpg"/>
          <p:cNvPicPr/>
          <p:nvPr/>
        </p:nvPicPr>
        <p:blipFill>
          <a:blip r:embed="rId1"/>
          <a:stretch/>
        </p:blipFill>
        <p:spPr>
          <a:xfrm>
            <a:off x="7921800" y="990720"/>
            <a:ext cx="1145880" cy="858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http://www.umm.edu/graphics/images/en/19219.jpg"/>
          <p:cNvPicPr/>
          <p:nvPr/>
        </p:nvPicPr>
        <p:blipFill>
          <a:blip r:embed="rId2"/>
          <a:stretch/>
        </p:blipFill>
        <p:spPr>
          <a:xfrm>
            <a:off x="7848720" y="3505320"/>
            <a:ext cx="1295280" cy="1036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" descr="http://drugline.org/img/ail/2114_2127_2.jpg"/>
          <p:cNvPicPr/>
          <p:nvPr/>
        </p:nvPicPr>
        <p:blipFill>
          <a:blip r:embed="rId3"/>
          <a:stretch/>
        </p:blipFill>
        <p:spPr>
          <a:xfrm>
            <a:off x="7772400" y="5638680"/>
            <a:ext cx="1371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"/>
          <p:cNvSpPr/>
          <p:nvPr/>
        </p:nvSpPr>
        <p:spPr>
          <a:xfrm>
            <a:off x="2288880" y="15228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ses in prevention and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152280" y="762120"/>
            <a:ext cx="7543800" cy="56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ntal illnes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schizophrenia: Niacinamide c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ffective with traditional medical treatment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herosclerosis and heart attack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in ver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es (2-3 g/day)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total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D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esterol and raising HDL cholestero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428840" indent="-5144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Dilates blood vessels     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hriti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acin helps in treatment of osteoarthriti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bete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acinamide slow down the developmen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nephropathy in diabetes and delay need fo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lin therapy in juvenile diabet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402" name="Straight Arrow Connector 4"/>
          <p:cNvCxnSpPr/>
          <p:nvPr/>
        </p:nvCxnSpPr>
        <p:spPr>
          <a:xfrm>
            <a:off x="5181120" y="4191120"/>
            <a:ext cx="762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03" name="Picture 6" descr="http://njjewishnews.com/njjn.com/010109/ltMentalIllness.jpg"/>
          <p:cNvPicPr/>
          <p:nvPr/>
        </p:nvPicPr>
        <p:blipFill>
          <a:blip r:embed="rId1"/>
          <a:stretch/>
        </p:blipFill>
        <p:spPr>
          <a:xfrm>
            <a:off x="7772400" y="685800"/>
            <a:ext cx="1181160" cy="1143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http://topnews.in/health/files/heart-attack-3.jpg"/>
          <p:cNvPicPr/>
          <p:nvPr/>
        </p:nvPicPr>
        <p:blipFill>
          <a:blip r:embed="rId2"/>
          <a:stretch/>
        </p:blipFill>
        <p:spPr>
          <a:xfrm>
            <a:off x="7772400" y="2438280"/>
            <a:ext cx="1227240" cy="1376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https://ufandshands.org/sites/default/files/graphics/images/en/17130.jpg"/>
          <p:cNvPicPr/>
          <p:nvPr/>
        </p:nvPicPr>
        <p:blipFill>
          <a:blip r:embed="rId3"/>
          <a:stretch/>
        </p:blipFill>
        <p:spPr>
          <a:xfrm>
            <a:off x="7772400" y="43434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howmanyarethere.net/wp-content/uploads/2012/05/diabetes-41.jpg"/>
          <p:cNvPicPr/>
          <p:nvPr/>
        </p:nvPicPr>
        <p:blipFill>
          <a:blip r:embed="rId4"/>
          <a:stretch/>
        </p:blipFill>
        <p:spPr>
          <a:xfrm>
            <a:off x="7772400" y="5638680"/>
            <a:ext cx="12193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380880" y="932040"/>
            <a:ext cx="647712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ction against environmental toxins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oxidant function of niac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protect liver against damag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pesticides, chemicals, alcohol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ru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dach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help in prevention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ach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of Pellagr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8" name="Picture 2" descr="http://www.energytimes.com/images/deptart/1006/pollution.jpg"/>
          <p:cNvPicPr/>
          <p:nvPr/>
        </p:nvPicPr>
        <p:blipFill>
          <a:blip r:embed="rId1"/>
          <a:stretch/>
        </p:blipFill>
        <p:spPr>
          <a:xfrm>
            <a:off x="7086600" y="1066680"/>
            <a:ext cx="1770120" cy="1524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www.osoyooslakeshorecottage.com/headache.jpg"/>
          <p:cNvPicPr/>
          <p:nvPr/>
        </p:nvPicPr>
        <p:blipFill>
          <a:blip r:embed="rId2"/>
          <a:stretch/>
        </p:blipFill>
        <p:spPr>
          <a:xfrm>
            <a:off x="7086600" y="3117960"/>
            <a:ext cx="167652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1713600" y="76320"/>
            <a:ext cx="59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xicity and side effects of vitamin B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380880" y="68580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ge doses (500 mg) of niac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t not niacinamide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u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lation of capilla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ngling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shing of the sk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shing of the skin is usually worse if nicotinic ac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aken on an empty stomach, therefore it shoul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taken just after meal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acin in the form of niacinamide does not produc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side effe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doses of &gt; 2.5 g / day, it can produc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ypotension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zziness, increased blood sugar and uric acid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er dysfunction, and increased risk of peptic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lcer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effects are gradually adopted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d and are reversible on withdraw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aci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412" name="Straight Arrow Connector 7"/>
          <p:cNvCxnSpPr/>
          <p:nvPr/>
        </p:nvCxnSpPr>
        <p:spPr>
          <a:xfrm>
            <a:off x="6172200" y="14479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2130480" y="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itamin  B3 – Drug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457200" y="1125360"/>
            <a:ext cx="81532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with antihypertensive drugs  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vere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ypotens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 niacin may be required in case of people tak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oniazi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nhibits biotransformation of tryptoph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niacin ), by women taking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al contraceptive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e acid sequesterants e.g.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yram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olestipo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taken at a different time th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 (no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acinamide) otherwise they wil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its absorp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6705720" y="1371600"/>
            <a:ext cx="8388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685800" y="118440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bamazep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ause toxicity with niac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bination of niacin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ften u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reat lipid triad (high LDL and TG, 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L) may caus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opa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opa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ular disease in which the musc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bers do not function, resulting in muscul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nes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Oval 2"/>
          <p:cNvSpPr/>
          <p:nvPr/>
        </p:nvSpPr>
        <p:spPr>
          <a:xfrm>
            <a:off x="2362320" y="1905120"/>
            <a:ext cx="4343400" cy="35049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209760" y="31240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THANX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928520" y="-76320"/>
            <a:ext cx="47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unctions of Vitamin 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80880" y="673200"/>
            <a:ext cx="838224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oxidant function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t helps protect against oxidation b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radicals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in detoxification and excretion of drugs 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aintains the enzyme systems in liver that detoxif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excrete drugs and toxic polluta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thesis of collagen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major component of connectiv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in skin, joints, muscles, bones ligaments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ons, and cartilag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volved in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nitin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ynthesi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long with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ac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tamin B6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hich is an amino acid required i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down of fats for energ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 is a cofactor in the synthesis of neurotransmitters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nephrine , norepinephrine and serotoni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80880" y="228600"/>
            <a:ext cx="838224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ortant for healthy immune function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t is essential fo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ptimum activity of WBC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production of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 mediators which direct the immune response.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C seem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ncrease T-lymphocyte activity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gocyte function, leukocyte mobility, and possibl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ody and interferon produc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volved in cholesterol breakdown</a:t>
            </a:r>
            <a:r>
              <a:rPr b="0" lang="en-US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excretio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olesterol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increase if vitamin C status i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ed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ection of folate and vitamin E from oxidatio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volved in control of histamine levels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vitamin C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is poor   High levels of histamine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avate allergies, asthma, stomach ulcers, and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ain psychiatric disorder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3" name="Straight Arrow Connector 2"/>
          <p:cNvCxnSpPr/>
          <p:nvPr/>
        </p:nvCxnSpPr>
        <p:spPr>
          <a:xfrm>
            <a:off x="838080" y="5791320"/>
            <a:ext cx="53424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4" name="Straight Arrow Connector 3"/>
          <p:cNvCxnSpPr/>
          <p:nvPr/>
        </p:nvCxnSpPr>
        <p:spPr>
          <a:xfrm>
            <a:off x="3885840" y="5409720"/>
            <a:ext cx="61020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ounded Rectangle 5"/>
          <p:cNvSpPr/>
          <p:nvPr/>
        </p:nvSpPr>
        <p:spPr>
          <a:xfrm>
            <a:off x="457200" y="6095880"/>
            <a:ext cx="8534520" cy="7621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1166040" y="0"/>
            <a:ext cx="62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toms of Vitamin C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85800" y="533520"/>
            <a:ext cx="807732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curvy: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connective tissue synthesi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ragility of bloo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ssels causes abnormal bleeding: easy bruising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utaneous hemorrhagic spots, inflamed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eeding gums, joint stiffness and pain (due 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eeding into joint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wound heal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-up of keratin in hair follic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ing rough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dpaper skin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akness, exhaustion, fatig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ue to impaired carniti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si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aired immunity with increas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 of inf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minished antioxidant defense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risk of cancer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rt disease, stroke, catarac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57200" y="6019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urvy was common between Sailors, Pirates and others who were on ships for months without eating fresh fruits and vegetab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11" descr="http://www.thebluewaffles.com/wp-content/uploads/2012/06/Piratical-Disease.jpg"/>
          <p:cNvPicPr/>
          <p:nvPr/>
        </p:nvPicPr>
        <p:blipFill>
          <a:blip r:embed="rId1"/>
          <a:stretch/>
        </p:blipFill>
        <p:spPr>
          <a:xfrm>
            <a:off x="5410080" y="2057400"/>
            <a:ext cx="1422360" cy="1068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7772400" y="2982960"/>
            <a:ext cx="13716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682560" y="0"/>
            <a:ext cx="79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ople at High Risk of Vitamin C Defici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533520" y="68580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reased physical str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.g. infection, fever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rns, surgery, trauma to soft tissues or bone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hronic illnesses such as hyperthyroidism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betes, rheumatoid arthritis, alcoholism,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dney failur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nic use of drugs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h as aspirin and or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eptives impair vitamin C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der people, particular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ose with chronic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ness, and ag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iods of rapid growth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hood, adolescence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gnancy, and lac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r cigarette smok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ly increas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kdown and excretion of vitamin 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05:38:32Z</dcterms:created>
  <dc:creator>NUhu</dc:creator>
  <dc:description/>
  <dc:language>en-US</dc:language>
  <cp:lastModifiedBy>Mashal Almutairi</cp:lastModifiedBy>
  <dcterms:modified xsi:type="dcterms:W3CDTF">2015-12-01T07:02:16Z</dcterms:modified>
  <cp:revision>4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